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AAEF-D597-4E5D-9972-FF13B484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B4F6-45CE-4F1B-A35B-3A19530B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086-FC4B-47BC-BA4C-810A4715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D55-DB6C-4CD3-B8CC-15DA3469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CCE28-5C65-4751-B701-79F64C84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97C7-BAF3-4AEA-A653-96442FC8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8A93-C228-400A-BD6E-F9E78675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AC44-8EA8-4229-844B-98D7785C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5901-44DE-4EBD-860F-A8983D0E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4EAC-9B7E-478E-8D26-EE0C0D37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C9FE-8F17-4BC9-A3A1-47551DED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5E0-4D03-49BB-B9F0-935FC445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23DE-A359-4044-84A4-3F371536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9B15-D7E4-42D6-8212-872C6486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787D-8C38-43CC-A3E6-FC10EF10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DCF3-830A-40DB-9567-1CD80CDA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3560-E1A3-4F2A-8E16-5686F0FA2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41F-0C0D-4011-9D6A-1110D6ED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CA4F-180C-4350-8A0D-BBE2053E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191-55AA-4E3A-82CA-F3F780DC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15A-A32F-43A5-B181-14883998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708-CB64-4749-8410-23C5D510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46B-9DE7-4D8C-8D4A-7202E882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132-B541-4315-88FB-146BCAD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3965-82C6-4A68-91D4-F23C20F7A3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CFA2-AB50-42B8-94EB-518649F07F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umbered Heads Togeth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445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eams are given a problem or ques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eam members put their heads together and develop an answ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tudents are then randomly picked to give the team’s answ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19716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45:57Z</dcterms:created>
  <dc:creator>Andrew J. Eckhart</dc:creator>
  <dc:description/>
  <dc:language>en-US</dc:language>
  <cp:lastModifiedBy>Andrew J. Eckhart</cp:lastModifiedBy>
  <dcterms:modified xsi:type="dcterms:W3CDTF">2003-08-17T22:47:22Z</dcterms:modified>
  <cp:revision>2</cp:revision>
  <dc:subject/>
  <dc:title>Numbered Heads Together</dc:title>
</cp:coreProperties>
</file>