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607-B634-4B9C-9F5E-7DF9FDCB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D32-03EB-4232-9FD7-30D85D0B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A84-50EA-4152-9294-CC8A4814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036-88B3-48BF-B839-8B7E6775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0A1F-3BDD-4075-B3D9-15F2BF85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0A49-A539-491A-B857-EDB9E17B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BD12-13D9-4135-AA2D-5069A98D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12B4-D78D-4E15-9C94-0A6AEE92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49F9-F535-4031-95A7-8DAC7349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3D5D-7497-485B-8757-858BFE97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DE79-1129-4A3B-A2F5-6F6A99D4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74C-BB4C-49CB-B759-A1F3A901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9785-A847-4516-9A7A-8704044C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A042-2D0D-46A7-82B4-2AD6A987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7B28-8000-4B9F-B216-139021C4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0B78-16D8-4DBD-ADFC-19402EB2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3B46-928A-4FBF-895F-00EFB819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BA4-7285-4360-9B61-B996BEDC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D19-275A-4D08-9450-722E1BA5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70A-169C-41AB-AC9A-D026CA08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498-6013-497C-A882-EB0DBA8E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9BC-A710-49E5-8C07-7C4A15C0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B97-0A5D-4483-B3DF-600955B8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6B2-A3D5-4A3D-BCBD-AB7F4464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5D0A-C5C0-4B80-848A-92532ABD3B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C949-6144-4751-86D9-60E9756532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mbered Heads Togeth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eams are given a problem or ques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eam members put their heads together and develop an answe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tudents are then randomly picked to give the team’s answe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19716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45:57Z</dcterms:created>
  <dc:creator>Andrew J. Eckhart</dc:creator>
  <dc:description/>
  <dc:language>en-US</dc:language>
  <cp:lastModifiedBy>Andrew J. Eckhart</cp:lastModifiedBy>
  <dcterms:modified xsi:type="dcterms:W3CDTF">2003-08-17T22:47:22Z</dcterms:modified>
  <cp:revision>2</cp:revision>
  <dc:subject/>
  <dc:title>Numbered Heads Together</dc:title>
</cp:coreProperties>
</file>