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CF3-4630-40A9-BA53-858DA6EB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5F1-9939-4788-AF16-BD136F9B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EA6-539D-430A-A0E8-88D3B48B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394-7997-4A6B-8CB4-D32C99EA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A323-32CA-44BA-B869-E3F16831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3341-98E6-4020-8C05-7A6D4EE9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29CF-C5F8-4AD5-9733-99EA4B64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0C1-5DFF-4CC9-9A8B-2194EC19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EACB-828B-4796-AAB5-ACDA63C4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334E-9ED2-4C71-9966-88E2A4EC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F727-FA00-43CA-B274-5C17ECBA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1DD-E321-4995-AEB1-A367031E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C8D0-324E-4F9D-B655-184AE773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6144-C3E5-47FF-AC5E-362874A5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4448-5853-410A-863F-47A54EBB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A16F-910E-4DC9-BAB6-A333FB98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6911-8E12-4D88-A002-69279561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06A-08E4-4868-975F-D2ED57E3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1D4-FD42-4B8B-B754-D147D55E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E84-0442-4D63-B395-DD3C0CE2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C5F-1CCE-4650-8BC6-BC392F96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F4C-3E27-4E7C-8163-A5DAE82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662-6B11-43B1-B51F-734C49F7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469-4974-4D11-B7FE-E672346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BC3-A828-46DC-A9E1-4EE27527DE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4C7D-CC68-4187-A93D-8AA3C84BF2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bered Heads Toget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eams are given a problem or ques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eam members put their heads together and develop an answ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tudents are then randomly picked to give the team’s answ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19716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45:57Z</dcterms:created>
  <dc:creator>Andrew J. Eckhart</dc:creator>
  <dc:description/>
  <dc:language>en-US</dc:language>
  <cp:lastModifiedBy>Andrew J. Eckhart</cp:lastModifiedBy>
  <dcterms:modified xsi:type="dcterms:W3CDTF">2003-08-17T22:47:22Z</dcterms:modified>
  <cp:revision>2</cp:revision>
  <dc:subject/>
  <dc:title>Numbered Heads Together</dc:title>
</cp:coreProperties>
</file>