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D25F-8E61-49EC-A0E3-DE3C4124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6120-8766-4045-B2F1-191484DE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9B32-B0E0-471B-8686-68835F52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6478-7BEE-44FB-BBBA-849BBEC0B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C7FA-3C4F-463E-99E3-29C31567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3EAE-7652-4DE9-8E06-31959879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0487-2918-48B2-A59F-C0A2CC98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E5F5-A6CA-490E-A537-7EBB2D5D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2815-BCAD-4C9E-9EF4-B448FD40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27CD-70B4-458A-876C-D2C9CEDD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5944-7D0D-4DF5-B576-244DEAC0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AF09-04FB-493C-9DBE-9A910E8D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CCC7-1B00-46C7-8FF3-3AFC3022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1A46-DB76-4267-8F6F-DAA7C3CA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50C7-364A-4D26-B213-30E0DBDE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77B7-2853-4A80-9CBD-3587DB9D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2834-BA2E-4478-B333-5393C5FB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DC78-2E0A-490B-A305-7AC8CFD4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237F-0C68-43EA-A3EF-3299774A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6390-EAA5-44A5-880E-F144443B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4290-8A3A-487E-8191-A04E0FCE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202F-DC16-4BBB-9A75-C955E1AB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3951-6C3B-434C-8905-6550B179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60E3-47C3-414C-AB22-AE4437A6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EE21-19A9-498E-9D85-4354C813C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277E-54A1-4DFE-A1B1-AD599E82D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mending the Constit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ask for somet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f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say yes to somet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mending the Constit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ways to propose an Amend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vote of both House and Senate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Conv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by 2/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State Legisl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mending the Constit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ways to ratify an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/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the State legisl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/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the States hold ratifying conven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mending the Constit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E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ery difficult proc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I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nofficial amend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cessary and Pro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gress can do whatever it needs to carry out its du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ied po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I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nofficial amend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dicial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reme Court tells us what laws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8T01:50:14Z</dcterms:created>
  <dc:creator>Andrew J. Eckhart</dc:creator>
  <dc:description/>
  <dc:language>en-US</dc:language>
  <cp:lastModifiedBy>Andrew J. Eckhart</cp:lastModifiedBy>
  <dcterms:modified xsi:type="dcterms:W3CDTF">2003-09-03T17:54:34Z</dcterms:modified>
  <cp:revision>5</cp:revision>
  <dc:subject/>
  <dc:title>I. Amending the Constitution</dc:title>
</cp:coreProperties>
</file>