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4FC-EBFA-4CEB-BDAA-810E2816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064-E5EA-4A18-81B9-2C19B4C9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002-DD0E-4E0F-A72D-2D9CD789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F72-19D8-4B70-95A3-5DD671D2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BD9F-C1E3-4A40-9BFB-97CB168D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4DBD-5568-4F15-88AC-4E9AFAE0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8EA4-D27A-445A-8477-D09BE6EF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E1B9-DF4F-4F34-BE68-A8ED2A55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B90F-5299-4833-8FB8-F23C422F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2AFC-BC27-4289-9D01-CAEDCCAD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4142-A1D9-473A-8E62-52C25B5F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748-425C-41AB-B5E9-035E1176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F4E1-B192-4A52-858B-EA00549A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445F-AD30-4B77-883E-C44981C1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D651-D3EA-4B40-8FB8-55966AF5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2BAF-6A9B-4F95-AF1C-D8E3CCE1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4CAD-2E77-4A33-8177-7F987FF6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6C8-CDDA-4997-AD33-C769D362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CBD-B6E6-431F-A3A6-34165C77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61E-7D18-4281-887C-3089C01E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4B6-9931-46B0-924F-713ECC7F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9DC-10B0-46EC-A9E2-BBBD0B31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2C3-C376-4034-B72E-3A7379C6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463-B9E0-48FE-B2C6-3F67ADEA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682C-469D-4D13-8950-11259206B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D8C1-16AA-474B-AB3B-F908F7D19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ask for some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say yes to some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ways to propose an Amend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ote of both House and Senate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by 2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tate Legisl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ways to ratify an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State legisl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States hold ratifying conven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y difficult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official amend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ary and Pro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ess can do whatever it needs to carry out its du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ed p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official amend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ici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reme Court tells us what laws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1:50:14Z</dcterms:created>
  <dc:creator>Andrew J. Eckhart</dc:creator>
  <dc:description/>
  <dc:language>en-US</dc:language>
  <cp:lastModifiedBy>Andrew J. Eckhart</cp:lastModifiedBy>
  <dcterms:modified xsi:type="dcterms:W3CDTF">2003-09-03T17:54:34Z</dcterms:modified>
  <cp:revision>5</cp:revision>
  <dc:subject/>
  <dc:title>I. Amending the Constitution</dc:title>
</cp:coreProperties>
</file>