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991-5413-4ABD-9018-35192D04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235A-221F-4177-A01E-5963D04B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0D8-6AB0-479C-98C6-080DE2B6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8C5-9294-4ECB-A105-CCFB98FD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44A51-CBAD-4C86-92BD-6C990379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7FAD-0E14-4EEB-A4AD-9E8653EF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9FF4-7728-45E8-909F-5728411F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CDFE-F8B0-40D5-960D-972127E9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88F9-F627-44A9-9778-47F6D08D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5904-8BBF-4826-9382-68EEC93C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F236-3ACC-4451-B96B-DF5E5EF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3E9-6131-4315-9B79-57FCCC45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47D8-4E1C-4A7A-9384-67E2298C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4A34-A3F9-45C9-9CCC-F51CF250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1BB1-8CB2-429D-876E-F072C0CE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5D8E-4F6A-409F-AAD2-4566EEC2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DF7D-8CB1-4774-8813-63F1618D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C0F-C676-483A-A101-E0FECF2D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4A5-1607-4A72-A39C-2BF0B85F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845-A597-49FD-BAD2-7CDB7D53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B94-AD58-49E3-9443-4BBE5360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A18-56C0-4034-94D6-FF684E9D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3666-7846-4D49-B812-135F2EB6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D12-8E69-47E7-8F71-AE05623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2D12-1AEE-408C-9496-B339FA7C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7292-14ED-4518-9DD6-AC039520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ask for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f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say yes to somet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ways to propose an Amend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vote of both House and Senate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by 2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ate Legisl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ways to ratify an Amend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tate legisl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/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tates hold ratifying conven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mending the Constit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y difficult proc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official amend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cessary and Pro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ess can do whatever it needs to carry out its du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ed pow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nofficial amend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ici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reme Court tells us what laws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50:14Z</dcterms:created>
  <dc:creator>Andrew J. Eckhart</dc:creator>
  <dc:description/>
  <dc:language>en-US</dc:language>
  <cp:lastModifiedBy>Andrew J. Eckhart</cp:lastModifiedBy>
  <dcterms:modified xsi:type="dcterms:W3CDTF">2003-09-03T17:54:34Z</dcterms:modified>
  <cp:revision>5</cp:revision>
  <dc:subject/>
  <dc:title>I. Amending the Constitution</dc:title>
</cp:coreProperties>
</file>