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DAFF-1048-4C60-A916-50EFE08B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47B6-E1F5-4A78-84EE-BE81FCA6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CADB-9306-4D4D-8771-079AA724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42DD-4AB2-424A-B176-3D176176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9AFF-3EE6-4100-B06C-E337D53E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D8CA-587B-4E8A-B013-41FB2DAD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F2DC-072E-4561-A5F4-B2C48AB2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7AC1-3A14-411A-80A9-A924FECE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F972-3A82-4838-84DC-A0FD630A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61E3-C84F-4EAA-8CDD-2420E7FA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43A9-D21E-48A8-875F-D1489F8D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210C-7262-48CB-8032-B62BAA91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1D30-17E5-4DF5-820F-184D6901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CC7C-7232-4433-8440-2F348B57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36B0-6259-47E6-B649-5BAF4A76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FF99-0A14-4C94-A5A8-D36876824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C48E-F592-41E8-95C1-0568F8B3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EA84-760F-49F0-8930-C1961B6A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348F-3B99-4B14-9C30-E1CDA1A1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CAE6-6BBE-4E56-B2AD-324F0A37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02A5-C0E3-406B-8A25-B3CC79F7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F5D5-9F5E-4DB6-9D4E-2B131430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F6A0-C78A-48D0-9D99-E7FC9199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C066-CAD7-4EB0-BD3A-E8B80434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4C75-CBCF-4422-858E-4CFDFE57D65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ABDC-C678-4F70-A908-B7DC5AC0309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alking Chip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ach student receives 4 chips with their number on the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tudents are presented with a question or proble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lacing a chip in center gives student 30 seconds to speak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No on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may speak during that 30 second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veryone must speak at least one tim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15:54:03Z</dcterms:created>
  <dc:creator>Andrew J. Eckhart</dc:creator>
  <dc:description/>
  <dc:language>en-US</dc:language>
  <cp:lastModifiedBy>Andrew J. Eckhart</cp:lastModifiedBy>
  <dcterms:modified xsi:type="dcterms:W3CDTF">2004-08-12T03:55:08Z</dcterms:modified>
  <cp:revision>3</cp:revision>
  <dc:subject/>
  <dc:title>Talking Chips</dc:title>
</cp:coreProperties>
</file>