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1C4-2DF8-4D9F-BD04-DD4C554C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C44-050A-49E4-B4AB-20F718F3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915-DBB6-40E4-8B95-6BF903FA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089-537A-4209-8066-DCDA68C6D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3BC-166A-44EF-BAAC-D99840CA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ADBD-BC3E-4A96-A48F-E5CE111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ABBC-2DA3-47E9-929B-374F237F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6D5F-A142-49D2-97D7-831241B6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5C4E-6FD7-4283-93B0-79E56990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6339-BC3E-4AE6-B8BE-9D184F17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3E6F-3AA6-43C3-8F73-634E308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328-183F-470D-AE1A-D858DA80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7B63-7FCA-41D8-ACD2-0EE22B2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07E1-5430-494F-8F0C-FF339EB4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A4D2-84E8-450E-89B4-877B97B8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24D-77D8-4C92-A57F-57DEF448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BB87-F7CE-450D-A378-20306A03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DDA-365E-4D0B-80E1-1D19B6E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D2F6-740F-4878-BA60-A8C7E78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ADA-2077-4A41-B441-458AD6A2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EE79-D2A8-4EA4-AEF3-473F6FC4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D3D0-72EF-47FA-82E5-17457F06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A1C-7B7B-4584-B29C-91B256E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7BA-AACE-4DF4-A9AA-8C96618C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575B-DAE4-4C0A-9525-79787138775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647F-7385-40D2-88C4-F3EFCA78FD8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alking Chip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ach student receives 4 chips with their number on th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udents are presented with a question or problem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lacing a chip in center gives student 30 seconds to spea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No o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may speak during that 30 secon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veryone must speak at least one tim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5:54:03Z</dcterms:created>
  <dc:creator>Andrew J. Eckhart</dc:creator>
  <dc:description/>
  <dc:language>en-US</dc:language>
  <cp:lastModifiedBy>Andrew J. Eckhart</cp:lastModifiedBy>
  <dcterms:modified xsi:type="dcterms:W3CDTF">2004-08-12T03:55:08Z</dcterms:modified>
  <cp:revision>3</cp:revision>
  <dc:subject/>
  <dc:title>Talking Chips</dc:title>
</cp:coreProperties>
</file>