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C8F-618D-4801-83B0-D35CE6EC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4B2-113D-4918-86A7-02A7F475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78B-7C59-4EDC-9643-42203218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B48-114A-4BBB-A71C-3A6EEEAB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E709-71AB-48E5-AB77-2D8D1E06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FF1-4231-4D5B-9722-562AF862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2399-796D-4233-A888-95188CD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B3F0-287C-456B-B1D1-B1AA8ACB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702B-D1C7-4016-9B20-DBBA62A9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6E1-09C7-4173-BC8A-1FAC19E0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9E1-3074-4F9F-9B24-F5948A3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1BD-A3D0-4193-A565-70B23DAE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D213-0720-42D9-8ABB-07C2BB4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CB3A-77E6-4C9B-B360-4C5D2BC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7B7-F5D7-4A57-8B83-6B39F470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BFF1-4A7D-4E4B-AAD2-4B7EBA00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D35-AFB4-4885-B3C7-DAAE48D9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6D1-C447-4B81-8AF5-0E9302A6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3DB-6D7C-4C31-BB05-EF2E16AE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1B8-C380-4F7A-8101-A92A1556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747-3DD4-479A-9A85-B4DF4634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57A-E6C2-421B-825C-07ADAA01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175-8330-4358-8B10-31354D2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263-91FB-4357-821F-733AA997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1CA0-BD78-4A53-BA54-1AB984737F7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8C3-B077-4BEF-AC8D-A121529C84C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alking Chi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ch student receives 4 chips with their number on th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udents are presented with a question or probl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cing a chip in center gives student 30 seconds to spea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o o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ay speak during that 30 seco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veryone must speak at least one ti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5:54:03Z</dcterms:created>
  <dc:creator>Andrew J. Eckhart</dc:creator>
  <dc:description/>
  <dc:language>en-US</dc:language>
  <cp:lastModifiedBy>Andrew J. Eckhart</cp:lastModifiedBy>
  <dcterms:modified xsi:type="dcterms:W3CDTF">2004-08-12T03:55:08Z</dcterms:modified>
  <cp:revision>3</cp:revision>
  <dc:subject/>
  <dc:title>Talking Chips</dc:title>
</cp:coreProperties>
</file>