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D740-463B-495D-ABBE-8A7DCAC0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7018-89EE-4D32-A9E9-EA821297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086-FCA9-4D5E-A5AE-997B73C5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6CE-2B72-4A2C-81BA-B2C8C4B4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1C0D-D0B2-453E-A1B5-493BDDA8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C03D-0645-408E-A9BB-693A57B8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598D-7BF7-4624-991F-0A94E33B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0260-E4C9-4763-8F44-70C78B15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A5FE-7967-46A3-AF2A-76E7BEC1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E3C3-92DE-4F59-8450-86EE5A31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43AD-8B51-4C4C-9619-A0249952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C88-DCD2-4C39-855A-15953167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E9C6-E7D5-480A-9B8B-51F6F34C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788C-BCE5-4F2D-9593-19199BD5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C3AF-EE32-4CBB-B9D5-9F7AD99B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AD8C-F619-48A0-A204-410FA89F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686D-D761-472A-A679-D5310D8E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35C7-E0C7-4F11-ABE9-6705CDC1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D6A-4C97-4FF3-BFF7-DA39ACC6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DCE4-A4EE-4B01-9C3E-101F7169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46C4-DB47-4BE0-A664-CDB73C63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3BF5-24AE-42E9-839C-DA5D9B96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888-F130-4A5C-BE46-47CD2486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ED07-5524-4E4D-BC9E-77DE45CB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E1C8-0B8F-47AD-AF3E-6C62D9A51F7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9485-27CD-490B-837F-ABFBE1A5A32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ix and Match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99"/>
                </a:solidFill>
                <a:latin typeface="Verdana"/>
              </a:rPr>
              <a:t>Students are given a list of terms and definitions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876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99"/>
                </a:solidFill>
                <a:latin typeface="Verdana"/>
              </a:rPr>
              <a:t>Students evenly divide the list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876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6699"/>
                </a:solidFill>
                <a:latin typeface="Verdana"/>
              </a:rPr>
              <a:t>Teams must then match term with definition</a:t>
            </a:r>
            <a:endParaRPr b="0" lang="en-US" sz="35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29868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40:30Z</dcterms:created>
  <dc:creator>Andrew J. Eckhart</dc:creator>
  <dc:description/>
  <dc:language>en-US</dc:language>
  <cp:lastModifiedBy>Andrew J. Eckhart</cp:lastModifiedBy>
  <dcterms:modified xsi:type="dcterms:W3CDTF">2003-08-17T22:43:00Z</dcterms:modified>
  <cp:revision>2</cp:revision>
  <dc:subject/>
  <dc:title>Mix and Match</dc:title>
</cp:coreProperties>
</file>