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F33-AC5D-4779-8ADF-C2396334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5D3-EB8E-4304-8FAA-B85DA2B6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A59-388F-4BF0-85AC-16D5820D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AF94-37F6-4C93-AF6B-C6E8E75F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BBA1-8292-430B-AB68-E379D2CA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F013-1AB2-4DD6-977C-E0E1702B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FA90-EB67-499A-A80B-0D4ACB39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BFCF-A127-45A8-8BC0-9B2F6018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5EDD-DA8E-4686-A79D-1B0783C9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2A2A-13AB-4380-80C0-D9B142F4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0F46-A753-4478-A1DB-4D5CD94A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9BE-46CA-43CE-8771-8124AB21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C94E-B60C-4019-A325-E736A09A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FD40-EB34-48E4-9E9B-3E568C8C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A20C-6FBE-4E5C-BEC9-3CA11E41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4049-E716-4FF9-9F55-76C32C08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7504-61D9-4995-9D3E-553CE983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A4F-1C4E-46F3-9C05-1EBDB57B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D30-8673-4BC8-A3CD-F4C17928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C3D-F8EB-4FEA-8D5A-DF2667D9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8CD-B041-4AF4-8638-5E01AC57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54E-AAD7-4C91-928B-62A5ACB8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B85-5A58-4CE4-A7C4-36CB1C84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980-B741-4121-8AA2-5F451BF9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95E3-2C23-4529-A61C-842F96D367A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1092-0D3F-4C02-A6FE-809E5CD2C8C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ix and Match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Verdana"/>
              </a:rPr>
              <a:t>Students are given a list of terms and definitions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876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Verdana"/>
              </a:rPr>
              <a:t>Students evenly divide the list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876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Verdana"/>
              </a:rPr>
              <a:t>Teams must then match term with definition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2986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40:30Z</dcterms:created>
  <dc:creator>Andrew J. Eckhart</dc:creator>
  <dc:description/>
  <dc:language>en-US</dc:language>
  <cp:lastModifiedBy>Andrew J. Eckhart</cp:lastModifiedBy>
  <dcterms:modified xsi:type="dcterms:W3CDTF">2003-08-17T22:43:00Z</dcterms:modified>
  <cp:revision>2</cp:revision>
  <dc:subject/>
  <dc:title>Mix and Match</dc:title>
</cp:coreProperties>
</file>