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55E7-15C5-4BF6-BBA7-1F174078A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C743-C987-42CB-A69C-DD65CA9D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3897-0B9F-4F21-B599-5E5B72419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5EBC-3295-4DCA-9ABB-D86AE3058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D63CD-3F98-4DF1-ADE7-C7CD59BD5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A414-5C5C-40FD-983F-24508F76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427C-91B7-41AC-99B7-339134EF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F2D5-6D4C-488D-8574-EBE88081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5041-4AC4-4839-BCDD-F478F904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0B3B0-E225-471F-B55A-E2901F5E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0F1E-F6F4-4ED0-B517-412FC506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C32B-DB7D-4B01-A251-DC7CF8F5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A988-0048-45B0-A5C7-1FFD33BD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B140-D930-4AF6-8D93-28B7BA4E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EB1A-8B11-45F6-B1CD-3C9C369E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016E-278E-468D-9856-0011F13BA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79D6-70CA-4BAB-8DA9-EAF3A033F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0141-6F13-475F-B09B-9EB8E647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94C0-0396-49F6-BCDC-4049823E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9496-6839-40D4-A9F5-2524E76A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83B8-8F1A-498E-97CA-53557816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3CE9-446B-45B4-9277-00164400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FBE2-681E-4F48-8BDA-244AD1DA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D253-56B4-4424-B3C4-57F9FEA3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C798-3267-4895-B6E9-8866209CE96E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40DF-BD81-4CDF-BA9C-3B7E28F7F6F3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Mix and Match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876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99"/>
                </a:solidFill>
                <a:latin typeface="Verdana"/>
              </a:rPr>
              <a:t>Students are given a list of terms and definitions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876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99"/>
                </a:solidFill>
                <a:latin typeface="Verdana"/>
              </a:rPr>
              <a:t>Students evenly divide the list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876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99"/>
                </a:solidFill>
                <a:latin typeface="Verdana"/>
              </a:rPr>
              <a:t>Teams must then match term with definition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486400" y="1828800"/>
            <a:ext cx="329868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22:40:30Z</dcterms:created>
  <dc:creator>Andrew J. Eckhart</dc:creator>
  <dc:description/>
  <dc:language>en-US</dc:language>
  <cp:lastModifiedBy>Andrew J. Eckhart</cp:lastModifiedBy>
  <dcterms:modified xsi:type="dcterms:W3CDTF">2003-08-17T22:43:00Z</dcterms:modified>
  <cp:revision>2</cp:revision>
  <dc:subject/>
  <dc:title>Mix and Match</dc:title>
</cp:coreProperties>
</file>