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152-A87E-4060-B200-FAF10543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80B-1D82-4B84-9F31-B6F0C1F7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918-9A16-401F-8474-2F5F64F0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256-1A95-4347-BEF2-56949BF2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DFDB-0F89-4969-8810-1B472BBB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1CFC-00C0-4895-A4C6-10EB49D9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F139-8EAC-4807-931D-3CB6506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D66-CC13-4392-88CE-3316499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4B43-6B76-4625-9835-84AA8682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E27D-8527-4D18-91B4-D19B09CC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B1E5-34D9-4DB5-9300-1ED82953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6F2-9EE4-43C0-BD06-FB25658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7E3-025D-4126-9A08-850EDF7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A8FE-1027-4CCD-93E2-E0EC664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D5CB-8D8C-4AA3-9210-35FE9FE2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A7AD-53CD-43B4-A8B2-405917EF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883-6E64-48B5-862C-F3070B22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C9D-501F-4231-B5A1-B3C671E0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705-B45A-4DED-9663-857C834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FA3-B411-4511-85C7-CCA7BE3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EE8-9B8A-4CC8-BE9F-242A6E17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FE9-5E5B-4E0A-B0CE-945448E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9D0-B4DC-4D01-967D-BC3FB05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E3A-E66B-4AD0-9275-6C1DDE45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8DA7-A588-4002-B349-DA25762FD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1876-4AAE-460E-8D35-470F25F4B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igsa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assigned a multi part problem or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tudent completes one unique portion of problem with an expert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turn to base group and shar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40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35:50Z</dcterms:created>
  <dc:creator>Andrew J. Eckhart</dc:creator>
  <dc:description/>
  <dc:language>en-US</dc:language>
  <cp:lastModifiedBy>Andrew J. Eckhart</cp:lastModifiedBy>
  <dcterms:modified xsi:type="dcterms:W3CDTF">2004-08-12T03:57:14Z</dcterms:modified>
  <cp:revision>4</cp:revision>
  <dc:subject/>
  <dc:title>Jigsaw</dc:title>
</cp:coreProperties>
</file>