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36F-9361-4CBD-A3BB-F2D63628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998-3F9B-4C01-B431-A7BBB591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DC7-F0EB-44FE-BBB9-C219CD3C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C22A-AC77-44B2-8324-79E1CC47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AE91-2FAD-4FE9-B142-E1DD3128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67DF-3A8E-4E83-94FF-C7AA0239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743C-7D46-49AE-9AA7-983E4F74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7F72-52E8-4419-845D-F056C9FF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BD7F-3373-42AD-8150-DEA1B47F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8B16-7227-4F75-9D3A-B411B49A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42D3E-C55C-4042-96D8-E5EA8DCE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4F01-9DC7-47D4-8142-63391F57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42F0-EFA4-458E-811D-ED455730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5C4C-9FF8-4ACC-AC5A-4489A67A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A8EE-3DC3-49F4-B5E5-1AB5656E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F26B-0F04-4036-A38A-DC5C16A5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E544-4D8E-410A-A233-07FFF2F9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92A6-1DF9-4010-9A27-11CF9E8C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5C7-D600-4552-B407-5D2E34F1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17A9-27D7-4F48-B93E-CCFC89B2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02D3-7549-490F-BC7C-2DF2E305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8057-9598-4AC7-9568-FCC8AA38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FB4A-40AC-48CD-B511-3BE9104B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F39E-10B6-428E-A214-E9EEF7CB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7A9D-947B-420F-A4AB-E24896EE1B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959C-D0CA-4E9A-A619-56480C3097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igsaw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are assigned a multi part problem or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student completes one unique portion of problem with an expert gr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return to base group and share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553080" y="1371600"/>
            <a:ext cx="2408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2:35:50Z</dcterms:created>
  <dc:creator>Andrew J. Eckhart</dc:creator>
  <dc:description/>
  <dc:language>en-US</dc:language>
  <cp:lastModifiedBy>Andrew J. Eckhart</cp:lastModifiedBy>
  <dcterms:modified xsi:type="dcterms:W3CDTF">2004-08-12T03:57:14Z</dcterms:modified>
  <cp:revision>4</cp:revision>
  <dc:subject/>
  <dc:title>Jigsaw</dc:title>
</cp:coreProperties>
</file>