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1336-229F-439E-B155-88748CD9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606-3827-481A-A866-920B5E13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D4ED-5D52-4C37-83DA-777BBC16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08CF-3AB4-48EB-B50C-598AF772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9438-B1CD-49E9-B1BD-801A4B2A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820C-8EA6-46A4-8AD4-16F6D94B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A05E-DEEF-4B55-B8ED-02597831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7C93-8490-4128-8227-22C74686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90AF-9A19-47CB-A68D-6013EBC0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0903-A964-4D23-9897-C1B7583D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926C-75F5-4F78-9383-E9798C3B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AF4B-6A79-457A-A2B2-1B102559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8796-3148-42D1-ABFC-06247484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04C7-AFBD-4168-B072-DEDCF92A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4683-079D-4B57-AB33-A8753B04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2F75-3E09-44D9-9AB3-A1D5E45D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3D9B-A965-48F9-976C-06D7E4D7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76CA-2C63-401F-8DAE-9ABA98CF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5217-6B38-41C5-9ED7-B68157C8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749E-C880-43CD-90DB-B30347B0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0B67-510A-4EDC-8D1E-A7E1C4F2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6B5-2055-4E0E-8A1B-0E147471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5B98-AEDD-4FBD-BF5B-A0288EA7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B09D-860E-4EBA-9954-7D94B33A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6143-972C-49DA-9D1C-70C906CD14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F7B0-2E44-4D3C-B66B-FE8CB15AEE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igsaw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are assigned a multi part problem or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student completes one unique portion of problem with an expert gr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return to base group and share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553080" y="1371600"/>
            <a:ext cx="2408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2:35:50Z</dcterms:created>
  <dc:creator>Andrew J. Eckhart</dc:creator>
  <dc:description/>
  <dc:language>en-US</dc:language>
  <cp:lastModifiedBy>Andrew J. Eckhart</cp:lastModifiedBy>
  <dcterms:modified xsi:type="dcterms:W3CDTF">2004-08-12T03:57:14Z</dcterms:modified>
  <cp:revision>4</cp:revision>
  <dc:subject/>
  <dc:title>Jigsaw</dc:title>
</cp:coreProperties>
</file>