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8CB-5066-4037-B6B7-FD93637B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1B2-5146-4D4F-BD0E-F6E87C8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ACC-467E-4FFA-903C-10971ABF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17B-115A-4B1F-8EE2-3F8E4367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95A6-F8C2-406D-9E48-83E45751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7E8C-0582-4A77-88DB-42D1F64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260-E154-46A8-8F82-EB2831F9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532-EA61-4D70-A32D-91008E97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7F0A-94B8-4BF0-B633-3A1CB47E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17D5-6EC7-4A93-A4A3-B31AA2C9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8BBD-8BA8-4D07-8028-DA86FC6F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CF4-0378-4801-A592-58C4ECC1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7B88-8CED-4471-B42D-2B03434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E218-E821-4342-AEBA-5F18F462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1657-162B-4AC9-92A8-DF59AC5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B309-9D28-4B92-8D5D-6A8A54FA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80BB-E52E-4ACB-A104-B288B4B4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AAF-EEE5-4DFB-A81F-BB5D2D42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87B-499C-4630-A0C2-787E583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8EE-B2BA-4554-BDBF-F019EDAF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CCD-D0D6-490D-BF1C-D9664A3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21C-B078-4DD1-B750-1378E20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C14-A7EE-4E92-A68D-FEB8FAB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F7D-8A86-4FB9-B17E-A756BF4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3B2D-E76B-4B75-B80E-14D25F328C2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3B6-E379-4A50-8C66-56C3FB4F7B8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t to revise the Articles of Confeder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ecided to scrap them and start over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rticles not worth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avi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haracteristic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hit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ofessionals / businesspeopl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You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ducate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olitical experienc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18240" y="3429000"/>
          <a:ext cx="237636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8240" y="3429000"/>
                    <a:ext cx="237636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Two plan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Virginia Pla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Bicameral legislatur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3" marL="1375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Based on popula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esid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ur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New Jersey Pla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Unicameral legislatur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3" marL="1375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Equal representa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The Constitution survived because of compromis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Great Compromise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. one house based on popul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b. one house equal represent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3/5</a:t>
            </a:r>
            <a:r>
              <a:rPr b="0" lang="en-US" sz="4800" spc="-1" strike="noStrike" baseline="30000">
                <a:solidFill>
                  <a:srgbClr val="660066"/>
                </a:solidFill>
                <a:latin typeface="Impact"/>
              </a:rPr>
              <a:t>th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compromise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2" marL="10857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ne slave counted as three-fifths pers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0857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de southern states larg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lave trad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outh did not want Congress taxing export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Congress was able to tax import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tay out of slave trade for 20 year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lectoral colleg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hould the people pick the President?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hould Congress pick the President?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Delegates from each state will pick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Ratific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nti-Federalis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ainst the Constitut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oo much power to National Governm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eeded a Bill of Righ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ederalis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upported Constitut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omised to support a Bill of Righ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10:34Z</dcterms:created>
  <dc:creator>Andrew J. Eckhart</dc:creator>
  <dc:description/>
  <dc:language>en-US</dc:language>
  <cp:lastModifiedBy>Andrew J. Eckhart</cp:lastModifiedBy>
  <dcterms:modified xsi:type="dcterms:W3CDTF">2004-08-18T13:17:20Z</dcterms:modified>
  <cp:revision>5</cp:revision>
  <dc:subject/>
  <dc:title>I. Constitutional Convention</dc:title>
</cp:coreProperties>
</file>