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D28-DE5D-4E0B-82F6-CA8CF706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8A3-DAEF-438F-B78D-56D33F5C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BD4-1192-46DA-BF39-6BA56232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D5F-6BF6-4AC3-95D4-C230BF7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1345-C07A-4C11-87F4-4228E194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C35-20ED-4523-9979-937CF91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5A1-1991-4B23-BCDC-D74F7A4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308-012D-4ABA-85B6-0194E6A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5843-A192-4048-87E9-3C94E003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13D-09F6-48DB-A798-2F349958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47F-9E89-4C61-B8F6-30C506F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9DC-9763-4770-88F9-0B84B19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4F7-78CF-4356-998F-F635F94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B3A-6B6F-40C3-ADCC-EAB85C6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390-6613-4971-B631-E614669D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4D6E-E96F-41DE-962A-A322D2E3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52FA-D595-4158-BC42-0BF70B7E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DFC-C8E0-4948-B182-561F090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19A-660B-4927-8F33-F5591EF3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5D2-989C-4AB2-B807-2D105DB3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F40-CC87-444F-AE03-03278299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1F3-9193-4A52-A405-FC93F86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09A-2780-4FF8-8991-08393C4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092-E24B-4C81-A689-B1B1F8A3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FDEA-6BAC-491D-8C59-FB92FD7EC1E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FF1-B315-43F7-BD7C-4E698AE9753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t to revise the Articles of Confeder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ecided to scrap them and start over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rticles not worth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avi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haracteristic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hit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fessionals / businesspeopl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You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ducate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olitical experienc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18240" y="3429000"/>
          <a:ext cx="237636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8240" y="3429000"/>
                    <a:ext cx="237636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Two plan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Virginia Pla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Bicameral legislatur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3" marL="1375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Based on popul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esid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ur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New Jersey Pla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Unicameral legislatur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3" marL="1375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Equal represent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The Constitution survived because of compromi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Great Compromise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. one house based on popul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b. one house equal represent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3/5</a:t>
            </a:r>
            <a:r>
              <a:rPr b="0" lang="en-US" sz="4800" spc="-1" strike="noStrike" baseline="30000">
                <a:solidFill>
                  <a:srgbClr val="660066"/>
                </a:solidFill>
                <a:latin typeface="Impact"/>
              </a:rPr>
              <a:t>th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compromise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2" marL="10857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ne slave counted as three-fifths pers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0857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de southern states larg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lave trad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outh did not want Congress taxing export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Congress was able to tax import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tay out of slave trade for 20 year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lectoral colleg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hould the people pick the President?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hould Congress pick the President?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Delegates from each state will pick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Ratific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nti-Federalis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ainst the Constitu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oo much power to National Govern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eeded a Bill of Righ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ederalis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upported Constitu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mised to support a Bill of Righ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10:34Z</dcterms:created>
  <dc:creator>Andrew J. Eckhart</dc:creator>
  <dc:description/>
  <dc:language>en-US</dc:language>
  <cp:lastModifiedBy>Andrew J. Eckhart</cp:lastModifiedBy>
  <dcterms:modified xsi:type="dcterms:W3CDTF">2004-08-18T13:17:20Z</dcterms:modified>
  <cp:revision>5</cp:revision>
  <dc:subject/>
  <dc:title>I. Constitutional Convention</dc:title>
</cp:coreProperties>
</file>