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D96-3B63-4D56-8AD2-AB5162E3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064-B912-4C0D-9806-DCB81F9D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06A-15D4-44EF-B645-114BFF1F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A8B-FC0B-4FBD-8907-E55C56BC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7FF4-9DE1-429B-86E4-9EFC8CFB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F8D8-23C1-4474-966E-6B7653EE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D0EB-E652-468F-BCB5-4CC9388D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0576-1935-4F71-83FD-B95F5889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4869-4DA6-4D33-9A30-C8DC9903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EBEE-D25B-4E5F-9612-3A4A289F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2CAA1-7045-4513-BD52-0AD73DA6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C3B-5351-44CE-A8BC-A8C90183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048B-1C07-43AF-B1D2-F2847D65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326E-07D3-4FAF-8B64-938CB2E0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D7EE-7A62-47E3-9E18-C216F08C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7559-E0E3-4E37-BB05-947D9D21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9D00-7AF3-454F-A76D-0CD3DFB0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5BE-9E5D-4C44-BDBD-FA2F09AC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139-224F-42FE-99D9-735B5CD8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6AA-5027-4838-B306-077761B2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A8B-31AE-4BB0-8D7A-52A20F25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08E-E104-40D9-9529-87124005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084-E7C3-49E2-8706-AE1D2312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ED1-762A-4737-8F0D-15EB0F9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90DB-50EB-4EF5-9FAE-0992CFAA44BE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A1F4-2D3B-420B-AC37-6AF471238EA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met to revise the Articles of Confeder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decided to scrap them and start over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rticles not worth</a:t>
            </a:r>
            <a:r>
              <a:rPr b="1" lang="en-US" sz="28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avi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C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haracteristic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Whit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ofessionals / businesspeopl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Young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Educated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5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olitical experienc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618240" y="3429000"/>
          <a:ext cx="237636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18240" y="3429000"/>
                    <a:ext cx="237636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nstitutional Conven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D.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Two plan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Virginia Pla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Bicameral legislatur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3" marL="1375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Based on populatio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esid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Cour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New Jersey Pla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9828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Unicameral legislature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3" marL="13759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(1)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Equal representation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The Constitution survived because of compromis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Great Compromise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. one house based on popul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b. one house equal representation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3/5</a:t>
            </a:r>
            <a:r>
              <a:rPr b="0" lang="en-US" sz="4800" spc="-1" strike="noStrike" baseline="30000">
                <a:solidFill>
                  <a:srgbClr val="660066"/>
                </a:solidFill>
                <a:latin typeface="Impact"/>
              </a:rPr>
              <a:t>th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compromise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2" marL="10857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ne slave counted as three-fifths pers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08576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de southern states large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lave trad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outh did not want Congress taxing export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Congress was able to tax import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tay out of slave trade for 20 year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ompromises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Electoral colleg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hould the people pick the President?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hould Congress pick the President?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10742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Delegates from each state will pick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Ratification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nti-Federalis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Against the Constitut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Too much power to National Government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Needed a Bill of Righ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ederalists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Supported Constitution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660066"/>
                </a:solidFill>
                <a:latin typeface="Impact"/>
              </a:rPr>
              <a:t>Promised to support a Bill of Rights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10:34Z</dcterms:created>
  <dc:creator>Andrew J. Eckhart</dc:creator>
  <dc:description/>
  <dc:language>en-US</dc:language>
  <cp:lastModifiedBy>Andrew J. Eckhart</cp:lastModifiedBy>
  <dcterms:modified xsi:type="dcterms:W3CDTF">2004-08-18T13:17:20Z</dcterms:modified>
  <cp:revision>5</cp:revision>
  <dc:subject/>
  <dc:title>I. Constitutional Convention</dc:title>
</cp:coreProperties>
</file>