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CE0-E8EC-4289-ACB4-F33C0412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F65-916A-431F-9BAA-D78384A6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7AC-7ECA-46D0-8F9C-92987DE3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A8A-2A05-45B4-8F4D-A46A353C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E40E-5FDC-4CC7-8FA2-79F58093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26B8-008A-4644-BFC9-4A6E4146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68B3-F90D-4BF9-ADED-910972D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B4B2-1A86-4A39-AA6F-3FB2EBD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294-8762-4FEE-BA2A-1621BD8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2C65-BB97-488C-A932-5CC098B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13B-B5F7-40E7-8538-302A394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DD0-2F54-4290-9533-2EB65D4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0841-C574-439F-9243-9F8A33E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053-FE97-4F79-8C72-73D4FCB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F03-91F8-4172-93D1-E197DAE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EF55-6491-4E98-9131-A8ECD8B6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AA4-19E9-4D70-A761-A310BC22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3FF-B3D4-44AC-8B3F-7DCA200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44B-3FFC-4BB0-9827-EED83E81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59C-0C43-4BF6-A841-30DAC54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A80-3B7B-494C-94EE-76F6D7A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642-7968-417C-BA4D-CC01D29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27C-EE7F-4355-A801-BCC96BF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642-EF94-4A63-8668-EF1D3B3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D7B-9C1F-4C2B-B92D-5C3F42CF4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750-4800-4AB9-AA3F-97616BEC5D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Sh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 then rest of clas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J. Eckhart</cp:lastModifiedBy>
  <dcterms:modified xsi:type="dcterms:W3CDTF">2003-08-17T23:30:52Z</dcterms:modified>
  <cp:revision>2</cp:revision>
  <dc:subject/>
  <dc:title>Think Pair Share</dc:title>
</cp:coreProperties>
</file>