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0EC5-BBB2-45C4-AA27-6E21455C5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DAF6-3A08-45D2-9A3C-11F16082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C310-036D-4C4B-B8EF-8CE7D795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005E-A241-48E8-9E53-3DEE398C6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63D5-24A7-4FA9-AFB9-4FC3E134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5997-A3B4-44FD-B018-86AC2B4D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48735-5AF2-4F6A-A06F-F1BF8E63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8BFC-D3F6-46E9-AACF-513913AA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3413-F760-4BAF-919C-D9B6F985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3B6A-95E4-4F1A-9958-DA9B3FAB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4184-FD7B-4479-A23C-A05186E6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11DE-8071-40C5-A753-69A661F4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869E-B786-48EB-98F1-FC2AC3B0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804D0-F79B-444D-8E2E-4B75693D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2416-9113-4CFC-8BCD-C5AC9608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480C-CE46-4E4F-A9D3-FF122415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A799-FD69-4580-80F6-1D2863CC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76B8-2878-48B4-ACF8-E5176B98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0E88-BD30-4BA9-9FF9-01B12BB4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ACAD-3B35-4EEB-979C-FB40DA2B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42B6-D1EB-4108-81F7-0E8206A5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5031-4B3B-415D-982F-1F46CBCF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16DD-DB1F-42DF-B0C5-72114ABE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4186-4375-4113-91BD-93CB2A4E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D6DD-1C94-4162-9633-110A98A21A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5986-8D0B-423A-8041-16919DC1B9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ink Pair Sha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6099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eams are divided into groups of two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Each pair is given a question or problem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tudents use quiet think tim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Pairs share their answers with each other then rest of clas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556320" y="1219320"/>
            <a:ext cx="2373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23:27:51Z</dcterms:created>
  <dc:creator>Andrew J. Eckhart</dc:creator>
  <dc:description/>
  <dc:language>en-US</dc:language>
  <cp:lastModifiedBy>Andrew J. Eckhart</cp:lastModifiedBy>
  <dcterms:modified xsi:type="dcterms:W3CDTF">2003-08-17T23:30:52Z</dcterms:modified>
  <cp:revision>2</cp:revision>
  <dc:subject/>
  <dc:title>Think Pair Share</dc:title>
</cp:coreProperties>
</file>