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CA9-B8DB-465E-BB04-0F121D68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F2A-5903-4BD4-9EEA-D974504B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431-0F37-4534-AE8E-34E413AC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432-7889-4637-B76E-21A49929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09B4-416F-4756-9A07-2544E943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E62E-A72E-4FFA-A5B8-B7BE8637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50AF-081A-4DEE-B9D8-F7B00D6F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0787-61D0-45C2-848B-776B3C14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6A9B-551B-4D16-8482-60F1C685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5537-A028-4EA6-A588-3AC1BCFD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69FF-7633-4CC6-8B80-8C129AC1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80D-755E-41AB-A0BB-BEE513AD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2BE6-CD29-4F5A-A89F-FCFFD4D8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68D7-DC21-410E-96D1-29293FDA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09AC-5921-460B-9832-383D9BD1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508C-A970-4D5C-B8E7-AE59C96E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8495-599F-40BD-B2FA-F86807BF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E89-7255-442D-8F48-D762E5EC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A0E-7E34-4477-8073-E50E3618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64B-D066-4F2D-BA61-EFBDE709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371-C5FE-4BCF-9F26-D0055F6D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DBA-2965-4584-B442-0845A262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5C4-AA11-4052-A807-646A22E8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5DF-8618-448C-B155-478CE0ED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9096-5A77-419C-8B13-F95CA73827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C460-4237-46F2-8B90-09B518367D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ink Pair Sha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099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eams are divided into groups of two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ach pair is given a question or proble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udents use quiet think tim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Pairs share their answers with each other then rest of clas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556320" y="1219320"/>
            <a:ext cx="2373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3:27:51Z</dcterms:created>
  <dc:creator>Andrew J. Eckhart</dc:creator>
  <dc:description/>
  <dc:language>en-US</dc:language>
  <cp:lastModifiedBy>Andrew J. Eckhart</cp:lastModifiedBy>
  <dcterms:modified xsi:type="dcterms:W3CDTF">2003-08-17T23:30:52Z</dcterms:modified>
  <cp:revision>2</cp:revision>
  <dc:subject/>
  <dc:title>Think Pair Share</dc:title>
</cp:coreProperties>
</file>