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5FE-FB76-4725-B377-43AE5862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686-6F6F-4D01-9D7E-6BE75D79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EB8-61EB-43BC-BE25-2119180E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CE4-FFEA-489E-ADAB-66106F24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6E6-C910-40D3-B145-810D6058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ACF-30EE-4F8D-8301-C6D4769F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460-AC68-4749-9C01-0A46E68A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D1E-1863-4E8C-8ED4-86C0AC95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D20-2C83-4E9B-BF2C-BF4AD6D0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063-51F2-4C58-ABD4-B58F6CC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16C-90C1-4B23-978C-C083BB85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621-8153-4974-B022-FACB7A80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FACD-9660-4608-8180-A9A65CFF01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ink Pair  Squ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eams are divided into groups of tw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ach pair is given a question or probl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udents use quiet think tim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airs share their answers with each othe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6" descr="j0198403[1]"/>
          <p:cNvPicPr/>
          <p:nvPr/>
        </p:nvPicPr>
        <p:blipFill>
          <a:blip r:embed="rId1"/>
          <a:stretch/>
        </p:blipFill>
        <p:spPr>
          <a:xfrm>
            <a:off x="6556320" y="1219320"/>
            <a:ext cx="237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ink Pair  Squ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with other pair of students in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both pairs agree share answers with rest of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3:27:51Z</dcterms:created>
  <dc:creator>Andrew J. Eckhart</dc:creator>
  <dc:description/>
  <dc:language>en-US</dc:language>
  <cp:lastModifiedBy>Andrew Eckhart</cp:lastModifiedBy>
  <dcterms:modified xsi:type="dcterms:W3CDTF">2010-03-30T16:42:21Z</dcterms:modified>
  <cp:revision>4</cp:revision>
  <dc:subject/>
  <dc:title>Think Pair Share</dc:title>
</cp:coreProperties>
</file>