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F40-B93F-46EB-AF10-993FA1FD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9C9-2765-4AEE-8A2A-E2EFFE9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992-D343-4959-9382-73D14244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E81-F862-47B0-B45F-3B35F78A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AAE-12CD-4C6E-87A7-AE9872C1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608-5CD7-438B-8B1D-AE362E8A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A13-E152-4B77-B706-E3B59A6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1DB-B2F2-458B-BA06-41521421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EDF-CD02-49DD-AF20-6ADB0587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2F0-0FDC-4032-B92F-6F42FBE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3A1-BEF9-4CE0-A005-8F5F6D8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124-9817-4D55-BFE9-28A36C9F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9988-3E72-41B7-87CF-C3C6BC812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 Squ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ams are divided into groups of tw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ach pair is given a question or probl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udents use quiet think tim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airs share their answers with each oth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6" descr="j0198403[1]"/>
          <p:cNvPicPr/>
          <p:nvPr/>
        </p:nvPicPr>
        <p:blipFill>
          <a:blip r:embed="rId1"/>
          <a:stretch/>
        </p:blipFill>
        <p:spPr>
          <a:xfrm>
            <a:off x="6556320" y="1219320"/>
            <a:ext cx="237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 Squ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with other pair of students in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both pairs agree share answers with rest of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3:27:51Z</dcterms:created>
  <dc:creator>Andrew J. Eckhart</dc:creator>
  <dc:description/>
  <dc:language>en-US</dc:language>
  <cp:lastModifiedBy>Andrew Eckhart</cp:lastModifiedBy>
  <dcterms:modified xsi:type="dcterms:W3CDTF">2010-03-30T16:42:21Z</dcterms:modified>
  <cp:revision>4</cp:revision>
  <dc:subject/>
  <dc:title>Think Pair Share</dc:title>
</cp:coreProperties>
</file>