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ACD0-AEF5-40EE-9491-B365E19B3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8F94-38AB-47C2-84DC-7DE383958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1EF4-0E5E-432B-AF95-0EDBE70A7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AC25-4F47-4652-8815-C7366DF00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8D0A-D8A1-419B-B533-AF3C0CADF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7710-0474-4644-9C4D-9742BCFAD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349E-F370-4172-93E5-2D17E3A96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210F-7436-4F38-A43E-FA5D4FC8E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5FA1-C69F-45AB-A9E8-B1DD45B69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2886-AAFF-4EB5-BF9A-5B824D4F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5D3A-2016-42FA-877C-9EA07D07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98E2-0988-4074-AA68-3AE57D0C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51F9C-42D7-4295-843A-A5252FFDCB3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hink Pair  Squar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6099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Teams are divided into groups of two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Each pair is given a question or problem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Students use quiet think time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Pairs share their answers with each other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6" descr="j0198403[1]"/>
          <p:cNvPicPr/>
          <p:nvPr/>
        </p:nvPicPr>
        <p:blipFill>
          <a:blip r:embed="rId1"/>
          <a:stretch/>
        </p:blipFill>
        <p:spPr>
          <a:xfrm>
            <a:off x="6556320" y="1219320"/>
            <a:ext cx="23734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hink Pair  Squar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ck with other pair of students in t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both pairs agree share answers with rest of c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7T23:27:51Z</dcterms:created>
  <dc:creator>Andrew J. Eckhart</dc:creator>
  <dc:description/>
  <dc:language>en-US</dc:language>
  <cp:lastModifiedBy>Andrew Eckhart</cp:lastModifiedBy>
  <dcterms:modified xsi:type="dcterms:W3CDTF">2010-03-30T16:42:21Z</dcterms:modified>
  <cp:revision>4</cp:revision>
  <dc:subject/>
  <dc:title>Think Pair Share</dc:title>
</cp:coreProperties>
</file>