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045-94F4-4BC5-9285-E845257A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AC7-F37C-4963-935D-3DB928A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D9F-C733-4A13-BC6A-3BE1D292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402-457E-4546-B1D6-02DD0529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0D9D-C483-4B9C-87CA-C94472C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9103-D2AF-4BAF-BD3E-E24E594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AFC-F2E9-4BCF-AFD5-3488C59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270-EBA7-4839-8830-95B768D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1B3E-0CC1-46FE-9A51-5F6DFDB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49B-CF07-4BDE-A12E-65CC348A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0F6D-B53A-42B3-9821-4EADFE0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27F-DC2E-4BFE-B780-31BBE8B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C3AF-C2F1-4BD0-BF84-7C23A8B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CF7-9031-4992-B4CE-C62143C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D4B-2E36-4781-9539-D55C2FC9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D062-8609-4798-9399-8292A62E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E7E-D8EA-4C45-94DB-843102AE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420-43FB-4D19-915E-C543031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09A-08F2-4F8E-A8F2-6F42772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39F-D1B4-4E4A-B6C7-10D5085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653-02BD-46C8-9D52-3693F72F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A0D-A336-4569-9030-E6FB511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F00-0F1D-4897-807E-1E9513F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CEB-43D3-4B90-9FF9-587F48B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4E76-7CE1-43DC-BF59-E4C4BBCDB56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2F8-1E89-472A-8AE5-AE39D60EBD4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Teams break into groups of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Each group is given a list of questions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22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one works on the first question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two looks up answer to help student one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number one checks with partner before writing down answer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If partner agrees change roles and complete question number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After completing two questions each group will stop and check with the other group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If both groups agree move on to next question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1:32Z</dcterms:created>
  <dc:creator>Andrew J. Eckhart</dc:creator>
  <dc:description/>
  <dc:language>en-US</dc:language>
  <cp:lastModifiedBy>Andrew J. Eckhart</cp:lastModifiedBy>
  <dcterms:modified xsi:type="dcterms:W3CDTF">2004-08-12T04:02:38Z</dcterms:modified>
  <cp:revision>8</cp:revision>
  <dc:subject/>
  <dc:title>Pairs Check</dc:title>
</cp:coreProperties>
</file>