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36E-C68A-4EA7-B63D-9E41F36E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3E0-D9AC-46A1-9349-29770CD1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499-BB81-4CA6-B32C-529DC916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A72-7F53-443B-AA96-88967CA3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9D40-DFA8-4A49-ACBA-54DF834A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B597-B2E8-43A8-BC66-31E4F8DE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703D-C07E-45C6-8B9D-CB721D1C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858E-9F66-47B0-BB12-DD0DD12F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0E98-E456-4BE4-A6A7-1E8BBE7D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9525-A659-4015-9D96-AC3803D6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EB60-5C4A-492E-A3AB-8BB65F24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CFB-3E64-4C6C-A9E2-1CA90A20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F7ED-9DB5-4F02-A479-622715CE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6DE3-CF4D-40D9-AE54-28FA37AD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D554-3587-4220-AB2A-B8202036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AB29-93BD-4D3B-B979-13C57C9E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56EB-45B9-45D8-85A2-D51A1D4E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77B-3FE6-4B12-B963-7B5F69B4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2DE-7C4D-4231-B9BF-5E97B70E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ADB-D3E0-440D-BF1F-471D3A1C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044-C519-4242-967C-41D14064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41B-2207-4718-9571-C4B09CEC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11E-E6AC-49BD-B569-599F3652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85A-66DF-4DE7-8B2D-13B0BCE5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5297-E1AE-4981-BD1B-EDBE402C700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2FC6-01BB-4510-A530-C0478E93BEE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685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Verdana"/>
              </a:rPr>
              <a:t>Teams break into groups of two</a:t>
            </a:r>
            <a:endParaRPr b="0" lang="en-US" sz="4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Verdana"/>
              </a:rPr>
              <a:t>Each group is given a list of questions</a:t>
            </a:r>
            <a:endParaRPr b="0" lang="en-US" sz="4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222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Verdana"/>
              </a:rPr>
              <a:t>Student one works on the first question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Verdana"/>
              </a:rPr>
              <a:t>Student two looks up answer to help student one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Verdana"/>
              </a:rPr>
              <a:t>Student number one checks with partner before writing down answer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Verdana"/>
              </a:rPr>
              <a:t>If partner agrees change roles and complete question number two</a:t>
            </a:r>
            <a:endParaRPr b="0" lang="en-US" sz="4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eaea"/>
                </a:solidFill>
                <a:latin typeface="Verdana"/>
              </a:rPr>
              <a:t>After completing two questions each group will stop and check with the other group</a:t>
            </a:r>
            <a:endParaRPr b="0" lang="en-US" sz="3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9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eaea"/>
                </a:solidFill>
                <a:latin typeface="Verdana"/>
              </a:rPr>
              <a:t>If both groups agree move on to next question</a:t>
            </a:r>
            <a:endParaRPr b="0" lang="en-US" sz="3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20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51:32Z</dcterms:created>
  <dc:creator>Andrew J. Eckhart</dc:creator>
  <dc:description/>
  <dc:language>en-US</dc:language>
  <cp:lastModifiedBy>Andrew J. Eckhart</cp:lastModifiedBy>
  <dcterms:modified xsi:type="dcterms:W3CDTF">2004-08-12T04:02:38Z</dcterms:modified>
  <cp:revision>8</cp:revision>
  <dc:subject/>
  <dc:title>Pairs Check</dc:title>
</cp:coreProperties>
</file>