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4647-0A6C-4ADE-ADA2-27D6321B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33E-0859-4917-8BD9-D95C2DA5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0EA-4690-4778-B655-99D7F755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EE2A-10C5-449A-B0A9-37A2EF80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8076-9597-4B05-AAEB-E272BDB8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F90A-8EE0-454C-B70A-E959F56A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FF16-3CBE-4E5C-BA68-8F76E112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6B71-11BB-494A-860D-360DB935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0E3F-C06F-403C-8C6D-25CCFCBC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D28B-71EC-4656-8F88-E8FEE918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9E40-6B41-46DA-9366-508FBD82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FA9-5E2D-457B-9515-3D91B13A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66FF-5BA7-4729-9FDD-77043B11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887B-5F83-4542-AA9C-DAFC1C81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A7C7-5384-4A88-8353-18443EAF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2AC8-89DA-482F-A0A1-1C978016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50C9-05D9-4BB8-9D6F-1E0832B9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C26-25BE-4010-A0C3-3F5548E5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4EA-3521-409F-A6A9-CB2D6A91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32A-EC60-460B-8BFA-2C8B11E4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AEB-6ABD-45C1-9D1B-00FA07A8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8A2A-8343-4557-948B-FB9D22B3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787-4A51-4E51-901C-18A0FB6C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DE7-C931-4249-A664-A03C195B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2E72-B3C1-419F-BD96-E4F77FE58EF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BB37-5445-418C-8B48-58DAF840361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irs Chec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6858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eaea"/>
                </a:solidFill>
                <a:latin typeface="Verdana"/>
              </a:rPr>
              <a:t>Teams break into groups of two</a:t>
            </a:r>
            <a:endParaRPr b="0" lang="en-US" sz="4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eaea"/>
                </a:solidFill>
                <a:latin typeface="Verdana"/>
              </a:rPr>
              <a:t>Each group is given a list of questions</a:t>
            </a:r>
            <a:endParaRPr b="0" lang="en-US" sz="4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222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irs Chec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Verdana"/>
              </a:rPr>
              <a:t>Student one works on the first question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Verdana"/>
              </a:rPr>
              <a:t>Student two looks up answer to help student one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Verdana"/>
              </a:rPr>
              <a:t>Student number one checks with partner before writing down answer</a:t>
            </a: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irs Chec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eaea"/>
                </a:solidFill>
                <a:latin typeface="Verdana"/>
              </a:rPr>
              <a:t>If partner agrees change roles and complete question number two</a:t>
            </a:r>
            <a:endParaRPr b="0" lang="en-US" sz="4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irs Chec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eaea"/>
                </a:solidFill>
                <a:latin typeface="Verdana"/>
              </a:rPr>
              <a:t>After completing two questions each group will stop and check with the other group</a:t>
            </a:r>
            <a:endParaRPr b="0" lang="en-US" sz="3800" spc="-1" strike="noStrike">
              <a:solidFill>
                <a:srgbClr val="eaeaea"/>
              </a:solidFill>
              <a:latin typeface="Verdana"/>
            </a:endParaRPr>
          </a:p>
          <a:p>
            <a:pPr marL="335880" indent="-335880">
              <a:spcBef>
                <a:spcPts val="9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eaea"/>
                </a:solidFill>
                <a:latin typeface="Verdana"/>
              </a:rPr>
              <a:t>If both groups agree move on to next question</a:t>
            </a:r>
            <a:endParaRPr b="0" lang="en-US" sz="3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81680" y="838080"/>
            <a:ext cx="20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51:32Z</dcterms:created>
  <dc:creator>Andrew J. Eckhart</dc:creator>
  <dc:description/>
  <dc:language>en-US</dc:language>
  <cp:lastModifiedBy>Andrew J. Eckhart</cp:lastModifiedBy>
  <dcterms:modified xsi:type="dcterms:W3CDTF">2004-08-12T04:02:38Z</dcterms:modified>
  <cp:revision>8</cp:revision>
  <dc:subject/>
  <dc:title>Pairs Check</dc:title>
</cp:coreProperties>
</file>