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DAF-D78F-4F57-9C69-10EF0CE1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B5D0-9C6E-4842-98AA-EF9BCCFB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3BE-04DD-4650-8F13-17903101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200A-55AB-48D9-A496-640A98F9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2A04-19D8-41CB-AC9E-CE044A94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5AFA-FB3C-4548-BB5E-41B3B794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DAFE-B0FC-4DB4-AB45-E815FAA7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522F-2E0D-4EA0-B347-E499C106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EC95-FF7D-47C1-ADCA-A2667CC2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E5D8-2311-4619-BB0C-F8A4C065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03E2-CAC4-4C4D-AAF2-5BE6E95E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A06-CA45-4D8B-A597-5D2B074F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A702-7586-4876-9152-93237A1C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521F-6A2D-4E47-8796-4565AE81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81FF-F911-4375-8C90-B3C8DC75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9F94-F8CD-4332-A6A2-E358FAFF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0C2B-A466-44AE-85D6-4EBE342F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8BF-9F36-4097-81A3-C02A5EA7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192-3C99-49D2-B504-8104C8F5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057A-5BED-4B1A-9E97-47333ED4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278-D23A-40D9-80EF-5B99B7F4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5EA9-80F8-4EAD-8463-F4F4829D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356F-718E-4D20-A0FD-7CF11086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1EB2-0CB7-4DDD-A30A-752A3315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C307-A219-428F-B74A-D3038CD42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5484-757E-4A68-9B95-EBF635707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side-Outside Circ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5333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student is given a different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form two circles one inside the o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pair up and quiz each other with their questions or share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rcles rotate to next stu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SY00914_[1]"/>
          <p:cNvPicPr/>
          <p:nvPr/>
        </p:nvPicPr>
        <p:blipFill>
          <a:blip r:embed="rId1"/>
          <a:stretch/>
        </p:blipFill>
        <p:spPr>
          <a:xfrm>
            <a:off x="6248520" y="1905120"/>
            <a:ext cx="23716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2:33:29Z</dcterms:created>
  <dc:creator>Andrew J. Eckhart</dc:creator>
  <dc:description/>
  <dc:language>en-US</dc:language>
  <cp:lastModifiedBy>Andrew Eckhart</cp:lastModifiedBy>
  <dcterms:modified xsi:type="dcterms:W3CDTF">2010-03-30T16:18:28Z</dcterms:modified>
  <cp:revision>3</cp:revision>
  <dc:subject/>
  <dc:title>Inside-Outside Circle</dc:title>
</cp:coreProperties>
</file>