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607-1D47-474F-B36C-091E95A4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15A-3497-450F-9443-B236A4C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E08-A710-45B0-8EE2-4B195956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B23-191B-4DE6-A406-02C5FB3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2F8-2F62-4AC6-AA21-D4505630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51F-E806-491F-B599-9AA33BF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16F-031F-4B04-8712-F891038A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C78-B215-4670-B950-E66685C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EEC3-4DF4-441C-98EE-9A92C043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F22-8C75-4107-B617-4C4EC8A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FDD5-B5E4-434C-9AFF-5D0D289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B04-795A-4A01-B296-20E006D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9F2-7E8A-423D-991A-CF88909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B97-EB45-47A7-9A5F-3B4672C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B962-4C4B-4EDA-BE1B-7925BBF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B7A-FDBF-44C2-8963-7656E03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C8BE-9695-423F-8EA5-3B333E43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C19-D29F-4387-8522-74F9B70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2EA-E5F7-4C29-BA0B-8B4733E7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D48-A7B2-4DA2-8164-911AD5D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CE8-3B92-43C6-8FFD-80450279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1A7-314F-49A0-9125-68E1189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CF2-B77C-4D0F-9F81-882BF19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BFB-983D-4E96-8CB5-E86B9E9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958-552E-4627-BC80-63FF9082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0453-2D53-458A-BA1E-327F8ECC2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side-Outside Circ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tudent is given a different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form two circles one inside the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pair up and quiz each other with their questions or share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s rotate to next stu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Y00914_[1]"/>
          <p:cNvPicPr/>
          <p:nvPr/>
        </p:nvPicPr>
        <p:blipFill>
          <a:blip r:embed="rId1"/>
          <a:stretch/>
        </p:blipFill>
        <p:spPr>
          <a:xfrm>
            <a:off x="6248520" y="1905120"/>
            <a:ext cx="23716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3:29Z</dcterms:created>
  <dc:creator>Andrew J. Eckhart</dc:creator>
  <dc:description/>
  <dc:language>en-US</dc:language>
  <cp:lastModifiedBy>Andrew Eckhart</cp:lastModifiedBy>
  <dcterms:modified xsi:type="dcterms:W3CDTF">2010-03-30T16:18:28Z</dcterms:modified>
  <cp:revision>3</cp:revision>
  <dc:subject/>
  <dc:title>Inside-Outside Circle</dc:title>
</cp:coreProperties>
</file>