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0FA-56F2-444E-83D0-39C1BABE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0FE-55A9-4EAF-AAEE-94BD001D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D36-6B4B-4737-ACAD-B65128BC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377-6281-4FFC-A620-57739320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DD49-2B01-4059-ACF9-076F3A3E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059D-2F04-4DAB-9DB7-A6DE9F7A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9AF2-953A-49C1-A3CA-3F624514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DB52-DD7B-4D0F-B057-37D9AF23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2A5D-ABF0-4A7D-90C2-F5449102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1148-6837-435F-9821-6B53D9C0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686B-A431-45AF-915D-4655945B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663-442B-4B91-8888-7588E91C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3EE0-DA81-4110-A971-E583F631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B4AC-38E6-4385-893B-F00CF6C6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CF66-0844-4BF3-AAEC-61ABEC2C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D46F-6817-4614-A069-9FB44DF7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AE31-8B3A-4A77-8355-1C012993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1FE-423F-41CE-9A38-8A47F0E3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0615-B80F-4C2B-AF43-471F4117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B93-FDFE-45BC-B531-360BFFE3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945-CD9A-4083-80F5-7F8B1D9E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944-ABE8-4B4F-A73A-C0765C94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6395-CBC9-4C63-8E76-33708BA4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607-BD96-4B4D-8A39-8C13C178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0891-DA63-4441-BCCD-C14A663C2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DF97-BDDB-414E-AEAA-8B3F07E96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Inside-Outside Circl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5333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student is given a different ques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form two circles one inside the o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pair up and quiz each other with their questions or share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rcles rotate to next stud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SY00914_[1]"/>
          <p:cNvPicPr/>
          <p:nvPr/>
        </p:nvPicPr>
        <p:blipFill>
          <a:blip r:embed="rId1"/>
          <a:stretch/>
        </p:blipFill>
        <p:spPr>
          <a:xfrm>
            <a:off x="6248520" y="1905120"/>
            <a:ext cx="23716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33:29Z</dcterms:created>
  <dc:creator>Andrew J. Eckhart</dc:creator>
  <dc:description/>
  <dc:language>en-US</dc:language>
  <cp:lastModifiedBy>Andrew Eckhart</cp:lastModifiedBy>
  <dcterms:modified xsi:type="dcterms:W3CDTF">2010-03-30T16:18:28Z</dcterms:modified>
  <cp:revision>3</cp:revision>
  <dc:subject/>
  <dc:title>Inside-Outside Circle</dc:title>
</cp:coreProperties>
</file>