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C8D-9D98-408F-97B5-70245C2A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9C5-5D6B-421C-8166-9BE665E7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AE8-4669-46A4-939B-B7CE7CF0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3D7-1E60-4C0A-B25F-43059C76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AEDE-84C2-45D1-A2CA-65682AF5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3953-19D1-41F8-9A97-D06A3020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9A59-2E06-4B24-9695-20EDBBB6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A6E8-5D47-4351-B29A-55DC96D4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9548-7796-4469-B696-7427880D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1A94-0293-4C9D-8FFD-F989B96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8413-4FBD-4DA4-8E16-08306C93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783-98D1-4DF9-A0F6-578AB470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4D60-F62E-4FEA-85BE-0E8C612C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D9E6-9373-4532-A521-1CD054C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9850-0718-4E2C-B3A0-33A0108F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8595-C545-420F-8A24-17DCA3D0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A0E4-236C-41B9-8854-328F1BD6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57B-AE76-4DD3-A0C9-23995606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435-8576-4E58-B5A4-2E765999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62B-1379-47BF-98D7-4D960C5B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947-2C66-4927-8C5F-B177380A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CD0-403A-4018-B16E-1520612F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4BB-CF47-4738-86FE-5C057FC5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C0D-401A-4F00-BB6D-F4CA9D8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68FB-C5AF-44AE-AD35-9EB25BEE3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12FD-5011-4594-A461-5D9755477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 </a:t>
            </a: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ment cl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gress can not make an official reli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Congress can not stop you from practicing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bsol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ander - 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just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the 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bsol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l - 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sh and read what you w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ociate with whom you w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t follow local laws for public gath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icial ask the government to take some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8:43:25Z</dcterms:created>
  <dc:creator>Andrew J. Eckhart</dc:creator>
  <dc:description/>
  <dc:language>en-US</dc:language>
  <cp:lastModifiedBy>Andrew J. Eckhart</cp:lastModifiedBy>
  <dcterms:modified xsi:type="dcterms:W3CDTF">2003-01-30T17:46:48Z</dcterms:modified>
  <cp:revision>7</cp:revision>
  <dc:subject/>
  <dc:title>I. The First Amendment</dc:title>
</cp:coreProperties>
</file>