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8A3F-E132-45B2-9A9F-7345BF96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61B-DA5E-4B68-A854-4CD4A20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908-E0DC-4231-9324-379C9DDC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EB2-7098-4E10-86A1-65EBFAB5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D5A4-D528-4E4A-930C-D777D5BE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F11A-F290-4A4E-B2A0-50E32ACA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1C4D-E531-436E-A668-13A3196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170E-C63A-4467-9CCF-A87F7329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9866-858D-4052-A31C-4CC18DF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F7A6-933C-425B-B4CA-8AC8B883E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3262-4D5A-4216-B2DC-392CFCB7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B5BC-FA12-4743-B1F7-93470DC9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2A94-1E7B-46F1-ACA5-40952A14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976D-BE46-4271-A19E-92A1823A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C0C0-DF73-4ABB-8F67-3C04C4D3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C01A-D50A-4A10-A302-7D2D1161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AC02-D071-4AEC-A40E-A01A2060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D9D-BCF4-49A4-9F47-7F586F75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C58-1582-4BA9-BCF2-883219D6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7501-E507-4FDF-B17E-FA308212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557-F185-4E87-999C-0654AB86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1D55-D1CB-45FE-B955-22D59D3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95CE-2524-4504-AD41-71DD1A57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8F5-D96B-4ABC-AFF5-4CB1A2DA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70B-8155-415A-A8D9-E89CC1873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87E-4BD3-4E89-9CCD-479ED2FE3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. </a:t>
            </a: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ablishment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ess can not make an official reli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ongress can not stop you from practicing y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lander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just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C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bsol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bel -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blish and read what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ociate with whom you w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t follow local laws for public g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The First Amendment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ght to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ficial ask the government to take some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8:43:25Z</dcterms:created>
  <dc:creator>Andrew J. Eckhart</dc:creator>
  <dc:description/>
  <dc:language>en-US</dc:language>
  <cp:lastModifiedBy>Andrew J. Eckhart</cp:lastModifiedBy>
  <dcterms:modified xsi:type="dcterms:W3CDTF">2003-01-30T17:46:48Z</dcterms:modified>
  <cp:revision>7</cp:revision>
  <dc:subject/>
  <dc:title>I. The First Amendment</dc:title>
</cp:coreProperties>
</file>