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002-D466-42C4-9DC0-11BB5C83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058-C4E0-41C4-805D-72C952BC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FE7-9791-4E9F-8357-3424381E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5E5-3E2F-4B9B-AFE1-DEEF9473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0571-2ED7-4094-AC48-036191E2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C107-4529-49C3-9B7A-E10EDB88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EFB6-A19D-48BC-A78B-5EA12C3D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39B3-4204-4D10-96C3-EC2AD7FE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3B2F-95BA-4CD2-976F-241FD09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C0A0-C4CD-4EB9-9520-357B6B48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8EA7-5299-4418-B89A-F467B044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7E9-9BA4-4B88-853E-4E84DDAC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6C5A-2EB9-4017-BF23-C46F028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3541-DD4F-4874-AD14-58019F6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F83B-E5DB-4120-B420-4ADDFAD7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C926-FBE9-4861-B8E0-2E6BC21D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F9CF-637C-4CC9-856A-B05780FB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F37-E239-4A7C-8668-7F599492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F57-FCA3-4B99-8253-E7697CBF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1FF-AB31-4E19-98C6-4BEB7E0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9AA-172B-4809-84FC-74323E60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120-3B69-4F2F-AF72-A0EB686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525-1280-4250-9B60-0045B2F6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730-1B01-4F1A-B3F5-843CAC8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156-B220-4DC3-BF6D-829B56B17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E5FD-EC27-49C9-8998-FA61DA01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 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ment cl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gress can not make an official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ongress can not stop you from practicing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bsol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ander -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just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bsol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l -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sh and read what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ociate with whom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t follow local laws for public g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icial ask the government to take some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8:43:25Z</dcterms:created>
  <dc:creator>Andrew J. Eckhart</dc:creator>
  <dc:description/>
  <dc:language>en-US</dc:language>
  <cp:lastModifiedBy>Andrew J. Eckhart</cp:lastModifiedBy>
  <dcterms:modified xsi:type="dcterms:W3CDTF">2003-01-30T17:46:48Z</dcterms:modified>
  <cp:revision>7</cp:revision>
  <dc:subject/>
  <dc:title>I. The First Amendment</dc:title>
</cp:coreProperties>
</file>