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B7A1-E390-4B77-9E22-B722CE2F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C32F-C93B-4F14-8570-B66B497D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68A-A821-4204-B38B-255079AC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F69-7451-4592-8CB5-2F61E3BE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C912-724A-4E4E-990A-717EA2FB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CCDD-C5F9-4E26-B86C-A42951CB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F6C3-9B7D-4892-AB9B-FDA3550E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BD0D-CDD7-4900-B436-3620CDD5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A25E-4024-47E5-8A06-6EFC1759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3883-C18C-4FD3-A775-BC6C7DA3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CBF3-B298-4296-99F3-3275C89E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D70-B104-450D-A6E2-3AC4F933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4EE8-69C2-4E79-B7F5-4269C89F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9526-1DC1-427C-899D-D300B7FA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2A7E-C520-4297-AF8B-BC155002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228B-29BB-43C4-B5D3-48B64FBE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E233-AC9D-4277-AB9C-2FF6D04A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BD4C-CD1D-47D1-9B34-307B26B0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413-DA81-4464-B1EA-F8909E3A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9F0-4CDC-4AF7-95FF-08D681EA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625A-7694-4DD8-A4D8-516A1B9E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058-32AE-44CC-9534-0286A274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2862-8187-4205-802F-EE2CC72F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D55-56F1-4AC4-BB82-CC991F90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4FD9-A629-4CC4-86CB-CE3CB46EC18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4CBB-2CF7-4A7F-8F19-B4C2901B0F8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rn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562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question or problem is presented to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s separate themselves into different corners based on their ans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s pair up and share their respon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400800" y="2438280"/>
            <a:ext cx="24969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28:11Z</dcterms:created>
  <dc:creator>Andrew J. Eckhart</dc:creator>
  <dc:description/>
  <dc:language>en-US</dc:language>
  <cp:lastModifiedBy>Andrew J. Eckhart</cp:lastModifiedBy>
  <dcterms:modified xsi:type="dcterms:W3CDTF">2004-08-12T03:55:39Z</dcterms:modified>
  <cp:revision>4</cp:revision>
  <dc:subject/>
  <dc:title>Corners</dc:title>
</cp:coreProperties>
</file>