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9DA-523A-4926-B303-166FB52E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9DBB-2105-4936-94D9-B2CDDE6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347-1540-460C-ADB9-B17757387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057-6F09-48AA-A53E-553E52D8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1927-4390-47D9-AFB2-6731CA66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400C-DFB0-49F9-B034-9D771C60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3172-8149-42A4-A919-36CD53C7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2C74-8BC3-4CC2-86FB-6807F25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7ABA-964C-4FAB-B9A9-46592912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CAC0-E401-41AE-A717-9F6BCDA9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6B68-37ED-4B00-B8FD-AFCD9DB5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1E0-0A83-4104-937C-269FE922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2516-8900-44FE-8B33-D1A65E4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9D60-B55A-44EF-B4F8-03D56DCD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E73F-3E0A-4FB9-B068-154A6BBB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9448-381C-4CA9-934A-5E56D5B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83B0-08BD-4F73-AE92-E5A3322F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BBF-61BD-460A-B6C9-93BE1981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121E-43AA-4A87-BE10-DAB24B33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A01-62C5-4501-A2EA-3B2FDD00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424A-0C5F-4913-8233-BF1C8D80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D07-BBDD-40A5-9EC5-34BC9D0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99D-C0CD-43CE-B841-45F83AF8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E1B-1373-497F-AB7F-F579DB67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8AE8-6E79-4644-8F8F-A7E3B35DE7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50F4-4A57-4EA7-ABBE-33610C84149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5562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question or problem is presented to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separate themselves into different corners based on their ans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 pair up and share their respon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24969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7T22:28:11Z</dcterms:created>
  <dc:creator>Andrew J. Eckhart</dc:creator>
  <dc:description/>
  <dc:language>en-US</dc:language>
  <cp:lastModifiedBy>Andrew J. Eckhart</cp:lastModifiedBy>
  <dcterms:modified xsi:type="dcterms:W3CDTF">2004-08-12T03:55:39Z</dcterms:modified>
  <cp:revision>4</cp:revision>
  <dc:subject/>
  <dc:title>Corners</dc:title>
</cp:coreProperties>
</file>