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DA1-E960-4CD6-903F-F829C75F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35C-2EAA-47B8-8C9D-B3E8FE70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CFF-7DD1-43C6-998B-3A9BBB8A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80B-08F9-4C1F-A433-6C929ED6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8D28-762B-4FC7-B43B-51187550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F099-C202-46C7-8397-02ADED1D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A576-51FB-47C5-9A2E-A4865C67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070C-2F86-49A7-96C0-C3A4DF27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017B-7E1C-4F8F-BBA2-4F1D6C39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097F-D406-4506-93A0-371CAB4D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1C96-63F9-446D-9A3A-E11EA9F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0B2-50A8-4D45-8BA0-CB1A8368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DC04-2403-48E4-A35E-2BC03A4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0EB3-2402-4D55-A470-A35D310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DFD4-C635-4A15-A999-758607D8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7DC3-2C70-4EC4-BA03-703A6ED1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F3A4-734D-4F21-995D-C6AD0597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8E8-1876-4E3F-9A64-E555E4E0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432-1592-4A65-A1CB-8BC477C7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71E-CCB4-4794-B9D4-E98B4010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14A-43B6-4FE9-A03D-7C6312C5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1A0-541E-41C4-9177-47BE376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810-3740-4F51-AD42-B6CE8C5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254-6E72-46C3-9A8F-01BE2300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E31F-A154-44A4-BF70-6560167D62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FD32-87CF-45EE-962F-64D5B49049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562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question or problem is presented to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separate themselves into different corners based on their ans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pair up and share their respo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24969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28:11Z</dcterms:created>
  <dc:creator>Andrew J. Eckhart</dc:creator>
  <dc:description/>
  <dc:language>en-US</dc:language>
  <cp:lastModifiedBy>Andrew J. Eckhart</cp:lastModifiedBy>
  <dcterms:modified xsi:type="dcterms:W3CDTF">2004-08-12T03:55:39Z</dcterms:modified>
  <cp:revision>4</cp:revision>
  <dc:subject/>
  <dc:title>Corners</dc:title>
</cp:coreProperties>
</file>