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CA6-4DFE-490C-9CB1-A7962CEC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6B5-DC04-4938-B571-0CC559FD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FB0-0FBE-42C7-888B-93B0425C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A70-27B3-4F2C-9CBC-C350D43C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28A9-2C89-4754-8D93-709AD07D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28C8-1B01-4B9E-A192-DF768617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EE83-E24A-44C7-A00A-70EBF113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FFD9-E3AF-477C-BDD4-622596DD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7C5F-9706-4F92-B216-E5149793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036C-ADE6-489F-A0C8-19B34EF7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EAAB-439A-4CB0-BCD8-D36DCCE0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634-2AC3-414A-82AD-F189A108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470D-DAE4-4AE8-8D28-5D92358C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651C-847C-4C35-99C5-55CAB1F7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B5D6-45FC-4175-9C3D-7509BBB7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93FB-3606-43F1-9148-912DBB94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C0F5-1CD0-4ED0-8BC0-AFF7AA35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45C-D3F8-4076-83F1-6BA0E74C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441-30F2-492F-8CE5-EEA1815C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B24-EE73-4EED-8D05-1D71E78D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2FD-2E00-4DFC-9662-BE71EB87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0C4-AEAB-466A-99A8-6B8523E5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E89-F707-47A2-A78E-431F918C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15A-BB22-4E8B-BFC0-1A61B895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95E3-5375-4E3A-BDD8-E21ABF361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0B11-A7EF-457D-9EE7-44BB9B44D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Preamb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43040" indent="-743040">
              <a:spcBef>
                <a:spcPts val="110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x goals of the Govern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Prea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icle 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icle 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icle I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od2vrejr[1]"/>
          <p:cNvPicPr/>
          <p:nvPr/>
        </p:nvPicPr>
        <p:blipFill>
          <a:blip r:embed="rId1"/>
          <a:stretch/>
        </p:blipFill>
        <p:spPr>
          <a:xfrm>
            <a:off x="4572000" y="1828800"/>
            <a:ext cx="3794040" cy="355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bra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branch gets too power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r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icial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opular sovereignt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ople ru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ning for off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imited govern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vernment can only do what is writ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 don’t do this anym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erali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h State and Federal Govern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tes have some p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rved p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ft to State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2" marL="10285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deral Government has some p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umerated p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ed in Con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urrent p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Federal and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ion of Pow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branches have their own p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do not do each others job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Not Feder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1:36:21Z</dcterms:created>
  <dc:creator>Andrew J. Eckhart</dc:creator>
  <dc:description/>
  <dc:language>en-US</dc:language>
  <cp:lastModifiedBy>Andrew Eckhart</cp:lastModifiedBy>
  <dcterms:modified xsi:type="dcterms:W3CDTF">2010-03-30T16:17:22Z</dcterms:modified>
  <cp:revision>6</cp:revision>
  <dc:subject/>
  <dc:title>I. The Preamble</dc:title>
</cp:coreProperties>
</file>