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86B-68CD-4DFF-AC06-7F75D7C2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9F7-06AF-4A08-835B-14CC2809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D817-BDA0-41E8-9BDB-73BFF1C9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7B2-D07D-45A8-B9B6-301B2DF8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6606-F16B-4813-9E72-A915C1545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C088-1F4E-40C1-82B0-A0082E1F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4B4F-5843-40F5-ADBD-10DA72C2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FCF3-F56B-43AF-8C7B-2F46CBED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B709-BA3E-4CDA-B275-B67115E5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3DFB-023D-4E1D-A36F-8054DFA2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D522-7FFC-4CD3-9728-F649863E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F9EA-E7B0-4B0A-B9EE-1D43F1D2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399B-00C5-4950-B632-D98EA7B2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55F0-0B06-4EF2-9785-CC7CB759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14CC-1B2F-4CA0-829B-B99E5D3F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EF2D-54A1-4A4D-84CB-A09E2613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A654-595F-4997-8615-607771F7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0DD-A1CB-4C4E-BA9B-8E1F822E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8CD-35B0-4031-9298-D02B4D01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405-CB11-4BB3-A32B-26CE9EAF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FDF-8DF6-43FD-AAE9-CE7B5EAF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1A70-051E-495C-91E5-85C4DD9D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8D1-A874-470E-A784-71C1BF81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DEC-2E41-4AE3-8BEF-F3E99929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Rectangle 3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Rectangle 13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7AD6-F0DA-49C1-AA84-764598432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Rectangle 3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Oval 5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Oval 6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Oval 7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Oval 8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Oval 9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Oval 10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Oval 11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Oval 12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Oval 13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Group 14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Oval 15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Oval 16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7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Oval 18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Oval 19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Oval 20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Oval 21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Oval 22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Oval 23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Group 24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Freeform 25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>
                  <a:gd name="textAreaLeft" fmla="*/ 0 w 703440"/>
                  <a:gd name="textAreaRight" fmla="*/ 703800 w 703440"/>
                  <a:gd name="textAreaTop" fmla="*/ 0 h 1639800"/>
                  <a:gd name="textAreaBottom" fmla="*/ 1640160 h 1639800"/>
                </a:gdLst>
                <a:ahLst/>
                <a:rect l="textAreaLeft" t="textAreaTop" r="textAreaRight" b="textAreaBottom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26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>
                  <a:gd name="textAreaLeft" fmla="*/ 0 w 1308240"/>
                  <a:gd name="textAreaRight" fmla="*/ 1308600 w 1308240"/>
                  <a:gd name="textAreaTop" fmla="*/ 0 h 1909800"/>
                  <a:gd name="textAreaBottom" fmla="*/ 1910160 h 1909800"/>
                </a:gdLst>
                <a:ahLst/>
                <a:rect l="textAreaLeft" t="textAreaTop" r="textAreaRight" b="textAreaBottom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7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2AB3-4E8D-42F4-8CDD-995D204A2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he Preamb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43040" indent="-743040">
              <a:spcBef>
                <a:spcPts val="1100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x goals of the Governmen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514440">
              <a:spcBef>
                <a:spcPts val="700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Pream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icle 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g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icle I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i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ticle II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4" descr="od2vrejr[1]"/>
          <p:cNvPicPr/>
          <p:nvPr/>
        </p:nvPicPr>
        <p:blipFill>
          <a:blip r:embed="rId1"/>
          <a:stretch/>
        </p:blipFill>
        <p:spPr>
          <a:xfrm>
            <a:off x="4572000" y="1828800"/>
            <a:ext cx="3794040" cy="355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hecks and balan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ee bra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 branch gets too powerf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r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icial re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opular sovereignt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ople ru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o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ning for off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imited govern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overnment can only do what is writt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 don’t do this anymo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ederalis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th State and Federal Govern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tes have some p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519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rved po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95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ft to States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lvl="2" marL="10285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deral Government has some p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umerated po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sted in Constit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40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urrent po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51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Federal and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III.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incipals of the Governmen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paration of Pow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ree branches have their own pow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do not do each others job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Is Not Federa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8T01:36:21Z</dcterms:created>
  <dc:creator>Andrew J. Eckhart</dc:creator>
  <dc:description/>
  <dc:language>en-US</dc:language>
  <cp:lastModifiedBy>Andrew Eckhart</cp:lastModifiedBy>
  <dcterms:modified xsi:type="dcterms:W3CDTF">2010-03-30T16:17:22Z</dcterms:modified>
  <cp:revision>6</cp:revision>
  <dc:subject/>
  <dc:title>I. The Preamble</dc:title>
</cp:coreProperties>
</file>