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9FE-567E-443C-A4C8-EF574D38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73F-4EC6-4477-AE96-D416B72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D52-924C-4E57-91F1-1F321C33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E26-59FD-4541-A3A7-81F41F3C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ED08-6131-44C0-9F4E-F5DF8AC5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7B4A-4AAB-4E0F-A14B-84A31DA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1663-9185-4227-9D19-4DBB7C7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D99-F450-4095-AD5D-3BCD6BF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5F3D-EF11-417D-AC82-A1CEE6BE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15A7-7132-4662-B157-E13461E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FE00-502F-43E1-8140-F82D16E4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75E-BBF0-4992-993D-1E8F541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24E9-1E39-4F9E-9ED9-0A732540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710-2EE5-48B7-9D79-B4B92774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6061-DC5F-4DFE-AE5B-0995425B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6F85-20D3-4594-AFDF-D3B0CDC2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150-DC45-4460-92C6-13ABABF4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2B7-117B-4494-9695-CAD8445F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BE5-2E35-460E-B54E-11912C07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F0A-8427-4C4C-9BE5-E37A2A1A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608-3CBD-4839-B11F-677C624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862-9FDC-4830-BAD7-76777EBB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D42-07A8-490C-927B-4EF2A5A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369-9AD3-49D4-8914-1C8BFB58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3B35-F16B-4BFD-93E1-71FDF73AE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01C-206B-45CB-AA59-E5E4613A6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Preamb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-743040">
              <a:spcBef>
                <a:spcPts val="110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x goals of the Govern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Prea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od2vrejr[1]"/>
          <p:cNvPicPr/>
          <p:nvPr/>
        </p:nvPicPr>
        <p:blipFill>
          <a:blip r:embed="rId1"/>
          <a:stretch/>
        </p:blipFill>
        <p:spPr>
          <a:xfrm>
            <a:off x="4572000" y="1828800"/>
            <a:ext cx="3794040" cy="35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branch gets too power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cial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pular sovereign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r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ning for off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mited gover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vernment can only do what is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don’t do this any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State and Federal Govern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tes have some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rved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to State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2" marL="10285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deral Government has some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umerated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d in Con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urrent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Federal an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ranches have their own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 not do each others jo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Not Feder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36:21Z</dcterms:created>
  <dc:creator>Andrew J. Eckhart</dc:creator>
  <dc:description/>
  <dc:language>en-US</dc:language>
  <cp:lastModifiedBy>Andrew Eckhart</cp:lastModifiedBy>
  <dcterms:modified xsi:type="dcterms:W3CDTF">2010-03-30T16:17:22Z</dcterms:modified>
  <cp:revision>6</cp:revision>
  <dc:subject/>
  <dc:title>I. The Preamble</dc:title>
</cp:coreProperties>
</file>