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0ED-5D52-455B-A2AA-B5750072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7A5-39BE-4905-A430-7729DB7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8AE-CA0D-4415-B224-91807AB2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B0A-7C31-4DBA-B28B-F2F37DA1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8B11-277E-45EF-B741-A9E5D94A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66D2-1ADC-499D-9505-AF70B3F6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EB17-6F5D-45B5-911F-3D66B3D4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B0C0-D956-48AE-9BA9-DCCDDADF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DE4A-5BAD-46E8-9375-3CE2DE1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1D00-0386-45B1-B653-A96777A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47B-2DA9-4347-A89C-F1A5E21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2AE-C863-4A8A-8155-CF433FED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945A-3E95-430B-BA1C-165B8388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EF43-7E86-4087-9966-B042D722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ADE4-2F20-4CBD-86C2-420ABC11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D966-E4A4-48EA-ADDC-FB9A8380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70C-5D69-4AF4-9A86-49CDEEEB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B57-98BE-4A2E-90AD-3AACAF55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CD8-12C4-4CD6-BD03-DFFC7126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A16-56B5-4E71-8964-DB85EC0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149-01DE-4C48-B7E0-BBF29CB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1F8-FD70-4FF1-8F89-1813D08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93B-254C-4B49-92C5-E7A570DE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959-A210-4018-B1B8-6543B6F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E93F-4953-4118-A97F-92851531057D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F71B-A2DF-470D-A3BD-C1A17412728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. </a:t>
            </a: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The rest of the Amendment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War Ame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th no slave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th defined citizenship and promised life, liberty, and 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th all citizens can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th century Ame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th incom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th people elect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th pro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th woman's suff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th limit the "lame duck"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st repeal 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2nd limit President to 2 terms or 10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rd DC can vote for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th no poll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th Presidential dis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6th 18 to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7th Congress can not raise their p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you must know for the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ree Civil War Amend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 six 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entury Amend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6:36:46Z</dcterms:created>
  <dc:creator>Andrew J. Eckhart</dc:creator>
  <dc:description/>
  <dc:language>en-US</dc:language>
  <cp:lastModifiedBy>Andrew J. Eckhart</cp:lastModifiedBy>
  <dcterms:modified xsi:type="dcterms:W3CDTF">2003-09-16T17:29:12Z</dcterms:modified>
  <cp:revision>6</cp:revision>
  <dc:subject/>
  <dc:title>I. The rest of the Amendments</dc:title>
</cp:coreProperties>
</file>