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ED7-381A-4591-BEF5-3CDB7DA8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A76-92FF-4BB1-8CF2-F81F560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D12-D5C8-4537-A88D-FFB2618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44D-5C8F-41D8-B414-07994348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913-7ACF-43BD-B518-FBC30039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8E9D-3549-4351-9F98-E55555D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E7E-C161-4D4D-8DA4-DD550CD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56E-5361-44A2-A0AA-C3ECA80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4C76-6910-4098-BF6C-8E258D4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9BF5-ADA2-4890-B057-269783D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081C-9749-4012-85AE-9CF6B80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1DE-9719-4644-AAE5-51E66419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E647-685F-4325-A977-3988B7A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392-CAC4-4C19-BA50-A27297BB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005-7019-48A9-9992-D47962E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96E-2E3F-4693-967C-B0DCCC91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FF0-2322-42FB-B454-D60C966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394-215B-456A-B4EA-234D931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646-744B-4540-A891-B01989A5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41F-52B7-4442-B9B6-8A7E2699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A5F-EB7C-453B-A522-F20CCFC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52-F1AC-458B-AE36-5D108BB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E6C-6EA0-4C1A-B715-249F1540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C4E-FE65-42EB-8143-79505C2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727-A4DD-410A-BD63-79DF8105355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A7F-E264-4F2A-BD53-5767DFFBF7B1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The rest of the Amendment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War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th no slave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th defined citizenship and promised life, liberty, and 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th all citizens can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th century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th incom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th people elect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th pro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th woman's suff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th limit the "lame duck"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st repeal 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2nd limit President to 2 terms or 10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rd DC can vote for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th no poll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th Presidential dis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6th 18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th Congress can not raise their p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you must know for the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ree Civil War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 six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entury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6:36:46Z</dcterms:created>
  <dc:creator>Andrew J. Eckhart</dc:creator>
  <dc:description/>
  <dc:language>en-US</dc:language>
  <cp:lastModifiedBy>Andrew J. Eckhart</cp:lastModifiedBy>
  <dcterms:modified xsi:type="dcterms:W3CDTF">2003-09-16T17:29:12Z</dcterms:modified>
  <cp:revision>6</cp:revision>
  <dc:subject/>
  <dc:title>I. The rest of the Amendments</dc:title>
</cp:coreProperties>
</file>