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4407-AC0F-41E1-AD74-CBA4ED4A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13F1-83C1-4CB5-AD65-A38527D7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644-2463-4344-A436-6F318F69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B665-C4BE-4286-BC7A-D41EABFB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84C1-4332-4713-BD0E-22A4434C3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F09E-7803-47FC-B5F2-2D3A46E0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E535-75B7-49B1-A8CA-9E9D3964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400F-5710-460C-89D2-4CAC48ED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99B3-CA0C-4D71-96AA-055FECF3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25C9-8567-4FCD-8BE0-0F6D6595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23B7-5E05-448B-B0A7-E93DA79F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9CC3-1DF9-4E73-9AB9-8EBAB5A8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6533-C3FE-476E-85C1-8016531F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595B-3763-4C92-896B-9240CF1E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15CC-8812-4600-9563-28D48EC9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1B83-A03C-4343-922F-FD280699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EABD-DA6E-48FF-BC01-EBDE1674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4B17-3324-4CAF-A8F5-D56DFAE8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1BD-C930-454A-A5C9-6C6A9177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E5B-DFDB-4B03-BA77-25A9119C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950-8749-4690-8386-CA391A3B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8EF-D9CE-470B-A05B-1B1A3574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EB2B-4E46-482E-9C3D-BDEA3028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42E-AB73-4B4C-99B6-C5F8C96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E0E7-261E-4ABB-8ED1-051829C5ED55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AF83-B208-4C99-921A-463DB8F6CD1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. </a:t>
            </a: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The rest of the Amendments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War Amend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3th no slaver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4th defined citizenship and promised life, liberty, and prope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5th all citizens can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th century Amend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6th income 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7th people elect sen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8th prohib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th woman's suffr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th limit the "lame duck"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1st repeal 18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2nd limit President to 2 terms or 10 yea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3rd DC can vote for Presi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th no poll 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5th Presidential dis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6th 18 to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7th Congress can not raise their p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Amendments cont.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you must know for the t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three Civil War Amend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y six 20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Century Amend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6:36:46Z</dcterms:created>
  <dc:creator>Andrew J. Eckhart</dc:creator>
  <dc:description/>
  <dc:language>en-US</dc:language>
  <cp:lastModifiedBy>Andrew J. Eckhart</cp:lastModifiedBy>
  <dcterms:modified xsi:type="dcterms:W3CDTF">2003-09-16T17:29:12Z</dcterms:modified>
  <cp:revision>6</cp:revision>
  <dc:subject/>
  <dc:title>I. The rest of the Amendments</dc:title>
</cp:coreProperties>
</file>