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459-1825-41F6-ABA6-EA08590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206-1ED1-416C-ADE9-9664C90D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CF2-17D3-46F8-81C8-7BC32630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F72-8548-403B-A45B-A12789F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9525-7E77-469C-BFF6-2FD2B13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059-FD27-4410-948E-CCD92A0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A96D-0474-47BA-AED2-B61AE88F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BB56-6962-462E-B027-FD028E6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83FE-6825-439A-B030-8BBA4B0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9741-28DF-4CE8-B993-88EBB1DD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AB4-F01A-4D8A-884E-82526DE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1D9-A9F3-478F-884F-DA1C25B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EDB9-9A39-4B06-A795-8F322B5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B20-8CC2-4F79-9E00-7AF2406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B5E-E459-4DB9-8966-9512216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A364-3FDB-48B9-856A-BDB0E60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859-443A-4354-9857-0481B639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9A4-756D-43D8-A240-492D88DF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692-2D44-4DEE-901F-BB0FF96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E58-F912-41CD-ACD5-3F7C9CA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83-7E62-4F7F-BCD6-479C018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EE3-53CB-470C-9782-7C69521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085-548D-4467-A2EE-07FB1CD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F0B-70A7-469B-8BD0-9334203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875C-5295-49C8-B9B0-66A90D221C4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02A6-1805-4074-B4CD-653D3C45D50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rst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asic freedo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peech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relig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es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d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ssembl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e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etit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econd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ight to bear ar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t clear cut (p. 7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ourth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otects against unreasonable searc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-533520">
              <a:spcBef>
                <a:spcPts val="1100"/>
              </a:spcBef>
              <a:buClr>
                <a:srgbClr val="660066"/>
              </a:buClr>
              <a:buFont typeface="Impact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use search warra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371600" indent="-457200">
              <a:spcBef>
                <a:spcPts val="1001"/>
              </a:spcBef>
              <a:buClr>
                <a:srgbClr val="660066"/>
              </a:buClr>
              <a:buFont typeface="Impac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obable cau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f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nd jury – indictme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ouble jeopard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main silent – not incriminate yourself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have due process of la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ix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be told of the charg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peedy and public tri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question witnes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F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Eigh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asonable bail – not a guarante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 cruel and unusual punishme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33:02Z</dcterms:created>
  <dc:creator>Andrew J. Eckhart</dc:creator>
  <dc:description/>
  <dc:language>en-US</dc:language>
  <cp:lastModifiedBy>Andrew J. Eckhart</cp:lastModifiedBy>
  <dcterms:modified xsi:type="dcterms:W3CDTF">2003-09-08T14:01:57Z</dcterms:modified>
  <cp:revision>6</cp:revision>
  <dc:subject/>
  <dc:title>I. Bill of Rights</dc:title>
</cp:coreProperties>
</file>