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912-748A-4056-9F8C-ACC5B6E3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D26C-F6A7-4906-8A20-E5E46B42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C650-9266-4755-AD7F-2D0578E6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AB0-9B15-4B33-B015-428142D5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E430-3A3A-4FE4-9D1D-AAC708799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771C-D380-4A9F-89A1-F5066584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47B6E-72AA-4C2E-B107-695CB92B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3679-3611-41E3-9ED2-73318F7B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D190-74C3-4E6C-A413-30AD5570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D9844-BAD9-4121-9B2A-623A37E3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584D-0F6F-4169-A704-CCB3A83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6397-C6BE-43BA-96D8-3698865E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2FE3-12E6-4F7C-B7D0-7FD4C2A8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C29-59BA-453F-A3B7-DCBAE036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03F4-5805-45F8-8C7B-7D27D873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89C7-6733-44F2-AFA2-5F5DB026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02E3E-02FE-4142-A8DB-D2BA210D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B97-CE37-44DC-B807-E193108A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782-91A1-4E7A-8742-8556A961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99B-860A-4565-B219-724B6B9E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B6C-1F95-4D43-8794-DE2DC9C2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A829-4638-4F6C-BCD0-22A05025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5925-4DCB-430B-9CA7-83A81281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E8C-14C2-4419-8356-E0BC376D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EAEB-C36A-4617-A6E6-0D935886982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F26F-9FF2-4403-9F26-7C4E1F7172D7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  <a:ea typeface="Times New Roman"/>
              </a:rPr>
              <a:t>I.</a:t>
            </a:r>
            <a:r>
              <a:rPr b="0" lang="en-US" sz="6600" spc="-1" strike="noStrike">
                <a:solidFill>
                  <a:srgbClr val="ff00ff"/>
                </a:solidFill>
                <a:latin typeface="Impact"/>
                <a:ea typeface="Times New Roman"/>
              </a:rPr>
              <a:t>	</a:t>
            </a: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A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First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basic freedom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a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peech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b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religio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c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res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d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ssembl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e)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etitio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B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Second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ight to bear arm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ot clear cut (p. 78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C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Fourth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99072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rotects against unreasonable searc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990720" indent="-533520">
              <a:spcBef>
                <a:spcPts val="1100"/>
              </a:spcBef>
              <a:buClr>
                <a:srgbClr val="660066"/>
              </a:buClr>
              <a:buFont typeface="Impact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use search warran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371600" indent="-457200">
              <a:spcBef>
                <a:spcPts val="1001"/>
              </a:spcBef>
              <a:buClr>
                <a:srgbClr val="660066"/>
              </a:buClr>
              <a:buFont typeface="Impac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robable caus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D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Fifth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rand jury – indictmen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ouble jeopard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main silent – not incriminate yourself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4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have due process of law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E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Sixth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be told of the charg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peedy and public tria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3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question witness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ff"/>
                </a:solidFill>
                <a:latin typeface="Impact"/>
              </a:rPr>
              <a:t>Bill of Rights</a:t>
            </a:r>
            <a:endParaRPr b="0" lang="en-US" sz="6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F.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Eighth Amendmen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asonable bail – not a guarante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2.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o cruel and unusual punishmen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8:33:02Z</dcterms:created>
  <dc:creator>Andrew J. Eckhart</dc:creator>
  <dc:description/>
  <dc:language>en-US</dc:language>
  <cp:lastModifiedBy>Andrew J. Eckhart</cp:lastModifiedBy>
  <dcterms:modified xsi:type="dcterms:W3CDTF">2003-09-08T14:01:57Z</dcterms:modified>
  <cp:revision>6</cp:revision>
  <dc:subject/>
  <dc:title>I. Bill of Rights</dc:title>
</cp:coreProperties>
</file>