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58D-6995-4BA6-BF91-3972B19E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971-A5CE-4EB4-869B-0A6D2779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BFE-E2E0-443B-B8D5-B01A7FDF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505-74EC-4198-B981-FDDDA82E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4D6C-2434-4945-ABC4-8B1FFF42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844C-97E0-45A1-9977-94AE6937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C0A7-717D-4E5E-8759-32088EEB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5C7E-A903-44A7-ADEE-B92AD97A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BF32-E3BB-4C8E-87B1-2CB421A9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62FE-AC47-4609-8ED1-438DEB56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1289-F6CD-4F6C-A7FD-7D36ABC5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84E-40A7-4D78-A16C-057100D2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5CF9-5D52-40DD-8BA8-9A88D27A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09F8-60C1-444C-96E7-A36E9673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A129-F283-4F09-A916-CBA72104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8F9B-E865-41CD-A016-721EC8DC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8A99-548D-4B39-8EBE-24ED4E03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B0A-F792-48F5-8AFB-BC2D60A5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690-9FA3-45DA-93A4-D6D133F6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0E6-6D3D-4AB3-A6FB-C4C005A3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CFF-4FA2-4075-9FC4-4864DF3E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9A1-B0A2-41A3-9C79-8971A5A0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455-3A7D-4711-8562-1D1D0FF0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2E0-71FA-4C09-B2FB-040072D3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02EF-72AD-4B5B-9F50-2D08EE52E2D8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5AD0-8820-4718-BF37-EE797BCB95D7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  <a:ea typeface="Times New Roman"/>
              </a:rPr>
              <a:t>I.</a:t>
            </a:r>
            <a:r>
              <a:rPr b="0" lang="en-US" sz="66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A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First Amendmen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basic freedom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peech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b)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religion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c)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pres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d)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assembly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e)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petition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B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Second Amendmen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ight to bear arm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not clear cut (p. 78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C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Fourth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rotects against unreasonable search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990720" indent="-533520">
              <a:spcBef>
                <a:spcPts val="1100"/>
              </a:spcBef>
              <a:buClr>
                <a:srgbClr val="660066"/>
              </a:buClr>
              <a:buFont typeface="Impact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ust use search warran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1371600" indent="-457200">
              <a:spcBef>
                <a:spcPts val="1001"/>
              </a:spcBef>
              <a:buClr>
                <a:srgbClr val="660066"/>
              </a:buClr>
              <a:buFont typeface="Impac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Probable caus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D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Fifth Amendmen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grand jury – indictmen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double jeopard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3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emain silent – not incriminate yourself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4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ust have due process of law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E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Sixth Amendmen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ust be told of the charg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peedy and public tria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3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question witness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F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Eighth Amendmen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easonable bail – not a guarante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no cruel and unusual punishment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8:33:02Z</dcterms:created>
  <dc:creator>Andrew J. Eckhart</dc:creator>
  <dc:description/>
  <dc:language>en-US</dc:language>
  <cp:lastModifiedBy>Andrew J. Eckhart</cp:lastModifiedBy>
  <dcterms:modified xsi:type="dcterms:W3CDTF">2003-09-08T14:01:57Z</dcterms:modified>
  <cp:revision>6</cp:revision>
  <dc:subject/>
  <dc:title>I. Bill of Rights</dc:title>
</cp:coreProperties>
</file>