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B3BFDB-7FD3-41F0-944D-8CCF4DFAB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01BBE3-D816-4752-A432-C1B6A52A7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04EF88-97D9-4A11-B74B-8725FA7F5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9A810E-4461-430B-9B43-CF55EEA4C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F5797-4201-4FBB-9397-047A6C329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D0D50-B706-42BB-B5B6-E35575BFF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78000-B856-4D84-83AA-87272E5AD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5C1F8-A03B-453F-918E-34F5060EC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1C8E4-8D49-4A36-B6E1-85BA6852B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B7CDE-37BE-40E7-AACB-D074B0228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2953A-58F3-415B-9079-4C6F3E82E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29BC00-86D1-4C70-A612-11E2DA26B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14011-D041-4751-B751-FE35E7348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2189A-C324-4E88-8326-3C0315F56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D4915-22C1-448E-BB87-5B0DC07AD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F450F-FA8A-4483-A16B-2FF8DD147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611CF-9D32-47CA-9BF3-67CF0BEEF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E4CA1E-39CB-4679-BCDD-4E585A49A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94E5E7-5ED8-4510-8EE9-EAC07D4DA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FA7912-B7BA-46B4-9701-C1654E9FF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B88B29-C2D3-400C-81D5-B1CFD24BE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79D380-9045-4223-8CB0-7C5A0F7B4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FB64B2-09D6-42B9-B3D2-9CF078998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36FBA0-4B3B-4A1A-8A86-A6FD0EABE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3BFF7-E37E-413D-85CD-BE9952F00FA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7" name="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EB66C-F8FC-407C-B7F0-87A16160D9C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63" name="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300" spc="-1" strike="noStrike">
                <a:solidFill>
                  <a:srgbClr val="ffffff"/>
                </a:solidFill>
                <a:latin typeface="Arial"/>
              </a:rPr>
              <a:t>Sequencing</a:t>
            </a:r>
            <a:endParaRPr b="0" lang="en-US" sz="6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676520" y="1981080"/>
            <a:ext cx="4495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5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Groups are given a list of step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5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Each student must read aloud their step (s) to the group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6095880" y="2819520"/>
            <a:ext cx="2838600" cy="26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300" spc="-1" strike="noStrike">
                <a:solidFill>
                  <a:srgbClr val="ffffff"/>
                </a:solidFill>
                <a:latin typeface="Arial"/>
              </a:rPr>
              <a:t>Sequencing</a:t>
            </a:r>
            <a:endParaRPr b="0" lang="en-US" sz="6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tudents must never show their step to team mat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Groups must place the steps in the correct sequenc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17T22:57:48Z</dcterms:created>
  <dc:creator>Andrew J. Eckhart</dc:creator>
  <dc:description/>
  <dc:language>en-US</dc:language>
  <cp:lastModifiedBy>Andrew J. Eckhart</cp:lastModifiedBy>
  <dcterms:modified xsi:type="dcterms:W3CDTF">2004-08-12T04:03:23Z</dcterms:modified>
  <cp:revision>4</cp:revision>
  <dc:subject/>
  <dc:title>Sequencing</dc:title>
</cp:coreProperties>
</file>