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5960-8AB8-408D-BE09-8AC90791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E6CD-2C1F-404B-A127-2A681305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BBE2-86BE-4C8F-AC5C-2CBDC5CF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DDA9-6F44-4DD0-AEDF-00871631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5206-105F-4CE6-8AF1-2E6CAC2E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6BF4-58EF-4D19-B979-BD1D437C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7D76-D1E5-438E-9ABE-DF2D583B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1502-65B1-484B-B2C3-E94EE133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AA3D-D719-43BE-8C7C-0480B109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F91C-0EFF-428B-BF53-1FBA8237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117C-E80A-4FAE-9081-8F6462D6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613E4-815A-4BF6-865C-CC765E5E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34A9-32D0-44C4-B009-17FC0937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A172-2D63-491D-A7BA-FEDF1D0E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197F-892C-4A71-8846-1FBCF687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80F3-C8E0-43C6-BCEC-F425E079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FD2E-85BB-48C8-A73D-77A625B0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EFB2-F218-4405-80F3-3775DC06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1C44E-2E7C-42D8-9837-5D33CF4E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CF25-458C-4CEA-8B69-FC8D8D36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C785-C74D-4585-B0C3-AC4B699F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F0ED-54CE-4926-AC4C-2216EB37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DE05-3928-4351-9AD3-ED0016FE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25DC-6670-446A-B0D6-48F6A80F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CC81-6916-4C6E-B01B-96F4127697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2C34-B95C-4501-94C2-1A13D29B15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Sequencing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ups are given a list of step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ach student must read aloud their step (s) to the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5880" y="2819520"/>
            <a:ext cx="2838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Sequencing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udents must never show their step to team m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roups must place the steps in the correct seque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57:48Z</dcterms:created>
  <dc:creator>Andrew J. Eckhart</dc:creator>
  <dc:description/>
  <dc:language>en-US</dc:language>
  <cp:lastModifiedBy>Andrew J. Eckhart</cp:lastModifiedBy>
  <dcterms:modified xsi:type="dcterms:W3CDTF">2004-08-12T04:03:23Z</dcterms:modified>
  <cp:revision>4</cp:revision>
  <dc:subject/>
  <dc:title>Sequencing</dc:title>
</cp:coreProperties>
</file>