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2899E-628A-42C2-A68F-FC1783CA4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A357A-0FE4-4A4F-8B8E-EB02482A0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D910A-3231-4D06-A1F1-A8AA9F01D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941D5-9276-48C0-BD48-3C61FF77E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8F590-6BBA-4EEE-9E52-52B7A9644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5B190-F51F-4E7C-9A8F-E0024B6E5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AAC56-E190-4B81-8E5A-A1AD14EE5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B7528-E7A0-4194-BC34-A155429EA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D920B-3AC8-434D-AD01-F14163CB1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48C29-F21E-4944-AE4C-30077EBFD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87069-13D2-49A6-97CA-F560AD4F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CFBC3-1E8E-426D-8CC3-F98AF0268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444E8-0A95-4EA0-8AA2-2BEFB05C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FF2B7-2FFC-4A08-9C9E-7D3ADBEC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AC2A7-DEF4-41AA-9BFB-435867F62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27A70-CE69-474A-B88D-0123F615B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843FA-9762-4513-BB38-1EAE867A1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AE81F-B5A1-447F-BD33-54E57DB0B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892A9-B46E-46B9-AF67-94D9E0C53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63D2C-9FF5-41AB-8279-6F33C06BB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E1B1D-1576-4655-8856-E26FC13BC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552B8-B950-465F-B362-E0D8F579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62527-EE40-4AAF-BC7B-01F59898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C5E01-991A-4C9F-889B-4F08480B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1AE79-31FD-4C5C-9D4E-C1D8522F4A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3B4C6-8CC9-45A0-A0E3-9AD1B2638A0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ffffff"/>
                </a:solidFill>
                <a:latin typeface="Arial"/>
              </a:rPr>
              <a:t>Sequencing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roups are given a list of step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Each student must read aloud their step (s) to the group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095880" y="2819520"/>
            <a:ext cx="283860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ffffff"/>
                </a:solidFill>
                <a:latin typeface="Arial"/>
              </a:rPr>
              <a:t>Sequencing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udents must never show their step to team mat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Groups must place the steps in the correct sequenc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7T22:57:48Z</dcterms:created>
  <dc:creator>Andrew J. Eckhart</dc:creator>
  <dc:description/>
  <dc:language>en-US</dc:language>
  <cp:lastModifiedBy>Andrew J. Eckhart</cp:lastModifiedBy>
  <dcterms:modified xsi:type="dcterms:W3CDTF">2004-08-12T04:03:23Z</dcterms:modified>
  <cp:revision>4</cp:revision>
  <dc:subject/>
  <dc:title>Sequencing</dc:title>
</cp:coreProperties>
</file>