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F20-71AB-46AB-9974-32158822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471-178D-492C-94D4-498A3BB7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501-527C-41A2-A46B-0E5B8278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2A8-5777-49BE-A4DA-B9098984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D98-958B-46B1-BCDE-CA5FD277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215-5494-4BFA-B3E8-D3B9EE80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473-8F86-44E6-8807-E97AF2B7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DDB-3F6F-4876-ADA7-549FA306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7AD-4033-4732-B586-95C2D624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443-63EC-4017-B67B-E13AB234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942-7B6B-4DDE-8E47-DB2EAF7F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9F2-08F1-45BA-A333-01C9319F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8353-C1F8-4492-90A6-1417897FA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47640" y="2133720"/>
            <a:ext cx="1872000" cy="936360"/>
          </a:xfrm>
          <a:prstGeom prst="wedgeRoundRectCallout">
            <a:avLst>
              <a:gd name="adj1" fmla="val 21925"/>
              <a:gd name="adj2" fmla="val -8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PESTANYA FIL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2492280"/>
            <a:ext cx="2663640" cy="1511280"/>
          </a:xfrm>
          <a:prstGeom prst="wedgeRoundRectCallout">
            <a:avLst>
              <a:gd name="adj1" fmla="val 17879"/>
              <a:gd name="adj2" fmla="val -120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RE EL CORREU ELECTRÒNIC QUE VOLEM ETIQUETAR A LA SAFATA D’ENTRADA I DE COPIAR A LA CARPETA PERSONALIT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2708280"/>
            <a:ext cx="2159280" cy="1297080"/>
          </a:xfrm>
          <a:prstGeom prst="wedgeRoundRectCallout">
            <a:avLst>
              <a:gd name="adj1" fmla="val 52939"/>
              <a:gd name="adj2" fmla="val -1097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PLEGAR FINESTRA I ESCOLLIR CORREU QUE VOLEM FILT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924280"/>
            <a:ext cx="1547640" cy="1296720"/>
          </a:xfrm>
          <a:prstGeom prst="wedgeRoundRectCallout">
            <a:avLst>
              <a:gd name="adj1" fmla="val 87847"/>
              <a:gd name="adj2" fmla="val -128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AR UNICAMENT AQUESTA CAS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050920" y="1267560"/>
            <a:ext cx="216000" cy="129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4149720"/>
            <a:ext cx="1584360" cy="1584360"/>
          </a:xfrm>
          <a:prstGeom prst="wedgeRoundRectCallout">
            <a:avLst>
              <a:gd name="adj1" fmla="val 34370"/>
              <a:gd name="adj2" fmla="val -1418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ACTUALITZA EL FIL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13:10Z</dcterms:created>
  <dc:creator>paco_m</dc:creator>
  <dc:description/>
  <dc:language>en-US</dc:language>
  <cp:lastModifiedBy>paco_m</cp:lastModifiedBy>
  <dcterms:modified xsi:type="dcterms:W3CDTF">2009-11-21T22:14:10Z</dcterms:modified>
  <cp:revision>3</cp:revision>
  <dc:subject/>
  <dc:title>Diapositiva 1</dc:title>
</cp:coreProperties>
</file>