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FFD-314D-4FE4-A91D-ADF77CA7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F6E-AF1F-4770-AC74-AE3B2684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5CA-DF16-4D6A-91FF-2DEE8B23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95D-4739-433C-BD1A-826733DF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B4E-4EBC-44B2-A4A2-C0531516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9E2-0254-470B-A1E1-5C952D7A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AE8-EF61-4687-BFA3-DD34EC9E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DC9-9D68-4565-987F-66869092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2D7-238E-47D1-87B9-750828E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31D-EC81-4B85-B906-9D2F50D5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956-C84F-4D15-9D8F-6F38BA6A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121-D962-414C-925F-26284BBA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1630-2834-4F31-BFCD-BB6742F32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47640" y="2133720"/>
            <a:ext cx="1872000" cy="936360"/>
          </a:xfrm>
          <a:prstGeom prst="wedgeRoundRectCallout">
            <a:avLst>
              <a:gd name="adj1" fmla="val 21925"/>
              <a:gd name="adj2" fmla="val -8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PESTANYA FIL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2492280"/>
            <a:ext cx="2663640" cy="1511280"/>
          </a:xfrm>
          <a:prstGeom prst="wedgeRoundRectCallout">
            <a:avLst>
              <a:gd name="adj1" fmla="val 17879"/>
              <a:gd name="adj2" fmla="val -120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RE EL CORREU ELECTRÒNIC QUE VOLEM ETIQUETAR A LA SAFATA D’ENTRADA I DE COPIAR A LA CARPETA PERSONALIT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2708280"/>
            <a:ext cx="2159280" cy="1297080"/>
          </a:xfrm>
          <a:prstGeom prst="wedgeRoundRectCallout">
            <a:avLst>
              <a:gd name="adj1" fmla="val 52939"/>
              <a:gd name="adj2" fmla="val -1097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PLEGAR FINESTRA I ESCOLLIR CORREU QUE VOLEM FILT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924280"/>
            <a:ext cx="1547640" cy="1296720"/>
          </a:xfrm>
          <a:prstGeom prst="wedgeRoundRectCallout">
            <a:avLst>
              <a:gd name="adj1" fmla="val 87847"/>
              <a:gd name="adj2" fmla="val -128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AR UNICAMENT AQUESTA CAS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050920" y="1267560"/>
            <a:ext cx="216000" cy="129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4149720"/>
            <a:ext cx="1584360" cy="1584360"/>
          </a:xfrm>
          <a:prstGeom prst="wedgeRoundRectCallout">
            <a:avLst>
              <a:gd name="adj1" fmla="val 34370"/>
              <a:gd name="adj2" fmla="val -1418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ACTUALITZA EL FIL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13:10Z</dcterms:created>
  <dc:creator>paco_m</dc:creator>
  <dc:description/>
  <dc:language>en-US</dc:language>
  <cp:lastModifiedBy>paco_m</cp:lastModifiedBy>
  <dcterms:modified xsi:type="dcterms:W3CDTF">2009-11-21T22:14:10Z</dcterms:modified>
  <cp:revision>3</cp:revision>
  <dc:subject/>
  <dc:title>Diapositiva 1</dc:title>
</cp:coreProperties>
</file>