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4F0F-34AE-45A0-9FD4-EADD1359B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BFFC-B7B7-48B9-9FB3-BDB32E741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025C-905B-41C5-82F9-0B41802E3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78AE-3BC3-4CA8-90C6-8FA535BC4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E6CD-A3DE-43C4-B1EC-EC0F2B815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C967-A1F9-4EC2-A73B-6E02FBF01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A736-A7A8-421E-BA56-23B7212D6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F214-818B-4589-B39A-571185404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D6EC-5190-4AB9-9817-0791D11ED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6FBA-BEDE-4B0C-B3A4-00E28555A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94C9-1749-4025-A1F0-A1C53955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C463-530A-4C5B-8A76-F1F6B828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E86E5-F166-4057-B16E-B8EE4E89B5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1557360"/>
            <a:ext cx="8964720" cy="5300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989000"/>
            <a:ext cx="1871640" cy="936720"/>
          </a:xfrm>
          <a:prstGeom prst="wedgeRoundRectCallout">
            <a:avLst>
              <a:gd name="adj1" fmla="val 70782"/>
              <a:gd name="adj2" fmla="val -20728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AR SOBRE EL BO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FIGURACI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101080" y="333360"/>
            <a:ext cx="50328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56000" y="3357720"/>
            <a:ext cx="4248000" cy="180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ENTRA AL TEU COMPTE DE </a:t>
            </a:r>
            <a:r>
              <a:rPr b="1" lang="ca-ES" sz="1800" spc="-1" strike="noStrike">
                <a:solidFill>
                  <a:srgbClr val="000000"/>
                </a:solidFill>
                <a:latin typeface="Arial"/>
              </a:rPr>
              <a:t>CORREU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000000"/>
                </a:solidFill>
                <a:latin typeface="Arial"/>
              </a:rPr>
              <a:t>GMAIL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 AL QUAL VOLS IMPORT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ALTRE CORREU (COM XTEC O 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CORREU IES PAU CLAR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908000" y="0"/>
            <a:ext cx="6264360" cy="12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RA AL TEU COMPTE 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RE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ES PAU CLAR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 MIRA LA SAFA D’ENT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 HAURÀ UN NOU MISSAT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00360" y="1484280"/>
            <a:ext cx="2411280" cy="649440"/>
          </a:xfrm>
          <a:prstGeom prst="wedgeRoundRectCallout">
            <a:avLst>
              <a:gd name="adj1" fmla="val -62902"/>
              <a:gd name="adj2" fmla="val 6393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ÒPIA AQUEST CO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133720"/>
            <a:ext cx="50328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987640" y="4508640"/>
            <a:ext cx="295272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0920" y="4581360"/>
            <a:ext cx="2411280" cy="649440"/>
          </a:xfrm>
          <a:prstGeom prst="wedgeRoundRectCallout">
            <a:avLst>
              <a:gd name="adj1" fmla="val 16953"/>
              <a:gd name="adj2" fmla="val -48349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GA EL CODI COPI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03640" y="2421000"/>
            <a:ext cx="2411280" cy="1224000"/>
          </a:xfrm>
          <a:prstGeom prst="wedgeRoundRectCallout">
            <a:avLst>
              <a:gd name="adj1" fmla="val -79888"/>
              <a:gd name="adj2" fmla="val -11329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A AQUEST BOTÓ PER ACAB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916360" y="3933720"/>
            <a:ext cx="3600360" cy="503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16720" y="4941720"/>
            <a:ext cx="2411280" cy="1224000"/>
          </a:xfrm>
          <a:prstGeom prst="wedgeRoundRectCallout">
            <a:avLst>
              <a:gd name="adj1" fmla="val -97796"/>
              <a:gd name="adj2" fmla="val -10162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CULL UNA OPCIÓ D’ADREÇA DE CORREU PER ENVIAR PER DEFEC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867280" y="2205000"/>
            <a:ext cx="3025800" cy="1511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372360" y="765000"/>
            <a:ext cx="2411280" cy="1224000"/>
          </a:xfrm>
          <a:prstGeom prst="wedgeRoundRectCallout">
            <a:avLst>
              <a:gd name="adj1" fmla="val -10236"/>
              <a:gd name="adj2" fmla="val 8592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 TORNAR A EDITAR, CONVERTIR EN CORREU PREDETERMINAT O SUPRIM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EU IMPORTAR PEL MATEIX PROCEDIMENT EL COMPTE D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REU DE XTE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 GUANYAREU MOLT EN ESTABILITAT, RAPIDESA I FIABILIT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700280"/>
            <a:ext cx="2411280" cy="1008000"/>
          </a:xfrm>
          <a:prstGeom prst="wedgeRoundRectCallout">
            <a:avLst>
              <a:gd name="adj1" fmla="val 36703"/>
              <a:gd name="adj2" fmla="val -8653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CIONAR LA PESTANYA COMPTES I IMPORTACI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3860640"/>
            <a:ext cx="2411640" cy="1152720"/>
          </a:xfrm>
          <a:prstGeom prst="wedgeRoundRectCallout">
            <a:avLst>
              <a:gd name="adj1" fmla="val 6222"/>
              <a:gd name="adj2" fmla="val 7135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A SOBRE AQUEST BOTÓ PER AFEGIR UN COMPTE DE CORREU ELECTRÒN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916360" y="1916280"/>
            <a:ext cx="3168360" cy="129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24000" y="2492280"/>
            <a:ext cx="2663640" cy="1511280"/>
          </a:xfrm>
          <a:prstGeom prst="wedgeRoundRectCallout">
            <a:avLst>
              <a:gd name="adj1" fmla="val 17879"/>
              <a:gd name="adj2" fmla="val -12090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CRIURE EL CORREU ELECTRÒNIC QUE VOLEM ETIQUETAR A LA SAFATA D’ENTRADA I DE COPIAR A LA CARPETA PERSONALITZ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148360" y="260280"/>
            <a:ext cx="2520720" cy="1224000"/>
          </a:xfrm>
          <a:prstGeom prst="wedgeRoundRectCallout">
            <a:avLst>
              <a:gd name="adj1" fmla="val -177708"/>
              <a:gd name="adj2" fmla="val 3080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PER IMPORTAR EL COMPTE DE CORREU iespauclaris.org, ESCRIU AL CAMP NOM D’USUARI EL TEU EMAIL DE L’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51280" y="1628640"/>
            <a:ext cx="2521080" cy="1081080"/>
          </a:xfrm>
          <a:prstGeom prst="wedgeRoundRectCallout">
            <a:avLst>
              <a:gd name="adj1" fmla="val -127768"/>
              <a:gd name="adj2" fmla="val -5499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CRIU AQUESTES DADES AL CAMP SERVIDOR P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51280" y="2781360"/>
            <a:ext cx="2521080" cy="1081080"/>
          </a:xfrm>
          <a:prstGeom prst="wedgeRoundRectCallout">
            <a:avLst>
              <a:gd name="adj1" fmla="val -75250"/>
              <a:gd name="adj2" fmla="val -11607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CULL EL TEU PROPI CORREU 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1628640"/>
            <a:ext cx="215640" cy="79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2924280"/>
            <a:ext cx="1476360" cy="1296720"/>
          </a:xfrm>
          <a:prstGeom prst="wedgeRoundRectCallout">
            <a:avLst>
              <a:gd name="adj1" fmla="val -324"/>
              <a:gd name="adj2" fmla="val -11866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CAR UNICAMENT AQUESTA CASEL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95640" y="3860640"/>
            <a:ext cx="1584360" cy="1513080"/>
          </a:xfrm>
          <a:prstGeom prst="wedgeRoundRectCallout">
            <a:avLst>
              <a:gd name="adj1" fmla="val -50902"/>
              <a:gd name="adj2" fmla="val -13929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 ÚLTIM CLICAR SOBRE EL BOTÓ DESA ELS CANV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516720" y="2349360"/>
            <a:ext cx="2411280" cy="1224000"/>
          </a:xfrm>
          <a:prstGeom prst="wedgeRoundRectCallout">
            <a:avLst>
              <a:gd name="adj1" fmla="val 12740"/>
              <a:gd name="adj2" fmla="val 10823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 TORNAR A EDITAR O SUPRIM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596360" y="4292640"/>
            <a:ext cx="1152360" cy="1584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700360" y="0"/>
            <a:ext cx="4535640" cy="981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RA AL TEU COMPTE DE CORR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ESPAUCLAR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101080" y="333360"/>
            <a:ext cx="50328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700280"/>
            <a:ext cx="2411280" cy="1008000"/>
          </a:xfrm>
          <a:prstGeom prst="wedgeRoundRectCallout">
            <a:avLst>
              <a:gd name="adj1" fmla="val 67773"/>
              <a:gd name="adj2" fmla="val -8354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CIONAR LA PESTANYA REENVIAMENT I POP/IM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1484280"/>
            <a:ext cx="100800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333360"/>
            <a:ext cx="2411280" cy="1008000"/>
          </a:xfrm>
          <a:prstGeom prst="wedgeRoundRectCallout">
            <a:avLst>
              <a:gd name="adj1" fmla="val 125115"/>
              <a:gd name="adj2" fmla="val 6669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CIONA AQUESTA OPCIÓ, ESCRIU EN EL CAMP BUIT LA TEVA ADREÇA GMAI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372360" y="3213000"/>
            <a:ext cx="2411280" cy="1295640"/>
          </a:xfrm>
          <a:prstGeom prst="wedgeRoundRectCallout">
            <a:avLst>
              <a:gd name="adj1" fmla="val -11685"/>
              <a:gd name="adj2" fmla="val -14522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ESCULL UNA OPCIÓ PER DEIXAR O NO COPIA DEL CORREU AL COMPTE DE L’IES PAU CLA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273640"/>
            <a:ext cx="1584360" cy="1584360"/>
          </a:xfrm>
          <a:prstGeom prst="wedgeRoundRectCallout">
            <a:avLst>
              <a:gd name="adj1" fmla="val 234467"/>
              <a:gd name="adj2" fmla="val -6332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 ÚLTIM CLICAR SOBRE EL BOTÓ DESA ELS CANV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59280" y="1989000"/>
            <a:ext cx="1008000" cy="144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16360" y="3141720"/>
            <a:ext cx="1008000" cy="144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357720"/>
            <a:ext cx="2411280" cy="1008000"/>
          </a:xfrm>
          <a:prstGeom prst="wedgeRoundRectCallout">
            <a:avLst>
              <a:gd name="adj1" fmla="val 75476"/>
              <a:gd name="adj2" fmla="val -17330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BILITA EL CORREU POP I EL SERVEI IM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1557360"/>
            <a:ext cx="8964720" cy="5300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12000" y="1989000"/>
            <a:ext cx="1871640" cy="936720"/>
          </a:xfrm>
          <a:prstGeom prst="wedgeRoundRectCallout">
            <a:avLst>
              <a:gd name="adj1" fmla="val 70782"/>
              <a:gd name="adj2" fmla="val -20728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AR SOBRE EL BO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FIGURACI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101080" y="333360"/>
            <a:ext cx="50328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56000" y="3357720"/>
            <a:ext cx="4248000" cy="180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VOLS TAMBÉ PODER ENVI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REUS 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UARI IESPAUCLARIS REALITZ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 SEGÜENTS PASOS EN LA TE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TE DE G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1700280"/>
            <a:ext cx="2411280" cy="1008000"/>
          </a:xfrm>
          <a:prstGeom prst="wedgeRoundRectCallout">
            <a:avLst>
              <a:gd name="adj1" fmla="val 36703"/>
              <a:gd name="adj2" fmla="val -8653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CIONAR LA PESTANYA COMPTES I IMPORTACI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843280" y="1773360"/>
            <a:ext cx="2411280" cy="1152360"/>
          </a:xfrm>
          <a:prstGeom prst="wedgeRoundRectCallout">
            <a:avLst>
              <a:gd name="adj1" fmla="val -22481"/>
              <a:gd name="adj2" fmla="val 6212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A SOBRE AQUEST BOTÓ PER AFEGIR UN COMPTE DE CORREU ELECTRÒN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3860640"/>
            <a:ext cx="3168720" cy="129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771640" y="4365720"/>
            <a:ext cx="316872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564000" y="981000"/>
            <a:ext cx="2411280" cy="1152720"/>
          </a:xfrm>
          <a:prstGeom prst="wedgeRoundRectCallout">
            <a:avLst>
              <a:gd name="adj1" fmla="val -120504"/>
              <a:gd name="adj2" fmla="val -4435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A EL NOM QUE VOLS DONAR AL COMPTE DE CORREU EN AQUEST CA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08360" y="2349360"/>
            <a:ext cx="2411280" cy="1152720"/>
          </a:xfrm>
          <a:prstGeom prst="wedgeRoundRectCallout">
            <a:avLst>
              <a:gd name="adj1" fmla="val -117546"/>
              <a:gd name="adj2" fmla="val -14435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A EL COMPTE DE CORREU QUE VOLS PODER UTILITZAR PER ENVIAR CORREU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4508640"/>
            <a:ext cx="2411280" cy="649080"/>
          </a:xfrm>
          <a:prstGeom prst="wedgeRoundRectCallout">
            <a:avLst>
              <a:gd name="adj1" fmla="val 5893"/>
              <a:gd name="adj2" fmla="val -46002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A AQUEST BOTÓ PER CONTINU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11280" y="4508640"/>
            <a:ext cx="2411280" cy="649080"/>
          </a:xfrm>
          <a:prstGeom prst="wedgeRoundRectCallout">
            <a:avLst>
              <a:gd name="adj1" fmla="val 5893"/>
              <a:gd name="adj2" fmla="val -46002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A AQUEST BOTÓ PER CONTINU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59280" y="2276640"/>
            <a:ext cx="2952720" cy="3457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-73080" y="0"/>
            <a:ext cx="9217080" cy="57610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24000" y="4005360"/>
            <a:ext cx="2411280" cy="649080"/>
          </a:xfrm>
          <a:prstGeom prst="wedgeRoundRectCallout">
            <a:avLst>
              <a:gd name="adj1" fmla="val 23796"/>
              <a:gd name="adj2" fmla="val -44902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A AQUEST BOTÓ PER CONTINU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16360" y="1989000"/>
            <a:ext cx="2952720" cy="302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0T19:13:10Z</dcterms:created>
  <dc:creator>paco_m</dc:creator>
  <dc:description/>
  <dc:language>en-US</dc:language>
  <cp:lastModifiedBy>paco_m</cp:lastModifiedBy>
  <dcterms:modified xsi:type="dcterms:W3CDTF">2009-11-20T23:51:04Z</dcterms:modified>
  <cp:revision>10</cp:revision>
  <dc:subject/>
  <dc:title>Diapositiva 1</dc:title>
</cp:coreProperties>
</file>