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6201-5ADF-4E7B-B807-D14A1E199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8C52-25FF-425A-A792-22B9A34DA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C5EF-948F-4A46-8D95-7D4DACF5B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2E65-423A-447A-A6E0-6EBF80162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53D5-61B3-4F17-A73C-453F81C4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EF66-EAFF-4811-9BBD-DEFDDE225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7CC7-9470-497C-873D-4208D6F0C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C48A-E58B-4C5B-9AE6-D80FF61AC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1B98-3F50-4439-9449-E2A81A3F2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8603-E709-4F05-A1E7-00F0E7F5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58E9-95EF-43BF-A26C-92991380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DBCF-B7BF-4B70-9F36-E7BD1FC8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81380-B7C1-4CD3-B9FA-3EAB405B9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572000" y="1773360"/>
            <a:ext cx="4176720" cy="1079280"/>
          </a:xfrm>
          <a:prstGeom prst="wedgeRoundRectCallout">
            <a:avLst>
              <a:gd name="adj1" fmla="val -126018"/>
              <a:gd name="adj2" fmla="val -779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POSSAR COM NOM D’USUARI EL VOSTRE PROPI CORREU (SENSE L’EXTENSIÓ @iespauclaris.org), per exe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ff0000"/>
                </a:solidFill>
                <a:latin typeface="Arial"/>
              </a:rPr>
              <a:t>francesc.maldo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140360" y="3357720"/>
            <a:ext cx="4176720" cy="1366560"/>
          </a:xfrm>
          <a:prstGeom prst="wedgeRoundRectCallout">
            <a:avLst>
              <a:gd name="adj1" fmla="val -116930"/>
              <a:gd name="adj2" fmla="val -10702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AR COM CONTRASENYA EL NOM D’USUARI DEL DOMINI SI NO HEU ENTRAT MAI I SI HEU ENTRAT ALGGUNA VEGADA POSSEU LA CONTRASENYA QUE HEU CREAT (ES RECOMANA QUE SIGUI LA MATEIXA QUE LA DEL DOMI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132000" y="4005360"/>
            <a:ext cx="4176720" cy="718920"/>
          </a:xfrm>
          <a:prstGeom prst="wedgeRoundRectCallout">
            <a:avLst>
              <a:gd name="adj1" fmla="val -97930"/>
              <a:gd name="adj2" fmla="val -19900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LIQUEU AL BOTÓ INICIEU LA SESS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1700280"/>
            <a:ext cx="1368360" cy="1584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1197000"/>
            <a:ext cx="183528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88000" y="1197000"/>
            <a:ext cx="255600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24360" y="2205000"/>
            <a:ext cx="4176720" cy="1655640"/>
          </a:xfrm>
          <a:prstGeom prst="wedgeRoundRectCallout">
            <a:avLst>
              <a:gd name="adj1" fmla="val -116930"/>
              <a:gd name="adj2" fmla="val -9707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PER CANVIAR A ALTRES PARTS DE L’APLICACIÓ GOOGLE APP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CALEND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DO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SI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M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23:44:38Z</dcterms:created>
  <dc:creator>paco_m</dc:creator>
  <dc:description/>
  <dc:language>en-US</dc:language>
  <cp:lastModifiedBy>paco_m</cp:lastModifiedBy>
  <dcterms:modified xsi:type="dcterms:W3CDTF">2010-01-27T00:08:27Z</dcterms:modified>
  <cp:revision>3</cp:revision>
  <dc:subject/>
  <dc:title>Diapositiva 1</dc:title>
</cp:coreProperties>
</file>