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D51-862E-4E9D-A1C4-81EB44D6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8E7-9ED9-4D32-8440-8571CF5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B8B-AB20-4931-97D9-514643C7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11A-7A96-4A18-A3B1-24343F39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586-39B3-489C-91BF-F9D27F4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2B3-F99D-44C0-A1C9-8749A8B3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D13-2F4D-480B-8A86-E152437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880-F4FD-4643-9CF6-C57FE9A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F10-FC73-4837-9602-6D0F138C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7C5-B042-480F-B49E-8A0003D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E20-2303-4E37-AECF-8A3EAC6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4DD-D9A4-41B0-8C6F-EF66C7C3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04D-4508-41B7-A596-2CA32015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1773360"/>
            <a:ext cx="4176720" cy="1079280"/>
          </a:xfrm>
          <a:prstGeom prst="wedgeRoundRectCallout">
            <a:avLst>
              <a:gd name="adj1" fmla="val -126018"/>
              <a:gd name="adj2" fmla="val -7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SAR COM NOM D’USUARI EL VOSTRE PROPI CORREU (SENSE L’EXTENSIÓ @iespauclaris.org), per exe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Arial"/>
              </a:rPr>
              <a:t>francesc.mald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57720"/>
            <a:ext cx="4176720" cy="1366560"/>
          </a:xfrm>
          <a:prstGeom prst="wedgeRoundRectCallout">
            <a:avLst>
              <a:gd name="adj1" fmla="val -116930"/>
              <a:gd name="adj2" fmla="val -107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AR COM CONTRASENYA EL NOM D’USUARI DEL DOMINI SI NO HEU ENTRAT MAI I SI HEU ENTRAT ALGGUNA VEGADA POSSEU LA CONTRASENYA QUE HEU CREAT (ES RECOMANA QUE SIGUI LA MATEIXA QUE LA DEL DOM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4005360"/>
            <a:ext cx="4176720" cy="718920"/>
          </a:xfrm>
          <a:prstGeom prst="wedgeRoundRectCallout">
            <a:avLst>
              <a:gd name="adj1" fmla="val -97930"/>
              <a:gd name="adj2" fmla="val -1990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QUEU AL BOTÓ INICIEU LA SESS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700280"/>
            <a:ext cx="1368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97000"/>
            <a:ext cx="183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197000"/>
            <a:ext cx="2556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4176720" cy="1655640"/>
          </a:xfrm>
          <a:prstGeom prst="wedgeRoundRectCallout">
            <a:avLst>
              <a:gd name="adj1" fmla="val -116930"/>
              <a:gd name="adj2" fmla="val -97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CANVIAR A ALTRES PARTS DE L’APLICACIÓ GOOGLE AP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08:27Z</dcterms:modified>
  <cp:revision>3</cp:revision>
  <dc:subject/>
  <dc:title>Diapositiva 1</dc:title>
</cp:coreProperties>
</file>