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E9DB-D71B-430A-B6C6-0C7714ED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5B2-E573-4856-994B-70487EF2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2DE-97E1-4872-AF86-7FB19CFF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799-15D4-4B03-B33D-6396CB41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B2B8-C643-4FD8-897F-18E2C064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D2AD-F04F-421B-A4B0-21EACC29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1E2-E124-479C-9F25-10EA3521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D1D-5D8B-434D-A34C-C2836E60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3AAA-47D2-4EF3-A69C-DC6B4153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4CB3-C93D-41DB-94E2-D4F8D686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7AB9-BF36-4C52-8681-07B14586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FA6-F1D4-4D39-B51A-C17D6F42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C5B9-D23F-4EAF-8A2B-B33CEAF2A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1125360"/>
            <a:ext cx="36036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2205000"/>
            <a:ext cx="3168720" cy="432000"/>
          </a:xfrm>
          <a:prstGeom prst="wedgeRoundRectCallout">
            <a:avLst>
              <a:gd name="adj1" fmla="val -142736"/>
              <a:gd name="adj2" fmla="val -23051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OLLIR L’OPCIÓ DO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51280" y="2205000"/>
            <a:ext cx="3168720" cy="647640"/>
          </a:xfrm>
          <a:prstGeom prst="wedgeRoundRectCallout">
            <a:avLst>
              <a:gd name="adj1" fmla="val -142435"/>
              <a:gd name="adj2" fmla="val 8627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PUJAR UN DOCUMENT AL 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2924280"/>
            <a:ext cx="36036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3284640"/>
            <a:ext cx="1081080" cy="86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48360" y="2852640"/>
            <a:ext cx="3168720" cy="647640"/>
          </a:xfrm>
          <a:prstGeom prst="wedgeRoundRectCallout">
            <a:avLst>
              <a:gd name="adj1" fmla="val -142435"/>
              <a:gd name="adj2" fmla="val 8627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COMPARTIR AMB PERSONES O GR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51280" y="1916280"/>
            <a:ext cx="3889440" cy="936360"/>
          </a:xfrm>
          <a:prstGeom prst="wedgeRoundRectCallout">
            <a:avLst>
              <a:gd name="adj1" fmla="val -109796"/>
              <a:gd name="adj2" fmla="val 20796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SELECCIONAR UN DOCUMENT O MÉS A LA CARPETA DEL 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3933720"/>
            <a:ext cx="39610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4653000"/>
            <a:ext cx="79236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5877000"/>
            <a:ext cx="3168720" cy="647640"/>
          </a:xfrm>
          <a:prstGeom prst="wedgeRoundRectCallout">
            <a:avLst>
              <a:gd name="adj1" fmla="val -32513"/>
              <a:gd name="adj2" fmla="val -19142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R PUJAR UN DOCUMENT AL 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3:44:38Z</dcterms:created>
  <dc:creator>paco_m</dc:creator>
  <dc:description/>
  <dc:language>en-US</dc:language>
  <cp:lastModifiedBy>paco_m</cp:lastModifiedBy>
  <dcterms:modified xsi:type="dcterms:W3CDTF">2010-01-27T01:05:36Z</dcterms:modified>
  <cp:revision>10</cp:revision>
  <dc:subject/>
  <dc:title>Diapositiva 1</dc:title>
</cp:coreProperties>
</file>