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EE5-EC31-4754-AE23-F3C5A4C9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2D3-3253-446F-B699-8CA243A2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4AE-0DC1-486A-98E7-5DA23849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8B1-5BDE-42FD-96E2-310B0E4A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267-4215-40AC-91DC-2D9535DD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271-31AC-448D-8016-5B2FB9A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DB1-CF0C-4D56-B759-EBEF08A6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CF4-43FA-4C0B-A816-DC11305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4D5-575C-477D-8AA5-32FD2258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4F0-272A-4985-B6D1-AE5B6929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C6E-CA84-423B-8CFB-5C2CE01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3B9-BE7C-4E96-880F-E47EDF5D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714-0F53-4258-9578-5DD306427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125360"/>
            <a:ext cx="360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2205000"/>
            <a:ext cx="316872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1280" y="220500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2428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284640"/>
            <a:ext cx="108108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85264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OMPARTIR AMB PERSONES O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51280" y="1916280"/>
            <a:ext cx="3889440" cy="936360"/>
          </a:xfrm>
          <a:prstGeom prst="wedgeRoundRectCallout">
            <a:avLst>
              <a:gd name="adj1" fmla="val -109796"/>
              <a:gd name="adj2" fmla="val 207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SELECCIONAR UN DOCUMENT O MÉS A LA CARPETA DE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933720"/>
            <a:ext cx="39610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653000"/>
            <a:ext cx="792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877000"/>
            <a:ext cx="3168720" cy="647640"/>
          </a:xfrm>
          <a:prstGeom prst="wedgeRoundRectCallout">
            <a:avLst>
              <a:gd name="adj1" fmla="val -32513"/>
              <a:gd name="adj2" fmla="val -191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05:36Z</dcterms:modified>
  <cp:revision>10</cp:revision>
  <dc:subject/>
  <dc:title>Diapositiva 1</dc:title>
</cp:coreProperties>
</file>