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C1D-2A14-46CD-BE30-5A09AD2E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D3E-972B-427F-A262-62BC9442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F2C-8CB0-40C5-96F3-1D46EFEC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1B6-BC9C-49DE-97D9-FB118D7E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96B-842C-4908-AFAA-D7E5929B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B02-3BD8-402C-93B2-0CDA0C80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72BA-D5EE-4F9A-8906-F065B1AC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0F4A-8751-456A-8718-CC047502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670-35D7-4823-8015-218DC2F8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9F5E-0155-471D-A40B-85699D0B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70C3-35FB-4359-9D3E-06678FDA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92F-C8AE-473A-8E59-7FF33943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8F13-31C0-4824-8DD1-9404E7459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1403280" y="2420280"/>
            <a:ext cx="576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5084640"/>
            <a:ext cx="3168720" cy="432000"/>
          </a:xfrm>
          <a:prstGeom prst="wedgeRoundRectCallout">
            <a:avLst>
              <a:gd name="adj1" fmla="val -128657"/>
              <a:gd name="adj2" fmla="val -602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LLIR L’OPCIÓ GR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1619280" y="2419920"/>
            <a:ext cx="5616720" cy="360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5084640"/>
            <a:ext cx="3168720" cy="432000"/>
          </a:xfrm>
          <a:prstGeom prst="wedgeRoundRectCallout">
            <a:avLst>
              <a:gd name="adj1" fmla="val 48148"/>
              <a:gd name="adj2" fmla="val -2849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S MEUS GR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012000" y="2851920"/>
            <a:ext cx="57600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36000" y="4508640"/>
            <a:ext cx="1908000" cy="1008000"/>
          </a:xfrm>
          <a:prstGeom prst="wedgeRoundRectCallout">
            <a:avLst>
              <a:gd name="adj1" fmla="val -97337"/>
              <a:gd name="adj2" fmla="val -1887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CREAR UN NOU G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95640" y="2708280"/>
            <a:ext cx="3168360" cy="431640"/>
          </a:xfrm>
          <a:prstGeom prst="wedgeRoundRectCallout">
            <a:avLst>
              <a:gd name="adj1" fmla="val 38925"/>
              <a:gd name="adj2" fmla="val 1610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NESTRA D’UN G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0" y="3715560"/>
            <a:ext cx="90000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87640" y="4437000"/>
            <a:ext cx="4321080" cy="1989360"/>
          </a:xfrm>
          <a:prstGeom prst="wedgeRoundRectCallout">
            <a:avLst>
              <a:gd name="adj1" fmla="val -103050"/>
              <a:gd name="adj2" fmla="val -6636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ENVIAR UN MISSATGE AL GRUP (ELS MISSATGES SON ENVIATS A TOTS ELS MEMBRES DEL GRUP I MÉS QUEDEN ARXIVATS EN AQUESTA FINESTRA COM SI FOS UN FÒ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1042920" y="2564640"/>
            <a:ext cx="9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3500280"/>
            <a:ext cx="3168360" cy="432000"/>
          </a:xfrm>
          <a:prstGeom prst="wedgeRoundRectCallout">
            <a:avLst>
              <a:gd name="adj1" fmla="val -110171"/>
              <a:gd name="adj2" fmla="val -2139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EAR UN NOU G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3:44:38Z</dcterms:created>
  <dc:creator>paco_m</dc:creator>
  <dc:description/>
  <dc:language>en-US</dc:language>
  <cp:lastModifiedBy>paco_m</cp:lastModifiedBy>
  <dcterms:modified xsi:type="dcterms:W3CDTF">2010-01-27T01:27:35Z</dcterms:modified>
  <cp:revision>13</cp:revision>
  <dc:subject/>
  <dc:title>Diapositiva 1</dc:title>
</cp:coreProperties>
</file>