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B5F-9B0B-4E4B-83C4-B89ADCC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592-07DD-4215-B057-B98408F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125-BE0C-4D42-9A8F-288511E3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70F-EE83-4020-A9E3-8BAC084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F25-EB0C-47B0-A550-427F360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C13-9D23-45D6-BE94-575F40D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91B-9328-4AF9-B085-4693C02B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5CA-EC52-41AC-AD3D-0715D7B6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256-A900-4465-A55A-CF2044E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B4A-3CDA-4672-82BB-BEA5DC5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5A5-2B18-4365-913F-464BC4E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24D-CC30-4575-9A36-52CBBCA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059-3386-4901-8A60-AE6BCBF7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403280" y="2420280"/>
            <a:ext cx="576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5084640"/>
            <a:ext cx="3168720" cy="432000"/>
          </a:xfrm>
          <a:prstGeom prst="wedgeRoundRectCallout">
            <a:avLst>
              <a:gd name="adj1" fmla="val -128657"/>
              <a:gd name="adj2" fmla="val -602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GR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1619280" y="2419920"/>
            <a:ext cx="561672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5084640"/>
            <a:ext cx="3168720" cy="432000"/>
          </a:xfrm>
          <a:prstGeom prst="wedgeRoundRectCallout">
            <a:avLst>
              <a:gd name="adj1" fmla="val 48148"/>
              <a:gd name="adj2" fmla="val -284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S MEUS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12000" y="2851920"/>
            <a:ext cx="576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6000" y="4508640"/>
            <a:ext cx="1908000" cy="1008000"/>
          </a:xfrm>
          <a:prstGeom prst="wedgeRoundRectCallout">
            <a:avLst>
              <a:gd name="adj1" fmla="val -97337"/>
              <a:gd name="adj2" fmla="val -188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708280"/>
            <a:ext cx="3168360" cy="431640"/>
          </a:xfrm>
          <a:prstGeom prst="wedgeRoundRectCallout">
            <a:avLst>
              <a:gd name="adj1" fmla="val 38925"/>
              <a:gd name="adj2" fmla="val 161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ESTRA D’UN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3715560"/>
            <a:ext cx="90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4437000"/>
            <a:ext cx="4321080" cy="1989360"/>
          </a:xfrm>
          <a:prstGeom prst="wedgeRoundRectCallout">
            <a:avLst>
              <a:gd name="adj1" fmla="val -103050"/>
              <a:gd name="adj2" fmla="val -66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ENVIAR UN MISSATGE AL GRUP (ELS MISSATGES SON ENVIATS A TOTS ELS MEMBRES DEL GRUP I MÉS QUEDEN ARXIVATS EN AQUESTA FINESTRA COM SI FOS UN FÒ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42920" y="2564640"/>
            <a:ext cx="9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3500280"/>
            <a:ext cx="3168360" cy="432000"/>
          </a:xfrm>
          <a:prstGeom prst="wedgeRoundRectCallout">
            <a:avLst>
              <a:gd name="adj1" fmla="val -110171"/>
              <a:gd name="adj2" fmla="val -213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R UN NOU G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27:35Z</dcterms:modified>
  <cp:revision>13</cp:revision>
  <dc:subject/>
  <dc:title>Diapositiva 1</dc:title>
</cp:coreProperties>
</file>