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207-26C6-4400-A492-BD3D7AB9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287-7FB1-4DFD-B41C-FA22EBCE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81A-C067-46AB-8D4A-D6A902A9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1C4-86F0-46C3-95CA-0487EB1A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6C4-562B-4DCC-BBC6-0059981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EA0-0ECF-4C3A-A438-972321DC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ADF-BA15-4B81-84B6-6D70DA1F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954-A5F3-44DB-BD66-A476FDEA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5C5-DE2A-4662-8932-D5CE8FCF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804-65AC-4762-88BA-9FB745A2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A21-DE49-426F-A2F2-4620699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6C5-3875-4E9C-BA4F-3BA867E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EC05-EAD8-45C6-9D73-394D6E2E6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1197000"/>
            <a:ext cx="360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9640" y="2205000"/>
            <a:ext cx="3168360" cy="432000"/>
          </a:xfrm>
          <a:prstGeom prst="wedgeRoundRectCallout">
            <a:avLst>
              <a:gd name="adj1" fmla="val -142736"/>
              <a:gd name="adj2" fmla="val -2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95640" y="1125360"/>
            <a:ext cx="3240360" cy="1798920"/>
          </a:xfrm>
          <a:prstGeom prst="wedgeRoundRectCallout">
            <a:avLst>
              <a:gd name="adj1" fmla="val -55782"/>
              <a:gd name="adj2" fmla="val 78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CIO D’UN ESDEVENIMENT CLICANT SOBRE UN DIA AMB EL RATOLÍ, QUAN TENIM VARIS CALENDARIS AMB OPCIONS D’EDICIÓ ES PODEN CREAR ESDEVENIMENTS EN EL CALENDARI ESCOL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59280" y="692280"/>
            <a:ext cx="3168720" cy="504720"/>
          </a:xfrm>
          <a:prstGeom prst="wedgeRoundRectCallout">
            <a:avLst>
              <a:gd name="adj1" fmla="val 51550"/>
              <a:gd name="adj2" fmla="val 183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A VISTA DEL CALENDARI  DEJITJ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68640"/>
            <a:ext cx="97164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924280"/>
            <a:ext cx="3097440" cy="720720"/>
          </a:xfrm>
          <a:prstGeom prst="wedgeRoundRectCallout">
            <a:avLst>
              <a:gd name="adj1" fmla="val -68143"/>
              <a:gd name="adj2" fmla="val 770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ENDARIS DISPO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80000" y="1413000"/>
            <a:ext cx="3168360" cy="1008000"/>
          </a:xfrm>
          <a:prstGeom prst="wedgeRoundRectCallout">
            <a:avLst>
              <a:gd name="adj1" fmla="val 38328"/>
              <a:gd name="adj2" fmla="val 115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DEVENIMENTS (CADA COLOR INDICA DEL CALENDARI ON S’HA GENERAT L’ESDEVENI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4076640"/>
            <a:ext cx="3168720" cy="289080"/>
          </a:xfrm>
          <a:prstGeom prst="wedgeRoundRectCallout">
            <a:avLst>
              <a:gd name="adj1" fmla="val -59972"/>
              <a:gd name="adj2" fmla="val 895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LL D’UN ESDEV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44640"/>
            <a:ext cx="971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3168720" cy="1440000"/>
          </a:xfrm>
          <a:prstGeom prst="wedgeRoundRectCallout">
            <a:avLst>
              <a:gd name="adj1" fmla="val -81263"/>
              <a:gd name="adj2" fmla="val -8958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REAR UN ESDEVIMENT CLICA SOBRE AQUESTO OPCIIÓ O SITUAT DINS D’UN DIA DEL CALENDARI I CLICA AMB EL BOTÓ ESQUERRA DEL RATOLI DOS C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27640" y="1197000"/>
            <a:ext cx="3168720" cy="576360"/>
          </a:xfrm>
          <a:prstGeom prst="wedgeRoundRectCallout">
            <a:avLst>
              <a:gd name="adj1" fmla="val -53004"/>
              <a:gd name="adj2" fmla="val 1106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ULARI PER AFEGIR UN ESDEVEN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773360"/>
            <a:ext cx="5113080" cy="266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060640"/>
            <a:ext cx="2663640" cy="33130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4724280"/>
            <a:ext cx="3168360" cy="576360"/>
          </a:xfrm>
          <a:prstGeom prst="wedgeRoundRectCallout">
            <a:avLst>
              <a:gd name="adj1" fmla="val 71041"/>
              <a:gd name="adj2" fmla="val -1257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IONS D’ ESDEVEN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R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80000" y="1413000"/>
            <a:ext cx="3168360" cy="792000"/>
          </a:xfrm>
          <a:prstGeom prst="wedgeRoundRectCallout">
            <a:avLst>
              <a:gd name="adj1" fmla="val -139430"/>
              <a:gd name="adj2" fmla="val 2265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MPLE DE MOLTS CALENDARIS I ELS SEUS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076640"/>
            <a:ext cx="9716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3716280"/>
            <a:ext cx="3744720" cy="1152720"/>
          </a:xfrm>
          <a:prstGeom prst="wedgeRoundRectCallout">
            <a:avLst>
              <a:gd name="adj1" fmla="val -135800"/>
              <a:gd name="adj2" fmla="val -10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LL L’OPCIÓ CONFIGURACIÓ PER  ESTABLIR O CANVIAR OPCIONS DEL TEUS CALENDARIS I L’OPCIÓ CREA PER CREAR UN NO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71640" y="1773360"/>
            <a:ext cx="1439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1268280"/>
            <a:ext cx="3168720" cy="576360"/>
          </a:xfrm>
          <a:prstGeom prst="wedgeRoundRectCallout">
            <a:avLst>
              <a:gd name="adj1" fmla="val -98097"/>
              <a:gd name="adj2" fmla="val 76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 CALENDARI I LES SEVES PESTAN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2852640"/>
            <a:ext cx="8172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75280" y="1916280"/>
            <a:ext cx="3168720" cy="576000"/>
          </a:xfrm>
          <a:prstGeom prst="wedgeRoundRectCallout">
            <a:avLst>
              <a:gd name="adj1" fmla="val -13374"/>
              <a:gd name="adj2" fmla="val 1249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CIÓ CALENDARI PROP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421000"/>
            <a:ext cx="237636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500280"/>
            <a:ext cx="237672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229360"/>
            <a:ext cx="3168720" cy="576000"/>
          </a:xfrm>
          <a:prstGeom prst="wedgeRoundRectCallout">
            <a:avLst>
              <a:gd name="adj1" fmla="val -102953"/>
              <a:gd name="adj2" fmla="val -335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RES CALENDARIS IMPOR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1773360"/>
            <a:ext cx="143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1268280"/>
            <a:ext cx="3168720" cy="576360"/>
          </a:xfrm>
          <a:prstGeom prst="wedgeRoundRectCallout">
            <a:avLst>
              <a:gd name="adj1" fmla="val -98097"/>
              <a:gd name="adj2" fmla="val 76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CIÓ D’UN NO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508640"/>
            <a:ext cx="7850160" cy="1512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2924280"/>
            <a:ext cx="3168720" cy="1081080"/>
          </a:xfrm>
          <a:prstGeom prst="wedgeRoundRectCallout">
            <a:avLst>
              <a:gd name="adj1" fmla="val -46342"/>
              <a:gd name="adj2" fmla="val 117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COMPARTIR EL NOSTRE CALENDARI AMB TOTHOM O BÉ EN PERSONES O GRUPS CONCR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877000"/>
            <a:ext cx="2268360" cy="86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3933720"/>
            <a:ext cx="3168720" cy="935280"/>
          </a:xfrm>
          <a:prstGeom prst="wedgeRoundRectCallout">
            <a:avLst>
              <a:gd name="adj1" fmla="val -139430"/>
              <a:gd name="adj2" fmla="val 184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AFEGIR CALENDARIS D’ALTRES COMPANYS CLIQUEU SOBRE AQUESTA OP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205080" y="-2619360"/>
            <a:ext cx="16002000" cy="10001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56360" y="404640"/>
            <a:ext cx="3168720" cy="1081440"/>
          </a:xfrm>
          <a:prstGeom prst="wedgeRoundRectCallout">
            <a:avLst>
              <a:gd name="adj1" fmla="val -55912"/>
              <a:gd name="adj2" fmla="val 163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EU AQUÍ L’ADREÇA DE CORREU DE LA PERSONA O GRUP QUE VOLEU AFEGIR EL SEU CALEND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4365720"/>
            <a:ext cx="3456000" cy="1871640"/>
          </a:xfrm>
          <a:prstGeom prst="wedgeRoundRectCallout">
            <a:avLst>
              <a:gd name="adj1" fmla="val -59185"/>
              <a:gd name="adj2" fmla="val -12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 RECOMANA AFEGIR ELS CORREUS DE VARIS GRUPS CREATS COM D’ALUMNES, SORTIDES, REUNIONS, PER FER-HO MIREU EL FITXER EXCEL QUE HE COMPARTIT AMB VOSALTRES PEL GOOGLE 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0:44:44Z</dcterms:modified>
  <cp:revision>9</cp:revision>
  <dc:subject/>
  <dc:title>Diapositiva 1</dc:title>
</cp:coreProperties>
</file>