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BA3-A00B-41C3-B4D2-83A9016F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0BF-4EB7-43F3-98A9-59F0C577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18E-88E5-4645-AE16-EB02E36A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817-6203-4EE4-8FAA-1442646E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E21-85BA-4FF7-BFD2-07DAD1A4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B13-83E8-43E7-9733-255F9F26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C40-06B1-40B5-8E89-C8F409E2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F88-891F-49B6-A08A-8A842CC1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326-B167-4B9D-B743-9D944A17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D3F-D90C-42BE-831C-01D11C23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898-DE7D-42A9-8E41-F7374DE7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A293-0313-4A3D-B0BB-B0734C68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4066-EBBE-403B-89C1-663828CCA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1197000"/>
            <a:ext cx="36036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19640" y="2205000"/>
            <a:ext cx="3168360" cy="432000"/>
          </a:xfrm>
          <a:prstGeom prst="wedgeRoundRectCallout">
            <a:avLst>
              <a:gd name="adj1" fmla="val -142736"/>
              <a:gd name="adj2" fmla="val -2305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LLIR L’OPCIÓ CALE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95640" y="1125360"/>
            <a:ext cx="3240360" cy="1798920"/>
          </a:xfrm>
          <a:prstGeom prst="wedgeRoundRectCallout">
            <a:avLst>
              <a:gd name="adj1" fmla="val -55782"/>
              <a:gd name="adj2" fmla="val 7842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CIO D’UN ESDEVENIMENT CLICANT SOBRE UN DIA AMB EL RATOLÍ, QUAN TENIM VARIS CALENDARIS AMB OPCIONS D’EDICIÓ ES PODEN CREAR ESDEVENIMENTS EN EL CALENDARI ESCOL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59280" y="692280"/>
            <a:ext cx="3168720" cy="504720"/>
          </a:xfrm>
          <a:prstGeom prst="wedgeRoundRectCallout">
            <a:avLst>
              <a:gd name="adj1" fmla="val 51550"/>
              <a:gd name="adj2" fmla="val 1839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LLIR LA VISTA DEL CALENDARI  DEJITJ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068640"/>
            <a:ext cx="971640" cy="158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2924280"/>
            <a:ext cx="3097440" cy="720720"/>
          </a:xfrm>
          <a:prstGeom prst="wedgeRoundRectCallout">
            <a:avLst>
              <a:gd name="adj1" fmla="val -68143"/>
              <a:gd name="adj2" fmla="val 770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ENDARIS DISPON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80000" y="1413000"/>
            <a:ext cx="3168360" cy="1008000"/>
          </a:xfrm>
          <a:prstGeom prst="wedgeRoundRectCallout">
            <a:avLst>
              <a:gd name="adj1" fmla="val 38328"/>
              <a:gd name="adj2" fmla="val 11519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DEVENIMENTS (CADA COLOR INDICA DEL CALENDARI ON S’HA GENERAT L’ESDEVENI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4076640"/>
            <a:ext cx="3168720" cy="289080"/>
          </a:xfrm>
          <a:prstGeom prst="wedgeRoundRectCallout">
            <a:avLst>
              <a:gd name="adj1" fmla="val -59972"/>
              <a:gd name="adj2" fmla="val 8956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LL D’UN ESDEV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44640"/>
            <a:ext cx="9716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3168720" cy="1440000"/>
          </a:xfrm>
          <a:prstGeom prst="wedgeRoundRectCallout">
            <a:avLst>
              <a:gd name="adj1" fmla="val -81263"/>
              <a:gd name="adj2" fmla="val -8958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CREAR UN ESDEVIMENT CLICA SOBRE AQUESTO OPCIIÓ O SITUAT DINS D’UN DIA DEL CALENDARI I CLICA AMB EL BOTÓ ESQUERRA DEL RATOLI DOS CO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27640" y="1197000"/>
            <a:ext cx="3168720" cy="576360"/>
          </a:xfrm>
          <a:prstGeom prst="wedgeRoundRectCallout">
            <a:avLst>
              <a:gd name="adj1" fmla="val -53004"/>
              <a:gd name="adj2" fmla="val 1106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ULARI PER AFEGIR UN ESDEVEN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1773360"/>
            <a:ext cx="5113080" cy="266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2060640"/>
            <a:ext cx="2663640" cy="33130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4724280"/>
            <a:ext cx="3168360" cy="576360"/>
          </a:xfrm>
          <a:prstGeom prst="wedgeRoundRectCallout">
            <a:avLst>
              <a:gd name="adj1" fmla="val 71041"/>
              <a:gd name="adj2" fmla="val -12575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IONS D’ ESDEVEN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R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80000" y="1413000"/>
            <a:ext cx="3168360" cy="792000"/>
          </a:xfrm>
          <a:prstGeom prst="wedgeRoundRectCallout">
            <a:avLst>
              <a:gd name="adj1" fmla="val -139430"/>
              <a:gd name="adj2" fmla="val 2265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MPLE DE MOLTS CALENDARIS I ELS SEUS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076640"/>
            <a:ext cx="9716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3716280"/>
            <a:ext cx="3744720" cy="1152720"/>
          </a:xfrm>
          <a:prstGeom prst="wedgeRoundRectCallout">
            <a:avLst>
              <a:gd name="adj1" fmla="val -135800"/>
              <a:gd name="adj2" fmla="val -10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ULL L’OPCIÓ CONFIGURACIÓ PER  ESTABLIR O CANVIAR OPCIONS DEL TEUS CALENDARIS I L’OPCIÓ CREA PER CREAR UN NOU CALEND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71640" y="1773360"/>
            <a:ext cx="1439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1268280"/>
            <a:ext cx="3168720" cy="576360"/>
          </a:xfrm>
          <a:prstGeom prst="wedgeRoundRectCallout">
            <a:avLst>
              <a:gd name="adj1" fmla="val -98097"/>
              <a:gd name="adj2" fmla="val 76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 CALENDARI I LES SEVES PESTAN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2852640"/>
            <a:ext cx="8172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75280" y="1916280"/>
            <a:ext cx="3168720" cy="576000"/>
          </a:xfrm>
          <a:prstGeom prst="wedgeRoundRectCallout">
            <a:avLst>
              <a:gd name="adj1" fmla="val -13374"/>
              <a:gd name="adj2" fmla="val 12493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 CALENDARI PROP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2421000"/>
            <a:ext cx="2376360" cy="216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500280"/>
            <a:ext cx="2376720" cy="216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5229360"/>
            <a:ext cx="3168720" cy="576000"/>
          </a:xfrm>
          <a:prstGeom prst="wedgeRoundRectCallout">
            <a:avLst>
              <a:gd name="adj1" fmla="val -102953"/>
              <a:gd name="adj2" fmla="val -3351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RES CALENDARIS IMPOR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71640" y="1773360"/>
            <a:ext cx="143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1268280"/>
            <a:ext cx="3168720" cy="576360"/>
          </a:xfrm>
          <a:prstGeom prst="wedgeRoundRectCallout">
            <a:avLst>
              <a:gd name="adj1" fmla="val -98097"/>
              <a:gd name="adj2" fmla="val 76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CIÓ D’UN NOU CALEND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4508640"/>
            <a:ext cx="7850160" cy="1512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2924280"/>
            <a:ext cx="3168720" cy="1081080"/>
          </a:xfrm>
          <a:prstGeom prst="wedgeRoundRectCallout">
            <a:avLst>
              <a:gd name="adj1" fmla="val -46342"/>
              <a:gd name="adj2" fmla="val 1174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COMPARTIR EL NOSTRE CALENDARI AMB TOTHOM O BÉ EN PERSONES O GRUPS CONCR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877000"/>
            <a:ext cx="2268360" cy="86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3933720"/>
            <a:ext cx="3168720" cy="935280"/>
          </a:xfrm>
          <a:prstGeom prst="wedgeRoundRectCallout">
            <a:avLst>
              <a:gd name="adj1" fmla="val -139430"/>
              <a:gd name="adj2" fmla="val 184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AFEGIR CALENDARIS D’ALTRES COMPANYS CLIQUEU SOBRE AQUESTA OP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205080" y="-2619360"/>
            <a:ext cx="16002000" cy="10001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56360" y="404640"/>
            <a:ext cx="3168720" cy="1081440"/>
          </a:xfrm>
          <a:prstGeom prst="wedgeRoundRectCallout">
            <a:avLst>
              <a:gd name="adj1" fmla="val -55912"/>
              <a:gd name="adj2" fmla="val 16365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EU AQUÍ L’ADREÇA DE CORREU DE LA PERSONA O GRUP QUE VOLEU AFEGIR EL SEU CALEND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84720" y="4365720"/>
            <a:ext cx="3456000" cy="1871640"/>
          </a:xfrm>
          <a:prstGeom prst="wedgeRoundRectCallout">
            <a:avLst>
              <a:gd name="adj1" fmla="val -59185"/>
              <a:gd name="adj2" fmla="val -128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 RECOMANA AFEGIR ELS CORREUS DE VARIS GRUPS CREATS COM D’ALUMNES, SORTIDES, REUNIONS, PER FER-HO MIREU EL FITXER EXCEL QUE HE COMPARTIT AMB VOSALTRES PEL GOOGLE D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3:44:38Z</dcterms:created>
  <dc:creator>paco_m</dc:creator>
  <dc:description/>
  <dc:language>en-US</dc:language>
  <cp:lastModifiedBy>paco_m</cp:lastModifiedBy>
  <dcterms:modified xsi:type="dcterms:W3CDTF">2010-01-27T00:44:44Z</dcterms:modified>
  <cp:revision>9</cp:revision>
  <dc:subject/>
  <dc:title>Diapositiva 1</dc:title>
</cp:coreProperties>
</file>