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2.pct" ContentType="image/x-pict"/>
  <Override PartName="/ppt/media/image11.pct" ContentType="image/x-pict"/>
  <Override PartName="/ppt/media/image13.jpeg" ContentType="image/jpeg"/>
  <Override PartName="/ppt/media/image9.pct" ContentType="image/x-pict"/>
  <Override PartName="/ppt/media/image8.pct" ContentType="image/x-pict"/>
  <Override PartName="/ppt/media/image10.pct" ContentType="image/x-pict"/>
  <Override PartName="/ppt/media/image5.pct" ContentType="image/x-pict"/>
  <Override PartName="/ppt/media/image7.png" ContentType="image/png"/>
  <Override PartName="/ppt/media/image18.pct" ContentType="image/x-pict"/>
  <Override PartName="/ppt/media/image20.pct" ContentType="image/x-pict"/>
  <Override PartName="/ppt/media/image4.pct" ContentType="image/x-pict"/>
  <Override PartName="/ppt/media/image6.png" ContentType="image/png"/>
  <Override PartName="/ppt/media/image17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4.pct" ContentType="image/x-pict"/>
  <Override PartName="/ppt/media/image25.pct" ContentType="image/x-pict"/>
  <Override PartName="/ppt/media/image2.pct" ContentType="image/x-pict"/>
  <Override PartName="/ppt/media/image26.pct" ContentType="image/x-pict"/>
  <Override PartName="/ppt/media/image3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C49-FF5A-4F1E-B466-342A2295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989-6A4C-4028-BCFE-93E0EBF2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C37-E9D4-475B-ADE3-718D7CF7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991-D52F-4DE5-BCF9-88AF921E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5EF7-8E33-4245-A72D-4375FA16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D05A-21AB-4D28-8E31-06D37AD5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453B-D21A-400E-AADA-B0983FC8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0F47-848B-4DF2-A5F0-A29774AF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0263-CF67-4B98-AD50-06247924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1CE4-2B81-4AA3-A46D-23E40329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052A-5FA8-44C5-AD2A-E3EF140D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7678-3FB3-497D-884A-8017D2C8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FEE0-4234-49D4-A247-F144AD75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F2F8-D0A6-4885-9296-3923C69B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4BE9-FFD9-430B-A670-2A15E805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F4A7-E825-4AEC-BC84-C9CE97A4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72F6-847F-41EC-A22C-32B16651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8AE1-1FC5-4E5A-B3B4-5CC089E8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1903-F2E5-4226-ABC7-7F8931E9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E8E1-7469-485D-986E-5D4C1992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FF70-0D35-4415-BD16-0FE27A1F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C27A-499F-4918-9517-3C8136C0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7512-8C57-4325-A79C-0C6A7280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C1BB-B8E5-4E0C-A46D-D1807403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274B-8677-476E-95DC-31CC6D9F2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2837-688D-4053-9C5C-3E585AB4F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9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10.pct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18.pct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21.pct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pct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26.pct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Arial"/>
              </a:rPr>
              <a:t>RENEWABLE RESOURC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esources that can be used over and over again to produce energy without fear of running out. These resources replenish themselves natur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mass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Energy from the sun is necessary for biomass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iomass energy contains energy stored from the sun - plants and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iomass = natural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Form of electricity produced from plant/animal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Energy that can be used through the use of burning (sawdust, tree bark, trees, gr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mass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Biomass can pollute the air when it’s burned, but not as much as fossil f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Biomass releases carbon dioxide, which is also known as a Greenhouse Gas (greenhouse gases are bad for the environment because they trap heat from the sun in the Earth’s atmosphe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mass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Burning 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Using corn as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Biodiesel is a form of fuel made with vegetable oils, fats, grease (recycled from restaurants someti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Image with different kinds of biomass types: wood, crops, garbage, landfill gas, and alcohol fuels"/>
          <p:cNvPicPr/>
          <p:nvPr/>
        </p:nvPicPr>
        <p:blipFill>
          <a:blip r:embed="rId1"/>
          <a:stretch/>
        </p:blipFill>
        <p:spPr>
          <a:xfrm>
            <a:off x="380880" y="380880"/>
            <a:ext cx="3780000" cy="4724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Photosynthesis. In the process of photosynthesis, plants convert radiant energy from the sun into chemical energy in the form of glucose or sugar.&#10;&#10;Water plus carbon dioxide plus sunlight yields glucose plus oxygen. &#10;&#10;six water plus six carbon dioxide plus radiant energy yields sugar plus six oxygen."/>
          <p:cNvPicPr/>
          <p:nvPr/>
        </p:nvPicPr>
        <p:blipFill>
          <a:blip r:embed="rId2"/>
          <a:stretch/>
        </p:blipFill>
        <p:spPr>
          <a:xfrm>
            <a:off x="4648320" y="2666880"/>
            <a:ext cx="2743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Energy generated by converting hot water or steam from deep beneath the Earth’s surface into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Heat transferred from the Earth’s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Natural heat can be used to generate electricity and heat homes and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0"/>
          <a:ext cx="4800600" cy="317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800600" cy="31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981080" y="3116160"/>
          <a:ext cx="5639040" cy="3741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116160"/>
                    <a:ext cx="5639040" cy="37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419720" y="0"/>
          <a:ext cx="4724280" cy="3278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0"/>
                    <a:ext cx="472428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7696080" cy="512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696080" cy="51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3379680"/>
          <a:ext cx="5181480" cy="34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79680"/>
                    <a:ext cx="518148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952880" y="0"/>
            <a:ext cx="4191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/Tid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Energy powered from the surface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Rise and fall of waves causes rotation of object so energy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at energy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ight energy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ed to tel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n be used for c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n be used to help purify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828800" y="609480"/>
          <a:ext cx="4952880" cy="495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609480"/>
                    <a:ext cx="495288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RENEWABLE RESOURC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atural resource that cannot be re-made, re-grown, or regen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 in a fixed amount that is used up faster than it can be made by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Renewable Resourc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enewable resources are also called fossil-fuels. The natural resources (coal, oil, natural gas, and nuclear energy) are named this because of fuels found in the top layer of the earth’s c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swamps where plant remains were saved by water and m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 is a burnable black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largest single source of fuel for electricity 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 is dug up from the ground by surface mining or deep m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0"/>
          <a:ext cx="4724280" cy="31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72428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419720" y="0"/>
          <a:ext cx="4724280" cy="316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0"/>
                    <a:ext cx="472428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3181320"/>
          <a:ext cx="5562360" cy="3676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3181320"/>
                    <a:ext cx="556236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ude Oil or Petrole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ly occurring liquid found within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ned oil generates heat, electricity, and sometimes ligh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powering 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0" y="0"/>
          <a:ext cx="3962520" cy="25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96252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724280" y="152280"/>
          <a:ext cx="2019600" cy="2667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20196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057400" y="3352680"/>
          <a:ext cx="4191120" cy="30178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352680"/>
                    <a:ext cx="41911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est and safest of energy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orless, colorless gas that smells sometimes like rotten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of natural gas are swamps, marshes, and landf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ed to homes through pip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rual gas is used for heating, cooking, and bunsen bu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0"/>
          <a:ext cx="38559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8559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5181480" y="3352680"/>
          <a:ext cx="3487680" cy="3505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352680"/>
                    <a:ext cx="34876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ar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energy relies on the splitting of the element Uranium atoms in a process called fission. This generates heat for producing steam that then makes a turbine produce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219320" y="609480"/>
          <a:ext cx="12344400" cy="540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09480"/>
                    <a:ext cx="123444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72608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438280" y="0"/>
          <a:ext cx="4343400" cy="281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0"/>
                    <a:ext cx="4343400" cy="28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981080" y="3124080"/>
          <a:ext cx="2514600" cy="251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124080"/>
                    <a:ext cx="2514600" cy="25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952880" y="3124080"/>
          <a:ext cx="2819520" cy="2664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3124080"/>
                    <a:ext cx="281952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447920" y="380880"/>
          <a:ext cx="5486400" cy="38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80880"/>
                    <a:ext cx="54864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e use of wind energy dates back thousands of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t was originally used to pump water for wind m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Generates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2362320" y="685800"/>
          <a:ext cx="406080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685800"/>
                    <a:ext cx="40608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electric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lectric energy produced by the action of falling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lectricity generated by water flowing downh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838080" y="914400"/>
          <a:ext cx="7239240" cy="466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4400"/>
                    <a:ext cx="723924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8600" y="1143000"/>
          <a:ext cx="8153280" cy="423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815328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1T05:03:07Z</dcterms:created>
  <dc:creator>Rossford Schools</dc:creator>
  <dc:description/>
  <dc:language>en-US</dc:language>
  <cp:lastModifiedBy>Rossford Schools</cp:lastModifiedBy>
  <dcterms:modified xsi:type="dcterms:W3CDTF">2008-01-03T20:55:30Z</dcterms:modified>
  <cp:revision>4</cp:revision>
  <dc:subject/>
  <dc:title>RENEWABLE RESOURCES</dc:title>
</cp:coreProperties>
</file>