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2.pct" ContentType="image/x-pict"/>
  <Override PartName="/ppt/media/image11.pct" ContentType="image/x-pict"/>
  <Override PartName="/ppt/media/image13.jpeg" ContentType="image/jpeg"/>
  <Override PartName="/ppt/media/image9.pct" ContentType="image/x-pict"/>
  <Override PartName="/ppt/media/image8.pct" ContentType="image/x-pict"/>
  <Override PartName="/ppt/media/image10.pct" ContentType="image/x-pict"/>
  <Override PartName="/ppt/media/image5.pct" ContentType="image/x-pict"/>
  <Override PartName="/ppt/media/image7.png" ContentType="image/png"/>
  <Override PartName="/ppt/media/image18.pct" ContentType="image/x-pict"/>
  <Override PartName="/ppt/media/image20.pct" ContentType="image/x-pict"/>
  <Override PartName="/ppt/media/image4.pct" ContentType="image/x-pict"/>
  <Override PartName="/ppt/media/image6.png" ContentType="image/png"/>
  <Override PartName="/ppt/media/image17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4.pct" ContentType="image/x-pict"/>
  <Override PartName="/ppt/media/image25.pct" ContentType="image/x-pict"/>
  <Override PartName="/ppt/media/image2.pct" ContentType="image/x-pict"/>
  <Override PartName="/ppt/media/image26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D21-54F1-4862-8224-1328B589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5F7-946A-4B0E-B5F5-1661405D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74E-BC77-44D1-8E63-B2EF432D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4030-4462-4011-8593-BC9D5875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04E5-8C92-44FE-AA57-A2122834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EB71-08CE-404E-96D3-2AAE51EE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E0C0-D7F8-4900-ACAA-AE42A1B8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9A80-B20B-4C22-B3A5-59028188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5F89-FFAC-49CA-9556-1E6B94CC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1460-4FFD-4FAD-83E4-00C4DCF1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02B2-A0D1-4AE7-B716-FE557D86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FA5-A2F9-4CE3-A5FE-72EF2C4F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3B3E-153F-42F2-8FAC-39F16F0F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F509-4F61-49F4-8C49-E625D9CA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B17A-DE2B-4702-AD18-230B0E70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0E8B-DFE8-4C3A-876E-0636852A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F343-05F2-4371-A027-6372A08F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A2B-32A9-4876-A3EE-347F46E1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7F3-33C4-4A11-918A-E5D794E1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184-64F1-4F2D-B8FB-3E18C3FA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096-2B40-4223-8DE8-FA4EFE73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83C-09FE-495F-AA56-AD3A8447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CFE-A3C1-4392-9148-E2F30D4A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BEA-E9B1-4B9F-92B5-674423EA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1E45-5712-4E1B-AEEE-4FB6956AF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2B2E-B216-4B0B-BCDD-5B0A84A9B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8.pct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1.pct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pct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6.pct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Arial"/>
              </a:rPr>
              <a:t>RENEWABLE RESOURC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sources that can be used over and over again to produce energy without fear of running out. These resources replenish themselves natur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ass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Energy from the sun is necessary for biomass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iomass energy contains energy stored from the sun - plants and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iomass = natural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Form of electricity produced from plant/animal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Energy that can be used through the use of burning (sawdust, tree bark, trees, gr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ass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iomass can pollute the air when it’s burned, but not as much as fossil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iomass releases carbon dioxide, which is also known as a Greenhouse Gas (greenhouse gases are bad for the environment because they trap heat from the sun in the Earth’s atmosphe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ass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urning 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Using corn as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iodiesel is a form of fuel made with vegetable oils, fats, grease (recycled from restaurants someti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Image with different kinds of biomass types: wood, crops, garbage, landfill gas, and alcohol fuels"/>
          <p:cNvPicPr/>
          <p:nvPr/>
        </p:nvPicPr>
        <p:blipFill>
          <a:blip r:embed="rId1"/>
          <a:stretch/>
        </p:blipFill>
        <p:spPr>
          <a:xfrm>
            <a:off x="380880" y="380880"/>
            <a:ext cx="3780000" cy="472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Photosynthesis. In the process of photosynthesis, plants convert radiant energy from the sun into chemical energy in the form of glucose or sugar.&#10;&#10;Water plus carbon dioxide plus sunlight yields glucose plus oxygen. &#10;&#10;six water plus six carbon dioxide plus radiant energy yields sugar plus six oxygen."/>
          <p:cNvPicPr/>
          <p:nvPr/>
        </p:nvPicPr>
        <p:blipFill>
          <a:blip r:embed="rId2"/>
          <a:stretch/>
        </p:blipFill>
        <p:spPr>
          <a:xfrm>
            <a:off x="4648320" y="2666880"/>
            <a:ext cx="2743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Energy generated by converting hot water or steam from deep beneath the Earth’s surface into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eat transferred from the Earth’s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Natural heat can be used to generate electricity and heat homes and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0"/>
          <a:ext cx="4800600" cy="317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80060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981080" y="3116160"/>
          <a:ext cx="5639040" cy="3741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116160"/>
                    <a:ext cx="563904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419720" y="0"/>
          <a:ext cx="4724280" cy="3278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0"/>
                    <a:ext cx="472428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7696080" cy="512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696080" cy="51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3379680"/>
          <a:ext cx="5181480" cy="34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79680"/>
                    <a:ext cx="518148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952880" y="0"/>
            <a:ext cx="419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/Tid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Energy powered from the surface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Rise and fall of waves causes rotation of object so energy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at energy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ght energy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to tel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n be used for c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n be used to help purify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828800" y="609480"/>
          <a:ext cx="4952880" cy="495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09480"/>
                    <a:ext cx="49528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RENEWABLE RESOUR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tural resource that cannot be re-made, re-grown, or re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 in a fixed amount that is used up faster than it can be made by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Renewable Resour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newable resources are also called fossil-fuels. The natural resources (coal, oil, natural gas, and nuclear energy) are named this because of fuels found in the top layer of the earth’s c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swamps where plant remains were saved by water and m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is a burnable black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largest single source of fuel for electricity 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is dug up from the ground by surface mining or deep 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0"/>
          <a:ext cx="4724280" cy="31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72428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419720" y="0"/>
          <a:ext cx="4724280" cy="316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0"/>
                    <a:ext cx="472428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3181320"/>
          <a:ext cx="5562360" cy="3676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181320"/>
                    <a:ext cx="556236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ude Oil or Petrol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ly occurring liquid found within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ed oil generates heat, electricity, and sometimes ligh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powering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0" y="0"/>
          <a:ext cx="3962520" cy="25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96252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724280" y="152280"/>
          <a:ext cx="2019600" cy="2667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20196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057400" y="3352680"/>
          <a:ext cx="4191120" cy="3017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352680"/>
                    <a:ext cx="41911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est and safest of energy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orless, colorless gas that smells sometimes like rotten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natural gas are swamps, marshes, and landf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ed to homes through pip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rual gas is used for heating, cooking, and bunsen bu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0"/>
          <a:ext cx="38559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559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5181480" y="3352680"/>
          <a:ext cx="3487680" cy="3505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352680"/>
                    <a:ext cx="34876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ar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energy relies on the splitting of the element Uranium atoms in a process called fission. This generates heat for producing steam that then makes a turbine produce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219320" y="609480"/>
          <a:ext cx="12344400" cy="540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09480"/>
                    <a:ext cx="123444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72608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438280" y="0"/>
          <a:ext cx="4343400" cy="281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0"/>
                    <a:ext cx="434340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981080" y="3124080"/>
          <a:ext cx="2514600" cy="251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124080"/>
                    <a:ext cx="2514600" cy="25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952880" y="3124080"/>
          <a:ext cx="2819520" cy="2664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124080"/>
                    <a:ext cx="28195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447920" y="380880"/>
          <a:ext cx="5486400" cy="38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80880"/>
                    <a:ext cx="54864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use of wind energy dates back thousands of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t was originally used to pump water for wind m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enerates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2362320" y="685800"/>
          <a:ext cx="406080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685800"/>
                    <a:ext cx="4060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electric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lectric energy produced by the action of fall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lectricity generated by water flowing downh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838080" y="914400"/>
          <a:ext cx="7239240" cy="466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23924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1143000"/>
          <a:ext cx="8153280" cy="42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15328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05:03:07Z</dcterms:created>
  <dc:creator>Rossford Schools</dc:creator>
  <dc:description/>
  <dc:language>en-US</dc:language>
  <cp:lastModifiedBy>Rossford Schools</cp:lastModifiedBy>
  <dcterms:modified xsi:type="dcterms:W3CDTF">2008-01-03T20:55:30Z</dcterms:modified>
  <cp:revision>4</cp:revision>
  <dc:subject/>
  <dc:title>RENEWABLE RESOURCES</dc:title>
</cp:coreProperties>
</file>