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2.pct" ContentType="image/x-pict"/>
  <Override PartName="/ppt/media/image11.pct" ContentType="image/x-pict"/>
  <Override PartName="/ppt/media/image13.jpeg" ContentType="image/jpeg"/>
  <Override PartName="/ppt/media/image9.pct" ContentType="image/x-pict"/>
  <Override PartName="/ppt/media/image8.pct" ContentType="image/x-pict"/>
  <Override PartName="/ppt/media/image10.pct" ContentType="image/x-pict"/>
  <Override PartName="/ppt/media/image5.pct" ContentType="image/x-pict"/>
  <Override PartName="/ppt/media/image7.png" ContentType="image/png"/>
  <Override PartName="/ppt/media/image18.pct" ContentType="image/x-pict"/>
  <Override PartName="/ppt/media/image20.pct" ContentType="image/x-pict"/>
  <Override PartName="/ppt/media/image4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4.pct" ContentType="image/x-pict"/>
  <Override PartName="/ppt/media/image25.pct" ContentType="image/x-pict"/>
  <Override PartName="/ppt/media/image2.pct" ContentType="image/x-pict"/>
  <Override PartName="/ppt/media/image26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B4F-C4A7-4C58-BA64-8C37874A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4A2-BD71-4DB5-9B01-5C522279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09CF-8213-445C-8477-BF1A3078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2C8-1EA9-4EC4-A9F8-F4367C05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5504-43CE-496C-897C-3AB9ECE8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FA5E-C5FA-49DC-A7B0-B019B50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B84D-45AC-4B43-AABE-25B770D1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DFE6-D24E-40FE-B1A5-C81C058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56C7-0F97-40B2-8286-56FC1401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3593-978E-4CEC-B392-5C317F5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1840-D66E-4A1B-8C41-574C500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F590-086A-4D2F-87CC-3DD8F8B9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811-52E1-4C80-8CE5-CEB63E62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DD0F-24D7-4F2D-9DAA-56A4F17D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08D7-D283-4AA7-8F66-35E44E9F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D817-05C1-4A10-BDFB-36494F23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520B-E225-447B-BABF-2A46E735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5B67-40B0-49B1-AC48-5F921742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20C6-C66A-4CA2-8FFF-B9D5CA2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9816-6166-475D-8B5B-49D51EE5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9264-1FD1-424C-9A13-1C6849C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727F-9885-4EC4-99D0-41821194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6924-3DEC-43A9-875D-D28966BC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E681-D078-4C43-ABA5-E6880B93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468-D280-4479-BA8B-93826202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288A-C690-4DCF-9476-576B0169D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pct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18.pct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pct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pct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25.pct"/><Relationship Id="rId5" Type="http://schemas.openxmlformats.org/officeDocument/2006/relationships/package" Target="../embeddings/oleObject3.docx"/><Relationship Id="rId6" Type="http://schemas.openxmlformats.org/officeDocument/2006/relationships/image" Target="../media/image26.pct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200"/>
                </a:solidFill>
                <a:latin typeface="Arial"/>
              </a:rPr>
              <a:t>RENEWABLE RESOURC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sources that can be used over and over again to produce energy without fear of running out. These resources replenish themselves natu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from the sun is necessary for biomass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energy contains energy stored from the sun - plants and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iomass = natural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orm of electricity produced from plant/animal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Energy that can be used through the use of burning (sawdust, tree bark, trees, gr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can pollute the air when it’s burned, but not as much as fossi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mass releases carbon dioxide, which is also known as a Greenhouse Gas (greenhouse gases are bad for the environment because they trap heat from the sun in the Earth’s atmosp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mass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urning 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Using corn as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iodiesel is a form of fuel made with vegetable oils, fats, grease (recycled from restaurants somet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Image with different kinds of biomass types: wood, crops, garbage, landfill gas, and alcohol fuels"/>
          <p:cNvPicPr/>
          <p:nvPr/>
        </p:nvPicPr>
        <p:blipFill>
          <a:blip r:embed="rId1"/>
          <a:stretch/>
        </p:blipFill>
        <p:spPr>
          <a:xfrm>
            <a:off x="380880" y="380880"/>
            <a:ext cx="3780000" cy="472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Photosynthesis. In the process of photosynthesis, plants convert radiant energy from the sun into chemical energy in the form of glucose or sugar.&#10;&#10;Water plus carbon dioxide plus sunlight yields glucose plus oxygen. &#10;&#10;six water plus six carbon dioxide plus radiant energy yields sugar plus six oxygen."/>
          <p:cNvPicPr/>
          <p:nvPr/>
        </p:nvPicPr>
        <p:blipFill>
          <a:blip r:embed="rId2"/>
          <a:stretch/>
        </p:blipFill>
        <p:spPr>
          <a:xfrm>
            <a:off x="4648320" y="2666880"/>
            <a:ext cx="2743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therm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nergy generated by converting hot water or steam from deep beneath the Earth’s surface into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Heat transferred from the Earth’s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Natural heat can be used to generate electricity and heat homes and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800600" cy="31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800600" cy="31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1981080" y="3116160"/>
          <a:ext cx="5639040" cy="3741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16160"/>
                    <a:ext cx="5639040" cy="37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419720" y="0"/>
          <a:ext cx="4724280" cy="327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0"/>
                    <a:ext cx="47242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7696080" cy="512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696080" cy="51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379680"/>
          <a:ext cx="5181480" cy="34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79680"/>
                    <a:ext cx="51814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/Tida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Energy powered from the surface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Arial"/>
              </a:rPr>
              <a:t>Rise and fall of waves causes rotation of object so energy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ea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ght energy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ed to tel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for c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an be used to help purify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828800" y="609480"/>
          <a:ext cx="495288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atural resource that cannot be re-made, re-grown, or regene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s in a fixed amount that is used up faster than it can be made by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-Renewable Resour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renewable resources are also called fossil-fuels. The natural resources (coal, oil, natural gas, and nuclear energy) are named this because of fuels found in the top layer of the earth’s c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swamps where plant remains were saved by water and m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a burnable black r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largest single source of fuel for electricity 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is dug up from the ground by surface mining or deep 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0"/>
          <a:ext cx="4724280" cy="31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7242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419720" y="0"/>
          <a:ext cx="4724280" cy="3160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0"/>
                    <a:ext cx="472428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3181320"/>
          <a:ext cx="5562360" cy="3676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3181320"/>
                    <a:ext cx="55623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ude Oil or Petrol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occurring liquid found within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ned oil generates heat, electricity, and sometimes ligh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powering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0" y="0"/>
          <a:ext cx="3962520" cy="252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96252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724280" y="152280"/>
          <a:ext cx="2019600" cy="2667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20196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057400" y="3352680"/>
          <a:ext cx="4191120" cy="3017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352680"/>
                    <a:ext cx="41911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al 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st and safest of energy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dorless, colorless gas that smells sometimes like rotten 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s of natural gas are swamps, marshes, and landf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ed to homes through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rual gas is used for heating, cooking, and bunsen bu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38559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38559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181480" y="3352680"/>
          <a:ext cx="3487680" cy="3505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352680"/>
                    <a:ext cx="34876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ar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energy relies on the splitting of the element Uranium atoms in a process called fission. This generates heat for producing steam that then makes a turbine produce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219320" y="609480"/>
          <a:ext cx="12344400" cy="540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123444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726080" y="20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438280" y="0"/>
          <a:ext cx="4343400" cy="281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434340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3124080"/>
          <a:ext cx="2514600" cy="251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124080"/>
                    <a:ext cx="2514600" cy="25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952880" y="3124080"/>
          <a:ext cx="2819520" cy="26640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3124080"/>
                    <a:ext cx="28195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447920" y="380880"/>
          <a:ext cx="5486400" cy="38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80880"/>
                    <a:ext cx="54864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e use of wind energy dates back thousands of ye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It was originally used to pump water for wind m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Generates electr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2362320" y="685800"/>
          <a:ext cx="4060800" cy="54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685800"/>
                    <a:ext cx="4060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electric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 energy produced by the action of fall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lectricity generated by water flowing downh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838080" y="914400"/>
          <a:ext cx="7239240" cy="466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4400"/>
                    <a:ext cx="723924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153280" cy="42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15328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05:03:07Z</dcterms:created>
  <dc:creator>Rossford Schools</dc:creator>
  <dc:description/>
  <dc:language>en-US</dc:language>
  <cp:lastModifiedBy>Rossford Schools</cp:lastModifiedBy>
  <dcterms:modified xsi:type="dcterms:W3CDTF">2008-01-03T20:55:30Z</dcterms:modified>
  <cp:revision>4</cp:revision>
  <dc:subject/>
  <dc:title>RENEWABLE RESOURCES</dc:title>
</cp:coreProperties>
</file>