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52188-8F73-4A63-8896-E16713E510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51D-E837-4511-B534-3E33F03A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B57-4365-45BC-B060-B3EDFE16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546-47C0-471F-ABA8-678D7C58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70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24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32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70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24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FD6-A2EA-4FA9-B2D3-680087D0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8DD5-68F0-4AA1-8000-430FBCC0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85D9-62FD-4DD9-9373-9B0A895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006B-1F55-430C-9EE6-F4104AF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C2C8-A53C-42B5-A740-B31AF6B0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E8D-9C44-43B7-B3E5-0F1F31C8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345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555F-30D0-4B56-859F-EB815E1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EE8-9839-4424-B423-B5FC4D9C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F97-25B9-485C-A169-F7042B36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1CD1-474C-4441-B0EA-A70EA987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2029-6923-4288-9518-460F5BB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8A81-86A5-498C-AE60-9F11E9FC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DE39-BAC2-4619-8B2B-2F2DD152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70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24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32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70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24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C4B9-7993-4AB2-80A1-1D01ED29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033-F4A4-4B2B-B197-2D13DA87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89C-0E5E-4B1C-B2DD-C85355A9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5E5-121F-4AF3-86F4-A97C8734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345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E7D-9E5F-42C8-AFF6-2B3649E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D63-B3C0-42CC-B930-8E04740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70F-2B9E-42C6-9760-32930DA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7DE-87E1-4E33-B8BB-28E79A08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860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2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3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24B98-1DE1-458D-9F35-1DFE5009240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860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795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27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AE840-260B-4329-91DB-73572BA595E2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gm.nationalgeographic.com/ng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Los Biocombustib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y Weissi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anish 3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  <a:ea typeface="宋体"/>
              </a:rPr>
              <a:t>¿ Qué son los biocombustible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498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 combustibles de origen biológico per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n formados de organismos recientemente v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 de el presión geológ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rmalmente de pla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889440" cy="3112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114800" y="5349960"/>
            <a:ext cx="499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grain.org/seedling_files/cut_sugarcan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Tipos de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l Bioe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cohol producido por fermentación de el azúcar de plan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l Bio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 biocarburante que se obtienen de partir de aceites vege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6540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l Bioetan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41940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alcoho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ducido por fermentación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tos azucar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midón de gr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 puede producirlo usando muchas pla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maí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caña de azúc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tr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361960" cy="20955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186520" y="3778200"/>
            <a:ext cx="2446200" cy="2666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85800" y="5989680"/>
            <a:ext cx="4800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fichas.infojardin.com/foto-hortalizas-verduras/beta-vulgaris-remolachas-m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1555920"/>
            <a:ext cx="160020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aulbuckley14059.files.wordpress.com/2007/09/corn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l Biodies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72428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ido con una reacción transesterificación de un aceite y met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ido con los aceites de muchas pla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S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Col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s Semillas de Giras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735360" cy="3352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4114800" cy="2173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802040" y="6172200"/>
            <a:ext cx="4113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http://upload.wikimedia.org/wikipedia/commons/thumb/d/d5/Sunflowers.jpg/800px-Sunflowers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57800" y="5257800"/>
            <a:ext cx="3657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http://img.alibaba.com/photo/11378152/Pri_Bio_Diesel_Production_Systems.jp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os Usos de los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ioe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 mezcla con el petról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cesita un motor especial para usar solo el bioetanol en un co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io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 puede usar en un automóvil que usa el die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610000" cy="3047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257800" y="5397480"/>
            <a:ext cx="3429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http://www.wikilearning.com/imagescc/14301/cartel_bioetanol_grande.JP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Ventajas de los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minuye las principales emisiones de co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tre un 25% y un 80% de los emisiones de CO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joría la calidad del aire de los ciu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vorece el mercado domé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343400" cy="3790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572000" y="5989680"/>
            <a:ext cx="4289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teamethanol.com.au/web_images/web%20car%20and%20cane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sventajas de los Biocombustib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y efectos por la econom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s plantas necesitan mucho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 hay la tierra cultivable para usar solo los biocombusti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194000" cy="2460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62480" y="5303880"/>
            <a:ext cx="4781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vestaldesign.com/blog/wp-content/uploads/farmers-ethanol-plant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317520"/>
            <a:ext cx="854064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a Bibliograf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20480" y="1600200"/>
            <a:ext cx="754380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http://html.rincondelvago.com/biocombustibles.htm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1"/>
              </a:rPr>
              <a:t>http://ngm.nationalgeographic.com/ngm/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2007-10/biofuels/biofuels-p2.htm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http://en.wikipedia.org/wiki/Biofue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nguage Resource Center</dc:creator>
  <dc:description/>
  <dc:language>en-US</dc:language>
  <cp:lastModifiedBy>Language Resource Center</cp:lastModifiedBy>
  <cp:revision>0</cp:revision>
  <dc:subject/>
  <dc:title>Los Biocombustibles</dc:title>
</cp:coreProperties>
</file>