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A9AC1F-F91E-4118-AB94-BE27940BC07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E1F5-E8C3-41ED-BF34-C93140D48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320" y="1600200"/>
            <a:ext cx="85345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320" y="3947040"/>
            <a:ext cx="85345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F800-4CEA-445F-A2C0-DF027BE13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320" y="1600200"/>
            <a:ext cx="416484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960" y="1600200"/>
            <a:ext cx="416484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320" y="3947040"/>
            <a:ext cx="416484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960" y="3947040"/>
            <a:ext cx="416484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5DE1-A644-4783-9B47-B898BB60C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320" y="1600200"/>
            <a:ext cx="274788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7080" y="1600200"/>
            <a:ext cx="274788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2480" y="1600200"/>
            <a:ext cx="274788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320" y="3947040"/>
            <a:ext cx="274788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7080" y="3947040"/>
            <a:ext cx="274788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2480" y="3947040"/>
            <a:ext cx="274788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1ECA-3B4E-4A32-951F-0CC678E1B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D573D-E5E1-4B19-931A-46AB6F890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320" y="1600200"/>
            <a:ext cx="853452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84B2E-759A-4108-874E-6D21D95ED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320" y="1600200"/>
            <a:ext cx="853452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EE262-B5A9-44C8-B080-15429372C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320" y="1600200"/>
            <a:ext cx="416484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960" y="1600200"/>
            <a:ext cx="416484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FDAA9-ACF2-4877-892C-F9219A9F2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6846B-332A-450C-88DC-F1F87FA11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320" y="228240"/>
            <a:ext cx="853452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71D2F-4D77-4474-A23E-91F0308ED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320" y="1600200"/>
            <a:ext cx="416484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960" y="1600200"/>
            <a:ext cx="416484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320" y="3947040"/>
            <a:ext cx="416484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FB7CF-4C60-4FE5-9624-E687CF369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320" y="1600200"/>
            <a:ext cx="853452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CBE0-FE9C-4574-95BC-C30F5C036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320" y="1600200"/>
            <a:ext cx="416484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960" y="1600200"/>
            <a:ext cx="416484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4960" y="3947040"/>
            <a:ext cx="416484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7E9AC-D233-4A50-89CC-6A8BE348C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320" y="1600200"/>
            <a:ext cx="416484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960" y="1600200"/>
            <a:ext cx="416484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320" y="3947040"/>
            <a:ext cx="85345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7D16F-EECF-4AED-B423-6AC0AA49A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320" y="1600200"/>
            <a:ext cx="85345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320" y="3947040"/>
            <a:ext cx="85345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2F15F-69FD-4E8B-9959-36CCCF4D5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320" y="1600200"/>
            <a:ext cx="416484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960" y="1600200"/>
            <a:ext cx="416484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320" y="3947040"/>
            <a:ext cx="416484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4960" y="3947040"/>
            <a:ext cx="416484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38DD1-C862-46CC-AC5F-A14A1DA85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320" y="1600200"/>
            <a:ext cx="274788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7080" y="1600200"/>
            <a:ext cx="274788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2480" y="1600200"/>
            <a:ext cx="274788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320" y="3947040"/>
            <a:ext cx="274788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7080" y="3947040"/>
            <a:ext cx="274788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2480" y="3947040"/>
            <a:ext cx="274788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FECB5-7DC0-4E03-9F30-5F2E5E733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320" y="1600200"/>
            <a:ext cx="853452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E504-0181-4411-989D-28BC932A9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320" y="1600200"/>
            <a:ext cx="416484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960" y="1600200"/>
            <a:ext cx="416484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7692-7FA8-4D8E-B6C1-E07C0F44C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DDFF-80B2-4005-840F-3F962D595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320" y="228240"/>
            <a:ext cx="853452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5AD2-A146-458B-9E2D-80E88A51A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320" y="1600200"/>
            <a:ext cx="416484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960" y="1600200"/>
            <a:ext cx="416484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320" y="3947040"/>
            <a:ext cx="416484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3309-CF2F-46AA-84A9-D1C808B29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320" y="1600200"/>
            <a:ext cx="416484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960" y="1600200"/>
            <a:ext cx="416484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960" y="3947040"/>
            <a:ext cx="416484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C5A7-5B5E-4B0E-9FCD-D858FC0C1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320" y="1600200"/>
            <a:ext cx="416484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960" y="1600200"/>
            <a:ext cx="416484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320" y="3947040"/>
            <a:ext cx="85345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B1C6-9867-4FAC-8597-F210CF178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600"/>
              <a:ext cx="2200320" cy="2694960"/>
              <a:chOff x="3600" y="3639600"/>
              <a:chExt cx="2200320" cy="2694960"/>
            </a:xfrm>
          </p:grpSpPr>
          <p:sp>
            <p:nvSpPr>
              <p:cNvPr id="16" name=""/>
              <p:cNvSpPr/>
              <p:nvPr/>
            </p:nvSpPr>
            <p:spPr>
              <a:xfrm rot="6780000">
                <a:off x="103320" y="615672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80000">
                <a:off x="57240" y="61534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80000">
                <a:off x="14400" y="61455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000000">
                <a:off x="338400" y="616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000000">
                <a:off x="29556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0000">
                <a:off x="241560" y="61696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40000">
                <a:off x="195480" y="6166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400000">
                <a:off x="58284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400000">
                <a:off x="534240" y="6146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0000">
                <a:off x="48600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600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40000">
                <a:off x="824040" y="6077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0000">
                <a:off x="773280" y="6084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00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00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40000">
                <a:off x="1054440" y="5971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40000">
                <a:off x="1006560" y="6000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080000">
                <a:off x="963720" y="60123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00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00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00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00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40000">
                <a:off x="1138320" y="59270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280000">
                <a:off x="1469520" y="5688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280000">
                <a:off x="1431720" y="57178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00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00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00000">
                <a:off x="1636200" y="550836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00000">
                <a:off x="1607760" y="554652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800000">
                <a:off x="1572840" y="5581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800000">
                <a:off x="1537920" y="56242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0000">
                <a:off x="1766520" y="531972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0000">
                <a:off x="1747800" y="5362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20000">
                <a:off x="1730520" y="54039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20000">
                <a:off x="1695600" y="54356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80000">
                <a:off x="1860120" y="511308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40000">
                <a:off x="184608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20000">
                <a:off x="183168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20000">
                <a:off x="1810800" y="52383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0000">
                <a:off x="1922040" y="49212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906560" y="4956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905120" y="4995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40000">
                <a:off x="1887120" y="50306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880000">
                <a:off x="1935000" y="470808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200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200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00000">
                <a:off x="1933200" y="483228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0000">
                <a:off x="1917720" y="4512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40000">
                <a:off x="1925280" y="45460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40000">
                <a:off x="1929960" y="45842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60000">
                <a:off x="1934640" y="4632480"/>
                <a:ext cx="136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40000">
                <a:off x="1855800" y="4328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20000">
                <a:off x="1868400" y="4370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20000">
                <a:off x="1881360" y="44064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20000">
                <a:off x="1897200" y="4438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80000">
                <a:off x="1747800" y="41778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40000">
                <a:off x="1770120" y="42001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60000">
                <a:off x="1793880" y="42397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60000">
                <a:off x="1814400" y="426672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40000">
                <a:off x="1615680" y="4033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40000">
                <a:off x="1649160" y="4063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40000">
                <a:off x="1672920" y="40888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60000">
                <a:off x="170172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600000">
                <a:off x="-344880" y="4974840"/>
                <a:ext cx="1946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40000">
                <a:off x="9000" y="4987800"/>
                <a:ext cx="16369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60000">
                <a:off x="1440720" y="39312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60000">
                <a:off x="1477080" y="3951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60000">
                <a:off x="151416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00000">
                <a:off x="1546200" y="39841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40000">
                <a:off x="1253160" y="38570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40000">
                <a:off x="1295640" y="38692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60000">
                <a:off x="1329120" y="38804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60000">
                <a:off x="1369080" y="390420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80000">
                <a:off x="1035360" y="3808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0000">
                <a:off x="1075320" y="38199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0000">
                <a:off x="1123200" y="38278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580000">
                <a:off x="1170720" y="383760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40000">
                <a:off x="805680" y="3810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0000">
                <a:off x="846720" y="381060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20000">
                <a:off x="894240" y="38055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6980000">
                <a:off x="948600" y="38055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380000">
                <a:off x="565920" y="3840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60000">
                <a:off x="613080" y="3835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20000">
                <a:off x="670680" y="38296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40000">
                <a:off x="714600" y="381996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80000">
                <a:off x="329040" y="3908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60000">
                <a:off x="383040" y="38930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0000">
                <a:off x="425880" y="3875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60000">
                <a:off x="465840" y="3859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0000">
                <a:off x="14760" y="4051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00000">
                <a:off x="103680" y="40071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60000">
                <a:off x="148320" y="39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60000">
                <a:off x="191160" y="396756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20000">
                <a:off x="245160" y="3939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40000">
                <a:off x="0" y="534312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300000">
                <a:off x="810720" y="55162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300000">
                <a:off x="55080" y="443664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40000">
                <a:off x="1112400" y="453060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880000">
                <a:off x="316800" y="621504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60000">
                <a:off x="72360" y="621324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200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780000">
                <a:off x="1064880" y="5996160"/>
                <a:ext cx="209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100000">
                <a:off x="1488960" y="5680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00000">
                <a:off x="-2376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80000">
                <a:off x="215640" y="386856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0000">
                <a:off x="713880" y="375876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280000">
                <a:off x="94896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40000">
                <a:off x="1173960" y="3797640"/>
                <a:ext cx="245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20000">
                <a:off x="1380240" y="3867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60000">
                <a:off x="1563840" y="3970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380000">
                <a:off x="1711440" y="411012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60000">
                <a:off x="1825560" y="42735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00000">
                <a:off x="1907640" y="4457520"/>
                <a:ext cx="2653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20000">
                <a:off x="1940040" y="46558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00000">
                <a:off x="1925280" y="48686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720000">
                <a:off x="1793880" y="52959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00000">
                <a:off x="1652400" y="550044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0000">
                <a:off x="1874880" y="5074920"/>
                <a:ext cx="255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20000">
                <a:off x="46656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20000">
                <a:off x="981720" y="563652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75967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20000">
                <a:off x="464760" y="4841640"/>
                <a:ext cx="351000" cy="276120"/>
              </a:xfrm>
              <a:prstGeom prst="ellipse">
                <a:avLst/>
              </a:prstGeom>
              <a:gradFill rotWithShape="0">
                <a:gsLst>
                  <a:gs pos="0">
                    <a:srgbClr val="5b5d6b"/>
                  </a:gs>
                  <a:gs pos="50000">
                    <a:srgbClr val="525460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276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8936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312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32C108-3DFB-4AF8-8FC6-F719580AEDAC}" type="slidenum"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320" y="1600200"/>
            <a:ext cx="853452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6560" indent="-27936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fa9b7"/>
              </a:buClr>
              <a:buSzPct val="80000"/>
              <a:buFont typeface="Arial"/>
              <a:buChar char="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600"/>
              <a:ext cx="2200320" cy="2694960"/>
              <a:chOff x="3600" y="3639600"/>
              <a:chExt cx="2200320" cy="2694960"/>
            </a:xfrm>
          </p:grpSpPr>
          <p:sp>
            <p:nvSpPr>
              <p:cNvPr id="208" name=""/>
              <p:cNvSpPr/>
              <p:nvPr/>
            </p:nvSpPr>
            <p:spPr>
              <a:xfrm rot="6780000">
                <a:off x="103320" y="615672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80000">
                <a:off x="57240" y="61534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80000">
                <a:off x="14400" y="61455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6000000">
                <a:off x="338400" y="616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6000000">
                <a:off x="29556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0000">
                <a:off x="241560" y="61696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40000">
                <a:off x="195480" y="6166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400000">
                <a:off x="58284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400000">
                <a:off x="534240" y="6146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0000">
                <a:off x="48600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600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40000">
                <a:off x="824040" y="6077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0000">
                <a:off x="773280" y="6084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00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00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40000">
                <a:off x="1054440" y="5971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40000">
                <a:off x="1006560" y="6000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080000">
                <a:off x="963720" y="60123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00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00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00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00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40000">
                <a:off x="1138320" y="59270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280000">
                <a:off x="1469520" y="5688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280000">
                <a:off x="1431720" y="57178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00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00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00000">
                <a:off x="1636200" y="550836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00000">
                <a:off x="1607760" y="554652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800000">
                <a:off x="1572840" y="5581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800000">
                <a:off x="1537920" y="56242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0000">
                <a:off x="1766520" y="531972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0000">
                <a:off x="1747800" y="5362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20000">
                <a:off x="1730520" y="54039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20000">
                <a:off x="1695600" y="54356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80000">
                <a:off x="1860120" y="511308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40000">
                <a:off x="184608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20000">
                <a:off x="183168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20000">
                <a:off x="1810800" y="52383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0000">
                <a:off x="1922040" y="49212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906560" y="4956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905120" y="4995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40000">
                <a:off x="1887120" y="50306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880000">
                <a:off x="1935000" y="470808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200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200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00000">
                <a:off x="1933200" y="483228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0000">
                <a:off x="1917720" y="4512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40000">
                <a:off x="1925280" y="45460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40000">
                <a:off x="1929960" y="45842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60000">
                <a:off x="1934640" y="4632480"/>
                <a:ext cx="136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40000">
                <a:off x="1855800" y="4328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20000">
                <a:off x="1868400" y="4370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20000">
                <a:off x="1881360" y="44064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20000">
                <a:off x="1897200" y="4438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80000">
                <a:off x="1747800" y="41778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40000">
                <a:off x="1770120" y="42001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60000">
                <a:off x="1793880" y="42397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60000">
                <a:off x="1814400" y="426672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40000">
                <a:off x="1615680" y="4033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40000">
                <a:off x="1649160" y="4063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40000">
                <a:off x="1672920" y="40888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60000">
                <a:off x="170172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600000">
                <a:off x="-344880" y="4974840"/>
                <a:ext cx="1946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40000">
                <a:off x="9000" y="4987800"/>
                <a:ext cx="16369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60000">
                <a:off x="1440720" y="39312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60000">
                <a:off x="1477080" y="3951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60000">
                <a:off x="151416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00000">
                <a:off x="1546200" y="39841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40000">
                <a:off x="1253160" y="38570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40000">
                <a:off x="1295640" y="38692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60000">
                <a:off x="1329120" y="38804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60000">
                <a:off x="1369080" y="390420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80000">
                <a:off x="1035360" y="3808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0000">
                <a:off x="1075320" y="38199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0000">
                <a:off x="1123200" y="38278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580000">
                <a:off x="1170720" y="383760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40000">
                <a:off x="805680" y="3810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0000">
                <a:off x="846720" y="381060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20000">
                <a:off x="894240" y="38055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6980000">
                <a:off x="948600" y="38055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380000">
                <a:off x="565920" y="3840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60000">
                <a:off x="613080" y="3835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20000">
                <a:off x="670680" y="38296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40000">
                <a:off x="714600" y="381996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80000">
                <a:off x="329040" y="3908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60000">
                <a:off x="383040" y="38930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0000">
                <a:off x="425880" y="3875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60000">
                <a:off x="465840" y="3859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0000">
                <a:off x="14760" y="4051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00000">
                <a:off x="103680" y="40071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60000">
                <a:off x="148320" y="39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60000">
                <a:off x="191160" y="396756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20000">
                <a:off x="245160" y="3939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40000">
                <a:off x="0" y="534312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300000">
                <a:off x="810720" y="55162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300000">
                <a:off x="55080" y="443664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40000">
                <a:off x="1112400" y="453060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880000">
                <a:off x="316800" y="621504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60000">
                <a:off x="72360" y="621324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200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780000">
                <a:off x="1064880" y="5996160"/>
                <a:ext cx="209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100000">
                <a:off x="1488960" y="5680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00000">
                <a:off x="-2376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80000">
                <a:off x="215640" y="386856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0000">
                <a:off x="713880" y="375876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280000">
                <a:off x="94896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40000">
                <a:off x="1173960" y="3797640"/>
                <a:ext cx="245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20000">
                <a:off x="1380240" y="3867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60000">
                <a:off x="1563840" y="3970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380000">
                <a:off x="1711440" y="411012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60000">
                <a:off x="1825560" y="42735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00000">
                <a:off x="1907640" y="4457520"/>
                <a:ext cx="2653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20000">
                <a:off x="1940040" y="46558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00000">
                <a:off x="1925280" y="48686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720000">
                <a:off x="1793880" y="52959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00000">
                <a:off x="1652400" y="550044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0000">
                <a:off x="1874880" y="5074920"/>
                <a:ext cx="255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20000">
                <a:off x="46656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20000">
                <a:off x="981720" y="563652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75967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20000">
                <a:off x="464760" y="4841640"/>
                <a:ext cx="351000" cy="276120"/>
              </a:xfrm>
              <a:prstGeom prst="ellipse">
                <a:avLst/>
              </a:prstGeom>
              <a:gradFill rotWithShape="0">
                <a:gsLst>
                  <a:gs pos="0">
                    <a:srgbClr val="5b5d6b"/>
                  </a:gs>
                  <a:gs pos="50000">
                    <a:srgbClr val="525460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6520"/>
            <a:ext cx="7765920" cy="17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795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000" spc="-1" strike="noStrike">
                <a:solidFill>
                  <a:srgbClr val="ffffff"/>
                </a:solidFill>
                <a:latin typeface="Tahom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ahoma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000" spc="-1" strike="noStrike">
                <a:solidFill>
                  <a:srgbClr val="ffffff"/>
                </a:solidFill>
                <a:latin typeface="Tahoma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ahoma"/>
                <a:ea typeface="Lucida Sans Unicode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27988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000" spc="-1" strike="noStrike">
                <a:solidFill>
                  <a:srgbClr val="ffffff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39A8F4-BB48-4DE3-9E03-F37B029197E9}" type="slidenum">
              <a:rPr b="0" lang="en-GB" sz="1000" spc="-1" strike="noStrike">
                <a:solidFill>
                  <a:srgbClr val="ffffff"/>
                </a:solidFill>
                <a:latin typeface="Tahoma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312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6600" indent="-336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6560" indent="-27936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fa9b7"/>
              </a:buClr>
              <a:buSzPct val="80000"/>
              <a:buFont typeface="Arial"/>
              <a:buChar char="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8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ngm.nationalgeographic.com/ngm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5400" spc="-1" strike="noStrike">
                <a:solidFill>
                  <a:srgbClr val="ffffcc"/>
                </a:solidFill>
                <a:latin typeface="Tahoma"/>
              </a:rPr>
              <a:t>Los Biocombustibles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7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Guy Weissing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Spanish 31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1"/>
          <a:stretch/>
        </p:blipFill>
        <p:spPr>
          <a:xfrm>
            <a:off x="2590920" y="2438280"/>
            <a:ext cx="3809880" cy="253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ahoma"/>
                <a:ea typeface="宋体"/>
              </a:rPr>
              <a:t>¿ Qué son los biocombustibles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99840"/>
            <a:ext cx="44989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Los combustibles de origen biológico pero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6560" indent="-27936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Son formados de organismos recientemente viv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No de el presión geológic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6560" indent="-27936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Normalmente de plant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1"/>
          <a:stretch/>
        </p:blipFill>
        <p:spPr>
          <a:xfrm>
            <a:off x="5029200" y="2133720"/>
            <a:ext cx="3889440" cy="311292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/>
          <p:nvPr/>
        </p:nvSpPr>
        <p:spPr>
          <a:xfrm>
            <a:off x="4114800" y="5349960"/>
            <a:ext cx="4994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ww.grain.org/seedling_files/cut_sugarcane.jp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ahoma"/>
              </a:rPr>
              <a:t>Tipos de Biocombustibl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11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El Bioetano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6560" indent="-27936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Alcohol producido por fermentación de el azúcar de planta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6600" indent="0"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6600" indent="-33660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El Biodies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6560" indent="-27936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Un biocarburante que se obtienen de partir de aceites veget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4" name="" descr=""/>
          <p:cNvPicPr/>
          <p:nvPr/>
        </p:nvPicPr>
        <p:blipFill>
          <a:blip r:embed="rId1"/>
          <a:stretch/>
        </p:blipFill>
        <p:spPr>
          <a:xfrm>
            <a:off x="4800600" y="1600200"/>
            <a:ext cx="3965400" cy="449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ahoma"/>
              </a:rPr>
              <a:t>El Bioetanol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301680" y="1455840"/>
            <a:ext cx="419400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3000" indent="-33300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Es un alcohol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3000" indent="-33300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Producido por fermentación d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9000" indent="-276480">
              <a:lnSpc>
                <a:spcPct val="9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productos azucarado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9000" indent="-276480">
              <a:lnSpc>
                <a:spcPct val="9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almidón de gran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3000" indent="-33300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Se puede producirlo usando muchas plant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9000" indent="-276480">
              <a:lnSpc>
                <a:spcPct val="90000"/>
              </a:lnSpc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El maíz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9000" indent="-276480">
              <a:lnSpc>
                <a:spcPct val="90000"/>
              </a:lnSpc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La caña de azúca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9000" indent="-276480">
              <a:lnSpc>
                <a:spcPct val="90000"/>
              </a:lnSpc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El trig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5105520" y="1371600"/>
            <a:ext cx="2361960" cy="2095560"/>
          </a:xfrm>
          <a:prstGeom prst="rect">
            <a:avLst/>
          </a:prstGeom>
          <a:ln w="0">
            <a:noFill/>
          </a:ln>
        </p:spPr>
      </p:pic>
      <p:pic>
        <p:nvPicPr>
          <p:cNvPr id="408" name="" descr=""/>
          <p:cNvPicPr/>
          <p:nvPr/>
        </p:nvPicPr>
        <p:blipFill>
          <a:blip r:embed="rId2"/>
          <a:stretch/>
        </p:blipFill>
        <p:spPr>
          <a:xfrm>
            <a:off x="5186520" y="3778200"/>
            <a:ext cx="2446200" cy="266688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/>
          <p:nvPr/>
        </p:nvSpPr>
        <p:spPr>
          <a:xfrm>
            <a:off x="685800" y="5989680"/>
            <a:ext cx="48006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http://fichas.infojardin.com/foto-hortalizas-verduras/beta-vulgaris-remolachas-me.jp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7543800" y="1555920"/>
            <a:ext cx="1600200" cy="16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http://paulbuckley14059.files.wordpress.com/2007/09/corn.jp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ahoma"/>
              </a:rPr>
              <a:t>El Biodiesel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4724280" cy="31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Producido con una reacción transesterificación de un aceite y metano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6600" indent="-33660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Producido con los aceites de muchas plant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6560" indent="-279360">
              <a:lnSpc>
                <a:spcPct val="90000"/>
              </a:lnSpc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La Soj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6560" indent="-279360">
              <a:lnSpc>
                <a:spcPct val="90000"/>
              </a:lnSpc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La Colz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6560" indent="-279360">
              <a:lnSpc>
                <a:spcPct val="90000"/>
              </a:lnSpc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Las Semillas de Girasol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6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3" name="" descr=""/>
          <p:cNvPicPr/>
          <p:nvPr/>
        </p:nvPicPr>
        <p:blipFill>
          <a:blip r:embed="rId1"/>
          <a:stretch/>
        </p:blipFill>
        <p:spPr>
          <a:xfrm>
            <a:off x="5105520" y="1828800"/>
            <a:ext cx="3735360" cy="3352680"/>
          </a:xfrm>
          <a:prstGeom prst="rect">
            <a:avLst/>
          </a:prstGeom>
          <a:ln w="0">
            <a:noFill/>
          </a:ln>
        </p:spPr>
      </p:pic>
      <p:pic>
        <p:nvPicPr>
          <p:cNvPr id="414" name="" descr=""/>
          <p:cNvPicPr/>
          <p:nvPr/>
        </p:nvPicPr>
        <p:blipFill>
          <a:blip r:embed="rId2"/>
          <a:stretch/>
        </p:blipFill>
        <p:spPr>
          <a:xfrm>
            <a:off x="609480" y="4419720"/>
            <a:ext cx="4114800" cy="217332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/>
          <p:nvPr/>
        </p:nvSpPr>
        <p:spPr>
          <a:xfrm>
            <a:off x="4802040" y="6172200"/>
            <a:ext cx="411336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http://upload.wikimedia.org/wikipedia/commons/thumb/d/d5/Sunflowers.jpg/800px-Sunflowers.jp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5257800" y="5257800"/>
            <a:ext cx="365760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Arial"/>
              </a:rPr>
              <a:t>http://img.alibaba.com/photo/11378152/Pri_Bio_Diesel_Production_Systems.jpg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ahoma"/>
              </a:rPr>
              <a:t>Los Usos de los Biocombustibl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Bioetano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6560" indent="-279360">
              <a:lnSpc>
                <a:spcPct val="9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Se mezcla con el petróle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6560" indent="-279360">
              <a:lnSpc>
                <a:spcPct val="9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Necesita un motor especial para usar solo el bioetanol en un coch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6600" indent="-33660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Biodies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6560" indent="-279360">
              <a:lnSpc>
                <a:spcPct val="9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Se puede usar en un automóvil que usa el dies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9" name="" descr=""/>
          <p:cNvPicPr/>
          <p:nvPr/>
        </p:nvPicPr>
        <p:blipFill>
          <a:blip r:embed="rId1"/>
          <a:stretch/>
        </p:blipFill>
        <p:spPr>
          <a:xfrm>
            <a:off x="5486400" y="2133720"/>
            <a:ext cx="2610000" cy="304776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/>
          <p:nvPr/>
        </p:nvSpPr>
        <p:spPr>
          <a:xfrm>
            <a:off x="5257800" y="5397480"/>
            <a:ext cx="342900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Arial"/>
              </a:rPr>
              <a:t>http://www.wikilearning.com/imagescc/14301/cartel_bioetanol_grande.JPG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ahoma"/>
              </a:rPr>
              <a:t>Ventajas de los Biocombustibl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546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Disminuye las principales emisiones de coch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6560" indent="-27936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Entre un 25% y un 80% de los emisiones de CO2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6600" indent="-33660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Mejoría la calidad del aire de los ciudad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6600" indent="-33660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Favorece el mercado doméstic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6600" indent="0"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6600" indent="0"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3" name="" descr=""/>
          <p:cNvPicPr/>
          <p:nvPr/>
        </p:nvPicPr>
        <p:blipFill>
          <a:blip r:embed="rId1"/>
          <a:stretch/>
        </p:blipFill>
        <p:spPr>
          <a:xfrm>
            <a:off x="4648320" y="2133720"/>
            <a:ext cx="4343400" cy="3790800"/>
          </a:xfrm>
          <a:prstGeom prst="rect">
            <a:avLst/>
          </a:prstGeom>
          <a:ln w="0">
            <a:noFill/>
          </a:ln>
        </p:spPr>
      </p:pic>
      <p:sp>
        <p:nvSpPr>
          <p:cNvPr id="424" name=""/>
          <p:cNvSpPr/>
          <p:nvPr/>
        </p:nvSpPr>
        <p:spPr>
          <a:xfrm>
            <a:off x="4572000" y="5989680"/>
            <a:ext cx="4289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http://www.teamethanol.com.au/web_images/web%20car%20and%20cane1.jp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ffffcc"/>
                </a:solidFill>
                <a:latin typeface="Tahoma"/>
              </a:rPr>
              <a:t>Desventajas de los Biocombustible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Hay efectos por la economí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6600" indent="-33660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Las plantas necesitan mucho agu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6600" indent="-33660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No hay la tierra cultivable para usar solo los biocombustib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7" name="" descr=""/>
          <p:cNvPicPr/>
          <p:nvPr/>
        </p:nvPicPr>
        <p:blipFill>
          <a:blip r:embed="rId1"/>
          <a:stretch/>
        </p:blipFill>
        <p:spPr>
          <a:xfrm>
            <a:off x="4648320" y="2438280"/>
            <a:ext cx="4194000" cy="246060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/>
          <p:nvPr/>
        </p:nvSpPr>
        <p:spPr>
          <a:xfrm>
            <a:off x="4362480" y="5303880"/>
            <a:ext cx="47815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http://www.vestaldesign.com/blog/wp-content/uploads/farmers-ethanol-plants.jp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01680" y="317520"/>
            <a:ext cx="8540640" cy="105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ahoma"/>
              </a:rPr>
              <a:t>La Bibliografí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20480" y="1600200"/>
            <a:ext cx="754380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6600" indent="-336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ccccff"/>
                </a:solidFill>
                <a:latin typeface="Tahoma"/>
                <a:ea typeface="Tahoma"/>
              </a:rPr>
              <a:t>http://html.rincondelvago.com/biocombustibles.html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6600" indent="-336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1"/>
              </a:rPr>
              <a:t>http://ngm.nationalgeographic.com/ngm/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6600" indent="0">
              <a:spcBef>
                <a:spcPts val="7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ccccff"/>
                </a:solidFill>
                <a:latin typeface="Tahoma"/>
                <a:ea typeface="Tahoma"/>
              </a:rPr>
              <a:t>2007-10/biofuels/biofuels-p2.html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6600" indent="-336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ccccff"/>
                </a:solidFill>
                <a:latin typeface="Tahoma"/>
                <a:ea typeface="Tahoma"/>
              </a:rPr>
              <a:t>http://en.wikipedia.org/wiki/Biofuel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6600" indent="0">
              <a:spcBef>
                <a:spcPts val="7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6600" indent="0">
              <a:spcBef>
                <a:spcPts val="7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anguage Resource Center</dc:creator>
  <dc:description/>
  <dc:language>en-US</dc:language>
  <cp:lastModifiedBy>Language Resource Center</cp:lastModifiedBy>
  <cp:revision>0</cp:revision>
  <dc:subject/>
  <dc:title>Los Biocombustibles</dc:title>
</cp:coreProperties>
</file>