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9597A-B44D-4915-9A13-751C558FCC5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E4B-5CDA-4873-928A-C3DA2911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534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320" y="3947040"/>
            <a:ext cx="8534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718-268C-4D72-A02A-000E1DA3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32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96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4C70-D0F2-4614-8F6B-F06D7720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7080" y="160020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2480" y="160020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320" y="394704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7080" y="394704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2480" y="394704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770E-E9A5-46F1-9FEF-BB72ACDC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C657-C73A-4912-B625-F73D2A1E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320" y="1600200"/>
            <a:ext cx="85345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8C29-EC0D-4F01-97A0-429DA729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5345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B3D9-2D6B-4B95-9BFA-DD00776F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DE43-E60E-4433-8B03-53C68401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5B4E-87A4-421E-B7D9-9FE23313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345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8E92-1D2B-4CF5-8677-3518F373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32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A64A-5136-4787-B0DB-DF370CAC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320" y="1600200"/>
            <a:ext cx="85345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094-9865-4AB5-8E7C-61A7FD4A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96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030B-95E9-4EE4-843C-7EBE6ADA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320" y="3947040"/>
            <a:ext cx="8534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4B34-771E-4DD5-966D-4F2B6FB0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534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320" y="3947040"/>
            <a:ext cx="8534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FEA5-3573-4A9D-A6E0-E4A29B47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32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96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51E1-61FF-4153-AE18-7BE3C3E4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7080" y="160020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2480" y="160020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320" y="394704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7080" y="394704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2480" y="3947040"/>
            <a:ext cx="27478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370D-0A53-4A7E-97E3-77E79B87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5345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7B1-5113-4321-A240-6F9283D0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4C1-FEE1-4DC5-A4D2-13533F9D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340-2E5A-475C-B136-6E8D5225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345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DAB-D358-437B-9191-AD3ADD22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32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743-D543-4912-B5B8-F1DF11E8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960" y="394704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775-E7C9-439E-87BC-6CCE34EE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164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320" y="3947040"/>
            <a:ext cx="8534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946-3070-4847-A445-959FBAD3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600"/>
              <a:ext cx="2200320" cy="2694960"/>
              <a:chOff x="3600" y="3639600"/>
              <a:chExt cx="2200320" cy="2694960"/>
            </a:xfrm>
          </p:grpSpPr>
          <p:sp>
            <p:nvSpPr>
              <p:cNvPr id="16" name=""/>
              <p:cNvSpPr/>
              <p:nvPr/>
            </p:nvSpPr>
            <p:spPr>
              <a:xfrm rot="6780000">
                <a:off x="103320" y="61567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80000">
                <a:off x="57240" y="61534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80000">
                <a:off x="14400" y="614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000000">
                <a:off x="338400" y="616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000000">
                <a:off x="29556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0000">
                <a:off x="24156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40000">
                <a:off x="195480" y="616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400000">
                <a:off x="58284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400000">
                <a:off x="534240" y="6146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0000">
                <a:off x="48600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600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40000">
                <a:off x="824040" y="6077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0000">
                <a:off x="773280" y="608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00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00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40000">
                <a:off x="1054440" y="5971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40000">
                <a:off x="1006560" y="6000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080000">
                <a:off x="963720" y="60123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00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00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00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00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40000">
                <a:off x="1138320" y="5927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280000">
                <a:off x="1469520" y="5688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280000">
                <a:off x="1431720" y="57178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00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00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00000">
                <a:off x="1636200" y="55083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00000">
                <a:off x="1607760" y="55465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800000">
                <a:off x="1572840" y="5581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800000">
                <a:off x="1537920" y="56242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0000">
                <a:off x="1766520" y="53197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0000">
                <a:off x="1747800" y="5362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20000">
                <a:off x="1730520" y="54039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1695600" y="54356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80000">
                <a:off x="1860120" y="51130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40000">
                <a:off x="184608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20000">
                <a:off x="183168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20000">
                <a:off x="1810800" y="52383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0000">
                <a:off x="1922040" y="49212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6560" y="4956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5120" y="4995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40000">
                <a:off x="1887120" y="50306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880000">
                <a:off x="1935000" y="470808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200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200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00000">
                <a:off x="1933200" y="48322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0000">
                <a:off x="1917720" y="4512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40000">
                <a:off x="1925280" y="45460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40000">
                <a:off x="1929960" y="45842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60000">
                <a:off x="1934640" y="4632480"/>
                <a:ext cx="136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40000">
                <a:off x="1855800" y="4328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20000">
                <a:off x="1868400" y="4370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20000">
                <a:off x="1881360" y="44064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20000">
                <a:off x="1897200" y="4438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80000">
                <a:off x="1747800" y="41778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40000">
                <a:off x="1770120" y="4200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60000">
                <a:off x="1793880" y="42397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60000">
                <a:off x="1814400" y="426672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40000">
                <a:off x="1615680" y="4033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40000">
                <a:off x="1649160" y="4063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40000">
                <a:off x="1672920" y="40888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60000">
                <a:off x="170172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600000">
                <a:off x="-344880" y="4974840"/>
                <a:ext cx="1946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40000">
                <a:off x="9000" y="4987800"/>
                <a:ext cx="16369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60000">
                <a:off x="1440720" y="39312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60000">
                <a:off x="1477080" y="3951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60000">
                <a:off x="151416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00000">
                <a:off x="1546200" y="3984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40000">
                <a:off x="1253160" y="38570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40000">
                <a:off x="1295640" y="38692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60000">
                <a:off x="1329120" y="38804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60000">
                <a:off x="1369080" y="390420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80000">
                <a:off x="1035360" y="3808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0000">
                <a:off x="1075320" y="38199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0000">
                <a:off x="1123200" y="38278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580000">
                <a:off x="1170720" y="38376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40000">
                <a:off x="805680" y="3810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0000">
                <a:off x="846720" y="38106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20000">
                <a:off x="894240" y="380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980000">
                <a:off x="948600" y="380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380000">
                <a:off x="565920" y="3840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60000">
                <a:off x="613080" y="3835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20000">
                <a:off x="670680" y="382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40000">
                <a:off x="714600" y="38199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80000">
                <a:off x="329040" y="3908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60000">
                <a:off x="383040" y="3893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0000">
                <a:off x="425880" y="3875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60000">
                <a:off x="465840" y="3859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0000">
                <a:off x="14760" y="4051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00000">
                <a:off x="103680" y="40071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60000">
                <a:off x="148320" y="39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60000">
                <a:off x="191160" y="39675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20000">
                <a:off x="245160" y="3939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000">
                <a:off x="0" y="53431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300000">
                <a:off x="810720" y="55162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300000">
                <a:off x="55080" y="44366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1112400" y="453060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880000">
                <a:off x="316800" y="621504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60000">
                <a:off x="72360" y="621324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200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780000">
                <a:off x="1064880" y="5996160"/>
                <a:ext cx="209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00000">
                <a:off x="1488960" y="5680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00000">
                <a:off x="-2376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80000">
                <a:off x="215640" y="38685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0000">
                <a:off x="713880" y="375876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280000">
                <a:off x="94896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40000">
                <a:off x="1173960" y="3797640"/>
                <a:ext cx="245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20000">
                <a:off x="1380240" y="3867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60000">
                <a:off x="1563840" y="3970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380000">
                <a:off x="1711440" y="411012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60000">
                <a:off x="1825560" y="42735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00000">
                <a:off x="1907640" y="4457520"/>
                <a:ext cx="2653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20000">
                <a:off x="1940040" y="46558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00000">
                <a:off x="1925280" y="48686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20000">
                <a:off x="1793880" y="52959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00000">
                <a:off x="1652400" y="550044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0000">
                <a:off x="1874880" y="5074920"/>
                <a:ext cx="255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20000">
                <a:off x="46656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20000">
                <a:off x="981720" y="56365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7596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20000">
                <a:off x="464760" y="4841640"/>
                <a:ext cx="351000" cy="27612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2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3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16B47-2171-4E2E-A8BE-9811E700CD71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320" y="1600200"/>
            <a:ext cx="85345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600"/>
              <a:ext cx="2200320" cy="2694960"/>
              <a:chOff x="3600" y="3639600"/>
              <a:chExt cx="2200320" cy="2694960"/>
            </a:xfrm>
          </p:grpSpPr>
          <p:sp>
            <p:nvSpPr>
              <p:cNvPr id="208" name=""/>
              <p:cNvSpPr/>
              <p:nvPr/>
            </p:nvSpPr>
            <p:spPr>
              <a:xfrm rot="6780000">
                <a:off x="103320" y="61567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80000">
                <a:off x="57240" y="61534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80000">
                <a:off x="14400" y="614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000000">
                <a:off x="338400" y="616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000000">
                <a:off x="29556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0000">
                <a:off x="24156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0000">
                <a:off x="195480" y="616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58284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534240" y="6146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0000">
                <a:off x="48600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600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40000">
                <a:off x="824040" y="6077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0000">
                <a:off x="773280" y="608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00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00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40000">
                <a:off x="1054440" y="5971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40000">
                <a:off x="1006560" y="6000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080000">
                <a:off x="963720" y="60123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00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00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00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00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40000">
                <a:off x="1138320" y="5927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80000">
                <a:off x="1469520" y="5688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280000">
                <a:off x="1431720" y="57178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00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00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00000">
                <a:off x="1636200" y="55083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00000">
                <a:off x="1607760" y="55465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00000">
                <a:off x="1572840" y="5581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800000">
                <a:off x="1537920" y="56242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0000">
                <a:off x="1766520" y="53197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0000">
                <a:off x="1747800" y="5362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20000">
                <a:off x="1730520" y="54039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20000">
                <a:off x="1695600" y="54356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80000">
                <a:off x="1860120" y="51130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40000">
                <a:off x="184608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20000">
                <a:off x="183168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20000">
                <a:off x="1810800" y="52383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0000">
                <a:off x="1922040" y="49212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06560" y="4956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05120" y="4995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40000">
                <a:off x="1887120" y="50306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880000">
                <a:off x="1935000" y="470808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200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200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00000">
                <a:off x="1933200" y="48322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0000">
                <a:off x="1917720" y="4512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40000">
                <a:off x="1925280" y="45460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40000">
                <a:off x="1929960" y="45842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60000">
                <a:off x="1934640" y="4632480"/>
                <a:ext cx="136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40000">
                <a:off x="1855800" y="4328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20000">
                <a:off x="1868400" y="4370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20000">
                <a:off x="1881360" y="44064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20000">
                <a:off x="1897200" y="4438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80000">
                <a:off x="1747800" y="41778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40000">
                <a:off x="1770120" y="4200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60000">
                <a:off x="1793880" y="42397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60000">
                <a:off x="1814400" y="426672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40000">
                <a:off x="1615680" y="4033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40000">
                <a:off x="1649160" y="4063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40000">
                <a:off x="1672920" y="40888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60000">
                <a:off x="170172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600000">
                <a:off x="-344880" y="4974840"/>
                <a:ext cx="1946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40000">
                <a:off x="9000" y="4987800"/>
                <a:ext cx="16369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60000">
                <a:off x="1440720" y="39312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60000">
                <a:off x="1477080" y="3951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60000">
                <a:off x="151416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00000">
                <a:off x="1546200" y="3984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40000">
                <a:off x="1253160" y="38570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40000">
                <a:off x="1295640" y="38692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60000">
                <a:off x="1329120" y="38804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60000">
                <a:off x="1369080" y="390420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80000">
                <a:off x="1035360" y="3808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0000">
                <a:off x="1075320" y="38199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0000">
                <a:off x="1123200" y="38278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580000">
                <a:off x="1170720" y="38376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40000">
                <a:off x="805680" y="3810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0000">
                <a:off x="846720" y="38106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0000">
                <a:off x="894240" y="380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980000">
                <a:off x="948600" y="38055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80000">
                <a:off x="565920" y="3840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60000">
                <a:off x="613080" y="3835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20000">
                <a:off x="670680" y="382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40000">
                <a:off x="714600" y="38199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0000">
                <a:off x="329040" y="3908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60000">
                <a:off x="383040" y="3893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0000">
                <a:off x="425880" y="3875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60000">
                <a:off x="465840" y="3859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0000">
                <a:off x="14760" y="4051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00000">
                <a:off x="103680" y="40071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60000">
                <a:off x="148320" y="39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60000">
                <a:off x="191160" y="39675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20000">
                <a:off x="245160" y="3939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40000">
                <a:off x="0" y="53431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300000">
                <a:off x="810720" y="55162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300000">
                <a:off x="55080" y="44366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40000">
                <a:off x="1112400" y="453060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880000">
                <a:off x="316800" y="621504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60000">
                <a:off x="72360" y="621324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200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780000">
                <a:off x="1064880" y="5996160"/>
                <a:ext cx="209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00000">
                <a:off x="1488960" y="5680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00000">
                <a:off x="-2376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80000">
                <a:off x="215640" y="38685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0000">
                <a:off x="713880" y="375876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280000">
                <a:off x="94896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40000">
                <a:off x="1173960" y="3797640"/>
                <a:ext cx="245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20000">
                <a:off x="1380240" y="3867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60000">
                <a:off x="1563840" y="3970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380000">
                <a:off x="1711440" y="411012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60000">
                <a:off x="1825560" y="42735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00000">
                <a:off x="1907640" y="4457520"/>
                <a:ext cx="2653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20000">
                <a:off x="1940040" y="46558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00000">
                <a:off x="1925280" y="48686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20000">
                <a:off x="1793880" y="52959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00000">
                <a:off x="1652400" y="550044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0000">
                <a:off x="1874880" y="5074920"/>
                <a:ext cx="255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20000">
                <a:off x="46656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20000">
                <a:off x="981720" y="56365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7596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20000">
                <a:off x="464760" y="4841640"/>
                <a:ext cx="351000" cy="27612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795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2798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A08E3-C619-4DC8-833B-8625651CD5B8}" type="slidenum">
              <a:rPr b="0" lang="en-GB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gm.nationalgeographic.com/ng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Tahoma"/>
              </a:rPr>
              <a:t>Los Biocombustib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uy Weissi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panish 3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  <a:ea typeface="宋体"/>
              </a:rPr>
              <a:t>¿ Qué son los biocombustible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498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s combustibles de origen biológico per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on formados de organismos recientemente v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o de el presión geológ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rmalmente de plan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889440" cy="31129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114800" y="5349960"/>
            <a:ext cx="499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ww.grain.org/seedling_files/cut_sugarcan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Tipos de Biocombustib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l Bioetan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cohol producido por fermentación de el azúcar de plant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l Biodie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n biocarburante que se obtienen de partir de aceites veget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96540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El Bioetan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41940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s un alcohol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ducido por fermentación 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9000" indent="-2764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ductos azucarad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9000" indent="-2764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midón de gra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 puede producirlo usando muchas pla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l maí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 caña de azúc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9000" indent="-2764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l tri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2361960" cy="20955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5186520" y="3778200"/>
            <a:ext cx="2446200" cy="26668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85800" y="5989680"/>
            <a:ext cx="4800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fichas.infojardin.com/foto-hortalizas-verduras/beta-vulgaris-remolachas-m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543800" y="1555920"/>
            <a:ext cx="160020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aulbuckley14059.files.wordpress.com/2007/09/corn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El Biodiesel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72428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ducido con una reacción transesterificación de un aceite y metan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ducido con los aceites de muchas plan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 S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 Colz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s Semillas de Giraso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735360" cy="33526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4114800" cy="2173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802040" y="6172200"/>
            <a:ext cx="4113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http://upload.wikimedia.org/wikipedia/commons/thumb/d/d5/Sunflowers.jpg/800px-Sunflowers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257800" y="5257800"/>
            <a:ext cx="3657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http://img.alibaba.com/photo/11378152/Pri_Bio_Diesel_Production_Systems.jp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os Usos de los Biocombustib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ioetan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 mezcla con el petról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ecesita un motor especial para usar solo el bioetanol en un coc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iodie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 puede usar en un automóvil que usa el die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610000" cy="30477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5257800" y="5397480"/>
            <a:ext cx="3429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http://www.wikilearning.com/imagescc/14301/cartel_bioetanol_grande.JP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Ventajas de los Biocombustib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minuye las principales emisiones de coc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tre un 25% y un 80% de los emisiones de CO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joría la calidad del aire de los ciu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avorece el mercado domés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343400" cy="37908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4572000" y="5989680"/>
            <a:ext cx="4289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teamethanol.com.au/web_images/web%20car%20and%20cane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Desventajas de los Biocombustibl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y efectos por la econom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as plantas necesitan mucho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o hay la tierra cultivable para usar solo los biocombusti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4194000" cy="24606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362480" y="5303880"/>
            <a:ext cx="4781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vestaldesign.com/blog/wp-content/uploads/farmers-ethanol-plants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317520"/>
            <a:ext cx="854064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a Bibliografí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20480" y="1600200"/>
            <a:ext cx="754380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Tahoma"/>
                <a:ea typeface="Tahoma"/>
              </a:rPr>
              <a:t>http://html.rincondelvago.com/biocombustibles.htm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1"/>
              </a:rPr>
              <a:t>http://ngm.nationalgeographic.com/ngm/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Tahoma"/>
                <a:ea typeface="Tahoma"/>
              </a:rPr>
              <a:t>2007-10/biofuels/biofuels-p2.htm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600" indent="-336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Tahoma"/>
                <a:ea typeface="Tahoma"/>
              </a:rPr>
              <a:t>http://en.wikipedia.org/wiki/Biofuel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nguage Resource Center</dc:creator>
  <dc:description/>
  <dc:language>en-US</dc:language>
  <cp:lastModifiedBy>Language Resource Center</cp:lastModifiedBy>
  <cp:revision>0</cp:revision>
  <dc:subject/>
  <dc:title>Los Biocombustibles</dc:title>
</cp:coreProperties>
</file>