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3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jpeg" ContentType="image/jpeg"/>
  <Override PartName="/ppt/media/image12.jpeg" ContentType="image/jpeg"/>
  <Override PartName="/ppt/media/image34.png" ContentType="image/png"/>
  <Override PartName="/ppt/media/image38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3.png" ContentType="image/png"/>
  <Override PartName="/ppt/media/image8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F6E-3C6C-4606-8988-107F5E32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BB9-A78A-4532-B3A0-666246A0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F96-508C-4161-BF38-7E0FDA45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4D5-2BA9-47E5-AC9B-88CC2EB6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98E4-EB33-4537-86FE-0C4A8097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F306-C9EF-49AE-9C53-4470EF79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C3B9-9AC9-474A-8071-9E855C22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4571-0E72-46E2-974C-F2025325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939E-B199-40A5-8788-15E6C3A6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92E0-3C96-4B71-B013-BAA5B9F7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6889-B222-42E4-BCF3-53867919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9EE-8AE7-4757-8450-C959FADF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A63C-C723-4EA6-9D43-E31872C5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0AD1-5139-4A72-A193-F97DFAED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A8D-FAE0-44EC-A7A3-40ECCE3F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BCBC-C853-45D1-B029-214EB27B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216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600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216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6A8E-23D6-4460-8A41-8B8E5BBC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B18-8787-466A-8AC1-52FE9F4D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2FE-190B-40B9-A588-BF950E4F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2CC-12B4-4BCE-867E-2E6E3598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32B-FFC3-4589-8829-43193A26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601-0F06-44FE-9BCE-189C57A4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1E5-EE90-4BE8-95B7-6B8627C4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B33-C58C-4DAF-9F91-0C2D289C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7BB4-657E-4C65-8E1A-1A3C24CD0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AD1E-43C8-4151-975A-EE88E459E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image" Target="../media/image4.jpeg"/><Relationship Id="rId32" Type="http://schemas.openxmlformats.org/officeDocument/2006/relationships/image" Target="../media/image5.jpeg"/><Relationship Id="rId3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17.jpeg"/><Relationship Id="rId27" Type="http://schemas.openxmlformats.org/officeDocument/2006/relationships/image" Target="../media/image18.jpeg"/><Relationship Id="rId2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gif"/><Relationship Id="rId2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2.jpeg"/><Relationship Id="rId27" Type="http://schemas.openxmlformats.org/officeDocument/2006/relationships/image" Target="../media/image23.jpeg"/><Relationship Id="rId2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4.jpeg"/><Relationship Id="rId27" Type="http://schemas.openxmlformats.org/officeDocument/2006/relationships/image" Target="../media/image25.jpeg"/><Relationship Id="rId2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6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image" Target="../media/image27.jpeg"/><Relationship Id="rId3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8.jpeg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30.png"/><Relationship Id="rId2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image" Target="../media/image34.png"/><Relationship Id="rId3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35.png"/><Relationship Id="rId2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36.jpeg"/><Relationship Id="rId2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37.jpeg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6.jpeg"/><Relationship Id="rId29" Type="http://schemas.openxmlformats.org/officeDocument/2006/relationships/image" Target="../media/image7.png"/><Relationship Id="rId3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image" Target="../media/image4.jpeg"/><Relationship Id="rId32" Type="http://schemas.openxmlformats.org/officeDocument/2006/relationships/image" Target="../media/image5.jpeg"/><Relationship Id="rId33" Type="http://schemas.openxmlformats.org/officeDocument/2006/relationships/image" Target="../media/image4.jpeg"/><Relationship Id="rId34" Type="http://schemas.openxmlformats.org/officeDocument/2006/relationships/image" Target="../media/image5.jpeg"/><Relationship Id="rId3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37.jpeg"/><Relationship Id="rId2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10.jpeg"/><Relationship Id="rId29" Type="http://schemas.openxmlformats.org/officeDocument/2006/relationships/image" Target="../media/image3.jpeg"/><Relationship Id="rId30" Type="http://schemas.openxmlformats.org/officeDocument/2006/relationships/image" Target="../media/image11.png"/><Relationship Id="rId31" Type="http://schemas.openxmlformats.org/officeDocument/2006/relationships/image" Target="../media/image12.jpeg"/><Relationship Id="rId3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13.png"/><Relationship Id="rId21" Type="http://schemas.openxmlformats.org/officeDocument/2006/relationships/image" Target="../media/image14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4.jpeg"/><Relationship Id="rId29" Type="http://schemas.openxmlformats.org/officeDocument/2006/relationships/image" Target="../media/image5.jpeg"/><Relationship Id="rId3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16.png"/><Relationship Id="rId29" Type="http://schemas.openxmlformats.org/officeDocument/2006/relationships/image" Target="../media/image12.jpeg"/><Relationship Id="rId3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Organismos procariotas</a:t>
            </a:r>
            <a:br>
              <a:rPr sz="3600"/>
            </a:br>
            <a:r>
              <a:rPr b="0" lang="en-US" sz="4000" spc="-1" strike="noStrike">
                <a:solidFill>
                  <a:srgbClr val="d1d1cb"/>
                </a:solidFill>
                <a:latin typeface="Century Gothic"/>
              </a:rPr>
              <a:t>LAS BACTERIAS</a:t>
            </a:r>
            <a:endParaRPr b="0" lang="en-US" sz="4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495680"/>
            <a:ext cx="7391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niversidad de Puerto R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cinto de Mayagüez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partamento de Biologí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sta. Gloriner Morell Rodriguez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mestre2006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" descr="Bacteria coli"/>
          <p:cNvPicPr/>
          <p:nvPr/>
        </p:nvPicPr>
        <p:blipFill>
          <a:blip r:embed="rId2"/>
          <a:stretch/>
        </p:blipFill>
        <p:spPr>
          <a:xfrm>
            <a:off x="7391520" y="2819520"/>
            <a:ext cx="18288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86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89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92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4572000" y="0"/>
            <a:ext cx="1523880" cy="762120"/>
            <a:chOff x="4572000" y="0"/>
            <a:chExt cx="1523880" cy="762120"/>
          </a:xfrm>
        </p:grpSpPr>
        <p:pic>
          <p:nvPicPr>
            <p:cNvPr id="95" name="" descr=""/>
            <p:cNvPicPr/>
            <p:nvPr/>
          </p:nvPicPr>
          <p:blipFill>
            <a:blip r:embed="rId9"/>
            <a:srcRect l="30039" t="24957" r="31557" b="23969"/>
            <a:stretch/>
          </p:blipFill>
          <p:spPr>
            <a:xfrm>
              <a:off x="457200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0"/>
            <a:srcRect l="9690" t="0" r="12920" b="0"/>
            <a:stretch/>
          </p:blipFill>
          <p:spPr>
            <a:xfrm>
              <a:off x="5334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3048120" y="0"/>
            <a:ext cx="1523880" cy="762120"/>
            <a:chOff x="3048120" y="0"/>
            <a:chExt cx="1523880" cy="76212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30039" t="24957" r="31557" b="23969"/>
            <a:stretch/>
          </p:blipFill>
          <p:spPr>
            <a:xfrm>
              <a:off x="3048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rcRect l="9690" t="0" r="12920" b="0"/>
            <a:stretch/>
          </p:blipFill>
          <p:spPr>
            <a:xfrm>
              <a:off x="3810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101" name="" descr=""/>
            <p:cNvPicPr/>
            <p:nvPr/>
          </p:nvPicPr>
          <p:blipFill>
            <a:blip r:embed="rId13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4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0" y="6400800"/>
            <a:ext cx="1066680" cy="457200"/>
            <a:chOff x="0" y="6400800"/>
            <a:chExt cx="1066680" cy="457200"/>
          </a:xfrm>
        </p:grpSpPr>
        <p:pic>
          <p:nvPicPr>
            <p:cNvPr id="104" name="" descr=""/>
            <p:cNvPicPr/>
            <p:nvPr/>
          </p:nvPicPr>
          <p:blipFill>
            <a:blip r:embed="rId15"/>
            <a:srcRect l="30039" t="24957" r="31557" b="23969"/>
            <a:stretch/>
          </p:blipFill>
          <p:spPr>
            <a:xfrm>
              <a:off x="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6"/>
            <a:srcRect l="9690" t="0" r="12920" b="0"/>
            <a:stretch/>
          </p:blipFill>
          <p:spPr>
            <a:xfrm>
              <a:off x="53352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8153280" y="6400800"/>
            <a:ext cx="990360" cy="457200"/>
            <a:chOff x="8153280" y="6400800"/>
            <a:chExt cx="990360" cy="457200"/>
          </a:xfrm>
        </p:grpSpPr>
        <p:pic>
          <p:nvPicPr>
            <p:cNvPr id="107" name="" descr=""/>
            <p:cNvPicPr/>
            <p:nvPr/>
          </p:nvPicPr>
          <p:blipFill>
            <a:blip r:embed="rId17"/>
            <a:srcRect l="30039" t="24957" r="31557" b="23969"/>
            <a:stretch/>
          </p:blipFill>
          <p:spPr>
            <a:xfrm>
              <a:off x="815328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8"/>
            <a:srcRect l="9690" t="0" r="12920" b="0"/>
            <a:stretch/>
          </p:blipFill>
          <p:spPr>
            <a:xfrm>
              <a:off x="864864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7162920" y="6400800"/>
            <a:ext cx="990360" cy="457200"/>
            <a:chOff x="7162920" y="6400800"/>
            <a:chExt cx="990360" cy="457200"/>
          </a:xfrm>
        </p:grpSpPr>
        <p:pic>
          <p:nvPicPr>
            <p:cNvPr id="110" name="" descr=""/>
            <p:cNvPicPr/>
            <p:nvPr/>
          </p:nvPicPr>
          <p:blipFill>
            <a:blip r:embed="rId19"/>
            <a:srcRect l="30039" t="24957" r="31557" b="23969"/>
            <a:stretch/>
          </p:blipFill>
          <p:spPr>
            <a:xfrm>
              <a:off x="716292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0"/>
            <a:srcRect l="9690" t="0" r="12920" b="0"/>
            <a:stretch/>
          </p:blipFill>
          <p:spPr>
            <a:xfrm>
              <a:off x="765828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6172200" y="6400800"/>
            <a:ext cx="1066680" cy="457200"/>
            <a:chOff x="6172200" y="6400800"/>
            <a:chExt cx="1066680" cy="457200"/>
          </a:xfrm>
        </p:grpSpPr>
        <p:pic>
          <p:nvPicPr>
            <p:cNvPr id="113" name="" descr=""/>
            <p:cNvPicPr/>
            <p:nvPr/>
          </p:nvPicPr>
          <p:blipFill>
            <a:blip r:embed="rId21"/>
            <a:srcRect l="30039" t="24957" r="31557" b="23969"/>
            <a:stretch/>
          </p:blipFill>
          <p:spPr>
            <a:xfrm>
              <a:off x="617220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2"/>
            <a:srcRect l="9690" t="0" r="12920" b="0"/>
            <a:stretch/>
          </p:blipFill>
          <p:spPr>
            <a:xfrm>
              <a:off x="670572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5181480" y="6400800"/>
            <a:ext cx="990360" cy="457200"/>
            <a:chOff x="5181480" y="6400800"/>
            <a:chExt cx="990360" cy="457200"/>
          </a:xfrm>
        </p:grpSpPr>
        <p:pic>
          <p:nvPicPr>
            <p:cNvPr id="116" name="" descr=""/>
            <p:cNvPicPr/>
            <p:nvPr/>
          </p:nvPicPr>
          <p:blipFill>
            <a:blip r:embed="rId23"/>
            <a:srcRect l="30039" t="24957" r="31557" b="23969"/>
            <a:stretch/>
          </p:blipFill>
          <p:spPr>
            <a:xfrm>
              <a:off x="518148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4"/>
            <a:srcRect l="9690" t="0" r="12920" b="0"/>
            <a:stretch/>
          </p:blipFill>
          <p:spPr>
            <a:xfrm>
              <a:off x="567684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91120" y="6400800"/>
            <a:ext cx="990360" cy="457200"/>
            <a:chOff x="4191120" y="6400800"/>
            <a:chExt cx="990360" cy="457200"/>
          </a:xfrm>
        </p:grpSpPr>
        <p:pic>
          <p:nvPicPr>
            <p:cNvPr id="119" name="" descr=""/>
            <p:cNvPicPr/>
            <p:nvPr/>
          </p:nvPicPr>
          <p:blipFill>
            <a:blip r:embed="rId25"/>
            <a:srcRect l="30039" t="24957" r="31557" b="23969"/>
            <a:stretch/>
          </p:blipFill>
          <p:spPr>
            <a:xfrm>
              <a:off x="419112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6"/>
            <a:srcRect l="9690" t="0" r="12920" b="0"/>
            <a:stretch/>
          </p:blipFill>
          <p:spPr>
            <a:xfrm>
              <a:off x="468648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3200400" y="6400800"/>
            <a:ext cx="990360" cy="457200"/>
            <a:chOff x="3200400" y="6400800"/>
            <a:chExt cx="990360" cy="457200"/>
          </a:xfrm>
        </p:grpSpPr>
        <p:pic>
          <p:nvPicPr>
            <p:cNvPr id="122" name="" descr=""/>
            <p:cNvPicPr/>
            <p:nvPr/>
          </p:nvPicPr>
          <p:blipFill>
            <a:blip r:embed="rId27"/>
            <a:srcRect l="30039" t="24957" r="31557" b="23969"/>
            <a:stretch/>
          </p:blipFill>
          <p:spPr>
            <a:xfrm>
              <a:off x="320040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8"/>
            <a:srcRect l="9690" t="0" r="12920" b="0"/>
            <a:stretch/>
          </p:blipFill>
          <p:spPr>
            <a:xfrm>
              <a:off x="369576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2133720" y="6400800"/>
            <a:ext cx="1066680" cy="457200"/>
            <a:chOff x="2133720" y="6400800"/>
            <a:chExt cx="1066680" cy="457200"/>
          </a:xfrm>
        </p:grpSpPr>
        <p:pic>
          <p:nvPicPr>
            <p:cNvPr id="125" name="" descr=""/>
            <p:cNvPicPr/>
            <p:nvPr/>
          </p:nvPicPr>
          <p:blipFill>
            <a:blip r:embed="rId29"/>
            <a:srcRect l="30039" t="24957" r="31557" b="23969"/>
            <a:stretch/>
          </p:blipFill>
          <p:spPr>
            <a:xfrm>
              <a:off x="213372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0"/>
            <a:srcRect l="9690" t="0" r="12920" b="0"/>
            <a:stretch/>
          </p:blipFill>
          <p:spPr>
            <a:xfrm>
              <a:off x="266724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1066680" y="6400800"/>
            <a:ext cx="1066680" cy="457200"/>
            <a:chOff x="1066680" y="6400800"/>
            <a:chExt cx="1066680" cy="457200"/>
          </a:xfrm>
        </p:grpSpPr>
        <p:pic>
          <p:nvPicPr>
            <p:cNvPr id="128" name="" descr=""/>
            <p:cNvPicPr/>
            <p:nvPr/>
          </p:nvPicPr>
          <p:blipFill>
            <a:blip r:embed="rId31"/>
            <a:srcRect l="30039" t="24957" r="31557" b="23969"/>
            <a:stretch/>
          </p:blipFill>
          <p:spPr>
            <a:xfrm>
              <a:off x="106668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2"/>
            <a:srcRect l="9690" t="0" r="12920" b="0"/>
            <a:stretch/>
          </p:blipFill>
          <p:spPr>
            <a:xfrm>
              <a:off x="160020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1d1cb"/>
                </a:solidFill>
                <a:latin typeface="Comic Sans MS"/>
                <a:ea typeface="Arial Unicode MS"/>
              </a:rPr>
              <a:t>PROTISTA</a:t>
            </a:r>
            <a:endParaRPr b="0" lang="en-US" sz="5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n eucarióticos unicelulares o multiceliados simples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iven solitarios, aunque algunas especies forman agrupaciones laxas de individuos denominadas colonias.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479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482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485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48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48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49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49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49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50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50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507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510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15" name="" descr="28-03-EuglenaArt-L.jpg"/>
          <p:cNvPicPr/>
          <p:nvPr/>
        </p:nvPicPr>
        <p:blipFill>
          <a:blip r:embed="rId26"/>
          <a:stretch/>
        </p:blipFill>
        <p:spPr>
          <a:xfrm>
            <a:off x="4800600" y="3738600"/>
            <a:ext cx="3733920" cy="24224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Slime mold stalk and spore cap"/>
          <p:cNvPicPr/>
          <p:nvPr/>
        </p:nvPicPr>
        <p:blipFill>
          <a:blip r:embed="rId27"/>
          <a:stretch/>
        </p:blipFill>
        <p:spPr>
          <a:xfrm>
            <a:off x="2057400" y="4038480"/>
            <a:ext cx="17017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FUNG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os organismos actúan como desintegrador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no llevan a cabo el proceso de fotosíntesis</a:t>
            </a: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).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520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523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5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526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52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53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53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53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54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54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54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551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554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56" name="" descr="31-01-Fungal Mycelia-L.jpg"/>
          <p:cNvPicPr/>
          <p:nvPr/>
        </p:nvPicPr>
        <p:blipFill>
          <a:blip r:embed="rId26">
            <a:lum bright="12000"/>
          </a:blip>
          <a:srcRect l="0" t="0" r="51228" b="5409"/>
          <a:stretch/>
        </p:blipFill>
        <p:spPr>
          <a:xfrm>
            <a:off x="4572000" y="2666880"/>
            <a:ext cx="2209680" cy="32990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7"/>
          <a:stretch/>
        </p:blipFill>
        <p:spPr>
          <a:xfrm>
            <a:off x="228600" y="3048120"/>
            <a:ext cx="3733920" cy="25444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8"/>
          <a:stretch/>
        </p:blipFill>
        <p:spPr>
          <a:xfrm>
            <a:off x="7391520" y="4648320"/>
            <a:ext cx="1390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1cb"/>
                </a:solidFill>
                <a:latin typeface="Comic Sans MS"/>
              </a:rPr>
              <a:t>LIQUENES</a:t>
            </a:r>
            <a:endParaRPr b="0" lang="en-US" sz="48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on una asociación simbiotica entre un hongo, un alga o una cianobacteria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</a:rPr>
              <a:t>En esta relación el hongo encierra células fotosintéticas y depende de ellas para vivir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4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56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568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57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57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57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57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59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59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596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8" name="" descr="31-17-LichenAnatomy-L.jpg"/>
          <p:cNvPicPr/>
          <p:nvPr/>
        </p:nvPicPr>
        <p:blipFill>
          <a:blip r:embed="rId26"/>
          <a:srcRect l="55173" t="0" r="0" b="0"/>
          <a:stretch/>
        </p:blipFill>
        <p:spPr>
          <a:xfrm>
            <a:off x="2057400" y="4191120"/>
            <a:ext cx="1828800" cy="17794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7"/>
          <a:stretch/>
        </p:blipFill>
        <p:spPr>
          <a:xfrm>
            <a:off x="5257800" y="411480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1cb"/>
                </a:solidFill>
                <a:latin typeface="Comic Sans MS"/>
              </a:rPr>
              <a:t>LIQUENES</a:t>
            </a:r>
            <a:endParaRPr b="0" lang="en-US" sz="48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603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606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8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609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612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613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5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616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8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619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0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1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622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4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625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7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628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0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631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634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5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6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637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8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39" name="" descr=""/>
          <p:cNvPicPr/>
          <p:nvPr/>
        </p:nvPicPr>
        <p:blipFill>
          <a:blip r:embed="rId26"/>
          <a:stretch/>
        </p:blipFill>
        <p:spPr>
          <a:xfrm>
            <a:off x="457200" y="990720"/>
            <a:ext cx="3962520" cy="33829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7"/>
          <a:stretch/>
        </p:blipFill>
        <p:spPr>
          <a:xfrm>
            <a:off x="4572000" y="30481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1d1cb"/>
                </a:solidFill>
                <a:latin typeface="Comic Sans MS"/>
                <a:ea typeface="Arial Unicode MS"/>
              </a:rPr>
              <a:t>PLANTAE</a:t>
            </a:r>
            <a:endParaRPr b="0" lang="en-US" sz="4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99840" y="76176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Organismos pluricelulares adaptados para realizar la fotosíntesis. 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Sus pigmentos fotosintéticos, como la clorofila, se localizan dentro de  los cloroplastos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Pared celular de celulosa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644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6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647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9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650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653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65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6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65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9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66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2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66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5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66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66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672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4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675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678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80" name="" descr=""/>
          <p:cNvPicPr/>
          <p:nvPr/>
        </p:nvPicPr>
        <p:blipFill>
          <a:blip r:embed="rId26"/>
          <a:stretch/>
        </p:blipFill>
        <p:spPr>
          <a:xfrm>
            <a:off x="1143000" y="3657600"/>
            <a:ext cx="1895400" cy="234324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1523880" y="0"/>
            <a:ext cx="1447560" cy="762120"/>
            <a:chOff x="1523880" y="0"/>
            <a:chExt cx="1447560" cy="762120"/>
          </a:xfrm>
        </p:grpSpPr>
        <p:pic>
          <p:nvPicPr>
            <p:cNvPr id="682" name="" descr=""/>
            <p:cNvPicPr/>
            <p:nvPr/>
          </p:nvPicPr>
          <p:blipFill>
            <a:blip r:embed="rId27"/>
            <a:srcRect l="30039" t="24957" r="31557" b="23969"/>
            <a:stretch/>
          </p:blipFill>
          <p:spPr>
            <a:xfrm>
              <a:off x="15238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28"/>
            <a:srcRect l="9690" t="0" r="12920" b="0"/>
            <a:stretch/>
          </p:blipFill>
          <p:spPr>
            <a:xfrm>
              <a:off x="22478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6324480" y="0"/>
            <a:ext cx="1371240" cy="762120"/>
            <a:chOff x="6324480" y="0"/>
            <a:chExt cx="1371240" cy="762120"/>
          </a:xfrm>
        </p:grpSpPr>
        <p:pic>
          <p:nvPicPr>
            <p:cNvPr id="685" name="" descr=""/>
            <p:cNvPicPr/>
            <p:nvPr/>
          </p:nvPicPr>
          <p:blipFill>
            <a:blip r:embed="rId29"/>
            <a:srcRect l="30039" t="24957" r="31557" b="23969"/>
            <a:stretch/>
          </p:blipFill>
          <p:spPr>
            <a:xfrm>
              <a:off x="6324480" y="0"/>
              <a:ext cx="685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30"/>
            <a:srcRect l="9690" t="0" r="12920" b="0"/>
            <a:stretch/>
          </p:blipFill>
          <p:spPr>
            <a:xfrm>
              <a:off x="7010280" y="0"/>
              <a:ext cx="68544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7" name="" descr=""/>
          <p:cNvPicPr/>
          <p:nvPr/>
        </p:nvPicPr>
        <p:blipFill>
          <a:blip r:embed="rId31"/>
          <a:stretch/>
        </p:blipFill>
        <p:spPr>
          <a:xfrm>
            <a:off x="3505320" y="3657600"/>
            <a:ext cx="46479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ANIMALI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ulticelular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s células carecen de pigmentos fotosintético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69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69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69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70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70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70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70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71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71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71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71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72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72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27" name="" descr=""/>
          <p:cNvPicPr/>
          <p:nvPr/>
        </p:nvPicPr>
        <p:blipFill>
          <a:blip r:embed="rId26"/>
          <a:stretch/>
        </p:blipFill>
        <p:spPr>
          <a:xfrm>
            <a:off x="2362320" y="266688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BACTERIA (HISTORIA)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Anton van Leeuwenhoek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1683) observó la bacteria por primera vez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Ehrenberg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1828)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uso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 nombre de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bacteri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derivado del griego “BAKTER” 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bastó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Louis Pasteu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1822-1895) y 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Robert Ko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1843-1910) describieron el papel de la bacteria como causa de enfermedade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0" y="0"/>
            <a:ext cx="1294920" cy="762120"/>
            <a:chOff x="0" y="0"/>
            <a:chExt cx="1294920" cy="762120"/>
          </a:xfrm>
        </p:grpSpPr>
        <p:pic>
          <p:nvPicPr>
            <p:cNvPr id="73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647640" y="0"/>
              <a:ext cx="6472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"/>
          <p:cNvGrpSpPr/>
          <p:nvPr/>
        </p:nvGrpSpPr>
        <p:grpSpPr>
          <a:xfrm>
            <a:off x="7848720" y="0"/>
            <a:ext cx="1294920" cy="762120"/>
            <a:chOff x="7848720" y="0"/>
            <a:chExt cx="1294920" cy="762120"/>
          </a:xfrm>
        </p:grpSpPr>
        <p:pic>
          <p:nvPicPr>
            <p:cNvPr id="73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784872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496360" y="0"/>
              <a:ext cx="6472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73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738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74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74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74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75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75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75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75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76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BACTERI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676160" y="6854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Organismos unicelulares y microscópico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entury Gothic"/>
              </a:rPr>
              <a:t>Carecen de núcleo  u organelos limitados por membranas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ared celular a base de carbohidrato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600200" y="3589200"/>
            <a:ext cx="7162920" cy="2735280"/>
          </a:xfrm>
          <a:prstGeom prst="rect">
            <a:avLst/>
          </a:prstGeom>
          <a:ln w="0">
            <a:noFill/>
          </a:ln>
        </p:spPr>
      </p:pic>
      <p:grpSp>
        <p:nvGrpSpPr>
          <p:cNvPr id="76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76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769" name="" descr=""/>
              <p:cNvPicPr/>
              <p:nvPr/>
            </p:nvPicPr>
            <p:blipFill>
              <a:blip r:embed="rId3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" descr=""/>
              <p:cNvPicPr/>
              <p:nvPr/>
            </p:nvPicPr>
            <p:blipFill>
              <a:blip r:embed="rId4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772" name="" descr=""/>
              <p:cNvPicPr/>
              <p:nvPr/>
            </p:nvPicPr>
            <p:blipFill>
              <a:blip r:embed="rId5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3" name="" descr=""/>
              <p:cNvPicPr/>
              <p:nvPr/>
            </p:nvPicPr>
            <p:blipFill>
              <a:blip r:embed="rId6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775" name="" descr=""/>
              <p:cNvPicPr/>
              <p:nvPr/>
            </p:nvPicPr>
            <p:blipFill>
              <a:blip r:embed="rId7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" descr=""/>
              <p:cNvPicPr/>
              <p:nvPr/>
            </p:nvPicPr>
            <p:blipFill>
              <a:blip r:embed="rId8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778" name="" descr=""/>
              <p:cNvPicPr/>
              <p:nvPr/>
            </p:nvPicPr>
            <p:blipFill>
              <a:blip r:embed="rId9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" descr=""/>
              <p:cNvPicPr/>
              <p:nvPr/>
            </p:nvPicPr>
            <p:blipFill>
              <a:blip r:embed="rId10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781" name="" descr=""/>
              <p:cNvPicPr/>
              <p:nvPr/>
            </p:nvPicPr>
            <p:blipFill>
              <a:blip r:embed="rId11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2" name="" descr=""/>
              <p:cNvPicPr/>
              <p:nvPr/>
            </p:nvPicPr>
            <p:blipFill>
              <a:blip r:embed="rId12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784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5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787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8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790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1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793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4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95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796" name="" descr=""/>
            <p:cNvPicPr/>
            <p:nvPr/>
          </p:nvPicPr>
          <p:blipFill>
            <a:blip r:embed="rId21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22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8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799" name="" descr=""/>
            <p:cNvPicPr/>
            <p:nvPr/>
          </p:nvPicPr>
          <p:blipFill>
            <a:blip r:embed="rId23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24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1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802" name="" descr=""/>
            <p:cNvPicPr/>
            <p:nvPr/>
          </p:nvPicPr>
          <p:blipFill>
            <a:blip r:embed="rId25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26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805" name="" descr=""/>
            <p:cNvPicPr/>
            <p:nvPr/>
          </p:nvPicPr>
          <p:blipFill>
            <a:blip r:embed="rId27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28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BACTERI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on muy pequeñas,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 y 10 micrómetros (µm) de longitud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Modo variable de obtener la energía y el alimento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encuentran e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l air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l suel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l agu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pueden encontrar en algunos alimentos o viviendo en simbiosis con plantas, animales y otros seres vivo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81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811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2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814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5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817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8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82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82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82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82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83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83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37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838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841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844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847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ESTRUCTURAS ASOCIAD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99840" y="96012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lagelo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rovee motilidad verdadera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No estan presente en todas las bacteria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imbriae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on mas numeros y cort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e asume qeu sirven para adherirse a superficie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ili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umamente corto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1 o 2 presente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irven para adherirse al tejido humano. 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nvuletos en los procesos de conjugación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ápsula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apa rígida que excluye partícula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reada por depositos de polisacarid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u composición química es variable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Función: adhesión al hospedero y evitar fagocitosi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inta  de India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852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853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4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5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856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7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8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859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0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1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86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4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86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7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86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0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87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3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87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6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87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79" name=""/>
          <p:cNvGrpSpPr/>
          <p:nvPr/>
        </p:nvGrpSpPr>
        <p:grpSpPr>
          <a:xfrm>
            <a:off x="0" y="0"/>
            <a:ext cx="609480" cy="762120"/>
            <a:chOff x="0" y="0"/>
            <a:chExt cx="609480" cy="762120"/>
          </a:xfrm>
        </p:grpSpPr>
        <p:pic>
          <p:nvPicPr>
            <p:cNvPr id="880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30492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2" name=""/>
          <p:cNvGrpSpPr/>
          <p:nvPr/>
        </p:nvGrpSpPr>
        <p:grpSpPr>
          <a:xfrm>
            <a:off x="8534520" y="0"/>
            <a:ext cx="609480" cy="762120"/>
            <a:chOff x="8534520" y="0"/>
            <a:chExt cx="609480" cy="762120"/>
          </a:xfrm>
        </p:grpSpPr>
        <p:pic>
          <p:nvPicPr>
            <p:cNvPr id="883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53452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83944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OBJETIVO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tender la clasificación de las bacterias de acuerdo a sus característic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scribir las estructuras y morfología de las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ácticar técnicas de cultivos de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1523880" y="0"/>
            <a:ext cx="1295640" cy="762120"/>
            <a:chOff x="1523880" y="0"/>
            <a:chExt cx="1295640" cy="76212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1523880" y="0"/>
              <a:ext cx="6480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217188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139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6324480" y="0"/>
            <a:ext cx="1295640" cy="762120"/>
            <a:chOff x="6324480" y="0"/>
            <a:chExt cx="1295640" cy="762120"/>
          </a:xfrm>
        </p:grpSpPr>
        <p:pic>
          <p:nvPicPr>
            <p:cNvPr id="142" name="" descr=""/>
            <p:cNvPicPr/>
            <p:nvPr/>
          </p:nvPicPr>
          <p:blipFill>
            <a:blip r:embed="rId8"/>
            <a:srcRect l="30039" t="24957" r="31557" b="23969"/>
            <a:stretch/>
          </p:blipFill>
          <p:spPr>
            <a:xfrm>
              <a:off x="6324480" y="0"/>
              <a:ext cx="6480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"/>
            <a:srcRect l="9690" t="0" r="12920" b="0"/>
            <a:stretch/>
          </p:blipFill>
          <p:spPr>
            <a:xfrm>
              <a:off x="697248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5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6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52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5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0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67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6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27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ESTRUCTURAS ASOCIAD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ndospora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strucutra de supervivenvia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esistente a: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alor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isecación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adiación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Ácidos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esinfectantes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Químicos fuertes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resente en bacterias del suel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u descubrimiento ayudó al desarollo de métodos y técnicas adecuadas de esterilizació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0" y="0"/>
            <a:ext cx="609480" cy="762120"/>
            <a:chOff x="0" y="0"/>
            <a:chExt cx="609480" cy="762120"/>
          </a:xfrm>
        </p:grpSpPr>
        <p:pic>
          <p:nvPicPr>
            <p:cNvPr id="888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30492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0" name=""/>
          <p:cNvGrpSpPr/>
          <p:nvPr/>
        </p:nvGrpSpPr>
        <p:grpSpPr>
          <a:xfrm>
            <a:off x="8534520" y="0"/>
            <a:ext cx="609480" cy="762120"/>
            <a:chOff x="8534520" y="0"/>
            <a:chExt cx="609480" cy="762120"/>
          </a:xfrm>
        </p:grpSpPr>
        <p:pic>
          <p:nvPicPr>
            <p:cNvPr id="891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853452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83944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89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895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898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901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904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907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8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910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1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913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4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916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919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0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ESTRUCTURAS ASOCIAD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clusiones celular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ugares de almacenaj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cuola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ranulos de almidó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 célula los utiliza como fuente de energía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0" y="0"/>
            <a:ext cx="609480" cy="762120"/>
            <a:chOff x="0" y="0"/>
            <a:chExt cx="609480" cy="762120"/>
          </a:xfrm>
        </p:grpSpPr>
        <p:pic>
          <p:nvPicPr>
            <p:cNvPr id="924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30492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6" name=""/>
          <p:cNvGrpSpPr/>
          <p:nvPr/>
        </p:nvGrpSpPr>
        <p:grpSpPr>
          <a:xfrm>
            <a:off x="8534520" y="0"/>
            <a:ext cx="609480" cy="762120"/>
            <a:chOff x="8534520" y="0"/>
            <a:chExt cx="609480" cy="762120"/>
          </a:xfrm>
        </p:grpSpPr>
        <p:pic>
          <p:nvPicPr>
            <p:cNvPr id="927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853452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83944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93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931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2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93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93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94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94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94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94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952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3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955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6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METABOLISM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uma de todas las reacciones químicas que ocurren en la céluloa viva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divide en: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naboism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Biosíntesis de moléculas complejas a partir de moléculas simples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atabolism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ompimiento de compuestos oorgánicos con el fin de producir energía.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requiere en grandes cantidades debidoa  que forma parte de moléculas orgánicas de importancia biológica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0" y="0"/>
            <a:ext cx="1066680" cy="762120"/>
            <a:chOff x="0" y="0"/>
            <a:chExt cx="1066680" cy="762120"/>
          </a:xfrm>
        </p:grpSpPr>
        <p:pic>
          <p:nvPicPr>
            <p:cNvPr id="960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53352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2" name=""/>
          <p:cNvGrpSpPr/>
          <p:nvPr/>
        </p:nvGrpSpPr>
        <p:grpSpPr>
          <a:xfrm>
            <a:off x="1066680" y="0"/>
            <a:ext cx="1066680" cy="762120"/>
            <a:chOff x="1066680" y="0"/>
            <a:chExt cx="1066680" cy="762120"/>
          </a:xfrm>
        </p:grpSpPr>
        <p:pic>
          <p:nvPicPr>
            <p:cNvPr id="963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10666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16002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5" name=""/>
          <p:cNvGrpSpPr/>
          <p:nvPr/>
        </p:nvGrpSpPr>
        <p:grpSpPr>
          <a:xfrm>
            <a:off x="6858000" y="0"/>
            <a:ext cx="1143000" cy="762120"/>
            <a:chOff x="6858000" y="0"/>
            <a:chExt cx="1143000" cy="762120"/>
          </a:xfrm>
        </p:grpSpPr>
        <p:pic>
          <p:nvPicPr>
            <p:cNvPr id="966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6858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7429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8" name=""/>
          <p:cNvGrpSpPr/>
          <p:nvPr/>
        </p:nvGrpSpPr>
        <p:grpSpPr>
          <a:xfrm>
            <a:off x="8001000" y="0"/>
            <a:ext cx="1143000" cy="762120"/>
            <a:chOff x="8001000" y="0"/>
            <a:chExt cx="1143000" cy="762120"/>
          </a:xfrm>
        </p:grpSpPr>
        <p:pic>
          <p:nvPicPr>
            <p:cNvPr id="969" name="" descr=""/>
            <p:cNvPicPr/>
            <p:nvPr/>
          </p:nvPicPr>
          <p:blipFill>
            <a:blip r:embed="rId8"/>
            <a:srcRect l="30039" t="24957" r="31557" b="23969"/>
            <a:stretch/>
          </p:blipFill>
          <p:spPr>
            <a:xfrm>
              <a:off x="8001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9"/>
            <a:srcRect l="9690" t="0" r="12920" b="0"/>
            <a:stretch/>
          </p:blipFill>
          <p:spPr>
            <a:xfrm>
              <a:off x="8572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1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972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97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5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97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8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97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1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98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4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98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7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98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0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991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2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3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994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5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6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997" name="" descr=""/>
              <p:cNvPicPr/>
              <p:nvPr/>
            </p:nvPicPr>
            <p:blipFill>
              <a:blip r:embed="rId26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" descr=""/>
              <p:cNvPicPr/>
              <p:nvPr/>
            </p:nvPicPr>
            <p:blipFill>
              <a:blip r:embed="rId27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cb"/>
                </a:solidFill>
                <a:latin typeface="Century Gothic"/>
              </a:rPr>
              <a:t>¿</a:t>
            </a:r>
            <a:r>
              <a:rPr b="0" lang="en-US" sz="2800" spc="-1" strike="noStrike">
                <a:solidFill>
                  <a:srgbClr val="d1d1cb"/>
                </a:solidFill>
                <a:latin typeface="Comic Sans MS"/>
              </a:rPr>
              <a:t>COMO LOS MICROORGANISMOS </a:t>
            </a:r>
            <a:br>
              <a:rPr sz="2800"/>
            </a:br>
            <a:r>
              <a:rPr b="0" lang="en-US" sz="2800" spc="-1" strike="noStrike">
                <a:solidFill>
                  <a:srgbClr val="d1d1cb"/>
                </a:solidFill>
                <a:latin typeface="Comic Sans MS"/>
              </a:rPr>
              <a:t>OBTIENEN LOS NUTRIENTES</a:t>
            </a:r>
            <a:r>
              <a:rPr b="0" lang="en-US" sz="2800" spc="-1" strike="noStrike">
                <a:solidFill>
                  <a:srgbClr val="d1d1cb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utotrófo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Quimiotrofo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actores que afectan el crecimient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Oxígen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eróbico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naeróbico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H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cidofílicos (+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lcalófilos (-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emperatur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sicrofilos (10-15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sicrotolerante (15-30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Mesófilo (30-40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ermófilo (45-80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Hipertermófilo (80°C o mas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0" y="0"/>
            <a:ext cx="914040" cy="762120"/>
            <a:chOff x="0" y="0"/>
            <a:chExt cx="914040" cy="762120"/>
          </a:xfrm>
        </p:grpSpPr>
        <p:pic>
          <p:nvPicPr>
            <p:cNvPr id="100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4572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4" name=""/>
          <p:cNvGrpSpPr/>
          <p:nvPr/>
        </p:nvGrpSpPr>
        <p:grpSpPr>
          <a:xfrm>
            <a:off x="8229600" y="0"/>
            <a:ext cx="914040" cy="762120"/>
            <a:chOff x="8229600" y="0"/>
            <a:chExt cx="914040" cy="762120"/>
          </a:xfrm>
        </p:grpSpPr>
        <p:pic>
          <p:nvPicPr>
            <p:cNvPr id="100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822960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6868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00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009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01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01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01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02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02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02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03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03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REPRODUC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81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RANSFORMACIO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ntercambio genético producido cuando una bacteria es capaz de captar fragmentos de ADN, de otra bacteria que se encuentran dispersos en el medio donde vive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03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039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042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045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048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051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054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057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060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063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65" name=""/>
          <p:cNvGrpSpPr/>
          <p:nvPr/>
        </p:nvGrpSpPr>
        <p:grpSpPr>
          <a:xfrm>
            <a:off x="0" y="0"/>
            <a:ext cx="990360" cy="762120"/>
            <a:chOff x="0" y="0"/>
            <a:chExt cx="990360" cy="762120"/>
          </a:xfrm>
        </p:grpSpPr>
        <p:pic>
          <p:nvPicPr>
            <p:cNvPr id="1066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953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95360" y="0"/>
              <a:ext cx="495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8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069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1" name=""/>
          <p:cNvGrpSpPr/>
          <p:nvPr/>
        </p:nvGrpSpPr>
        <p:grpSpPr>
          <a:xfrm>
            <a:off x="990720" y="0"/>
            <a:ext cx="1066680" cy="762120"/>
            <a:chOff x="990720" y="0"/>
            <a:chExt cx="1066680" cy="762120"/>
          </a:xfrm>
        </p:grpSpPr>
        <p:pic>
          <p:nvPicPr>
            <p:cNvPr id="1072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9907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15242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4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075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7" name="" descr=""/>
          <p:cNvPicPr/>
          <p:nvPr/>
        </p:nvPicPr>
        <p:blipFill>
          <a:blip r:embed="rId28"/>
          <a:stretch/>
        </p:blipFill>
        <p:spPr>
          <a:xfrm>
            <a:off x="404640" y="762120"/>
            <a:ext cx="32529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REPRODUC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419720" y="1645920"/>
            <a:ext cx="44193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NJUGA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una bacteria donadora F+ transmite a través de un puente o pili, un fragmento de ADN, a otra bacteria receptora F-. La bacteria que se llama F+ posee un plásmido, además del cromosoma bacteriano.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08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082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085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088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09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09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09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10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10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10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08" name=""/>
          <p:cNvGrpSpPr/>
          <p:nvPr/>
        </p:nvGrpSpPr>
        <p:grpSpPr>
          <a:xfrm>
            <a:off x="0" y="0"/>
            <a:ext cx="990360" cy="762120"/>
            <a:chOff x="0" y="0"/>
            <a:chExt cx="990360" cy="762120"/>
          </a:xfrm>
        </p:grpSpPr>
        <p:pic>
          <p:nvPicPr>
            <p:cNvPr id="1109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953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95360" y="0"/>
              <a:ext cx="495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112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4" name=""/>
          <p:cNvGrpSpPr/>
          <p:nvPr/>
        </p:nvGrpSpPr>
        <p:grpSpPr>
          <a:xfrm>
            <a:off x="990720" y="0"/>
            <a:ext cx="1066680" cy="762120"/>
            <a:chOff x="990720" y="0"/>
            <a:chExt cx="1066680" cy="762120"/>
          </a:xfrm>
        </p:grpSpPr>
        <p:pic>
          <p:nvPicPr>
            <p:cNvPr id="1115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9907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15242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7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118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0" name="" descr=""/>
          <p:cNvPicPr/>
          <p:nvPr/>
        </p:nvPicPr>
        <p:blipFill>
          <a:blip r:embed="rId28"/>
          <a:stretch/>
        </p:blipFill>
        <p:spPr>
          <a:xfrm>
            <a:off x="304920" y="1219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29"/>
          <a:stretch/>
        </p:blipFill>
        <p:spPr>
          <a:xfrm>
            <a:off x="2286000" y="1219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30"/>
          <a:stretch/>
        </p:blipFill>
        <p:spPr>
          <a:xfrm>
            <a:off x="304920" y="3581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31"/>
          <a:stretch/>
        </p:blipFill>
        <p:spPr>
          <a:xfrm>
            <a:off x="2286000" y="3581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REPRODUC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52480" y="1218960"/>
            <a:ext cx="69343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RANSDUCCIÓ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 transferencia de ADN de una bacteria a otra , se realiza a través de un </a:t>
            </a: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virus bacteriófago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, que se comporta como un </a:t>
            </a: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vector intermediario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entre las dos bacterias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12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128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131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134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13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14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14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14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14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15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54" name=""/>
          <p:cNvGrpSpPr/>
          <p:nvPr/>
        </p:nvGrpSpPr>
        <p:grpSpPr>
          <a:xfrm>
            <a:off x="0" y="0"/>
            <a:ext cx="990360" cy="762120"/>
            <a:chOff x="0" y="0"/>
            <a:chExt cx="990360" cy="762120"/>
          </a:xfrm>
        </p:grpSpPr>
        <p:pic>
          <p:nvPicPr>
            <p:cNvPr id="1155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953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95360" y="0"/>
              <a:ext cx="495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7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158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0" name=""/>
          <p:cNvGrpSpPr/>
          <p:nvPr/>
        </p:nvGrpSpPr>
        <p:grpSpPr>
          <a:xfrm>
            <a:off x="990720" y="0"/>
            <a:ext cx="1066680" cy="762120"/>
            <a:chOff x="990720" y="0"/>
            <a:chExt cx="1066680" cy="762120"/>
          </a:xfrm>
        </p:grpSpPr>
        <p:pic>
          <p:nvPicPr>
            <p:cNvPr id="1161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9907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15242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3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164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LASIFICA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órfología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16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170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173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176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17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18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18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18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19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19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9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197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1200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2" name="" descr=""/>
          <p:cNvPicPr/>
          <p:nvPr/>
        </p:nvPicPr>
        <p:blipFill>
          <a:blip r:embed="rId24"/>
          <a:stretch/>
        </p:blipFill>
        <p:spPr>
          <a:xfrm>
            <a:off x="2362320" y="1523880"/>
            <a:ext cx="56386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omic Sans MS"/>
              </a:rPr>
              <a:t>MORFOLOGIA DE LAS BACTERIAS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206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207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9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210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2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213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5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216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8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219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1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222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4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225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7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228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0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231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33" name="" descr=""/>
          <p:cNvPicPr/>
          <p:nvPr/>
        </p:nvPicPr>
        <p:blipFill>
          <a:blip r:embed="rId20"/>
          <a:srcRect l="0" t="17780" r="0" b="0"/>
          <a:stretch/>
        </p:blipFill>
        <p:spPr>
          <a:xfrm>
            <a:off x="152280" y="838080"/>
            <a:ext cx="8839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recimiento de las coloni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La morfología y tamaño de la colonia se utilizan para identificar las especies de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23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238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9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241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2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244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24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25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25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25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25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26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4" name=""/>
          <p:cNvGrpSpPr/>
          <p:nvPr/>
        </p:nvGrpSpPr>
        <p:grpSpPr>
          <a:xfrm>
            <a:off x="0" y="0"/>
            <a:ext cx="914040" cy="762120"/>
            <a:chOff x="0" y="0"/>
            <a:chExt cx="914040" cy="762120"/>
          </a:xfrm>
        </p:grpSpPr>
        <p:pic>
          <p:nvPicPr>
            <p:cNvPr id="1265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572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"/>
          <p:cNvGrpSpPr/>
          <p:nvPr/>
        </p:nvGrpSpPr>
        <p:grpSpPr>
          <a:xfrm>
            <a:off x="8229600" y="0"/>
            <a:ext cx="914040" cy="762120"/>
            <a:chOff x="8229600" y="0"/>
            <a:chExt cx="914040" cy="762120"/>
          </a:xfrm>
        </p:grpSpPr>
        <p:pic>
          <p:nvPicPr>
            <p:cNvPr id="1268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22960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868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0" name="" descr=""/>
          <p:cNvPicPr/>
          <p:nvPr/>
        </p:nvPicPr>
        <p:blipFill>
          <a:blip r:embed="rId24"/>
          <a:stretch/>
        </p:blipFill>
        <p:spPr>
          <a:xfrm>
            <a:off x="2438280" y="2909880"/>
            <a:ext cx="5715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LA CÉLUL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8800" y="914040"/>
            <a:ext cx="68580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Los organismos exhiben ciertas propiedades fundamentales que reconocemos como características de vida. Estas son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digest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respirac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excrec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reproducc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etc.</a:t>
            </a:r>
            <a:endParaRPr b="1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Todos los organismos se componen de células o de productos celulares.</a:t>
            </a:r>
            <a:endParaRPr b="1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La célula es la unidad funcional o estructural de los organismos.</a:t>
            </a:r>
            <a:endParaRPr b="1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181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184" name="" descr=""/>
            <p:cNvPicPr/>
            <p:nvPr/>
          </p:nvPicPr>
          <p:blipFill>
            <a:blip r:embed="rId8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9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8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88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91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97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200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203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206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209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212" name="" descr=""/>
              <p:cNvPicPr/>
              <p:nvPr/>
            </p:nvPicPr>
            <p:blipFill>
              <a:blip r:embed="rId26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27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14" name="" descr=""/>
          <p:cNvPicPr/>
          <p:nvPr/>
        </p:nvPicPr>
        <p:blipFill>
          <a:blip r:embed="rId28"/>
          <a:srcRect l="32310" t="19410" r="6155" b="12356"/>
          <a:stretch/>
        </p:blipFill>
        <p:spPr>
          <a:xfrm>
            <a:off x="0" y="1600200"/>
            <a:ext cx="1523880" cy="1104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9"/>
          <a:srcRect l="23252" t="27391" r="9119" b="16277"/>
          <a:stretch/>
        </p:blipFill>
        <p:spPr>
          <a:xfrm>
            <a:off x="0" y="3884760"/>
            <a:ext cx="15238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TINCIÓN BACTERIAN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 utilizan tintes para identificar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jemplo: tinción Gram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s células responden al tinte de acuerdo a la complejidad y composición de su pared celular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Hay bacterias Gram +, Gram – o Gram variable (menos común)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27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275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278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281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28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28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29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29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29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29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01" name=""/>
          <p:cNvGrpSpPr/>
          <p:nvPr/>
        </p:nvGrpSpPr>
        <p:grpSpPr>
          <a:xfrm>
            <a:off x="0" y="0"/>
            <a:ext cx="1143000" cy="762120"/>
            <a:chOff x="0" y="0"/>
            <a:chExt cx="1143000" cy="762120"/>
          </a:xfrm>
        </p:grpSpPr>
        <p:pic>
          <p:nvPicPr>
            <p:cNvPr id="1302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571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4" name=""/>
          <p:cNvGrpSpPr/>
          <p:nvPr/>
        </p:nvGrpSpPr>
        <p:grpSpPr>
          <a:xfrm>
            <a:off x="8001000" y="0"/>
            <a:ext cx="1143000" cy="762120"/>
            <a:chOff x="8001000" y="0"/>
            <a:chExt cx="1143000" cy="762120"/>
          </a:xfrm>
        </p:grpSpPr>
        <p:pic>
          <p:nvPicPr>
            <p:cNvPr id="1305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01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572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TINCIÓN GRAM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30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310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1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313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4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316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7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31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32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32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32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33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33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36" name=""/>
          <p:cNvGrpSpPr/>
          <p:nvPr/>
        </p:nvGrpSpPr>
        <p:grpSpPr>
          <a:xfrm>
            <a:off x="0" y="0"/>
            <a:ext cx="1143000" cy="762120"/>
            <a:chOff x="0" y="0"/>
            <a:chExt cx="1143000" cy="762120"/>
          </a:xfrm>
        </p:grpSpPr>
        <p:pic>
          <p:nvPicPr>
            <p:cNvPr id="1337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571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9" name=""/>
          <p:cNvGrpSpPr/>
          <p:nvPr/>
        </p:nvGrpSpPr>
        <p:grpSpPr>
          <a:xfrm>
            <a:off x="1143000" y="0"/>
            <a:ext cx="1143000" cy="762120"/>
            <a:chOff x="1143000" y="0"/>
            <a:chExt cx="1143000" cy="762120"/>
          </a:xfrm>
        </p:grpSpPr>
        <p:pic>
          <p:nvPicPr>
            <p:cNvPr id="1340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1143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1714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6858000" y="0"/>
            <a:ext cx="1143000" cy="762120"/>
            <a:chOff x="6858000" y="0"/>
            <a:chExt cx="1143000" cy="762120"/>
          </a:xfrm>
        </p:grpSpPr>
        <p:pic>
          <p:nvPicPr>
            <p:cNvPr id="1343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6858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7429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001000" y="0"/>
            <a:ext cx="1143000" cy="762120"/>
            <a:chOff x="8001000" y="0"/>
            <a:chExt cx="1143000" cy="762120"/>
          </a:xfrm>
        </p:grpSpPr>
        <p:pic>
          <p:nvPicPr>
            <p:cNvPr id="1346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8001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8572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48" name=""/>
          <p:cNvGraphicFramePr/>
          <p:nvPr/>
        </p:nvGraphicFramePr>
        <p:xfrm>
          <a:off x="1600200" y="914400"/>
          <a:ext cx="7086600" cy="53593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cteria Gram 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cteria Gram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ared celular sim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ared celular comple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pa de peptidoglucano gru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pa de peptidoglucano f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 capa externa de lipopolisacári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pa externa de lipopolisacári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tienen cristal violeta/iodo-color </a:t>
                      </a: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Century Gothic"/>
                        </a:rPr>
                        <a:t>azul/viole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tienen safranina-color </a:t>
                      </a: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Century Gothic"/>
                        </a:rPr>
                        <a:t>rojo/ros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ontrol Microbian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eriliza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strucción o remoción de todo ser viv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sinfec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tanza, inhibición o remoción de orgasnismos patogénico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ualmente en superficies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es esterilización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anita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ducción de poblaciones microbianas a niveles aceptables de salud públic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35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4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35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358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36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36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36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36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37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37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37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38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38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386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7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ontrol Microbian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tiséptico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gentes químicos aplicados a tejido vivo para impedir crecimiento microbiano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sinfectante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gentes químicos aplicados  sobre superficies para impedir crecimiento microbiano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tibiótic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dicamento qeu mata o inhibe el crecimiento bacteriano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jemplo: Penicillin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reptomicin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39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39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39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0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0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0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40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41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41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41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pic>
        <p:nvPicPr>
          <p:cNvPr id="1428" name="" descr="Penicillium notatum"/>
          <p:cNvPicPr/>
          <p:nvPr/>
        </p:nvPicPr>
        <p:blipFill>
          <a:blip r:embed="rId2"/>
          <a:stretch/>
        </p:blipFill>
        <p:spPr>
          <a:xfrm>
            <a:off x="2590920" y="838080"/>
            <a:ext cx="5038560" cy="5038920"/>
          </a:xfrm>
          <a:prstGeom prst="rect">
            <a:avLst/>
          </a:prstGeom>
          <a:ln w="0">
            <a:noFill/>
          </a:ln>
        </p:spPr>
      </p:pic>
      <p:sp>
        <p:nvSpPr>
          <p:cNvPr id="1429" name=""/>
          <p:cNvSpPr/>
          <p:nvPr/>
        </p:nvSpPr>
        <p:spPr>
          <a:xfrm>
            <a:off x="1823760" y="5836320"/>
            <a:ext cx="24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Penicillium not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0" y="0"/>
            <a:ext cx="1371240" cy="762120"/>
            <a:chOff x="0" y="0"/>
            <a:chExt cx="1371240" cy="762120"/>
          </a:xfrm>
        </p:grpSpPr>
        <p:pic>
          <p:nvPicPr>
            <p:cNvPr id="1431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685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2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685800" y="0"/>
              <a:ext cx="6854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"/>
          <p:cNvGrpSpPr/>
          <p:nvPr/>
        </p:nvGrpSpPr>
        <p:grpSpPr>
          <a:xfrm>
            <a:off x="1371600" y="0"/>
            <a:ext cx="1447560" cy="762120"/>
            <a:chOff x="1371600" y="0"/>
            <a:chExt cx="1447560" cy="762120"/>
          </a:xfrm>
        </p:grpSpPr>
        <p:pic>
          <p:nvPicPr>
            <p:cNvPr id="1434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137160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20955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"/>
          <p:cNvGrpSpPr/>
          <p:nvPr/>
        </p:nvGrpSpPr>
        <p:grpSpPr>
          <a:xfrm>
            <a:off x="2819520" y="0"/>
            <a:ext cx="1447560" cy="762120"/>
            <a:chOff x="2819520" y="0"/>
            <a:chExt cx="1447560" cy="762120"/>
          </a:xfrm>
        </p:grpSpPr>
        <p:pic>
          <p:nvPicPr>
            <p:cNvPr id="1437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281952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354348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4267080" y="0"/>
            <a:ext cx="1447560" cy="762120"/>
            <a:chOff x="4267080" y="0"/>
            <a:chExt cx="1447560" cy="762120"/>
          </a:xfrm>
        </p:grpSpPr>
        <p:pic>
          <p:nvPicPr>
            <p:cNvPr id="1440" name="" descr=""/>
            <p:cNvPicPr/>
            <p:nvPr/>
          </p:nvPicPr>
          <p:blipFill>
            <a:blip r:embed="rId9"/>
            <a:srcRect l="30039" t="24957" r="31557" b="23969"/>
            <a:stretch/>
          </p:blipFill>
          <p:spPr>
            <a:xfrm>
              <a:off x="4267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10"/>
            <a:srcRect l="9690" t="0" r="12920" b="0"/>
            <a:stretch/>
          </p:blipFill>
          <p:spPr>
            <a:xfrm>
              <a:off x="4991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2" name=""/>
          <p:cNvGrpSpPr/>
          <p:nvPr/>
        </p:nvGrpSpPr>
        <p:grpSpPr>
          <a:xfrm>
            <a:off x="5638680" y="0"/>
            <a:ext cx="1371240" cy="762120"/>
            <a:chOff x="5638680" y="0"/>
            <a:chExt cx="1371240" cy="762120"/>
          </a:xfrm>
        </p:grpSpPr>
        <p:pic>
          <p:nvPicPr>
            <p:cNvPr id="1443" name="" descr=""/>
            <p:cNvPicPr/>
            <p:nvPr/>
          </p:nvPicPr>
          <p:blipFill>
            <a:blip r:embed="rId11"/>
            <a:srcRect l="30039" t="24957" r="31557" b="23969"/>
            <a:stretch/>
          </p:blipFill>
          <p:spPr>
            <a:xfrm>
              <a:off x="5638680" y="0"/>
              <a:ext cx="685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2"/>
            <a:srcRect l="9690" t="0" r="12920" b="0"/>
            <a:stretch/>
          </p:blipFill>
          <p:spPr>
            <a:xfrm>
              <a:off x="6324480" y="0"/>
              <a:ext cx="6854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5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46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47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8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9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50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1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2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453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4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5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456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7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8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459" name="" descr=""/>
              <p:cNvPicPr/>
              <p:nvPr/>
            </p:nvPicPr>
            <p:blipFill>
              <a:blip r:embed="rId21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0" name="" descr=""/>
              <p:cNvPicPr/>
              <p:nvPr/>
            </p:nvPicPr>
            <p:blipFill>
              <a:blip r:embed="rId22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1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462" name="" descr=""/>
              <p:cNvPicPr/>
              <p:nvPr/>
            </p:nvPicPr>
            <p:blipFill>
              <a:blip r:embed="rId23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3" name="" descr=""/>
              <p:cNvPicPr/>
              <p:nvPr/>
            </p:nvPicPr>
            <p:blipFill>
              <a:blip r:embed="rId24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4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465" name="" descr=""/>
              <p:cNvPicPr/>
              <p:nvPr/>
            </p:nvPicPr>
            <p:blipFill>
              <a:blip r:embed="rId25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6" name="" descr=""/>
              <p:cNvPicPr/>
              <p:nvPr/>
            </p:nvPicPr>
            <p:blipFill>
              <a:blip r:embed="rId26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7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468" name="" descr=""/>
              <p:cNvPicPr/>
              <p:nvPr/>
            </p:nvPicPr>
            <p:blipFill>
              <a:blip r:embed="rId27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9" name="" descr=""/>
              <p:cNvPicPr/>
              <p:nvPr/>
            </p:nvPicPr>
            <p:blipFill>
              <a:blip r:embed="rId28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0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471" name="" descr=""/>
              <p:cNvPicPr/>
              <p:nvPr/>
            </p:nvPicPr>
            <p:blipFill>
              <a:blip r:embed="rId29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2" name="" descr=""/>
              <p:cNvPicPr/>
              <p:nvPr/>
            </p:nvPicPr>
            <p:blipFill>
              <a:blip r:embed="rId30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73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474" name="" descr=""/>
            <p:cNvPicPr/>
            <p:nvPr/>
          </p:nvPicPr>
          <p:blipFill>
            <a:blip r:embed="rId31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32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477" name="" descr=""/>
            <p:cNvPicPr/>
            <p:nvPr/>
          </p:nvPicPr>
          <p:blipFill>
            <a:blip r:embed="rId33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34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543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bservar a trav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Tahoma"/>
              </a:rPr>
              <a:t>és de un estereoscopio las placas Petri conteniendo colonias bacterianas para describir su m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rfolog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Tahoma"/>
              </a:rPr>
              <a:t>ía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48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4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48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7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488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9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0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0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50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51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51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516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7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18" name="" descr=""/>
          <p:cNvPicPr/>
          <p:nvPr/>
        </p:nvPicPr>
        <p:blipFill>
          <a:blip r:embed="rId26"/>
          <a:stretch/>
        </p:blipFill>
        <p:spPr>
          <a:xfrm>
            <a:off x="2438280" y="2895480"/>
            <a:ext cx="56340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52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52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52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53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53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53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53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4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4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54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54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55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55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557" name=""/>
          <p:cNvGraphicFramePr/>
          <p:nvPr/>
        </p:nvGraphicFramePr>
        <p:xfrm>
          <a:off x="1600200" y="1219320"/>
          <a:ext cx="7238880" cy="4449600"/>
        </p:xfrm>
        <a:graphic>
          <a:graphicData uri="http://schemas.openxmlformats.org/drawingml/2006/table">
            <a:tbl>
              <a:tblPr/>
              <a:tblGrid>
                <a:gridCol w="1295280"/>
                <a:gridCol w="1219320"/>
                <a:gridCol w="990720"/>
                <a:gridCol w="1218960"/>
                <a:gridCol w="1447920"/>
                <a:gridCol w="106668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. de bacte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amañ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r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ar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uperfic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Preparar laminilla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reparar una laminilla con muestra del área de la boca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Utilizar cristal violeta para teñir las bacteria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Observar la preparación através del microscopi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ibujar lo observad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56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3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56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6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56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57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57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57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57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8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8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58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58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59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59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I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bsdervar laminilla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Bacterias - tinción gram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Bacilos gram + y gram –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cos gram + y gram -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bujar lo observado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600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1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2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603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4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5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606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60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61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61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61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61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62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62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62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631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2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634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5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V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omar una muestra ya sea de aire, agua, suelo, entre otros; utilizando la técnica a explicarse en el laboratori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ocarla en las placas Petri conteniendo un medio de cultivo (TSA) utilizando las técnicas asépticas correspondiente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Rotular las placas: nombre, sección, clave, instructor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ncubar, observar en 48 hrs y anotar/dibujar los resultad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Dar importancia al crecimiento de bacterias y no de hongos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639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1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642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4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645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64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64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65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65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65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66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66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667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8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670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1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673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1d1cb"/>
                </a:solidFill>
                <a:latin typeface="Comic Sans MS"/>
              </a:rPr>
              <a:t>TIPOS DE C</a:t>
            </a: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ÉLUL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0" t="56005" r="0" b="0"/>
          <a:stretch/>
        </p:blipFill>
        <p:spPr>
          <a:xfrm>
            <a:off x="5143680" y="2133720"/>
            <a:ext cx="3619440" cy="297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11720" y="15382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Pro = Antes, Karios = Núcle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1880" y="5248440"/>
            <a:ext cx="6760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Células que carecen de núcleo  u organe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limitados por membran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rcRect l="0" t="0" r="0" b="46008"/>
          <a:stretch/>
        </p:blipFill>
        <p:spPr>
          <a:xfrm>
            <a:off x="609480" y="2133720"/>
            <a:ext cx="4077000" cy="2935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25680" y="152388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(Eu = Verdadero, Karios = Núcle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223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224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23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23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23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24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24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0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251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7848720" y="0"/>
            <a:ext cx="1294920" cy="762120"/>
            <a:chOff x="7848720" y="0"/>
            <a:chExt cx="1294920" cy="762120"/>
          </a:xfrm>
        </p:grpSpPr>
        <p:pic>
          <p:nvPicPr>
            <p:cNvPr id="254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784872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8496360" y="0"/>
              <a:ext cx="647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V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trolar el crecimiento de las bacteria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Utilizar antibióticos, desinfectantes y/o  antisépticos para determinar su eficacia inhibiendo el crecimiento de bacterias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Inocular de forma estriada la muestra de bacterias en el medio de cultivo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olocar 3 discos, impregnados con 3 diferentes sustancias  químicas, sobre el agar ya inoculado con el microorganismo y un disco como control con agua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Rotular las placa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Incubar, observar en 24 hrs y anotar/dibujar los resultad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Dar importancia al crecimiento de bacterias y no de hong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678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9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0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681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2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3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684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68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688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9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691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2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694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5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697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8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700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1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703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4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706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7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709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0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712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3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Artículo Científic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599840" y="53316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717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9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720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1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2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723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4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5" name=""/>
          <p:cNvGrpSpPr/>
          <p:nvPr/>
        </p:nvGrpSpPr>
        <p:grpSpPr>
          <a:xfrm>
            <a:off x="228600" y="6095880"/>
            <a:ext cx="9143640" cy="457200"/>
            <a:chOff x="228600" y="6095880"/>
            <a:chExt cx="9143640" cy="457200"/>
          </a:xfrm>
        </p:grpSpPr>
        <p:grpSp>
          <p:nvGrpSpPr>
            <p:cNvPr id="1726" name=""/>
            <p:cNvGrpSpPr/>
            <p:nvPr/>
          </p:nvGrpSpPr>
          <p:grpSpPr>
            <a:xfrm>
              <a:off x="228600" y="6095880"/>
              <a:ext cx="1066680" cy="457200"/>
              <a:chOff x="228600" y="6095880"/>
              <a:chExt cx="1066680" cy="457200"/>
            </a:xfrm>
          </p:grpSpPr>
          <p:pic>
            <p:nvPicPr>
              <p:cNvPr id="172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228600" y="609588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762120" y="609588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29" name=""/>
            <p:cNvGrpSpPr/>
            <p:nvPr/>
          </p:nvGrpSpPr>
          <p:grpSpPr>
            <a:xfrm>
              <a:off x="3276720" y="6095880"/>
              <a:ext cx="1066680" cy="457200"/>
              <a:chOff x="3276720" y="6095880"/>
              <a:chExt cx="1066680" cy="457200"/>
            </a:xfrm>
          </p:grpSpPr>
          <p:pic>
            <p:nvPicPr>
              <p:cNvPr id="173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276720" y="609588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810240" y="609588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2" name=""/>
            <p:cNvGrpSpPr/>
            <p:nvPr/>
          </p:nvGrpSpPr>
          <p:grpSpPr>
            <a:xfrm>
              <a:off x="4343400" y="6095880"/>
              <a:ext cx="990360" cy="457200"/>
              <a:chOff x="4343400" y="6095880"/>
              <a:chExt cx="990360" cy="457200"/>
            </a:xfrm>
          </p:grpSpPr>
          <p:pic>
            <p:nvPicPr>
              <p:cNvPr id="173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34340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83876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5" name=""/>
            <p:cNvGrpSpPr/>
            <p:nvPr/>
          </p:nvGrpSpPr>
          <p:grpSpPr>
            <a:xfrm>
              <a:off x="5334120" y="6095880"/>
              <a:ext cx="990360" cy="457200"/>
              <a:chOff x="5334120" y="6095880"/>
              <a:chExt cx="990360" cy="457200"/>
            </a:xfrm>
          </p:grpSpPr>
          <p:pic>
            <p:nvPicPr>
              <p:cNvPr id="173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33412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82948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8" name=""/>
            <p:cNvGrpSpPr/>
            <p:nvPr/>
          </p:nvGrpSpPr>
          <p:grpSpPr>
            <a:xfrm>
              <a:off x="6324480" y="6095880"/>
              <a:ext cx="1066680" cy="457200"/>
              <a:chOff x="6324480" y="6095880"/>
              <a:chExt cx="1066680" cy="457200"/>
            </a:xfrm>
          </p:grpSpPr>
          <p:pic>
            <p:nvPicPr>
              <p:cNvPr id="173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324480" y="609588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858000" y="609588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1" name=""/>
            <p:cNvGrpSpPr/>
            <p:nvPr/>
          </p:nvGrpSpPr>
          <p:grpSpPr>
            <a:xfrm>
              <a:off x="7391520" y="6095880"/>
              <a:ext cx="990360" cy="457200"/>
              <a:chOff x="7391520" y="6095880"/>
              <a:chExt cx="990360" cy="457200"/>
            </a:xfrm>
          </p:grpSpPr>
          <p:pic>
            <p:nvPicPr>
              <p:cNvPr id="174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39152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88688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4" name=""/>
            <p:cNvGrpSpPr/>
            <p:nvPr/>
          </p:nvGrpSpPr>
          <p:grpSpPr>
            <a:xfrm>
              <a:off x="8381880" y="6095880"/>
              <a:ext cx="990360" cy="457200"/>
              <a:chOff x="8381880" y="6095880"/>
              <a:chExt cx="990360" cy="457200"/>
            </a:xfrm>
          </p:grpSpPr>
          <p:pic>
            <p:nvPicPr>
              <p:cNvPr id="1745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38188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6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87724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7" name=""/>
            <p:cNvGrpSpPr/>
            <p:nvPr/>
          </p:nvGrpSpPr>
          <p:grpSpPr>
            <a:xfrm>
              <a:off x="2286000" y="6095880"/>
              <a:ext cx="990360" cy="457200"/>
              <a:chOff x="2286000" y="6095880"/>
              <a:chExt cx="990360" cy="457200"/>
            </a:xfrm>
          </p:grpSpPr>
          <p:pic>
            <p:nvPicPr>
              <p:cNvPr id="1748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28600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9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78136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0" name=""/>
            <p:cNvGrpSpPr/>
            <p:nvPr/>
          </p:nvGrpSpPr>
          <p:grpSpPr>
            <a:xfrm>
              <a:off x="1295280" y="6095880"/>
              <a:ext cx="990360" cy="457200"/>
              <a:chOff x="1295280" y="6095880"/>
              <a:chExt cx="990360" cy="457200"/>
            </a:xfrm>
          </p:grpSpPr>
          <p:pic>
            <p:nvPicPr>
              <p:cNvPr id="1751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29528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2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79064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53" name=""/>
          <p:cNvSpPr/>
          <p:nvPr/>
        </p:nvSpPr>
        <p:spPr>
          <a:xfrm>
            <a:off x="1752480" y="960480"/>
            <a:ext cx="7086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ágina de pres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Resu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 a contener información relevante al método y a los organismos que utilizaste para el procedimiento experimental #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Materiales y méto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 a contener el procedimiento utilizado durante la parte experimental #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esde la inoculación de la bacteria hasta la medición del halo de inhibi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Artículo Científic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757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8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9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760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1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2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763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5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766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76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69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77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2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77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5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77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8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77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1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78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4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785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6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7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788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9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0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791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2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93" name=""/>
          <p:cNvSpPr/>
          <p:nvPr/>
        </p:nvSpPr>
        <p:spPr>
          <a:xfrm>
            <a:off x="1752480" y="1066680"/>
            <a:ext cx="7086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ablas y 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scusión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nclusión, analizando los resultados obtenidos durante la parte experimental #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Refer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 de libro o revis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3 d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LASIFICA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rcRect l="1480" t="0" r="2956" b="7021"/>
          <a:stretch/>
        </p:blipFill>
        <p:spPr>
          <a:xfrm>
            <a:off x="457200" y="893880"/>
            <a:ext cx="7848720" cy="5178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590920" y="3581280"/>
            <a:ext cx="4114800" cy="825120"/>
          </a:xfrm>
          <a:prstGeom prst="rect">
            <a:avLst/>
          </a:prstGeom>
          <a:solidFill>
            <a:srgbClr val="ffffff"/>
          </a:solidFill>
          <a:ln w="57240">
            <a:solidFill>
              <a:srgbClr val="909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0d11"/>
                </a:solidFill>
                <a:latin typeface="Comic Sans MS"/>
              </a:rPr>
              <a:t>ANTES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264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267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27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271" name="" descr=""/>
              <p:cNvPicPr/>
              <p:nvPr/>
            </p:nvPicPr>
            <p:blipFill>
              <a:blip r:embed="rId9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" descr=""/>
              <p:cNvPicPr/>
              <p:nvPr/>
            </p:nvPicPr>
            <p:blipFill>
              <a:blip r:embed="rId10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274" name="" descr=""/>
              <p:cNvPicPr/>
              <p:nvPr/>
            </p:nvPicPr>
            <p:blipFill>
              <a:blip r:embed="rId11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12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277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286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289" name="" descr=""/>
              <p:cNvPicPr/>
              <p:nvPr/>
            </p:nvPicPr>
            <p:blipFill>
              <a:blip r:embed="rId21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22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23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24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295" name="" descr=""/>
              <p:cNvPicPr/>
              <p:nvPr/>
            </p:nvPicPr>
            <p:blipFill>
              <a:blip r:embed="rId25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26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DOMINI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99840" y="76176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O" sz="3200" spc="-1" strike="noStrike">
                <a:solidFill>
                  <a:srgbClr val="ffffff"/>
                </a:solidFill>
                <a:latin typeface="Comic Sans MS"/>
              </a:rPr>
              <a:t>Actualmente considerado el nivel taxonómico más alto.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30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301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304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307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31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7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328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331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334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337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762120" y="1752480"/>
            <a:ext cx="7848360" cy="4419360"/>
            <a:chOff x="762120" y="1752480"/>
            <a:chExt cx="7848360" cy="4419360"/>
          </a:xfrm>
        </p:grpSpPr>
        <p:pic>
          <p:nvPicPr>
            <p:cNvPr id="340" name="" descr=""/>
            <p:cNvPicPr/>
            <p:nvPr/>
          </p:nvPicPr>
          <p:blipFill>
            <a:blip r:embed="rId28"/>
            <a:srcRect l="0" t="41146" r="0" b="6376"/>
            <a:stretch/>
          </p:blipFill>
          <p:spPr>
            <a:xfrm>
              <a:off x="762120" y="3372840"/>
              <a:ext cx="7848360" cy="279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Bacteria coli"/>
            <p:cNvPicPr/>
            <p:nvPr/>
          </p:nvPicPr>
          <p:blipFill>
            <a:blip r:embed="rId29"/>
            <a:stretch/>
          </p:blipFill>
          <p:spPr>
            <a:xfrm>
              <a:off x="836640" y="1846080"/>
              <a:ext cx="2092680" cy="152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30"/>
            <a:stretch/>
          </p:blipFill>
          <p:spPr>
            <a:xfrm>
              <a:off x="3826800" y="1825920"/>
              <a:ext cx="1681560" cy="15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1"/>
            <a:stretch/>
          </p:blipFill>
          <p:spPr>
            <a:xfrm>
              <a:off x="6592320" y="1752480"/>
              <a:ext cx="1793880" cy="162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DOMINI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34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348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351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354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35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36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36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36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36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37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74" name="" descr=""/>
          <p:cNvPicPr/>
          <p:nvPr/>
        </p:nvPicPr>
        <p:blipFill>
          <a:blip r:embed="rId20"/>
          <a:stretch/>
        </p:blipFill>
        <p:spPr>
          <a:xfrm>
            <a:off x="914400" y="838080"/>
            <a:ext cx="7772400" cy="49467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1"/>
          <a:stretch/>
        </p:blipFill>
        <p:spPr>
          <a:xfrm>
            <a:off x="3809880" y="914400"/>
            <a:ext cx="2057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377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380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383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386" name="" descr=""/>
            <p:cNvPicPr/>
            <p:nvPr/>
          </p:nvPicPr>
          <p:blipFill>
            <a:blip r:embed="rId28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9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d1d1cb"/>
                </a:solidFill>
                <a:latin typeface="Comic Sans MS"/>
              </a:rPr>
              <a:t>Arquea</a:t>
            </a:r>
            <a:endParaRPr b="0" lang="en-US" sz="5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9840" y="1265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Halogeometricum borinquensi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Haloterrigena thermotoleran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438280" y="838080"/>
            <a:ext cx="4953240" cy="404496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392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"/>
          <p:cNvGrpSpPr/>
          <p:nvPr/>
        </p:nvGrpSpPr>
        <p:grpSpPr>
          <a:xfrm>
            <a:off x="1447920" y="0"/>
            <a:ext cx="1523880" cy="762120"/>
            <a:chOff x="1447920" y="0"/>
            <a:chExt cx="1523880" cy="762120"/>
          </a:xfrm>
        </p:grpSpPr>
        <p:pic>
          <p:nvPicPr>
            <p:cNvPr id="395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14479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22100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401" name="" descr=""/>
            <p:cNvPicPr/>
            <p:nvPr/>
          </p:nvPicPr>
          <p:blipFill>
            <a:blip r:embed="rId9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0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40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405" name="" descr=""/>
              <p:cNvPicPr/>
              <p:nvPr/>
            </p:nvPicPr>
            <p:blipFill>
              <a:blip r:embed="rId11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2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408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411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414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417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420" name="" descr=""/>
              <p:cNvPicPr/>
              <p:nvPr/>
            </p:nvPicPr>
            <p:blipFill>
              <a:blip r:embed="rId21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22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423" name="" descr=""/>
              <p:cNvPicPr/>
              <p:nvPr/>
            </p:nvPicPr>
            <p:blipFill>
              <a:blip r:embed="rId23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24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426" name="" descr=""/>
              <p:cNvPicPr/>
              <p:nvPr/>
            </p:nvPicPr>
            <p:blipFill>
              <a:blip r:embed="rId25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" descr=""/>
              <p:cNvPicPr/>
              <p:nvPr/>
            </p:nvPicPr>
            <p:blipFill>
              <a:blip r:embed="rId26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7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8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DOMINI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43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435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438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441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44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44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45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45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45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462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4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465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468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471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533520" y="990720"/>
            <a:ext cx="8152920" cy="4953960"/>
            <a:chOff x="533520" y="990720"/>
            <a:chExt cx="8152920" cy="4953960"/>
          </a:xfrm>
        </p:grpSpPr>
        <p:pic>
          <p:nvPicPr>
            <p:cNvPr id="474" name="" descr=""/>
            <p:cNvPicPr/>
            <p:nvPr/>
          </p:nvPicPr>
          <p:blipFill>
            <a:blip r:embed="rId28"/>
            <a:stretch/>
          </p:blipFill>
          <p:spPr>
            <a:xfrm>
              <a:off x="533520" y="990720"/>
              <a:ext cx="8152920" cy="49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9"/>
            <a:stretch/>
          </p:blipFill>
          <p:spPr>
            <a:xfrm>
              <a:off x="6232680" y="1034640"/>
              <a:ext cx="2216160" cy="196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21:44:23Z</dcterms:created>
  <dc:creator> </dc:creator>
  <dc:description/>
  <dc:language>en-US</dc:language>
  <cp:lastModifiedBy>presentation</cp:lastModifiedBy>
  <dcterms:modified xsi:type="dcterms:W3CDTF">2006-01-31T14:00:51Z</dcterms:modified>
  <cp:revision>11</cp:revision>
  <dc:subject/>
  <dc:title>Organismos procariotas LAS BACTERIAS</dc:title>
</cp:coreProperties>
</file>