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AFE-6F64-496A-8EF6-293789A7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9AC-0982-49C1-9B08-45B2F90C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07F-6F54-4450-B379-C8965108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314-8820-4324-ABE6-0032BECB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386-4CA5-496A-BD43-6ED24073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59C-F2B7-4E38-88BF-5D53FB65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986-2C4A-4B5B-B973-B7FB6527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02C-9BAE-410E-A69E-E6AB3314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681-0980-4D9B-90BB-5868A2B9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1C3-E5E2-44A4-9A5C-08232D22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1B4-BD00-4BCC-A5B2-220173A7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F52-EF4D-4013-8576-54F9DEAB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DE08-FEF7-46F9-92B8-C3E91848B4D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567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19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PROMÉTETE A TI MISM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4876920"/>
            <a:ext cx="7315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752480"/>
            <a:ext cx="2438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Hacer que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todos</a:t>
            </a:r>
            <a:r>
              <a:rPr b="0" lang="es-MX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tus amigos sientan que hay algo bueno en ell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441972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5715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omic Sans MS"/>
              </a:rPr>
              <a:t>PROMÉTETE A TI MISM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91320" y="2286000"/>
            <a:ext cx="2666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Ser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Demasiado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generoso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para afligir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1066680" y="838080"/>
            <a:ext cx="4572000" cy="5486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47920" y="5486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Demasiado </a:t>
            </a:r>
            <a:r>
              <a:rPr b="0" lang="es-MX" sz="3200" spc="-1" strike="noStrike">
                <a:solidFill>
                  <a:srgbClr val="ccccff"/>
                </a:solidFill>
                <a:latin typeface="Comic Sans MS"/>
              </a:rPr>
              <a:t>noble</a:t>
            </a: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 para enojart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867640" cy="400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426708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Demasiado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fuerte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para sentir mied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4038840" cy="563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76520" y="51055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Demasiado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feliz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para permitir la entrada a las preocupacion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876920" y="1066680"/>
            <a:ext cx="3733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Luego,      </a:t>
            </a:r>
            <a:r>
              <a:rPr b="0" lang="es-MX" sz="4000" spc="-1" strike="noStrike">
                <a:solidFill>
                  <a:srgbClr val="00ccff"/>
                </a:solidFill>
                <a:latin typeface="Comic Sans MS"/>
              </a:rPr>
              <a:t>cumple </a:t>
            </a: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estas </a:t>
            </a:r>
            <a:r>
              <a:rPr b="0" lang="es-MX" sz="4000" spc="-1" strike="noStrike">
                <a:solidFill>
                  <a:srgbClr val="00cc99"/>
                </a:solidFill>
                <a:latin typeface="Comic Sans MS"/>
              </a:rPr>
              <a:t>promesas,</a:t>
            </a: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 y tu vida será distinta !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4360" y="1916280"/>
            <a:ext cx="8001000" cy="2133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O PROVEAS DE PESCADO, 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NSÉÑALE A PESCAR!! 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238880" cy="423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487692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Ser tan fuerte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Que nada pueda turbar la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paz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de tu pensamiento</a:t>
            </a:r>
            <a:r>
              <a:rPr b="0" lang="es-MX" sz="2800" spc="-1" strike="noStrike">
                <a:solidFill>
                  <a:srgbClr val="80808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5257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Hablar  de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</a:rPr>
              <a:t>felicidad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y prosperidad a cada persona que encuentr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238880" cy="449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5334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Mirar siempre el lado posi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de las cos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62720" y="1676520"/>
            <a:ext cx="30477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Pensar solamente lo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mejor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Trabajar por lo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mejor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Y esperar lo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mejor 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410080" y="1905120"/>
            <a:ext cx="289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Alegrarte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del triunfo de los otros, como si fuera el tuyo propi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3720960" cy="549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5880" y="1447920"/>
            <a:ext cx="2743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Olvidar los errores cometidos en el pasado, y pensar solamente en las promesas del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futuro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4648320" cy="563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518148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Tener en todo momento buen semblante y ofrecer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siempre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 una sonris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219320"/>
            <a:ext cx="2819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Tratar de mejorar en cada momento, para que no te quede tiempo de criticar, y tu llegues a lo </a:t>
            </a:r>
            <a:r>
              <a:rPr b="0" lang="es-MX" sz="2800" spc="-1" strike="noStrike">
                <a:solidFill>
                  <a:srgbClr val="00cc99"/>
                </a:solidFill>
                <a:latin typeface="Comic Sans MS"/>
              </a:rPr>
              <a:t>máximo 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que puedes se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267080" y="685800"/>
            <a:ext cx="419112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1:23:45Z</dcterms:created>
  <dc:creator>.</dc:creator>
  <dc:description/>
  <dc:language>en-US</dc:language>
  <cp:lastModifiedBy>Administrador</cp:lastModifiedBy>
  <dcterms:modified xsi:type="dcterms:W3CDTF">2007-02-15T18:55:42Z</dcterms:modified>
  <cp:revision>13</cp:revision>
  <dc:subject/>
  <dc:title>Presentación de PowerPoint</dc:title>
</cp:coreProperties>
</file>