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1133-26C7-4BEF-99F7-EB14B782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40A-6C19-4EF0-BE51-61534333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E481-C021-424C-8582-5ACF89A4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618-98AA-4AEC-BE20-A73FC5CB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DFB-6E4E-4325-8849-50DBC348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7FD2-DDF8-4EEE-A489-C4E8EDEC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BC7-5C20-45DD-BC81-26BFC010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F09-32ED-4349-BA13-DC5149BA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1F36-EDF6-40FA-95EA-489E8D84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5B0-9A89-4D29-9F08-3B69BEF9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934-C33F-4724-ADF2-7A3C9E22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F908-4AFB-45FB-8FCE-92E31F98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6577-5E17-43DF-8D02-40C66C27C90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567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199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PROMÉTETE A TI MISM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4876920"/>
            <a:ext cx="7315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1752480"/>
            <a:ext cx="2438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Hacer que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todos</a:t>
            </a:r>
            <a:r>
              <a:rPr b="0" lang="es-MX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tus amigos sientan que hay algo bueno en ell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441972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5715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omic Sans MS"/>
              </a:rPr>
              <a:t>PROMÉTETE A TI MISM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791320" y="2286000"/>
            <a:ext cx="2666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Ser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Demasiado 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</a:rPr>
              <a:t>generoso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para afligir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1066680" y="838080"/>
            <a:ext cx="4572000" cy="5486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47920" y="5486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Demasiado </a:t>
            </a:r>
            <a:r>
              <a:rPr b="0" lang="es-MX" sz="3200" spc="-1" strike="noStrike">
                <a:solidFill>
                  <a:srgbClr val="ccccff"/>
                </a:solidFill>
                <a:latin typeface="Comic Sans MS"/>
              </a:rPr>
              <a:t>noble</a:t>
            </a: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 para enojart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867640" cy="400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4267080"/>
            <a:ext cx="30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Demasiado 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</a:rPr>
              <a:t>fuerte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para sentir mied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4038840" cy="563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76520" y="51055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Demasiado 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</a:rPr>
              <a:t>feliz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para permitir la entrada a las preocupacion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629400" cy="381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876920" y="1066680"/>
            <a:ext cx="3733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omic Sans MS"/>
              </a:rPr>
              <a:t>Luego,      </a:t>
            </a:r>
            <a:r>
              <a:rPr b="0" lang="es-MX" sz="4000" spc="-1" strike="noStrike">
                <a:solidFill>
                  <a:srgbClr val="00ccff"/>
                </a:solidFill>
                <a:latin typeface="Comic Sans MS"/>
              </a:rPr>
              <a:t>cumple </a:t>
            </a:r>
            <a:r>
              <a:rPr b="0" lang="es-MX" sz="4000" spc="-1" strike="noStrike">
                <a:solidFill>
                  <a:srgbClr val="ffffff"/>
                </a:solidFill>
                <a:latin typeface="Comic Sans MS"/>
              </a:rPr>
              <a:t>estas </a:t>
            </a:r>
            <a:r>
              <a:rPr b="0" lang="es-MX" sz="4000" spc="-1" strike="noStrike">
                <a:solidFill>
                  <a:srgbClr val="00cc99"/>
                </a:solidFill>
                <a:latin typeface="Comic Sans MS"/>
              </a:rPr>
              <a:t>promesas,</a:t>
            </a:r>
            <a:r>
              <a:rPr b="0" lang="es-MX" sz="4000" spc="-1" strike="noStrike">
                <a:solidFill>
                  <a:srgbClr val="ffffff"/>
                </a:solidFill>
                <a:latin typeface="Comic Sans MS"/>
              </a:rPr>
              <a:t> y tu vida será distinta !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4360" y="1916280"/>
            <a:ext cx="8001000" cy="2133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NO PROVEAS DE PESCADO, 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ENSÉÑALE A PESCAR!! 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238880" cy="4232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487692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Ser tan fuerte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Que nada pueda turbar la 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</a:rPr>
              <a:t>paz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de tu pensamiento</a:t>
            </a:r>
            <a:r>
              <a:rPr b="0" lang="es-MX" sz="2800" spc="-1" strike="noStrike">
                <a:solidFill>
                  <a:srgbClr val="80808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52578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Hablar  de 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</a:rPr>
              <a:t>felicidad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y prosperidad a cada persona que encuentr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238880" cy="449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00200" y="5334120"/>
            <a:ext cx="6095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Mirar siempre el lado posi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de las cos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6400800" cy="44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562720" y="1676520"/>
            <a:ext cx="30477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Pensar solamente lo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mejor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Trabajar por lo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mejor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Y esperar lo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mejor 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410080" y="1905120"/>
            <a:ext cx="2895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Alegrarte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del triunfo de los otros, como si fuera el tuyo propi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3720960" cy="549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5880" y="1447920"/>
            <a:ext cx="2743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Olvidar los errores cometidos en el pasado, y pensar solamente en las promesas del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futuro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4648320" cy="563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5181480"/>
            <a:ext cx="693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Tener en todo momento buen semblante y ofrecer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siempre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una sonris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1219320"/>
            <a:ext cx="2819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Tratar de mejorar en cada momento, para que no te quede tiempo de criticar, y tu llegues a lo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máximo 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que puedes se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267080" y="685800"/>
            <a:ext cx="4191120" cy="556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1:23:45Z</dcterms:created>
  <dc:creator>.</dc:creator>
  <dc:description/>
  <dc:language>en-US</dc:language>
  <cp:lastModifiedBy>Administrador</cp:lastModifiedBy>
  <dcterms:modified xsi:type="dcterms:W3CDTF">2007-02-15T18:55:42Z</dcterms:modified>
  <cp:revision>13</cp:revision>
  <dc:subject/>
  <dc:title>Presentación de PowerPoint</dc:title>
</cp:coreProperties>
</file>