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TECLA.WAV" ContentType="audio/x-wav"/>
  <Override PartName="/ppt/media/image6.wmf" ContentType="image/x-wmf"/>
  <Override PartName="/ppt/media/LASER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A484-0235-440E-AE4D-CBD5AEBD0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71600" y="411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D458-15E8-4CAB-A08F-D65F8668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11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1560" y="411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689C-10A4-4FC1-A1C4-A4ADB2C57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35560" y="3203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99880" y="3203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71600" y="411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35560" y="411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99880" y="411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0B45-8AED-41E5-95B3-7B8E972EA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3764-1A6F-41D4-BF45-1B4BDC740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2621-D10C-4CB7-9FBD-688B697D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6A39-CBD4-46DC-B1BC-A7C713BE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A3AB-F87D-4F33-A476-3171BE35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33A0-2FD4-45C9-8539-712F4AAE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0B34-0587-4F10-B492-59C6DD0B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371600" y="411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5F2B-A9E4-4686-BB5C-9AD52047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CAA8-4AEA-44DC-9D78-0C67F99B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51560" y="411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6B92-6636-4C4B-BBC7-15667797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371600" y="411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9D54-D88B-48C0-A59E-F4832C4B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371600" y="411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C5BE-C879-42E1-818D-C83D802B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371600" y="411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51560" y="411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6F48-508C-462B-B1AA-95AB7A538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535560" y="3203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699880" y="3203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371600" y="411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535560" y="411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699880" y="411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FE672-F97E-4BC5-89FD-6B85EA6DE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46AB-CC6B-4737-9F91-B95A01D9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D549-FC7F-438C-BB42-66CD4903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D816-3A8F-42C3-B64E-DD2F6BAE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3F5E-2565-4D0A-A9D4-A7673AD2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71600" y="411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C275-CBE2-4A1D-9BB9-1277B327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1560" y="411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4022-7E4E-45C9-AD3F-78ED9D4C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11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74DF-161A-43A9-9650-1E7A6A48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77AC-A9BC-4EB9-8E9B-88A7413C0C85}" type="slidenum">
              <a:rPr b="0" lang="es-PE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227F-AE39-45B1-ADB7-4B609E5F7DDC}" type="slidenum">
              <a:rPr b="0" lang="es-PE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.org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png"/><Relationship Id="rId3" Type="http://schemas.openxmlformats.org/officeDocument/2006/relationships/audio" Target="../media/TECLA.WAV"/><Relationship Id="rId4" Type="http://schemas.openxmlformats.org/officeDocument/2006/relationships/audio" Target="../media/TECLA.WAV"/><Relationship Id="rId5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owerpoints.org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owerpoints.org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owerpoints.org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owerpoints.org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owerpoints.org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owerpoints.org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owerpoints.org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280" y="2204640"/>
            <a:ext cx="80629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99"/>
                </a:solidFill>
                <a:latin typeface="Arial"/>
              </a:rPr>
              <a:t>LA PERSONA</a:t>
            </a:r>
            <a:br>
              <a:rPr sz="6000"/>
            </a:br>
            <a:r>
              <a:rPr b="0" lang="es-ES_tradnl" sz="6000" spc="-1" strike="noStrike">
                <a:solidFill>
                  <a:srgbClr val="ffff99"/>
                </a:solidFill>
                <a:latin typeface="Arial"/>
              </a:rPr>
              <a:t>GANADORA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05840" y="6305400"/>
            <a:ext cx="1838160" cy="55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c1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323640" y="836640"/>
            <a:ext cx="85690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Una persona ganadora respeta a aquellos que saben más que él y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trata de aprender algo de ellos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Una persona perdedora resiste a aquellos que saben más que él y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sólo se fija en sus defectos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305840" y="6305400"/>
            <a:ext cx="1838160" cy="55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9400"/>
            </a:gs>
            <a:gs pos="100000">
              <a:srgbClr val="2a54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87280" y="838080"/>
            <a:ext cx="8569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2bc5e"/>
                </a:solidFill>
                <a:latin typeface="Arial"/>
              </a:rPr>
              <a:t>Una persona ganadora se siente responsable por algo más qu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2bc5e"/>
                </a:solidFill>
                <a:latin typeface="Arial"/>
              </a:rPr>
              <a:t>solamente su trabajo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2bc5e"/>
                </a:solidFill>
                <a:latin typeface="Arial"/>
              </a:rPr>
              <a:t>Una persona perdedora no se compromete y siempre dice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2bc5e"/>
                </a:solidFill>
                <a:latin typeface="Arial"/>
              </a:rPr>
              <a:t>"</a:t>
            </a:r>
            <a:r>
              <a:rPr b="0" i="1" lang="en-US" sz="3600" spc="-1" strike="noStrike">
                <a:solidFill>
                  <a:srgbClr val="e2bc5e"/>
                </a:solidFill>
                <a:latin typeface="Arial"/>
              </a:rPr>
              <a:t>Sólo hago mi trabajo</a:t>
            </a:r>
            <a:r>
              <a:rPr b="0" lang="en-US" sz="3600" spc="-1" strike="noStrike">
                <a:solidFill>
                  <a:srgbClr val="e2bc5e"/>
                </a:solidFill>
                <a:latin typeface="Arial"/>
              </a:rPr>
              <a:t>“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305840" y="6305400"/>
            <a:ext cx="1838160" cy="55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e9a"/>
            </a:gs>
            <a:gs pos="100000">
              <a:srgbClr val="005a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324000" y="98064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99"/>
                </a:solidFill>
                <a:latin typeface="Arial"/>
              </a:rPr>
              <a:t>Una persona ganadora dice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99"/>
                </a:solidFill>
                <a:latin typeface="Arial"/>
              </a:rPr>
              <a:t>"</a:t>
            </a:r>
            <a:r>
              <a:rPr b="0" i="1" lang="en-US" sz="3600" spc="-1" strike="noStrike">
                <a:solidFill>
                  <a:srgbClr val="00ff99"/>
                </a:solidFill>
                <a:latin typeface="Arial"/>
              </a:rPr>
              <a:t>Debe haber una mejor form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ff99"/>
                </a:solidFill>
                <a:latin typeface="Arial"/>
              </a:rPr>
              <a:t>de hacerlo </a:t>
            </a:r>
            <a:r>
              <a:rPr b="0" lang="en-US" sz="3600" spc="-1" strike="noStrike">
                <a:solidFill>
                  <a:srgbClr val="00ff99"/>
                </a:solidFill>
                <a:latin typeface="Arial"/>
              </a:rPr>
              <a:t>. . .“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ff99"/>
                </a:solidFill>
                <a:latin typeface="Arial"/>
              </a:rPr>
              <a:t>    </a:t>
            </a:r>
            <a:r>
              <a:rPr b="0" lang="en-US" sz="3600" spc="-1" strike="noStrike">
                <a:solidFill>
                  <a:srgbClr val="00ff99"/>
                </a:solidFill>
                <a:latin typeface="Arial"/>
              </a:rPr>
              <a:t>Una persona perdedora dice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99"/>
                </a:solidFill>
                <a:latin typeface="Arial"/>
              </a:rPr>
              <a:t>"</a:t>
            </a:r>
            <a:r>
              <a:rPr b="0" i="1" lang="en-US" sz="3600" spc="-1" strike="noStrike">
                <a:solidFill>
                  <a:srgbClr val="00ff99"/>
                </a:solidFill>
                <a:latin typeface="Arial"/>
              </a:rPr>
              <a:t>Esta es la manera como siempr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ff99"/>
                </a:solidFill>
                <a:latin typeface="Arial"/>
              </a:rPr>
              <a:t>lo hemos hecho</a:t>
            </a:r>
            <a:r>
              <a:rPr b="0" lang="en-US" sz="3600" spc="-1" strike="noStrike">
                <a:solidFill>
                  <a:srgbClr val="00ff99"/>
                </a:solidFill>
                <a:latin typeface="Arial"/>
              </a:rPr>
              <a:t>"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7305840" y="6305400"/>
            <a:ext cx="1838160" cy="55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324000" y="1628280"/>
            <a:ext cx="84960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Una persona ganadora 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parte de la solución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Una persona perdedora 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parte del problema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305840" y="6305400"/>
            <a:ext cx="1838160" cy="55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2e2"/>
            </a:gs>
            <a:gs pos="100000">
              <a:srgbClr val="4d4d4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324000" y="1555920"/>
            <a:ext cx="84247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Arial"/>
              </a:rPr>
              <a:t>Una persona ganadora se fija en "</a:t>
            </a:r>
            <a:r>
              <a:rPr b="0" i="1" lang="en-US" sz="3600" spc="-1" strike="noStrike">
                <a:solidFill>
                  <a:srgbClr val="ff7c80"/>
                </a:solidFill>
                <a:latin typeface="Arial"/>
              </a:rPr>
              <a:t>como se ve la pared en su totalidad</a:t>
            </a:r>
            <a:r>
              <a:rPr b="0" lang="en-US" sz="3600" spc="-1" strike="noStrike">
                <a:solidFill>
                  <a:srgbClr val="ff7c80"/>
                </a:solidFill>
                <a:latin typeface="Arial"/>
              </a:rPr>
              <a:t>"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Arial"/>
              </a:rPr>
              <a:t>Una persona perdedora se fija "</a:t>
            </a:r>
            <a:r>
              <a:rPr b="0" i="1" lang="en-US" sz="3600" spc="-1" strike="noStrike">
                <a:solidFill>
                  <a:srgbClr val="ff7c80"/>
                </a:solidFill>
                <a:latin typeface="Arial"/>
              </a:rPr>
              <a:t>en el ladrillo que le toca colocar</a:t>
            </a:r>
            <a:r>
              <a:rPr b="0" lang="en-US" sz="3600" spc="-1" strike="noStrike">
                <a:solidFill>
                  <a:srgbClr val="ff7c80"/>
                </a:solidFill>
                <a:latin typeface="Arial"/>
              </a:rPr>
              <a:t>"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7305840" y="6305400"/>
            <a:ext cx="1838160" cy="55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982"/>
            </a:gs>
            <a:gs pos="100000">
              <a:srgbClr val="57586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323640" y="907920"/>
            <a:ext cx="8569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00"/>
                </a:solidFill>
                <a:latin typeface="Arial"/>
              </a:rPr>
              <a:t>Una persona ganadora como tú, comparte este mensaje ......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cccc00"/>
                </a:solidFill>
                <a:latin typeface="Arial"/>
              </a:rPr>
              <a:t>Una persona perdedora como lo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00"/>
                </a:solidFill>
                <a:latin typeface="Arial"/>
              </a:rPr>
              <a:t>otros es egoísta y se lo guard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00"/>
                </a:solidFill>
                <a:latin typeface="Arial"/>
              </a:rPr>
              <a:t>para sí mismo . . 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7305840" y="6305400"/>
            <a:ext cx="1838160" cy="55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629080" y="1455840"/>
            <a:ext cx="3886200" cy="394488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289080" y="1628640"/>
            <a:ext cx="8604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33cc"/>
                </a:solidFill>
                <a:latin typeface="Arial"/>
              </a:rPr>
              <a:t>SALUDOS A TODAS LAS PERSONAS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33cc"/>
                </a:solidFill>
                <a:latin typeface="Arial"/>
              </a:rPr>
              <a:t>GANADORAS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7305840" y="6305400"/>
            <a:ext cx="1838160" cy="55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800"/>
                            </p:stCondLst>
                            <p:childTnLst>
                              <p:par>
                                <p:cTn id="1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75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75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895480" y="1219320"/>
            <a:ext cx="4054680" cy="37717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89080" y="304560"/>
            <a:ext cx="86040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99"/>
                </a:solidFill>
                <a:latin typeface="Arial"/>
              </a:rPr>
              <a:t>ASI QUE TE SALUDO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99"/>
                </a:solidFill>
                <a:latin typeface="Arial"/>
              </a:rPr>
              <a:t>CON MUCHO CARIÑO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99"/>
                </a:solidFill>
                <a:latin typeface="Arial"/>
              </a:rPr>
              <a:t>¡¡ PARA TI !!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7305840" y="6305400"/>
            <a:ext cx="1838160" cy="55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75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75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50"/>
                            </p:stCondLst>
                            <p:childTnLst>
                              <p:par>
                                <p:cTn id="2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75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75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100"/>
                            </p:stCondLst>
                            <p:childTnLst>
                              <p:par>
                                <p:cTn id="2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75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75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850"/>
                            </p:stCondLst>
                            <p:childTnLst>
                              <p:par>
                                <p:cTn id="3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c1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10920" y="83628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Cuando la persona ganadora comete un error, dice: "</a:t>
            </a:r>
            <a:r>
              <a:rPr b="0" i="1" lang="en-US" sz="3600" spc="-1" strike="noStrike">
                <a:solidFill>
                  <a:srgbClr val="ff9900"/>
                </a:solidFill>
                <a:latin typeface="Arial"/>
              </a:rPr>
              <a:t>Me equivoqué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“, y aprende la lección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Cuando una persona perdedora comete un error, dice: "</a:t>
            </a:r>
            <a:r>
              <a:rPr b="0" i="1" lang="en-US" sz="3600" spc="-1" strike="noStrike">
                <a:solidFill>
                  <a:srgbClr val="ff9900"/>
                </a:solidFill>
                <a:latin typeface="Arial"/>
              </a:rPr>
              <a:t>No fue mi culpa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“, y se la echa a otros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05840" y="6305400"/>
            <a:ext cx="1838160" cy="55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9400"/>
            </a:gs>
            <a:gs pos="100000">
              <a:srgbClr val="2a54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539640" y="1125360"/>
            <a:ext cx="8064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e2bc5e"/>
                </a:solidFill>
                <a:latin typeface="Arial"/>
              </a:rPr>
              <a:t>Una persona ganadora sabe qu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e2bc5e"/>
                </a:solidFill>
                <a:latin typeface="Arial"/>
              </a:rPr>
              <a:t>la adversidad es el mejor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e2bc5e"/>
                </a:solidFill>
                <a:latin typeface="Arial"/>
              </a:rPr>
              <a:t>de los maestros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PE" sz="3600" spc="-1" strike="noStrike">
                <a:solidFill>
                  <a:srgbClr val="e2bc5e"/>
                </a:solidFill>
                <a:latin typeface="Arial"/>
              </a:rPr>
              <a:t> </a:t>
            </a:r>
            <a:r>
              <a:rPr b="0" lang="es-PE" sz="3600" spc="-1" strike="noStrike">
                <a:solidFill>
                  <a:srgbClr val="e2bc5e"/>
                </a:solidFill>
                <a:latin typeface="Arial"/>
              </a:rPr>
              <a:t>Una persona perdedora se siente víctima ante la adversidad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05840" y="6305400"/>
            <a:ext cx="1838160" cy="55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e9a"/>
            </a:gs>
            <a:gs pos="100000">
              <a:srgbClr val="005a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10920" y="1628640"/>
            <a:ext cx="799308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99"/>
                </a:solidFill>
                <a:latin typeface="Arial"/>
              </a:rPr>
              <a:t>Una persona ganadora sabe que el resultado de las cosas depende de él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99"/>
                </a:solidFill>
                <a:latin typeface="Arial"/>
              </a:rPr>
              <a:t>Una persona perdedora cree qu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99"/>
                </a:solidFill>
                <a:latin typeface="Arial"/>
              </a:rPr>
              <a:t>la mala suerte sí existe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05840" y="6305400"/>
            <a:ext cx="1838160" cy="55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Una persona ganadora trabaja muy fuerte y genera más tiempo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para sí mismo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Una persona perdedora está siempre "</a:t>
            </a:r>
            <a:r>
              <a:rPr b="0" i="1" lang="en-US" sz="3600" spc="-1" strike="noStrike">
                <a:solidFill>
                  <a:srgbClr val="00ffff"/>
                </a:solidFill>
                <a:latin typeface="Arial"/>
              </a:rPr>
              <a:t>muy ocupada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" y no tiene tiempo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ni para los suyos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05840" y="6305400"/>
            <a:ext cx="1838160" cy="55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2e2"/>
            </a:gs>
            <a:gs pos="100000">
              <a:srgbClr val="4d4d4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68000" y="1557360"/>
            <a:ext cx="820908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Arial"/>
              </a:rPr>
              <a:t>Una persona ganadora enfrent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Arial"/>
              </a:rPr>
              <a:t>los retos uno a uno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Arial"/>
              </a:rPr>
              <a:t>Una persona perdedora les da vueltas y no se atreve a intentarlo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05840" y="6305400"/>
            <a:ext cx="1838160" cy="55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982"/>
            </a:gs>
            <a:gs pos="100000">
              <a:srgbClr val="57586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324000" y="1125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cccc00"/>
                </a:solidFill>
                <a:latin typeface="Arial"/>
              </a:rPr>
              <a:t>Una persona ganadora se compromete, da su palabra y la cumple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PE" sz="3600" spc="-1" strike="noStrike">
                <a:solidFill>
                  <a:srgbClr val="cccc00"/>
                </a:solidFill>
                <a:latin typeface="Arial"/>
              </a:rPr>
              <a:t> </a:t>
            </a:r>
            <a:r>
              <a:rPr b="0" lang="es-PE" sz="3600" spc="-1" strike="noStrike">
                <a:solidFill>
                  <a:srgbClr val="cccc00"/>
                </a:solidFill>
                <a:latin typeface="Arial"/>
              </a:rPr>
              <a:t>Una persona perdedora hace promesas, no asegura nada y cuando falla sólo se justifica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05840" y="6305400"/>
            <a:ext cx="1838160" cy="55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44000" y="1125360"/>
            <a:ext cx="88203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Una persona ganadora dice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"</a:t>
            </a:r>
            <a:r>
              <a:rPr b="0" i="1" lang="en-US" sz="3600" spc="-1" strike="noStrike">
                <a:solidFill>
                  <a:srgbClr val="0033cc"/>
                </a:solidFill>
                <a:latin typeface="Arial"/>
              </a:rPr>
              <a:t>Soy bueno, pero voy a ser mejor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"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     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Una persona perdedora dice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"</a:t>
            </a:r>
            <a:r>
              <a:rPr b="0" i="1" lang="en-US" sz="3600" spc="-1" strike="noStrike">
                <a:solidFill>
                  <a:srgbClr val="0033cc"/>
                </a:solidFill>
                <a:latin typeface="Arial"/>
              </a:rPr>
              <a:t>No soy tan malo como lo 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cc"/>
                </a:solidFill>
                <a:latin typeface="Arial"/>
              </a:rPr>
              <a:t>mucha otra gente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"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05840" y="6305400"/>
            <a:ext cx="1838160" cy="55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324000" y="1630080"/>
            <a:ext cx="84247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Una persona ganadora escucha, comprende y responde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Una persona perdedora sólo espera hasta que le toque su turno para hablar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305840" y="6305400"/>
            <a:ext cx="1838160" cy="55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2T21:31:13Z</dcterms:created>
  <dc:creator/>
  <dc:description/>
  <dc:language>en-US</dc:language>
  <cp:lastModifiedBy>Yosias De León</cp:lastModifiedBy>
  <dcterms:modified xsi:type="dcterms:W3CDTF">2005-04-26T04:40:27Z</dcterms:modified>
  <cp:revision>30</cp:revision>
  <dc:subject/>
  <dc:title>A LOS GANADORES</dc:title>
</cp:coreProperties>
</file>