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TECLA.WAV" ContentType="audio/x-wav"/>
  <Override PartName="/ppt/media/image6.wmf" ContentType="image/x-wmf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E43-4ABF-4F48-830C-D2112A5C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7AA-5096-4487-9516-5E02B7B1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6AB-BC26-4C55-9C05-6AACFB11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040-EFF3-47FA-9F9B-E69FFF54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9441-2019-4DC4-AD41-7E075DF2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8522-C85C-42A2-B542-DC73F65A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57FA-B1FF-4634-86FE-044EDF06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D659-656C-4E21-8811-8CF705B3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AF0C-F60A-4C38-9164-488842F6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1E13-5677-442A-92AD-7D487465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B561-BD79-4914-BFAC-56096A1A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E74-175F-4C65-B35C-504D94F8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AD0A-77ED-4C42-93B6-91C18E4A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EA53-DCD4-4353-8D8C-E3858016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ABBD-F722-452E-A144-D4FD4242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F854-168C-4372-8B5A-173DEE36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3556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9988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37160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3556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69988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5230-82F9-49DE-BE38-1585FAE0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650-E7AA-45BC-96DD-74A3BEBA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F88-B437-4AE3-BA0A-35570D49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F4F-83E9-4B79-B66E-3D2A0FAF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B9B-D746-4945-9F1B-5344BDA3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0E7-6E5C-4CAB-BF93-90B4A267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E0C-597D-46E9-92A5-D73A3832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FEC-84DB-491A-B58E-BCA0CDE0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0EED-4D26-4D00-B786-F9F86C8E2EE9}" type="slidenum">
              <a:rPr b="0" lang="es-P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439E-BA17-4410-991F-47861E6FF327}" type="slidenum">
              <a:rPr b="0" lang="es-P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2204640"/>
            <a:ext cx="80629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LA PERSONA</a:t>
            </a:r>
            <a:br>
              <a:rPr sz="6000"/>
            </a:b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GANADORA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23640" y="836640"/>
            <a:ext cx="85690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Una persona ganadora respeta a aquellos que saben más que él 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trata de aprender algo de ell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Una persona perdedora resiste a aquellos que saben más que él 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sólo se fija en sus defect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9400"/>
            </a:gs>
            <a:gs pos="100000">
              <a:srgbClr val="2a54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87280" y="83808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Una persona ganadora se siente responsable por algo más qu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solamente su trabaj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Una persona perdedora no se compromete y siempre dice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e2bc5e"/>
                </a:solidFill>
                <a:latin typeface="Arial"/>
              </a:rPr>
              <a:t>Sólo hago mi trabajo</a:t>
            </a: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“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24000" y="980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Una persona ganadora dic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00ff99"/>
                </a:solidFill>
                <a:latin typeface="Arial"/>
              </a:rPr>
              <a:t>Debe haber una mejor for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99"/>
                </a:solidFill>
                <a:latin typeface="Arial"/>
              </a:rPr>
              <a:t>de hacerlo </a:t>
            </a: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. . .“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    </a:t>
            </a: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Una persona perdedora dic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00ff99"/>
                </a:solidFill>
                <a:latin typeface="Arial"/>
              </a:rPr>
              <a:t>Esta es la manera como siemp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99"/>
                </a:solidFill>
                <a:latin typeface="Arial"/>
              </a:rPr>
              <a:t>lo hemos hecho</a:t>
            </a: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24000" y="1628280"/>
            <a:ext cx="8496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Una persona ganadora 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arte de la solució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Una persona perdedora 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arte del problem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Una persona ganadora se fija en "</a:t>
            </a:r>
            <a:r>
              <a:rPr b="0" i="1" lang="en-US" sz="3600" spc="-1" strike="noStrike">
                <a:solidFill>
                  <a:srgbClr val="ff7c80"/>
                </a:solidFill>
                <a:latin typeface="Arial"/>
              </a:rPr>
              <a:t>como se ve la pared en su totalidad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Una persona perdedora se fija "</a:t>
            </a:r>
            <a:r>
              <a:rPr b="0" i="1" lang="en-US" sz="3600" spc="-1" strike="noStrike">
                <a:solidFill>
                  <a:srgbClr val="ff7c80"/>
                </a:solidFill>
                <a:latin typeface="Arial"/>
              </a:rPr>
              <a:t>en el ladrillo que le toca colocar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Una persona ganadora como tú, comparte este mensaje ....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Una persona perdedora como lo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otros es egoísta y se lo guar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para sí mismo . . 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629080" y="1455840"/>
            <a:ext cx="3886200" cy="3944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89080" y="1628640"/>
            <a:ext cx="860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33cc"/>
                </a:solidFill>
                <a:latin typeface="Arial"/>
              </a:rPr>
              <a:t>SALUDOS A TODAS LAS PERSONA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33cc"/>
                </a:solidFill>
                <a:latin typeface="Arial"/>
              </a:rPr>
              <a:t>GANADORA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8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75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4054680" cy="3771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89080" y="304560"/>
            <a:ext cx="86040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ASI QUE TE SALUDO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CON MUCHO CARIÑO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¡¡ PARA TI !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50"/>
                            </p:stCondLst>
                            <p:childTnLst>
                              <p:par>
                                <p:cTn id="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10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85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10920" y="83628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Cuando la persona ganadora comete un error, dice: "</a:t>
            </a:r>
            <a:r>
              <a:rPr b="0" i="1" lang="en-US" sz="3600" spc="-1" strike="noStrike">
                <a:solidFill>
                  <a:srgbClr val="ff9900"/>
                </a:solidFill>
                <a:latin typeface="Arial"/>
              </a:rPr>
              <a:t>Me equivoqué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“, y aprende la lecció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Cuando una persona perdedora comete un error, dice: "</a:t>
            </a:r>
            <a:r>
              <a:rPr b="0" i="1" lang="en-US" sz="3600" spc="-1" strike="noStrike">
                <a:solidFill>
                  <a:srgbClr val="ff9900"/>
                </a:solidFill>
                <a:latin typeface="Arial"/>
              </a:rPr>
              <a:t>No fue mi culpa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“, y se la echa a otr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9400"/>
            </a:gs>
            <a:gs pos="100000">
              <a:srgbClr val="2a54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Una persona ganadora sabe qu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la adversidad es el mej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de los maestr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 </a:t>
            </a: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Una persona perdedora se siente víctima ante la adversidad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10920" y="1628640"/>
            <a:ext cx="7993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Una persona ganadora sabe que el resultado de las cosas depende de é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Una persona perdedora cree qu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la mala suerte sí exist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Una persona ganadora trabaja muy fuerte y genera más tiemp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ara sí mism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Una persona perdedora está siempre "</a:t>
            </a: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muy ocupada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" y no tiene tiemp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ni para los suy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68000" y="1557360"/>
            <a:ext cx="8209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Una persona ganadora enfrent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los retos uno a un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Una persona perdedora les da vueltas y no se atreve a intentarl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cc00"/>
                </a:solidFill>
                <a:latin typeface="Arial"/>
              </a:rPr>
              <a:t>Una persona ganadora se compromete, da su palabra y la cumpl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cccc00"/>
                </a:solidFill>
                <a:latin typeface="Arial"/>
              </a:rPr>
              <a:t> </a:t>
            </a:r>
            <a:r>
              <a:rPr b="0" lang="es-PE" sz="3600" spc="-1" strike="noStrike">
                <a:solidFill>
                  <a:srgbClr val="cccc00"/>
                </a:solidFill>
                <a:latin typeface="Arial"/>
              </a:rPr>
              <a:t>Una persona perdedora hace promesas, no asegura nada y cuando falla sólo se justific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4000" y="1125360"/>
            <a:ext cx="88203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Una persona ganadora dic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Soy bueno, pero voy a ser mejor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     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Una persona perdedora dic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No soy tan malo como lo 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mucha otra gente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324000" y="1630080"/>
            <a:ext cx="84247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Una persona ganadora escucha, comprende y respond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Una persona perdedora sólo espera hasta que le toque su turno para hablar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31:13Z</dcterms:created>
  <dc:creator/>
  <dc:description/>
  <dc:language>en-US</dc:language>
  <cp:lastModifiedBy>Yosias De León</cp:lastModifiedBy>
  <dcterms:modified xsi:type="dcterms:W3CDTF">2005-04-26T04:40:27Z</dcterms:modified>
  <cp:revision>30</cp:revision>
  <dc:subject/>
  <dc:title>A LOS GANADORES</dc:title>
</cp:coreProperties>
</file>