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TECLA.WAV" ContentType="audio/x-wav"/>
  <Override PartName="/ppt/media/image6.wmf" ContentType="image/x-wmf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FA8-F1B4-47FB-AF6E-E34B390C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7AD-17DA-4C33-9AA3-A8C8B19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7D1-C63E-40E2-ADFA-7E4E2DCB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A02-BD95-4F1C-8AEC-8C06E00F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CBBC-AD76-460E-AC5B-3CF32620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6A17-D847-4943-A575-8099DDE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F8A-8861-424F-8672-C8EFF96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6558-DB0C-421A-AC74-BCC423F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60C5-9006-4959-96F3-460C202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F7D6-D703-48F8-877E-91720F36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A403-072C-4E31-91FC-728F393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4FB-F4C0-4FB2-B72F-E6C06227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634-3600-432A-BD99-4EB570B5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B793-FD89-425F-B5FD-A31BC09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99C8-7E39-4444-888F-F46304A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D05-8045-4BE0-B2AC-711E0DC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CD4D-89F1-4AB0-8AF6-9DE4433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8CB-5A18-4E3F-B4BF-9A4BDE62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F26-77C0-4789-9D51-0ECBE1A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DE9-5732-40C2-B005-ECBA6FFA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B94-1795-4E7B-BC37-70DDECF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9F5-0B37-46BF-9C6E-0ABB5BD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2E4-8C7D-4790-8075-4A94894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A06-89BA-4DFF-B741-703B66B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310-77CD-4677-942F-0A5FA89F3033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518-E266-43C1-A866-A71358D00B53}" type="slidenum">
              <a:rPr b="0" lang="es-P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audio" Target="../media/TECLA.WAV"/><Relationship Id="rId4" Type="http://schemas.openxmlformats.org/officeDocument/2006/relationships/audio" Target="../media/TECLA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204640"/>
            <a:ext cx="80629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LA PERSONA</a:t>
            </a:r>
            <a:br>
              <a:rPr sz="6000"/>
            </a:b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GANADORA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836640"/>
            <a:ext cx="85690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ganadora respeta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trata de aprender algo de ell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Una persona perdedora resiste a aquellos que saben más que él 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ólo se fija en sus defect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7280" y="83808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ganadora se siente responsable por algo más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solamente su trabaj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Una persona perdedora no se compromete y siempre dice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e2bc5e"/>
                </a:solidFill>
                <a:latin typeface="Arial"/>
              </a:rPr>
              <a:t>Sólo hago mi trabajo</a:t>
            </a:r>
            <a:r>
              <a:rPr b="0" lang="en-US" sz="3600" spc="-1" strike="noStrike">
                <a:solidFill>
                  <a:srgbClr val="e2bc5e"/>
                </a:solidFill>
                <a:latin typeface="Arial"/>
              </a:rPr>
              <a:t>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be haber una mejor for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de hacerlo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. . .“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Esta es la manera como siemp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99"/>
                </a:solidFill>
                <a:latin typeface="Arial"/>
              </a:rPr>
              <a:t>lo hemos hecho</a:t>
            </a: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849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 la solu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te del problem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se fija en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como se ve la pared en su totalidad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se fija "</a:t>
            </a:r>
            <a:r>
              <a:rPr b="0" i="1" lang="en-US" sz="3600" spc="-1" strike="noStrike">
                <a:solidFill>
                  <a:srgbClr val="ff7c80"/>
                </a:solidFill>
                <a:latin typeface="Arial"/>
              </a:rPr>
              <a:t>en el ladrillo que le toca colocar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23640" y="90792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ganadora como tú, comparte este mensaje ...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Una persona perdedora como lo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otros es egoísta y se lo guar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00"/>
                </a:solidFill>
                <a:latin typeface="Arial"/>
              </a:rPr>
              <a:t>para sí mismo . .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629080" y="145584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89080" y="1628640"/>
            <a:ext cx="860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SALUDOS A TODAS LAS PERSON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cc"/>
                </a:solidFill>
                <a:latin typeface="Arial"/>
              </a:rPr>
              <a:t>GANADORA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4054680" cy="3771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89080" y="304560"/>
            <a:ext cx="8604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ASI QUE TE SALUD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CON MUCHO CARIÑ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99"/>
                </a:solidFill>
                <a:latin typeface="Arial"/>
              </a:rPr>
              <a:t>¡¡ PARA TI !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50"/>
                            </p:stCondLst>
                            <p:childTnLst>
                              <p:par>
                                <p:cTn id="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5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c1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10920" y="836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la persona gana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Me equivoqué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aprende la lecció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uando una persona perdedora comete un error, dice: "</a:t>
            </a:r>
            <a:r>
              <a:rPr b="0" i="1" lang="en-US" sz="3600" spc="-1" strike="noStrike">
                <a:solidFill>
                  <a:srgbClr val="ff9900"/>
                </a:solidFill>
                <a:latin typeface="Arial"/>
              </a:rPr>
              <a:t>No fue mi culpa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“, y se la echa a o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9400"/>
            </a:gs>
            <a:gs pos="100000">
              <a:srgbClr val="2a54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ganadora sab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la adversidad es el mejo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de los maestr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e2bc5e"/>
                </a:solidFill>
                <a:latin typeface="Arial"/>
              </a:rPr>
              <a:t>Una persona perdedora se siente víctima ante la adversidad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10920" y="1628640"/>
            <a:ext cx="799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ganadora sabe que el resultado de las cosas depende de é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Una persona perdedora cree qu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99"/>
                </a:solidFill>
                <a:latin typeface="Arial"/>
              </a:rPr>
              <a:t>la mala suerte sí exist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ganadora trabaja muy fuerte y genera más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ra sí mism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Una persona perdedora está siempre "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muy ocupada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" y no tiene tiemp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ni para los suyo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155736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ganadora enfren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los retos uno a un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Una persona perdedora les da vueltas y no se atreve a intentarl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982"/>
            </a:gs>
            <a:gs pos="100000">
              <a:srgbClr val="57586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ganadora se compromete, da su palabra y la cumpl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 </a:t>
            </a:r>
            <a:r>
              <a:rPr b="0" lang="es-PE" sz="3600" spc="-1" strike="noStrike">
                <a:solidFill>
                  <a:srgbClr val="cccc00"/>
                </a:solidFill>
                <a:latin typeface="Arial"/>
              </a:rPr>
              <a:t>Una persona perdedora hace promesas, no asegura nada y cuando falla sólo se justific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4000" y="1125360"/>
            <a:ext cx="88203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gana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Soy bueno, pero voy a ser mejor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    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na persona perdedora dic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No soy tan malo como lo 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mucha otra gent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24000" y="1630080"/>
            <a:ext cx="8424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ganadora escucha, comprende y respon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na persona perdedora sólo espera hasta que le toque su turno para hablar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305840" y="6305400"/>
            <a:ext cx="1838160" cy="55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31:13Z</dcterms:created>
  <dc:creator/>
  <dc:description/>
  <dc:language>en-US</dc:language>
  <cp:lastModifiedBy>Yosias De León</cp:lastModifiedBy>
  <dcterms:modified xsi:type="dcterms:W3CDTF">2005-04-26T04:40:27Z</dcterms:modified>
  <cp:revision>30</cp:revision>
  <dc:subject/>
  <dc:title>A LOS GANADORES</dc:title>
</cp:coreProperties>
</file>