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C39-F349-4A8D-84D5-31FFF507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4CB-1DDE-4BF4-9975-79EAD808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EA5-FBA5-44C4-A4CE-DFE5AB97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92E9-1E09-41B5-A2CE-C5629669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845F4-E3E8-4788-A1AF-D6C82F32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E7BB0-CDFB-48F7-A5DC-716AF57A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BE92A-8E64-40E0-BDBA-5EA013BC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7B90A-B3D0-442C-8D6A-884F2B11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C8844-B20E-482B-831F-76FAAF12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93736-037F-43A0-83BA-9D9E880E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DA4F6-90A0-4D86-9A46-9C4C732F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F21-BBCB-4C93-8BBF-4CB1245B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922A9-F1ED-4706-8E18-91AB6D7B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8F086-C7F8-436D-8C7E-83B91BCF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0159C-8FA0-49C3-9A67-8B8A3AF9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55A21-C7F0-4B71-A571-C3E2D563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B1071-BC74-44D0-BB8D-0CE7A3D9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477-42A8-4E8F-BB6E-953FE762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60B-6A83-4B57-BF7F-EF530148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244-3CF1-4D54-A1C6-CC6515D5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8D3-A1C8-4A33-AC65-15972495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716-AF1A-4EA8-9989-5047BA36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BE8-7C3C-49E0-9FB6-8C31AEDC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D95-BC85-42F2-B853-CFCE3199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F79E-3BAD-4AD7-B652-7A995C0315C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84C0-60B4-4650-9527-690FF5EE074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26683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655272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22 de febrero de 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2286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" y="6127920"/>
            <a:ext cx="2477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  <a:ea typeface="Arial"/>
              </a:rPr>
              <a:t>Eleonora Badilla Sax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  <a:ea typeface="Arial"/>
              </a:rPr>
              <a:t>Universidad de Costa R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  <a:ea typeface="Arial"/>
              </a:rPr>
              <a:t>MIT Media La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81280" y="152280"/>
            <a:ext cx="21211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Cuando hay enseñanza hay aprendizaj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¿Verdadero o Fals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52840" y="1981080"/>
            <a:ext cx="7889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La teoría del aprendizaje significativ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fue propuesta por David Ausubel (1963, 1968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y plantea que los individuos para apr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significativamente necesitan </a:t>
            </a:r>
            <a:r>
              <a:rPr b="0" lang="es-CR" sz="2800" spc="-1" strike="noStrike">
                <a:solidFill>
                  <a:srgbClr val="ffff00"/>
                </a:solidFill>
                <a:latin typeface="Verdana"/>
                <a:ea typeface="Arial"/>
              </a:rPr>
              <a:t>relacion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Verdana"/>
                <a:ea typeface="Arial"/>
              </a:rPr>
              <a:t>el nuevo conocimiento</a:t>
            </a: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 a conceptos 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proposiciones relevantes que conocen 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anteman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04960" y="1625760"/>
            <a:ext cx="78022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Según Joseph Novak, para que el aprendizaj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sea significativ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El contenido para ser aprendido debe est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conceptualmente claro y el lenguaje acce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al </a:t>
            </a:r>
            <a:r>
              <a:rPr b="0" lang="es-CR" sz="2800" spc="-1" strike="noStrike">
                <a:solidFill>
                  <a:srgbClr val="ffff00"/>
                </a:solidFill>
                <a:latin typeface="Verdana"/>
                <a:ea typeface="Arial"/>
              </a:rPr>
              <a:t>conocimiento anterior</a:t>
            </a: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 del aprendi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09280" y="2133720"/>
            <a:ext cx="779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Según Joseph Novak, para que el aprendizaj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sea significativ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El aprendiz debe poseer conocimien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relevante en el cual </a:t>
            </a:r>
            <a:r>
              <a:rPr b="0" lang="es-CR" sz="2800" spc="-1" strike="noStrike">
                <a:solidFill>
                  <a:srgbClr val="ffff00"/>
                </a:solidFill>
                <a:latin typeface="Verdana"/>
                <a:ea typeface="Arial"/>
              </a:rPr>
              <a:t>anclar </a:t>
            </a: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el conocimien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nue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09280" y="1625760"/>
            <a:ext cx="779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Según Joseph Novak, para que el aprendizaj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sea significativ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El aprendiz debe </a:t>
            </a:r>
            <a:r>
              <a:rPr b="0" lang="es-CR" sz="2800" spc="-1" strike="noStrike">
                <a:solidFill>
                  <a:srgbClr val="ffff00"/>
                </a:solidFill>
                <a:latin typeface="Verdana"/>
                <a:ea typeface="Arial"/>
              </a:rPr>
              <a:t>querer</a:t>
            </a: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 aprend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significativ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ntextualizar el conocimient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640872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coger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cuidadosament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las Herramient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 permitan al aprendiz … PENSAR, REFLEXIONAR, DISEÑAR, CONSTRUIR, RELACIONAR, COLABOR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ITAR el TECNOCENTRIS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6249600" y="602136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eonora Badilla Sa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4 de febrero de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60948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80808"/>
                </a:solidFill>
                <a:latin typeface="Arial"/>
              </a:rPr>
              <a:t>Navegación a través de los mares de 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1981080"/>
            <a:ext cx="4572000" cy="23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roblemas de nave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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adónde est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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adónde quiero i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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llego desde aquí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unque la tecnología juega un papel esencial en la realización de mi visión de futuro de la educación, mi foco central no está en la máquina, sino en la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mente …”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ymour Pape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417240" y="580536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onora Badilla Sa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4 de febrero de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45399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72010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356000" y="1197000"/>
            <a:ext cx="3619440" cy="52689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10199"/>
                </a:solidFill>
                <a:latin typeface="Tahoma"/>
              </a:rPr>
              <a:t>Modelo Tradicional de Instruc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uperar la transmisión de conocimien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68360" y="2349360"/>
          <a:ext cx="4572000" cy="34275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2349360"/>
                    <a:ext cx="4572000" cy="34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256320" y="5950080"/>
            <a:ext cx="24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eonora Badilla Sa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ebrero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señar la educación que queremo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mover la construcción del conocimient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6075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496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¿Cómo ayudamos a aprender significativamente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render el fundamento teórico y metodológic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a aprender hay que construir… (Piaget y otr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a que el aprendizaje sea significativo hay que relacionar (Ausubel y otr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ay que disponer de herramientas para construir y relacionar (Paper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249600" y="573408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eonora Badilla Sa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4 de febrero de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7:59:15Z</dcterms:created>
  <dc:creator>MEDUC</dc:creator>
  <dc:description/>
  <dc:language>en-US</dc:language>
  <cp:lastModifiedBy>Estudiante</cp:lastModifiedBy>
  <dcterms:modified xsi:type="dcterms:W3CDTF">2005-05-11T13:52:37Z</dcterms:modified>
  <cp:revision>40</cp:revision>
  <dc:subject/>
  <dc:title>“Cuando hay enseñanza hay aprendizaje”</dc:title>
</cp:coreProperties>
</file>