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A46-6D5D-4210-BA36-725FA05F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4A0-CE98-48F7-B499-10CB2A19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AE1-9660-4617-94ED-E5FC6043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99B-B60D-49D7-8260-D6FFEAD3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1543A-331E-4955-8B10-C5B93B1B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22358-FA1C-4945-A24F-767CA5F6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B0A7E-420A-4043-A610-3F34043A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96FF0-6E37-4868-952B-F3857CD1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54091-EDA2-4C58-B579-BFBC7739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40172-2692-4440-B75F-EF28126D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5ACA8-9F3D-4AB9-987D-C272BA9A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8E2-30DC-4CA1-8EA3-03C8C2C0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7F12E-D2F8-492B-A921-D0EDBD28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0EDE8-017F-4973-B301-624D803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E95F5-3D4D-4DF7-826B-A24D7AD4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63A24-D315-4EF4-A917-51A59829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25CA9-EDD0-4A72-A533-568B948D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9FD-447E-402D-8498-23E48D5D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BC7-B20C-4FC0-B514-46668007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313-F9B3-4A0A-919F-BC739EBE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CD7-F077-455E-BCE0-4754C912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6F3-C9E8-47C0-B9F5-64B8CB7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A4B-75A1-490C-A6AB-A807AA73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3A9-738F-4CC3-AC0B-B131EE9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0E65-8123-42AB-ABCA-F55D5F83329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ED1D-902B-43A7-91AA-E61DE526FEA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26683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655272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22 de febrero de 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28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" y="6127920"/>
            <a:ext cx="2477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  <a:ea typeface="Arial"/>
              </a:rPr>
              <a:t>Eleonora Badilla Sax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  <a:ea typeface="Arial"/>
              </a:rPr>
              <a:t>Universidad de Costa 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ffffff"/>
                </a:solidFill>
                <a:latin typeface="Verdana"/>
                <a:ea typeface="Arial"/>
              </a:rPr>
              <a:t>MIT Media La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81280" y="152280"/>
            <a:ext cx="21211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uando hay enseñanza hay aprendizaj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¿Verdadero o Fals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52840" y="1981080"/>
            <a:ext cx="7889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La teoría del aprendizaje significativ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fue propuesta por David Ausubel (1963, 1968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y plantea que los individuos para apr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ignificativamente necesitan </a:t>
            </a:r>
            <a:r>
              <a:rPr b="0" lang="es-CR" sz="2800" spc="-1" strike="noStrike">
                <a:solidFill>
                  <a:srgbClr val="ffff00"/>
                </a:solidFill>
                <a:latin typeface="Verdana"/>
                <a:ea typeface="Arial"/>
              </a:rPr>
              <a:t>relacion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Verdana"/>
                <a:ea typeface="Arial"/>
              </a:rPr>
              <a:t>el nuevo conocimiento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a conceptos 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proposiciones relevantes que conocen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anteman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04960" y="1625760"/>
            <a:ext cx="7802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egún Joseph Novak, para que el aprendizaj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ea signific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El contenido para ser aprendido debe est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conceptualmente claro y el lenguaje acce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al </a:t>
            </a:r>
            <a:r>
              <a:rPr b="0" lang="es-CR" sz="2800" spc="-1" strike="noStrike">
                <a:solidFill>
                  <a:srgbClr val="ffff00"/>
                </a:solidFill>
                <a:latin typeface="Verdana"/>
                <a:ea typeface="Arial"/>
              </a:rPr>
              <a:t>conocimiento anterior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del aprendi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09280" y="2133720"/>
            <a:ext cx="779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egún Joseph Novak, para que el aprendizaj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ea signific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El aprendiz debe poseer conocimien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relevante en el cual </a:t>
            </a:r>
            <a:r>
              <a:rPr b="0" lang="es-CR" sz="2800" spc="-1" strike="noStrike">
                <a:solidFill>
                  <a:srgbClr val="ffff00"/>
                </a:solidFill>
                <a:latin typeface="Verdana"/>
                <a:ea typeface="Arial"/>
              </a:rPr>
              <a:t>anclar 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el conocimien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nue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09280" y="1625760"/>
            <a:ext cx="779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egún Joseph Novak, para que el aprendizaj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ea signific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El aprendiz debe </a:t>
            </a:r>
            <a:r>
              <a:rPr b="0" lang="es-CR" sz="2800" spc="-1" strike="noStrike">
                <a:solidFill>
                  <a:srgbClr val="ffff00"/>
                </a:solidFill>
                <a:latin typeface="Verdana"/>
                <a:ea typeface="Arial"/>
              </a:rPr>
              <a:t>querer</a:t>
            </a: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 apren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Verdana"/>
                <a:ea typeface="Arial"/>
              </a:rPr>
              <a:t>significativ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ntextualizar el conocimient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408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coger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cuidadosament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las Herramient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 permitan al aprendiz … PENSAR, REFLEXIONAR, DISEÑAR, CONSTRUIR, RELACIONAR, COLABOR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TAR el TECNOCENTRIS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249600" y="602136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eonora Badilla Sa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4 de febrero de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60948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80808"/>
                </a:solidFill>
                <a:latin typeface="Arial"/>
              </a:rPr>
              <a:t>Navegación a través de los mares de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1981080"/>
            <a:ext cx="4572000" cy="23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roblemas de nave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adónde est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adónde quiero i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llego desde aquí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unque la tecnología juega un papel esencial en la realización de mi visión de futuro de la educación, mi foco central no está en la máquina, sino en la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ente …”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ymour Pape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17240" y="580536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onora Badilla Sa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4 de febrero de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45399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72010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356000" y="1197000"/>
            <a:ext cx="3619440" cy="5268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10199"/>
                </a:solidFill>
                <a:latin typeface="Tahoma"/>
              </a:rPr>
              <a:t>Modelo Tradicional de Instr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uperar la transmisión de conoci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68360" y="2349360"/>
          <a:ext cx="4572000" cy="3427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2349360"/>
                    <a:ext cx="457200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56320" y="5950080"/>
            <a:ext cx="24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eonora Badilla Sa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ebrero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señar la educación que querem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mover la construcción del conocimient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6075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96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¿Cómo ayudamos a aprender significativament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render el fundamento teórico y metodológ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a aprender hay que construir… (Piaget y otr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a que el aprendizaje sea significativo hay que relacionar (Ausubel y otr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y que disponer de herramientas para construir y relacionar (Paper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249600" y="57340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eonora Badilla Sa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4 de febrero de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7:59:15Z</dcterms:created>
  <dc:creator>MEDUC</dc:creator>
  <dc:description/>
  <dc:language>en-US</dc:language>
  <cp:lastModifiedBy>Estudiante</cp:lastModifiedBy>
  <dcterms:modified xsi:type="dcterms:W3CDTF">2005-05-11T13:52:37Z</dcterms:modified>
  <cp:revision>40</cp:revision>
  <dc:subject/>
  <dc:title>“Cuando hay enseñanza hay aprendizaje”</dc:title>
</cp:coreProperties>
</file>