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74B-2A4F-4898-95A5-1903E9EC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5C0-993A-4698-97A7-3DA4E945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4B6-377B-4447-90A4-9BFD7DB0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FD1-D373-41F7-8FDD-0DC94736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EB38-5055-41C6-A54A-E7C377F0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0B76-3DC3-4695-844F-84FB5BFD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28FC-360E-4C52-90EF-3B6BDD81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0848-EB7A-4554-9C4F-C98DAE23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9AEF-EF63-4704-87D4-D8EB4F1E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A959-3251-49E6-89EF-138DF424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8DEC-62E2-4CBF-BA6F-B2DB8EE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A82-3335-4255-9FBB-4359A5AB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E01D-2FEA-43C1-BA1B-B891CEAB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7811-2679-4985-B5E9-0F03EC8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4E22-9E76-43F6-BB72-7E64057A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B880-C440-403F-9245-75FE6913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C54B-645B-4E52-8A0E-D6E00ED0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BBA-B091-4D1D-A83E-1C4C012E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2AC-2AC4-47F3-8548-40EA30A6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CAE-5147-4398-A274-9AB4D892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27C-138F-4666-9DEA-34302273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397-33F8-4A31-B3D5-DBAEA25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E7D-1CC6-4C11-BED6-82B5A46B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FCC-CE21-4CA3-BD81-207010C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4A37-E748-4AF1-B923-19755C9C909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8CA9-EFC8-489D-B99C-23533A07637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monografias.com/trabajos5/teap/teap.shtml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ihmc.us/_images/people/large/jnovak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ihmc.us/_images/people/large/acanas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1400040"/>
            <a:ext cx="8381880" cy="583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4327560"/>
            <a:ext cx="806616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a"/>
                </a:solidFill>
                <a:latin typeface="Ravie"/>
              </a:rPr>
              <a:t>CONVIRTIENDO  AL  ESTUDIANTE EN  PROTAGONISTA  DE  SU 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Ravie"/>
                <a:hlinkClick r:id="rId3"/>
              </a:rPr>
              <a:t>APRENDIZAJE</a:t>
            </a:r>
            <a:r>
              <a:rPr b="0" lang="en-US" sz="2800" spc="-1" strike="noStrike" u="sng">
                <a:solidFill>
                  <a:srgbClr val="00007a"/>
                </a:solidFill>
                <a:uFillTx/>
                <a:latin typeface="Ravie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a"/>
                </a:solidFill>
                <a:latin typeface="Ravie"/>
              </a:rPr>
              <a:t>UNA  TAREA  ACT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92360" y="2387520"/>
            <a:ext cx="6137280" cy="4426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40464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mic Sans MS"/>
              </a:rPr>
              <a:t>La información desconocida y poco relacionada con conocimientos que ya se poseen o demasiado abstracta, es más vulnerable al </a:t>
            </a: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olvido</a:t>
            </a:r>
            <a:r>
              <a:rPr b="0" lang="es-ES" sz="2400" spc="-1" strike="noStrike">
                <a:solidFill>
                  <a:srgbClr val="eaeaea"/>
                </a:solidFill>
                <a:latin typeface="Comic Sans MS"/>
              </a:rPr>
              <a:t> que la información familiar, vinculada a conocimientos previos o aplicable a situaciones de la vida cotidian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33800" y="333360"/>
            <a:ext cx="5975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555bad"/>
                </a:solidFill>
                <a:latin typeface="Comic Sans MS"/>
              </a:rPr>
              <a:t>Ruta hacia el Aprendizaje Significativo:</a:t>
            </a:r>
            <a:br>
              <a:rPr sz="2800"/>
            </a:br>
            <a:br>
              <a:rPr sz="1400"/>
            </a:br>
            <a:r>
              <a:rPr b="1" lang="es-CR" sz="4000" spc="-1" strike="noStrike">
                <a:solidFill>
                  <a:srgbClr val="555bad"/>
                </a:solidFill>
                <a:latin typeface="Comic Sans MS"/>
              </a:rPr>
              <a:t>Los Mapas Conceptuales </a:t>
            </a:r>
            <a:br>
              <a:rPr sz="4000"/>
            </a:br>
            <a:r>
              <a:rPr b="1" lang="es-CR" sz="4000" spc="-1" strike="noStrike">
                <a:solidFill>
                  <a:srgbClr val="555bad"/>
                </a:solidFill>
                <a:latin typeface="Comic Sans MS"/>
              </a:rPr>
              <a:t>como brújula</a:t>
            </a:r>
            <a:r>
              <a:rPr b="1" lang="en-US" sz="4000" spc="-1" strike="noStrike">
                <a:solidFill>
                  <a:srgbClr val="555bad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11592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308720" y="1484280"/>
            <a:ext cx="165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eaeaea"/>
                </a:solidFill>
                <a:latin typeface="Arial Narrow"/>
              </a:rPr>
              <a:t>Creador de los Mapas Conceptual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eaeaea"/>
                </a:solidFill>
                <a:latin typeface="Arial Narrow"/>
              </a:rPr>
              <a:t>Dr. Joseph Nova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907920"/>
            <a:ext cx="3097080" cy="3097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516720" y="2781360"/>
            <a:ext cx="16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0054"/>
                </a:solidFill>
                <a:latin typeface="Arial Narrow"/>
              </a:rPr>
              <a:t>Creador del CMapToolsDr. Alberto Cañ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50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5400" spc="-1" strike="noStrike">
                <a:solidFill>
                  <a:srgbClr val="eaeaea"/>
                </a:solidFill>
                <a:latin typeface="Arial"/>
              </a:rPr>
              <a:t>Paradigmas de la</a:t>
            </a:r>
            <a:br>
              <a:rPr sz="5400"/>
            </a:br>
            <a:r>
              <a:rPr b="1" lang="es-PA" sz="5400" spc="-1" strike="noStrike">
                <a:solidFill>
                  <a:srgbClr val="eaeaea"/>
                </a:solidFill>
                <a:latin typeface="Arial"/>
              </a:rPr>
              <a:t>Educación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-684360" y="2276640"/>
          <a:ext cx="6516720" cy="488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2276640"/>
                    <a:ext cx="6516720" cy="48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22920" y="404640"/>
            <a:ext cx="4352760" cy="6337440"/>
          </a:xfrm>
          <a:prstGeom prst="rect">
            <a:avLst/>
          </a:prstGeom>
          <a:ln w="15120">
            <a:solidFill>
              <a:srgbClr val="c5a672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067280" y="5229360"/>
            <a:ext cx="1224000" cy="649080"/>
          </a:xfrm>
          <a:prstGeom prst="rightArrow">
            <a:avLst>
              <a:gd name="adj1" fmla="val 50000"/>
              <a:gd name="adj2" fmla="val 4714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4460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800" spc="-1" strike="noStrike">
                <a:solidFill>
                  <a:srgbClr val="eaeaea"/>
                </a:solidFill>
                <a:latin typeface="Arial Narrow"/>
              </a:rPr>
              <a:t>Conductism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10000" y="1052640"/>
            <a:ext cx="5846760" cy="62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714240" y="1268280"/>
          <a:ext cx="399096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1268280"/>
                    <a:ext cx="39909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340000" y="333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800" spc="-1" strike="noStrike">
                <a:solidFill>
                  <a:srgbClr val="eaeaea"/>
                </a:solidFill>
                <a:latin typeface="Arial Narrow"/>
              </a:rPr>
              <a:t>Constructivism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22120" y="1195560"/>
            <a:ext cx="380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Dutch801 XBd BT"/>
              </a:rPr>
              <a:t>¿Qué implica transmitir conocimiento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65400" y="1125000"/>
            <a:ext cx="38098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utch801 XBd BT"/>
              </a:rPr>
              <a:t>¿Qué implica construir conocimiento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133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2060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27240" y="404640"/>
            <a:ext cx="3560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Conductism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76720" y="404640"/>
            <a:ext cx="381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Constructivismo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188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n la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concepción constructivista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, el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prendizaje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se entiende como un proceso de construcción interno, activo y colaborativ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465300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465300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580536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580536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465300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2492280"/>
            <a:ext cx="2087640" cy="86364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APRENDIZA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456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Recibir inf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Organiz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465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Manipu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7801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Recuper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465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Transform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364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eaeaea"/>
                </a:solidFill>
                <a:latin typeface="Arial Narrow"/>
              </a:rPr>
              <a:t>Implica la capacidad pa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56000" y="4005360"/>
            <a:ext cx="1728720" cy="57600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357720"/>
            <a:ext cx="0" cy="3585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4221000"/>
            <a:ext cx="0" cy="36036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005360"/>
            <a:ext cx="1657440" cy="57600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03280" y="4149720"/>
            <a:ext cx="1081080" cy="151128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4076640"/>
            <a:ext cx="1079640" cy="165744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800" spc="-1" strike="noStrike">
                <a:solidFill>
                  <a:srgbClr val="ffff00"/>
                </a:solidFill>
                <a:latin typeface="Arial"/>
              </a:rPr>
              <a:t>Procesos mentales internos</a:t>
            </a:r>
            <a:r>
              <a:rPr b="1" lang="es-PA" sz="2800" spc="-1" strike="noStrike">
                <a:solidFill>
                  <a:srgbClr val="eaeaea"/>
                </a:solidFill>
                <a:latin typeface="Arial"/>
              </a:rPr>
              <a:t> que nos permiten realizar los MAPAS CONCEPTUALES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8560" y="826920"/>
            <a:ext cx="25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fin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dentific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crib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coger inform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oci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ferenci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um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t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trast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tingu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lic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mparar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46480" y="898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Resolver du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naliz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Reflexion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Interioriz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pr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Compr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Tomar decision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Trabajar en equip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utoevaluar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Deduc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Conoc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836640"/>
            <a:ext cx="316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plicar los conocimiento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Clasific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Descubri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Sintetiz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Calificar / evalu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Cuestion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Argument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Comprend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Investig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Organiz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Relacion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Aprend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4499640" y="1269000"/>
            <a:ext cx="647640" cy="7704000"/>
          </a:xfrm>
          <a:custGeom>
            <a:avLst/>
            <a:gdLst>
              <a:gd name="textAreaLeft" fmla="*/ 0 w 647640"/>
              <a:gd name="textAreaRight" fmla="*/ 234000 w 647640"/>
              <a:gd name="textAreaTop" fmla="*/ 213480 h 7704000"/>
              <a:gd name="textAreaBottom" fmla="*/ 7490520 h 77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7"/>
                  <a:pt x="10800" y="1913"/>
                </a:cubicBezTo>
                <a:lnTo>
                  <a:pt x="10800" y="8996"/>
                </a:lnTo>
                <a:cubicBezTo>
                  <a:pt x="10800" y="9953"/>
                  <a:pt x="16200" y="10909"/>
                  <a:pt x="21600" y="10909"/>
                </a:cubicBezTo>
                <a:cubicBezTo>
                  <a:pt x="16200" y="10909"/>
                  <a:pt x="10800" y="11866"/>
                  <a:pt x="10800" y="12822"/>
                </a:cubicBezTo>
                <a:lnTo>
                  <a:pt x="10800" y="19687"/>
                </a:lnTo>
                <a:cubicBezTo>
                  <a:pt x="10800" y="2064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58920" y="2098800"/>
            <a:ext cx="7129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El factor más importante que influye en el aprendizaje es lo que el alumno ya sabe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verígüese esto y enséñese consecuentemente"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VID AUSB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53080" y="1916280"/>
            <a:ext cx="3240000" cy="34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2360" cy="4321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4920" y="404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eaeaea"/>
                </a:solidFill>
                <a:latin typeface="Arial"/>
              </a:rPr>
              <a:t>conocimientos prev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232000" y="9000"/>
            <a:ext cx="576360" cy="3240360"/>
          </a:xfrm>
          <a:custGeom>
            <a:avLst/>
            <a:gdLst>
              <a:gd name="textAreaLeft" fmla="*/ 0 w 576360"/>
              <a:gd name="textAreaRight" fmla="*/ 208080 w 57636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6983280" y="9000"/>
            <a:ext cx="576360" cy="3240000"/>
          </a:xfrm>
          <a:custGeom>
            <a:avLst/>
            <a:gdLst>
              <a:gd name="textAreaLeft" fmla="*/ 0 w 576360"/>
              <a:gd name="textAreaRight" fmla="*/ 208080 w 57636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6360" y="3747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eaeaea"/>
                </a:solidFill>
                <a:latin typeface="Arial"/>
              </a:rPr>
              <a:t>nuevos conocimien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95640" y="26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7200" spc="-1" strike="noStrike">
                <a:solidFill>
                  <a:srgbClr val="eaeaea"/>
                </a:solidFill>
                <a:latin typeface="Arial Narrow"/>
              </a:rPr>
              <a:t>+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57294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eaeaea"/>
                </a:solidFill>
                <a:latin typeface="Arial"/>
              </a:rPr>
              <a:t>== APRENDIZAJE SIGNIFICATIV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781360"/>
            <a:ext cx="1800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A" sz="2000" spc="-1" strike="noStrike">
                <a:solidFill>
                  <a:srgbClr val="eaeaea"/>
                </a:solidFill>
                <a:latin typeface="Arial Narrow"/>
              </a:rPr>
              <a:t>Acomod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A" sz="2000" spc="-1" strike="noStrike">
                <a:solidFill>
                  <a:srgbClr val="eaeaea"/>
                </a:solidFill>
                <a:latin typeface="Arial Narrow"/>
              </a:rPr>
              <a:t>Asimil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3500280"/>
            <a:ext cx="1295280" cy="433440"/>
          </a:xfrm>
          <a:prstGeom prst="leftRightArrow">
            <a:avLst>
              <a:gd name="adj1" fmla="val 50000"/>
              <a:gd name="adj2" fmla="val 59491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5:45:30Z</dcterms:created>
  <dc:creator>Fliachacon</dc:creator>
  <dc:description/>
  <dc:language>en-US</dc:language>
  <cp:lastModifiedBy>Administrador</cp:lastModifiedBy>
  <dcterms:modified xsi:type="dcterms:W3CDTF">2006-06-08T19:41:10Z</dcterms:modified>
  <cp:revision>61</cp:revision>
  <dc:subject/>
  <dc:title>¿Cuál es el   ENFOQUE EDUCATIVO que utilizamos en Panamá?</dc:title>
</cp:coreProperties>
</file>