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09C-58BD-4BA0-80F2-95BA9ACD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94A-65E4-43E2-AF6A-0AEFC276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50C-BECF-4977-9AA7-5B49DDCD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EB3-8129-4FA4-BA98-918D4940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9A50-433C-427C-9D62-EC0D7D67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25A9-F360-4B20-ADD0-A9DFBAD3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2FEF-D60E-43DA-8E5B-F908AF1C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0ED9-71D0-4925-B330-DB969709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7ED3-B824-403C-8C83-DA789CBC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3D59-5737-42D0-A727-73E7F1AB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1C87-2893-4CA4-81CD-8E7F10A4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FD7-A572-4828-BA24-868A6A36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DB49-9137-4C1F-86A2-2ED1AC18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7105-B31F-416D-96E3-9FB4B6A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AF5A-6C4F-466F-9E90-120F11CF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AD83-B60B-4D61-81E6-32D596EA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40B2-5923-4049-8B40-ACDC92F1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5BD-60C0-4ED5-8AEB-4ABE7ABE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276-CC6B-42FB-A29C-16AB17BE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EF6-F9D2-4079-9B3C-FC875430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C13-C454-48A9-B753-DF11D31B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AED-A60B-4D28-8C6B-B83C9A4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BF7-0FF4-4759-BE62-8CC036D0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4D8-4277-460D-BAC8-41173FB5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CF1A-6C0F-4D5F-993F-9409481537A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FDBF-3E40-402B-AC1F-B5C56C5DA92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monografias.com/trabajos5/teap/teap.shtml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ihmc.us/_images/people/large/jnovak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ihmc.us/_images/people/large/acanas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1400040"/>
            <a:ext cx="8381880" cy="583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4327560"/>
            <a:ext cx="806616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a"/>
                </a:solidFill>
                <a:latin typeface="Ravie"/>
              </a:rPr>
              <a:t>CONVIRTIENDO  AL  ESTUDIANTE EN  PROTAGONISTA  DE  SU 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Ravie"/>
                <a:hlinkClick r:id="rId3"/>
              </a:rPr>
              <a:t>APRENDIZAJE</a:t>
            </a:r>
            <a:r>
              <a:rPr b="0" lang="en-US" sz="2800" spc="-1" strike="noStrike" u="sng">
                <a:solidFill>
                  <a:srgbClr val="00007a"/>
                </a:solidFill>
                <a:uFillTx/>
                <a:latin typeface="Ravie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a"/>
                </a:solidFill>
                <a:latin typeface="Ravie"/>
              </a:rPr>
              <a:t>UNA  TAREA  ACTU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92360" y="2387520"/>
            <a:ext cx="6137280" cy="4426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71640" y="40464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mic Sans MS"/>
              </a:rPr>
              <a:t>La información desconocida y poco relacionada con conocimientos que ya se poseen o demasiado abstracta, es más vulnerable al </a:t>
            </a: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olvido</a:t>
            </a:r>
            <a:r>
              <a:rPr b="0" lang="es-ES" sz="2400" spc="-1" strike="noStrike">
                <a:solidFill>
                  <a:srgbClr val="eaeaea"/>
                </a:solidFill>
                <a:latin typeface="Comic Sans MS"/>
              </a:rPr>
              <a:t> que la información familiar, vinculada a conocimientos previos o aplicable a situaciones de la vida cotidian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33800" y="333360"/>
            <a:ext cx="5975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555bad"/>
                </a:solidFill>
                <a:latin typeface="Comic Sans MS"/>
              </a:rPr>
              <a:t>Ruta hacia el Aprendizaje Significativo:</a:t>
            </a:r>
            <a:br>
              <a:rPr sz="2800"/>
            </a:br>
            <a:br>
              <a:rPr sz="1400"/>
            </a:br>
            <a:r>
              <a:rPr b="1" lang="es-CR" sz="4000" spc="-1" strike="noStrike">
                <a:solidFill>
                  <a:srgbClr val="555bad"/>
                </a:solidFill>
                <a:latin typeface="Comic Sans MS"/>
              </a:rPr>
              <a:t>Los Mapas Conceptuales </a:t>
            </a:r>
            <a:br>
              <a:rPr sz="4000"/>
            </a:br>
            <a:r>
              <a:rPr b="1" lang="es-CR" sz="4000" spc="-1" strike="noStrike">
                <a:solidFill>
                  <a:srgbClr val="555bad"/>
                </a:solidFill>
                <a:latin typeface="Comic Sans MS"/>
              </a:rPr>
              <a:t>como brújula</a:t>
            </a:r>
            <a:r>
              <a:rPr b="1" lang="en-US" sz="4000" spc="-1" strike="noStrike">
                <a:solidFill>
                  <a:srgbClr val="555bad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1640" y="11592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308720" y="1484280"/>
            <a:ext cx="165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eaeaea"/>
                </a:solidFill>
                <a:latin typeface="Arial Narrow"/>
              </a:rPr>
              <a:t>Creador de los Mapas Conceptual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eaeaea"/>
                </a:solidFill>
                <a:latin typeface="Arial Narrow"/>
              </a:rPr>
              <a:t>Dr. Joseph Nova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907920"/>
            <a:ext cx="3097080" cy="3097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516720" y="2781360"/>
            <a:ext cx="16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0054"/>
                </a:solidFill>
                <a:latin typeface="Arial Narrow"/>
              </a:rPr>
              <a:t>Creador del CMapToolsDr. Alberto Cañ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50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5400" spc="-1" strike="noStrike">
                <a:solidFill>
                  <a:srgbClr val="eaeaea"/>
                </a:solidFill>
                <a:latin typeface="Arial"/>
              </a:rPr>
              <a:t>Paradigmas de la</a:t>
            </a:r>
            <a:br>
              <a:rPr sz="5400"/>
            </a:br>
            <a:r>
              <a:rPr b="1" lang="es-PA" sz="5400" spc="-1" strike="noStrike">
                <a:solidFill>
                  <a:srgbClr val="eaeaea"/>
                </a:solidFill>
                <a:latin typeface="Arial"/>
              </a:rPr>
              <a:t>Educación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-684360" y="2276640"/>
          <a:ext cx="6516720" cy="488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2276640"/>
                    <a:ext cx="6516720" cy="48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22920" y="404640"/>
            <a:ext cx="4352760" cy="6337440"/>
          </a:xfrm>
          <a:prstGeom prst="rect">
            <a:avLst/>
          </a:prstGeom>
          <a:ln w="15120">
            <a:solidFill>
              <a:srgbClr val="c5a672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067280" y="5229360"/>
            <a:ext cx="1224000" cy="649080"/>
          </a:xfrm>
          <a:prstGeom prst="rightArrow">
            <a:avLst>
              <a:gd name="adj1" fmla="val 50000"/>
              <a:gd name="adj2" fmla="val 47144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44460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800" spc="-1" strike="noStrike">
                <a:solidFill>
                  <a:srgbClr val="eaeaea"/>
                </a:solidFill>
                <a:latin typeface="Arial Narrow"/>
              </a:rPr>
              <a:t>Conductism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10000" y="1052640"/>
            <a:ext cx="5846760" cy="62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714240" y="1268280"/>
          <a:ext cx="3990960" cy="540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1268280"/>
                    <a:ext cx="399096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340000" y="33336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800" spc="-1" strike="noStrike">
                <a:solidFill>
                  <a:srgbClr val="eaeaea"/>
                </a:solidFill>
                <a:latin typeface="Arial Narrow"/>
              </a:rPr>
              <a:t>Constructivism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22120" y="1195560"/>
            <a:ext cx="380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Dutch801 XBd BT"/>
              </a:rPr>
              <a:t>¿Qué implica transmitir conocimiento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65400" y="1125000"/>
            <a:ext cx="38098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Dutch801 XBd BT"/>
              </a:rPr>
              <a:t>¿Qué implica construir conocimiento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133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2060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27240" y="404640"/>
            <a:ext cx="3560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nap ITC"/>
              </a:rPr>
              <a:t>Conductism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76720" y="404640"/>
            <a:ext cx="381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nap ITC"/>
              </a:rPr>
              <a:t>Constructivismo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640" y="18864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n la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concepción constructivista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, el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aprendizaje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se entiende como un proceso de construcción interno, activo y colaborativ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4653000"/>
            <a:ext cx="2087640" cy="576360"/>
          </a:xfrm>
          <a:prstGeom prst="flowChartAlternate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4653000"/>
            <a:ext cx="2087640" cy="576360"/>
          </a:xfrm>
          <a:prstGeom prst="flowChartAlternate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5805360"/>
            <a:ext cx="2087640" cy="576360"/>
          </a:xfrm>
          <a:prstGeom prst="flowChartAlternate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5805360"/>
            <a:ext cx="2087640" cy="576360"/>
          </a:xfrm>
          <a:prstGeom prst="flowChartAlternate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4653000"/>
            <a:ext cx="2087640" cy="576360"/>
          </a:xfrm>
          <a:prstGeom prst="flowChartAlternate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2492280"/>
            <a:ext cx="2087640" cy="863640"/>
          </a:xfrm>
          <a:prstGeom prst="flowChartAlternate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7a"/>
                </a:solidFill>
                <a:latin typeface="Arial Narrow"/>
              </a:rPr>
              <a:t>APRENDIZA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456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7a"/>
                </a:solidFill>
                <a:latin typeface="Arial Narrow"/>
              </a:rPr>
              <a:t>Recibir inf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7a"/>
                </a:solidFill>
                <a:latin typeface="Arial Narrow"/>
              </a:rPr>
              <a:t>Organiz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4653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7a"/>
                </a:solidFill>
                <a:latin typeface="Arial Narrow"/>
              </a:rPr>
              <a:t>Manipu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57801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7a"/>
                </a:solidFill>
                <a:latin typeface="Arial Narrow"/>
              </a:rPr>
              <a:t>Recuper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4653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7a"/>
                </a:solidFill>
                <a:latin typeface="Arial Narrow"/>
              </a:rPr>
              <a:t>Transform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3645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eaeaea"/>
                </a:solidFill>
                <a:latin typeface="Arial Narrow"/>
              </a:rPr>
              <a:t>Implica la capacidad pa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56000" y="4005360"/>
            <a:ext cx="1728720" cy="57600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357720"/>
            <a:ext cx="0" cy="3585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4221000"/>
            <a:ext cx="0" cy="36036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005360"/>
            <a:ext cx="1657440" cy="57600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03280" y="4149720"/>
            <a:ext cx="1081080" cy="151128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4076640"/>
            <a:ext cx="1079640" cy="165744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800" spc="-1" strike="noStrike">
                <a:solidFill>
                  <a:srgbClr val="ffff00"/>
                </a:solidFill>
                <a:latin typeface="Arial"/>
              </a:rPr>
              <a:t>Procesos mentales internos</a:t>
            </a:r>
            <a:r>
              <a:rPr b="1" lang="es-PA" sz="2800" spc="-1" strike="noStrike">
                <a:solidFill>
                  <a:srgbClr val="eaeaea"/>
                </a:solidFill>
                <a:latin typeface="Arial"/>
              </a:rPr>
              <a:t> que nos permiten realizar los MAPAS CONCEPTUALES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8560" y="826920"/>
            <a:ext cx="259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fini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dentific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crib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coger inform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oci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ferenci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umi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cuti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trast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tingui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lic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mparar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46480" y="898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Resolver du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Analiz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Reflexion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Interioriz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Apr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Compr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Tomar decision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Trabajar en equip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Autoevaluar 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Deduci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Conoc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836640"/>
            <a:ext cx="316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Aplicar los conocimiento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Clasific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Descubri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Sintetiz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Calificar / evalu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Cuestion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Argument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Comprend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Investig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Organiz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Relacion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eaeaea"/>
                </a:solidFill>
                <a:latin typeface="Arial"/>
              </a:rPr>
              <a:t>Aprend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4499640" y="1269000"/>
            <a:ext cx="647640" cy="7704000"/>
          </a:xfrm>
          <a:custGeom>
            <a:avLst/>
            <a:gdLst>
              <a:gd name="textAreaLeft" fmla="*/ 0 w 647640"/>
              <a:gd name="textAreaRight" fmla="*/ 234000 w 647640"/>
              <a:gd name="textAreaTop" fmla="*/ 213480 h 7704000"/>
              <a:gd name="textAreaBottom" fmla="*/ 7490520 h 77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7"/>
                  <a:pt x="10800" y="1913"/>
                </a:cubicBezTo>
                <a:lnTo>
                  <a:pt x="10800" y="8996"/>
                </a:lnTo>
                <a:cubicBezTo>
                  <a:pt x="10800" y="9953"/>
                  <a:pt x="16200" y="10909"/>
                  <a:pt x="21600" y="10909"/>
                </a:cubicBezTo>
                <a:cubicBezTo>
                  <a:pt x="16200" y="10909"/>
                  <a:pt x="10800" y="11866"/>
                  <a:pt x="10800" y="12822"/>
                </a:cubicBezTo>
                <a:lnTo>
                  <a:pt x="10800" y="19687"/>
                </a:lnTo>
                <a:cubicBezTo>
                  <a:pt x="10800" y="2064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58920" y="2098800"/>
            <a:ext cx="71294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El factor más importante que influye en el aprendizaje es lo que el alumno ya sabe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verígüese esto y enséñese consecuentemente"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VID AUSB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53080" y="1916280"/>
            <a:ext cx="3240000" cy="34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032360" cy="4321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74920" y="4046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eaeaea"/>
                </a:solidFill>
                <a:latin typeface="Arial"/>
              </a:rPr>
              <a:t>conocimientos prev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232000" y="9000"/>
            <a:ext cx="576360" cy="3240360"/>
          </a:xfrm>
          <a:custGeom>
            <a:avLst/>
            <a:gdLst>
              <a:gd name="textAreaLeft" fmla="*/ 0 w 576360"/>
              <a:gd name="textAreaRight" fmla="*/ 208080 w 57636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6983280" y="9000"/>
            <a:ext cx="576360" cy="3240000"/>
          </a:xfrm>
          <a:custGeom>
            <a:avLst/>
            <a:gdLst>
              <a:gd name="textAreaLeft" fmla="*/ 0 w 576360"/>
              <a:gd name="textAreaRight" fmla="*/ 208080 w 57636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6360" y="3747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eaeaea"/>
                </a:solidFill>
                <a:latin typeface="Arial"/>
              </a:rPr>
              <a:t>nuevos conocimien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95640" y="260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7200" spc="-1" strike="noStrike">
                <a:solidFill>
                  <a:srgbClr val="eaeaea"/>
                </a:solidFill>
                <a:latin typeface="Arial Narrow"/>
              </a:rPr>
              <a:t>+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57294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eaeaea"/>
                </a:solidFill>
                <a:latin typeface="Arial"/>
              </a:rPr>
              <a:t>== APRENDIZAJE SIGNIFICATIV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2781360"/>
            <a:ext cx="1800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A" sz="2000" spc="-1" strike="noStrike">
                <a:solidFill>
                  <a:srgbClr val="eaeaea"/>
                </a:solidFill>
                <a:latin typeface="Arial Narrow"/>
              </a:rPr>
              <a:t>Acomoda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A" sz="2000" spc="-1" strike="noStrike">
                <a:solidFill>
                  <a:srgbClr val="eaeaea"/>
                </a:solidFill>
                <a:latin typeface="Arial Narrow"/>
              </a:rPr>
              <a:t>Asimila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84720" y="3500280"/>
            <a:ext cx="1295280" cy="433440"/>
          </a:xfrm>
          <a:prstGeom prst="leftRightArrow">
            <a:avLst>
              <a:gd name="adj1" fmla="val 50000"/>
              <a:gd name="adj2" fmla="val 59491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15:45:30Z</dcterms:created>
  <dc:creator>Fliachacon</dc:creator>
  <dc:description/>
  <dc:language>en-US</dc:language>
  <cp:lastModifiedBy>Administrador</cp:lastModifiedBy>
  <dcterms:modified xsi:type="dcterms:W3CDTF">2006-06-08T19:41:10Z</dcterms:modified>
  <cp:revision>61</cp:revision>
  <dc:subject/>
  <dc:title>¿Cuál es el   ENFOQUE EDUCATIVO que utilizamos en Panamá?</dc:title>
</cp:coreProperties>
</file>