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899-1360-4053-A52D-4C1236F91C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0C3-D61D-48E5-91B2-23265F2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C03-C675-42A6-AF9E-D667CDC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FC5-6A0C-444D-86C1-E12C064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F02-B36C-4D5F-81B6-E4F452FD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595-4C43-42B4-918C-431B3C4D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CA0-A369-406C-958D-99E4ACA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4CA-B8E7-4760-AE62-348512F1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F7E-61D4-47A9-B5C4-8749EF7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A50-5F91-4C9B-B3A5-C8B4AF8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ED2-7347-4EDF-A007-DD704A9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372-9E19-4650-BD93-2737799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4C4-18B8-4214-A009-AEC46C5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C49C-2EC7-4FD8-BB77-623BF2E55C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06240" y="1757520"/>
            <a:ext cx="46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99cc"/>
                </a:solidFill>
                <a:latin typeface="Berlin Sans FB"/>
              </a:rPr>
              <a:t>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8880" y="2604960"/>
            <a:ext cx="629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c864"/>
                </a:solidFill>
                <a:latin typeface="Berlin Sans FB"/>
              </a:rPr>
              <a:t>des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5400" y="3341520"/>
            <a:ext cx="560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re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50080"/>
            <a:ext cx="3672000" cy="0"/>
          </a:xfrm>
          <a:prstGeom prst="line">
            <a:avLst/>
          </a:prstGeom>
          <a:ln w="76320">
            <a:solidFill>
              <a:srgbClr val="00c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765000"/>
            <a:ext cx="647640" cy="0"/>
          </a:xfrm>
          <a:prstGeom prst="line">
            <a:avLst/>
          </a:prstGeom>
          <a:ln w="76320">
            <a:solidFill>
              <a:srgbClr val="00c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3240" y="507960"/>
            <a:ext cx="679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“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Los analfabe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del siglo XX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no serán aquellos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no sep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leer y escribi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sino aquel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que no pu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, </a:t>
            </a: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des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y </a:t>
            </a: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re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                                  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Alvin Toff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2528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84000" y="173160"/>
            <a:ext cx="505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2272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264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8880" y="1652760"/>
            <a:ext cx="7621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endencia a actualizarse, a mej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roceso intencion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nsamblar patrones de significad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y clasificar experien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Integrar e incorp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tablecer nuevas conex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ransformación integral qu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ocurre en el cereb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y el organ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53640" y="173160"/>
            <a:ext cx="673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des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7760" y="2565360"/>
            <a:ext cx="86018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spuesta adapta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fuerzo conscient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Decodific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Desacreditar, desconoce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atrones estableci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Amenaza contra “statu quo” y segur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Abandono de zona cómo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4880" y="1461960"/>
            <a:ext cx="69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864"/>
                </a:solidFill>
                <a:latin typeface="Berlin Sans FB"/>
              </a:rPr>
              <a:t>Situación que evidencía obsoles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864"/>
                </a:solidFill>
                <a:latin typeface="Berlin Sans FB"/>
              </a:rPr>
              <a:t>y/o exige cambio, re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53640" y="173160"/>
            <a:ext cx="673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des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347040" y="1874880"/>
            <a:ext cx="9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59640" y="2446200"/>
            <a:ext cx="100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amarillo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ve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412920" y="3014640"/>
            <a:ext cx="10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47040" y="3519360"/>
            <a:ext cx="9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59640" y="4091040"/>
            <a:ext cx="100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amarillo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ve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412920" y="4659480"/>
            <a:ext cx="10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01320" y="173160"/>
            <a:ext cx="604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re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120" y="1347840"/>
            <a:ext cx="911556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endencia a actualiza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Cambiar el paradigma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99cc"/>
                </a:solidFill>
                <a:latin typeface="Berlin Sans FB"/>
              </a:rPr>
              <a:t>volver a experi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roceso intencionado y volunta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nsamblar nuevos patrones par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significar y recodificar experien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integrar y reincorp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tablecer nuevas conexiones y recodific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Metaproceso, mayor consci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(metacognició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7:51:28Z</dcterms:created>
  <dc:creator>Tania</dc:creator>
  <dc:description/>
  <dc:language>en-US</dc:language>
  <cp:lastModifiedBy>ALEXIS  CASTRO </cp:lastModifiedBy>
  <dcterms:modified xsi:type="dcterms:W3CDTF">2005-05-11T13:35:47Z</dcterms:modified>
  <cp:revision>2</cp:revision>
  <dc:subject/>
  <dc:title>Diapositiva 1</dc:title>
</cp:coreProperties>
</file>