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12CC-2928-4283-A688-24EF3C28B8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ensen pags 71-72 Brain base learning &amp;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ensen pags 71-72 Brain base learning &amp;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do lo que implica “quitar” genera resistencia, aún cuando entendamos los beneficios del posible resul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ensen pags 71-72 Brain base learning &amp;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do lo que implica “quitar” genera resistencia, aún cuando entendamos los beneficios del posible resul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Jensen pags 71-72 Brain base learning &amp;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do lo que implica “quitar” genera resistencia, aún cuando entendamos los beneficios del posible resul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C16-B9B5-4256-A9D1-9E8E905A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5F0-4802-4953-8E69-1047EACE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BF6-2D01-4F9F-9BDD-E6527927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0F0-A62D-42AE-BAB5-5B0AB2B1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3EF-D9B6-4B41-A618-6D24DD39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0C7-4B4B-45BE-8A7F-0E706966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280-6381-4052-AA6B-5A790814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922-AC16-45CB-94C9-2B20E917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A19-7C30-4593-8936-86968FF4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509-E0D4-4F7E-A09D-1F586297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4D7-1981-46F2-B8A1-8018B353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CF0-43FC-4428-B00A-2BF3DE6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81B4-4ABC-416B-B44A-5A13A47F71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06240" y="1757520"/>
            <a:ext cx="461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99cc"/>
                </a:solidFill>
                <a:latin typeface="Berlin Sans FB"/>
              </a:rPr>
              <a:t>apren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58880" y="2604960"/>
            <a:ext cx="629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c864"/>
                </a:solidFill>
                <a:latin typeface="Berlin Sans FB"/>
              </a:rPr>
              <a:t>desapren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65400" y="3341520"/>
            <a:ext cx="560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reapren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950080"/>
            <a:ext cx="3672000" cy="0"/>
          </a:xfrm>
          <a:prstGeom prst="line">
            <a:avLst/>
          </a:prstGeom>
          <a:ln w="76320">
            <a:solidFill>
              <a:srgbClr val="00c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765000"/>
            <a:ext cx="647640" cy="0"/>
          </a:xfrm>
          <a:prstGeom prst="line">
            <a:avLst/>
          </a:prstGeom>
          <a:ln w="76320">
            <a:solidFill>
              <a:srgbClr val="00c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3240" y="507960"/>
            <a:ext cx="679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“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Los analfabe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del siglo XX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no serán aquellos 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no sep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leer y escribir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sino aquell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que no pue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da6d"/>
                </a:solidFill>
                <a:latin typeface="Berlin Sans FB"/>
              </a:rPr>
              <a:t>aprender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, </a:t>
            </a:r>
            <a:r>
              <a:rPr b="0" lang="es-MX" sz="3600" spc="-1" strike="noStrike">
                <a:solidFill>
                  <a:srgbClr val="00da6d"/>
                </a:solidFill>
                <a:latin typeface="Berlin Sans FB"/>
              </a:rPr>
              <a:t>desaprender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y </a:t>
            </a:r>
            <a:r>
              <a:rPr b="0" lang="es-MX" sz="3600" spc="-1" strike="noStrike">
                <a:solidFill>
                  <a:srgbClr val="00da6d"/>
                </a:solidFill>
                <a:latin typeface="Berlin Sans FB"/>
              </a:rPr>
              <a:t>reaprender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                                  </a:t>
            </a:r>
            <a:r>
              <a:rPr b="0" lang="es-MX" sz="3600" spc="-1" strike="noStrike">
                <a:solidFill>
                  <a:srgbClr val="0099cc"/>
                </a:solidFill>
                <a:latin typeface="Berlin Sans FB"/>
              </a:rPr>
              <a:t>Alvin Toff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2528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84000" y="173160"/>
            <a:ext cx="505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aprende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22720" y="189000"/>
            <a:ext cx="8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c864"/>
                </a:solidFill>
                <a:latin typeface="Berlin Sans FB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62640" y="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99cc"/>
                </a:solidFill>
                <a:latin typeface="Berlin Sans FB"/>
              </a:rPr>
              <a:t>¿q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8880" y="1652760"/>
            <a:ext cx="7621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Tendencia a actualizarse, a mejor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Proceso intenciona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nsamblar patrones de significad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y clasificar experienc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Integrar e incorpor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stablecer nuevas conex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Transformación integral qu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ocurre en el cereb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y el organis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53640" y="173160"/>
            <a:ext cx="673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desaprende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55800" y="189000"/>
            <a:ext cx="8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c864"/>
                </a:solidFill>
                <a:latin typeface="Berlin Sans FB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95720" y="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99cc"/>
                </a:solidFill>
                <a:latin typeface="Berlin Sans FB"/>
              </a:rPr>
              <a:t>¿q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7760" y="2565360"/>
            <a:ext cx="86018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Respuesta adaptativ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sfuerzo conscient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Decodific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Desacreditar, desconoce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patrones estableci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Amenaza contra “statu quo” y segurida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Abandono de zona cómo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4880" y="1461960"/>
            <a:ext cx="69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864"/>
                </a:solidFill>
                <a:latin typeface="Berlin Sans FB"/>
              </a:rPr>
              <a:t>Situación que evidencía obsoles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864"/>
                </a:solidFill>
                <a:latin typeface="Berlin Sans FB"/>
              </a:rPr>
              <a:t>y/o exige cambio, re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53640" y="173160"/>
            <a:ext cx="673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desaprende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5800" y="189000"/>
            <a:ext cx="8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c864"/>
                </a:solidFill>
                <a:latin typeface="Berlin Sans FB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95720" y="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99cc"/>
                </a:solidFill>
                <a:latin typeface="Berlin Sans FB"/>
              </a:rPr>
              <a:t>¿q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347040" y="1874880"/>
            <a:ext cx="9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roj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azul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azul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359640" y="2446200"/>
            <a:ext cx="100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 amarillo 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ver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412920" y="3014640"/>
            <a:ext cx="10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 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347040" y="3519360"/>
            <a:ext cx="9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azul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359640" y="4091040"/>
            <a:ext cx="100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 amarillo 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 ver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412920" y="4659480"/>
            <a:ext cx="10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verde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azul 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 </a:t>
            </a:r>
            <a:r>
              <a:rPr b="0" lang="es-MX" sz="3600" spc="-1" strike="noStrike">
                <a:solidFill>
                  <a:srgbClr val="0066ff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ffcc00"/>
                </a:solidFill>
                <a:latin typeface="Berlin Sans FB"/>
              </a:rPr>
              <a:t>amarillo</a:t>
            </a: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s-MX" sz="3600" spc="-1" strike="noStrike">
                <a:solidFill>
                  <a:srgbClr val="00c864"/>
                </a:solidFill>
                <a:latin typeface="Berlin Sans FB"/>
              </a:rPr>
              <a:t>rojo </a:t>
            </a:r>
            <a:r>
              <a:rPr b="0" lang="es-MX" sz="3600" spc="-1" strike="noStrike">
                <a:solidFill>
                  <a:srgbClr val="ff3300"/>
                </a:solidFill>
                <a:latin typeface="Berlin Sans FB"/>
              </a:rPr>
              <a:t>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01320" y="173160"/>
            <a:ext cx="604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ff7b21"/>
                </a:solidFill>
                <a:latin typeface="Berlin Sans FB"/>
              </a:rPr>
              <a:t>reaprende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55800" y="189000"/>
            <a:ext cx="8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c864"/>
                </a:solidFill>
                <a:latin typeface="Berlin Sans FB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95720" y="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99cc"/>
                </a:solidFill>
                <a:latin typeface="Berlin Sans FB"/>
              </a:rPr>
              <a:t>¿q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308720" y="6132600"/>
            <a:ext cx="1330560" cy="536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120" y="1347840"/>
            <a:ext cx="911556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Tendencia a actualizar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Cambiar el paradigma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99cc"/>
                </a:solidFill>
                <a:latin typeface="Berlin Sans FB"/>
              </a:rPr>
              <a:t>volver a experi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Proceso intencionado y volunta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nsamblar nuevos patrones par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resignificar y recodificar experienc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Reintegrar y reincorpor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Establecer nuevas conexiones y recodific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99cc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 </a:t>
            </a: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Metaproceso, mayor consci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99cc"/>
                </a:solidFill>
                <a:latin typeface="Berlin Sans FB"/>
              </a:rPr>
              <a:t>(metacognició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7:51:28Z</dcterms:created>
  <dc:creator>Tania</dc:creator>
  <dc:description/>
  <dc:language>en-US</dc:language>
  <cp:lastModifiedBy>ALEXIS  CASTRO </cp:lastModifiedBy>
  <dcterms:modified xsi:type="dcterms:W3CDTF">2005-05-11T13:35:47Z</dcterms:modified>
  <cp:revision>2</cp:revision>
  <dc:subject/>
  <dc:title>Diapositiva 1</dc:title>
</cp:coreProperties>
</file>