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BC4-31E6-4ED7-AD40-26CE6C7E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BE1F-F097-4E20-A199-0EB40D99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C2B-49AB-49FD-9E8F-0805E625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F96-7C4B-4C9C-81D1-BFD6769B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248D-CF62-4AEA-B374-38CA38B5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E3FA-63D0-41B5-8CE0-80CEDDFC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7787-937C-47C0-9685-B5F16A15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F669-C5D1-4508-8D9F-FF731706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DF17-235E-4FA6-9E0B-651A4FCC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4E72-11FB-4294-8E45-27D73EA0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3181-A066-4D11-A4A1-8AE25A55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DE9-B85A-4ECE-B226-E4E40141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2452-8948-4733-94BB-DF9BA3B4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A4A9-E2CD-4DF1-9D74-2771D168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84BA-6144-47CF-87DA-8D1DF1F5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A64F-D23A-4215-BC93-D0D8F61A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5D3C-DA71-4624-9252-713F7697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FC3-36BB-4248-B16B-55126BC6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80E-CC5F-4970-9457-44B0CAD2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88D-2F41-4241-83A7-8DD3D4C4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330-0CF7-47F0-81F0-D3A0833E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FC9-584E-4F3B-81D7-3411E8A4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BE7-B66A-45A4-88B2-793BC933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B02-DE29-4C53-9748-3A2CC785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FCB6-3958-4BCB-B22F-1B639CE4E82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93B9-D10D-4CC3-979E-ED5D480FB56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La pregunta de enfoqu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27280" y="3500280"/>
            <a:ext cx="3600360" cy="1565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908440" y="5589720"/>
            <a:ext cx="291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Arial"/>
              </a:rPr>
              <a:t>Preparado por Ernesto Sánchez Schul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Arial"/>
              </a:rPr>
              <a:t>Proyecto Conéctate al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ortanci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elección de preguntas y la manera de formularlas requiere del docente una seguridad basada en un marco de referencias consistente, el manejo de estrategias apropiadas y coherentes que lo estimulen a generar nuevos conoci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idea de manejar técnicas para preguntar, entre otras, es conocer lo que otros piensan, ayudar a confrontar, reformular y desarrollar sus ideas, diagnosticar, colaborar y aprender las implicaciones y consecuencias de un acto o ide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experiencia académica demuestra que la habilidad de formular preguntas adecuadas puede aprenderse mediante la planificación y práctica siste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6237360"/>
            <a:ext cx="2895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Arial"/>
              </a:rPr>
              <a:t>Preparado por Ernesto Sánchez Schul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Arial"/>
              </a:rPr>
              <a:t>Proyecto Conéctate al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13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actitud cuestionadora debe ser desarrollada de tal forma que el alumno la vea como una forma efectiva y no amenazante de llegar a  conocer cosas a profundidad desde diferentes puntos v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pos de Pregunt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eren de un bajo nivel de pensamiento, son respuestas cortas, que promueven el aprendizaje memorí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¿Cuáles son las partes del sistema digestivo?; ¿Qué es una planta?; ¿Cómo se clasifican los medios de transporte?;¿cómo se clasifican los medios de comunicació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í el nivel de pensamiento requerido es más elevado. Promueven en el aprendiz el aprendizaje significativo. Es necesario que el alumno infiera, especule, investigue, exprese opiniones y emita juic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¿Qué beneficios nos brindan las plantas?; ¿Porqué son importantes los medios de comunicació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43280" y="630864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Arial"/>
              </a:rPr>
              <a:t>Preparado por Ernesto Sánchez Schul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Arial"/>
              </a:rPr>
              <a:t>Proyecto Conéctate al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estra de map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6624720" cy="3973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16360" y="623736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Arial"/>
              </a:rPr>
              <a:t>Preparado por Ernesto Sánchez Schul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Arial"/>
              </a:rPr>
              <a:t>Proyecto Conéctate al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3960" y="14130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gunta limi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estra de map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09520" y="1571760"/>
            <a:ext cx="6924960" cy="4233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59960" y="1484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gunta limi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estra de map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85080" cy="4400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304320" y="19890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gunta amp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estra de map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4720" cy="4752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75960" y="14842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gunta amp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652920" y="3102120"/>
            <a:ext cx="18381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RACIAS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3:09:23Z</dcterms:created>
  <dc:creator>Administrador</dc:creator>
  <dc:description/>
  <dc:language>en-US</dc:language>
  <cp:lastModifiedBy>Master</cp:lastModifiedBy>
  <dcterms:modified xsi:type="dcterms:W3CDTF">2006-03-23T19:18:31Z</dcterms:modified>
  <cp:revision>7</cp:revision>
  <dc:subject/>
  <dc:title>La pregunta de enfoque</dc:title>
</cp:coreProperties>
</file>