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73B-229D-42F9-BE0C-ED670CFD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FF9-51F7-4402-8D8D-1A3351B3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3DD-5044-486D-B544-D6BF0F35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589D-7E5D-400E-8549-A7BBE91A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7D14-A57C-4B0A-B850-B07A69E6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18DA-5203-4115-A8FE-145C3A0E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A323-9D8D-40ED-8D40-96A72840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2BFD-4354-4EC6-82EF-FBFDBAEE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F551-9922-40B6-816C-5FA8E1E1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94C8-B191-4CEE-8C12-479DEE01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D23E-EC29-4CE8-9F5C-348F3B0E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B5F-26C3-48D5-8781-289F2F4B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525E-6AE3-4342-A0E4-0E9F5A04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6BD7-2A1C-4FBD-82DE-C25A2E5D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8901-18D8-432C-87CD-AE51E944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BBAF-8351-4FA7-BC98-32E98464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5279-BB8C-41EA-8DAA-8909BF12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3C1-C228-41AE-99EB-5A3EDD79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816-061A-4828-BE2E-2C670F58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071-C720-4095-A49C-4C29A23A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B54-73DF-4802-AD06-38B56748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49B5-992D-4F59-B1B2-D18651F6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C6FB-B81B-4086-8D21-4403137D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144-D719-47DC-94BF-2BD402B0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AF27-4EFC-404C-9044-CE1CA262483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9D7D-43B6-4ED4-912E-CFAC3F199C7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La pregunta de enfoqu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27280" y="3500280"/>
            <a:ext cx="3600360" cy="1565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908440" y="5589720"/>
            <a:ext cx="291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ff"/>
                </a:solidFill>
                <a:latin typeface="Arial"/>
              </a:rPr>
              <a:t>Preparado por Ernesto Sánchez Schul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ff"/>
                </a:solidFill>
                <a:latin typeface="Arial"/>
              </a:rPr>
              <a:t>Proyecto Conéctate al Cono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portanci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elección de preguntas y la manera de formularlas requiere del docente una seguridad basada en un marco de referencias consistente, el manejo de estrategias apropiadas y coherentes que lo estimulen a generar nuevos conoci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idea de manejar técnicas para preguntar, entre otras, es conocer lo que otros piensan, ayudar a confrontar, reformular y desarrollar sus ideas, diagnosticar, colaborar y aprender las implicaciones y consecuencias de un acto o ide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experiencia académica demuestra que la habilidad de formular preguntas adecuadas puede aprenderse mediante la planificación y práctica siste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6237360"/>
            <a:ext cx="2895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ff"/>
                </a:solidFill>
                <a:latin typeface="Arial"/>
              </a:rPr>
              <a:t>Preparado por Ernesto Sánchez Schul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ff"/>
                </a:solidFill>
                <a:latin typeface="Arial"/>
              </a:rPr>
              <a:t>Proyecto Conéctate al Cono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13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actitud cuestionadora debe ser desarrollada de tal forma que el alumno la vea como una forma efectiva y no amenazante de llegar a  conocer cosas a profundidad desde diferentes puntos v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pos de Pregunt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eren de un bajo nivel de pensamiento, son respuestas cortas, que promueven el aprendizaje memorí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¿Cuáles son las partes del sistema digestivo?; ¿Qué es una planta?; ¿Cómo se clasifican los medios de transporte?;¿cómo se clasifican los medios de comunicació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í el nivel de pensamiento requerido es más elevado. Promueven en el aprendiz el aprendizaje significativo. Es necesario que el alumno infiera, especule, investigue, exprese opiniones y emita juici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¿Qué beneficios nos brindan las plantas?; ¿Porqué son importantes los medios de comunicació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43280" y="630864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ff"/>
                </a:solidFill>
                <a:latin typeface="Arial"/>
              </a:rPr>
              <a:t>Preparado por Ernesto Sánchez Schul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ff"/>
                </a:solidFill>
                <a:latin typeface="Arial"/>
              </a:rPr>
              <a:t>Proyecto Conéctate al Cono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estra de map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6624720" cy="3973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916360" y="623736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ff"/>
                </a:solidFill>
                <a:latin typeface="Arial"/>
              </a:rPr>
              <a:t>Preparado por Ernesto Sánchez Schul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ff"/>
                </a:solidFill>
                <a:latin typeface="Arial"/>
              </a:rPr>
              <a:t>Proyecto Conéctate al Cono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3960" y="141300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gunta limi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estra de map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09520" y="1571760"/>
            <a:ext cx="6924960" cy="4233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59960" y="1484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gunta limi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estra de map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85080" cy="4400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304320" y="19890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gunta amp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estra de map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64720" cy="4752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75960" y="14842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gunta amp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652920" y="3102120"/>
            <a:ext cx="18381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RACIAS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3:09:23Z</dcterms:created>
  <dc:creator>Administrador</dc:creator>
  <dc:description/>
  <dc:language>en-US</dc:language>
  <cp:lastModifiedBy>Master</cp:lastModifiedBy>
  <dcterms:modified xsi:type="dcterms:W3CDTF">2006-03-23T19:18:31Z</dcterms:modified>
  <cp:revision>7</cp:revision>
  <dc:subject/>
  <dc:title>La pregunta de enfoque</dc:title>
</cp:coreProperties>
</file>