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9.wmf" ContentType="image/x-wmf"/>
  <Override PartName="/ppt/media/image14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4E16-E8D0-4C25-95AA-79D976071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D163-20D2-4A73-A49D-73645B58A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9962-A0A6-43AC-94D6-5DB488FF1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1313-2A5F-4D67-AF7A-9F92509A8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A6A5-B42B-4AF9-877B-A02270FA2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C48C-7C02-4D55-B951-E476A4BFE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D64A-60F1-4D80-B51F-6E85D6379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2F9B-41F8-4C15-9A06-565744265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4B62-2D11-43BE-93B1-AAD38F3D1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0304-5183-463C-B2A2-F9C210C9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192F-0D49-4A3F-882E-98A92D11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7B37-FDAB-4F38-B66F-CD15DD9A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C6D64-F87E-4613-A0DE-A23624193F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4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gbgm-umc.org/umcor/photos/afghanistan/warrenharrity/2003/girlundertent.jpg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. 18  Sec I  The Culture of the Middle East and North Afric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Muslim Woman"/>
          <p:cNvPicPr/>
          <p:nvPr/>
        </p:nvPicPr>
        <p:blipFill>
          <a:blip r:embed="rId1"/>
          <a:stretch/>
        </p:blipFill>
        <p:spPr>
          <a:xfrm>
            <a:off x="457200" y="1676520"/>
            <a:ext cx="3809880" cy="23810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image: [ There is tension between ultra-orthodox and secular Jews ]"/>
          <p:cNvPicPr/>
          <p:nvPr/>
        </p:nvPicPr>
        <p:blipFill>
          <a:blip r:embed="rId2"/>
          <a:stretch/>
        </p:blipFill>
        <p:spPr>
          <a:xfrm>
            <a:off x="4876920" y="1676520"/>
            <a:ext cx="3962160" cy="2377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306600" y="4038480"/>
            <a:ext cx="25606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. The Turkish people of the“stans” are actually ethnically related to the Turks of Turkey.  These were the people who did not migr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. The Kurds and Palestinians are peoples without homelands. Kurds live in Turkey, Iraq, Iran, Syria.  Palestinians live in Israel and Jordan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019920" y="3962520"/>
            <a:ext cx="2643120" cy="26668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010280" y="4191120"/>
            <a:ext cx="685800" cy="533160"/>
          </a:xfrm>
          <a:custGeom>
            <a:avLst/>
            <a:gdLst/>
            <a:ahLst/>
            <a:rect l="l" t="t" r="r" b="b"/>
            <a:pathLst>
              <a:path w="636" h="445">
                <a:moveTo>
                  <a:pt x="145" y="50"/>
                </a:moveTo>
                <a:cubicBezTo>
                  <a:pt x="121" y="55"/>
                  <a:pt x="67" y="58"/>
                  <a:pt x="49" y="86"/>
                </a:cubicBezTo>
                <a:cubicBezTo>
                  <a:pt x="17" y="138"/>
                  <a:pt x="20" y="210"/>
                  <a:pt x="1" y="266"/>
                </a:cubicBezTo>
                <a:cubicBezTo>
                  <a:pt x="5" y="286"/>
                  <a:pt x="0" y="310"/>
                  <a:pt x="13" y="326"/>
                </a:cubicBezTo>
                <a:cubicBezTo>
                  <a:pt x="24" y="339"/>
                  <a:pt x="45" y="333"/>
                  <a:pt x="61" y="338"/>
                </a:cubicBezTo>
                <a:cubicBezTo>
                  <a:pt x="85" y="345"/>
                  <a:pt x="110" y="351"/>
                  <a:pt x="133" y="362"/>
                </a:cubicBezTo>
                <a:cubicBezTo>
                  <a:pt x="202" y="396"/>
                  <a:pt x="276" y="398"/>
                  <a:pt x="349" y="422"/>
                </a:cubicBezTo>
                <a:cubicBezTo>
                  <a:pt x="453" y="416"/>
                  <a:pt x="636" y="445"/>
                  <a:pt x="493" y="350"/>
                </a:cubicBezTo>
                <a:cubicBezTo>
                  <a:pt x="436" y="264"/>
                  <a:pt x="512" y="183"/>
                  <a:pt x="421" y="122"/>
                </a:cubicBezTo>
                <a:cubicBezTo>
                  <a:pt x="385" y="69"/>
                  <a:pt x="375" y="78"/>
                  <a:pt x="325" y="50"/>
                </a:cubicBezTo>
                <a:cubicBezTo>
                  <a:pt x="300" y="36"/>
                  <a:pt x="253" y="2"/>
                  <a:pt x="253" y="2"/>
                </a:cubicBezTo>
                <a:cubicBezTo>
                  <a:pt x="209" y="6"/>
                  <a:pt x="163" y="0"/>
                  <a:pt x="121" y="14"/>
                </a:cubicBezTo>
                <a:cubicBezTo>
                  <a:pt x="109" y="18"/>
                  <a:pt x="102" y="39"/>
                  <a:pt x="109" y="50"/>
                </a:cubicBezTo>
                <a:cubicBezTo>
                  <a:pt x="116" y="60"/>
                  <a:pt x="133" y="50"/>
                  <a:pt x="145" y="50"/>
                </a:cubicBezTo>
                <a:close/>
              </a:path>
            </a:pathLst>
          </a:cu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57800" y="4343040"/>
            <a:ext cx="1676520" cy="15228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4495680"/>
            <a:ext cx="250920" cy="287280"/>
          </a:xfrm>
          <a:custGeom>
            <a:avLst/>
            <a:gdLst/>
            <a:ahLst/>
            <a:rect l="l" t="t" r="r" b="b"/>
            <a:pathLst>
              <a:path w="158" h="181">
                <a:moveTo>
                  <a:pt x="120" y="24"/>
                </a:moveTo>
                <a:cubicBezTo>
                  <a:pt x="92" y="28"/>
                  <a:pt x="60" y="21"/>
                  <a:pt x="36" y="36"/>
                </a:cubicBezTo>
                <a:cubicBezTo>
                  <a:pt x="22" y="45"/>
                  <a:pt x="30" y="69"/>
                  <a:pt x="24" y="84"/>
                </a:cubicBezTo>
                <a:cubicBezTo>
                  <a:pt x="18" y="97"/>
                  <a:pt x="8" y="108"/>
                  <a:pt x="0" y="120"/>
                </a:cubicBezTo>
                <a:cubicBezTo>
                  <a:pt x="61" y="181"/>
                  <a:pt x="74" y="179"/>
                  <a:pt x="144" y="132"/>
                </a:cubicBezTo>
                <a:cubicBezTo>
                  <a:pt x="158" y="90"/>
                  <a:pt x="154" y="58"/>
                  <a:pt x="120" y="24"/>
                </a:cubicBezTo>
                <a:cubicBezTo>
                  <a:pt x="110" y="14"/>
                  <a:pt x="84" y="0"/>
                  <a:pt x="84" y="0"/>
                </a:cubicBezTo>
                <a:cubicBezTo>
                  <a:pt x="84" y="0"/>
                  <a:pt x="108" y="16"/>
                  <a:pt x="120" y="24"/>
                </a:cubicBezTo>
                <a:close/>
              </a:path>
            </a:pathLst>
          </a:cu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81480" y="4723920"/>
            <a:ext cx="1676520" cy="83844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62520" y="4191120"/>
            <a:ext cx="142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u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05320" y="5410080"/>
            <a:ext cx="212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lestini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 With little water and growing populations, the region is finding a hard time supplying food for their people.  Cities such as Istanbul, Cairo, Tehran, and Baghdad cannot keep pace with housing and infrastructure nee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c. 1  Population Patter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ny Peo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. The Middle East has served as a “crossroads” connecting Africa, Asia, and Europ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800600" y="3733920"/>
            <a:ext cx="2868480" cy="2895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895480" y="45720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772400" y="40384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1800" y="3048120"/>
            <a:ext cx="135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ur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3505320"/>
            <a:ext cx="121932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191120" y="4647960"/>
            <a:ext cx="160020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6248160" y="4267080"/>
            <a:ext cx="152388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iddle East h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thnic diversit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differences among groups based on language, customs, and beliefs) because of the interaction with many different peop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666880" y="2743200"/>
            <a:ext cx="4191120" cy="38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457200"/>
            <a:ext cx="7772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Important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abs are the largest ethnic group in the region.  Most Arabs are Muslims (a follower of Islam) and speak Arabic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191120" y="3733920"/>
            <a:ext cx="4564080" cy="13525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80880" y="3048120"/>
            <a:ext cx="381024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Israelis make up 6.1 million people and reside mostly in Israel.  Israel was founded as a Jewish nation in 1948 resulting in war and conflict between Israel and its Arab neighb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19520" y="4495680"/>
            <a:ext cx="2743200" cy="21193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595840" y="2971800"/>
            <a:ext cx="3548160" cy="3581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304920" y="3124080"/>
            <a:ext cx="2798640" cy="22464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586560" y="3733920"/>
            <a:ext cx="309600" cy="495360"/>
          </a:xfrm>
          <a:custGeom>
            <a:avLst/>
            <a:gdLst/>
            <a:ahLst/>
            <a:rect l="l" t="t" r="r" b="b"/>
            <a:pathLst>
              <a:path w="195" h="312">
                <a:moveTo>
                  <a:pt x="99" y="0"/>
                </a:moveTo>
                <a:cubicBezTo>
                  <a:pt x="147" y="16"/>
                  <a:pt x="167" y="30"/>
                  <a:pt x="195" y="72"/>
                </a:cubicBezTo>
                <a:cubicBezTo>
                  <a:pt x="177" y="126"/>
                  <a:pt x="131" y="168"/>
                  <a:pt x="99" y="216"/>
                </a:cubicBezTo>
                <a:cubicBezTo>
                  <a:pt x="35" y="312"/>
                  <a:pt x="117" y="274"/>
                  <a:pt x="39" y="300"/>
                </a:cubicBezTo>
                <a:cubicBezTo>
                  <a:pt x="0" y="241"/>
                  <a:pt x="4" y="219"/>
                  <a:pt x="63" y="180"/>
                </a:cubicBezTo>
                <a:cubicBezTo>
                  <a:pt x="82" y="122"/>
                  <a:pt x="99" y="62"/>
                  <a:pt x="99" y="0"/>
                </a:cubicBez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952880" y="3657600"/>
            <a:ext cx="175284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038480" y="32767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ra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839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Turks are descendents of people who migrated to Turkey from Central Asia.  Most Turks practice Islam, speak Turkish, and live Western (modern) lifesty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595840" y="2971800"/>
            <a:ext cx="3548160" cy="3657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 flipH="1">
            <a:off x="6857640" y="2362320"/>
            <a:ext cx="609480" cy="60948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012440" y="1752480"/>
            <a:ext cx="15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urk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72200" y="3048120"/>
            <a:ext cx="1295280" cy="614160"/>
          </a:xfrm>
          <a:custGeom>
            <a:avLst/>
            <a:gdLst/>
            <a:ahLst/>
            <a:rect l="l" t="t" r="r" b="b"/>
            <a:pathLst>
              <a:path w="816" h="387">
                <a:moveTo>
                  <a:pt x="24" y="75"/>
                </a:moveTo>
                <a:cubicBezTo>
                  <a:pt x="56" y="71"/>
                  <a:pt x="92" y="80"/>
                  <a:pt x="120" y="63"/>
                </a:cubicBezTo>
                <a:cubicBezTo>
                  <a:pt x="132" y="56"/>
                  <a:pt x="84" y="53"/>
                  <a:pt x="84" y="39"/>
                </a:cubicBezTo>
                <a:cubicBezTo>
                  <a:pt x="84" y="26"/>
                  <a:pt x="107" y="29"/>
                  <a:pt x="120" y="27"/>
                </a:cubicBezTo>
                <a:cubicBezTo>
                  <a:pt x="168" y="21"/>
                  <a:pt x="216" y="19"/>
                  <a:pt x="264" y="15"/>
                </a:cubicBezTo>
                <a:cubicBezTo>
                  <a:pt x="280" y="11"/>
                  <a:pt x="296" y="0"/>
                  <a:pt x="312" y="3"/>
                </a:cubicBezTo>
                <a:cubicBezTo>
                  <a:pt x="350" y="9"/>
                  <a:pt x="420" y="39"/>
                  <a:pt x="420" y="39"/>
                </a:cubicBezTo>
                <a:cubicBezTo>
                  <a:pt x="479" y="128"/>
                  <a:pt x="629" y="117"/>
                  <a:pt x="720" y="123"/>
                </a:cubicBezTo>
                <a:cubicBezTo>
                  <a:pt x="732" y="127"/>
                  <a:pt x="749" y="125"/>
                  <a:pt x="756" y="135"/>
                </a:cubicBezTo>
                <a:cubicBezTo>
                  <a:pt x="771" y="156"/>
                  <a:pt x="756" y="199"/>
                  <a:pt x="780" y="207"/>
                </a:cubicBezTo>
                <a:cubicBezTo>
                  <a:pt x="792" y="211"/>
                  <a:pt x="804" y="215"/>
                  <a:pt x="816" y="219"/>
                </a:cubicBezTo>
                <a:cubicBezTo>
                  <a:pt x="781" y="272"/>
                  <a:pt x="788" y="328"/>
                  <a:pt x="768" y="387"/>
                </a:cubicBezTo>
                <a:cubicBezTo>
                  <a:pt x="685" y="359"/>
                  <a:pt x="785" y="387"/>
                  <a:pt x="636" y="387"/>
                </a:cubicBezTo>
                <a:cubicBezTo>
                  <a:pt x="572" y="387"/>
                  <a:pt x="508" y="379"/>
                  <a:pt x="444" y="375"/>
                </a:cubicBezTo>
                <a:cubicBezTo>
                  <a:pt x="387" y="337"/>
                  <a:pt x="422" y="346"/>
                  <a:pt x="336" y="375"/>
                </a:cubicBezTo>
                <a:cubicBezTo>
                  <a:pt x="324" y="379"/>
                  <a:pt x="300" y="387"/>
                  <a:pt x="300" y="387"/>
                </a:cubicBezTo>
                <a:cubicBezTo>
                  <a:pt x="217" y="359"/>
                  <a:pt x="198" y="340"/>
                  <a:pt x="108" y="327"/>
                </a:cubicBezTo>
                <a:cubicBezTo>
                  <a:pt x="96" y="319"/>
                  <a:pt x="85" y="309"/>
                  <a:pt x="72" y="303"/>
                </a:cubicBezTo>
                <a:cubicBezTo>
                  <a:pt x="61" y="297"/>
                  <a:pt x="45" y="300"/>
                  <a:pt x="36" y="291"/>
                </a:cubicBezTo>
                <a:cubicBezTo>
                  <a:pt x="18" y="273"/>
                  <a:pt x="10" y="189"/>
                  <a:pt x="0" y="159"/>
                </a:cubicBezTo>
                <a:cubicBezTo>
                  <a:pt x="12" y="155"/>
                  <a:pt x="30" y="158"/>
                  <a:pt x="36" y="147"/>
                </a:cubicBezTo>
                <a:cubicBezTo>
                  <a:pt x="43" y="133"/>
                  <a:pt x="4" y="81"/>
                  <a:pt x="0" y="75"/>
                </a:cubicBezTo>
                <a:cubicBezTo>
                  <a:pt x="41" y="61"/>
                  <a:pt x="45" y="54"/>
                  <a:pt x="24" y="75"/>
                </a:cubicBez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turkish_mafia"/>
          <p:cNvPicPr/>
          <p:nvPr/>
        </p:nvPicPr>
        <p:blipFill>
          <a:blip r:embed="rId2"/>
          <a:stretch/>
        </p:blipFill>
        <p:spPr>
          <a:xfrm>
            <a:off x="152280" y="2438280"/>
            <a:ext cx="5334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763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. Iranians live in Iran and speak Farsi and are Shiite Muslims. Shiite’s are very strict and rule the governme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572000" cy="35355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334120" y="1371600"/>
            <a:ext cx="2819160" cy="2666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5133960" y="4038480"/>
            <a:ext cx="3476520" cy="27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6840" y="-360"/>
            <a:ext cx="838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. Afghanis live in Afghanistan and have multiple ethnic groups and languages.  Most people are Muslims. It is one of the poorest nations in the wor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Map of Afghanistan"/>
          <p:cNvPicPr/>
          <p:nvPr/>
        </p:nvPicPr>
        <p:blipFill>
          <a:blip r:embed="rId1"/>
          <a:stretch/>
        </p:blipFill>
        <p:spPr>
          <a:xfrm>
            <a:off x="228600" y="2600280"/>
            <a:ext cx="4038480" cy="38768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Afghan girls in tent with chalkboard by Warren Harrity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95680" y="2590920"/>
            <a:ext cx="44960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33520" y="76320"/>
            <a:ext cx="77724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. Caucasian people live in the Caucasus mountain countries of Armenia and Georgia.  Both have separate languages but practice Christianity.  They recently became independent with the break-up of the Soviet Union in 199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267080" y="2819520"/>
            <a:ext cx="4724640" cy="3617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Leaders, Ecumenical Service Celebrating Armenian Church's 1700 Years"/>
          <p:cNvPicPr/>
          <p:nvPr/>
        </p:nvPicPr>
        <p:blipFill>
          <a:blip r:embed="rId2"/>
          <a:stretch/>
        </p:blipFill>
        <p:spPr>
          <a:xfrm>
            <a:off x="304920" y="3276720"/>
            <a:ext cx="38192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0T12:19:40Z</dcterms:created>
  <dc:creator>Steve Riley</dc:creator>
  <dc:description/>
  <dc:language>en-US</dc:language>
  <cp:lastModifiedBy>Locos</cp:lastModifiedBy>
  <dcterms:modified xsi:type="dcterms:W3CDTF">2009-06-24T16:41:44Z</dcterms:modified>
  <cp:revision>10</cp:revision>
  <dc:subject/>
  <dc:title>Ch. 18  The Culture of the Middle East and North Africa.</dc:title>
</cp:coreProperties>
</file>