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49A-2024-4497-9307-04910189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890-B37B-445F-85F4-EB59CC1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BB7-6500-4924-91D6-E566E64B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715-2D7F-438F-9062-D383BD25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179-BAE7-4072-AB8E-4F7E5CF2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6A1-C293-41EB-BBDD-BA7F2779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ED1-8F79-4C4B-AF95-B09B2E0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773-80A8-4368-AD01-5778D594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A4B-D384-40A5-8629-DC9F9A4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36B-EA9E-4499-B7C8-C854334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864-60A9-41EC-89B8-EA31FD7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D75-528D-4FFF-88F5-572A43A9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BAD-7A61-4DF4-9429-A7978B27A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gbgm-umc.org/umcor/photos/afghanistan/warrenharrity/2003/girlundertent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. 18  Sec I  The Culture of the Middle East and North Afr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Muslim Woman"/>
          <p:cNvPicPr/>
          <p:nvPr/>
        </p:nvPicPr>
        <p:blipFill>
          <a:blip r:embed="rId1"/>
          <a:stretch/>
        </p:blipFill>
        <p:spPr>
          <a:xfrm>
            <a:off x="457200" y="1676520"/>
            <a:ext cx="3809880" cy="23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image: [ There is tension between ultra-orthodox and secular Jews ]"/>
          <p:cNvPicPr/>
          <p:nvPr/>
        </p:nvPicPr>
        <p:blipFill>
          <a:blip r:embed="rId2"/>
          <a:stretch/>
        </p:blipFill>
        <p:spPr>
          <a:xfrm>
            <a:off x="4876920" y="1676520"/>
            <a:ext cx="3962160" cy="237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06600" y="4038480"/>
            <a:ext cx="256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. The Turkish people of the“stans” are actually ethnically related to the Turks of Turkey.  These were the people who did not mig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 The Kurds and Palestinians are peoples without homelands. Kurds live in Turkey, Iraq, Iran, Syria.  Palestinians live in Israel and Jordan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643120" cy="26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191120"/>
            <a:ext cx="685800" cy="533160"/>
          </a:xfrm>
          <a:custGeom>
            <a:avLst/>
            <a:gdLst/>
            <a:ahLst/>
            <a:rect l="l" t="t" r="r" b="b"/>
            <a:pathLst>
              <a:path w="636" h="445">
                <a:moveTo>
                  <a:pt x="145" y="50"/>
                </a:moveTo>
                <a:cubicBezTo>
                  <a:pt x="121" y="55"/>
                  <a:pt x="67" y="58"/>
                  <a:pt x="49" y="86"/>
                </a:cubicBezTo>
                <a:cubicBezTo>
                  <a:pt x="17" y="138"/>
                  <a:pt x="20" y="210"/>
                  <a:pt x="1" y="266"/>
                </a:cubicBezTo>
                <a:cubicBezTo>
                  <a:pt x="5" y="286"/>
                  <a:pt x="0" y="310"/>
                  <a:pt x="13" y="326"/>
                </a:cubicBezTo>
                <a:cubicBezTo>
                  <a:pt x="24" y="339"/>
                  <a:pt x="45" y="333"/>
                  <a:pt x="61" y="338"/>
                </a:cubicBezTo>
                <a:cubicBezTo>
                  <a:pt x="85" y="345"/>
                  <a:pt x="110" y="351"/>
                  <a:pt x="133" y="362"/>
                </a:cubicBezTo>
                <a:cubicBezTo>
                  <a:pt x="202" y="396"/>
                  <a:pt x="276" y="398"/>
                  <a:pt x="349" y="422"/>
                </a:cubicBezTo>
                <a:cubicBezTo>
                  <a:pt x="453" y="416"/>
                  <a:pt x="636" y="445"/>
                  <a:pt x="493" y="350"/>
                </a:cubicBezTo>
                <a:cubicBezTo>
                  <a:pt x="436" y="264"/>
                  <a:pt x="512" y="183"/>
                  <a:pt x="421" y="122"/>
                </a:cubicBezTo>
                <a:cubicBezTo>
                  <a:pt x="385" y="69"/>
                  <a:pt x="375" y="78"/>
                  <a:pt x="325" y="50"/>
                </a:cubicBezTo>
                <a:cubicBezTo>
                  <a:pt x="300" y="36"/>
                  <a:pt x="253" y="2"/>
                  <a:pt x="253" y="2"/>
                </a:cubicBezTo>
                <a:cubicBezTo>
                  <a:pt x="209" y="6"/>
                  <a:pt x="163" y="0"/>
                  <a:pt x="121" y="14"/>
                </a:cubicBezTo>
                <a:cubicBezTo>
                  <a:pt x="109" y="18"/>
                  <a:pt x="102" y="39"/>
                  <a:pt x="109" y="50"/>
                </a:cubicBezTo>
                <a:cubicBezTo>
                  <a:pt x="116" y="60"/>
                  <a:pt x="133" y="50"/>
                  <a:pt x="145" y="5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4343040"/>
            <a:ext cx="1676520" cy="152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495680"/>
            <a:ext cx="250920" cy="287280"/>
          </a:xfrm>
          <a:custGeom>
            <a:avLst/>
            <a:gdLst/>
            <a:ahLst/>
            <a:rect l="l" t="t" r="r" b="b"/>
            <a:pathLst>
              <a:path w="158" h="181">
                <a:moveTo>
                  <a:pt x="120" y="24"/>
                </a:moveTo>
                <a:cubicBezTo>
                  <a:pt x="92" y="28"/>
                  <a:pt x="60" y="21"/>
                  <a:pt x="36" y="36"/>
                </a:cubicBezTo>
                <a:cubicBezTo>
                  <a:pt x="22" y="45"/>
                  <a:pt x="30" y="69"/>
                  <a:pt x="24" y="84"/>
                </a:cubicBezTo>
                <a:cubicBezTo>
                  <a:pt x="18" y="97"/>
                  <a:pt x="8" y="108"/>
                  <a:pt x="0" y="120"/>
                </a:cubicBezTo>
                <a:cubicBezTo>
                  <a:pt x="61" y="181"/>
                  <a:pt x="74" y="179"/>
                  <a:pt x="144" y="132"/>
                </a:cubicBezTo>
                <a:cubicBezTo>
                  <a:pt x="158" y="90"/>
                  <a:pt x="154" y="58"/>
                  <a:pt x="120" y="24"/>
                </a:cubicBezTo>
                <a:cubicBezTo>
                  <a:pt x="110" y="14"/>
                  <a:pt x="84" y="0"/>
                  <a:pt x="84" y="0"/>
                </a:cubicBezTo>
                <a:cubicBezTo>
                  <a:pt x="84" y="0"/>
                  <a:pt x="108" y="16"/>
                  <a:pt x="120" y="24"/>
                </a:cubicBez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81480" y="4723920"/>
            <a:ext cx="1676520" cy="838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191120"/>
            <a:ext cx="14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41008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estin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With little water and growing populations, the region is finding a hard time supplying food for their people.  Cities such as Istanbul, Cairo, Tehran, and Baghdad cannot keep pace with housing and infrastructur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. 1  Populatio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The Middle East has served as a “crossroads” connecting Africa, Asia, and Eur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2868480" cy="289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4038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1800" y="304812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505320"/>
            <a:ext cx="12193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191120" y="4647960"/>
            <a:ext cx="1600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248160" y="4267080"/>
            <a:ext cx="1523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ddle Eas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thnic divers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differences among groups based on language, customs, and beliefs) because of the interaction with many different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911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mportant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abs are the largest ethnic group in the region.  Most Arabs are Muslims (a follower of Islam) and speak Arabi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6408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Israelis make up 6.1 million people and reside mostly in Israel.  Israel was founded as a Jewish nation in 1948 resulting in war and conflict between Israel and its Arab neighb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95840" y="2971800"/>
            <a:ext cx="354816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798640" cy="224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6560" y="3733920"/>
            <a:ext cx="309600" cy="495360"/>
          </a:xfrm>
          <a:custGeom>
            <a:avLst/>
            <a:gdLst/>
            <a:ahLst/>
            <a:rect l="l" t="t" r="r" b="b"/>
            <a:pathLst>
              <a:path w="195" h="312">
                <a:moveTo>
                  <a:pt x="99" y="0"/>
                </a:moveTo>
                <a:cubicBezTo>
                  <a:pt x="147" y="16"/>
                  <a:pt x="167" y="30"/>
                  <a:pt x="195" y="72"/>
                </a:cubicBezTo>
                <a:cubicBezTo>
                  <a:pt x="177" y="126"/>
                  <a:pt x="131" y="168"/>
                  <a:pt x="99" y="216"/>
                </a:cubicBezTo>
                <a:cubicBezTo>
                  <a:pt x="35" y="312"/>
                  <a:pt x="117" y="274"/>
                  <a:pt x="39" y="300"/>
                </a:cubicBezTo>
                <a:cubicBezTo>
                  <a:pt x="0" y="241"/>
                  <a:pt x="4" y="219"/>
                  <a:pt x="63" y="180"/>
                </a:cubicBezTo>
                <a:cubicBezTo>
                  <a:pt x="82" y="122"/>
                  <a:pt x="99" y="62"/>
                  <a:pt x="99" y="0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657600"/>
            <a:ext cx="175284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urks are descendents of people who migrated to Turkey from Central Asia.  Most Turks practice Islam, speak Turkish, and live Western (modern) lifesty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95840" y="2971800"/>
            <a:ext cx="354816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6857640" y="2362320"/>
            <a:ext cx="60948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12440" y="1752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048120"/>
            <a:ext cx="1295280" cy="614160"/>
          </a:xfrm>
          <a:custGeom>
            <a:avLst/>
            <a:gdLst/>
            <a:ahLst/>
            <a:rect l="l" t="t" r="r" b="b"/>
            <a:pathLst>
              <a:path w="816" h="387">
                <a:moveTo>
                  <a:pt x="24" y="75"/>
                </a:moveTo>
                <a:cubicBezTo>
                  <a:pt x="56" y="71"/>
                  <a:pt x="92" y="80"/>
                  <a:pt x="120" y="63"/>
                </a:cubicBezTo>
                <a:cubicBezTo>
                  <a:pt x="132" y="56"/>
                  <a:pt x="84" y="53"/>
                  <a:pt x="84" y="39"/>
                </a:cubicBezTo>
                <a:cubicBezTo>
                  <a:pt x="84" y="26"/>
                  <a:pt x="107" y="29"/>
                  <a:pt x="120" y="27"/>
                </a:cubicBezTo>
                <a:cubicBezTo>
                  <a:pt x="168" y="21"/>
                  <a:pt x="216" y="19"/>
                  <a:pt x="264" y="15"/>
                </a:cubicBezTo>
                <a:cubicBezTo>
                  <a:pt x="280" y="11"/>
                  <a:pt x="296" y="0"/>
                  <a:pt x="312" y="3"/>
                </a:cubicBezTo>
                <a:cubicBezTo>
                  <a:pt x="350" y="9"/>
                  <a:pt x="420" y="39"/>
                  <a:pt x="420" y="39"/>
                </a:cubicBezTo>
                <a:cubicBezTo>
                  <a:pt x="479" y="128"/>
                  <a:pt x="629" y="117"/>
                  <a:pt x="720" y="123"/>
                </a:cubicBezTo>
                <a:cubicBezTo>
                  <a:pt x="732" y="127"/>
                  <a:pt x="749" y="125"/>
                  <a:pt x="756" y="135"/>
                </a:cubicBezTo>
                <a:cubicBezTo>
                  <a:pt x="771" y="156"/>
                  <a:pt x="756" y="199"/>
                  <a:pt x="780" y="207"/>
                </a:cubicBezTo>
                <a:cubicBezTo>
                  <a:pt x="792" y="211"/>
                  <a:pt x="804" y="215"/>
                  <a:pt x="816" y="219"/>
                </a:cubicBezTo>
                <a:cubicBezTo>
                  <a:pt x="781" y="272"/>
                  <a:pt x="788" y="328"/>
                  <a:pt x="768" y="387"/>
                </a:cubicBezTo>
                <a:cubicBezTo>
                  <a:pt x="685" y="359"/>
                  <a:pt x="785" y="387"/>
                  <a:pt x="636" y="387"/>
                </a:cubicBezTo>
                <a:cubicBezTo>
                  <a:pt x="572" y="387"/>
                  <a:pt x="508" y="379"/>
                  <a:pt x="444" y="375"/>
                </a:cubicBezTo>
                <a:cubicBezTo>
                  <a:pt x="387" y="337"/>
                  <a:pt x="422" y="346"/>
                  <a:pt x="336" y="375"/>
                </a:cubicBezTo>
                <a:cubicBezTo>
                  <a:pt x="324" y="379"/>
                  <a:pt x="300" y="387"/>
                  <a:pt x="300" y="387"/>
                </a:cubicBezTo>
                <a:cubicBezTo>
                  <a:pt x="217" y="359"/>
                  <a:pt x="198" y="340"/>
                  <a:pt x="108" y="327"/>
                </a:cubicBezTo>
                <a:cubicBezTo>
                  <a:pt x="96" y="319"/>
                  <a:pt x="85" y="309"/>
                  <a:pt x="72" y="303"/>
                </a:cubicBezTo>
                <a:cubicBezTo>
                  <a:pt x="61" y="297"/>
                  <a:pt x="45" y="300"/>
                  <a:pt x="36" y="291"/>
                </a:cubicBezTo>
                <a:cubicBezTo>
                  <a:pt x="18" y="273"/>
                  <a:pt x="10" y="189"/>
                  <a:pt x="0" y="159"/>
                </a:cubicBezTo>
                <a:cubicBezTo>
                  <a:pt x="12" y="155"/>
                  <a:pt x="30" y="158"/>
                  <a:pt x="36" y="147"/>
                </a:cubicBezTo>
                <a:cubicBezTo>
                  <a:pt x="43" y="133"/>
                  <a:pt x="4" y="81"/>
                  <a:pt x="0" y="75"/>
                </a:cubicBezTo>
                <a:cubicBezTo>
                  <a:pt x="41" y="61"/>
                  <a:pt x="45" y="54"/>
                  <a:pt x="24" y="7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turkish_mafia"/>
          <p:cNvPicPr/>
          <p:nvPr/>
        </p:nvPicPr>
        <p:blipFill>
          <a:blip r:embed="rId2"/>
          <a:stretch/>
        </p:blipFill>
        <p:spPr>
          <a:xfrm>
            <a:off x="152280" y="2438280"/>
            <a:ext cx="5334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Iranians live in Iran and speak Farsi and are Shiite Muslims. Shiite’s are very strict and rule the govern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572000" cy="3535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81916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33960" y="4038480"/>
            <a:ext cx="34765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. Afghanis live in Afghanistan and have multiple ethnic groups and languages.  Most people are Muslims. It is one of the poorest nation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Map of Afghanistan"/>
          <p:cNvPicPr/>
          <p:nvPr/>
        </p:nvPicPr>
        <p:blipFill>
          <a:blip r:embed="rId1"/>
          <a:stretch/>
        </p:blipFill>
        <p:spPr>
          <a:xfrm>
            <a:off x="228600" y="2600280"/>
            <a:ext cx="4038480" cy="3876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Afghan girls in tent with chalkboard by Warren Harrit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590920"/>
            <a:ext cx="4496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76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. Caucasian people live in the Caucasus mountain countries of Armenia and Georgia.  Both have separate languages but practice Christianity.  They recently became independent with the break-up of the Soviet Union in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67080" y="2819520"/>
            <a:ext cx="4724640" cy="361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Leaders, Ecumenical Service Celebrating Armenian Church's 1700 Years"/>
          <p:cNvPicPr/>
          <p:nvPr/>
        </p:nvPicPr>
        <p:blipFill>
          <a:blip r:embed="rId2"/>
          <a:stretch/>
        </p:blipFill>
        <p:spPr>
          <a:xfrm>
            <a:off x="304920" y="3276720"/>
            <a:ext cx="381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2:19:40Z</dcterms:created>
  <dc:creator>Steve Riley</dc:creator>
  <dc:description/>
  <dc:language>en-US</dc:language>
  <cp:lastModifiedBy>Locos</cp:lastModifiedBy>
  <dcterms:modified xsi:type="dcterms:W3CDTF">2009-06-24T16:41:44Z</dcterms:modified>
  <cp:revision>10</cp:revision>
  <dc:subject/>
  <dc:title>Ch. 18  The Culture of the Middle East and North Africa.</dc:title>
</cp:coreProperties>
</file>