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78386-DBE2-429E-B987-C05ABEE3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B0920-E9D0-45D4-A350-E407B720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0E9AC-0B05-4228-A854-431A9ED6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AC64-BDC8-4445-A659-F9A671EC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BF92-8FC8-4AC6-BC33-CB5BF7FE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B1F4-6F11-4CA6-B6F3-F73C3395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8122-1943-4016-8843-F84444B4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7302-566F-4FDA-A196-65850105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640D-F655-47CE-971D-573ACC35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7AAB-7445-4F35-BDAF-9A88697D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937B-ED63-4DB1-AF61-51FCB128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16A64-1616-4C34-B00A-EE7DBC40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9719-528A-479C-8156-BA36AEE1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4ED0-550C-4C0B-92BF-544B4B03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0B8C-A31C-43F5-8D1C-1472AE48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0945-9528-4F27-A8FA-42BA023A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FB72-CF08-44FD-98A6-193732BC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04B88-09D3-4FDA-8954-16961563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E4691-6B7E-4E84-901F-68FC70E8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52931-7C7D-4AFE-AB94-8A5DEC9E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F5223-51E7-4250-B39C-C978CDEF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9BE59-B102-4C7E-8DDD-76410FED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55D1-54AF-4E57-A6CC-251A5117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2D424-8C66-4D22-8DCF-D51746EA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CD22-6BF5-4019-8F77-D898C022C9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DE2A-5823-46F1-A928-62F8FA12CC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tinetwork.org/" TargetMode="External"/><Relationship Id="rId2" Type="http://schemas.openxmlformats.org/officeDocument/2006/relationships/hyperlink" Target="http://www.rti4success.org/" TargetMode="External"/><Relationship Id="rId3" Type="http://schemas.openxmlformats.org/officeDocument/2006/relationships/hyperlink" Target="http://www.nasde.org/" TargetMode="External"/><Relationship Id="rId4" Type="http://schemas.openxmlformats.org/officeDocument/2006/relationships/hyperlink" Target="http://www.studentprogress.org/default.asp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eading.uoregon.edu/" TargetMode="External"/><Relationship Id="rId2" Type="http://schemas.openxmlformats.org/officeDocument/2006/relationships/hyperlink" Target="http://www.fcrr.org/" TargetMode="External"/><Relationship Id="rId3" Type="http://schemas.openxmlformats.org/officeDocument/2006/relationships/hyperlink" Target="http://www.texasreading.org/utcrla/materials" TargetMode="External"/><Relationship Id="rId4" Type="http://schemas.openxmlformats.org/officeDocument/2006/relationships/hyperlink" Target="http://www.texasreading.org/utcrla/materials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upski.org/puplications.htm" TargetMode="External"/><Relationship Id="rId2" Type="http://schemas.openxmlformats.org/officeDocument/2006/relationships/hyperlink" Target="http://www.interventioncentral.org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Response to Intervention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Kristy Shinav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TI is a Framework – Not a Progra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rings together general, special, compensatory, and gifted education with the goal of providing a system of education that meets the needs of all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68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68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t is also not a special education initiative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the data gathered during the RTI process can also be used as part of a comprehensive evaluation to determine if a student has a specific learning dis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ow RTI will be implemented in Swant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1:  all students will receive core curriculum (Haughton-Mifflin) and DIBELS ORF assessment 3 times each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2:  yellow zone students will receive core curriculum and Read Naturally plus progress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3:  red zone students will receive core curriculum, diagnostic testing to determine what targeted interventions are needed, and weekly progress monitoring to see if intervention should continue or be alt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ere Can I Find Resources to Support RTI Implementation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TI Action Network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rtinetwork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Center on Response to Intervention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http://www.rti4success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 to Interventi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luepri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ies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3"/>
              </a:rPr>
              <a:t>http://www.nasde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Center on Student Progress Monitoring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4"/>
              </a:rPr>
              <a:t>http://www.studentprogress.org/default.a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search-Based Literacy Instruction and Interventio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of Oregon – Big Ideas in Beginning Reading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reading.uoregon.e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lorida Center for Reading Research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www.fcrr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aughn Gross Center for Reading and Language Arts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4"/>
              </a:rPr>
              <a:t>www.texasreading.org/utcrla/mater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Research-Based Literacy Instruction and Interventions cont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pski Foundations – Secondary Literacy Instruction and Intervention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stupski.org/puplications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 Central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http://www.interventioncentral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at is Response to Intervention (RtI)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ulti-tiered method of service delivery in which all students are provided an appropriate level of evidence-based instruction based on their academ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olves frequent assessment of students’ progress, data-based decision making, and placement of students within a range of instructional sup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at do we need to be able to implement a Response to Intervention model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ment system that includes periodic universal screening and frequent/continuous progress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al system that includes scientifically supported core curriculum and scientifically supported Tier 2 and Tier 3 inter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management and decision making system that includes methods for organizing data and a “play book” for making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xamples of Assessment Systems used for RTI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BELS:  Dynamic Indicators of Basic Early Literacy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MSwe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ier 1 – All Students</a:t>
            </a:r>
            <a:br>
              <a:rPr sz="35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Quality Standards – Aligned Curriculum and I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quality differentiated i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fically-based Reading and Math instruction (NCLB require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active assessment practices (universal screening) for early identification of students needing more intensive instruction and intervention to accelerate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from 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ier 2 – Targeted/Supplemental Intervention for some students</a:t>
            </a:r>
            <a:br>
              <a:rPr sz="35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bout 10 – 15 % of stud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emental interventions that are data-driven, research-based and automatically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entions delivered through flexible scheduling, and flexible use of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 monitoring of student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from 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ier 3 – Individualized Intensive Interventions for a Few Students</a:t>
            </a:r>
            <a:br>
              <a:rPr sz="35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bout 1 – 5 % of stud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ized interventions for the most severe academic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frequent progress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data gathered through targeted and intensive interventions can be used to determine eligibility for special education and the ongoing provision of these interventions within special education if a student is determined to be a student with a dis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formation from 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y RTI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mphasis on early intervention and prevention --It is more effective to identify and intervene with student needs earlier than to remediate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minates poor instructional quality as an explanation for learning problems (curriculum/content – not necessarily the teac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ffects of RTI:  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Growing the Gree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en core in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s prevention eff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s the number of students needing intensive inter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946840" y="3173400"/>
            <a:ext cx="1981080" cy="1716120"/>
            <a:chOff x="5946840" y="3173400"/>
            <a:chExt cx="1981080" cy="1716120"/>
          </a:xfrm>
        </p:grpSpPr>
        <p:sp>
          <p:nvSpPr>
            <p:cNvPr id="133" name="_s9229"/>
            <p:cNvSpPr/>
            <p:nvPr/>
          </p:nvSpPr>
          <p:spPr>
            <a:xfrm flipV="1">
              <a:off x="6607080" y="3173400"/>
              <a:ext cx="660600" cy="571680"/>
            </a:xfrm>
            <a:custGeom>
              <a:avLst/>
              <a:gdLst>
                <a:gd name="textAreaLeft" fmla="*/ 236880 w 660600"/>
                <a:gd name="textAreaRight" fmla="*/ 423720 w 660600"/>
                <a:gd name="textAreaTop" fmla="*/ 205200 h 571680"/>
                <a:gd name="textAreaBottom" fmla="*/ 366480 h 57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78f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-5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_s9230"/>
            <p:cNvSpPr/>
            <p:nvPr/>
          </p:nvSpPr>
          <p:spPr>
            <a:xfrm flipV="1">
              <a:off x="6276960" y="3744360"/>
              <a:ext cx="1320840" cy="572760"/>
            </a:xfrm>
            <a:custGeom>
              <a:avLst/>
              <a:gdLst>
                <a:gd name="textAreaLeft" fmla="*/ 290520 w 1320840"/>
                <a:gd name="textAreaRight" fmla="*/ 1030320 w 1320840"/>
                <a:gd name="textAreaTop" fmla="*/ 126000 h 572760"/>
                <a:gd name="textAreaBottom" fmla="*/ 446760 h 57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78f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Yello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 – 15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_s9231"/>
            <p:cNvSpPr/>
            <p:nvPr/>
          </p:nvSpPr>
          <p:spPr>
            <a:xfrm flipV="1">
              <a:off x="5946840" y="4317840"/>
              <a:ext cx="1981080" cy="571680"/>
            </a:xfrm>
            <a:custGeom>
              <a:avLst/>
              <a:gdLst>
                <a:gd name="textAreaLeft" fmla="*/ 343800 w 1981080"/>
                <a:gd name="textAreaRight" fmla="*/ 1637280 w 1981080"/>
                <a:gd name="textAreaTop" fmla="*/ 99000 h 571680"/>
                <a:gd name="textAreaBottom" fmla="*/ 472680 h 57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78f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0 – 9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eferred Customer</cp:lastModifiedBy>
  <dcterms:modified xsi:type="dcterms:W3CDTF">2008-11-03T00:55:5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