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200F-10B9-4CB6-8B79-FEDF0630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B46E-1E12-403F-BC35-39716886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6679-134B-47E7-A57F-B1DA8A78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86ED-67AC-4E20-B585-54F7DA87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761-0DEA-4AAC-BAB3-1C3B3B47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593-F772-43C2-9E18-357858C8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3259-86AB-46FE-A249-6FB7ABD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386-5353-4030-BFA4-8B5B3D61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D8D0-09C1-46AD-83BD-A185769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7BFC-E744-46D5-B8B6-503D6C55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D1D0-EDD6-47D8-9A7D-5232895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95DC-1248-4E78-9F80-F70400F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CCD9-5071-4CFF-9F98-9307E9D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BEA7-DBAD-4CA4-A1E8-6B0BE34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AC2A-34A6-461D-A336-A2E479B9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C784-D059-4BDD-B4EA-24B4C94E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722-1E42-4C23-B6EB-E86B50D9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B7A9-B32C-4EC7-8495-9A4C753B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5346-E3D7-484C-B386-00711C59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A030-3109-457B-A669-E82FF63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E712-BBAA-4C92-B6DA-97E363D6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946B-0B6B-47CF-B4AC-C569DDF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BBF2-4609-4C95-8D95-01FE174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D6DF-19E4-4CFA-B33F-476A4AE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A44F-89E4-4D6A-9ACC-EF0030DE2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751-C612-4195-BF98-ED743B66FD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tinetwork.org/" TargetMode="External"/><Relationship Id="rId2" Type="http://schemas.openxmlformats.org/officeDocument/2006/relationships/hyperlink" Target="http://www.rti4success.org/" TargetMode="External"/><Relationship Id="rId3" Type="http://schemas.openxmlformats.org/officeDocument/2006/relationships/hyperlink" Target="http://www.nasde.org/" TargetMode="External"/><Relationship Id="rId4" Type="http://schemas.openxmlformats.org/officeDocument/2006/relationships/hyperlink" Target="http://www.studentprogress.org/default.asp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ading.uoregon.edu/" TargetMode="External"/><Relationship Id="rId2" Type="http://schemas.openxmlformats.org/officeDocument/2006/relationships/hyperlink" Target="http://www.fcrr.org/" TargetMode="External"/><Relationship Id="rId3" Type="http://schemas.openxmlformats.org/officeDocument/2006/relationships/hyperlink" Target="http://www.texasreading.org/utcrla/materials" TargetMode="External"/><Relationship Id="rId4" Type="http://schemas.openxmlformats.org/officeDocument/2006/relationships/hyperlink" Target="http://www.texasreading.org/utcrla/materials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upski.org/puplications.htm" TargetMode="External"/><Relationship Id="rId2" Type="http://schemas.openxmlformats.org/officeDocument/2006/relationships/hyperlink" Target="http://www.interventioncentral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sponse to Intervention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Kristy Shinav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TI is a Framework – Not a Pr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rings together general, special, compensatory, and gifted education with the goal of providing a system of education that meets the needs of all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 is also not a special education initiativ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 data gathered during the RTI process can also be used as part of a comprehensive evaluation to determine if a student has a specific learning dis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RTI will be implemented in Swant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1:  all students will receive core curriculum (Haughton-Mifflin) and DIBELS ORF assessment 3 times each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2:  yellow zone students will receive core curriculum and Read Naturally plus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3:  red zone students will receive core curriculum, diagnostic testing to determine what targeted interventions are needed, and weekly progress monitoring to see if intervention should continue or be al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re Can I Find Resources to Support RTI Implementa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TI Action Network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rtinetwork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on Response to Intervention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rti4success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Interven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luepri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es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http://www.nasd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on Student Progress Monitoring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http://www.studentprogress.org/default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earch-Based Literacy Instruction and Interven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Oregon – Big Ideas in Beginning Reading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reading.uoregon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orida Center for Reading Research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www.fcr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ughn Gross Center for Reading and Language Arts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www.texasreading.org/utcrla/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search-Based Literacy Instruction and Interventions cont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pski Foundations – Secondary Literacy Instruction and Intervention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stupski.org/puplications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 Central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interventioncentral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Response to Intervention (RtI)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lti-tiered method of service delivery in which all students are provided an appropriate level of evidence-based instruction based on their academ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s frequent assessment of students’ progress, data-based decision making, and placement of students within a range of instructional sup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at do we need to be able to implement a Response to Intervention model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system that includes periodic universal screening and frequent/continuous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system that includes scientifically supported core curriculum and scientifically supported Tier 2 and Tier 3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anagement and decision making system that includes methods for organizing data and a “play book” for mak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amples of Assessment Systems used for RT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BELS:  Dynamic Indicators of Basic Early Literacy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Sw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1 – All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Standards – Aligned Curriculum and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differentiated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ally-based Reading and Math instruction (NCLB requir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 assessment practices (universal screening) for early identification of students needing more intensive instruction and intervention to accelerate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2 – Targeted/Supplemental Intervention for some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bout 10 – 15 % of stud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interventions that are data-driven, research-based and automatically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s delivered through flexible scheduling, and flexible use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onitoring of student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3 – Individualized Intensive Interventions for a Few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bout 1 – 5 % of stud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ed interventions for the most severe academic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requent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data gathered through targeted and intensive interventions can be used to determine eligibility for special education and the ongoing provision of these interventions within special education if a student is determined to be a student with a dis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RTI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mphasis on early intervention and prevention --It is more effective to identify and intervene with student needs earlier than to remediat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poor instructional quality as an explanation for learning problems (curriculum/content – not necessarily the teac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ffects of RTI: 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owing the Gre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 core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prevention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s the number of students needing intensive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946840" y="3173400"/>
            <a:ext cx="1981080" cy="1716120"/>
            <a:chOff x="5946840" y="3173400"/>
            <a:chExt cx="1981080" cy="1716120"/>
          </a:xfrm>
        </p:grpSpPr>
        <p:sp>
          <p:nvSpPr>
            <p:cNvPr id="133" name="_s9229"/>
            <p:cNvSpPr/>
            <p:nvPr/>
          </p:nvSpPr>
          <p:spPr>
            <a:xfrm flipV="1">
              <a:off x="6607080" y="3173400"/>
              <a:ext cx="660600" cy="571680"/>
            </a:xfrm>
            <a:custGeom>
              <a:avLst/>
              <a:gdLst>
                <a:gd name="textAreaLeft" fmla="*/ 236880 w 660600"/>
                <a:gd name="textAreaRight" fmla="*/ 423720 w 660600"/>
                <a:gd name="textAreaTop" fmla="*/ 205200 h 571680"/>
                <a:gd name="textAreaBottom" fmla="*/ 36648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-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9230"/>
            <p:cNvSpPr/>
            <p:nvPr/>
          </p:nvSpPr>
          <p:spPr>
            <a:xfrm flipV="1">
              <a:off x="6276960" y="3744360"/>
              <a:ext cx="1320840" cy="572760"/>
            </a:xfrm>
            <a:custGeom>
              <a:avLst/>
              <a:gdLst>
                <a:gd name="textAreaLeft" fmla="*/ 290520 w 1320840"/>
                <a:gd name="textAreaRight" fmla="*/ 1030320 w 1320840"/>
                <a:gd name="textAreaTop" fmla="*/ 126000 h 572760"/>
                <a:gd name="textAreaBottom" fmla="*/ 446760 h 57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Yel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– 1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_s9231"/>
            <p:cNvSpPr/>
            <p:nvPr/>
          </p:nvSpPr>
          <p:spPr>
            <a:xfrm flipV="1">
              <a:off x="5946840" y="4317840"/>
              <a:ext cx="1981080" cy="571680"/>
            </a:xfrm>
            <a:custGeom>
              <a:avLst/>
              <a:gdLst>
                <a:gd name="textAreaLeft" fmla="*/ 343800 w 1981080"/>
                <a:gd name="textAreaRight" fmla="*/ 1637280 w 1981080"/>
                <a:gd name="textAreaTop" fmla="*/ 99000 h 571680"/>
                <a:gd name="textAreaBottom" fmla="*/ 47268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 – 9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ferred Customer</cp:lastModifiedBy>
  <dcterms:modified xsi:type="dcterms:W3CDTF">2008-11-03T00:55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