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2D19-88C2-42B3-B540-7B48A273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6ED6-2ACC-4210-9EFE-A680E0D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CEA0-3138-41F2-A494-6377DD54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D40B-2755-471D-B1F3-D0DA8A91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54E7-49BE-4CAC-A7D2-5B97C6A3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0234-9D71-4A2F-A8D4-F596253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3E57-6EA9-496B-B138-13FAF68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8BA-EA8F-4F0A-9245-D76F0A2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E19A-8975-4288-821B-631E7D5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5C4-46DF-4128-9AF2-A02157F8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9F05-C675-4BC2-969A-49E67E5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FAE1-38E4-401E-AABF-DAC47D2D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AA9-F30C-4FC7-A07E-DBCEA20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4DE-CD40-4BBB-BDB6-C0A9FFB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8E3-F64E-4B1D-97BB-DCAF426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9DD-A833-4A6B-992A-8E0019BD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E982-C3B7-4D96-BB14-91024C90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5775-17F7-4120-B46D-9A720D1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B54B-1E66-4F4D-BDA4-64B2552E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DA03-D1C0-4A45-B07E-97F3609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E1E7-A7E9-4183-8BD7-6DC75FB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E5FA-557F-4286-821E-BE320BE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21A9-1F42-4493-8F33-3A4355E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04DC-26EA-4BB9-969D-0B2ECF9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6A4E-7C63-46FF-A166-FA6B6E6BBE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07A-27D9-496C-9FE4-F79935C20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tinetwork.org/" TargetMode="External"/><Relationship Id="rId2" Type="http://schemas.openxmlformats.org/officeDocument/2006/relationships/hyperlink" Target="http://www.rti4success.org/" TargetMode="External"/><Relationship Id="rId3" Type="http://schemas.openxmlformats.org/officeDocument/2006/relationships/hyperlink" Target="http://www.nasde.org/" TargetMode="External"/><Relationship Id="rId4" Type="http://schemas.openxmlformats.org/officeDocument/2006/relationships/hyperlink" Target="http://www.studentprogress.org/default.asp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eading.uoregon.edu/" TargetMode="External"/><Relationship Id="rId2" Type="http://schemas.openxmlformats.org/officeDocument/2006/relationships/hyperlink" Target="http://www.fcrr.org/" TargetMode="External"/><Relationship Id="rId3" Type="http://schemas.openxmlformats.org/officeDocument/2006/relationships/hyperlink" Target="http://www.texasreading.org/utcrla/materials" TargetMode="External"/><Relationship Id="rId4" Type="http://schemas.openxmlformats.org/officeDocument/2006/relationships/hyperlink" Target="http://www.texasreading.org/utcrla/materials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upski.org/puplications.htm" TargetMode="External"/><Relationship Id="rId2" Type="http://schemas.openxmlformats.org/officeDocument/2006/relationships/hyperlink" Target="http://www.interventioncentral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 Kristy Shinav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TI is a Framework – Not a Pr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rings together general, special, compensatory, and gifted education with the goal of providing a system of education that meets the needs of all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t is also not a special education initiativ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 data gathered during the RTI process can also be used as part of a comprehensive evaluation to determine if a student has a specific learning dis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RTI will be implemented in Swant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1:  all students will receive core curriculum (Haughton-Mifflin) and DIBELS ORF assessment 3 times each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2:  yellow zone students will receive core curriculum and Read Naturally pl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3:  red zone students will receive core curriculum, diagnostic testing to determine what targeted interventions are needed, and weekly progress monitoring to see if intervention should continue or be al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re Can I Find Resources to Support RTI Implementa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Action Network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rtinetwork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Response to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rti4success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Interven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luepri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e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www.nasd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enter on Student Progress Monitor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http://www.studentprogress.org/default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earch-Based Literacy Instruction and Interven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Oregon – Big Ideas in Beginning Reading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reading.uoregon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rida Center for Reading Research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ww.fcr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ughn Gross Center for Reading and Language Arts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www.texasreading.org/utcrla/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search-Based Literacy Instruction and Interventions cont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pski Foundations – Secondary Literacy Instruction and Intervention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stupski.org/puplications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 Central: 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interventioncentral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Response to Intervention (RtI)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lti-tiered method of service delivery in which all students are provided an appropriate level of evidence-based instruction based on their academic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s frequent assessment of students’ progress, data-based decision making, and placement of students within a range of instructional sup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at do we need to be able to implement a Response to Intervention model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system that includes periodic universal screening and frequent/continuous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system that includes scientifically supported core curriculum and scientifically supported Tier 2 and Tier 3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management and decision making system that includes methods for organizing data and a “play book” for mak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amples of Assessment Systems used for RT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BELS:  Dynamic Indicators of Basic Early Literacy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w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1 – All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Standards – Aligned Curriculum an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differentiated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ally-based Reading and Math instruction (NCLB requir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assessment practices (universal screening) for early identification of students needing more intensive instruction and intervention to accelerate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2 – Targeted/Supplemental Intervention for some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0 – 1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interventions that are data-driven, research-based and automatically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 delivered through flexible scheduling, and flexible use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monitoring of student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ier 3 – Individualized Intensive Interventions for a Few Students</a:t>
            </a:r>
            <a:br>
              <a:rPr sz="35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bout 1 – 5 % of stud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ed interventions for the most severe academic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requent progress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data gathered through targeted and intensive interventions can be used to determine eligibility for special education and the ongoing provision of these interventions within special education if a student is determined to be a student with a 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 from 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RTI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mphasis on early intervention and prevention --It is more effective to identify and intervene with student needs earlier than to remediat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poor instructional quality as an explanation for learning problems (curriculum/content – not necessarily the teac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ffects of RTI: 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owing the Gree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 core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prevention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the number of students needing intensiv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946840" y="3173400"/>
            <a:ext cx="1981080" cy="1716120"/>
            <a:chOff x="5946840" y="3173400"/>
            <a:chExt cx="1981080" cy="1716120"/>
          </a:xfrm>
        </p:grpSpPr>
        <p:sp>
          <p:nvSpPr>
            <p:cNvPr id="133" name="_s9229"/>
            <p:cNvSpPr/>
            <p:nvPr/>
          </p:nvSpPr>
          <p:spPr>
            <a:xfrm flipV="1">
              <a:off x="6607080" y="3173400"/>
              <a:ext cx="660600" cy="571680"/>
            </a:xfrm>
            <a:custGeom>
              <a:avLst/>
              <a:gdLst>
                <a:gd name="textAreaLeft" fmla="*/ 236880 w 660600"/>
                <a:gd name="textAreaRight" fmla="*/ 423720 w 660600"/>
                <a:gd name="textAreaTop" fmla="*/ 205200 h 571680"/>
                <a:gd name="textAreaBottom" fmla="*/ 3664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-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9230"/>
            <p:cNvSpPr/>
            <p:nvPr/>
          </p:nvSpPr>
          <p:spPr>
            <a:xfrm flipV="1">
              <a:off x="6276960" y="3744360"/>
              <a:ext cx="1320840" cy="572760"/>
            </a:xfrm>
            <a:custGeom>
              <a:avLst/>
              <a:gdLst>
                <a:gd name="textAreaLeft" fmla="*/ 290520 w 1320840"/>
                <a:gd name="textAreaRight" fmla="*/ 1030320 w 1320840"/>
                <a:gd name="textAreaTop" fmla="*/ 126000 h 572760"/>
                <a:gd name="textAreaBottom" fmla="*/ 446760 h 57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Yel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 – 1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_s9231"/>
            <p:cNvSpPr/>
            <p:nvPr/>
          </p:nvSpPr>
          <p:spPr>
            <a:xfrm flipV="1">
              <a:off x="5946840" y="4317840"/>
              <a:ext cx="1981080" cy="571680"/>
            </a:xfrm>
            <a:custGeom>
              <a:avLst/>
              <a:gdLst>
                <a:gd name="textAreaLeft" fmla="*/ 343800 w 1981080"/>
                <a:gd name="textAreaRight" fmla="*/ 1637280 w 1981080"/>
                <a:gd name="textAreaTop" fmla="*/ 99000 h 571680"/>
                <a:gd name="textAreaBottom" fmla="*/ 472680 h 5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78f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 – 9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eferred Customer</cp:lastModifiedBy>
  <dcterms:modified xsi:type="dcterms:W3CDTF">2008-11-03T00:55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