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E734-F85F-4120-98DB-4604231C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A1B-BFC0-4E25-B893-7F709272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1166-E08F-41DD-BEE8-521CF2FD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EE85-A98B-4C72-AD25-D1B054C9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2AB6-11D6-40E1-88CC-1F817817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5BF9-7408-4A52-BB5A-C32D5820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ABFB-C852-4067-AF34-1CD89497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568-0CBE-4C00-86D0-0C80C5A3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30B2-AE32-4C5C-9745-DD83E690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57F1-EEF7-4EB0-AF53-B8FF7FC1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67E-9B2B-4D5E-8681-792ED048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806E-5B0F-44D2-B6F8-23C6665D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5916-F308-470A-9235-F09E28B3B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369720"/>
            <a:ext cx="7993080" cy="21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iez nuevas competencias para enseña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124000" y="278136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ETENCIA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933720"/>
            <a:ext cx="8424720" cy="22874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Implicar a los alumnos en sus aprendizajes y su trabaj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26028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- Favorecer la definición de un proyecto personal del alum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765000"/>
            <a:ext cx="856908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itemos desmotivar” a los alumnos que tienen un proyecto personal, la escuela apenas les ofrece Ánimos excepto si su proyecto coincide milagrosamente con el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060640"/>
            <a:ext cx="856908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sar que los alumnos tuvieran un “proyecto personal” esto parece una mentira, y esto se enmascara con el carácter obligatorio de la enseñanza que producen el “proyecto personal del prisioner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3357720"/>
            <a:ext cx="856908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aspecto de esta competencia en los maestros, es identificar los proyectos personales existentes, estos proyectos son frágiles, no siempre racionales hi justificables, pero son verdaderos motores de nuestra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4869000"/>
            <a:ext cx="856908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que hacer con los alumnos que no tienen proyecto personal, es este caso es legítimo empujar al alumnos a hacerse preguntas, hacer proyectos, incluir su trabajo en una perspectiva de medio o largo plazo. Del tal forma que sea capaz de formar proyectos, realizarlos evaluarl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333360"/>
            <a:ext cx="8642160" cy="157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aquí el probl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puedo hacer nada por él, si no quiere curars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puedo hacer nada por él, si no quiere aprende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205000"/>
            <a:ext cx="8642160" cy="228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maestros nos encontramos constantemente que los alumnos no han elegido libremente aprender y por lo tanto en algunos casos no quieren trabajar o lo hace solamente por cumplir y quizá nos darían ganas de decirles: “Si no quieres hacer los trabajos ni aprender, vete mejor a tu casa, nadie te obliga a venir a la escuel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4869000"/>
            <a:ext cx="8642160" cy="1557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ngún profesor pierde la esperanza de tener puros alumnos motivados, espera que sus alumnos se impliquen en su trabajo, manifiesten e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seo de saber y la voluntad de apre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547560"/>
            <a:ext cx="864216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 lo tanto, la motivación se considera como una condición previa, al hecho educativo y cuya fuerza no depende del profe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2698920"/>
            <a:ext cx="8642160" cy="3141360"/>
          </a:xfrm>
          <a:prstGeom prst="rect">
            <a:avLst/>
          </a:prstGeom>
          <a:solidFill>
            <a:srgbClr val="00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dríamos sacar la conclusión, de qu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a competencia y las ganas de desarrolla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seo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de sabe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cisión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de aprende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está en el corazón del profes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333360"/>
            <a:ext cx="8642160" cy="3632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este sentido, los profesores asumen diversas actitu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os, tratan de desarrollar la motivación de los alumnos aunque piensan que ese nos es su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ros se limitan a ser exigentes para su mate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y quienes se dedican a recordar las consecuencias catastróficas de una falta de trabajo y de éx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ros dedican gran parte de su tiempo a animar, a reforzar una cierta curios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bien utilizan el lenguaje de los centros de inter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4221000"/>
            <a:ext cx="8642160" cy="2288520"/>
          </a:xfrm>
          <a:prstGeom prst="rect">
            <a:avLst/>
          </a:prstGeom>
          <a:solidFill>
            <a:srgbClr val="00ff99"/>
          </a:solidFill>
          <a:ln w="381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 embargo, muy pocos profesores están dispuestos a pensar: “ Un buen número de mis alumnos no ven ni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interés, ni la utilidad de los conocimient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que deseo hacerles aprender, por lo que dedicaré una parte de mi trabajo a desarrollar en ellos e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seo de saber y la decisión de aprend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60280"/>
            <a:ext cx="8496000" cy="1191240"/>
          </a:xfrm>
          <a:prstGeom prst="rect">
            <a:avLst/>
          </a:prstGeom>
          <a:solidFill>
            <a:srgbClr val="00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rrolla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deseo de saber y la decisión de apren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s una competencia de tipo didáctico, epistemológico y rel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700280"/>
            <a:ext cx="8496000" cy="48790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 competencia tiene otras competencias más específ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- Suscitar el deseo de aprender, explicar la relación con el comportamiento, el sentido del trabajo escolar y desarrollar la capacidad de autoevaluación en el ni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- Instituir y hacer funcionar el consejo de alumnos y negociar con ellos varios tipos de reglas y de oblig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- Ofrecer actividades de formación con op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- Favorecer la definición de un proyecto personal del alum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33336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- Suscitar el deseo de aprender, explicar la relación con el comportamiento, el sentido del trabajo escolar y desarrollar la capacidad de autoevaluación en el ni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3236760"/>
            <a:ext cx="230328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distinción entre deseo de saber y decisión de ap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84280"/>
            <a:ext cx="4465440" cy="2157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ersona que disfrutan aprendiendo a aprender, poco les importa el resultado, lo importante es el proceso, una vez finalizado, pasan a otra c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te caso, bastará que el profesor proponga desafíos intelectuales y probl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43280" y="35082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os de 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27640" y="4365720"/>
            <a:ext cx="4465440" cy="2157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ayoría de las personas se introducen el juego del aprendizaje si se ofrecen situaciones abiertas, estimulantes e interes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aprendizaje no debe ser un vía crucis, se puede aprender riendo, jugando, disfruta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4" idx="3"/>
            <a:endCxn id="56" idx="1"/>
          </p:cNvCxnSpPr>
          <p:nvPr/>
        </p:nvCxnSpPr>
        <p:spPr>
          <a:xfrm flipV="1">
            <a:off x="2553840" y="3828600"/>
            <a:ext cx="289440" cy="8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6" idx="3"/>
            <a:endCxn id="55" idx="1"/>
          </p:cNvCxnSpPr>
          <p:nvPr/>
        </p:nvCxnSpPr>
        <p:spPr>
          <a:xfrm flipV="1">
            <a:off x="4066920" y="2565000"/>
            <a:ext cx="361080" cy="1264320"/>
          </a:xfrm>
          <a:prstGeom prst="bentConnector3">
            <a:avLst>
              <a:gd name="adj1" fmla="val 497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6" idx="3"/>
            <a:endCxn id="57" idx="1"/>
          </p:cNvCxnSpPr>
          <p:nvPr/>
        </p:nvCxnSpPr>
        <p:spPr>
          <a:xfrm>
            <a:off x="4066920" y="3828960"/>
            <a:ext cx="361080" cy="1618560"/>
          </a:xfrm>
          <a:prstGeom prst="bentConnector3">
            <a:avLst>
              <a:gd name="adj1" fmla="val 497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584280"/>
            <a:ext cx="8642160" cy="4989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r lo consiguiente, las estrategias de los profesores pueden desarrollarse en un doble registr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00000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r, intensificar, diversificar el deseo de saber.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señar es reforzar la decisión de aprend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00000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vorecer la decisión de aprender.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señar es también estimular el deseo de sa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33336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- Instituir y hacer funcionar el consejo de alumnos y negociar con ellos varios tipos de reglas y de oblig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333440"/>
            <a:ext cx="86421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la interrelación grupal, es necesario desarrollar la construcción de sentido la cual deberá se diferenciada y sobre todo incluirse en un  diálogo singular con un alumno o un grupo pequ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2739960"/>
            <a:ext cx="86421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consejo de clase es un lugar donde es posible hacer frente abiertamente a la distancia entre el programa y el sentido que los alumnos dan a su trabajo ya que en cada clase existe un contrato pedagógico y didáctico en donde implícitamente se fijan algunas reglas del juego en torno al cono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4756320"/>
            <a:ext cx="86421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relación con el conocimiento, puede ser redefinida en la clase, a merced de una buena negociación del contrato didáctico, lo que evidentemente supone, por lo que se refiere al profesor, la voluntad y la capacidad de escuchar a los alumnos, ayudarlos a formar sus pensamientos y a tener en cuenta sus pala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333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- Ofrecer actividades de formación con op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988920"/>
            <a:ext cx="8569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da uno somos capaces de proponer actividades equivalentes en ciertos mo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2108160"/>
            <a:ext cx="85690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estandarización de las actividades de aprendizaje, parece ser la regla, la diversificación de la actividades sigue siendo la excepción: no pensamos en ello sistemáticamente y renunciamos a ello si supone problemas de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870360"/>
            <a:ext cx="8569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actividad de la cual el alumno no elige ningún componente, tiene muy pocas posibilidades de implicar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5060880"/>
            <a:ext cx="85690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ando la organización del trabajo es rígida y no deja ningún margen a la persona para adaptar la tarea a sus ritmos, su cuerpo, sus preferencias, su visión de las cosas, provoca el cansancio, el estrés, la insatisfacción el sentimiento de alienación y la sinraz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22:37:37Z</dcterms:created>
  <dc:creator>Gabriela Lara Salazar</dc:creator>
  <dc:description/>
  <dc:language>en-US</dc:language>
  <cp:lastModifiedBy>Gabriela Lara Salazar</cp:lastModifiedBy>
  <dcterms:modified xsi:type="dcterms:W3CDTF">2007-01-11T13:35:54Z</dcterms:modified>
  <cp:revision>24</cp:revision>
  <dc:subject/>
  <dc:title>Diapositiva 1</dc:title>
</cp:coreProperties>
</file>