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916D-573D-412E-B740-CEB6A1C94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5C1C-F699-42C1-AF3C-6A31CD15D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E46D-A36D-49AC-9F58-9BC276DC1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D85A-266B-4CC9-B75A-1E7658EDC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AFDF-5E79-4018-8016-8E16972EA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27AD-20B8-4A40-A7EB-E26C61CD9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CD24-D617-4E1C-BB46-BEB8D9C76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47A0-1C5A-4A95-AE8C-B04484D8D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66EF-9572-4E02-AC9E-5395646F3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A157-DD0E-4F14-89F7-2FAEA726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A347-2083-4818-966B-F55E20A1A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5D39-D758-4C05-8626-79350CAD2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38C04-23A1-4FE1-85DB-697BF940C1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11280" y="369720"/>
            <a:ext cx="7993080" cy="21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iez nuevas competencias para enseñar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2124000" y="2781360"/>
            <a:ext cx="46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ETENCIA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3933720"/>
            <a:ext cx="8424720" cy="228744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  <a:effectLst>
            <a:outerShdw dist="107932" dir="135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Implicar a los alumnos en sus aprendizajes y su trabaj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50920" y="260280"/>
            <a:ext cx="85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- Favorecer la definición de un proyecto personal del alum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765000"/>
            <a:ext cx="8569080" cy="1008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itemos desmotivar” a los alumnos que tienen un proyecto personal, la escuela apenas les ofrece Ánimos excepto si su proyecto coincide milagrosamente con el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2060640"/>
            <a:ext cx="8569080" cy="1008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nsar que los alumnos tuvieran un “proyecto personal” esto parece una mentira, y esto se enmascara con el carácter obligatorio de la enseñanza que producen el “proyecto personal del prisioner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3357720"/>
            <a:ext cx="8569080" cy="1313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 aspecto de esta competencia en los maestros, es identificar los proyectos personales existentes, estos proyectos son frágiles, no siempre racionales hi justificables, pero son verdaderos motores de nuestra ac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4869000"/>
            <a:ext cx="8569080" cy="1618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 que hacer con los alumnos que no tienen proyecto personal, es este caso es legítimo empujar al alumnos a hacerse preguntas, hacer proyectos, incluir su trabajo en una perspectiva de medio o largo plazo. Del tal forma que sea capaz de formar proyectos, realizarlos evaluarl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0920" y="333360"/>
            <a:ext cx="8642160" cy="1572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 aquí el proble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puedo hacer nada por él, si no quiere curarse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puedo hacer nada por él, si no quiere aprende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2205000"/>
            <a:ext cx="8642160" cy="2288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s maestros nos encontramos constantemente que los alumnos no han elegido libremente aprender y por lo tanto en algunos casos no quieren trabajar o lo hace solamente por cumplir y quizá nos darían ganas de decirles: “Si no quieres hacer los trabajos ni aprender, vete mejor a tu casa, nadie te obliga a venir a la escuel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4869000"/>
            <a:ext cx="8642160" cy="1557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ingún profesor pierde la esperanza de tener puros alumnos motivados, espera que sus alumnos se impliquen en su trabajo, manifiesten el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seo de saber y la voluntad de apren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50920" y="547560"/>
            <a:ext cx="8642160" cy="119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r lo tanto, la motivación se considera como una condición previa, al hecho educativo y cuya fuerza no depende del profes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0920" y="2698920"/>
            <a:ext cx="8642160" cy="3141360"/>
          </a:xfrm>
          <a:prstGeom prst="rect">
            <a:avLst/>
          </a:prstGeom>
          <a:solidFill>
            <a:srgbClr val="00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dríamos sacar la conclusión, de que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la competencia y las ganas de desarrollar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deseo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de saber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decisión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de aprender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está en el corazón del profeso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50920" y="333360"/>
            <a:ext cx="8642160" cy="3632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 este sentido, los profesores asumen diversas actitud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os, tratan de desarrollar la motivación de los alumnos aunque piensan que ese nos es su tr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ros se limitan a ser exigentes para su mate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y quienes se dedican a recordar las consecuencias catastróficas de una falta de trabajo y de éxi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ros dedican gran parte de su tiempo a animar, a reforzar una cierta curios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 bien utilizan el lenguaje de los centros de interé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4221000"/>
            <a:ext cx="8642160" cy="2288520"/>
          </a:xfrm>
          <a:prstGeom prst="rect">
            <a:avLst/>
          </a:prstGeom>
          <a:solidFill>
            <a:srgbClr val="00ff99"/>
          </a:solidFill>
          <a:ln w="381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 embargo, muy pocos profesores están dispuestos a pensar: “ Un buen número de mis alumnos no ven ni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l interés, ni la utilidad de los conocimiento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que deseo hacerles aprender, por lo que dedicaré una parte de mi trabajo a desarrollar en ellos el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seo de saber y la decisión de aprend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4000" y="260280"/>
            <a:ext cx="8496000" cy="1191240"/>
          </a:xfrm>
          <a:prstGeom prst="rect">
            <a:avLst/>
          </a:prstGeom>
          <a:solidFill>
            <a:srgbClr val="00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arrollar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l deseo de saber y la decisión de aprend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es una competencia de tipo didáctico, epistemológico y rela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1700280"/>
            <a:ext cx="8496000" cy="48790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a competencia tiene otras competencias más específic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- Suscitar el deseo de aprender, explicar la relación con el comportamiento, el sentido del trabajo escolar y desarrollar la capacidad de autoevaluación en el niñ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- Instituir y hacer funcionar el consejo de alumnos y negociar con ellos varios tipos de reglas y de obliga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- Ofrecer actividades de formación con op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- Favorecer la definición de un proyecto personal del alum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0920" y="333360"/>
            <a:ext cx="8642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- Suscitar el deseo de aprender, explicar la relación con el comportamiento, el sentido del trabajo escolar y desarrollar la capacidad de autoevaluación en el niñ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3236760"/>
            <a:ext cx="2303280" cy="1191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distinción entre deseo de saber y decisión de apre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84280"/>
            <a:ext cx="4465440" cy="2157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 persona que disfrutan aprendiendo a aprender, poco les importa el resultado, lo importante es el proceso, una vez finalizado, pasan a otra co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este caso, bastará que el profesor proponga desafíos intelectuales y problem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43280" y="35082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os de a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27640" y="4365720"/>
            <a:ext cx="4465440" cy="2157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mayoría de las personas se introducen el juego del aprendizaje si se ofrecen situaciones abiertas, estimulantes e interesa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aprendizaje no debe ser un vía crucis, se puede aprender riendo, jugando, disfrutan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>
            <a:stCxn id="54" idx="3"/>
            <a:endCxn id="56" idx="1"/>
          </p:cNvCxnSpPr>
          <p:nvPr/>
        </p:nvCxnSpPr>
        <p:spPr>
          <a:xfrm flipV="1">
            <a:off x="2553840" y="3828600"/>
            <a:ext cx="289440" cy="86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6" idx="3"/>
            <a:endCxn id="55" idx="1"/>
          </p:cNvCxnSpPr>
          <p:nvPr/>
        </p:nvCxnSpPr>
        <p:spPr>
          <a:xfrm flipV="1">
            <a:off x="4066920" y="2565000"/>
            <a:ext cx="361080" cy="1264320"/>
          </a:xfrm>
          <a:prstGeom prst="bentConnector3">
            <a:avLst>
              <a:gd name="adj1" fmla="val 497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6" idx="3"/>
            <a:endCxn id="57" idx="1"/>
          </p:cNvCxnSpPr>
          <p:nvPr/>
        </p:nvCxnSpPr>
        <p:spPr>
          <a:xfrm>
            <a:off x="4066920" y="3828960"/>
            <a:ext cx="361080" cy="1618560"/>
          </a:xfrm>
          <a:prstGeom prst="bentConnector3">
            <a:avLst>
              <a:gd name="adj1" fmla="val 497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p:transition spd="med">
    <p:random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50920" y="584280"/>
            <a:ext cx="8642160" cy="4989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r lo consiguiente, las estrategias de los profesores pueden desarrollarse en un doble registr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01"/>
              </a:spcBef>
              <a:buClr>
                <a:srgbClr val="00000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ear, intensificar, diversificar el deseo de saber.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nseñar es reforzar la decisión de aprend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01"/>
              </a:spcBef>
              <a:buClr>
                <a:srgbClr val="00000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vorecer la decisión de aprender.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nseñar es también estimular el deseo de sa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24000" y="333360"/>
            <a:ext cx="849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- Instituir y hacer funcionar el consejo de alumnos y negociar con ellos varios tipos de reglas y de obliga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1333440"/>
            <a:ext cx="864216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 la interrelación grupal, es necesario desarrollar la construcción de sentido la cual deberá se diferenciada y sobre todo incluirse en un  diálogo singular con un alumno o un grupo pequeñ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2739960"/>
            <a:ext cx="864216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 consejo de clase es un lugar donde es posible hacer frente abiertamente a la distancia entre el programa y el sentido que los alumnos dan a su trabajo ya que en cada clase existe un contrato pedagógico y didáctico en donde implícitamente se fijan algunas reglas del juego en torno al conocimi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0920" y="4756320"/>
            <a:ext cx="864216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relación con el conocimiento, puede ser redefinida en la clase, a merced de una buena negociación del contrato didáctico, lo que evidentemente supone, por lo que se refiere al profesor, la voluntad y la capacidad de escuchar a los alumnos, ayudarlos a formar sus pensamientos y a tener en cuenta sus palab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24000" y="333360"/>
            <a:ext cx="84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- Ofrecer actividades de formación con op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988920"/>
            <a:ext cx="8569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da uno somos capaces de proponer actividades equivalentes en ciertos mom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920" y="2108160"/>
            <a:ext cx="856908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estandarización de las actividades de aprendizaje, parece ser la regla, la diversificación de la actividades sigue siendo la excepción: no pensamos en ello sistemáticamente y renunciamos a ello si supone problemas de organiz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0920" y="3870360"/>
            <a:ext cx="8569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actividad de la cual el alumno no elige ningún componente, tiene muy pocas posibilidades de implicar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0920" y="5060880"/>
            <a:ext cx="856908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ando la organización del trabajo es rígida y no deja ningún margen a la persona para adaptar la tarea a sus ritmos, su cuerpo, sus preferencias, su visión de las cosas, provoca el cansancio, el estrés, la insatisfacción el sentimiento de alienación y la sinraz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8T22:37:37Z</dcterms:created>
  <dc:creator>Gabriela Lara Salazar</dc:creator>
  <dc:description/>
  <dc:language>en-US</dc:language>
  <cp:lastModifiedBy>Gabriela Lara Salazar</cp:lastModifiedBy>
  <dcterms:modified xsi:type="dcterms:W3CDTF">2007-01-11T13:35:54Z</dcterms:modified>
  <cp:revision>24</cp:revision>
  <dc:subject/>
  <dc:title>Diapositiva 1</dc:title>
</cp:coreProperties>
</file>