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57.wmf" ContentType="image/x-wmf"/>
  <Override PartName="/ppt/media/image36.png" ContentType="image/png"/>
  <Override PartName="/ppt/media/image29.png" ContentType="image/png"/>
  <Override PartName="/ppt/media/image32.wmf" ContentType="image/x-wmf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1.png" ContentType="image/png"/>
  <Override PartName="/ppt/media/image48.png" ContentType="image/png"/>
  <Override PartName="/ppt/media/image31.wmf" ContentType="image/x-wmf"/>
  <Override PartName="/ppt/media/image28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60.png" ContentType="image/png"/>
  <Override PartName="/ppt/media/image58.wmf" ContentType="image/x-wmf"/>
  <Override PartName="/ppt/media/image6.png" ContentType="image/png"/>
  <Override PartName="/ppt/media/image18.png" ContentType="image/png"/>
  <Override PartName="/ppt/media/image25.png" ContentType="image/png"/>
  <Override PartName="/ppt/media/image22.png" ContentType="image/png"/>
  <Override PartName="/ppt/media/image59.png" ContentType="image/png"/>
  <Override PartName="/ppt/media/image20.png" ContentType="image/png"/>
  <Override PartName="/ppt/media/image21.png" ContentType="image/png"/>
  <Override PartName="/ppt/media/image56.png" ContentType="image/png"/>
  <Override PartName="/ppt/media/image17.wmf" ContentType="image/x-wmf"/>
  <Override PartName="/ppt/media/image24.png" ContentType="image/png"/>
  <Override PartName="/ppt/media/image26.png" ContentType="image/png"/>
  <Override PartName="/ppt/media/image3.png" ContentType="image/png"/>
  <Override PartName="/ppt/media/image15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2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0.png" ContentType="image/png"/>
  <Override PartName="/ppt/media/image39.gif" ContentType="image/gif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wmf" ContentType="image/x-wmf"/>
  <Override PartName="/ppt/media/image51.png" ContentType="image/png"/>
  <Override PartName="/ppt/media/image50.png" ContentType="image/png"/>
  <Override PartName="/ppt/media/image52.png" ContentType="image/png"/>
  <Override PartName="/ppt/media/image23.png" ContentType="image/png"/>
  <Override PartName="/ppt/media/image53.jpeg" ContentType="image/jpeg"/>
  <Override PartName="/ppt/media/image5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étodos Numéricos y de Simulación</a:t>
            </a:r>
            <a:endParaRPr b="0" i="1" lang="en-US" sz="1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685680" y="0"/>
            <a:ext cx="31100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ocío del Río – Dpto. Electrónica y Electromagnetismo (US)</a:t>
            </a:r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9693360"/>
            <a:ext cx="43290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rado en Física – Universidad de Sevilla</a:t>
            </a:r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BBA4-2217-4DC5-AA49-52E64CE84AA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Se pueden hacer dos observacione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1) Un polinomio de 2º orden a menudo proporciona una buena aproximación a la forma de f(x) cerca de un óptim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2) Sólo existe una parábola que conecte 3 puntos (recta </a:t>
            </a:r>
            <a:r>
              <a:rPr b="0" lang="es-E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 2 punto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La interpolación parabólica lo que hace es ajustar una parábola a los 3 puntos necesarios para establecer el bracketing de un óptim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0572-DA1D-445D-BDF9-61039038785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2BC0-60DB-4B48-A134-8C5C2A4CA8E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n geometría, un símplex o n-símplex es el análogo en n dimensiones de un triángulo. Más exactamente, un símplex es la envoltura convexa de un conjunto de (n + 1) puntos independientes afines en un espacio euclídeo de dimensión n o mayor, es decir, el conjunto de puntos tal que ningún m-plano contiene más que (m + 1) de ellos. Se dice de estos puntos que están en posición gener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or ejemplo, un 0-símplex es un punto; un 1-símplex un segmento de una línea; un 2-símplex un triángulo; un 3-símplex es un tetraedro; y un 4-símplex es un pentácoron (en cada caso, con su interior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Ojo, lo mostrado en estos dos casos no siempre es así. No siempre el método de enfriamiento simulado proporciona uno de los mínimos globales y fallan los otros método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robar con otras condiciones iniciales. Se podrá ver cómo el método de simulated annealing queda a veces atrapado en un mínimo local. Poder escapar de ellos es altamente dependiente del esquema de enfriamiento usado (control de T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Ojo, lo mostrado en estos dos casos no siempre es así. No siempre el método de enfriamiento simulado proporciona uno de los mínimos globales y fallan los otros método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robar con otras condiciones iniciales. Se podrá ver cómo el método de simulated annealing queda a veces atrapado en un mínimo local. Poder escapar de ellos es altamente dependiente del esquema de enfriamiento usado (control de T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La solución analítica es sencilla de obtener en el caso de funciones f(x) fácilmente derivabl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064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61428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8700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0064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61428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87000" y="836280"/>
            <a:ext cx="920916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6"/>
          <p:cNvGrpSpPr/>
          <p:nvPr/>
        </p:nvGrpSpPr>
        <p:grpSpPr>
          <a:xfrm>
            <a:off x="6480" y="6572160"/>
            <a:ext cx="9899640" cy="287280"/>
            <a:chOff x="6480" y="6572160"/>
            <a:chExt cx="9899640" cy="287280"/>
          </a:xfrm>
        </p:grpSpPr>
        <p:pic>
          <p:nvPicPr>
            <p:cNvPr id="1" name="Picture 16" descr=""/>
            <p:cNvPicPr/>
            <p:nvPr/>
          </p:nvPicPr>
          <p:blipFill>
            <a:blip r:embed="rId2"/>
            <a:stretch/>
          </p:blipFill>
          <p:spPr>
            <a:xfrm>
              <a:off x="331236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6" descr=""/>
            <p:cNvPicPr/>
            <p:nvPr/>
          </p:nvPicPr>
          <p:blipFill>
            <a:blip r:embed="rId3"/>
            <a:stretch/>
          </p:blipFill>
          <p:spPr>
            <a:xfrm>
              <a:off x="659412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6" descr=""/>
            <p:cNvPicPr/>
            <p:nvPr/>
          </p:nvPicPr>
          <p:blipFill>
            <a:blip r:embed="rId4"/>
            <a:stretch/>
          </p:blipFill>
          <p:spPr>
            <a:xfrm>
              <a:off x="648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25"/>
          <p:cNvGrpSpPr/>
          <p:nvPr/>
        </p:nvGrpSpPr>
        <p:grpSpPr>
          <a:xfrm>
            <a:off x="3240" y="0"/>
            <a:ext cx="9899640" cy="576360"/>
            <a:chOff x="3240" y="0"/>
            <a:chExt cx="9899640" cy="576360"/>
          </a:xfrm>
        </p:grpSpPr>
        <p:pic>
          <p:nvPicPr>
            <p:cNvPr id="5" name="Picture 16" descr=""/>
            <p:cNvPicPr/>
            <p:nvPr/>
          </p:nvPicPr>
          <p:blipFill>
            <a:blip r:embed="rId5"/>
            <a:stretch/>
          </p:blipFill>
          <p:spPr>
            <a:xfrm>
              <a:off x="330516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6" descr=""/>
            <p:cNvPicPr/>
            <p:nvPr/>
          </p:nvPicPr>
          <p:blipFill>
            <a:blip r:embed="rId6"/>
            <a:stretch/>
          </p:blipFill>
          <p:spPr>
            <a:xfrm>
              <a:off x="658872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6" descr=""/>
            <p:cNvPicPr/>
            <p:nvPr/>
          </p:nvPicPr>
          <p:blipFill>
            <a:blip r:embed="rId7"/>
            <a:stretch/>
          </p:blipFill>
          <p:spPr>
            <a:xfrm>
              <a:off x="324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Footer Placeholder 6"/>
          <p:cNvSpPr/>
          <p:nvPr/>
        </p:nvSpPr>
        <p:spPr>
          <a:xfrm>
            <a:off x="6321600" y="6588000"/>
            <a:ext cx="3584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Métodos Numéricos y de Simulación – Curso 2010/11</a:t>
            </a:r>
            <a:endParaRPr b="0" i="1" lang="en-US" sz="12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9" name="Picture 10" descr=""/>
          <p:cNvPicPr/>
          <p:nvPr/>
        </p:nvPicPr>
        <p:blipFill>
          <a:blip r:embed="rId8"/>
          <a:stretch/>
        </p:blipFill>
        <p:spPr>
          <a:xfrm>
            <a:off x="0" y="6578640"/>
            <a:ext cx="334800" cy="2793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14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-336240">
              <a:spcBef>
                <a:spcPts val="14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49280" indent="-336600">
              <a:spcBef>
                <a:spcPts val="1412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traight Connector 8"/>
          <p:cNvSpPr/>
          <p:nvPr/>
        </p:nvSpPr>
        <p:spPr>
          <a:xfrm>
            <a:off x="0" y="57168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3" name="Straight Connector 9"/>
          <p:cNvSpPr/>
          <p:nvPr/>
        </p:nvSpPr>
        <p:spPr>
          <a:xfrm>
            <a:off x="0" y="641520"/>
            <a:ext cx="9906120" cy="1440"/>
          </a:xfrm>
          <a:prstGeom prst="line">
            <a:avLst/>
          </a:prstGeom>
          <a:ln w="12708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" name="Straight Connector 11"/>
          <p:cNvSpPr/>
          <p:nvPr/>
        </p:nvSpPr>
        <p:spPr>
          <a:xfrm>
            <a:off x="0" y="6529320"/>
            <a:ext cx="9906120" cy="1800"/>
          </a:xfrm>
          <a:prstGeom prst="line">
            <a:avLst/>
          </a:prstGeom>
          <a:ln w="6336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5" name="Straight Connector 12"/>
          <p:cNvSpPr/>
          <p:nvPr/>
        </p:nvSpPr>
        <p:spPr>
          <a:xfrm>
            <a:off x="0" y="657072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16" name="Group 20"/>
          <p:cNvGrpSpPr/>
          <p:nvPr/>
        </p:nvGrpSpPr>
        <p:grpSpPr>
          <a:xfrm>
            <a:off x="452520" y="622440"/>
            <a:ext cx="857160" cy="142560"/>
            <a:chOff x="452520" y="622440"/>
            <a:chExt cx="857160" cy="142560"/>
          </a:xfrm>
        </p:grpSpPr>
        <p:sp>
          <p:nvSpPr>
            <p:cNvPr id="17" name="Oval 17"/>
            <p:cNvSpPr/>
            <p:nvPr/>
          </p:nvSpPr>
          <p:spPr>
            <a:xfrm>
              <a:off x="452520" y="622440"/>
              <a:ext cx="14256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8" name="Oval 18"/>
            <p:cNvSpPr/>
            <p:nvPr/>
          </p:nvSpPr>
          <p:spPr>
            <a:xfrm>
              <a:off x="80964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9" name="Oval 19"/>
            <p:cNvSpPr/>
            <p:nvPr/>
          </p:nvSpPr>
          <p:spPr>
            <a:xfrm>
              <a:off x="116676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20" name="Footer Placeholder 6"/>
          <p:cNvSpPr/>
          <p:nvPr/>
        </p:nvSpPr>
        <p:spPr>
          <a:xfrm>
            <a:off x="344520" y="6588000"/>
            <a:ext cx="40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Rocío del Río – Dpto. Electrónica y Electromagnetismo (US)</a:t>
            </a:r>
            <a:endParaRPr b="0" i="1" lang="en-US" sz="12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3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hyperlink" Target="http://es.wikipedia.org/wiki/Archivo:Nelder_Mead2.gif" TargetMode="Externa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3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hermetic.ch/misc/ts3/ts3demo.htm" TargetMode="External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lalena.com/ai/tsp/" TargetMode="External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9906120" cy="1800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00"/>
                </a:solidFill>
                <a:latin typeface="Calibri"/>
              </a:rPr>
              <a:t>TEMA 3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OPTIMIZACIÓN</a:t>
            </a:r>
            <a:endParaRPr b="1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-360" y="4060800"/>
            <a:ext cx="9906120" cy="18892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ocío del Río Fernánd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pto. Electrónica y Electromagnetis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Numéricos y de Simul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84520" y="5661000"/>
            <a:ext cx="6048360" cy="72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87360" y="1616040"/>
            <a:ext cx="93186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2920" indent="-32292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Minimizar una función f(x) en el intervalo c ≤ x ≤ d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inimización en una Dimensió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una variable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5240" y="2133720"/>
            <a:ext cx="3743280" cy="17492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4592520" y="2278080"/>
            <a:ext cx="5113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(x) presenta: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 mínimo global en el límite del contorno d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 mínimo local en un punto estacionario f’(x)=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568520" y="3933720"/>
            <a:ext cx="70866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2920" indent="-32292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¿Cómo encontrar el mínimo global?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contrar los puntos estacionarios a partir de las raíces de f’(x)=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valuar f(x) en el contorn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(c), f(d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22920" indent="-32292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¿Y si f(x) es difícil o imposible de derivar?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cotar el intervalo donde exista un mínim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islar el mínim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lgoritmo de optimizac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473960" y="4724280"/>
            <a:ext cx="1800360" cy="289080"/>
          </a:xfrm>
          <a:prstGeom prst="rect">
            <a:avLst/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7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13240" y="2416320"/>
            <a:ext cx="4435560" cy="3246840"/>
            <a:chOff x="5313240" y="2416320"/>
            <a:chExt cx="4435560" cy="324684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5313240" y="2416320"/>
              <a:ext cx="44355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72200" y="3402000"/>
              <a:ext cx="0" cy="122400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920" y="4648320"/>
              <a:ext cx="431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Calibri"/>
                </a:rPr>
                <a:t>x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Calibri"/>
                </a:rPr>
                <a:t>0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252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65960" y="3645000"/>
              <a:ext cx="0" cy="9795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24520" y="3860640"/>
              <a:ext cx="0" cy="7923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9840" y="4216320"/>
              <a:ext cx="0" cy="43200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056520" y="3776760"/>
              <a:ext cx="0" cy="86364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66040" y="46483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912160" y="464832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75360" y="4503600"/>
              <a:ext cx="4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0888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3892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08856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86640" y="5264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a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43840" y="5264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b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93240" y="4273560"/>
              <a:ext cx="0" cy="36036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74000" y="46544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138" name="Rectangle 3"/>
          <p:cNvSpPr/>
          <p:nvPr/>
        </p:nvSpPr>
        <p:spPr>
          <a:xfrm>
            <a:off x="272880" y="1569960"/>
            <a:ext cx="53280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tes de aislar un mínimo mediante un algoritmo de optimización debe acotarse su posición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(a, b)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dimiento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menzar con un valor inicial x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y moverse “cuesta abajo”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valuando la función en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…,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hast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llegar a un punto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n el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que f(x) crezca por primera vez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,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l mínimo estará entonces acotado en el intervalo 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on necesarios 3 puntos para establecer la acotación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63760" y="5018040"/>
            <a:ext cx="171432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93840" y="1976400"/>
            <a:ext cx="484632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acotación no debe ser precisa, sino eficiente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l paso 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+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n paso constante suele llevar a demasiadas iteracion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umentando el paso en cada iteración se alcanza el mínimo más rápid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“aprovechamos la cuesta abajo”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+1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c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∙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c &gt; 1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313240" y="2416320"/>
            <a:ext cx="4435560" cy="3246840"/>
            <a:chOff x="5313240" y="2416320"/>
            <a:chExt cx="4435560" cy="324684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5313240" y="2416320"/>
              <a:ext cx="44355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172200" y="3402000"/>
              <a:ext cx="0" cy="122400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4648320"/>
              <a:ext cx="431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Calibri"/>
                </a:rPr>
                <a:t>x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Calibri"/>
                </a:rPr>
                <a:t>0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0252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65960" y="3645000"/>
              <a:ext cx="0" cy="9795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4520" y="3860640"/>
              <a:ext cx="0" cy="7923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19840" y="4216320"/>
              <a:ext cx="0" cy="43200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56520" y="3776760"/>
              <a:ext cx="0" cy="86364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66040" y="46483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912160" y="464832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75360" y="4503600"/>
              <a:ext cx="4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0888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3892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8856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86640" y="5264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a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943840" y="5264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b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53120" y="4079880"/>
              <a:ext cx="38412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93240" y="4273560"/>
              <a:ext cx="0" cy="36036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74000" y="46544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08880" y="4110120"/>
              <a:ext cx="38412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78800" y="4110120"/>
              <a:ext cx="57636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45080" y="4110120"/>
              <a:ext cx="38448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78680" y="4525920"/>
              <a:ext cx="287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65960" y="4525920"/>
              <a:ext cx="358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09040" y="4525920"/>
              <a:ext cx="502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93240" y="4525920"/>
              <a:ext cx="863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6120" y="3678120"/>
            <a:ext cx="57636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36640" y="2637000"/>
            <a:ext cx="4876920" cy="124776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74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28520" y="264168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1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ot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78" name=""/>
          <p:cNvSpPr/>
          <p:nvPr/>
        </p:nvSpPr>
        <p:spPr>
          <a:xfrm>
            <a:off x="5097600" y="2565360"/>
            <a:ext cx="453528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103720" y="2637000"/>
            <a:ext cx="4457880" cy="1590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24520" y="4292640"/>
            <a:ext cx="46656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81" name=""/>
          <p:cNvSpPr/>
          <p:nvPr/>
        </p:nvSpPr>
        <p:spPr>
          <a:xfrm>
            <a:off x="3198960" y="378936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82" name=""/>
          <p:cNvSpPr/>
          <p:nvPr/>
        </p:nvSpPr>
        <p:spPr>
          <a:xfrm>
            <a:off x="3198960" y="4149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bracket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2868480" y="4556160"/>
            <a:ext cx="6838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1" marL="638280" indent="-338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terminar dónde está la “cuesta abajo” para el valor inicial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8280" indent="-338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verse “cuesta abajo” evaluando la función en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…, hasta llegar al punto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en el que f(x) crece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8280" indent="-33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,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8280" indent="-338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paso usado es 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i+1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c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∙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c=1.618033989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49240" y="4843440"/>
            <a:ext cx="3311640" cy="15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08520" y="2492280"/>
            <a:ext cx="4824360" cy="385596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704880" y="2492280"/>
            <a:ext cx="5904000" cy="2160720"/>
            <a:chOff x="704880" y="2492280"/>
            <a:chExt cx="5904000" cy="2160720"/>
          </a:xfrm>
        </p:grpSpPr>
        <p:sp>
          <p:nvSpPr>
            <p:cNvPr id="187" name=""/>
            <p:cNvSpPr/>
            <p:nvPr/>
          </p:nvSpPr>
          <p:spPr>
            <a:xfrm>
              <a:off x="704880" y="2852640"/>
              <a:ext cx="590400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24160" y="3213000"/>
              <a:ext cx="720720" cy="21600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32320" y="3892680"/>
              <a:ext cx="792360" cy="21564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16080" y="3895560"/>
              <a:ext cx="712800" cy="21600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24160" y="3898800"/>
              <a:ext cx="712440" cy="21600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776160" y="2492280"/>
              <a:ext cx="5832720" cy="21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94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1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ot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1204920" y="5122800"/>
            <a:ext cx="2952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distint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pasos distint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Hay otros mínim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985680" y="4979880"/>
            <a:ext cx="52884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906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318600" cy="26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29760" indent="-329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goritmo de búsqueda para encontrar un mínimo en el intervalo (a,b) con un único mínimo (intervalo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unimod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tiliza la razón áurea (golden ratio)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1.6180… para determinar la posición de dos puntos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internos a (a,b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o de los puntos internos se re-usa en la siguiente iteración para mejorar la acotación del míni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02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024520" y="4495680"/>
            <a:ext cx="3600360" cy="792360"/>
            <a:chOff x="5024520" y="4495680"/>
            <a:chExt cx="3600360" cy="792360"/>
          </a:xfrm>
        </p:grpSpPr>
        <p:sp>
          <p:nvSpPr>
            <p:cNvPr id="204" name=""/>
            <p:cNvSpPr/>
            <p:nvPr/>
          </p:nvSpPr>
          <p:spPr>
            <a:xfrm>
              <a:off x="5024520" y="492912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56520" y="4929120"/>
              <a:ext cx="13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4520" y="5216400"/>
              <a:ext cx="36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24520" y="5145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24880" y="5145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56520" y="5145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60880" y="4495680"/>
              <a:ext cx="64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89960" y="4495680"/>
              <a:ext cx="647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212" name="Rectangle 3"/>
          <p:cNvSpPr/>
          <p:nvPr/>
        </p:nvSpPr>
        <p:spPr>
          <a:xfrm>
            <a:off x="387360" y="4724280"/>
            <a:ext cx="39895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Una línea recta se dice dividida en el extremo y su proporcional cuando la línea entera es al segmento mayor como el mayor es al menor.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 algn="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uclides (300aC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767120" y="5516640"/>
                <a:ext cx="47944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⇒</m:t>
                          </m:r>
                        </m:e>
                        <m:e>
                          <m:r>
                            <m:t xml:space="preserve">φ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803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99800" y="3862080"/>
            <a:ext cx="576108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ólo se necesita un nuevo punto interior y f(x) se evalúa sólo una vez má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cada iteración el intervalo se reduce un factor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1) (~62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úmero de iteraciones n para una tolerancia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dad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695160" y="2228760"/>
            <a:ext cx="1652760" cy="1246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16" name=""/>
          <p:cNvSpPr/>
          <p:nvPr/>
        </p:nvSpPr>
        <p:spPr>
          <a:xfrm>
            <a:off x="3313080" y="2060640"/>
            <a:ext cx="2359080" cy="1563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15800" y="2251080"/>
            <a:ext cx="194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 =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1)(b-a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a+h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b-h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200160" y="836280"/>
            <a:ext cx="94327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20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032520" y="1496880"/>
            <a:ext cx="3381480" cy="4981680"/>
            <a:chOff x="6032520" y="1496880"/>
            <a:chExt cx="3381480" cy="4981680"/>
          </a:xfrm>
        </p:grpSpPr>
        <p:pic>
          <p:nvPicPr>
            <p:cNvPr id="222" name="" descr=""/>
            <p:cNvPicPr/>
            <p:nvPr/>
          </p:nvPicPr>
          <p:blipFill>
            <a:blip r:embed="rId1">
              <a:lum contrast="24000"/>
            </a:blip>
            <a:stretch/>
          </p:blipFill>
          <p:spPr>
            <a:xfrm>
              <a:off x="6032520" y="1496880"/>
              <a:ext cx="3381480" cy="498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3" name=""/>
            <p:cNvGrpSpPr/>
            <p:nvPr/>
          </p:nvGrpSpPr>
          <p:grpSpPr>
            <a:xfrm>
              <a:off x="6390000" y="3252600"/>
              <a:ext cx="215640" cy="337320"/>
              <a:chOff x="6390000" y="3252600"/>
              <a:chExt cx="215640" cy="337320"/>
            </a:xfrm>
          </p:grpSpPr>
          <p:sp>
            <p:nvSpPr>
              <p:cNvPr id="224" name=""/>
              <p:cNvSpPr/>
              <p:nvPr/>
            </p:nvSpPr>
            <p:spPr>
              <a:xfrm>
                <a:off x="6390000" y="3357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390000" y="3252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7075800" y="3252600"/>
              <a:ext cx="215640" cy="337320"/>
              <a:chOff x="7075800" y="3252600"/>
              <a:chExt cx="21564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7075800" y="3357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075800" y="3252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8856720" y="3468600"/>
              <a:ext cx="215640" cy="337320"/>
              <a:chOff x="8856720" y="3468600"/>
              <a:chExt cx="21564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8856720" y="3573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856720" y="3468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8107560" y="3468600"/>
              <a:ext cx="215640" cy="337320"/>
              <a:chOff x="8107560" y="3468600"/>
              <a:chExt cx="215640" cy="337320"/>
            </a:xfrm>
          </p:grpSpPr>
          <p:sp>
            <p:nvSpPr>
              <p:cNvPr id="233" name=""/>
              <p:cNvSpPr/>
              <p:nvPr/>
            </p:nvSpPr>
            <p:spPr>
              <a:xfrm>
                <a:off x="8107560" y="3573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07560" y="3468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96120" y="5724360"/>
              <a:ext cx="215640" cy="337320"/>
              <a:chOff x="7296120" y="5724360"/>
              <a:chExt cx="215640" cy="337320"/>
            </a:xfrm>
          </p:grpSpPr>
          <p:sp>
            <p:nvSpPr>
              <p:cNvPr id="236" name=""/>
              <p:cNvSpPr/>
              <p:nvPr/>
            </p:nvSpPr>
            <p:spPr>
              <a:xfrm>
                <a:off x="7296120" y="582912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96120" y="572436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8871120" y="5724360"/>
              <a:ext cx="215640" cy="337320"/>
              <a:chOff x="8871120" y="5724360"/>
              <a:chExt cx="215640" cy="337320"/>
            </a:xfrm>
          </p:grpSpPr>
          <p:sp>
            <p:nvSpPr>
              <p:cNvPr id="239" name=""/>
              <p:cNvSpPr/>
              <p:nvPr/>
            </p:nvSpPr>
            <p:spPr>
              <a:xfrm>
                <a:off x="8871120" y="582912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71120" y="572436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</p:grpSp>
      <p:sp>
        <p:nvSpPr>
          <p:cNvPr id="241" name="Rectangle 3"/>
          <p:cNvSpPr/>
          <p:nvPr/>
        </p:nvSpPr>
        <p:spPr>
          <a:xfrm>
            <a:off x="3079800" y="2111400"/>
            <a:ext cx="2665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612360" indent="-306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&lt;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12360" indent="-306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&gt;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b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42" name=""/>
          <p:cNvSpPr/>
          <p:nvPr/>
        </p:nvSpPr>
        <p:spPr>
          <a:xfrm>
            <a:off x="2352600" y="2421000"/>
            <a:ext cx="952560" cy="287280"/>
          </a:xfrm>
          <a:prstGeom prst="rightArrow">
            <a:avLst>
              <a:gd name="adj1" fmla="val 50000"/>
              <a:gd name="adj2" fmla="val 8289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360520" y="259884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2200" indent="-2322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Calibri"/>
              </a:rPr>
              <a:t>GS</a:t>
            </a:r>
            <a:endParaRPr b="0" i="1" lang="en-US" sz="32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360520" y="3068640"/>
            <a:ext cx="952560" cy="287280"/>
          </a:xfrm>
          <a:prstGeom prst="rightArrow">
            <a:avLst>
              <a:gd name="adj1" fmla="val 50000"/>
              <a:gd name="adj2" fmla="val 8289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781280" y="5664240"/>
                <a:ext cx="40352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m>
                      <m:m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φ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ε</m:t>
                          </m:r>
                        </m:e>
                        <m:e>
                          <m:r>
                            <m:t xml:space="preserve">⇒</m:t>
                          </m:r>
                        </m:e>
                        <m:e>
                          <m:r>
                            <m:t xml:space="preserve">n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8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097600" y="2735280"/>
            <a:ext cx="4608360" cy="20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135400" y="2773440"/>
            <a:ext cx="4553280" cy="19047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855800" y="4008600"/>
            <a:ext cx="84312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776160" y="2793960"/>
            <a:ext cx="4181760" cy="1409760"/>
          </a:xfrm>
          <a:prstGeom prst="rect">
            <a:avLst/>
          </a:prstGeom>
          <a:ln w="0">
            <a:noFill/>
          </a:ln>
        </p:spPr>
      </p:pic>
      <p:sp>
        <p:nvSpPr>
          <p:cNvPr id="25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28520" y="281160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2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4" name=""/>
          <p:cNvSpPr/>
          <p:nvPr/>
        </p:nvSpPr>
        <p:spPr>
          <a:xfrm>
            <a:off x="5024520" y="4778280"/>
            <a:ext cx="47527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5" name=""/>
          <p:cNvSpPr/>
          <p:nvPr/>
        </p:nvSpPr>
        <p:spPr>
          <a:xfrm>
            <a:off x="3622680" y="392112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6" name=""/>
          <p:cNvSpPr/>
          <p:nvPr/>
        </p:nvSpPr>
        <p:spPr>
          <a:xfrm>
            <a:off x="2505240" y="468000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goldSearch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289240" y="5086440"/>
            <a:ext cx="7418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68148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lcula el número de iteraciones necesarias para una tolerancia dada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8148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plica *GS* (transparencia anterior) ese número de veces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8148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rime el mínimo entre los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 y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 finales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200160" y="836640"/>
            <a:ext cx="9432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60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2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200160" y="836640"/>
            <a:ext cx="9432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712880" y="2530440"/>
            <a:ext cx="6121440" cy="3851280"/>
            <a:chOff x="1712880" y="2530440"/>
            <a:chExt cx="6121440" cy="3851280"/>
          </a:xfrm>
        </p:grpSpPr>
        <p:sp>
          <p:nvSpPr>
            <p:cNvPr id="264" name=""/>
            <p:cNvSpPr/>
            <p:nvPr/>
          </p:nvSpPr>
          <p:spPr>
            <a:xfrm>
              <a:off x="2270160" y="3201840"/>
              <a:ext cx="720720" cy="21600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92160" y="5643720"/>
              <a:ext cx="301680" cy="21564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82960" y="5643720"/>
              <a:ext cx="3049560" cy="21564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67200" y="3201840"/>
              <a:ext cx="720720" cy="21600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9440" y="3448080"/>
              <a:ext cx="65412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02120" y="3448080"/>
              <a:ext cx="65376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75320" y="3225960"/>
              <a:ext cx="65376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7640" y="3225960"/>
              <a:ext cx="65412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cxnSp>
          <p:nvCxnSpPr>
            <p:cNvPr id="272" name=""/>
            <p:cNvCxnSpPr>
              <a:stCxn id="271" idx="1"/>
              <a:endCxn id="269" idx="3"/>
            </p:cNvCxnSpPr>
            <p:nvPr/>
          </p:nvCxnSpPr>
          <p:spPr>
            <a:xfrm flipH="1">
              <a:off x="3755520" y="3311280"/>
              <a:ext cx="13248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70" idx="1"/>
              <a:endCxn id="268" idx="3"/>
            </p:cNvCxnSpPr>
            <p:nvPr/>
          </p:nvCxnSpPr>
          <p:spPr>
            <a:xfrm flipH="1">
              <a:off x="4543200" y="3311280"/>
              <a:ext cx="13248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4" name=""/>
            <p:cNvSpPr/>
            <p:nvPr/>
          </p:nvSpPr>
          <p:spPr>
            <a:xfrm>
              <a:off x="5373720" y="3452760"/>
              <a:ext cx="72216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59600" y="3230640"/>
              <a:ext cx="72072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cxnSp>
          <p:nvCxnSpPr>
            <p:cNvPr id="276" name=""/>
            <p:cNvCxnSpPr>
              <a:stCxn id="275" idx="1"/>
              <a:endCxn id="274" idx="3"/>
            </p:cNvCxnSpPr>
            <p:nvPr/>
          </p:nvCxnSpPr>
          <p:spPr>
            <a:xfrm flipH="1">
              <a:off x="6095160" y="3315960"/>
              <a:ext cx="6444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7" name=""/>
            <p:cNvSpPr/>
            <p:nvPr/>
          </p:nvSpPr>
          <p:spPr>
            <a:xfrm>
              <a:off x="4675320" y="3452760"/>
              <a:ext cx="653760" cy="171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59600" y="3452760"/>
              <a:ext cx="720720" cy="171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1712880" y="2530440"/>
              <a:ext cx="6121440" cy="38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 rot="5400000">
              <a:off x="2009880" y="460692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7000" y="1557360"/>
            <a:ext cx="9518760" cy="14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interpolación parabólica ajusta una parábola a los 3 puntos 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necesarios para establecer el bracketing de un ópti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posición del máximo/mínimo de esa parábola está dado p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1336680" y="2924280"/>
                <a:ext cx="5560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85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88800" y="4581360"/>
            <a:ext cx="521208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99520" indent="-29952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nuevo punto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los 2 adyacentes 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o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se usan en la siguiente iteración del algorit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419800" y="3746520"/>
            <a:ext cx="43574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ntenido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87040" y="1858680"/>
            <a:ext cx="6334200" cy="43066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9000"/>
          </a:bodyPr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de funciones de una variab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b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de funciones de una variable con condiciones de conto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1 sesión teórica + 1 sesión prác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0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097600" y="2735280"/>
            <a:ext cx="4608360" cy="20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89" name=""/>
          <p:cNvSpPr/>
          <p:nvPr/>
        </p:nvSpPr>
        <p:spPr>
          <a:xfrm>
            <a:off x="5024520" y="4778280"/>
            <a:ext cx="47527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53040" y="2766960"/>
            <a:ext cx="4524480" cy="19051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4" name=""/>
          <p:cNvSpPr/>
          <p:nvPr/>
        </p:nvSpPr>
        <p:spPr>
          <a:xfrm>
            <a:off x="1863720" y="4003560"/>
            <a:ext cx="88596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28520" y="281160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3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7" name=""/>
          <p:cNvSpPr/>
          <p:nvPr/>
        </p:nvSpPr>
        <p:spPr>
          <a:xfrm>
            <a:off x="3622680" y="392112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8" name=""/>
          <p:cNvSpPr/>
          <p:nvPr/>
        </p:nvSpPr>
        <p:spPr>
          <a:xfrm>
            <a:off x="2576520" y="450864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parabInterp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2289240" y="4941720"/>
            <a:ext cx="7418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23880" indent="-331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tiliza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a,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(a+b)/2,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b para ajustar la parábola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23880" indent="-331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puta el mínimo de la parábola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23880" indent="-331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para los valores de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y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 para eliminar una de las coordenadas anteriores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776160" y="2781360"/>
            <a:ext cx="41817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3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5" name=""/>
          <p:cNvSpPr/>
          <p:nvPr/>
        </p:nvSpPr>
        <p:spPr>
          <a:xfrm>
            <a:off x="1914480" y="3524400"/>
            <a:ext cx="720720" cy="21564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6" name=""/>
          <p:cNvSpPr/>
          <p:nvPr/>
        </p:nvSpPr>
        <p:spPr>
          <a:xfrm>
            <a:off x="1530360" y="4260960"/>
            <a:ext cx="301680" cy="21564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7" name=""/>
          <p:cNvSpPr/>
          <p:nvPr/>
        </p:nvSpPr>
        <p:spPr>
          <a:xfrm>
            <a:off x="3608280" y="3524400"/>
            <a:ext cx="720720" cy="21564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8" name=""/>
          <p:cNvSpPr/>
          <p:nvPr/>
        </p:nvSpPr>
        <p:spPr>
          <a:xfrm>
            <a:off x="2774880" y="3792600"/>
            <a:ext cx="708120" cy="17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9" name=""/>
          <p:cNvSpPr/>
          <p:nvPr/>
        </p:nvSpPr>
        <p:spPr>
          <a:xfrm>
            <a:off x="4476600" y="3554280"/>
            <a:ext cx="706680" cy="17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10" name=""/>
          <p:cNvCxnSpPr>
            <a:stCxn id="309" idx="1"/>
            <a:endCxn id="308" idx="3"/>
          </p:cNvCxnSpPr>
          <p:nvPr/>
        </p:nvCxnSpPr>
        <p:spPr>
          <a:xfrm flipH="1">
            <a:off x="3483000" y="3639960"/>
            <a:ext cx="99396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2759040" y="3543480"/>
            <a:ext cx="723960" cy="19656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12" name=""/>
          <p:cNvSpPr/>
          <p:nvPr/>
        </p:nvSpPr>
        <p:spPr>
          <a:xfrm>
            <a:off x="3608280" y="3789360"/>
            <a:ext cx="723960" cy="19692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13" name=""/>
          <p:cNvSpPr/>
          <p:nvPr/>
        </p:nvSpPr>
        <p:spPr>
          <a:xfrm>
            <a:off x="1909800" y="4040280"/>
            <a:ext cx="708120" cy="17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14" name=""/>
          <p:cNvSpPr/>
          <p:nvPr/>
        </p:nvSpPr>
        <p:spPr>
          <a:xfrm>
            <a:off x="4475160" y="3801960"/>
            <a:ext cx="706320" cy="17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15" name=""/>
          <p:cNvCxnSpPr>
            <a:stCxn id="314" idx="1"/>
            <a:endCxn id="313" idx="3"/>
          </p:cNvCxnSpPr>
          <p:nvPr/>
        </p:nvCxnSpPr>
        <p:spPr>
          <a:xfrm flipH="1">
            <a:off x="2617200" y="3887640"/>
            <a:ext cx="185796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274760" y="2820960"/>
            <a:ext cx="73962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 fminbn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ATLAB tiene una función propia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minbnd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que utiliza el método de Brent para que encontrar el mínimo de una función de una vari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[xmin, fval] = fminbnd(@func, a,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algoritmo combina el golden search (fiable, pero lento) y la interpolación parabólica (rápida, pero poco fiab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pueden pasar opciones a la función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minbnd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utilizando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ptimse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como cuarto argum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ptions = optimset(‘display’, ‘iter’, ‘TolX’,1e-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0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 fminbn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4" name=""/>
          <p:cNvSpPr/>
          <p:nvPr/>
        </p:nvSpPr>
        <p:spPr>
          <a:xfrm>
            <a:off x="3402000" y="4106880"/>
            <a:ext cx="6303960" cy="234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5" name=""/>
          <p:cNvSpPr/>
          <p:nvPr/>
        </p:nvSpPr>
        <p:spPr>
          <a:xfrm>
            <a:off x="3328920" y="6334200"/>
            <a:ext cx="64483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6" name=""/>
          <p:cNvSpPr/>
          <p:nvPr/>
        </p:nvSpPr>
        <p:spPr>
          <a:xfrm>
            <a:off x="1844640" y="3641760"/>
            <a:ext cx="59868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28520" y="261792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4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9" name=""/>
          <p:cNvSpPr/>
          <p:nvPr/>
        </p:nvSpPr>
        <p:spPr>
          <a:xfrm>
            <a:off x="2035080" y="414972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0" name=""/>
          <p:cNvSpPr/>
          <p:nvPr/>
        </p:nvSpPr>
        <p:spPr>
          <a:xfrm>
            <a:off x="1639800" y="444960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urier New"/>
              </a:rPr>
              <a:t>fminbnd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1" name=""/>
          <p:cNvSpPr/>
          <p:nvPr/>
        </p:nvSpPr>
        <p:spPr>
          <a:xfrm>
            <a:off x="3728880" y="4221000"/>
            <a:ext cx="100836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2" name=""/>
          <p:cNvSpPr/>
          <p:nvPr/>
        </p:nvSpPr>
        <p:spPr>
          <a:xfrm>
            <a:off x="3610080" y="4724280"/>
            <a:ext cx="487188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3513240" y="4221000"/>
            <a:ext cx="6164280" cy="22100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776160" y="2595600"/>
            <a:ext cx="71517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 fminbn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7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4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284640"/>
            <a:ext cx="1079640" cy="19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0" name=""/>
          <p:cNvSpPr/>
          <p:nvPr/>
        </p:nvSpPr>
        <p:spPr>
          <a:xfrm>
            <a:off x="1136520" y="4946760"/>
            <a:ext cx="301680" cy="21564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1" name=""/>
          <p:cNvSpPr/>
          <p:nvPr/>
        </p:nvSpPr>
        <p:spPr>
          <a:xfrm>
            <a:off x="853920" y="6110280"/>
            <a:ext cx="3227400" cy="21600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98480" y="2637000"/>
            <a:ext cx="88567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5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5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-10 ≤ x ≤ 10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7" name=""/>
          <p:cNvSpPr/>
          <p:nvPr/>
        </p:nvSpPr>
        <p:spPr>
          <a:xfrm>
            <a:off x="5816520" y="3429000"/>
            <a:ext cx="380052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6245280" y="3551400"/>
            <a:ext cx="360360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distintos?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bar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-10, -6, 1, 4, 8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Por qué se obtienen resultados distint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l es el mínimo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ómo encontrarlo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5952960" y="3565440"/>
            <a:ext cx="528840" cy="12826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28520" y="251784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896760" y="3433680"/>
            <a:ext cx="71928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919080" y="2492280"/>
            <a:ext cx="432108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4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857240" y="1484280"/>
            <a:ext cx="6197760" cy="48848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5181480" y="162828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248520" y="161568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8" name=""/>
          <p:cNvSpPr/>
          <p:nvPr/>
        </p:nvSpPr>
        <p:spPr>
          <a:xfrm>
            <a:off x="2505240" y="2516040"/>
            <a:ext cx="10764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9" name=""/>
          <p:cNvSpPr/>
          <p:nvPr/>
        </p:nvSpPr>
        <p:spPr>
          <a:xfrm>
            <a:off x="3957480" y="518328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60" name=""/>
          <p:cNvSpPr/>
          <p:nvPr/>
        </p:nvSpPr>
        <p:spPr>
          <a:xfrm>
            <a:off x="5492880" y="572292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61" name=""/>
          <p:cNvSpPr/>
          <p:nvPr/>
        </p:nvSpPr>
        <p:spPr>
          <a:xfrm>
            <a:off x="7005600" y="410832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62" name=""/>
          <p:cNvSpPr/>
          <p:nvPr/>
        </p:nvSpPr>
        <p:spPr>
          <a:xfrm>
            <a:off x="272880" y="1700280"/>
            <a:ext cx="172908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Min = -9.6789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 = 8.8653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3" name=""/>
          <p:cNvCxnSpPr>
            <a:stCxn id="358" idx="0"/>
            <a:endCxn id="362" idx="3"/>
          </p:cNvCxnSpPr>
          <p:nvPr/>
        </p:nvCxnSpPr>
        <p:spPr>
          <a:xfrm flipH="1" flipV="1">
            <a:off x="2001240" y="2012400"/>
            <a:ext cx="557640" cy="50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344520" y="4508640"/>
            <a:ext cx="172872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Min = -4.2711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 =  0.0158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5" name=""/>
          <p:cNvCxnSpPr>
            <a:stCxn id="359" idx="1"/>
            <a:endCxn id="364" idx="3"/>
          </p:cNvCxnSpPr>
          <p:nvPr/>
        </p:nvCxnSpPr>
        <p:spPr>
          <a:xfrm flipH="1" flipV="1">
            <a:off x="2072520" y="4820760"/>
            <a:ext cx="1901160" cy="37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8177040" y="2997360"/>
            <a:ext cx="172908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Min = 7.0689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 = 3.5823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7" name=""/>
          <p:cNvCxnSpPr>
            <a:stCxn id="361" idx="7"/>
            <a:endCxn id="366" idx="1"/>
          </p:cNvCxnSpPr>
          <p:nvPr/>
        </p:nvCxnSpPr>
        <p:spPr>
          <a:xfrm flipV="1">
            <a:off x="7097760" y="3309480"/>
            <a:ext cx="1080000" cy="8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"/>
          <p:cNvSpPr/>
          <p:nvPr/>
        </p:nvSpPr>
        <p:spPr>
          <a:xfrm>
            <a:off x="7689960" y="5013360"/>
            <a:ext cx="172872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xMin = 1.4275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fMin = -1.7757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9" name=""/>
          <p:cNvCxnSpPr>
            <a:stCxn id="360" idx="7"/>
            <a:endCxn id="368" idx="1"/>
          </p:cNvCxnSpPr>
          <p:nvPr/>
        </p:nvCxnSpPr>
        <p:spPr>
          <a:xfrm flipV="1">
            <a:off x="5584680" y="5325840"/>
            <a:ext cx="2106000" cy="41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44280" y="2781360"/>
            <a:ext cx="58453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trapezoide mostrado es la sección transversal de una viga. Su geometría se obtiene eliminando la parte superior de un triángulo de base B = 48mm y altura H = 60mm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problema consiste en encontrar la altura “y” del trapezoide que maximice el módulo de secc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 = 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/c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onde 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es el segundo momento del área transversal en torno al eje que pasa por el centroide C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ptimizando el módulo de sección se minimiza el estrés máximo por flexión de la viga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7360" y="1616040"/>
            <a:ext cx="58611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6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ptimizar el diseño de una viga para que su estrés por flexión sea míni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464160" y="3344760"/>
            <a:ext cx="3168720" cy="21812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336760" y="4843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8" name=""/>
          <p:cNvSpPr/>
          <p:nvPr/>
        </p:nvSpPr>
        <p:spPr>
          <a:xfrm>
            <a:off x="1506600" y="52070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464160" y="3344760"/>
            <a:ext cx="3168720" cy="21812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387360" y="1616040"/>
            <a:ext cx="58611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6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ptimizar el diseño de una viga para que su estrés por flexión sea míni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488880" y="3213000"/>
            <a:ext cx="56628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068640" y="5203800"/>
            <a:ext cx="2303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87360" y="1616040"/>
            <a:ext cx="5861160" cy="48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6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ptimizar el diseño de una viga para que su estrés por flexión sea míni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ubrutina para computar S(y) sin tener que derivar la expresión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func_ej_06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ximizar S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Minimizar –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y0 = 60c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y_Opt = 52.18c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0 = 7200cm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_Opt = 7864.43c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9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203560" y="4861080"/>
            <a:ext cx="649080" cy="5792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6464160" y="3344760"/>
            <a:ext cx="3168720" cy="2181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2203560" y="5479920"/>
            <a:ext cx="865080" cy="287640"/>
          </a:xfrm>
          <a:prstGeom prst="rightArrow">
            <a:avLst>
              <a:gd name="adj1" fmla="val 50000"/>
              <a:gd name="adj2" fmla="val 75188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31440" y="177120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por qué y dónde surge la optimización en la resolución de problemas científicos y técnic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conocer la diferencia entre la optimización uni- y multi-dimensi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istinguir entre óptimos globales y loca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reformular un problema de maximización para resolverlo mediante un algoritmo de minimiz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localizar el óptimo de una función de una variable mediante el golden-section sear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localizar el óptimo de una función de una variable mediante interpolación parabóli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aplicar la 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b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 MATLAB para determinar el mínimo de una función uni-dimensi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746360" y="3373560"/>
            <a:ext cx="7489800" cy="106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lase Práct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96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136520" y="1976400"/>
            <a:ext cx="856944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jercicios de optimización de funciones uni-dimensional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Optimización de funciones uni-dimensionales con restriccion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x) + Cumplimiento de igualdades y/o desigualdad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=0, i=1, 2, …, 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≤0, j=1, 2, …, n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30040" y="1978200"/>
            <a:ext cx="835200" cy="202716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1352520" y="4541760"/>
            <a:ext cx="8280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algoritmos de optimización con restricciones suelen ser complejos, específicos y difícilmente accesibl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¿Cómo adaptar el problema para poder utilizar los algoritmos vistos hasta ahora?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789120" y="3548160"/>
            <a:ext cx="3024000" cy="1511280"/>
          </a:xfrm>
          <a:prstGeom prst="rect">
            <a:avLst/>
          </a:prstGeom>
          <a:solidFill>
            <a:srgbClr val="c0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1" name=""/>
          <p:cNvSpPr/>
          <p:nvPr/>
        </p:nvSpPr>
        <p:spPr>
          <a:xfrm>
            <a:off x="4809960" y="3548160"/>
            <a:ext cx="4464360" cy="1511280"/>
          </a:xfrm>
          <a:prstGeom prst="rect">
            <a:avLst/>
          </a:prstGeom>
          <a:solidFill>
            <a:srgbClr val="00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906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ptimización de Funciones con Restriccion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4" name="Footer Placeholder 6"/>
          <p:cNvSpPr/>
          <p:nvPr/>
        </p:nvSpPr>
        <p:spPr>
          <a:xfrm>
            <a:off x="2432160" y="101520"/>
            <a:ext cx="73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con restricciones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390600" y="1793880"/>
            <a:ext cx="9171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ar algoritmos de optimización sin restricciones per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definir la función objetivo para que el incumplimiento de las condiciones de contorno (CCs) esté altamente penalizad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285840" y="3141720"/>
            <a:ext cx="3456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652680" indent="-326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PROBLEMA CO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x) sujeta a las restricciones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=0, i=1, 2, …, 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≤0, j=1, 2, …, n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4043520" y="3141720"/>
            <a:ext cx="5446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Calibri"/>
              </a:rPr>
              <a:t>PROBLEMA SI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*(x)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*(x) = f(x) +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x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033880" y="4292640"/>
                <a:ext cx="41292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con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  <m:r>
                            <m:t xml:space="preserve">+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p>
                                <m:e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  <m:r>
                                        <m:t xml:space="preserve">[</m:t>
                                      </m:r>
                                      <m:r>
                                        <m:t xml:space="preserve">0</m:t>
                                      </m:r>
                                      <m:r>
                                        <m:t xml:space="preserve">,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]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3884760" y="3914640"/>
            <a:ext cx="865080" cy="803520"/>
          </a:xfrm>
          <a:prstGeom prst="rightArrow">
            <a:avLst>
              <a:gd name="adj1" fmla="val 50000"/>
              <a:gd name="adj2" fmla="val 269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5921280" y="5084640"/>
            <a:ext cx="3961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unción de penalización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Si se cumplen las CC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P(x) = 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Si se incumple una CC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P(x)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CC</a:t>
            </a:r>
            <a:r>
              <a:rPr b="0" lang="es-E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1" name=""/>
          <p:cNvSpPr/>
          <p:nvPr/>
        </p:nvSpPr>
        <p:spPr>
          <a:xfrm>
            <a:off x="5735520" y="5276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390600" y="5950080"/>
            <a:ext cx="6146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09600" indent="-309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bién aplicable a funciones multi-variable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3" name=""/>
          <p:cNvSpPr/>
          <p:nvPr/>
        </p:nvSpPr>
        <p:spPr>
          <a:xfrm>
            <a:off x="5735520" y="48448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62040" y="4770360"/>
            <a:ext cx="3990960" cy="1103400"/>
          </a:xfrm>
          <a:prstGeom prst="rect">
            <a:avLst/>
          </a:prstGeom>
          <a:solidFill>
            <a:srgbClr val="c0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5" name=""/>
          <p:cNvSpPr/>
          <p:nvPr/>
        </p:nvSpPr>
        <p:spPr>
          <a:xfrm>
            <a:off x="5673600" y="4770360"/>
            <a:ext cx="3959280" cy="1103400"/>
          </a:xfrm>
          <a:prstGeom prst="rect">
            <a:avLst/>
          </a:prstGeom>
          <a:solidFill>
            <a:srgbClr val="00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57240" y="4363920"/>
            <a:ext cx="4595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PROBLEMA CO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x) = 0.1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-2sin(x) sujeta a las restricciones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 ≥ 0,  x ≤ 4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4805280" y="4363920"/>
            <a:ext cx="4726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Calibri"/>
              </a:rPr>
              <a:t>PROBLEMA SI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*(x)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*(x) = f(x) +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x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 P(x) = ma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-x,0) + ma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(x-4,0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906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 de Funciones con Restriccion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0" name="Footer Placeholder 6"/>
          <p:cNvSpPr/>
          <p:nvPr/>
        </p:nvSpPr>
        <p:spPr>
          <a:xfrm>
            <a:off x="2432160" y="101520"/>
            <a:ext cx="73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con restricciones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390600" y="1793880"/>
            <a:ext cx="9171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ar algoritmos de optimización sin restricciones per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definir la función objetivo para que el incumplimiento de las condiciones de contorno (CCs) esté altamente penalizad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2" name=""/>
          <p:cNvSpPr/>
          <p:nvPr/>
        </p:nvSpPr>
        <p:spPr>
          <a:xfrm>
            <a:off x="4748040" y="4954680"/>
            <a:ext cx="865440" cy="803160"/>
          </a:xfrm>
          <a:prstGeom prst="rightArrow">
            <a:avLst>
              <a:gd name="adj1" fmla="val 50000"/>
              <a:gd name="adj2" fmla="val 269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1755720" y="3246480"/>
            <a:ext cx="70851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7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con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352520" y="3395520"/>
            <a:ext cx="64944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635040" y="1469880"/>
            <a:ext cx="8640720" cy="4994280"/>
          </a:xfrm>
          <a:prstGeom prst="rect">
            <a:avLst/>
          </a:prstGeom>
          <a:ln w="0">
            <a:noFill/>
          </a:ln>
        </p:spPr>
      </p:pic>
      <p:sp>
        <p:nvSpPr>
          <p:cNvPr id="42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7" name=""/>
          <p:cNvSpPr/>
          <p:nvPr/>
        </p:nvSpPr>
        <p:spPr>
          <a:xfrm>
            <a:off x="3657600" y="5338800"/>
            <a:ext cx="1441440" cy="56160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xMin = 1.4275</a:t>
            </a: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fMin = -1.7757</a:t>
            </a: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 de Funciones con Restriccione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9" name=""/>
          <p:cNvSpPr/>
          <p:nvPr/>
        </p:nvSpPr>
        <p:spPr>
          <a:xfrm>
            <a:off x="1657440" y="1947960"/>
            <a:ext cx="852480" cy="33732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x0 = -10</a:t>
            </a: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0" name=""/>
          <p:cNvSpPr/>
          <p:nvPr/>
        </p:nvSpPr>
        <p:spPr>
          <a:xfrm>
            <a:off x="3011400" y="5950080"/>
            <a:ext cx="10800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431" name=""/>
          <p:cNvCxnSpPr>
            <a:stCxn id="430" idx="6"/>
            <a:endCxn id="427" idx="1"/>
          </p:cNvCxnSpPr>
          <p:nvPr/>
        </p:nvCxnSpPr>
        <p:spPr>
          <a:xfrm flipV="1">
            <a:off x="3119040" y="5622120"/>
            <a:ext cx="5389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1011240" y="255888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433" name=""/>
          <p:cNvCxnSpPr>
            <a:stCxn id="432" idx="6"/>
            <a:endCxn id="429" idx="1"/>
          </p:cNvCxnSpPr>
          <p:nvPr/>
        </p:nvCxnSpPr>
        <p:spPr>
          <a:xfrm flipV="1">
            <a:off x="1118880" y="2120040"/>
            <a:ext cx="53892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2816280" y="1614600"/>
            <a:ext cx="706320" cy="4464000"/>
          </a:xfrm>
          <a:prstGeom prst="rect">
            <a:avLst/>
          </a:prstGeom>
          <a:solidFill>
            <a:srgbClr val="00cc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5" name=""/>
          <p:cNvSpPr/>
          <p:nvPr/>
        </p:nvSpPr>
        <p:spPr>
          <a:xfrm>
            <a:off x="7601040" y="5452920"/>
            <a:ext cx="10800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6" name=""/>
          <p:cNvSpPr/>
          <p:nvPr/>
        </p:nvSpPr>
        <p:spPr>
          <a:xfrm>
            <a:off x="5618160" y="193500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7" name=""/>
          <p:cNvSpPr/>
          <p:nvPr/>
        </p:nvSpPr>
        <p:spPr>
          <a:xfrm>
            <a:off x="5973840" y="2043000"/>
            <a:ext cx="1584360" cy="3241800"/>
          </a:xfrm>
          <a:custGeom>
            <a:avLst/>
            <a:gdLst/>
            <a:ahLst/>
            <a:rect l="l" t="t" r="r" b="b"/>
            <a:pathLst>
              <a:path w="998" h="2042">
                <a:moveTo>
                  <a:pt x="0" y="0"/>
                </a:moveTo>
                <a:lnTo>
                  <a:pt x="181" y="635"/>
                </a:lnTo>
                <a:lnTo>
                  <a:pt x="408" y="1316"/>
                </a:lnTo>
                <a:lnTo>
                  <a:pt x="635" y="1815"/>
                </a:lnTo>
                <a:lnTo>
                  <a:pt x="862" y="1996"/>
                </a:lnTo>
                <a:lnTo>
                  <a:pt x="998" y="20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8" name="Footer Placeholder 6"/>
          <p:cNvSpPr/>
          <p:nvPr/>
        </p:nvSpPr>
        <p:spPr>
          <a:xfrm>
            <a:off x="2432160" y="101520"/>
            <a:ext cx="73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con restricciones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9906120" cy="1800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00"/>
                </a:solidFill>
                <a:latin typeface="Calibri"/>
              </a:rPr>
              <a:t>TEMA 3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OPTIMIZACIÓN</a:t>
            </a:r>
            <a:endParaRPr b="1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-360" y="4060800"/>
            <a:ext cx="9906120" cy="18892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ocío del Río Fernánd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pto. Electrónica y Electromagnetis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Numéricos y de Simul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ntenido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787040" y="1858680"/>
            <a:ext cx="6334200" cy="37306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9000"/>
          </a:bodyPr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de funciones de multi-variab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ownhill Simpl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s de enfriamiento simul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en MATL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1 sesión teórica + 1 sesión prác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45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87360" y="1771560"/>
            <a:ext cx="924552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representar en MATLAB curvas de superficie y de contorno para visualizar funciones de dos vari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localizar el óptimo de una función multi-variable mediante el algoritmo de downhill simple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aplicar la 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 MATLAB para determinar el mínimo de una función multi-dimensi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cómo los métodos de enfriamiento simulado y los algoritmos genéticos ofrecen la posibilidad de alcanzar el mínimo global de una fun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48" name="Title 1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49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9240" y="1844640"/>
            <a:ext cx="9286920" cy="2016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J. Kiusalaas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Methods in Engineering with MATLAB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Cambridge University Press, 20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.Y. Yang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t a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pplied Numerical Methods Using MATLA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Wiley 200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.H. Press, S.A. Teukolsky, W.T. Vetterling, B.P. Flannery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Recipes. The Art of Scientific Computing, 3/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Cambridge University Press, 200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5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ráficas Multi-Dimensional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87360" y="1628280"/>
            <a:ext cx="924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funciones de dos variables se pueden visualizar mediante curvas de superficie y de contorno (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urf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urfc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ontou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ontourf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57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527280" y="2519280"/>
            <a:ext cx="6178680" cy="393408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3"/>
          <p:cNvSpPr/>
          <p:nvPr/>
        </p:nvSpPr>
        <p:spPr>
          <a:xfrm>
            <a:off x="-15840" y="3703680"/>
            <a:ext cx="352908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29760" indent="-3297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8.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Visualización de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= 2+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2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2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 -2 ≤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≤ 0 y 0 ≤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≤ 3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992160" y="3139920"/>
            <a:ext cx="64944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3"/>
          <p:cNvSpPr/>
          <p:nvPr/>
        </p:nvSpPr>
        <p:spPr>
          <a:xfrm>
            <a:off x="387360" y="1666800"/>
            <a:ext cx="9318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 downhill simplex (simple “colina abajo”) o de Nelder-Mead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a del método: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mplear un simplex que se mueva por el espacio de diseño para encerrar el punto óptimo y después encoger el simplex hasta alcanzar la tolerancia desead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 permiten 4 tipos de movimientos del simplex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dirección del movimiento está determinada por el valor de f en los vértices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i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vértice con mayor valor de f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vértice con menor valor de f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5" name=""/>
          <p:cNvSpPr/>
          <p:nvPr/>
        </p:nvSpPr>
        <p:spPr>
          <a:xfrm>
            <a:off x="1281240" y="2243160"/>
            <a:ext cx="7200720" cy="144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6" name=""/>
          <p:cNvSpPr/>
          <p:nvPr/>
        </p:nvSpPr>
        <p:spPr>
          <a:xfrm>
            <a:off x="836640" y="2279520"/>
            <a:ext cx="7848720" cy="13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n-simple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Figura de n-dimensiones con n+1 vértices conectados mediante líneas rectas y limitada por caras poligonal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534960" indent="-77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0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punt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línea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534960" indent="-777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triángul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3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tetraedro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9240" y="1844280"/>
            <a:ext cx="9286920" cy="45370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J. Kiusalaas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Methods in Engineering with MATLAB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Cambridge University Press, 20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.C. Chapra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pplied Numerical Methods with MATLAB for Engineers and Scientists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McGraw-Hill, 20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8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387360" y="1666800"/>
            <a:ext cx="9209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ovimientos posibles (2D)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928880" y="2205000"/>
            <a:ext cx="64738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806400" y="3060720"/>
            <a:ext cx="4075200" cy="32479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3728880" y="1947960"/>
            <a:ext cx="4407120" cy="16254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6537240" y="2997360"/>
            <a:ext cx="2814840" cy="331128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3"/>
          <p:cNvSpPr/>
          <p:nvPr/>
        </p:nvSpPr>
        <p:spPr>
          <a:xfrm>
            <a:off x="387360" y="1666800"/>
            <a:ext cx="9209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ovimientos posibles (3D)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8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7000" y="1666800"/>
            <a:ext cx="521316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quema del algoritmo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coger un simplex inicial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terar hasta d ≤ ε (ε = tolerancia de error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2" marL="1012680" indent="-336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ntar la reflexión: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Hi, aceptar la reflex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Lo, intentar la expans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Lo, aceptar la expans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la reflexión es aceptada, comenzar un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uevo ciclo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2" marL="1012680" indent="-336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ntar la contracción: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Hi, aceptar la contracción y comenzar un nuevo ciclo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2" marL="1012680" indent="-336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tracción múltiple (encoger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n de iteracione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5529240" y="2205000"/>
            <a:ext cx="4176720" cy="273384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3"/>
          <p:cNvSpPr/>
          <p:nvPr/>
        </p:nvSpPr>
        <p:spPr>
          <a:xfrm>
            <a:off x="5267160" y="5373720"/>
            <a:ext cx="4222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19680" indent="-31968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or lo general, el algoritmo es lento pero robust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8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1338120" y="765000"/>
            <a:ext cx="7359840" cy="551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808520" y="6161040"/>
            <a:ext cx="49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ENTE: </a:t>
            </a:r>
            <a:r>
              <a:rPr b="0" lang="es-ES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es.wikipedia.org/wiki/Archivo:Nelder_Mead2.gif</a:t>
            </a:r>
            <a:endParaRPr b="0" i="1" lang="en-US" sz="1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0" name=""/>
          <p:cNvSpPr/>
          <p:nvPr/>
        </p:nvSpPr>
        <p:spPr>
          <a:xfrm>
            <a:off x="2540160" y="3641760"/>
            <a:ext cx="128268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322200" y="261792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06000" indent="-3060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9.m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=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- 4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+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1008000" y="2603520"/>
            <a:ext cx="6249960" cy="37814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4411800" y="3933720"/>
            <a:ext cx="5151240" cy="234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4476600" y="4010040"/>
            <a:ext cx="5086440" cy="20955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338720" y="6161040"/>
            <a:ext cx="52959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9" name=""/>
          <p:cNvSpPr/>
          <p:nvPr/>
        </p:nvSpPr>
        <p:spPr>
          <a:xfrm>
            <a:off x="4724280" y="3573360"/>
            <a:ext cx="1368720" cy="287280"/>
          </a:xfrm>
          <a:prstGeom prst="rightArrow">
            <a:avLst>
              <a:gd name="adj1" fmla="val 50000"/>
              <a:gd name="adj2" fmla="val 11911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0" name=""/>
          <p:cNvSpPr/>
          <p:nvPr/>
        </p:nvSpPr>
        <p:spPr>
          <a:xfrm>
            <a:off x="6095880" y="3505320"/>
            <a:ext cx="268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urier New"/>
              </a:rPr>
              <a:t>downhill_simplex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3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4" name=""/>
          <p:cNvSpPr/>
          <p:nvPr/>
        </p:nvSpPr>
        <p:spPr>
          <a:xfrm>
            <a:off x="1349280" y="5996160"/>
            <a:ext cx="3961080" cy="21564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278000" y="2260440"/>
            <a:ext cx="4035240" cy="4120920"/>
            <a:chOff x="1278000" y="2260440"/>
            <a:chExt cx="4035240" cy="4120920"/>
          </a:xfrm>
        </p:grpSpPr>
        <p:pic>
          <p:nvPicPr>
            <p:cNvPr id="506" name="" descr=""/>
            <p:cNvPicPr/>
            <p:nvPr/>
          </p:nvPicPr>
          <p:blipFill>
            <a:blip r:embed="rId1"/>
            <a:stretch/>
          </p:blipFill>
          <p:spPr>
            <a:xfrm>
              <a:off x="1278000" y="2260440"/>
              <a:ext cx="3695760" cy="29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2"/>
            <a:stretch/>
          </p:blipFill>
          <p:spPr>
            <a:xfrm>
              <a:off x="1303200" y="5495760"/>
              <a:ext cx="4010040" cy="8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 rot="5400000">
              <a:off x="1423800" y="50749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79440" y="2277720"/>
              <a:ext cx="2592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510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06000" indent="-3060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9.m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=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- 4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+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6176880" y="1557360"/>
            <a:ext cx="3346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ATLAB tiene una función propia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para minimizar funciones de n variables mediante el algoritmo de Nelder-Me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[xmin, fval] = fminsearch(@func, xStart, optio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anto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xStart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mo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xmi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on vectores-fila de longitud 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función debe escribirse en términos de una sola variable, representando las distintas dimensiones mediante índices de la vari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pueden controlar las opciones de la función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ptimse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Display, TolX, TolFun, MaxFunEvals, MaxIter, …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options = optimset(‘display’, ‘iter’, ‘TolX’,1e-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1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936800" y="3951360"/>
            <a:ext cx="81432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17" name=""/>
          <p:cNvSpPr/>
          <p:nvPr/>
        </p:nvSpPr>
        <p:spPr>
          <a:xfrm>
            <a:off x="873000" y="3424320"/>
            <a:ext cx="4172040" cy="1681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880920" y="2577960"/>
            <a:ext cx="6516720" cy="3581640"/>
          </a:xfrm>
          <a:prstGeom prst="rect">
            <a:avLst/>
          </a:prstGeom>
          <a:ln w="0">
            <a:noFill/>
          </a:ln>
        </p:spPr>
      </p:pic>
      <p:sp>
        <p:nvSpPr>
          <p:cNvPr id="5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28520" y="261792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0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(x,y) = (x-0.5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x+1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(y+1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y-1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2" name=""/>
          <p:cNvSpPr/>
          <p:nvPr/>
        </p:nvSpPr>
        <p:spPr>
          <a:xfrm>
            <a:off x="4495680" y="3881520"/>
            <a:ext cx="1368720" cy="287280"/>
          </a:xfrm>
          <a:prstGeom prst="rightArrow">
            <a:avLst>
              <a:gd name="adj1" fmla="val 50000"/>
              <a:gd name="adj2" fmla="val 11911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3" name=""/>
          <p:cNvSpPr/>
          <p:nvPr/>
        </p:nvSpPr>
        <p:spPr>
          <a:xfrm>
            <a:off x="5791320" y="380988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urier New"/>
              </a:rPr>
              <a:t>fminsearch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297240" y="4292640"/>
            <a:ext cx="6448320" cy="1698480"/>
            <a:chOff x="3297240" y="4292640"/>
            <a:chExt cx="6448320" cy="1698480"/>
          </a:xfrm>
        </p:grpSpPr>
        <p:sp>
          <p:nvSpPr>
            <p:cNvPr id="527" name=""/>
            <p:cNvSpPr/>
            <p:nvPr/>
          </p:nvSpPr>
          <p:spPr>
            <a:xfrm>
              <a:off x="3402000" y="4292640"/>
              <a:ext cx="63039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10160" y="4406760"/>
              <a:ext cx="1211040" cy="14472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65440" y="4910040"/>
              <a:ext cx="5970600" cy="14472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97240" y="5702400"/>
              <a:ext cx="644832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pic>
          <p:nvPicPr>
            <p:cNvPr id="531" name="" descr=""/>
            <p:cNvPicPr/>
            <p:nvPr/>
          </p:nvPicPr>
          <p:blipFill>
            <a:blip r:embed="rId3"/>
            <a:stretch/>
          </p:blipFill>
          <p:spPr>
            <a:xfrm>
              <a:off x="3495600" y="4383000"/>
              <a:ext cx="6153120" cy="1390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33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779400" y="830160"/>
            <a:ext cx="8352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5153040" y="836640"/>
            <a:ext cx="3965400" cy="561672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3"/>
          <p:cNvSpPr/>
          <p:nvPr/>
        </p:nvSpPr>
        <p:spPr>
          <a:xfrm>
            <a:off x="200160" y="1341360"/>
            <a:ext cx="485280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Comprobar distintas condiciones iniciales:</a:t>
            </a:r>
            <a:endParaRPr b="0" i="1" lang="en-US" sz="21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0 0] </a:t>
            </a:r>
            <a:r>
              <a:rPr b="1" lang="es-E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 Alcanza un mínimo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_min = [0.50, 1.00], F_min =  0.0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-0.5 0.5] </a:t>
            </a:r>
            <a:r>
              <a:rPr b="1" lang="es-E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 Alcanza otro mínimo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_min = [-1.00, 1.00], F_min =  0.0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0 0.5] </a:t>
            </a:r>
            <a:r>
              <a:rPr b="1" lang="es-E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 Se pierde (max iter)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_min = [0.02, 1.01], F_min =  0.24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39" name=""/>
          <p:cNvSpPr/>
          <p:nvPr/>
        </p:nvSpPr>
        <p:spPr>
          <a:xfrm>
            <a:off x="487440" y="4437000"/>
            <a:ext cx="43210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915840" y="4559400"/>
            <a:ext cx="389268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659520" indent="-32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ómo saber si el mínimo que encontramos es uno de entre varios mínimos locale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9520" indent="-32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Podemos asegurarnos de que el mínimo alcanzado sea global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696960" y="4595760"/>
            <a:ext cx="5284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318600" cy="25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 de crear algo tan efectivo como sea pos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omiso prestaciones-limita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atemáticamente consiste en encontrar los mínimos o máximos de una función que depende de una o más variab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(x) =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función objetivo, función de mérito o función coste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 =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variable de diseñ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fig0701"/>
          <p:cNvPicPr/>
          <p:nvPr/>
        </p:nvPicPr>
        <p:blipFill>
          <a:blip r:embed="rId1"/>
          <a:stretch/>
        </p:blipFill>
        <p:spPr>
          <a:xfrm>
            <a:off x="0" y="4336920"/>
            <a:ext cx="5283360" cy="2044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fig0702"/>
          <p:cNvPicPr/>
          <p:nvPr/>
        </p:nvPicPr>
        <p:blipFill>
          <a:blip r:embed="rId2"/>
          <a:stretch/>
        </p:blipFill>
        <p:spPr>
          <a:xfrm>
            <a:off x="5200560" y="4005360"/>
            <a:ext cx="4605480" cy="2503440"/>
          </a:xfrm>
          <a:prstGeom prst="rect">
            <a:avLst/>
          </a:prstGeom>
          <a:ln w="0">
            <a:noFill/>
          </a:ln>
        </p:spPr>
      </p:pic>
      <p:sp>
        <p:nvSpPr>
          <p:cNvPr id="8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4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387360" y="2073240"/>
            <a:ext cx="917424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nealing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= Templado de me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 final de la transición líquido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ólido la estructura cristalina tiene la mínima energía. El metal “encuentra” este estado si la temperatura (T) se reduce de manera suficientemente len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 una T finita el sistema tiene baja probabilidad de estar en un estado altamente excitado. Esto evita que quede “atrapado” en un mínimo loc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T se reduce demasiado rápido, el resultado es una estructura cristalina amorf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método de enfriamiento simulado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ed annealing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SA) emula este proceso de lento enfriami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3"/>
          <p:cNvSpPr/>
          <p:nvPr/>
        </p:nvSpPr>
        <p:spPr>
          <a:xfrm>
            <a:off x="560520" y="2421000"/>
            <a:ext cx="9001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un famoso problema de minimización combinatoria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método de enfriamiento simulado proporciona solucion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4" marL="1687680" indent="-336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Un viajante debe visitar N ciudades y volver a casa siguiendo la ruta más corta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Existen N! caminos diferentes a tomar. Si N es grande, es imposible probar todas las posibilidades. (Ej: Si N = 30 existen 2.65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rutas posibles)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9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387360" y="155736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veling Salesman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– Problema del Viajante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28520" y="2612880"/>
            <a:ext cx="4681440" cy="38404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5024520" y="2651040"/>
            <a:ext cx="4681440" cy="380052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aveling Salesman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– Problema del Viajante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560520" y="1701720"/>
            <a:ext cx="900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09600" indent="-309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utas para N = 100 ciudades con un río que las divide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128520" y="2281320"/>
            <a:ext cx="446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in coste asociado al cruce del río</a:t>
            </a:r>
            <a:endParaRPr b="0" i="1" lang="en-US" sz="22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5024520" y="2281320"/>
            <a:ext cx="446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ruzar el río es caro (peaje)</a:t>
            </a:r>
            <a:endParaRPr b="0" i="1" lang="en-US" sz="22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0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aveling Salesman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– Demo de MATLAB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403200" y="2708280"/>
            <a:ext cx="6305400" cy="35863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 rot="2456400">
            <a:off x="2707920" y="3355560"/>
            <a:ext cx="503280" cy="142920"/>
          </a:xfrm>
          <a:prstGeom prst="rightArrow">
            <a:avLst>
              <a:gd name="adj1" fmla="val 50000"/>
              <a:gd name="adj2" fmla="val 880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4711680" y="1746360"/>
            <a:ext cx="4896000" cy="410184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3"/>
          <p:cNvSpPr/>
          <p:nvPr/>
        </p:nvSpPr>
        <p:spPr>
          <a:xfrm>
            <a:off x="922320" y="1916280"/>
            <a:ext cx="194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09600" indent="-309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&gt;&gt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6" name=""/>
          <p:cNvSpPr/>
          <p:nvPr/>
        </p:nvSpPr>
        <p:spPr>
          <a:xfrm rot="7390800">
            <a:off x="9093600" y="4545720"/>
            <a:ext cx="503280" cy="142560"/>
          </a:xfrm>
          <a:prstGeom prst="rightArrow">
            <a:avLst>
              <a:gd name="adj1" fmla="val 50000"/>
              <a:gd name="adj2" fmla="val 882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268200" y="1773000"/>
            <a:ext cx="94377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quema del algoritm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enzar en un determinado estado s0 (punto del espacio de diseño). Computar el coste o energía E(s0). Fijar la temperatura a 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siderar de algún modo un estado diferente s1. Computar E(s1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E(s1)&lt;E(s0), cambiar del estado s0 al estado s1. En otro caso, computar la probabilidad de transi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s0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1) = 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alibri"/>
              </a:rPr>
              <a:t>-[E(s1)-E(s0)]/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utar un número aleatorio p uniformemente distribuido en el intervalo [0,1]. Si p &lt; P(s0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1), cambiar al estado s1. En otro caso, permanecer en s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r al paso 2. (Disminuir T después de algunos pasos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squema de enfriamient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653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ota: Si T no es suficientemente baja, podemos quedar atrapados en un mínimo loc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0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2708280"/>
            <a:ext cx="9906120" cy="345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 y TSP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200160" y="1773360"/>
            <a:ext cx="8785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hermetic.ch/misc/ts3/ts3demo.ht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mo descargable. Se ejecuta desde el prompt de DO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5048280" y="3325680"/>
            <a:ext cx="4800600" cy="250056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3"/>
          <a:stretch/>
        </p:blipFill>
        <p:spPr>
          <a:xfrm>
            <a:off x="57240" y="3247920"/>
            <a:ext cx="4808520" cy="26290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7040520" y="1557360"/>
            <a:ext cx="201600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0000"/>
                </a:solidFill>
                <a:latin typeface="Comic Sans MS"/>
              </a:rPr>
              <a:t>OJO Comprobar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1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 la función f(x,y) “camello de 6 jorobas”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849240" y="2479680"/>
            <a:ext cx="82663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1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 la función f(x,y) “camello de 6 jorobas”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5168880" y="2492280"/>
            <a:ext cx="3933720" cy="390528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3"/>
          <p:cNvSpPr/>
          <p:nvPr/>
        </p:nvSpPr>
        <p:spPr>
          <a:xfrm>
            <a:off x="200160" y="2697120"/>
            <a:ext cx="475272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Comparar distintos algoritmos y distintas condiciones iniciales:</a:t>
            </a:r>
            <a:endParaRPr b="0" i="1" lang="en-US" sz="21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1 2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6, -0.7960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0.0898,-0.7126] = -1.0316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896, 0.7126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2 3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7, -0.7961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6, -0.7961] = -0.2155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 [-0.0899, 0.7128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631800" y="1988640"/>
            <a:ext cx="88581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tic Algorithm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GA): Técnica de búsqueda aleatoria dirigida que está modelada de acuerdo con el proceso evolución/selección de supervivencia del mejor adapt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individuos candidatos para posibles soluciones juegan el papel de los cromosomas y se representan mediante cadenas de números binar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gual que el método SA puede evitar quedar atrapado en mínimos locales y alcanzar los globales. Al igual que SA, no siempre lo consigu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2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3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3081240" y="1751040"/>
            <a:ext cx="5832720" cy="463068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3"/>
          <p:cNvSpPr/>
          <p:nvPr/>
        </p:nvSpPr>
        <p:spPr>
          <a:xfrm>
            <a:off x="268200" y="1773360"/>
            <a:ext cx="3245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quema del algoritmo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fig0702"/>
          <p:cNvPicPr/>
          <p:nvPr/>
        </p:nvPicPr>
        <p:blipFill>
          <a:blip r:embed="rId1"/>
          <a:stretch/>
        </p:blipFill>
        <p:spPr>
          <a:xfrm>
            <a:off x="5200560" y="3979800"/>
            <a:ext cx="4605480" cy="2503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36520" y="3878280"/>
            <a:ext cx="3024360" cy="255276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8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9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7360" y="1641600"/>
            <a:ext cx="93186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29760" indent="-3297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optimización normalmente se asimila con la minimización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9520" indent="-32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aximización de f(x) </a:t>
            </a:r>
            <a:r>
              <a:rPr b="1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minimización de  –f(x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29760" indent="-3297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enta similitudes con los métodos de localización de raíc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9520" indent="-32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osible estrategi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iferenciar f(x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Obtener las raíces de f’(x)=0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2468520" y="847800"/>
            <a:ext cx="4970520" cy="5618160"/>
          </a:xfrm>
          <a:prstGeom prst="rect">
            <a:avLst/>
          </a:prstGeom>
          <a:ln w="0">
            <a:noFill/>
          </a:ln>
        </p:spPr>
      </p:pic>
      <p:sp>
        <p:nvSpPr>
          <p:cNvPr id="60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2276640"/>
            <a:ext cx="9906120" cy="4222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lgoritmos Genéticos y TSP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560520" y="1557360"/>
            <a:ext cx="87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lalena.com/ai/tsp/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mo descargable y también ejecutable online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88880" y="2433600"/>
            <a:ext cx="4146480" cy="391320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5240160" y="2457360"/>
            <a:ext cx="417672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0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2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 la función f(x,y) “camello de 6 jorobas”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5699160" y="2492280"/>
            <a:ext cx="3933720" cy="390528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3"/>
          <p:cNvSpPr/>
          <p:nvPr/>
        </p:nvSpPr>
        <p:spPr>
          <a:xfrm>
            <a:off x="200160" y="2697120"/>
            <a:ext cx="54734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Distintos algoritmos y condiciones iniciales:</a:t>
            </a:r>
            <a:endParaRPr b="0" i="1" lang="en-US" sz="2100" spc="-1" strike="noStrike">
              <a:solidFill>
                <a:srgbClr val="bbe0e3"/>
              </a:solidFill>
              <a:latin typeface="Gill Sans Ultra Bold"/>
            </a:endParaRPr>
          </a:p>
          <a:p>
            <a:pPr marL="333000" indent="-3330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1 2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6, -0.7960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0.0898,-0.7126] = -1.0316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900, 0.7128] = -1.0316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901, 0.7126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3000" indent="-333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-3 2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1.7036, 0.7961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899, 0.7126] = -1.0316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1.7035, 0.7963] = -0.2155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G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901, 0.7116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992160" y="1628640"/>
            <a:ext cx="7734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unciones propias de MATL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b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unc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multi-variable sin restriccione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o está basado en métodos directo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como simplex), sino de gradi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mincon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multi-variable con restriccion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ineales y no-line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olbo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timization Toolbo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tic Algorithm and Direct Search Toolbox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cluy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ulated Annealing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ptimización en MATLAB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8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ATLAB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fig0704"/>
          <p:cNvPicPr/>
          <p:nvPr/>
        </p:nvPicPr>
        <p:blipFill>
          <a:blip r:embed="rId1"/>
          <a:stretch/>
        </p:blipFill>
        <p:spPr>
          <a:xfrm>
            <a:off x="1898640" y="3736800"/>
            <a:ext cx="6438960" cy="2716560"/>
          </a:xfrm>
          <a:prstGeom prst="rect">
            <a:avLst/>
          </a:prstGeom>
          <a:ln w="0">
            <a:noFill/>
          </a:ln>
        </p:spPr>
      </p:pic>
      <p:sp>
        <p:nvSpPr>
          <p:cNvPr id="9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87360" y="1641600"/>
            <a:ext cx="93186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óptimo glob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representa la mejor de las soluciones, mientras que u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óptimo loc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s mejor que sus vecinos inmediato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casos que incluyen óptimos locales se llama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multi-modal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ómo encontrar el óptimo global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ómo no confundir un óptimo local con uno global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5" name="Title 4"/>
          <p:cNvSpPr/>
          <p:nvPr/>
        </p:nvSpPr>
        <p:spPr>
          <a:xfrm>
            <a:off x="200160" y="836640"/>
            <a:ext cx="9505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Óptimos Globales vs. Locale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7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8" name="Title 4"/>
          <p:cNvSpPr/>
          <p:nvPr/>
        </p:nvSpPr>
        <p:spPr>
          <a:xfrm>
            <a:off x="200160" y="836640"/>
            <a:ext cx="9505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spectos Básicos de la Optimizació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87360" y="1616040"/>
            <a:ext cx="931860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unque a veces admiten solución analítica, la mayoría de los problemas reales requiere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oluciones numéricas por ordenado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algoritm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optimización s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ocesos iterativos que requieren un valor inici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las variables de diseñ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f(x) presenta varios mínimos locales, el x inicial determina cuál se computará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No hay manera garantizada de encontrar el mínimo global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trategi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rrer el algoritmo varias veces usando diferentes valores inicial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buen método de optimización debe intentar reducir el número de veces que se evalúa f(x)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Optimización como parte de un método numérico más complejo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to tiempo de cómputo en la evaluación de funciones compleja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311040" y="4254480"/>
            <a:ext cx="978876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639360" indent="-31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+ Cumplimiento de igualdades y/o desigualdad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=0, i=1, 2, …, 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≤0, j=1, 2, …, n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19680" indent="-3196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algoritmos de optimización con restricciones suelen ser complejos, específicos y difícilmente accesibl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3840" y="1785600"/>
            <a:ext cx="669744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optimización multi-dimensional maneja funciones de dos o más variable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f(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 c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…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4" name="Title 4"/>
          <p:cNvSpPr/>
          <p:nvPr/>
        </p:nvSpPr>
        <p:spPr>
          <a:xfrm>
            <a:off x="200160" y="836640"/>
            <a:ext cx="9505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 Multi-Dimensional y Ligadura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091280" y="1919160"/>
            <a:ext cx="2664000" cy="23018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393840" y="3068640"/>
            <a:ext cx="669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menudo los problemas reales conllevan la optimización de funciones sujeta 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striccion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ligadur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ondiciones de contorn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19:55:16Z</dcterms:created>
  <dc:creator>Rocío del Río</dc:creator>
  <dc:description/>
  <cp:keywords>Master</cp:keywords>
  <dc:language>en-US</dc:language>
  <cp:lastModifiedBy>pdi</cp:lastModifiedBy>
  <dcterms:modified xsi:type="dcterms:W3CDTF">2010-10-08T22:13:07Z</dcterms:modified>
  <cp:revision>2665</cp:revision>
  <dc:subject>RF Front-End Circuit Design</dc:subject>
  <dc:title>RF Power Amplifiers</dc:title>
</cp:coreProperties>
</file>