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36.png" ContentType="image/png"/>
  <Override PartName="/ppt/media/image29.png" ContentType="image/png"/>
  <Override PartName="/ppt/media/image32.wmf" ContentType="image/x-wmf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1.png" ContentType="image/png"/>
  <Override PartName="/ppt/media/image48.png" ContentType="image/png"/>
  <Override PartName="/ppt/media/image31.wmf" ContentType="image/x-wmf"/>
  <Override PartName="/ppt/media/image2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0.png" ContentType="image/png"/>
  <Override PartName="/ppt/media/image58.wmf" ContentType="image/x-wmf"/>
  <Override PartName="/ppt/media/image6.png" ContentType="image/png"/>
  <Override PartName="/ppt/media/image18.png" ContentType="image/png"/>
  <Override PartName="/ppt/media/image25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21.png" ContentType="image/png"/>
  <Override PartName="/ppt/media/image56.png" ContentType="image/png"/>
  <Override PartName="/ppt/media/image17.wmf" ContentType="image/x-wmf"/>
  <Override PartName="/ppt/media/image24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9.gif" ContentType="image/gif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2.png" ContentType="image/png"/>
  <Override PartName="/ppt/media/image23.png" ContentType="image/png"/>
  <Override PartName="/ppt/media/image53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i="1" lang="en-US" sz="1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E3B7-EB13-46CE-9BD0-BF89C85D3B5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 pueden hacer dos observacion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1) Un polinomio de 2º orden a menudo proporciona una buena aproximación a la forma de f(x) cerca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2) Sólo existe una parábola que conecte 3 puntos (recta </a:t>
            </a:r>
            <a:r>
              <a:rPr b="0" lang="es-E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 2 punto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La interpolación parabólica lo que hace es ajustar una parábola a los 3 puntos necesarios para establecer el bracketing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2DAC-7BF6-4258-AE92-7081C6277A7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BE1-D984-4FF8-9CBC-B6266E166E2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n geometría, un símplex o n-símplex es el análogo en n dimensiones de un triángulo. Más exactamente, un símplex es la envoltura convexa de un conjunto de (n + 1) puntos independientes afines en un espacio euclídeo de dimensión n o mayor, es decir, el conjunto de puntos tal que ningún m-plano contiene más que (m + 1) de ellos. Se dice de estos puntos que están en posición gener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or ejemplo, un 0-símplex es un punto; un 1-símplex un segmento de una línea; un 2-símplex un triángulo; un 3-símplex es un tetraedro; y un 4-símplex es un pentácoron (en cada caso, con su interior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La solución analítica es sencilla de obtener en el caso de funciones f(x) fácilmente derivabl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es.wikipedia.org/wiki/Archivo:Nelder_Mead2.gif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hermetic.ch/misc/ts3/ts3demo.htm" TargetMode="External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lalena.com/ai/tsp/" TargetMode="External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84520" y="5661000"/>
            <a:ext cx="6048360" cy="72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7360" y="1616040"/>
            <a:ext cx="9318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Minimizar una función f(x) en el intervalo c ≤ x ≤ d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inimización en una Dimensió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una variabl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5240" y="2133720"/>
            <a:ext cx="3743280" cy="1749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4592520" y="2278080"/>
            <a:ext cx="5113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) presenta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global en el límite del contorno d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local en un punto estacionario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568520" y="3933720"/>
            <a:ext cx="7086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encontrar el mínimo global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contrar los puntos estacionarios a partir de las raíces de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aluar f(x) en el contorn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(c), f(d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Y si f(x) es difícil o imposible de derivar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otar el intervalo donde exista un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islar el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lgoritmo de optimiza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73960" y="4724280"/>
            <a:ext cx="1800360" cy="28908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138" name="Rectangle 3"/>
          <p:cNvSpPr/>
          <p:nvPr/>
        </p:nvSpPr>
        <p:spPr>
          <a:xfrm>
            <a:off x="272880" y="1569960"/>
            <a:ext cx="53280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es de aislar un mínimo mediante un algoritmo de optimización debe acotarse su posición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, b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imient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menzar con un valor inicial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y moverse “cuesta abajo”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valuando la función en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ast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llegar a un punto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el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que f(x) crezca por primera vez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mínimo estará entonces acotado en el intervalo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n necesarios 3 puntos para establecer la acotación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63760" y="5018040"/>
            <a:ext cx="17143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3840" y="1976400"/>
            <a:ext cx="484632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acotación no debe ser precisa, sino eficient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l paso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+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 paso constante suele llevar a demasiadas iteracion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ando el paso en cada iteración se alcanza el mínimo más rápi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“aprovechamos la cuesta abajo”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c &gt; 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3120" y="407988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08880" y="411012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8800" y="4110120"/>
              <a:ext cx="57636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5080" y="4110120"/>
              <a:ext cx="38448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78680" y="452592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65960" y="4525920"/>
              <a:ext cx="358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09040" y="4525920"/>
              <a:ext cx="50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93240" y="4525920"/>
              <a:ext cx="863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6120" y="3678120"/>
            <a:ext cx="576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6640" y="2637000"/>
            <a:ext cx="4876920" cy="124776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8520" y="264168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8" name=""/>
          <p:cNvSpPr/>
          <p:nvPr/>
        </p:nvSpPr>
        <p:spPr>
          <a:xfrm>
            <a:off x="5097600" y="2565360"/>
            <a:ext cx="45352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03720" y="2637000"/>
            <a:ext cx="4457880" cy="1590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24520" y="4292640"/>
            <a:ext cx="46656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1" name=""/>
          <p:cNvSpPr/>
          <p:nvPr/>
        </p:nvSpPr>
        <p:spPr>
          <a:xfrm>
            <a:off x="3198960" y="378936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2" name=""/>
          <p:cNvSpPr/>
          <p:nvPr/>
        </p:nvSpPr>
        <p:spPr>
          <a:xfrm>
            <a:off x="3198960" y="414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bracket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868480" y="4556160"/>
            <a:ext cx="6838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terminar dónde está la “cuesta abajo” para el valor inicial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verse “cuesta abajo” evaluando la función en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…, hasta llegar al punto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n el que f(x) crece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aso usado es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=1.6180339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49240" y="4843440"/>
            <a:ext cx="3311640" cy="15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8520" y="2492280"/>
            <a:ext cx="4824360" cy="3855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704880" y="2492280"/>
            <a:ext cx="5904000" cy="2160720"/>
            <a:chOff x="704880" y="2492280"/>
            <a:chExt cx="5904000" cy="2160720"/>
          </a:xfrm>
        </p:grpSpPr>
        <p:sp>
          <p:nvSpPr>
            <p:cNvPr id="187" name=""/>
            <p:cNvSpPr/>
            <p:nvPr/>
          </p:nvSpPr>
          <p:spPr>
            <a:xfrm>
              <a:off x="704880" y="2852640"/>
              <a:ext cx="590400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24160" y="321300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2320" y="3892680"/>
              <a:ext cx="792360" cy="2156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6080" y="3895560"/>
              <a:ext cx="71280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4160" y="3898800"/>
              <a:ext cx="71244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76160" y="2492280"/>
              <a:ext cx="5832720" cy="21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204920" y="5122800"/>
            <a:ext cx="295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as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Hay otros mínim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85680" y="4979880"/>
            <a:ext cx="5288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3186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 de búsqueda para encontrar un mínimo en el intervalo (a,b) con un único mínimo (interval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unimod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tiliza la razón áurea (golden ratio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1.6180… para determinar la posición de dos puntos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internos a (a,b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o de los puntos internos se re-usa en la siguiente iteración para mejorar la acotación del mín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02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24520" y="4495680"/>
            <a:ext cx="3600360" cy="792360"/>
            <a:chOff x="5024520" y="4495680"/>
            <a:chExt cx="3600360" cy="792360"/>
          </a:xfrm>
        </p:grpSpPr>
        <p:sp>
          <p:nvSpPr>
            <p:cNvPr id="204" name=""/>
            <p:cNvSpPr/>
            <p:nvPr/>
          </p:nvSpPr>
          <p:spPr>
            <a:xfrm>
              <a:off x="5024520" y="49291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6520" y="4929120"/>
              <a:ext cx="13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4520" y="5216400"/>
              <a:ext cx="36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4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2488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56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0880" y="4495680"/>
              <a:ext cx="64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9960" y="4495680"/>
              <a:ext cx="647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12" name="Rectangle 3"/>
          <p:cNvSpPr/>
          <p:nvPr/>
        </p:nvSpPr>
        <p:spPr>
          <a:xfrm>
            <a:off x="387360" y="4724280"/>
            <a:ext cx="39895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Una línea recta se dice dividida en el extremo y su proporcional cuando la línea entera es al segmento mayor como el mayor es al menor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uclides (300aC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767120" y="5516640"/>
                <a:ext cx="47944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803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9800" y="3862080"/>
            <a:ext cx="576108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o se necesita un nuevo punto interior y f(x) se evalúa sólo una vez má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cada iteración el intervalo se reduce un facto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 (~62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úmero de iteraciones n para una toleranci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da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95160" y="2228760"/>
            <a:ext cx="1652760" cy="124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6" name=""/>
          <p:cNvSpPr/>
          <p:nvPr/>
        </p:nvSpPr>
        <p:spPr>
          <a:xfrm>
            <a:off x="3313080" y="2060640"/>
            <a:ext cx="2359080" cy="156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15800" y="2251080"/>
            <a:ext cx="19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 =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(b-a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a+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b-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00160" y="836280"/>
            <a:ext cx="94327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32520" y="1496880"/>
            <a:ext cx="3381480" cy="4981680"/>
            <a:chOff x="6032520" y="1496880"/>
            <a:chExt cx="3381480" cy="4981680"/>
          </a:xfrm>
        </p:grpSpPr>
        <p:pic>
          <p:nvPicPr>
            <p:cNvPr id="222" name="" descr="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6032520" y="1496880"/>
              <a:ext cx="3381480" cy="498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6390000" y="3252600"/>
              <a:ext cx="215640" cy="337320"/>
              <a:chOff x="6390000" y="3252600"/>
              <a:chExt cx="215640" cy="337320"/>
            </a:xfrm>
          </p:grpSpPr>
          <p:sp>
            <p:nvSpPr>
              <p:cNvPr id="224" name=""/>
              <p:cNvSpPr/>
              <p:nvPr/>
            </p:nvSpPr>
            <p:spPr>
              <a:xfrm>
                <a:off x="63900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900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075800" y="3252600"/>
              <a:ext cx="215640" cy="337320"/>
              <a:chOff x="7075800" y="3252600"/>
              <a:chExt cx="21564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70758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758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856720" y="3468600"/>
              <a:ext cx="215640" cy="337320"/>
              <a:chOff x="8856720" y="3468600"/>
              <a:chExt cx="21564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885672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85672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107560" y="3468600"/>
              <a:ext cx="215640" cy="337320"/>
              <a:chOff x="8107560" y="3468600"/>
              <a:chExt cx="215640" cy="337320"/>
            </a:xfrm>
          </p:grpSpPr>
          <p:sp>
            <p:nvSpPr>
              <p:cNvPr id="233" name=""/>
              <p:cNvSpPr/>
              <p:nvPr/>
            </p:nvSpPr>
            <p:spPr>
              <a:xfrm>
                <a:off x="810756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0756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96120" y="5724360"/>
              <a:ext cx="215640" cy="337320"/>
              <a:chOff x="7296120" y="5724360"/>
              <a:chExt cx="215640" cy="337320"/>
            </a:xfrm>
          </p:grpSpPr>
          <p:sp>
            <p:nvSpPr>
              <p:cNvPr id="236" name=""/>
              <p:cNvSpPr/>
              <p:nvPr/>
            </p:nvSpPr>
            <p:spPr>
              <a:xfrm>
                <a:off x="7296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96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871120" y="5724360"/>
              <a:ext cx="215640" cy="337320"/>
              <a:chOff x="8871120" y="5724360"/>
              <a:chExt cx="215640" cy="337320"/>
            </a:xfrm>
          </p:grpSpPr>
          <p:sp>
            <p:nvSpPr>
              <p:cNvPr id="239" name=""/>
              <p:cNvSpPr/>
              <p:nvPr/>
            </p:nvSpPr>
            <p:spPr>
              <a:xfrm>
                <a:off x="8871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71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</p:grpSp>
      <p:sp>
        <p:nvSpPr>
          <p:cNvPr id="241" name="Rectangle 3"/>
          <p:cNvSpPr/>
          <p:nvPr/>
        </p:nvSpPr>
        <p:spPr>
          <a:xfrm>
            <a:off x="3079800" y="2111400"/>
            <a:ext cx="266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l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g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2" name=""/>
          <p:cNvSpPr/>
          <p:nvPr/>
        </p:nvSpPr>
        <p:spPr>
          <a:xfrm>
            <a:off x="2352600" y="242100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360520" y="25988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2200" indent="-2322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Calibri"/>
              </a:rPr>
              <a:t>GS</a:t>
            </a:r>
            <a:endParaRPr b="0" i="1" lang="en-US" sz="3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360520" y="306864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81280" y="5664240"/>
                <a:ext cx="403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ε</m:t>
                          </m:r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n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35400" y="2773440"/>
            <a:ext cx="4553280" cy="1904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855800" y="4008600"/>
            <a:ext cx="8431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76160" y="2793960"/>
            <a:ext cx="4181760" cy="140976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4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5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6" name=""/>
          <p:cNvSpPr/>
          <p:nvPr/>
        </p:nvSpPr>
        <p:spPr>
          <a:xfrm>
            <a:off x="2505240" y="4680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goldSearch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289240" y="5086440"/>
            <a:ext cx="7418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lcula el número de iteraciones necesarias para una tolerancia dad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lica *GS* (transparencia anterior) ese número de vec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ime el mínimo entre los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final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12880" y="2530440"/>
            <a:ext cx="6121440" cy="3851280"/>
            <a:chOff x="1712880" y="2530440"/>
            <a:chExt cx="6121440" cy="3851280"/>
          </a:xfrm>
        </p:grpSpPr>
        <p:sp>
          <p:nvSpPr>
            <p:cNvPr id="264" name=""/>
            <p:cNvSpPr/>
            <p:nvPr/>
          </p:nvSpPr>
          <p:spPr>
            <a:xfrm>
              <a:off x="227016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92160" y="5643720"/>
              <a:ext cx="30168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2960" y="5643720"/>
              <a:ext cx="304956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720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9440" y="344808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02120" y="344808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75320" y="322596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7640" y="322596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2" name=""/>
            <p:cNvCxnSpPr>
              <a:stCxn id="271" idx="1"/>
              <a:endCxn id="269" idx="3"/>
            </p:cNvCxnSpPr>
            <p:nvPr/>
          </p:nvCxnSpPr>
          <p:spPr>
            <a:xfrm flipH="1">
              <a:off x="375552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70" idx="1"/>
              <a:endCxn id="268" idx="3"/>
            </p:cNvCxnSpPr>
            <p:nvPr/>
          </p:nvCxnSpPr>
          <p:spPr>
            <a:xfrm flipH="1">
              <a:off x="454320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" name=""/>
            <p:cNvSpPr/>
            <p:nvPr/>
          </p:nvSpPr>
          <p:spPr>
            <a:xfrm>
              <a:off x="5373720" y="3452760"/>
              <a:ext cx="7221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59600" y="3230640"/>
              <a:ext cx="7207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6" name=""/>
            <p:cNvCxnSpPr>
              <a:stCxn id="275" idx="1"/>
              <a:endCxn id="274" idx="3"/>
            </p:cNvCxnSpPr>
            <p:nvPr/>
          </p:nvCxnSpPr>
          <p:spPr>
            <a:xfrm flipH="1">
              <a:off x="6095160" y="3315960"/>
              <a:ext cx="6444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675320" y="3452760"/>
              <a:ext cx="65376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59600" y="3452760"/>
              <a:ext cx="72072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1712880" y="2530440"/>
              <a:ext cx="6121440" cy="38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5400000">
              <a:off x="2009880" y="4606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7000" y="1557360"/>
            <a:ext cx="951876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rpolación parabólica ajusta una parábola a los 3 punto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necesarios para establecer el bracketing de un ópt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osición del máximo/mínimo de esa parábola está d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336680" y="2924280"/>
                <a:ext cx="5560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8800" y="4581360"/>
            <a:ext cx="521208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99520" indent="-29952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nuevo punt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los 2 adyacente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se usan en la siguiente iteración del algorit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419800" y="3746520"/>
            <a:ext cx="43574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7040" y="1858680"/>
            <a:ext cx="6334200" cy="4306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 con condiciones de conto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9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53040" y="2766960"/>
            <a:ext cx="4524480" cy="19051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4" name=""/>
          <p:cNvSpPr/>
          <p:nvPr/>
        </p:nvSpPr>
        <p:spPr>
          <a:xfrm>
            <a:off x="1863720" y="4003560"/>
            <a:ext cx="8859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7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8" name=""/>
          <p:cNvSpPr/>
          <p:nvPr/>
        </p:nvSpPr>
        <p:spPr>
          <a:xfrm>
            <a:off x="2576520" y="450864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parabInterp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289240" y="4941720"/>
            <a:ext cx="7418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tiliz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a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(a+b)/2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b para ajustar la parábol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uta el mínimo de la parábol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ara los valores de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para eliminar una de las coordenadas anterior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76160" y="2781360"/>
            <a:ext cx="418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5" name=""/>
          <p:cNvSpPr/>
          <p:nvPr/>
        </p:nvSpPr>
        <p:spPr>
          <a:xfrm>
            <a:off x="19144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6" name=""/>
          <p:cNvSpPr/>
          <p:nvPr/>
        </p:nvSpPr>
        <p:spPr>
          <a:xfrm>
            <a:off x="1530360" y="42609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7" name=""/>
          <p:cNvSpPr/>
          <p:nvPr/>
        </p:nvSpPr>
        <p:spPr>
          <a:xfrm>
            <a:off x="36082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8" name=""/>
          <p:cNvSpPr/>
          <p:nvPr/>
        </p:nvSpPr>
        <p:spPr>
          <a:xfrm>
            <a:off x="2774880" y="379260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9" name=""/>
          <p:cNvSpPr/>
          <p:nvPr/>
        </p:nvSpPr>
        <p:spPr>
          <a:xfrm>
            <a:off x="4476600" y="3554280"/>
            <a:ext cx="70668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0" name=""/>
          <p:cNvCxnSpPr>
            <a:stCxn id="309" idx="1"/>
            <a:endCxn id="308" idx="3"/>
          </p:cNvCxnSpPr>
          <p:nvPr/>
        </p:nvCxnSpPr>
        <p:spPr>
          <a:xfrm flipH="1">
            <a:off x="3483000" y="3639960"/>
            <a:ext cx="993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2759040" y="3543480"/>
            <a:ext cx="723960" cy="19656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2" name=""/>
          <p:cNvSpPr/>
          <p:nvPr/>
        </p:nvSpPr>
        <p:spPr>
          <a:xfrm>
            <a:off x="3608280" y="3789360"/>
            <a:ext cx="723960" cy="1969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3" name=""/>
          <p:cNvSpPr/>
          <p:nvPr/>
        </p:nvSpPr>
        <p:spPr>
          <a:xfrm>
            <a:off x="1909800" y="404028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4" name=""/>
          <p:cNvSpPr/>
          <p:nvPr/>
        </p:nvSpPr>
        <p:spPr>
          <a:xfrm>
            <a:off x="4475160" y="3801960"/>
            <a:ext cx="70632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5" name=""/>
          <p:cNvCxnSpPr>
            <a:stCxn id="314" idx="1"/>
            <a:endCxn id="313" idx="3"/>
          </p:cNvCxnSpPr>
          <p:nvPr/>
        </p:nvCxnSpPr>
        <p:spPr>
          <a:xfrm flipH="1">
            <a:off x="2617200" y="3887640"/>
            <a:ext cx="1857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74760" y="2820960"/>
            <a:ext cx="7396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que utiliza el método de Brent para que encontrar el mínimo de una función de una vari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[xmin, fval] = fminbnd(@func, 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lgoritmo combina el golden search (fiable, pero lento) y la interpolación parabólica (rápida, pero poco fiab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pasar opciones a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utilizando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mo cuarto arg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4" name=""/>
          <p:cNvSpPr/>
          <p:nvPr/>
        </p:nvSpPr>
        <p:spPr>
          <a:xfrm>
            <a:off x="3402000" y="4106880"/>
            <a:ext cx="630396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5" name=""/>
          <p:cNvSpPr/>
          <p:nvPr/>
        </p:nvSpPr>
        <p:spPr>
          <a:xfrm>
            <a:off x="3328920" y="6334200"/>
            <a:ext cx="64483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6" name=""/>
          <p:cNvSpPr/>
          <p:nvPr/>
        </p:nvSpPr>
        <p:spPr>
          <a:xfrm>
            <a:off x="1844640" y="3641760"/>
            <a:ext cx="598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9" name=""/>
          <p:cNvSpPr/>
          <p:nvPr/>
        </p:nvSpPr>
        <p:spPr>
          <a:xfrm>
            <a:off x="2035080" y="41497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0" name=""/>
          <p:cNvSpPr/>
          <p:nvPr/>
        </p:nvSpPr>
        <p:spPr>
          <a:xfrm>
            <a:off x="1639800" y="44496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bnd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1" name=""/>
          <p:cNvSpPr/>
          <p:nvPr/>
        </p:nvSpPr>
        <p:spPr>
          <a:xfrm>
            <a:off x="3728880" y="4221000"/>
            <a:ext cx="1008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724280"/>
            <a:ext cx="48718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513240" y="4221000"/>
            <a:ext cx="6164280" cy="22100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776160" y="2595600"/>
            <a:ext cx="7151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284640"/>
            <a:ext cx="1079640" cy="19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0" name=""/>
          <p:cNvSpPr/>
          <p:nvPr/>
        </p:nvSpPr>
        <p:spPr>
          <a:xfrm>
            <a:off x="1136520" y="49467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1" name=""/>
          <p:cNvSpPr/>
          <p:nvPr/>
        </p:nvSpPr>
        <p:spPr>
          <a:xfrm>
            <a:off x="853920" y="6110280"/>
            <a:ext cx="3227400" cy="2160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98480" y="2637000"/>
            <a:ext cx="8856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5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-10 ≤ x ≤ 10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7" name=""/>
          <p:cNvSpPr/>
          <p:nvPr/>
        </p:nvSpPr>
        <p:spPr>
          <a:xfrm>
            <a:off x="5816520" y="3429000"/>
            <a:ext cx="380052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6245280" y="3551400"/>
            <a:ext cx="36036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bar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-10, -6, 1, 4, 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r qué se obtienen resultad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l es el mínim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encontrarl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952960" y="3565440"/>
            <a:ext cx="528840" cy="1282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8520" y="251784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896760" y="3433680"/>
            <a:ext cx="7192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919080" y="2492280"/>
            <a:ext cx="43210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857240" y="1484280"/>
            <a:ext cx="6197760" cy="4884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5181480" y="16282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248520" y="16156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8" name=""/>
          <p:cNvSpPr/>
          <p:nvPr/>
        </p:nvSpPr>
        <p:spPr>
          <a:xfrm>
            <a:off x="2505240" y="2516040"/>
            <a:ext cx="1076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18328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0" name=""/>
          <p:cNvSpPr/>
          <p:nvPr/>
        </p:nvSpPr>
        <p:spPr>
          <a:xfrm>
            <a:off x="5492880" y="57229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1" name=""/>
          <p:cNvSpPr/>
          <p:nvPr/>
        </p:nvSpPr>
        <p:spPr>
          <a:xfrm>
            <a:off x="7005600" y="41083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2" name=""/>
          <p:cNvSpPr/>
          <p:nvPr/>
        </p:nvSpPr>
        <p:spPr>
          <a:xfrm>
            <a:off x="272880" y="170028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9.67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8.865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3" name=""/>
          <p:cNvCxnSpPr>
            <a:stCxn id="358" idx="0"/>
            <a:endCxn id="362" idx="3"/>
          </p:cNvCxnSpPr>
          <p:nvPr/>
        </p:nvCxnSpPr>
        <p:spPr>
          <a:xfrm flipH="1" flipV="1">
            <a:off x="2001240" y="2012400"/>
            <a:ext cx="55764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344520" y="450864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4.2711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 0.015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5" name=""/>
          <p:cNvCxnSpPr>
            <a:stCxn id="359" idx="1"/>
            <a:endCxn id="364" idx="3"/>
          </p:cNvCxnSpPr>
          <p:nvPr/>
        </p:nvCxnSpPr>
        <p:spPr>
          <a:xfrm flipH="1" flipV="1">
            <a:off x="2072520" y="4820760"/>
            <a:ext cx="190116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8177040" y="299736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7.06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3.582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7" name=""/>
          <p:cNvCxnSpPr>
            <a:stCxn id="361" idx="7"/>
            <a:endCxn id="366" idx="1"/>
          </p:cNvCxnSpPr>
          <p:nvPr/>
        </p:nvCxnSpPr>
        <p:spPr>
          <a:xfrm flipV="1">
            <a:off x="7097760" y="3309480"/>
            <a:ext cx="108000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7689960" y="501336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xMin = 1.4275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in = -1.7757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9" name=""/>
          <p:cNvCxnSpPr>
            <a:stCxn id="360" idx="7"/>
            <a:endCxn id="368" idx="1"/>
          </p:cNvCxnSpPr>
          <p:nvPr/>
        </p:nvCxnSpPr>
        <p:spPr>
          <a:xfrm flipV="1">
            <a:off x="5584680" y="5325840"/>
            <a:ext cx="210600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4280" y="2781360"/>
            <a:ext cx="58453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trapezoide mostrado es la sección transversal de una viga. Su geometría se obtiene eliminando la parte superior de un triángulo de base B = 48mm y altura H = 60mm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roblema consiste en encontrar la altura “y” del trapezoide que maximice el módulo de sec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 =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/c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nde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s el segundo momento del área transversal en torno al eje que pasa por el centroide C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timizando el módulo de sección se minimiza el estrés máximo por flexión de la vig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36760" y="4843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8" name=""/>
          <p:cNvSpPr/>
          <p:nvPr/>
        </p:nvSpPr>
        <p:spPr>
          <a:xfrm>
            <a:off x="1506600" y="5207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88880" y="3213000"/>
            <a:ext cx="5662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68640" y="5203800"/>
            <a:ext cx="2303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7360" y="1616040"/>
            <a:ext cx="58611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rutina para computar S(y) sin tener que derivar la expresió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unc_ej_06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ximizar 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Minimizar –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0 = 60c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_Opt = 52.18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0 = 7200cm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_Opt = 7864.43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203560" y="4861080"/>
            <a:ext cx="64908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203560" y="547992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31440" y="177120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por qué y dónde surge la optimización en la resolución de problemas científicos y técn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conocer la diferencia entre la optimización uni- y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tinguir entre óptimos globales y loc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formular un problema de maximización para resolverlo mediante un algoritmo de minimiz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el golden-section sear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interpolación parabó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un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46360" y="3373560"/>
            <a:ext cx="748980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lase Práct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6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136520" y="1976400"/>
            <a:ext cx="85694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ercicios de optimización de funciones uni-dimensiona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Optimización de funciones uni-dimensionales con restric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30040" y="1978200"/>
            <a:ext cx="835200" cy="2027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1352520" y="4541760"/>
            <a:ext cx="8280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adaptar el problema para poder utilizar los algoritmos vistos hasta ahora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89120" y="3548160"/>
            <a:ext cx="3024000" cy="151128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3548160"/>
            <a:ext cx="4464360" cy="151128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4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285840" y="3141720"/>
            <a:ext cx="3456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652680" indent="-326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043520" y="3141720"/>
            <a:ext cx="544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33880" y="4292640"/>
                <a:ext cx="4129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on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  <m:r>
                                        <m:t xml:space="preserve">[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]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884760" y="3914640"/>
            <a:ext cx="865080" cy="803520"/>
          </a:xfrm>
          <a:prstGeom prst="rightArrow">
            <a:avLst>
              <a:gd name="adj1" fmla="val 50000"/>
              <a:gd name="adj2" fmla="val 269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5921280" y="5084640"/>
            <a:ext cx="396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nción de penalización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cumplen las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= 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incumple una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CC</a:t>
            </a:r>
            <a:r>
              <a:rPr b="0" lang="es-E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1" name=""/>
          <p:cNvSpPr/>
          <p:nvPr/>
        </p:nvSpPr>
        <p:spPr>
          <a:xfrm>
            <a:off x="5735520" y="5276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90600" y="5950080"/>
            <a:ext cx="614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bién aplicable a funciones multi-variabl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3" name=""/>
          <p:cNvSpPr/>
          <p:nvPr/>
        </p:nvSpPr>
        <p:spPr>
          <a:xfrm>
            <a:off x="5735520" y="4844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62040" y="4770360"/>
            <a:ext cx="3990960" cy="110340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5" name=""/>
          <p:cNvSpPr/>
          <p:nvPr/>
        </p:nvSpPr>
        <p:spPr>
          <a:xfrm>
            <a:off x="5673600" y="4770360"/>
            <a:ext cx="3959280" cy="110340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7240" y="4363920"/>
            <a:ext cx="4595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= 0.1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-2sin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≥ 0,  x ≤ 4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805280" y="4363920"/>
            <a:ext cx="472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P(x) =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-x,0) +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(x-4,0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2" name=""/>
          <p:cNvSpPr/>
          <p:nvPr/>
        </p:nvSpPr>
        <p:spPr>
          <a:xfrm>
            <a:off x="4748040" y="4954680"/>
            <a:ext cx="865440" cy="803160"/>
          </a:xfrm>
          <a:prstGeom prst="rightArrow">
            <a:avLst>
              <a:gd name="adj1" fmla="val 50000"/>
              <a:gd name="adj2" fmla="val 26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755720" y="3246480"/>
            <a:ext cx="7085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7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con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52520" y="33955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5040" y="1469880"/>
            <a:ext cx="8640720" cy="4994280"/>
          </a:xfrm>
          <a:prstGeom prst="rect">
            <a:avLst/>
          </a:prstGeom>
          <a:ln w="0">
            <a:noFill/>
          </a:ln>
        </p:spPr>
      </p:pic>
      <p:sp>
        <p:nvSpPr>
          <p:cNvPr id="42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338800"/>
            <a:ext cx="1441440" cy="5616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Min = 1.4275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Min = -1.7757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9" name=""/>
          <p:cNvSpPr/>
          <p:nvPr/>
        </p:nvSpPr>
        <p:spPr>
          <a:xfrm>
            <a:off x="1657440" y="1947960"/>
            <a:ext cx="852480" cy="33732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0 = -10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0" name=""/>
          <p:cNvSpPr/>
          <p:nvPr/>
        </p:nvSpPr>
        <p:spPr>
          <a:xfrm>
            <a:off x="3011400" y="595008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1" name=""/>
          <p:cNvCxnSpPr>
            <a:stCxn id="430" idx="6"/>
            <a:endCxn id="427" idx="1"/>
          </p:cNvCxnSpPr>
          <p:nvPr/>
        </p:nvCxnSpPr>
        <p:spPr>
          <a:xfrm flipV="1">
            <a:off x="3119040" y="5622120"/>
            <a:ext cx="5389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1011240" y="25588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3" name=""/>
          <p:cNvCxnSpPr>
            <a:stCxn id="432" idx="6"/>
            <a:endCxn id="429" idx="1"/>
          </p:cNvCxnSpPr>
          <p:nvPr/>
        </p:nvCxnSpPr>
        <p:spPr>
          <a:xfrm flipV="1">
            <a:off x="1118880" y="2120040"/>
            <a:ext cx="5389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2816280" y="1614600"/>
            <a:ext cx="706320" cy="4464000"/>
          </a:xfrm>
          <a:prstGeom prst="rect">
            <a:avLst/>
          </a:prstGeom>
          <a:solidFill>
            <a:srgbClr val="00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5" name=""/>
          <p:cNvSpPr/>
          <p:nvPr/>
        </p:nvSpPr>
        <p:spPr>
          <a:xfrm>
            <a:off x="7601040" y="545292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6" name=""/>
          <p:cNvSpPr/>
          <p:nvPr/>
        </p:nvSpPr>
        <p:spPr>
          <a:xfrm>
            <a:off x="5618160" y="193500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7" name=""/>
          <p:cNvSpPr/>
          <p:nvPr/>
        </p:nvSpPr>
        <p:spPr>
          <a:xfrm>
            <a:off x="5973840" y="2043000"/>
            <a:ext cx="1584360" cy="3241800"/>
          </a:xfrm>
          <a:custGeom>
            <a:avLst/>
            <a:gdLst/>
            <a:ahLst/>
            <a:rect l="l" t="t" r="r" b="b"/>
            <a:pathLst>
              <a:path w="998" h="2042">
                <a:moveTo>
                  <a:pt x="0" y="0"/>
                </a:moveTo>
                <a:lnTo>
                  <a:pt x="181" y="635"/>
                </a:lnTo>
                <a:lnTo>
                  <a:pt x="408" y="1316"/>
                </a:lnTo>
                <a:lnTo>
                  <a:pt x="635" y="1815"/>
                </a:lnTo>
                <a:lnTo>
                  <a:pt x="862" y="1996"/>
                </a:lnTo>
                <a:lnTo>
                  <a:pt x="998" y="20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8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87040" y="1858680"/>
            <a:ext cx="6334200" cy="3730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multi-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wnhill Si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enfriamiento simul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87360" y="1771560"/>
            <a:ext cx="92455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presentar en MATLAB curvas de superficie y de contorno para visualizar funciones de dos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multi-variable mediante el algoritmo de downhill si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cómo los métodos de enfriamiento simulado y los algoritmos genéticos ofrecen la posibilidad de alcanzar el mínimo global de una fun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9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9240" y="1844640"/>
            <a:ext cx="9286920" cy="2016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Y. Yang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Using MATLA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H. Press, S.A. Teukolsky, W.T. Vetterling, B.P. Flannery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Recipes. The Art of Scientific Computing, 3/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ráficas Multi-Dimensional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7360" y="1628280"/>
            <a:ext cx="924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funciones de dos variables se pueden visualizar mediante curvas de superficie y de contorno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c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7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527280" y="2519280"/>
            <a:ext cx="6178680" cy="393408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-15840" y="3703680"/>
            <a:ext cx="35290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isualización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2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-2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0 y 0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3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92160" y="31399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387360" y="1666800"/>
            <a:ext cx="9318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downhill simplex (simple “colina abajo”) o de Nelder-Mead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a del método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mplear un simplex que se mueva por el espacio de diseño para encerrar el punto óptimo y después encoger el simplex hasta alcanzar la tolerancia dese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permiten 4 tipos de movimientos del simplex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dirección del movimiento está determinada por el valor de f en los vértice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ayor valor de f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enor valor de f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5" name=""/>
          <p:cNvSpPr/>
          <p:nvPr/>
        </p:nvSpPr>
        <p:spPr>
          <a:xfrm>
            <a:off x="1281240" y="2243160"/>
            <a:ext cx="720072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6" name=""/>
          <p:cNvSpPr/>
          <p:nvPr/>
        </p:nvSpPr>
        <p:spPr>
          <a:xfrm>
            <a:off x="836640" y="2279520"/>
            <a:ext cx="784872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n-simple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igura de n-dimensiones con n+1 vértices conectados mediante líneas rectas y limitada por caras poligon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unt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línea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riángu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3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etraedr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C. Chapra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with MATLAB for Engineers and Scientist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McGraw-Hill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2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928880" y="2205000"/>
            <a:ext cx="6473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806400" y="3060720"/>
            <a:ext cx="4075200" cy="3247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728880" y="1947960"/>
            <a:ext cx="4407120" cy="1625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6537240" y="2997360"/>
            <a:ext cx="2814840" cy="33112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3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7000" y="1666800"/>
            <a:ext cx="521316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coger un simplex inicial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erar hasta d ≤ ε (ε = tolerancia de error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reflex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reflex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inten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acep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la reflexión es aceptada, comenzar u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contracc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contracción y comenzar un 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tracción múltiple (encoger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n de iteracione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529240" y="2205000"/>
            <a:ext cx="4176720" cy="27338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5267160" y="5373720"/>
            <a:ext cx="422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lo general, el algoritmo es lento pero robust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338120" y="765000"/>
            <a:ext cx="7359840" cy="551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808520" y="6161040"/>
            <a:ext cx="49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es.wikipedia.org/wiki/Archivo:Nelder_Mead2.gif</a:t>
            </a:r>
            <a:endParaRPr b="0" i="1" lang="en-US" sz="1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0" name=""/>
          <p:cNvSpPr/>
          <p:nvPr/>
        </p:nvSpPr>
        <p:spPr>
          <a:xfrm>
            <a:off x="2540160" y="3641760"/>
            <a:ext cx="1282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2220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1008000" y="2603520"/>
            <a:ext cx="6249960" cy="37814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411800" y="3933720"/>
            <a:ext cx="515124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476600" y="4010040"/>
            <a:ext cx="5086440" cy="20955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338720" y="6161040"/>
            <a:ext cx="52959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9" name=""/>
          <p:cNvSpPr/>
          <p:nvPr/>
        </p:nvSpPr>
        <p:spPr>
          <a:xfrm>
            <a:off x="4724280" y="357336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350532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downhill_simplex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4" name=""/>
          <p:cNvSpPr/>
          <p:nvPr/>
        </p:nvSpPr>
        <p:spPr>
          <a:xfrm>
            <a:off x="1349280" y="5996160"/>
            <a:ext cx="39610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78000" y="2260440"/>
            <a:ext cx="4035240" cy="4120920"/>
            <a:chOff x="1278000" y="2260440"/>
            <a:chExt cx="4035240" cy="412092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1278000" y="2260440"/>
              <a:ext cx="36957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1303200" y="5495760"/>
              <a:ext cx="40100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 rot="5400000">
              <a:off x="1423800" y="5074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79440" y="2277720"/>
              <a:ext cx="2592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510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3346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para minimizar funciones de n variables mediante el algoritmo de Nelder-M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[xmin, fval] = fminsearch(@func, xStart, opt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ant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Star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m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on vectores-fila de longitud 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función debe escribirse en términos de una sola variable, representando las distintas dimensiones mediante índices de la vari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controlar las opciones de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Display, TolX, TolFun, MaxFunEvals, MaxIter, …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936800" y="3951360"/>
            <a:ext cx="8143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7" name=""/>
          <p:cNvSpPr/>
          <p:nvPr/>
        </p:nvSpPr>
        <p:spPr>
          <a:xfrm>
            <a:off x="873000" y="3424320"/>
            <a:ext cx="4172040" cy="1681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80920" y="2577960"/>
            <a:ext cx="6516720" cy="3581640"/>
          </a:xfrm>
          <a:prstGeom prst="rect">
            <a:avLst/>
          </a:prstGeom>
          <a:ln w="0">
            <a:noFill/>
          </a:ln>
        </p:spPr>
      </p:pic>
      <p:sp>
        <p:nvSpPr>
          <p:cNvPr id="5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0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,y) = (x-0.5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x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(y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-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388152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3" name=""/>
          <p:cNvSpPr/>
          <p:nvPr/>
        </p:nvSpPr>
        <p:spPr>
          <a:xfrm>
            <a:off x="5791320" y="38098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searc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97240" y="4292640"/>
            <a:ext cx="6448320" cy="1698480"/>
            <a:chOff x="3297240" y="4292640"/>
            <a:chExt cx="6448320" cy="1698480"/>
          </a:xfrm>
        </p:grpSpPr>
        <p:sp>
          <p:nvSpPr>
            <p:cNvPr id="527" name=""/>
            <p:cNvSpPr/>
            <p:nvPr/>
          </p:nvSpPr>
          <p:spPr>
            <a:xfrm>
              <a:off x="3402000" y="4292640"/>
              <a:ext cx="63039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10160" y="4406760"/>
              <a:ext cx="121104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5440" y="4910040"/>
              <a:ext cx="597060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97240" y="5702400"/>
              <a:ext cx="644832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3"/>
            <a:stretch/>
          </p:blipFill>
          <p:spPr>
            <a:xfrm>
              <a:off x="3495600" y="4383000"/>
              <a:ext cx="6153120" cy="139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79400" y="830160"/>
            <a:ext cx="835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153040" y="836640"/>
            <a:ext cx="3965400" cy="56167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200160" y="1341360"/>
            <a:ext cx="485280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robar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un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5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0.5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otro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-1.0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Se pierde (max iter)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02, 1.01], F_min =  0.24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9" name=""/>
          <p:cNvSpPr/>
          <p:nvPr/>
        </p:nvSpPr>
        <p:spPr>
          <a:xfrm>
            <a:off x="487440" y="4437000"/>
            <a:ext cx="4321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915840" y="4559400"/>
            <a:ext cx="38926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saber si el mínimo que encontramos es uno de entre varios mínimos locale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demos asegurarnos de que el mínimo alcanzado sea global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96960" y="459576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rear algo tan efectivo com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omiso prestaciones-limit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emáticamente consiste en encontrar los mínimos o máximos de una función que depende de una o más vari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)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función objetivo, función de mérito o función cost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variable de dis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fig0701"/>
          <p:cNvPicPr/>
          <p:nvPr/>
        </p:nvPicPr>
        <p:blipFill>
          <a:blip r:embed="rId1"/>
          <a:stretch/>
        </p:blipFill>
        <p:spPr>
          <a:xfrm>
            <a:off x="0" y="4336920"/>
            <a:ext cx="5283360" cy="204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fig0702"/>
          <p:cNvPicPr/>
          <p:nvPr/>
        </p:nvPicPr>
        <p:blipFill>
          <a:blip r:embed="rId2"/>
          <a:stretch/>
        </p:blipFill>
        <p:spPr>
          <a:xfrm>
            <a:off x="5200560" y="4005360"/>
            <a:ext cx="4605480" cy="250344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87360" y="2073240"/>
            <a:ext cx="917424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Templado de m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final de la transición líquido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ido la estructura cristalina tiene la mínima energía. El metal “encuentra” este estado si la temperatura (T) se reduce de manera suficientemente l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 una T finita el sistema tiene baja probabilidad de estar en un estado altamente excitado. Esto evita que quede “atrapado”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T se reduce demasiado rápido, el resultado es una estructura cristalina amorf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A) emula este proceso de lento enfr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560520" y="2421000"/>
            <a:ext cx="9001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famoso problema de minimización combinatori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proporciona solu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Un viajante debe visitar N ciudades y volver a casa siguiendo la ruta más corta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Existen N! caminos diferentes a tomar. Si N es grande, es imposible probar todas las posibilidades. (Ej: Si N = 30 existen 2.65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utas posibles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87360" y="155736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28520" y="2612880"/>
            <a:ext cx="4681440" cy="38404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024520" y="2651040"/>
            <a:ext cx="4681440" cy="380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560520" y="1701720"/>
            <a:ext cx="900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utas para N = 100 ciudades con un río que las divid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128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n coste asociado al cruce del río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024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ruzar el río es caro (peaje)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Demo de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03200" y="2708280"/>
            <a:ext cx="6305400" cy="3586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rot="2456400">
            <a:off x="2707920" y="335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711680" y="1746360"/>
            <a:ext cx="4896000" cy="4101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922320" y="1916280"/>
            <a:ext cx="19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6" name=""/>
          <p:cNvSpPr/>
          <p:nvPr/>
        </p:nvSpPr>
        <p:spPr>
          <a:xfrm rot="7390800">
            <a:off x="9093600" y="4545720"/>
            <a:ext cx="503280" cy="142560"/>
          </a:xfrm>
          <a:prstGeom prst="rightArrow">
            <a:avLst>
              <a:gd name="adj1" fmla="val 50000"/>
              <a:gd name="adj2" fmla="val 882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68200" y="1773000"/>
            <a:ext cx="9437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nzar en un determinado estado s0 (punto del espacio de diseño). Computar el coste o energía E(s0). Fijar la temperatura a 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r de algún modo un estado diferente s1. Computar E(s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E(s1)&lt;E(s0), cambiar del estado s0 al estado s1. En otro caso, computar la probabilidad de trans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 =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alibri"/>
              </a:rPr>
              <a:t>-[E(s1)-E(s0)]/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utar un número aleatorio p uniformemente distribuido en el intervalo [0,1]. Si p &lt; 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, cambiar al estado s1. En otro caso, permanecer en s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r al paso 2. (Disminuir T después de algunos paso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squema de enfriamient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65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ta: Si T no es suficientemente baja, podemos quedar atrapados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708280"/>
            <a:ext cx="9906120" cy="34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200160" y="1773360"/>
            <a:ext cx="878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hermetic.ch/misc/ts3/ts3demo.ht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. Se ejecuta desde el prompt de DO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5048280" y="3325680"/>
            <a:ext cx="4800600" cy="2500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57240" y="3247920"/>
            <a:ext cx="4808520" cy="2629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040520" y="1557360"/>
            <a:ext cx="2016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omic Sans MS"/>
              </a:rPr>
              <a:t>OJO Comprobar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49240" y="2479680"/>
            <a:ext cx="82663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16888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200160" y="2697120"/>
            <a:ext cx="47527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arar distintos algoritmos y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6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2 3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7, -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1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 [-0.0899, 0.7128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31800" y="1988640"/>
            <a:ext cx="8858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tic Algorithm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GA): Técnica de búsqueda aleatoria dirigida que está modelada de acuerdo con el proceso evolución/selección de supervivencia del mejor adap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dividuos candidatos para posibles soluciones juegan el papel de los cromosomas y se representan mediante cadenas de números bin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gual que el método SA puede evitar quedar atrapado en mínimos locales y alcanzar los globales. Al igual que SA, no siempre lo consigu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081240" y="1751040"/>
            <a:ext cx="5832720" cy="46306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3"/>
          <p:cNvSpPr/>
          <p:nvPr/>
        </p:nvSpPr>
        <p:spPr>
          <a:xfrm>
            <a:off x="268200" y="1773360"/>
            <a:ext cx="3245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g0702"/>
          <p:cNvPicPr/>
          <p:nvPr/>
        </p:nvPicPr>
        <p:blipFill>
          <a:blip r:embed="rId1"/>
          <a:stretch/>
        </p:blipFill>
        <p:spPr>
          <a:xfrm>
            <a:off x="5200560" y="3979800"/>
            <a:ext cx="4605480" cy="250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36520" y="3878280"/>
            <a:ext cx="3024360" cy="255276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9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normalmente se asimila con la minimización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ximización de f(x)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minimización de  –f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 similitudes con los métodos de localización de raíc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osible 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iferenciar f(x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Obtener las raíces de f’(x)=0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468520" y="847800"/>
            <a:ext cx="4970520" cy="5618160"/>
          </a:xfrm>
          <a:prstGeom prst="rect">
            <a:avLst/>
          </a:prstGeom>
          <a:ln w="0">
            <a:noFill/>
          </a:ln>
        </p:spPr>
      </p:pic>
      <p:sp>
        <p:nvSpPr>
          <p:cNvPr id="60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276640"/>
            <a:ext cx="9906120" cy="4222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560520" y="155736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lalena.com/ai/tsp/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 y también ejecutable online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88880" y="2433600"/>
            <a:ext cx="4146480" cy="39132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5240160" y="2457360"/>
            <a:ext cx="4176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2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569916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200160" y="2697120"/>
            <a:ext cx="54734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Distintos algoritmos y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0, 0.7128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3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6, 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9, 0.7126] = -1.0316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5, 0.7963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1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992160" y="1628640"/>
            <a:ext cx="7734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propias de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unc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sin restri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 está basado en métodos direct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como simplex), sino de gradi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minco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con restriccion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neales y no-line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olbo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ation Tool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tic Algorithm and Direct Search Toolbox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cluy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ATLAB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ig0704"/>
          <p:cNvPicPr/>
          <p:nvPr/>
        </p:nvPicPr>
        <p:blipFill>
          <a:blip r:embed="rId1"/>
          <a:stretch/>
        </p:blipFill>
        <p:spPr>
          <a:xfrm>
            <a:off x="1898640" y="3736800"/>
            <a:ext cx="6438960" cy="271656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glob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epresenta la mejor de las soluciones, mientras que 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loc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 mejor que sus vecinos inmediato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casos que incluyen óptimos locales se llama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ulti-mod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encontrar el óptim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no confundir un óptimo local con un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5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Óptimos Globales vs. Local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8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spectos Básicos de la 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7360" y="1616040"/>
            <a:ext cx="93186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nque a veces admiten solución analítica, la mayoría de los problemas reales requiere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oluciones numéricas por ordenado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lgoritm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optimización s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cesos iterativos que requieren un valor inici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las variables de diseñ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) presenta varios mínimos locales, el x inicial determina cuál se computará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hay manera garantizada de encontrar el mínimo glob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rrer el algoritmo varias veces usando diferentes valores inici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buen método de optimización debe intentar reducir el número de veces que se evalúa f(x)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ptimización como parte de un método numérico más complejo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to tiempo de cómputo en la evaluación de funciones compleja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11040" y="4254480"/>
            <a:ext cx="97887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39360" indent="-31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19680" indent="-3196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3840" y="1785600"/>
            <a:ext cx="66974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multi-dimensional maneja funciones de dos o más variab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f(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…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4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Multi-Dimensional y Ligadura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91280" y="1919160"/>
            <a:ext cx="2664000" cy="2301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93840" y="3068640"/>
            <a:ext cx="66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menudo los problemas reales conllevan la optimización de funciones sujeta 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tric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igadu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ondiciones de contorn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cp:keywords>Master</cp:keywords>
  <dc:language>en-US</dc:language>
  <cp:lastModifiedBy>pdi</cp:lastModifiedBy>
  <dcterms:modified xsi:type="dcterms:W3CDTF">2010-10-08T22:13:07Z</dcterms:modified>
  <cp:revision>2665</cp:revision>
  <dc:subject>RF Front-End Circuit Design</dc:subject>
  <dc:title>RF Power Amplifiers</dc:title>
</cp:coreProperties>
</file>