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1.png" ContentType="image/png"/>
  <Override PartName="/ppt/media/image48.png" ContentType="image/png"/>
  <Override PartName="/ppt/media/image31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0.png" ContentType="image/png"/>
  <Override PartName="/ppt/media/image58.wmf" ContentType="image/x-wmf"/>
  <Override PartName="/ppt/media/image6.png" ContentType="image/png"/>
  <Override PartName="/ppt/media/image18.png" ContentType="image/png"/>
  <Override PartName="/ppt/media/image25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21.png" ContentType="image/png"/>
  <Override PartName="/ppt/media/image56.png" ContentType="image/png"/>
  <Override PartName="/ppt/media/image17.wmf" ContentType="image/x-wmf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9.gif" ContentType="image/gi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23.png" ContentType="image/png"/>
  <Override PartName="/ppt/media/image53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étodos Numéricos y de Simulación</a:t>
            </a:r>
            <a:endParaRPr b="0" i="1" lang="en-US" sz="1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685680" y="0"/>
            <a:ext cx="3110040" cy="233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ocío del Río – Dpto. Electrónica y Electromagnetismo (US)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9693360"/>
            <a:ext cx="43290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rado en Física – Universidad de Sevilla</a:t>
            </a:r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50F-FD06-475D-B3D0-06AAC166C7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e pueden hacer dos observacion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1) Un polinomio de 2º orden a menudo proporciona una buena aproximación a la forma de f(x) cerca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2) Sólo existe una parábola que conecte 3 puntos (recta </a:t>
            </a:r>
            <a:r>
              <a:rPr b="0" lang="es-E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2 punto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La interpolación parabólica lo que hace es ajustar una parábola a los 3 puntos necesarios para establecer el bracketing de un óptim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933-353D-438D-8241-F2E2DBE3E0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665680" y="9693360"/>
            <a:ext cx="1130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2A3-5F3B-4893-BCA6-4911FA9B57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n geometría, un símplex o n-símplex es el análogo en n dimensiones de un triángulo. Más exactamente, un símplex es la envoltura convexa de un conjunto de (n + 1) puntos independientes afines en un espacio euclídeo de dimensión n o mayor, es decir, el conjunto de puntos tal que ningún m-plano contiene más que (m + 1) de ellos. Se dice de estos puntos que están en posición gene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r ejemplo, un 0-símplex es un punto; un 1-símplex un segmento de una línea; un 2-símplex un triángulo; un 3-símplex es un tetraedro; y un 4-símplex es un pentácoron (en cada caso, con su interio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Ojo, lo mostrado en estos dos casos no siempre es así. No siempre el método de enfriamiento simulado proporciona uno de los mínimos globales y fallan los otros métod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robar con otras condiciones iniciales. Se podrá ver cómo el método de simulated annealing queda a veces atrapado en un mínimo local. Poder escapar de ellos es altamente dependiente del esquema de enfriamiento usado (control de 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566280" y="4885920"/>
            <a:ext cx="5877000" cy="457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La solución analítica es sencilla de obtener en el caso de funciones f(x) fácilmente derivabl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064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14280" y="178596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700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064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14280" y="4174200"/>
            <a:ext cx="29649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87000" y="836280"/>
            <a:ext cx="920916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05880" y="417420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5880" y="1785960"/>
            <a:ext cx="449388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7000" y="4174200"/>
            <a:ext cx="9209160" cy="21805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6480" y="6572160"/>
            <a:ext cx="9899640" cy="287280"/>
            <a:chOff x="6480" y="6572160"/>
            <a:chExt cx="9899640" cy="287280"/>
          </a:xfrm>
        </p:grpSpPr>
        <p:pic>
          <p:nvPicPr>
            <p:cNvPr id="1" name="Picture 16" descr=""/>
            <p:cNvPicPr/>
            <p:nvPr/>
          </p:nvPicPr>
          <p:blipFill>
            <a:blip r:embed="rId2"/>
            <a:stretch/>
          </p:blipFill>
          <p:spPr>
            <a:xfrm>
              <a:off x="331236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6" descr=""/>
            <p:cNvPicPr/>
            <p:nvPr/>
          </p:nvPicPr>
          <p:blipFill>
            <a:blip r:embed="rId3"/>
            <a:stretch/>
          </p:blipFill>
          <p:spPr>
            <a:xfrm>
              <a:off x="659412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6" descr=""/>
            <p:cNvPicPr/>
            <p:nvPr/>
          </p:nvPicPr>
          <p:blipFill>
            <a:blip r:embed="rId4"/>
            <a:stretch/>
          </p:blipFill>
          <p:spPr>
            <a:xfrm>
              <a:off x="6480" y="6572160"/>
              <a:ext cx="33120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5"/>
          <p:cNvGrpSpPr/>
          <p:nvPr/>
        </p:nvGrpSpPr>
        <p:grpSpPr>
          <a:xfrm>
            <a:off x="3240" y="0"/>
            <a:ext cx="9899640" cy="576360"/>
            <a:chOff x="3240" y="0"/>
            <a:chExt cx="9899640" cy="576360"/>
          </a:xfrm>
        </p:grpSpPr>
        <p:pic>
          <p:nvPicPr>
            <p:cNvPr id="5" name="Picture 16" descr=""/>
            <p:cNvPicPr/>
            <p:nvPr/>
          </p:nvPicPr>
          <p:blipFill>
            <a:blip r:embed="rId5"/>
            <a:stretch/>
          </p:blipFill>
          <p:spPr>
            <a:xfrm>
              <a:off x="330516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6" descr=""/>
            <p:cNvPicPr/>
            <p:nvPr/>
          </p:nvPicPr>
          <p:blipFill>
            <a:blip r:embed="rId6"/>
            <a:stretch/>
          </p:blipFill>
          <p:spPr>
            <a:xfrm>
              <a:off x="658872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6" descr=""/>
            <p:cNvPicPr/>
            <p:nvPr/>
          </p:nvPicPr>
          <p:blipFill>
            <a:blip r:embed="rId7"/>
            <a:stretch/>
          </p:blipFill>
          <p:spPr>
            <a:xfrm>
              <a:off x="3240" y="0"/>
              <a:ext cx="33141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Footer Placeholder 6"/>
          <p:cNvSpPr/>
          <p:nvPr/>
        </p:nvSpPr>
        <p:spPr>
          <a:xfrm>
            <a:off x="6321600" y="6588000"/>
            <a:ext cx="358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Métodos Numéricos y de Simulación – Curso 2010/11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8"/>
          <a:stretch/>
        </p:blipFill>
        <p:spPr>
          <a:xfrm>
            <a:off x="0" y="6578640"/>
            <a:ext cx="33480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14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-336240">
              <a:spcBef>
                <a:spcPts val="14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336600">
              <a:spcBef>
                <a:spcPts val="14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687680" indent="-336600">
              <a:spcBef>
                <a:spcPts val="1412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traight Connector 8"/>
          <p:cNvSpPr/>
          <p:nvPr/>
        </p:nvSpPr>
        <p:spPr>
          <a:xfrm>
            <a:off x="0" y="57168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3" name="Straight Connector 9"/>
          <p:cNvSpPr/>
          <p:nvPr/>
        </p:nvSpPr>
        <p:spPr>
          <a:xfrm>
            <a:off x="0" y="641520"/>
            <a:ext cx="9906120" cy="1440"/>
          </a:xfrm>
          <a:prstGeom prst="line">
            <a:avLst/>
          </a:prstGeom>
          <a:ln w="12708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" name="Straight Connector 11"/>
          <p:cNvSpPr/>
          <p:nvPr/>
        </p:nvSpPr>
        <p:spPr>
          <a:xfrm>
            <a:off x="0" y="6529320"/>
            <a:ext cx="9906120" cy="1800"/>
          </a:xfrm>
          <a:prstGeom prst="line">
            <a:avLst/>
          </a:prstGeom>
          <a:ln w="63360">
            <a:solidFill>
              <a:srgbClr val="e09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5" name="Straight Connector 12"/>
          <p:cNvSpPr/>
          <p:nvPr/>
        </p:nvSpPr>
        <p:spPr>
          <a:xfrm>
            <a:off x="0" y="6570720"/>
            <a:ext cx="9906120" cy="1440"/>
          </a:xfrm>
          <a:prstGeom prst="line">
            <a:avLst/>
          </a:prstGeom>
          <a:ln w="31680">
            <a:solidFill>
              <a:srgbClr val="b46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6" name="Group 20"/>
          <p:cNvGrpSpPr/>
          <p:nvPr/>
        </p:nvGrpSpPr>
        <p:grpSpPr>
          <a:xfrm>
            <a:off x="452520" y="622440"/>
            <a:ext cx="857160" cy="142560"/>
            <a:chOff x="452520" y="622440"/>
            <a:chExt cx="857160" cy="142560"/>
          </a:xfrm>
        </p:grpSpPr>
        <p:sp>
          <p:nvSpPr>
            <p:cNvPr id="17" name="Oval 17"/>
            <p:cNvSpPr/>
            <p:nvPr/>
          </p:nvSpPr>
          <p:spPr>
            <a:xfrm>
              <a:off x="452520" y="622440"/>
              <a:ext cx="14256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0964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1166760" y="622440"/>
              <a:ext cx="142920" cy="142560"/>
            </a:xfrm>
            <a:prstGeom prst="ellipse">
              <a:avLst/>
            </a:prstGeom>
            <a:solidFill>
              <a:srgbClr val="92d050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0" name="Footer Placeholder 6"/>
          <p:cNvSpPr/>
          <p:nvPr/>
        </p:nvSpPr>
        <p:spPr>
          <a:xfrm>
            <a:off x="344520" y="6588000"/>
            <a:ext cx="40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2060"/>
                </a:solidFill>
                <a:latin typeface="Calibri"/>
              </a:rPr>
              <a:t>Rocío del Río – Dpto. Electrónica y Electromagnetismo (US)</a:t>
            </a:r>
            <a:endParaRPr b="0" i="1" lang="en-US" sz="1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es.wikipedia.org/wiki/Archivo:Nelder_Mead2.gi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hermetic.ch/misc/ts3/ts3demo.htm" TargetMode="External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lalena.com/ai/tsp/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84520" y="5661000"/>
            <a:ext cx="604836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7360" y="1616040"/>
            <a:ext cx="931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Minimizar una función f(x) en el intervalo c ≤ x ≤ d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nimización en una Dimensió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Funciones de una variabl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5240" y="2133720"/>
            <a:ext cx="3743280" cy="1749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92520" y="2278080"/>
            <a:ext cx="511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) presenta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global en el límite del contorno d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mínimo local en un punto estacionario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68520" y="3933720"/>
            <a:ext cx="7086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encontrar el mínimo global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ontrar los puntos estacionarios a partir de las raíces de f’(x)=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aluar f(x) en el contorn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(c), f(d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22920" indent="-32292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Y si f(x) es difícil o imposible de derivar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otar el intervalo donde exista un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46200" indent="-322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islar el mínim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goritmo de optimiza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73960" y="4724280"/>
            <a:ext cx="1800360" cy="2890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72880" y="1569960"/>
            <a:ext cx="53280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es de aislar un mínimo mediante un algoritmo de optimización debe acotarse su posi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, b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imient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enzar con un valor inicial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moverse “cuesta abajo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valuando la función en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ast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llegar a un punto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el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que f(x) crezca por primera vez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mínimo estará entonces acotado en el intervalo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on necesarios 3 puntos para establecer la acotación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63760" y="5018040"/>
            <a:ext cx="17143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3840" y="1976400"/>
            <a:ext cx="484632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cotación no debe ser precisa, sino eficient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l paso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 paso constante suele llevar a demasiadas iteracion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mentando el paso en cada iteración se alcanza el mínimo más rápi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“aprovechamos la cuesta abajo”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c &gt; 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3240" y="2416320"/>
            <a:ext cx="4435560" cy="3246840"/>
            <a:chOff x="5313240" y="2416320"/>
            <a:chExt cx="4435560" cy="3246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313240" y="2416320"/>
              <a:ext cx="44355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72200" y="3402000"/>
              <a:ext cx="0" cy="122400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6483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Calibri"/>
                </a:rPr>
                <a:t>x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0252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5960" y="3645000"/>
              <a:ext cx="0" cy="9795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4520" y="3860640"/>
              <a:ext cx="0" cy="792360"/>
            </a:xfrm>
            <a:prstGeom prst="line">
              <a:avLst/>
            </a:prstGeom>
            <a:ln w="1584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19840" y="4216320"/>
              <a:ext cx="0" cy="43200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56520" y="3776760"/>
              <a:ext cx="0" cy="86364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6040" y="464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2160" y="46483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75360" y="4503600"/>
              <a:ext cx="4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08880" y="46483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892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88560" y="5008680"/>
              <a:ext cx="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6640" y="526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a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3840" y="5264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b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3120" y="407988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3240" y="42735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4000" y="46544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08880" y="4110120"/>
              <a:ext cx="38412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8800" y="4110120"/>
              <a:ext cx="57636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n-1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4110120"/>
              <a:ext cx="384480" cy="40572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8680" y="452592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5960" y="4525920"/>
              <a:ext cx="35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9040" y="4525920"/>
              <a:ext cx="50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3240" y="4525920"/>
              <a:ext cx="863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6120" y="3678120"/>
            <a:ext cx="576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6640" y="2637000"/>
            <a:ext cx="4876920" cy="124776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8520" y="264168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78" name=""/>
          <p:cNvSpPr/>
          <p:nvPr/>
        </p:nvSpPr>
        <p:spPr>
          <a:xfrm>
            <a:off x="5097600" y="2565360"/>
            <a:ext cx="4535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3720" y="2637000"/>
            <a:ext cx="4457880" cy="1590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24520" y="4292640"/>
            <a:ext cx="46656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198960" y="3789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2" name=""/>
          <p:cNvSpPr/>
          <p:nvPr/>
        </p:nvSpPr>
        <p:spPr>
          <a:xfrm>
            <a:off x="3198960" y="414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bracket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68480" y="4556160"/>
            <a:ext cx="6838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terminar dónde está la “cuesta abajo” para el valor inicial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verse “cuesta abajo” evaluando la función en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…, hasta llegar al punto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el que f(x) crece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,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&lt;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8280" indent="-338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aso usado es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=1.6180339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49240" y="4843440"/>
            <a:ext cx="3311640" cy="15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8520" y="2492280"/>
            <a:ext cx="4824360" cy="3855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04880" y="2492280"/>
            <a:ext cx="5904000" cy="2160720"/>
            <a:chOff x="704880" y="2492280"/>
            <a:chExt cx="5904000" cy="2160720"/>
          </a:xfrm>
        </p:grpSpPr>
        <p:sp>
          <p:nvSpPr>
            <p:cNvPr id="187" name=""/>
            <p:cNvSpPr/>
            <p:nvPr/>
          </p:nvSpPr>
          <p:spPr>
            <a:xfrm>
              <a:off x="704880" y="2852640"/>
              <a:ext cx="590400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4160" y="321300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2320" y="3892680"/>
              <a:ext cx="792360" cy="2156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6080" y="3895560"/>
              <a:ext cx="71280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4160" y="3898800"/>
              <a:ext cx="712440" cy="2160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76160" y="2492280"/>
              <a:ext cx="5832720" cy="21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1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ot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04920" y="5122800"/>
            <a:ext cx="295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as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Hay otros mínim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85680" y="4979880"/>
            <a:ext cx="528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318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 de búsqueda para encontrar un mínimo en el intervalo (a,b) con un único mínimo (interval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unimod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tiliza la razón áurea (golden ratio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1.6180… para determinar la posición de dos puntos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internos a (a,b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o de los puntos internos se re-usa en la siguiente iteración para mejorar la acotación del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4520" y="4495680"/>
            <a:ext cx="3600360" cy="792360"/>
            <a:chOff x="5024520" y="4495680"/>
            <a:chExt cx="3600360" cy="792360"/>
          </a:xfrm>
        </p:grpSpPr>
        <p:sp>
          <p:nvSpPr>
            <p:cNvPr id="204" name=""/>
            <p:cNvSpPr/>
            <p:nvPr/>
          </p:nvSpPr>
          <p:spPr>
            <a:xfrm>
              <a:off x="5024520" y="49291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6520" y="492912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4520" y="521640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4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2488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6520" y="51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880" y="4495680"/>
              <a:ext cx="64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9960" y="4495680"/>
              <a:ext cx="647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20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212" name="Rectangle 3"/>
          <p:cNvSpPr/>
          <p:nvPr/>
        </p:nvSpPr>
        <p:spPr>
          <a:xfrm>
            <a:off x="387360" y="4724280"/>
            <a:ext cx="3989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Una línea recta se dice dividida en el extremo y su proporcional cuando la línea entera es al segmento mayor como el mayor es al menor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 algn="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uclides (300aC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67120" y="5516640"/>
                <a:ext cx="479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03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9800" y="3862080"/>
            <a:ext cx="57610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o se necesita un nuevo punto interior y f(x) se evalúa sólo una vez má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cada iteración el intervalo se reduce un facto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 (~62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úmero de iteraciones n para una toleranci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da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228760"/>
            <a:ext cx="1652760" cy="124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313080" y="2060640"/>
            <a:ext cx="2359080" cy="156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5800" y="225108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 =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1)(b-a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a+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= b-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0160" y="836280"/>
            <a:ext cx="94327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32520" y="1496880"/>
            <a:ext cx="3381480" cy="4981680"/>
            <a:chOff x="6032520" y="1496880"/>
            <a:chExt cx="3381480" cy="4981680"/>
          </a:xfrm>
        </p:grpSpPr>
        <p:pic>
          <p:nvPicPr>
            <p:cNvPr id="222" name="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6032520" y="1496880"/>
              <a:ext cx="3381480" cy="498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6390000" y="3252600"/>
              <a:ext cx="215640" cy="337320"/>
              <a:chOff x="6390000" y="3252600"/>
              <a:chExt cx="215640" cy="33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63900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900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075800" y="3252600"/>
              <a:ext cx="215640" cy="337320"/>
              <a:chOff x="7075800" y="3252600"/>
              <a:chExt cx="21564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7075800" y="3357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75800" y="3252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856720" y="3468600"/>
              <a:ext cx="215640" cy="337320"/>
              <a:chOff x="8856720" y="3468600"/>
              <a:chExt cx="21564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885672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5672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107560" y="3468600"/>
              <a:ext cx="215640" cy="337320"/>
              <a:chOff x="8107560" y="3468600"/>
              <a:chExt cx="215640" cy="337320"/>
            </a:xfrm>
          </p:grpSpPr>
          <p:sp>
            <p:nvSpPr>
              <p:cNvPr id="233" name=""/>
              <p:cNvSpPr/>
              <p:nvPr/>
            </p:nvSpPr>
            <p:spPr>
              <a:xfrm>
                <a:off x="8107560" y="357336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07560" y="346860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96120" y="5724360"/>
              <a:ext cx="215640" cy="337320"/>
              <a:chOff x="7296120" y="5724360"/>
              <a:chExt cx="215640" cy="33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96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6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871120" y="5724360"/>
              <a:ext cx="215640" cy="337320"/>
              <a:chOff x="8871120" y="5724360"/>
              <a:chExt cx="21564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71120" y="5829120"/>
                <a:ext cx="21564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71120" y="5724360"/>
                <a:ext cx="21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i="1" lang="en-US" sz="1600" spc="-1" strike="noStrike">
                  <a:solidFill>
                    <a:srgbClr val="bbe0e3"/>
                  </a:solidFill>
                  <a:latin typeface="Gill Sans Ultra Bold"/>
                </a:endParaRPr>
              </a:p>
            </p:txBody>
          </p:sp>
        </p:grpSp>
      </p:grpSp>
      <p:sp>
        <p:nvSpPr>
          <p:cNvPr id="241" name="Rectangle 3"/>
          <p:cNvSpPr/>
          <p:nvPr/>
        </p:nvSpPr>
        <p:spPr>
          <a:xfrm>
            <a:off x="3079800" y="2111400"/>
            <a:ext cx="266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l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1236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&gt; f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2" name=""/>
          <p:cNvSpPr/>
          <p:nvPr/>
        </p:nvSpPr>
        <p:spPr>
          <a:xfrm>
            <a:off x="2352600" y="242100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60520" y="2598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2200" indent="-2322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Calibri"/>
              </a:rPr>
              <a:t>GS</a:t>
            </a:r>
            <a:endParaRPr b="0" i="1" lang="en-US" sz="3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360520" y="3068640"/>
            <a:ext cx="952560" cy="287280"/>
          </a:xfrm>
          <a:prstGeom prst="rightArrow">
            <a:avLst>
              <a:gd name="adj1" fmla="val 50000"/>
              <a:gd name="adj2" fmla="val 8289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81280" y="5664240"/>
                <a:ext cx="403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r>
                            <m:t xml:space="preserve">n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35400" y="2773440"/>
            <a:ext cx="4553280" cy="1904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55800" y="4008600"/>
            <a:ext cx="8431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76160" y="2793960"/>
            <a:ext cx="4181760" cy="140976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5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46800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goldSearch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9240" y="5086440"/>
            <a:ext cx="7418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lcula el número de iteraciones necesarias para una tolerancia dad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lica *GS* (transparencia anterior) ese número de vec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8148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ime el mínimo entre los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final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2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00160" y="836640"/>
            <a:ext cx="9432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12880" y="2530440"/>
            <a:ext cx="6121440" cy="3851280"/>
            <a:chOff x="1712880" y="2530440"/>
            <a:chExt cx="6121440" cy="3851280"/>
          </a:xfrm>
        </p:grpSpPr>
        <p:sp>
          <p:nvSpPr>
            <p:cNvPr id="264" name=""/>
            <p:cNvSpPr/>
            <p:nvPr/>
          </p:nvSpPr>
          <p:spPr>
            <a:xfrm>
              <a:off x="227016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2160" y="5643720"/>
              <a:ext cx="30168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2960" y="5643720"/>
              <a:ext cx="3049560" cy="21564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7200" y="3201840"/>
              <a:ext cx="720720" cy="21600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9440" y="344808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2120" y="344808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75320" y="3225960"/>
              <a:ext cx="6537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7640" y="3225960"/>
              <a:ext cx="6541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2" name=""/>
            <p:cNvCxnSpPr>
              <a:stCxn id="271" idx="1"/>
              <a:endCxn id="269" idx="3"/>
            </p:cNvCxnSpPr>
            <p:nvPr/>
          </p:nvCxnSpPr>
          <p:spPr>
            <a:xfrm flipH="1">
              <a:off x="375552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1"/>
              <a:endCxn id="268" idx="3"/>
            </p:cNvCxnSpPr>
            <p:nvPr/>
          </p:nvCxnSpPr>
          <p:spPr>
            <a:xfrm flipH="1">
              <a:off x="4543200" y="3311280"/>
              <a:ext cx="1324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"/>
            <p:cNvSpPr/>
            <p:nvPr/>
          </p:nvSpPr>
          <p:spPr>
            <a:xfrm>
              <a:off x="5373720" y="3452760"/>
              <a:ext cx="72216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59600" y="3230640"/>
              <a:ext cx="720720" cy="1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cxnSp>
          <p:nvCxnSpPr>
            <p:cNvPr id="276" name=""/>
            <p:cNvCxnSpPr>
              <a:stCxn id="275" idx="1"/>
              <a:endCxn id="274" idx="3"/>
            </p:cNvCxnSpPr>
            <p:nvPr/>
          </p:nvCxnSpPr>
          <p:spPr>
            <a:xfrm flipH="1">
              <a:off x="6095160" y="3315960"/>
              <a:ext cx="6444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675320" y="3452760"/>
              <a:ext cx="65376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9600" y="3452760"/>
              <a:ext cx="720720" cy="171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712880" y="2530440"/>
              <a:ext cx="612144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2009880" y="4606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7000" y="1557360"/>
            <a:ext cx="95187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terpolación parabólica ajusta una parábola a los 3 punto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necesarios para establecer el bracketing de un ópt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sición del máximo/mínimo de esa parábola está d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336680" y="2924280"/>
                <a:ext cx="5560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800" y="4581360"/>
            <a:ext cx="521208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99520" indent="-29952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uevo punt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los 2 adyacentes 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se usan en la siguiente iteración del algorit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9800" y="3746520"/>
            <a:ext cx="43574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7040" y="1858680"/>
            <a:ext cx="6334200" cy="4306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rac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lden-Section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una variable con condiciones de conto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0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097600" y="2735280"/>
            <a:ext cx="4608360" cy="20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89" name=""/>
          <p:cNvSpPr/>
          <p:nvPr/>
        </p:nvSpPr>
        <p:spPr>
          <a:xfrm>
            <a:off x="5024520" y="4778280"/>
            <a:ext cx="47527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53040" y="2766960"/>
            <a:ext cx="4524480" cy="19051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863720" y="4003560"/>
            <a:ext cx="8859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28520" y="281160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9211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2576520" y="45086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parabInterp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289240" y="4941720"/>
            <a:ext cx="7418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tiliz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a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(a+b)/2,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b para ajustar la parábol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uta el mínimo de la parábola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23880" indent="-33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ara los valores de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f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) para eliminar una de las coordenadas anteriores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76160" y="2781360"/>
            <a:ext cx="418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terpolación Paraból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3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5" name=""/>
          <p:cNvSpPr/>
          <p:nvPr/>
        </p:nvSpPr>
        <p:spPr>
          <a:xfrm>
            <a:off x="19144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1530360" y="42609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3608280" y="3524400"/>
            <a:ext cx="720720" cy="2156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8" name=""/>
          <p:cNvSpPr/>
          <p:nvPr/>
        </p:nvSpPr>
        <p:spPr>
          <a:xfrm>
            <a:off x="2774880" y="379260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476600" y="3554280"/>
            <a:ext cx="70668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0" name=""/>
          <p:cNvCxnSpPr>
            <a:stCxn id="309" idx="1"/>
            <a:endCxn id="308" idx="3"/>
          </p:cNvCxnSpPr>
          <p:nvPr/>
        </p:nvCxnSpPr>
        <p:spPr>
          <a:xfrm flipH="1">
            <a:off x="3483000" y="3639960"/>
            <a:ext cx="993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759040" y="3543480"/>
            <a:ext cx="723960" cy="196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3608280" y="3789360"/>
            <a:ext cx="723960" cy="196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040280"/>
            <a:ext cx="708120" cy="17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4475160" y="3801960"/>
            <a:ext cx="706320" cy="17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15" name=""/>
          <p:cNvCxnSpPr>
            <a:stCxn id="314" idx="1"/>
            <a:endCxn id="313" idx="3"/>
          </p:cNvCxnSpPr>
          <p:nvPr/>
        </p:nvCxnSpPr>
        <p:spPr>
          <a:xfrm flipH="1">
            <a:off x="2617200" y="3887640"/>
            <a:ext cx="18579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74760" y="2820960"/>
            <a:ext cx="7396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que utiliza el método de Brent para que encontrar el mínimo de una función de una vari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[xmin, fval] = fminbnd(@func, a,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lgoritmo combina el golden search (fiable, pero lento) y la interpolación parabólica (rápida, pero poco fi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pasar opciones a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utilizando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cuarto arg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4106880"/>
            <a:ext cx="630396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3328920" y="6334200"/>
            <a:ext cx="6448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1844640" y="3641760"/>
            <a:ext cx="598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2035080" y="414972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44496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bnd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3728880" y="4221000"/>
            <a:ext cx="100836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724280"/>
            <a:ext cx="48718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513240" y="4221000"/>
            <a:ext cx="6164280" cy="2210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6160" y="2595600"/>
            <a:ext cx="7151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 fminbn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4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284640"/>
            <a:ext cx="1079640" cy="19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1136520" y="4946760"/>
            <a:ext cx="3016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853920" y="6110280"/>
            <a:ext cx="3227400" cy="2160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8480" y="2637000"/>
            <a:ext cx="885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5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en el intervalo -10 ≤ x ≤ 10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5816520" y="3429000"/>
            <a:ext cx="3800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245280" y="3551400"/>
            <a:ext cx="36036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istintos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bar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= -10, -6, 1, 4, 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r qué se obtienen resultados distinto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l es el mínim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3252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encontrarlo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52960" y="3565440"/>
            <a:ext cx="528840" cy="1282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8520" y="251784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896760" y="3433680"/>
            <a:ext cx="719280" cy="1447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919080" y="2492280"/>
            <a:ext cx="4321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4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197760" cy="4884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5181480" y="16282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48520" y="161568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2516040"/>
            <a:ext cx="1076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1832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0" name=""/>
          <p:cNvSpPr/>
          <p:nvPr/>
        </p:nvSpPr>
        <p:spPr>
          <a:xfrm>
            <a:off x="5492880" y="572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1" name=""/>
          <p:cNvSpPr/>
          <p:nvPr/>
        </p:nvSpPr>
        <p:spPr>
          <a:xfrm>
            <a:off x="7005600" y="41083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72880" y="170028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9.67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8.865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3" name=""/>
          <p:cNvCxnSpPr>
            <a:stCxn id="358" idx="0"/>
            <a:endCxn id="362" idx="3"/>
          </p:cNvCxnSpPr>
          <p:nvPr/>
        </p:nvCxnSpPr>
        <p:spPr>
          <a:xfrm flipH="1" flipV="1">
            <a:off x="2001240" y="2012400"/>
            <a:ext cx="55764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44520" y="450864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-4.2711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 0.0158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5" name=""/>
          <p:cNvCxnSpPr>
            <a:stCxn id="359" idx="1"/>
            <a:endCxn id="364" idx="3"/>
          </p:cNvCxnSpPr>
          <p:nvPr/>
        </p:nvCxnSpPr>
        <p:spPr>
          <a:xfrm flipH="1" flipV="1">
            <a:off x="2072520" y="4820760"/>
            <a:ext cx="190116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8177040" y="2997360"/>
            <a:ext cx="172908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Min = 7.0689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 = 3.5823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7" name=""/>
          <p:cNvCxnSpPr>
            <a:stCxn id="361" idx="7"/>
            <a:endCxn id="366" idx="1"/>
          </p:cNvCxnSpPr>
          <p:nvPr/>
        </p:nvCxnSpPr>
        <p:spPr>
          <a:xfrm flipV="1">
            <a:off x="7097760" y="3309480"/>
            <a:ext cx="108000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7689960" y="5013360"/>
            <a:ext cx="1728720" cy="620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xMin = 1.4275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in = -1.7757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369" name=""/>
          <p:cNvCxnSpPr>
            <a:stCxn id="360" idx="7"/>
            <a:endCxn id="368" idx="1"/>
          </p:cNvCxnSpPr>
          <p:nvPr/>
        </p:nvCxnSpPr>
        <p:spPr>
          <a:xfrm flipV="1">
            <a:off x="5584680" y="5325840"/>
            <a:ext cx="21060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4280" y="2781360"/>
            <a:ext cx="5845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rapezoide mostrado es la sección transversal de una viga. Su geometría se obtiene eliminando la parte superior de un triángulo de base B = 48mm y altura H = 60mm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problema consiste en encontrar la altura “y” del trapezoide que maximice el módulo de secc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=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/c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nde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el segundo momento del área transversal en torno al eje que pasa por el centroide C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66360" indent="-333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timizando el módulo de sección se minimiza el estrés máximo por flexión de la viga.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36760" y="4843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78" name=""/>
          <p:cNvSpPr/>
          <p:nvPr/>
        </p:nvSpPr>
        <p:spPr>
          <a:xfrm>
            <a:off x="1506600" y="5207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387360" y="1616040"/>
            <a:ext cx="5861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88880" y="3213000"/>
            <a:ext cx="5662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68640" y="5203800"/>
            <a:ext cx="2303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7360" y="1616040"/>
            <a:ext cx="58611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6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ptimizar el diseño de una viga para que su estrés por flexión sea mínim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rutina para computar S(y) sin tener que derivar la expresió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unc_ej_06.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ximizar 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Minimizar –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0 = 60c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_Opt = 52.18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0 = 7200cm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_Opt = 7864.43c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Resum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203560" y="4861080"/>
            <a:ext cx="64908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64160" y="3344760"/>
            <a:ext cx="316872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203560" y="547992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31440" y="177120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por qué y dónde surge la optimización en la resolución de problemas científicos y téc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conocer la diferencia entre la optimización uni- y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tinguir entre óptimos globales y loc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formular un problema de maximización para resolverlo mediante un algoritmo de minimiz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el golden-section sear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de una variable mediante interpolación parabó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un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46360" y="3373560"/>
            <a:ext cx="7489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lase Práctic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6" name="Footer Placeholder 6"/>
          <p:cNvSpPr/>
          <p:nvPr/>
        </p:nvSpPr>
        <p:spPr>
          <a:xfrm>
            <a:off x="4232160" y="101520"/>
            <a:ext cx="55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en una dimens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136520" y="1976400"/>
            <a:ext cx="8569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rcicios de optimización de funciones uni-dimensiona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Optimización de funciones uni-dimensionales con restric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0040" y="1978200"/>
            <a:ext cx="835200" cy="2027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352520" y="4541760"/>
            <a:ext cx="8280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¿Cómo adaptar el problema para poder utilizar los algoritmos vistos hasta ahora?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89120" y="3548160"/>
            <a:ext cx="3024000" cy="151128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3548160"/>
            <a:ext cx="4464360" cy="151128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4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85840" y="3141720"/>
            <a:ext cx="3456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52680" indent="-326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=0, i=1, 2, …, m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x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043520" y="3141720"/>
            <a:ext cx="544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33880" y="4292640"/>
                <a:ext cx="4129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n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  <m:r>
                                        <m:t xml:space="preserve">[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]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4760" y="3914640"/>
            <a:ext cx="865080" cy="803520"/>
          </a:xfrm>
          <a:prstGeom prst="rightArrow">
            <a:avLst>
              <a:gd name="adj1" fmla="val 50000"/>
              <a:gd name="adj2" fmla="val 269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21280" y="5084640"/>
            <a:ext cx="396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ón de penalización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cumplen las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= 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 se incumple una C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(x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C</a:t>
            </a: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5735520" y="5276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90600" y="5950080"/>
            <a:ext cx="614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aplicable a funciones multi-variabl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3" name=""/>
          <p:cNvSpPr/>
          <p:nvPr/>
        </p:nvSpPr>
        <p:spPr>
          <a:xfrm>
            <a:off x="5735520" y="4844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040" y="4770360"/>
            <a:ext cx="3990960" cy="1103400"/>
          </a:xfrm>
          <a:prstGeom prst="rect">
            <a:avLst/>
          </a:prstGeom>
          <a:solidFill>
            <a:srgbClr val="c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5" name=""/>
          <p:cNvSpPr/>
          <p:nvPr/>
        </p:nvSpPr>
        <p:spPr>
          <a:xfrm>
            <a:off x="5673600" y="4770360"/>
            <a:ext cx="3959280" cy="1103400"/>
          </a:xfrm>
          <a:prstGeom prst="rect">
            <a:avLst/>
          </a:prstGeom>
          <a:solidFill>
            <a:srgbClr val="00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7240" y="4363920"/>
            <a:ext cx="4595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BLEMA CO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x) = 0.1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-2sin(x) sujeta a las restricciones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≥ 0,  x ≤ 4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805280" y="4363920"/>
            <a:ext cx="472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Calibri"/>
              </a:rPr>
              <a:t>PROBLEMA SIN CC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*(x):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*(x) = f(x) +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P(x) =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-x,0) + ma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(x-4,0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9906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90600" y="1793880"/>
            <a:ext cx="917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ar algoritmos de optimización sin restricciones per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definir la función objetivo para que el incumplimiento de las condiciones de contorno (CCs) esté altamente penaliz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2" name=""/>
          <p:cNvSpPr/>
          <p:nvPr/>
        </p:nvSpPr>
        <p:spPr>
          <a:xfrm>
            <a:off x="4748040" y="4954680"/>
            <a:ext cx="865440" cy="803160"/>
          </a:xfrm>
          <a:prstGeom prst="rightArrow">
            <a:avLst>
              <a:gd name="adj1" fmla="val 50000"/>
              <a:gd name="adj2" fmla="val 26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755720" y="3246480"/>
            <a:ext cx="7085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7.m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is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l mínimo de f(x) = 0.1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2sin(x) con 0 ≤ x ≤ 4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52520" y="33955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5040" y="1469880"/>
            <a:ext cx="8640720" cy="499428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338800"/>
            <a:ext cx="1441440" cy="5616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Min = 1.4275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Min = -1.7757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836640"/>
            <a:ext cx="9906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de Funciones con Restriccion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29" name=""/>
          <p:cNvSpPr/>
          <p:nvPr/>
        </p:nvSpPr>
        <p:spPr>
          <a:xfrm>
            <a:off x="1657440" y="1947960"/>
            <a:ext cx="852480" cy="3373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x0 = -10</a:t>
            </a: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0" name=""/>
          <p:cNvSpPr/>
          <p:nvPr/>
        </p:nvSpPr>
        <p:spPr>
          <a:xfrm>
            <a:off x="3011400" y="595008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1" name=""/>
          <p:cNvCxnSpPr>
            <a:stCxn id="430" idx="6"/>
            <a:endCxn id="427" idx="1"/>
          </p:cNvCxnSpPr>
          <p:nvPr/>
        </p:nvCxnSpPr>
        <p:spPr>
          <a:xfrm flipV="1">
            <a:off x="3119040" y="5622120"/>
            <a:ext cx="538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1011240" y="25588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cxnSp>
        <p:nvCxnSpPr>
          <p:cNvPr id="433" name=""/>
          <p:cNvCxnSpPr>
            <a:stCxn id="432" idx="6"/>
            <a:endCxn id="429" idx="1"/>
          </p:cNvCxnSpPr>
          <p:nvPr/>
        </p:nvCxnSpPr>
        <p:spPr>
          <a:xfrm flipV="1">
            <a:off x="1118880" y="2120040"/>
            <a:ext cx="538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816280" y="1614600"/>
            <a:ext cx="706320" cy="4464000"/>
          </a:xfrm>
          <a:prstGeom prst="rect">
            <a:avLst/>
          </a:prstGeom>
          <a:solidFill>
            <a:srgbClr val="00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601040" y="545292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6" name=""/>
          <p:cNvSpPr/>
          <p:nvPr/>
        </p:nvSpPr>
        <p:spPr>
          <a:xfrm>
            <a:off x="5618160" y="193500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7" name=""/>
          <p:cNvSpPr/>
          <p:nvPr/>
        </p:nvSpPr>
        <p:spPr>
          <a:xfrm>
            <a:off x="5973840" y="2043000"/>
            <a:ext cx="1584360" cy="3241800"/>
          </a:xfrm>
          <a:custGeom>
            <a:avLst/>
            <a:gdLst/>
            <a:ahLst/>
            <a:rect l="l" t="t" r="r" b="b"/>
            <a:pathLst>
              <a:path w="998" h="2042">
                <a:moveTo>
                  <a:pt x="0" y="0"/>
                </a:moveTo>
                <a:lnTo>
                  <a:pt x="181" y="635"/>
                </a:lnTo>
                <a:lnTo>
                  <a:pt x="408" y="1316"/>
                </a:lnTo>
                <a:lnTo>
                  <a:pt x="635" y="1815"/>
                </a:lnTo>
                <a:lnTo>
                  <a:pt x="862" y="1996"/>
                </a:lnTo>
                <a:lnTo>
                  <a:pt x="998" y="20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2432160" y="101520"/>
            <a:ext cx="737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con restricciones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9906120" cy="1800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00"/>
                </a:solidFill>
                <a:latin typeface="Calibri"/>
              </a:rPr>
              <a:t>TEMA 3</a:t>
            </a:r>
            <a:br>
              <a:rPr sz="5200"/>
            </a:br>
            <a:r>
              <a:rPr b="1" lang="es-ES" sz="5200" spc="-1" strike="noStrike">
                <a:solidFill>
                  <a:srgbClr val="c00000"/>
                </a:solidFill>
                <a:latin typeface="Calibri"/>
              </a:rPr>
              <a:t>OPTIMIZACIÓN</a:t>
            </a:r>
            <a:endParaRPr b="1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4060800"/>
            <a:ext cx="9906120" cy="18892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ocío del Río Fernán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pto. Electrónica y Electromagnetis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Métodos Numéricos y de Simul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87040" y="1858680"/>
            <a:ext cx="6334200" cy="37306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de funciones de multi-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wnhill Si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s de enfriamiento simu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1 sesión teórica + 1 sesión prác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87360" y="1771560"/>
            <a:ext cx="9245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representar en MATLAB curvas de superficie y de contorno para visualizar funciones de dos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localizar el óptimo de una función multi-variable mediante el algoritmo de downhill si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ber aplicar la funció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MATLAB para determinar el mínimo de una función multi-dimens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ender cómo los métodos de enfriamiento simulado y los algoritmos genéticos ofrecen la posibilidad de alcanzar el mínimo global de una fun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49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9240" y="1844640"/>
            <a:ext cx="9286920" cy="2016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Y. Yang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 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Using MATLA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Wiley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.H. Press, S.A. Teukolsky, W.T. Vetterling, B.P. Flannery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Recipes. The Art of Scientific Computing, 3/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ráficas Multi-Dimensional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7360" y="1628280"/>
            <a:ext cx="924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funciones de dos variables se pueden visualizar mediante curvas de superficie y de contorno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rfc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ontourf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57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27280" y="2519280"/>
            <a:ext cx="6178680" cy="39340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5840" y="3703680"/>
            <a:ext cx="35290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alibri"/>
              </a:rPr>
              <a:t>EJEMPLO_08.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sualización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= 2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2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-2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0 y 0 ≤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≤ 3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2160" y="3139920"/>
            <a:ext cx="649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387360" y="1666800"/>
            <a:ext cx="9318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étodo downhill simplex (simple “colina abajo”) o de Nelder-Mead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a del método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plear un simplex que se mueva por el espacio de diseño para encerrar el punto óptimo y después encoger el simplex hasta alcanzar la tolerancia dese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permiten 4 tipos de movimientos del simplex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2680" indent="-326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dirección del movimiento está determinada por el valor de f en los vértic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ayor valor de f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vértice con menor valor de f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5" name=""/>
          <p:cNvSpPr/>
          <p:nvPr/>
        </p:nvSpPr>
        <p:spPr>
          <a:xfrm>
            <a:off x="1281240" y="2243160"/>
            <a:ext cx="72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6" name=""/>
          <p:cNvSpPr/>
          <p:nvPr/>
        </p:nvSpPr>
        <p:spPr>
          <a:xfrm>
            <a:off x="836640" y="2279520"/>
            <a:ext cx="78487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n-simple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Figura de n-dimensiones con n+1 vértices conectados mediante líneas rectas y limitada por caras poligon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u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línea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534960" indent="-77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riángu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3-simple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traedr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240" y="1844280"/>
            <a:ext cx="9286920" cy="4537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J. Kiusalaas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ical Methods in Engineering with MATLAB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Cambridge University Press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 algn="just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.C. Chapra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ed Numerical Methods with MATLAB for Engineers and Scientists, 2/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McGraw-Hill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7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PARTE I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2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928880" y="2205000"/>
            <a:ext cx="6473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6400" y="3060720"/>
            <a:ext cx="4075200" cy="3247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728880" y="1947960"/>
            <a:ext cx="4407120" cy="1625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537240" y="2997360"/>
            <a:ext cx="2814840" cy="33112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387360" y="1666800"/>
            <a:ext cx="9209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vimientos posibles (3D)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7000" y="836280"/>
            <a:ext cx="92091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7000" y="1666800"/>
            <a:ext cx="5213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coger un simplex inicial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erar hasta d ≤ ε (ε = tolerancia de error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reflex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reflex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inten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Lo, aceptar la expansión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la reflexión es aceptada, comenzar u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ntar la contracción: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3" marL="1349280" indent="-336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Si f(new) &lt; Hi, aceptar la contracción y comenzar un nuevo ciclo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2" marL="1012680" indent="-336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racción múltiple (encoger)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n de iteraciones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529240" y="2205000"/>
            <a:ext cx="4176720" cy="27338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5267160" y="5373720"/>
            <a:ext cx="42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lo general, el algoritmo es lento pero robust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338120" y="765000"/>
            <a:ext cx="7359840" cy="551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808520" y="6161040"/>
            <a:ext cx="49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es.wikipedia.org/wiki/Archivo:Nelder_Mead2.gif</a:t>
            </a:r>
            <a:endParaRPr b="0" i="1" lang="en-US" sz="1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0" name=""/>
          <p:cNvSpPr/>
          <p:nvPr/>
        </p:nvSpPr>
        <p:spPr>
          <a:xfrm>
            <a:off x="2540160" y="3641760"/>
            <a:ext cx="128268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220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008000" y="2603520"/>
            <a:ext cx="6249960" cy="3781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1800" y="3933720"/>
            <a:ext cx="5151240" cy="23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476600" y="4010040"/>
            <a:ext cx="5086440" cy="2095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38720" y="6161040"/>
            <a:ext cx="52959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499" name=""/>
          <p:cNvSpPr/>
          <p:nvPr/>
        </p:nvSpPr>
        <p:spPr>
          <a:xfrm>
            <a:off x="4724280" y="357336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35053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downhill_simplex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ownhill Simplex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04" name=""/>
          <p:cNvSpPr/>
          <p:nvPr/>
        </p:nvSpPr>
        <p:spPr>
          <a:xfrm>
            <a:off x="1349280" y="5996160"/>
            <a:ext cx="3961080" cy="21564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78000" y="2260440"/>
            <a:ext cx="4035240" cy="4120920"/>
            <a:chOff x="1278000" y="2260440"/>
            <a:chExt cx="4035240" cy="412092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1278000" y="2260440"/>
              <a:ext cx="36957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03200" y="549576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rot="5400000">
              <a:off x="1423800" y="5074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79440" y="2277720"/>
              <a:ext cx="259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09.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- 4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87000" y="1785960"/>
            <a:ext cx="920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LAB tiene una función propia,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para minimizar funciones de n variables mediante el algoritmo de Nelder-M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[xmin, fval] = fminsearch(@func, xStart, op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ant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Star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mo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on vectores-fila de longitud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función debe escribirse en términos de una sola variable, representando las distintas dimensiones mediante índices de la vari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ueden controlar las opciones de la función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Display, TolX, TolFun, MaxFunEvals, MaxIter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options = optimset(‘display’, ‘iter’, ‘TolX’,1e-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936800" y="3951360"/>
            <a:ext cx="814320" cy="1443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17" name=""/>
          <p:cNvSpPr/>
          <p:nvPr/>
        </p:nvSpPr>
        <p:spPr>
          <a:xfrm>
            <a:off x="873000" y="3424320"/>
            <a:ext cx="4172040" cy="1681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80920" y="2577960"/>
            <a:ext cx="6516720" cy="358164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28520" y="2617920"/>
            <a:ext cx="649440" cy="57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0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(x,y) = (x-0.5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x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(y+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-1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3881520"/>
            <a:ext cx="1368720" cy="287280"/>
          </a:xfrm>
          <a:prstGeom prst="rightArrow">
            <a:avLst>
              <a:gd name="adj1" fmla="val 50000"/>
              <a:gd name="adj2" fmla="val 1191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8098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urier New"/>
              </a:rPr>
              <a:t>fminsearch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ión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97240" y="4292640"/>
            <a:ext cx="6448320" cy="1698480"/>
            <a:chOff x="3297240" y="4292640"/>
            <a:chExt cx="6448320" cy="1698480"/>
          </a:xfrm>
        </p:grpSpPr>
        <p:sp>
          <p:nvSpPr>
            <p:cNvPr id="527" name=""/>
            <p:cNvSpPr/>
            <p:nvPr/>
          </p:nvSpPr>
          <p:spPr>
            <a:xfrm>
              <a:off x="3402000" y="4292640"/>
              <a:ext cx="63039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10160" y="4406760"/>
              <a:ext cx="121104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5440" y="4910040"/>
              <a:ext cx="5970600" cy="1447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97240" y="5702400"/>
              <a:ext cx="64483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bbe0e3"/>
                </a:solidFill>
                <a:latin typeface="Gill Sans Ultra Bold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3"/>
            <a:stretch/>
          </p:blipFill>
          <p:spPr>
            <a:xfrm>
              <a:off x="3495600" y="4383000"/>
              <a:ext cx="615312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79400" y="830160"/>
            <a:ext cx="835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153040" y="836640"/>
            <a:ext cx="3965400" cy="56167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00160" y="1341360"/>
            <a:ext cx="48528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robar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un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5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0.5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Alcanza otro mínim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-1.00, 1.00], F_min =  0.00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0 0.5] </a:t>
            </a:r>
            <a:r>
              <a:rPr b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 Se pierde (max iter)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x_min = [0.02, 1.01], F_min =  0.24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39" name=""/>
          <p:cNvSpPr/>
          <p:nvPr/>
        </p:nvSpPr>
        <p:spPr>
          <a:xfrm>
            <a:off x="487440" y="4437000"/>
            <a:ext cx="4321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15840" y="4559400"/>
            <a:ext cx="38926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aber si el mínimo que encontramos es uno de entre varios mínimos locales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Podemos asegurarnos de que el mínimo alcanzado sea global?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96960" y="4595760"/>
            <a:ext cx="528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7000" y="1642680"/>
            <a:ext cx="93186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rear algo tan efectivo com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romiso prestaciones-limit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temáticamente consiste en encontrar los mínimos o máximos de una función que depende de una o más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12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(x)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función objetivo, función de mérito o función cost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variable de dis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fig0701"/>
          <p:cNvPicPr/>
          <p:nvPr/>
        </p:nvPicPr>
        <p:blipFill>
          <a:blip r:embed="rId1"/>
          <a:stretch/>
        </p:blipFill>
        <p:spPr>
          <a:xfrm>
            <a:off x="0" y="4336920"/>
            <a:ext cx="5283360" cy="204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ig0702"/>
          <p:cNvPicPr/>
          <p:nvPr/>
        </p:nvPicPr>
        <p:blipFill>
          <a:blip r:embed="rId2"/>
          <a:stretch/>
        </p:blipFill>
        <p:spPr>
          <a:xfrm>
            <a:off x="5200560" y="4005360"/>
            <a:ext cx="4605480" cy="250344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87360" y="2073240"/>
            <a:ext cx="917424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Templado de m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final de la transición líquido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ólido la estructura cristalina tiene la mínima energía. El metal “encuentra” este estado si la temperatura (T) se reduce de manera suficientemente l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 una T finita el sistema tiene baja probabilidad de estar en un estado altamente excitado. Esto evita que quede “atrapado”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T se reduce demasiado rápido, el resultado es una estructura cristalina amorf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A) emula este proceso de lento enfr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560520" y="2421000"/>
            <a:ext cx="9001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famoso problema de minimización combinator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étodo de enfriamiento simulado proporciona solucion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4" marL="168768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Un viajante debe visitar N ciudades y volver a casa siguiendo la ruta más corta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Existen N! caminos diferentes a tomar. Si N es grande, es imposible probar todas las posibilidades. (Ej: Si N = 30 existen 2.65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utas posibles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87360" y="155736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28520" y="2612880"/>
            <a:ext cx="4681440" cy="3840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024520" y="2651040"/>
            <a:ext cx="4681440" cy="380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Problema del Viajante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60520" y="1701720"/>
            <a:ext cx="900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utas para N = 100 ciudades con un río que las divide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28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n coste asociado al cruce del río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024520" y="2281320"/>
            <a:ext cx="44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ruzar el río es caro (peaje)</a:t>
            </a:r>
            <a:endParaRPr b="0" i="1" lang="en-US" sz="22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veling Salesma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– Demo de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03200" y="2708280"/>
            <a:ext cx="6305400" cy="3586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2456400">
            <a:off x="2707920" y="335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711680" y="1746360"/>
            <a:ext cx="4896000" cy="4101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92232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9600" indent="-309600" algn="ctr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6" name=""/>
          <p:cNvSpPr/>
          <p:nvPr/>
        </p:nvSpPr>
        <p:spPr>
          <a:xfrm rot="7390800">
            <a:off x="9093600" y="4545720"/>
            <a:ext cx="503280" cy="142560"/>
          </a:xfrm>
          <a:prstGeom prst="rightArrow">
            <a:avLst>
              <a:gd name="adj1" fmla="val 50000"/>
              <a:gd name="adj2" fmla="val 882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68200" y="1773000"/>
            <a:ext cx="9437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nzar en un determinado estado s0 (punto del espacio de diseño). Computar el coste o energía E(s0). Fijar la temperatura a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r de algún modo un estado diferente s1. Computar E(s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E(s1)&lt;E(s0), cambiar del estado s0 al estado s1. En otro caso, computar la probabilidad de tran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 =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-[E(s1)-E(s0)]/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putar un número aleatorio p uniformemente distribuido en el intervalo [0,1]. Si p &lt; P(s0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1), cambiar al estado s1. En otro caso, permanecer en s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-37296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r al paso 2. (Disminuir T después de algunos pas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squema de enfriamient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65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ta: Si T no es suficientemente baja, podemos quedar atrapados en un mínimo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708280"/>
            <a:ext cx="990612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200160" y="1773360"/>
            <a:ext cx="87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hermetic.ch/misc/ts3/ts3demo.ht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. Se ejecuta desde el prompt de DO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048280" y="3325680"/>
            <a:ext cx="4800600" cy="2500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7240" y="3247920"/>
            <a:ext cx="4808520" cy="2629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040520" y="1557360"/>
            <a:ext cx="201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omic Sans MS"/>
              </a:rPr>
              <a:t>OJO Comprobar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49240" y="2479680"/>
            <a:ext cx="82663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étodo de Enfriamiento Simulado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1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16888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200160" y="2697120"/>
            <a:ext cx="4752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Comparar distintos algoritmos y distintas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6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2 3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7, -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1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 [-0.0899, 0.7128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31800" y="1988640"/>
            <a:ext cx="8858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lgorithm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GA): Técnica de búsqueda aleatoria dirigida que está modelada de acuerdo con el proceso evolución/selección de supervivencia del mejor adap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dividuos candidatos para posibles soluciones juegan el papel de los cromosomas y se representan mediante cadenas de números bin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gual que el método SA puede evitar quedar atrapado en mínimos locales y alcanzar los globales. Al igual que SA, no siempre lo consig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81240" y="1751040"/>
            <a:ext cx="5832720" cy="4630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268200" y="1773360"/>
            <a:ext cx="3245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quema del algoritmo: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g0702"/>
          <p:cNvPicPr/>
          <p:nvPr/>
        </p:nvPicPr>
        <p:blipFill>
          <a:blip r:embed="rId1"/>
          <a:stretch/>
        </p:blipFill>
        <p:spPr>
          <a:xfrm>
            <a:off x="5200560" y="3979800"/>
            <a:ext cx="4605480" cy="250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36520" y="3878280"/>
            <a:ext cx="3024360" cy="25527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89" name="Title 4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normalmente se asimila con la minimización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ximización de f(x)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minimización de  –f(x)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29760" indent="-3297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 similitudes con los métodos de localización de raíc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59520" indent="-32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sible 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iferenciar f(x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Obtener las raíces de f’(x)=0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468520" y="847800"/>
            <a:ext cx="4970520" cy="5618160"/>
          </a:xfrm>
          <a:prstGeom prst="rect">
            <a:avLst/>
          </a:prstGeom>
          <a:ln w="0">
            <a:noFill/>
          </a:ln>
        </p:spPr>
      </p:pic>
      <p:sp>
        <p:nvSpPr>
          <p:cNvPr id="600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276640"/>
            <a:ext cx="9906120" cy="4222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 y TSP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60520" y="155736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lalena.com/ai/tsp/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mo descargable y también ejecutable online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88880" y="2433600"/>
            <a:ext cx="4146480" cy="3913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40160" y="2457360"/>
            <a:ext cx="4176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lgoritmos Genético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inimización multi-dimensional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7360" y="1616040"/>
            <a:ext cx="9318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EJEMPLO_12.m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nimizar la función f(x,y) “camello de 6 jorobas”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699160" y="2492280"/>
            <a:ext cx="3933720" cy="3905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00160" y="2697120"/>
            <a:ext cx="54734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Calibri"/>
              </a:rPr>
              <a:t>Distintos algoritmos y condiciones iniciales:</a:t>
            </a:r>
            <a:endParaRPr b="0" i="1" lang="en-US" sz="21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1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1.7036, -0.7960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0.0898,-0.7126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0, 0.7128] = -1.0316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2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  <a:p>
            <a:pPr marL="333000" indent="-33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xStart = [-3 2]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mplex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6, 0.7961] = -0.2155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minsearch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899, 0.7126] = -1.0316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      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1.7035, 0.7963] = -0.2155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G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f[-0.0901, 0.7116] = -1.0316</a:t>
            </a:r>
            <a:endParaRPr b="0" i="1" lang="en-US" sz="1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992160" y="1628640"/>
            <a:ext cx="7734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unciones propias de 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b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minunc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sin restri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está basado en métodos direct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omo simplex), sino de grad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minco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multi-variable con restriccion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neales y no-line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olbo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tion Too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tic Algorithm and Direct Search Toolbox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ulated Annealing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387360" y="836640"/>
            <a:ext cx="920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Optimización en MATLAB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3944880" y="101520"/>
            <a:ext cx="586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MATLAB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ig0704"/>
          <p:cNvPicPr/>
          <p:nvPr/>
        </p:nvPicPr>
        <p:blipFill>
          <a:blip r:embed="rId1"/>
          <a:stretch/>
        </p:blipFill>
        <p:spPr>
          <a:xfrm>
            <a:off x="1898640" y="3736800"/>
            <a:ext cx="6438960" cy="271656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7360" y="1641600"/>
            <a:ext cx="9318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glob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presenta la mejor de las soluciones, mientras que u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óptimo loc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mejor que sus vecinos inmediato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9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asos que incluyen óptimos locales se llama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ulti-mod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encontrar el óptim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ómo no confundir un óptimo local con uno global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5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Óptimos Globales vs. Locale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7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8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spectos Básicos de la Optimización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7360" y="1616040"/>
            <a:ext cx="93186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nque a veces admiten solución analítica, la mayoría de los problemas reales requiere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ciones numéricas por ordenad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lgoritm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optimización s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os iterativos que requieren un valor inic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las variables de diseño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 f(x) presenta varios mínimos locales, el x inicial determina cuál se computará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hay manera garantizada de encontrar el mínimo glob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rateg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rrer el algoritmo varias veces usando diferentes valores iniciale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buen método de optimización debe intentar reducir el número de veces que se evalúa f(x)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ptimización como parte de un método numérico más complejo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lvl="1" marL="6732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to tiempo de cómputo en la evaluación de funciones complejas.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11040" y="4254480"/>
            <a:ext cx="97887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3936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mización de f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 + Cumplimiento de igualdades y/o desigualda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=0, i=1, 2, …, 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≤0, j=1, 2, …, n</a:t>
            </a:r>
            <a:endParaRPr b="0" i="1" lang="en-US" sz="2000" spc="-1" strike="noStrike">
              <a:solidFill>
                <a:srgbClr val="bbe0e3"/>
              </a:solidFill>
              <a:latin typeface="Gill Sans Ultra Bold"/>
            </a:endParaRPr>
          </a:p>
          <a:p>
            <a:pPr marL="319680" indent="-31968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lgoritmos de optimización con restricciones suelen ser complejos, específicos y difícilmente accesibles.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3840" y="1785600"/>
            <a:ext cx="6697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ptimización multi-dimensional maneja funciones de dos o más variab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f(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, co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(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…,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6"/>
          <p:cNvSpPr/>
          <p:nvPr/>
        </p:nvSpPr>
        <p:spPr>
          <a:xfrm>
            <a:off x="41400" y="98280"/>
            <a:ext cx="591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Optimiza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5089680" y="101520"/>
            <a:ext cx="47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libri"/>
              </a:rPr>
              <a:t>Introducción</a:t>
            </a:r>
            <a:endParaRPr b="0" i="1" lang="en-US" sz="2800" spc="-1" strike="noStrike">
              <a:solidFill>
                <a:srgbClr val="bbe0e3"/>
              </a:solidFill>
              <a:latin typeface="Gill Sans Ultra Bold"/>
            </a:endParaRPr>
          </a:p>
        </p:txBody>
      </p:sp>
      <p:sp>
        <p:nvSpPr>
          <p:cNvPr id="104" name="Title 4"/>
          <p:cNvSpPr/>
          <p:nvPr/>
        </p:nvSpPr>
        <p:spPr>
          <a:xfrm>
            <a:off x="200160" y="836640"/>
            <a:ext cx="9505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ptimización Multi-Dimensional y Ligaduras</a:t>
            </a:r>
            <a:endParaRPr b="0" i="1" lang="en-US" sz="3600" spc="-1" strike="noStrike">
              <a:solidFill>
                <a:srgbClr val="bbe0e3"/>
              </a:solidFill>
              <a:latin typeface="Gill Sans Ul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1280" y="1919160"/>
            <a:ext cx="2664000" cy="230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93840" y="306864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412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menudo los problemas reales conllevan la optimización de funciones sujeta 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tri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gadur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ondiciones de contorn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bbe0e3"/>
              </a:solidFill>
              <a:latin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9:55:16Z</dcterms:created>
  <dc:creator>Rocío del Río</dc:creator>
  <dc:description/>
  <cp:keywords>Master</cp:keywords>
  <dc:language>en-US</dc:language>
  <cp:lastModifiedBy>pdi</cp:lastModifiedBy>
  <dcterms:modified xsi:type="dcterms:W3CDTF">2010-10-08T22:13:07Z</dcterms:modified>
  <cp:revision>2665</cp:revision>
  <dc:subject>RF Front-End Circuit Design</dc:subject>
  <dc:title>RF Power Amplifiers</dc:title>
</cp:coreProperties>
</file>