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étodos Numéricos y de Simulación</a:t>
            </a:r>
            <a:endParaRPr b="0" lang="en-US" sz="1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685680" y="0"/>
            <a:ext cx="31100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ocío del Río – Dpto. Electrónica y Electromagnetismo (US)</a:t>
            </a:r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9693360"/>
            <a:ext cx="43290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rado en Física – Universidad de Sevilla</a:t>
            </a:r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60DD-F495-40DD-9869-CFD4E5C4E69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ps = epsilon (&lt;&lt;), introducida por si da la casualidad posible de que el número aleatorio generado sea exactamente 0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Nota: Los scripts de MATLAB de los ejemplos 6 y 7 usando están claramente poco optimizados dado que se usan bucles, cuyo recorrido puede ser muy largo si N es alt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uestión 1: ¿Cómo mejorar los scripts de los ejemplos 6 y 7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uestión 2: ¿Cómo generaría aleatoriamente números enteros con distribución uniforme en [a,b]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91A4-D3C9-4131-981E-27C06B0C52E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l método data del Proyecto Manhattan en los 1940’s y se llama así por la ciudad de Monte Carlo (por los casinos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omo suelen decir muchos, suena más romántico el “Método de Monte Carlo” que el “Método de Las Vegas”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¿Cómo resolver integrales tirando piedras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difícil creer que las técnicas de Monte Carlo puedan usarse para evaluar integrales. Después de todo, no queremos hacer apuestas sobre su valor, como si éste fuera fruto del az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cierto que existen otros métodos de integración mejores que Monte Carlo para integrales simples y dobles, pero cuando la dimensionalidad de la integral se hace alta, las técnicas de Monte Carlo son las mejo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difícil creer que las técnicas de Monte Carlo puedan usarse para evaluar integrales. Después de todo, no queremos hacer apuestas sobre su valor, como si éste fuera fruto del az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cierto que existen otros métodos de integración mejores que Monte Carlo para integrales simples y dobles, pero cuando la dimensionalidad de la integral se hace alta, las técnicas de Monte Carlo son las mejo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xisten muchas variaciones del método de integración numérica para evaluar funciones con varianza alta (von Neumann y muchos otros métodos), pero su estudio va más allá del propósito de la asignatur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064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61428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8700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0064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61428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7000" y="836280"/>
            <a:ext cx="920916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6480" y="6572160"/>
            <a:ext cx="9899640" cy="287280"/>
            <a:chOff x="6480" y="6572160"/>
            <a:chExt cx="9899640" cy="287280"/>
          </a:xfrm>
        </p:grpSpPr>
        <p:pic>
          <p:nvPicPr>
            <p:cNvPr id="1" name="Picture 16" descr=""/>
            <p:cNvPicPr/>
            <p:nvPr/>
          </p:nvPicPr>
          <p:blipFill>
            <a:blip r:embed="rId2"/>
            <a:stretch/>
          </p:blipFill>
          <p:spPr>
            <a:xfrm>
              <a:off x="331236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6" descr=""/>
            <p:cNvPicPr/>
            <p:nvPr/>
          </p:nvPicPr>
          <p:blipFill>
            <a:blip r:embed="rId3"/>
            <a:stretch/>
          </p:blipFill>
          <p:spPr>
            <a:xfrm>
              <a:off x="659412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6" descr=""/>
            <p:cNvPicPr/>
            <p:nvPr/>
          </p:nvPicPr>
          <p:blipFill>
            <a:blip r:embed="rId4"/>
            <a:stretch/>
          </p:blipFill>
          <p:spPr>
            <a:xfrm>
              <a:off x="648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25"/>
          <p:cNvGrpSpPr/>
          <p:nvPr/>
        </p:nvGrpSpPr>
        <p:grpSpPr>
          <a:xfrm>
            <a:off x="3240" y="0"/>
            <a:ext cx="9899640" cy="576360"/>
            <a:chOff x="3240" y="0"/>
            <a:chExt cx="9899640" cy="576360"/>
          </a:xfrm>
        </p:grpSpPr>
        <p:pic>
          <p:nvPicPr>
            <p:cNvPr id="5" name="Picture 16" descr=""/>
            <p:cNvPicPr/>
            <p:nvPr/>
          </p:nvPicPr>
          <p:blipFill>
            <a:blip r:embed="rId5"/>
            <a:stretch/>
          </p:blipFill>
          <p:spPr>
            <a:xfrm>
              <a:off x="330516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6" descr=""/>
            <p:cNvPicPr/>
            <p:nvPr/>
          </p:nvPicPr>
          <p:blipFill>
            <a:blip r:embed="rId6"/>
            <a:stretch/>
          </p:blipFill>
          <p:spPr>
            <a:xfrm>
              <a:off x="658872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6" descr=""/>
            <p:cNvPicPr/>
            <p:nvPr/>
          </p:nvPicPr>
          <p:blipFill>
            <a:blip r:embed="rId7"/>
            <a:stretch/>
          </p:blipFill>
          <p:spPr>
            <a:xfrm>
              <a:off x="324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Footer Placeholder 6"/>
          <p:cNvSpPr/>
          <p:nvPr/>
        </p:nvSpPr>
        <p:spPr>
          <a:xfrm>
            <a:off x="6321600" y="6588000"/>
            <a:ext cx="3584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Métodos Numéricos y de Simulación – Curso 2010/11</a:t>
            </a:r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8"/>
          <a:stretch/>
        </p:blipFill>
        <p:spPr>
          <a:xfrm>
            <a:off x="0" y="6578640"/>
            <a:ext cx="334800" cy="279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14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-336240">
              <a:spcBef>
                <a:spcPts val="14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336600">
              <a:spcBef>
                <a:spcPts val="1412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traight Connector 8"/>
          <p:cNvSpPr/>
          <p:nvPr/>
        </p:nvSpPr>
        <p:spPr>
          <a:xfrm>
            <a:off x="0" y="57168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" name="Straight Connector 9"/>
          <p:cNvSpPr/>
          <p:nvPr/>
        </p:nvSpPr>
        <p:spPr>
          <a:xfrm>
            <a:off x="0" y="641520"/>
            <a:ext cx="9906120" cy="1440"/>
          </a:xfrm>
          <a:prstGeom prst="line">
            <a:avLst/>
          </a:prstGeom>
          <a:ln w="12708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" name="Straight Connector 11"/>
          <p:cNvSpPr/>
          <p:nvPr/>
        </p:nvSpPr>
        <p:spPr>
          <a:xfrm>
            <a:off x="0" y="6529320"/>
            <a:ext cx="9906120" cy="1800"/>
          </a:xfrm>
          <a:prstGeom prst="line">
            <a:avLst/>
          </a:prstGeom>
          <a:ln w="6336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" name="Straight Connector 12"/>
          <p:cNvSpPr/>
          <p:nvPr/>
        </p:nvSpPr>
        <p:spPr>
          <a:xfrm>
            <a:off x="0" y="657072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grpSp>
        <p:nvGrpSpPr>
          <p:cNvPr id="16" name="Group 20"/>
          <p:cNvGrpSpPr/>
          <p:nvPr/>
        </p:nvGrpSpPr>
        <p:grpSpPr>
          <a:xfrm>
            <a:off x="452520" y="622440"/>
            <a:ext cx="857160" cy="142560"/>
            <a:chOff x="452520" y="622440"/>
            <a:chExt cx="857160" cy="142560"/>
          </a:xfrm>
        </p:grpSpPr>
        <p:sp>
          <p:nvSpPr>
            <p:cNvPr id="17" name="Oval 17"/>
            <p:cNvSpPr/>
            <p:nvPr/>
          </p:nvSpPr>
          <p:spPr>
            <a:xfrm>
              <a:off x="452520" y="622440"/>
              <a:ext cx="14256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18" name="Oval 18"/>
            <p:cNvSpPr/>
            <p:nvPr/>
          </p:nvSpPr>
          <p:spPr>
            <a:xfrm>
              <a:off x="80964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19" name="Oval 19"/>
            <p:cNvSpPr/>
            <p:nvPr/>
          </p:nvSpPr>
          <p:spPr>
            <a:xfrm>
              <a:off x="116676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p:sp>
        <p:nvSpPr>
          <p:cNvPr id="20" name="Footer Placeholder 6"/>
          <p:cNvSpPr/>
          <p:nvPr/>
        </p:nvSpPr>
        <p:spPr>
          <a:xfrm>
            <a:off x="344520" y="6588000"/>
            <a:ext cx="40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Rocío del Río – Dpto. Electrónica y Electromagnetismo (US)</a:t>
            </a:r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ysics.orst.edu/~rubin/" TargetMode="External"/><Relationship Id="rId2" Type="http://schemas.openxmlformats.org/officeDocument/2006/relationships/hyperlink" Target="http://www-teaching.physics.ox.ac.uk/computing/NumericalMethods/NMfP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9906120" cy="2952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4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NÚMEROS ALEATORIOS Y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MÉTODOS DE MONTE CARLO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-360" y="4652640"/>
            <a:ext cx="9906120" cy="863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635040" y="3500280"/>
            <a:ext cx="8640720" cy="292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00160" y="1642680"/>
            <a:ext cx="446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normal d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media 0 y desviación estándar 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randn(1,1e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2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plazamiento de Distribuciones Norm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6634080" y="362736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711760" y="4132440"/>
            <a:ext cx="249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4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737240" y="1628640"/>
            <a:ext cx="49687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normal d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medi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desviación estándar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mu+sigma*randn(1,1e5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6173640" y="458136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76880" y="5084640"/>
            <a:ext cx="1728720" cy="64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u = 5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sigma = 0.2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10260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75760" indent="-275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de acuerdo a distribuciones especificadas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om(NAME,A,B,C,M,N)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Matriz MxN con distribución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 NAME y parámetros A, B,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om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44520" y="2997360"/>
            <a:ext cx="5095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help random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NAME can be: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beta'  or 'Beta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bino'  or '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chi2'  or 'Chisquar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exp'   or 'Exponent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ev'    or 'Extreme Valu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f'     or 'F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am'   or 'Gamma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ev'   or 'Generalized Extreme Valu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p'    or 'Generalized Pareto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eo'   or 'Geometric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hyge'  or 'Hypergeometric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logn'  or 'Lognorm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bin'  or 'Negative 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830840" y="4062240"/>
            <a:ext cx="509580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bin'  or 'Negative 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f'   or 'Noncentral F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t'   or 'Noncentral t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x2'  or 'Noncentral Chi-squar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norm'  or 'Norm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poiss' or 'Poisson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rayl'  or 'Rayleigh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t'     or 'T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unif'  or 'Uniform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unid'  or 'Discrete Uniform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wbl'   or 'Weibull'.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87360" y="1643040"/>
            <a:ext cx="9102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aliza una permutación aleatoria de números enter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perm(N)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mutación aleatoria de los enteros 1 a N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en la aleatorización de list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perm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39" name="Picture 32" descr=""/>
          <p:cNvPicPr/>
          <p:nvPr/>
        </p:nvPicPr>
        <p:blipFill>
          <a:blip r:embed="rId1"/>
          <a:stretch/>
        </p:blipFill>
        <p:spPr>
          <a:xfrm>
            <a:off x="91908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487440" y="4005360"/>
            <a:ext cx="23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5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1" name="Picture 34" descr=""/>
          <p:cNvPicPr/>
          <p:nvPr/>
        </p:nvPicPr>
        <p:blipFill>
          <a:blip r:embed="rId2"/>
          <a:stretch/>
        </p:blipFill>
        <p:spPr>
          <a:xfrm>
            <a:off x="919080" y="4608360"/>
            <a:ext cx="4249800" cy="141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7" descr=""/>
          <p:cNvPicPr/>
          <p:nvPr/>
        </p:nvPicPr>
        <p:blipFill>
          <a:blip r:embed="rId3"/>
          <a:stretch/>
        </p:blipFill>
        <p:spPr>
          <a:xfrm>
            <a:off x="5745240" y="3860640"/>
            <a:ext cx="3529080" cy="24559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8"/>
          <p:cNvSpPr/>
          <p:nvPr/>
        </p:nvSpPr>
        <p:spPr>
          <a:xfrm>
            <a:off x="4303800" y="4797360"/>
            <a:ext cx="1800000" cy="432000"/>
          </a:xfrm>
          <a:prstGeom prst="rightArrow">
            <a:avLst>
              <a:gd name="adj1" fmla="val 50000"/>
              <a:gd name="adj2" fmla="val 1041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87360" y="1643040"/>
            <a:ext cx="92455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ción de N números naturales aleatorios con distribución uniforme en el intervalo [1,n]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ceil(n*rand(N)+eps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6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tros Ejemplos de Us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1"/>
          <a:stretch/>
        </p:blipFill>
        <p:spPr>
          <a:xfrm>
            <a:off x="749160" y="3691080"/>
            <a:ext cx="3916440" cy="2741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"/>
          <p:cNvPicPr/>
          <p:nvPr/>
        </p:nvPicPr>
        <p:blipFill>
          <a:blip r:embed="rId2"/>
          <a:stretch/>
        </p:blipFill>
        <p:spPr>
          <a:xfrm>
            <a:off x="5383080" y="3681360"/>
            <a:ext cx="3892680" cy="2751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/>
          <p:cNvPicPr/>
          <p:nvPr/>
        </p:nvPicPr>
        <p:blipFill>
          <a:blip r:embed="rId3"/>
          <a:stretch/>
        </p:blipFill>
        <p:spPr>
          <a:xfrm>
            <a:off x="738360" y="3110040"/>
            <a:ext cx="576000" cy="514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954000" y="3147840"/>
            <a:ext cx="249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6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4"/>
          <a:stretch/>
        </p:blipFill>
        <p:spPr>
          <a:xfrm>
            <a:off x="5326200" y="310500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5541840" y="3143160"/>
            <a:ext cx="249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7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7360" y="1643040"/>
            <a:ext cx="924552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ordenadores son determinista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las mismas entradas a un programa, las mismas salidas (salvo err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pueden entonces generar números aleatorios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de bien pueden hacerl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Para qué nos sirve est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ulación de eventos aleatori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térmic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juegos de azar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lución estadística de ecuacione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6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¿Aleatoriedad Determinista?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7360" y="1643040"/>
            <a:ext cx="924552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ordenadores son determinista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las mismas entradas a un programa, las mismas salidas (salvo err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pueden entonces generar números aleatorios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strictamente hablando, no son capaces de generar secuencias aleatorias (sin correlación entre los números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 conocemos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…,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siempre es posible determinar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+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almente se generan 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secuencias pseudo-aleatoria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de bien pueden hacerl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uy bien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Baja correlación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eriodo de repetitividad al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empre que el generador sea bueno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0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seudo-Aleatorieda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531720" y="1785960"/>
            <a:ext cx="90298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el método más común para generar secuencias de números pseudo-aleatorios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istribución uniform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úmeros enteros en el intervalo [0,M-1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partir del resto del cociente (rem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ainde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de números grande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r1 = semilla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ed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, proporcionada por el usuario (o la máquina)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 = número muy grande (periodicidad máxima de la secuencia)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 = número grande; c = magia negra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360520" y="2851200"/>
            <a:ext cx="48974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5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6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eneradores Congruentes Line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2505240" y="2924280"/>
                <a:ext cx="4703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531720" y="1700280"/>
            <a:ext cx="90298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= (ar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+ c)modM, co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 = 57, c = 1, M = 256, r</a:t>
            </a:r>
            <a:r>
              <a:rPr b="1" lang="es-ES" sz="2400" spc="-1" strike="noStrike" baseline="-25000">
                <a:solidFill>
                  <a:srgbClr val="c00000"/>
                </a:solidFill>
                <a:latin typeface="Calibri"/>
              </a:rPr>
              <a:t>1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= 10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uencia pseudo-aleatoria en [0, M-1]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10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(57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0 + 1)mod256 = rem(571/256) = 59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(57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59 + 1)mod256 = rem(3364/256) = 36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57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ongitud de la secuencia (periodicidad M = 256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uencia pseudo-aleatoria en [0, 1]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r/M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0.0391    0.2305    0.1406    0.0195    0.1172    0.6836    0.9688    0.2227 …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ero lógicamente con la misma periodicidad en la secuencia (M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0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992160" y="2386080"/>
            <a:ext cx="367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CG con a = 57, c = 1, M = 256</a:t>
            </a:r>
            <a:br>
              <a:rPr sz="18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eriodo 256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665600" y="2386080"/>
            <a:ext cx="4967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TLAB rand</a:t>
            </a:r>
            <a:br>
              <a:rPr sz="18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lgoritmo Mersenne Twister, periodo (2^19937-1)/2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72880" y="922320"/>
            <a:ext cx="928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a prueba simple para chequear una secuencia pseudo-aleatoria es utilizar el córtex visual para reconocer los patrones de correlación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1"/>
          <a:stretch/>
        </p:blipFill>
        <p:spPr>
          <a:xfrm>
            <a:off x="2625840" y="183204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2841480" y="1870200"/>
            <a:ext cx="3370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8.m (N = 2000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79" name="Picture 12" descr=""/>
          <p:cNvPicPr/>
          <p:nvPr/>
        </p:nvPicPr>
        <p:blipFill>
          <a:blip r:embed="rId2"/>
          <a:stretch/>
        </p:blipFill>
        <p:spPr>
          <a:xfrm>
            <a:off x="1260360" y="3024360"/>
            <a:ext cx="7388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1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72880" y="1557360"/>
            <a:ext cx="928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rar el listado de números generad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bujar la gráfica de scattering r(i) frente i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aluar el momento k-ésimo de la secuenci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se cumple la ecuación, la distribución es uniforme. Si las desviaciones varían como 1/sqrt(N), la distribución es además aleatori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aluar la correlación con vecinos próxim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se cumple la ecuación, los números no están correlacionados. Si las desviaciones varían como 1/sqrt(N), la distribución es además aleatori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3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ests de Aleatoriedad y Uniformida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1"/>
              <p:cNvSpPr txBox="1"/>
              <p:nvPr/>
            </p:nvSpPr>
            <p:spPr>
              <a:xfrm>
                <a:off x="2757600" y="3166920"/>
                <a:ext cx="43956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≃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2"/>
              <p:cNvSpPr txBox="1"/>
              <p:nvPr/>
            </p:nvSpPr>
            <p:spPr>
              <a:xfrm>
                <a:off x="2759040" y="5127480"/>
                <a:ext cx="4392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≃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</m:e>
                        </m:nary>
                        <m:r>
                          <m:t xml:space="preserve">y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1"/>
              <p:cNvSpPr txBox="1"/>
              <p:nvPr/>
            </p:nvSpPr>
            <p:spPr>
              <a:xfrm>
                <a:off x="7577280" y="5275440"/>
                <a:ext cx="9046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088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unciones de MATLAB relacionadas con la aleatoriedad:</a:t>
            </a:r>
            <a:br>
              <a:rPr sz="2400"/>
            </a:b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p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dores de números pseudo-aleatorios: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cepto, tests de caracterización y repeti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s de Monte Carlo y aplicacio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seo aleator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8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bujar la gráfica de scattering r(2i+1) frente r(2i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r el cálculo o simulación con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… y con 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…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resultados no deben diferir más allá de la estadístic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r el cálculo o simulación con una secuencia de números verdaderamente aleatorios tabulados y comparar con el generador de números pseudo-aleatori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alizar el test 3 para k = 1, 3, 7 y N = 1e2, 1e4, 1e5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alizar el test 4 a la serie levemente correlacionada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… para N = 1e2, 1e4, 1e5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0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ests de Aleatoriedad y Uniformidad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2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4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petitividad en Secuencias Pseudo-Aleat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72880" y="1700280"/>
            <a:ext cx="928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veces resulta útil poder correr un cálculo o simulación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xactame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la misma secuencia pseudo-aleato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a el debugging de script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a chequear si el método computacional es correc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que una secuencia pseudo-aleatoria sea reproducible debemos utilizar siempre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isma semill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cambiar la secuencia, basta usar una semilla distint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mbio automático del estado tras una ejecución de la función en MATLAB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so del reloj del sistema como semill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3527280" y="572292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3743280" y="5761080"/>
            <a:ext cx="2217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9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9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nte Carl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72880" y="1844640"/>
            <a:ext cx="928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milia de métodos que involucran el uso de un número alto de muestras aleatorias para solucionar problemas matemáticos o físicos mediante técnicas estadístic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928880" y="3286080"/>
            <a:ext cx="590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ulación de procesos físicos aleatori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térmic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 matemático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 por rechaz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 por valor medi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5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aseo Aleatori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72880" y="1773360"/>
            <a:ext cx="6480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s físicos en los que una partícula parece moverse aleatoriamente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brownian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e de electrones en metale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916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¿Cuántas colisiones (de media) debe sufrir una partícula para recorrer una distancia radial R?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odel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Caminar N pasos de longitud r en direcciones aleatori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09" name="Picture 8" descr=""/>
          <p:cNvPicPr/>
          <p:nvPr/>
        </p:nvPicPr>
        <p:blipFill>
          <a:blip r:embed="rId1"/>
          <a:stretch/>
        </p:blipFill>
        <p:spPr>
          <a:xfrm>
            <a:off x="7257960" y="2133720"/>
            <a:ext cx="18655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1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3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seo Aleatorio - Teorí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72880" y="1773360"/>
            <a:ext cx="936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A qué distancia del origen llegamos después de N pasos?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336600" y="2708280"/>
            <a:ext cx="2023920" cy="295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2936880" y="2492280"/>
                <a:ext cx="5254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3222720" y="2962440"/>
                <a:ext cx="6276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Rectangle 3"/>
          <p:cNvSpPr/>
          <p:nvPr/>
        </p:nvSpPr>
        <p:spPr>
          <a:xfrm>
            <a:off x="2433600" y="357192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las direcciones son aleatorias, para N alto, los términos cruzados se anulan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3"/>
              <p:cNvSpPr txBox="1"/>
              <p:nvPr/>
            </p:nvSpPr>
            <p:spPr>
              <a:xfrm>
                <a:off x="3224160" y="4292640"/>
                <a:ext cx="4340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≃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4"/>
              <p:cNvSpPr txBox="1"/>
              <p:nvPr/>
            </p:nvSpPr>
            <p:spPr>
              <a:xfrm>
                <a:off x="3224160" y="4924440"/>
                <a:ext cx="10414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3657600" y="4937040"/>
            <a:ext cx="6248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 damos un paseo de N pasos en direcciones aleatorias cubriendo una distancia total de N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rm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acabamos el paseo (de media) a una distancia radial sqrt(N)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rm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del punto de comienzo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3114720" y="4869000"/>
            <a:ext cx="1224000" cy="50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5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seo Aleatorio - Simula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"/>
          <a:stretch/>
        </p:blipFill>
        <p:spPr>
          <a:xfrm>
            <a:off x="585720" y="154620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801720" y="1584360"/>
            <a:ext cx="221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0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2"/>
          <a:stretch/>
        </p:blipFill>
        <p:spPr>
          <a:xfrm>
            <a:off x="344520" y="2147760"/>
            <a:ext cx="9306000" cy="43056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9"/>
          <p:cNvSpPr/>
          <p:nvPr/>
        </p:nvSpPr>
        <p:spPr>
          <a:xfrm>
            <a:off x="1496880" y="4292640"/>
            <a:ext cx="1224000" cy="58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1 paseo de 1000 pasos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6032520" y="2637000"/>
            <a:ext cx="1873080" cy="58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edia de 31 paseos de 1000 pasos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2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4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2880" y="1773360"/>
            <a:ext cx="9433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natural en el que una partícula (átomo, núcleo), sin ningún estímulo externo, se desintegra en otras partícul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instante en el que una partícula se desintegra es aleatorio. Es independiente de cuánto lleva existiendo la partícula o de qué le ocurre a otras a su alrededor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probabilidad P(t) de desintegración por unidad de tiempo y por partícula es constante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t) = probab desinteg / t / partícula = 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ir diminuyendo el número de partículas N, lógicamente también lo hará el número de desintegraciones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(t),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/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 ↓ con t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7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esintegración Radioactiva - Simula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488880" y="176220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704880" y="1800360"/>
            <a:ext cx="221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1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2"/>
          <a:stretch/>
        </p:blipFill>
        <p:spPr>
          <a:xfrm>
            <a:off x="3368520" y="1700280"/>
            <a:ext cx="6323040" cy="46879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0" y="2421000"/>
            <a:ext cx="3152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simulación del proceso demuestr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y de desintegración exponencial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(t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i N al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ceso estocástico si N baj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72880" y="1701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6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gración Numéric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1557360"/>
            <a:ext cx="7113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irar piedr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un estanque con forma irregular como método para determinar su áre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488880" y="2362320"/>
            <a:ext cx="7272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ñalice una caja que encierre completamente el estanque y quite todas las piedras que conteng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da el área de esa caja (A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ja un buen montón de piedras y láncelas al aire en direcciones aleatorias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ente el número de piedras que caen en el estanque (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y el número de piedras que caen al suelo dentro de la caja (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umiendo que tiró las piedras uniforme y aleatoriamente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be ser proporcional a A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grpSp>
        <p:nvGrpSpPr>
          <p:cNvPr id="249" name="Group 10"/>
          <p:cNvGrpSpPr/>
          <p:nvPr/>
        </p:nvGrpSpPr>
        <p:grpSpPr>
          <a:xfrm>
            <a:off x="7616880" y="1700280"/>
            <a:ext cx="2193840" cy="2391480"/>
            <a:chOff x="7616880" y="1700280"/>
            <a:chExt cx="2193840" cy="2391480"/>
          </a:xfrm>
        </p:grpSpPr>
        <p:pic>
          <p:nvPicPr>
            <p:cNvPr id="250" name="Picture 7" descr=""/>
            <p:cNvPicPr/>
            <p:nvPr/>
          </p:nvPicPr>
          <p:blipFill>
            <a:blip r:embed="rId1"/>
            <a:stretch/>
          </p:blipFill>
          <p:spPr>
            <a:xfrm>
              <a:off x="7616880" y="1700280"/>
              <a:ext cx="201600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9"/>
            <p:cNvSpPr/>
            <p:nvPr/>
          </p:nvSpPr>
          <p:spPr>
            <a:xfrm>
              <a:off x="9018720" y="36320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Box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1"/>
              <p:cNvSpPr txBox="1"/>
              <p:nvPr/>
            </p:nvSpPr>
            <p:spPr>
              <a:xfrm>
                <a:off x="2000160" y="5589720"/>
                <a:ext cx="20005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2"/>
              <p:cNvSpPr txBox="1"/>
              <p:nvPr/>
            </p:nvSpPr>
            <p:spPr>
              <a:xfrm>
                <a:off x="4489560" y="5845320"/>
                <a:ext cx="31896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3"/>
              <p:cNvSpPr txBox="1"/>
              <p:nvPr/>
            </p:nvSpPr>
            <p:spPr>
              <a:xfrm>
                <a:off x="5162400" y="5589720"/>
                <a:ext cx="23828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n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6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4520" y="15955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ción Numérica por Rechaz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55520" y="1882800"/>
            <a:ext cx="9489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terminar el número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utilizando la técnica de muestreo anterior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31800" y="2314440"/>
            <a:ext cx="657540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magine un estanque circular encerrado en un cuadrado de lado 2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mos que 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eneramos una secuencia de números aleatorios {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} en [-1,1]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ignamos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= 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i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para i = 1, …,N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+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&lt; 1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1. En otro caso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1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sar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umente N hasta obtener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n 3 cifras decimales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3"/>
              <p:cNvSpPr txBox="1"/>
              <p:nvPr/>
            </p:nvSpPr>
            <p:spPr>
              <a:xfrm>
                <a:off x="1855800" y="4950000"/>
                <a:ext cx="27860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n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2" name="Picture 18" descr=""/>
          <p:cNvPicPr/>
          <p:nvPr/>
        </p:nvPicPr>
        <p:blipFill>
          <a:blip r:embed="rId1"/>
          <a:stretch/>
        </p:blipFill>
        <p:spPr>
          <a:xfrm>
            <a:off x="68400" y="148428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"/>
          <p:cNvSpPr/>
          <p:nvPr/>
        </p:nvSpPr>
        <p:spPr>
          <a:xfrm>
            <a:off x="284040" y="1522440"/>
            <a:ext cx="2217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2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0"/>
              <p:cNvSpPr txBox="1"/>
              <p:nvPr/>
            </p:nvSpPr>
            <p:spPr>
              <a:xfrm>
                <a:off x="2647800" y="2986200"/>
                <a:ext cx="1467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5" name="Group 27"/>
          <p:cNvGrpSpPr/>
          <p:nvPr/>
        </p:nvGrpSpPr>
        <p:grpSpPr>
          <a:xfrm>
            <a:off x="7761240" y="2459160"/>
            <a:ext cx="1800000" cy="2259720"/>
            <a:chOff x="7761240" y="2459160"/>
            <a:chExt cx="1800000" cy="2259720"/>
          </a:xfrm>
        </p:grpSpPr>
        <p:sp>
          <p:nvSpPr>
            <p:cNvPr id="266" name="Text Box 10"/>
            <p:cNvSpPr/>
            <p:nvPr/>
          </p:nvSpPr>
          <p:spPr>
            <a:xfrm>
              <a:off x="8769240" y="42591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Box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7" name="Rectangle 14"/>
            <p:cNvSpPr/>
            <p:nvPr/>
          </p:nvSpPr>
          <p:spPr>
            <a:xfrm>
              <a:off x="7761240" y="2459160"/>
              <a:ext cx="1800000" cy="1800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8" name="Oval 15"/>
            <p:cNvSpPr/>
            <p:nvPr/>
          </p:nvSpPr>
          <p:spPr>
            <a:xfrm>
              <a:off x="7761240" y="2459160"/>
              <a:ext cx="1800000" cy="180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9" name="Text Box 16"/>
            <p:cNvSpPr/>
            <p:nvPr/>
          </p:nvSpPr>
          <p:spPr>
            <a:xfrm>
              <a:off x="8192880" y="2601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on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8696160" y="339372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1" name="Text Box 22"/>
            <p:cNvSpPr/>
            <p:nvPr/>
          </p:nvSpPr>
          <p:spPr>
            <a:xfrm>
              <a:off x="8624880" y="306540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r = 1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2" name="Line 24"/>
            <p:cNvSpPr/>
            <p:nvPr/>
          </p:nvSpPr>
          <p:spPr>
            <a:xfrm>
              <a:off x="8653320" y="3360600"/>
              <a:ext cx="7128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3" name="Line 25"/>
            <p:cNvSpPr/>
            <p:nvPr/>
          </p:nvSpPr>
          <p:spPr>
            <a:xfrm flipV="1">
              <a:off x="8653320" y="3360240"/>
              <a:ext cx="7128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4" name="Text Box 26"/>
            <p:cNvSpPr/>
            <p:nvPr/>
          </p:nvSpPr>
          <p:spPr>
            <a:xfrm>
              <a:off x="8235720" y="3393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(0,0)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p:sp>
        <p:nvSpPr>
          <p:cNvPr id="275" name="Rectangle 28"/>
          <p:cNvSpPr/>
          <p:nvPr/>
        </p:nvSpPr>
        <p:spPr>
          <a:xfrm>
            <a:off x="6797520" y="5024520"/>
            <a:ext cx="2901960" cy="1357200"/>
          </a:xfrm>
          <a:prstGeom prst="rect">
            <a:avLst/>
          </a:prstGeom>
          <a:solidFill>
            <a:srgbClr val="c0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6753240" y="5189400"/>
            <a:ext cx="3003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¿N=1e5, 1e6?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¿Tiempo de cómputo?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uebe </a:t>
            </a:r>
            <a:r>
              <a:rPr b="1" lang="es-ES" sz="1600" spc="-1" strike="noStrike">
                <a:solidFill>
                  <a:srgbClr val="333399"/>
                </a:solidFill>
                <a:latin typeface="Calibri"/>
              </a:rPr>
              <a:t>EJEMPLO_12b.m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77" name="Picture 30" descr="MC900078711[1]"/>
          <p:cNvPicPr/>
          <p:nvPr/>
        </p:nvPicPr>
        <p:blipFill>
          <a:blip r:embed="rId2"/>
          <a:stretch/>
        </p:blipFill>
        <p:spPr>
          <a:xfrm>
            <a:off x="6918480" y="5046840"/>
            <a:ext cx="5284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31440" y="1771560"/>
            <a:ext cx="8929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utilizar las funciones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and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la generación de secuencias aleato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la naturaleza pseudo-aleatoria de cualquier secuencia generada de manera determinista por un ordenad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r capaz de aplicar tests simples para determinar la uniformidad y aleatoriedad de secuencias pseudo-aleato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la utilidad de los métodos de Monte Carlo en la simulación de procesos físicos estocást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r capaz de evaluar integrales multi-dimensionales mediante el muestreo del valor med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9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0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ción Numérica por Valor Medi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72880" y="1700280"/>
            <a:ext cx="54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técnica estándar de Monte Carlo para integración está basada en el Teorema de Valor Medio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6"/>
              <p:cNvSpPr txBox="1"/>
              <p:nvPr/>
            </p:nvSpPr>
            <p:spPr>
              <a:xfrm>
                <a:off x="1681200" y="2924280"/>
                <a:ext cx="27669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83" name="Picture 27" descr=""/>
          <p:cNvPicPr/>
          <p:nvPr/>
        </p:nvPicPr>
        <p:blipFill>
          <a:blip r:embed="rId1"/>
          <a:stretch/>
        </p:blipFill>
        <p:spPr>
          <a:xfrm>
            <a:off x="5626080" y="2131920"/>
            <a:ext cx="4079880" cy="29178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3"/>
          <p:cNvSpPr/>
          <p:nvPr/>
        </p:nvSpPr>
        <p:spPr>
          <a:xfrm>
            <a:off x="272880" y="3716280"/>
            <a:ext cx="54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usa una secuencia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N números aleatorios uniformes en [a,b] para muestrear &lt;f&gt;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9"/>
              <p:cNvSpPr txBox="1"/>
              <p:nvPr/>
            </p:nvSpPr>
            <p:spPr>
              <a:xfrm>
                <a:off x="2151000" y="4754520"/>
                <a:ext cx="1827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6" name="Rectangle 3"/>
          <p:cNvSpPr/>
          <p:nvPr/>
        </p:nvSpPr>
        <p:spPr>
          <a:xfrm>
            <a:off x="272880" y="5711760"/>
            <a:ext cx="8064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error en el valor de la integral disminuye como 1/sqrt(N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8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9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les Multi-Dimension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72880" y="1700280"/>
            <a:ext cx="94330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tegración por valor medio puede generalizarse fácilmente a espacios multi-dimensionale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xisten otros métodos de integración mejores para integrales simples y dobles,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uando la dimensionalidad es alta las técnicas de Monte Carlo son las mejor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6"/>
              <p:cNvSpPr txBox="1"/>
              <p:nvPr/>
            </p:nvSpPr>
            <p:spPr>
              <a:xfrm>
                <a:off x="2055960" y="2492280"/>
                <a:ext cx="57942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)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2" name="Picture 11" descr=""/>
          <p:cNvPicPr/>
          <p:nvPr/>
        </p:nvPicPr>
        <p:blipFill>
          <a:blip r:embed="rId1"/>
          <a:stretch/>
        </p:blipFill>
        <p:spPr>
          <a:xfrm>
            <a:off x="415800" y="472428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631800" y="4762440"/>
            <a:ext cx="2665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3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en 3D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3"/>
              <p:cNvSpPr txBox="1"/>
              <p:nvPr/>
            </p:nvSpPr>
            <p:spPr>
              <a:xfrm>
                <a:off x="1025640" y="5483160"/>
                <a:ext cx="3638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nary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5" name="Picture 14" descr=""/>
          <p:cNvPicPr/>
          <p:nvPr/>
        </p:nvPicPr>
        <p:blipFill>
          <a:blip r:embed="rId2"/>
          <a:stretch/>
        </p:blipFill>
        <p:spPr>
          <a:xfrm>
            <a:off x="5072040" y="472428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5288040" y="4762440"/>
            <a:ext cx="29052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4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en 10D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6"/>
              <p:cNvSpPr txBox="1"/>
              <p:nvPr/>
            </p:nvSpPr>
            <p:spPr>
              <a:xfrm>
                <a:off x="5699160" y="5483160"/>
                <a:ext cx="3357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9240" y="1844280"/>
            <a:ext cx="9286920" cy="4537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.H. Landau, M.J. Páez, C.C. Bordeianu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utational Physics: Problem Solving with Computers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Wiley, 2007.</a:t>
            </a:r>
            <a:br>
              <a:rPr sz="2000"/>
            </a:br>
            <a:r>
              <a:rPr b="0" lang="en-GB" sz="18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"/>
              </a:rPr>
              <a:t>http://physics.orst.edu/~rubin/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nsparenci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videos, applets,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.R. Otto, J.P. Denier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 Introduction to Programming and Numerical Methods in MATLA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Springer, 2005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. O’Hare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for Physicis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2005.</a:t>
            </a:r>
            <a:br>
              <a:rPr sz="2000"/>
            </a:br>
            <a:r>
              <a:rPr b="0" sz="18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"/>
              </a:rPr>
              <a:t>http://www-teaching.physics.ox.ac.uk/computing/NumericalMethods/NMfP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con distribución uniforme en el intervalo [0,1]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(M,N)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genera una matriz Mx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8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41580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-15840" y="4005360"/>
            <a:ext cx="2494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2432160" y="3309840"/>
            <a:ext cx="73450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3" descr=""/>
          <p:cNvPicPr/>
          <p:nvPr/>
        </p:nvPicPr>
        <p:blipFill>
          <a:blip r:embed="rId1"/>
          <a:stretch/>
        </p:blipFill>
        <p:spPr>
          <a:xfrm>
            <a:off x="3224160" y="3720960"/>
            <a:ext cx="6527880" cy="269424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6" name="Picture 20" descr=""/>
          <p:cNvPicPr/>
          <p:nvPr/>
        </p:nvPicPr>
        <p:blipFill>
          <a:blip r:embed="rId2"/>
          <a:stretch/>
        </p:blipFill>
        <p:spPr>
          <a:xfrm>
            <a:off x="3224160" y="836640"/>
            <a:ext cx="6537240" cy="2703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849240" y="4893480"/>
            <a:ext cx="213372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e5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2779560"/>
            <a:ext cx="3152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La función de distribución es tanto más visible cuanto mayor es el número de muestras generadas.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849240" y="1921680"/>
            <a:ext cx="213372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4349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uniforme en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valo [0,1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rand(1,1e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2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plazamiento de Distribuciones Uniform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4613400" y="3500280"/>
            <a:ext cx="649080" cy="579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691080" y="4005360"/>
            <a:ext cx="2493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2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024520" y="1628640"/>
            <a:ext cx="4608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uniforme en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valo [a,b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a+(b-a)*rand(1,1e5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344520" y="3573360"/>
            <a:ext cx="3562200" cy="279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3"/>
          <a:stretch/>
        </p:blipFill>
        <p:spPr>
          <a:xfrm>
            <a:off x="6037200" y="3554280"/>
            <a:ext cx="3524400" cy="28101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2"/>
          <p:cNvSpPr/>
          <p:nvPr/>
        </p:nvSpPr>
        <p:spPr>
          <a:xfrm>
            <a:off x="4089240" y="458136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232160" y="5084640"/>
            <a:ext cx="1297080" cy="64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 = -0.5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b = 3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con distribución normal (gaussiana) de media 0 y desviación estándar 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n(M,N)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genera una matriz Mx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3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48888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57240" y="4005360"/>
            <a:ext cx="2636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2717640" y="3068640"/>
            <a:ext cx="7059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"/>
          <p:cNvPicPr/>
          <p:nvPr/>
        </p:nvPicPr>
        <p:blipFill>
          <a:blip r:embed="rId1"/>
          <a:stretch/>
        </p:blipFill>
        <p:spPr>
          <a:xfrm>
            <a:off x="3081240" y="836640"/>
            <a:ext cx="6696000" cy="27352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3"/>
          <p:cNvSpPr/>
          <p:nvPr/>
        </p:nvSpPr>
        <p:spPr>
          <a:xfrm rot="5400000">
            <a:off x="1388880" y="1520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2779560"/>
            <a:ext cx="3152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La función de distribución es tanto más visible cuanto mayor es el número de muestras generadas.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04880" y="1857600"/>
            <a:ext cx="2160720" cy="5806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edia = -0.0177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td = 1.0150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87520" y="1045080"/>
            <a:ext cx="227808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2"/>
          <a:stretch/>
        </p:blipFill>
        <p:spPr>
          <a:xfrm>
            <a:off x="3081240" y="3703680"/>
            <a:ext cx="6696000" cy="2749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4"/>
          <p:cNvSpPr/>
          <p:nvPr/>
        </p:nvSpPr>
        <p:spPr>
          <a:xfrm rot="5400000">
            <a:off x="1388880" y="53496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04880" y="5686560"/>
            <a:ext cx="2160720" cy="5806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edia = 0.0021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td = 0.9979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87520" y="4874400"/>
            <a:ext cx="227808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e5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9:55:16Z</dcterms:created>
  <dc:creator>Rocío del Río</dc:creator>
  <dc:description/>
  <dc:language>en-US</dc:language>
  <cp:lastModifiedBy>Rocio del Rio</cp:lastModifiedBy>
  <dcterms:modified xsi:type="dcterms:W3CDTF">2010-11-02T11:54:08Z</dcterms:modified>
  <cp:revision>2905</cp:revision>
  <dc:subject/>
  <dc:title/>
</cp:coreProperties>
</file>