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1944-7D1B-4AC3-A423-EF28642C40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2AE4-10E9-40BD-9F65-D00BCECBC8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AEBC-325E-4059-8024-F4A3356570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F5B8-30E2-4AF6-857D-BF22274691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D5D8-A6BD-404B-8372-59C8336A8C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1B38-BBCB-4427-B575-2437200C8D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F939-3AB6-42D0-949E-F20E7157EA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9629-8294-4A8B-A21F-4B892C2B6B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53FB-551E-405A-B6D3-2E87F94901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B651-011F-4E3A-9DDB-9B1642A6F4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0A7C-0B76-493C-B673-39C8EF76F2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2424-A5DC-4619-9EF8-87EDE6C140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8F19-CCFA-4956-8F6A-2B617E192E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B829-8189-4A2B-827F-15BE9D6CBC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07AC-48C2-4794-B72F-34FB13C94E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88D1-DDFE-4943-92BF-28E3704382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CC972-5012-4FEE-ABD3-2F1398139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D9AB-7679-49BE-A28E-5DD61320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2259A-E4A2-4500-A5D1-059452488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4BFB-CC1F-43A3-BA20-D032B24FE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C112-B238-4CD6-BD9E-29FEB8A4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3203-F39C-46EB-8144-504959413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5F3E3-13AD-4B9F-ACE2-1250CE83C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CDD9-5296-4B77-9C0A-69F44534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020FF-1114-4E0C-8E2E-1BC690EF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38B8-D178-4AE1-A0C3-361A94AE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21DD-D290-4FB1-8279-98A31A80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5F52-FF8E-4864-A7FC-0A302DCEB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38A4-EB72-447B-AEC4-A2D4F3B2DD0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eg-social.es/Internet_1/Trabajadores/Afiliacion/Incentivosalacontra30035/index.htm" TargetMode="External"/><Relationship Id="rId2" Type="http://schemas.openxmlformats.org/officeDocument/2006/relationships/hyperlink" Target="http://www20.gencat.cat/portal/site/treball/menuitem.3429fc56b1d79ff0a6740d63b0c0e1a0/?vgnextoid=0bd6c" TargetMode="External"/><Relationship Id="rId3" Type="http://schemas.openxmlformats.org/officeDocument/2006/relationships/hyperlink" Target="https://www.redtrabaja.es/es/redtrabaja/contenidos/introNoticias.do?pagina=/ampliar/reforma_laboral.html" TargetMode="External"/><Relationship Id="rId4" Type="http://schemas.openxmlformats.org/officeDocument/2006/relationships/hyperlink" Target="https://www.redtrabaja.es/ca/portaltrabaja/resources/pdf/contratos/Fcontratos.pdf"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redtrabaja.es/" TargetMode="External"/><Relationship Id="rId2" Type="http://schemas.openxmlformats.org/officeDocument/2006/relationships/hyperlink" Target="http://www.sepe.es/" TargetMode="External"/><Relationship Id="rId3" Type="http://schemas.openxmlformats.org/officeDocument/2006/relationships/hyperlink" Target="http://www.mtas.es/" TargetMode="External"/><Relationship Id="rId4" Type="http://schemas.openxmlformats.org/officeDocument/2006/relationships/hyperlink" Target="http://inem.es/" TargetMode="External"/><Relationship Id="rId5" Type="http://schemas.openxmlformats.org/officeDocument/2006/relationships/hyperlink" Target="http://www.seg-social.es/" TargetMode="External"/><Relationship Id="rId6" Type="http://schemas.openxmlformats.org/officeDocument/2006/relationships/hyperlink" Target="http://www.europa.eu.int/" TargetMode="External"/><Relationship Id="rId7" Type="http://schemas.openxmlformats.org/officeDocument/2006/relationships/hyperlink" Target="http://www.ugt.es/" TargetMode="External"/><Relationship Id="rId8" Type="http://schemas.openxmlformats.org/officeDocument/2006/relationships/hyperlink" Target="http://www.ccoo.org/" TargetMode="External"/><Relationship Id="rId9" Type="http://schemas.openxmlformats.org/officeDocument/2006/relationships/hyperlink" Target="http://www.ceoe.es/" TargetMode="Externa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187280" y="333360"/>
            <a:ext cx="65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00"/>
                </a:solidFill>
                <a:latin typeface="Times New Roman"/>
              </a:rPr>
              <a:t>DIFERENTS FORMES DE CONTRACTACIÓ LABORAL</a:t>
            </a:r>
            <a:endParaRPr b="0" lang="en-US" sz="3200" spc="-1" strike="noStrike">
              <a:solidFill>
                <a:srgbClr val="000000"/>
              </a:solidFill>
              <a:latin typeface="Arial"/>
            </a:endParaRPr>
          </a:p>
        </p:txBody>
      </p:sp>
      <p:sp>
        <p:nvSpPr>
          <p:cNvPr id="49" name="Rectangle 5"/>
          <p:cNvSpPr/>
          <p:nvPr/>
        </p:nvSpPr>
        <p:spPr>
          <a:xfrm>
            <a:off x="0" y="1811520"/>
            <a:ext cx="9144000" cy="320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cc"/>
                </a:solidFill>
                <a:latin typeface="Arial"/>
              </a:rPr>
              <a:t>Contracte indefinit</a:t>
            </a:r>
            <a:br>
              <a:rPr sz="2400"/>
            </a:br>
            <a:r>
              <a:rPr b="1" lang="ca-ES" sz="2400" spc="-1" strike="noStrike">
                <a:solidFill>
                  <a:srgbClr val="ff0066"/>
                </a:solidFill>
                <a:latin typeface="Arial"/>
              </a:rPr>
              <a:t>Contracte per al foment de la contractació indefin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6600"/>
                </a:solidFill>
                <a:latin typeface="Arial"/>
              </a:rPr>
              <a:t>Contractes de durada determina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00cc"/>
                </a:solidFill>
                <a:latin typeface="Arial"/>
              </a:rPr>
              <a:t>Contractes formati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800000"/>
                </a:solidFill>
                <a:latin typeface="Arial"/>
              </a:rPr>
              <a:t>Contracte a temps parcial</a:t>
            </a:r>
            <a:br>
              <a:rPr sz="2400"/>
            </a:br>
            <a:r>
              <a:rPr b="1" lang="ca-ES" sz="2400" spc="-1" strike="noStrike">
                <a:solidFill>
                  <a:srgbClr val="000000"/>
                </a:solidFill>
                <a:latin typeface="Arial"/>
              </a:rPr>
              <a:t>Altres contractes de treball</a:t>
            </a:r>
            <a:br>
              <a:rPr sz="2400"/>
            </a:br>
            <a:br>
              <a:rPr sz="2000"/>
            </a:br>
            <a:br>
              <a:rPr sz="2000"/>
            </a:br>
            <a:endParaRPr b="0" lang="en-US" sz="2400" spc="-1" strike="noStrike">
              <a:solidFill>
                <a:srgbClr val="000000"/>
              </a:solidFill>
              <a:latin typeface="Arial"/>
            </a:endParaRPr>
          </a:p>
        </p:txBody>
      </p:sp>
      <p:sp>
        <p:nvSpPr>
          <p:cNvPr id="50" name="AutoShape 6">
            <a:hlinkClick r:id="rId1" action="ppaction://hlinksldjump"/>
          </p:cNvPr>
          <p:cNvSpPr/>
          <p:nvPr/>
        </p:nvSpPr>
        <p:spPr>
          <a:xfrm>
            <a:off x="2411280" y="1916280"/>
            <a:ext cx="576360" cy="342720"/>
          </a:xfrm>
          <a:prstGeom prst="rightArrow">
            <a:avLst>
              <a:gd name="adj1" fmla="val 50000"/>
              <a:gd name="adj2" fmla="val 4204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action="ppaction://hlinksldjump"/>
          </p:cNvPr>
          <p:cNvSpPr/>
          <p:nvPr/>
        </p:nvSpPr>
        <p:spPr>
          <a:xfrm>
            <a:off x="0" y="2276640"/>
            <a:ext cx="576360" cy="342720"/>
          </a:xfrm>
          <a:prstGeom prst="rightArrow">
            <a:avLst>
              <a:gd name="adj1" fmla="val 50000"/>
              <a:gd name="adj2" fmla="val 4204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a:hlinkClick r:id="rId3" action="ppaction://hlinksldjump"/>
          </p:cNvPr>
          <p:cNvSpPr/>
          <p:nvPr/>
        </p:nvSpPr>
        <p:spPr>
          <a:xfrm>
            <a:off x="1403280" y="2637000"/>
            <a:ext cx="576360" cy="287280"/>
          </a:xfrm>
          <a:prstGeom prst="rightArrow">
            <a:avLst>
              <a:gd name="adj1" fmla="val 50000"/>
              <a:gd name="adj2" fmla="val 50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9">
            <a:hlinkClick r:id="rId4" action="ppaction://hlinksldjump"/>
          </p:cNvPr>
          <p:cNvSpPr/>
          <p:nvPr/>
        </p:nvSpPr>
        <p:spPr>
          <a:xfrm>
            <a:off x="2195640" y="2997360"/>
            <a:ext cx="576000" cy="287280"/>
          </a:xfrm>
          <a:prstGeom prst="rightArrow">
            <a:avLst>
              <a:gd name="adj1" fmla="val 50000"/>
              <a:gd name="adj2" fmla="val 50125"/>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rId5" action="ppaction://hlinksldjump"/>
          </p:cNvPr>
          <p:cNvSpPr/>
          <p:nvPr/>
        </p:nvSpPr>
        <p:spPr>
          <a:xfrm>
            <a:off x="1979640" y="3357720"/>
            <a:ext cx="576360" cy="342720"/>
          </a:xfrm>
          <a:prstGeom prst="rightArrow">
            <a:avLst>
              <a:gd name="adj1" fmla="val 17593"/>
              <a:gd name="adj2" fmla="val 75055"/>
            </a:avLst>
          </a:prstGeom>
          <a:solidFill>
            <a:srgbClr val="8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1">
            <a:hlinkClick r:id="rId6" action="ppaction://hlinksldjump"/>
          </p:cNvPr>
          <p:cNvSpPr/>
          <p:nvPr/>
        </p:nvSpPr>
        <p:spPr>
          <a:xfrm>
            <a:off x="1619280" y="3789360"/>
            <a:ext cx="792000" cy="270000"/>
          </a:xfrm>
          <a:prstGeom prst="rightArrow">
            <a:avLst>
              <a:gd name="adj1" fmla="val 50000"/>
              <a:gd name="adj2" fmla="val 7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2"/>
          <p:cNvSpPr/>
          <p:nvPr/>
        </p:nvSpPr>
        <p:spPr>
          <a:xfrm>
            <a:off x="827280" y="5084640"/>
            <a:ext cx="766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ENLLAÇOS A DIFERENTS PÀGINES PER AMPLIAR LA INFORMACI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
            <a:hlinkClick r:id="" action="ppaction://hlinkshowjump?jump=lastslide"/>
          </p:cNvPr>
          <p:cNvSpPr/>
          <p:nvPr/>
        </p:nvSpPr>
        <p:spPr>
          <a:xfrm>
            <a:off x="1908000" y="5734080"/>
            <a:ext cx="432000" cy="574560"/>
          </a:xfrm>
          <a:custGeom>
            <a:avLst/>
            <a:gdLst>
              <a:gd name="textAreaLeft" fmla="*/ 27720 w 432000"/>
              <a:gd name="textAreaRight" fmla="*/ 404280 w 432000"/>
              <a:gd name="textAreaTop" fmla="*/ 27720 h 574560"/>
              <a:gd name="textAreaBottom" fmla="*/ 546840 h 574560"/>
            </a:gdLst>
            <a:ahLst/>
            <a:rect l="textAreaLeft" t="textAreaTop" r="textAreaRight" b="textAreaBottom"/>
            <a:pathLst>
              <a:path w="21600" h="28722">
                <a:moveTo>
                  <a:pt x="0" y="0"/>
                </a:moveTo>
                <a:lnTo>
                  <a:pt x="21600" y="0"/>
                </a:lnTo>
                <a:lnTo>
                  <a:pt x="21600" y="28722"/>
                </a:lnTo>
                <a:lnTo>
                  <a:pt x="0" y="28722"/>
                </a:lnTo>
                <a:close/>
              </a:path>
              <a:path fill="lightenLess" w="21600" h="28722">
                <a:moveTo>
                  <a:pt x="0" y="0"/>
                </a:moveTo>
                <a:lnTo>
                  <a:pt x="21600" y="0"/>
                </a:lnTo>
                <a:lnTo>
                  <a:pt x="20200" y="1400"/>
                </a:lnTo>
                <a:lnTo>
                  <a:pt x="1400" y="1400"/>
                </a:lnTo>
                <a:close/>
              </a:path>
              <a:path fill="darken" w="21600" h="28722">
                <a:moveTo>
                  <a:pt x="21600" y="0"/>
                </a:moveTo>
                <a:lnTo>
                  <a:pt x="21600" y="28722"/>
                </a:lnTo>
                <a:lnTo>
                  <a:pt x="20200" y="27322"/>
                </a:lnTo>
                <a:lnTo>
                  <a:pt x="20200" y="1400"/>
                </a:lnTo>
                <a:close/>
              </a:path>
              <a:path fill="darkenLess" w="21600" h="28722">
                <a:moveTo>
                  <a:pt x="21600" y="28722"/>
                </a:moveTo>
                <a:lnTo>
                  <a:pt x="0" y="28722"/>
                </a:lnTo>
                <a:lnTo>
                  <a:pt x="1400" y="27322"/>
                </a:lnTo>
                <a:lnTo>
                  <a:pt x="20200" y="27322"/>
                </a:lnTo>
                <a:close/>
              </a:path>
              <a:path fill="lighten" w="21600" h="28722">
                <a:moveTo>
                  <a:pt x="0" y="28722"/>
                </a:moveTo>
                <a:lnTo>
                  <a:pt x="0" y="0"/>
                </a:lnTo>
                <a:lnTo>
                  <a:pt x="1400" y="1400"/>
                </a:lnTo>
                <a:lnTo>
                  <a:pt x="1400" y="27322"/>
                </a:lnTo>
                <a:close/>
              </a:path>
              <a:path fill="darken" w="21600" h="28722">
                <a:moveTo>
                  <a:pt x="10800" y="7355"/>
                </a:moveTo>
                <a:arcTo wR="7006" hR="7006" stAng="16200000" swAng="-5400000"/>
                <a:arcTo wR="7006" hR="7006" stAng="10800000" swAng="-5400000"/>
                <a:arcTo wR="7006" hR="7006" stAng="5400000" swAng="-5400000"/>
                <a:arcTo wR="7006" hR="7006" stAng="0" swAng="-5400000"/>
                <a:close/>
              </a:path>
              <a:path fill="lighten" w="21600" h="28722">
                <a:moveTo>
                  <a:pt x="10800" y="7729"/>
                </a:moveTo>
                <a:arcTo wR="1793" hR="1793" stAng="16200000" swAng="-5400000"/>
                <a:arcTo wR="1793" hR="1793" stAng="10800000" swAng="-5400000"/>
                <a:arcTo wR="1793" hR="1793" stAng="5400000" swAng="-5400000"/>
                <a:arcTo wR="1793" hR="1793" stAng="0" swAng="-5400000"/>
                <a:close/>
              </a:path>
              <a:path fill="lighten" w="21600" h="28722">
                <a:moveTo>
                  <a:pt x="8224" y="11785"/>
                </a:moveTo>
                <a:lnTo>
                  <a:pt x="12088" y="11785"/>
                </a:lnTo>
                <a:lnTo>
                  <a:pt x="12088" y="18783"/>
                </a:lnTo>
                <a:lnTo>
                  <a:pt x="13376" y="18783"/>
                </a:lnTo>
                <a:lnTo>
                  <a:pt x="13376" y="19705"/>
                </a:lnTo>
                <a:lnTo>
                  <a:pt x="8224" y="19705"/>
                </a:lnTo>
                <a:lnTo>
                  <a:pt x="8224" y="18783"/>
                </a:lnTo>
                <a:lnTo>
                  <a:pt x="9512" y="18783"/>
                </a:lnTo>
                <a:lnTo>
                  <a:pt x="9512" y="12690"/>
                </a:lnTo>
                <a:lnTo>
                  <a:pt x="8224" y="1269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00cc"/>
                </a:solidFill>
                <a:latin typeface="Arial"/>
              </a:rPr>
              <a:t>El contracte de treball en pràctiques</a:t>
            </a:r>
            <a:r>
              <a:rPr b="1" lang="ca-ES" sz="4000" spc="-1" strike="noStrike">
                <a:solidFill>
                  <a:srgbClr val="9900cc"/>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del contracte no podrà ser inferior a sis mesos ni excedir de dos anys.</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Cap treballador podrà estar contractat en pràctiques en la mateixa o diferent empresa per temps superior a dos anys en virtut de la mateixa titulació. </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ceptuant el que està disposat en conveni col·lectiu, el període de prova no podrà ser superior a un mes per als contractes en pràctiques celebrats amb treballadors que estiguin en possessió de títol de grau mitjà, ni a dos mesos per als contractes en pràctiques celebrats amb treballadors que estan en possessió de títol de grau superior.</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serà la fixada en conveni col·lectiu per als treballadors en pràctiques, sense que, en defecte d'això, pugui ser inferior al 60 o al 75 per 100 durant el primer o el segon any de vigència del contracte, respectivament, del salari fixat en conveni per a un treballador que exerceixi el mateix o equivalent lloc de treball.</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Si al final del contracte el treballador continués en l'empresa no podrà concertar-se un nou període de prova, computant-se la durada de les pràctiques a efecte d'antiguitat en l'empresa.</a:t>
            </a:r>
            <a:r>
              <a:rPr b="1" lang="es-ES" sz="1800" spc="-1" strike="noStrike">
                <a:solidFill>
                  <a:srgbClr val="99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800000"/>
                </a:solidFill>
                <a:latin typeface="Arial"/>
              </a:rPr>
              <a:t>Contracte a temps parcial</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de treball s'entendrà celebrat a temps parcial quan s'hagi acordat la prestació de serveis durant un nombre d'hores al dia, a la setmana, al mes o a l'any, inferior a la jornada de treball d'un treballador a temps complet comparable.</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podrà concertar-se per temps indefinit o per durada determinada en els supòsits en els quals legalment es permeti la utilització d'aquesta modalitat de contractació, excepte en el contracte per a la formació.</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s'entendrà celebrat per temps indefinit quan es concerti per realitzar treballs fixos i periòdics dins del volum normal d'activitat de l'empresa.</a:t>
            </a:r>
            <a:r>
              <a:rPr b="1" lang="es-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s'haurà de formalitzar necessàriament per escrit, en el model que s'estableixi. En el contracte hauran de figurar el nombre d'hores ordinàries de treball al dia, a la setmana, al mes o a l'any contractades i la seva distribució.</a:t>
            </a:r>
            <a:r>
              <a:rPr b="0"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s treballadors a temps parcial no podran realitzar hores extra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s consideren hores complementàries aquelles la possibilitat de les quals de realització hagi estat acordada, com a addició a les hores ordinàries pactades en el contracte a temps parcial</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nombre d'hores complementàries no podrà excedir del 15 per 100 de les hores 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Les hores complementàries efectivament realitzades es retribuiran com a ordinàries.</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treballador haurà de conèixer el dia i hora de realització de les hores complementàries amb un preavís de set dies.</a:t>
            </a:r>
            <a:r>
              <a:rPr b="1" lang="es-E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800000"/>
                </a:solidFill>
                <a:latin typeface="Arial"/>
              </a:rPr>
              <a:t>Contracte de Relleu</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Contracte dirigit a substituir a un treballador de l'empresa que accedeix a la jubilació parcial per un treballador inscrit en l'Oficina d'Ocupació.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La durada del contracte serà indefinida o igual a la del temps que falti al treballador substituït per aconseguir l'edat de jubilació a la qual es refereix el primer paràgraf d'aquest apartat.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Si, en complir aquesta edat, el treballador jubilat parcialment continués en l'empresa, el contracte de relleu que s'hagués celebrat per durada determinada podrà prorrogar-se mitjançant acord de les parts per períodes anuals, extingint-se, en tot cas, en finalitzar el període corresponent a l'any en el qual es produeixi la jubilació total del treballador rellevat.</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El contracte de relleu podrà celebrar-se a jornada completa o a temps parcial. En tot cas, la durada de la jornada haurà de ser, com a mínim, igual a la reducció de jornada acordada pel treballador substituït. L'horari de treball del treballador relevista podrà completar el del treballador substituït o simultanejar-se amb ell.</a:t>
            </a:r>
            <a:r>
              <a:rPr b="0" lang="ca-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Arial"/>
              </a:rPr>
              <a:t>Altres contractes de treball</a:t>
            </a:r>
            <a:br>
              <a:rPr sz="4000"/>
            </a:b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a domicili</a:t>
            </a:r>
            <a:r>
              <a:rPr b="0" lang="ca-ES" sz="1600" spc="-1" strike="noStrike">
                <a:solidFill>
                  <a:srgbClr val="000000"/>
                </a:solidFill>
                <a:latin typeface="Arial"/>
              </a:rPr>
              <a:t> </a:t>
            </a:r>
            <a:br>
              <a:rPr sz="1600"/>
            </a:br>
            <a:r>
              <a:rPr b="0" lang="ca-ES" sz="1600" spc="-1" strike="noStrike">
                <a:solidFill>
                  <a:srgbClr val="000000"/>
                </a:solidFill>
                <a:latin typeface="Arial"/>
              </a:rPr>
              <a:t>Treball realitzat al domicili del treballador o lloc lliurement triat per aquest i sense la vigilància de l'empresari. </a:t>
            </a:r>
            <a:br>
              <a:rPr sz="1600"/>
            </a:br>
            <a:r>
              <a:rPr b="0" lang="ca-ES" sz="1600" spc="-1" strike="noStrike">
                <a:solidFill>
                  <a:srgbClr val="000000"/>
                </a:solidFill>
                <a:latin typeface="Arial"/>
              </a:rPr>
              <a:t>Pot ser indefinit o per temps determinat. </a:t>
            </a:r>
            <a:br>
              <a:rPr sz="1600"/>
            </a:br>
            <a:r>
              <a:rPr b="0" lang="ca-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en Grup </a:t>
            </a:r>
            <a:br>
              <a:rPr sz="1600"/>
            </a:br>
            <a:r>
              <a:rPr b="0" lang="ca-ES" sz="1600" spc="-1" strike="noStrike">
                <a:solidFill>
                  <a:srgbClr val="000000"/>
                </a:solidFill>
                <a:latin typeface="Arial"/>
              </a:rPr>
              <a:t>Si l'empresari donés un treball en comú a un grup dels seus treballadors, conservarà respecte de cadascun, individualment, els seus drets i deures. Aquest contracte serà celebrat entre un empresari i un grup de treballadors considerat íntegrament, no tenint l'empresari enfront de cadascun dels membres del grup els drets i deures que com tal li competeixen. </a:t>
            </a:r>
            <a:br>
              <a:rPr sz="1600"/>
            </a:br>
            <a:r>
              <a:rPr b="0" lang="ca-ES" sz="1600" spc="-1" strike="noStrike">
                <a:solidFill>
                  <a:srgbClr val="000000"/>
                </a:solidFill>
                <a:latin typeface="Arial"/>
              </a:rPr>
              <a:t>Se celebrarà per temps indefinit o de durada determinat i es registrarà en l'Oficina d'Ocupació en els deu dies següents a la seva concertació. </a:t>
            </a:r>
            <a:br>
              <a:rPr sz="1600"/>
            </a:br>
            <a:r>
              <a:rPr b="0" lang="ca-ES" sz="1600" spc="-1" strike="noStrike">
                <a:solidFill>
                  <a:srgbClr val="000000"/>
                </a:solidFill>
                <a:latin typeface="Arial"/>
              </a:rPr>
              <a:t>El cap de grup ostenta la representació de treballadors que ho integren responent de les obligacions inherents a aquesta representació. L'empresari només pot exercir els seus drets i obligacions amb el cap de grup.</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racte per a treballadors que tenguin acreditada la condició de víctima de violència domès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Podrà ser indefinit o temporal; a temps complet o parcial. Dóna dret a bonificacions a la quota empresarial de la Segureta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LLAÇ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ORMACIÓ SOBRE BONIFICACIONS PER A DETERMINATS CONTRACTES: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1"/>
              </a:rPr>
              <a:t>http://www.seg-social.es/Internet_1/Trabajadores/Afiliacion/Incentivosalacontra30035/index.ht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ALITATS DE CONTRACTES. GENERALITAT DE CATALUNY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2"/>
              </a:rPr>
              <a:t>http://www20.gencat.cat/portal/site/treball/menuitem.3429fc56b1d79ff0a6740d63b0c0e1a0/?vgnextoid=0bd6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35/2010, de 17 de septiembre, de medidas urgentes para la reforma del mercado de trabajo.</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3"/>
              </a:rPr>
              <a:t>https://www.redtrabaja.es/es/redtrabaja/contenidos/introNoticias.do?pagina=/ampliar/reforma_laboral.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DIDAS DE FOMENTO DE LA CONTRATACIÓN</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https://www.redtrabaja.es/ca/portaltrabaja/resources/pdf/contratos/Fcontratos.pdf</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755640" y="318240"/>
            <a:ext cx="7201080" cy="623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web de los Servicios Públicos de Empleo</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1"/>
              </a:rPr>
              <a:t>www.redtrabaja.es</a:t>
            </a:r>
            <a:r>
              <a:rPr b="1" lang="ca-ES" sz="1600" spc="-1" strike="noStrike">
                <a:solidFill>
                  <a:srgbClr val="333333"/>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ca-ES" sz="1600" spc="-1" strike="noStrike">
                <a:solidFill>
                  <a:srgbClr val="333333"/>
                </a:solidFill>
                <a:latin typeface="Times New Roman"/>
                <a:ea typeface="Times New Roman"/>
              </a:rPr>
              <a:t>web del Servicio Público de Empleo Estatal</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2"/>
              </a:rPr>
              <a:t>www.sep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inisterio de Trabajo y Asuntos Sociales: - </a:t>
            </a:r>
            <a:r>
              <a:rPr b="0" lang="es-ES" sz="1600" spc="-1" strike="noStrike" u="sng">
                <a:solidFill>
                  <a:srgbClr val="009999"/>
                </a:solidFill>
                <a:uFillTx/>
                <a:latin typeface="Times New Roman"/>
                <a:ea typeface="Times New Roman"/>
                <a:hlinkClick r:id="rId3"/>
              </a:rPr>
              <a:t>http://www.mtas.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stituto Nacional de Empleo: - </a:t>
            </a:r>
            <a:r>
              <a:rPr b="0" lang="es-ES" sz="1600" spc="-1" strike="noStrike" u="sng">
                <a:solidFill>
                  <a:srgbClr val="009999"/>
                </a:solidFill>
                <a:uFillTx/>
                <a:latin typeface="Times New Roman"/>
                <a:ea typeface="Times New Roman"/>
                <a:hlinkClick r:id="rId4"/>
              </a:rPr>
              <a:t>http://inem.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cretaría de Estado de la Seguridad Social: - </a:t>
            </a:r>
            <a:r>
              <a:rPr b="0" lang="es-ES" sz="1600" spc="-1" strike="noStrike" u="sng">
                <a:solidFill>
                  <a:srgbClr val="009999"/>
                </a:solidFill>
                <a:uFillTx/>
                <a:latin typeface="Times New Roman"/>
                <a:ea typeface="Times New Roman"/>
                <a:hlinkClick r:id="rId5"/>
              </a:rPr>
              <a:t>http://www.seg-soci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a Unión Europea: - </a:t>
            </a:r>
            <a:r>
              <a:rPr b="0" lang="es-ES" sz="1600" spc="-1" strike="noStrike" u="sng">
                <a:solidFill>
                  <a:srgbClr val="009999"/>
                </a:solidFill>
                <a:uFillTx/>
                <a:latin typeface="Times New Roman"/>
                <a:ea typeface="Times New Roman"/>
                <a:hlinkClick r:id="rId6"/>
              </a:rPr>
              <a:t>http://www.europa.eu.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Unión Genenral de Trabajadores:    </a:t>
            </a:r>
            <a:r>
              <a:rPr b="0" lang="ca-ES" sz="1600" spc="-1" strike="noStrike" u="sng">
                <a:solidFill>
                  <a:srgbClr val="009999"/>
                </a:solidFill>
                <a:uFillTx/>
                <a:latin typeface="Times New Roman"/>
                <a:ea typeface="Times New Roman"/>
                <a:hlinkClick r:id="rId7"/>
              </a:rPr>
              <a:t>www.ugt.es</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misiones Obreras: </a:t>
            </a:r>
            <a:r>
              <a:rPr b="0" lang="es-ES" sz="1600" spc="-1" strike="noStrike" u="sng">
                <a:solidFill>
                  <a:srgbClr val="009999"/>
                </a:solidFill>
                <a:uFillTx/>
                <a:latin typeface="Times New Roman"/>
                <a:ea typeface="Times New Roman"/>
                <a:hlinkClick r:id="rId8"/>
              </a:rPr>
              <a:t>http://www.ccoo.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federación española de organizaciones empresariales: - </a:t>
            </a:r>
            <a:r>
              <a:rPr b="0" lang="es-ES" sz="1600" spc="-1" strike="noStrike" u="sng">
                <a:solidFill>
                  <a:srgbClr val="009999"/>
                </a:solidFill>
                <a:uFillTx/>
                <a:latin typeface="Times New Roman"/>
                <a:ea typeface="Times New Roman"/>
                <a:hlinkClick r:id="rId9"/>
              </a:rPr>
              <a:t>http://www.ceo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etita i mitjana empresa: </a:t>
            </a:r>
            <a:r>
              <a:rPr b="0" lang="ca-ES" sz="1600" spc="-1" strike="noStrike">
                <a:solidFill>
                  <a:srgbClr val="00cc99"/>
                </a:solidFill>
                <a:latin typeface="Times New Roman"/>
                <a:ea typeface="Times New Roman"/>
              </a:rPr>
              <a:t>www.ipyme.org</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979920" y="90792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597a0"/>
                </a:solidFill>
                <a:latin typeface="Times New Roman"/>
                <a:ea typeface="Times New Roman"/>
              </a:rPr>
              <a:t>ALTRES ENLLAÇOS: </a:t>
            </a:r>
            <a:endParaRPr b="0" lang="en-US" sz="2800" spc="-1" strike="noStrike">
              <a:solidFill>
                <a:srgbClr val="000000"/>
              </a:solidFill>
              <a:latin typeface="Arial"/>
            </a:endParaRPr>
          </a:p>
        </p:txBody>
      </p:sp>
      <p:sp>
        <p:nvSpPr>
          <p:cNvPr id="88" name="2 Rectángulo"/>
          <p:cNvSpPr/>
          <p:nvPr/>
        </p:nvSpPr>
        <p:spPr>
          <a:xfrm>
            <a:off x="684360" y="1700280"/>
            <a:ext cx="29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cc99"/>
                </a:solidFill>
                <a:latin typeface="Arial"/>
                <a:ea typeface="Times New Roman"/>
              </a:rPr>
              <a:t>www.ayudalaboral.com</a:t>
            </a:r>
            <a:r>
              <a:rPr b="0" lang="ca-E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9" name="Rectangle 1"/>
          <p:cNvSpPr/>
          <p:nvPr/>
        </p:nvSpPr>
        <p:spPr>
          <a:xfrm>
            <a:off x="539640" y="2354760"/>
            <a:ext cx="7956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09069/LOS%20CONTRATOS%20DE%20TRABAJO.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aurora%20gonzalez/plantilla_webquest.htm</a:t>
            </a:r>
            <a:endParaRPr b="0" lang="en-US" sz="1800" spc="-1" strike="noStrike">
              <a:solidFill>
                <a:srgbClr val="000000"/>
              </a:solidFill>
              <a:latin typeface="Arial"/>
            </a:endParaRPr>
          </a:p>
        </p:txBody>
      </p:sp>
      <p:sp>
        <p:nvSpPr>
          <p:cNvPr id="90" name="Rectangle 2"/>
          <p:cNvSpPr/>
          <p:nvPr/>
        </p:nvSpPr>
        <p:spPr>
          <a:xfrm>
            <a:off x="611280" y="4475160"/>
            <a:ext cx="7056360" cy="18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Times New Roman"/>
                <a:ea typeface="Calibri"/>
              </a:rPr>
              <a:t>WEB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sauce.pntic.mec.es/arur0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España y la 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web.educastur.princast.es/cursos/cursowqp/aplic//ingacio%20orviz/plantilla_webquest.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333cc"/>
                </a:solidFill>
                <a:latin typeface="Arial"/>
              </a:rPr>
              <a:t>Contractes indefinits</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95280" y="980640"/>
            <a:ext cx="8229600" cy="5327640"/>
          </a:xfrm>
          <a:prstGeom prst="rect">
            <a:avLst/>
          </a:prstGeom>
          <a:noFill/>
          <a:ln w="0">
            <a:noFill/>
          </a:ln>
        </p:spPr>
        <p:txBody>
          <a:bodyPr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ordinari indefinit és aquell que es concerta sense establir límits en la prestació dels serveis. Podrà ser verbal o escrit, havent de ser comunicat en l'Oficina d'Ocupació en els deu dies següents a la seva concertació.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de treball es podrà celebrar per escrit o de paraula. </a:t>
            </a:r>
            <a:endParaRPr b="0" lang="en-US" sz="28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Adquiriran la condició de fixos aquells treballadors que no haguessin estat donats en alta en la Seguretat Social superat el període de prova, així com aquells treballadors amb contracte temporal celebrats en frau de llei.</a:t>
            </a:r>
            <a:r>
              <a:rPr b="1" lang="ca-ES" sz="2400" spc="-1" strike="noStrike">
                <a:solidFill>
                  <a:srgbClr val="3333cc"/>
                </a:solidFill>
                <a:latin typeface="Arial"/>
              </a:rPr>
              <a:t> </a:t>
            </a:r>
            <a:br>
              <a:rPr sz="2400"/>
            </a:br>
            <a:r>
              <a:rPr b="1" lang="ca-ES" sz="2400" spc="-1" strike="noStrike">
                <a:solidFill>
                  <a:srgbClr val="3333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24000" y="3108600"/>
            <a:ext cx="84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1"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0066"/>
                </a:solidFill>
                <a:latin typeface="Arial"/>
              </a:rPr>
              <a:t>Contracte per al foment de la contractació indefinida</a:t>
            </a:r>
            <a:endParaRPr b="0" lang="en-US" sz="3600" spc="-1" strike="noStrike">
              <a:solidFill>
                <a:srgbClr val="000000"/>
              </a:solidFill>
              <a:latin typeface="Arial"/>
            </a:endParaRPr>
          </a:p>
        </p:txBody>
      </p:sp>
      <p:sp>
        <p:nvSpPr>
          <p:cNvPr id="62" name="PlaceHolder 2"/>
          <p:cNvSpPr>
            <a:spLocks noGrp="1"/>
          </p:cNvSpPr>
          <p:nvPr>
            <p:ph type="subTitle"/>
          </p:nvPr>
        </p:nvSpPr>
        <p:spPr>
          <a:xfrm>
            <a:off x="324000" y="1988640"/>
            <a:ext cx="8424720" cy="431964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Va dirigit  a col·lectius específics afectats per la desocupació i la inestabilitat laboral: </a:t>
            </a: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Desocupats en qui concorrin alguna de les condicions següents:     - joves de 16 a 30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ones per ocupacions amb baix índex de contractació femenina</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gt; 45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aturats de més de 6 meso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iscapacitat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situació exclusió social</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víctimes violència gènere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Persones que, a la data de contractació del nou contracte de foment de la contractació indefinida, treballassin a la mateixa empresa amb un contracte de durada determinada.</a:t>
            </a:r>
            <a:r>
              <a:rPr b="0" lang="es-ES" sz="1800" spc="-1" strike="noStrike">
                <a:solidFill>
                  <a:srgbClr val="ff0066"/>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6600"/>
                </a:solidFill>
                <a:latin typeface="Arial"/>
              </a:rPr>
              <a:t>Contractes de durada determinada</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obra i servei determinat</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per circumstàncies de la produc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interin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obra i servei determinat</a:t>
            </a:r>
            <a:br>
              <a:rPr sz="3600"/>
            </a:b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6600"/>
                </a:solidFill>
                <a:latin typeface="Arial"/>
              </a:rPr>
              <a:t>Quan es contracti al treballador per a la realització d'una obra o servei determinats, amb autonomia i sustantividad pròpies dins de l'activitat de l'empresa i l'execució de la qual, encara que limitada en el temps, és en principi de durada incerta</a:t>
            </a:r>
            <a:r>
              <a:rPr b="0" lang="es-E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per circumstàncies de la producció</a:t>
            </a:r>
            <a:br>
              <a:rPr sz="3600"/>
            </a:b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Quan les circumstàncies del mercat, acumulació de tasques o excés de comandes així ho exigissin, àdhuc tractant-se de l'activitat normal de l'empres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ls contractes podran tenir una durada màxima de sis mesos, dins d'un període de dotze mesos. En tal suposat, el període màxim serà de divuit mesos. </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n cas que el contracte s'hagués concertat per una durada inferior a la màxima legal o convencionalment establerta, podrà prorrogar-se mitjançant acord de les parts, per una única vegada, sense que la durada total del contracte pugui excedir d'aquesta durada màxim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Per conveni col·lectiu es podran determinar les activitats en les quals puguin contractar-se treballadors eventuals, així com fixar criteris generals relatius a l'adequada relació entre el volum d'aquesta modalitat contractual i la plantilla total de l'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interinitat</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Quan es tracti de substituir a treballadors amb dret a reserva del lloc de treball, sempre que en el contracte de treball s'especifiqui el nom del substituït i la causa de substitu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Durada: pel temps en què el treballador substituït tengui suspès el contract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9900cc"/>
                </a:solidFill>
                <a:latin typeface="Arial"/>
              </a:rPr>
              <a:t>Contractes formatiu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90000"/>
              </a:lnSpc>
              <a:spcBef>
                <a:spcPts val="70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per a la formació </a:t>
            </a:r>
            <a:endParaRPr b="0" lang="en-US" sz="2800" spc="-1" strike="noStrike">
              <a:solidFill>
                <a:srgbClr val="000000"/>
              </a:solidFill>
              <a:latin typeface="Arial"/>
            </a:endParaRPr>
          </a:p>
          <a:p>
            <a:pPr marL="343080" indent="-343080">
              <a:lnSpc>
                <a:spcPct val="90000"/>
              </a:lnSpc>
              <a:spcBef>
                <a:spcPts val="499"/>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Tindrà per objecte l'adquisició de la formació teòrica i pràctica necessària per a l'acompliment adequat d'un ofici o d'un lloc de treball que requereixi un determinat nivell de qualificació</a:t>
            </a:r>
            <a:r>
              <a:rPr b="0" lang="es-ES" sz="2000" spc="-1" strike="noStrike">
                <a:solidFill>
                  <a:srgbClr val="9900cc"/>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de treball en pràctiques</a:t>
            </a:r>
            <a:r>
              <a:rPr b="1" lang="ca-ES" sz="2400" spc="-1" strike="noStrike">
                <a:solidFill>
                  <a:srgbClr val="9900cc"/>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podrà concertar-se amb els qui estiguessin en possessió de títol universitari o de formació professional de grau mitjà o superior o títols oficialment reconeguts com a equivalents, que habilitin per a l'exercici professional, dins dels quatre anys, o de sis anys quan el contracte es concerti amb un treballador minusvàlid, següents a la terminació dels corresponents estudi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9900cc"/>
                </a:solidFill>
                <a:latin typeface="Arial"/>
              </a:rPr>
              <a:t>El contracte per a la formació</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s podrà celebrar amb treballadors majors de setze anys i menors de vint-i-un anys que manquin de la titulació requerida per realitzar un contracte en pràctiques. El límit màxim d'edat serà de vint-i-quatre anys quan el contracte es concerti amb aturats que s'incorporin com a alumnes-treballadors als programes d'escoles taller i cases d'oficis.</a:t>
            </a:r>
            <a:br>
              <a:rPr sz="1800"/>
            </a:br>
            <a:r>
              <a:rPr b="1" lang="ca-ES" sz="1800" spc="-1" strike="noStrike">
                <a:solidFill>
                  <a:srgbClr val="9900cc"/>
                </a:solidFill>
                <a:latin typeface="Arial"/>
              </a:rPr>
              <a:t>El límit màxim d'edat no serà aplicable quan el contracte es concerti amb aturats que s'incorporin com a alumnes-treballadors als programes de tallers d'ocupació o es tracti de persones amb discapacitat.</a:t>
            </a:r>
            <a:r>
              <a:rPr b="1" lang="es-ES" sz="1800" spc="-1" strike="noStrike">
                <a:solidFill>
                  <a:srgbClr val="9900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mínima del contracte serà de sis mesos i la màxima de dos anys.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pirada la durada màxima del contracte per a la formació, el treballador no podrà ser contractat sota aquesta modalitat per la mateixa o diferent empres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l temps dedicat a la formació teòrica no podrà ser inferior al 15 per 100 de la jornada màxima previst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contractat per a la formació serà la fixada en conveni col·lectiu, sense que, en defecte d'això, pugui ser inferior al salari mínim interprofessional en proporció al temps de treball efectiu</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6:23:56Z</dcterms:created>
  <dc:creator>ROSA SASTRE JUAN</dc:creator>
  <dc:description/>
  <dc:language>en-US</dc:language>
  <cp:lastModifiedBy>ROSA</cp:lastModifiedBy>
  <dcterms:modified xsi:type="dcterms:W3CDTF">2010-11-14T17:42:22Z</dcterms:modified>
  <cp:revision>5</cp:revision>
  <dc:subject/>
  <dc:title>Diapositiva 1</dc:title>
</cp:coreProperties>
</file>