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B8B-5F27-4368-B700-BD31752C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131-80B2-49BA-A091-9F8CD4BD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EA9-42F7-4105-94B3-C2EEA980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610-FE23-4FF5-BF4B-64217175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5E0-525B-4BD8-B7F5-F1455D9D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DAA-A7D9-4B89-A5BB-DDB91D2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6ED-09A4-4EE0-82E3-891E5D6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187-6929-4060-88B9-7E82CA2D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1CE-3A69-458E-A25A-16961AE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8F2-FAD7-49E0-9FEE-44E5A61D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283-9ED3-4731-AB0A-996F22A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A2F-DB23-46AC-AF46-BAD4C95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0939-A558-4AAC-ADF1-EEC3ED017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25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pier-coller sa carte Cmap sur un serveur (serveurs publics IH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cher l’option “collaboration synchr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3852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6803640" y="1916280"/>
            <a:ext cx="1297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 fenêtre “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llaboration synchrone activé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apparaît et confirme l’activation de c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95640" y="3429000"/>
            <a:ext cx="2952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4876560" cy="4819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700280"/>
            <a:ext cx="26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 on n’est pas l’auteur d’une carte mais qu’on désire y collaborer, on peut faire une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Demande d'ouverture de session de collaboration »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n cliquant sur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n peut aussi décider de travailler sur une copie de cette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666960" cy="219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299736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a demande est reçue par l’auteur qui peut la tra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ssibilité d’ajouter des paramètres d’identification (ID+ mot de pa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llaboration synchrone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outes les modifications effectuées en collaboration synchrone sont visibles de tous dans cette session. Les utilisateurs peuvent également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clavard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entrant du texte dans la zone située à droite de la Cmap et en cliquant sur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Envoy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14480" y="1197000"/>
            <a:ext cx="7115040" cy="39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7884720" y="2276640"/>
            <a:ext cx="9349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43200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1:47:15Z</dcterms:created>
  <dc:creator>HP Authorized Customer</dc:creator>
  <dc:description/>
  <dc:language>en-US</dc:language>
  <cp:lastModifiedBy>HP Authorized Customer</cp:lastModifiedBy>
  <dcterms:modified xsi:type="dcterms:W3CDTF">2009-03-24T02:12:42Z</dcterms:modified>
  <cp:revision>3</cp:revision>
  <dc:subject/>
  <dc:title>Collaboration synchrone</dc:title>
</cp:coreProperties>
</file>