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6F6-09F5-481E-8BE4-D3FBAC10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3FC-47C5-49B1-94AE-701C18B9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AE9-8243-4598-97E0-6FC6D2C9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641-ABC2-4DE9-AD30-2124EF20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253-FE86-436C-86AD-72BD9C21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900-C7AD-42C0-8E37-22F0EB6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D19-14D1-4E24-A21D-1D5DCF15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124-6DF7-4E5E-86D3-858C8714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DD0-6850-4E9B-ABE5-B2AC965B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BF3-B974-4B09-9196-71F6AC40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E7D-6A85-467F-A5BB-6E496A9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091-020F-4855-8709-8B8C8E6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6BD-31BE-4414-BE5A-23F3C5D0A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251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pier-coller sa carte Cmap sur un serveur (serveurs publics IH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cher l’option “collaboration synchr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5438520" cy="34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6803640" y="1916280"/>
            <a:ext cx="1297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 fenêtre “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llaboration synchrone activé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” apparaît et confirme l’activation de ce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95640" y="3429000"/>
            <a:ext cx="2952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4876560" cy="4819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1700280"/>
            <a:ext cx="266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 on n’est pas l’auteur d’une carte mais qu’on désire y collaborer, on peut faire une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«Demande d'ouverture de session de collaboration »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n cliquant sur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n peut aussi décider de travailler sur une copie de cette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666960" cy="219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2997360"/>
            <a:ext cx="324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a demande est reçue par l’auteur qui peut la tra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ssibilité d’ajouter des paramètres d’identification (ID+ mot de pa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5444640"/>
            <a:ext cx="80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outes les modifications effectuées en collaboration synchrone sont visibles de tous dans cette session. Les utilisateurs peuvent également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clavard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entrant du texte dans la zone située à droite de la Cmap et en cliquant sur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Envoy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14480" y="1197000"/>
            <a:ext cx="7115040" cy="39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7884720" y="2276640"/>
            <a:ext cx="93492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844640"/>
            <a:ext cx="43200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1:47:15Z</dcterms:created>
  <dc:creator>HP Authorized Customer</dc:creator>
  <dc:description/>
  <dc:language>en-US</dc:language>
  <cp:lastModifiedBy>HP Authorized Customer</cp:lastModifiedBy>
  <dcterms:modified xsi:type="dcterms:W3CDTF">2009-03-24T02:12:42Z</dcterms:modified>
  <cp:revision>3</cp:revision>
  <dc:subject/>
  <dc:title>Collaboration synchrone</dc:title>
</cp:coreProperties>
</file>