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C7463-DDD1-49C4-AB73-127886736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D3987-214B-4A8F-8127-6AA4B0CF7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770B9-A918-4B6C-9F86-FAE817E8A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746B4-E5D7-42E3-8DC6-6F34447E6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91EAE-246D-406F-8F4C-F60CC0E75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1423D-CFD0-4621-AA59-0DB7A0AA6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646F6-7F55-4DB2-80C4-E7AA17B1D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B2E53-AA5A-428F-AA6D-238F9A282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3C337-0A83-4573-8868-1851F56E8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44012-2A23-49D9-977B-31ECA895D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B06BB-53A6-460E-A402-EFADEE7FD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C7511-9D06-4D4B-8E94-AA7541AC3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2C2DA-106A-4133-AA63-401CEBB135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Fils de discussion 1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322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Possibilité d’ajouter un fil de discussion sur un concept dans une carte ou sur le serveur de partage we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572000" y="1916280"/>
            <a:ext cx="3382920" cy="239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Fils de discussion 2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843200" y="1600200"/>
            <a:ext cx="54561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Fils de discussion 3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190600" y="1957320"/>
            <a:ext cx="47628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2:31:31Z</dcterms:created>
  <dc:creator>HP Authorized Customer</dc:creator>
  <dc:description/>
  <dc:language>en-US</dc:language>
  <cp:lastModifiedBy>HP Authorized Customer</cp:lastModifiedBy>
  <dcterms:modified xsi:type="dcterms:W3CDTF">2009-03-24T02:35:29Z</dcterms:modified>
  <cp:revision>1</cp:revision>
  <dc:subject/>
  <dc:title>Fils de discussion 1/3</dc:title>
</cp:coreProperties>
</file>