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E085-52D1-40A0-91C9-F8DD063E0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4242-18E4-4409-8D11-67FC5AEE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4E31-63E8-489A-93E6-22A8AC336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89FC-F8F1-403F-A504-AE013726F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1C23-0D74-46C2-89A4-A498E355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23EE-687D-4FEE-83B2-F374042C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825D-4BAD-442B-B162-D565C698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CA5B-1A0D-4C51-BF44-042CC682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F82D-9276-468A-AD09-C85D2B87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9C11-3DE8-4635-B4F8-EDF0AFC9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FA64-9107-403D-9C04-6B253A4F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1361-4A8E-42CF-978C-15A21621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2582-C59D-481B-BE8F-7AE4F9B6A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Fils de discussion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322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ossibilité d’ajouter un fil de discussion sur un concept dans une carte ou sur le serveur de partage we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0" y="1916280"/>
            <a:ext cx="338292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Fils de discussion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43200" y="1600200"/>
            <a:ext cx="5456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Fils de discussion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90600" y="1957320"/>
            <a:ext cx="47628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2:31:31Z</dcterms:created>
  <dc:creator>HP Authorized Customer</dc:creator>
  <dc:description/>
  <dc:language>en-US</dc:language>
  <cp:lastModifiedBy>HP Authorized Customer</cp:lastModifiedBy>
  <dcterms:modified xsi:type="dcterms:W3CDTF">2009-03-24T02:35:29Z</dcterms:modified>
  <cp:revision>1</cp:revision>
  <dc:subject/>
  <dc:title>Fils de discussion 1/3</dc:title>
</cp:coreProperties>
</file>