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E2F4-A96F-4CCC-8FA2-6F6A86AF8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DD5C-9E08-4808-B6B3-CEB68C226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5121-8D73-42D6-836C-1B16215EF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6ACD-E659-4930-BBE5-79112D95B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1D8A-3DFD-4E8F-8F5D-E5398508A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DEB6-3547-429A-9CF0-115BDBC39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AFB1-CC3A-462B-B6CC-FFA44ECEF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46CD-8467-4D31-804F-DBF790013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2B66-B7D5-4F77-B664-1866BF52C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71FE-4800-4E82-B035-DE9FB2B6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55B0-8F0A-4715-9047-58384E84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A886-E9B1-4458-8136-9BF815FF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754D-F3E2-44F8-A906-F75BC2452D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uillons de connaissances 1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636640"/>
            <a:ext cx="41148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Vous pouvez participer au partage d'idées et de propositions sur une carte conceptuelle grâce aux </a:t>
            </a: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bouillons de connaissances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Pour commencer à participer à un bouillon de connaissances, dans le menu </a:t>
            </a: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Collaborer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, choisissez </a:t>
            </a: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Verser la Cmap au bouillon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003640" y="1357200"/>
            <a:ext cx="3733920" cy="4143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9280" y="162864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Arial"/>
              </a:rPr>
              <a:t>PARTICIPER AUX BOUILL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uillons de connaissances 2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635280" y="1557360"/>
            <a:ext cx="4762440" cy="4276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84360" y="1773360"/>
            <a:ext cx="2519280" cy="30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 fenêtre « Sélectionner un bouillon auquel participer » apparaît et recherche automatiquement tous les bouillons existants auxquels vous pouvez vous joind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us pouvez rechercher manuellement un bouillon spécifique en cliquant su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couri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ur participer au bouillon sélectionné, cliquez su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ticip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uillons de connaissances 3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7781760" cy="4019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79280" y="5373720"/>
            <a:ext cx="4392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Le Bouillon de connaissances s'ouvre vis à vis de la Cmap ouverte. Toutes les propositions de la Cmap apparaissent sous forme d'une liste d'</a:t>
            </a:r>
            <a:r>
              <a:rPr b="1" i="1" lang="fr-CA" sz="1200" spc="-1" strike="noStrike">
                <a:solidFill>
                  <a:srgbClr val="000000"/>
                </a:solidFill>
                <a:latin typeface="Arial"/>
              </a:rPr>
              <a:t>assertions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 sous </a:t>
            </a:r>
            <a:r>
              <a:rPr b="1" lang="fr-CA" sz="1200" spc="-1" strike="noStrike">
                <a:solidFill>
                  <a:srgbClr val="000000"/>
                </a:solidFill>
                <a:latin typeface="Arial"/>
              </a:rPr>
              <a:t>Mes assertions (My Claims)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. Vous pouvez </a:t>
            </a:r>
            <a:r>
              <a:rPr b="1" lang="fr-CA" sz="1200" spc="-1" strike="noStrike">
                <a:solidFill>
                  <a:srgbClr val="000000"/>
                </a:solidFill>
                <a:latin typeface="Arial"/>
              </a:rPr>
              <a:t>Publier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fr-CA" sz="1200" spc="-1" strike="noStrike">
                <a:solidFill>
                  <a:srgbClr val="000000"/>
                </a:solidFill>
                <a:latin typeface="Arial"/>
              </a:rPr>
              <a:t>Retirer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1" lang="fr-CA" sz="1200" spc="-1" strike="noStrike">
                <a:solidFill>
                  <a:srgbClr val="000000"/>
                </a:solidFill>
                <a:latin typeface="Arial"/>
              </a:rPr>
              <a:t>Supprimer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 n'importe laquelle de vos assertions. Les assertions publiées dans le bouillon apparaissent sous </a:t>
            </a:r>
            <a:r>
              <a:rPr b="1" lang="fr-CA" sz="1200" spc="-1" strike="noStrike">
                <a:solidFill>
                  <a:srgbClr val="000000"/>
                </a:solidFill>
                <a:latin typeface="Arial"/>
              </a:rPr>
              <a:t>Assertions du bouillon (Soup Claims)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5373720"/>
            <a:ext cx="4321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Vous pouvez </a:t>
            </a:r>
            <a:r>
              <a:rPr b="1" lang="fr-CA" sz="1200" spc="-1" strike="noStrike">
                <a:solidFill>
                  <a:srgbClr val="000000"/>
                </a:solidFill>
                <a:latin typeface="Arial"/>
              </a:rPr>
              <a:t>Afficher les diffuseurs de l'assertion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fr-CA" sz="1200" spc="-1" strike="noStrike">
                <a:solidFill>
                  <a:srgbClr val="000000"/>
                </a:solidFill>
                <a:latin typeface="Arial"/>
              </a:rPr>
              <a:t>Ajouter un fil de discussion à l'assertion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fr-CA" sz="1200" spc="-1" strike="noStrike">
                <a:solidFill>
                  <a:srgbClr val="000000"/>
                </a:solidFill>
                <a:latin typeface="Arial"/>
              </a:rPr>
              <a:t>Rafraîchir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 la liste des assertions publiées ou vous </a:t>
            </a:r>
            <a:r>
              <a:rPr b="1" lang="fr-CA" sz="1200" spc="-1" strike="noStrike">
                <a:solidFill>
                  <a:srgbClr val="000000"/>
                </a:solidFill>
                <a:latin typeface="Arial"/>
              </a:rPr>
              <a:t>Déconnecter du bouillon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 en cliquant sur le bouton approprié en regard de l'en-tête Assertions du bouillon. Pour ajouter une nouvelle assertion à la Cmap, sélectionnez une assertion publiée sous Assertions du bouillon et faites-la glisser sur la Cm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uillons de connaissances 4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11280" y="1484280"/>
            <a:ext cx="6419880" cy="4143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635280" y="3573360"/>
            <a:ext cx="1511280" cy="15829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2781360"/>
            <a:ext cx="180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La proposition </a:t>
            </a:r>
            <a:r>
              <a:rPr b="0" i="1" lang="en-CA" sz="1800" spc="-1" strike="noStrike">
                <a:solidFill>
                  <a:srgbClr val="000000"/>
                </a:solidFill>
                <a:latin typeface="Arial"/>
              </a:rPr>
              <a:t>“Sunlight helps Plants”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a été ajoutée à la car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uillons de connaissances 5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700360" y="1628640"/>
            <a:ext cx="5248080" cy="46389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79280" y="162864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Arial"/>
              </a:rPr>
              <a:t>CRÉER UN BOUILL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uillons de connaissances 6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74644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Définir les propriétés initiales et les membres du bouillon de connaissan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On peut : fixer une date d'expiration pour le bouill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En tant qu'administrateur du bouillon, vous avez la possibilité d'</a:t>
            </a:r>
            <a:r>
              <a:rPr b="1" lang="fr-CA" sz="1200" spc="-1" strike="noStrike">
                <a:solidFill>
                  <a:srgbClr val="000000"/>
                </a:solidFill>
                <a:latin typeface="Arial"/>
              </a:rPr>
              <a:t>Ajouter un utilisateur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, de </a:t>
            </a:r>
            <a:r>
              <a:rPr b="1" lang="fr-CA" sz="1200" spc="-1" strike="noStrike">
                <a:solidFill>
                  <a:srgbClr val="000000"/>
                </a:solidFill>
                <a:latin typeface="Arial"/>
              </a:rPr>
              <a:t>Supprimer un utilisateur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 et de </a:t>
            </a:r>
            <a:r>
              <a:rPr b="1" lang="fr-CA" sz="1200" spc="-1" strike="noStrike">
                <a:solidFill>
                  <a:srgbClr val="000000"/>
                </a:solidFill>
                <a:latin typeface="Arial"/>
              </a:rPr>
              <a:t>Supprimer les assertions d'un utilisateur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. Des assertions peuvent être ajoutées et supprimées individuellement et un filtre peut également être appliqué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Si le serveur de Cmaps prend en charge les fils de discussion, vous pouvez </a:t>
            </a:r>
            <a:r>
              <a:rPr b="1" lang="fr-CA" sz="1200" spc="-1" strike="noStrike">
                <a:solidFill>
                  <a:srgbClr val="000000"/>
                </a:solidFill>
                <a:latin typeface="Arial"/>
              </a:rPr>
              <a:t>Ajouter un fil de discussion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fr-CA" sz="1200" spc="-1" strike="noStrike">
                <a:solidFill>
                  <a:srgbClr val="000000"/>
                </a:solidFill>
                <a:latin typeface="Arial"/>
              </a:rPr>
              <a:t>Supprimer un fil de discussion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 ou encore </a:t>
            </a:r>
            <a:r>
              <a:rPr b="1" lang="fr-CA" sz="1200" spc="-1" strike="noStrike">
                <a:solidFill>
                  <a:srgbClr val="000000"/>
                </a:solidFill>
                <a:latin typeface="Arial"/>
              </a:rPr>
              <a:t>Ouvrir un fil de discussion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348000" y="1484280"/>
            <a:ext cx="553392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2:08:56Z</dcterms:created>
  <dc:creator>HP Authorized Customer</dc:creator>
  <dc:description/>
  <dc:language>en-US</dc:language>
  <cp:lastModifiedBy>HP Authorized Customer</cp:lastModifiedBy>
  <dcterms:modified xsi:type="dcterms:W3CDTF">2009-03-24T02:30:21Z</dcterms:modified>
  <cp:revision>2</cp:revision>
  <dc:subject/>
  <dc:title>Bouillons de connaissances </dc:title>
</cp:coreProperties>
</file>