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F261-78AB-424B-82F7-E37EC05D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BAFA-3BFB-4CA9-A04C-BC07237B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063-CE33-4735-9502-0B40E62B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A014-FFB9-4595-9FB7-3E4AB8C7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6E1-AD88-4D6B-AC21-A999DA94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DAC-0966-42B6-AF98-D8BFEB17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8376-489C-4F54-B603-28389AF6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005B-432F-46A7-9EAC-3F929197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85BA-A2C8-4B87-A2BC-938BD67B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991-12D1-47C9-9215-565C4D7D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F488-E114-495F-B518-EED88A49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7A2A-5A85-4E31-AB55-9CABCB28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F1E7-CAE8-4CDD-A5E7-9FB0E111F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illons de connaissances 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4114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Vous pouvez participer au partage d'idées et de propositions sur une carte conceptuelle grâce aux 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bouillons de connaissances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commencer à participer à un bouillon de connaissances, dans le menu 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Collaborer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, choisissez 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Verser la Cmap au bouillon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03640" y="1357200"/>
            <a:ext cx="3733920" cy="414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162864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PARTICIPER AUX BOUILL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illons de connaissances 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635280" y="1557360"/>
            <a:ext cx="4762440" cy="4276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1773360"/>
            <a:ext cx="2519280" cy="30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fenêtre « Sélectionner un bouillon auquel participer » apparaît et recherche automatiquement tous les bouillons existants auxquels vous pouvez vous joind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us pouvez rechercher manuellement un bouillon spécifique en cliquant su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couri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ur participer au bouillon sélectionné, cliquez su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illons de connaissances 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781760" cy="4019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5373720"/>
            <a:ext cx="439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Le Bouillon de connaissances s'ouvre vis à vis de la Cmap ouverte. Toutes les propositions de la Cmap apparaissent sous forme d'une liste d'</a:t>
            </a:r>
            <a:r>
              <a:rPr b="1" i="1" lang="fr-CA" sz="1200" spc="-1" strike="noStrike">
                <a:solidFill>
                  <a:srgbClr val="000000"/>
                </a:solidFill>
                <a:latin typeface="Arial"/>
              </a:rPr>
              <a:t>assertions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sous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Mes assertions (My Claims)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. Vous pouvez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Publi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Retir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Supprim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n'importe laquelle de vos assertions. Les assertions publiées dans le bouillon apparaissent sous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Assertions du bouillon (Soup Claims)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5373720"/>
            <a:ext cx="4321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Vous pouvez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Afficher les diffuseurs de l'assertion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Ajouter un fil de discussion à l'assertion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Rafraîchi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la liste des assertions publiées ou vous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Déconnecter du bouillon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en cliquant sur le bouton approprié en regard de l'en-tête Assertions du bouillon. Pour ajouter une nouvelle assertion à la Cmap, sélectionnez une assertion publiée sous Assertions du bouillon et faites-la glisser sur la C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illons de connaissances 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6419880" cy="4143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635280" y="3573360"/>
            <a:ext cx="1511280" cy="15829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2781360"/>
            <a:ext cx="180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La proposition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“Sunlight helps Plants”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a été ajoutée à la ca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illons de connaissances 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5248080" cy="4638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162864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CRÉER UN BOUI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illons de connaissances 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746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Définir les propriétés initiales et les membres du bouillon de connaissa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On peut : fixer une date d'expiration pour le bouill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En tant qu'administrateur du bouillon, vous avez la possibilité d'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Ajouter un utilisateu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de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Supprimer un utilisateu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et de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Supprimer les assertions d'un utilisateu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. Des assertions peuvent être ajoutées et supprimées individuellement et un filtre peut également être appliqu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Si le serveur de Cmaps prend en charge les fils de discussion, vous pouvez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Ajouter un fil de discussion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Supprimer un fil de discussion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ou encore </a:t>
            </a: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Ouvrir un fil de discussion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48000" y="1484280"/>
            <a:ext cx="553392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2:08:56Z</dcterms:created>
  <dc:creator>HP Authorized Customer</dc:creator>
  <dc:description/>
  <dc:language>en-US</dc:language>
  <cp:lastModifiedBy>HP Authorized Customer</cp:lastModifiedBy>
  <dcterms:modified xsi:type="dcterms:W3CDTF">2009-03-24T02:30:21Z</dcterms:modified>
  <cp:revision>2</cp:revision>
  <dc:subject/>
  <dc:title>Bouillons de connaissances </dc:title>
</cp:coreProperties>
</file>