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744A-188F-425A-BE96-477ABA016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7634-1C30-422D-BAD2-969FCC5E8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1E40-958B-4B81-9E69-29CE0287C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4F93-02D0-4379-A328-BBA5C1A98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B6F9-E1B8-41A1-8D93-D36EB9EE6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31CB-8B59-4929-987C-E7F53C257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3681-C66B-4B21-8797-922EFBEAF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F197-643A-4048-9210-0CA0C68E2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2785-71F2-48B1-AB22-0DF52B9A3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6604-1CB7-4EDF-BFE5-9D32B7EB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BBA2-3019-4097-B915-DF37C5AC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8568-88B8-43BC-965C-5B84E9DE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26005-5925-493F-8E0F-FB9EA7930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03:34:50Z</dcterms:created>
  <dc:creator>HP Authorized Customer</dc:creator>
  <dc:description/>
  <dc:language>en-US</dc:language>
  <cp:lastModifiedBy>HP Authorized Customer</cp:lastModifiedBy>
  <dcterms:modified xsi:type="dcterms:W3CDTF">2009-03-18T03:35:25Z</dcterms:modified>
  <cp:revision>1</cp:revision>
  <dc:subject/>
  <dc:title>Diapositive 1</dc:title>
</cp:coreProperties>
</file>