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8E8-A260-4938-81D4-87917149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7E1-8C49-4557-8574-28FAD2B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C6C-624D-4A69-A1B9-5C508995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4DC-B415-4D22-AF0E-6E67D0DD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F4E-E766-494B-A9A0-29DB428C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377-C28D-4B31-9153-805D3313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08C-38BD-430E-A585-B92DCE7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3FD-58BC-4529-AD5B-F1DB1C6A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21F-5DBA-4424-8B17-110A6482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200-2D4A-46BB-A40E-49155EB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024-4874-4D36-8DC3-880E38A0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C9E-0294-4494-A9B7-7B14A0B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D5A6-55D8-4910-A864-D77BE9F7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34:50Z</dcterms:created>
  <dc:creator>HP Authorized Customer</dc:creator>
  <dc:description/>
  <dc:language>en-US</dc:language>
  <cp:lastModifiedBy>HP Authorized Customer</cp:lastModifiedBy>
  <dcterms:modified xsi:type="dcterms:W3CDTF">2009-03-18T03:35:25Z</dcterms:modified>
  <cp:revision>1</cp:revision>
  <dc:subject/>
  <dc:title>Diapositive 1</dc:title>
</cp:coreProperties>
</file>