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2FA-7477-40C9-8A9D-23391CDE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076-D171-420B-8547-B4BC6D55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824-AD1A-4398-B141-82DD7C11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766-F66E-4D50-A138-D558E901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2D5-087D-4060-8C8A-39A62394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4AF-7486-450E-BA60-567AF2D8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056-9856-4AF2-BB06-E10CB0F4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A1C-D073-48F1-9AFA-ADA11B4B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F10-C65B-44BA-AE87-547D5EE9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205-1034-488D-A196-40B90060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C8C-86ED-4BF6-89B2-3628BDA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90C-7E09-4F73-8F17-0EAA91AB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8AE4-A6DC-4761-8CC2-787B3A01F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3:34:50Z</dcterms:created>
  <dc:creator>HP Authorized Customer</dc:creator>
  <dc:description/>
  <dc:language>en-US</dc:language>
  <cp:lastModifiedBy>HP Authorized Customer</cp:lastModifiedBy>
  <dcterms:modified xsi:type="dcterms:W3CDTF">2009-03-18T03:35:25Z</dcterms:modified>
  <cp:revision>1</cp:revision>
  <dc:subject/>
  <dc:title>Diapositive 1</dc:title>
</cp:coreProperties>
</file>