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FE4-442A-48B1-B563-D7C233C0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953-BFF0-47C9-B1E9-0045266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783-F35F-4DBD-BD1C-606984CC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9AC-3F59-4FBB-B605-8C83EF3D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541-0513-4F57-8A74-FA2E628B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192-DD3D-4383-951E-E05F4577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29A-A786-40A6-855C-D648D796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317-1677-41EF-B57D-2EF8AEA6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B48-2F77-4530-8F7F-0AC4A860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614-4907-4CCF-96E4-A12F6F0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598-7C27-44D5-BD86-FA41599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D72-4566-46A1-B1EE-EED86DB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5FE4-02F7-4974-B3BF-D1732C99B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251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pier-coller sa carte Cmap sur un serveur (serveurs publics IH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cher l’option “collaboration synchr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5438520" cy="34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6803640" y="1916280"/>
            <a:ext cx="1297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 fenêtre “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llaboration synchrone activé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” apparaît et confirme l’activation de ce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95640" y="3429000"/>
            <a:ext cx="2952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4876560" cy="4819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1700280"/>
            <a:ext cx="266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 on n’est pas l’auteur d’une carte mais qu’on désire y collaborer, on peut faire une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«Demande d'ouverture de session de collaboration »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n cliquant sur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n peut aussi décider de travailler sur une copie de cette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666960" cy="219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2997360"/>
            <a:ext cx="324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a demande est reçue par l’auteur qui peut la tra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ssibilité d’ajouter des paramètres d’identification (ID+ mot de pa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5444640"/>
            <a:ext cx="80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outes les modifications effectuées en collaboration synchrone sont visibles de tous dans cette session. Les utilisateurs peuvent également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clavard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entrant du texte dans la zone située à droite de la Cmap et en cliquant sur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Envoy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14480" y="1197000"/>
            <a:ext cx="7115040" cy="39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7884720" y="2276640"/>
            <a:ext cx="93492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844640"/>
            <a:ext cx="43200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1:47:15Z</dcterms:created>
  <dc:creator>HP Authorized Customer</dc:creator>
  <dc:description/>
  <dc:language>en-US</dc:language>
  <cp:lastModifiedBy>HP Authorized Customer</cp:lastModifiedBy>
  <dcterms:modified xsi:type="dcterms:W3CDTF">2009-03-24T02:12:42Z</dcterms:modified>
  <cp:revision>3</cp:revision>
  <dc:subject/>
  <dc:title>Collaboration synchrone</dc:title>
</cp:coreProperties>
</file>