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DF78-B08B-443E-B5BD-B7104617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45DE-74B8-442D-8ABC-8FCEBAA4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1483-FF63-4DC5-8AD0-253B362D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3095-EA7A-497E-9C18-6C810A19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A41D-E32D-4F8E-AA63-2D2FC068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EEDF-6BE1-419C-8CED-656FA245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9921-87BC-4D28-B453-0A09EB3A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643F-071F-4144-95CC-F6E52C12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A71B-C359-46FD-B557-05A86458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7771-E1CE-441B-8F84-DDF51B4B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60D-D890-40F1-9797-9728209D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E228-6FA0-418C-8258-72EBAE3D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0AED-FF1C-43AF-8DE1-BA14BB3DB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llaboration synchrone 1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3251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pier-coller sa carte Cmap sur un serveur (serveurs publics IH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cher l’option “collaboration synchr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76720" y="1700280"/>
            <a:ext cx="5438520" cy="34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H="1">
            <a:off x="6803640" y="1916280"/>
            <a:ext cx="129708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llaboration synchrone 2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a fenêtre “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llaboration synchrone activé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” apparaît et confirme l’activation de ce m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95640" y="3429000"/>
            <a:ext cx="29527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llaboration synchrone 3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80000" y="1484280"/>
            <a:ext cx="4876560" cy="4819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1700280"/>
            <a:ext cx="26640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i on n’est pas l’auteur d’une carte mais qu’on désire y collaborer, on peut faire une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«Demande d'ouverture de session de collaboration »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n cliquant sur la ca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On peut aussi décider de travailler sur une copie de cette ca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llaboration synchrone 4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0" y="2781360"/>
            <a:ext cx="3666960" cy="2190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42920" y="2997360"/>
            <a:ext cx="3240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La demande est reçue par l’auteur qui peut la trai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ossibilité d’ajouter des paramètres d’identification (ID+ mot de pas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llaboration synchrone 5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0920" y="5444640"/>
            <a:ext cx="8064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outes les modifications effectuées en collaboration synchrone sont visibles de tous dans cette session. Les utilisateurs peuvent également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clavarder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n entrant du texte dans la zone située à droite de la Cmap et en cliquant sur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Envoyer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14480" y="1197000"/>
            <a:ext cx="7115040" cy="3933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>
            <a:off x="7884720" y="2276640"/>
            <a:ext cx="934920" cy="28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1844640"/>
            <a:ext cx="432000" cy="50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1:47:15Z</dcterms:created>
  <dc:creator>HP Authorized Customer</dc:creator>
  <dc:description/>
  <dc:language>en-US</dc:language>
  <cp:lastModifiedBy>HP Authorized Customer</cp:lastModifiedBy>
  <dcterms:modified xsi:type="dcterms:W3CDTF">2009-03-24T02:12:42Z</dcterms:modified>
  <cp:revision>3</cp:revision>
  <dc:subject/>
  <dc:title>Collaboration synchrone</dc:title>
</cp:coreProperties>
</file>