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90F-2323-4721-91B5-E88D861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783-DF10-4FE5-9CDC-9EEAEC97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815-5453-43B2-9FD8-508911EB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9AF-1A5A-4393-8352-2CEC7343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496-9A22-4E1C-B8F5-2602E45D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C1-6462-4EBB-B255-06B6288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B02-6065-4C27-9553-CA27569F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099-DCCB-48A2-A903-002AA46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D2B-E1A9-46C8-A8D6-750853D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CCF-50A3-4F82-B1BA-888CCF7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5FD-FC87-47C6-B3AB-656D2C5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4E0-4E99-4BF2-B292-73FC870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569-F38B-4723-8066-3F244CA2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25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pier-coller sa carte Cmap sur un serveur (serveurs publics IH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cher l’option “collaboration synchr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3852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6803640" y="1916280"/>
            <a:ext cx="1297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 fenêtre “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llaboration synchrone activé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apparaît et confirme l’activation de c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95640" y="3429000"/>
            <a:ext cx="2952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4876560" cy="4819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700280"/>
            <a:ext cx="26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 on n’est pas l’auteur d’une carte mais qu’on désire y collaborer, on peut faire une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Demande d'ouverture de session de collaboration »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n cliquant sur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 peut aussi décider de travailler sur une copie de cette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666960" cy="219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299736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demande est reçue par l’auteur qui peut la tra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ssibilité d’ajouter des paramètres d’identification (ID+ mot de pa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outes les modifications effectuées en collaboration synchrone sont visibles de tous dans cette session. Les utilisateurs peuvent également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lavard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entrant du texte dans la zone située à droite de la Cmap et en cliquant sur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Envoy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14480" y="1197000"/>
            <a:ext cx="711504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7884720" y="2276640"/>
            <a:ext cx="9349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43200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1:47:15Z</dcterms:created>
  <dc:creator>HP Authorized Customer</dc:creator>
  <dc:description/>
  <dc:language>en-US</dc:language>
  <cp:lastModifiedBy>HP Authorized Customer</cp:lastModifiedBy>
  <dcterms:modified xsi:type="dcterms:W3CDTF">2009-03-24T02:12:42Z</dcterms:modified>
  <cp:revision>3</cp:revision>
  <dc:subject/>
  <dc:title>Collaboration synchrone</dc:title>
</cp:coreProperties>
</file>