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.wmf" ContentType="image/x-wmf"/>
  <Override PartName="/ppt/media/image27.wmf" ContentType="image/x-wmf"/>
  <Override PartName="/ppt/media/image24.png" ContentType="image/png"/>
  <Override PartName="/ppt/media/image8.png" ContentType="image/png"/>
  <Override PartName="/ppt/media/image14.jpeg" ContentType="image/jpeg"/>
  <Override PartName="/ppt/media/image20.png" ContentType="image/png"/>
  <Override PartName="/ppt/media/image7.jpeg" ContentType="image/jpe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32.png" ContentType="image/png"/>
  <Override PartName="/ppt/media/image1.jpeg" ContentType="image/jpeg"/>
  <Override PartName="/ppt/media/image9.png" ContentType="image/png"/>
  <Override PartName="/ppt/media/image17.jpeg" ContentType="image/jpeg"/>
  <Override PartName="/ppt/media/image30.jpeg" ContentType="image/jpeg"/>
  <Override PartName="/ppt/media/image15.png" ContentType="image/png"/>
  <Override PartName="/ppt/media/image12.jpeg" ContentType="image/jpeg"/>
  <Override PartName="/ppt/media/image34.wmf" ContentType="image/x-wmf"/>
  <Override PartName="/ppt/media/image18.png" ContentType="image/png"/>
  <Override PartName="/ppt/media/image6.jpeg" ContentType="image/jpeg"/>
  <Override PartName="/ppt/media/image28.wmf" ContentType="image/x-wmf"/>
  <Override PartName="/ppt/media/image11.wmf" ContentType="image/x-wmf"/>
  <Override PartName="/ppt/media/image5.jpeg" ContentType="image/jpeg"/>
  <Override PartName="/ppt/media/image13.jpeg" ContentType="image/jpeg"/>
  <Override PartName="/ppt/media/image23.png" ContentType="image/png"/>
  <Override PartName="/ppt/media/image33.wmf" ContentType="image/x-wmf"/>
  <Override PartName="/ppt/media/image3.wmf" ContentType="image/x-wmf"/>
  <Override PartName="/ppt/media/image26.wmf" ContentType="image/x-wmf"/>
  <Override PartName="/ppt/media/image16.png" ContentType="image/png"/>
  <Override PartName="/ppt/media/image19.png" ContentType="image/png"/>
  <Override PartName="/ppt/media/image2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0F52-670B-4B81-A3B9-DE57D30D3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5F9E-BF3D-47EE-8090-4DE47A9AC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CF49-2881-43C5-A3F1-62CB19BA5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E687-B0C1-4466-B9E1-441A7D922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3F11-C658-4192-9B88-66C373B76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ECB5-CFB8-47F7-BEFB-863799FE9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20ED-0189-49B9-9FD7-17CD47276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DD37-561F-492E-B3D3-901F2E000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9C14-2EE1-46A6-B1AB-34E457FE2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BA9A-BB2D-42B2-9306-24187876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AC6B-32F5-4B21-AF0E-44A0E94F3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1E5E-080D-4B8D-9470-7A38F374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A183C-F47E-49FC-8B61-E08CE037B2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image" Target="../media/image4.jpeg"/><Relationship Id="rId16" Type="http://schemas.openxmlformats.org/officeDocument/2006/relationships/image" Target="../media/image4.jpeg"/><Relationship Id="rId17" Type="http://schemas.openxmlformats.org/officeDocument/2006/relationships/image" Target="../media/image4.jpeg"/><Relationship Id="rId18" Type="http://schemas.openxmlformats.org/officeDocument/2006/relationships/image" Target="../media/image4.jpeg"/><Relationship Id="rId19" Type="http://schemas.openxmlformats.org/officeDocument/2006/relationships/image" Target="../media/image4.jpeg"/><Relationship Id="rId20" Type="http://schemas.openxmlformats.org/officeDocument/2006/relationships/image" Target="../media/image4.jpeg"/><Relationship Id="rId21" Type="http://schemas.openxmlformats.org/officeDocument/2006/relationships/image" Target="../media/image4.jpeg"/><Relationship Id="rId22" Type="http://schemas.openxmlformats.org/officeDocument/2006/relationships/image" Target="../media/image4.jpeg"/><Relationship Id="rId23" Type="http://schemas.openxmlformats.org/officeDocument/2006/relationships/image" Target="../media/image4.jpeg"/><Relationship Id="rId24" Type="http://schemas.openxmlformats.org/officeDocument/2006/relationships/image" Target="../media/image4.jpeg"/><Relationship Id="rId25" Type="http://schemas.openxmlformats.org/officeDocument/2006/relationships/image" Target="../media/image4.jpeg"/><Relationship Id="rId26" Type="http://schemas.openxmlformats.org/officeDocument/2006/relationships/image" Target="../media/image4.jpeg"/><Relationship Id="rId27" Type="http://schemas.openxmlformats.org/officeDocument/2006/relationships/image" Target="../media/image4.jpeg"/><Relationship Id="rId28" Type="http://schemas.openxmlformats.org/officeDocument/2006/relationships/image" Target="../media/image5.jpeg"/><Relationship Id="rId29" Type="http://schemas.openxmlformats.org/officeDocument/2006/relationships/image" Target="../media/image6.jpeg"/><Relationship Id="rId30" Type="http://schemas.openxmlformats.org/officeDocument/2006/relationships/image" Target="../media/image6.jpeg"/><Relationship Id="rId31" Type="http://schemas.openxmlformats.org/officeDocument/2006/relationships/image" Target="../media/image6.jpeg"/><Relationship Id="rId32" Type="http://schemas.openxmlformats.org/officeDocument/2006/relationships/image" Target="../media/image4.jpeg"/><Relationship Id="rId33" Type="http://schemas.openxmlformats.org/officeDocument/2006/relationships/image" Target="../media/image4.jpeg"/><Relationship Id="rId34" Type="http://schemas.openxmlformats.org/officeDocument/2006/relationships/image" Target="../media/image4.jpeg"/><Relationship Id="rId35" Type="http://schemas.openxmlformats.org/officeDocument/2006/relationships/image" Target="../media/image4.jpeg"/><Relationship Id="rId36" Type="http://schemas.openxmlformats.org/officeDocument/2006/relationships/image" Target="../media/image4.jpeg"/><Relationship Id="rId37" Type="http://schemas.openxmlformats.org/officeDocument/2006/relationships/image" Target="../media/image4.jpeg"/><Relationship Id="rId38" Type="http://schemas.openxmlformats.org/officeDocument/2006/relationships/image" Target="../media/image4.jpeg"/><Relationship Id="rId39" Type="http://schemas.openxmlformats.org/officeDocument/2006/relationships/image" Target="../media/image4.jpeg"/><Relationship Id="rId40" Type="http://schemas.openxmlformats.org/officeDocument/2006/relationships/image" Target="../media/image4.jpeg"/><Relationship Id="rId41" Type="http://schemas.openxmlformats.org/officeDocument/2006/relationships/image" Target="../media/image7.jpeg"/><Relationship Id="rId42" Type="http://schemas.openxmlformats.org/officeDocument/2006/relationships/image" Target="../media/image4.jpeg"/><Relationship Id="rId43" Type="http://schemas.openxmlformats.org/officeDocument/2006/relationships/image" Target="../media/image6.jpeg"/><Relationship Id="rId44" Type="http://schemas.openxmlformats.org/officeDocument/2006/relationships/image" Target="../media/image4.jpeg"/><Relationship Id="rId45" Type="http://schemas.openxmlformats.org/officeDocument/2006/relationships/image" Target="../media/image4.jpeg"/><Relationship Id="rId46" Type="http://schemas.openxmlformats.org/officeDocument/2006/relationships/image" Target="../media/image4.jpeg"/><Relationship Id="rId47" Type="http://schemas.openxmlformats.org/officeDocument/2006/relationships/image" Target="../media/image4.jpeg"/><Relationship Id="rId48" Type="http://schemas.openxmlformats.org/officeDocument/2006/relationships/image" Target="../media/image4.jpeg"/><Relationship Id="rId49" Type="http://schemas.openxmlformats.org/officeDocument/2006/relationships/image" Target="../media/image4.jpeg"/><Relationship Id="rId50" Type="http://schemas.openxmlformats.org/officeDocument/2006/relationships/image" Target="../media/image4.jpeg"/><Relationship Id="rId51" Type="http://schemas.openxmlformats.org/officeDocument/2006/relationships/image" Target="../media/image4.jpeg"/><Relationship Id="rId52" Type="http://schemas.openxmlformats.org/officeDocument/2006/relationships/image" Target="../media/image4.jpeg"/><Relationship Id="rId53" Type="http://schemas.openxmlformats.org/officeDocument/2006/relationships/image" Target="../media/image4.jpeg"/><Relationship Id="rId54" Type="http://schemas.openxmlformats.org/officeDocument/2006/relationships/image" Target="../media/image4.jpeg"/><Relationship Id="rId55" Type="http://schemas.openxmlformats.org/officeDocument/2006/relationships/image" Target="../media/image4.jpeg"/><Relationship Id="rId56" Type="http://schemas.openxmlformats.org/officeDocument/2006/relationships/image" Target="../media/image4.jpeg"/><Relationship Id="rId57" Type="http://schemas.openxmlformats.org/officeDocument/2006/relationships/image" Target="../media/image4.jpeg"/><Relationship Id="rId58" Type="http://schemas.openxmlformats.org/officeDocument/2006/relationships/image" Target="../media/image4.jpeg"/><Relationship Id="rId59" Type="http://schemas.openxmlformats.org/officeDocument/2006/relationships/image" Target="../media/image4.jpeg"/><Relationship Id="rId60" Type="http://schemas.openxmlformats.org/officeDocument/2006/relationships/image" Target="../media/image5.jpeg"/><Relationship Id="rId61" Type="http://schemas.openxmlformats.org/officeDocument/2006/relationships/image" Target="../media/image6.jpeg"/><Relationship Id="rId62" Type="http://schemas.openxmlformats.org/officeDocument/2006/relationships/image" Target="../media/image6.jpeg"/><Relationship Id="rId63" Type="http://schemas.openxmlformats.org/officeDocument/2006/relationships/image" Target="../media/image6.jpeg"/><Relationship Id="rId64" Type="http://schemas.openxmlformats.org/officeDocument/2006/relationships/image" Target="../media/image4.jpeg"/><Relationship Id="rId65" Type="http://schemas.openxmlformats.org/officeDocument/2006/relationships/image" Target="../media/image4.jpeg"/><Relationship Id="rId66" Type="http://schemas.openxmlformats.org/officeDocument/2006/relationships/image" Target="../media/image4.jpeg"/><Relationship Id="rId67" Type="http://schemas.openxmlformats.org/officeDocument/2006/relationships/image" Target="../media/image4.jpeg"/><Relationship Id="rId68" Type="http://schemas.openxmlformats.org/officeDocument/2006/relationships/image" Target="../media/image4.jpeg"/><Relationship Id="rId69" Type="http://schemas.openxmlformats.org/officeDocument/2006/relationships/image" Target="../media/image4.jpeg"/><Relationship Id="rId70" Type="http://schemas.openxmlformats.org/officeDocument/2006/relationships/image" Target="../media/image4.jpeg"/><Relationship Id="rId71" Type="http://schemas.openxmlformats.org/officeDocument/2006/relationships/image" Target="../media/image4.jpeg"/><Relationship Id="rId72" Type="http://schemas.openxmlformats.org/officeDocument/2006/relationships/image" Target="../media/image4.jpeg"/><Relationship Id="rId73" Type="http://schemas.openxmlformats.org/officeDocument/2006/relationships/image" Target="../media/image7.jpeg"/><Relationship Id="rId74" Type="http://schemas.openxmlformats.org/officeDocument/2006/relationships/image" Target="../media/image4.jpeg"/><Relationship Id="rId75" Type="http://schemas.openxmlformats.org/officeDocument/2006/relationships/image" Target="../media/image6.jpeg"/><Relationship Id="rId76" Type="http://schemas.openxmlformats.org/officeDocument/2006/relationships/image" Target="../media/image4.jpeg"/><Relationship Id="rId77" Type="http://schemas.openxmlformats.org/officeDocument/2006/relationships/image" Target="../media/image4.jpeg"/><Relationship Id="rId78" Type="http://schemas.openxmlformats.org/officeDocument/2006/relationships/image" Target="../media/image4.jpeg"/><Relationship Id="rId79" Type="http://schemas.openxmlformats.org/officeDocument/2006/relationships/image" Target="../media/image4.jpeg"/><Relationship Id="rId80" Type="http://schemas.openxmlformats.org/officeDocument/2006/relationships/image" Target="../media/image4.jpeg"/><Relationship Id="rId81" Type="http://schemas.openxmlformats.org/officeDocument/2006/relationships/image" Target="../media/image4.jpeg"/><Relationship Id="rId82" Type="http://schemas.openxmlformats.org/officeDocument/2006/relationships/image" Target="../media/image4.jpeg"/><Relationship Id="rId83" Type="http://schemas.openxmlformats.org/officeDocument/2006/relationships/image" Target="../media/image4.jpeg"/><Relationship Id="rId84" Type="http://schemas.openxmlformats.org/officeDocument/2006/relationships/image" Target="../media/image4.jpeg"/><Relationship Id="rId85" Type="http://schemas.openxmlformats.org/officeDocument/2006/relationships/image" Target="../media/image4.jpeg"/><Relationship Id="rId86" Type="http://schemas.openxmlformats.org/officeDocument/2006/relationships/image" Target="../media/image4.jpeg"/><Relationship Id="rId87" Type="http://schemas.openxmlformats.org/officeDocument/2006/relationships/image" Target="../media/image4.jpeg"/><Relationship Id="rId88" Type="http://schemas.openxmlformats.org/officeDocument/2006/relationships/image" Target="../media/image4.jpeg"/><Relationship Id="rId89" Type="http://schemas.openxmlformats.org/officeDocument/2006/relationships/image" Target="../media/image4.jpeg"/><Relationship Id="rId90" Type="http://schemas.openxmlformats.org/officeDocument/2006/relationships/image" Target="../media/image4.jpeg"/><Relationship Id="rId91" Type="http://schemas.openxmlformats.org/officeDocument/2006/relationships/image" Target="../media/image4.jpeg"/><Relationship Id="rId92" Type="http://schemas.openxmlformats.org/officeDocument/2006/relationships/image" Target="../media/image5.jpeg"/><Relationship Id="rId93" Type="http://schemas.openxmlformats.org/officeDocument/2006/relationships/image" Target="../media/image6.jpeg"/><Relationship Id="rId94" Type="http://schemas.openxmlformats.org/officeDocument/2006/relationships/image" Target="../media/image6.jpeg"/><Relationship Id="rId95" Type="http://schemas.openxmlformats.org/officeDocument/2006/relationships/image" Target="../media/image6.jpeg"/><Relationship Id="rId96" Type="http://schemas.openxmlformats.org/officeDocument/2006/relationships/image" Target="../media/image4.jpeg"/><Relationship Id="rId97" Type="http://schemas.openxmlformats.org/officeDocument/2006/relationships/image" Target="../media/image4.jpeg"/><Relationship Id="rId98" Type="http://schemas.openxmlformats.org/officeDocument/2006/relationships/image" Target="../media/image4.jpeg"/><Relationship Id="rId99" Type="http://schemas.openxmlformats.org/officeDocument/2006/relationships/image" Target="../media/image4.jpeg"/><Relationship Id="rId100" Type="http://schemas.openxmlformats.org/officeDocument/2006/relationships/image" Target="../media/image4.jpeg"/><Relationship Id="rId101" Type="http://schemas.openxmlformats.org/officeDocument/2006/relationships/image" Target="../media/image4.jpeg"/><Relationship Id="rId102" Type="http://schemas.openxmlformats.org/officeDocument/2006/relationships/image" Target="../media/image4.jpeg"/><Relationship Id="rId103" Type="http://schemas.openxmlformats.org/officeDocument/2006/relationships/image" Target="../media/image4.jpeg"/><Relationship Id="rId104" Type="http://schemas.openxmlformats.org/officeDocument/2006/relationships/image" Target="../media/image4.jpeg"/><Relationship Id="rId105" Type="http://schemas.openxmlformats.org/officeDocument/2006/relationships/image" Target="../media/image7.jpeg"/><Relationship Id="rId106" Type="http://schemas.openxmlformats.org/officeDocument/2006/relationships/image" Target="../media/image4.jpeg"/><Relationship Id="rId107" Type="http://schemas.openxmlformats.org/officeDocument/2006/relationships/image" Target="../media/image6.jpeg"/><Relationship Id="rId108" Type="http://schemas.openxmlformats.org/officeDocument/2006/relationships/image" Target="../media/image4.jpeg"/><Relationship Id="rId109" Type="http://schemas.openxmlformats.org/officeDocument/2006/relationships/image" Target="../media/image4.jpeg"/><Relationship Id="rId110" Type="http://schemas.openxmlformats.org/officeDocument/2006/relationships/image" Target="../media/image4.jpeg"/><Relationship Id="rId111" Type="http://schemas.openxmlformats.org/officeDocument/2006/relationships/image" Target="../media/image4.jpeg"/><Relationship Id="rId112" Type="http://schemas.openxmlformats.org/officeDocument/2006/relationships/image" Target="../media/image4.jpeg"/><Relationship Id="rId113" Type="http://schemas.openxmlformats.org/officeDocument/2006/relationships/image" Target="../media/image4.jpeg"/><Relationship Id="rId114" Type="http://schemas.openxmlformats.org/officeDocument/2006/relationships/image" Target="../media/image4.jpeg"/><Relationship Id="rId115" Type="http://schemas.openxmlformats.org/officeDocument/2006/relationships/image" Target="../media/image4.jpeg"/><Relationship Id="rId116" Type="http://schemas.openxmlformats.org/officeDocument/2006/relationships/image" Target="../media/image4.jpeg"/><Relationship Id="rId117" Type="http://schemas.openxmlformats.org/officeDocument/2006/relationships/image" Target="../media/image4.jpeg"/><Relationship Id="rId118" Type="http://schemas.openxmlformats.org/officeDocument/2006/relationships/image" Target="../media/image4.jpeg"/><Relationship Id="rId119" Type="http://schemas.openxmlformats.org/officeDocument/2006/relationships/image" Target="../media/image4.jpeg"/><Relationship Id="rId120" Type="http://schemas.openxmlformats.org/officeDocument/2006/relationships/image" Target="../media/image4.jpeg"/><Relationship Id="rId121" Type="http://schemas.openxmlformats.org/officeDocument/2006/relationships/image" Target="../media/image4.jpeg"/><Relationship Id="rId122" Type="http://schemas.openxmlformats.org/officeDocument/2006/relationships/image" Target="../media/image4.jpeg"/><Relationship Id="rId123" Type="http://schemas.openxmlformats.org/officeDocument/2006/relationships/image" Target="../media/image4.jpeg"/><Relationship Id="rId124" Type="http://schemas.openxmlformats.org/officeDocument/2006/relationships/image" Target="../media/image5.jpeg"/><Relationship Id="rId125" Type="http://schemas.openxmlformats.org/officeDocument/2006/relationships/image" Target="../media/image6.jpeg"/><Relationship Id="rId126" Type="http://schemas.openxmlformats.org/officeDocument/2006/relationships/image" Target="../media/image6.jpeg"/><Relationship Id="rId127" Type="http://schemas.openxmlformats.org/officeDocument/2006/relationships/image" Target="../media/image6.jpeg"/><Relationship Id="rId128" Type="http://schemas.openxmlformats.org/officeDocument/2006/relationships/image" Target="../media/image4.jpeg"/><Relationship Id="rId129" Type="http://schemas.openxmlformats.org/officeDocument/2006/relationships/image" Target="../media/image4.jpeg"/><Relationship Id="rId130" Type="http://schemas.openxmlformats.org/officeDocument/2006/relationships/image" Target="../media/image4.jpeg"/><Relationship Id="rId131" Type="http://schemas.openxmlformats.org/officeDocument/2006/relationships/image" Target="../media/image4.jpeg"/><Relationship Id="rId132" Type="http://schemas.openxmlformats.org/officeDocument/2006/relationships/image" Target="../media/image4.jpeg"/><Relationship Id="rId133" Type="http://schemas.openxmlformats.org/officeDocument/2006/relationships/image" Target="../media/image4.jpeg"/><Relationship Id="rId134" Type="http://schemas.openxmlformats.org/officeDocument/2006/relationships/image" Target="../media/image4.jpeg"/><Relationship Id="rId135" Type="http://schemas.openxmlformats.org/officeDocument/2006/relationships/image" Target="../media/image4.jpeg"/><Relationship Id="rId136" Type="http://schemas.openxmlformats.org/officeDocument/2006/relationships/image" Target="../media/image4.jpeg"/><Relationship Id="rId137" Type="http://schemas.openxmlformats.org/officeDocument/2006/relationships/image" Target="../media/image7.jpeg"/><Relationship Id="rId138" Type="http://schemas.openxmlformats.org/officeDocument/2006/relationships/image" Target="../media/image4.jpeg"/><Relationship Id="rId139" Type="http://schemas.openxmlformats.org/officeDocument/2006/relationships/image" Target="../media/image6.jpeg"/><Relationship Id="rId14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6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4.jpeg"/><Relationship Id="rId8" Type="http://schemas.openxmlformats.org/officeDocument/2006/relationships/image" Target="../media/image17.jpeg"/><Relationship Id="rId9" Type="http://schemas.openxmlformats.org/officeDocument/2006/relationships/image" Target="../media/image1.jpe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jpe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image" Target="../media/image25.jpeg"/><Relationship Id="rId9" Type="http://schemas.openxmlformats.org/officeDocument/2006/relationships/image" Target="../media/image25.jpeg"/><Relationship Id="rId10" Type="http://schemas.openxmlformats.org/officeDocument/2006/relationships/image" Target="../media/image1.jpeg"/><Relationship Id="rId11" Type="http://schemas.openxmlformats.org/officeDocument/2006/relationships/image" Target="../media/image9.png"/><Relationship Id="rId12" Type="http://schemas.openxmlformats.org/officeDocument/2006/relationships/image" Target="../media/image26.wmf"/><Relationship Id="rId13" Type="http://schemas.openxmlformats.org/officeDocument/2006/relationships/image" Target="../media/image26.wmf"/><Relationship Id="rId14" Type="http://schemas.openxmlformats.org/officeDocument/2006/relationships/image" Target="../media/image26.wmf"/><Relationship Id="rId15" Type="http://schemas.openxmlformats.org/officeDocument/2006/relationships/image" Target="../media/image27.wmf"/><Relationship Id="rId16" Type="http://schemas.openxmlformats.org/officeDocument/2006/relationships/image" Target="../media/image28.wmf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1.jpeg"/><Relationship Id="rId6" Type="http://schemas.openxmlformats.org/officeDocument/2006/relationships/image" Target="../media/image31.jpeg"/><Relationship Id="rId7" Type="http://schemas.openxmlformats.org/officeDocument/2006/relationships/image" Target="../media/image31.jpeg"/><Relationship Id="rId8" Type="http://schemas.openxmlformats.org/officeDocument/2006/relationships/image" Target="../media/image31.jpeg"/><Relationship Id="rId9" Type="http://schemas.openxmlformats.org/officeDocument/2006/relationships/image" Target="../media/image31.jpeg"/><Relationship Id="rId10" Type="http://schemas.openxmlformats.org/officeDocument/2006/relationships/image" Target="../media/image31.jpeg"/><Relationship Id="rId11" Type="http://schemas.openxmlformats.org/officeDocument/2006/relationships/image" Target="../media/image31.jpeg"/><Relationship Id="rId12" Type="http://schemas.openxmlformats.org/officeDocument/2006/relationships/image" Target="../media/image26.wmf"/><Relationship Id="rId13" Type="http://schemas.openxmlformats.org/officeDocument/2006/relationships/image" Target="../media/image26.wmf"/><Relationship Id="rId14" Type="http://schemas.openxmlformats.org/officeDocument/2006/relationships/image" Target="../media/image26.wmf"/><Relationship Id="rId15" Type="http://schemas.openxmlformats.org/officeDocument/2006/relationships/image" Target="../media/image27.wmf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791320" y="1600200"/>
            <a:ext cx="2744640" cy="4800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533520" y="4038480"/>
            <a:ext cx="3886200" cy="19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lama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 txBox="1"/>
          <p:nvPr/>
        </p:nvSpPr>
        <p:spPr>
          <a:xfrm rot="846000">
            <a:off x="304560" y="0"/>
            <a:ext cx="3276360" cy="377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00cc99"/>
                    </a:gs>
                  </a:gsLst>
                  <a:lin ang="10800000"/>
                </a:gradFill>
                <a:latin typeface="Arial Black"/>
              </a:rPr>
              <a:t>What'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00cc99"/>
                  </a:gs>
                </a:gsLst>
                <a:lin ang="108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00cc99"/>
                    </a:gs>
                  </a:gsLst>
                  <a:lin ang="10800000"/>
                </a:gradFill>
                <a:latin typeface="Arial Black"/>
              </a:rPr>
              <a:t>a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00cc99"/>
                  </a:gs>
                </a:gsLst>
                <a:lin ang="10800000"/>
              </a:gradFill>
              <a:latin typeface="Arial Black"/>
              <a:ea typeface="Arial Black"/>
            </a:endParaRPr>
          </a:p>
        </p:txBody>
      </p:sp>
      <p:sp>
        <p:nvSpPr>
          <p:cNvPr id="44" name=""/>
          <p:cNvSpPr/>
          <p:nvPr/>
        </p:nvSpPr>
        <p:spPr>
          <a:xfrm>
            <a:off x="4648320" y="4419720"/>
            <a:ext cx="914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4419000" y="609480"/>
            <a:ext cx="2895480" cy="914400"/>
          </a:xfrm>
          <a:prstGeom prst="wedgeRoundRectCallout">
            <a:avLst>
              <a:gd name="adj1" fmla="val -38819"/>
              <a:gd name="adj2" fmla="val 150689"/>
              <a:gd name="adj3" fmla="val 16667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e783"/>
                </a:solidFill>
                <a:latin typeface="Times New Roman"/>
              </a:rPr>
              <a:t>I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am a </a:t>
            </a:r>
            <a:r>
              <a:rPr b="0" lang="en-US" sz="3600" spc="-1" strike="noStrike">
                <a:solidFill>
                  <a:srgbClr val="7dc0e9"/>
                </a:solidFill>
                <a:latin typeface="Times New Roman"/>
              </a:rPr>
              <a:t>llam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0" y="1828800"/>
            <a:ext cx="3962520" cy="3686040"/>
          </a:xfrm>
          <a:prstGeom prst="rect">
            <a:avLst/>
          </a:prstGeom>
          <a:ln w="0">
            <a:noFill/>
          </a:ln>
        </p:spPr>
      </p:pic>
      <p:sp>
        <p:nvSpPr>
          <p:cNvPr id="1043" name=""/>
          <p:cNvSpPr txBox="1"/>
          <p:nvPr/>
        </p:nvSpPr>
        <p:spPr>
          <a:xfrm>
            <a:off x="762120" y="0"/>
            <a:ext cx="7210440" cy="1084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Thanks for choosing an alpaca!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44" name=""/>
          <p:cNvSpPr txBox="1"/>
          <p:nvPr/>
        </p:nvSpPr>
        <p:spPr>
          <a:xfrm rot="21242400">
            <a:off x="3047760" y="1066320"/>
            <a:ext cx="5551200" cy="1141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Down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Some books about alpacas are: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4876920" y="2209680"/>
            <a:ext cx="3200400" cy="2516760"/>
          </a:xfrm>
          <a:prstGeom prst="rect">
            <a:avLst/>
          </a:prstGeom>
          <a:solidFill>
            <a:srgbClr val="ff99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Hats On For Polka Dot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by Kathleen Samps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many books about alpacas.  Maybe you could write so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380880" y="1752480"/>
            <a:ext cx="2210040" cy="1067040"/>
          </a:xfrm>
          <a:prstGeom prst="wedgeEllipseCallout">
            <a:avLst>
              <a:gd name="adj1" fmla="val 65805"/>
              <a:gd name="adj2" fmla="val 30504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ck on me when you are finish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"/>
          <p:cNvSpPr/>
          <p:nvPr/>
        </p:nvSpPr>
        <p:spPr>
          <a:xfrm>
            <a:off x="264960" y="142884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8" name=""/>
          <p:cNvGrpSpPr/>
          <p:nvPr/>
        </p:nvGrpSpPr>
        <p:grpSpPr>
          <a:xfrm>
            <a:off x="228600" y="1752480"/>
            <a:ext cx="8610480" cy="3200400"/>
            <a:chOff x="228600" y="1752480"/>
            <a:chExt cx="8610480" cy="3200400"/>
          </a:xfrm>
        </p:grpSpPr>
        <p:grpSp>
          <p:nvGrpSpPr>
            <p:cNvPr id="1049" name=""/>
            <p:cNvGrpSpPr/>
            <p:nvPr/>
          </p:nvGrpSpPr>
          <p:grpSpPr>
            <a:xfrm>
              <a:off x="4987080" y="1752480"/>
              <a:ext cx="3852000" cy="3200400"/>
              <a:chOff x="4987080" y="1752480"/>
              <a:chExt cx="3852000" cy="3200400"/>
            </a:xfrm>
          </p:grpSpPr>
          <p:grpSp>
            <p:nvGrpSpPr>
              <p:cNvPr id="1050" name=""/>
              <p:cNvGrpSpPr/>
              <p:nvPr/>
            </p:nvGrpSpPr>
            <p:grpSpPr>
              <a:xfrm>
                <a:off x="5610240" y="2651400"/>
                <a:ext cx="2779560" cy="1199880"/>
                <a:chOff x="5610240" y="2651400"/>
                <a:chExt cx="2779560" cy="1199880"/>
              </a:xfrm>
            </p:grpSpPr>
            <p:sp>
              <p:nvSpPr>
                <p:cNvPr id="1051" name=""/>
                <p:cNvSpPr/>
                <p:nvPr/>
              </p:nvSpPr>
              <p:spPr>
                <a:xfrm>
                  <a:off x="6546960" y="3645360"/>
                  <a:ext cx="195480" cy="205920"/>
                </a:xfrm>
                <a:custGeom>
                  <a:avLst/>
                  <a:gdLst/>
                  <a:ahLst/>
                  <a:rect l="l" t="t" r="r" b="b"/>
                  <a:pathLst>
                    <a:path w="329" h="371">
                      <a:moveTo>
                        <a:pt x="37" y="0"/>
                      </a:moveTo>
                      <a:lnTo>
                        <a:pt x="70" y="3"/>
                      </a:lnTo>
                      <a:lnTo>
                        <a:pt x="103" y="7"/>
                      </a:lnTo>
                      <a:lnTo>
                        <a:pt x="136" y="9"/>
                      </a:lnTo>
                      <a:lnTo>
                        <a:pt x="169" y="12"/>
                      </a:lnTo>
                      <a:lnTo>
                        <a:pt x="202" y="14"/>
                      </a:lnTo>
                      <a:lnTo>
                        <a:pt x="235" y="14"/>
                      </a:lnTo>
                      <a:lnTo>
                        <a:pt x="265" y="12"/>
                      </a:lnTo>
                      <a:lnTo>
                        <a:pt x="298" y="7"/>
                      </a:lnTo>
                      <a:lnTo>
                        <a:pt x="301" y="14"/>
                      </a:lnTo>
                      <a:lnTo>
                        <a:pt x="310" y="30"/>
                      </a:lnTo>
                      <a:lnTo>
                        <a:pt x="319" y="56"/>
                      </a:lnTo>
                      <a:lnTo>
                        <a:pt x="327" y="88"/>
                      </a:lnTo>
                      <a:lnTo>
                        <a:pt x="329" y="125"/>
                      </a:lnTo>
                      <a:lnTo>
                        <a:pt x="322" y="166"/>
                      </a:lnTo>
                      <a:lnTo>
                        <a:pt x="301" y="210"/>
                      </a:lnTo>
                      <a:lnTo>
                        <a:pt x="265" y="251"/>
                      </a:lnTo>
                      <a:lnTo>
                        <a:pt x="261" y="263"/>
                      </a:lnTo>
                      <a:lnTo>
                        <a:pt x="251" y="291"/>
                      </a:lnTo>
                      <a:lnTo>
                        <a:pt x="232" y="330"/>
                      </a:lnTo>
                      <a:lnTo>
                        <a:pt x="209" y="371"/>
                      </a:lnTo>
                      <a:lnTo>
                        <a:pt x="0" y="371"/>
                      </a:lnTo>
                      <a:lnTo>
                        <a:pt x="0" y="364"/>
                      </a:lnTo>
                      <a:lnTo>
                        <a:pt x="2" y="348"/>
                      </a:lnTo>
                      <a:lnTo>
                        <a:pt x="4" y="323"/>
                      </a:lnTo>
                      <a:lnTo>
                        <a:pt x="11" y="291"/>
                      </a:lnTo>
                      <a:lnTo>
                        <a:pt x="23" y="256"/>
                      </a:lnTo>
                      <a:lnTo>
                        <a:pt x="40" y="219"/>
                      </a:lnTo>
                      <a:lnTo>
                        <a:pt x="63" y="182"/>
                      </a:lnTo>
                      <a:lnTo>
                        <a:pt x="94" y="150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7d7d7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52" name=""/>
                <p:cNvGrpSpPr/>
                <p:nvPr/>
              </p:nvGrpSpPr>
              <p:grpSpPr>
                <a:xfrm>
                  <a:off x="5610240" y="2651400"/>
                  <a:ext cx="2779560" cy="1199880"/>
                  <a:chOff x="5610240" y="2651400"/>
                  <a:chExt cx="2779560" cy="1199880"/>
                </a:xfrm>
              </p:grpSpPr>
              <p:sp>
                <p:nvSpPr>
                  <p:cNvPr id="1053" name=""/>
                  <p:cNvSpPr/>
                  <p:nvPr/>
                </p:nvSpPr>
                <p:spPr>
                  <a:xfrm>
                    <a:off x="5610240" y="2651400"/>
                    <a:ext cx="2779560" cy="11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4676" h="2160">
                        <a:moveTo>
                          <a:pt x="4422" y="1443"/>
                        </a:moveTo>
                        <a:lnTo>
                          <a:pt x="4417" y="1438"/>
                        </a:lnTo>
                        <a:lnTo>
                          <a:pt x="4405" y="1425"/>
                        </a:lnTo>
                        <a:lnTo>
                          <a:pt x="4391" y="1402"/>
                        </a:lnTo>
                        <a:lnTo>
                          <a:pt x="4377" y="1367"/>
                        </a:lnTo>
                        <a:lnTo>
                          <a:pt x="4370" y="1319"/>
                        </a:lnTo>
                        <a:lnTo>
                          <a:pt x="4370" y="1259"/>
                        </a:lnTo>
                        <a:lnTo>
                          <a:pt x="4386" y="1185"/>
                        </a:lnTo>
                        <a:lnTo>
                          <a:pt x="4422" y="1097"/>
                        </a:lnTo>
                        <a:lnTo>
                          <a:pt x="4419" y="1095"/>
                        </a:lnTo>
                        <a:lnTo>
                          <a:pt x="4417" y="1093"/>
                        </a:lnTo>
                        <a:lnTo>
                          <a:pt x="4412" y="1086"/>
                        </a:lnTo>
                        <a:lnTo>
                          <a:pt x="4408" y="1077"/>
                        </a:lnTo>
                        <a:lnTo>
                          <a:pt x="4408" y="1077"/>
                        </a:lnTo>
                        <a:lnTo>
                          <a:pt x="4398" y="1058"/>
                        </a:lnTo>
                        <a:lnTo>
                          <a:pt x="4389" y="1035"/>
                        </a:lnTo>
                        <a:lnTo>
                          <a:pt x="4382" y="1007"/>
                        </a:lnTo>
                        <a:lnTo>
                          <a:pt x="4379" y="975"/>
                        </a:lnTo>
                        <a:lnTo>
                          <a:pt x="4384" y="938"/>
                        </a:lnTo>
                        <a:lnTo>
                          <a:pt x="4400" y="901"/>
                        </a:lnTo>
                        <a:lnTo>
                          <a:pt x="4429" y="864"/>
                        </a:lnTo>
                        <a:lnTo>
                          <a:pt x="4471" y="825"/>
                        </a:lnTo>
                        <a:lnTo>
                          <a:pt x="4523" y="777"/>
                        </a:lnTo>
                        <a:lnTo>
                          <a:pt x="4551" y="731"/>
                        </a:lnTo>
                        <a:lnTo>
                          <a:pt x="4560" y="689"/>
                        </a:lnTo>
                        <a:lnTo>
                          <a:pt x="4551" y="659"/>
                        </a:lnTo>
                        <a:lnTo>
                          <a:pt x="4530" y="641"/>
                        </a:lnTo>
                        <a:lnTo>
                          <a:pt x="4497" y="639"/>
                        </a:lnTo>
                        <a:lnTo>
                          <a:pt x="4455" y="655"/>
                        </a:lnTo>
                        <a:lnTo>
                          <a:pt x="4405" y="694"/>
                        </a:lnTo>
                        <a:lnTo>
                          <a:pt x="4358" y="738"/>
                        </a:lnTo>
                        <a:lnTo>
                          <a:pt x="4323" y="768"/>
                        </a:lnTo>
                        <a:lnTo>
                          <a:pt x="4297" y="788"/>
                        </a:lnTo>
                        <a:lnTo>
                          <a:pt x="4276" y="798"/>
                        </a:lnTo>
                        <a:lnTo>
                          <a:pt x="4259" y="805"/>
                        </a:lnTo>
                        <a:lnTo>
                          <a:pt x="4241" y="809"/>
                        </a:lnTo>
                        <a:lnTo>
                          <a:pt x="4222" y="814"/>
                        </a:lnTo>
                        <a:lnTo>
                          <a:pt x="4198" y="825"/>
                        </a:lnTo>
                        <a:lnTo>
                          <a:pt x="4198" y="844"/>
                        </a:lnTo>
                        <a:lnTo>
                          <a:pt x="4196" y="897"/>
                        </a:lnTo>
                        <a:lnTo>
                          <a:pt x="4191" y="977"/>
                        </a:lnTo>
                        <a:lnTo>
                          <a:pt x="4177" y="1077"/>
                        </a:lnTo>
                        <a:lnTo>
                          <a:pt x="4177" y="1077"/>
                        </a:lnTo>
                        <a:lnTo>
                          <a:pt x="4163" y="1146"/>
                        </a:lnTo>
                        <a:lnTo>
                          <a:pt x="4146" y="1217"/>
                        </a:lnTo>
                        <a:lnTo>
                          <a:pt x="4125" y="1293"/>
                        </a:lnTo>
                        <a:lnTo>
                          <a:pt x="4097" y="1369"/>
                        </a:lnTo>
                        <a:lnTo>
                          <a:pt x="4062" y="1445"/>
                        </a:lnTo>
                        <a:lnTo>
                          <a:pt x="4022" y="1519"/>
                        </a:lnTo>
                        <a:lnTo>
                          <a:pt x="3972" y="1591"/>
                        </a:lnTo>
                        <a:lnTo>
                          <a:pt x="3914" y="1657"/>
                        </a:lnTo>
                        <a:lnTo>
                          <a:pt x="3914" y="1662"/>
                        </a:lnTo>
                        <a:lnTo>
                          <a:pt x="3916" y="1671"/>
                        </a:lnTo>
                        <a:lnTo>
                          <a:pt x="3923" y="1687"/>
                        </a:lnTo>
                        <a:lnTo>
                          <a:pt x="3940" y="1704"/>
                        </a:lnTo>
                        <a:lnTo>
                          <a:pt x="3963" y="1722"/>
                        </a:lnTo>
                        <a:lnTo>
                          <a:pt x="3998" y="1738"/>
                        </a:lnTo>
                        <a:lnTo>
                          <a:pt x="4048" y="1752"/>
                        </a:lnTo>
                        <a:lnTo>
                          <a:pt x="4114" y="1759"/>
                        </a:lnTo>
                        <a:lnTo>
                          <a:pt x="4109" y="1768"/>
                        </a:lnTo>
                        <a:lnTo>
                          <a:pt x="4095" y="1793"/>
                        </a:lnTo>
                        <a:lnTo>
                          <a:pt x="4071" y="1833"/>
                        </a:lnTo>
                        <a:lnTo>
                          <a:pt x="4041" y="1883"/>
                        </a:lnTo>
                        <a:lnTo>
                          <a:pt x="4001" y="1941"/>
                        </a:lnTo>
                        <a:lnTo>
                          <a:pt x="3956" y="2001"/>
                        </a:lnTo>
                        <a:lnTo>
                          <a:pt x="3902" y="2065"/>
                        </a:lnTo>
                        <a:lnTo>
                          <a:pt x="3841" y="2125"/>
                        </a:lnTo>
                        <a:lnTo>
                          <a:pt x="3596" y="2125"/>
                        </a:lnTo>
                        <a:lnTo>
                          <a:pt x="3601" y="2100"/>
                        </a:lnTo>
                        <a:lnTo>
                          <a:pt x="3608" y="2075"/>
                        </a:lnTo>
                        <a:lnTo>
                          <a:pt x="3620" y="2052"/>
                        </a:lnTo>
                        <a:lnTo>
                          <a:pt x="3634" y="2029"/>
                        </a:lnTo>
                        <a:lnTo>
                          <a:pt x="3650" y="2008"/>
                        </a:lnTo>
                        <a:lnTo>
                          <a:pt x="3669" y="1989"/>
                        </a:lnTo>
                        <a:lnTo>
                          <a:pt x="3690" y="1973"/>
                        </a:lnTo>
                        <a:lnTo>
                          <a:pt x="3716" y="1957"/>
                        </a:lnTo>
                        <a:lnTo>
                          <a:pt x="3709" y="1955"/>
                        </a:lnTo>
                        <a:lnTo>
                          <a:pt x="3686" y="1943"/>
                        </a:lnTo>
                        <a:lnTo>
                          <a:pt x="3653" y="1927"/>
                        </a:lnTo>
                        <a:lnTo>
                          <a:pt x="3608" y="1904"/>
                        </a:lnTo>
                        <a:lnTo>
                          <a:pt x="3556" y="1874"/>
                        </a:lnTo>
                        <a:lnTo>
                          <a:pt x="3495" y="1837"/>
                        </a:lnTo>
                        <a:lnTo>
                          <a:pt x="3432" y="1793"/>
                        </a:lnTo>
                        <a:lnTo>
                          <a:pt x="3363" y="1743"/>
                        </a:lnTo>
                        <a:lnTo>
                          <a:pt x="3295" y="1685"/>
                        </a:lnTo>
                        <a:lnTo>
                          <a:pt x="3229" y="1621"/>
                        </a:lnTo>
                        <a:lnTo>
                          <a:pt x="3166" y="1549"/>
                        </a:lnTo>
                        <a:lnTo>
                          <a:pt x="3107" y="1468"/>
                        </a:lnTo>
                        <a:lnTo>
                          <a:pt x="3053" y="1383"/>
                        </a:lnTo>
                        <a:lnTo>
                          <a:pt x="3008" y="1289"/>
                        </a:lnTo>
                        <a:lnTo>
                          <a:pt x="2975" y="1185"/>
                        </a:lnTo>
                        <a:lnTo>
                          <a:pt x="2954" y="1077"/>
                        </a:lnTo>
                        <a:lnTo>
                          <a:pt x="2959" y="1077"/>
                        </a:lnTo>
                        <a:lnTo>
                          <a:pt x="2952" y="998"/>
                        </a:lnTo>
                        <a:lnTo>
                          <a:pt x="2954" y="917"/>
                        </a:lnTo>
                        <a:lnTo>
                          <a:pt x="2961" y="830"/>
                        </a:lnTo>
                        <a:lnTo>
                          <a:pt x="2978" y="740"/>
                        </a:lnTo>
                        <a:lnTo>
                          <a:pt x="2975" y="747"/>
                        </a:lnTo>
                        <a:lnTo>
                          <a:pt x="2966" y="765"/>
                        </a:lnTo>
                        <a:lnTo>
                          <a:pt x="2954" y="795"/>
                        </a:lnTo>
                        <a:lnTo>
                          <a:pt x="2940" y="834"/>
                        </a:lnTo>
                        <a:lnTo>
                          <a:pt x="2926" y="883"/>
                        </a:lnTo>
                        <a:lnTo>
                          <a:pt x="2914" y="941"/>
                        </a:lnTo>
                        <a:lnTo>
                          <a:pt x="2907" y="1005"/>
                        </a:lnTo>
                        <a:lnTo>
                          <a:pt x="2905" y="1077"/>
                        </a:lnTo>
                        <a:lnTo>
                          <a:pt x="2905" y="1077"/>
                        </a:lnTo>
                        <a:lnTo>
                          <a:pt x="2907" y="1134"/>
                        </a:lnTo>
                        <a:lnTo>
                          <a:pt x="2917" y="1194"/>
                        </a:lnTo>
                        <a:lnTo>
                          <a:pt x="2931" y="1256"/>
                        </a:lnTo>
                        <a:lnTo>
                          <a:pt x="2949" y="1323"/>
                        </a:lnTo>
                        <a:lnTo>
                          <a:pt x="2978" y="1390"/>
                        </a:lnTo>
                        <a:lnTo>
                          <a:pt x="3013" y="1459"/>
                        </a:lnTo>
                        <a:lnTo>
                          <a:pt x="3058" y="1528"/>
                        </a:lnTo>
                        <a:lnTo>
                          <a:pt x="3112" y="1600"/>
                        </a:lnTo>
                        <a:lnTo>
                          <a:pt x="3109" y="1600"/>
                        </a:lnTo>
                        <a:lnTo>
                          <a:pt x="3105" y="1602"/>
                        </a:lnTo>
                        <a:lnTo>
                          <a:pt x="3093" y="1604"/>
                        </a:lnTo>
                        <a:lnTo>
                          <a:pt x="3079" y="1609"/>
                        </a:lnTo>
                        <a:lnTo>
                          <a:pt x="3062" y="1614"/>
                        </a:lnTo>
                        <a:lnTo>
                          <a:pt x="3041" y="1618"/>
                        </a:lnTo>
                        <a:lnTo>
                          <a:pt x="3015" y="1623"/>
                        </a:lnTo>
                        <a:lnTo>
                          <a:pt x="2987" y="1630"/>
                        </a:lnTo>
                        <a:lnTo>
                          <a:pt x="2956" y="1637"/>
                        </a:lnTo>
                        <a:lnTo>
                          <a:pt x="2921" y="1644"/>
                        </a:lnTo>
                        <a:lnTo>
                          <a:pt x="2884" y="1651"/>
                        </a:lnTo>
                        <a:lnTo>
                          <a:pt x="2841" y="1657"/>
                        </a:lnTo>
                        <a:lnTo>
                          <a:pt x="2799" y="1664"/>
                        </a:lnTo>
                        <a:lnTo>
                          <a:pt x="2752" y="1674"/>
                        </a:lnTo>
                        <a:lnTo>
                          <a:pt x="2702" y="1681"/>
                        </a:lnTo>
                        <a:lnTo>
                          <a:pt x="2651" y="1685"/>
                        </a:lnTo>
                        <a:lnTo>
                          <a:pt x="2597" y="1692"/>
                        </a:lnTo>
                        <a:lnTo>
                          <a:pt x="2540" y="1699"/>
                        </a:lnTo>
                        <a:lnTo>
                          <a:pt x="2479" y="1704"/>
                        </a:lnTo>
                        <a:lnTo>
                          <a:pt x="2418" y="1708"/>
                        </a:lnTo>
                        <a:lnTo>
                          <a:pt x="2357" y="1713"/>
                        </a:lnTo>
                        <a:lnTo>
                          <a:pt x="2291" y="1715"/>
                        </a:lnTo>
                        <a:lnTo>
                          <a:pt x="2223" y="1717"/>
                        </a:lnTo>
                        <a:lnTo>
                          <a:pt x="2155" y="1717"/>
                        </a:lnTo>
                        <a:lnTo>
                          <a:pt x="2084" y="1717"/>
                        </a:lnTo>
                        <a:lnTo>
                          <a:pt x="2013" y="1717"/>
                        </a:lnTo>
                        <a:lnTo>
                          <a:pt x="1941" y="1715"/>
                        </a:lnTo>
                        <a:lnTo>
                          <a:pt x="1865" y="1710"/>
                        </a:lnTo>
                        <a:lnTo>
                          <a:pt x="1790" y="1704"/>
                        </a:lnTo>
                        <a:lnTo>
                          <a:pt x="1712" y="1697"/>
                        </a:lnTo>
                        <a:lnTo>
                          <a:pt x="1635" y="1687"/>
                        </a:lnTo>
                        <a:lnTo>
                          <a:pt x="1557" y="1676"/>
                        </a:lnTo>
                        <a:lnTo>
                          <a:pt x="1560" y="1685"/>
                        </a:lnTo>
                        <a:lnTo>
                          <a:pt x="1567" y="1713"/>
                        </a:lnTo>
                        <a:lnTo>
                          <a:pt x="1569" y="1754"/>
                        </a:lnTo>
                        <a:lnTo>
                          <a:pt x="1567" y="1805"/>
                        </a:lnTo>
                        <a:lnTo>
                          <a:pt x="1555" y="1865"/>
                        </a:lnTo>
                        <a:lnTo>
                          <a:pt x="1527" y="1929"/>
                        </a:lnTo>
                        <a:lnTo>
                          <a:pt x="1480" y="1994"/>
                        </a:lnTo>
                        <a:lnTo>
                          <a:pt x="1407" y="2059"/>
                        </a:lnTo>
                        <a:lnTo>
                          <a:pt x="1404" y="2065"/>
                        </a:lnTo>
                        <a:lnTo>
                          <a:pt x="1397" y="2089"/>
                        </a:lnTo>
                        <a:lnTo>
                          <a:pt x="1383" y="2121"/>
                        </a:lnTo>
                        <a:lnTo>
                          <a:pt x="1362" y="2160"/>
                        </a:lnTo>
                        <a:lnTo>
                          <a:pt x="1136" y="2160"/>
                        </a:lnTo>
                        <a:lnTo>
                          <a:pt x="1136" y="2155"/>
                        </a:lnTo>
                        <a:lnTo>
                          <a:pt x="1136" y="2139"/>
                        </a:lnTo>
                        <a:lnTo>
                          <a:pt x="1139" y="2116"/>
                        </a:lnTo>
                        <a:lnTo>
                          <a:pt x="1146" y="2086"/>
                        </a:lnTo>
                        <a:lnTo>
                          <a:pt x="1160" y="2049"/>
                        </a:lnTo>
                        <a:lnTo>
                          <a:pt x="1183" y="2010"/>
                        </a:lnTo>
                        <a:lnTo>
                          <a:pt x="1219" y="1966"/>
                        </a:lnTo>
                        <a:lnTo>
                          <a:pt x="1268" y="1923"/>
                        </a:lnTo>
                        <a:lnTo>
                          <a:pt x="1266" y="1913"/>
                        </a:lnTo>
                        <a:lnTo>
                          <a:pt x="1256" y="1874"/>
                        </a:lnTo>
                        <a:lnTo>
                          <a:pt x="1247" y="1791"/>
                        </a:lnTo>
                        <a:lnTo>
                          <a:pt x="1240" y="1646"/>
                        </a:lnTo>
                        <a:lnTo>
                          <a:pt x="1235" y="1639"/>
                        </a:lnTo>
                        <a:lnTo>
                          <a:pt x="1226" y="1630"/>
                        </a:lnTo>
                        <a:lnTo>
                          <a:pt x="1209" y="1618"/>
                        </a:lnTo>
                        <a:lnTo>
                          <a:pt x="1188" y="1602"/>
                        </a:lnTo>
                        <a:lnTo>
                          <a:pt x="1162" y="1586"/>
                        </a:lnTo>
                        <a:lnTo>
                          <a:pt x="1131" y="1565"/>
                        </a:lnTo>
                        <a:lnTo>
                          <a:pt x="1099" y="1542"/>
                        </a:lnTo>
                        <a:lnTo>
                          <a:pt x="1066" y="1515"/>
                        </a:lnTo>
                        <a:lnTo>
                          <a:pt x="1030" y="1487"/>
                        </a:lnTo>
                        <a:lnTo>
                          <a:pt x="997" y="1457"/>
                        </a:lnTo>
                        <a:lnTo>
                          <a:pt x="962" y="1422"/>
                        </a:lnTo>
                        <a:lnTo>
                          <a:pt x="932" y="1388"/>
                        </a:lnTo>
                        <a:lnTo>
                          <a:pt x="901" y="1351"/>
                        </a:lnTo>
                        <a:lnTo>
                          <a:pt x="875" y="1309"/>
                        </a:lnTo>
                        <a:lnTo>
                          <a:pt x="854" y="1268"/>
                        </a:lnTo>
                        <a:lnTo>
                          <a:pt x="838" y="1224"/>
                        </a:lnTo>
                        <a:lnTo>
                          <a:pt x="833" y="1224"/>
                        </a:lnTo>
                        <a:lnTo>
                          <a:pt x="821" y="1222"/>
                        </a:lnTo>
                        <a:lnTo>
                          <a:pt x="800" y="1217"/>
                        </a:lnTo>
                        <a:lnTo>
                          <a:pt x="776" y="1208"/>
                        </a:lnTo>
                        <a:lnTo>
                          <a:pt x="748" y="1194"/>
                        </a:lnTo>
                        <a:lnTo>
                          <a:pt x="715" y="1171"/>
                        </a:lnTo>
                        <a:lnTo>
                          <a:pt x="682" y="1139"/>
                        </a:lnTo>
                        <a:lnTo>
                          <a:pt x="649" y="1097"/>
                        </a:lnTo>
                        <a:lnTo>
                          <a:pt x="642" y="1097"/>
                        </a:lnTo>
                        <a:lnTo>
                          <a:pt x="626" y="1100"/>
                        </a:lnTo>
                        <a:lnTo>
                          <a:pt x="600" y="1100"/>
                        </a:lnTo>
                        <a:lnTo>
                          <a:pt x="565" y="1100"/>
                        </a:lnTo>
                        <a:lnTo>
                          <a:pt x="522" y="1100"/>
                        </a:lnTo>
                        <a:lnTo>
                          <a:pt x="478" y="1095"/>
                        </a:lnTo>
                        <a:lnTo>
                          <a:pt x="428" y="1088"/>
                        </a:lnTo>
                        <a:lnTo>
                          <a:pt x="379" y="1077"/>
                        </a:lnTo>
                        <a:lnTo>
                          <a:pt x="379" y="1077"/>
                        </a:lnTo>
                        <a:lnTo>
                          <a:pt x="341" y="1065"/>
                        </a:lnTo>
                        <a:lnTo>
                          <a:pt x="304" y="1051"/>
                        </a:lnTo>
                        <a:lnTo>
                          <a:pt x="268" y="1033"/>
                        </a:lnTo>
                        <a:lnTo>
                          <a:pt x="235" y="1012"/>
                        </a:lnTo>
                        <a:lnTo>
                          <a:pt x="207" y="984"/>
                        </a:lnTo>
                        <a:lnTo>
                          <a:pt x="181" y="952"/>
                        </a:lnTo>
                        <a:lnTo>
                          <a:pt x="160" y="915"/>
                        </a:lnTo>
                        <a:lnTo>
                          <a:pt x="146" y="871"/>
                        </a:lnTo>
                        <a:lnTo>
                          <a:pt x="139" y="876"/>
                        </a:lnTo>
                        <a:lnTo>
                          <a:pt x="118" y="883"/>
                        </a:lnTo>
                        <a:lnTo>
                          <a:pt x="92" y="883"/>
                        </a:lnTo>
                        <a:lnTo>
                          <a:pt x="61" y="869"/>
                        </a:lnTo>
                        <a:lnTo>
                          <a:pt x="33" y="834"/>
                        </a:lnTo>
                        <a:lnTo>
                          <a:pt x="10" y="768"/>
                        </a:lnTo>
                        <a:lnTo>
                          <a:pt x="0" y="662"/>
                        </a:lnTo>
                        <a:lnTo>
                          <a:pt x="5" y="509"/>
                        </a:lnTo>
                        <a:lnTo>
                          <a:pt x="7" y="512"/>
                        </a:lnTo>
                        <a:lnTo>
                          <a:pt x="14" y="521"/>
                        </a:lnTo>
                        <a:lnTo>
                          <a:pt x="28" y="533"/>
                        </a:lnTo>
                        <a:lnTo>
                          <a:pt x="47" y="544"/>
                        </a:lnTo>
                        <a:lnTo>
                          <a:pt x="68" y="558"/>
                        </a:lnTo>
                        <a:lnTo>
                          <a:pt x="97" y="565"/>
                        </a:lnTo>
                        <a:lnTo>
                          <a:pt x="127" y="569"/>
                        </a:lnTo>
                        <a:lnTo>
                          <a:pt x="165" y="567"/>
                        </a:lnTo>
                        <a:lnTo>
                          <a:pt x="205" y="558"/>
                        </a:lnTo>
                        <a:lnTo>
                          <a:pt x="252" y="542"/>
                        </a:lnTo>
                        <a:lnTo>
                          <a:pt x="299" y="521"/>
                        </a:lnTo>
                        <a:lnTo>
                          <a:pt x="348" y="493"/>
                        </a:lnTo>
                        <a:lnTo>
                          <a:pt x="395" y="461"/>
                        </a:lnTo>
                        <a:lnTo>
                          <a:pt x="442" y="422"/>
                        </a:lnTo>
                        <a:lnTo>
                          <a:pt x="489" y="373"/>
                        </a:lnTo>
                        <a:lnTo>
                          <a:pt x="529" y="320"/>
                        </a:lnTo>
                        <a:lnTo>
                          <a:pt x="522" y="316"/>
                        </a:lnTo>
                        <a:lnTo>
                          <a:pt x="501" y="300"/>
                        </a:lnTo>
                        <a:lnTo>
                          <a:pt x="471" y="272"/>
                        </a:lnTo>
                        <a:lnTo>
                          <a:pt x="440" y="235"/>
                        </a:lnTo>
                        <a:lnTo>
                          <a:pt x="407" y="189"/>
                        </a:lnTo>
                        <a:lnTo>
                          <a:pt x="384" y="134"/>
                        </a:lnTo>
                        <a:lnTo>
                          <a:pt x="370" y="71"/>
                        </a:lnTo>
                        <a:lnTo>
                          <a:pt x="372" y="0"/>
                        </a:lnTo>
                        <a:lnTo>
                          <a:pt x="379" y="7"/>
                        </a:lnTo>
                        <a:lnTo>
                          <a:pt x="398" y="28"/>
                        </a:lnTo>
                        <a:lnTo>
                          <a:pt x="428" y="53"/>
                        </a:lnTo>
                        <a:lnTo>
                          <a:pt x="466" y="83"/>
                        </a:lnTo>
                        <a:lnTo>
                          <a:pt x="508" y="113"/>
                        </a:lnTo>
                        <a:lnTo>
                          <a:pt x="553" y="138"/>
                        </a:lnTo>
                        <a:lnTo>
                          <a:pt x="598" y="152"/>
                        </a:lnTo>
                        <a:lnTo>
                          <a:pt x="642" y="154"/>
                        </a:lnTo>
                        <a:lnTo>
                          <a:pt x="682" y="154"/>
                        </a:lnTo>
                        <a:lnTo>
                          <a:pt x="715" y="164"/>
                        </a:lnTo>
                        <a:lnTo>
                          <a:pt x="746" y="182"/>
                        </a:lnTo>
                        <a:lnTo>
                          <a:pt x="772" y="207"/>
                        </a:lnTo>
                        <a:lnTo>
                          <a:pt x="790" y="231"/>
                        </a:lnTo>
                        <a:lnTo>
                          <a:pt x="805" y="254"/>
                        </a:lnTo>
                        <a:lnTo>
                          <a:pt x="814" y="267"/>
                        </a:lnTo>
                        <a:lnTo>
                          <a:pt x="816" y="274"/>
                        </a:lnTo>
                        <a:lnTo>
                          <a:pt x="838" y="263"/>
                        </a:lnTo>
                        <a:lnTo>
                          <a:pt x="861" y="251"/>
                        </a:lnTo>
                        <a:lnTo>
                          <a:pt x="885" y="237"/>
                        </a:lnTo>
                        <a:lnTo>
                          <a:pt x="913" y="221"/>
                        </a:lnTo>
                        <a:lnTo>
                          <a:pt x="946" y="205"/>
                        </a:lnTo>
                        <a:lnTo>
                          <a:pt x="981" y="191"/>
                        </a:lnTo>
                        <a:lnTo>
                          <a:pt x="1021" y="178"/>
                        </a:lnTo>
                        <a:lnTo>
                          <a:pt x="1068" y="168"/>
                        </a:lnTo>
                        <a:lnTo>
                          <a:pt x="1122" y="161"/>
                        </a:lnTo>
                        <a:lnTo>
                          <a:pt x="1183" y="157"/>
                        </a:lnTo>
                        <a:lnTo>
                          <a:pt x="1254" y="159"/>
                        </a:lnTo>
                        <a:lnTo>
                          <a:pt x="1331" y="166"/>
                        </a:lnTo>
                        <a:lnTo>
                          <a:pt x="1421" y="180"/>
                        </a:lnTo>
                        <a:lnTo>
                          <a:pt x="1520" y="198"/>
                        </a:lnTo>
                        <a:lnTo>
                          <a:pt x="1632" y="228"/>
                        </a:lnTo>
                        <a:lnTo>
                          <a:pt x="1755" y="265"/>
                        </a:lnTo>
                        <a:lnTo>
                          <a:pt x="1818" y="284"/>
                        </a:lnTo>
                        <a:lnTo>
                          <a:pt x="1879" y="300"/>
                        </a:lnTo>
                        <a:lnTo>
                          <a:pt x="1941" y="311"/>
                        </a:lnTo>
                        <a:lnTo>
                          <a:pt x="1999" y="318"/>
                        </a:lnTo>
                        <a:lnTo>
                          <a:pt x="2056" y="323"/>
                        </a:lnTo>
                        <a:lnTo>
                          <a:pt x="2112" y="325"/>
                        </a:lnTo>
                        <a:lnTo>
                          <a:pt x="2166" y="325"/>
                        </a:lnTo>
                        <a:lnTo>
                          <a:pt x="2220" y="323"/>
                        </a:lnTo>
                        <a:lnTo>
                          <a:pt x="2270" y="318"/>
                        </a:lnTo>
                        <a:lnTo>
                          <a:pt x="2322" y="311"/>
                        </a:lnTo>
                        <a:lnTo>
                          <a:pt x="2371" y="302"/>
                        </a:lnTo>
                        <a:lnTo>
                          <a:pt x="2420" y="293"/>
                        </a:lnTo>
                        <a:lnTo>
                          <a:pt x="2467" y="281"/>
                        </a:lnTo>
                        <a:lnTo>
                          <a:pt x="2514" y="267"/>
                        </a:lnTo>
                        <a:lnTo>
                          <a:pt x="2559" y="254"/>
                        </a:lnTo>
                        <a:lnTo>
                          <a:pt x="2604" y="240"/>
                        </a:lnTo>
                        <a:lnTo>
                          <a:pt x="2648" y="224"/>
                        </a:lnTo>
                        <a:lnTo>
                          <a:pt x="2693" y="207"/>
                        </a:lnTo>
                        <a:lnTo>
                          <a:pt x="2735" y="194"/>
                        </a:lnTo>
                        <a:lnTo>
                          <a:pt x="2780" y="178"/>
                        </a:lnTo>
                        <a:lnTo>
                          <a:pt x="2822" y="161"/>
                        </a:lnTo>
                        <a:lnTo>
                          <a:pt x="2865" y="148"/>
                        </a:lnTo>
                        <a:lnTo>
                          <a:pt x="2907" y="134"/>
                        </a:lnTo>
                        <a:lnTo>
                          <a:pt x="2947" y="120"/>
                        </a:lnTo>
                        <a:lnTo>
                          <a:pt x="2989" y="108"/>
                        </a:lnTo>
                        <a:lnTo>
                          <a:pt x="3032" y="97"/>
                        </a:lnTo>
                        <a:lnTo>
                          <a:pt x="3074" y="88"/>
                        </a:lnTo>
                        <a:lnTo>
                          <a:pt x="3116" y="81"/>
                        </a:lnTo>
                        <a:lnTo>
                          <a:pt x="3159" y="74"/>
                        </a:lnTo>
                        <a:lnTo>
                          <a:pt x="3201" y="71"/>
                        </a:lnTo>
                        <a:lnTo>
                          <a:pt x="3243" y="69"/>
                        </a:lnTo>
                        <a:lnTo>
                          <a:pt x="3288" y="71"/>
                        </a:lnTo>
                        <a:lnTo>
                          <a:pt x="3375" y="78"/>
                        </a:lnTo>
                        <a:lnTo>
                          <a:pt x="3455" y="88"/>
                        </a:lnTo>
                        <a:lnTo>
                          <a:pt x="3535" y="101"/>
                        </a:lnTo>
                        <a:lnTo>
                          <a:pt x="3608" y="120"/>
                        </a:lnTo>
                        <a:lnTo>
                          <a:pt x="3681" y="141"/>
                        </a:lnTo>
                        <a:lnTo>
                          <a:pt x="3747" y="166"/>
                        </a:lnTo>
                        <a:lnTo>
                          <a:pt x="3810" y="196"/>
                        </a:lnTo>
                        <a:lnTo>
                          <a:pt x="3869" y="231"/>
                        </a:lnTo>
                        <a:lnTo>
                          <a:pt x="3923" y="270"/>
                        </a:lnTo>
                        <a:lnTo>
                          <a:pt x="3972" y="316"/>
                        </a:lnTo>
                        <a:lnTo>
                          <a:pt x="4019" y="364"/>
                        </a:lnTo>
                        <a:lnTo>
                          <a:pt x="4062" y="420"/>
                        </a:lnTo>
                        <a:lnTo>
                          <a:pt x="4099" y="479"/>
                        </a:lnTo>
                        <a:lnTo>
                          <a:pt x="4132" y="544"/>
                        </a:lnTo>
                        <a:lnTo>
                          <a:pt x="4161" y="615"/>
                        </a:lnTo>
                        <a:lnTo>
                          <a:pt x="4186" y="694"/>
                        </a:lnTo>
                        <a:lnTo>
                          <a:pt x="4194" y="692"/>
                        </a:lnTo>
                        <a:lnTo>
                          <a:pt x="4208" y="687"/>
                        </a:lnTo>
                        <a:lnTo>
                          <a:pt x="4234" y="678"/>
                        </a:lnTo>
                        <a:lnTo>
                          <a:pt x="4264" y="666"/>
                        </a:lnTo>
                        <a:lnTo>
                          <a:pt x="4299" y="650"/>
                        </a:lnTo>
                        <a:lnTo>
                          <a:pt x="4335" y="629"/>
                        </a:lnTo>
                        <a:lnTo>
                          <a:pt x="4372" y="604"/>
                        </a:lnTo>
                        <a:lnTo>
                          <a:pt x="4405" y="576"/>
                        </a:lnTo>
                        <a:lnTo>
                          <a:pt x="4440" y="551"/>
                        </a:lnTo>
                        <a:lnTo>
                          <a:pt x="4483" y="539"/>
                        </a:lnTo>
                        <a:lnTo>
                          <a:pt x="4527" y="539"/>
                        </a:lnTo>
                        <a:lnTo>
                          <a:pt x="4572" y="549"/>
                        </a:lnTo>
                        <a:lnTo>
                          <a:pt x="4612" y="569"/>
                        </a:lnTo>
                        <a:lnTo>
                          <a:pt x="4645" y="602"/>
                        </a:lnTo>
                        <a:lnTo>
                          <a:pt x="4669" y="641"/>
                        </a:lnTo>
                        <a:lnTo>
                          <a:pt x="4676" y="687"/>
                        </a:lnTo>
                        <a:lnTo>
                          <a:pt x="4666" y="742"/>
                        </a:lnTo>
                        <a:lnTo>
                          <a:pt x="4645" y="784"/>
                        </a:lnTo>
                        <a:lnTo>
                          <a:pt x="4617" y="811"/>
                        </a:lnTo>
                        <a:lnTo>
                          <a:pt x="4586" y="839"/>
                        </a:lnTo>
                        <a:lnTo>
                          <a:pt x="4556" y="869"/>
                        </a:lnTo>
                        <a:lnTo>
                          <a:pt x="4530" y="908"/>
                        </a:lnTo>
                        <a:lnTo>
                          <a:pt x="4513" y="964"/>
                        </a:lnTo>
                        <a:lnTo>
                          <a:pt x="4509" y="1044"/>
                        </a:lnTo>
                        <a:lnTo>
                          <a:pt x="4546" y="1070"/>
                        </a:lnTo>
                        <a:lnTo>
                          <a:pt x="4558" y="1116"/>
                        </a:lnTo>
                        <a:lnTo>
                          <a:pt x="4551" y="1176"/>
                        </a:lnTo>
                        <a:lnTo>
                          <a:pt x="4530" y="1243"/>
                        </a:lnTo>
                        <a:lnTo>
                          <a:pt x="4502" y="1312"/>
                        </a:lnTo>
                        <a:lnTo>
                          <a:pt x="4469" y="1372"/>
                        </a:lnTo>
                        <a:lnTo>
                          <a:pt x="4440" y="1418"/>
                        </a:lnTo>
                        <a:lnTo>
                          <a:pt x="4422" y="1443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7d7d7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4" name=""/>
                  <p:cNvSpPr/>
                  <p:nvPr/>
                </p:nvSpPr>
                <p:spPr>
                  <a:xfrm>
                    <a:off x="7354800" y="3597840"/>
                    <a:ext cx="250200" cy="249120"/>
                  </a:xfrm>
                  <a:custGeom>
                    <a:avLst/>
                    <a:gdLst/>
                    <a:ahLst/>
                    <a:rect l="l" t="t" r="r" b="b"/>
                    <a:pathLst>
                      <a:path w="421" h="449">
                        <a:moveTo>
                          <a:pt x="5" y="53"/>
                        </a:moveTo>
                        <a:lnTo>
                          <a:pt x="35" y="48"/>
                        </a:lnTo>
                        <a:lnTo>
                          <a:pt x="64" y="44"/>
                        </a:lnTo>
                        <a:lnTo>
                          <a:pt x="92" y="39"/>
                        </a:lnTo>
                        <a:lnTo>
                          <a:pt x="122" y="34"/>
                        </a:lnTo>
                        <a:lnTo>
                          <a:pt x="151" y="28"/>
                        </a:lnTo>
                        <a:lnTo>
                          <a:pt x="181" y="21"/>
                        </a:lnTo>
                        <a:lnTo>
                          <a:pt x="212" y="11"/>
                        </a:lnTo>
                        <a:lnTo>
                          <a:pt x="245" y="0"/>
                        </a:lnTo>
                        <a:lnTo>
                          <a:pt x="254" y="7"/>
                        </a:lnTo>
                        <a:lnTo>
                          <a:pt x="280" y="23"/>
                        </a:lnTo>
                        <a:lnTo>
                          <a:pt x="315" y="48"/>
                        </a:lnTo>
                        <a:lnTo>
                          <a:pt x="355" y="81"/>
                        </a:lnTo>
                        <a:lnTo>
                          <a:pt x="388" y="117"/>
                        </a:lnTo>
                        <a:lnTo>
                          <a:pt x="414" y="159"/>
                        </a:lnTo>
                        <a:lnTo>
                          <a:pt x="421" y="203"/>
                        </a:lnTo>
                        <a:lnTo>
                          <a:pt x="405" y="247"/>
                        </a:lnTo>
                        <a:lnTo>
                          <a:pt x="372" y="295"/>
                        </a:lnTo>
                        <a:lnTo>
                          <a:pt x="343" y="332"/>
                        </a:lnTo>
                        <a:lnTo>
                          <a:pt x="322" y="357"/>
                        </a:lnTo>
                        <a:lnTo>
                          <a:pt x="303" y="378"/>
                        </a:lnTo>
                        <a:lnTo>
                          <a:pt x="289" y="394"/>
                        </a:lnTo>
                        <a:lnTo>
                          <a:pt x="278" y="410"/>
                        </a:lnTo>
                        <a:lnTo>
                          <a:pt x="268" y="429"/>
                        </a:lnTo>
                        <a:lnTo>
                          <a:pt x="259" y="449"/>
                        </a:lnTo>
                        <a:lnTo>
                          <a:pt x="5" y="449"/>
                        </a:lnTo>
                        <a:lnTo>
                          <a:pt x="2" y="445"/>
                        </a:lnTo>
                        <a:lnTo>
                          <a:pt x="0" y="433"/>
                        </a:lnTo>
                        <a:lnTo>
                          <a:pt x="0" y="415"/>
                        </a:lnTo>
                        <a:lnTo>
                          <a:pt x="7" y="387"/>
                        </a:lnTo>
                        <a:lnTo>
                          <a:pt x="21" y="353"/>
                        </a:lnTo>
                        <a:lnTo>
                          <a:pt x="49" y="313"/>
                        </a:lnTo>
                        <a:lnTo>
                          <a:pt x="92" y="265"/>
                        </a:lnTo>
                        <a:lnTo>
                          <a:pt x="155" y="210"/>
                        </a:lnTo>
                        <a:lnTo>
                          <a:pt x="5" y="53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7d7d7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5" name=""/>
                  <p:cNvSpPr/>
                  <p:nvPr/>
                </p:nvSpPr>
                <p:spPr>
                  <a:xfrm>
                    <a:off x="5906520" y="2956320"/>
                    <a:ext cx="82080" cy="74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34">
                        <a:moveTo>
                          <a:pt x="65" y="134"/>
                        </a:moveTo>
                        <a:lnTo>
                          <a:pt x="80" y="131"/>
                        </a:lnTo>
                        <a:lnTo>
                          <a:pt x="94" y="129"/>
                        </a:lnTo>
                        <a:lnTo>
                          <a:pt x="105" y="122"/>
                        </a:lnTo>
                        <a:lnTo>
                          <a:pt x="117" y="113"/>
                        </a:lnTo>
                        <a:lnTo>
                          <a:pt x="127" y="104"/>
                        </a:lnTo>
                        <a:lnTo>
                          <a:pt x="134" y="92"/>
                        </a:lnTo>
                        <a:lnTo>
                          <a:pt x="136" y="78"/>
                        </a:lnTo>
                        <a:lnTo>
                          <a:pt x="138" y="65"/>
                        </a:lnTo>
                        <a:lnTo>
                          <a:pt x="136" y="51"/>
                        </a:lnTo>
                        <a:lnTo>
                          <a:pt x="134" y="39"/>
                        </a:lnTo>
                        <a:lnTo>
                          <a:pt x="127" y="30"/>
                        </a:lnTo>
                        <a:lnTo>
                          <a:pt x="117" y="18"/>
                        </a:lnTo>
                        <a:lnTo>
                          <a:pt x="105" y="12"/>
                        </a:lnTo>
                        <a:lnTo>
                          <a:pt x="94" y="5"/>
                        </a:lnTo>
                        <a:lnTo>
                          <a:pt x="80" y="2"/>
                        </a:lnTo>
                        <a:lnTo>
                          <a:pt x="65" y="0"/>
                        </a:lnTo>
                        <a:lnTo>
                          <a:pt x="40" y="5"/>
                        </a:lnTo>
                        <a:lnTo>
                          <a:pt x="18" y="18"/>
                        </a:lnTo>
                        <a:lnTo>
                          <a:pt x="4" y="39"/>
                        </a:lnTo>
                        <a:lnTo>
                          <a:pt x="0" y="65"/>
                        </a:lnTo>
                        <a:lnTo>
                          <a:pt x="4" y="92"/>
                        </a:lnTo>
                        <a:lnTo>
                          <a:pt x="18" y="113"/>
                        </a:lnTo>
                        <a:lnTo>
                          <a:pt x="40" y="129"/>
                        </a:lnTo>
                        <a:lnTo>
                          <a:pt x="65" y="13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360" bIns="27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056" name=""/>
              <p:cNvSpPr/>
              <p:nvPr/>
            </p:nvSpPr>
            <p:spPr>
              <a:xfrm>
                <a:off x="4987080" y="1752480"/>
                <a:ext cx="3852000" cy="3200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entury Gothic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7" name=""/>
            <p:cNvGrpSpPr/>
            <p:nvPr/>
          </p:nvGrpSpPr>
          <p:grpSpPr>
            <a:xfrm>
              <a:off x="228600" y="1752480"/>
              <a:ext cx="3852000" cy="3200400"/>
              <a:chOff x="228600" y="1752480"/>
              <a:chExt cx="3852000" cy="3200400"/>
            </a:xfrm>
          </p:grpSpPr>
          <p:grpSp>
            <p:nvGrpSpPr>
              <p:cNvPr id="1058" name=""/>
              <p:cNvGrpSpPr/>
              <p:nvPr/>
            </p:nvGrpSpPr>
            <p:grpSpPr>
              <a:xfrm>
                <a:off x="891360" y="3001320"/>
                <a:ext cx="2028960" cy="1053720"/>
                <a:chOff x="891360" y="3001320"/>
                <a:chExt cx="2028960" cy="1053720"/>
              </a:xfrm>
            </p:grpSpPr>
            <p:grpSp>
              <p:nvGrpSpPr>
                <p:cNvPr id="1059" name=""/>
                <p:cNvGrpSpPr/>
                <p:nvPr/>
              </p:nvGrpSpPr>
              <p:grpSpPr>
                <a:xfrm>
                  <a:off x="1424880" y="3193920"/>
                  <a:ext cx="1495440" cy="757800"/>
                  <a:chOff x="1424880" y="3193920"/>
                  <a:chExt cx="1495440" cy="757800"/>
                </a:xfrm>
              </p:grpSpPr>
              <p:sp>
                <p:nvSpPr>
                  <p:cNvPr id="1060" name=""/>
                  <p:cNvSpPr/>
                  <p:nvPr/>
                </p:nvSpPr>
                <p:spPr>
                  <a:xfrm flipH="1">
                    <a:off x="2311200" y="3821760"/>
                    <a:ext cx="105120" cy="129960"/>
                  </a:xfrm>
                  <a:custGeom>
                    <a:avLst/>
                    <a:gdLst/>
                    <a:ahLst/>
                    <a:rect l="l" t="t" r="r" b="b"/>
                    <a:pathLst>
                      <a:path w="329" h="371">
                        <a:moveTo>
                          <a:pt x="37" y="0"/>
                        </a:moveTo>
                        <a:lnTo>
                          <a:pt x="70" y="3"/>
                        </a:lnTo>
                        <a:lnTo>
                          <a:pt x="103" y="7"/>
                        </a:lnTo>
                        <a:lnTo>
                          <a:pt x="136" y="9"/>
                        </a:lnTo>
                        <a:lnTo>
                          <a:pt x="169" y="12"/>
                        </a:lnTo>
                        <a:lnTo>
                          <a:pt x="202" y="14"/>
                        </a:lnTo>
                        <a:lnTo>
                          <a:pt x="235" y="14"/>
                        </a:lnTo>
                        <a:lnTo>
                          <a:pt x="265" y="12"/>
                        </a:lnTo>
                        <a:lnTo>
                          <a:pt x="298" y="7"/>
                        </a:lnTo>
                        <a:lnTo>
                          <a:pt x="301" y="14"/>
                        </a:lnTo>
                        <a:lnTo>
                          <a:pt x="310" y="30"/>
                        </a:lnTo>
                        <a:lnTo>
                          <a:pt x="319" y="56"/>
                        </a:lnTo>
                        <a:lnTo>
                          <a:pt x="327" y="88"/>
                        </a:lnTo>
                        <a:lnTo>
                          <a:pt x="329" y="125"/>
                        </a:lnTo>
                        <a:lnTo>
                          <a:pt x="322" y="166"/>
                        </a:lnTo>
                        <a:lnTo>
                          <a:pt x="301" y="210"/>
                        </a:lnTo>
                        <a:lnTo>
                          <a:pt x="265" y="251"/>
                        </a:lnTo>
                        <a:lnTo>
                          <a:pt x="261" y="263"/>
                        </a:lnTo>
                        <a:lnTo>
                          <a:pt x="251" y="291"/>
                        </a:lnTo>
                        <a:lnTo>
                          <a:pt x="232" y="330"/>
                        </a:lnTo>
                        <a:lnTo>
                          <a:pt x="209" y="371"/>
                        </a:lnTo>
                        <a:lnTo>
                          <a:pt x="0" y="371"/>
                        </a:lnTo>
                        <a:lnTo>
                          <a:pt x="0" y="364"/>
                        </a:lnTo>
                        <a:lnTo>
                          <a:pt x="2" y="348"/>
                        </a:lnTo>
                        <a:lnTo>
                          <a:pt x="4" y="323"/>
                        </a:lnTo>
                        <a:lnTo>
                          <a:pt x="11" y="291"/>
                        </a:lnTo>
                        <a:lnTo>
                          <a:pt x="23" y="256"/>
                        </a:lnTo>
                        <a:lnTo>
                          <a:pt x="40" y="219"/>
                        </a:lnTo>
                        <a:lnTo>
                          <a:pt x="63" y="182"/>
                        </a:lnTo>
                        <a:lnTo>
                          <a:pt x="94" y="150"/>
                        </a:lnTo>
                        <a:lnTo>
                          <a:pt x="3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7d7d7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61" name=""/>
                  <p:cNvGrpSpPr/>
                  <p:nvPr/>
                </p:nvGrpSpPr>
                <p:grpSpPr>
                  <a:xfrm>
                    <a:off x="1424880" y="3193920"/>
                    <a:ext cx="1495440" cy="757800"/>
                    <a:chOff x="1424880" y="3193920"/>
                    <a:chExt cx="1495440" cy="757800"/>
                  </a:xfrm>
                </p:grpSpPr>
                <p:sp>
                  <p:nvSpPr>
                    <p:cNvPr id="1062" name=""/>
                    <p:cNvSpPr/>
                    <p:nvPr/>
                  </p:nvSpPr>
                  <p:spPr>
                    <a:xfrm flipH="1">
                      <a:off x="1424880" y="3193920"/>
                      <a:ext cx="1495440" cy="75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76" h="2160">
                          <a:moveTo>
                            <a:pt x="4422" y="1443"/>
                          </a:moveTo>
                          <a:lnTo>
                            <a:pt x="4417" y="1438"/>
                          </a:lnTo>
                          <a:lnTo>
                            <a:pt x="4405" y="1425"/>
                          </a:lnTo>
                          <a:lnTo>
                            <a:pt x="4391" y="1402"/>
                          </a:lnTo>
                          <a:lnTo>
                            <a:pt x="4377" y="1367"/>
                          </a:lnTo>
                          <a:lnTo>
                            <a:pt x="4370" y="1319"/>
                          </a:lnTo>
                          <a:lnTo>
                            <a:pt x="4370" y="1259"/>
                          </a:lnTo>
                          <a:lnTo>
                            <a:pt x="4386" y="1185"/>
                          </a:lnTo>
                          <a:lnTo>
                            <a:pt x="4422" y="1097"/>
                          </a:lnTo>
                          <a:lnTo>
                            <a:pt x="4419" y="1095"/>
                          </a:lnTo>
                          <a:lnTo>
                            <a:pt x="4417" y="1093"/>
                          </a:lnTo>
                          <a:lnTo>
                            <a:pt x="4412" y="1086"/>
                          </a:lnTo>
                          <a:lnTo>
                            <a:pt x="4408" y="1077"/>
                          </a:lnTo>
                          <a:lnTo>
                            <a:pt x="4408" y="1077"/>
                          </a:lnTo>
                          <a:lnTo>
                            <a:pt x="4398" y="1058"/>
                          </a:lnTo>
                          <a:lnTo>
                            <a:pt x="4389" y="1035"/>
                          </a:lnTo>
                          <a:lnTo>
                            <a:pt x="4382" y="1007"/>
                          </a:lnTo>
                          <a:lnTo>
                            <a:pt x="4379" y="975"/>
                          </a:lnTo>
                          <a:lnTo>
                            <a:pt x="4384" y="938"/>
                          </a:lnTo>
                          <a:lnTo>
                            <a:pt x="4400" y="901"/>
                          </a:lnTo>
                          <a:lnTo>
                            <a:pt x="4429" y="864"/>
                          </a:lnTo>
                          <a:lnTo>
                            <a:pt x="4471" y="825"/>
                          </a:lnTo>
                          <a:lnTo>
                            <a:pt x="4523" y="777"/>
                          </a:lnTo>
                          <a:lnTo>
                            <a:pt x="4551" y="731"/>
                          </a:lnTo>
                          <a:lnTo>
                            <a:pt x="4560" y="689"/>
                          </a:lnTo>
                          <a:lnTo>
                            <a:pt x="4551" y="659"/>
                          </a:lnTo>
                          <a:lnTo>
                            <a:pt x="4530" y="641"/>
                          </a:lnTo>
                          <a:lnTo>
                            <a:pt x="4497" y="639"/>
                          </a:lnTo>
                          <a:lnTo>
                            <a:pt x="4455" y="655"/>
                          </a:lnTo>
                          <a:lnTo>
                            <a:pt x="4405" y="694"/>
                          </a:lnTo>
                          <a:lnTo>
                            <a:pt x="4358" y="738"/>
                          </a:lnTo>
                          <a:lnTo>
                            <a:pt x="4323" y="768"/>
                          </a:lnTo>
                          <a:lnTo>
                            <a:pt x="4297" y="788"/>
                          </a:lnTo>
                          <a:lnTo>
                            <a:pt x="4276" y="798"/>
                          </a:lnTo>
                          <a:lnTo>
                            <a:pt x="4259" y="805"/>
                          </a:lnTo>
                          <a:lnTo>
                            <a:pt x="4241" y="809"/>
                          </a:lnTo>
                          <a:lnTo>
                            <a:pt x="4222" y="814"/>
                          </a:lnTo>
                          <a:lnTo>
                            <a:pt x="4198" y="825"/>
                          </a:lnTo>
                          <a:lnTo>
                            <a:pt x="4198" y="844"/>
                          </a:lnTo>
                          <a:lnTo>
                            <a:pt x="4196" y="897"/>
                          </a:lnTo>
                          <a:lnTo>
                            <a:pt x="4191" y="977"/>
                          </a:lnTo>
                          <a:lnTo>
                            <a:pt x="4177" y="1077"/>
                          </a:lnTo>
                          <a:lnTo>
                            <a:pt x="4177" y="1077"/>
                          </a:lnTo>
                          <a:lnTo>
                            <a:pt x="4163" y="1146"/>
                          </a:lnTo>
                          <a:lnTo>
                            <a:pt x="4146" y="1217"/>
                          </a:lnTo>
                          <a:lnTo>
                            <a:pt x="4125" y="1293"/>
                          </a:lnTo>
                          <a:lnTo>
                            <a:pt x="4097" y="1369"/>
                          </a:lnTo>
                          <a:lnTo>
                            <a:pt x="4062" y="1445"/>
                          </a:lnTo>
                          <a:lnTo>
                            <a:pt x="4022" y="1519"/>
                          </a:lnTo>
                          <a:lnTo>
                            <a:pt x="3972" y="1591"/>
                          </a:lnTo>
                          <a:lnTo>
                            <a:pt x="3914" y="1657"/>
                          </a:lnTo>
                          <a:lnTo>
                            <a:pt x="3914" y="1662"/>
                          </a:lnTo>
                          <a:lnTo>
                            <a:pt x="3916" y="1671"/>
                          </a:lnTo>
                          <a:lnTo>
                            <a:pt x="3923" y="1687"/>
                          </a:lnTo>
                          <a:lnTo>
                            <a:pt x="3940" y="1704"/>
                          </a:lnTo>
                          <a:lnTo>
                            <a:pt x="3963" y="1722"/>
                          </a:lnTo>
                          <a:lnTo>
                            <a:pt x="3998" y="1738"/>
                          </a:lnTo>
                          <a:lnTo>
                            <a:pt x="4048" y="1752"/>
                          </a:lnTo>
                          <a:lnTo>
                            <a:pt x="4114" y="1759"/>
                          </a:lnTo>
                          <a:lnTo>
                            <a:pt x="4109" y="1768"/>
                          </a:lnTo>
                          <a:lnTo>
                            <a:pt x="4095" y="1793"/>
                          </a:lnTo>
                          <a:lnTo>
                            <a:pt x="4071" y="1833"/>
                          </a:lnTo>
                          <a:lnTo>
                            <a:pt x="4041" y="1883"/>
                          </a:lnTo>
                          <a:lnTo>
                            <a:pt x="4001" y="1941"/>
                          </a:lnTo>
                          <a:lnTo>
                            <a:pt x="3956" y="2001"/>
                          </a:lnTo>
                          <a:lnTo>
                            <a:pt x="3902" y="2065"/>
                          </a:lnTo>
                          <a:lnTo>
                            <a:pt x="3841" y="2125"/>
                          </a:lnTo>
                          <a:lnTo>
                            <a:pt x="3596" y="2125"/>
                          </a:lnTo>
                          <a:lnTo>
                            <a:pt x="3601" y="2100"/>
                          </a:lnTo>
                          <a:lnTo>
                            <a:pt x="3608" y="2075"/>
                          </a:lnTo>
                          <a:lnTo>
                            <a:pt x="3620" y="2052"/>
                          </a:lnTo>
                          <a:lnTo>
                            <a:pt x="3634" y="2029"/>
                          </a:lnTo>
                          <a:lnTo>
                            <a:pt x="3650" y="2008"/>
                          </a:lnTo>
                          <a:lnTo>
                            <a:pt x="3669" y="1989"/>
                          </a:lnTo>
                          <a:lnTo>
                            <a:pt x="3690" y="1973"/>
                          </a:lnTo>
                          <a:lnTo>
                            <a:pt x="3716" y="1957"/>
                          </a:lnTo>
                          <a:lnTo>
                            <a:pt x="3709" y="1955"/>
                          </a:lnTo>
                          <a:lnTo>
                            <a:pt x="3686" y="1943"/>
                          </a:lnTo>
                          <a:lnTo>
                            <a:pt x="3653" y="1927"/>
                          </a:lnTo>
                          <a:lnTo>
                            <a:pt x="3608" y="1904"/>
                          </a:lnTo>
                          <a:lnTo>
                            <a:pt x="3556" y="1874"/>
                          </a:lnTo>
                          <a:lnTo>
                            <a:pt x="3495" y="1837"/>
                          </a:lnTo>
                          <a:lnTo>
                            <a:pt x="3432" y="1793"/>
                          </a:lnTo>
                          <a:lnTo>
                            <a:pt x="3363" y="1743"/>
                          </a:lnTo>
                          <a:lnTo>
                            <a:pt x="3295" y="1685"/>
                          </a:lnTo>
                          <a:lnTo>
                            <a:pt x="3229" y="1621"/>
                          </a:lnTo>
                          <a:lnTo>
                            <a:pt x="3166" y="1549"/>
                          </a:lnTo>
                          <a:lnTo>
                            <a:pt x="3107" y="1468"/>
                          </a:lnTo>
                          <a:lnTo>
                            <a:pt x="3053" y="1383"/>
                          </a:lnTo>
                          <a:lnTo>
                            <a:pt x="3008" y="1289"/>
                          </a:lnTo>
                          <a:lnTo>
                            <a:pt x="2975" y="1185"/>
                          </a:lnTo>
                          <a:lnTo>
                            <a:pt x="2954" y="1077"/>
                          </a:lnTo>
                          <a:lnTo>
                            <a:pt x="2959" y="1077"/>
                          </a:lnTo>
                          <a:lnTo>
                            <a:pt x="2952" y="998"/>
                          </a:lnTo>
                          <a:lnTo>
                            <a:pt x="2954" y="917"/>
                          </a:lnTo>
                          <a:lnTo>
                            <a:pt x="2961" y="830"/>
                          </a:lnTo>
                          <a:lnTo>
                            <a:pt x="2978" y="740"/>
                          </a:lnTo>
                          <a:lnTo>
                            <a:pt x="2975" y="747"/>
                          </a:lnTo>
                          <a:lnTo>
                            <a:pt x="2966" y="765"/>
                          </a:lnTo>
                          <a:lnTo>
                            <a:pt x="2954" y="795"/>
                          </a:lnTo>
                          <a:lnTo>
                            <a:pt x="2940" y="834"/>
                          </a:lnTo>
                          <a:lnTo>
                            <a:pt x="2926" y="883"/>
                          </a:lnTo>
                          <a:lnTo>
                            <a:pt x="2914" y="941"/>
                          </a:lnTo>
                          <a:lnTo>
                            <a:pt x="2907" y="1005"/>
                          </a:lnTo>
                          <a:lnTo>
                            <a:pt x="2905" y="1077"/>
                          </a:lnTo>
                          <a:lnTo>
                            <a:pt x="2905" y="1077"/>
                          </a:lnTo>
                          <a:lnTo>
                            <a:pt x="2907" y="1134"/>
                          </a:lnTo>
                          <a:lnTo>
                            <a:pt x="2917" y="1194"/>
                          </a:lnTo>
                          <a:lnTo>
                            <a:pt x="2931" y="1256"/>
                          </a:lnTo>
                          <a:lnTo>
                            <a:pt x="2949" y="1323"/>
                          </a:lnTo>
                          <a:lnTo>
                            <a:pt x="2978" y="1390"/>
                          </a:lnTo>
                          <a:lnTo>
                            <a:pt x="3013" y="1459"/>
                          </a:lnTo>
                          <a:lnTo>
                            <a:pt x="3058" y="1528"/>
                          </a:lnTo>
                          <a:lnTo>
                            <a:pt x="3112" y="1600"/>
                          </a:lnTo>
                          <a:lnTo>
                            <a:pt x="3109" y="1600"/>
                          </a:lnTo>
                          <a:lnTo>
                            <a:pt x="3105" y="1602"/>
                          </a:lnTo>
                          <a:lnTo>
                            <a:pt x="3093" y="1604"/>
                          </a:lnTo>
                          <a:lnTo>
                            <a:pt x="3079" y="1609"/>
                          </a:lnTo>
                          <a:lnTo>
                            <a:pt x="3062" y="1614"/>
                          </a:lnTo>
                          <a:lnTo>
                            <a:pt x="3041" y="1618"/>
                          </a:lnTo>
                          <a:lnTo>
                            <a:pt x="3015" y="1623"/>
                          </a:lnTo>
                          <a:lnTo>
                            <a:pt x="2987" y="1630"/>
                          </a:lnTo>
                          <a:lnTo>
                            <a:pt x="2956" y="1637"/>
                          </a:lnTo>
                          <a:lnTo>
                            <a:pt x="2921" y="1644"/>
                          </a:lnTo>
                          <a:lnTo>
                            <a:pt x="2884" y="1651"/>
                          </a:lnTo>
                          <a:lnTo>
                            <a:pt x="2841" y="1657"/>
                          </a:lnTo>
                          <a:lnTo>
                            <a:pt x="2799" y="1664"/>
                          </a:lnTo>
                          <a:lnTo>
                            <a:pt x="2752" y="1674"/>
                          </a:lnTo>
                          <a:lnTo>
                            <a:pt x="2702" y="1681"/>
                          </a:lnTo>
                          <a:lnTo>
                            <a:pt x="2651" y="1685"/>
                          </a:lnTo>
                          <a:lnTo>
                            <a:pt x="2597" y="1692"/>
                          </a:lnTo>
                          <a:lnTo>
                            <a:pt x="2540" y="1699"/>
                          </a:lnTo>
                          <a:lnTo>
                            <a:pt x="2479" y="1704"/>
                          </a:lnTo>
                          <a:lnTo>
                            <a:pt x="2418" y="1708"/>
                          </a:lnTo>
                          <a:lnTo>
                            <a:pt x="2357" y="1713"/>
                          </a:lnTo>
                          <a:lnTo>
                            <a:pt x="2291" y="1715"/>
                          </a:lnTo>
                          <a:lnTo>
                            <a:pt x="2223" y="1717"/>
                          </a:lnTo>
                          <a:lnTo>
                            <a:pt x="2155" y="1717"/>
                          </a:lnTo>
                          <a:lnTo>
                            <a:pt x="2084" y="1717"/>
                          </a:lnTo>
                          <a:lnTo>
                            <a:pt x="2013" y="1717"/>
                          </a:lnTo>
                          <a:lnTo>
                            <a:pt x="1941" y="1715"/>
                          </a:lnTo>
                          <a:lnTo>
                            <a:pt x="1865" y="1710"/>
                          </a:lnTo>
                          <a:lnTo>
                            <a:pt x="1790" y="1704"/>
                          </a:lnTo>
                          <a:lnTo>
                            <a:pt x="1712" y="1697"/>
                          </a:lnTo>
                          <a:lnTo>
                            <a:pt x="1635" y="1687"/>
                          </a:lnTo>
                          <a:lnTo>
                            <a:pt x="1557" y="1676"/>
                          </a:lnTo>
                          <a:lnTo>
                            <a:pt x="1560" y="1685"/>
                          </a:lnTo>
                          <a:lnTo>
                            <a:pt x="1567" y="1713"/>
                          </a:lnTo>
                          <a:lnTo>
                            <a:pt x="1569" y="1754"/>
                          </a:lnTo>
                          <a:lnTo>
                            <a:pt x="1567" y="1805"/>
                          </a:lnTo>
                          <a:lnTo>
                            <a:pt x="1555" y="1865"/>
                          </a:lnTo>
                          <a:lnTo>
                            <a:pt x="1527" y="1929"/>
                          </a:lnTo>
                          <a:lnTo>
                            <a:pt x="1480" y="1994"/>
                          </a:lnTo>
                          <a:lnTo>
                            <a:pt x="1407" y="2059"/>
                          </a:lnTo>
                          <a:lnTo>
                            <a:pt x="1404" y="2065"/>
                          </a:lnTo>
                          <a:lnTo>
                            <a:pt x="1397" y="2089"/>
                          </a:lnTo>
                          <a:lnTo>
                            <a:pt x="1383" y="2121"/>
                          </a:lnTo>
                          <a:lnTo>
                            <a:pt x="1362" y="2160"/>
                          </a:lnTo>
                          <a:lnTo>
                            <a:pt x="1136" y="2160"/>
                          </a:lnTo>
                          <a:lnTo>
                            <a:pt x="1136" y="2155"/>
                          </a:lnTo>
                          <a:lnTo>
                            <a:pt x="1136" y="2139"/>
                          </a:lnTo>
                          <a:lnTo>
                            <a:pt x="1139" y="2116"/>
                          </a:lnTo>
                          <a:lnTo>
                            <a:pt x="1146" y="2086"/>
                          </a:lnTo>
                          <a:lnTo>
                            <a:pt x="1160" y="2049"/>
                          </a:lnTo>
                          <a:lnTo>
                            <a:pt x="1183" y="2010"/>
                          </a:lnTo>
                          <a:lnTo>
                            <a:pt x="1219" y="1966"/>
                          </a:lnTo>
                          <a:lnTo>
                            <a:pt x="1268" y="1923"/>
                          </a:lnTo>
                          <a:lnTo>
                            <a:pt x="1266" y="1913"/>
                          </a:lnTo>
                          <a:lnTo>
                            <a:pt x="1256" y="1874"/>
                          </a:lnTo>
                          <a:lnTo>
                            <a:pt x="1247" y="1791"/>
                          </a:lnTo>
                          <a:lnTo>
                            <a:pt x="1240" y="1646"/>
                          </a:lnTo>
                          <a:lnTo>
                            <a:pt x="1235" y="1639"/>
                          </a:lnTo>
                          <a:lnTo>
                            <a:pt x="1226" y="1630"/>
                          </a:lnTo>
                          <a:lnTo>
                            <a:pt x="1209" y="1618"/>
                          </a:lnTo>
                          <a:lnTo>
                            <a:pt x="1188" y="1602"/>
                          </a:lnTo>
                          <a:lnTo>
                            <a:pt x="1162" y="1586"/>
                          </a:lnTo>
                          <a:lnTo>
                            <a:pt x="1131" y="1565"/>
                          </a:lnTo>
                          <a:lnTo>
                            <a:pt x="1099" y="1542"/>
                          </a:lnTo>
                          <a:lnTo>
                            <a:pt x="1066" y="1515"/>
                          </a:lnTo>
                          <a:lnTo>
                            <a:pt x="1030" y="1487"/>
                          </a:lnTo>
                          <a:lnTo>
                            <a:pt x="997" y="1457"/>
                          </a:lnTo>
                          <a:lnTo>
                            <a:pt x="962" y="1422"/>
                          </a:lnTo>
                          <a:lnTo>
                            <a:pt x="932" y="1388"/>
                          </a:lnTo>
                          <a:lnTo>
                            <a:pt x="901" y="1351"/>
                          </a:lnTo>
                          <a:lnTo>
                            <a:pt x="875" y="1309"/>
                          </a:lnTo>
                          <a:lnTo>
                            <a:pt x="854" y="1268"/>
                          </a:lnTo>
                          <a:lnTo>
                            <a:pt x="838" y="1224"/>
                          </a:lnTo>
                          <a:lnTo>
                            <a:pt x="833" y="1224"/>
                          </a:lnTo>
                          <a:lnTo>
                            <a:pt x="821" y="1222"/>
                          </a:lnTo>
                          <a:lnTo>
                            <a:pt x="800" y="1217"/>
                          </a:lnTo>
                          <a:lnTo>
                            <a:pt x="776" y="1208"/>
                          </a:lnTo>
                          <a:lnTo>
                            <a:pt x="748" y="1194"/>
                          </a:lnTo>
                          <a:lnTo>
                            <a:pt x="715" y="1171"/>
                          </a:lnTo>
                          <a:lnTo>
                            <a:pt x="682" y="1139"/>
                          </a:lnTo>
                          <a:lnTo>
                            <a:pt x="649" y="1097"/>
                          </a:lnTo>
                          <a:lnTo>
                            <a:pt x="642" y="1097"/>
                          </a:lnTo>
                          <a:lnTo>
                            <a:pt x="626" y="1100"/>
                          </a:lnTo>
                          <a:lnTo>
                            <a:pt x="600" y="1100"/>
                          </a:lnTo>
                          <a:lnTo>
                            <a:pt x="565" y="1100"/>
                          </a:lnTo>
                          <a:lnTo>
                            <a:pt x="522" y="1100"/>
                          </a:lnTo>
                          <a:lnTo>
                            <a:pt x="478" y="1095"/>
                          </a:lnTo>
                          <a:lnTo>
                            <a:pt x="428" y="1088"/>
                          </a:lnTo>
                          <a:lnTo>
                            <a:pt x="379" y="1077"/>
                          </a:lnTo>
                          <a:lnTo>
                            <a:pt x="379" y="1077"/>
                          </a:lnTo>
                          <a:lnTo>
                            <a:pt x="341" y="1065"/>
                          </a:lnTo>
                          <a:lnTo>
                            <a:pt x="304" y="1051"/>
                          </a:lnTo>
                          <a:lnTo>
                            <a:pt x="268" y="1033"/>
                          </a:lnTo>
                          <a:lnTo>
                            <a:pt x="235" y="1012"/>
                          </a:lnTo>
                          <a:lnTo>
                            <a:pt x="207" y="984"/>
                          </a:lnTo>
                          <a:lnTo>
                            <a:pt x="181" y="952"/>
                          </a:lnTo>
                          <a:lnTo>
                            <a:pt x="160" y="915"/>
                          </a:lnTo>
                          <a:lnTo>
                            <a:pt x="146" y="871"/>
                          </a:lnTo>
                          <a:lnTo>
                            <a:pt x="139" y="876"/>
                          </a:lnTo>
                          <a:lnTo>
                            <a:pt x="118" y="883"/>
                          </a:lnTo>
                          <a:lnTo>
                            <a:pt x="92" y="883"/>
                          </a:lnTo>
                          <a:lnTo>
                            <a:pt x="61" y="869"/>
                          </a:lnTo>
                          <a:lnTo>
                            <a:pt x="33" y="834"/>
                          </a:lnTo>
                          <a:lnTo>
                            <a:pt x="10" y="768"/>
                          </a:lnTo>
                          <a:lnTo>
                            <a:pt x="0" y="662"/>
                          </a:lnTo>
                          <a:lnTo>
                            <a:pt x="5" y="509"/>
                          </a:lnTo>
                          <a:lnTo>
                            <a:pt x="7" y="512"/>
                          </a:lnTo>
                          <a:lnTo>
                            <a:pt x="14" y="521"/>
                          </a:lnTo>
                          <a:lnTo>
                            <a:pt x="28" y="533"/>
                          </a:lnTo>
                          <a:lnTo>
                            <a:pt x="47" y="544"/>
                          </a:lnTo>
                          <a:lnTo>
                            <a:pt x="68" y="558"/>
                          </a:lnTo>
                          <a:lnTo>
                            <a:pt x="97" y="565"/>
                          </a:lnTo>
                          <a:lnTo>
                            <a:pt x="127" y="569"/>
                          </a:lnTo>
                          <a:lnTo>
                            <a:pt x="165" y="567"/>
                          </a:lnTo>
                          <a:lnTo>
                            <a:pt x="205" y="558"/>
                          </a:lnTo>
                          <a:lnTo>
                            <a:pt x="252" y="542"/>
                          </a:lnTo>
                          <a:lnTo>
                            <a:pt x="299" y="521"/>
                          </a:lnTo>
                          <a:lnTo>
                            <a:pt x="348" y="493"/>
                          </a:lnTo>
                          <a:lnTo>
                            <a:pt x="395" y="461"/>
                          </a:lnTo>
                          <a:lnTo>
                            <a:pt x="442" y="422"/>
                          </a:lnTo>
                          <a:lnTo>
                            <a:pt x="489" y="373"/>
                          </a:lnTo>
                          <a:lnTo>
                            <a:pt x="529" y="320"/>
                          </a:lnTo>
                          <a:lnTo>
                            <a:pt x="522" y="316"/>
                          </a:lnTo>
                          <a:lnTo>
                            <a:pt x="501" y="300"/>
                          </a:lnTo>
                          <a:lnTo>
                            <a:pt x="471" y="272"/>
                          </a:lnTo>
                          <a:lnTo>
                            <a:pt x="440" y="235"/>
                          </a:lnTo>
                          <a:lnTo>
                            <a:pt x="407" y="189"/>
                          </a:lnTo>
                          <a:lnTo>
                            <a:pt x="384" y="134"/>
                          </a:lnTo>
                          <a:lnTo>
                            <a:pt x="370" y="71"/>
                          </a:lnTo>
                          <a:lnTo>
                            <a:pt x="372" y="0"/>
                          </a:lnTo>
                          <a:lnTo>
                            <a:pt x="379" y="7"/>
                          </a:lnTo>
                          <a:lnTo>
                            <a:pt x="398" y="28"/>
                          </a:lnTo>
                          <a:lnTo>
                            <a:pt x="428" y="53"/>
                          </a:lnTo>
                          <a:lnTo>
                            <a:pt x="466" y="83"/>
                          </a:lnTo>
                          <a:lnTo>
                            <a:pt x="508" y="113"/>
                          </a:lnTo>
                          <a:lnTo>
                            <a:pt x="553" y="138"/>
                          </a:lnTo>
                          <a:lnTo>
                            <a:pt x="598" y="152"/>
                          </a:lnTo>
                          <a:lnTo>
                            <a:pt x="642" y="154"/>
                          </a:lnTo>
                          <a:lnTo>
                            <a:pt x="682" y="154"/>
                          </a:lnTo>
                          <a:lnTo>
                            <a:pt x="715" y="164"/>
                          </a:lnTo>
                          <a:lnTo>
                            <a:pt x="746" y="182"/>
                          </a:lnTo>
                          <a:lnTo>
                            <a:pt x="772" y="207"/>
                          </a:lnTo>
                          <a:lnTo>
                            <a:pt x="790" y="231"/>
                          </a:lnTo>
                          <a:lnTo>
                            <a:pt x="805" y="254"/>
                          </a:lnTo>
                          <a:lnTo>
                            <a:pt x="814" y="267"/>
                          </a:lnTo>
                          <a:lnTo>
                            <a:pt x="816" y="274"/>
                          </a:lnTo>
                          <a:lnTo>
                            <a:pt x="838" y="263"/>
                          </a:lnTo>
                          <a:lnTo>
                            <a:pt x="861" y="251"/>
                          </a:lnTo>
                          <a:lnTo>
                            <a:pt x="885" y="237"/>
                          </a:lnTo>
                          <a:lnTo>
                            <a:pt x="913" y="221"/>
                          </a:lnTo>
                          <a:lnTo>
                            <a:pt x="946" y="205"/>
                          </a:lnTo>
                          <a:lnTo>
                            <a:pt x="981" y="191"/>
                          </a:lnTo>
                          <a:lnTo>
                            <a:pt x="1021" y="178"/>
                          </a:lnTo>
                          <a:lnTo>
                            <a:pt x="1068" y="168"/>
                          </a:lnTo>
                          <a:lnTo>
                            <a:pt x="1122" y="161"/>
                          </a:lnTo>
                          <a:lnTo>
                            <a:pt x="1183" y="157"/>
                          </a:lnTo>
                          <a:lnTo>
                            <a:pt x="1254" y="159"/>
                          </a:lnTo>
                          <a:lnTo>
                            <a:pt x="1331" y="166"/>
                          </a:lnTo>
                          <a:lnTo>
                            <a:pt x="1421" y="180"/>
                          </a:lnTo>
                          <a:lnTo>
                            <a:pt x="1520" y="198"/>
                          </a:lnTo>
                          <a:lnTo>
                            <a:pt x="1632" y="228"/>
                          </a:lnTo>
                          <a:lnTo>
                            <a:pt x="1755" y="265"/>
                          </a:lnTo>
                          <a:lnTo>
                            <a:pt x="1818" y="284"/>
                          </a:lnTo>
                          <a:lnTo>
                            <a:pt x="1879" y="300"/>
                          </a:lnTo>
                          <a:lnTo>
                            <a:pt x="1941" y="311"/>
                          </a:lnTo>
                          <a:lnTo>
                            <a:pt x="1999" y="318"/>
                          </a:lnTo>
                          <a:lnTo>
                            <a:pt x="2056" y="323"/>
                          </a:lnTo>
                          <a:lnTo>
                            <a:pt x="2112" y="325"/>
                          </a:lnTo>
                          <a:lnTo>
                            <a:pt x="2166" y="325"/>
                          </a:lnTo>
                          <a:lnTo>
                            <a:pt x="2220" y="323"/>
                          </a:lnTo>
                          <a:lnTo>
                            <a:pt x="2270" y="318"/>
                          </a:lnTo>
                          <a:lnTo>
                            <a:pt x="2322" y="311"/>
                          </a:lnTo>
                          <a:lnTo>
                            <a:pt x="2371" y="302"/>
                          </a:lnTo>
                          <a:lnTo>
                            <a:pt x="2420" y="293"/>
                          </a:lnTo>
                          <a:lnTo>
                            <a:pt x="2467" y="281"/>
                          </a:lnTo>
                          <a:lnTo>
                            <a:pt x="2514" y="267"/>
                          </a:lnTo>
                          <a:lnTo>
                            <a:pt x="2559" y="254"/>
                          </a:lnTo>
                          <a:lnTo>
                            <a:pt x="2604" y="240"/>
                          </a:lnTo>
                          <a:lnTo>
                            <a:pt x="2648" y="224"/>
                          </a:lnTo>
                          <a:lnTo>
                            <a:pt x="2693" y="207"/>
                          </a:lnTo>
                          <a:lnTo>
                            <a:pt x="2735" y="194"/>
                          </a:lnTo>
                          <a:lnTo>
                            <a:pt x="2780" y="178"/>
                          </a:lnTo>
                          <a:lnTo>
                            <a:pt x="2822" y="161"/>
                          </a:lnTo>
                          <a:lnTo>
                            <a:pt x="2865" y="148"/>
                          </a:lnTo>
                          <a:lnTo>
                            <a:pt x="2907" y="134"/>
                          </a:lnTo>
                          <a:lnTo>
                            <a:pt x="2947" y="120"/>
                          </a:lnTo>
                          <a:lnTo>
                            <a:pt x="2989" y="108"/>
                          </a:lnTo>
                          <a:lnTo>
                            <a:pt x="3032" y="97"/>
                          </a:lnTo>
                          <a:lnTo>
                            <a:pt x="3074" y="88"/>
                          </a:lnTo>
                          <a:lnTo>
                            <a:pt x="3116" y="81"/>
                          </a:lnTo>
                          <a:lnTo>
                            <a:pt x="3159" y="74"/>
                          </a:lnTo>
                          <a:lnTo>
                            <a:pt x="3201" y="71"/>
                          </a:lnTo>
                          <a:lnTo>
                            <a:pt x="3243" y="69"/>
                          </a:lnTo>
                          <a:lnTo>
                            <a:pt x="3288" y="71"/>
                          </a:lnTo>
                          <a:lnTo>
                            <a:pt x="3375" y="78"/>
                          </a:lnTo>
                          <a:lnTo>
                            <a:pt x="3455" y="88"/>
                          </a:lnTo>
                          <a:lnTo>
                            <a:pt x="3535" y="101"/>
                          </a:lnTo>
                          <a:lnTo>
                            <a:pt x="3608" y="120"/>
                          </a:lnTo>
                          <a:lnTo>
                            <a:pt x="3681" y="141"/>
                          </a:lnTo>
                          <a:lnTo>
                            <a:pt x="3747" y="166"/>
                          </a:lnTo>
                          <a:lnTo>
                            <a:pt x="3810" y="196"/>
                          </a:lnTo>
                          <a:lnTo>
                            <a:pt x="3869" y="231"/>
                          </a:lnTo>
                          <a:lnTo>
                            <a:pt x="3923" y="270"/>
                          </a:lnTo>
                          <a:lnTo>
                            <a:pt x="3972" y="316"/>
                          </a:lnTo>
                          <a:lnTo>
                            <a:pt x="4019" y="364"/>
                          </a:lnTo>
                          <a:lnTo>
                            <a:pt x="4062" y="420"/>
                          </a:lnTo>
                          <a:lnTo>
                            <a:pt x="4099" y="479"/>
                          </a:lnTo>
                          <a:lnTo>
                            <a:pt x="4132" y="544"/>
                          </a:lnTo>
                          <a:lnTo>
                            <a:pt x="4161" y="615"/>
                          </a:lnTo>
                          <a:lnTo>
                            <a:pt x="4186" y="694"/>
                          </a:lnTo>
                          <a:lnTo>
                            <a:pt x="4194" y="692"/>
                          </a:lnTo>
                          <a:lnTo>
                            <a:pt x="4208" y="687"/>
                          </a:lnTo>
                          <a:lnTo>
                            <a:pt x="4234" y="678"/>
                          </a:lnTo>
                          <a:lnTo>
                            <a:pt x="4264" y="666"/>
                          </a:lnTo>
                          <a:lnTo>
                            <a:pt x="4299" y="650"/>
                          </a:lnTo>
                          <a:lnTo>
                            <a:pt x="4335" y="629"/>
                          </a:lnTo>
                          <a:lnTo>
                            <a:pt x="4372" y="604"/>
                          </a:lnTo>
                          <a:lnTo>
                            <a:pt x="4405" y="576"/>
                          </a:lnTo>
                          <a:lnTo>
                            <a:pt x="4440" y="551"/>
                          </a:lnTo>
                          <a:lnTo>
                            <a:pt x="4483" y="539"/>
                          </a:lnTo>
                          <a:lnTo>
                            <a:pt x="4527" y="539"/>
                          </a:lnTo>
                          <a:lnTo>
                            <a:pt x="4572" y="549"/>
                          </a:lnTo>
                          <a:lnTo>
                            <a:pt x="4612" y="569"/>
                          </a:lnTo>
                          <a:lnTo>
                            <a:pt x="4645" y="602"/>
                          </a:lnTo>
                          <a:lnTo>
                            <a:pt x="4669" y="641"/>
                          </a:lnTo>
                          <a:lnTo>
                            <a:pt x="4676" y="687"/>
                          </a:lnTo>
                          <a:lnTo>
                            <a:pt x="4666" y="742"/>
                          </a:lnTo>
                          <a:lnTo>
                            <a:pt x="4645" y="784"/>
                          </a:lnTo>
                          <a:lnTo>
                            <a:pt x="4617" y="811"/>
                          </a:lnTo>
                          <a:lnTo>
                            <a:pt x="4586" y="839"/>
                          </a:lnTo>
                          <a:lnTo>
                            <a:pt x="4556" y="869"/>
                          </a:lnTo>
                          <a:lnTo>
                            <a:pt x="4530" y="908"/>
                          </a:lnTo>
                          <a:lnTo>
                            <a:pt x="4513" y="964"/>
                          </a:lnTo>
                          <a:lnTo>
                            <a:pt x="4509" y="1044"/>
                          </a:lnTo>
                          <a:lnTo>
                            <a:pt x="4546" y="1070"/>
                          </a:lnTo>
                          <a:lnTo>
                            <a:pt x="4558" y="1116"/>
                          </a:lnTo>
                          <a:lnTo>
                            <a:pt x="4551" y="1176"/>
                          </a:lnTo>
                          <a:lnTo>
                            <a:pt x="4530" y="1243"/>
                          </a:lnTo>
                          <a:lnTo>
                            <a:pt x="4502" y="1312"/>
                          </a:lnTo>
                          <a:lnTo>
                            <a:pt x="4469" y="1372"/>
                          </a:lnTo>
                          <a:lnTo>
                            <a:pt x="4440" y="1418"/>
                          </a:lnTo>
                          <a:lnTo>
                            <a:pt x="4422" y="1443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7d7d7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3" name=""/>
                    <p:cNvSpPr/>
                    <p:nvPr/>
                  </p:nvSpPr>
                  <p:spPr>
                    <a:xfrm flipH="1">
                      <a:off x="1847160" y="3791880"/>
                      <a:ext cx="134640" cy="15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1" h="449">
                          <a:moveTo>
                            <a:pt x="5" y="53"/>
                          </a:moveTo>
                          <a:lnTo>
                            <a:pt x="35" y="48"/>
                          </a:lnTo>
                          <a:lnTo>
                            <a:pt x="64" y="44"/>
                          </a:lnTo>
                          <a:lnTo>
                            <a:pt x="92" y="39"/>
                          </a:lnTo>
                          <a:lnTo>
                            <a:pt x="122" y="34"/>
                          </a:lnTo>
                          <a:lnTo>
                            <a:pt x="151" y="28"/>
                          </a:lnTo>
                          <a:lnTo>
                            <a:pt x="181" y="21"/>
                          </a:lnTo>
                          <a:lnTo>
                            <a:pt x="212" y="11"/>
                          </a:lnTo>
                          <a:lnTo>
                            <a:pt x="245" y="0"/>
                          </a:lnTo>
                          <a:lnTo>
                            <a:pt x="254" y="7"/>
                          </a:lnTo>
                          <a:lnTo>
                            <a:pt x="280" y="23"/>
                          </a:lnTo>
                          <a:lnTo>
                            <a:pt x="315" y="48"/>
                          </a:lnTo>
                          <a:lnTo>
                            <a:pt x="355" y="81"/>
                          </a:lnTo>
                          <a:lnTo>
                            <a:pt x="388" y="117"/>
                          </a:lnTo>
                          <a:lnTo>
                            <a:pt x="414" y="159"/>
                          </a:lnTo>
                          <a:lnTo>
                            <a:pt x="421" y="203"/>
                          </a:lnTo>
                          <a:lnTo>
                            <a:pt x="405" y="247"/>
                          </a:lnTo>
                          <a:lnTo>
                            <a:pt x="372" y="295"/>
                          </a:lnTo>
                          <a:lnTo>
                            <a:pt x="343" y="332"/>
                          </a:lnTo>
                          <a:lnTo>
                            <a:pt x="322" y="357"/>
                          </a:lnTo>
                          <a:lnTo>
                            <a:pt x="303" y="378"/>
                          </a:lnTo>
                          <a:lnTo>
                            <a:pt x="289" y="394"/>
                          </a:lnTo>
                          <a:lnTo>
                            <a:pt x="278" y="410"/>
                          </a:lnTo>
                          <a:lnTo>
                            <a:pt x="268" y="429"/>
                          </a:lnTo>
                          <a:lnTo>
                            <a:pt x="259" y="449"/>
                          </a:lnTo>
                          <a:lnTo>
                            <a:pt x="5" y="449"/>
                          </a:lnTo>
                          <a:lnTo>
                            <a:pt x="2" y="445"/>
                          </a:lnTo>
                          <a:lnTo>
                            <a:pt x="0" y="433"/>
                          </a:lnTo>
                          <a:lnTo>
                            <a:pt x="0" y="415"/>
                          </a:lnTo>
                          <a:lnTo>
                            <a:pt x="7" y="387"/>
                          </a:lnTo>
                          <a:lnTo>
                            <a:pt x="21" y="353"/>
                          </a:lnTo>
                          <a:lnTo>
                            <a:pt x="49" y="313"/>
                          </a:lnTo>
                          <a:lnTo>
                            <a:pt x="92" y="265"/>
                          </a:lnTo>
                          <a:lnTo>
                            <a:pt x="155" y="210"/>
                          </a:lnTo>
                          <a:lnTo>
                            <a:pt x="5" y="53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7d7d7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4" name=""/>
                    <p:cNvSpPr/>
                    <p:nvPr/>
                  </p:nvSpPr>
                  <p:spPr>
                    <a:xfrm flipH="1">
                      <a:off x="2716920" y="3386520"/>
                      <a:ext cx="43920" cy="4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8" h="134">
                          <a:moveTo>
                            <a:pt x="65" y="134"/>
                          </a:moveTo>
                          <a:lnTo>
                            <a:pt x="80" y="131"/>
                          </a:lnTo>
                          <a:lnTo>
                            <a:pt x="94" y="129"/>
                          </a:lnTo>
                          <a:lnTo>
                            <a:pt x="105" y="122"/>
                          </a:lnTo>
                          <a:lnTo>
                            <a:pt x="117" y="113"/>
                          </a:lnTo>
                          <a:lnTo>
                            <a:pt x="127" y="104"/>
                          </a:lnTo>
                          <a:lnTo>
                            <a:pt x="134" y="92"/>
                          </a:lnTo>
                          <a:lnTo>
                            <a:pt x="136" y="78"/>
                          </a:lnTo>
                          <a:lnTo>
                            <a:pt x="138" y="65"/>
                          </a:lnTo>
                          <a:lnTo>
                            <a:pt x="136" y="51"/>
                          </a:lnTo>
                          <a:lnTo>
                            <a:pt x="134" y="39"/>
                          </a:lnTo>
                          <a:lnTo>
                            <a:pt x="127" y="30"/>
                          </a:lnTo>
                          <a:lnTo>
                            <a:pt x="117" y="18"/>
                          </a:lnTo>
                          <a:lnTo>
                            <a:pt x="105" y="12"/>
                          </a:lnTo>
                          <a:lnTo>
                            <a:pt x="94" y="5"/>
                          </a:lnTo>
                          <a:lnTo>
                            <a:pt x="80" y="2"/>
                          </a:lnTo>
                          <a:lnTo>
                            <a:pt x="65" y="0"/>
                          </a:lnTo>
                          <a:lnTo>
                            <a:pt x="40" y="5"/>
                          </a:lnTo>
                          <a:lnTo>
                            <a:pt x="18" y="18"/>
                          </a:lnTo>
                          <a:lnTo>
                            <a:pt x="4" y="39"/>
                          </a:lnTo>
                          <a:lnTo>
                            <a:pt x="0" y="65"/>
                          </a:lnTo>
                          <a:lnTo>
                            <a:pt x="4" y="92"/>
                          </a:lnTo>
                          <a:lnTo>
                            <a:pt x="18" y="113"/>
                          </a:lnTo>
                          <a:lnTo>
                            <a:pt x="40" y="129"/>
                          </a:lnTo>
                          <a:lnTo>
                            <a:pt x="65" y="13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0" bIns="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065" name=""/>
                <p:cNvGrpSpPr/>
                <p:nvPr/>
              </p:nvGrpSpPr>
              <p:grpSpPr>
                <a:xfrm>
                  <a:off x="891360" y="3001320"/>
                  <a:ext cx="1495440" cy="757800"/>
                  <a:chOff x="891360" y="3001320"/>
                  <a:chExt cx="1495440" cy="757800"/>
                </a:xfrm>
              </p:grpSpPr>
              <p:sp>
                <p:nvSpPr>
                  <p:cNvPr id="1066" name=""/>
                  <p:cNvSpPr/>
                  <p:nvPr/>
                </p:nvSpPr>
                <p:spPr>
                  <a:xfrm flipH="1">
                    <a:off x="1777680" y="3629160"/>
                    <a:ext cx="105120" cy="129960"/>
                  </a:xfrm>
                  <a:custGeom>
                    <a:avLst/>
                    <a:gdLst/>
                    <a:ahLst/>
                    <a:rect l="l" t="t" r="r" b="b"/>
                    <a:pathLst>
                      <a:path w="329" h="371">
                        <a:moveTo>
                          <a:pt x="37" y="0"/>
                        </a:moveTo>
                        <a:lnTo>
                          <a:pt x="70" y="3"/>
                        </a:lnTo>
                        <a:lnTo>
                          <a:pt x="103" y="7"/>
                        </a:lnTo>
                        <a:lnTo>
                          <a:pt x="136" y="9"/>
                        </a:lnTo>
                        <a:lnTo>
                          <a:pt x="169" y="12"/>
                        </a:lnTo>
                        <a:lnTo>
                          <a:pt x="202" y="14"/>
                        </a:lnTo>
                        <a:lnTo>
                          <a:pt x="235" y="14"/>
                        </a:lnTo>
                        <a:lnTo>
                          <a:pt x="265" y="12"/>
                        </a:lnTo>
                        <a:lnTo>
                          <a:pt x="298" y="7"/>
                        </a:lnTo>
                        <a:lnTo>
                          <a:pt x="301" y="14"/>
                        </a:lnTo>
                        <a:lnTo>
                          <a:pt x="310" y="30"/>
                        </a:lnTo>
                        <a:lnTo>
                          <a:pt x="319" y="56"/>
                        </a:lnTo>
                        <a:lnTo>
                          <a:pt x="327" y="88"/>
                        </a:lnTo>
                        <a:lnTo>
                          <a:pt x="329" y="125"/>
                        </a:lnTo>
                        <a:lnTo>
                          <a:pt x="322" y="166"/>
                        </a:lnTo>
                        <a:lnTo>
                          <a:pt x="301" y="210"/>
                        </a:lnTo>
                        <a:lnTo>
                          <a:pt x="265" y="251"/>
                        </a:lnTo>
                        <a:lnTo>
                          <a:pt x="261" y="263"/>
                        </a:lnTo>
                        <a:lnTo>
                          <a:pt x="251" y="291"/>
                        </a:lnTo>
                        <a:lnTo>
                          <a:pt x="232" y="330"/>
                        </a:lnTo>
                        <a:lnTo>
                          <a:pt x="209" y="371"/>
                        </a:lnTo>
                        <a:lnTo>
                          <a:pt x="0" y="371"/>
                        </a:lnTo>
                        <a:lnTo>
                          <a:pt x="0" y="364"/>
                        </a:lnTo>
                        <a:lnTo>
                          <a:pt x="2" y="348"/>
                        </a:lnTo>
                        <a:lnTo>
                          <a:pt x="4" y="323"/>
                        </a:lnTo>
                        <a:lnTo>
                          <a:pt x="11" y="291"/>
                        </a:lnTo>
                        <a:lnTo>
                          <a:pt x="23" y="256"/>
                        </a:lnTo>
                        <a:lnTo>
                          <a:pt x="40" y="219"/>
                        </a:lnTo>
                        <a:lnTo>
                          <a:pt x="63" y="182"/>
                        </a:lnTo>
                        <a:lnTo>
                          <a:pt x="94" y="150"/>
                        </a:lnTo>
                        <a:lnTo>
                          <a:pt x="3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7d7d7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67" name=""/>
                  <p:cNvGrpSpPr/>
                  <p:nvPr/>
                </p:nvGrpSpPr>
                <p:grpSpPr>
                  <a:xfrm>
                    <a:off x="891360" y="3001320"/>
                    <a:ext cx="1495440" cy="757800"/>
                    <a:chOff x="891360" y="3001320"/>
                    <a:chExt cx="1495440" cy="757800"/>
                  </a:xfrm>
                </p:grpSpPr>
                <p:sp>
                  <p:nvSpPr>
                    <p:cNvPr id="1068" name=""/>
                    <p:cNvSpPr/>
                    <p:nvPr/>
                  </p:nvSpPr>
                  <p:spPr>
                    <a:xfrm flipH="1">
                      <a:off x="891360" y="3001320"/>
                      <a:ext cx="1495440" cy="75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76" h="2160">
                          <a:moveTo>
                            <a:pt x="4422" y="1443"/>
                          </a:moveTo>
                          <a:lnTo>
                            <a:pt x="4417" y="1438"/>
                          </a:lnTo>
                          <a:lnTo>
                            <a:pt x="4405" y="1425"/>
                          </a:lnTo>
                          <a:lnTo>
                            <a:pt x="4391" y="1402"/>
                          </a:lnTo>
                          <a:lnTo>
                            <a:pt x="4377" y="1367"/>
                          </a:lnTo>
                          <a:lnTo>
                            <a:pt x="4370" y="1319"/>
                          </a:lnTo>
                          <a:lnTo>
                            <a:pt x="4370" y="1259"/>
                          </a:lnTo>
                          <a:lnTo>
                            <a:pt x="4386" y="1185"/>
                          </a:lnTo>
                          <a:lnTo>
                            <a:pt x="4422" y="1097"/>
                          </a:lnTo>
                          <a:lnTo>
                            <a:pt x="4419" y="1095"/>
                          </a:lnTo>
                          <a:lnTo>
                            <a:pt x="4417" y="1093"/>
                          </a:lnTo>
                          <a:lnTo>
                            <a:pt x="4412" y="1086"/>
                          </a:lnTo>
                          <a:lnTo>
                            <a:pt x="4408" y="1077"/>
                          </a:lnTo>
                          <a:lnTo>
                            <a:pt x="4408" y="1077"/>
                          </a:lnTo>
                          <a:lnTo>
                            <a:pt x="4398" y="1058"/>
                          </a:lnTo>
                          <a:lnTo>
                            <a:pt x="4389" y="1035"/>
                          </a:lnTo>
                          <a:lnTo>
                            <a:pt x="4382" y="1007"/>
                          </a:lnTo>
                          <a:lnTo>
                            <a:pt x="4379" y="975"/>
                          </a:lnTo>
                          <a:lnTo>
                            <a:pt x="4384" y="938"/>
                          </a:lnTo>
                          <a:lnTo>
                            <a:pt x="4400" y="901"/>
                          </a:lnTo>
                          <a:lnTo>
                            <a:pt x="4429" y="864"/>
                          </a:lnTo>
                          <a:lnTo>
                            <a:pt x="4471" y="825"/>
                          </a:lnTo>
                          <a:lnTo>
                            <a:pt x="4523" y="777"/>
                          </a:lnTo>
                          <a:lnTo>
                            <a:pt x="4551" y="731"/>
                          </a:lnTo>
                          <a:lnTo>
                            <a:pt x="4560" y="689"/>
                          </a:lnTo>
                          <a:lnTo>
                            <a:pt x="4551" y="659"/>
                          </a:lnTo>
                          <a:lnTo>
                            <a:pt x="4530" y="641"/>
                          </a:lnTo>
                          <a:lnTo>
                            <a:pt x="4497" y="639"/>
                          </a:lnTo>
                          <a:lnTo>
                            <a:pt x="4455" y="655"/>
                          </a:lnTo>
                          <a:lnTo>
                            <a:pt x="4405" y="694"/>
                          </a:lnTo>
                          <a:lnTo>
                            <a:pt x="4358" y="738"/>
                          </a:lnTo>
                          <a:lnTo>
                            <a:pt x="4323" y="768"/>
                          </a:lnTo>
                          <a:lnTo>
                            <a:pt x="4297" y="788"/>
                          </a:lnTo>
                          <a:lnTo>
                            <a:pt x="4276" y="798"/>
                          </a:lnTo>
                          <a:lnTo>
                            <a:pt x="4259" y="805"/>
                          </a:lnTo>
                          <a:lnTo>
                            <a:pt x="4241" y="809"/>
                          </a:lnTo>
                          <a:lnTo>
                            <a:pt x="4222" y="814"/>
                          </a:lnTo>
                          <a:lnTo>
                            <a:pt x="4198" y="825"/>
                          </a:lnTo>
                          <a:lnTo>
                            <a:pt x="4198" y="844"/>
                          </a:lnTo>
                          <a:lnTo>
                            <a:pt x="4196" y="897"/>
                          </a:lnTo>
                          <a:lnTo>
                            <a:pt x="4191" y="977"/>
                          </a:lnTo>
                          <a:lnTo>
                            <a:pt x="4177" y="1077"/>
                          </a:lnTo>
                          <a:lnTo>
                            <a:pt x="4177" y="1077"/>
                          </a:lnTo>
                          <a:lnTo>
                            <a:pt x="4163" y="1146"/>
                          </a:lnTo>
                          <a:lnTo>
                            <a:pt x="4146" y="1217"/>
                          </a:lnTo>
                          <a:lnTo>
                            <a:pt x="4125" y="1293"/>
                          </a:lnTo>
                          <a:lnTo>
                            <a:pt x="4097" y="1369"/>
                          </a:lnTo>
                          <a:lnTo>
                            <a:pt x="4062" y="1445"/>
                          </a:lnTo>
                          <a:lnTo>
                            <a:pt x="4022" y="1519"/>
                          </a:lnTo>
                          <a:lnTo>
                            <a:pt x="3972" y="1591"/>
                          </a:lnTo>
                          <a:lnTo>
                            <a:pt x="3914" y="1657"/>
                          </a:lnTo>
                          <a:lnTo>
                            <a:pt x="3914" y="1662"/>
                          </a:lnTo>
                          <a:lnTo>
                            <a:pt x="3916" y="1671"/>
                          </a:lnTo>
                          <a:lnTo>
                            <a:pt x="3923" y="1687"/>
                          </a:lnTo>
                          <a:lnTo>
                            <a:pt x="3940" y="1704"/>
                          </a:lnTo>
                          <a:lnTo>
                            <a:pt x="3963" y="1722"/>
                          </a:lnTo>
                          <a:lnTo>
                            <a:pt x="3998" y="1738"/>
                          </a:lnTo>
                          <a:lnTo>
                            <a:pt x="4048" y="1752"/>
                          </a:lnTo>
                          <a:lnTo>
                            <a:pt x="4114" y="1759"/>
                          </a:lnTo>
                          <a:lnTo>
                            <a:pt x="4109" y="1768"/>
                          </a:lnTo>
                          <a:lnTo>
                            <a:pt x="4095" y="1793"/>
                          </a:lnTo>
                          <a:lnTo>
                            <a:pt x="4071" y="1833"/>
                          </a:lnTo>
                          <a:lnTo>
                            <a:pt x="4041" y="1883"/>
                          </a:lnTo>
                          <a:lnTo>
                            <a:pt x="4001" y="1941"/>
                          </a:lnTo>
                          <a:lnTo>
                            <a:pt x="3956" y="2001"/>
                          </a:lnTo>
                          <a:lnTo>
                            <a:pt x="3902" y="2065"/>
                          </a:lnTo>
                          <a:lnTo>
                            <a:pt x="3841" y="2125"/>
                          </a:lnTo>
                          <a:lnTo>
                            <a:pt x="3596" y="2125"/>
                          </a:lnTo>
                          <a:lnTo>
                            <a:pt x="3601" y="2100"/>
                          </a:lnTo>
                          <a:lnTo>
                            <a:pt x="3608" y="2075"/>
                          </a:lnTo>
                          <a:lnTo>
                            <a:pt x="3620" y="2052"/>
                          </a:lnTo>
                          <a:lnTo>
                            <a:pt x="3634" y="2029"/>
                          </a:lnTo>
                          <a:lnTo>
                            <a:pt x="3650" y="2008"/>
                          </a:lnTo>
                          <a:lnTo>
                            <a:pt x="3669" y="1989"/>
                          </a:lnTo>
                          <a:lnTo>
                            <a:pt x="3690" y="1973"/>
                          </a:lnTo>
                          <a:lnTo>
                            <a:pt x="3716" y="1957"/>
                          </a:lnTo>
                          <a:lnTo>
                            <a:pt x="3709" y="1955"/>
                          </a:lnTo>
                          <a:lnTo>
                            <a:pt x="3686" y="1943"/>
                          </a:lnTo>
                          <a:lnTo>
                            <a:pt x="3653" y="1927"/>
                          </a:lnTo>
                          <a:lnTo>
                            <a:pt x="3608" y="1904"/>
                          </a:lnTo>
                          <a:lnTo>
                            <a:pt x="3556" y="1874"/>
                          </a:lnTo>
                          <a:lnTo>
                            <a:pt x="3495" y="1837"/>
                          </a:lnTo>
                          <a:lnTo>
                            <a:pt x="3432" y="1793"/>
                          </a:lnTo>
                          <a:lnTo>
                            <a:pt x="3363" y="1743"/>
                          </a:lnTo>
                          <a:lnTo>
                            <a:pt x="3295" y="1685"/>
                          </a:lnTo>
                          <a:lnTo>
                            <a:pt x="3229" y="1621"/>
                          </a:lnTo>
                          <a:lnTo>
                            <a:pt x="3166" y="1549"/>
                          </a:lnTo>
                          <a:lnTo>
                            <a:pt x="3107" y="1468"/>
                          </a:lnTo>
                          <a:lnTo>
                            <a:pt x="3053" y="1383"/>
                          </a:lnTo>
                          <a:lnTo>
                            <a:pt x="3008" y="1289"/>
                          </a:lnTo>
                          <a:lnTo>
                            <a:pt x="2975" y="1185"/>
                          </a:lnTo>
                          <a:lnTo>
                            <a:pt x="2954" y="1077"/>
                          </a:lnTo>
                          <a:lnTo>
                            <a:pt x="2959" y="1077"/>
                          </a:lnTo>
                          <a:lnTo>
                            <a:pt x="2952" y="998"/>
                          </a:lnTo>
                          <a:lnTo>
                            <a:pt x="2954" y="917"/>
                          </a:lnTo>
                          <a:lnTo>
                            <a:pt x="2961" y="830"/>
                          </a:lnTo>
                          <a:lnTo>
                            <a:pt x="2978" y="740"/>
                          </a:lnTo>
                          <a:lnTo>
                            <a:pt x="2975" y="747"/>
                          </a:lnTo>
                          <a:lnTo>
                            <a:pt x="2966" y="765"/>
                          </a:lnTo>
                          <a:lnTo>
                            <a:pt x="2954" y="795"/>
                          </a:lnTo>
                          <a:lnTo>
                            <a:pt x="2940" y="834"/>
                          </a:lnTo>
                          <a:lnTo>
                            <a:pt x="2926" y="883"/>
                          </a:lnTo>
                          <a:lnTo>
                            <a:pt x="2914" y="941"/>
                          </a:lnTo>
                          <a:lnTo>
                            <a:pt x="2907" y="1005"/>
                          </a:lnTo>
                          <a:lnTo>
                            <a:pt x="2905" y="1077"/>
                          </a:lnTo>
                          <a:lnTo>
                            <a:pt x="2905" y="1077"/>
                          </a:lnTo>
                          <a:lnTo>
                            <a:pt x="2907" y="1134"/>
                          </a:lnTo>
                          <a:lnTo>
                            <a:pt x="2917" y="1194"/>
                          </a:lnTo>
                          <a:lnTo>
                            <a:pt x="2931" y="1256"/>
                          </a:lnTo>
                          <a:lnTo>
                            <a:pt x="2949" y="1323"/>
                          </a:lnTo>
                          <a:lnTo>
                            <a:pt x="2978" y="1390"/>
                          </a:lnTo>
                          <a:lnTo>
                            <a:pt x="3013" y="1459"/>
                          </a:lnTo>
                          <a:lnTo>
                            <a:pt x="3058" y="1528"/>
                          </a:lnTo>
                          <a:lnTo>
                            <a:pt x="3112" y="1600"/>
                          </a:lnTo>
                          <a:lnTo>
                            <a:pt x="3109" y="1600"/>
                          </a:lnTo>
                          <a:lnTo>
                            <a:pt x="3105" y="1602"/>
                          </a:lnTo>
                          <a:lnTo>
                            <a:pt x="3093" y="1604"/>
                          </a:lnTo>
                          <a:lnTo>
                            <a:pt x="3079" y="1609"/>
                          </a:lnTo>
                          <a:lnTo>
                            <a:pt x="3062" y="1614"/>
                          </a:lnTo>
                          <a:lnTo>
                            <a:pt x="3041" y="1618"/>
                          </a:lnTo>
                          <a:lnTo>
                            <a:pt x="3015" y="1623"/>
                          </a:lnTo>
                          <a:lnTo>
                            <a:pt x="2987" y="1630"/>
                          </a:lnTo>
                          <a:lnTo>
                            <a:pt x="2956" y="1637"/>
                          </a:lnTo>
                          <a:lnTo>
                            <a:pt x="2921" y="1644"/>
                          </a:lnTo>
                          <a:lnTo>
                            <a:pt x="2884" y="1651"/>
                          </a:lnTo>
                          <a:lnTo>
                            <a:pt x="2841" y="1657"/>
                          </a:lnTo>
                          <a:lnTo>
                            <a:pt x="2799" y="1664"/>
                          </a:lnTo>
                          <a:lnTo>
                            <a:pt x="2752" y="1674"/>
                          </a:lnTo>
                          <a:lnTo>
                            <a:pt x="2702" y="1681"/>
                          </a:lnTo>
                          <a:lnTo>
                            <a:pt x="2651" y="1685"/>
                          </a:lnTo>
                          <a:lnTo>
                            <a:pt x="2597" y="1692"/>
                          </a:lnTo>
                          <a:lnTo>
                            <a:pt x="2540" y="1699"/>
                          </a:lnTo>
                          <a:lnTo>
                            <a:pt x="2479" y="1704"/>
                          </a:lnTo>
                          <a:lnTo>
                            <a:pt x="2418" y="1708"/>
                          </a:lnTo>
                          <a:lnTo>
                            <a:pt x="2357" y="1713"/>
                          </a:lnTo>
                          <a:lnTo>
                            <a:pt x="2291" y="1715"/>
                          </a:lnTo>
                          <a:lnTo>
                            <a:pt x="2223" y="1717"/>
                          </a:lnTo>
                          <a:lnTo>
                            <a:pt x="2155" y="1717"/>
                          </a:lnTo>
                          <a:lnTo>
                            <a:pt x="2084" y="1717"/>
                          </a:lnTo>
                          <a:lnTo>
                            <a:pt x="2013" y="1717"/>
                          </a:lnTo>
                          <a:lnTo>
                            <a:pt x="1941" y="1715"/>
                          </a:lnTo>
                          <a:lnTo>
                            <a:pt x="1865" y="1710"/>
                          </a:lnTo>
                          <a:lnTo>
                            <a:pt x="1790" y="1704"/>
                          </a:lnTo>
                          <a:lnTo>
                            <a:pt x="1712" y="1697"/>
                          </a:lnTo>
                          <a:lnTo>
                            <a:pt x="1635" y="1687"/>
                          </a:lnTo>
                          <a:lnTo>
                            <a:pt x="1557" y="1676"/>
                          </a:lnTo>
                          <a:lnTo>
                            <a:pt x="1560" y="1685"/>
                          </a:lnTo>
                          <a:lnTo>
                            <a:pt x="1567" y="1713"/>
                          </a:lnTo>
                          <a:lnTo>
                            <a:pt x="1569" y="1754"/>
                          </a:lnTo>
                          <a:lnTo>
                            <a:pt x="1567" y="1805"/>
                          </a:lnTo>
                          <a:lnTo>
                            <a:pt x="1555" y="1865"/>
                          </a:lnTo>
                          <a:lnTo>
                            <a:pt x="1527" y="1929"/>
                          </a:lnTo>
                          <a:lnTo>
                            <a:pt x="1480" y="1994"/>
                          </a:lnTo>
                          <a:lnTo>
                            <a:pt x="1407" y="2059"/>
                          </a:lnTo>
                          <a:lnTo>
                            <a:pt x="1404" y="2065"/>
                          </a:lnTo>
                          <a:lnTo>
                            <a:pt x="1397" y="2089"/>
                          </a:lnTo>
                          <a:lnTo>
                            <a:pt x="1383" y="2121"/>
                          </a:lnTo>
                          <a:lnTo>
                            <a:pt x="1362" y="2160"/>
                          </a:lnTo>
                          <a:lnTo>
                            <a:pt x="1136" y="2160"/>
                          </a:lnTo>
                          <a:lnTo>
                            <a:pt x="1136" y="2155"/>
                          </a:lnTo>
                          <a:lnTo>
                            <a:pt x="1136" y="2139"/>
                          </a:lnTo>
                          <a:lnTo>
                            <a:pt x="1139" y="2116"/>
                          </a:lnTo>
                          <a:lnTo>
                            <a:pt x="1146" y="2086"/>
                          </a:lnTo>
                          <a:lnTo>
                            <a:pt x="1160" y="2049"/>
                          </a:lnTo>
                          <a:lnTo>
                            <a:pt x="1183" y="2010"/>
                          </a:lnTo>
                          <a:lnTo>
                            <a:pt x="1219" y="1966"/>
                          </a:lnTo>
                          <a:lnTo>
                            <a:pt x="1268" y="1923"/>
                          </a:lnTo>
                          <a:lnTo>
                            <a:pt x="1266" y="1913"/>
                          </a:lnTo>
                          <a:lnTo>
                            <a:pt x="1256" y="1874"/>
                          </a:lnTo>
                          <a:lnTo>
                            <a:pt x="1247" y="1791"/>
                          </a:lnTo>
                          <a:lnTo>
                            <a:pt x="1240" y="1646"/>
                          </a:lnTo>
                          <a:lnTo>
                            <a:pt x="1235" y="1639"/>
                          </a:lnTo>
                          <a:lnTo>
                            <a:pt x="1226" y="1630"/>
                          </a:lnTo>
                          <a:lnTo>
                            <a:pt x="1209" y="1618"/>
                          </a:lnTo>
                          <a:lnTo>
                            <a:pt x="1188" y="1602"/>
                          </a:lnTo>
                          <a:lnTo>
                            <a:pt x="1162" y="1586"/>
                          </a:lnTo>
                          <a:lnTo>
                            <a:pt x="1131" y="1565"/>
                          </a:lnTo>
                          <a:lnTo>
                            <a:pt x="1099" y="1542"/>
                          </a:lnTo>
                          <a:lnTo>
                            <a:pt x="1066" y="1515"/>
                          </a:lnTo>
                          <a:lnTo>
                            <a:pt x="1030" y="1487"/>
                          </a:lnTo>
                          <a:lnTo>
                            <a:pt x="997" y="1457"/>
                          </a:lnTo>
                          <a:lnTo>
                            <a:pt x="962" y="1422"/>
                          </a:lnTo>
                          <a:lnTo>
                            <a:pt x="932" y="1388"/>
                          </a:lnTo>
                          <a:lnTo>
                            <a:pt x="901" y="1351"/>
                          </a:lnTo>
                          <a:lnTo>
                            <a:pt x="875" y="1309"/>
                          </a:lnTo>
                          <a:lnTo>
                            <a:pt x="854" y="1268"/>
                          </a:lnTo>
                          <a:lnTo>
                            <a:pt x="838" y="1224"/>
                          </a:lnTo>
                          <a:lnTo>
                            <a:pt x="833" y="1224"/>
                          </a:lnTo>
                          <a:lnTo>
                            <a:pt x="821" y="1222"/>
                          </a:lnTo>
                          <a:lnTo>
                            <a:pt x="800" y="1217"/>
                          </a:lnTo>
                          <a:lnTo>
                            <a:pt x="776" y="1208"/>
                          </a:lnTo>
                          <a:lnTo>
                            <a:pt x="748" y="1194"/>
                          </a:lnTo>
                          <a:lnTo>
                            <a:pt x="715" y="1171"/>
                          </a:lnTo>
                          <a:lnTo>
                            <a:pt x="682" y="1139"/>
                          </a:lnTo>
                          <a:lnTo>
                            <a:pt x="649" y="1097"/>
                          </a:lnTo>
                          <a:lnTo>
                            <a:pt x="642" y="1097"/>
                          </a:lnTo>
                          <a:lnTo>
                            <a:pt x="626" y="1100"/>
                          </a:lnTo>
                          <a:lnTo>
                            <a:pt x="600" y="1100"/>
                          </a:lnTo>
                          <a:lnTo>
                            <a:pt x="565" y="1100"/>
                          </a:lnTo>
                          <a:lnTo>
                            <a:pt x="522" y="1100"/>
                          </a:lnTo>
                          <a:lnTo>
                            <a:pt x="478" y="1095"/>
                          </a:lnTo>
                          <a:lnTo>
                            <a:pt x="428" y="1088"/>
                          </a:lnTo>
                          <a:lnTo>
                            <a:pt x="379" y="1077"/>
                          </a:lnTo>
                          <a:lnTo>
                            <a:pt x="379" y="1077"/>
                          </a:lnTo>
                          <a:lnTo>
                            <a:pt x="341" y="1065"/>
                          </a:lnTo>
                          <a:lnTo>
                            <a:pt x="304" y="1051"/>
                          </a:lnTo>
                          <a:lnTo>
                            <a:pt x="268" y="1033"/>
                          </a:lnTo>
                          <a:lnTo>
                            <a:pt x="235" y="1012"/>
                          </a:lnTo>
                          <a:lnTo>
                            <a:pt x="207" y="984"/>
                          </a:lnTo>
                          <a:lnTo>
                            <a:pt x="181" y="952"/>
                          </a:lnTo>
                          <a:lnTo>
                            <a:pt x="160" y="915"/>
                          </a:lnTo>
                          <a:lnTo>
                            <a:pt x="146" y="871"/>
                          </a:lnTo>
                          <a:lnTo>
                            <a:pt x="139" y="876"/>
                          </a:lnTo>
                          <a:lnTo>
                            <a:pt x="118" y="883"/>
                          </a:lnTo>
                          <a:lnTo>
                            <a:pt x="92" y="883"/>
                          </a:lnTo>
                          <a:lnTo>
                            <a:pt x="61" y="869"/>
                          </a:lnTo>
                          <a:lnTo>
                            <a:pt x="33" y="834"/>
                          </a:lnTo>
                          <a:lnTo>
                            <a:pt x="10" y="768"/>
                          </a:lnTo>
                          <a:lnTo>
                            <a:pt x="0" y="662"/>
                          </a:lnTo>
                          <a:lnTo>
                            <a:pt x="5" y="509"/>
                          </a:lnTo>
                          <a:lnTo>
                            <a:pt x="7" y="512"/>
                          </a:lnTo>
                          <a:lnTo>
                            <a:pt x="14" y="521"/>
                          </a:lnTo>
                          <a:lnTo>
                            <a:pt x="28" y="533"/>
                          </a:lnTo>
                          <a:lnTo>
                            <a:pt x="47" y="544"/>
                          </a:lnTo>
                          <a:lnTo>
                            <a:pt x="68" y="558"/>
                          </a:lnTo>
                          <a:lnTo>
                            <a:pt x="97" y="565"/>
                          </a:lnTo>
                          <a:lnTo>
                            <a:pt x="127" y="569"/>
                          </a:lnTo>
                          <a:lnTo>
                            <a:pt x="165" y="567"/>
                          </a:lnTo>
                          <a:lnTo>
                            <a:pt x="205" y="558"/>
                          </a:lnTo>
                          <a:lnTo>
                            <a:pt x="252" y="542"/>
                          </a:lnTo>
                          <a:lnTo>
                            <a:pt x="299" y="521"/>
                          </a:lnTo>
                          <a:lnTo>
                            <a:pt x="348" y="493"/>
                          </a:lnTo>
                          <a:lnTo>
                            <a:pt x="395" y="461"/>
                          </a:lnTo>
                          <a:lnTo>
                            <a:pt x="442" y="422"/>
                          </a:lnTo>
                          <a:lnTo>
                            <a:pt x="489" y="373"/>
                          </a:lnTo>
                          <a:lnTo>
                            <a:pt x="529" y="320"/>
                          </a:lnTo>
                          <a:lnTo>
                            <a:pt x="522" y="316"/>
                          </a:lnTo>
                          <a:lnTo>
                            <a:pt x="501" y="300"/>
                          </a:lnTo>
                          <a:lnTo>
                            <a:pt x="471" y="272"/>
                          </a:lnTo>
                          <a:lnTo>
                            <a:pt x="440" y="235"/>
                          </a:lnTo>
                          <a:lnTo>
                            <a:pt x="407" y="189"/>
                          </a:lnTo>
                          <a:lnTo>
                            <a:pt x="384" y="134"/>
                          </a:lnTo>
                          <a:lnTo>
                            <a:pt x="370" y="71"/>
                          </a:lnTo>
                          <a:lnTo>
                            <a:pt x="372" y="0"/>
                          </a:lnTo>
                          <a:lnTo>
                            <a:pt x="379" y="7"/>
                          </a:lnTo>
                          <a:lnTo>
                            <a:pt x="398" y="28"/>
                          </a:lnTo>
                          <a:lnTo>
                            <a:pt x="428" y="53"/>
                          </a:lnTo>
                          <a:lnTo>
                            <a:pt x="466" y="83"/>
                          </a:lnTo>
                          <a:lnTo>
                            <a:pt x="508" y="113"/>
                          </a:lnTo>
                          <a:lnTo>
                            <a:pt x="553" y="138"/>
                          </a:lnTo>
                          <a:lnTo>
                            <a:pt x="598" y="152"/>
                          </a:lnTo>
                          <a:lnTo>
                            <a:pt x="642" y="154"/>
                          </a:lnTo>
                          <a:lnTo>
                            <a:pt x="682" y="154"/>
                          </a:lnTo>
                          <a:lnTo>
                            <a:pt x="715" y="164"/>
                          </a:lnTo>
                          <a:lnTo>
                            <a:pt x="746" y="182"/>
                          </a:lnTo>
                          <a:lnTo>
                            <a:pt x="772" y="207"/>
                          </a:lnTo>
                          <a:lnTo>
                            <a:pt x="790" y="231"/>
                          </a:lnTo>
                          <a:lnTo>
                            <a:pt x="805" y="254"/>
                          </a:lnTo>
                          <a:lnTo>
                            <a:pt x="814" y="267"/>
                          </a:lnTo>
                          <a:lnTo>
                            <a:pt x="816" y="274"/>
                          </a:lnTo>
                          <a:lnTo>
                            <a:pt x="838" y="263"/>
                          </a:lnTo>
                          <a:lnTo>
                            <a:pt x="861" y="251"/>
                          </a:lnTo>
                          <a:lnTo>
                            <a:pt x="885" y="237"/>
                          </a:lnTo>
                          <a:lnTo>
                            <a:pt x="913" y="221"/>
                          </a:lnTo>
                          <a:lnTo>
                            <a:pt x="946" y="205"/>
                          </a:lnTo>
                          <a:lnTo>
                            <a:pt x="981" y="191"/>
                          </a:lnTo>
                          <a:lnTo>
                            <a:pt x="1021" y="178"/>
                          </a:lnTo>
                          <a:lnTo>
                            <a:pt x="1068" y="168"/>
                          </a:lnTo>
                          <a:lnTo>
                            <a:pt x="1122" y="161"/>
                          </a:lnTo>
                          <a:lnTo>
                            <a:pt x="1183" y="157"/>
                          </a:lnTo>
                          <a:lnTo>
                            <a:pt x="1254" y="159"/>
                          </a:lnTo>
                          <a:lnTo>
                            <a:pt x="1331" y="166"/>
                          </a:lnTo>
                          <a:lnTo>
                            <a:pt x="1421" y="180"/>
                          </a:lnTo>
                          <a:lnTo>
                            <a:pt x="1520" y="198"/>
                          </a:lnTo>
                          <a:lnTo>
                            <a:pt x="1632" y="228"/>
                          </a:lnTo>
                          <a:lnTo>
                            <a:pt x="1755" y="265"/>
                          </a:lnTo>
                          <a:lnTo>
                            <a:pt x="1818" y="284"/>
                          </a:lnTo>
                          <a:lnTo>
                            <a:pt x="1879" y="300"/>
                          </a:lnTo>
                          <a:lnTo>
                            <a:pt x="1941" y="311"/>
                          </a:lnTo>
                          <a:lnTo>
                            <a:pt x="1999" y="318"/>
                          </a:lnTo>
                          <a:lnTo>
                            <a:pt x="2056" y="323"/>
                          </a:lnTo>
                          <a:lnTo>
                            <a:pt x="2112" y="325"/>
                          </a:lnTo>
                          <a:lnTo>
                            <a:pt x="2166" y="325"/>
                          </a:lnTo>
                          <a:lnTo>
                            <a:pt x="2220" y="323"/>
                          </a:lnTo>
                          <a:lnTo>
                            <a:pt x="2270" y="318"/>
                          </a:lnTo>
                          <a:lnTo>
                            <a:pt x="2322" y="311"/>
                          </a:lnTo>
                          <a:lnTo>
                            <a:pt x="2371" y="302"/>
                          </a:lnTo>
                          <a:lnTo>
                            <a:pt x="2420" y="293"/>
                          </a:lnTo>
                          <a:lnTo>
                            <a:pt x="2467" y="281"/>
                          </a:lnTo>
                          <a:lnTo>
                            <a:pt x="2514" y="267"/>
                          </a:lnTo>
                          <a:lnTo>
                            <a:pt x="2559" y="254"/>
                          </a:lnTo>
                          <a:lnTo>
                            <a:pt x="2604" y="240"/>
                          </a:lnTo>
                          <a:lnTo>
                            <a:pt x="2648" y="224"/>
                          </a:lnTo>
                          <a:lnTo>
                            <a:pt x="2693" y="207"/>
                          </a:lnTo>
                          <a:lnTo>
                            <a:pt x="2735" y="194"/>
                          </a:lnTo>
                          <a:lnTo>
                            <a:pt x="2780" y="178"/>
                          </a:lnTo>
                          <a:lnTo>
                            <a:pt x="2822" y="161"/>
                          </a:lnTo>
                          <a:lnTo>
                            <a:pt x="2865" y="148"/>
                          </a:lnTo>
                          <a:lnTo>
                            <a:pt x="2907" y="134"/>
                          </a:lnTo>
                          <a:lnTo>
                            <a:pt x="2947" y="120"/>
                          </a:lnTo>
                          <a:lnTo>
                            <a:pt x="2989" y="108"/>
                          </a:lnTo>
                          <a:lnTo>
                            <a:pt x="3032" y="97"/>
                          </a:lnTo>
                          <a:lnTo>
                            <a:pt x="3074" y="88"/>
                          </a:lnTo>
                          <a:lnTo>
                            <a:pt x="3116" y="81"/>
                          </a:lnTo>
                          <a:lnTo>
                            <a:pt x="3159" y="74"/>
                          </a:lnTo>
                          <a:lnTo>
                            <a:pt x="3201" y="71"/>
                          </a:lnTo>
                          <a:lnTo>
                            <a:pt x="3243" y="69"/>
                          </a:lnTo>
                          <a:lnTo>
                            <a:pt x="3288" y="71"/>
                          </a:lnTo>
                          <a:lnTo>
                            <a:pt x="3375" y="78"/>
                          </a:lnTo>
                          <a:lnTo>
                            <a:pt x="3455" y="88"/>
                          </a:lnTo>
                          <a:lnTo>
                            <a:pt x="3535" y="101"/>
                          </a:lnTo>
                          <a:lnTo>
                            <a:pt x="3608" y="120"/>
                          </a:lnTo>
                          <a:lnTo>
                            <a:pt x="3681" y="141"/>
                          </a:lnTo>
                          <a:lnTo>
                            <a:pt x="3747" y="166"/>
                          </a:lnTo>
                          <a:lnTo>
                            <a:pt x="3810" y="196"/>
                          </a:lnTo>
                          <a:lnTo>
                            <a:pt x="3869" y="231"/>
                          </a:lnTo>
                          <a:lnTo>
                            <a:pt x="3923" y="270"/>
                          </a:lnTo>
                          <a:lnTo>
                            <a:pt x="3972" y="316"/>
                          </a:lnTo>
                          <a:lnTo>
                            <a:pt x="4019" y="364"/>
                          </a:lnTo>
                          <a:lnTo>
                            <a:pt x="4062" y="420"/>
                          </a:lnTo>
                          <a:lnTo>
                            <a:pt x="4099" y="479"/>
                          </a:lnTo>
                          <a:lnTo>
                            <a:pt x="4132" y="544"/>
                          </a:lnTo>
                          <a:lnTo>
                            <a:pt x="4161" y="615"/>
                          </a:lnTo>
                          <a:lnTo>
                            <a:pt x="4186" y="694"/>
                          </a:lnTo>
                          <a:lnTo>
                            <a:pt x="4194" y="692"/>
                          </a:lnTo>
                          <a:lnTo>
                            <a:pt x="4208" y="687"/>
                          </a:lnTo>
                          <a:lnTo>
                            <a:pt x="4234" y="678"/>
                          </a:lnTo>
                          <a:lnTo>
                            <a:pt x="4264" y="666"/>
                          </a:lnTo>
                          <a:lnTo>
                            <a:pt x="4299" y="650"/>
                          </a:lnTo>
                          <a:lnTo>
                            <a:pt x="4335" y="629"/>
                          </a:lnTo>
                          <a:lnTo>
                            <a:pt x="4372" y="604"/>
                          </a:lnTo>
                          <a:lnTo>
                            <a:pt x="4405" y="576"/>
                          </a:lnTo>
                          <a:lnTo>
                            <a:pt x="4440" y="551"/>
                          </a:lnTo>
                          <a:lnTo>
                            <a:pt x="4483" y="539"/>
                          </a:lnTo>
                          <a:lnTo>
                            <a:pt x="4527" y="539"/>
                          </a:lnTo>
                          <a:lnTo>
                            <a:pt x="4572" y="549"/>
                          </a:lnTo>
                          <a:lnTo>
                            <a:pt x="4612" y="569"/>
                          </a:lnTo>
                          <a:lnTo>
                            <a:pt x="4645" y="602"/>
                          </a:lnTo>
                          <a:lnTo>
                            <a:pt x="4669" y="641"/>
                          </a:lnTo>
                          <a:lnTo>
                            <a:pt x="4676" y="687"/>
                          </a:lnTo>
                          <a:lnTo>
                            <a:pt x="4666" y="742"/>
                          </a:lnTo>
                          <a:lnTo>
                            <a:pt x="4645" y="784"/>
                          </a:lnTo>
                          <a:lnTo>
                            <a:pt x="4617" y="811"/>
                          </a:lnTo>
                          <a:lnTo>
                            <a:pt x="4586" y="839"/>
                          </a:lnTo>
                          <a:lnTo>
                            <a:pt x="4556" y="869"/>
                          </a:lnTo>
                          <a:lnTo>
                            <a:pt x="4530" y="908"/>
                          </a:lnTo>
                          <a:lnTo>
                            <a:pt x="4513" y="964"/>
                          </a:lnTo>
                          <a:lnTo>
                            <a:pt x="4509" y="1044"/>
                          </a:lnTo>
                          <a:lnTo>
                            <a:pt x="4546" y="1070"/>
                          </a:lnTo>
                          <a:lnTo>
                            <a:pt x="4558" y="1116"/>
                          </a:lnTo>
                          <a:lnTo>
                            <a:pt x="4551" y="1176"/>
                          </a:lnTo>
                          <a:lnTo>
                            <a:pt x="4530" y="1243"/>
                          </a:lnTo>
                          <a:lnTo>
                            <a:pt x="4502" y="1312"/>
                          </a:lnTo>
                          <a:lnTo>
                            <a:pt x="4469" y="1372"/>
                          </a:lnTo>
                          <a:lnTo>
                            <a:pt x="4440" y="1418"/>
                          </a:lnTo>
                          <a:lnTo>
                            <a:pt x="4422" y="1443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7d7d7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9" name=""/>
                    <p:cNvSpPr/>
                    <p:nvPr/>
                  </p:nvSpPr>
                  <p:spPr>
                    <a:xfrm flipH="1">
                      <a:off x="1313640" y="3599280"/>
                      <a:ext cx="134640" cy="15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1" h="449">
                          <a:moveTo>
                            <a:pt x="5" y="53"/>
                          </a:moveTo>
                          <a:lnTo>
                            <a:pt x="35" y="48"/>
                          </a:lnTo>
                          <a:lnTo>
                            <a:pt x="64" y="44"/>
                          </a:lnTo>
                          <a:lnTo>
                            <a:pt x="92" y="39"/>
                          </a:lnTo>
                          <a:lnTo>
                            <a:pt x="122" y="34"/>
                          </a:lnTo>
                          <a:lnTo>
                            <a:pt x="151" y="28"/>
                          </a:lnTo>
                          <a:lnTo>
                            <a:pt x="181" y="21"/>
                          </a:lnTo>
                          <a:lnTo>
                            <a:pt x="212" y="11"/>
                          </a:lnTo>
                          <a:lnTo>
                            <a:pt x="245" y="0"/>
                          </a:lnTo>
                          <a:lnTo>
                            <a:pt x="254" y="7"/>
                          </a:lnTo>
                          <a:lnTo>
                            <a:pt x="280" y="23"/>
                          </a:lnTo>
                          <a:lnTo>
                            <a:pt x="315" y="48"/>
                          </a:lnTo>
                          <a:lnTo>
                            <a:pt x="355" y="81"/>
                          </a:lnTo>
                          <a:lnTo>
                            <a:pt x="388" y="117"/>
                          </a:lnTo>
                          <a:lnTo>
                            <a:pt x="414" y="159"/>
                          </a:lnTo>
                          <a:lnTo>
                            <a:pt x="421" y="203"/>
                          </a:lnTo>
                          <a:lnTo>
                            <a:pt x="405" y="247"/>
                          </a:lnTo>
                          <a:lnTo>
                            <a:pt x="372" y="295"/>
                          </a:lnTo>
                          <a:lnTo>
                            <a:pt x="343" y="332"/>
                          </a:lnTo>
                          <a:lnTo>
                            <a:pt x="322" y="357"/>
                          </a:lnTo>
                          <a:lnTo>
                            <a:pt x="303" y="378"/>
                          </a:lnTo>
                          <a:lnTo>
                            <a:pt x="289" y="394"/>
                          </a:lnTo>
                          <a:lnTo>
                            <a:pt x="278" y="410"/>
                          </a:lnTo>
                          <a:lnTo>
                            <a:pt x="268" y="429"/>
                          </a:lnTo>
                          <a:lnTo>
                            <a:pt x="259" y="449"/>
                          </a:lnTo>
                          <a:lnTo>
                            <a:pt x="5" y="449"/>
                          </a:lnTo>
                          <a:lnTo>
                            <a:pt x="2" y="445"/>
                          </a:lnTo>
                          <a:lnTo>
                            <a:pt x="0" y="433"/>
                          </a:lnTo>
                          <a:lnTo>
                            <a:pt x="0" y="415"/>
                          </a:lnTo>
                          <a:lnTo>
                            <a:pt x="7" y="387"/>
                          </a:lnTo>
                          <a:lnTo>
                            <a:pt x="21" y="353"/>
                          </a:lnTo>
                          <a:lnTo>
                            <a:pt x="49" y="313"/>
                          </a:lnTo>
                          <a:lnTo>
                            <a:pt x="92" y="265"/>
                          </a:lnTo>
                          <a:lnTo>
                            <a:pt x="155" y="210"/>
                          </a:lnTo>
                          <a:lnTo>
                            <a:pt x="5" y="53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7d7d7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0" name=""/>
                    <p:cNvSpPr/>
                    <p:nvPr/>
                  </p:nvSpPr>
                  <p:spPr>
                    <a:xfrm flipH="1">
                      <a:off x="2183400" y="3193920"/>
                      <a:ext cx="43920" cy="4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8" h="134">
                          <a:moveTo>
                            <a:pt x="65" y="134"/>
                          </a:moveTo>
                          <a:lnTo>
                            <a:pt x="80" y="131"/>
                          </a:lnTo>
                          <a:lnTo>
                            <a:pt x="94" y="129"/>
                          </a:lnTo>
                          <a:lnTo>
                            <a:pt x="105" y="122"/>
                          </a:lnTo>
                          <a:lnTo>
                            <a:pt x="117" y="113"/>
                          </a:lnTo>
                          <a:lnTo>
                            <a:pt x="127" y="104"/>
                          </a:lnTo>
                          <a:lnTo>
                            <a:pt x="134" y="92"/>
                          </a:lnTo>
                          <a:lnTo>
                            <a:pt x="136" y="78"/>
                          </a:lnTo>
                          <a:lnTo>
                            <a:pt x="138" y="65"/>
                          </a:lnTo>
                          <a:lnTo>
                            <a:pt x="136" y="51"/>
                          </a:lnTo>
                          <a:lnTo>
                            <a:pt x="134" y="39"/>
                          </a:lnTo>
                          <a:lnTo>
                            <a:pt x="127" y="30"/>
                          </a:lnTo>
                          <a:lnTo>
                            <a:pt x="117" y="18"/>
                          </a:lnTo>
                          <a:lnTo>
                            <a:pt x="105" y="12"/>
                          </a:lnTo>
                          <a:lnTo>
                            <a:pt x="94" y="5"/>
                          </a:lnTo>
                          <a:lnTo>
                            <a:pt x="80" y="2"/>
                          </a:lnTo>
                          <a:lnTo>
                            <a:pt x="65" y="0"/>
                          </a:lnTo>
                          <a:lnTo>
                            <a:pt x="40" y="5"/>
                          </a:lnTo>
                          <a:lnTo>
                            <a:pt x="18" y="18"/>
                          </a:lnTo>
                          <a:lnTo>
                            <a:pt x="4" y="39"/>
                          </a:lnTo>
                          <a:lnTo>
                            <a:pt x="0" y="65"/>
                          </a:lnTo>
                          <a:lnTo>
                            <a:pt x="4" y="92"/>
                          </a:lnTo>
                          <a:lnTo>
                            <a:pt x="18" y="113"/>
                          </a:lnTo>
                          <a:lnTo>
                            <a:pt x="40" y="129"/>
                          </a:lnTo>
                          <a:lnTo>
                            <a:pt x="65" y="13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0" bIns="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071" name=""/>
                <p:cNvGrpSpPr/>
                <p:nvPr/>
              </p:nvGrpSpPr>
              <p:grpSpPr>
                <a:xfrm>
                  <a:off x="1002960" y="3297240"/>
                  <a:ext cx="1495440" cy="757800"/>
                  <a:chOff x="1002960" y="3297240"/>
                  <a:chExt cx="1495440" cy="757800"/>
                </a:xfrm>
              </p:grpSpPr>
              <p:sp>
                <p:nvSpPr>
                  <p:cNvPr id="1072" name=""/>
                  <p:cNvSpPr/>
                  <p:nvPr/>
                </p:nvSpPr>
                <p:spPr>
                  <a:xfrm flipH="1">
                    <a:off x="1889280" y="3925080"/>
                    <a:ext cx="105120" cy="129960"/>
                  </a:xfrm>
                  <a:custGeom>
                    <a:avLst/>
                    <a:gdLst/>
                    <a:ahLst/>
                    <a:rect l="l" t="t" r="r" b="b"/>
                    <a:pathLst>
                      <a:path w="329" h="371">
                        <a:moveTo>
                          <a:pt x="37" y="0"/>
                        </a:moveTo>
                        <a:lnTo>
                          <a:pt x="70" y="3"/>
                        </a:lnTo>
                        <a:lnTo>
                          <a:pt x="103" y="7"/>
                        </a:lnTo>
                        <a:lnTo>
                          <a:pt x="136" y="9"/>
                        </a:lnTo>
                        <a:lnTo>
                          <a:pt x="169" y="12"/>
                        </a:lnTo>
                        <a:lnTo>
                          <a:pt x="202" y="14"/>
                        </a:lnTo>
                        <a:lnTo>
                          <a:pt x="235" y="14"/>
                        </a:lnTo>
                        <a:lnTo>
                          <a:pt x="265" y="12"/>
                        </a:lnTo>
                        <a:lnTo>
                          <a:pt x="298" y="7"/>
                        </a:lnTo>
                        <a:lnTo>
                          <a:pt x="301" y="14"/>
                        </a:lnTo>
                        <a:lnTo>
                          <a:pt x="310" y="30"/>
                        </a:lnTo>
                        <a:lnTo>
                          <a:pt x="319" y="56"/>
                        </a:lnTo>
                        <a:lnTo>
                          <a:pt x="327" y="88"/>
                        </a:lnTo>
                        <a:lnTo>
                          <a:pt x="329" y="125"/>
                        </a:lnTo>
                        <a:lnTo>
                          <a:pt x="322" y="166"/>
                        </a:lnTo>
                        <a:lnTo>
                          <a:pt x="301" y="210"/>
                        </a:lnTo>
                        <a:lnTo>
                          <a:pt x="265" y="251"/>
                        </a:lnTo>
                        <a:lnTo>
                          <a:pt x="261" y="263"/>
                        </a:lnTo>
                        <a:lnTo>
                          <a:pt x="251" y="291"/>
                        </a:lnTo>
                        <a:lnTo>
                          <a:pt x="232" y="330"/>
                        </a:lnTo>
                        <a:lnTo>
                          <a:pt x="209" y="371"/>
                        </a:lnTo>
                        <a:lnTo>
                          <a:pt x="0" y="371"/>
                        </a:lnTo>
                        <a:lnTo>
                          <a:pt x="0" y="364"/>
                        </a:lnTo>
                        <a:lnTo>
                          <a:pt x="2" y="348"/>
                        </a:lnTo>
                        <a:lnTo>
                          <a:pt x="4" y="323"/>
                        </a:lnTo>
                        <a:lnTo>
                          <a:pt x="11" y="291"/>
                        </a:lnTo>
                        <a:lnTo>
                          <a:pt x="23" y="256"/>
                        </a:lnTo>
                        <a:lnTo>
                          <a:pt x="40" y="219"/>
                        </a:lnTo>
                        <a:lnTo>
                          <a:pt x="63" y="182"/>
                        </a:lnTo>
                        <a:lnTo>
                          <a:pt x="94" y="150"/>
                        </a:lnTo>
                        <a:lnTo>
                          <a:pt x="3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d7d7d7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73" name=""/>
                  <p:cNvGrpSpPr/>
                  <p:nvPr/>
                </p:nvGrpSpPr>
                <p:grpSpPr>
                  <a:xfrm>
                    <a:off x="1002960" y="3297240"/>
                    <a:ext cx="1495440" cy="757800"/>
                    <a:chOff x="1002960" y="3297240"/>
                    <a:chExt cx="1495440" cy="757800"/>
                  </a:xfrm>
                </p:grpSpPr>
                <p:sp>
                  <p:nvSpPr>
                    <p:cNvPr id="1074" name=""/>
                    <p:cNvSpPr/>
                    <p:nvPr/>
                  </p:nvSpPr>
                  <p:spPr>
                    <a:xfrm flipH="1">
                      <a:off x="1002960" y="3297240"/>
                      <a:ext cx="1495440" cy="75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76" h="2160">
                          <a:moveTo>
                            <a:pt x="4422" y="1443"/>
                          </a:moveTo>
                          <a:lnTo>
                            <a:pt x="4417" y="1438"/>
                          </a:lnTo>
                          <a:lnTo>
                            <a:pt x="4405" y="1425"/>
                          </a:lnTo>
                          <a:lnTo>
                            <a:pt x="4391" y="1402"/>
                          </a:lnTo>
                          <a:lnTo>
                            <a:pt x="4377" y="1367"/>
                          </a:lnTo>
                          <a:lnTo>
                            <a:pt x="4370" y="1319"/>
                          </a:lnTo>
                          <a:lnTo>
                            <a:pt x="4370" y="1259"/>
                          </a:lnTo>
                          <a:lnTo>
                            <a:pt x="4386" y="1185"/>
                          </a:lnTo>
                          <a:lnTo>
                            <a:pt x="4422" y="1097"/>
                          </a:lnTo>
                          <a:lnTo>
                            <a:pt x="4419" y="1095"/>
                          </a:lnTo>
                          <a:lnTo>
                            <a:pt x="4417" y="1093"/>
                          </a:lnTo>
                          <a:lnTo>
                            <a:pt x="4412" y="1086"/>
                          </a:lnTo>
                          <a:lnTo>
                            <a:pt x="4408" y="1077"/>
                          </a:lnTo>
                          <a:lnTo>
                            <a:pt x="4408" y="1077"/>
                          </a:lnTo>
                          <a:lnTo>
                            <a:pt x="4398" y="1058"/>
                          </a:lnTo>
                          <a:lnTo>
                            <a:pt x="4389" y="1035"/>
                          </a:lnTo>
                          <a:lnTo>
                            <a:pt x="4382" y="1007"/>
                          </a:lnTo>
                          <a:lnTo>
                            <a:pt x="4379" y="975"/>
                          </a:lnTo>
                          <a:lnTo>
                            <a:pt x="4384" y="938"/>
                          </a:lnTo>
                          <a:lnTo>
                            <a:pt x="4400" y="901"/>
                          </a:lnTo>
                          <a:lnTo>
                            <a:pt x="4429" y="864"/>
                          </a:lnTo>
                          <a:lnTo>
                            <a:pt x="4471" y="825"/>
                          </a:lnTo>
                          <a:lnTo>
                            <a:pt x="4523" y="777"/>
                          </a:lnTo>
                          <a:lnTo>
                            <a:pt x="4551" y="731"/>
                          </a:lnTo>
                          <a:lnTo>
                            <a:pt x="4560" y="689"/>
                          </a:lnTo>
                          <a:lnTo>
                            <a:pt x="4551" y="659"/>
                          </a:lnTo>
                          <a:lnTo>
                            <a:pt x="4530" y="641"/>
                          </a:lnTo>
                          <a:lnTo>
                            <a:pt x="4497" y="639"/>
                          </a:lnTo>
                          <a:lnTo>
                            <a:pt x="4455" y="655"/>
                          </a:lnTo>
                          <a:lnTo>
                            <a:pt x="4405" y="694"/>
                          </a:lnTo>
                          <a:lnTo>
                            <a:pt x="4358" y="738"/>
                          </a:lnTo>
                          <a:lnTo>
                            <a:pt x="4323" y="768"/>
                          </a:lnTo>
                          <a:lnTo>
                            <a:pt x="4297" y="788"/>
                          </a:lnTo>
                          <a:lnTo>
                            <a:pt x="4276" y="798"/>
                          </a:lnTo>
                          <a:lnTo>
                            <a:pt x="4259" y="805"/>
                          </a:lnTo>
                          <a:lnTo>
                            <a:pt x="4241" y="809"/>
                          </a:lnTo>
                          <a:lnTo>
                            <a:pt x="4222" y="814"/>
                          </a:lnTo>
                          <a:lnTo>
                            <a:pt x="4198" y="825"/>
                          </a:lnTo>
                          <a:lnTo>
                            <a:pt x="4198" y="844"/>
                          </a:lnTo>
                          <a:lnTo>
                            <a:pt x="4196" y="897"/>
                          </a:lnTo>
                          <a:lnTo>
                            <a:pt x="4191" y="977"/>
                          </a:lnTo>
                          <a:lnTo>
                            <a:pt x="4177" y="1077"/>
                          </a:lnTo>
                          <a:lnTo>
                            <a:pt x="4177" y="1077"/>
                          </a:lnTo>
                          <a:lnTo>
                            <a:pt x="4163" y="1146"/>
                          </a:lnTo>
                          <a:lnTo>
                            <a:pt x="4146" y="1217"/>
                          </a:lnTo>
                          <a:lnTo>
                            <a:pt x="4125" y="1293"/>
                          </a:lnTo>
                          <a:lnTo>
                            <a:pt x="4097" y="1369"/>
                          </a:lnTo>
                          <a:lnTo>
                            <a:pt x="4062" y="1445"/>
                          </a:lnTo>
                          <a:lnTo>
                            <a:pt x="4022" y="1519"/>
                          </a:lnTo>
                          <a:lnTo>
                            <a:pt x="3972" y="1591"/>
                          </a:lnTo>
                          <a:lnTo>
                            <a:pt x="3914" y="1657"/>
                          </a:lnTo>
                          <a:lnTo>
                            <a:pt x="3914" y="1662"/>
                          </a:lnTo>
                          <a:lnTo>
                            <a:pt x="3916" y="1671"/>
                          </a:lnTo>
                          <a:lnTo>
                            <a:pt x="3923" y="1687"/>
                          </a:lnTo>
                          <a:lnTo>
                            <a:pt x="3940" y="1704"/>
                          </a:lnTo>
                          <a:lnTo>
                            <a:pt x="3963" y="1722"/>
                          </a:lnTo>
                          <a:lnTo>
                            <a:pt x="3998" y="1738"/>
                          </a:lnTo>
                          <a:lnTo>
                            <a:pt x="4048" y="1752"/>
                          </a:lnTo>
                          <a:lnTo>
                            <a:pt x="4114" y="1759"/>
                          </a:lnTo>
                          <a:lnTo>
                            <a:pt x="4109" y="1768"/>
                          </a:lnTo>
                          <a:lnTo>
                            <a:pt x="4095" y="1793"/>
                          </a:lnTo>
                          <a:lnTo>
                            <a:pt x="4071" y="1833"/>
                          </a:lnTo>
                          <a:lnTo>
                            <a:pt x="4041" y="1883"/>
                          </a:lnTo>
                          <a:lnTo>
                            <a:pt x="4001" y="1941"/>
                          </a:lnTo>
                          <a:lnTo>
                            <a:pt x="3956" y="2001"/>
                          </a:lnTo>
                          <a:lnTo>
                            <a:pt x="3902" y="2065"/>
                          </a:lnTo>
                          <a:lnTo>
                            <a:pt x="3841" y="2125"/>
                          </a:lnTo>
                          <a:lnTo>
                            <a:pt x="3596" y="2125"/>
                          </a:lnTo>
                          <a:lnTo>
                            <a:pt x="3601" y="2100"/>
                          </a:lnTo>
                          <a:lnTo>
                            <a:pt x="3608" y="2075"/>
                          </a:lnTo>
                          <a:lnTo>
                            <a:pt x="3620" y="2052"/>
                          </a:lnTo>
                          <a:lnTo>
                            <a:pt x="3634" y="2029"/>
                          </a:lnTo>
                          <a:lnTo>
                            <a:pt x="3650" y="2008"/>
                          </a:lnTo>
                          <a:lnTo>
                            <a:pt x="3669" y="1989"/>
                          </a:lnTo>
                          <a:lnTo>
                            <a:pt x="3690" y="1973"/>
                          </a:lnTo>
                          <a:lnTo>
                            <a:pt x="3716" y="1957"/>
                          </a:lnTo>
                          <a:lnTo>
                            <a:pt x="3709" y="1955"/>
                          </a:lnTo>
                          <a:lnTo>
                            <a:pt x="3686" y="1943"/>
                          </a:lnTo>
                          <a:lnTo>
                            <a:pt x="3653" y="1927"/>
                          </a:lnTo>
                          <a:lnTo>
                            <a:pt x="3608" y="1904"/>
                          </a:lnTo>
                          <a:lnTo>
                            <a:pt x="3556" y="1874"/>
                          </a:lnTo>
                          <a:lnTo>
                            <a:pt x="3495" y="1837"/>
                          </a:lnTo>
                          <a:lnTo>
                            <a:pt x="3432" y="1793"/>
                          </a:lnTo>
                          <a:lnTo>
                            <a:pt x="3363" y="1743"/>
                          </a:lnTo>
                          <a:lnTo>
                            <a:pt x="3295" y="1685"/>
                          </a:lnTo>
                          <a:lnTo>
                            <a:pt x="3229" y="1621"/>
                          </a:lnTo>
                          <a:lnTo>
                            <a:pt x="3166" y="1549"/>
                          </a:lnTo>
                          <a:lnTo>
                            <a:pt x="3107" y="1468"/>
                          </a:lnTo>
                          <a:lnTo>
                            <a:pt x="3053" y="1383"/>
                          </a:lnTo>
                          <a:lnTo>
                            <a:pt x="3008" y="1289"/>
                          </a:lnTo>
                          <a:lnTo>
                            <a:pt x="2975" y="1185"/>
                          </a:lnTo>
                          <a:lnTo>
                            <a:pt x="2954" y="1077"/>
                          </a:lnTo>
                          <a:lnTo>
                            <a:pt x="2959" y="1077"/>
                          </a:lnTo>
                          <a:lnTo>
                            <a:pt x="2952" y="998"/>
                          </a:lnTo>
                          <a:lnTo>
                            <a:pt x="2954" y="917"/>
                          </a:lnTo>
                          <a:lnTo>
                            <a:pt x="2961" y="830"/>
                          </a:lnTo>
                          <a:lnTo>
                            <a:pt x="2978" y="740"/>
                          </a:lnTo>
                          <a:lnTo>
                            <a:pt x="2975" y="747"/>
                          </a:lnTo>
                          <a:lnTo>
                            <a:pt x="2966" y="765"/>
                          </a:lnTo>
                          <a:lnTo>
                            <a:pt x="2954" y="795"/>
                          </a:lnTo>
                          <a:lnTo>
                            <a:pt x="2940" y="834"/>
                          </a:lnTo>
                          <a:lnTo>
                            <a:pt x="2926" y="883"/>
                          </a:lnTo>
                          <a:lnTo>
                            <a:pt x="2914" y="941"/>
                          </a:lnTo>
                          <a:lnTo>
                            <a:pt x="2907" y="1005"/>
                          </a:lnTo>
                          <a:lnTo>
                            <a:pt x="2905" y="1077"/>
                          </a:lnTo>
                          <a:lnTo>
                            <a:pt x="2905" y="1077"/>
                          </a:lnTo>
                          <a:lnTo>
                            <a:pt x="2907" y="1134"/>
                          </a:lnTo>
                          <a:lnTo>
                            <a:pt x="2917" y="1194"/>
                          </a:lnTo>
                          <a:lnTo>
                            <a:pt x="2931" y="1256"/>
                          </a:lnTo>
                          <a:lnTo>
                            <a:pt x="2949" y="1323"/>
                          </a:lnTo>
                          <a:lnTo>
                            <a:pt x="2978" y="1390"/>
                          </a:lnTo>
                          <a:lnTo>
                            <a:pt x="3013" y="1459"/>
                          </a:lnTo>
                          <a:lnTo>
                            <a:pt x="3058" y="1528"/>
                          </a:lnTo>
                          <a:lnTo>
                            <a:pt x="3112" y="1600"/>
                          </a:lnTo>
                          <a:lnTo>
                            <a:pt x="3109" y="1600"/>
                          </a:lnTo>
                          <a:lnTo>
                            <a:pt x="3105" y="1602"/>
                          </a:lnTo>
                          <a:lnTo>
                            <a:pt x="3093" y="1604"/>
                          </a:lnTo>
                          <a:lnTo>
                            <a:pt x="3079" y="1609"/>
                          </a:lnTo>
                          <a:lnTo>
                            <a:pt x="3062" y="1614"/>
                          </a:lnTo>
                          <a:lnTo>
                            <a:pt x="3041" y="1618"/>
                          </a:lnTo>
                          <a:lnTo>
                            <a:pt x="3015" y="1623"/>
                          </a:lnTo>
                          <a:lnTo>
                            <a:pt x="2987" y="1630"/>
                          </a:lnTo>
                          <a:lnTo>
                            <a:pt x="2956" y="1637"/>
                          </a:lnTo>
                          <a:lnTo>
                            <a:pt x="2921" y="1644"/>
                          </a:lnTo>
                          <a:lnTo>
                            <a:pt x="2884" y="1651"/>
                          </a:lnTo>
                          <a:lnTo>
                            <a:pt x="2841" y="1657"/>
                          </a:lnTo>
                          <a:lnTo>
                            <a:pt x="2799" y="1664"/>
                          </a:lnTo>
                          <a:lnTo>
                            <a:pt x="2752" y="1674"/>
                          </a:lnTo>
                          <a:lnTo>
                            <a:pt x="2702" y="1681"/>
                          </a:lnTo>
                          <a:lnTo>
                            <a:pt x="2651" y="1685"/>
                          </a:lnTo>
                          <a:lnTo>
                            <a:pt x="2597" y="1692"/>
                          </a:lnTo>
                          <a:lnTo>
                            <a:pt x="2540" y="1699"/>
                          </a:lnTo>
                          <a:lnTo>
                            <a:pt x="2479" y="1704"/>
                          </a:lnTo>
                          <a:lnTo>
                            <a:pt x="2418" y="1708"/>
                          </a:lnTo>
                          <a:lnTo>
                            <a:pt x="2357" y="1713"/>
                          </a:lnTo>
                          <a:lnTo>
                            <a:pt x="2291" y="1715"/>
                          </a:lnTo>
                          <a:lnTo>
                            <a:pt x="2223" y="1717"/>
                          </a:lnTo>
                          <a:lnTo>
                            <a:pt x="2155" y="1717"/>
                          </a:lnTo>
                          <a:lnTo>
                            <a:pt x="2084" y="1717"/>
                          </a:lnTo>
                          <a:lnTo>
                            <a:pt x="2013" y="1717"/>
                          </a:lnTo>
                          <a:lnTo>
                            <a:pt x="1941" y="1715"/>
                          </a:lnTo>
                          <a:lnTo>
                            <a:pt x="1865" y="1710"/>
                          </a:lnTo>
                          <a:lnTo>
                            <a:pt x="1790" y="1704"/>
                          </a:lnTo>
                          <a:lnTo>
                            <a:pt x="1712" y="1697"/>
                          </a:lnTo>
                          <a:lnTo>
                            <a:pt x="1635" y="1687"/>
                          </a:lnTo>
                          <a:lnTo>
                            <a:pt x="1557" y="1676"/>
                          </a:lnTo>
                          <a:lnTo>
                            <a:pt x="1560" y="1685"/>
                          </a:lnTo>
                          <a:lnTo>
                            <a:pt x="1567" y="1713"/>
                          </a:lnTo>
                          <a:lnTo>
                            <a:pt x="1569" y="1754"/>
                          </a:lnTo>
                          <a:lnTo>
                            <a:pt x="1567" y="1805"/>
                          </a:lnTo>
                          <a:lnTo>
                            <a:pt x="1555" y="1865"/>
                          </a:lnTo>
                          <a:lnTo>
                            <a:pt x="1527" y="1929"/>
                          </a:lnTo>
                          <a:lnTo>
                            <a:pt x="1480" y="1994"/>
                          </a:lnTo>
                          <a:lnTo>
                            <a:pt x="1407" y="2059"/>
                          </a:lnTo>
                          <a:lnTo>
                            <a:pt x="1404" y="2065"/>
                          </a:lnTo>
                          <a:lnTo>
                            <a:pt x="1397" y="2089"/>
                          </a:lnTo>
                          <a:lnTo>
                            <a:pt x="1383" y="2121"/>
                          </a:lnTo>
                          <a:lnTo>
                            <a:pt x="1362" y="2160"/>
                          </a:lnTo>
                          <a:lnTo>
                            <a:pt x="1136" y="2160"/>
                          </a:lnTo>
                          <a:lnTo>
                            <a:pt x="1136" y="2155"/>
                          </a:lnTo>
                          <a:lnTo>
                            <a:pt x="1136" y="2139"/>
                          </a:lnTo>
                          <a:lnTo>
                            <a:pt x="1139" y="2116"/>
                          </a:lnTo>
                          <a:lnTo>
                            <a:pt x="1146" y="2086"/>
                          </a:lnTo>
                          <a:lnTo>
                            <a:pt x="1160" y="2049"/>
                          </a:lnTo>
                          <a:lnTo>
                            <a:pt x="1183" y="2010"/>
                          </a:lnTo>
                          <a:lnTo>
                            <a:pt x="1219" y="1966"/>
                          </a:lnTo>
                          <a:lnTo>
                            <a:pt x="1268" y="1923"/>
                          </a:lnTo>
                          <a:lnTo>
                            <a:pt x="1266" y="1913"/>
                          </a:lnTo>
                          <a:lnTo>
                            <a:pt x="1256" y="1874"/>
                          </a:lnTo>
                          <a:lnTo>
                            <a:pt x="1247" y="1791"/>
                          </a:lnTo>
                          <a:lnTo>
                            <a:pt x="1240" y="1646"/>
                          </a:lnTo>
                          <a:lnTo>
                            <a:pt x="1235" y="1639"/>
                          </a:lnTo>
                          <a:lnTo>
                            <a:pt x="1226" y="1630"/>
                          </a:lnTo>
                          <a:lnTo>
                            <a:pt x="1209" y="1618"/>
                          </a:lnTo>
                          <a:lnTo>
                            <a:pt x="1188" y="1602"/>
                          </a:lnTo>
                          <a:lnTo>
                            <a:pt x="1162" y="1586"/>
                          </a:lnTo>
                          <a:lnTo>
                            <a:pt x="1131" y="1565"/>
                          </a:lnTo>
                          <a:lnTo>
                            <a:pt x="1099" y="1542"/>
                          </a:lnTo>
                          <a:lnTo>
                            <a:pt x="1066" y="1515"/>
                          </a:lnTo>
                          <a:lnTo>
                            <a:pt x="1030" y="1487"/>
                          </a:lnTo>
                          <a:lnTo>
                            <a:pt x="997" y="1457"/>
                          </a:lnTo>
                          <a:lnTo>
                            <a:pt x="962" y="1422"/>
                          </a:lnTo>
                          <a:lnTo>
                            <a:pt x="932" y="1388"/>
                          </a:lnTo>
                          <a:lnTo>
                            <a:pt x="901" y="1351"/>
                          </a:lnTo>
                          <a:lnTo>
                            <a:pt x="875" y="1309"/>
                          </a:lnTo>
                          <a:lnTo>
                            <a:pt x="854" y="1268"/>
                          </a:lnTo>
                          <a:lnTo>
                            <a:pt x="838" y="1224"/>
                          </a:lnTo>
                          <a:lnTo>
                            <a:pt x="833" y="1224"/>
                          </a:lnTo>
                          <a:lnTo>
                            <a:pt x="821" y="1222"/>
                          </a:lnTo>
                          <a:lnTo>
                            <a:pt x="800" y="1217"/>
                          </a:lnTo>
                          <a:lnTo>
                            <a:pt x="776" y="1208"/>
                          </a:lnTo>
                          <a:lnTo>
                            <a:pt x="748" y="1194"/>
                          </a:lnTo>
                          <a:lnTo>
                            <a:pt x="715" y="1171"/>
                          </a:lnTo>
                          <a:lnTo>
                            <a:pt x="682" y="1139"/>
                          </a:lnTo>
                          <a:lnTo>
                            <a:pt x="649" y="1097"/>
                          </a:lnTo>
                          <a:lnTo>
                            <a:pt x="642" y="1097"/>
                          </a:lnTo>
                          <a:lnTo>
                            <a:pt x="626" y="1100"/>
                          </a:lnTo>
                          <a:lnTo>
                            <a:pt x="600" y="1100"/>
                          </a:lnTo>
                          <a:lnTo>
                            <a:pt x="565" y="1100"/>
                          </a:lnTo>
                          <a:lnTo>
                            <a:pt x="522" y="1100"/>
                          </a:lnTo>
                          <a:lnTo>
                            <a:pt x="478" y="1095"/>
                          </a:lnTo>
                          <a:lnTo>
                            <a:pt x="428" y="1088"/>
                          </a:lnTo>
                          <a:lnTo>
                            <a:pt x="379" y="1077"/>
                          </a:lnTo>
                          <a:lnTo>
                            <a:pt x="379" y="1077"/>
                          </a:lnTo>
                          <a:lnTo>
                            <a:pt x="341" y="1065"/>
                          </a:lnTo>
                          <a:lnTo>
                            <a:pt x="304" y="1051"/>
                          </a:lnTo>
                          <a:lnTo>
                            <a:pt x="268" y="1033"/>
                          </a:lnTo>
                          <a:lnTo>
                            <a:pt x="235" y="1012"/>
                          </a:lnTo>
                          <a:lnTo>
                            <a:pt x="207" y="984"/>
                          </a:lnTo>
                          <a:lnTo>
                            <a:pt x="181" y="952"/>
                          </a:lnTo>
                          <a:lnTo>
                            <a:pt x="160" y="915"/>
                          </a:lnTo>
                          <a:lnTo>
                            <a:pt x="146" y="871"/>
                          </a:lnTo>
                          <a:lnTo>
                            <a:pt x="139" y="876"/>
                          </a:lnTo>
                          <a:lnTo>
                            <a:pt x="118" y="883"/>
                          </a:lnTo>
                          <a:lnTo>
                            <a:pt x="92" y="883"/>
                          </a:lnTo>
                          <a:lnTo>
                            <a:pt x="61" y="869"/>
                          </a:lnTo>
                          <a:lnTo>
                            <a:pt x="33" y="834"/>
                          </a:lnTo>
                          <a:lnTo>
                            <a:pt x="10" y="768"/>
                          </a:lnTo>
                          <a:lnTo>
                            <a:pt x="0" y="662"/>
                          </a:lnTo>
                          <a:lnTo>
                            <a:pt x="5" y="509"/>
                          </a:lnTo>
                          <a:lnTo>
                            <a:pt x="7" y="512"/>
                          </a:lnTo>
                          <a:lnTo>
                            <a:pt x="14" y="521"/>
                          </a:lnTo>
                          <a:lnTo>
                            <a:pt x="28" y="533"/>
                          </a:lnTo>
                          <a:lnTo>
                            <a:pt x="47" y="544"/>
                          </a:lnTo>
                          <a:lnTo>
                            <a:pt x="68" y="558"/>
                          </a:lnTo>
                          <a:lnTo>
                            <a:pt x="97" y="565"/>
                          </a:lnTo>
                          <a:lnTo>
                            <a:pt x="127" y="569"/>
                          </a:lnTo>
                          <a:lnTo>
                            <a:pt x="165" y="567"/>
                          </a:lnTo>
                          <a:lnTo>
                            <a:pt x="205" y="558"/>
                          </a:lnTo>
                          <a:lnTo>
                            <a:pt x="252" y="542"/>
                          </a:lnTo>
                          <a:lnTo>
                            <a:pt x="299" y="521"/>
                          </a:lnTo>
                          <a:lnTo>
                            <a:pt x="348" y="493"/>
                          </a:lnTo>
                          <a:lnTo>
                            <a:pt x="395" y="461"/>
                          </a:lnTo>
                          <a:lnTo>
                            <a:pt x="442" y="422"/>
                          </a:lnTo>
                          <a:lnTo>
                            <a:pt x="489" y="373"/>
                          </a:lnTo>
                          <a:lnTo>
                            <a:pt x="529" y="320"/>
                          </a:lnTo>
                          <a:lnTo>
                            <a:pt x="522" y="316"/>
                          </a:lnTo>
                          <a:lnTo>
                            <a:pt x="501" y="300"/>
                          </a:lnTo>
                          <a:lnTo>
                            <a:pt x="471" y="272"/>
                          </a:lnTo>
                          <a:lnTo>
                            <a:pt x="440" y="235"/>
                          </a:lnTo>
                          <a:lnTo>
                            <a:pt x="407" y="189"/>
                          </a:lnTo>
                          <a:lnTo>
                            <a:pt x="384" y="134"/>
                          </a:lnTo>
                          <a:lnTo>
                            <a:pt x="370" y="71"/>
                          </a:lnTo>
                          <a:lnTo>
                            <a:pt x="372" y="0"/>
                          </a:lnTo>
                          <a:lnTo>
                            <a:pt x="379" y="7"/>
                          </a:lnTo>
                          <a:lnTo>
                            <a:pt x="398" y="28"/>
                          </a:lnTo>
                          <a:lnTo>
                            <a:pt x="428" y="53"/>
                          </a:lnTo>
                          <a:lnTo>
                            <a:pt x="466" y="83"/>
                          </a:lnTo>
                          <a:lnTo>
                            <a:pt x="508" y="113"/>
                          </a:lnTo>
                          <a:lnTo>
                            <a:pt x="553" y="138"/>
                          </a:lnTo>
                          <a:lnTo>
                            <a:pt x="598" y="152"/>
                          </a:lnTo>
                          <a:lnTo>
                            <a:pt x="642" y="154"/>
                          </a:lnTo>
                          <a:lnTo>
                            <a:pt x="682" y="154"/>
                          </a:lnTo>
                          <a:lnTo>
                            <a:pt x="715" y="164"/>
                          </a:lnTo>
                          <a:lnTo>
                            <a:pt x="746" y="182"/>
                          </a:lnTo>
                          <a:lnTo>
                            <a:pt x="772" y="207"/>
                          </a:lnTo>
                          <a:lnTo>
                            <a:pt x="790" y="231"/>
                          </a:lnTo>
                          <a:lnTo>
                            <a:pt x="805" y="254"/>
                          </a:lnTo>
                          <a:lnTo>
                            <a:pt x="814" y="267"/>
                          </a:lnTo>
                          <a:lnTo>
                            <a:pt x="816" y="274"/>
                          </a:lnTo>
                          <a:lnTo>
                            <a:pt x="838" y="263"/>
                          </a:lnTo>
                          <a:lnTo>
                            <a:pt x="861" y="251"/>
                          </a:lnTo>
                          <a:lnTo>
                            <a:pt x="885" y="237"/>
                          </a:lnTo>
                          <a:lnTo>
                            <a:pt x="913" y="221"/>
                          </a:lnTo>
                          <a:lnTo>
                            <a:pt x="946" y="205"/>
                          </a:lnTo>
                          <a:lnTo>
                            <a:pt x="981" y="191"/>
                          </a:lnTo>
                          <a:lnTo>
                            <a:pt x="1021" y="178"/>
                          </a:lnTo>
                          <a:lnTo>
                            <a:pt x="1068" y="168"/>
                          </a:lnTo>
                          <a:lnTo>
                            <a:pt x="1122" y="161"/>
                          </a:lnTo>
                          <a:lnTo>
                            <a:pt x="1183" y="157"/>
                          </a:lnTo>
                          <a:lnTo>
                            <a:pt x="1254" y="159"/>
                          </a:lnTo>
                          <a:lnTo>
                            <a:pt x="1331" y="166"/>
                          </a:lnTo>
                          <a:lnTo>
                            <a:pt x="1421" y="180"/>
                          </a:lnTo>
                          <a:lnTo>
                            <a:pt x="1520" y="198"/>
                          </a:lnTo>
                          <a:lnTo>
                            <a:pt x="1632" y="228"/>
                          </a:lnTo>
                          <a:lnTo>
                            <a:pt x="1755" y="265"/>
                          </a:lnTo>
                          <a:lnTo>
                            <a:pt x="1818" y="284"/>
                          </a:lnTo>
                          <a:lnTo>
                            <a:pt x="1879" y="300"/>
                          </a:lnTo>
                          <a:lnTo>
                            <a:pt x="1941" y="311"/>
                          </a:lnTo>
                          <a:lnTo>
                            <a:pt x="1999" y="318"/>
                          </a:lnTo>
                          <a:lnTo>
                            <a:pt x="2056" y="323"/>
                          </a:lnTo>
                          <a:lnTo>
                            <a:pt x="2112" y="325"/>
                          </a:lnTo>
                          <a:lnTo>
                            <a:pt x="2166" y="325"/>
                          </a:lnTo>
                          <a:lnTo>
                            <a:pt x="2220" y="323"/>
                          </a:lnTo>
                          <a:lnTo>
                            <a:pt x="2270" y="318"/>
                          </a:lnTo>
                          <a:lnTo>
                            <a:pt x="2322" y="311"/>
                          </a:lnTo>
                          <a:lnTo>
                            <a:pt x="2371" y="302"/>
                          </a:lnTo>
                          <a:lnTo>
                            <a:pt x="2420" y="293"/>
                          </a:lnTo>
                          <a:lnTo>
                            <a:pt x="2467" y="281"/>
                          </a:lnTo>
                          <a:lnTo>
                            <a:pt x="2514" y="267"/>
                          </a:lnTo>
                          <a:lnTo>
                            <a:pt x="2559" y="254"/>
                          </a:lnTo>
                          <a:lnTo>
                            <a:pt x="2604" y="240"/>
                          </a:lnTo>
                          <a:lnTo>
                            <a:pt x="2648" y="224"/>
                          </a:lnTo>
                          <a:lnTo>
                            <a:pt x="2693" y="207"/>
                          </a:lnTo>
                          <a:lnTo>
                            <a:pt x="2735" y="194"/>
                          </a:lnTo>
                          <a:lnTo>
                            <a:pt x="2780" y="178"/>
                          </a:lnTo>
                          <a:lnTo>
                            <a:pt x="2822" y="161"/>
                          </a:lnTo>
                          <a:lnTo>
                            <a:pt x="2865" y="148"/>
                          </a:lnTo>
                          <a:lnTo>
                            <a:pt x="2907" y="134"/>
                          </a:lnTo>
                          <a:lnTo>
                            <a:pt x="2947" y="120"/>
                          </a:lnTo>
                          <a:lnTo>
                            <a:pt x="2989" y="108"/>
                          </a:lnTo>
                          <a:lnTo>
                            <a:pt x="3032" y="97"/>
                          </a:lnTo>
                          <a:lnTo>
                            <a:pt x="3074" y="88"/>
                          </a:lnTo>
                          <a:lnTo>
                            <a:pt x="3116" y="81"/>
                          </a:lnTo>
                          <a:lnTo>
                            <a:pt x="3159" y="74"/>
                          </a:lnTo>
                          <a:lnTo>
                            <a:pt x="3201" y="71"/>
                          </a:lnTo>
                          <a:lnTo>
                            <a:pt x="3243" y="69"/>
                          </a:lnTo>
                          <a:lnTo>
                            <a:pt x="3288" y="71"/>
                          </a:lnTo>
                          <a:lnTo>
                            <a:pt x="3375" y="78"/>
                          </a:lnTo>
                          <a:lnTo>
                            <a:pt x="3455" y="88"/>
                          </a:lnTo>
                          <a:lnTo>
                            <a:pt x="3535" y="101"/>
                          </a:lnTo>
                          <a:lnTo>
                            <a:pt x="3608" y="120"/>
                          </a:lnTo>
                          <a:lnTo>
                            <a:pt x="3681" y="141"/>
                          </a:lnTo>
                          <a:lnTo>
                            <a:pt x="3747" y="166"/>
                          </a:lnTo>
                          <a:lnTo>
                            <a:pt x="3810" y="196"/>
                          </a:lnTo>
                          <a:lnTo>
                            <a:pt x="3869" y="231"/>
                          </a:lnTo>
                          <a:lnTo>
                            <a:pt x="3923" y="270"/>
                          </a:lnTo>
                          <a:lnTo>
                            <a:pt x="3972" y="316"/>
                          </a:lnTo>
                          <a:lnTo>
                            <a:pt x="4019" y="364"/>
                          </a:lnTo>
                          <a:lnTo>
                            <a:pt x="4062" y="420"/>
                          </a:lnTo>
                          <a:lnTo>
                            <a:pt x="4099" y="479"/>
                          </a:lnTo>
                          <a:lnTo>
                            <a:pt x="4132" y="544"/>
                          </a:lnTo>
                          <a:lnTo>
                            <a:pt x="4161" y="615"/>
                          </a:lnTo>
                          <a:lnTo>
                            <a:pt x="4186" y="694"/>
                          </a:lnTo>
                          <a:lnTo>
                            <a:pt x="4194" y="692"/>
                          </a:lnTo>
                          <a:lnTo>
                            <a:pt x="4208" y="687"/>
                          </a:lnTo>
                          <a:lnTo>
                            <a:pt x="4234" y="678"/>
                          </a:lnTo>
                          <a:lnTo>
                            <a:pt x="4264" y="666"/>
                          </a:lnTo>
                          <a:lnTo>
                            <a:pt x="4299" y="650"/>
                          </a:lnTo>
                          <a:lnTo>
                            <a:pt x="4335" y="629"/>
                          </a:lnTo>
                          <a:lnTo>
                            <a:pt x="4372" y="604"/>
                          </a:lnTo>
                          <a:lnTo>
                            <a:pt x="4405" y="576"/>
                          </a:lnTo>
                          <a:lnTo>
                            <a:pt x="4440" y="551"/>
                          </a:lnTo>
                          <a:lnTo>
                            <a:pt x="4483" y="539"/>
                          </a:lnTo>
                          <a:lnTo>
                            <a:pt x="4527" y="539"/>
                          </a:lnTo>
                          <a:lnTo>
                            <a:pt x="4572" y="549"/>
                          </a:lnTo>
                          <a:lnTo>
                            <a:pt x="4612" y="569"/>
                          </a:lnTo>
                          <a:lnTo>
                            <a:pt x="4645" y="602"/>
                          </a:lnTo>
                          <a:lnTo>
                            <a:pt x="4669" y="641"/>
                          </a:lnTo>
                          <a:lnTo>
                            <a:pt x="4676" y="687"/>
                          </a:lnTo>
                          <a:lnTo>
                            <a:pt x="4666" y="742"/>
                          </a:lnTo>
                          <a:lnTo>
                            <a:pt x="4645" y="784"/>
                          </a:lnTo>
                          <a:lnTo>
                            <a:pt x="4617" y="811"/>
                          </a:lnTo>
                          <a:lnTo>
                            <a:pt x="4586" y="839"/>
                          </a:lnTo>
                          <a:lnTo>
                            <a:pt x="4556" y="869"/>
                          </a:lnTo>
                          <a:lnTo>
                            <a:pt x="4530" y="908"/>
                          </a:lnTo>
                          <a:lnTo>
                            <a:pt x="4513" y="964"/>
                          </a:lnTo>
                          <a:lnTo>
                            <a:pt x="4509" y="1044"/>
                          </a:lnTo>
                          <a:lnTo>
                            <a:pt x="4546" y="1070"/>
                          </a:lnTo>
                          <a:lnTo>
                            <a:pt x="4558" y="1116"/>
                          </a:lnTo>
                          <a:lnTo>
                            <a:pt x="4551" y="1176"/>
                          </a:lnTo>
                          <a:lnTo>
                            <a:pt x="4530" y="1243"/>
                          </a:lnTo>
                          <a:lnTo>
                            <a:pt x="4502" y="1312"/>
                          </a:lnTo>
                          <a:lnTo>
                            <a:pt x="4469" y="1372"/>
                          </a:lnTo>
                          <a:lnTo>
                            <a:pt x="4440" y="1418"/>
                          </a:lnTo>
                          <a:lnTo>
                            <a:pt x="4422" y="1443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7d7d7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5" name=""/>
                    <p:cNvSpPr/>
                    <p:nvPr/>
                  </p:nvSpPr>
                  <p:spPr>
                    <a:xfrm flipH="1">
                      <a:off x="1425240" y="3895200"/>
                      <a:ext cx="134640" cy="15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1" h="449">
                          <a:moveTo>
                            <a:pt x="5" y="53"/>
                          </a:moveTo>
                          <a:lnTo>
                            <a:pt x="35" y="48"/>
                          </a:lnTo>
                          <a:lnTo>
                            <a:pt x="64" y="44"/>
                          </a:lnTo>
                          <a:lnTo>
                            <a:pt x="92" y="39"/>
                          </a:lnTo>
                          <a:lnTo>
                            <a:pt x="122" y="34"/>
                          </a:lnTo>
                          <a:lnTo>
                            <a:pt x="151" y="28"/>
                          </a:lnTo>
                          <a:lnTo>
                            <a:pt x="181" y="21"/>
                          </a:lnTo>
                          <a:lnTo>
                            <a:pt x="212" y="11"/>
                          </a:lnTo>
                          <a:lnTo>
                            <a:pt x="245" y="0"/>
                          </a:lnTo>
                          <a:lnTo>
                            <a:pt x="254" y="7"/>
                          </a:lnTo>
                          <a:lnTo>
                            <a:pt x="280" y="23"/>
                          </a:lnTo>
                          <a:lnTo>
                            <a:pt x="315" y="48"/>
                          </a:lnTo>
                          <a:lnTo>
                            <a:pt x="355" y="81"/>
                          </a:lnTo>
                          <a:lnTo>
                            <a:pt x="388" y="117"/>
                          </a:lnTo>
                          <a:lnTo>
                            <a:pt x="414" y="159"/>
                          </a:lnTo>
                          <a:lnTo>
                            <a:pt x="421" y="203"/>
                          </a:lnTo>
                          <a:lnTo>
                            <a:pt x="405" y="247"/>
                          </a:lnTo>
                          <a:lnTo>
                            <a:pt x="372" y="295"/>
                          </a:lnTo>
                          <a:lnTo>
                            <a:pt x="343" y="332"/>
                          </a:lnTo>
                          <a:lnTo>
                            <a:pt x="322" y="357"/>
                          </a:lnTo>
                          <a:lnTo>
                            <a:pt x="303" y="378"/>
                          </a:lnTo>
                          <a:lnTo>
                            <a:pt x="289" y="394"/>
                          </a:lnTo>
                          <a:lnTo>
                            <a:pt x="278" y="410"/>
                          </a:lnTo>
                          <a:lnTo>
                            <a:pt x="268" y="429"/>
                          </a:lnTo>
                          <a:lnTo>
                            <a:pt x="259" y="449"/>
                          </a:lnTo>
                          <a:lnTo>
                            <a:pt x="5" y="449"/>
                          </a:lnTo>
                          <a:lnTo>
                            <a:pt x="2" y="445"/>
                          </a:lnTo>
                          <a:lnTo>
                            <a:pt x="0" y="433"/>
                          </a:lnTo>
                          <a:lnTo>
                            <a:pt x="0" y="415"/>
                          </a:lnTo>
                          <a:lnTo>
                            <a:pt x="7" y="387"/>
                          </a:lnTo>
                          <a:lnTo>
                            <a:pt x="21" y="353"/>
                          </a:lnTo>
                          <a:lnTo>
                            <a:pt x="49" y="313"/>
                          </a:lnTo>
                          <a:lnTo>
                            <a:pt x="92" y="265"/>
                          </a:lnTo>
                          <a:lnTo>
                            <a:pt x="155" y="210"/>
                          </a:lnTo>
                          <a:lnTo>
                            <a:pt x="5" y="53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d7d7d7"/>
                        </a:gs>
                        <a:gs pos="100000">
                          <a:srgbClr val="ffffff"/>
                        </a:gs>
                      </a:gsLst>
                      <a:lin ang="5400000"/>
                    </a:gra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6" name=""/>
                    <p:cNvSpPr/>
                    <p:nvPr/>
                  </p:nvSpPr>
                  <p:spPr>
                    <a:xfrm flipH="1">
                      <a:off x="2295000" y="3489840"/>
                      <a:ext cx="43920" cy="4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8" h="134">
                          <a:moveTo>
                            <a:pt x="65" y="134"/>
                          </a:moveTo>
                          <a:lnTo>
                            <a:pt x="80" y="131"/>
                          </a:lnTo>
                          <a:lnTo>
                            <a:pt x="94" y="129"/>
                          </a:lnTo>
                          <a:lnTo>
                            <a:pt x="105" y="122"/>
                          </a:lnTo>
                          <a:lnTo>
                            <a:pt x="117" y="113"/>
                          </a:lnTo>
                          <a:lnTo>
                            <a:pt x="127" y="104"/>
                          </a:lnTo>
                          <a:lnTo>
                            <a:pt x="134" y="92"/>
                          </a:lnTo>
                          <a:lnTo>
                            <a:pt x="136" y="78"/>
                          </a:lnTo>
                          <a:lnTo>
                            <a:pt x="138" y="65"/>
                          </a:lnTo>
                          <a:lnTo>
                            <a:pt x="136" y="51"/>
                          </a:lnTo>
                          <a:lnTo>
                            <a:pt x="134" y="39"/>
                          </a:lnTo>
                          <a:lnTo>
                            <a:pt x="127" y="30"/>
                          </a:lnTo>
                          <a:lnTo>
                            <a:pt x="117" y="18"/>
                          </a:lnTo>
                          <a:lnTo>
                            <a:pt x="105" y="12"/>
                          </a:lnTo>
                          <a:lnTo>
                            <a:pt x="94" y="5"/>
                          </a:lnTo>
                          <a:lnTo>
                            <a:pt x="80" y="2"/>
                          </a:lnTo>
                          <a:lnTo>
                            <a:pt x="65" y="0"/>
                          </a:lnTo>
                          <a:lnTo>
                            <a:pt x="40" y="5"/>
                          </a:lnTo>
                          <a:lnTo>
                            <a:pt x="18" y="18"/>
                          </a:lnTo>
                          <a:lnTo>
                            <a:pt x="4" y="39"/>
                          </a:lnTo>
                          <a:lnTo>
                            <a:pt x="0" y="65"/>
                          </a:lnTo>
                          <a:lnTo>
                            <a:pt x="4" y="92"/>
                          </a:lnTo>
                          <a:lnTo>
                            <a:pt x="18" y="113"/>
                          </a:lnTo>
                          <a:lnTo>
                            <a:pt x="40" y="129"/>
                          </a:lnTo>
                          <a:lnTo>
                            <a:pt x="65" y="134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0" bIns="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1077" name=""/>
              <p:cNvSpPr/>
              <p:nvPr/>
            </p:nvSpPr>
            <p:spPr>
              <a:xfrm>
                <a:off x="228600" y="1752480"/>
                <a:ext cx="3852000" cy="3200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entury Gothic"/>
                    <a:ea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slow" advTm="15000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8" name=""/>
          <p:cNvGrpSpPr/>
          <p:nvPr/>
        </p:nvGrpSpPr>
        <p:grpSpPr>
          <a:xfrm>
            <a:off x="2666880" y="3505320"/>
            <a:ext cx="3353040" cy="3008160"/>
            <a:chOff x="2666880" y="3505320"/>
            <a:chExt cx="3353040" cy="3008160"/>
          </a:xfrm>
        </p:grpSpPr>
        <p:grpSp>
          <p:nvGrpSpPr>
            <p:cNvPr id="1079" name=""/>
            <p:cNvGrpSpPr/>
            <p:nvPr/>
          </p:nvGrpSpPr>
          <p:grpSpPr>
            <a:xfrm>
              <a:off x="2666880" y="3694680"/>
              <a:ext cx="3007800" cy="2818440"/>
              <a:chOff x="2666880" y="3694680"/>
              <a:chExt cx="3007800" cy="2818440"/>
            </a:xfrm>
          </p:grpSpPr>
          <p:grpSp>
            <p:nvGrpSpPr>
              <p:cNvPr id="1080" name=""/>
              <p:cNvGrpSpPr/>
              <p:nvPr/>
            </p:nvGrpSpPr>
            <p:grpSpPr>
              <a:xfrm>
                <a:off x="2717640" y="3694680"/>
                <a:ext cx="2957040" cy="2818440"/>
                <a:chOff x="2717640" y="3694680"/>
                <a:chExt cx="2957040" cy="2818440"/>
              </a:xfrm>
            </p:grpSpPr>
            <p:sp>
              <p:nvSpPr>
                <p:cNvPr id="1081" name=""/>
                <p:cNvSpPr/>
                <p:nvPr/>
              </p:nvSpPr>
              <p:spPr>
                <a:xfrm>
                  <a:off x="2717640" y="3694680"/>
                  <a:ext cx="2957040" cy="2818440"/>
                </a:xfrm>
                <a:custGeom>
                  <a:avLst/>
                  <a:gdLst/>
                  <a:ahLst/>
                  <a:rect l="l" t="t" r="r" b="b"/>
                  <a:pathLst>
                    <a:path w="9996" h="8220">
                      <a:moveTo>
                        <a:pt x="2355" y="0"/>
                      </a:moveTo>
                      <a:lnTo>
                        <a:pt x="2380" y="71"/>
                      </a:lnTo>
                      <a:lnTo>
                        <a:pt x="2351" y="303"/>
                      </a:lnTo>
                      <a:lnTo>
                        <a:pt x="2364" y="403"/>
                      </a:lnTo>
                      <a:lnTo>
                        <a:pt x="2422" y="534"/>
                      </a:lnTo>
                      <a:lnTo>
                        <a:pt x="2469" y="597"/>
                      </a:lnTo>
                      <a:lnTo>
                        <a:pt x="2469" y="614"/>
                      </a:lnTo>
                      <a:lnTo>
                        <a:pt x="2460" y="618"/>
                      </a:lnTo>
                      <a:lnTo>
                        <a:pt x="2511" y="643"/>
                      </a:lnTo>
                      <a:lnTo>
                        <a:pt x="2532" y="618"/>
                      </a:lnTo>
                      <a:lnTo>
                        <a:pt x="2540" y="555"/>
                      </a:lnTo>
                      <a:lnTo>
                        <a:pt x="2599" y="546"/>
                      </a:lnTo>
                      <a:lnTo>
                        <a:pt x="2708" y="630"/>
                      </a:lnTo>
                      <a:lnTo>
                        <a:pt x="2734" y="630"/>
                      </a:lnTo>
                      <a:lnTo>
                        <a:pt x="2742" y="639"/>
                      </a:lnTo>
                      <a:lnTo>
                        <a:pt x="2784" y="572"/>
                      </a:lnTo>
                      <a:lnTo>
                        <a:pt x="2881" y="651"/>
                      </a:lnTo>
                      <a:lnTo>
                        <a:pt x="2889" y="660"/>
                      </a:lnTo>
                      <a:lnTo>
                        <a:pt x="2944" y="614"/>
                      </a:lnTo>
                      <a:lnTo>
                        <a:pt x="2990" y="546"/>
                      </a:lnTo>
                      <a:lnTo>
                        <a:pt x="3032" y="555"/>
                      </a:lnTo>
                      <a:lnTo>
                        <a:pt x="3112" y="668"/>
                      </a:lnTo>
                      <a:lnTo>
                        <a:pt x="3129" y="685"/>
                      </a:lnTo>
                      <a:lnTo>
                        <a:pt x="3175" y="668"/>
                      </a:lnTo>
                      <a:lnTo>
                        <a:pt x="3217" y="639"/>
                      </a:lnTo>
                      <a:lnTo>
                        <a:pt x="3255" y="639"/>
                      </a:lnTo>
                      <a:lnTo>
                        <a:pt x="3398" y="782"/>
                      </a:lnTo>
                      <a:lnTo>
                        <a:pt x="3478" y="773"/>
                      </a:lnTo>
                      <a:lnTo>
                        <a:pt x="3537" y="786"/>
                      </a:lnTo>
                      <a:lnTo>
                        <a:pt x="3591" y="941"/>
                      </a:lnTo>
                      <a:lnTo>
                        <a:pt x="3600" y="1093"/>
                      </a:lnTo>
                      <a:lnTo>
                        <a:pt x="3650" y="1093"/>
                      </a:lnTo>
                      <a:lnTo>
                        <a:pt x="3743" y="1038"/>
                      </a:lnTo>
                      <a:lnTo>
                        <a:pt x="3840" y="925"/>
                      </a:lnTo>
                      <a:lnTo>
                        <a:pt x="3873" y="845"/>
                      </a:lnTo>
                      <a:lnTo>
                        <a:pt x="3911" y="714"/>
                      </a:lnTo>
                      <a:lnTo>
                        <a:pt x="3919" y="588"/>
                      </a:lnTo>
                      <a:lnTo>
                        <a:pt x="3882" y="475"/>
                      </a:lnTo>
                      <a:lnTo>
                        <a:pt x="3856" y="450"/>
                      </a:lnTo>
                      <a:lnTo>
                        <a:pt x="3856" y="412"/>
                      </a:lnTo>
                      <a:lnTo>
                        <a:pt x="3936" y="450"/>
                      </a:lnTo>
                      <a:lnTo>
                        <a:pt x="3991" y="534"/>
                      </a:lnTo>
                      <a:lnTo>
                        <a:pt x="4025" y="563"/>
                      </a:lnTo>
                      <a:lnTo>
                        <a:pt x="4067" y="748"/>
                      </a:lnTo>
                      <a:lnTo>
                        <a:pt x="4025" y="988"/>
                      </a:lnTo>
                      <a:lnTo>
                        <a:pt x="3970" y="1118"/>
                      </a:lnTo>
                      <a:lnTo>
                        <a:pt x="3793" y="1286"/>
                      </a:lnTo>
                      <a:lnTo>
                        <a:pt x="3760" y="1303"/>
                      </a:lnTo>
                      <a:lnTo>
                        <a:pt x="3734" y="1324"/>
                      </a:lnTo>
                      <a:lnTo>
                        <a:pt x="3751" y="1429"/>
                      </a:lnTo>
                      <a:lnTo>
                        <a:pt x="3882" y="1429"/>
                      </a:lnTo>
                      <a:lnTo>
                        <a:pt x="4218" y="1437"/>
                      </a:lnTo>
                      <a:lnTo>
                        <a:pt x="4609" y="1509"/>
                      </a:lnTo>
                      <a:lnTo>
                        <a:pt x="5025" y="1647"/>
                      </a:lnTo>
                      <a:lnTo>
                        <a:pt x="5341" y="1820"/>
                      </a:lnTo>
                      <a:lnTo>
                        <a:pt x="5358" y="1836"/>
                      </a:lnTo>
                      <a:lnTo>
                        <a:pt x="5341" y="1878"/>
                      </a:lnTo>
                      <a:lnTo>
                        <a:pt x="5345" y="1887"/>
                      </a:lnTo>
                      <a:lnTo>
                        <a:pt x="5345" y="1908"/>
                      </a:lnTo>
                      <a:lnTo>
                        <a:pt x="5114" y="2021"/>
                      </a:lnTo>
                      <a:lnTo>
                        <a:pt x="4819" y="2080"/>
                      </a:lnTo>
                      <a:lnTo>
                        <a:pt x="4744" y="2072"/>
                      </a:lnTo>
                      <a:lnTo>
                        <a:pt x="4731" y="2084"/>
                      </a:lnTo>
                      <a:lnTo>
                        <a:pt x="4353" y="2093"/>
                      </a:lnTo>
                      <a:lnTo>
                        <a:pt x="4344" y="2101"/>
                      </a:lnTo>
                      <a:lnTo>
                        <a:pt x="4403" y="2181"/>
                      </a:lnTo>
                      <a:lnTo>
                        <a:pt x="4588" y="2294"/>
                      </a:lnTo>
                      <a:lnTo>
                        <a:pt x="4643" y="2320"/>
                      </a:lnTo>
                      <a:lnTo>
                        <a:pt x="4672" y="2320"/>
                      </a:lnTo>
                      <a:lnTo>
                        <a:pt x="4857" y="2374"/>
                      </a:lnTo>
                      <a:lnTo>
                        <a:pt x="4971" y="2391"/>
                      </a:lnTo>
                      <a:lnTo>
                        <a:pt x="5042" y="2408"/>
                      </a:lnTo>
                      <a:lnTo>
                        <a:pt x="5105" y="2408"/>
                      </a:lnTo>
                      <a:lnTo>
                        <a:pt x="5122" y="2421"/>
                      </a:lnTo>
                      <a:lnTo>
                        <a:pt x="5173" y="2421"/>
                      </a:lnTo>
                      <a:lnTo>
                        <a:pt x="5202" y="2437"/>
                      </a:lnTo>
                      <a:lnTo>
                        <a:pt x="5547" y="2437"/>
                      </a:lnTo>
                      <a:lnTo>
                        <a:pt x="5770" y="2429"/>
                      </a:lnTo>
                      <a:lnTo>
                        <a:pt x="6035" y="2408"/>
                      </a:lnTo>
                      <a:lnTo>
                        <a:pt x="6052" y="2391"/>
                      </a:lnTo>
                      <a:lnTo>
                        <a:pt x="6300" y="2383"/>
                      </a:lnTo>
                      <a:lnTo>
                        <a:pt x="6413" y="2374"/>
                      </a:lnTo>
                      <a:lnTo>
                        <a:pt x="6535" y="2349"/>
                      </a:lnTo>
                      <a:lnTo>
                        <a:pt x="6687" y="2349"/>
                      </a:lnTo>
                      <a:lnTo>
                        <a:pt x="6872" y="2336"/>
                      </a:lnTo>
                      <a:lnTo>
                        <a:pt x="7351" y="2349"/>
                      </a:lnTo>
                      <a:lnTo>
                        <a:pt x="7380" y="2349"/>
                      </a:lnTo>
                      <a:lnTo>
                        <a:pt x="7393" y="2336"/>
                      </a:lnTo>
                      <a:lnTo>
                        <a:pt x="7477" y="2269"/>
                      </a:lnTo>
                      <a:lnTo>
                        <a:pt x="7485" y="2269"/>
                      </a:lnTo>
                      <a:lnTo>
                        <a:pt x="7633" y="2240"/>
                      </a:lnTo>
                      <a:lnTo>
                        <a:pt x="7729" y="2240"/>
                      </a:lnTo>
                      <a:lnTo>
                        <a:pt x="7982" y="2400"/>
                      </a:lnTo>
                      <a:lnTo>
                        <a:pt x="8057" y="2429"/>
                      </a:lnTo>
                      <a:lnTo>
                        <a:pt x="8167" y="2437"/>
                      </a:lnTo>
                      <a:lnTo>
                        <a:pt x="8175" y="2446"/>
                      </a:lnTo>
                      <a:lnTo>
                        <a:pt x="8209" y="2429"/>
                      </a:lnTo>
                      <a:lnTo>
                        <a:pt x="8369" y="2479"/>
                      </a:lnTo>
                      <a:lnTo>
                        <a:pt x="8659" y="2639"/>
                      </a:lnTo>
                      <a:lnTo>
                        <a:pt x="8848" y="2799"/>
                      </a:lnTo>
                      <a:lnTo>
                        <a:pt x="8970" y="2782"/>
                      </a:lnTo>
                      <a:lnTo>
                        <a:pt x="9121" y="2782"/>
                      </a:lnTo>
                      <a:lnTo>
                        <a:pt x="9269" y="2841"/>
                      </a:lnTo>
                      <a:lnTo>
                        <a:pt x="9332" y="2925"/>
                      </a:lnTo>
                      <a:lnTo>
                        <a:pt x="9369" y="3047"/>
                      </a:lnTo>
                      <a:lnTo>
                        <a:pt x="9353" y="3257"/>
                      </a:lnTo>
                      <a:lnTo>
                        <a:pt x="9332" y="3320"/>
                      </a:lnTo>
                      <a:lnTo>
                        <a:pt x="9306" y="3345"/>
                      </a:lnTo>
                      <a:lnTo>
                        <a:pt x="9428" y="3488"/>
                      </a:lnTo>
                      <a:lnTo>
                        <a:pt x="9491" y="3597"/>
                      </a:lnTo>
                      <a:lnTo>
                        <a:pt x="9605" y="3778"/>
                      </a:lnTo>
                      <a:lnTo>
                        <a:pt x="9811" y="4337"/>
                      </a:lnTo>
                      <a:lnTo>
                        <a:pt x="9899" y="4786"/>
                      </a:lnTo>
                      <a:lnTo>
                        <a:pt x="9941" y="5249"/>
                      </a:lnTo>
                      <a:lnTo>
                        <a:pt x="9933" y="5673"/>
                      </a:lnTo>
                      <a:lnTo>
                        <a:pt x="9933" y="5795"/>
                      </a:lnTo>
                      <a:lnTo>
                        <a:pt x="9971" y="5913"/>
                      </a:lnTo>
                      <a:lnTo>
                        <a:pt x="9979" y="6018"/>
                      </a:lnTo>
                      <a:lnTo>
                        <a:pt x="9996" y="6098"/>
                      </a:lnTo>
                      <a:lnTo>
                        <a:pt x="9954" y="6505"/>
                      </a:lnTo>
                      <a:lnTo>
                        <a:pt x="9891" y="6736"/>
                      </a:lnTo>
                      <a:lnTo>
                        <a:pt x="9748" y="6980"/>
                      </a:lnTo>
                      <a:lnTo>
                        <a:pt x="9723" y="6980"/>
                      </a:lnTo>
                      <a:lnTo>
                        <a:pt x="9689" y="6904"/>
                      </a:lnTo>
                      <a:lnTo>
                        <a:pt x="9685" y="6795"/>
                      </a:lnTo>
                      <a:lnTo>
                        <a:pt x="9668" y="6602"/>
                      </a:lnTo>
                      <a:lnTo>
                        <a:pt x="9634" y="6421"/>
                      </a:lnTo>
                      <a:lnTo>
                        <a:pt x="9651" y="6400"/>
                      </a:lnTo>
                      <a:lnTo>
                        <a:pt x="9634" y="6379"/>
                      </a:lnTo>
                      <a:lnTo>
                        <a:pt x="9660" y="6123"/>
                      </a:lnTo>
                      <a:lnTo>
                        <a:pt x="9676" y="6098"/>
                      </a:lnTo>
                      <a:lnTo>
                        <a:pt x="9676" y="6051"/>
                      </a:lnTo>
                      <a:lnTo>
                        <a:pt x="9756" y="5799"/>
                      </a:lnTo>
                      <a:lnTo>
                        <a:pt x="9777" y="5753"/>
                      </a:lnTo>
                      <a:lnTo>
                        <a:pt x="9773" y="5148"/>
                      </a:lnTo>
                      <a:lnTo>
                        <a:pt x="9756" y="5043"/>
                      </a:lnTo>
                      <a:lnTo>
                        <a:pt x="9756" y="4980"/>
                      </a:lnTo>
                      <a:lnTo>
                        <a:pt x="9723" y="4812"/>
                      </a:lnTo>
                      <a:lnTo>
                        <a:pt x="9702" y="4631"/>
                      </a:lnTo>
                      <a:lnTo>
                        <a:pt x="9660" y="4463"/>
                      </a:lnTo>
                      <a:lnTo>
                        <a:pt x="9668" y="4454"/>
                      </a:lnTo>
                      <a:lnTo>
                        <a:pt x="9563" y="4106"/>
                      </a:lnTo>
                      <a:lnTo>
                        <a:pt x="9428" y="3833"/>
                      </a:lnTo>
                      <a:lnTo>
                        <a:pt x="9315" y="3694"/>
                      </a:lnTo>
                      <a:lnTo>
                        <a:pt x="9281" y="3681"/>
                      </a:lnTo>
                      <a:lnTo>
                        <a:pt x="9269" y="3664"/>
                      </a:lnTo>
                      <a:lnTo>
                        <a:pt x="9130" y="3975"/>
                      </a:lnTo>
                      <a:lnTo>
                        <a:pt x="9033" y="4257"/>
                      </a:lnTo>
                      <a:lnTo>
                        <a:pt x="8978" y="4568"/>
                      </a:lnTo>
                      <a:lnTo>
                        <a:pt x="8995" y="4585"/>
                      </a:lnTo>
                      <a:lnTo>
                        <a:pt x="8987" y="4618"/>
                      </a:lnTo>
                      <a:lnTo>
                        <a:pt x="8978" y="5072"/>
                      </a:lnTo>
                      <a:lnTo>
                        <a:pt x="8978" y="5417"/>
                      </a:lnTo>
                      <a:lnTo>
                        <a:pt x="9025" y="5644"/>
                      </a:lnTo>
                      <a:lnTo>
                        <a:pt x="9100" y="5896"/>
                      </a:lnTo>
                      <a:lnTo>
                        <a:pt x="9067" y="6018"/>
                      </a:lnTo>
                      <a:lnTo>
                        <a:pt x="8915" y="6329"/>
                      </a:lnTo>
                      <a:lnTo>
                        <a:pt x="8835" y="6459"/>
                      </a:lnTo>
                      <a:lnTo>
                        <a:pt x="8751" y="6690"/>
                      </a:lnTo>
                      <a:lnTo>
                        <a:pt x="8730" y="6749"/>
                      </a:lnTo>
                      <a:lnTo>
                        <a:pt x="8650" y="7131"/>
                      </a:lnTo>
                      <a:lnTo>
                        <a:pt x="8608" y="7379"/>
                      </a:lnTo>
                      <a:lnTo>
                        <a:pt x="8596" y="7505"/>
                      </a:lnTo>
                      <a:lnTo>
                        <a:pt x="8583" y="7699"/>
                      </a:lnTo>
                      <a:lnTo>
                        <a:pt x="8562" y="7732"/>
                      </a:lnTo>
                      <a:lnTo>
                        <a:pt x="8545" y="7732"/>
                      </a:lnTo>
                      <a:lnTo>
                        <a:pt x="8537" y="7724"/>
                      </a:lnTo>
                      <a:lnTo>
                        <a:pt x="8474" y="7770"/>
                      </a:lnTo>
                      <a:lnTo>
                        <a:pt x="8457" y="7770"/>
                      </a:lnTo>
                      <a:lnTo>
                        <a:pt x="8394" y="7867"/>
                      </a:lnTo>
                      <a:lnTo>
                        <a:pt x="8369" y="7951"/>
                      </a:lnTo>
                      <a:lnTo>
                        <a:pt x="8331" y="8022"/>
                      </a:lnTo>
                      <a:lnTo>
                        <a:pt x="8318" y="8077"/>
                      </a:lnTo>
                      <a:lnTo>
                        <a:pt x="8289" y="8119"/>
                      </a:lnTo>
                      <a:lnTo>
                        <a:pt x="8167" y="8182"/>
                      </a:lnTo>
                      <a:lnTo>
                        <a:pt x="7944" y="8220"/>
                      </a:lnTo>
                      <a:lnTo>
                        <a:pt x="7654" y="8148"/>
                      </a:lnTo>
                      <a:lnTo>
                        <a:pt x="7582" y="8106"/>
                      </a:lnTo>
                      <a:lnTo>
                        <a:pt x="7544" y="8052"/>
                      </a:lnTo>
                      <a:lnTo>
                        <a:pt x="7570" y="7997"/>
                      </a:lnTo>
                      <a:lnTo>
                        <a:pt x="7582" y="7875"/>
                      </a:lnTo>
                      <a:lnTo>
                        <a:pt x="7717" y="7610"/>
                      </a:lnTo>
                      <a:lnTo>
                        <a:pt x="7767" y="7547"/>
                      </a:lnTo>
                      <a:lnTo>
                        <a:pt x="7978" y="7203"/>
                      </a:lnTo>
                      <a:lnTo>
                        <a:pt x="7994" y="7140"/>
                      </a:lnTo>
                      <a:lnTo>
                        <a:pt x="8024" y="7085"/>
                      </a:lnTo>
                      <a:lnTo>
                        <a:pt x="8074" y="6938"/>
                      </a:lnTo>
                      <a:lnTo>
                        <a:pt x="8078" y="6938"/>
                      </a:lnTo>
                      <a:lnTo>
                        <a:pt x="8120" y="6820"/>
                      </a:lnTo>
                      <a:lnTo>
                        <a:pt x="8192" y="6564"/>
                      </a:lnTo>
                      <a:lnTo>
                        <a:pt x="8226" y="6379"/>
                      </a:lnTo>
                      <a:lnTo>
                        <a:pt x="8272" y="6148"/>
                      </a:lnTo>
                      <a:lnTo>
                        <a:pt x="8255" y="6064"/>
                      </a:lnTo>
                      <a:lnTo>
                        <a:pt x="8150" y="5929"/>
                      </a:lnTo>
                      <a:lnTo>
                        <a:pt x="8146" y="5921"/>
                      </a:lnTo>
                      <a:lnTo>
                        <a:pt x="8057" y="6064"/>
                      </a:lnTo>
                      <a:lnTo>
                        <a:pt x="7978" y="6161"/>
                      </a:lnTo>
                      <a:lnTo>
                        <a:pt x="7906" y="6211"/>
                      </a:lnTo>
                      <a:lnTo>
                        <a:pt x="7881" y="6253"/>
                      </a:lnTo>
                      <a:lnTo>
                        <a:pt x="7982" y="6530"/>
                      </a:lnTo>
                      <a:lnTo>
                        <a:pt x="7961" y="6635"/>
                      </a:lnTo>
                      <a:lnTo>
                        <a:pt x="7889" y="6699"/>
                      </a:lnTo>
                      <a:lnTo>
                        <a:pt x="7784" y="6699"/>
                      </a:lnTo>
                      <a:lnTo>
                        <a:pt x="7713" y="6610"/>
                      </a:lnTo>
                      <a:lnTo>
                        <a:pt x="7671" y="6484"/>
                      </a:lnTo>
                      <a:lnTo>
                        <a:pt x="7645" y="6388"/>
                      </a:lnTo>
                      <a:lnTo>
                        <a:pt x="7641" y="6379"/>
                      </a:lnTo>
                      <a:lnTo>
                        <a:pt x="7549" y="6425"/>
                      </a:lnTo>
                      <a:lnTo>
                        <a:pt x="7464" y="6451"/>
                      </a:lnTo>
                      <a:lnTo>
                        <a:pt x="7456" y="6451"/>
                      </a:lnTo>
                      <a:lnTo>
                        <a:pt x="7439" y="6467"/>
                      </a:lnTo>
                      <a:lnTo>
                        <a:pt x="7456" y="6732"/>
                      </a:lnTo>
                      <a:lnTo>
                        <a:pt x="7439" y="6770"/>
                      </a:lnTo>
                      <a:lnTo>
                        <a:pt x="7305" y="6875"/>
                      </a:lnTo>
                      <a:lnTo>
                        <a:pt x="7233" y="7052"/>
                      </a:lnTo>
                      <a:lnTo>
                        <a:pt x="7208" y="7182"/>
                      </a:lnTo>
                      <a:lnTo>
                        <a:pt x="7174" y="7291"/>
                      </a:lnTo>
                      <a:lnTo>
                        <a:pt x="7078" y="7337"/>
                      </a:lnTo>
                      <a:lnTo>
                        <a:pt x="6918" y="7350"/>
                      </a:lnTo>
                      <a:lnTo>
                        <a:pt x="6783" y="7379"/>
                      </a:lnTo>
                      <a:lnTo>
                        <a:pt x="6476" y="7333"/>
                      </a:lnTo>
                      <a:lnTo>
                        <a:pt x="6430" y="7266"/>
                      </a:lnTo>
                      <a:lnTo>
                        <a:pt x="6405" y="7169"/>
                      </a:lnTo>
                      <a:lnTo>
                        <a:pt x="6413" y="7140"/>
                      </a:lnTo>
                      <a:lnTo>
                        <a:pt x="6422" y="7094"/>
                      </a:lnTo>
                      <a:lnTo>
                        <a:pt x="6539" y="6841"/>
                      </a:lnTo>
                      <a:lnTo>
                        <a:pt x="6623" y="6724"/>
                      </a:lnTo>
                      <a:lnTo>
                        <a:pt x="6623" y="6547"/>
                      </a:lnTo>
                      <a:lnTo>
                        <a:pt x="6644" y="6476"/>
                      </a:lnTo>
                      <a:lnTo>
                        <a:pt x="6661" y="6459"/>
                      </a:lnTo>
                      <a:lnTo>
                        <a:pt x="6687" y="6325"/>
                      </a:lnTo>
                      <a:lnTo>
                        <a:pt x="6716" y="6232"/>
                      </a:lnTo>
                      <a:lnTo>
                        <a:pt x="6716" y="6211"/>
                      </a:lnTo>
                      <a:lnTo>
                        <a:pt x="6623" y="6060"/>
                      </a:lnTo>
                      <a:lnTo>
                        <a:pt x="6560" y="5787"/>
                      </a:lnTo>
                      <a:lnTo>
                        <a:pt x="6548" y="5631"/>
                      </a:lnTo>
                      <a:lnTo>
                        <a:pt x="6468" y="5619"/>
                      </a:lnTo>
                      <a:lnTo>
                        <a:pt x="6283" y="5631"/>
                      </a:lnTo>
                      <a:lnTo>
                        <a:pt x="5980" y="5652"/>
                      </a:lnTo>
                      <a:lnTo>
                        <a:pt x="5791" y="5652"/>
                      </a:lnTo>
                      <a:lnTo>
                        <a:pt x="5341" y="5644"/>
                      </a:lnTo>
                      <a:lnTo>
                        <a:pt x="4979" y="5568"/>
                      </a:lnTo>
                      <a:lnTo>
                        <a:pt x="4794" y="5513"/>
                      </a:lnTo>
                      <a:lnTo>
                        <a:pt x="4546" y="5387"/>
                      </a:lnTo>
                      <a:lnTo>
                        <a:pt x="4424" y="5295"/>
                      </a:lnTo>
                      <a:lnTo>
                        <a:pt x="4395" y="5316"/>
                      </a:lnTo>
                      <a:lnTo>
                        <a:pt x="4369" y="5371"/>
                      </a:lnTo>
                      <a:lnTo>
                        <a:pt x="4344" y="5547"/>
                      </a:lnTo>
                      <a:lnTo>
                        <a:pt x="4336" y="5778"/>
                      </a:lnTo>
                      <a:lnTo>
                        <a:pt x="4315" y="5883"/>
                      </a:lnTo>
                      <a:lnTo>
                        <a:pt x="4290" y="5913"/>
                      </a:lnTo>
                      <a:lnTo>
                        <a:pt x="4290" y="5967"/>
                      </a:lnTo>
                      <a:lnTo>
                        <a:pt x="4247" y="6051"/>
                      </a:lnTo>
                      <a:lnTo>
                        <a:pt x="4184" y="6123"/>
                      </a:lnTo>
                      <a:lnTo>
                        <a:pt x="4193" y="6131"/>
                      </a:lnTo>
                      <a:lnTo>
                        <a:pt x="4210" y="6131"/>
                      </a:lnTo>
                      <a:lnTo>
                        <a:pt x="4067" y="6497"/>
                      </a:lnTo>
                      <a:lnTo>
                        <a:pt x="4033" y="6619"/>
                      </a:lnTo>
                      <a:lnTo>
                        <a:pt x="4016" y="6635"/>
                      </a:lnTo>
                      <a:lnTo>
                        <a:pt x="3991" y="6963"/>
                      </a:lnTo>
                      <a:lnTo>
                        <a:pt x="4033" y="7165"/>
                      </a:lnTo>
                      <a:lnTo>
                        <a:pt x="4071" y="7245"/>
                      </a:lnTo>
                      <a:lnTo>
                        <a:pt x="4071" y="7371"/>
                      </a:lnTo>
                      <a:lnTo>
                        <a:pt x="4041" y="7421"/>
                      </a:lnTo>
                      <a:lnTo>
                        <a:pt x="3974" y="7434"/>
                      </a:lnTo>
                      <a:lnTo>
                        <a:pt x="3898" y="7531"/>
                      </a:lnTo>
                      <a:lnTo>
                        <a:pt x="3856" y="7795"/>
                      </a:lnTo>
                      <a:lnTo>
                        <a:pt x="3865" y="7804"/>
                      </a:lnTo>
                      <a:lnTo>
                        <a:pt x="3865" y="7854"/>
                      </a:lnTo>
                      <a:lnTo>
                        <a:pt x="3840" y="7858"/>
                      </a:lnTo>
                      <a:lnTo>
                        <a:pt x="3777" y="7989"/>
                      </a:lnTo>
                      <a:lnTo>
                        <a:pt x="3600" y="8094"/>
                      </a:lnTo>
                      <a:lnTo>
                        <a:pt x="3369" y="8102"/>
                      </a:lnTo>
                      <a:lnTo>
                        <a:pt x="3184" y="8068"/>
                      </a:lnTo>
                      <a:lnTo>
                        <a:pt x="3158" y="8052"/>
                      </a:lnTo>
                      <a:lnTo>
                        <a:pt x="2902" y="7980"/>
                      </a:lnTo>
                      <a:lnTo>
                        <a:pt x="2805" y="7909"/>
                      </a:lnTo>
                      <a:lnTo>
                        <a:pt x="2759" y="7829"/>
                      </a:lnTo>
                      <a:lnTo>
                        <a:pt x="2792" y="7652"/>
                      </a:lnTo>
                      <a:lnTo>
                        <a:pt x="2830" y="7573"/>
                      </a:lnTo>
                      <a:lnTo>
                        <a:pt x="2910" y="7468"/>
                      </a:lnTo>
                      <a:lnTo>
                        <a:pt x="3074" y="7346"/>
                      </a:lnTo>
                      <a:lnTo>
                        <a:pt x="3041" y="7337"/>
                      </a:lnTo>
                      <a:lnTo>
                        <a:pt x="3036" y="7337"/>
                      </a:lnTo>
                      <a:lnTo>
                        <a:pt x="2792" y="7371"/>
                      </a:lnTo>
                      <a:lnTo>
                        <a:pt x="2599" y="7308"/>
                      </a:lnTo>
                      <a:lnTo>
                        <a:pt x="2519" y="7253"/>
                      </a:lnTo>
                      <a:lnTo>
                        <a:pt x="2414" y="7140"/>
                      </a:lnTo>
                      <a:lnTo>
                        <a:pt x="2406" y="7098"/>
                      </a:lnTo>
                      <a:lnTo>
                        <a:pt x="2422" y="6997"/>
                      </a:lnTo>
                      <a:lnTo>
                        <a:pt x="2494" y="6892"/>
                      </a:lnTo>
                      <a:lnTo>
                        <a:pt x="2742" y="6661"/>
                      </a:lnTo>
                      <a:lnTo>
                        <a:pt x="2919" y="6379"/>
                      </a:lnTo>
                      <a:lnTo>
                        <a:pt x="2965" y="6245"/>
                      </a:lnTo>
                      <a:lnTo>
                        <a:pt x="2982" y="5883"/>
                      </a:lnTo>
                      <a:lnTo>
                        <a:pt x="2952" y="5619"/>
                      </a:lnTo>
                      <a:lnTo>
                        <a:pt x="2965" y="5505"/>
                      </a:lnTo>
                      <a:lnTo>
                        <a:pt x="3049" y="5387"/>
                      </a:lnTo>
                      <a:lnTo>
                        <a:pt x="3087" y="5337"/>
                      </a:lnTo>
                      <a:lnTo>
                        <a:pt x="3142" y="5055"/>
                      </a:lnTo>
                      <a:lnTo>
                        <a:pt x="3133" y="5034"/>
                      </a:lnTo>
                      <a:lnTo>
                        <a:pt x="3133" y="5026"/>
                      </a:lnTo>
                      <a:lnTo>
                        <a:pt x="2990" y="4980"/>
                      </a:lnTo>
                      <a:lnTo>
                        <a:pt x="2822" y="4833"/>
                      </a:lnTo>
                      <a:lnTo>
                        <a:pt x="2696" y="4560"/>
                      </a:lnTo>
                      <a:lnTo>
                        <a:pt x="2662" y="4391"/>
                      </a:lnTo>
                      <a:lnTo>
                        <a:pt x="2654" y="4194"/>
                      </a:lnTo>
                      <a:lnTo>
                        <a:pt x="2645" y="3904"/>
                      </a:lnTo>
                      <a:lnTo>
                        <a:pt x="2607" y="3664"/>
                      </a:lnTo>
                      <a:lnTo>
                        <a:pt x="2557" y="3513"/>
                      </a:lnTo>
                      <a:lnTo>
                        <a:pt x="2414" y="3143"/>
                      </a:lnTo>
                      <a:lnTo>
                        <a:pt x="2389" y="3009"/>
                      </a:lnTo>
                      <a:lnTo>
                        <a:pt x="2288" y="2727"/>
                      </a:lnTo>
                      <a:lnTo>
                        <a:pt x="2191" y="2542"/>
                      </a:lnTo>
                      <a:lnTo>
                        <a:pt x="2132" y="2471"/>
                      </a:lnTo>
                      <a:lnTo>
                        <a:pt x="2069" y="2437"/>
                      </a:lnTo>
                      <a:lnTo>
                        <a:pt x="1893" y="2421"/>
                      </a:lnTo>
                      <a:lnTo>
                        <a:pt x="1426" y="2391"/>
                      </a:lnTo>
                      <a:lnTo>
                        <a:pt x="1388" y="2374"/>
                      </a:lnTo>
                      <a:lnTo>
                        <a:pt x="1157" y="2391"/>
                      </a:lnTo>
                      <a:lnTo>
                        <a:pt x="1106" y="2416"/>
                      </a:lnTo>
                      <a:lnTo>
                        <a:pt x="972" y="2568"/>
                      </a:lnTo>
                      <a:lnTo>
                        <a:pt x="900" y="2597"/>
                      </a:lnTo>
                      <a:lnTo>
                        <a:pt x="724" y="2568"/>
                      </a:lnTo>
                      <a:lnTo>
                        <a:pt x="496" y="2421"/>
                      </a:lnTo>
                      <a:lnTo>
                        <a:pt x="248" y="2231"/>
                      </a:lnTo>
                      <a:lnTo>
                        <a:pt x="168" y="2126"/>
                      </a:lnTo>
                      <a:lnTo>
                        <a:pt x="42" y="1782"/>
                      </a:lnTo>
                      <a:lnTo>
                        <a:pt x="34" y="1702"/>
                      </a:lnTo>
                      <a:lnTo>
                        <a:pt x="0" y="1483"/>
                      </a:lnTo>
                      <a:lnTo>
                        <a:pt x="0" y="1290"/>
                      </a:lnTo>
                      <a:lnTo>
                        <a:pt x="25" y="1227"/>
                      </a:lnTo>
                      <a:lnTo>
                        <a:pt x="147" y="1135"/>
                      </a:lnTo>
                      <a:lnTo>
                        <a:pt x="227" y="1101"/>
                      </a:lnTo>
                      <a:lnTo>
                        <a:pt x="400" y="1093"/>
                      </a:lnTo>
                      <a:lnTo>
                        <a:pt x="433" y="1109"/>
                      </a:lnTo>
                      <a:lnTo>
                        <a:pt x="547" y="1109"/>
                      </a:lnTo>
                      <a:lnTo>
                        <a:pt x="732" y="1214"/>
                      </a:lnTo>
                      <a:lnTo>
                        <a:pt x="829" y="1290"/>
                      </a:lnTo>
                      <a:lnTo>
                        <a:pt x="875" y="1290"/>
                      </a:lnTo>
                      <a:lnTo>
                        <a:pt x="946" y="1261"/>
                      </a:lnTo>
                      <a:lnTo>
                        <a:pt x="1350" y="1189"/>
                      </a:lnTo>
                      <a:lnTo>
                        <a:pt x="1556" y="1156"/>
                      </a:lnTo>
                      <a:lnTo>
                        <a:pt x="1565" y="1147"/>
                      </a:lnTo>
                      <a:lnTo>
                        <a:pt x="1371" y="925"/>
                      </a:lnTo>
                      <a:lnTo>
                        <a:pt x="1203" y="630"/>
                      </a:lnTo>
                      <a:lnTo>
                        <a:pt x="1203" y="534"/>
                      </a:lnTo>
                      <a:lnTo>
                        <a:pt x="1228" y="500"/>
                      </a:lnTo>
                      <a:lnTo>
                        <a:pt x="1333" y="517"/>
                      </a:lnTo>
                      <a:lnTo>
                        <a:pt x="1337" y="508"/>
                      </a:lnTo>
                      <a:lnTo>
                        <a:pt x="1565" y="508"/>
                      </a:lnTo>
                      <a:lnTo>
                        <a:pt x="1590" y="534"/>
                      </a:lnTo>
                      <a:lnTo>
                        <a:pt x="1644" y="534"/>
                      </a:lnTo>
                      <a:lnTo>
                        <a:pt x="1691" y="542"/>
                      </a:lnTo>
                      <a:lnTo>
                        <a:pt x="1733" y="555"/>
                      </a:lnTo>
                      <a:lnTo>
                        <a:pt x="1930" y="605"/>
                      </a:lnTo>
                      <a:lnTo>
                        <a:pt x="2141" y="702"/>
                      </a:lnTo>
                      <a:lnTo>
                        <a:pt x="2166" y="693"/>
                      </a:lnTo>
                      <a:lnTo>
                        <a:pt x="2191" y="668"/>
                      </a:lnTo>
                      <a:lnTo>
                        <a:pt x="2158" y="450"/>
                      </a:lnTo>
                      <a:lnTo>
                        <a:pt x="2166" y="282"/>
                      </a:lnTo>
                      <a:lnTo>
                        <a:pt x="2216" y="139"/>
                      </a:lnTo>
                      <a:lnTo>
                        <a:pt x="2279" y="38"/>
                      </a:lnTo>
                      <a:lnTo>
                        <a:pt x="2355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8b4211"/>
                    </a:gs>
                    <a:gs pos="100000">
                      <a:srgbClr val="b67132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82" name=""/>
                <p:cNvGrpSpPr/>
                <p:nvPr/>
              </p:nvGrpSpPr>
              <p:grpSpPr>
                <a:xfrm>
                  <a:off x="3420720" y="4093560"/>
                  <a:ext cx="114120" cy="106560"/>
                  <a:chOff x="3420720" y="4093560"/>
                  <a:chExt cx="114120" cy="106560"/>
                </a:xfrm>
              </p:grpSpPr>
              <p:sp>
                <p:nvSpPr>
                  <p:cNvPr id="1083" name=""/>
                  <p:cNvSpPr/>
                  <p:nvPr/>
                </p:nvSpPr>
                <p:spPr>
                  <a:xfrm>
                    <a:off x="3420720" y="4093560"/>
                    <a:ext cx="114120" cy="106560"/>
                  </a:xfrm>
                  <a:custGeom>
                    <a:avLst/>
                    <a:gdLst/>
                    <a:ahLst/>
                    <a:rect l="l" t="t" r="r" b="b"/>
                    <a:pathLst>
                      <a:path w="387" h="311">
                        <a:moveTo>
                          <a:pt x="257" y="113"/>
                        </a:moveTo>
                        <a:lnTo>
                          <a:pt x="345" y="122"/>
                        </a:lnTo>
                        <a:lnTo>
                          <a:pt x="387" y="138"/>
                        </a:lnTo>
                        <a:lnTo>
                          <a:pt x="387" y="151"/>
                        </a:lnTo>
                        <a:lnTo>
                          <a:pt x="362" y="176"/>
                        </a:lnTo>
                        <a:lnTo>
                          <a:pt x="291" y="159"/>
                        </a:lnTo>
                        <a:lnTo>
                          <a:pt x="257" y="159"/>
                        </a:lnTo>
                        <a:lnTo>
                          <a:pt x="202" y="281"/>
                        </a:lnTo>
                        <a:lnTo>
                          <a:pt x="143" y="311"/>
                        </a:lnTo>
                        <a:lnTo>
                          <a:pt x="63" y="294"/>
                        </a:lnTo>
                        <a:lnTo>
                          <a:pt x="0" y="201"/>
                        </a:lnTo>
                        <a:lnTo>
                          <a:pt x="0" y="105"/>
                        </a:lnTo>
                        <a:lnTo>
                          <a:pt x="9" y="29"/>
                        </a:lnTo>
                        <a:lnTo>
                          <a:pt x="80" y="0"/>
                        </a:lnTo>
                        <a:lnTo>
                          <a:pt x="211" y="71"/>
                        </a:lnTo>
                        <a:lnTo>
                          <a:pt x="257" y="11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4" name=""/>
                  <p:cNvSpPr/>
                  <p:nvPr/>
                </p:nvSpPr>
                <p:spPr>
                  <a:xfrm>
                    <a:off x="3435480" y="4093560"/>
                    <a:ext cx="47160" cy="60120"/>
                  </a:xfrm>
                  <a:custGeom>
                    <a:avLst/>
                    <a:gdLst/>
                    <a:ahLst/>
                    <a:rect l="l" t="t" r="r" b="b"/>
                    <a:pathLst>
                      <a:path w="160" h="176">
                        <a:moveTo>
                          <a:pt x="160" y="63"/>
                        </a:moveTo>
                        <a:lnTo>
                          <a:pt x="143" y="134"/>
                        </a:lnTo>
                        <a:lnTo>
                          <a:pt x="93" y="176"/>
                        </a:lnTo>
                        <a:lnTo>
                          <a:pt x="47" y="168"/>
                        </a:lnTo>
                        <a:lnTo>
                          <a:pt x="0" y="97"/>
                        </a:lnTo>
                        <a:lnTo>
                          <a:pt x="9" y="50"/>
                        </a:lnTo>
                        <a:lnTo>
                          <a:pt x="17" y="38"/>
                        </a:lnTo>
                        <a:lnTo>
                          <a:pt x="21" y="71"/>
                        </a:lnTo>
                        <a:lnTo>
                          <a:pt x="47" y="97"/>
                        </a:lnTo>
                        <a:lnTo>
                          <a:pt x="72" y="71"/>
                        </a:lnTo>
                        <a:lnTo>
                          <a:pt x="55" y="0"/>
                        </a:lnTo>
                        <a:lnTo>
                          <a:pt x="118" y="17"/>
                        </a:lnTo>
                        <a:lnTo>
                          <a:pt x="160" y="63"/>
                        </a:lnTo>
                        <a:close/>
                      </a:path>
                    </a:pathLst>
                  </a:custGeom>
                  <a:solidFill>
                    <a:srgbClr val="99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320" bIns="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085" name=""/>
              <p:cNvSpPr/>
              <p:nvPr/>
            </p:nvSpPr>
            <p:spPr>
              <a:xfrm>
                <a:off x="4627080" y="6049440"/>
                <a:ext cx="202680" cy="156960"/>
              </a:xfrm>
              <a:custGeom>
                <a:avLst/>
                <a:gdLst/>
                <a:ahLst/>
                <a:rect l="l" t="t" r="r" b="b"/>
                <a:pathLst>
                  <a:path w="686" h="458">
                    <a:moveTo>
                      <a:pt x="576" y="168"/>
                    </a:moveTo>
                    <a:lnTo>
                      <a:pt x="623" y="218"/>
                    </a:lnTo>
                    <a:lnTo>
                      <a:pt x="631" y="248"/>
                    </a:lnTo>
                    <a:lnTo>
                      <a:pt x="686" y="315"/>
                    </a:lnTo>
                    <a:lnTo>
                      <a:pt x="681" y="395"/>
                    </a:lnTo>
                    <a:lnTo>
                      <a:pt x="568" y="432"/>
                    </a:lnTo>
                    <a:lnTo>
                      <a:pt x="480" y="441"/>
                    </a:lnTo>
                    <a:lnTo>
                      <a:pt x="446" y="424"/>
                    </a:lnTo>
                    <a:lnTo>
                      <a:pt x="383" y="458"/>
                    </a:lnTo>
                    <a:lnTo>
                      <a:pt x="189" y="441"/>
                    </a:lnTo>
                    <a:lnTo>
                      <a:pt x="46" y="407"/>
                    </a:lnTo>
                    <a:lnTo>
                      <a:pt x="13" y="361"/>
                    </a:lnTo>
                    <a:lnTo>
                      <a:pt x="0" y="290"/>
                    </a:lnTo>
                    <a:lnTo>
                      <a:pt x="110" y="25"/>
                    </a:lnTo>
                    <a:lnTo>
                      <a:pt x="126" y="0"/>
                    </a:lnTo>
                    <a:lnTo>
                      <a:pt x="328" y="50"/>
                    </a:lnTo>
                    <a:lnTo>
                      <a:pt x="576" y="168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3444120" y="5978520"/>
                <a:ext cx="254880" cy="227520"/>
              </a:xfrm>
              <a:custGeom>
                <a:avLst/>
                <a:gdLst/>
                <a:ahLst/>
                <a:rect l="l" t="t" r="r" b="b"/>
                <a:pathLst>
                  <a:path w="862" h="664">
                    <a:moveTo>
                      <a:pt x="664" y="647"/>
                    </a:moveTo>
                    <a:lnTo>
                      <a:pt x="782" y="559"/>
                    </a:lnTo>
                    <a:lnTo>
                      <a:pt x="845" y="470"/>
                    </a:lnTo>
                    <a:lnTo>
                      <a:pt x="862" y="454"/>
                    </a:lnTo>
                    <a:lnTo>
                      <a:pt x="862" y="445"/>
                    </a:lnTo>
                    <a:lnTo>
                      <a:pt x="774" y="445"/>
                    </a:lnTo>
                    <a:lnTo>
                      <a:pt x="677" y="391"/>
                    </a:lnTo>
                    <a:lnTo>
                      <a:pt x="580" y="319"/>
                    </a:lnTo>
                    <a:lnTo>
                      <a:pt x="534" y="277"/>
                    </a:lnTo>
                    <a:lnTo>
                      <a:pt x="437" y="159"/>
                    </a:lnTo>
                    <a:lnTo>
                      <a:pt x="366" y="12"/>
                    </a:lnTo>
                    <a:lnTo>
                      <a:pt x="349" y="0"/>
                    </a:lnTo>
                    <a:lnTo>
                      <a:pt x="143" y="206"/>
                    </a:lnTo>
                    <a:lnTo>
                      <a:pt x="30" y="327"/>
                    </a:lnTo>
                    <a:lnTo>
                      <a:pt x="0" y="407"/>
                    </a:lnTo>
                    <a:lnTo>
                      <a:pt x="4" y="462"/>
                    </a:lnTo>
                    <a:lnTo>
                      <a:pt x="151" y="601"/>
                    </a:lnTo>
                    <a:lnTo>
                      <a:pt x="294" y="664"/>
                    </a:lnTo>
                    <a:lnTo>
                      <a:pt x="517" y="655"/>
                    </a:lnTo>
                    <a:lnTo>
                      <a:pt x="606" y="638"/>
                    </a:lnTo>
                    <a:lnTo>
                      <a:pt x="622" y="638"/>
                    </a:lnTo>
                    <a:lnTo>
                      <a:pt x="622" y="638"/>
                    </a:lnTo>
                    <a:lnTo>
                      <a:pt x="622" y="638"/>
                    </a:lnTo>
                    <a:lnTo>
                      <a:pt x="622" y="638"/>
                    </a:lnTo>
                    <a:lnTo>
                      <a:pt x="622" y="638"/>
                    </a:lnTo>
                    <a:lnTo>
                      <a:pt x="622" y="638"/>
                    </a:lnTo>
                    <a:lnTo>
                      <a:pt x="622" y="638"/>
                    </a:lnTo>
                    <a:lnTo>
                      <a:pt x="622" y="638"/>
                    </a:lnTo>
                    <a:lnTo>
                      <a:pt x="622" y="638"/>
                    </a:lnTo>
                    <a:lnTo>
                      <a:pt x="627" y="638"/>
                    </a:lnTo>
                    <a:lnTo>
                      <a:pt x="631" y="638"/>
                    </a:lnTo>
                    <a:lnTo>
                      <a:pt x="631" y="638"/>
                    </a:lnTo>
                    <a:lnTo>
                      <a:pt x="664" y="647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3607200" y="6288480"/>
                <a:ext cx="130680" cy="149760"/>
              </a:xfrm>
              <a:custGeom>
                <a:avLst/>
                <a:gdLst/>
                <a:ahLst/>
                <a:rect l="l" t="t" r="r" b="b"/>
                <a:pathLst>
                  <a:path w="442" h="437">
                    <a:moveTo>
                      <a:pt x="341" y="0"/>
                    </a:moveTo>
                    <a:lnTo>
                      <a:pt x="0" y="395"/>
                    </a:lnTo>
                    <a:lnTo>
                      <a:pt x="59" y="416"/>
                    </a:lnTo>
                    <a:lnTo>
                      <a:pt x="118" y="437"/>
                    </a:lnTo>
                    <a:lnTo>
                      <a:pt x="442" y="88"/>
                    </a:lnTo>
                    <a:lnTo>
                      <a:pt x="383" y="51"/>
                    </a:lnTo>
                    <a:lnTo>
                      <a:pt x="341" y="0"/>
                    </a:lnTo>
                    <a:close/>
                  </a:path>
                </a:pathLst>
              </a:custGeom>
              <a:solidFill>
                <a:srgbClr val="ebeb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5002920" y="6298560"/>
                <a:ext cx="82080" cy="184320"/>
              </a:xfrm>
              <a:custGeom>
                <a:avLst/>
                <a:gdLst/>
                <a:ahLst/>
                <a:rect l="l" t="t" r="r" b="b"/>
                <a:pathLst>
                  <a:path w="278" h="538">
                    <a:moveTo>
                      <a:pt x="223" y="0"/>
                    </a:moveTo>
                    <a:lnTo>
                      <a:pt x="248" y="25"/>
                    </a:lnTo>
                    <a:lnTo>
                      <a:pt x="278" y="54"/>
                    </a:lnTo>
                    <a:lnTo>
                      <a:pt x="84" y="538"/>
                    </a:lnTo>
                    <a:lnTo>
                      <a:pt x="38" y="533"/>
                    </a:lnTo>
                    <a:lnTo>
                      <a:pt x="0" y="508"/>
                    </a:lnTo>
                    <a:lnTo>
                      <a:pt x="223" y="0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89" name=""/>
              <p:cNvGrpSpPr/>
              <p:nvPr/>
            </p:nvGrpSpPr>
            <p:grpSpPr>
              <a:xfrm>
                <a:off x="2666880" y="4127040"/>
                <a:ext cx="393120" cy="479520"/>
                <a:chOff x="2666880" y="4127040"/>
                <a:chExt cx="393120" cy="479520"/>
              </a:xfrm>
            </p:grpSpPr>
            <p:sp>
              <p:nvSpPr>
                <p:cNvPr id="1090" name=""/>
                <p:cNvSpPr/>
                <p:nvPr/>
              </p:nvSpPr>
              <p:spPr>
                <a:xfrm>
                  <a:off x="2767320" y="4399200"/>
                  <a:ext cx="109440" cy="207360"/>
                </a:xfrm>
                <a:custGeom>
                  <a:avLst/>
                  <a:gdLst/>
                  <a:ahLst/>
                  <a:rect l="l" t="t" r="r" b="b"/>
                  <a:pathLst>
                    <a:path w="370" h="605">
                      <a:moveTo>
                        <a:pt x="370" y="605"/>
                      </a:moveTo>
                      <a:lnTo>
                        <a:pt x="365" y="597"/>
                      </a:lnTo>
                      <a:lnTo>
                        <a:pt x="361" y="589"/>
                      </a:lnTo>
                      <a:lnTo>
                        <a:pt x="357" y="584"/>
                      </a:lnTo>
                      <a:lnTo>
                        <a:pt x="353" y="576"/>
                      </a:lnTo>
                      <a:lnTo>
                        <a:pt x="349" y="568"/>
                      </a:lnTo>
                      <a:lnTo>
                        <a:pt x="344" y="559"/>
                      </a:lnTo>
                      <a:lnTo>
                        <a:pt x="340" y="555"/>
                      </a:lnTo>
                      <a:lnTo>
                        <a:pt x="340" y="547"/>
                      </a:lnTo>
                      <a:lnTo>
                        <a:pt x="336" y="547"/>
                      </a:lnTo>
                      <a:lnTo>
                        <a:pt x="336" y="547"/>
                      </a:lnTo>
                      <a:lnTo>
                        <a:pt x="332" y="547"/>
                      </a:lnTo>
                      <a:lnTo>
                        <a:pt x="328" y="542"/>
                      </a:lnTo>
                      <a:lnTo>
                        <a:pt x="323" y="542"/>
                      </a:lnTo>
                      <a:lnTo>
                        <a:pt x="319" y="538"/>
                      </a:lnTo>
                      <a:lnTo>
                        <a:pt x="315" y="538"/>
                      </a:lnTo>
                      <a:lnTo>
                        <a:pt x="311" y="538"/>
                      </a:lnTo>
                      <a:lnTo>
                        <a:pt x="307" y="517"/>
                      </a:lnTo>
                      <a:lnTo>
                        <a:pt x="298" y="496"/>
                      </a:lnTo>
                      <a:lnTo>
                        <a:pt x="281" y="475"/>
                      </a:lnTo>
                      <a:lnTo>
                        <a:pt x="269" y="454"/>
                      </a:lnTo>
                      <a:lnTo>
                        <a:pt x="252" y="433"/>
                      </a:lnTo>
                      <a:lnTo>
                        <a:pt x="235" y="412"/>
                      </a:lnTo>
                      <a:lnTo>
                        <a:pt x="227" y="391"/>
                      </a:lnTo>
                      <a:lnTo>
                        <a:pt x="222" y="370"/>
                      </a:lnTo>
                      <a:lnTo>
                        <a:pt x="218" y="370"/>
                      </a:lnTo>
                      <a:lnTo>
                        <a:pt x="218" y="366"/>
                      </a:lnTo>
                      <a:lnTo>
                        <a:pt x="214" y="362"/>
                      </a:lnTo>
                      <a:lnTo>
                        <a:pt x="210" y="358"/>
                      </a:lnTo>
                      <a:lnTo>
                        <a:pt x="210" y="353"/>
                      </a:lnTo>
                      <a:lnTo>
                        <a:pt x="206" y="349"/>
                      </a:lnTo>
                      <a:lnTo>
                        <a:pt x="206" y="341"/>
                      </a:lnTo>
                      <a:lnTo>
                        <a:pt x="201" y="337"/>
                      </a:lnTo>
                      <a:lnTo>
                        <a:pt x="67" y="210"/>
                      </a:lnTo>
                      <a:lnTo>
                        <a:pt x="143" y="412"/>
                      </a:lnTo>
                      <a:lnTo>
                        <a:pt x="370" y="605"/>
                      </a:lnTo>
                      <a:lnTo>
                        <a:pt x="370" y="605"/>
                      </a:lnTo>
                      <a:close/>
                      <a:moveTo>
                        <a:pt x="155" y="219"/>
                      </a:moveTo>
                      <a:lnTo>
                        <a:pt x="151" y="202"/>
                      </a:lnTo>
                      <a:lnTo>
                        <a:pt x="147" y="185"/>
                      </a:lnTo>
                      <a:lnTo>
                        <a:pt x="143" y="173"/>
                      </a:lnTo>
                      <a:lnTo>
                        <a:pt x="138" y="160"/>
                      </a:lnTo>
                      <a:lnTo>
                        <a:pt x="138" y="147"/>
                      </a:lnTo>
                      <a:lnTo>
                        <a:pt x="134" y="135"/>
                      </a:lnTo>
                      <a:lnTo>
                        <a:pt x="134" y="126"/>
                      </a:lnTo>
                      <a:lnTo>
                        <a:pt x="134" y="122"/>
                      </a:lnTo>
                      <a:lnTo>
                        <a:pt x="130" y="118"/>
                      </a:lnTo>
                      <a:lnTo>
                        <a:pt x="130" y="118"/>
                      </a:lnTo>
                      <a:lnTo>
                        <a:pt x="121" y="110"/>
                      </a:lnTo>
                      <a:lnTo>
                        <a:pt x="117" y="105"/>
                      </a:lnTo>
                      <a:lnTo>
                        <a:pt x="113" y="97"/>
                      </a:lnTo>
                      <a:lnTo>
                        <a:pt x="109" y="93"/>
                      </a:lnTo>
                      <a:lnTo>
                        <a:pt x="105" y="84"/>
                      </a:lnTo>
                      <a:lnTo>
                        <a:pt x="105" y="80"/>
                      </a:lnTo>
                      <a:lnTo>
                        <a:pt x="96" y="80"/>
                      </a:lnTo>
                      <a:lnTo>
                        <a:pt x="88" y="72"/>
                      </a:lnTo>
                      <a:lnTo>
                        <a:pt x="79" y="63"/>
                      </a:lnTo>
                      <a:lnTo>
                        <a:pt x="71" y="55"/>
                      </a:lnTo>
                      <a:lnTo>
                        <a:pt x="58" y="42"/>
                      </a:lnTo>
                      <a:lnTo>
                        <a:pt x="50" y="30"/>
                      </a:lnTo>
                      <a:lnTo>
                        <a:pt x="46" y="21"/>
                      </a:lnTo>
                      <a:lnTo>
                        <a:pt x="42" y="13"/>
                      </a:lnTo>
                      <a:lnTo>
                        <a:pt x="33" y="0"/>
                      </a:lnTo>
                      <a:lnTo>
                        <a:pt x="29" y="0"/>
                      </a:lnTo>
                      <a:lnTo>
                        <a:pt x="25" y="0"/>
                      </a:lnTo>
                      <a:lnTo>
                        <a:pt x="21" y="0"/>
                      </a:lnTo>
                      <a:lnTo>
                        <a:pt x="16" y="0"/>
                      </a:lnTo>
                      <a:lnTo>
                        <a:pt x="12" y="5"/>
                      </a:lnTo>
                      <a:lnTo>
                        <a:pt x="8" y="5"/>
                      </a:lnTo>
                      <a:lnTo>
                        <a:pt x="4" y="5"/>
                      </a:lnTo>
                      <a:lnTo>
                        <a:pt x="0" y="5"/>
                      </a:lnTo>
                      <a:lnTo>
                        <a:pt x="16" y="59"/>
                      </a:lnTo>
                      <a:lnTo>
                        <a:pt x="155" y="219"/>
                      </a:lnTo>
                      <a:close/>
                    </a:path>
                  </a:pathLst>
                </a:custGeom>
                <a:solidFill>
                  <a:srgbClr val="ebbdb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91" name=""/>
                <p:cNvGrpSpPr/>
                <p:nvPr/>
              </p:nvGrpSpPr>
              <p:grpSpPr>
                <a:xfrm>
                  <a:off x="2666880" y="4127040"/>
                  <a:ext cx="393120" cy="479520"/>
                  <a:chOff x="2666880" y="4127040"/>
                  <a:chExt cx="393120" cy="479520"/>
                </a:xfrm>
              </p:grpSpPr>
              <p:grpSp>
                <p:nvGrpSpPr>
                  <p:cNvPr id="1092" name=""/>
                  <p:cNvGrpSpPr/>
                  <p:nvPr/>
                </p:nvGrpSpPr>
                <p:grpSpPr>
                  <a:xfrm>
                    <a:off x="2666880" y="4127040"/>
                    <a:ext cx="324360" cy="479520"/>
                    <a:chOff x="2666880" y="4127040"/>
                    <a:chExt cx="324360" cy="479520"/>
                  </a:xfrm>
                </p:grpSpPr>
                <p:sp>
                  <p:nvSpPr>
                    <p:cNvPr id="1093" name=""/>
                    <p:cNvSpPr/>
                    <p:nvPr/>
                  </p:nvSpPr>
                  <p:spPr>
                    <a:xfrm>
                      <a:off x="2666880" y="4127040"/>
                      <a:ext cx="324360" cy="47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7" h="1399">
                          <a:moveTo>
                            <a:pt x="584" y="63"/>
                          </a:moveTo>
                          <a:lnTo>
                            <a:pt x="727" y="168"/>
                          </a:lnTo>
                          <a:lnTo>
                            <a:pt x="912" y="374"/>
                          </a:lnTo>
                          <a:lnTo>
                            <a:pt x="1055" y="656"/>
                          </a:lnTo>
                          <a:lnTo>
                            <a:pt x="1097" y="878"/>
                          </a:lnTo>
                          <a:lnTo>
                            <a:pt x="1080" y="1097"/>
                          </a:lnTo>
                          <a:lnTo>
                            <a:pt x="992" y="1278"/>
                          </a:lnTo>
                          <a:lnTo>
                            <a:pt x="866" y="1399"/>
                          </a:lnTo>
                          <a:lnTo>
                            <a:pt x="744" y="1391"/>
                          </a:lnTo>
                          <a:lnTo>
                            <a:pt x="609" y="1336"/>
                          </a:lnTo>
                          <a:lnTo>
                            <a:pt x="408" y="1193"/>
                          </a:lnTo>
                          <a:lnTo>
                            <a:pt x="181" y="1000"/>
                          </a:lnTo>
                          <a:lnTo>
                            <a:pt x="105" y="798"/>
                          </a:lnTo>
                          <a:lnTo>
                            <a:pt x="294" y="975"/>
                          </a:lnTo>
                          <a:lnTo>
                            <a:pt x="471" y="1072"/>
                          </a:lnTo>
                          <a:lnTo>
                            <a:pt x="639" y="1097"/>
                          </a:lnTo>
                          <a:lnTo>
                            <a:pt x="807" y="1088"/>
                          </a:lnTo>
                          <a:lnTo>
                            <a:pt x="799" y="1151"/>
                          </a:lnTo>
                          <a:lnTo>
                            <a:pt x="761" y="1206"/>
                          </a:lnTo>
                          <a:lnTo>
                            <a:pt x="778" y="1231"/>
                          </a:lnTo>
                          <a:lnTo>
                            <a:pt x="816" y="1231"/>
                          </a:lnTo>
                          <a:lnTo>
                            <a:pt x="866" y="1160"/>
                          </a:lnTo>
                          <a:lnTo>
                            <a:pt x="879" y="992"/>
                          </a:lnTo>
                          <a:lnTo>
                            <a:pt x="870" y="912"/>
                          </a:lnTo>
                          <a:lnTo>
                            <a:pt x="858" y="862"/>
                          </a:lnTo>
                          <a:lnTo>
                            <a:pt x="849" y="853"/>
                          </a:lnTo>
                          <a:lnTo>
                            <a:pt x="832" y="853"/>
                          </a:lnTo>
                          <a:lnTo>
                            <a:pt x="816" y="870"/>
                          </a:lnTo>
                          <a:lnTo>
                            <a:pt x="832" y="1000"/>
                          </a:lnTo>
                          <a:lnTo>
                            <a:pt x="816" y="1025"/>
                          </a:lnTo>
                          <a:lnTo>
                            <a:pt x="794" y="1038"/>
                          </a:lnTo>
                          <a:lnTo>
                            <a:pt x="517" y="1046"/>
                          </a:lnTo>
                          <a:lnTo>
                            <a:pt x="265" y="887"/>
                          </a:lnTo>
                          <a:lnTo>
                            <a:pt x="54" y="647"/>
                          </a:lnTo>
                          <a:lnTo>
                            <a:pt x="0" y="437"/>
                          </a:lnTo>
                          <a:lnTo>
                            <a:pt x="0" y="160"/>
                          </a:lnTo>
                          <a:lnTo>
                            <a:pt x="29" y="92"/>
                          </a:lnTo>
                          <a:lnTo>
                            <a:pt x="143" y="21"/>
                          </a:lnTo>
                          <a:lnTo>
                            <a:pt x="223" y="0"/>
                          </a:lnTo>
                          <a:lnTo>
                            <a:pt x="416" y="4"/>
                          </a:lnTo>
                          <a:lnTo>
                            <a:pt x="584" y="63"/>
                          </a:lnTo>
                          <a:close/>
                        </a:path>
                      </a:pathLst>
                    </a:custGeom>
                    <a:solidFill>
                      <a:srgbClr val="ffcc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4" name=""/>
                    <p:cNvSpPr/>
                    <p:nvPr/>
                  </p:nvSpPr>
                  <p:spPr>
                    <a:xfrm>
                      <a:off x="2750040" y="4200120"/>
                      <a:ext cx="181440" cy="210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4" h="614">
                          <a:moveTo>
                            <a:pt x="307" y="614"/>
                          </a:moveTo>
                          <a:lnTo>
                            <a:pt x="337" y="614"/>
                          </a:lnTo>
                          <a:lnTo>
                            <a:pt x="371" y="610"/>
                          </a:lnTo>
                          <a:lnTo>
                            <a:pt x="400" y="601"/>
                          </a:lnTo>
                          <a:lnTo>
                            <a:pt x="425" y="589"/>
                          </a:lnTo>
                          <a:lnTo>
                            <a:pt x="455" y="576"/>
                          </a:lnTo>
                          <a:lnTo>
                            <a:pt x="480" y="563"/>
                          </a:lnTo>
                          <a:lnTo>
                            <a:pt x="501" y="542"/>
                          </a:lnTo>
                          <a:lnTo>
                            <a:pt x="526" y="526"/>
                          </a:lnTo>
                          <a:lnTo>
                            <a:pt x="543" y="500"/>
                          </a:lnTo>
                          <a:lnTo>
                            <a:pt x="564" y="479"/>
                          </a:lnTo>
                          <a:lnTo>
                            <a:pt x="577" y="454"/>
                          </a:lnTo>
                          <a:lnTo>
                            <a:pt x="589" y="425"/>
                          </a:lnTo>
                          <a:lnTo>
                            <a:pt x="602" y="400"/>
                          </a:lnTo>
                          <a:lnTo>
                            <a:pt x="610" y="370"/>
                          </a:lnTo>
                          <a:lnTo>
                            <a:pt x="614" y="337"/>
                          </a:lnTo>
                          <a:lnTo>
                            <a:pt x="614" y="307"/>
                          </a:lnTo>
                          <a:lnTo>
                            <a:pt x="614" y="274"/>
                          </a:lnTo>
                          <a:lnTo>
                            <a:pt x="610" y="244"/>
                          </a:lnTo>
                          <a:lnTo>
                            <a:pt x="602" y="215"/>
                          </a:lnTo>
                          <a:lnTo>
                            <a:pt x="589" y="185"/>
                          </a:lnTo>
                          <a:lnTo>
                            <a:pt x="577" y="160"/>
                          </a:lnTo>
                          <a:lnTo>
                            <a:pt x="564" y="135"/>
                          </a:lnTo>
                          <a:lnTo>
                            <a:pt x="543" y="110"/>
                          </a:lnTo>
                          <a:lnTo>
                            <a:pt x="526" y="89"/>
                          </a:lnTo>
                          <a:lnTo>
                            <a:pt x="501" y="68"/>
                          </a:lnTo>
                          <a:lnTo>
                            <a:pt x="480" y="51"/>
                          </a:lnTo>
                          <a:lnTo>
                            <a:pt x="455" y="34"/>
                          </a:lnTo>
                          <a:lnTo>
                            <a:pt x="425" y="21"/>
                          </a:lnTo>
                          <a:lnTo>
                            <a:pt x="400" y="13"/>
                          </a:lnTo>
                          <a:lnTo>
                            <a:pt x="371" y="5"/>
                          </a:lnTo>
                          <a:lnTo>
                            <a:pt x="337" y="0"/>
                          </a:lnTo>
                          <a:lnTo>
                            <a:pt x="307" y="0"/>
                          </a:lnTo>
                          <a:lnTo>
                            <a:pt x="274" y="0"/>
                          </a:lnTo>
                          <a:lnTo>
                            <a:pt x="244" y="5"/>
                          </a:lnTo>
                          <a:lnTo>
                            <a:pt x="215" y="13"/>
                          </a:lnTo>
                          <a:lnTo>
                            <a:pt x="185" y="21"/>
                          </a:lnTo>
                          <a:lnTo>
                            <a:pt x="160" y="34"/>
                          </a:lnTo>
                          <a:lnTo>
                            <a:pt x="135" y="51"/>
                          </a:lnTo>
                          <a:lnTo>
                            <a:pt x="110" y="68"/>
                          </a:lnTo>
                          <a:lnTo>
                            <a:pt x="89" y="89"/>
                          </a:lnTo>
                          <a:lnTo>
                            <a:pt x="68" y="110"/>
                          </a:lnTo>
                          <a:lnTo>
                            <a:pt x="51" y="135"/>
                          </a:lnTo>
                          <a:lnTo>
                            <a:pt x="38" y="160"/>
                          </a:lnTo>
                          <a:lnTo>
                            <a:pt x="21" y="185"/>
                          </a:lnTo>
                          <a:lnTo>
                            <a:pt x="13" y="215"/>
                          </a:lnTo>
                          <a:lnTo>
                            <a:pt x="5" y="244"/>
                          </a:lnTo>
                          <a:lnTo>
                            <a:pt x="0" y="274"/>
                          </a:lnTo>
                          <a:lnTo>
                            <a:pt x="0" y="307"/>
                          </a:lnTo>
                          <a:lnTo>
                            <a:pt x="0" y="337"/>
                          </a:lnTo>
                          <a:lnTo>
                            <a:pt x="5" y="370"/>
                          </a:lnTo>
                          <a:lnTo>
                            <a:pt x="13" y="400"/>
                          </a:lnTo>
                          <a:lnTo>
                            <a:pt x="21" y="425"/>
                          </a:lnTo>
                          <a:lnTo>
                            <a:pt x="38" y="454"/>
                          </a:lnTo>
                          <a:lnTo>
                            <a:pt x="51" y="479"/>
                          </a:lnTo>
                          <a:lnTo>
                            <a:pt x="68" y="500"/>
                          </a:lnTo>
                          <a:lnTo>
                            <a:pt x="89" y="526"/>
                          </a:lnTo>
                          <a:lnTo>
                            <a:pt x="110" y="542"/>
                          </a:lnTo>
                          <a:lnTo>
                            <a:pt x="135" y="563"/>
                          </a:lnTo>
                          <a:lnTo>
                            <a:pt x="160" y="576"/>
                          </a:lnTo>
                          <a:lnTo>
                            <a:pt x="185" y="589"/>
                          </a:lnTo>
                          <a:lnTo>
                            <a:pt x="215" y="601"/>
                          </a:lnTo>
                          <a:lnTo>
                            <a:pt x="244" y="610"/>
                          </a:lnTo>
                          <a:lnTo>
                            <a:pt x="274" y="614"/>
                          </a:lnTo>
                          <a:lnTo>
                            <a:pt x="307" y="614"/>
                          </a:lnTo>
                          <a:close/>
                        </a:path>
                      </a:pathLst>
                    </a:custGeom>
                    <a:solidFill>
                      <a:srgbClr val="ffcc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5" name=""/>
                    <p:cNvSpPr/>
                    <p:nvPr/>
                  </p:nvSpPr>
                  <p:spPr>
                    <a:xfrm>
                      <a:off x="2817360" y="4295520"/>
                      <a:ext cx="59400" cy="4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1" h="143">
                          <a:moveTo>
                            <a:pt x="201" y="21"/>
                          </a:moveTo>
                          <a:lnTo>
                            <a:pt x="185" y="96"/>
                          </a:lnTo>
                          <a:lnTo>
                            <a:pt x="117" y="143"/>
                          </a:lnTo>
                          <a:lnTo>
                            <a:pt x="25" y="134"/>
                          </a:lnTo>
                          <a:lnTo>
                            <a:pt x="0" y="109"/>
                          </a:lnTo>
                          <a:lnTo>
                            <a:pt x="16" y="46"/>
                          </a:lnTo>
                          <a:lnTo>
                            <a:pt x="54" y="8"/>
                          </a:lnTo>
                          <a:lnTo>
                            <a:pt x="88" y="0"/>
                          </a:lnTo>
                          <a:lnTo>
                            <a:pt x="168" y="0"/>
                          </a:lnTo>
                          <a:lnTo>
                            <a:pt x="201" y="21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" bIns="2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96" name=""/>
                  <p:cNvSpPr/>
                  <p:nvPr/>
                </p:nvSpPr>
                <p:spPr>
                  <a:xfrm>
                    <a:off x="2742840" y="4176000"/>
                    <a:ext cx="4464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177">
                        <a:moveTo>
                          <a:pt x="151" y="89"/>
                        </a:moveTo>
                        <a:lnTo>
                          <a:pt x="143" y="122"/>
                        </a:lnTo>
                        <a:lnTo>
                          <a:pt x="96" y="169"/>
                        </a:lnTo>
                        <a:lnTo>
                          <a:pt x="38" y="177"/>
                        </a:lnTo>
                        <a:lnTo>
                          <a:pt x="0" y="106"/>
                        </a:lnTo>
                        <a:lnTo>
                          <a:pt x="25" y="34"/>
                        </a:lnTo>
                        <a:lnTo>
                          <a:pt x="71" y="0"/>
                        </a:lnTo>
                        <a:lnTo>
                          <a:pt x="134" y="17"/>
                        </a:lnTo>
                        <a:lnTo>
                          <a:pt x="151" y="89"/>
                        </a:lnTo>
                        <a:close/>
                      </a:path>
                    </a:pathLst>
                  </a:custGeom>
                  <a:solidFill>
                    <a:srgbClr val="19191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97" name=""/>
                  <p:cNvGrpSpPr/>
                  <p:nvPr/>
                </p:nvGrpSpPr>
                <p:grpSpPr>
                  <a:xfrm>
                    <a:off x="2901960" y="4264920"/>
                    <a:ext cx="158040" cy="182880"/>
                    <a:chOff x="2901960" y="4264920"/>
                    <a:chExt cx="158040" cy="182880"/>
                  </a:xfrm>
                </p:grpSpPr>
                <p:grpSp>
                  <p:nvGrpSpPr>
                    <p:cNvPr id="1098" name=""/>
                    <p:cNvGrpSpPr/>
                    <p:nvPr/>
                  </p:nvGrpSpPr>
                  <p:grpSpPr>
                    <a:xfrm>
                      <a:off x="2901960" y="4264920"/>
                      <a:ext cx="158040" cy="182880"/>
                      <a:chOff x="2901960" y="4264920"/>
                      <a:chExt cx="158040" cy="182880"/>
                    </a:xfrm>
                  </p:grpSpPr>
                  <p:grpSp>
                    <p:nvGrpSpPr>
                      <p:cNvPr id="1099" name=""/>
                      <p:cNvGrpSpPr/>
                      <p:nvPr/>
                    </p:nvGrpSpPr>
                    <p:grpSpPr>
                      <a:xfrm>
                        <a:off x="2901960" y="4264920"/>
                        <a:ext cx="158040" cy="182880"/>
                        <a:chOff x="2901960" y="4264920"/>
                        <a:chExt cx="158040" cy="182880"/>
                      </a:xfrm>
                    </p:grpSpPr>
                    <p:sp>
                      <p:nvSpPr>
                        <p:cNvPr id="1100" name=""/>
                        <p:cNvSpPr/>
                        <p:nvPr/>
                      </p:nvSpPr>
                      <p:spPr>
                        <a:xfrm>
                          <a:off x="2901960" y="4264920"/>
                          <a:ext cx="158040" cy="182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35" h="534">
                              <a:moveTo>
                                <a:pt x="265" y="534"/>
                              </a:moveTo>
                              <a:lnTo>
                                <a:pt x="295" y="534"/>
                              </a:lnTo>
                              <a:lnTo>
                                <a:pt x="320" y="529"/>
                              </a:lnTo>
                              <a:lnTo>
                                <a:pt x="345" y="521"/>
                              </a:lnTo>
                              <a:lnTo>
                                <a:pt x="371" y="513"/>
                              </a:lnTo>
                              <a:lnTo>
                                <a:pt x="392" y="500"/>
                              </a:lnTo>
                              <a:lnTo>
                                <a:pt x="417" y="487"/>
                              </a:lnTo>
                              <a:lnTo>
                                <a:pt x="438" y="471"/>
                              </a:lnTo>
                              <a:lnTo>
                                <a:pt x="455" y="454"/>
                              </a:lnTo>
                              <a:lnTo>
                                <a:pt x="471" y="437"/>
                              </a:lnTo>
                              <a:lnTo>
                                <a:pt x="488" y="416"/>
                              </a:lnTo>
                              <a:lnTo>
                                <a:pt x="501" y="395"/>
                              </a:lnTo>
                              <a:lnTo>
                                <a:pt x="514" y="370"/>
                              </a:lnTo>
                              <a:lnTo>
                                <a:pt x="522" y="345"/>
                              </a:lnTo>
                              <a:lnTo>
                                <a:pt x="526" y="319"/>
                              </a:lnTo>
                              <a:lnTo>
                                <a:pt x="530" y="294"/>
                              </a:lnTo>
                              <a:lnTo>
                                <a:pt x="535" y="269"/>
                              </a:lnTo>
                              <a:lnTo>
                                <a:pt x="530" y="240"/>
                              </a:lnTo>
                              <a:lnTo>
                                <a:pt x="526" y="214"/>
                              </a:lnTo>
                              <a:lnTo>
                                <a:pt x="522" y="189"/>
                              </a:lnTo>
                              <a:lnTo>
                                <a:pt x="514" y="164"/>
                              </a:lnTo>
                              <a:lnTo>
                                <a:pt x="501" y="143"/>
                              </a:lnTo>
                              <a:lnTo>
                                <a:pt x="488" y="118"/>
                              </a:lnTo>
                              <a:lnTo>
                                <a:pt x="471" y="97"/>
                              </a:lnTo>
                              <a:lnTo>
                                <a:pt x="455" y="80"/>
                              </a:lnTo>
                              <a:lnTo>
                                <a:pt x="438" y="63"/>
                              </a:lnTo>
                              <a:lnTo>
                                <a:pt x="417" y="46"/>
                              </a:lnTo>
                              <a:lnTo>
                                <a:pt x="392" y="34"/>
                              </a:lnTo>
                              <a:lnTo>
                                <a:pt x="371" y="21"/>
                              </a:lnTo>
                              <a:lnTo>
                                <a:pt x="345" y="13"/>
                              </a:lnTo>
                              <a:lnTo>
                                <a:pt x="320" y="8"/>
                              </a:lnTo>
                              <a:lnTo>
                                <a:pt x="295" y="4"/>
                              </a:lnTo>
                              <a:lnTo>
                                <a:pt x="265" y="0"/>
                              </a:lnTo>
                              <a:lnTo>
                                <a:pt x="240" y="4"/>
                              </a:lnTo>
                              <a:lnTo>
                                <a:pt x="211" y="8"/>
                              </a:lnTo>
                              <a:lnTo>
                                <a:pt x="186" y="13"/>
                              </a:lnTo>
                              <a:lnTo>
                                <a:pt x="165" y="21"/>
                              </a:lnTo>
                              <a:lnTo>
                                <a:pt x="139" y="34"/>
                              </a:lnTo>
                              <a:lnTo>
                                <a:pt x="118" y="46"/>
                              </a:lnTo>
                              <a:lnTo>
                                <a:pt x="97" y="63"/>
                              </a:lnTo>
                              <a:lnTo>
                                <a:pt x="76" y="80"/>
                              </a:lnTo>
                              <a:lnTo>
                                <a:pt x="59" y="97"/>
                              </a:lnTo>
                              <a:lnTo>
                                <a:pt x="47" y="118"/>
                              </a:lnTo>
                              <a:lnTo>
                                <a:pt x="30" y="143"/>
                              </a:lnTo>
                              <a:lnTo>
                                <a:pt x="22" y="164"/>
                              </a:lnTo>
                              <a:lnTo>
                                <a:pt x="13" y="189"/>
                              </a:lnTo>
                              <a:lnTo>
                                <a:pt x="5" y="214"/>
                              </a:lnTo>
                              <a:lnTo>
                                <a:pt x="0" y="240"/>
                              </a:lnTo>
                              <a:lnTo>
                                <a:pt x="0" y="269"/>
                              </a:lnTo>
                              <a:lnTo>
                                <a:pt x="0" y="294"/>
                              </a:lnTo>
                              <a:lnTo>
                                <a:pt x="5" y="319"/>
                              </a:lnTo>
                              <a:lnTo>
                                <a:pt x="13" y="345"/>
                              </a:lnTo>
                              <a:lnTo>
                                <a:pt x="22" y="370"/>
                              </a:lnTo>
                              <a:lnTo>
                                <a:pt x="30" y="395"/>
                              </a:lnTo>
                              <a:lnTo>
                                <a:pt x="47" y="416"/>
                              </a:lnTo>
                              <a:lnTo>
                                <a:pt x="59" y="437"/>
                              </a:lnTo>
                              <a:lnTo>
                                <a:pt x="76" y="454"/>
                              </a:lnTo>
                              <a:lnTo>
                                <a:pt x="97" y="471"/>
                              </a:lnTo>
                              <a:lnTo>
                                <a:pt x="118" y="487"/>
                              </a:lnTo>
                              <a:lnTo>
                                <a:pt x="139" y="500"/>
                              </a:lnTo>
                              <a:lnTo>
                                <a:pt x="165" y="513"/>
                              </a:lnTo>
                              <a:lnTo>
                                <a:pt x="186" y="521"/>
                              </a:lnTo>
                              <a:lnTo>
                                <a:pt x="211" y="529"/>
                              </a:lnTo>
                              <a:lnTo>
                                <a:pt x="240" y="534"/>
                              </a:lnTo>
                              <a:lnTo>
                                <a:pt x="265" y="53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d3d5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01" name=""/>
                        <p:cNvSpPr/>
                        <p:nvPr/>
                      </p:nvSpPr>
                      <p:spPr>
                        <a:xfrm>
                          <a:off x="2926800" y="4264920"/>
                          <a:ext cx="132840" cy="153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50" h="449">
                              <a:moveTo>
                                <a:pt x="227" y="449"/>
                              </a:moveTo>
                              <a:lnTo>
                                <a:pt x="248" y="445"/>
                              </a:lnTo>
                              <a:lnTo>
                                <a:pt x="269" y="445"/>
                              </a:lnTo>
                              <a:lnTo>
                                <a:pt x="290" y="437"/>
                              </a:lnTo>
                              <a:lnTo>
                                <a:pt x="311" y="428"/>
                              </a:lnTo>
                              <a:lnTo>
                                <a:pt x="353" y="412"/>
                              </a:lnTo>
                              <a:lnTo>
                                <a:pt x="386" y="382"/>
                              </a:lnTo>
                              <a:lnTo>
                                <a:pt x="412" y="349"/>
                              </a:lnTo>
                              <a:lnTo>
                                <a:pt x="433" y="311"/>
                              </a:lnTo>
                              <a:lnTo>
                                <a:pt x="441" y="290"/>
                              </a:lnTo>
                              <a:lnTo>
                                <a:pt x="445" y="269"/>
                              </a:lnTo>
                              <a:lnTo>
                                <a:pt x="450" y="248"/>
                              </a:lnTo>
                              <a:lnTo>
                                <a:pt x="450" y="223"/>
                              </a:lnTo>
                              <a:lnTo>
                                <a:pt x="450" y="202"/>
                              </a:lnTo>
                              <a:lnTo>
                                <a:pt x="445" y="180"/>
                              </a:lnTo>
                              <a:lnTo>
                                <a:pt x="441" y="159"/>
                              </a:lnTo>
                              <a:lnTo>
                                <a:pt x="433" y="138"/>
                              </a:lnTo>
                              <a:lnTo>
                                <a:pt x="412" y="101"/>
                              </a:lnTo>
                              <a:lnTo>
                                <a:pt x="386" y="67"/>
                              </a:lnTo>
                              <a:lnTo>
                                <a:pt x="353" y="38"/>
                              </a:lnTo>
                              <a:lnTo>
                                <a:pt x="311" y="17"/>
                              </a:lnTo>
                              <a:lnTo>
                                <a:pt x="290" y="12"/>
                              </a:lnTo>
                              <a:lnTo>
                                <a:pt x="269" y="4"/>
                              </a:lnTo>
                              <a:lnTo>
                                <a:pt x="248" y="4"/>
                              </a:lnTo>
                              <a:lnTo>
                                <a:pt x="227" y="0"/>
                              </a:lnTo>
                              <a:lnTo>
                                <a:pt x="201" y="4"/>
                              </a:lnTo>
                              <a:lnTo>
                                <a:pt x="180" y="4"/>
                              </a:lnTo>
                              <a:lnTo>
                                <a:pt x="159" y="12"/>
                              </a:lnTo>
                              <a:lnTo>
                                <a:pt x="138" y="17"/>
                              </a:lnTo>
                              <a:lnTo>
                                <a:pt x="100" y="38"/>
                              </a:lnTo>
                              <a:lnTo>
                                <a:pt x="67" y="67"/>
                              </a:lnTo>
                              <a:lnTo>
                                <a:pt x="37" y="101"/>
                              </a:lnTo>
                              <a:lnTo>
                                <a:pt x="16" y="138"/>
                              </a:lnTo>
                              <a:lnTo>
                                <a:pt x="8" y="159"/>
                              </a:lnTo>
                              <a:lnTo>
                                <a:pt x="4" y="180"/>
                              </a:lnTo>
                              <a:lnTo>
                                <a:pt x="0" y="202"/>
                              </a:lnTo>
                              <a:lnTo>
                                <a:pt x="0" y="223"/>
                              </a:lnTo>
                              <a:lnTo>
                                <a:pt x="0" y="248"/>
                              </a:lnTo>
                              <a:lnTo>
                                <a:pt x="4" y="269"/>
                              </a:lnTo>
                              <a:lnTo>
                                <a:pt x="8" y="290"/>
                              </a:lnTo>
                              <a:lnTo>
                                <a:pt x="16" y="311"/>
                              </a:lnTo>
                              <a:lnTo>
                                <a:pt x="37" y="349"/>
                              </a:lnTo>
                              <a:lnTo>
                                <a:pt x="67" y="382"/>
                              </a:lnTo>
                              <a:lnTo>
                                <a:pt x="100" y="412"/>
                              </a:lnTo>
                              <a:lnTo>
                                <a:pt x="138" y="428"/>
                              </a:lnTo>
                              <a:lnTo>
                                <a:pt x="159" y="437"/>
                              </a:lnTo>
                              <a:lnTo>
                                <a:pt x="180" y="445"/>
                              </a:lnTo>
                              <a:lnTo>
                                <a:pt x="201" y="445"/>
                              </a:lnTo>
                              <a:lnTo>
                                <a:pt x="227" y="449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dade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102" name=""/>
                      <p:cNvSpPr/>
                      <p:nvPr/>
                    </p:nvSpPr>
                    <p:spPr>
                      <a:xfrm>
                        <a:off x="2926800" y="4294800"/>
                        <a:ext cx="109440" cy="123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70" h="361">
                            <a:moveTo>
                              <a:pt x="185" y="361"/>
                            </a:moveTo>
                            <a:lnTo>
                              <a:pt x="222" y="361"/>
                            </a:lnTo>
                            <a:lnTo>
                              <a:pt x="256" y="348"/>
                            </a:lnTo>
                            <a:lnTo>
                              <a:pt x="286" y="332"/>
                            </a:lnTo>
                            <a:lnTo>
                              <a:pt x="315" y="311"/>
                            </a:lnTo>
                            <a:lnTo>
                              <a:pt x="336" y="281"/>
                            </a:lnTo>
                            <a:lnTo>
                              <a:pt x="353" y="252"/>
                            </a:lnTo>
                            <a:lnTo>
                              <a:pt x="365" y="218"/>
                            </a:lnTo>
                            <a:lnTo>
                              <a:pt x="370" y="180"/>
                            </a:lnTo>
                            <a:lnTo>
                              <a:pt x="365" y="147"/>
                            </a:lnTo>
                            <a:lnTo>
                              <a:pt x="353" y="113"/>
                            </a:lnTo>
                            <a:lnTo>
                              <a:pt x="336" y="79"/>
                            </a:lnTo>
                            <a:lnTo>
                              <a:pt x="315" y="54"/>
                            </a:lnTo>
                            <a:lnTo>
                              <a:pt x="286" y="33"/>
                            </a:lnTo>
                            <a:lnTo>
                              <a:pt x="256" y="16"/>
                            </a:lnTo>
                            <a:lnTo>
                              <a:pt x="222" y="4"/>
                            </a:lnTo>
                            <a:lnTo>
                              <a:pt x="185" y="0"/>
                            </a:lnTo>
                            <a:lnTo>
                              <a:pt x="147" y="4"/>
                            </a:lnTo>
                            <a:lnTo>
                              <a:pt x="113" y="16"/>
                            </a:lnTo>
                            <a:lnTo>
                              <a:pt x="80" y="33"/>
                            </a:lnTo>
                            <a:lnTo>
                              <a:pt x="54" y="54"/>
                            </a:lnTo>
                            <a:lnTo>
                              <a:pt x="29" y="79"/>
                            </a:lnTo>
                            <a:lnTo>
                              <a:pt x="12" y="113"/>
                            </a:lnTo>
                            <a:lnTo>
                              <a:pt x="4" y="147"/>
                            </a:lnTo>
                            <a:lnTo>
                              <a:pt x="0" y="180"/>
                            </a:lnTo>
                            <a:lnTo>
                              <a:pt x="4" y="218"/>
                            </a:lnTo>
                            <a:lnTo>
                              <a:pt x="12" y="252"/>
                            </a:lnTo>
                            <a:lnTo>
                              <a:pt x="29" y="281"/>
                            </a:lnTo>
                            <a:lnTo>
                              <a:pt x="54" y="311"/>
                            </a:lnTo>
                            <a:lnTo>
                              <a:pt x="80" y="332"/>
                            </a:lnTo>
                            <a:lnTo>
                              <a:pt x="113" y="348"/>
                            </a:lnTo>
                            <a:lnTo>
                              <a:pt x="147" y="361"/>
                            </a:lnTo>
                            <a:lnTo>
                              <a:pt x="185" y="361"/>
                            </a:lnTo>
                            <a:close/>
                          </a:path>
                        </a:pathLst>
                      </a:custGeom>
                      <a:solidFill>
                        <a:srgbClr val="ffe1e7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103" name=""/>
                    <p:cNvSpPr/>
                    <p:nvPr/>
                  </p:nvSpPr>
                  <p:spPr>
                    <a:xfrm>
                      <a:off x="2951640" y="4323240"/>
                      <a:ext cx="84600" cy="9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6" h="278">
                          <a:moveTo>
                            <a:pt x="143" y="278"/>
                          </a:moveTo>
                          <a:lnTo>
                            <a:pt x="172" y="278"/>
                          </a:lnTo>
                          <a:lnTo>
                            <a:pt x="197" y="269"/>
                          </a:lnTo>
                          <a:lnTo>
                            <a:pt x="223" y="257"/>
                          </a:lnTo>
                          <a:lnTo>
                            <a:pt x="244" y="236"/>
                          </a:lnTo>
                          <a:lnTo>
                            <a:pt x="265" y="219"/>
                          </a:lnTo>
                          <a:lnTo>
                            <a:pt x="277" y="194"/>
                          </a:lnTo>
                          <a:lnTo>
                            <a:pt x="286" y="169"/>
                          </a:lnTo>
                          <a:lnTo>
                            <a:pt x="286" y="139"/>
                          </a:lnTo>
                          <a:lnTo>
                            <a:pt x="286" y="110"/>
                          </a:lnTo>
                          <a:lnTo>
                            <a:pt x="277" y="84"/>
                          </a:lnTo>
                          <a:lnTo>
                            <a:pt x="265" y="63"/>
                          </a:lnTo>
                          <a:lnTo>
                            <a:pt x="244" y="42"/>
                          </a:lnTo>
                          <a:lnTo>
                            <a:pt x="223" y="26"/>
                          </a:lnTo>
                          <a:lnTo>
                            <a:pt x="197" y="13"/>
                          </a:lnTo>
                          <a:lnTo>
                            <a:pt x="172" y="5"/>
                          </a:lnTo>
                          <a:lnTo>
                            <a:pt x="143" y="0"/>
                          </a:lnTo>
                          <a:lnTo>
                            <a:pt x="113" y="5"/>
                          </a:lnTo>
                          <a:lnTo>
                            <a:pt x="88" y="13"/>
                          </a:lnTo>
                          <a:lnTo>
                            <a:pt x="63" y="26"/>
                          </a:lnTo>
                          <a:lnTo>
                            <a:pt x="42" y="42"/>
                          </a:lnTo>
                          <a:lnTo>
                            <a:pt x="25" y="63"/>
                          </a:lnTo>
                          <a:lnTo>
                            <a:pt x="12" y="84"/>
                          </a:lnTo>
                          <a:lnTo>
                            <a:pt x="4" y="110"/>
                          </a:lnTo>
                          <a:lnTo>
                            <a:pt x="0" y="139"/>
                          </a:lnTo>
                          <a:lnTo>
                            <a:pt x="4" y="169"/>
                          </a:lnTo>
                          <a:lnTo>
                            <a:pt x="12" y="194"/>
                          </a:lnTo>
                          <a:lnTo>
                            <a:pt x="25" y="219"/>
                          </a:lnTo>
                          <a:lnTo>
                            <a:pt x="42" y="236"/>
                          </a:lnTo>
                          <a:lnTo>
                            <a:pt x="63" y="257"/>
                          </a:lnTo>
                          <a:lnTo>
                            <a:pt x="88" y="269"/>
                          </a:lnTo>
                          <a:lnTo>
                            <a:pt x="113" y="278"/>
                          </a:lnTo>
                          <a:lnTo>
                            <a:pt x="143" y="278"/>
                          </a:lnTo>
                          <a:close/>
                        </a:path>
                      </a:pathLst>
                    </a:custGeom>
                    <a:solidFill>
                      <a:srgbClr val="ffe8f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104" name=""/>
            <p:cNvSpPr/>
            <p:nvPr/>
          </p:nvSpPr>
          <p:spPr>
            <a:xfrm>
              <a:off x="2666880" y="3505320"/>
              <a:ext cx="3353040" cy="3008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5" name=""/>
          <p:cNvGrpSpPr/>
          <p:nvPr/>
        </p:nvGrpSpPr>
        <p:grpSpPr>
          <a:xfrm>
            <a:off x="2743200" y="228600"/>
            <a:ext cx="3276720" cy="3124080"/>
            <a:chOff x="2743200" y="228600"/>
            <a:chExt cx="3276720" cy="3124080"/>
          </a:xfrm>
        </p:grpSpPr>
        <p:grpSp>
          <p:nvGrpSpPr>
            <p:cNvPr id="1106" name=""/>
            <p:cNvGrpSpPr/>
            <p:nvPr/>
          </p:nvGrpSpPr>
          <p:grpSpPr>
            <a:xfrm>
              <a:off x="3231720" y="1368000"/>
              <a:ext cx="2144520" cy="1714680"/>
              <a:chOff x="3231720" y="1368000"/>
              <a:chExt cx="2144520" cy="1714680"/>
            </a:xfrm>
          </p:grpSpPr>
          <p:sp>
            <p:nvSpPr>
              <p:cNvPr id="1107" name=""/>
              <p:cNvSpPr/>
              <p:nvPr/>
            </p:nvSpPr>
            <p:spPr>
              <a:xfrm>
                <a:off x="3231720" y="1368000"/>
                <a:ext cx="2144520" cy="1714680"/>
              </a:xfrm>
              <a:custGeom>
                <a:avLst/>
                <a:gdLst/>
                <a:ahLst/>
                <a:rect l="l" t="t" r="r" b="b"/>
                <a:pathLst>
                  <a:path w="10012" h="7528">
                    <a:moveTo>
                      <a:pt x="7993" y="93"/>
                    </a:moveTo>
                    <a:lnTo>
                      <a:pt x="7993" y="125"/>
                    </a:lnTo>
                    <a:lnTo>
                      <a:pt x="7998" y="153"/>
                    </a:lnTo>
                    <a:lnTo>
                      <a:pt x="8002" y="181"/>
                    </a:lnTo>
                    <a:lnTo>
                      <a:pt x="8014" y="210"/>
                    </a:lnTo>
                    <a:lnTo>
                      <a:pt x="8026" y="234"/>
                    </a:lnTo>
                    <a:lnTo>
                      <a:pt x="8042" y="258"/>
                    </a:lnTo>
                    <a:lnTo>
                      <a:pt x="8062" y="282"/>
                    </a:lnTo>
                    <a:lnTo>
                      <a:pt x="8082" y="302"/>
                    </a:lnTo>
                    <a:lnTo>
                      <a:pt x="8086" y="375"/>
                    </a:lnTo>
                    <a:lnTo>
                      <a:pt x="8090" y="443"/>
                    </a:lnTo>
                    <a:lnTo>
                      <a:pt x="8090" y="508"/>
                    </a:lnTo>
                    <a:lnTo>
                      <a:pt x="8094" y="572"/>
                    </a:lnTo>
                    <a:lnTo>
                      <a:pt x="8098" y="637"/>
                    </a:lnTo>
                    <a:lnTo>
                      <a:pt x="8102" y="701"/>
                    </a:lnTo>
                    <a:lnTo>
                      <a:pt x="8114" y="766"/>
                    </a:lnTo>
                    <a:lnTo>
                      <a:pt x="8130" y="830"/>
                    </a:lnTo>
                    <a:lnTo>
                      <a:pt x="8126" y="838"/>
                    </a:lnTo>
                    <a:lnTo>
                      <a:pt x="8130" y="846"/>
                    </a:lnTo>
                    <a:lnTo>
                      <a:pt x="8134" y="850"/>
                    </a:lnTo>
                    <a:lnTo>
                      <a:pt x="8142" y="850"/>
                    </a:lnTo>
                    <a:lnTo>
                      <a:pt x="8146" y="854"/>
                    </a:lnTo>
                    <a:lnTo>
                      <a:pt x="8154" y="858"/>
                    </a:lnTo>
                    <a:lnTo>
                      <a:pt x="8158" y="862"/>
                    </a:lnTo>
                    <a:lnTo>
                      <a:pt x="8162" y="870"/>
                    </a:lnTo>
                    <a:lnTo>
                      <a:pt x="8170" y="874"/>
                    </a:lnTo>
                    <a:lnTo>
                      <a:pt x="8178" y="879"/>
                    </a:lnTo>
                    <a:lnTo>
                      <a:pt x="8182" y="887"/>
                    </a:lnTo>
                    <a:lnTo>
                      <a:pt x="8191" y="895"/>
                    </a:lnTo>
                    <a:lnTo>
                      <a:pt x="8195" y="903"/>
                    </a:lnTo>
                    <a:lnTo>
                      <a:pt x="8199" y="911"/>
                    </a:lnTo>
                    <a:lnTo>
                      <a:pt x="8203" y="915"/>
                    </a:lnTo>
                    <a:lnTo>
                      <a:pt x="8211" y="923"/>
                    </a:lnTo>
                    <a:lnTo>
                      <a:pt x="8231" y="943"/>
                    </a:lnTo>
                    <a:lnTo>
                      <a:pt x="8255" y="967"/>
                    </a:lnTo>
                    <a:lnTo>
                      <a:pt x="8279" y="987"/>
                    </a:lnTo>
                    <a:lnTo>
                      <a:pt x="8303" y="1007"/>
                    </a:lnTo>
                    <a:lnTo>
                      <a:pt x="8327" y="1024"/>
                    </a:lnTo>
                    <a:lnTo>
                      <a:pt x="8355" y="1040"/>
                    </a:lnTo>
                    <a:lnTo>
                      <a:pt x="8384" y="1056"/>
                    </a:lnTo>
                    <a:lnTo>
                      <a:pt x="8412" y="1068"/>
                    </a:lnTo>
                    <a:lnTo>
                      <a:pt x="8424" y="1084"/>
                    </a:lnTo>
                    <a:lnTo>
                      <a:pt x="8444" y="1100"/>
                    </a:lnTo>
                    <a:lnTo>
                      <a:pt x="8464" y="1116"/>
                    </a:lnTo>
                    <a:lnTo>
                      <a:pt x="8484" y="1132"/>
                    </a:lnTo>
                    <a:lnTo>
                      <a:pt x="8504" y="1149"/>
                    </a:lnTo>
                    <a:lnTo>
                      <a:pt x="8524" y="1165"/>
                    </a:lnTo>
                    <a:lnTo>
                      <a:pt x="8540" y="1185"/>
                    </a:lnTo>
                    <a:lnTo>
                      <a:pt x="8552" y="1205"/>
                    </a:lnTo>
                    <a:lnTo>
                      <a:pt x="8560" y="1213"/>
                    </a:lnTo>
                    <a:lnTo>
                      <a:pt x="8568" y="1217"/>
                    </a:lnTo>
                    <a:lnTo>
                      <a:pt x="8577" y="1225"/>
                    </a:lnTo>
                    <a:lnTo>
                      <a:pt x="8585" y="1229"/>
                    </a:lnTo>
                    <a:lnTo>
                      <a:pt x="8593" y="1237"/>
                    </a:lnTo>
                    <a:lnTo>
                      <a:pt x="8605" y="1241"/>
                    </a:lnTo>
                    <a:lnTo>
                      <a:pt x="8613" y="1249"/>
                    </a:lnTo>
                    <a:lnTo>
                      <a:pt x="8617" y="1253"/>
                    </a:lnTo>
                    <a:lnTo>
                      <a:pt x="8625" y="1249"/>
                    </a:lnTo>
                    <a:lnTo>
                      <a:pt x="8629" y="1245"/>
                    </a:lnTo>
                    <a:lnTo>
                      <a:pt x="8637" y="1241"/>
                    </a:lnTo>
                    <a:lnTo>
                      <a:pt x="8641" y="1241"/>
                    </a:lnTo>
                    <a:lnTo>
                      <a:pt x="8649" y="1241"/>
                    </a:lnTo>
                    <a:lnTo>
                      <a:pt x="8657" y="1245"/>
                    </a:lnTo>
                    <a:lnTo>
                      <a:pt x="8661" y="1245"/>
                    </a:lnTo>
                    <a:lnTo>
                      <a:pt x="8669" y="1249"/>
                    </a:lnTo>
                    <a:lnTo>
                      <a:pt x="8673" y="1265"/>
                    </a:lnTo>
                    <a:lnTo>
                      <a:pt x="8681" y="1281"/>
                    </a:lnTo>
                    <a:lnTo>
                      <a:pt x="8689" y="1298"/>
                    </a:lnTo>
                    <a:lnTo>
                      <a:pt x="8693" y="1310"/>
                    </a:lnTo>
                    <a:lnTo>
                      <a:pt x="8701" y="1326"/>
                    </a:lnTo>
                    <a:lnTo>
                      <a:pt x="8709" y="1342"/>
                    </a:lnTo>
                    <a:lnTo>
                      <a:pt x="8713" y="1358"/>
                    </a:lnTo>
                    <a:lnTo>
                      <a:pt x="8717" y="1374"/>
                    </a:lnTo>
                    <a:lnTo>
                      <a:pt x="8721" y="1370"/>
                    </a:lnTo>
                    <a:lnTo>
                      <a:pt x="8721" y="1366"/>
                    </a:lnTo>
                    <a:lnTo>
                      <a:pt x="8725" y="1362"/>
                    </a:lnTo>
                    <a:lnTo>
                      <a:pt x="8725" y="1358"/>
                    </a:lnTo>
                    <a:lnTo>
                      <a:pt x="8729" y="1354"/>
                    </a:lnTo>
                    <a:lnTo>
                      <a:pt x="8733" y="1350"/>
                    </a:lnTo>
                    <a:lnTo>
                      <a:pt x="8737" y="1346"/>
                    </a:lnTo>
                    <a:lnTo>
                      <a:pt x="8741" y="1346"/>
                    </a:lnTo>
                    <a:lnTo>
                      <a:pt x="8749" y="1342"/>
                    </a:lnTo>
                    <a:lnTo>
                      <a:pt x="8753" y="1346"/>
                    </a:lnTo>
                    <a:lnTo>
                      <a:pt x="8757" y="1350"/>
                    </a:lnTo>
                    <a:lnTo>
                      <a:pt x="8765" y="1354"/>
                    </a:lnTo>
                    <a:lnTo>
                      <a:pt x="8770" y="1358"/>
                    </a:lnTo>
                    <a:lnTo>
                      <a:pt x="8770" y="1362"/>
                    </a:lnTo>
                    <a:lnTo>
                      <a:pt x="8774" y="1370"/>
                    </a:lnTo>
                    <a:lnTo>
                      <a:pt x="8778" y="1374"/>
                    </a:lnTo>
                    <a:lnTo>
                      <a:pt x="8778" y="1386"/>
                    </a:lnTo>
                    <a:lnTo>
                      <a:pt x="8782" y="1398"/>
                    </a:lnTo>
                    <a:lnTo>
                      <a:pt x="8782" y="1410"/>
                    </a:lnTo>
                    <a:lnTo>
                      <a:pt x="8786" y="1423"/>
                    </a:lnTo>
                    <a:lnTo>
                      <a:pt x="8790" y="1435"/>
                    </a:lnTo>
                    <a:lnTo>
                      <a:pt x="8794" y="1447"/>
                    </a:lnTo>
                    <a:lnTo>
                      <a:pt x="8798" y="1455"/>
                    </a:lnTo>
                    <a:lnTo>
                      <a:pt x="8802" y="1467"/>
                    </a:lnTo>
                    <a:lnTo>
                      <a:pt x="8806" y="1463"/>
                    </a:lnTo>
                    <a:lnTo>
                      <a:pt x="8810" y="1459"/>
                    </a:lnTo>
                    <a:lnTo>
                      <a:pt x="8818" y="1459"/>
                    </a:lnTo>
                    <a:lnTo>
                      <a:pt x="8822" y="1459"/>
                    </a:lnTo>
                    <a:lnTo>
                      <a:pt x="8826" y="1459"/>
                    </a:lnTo>
                    <a:lnTo>
                      <a:pt x="8834" y="1463"/>
                    </a:lnTo>
                    <a:lnTo>
                      <a:pt x="8838" y="1463"/>
                    </a:lnTo>
                    <a:lnTo>
                      <a:pt x="8842" y="1463"/>
                    </a:lnTo>
                    <a:lnTo>
                      <a:pt x="8850" y="1479"/>
                    </a:lnTo>
                    <a:lnTo>
                      <a:pt x="8854" y="1491"/>
                    </a:lnTo>
                    <a:lnTo>
                      <a:pt x="8858" y="1507"/>
                    </a:lnTo>
                    <a:lnTo>
                      <a:pt x="8858" y="1519"/>
                    </a:lnTo>
                    <a:lnTo>
                      <a:pt x="8858" y="1535"/>
                    </a:lnTo>
                    <a:lnTo>
                      <a:pt x="8862" y="1547"/>
                    </a:lnTo>
                    <a:lnTo>
                      <a:pt x="8866" y="1560"/>
                    </a:lnTo>
                    <a:lnTo>
                      <a:pt x="8874" y="1572"/>
                    </a:lnTo>
                    <a:lnTo>
                      <a:pt x="8878" y="1568"/>
                    </a:lnTo>
                    <a:lnTo>
                      <a:pt x="8878" y="1568"/>
                    </a:lnTo>
                    <a:lnTo>
                      <a:pt x="8882" y="1568"/>
                    </a:lnTo>
                    <a:lnTo>
                      <a:pt x="8886" y="1564"/>
                    </a:lnTo>
                    <a:lnTo>
                      <a:pt x="8890" y="1568"/>
                    </a:lnTo>
                    <a:lnTo>
                      <a:pt x="8890" y="1568"/>
                    </a:lnTo>
                    <a:lnTo>
                      <a:pt x="8894" y="1568"/>
                    </a:lnTo>
                    <a:lnTo>
                      <a:pt x="8898" y="1568"/>
                    </a:lnTo>
                    <a:lnTo>
                      <a:pt x="8910" y="1584"/>
                    </a:lnTo>
                    <a:lnTo>
                      <a:pt x="8914" y="1600"/>
                    </a:lnTo>
                    <a:lnTo>
                      <a:pt x="8914" y="1620"/>
                    </a:lnTo>
                    <a:lnTo>
                      <a:pt x="8914" y="1640"/>
                    </a:lnTo>
                    <a:lnTo>
                      <a:pt x="8910" y="1656"/>
                    </a:lnTo>
                    <a:lnTo>
                      <a:pt x="8914" y="1676"/>
                    </a:lnTo>
                    <a:lnTo>
                      <a:pt x="8918" y="1697"/>
                    </a:lnTo>
                    <a:lnTo>
                      <a:pt x="8930" y="1713"/>
                    </a:lnTo>
                    <a:lnTo>
                      <a:pt x="8930" y="1721"/>
                    </a:lnTo>
                    <a:lnTo>
                      <a:pt x="8934" y="1729"/>
                    </a:lnTo>
                    <a:lnTo>
                      <a:pt x="8934" y="1737"/>
                    </a:lnTo>
                    <a:lnTo>
                      <a:pt x="8934" y="1745"/>
                    </a:lnTo>
                    <a:lnTo>
                      <a:pt x="8934" y="1753"/>
                    </a:lnTo>
                    <a:lnTo>
                      <a:pt x="8934" y="1761"/>
                    </a:lnTo>
                    <a:lnTo>
                      <a:pt x="8934" y="1769"/>
                    </a:lnTo>
                    <a:lnTo>
                      <a:pt x="8938" y="1777"/>
                    </a:lnTo>
                    <a:lnTo>
                      <a:pt x="8942" y="1781"/>
                    </a:lnTo>
                    <a:lnTo>
                      <a:pt x="8950" y="1781"/>
                    </a:lnTo>
                    <a:lnTo>
                      <a:pt x="8954" y="1781"/>
                    </a:lnTo>
                    <a:lnTo>
                      <a:pt x="8958" y="1777"/>
                    </a:lnTo>
                    <a:lnTo>
                      <a:pt x="8967" y="1777"/>
                    </a:lnTo>
                    <a:lnTo>
                      <a:pt x="8971" y="1781"/>
                    </a:lnTo>
                    <a:lnTo>
                      <a:pt x="8979" y="1781"/>
                    </a:lnTo>
                    <a:lnTo>
                      <a:pt x="8983" y="1785"/>
                    </a:lnTo>
                    <a:lnTo>
                      <a:pt x="8983" y="1797"/>
                    </a:lnTo>
                    <a:lnTo>
                      <a:pt x="8983" y="1809"/>
                    </a:lnTo>
                    <a:lnTo>
                      <a:pt x="8983" y="1821"/>
                    </a:lnTo>
                    <a:lnTo>
                      <a:pt x="8979" y="1834"/>
                    </a:lnTo>
                    <a:lnTo>
                      <a:pt x="8979" y="1846"/>
                    </a:lnTo>
                    <a:lnTo>
                      <a:pt x="8975" y="1858"/>
                    </a:lnTo>
                    <a:lnTo>
                      <a:pt x="8971" y="1874"/>
                    </a:lnTo>
                    <a:lnTo>
                      <a:pt x="8967" y="1886"/>
                    </a:lnTo>
                    <a:lnTo>
                      <a:pt x="8958" y="1902"/>
                    </a:lnTo>
                    <a:lnTo>
                      <a:pt x="8954" y="1914"/>
                    </a:lnTo>
                    <a:lnTo>
                      <a:pt x="8950" y="1930"/>
                    </a:lnTo>
                    <a:lnTo>
                      <a:pt x="8946" y="1946"/>
                    </a:lnTo>
                    <a:lnTo>
                      <a:pt x="8942" y="1963"/>
                    </a:lnTo>
                    <a:lnTo>
                      <a:pt x="8942" y="1975"/>
                    </a:lnTo>
                    <a:lnTo>
                      <a:pt x="8942" y="1991"/>
                    </a:lnTo>
                    <a:lnTo>
                      <a:pt x="8942" y="2011"/>
                    </a:lnTo>
                    <a:lnTo>
                      <a:pt x="8934" y="2043"/>
                    </a:lnTo>
                    <a:lnTo>
                      <a:pt x="8926" y="2071"/>
                    </a:lnTo>
                    <a:lnTo>
                      <a:pt x="8918" y="2104"/>
                    </a:lnTo>
                    <a:lnTo>
                      <a:pt x="8906" y="2132"/>
                    </a:lnTo>
                    <a:lnTo>
                      <a:pt x="8898" y="2164"/>
                    </a:lnTo>
                    <a:lnTo>
                      <a:pt x="8890" y="2196"/>
                    </a:lnTo>
                    <a:lnTo>
                      <a:pt x="8882" y="2224"/>
                    </a:lnTo>
                    <a:lnTo>
                      <a:pt x="8874" y="2257"/>
                    </a:lnTo>
                    <a:lnTo>
                      <a:pt x="8854" y="2297"/>
                    </a:lnTo>
                    <a:lnTo>
                      <a:pt x="8838" y="2341"/>
                    </a:lnTo>
                    <a:lnTo>
                      <a:pt x="8826" y="2390"/>
                    </a:lnTo>
                    <a:lnTo>
                      <a:pt x="8822" y="2438"/>
                    </a:lnTo>
                    <a:lnTo>
                      <a:pt x="8818" y="2486"/>
                    </a:lnTo>
                    <a:lnTo>
                      <a:pt x="8822" y="2535"/>
                    </a:lnTo>
                    <a:lnTo>
                      <a:pt x="8830" y="2579"/>
                    </a:lnTo>
                    <a:lnTo>
                      <a:pt x="8842" y="2623"/>
                    </a:lnTo>
                    <a:lnTo>
                      <a:pt x="8854" y="2656"/>
                    </a:lnTo>
                    <a:lnTo>
                      <a:pt x="8866" y="2684"/>
                    </a:lnTo>
                    <a:lnTo>
                      <a:pt x="8878" y="2712"/>
                    </a:lnTo>
                    <a:lnTo>
                      <a:pt x="8890" y="2744"/>
                    </a:lnTo>
                    <a:lnTo>
                      <a:pt x="8906" y="2773"/>
                    </a:lnTo>
                    <a:lnTo>
                      <a:pt x="8922" y="2801"/>
                    </a:lnTo>
                    <a:lnTo>
                      <a:pt x="8942" y="2829"/>
                    </a:lnTo>
                    <a:lnTo>
                      <a:pt x="8958" y="2857"/>
                    </a:lnTo>
                    <a:lnTo>
                      <a:pt x="8958" y="2865"/>
                    </a:lnTo>
                    <a:lnTo>
                      <a:pt x="8967" y="2885"/>
                    </a:lnTo>
                    <a:lnTo>
                      <a:pt x="8983" y="2897"/>
                    </a:lnTo>
                    <a:lnTo>
                      <a:pt x="8999" y="2910"/>
                    </a:lnTo>
                    <a:lnTo>
                      <a:pt x="9015" y="2922"/>
                    </a:lnTo>
                    <a:lnTo>
                      <a:pt x="9031" y="2930"/>
                    </a:lnTo>
                    <a:lnTo>
                      <a:pt x="9043" y="2946"/>
                    </a:lnTo>
                    <a:lnTo>
                      <a:pt x="9051" y="2958"/>
                    </a:lnTo>
                    <a:lnTo>
                      <a:pt x="9055" y="2978"/>
                    </a:lnTo>
                    <a:lnTo>
                      <a:pt x="9059" y="3010"/>
                    </a:lnTo>
                    <a:lnTo>
                      <a:pt x="9059" y="3043"/>
                    </a:lnTo>
                    <a:lnTo>
                      <a:pt x="9051" y="3071"/>
                    </a:lnTo>
                    <a:lnTo>
                      <a:pt x="9039" y="3103"/>
                    </a:lnTo>
                    <a:lnTo>
                      <a:pt x="9027" y="3131"/>
                    </a:lnTo>
                    <a:lnTo>
                      <a:pt x="9015" y="3159"/>
                    </a:lnTo>
                    <a:lnTo>
                      <a:pt x="9003" y="3188"/>
                    </a:lnTo>
                    <a:lnTo>
                      <a:pt x="8995" y="3212"/>
                    </a:lnTo>
                    <a:lnTo>
                      <a:pt x="8983" y="3224"/>
                    </a:lnTo>
                    <a:lnTo>
                      <a:pt x="8975" y="3236"/>
                    </a:lnTo>
                    <a:lnTo>
                      <a:pt x="8967" y="3248"/>
                    </a:lnTo>
                    <a:lnTo>
                      <a:pt x="8958" y="3260"/>
                    </a:lnTo>
                    <a:lnTo>
                      <a:pt x="8950" y="3272"/>
                    </a:lnTo>
                    <a:lnTo>
                      <a:pt x="8942" y="3284"/>
                    </a:lnTo>
                    <a:lnTo>
                      <a:pt x="8930" y="3296"/>
                    </a:lnTo>
                    <a:lnTo>
                      <a:pt x="8918" y="3304"/>
                    </a:lnTo>
                    <a:lnTo>
                      <a:pt x="8914" y="3309"/>
                    </a:lnTo>
                    <a:lnTo>
                      <a:pt x="8906" y="3317"/>
                    </a:lnTo>
                    <a:lnTo>
                      <a:pt x="8898" y="3325"/>
                    </a:lnTo>
                    <a:lnTo>
                      <a:pt x="8890" y="3329"/>
                    </a:lnTo>
                    <a:lnTo>
                      <a:pt x="8882" y="3337"/>
                    </a:lnTo>
                    <a:lnTo>
                      <a:pt x="8870" y="3341"/>
                    </a:lnTo>
                    <a:lnTo>
                      <a:pt x="8862" y="3345"/>
                    </a:lnTo>
                    <a:lnTo>
                      <a:pt x="8854" y="3349"/>
                    </a:lnTo>
                    <a:lnTo>
                      <a:pt x="8846" y="3353"/>
                    </a:lnTo>
                    <a:lnTo>
                      <a:pt x="8842" y="3353"/>
                    </a:lnTo>
                    <a:lnTo>
                      <a:pt x="8834" y="3353"/>
                    </a:lnTo>
                    <a:lnTo>
                      <a:pt x="8830" y="3357"/>
                    </a:lnTo>
                    <a:lnTo>
                      <a:pt x="8826" y="3361"/>
                    </a:lnTo>
                    <a:lnTo>
                      <a:pt x="8822" y="3365"/>
                    </a:lnTo>
                    <a:lnTo>
                      <a:pt x="8818" y="3369"/>
                    </a:lnTo>
                    <a:lnTo>
                      <a:pt x="8814" y="3373"/>
                    </a:lnTo>
                    <a:lnTo>
                      <a:pt x="8794" y="3381"/>
                    </a:lnTo>
                    <a:lnTo>
                      <a:pt x="8774" y="3389"/>
                    </a:lnTo>
                    <a:lnTo>
                      <a:pt x="8749" y="3401"/>
                    </a:lnTo>
                    <a:lnTo>
                      <a:pt x="8729" y="3409"/>
                    </a:lnTo>
                    <a:lnTo>
                      <a:pt x="8709" y="3417"/>
                    </a:lnTo>
                    <a:lnTo>
                      <a:pt x="8689" y="3425"/>
                    </a:lnTo>
                    <a:lnTo>
                      <a:pt x="8665" y="3433"/>
                    </a:lnTo>
                    <a:lnTo>
                      <a:pt x="8645" y="3433"/>
                    </a:lnTo>
                    <a:lnTo>
                      <a:pt x="8625" y="3441"/>
                    </a:lnTo>
                    <a:lnTo>
                      <a:pt x="8605" y="3446"/>
                    </a:lnTo>
                    <a:lnTo>
                      <a:pt x="8585" y="3454"/>
                    </a:lnTo>
                    <a:lnTo>
                      <a:pt x="8568" y="3458"/>
                    </a:lnTo>
                    <a:lnTo>
                      <a:pt x="8548" y="3458"/>
                    </a:lnTo>
                    <a:lnTo>
                      <a:pt x="8528" y="3462"/>
                    </a:lnTo>
                    <a:lnTo>
                      <a:pt x="8508" y="3462"/>
                    </a:lnTo>
                    <a:lnTo>
                      <a:pt x="8484" y="3466"/>
                    </a:lnTo>
                    <a:lnTo>
                      <a:pt x="8472" y="3478"/>
                    </a:lnTo>
                    <a:lnTo>
                      <a:pt x="8456" y="3490"/>
                    </a:lnTo>
                    <a:lnTo>
                      <a:pt x="8436" y="3498"/>
                    </a:lnTo>
                    <a:lnTo>
                      <a:pt x="8416" y="3506"/>
                    </a:lnTo>
                    <a:lnTo>
                      <a:pt x="8396" y="3506"/>
                    </a:lnTo>
                    <a:lnTo>
                      <a:pt x="8375" y="3506"/>
                    </a:lnTo>
                    <a:lnTo>
                      <a:pt x="8351" y="3506"/>
                    </a:lnTo>
                    <a:lnTo>
                      <a:pt x="8331" y="3502"/>
                    </a:lnTo>
                    <a:lnTo>
                      <a:pt x="8303" y="3494"/>
                    </a:lnTo>
                    <a:lnTo>
                      <a:pt x="8279" y="3482"/>
                    </a:lnTo>
                    <a:lnTo>
                      <a:pt x="8251" y="3462"/>
                    </a:lnTo>
                    <a:lnTo>
                      <a:pt x="8227" y="3446"/>
                    </a:lnTo>
                    <a:lnTo>
                      <a:pt x="8207" y="3421"/>
                    </a:lnTo>
                    <a:lnTo>
                      <a:pt x="8186" y="3401"/>
                    </a:lnTo>
                    <a:lnTo>
                      <a:pt x="8166" y="3377"/>
                    </a:lnTo>
                    <a:lnTo>
                      <a:pt x="8150" y="3349"/>
                    </a:lnTo>
                    <a:lnTo>
                      <a:pt x="8122" y="3341"/>
                    </a:lnTo>
                    <a:lnTo>
                      <a:pt x="8094" y="3333"/>
                    </a:lnTo>
                    <a:lnTo>
                      <a:pt x="8066" y="3329"/>
                    </a:lnTo>
                    <a:lnTo>
                      <a:pt x="8042" y="3325"/>
                    </a:lnTo>
                    <a:lnTo>
                      <a:pt x="8014" y="3321"/>
                    </a:lnTo>
                    <a:lnTo>
                      <a:pt x="7985" y="3321"/>
                    </a:lnTo>
                    <a:lnTo>
                      <a:pt x="7957" y="3321"/>
                    </a:lnTo>
                    <a:lnTo>
                      <a:pt x="7929" y="3321"/>
                    </a:lnTo>
                    <a:lnTo>
                      <a:pt x="7913" y="3321"/>
                    </a:lnTo>
                    <a:lnTo>
                      <a:pt x="7901" y="3325"/>
                    </a:lnTo>
                    <a:lnTo>
                      <a:pt x="7885" y="3333"/>
                    </a:lnTo>
                    <a:lnTo>
                      <a:pt x="7873" y="3341"/>
                    </a:lnTo>
                    <a:lnTo>
                      <a:pt x="7861" y="3349"/>
                    </a:lnTo>
                    <a:lnTo>
                      <a:pt x="7849" y="3361"/>
                    </a:lnTo>
                    <a:lnTo>
                      <a:pt x="7837" y="3369"/>
                    </a:lnTo>
                    <a:lnTo>
                      <a:pt x="7821" y="3381"/>
                    </a:lnTo>
                    <a:lnTo>
                      <a:pt x="7809" y="3413"/>
                    </a:lnTo>
                    <a:lnTo>
                      <a:pt x="7796" y="3446"/>
                    </a:lnTo>
                    <a:lnTo>
                      <a:pt x="7784" y="3482"/>
                    </a:lnTo>
                    <a:lnTo>
                      <a:pt x="7772" y="3514"/>
                    </a:lnTo>
                    <a:lnTo>
                      <a:pt x="7756" y="3546"/>
                    </a:lnTo>
                    <a:lnTo>
                      <a:pt x="7744" y="3583"/>
                    </a:lnTo>
                    <a:lnTo>
                      <a:pt x="7732" y="3615"/>
                    </a:lnTo>
                    <a:lnTo>
                      <a:pt x="7720" y="3647"/>
                    </a:lnTo>
                    <a:lnTo>
                      <a:pt x="7708" y="3655"/>
                    </a:lnTo>
                    <a:lnTo>
                      <a:pt x="7696" y="3659"/>
                    </a:lnTo>
                    <a:lnTo>
                      <a:pt x="7692" y="3667"/>
                    </a:lnTo>
                    <a:lnTo>
                      <a:pt x="7684" y="3675"/>
                    </a:lnTo>
                    <a:lnTo>
                      <a:pt x="7680" y="3691"/>
                    </a:lnTo>
                    <a:lnTo>
                      <a:pt x="7680" y="3711"/>
                    </a:lnTo>
                    <a:lnTo>
                      <a:pt x="7684" y="3732"/>
                    </a:lnTo>
                    <a:lnTo>
                      <a:pt x="7688" y="3752"/>
                    </a:lnTo>
                    <a:lnTo>
                      <a:pt x="7692" y="3772"/>
                    </a:lnTo>
                    <a:lnTo>
                      <a:pt x="7688" y="3788"/>
                    </a:lnTo>
                    <a:lnTo>
                      <a:pt x="7684" y="3816"/>
                    </a:lnTo>
                    <a:lnTo>
                      <a:pt x="7676" y="3840"/>
                    </a:lnTo>
                    <a:lnTo>
                      <a:pt x="7668" y="3865"/>
                    </a:lnTo>
                    <a:lnTo>
                      <a:pt x="7660" y="3889"/>
                    </a:lnTo>
                    <a:lnTo>
                      <a:pt x="7652" y="3913"/>
                    </a:lnTo>
                    <a:lnTo>
                      <a:pt x="7640" y="3937"/>
                    </a:lnTo>
                    <a:lnTo>
                      <a:pt x="7628" y="3961"/>
                    </a:lnTo>
                    <a:lnTo>
                      <a:pt x="7612" y="3981"/>
                    </a:lnTo>
                    <a:lnTo>
                      <a:pt x="7607" y="3990"/>
                    </a:lnTo>
                    <a:lnTo>
                      <a:pt x="7599" y="3998"/>
                    </a:lnTo>
                    <a:lnTo>
                      <a:pt x="7587" y="4006"/>
                    </a:lnTo>
                    <a:lnTo>
                      <a:pt x="7579" y="4010"/>
                    </a:lnTo>
                    <a:lnTo>
                      <a:pt x="7571" y="4018"/>
                    </a:lnTo>
                    <a:lnTo>
                      <a:pt x="7559" y="4022"/>
                    </a:lnTo>
                    <a:lnTo>
                      <a:pt x="7551" y="4026"/>
                    </a:lnTo>
                    <a:lnTo>
                      <a:pt x="7539" y="4034"/>
                    </a:lnTo>
                    <a:lnTo>
                      <a:pt x="7555" y="4038"/>
                    </a:lnTo>
                    <a:lnTo>
                      <a:pt x="7567" y="4046"/>
                    </a:lnTo>
                    <a:lnTo>
                      <a:pt x="7583" y="4054"/>
                    </a:lnTo>
                    <a:lnTo>
                      <a:pt x="7595" y="4062"/>
                    </a:lnTo>
                    <a:lnTo>
                      <a:pt x="7612" y="4070"/>
                    </a:lnTo>
                    <a:lnTo>
                      <a:pt x="7624" y="4074"/>
                    </a:lnTo>
                    <a:lnTo>
                      <a:pt x="7640" y="4078"/>
                    </a:lnTo>
                    <a:lnTo>
                      <a:pt x="7656" y="4082"/>
                    </a:lnTo>
                    <a:lnTo>
                      <a:pt x="7668" y="4094"/>
                    </a:lnTo>
                    <a:lnTo>
                      <a:pt x="7684" y="4102"/>
                    </a:lnTo>
                    <a:lnTo>
                      <a:pt x="7700" y="4110"/>
                    </a:lnTo>
                    <a:lnTo>
                      <a:pt x="7716" y="4119"/>
                    </a:lnTo>
                    <a:lnTo>
                      <a:pt x="7728" y="4123"/>
                    </a:lnTo>
                    <a:lnTo>
                      <a:pt x="7744" y="4131"/>
                    </a:lnTo>
                    <a:lnTo>
                      <a:pt x="7760" y="4135"/>
                    </a:lnTo>
                    <a:lnTo>
                      <a:pt x="7776" y="4139"/>
                    </a:lnTo>
                    <a:lnTo>
                      <a:pt x="7817" y="4147"/>
                    </a:lnTo>
                    <a:lnTo>
                      <a:pt x="7857" y="4159"/>
                    </a:lnTo>
                    <a:lnTo>
                      <a:pt x="7893" y="4167"/>
                    </a:lnTo>
                    <a:lnTo>
                      <a:pt x="7933" y="4179"/>
                    </a:lnTo>
                    <a:lnTo>
                      <a:pt x="7973" y="4187"/>
                    </a:lnTo>
                    <a:lnTo>
                      <a:pt x="8014" y="4195"/>
                    </a:lnTo>
                    <a:lnTo>
                      <a:pt x="8058" y="4203"/>
                    </a:lnTo>
                    <a:lnTo>
                      <a:pt x="8098" y="4207"/>
                    </a:lnTo>
                    <a:lnTo>
                      <a:pt x="8110" y="4207"/>
                    </a:lnTo>
                    <a:lnTo>
                      <a:pt x="8122" y="4211"/>
                    </a:lnTo>
                    <a:lnTo>
                      <a:pt x="8134" y="4211"/>
                    </a:lnTo>
                    <a:lnTo>
                      <a:pt x="8146" y="4215"/>
                    </a:lnTo>
                    <a:lnTo>
                      <a:pt x="8162" y="4219"/>
                    </a:lnTo>
                    <a:lnTo>
                      <a:pt x="8174" y="4219"/>
                    </a:lnTo>
                    <a:lnTo>
                      <a:pt x="8186" y="4219"/>
                    </a:lnTo>
                    <a:lnTo>
                      <a:pt x="8203" y="4215"/>
                    </a:lnTo>
                    <a:lnTo>
                      <a:pt x="8211" y="4223"/>
                    </a:lnTo>
                    <a:lnTo>
                      <a:pt x="8219" y="4227"/>
                    </a:lnTo>
                    <a:lnTo>
                      <a:pt x="8231" y="4231"/>
                    </a:lnTo>
                    <a:lnTo>
                      <a:pt x="8239" y="4231"/>
                    </a:lnTo>
                    <a:lnTo>
                      <a:pt x="8251" y="4235"/>
                    </a:lnTo>
                    <a:lnTo>
                      <a:pt x="8263" y="4239"/>
                    </a:lnTo>
                    <a:lnTo>
                      <a:pt x="8271" y="4243"/>
                    </a:lnTo>
                    <a:lnTo>
                      <a:pt x="8283" y="4247"/>
                    </a:lnTo>
                    <a:lnTo>
                      <a:pt x="8299" y="4251"/>
                    </a:lnTo>
                    <a:lnTo>
                      <a:pt x="8319" y="4260"/>
                    </a:lnTo>
                    <a:lnTo>
                      <a:pt x="8335" y="4272"/>
                    </a:lnTo>
                    <a:lnTo>
                      <a:pt x="8351" y="4288"/>
                    </a:lnTo>
                    <a:lnTo>
                      <a:pt x="8367" y="4300"/>
                    </a:lnTo>
                    <a:lnTo>
                      <a:pt x="8384" y="4312"/>
                    </a:lnTo>
                    <a:lnTo>
                      <a:pt x="8404" y="4324"/>
                    </a:lnTo>
                    <a:lnTo>
                      <a:pt x="8424" y="4332"/>
                    </a:lnTo>
                    <a:lnTo>
                      <a:pt x="8444" y="4360"/>
                    </a:lnTo>
                    <a:lnTo>
                      <a:pt x="8468" y="4389"/>
                    </a:lnTo>
                    <a:lnTo>
                      <a:pt x="8488" y="4417"/>
                    </a:lnTo>
                    <a:lnTo>
                      <a:pt x="8504" y="4449"/>
                    </a:lnTo>
                    <a:lnTo>
                      <a:pt x="8520" y="4481"/>
                    </a:lnTo>
                    <a:lnTo>
                      <a:pt x="8532" y="4513"/>
                    </a:lnTo>
                    <a:lnTo>
                      <a:pt x="8540" y="4546"/>
                    </a:lnTo>
                    <a:lnTo>
                      <a:pt x="8548" y="4578"/>
                    </a:lnTo>
                    <a:lnTo>
                      <a:pt x="8568" y="4602"/>
                    </a:lnTo>
                    <a:lnTo>
                      <a:pt x="8589" y="4622"/>
                    </a:lnTo>
                    <a:lnTo>
                      <a:pt x="8609" y="4642"/>
                    </a:lnTo>
                    <a:lnTo>
                      <a:pt x="8629" y="4659"/>
                    </a:lnTo>
                    <a:lnTo>
                      <a:pt x="8653" y="4675"/>
                    </a:lnTo>
                    <a:lnTo>
                      <a:pt x="8677" y="4691"/>
                    </a:lnTo>
                    <a:lnTo>
                      <a:pt x="8701" y="4703"/>
                    </a:lnTo>
                    <a:lnTo>
                      <a:pt x="8725" y="4715"/>
                    </a:lnTo>
                    <a:lnTo>
                      <a:pt x="8733" y="4727"/>
                    </a:lnTo>
                    <a:lnTo>
                      <a:pt x="8745" y="4735"/>
                    </a:lnTo>
                    <a:lnTo>
                      <a:pt x="8753" y="4743"/>
                    </a:lnTo>
                    <a:lnTo>
                      <a:pt x="8765" y="4751"/>
                    </a:lnTo>
                    <a:lnTo>
                      <a:pt x="8778" y="4755"/>
                    </a:lnTo>
                    <a:lnTo>
                      <a:pt x="8790" y="4759"/>
                    </a:lnTo>
                    <a:lnTo>
                      <a:pt x="8802" y="4763"/>
                    </a:lnTo>
                    <a:lnTo>
                      <a:pt x="8814" y="4767"/>
                    </a:lnTo>
                    <a:lnTo>
                      <a:pt x="8874" y="4804"/>
                    </a:lnTo>
                    <a:lnTo>
                      <a:pt x="8930" y="4844"/>
                    </a:lnTo>
                    <a:lnTo>
                      <a:pt x="8987" y="4884"/>
                    </a:lnTo>
                    <a:lnTo>
                      <a:pt x="9043" y="4924"/>
                    </a:lnTo>
                    <a:lnTo>
                      <a:pt x="9099" y="4965"/>
                    </a:lnTo>
                    <a:lnTo>
                      <a:pt x="9156" y="5009"/>
                    </a:lnTo>
                    <a:lnTo>
                      <a:pt x="9212" y="5049"/>
                    </a:lnTo>
                    <a:lnTo>
                      <a:pt x="9264" y="5090"/>
                    </a:lnTo>
                    <a:lnTo>
                      <a:pt x="9288" y="5114"/>
                    </a:lnTo>
                    <a:lnTo>
                      <a:pt x="9308" y="5138"/>
                    </a:lnTo>
                    <a:lnTo>
                      <a:pt x="9328" y="5158"/>
                    </a:lnTo>
                    <a:lnTo>
                      <a:pt x="9353" y="5182"/>
                    </a:lnTo>
                    <a:lnTo>
                      <a:pt x="9373" y="5203"/>
                    </a:lnTo>
                    <a:lnTo>
                      <a:pt x="9397" y="5223"/>
                    </a:lnTo>
                    <a:lnTo>
                      <a:pt x="9417" y="5247"/>
                    </a:lnTo>
                    <a:lnTo>
                      <a:pt x="9441" y="5271"/>
                    </a:lnTo>
                    <a:lnTo>
                      <a:pt x="9441" y="5275"/>
                    </a:lnTo>
                    <a:lnTo>
                      <a:pt x="9441" y="5279"/>
                    </a:lnTo>
                    <a:lnTo>
                      <a:pt x="9445" y="5287"/>
                    </a:lnTo>
                    <a:lnTo>
                      <a:pt x="9445" y="5291"/>
                    </a:lnTo>
                    <a:lnTo>
                      <a:pt x="9449" y="5295"/>
                    </a:lnTo>
                    <a:lnTo>
                      <a:pt x="9453" y="5299"/>
                    </a:lnTo>
                    <a:lnTo>
                      <a:pt x="9457" y="5303"/>
                    </a:lnTo>
                    <a:lnTo>
                      <a:pt x="9461" y="5307"/>
                    </a:lnTo>
                    <a:lnTo>
                      <a:pt x="9481" y="5311"/>
                    </a:lnTo>
                    <a:lnTo>
                      <a:pt x="9501" y="5315"/>
                    </a:lnTo>
                    <a:lnTo>
                      <a:pt x="9521" y="5319"/>
                    </a:lnTo>
                    <a:lnTo>
                      <a:pt x="9537" y="5323"/>
                    </a:lnTo>
                    <a:lnTo>
                      <a:pt x="9558" y="5327"/>
                    </a:lnTo>
                    <a:lnTo>
                      <a:pt x="9578" y="5336"/>
                    </a:lnTo>
                    <a:lnTo>
                      <a:pt x="9598" y="5344"/>
                    </a:lnTo>
                    <a:lnTo>
                      <a:pt x="9614" y="5356"/>
                    </a:lnTo>
                    <a:lnTo>
                      <a:pt x="9638" y="5380"/>
                    </a:lnTo>
                    <a:lnTo>
                      <a:pt x="9662" y="5404"/>
                    </a:lnTo>
                    <a:lnTo>
                      <a:pt x="9690" y="5424"/>
                    </a:lnTo>
                    <a:lnTo>
                      <a:pt x="9718" y="5448"/>
                    </a:lnTo>
                    <a:lnTo>
                      <a:pt x="9743" y="5473"/>
                    </a:lnTo>
                    <a:lnTo>
                      <a:pt x="9771" y="5497"/>
                    </a:lnTo>
                    <a:lnTo>
                      <a:pt x="9791" y="5525"/>
                    </a:lnTo>
                    <a:lnTo>
                      <a:pt x="9811" y="5553"/>
                    </a:lnTo>
                    <a:lnTo>
                      <a:pt x="9807" y="5557"/>
                    </a:lnTo>
                    <a:lnTo>
                      <a:pt x="9811" y="5561"/>
                    </a:lnTo>
                    <a:lnTo>
                      <a:pt x="9811" y="5565"/>
                    </a:lnTo>
                    <a:lnTo>
                      <a:pt x="9815" y="5565"/>
                    </a:lnTo>
                    <a:lnTo>
                      <a:pt x="9819" y="5569"/>
                    </a:lnTo>
                    <a:lnTo>
                      <a:pt x="9823" y="5569"/>
                    </a:lnTo>
                    <a:lnTo>
                      <a:pt x="9827" y="5569"/>
                    </a:lnTo>
                    <a:lnTo>
                      <a:pt x="9831" y="5573"/>
                    </a:lnTo>
                    <a:lnTo>
                      <a:pt x="9867" y="5601"/>
                    </a:lnTo>
                    <a:lnTo>
                      <a:pt x="9899" y="5638"/>
                    </a:lnTo>
                    <a:lnTo>
                      <a:pt x="9932" y="5674"/>
                    </a:lnTo>
                    <a:lnTo>
                      <a:pt x="9960" y="5714"/>
                    </a:lnTo>
                    <a:lnTo>
                      <a:pt x="9984" y="5755"/>
                    </a:lnTo>
                    <a:lnTo>
                      <a:pt x="10000" y="5799"/>
                    </a:lnTo>
                    <a:lnTo>
                      <a:pt x="10004" y="5819"/>
                    </a:lnTo>
                    <a:lnTo>
                      <a:pt x="10008" y="5843"/>
                    </a:lnTo>
                    <a:lnTo>
                      <a:pt x="10012" y="5867"/>
                    </a:lnTo>
                    <a:lnTo>
                      <a:pt x="10012" y="5888"/>
                    </a:lnTo>
                    <a:lnTo>
                      <a:pt x="10000" y="5892"/>
                    </a:lnTo>
                    <a:lnTo>
                      <a:pt x="9996" y="5896"/>
                    </a:lnTo>
                    <a:lnTo>
                      <a:pt x="9992" y="5904"/>
                    </a:lnTo>
                    <a:lnTo>
                      <a:pt x="9988" y="5908"/>
                    </a:lnTo>
                    <a:lnTo>
                      <a:pt x="9988" y="5916"/>
                    </a:lnTo>
                    <a:lnTo>
                      <a:pt x="9984" y="5924"/>
                    </a:lnTo>
                    <a:lnTo>
                      <a:pt x="9976" y="5928"/>
                    </a:lnTo>
                    <a:lnTo>
                      <a:pt x="9968" y="5932"/>
                    </a:lnTo>
                    <a:lnTo>
                      <a:pt x="9960" y="5928"/>
                    </a:lnTo>
                    <a:lnTo>
                      <a:pt x="9952" y="5928"/>
                    </a:lnTo>
                    <a:lnTo>
                      <a:pt x="9944" y="5928"/>
                    </a:lnTo>
                    <a:lnTo>
                      <a:pt x="9940" y="5932"/>
                    </a:lnTo>
                    <a:lnTo>
                      <a:pt x="9932" y="5932"/>
                    </a:lnTo>
                    <a:lnTo>
                      <a:pt x="9923" y="5932"/>
                    </a:lnTo>
                    <a:lnTo>
                      <a:pt x="9915" y="5932"/>
                    </a:lnTo>
                    <a:lnTo>
                      <a:pt x="9907" y="5932"/>
                    </a:lnTo>
                    <a:lnTo>
                      <a:pt x="9903" y="5928"/>
                    </a:lnTo>
                    <a:lnTo>
                      <a:pt x="9895" y="5924"/>
                    </a:lnTo>
                    <a:lnTo>
                      <a:pt x="9887" y="5920"/>
                    </a:lnTo>
                    <a:lnTo>
                      <a:pt x="9879" y="5916"/>
                    </a:lnTo>
                    <a:lnTo>
                      <a:pt x="9871" y="5916"/>
                    </a:lnTo>
                    <a:lnTo>
                      <a:pt x="9863" y="5912"/>
                    </a:lnTo>
                    <a:lnTo>
                      <a:pt x="9855" y="5908"/>
                    </a:lnTo>
                    <a:lnTo>
                      <a:pt x="9847" y="5900"/>
                    </a:lnTo>
                    <a:lnTo>
                      <a:pt x="9839" y="5892"/>
                    </a:lnTo>
                    <a:lnTo>
                      <a:pt x="9827" y="5884"/>
                    </a:lnTo>
                    <a:lnTo>
                      <a:pt x="9815" y="5876"/>
                    </a:lnTo>
                    <a:lnTo>
                      <a:pt x="9803" y="5867"/>
                    </a:lnTo>
                    <a:lnTo>
                      <a:pt x="9791" y="5859"/>
                    </a:lnTo>
                    <a:lnTo>
                      <a:pt x="9779" y="5851"/>
                    </a:lnTo>
                    <a:lnTo>
                      <a:pt x="9767" y="5847"/>
                    </a:lnTo>
                    <a:lnTo>
                      <a:pt x="9755" y="5843"/>
                    </a:lnTo>
                    <a:lnTo>
                      <a:pt x="9759" y="5859"/>
                    </a:lnTo>
                    <a:lnTo>
                      <a:pt x="9767" y="5876"/>
                    </a:lnTo>
                    <a:lnTo>
                      <a:pt x="9779" y="5888"/>
                    </a:lnTo>
                    <a:lnTo>
                      <a:pt x="9791" y="5900"/>
                    </a:lnTo>
                    <a:lnTo>
                      <a:pt x="9807" y="5912"/>
                    </a:lnTo>
                    <a:lnTo>
                      <a:pt x="9823" y="5924"/>
                    </a:lnTo>
                    <a:lnTo>
                      <a:pt x="9835" y="5940"/>
                    </a:lnTo>
                    <a:lnTo>
                      <a:pt x="9847" y="5952"/>
                    </a:lnTo>
                    <a:lnTo>
                      <a:pt x="9855" y="5960"/>
                    </a:lnTo>
                    <a:lnTo>
                      <a:pt x="9859" y="5964"/>
                    </a:lnTo>
                    <a:lnTo>
                      <a:pt x="9867" y="5968"/>
                    </a:lnTo>
                    <a:lnTo>
                      <a:pt x="9875" y="5968"/>
                    </a:lnTo>
                    <a:lnTo>
                      <a:pt x="9883" y="5972"/>
                    </a:lnTo>
                    <a:lnTo>
                      <a:pt x="9887" y="5976"/>
                    </a:lnTo>
                    <a:lnTo>
                      <a:pt x="9891" y="5980"/>
                    </a:lnTo>
                    <a:lnTo>
                      <a:pt x="9895" y="5988"/>
                    </a:lnTo>
                    <a:lnTo>
                      <a:pt x="9899" y="5992"/>
                    </a:lnTo>
                    <a:lnTo>
                      <a:pt x="9907" y="6000"/>
                    </a:lnTo>
                    <a:lnTo>
                      <a:pt x="9915" y="6004"/>
                    </a:lnTo>
                    <a:lnTo>
                      <a:pt x="9919" y="6009"/>
                    </a:lnTo>
                    <a:lnTo>
                      <a:pt x="9923" y="6017"/>
                    </a:lnTo>
                    <a:lnTo>
                      <a:pt x="9928" y="6021"/>
                    </a:lnTo>
                    <a:lnTo>
                      <a:pt x="9928" y="6029"/>
                    </a:lnTo>
                    <a:lnTo>
                      <a:pt x="9923" y="6037"/>
                    </a:lnTo>
                    <a:lnTo>
                      <a:pt x="9895" y="6053"/>
                    </a:lnTo>
                    <a:lnTo>
                      <a:pt x="9867" y="6065"/>
                    </a:lnTo>
                    <a:lnTo>
                      <a:pt x="9839" y="6077"/>
                    </a:lnTo>
                    <a:lnTo>
                      <a:pt x="9807" y="6085"/>
                    </a:lnTo>
                    <a:lnTo>
                      <a:pt x="9779" y="6093"/>
                    </a:lnTo>
                    <a:lnTo>
                      <a:pt x="9747" y="6101"/>
                    </a:lnTo>
                    <a:lnTo>
                      <a:pt x="9714" y="6109"/>
                    </a:lnTo>
                    <a:lnTo>
                      <a:pt x="9682" y="6109"/>
                    </a:lnTo>
                    <a:lnTo>
                      <a:pt x="9642" y="6101"/>
                    </a:lnTo>
                    <a:lnTo>
                      <a:pt x="9602" y="6093"/>
                    </a:lnTo>
                    <a:lnTo>
                      <a:pt x="9562" y="6081"/>
                    </a:lnTo>
                    <a:lnTo>
                      <a:pt x="9521" y="6069"/>
                    </a:lnTo>
                    <a:lnTo>
                      <a:pt x="9485" y="6053"/>
                    </a:lnTo>
                    <a:lnTo>
                      <a:pt x="9445" y="6037"/>
                    </a:lnTo>
                    <a:lnTo>
                      <a:pt x="9409" y="6017"/>
                    </a:lnTo>
                    <a:lnTo>
                      <a:pt x="9373" y="5996"/>
                    </a:lnTo>
                    <a:lnTo>
                      <a:pt x="9357" y="5988"/>
                    </a:lnTo>
                    <a:lnTo>
                      <a:pt x="9344" y="5976"/>
                    </a:lnTo>
                    <a:lnTo>
                      <a:pt x="9336" y="5964"/>
                    </a:lnTo>
                    <a:lnTo>
                      <a:pt x="9332" y="5948"/>
                    </a:lnTo>
                    <a:lnTo>
                      <a:pt x="9328" y="5932"/>
                    </a:lnTo>
                    <a:lnTo>
                      <a:pt x="9320" y="5920"/>
                    </a:lnTo>
                    <a:lnTo>
                      <a:pt x="9308" y="5908"/>
                    </a:lnTo>
                    <a:lnTo>
                      <a:pt x="9292" y="5900"/>
                    </a:lnTo>
                    <a:lnTo>
                      <a:pt x="9276" y="5896"/>
                    </a:lnTo>
                    <a:lnTo>
                      <a:pt x="9264" y="5888"/>
                    </a:lnTo>
                    <a:lnTo>
                      <a:pt x="9252" y="5880"/>
                    </a:lnTo>
                    <a:lnTo>
                      <a:pt x="9244" y="5867"/>
                    </a:lnTo>
                    <a:lnTo>
                      <a:pt x="9236" y="5855"/>
                    </a:lnTo>
                    <a:lnTo>
                      <a:pt x="9224" y="5843"/>
                    </a:lnTo>
                    <a:lnTo>
                      <a:pt x="9216" y="5831"/>
                    </a:lnTo>
                    <a:lnTo>
                      <a:pt x="9200" y="5823"/>
                    </a:lnTo>
                    <a:lnTo>
                      <a:pt x="9099" y="5747"/>
                    </a:lnTo>
                    <a:lnTo>
                      <a:pt x="9095" y="5751"/>
                    </a:lnTo>
                    <a:lnTo>
                      <a:pt x="9095" y="5759"/>
                    </a:lnTo>
                    <a:lnTo>
                      <a:pt x="9095" y="5763"/>
                    </a:lnTo>
                    <a:lnTo>
                      <a:pt x="9095" y="5771"/>
                    </a:lnTo>
                    <a:lnTo>
                      <a:pt x="9099" y="5779"/>
                    </a:lnTo>
                    <a:lnTo>
                      <a:pt x="9099" y="5783"/>
                    </a:lnTo>
                    <a:lnTo>
                      <a:pt x="9099" y="5791"/>
                    </a:lnTo>
                    <a:lnTo>
                      <a:pt x="9099" y="5799"/>
                    </a:lnTo>
                    <a:lnTo>
                      <a:pt x="9095" y="5803"/>
                    </a:lnTo>
                    <a:lnTo>
                      <a:pt x="9091" y="5807"/>
                    </a:lnTo>
                    <a:lnTo>
                      <a:pt x="9087" y="5807"/>
                    </a:lnTo>
                    <a:lnTo>
                      <a:pt x="9083" y="5811"/>
                    </a:lnTo>
                    <a:lnTo>
                      <a:pt x="9079" y="5811"/>
                    </a:lnTo>
                    <a:lnTo>
                      <a:pt x="9075" y="5811"/>
                    </a:lnTo>
                    <a:lnTo>
                      <a:pt x="9071" y="5811"/>
                    </a:lnTo>
                    <a:lnTo>
                      <a:pt x="9067" y="5811"/>
                    </a:lnTo>
                    <a:lnTo>
                      <a:pt x="9063" y="5807"/>
                    </a:lnTo>
                    <a:lnTo>
                      <a:pt x="9059" y="5803"/>
                    </a:lnTo>
                    <a:lnTo>
                      <a:pt x="9055" y="5803"/>
                    </a:lnTo>
                    <a:lnTo>
                      <a:pt x="9051" y="5803"/>
                    </a:lnTo>
                    <a:lnTo>
                      <a:pt x="9047" y="5803"/>
                    </a:lnTo>
                    <a:lnTo>
                      <a:pt x="9043" y="5803"/>
                    </a:lnTo>
                    <a:lnTo>
                      <a:pt x="9039" y="5803"/>
                    </a:lnTo>
                    <a:lnTo>
                      <a:pt x="9035" y="5803"/>
                    </a:lnTo>
                    <a:lnTo>
                      <a:pt x="9023" y="5787"/>
                    </a:lnTo>
                    <a:lnTo>
                      <a:pt x="9007" y="5775"/>
                    </a:lnTo>
                    <a:lnTo>
                      <a:pt x="8991" y="5759"/>
                    </a:lnTo>
                    <a:lnTo>
                      <a:pt x="8975" y="5743"/>
                    </a:lnTo>
                    <a:lnTo>
                      <a:pt x="8963" y="5722"/>
                    </a:lnTo>
                    <a:lnTo>
                      <a:pt x="8950" y="5706"/>
                    </a:lnTo>
                    <a:lnTo>
                      <a:pt x="8946" y="5686"/>
                    </a:lnTo>
                    <a:lnTo>
                      <a:pt x="8942" y="5662"/>
                    </a:lnTo>
                    <a:lnTo>
                      <a:pt x="8938" y="5662"/>
                    </a:lnTo>
                    <a:lnTo>
                      <a:pt x="8934" y="5658"/>
                    </a:lnTo>
                    <a:lnTo>
                      <a:pt x="8934" y="5654"/>
                    </a:lnTo>
                    <a:lnTo>
                      <a:pt x="8934" y="5650"/>
                    </a:lnTo>
                    <a:lnTo>
                      <a:pt x="8934" y="5646"/>
                    </a:lnTo>
                    <a:lnTo>
                      <a:pt x="8934" y="5642"/>
                    </a:lnTo>
                    <a:lnTo>
                      <a:pt x="8934" y="5638"/>
                    </a:lnTo>
                    <a:lnTo>
                      <a:pt x="8934" y="5634"/>
                    </a:lnTo>
                    <a:lnTo>
                      <a:pt x="8890" y="5601"/>
                    </a:lnTo>
                    <a:lnTo>
                      <a:pt x="8858" y="5569"/>
                    </a:lnTo>
                    <a:lnTo>
                      <a:pt x="8826" y="5529"/>
                    </a:lnTo>
                    <a:lnTo>
                      <a:pt x="8798" y="5489"/>
                    </a:lnTo>
                    <a:lnTo>
                      <a:pt x="8770" y="5444"/>
                    </a:lnTo>
                    <a:lnTo>
                      <a:pt x="8741" y="5404"/>
                    </a:lnTo>
                    <a:lnTo>
                      <a:pt x="8713" y="5360"/>
                    </a:lnTo>
                    <a:lnTo>
                      <a:pt x="8681" y="5319"/>
                    </a:lnTo>
                    <a:lnTo>
                      <a:pt x="8649" y="5271"/>
                    </a:lnTo>
                    <a:lnTo>
                      <a:pt x="8613" y="5227"/>
                    </a:lnTo>
                    <a:lnTo>
                      <a:pt x="8577" y="5182"/>
                    </a:lnTo>
                    <a:lnTo>
                      <a:pt x="8536" y="5142"/>
                    </a:lnTo>
                    <a:lnTo>
                      <a:pt x="8492" y="5102"/>
                    </a:lnTo>
                    <a:lnTo>
                      <a:pt x="8448" y="5061"/>
                    </a:lnTo>
                    <a:lnTo>
                      <a:pt x="8404" y="5025"/>
                    </a:lnTo>
                    <a:lnTo>
                      <a:pt x="8355" y="4989"/>
                    </a:lnTo>
                    <a:lnTo>
                      <a:pt x="8331" y="4981"/>
                    </a:lnTo>
                    <a:lnTo>
                      <a:pt x="8307" y="4973"/>
                    </a:lnTo>
                    <a:lnTo>
                      <a:pt x="8283" y="4965"/>
                    </a:lnTo>
                    <a:lnTo>
                      <a:pt x="8259" y="4961"/>
                    </a:lnTo>
                    <a:lnTo>
                      <a:pt x="8235" y="4957"/>
                    </a:lnTo>
                    <a:lnTo>
                      <a:pt x="8211" y="4953"/>
                    </a:lnTo>
                    <a:lnTo>
                      <a:pt x="8191" y="4945"/>
                    </a:lnTo>
                    <a:lnTo>
                      <a:pt x="8166" y="4941"/>
                    </a:lnTo>
                    <a:lnTo>
                      <a:pt x="8130" y="4941"/>
                    </a:lnTo>
                    <a:lnTo>
                      <a:pt x="8098" y="4933"/>
                    </a:lnTo>
                    <a:lnTo>
                      <a:pt x="8066" y="4924"/>
                    </a:lnTo>
                    <a:lnTo>
                      <a:pt x="8034" y="4912"/>
                    </a:lnTo>
                    <a:lnTo>
                      <a:pt x="8002" y="4896"/>
                    </a:lnTo>
                    <a:lnTo>
                      <a:pt x="7973" y="4880"/>
                    </a:lnTo>
                    <a:lnTo>
                      <a:pt x="7945" y="4860"/>
                    </a:lnTo>
                    <a:lnTo>
                      <a:pt x="7917" y="4844"/>
                    </a:lnTo>
                    <a:lnTo>
                      <a:pt x="7905" y="4840"/>
                    </a:lnTo>
                    <a:lnTo>
                      <a:pt x="7897" y="4836"/>
                    </a:lnTo>
                    <a:lnTo>
                      <a:pt x="7885" y="4828"/>
                    </a:lnTo>
                    <a:lnTo>
                      <a:pt x="7877" y="4824"/>
                    </a:lnTo>
                    <a:lnTo>
                      <a:pt x="7869" y="4816"/>
                    </a:lnTo>
                    <a:lnTo>
                      <a:pt x="7857" y="4808"/>
                    </a:lnTo>
                    <a:lnTo>
                      <a:pt x="7849" y="4804"/>
                    </a:lnTo>
                    <a:lnTo>
                      <a:pt x="7841" y="4796"/>
                    </a:lnTo>
                    <a:lnTo>
                      <a:pt x="7805" y="4771"/>
                    </a:lnTo>
                    <a:lnTo>
                      <a:pt x="7776" y="4743"/>
                    </a:lnTo>
                    <a:lnTo>
                      <a:pt x="7748" y="4711"/>
                    </a:lnTo>
                    <a:lnTo>
                      <a:pt x="7716" y="4683"/>
                    </a:lnTo>
                    <a:lnTo>
                      <a:pt x="7684" y="4654"/>
                    </a:lnTo>
                    <a:lnTo>
                      <a:pt x="7652" y="4630"/>
                    </a:lnTo>
                    <a:lnTo>
                      <a:pt x="7636" y="4618"/>
                    </a:lnTo>
                    <a:lnTo>
                      <a:pt x="7616" y="4610"/>
                    </a:lnTo>
                    <a:lnTo>
                      <a:pt x="7595" y="4606"/>
                    </a:lnTo>
                    <a:lnTo>
                      <a:pt x="7575" y="4602"/>
                    </a:lnTo>
                    <a:lnTo>
                      <a:pt x="7547" y="4594"/>
                    </a:lnTo>
                    <a:lnTo>
                      <a:pt x="7523" y="4582"/>
                    </a:lnTo>
                    <a:lnTo>
                      <a:pt x="7499" y="4570"/>
                    </a:lnTo>
                    <a:lnTo>
                      <a:pt x="7475" y="4558"/>
                    </a:lnTo>
                    <a:lnTo>
                      <a:pt x="7451" y="4546"/>
                    </a:lnTo>
                    <a:lnTo>
                      <a:pt x="7427" y="4534"/>
                    </a:lnTo>
                    <a:lnTo>
                      <a:pt x="7398" y="4530"/>
                    </a:lnTo>
                    <a:lnTo>
                      <a:pt x="7370" y="4530"/>
                    </a:lnTo>
                    <a:lnTo>
                      <a:pt x="7338" y="4513"/>
                    </a:lnTo>
                    <a:lnTo>
                      <a:pt x="7306" y="4505"/>
                    </a:lnTo>
                    <a:lnTo>
                      <a:pt x="7274" y="4493"/>
                    </a:lnTo>
                    <a:lnTo>
                      <a:pt x="7242" y="4485"/>
                    </a:lnTo>
                    <a:lnTo>
                      <a:pt x="7209" y="4477"/>
                    </a:lnTo>
                    <a:lnTo>
                      <a:pt x="7173" y="4473"/>
                    </a:lnTo>
                    <a:lnTo>
                      <a:pt x="7141" y="4465"/>
                    </a:lnTo>
                    <a:lnTo>
                      <a:pt x="7105" y="4461"/>
                    </a:lnTo>
                    <a:lnTo>
                      <a:pt x="7097" y="4453"/>
                    </a:lnTo>
                    <a:lnTo>
                      <a:pt x="7085" y="4449"/>
                    </a:lnTo>
                    <a:lnTo>
                      <a:pt x="7073" y="4445"/>
                    </a:lnTo>
                    <a:lnTo>
                      <a:pt x="7061" y="4445"/>
                    </a:lnTo>
                    <a:lnTo>
                      <a:pt x="7049" y="4441"/>
                    </a:lnTo>
                    <a:lnTo>
                      <a:pt x="7041" y="4441"/>
                    </a:lnTo>
                    <a:lnTo>
                      <a:pt x="7028" y="4437"/>
                    </a:lnTo>
                    <a:lnTo>
                      <a:pt x="7016" y="4433"/>
                    </a:lnTo>
                    <a:lnTo>
                      <a:pt x="7008" y="4429"/>
                    </a:lnTo>
                    <a:lnTo>
                      <a:pt x="7000" y="4429"/>
                    </a:lnTo>
                    <a:lnTo>
                      <a:pt x="6992" y="4425"/>
                    </a:lnTo>
                    <a:lnTo>
                      <a:pt x="6980" y="4421"/>
                    </a:lnTo>
                    <a:lnTo>
                      <a:pt x="6972" y="4421"/>
                    </a:lnTo>
                    <a:lnTo>
                      <a:pt x="6964" y="4421"/>
                    </a:lnTo>
                    <a:lnTo>
                      <a:pt x="6956" y="4425"/>
                    </a:lnTo>
                    <a:lnTo>
                      <a:pt x="6948" y="4429"/>
                    </a:lnTo>
                    <a:lnTo>
                      <a:pt x="6992" y="4489"/>
                    </a:lnTo>
                    <a:lnTo>
                      <a:pt x="7041" y="4554"/>
                    </a:lnTo>
                    <a:lnTo>
                      <a:pt x="7089" y="4614"/>
                    </a:lnTo>
                    <a:lnTo>
                      <a:pt x="7133" y="4679"/>
                    </a:lnTo>
                    <a:lnTo>
                      <a:pt x="7173" y="4747"/>
                    </a:lnTo>
                    <a:lnTo>
                      <a:pt x="7209" y="4816"/>
                    </a:lnTo>
                    <a:lnTo>
                      <a:pt x="7226" y="4852"/>
                    </a:lnTo>
                    <a:lnTo>
                      <a:pt x="7242" y="4888"/>
                    </a:lnTo>
                    <a:lnTo>
                      <a:pt x="7254" y="4920"/>
                    </a:lnTo>
                    <a:lnTo>
                      <a:pt x="7266" y="4961"/>
                    </a:lnTo>
                    <a:lnTo>
                      <a:pt x="7274" y="4969"/>
                    </a:lnTo>
                    <a:lnTo>
                      <a:pt x="7278" y="4985"/>
                    </a:lnTo>
                    <a:lnTo>
                      <a:pt x="7282" y="4997"/>
                    </a:lnTo>
                    <a:lnTo>
                      <a:pt x="7286" y="5013"/>
                    </a:lnTo>
                    <a:lnTo>
                      <a:pt x="7290" y="5025"/>
                    </a:lnTo>
                    <a:lnTo>
                      <a:pt x="7290" y="5041"/>
                    </a:lnTo>
                    <a:lnTo>
                      <a:pt x="7298" y="5057"/>
                    </a:lnTo>
                    <a:lnTo>
                      <a:pt x="7302" y="5070"/>
                    </a:lnTo>
                    <a:lnTo>
                      <a:pt x="7318" y="5110"/>
                    </a:lnTo>
                    <a:lnTo>
                      <a:pt x="7334" y="5150"/>
                    </a:lnTo>
                    <a:lnTo>
                      <a:pt x="7350" y="5194"/>
                    </a:lnTo>
                    <a:lnTo>
                      <a:pt x="7366" y="5235"/>
                    </a:lnTo>
                    <a:lnTo>
                      <a:pt x="7378" y="5279"/>
                    </a:lnTo>
                    <a:lnTo>
                      <a:pt x="7390" y="5319"/>
                    </a:lnTo>
                    <a:lnTo>
                      <a:pt x="7398" y="5364"/>
                    </a:lnTo>
                    <a:lnTo>
                      <a:pt x="7406" y="5408"/>
                    </a:lnTo>
                    <a:lnTo>
                      <a:pt x="7410" y="5428"/>
                    </a:lnTo>
                    <a:lnTo>
                      <a:pt x="7414" y="5452"/>
                    </a:lnTo>
                    <a:lnTo>
                      <a:pt x="7414" y="5477"/>
                    </a:lnTo>
                    <a:lnTo>
                      <a:pt x="7410" y="5505"/>
                    </a:lnTo>
                    <a:lnTo>
                      <a:pt x="7414" y="5529"/>
                    </a:lnTo>
                    <a:lnTo>
                      <a:pt x="7414" y="5553"/>
                    </a:lnTo>
                    <a:lnTo>
                      <a:pt x="7423" y="5577"/>
                    </a:lnTo>
                    <a:lnTo>
                      <a:pt x="7435" y="5597"/>
                    </a:lnTo>
                    <a:lnTo>
                      <a:pt x="7451" y="5646"/>
                    </a:lnTo>
                    <a:lnTo>
                      <a:pt x="7471" y="5694"/>
                    </a:lnTo>
                    <a:lnTo>
                      <a:pt x="7495" y="5739"/>
                    </a:lnTo>
                    <a:lnTo>
                      <a:pt x="7519" y="5783"/>
                    </a:lnTo>
                    <a:lnTo>
                      <a:pt x="7543" y="5827"/>
                    </a:lnTo>
                    <a:lnTo>
                      <a:pt x="7567" y="5876"/>
                    </a:lnTo>
                    <a:lnTo>
                      <a:pt x="7587" y="5920"/>
                    </a:lnTo>
                    <a:lnTo>
                      <a:pt x="7607" y="5964"/>
                    </a:lnTo>
                    <a:lnTo>
                      <a:pt x="7632" y="6004"/>
                    </a:lnTo>
                    <a:lnTo>
                      <a:pt x="7660" y="6041"/>
                    </a:lnTo>
                    <a:lnTo>
                      <a:pt x="7688" y="6077"/>
                    </a:lnTo>
                    <a:lnTo>
                      <a:pt x="7716" y="6113"/>
                    </a:lnTo>
                    <a:lnTo>
                      <a:pt x="7748" y="6150"/>
                    </a:lnTo>
                    <a:lnTo>
                      <a:pt x="7780" y="6186"/>
                    </a:lnTo>
                    <a:lnTo>
                      <a:pt x="7809" y="6222"/>
                    </a:lnTo>
                    <a:lnTo>
                      <a:pt x="7841" y="6258"/>
                    </a:lnTo>
                    <a:lnTo>
                      <a:pt x="7849" y="6266"/>
                    </a:lnTo>
                    <a:lnTo>
                      <a:pt x="7857" y="6279"/>
                    </a:lnTo>
                    <a:lnTo>
                      <a:pt x="7865" y="6291"/>
                    </a:lnTo>
                    <a:lnTo>
                      <a:pt x="7873" y="6303"/>
                    </a:lnTo>
                    <a:lnTo>
                      <a:pt x="7881" y="6319"/>
                    </a:lnTo>
                    <a:lnTo>
                      <a:pt x="7889" y="6331"/>
                    </a:lnTo>
                    <a:lnTo>
                      <a:pt x="7897" y="6339"/>
                    </a:lnTo>
                    <a:lnTo>
                      <a:pt x="7913" y="6351"/>
                    </a:lnTo>
                    <a:lnTo>
                      <a:pt x="7921" y="6367"/>
                    </a:lnTo>
                    <a:lnTo>
                      <a:pt x="7933" y="6379"/>
                    </a:lnTo>
                    <a:lnTo>
                      <a:pt x="7945" y="6395"/>
                    </a:lnTo>
                    <a:lnTo>
                      <a:pt x="7953" y="6411"/>
                    </a:lnTo>
                    <a:lnTo>
                      <a:pt x="7961" y="6428"/>
                    </a:lnTo>
                    <a:lnTo>
                      <a:pt x="7973" y="6448"/>
                    </a:lnTo>
                    <a:lnTo>
                      <a:pt x="7977" y="6464"/>
                    </a:lnTo>
                    <a:lnTo>
                      <a:pt x="7981" y="6480"/>
                    </a:lnTo>
                    <a:lnTo>
                      <a:pt x="7989" y="6488"/>
                    </a:lnTo>
                    <a:lnTo>
                      <a:pt x="7998" y="6496"/>
                    </a:lnTo>
                    <a:lnTo>
                      <a:pt x="8002" y="6504"/>
                    </a:lnTo>
                    <a:lnTo>
                      <a:pt x="8006" y="6516"/>
                    </a:lnTo>
                    <a:lnTo>
                      <a:pt x="8006" y="6524"/>
                    </a:lnTo>
                    <a:lnTo>
                      <a:pt x="8014" y="6532"/>
                    </a:lnTo>
                    <a:lnTo>
                      <a:pt x="8022" y="6536"/>
                    </a:lnTo>
                    <a:lnTo>
                      <a:pt x="8030" y="6540"/>
                    </a:lnTo>
                    <a:lnTo>
                      <a:pt x="8034" y="6561"/>
                    </a:lnTo>
                    <a:lnTo>
                      <a:pt x="8042" y="6577"/>
                    </a:lnTo>
                    <a:lnTo>
                      <a:pt x="8050" y="6593"/>
                    </a:lnTo>
                    <a:lnTo>
                      <a:pt x="8062" y="6609"/>
                    </a:lnTo>
                    <a:lnTo>
                      <a:pt x="8074" y="6625"/>
                    </a:lnTo>
                    <a:lnTo>
                      <a:pt x="8082" y="6641"/>
                    </a:lnTo>
                    <a:lnTo>
                      <a:pt x="8090" y="6661"/>
                    </a:lnTo>
                    <a:lnTo>
                      <a:pt x="8090" y="6681"/>
                    </a:lnTo>
                    <a:lnTo>
                      <a:pt x="8110" y="6742"/>
                    </a:lnTo>
                    <a:lnTo>
                      <a:pt x="8130" y="6798"/>
                    </a:lnTo>
                    <a:lnTo>
                      <a:pt x="8150" y="6859"/>
                    </a:lnTo>
                    <a:lnTo>
                      <a:pt x="8174" y="6915"/>
                    </a:lnTo>
                    <a:lnTo>
                      <a:pt x="8199" y="6972"/>
                    </a:lnTo>
                    <a:lnTo>
                      <a:pt x="8227" y="7028"/>
                    </a:lnTo>
                    <a:lnTo>
                      <a:pt x="8251" y="7084"/>
                    </a:lnTo>
                    <a:lnTo>
                      <a:pt x="8279" y="7141"/>
                    </a:lnTo>
                    <a:lnTo>
                      <a:pt x="8287" y="7141"/>
                    </a:lnTo>
                    <a:lnTo>
                      <a:pt x="8291" y="7149"/>
                    </a:lnTo>
                    <a:lnTo>
                      <a:pt x="8295" y="7157"/>
                    </a:lnTo>
                    <a:lnTo>
                      <a:pt x="8299" y="7165"/>
                    </a:lnTo>
                    <a:lnTo>
                      <a:pt x="8299" y="7173"/>
                    </a:lnTo>
                    <a:lnTo>
                      <a:pt x="8299" y="7181"/>
                    </a:lnTo>
                    <a:lnTo>
                      <a:pt x="8303" y="7193"/>
                    </a:lnTo>
                    <a:lnTo>
                      <a:pt x="8307" y="7197"/>
                    </a:lnTo>
                    <a:lnTo>
                      <a:pt x="8307" y="7234"/>
                    </a:lnTo>
                    <a:lnTo>
                      <a:pt x="8311" y="7270"/>
                    </a:lnTo>
                    <a:lnTo>
                      <a:pt x="8311" y="7302"/>
                    </a:lnTo>
                    <a:lnTo>
                      <a:pt x="8311" y="7338"/>
                    </a:lnTo>
                    <a:lnTo>
                      <a:pt x="8307" y="7371"/>
                    </a:lnTo>
                    <a:lnTo>
                      <a:pt x="8295" y="7399"/>
                    </a:lnTo>
                    <a:lnTo>
                      <a:pt x="8287" y="7411"/>
                    </a:lnTo>
                    <a:lnTo>
                      <a:pt x="8275" y="7423"/>
                    </a:lnTo>
                    <a:lnTo>
                      <a:pt x="8263" y="7435"/>
                    </a:lnTo>
                    <a:lnTo>
                      <a:pt x="8247" y="7443"/>
                    </a:lnTo>
                    <a:lnTo>
                      <a:pt x="8195" y="7423"/>
                    </a:lnTo>
                    <a:lnTo>
                      <a:pt x="8195" y="7435"/>
                    </a:lnTo>
                    <a:lnTo>
                      <a:pt x="8195" y="7443"/>
                    </a:lnTo>
                    <a:lnTo>
                      <a:pt x="8199" y="7455"/>
                    </a:lnTo>
                    <a:lnTo>
                      <a:pt x="8199" y="7467"/>
                    </a:lnTo>
                    <a:lnTo>
                      <a:pt x="8195" y="7475"/>
                    </a:lnTo>
                    <a:lnTo>
                      <a:pt x="8195" y="7487"/>
                    </a:lnTo>
                    <a:lnTo>
                      <a:pt x="8191" y="7496"/>
                    </a:lnTo>
                    <a:lnTo>
                      <a:pt x="8182" y="7508"/>
                    </a:lnTo>
                    <a:lnTo>
                      <a:pt x="8170" y="7516"/>
                    </a:lnTo>
                    <a:lnTo>
                      <a:pt x="8158" y="7520"/>
                    </a:lnTo>
                    <a:lnTo>
                      <a:pt x="8146" y="7524"/>
                    </a:lnTo>
                    <a:lnTo>
                      <a:pt x="8130" y="7528"/>
                    </a:lnTo>
                    <a:lnTo>
                      <a:pt x="8102" y="7528"/>
                    </a:lnTo>
                    <a:lnTo>
                      <a:pt x="8074" y="7524"/>
                    </a:lnTo>
                    <a:lnTo>
                      <a:pt x="8042" y="7512"/>
                    </a:lnTo>
                    <a:lnTo>
                      <a:pt x="8014" y="7504"/>
                    </a:lnTo>
                    <a:lnTo>
                      <a:pt x="7985" y="7491"/>
                    </a:lnTo>
                    <a:lnTo>
                      <a:pt x="7957" y="7479"/>
                    </a:lnTo>
                    <a:lnTo>
                      <a:pt x="7941" y="7471"/>
                    </a:lnTo>
                    <a:lnTo>
                      <a:pt x="7921" y="7463"/>
                    </a:lnTo>
                    <a:lnTo>
                      <a:pt x="7901" y="7455"/>
                    </a:lnTo>
                    <a:lnTo>
                      <a:pt x="7885" y="7447"/>
                    </a:lnTo>
                    <a:lnTo>
                      <a:pt x="7865" y="7439"/>
                    </a:lnTo>
                    <a:lnTo>
                      <a:pt x="7845" y="7431"/>
                    </a:lnTo>
                    <a:lnTo>
                      <a:pt x="7829" y="7423"/>
                    </a:lnTo>
                    <a:lnTo>
                      <a:pt x="7809" y="7411"/>
                    </a:lnTo>
                    <a:lnTo>
                      <a:pt x="7796" y="7399"/>
                    </a:lnTo>
                    <a:lnTo>
                      <a:pt x="7784" y="7387"/>
                    </a:lnTo>
                    <a:lnTo>
                      <a:pt x="7772" y="7375"/>
                    </a:lnTo>
                    <a:lnTo>
                      <a:pt x="7756" y="7367"/>
                    </a:lnTo>
                    <a:lnTo>
                      <a:pt x="7744" y="7354"/>
                    </a:lnTo>
                    <a:lnTo>
                      <a:pt x="7732" y="7342"/>
                    </a:lnTo>
                    <a:lnTo>
                      <a:pt x="7720" y="7326"/>
                    </a:lnTo>
                    <a:lnTo>
                      <a:pt x="7716" y="7310"/>
                    </a:lnTo>
                    <a:lnTo>
                      <a:pt x="7692" y="7282"/>
                    </a:lnTo>
                    <a:lnTo>
                      <a:pt x="7676" y="7254"/>
                    </a:lnTo>
                    <a:lnTo>
                      <a:pt x="7660" y="7221"/>
                    </a:lnTo>
                    <a:lnTo>
                      <a:pt x="7644" y="7189"/>
                    </a:lnTo>
                    <a:lnTo>
                      <a:pt x="7632" y="7157"/>
                    </a:lnTo>
                    <a:lnTo>
                      <a:pt x="7616" y="7125"/>
                    </a:lnTo>
                    <a:lnTo>
                      <a:pt x="7599" y="7097"/>
                    </a:lnTo>
                    <a:lnTo>
                      <a:pt x="7579" y="7064"/>
                    </a:lnTo>
                    <a:lnTo>
                      <a:pt x="7567" y="7028"/>
                    </a:lnTo>
                    <a:lnTo>
                      <a:pt x="7555" y="6988"/>
                    </a:lnTo>
                    <a:lnTo>
                      <a:pt x="7543" y="6947"/>
                    </a:lnTo>
                    <a:lnTo>
                      <a:pt x="7531" y="6911"/>
                    </a:lnTo>
                    <a:lnTo>
                      <a:pt x="7515" y="6871"/>
                    </a:lnTo>
                    <a:lnTo>
                      <a:pt x="7499" y="6835"/>
                    </a:lnTo>
                    <a:lnTo>
                      <a:pt x="7479" y="6798"/>
                    </a:lnTo>
                    <a:lnTo>
                      <a:pt x="7451" y="6762"/>
                    </a:lnTo>
                    <a:lnTo>
                      <a:pt x="7447" y="6770"/>
                    </a:lnTo>
                    <a:lnTo>
                      <a:pt x="7443" y="6778"/>
                    </a:lnTo>
                    <a:lnTo>
                      <a:pt x="7435" y="6786"/>
                    </a:lnTo>
                    <a:lnTo>
                      <a:pt x="7431" y="6794"/>
                    </a:lnTo>
                    <a:lnTo>
                      <a:pt x="7423" y="6798"/>
                    </a:lnTo>
                    <a:lnTo>
                      <a:pt x="7414" y="6806"/>
                    </a:lnTo>
                    <a:lnTo>
                      <a:pt x="7406" y="6810"/>
                    </a:lnTo>
                    <a:lnTo>
                      <a:pt x="7394" y="6814"/>
                    </a:lnTo>
                    <a:lnTo>
                      <a:pt x="7390" y="6814"/>
                    </a:lnTo>
                    <a:lnTo>
                      <a:pt x="7382" y="6814"/>
                    </a:lnTo>
                    <a:lnTo>
                      <a:pt x="7378" y="6810"/>
                    </a:lnTo>
                    <a:lnTo>
                      <a:pt x="7370" y="6806"/>
                    </a:lnTo>
                    <a:lnTo>
                      <a:pt x="7366" y="6802"/>
                    </a:lnTo>
                    <a:lnTo>
                      <a:pt x="7358" y="6798"/>
                    </a:lnTo>
                    <a:lnTo>
                      <a:pt x="7354" y="6798"/>
                    </a:lnTo>
                    <a:lnTo>
                      <a:pt x="7346" y="6798"/>
                    </a:lnTo>
                    <a:lnTo>
                      <a:pt x="7338" y="6778"/>
                    </a:lnTo>
                    <a:lnTo>
                      <a:pt x="7334" y="6762"/>
                    </a:lnTo>
                    <a:lnTo>
                      <a:pt x="7330" y="6742"/>
                    </a:lnTo>
                    <a:lnTo>
                      <a:pt x="7326" y="6722"/>
                    </a:lnTo>
                    <a:lnTo>
                      <a:pt x="7330" y="6681"/>
                    </a:lnTo>
                    <a:lnTo>
                      <a:pt x="7334" y="6645"/>
                    </a:lnTo>
                    <a:lnTo>
                      <a:pt x="7338" y="6605"/>
                    </a:lnTo>
                    <a:lnTo>
                      <a:pt x="7342" y="6565"/>
                    </a:lnTo>
                    <a:lnTo>
                      <a:pt x="7346" y="6524"/>
                    </a:lnTo>
                    <a:lnTo>
                      <a:pt x="7342" y="6484"/>
                    </a:lnTo>
                    <a:lnTo>
                      <a:pt x="7334" y="6472"/>
                    </a:lnTo>
                    <a:lnTo>
                      <a:pt x="7330" y="6460"/>
                    </a:lnTo>
                    <a:lnTo>
                      <a:pt x="7326" y="6444"/>
                    </a:lnTo>
                    <a:lnTo>
                      <a:pt x="7326" y="6432"/>
                    </a:lnTo>
                    <a:lnTo>
                      <a:pt x="7326" y="6416"/>
                    </a:lnTo>
                    <a:lnTo>
                      <a:pt x="7326" y="6403"/>
                    </a:lnTo>
                    <a:lnTo>
                      <a:pt x="7322" y="6387"/>
                    </a:lnTo>
                    <a:lnTo>
                      <a:pt x="7314" y="6375"/>
                    </a:lnTo>
                    <a:lnTo>
                      <a:pt x="7314" y="6363"/>
                    </a:lnTo>
                    <a:lnTo>
                      <a:pt x="7314" y="6355"/>
                    </a:lnTo>
                    <a:lnTo>
                      <a:pt x="7310" y="6343"/>
                    </a:lnTo>
                    <a:lnTo>
                      <a:pt x="7306" y="6335"/>
                    </a:lnTo>
                    <a:lnTo>
                      <a:pt x="7302" y="6323"/>
                    </a:lnTo>
                    <a:lnTo>
                      <a:pt x="7302" y="6315"/>
                    </a:lnTo>
                    <a:lnTo>
                      <a:pt x="7302" y="6303"/>
                    </a:lnTo>
                    <a:lnTo>
                      <a:pt x="7302" y="6295"/>
                    </a:lnTo>
                    <a:lnTo>
                      <a:pt x="7298" y="6291"/>
                    </a:lnTo>
                    <a:lnTo>
                      <a:pt x="7294" y="6287"/>
                    </a:lnTo>
                    <a:lnTo>
                      <a:pt x="7294" y="6283"/>
                    </a:lnTo>
                    <a:lnTo>
                      <a:pt x="7294" y="6279"/>
                    </a:lnTo>
                    <a:lnTo>
                      <a:pt x="7294" y="6274"/>
                    </a:lnTo>
                    <a:lnTo>
                      <a:pt x="7294" y="6270"/>
                    </a:lnTo>
                    <a:lnTo>
                      <a:pt x="7294" y="6266"/>
                    </a:lnTo>
                    <a:lnTo>
                      <a:pt x="7294" y="6258"/>
                    </a:lnTo>
                    <a:lnTo>
                      <a:pt x="7282" y="6202"/>
                    </a:lnTo>
                    <a:lnTo>
                      <a:pt x="7262" y="6150"/>
                    </a:lnTo>
                    <a:lnTo>
                      <a:pt x="7238" y="6097"/>
                    </a:lnTo>
                    <a:lnTo>
                      <a:pt x="7209" y="6049"/>
                    </a:lnTo>
                    <a:lnTo>
                      <a:pt x="7173" y="6000"/>
                    </a:lnTo>
                    <a:lnTo>
                      <a:pt x="7137" y="5956"/>
                    </a:lnTo>
                    <a:lnTo>
                      <a:pt x="7101" y="5912"/>
                    </a:lnTo>
                    <a:lnTo>
                      <a:pt x="7065" y="5867"/>
                    </a:lnTo>
                    <a:lnTo>
                      <a:pt x="7053" y="5839"/>
                    </a:lnTo>
                    <a:lnTo>
                      <a:pt x="7037" y="5815"/>
                    </a:lnTo>
                    <a:lnTo>
                      <a:pt x="7016" y="5787"/>
                    </a:lnTo>
                    <a:lnTo>
                      <a:pt x="6996" y="5767"/>
                    </a:lnTo>
                    <a:lnTo>
                      <a:pt x="6976" y="5743"/>
                    </a:lnTo>
                    <a:lnTo>
                      <a:pt x="6952" y="5718"/>
                    </a:lnTo>
                    <a:lnTo>
                      <a:pt x="6928" y="5698"/>
                    </a:lnTo>
                    <a:lnTo>
                      <a:pt x="6908" y="5678"/>
                    </a:lnTo>
                    <a:lnTo>
                      <a:pt x="6872" y="5670"/>
                    </a:lnTo>
                    <a:lnTo>
                      <a:pt x="6844" y="5654"/>
                    </a:lnTo>
                    <a:lnTo>
                      <a:pt x="6815" y="5634"/>
                    </a:lnTo>
                    <a:lnTo>
                      <a:pt x="6795" y="5610"/>
                    </a:lnTo>
                    <a:lnTo>
                      <a:pt x="6775" y="5581"/>
                    </a:lnTo>
                    <a:lnTo>
                      <a:pt x="6755" y="5549"/>
                    </a:lnTo>
                    <a:lnTo>
                      <a:pt x="6743" y="5517"/>
                    </a:lnTo>
                    <a:lnTo>
                      <a:pt x="6735" y="5485"/>
                    </a:lnTo>
                    <a:lnTo>
                      <a:pt x="6731" y="5469"/>
                    </a:lnTo>
                    <a:lnTo>
                      <a:pt x="6723" y="5452"/>
                    </a:lnTo>
                    <a:lnTo>
                      <a:pt x="6715" y="5440"/>
                    </a:lnTo>
                    <a:lnTo>
                      <a:pt x="6711" y="5424"/>
                    </a:lnTo>
                    <a:lnTo>
                      <a:pt x="6703" y="5412"/>
                    </a:lnTo>
                    <a:lnTo>
                      <a:pt x="6699" y="5396"/>
                    </a:lnTo>
                    <a:lnTo>
                      <a:pt x="6695" y="5380"/>
                    </a:lnTo>
                    <a:lnTo>
                      <a:pt x="6691" y="5364"/>
                    </a:lnTo>
                    <a:lnTo>
                      <a:pt x="6679" y="5348"/>
                    </a:lnTo>
                    <a:lnTo>
                      <a:pt x="6671" y="5336"/>
                    </a:lnTo>
                    <a:lnTo>
                      <a:pt x="6667" y="5319"/>
                    </a:lnTo>
                    <a:lnTo>
                      <a:pt x="6659" y="5307"/>
                    </a:lnTo>
                    <a:lnTo>
                      <a:pt x="6655" y="5291"/>
                    </a:lnTo>
                    <a:lnTo>
                      <a:pt x="6647" y="5279"/>
                    </a:lnTo>
                    <a:lnTo>
                      <a:pt x="6638" y="5263"/>
                    </a:lnTo>
                    <a:lnTo>
                      <a:pt x="6630" y="5251"/>
                    </a:lnTo>
                    <a:lnTo>
                      <a:pt x="6586" y="5190"/>
                    </a:lnTo>
                    <a:lnTo>
                      <a:pt x="6542" y="5130"/>
                    </a:lnTo>
                    <a:lnTo>
                      <a:pt x="6502" y="5074"/>
                    </a:lnTo>
                    <a:lnTo>
                      <a:pt x="6458" y="5013"/>
                    </a:lnTo>
                    <a:lnTo>
                      <a:pt x="6413" y="4953"/>
                    </a:lnTo>
                    <a:lnTo>
                      <a:pt x="6365" y="4896"/>
                    </a:lnTo>
                    <a:lnTo>
                      <a:pt x="6317" y="4844"/>
                    </a:lnTo>
                    <a:lnTo>
                      <a:pt x="6269" y="4791"/>
                    </a:lnTo>
                    <a:lnTo>
                      <a:pt x="6252" y="4800"/>
                    </a:lnTo>
                    <a:lnTo>
                      <a:pt x="6236" y="4808"/>
                    </a:lnTo>
                    <a:lnTo>
                      <a:pt x="6220" y="4820"/>
                    </a:lnTo>
                    <a:lnTo>
                      <a:pt x="6208" y="4836"/>
                    </a:lnTo>
                    <a:lnTo>
                      <a:pt x="6196" y="4848"/>
                    </a:lnTo>
                    <a:lnTo>
                      <a:pt x="6184" y="4864"/>
                    </a:lnTo>
                    <a:lnTo>
                      <a:pt x="6172" y="4876"/>
                    </a:lnTo>
                    <a:lnTo>
                      <a:pt x="6160" y="4884"/>
                    </a:lnTo>
                    <a:lnTo>
                      <a:pt x="6152" y="4876"/>
                    </a:lnTo>
                    <a:lnTo>
                      <a:pt x="6140" y="4868"/>
                    </a:lnTo>
                    <a:lnTo>
                      <a:pt x="6132" y="4856"/>
                    </a:lnTo>
                    <a:lnTo>
                      <a:pt x="6124" y="4844"/>
                    </a:lnTo>
                    <a:lnTo>
                      <a:pt x="6112" y="4828"/>
                    </a:lnTo>
                    <a:lnTo>
                      <a:pt x="6104" y="4820"/>
                    </a:lnTo>
                    <a:lnTo>
                      <a:pt x="6092" y="4808"/>
                    </a:lnTo>
                    <a:lnTo>
                      <a:pt x="6076" y="4800"/>
                    </a:lnTo>
                    <a:lnTo>
                      <a:pt x="6031" y="4783"/>
                    </a:lnTo>
                    <a:lnTo>
                      <a:pt x="5987" y="4767"/>
                    </a:lnTo>
                    <a:lnTo>
                      <a:pt x="5939" y="4751"/>
                    </a:lnTo>
                    <a:lnTo>
                      <a:pt x="5895" y="4739"/>
                    </a:lnTo>
                    <a:lnTo>
                      <a:pt x="5850" y="4723"/>
                    </a:lnTo>
                    <a:lnTo>
                      <a:pt x="5802" y="4711"/>
                    </a:lnTo>
                    <a:lnTo>
                      <a:pt x="5758" y="4699"/>
                    </a:lnTo>
                    <a:lnTo>
                      <a:pt x="5710" y="4687"/>
                    </a:lnTo>
                    <a:lnTo>
                      <a:pt x="5686" y="4687"/>
                    </a:lnTo>
                    <a:lnTo>
                      <a:pt x="5661" y="4691"/>
                    </a:lnTo>
                    <a:lnTo>
                      <a:pt x="5637" y="4691"/>
                    </a:lnTo>
                    <a:lnTo>
                      <a:pt x="5613" y="4691"/>
                    </a:lnTo>
                    <a:lnTo>
                      <a:pt x="5593" y="4695"/>
                    </a:lnTo>
                    <a:lnTo>
                      <a:pt x="5569" y="4695"/>
                    </a:lnTo>
                    <a:lnTo>
                      <a:pt x="5545" y="4703"/>
                    </a:lnTo>
                    <a:lnTo>
                      <a:pt x="5525" y="4711"/>
                    </a:lnTo>
                    <a:lnTo>
                      <a:pt x="5521" y="4711"/>
                    </a:lnTo>
                    <a:lnTo>
                      <a:pt x="5513" y="4711"/>
                    </a:lnTo>
                    <a:lnTo>
                      <a:pt x="5505" y="4711"/>
                    </a:lnTo>
                    <a:lnTo>
                      <a:pt x="5501" y="4711"/>
                    </a:lnTo>
                    <a:lnTo>
                      <a:pt x="5493" y="4711"/>
                    </a:lnTo>
                    <a:lnTo>
                      <a:pt x="5484" y="4711"/>
                    </a:lnTo>
                    <a:lnTo>
                      <a:pt x="5480" y="4715"/>
                    </a:lnTo>
                    <a:lnTo>
                      <a:pt x="5476" y="4719"/>
                    </a:lnTo>
                    <a:lnTo>
                      <a:pt x="5440" y="4719"/>
                    </a:lnTo>
                    <a:lnTo>
                      <a:pt x="5404" y="4719"/>
                    </a:lnTo>
                    <a:lnTo>
                      <a:pt x="5368" y="4719"/>
                    </a:lnTo>
                    <a:lnTo>
                      <a:pt x="5332" y="4723"/>
                    </a:lnTo>
                    <a:lnTo>
                      <a:pt x="5296" y="4723"/>
                    </a:lnTo>
                    <a:lnTo>
                      <a:pt x="5259" y="4723"/>
                    </a:lnTo>
                    <a:lnTo>
                      <a:pt x="5223" y="4719"/>
                    </a:lnTo>
                    <a:lnTo>
                      <a:pt x="5191" y="4711"/>
                    </a:lnTo>
                    <a:lnTo>
                      <a:pt x="5103" y="4715"/>
                    </a:lnTo>
                    <a:lnTo>
                      <a:pt x="5022" y="4715"/>
                    </a:lnTo>
                    <a:lnTo>
                      <a:pt x="4942" y="4715"/>
                    </a:lnTo>
                    <a:lnTo>
                      <a:pt x="4861" y="4715"/>
                    </a:lnTo>
                    <a:lnTo>
                      <a:pt x="4781" y="4715"/>
                    </a:lnTo>
                    <a:lnTo>
                      <a:pt x="4700" y="4715"/>
                    </a:lnTo>
                    <a:lnTo>
                      <a:pt x="4620" y="4715"/>
                    </a:lnTo>
                    <a:lnTo>
                      <a:pt x="4536" y="4715"/>
                    </a:lnTo>
                    <a:lnTo>
                      <a:pt x="4532" y="4727"/>
                    </a:lnTo>
                    <a:lnTo>
                      <a:pt x="4532" y="4739"/>
                    </a:lnTo>
                    <a:lnTo>
                      <a:pt x="4536" y="4747"/>
                    </a:lnTo>
                    <a:lnTo>
                      <a:pt x="4536" y="4759"/>
                    </a:lnTo>
                    <a:lnTo>
                      <a:pt x="4536" y="4771"/>
                    </a:lnTo>
                    <a:lnTo>
                      <a:pt x="4532" y="4779"/>
                    </a:lnTo>
                    <a:lnTo>
                      <a:pt x="4528" y="4791"/>
                    </a:lnTo>
                    <a:lnTo>
                      <a:pt x="4519" y="4800"/>
                    </a:lnTo>
                    <a:lnTo>
                      <a:pt x="4491" y="4791"/>
                    </a:lnTo>
                    <a:lnTo>
                      <a:pt x="4463" y="4779"/>
                    </a:lnTo>
                    <a:lnTo>
                      <a:pt x="4435" y="4767"/>
                    </a:lnTo>
                    <a:lnTo>
                      <a:pt x="4407" y="4751"/>
                    </a:lnTo>
                    <a:lnTo>
                      <a:pt x="4379" y="4739"/>
                    </a:lnTo>
                    <a:lnTo>
                      <a:pt x="4351" y="4731"/>
                    </a:lnTo>
                    <a:lnTo>
                      <a:pt x="4318" y="4723"/>
                    </a:lnTo>
                    <a:lnTo>
                      <a:pt x="4286" y="4719"/>
                    </a:lnTo>
                    <a:lnTo>
                      <a:pt x="4282" y="4723"/>
                    </a:lnTo>
                    <a:lnTo>
                      <a:pt x="4278" y="4731"/>
                    </a:lnTo>
                    <a:lnTo>
                      <a:pt x="4274" y="4739"/>
                    </a:lnTo>
                    <a:lnTo>
                      <a:pt x="4270" y="4743"/>
                    </a:lnTo>
                    <a:lnTo>
                      <a:pt x="4266" y="4747"/>
                    </a:lnTo>
                    <a:lnTo>
                      <a:pt x="4258" y="4751"/>
                    </a:lnTo>
                    <a:lnTo>
                      <a:pt x="4254" y="4751"/>
                    </a:lnTo>
                    <a:lnTo>
                      <a:pt x="4246" y="4743"/>
                    </a:lnTo>
                    <a:lnTo>
                      <a:pt x="4230" y="4723"/>
                    </a:lnTo>
                    <a:lnTo>
                      <a:pt x="4214" y="4699"/>
                    </a:lnTo>
                    <a:lnTo>
                      <a:pt x="4194" y="4675"/>
                    </a:lnTo>
                    <a:lnTo>
                      <a:pt x="4174" y="4654"/>
                    </a:lnTo>
                    <a:lnTo>
                      <a:pt x="4154" y="4638"/>
                    </a:lnTo>
                    <a:lnTo>
                      <a:pt x="4125" y="4630"/>
                    </a:lnTo>
                    <a:lnTo>
                      <a:pt x="4101" y="4622"/>
                    </a:lnTo>
                    <a:lnTo>
                      <a:pt x="4069" y="4626"/>
                    </a:lnTo>
                    <a:lnTo>
                      <a:pt x="4061" y="4634"/>
                    </a:lnTo>
                    <a:lnTo>
                      <a:pt x="4045" y="4642"/>
                    </a:lnTo>
                    <a:lnTo>
                      <a:pt x="4033" y="4646"/>
                    </a:lnTo>
                    <a:lnTo>
                      <a:pt x="4021" y="4650"/>
                    </a:lnTo>
                    <a:lnTo>
                      <a:pt x="4005" y="4650"/>
                    </a:lnTo>
                    <a:lnTo>
                      <a:pt x="3989" y="4650"/>
                    </a:lnTo>
                    <a:lnTo>
                      <a:pt x="3977" y="4650"/>
                    </a:lnTo>
                    <a:lnTo>
                      <a:pt x="3965" y="4650"/>
                    </a:lnTo>
                    <a:lnTo>
                      <a:pt x="3965" y="4695"/>
                    </a:lnTo>
                    <a:lnTo>
                      <a:pt x="3969" y="4735"/>
                    </a:lnTo>
                    <a:lnTo>
                      <a:pt x="3981" y="4771"/>
                    </a:lnTo>
                    <a:lnTo>
                      <a:pt x="3997" y="4812"/>
                    </a:lnTo>
                    <a:lnTo>
                      <a:pt x="4009" y="4848"/>
                    </a:lnTo>
                    <a:lnTo>
                      <a:pt x="4025" y="4888"/>
                    </a:lnTo>
                    <a:lnTo>
                      <a:pt x="4033" y="4929"/>
                    </a:lnTo>
                    <a:lnTo>
                      <a:pt x="4037" y="4973"/>
                    </a:lnTo>
                    <a:lnTo>
                      <a:pt x="4065" y="5037"/>
                    </a:lnTo>
                    <a:lnTo>
                      <a:pt x="4089" y="5106"/>
                    </a:lnTo>
                    <a:lnTo>
                      <a:pt x="4113" y="5174"/>
                    </a:lnTo>
                    <a:lnTo>
                      <a:pt x="4133" y="5243"/>
                    </a:lnTo>
                    <a:lnTo>
                      <a:pt x="4158" y="5311"/>
                    </a:lnTo>
                    <a:lnTo>
                      <a:pt x="4178" y="5380"/>
                    </a:lnTo>
                    <a:lnTo>
                      <a:pt x="4206" y="5444"/>
                    </a:lnTo>
                    <a:lnTo>
                      <a:pt x="4238" y="5509"/>
                    </a:lnTo>
                    <a:lnTo>
                      <a:pt x="4250" y="5549"/>
                    </a:lnTo>
                    <a:lnTo>
                      <a:pt x="4266" y="5589"/>
                    </a:lnTo>
                    <a:lnTo>
                      <a:pt x="4282" y="5630"/>
                    </a:lnTo>
                    <a:lnTo>
                      <a:pt x="4306" y="5666"/>
                    </a:lnTo>
                    <a:lnTo>
                      <a:pt x="4355" y="5734"/>
                    </a:lnTo>
                    <a:lnTo>
                      <a:pt x="4415" y="5799"/>
                    </a:lnTo>
                    <a:lnTo>
                      <a:pt x="4475" y="5867"/>
                    </a:lnTo>
                    <a:lnTo>
                      <a:pt x="4536" y="5932"/>
                    </a:lnTo>
                    <a:lnTo>
                      <a:pt x="4592" y="5996"/>
                    </a:lnTo>
                    <a:lnTo>
                      <a:pt x="4644" y="6069"/>
                    </a:lnTo>
                    <a:lnTo>
                      <a:pt x="4680" y="6105"/>
                    </a:lnTo>
                    <a:lnTo>
                      <a:pt x="4712" y="6146"/>
                    </a:lnTo>
                    <a:lnTo>
                      <a:pt x="4745" y="6186"/>
                    </a:lnTo>
                    <a:lnTo>
                      <a:pt x="4777" y="6226"/>
                    </a:lnTo>
                    <a:lnTo>
                      <a:pt x="4809" y="6262"/>
                    </a:lnTo>
                    <a:lnTo>
                      <a:pt x="4841" y="6303"/>
                    </a:lnTo>
                    <a:lnTo>
                      <a:pt x="4877" y="6343"/>
                    </a:lnTo>
                    <a:lnTo>
                      <a:pt x="4914" y="6379"/>
                    </a:lnTo>
                    <a:lnTo>
                      <a:pt x="4926" y="6391"/>
                    </a:lnTo>
                    <a:lnTo>
                      <a:pt x="4938" y="6407"/>
                    </a:lnTo>
                    <a:lnTo>
                      <a:pt x="4950" y="6424"/>
                    </a:lnTo>
                    <a:lnTo>
                      <a:pt x="4958" y="6440"/>
                    </a:lnTo>
                    <a:lnTo>
                      <a:pt x="4974" y="6472"/>
                    </a:lnTo>
                    <a:lnTo>
                      <a:pt x="4990" y="6508"/>
                    </a:lnTo>
                    <a:lnTo>
                      <a:pt x="5006" y="6544"/>
                    </a:lnTo>
                    <a:lnTo>
                      <a:pt x="5026" y="6573"/>
                    </a:lnTo>
                    <a:lnTo>
                      <a:pt x="5038" y="6585"/>
                    </a:lnTo>
                    <a:lnTo>
                      <a:pt x="5054" y="6597"/>
                    </a:lnTo>
                    <a:lnTo>
                      <a:pt x="5070" y="6605"/>
                    </a:lnTo>
                    <a:lnTo>
                      <a:pt x="5090" y="6609"/>
                    </a:lnTo>
                    <a:lnTo>
                      <a:pt x="5123" y="6645"/>
                    </a:lnTo>
                    <a:lnTo>
                      <a:pt x="5155" y="6681"/>
                    </a:lnTo>
                    <a:lnTo>
                      <a:pt x="5183" y="6722"/>
                    </a:lnTo>
                    <a:lnTo>
                      <a:pt x="5215" y="6762"/>
                    </a:lnTo>
                    <a:lnTo>
                      <a:pt x="5239" y="6802"/>
                    </a:lnTo>
                    <a:lnTo>
                      <a:pt x="5267" y="6843"/>
                    </a:lnTo>
                    <a:lnTo>
                      <a:pt x="5291" y="6887"/>
                    </a:lnTo>
                    <a:lnTo>
                      <a:pt x="5316" y="6927"/>
                    </a:lnTo>
                    <a:lnTo>
                      <a:pt x="5328" y="6931"/>
                    </a:lnTo>
                    <a:lnTo>
                      <a:pt x="5336" y="6939"/>
                    </a:lnTo>
                    <a:lnTo>
                      <a:pt x="5340" y="6951"/>
                    </a:lnTo>
                    <a:lnTo>
                      <a:pt x="5344" y="6960"/>
                    </a:lnTo>
                    <a:lnTo>
                      <a:pt x="5348" y="6972"/>
                    </a:lnTo>
                    <a:lnTo>
                      <a:pt x="5352" y="6976"/>
                    </a:lnTo>
                    <a:lnTo>
                      <a:pt x="5364" y="6980"/>
                    </a:lnTo>
                    <a:lnTo>
                      <a:pt x="5376" y="6980"/>
                    </a:lnTo>
                    <a:lnTo>
                      <a:pt x="5376" y="7000"/>
                    </a:lnTo>
                    <a:lnTo>
                      <a:pt x="5384" y="7012"/>
                    </a:lnTo>
                    <a:lnTo>
                      <a:pt x="5392" y="7024"/>
                    </a:lnTo>
                    <a:lnTo>
                      <a:pt x="5404" y="7036"/>
                    </a:lnTo>
                    <a:lnTo>
                      <a:pt x="5416" y="7048"/>
                    </a:lnTo>
                    <a:lnTo>
                      <a:pt x="5428" y="7060"/>
                    </a:lnTo>
                    <a:lnTo>
                      <a:pt x="5436" y="7072"/>
                    </a:lnTo>
                    <a:lnTo>
                      <a:pt x="5440" y="7089"/>
                    </a:lnTo>
                    <a:lnTo>
                      <a:pt x="5456" y="7113"/>
                    </a:lnTo>
                    <a:lnTo>
                      <a:pt x="5468" y="7137"/>
                    </a:lnTo>
                    <a:lnTo>
                      <a:pt x="5480" y="7165"/>
                    </a:lnTo>
                    <a:lnTo>
                      <a:pt x="5489" y="7193"/>
                    </a:lnTo>
                    <a:lnTo>
                      <a:pt x="5497" y="7221"/>
                    </a:lnTo>
                    <a:lnTo>
                      <a:pt x="5501" y="7250"/>
                    </a:lnTo>
                    <a:lnTo>
                      <a:pt x="5505" y="7278"/>
                    </a:lnTo>
                    <a:lnTo>
                      <a:pt x="5509" y="7306"/>
                    </a:lnTo>
                    <a:lnTo>
                      <a:pt x="5505" y="7314"/>
                    </a:lnTo>
                    <a:lnTo>
                      <a:pt x="5501" y="7322"/>
                    </a:lnTo>
                    <a:lnTo>
                      <a:pt x="5497" y="7334"/>
                    </a:lnTo>
                    <a:lnTo>
                      <a:pt x="5489" y="7338"/>
                    </a:lnTo>
                    <a:lnTo>
                      <a:pt x="5480" y="7346"/>
                    </a:lnTo>
                    <a:lnTo>
                      <a:pt x="5472" y="7354"/>
                    </a:lnTo>
                    <a:lnTo>
                      <a:pt x="5464" y="7359"/>
                    </a:lnTo>
                    <a:lnTo>
                      <a:pt x="5456" y="7367"/>
                    </a:lnTo>
                    <a:lnTo>
                      <a:pt x="5448" y="7363"/>
                    </a:lnTo>
                    <a:lnTo>
                      <a:pt x="5432" y="7359"/>
                    </a:lnTo>
                    <a:lnTo>
                      <a:pt x="5420" y="7363"/>
                    </a:lnTo>
                    <a:lnTo>
                      <a:pt x="5408" y="7363"/>
                    </a:lnTo>
                    <a:lnTo>
                      <a:pt x="5392" y="7363"/>
                    </a:lnTo>
                    <a:lnTo>
                      <a:pt x="5380" y="7363"/>
                    </a:lnTo>
                    <a:lnTo>
                      <a:pt x="5368" y="7359"/>
                    </a:lnTo>
                    <a:lnTo>
                      <a:pt x="5356" y="7350"/>
                    </a:lnTo>
                    <a:lnTo>
                      <a:pt x="5336" y="7334"/>
                    </a:lnTo>
                    <a:lnTo>
                      <a:pt x="5316" y="7314"/>
                    </a:lnTo>
                    <a:lnTo>
                      <a:pt x="5296" y="7290"/>
                    </a:lnTo>
                    <a:lnTo>
                      <a:pt x="5271" y="7266"/>
                    </a:lnTo>
                    <a:lnTo>
                      <a:pt x="5251" y="7246"/>
                    </a:lnTo>
                    <a:lnTo>
                      <a:pt x="5231" y="7221"/>
                    </a:lnTo>
                    <a:lnTo>
                      <a:pt x="5207" y="7201"/>
                    </a:lnTo>
                    <a:lnTo>
                      <a:pt x="5183" y="7185"/>
                    </a:lnTo>
                    <a:lnTo>
                      <a:pt x="5167" y="7197"/>
                    </a:lnTo>
                    <a:lnTo>
                      <a:pt x="5187" y="7221"/>
                    </a:lnTo>
                    <a:lnTo>
                      <a:pt x="5203" y="7242"/>
                    </a:lnTo>
                    <a:lnTo>
                      <a:pt x="5219" y="7262"/>
                    </a:lnTo>
                    <a:lnTo>
                      <a:pt x="5239" y="7282"/>
                    </a:lnTo>
                    <a:lnTo>
                      <a:pt x="5255" y="7298"/>
                    </a:lnTo>
                    <a:lnTo>
                      <a:pt x="5271" y="7318"/>
                    </a:lnTo>
                    <a:lnTo>
                      <a:pt x="5287" y="7342"/>
                    </a:lnTo>
                    <a:lnTo>
                      <a:pt x="5300" y="7363"/>
                    </a:lnTo>
                    <a:lnTo>
                      <a:pt x="5300" y="7375"/>
                    </a:lnTo>
                    <a:lnTo>
                      <a:pt x="5291" y="7387"/>
                    </a:lnTo>
                    <a:lnTo>
                      <a:pt x="5283" y="7391"/>
                    </a:lnTo>
                    <a:lnTo>
                      <a:pt x="5275" y="7399"/>
                    </a:lnTo>
                    <a:lnTo>
                      <a:pt x="5263" y="7403"/>
                    </a:lnTo>
                    <a:lnTo>
                      <a:pt x="5251" y="7407"/>
                    </a:lnTo>
                    <a:lnTo>
                      <a:pt x="5239" y="7407"/>
                    </a:lnTo>
                    <a:lnTo>
                      <a:pt x="5227" y="7411"/>
                    </a:lnTo>
                    <a:lnTo>
                      <a:pt x="5215" y="7415"/>
                    </a:lnTo>
                    <a:lnTo>
                      <a:pt x="5199" y="7411"/>
                    </a:lnTo>
                    <a:lnTo>
                      <a:pt x="5183" y="7411"/>
                    </a:lnTo>
                    <a:lnTo>
                      <a:pt x="5171" y="7411"/>
                    </a:lnTo>
                    <a:lnTo>
                      <a:pt x="5155" y="7411"/>
                    </a:lnTo>
                    <a:lnTo>
                      <a:pt x="5139" y="7415"/>
                    </a:lnTo>
                    <a:lnTo>
                      <a:pt x="5127" y="7415"/>
                    </a:lnTo>
                    <a:lnTo>
                      <a:pt x="5115" y="7419"/>
                    </a:lnTo>
                    <a:lnTo>
                      <a:pt x="5094" y="7427"/>
                    </a:lnTo>
                    <a:lnTo>
                      <a:pt x="5074" y="7431"/>
                    </a:lnTo>
                    <a:lnTo>
                      <a:pt x="5058" y="7431"/>
                    </a:lnTo>
                    <a:lnTo>
                      <a:pt x="5038" y="7427"/>
                    </a:lnTo>
                    <a:lnTo>
                      <a:pt x="5018" y="7423"/>
                    </a:lnTo>
                    <a:lnTo>
                      <a:pt x="4998" y="7415"/>
                    </a:lnTo>
                    <a:lnTo>
                      <a:pt x="4978" y="7407"/>
                    </a:lnTo>
                    <a:lnTo>
                      <a:pt x="4962" y="7399"/>
                    </a:lnTo>
                    <a:lnTo>
                      <a:pt x="4930" y="7383"/>
                    </a:lnTo>
                    <a:lnTo>
                      <a:pt x="4901" y="7363"/>
                    </a:lnTo>
                    <a:lnTo>
                      <a:pt x="4873" y="7342"/>
                    </a:lnTo>
                    <a:lnTo>
                      <a:pt x="4849" y="7318"/>
                    </a:lnTo>
                    <a:lnTo>
                      <a:pt x="4825" y="7290"/>
                    </a:lnTo>
                    <a:lnTo>
                      <a:pt x="4801" y="7266"/>
                    </a:lnTo>
                    <a:lnTo>
                      <a:pt x="4785" y="7234"/>
                    </a:lnTo>
                    <a:lnTo>
                      <a:pt x="4769" y="7201"/>
                    </a:lnTo>
                    <a:lnTo>
                      <a:pt x="4745" y="7185"/>
                    </a:lnTo>
                    <a:lnTo>
                      <a:pt x="4721" y="7165"/>
                    </a:lnTo>
                    <a:lnTo>
                      <a:pt x="4696" y="7145"/>
                    </a:lnTo>
                    <a:lnTo>
                      <a:pt x="4672" y="7129"/>
                    </a:lnTo>
                    <a:lnTo>
                      <a:pt x="4648" y="7109"/>
                    </a:lnTo>
                    <a:lnTo>
                      <a:pt x="4620" y="7089"/>
                    </a:lnTo>
                    <a:lnTo>
                      <a:pt x="4596" y="7072"/>
                    </a:lnTo>
                    <a:lnTo>
                      <a:pt x="4572" y="7052"/>
                    </a:lnTo>
                    <a:lnTo>
                      <a:pt x="4552" y="7028"/>
                    </a:lnTo>
                    <a:lnTo>
                      <a:pt x="4532" y="7004"/>
                    </a:lnTo>
                    <a:lnTo>
                      <a:pt x="4511" y="6980"/>
                    </a:lnTo>
                    <a:lnTo>
                      <a:pt x="4491" y="6956"/>
                    </a:lnTo>
                    <a:lnTo>
                      <a:pt x="4471" y="6931"/>
                    </a:lnTo>
                    <a:lnTo>
                      <a:pt x="4447" y="6907"/>
                    </a:lnTo>
                    <a:lnTo>
                      <a:pt x="4427" y="6887"/>
                    </a:lnTo>
                    <a:lnTo>
                      <a:pt x="4403" y="6867"/>
                    </a:lnTo>
                    <a:lnTo>
                      <a:pt x="4399" y="6871"/>
                    </a:lnTo>
                    <a:lnTo>
                      <a:pt x="4395" y="6875"/>
                    </a:lnTo>
                    <a:lnTo>
                      <a:pt x="4395" y="6879"/>
                    </a:lnTo>
                    <a:lnTo>
                      <a:pt x="4391" y="6883"/>
                    </a:lnTo>
                    <a:lnTo>
                      <a:pt x="4391" y="6891"/>
                    </a:lnTo>
                    <a:lnTo>
                      <a:pt x="4391" y="6895"/>
                    </a:lnTo>
                    <a:lnTo>
                      <a:pt x="4387" y="6899"/>
                    </a:lnTo>
                    <a:lnTo>
                      <a:pt x="4387" y="6903"/>
                    </a:lnTo>
                    <a:lnTo>
                      <a:pt x="4367" y="6899"/>
                    </a:lnTo>
                    <a:lnTo>
                      <a:pt x="4351" y="6891"/>
                    </a:lnTo>
                    <a:lnTo>
                      <a:pt x="4339" y="6883"/>
                    </a:lnTo>
                    <a:lnTo>
                      <a:pt x="4322" y="6867"/>
                    </a:lnTo>
                    <a:lnTo>
                      <a:pt x="4310" y="6855"/>
                    </a:lnTo>
                    <a:lnTo>
                      <a:pt x="4298" y="6839"/>
                    </a:lnTo>
                    <a:lnTo>
                      <a:pt x="4286" y="6823"/>
                    </a:lnTo>
                    <a:lnTo>
                      <a:pt x="4274" y="6810"/>
                    </a:lnTo>
                    <a:lnTo>
                      <a:pt x="4266" y="6786"/>
                    </a:lnTo>
                    <a:lnTo>
                      <a:pt x="4262" y="6766"/>
                    </a:lnTo>
                    <a:lnTo>
                      <a:pt x="4262" y="6746"/>
                    </a:lnTo>
                    <a:lnTo>
                      <a:pt x="4262" y="6726"/>
                    </a:lnTo>
                    <a:lnTo>
                      <a:pt x="4258" y="6706"/>
                    </a:lnTo>
                    <a:lnTo>
                      <a:pt x="4254" y="6686"/>
                    </a:lnTo>
                    <a:lnTo>
                      <a:pt x="4246" y="6665"/>
                    </a:lnTo>
                    <a:lnTo>
                      <a:pt x="4238" y="6645"/>
                    </a:lnTo>
                    <a:lnTo>
                      <a:pt x="4246" y="6633"/>
                    </a:lnTo>
                    <a:lnTo>
                      <a:pt x="4218" y="6593"/>
                    </a:lnTo>
                    <a:lnTo>
                      <a:pt x="4194" y="6557"/>
                    </a:lnTo>
                    <a:lnTo>
                      <a:pt x="4170" y="6516"/>
                    </a:lnTo>
                    <a:lnTo>
                      <a:pt x="4146" y="6480"/>
                    </a:lnTo>
                    <a:lnTo>
                      <a:pt x="4121" y="6444"/>
                    </a:lnTo>
                    <a:lnTo>
                      <a:pt x="4093" y="6407"/>
                    </a:lnTo>
                    <a:lnTo>
                      <a:pt x="4065" y="6371"/>
                    </a:lnTo>
                    <a:lnTo>
                      <a:pt x="4037" y="6343"/>
                    </a:lnTo>
                    <a:lnTo>
                      <a:pt x="4025" y="6319"/>
                    </a:lnTo>
                    <a:lnTo>
                      <a:pt x="4013" y="6299"/>
                    </a:lnTo>
                    <a:lnTo>
                      <a:pt x="4001" y="6274"/>
                    </a:lnTo>
                    <a:lnTo>
                      <a:pt x="3989" y="6254"/>
                    </a:lnTo>
                    <a:lnTo>
                      <a:pt x="3977" y="6234"/>
                    </a:lnTo>
                    <a:lnTo>
                      <a:pt x="3965" y="6210"/>
                    </a:lnTo>
                    <a:lnTo>
                      <a:pt x="3957" y="6190"/>
                    </a:lnTo>
                    <a:lnTo>
                      <a:pt x="3949" y="6166"/>
                    </a:lnTo>
                    <a:lnTo>
                      <a:pt x="3928" y="6146"/>
                    </a:lnTo>
                    <a:lnTo>
                      <a:pt x="3912" y="6125"/>
                    </a:lnTo>
                    <a:lnTo>
                      <a:pt x="3900" y="6105"/>
                    </a:lnTo>
                    <a:lnTo>
                      <a:pt x="3888" y="6085"/>
                    </a:lnTo>
                    <a:lnTo>
                      <a:pt x="3872" y="6065"/>
                    </a:lnTo>
                    <a:lnTo>
                      <a:pt x="3860" y="6041"/>
                    </a:lnTo>
                    <a:lnTo>
                      <a:pt x="3848" y="6021"/>
                    </a:lnTo>
                    <a:lnTo>
                      <a:pt x="3836" y="6000"/>
                    </a:lnTo>
                    <a:lnTo>
                      <a:pt x="3832" y="5980"/>
                    </a:lnTo>
                    <a:lnTo>
                      <a:pt x="3828" y="5964"/>
                    </a:lnTo>
                    <a:lnTo>
                      <a:pt x="3820" y="5948"/>
                    </a:lnTo>
                    <a:lnTo>
                      <a:pt x="3808" y="5936"/>
                    </a:lnTo>
                    <a:lnTo>
                      <a:pt x="3796" y="5920"/>
                    </a:lnTo>
                    <a:lnTo>
                      <a:pt x="3784" y="5908"/>
                    </a:lnTo>
                    <a:lnTo>
                      <a:pt x="3776" y="5892"/>
                    </a:lnTo>
                    <a:lnTo>
                      <a:pt x="3764" y="5880"/>
                    </a:lnTo>
                    <a:lnTo>
                      <a:pt x="3731" y="5851"/>
                    </a:lnTo>
                    <a:lnTo>
                      <a:pt x="3695" y="5827"/>
                    </a:lnTo>
                    <a:lnTo>
                      <a:pt x="3659" y="5803"/>
                    </a:lnTo>
                    <a:lnTo>
                      <a:pt x="3627" y="5775"/>
                    </a:lnTo>
                    <a:lnTo>
                      <a:pt x="3599" y="5747"/>
                    </a:lnTo>
                    <a:lnTo>
                      <a:pt x="3571" y="5718"/>
                    </a:lnTo>
                    <a:lnTo>
                      <a:pt x="3563" y="5698"/>
                    </a:lnTo>
                    <a:lnTo>
                      <a:pt x="3554" y="5682"/>
                    </a:lnTo>
                    <a:lnTo>
                      <a:pt x="3546" y="5658"/>
                    </a:lnTo>
                    <a:lnTo>
                      <a:pt x="3542" y="5638"/>
                    </a:lnTo>
                    <a:lnTo>
                      <a:pt x="3538" y="5622"/>
                    </a:lnTo>
                    <a:lnTo>
                      <a:pt x="3538" y="5606"/>
                    </a:lnTo>
                    <a:lnTo>
                      <a:pt x="3538" y="5589"/>
                    </a:lnTo>
                    <a:lnTo>
                      <a:pt x="3542" y="5569"/>
                    </a:lnTo>
                    <a:lnTo>
                      <a:pt x="3550" y="5553"/>
                    </a:lnTo>
                    <a:lnTo>
                      <a:pt x="3554" y="5537"/>
                    </a:lnTo>
                    <a:lnTo>
                      <a:pt x="3554" y="5521"/>
                    </a:lnTo>
                    <a:lnTo>
                      <a:pt x="3554" y="5505"/>
                    </a:lnTo>
                    <a:lnTo>
                      <a:pt x="3563" y="5477"/>
                    </a:lnTo>
                    <a:lnTo>
                      <a:pt x="3563" y="5448"/>
                    </a:lnTo>
                    <a:lnTo>
                      <a:pt x="3563" y="5424"/>
                    </a:lnTo>
                    <a:lnTo>
                      <a:pt x="3563" y="5396"/>
                    </a:lnTo>
                    <a:lnTo>
                      <a:pt x="3554" y="5348"/>
                    </a:lnTo>
                    <a:lnTo>
                      <a:pt x="3546" y="5299"/>
                    </a:lnTo>
                    <a:lnTo>
                      <a:pt x="3530" y="5247"/>
                    </a:lnTo>
                    <a:lnTo>
                      <a:pt x="3514" y="5199"/>
                    </a:lnTo>
                    <a:lnTo>
                      <a:pt x="3502" y="5150"/>
                    </a:lnTo>
                    <a:lnTo>
                      <a:pt x="3490" y="5098"/>
                    </a:lnTo>
                    <a:lnTo>
                      <a:pt x="3458" y="5045"/>
                    </a:lnTo>
                    <a:lnTo>
                      <a:pt x="3434" y="4989"/>
                    </a:lnTo>
                    <a:lnTo>
                      <a:pt x="3406" y="4933"/>
                    </a:lnTo>
                    <a:lnTo>
                      <a:pt x="3382" y="4880"/>
                    </a:lnTo>
                    <a:lnTo>
                      <a:pt x="3353" y="4824"/>
                    </a:lnTo>
                    <a:lnTo>
                      <a:pt x="3321" y="4771"/>
                    </a:lnTo>
                    <a:lnTo>
                      <a:pt x="3305" y="4743"/>
                    </a:lnTo>
                    <a:lnTo>
                      <a:pt x="3285" y="4719"/>
                    </a:lnTo>
                    <a:lnTo>
                      <a:pt x="3265" y="4695"/>
                    </a:lnTo>
                    <a:lnTo>
                      <a:pt x="3241" y="4671"/>
                    </a:lnTo>
                    <a:lnTo>
                      <a:pt x="3221" y="4695"/>
                    </a:lnTo>
                    <a:lnTo>
                      <a:pt x="3209" y="4715"/>
                    </a:lnTo>
                    <a:lnTo>
                      <a:pt x="3197" y="4739"/>
                    </a:lnTo>
                    <a:lnTo>
                      <a:pt x="3189" y="4763"/>
                    </a:lnTo>
                    <a:lnTo>
                      <a:pt x="3181" y="4787"/>
                    </a:lnTo>
                    <a:lnTo>
                      <a:pt x="3172" y="4812"/>
                    </a:lnTo>
                    <a:lnTo>
                      <a:pt x="3160" y="4836"/>
                    </a:lnTo>
                    <a:lnTo>
                      <a:pt x="3148" y="4860"/>
                    </a:lnTo>
                    <a:lnTo>
                      <a:pt x="3124" y="4884"/>
                    </a:lnTo>
                    <a:lnTo>
                      <a:pt x="3108" y="4908"/>
                    </a:lnTo>
                    <a:lnTo>
                      <a:pt x="3088" y="4933"/>
                    </a:lnTo>
                    <a:lnTo>
                      <a:pt x="3068" y="4961"/>
                    </a:lnTo>
                    <a:lnTo>
                      <a:pt x="3048" y="4981"/>
                    </a:lnTo>
                    <a:lnTo>
                      <a:pt x="3024" y="5005"/>
                    </a:lnTo>
                    <a:lnTo>
                      <a:pt x="2996" y="5021"/>
                    </a:lnTo>
                    <a:lnTo>
                      <a:pt x="2967" y="5037"/>
                    </a:lnTo>
                    <a:lnTo>
                      <a:pt x="2947" y="5041"/>
                    </a:lnTo>
                    <a:lnTo>
                      <a:pt x="2927" y="5049"/>
                    </a:lnTo>
                    <a:lnTo>
                      <a:pt x="2911" y="5061"/>
                    </a:lnTo>
                    <a:lnTo>
                      <a:pt x="2891" y="5070"/>
                    </a:lnTo>
                    <a:lnTo>
                      <a:pt x="2871" y="5082"/>
                    </a:lnTo>
                    <a:lnTo>
                      <a:pt x="2851" y="5086"/>
                    </a:lnTo>
                    <a:lnTo>
                      <a:pt x="2831" y="5090"/>
                    </a:lnTo>
                    <a:lnTo>
                      <a:pt x="2807" y="5086"/>
                    </a:lnTo>
                    <a:lnTo>
                      <a:pt x="2774" y="5098"/>
                    </a:lnTo>
                    <a:lnTo>
                      <a:pt x="2746" y="5102"/>
                    </a:lnTo>
                    <a:lnTo>
                      <a:pt x="2718" y="5106"/>
                    </a:lnTo>
                    <a:lnTo>
                      <a:pt x="2690" y="5102"/>
                    </a:lnTo>
                    <a:lnTo>
                      <a:pt x="2662" y="5102"/>
                    </a:lnTo>
                    <a:lnTo>
                      <a:pt x="2634" y="5098"/>
                    </a:lnTo>
                    <a:lnTo>
                      <a:pt x="2606" y="5094"/>
                    </a:lnTo>
                    <a:lnTo>
                      <a:pt x="2577" y="5094"/>
                    </a:lnTo>
                    <a:lnTo>
                      <a:pt x="2541" y="5078"/>
                    </a:lnTo>
                    <a:lnTo>
                      <a:pt x="2509" y="5066"/>
                    </a:lnTo>
                    <a:lnTo>
                      <a:pt x="2473" y="5057"/>
                    </a:lnTo>
                    <a:lnTo>
                      <a:pt x="2437" y="5053"/>
                    </a:lnTo>
                    <a:lnTo>
                      <a:pt x="2400" y="5049"/>
                    </a:lnTo>
                    <a:lnTo>
                      <a:pt x="2364" y="5041"/>
                    </a:lnTo>
                    <a:lnTo>
                      <a:pt x="2332" y="5033"/>
                    </a:lnTo>
                    <a:lnTo>
                      <a:pt x="2300" y="5013"/>
                    </a:lnTo>
                    <a:lnTo>
                      <a:pt x="2272" y="5001"/>
                    </a:lnTo>
                    <a:lnTo>
                      <a:pt x="2244" y="4985"/>
                    </a:lnTo>
                    <a:lnTo>
                      <a:pt x="2216" y="4969"/>
                    </a:lnTo>
                    <a:lnTo>
                      <a:pt x="2191" y="4953"/>
                    </a:lnTo>
                    <a:lnTo>
                      <a:pt x="2163" y="4937"/>
                    </a:lnTo>
                    <a:lnTo>
                      <a:pt x="2139" y="4920"/>
                    </a:lnTo>
                    <a:lnTo>
                      <a:pt x="2111" y="4904"/>
                    </a:lnTo>
                    <a:lnTo>
                      <a:pt x="2087" y="4884"/>
                    </a:lnTo>
                    <a:lnTo>
                      <a:pt x="2075" y="4876"/>
                    </a:lnTo>
                    <a:lnTo>
                      <a:pt x="2059" y="4868"/>
                    </a:lnTo>
                    <a:lnTo>
                      <a:pt x="2047" y="4856"/>
                    </a:lnTo>
                    <a:lnTo>
                      <a:pt x="2035" y="4848"/>
                    </a:lnTo>
                    <a:lnTo>
                      <a:pt x="2019" y="4840"/>
                    </a:lnTo>
                    <a:lnTo>
                      <a:pt x="2006" y="4836"/>
                    </a:lnTo>
                    <a:lnTo>
                      <a:pt x="1990" y="4832"/>
                    </a:lnTo>
                    <a:lnTo>
                      <a:pt x="1974" y="4828"/>
                    </a:lnTo>
                    <a:lnTo>
                      <a:pt x="1966" y="4840"/>
                    </a:lnTo>
                    <a:lnTo>
                      <a:pt x="1962" y="4852"/>
                    </a:lnTo>
                    <a:lnTo>
                      <a:pt x="1962" y="4868"/>
                    </a:lnTo>
                    <a:lnTo>
                      <a:pt x="1962" y="4880"/>
                    </a:lnTo>
                    <a:lnTo>
                      <a:pt x="1966" y="4896"/>
                    </a:lnTo>
                    <a:lnTo>
                      <a:pt x="1974" y="4912"/>
                    </a:lnTo>
                    <a:lnTo>
                      <a:pt x="1978" y="4929"/>
                    </a:lnTo>
                    <a:lnTo>
                      <a:pt x="1982" y="4941"/>
                    </a:lnTo>
                    <a:lnTo>
                      <a:pt x="2006" y="4977"/>
                    </a:lnTo>
                    <a:lnTo>
                      <a:pt x="2027" y="5013"/>
                    </a:lnTo>
                    <a:lnTo>
                      <a:pt x="2051" y="5049"/>
                    </a:lnTo>
                    <a:lnTo>
                      <a:pt x="2071" y="5090"/>
                    </a:lnTo>
                    <a:lnTo>
                      <a:pt x="2091" y="5126"/>
                    </a:lnTo>
                    <a:lnTo>
                      <a:pt x="2111" y="5162"/>
                    </a:lnTo>
                    <a:lnTo>
                      <a:pt x="2135" y="5199"/>
                    </a:lnTo>
                    <a:lnTo>
                      <a:pt x="2159" y="5231"/>
                    </a:lnTo>
                    <a:lnTo>
                      <a:pt x="2163" y="5247"/>
                    </a:lnTo>
                    <a:lnTo>
                      <a:pt x="2171" y="5259"/>
                    </a:lnTo>
                    <a:lnTo>
                      <a:pt x="2175" y="5271"/>
                    </a:lnTo>
                    <a:lnTo>
                      <a:pt x="2183" y="5287"/>
                    </a:lnTo>
                    <a:lnTo>
                      <a:pt x="2187" y="5299"/>
                    </a:lnTo>
                    <a:lnTo>
                      <a:pt x="2195" y="5311"/>
                    </a:lnTo>
                    <a:lnTo>
                      <a:pt x="2203" y="5323"/>
                    </a:lnTo>
                    <a:lnTo>
                      <a:pt x="2212" y="5340"/>
                    </a:lnTo>
                    <a:lnTo>
                      <a:pt x="2216" y="5360"/>
                    </a:lnTo>
                    <a:lnTo>
                      <a:pt x="2220" y="5376"/>
                    </a:lnTo>
                    <a:lnTo>
                      <a:pt x="2228" y="5396"/>
                    </a:lnTo>
                    <a:lnTo>
                      <a:pt x="2240" y="5412"/>
                    </a:lnTo>
                    <a:lnTo>
                      <a:pt x="2248" y="5432"/>
                    </a:lnTo>
                    <a:lnTo>
                      <a:pt x="2260" y="5448"/>
                    </a:lnTo>
                    <a:lnTo>
                      <a:pt x="2264" y="5469"/>
                    </a:lnTo>
                    <a:lnTo>
                      <a:pt x="2268" y="5489"/>
                    </a:lnTo>
                    <a:lnTo>
                      <a:pt x="2280" y="5501"/>
                    </a:lnTo>
                    <a:lnTo>
                      <a:pt x="2288" y="5517"/>
                    </a:lnTo>
                    <a:lnTo>
                      <a:pt x="2292" y="5533"/>
                    </a:lnTo>
                    <a:lnTo>
                      <a:pt x="2296" y="5549"/>
                    </a:lnTo>
                    <a:lnTo>
                      <a:pt x="2300" y="5565"/>
                    </a:lnTo>
                    <a:lnTo>
                      <a:pt x="2304" y="5581"/>
                    </a:lnTo>
                    <a:lnTo>
                      <a:pt x="2308" y="5597"/>
                    </a:lnTo>
                    <a:lnTo>
                      <a:pt x="2312" y="5610"/>
                    </a:lnTo>
                    <a:lnTo>
                      <a:pt x="2332" y="5666"/>
                    </a:lnTo>
                    <a:lnTo>
                      <a:pt x="2352" y="5726"/>
                    </a:lnTo>
                    <a:lnTo>
                      <a:pt x="2372" y="5783"/>
                    </a:lnTo>
                    <a:lnTo>
                      <a:pt x="2396" y="5839"/>
                    </a:lnTo>
                    <a:lnTo>
                      <a:pt x="2425" y="5896"/>
                    </a:lnTo>
                    <a:lnTo>
                      <a:pt x="2453" y="5944"/>
                    </a:lnTo>
                    <a:lnTo>
                      <a:pt x="2473" y="5968"/>
                    </a:lnTo>
                    <a:lnTo>
                      <a:pt x="2493" y="5992"/>
                    </a:lnTo>
                    <a:lnTo>
                      <a:pt x="2513" y="6013"/>
                    </a:lnTo>
                    <a:lnTo>
                      <a:pt x="2537" y="6033"/>
                    </a:lnTo>
                    <a:lnTo>
                      <a:pt x="2561" y="6077"/>
                    </a:lnTo>
                    <a:lnTo>
                      <a:pt x="2589" y="6121"/>
                    </a:lnTo>
                    <a:lnTo>
                      <a:pt x="2614" y="6166"/>
                    </a:lnTo>
                    <a:lnTo>
                      <a:pt x="2642" y="6210"/>
                    </a:lnTo>
                    <a:lnTo>
                      <a:pt x="2674" y="6254"/>
                    </a:lnTo>
                    <a:lnTo>
                      <a:pt x="2702" y="6299"/>
                    </a:lnTo>
                    <a:lnTo>
                      <a:pt x="2734" y="6339"/>
                    </a:lnTo>
                    <a:lnTo>
                      <a:pt x="2766" y="6375"/>
                    </a:lnTo>
                    <a:lnTo>
                      <a:pt x="2786" y="6395"/>
                    </a:lnTo>
                    <a:lnTo>
                      <a:pt x="2799" y="6420"/>
                    </a:lnTo>
                    <a:lnTo>
                      <a:pt x="2811" y="6440"/>
                    </a:lnTo>
                    <a:lnTo>
                      <a:pt x="2819" y="6464"/>
                    </a:lnTo>
                    <a:lnTo>
                      <a:pt x="2835" y="6516"/>
                    </a:lnTo>
                    <a:lnTo>
                      <a:pt x="2839" y="6565"/>
                    </a:lnTo>
                    <a:lnTo>
                      <a:pt x="2843" y="6621"/>
                    </a:lnTo>
                    <a:lnTo>
                      <a:pt x="2847" y="6673"/>
                    </a:lnTo>
                    <a:lnTo>
                      <a:pt x="2851" y="6722"/>
                    </a:lnTo>
                    <a:lnTo>
                      <a:pt x="2859" y="6774"/>
                    </a:lnTo>
                    <a:lnTo>
                      <a:pt x="2855" y="6798"/>
                    </a:lnTo>
                    <a:lnTo>
                      <a:pt x="2855" y="6827"/>
                    </a:lnTo>
                    <a:lnTo>
                      <a:pt x="2859" y="6851"/>
                    </a:lnTo>
                    <a:lnTo>
                      <a:pt x="2867" y="6875"/>
                    </a:lnTo>
                    <a:lnTo>
                      <a:pt x="2875" y="6899"/>
                    </a:lnTo>
                    <a:lnTo>
                      <a:pt x="2883" y="6927"/>
                    </a:lnTo>
                    <a:lnTo>
                      <a:pt x="2883" y="6951"/>
                    </a:lnTo>
                    <a:lnTo>
                      <a:pt x="2883" y="6980"/>
                    </a:lnTo>
                    <a:lnTo>
                      <a:pt x="2883" y="7012"/>
                    </a:lnTo>
                    <a:lnTo>
                      <a:pt x="2887" y="7048"/>
                    </a:lnTo>
                    <a:lnTo>
                      <a:pt x="2887" y="7080"/>
                    </a:lnTo>
                    <a:lnTo>
                      <a:pt x="2883" y="7113"/>
                    </a:lnTo>
                    <a:lnTo>
                      <a:pt x="2879" y="7145"/>
                    </a:lnTo>
                    <a:lnTo>
                      <a:pt x="2875" y="7173"/>
                    </a:lnTo>
                    <a:lnTo>
                      <a:pt x="2863" y="7205"/>
                    </a:lnTo>
                    <a:lnTo>
                      <a:pt x="2851" y="7234"/>
                    </a:lnTo>
                    <a:lnTo>
                      <a:pt x="2843" y="7250"/>
                    </a:lnTo>
                    <a:lnTo>
                      <a:pt x="2831" y="7270"/>
                    </a:lnTo>
                    <a:lnTo>
                      <a:pt x="2819" y="7290"/>
                    </a:lnTo>
                    <a:lnTo>
                      <a:pt x="2811" y="7306"/>
                    </a:lnTo>
                    <a:lnTo>
                      <a:pt x="2799" y="7326"/>
                    </a:lnTo>
                    <a:lnTo>
                      <a:pt x="2786" y="7346"/>
                    </a:lnTo>
                    <a:lnTo>
                      <a:pt x="2774" y="7363"/>
                    </a:lnTo>
                    <a:lnTo>
                      <a:pt x="2762" y="7383"/>
                    </a:lnTo>
                    <a:lnTo>
                      <a:pt x="2766" y="7387"/>
                    </a:lnTo>
                    <a:lnTo>
                      <a:pt x="2766" y="7391"/>
                    </a:lnTo>
                    <a:lnTo>
                      <a:pt x="2762" y="7395"/>
                    </a:lnTo>
                    <a:lnTo>
                      <a:pt x="2762" y="7399"/>
                    </a:lnTo>
                    <a:lnTo>
                      <a:pt x="2758" y="7403"/>
                    </a:lnTo>
                    <a:lnTo>
                      <a:pt x="2754" y="7407"/>
                    </a:lnTo>
                    <a:lnTo>
                      <a:pt x="2750" y="7411"/>
                    </a:lnTo>
                    <a:lnTo>
                      <a:pt x="2746" y="7411"/>
                    </a:lnTo>
                    <a:lnTo>
                      <a:pt x="2738" y="7411"/>
                    </a:lnTo>
                    <a:lnTo>
                      <a:pt x="2734" y="7411"/>
                    </a:lnTo>
                    <a:lnTo>
                      <a:pt x="2730" y="7407"/>
                    </a:lnTo>
                    <a:lnTo>
                      <a:pt x="2726" y="7403"/>
                    </a:lnTo>
                    <a:lnTo>
                      <a:pt x="2726" y="7399"/>
                    </a:lnTo>
                    <a:lnTo>
                      <a:pt x="2722" y="7395"/>
                    </a:lnTo>
                    <a:lnTo>
                      <a:pt x="2722" y="7387"/>
                    </a:lnTo>
                    <a:lnTo>
                      <a:pt x="2718" y="7383"/>
                    </a:lnTo>
                    <a:lnTo>
                      <a:pt x="2710" y="7359"/>
                    </a:lnTo>
                    <a:lnTo>
                      <a:pt x="2698" y="7338"/>
                    </a:lnTo>
                    <a:lnTo>
                      <a:pt x="2686" y="7314"/>
                    </a:lnTo>
                    <a:lnTo>
                      <a:pt x="2674" y="7294"/>
                    </a:lnTo>
                    <a:lnTo>
                      <a:pt x="2662" y="7270"/>
                    </a:lnTo>
                    <a:lnTo>
                      <a:pt x="2646" y="7250"/>
                    </a:lnTo>
                    <a:lnTo>
                      <a:pt x="2634" y="7230"/>
                    </a:lnTo>
                    <a:lnTo>
                      <a:pt x="2618" y="7213"/>
                    </a:lnTo>
                    <a:lnTo>
                      <a:pt x="2618" y="7234"/>
                    </a:lnTo>
                    <a:lnTo>
                      <a:pt x="2618" y="7254"/>
                    </a:lnTo>
                    <a:lnTo>
                      <a:pt x="2618" y="7274"/>
                    </a:lnTo>
                    <a:lnTo>
                      <a:pt x="2622" y="7290"/>
                    </a:lnTo>
                    <a:lnTo>
                      <a:pt x="2626" y="7310"/>
                    </a:lnTo>
                    <a:lnTo>
                      <a:pt x="2630" y="7330"/>
                    </a:lnTo>
                    <a:lnTo>
                      <a:pt x="2634" y="7350"/>
                    </a:lnTo>
                    <a:lnTo>
                      <a:pt x="2642" y="7371"/>
                    </a:lnTo>
                    <a:lnTo>
                      <a:pt x="2642" y="7379"/>
                    </a:lnTo>
                    <a:lnTo>
                      <a:pt x="2650" y="7387"/>
                    </a:lnTo>
                    <a:lnTo>
                      <a:pt x="2654" y="7395"/>
                    </a:lnTo>
                    <a:lnTo>
                      <a:pt x="2662" y="7403"/>
                    </a:lnTo>
                    <a:lnTo>
                      <a:pt x="2666" y="7411"/>
                    </a:lnTo>
                    <a:lnTo>
                      <a:pt x="2666" y="7419"/>
                    </a:lnTo>
                    <a:lnTo>
                      <a:pt x="2666" y="7431"/>
                    </a:lnTo>
                    <a:lnTo>
                      <a:pt x="2662" y="7443"/>
                    </a:lnTo>
                    <a:lnTo>
                      <a:pt x="2634" y="7443"/>
                    </a:lnTo>
                    <a:lnTo>
                      <a:pt x="2606" y="7439"/>
                    </a:lnTo>
                    <a:lnTo>
                      <a:pt x="2581" y="7431"/>
                    </a:lnTo>
                    <a:lnTo>
                      <a:pt x="2553" y="7415"/>
                    </a:lnTo>
                    <a:lnTo>
                      <a:pt x="2529" y="7403"/>
                    </a:lnTo>
                    <a:lnTo>
                      <a:pt x="2505" y="7387"/>
                    </a:lnTo>
                    <a:lnTo>
                      <a:pt x="2481" y="7371"/>
                    </a:lnTo>
                    <a:lnTo>
                      <a:pt x="2457" y="7363"/>
                    </a:lnTo>
                    <a:lnTo>
                      <a:pt x="2437" y="7342"/>
                    </a:lnTo>
                    <a:lnTo>
                      <a:pt x="2413" y="7330"/>
                    </a:lnTo>
                    <a:lnTo>
                      <a:pt x="2392" y="7314"/>
                    </a:lnTo>
                    <a:lnTo>
                      <a:pt x="2368" y="7298"/>
                    </a:lnTo>
                    <a:lnTo>
                      <a:pt x="2348" y="7282"/>
                    </a:lnTo>
                    <a:lnTo>
                      <a:pt x="2328" y="7262"/>
                    </a:lnTo>
                    <a:lnTo>
                      <a:pt x="2316" y="7242"/>
                    </a:lnTo>
                    <a:lnTo>
                      <a:pt x="2304" y="7217"/>
                    </a:lnTo>
                    <a:lnTo>
                      <a:pt x="2296" y="7181"/>
                    </a:lnTo>
                    <a:lnTo>
                      <a:pt x="2296" y="7149"/>
                    </a:lnTo>
                    <a:lnTo>
                      <a:pt x="2296" y="7113"/>
                    </a:lnTo>
                    <a:lnTo>
                      <a:pt x="2292" y="7080"/>
                    </a:lnTo>
                    <a:lnTo>
                      <a:pt x="2292" y="7048"/>
                    </a:lnTo>
                    <a:lnTo>
                      <a:pt x="2284" y="7012"/>
                    </a:lnTo>
                    <a:lnTo>
                      <a:pt x="2272" y="6984"/>
                    </a:lnTo>
                    <a:lnTo>
                      <a:pt x="2256" y="6956"/>
                    </a:lnTo>
                    <a:lnTo>
                      <a:pt x="2236" y="6903"/>
                    </a:lnTo>
                    <a:lnTo>
                      <a:pt x="2216" y="6851"/>
                    </a:lnTo>
                    <a:lnTo>
                      <a:pt x="2199" y="6798"/>
                    </a:lnTo>
                    <a:lnTo>
                      <a:pt x="2183" y="6746"/>
                    </a:lnTo>
                    <a:lnTo>
                      <a:pt x="2167" y="6690"/>
                    </a:lnTo>
                    <a:lnTo>
                      <a:pt x="2151" y="6637"/>
                    </a:lnTo>
                    <a:lnTo>
                      <a:pt x="2139" y="6581"/>
                    </a:lnTo>
                    <a:lnTo>
                      <a:pt x="2127" y="6524"/>
                    </a:lnTo>
                    <a:lnTo>
                      <a:pt x="2119" y="6520"/>
                    </a:lnTo>
                    <a:lnTo>
                      <a:pt x="2111" y="6520"/>
                    </a:lnTo>
                    <a:lnTo>
                      <a:pt x="2103" y="6516"/>
                    </a:lnTo>
                    <a:lnTo>
                      <a:pt x="2095" y="6512"/>
                    </a:lnTo>
                    <a:lnTo>
                      <a:pt x="2087" y="6508"/>
                    </a:lnTo>
                    <a:lnTo>
                      <a:pt x="2079" y="6504"/>
                    </a:lnTo>
                    <a:lnTo>
                      <a:pt x="2071" y="6504"/>
                    </a:lnTo>
                    <a:lnTo>
                      <a:pt x="2063" y="6508"/>
                    </a:lnTo>
                    <a:lnTo>
                      <a:pt x="2071" y="6504"/>
                    </a:lnTo>
                    <a:lnTo>
                      <a:pt x="2055" y="6488"/>
                    </a:lnTo>
                    <a:lnTo>
                      <a:pt x="2047" y="6468"/>
                    </a:lnTo>
                    <a:lnTo>
                      <a:pt x="2043" y="6448"/>
                    </a:lnTo>
                    <a:lnTo>
                      <a:pt x="2043" y="6424"/>
                    </a:lnTo>
                    <a:lnTo>
                      <a:pt x="2047" y="6399"/>
                    </a:lnTo>
                    <a:lnTo>
                      <a:pt x="2051" y="6375"/>
                    </a:lnTo>
                    <a:lnTo>
                      <a:pt x="2055" y="6351"/>
                    </a:lnTo>
                    <a:lnTo>
                      <a:pt x="2059" y="6331"/>
                    </a:lnTo>
                    <a:lnTo>
                      <a:pt x="2051" y="6295"/>
                    </a:lnTo>
                    <a:lnTo>
                      <a:pt x="2039" y="6254"/>
                    </a:lnTo>
                    <a:lnTo>
                      <a:pt x="2023" y="6214"/>
                    </a:lnTo>
                    <a:lnTo>
                      <a:pt x="2010" y="6178"/>
                    </a:lnTo>
                    <a:lnTo>
                      <a:pt x="1994" y="6137"/>
                    </a:lnTo>
                    <a:lnTo>
                      <a:pt x="1982" y="6101"/>
                    </a:lnTo>
                    <a:lnTo>
                      <a:pt x="1966" y="6065"/>
                    </a:lnTo>
                    <a:lnTo>
                      <a:pt x="1954" y="6025"/>
                    </a:lnTo>
                    <a:lnTo>
                      <a:pt x="1946" y="6025"/>
                    </a:lnTo>
                    <a:lnTo>
                      <a:pt x="1942" y="6017"/>
                    </a:lnTo>
                    <a:lnTo>
                      <a:pt x="1942" y="6013"/>
                    </a:lnTo>
                    <a:lnTo>
                      <a:pt x="1938" y="6009"/>
                    </a:lnTo>
                    <a:lnTo>
                      <a:pt x="1938" y="6000"/>
                    </a:lnTo>
                    <a:lnTo>
                      <a:pt x="1938" y="5996"/>
                    </a:lnTo>
                    <a:lnTo>
                      <a:pt x="1934" y="5988"/>
                    </a:lnTo>
                    <a:lnTo>
                      <a:pt x="1934" y="5984"/>
                    </a:lnTo>
                    <a:lnTo>
                      <a:pt x="1890" y="5904"/>
                    </a:lnTo>
                    <a:lnTo>
                      <a:pt x="1846" y="5827"/>
                    </a:lnTo>
                    <a:lnTo>
                      <a:pt x="1797" y="5751"/>
                    </a:lnTo>
                    <a:lnTo>
                      <a:pt x="1749" y="5674"/>
                    </a:lnTo>
                    <a:lnTo>
                      <a:pt x="1701" y="5597"/>
                    </a:lnTo>
                    <a:lnTo>
                      <a:pt x="1645" y="5525"/>
                    </a:lnTo>
                    <a:lnTo>
                      <a:pt x="1592" y="5452"/>
                    </a:lnTo>
                    <a:lnTo>
                      <a:pt x="1532" y="5380"/>
                    </a:lnTo>
                    <a:lnTo>
                      <a:pt x="1496" y="5323"/>
                    </a:lnTo>
                    <a:lnTo>
                      <a:pt x="1456" y="5263"/>
                    </a:lnTo>
                    <a:lnTo>
                      <a:pt x="1419" y="5207"/>
                    </a:lnTo>
                    <a:lnTo>
                      <a:pt x="1383" y="5146"/>
                    </a:lnTo>
                    <a:lnTo>
                      <a:pt x="1343" y="5090"/>
                    </a:lnTo>
                    <a:lnTo>
                      <a:pt x="1307" y="5029"/>
                    </a:lnTo>
                    <a:lnTo>
                      <a:pt x="1267" y="4973"/>
                    </a:lnTo>
                    <a:lnTo>
                      <a:pt x="1222" y="4920"/>
                    </a:lnTo>
                    <a:lnTo>
                      <a:pt x="1190" y="4852"/>
                    </a:lnTo>
                    <a:lnTo>
                      <a:pt x="1162" y="4775"/>
                    </a:lnTo>
                    <a:lnTo>
                      <a:pt x="1142" y="4699"/>
                    </a:lnTo>
                    <a:lnTo>
                      <a:pt x="1130" y="4618"/>
                    </a:lnTo>
                    <a:lnTo>
                      <a:pt x="1122" y="4538"/>
                    </a:lnTo>
                    <a:lnTo>
                      <a:pt x="1118" y="4457"/>
                    </a:lnTo>
                    <a:lnTo>
                      <a:pt x="1126" y="4380"/>
                    </a:lnTo>
                    <a:lnTo>
                      <a:pt x="1138" y="4300"/>
                    </a:lnTo>
                    <a:lnTo>
                      <a:pt x="1134" y="4292"/>
                    </a:lnTo>
                    <a:lnTo>
                      <a:pt x="1138" y="4280"/>
                    </a:lnTo>
                    <a:lnTo>
                      <a:pt x="1142" y="4272"/>
                    </a:lnTo>
                    <a:lnTo>
                      <a:pt x="1146" y="4264"/>
                    </a:lnTo>
                    <a:lnTo>
                      <a:pt x="1154" y="4260"/>
                    </a:lnTo>
                    <a:lnTo>
                      <a:pt x="1162" y="4251"/>
                    </a:lnTo>
                    <a:lnTo>
                      <a:pt x="1166" y="4243"/>
                    </a:lnTo>
                    <a:lnTo>
                      <a:pt x="1170" y="4231"/>
                    </a:lnTo>
                    <a:lnTo>
                      <a:pt x="1182" y="4227"/>
                    </a:lnTo>
                    <a:lnTo>
                      <a:pt x="1190" y="4223"/>
                    </a:lnTo>
                    <a:lnTo>
                      <a:pt x="1202" y="4223"/>
                    </a:lnTo>
                    <a:lnTo>
                      <a:pt x="1210" y="4219"/>
                    </a:lnTo>
                    <a:lnTo>
                      <a:pt x="1222" y="4219"/>
                    </a:lnTo>
                    <a:lnTo>
                      <a:pt x="1234" y="4219"/>
                    </a:lnTo>
                    <a:lnTo>
                      <a:pt x="1242" y="4223"/>
                    </a:lnTo>
                    <a:lnTo>
                      <a:pt x="1255" y="4223"/>
                    </a:lnTo>
                    <a:lnTo>
                      <a:pt x="1307" y="4215"/>
                    </a:lnTo>
                    <a:lnTo>
                      <a:pt x="1355" y="4211"/>
                    </a:lnTo>
                    <a:lnTo>
                      <a:pt x="1403" y="4207"/>
                    </a:lnTo>
                    <a:lnTo>
                      <a:pt x="1456" y="4203"/>
                    </a:lnTo>
                    <a:lnTo>
                      <a:pt x="1508" y="4203"/>
                    </a:lnTo>
                    <a:lnTo>
                      <a:pt x="1556" y="4203"/>
                    </a:lnTo>
                    <a:lnTo>
                      <a:pt x="1612" y="4207"/>
                    </a:lnTo>
                    <a:lnTo>
                      <a:pt x="1665" y="4207"/>
                    </a:lnTo>
                    <a:lnTo>
                      <a:pt x="1689" y="4215"/>
                    </a:lnTo>
                    <a:lnTo>
                      <a:pt x="1709" y="4219"/>
                    </a:lnTo>
                    <a:lnTo>
                      <a:pt x="1733" y="4227"/>
                    </a:lnTo>
                    <a:lnTo>
                      <a:pt x="1753" y="4235"/>
                    </a:lnTo>
                    <a:lnTo>
                      <a:pt x="1777" y="4243"/>
                    </a:lnTo>
                    <a:lnTo>
                      <a:pt x="1797" y="4251"/>
                    </a:lnTo>
                    <a:lnTo>
                      <a:pt x="1817" y="4260"/>
                    </a:lnTo>
                    <a:lnTo>
                      <a:pt x="1838" y="4272"/>
                    </a:lnTo>
                    <a:lnTo>
                      <a:pt x="1850" y="4272"/>
                    </a:lnTo>
                    <a:lnTo>
                      <a:pt x="1862" y="4272"/>
                    </a:lnTo>
                    <a:lnTo>
                      <a:pt x="1870" y="4276"/>
                    </a:lnTo>
                    <a:lnTo>
                      <a:pt x="1882" y="4276"/>
                    </a:lnTo>
                    <a:lnTo>
                      <a:pt x="1894" y="4276"/>
                    </a:lnTo>
                    <a:lnTo>
                      <a:pt x="1906" y="4272"/>
                    </a:lnTo>
                    <a:lnTo>
                      <a:pt x="1914" y="4268"/>
                    </a:lnTo>
                    <a:lnTo>
                      <a:pt x="1918" y="4256"/>
                    </a:lnTo>
                    <a:lnTo>
                      <a:pt x="1902" y="4175"/>
                    </a:lnTo>
                    <a:lnTo>
                      <a:pt x="1886" y="4094"/>
                    </a:lnTo>
                    <a:lnTo>
                      <a:pt x="1874" y="4014"/>
                    </a:lnTo>
                    <a:lnTo>
                      <a:pt x="1854" y="3933"/>
                    </a:lnTo>
                    <a:lnTo>
                      <a:pt x="1834" y="3853"/>
                    </a:lnTo>
                    <a:lnTo>
                      <a:pt x="1809" y="3776"/>
                    </a:lnTo>
                    <a:lnTo>
                      <a:pt x="1793" y="3740"/>
                    </a:lnTo>
                    <a:lnTo>
                      <a:pt x="1777" y="3703"/>
                    </a:lnTo>
                    <a:lnTo>
                      <a:pt x="1757" y="3667"/>
                    </a:lnTo>
                    <a:lnTo>
                      <a:pt x="1737" y="3631"/>
                    </a:lnTo>
                    <a:lnTo>
                      <a:pt x="1717" y="3587"/>
                    </a:lnTo>
                    <a:lnTo>
                      <a:pt x="1697" y="3538"/>
                    </a:lnTo>
                    <a:lnTo>
                      <a:pt x="1673" y="3494"/>
                    </a:lnTo>
                    <a:lnTo>
                      <a:pt x="1649" y="3450"/>
                    </a:lnTo>
                    <a:lnTo>
                      <a:pt x="1624" y="3405"/>
                    </a:lnTo>
                    <a:lnTo>
                      <a:pt x="1600" y="3361"/>
                    </a:lnTo>
                    <a:lnTo>
                      <a:pt x="1576" y="3317"/>
                    </a:lnTo>
                    <a:lnTo>
                      <a:pt x="1548" y="3272"/>
                    </a:lnTo>
                    <a:lnTo>
                      <a:pt x="1540" y="3252"/>
                    </a:lnTo>
                    <a:lnTo>
                      <a:pt x="1528" y="3236"/>
                    </a:lnTo>
                    <a:lnTo>
                      <a:pt x="1516" y="3216"/>
                    </a:lnTo>
                    <a:lnTo>
                      <a:pt x="1504" y="3200"/>
                    </a:lnTo>
                    <a:lnTo>
                      <a:pt x="1488" y="3180"/>
                    </a:lnTo>
                    <a:lnTo>
                      <a:pt x="1476" y="3163"/>
                    </a:lnTo>
                    <a:lnTo>
                      <a:pt x="1468" y="3143"/>
                    </a:lnTo>
                    <a:lnTo>
                      <a:pt x="1456" y="3123"/>
                    </a:lnTo>
                    <a:lnTo>
                      <a:pt x="1415" y="3063"/>
                    </a:lnTo>
                    <a:lnTo>
                      <a:pt x="1379" y="3002"/>
                    </a:lnTo>
                    <a:lnTo>
                      <a:pt x="1347" y="2938"/>
                    </a:lnTo>
                    <a:lnTo>
                      <a:pt x="1319" y="2869"/>
                    </a:lnTo>
                    <a:lnTo>
                      <a:pt x="1291" y="2805"/>
                    </a:lnTo>
                    <a:lnTo>
                      <a:pt x="1267" y="2736"/>
                    </a:lnTo>
                    <a:lnTo>
                      <a:pt x="1242" y="2668"/>
                    </a:lnTo>
                    <a:lnTo>
                      <a:pt x="1218" y="2599"/>
                    </a:lnTo>
                    <a:lnTo>
                      <a:pt x="1214" y="2555"/>
                    </a:lnTo>
                    <a:lnTo>
                      <a:pt x="1206" y="2507"/>
                    </a:lnTo>
                    <a:lnTo>
                      <a:pt x="1202" y="2462"/>
                    </a:lnTo>
                    <a:lnTo>
                      <a:pt x="1198" y="2414"/>
                    </a:lnTo>
                    <a:lnTo>
                      <a:pt x="1198" y="2370"/>
                    </a:lnTo>
                    <a:lnTo>
                      <a:pt x="1202" y="2325"/>
                    </a:lnTo>
                    <a:lnTo>
                      <a:pt x="1214" y="2285"/>
                    </a:lnTo>
                    <a:lnTo>
                      <a:pt x="1230" y="2245"/>
                    </a:lnTo>
                    <a:lnTo>
                      <a:pt x="1238" y="2204"/>
                    </a:lnTo>
                    <a:lnTo>
                      <a:pt x="1255" y="2168"/>
                    </a:lnTo>
                    <a:lnTo>
                      <a:pt x="1275" y="2132"/>
                    </a:lnTo>
                    <a:lnTo>
                      <a:pt x="1295" y="2096"/>
                    </a:lnTo>
                    <a:lnTo>
                      <a:pt x="1319" y="2067"/>
                    </a:lnTo>
                    <a:lnTo>
                      <a:pt x="1347" y="2039"/>
                    </a:lnTo>
                    <a:lnTo>
                      <a:pt x="1375" y="2011"/>
                    </a:lnTo>
                    <a:lnTo>
                      <a:pt x="1407" y="1987"/>
                    </a:lnTo>
                    <a:lnTo>
                      <a:pt x="1444" y="1963"/>
                    </a:lnTo>
                    <a:lnTo>
                      <a:pt x="1480" y="1942"/>
                    </a:lnTo>
                    <a:lnTo>
                      <a:pt x="1516" y="1922"/>
                    </a:lnTo>
                    <a:lnTo>
                      <a:pt x="1552" y="1906"/>
                    </a:lnTo>
                    <a:lnTo>
                      <a:pt x="1628" y="1878"/>
                    </a:lnTo>
                    <a:lnTo>
                      <a:pt x="1705" y="1858"/>
                    </a:lnTo>
                    <a:lnTo>
                      <a:pt x="1717" y="1850"/>
                    </a:lnTo>
                    <a:lnTo>
                      <a:pt x="1733" y="1842"/>
                    </a:lnTo>
                    <a:lnTo>
                      <a:pt x="1749" y="1834"/>
                    </a:lnTo>
                    <a:lnTo>
                      <a:pt x="1765" y="1826"/>
                    </a:lnTo>
                    <a:lnTo>
                      <a:pt x="1781" y="1817"/>
                    </a:lnTo>
                    <a:lnTo>
                      <a:pt x="1789" y="1805"/>
                    </a:lnTo>
                    <a:lnTo>
                      <a:pt x="1797" y="1793"/>
                    </a:lnTo>
                    <a:lnTo>
                      <a:pt x="1797" y="1777"/>
                    </a:lnTo>
                    <a:lnTo>
                      <a:pt x="1789" y="1753"/>
                    </a:lnTo>
                    <a:lnTo>
                      <a:pt x="1773" y="1737"/>
                    </a:lnTo>
                    <a:lnTo>
                      <a:pt x="1757" y="1721"/>
                    </a:lnTo>
                    <a:lnTo>
                      <a:pt x="1737" y="1709"/>
                    </a:lnTo>
                    <a:lnTo>
                      <a:pt x="1717" y="1701"/>
                    </a:lnTo>
                    <a:lnTo>
                      <a:pt x="1697" y="1693"/>
                    </a:lnTo>
                    <a:lnTo>
                      <a:pt x="1673" y="1680"/>
                    </a:lnTo>
                    <a:lnTo>
                      <a:pt x="1657" y="1668"/>
                    </a:lnTo>
                    <a:lnTo>
                      <a:pt x="1608" y="1636"/>
                    </a:lnTo>
                    <a:lnTo>
                      <a:pt x="1556" y="1604"/>
                    </a:lnTo>
                    <a:lnTo>
                      <a:pt x="1504" y="1572"/>
                    </a:lnTo>
                    <a:lnTo>
                      <a:pt x="1452" y="1539"/>
                    </a:lnTo>
                    <a:lnTo>
                      <a:pt x="1399" y="1507"/>
                    </a:lnTo>
                    <a:lnTo>
                      <a:pt x="1347" y="1475"/>
                    </a:lnTo>
                    <a:lnTo>
                      <a:pt x="1299" y="1443"/>
                    </a:lnTo>
                    <a:lnTo>
                      <a:pt x="1251" y="1406"/>
                    </a:lnTo>
                    <a:lnTo>
                      <a:pt x="1206" y="1382"/>
                    </a:lnTo>
                    <a:lnTo>
                      <a:pt x="1170" y="1354"/>
                    </a:lnTo>
                    <a:lnTo>
                      <a:pt x="1130" y="1322"/>
                    </a:lnTo>
                    <a:lnTo>
                      <a:pt x="1098" y="1290"/>
                    </a:lnTo>
                    <a:lnTo>
                      <a:pt x="1062" y="1253"/>
                    </a:lnTo>
                    <a:lnTo>
                      <a:pt x="1025" y="1221"/>
                    </a:lnTo>
                    <a:lnTo>
                      <a:pt x="985" y="1189"/>
                    </a:lnTo>
                    <a:lnTo>
                      <a:pt x="945" y="1161"/>
                    </a:lnTo>
                    <a:lnTo>
                      <a:pt x="921" y="1128"/>
                    </a:lnTo>
                    <a:lnTo>
                      <a:pt x="897" y="1100"/>
                    </a:lnTo>
                    <a:lnTo>
                      <a:pt x="869" y="1072"/>
                    </a:lnTo>
                    <a:lnTo>
                      <a:pt x="840" y="1052"/>
                    </a:lnTo>
                    <a:lnTo>
                      <a:pt x="808" y="1028"/>
                    </a:lnTo>
                    <a:lnTo>
                      <a:pt x="776" y="1007"/>
                    </a:lnTo>
                    <a:lnTo>
                      <a:pt x="744" y="987"/>
                    </a:lnTo>
                    <a:lnTo>
                      <a:pt x="712" y="967"/>
                    </a:lnTo>
                    <a:lnTo>
                      <a:pt x="692" y="963"/>
                    </a:lnTo>
                    <a:lnTo>
                      <a:pt x="672" y="955"/>
                    </a:lnTo>
                    <a:lnTo>
                      <a:pt x="655" y="951"/>
                    </a:lnTo>
                    <a:lnTo>
                      <a:pt x="635" y="943"/>
                    </a:lnTo>
                    <a:lnTo>
                      <a:pt x="619" y="935"/>
                    </a:lnTo>
                    <a:lnTo>
                      <a:pt x="599" y="931"/>
                    </a:lnTo>
                    <a:lnTo>
                      <a:pt x="579" y="927"/>
                    </a:lnTo>
                    <a:lnTo>
                      <a:pt x="563" y="923"/>
                    </a:lnTo>
                    <a:lnTo>
                      <a:pt x="519" y="915"/>
                    </a:lnTo>
                    <a:lnTo>
                      <a:pt x="479" y="915"/>
                    </a:lnTo>
                    <a:lnTo>
                      <a:pt x="442" y="919"/>
                    </a:lnTo>
                    <a:lnTo>
                      <a:pt x="406" y="931"/>
                    </a:lnTo>
                    <a:lnTo>
                      <a:pt x="370" y="943"/>
                    </a:lnTo>
                    <a:lnTo>
                      <a:pt x="338" y="963"/>
                    </a:lnTo>
                    <a:lnTo>
                      <a:pt x="306" y="991"/>
                    </a:lnTo>
                    <a:lnTo>
                      <a:pt x="273" y="1020"/>
                    </a:lnTo>
                    <a:lnTo>
                      <a:pt x="253" y="1040"/>
                    </a:lnTo>
                    <a:lnTo>
                      <a:pt x="241" y="1060"/>
                    </a:lnTo>
                    <a:lnTo>
                      <a:pt x="229" y="1080"/>
                    </a:lnTo>
                    <a:lnTo>
                      <a:pt x="221" y="1104"/>
                    </a:lnTo>
                    <a:lnTo>
                      <a:pt x="209" y="1149"/>
                    </a:lnTo>
                    <a:lnTo>
                      <a:pt x="205" y="1201"/>
                    </a:lnTo>
                    <a:lnTo>
                      <a:pt x="205" y="1249"/>
                    </a:lnTo>
                    <a:lnTo>
                      <a:pt x="205" y="1302"/>
                    </a:lnTo>
                    <a:lnTo>
                      <a:pt x="205" y="1354"/>
                    </a:lnTo>
                    <a:lnTo>
                      <a:pt x="201" y="1402"/>
                    </a:lnTo>
                    <a:lnTo>
                      <a:pt x="205" y="1471"/>
                    </a:lnTo>
                    <a:lnTo>
                      <a:pt x="213" y="1535"/>
                    </a:lnTo>
                    <a:lnTo>
                      <a:pt x="225" y="1596"/>
                    </a:lnTo>
                    <a:lnTo>
                      <a:pt x="233" y="1660"/>
                    </a:lnTo>
                    <a:lnTo>
                      <a:pt x="245" y="1721"/>
                    </a:lnTo>
                    <a:lnTo>
                      <a:pt x="257" y="1785"/>
                    </a:lnTo>
                    <a:lnTo>
                      <a:pt x="269" y="1846"/>
                    </a:lnTo>
                    <a:lnTo>
                      <a:pt x="282" y="1906"/>
                    </a:lnTo>
                    <a:lnTo>
                      <a:pt x="286" y="1914"/>
                    </a:lnTo>
                    <a:lnTo>
                      <a:pt x="286" y="1918"/>
                    </a:lnTo>
                    <a:lnTo>
                      <a:pt x="286" y="1926"/>
                    </a:lnTo>
                    <a:lnTo>
                      <a:pt x="286" y="1930"/>
                    </a:lnTo>
                    <a:lnTo>
                      <a:pt x="286" y="1934"/>
                    </a:lnTo>
                    <a:lnTo>
                      <a:pt x="286" y="1942"/>
                    </a:lnTo>
                    <a:lnTo>
                      <a:pt x="286" y="1946"/>
                    </a:lnTo>
                    <a:lnTo>
                      <a:pt x="290" y="1954"/>
                    </a:lnTo>
                    <a:lnTo>
                      <a:pt x="302" y="1999"/>
                    </a:lnTo>
                    <a:lnTo>
                      <a:pt x="310" y="2043"/>
                    </a:lnTo>
                    <a:lnTo>
                      <a:pt x="322" y="2087"/>
                    </a:lnTo>
                    <a:lnTo>
                      <a:pt x="334" y="2136"/>
                    </a:lnTo>
                    <a:lnTo>
                      <a:pt x="346" y="2180"/>
                    </a:lnTo>
                    <a:lnTo>
                      <a:pt x="358" y="2224"/>
                    </a:lnTo>
                    <a:lnTo>
                      <a:pt x="374" y="2269"/>
                    </a:lnTo>
                    <a:lnTo>
                      <a:pt x="390" y="2313"/>
                    </a:lnTo>
                    <a:lnTo>
                      <a:pt x="406" y="2357"/>
                    </a:lnTo>
                    <a:lnTo>
                      <a:pt x="430" y="2402"/>
                    </a:lnTo>
                    <a:lnTo>
                      <a:pt x="458" y="2442"/>
                    </a:lnTo>
                    <a:lnTo>
                      <a:pt x="491" y="2482"/>
                    </a:lnTo>
                    <a:lnTo>
                      <a:pt x="527" y="2519"/>
                    </a:lnTo>
                    <a:lnTo>
                      <a:pt x="563" y="2551"/>
                    </a:lnTo>
                    <a:lnTo>
                      <a:pt x="603" y="2583"/>
                    </a:lnTo>
                    <a:lnTo>
                      <a:pt x="643" y="2611"/>
                    </a:lnTo>
                    <a:lnTo>
                      <a:pt x="684" y="2660"/>
                    </a:lnTo>
                    <a:lnTo>
                      <a:pt x="724" y="2712"/>
                    </a:lnTo>
                    <a:lnTo>
                      <a:pt x="756" y="2764"/>
                    </a:lnTo>
                    <a:lnTo>
                      <a:pt x="784" y="2821"/>
                    </a:lnTo>
                    <a:lnTo>
                      <a:pt x="812" y="2877"/>
                    </a:lnTo>
                    <a:lnTo>
                      <a:pt x="840" y="2934"/>
                    </a:lnTo>
                    <a:lnTo>
                      <a:pt x="869" y="2990"/>
                    </a:lnTo>
                    <a:lnTo>
                      <a:pt x="897" y="3047"/>
                    </a:lnTo>
                    <a:lnTo>
                      <a:pt x="921" y="3131"/>
                    </a:lnTo>
                    <a:lnTo>
                      <a:pt x="937" y="3220"/>
                    </a:lnTo>
                    <a:lnTo>
                      <a:pt x="949" y="3309"/>
                    </a:lnTo>
                    <a:lnTo>
                      <a:pt x="957" y="3397"/>
                    </a:lnTo>
                    <a:lnTo>
                      <a:pt x="965" y="3490"/>
                    </a:lnTo>
                    <a:lnTo>
                      <a:pt x="969" y="3579"/>
                    </a:lnTo>
                    <a:lnTo>
                      <a:pt x="969" y="3671"/>
                    </a:lnTo>
                    <a:lnTo>
                      <a:pt x="965" y="3764"/>
                    </a:lnTo>
                    <a:lnTo>
                      <a:pt x="965" y="3808"/>
                    </a:lnTo>
                    <a:lnTo>
                      <a:pt x="965" y="3853"/>
                    </a:lnTo>
                    <a:lnTo>
                      <a:pt x="965" y="3897"/>
                    </a:lnTo>
                    <a:lnTo>
                      <a:pt x="965" y="3941"/>
                    </a:lnTo>
                    <a:lnTo>
                      <a:pt x="965" y="3990"/>
                    </a:lnTo>
                    <a:lnTo>
                      <a:pt x="969" y="4038"/>
                    </a:lnTo>
                    <a:lnTo>
                      <a:pt x="973" y="4086"/>
                    </a:lnTo>
                    <a:lnTo>
                      <a:pt x="977" y="4135"/>
                    </a:lnTo>
                    <a:lnTo>
                      <a:pt x="977" y="4143"/>
                    </a:lnTo>
                    <a:lnTo>
                      <a:pt x="977" y="4151"/>
                    </a:lnTo>
                    <a:lnTo>
                      <a:pt x="973" y="4155"/>
                    </a:lnTo>
                    <a:lnTo>
                      <a:pt x="969" y="4159"/>
                    </a:lnTo>
                    <a:lnTo>
                      <a:pt x="965" y="4163"/>
                    </a:lnTo>
                    <a:lnTo>
                      <a:pt x="957" y="4163"/>
                    </a:lnTo>
                    <a:lnTo>
                      <a:pt x="953" y="4163"/>
                    </a:lnTo>
                    <a:lnTo>
                      <a:pt x="945" y="4159"/>
                    </a:lnTo>
                    <a:lnTo>
                      <a:pt x="933" y="4135"/>
                    </a:lnTo>
                    <a:lnTo>
                      <a:pt x="929" y="4102"/>
                    </a:lnTo>
                    <a:lnTo>
                      <a:pt x="929" y="4070"/>
                    </a:lnTo>
                    <a:lnTo>
                      <a:pt x="925" y="4038"/>
                    </a:lnTo>
                    <a:lnTo>
                      <a:pt x="925" y="4006"/>
                    </a:lnTo>
                    <a:lnTo>
                      <a:pt x="921" y="3977"/>
                    </a:lnTo>
                    <a:lnTo>
                      <a:pt x="913" y="3949"/>
                    </a:lnTo>
                    <a:lnTo>
                      <a:pt x="897" y="3921"/>
                    </a:lnTo>
                    <a:lnTo>
                      <a:pt x="885" y="3897"/>
                    </a:lnTo>
                    <a:lnTo>
                      <a:pt x="873" y="3873"/>
                    </a:lnTo>
                    <a:lnTo>
                      <a:pt x="861" y="3853"/>
                    </a:lnTo>
                    <a:lnTo>
                      <a:pt x="844" y="3828"/>
                    </a:lnTo>
                    <a:lnTo>
                      <a:pt x="832" y="3804"/>
                    </a:lnTo>
                    <a:lnTo>
                      <a:pt x="820" y="3780"/>
                    </a:lnTo>
                    <a:lnTo>
                      <a:pt x="812" y="3756"/>
                    </a:lnTo>
                    <a:lnTo>
                      <a:pt x="804" y="3728"/>
                    </a:lnTo>
                    <a:lnTo>
                      <a:pt x="800" y="3740"/>
                    </a:lnTo>
                    <a:lnTo>
                      <a:pt x="796" y="3752"/>
                    </a:lnTo>
                    <a:lnTo>
                      <a:pt x="796" y="3764"/>
                    </a:lnTo>
                    <a:lnTo>
                      <a:pt x="796" y="3776"/>
                    </a:lnTo>
                    <a:lnTo>
                      <a:pt x="796" y="3788"/>
                    </a:lnTo>
                    <a:lnTo>
                      <a:pt x="796" y="3800"/>
                    </a:lnTo>
                    <a:lnTo>
                      <a:pt x="796" y="3812"/>
                    </a:lnTo>
                    <a:lnTo>
                      <a:pt x="800" y="3824"/>
                    </a:lnTo>
                    <a:lnTo>
                      <a:pt x="796" y="3828"/>
                    </a:lnTo>
                    <a:lnTo>
                      <a:pt x="792" y="3836"/>
                    </a:lnTo>
                    <a:lnTo>
                      <a:pt x="792" y="3844"/>
                    </a:lnTo>
                    <a:lnTo>
                      <a:pt x="788" y="3849"/>
                    </a:lnTo>
                    <a:lnTo>
                      <a:pt x="788" y="3857"/>
                    </a:lnTo>
                    <a:lnTo>
                      <a:pt x="784" y="3861"/>
                    </a:lnTo>
                    <a:lnTo>
                      <a:pt x="776" y="3861"/>
                    </a:lnTo>
                    <a:lnTo>
                      <a:pt x="764" y="3857"/>
                    </a:lnTo>
                    <a:lnTo>
                      <a:pt x="752" y="3836"/>
                    </a:lnTo>
                    <a:lnTo>
                      <a:pt x="744" y="3816"/>
                    </a:lnTo>
                    <a:lnTo>
                      <a:pt x="736" y="3792"/>
                    </a:lnTo>
                    <a:lnTo>
                      <a:pt x="728" y="3768"/>
                    </a:lnTo>
                    <a:lnTo>
                      <a:pt x="720" y="3748"/>
                    </a:lnTo>
                    <a:lnTo>
                      <a:pt x="708" y="3724"/>
                    </a:lnTo>
                    <a:lnTo>
                      <a:pt x="696" y="3703"/>
                    </a:lnTo>
                    <a:lnTo>
                      <a:pt x="680" y="3683"/>
                    </a:lnTo>
                    <a:lnTo>
                      <a:pt x="676" y="3687"/>
                    </a:lnTo>
                    <a:lnTo>
                      <a:pt x="672" y="3695"/>
                    </a:lnTo>
                    <a:lnTo>
                      <a:pt x="668" y="3699"/>
                    </a:lnTo>
                    <a:lnTo>
                      <a:pt x="663" y="3703"/>
                    </a:lnTo>
                    <a:lnTo>
                      <a:pt x="659" y="3707"/>
                    </a:lnTo>
                    <a:lnTo>
                      <a:pt x="655" y="3711"/>
                    </a:lnTo>
                    <a:lnTo>
                      <a:pt x="651" y="3711"/>
                    </a:lnTo>
                    <a:lnTo>
                      <a:pt x="643" y="3711"/>
                    </a:lnTo>
                    <a:lnTo>
                      <a:pt x="631" y="3707"/>
                    </a:lnTo>
                    <a:lnTo>
                      <a:pt x="619" y="3703"/>
                    </a:lnTo>
                    <a:lnTo>
                      <a:pt x="611" y="3695"/>
                    </a:lnTo>
                    <a:lnTo>
                      <a:pt x="603" y="3687"/>
                    </a:lnTo>
                    <a:lnTo>
                      <a:pt x="595" y="3675"/>
                    </a:lnTo>
                    <a:lnTo>
                      <a:pt x="587" y="3667"/>
                    </a:lnTo>
                    <a:lnTo>
                      <a:pt x="579" y="3659"/>
                    </a:lnTo>
                    <a:lnTo>
                      <a:pt x="575" y="3647"/>
                    </a:lnTo>
                    <a:lnTo>
                      <a:pt x="579" y="3683"/>
                    </a:lnTo>
                    <a:lnTo>
                      <a:pt x="591" y="3716"/>
                    </a:lnTo>
                    <a:lnTo>
                      <a:pt x="603" y="3752"/>
                    </a:lnTo>
                    <a:lnTo>
                      <a:pt x="615" y="3788"/>
                    </a:lnTo>
                    <a:lnTo>
                      <a:pt x="627" y="3820"/>
                    </a:lnTo>
                    <a:lnTo>
                      <a:pt x="635" y="3857"/>
                    </a:lnTo>
                    <a:lnTo>
                      <a:pt x="635" y="3877"/>
                    </a:lnTo>
                    <a:lnTo>
                      <a:pt x="635" y="3893"/>
                    </a:lnTo>
                    <a:lnTo>
                      <a:pt x="631" y="3913"/>
                    </a:lnTo>
                    <a:lnTo>
                      <a:pt x="627" y="3929"/>
                    </a:lnTo>
                    <a:lnTo>
                      <a:pt x="619" y="3933"/>
                    </a:lnTo>
                    <a:lnTo>
                      <a:pt x="619" y="3933"/>
                    </a:lnTo>
                    <a:lnTo>
                      <a:pt x="615" y="3937"/>
                    </a:lnTo>
                    <a:lnTo>
                      <a:pt x="611" y="3941"/>
                    </a:lnTo>
                    <a:lnTo>
                      <a:pt x="607" y="3941"/>
                    </a:lnTo>
                    <a:lnTo>
                      <a:pt x="603" y="3945"/>
                    </a:lnTo>
                    <a:lnTo>
                      <a:pt x="599" y="3945"/>
                    </a:lnTo>
                    <a:lnTo>
                      <a:pt x="595" y="3941"/>
                    </a:lnTo>
                    <a:lnTo>
                      <a:pt x="579" y="3921"/>
                    </a:lnTo>
                    <a:lnTo>
                      <a:pt x="563" y="3901"/>
                    </a:lnTo>
                    <a:lnTo>
                      <a:pt x="551" y="3877"/>
                    </a:lnTo>
                    <a:lnTo>
                      <a:pt x="535" y="3853"/>
                    </a:lnTo>
                    <a:lnTo>
                      <a:pt x="519" y="3828"/>
                    </a:lnTo>
                    <a:lnTo>
                      <a:pt x="503" y="3808"/>
                    </a:lnTo>
                    <a:lnTo>
                      <a:pt x="487" y="3784"/>
                    </a:lnTo>
                    <a:lnTo>
                      <a:pt x="466" y="3764"/>
                    </a:lnTo>
                    <a:lnTo>
                      <a:pt x="450" y="3744"/>
                    </a:lnTo>
                    <a:lnTo>
                      <a:pt x="438" y="3724"/>
                    </a:lnTo>
                    <a:lnTo>
                      <a:pt x="422" y="3703"/>
                    </a:lnTo>
                    <a:lnTo>
                      <a:pt x="410" y="3683"/>
                    </a:lnTo>
                    <a:lnTo>
                      <a:pt x="394" y="3659"/>
                    </a:lnTo>
                    <a:lnTo>
                      <a:pt x="386" y="3639"/>
                    </a:lnTo>
                    <a:lnTo>
                      <a:pt x="374" y="3615"/>
                    </a:lnTo>
                    <a:lnTo>
                      <a:pt x="366" y="3595"/>
                    </a:lnTo>
                    <a:lnTo>
                      <a:pt x="338" y="3554"/>
                    </a:lnTo>
                    <a:lnTo>
                      <a:pt x="306" y="3514"/>
                    </a:lnTo>
                    <a:lnTo>
                      <a:pt x="277" y="3478"/>
                    </a:lnTo>
                    <a:lnTo>
                      <a:pt x="249" y="3437"/>
                    </a:lnTo>
                    <a:lnTo>
                      <a:pt x="221" y="3397"/>
                    </a:lnTo>
                    <a:lnTo>
                      <a:pt x="197" y="3357"/>
                    </a:lnTo>
                    <a:lnTo>
                      <a:pt x="173" y="3317"/>
                    </a:lnTo>
                    <a:lnTo>
                      <a:pt x="157" y="3272"/>
                    </a:lnTo>
                    <a:lnTo>
                      <a:pt x="141" y="3236"/>
                    </a:lnTo>
                    <a:lnTo>
                      <a:pt x="129" y="3204"/>
                    </a:lnTo>
                    <a:lnTo>
                      <a:pt x="121" y="3167"/>
                    </a:lnTo>
                    <a:lnTo>
                      <a:pt x="113" y="3131"/>
                    </a:lnTo>
                    <a:lnTo>
                      <a:pt x="105" y="3095"/>
                    </a:lnTo>
                    <a:lnTo>
                      <a:pt x="101" y="3059"/>
                    </a:lnTo>
                    <a:lnTo>
                      <a:pt x="93" y="3022"/>
                    </a:lnTo>
                    <a:lnTo>
                      <a:pt x="89" y="2986"/>
                    </a:lnTo>
                    <a:lnTo>
                      <a:pt x="84" y="2946"/>
                    </a:lnTo>
                    <a:lnTo>
                      <a:pt x="80" y="2910"/>
                    </a:lnTo>
                    <a:lnTo>
                      <a:pt x="84" y="2869"/>
                    </a:lnTo>
                    <a:lnTo>
                      <a:pt x="89" y="2829"/>
                    </a:lnTo>
                    <a:lnTo>
                      <a:pt x="93" y="2793"/>
                    </a:lnTo>
                    <a:lnTo>
                      <a:pt x="97" y="2752"/>
                    </a:lnTo>
                    <a:lnTo>
                      <a:pt x="101" y="2716"/>
                    </a:lnTo>
                    <a:lnTo>
                      <a:pt x="101" y="2676"/>
                    </a:lnTo>
                    <a:lnTo>
                      <a:pt x="121" y="2583"/>
                    </a:lnTo>
                    <a:lnTo>
                      <a:pt x="141" y="2490"/>
                    </a:lnTo>
                    <a:lnTo>
                      <a:pt x="153" y="2398"/>
                    </a:lnTo>
                    <a:lnTo>
                      <a:pt x="165" y="2305"/>
                    </a:lnTo>
                    <a:lnTo>
                      <a:pt x="165" y="2208"/>
                    </a:lnTo>
                    <a:lnTo>
                      <a:pt x="161" y="2116"/>
                    </a:lnTo>
                    <a:lnTo>
                      <a:pt x="157" y="2071"/>
                    </a:lnTo>
                    <a:lnTo>
                      <a:pt x="149" y="2023"/>
                    </a:lnTo>
                    <a:lnTo>
                      <a:pt x="137" y="1979"/>
                    </a:lnTo>
                    <a:lnTo>
                      <a:pt x="125" y="1934"/>
                    </a:lnTo>
                    <a:lnTo>
                      <a:pt x="105" y="1858"/>
                    </a:lnTo>
                    <a:lnTo>
                      <a:pt x="89" y="1781"/>
                    </a:lnTo>
                    <a:lnTo>
                      <a:pt x="68" y="1709"/>
                    </a:lnTo>
                    <a:lnTo>
                      <a:pt x="52" y="1636"/>
                    </a:lnTo>
                    <a:lnTo>
                      <a:pt x="36" y="1560"/>
                    </a:lnTo>
                    <a:lnTo>
                      <a:pt x="24" y="1487"/>
                    </a:lnTo>
                    <a:lnTo>
                      <a:pt x="12" y="1410"/>
                    </a:lnTo>
                    <a:lnTo>
                      <a:pt x="0" y="1330"/>
                    </a:lnTo>
                    <a:lnTo>
                      <a:pt x="0" y="1249"/>
                    </a:lnTo>
                    <a:lnTo>
                      <a:pt x="0" y="1165"/>
                    </a:lnTo>
                    <a:lnTo>
                      <a:pt x="8" y="1124"/>
                    </a:lnTo>
                    <a:lnTo>
                      <a:pt x="12" y="1084"/>
                    </a:lnTo>
                    <a:lnTo>
                      <a:pt x="20" y="1044"/>
                    </a:lnTo>
                    <a:lnTo>
                      <a:pt x="28" y="1007"/>
                    </a:lnTo>
                    <a:lnTo>
                      <a:pt x="40" y="967"/>
                    </a:lnTo>
                    <a:lnTo>
                      <a:pt x="56" y="931"/>
                    </a:lnTo>
                    <a:lnTo>
                      <a:pt x="72" y="895"/>
                    </a:lnTo>
                    <a:lnTo>
                      <a:pt x="93" y="862"/>
                    </a:lnTo>
                    <a:lnTo>
                      <a:pt x="117" y="830"/>
                    </a:lnTo>
                    <a:lnTo>
                      <a:pt x="145" y="798"/>
                    </a:lnTo>
                    <a:lnTo>
                      <a:pt x="173" y="774"/>
                    </a:lnTo>
                    <a:lnTo>
                      <a:pt x="209" y="746"/>
                    </a:lnTo>
                    <a:lnTo>
                      <a:pt x="257" y="717"/>
                    </a:lnTo>
                    <a:lnTo>
                      <a:pt x="306" y="693"/>
                    </a:lnTo>
                    <a:lnTo>
                      <a:pt x="362" y="669"/>
                    </a:lnTo>
                    <a:lnTo>
                      <a:pt x="414" y="649"/>
                    </a:lnTo>
                    <a:lnTo>
                      <a:pt x="442" y="645"/>
                    </a:lnTo>
                    <a:lnTo>
                      <a:pt x="470" y="637"/>
                    </a:lnTo>
                    <a:lnTo>
                      <a:pt x="499" y="637"/>
                    </a:lnTo>
                    <a:lnTo>
                      <a:pt x="527" y="637"/>
                    </a:lnTo>
                    <a:lnTo>
                      <a:pt x="555" y="637"/>
                    </a:lnTo>
                    <a:lnTo>
                      <a:pt x="583" y="641"/>
                    </a:lnTo>
                    <a:lnTo>
                      <a:pt x="615" y="649"/>
                    </a:lnTo>
                    <a:lnTo>
                      <a:pt x="643" y="661"/>
                    </a:lnTo>
                    <a:lnTo>
                      <a:pt x="680" y="673"/>
                    </a:lnTo>
                    <a:lnTo>
                      <a:pt x="712" y="685"/>
                    </a:lnTo>
                    <a:lnTo>
                      <a:pt x="744" y="701"/>
                    </a:lnTo>
                    <a:lnTo>
                      <a:pt x="776" y="721"/>
                    </a:lnTo>
                    <a:lnTo>
                      <a:pt x="836" y="762"/>
                    </a:lnTo>
                    <a:lnTo>
                      <a:pt x="893" y="810"/>
                    </a:lnTo>
                    <a:lnTo>
                      <a:pt x="945" y="858"/>
                    </a:lnTo>
                    <a:lnTo>
                      <a:pt x="1001" y="911"/>
                    </a:lnTo>
                    <a:lnTo>
                      <a:pt x="1058" y="963"/>
                    </a:lnTo>
                    <a:lnTo>
                      <a:pt x="1118" y="1016"/>
                    </a:lnTo>
                    <a:lnTo>
                      <a:pt x="1146" y="1040"/>
                    </a:lnTo>
                    <a:lnTo>
                      <a:pt x="1174" y="1064"/>
                    </a:lnTo>
                    <a:lnTo>
                      <a:pt x="1202" y="1088"/>
                    </a:lnTo>
                    <a:lnTo>
                      <a:pt x="1230" y="1112"/>
                    </a:lnTo>
                    <a:lnTo>
                      <a:pt x="1255" y="1136"/>
                    </a:lnTo>
                    <a:lnTo>
                      <a:pt x="1279" y="1165"/>
                    </a:lnTo>
                    <a:lnTo>
                      <a:pt x="1303" y="1189"/>
                    </a:lnTo>
                    <a:lnTo>
                      <a:pt x="1323" y="1221"/>
                    </a:lnTo>
                    <a:lnTo>
                      <a:pt x="1359" y="1245"/>
                    </a:lnTo>
                    <a:lnTo>
                      <a:pt x="1395" y="1269"/>
                    </a:lnTo>
                    <a:lnTo>
                      <a:pt x="1431" y="1294"/>
                    </a:lnTo>
                    <a:lnTo>
                      <a:pt x="1468" y="1322"/>
                    </a:lnTo>
                    <a:lnTo>
                      <a:pt x="1504" y="1346"/>
                    </a:lnTo>
                    <a:lnTo>
                      <a:pt x="1540" y="1370"/>
                    </a:lnTo>
                    <a:lnTo>
                      <a:pt x="1576" y="1390"/>
                    </a:lnTo>
                    <a:lnTo>
                      <a:pt x="1616" y="1410"/>
                    </a:lnTo>
                    <a:lnTo>
                      <a:pt x="1620" y="1414"/>
                    </a:lnTo>
                    <a:lnTo>
                      <a:pt x="1620" y="1419"/>
                    </a:lnTo>
                    <a:lnTo>
                      <a:pt x="1624" y="1419"/>
                    </a:lnTo>
                    <a:lnTo>
                      <a:pt x="1628" y="1419"/>
                    </a:lnTo>
                    <a:lnTo>
                      <a:pt x="1628" y="1419"/>
                    </a:lnTo>
                    <a:lnTo>
                      <a:pt x="1633" y="1419"/>
                    </a:lnTo>
                    <a:lnTo>
                      <a:pt x="1637" y="1419"/>
                    </a:lnTo>
                    <a:lnTo>
                      <a:pt x="1641" y="1423"/>
                    </a:lnTo>
                    <a:lnTo>
                      <a:pt x="1645" y="1423"/>
                    </a:lnTo>
                    <a:lnTo>
                      <a:pt x="1649" y="1427"/>
                    </a:lnTo>
                    <a:lnTo>
                      <a:pt x="1653" y="1431"/>
                    </a:lnTo>
                    <a:lnTo>
                      <a:pt x="1657" y="1435"/>
                    </a:lnTo>
                    <a:lnTo>
                      <a:pt x="1665" y="1439"/>
                    </a:lnTo>
                    <a:lnTo>
                      <a:pt x="1669" y="1439"/>
                    </a:lnTo>
                    <a:lnTo>
                      <a:pt x="1673" y="1439"/>
                    </a:lnTo>
                    <a:lnTo>
                      <a:pt x="1681" y="1439"/>
                    </a:lnTo>
                    <a:lnTo>
                      <a:pt x="1705" y="1451"/>
                    </a:lnTo>
                    <a:lnTo>
                      <a:pt x="1733" y="1467"/>
                    </a:lnTo>
                    <a:lnTo>
                      <a:pt x="1761" y="1479"/>
                    </a:lnTo>
                    <a:lnTo>
                      <a:pt x="1789" y="1487"/>
                    </a:lnTo>
                    <a:lnTo>
                      <a:pt x="1817" y="1499"/>
                    </a:lnTo>
                    <a:lnTo>
                      <a:pt x="1846" y="1507"/>
                    </a:lnTo>
                    <a:lnTo>
                      <a:pt x="1874" y="1519"/>
                    </a:lnTo>
                    <a:lnTo>
                      <a:pt x="1902" y="1527"/>
                    </a:lnTo>
                    <a:lnTo>
                      <a:pt x="1910" y="1531"/>
                    </a:lnTo>
                    <a:lnTo>
                      <a:pt x="1914" y="1535"/>
                    </a:lnTo>
                    <a:lnTo>
                      <a:pt x="1922" y="1539"/>
                    </a:lnTo>
                    <a:lnTo>
                      <a:pt x="1930" y="1539"/>
                    </a:lnTo>
                    <a:lnTo>
                      <a:pt x="1938" y="1539"/>
                    </a:lnTo>
                    <a:lnTo>
                      <a:pt x="1946" y="1543"/>
                    </a:lnTo>
                    <a:lnTo>
                      <a:pt x="1950" y="1543"/>
                    </a:lnTo>
                    <a:lnTo>
                      <a:pt x="1958" y="1547"/>
                    </a:lnTo>
                    <a:lnTo>
                      <a:pt x="2002" y="1503"/>
                    </a:lnTo>
                    <a:lnTo>
                      <a:pt x="2047" y="1459"/>
                    </a:lnTo>
                    <a:lnTo>
                      <a:pt x="2091" y="1410"/>
                    </a:lnTo>
                    <a:lnTo>
                      <a:pt x="2139" y="1370"/>
                    </a:lnTo>
                    <a:lnTo>
                      <a:pt x="2187" y="1330"/>
                    </a:lnTo>
                    <a:lnTo>
                      <a:pt x="2240" y="1298"/>
                    </a:lnTo>
                    <a:lnTo>
                      <a:pt x="2264" y="1286"/>
                    </a:lnTo>
                    <a:lnTo>
                      <a:pt x="2292" y="1273"/>
                    </a:lnTo>
                    <a:lnTo>
                      <a:pt x="2324" y="1265"/>
                    </a:lnTo>
                    <a:lnTo>
                      <a:pt x="2352" y="1257"/>
                    </a:lnTo>
                    <a:lnTo>
                      <a:pt x="2372" y="1257"/>
                    </a:lnTo>
                    <a:lnTo>
                      <a:pt x="2392" y="1257"/>
                    </a:lnTo>
                    <a:lnTo>
                      <a:pt x="2413" y="1257"/>
                    </a:lnTo>
                    <a:lnTo>
                      <a:pt x="2429" y="1261"/>
                    </a:lnTo>
                    <a:lnTo>
                      <a:pt x="2465" y="1277"/>
                    </a:lnTo>
                    <a:lnTo>
                      <a:pt x="2501" y="1298"/>
                    </a:lnTo>
                    <a:lnTo>
                      <a:pt x="2533" y="1322"/>
                    </a:lnTo>
                    <a:lnTo>
                      <a:pt x="2565" y="1346"/>
                    </a:lnTo>
                    <a:lnTo>
                      <a:pt x="2598" y="1370"/>
                    </a:lnTo>
                    <a:lnTo>
                      <a:pt x="2626" y="1394"/>
                    </a:lnTo>
                    <a:lnTo>
                      <a:pt x="2658" y="1423"/>
                    </a:lnTo>
                    <a:lnTo>
                      <a:pt x="2690" y="1447"/>
                    </a:lnTo>
                    <a:lnTo>
                      <a:pt x="2726" y="1467"/>
                    </a:lnTo>
                    <a:lnTo>
                      <a:pt x="2762" y="1483"/>
                    </a:lnTo>
                    <a:lnTo>
                      <a:pt x="2799" y="1499"/>
                    </a:lnTo>
                    <a:lnTo>
                      <a:pt x="2839" y="1511"/>
                    </a:lnTo>
                    <a:lnTo>
                      <a:pt x="2875" y="1523"/>
                    </a:lnTo>
                    <a:lnTo>
                      <a:pt x="2911" y="1531"/>
                    </a:lnTo>
                    <a:lnTo>
                      <a:pt x="2935" y="1535"/>
                    </a:lnTo>
                    <a:lnTo>
                      <a:pt x="2959" y="1535"/>
                    </a:lnTo>
                    <a:lnTo>
                      <a:pt x="2984" y="1535"/>
                    </a:lnTo>
                    <a:lnTo>
                      <a:pt x="3008" y="1535"/>
                    </a:lnTo>
                    <a:lnTo>
                      <a:pt x="3028" y="1531"/>
                    </a:lnTo>
                    <a:lnTo>
                      <a:pt x="3052" y="1527"/>
                    </a:lnTo>
                    <a:lnTo>
                      <a:pt x="3072" y="1519"/>
                    </a:lnTo>
                    <a:lnTo>
                      <a:pt x="3092" y="1507"/>
                    </a:lnTo>
                    <a:lnTo>
                      <a:pt x="3120" y="1495"/>
                    </a:lnTo>
                    <a:lnTo>
                      <a:pt x="3152" y="1487"/>
                    </a:lnTo>
                    <a:lnTo>
                      <a:pt x="3181" y="1479"/>
                    </a:lnTo>
                    <a:lnTo>
                      <a:pt x="3213" y="1467"/>
                    </a:lnTo>
                    <a:lnTo>
                      <a:pt x="3241" y="1459"/>
                    </a:lnTo>
                    <a:lnTo>
                      <a:pt x="3273" y="1451"/>
                    </a:lnTo>
                    <a:lnTo>
                      <a:pt x="3301" y="1443"/>
                    </a:lnTo>
                    <a:lnTo>
                      <a:pt x="3333" y="1435"/>
                    </a:lnTo>
                    <a:lnTo>
                      <a:pt x="3361" y="1439"/>
                    </a:lnTo>
                    <a:lnTo>
                      <a:pt x="3394" y="1443"/>
                    </a:lnTo>
                    <a:lnTo>
                      <a:pt x="3426" y="1443"/>
                    </a:lnTo>
                    <a:lnTo>
                      <a:pt x="3458" y="1443"/>
                    </a:lnTo>
                    <a:lnTo>
                      <a:pt x="3490" y="1443"/>
                    </a:lnTo>
                    <a:lnTo>
                      <a:pt x="3522" y="1443"/>
                    </a:lnTo>
                    <a:lnTo>
                      <a:pt x="3550" y="1443"/>
                    </a:lnTo>
                    <a:lnTo>
                      <a:pt x="3579" y="1443"/>
                    </a:lnTo>
                    <a:lnTo>
                      <a:pt x="3603" y="1447"/>
                    </a:lnTo>
                    <a:lnTo>
                      <a:pt x="3627" y="1451"/>
                    </a:lnTo>
                    <a:lnTo>
                      <a:pt x="3655" y="1455"/>
                    </a:lnTo>
                    <a:lnTo>
                      <a:pt x="3679" y="1459"/>
                    </a:lnTo>
                    <a:lnTo>
                      <a:pt x="3707" y="1467"/>
                    </a:lnTo>
                    <a:lnTo>
                      <a:pt x="3731" y="1471"/>
                    </a:lnTo>
                    <a:lnTo>
                      <a:pt x="3756" y="1483"/>
                    </a:lnTo>
                    <a:lnTo>
                      <a:pt x="3776" y="1495"/>
                    </a:lnTo>
                    <a:lnTo>
                      <a:pt x="3993" y="1616"/>
                    </a:lnTo>
                    <a:lnTo>
                      <a:pt x="4033" y="1644"/>
                    </a:lnTo>
                    <a:lnTo>
                      <a:pt x="4077" y="1672"/>
                    </a:lnTo>
                    <a:lnTo>
                      <a:pt x="4117" y="1697"/>
                    </a:lnTo>
                    <a:lnTo>
                      <a:pt x="4158" y="1725"/>
                    </a:lnTo>
                    <a:lnTo>
                      <a:pt x="4202" y="1753"/>
                    </a:lnTo>
                    <a:lnTo>
                      <a:pt x="4238" y="1781"/>
                    </a:lnTo>
                    <a:lnTo>
                      <a:pt x="4278" y="1813"/>
                    </a:lnTo>
                    <a:lnTo>
                      <a:pt x="4314" y="1850"/>
                    </a:lnTo>
                    <a:lnTo>
                      <a:pt x="4335" y="1870"/>
                    </a:lnTo>
                    <a:lnTo>
                      <a:pt x="4359" y="1894"/>
                    </a:lnTo>
                    <a:lnTo>
                      <a:pt x="4387" y="1910"/>
                    </a:lnTo>
                    <a:lnTo>
                      <a:pt x="4415" y="1930"/>
                    </a:lnTo>
                    <a:lnTo>
                      <a:pt x="4443" y="1946"/>
                    </a:lnTo>
                    <a:lnTo>
                      <a:pt x="4471" y="1959"/>
                    </a:lnTo>
                    <a:lnTo>
                      <a:pt x="4503" y="1975"/>
                    </a:lnTo>
                    <a:lnTo>
                      <a:pt x="4532" y="1991"/>
                    </a:lnTo>
                    <a:lnTo>
                      <a:pt x="4552" y="1999"/>
                    </a:lnTo>
                    <a:lnTo>
                      <a:pt x="4552" y="1991"/>
                    </a:lnTo>
                    <a:lnTo>
                      <a:pt x="4552" y="1987"/>
                    </a:lnTo>
                    <a:lnTo>
                      <a:pt x="4552" y="1979"/>
                    </a:lnTo>
                    <a:lnTo>
                      <a:pt x="4552" y="1975"/>
                    </a:lnTo>
                    <a:lnTo>
                      <a:pt x="4548" y="1967"/>
                    </a:lnTo>
                    <a:lnTo>
                      <a:pt x="4552" y="1963"/>
                    </a:lnTo>
                    <a:lnTo>
                      <a:pt x="4552" y="1954"/>
                    </a:lnTo>
                    <a:lnTo>
                      <a:pt x="4560" y="1950"/>
                    </a:lnTo>
                    <a:lnTo>
                      <a:pt x="4584" y="1954"/>
                    </a:lnTo>
                    <a:lnTo>
                      <a:pt x="4608" y="1963"/>
                    </a:lnTo>
                    <a:lnTo>
                      <a:pt x="4632" y="1975"/>
                    </a:lnTo>
                    <a:lnTo>
                      <a:pt x="4652" y="1983"/>
                    </a:lnTo>
                    <a:lnTo>
                      <a:pt x="4676" y="1995"/>
                    </a:lnTo>
                    <a:lnTo>
                      <a:pt x="4700" y="2003"/>
                    </a:lnTo>
                    <a:lnTo>
                      <a:pt x="4725" y="2011"/>
                    </a:lnTo>
                    <a:lnTo>
                      <a:pt x="4749" y="2019"/>
                    </a:lnTo>
                    <a:lnTo>
                      <a:pt x="4757" y="2019"/>
                    </a:lnTo>
                    <a:lnTo>
                      <a:pt x="4769" y="2023"/>
                    </a:lnTo>
                    <a:lnTo>
                      <a:pt x="4781" y="2023"/>
                    </a:lnTo>
                    <a:lnTo>
                      <a:pt x="4797" y="2027"/>
                    </a:lnTo>
                    <a:lnTo>
                      <a:pt x="4809" y="2027"/>
                    </a:lnTo>
                    <a:lnTo>
                      <a:pt x="4821" y="2027"/>
                    </a:lnTo>
                    <a:lnTo>
                      <a:pt x="4833" y="2023"/>
                    </a:lnTo>
                    <a:lnTo>
                      <a:pt x="4841" y="2015"/>
                    </a:lnTo>
                    <a:lnTo>
                      <a:pt x="4845" y="2011"/>
                    </a:lnTo>
                    <a:lnTo>
                      <a:pt x="4849" y="2007"/>
                    </a:lnTo>
                    <a:lnTo>
                      <a:pt x="4857" y="2003"/>
                    </a:lnTo>
                    <a:lnTo>
                      <a:pt x="4861" y="2003"/>
                    </a:lnTo>
                    <a:lnTo>
                      <a:pt x="4869" y="2003"/>
                    </a:lnTo>
                    <a:lnTo>
                      <a:pt x="4877" y="2003"/>
                    </a:lnTo>
                    <a:lnTo>
                      <a:pt x="4885" y="2003"/>
                    </a:lnTo>
                    <a:lnTo>
                      <a:pt x="4893" y="2003"/>
                    </a:lnTo>
                    <a:lnTo>
                      <a:pt x="4918" y="2015"/>
                    </a:lnTo>
                    <a:lnTo>
                      <a:pt x="4938" y="2031"/>
                    </a:lnTo>
                    <a:lnTo>
                      <a:pt x="4962" y="2047"/>
                    </a:lnTo>
                    <a:lnTo>
                      <a:pt x="4982" y="2063"/>
                    </a:lnTo>
                    <a:lnTo>
                      <a:pt x="5006" y="2079"/>
                    </a:lnTo>
                    <a:lnTo>
                      <a:pt x="5030" y="2091"/>
                    </a:lnTo>
                    <a:lnTo>
                      <a:pt x="5054" y="2100"/>
                    </a:lnTo>
                    <a:lnTo>
                      <a:pt x="5082" y="2104"/>
                    </a:lnTo>
                    <a:lnTo>
                      <a:pt x="5090" y="2100"/>
                    </a:lnTo>
                    <a:lnTo>
                      <a:pt x="5094" y="2096"/>
                    </a:lnTo>
                    <a:lnTo>
                      <a:pt x="5098" y="2087"/>
                    </a:lnTo>
                    <a:lnTo>
                      <a:pt x="5098" y="2083"/>
                    </a:lnTo>
                    <a:lnTo>
                      <a:pt x="5103" y="2075"/>
                    </a:lnTo>
                    <a:lnTo>
                      <a:pt x="5103" y="2071"/>
                    </a:lnTo>
                    <a:lnTo>
                      <a:pt x="5103" y="2063"/>
                    </a:lnTo>
                    <a:lnTo>
                      <a:pt x="5107" y="2055"/>
                    </a:lnTo>
                    <a:lnTo>
                      <a:pt x="5143" y="2059"/>
                    </a:lnTo>
                    <a:lnTo>
                      <a:pt x="5179" y="2063"/>
                    </a:lnTo>
                    <a:lnTo>
                      <a:pt x="5219" y="2059"/>
                    </a:lnTo>
                    <a:lnTo>
                      <a:pt x="5255" y="2059"/>
                    </a:lnTo>
                    <a:lnTo>
                      <a:pt x="5296" y="2059"/>
                    </a:lnTo>
                    <a:lnTo>
                      <a:pt x="5336" y="2055"/>
                    </a:lnTo>
                    <a:lnTo>
                      <a:pt x="5372" y="2055"/>
                    </a:lnTo>
                    <a:lnTo>
                      <a:pt x="5412" y="2055"/>
                    </a:lnTo>
                    <a:lnTo>
                      <a:pt x="5420" y="2059"/>
                    </a:lnTo>
                    <a:lnTo>
                      <a:pt x="5432" y="2063"/>
                    </a:lnTo>
                    <a:lnTo>
                      <a:pt x="5440" y="2067"/>
                    </a:lnTo>
                    <a:lnTo>
                      <a:pt x="5452" y="2067"/>
                    </a:lnTo>
                    <a:lnTo>
                      <a:pt x="5460" y="2067"/>
                    </a:lnTo>
                    <a:lnTo>
                      <a:pt x="5472" y="2071"/>
                    </a:lnTo>
                    <a:lnTo>
                      <a:pt x="5480" y="2071"/>
                    </a:lnTo>
                    <a:lnTo>
                      <a:pt x="5489" y="2075"/>
                    </a:lnTo>
                    <a:lnTo>
                      <a:pt x="5501" y="2071"/>
                    </a:lnTo>
                    <a:lnTo>
                      <a:pt x="5517" y="2067"/>
                    </a:lnTo>
                    <a:lnTo>
                      <a:pt x="5533" y="2071"/>
                    </a:lnTo>
                    <a:lnTo>
                      <a:pt x="5553" y="2071"/>
                    </a:lnTo>
                    <a:lnTo>
                      <a:pt x="5565" y="2067"/>
                    </a:lnTo>
                    <a:lnTo>
                      <a:pt x="5577" y="2063"/>
                    </a:lnTo>
                    <a:lnTo>
                      <a:pt x="5585" y="2047"/>
                    </a:lnTo>
                    <a:lnTo>
                      <a:pt x="5585" y="2027"/>
                    </a:lnTo>
                    <a:lnTo>
                      <a:pt x="5589" y="2023"/>
                    </a:lnTo>
                    <a:lnTo>
                      <a:pt x="5593" y="2019"/>
                    </a:lnTo>
                    <a:lnTo>
                      <a:pt x="5593" y="2015"/>
                    </a:lnTo>
                    <a:lnTo>
                      <a:pt x="5597" y="2011"/>
                    </a:lnTo>
                    <a:lnTo>
                      <a:pt x="5601" y="2003"/>
                    </a:lnTo>
                    <a:lnTo>
                      <a:pt x="5605" y="1999"/>
                    </a:lnTo>
                    <a:lnTo>
                      <a:pt x="5609" y="1995"/>
                    </a:lnTo>
                    <a:lnTo>
                      <a:pt x="5613" y="1991"/>
                    </a:lnTo>
                    <a:lnTo>
                      <a:pt x="5645" y="2007"/>
                    </a:lnTo>
                    <a:lnTo>
                      <a:pt x="5677" y="2019"/>
                    </a:lnTo>
                    <a:lnTo>
                      <a:pt x="5710" y="2027"/>
                    </a:lnTo>
                    <a:lnTo>
                      <a:pt x="5746" y="2035"/>
                    </a:lnTo>
                    <a:lnTo>
                      <a:pt x="5782" y="2039"/>
                    </a:lnTo>
                    <a:lnTo>
                      <a:pt x="5818" y="2043"/>
                    </a:lnTo>
                    <a:lnTo>
                      <a:pt x="5854" y="2043"/>
                    </a:lnTo>
                    <a:lnTo>
                      <a:pt x="5887" y="2043"/>
                    </a:lnTo>
                    <a:lnTo>
                      <a:pt x="5903" y="2031"/>
                    </a:lnTo>
                    <a:lnTo>
                      <a:pt x="5915" y="2015"/>
                    </a:lnTo>
                    <a:lnTo>
                      <a:pt x="5931" y="1999"/>
                    </a:lnTo>
                    <a:lnTo>
                      <a:pt x="5943" y="1983"/>
                    </a:lnTo>
                    <a:lnTo>
                      <a:pt x="5959" y="1967"/>
                    </a:lnTo>
                    <a:lnTo>
                      <a:pt x="5975" y="1959"/>
                    </a:lnTo>
                    <a:lnTo>
                      <a:pt x="5995" y="1954"/>
                    </a:lnTo>
                    <a:lnTo>
                      <a:pt x="6015" y="1959"/>
                    </a:lnTo>
                    <a:lnTo>
                      <a:pt x="6035" y="1967"/>
                    </a:lnTo>
                    <a:lnTo>
                      <a:pt x="6055" y="1979"/>
                    </a:lnTo>
                    <a:lnTo>
                      <a:pt x="6076" y="1987"/>
                    </a:lnTo>
                    <a:lnTo>
                      <a:pt x="6096" y="1995"/>
                    </a:lnTo>
                    <a:lnTo>
                      <a:pt x="6116" y="2003"/>
                    </a:lnTo>
                    <a:lnTo>
                      <a:pt x="6136" y="2007"/>
                    </a:lnTo>
                    <a:lnTo>
                      <a:pt x="6156" y="2015"/>
                    </a:lnTo>
                    <a:lnTo>
                      <a:pt x="6180" y="2019"/>
                    </a:lnTo>
                    <a:lnTo>
                      <a:pt x="6188" y="2011"/>
                    </a:lnTo>
                    <a:lnTo>
                      <a:pt x="6200" y="2011"/>
                    </a:lnTo>
                    <a:lnTo>
                      <a:pt x="6208" y="2011"/>
                    </a:lnTo>
                    <a:lnTo>
                      <a:pt x="6220" y="2015"/>
                    </a:lnTo>
                    <a:lnTo>
                      <a:pt x="6232" y="2019"/>
                    </a:lnTo>
                    <a:lnTo>
                      <a:pt x="6244" y="2019"/>
                    </a:lnTo>
                    <a:lnTo>
                      <a:pt x="6256" y="2023"/>
                    </a:lnTo>
                    <a:lnTo>
                      <a:pt x="6269" y="2019"/>
                    </a:lnTo>
                    <a:lnTo>
                      <a:pt x="6297" y="2019"/>
                    </a:lnTo>
                    <a:lnTo>
                      <a:pt x="6325" y="2019"/>
                    </a:lnTo>
                    <a:lnTo>
                      <a:pt x="6353" y="2023"/>
                    </a:lnTo>
                    <a:lnTo>
                      <a:pt x="6381" y="2027"/>
                    </a:lnTo>
                    <a:lnTo>
                      <a:pt x="6409" y="2031"/>
                    </a:lnTo>
                    <a:lnTo>
                      <a:pt x="6437" y="2031"/>
                    </a:lnTo>
                    <a:lnTo>
                      <a:pt x="6466" y="2031"/>
                    </a:lnTo>
                    <a:lnTo>
                      <a:pt x="6494" y="2023"/>
                    </a:lnTo>
                    <a:lnTo>
                      <a:pt x="6502" y="2039"/>
                    </a:lnTo>
                    <a:lnTo>
                      <a:pt x="6514" y="2039"/>
                    </a:lnTo>
                    <a:lnTo>
                      <a:pt x="6530" y="2035"/>
                    </a:lnTo>
                    <a:lnTo>
                      <a:pt x="6550" y="2035"/>
                    </a:lnTo>
                    <a:lnTo>
                      <a:pt x="6566" y="2035"/>
                    </a:lnTo>
                    <a:lnTo>
                      <a:pt x="6582" y="2035"/>
                    </a:lnTo>
                    <a:lnTo>
                      <a:pt x="6598" y="2039"/>
                    </a:lnTo>
                    <a:lnTo>
                      <a:pt x="6614" y="2043"/>
                    </a:lnTo>
                    <a:lnTo>
                      <a:pt x="6626" y="2051"/>
                    </a:lnTo>
                    <a:lnTo>
                      <a:pt x="6667" y="2007"/>
                    </a:lnTo>
                    <a:lnTo>
                      <a:pt x="6707" y="1963"/>
                    </a:lnTo>
                    <a:lnTo>
                      <a:pt x="6747" y="1914"/>
                    </a:lnTo>
                    <a:lnTo>
                      <a:pt x="6791" y="1866"/>
                    </a:lnTo>
                    <a:lnTo>
                      <a:pt x="6831" y="1817"/>
                    </a:lnTo>
                    <a:lnTo>
                      <a:pt x="6876" y="1769"/>
                    </a:lnTo>
                    <a:lnTo>
                      <a:pt x="6920" y="1729"/>
                    </a:lnTo>
                    <a:lnTo>
                      <a:pt x="6968" y="1689"/>
                    </a:lnTo>
                    <a:lnTo>
                      <a:pt x="6980" y="1684"/>
                    </a:lnTo>
                    <a:lnTo>
                      <a:pt x="6988" y="1680"/>
                    </a:lnTo>
                    <a:lnTo>
                      <a:pt x="6996" y="1676"/>
                    </a:lnTo>
                    <a:lnTo>
                      <a:pt x="7004" y="1672"/>
                    </a:lnTo>
                    <a:lnTo>
                      <a:pt x="7012" y="1668"/>
                    </a:lnTo>
                    <a:lnTo>
                      <a:pt x="7020" y="1664"/>
                    </a:lnTo>
                    <a:lnTo>
                      <a:pt x="7028" y="1660"/>
                    </a:lnTo>
                    <a:lnTo>
                      <a:pt x="7037" y="1652"/>
                    </a:lnTo>
                    <a:lnTo>
                      <a:pt x="7024" y="1628"/>
                    </a:lnTo>
                    <a:lnTo>
                      <a:pt x="7012" y="1604"/>
                    </a:lnTo>
                    <a:lnTo>
                      <a:pt x="6996" y="1584"/>
                    </a:lnTo>
                    <a:lnTo>
                      <a:pt x="6976" y="1560"/>
                    </a:lnTo>
                    <a:lnTo>
                      <a:pt x="6956" y="1539"/>
                    </a:lnTo>
                    <a:lnTo>
                      <a:pt x="6936" y="1519"/>
                    </a:lnTo>
                    <a:lnTo>
                      <a:pt x="6916" y="1499"/>
                    </a:lnTo>
                    <a:lnTo>
                      <a:pt x="6900" y="1475"/>
                    </a:lnTo>
                    <a:lnTo>
                      <a:pt x="6872" y="1439"/>
                    </a:lnTo>
                    <a:lnTo>
                      <a:pt x="6840" y="1402"/>
                    </a:lnTo>
                    <a:lnTo>
                      <a:pt x="6807" y="1366"/>
                    </a:lnTo>
                    <a:lnTo>
                      <a:pt x="6775" y="1330"/>
                    </a:lnTo>
                    <a:lnTo>
                      <a:pt x="6743" y="1294"/>
                    </a:lnTo>
                    <a:lnTo>
                      <a:pt x="6715" y="1257"/>
                    </a:lnTo>
                    <a:lnTo>
                      <a:pt x="6691" y="1217"/>
                    </a:lnTo>
                    <a:lnTo>
                      <a:pt x="6671" y="1173"/>
                    </a:lnTo>
                    <a:lnTo>
                      <a:pt x="6655" y="1157"/>
                    </a:lnTo>
                    <a:lnTo>
                      <a:pt x="6642" y="1132"/>
                    </a:lnTo>
                    <a:lnTo>
                      <a:pt x="6634" y="1112"/>
                    </a:lnTo>
                    <a:lnTo>
                      <a:pt x="6630" y="1088"/>
                    </a:lnTo>
                    <a:lnTo>
                      <a:pt x="6622" y="1064"/>
                    </a:lnTo>
                    <a:lnTo>
                      <a:pt x="6614" y="1040"/>
                    </a:lnTo>
                    <a:lnTo>
                      <a:pt x="6606" y="1016"/>
                    </a:lnTo>
                    <a:lnTo>
                      <a:pt x="6594" y="995"/>
                    </a:lnTo>
                    <a:lnTo>
                      <a:pt x="6598" y="983"/>
                    </a:lnTo>
                    <a:lnTo>
                      <a:pt x="6602" y="971"/>
                    </a:lnTo>
                    <a:lnTo>
                      <a:pt x="6602" y="959"/>
                    </a:lnTo>
                    <a:lnTo>
                      <a:pt x="6598" y="947"/>
                    </a:lnTo>
                    <a:lnTo>
                      <a:pt x="6590" y="927"/>
                    </a:lnTo>
                    <a:lnTo>
                      <a:pt x="6578" y="907"/>
                    </a:lnTo>
                    <a:lnTo>
                      <a:pt x="6570" y="887"/>
                    </a:lnTo>
                    <a:lnTo>
                      <a:pt x="6562" y="866"/>
                    </a:lnTo>
                    <a:lnTo>
                      <a:pt x="6562" y="858"/>
                    </a:lnTo>
                    <a:lnTo>
                      <a:pt x="6566" y="850"/>
                    </a:lnTo>
                    <a:lnTo>
                      <a:pt x="6570" y="842"/>
                    </a:lnTo>
                    <a:lnTo>
                      <a:pt x="6578" y="830"/>
                    </a:lnTo>
                    <a:lnTo>
                      <a:pt x="6586" y="822"/>
                    </a:lnTo>
                    <a:lnTo>
                      <a:pt x="6586" y="814"/>
                    </a:lnTo>
                    <a:lnTo>
                      <a:pt x="6590" y="802"/>
                    </a:lnTo>
                    <a:lnTo>
                      <a:pt x="6586" y="794"/>
                    </a:lnTo>
                    <a:lnTo>
                      <a:pt x="6582" y="774"/>
                    </a:lnTo>
                    <a:lnTo>
                      <a:pt x="6578" y="754"/>
                    </a:lnTo>
                    <a:lnTo>
                      <a:pt x="6574" y="729"/>
                    </a:lnTo>
                    <a:lnTo>
                      <a:pt x="6574" y="713"/>
                    </a:lnTo>
                    <a:lnTo>
                      <a:pt x="6578" y="705"/>
                    </a:lnTo>
                    <a:lnTo>
                      <a:pt x="6582" y="697"/>
                    </a:lnTo>
                    <a:lnTo>
                      <a:pt x="6590" y="689"/>
                    </a:lnTo>
                    <a:lnTo>
                      <a:pt x="6602" y="681"/>
                    </a:lnTo>
                    <a:lnTo>
                      <a:pt x="6602" y="665"/>
                    </a:lnTo>
                    <a:lnTo>
                      <a:pt x="6594" y="649"/>
                    </a:lnTo>
                    <a:lnTo>
                      <a:pt x="6582" y="637"/>
                    </a:lnTo>
                    <a:lnTo>
                      <a:pt x="6574" y="621"/>
                    </a:lnTo>
                    <a:lnTo>
                      <a:pt x="6562" y="604"/>
                    </a:lnTo>
                    <a:lnTo>
                      <a:pt x="6558" y="592"/>
                    </a:lnTo>
                    <a:lnTo>
                      <a:pt x="6554" y="576"/>
                    </a:lnTo>
                    <a:lnTo>
                      <a:pt x="6562" y="560"/>
                    </a:lnTo>
                    <a:lnTo>
                      <a:pt x="6570" y="560"/>
                    </a:lnTo>
                    <a:lnTo>
                      <a:pt x="6574" y="564"/>
                    </a:lnTo>
                    <a:lnTo>
                      <a:pt x="6582" y="568"/>
                    </a:lnTo>
                    <a:lnTo>
                      <a:pt x="6590" y="568"/>
                    </a:lnTo>
                    <a:lnTo>
                      <a:pt x="6598" y="572"/>
                    </a:lnTo>
                    <a:lnTo>
                      <a:pt x="6602" y="572"/>
                    </a:lnTo>
                    <a:lnTo>
                      <a:pt x="6610" y="576"/>
                    </a:lnTo>
                    <a:lnTo>
                      <a:pt x="6618" y="580"/>
                    </a:lnTo>
                    <a:lnTo>
                      <a:pt x="6618" y="568"/>
                    </a:lnTo>
                    <a:lnTo>
                      <a:pt x="6618" y="556"/>
                    </a:lnTo>
                    <a:lnTo>
                      <a:pt x="6614" y="544"/>
                    </a:lnTo>
                    <a:lnTo>
                      <a:pt x="6614" y="528"/>
                    </a:lnTo>
                    <a:lnTo>
                      <a:pt x="6614" y="516"/>
                    </a:lnTo>
                    <a:lnTo>
                      <a:pt x="6610" y="504"/>
                    </a:lnTo>
                    <a:lnTo>
                      <a:pt x="6610" y="488"/>
                    </a:lnTo>
                    <a:lnTo>
                      <a:pt x="6610" y="471"/>
                    </a:lnTo>
                    <a:lnTo>
                      <a:pt x="6647" y="471"/>
                    </a:lnTo>
                    <a:lnTo>
                      <a:pt x="6647" y="476"/>
                    </a:lnTo>
                    <a:lnTo>
                      <a:pt x="6647" y="476"/>
                    </a:lnTo>
                    <a:lnTo>
                      <a:pt x="6647" y="480"/>
                    </a:lnTo>
                    <a:lnTo>
                      <a:pt x="6647" y="480"/>
                    </a:lnTo>
                    <a:lnTo>
                      <a:pt x="6651" y="484"/>
                    </a:lnTo>
                    <a:lnTo>
                      <a:pt x="6651" y="484"/>
                    </a:lnTo>
                    <a:lnTo>
                      <a:pt x="6655" y="484"/>
                    </a:lnTo>
                    <a:lnTo>
                      <a:pt x="6655" y="488"/>
                    </a:lnTo>
                    <a:lnTo>
                      <a:pt x="6663" y="480"/>
                    </a:lnTo>
                    <a:lnTo>
                      <a:pt x="6663" y="471"/>
                    </a:lnTo>
                    <a:lnTo>
                      <a:pt x="6663" y="463"/>
                    </a:lnTo>
                    <a:lnTo>
                      <a:pt x="6663" y="455"/>
                    </a:lnTo>
                    <a:lnTo>
                      <a:pt x="6663" y="447"/>
                    </a:lnTo>
                    <a:lnTo>
                      <a:pt x="6659" y="439"/>
                    </a:lnTo>
                    <a:lnTo>
                      <a:pt x="6659" y="431"/>
                    </a:lnTo>
                    <a:lnTo>
                      <a:pt x="6659" y="423"/>
                    </a:lnTo>
                    <a:lnTo>
                      <a:pt x="6655" y="411"/>
                    </a:lnTo>
                    <a:lnTo>
                      <a:pt x="6655" y="395"/>
                    </a:lnTo>
                    <a:lnTo>
                      <a:pt x="6651" y="383"/>
                    </a:lnTo>
                    <a:lnTo>
                      <a:pt x="6647" y="367"/>
                    </a:lnTo>
                    <a:lnTo>
                      <a:pt x="6647" y="355"/>
                    </a:lnTo>
                    <a:lnTo>
                      <a:pt x="6647" y="339"/>
                    </a:lnTo>
                    <a:lnTo>
                      <a:pt x="6647" y="326"/>
                    </a:lnTo>
                    <a:lnTo>
                      <a:pt x="6651" y="310"/>
                    </a:lnTo>
                    <a:lnTo>
                      <a:pt x="6671" y="318"/>
                    </a:lnTo>
                    <a:lnTo>
                      <a:pt x="6683" y="326"/>
                    </a:lnTo>
                    <a:lnTo>
                      <a:pt x="6691" y="343"/>
                    </a:lnTo>
                    <a:lnTo>
                      <a:pt x="6699" y="359"/>
                    </a:lnTo>
                    <a:lnTo>
                      <a:pt x="6703" y="375"/>
                    </a:lnTo>
                    <a:lnTo>
                      <a:pt x="6707" y="391"/>
                    </a:lnTo>
                    <a:lnTo>
                      <a:pt x="6719" y="407"/>
                    </a:lnTo>
                    <a:lnTo>
                      <a:pt x="6731" y="419"/>
                    </a:lnTo>
                    <a:lnTo>
                      <a:pt x="6751" y="419"/>
                    </a:lnTo>
                    <a:lnTo>
                      <a:pt x="6771" y="427"/>
                    </a:lnTo>
                    <a:lnTo>
                      <a:pt x="6783" y="435"/>
                    </a:lnTo>
                    <a:lnTo>
                      <a:pt x="6795" y="447"/>
                    </a:lnTo>
                    <a:lnTo>
                      <a:pt x="6807" y="459"/>
                    </a:lnTo>
                    <a:lnTo>
                      <a:pt x="6819" y="471"/>
                    </a:lnTo>
                    <a:lnTo>
                      <a:pt x="6835" y="484"/>
                    </a:lnTo>
                    <a:lnTo>
                      <a:pt x="6856" y="492"/>
                    </a:lnTo>
                    <a:lnTo>
                      <a:pt x="6864" y="500"/>
                    </a:lnTo>
                    <a:lnTo>
                      <a:pt x="6872" y="508"/>
                    </a:lnTo>
                    <a:lnTo>
                      <a:pt x="6876" y="520"/>
                    </a:lnTo>
                    <a:lnTo>
                      <a:pt x="6884" y="528"/>
                    </a:lnTo>
                    <a:lnTo>
                      <a:pt x="6892" y="536"/>
                    </a:lnTo>
                    <a:lnTo>
                      <a:pt x="6900" y="544"/>
                    </a:lnTo>
                    <a:lnTo>
                      <a:pt x="6908" y="552"/>
                    </a:lnTo>
                    <a:lnTo>
                      <a:pt x="6920" y="560"/>
                    </a:lnTo>
                    <a:lnTo>
                      <a:pt x="6920" y="560"/>
                    </a:lnTo>
                    <a:lnTo>
                      <a:pt x="6920" y="556"/>
                    </a:lnTo>
                    <a:lnTo>
                      <a:pt x="6924" y="556"/>
                    </a:lnTo>
                    <a:lnTo>
                      <a:pt x="6924" y="552"/>
                    </a:lnTo>
                    <a:lnTo>
                      <a:pt x="6924" y="552"/>
                    </a:lnTo>
                    <a:lnTo>
                      <a:pt x="6924" y="548"/>
                    </a:lnTo>
                    <a:lnTo>
                      <a:pt x="6924" y="548"/>
                    </a:lnTo>
                    <a:lnTo>
                      <a:pt x="6924" y="544"/>
                    </a:lnTo>
                    <a:lnTo>
                      <a:pt x="6940" y="548"/>
                    </a:lnTo>
                    <a:lnTo>
                      <a:pt x="6952" y="560"/>
                    </a:lnTo>
                    <a:lnTo>
                      <a:pt x="6956" y="568"/>
                    </a:lnTo>
                    <a:lnTo>
                      <a:pt x="6964" y="584"/>
                    </a:lnTo>
                    <a:lnTo>
                      <a:pt x="6968" y="596"/>
                    </a:lnTo>
                    <a:lnTo>
                      <a:pt x="6976" y="613"/>
                    </a:lnTo>
                    <a:lnTo>
                      <a:pt x="6984" y="625"/>
                    </a:lnTo>
                    <a:lnTo>
                      <a:pt x="6996" y="633"/>
                    </a:lnTo>
                    <a:lnTo>
                      <a:pt x="7000" y="629"/>
                    </a:lnTo>
                    <a:lnTo>
                      <a:pt x="7000" y="625"/>
                    </a:lnTo>
                    <a:lnTo>
                      <a:pt x="7004" y="617"/>
                    </a:lnTo>
                    <a:lnTo>
                      <a:pt x="7008" y="613"/>
                    </a:lnTo>
                    <a:lnTo>
                      <a:pt x="7012" y="609"/>
                    </a:lnTo>
                    <a:lnTo>
                      <a:pt x="7016" y="604"/>
                    </a:lnTo>
                    <a:lnTo>
                      <a:pt x="7020" y="604"/>
                    </a:lnTo>
                    <a:lnTo>
                      <a:pt x="7028" y="604"/>
                    </a:lnTo>
                    <a:lnTo>
                      <a:pt x="7041" y="621"/>
                    </a:lnTo>
                    <a:lnTo>
                      <a:pt x="7049" y="637"/>
                    </a:lnTo>
                    <a:lnTo>
                      <a:pt x="7053" y="649"/>
                    </a:lnTo>
                    <a:lnTo>
                      <a:pt x="7061" y="665"/>
                    </a:lnTo>
                    <a:lnTo>
                      <a:pt x="7065" y="681"/>
                    </a:lnTo>
                    <a:lnTo>
                      <a:pt x="7073" y="697"/>
                    </a:lnTo>
                    <a:lnTo>
                      <a:pt x="7077" y="713"/>
                    </a:lnTo>
                    <a:lnTo>
                      <a:pt x="7081" y="729"/>
                    </a:lnTo>
                    <a:lnTo>
                      <a:pt x="7093" y="766"/>
                    </a:lnTo>
                    <a:lnTo>
                      <a:pt x="7109" y="794"/>
                    </a:lnTo>
                    <a:lnTo>
                      <a:pt x="7129" y="822"/>
                    </a:lnTo>
                    <a:lnTo>
                      <a:pt x="7153" y="850"/>
                    </a:lnTo>
                    <a:lnTo>
                      <a:pt x="7173" y="879"/>
                    </a:lnTo>
                    <a:lnTo>
                      <a:pt x="7197" y="907"/>
                    </a:lnTo>
                    <a:lnTo>
                      <a:pt x="7217" y="935"/>
                    </a:lnTo>
                    <a:lnTo>
                      <a:pt x="7238" y="963"/>
                    </a:lnTo>
                    <a:lnTo>
                      <a:pt x="7258" y="991"/>
                    </a:lnTo>
                    <a:lnTo>
                      <a:pt x="7274" y="1020"/>
                    </a:lnTo>
                    <a:lnTo>
                      <a:pt x="7290" y="1052"/>
                    </a:lnTo>
                    <a:lnTo>
                      <a:pt x="7306" y="1080"/>
                    </a:lnTo>
                    <a:lnTo>
                      <a:pt x="7322" y="1108"/>
                    </a:lnTo>
                    <a:lnTo>
                      <a:pt x="7342" y="1140"/>
                    </a:lnTo>
                    <a:lnTo>
                      <a:pt x="7358" y="1169"/>
                    </a:lnTo>
                    <a:lnTo>
                      <a:pt x="7378" y="1193"/>
                    </a:lnTo>
                    <a:lnTo>
                      <a:pt x="7394" y="1161"/>
                    </a:lnTo>
                    <a:lnTo>
                      <a:pt x="7419" y="1132"/>
                    </a:lnTo>
                    <a:lnTo>
                      <a:pt x="7447" y="1104"/>
                    </a:lnTo>
                    <a:lnTo>
                      <a:pt x="7475" y="1076"/>
                    </a:lnTo>
                    <a:lnTo>
                      <a:pt x="7507" y="1056"/>
                    </a:lnTo>
                    <a:lnTo>
                      <a:pt x="7539" y="1032"/>
                    </a:lnTo>
                    <a:lnTo>
                      <a:pt x="7575" y="1011"/>
                    </a:lnTo>
                    <a:lnTo>
                      <a:pt x="7607" y="995"/>
                    </a:lnTo>
                    <a:lnTo>
                      <a:pt x="7628" y="983"/>
                    </a:lnTo>
                    <a:lnTo>
                      <a:pt x="7636" y="967"/>
                    </a:lnTo>
                    <a:lnTo>
                      <a:pt x="7640" y="951"/>
                    </a:lnTo>
                    <a:lnTo>
                      <a:pt x="7640" y="931"/>
                    </a:lnTo>
                    <a:lnTo>
                      <a:pt x="7640" y="911"/>
                    </a:lnTo>
                    <a:lnTo>
                      <a:pt x="7640" y="891"/>
                    </a:lnTo>
                    <a:lnTo>
                      <a:pt x="7640" y="874"/>
                    </a:lnTo>
                    <a:lnTo>
                      <a:pt x="7644" y="858"/>
                    </a:lnTo>
                    <a:lnTo>
                      <a:pt x="7648" y="846"/>
                    </a:lnTo>
                    <a:lnTo>
                      <a:pt x="7652" y="834"/>
                    </a:lnTo>
                    <a:lnTo>
                      <a:pt x="7652" y="822"/>
                    </a:lnTo>
                    <a:lnTo>
                      <a:pt x="7652" y="810"/>
                    </a:lnTo>
                    <a:lnTo>
                      <a:pt x="7652" y="798"/>
                    </a:lnTo>
                    <a:lnTo>
                      <a:pt x="7652" y="786"/>
                    </a:lnTo>
                    <a:lnTo>
                      <a:pt x="7656" y="774"/>
                    </a:lnTo>
                    <a:lnTo>
                      <a:pt x="7660" y="762"/>
                    </a:lnTo>
                    <a:lnTo>
                      <a:pt x="7660" y="741"/>
                    </a:lnTo>
                    <a:lnTo>
                      <a:pt x="7660" y="721"/>
                    </a:lnTo>
                    <a:lnTo>
                      <a:pt x="7668" y="701"/>
                    </a:lnTo>
                    <a:lnTo>
                      <a:pt x="7672" y="681"/>
                    </a:lnTo>
                    <a:lnTo>
                      <a:pt x="7676" y="661"/>
                    </a:lnTo>
                    <a:lnTo>
                      <a:pt x="7680" y="641"/>
                    </a:lnTo>
                    <a:lnTo>
                      <a:pt x="7680" y="625"/>
                    </a:lnTo>
                    <a:lnTo>
                      <a:pt x="7676" y="600"/>
                    </a:lnTo>
                    <a:lnTo>
                      <a:pt x="7676" y="584"/>
                    </a:lnTo>
                    <a:lnTo>
                      <a:pt x="7680" y="568"/>
                    </a:lnTo>
                    <a:lnTo>
                      <a:pt x="7680" y="548"/>
                    </a:lnTo>
                    <a:lnTo>
                      <a:pt x="7680" y="528"/>
                    </a:lnTo>
                    <a:lnTo>
                      <a:pt x="7680" y="508"/>
                    </a:lnTo>
                    <a:lnTo>
                      <a:pt x="7684" y="492"/>
                    </a:lnTo>
                    <a:lnTo>
                      <a:pt x="7692" y="476"/>
                    </a:lnTo>
                    <a:lnTo>
                      <a:pt x="7704" y="459"/>
                    </a:lnTo>
                    <a:lnTo>
                      <a:pt x="7700" y="447"/>
                    </a:lnTo>
                    <a:lnTo>
                      <a:pt x="7700" y="431"/>
                    </a:lnTo>
                    <a:lnTo>
                      <a:pt x="7700" y="415"/>
                    </a:lnTo>
                    <a:lnTo>
                      <a:pt x="7700" y="399"/>
                    </a:lnTo>
                    <a:lnTo>
                      <a:pt x="7700" y="383"/>
                    </a:lnTo>
                    <a:lnTo>
                      <a:pt x="7704" y="371"/>
                    </a:lnTo>
                    <a:lnTo>
                      <a:pt x="7708" y="355"/>
                    </a:lnTo>
                    <a:lnTo>
                      <a:pt x="7716" y="343"/>
                    </a:lnTo>
                    <a:lnTo>
                      <a:pt x="7720" y="343"/>
                    </a:lnTo>
                    <a:lnTo>
                      <a:pt x="7724" y="343"/>
                    </a:lnTo>
                    <a:lnTo>
                      <a:pt x="7728" y="343"/>
                    </a:lnTo>
                    <a:lnTo>
                      <a:pt x="7736" y="343"/>
                    </a:lnTo>
                    <a:lnTo>
                      <a:pt x="7740" y="343"/>
                    </a:lnTo>
                    <a:lnTo>
                      <a:pt x="7744" y="343"/>
                    </a:lnTo>
                    <a:lnTo>
                      <a:pt x="7748" y="343"/>
                    </a:lnTo>
                    <a:lnTo>
                      <a:pt x="7752" y="347"/>
                    </a:lnTo>
                    <a:lnTo>
                      <a:pt x="7756" y="334"/>
                    </a:lnTo>
                    <a:lnTo>
                      <a:pt x="7756" y="322"/>
                    </a:lnTo>
                    <a:lnTo>
                      <a:pt x="7756" y="310"/>
                    </a:lnTo>
                    <a:lnTo>
                      <a:pt x="7756" y="298"/>
                    </a:lnTo>
                    <a:lnTo>
                      <a:pt x="7752" y="286"/>
                    </a:lnTo>
                    <a:lnTo>
                      <a:pt x="7752" y="274"/>
                    </a:lnTo>
                    <a:lnTo>
                      <a:pt x="7752" y="262"/>
                    </a:lnTo>
                    <a:lnTo>
                      <a:pt x="7748" y="246"/>
                    </a:lnTo>
                    <a:lnTo>
                      <a:pt x="7748" y="238"/>
                    </a:lnTo>
                    <a:lnTo>
                      <a:pt x="7748" y="230"/>
                    </a:lnTo>
                    <a:lnTo>
                      <a:pt x="7748" y="218"/>
                    </a:lnTo>
                    <a:lnTo>
                      <a:pt x="7752" y="206"/>
                    </a:lnTo>
                    <a:lnTo>
                      <a:pt x="7752" y="193"/>
                    </a:lnTo>
                    <a:lnTo>
                      <a:pt x="7756" y="185"/>
                    </a:lnTo>
                    <a:lnTo>
                      <a:pt x="7760" y="177"/>
                    </a:lnTo>
                    <a:lnTo>
                      <a:pt x="7772" y="169"/>
                    </a:lnTo>
                    <a:lnTo>
                      <a:pt x="7776" y="173"/>
                    </a:lnTo>
                    <a:lnTo>
                      <a:pt x="7776" y="173"/>
                    </a:lnTo>
                    <a:lnTo>
                      <a:pt x="7776" y="169"/>
                    </a:lnTo>
                    <a:lnTo>
                      <a:pt x="7780" y="165"/>
                    </a:lnTo>
                    <a:lnTo>
                      <a:pt x="7780" y="165"/>
                    </a:lnTo>
                    <a:lnTo>
                      <a:pt x="7784" y="161"/>
                    </a:lnTo>
                    <a:lnTo>
                      <a:pt x="7788" y="161"/>
                    </a:lnTo>
                    <a:lnTo>
                      <a:pt x="7792" y="161"/>
                    </a:lnTo>
                    <a:lnTo>
                      <a:pt x="7796" y="161"/>
                    </a:lnTo>
                    <a:lnTo>
                      <a:pt x="7796" y="165"/>
                    </a:lnTo>
                    <a:lnTo>
                      <a:pt x="7800" y="169"/>
                    </a:lnTo>
                    <a:lnTo>
                      <a:pt x="7800" y="173"/>
                    </a:lnTo>
                    <a:lnTo>
                      <a:pt x="7800" y="177"/>
                    </a:lnTo>
                    <a:lnTo>
                      <a:pt x="7805" y="181"/>
                    </a:lnTo>
                    <a:lnTo>
                      <a:pt x="7805" y="185"/>
                    </a:lnTo>
                    <a:lnTo>
                      <a:pt x="7805" y="189"/>
                    </a:lnTo>
                    <a:lnTo>
                      <a:pt x="7809" y="193"/>
                    </a:lnTo>
                    <a:lnTo>
                      <a:pt x="7813" y="64"/>
                    </a:lnTo>
                    <a:lnTo>
                      <a:pt x="7817" y="60"/>
                    </a:lnTo>
                    <a:lnTo>
                      <a:pt x="7821" y="56"/>
                    </a:lnTo>
                    <a:lnTo>
                      <a:pt x="7825" y="52"/>
                    </a:lnTo>
                    <a:lnTo>
                      <a:pt x="7829" y="52"/>
                    </a:lnTo>
                    <a:lnTo>
                      <a:pt x="7833" y="52"/>
                    </a:lnTo>
                    <a:lnTo>
                      <a:pt x="7841" y="52"/>
                    </a:lnTo>
                    <a:lnTo>
                      <a:pt x="7845" y="56"/>
                    </a:lnTo>
                    <a:lnTo>
                      <a:pt x="7849" y="60"/>
                    </a:lnTo>
                    <a:lnTo>
                      <a:pt x="7849" y="69"/>
                    </a:lnTo>
                    <a:lnTo>
                      <a:pt x="7849" y="77"/>
                    </a:lnTo>
                    <a:lnTo>
                      <a:pt x="7853" y="81"/>
                    </a:lnTo>
                    <a:lnTo>
                      <a:pt x="7853" y="89"/>
                    </a:lnTo>
                    <a:lnTo>
                      <a:pt x="7857" y="97"/>
                    </a:lnTo>
                    <a:lnTo>
                      <a:pt x="7857" y="105"/>
                    </a:lnTo>
                    <a:lnTo>
                      <a:pt x="7861" y="109"/>
                    </a:lnTo>
                    <a:lnTo>
                      <a:pt x="7869" y="113"/>
                    </a:lnTo>
                    <a:lnTo>
                      <a:pt x="7869" y="97"/>
                    </a:lnTo>
                    <a:lnTo>
                      <a:pt x="7877" y="89"/>
                    </a:lnTo>
                    <a:lnTo>
                      <a:pt x="7885" y="85"/>
                    </a:lnTo>
                    <a:lnTo>
                      <a:pt x="7893" y="85"/>
                    </a:lnTo>
                    <a:lnTo>
                      <a:pt x="7905" y="89"/>
                    </a:lnTo>
                    <a:lnTo>
                      <a:pt x="7917" y="89"/>
                    </a:lnTo>
                    <a:lnTo>
                      <a:pt x="7929" y="85"/>
                    </a:lnTo>
                    <a:lnTo>
                      <a:pt x="7937" y="73"/>
                    </a:lnTo>
                    <a:lnTo>
                      <a:pt x="7941" y="0"/>
                    </a:lnTo>
                    <a:lnTo>
                      <a:pt x="7957" y="4"/>
                    </a:lnTo>
                    <a:lnTo>
                      <a:pt x="7965" y="12"/>
                    </a:lnTo>
                    <a:lnTo>
                      <a:pt x="7973" y="28"/>
                    </a:lnTo>
                    <a:lnTo>
                      <a:pt x="7973" y="40"/>
                    </a:lnTo>
                    <a:lnTo>
                      <a:pt x="7973" y="56"/>
                    </a:lnTo>
                    <a:lnTo>
                      <a:pt x="7977" y="73"/>
                    </a:lnTo>
                    <a:lnTo>
                      <a:pt x="7981" y="85"/>
                    </a:lnTo>
                    <a:lnTo>
                      <a:pt x="7993" y="9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01e07"/>
                  </a:gs>
                  <a:gs pos="100000">
                    <a:srgbClr val="8b4211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4676760" y="1521000"/>
                <a:ext cx="133200" cy="212760"/>
              </a:xfrm>
              <a:custGeom>
                <a:avLst/>
                <a:gdLst/>
                <a:ahLst/>
                <a:rect l="l" t="t" r="r" b="b"/>
                <a:pathLst>
                  <a:path w="623" h="935">
                    <a:moveTo>
                      <a:pt x="101" y="89"/>
                    </a:moveTo>
                    <a:lnTo>
                      <a:pt x="137" y="117"/>
                    </a:lnTo>
                    <a:lnTo>
                      <a:pt x="173" y="141"/>
                    </a:lnTo>
                    <a:lnTo>
                      <a:pt x="209" y="169"/>
                    </a:lnTo>
                    <a:lnTo>
                      <a:pt x="249" y="193"/>
                    </a:lnTo>
                    <a:lnTo>
                      <a:pt x="286" y="218"/>
                    </a:lnTo>
                    <a:lnTo>
                      <a:pt x="318" y="250"/>
                    </a:lnTo>
                    <a:lnTo>
                      <a:pt x="350" y="282"/>
                    </a:lnTo>
                    <a:lnTo>
                      <a:pt x="378" y="322"/>
                    </a:lnTo>
                    <a:lnTo>
                      <a:pt x="410" y="371"/>
                    </a:lnTo>
                    <a:lnTo>
                      <a:pt x="438" y="423"/>
                    </a:lnTo>
                    <a:lnTo>
                      <a:pt x="466" y="480"/>
                    </a:lnTo>
                    <a:lnTo>
                      <a:pt x="491" y="536"/>
                    </a:lnTo>
                    <a:lnTo>
                      <a:pt x="519" y="588"/>
                    </a:lnTo>
                    <a:lnTo>
                      <a:pt x="543" y="645"/>
                    </a:lnTo>
                    <a:lnTo>
                      <a:pt x="567" y="701"/>
                    </a:lnTo>
                    <a:lnTo>
                      <a:pt x="595" y="758"/>
                    </a:lnTo>
                    <a:lnTo>
                      <a:pt x="599" y="778"/>
                    </a:lnTo>
                    <a:lnTo>
                      <a:pt x="607" y="802"/>
                    </a:lnTo>
                    <a:lnTo>
                      <a:pt x="611" y="822"/>
                    </a:lnTo>
                    <a:lnTo>
                      <a:pt x="615" y="846"/>
                    </a:lnTo>
                    <a:lnTo>
                      <a:pt x="619" y="866"/>
                    </a:lnTo>
                    <a:lnTo>
                      <a:pt x="623" y="891"/>
                    </a:lnTo>
                    <a:lnTo>
                      <a:pt x="623" y="911"/>
                    </a:lnTo>
                    <a:lnTo>
                      <a:pt x="623" y="935"/>
                    </a:lnTo>
                    <a:lnTo>
                      <a:pt x="603" y="927"/>
                    </a:lnTo>
                    <a:lnTo>
                      <a:pt x="587" y="915"/>
                    </a:lnTo>
                    <a:lnTo>
                      <a:pt x="571" y="903"/>
                    </a:lnTo>
                    <a:lnTo>
                      <a:pt x="555" y="891"/>
                    </a:lnTo>
                    <a:lnTo>
                      <a:pt x="539" y="878"/>
                    </a:lnTo>
                    <a:lnTo>
                      <a:pt x="523" y="866"/>
                    </a:lnTo>
                    <a:lnTo>
                      <a:pt x="507" y="858"/>
                    </a:lnTo>
                    <a:lnTo>
                      <a:pt x="487" y="850"/>
                    </a:lnTo>
                    <a:lnTo>
                      <a:pt x="474" y="838"/>
                    </a:lnTo>
                    <a:lnTo>
                      <a:pt x="462" y="830"/>
                    </a:lnTo>
                    <a:lnTo>
                      <a:pt x="450" y="814"/>
                    </a:lnTo>
                    <a:lnTo>
                      <a:pt x="438" y="802"/>
                    </a:lnTo>
                    <a:lnTo>
                      <a:pt x="426" y="790"/>
                    </a:lnTo>
                    <a:lnTo>
                      <a:pt x="418" y="774"/>
                    </a:lnTo>
                    <a:lnTo>
                      <a:pt x="406" y="762"/>
                    </a:lnTo>
                    <a:lnTo>
                      <a:pt x="398" y="750"/>
                    </a:lnTo>
                    <a:lnTo>
                      <a:pt x="342" y="709"/>
                    </a:lnTo>
                    <a:lnTo>
                      <a:pt x="286" y="673"/>
                    </a:lnTo>
                    <a:lnTo>
                      <a:pt x="229" y="629"/>
                    </a:lnTo>
                    <a:lnTo>
                      <a:pt x="177" y="584"/>
                    </a:lnTo>
                    <a:lnTo>
                      <a:pt x="157" y="560"/>
                    </a:lnTo>
                    <a:lnTo>
                      <a:pt x="133" y="536"/>
                    </a:lnTo>
                    <a:lnTo>
                      <a:pt x="113" y="512"/>
                    </a:lnTo>
                    <a:lnTo>
                      <a:pt x="93" y="484"/>
                    </a:lnTo>
                    <a:lnTo>
                      <a:pt x="76" y="455"/>
                    </a:lnTo>
                    <a:lnTo>
                      <a:pt x="60" y="423"/>
                    </a:lnTo>
                    <a:lnTo>
                      <a:pt x="48" y="391"/>
                    </a:lnTo>
                    <a:lnTo>
                      <a:pt x="40" y="359"/>
                    </a:lnTo>
                    <a:lnTo>
                      <a:pt x="32" y="347"/>
                    </a:lnTo>
                    <a:lnTo>
                      <a:pt x="24" y="330"/>
                    </a:lnTo>
                    <a:lnTo>
                      <a:pt x="20" y="314"/>
                    </a:lnTo>
                    <a:lnTo>
                      <a:pt x="16" y="298"/>
                    </a:lnTo>
                    <a:lnTo>
                      <a:pt x="16" y="282"/>
                    </a:lnTo>
                    <a:lnTo>
                      <a:pt x="12" y="266"/>
                    </a:lnTo>
                    <a:lnTo>
                      <a:pt x="8" y="250"/>
                    </a:lnTo>
                    <a:lnTo>
                      <a:pt x="4" y="238"/>
                    </a:lnTo>
                    <a:lnTo>
                      <a:pt x="4" y="206"/>
                    </a:lnTo>
                    <a:lnTo>
                      <a:pt x="4" y="177"/>
                    </a:lnTo>
                    <a:lnTo>
                      <a:pt x="0" y="149"/>
                    </a:lnTo>
                    <a:lnTo>
                      <a:pt x="0" y="117"/>
                    </a:lnTo>
                    <a:lnTo>
                      <a:pt x="0" y="89"/>
                    </a:lnTo>
                    <a:lnTo>
                      <a:pt x="4" y="60"/>
                    </a:lnTo>
                    <a:lnTo>
                      <a:pt x="8" y="28"/>
                    </a:lnTo>
                    <a:lnTo>
                      <a:pt x="16" y="0"/>
                    </a:lnTo>
                    <a:lnTo>
                      <a:pt x="28" y="8"/>
                    </a:lnTo>
                    <a:lnTo>
                      <a:pt x="40" y="16"/>
                    </a:lnTo>
                    <a:lnTo>
                      <a:pt x="52" y="24"/>
                    </a:lnTo>
                    <a:lnTo>
                      <a:pt x="60" y="36"/>
                    </a:lnTo>
                    <a:lnTo>
                      <a:pt x="72" y="48"/>
                    </a:lnTo>
                    <a:lnTo>
                      <a:pt x="80" y="60"/>
                    </a:lnTo>
                    <a:lnTo>
                      <a:pt x="88" y="73"/>
                    </a:lnTo>
                    <a:lnTo>
                      <a:pt x="101" y="89"/>
                    </a:lnTo>
                    <a:close/>
                  </a:path>
                </a:pathLst>
              </a:custGeom>
              <a:solidFill>
                <a:srgbClr val="c48c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5243040" y="2706480"/>
                <a:ext cx="101520" cy="43920"/>
              </a:xfrm>
              <a:custGeom>
                <a:avLst/>
                <a:gdLst/>
                <a:ahLst/>
                <a:rect l="l" t="t" r="r" b="b"/>
                <a:pathLst>
                  <a:path w="474" h="193">
                    <a:moveTo>
                      <a:pt x="474" y="137"/>
                    </a:moveTo>
                    <a:lnTo>
                      <a:pt x="466" y="145"/>
                    </a:lnTo>
                    <a:lnTo>
                      <a:pt x="462" y="149"/>
                    </a:lnTo>
                    <a:lnTo>
                      <a:pt x="454" y="153"/>
                    </a:lnTo>
                    <a:lnTo>
                      <a:pt x="446" y="157"/>
                    </a:lnTo>
                    <a:lnTo>
                      <a:pt x="438" y="157"/>
                    </a:lnTo>
                    <a:lnTo>
                      <a:pt x="426" y="161"/>
                    </a:lnTo>
                    <a:lnTo>
                      <a:pt x="418" y="165"/>
                    </a:lnTo>
                    <a:lnTo>
                      <a:pt x="414" y="169"/>
                    </a:lnTo>
                    <a:lnTo>
                      <a:pt x="390" y="181"/>
                    </a:lnTo>
                    <a:lnTo>
                      <a:pt x="366" y="189"/>
                    </a:lnTo>
                    <a:lnTo>
                      <a:pt x="346" y="193"/>
                    </a:lnTo>
                    <a:lnTo>
                      <a:pt x="321" y="193"/>
                    </a:lnTo>
                    <a:lnTo>
                      <a:pt x="281" y="189"/>
                    </a:lnTo>
                    <a:lnTo>
                      <a:pt x="241" y="181"/>
                    </a:lnTo>
                    <a:lnTo>
                      <a:pt x="201" y="169"/>
                    </a:lnTo>
                    <a:lnTo>
                      <a:pt x="161" y="153"/>
                    </a:lnTo>
                    <a:lnTo>
                      <a:pt x="120" y="137"/>
                    </a:lnTo>
                    <a:lnTo>
                      <a:pt x="76" y="124"/>
                    </a:lnTo>
                    <a:lnTo>
                      <a:pt x="64" y="116"/>
                    </a:lnTo>
                    <a:lnTo>
                      <a:pt x="56" y="112"/>
                    </a:lnTo>
                    <a:lnTo>
                      <a:pt x="44" y="104"/>
                    </a:lnTo>
                    <a:lnTo>
                      <a:pt x="32" y="100"/>
                    </a:lnTo>
                    <a:lnTo>
                      <a:pt x="20" y="92"/>
                    </a:lnTo>
                    <a:lnTo>
                      <a:pt x="12" y="84"/>
                    </a:lnTo>
                    <a:lnTo>
                      <a:pt x="4" y="80"/>
                    </a:lnTo>
                    <a:lnTo>
                      <a:pt x="0" y="72"/>
                    </a:lnTo>
                    <a:lnTo>
                      <a:pt x="12" y="76"/>
                    </a:lnTo>
                    <a:lnTo>
                      <a:pt x="24" y="80"/>
                    </a:lnTo>
                    <a:lnTo>
                      <a:pt x="36" y="80"/>
                    </a:lnTo>
                    <a:lnTo>
                      <a:pt x="48" y="84"/>
                    </a:lnTo>
                    <a:lnTo>
                      <a:pt x="60" y="84"/>
                    </a:lnTo>
                    <a:lnTo>
                      <a:pt x="72" y="88"/>
                    </a:lnTo>
                    <a:lnTo>
                      <a:pt x="84" y="88"/>
                    </a:lnTo>
                    <a:lnTo>
                      <a:pt x="96" y="92"/>
                    </a:lnTo>
                    <a:lnTo>
                      <a:pt x="100" y="88"/>
                    </a:lnTo>
                    <a:lnTo>
                      <a:pt x="108" y="84"/>
                    </a:lnTo>
                    <a:lnTo>
                      <a:pt x="112" y="84"/>
                    </a:lnTo>
                    <a:lnTo>
                      <a:pt x="116" y="88"/>
                    </a:lnTo>
                    <a:lnTo>
                      <a:pt x="124" y="88"/>
                    </a:lnTo>
                    <a:lnTo>
                      <a:pt x="128" y="88"/>
                    </a:lnTo>
                    <a:lnTo>
                      <a:pt x="136" y="88"/>
                    </a:lnTo>
                    <a:lnTo>
                      <a:pt x="140" y="84"/>
                    </a:lnTo>
                    <a:lnTo>
                      <a:pt x="165" y="76"/>
                    </a:lnTo>
                    <a:lnTo>
                      <a:pt x="189" y="68"/>
                    </a:lnTo>
                    <a:lnTo>
                      <a:pt x="213" y="60"/>
                    </a:lnTo>
                    <a:lnTo>
                      <a:pt x="241" y="56"/>
                    </a:lnTo>
                    <a:lnTo>
                      <a:pt x="265" y="48"/>
                    </a:lnTo>
                    <a:lnTo>
                      <a:pt x="285" y="36"/>
                    </a:lnTo>
                    <a:lnTo>
                      <a:pt x="309" y="20"/>
                    </a:lnTo>
                    <a:lnTo>
                      <a:pt x="325" y="0"/>
                    </a:lnTo>
                    <a:lnTo>
                      <a:pt x="346" y="16"/>
                    </a:lnTo>
                    <a:lnTo>
                      <a:pt x="366" y="32"/>
                    </a:lnTo>
                    <a:lnTo>
                      <a:pt x="382" y="48"/>
                    </a:lnTo>
                    <a:lnTo>
                      <a:pt x="398" y="68"/>
                    </a:lnTo>
                    <a:lnTo>
                      <a:pt x="414" y="88"/>
                    </a:lnTo>
                    <a:lnTo>
                      <a:pt x="434" y="104"/>
                    </a:lnTo>
                    <a:lnTo>
                      <a:pt x="454" y="120"/>
                    </a:lnTo>
                    <a:lnTo>
                      <a:pt x="474" y="137"/>
                    </a:lnTo>
                    <a:close/>
                  </a:path>
                </a:pathLst>
              </a:custGeom>
              <a:solidFill>
                <a:srgbClr val="ccad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4268520" y="3013920"/>
                <a:ext cx="86040" cy="36360"/>
              </a:xfrm>
              <a:custGeom>
                <a:avLst/>
                <a:gdLst/>
                <a:ahLst/>
                <a:rect l="l" t="t" r="r" b="b"/>
                <a:pathLst>
                  <a:path w="402" h="161">
                    <a:moveTo>
                      <a:pt x="386" y="96"/>
                    </a:moveTo>
                    <a:lnTo>
                      <a:pt x="386" y="100"/>
                    </a:lnTo>
                    <a:lnTo>
                      <a:pt x="390" y="104"/>
                    </a:lnTo>
                    <a:lnTo>
                      <a:pt x="394" y="108"/>
                    </a:lnTo>
                    <a:lnTo>
                      <a:pt x="394" y="116"/>
                    </a:lnTo>
                    <a:lnTo>
                      <a:pt x="398" y="120"/>
                    </a:lnTo>
                    <a:lnTo>
                      <a:pt x="398" y="124"/>
                    </a:lnTo>
                    <a:lnTo>
                      <a:pt x="402" y="128"/>
                    </a:lnTo>
                    <a:lnTo>
                      <a:pt x="398" y="137"/>
                    </a:lnTo>
                    <a:lnTo>
                      <a:pt x="366" y="137"/>
                    </a:lnTo>
                    <a:lnTo>
                      <a:pt x="326" y="141"/>
                    </a:lnTo>
                    <a:lnTo>
                      <a:pt x="290" y="149"/>
                    </a:lnTo>
                    <a:lnTo>
                      <a:pt x="249" y="157"/>
                    </a:lnTo>
                    <a:lnTo>
                      <a:pt x="209" y="161"/>
                    </a:lnTo>
                    <a:lnTo>
                      <a:pt x="169" y="157"/>
                    </a:lnTo>
                    <a:lnTo>
                      <a:pt x="153" y="153"/>
                    </a:lnTo>
                    <a:lnTo>
                      <a:pt x="133" y="145"/>
                    </a:lnTo>
                    <a:lnTo>
                      <a:pt x="117" y="133"/>
                    </a:lnTo>
                    <a:lnTo>
                      <a:pt x="101" y="116"/>
                    </a:lnTo>
                    <a:lnTo>
                      <a:pt x="89" y="104"/>
                    </a:lnTo>
                    <a:lnTo>
                      <a:pt x="73" y="96"/>
                    </a:lnTo>
                    <a:lnTo>
                      <a:pt x="60" y="84"/>
                    </a:lnTo>
                    <a:lnTo>
                      <a:pt x="44" y="76"/>
                    </a:lnTo>
                    <a:lnTo>
                      <a:pt x="32" y="64"/>
                    </a:lnTo>
                    <a:lnTo>
                      <a:pt x="20" y="52"/>
                    </a:lnTo>
                    <a:lnTo>
                      <a:pt x="8" y="40"/>
                    </a:lnTo>
                    <a:lnTo>
                      <a:pt x="0" y="24"/>
                    </a:lnTo>
                    <a:lnTo>
                      <a:pt x="4" y="20"/>
                    </a:lnTo>
                    <a:lnTo>
                      <a:pt x="12" y="24"/>
                    </a:lnTo>
                    <a:lnTo>
                      <a:pt x="20" y="24"/>
                    </a:lnTo>
                    <a:lnTo>
                      <a:pt x="28" y="28"/>
                    </a:lnTo>
                    <a:lnTo>
                      <a:pt x="36" y="32"/>
                    </a:lnTo>
                    <a:lnTo>
                      <a:pt x="44" y="32"/>
                    </a:lnTo>
                    <a:lnTo>
                      <a:pt x="52" y="32"/>
                    </a:lnTo>
                    <a:lnTo>
                      <a:pt x="60" y="24"/>
                    </a:lnTo>
                    <a:lnTo>
                      <a:pt x="89" y="24"/>
                    </a:lnTo>
                    <a:lnTo>
                      <a:pt x="117" y="24"/>
                    </a:lnTo>
                    <a:lnTo>
                      <a:pt x="145" y="24"/>
                    </a:lnTo>
                    <a:lnTo>
                      <a:pt x="177" y="24"/>
                    </a:lnTo>
                    <a:lnTo>
                      <a:pt x="205" y="20"/>
                    </a:lnTo>
                    <a:lnTo>
                      <a:pt x="233" y="16"/>
                    </a:lnTo>
                    <a:lnTo>
                      <a:pt x="262" y="8"/>
                    </a:lnTo>
                    <a:lnTo>
                      <a:pt x="286" y="0"/>
                    </a:lnTo>
                    <a:lnTo>
                      <a:pt x="302" y="8"/>
                    </a:lnTo>
                    <a:lnTo>
                      <a:pt x="318" y="16"/>
                    </a:lnTo>
                    <a:lnTo>
                      <a:pt x="330" y="28"/>
                    </a:lnTo>
                    <a:lnTo>
                      <a:pt x="338" y="40"/>
                    </a:lnTo>
                    <a:lnTo>
                      <a:pt x="350" y="56"/>
                    </a:lnTo>
                    <a:lnTo>
                      <a:pt x="362" y="68"/>
                    </a:lnTo>
                    <a:lnTo>
                      <a:pt x="374" y="80"/>
                    </a:lnTo>
                    <a:lnTo>
                      <a:pt x="386" y="96"/>
                    </a:lnTo>
                    <a:close/>
                  </a:path>
                </a:pathLst>
              </a:custGeom>
              <a:solidFill>
                <a:srgbClr val="ccad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4829400" y="1598040"/>
                <a:ext cx="177120" cy="79560"/>
              </a:xfrm>
              <a:custGeom>
                <a:avLst/>
                <a:gdLst/>
                <a:ahLst/>
                <a:rect l="l" t="t" r="r" b="b"/>
                <a:pathLst>
                  <a:path w="828" h="351">
                    <a:moveTo>
                      <a:pt x="237" y="37"/>
                    </a:moveTo>
                    <a:lnTo>
                      <a:pt x="543" y="0"/>
                    </a:lnTo>
                    <a:lnTo>
                      <a:pt x="563" y="13"/>
                    </a:lnTo>
                    <a:lnTo>
                      <a:pt x="567" y="21"/>
                    </a:lnTo>
                    <a:lnTo>
                      <a:pt x="575" y="29"/>
                    </a:lnTo>
                    <a:lnTo>
                      <a:pt x="583" y="41"/>
                    </a:lnTo>
                    <a:lnTo>
                      <a:pt x="591" y="49"/>
                    </a:lnTo>
                    <a:lnTo>
                      <a:pt x="599" y="57"/>
                    </a:lnTo>
                    <a:lnTo>
                      <a:pt x="607" y="65"/>
                    </a:lnTo>
                    <a:lnTo>
                      <a:pt x="615" y="73"/>
                    </a:lnTo>
                    <a:lnTo>
                      <a:pt x="615" y="81"/>
                    </a:lnTo>
                    <a:lnTo>
                      <a:pt x="635" y="77"/>
                    </a:lnTo>
                    <a:lnTo>
                      <a:pt x="655" y="77"/>
                    </a:lnTo>
                    <a:lnTo>
                      <a:pt x="659" y="81"/>
                    </a:lnTo>
                    <a:lnTo>
                      <a:pt x="671" y="89"/>
                    </a:lnTo>
                    <a:lnTo>
                      <a:pt x="683" y="97"/>
                    </a:lnTo>
                    <a:lnTo>
                      <a:pt x="699" y="101"/>
                    </a:lnTo>
                    <a:lnTo>
                      <a:pt x="719" y="109"/>
                    </a:lnTo>
                    <a:lnTo>
                      <a:pt x="736" y="113"/>
                    </a:lnTo>
                    <a:lnTo>
                      <a:pt x="752" y="113"/>
                    </a:lnTo>
                    <a:lnTo>
                      <a:pt x="760" y="113"/>
                    </a:lnTo>
                    <a:lnTo>
                      <a:pt x="764" y="121"/>
                    </a:lnTo>
                    <a:lnTo>
                      <a:pt x="772" y="129"/>
                    </a:lnTo>
                    <a:lnTo>
                      <a:pt x="784" y="138"/>
                    </a:lnTo>
                    <a:lnTo>
                      <a:pt x="796" y="146"/>
                    </a:lnTo>
                    <a:lnTo>
                      <a:pt x="808" y="150"/>
                    </a:lnTo>
                    <a:lnTo>
                      <a:pt x="816" y="154"/>
                    </a:lnTo>
                    <a:lnTo>
                      <a:pt x="824" y="158"/>
                    </a:lnTo>
                    <a:lnTo>
                      <a:pt x="828" y="162"/>
                    </a:lnTo>
                    <a:lnTo>
                      <a:pt x="752" y="174"/>
                    </a:lnTo>
                    <a:lnTo>
                      <a:pt x="748" y="166"/>
                    </a:lnTo>
                    <a:lnTo>
                      <a:pt x="736" y="162"/>
                    </a:lnTo>
                    <a:lnTo>
                      <a:pt x="723" y="154"/>
                    </a:lnTo>
                    <a:lnTo>
                      <a:pt x="703" y="146"/>
                    </a:lnTo>
                    <a:lnTo>
                      <a:pt x="687" y="142"/>
                    </a:lnTo>
                    <a:lnTo>
                      <a:pt x="671" y="138"/>
                    </a:lnTo>
                    <a:lnTo>
                      <a:pt x="655" y="138"/>
                    </a:lnTo>
                    <a:lnTo>
                      <a:pt x="647" y="138"/>
                    </a:lnTo>
                    <a:lnTo>
                      <a:pt x="655" y="194"/>
                    </a:lnTo>
                    <a:lnTo>
                      <a:pt x="643" y="214"/>
                    </a:lnTo>
                    <a:lnTo>
                      <a:pt x="567" y="230"/>
                    </a:lnTo>
                    <a:lnTo>
                      <a:pt x="559" y="222"/>
                    </a:lnTo>
                    <a:lnTo>
                      <a:pt x="547" y="214"/>
                    </a:lnTo>
                    <a:lnTo>
                      <a:pt x="534" y="210"/>
                    </a:lnTo>
                    <a:lnTo>
                      <a:pt x="522" y="202"/>
                    </a:lnTo>
                    <a:lnTo>
                      <a:pt x="510" y="194"/>
                    </a:lnTo>
                    <a:lnTo>
                      <a:pt x="498" y="190"/>
                    </a:lnTo>
                    <a:lnTo>
                      <a:pt x="486" y="186"/>
                    </a:lnTo>
                    <a:lnTo>
                      <a:pt x="478" y="186"/>
                    </a:lnTo>
                    <a:lnTo>
                      <a:pt x="482" y="194"/>
                    </a:lnTo>
                    <a:lnTo>
                      <a:pt x="478" y="202"/>
                    </a:lnTo>
                    <a:lnTo>
                      <a:pt x="478" y="210"/>
                    </a:lnTo>
                    <a:lnTo>
                      <a:pt x="474" y="218"/>
                    </a:lnTo>
                    <a:lnTo>
                      <a:pt x="474" y="226"/>
                    </a:lnTo>
                    <a:lnTo>
                      <a:pt x="470" y="234"/>
                    </a:lnTo>
                    <a:lnTo>
                      <a:pt x="470" y="238"/>
                    </a:lnTo>
                    <a:lnTo>
                      <a:pt x="470" y="246"/>
                    </a:lnTo>
                    <a:lnTo>
                      <a:pt x="458" y="246"/>
                    </a:lnTo>
                    <a:lnTo>
                      <a:pt x="438" y="246"/>
                    </a:lnTo>
                    <a:lnTo>
                      <a:pt x="422" y="238"/>
                    </a:lnTo>
                    <a:lnTo>
                      <a:pt x="402" y="230"/>
                    </a:lnTo>
                    <a:lnTo>
                      <a:pt x="382" y="226"/>
                    </a:lnTo>
                    <a:lnTo>
                      <a:pt x="362" y="218"/>
                    </a:lnTo>
                    <a:lnTo>
                      <a:pt x="346" y="214"/>
                    </a:lnTo>
                    <a:lnTo>
                      <a:pt x="329" y="214"/>
                    </a:lnTo>
                    <a:lnTo>
                      <a:pt x="321" y="226"/>
                    </a:lnTo>
                    <a:lnTo>
                      <a:pt x="313" y="246"/>
                    </a:lnTo>
                    <a:lnTo>
                      <a:pt x="301" y="266"/>
                    </a:lnTo>
                    <a:lnTo>
                      <a:pt x="293" y="291"/>
                    </a:lnTo>
                    <a:lnTo>
                      <a:pt x="277" y="311"/>
                    </a:lnTo>
                    <a:lnTo>
                      <a:pt x="265" y="331"/>
                    </a:lnTo>
                    <a:lnTo>
                      <a:pt x="253" y="343"/>
                    </a:lnTo>
                    <a:lnTo>
                      <a:pt x="237" y="351"/>
                    </a:lnTo>
                    <a:lnTo>
                      <a:pt x="233" y="335"/>
                    </a:lnTo>
                    <a:lnTo>
                      <a:pt x="221" y="319"/>
                    </a:lnTo>
                    <a:lnTo>
                      <a:pt x="209" y="299"/>
                    </a:lnTo>
                    <a:lnTo>
                      <a:pt x="193" y="279"/>
                    </a:lnTo>
                    <a:lnTo>
                      <a:pt x="181" y="258"/>
                    </a:lnTo>
                    <a:lnTo>
                      <a:pt x="165" y="234"/>
                    </a:lnTo>
                    <a:lnTo>
                      <a:pt x="157" y="214"/>
                    </a:lnTo>
                    <a:lnTo>
                      <a:pt x="148" y="190"/>
                    </a:lnTo>
                    <a:lnTo>
                      <a:pt x="132" y="194"/>
                    </a:lnTo>
                    <a:lnTo>
                      <a:pt x="116" y="202"/>
                    </a:lnTo>
                    <a:lnTo>
                      <a:pt x="96" y="206"/>
                    </a:lnTo>
                    <a:lnTo>
                      <a:pt x="76" y="214"/>
                    </a:lnTo>
                    <a:lnTo>
                      <a:pt x="56" y="222"/>
                    </a:lnTo>
                    <a:lnTo>
                      <a:pt x="36" y="230"/>
                    </a:lnTo>
                    <a:lnTo>
                      <a:pt x="16" y="234"/>
                    </a:lnTo>
                    <a:lnTo>
                      <a:pt x="0" y="238"/>
                    </a:lnTo>
                    <a:lnTo>
                      <a:pt x="0" y="230"/>
                    </a:lnTo>
                    <a:lnTo>
                      <a:pt x="0" y="222"/>
                    </a:lnTo>
                    <a:lnTo>
                      <a:pt x="4" y="210"/>
                    </a:lnTo>
                    <a:lnTo>
                      <a:pt x="4" y="198"/>
                    </a:lnTo>
                    <a:lnTo>
                      <a:pt x="4" y="190"/>
                    </a:lnTo>
                    <a:lnTo>
                      <a:pt x="8" y="178"/>
                    </a:lnTo>
                    <a:lnTo>
                      <a:pt x="8" y="166"/>
                    </a:lnTo>
                    <a:lnTo>
                      <a:pt x="4" y="158"/>
                    </a:lnTo>
                    <a:lnTo>
                      <a:pt x="16" y="158"/>
                    </a:lnTo>
                    <a:lnTo>
                      <a:pt x="32" y="150"/>
                    </a:lnTo>
                    <a:lnTo>
                      <a:pt x="48" y="142"/>
                    </a:lnTo>
                    <a:lnTo>
                      <a:pt x="68" y="133"/>
                    </a:lnTo>
                    <a:lnTo>
                      <a:pt x="84" y="125"/>
                    </a:lnTo>
                    <a:lnTo>
                      <a:pt x="100" y="125"/>
                    </a:lnTo>
                    <a:lnTo>
                      <a:pt x="108" y="125"/>
                    </a:lnTo>
                    <a:lnTo>
                      <a:pt x="112" y="129"/>
                    </a:lnTo>
                    <a:lnTo>
                      <a:pt x="116" y="133"/>
                    </a:lnTo>
                    <a:lnTo>
                      <a:pt x="120" y="138"/>
                    </a:lnTo>
                    <a:lnTo>
                      <a:pt x="197" y="25"/>
                    </a:lnTo>
                    <a:lnTo>
                      <a:pt x="201" y="25"/>
                    </a:lnTo>
                    <a:lnTo>
                      <a:pt x="209" y="25"/>
                    </a:lnTo>
                    <a:lnTo>
                      <a:pt x="217" y="29"/>
                    </a:lnTo>
                    <a:lnTo>
                      <a:pt x="225" y="33"/>
                    </a:lnTo>
                    <a:lnTo>
                      <a:pt x="229" y="37"/>
                    </a:lnTo>
                    <a:lnTo>
                      <a:pt x="233" y="45"/>
                    </a:lnTo>
                    <a:lnTo>
                      <a:pt x="237" y="49"/>
                    </a:lnTo>
                    <a:lnTo>
                      <a:pt x="241" y="57"/>
                    </a:lnTo>
                    <a:lnTo>
                      <a:pt x="237" y="37"/>
                    </a:lnTo>
                    <a:close/>
                  </a:path>
                </a:pathLst>
              </a:custGeom>
              <a:solidFill>
                <a:srgbClr val="f5c2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3341880" y="2012400"/>
                <a:ext cx="89280" cy="243000"/>
              </a:xfrm>
              <a:custGeom>
                <a:avLst/>
                <a:gdLst/>
                <a:ahLst/>
                <a:rect l="l" t="t" r="r" b="b"/>
                <a:pathLst>
                  <a:path w="418" h="1068">
                    <a:moveTo>
                      <a:pt x="60" y="713"/>
                    </a:moveTo>
                    <a:lnTo>
                      <a:pt x="52" y="677"/>
                    </a:lnTo>
                    <a:lnTo>
                      <a:pt x="40" y="645"/>
                    </a:lnTo>
                    <a:lnTo>
                      <a:pt x="32" y="617"/>
                    </a:lnTo>
                    <a:lnTo>
                      <a:pt x="24" y="588"/>
                    </a:lnTo>
                    <a:lnTo>
                      <a:pt x="16" y="556"/>
                    </a:lnTo>
                    <a:lnTo>
                      <a:pt x="8" y="528"/>
                    </a:lnTo>
                    <a:lnTo>
                      <a:pt x="4" y="496"/>
                    </a:lnTo>
                    <a:lnTo>
                      <a:pt x="0" y="463"/>
                    </a:lnTo>
                    <a:lnTo>
                      <a:pt x="76" y="463"/>
                    </a:lnTo>
                    <a:lnTo>
                      <a:pt x="80" y="399"/>
                    </a:lnTo>
                    <a:lnTo>
                      <a:pt x="76" y="338"/>
                    </a:lnTo>
                    <a:lnTo>
                      <a:pt x="68" y="278"/>
                    </a:lnTo>
                    <a:lnTo>
                      <a:pt x="56" y="222"/>
                    </a:lnTo>
                    <a:lnTo>
                      <a:pt x="44" y="169"/>
                    </a:lnTo>
                    <a:lnTo>
                      <a:pt x="32" y="113"/>
                    </a:lnTo>
                    <a:lnTo>
                      <a:pt x="24" y="56"/>
                    </a:lnTo>
                    <a:lnTo>
                      <a:pt x="20" y="0"/>
                    </a:lnTo>
                    <a:lnTo>
                      <a:pt x="68" y="56"/>
                    </a:lnTo>
                    <a:lnTo>
                      <a:pt x="124" y="133"/>
                    </a:lnTo>
                    <a:lnTo>
                      <a:pt x="185" y="226"/>
                    </a:lnTo>
                    <a:lnTo>
                      <a:pt x="245" y="334"/>
                    </a:lnTo>
                    <a:lnTo>
                      <a:pt x="273" y="391"/>
                    </a:lnTo>
                    <a:lnTo>
                      <a:pt x="301" y="451"/>
                    </a:lnTo>
                    <a:lnTo>
                      <a:pt x="325" y="512"/>
                    </a:lnTo>
                    <a:lnTo>
                      <a:pt x="350" y="572"/>
                    </a:lnTo>
                    <a:lnTo>
                      <a:pt x="374" y="637"/>
                    </a:lnTo>
                    <a:lnTo>
                      <a:pt x="390" y="697"/>
                    </a:lnTo>
                    <a:lnTo>
                      <a:pt x="406" y="762"/>
                    </a:lnTo>
                    <a:lnTo>
                      <a:pt x="418" y="822"/>
                    </a:lnTo>
                    <a:lnTo>
                      <a:pt x="418" y="854"/>
                    </a:lnTo>
                    <a:lnTo>
                      <a:pt x="414" y="887"/>
                    </a:lnTo>
                    <a:lnTo>
                      <a:pt x="414" y="915"/>
                    </a:lnTo>
                    <a:lnTo>
                      <a:pt x="414" y="947"/>
                    </a:lnTo>
                    <a:lnTo>
                      <a:pt x="414" y="975"/>
                    </a:lnTo>
                    <a:lnTo>
                      <a:pt x="410" y="1007"/>
                    </a:lnTo>
                    <a:lnTo>
                      <a:pt x="410" y="1036"/>
                    </a:lnTo>
                    <a:lnTo>
                      <a:pt x="410" y="1068"/>
                    </a:lnTo>
                    <a:lnTo>
                      <a:pt x="390" y="1044"/>
                    </a:lnTo>
                    <a:lnTo>
                      <a:pt x="374" y="1020"/>
                    </a:lnTo>
                    <a:lnTo>
                      <a:pt x="362" y="991"/>
                    </a:lnTo>
                    <a:lnTo>
                      <a:pt x="350" y="959"/>
                    </a:lnTo>
                    <a:lnTo>
                      <a:pt x="337" y="927"/>
                    </a:lnTo>
                    <a:lnTo>
                      <a:pt x="329" y="899"/>
                    </a:lnTo>
                    <a:lnTo>
                      <a:pt x="317" y="866"/>
                    </a:lnTo>
                    <a:lnTo>
                      <a:pt x="305" y="838"/>
                    </a:lnTo>
                    <a:lnTo>
                      <a:pt x="301" y="834"/>
                    </a:lnTo>
                    <a:lnTo>
                      <a:pt x="297" y="830"/>
                    </a:lnTo>
                    <a:lnTo>
                      <a:pt x="293" y="830"/>
                    </a:lnTo>
                    <a:lnTo>
                      <a:pt x="289" y="826"/>
                    </a:lnTo>
                    <a:lnTo>
                      <a:pt x="281" y="826"/>
                    </a:lnTo>
                    <a:lnTo>
                      <a:pt x="277" y="830"/>
                    </a:lnTo>
                    <a:lnTo>
                      <a:pt x="273" y="830"/>
                    </a:lnTo>
                    <a:lnTo>
                      <a:pt x="269" y="834"/>
                    </a:lnTo>
                    <a:lnTo>
                      <a:pt x="261" y="842"/>
                    </a:lnTo>
                    <a:lnTo>
                      <a:pt x="257" y="854"/>
                    </a:lnTo>
                    <a:lnTo>
                      <a:pt x="253" y="862"/>
                    </a:lnTo>
                    <a:lnTo>
                      <a:pt x="249" y="874"/>
                    </a:lnTo>
                    <a:lnTo>
                      <a:pt x="249" y="887"/>
                    </a:lnTo>
                    <a:lnTo>
                      <a:pt x="245" y="899"/>
                    </a:lnTo>
                    <a:lnTo>
                      <a:pt x="245" y="911"/>
                    </a:lnTo>
                    <a:lnTo>
                      <a:pt x="245" y="923"/>
                    </a:lnTo>
                    <a:lnTo>
                      <a:pt x="237" y="907"/>
                    </a:lnTo>
                    <a:lnTo>
                      <a:pt x="229" y="887"/>
                    </a:lnTo>
                    <a:lnTo>
                      <a:pt x="221" y="866"/>
                    </a:lnTo>
                    <a:lnTo>
                      <a:pt x="213" y="850"/>
                    </a:lnTo>
                    <a:lnTo>
                      <a:pt x="205" y="830"/>
                    </a:lnTo>
                    <a:lnTo>
                      <a:pt x="193" y="814"/>
                    </a:lnTo>
                    <a:lnTo>
                      <a:pt x="181" y="798"/>
                    </a:lnTo>
                    <a:lnTo>
                      <a:pt x="165" y="786"/>
                    </a:lnTo>
                    <a:lnTo>
                      <a:pt x="157" y="786"/>
                    </a:lnTo>
                    <a:lnTo>
                      <a:pt x="148" y="790"/>
                    </a:lnTo>
                    <a:lnTo>
                      <a:pt x="140" y="798"/>
                    </a:lnTo>
                    <a:lnTo>
                      <a:pt x="136" y="806"/>
                    </a:lnTo>
                    <a:lnTo>
                      <a:pt x="132" y="814"/>
                    </a:lnTo>
                    <a:lnTo>
                      <a:pt x="128" y="822"/>
                    </a:lnTo>
                    <a:lnTo>
                      <a:pt x="124" y="830"/>
                    </a:lnTo>
                    <a:lnTo>
                      <a:pt x="116" y="834"/>
                    </a:lnTo>
                    <a:lnTo>
                      <a:pt x="116" y="830"/>
                    </a:lnTo>
                    <a:lnTo>
                      <a:pt x="112" y="830"/>
                    </a:lnTo>
                    <a:lnTo>
                      <a:pt x="112" y="830"/>
                    </a:lnTo>
                    <a:lnTo>
                      <a:pt x="112" y="830"/>
                    </a:lnTo>
                    <a:lnTo>
                      <a:pt x="112" y="830"/>
                    </a:lnTo>
                    <a:lnTo>
                      <a:pt x="112" y="830"/>
                    </a:lnTo>
                    <a:lnTo>
                      <a:pt x="112" y="830"/>
                    </a:lnTo>
                    <a:lnTo>
                      <a:pt x="108" y="826"/>
                    </a:lnTo>
                    <a:lnTo>
                      <a:pt x="108" y="810"/>
                    </a:lnTo>
                    <a:lnTo>
                      <a:pt x="104" y="790"/>
                    </a:lnTo>
                    <a:lnTo>
                      <a:pt x="104" y="770"/>
                    </a:lnTo>
                    <a:lnTo>
                      <a:pt x="100" y="754"/>
                    </a:lnTo>
                    <a:lnTo>
                      <a:pt x="100" y="737"/>
                    </a:lnTo>
                    <a:lnTo>
                      <a:pt x="96" y="721"/>
                    </a:lnTo>
                    <a:lnTo>
                      <a:pt x="96" y="705"/>
                    </a:lnTo>
                    <a:lnTo>
                      <a:pt x="96" y="693"/>
                    </a:lnTo>
                    <a:lnTo>
                      <a:pt x="60" y="713"/>
                    </a:lnTo>
                    <a:close/>
                  </a:path>
                </a:pathLst>
              </a:custGeom>
              <a:solidFill>
                <a:srgbClr val="c48c5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3239280" y="1521000"/>
                <a:ext cx="382320" cy="218160"/>
              </a:xfrm>
              <a:custGeom>
                <a:avLst/>
                <a:gdLst/>
                <a:ahLst/>
                <a:rect l="l" t="t" r="r" b="b"/>
                <a:pathLst>
                  <a:path w="1785" h="959">
                    <a:moveTo>
                      <a:pt x="77" y="306"/>
                    </a:moveTo>
                    <a:lnTo>
                      <a:pt x="125" y="274"/>
                    </a:lnTo>
                    <a:lnTo>
                      <a:pt x="173" y="246"/>
                    </a:lnTo>
                    <a:lnTo>
                      <a:pt x="213" y="218"/>
                    </a:lnTo>
                    <a:lnTo>
                      <a:pt x="258" y="197"/>
                    </a:lnTo>
                    <a:lnTo>
                      <a:pt x="298" y="177"/>
                    </a:lnTo>
                    <a:lnTo>
                      <a:pt x="338" y="157"/>
                    </a:lnTo>
                    <a:lnTo>
                      <a:pt x="378" y="137"/>
                    </a:lnTo>
                    <a:lnTo>
                      <a:pt x="422" y="117"/>
                    </a:lnTo>
                    <a:lnTo>
                      <a:pt x="455" y="117"/>
                    </a:lnTo>
                    <a:lnTo>
                      <a:pt x="487" y="121"/>
                    </a:lnTo>
                    <a:lnTo>
                      <a:pt x="527" y="129"/>
                    </a:lnTo>
                    <a:lnTo>
                      <a:pt x="563" y="133"/>
                    </a:lnTo>
                    <a:lnTo>
                      <a:pt x="595" y="141"/>
                    </a:lnTo>
                    <a:lnTo>
                      <a:pt x="627" y="149"/>
                    </a:lnTo>
                    <a:lnTo>
                      <a:pt x="656" y="153"/>
                    </a:lnTo>
                    <a:lnTo>
                      <a:pt x="672" y="153"/>
                    </a:lnTo>
                    <a:lnTo>
                      <a:pt x="684" y="165"/>
                    </a:lnTo>
                    <a:lnTo>
                      <a:pt x="708" y="181"/>
                    </a:lnTo>
                    <a:lnTo>
                      <a:pt x="748" y="206"/>
                    </a:lnTo>
                    <a:lnTo>
                      <a:pt x="788" y="230"/>
                    </a:lnTo>
                    <a:lnTo>
                      <a:pt x="837" y="250"/>
                    </a:lnTo>
                    <a:lnTo>
                      <a:pt x="877" y="270"/>
                    </a:lnTo>
                    <a:lnTo>
                      <a:pt x="905" y="282"/>
                    </a:lnTo>
                    <a:lnTo>
                      <a:pt x="921" y="286"/>
                    </a:lnTo>
                    <a:lnTo>
                      <a:pt x="921" y="294"/>
                    </a:lnTo>
                    <a:lnTo>
                      <a:pt x="925" y="302"/>
                    </a:lnTo>
                    <a:lnTo>
                      <a:pt x="929" y="310"/>
                    </a:lnTo>
                    <a:lnTo>
                      <a:pt x="933" y="314"/>
                    </a:lnTo>
                    <a:lnTo>
                      <a:pt x="941" y="318"/>
                    </a:lnTo>
                    <a:lnTo>
                      <a:pt x="945" y="322"/>
                    </a:lnTo>
                    <a:lnTo>
                      <a:pt x="953" y="326"/>
                    </a:lnTo>
                    <a:lnTo>
                      <a:pt x="961" y="326"/>
                    </a:lnTo>
                    <a:lnTo>
                      <a:pt x="961" y="338"/>
                    </a:lnTo>
                    <a:lnTo>
                      <a:pt x="965" y="343"/>
                    </a:lnTo>
                    <a:lnTo>
                      <a:pt x="965" y="347"/>
                    </a:lnTo>
                    <a:lnTo>
                      <a:pt x="969" y="347"/>
                    </a:lnTo>
                    <a:lnTo>
                      <a:pt x="973" y="347"/>
                    </a:lnTo>
                    <a:lnTo>
                      <a:pt x="977" y="347"/>
                    </a:lnTo>
                    <a:lnTo>
                      <a:pt x="977" y="355"/>
                    </a:lnTo>
                    <a:lnTo>
                      <a:pt x="981" y="367"/>
                    </a:lnTo>
                    <a:lnTo>
                      <a:pt x="989" y="367"/>
                    </a:lnTo>
                    <a:lnTo>
                      <a:pt x="997" y="367"/>
                    </a:lnTo>
                    <a:lnTo>
                      <a:pt x="1005" y="371"/>
                    </a:lnTo>
                    <a:lnTo>
                      <a:pt x="1018" y="379"/>
                    </a:lnTo>
                    <a:lnTo>
                      <a:pt x="1026" y="383"/>
                    </a:lnTo>
                    <a:lnTo>
                      <a:pt x="1030" y="391"/>
                    </a:lnTo>
                    <a:lnTo>
                      <a:pt x="1038" y="395"/>
                    </a:lnTo>
                    <a:lnTo>
                      <a:pt x="1038" y="403"/>
                    </a:lnTo>
                    <a:lnTo>
                      <a:pt x="1094" y="423"/>
                    </a:lnTo>
                    <a:lnTo>
                      <a:pt x="1094" y="443"/>
                    </a:lnTo>
                    <a:lnTo>
                      <a:pt x="1098" y="443"/>
                    </a:lnTo>
                    <a:lnTo>
                      <a:pt x="1106" y="451"/>
                    </a:lnTo>
                    <a:lnTo>
                      <a:pt x="1122" y="459"/>
                    </a:lnTo>
                    <a:lnTo>
                      <a:pt x="1134" y="471"/>
                    </a:lnTo>
                    <a:lnTo>
                      <a:pt x="1150" y="484"/>
                    </a:lnTo>
                    <a:lnTo>
                      <a:pt x="1166" y="492"/>
                    </a:lnTo>
                    <a:lnTo>
                      <a:pt x="1182" y="496"/>
                    </a:lnTo>
                    <a:lnTo>
                      <a:pt x="1190" y="500"/>
                    </a:lnTo>
                    <a:lnTo>
                      <a:pt x="1211" y="520"/>
                    </a:lnTo>
                    <a:lnTo>
                      <a:pt x="1211" y="540"/>
                    </a:lnTo>
                    <a:lnTo>
                      <a:pt x="1231" y="556"/>
                    </a:lnTo>
                    <a:lnTo>
                      <a:pt x="1235" y="556"/>
                    </a:lnTo>
                    <a:lnTo>
                      <a:pt x="1239" y="560"/>
                    </a:lnTo>
                    <a:lnTo>
                      <a:pt x="1243" y="560"/>
                    </a:lnTo>
                    <a:lnTo>
                      <a:pt x="1251" y="564"/>
                    </a:lnTo>
                    <a:lnTo>
                      <a:pt x="1255" y="568"/>
                    </a:lnTo>
                    <a:lnTo>
                      <a:pt x="1263" y="568"/>
                    </a:lnTo>
                    <a:lnTo>
                      <a:pt x="1271" y="572"/>
                    </a:lnTo>
                    <a:lnTo>
                      <a:pt x="1275" y="576"/>
                    </a:lnTo>
                    <a:lnTo>
                      <a:pt x="1247" y="544"/>
                    </a:lnTo>
                    <a:lnTo>
                      <a:pt x="1215" y="516"/>
                    </a:lnTo>
                    <a:lnTo>
                      <a:pt x="1182" y="484"/>
                    </a:lnTo>
                    <a:lnTo>
                      <a:pt x="1154" y="455"/>
                    </a:lnTo>
                    <a:lnTo>
                      <a:pt x="1122" y="423"/>
                    </a:lnTo>
                    <a:lnTo>
                      <a:pt x="1090" y="395"/>
                    </a:lnTo>
                    <a:lnTo>
                      <a:pt x="1058" y="367"/>
                    </a:lnTo>
                    <a:lnTo>
                      <a:pt x="1022" y="338"/>
                    </a:lnTo>
                    <a:lnTo>
                      <a:pt x="981" y="298"/>
                    </a:lnTo>
                    <a:lnTo>
                      <a:pt x="941" y="258"/>
                    </a:lnTo>
                    <a:lnTo>
                      <a:pt x="901" y="218"/>
                    </a:lnTo>
                    <a:lnTo>
                      <a:pt x="857" y="177"/>
                    </a:lnTo>
                    <a:lnTo>
                      <a:pt x="812" y="141"/>
                    </a:lnTo>
                    <a:lnTo>
                      <a:pt x="768" y="105"/>
                    </a:lnTo>
                    <a:lnTo>
                      <a:pt x="720" y="77"/>
                    </a:lnTo>
                    <a:lnTo>
                      <a:pt x="672" y="48"/>
                    </a:lnTo>
                    <a:lnTo>
                      <a:pt x="644" y="40"/>
                    </a:lnTo>
                    <a:lnTo>
                      <a:pt x="615" y="32"/>
                    </a:lnTo>
                    <a:lnTo>
                      <a:pt x="591" y="24"/>
                    </a:lnTo>
                    <a:lnTo>
                      <a:pt x="563" y="16"/>
                    </a:lnTo>
                    <a:lnTo>
                      <a:pt x="539" y="8"/>
                    </a:lnTo>
                    <a:lnTo>
                      <a:pt x="511" y="4"/>
                    </a:lnTo>
                    <a:lnTo>
                      <a:pt x="483" y="0"/>
                    </a:lnTo>
                    <a:lnTo>
                      <a:pt x="459" y="0"/>
                    </a:lnTo>
                    <a:lnTo>
                      <a:pt x="430" y="4"/>
                    </a:lnTo>
                    <a:lnTo>
                      <a:pt x="406" y="8"/>
                    </a:lnTo>
                    <a:lnTo>
                      <a:pt x="382" y="16"/>
                    </a:lnTo>
                    <a:lnTo>
                      <a:pt x="358" y="24"/>
                    </a:lnTo>
                    <a:lnTo>
                      <a:pt x="334" y="36"/>
                    </a:lnTo>
                    <a:lnTo>
                      <a:pt x="310" y="48"/>
                    </a:lnTo>
                    <a:lnTo>
                      <a:pt x="286" y="60"/>
                    </a:lnTo>
                    <a:lnTo>
                      <a:pt x="266" y="73"/>
                    </a:lnTo>
                    <a:lnTo>
                      <a:pt x="237" y="85"/>
                    </a:lnTo>
                    <a:lnTo>
                      <a:pt x="209" y="97"/>
                    </a:lnTo>
                    <a:lnTo>
                      <a:pt x="181" y="113"/>
                    </a:lnTo>
                    <a:lnTo>
                      <a:pt x="153" y="133"/>
                    </a:lnTo>
                    <a:lnTo>
                      <a:pt x="129" y="153"/>
                    </a:lnTo>
                    <a:lnTo>
                      <a:pt x="105" y="177"/>
                    </a:lnTo>
                    <a:lnTo>
                      <a:pt x="85" y="201"/>
                    </a:lnTo>
                    <a:lnTo>
                      <a:pt x="69" y="230"/>
                    </a:lnTo>
                    <a:lnTo>
                      <a:pt x="44" y="290"/>
                    </a:lnTo>
                    <a:lnTo>
                      <a:pt x="28" y="347"/>
                    </a:lnTo>
                    <a:lnTo>
                      <a:pt x="16" y="407"/>
                    </a:lnTo>
                    <a:lnTo>
                      <a:pt x="4" y="471"/>
                    </a:lnTo>
                    <a:lnTo>
                      <a:pt x="0" y="532"/>
                    </a:lnTo>
                    <a:lnTo>
                      <a:pt x="0" y="596"/>
                    </a:lnTo>
                    <a:lnTo>
                      <a:pt x="4" y="657"/>
                    </a:lnTo>
                    <a:lnTo>
                      <a:pt x="8" y="721"/>
                    </a:lnTo>
                    <a:lnTo>
                      <a:pt x="16" y="713"/>
                    </a:lnTo>
                    <a:lnTo>
                      <a:pt x="20" y="709"/>
                    </a:lnTo>
                    <a:lnTo>
                      <a:pt x="24" y="705"/>
                    </a:lnTo>
                    <a:lnTo>
                      <a:pt x="28" y="697"/>
                    </a:lnTo>
                    <a:lnTo>
                      <a:pt x="32" y="693"/>
                    </a:lnTo>
                    <a:lnTo>
                      <a:pt x="36" y="685"/>
                    </a:lnTo>
                    <a:lnTo>
                      <a:pt x="36" y="681"/>
                    </a:lnTo>
                    <a:lnTo>
                      <a:pt x="36" y="673"/>
                    </a:lnTo>
                    <a:lnTo>
                      <a:pt x="48" y="673"/>
                    </a:lnTo>
                    <a:lnTo>
                      <a:pt x="57" y="669"/>
                    </a:lnTo>
                    <a:lnTo>
                      <a:pt x="57" y="669"/>
                    </a:lnTo>
                    <a:lnTo>
                      <a:pt x="57" y="665"/>
                    </a:lnTo>
                    <a:lnTo>
                      <a:pt x="57" y="661"/>
                    </a:lnTo>
                    <a:lnTo>
                      <a:pt x="61" y="657"/>
                    </a:lnTo>
                    <a:lnTo>
                      <a:pt x="65" y="653"/>
                    </a:lnTo>
                    <a:lnTo>
                      <a:pt x="77" y="653"/>
                    </a:lnTo>
                    <a:lnTo>
                      <a:pt x="97" y="306"/>
                    </a:lnTo>
                    <a:lnTo>
                      <a:pt x="105" y="306"/>
                    </a:lnTo>
                    <a:lnTo>
                      <a:pt x="109" y="306"/>
                    </a:lnTo>
                    <a:lnTo>
                      <a:pt x="113" y="302"/>
                    </a:lnTo>
                    <a:lnTo>
                      <a:pt x="117" y="298"/>
                    </a:lnTo>
                    <a:lnTo>
                      <a:pt x="113" y="298"/>
                    </a:lnTo>
                    <a:lnTo>
                      <a:pt x="109" y="298"/>
                    </a:lnTo>
                    <a:lnTo>
                      <a:pt x="97" y="302"/>
                    </a:lnTo>
                    <a:lnTo>
                      <a:pt x="77" y="306"/>
                    </a:lnTo>
                    <a:close/>
                    <a:moveTo>
                      <a:pt x="1307" y="604"/>
                    </a:moveTo>
                    <a:lnTo>
                      <a:pt x="1307" y="617"/>
                    </a:lnTo>
                    <a:lnTo>
                      <a:pt x="1315" y="625"/>
                    </a:lnTo>
                    <a:lnTo>
                      <a:pt x="1331" y="633"/>
                    </a:lnTo>
                    <a:lnTo>
                      <a:pt x="1351" y="645"/>
                    </a:lnTo>
                    <a:lnTo>
                      <a:pt x="1371" y="657"/>
                    </a:lnTo>
                    <a:lnTo>
                      <a:pt x="1391" y="669"/>
                    </a:lnTo>
                    <a:lnTo>
                      <a:pt x="1408" y="685"/>
                    </a:lnTo>
                    <a:lnTo>
                      <a:pt x="1416" y="697"/>
                    </a:lnTo>
                    <a:lnTo>
                      <a:pt x="1420" y="713"/>
                    </a:lnTo>
                    <a:lnTo>
                      <a:pt x="1436" y="717"/>
                    </a:lnTo>
                    <a:lnTo>
                      <a:pt x="1464" y="733"/>
                    </a:lnTo>
                    <a:lnTo>
                      <a:pt x="1496" y="754"/>
                    </a:lnTo>
                    <a:lnTo>
                      <a:pt x="1536" y="782"/>
                    </a:lnTo>
                    <a:lnTo>
                      <a:pt x="1572" y="810"/>
                    </a:lnTo>
                    <a:lnTo>
                      <a:pt x="1601" y="834"/>
                    </a:lnTo>
                    <a:lnTo>
                      <a:pt x="1625" y="854"/>
                    </a:lnTo>
                    <a:lnTo>
                      <a:pt x="1633" y="866"/>
                    </a:lnTo>
                    <a:lnTo>
                      <a:pt x="1653" y="866"/>
                    </a:lnTo>
                    <a:lnTo>
                      <a:pt x="1673" y="866"/>
                    </a:lnTo>
                    <a:lnTo>
                      <a:pt x="1689" y="903"/>
                    </a:lnTo>
                    <a:lnTo>
                      <a:pt x="1749" y="903"/>
                    </a:lnTo>
                    <a:lnTo>
                      <a:pt x="1745" y="955"/>
                    </a:lnTo>
                    <a:lnTo>
                      <a:pt x="1745" y="959"/>
                    </a:lnTo>
                    <a:lnTo>
                      <a:pt x="1745" y="931"/>
                    </a:lnTo>
                    <a:lnTo>
                      <a:pt x="1749" y="887"/>
                    </a:lnTo>
                    <a:lnTo>
                      <a:pt x="1757" y="842"/>
                    </a:lnTo>
                    <a:lnTo>
                      <a:pt x="1765" y="814"/>
                    </a:lnTo>
                    <a:lnTo>
                      <a:pt x="1769" y="810"/>
                    </a:lnTo>
                    <a:lnTo>
                      <a:pt x="1773" y="810"/>
                    </a:lnTo>
                    <a:lnTo>
                      <a:pt x="1773" y="814"/>
                    </a:lnTo>
                    <a:lnTo>
                      <a:pt x="1777" y="818"/>
                    </a:lnTo>
                    <a:lnTo>
                      <a:pt x="1781" y="838"/>
                    </a:lnTo>
                    <a:lnTo>
                      <a:pt x="1785" y="870"/>
                    </a:lnTo>
                    <a:lnTo>
                      <a:pt x="1781" y="866"/>
                    </a:lnTo>
                    <a:lnTo>
                      <a:pt x="1777" y="862"/>
                    </a:lnTo>
                    <a:lnTo>
                      <a:pt x="1769" y="858"/>
                    </a:lnTo>
                    <a:lnTo>
                      <a:pt x="1761" y="854"/>
                    </a:lnTo>
                    <a:lnTo>
                      <a:pt x="1753" y="854"/>
                    </a:lnTo>
                    <a:lnTo>
                      <a:pt x="1745" y="854"/>
                    </a:lnTo>
                    <a:lnTo>
                      <a:pt x="1737" y="850"/>
                    </a:lnTo>
                    <a:lnTo>
                      <a:pt x="1729" y="850"/>
                    </a:lnTo>
                    <a:lnTo>
                      <a:pt x="1685" y="826"/>
                    </a:lnTo>
                    <a:lnTo>
                      <a:pt x="1637" y="806"/>
                    </a:lnTo>
                    <a:lnTo>
                      <a:pt x="1592" y="782"/>
                    </a:lnTo>
                    <a:lnTo>
                      <a:pt x="1544" y="762"/>
                    </a:lnTo>
                    <a:lnTo>
                      <a:pt x="1500" y="733"/>
                    </a:lnTo>
                    <a:lnTo>
                      <a:pt x="1456" y="709"/>
                    </a:lnTo>
                    <a:lnTo>
                      <a:pt x="1412" y="677"/>
                    </a:lnTo>
                    <a:lnTo>
                      <a:pt x="1371" y="645"/>
                    </a:lnTo>
                    <a:lnTo>
                      <a:pt x="1363" y="641"/>
                    </a:lnTo>
                    <a:lnTo>
                      <a:pt x="1355" y="637"/>
                    </a:lnTo>
                    <a:lnTo>
                      <a:pt x="1347" y="633"/>
                    </a:lnTo>
                    <a:lnTo>
                      <a:pt x="1339" y="629"/>
                    </a:lnTo>
                    <a:lnTo>
                      <a:pt x="1331" y="621"/>
                    </a:lnTo>
                    <a:lnTo>
                      <a:pt x="1323" y="617"/>
                    </a:lnTo>
                    <a:lnTo>
                      <a:pt x="1315" y="613"/>
                    </a:lnTo>
                    <a:lnTo>
                      <a:pt x="1307" y="604"/>
                    </a:lnTo>
                    <a:close/>
                  </a:path>
                </a:pathLst>
              </a:custGeom>
              <a:solidFill>
                <a:srgbClr val="f5c2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3255840" y="1848240"/>
                <a:ext cx="66960" cy="315720"/>
              </a:xfrm>
              <a:custGeom>
                <a:avLst/>
                <a:gdLst/>
                <a:ahLst/>
                <a:rect l="l" t="t" r="r" b="b"/>
                <a:pathLst>
                  <a:path w="313" h="1386">
                    <a:moveTo>
                      <a:pt x="225" y="1386"/>
                    </a:moveTo>
                    <a:lnTo>
                      <a:pt x="237" y="1374"/>
                    </a:lnTo>
                    <a:lnTo>
                      <a:pt x="241" y="1354"/>
                    </a:lnTo>
                    <a:lnTo>
                      <a:pt x="245" y="1329"/>
                    </a:lnTo>
                    <a:lnTo>
                      <a:pt x="249" y="1297"/>
                    </a:lnTo>
                    <a:lnTo>
                      <a:pt x="253" y="1229"/>
                    </a:lnTo>
                    <a:lnTo>
                      <a:pt x="249" y="1152"/>
                    </a:lnTo>
                    <a:lnTo>
                      <a:pt x="245" y="1076"/>
                    </a:lnTo>
                    <a:lnTo>
                      <a:pt x="237" y="1011"/>
                    </a:lnTo>
                    <a:lnTo>
                      <a:pt x="233" y="959"/>
                    </a:lnTo>
                    <a:lnTo>
                      <a:pt x="229" y="931"/>
                    </a:lnTo>
                    <a:lnTo>
                      <a:pt x="237" y="935"/>
                    </a:lnTo>
                    <a:lnTo>
                      <a:pt x="249" y="943"/>
                    </a:lnTo>
                    <a:lnTo>
                      <a:pt x="257" y="951"/>
                    </a:lnTo>
                    <a:lnTo>
                      <a:pt x="269" y="963"/>
                    </a:lnTo>
                    <a:lnTo>
                      <a:pt x="281" y="971"/>
                    </a:lnTo>
                    <a:lnTo>
                      <a:pt x="289" y="983"/>
                    </a:lnTo>
                    <a:lnTo>
                      <a:pt x="297" y="987"/>
                    </a:lnTo>
                    <a:lnTo>
                      <a:pt x="305" y="991"/>
                    </a:lnTo>
                    <a:lnTo>
                      <a:pt x="309" y="955"/>
                    </a:lnTo>
                    <a:lnTo>
                      <a:pt x="313" y="898"/>
                    </a:lnTo>
                    <a:lnTo>
                      <a:pt x="313" y="826"/>
                    </a:lnTo>
                    <a:lnTo>
                      <a:pt x="313" y="745"/>
                    </a:lnTo>
                    <a:lnTo>
                      <a:pt x="309" y="709"/>
                    </a:lnTo>
                    <a:lnTo>
                      <a:pt x="305" y="673"/>
                    </a:lnTo>
                    <a:lnTo>
                      <a:pt x="301" y="636"/>
                    </a:lnTo>
                    <a:lnTo>
                      <a:pt x="289" y="608"/>
                    </a:lnTo>
                    <a:lnTo>
                      <a:pt x="281" y="584"/>
                    </a:lnTo>
                    <a:lnTo>
                      <a:pt x="265" y="564"/>
                    </a:lnTo>
                    <a:lnTo>
                      <a:pt x="257" y="556"/>
                    </a:lnTo>
                    <a:lnTo>
                      <a:pt x="249" y="552"/>
                    </a:lnTo>
                    <a:lnTo>
                      <a:pt x="241" y="548"/>
                    </a:lnTo>
                    <a:lnTo>
                      <a:pt x="229" y="548"/>
                    </a:lnTo>
                    <a:lnTo>
                      <a:pt x="213" y="528"/>
                    </a:lnTo>
                    <a:lnTo>
                      <a:pt x="193" y="507"/>
                    </a:lnTo>
                    <a:lnTo>
                      <a:pt x="193" y="471"/>
                    </a:lnTo>
                    <a:lnTo>
                      <a:pt x="173" y="471"/>
                    </a:lnTo>
                    <a:lnTo>
                      <a:pt x="160" y="439"/>
                    </a:lnTo>
                    <a:lnTo>
                      <a:pt x="160" y="399"/>
                    </a:lnTo>
                    <a:lnTo>
                      <a:pt x="160" y="354"/>
                    </a:lnTo>
                    <a:lnTo>
                      <a:pt x="164" y="310"/>
                    </a:lnTo>
                    <a:lnTo>
                      <a:pt x="164" y="266"/>
                    </a:lnTo>
                    <a:lnTo>
                      <a:pt x="169" y="225"/>
                    </a:lnTo>
                    <a:lnTo>
                      <a:pt x="164" y="205"/>
                    </a:lnTo>
                    <a:lnTo>
                      <a:pt x="164" y="189"/>
                    </a:lnTo>
                    <a:lnTo>
                      <a:pt x="160" y="173"/>
                    </a:lnTo>
                    <a:lnTo>
                      <a:pt x="152" y="161"/>
                    </a:lnTo>
                    <a:lnTo>
                      <a:pt x="132" y="161"/>
                    </a:lnTo>
                    <a:lnTo>
                      <a:pt x="128" y="149"/>
                    </a:lnTo>
                    <a:lnTo>
                      <a:pt x="124" y="133"/>
                    </a:lnTo>
                    <a:lnTo>
                      <a:pt x="116" y="112"/>
                    </a:lnTo>
                    <a:lnTo>
                      <a:pt x="112" y="88"/>
                    </a:lnTo>
                    <a:lnTo>
                      <a:pt x="104" y="64"/>
                    </a:lnTo>
                    <a:lnTo>
                      <a:pt x="96" y="40"/>
                    </a:lnTo>
                    <a:lnTo>
                      <a:pt x="88" y="20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88" y="48"/>
                    </a:lnTo>
                    <a:lnTo>
                      <a:pt x="92" y="96"/>
                    </a:lnTo>
                    <a:lnTo>
                      <a:pt x="96" y="141"/>
                    </a:lnTo>
                    <a:lnTo>
                      <a:pt x="92" y="185"/>
                    </a:lnTo>
                    <a:lnTo>
                      <a:pt x="84" y="278"/>
                    </a:lnTo>
                    <a:lnTo>
                      <a:pt x="64" y="366"/>
                    </a:lnTo>
                    <a:lnTo>
                      <a:pt x="44" y="455"/>
                    </a:lnTo>
                    <a:lnTo>
                      <a:pt x="28" y="544"/>
                    </a:lnTo>
                    <a:lnTo>
                      <a:pt x="20" y="588"/>
                    </a:lnTo>
                    <a:lnTo>
                      <a:pt x="16" y="632"/>
                    </a:lnTo>
                    <a:lnTo>
                      <a:pt x="12" y="677"/>
                    </a:lnTo>
                    <a:lnTo>
                      <a:pt x="12" y="721"/>
                    </a:lnTo>
                    <a:lnTo>
                      <a:pt x="4" y="753"/>
                    </a:lnTo>
                    <a:lnTo>
                      <a:pt x="0" y="789"/>
                    </a:lnTo>
                    <a:lnTo>
                      <a:pt x="4" y="822"/>
                    </a:lnTo>
                    <a:lnTo>
                      <a:pt x="8" y="858"/>
                    </a:lnTo>
                    <a:lnTo>
                      <a:pt x="12" y="894"/>
                    </a:lnTo>
                    <a:lnTo>
                      <a:pt x="20" y="931"/>
                    </a:lnTo>
                    <a:lnTo>
                      <a:pt x="24" y="963"/>
                    </a:lnTo>
                    <a:lnTo>
                      <a:pt x="32" y="999"/>
                    </a:lnTo>
                    <a:lnTo>
                      <a:pt x="40" y="1055"/>
                    </a:lnTo>
                    <a:lnTo>
                      <a:pt x="52" y="1108"/>
                    </a:lnTo>
                    <a:lnTo>
                      <a:pt x="72" y="1160"/>
                    </a:lnTo>
                    <a:lnTo>
                      <a:pt x="100" y="1209"/>
                    </a:lnTo>
                    <a:lnTo>
                      <a:pt x="128" y="1253"/>
                    </a:lnTo>
                    <a:lnTo>
                      <a:pt x="160" y="1297"/>
                    </a:lnTo>
                    <a:lnTo>
                      <a:pt x="193" y="1342"/>
                    </a:lnTo>
                    <a:lnTo>
                      <a:pt x="225" y="1386"/>
                    </a:lnTo>
                    <a:close/>
                  </a:path>
                </a:pathLst>
              </a:custGeom>
              <a:solidFill>
                <a:srgbClr val="f5c2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15" name=""/>
              <p:cNvGrpSpPr/>
              <p:nvPr/>
            </p:nvGrpSpPr>
            <p:grpSpPr>
              <a:xfrm>
                <a:off x="4794840" y="1735920"/>
                <a:ext cx="447120" cy="494640"/>
                <a:chOff x="4794840" y="1735920"/>
                <a:chExt cx="447120" cy="494640"/>
              </a:xfrm>
            </p:grpSpPr>
            <p:sp>
              <p:nvSpPr>
                <p:cNvPr id="1116" name=""/>
                <p:cNvSpPr/>
                <p:nvPr/>
              </p:nvSpPr>
              <p:spPr>
                <a:xfrm>
                  <a:off x="4904280" y="1739520"/>
                  <a:ext cx="119520" cy="171720"/>
                </a:xfrm>
                <a:custGeom>
                  <a:avLst/>
                  <a:gdLst/>
                  <a:ahLst/>
                  <a:rect l="l" t="t" r="r" b="b"/>
                  <a:pathLst>
                    <a:path w="558" h="754">
                      <a:moveTo>
                        <a:pt x="108" y="36"/>
                      </a:moveTo>
                      <a:lnTo>
                        <a:pt x="108" y="48"/>
                      </a:lnTo>
                      <a:lnTo>
                        <a:pt x="112" y="61"/>
                      </a:lnTo>
                      <a:lnTo>
                        <a:pt x="116" y="69"/>
                      </a:lnTo>
                      <a:lnTo>
                        <a:pt x="124" y="81"/>
                      </a:lnTo>
                      <a:lnTo>
                        <a:pt x="132" y="93"/>
                      </a:lnTo>
                      <a:lnTo>
                        <a:pt x="140" y="101"/>
                      </a:lnTo>
                      <a:lnTo>
                        <a:pt x="152" y="113"/>
                      </a:lnTo>
                      <a:lnTo>
                        <a:pt x="160" y="121"/>
                      </a:lnTo>
                      <a:lnTo>
                        <a:pt x="197" y="145"/>
                      </a:lnTo>
                      <a:lnTo>
                        <a:pt x="193" y="129"/>
                      </a:lnTo>
                      <a:lnTo>
                        <a:pt x="189" y="113"/>
                      </a:lnTo>
                      <a:lnTo>
                        <a:pt x="184" y="97"/>
                      </a:lnTo>
                      <a:lnTo>
                        <a:pt x="180" y="81"/>
                      </a:lnTo>
                      <a:lnTo>
                        <a:pt x="176" y="65"/>
                      </a:lnTo>
                      <a:lnTo>
                        <a:pt x="176" y="48"/>
                      </a:lnTo>
                      <a:lnTo>
                        <a:pt x="180" y="36"/>
                      </a:lnTo>
                      <a:lnTo>
                        <a:pt x="193" y="24"/>
                      </a:lnTo>
                      <a:lnTo>
                        <a:pt x="197" y="24"/>
                      </a:lnTo>
                      <a:lnTo>
                        <a:pt x="201" y="24"/>
                      </a:lnTo>
                      <a:lnTo>
                        <a:pt x="205" y="28"/>
                      </a:lnTo>
                      <a:lnTo>
                        <a:pt x="209" y="28"/>
                      </a:lnTo>
                      <a:lnTo>
                        <a:pt x="213" y="32"/>
                      </a:lnTo>
                      <a:lnTo>
                        <a:pt x="217" y="36"/>
                      </a:lnTo>
                      <a:lnTo>
                        <a:pt x="221" y="40"/>
                      </a:lnTo>
                      <a:lnTo>
                        <a:pt x="221" y="44"/>
                      </a:lnTo>
                      <a:lnTo>
                        <a:pt x="221" y="69"/>
                      </a:lnTo>
                      <a:lnTo>
                        <a:pt x="225" y="85"/>
                      </a:lnTo>
                      <a:lnTo>
                        <a:pt x="233" y="105"/>
                      </a:lnTo>
                      <a:lnTo>
                        <a:pt x="245" y="125"/>
                      </a:lnTo>
                      <a:lnTo>
                        <a:pt x="257" y="141"/>
                      </a:lnTo>
                      <a:lnTo>
                        <a:pt x="273" y="157"/>
                      </a:lnTo>
                      <a:lnTo>
                        <a:pt x="289" y="173"/>
                      </a:lnTo>
                      <a:lnTo>
                        <a:pt x="305" y="189"/>
                      </a:lnTo>
                      <a:lnTo>
                        <a:pt x="313" y="121"/>
                      </a:lnTo>
                      <a:lnTo>
                        <a:pt x="321" y="129"/>
                      </a:lnTo>
                      <a:lnTo>
                        <a:pt x="329" y="133"/>
                      </a:lnTo>
                      <a:lnTo>
                        <a:pt x="337" y="137"/>
                      </a:lnTo>
                      <a:lnTo>
                        <a:pt x="349" y="141"/>
                      </a:lnTo>
                      <a:lnTo>
                        <a:pt x="357" y="145"/>
                      </a:lnTo>
                      <a:lnTo>
                        <a:pt x="365" y="149"/>
                      </a:lnTo>
                      <a:lnTo>
                        <a:pt x="369" y="157"/>
                      </a:lnTo>
                      <a:lnTo>
                        <a:pt x="369" y="173"/>
                      </a:lnTo>
                      <a:lnTo>
                        <a:pt x="357" y="181"/>
                      </a:lnTo>
                      <a:lnTo>
                        <a:pt x="353" y="189"/>
                      </a:lnTo>
                      <a:lnTo>
                        <a:pt x="353" y="198"/>
                      </a:lnTo>
                      <a:lnTo>
                        <a:pt x="357" y="206"/>
                      </a:lnTo>
                      <a:lnTo>
                        <a:pt x="361" y="218"/>
                      </a:lnTo>
                      <a:lnTo>
                        <a:pt x="365" y="230"/>
                      </a:lnTo>
                      <a:lnTo>
                        <a:pt x="365" y="238"/>
                      </a:lnTo>
                      <a:lnTo>
                        <a:pt x="365" y="250"/>
                      </a:lnTo>
                      <a:lnTo>
                        <a:pt x="390" y="282"/>
                      </a:lnTo>
                      <a:lnTo>
                        <a:pt x="410" y="314"/>
                      </a:lnTo>
                      <a:lnTo>
                        <a:pt x="430" y="351"/>
                      </a:lnTo>
                      <a:lnTo>
                        <a:pt x="450" y="387"/>
                      </a:lnTo>
                      <a:lnTo>
                        <a:pt x="462" y="419"/>
                      </a:lnTo>
                      <a:lnTo>
                        <a:pt x="478" y="459"/>
                      </a:lnTo>
                      <a:lnTo>
                        <a:pt x="486" y="496"/>
                      </a:lnTo>
                      <a:lnTo>
                        <a:pt x="494" y="532"/>
                      </a:lnTo>
                      <a:lnTo>
                        <a:pt x="498" y="540"/>
                      </a:lnTo>
                      <a:lnTo>
                        <a:pt x="502" y="548"/>
                      </a:lnTo>
                      <a:lnTo>
                        <a:pt x="502" y="556"/>
                      </a:lnTo>
                      <a:lnTo>
                        <a:pt x="506" y="564"/>
                      </a:lnTo>
                      <a:lnTo>
                        <a:pt x="506" y="572"/>
                      </a:lnTo>
                      <a:lnTo>
                        <a:pt x="506" y="580"/>
                      </a:lnTo>
                      <a:lnTo>
                        <a:pt x="510" y="588"/>
                      </a:lnTo>
                      <a:lnTo>
                        <a:pt x="510" y="597"/>
                      </a:lnTo>
                      <a:lnTo>
                        <a:pt x="518" y="617"/>
                      </a:lnTo>
                      <a:lnTo>
                        <a:pt x="526" y="633"/>
                      </a:lnTo>
                      <a:lnTo>
                        <a:pt x="534" y="653"/>
                      </a:lnTo>
                      <a:lnTo>
                        <a:pt x="542" y="669"/>
                      </a:lnTo>
                      <a:lnTo>
                        <a:pt x="550" y="689"/>
                      </a:lnTo>
                      <a:lnTo>
                        <a:pt x="554" y="705"/>
                      </a:lnTo>
                      <a:lnTo>
                        <a:pt x="558" y="725"/>
                      </a:lnTo>
                      <a:lnTo>
                        <a:pt x="554" y="750"/>
                      </a:lnTo>
                      <a:lnTo>
                        <a:pt x="538" y="754"/>
                      </a:lnTo>
                      <a:lnTo>
                        <a:pt x="526" y="750"/>
                      </a:lnTo>
                      <a:lnTo>
                        <a:pt x="514" y="750"/>
                      </a:lnTo>
                      <a:lnTo>
                        <a:pt x="502" y="742"/>
                      </a:lnTo>
                      <a:lnTo>
                        <a:pt x="490" y="738"/>
                      </a:lnTo>
                      <a:lnTo>
                        <a:pt x="478" y="729"/>
                      </a:lnTo>
                      <a:lnTo>
                        <a:pt x="466" y="721"/>
                      </a:lnTo>
                      <a:lnTo>
                        <a:pt x="454" y="713"/>
                      </a:lnTo>
                      <a:lnTo>
                        <a:pt x="402" y="701"/>
                      </a:lnTo>
                      <a:lnTo>
                        <a:pt x="341" y="697"/>
                      </a:lnTo>
                      <a:lnTo>
                        <a:pt x="285" y="693"/>
                      </a:lnTo>
                      <a:lnTo>
                        <a:pt x="225" y="689"/>
                      </a:lnTo>
                      <a:lnTo>
                        <a:pt x="201" y="685"/>
                      </a:lnTo>
                      <a:lnTo>
                        <a:pt x="172" y="677"/>
                      </a:lnTo>
                      <a:lnTo>
                        <a:pt x="144" y="669"/>
                      </a:lnTo>
                      <a:lnTo>
                        <a:pt x="120" y="657"/>
                      </a:lnTo>
                      <a:lnTo>
                        <a:pt x="100" y="641"/>
                      </a:lnTo>
                      <a:lnTo>
                        <a:pt x="80" y="621"/>
                      </a:lnTo>
                      <a:lnTo>
                        <a:pt x="60" y="597"/>
                      </a:lnTo>
                      <a:lnTo>
                        <a:pt x="44" y="564"/>
                      </a:lnTo>
                      <a:lnTo>
                        <a:pt x="28" y="540"/>
                      </a:lnTo>
                      <a:lnTo>
                        <a:pt x="20" y="516"/>
                      </a:lnTo>
                      <a:lnTo>
                        <a:pt x="12" y="488"/>
                      </a:lnTo>
                      <a:lnTo>
                        <a:pt x="4" y="459"/>
                      </a:lnTo>
                      <a:lnTo>
                        <a:pt x="0" y="431"/>
                      </a:lnTo>
                      <a:lnTo>
                        <a:pt x="0" y="403"/>
                      </a:lnTo>
                      <a:lnTo>
                        <a:pt x="0" y="375"/>
                      </a:lnTo>
                      <a:lnTo>
                        <a:pt x="4" y="347"/>
                      </a:lnTo>
                      <a:lnTo>
                        <a:pt x="16" y="322"/>
                      </a:lnTo>
                      <a:lnTo>
                        <a:pt x="28" y="294"/>
                      </a:lnTo>
                      <a:lnTo>
                        <a:pt x="44" y="270"/>
                      </a:lnTo>
                      <a:lnTo>
                        <a:pt x="60" y="242"/>
                      </a:lnTo>
                      <a:lnTo>
                        <a:pt x="80" y="222"/>
                      </a:lnTo>
                      <a:lnTo>
                        <a:pt x="100" y="202"/>
                      </a:lnTo>
                      <a:lnTo>
                        <a:pt x="124" y="181"/>
                      </a:lnTo>
                      <a:lnTo>
                        <a:pt x="152" y="169"/>
                      </a:lnTo>
                      <a:lnTo>
                        <a:pt x="140" y="153"/>
                      </a:lnTo>
                      <a:lnTo>
                        <a:pt x="124" y="133"/>
                      </a:lnTo>
                      <a:lnTo>
                        <a:pt x="108" y="117"/>
                      </a:lnTo>
                      <a:lnTo>
                        <a:pt x="96" y="97"/>
                      </a:lnTo>
                      <a:lnTo>
                        <a:pt x="84" y="77"/>
                      </a:lnTo>
                      <a:lnTo>
                        <a:pt x="76" y="57"/>
                      </a:lnTo>
                      <a:lnTo>
                        <a:pt x="68" y="36"/>
                      </a:lnTo>
                      <a:lnTo>
                        <a:pt x="64" y="16"/>
                      </a:lnTo>
                      <a:lnTo>
                        <a:pt x="72" y="4"/>
                      </a:lnTo>
                      <a:lnTo>
                        <a:pt x="76" y="0"/>
                      </a:lnTo>
                      <a:lnTo>
                        <a:pt x="84" y="0"/>
                      </a:lnTo>
                      <a:lnTo>
                        <a:pt x="88" y="4"/>
                      </a:lnTo>
                      <a:lnTo>
                        <a:pt x="96" y="12"/>
                      </a:lnTo>
                      <a:lnTo>
                        <a:pt x="100" y="20"/>
                      </a:lnTo>
                      <a:lnTo>
                        <a:pt x="104" y="28"/>
                      </a:lnTo>
                      <a:lnTo>
                        <a:pt x="108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>
                  <a:off x="4948920" y="1801800"/>
                  <a:ext cx="30600" cy="36360"/>
                </a:xfrm>
                <a:custGeom>
                  <a:avLst/>
                  <a:gdLst/>
                  <a:ahLst/>
                  <a:rect l="l" t="t" r="r" b="b"/>
                  <a:pathLst>
                    <a:path w="144" h="161">
                      <a:moveTo>
                        <a:pt x="72" y="0"/>
                      </a:moveTo>
                      <a:lnTo>
                        <a:pt x="88" y="0"/>
                      </a:lnTo>
                      <a:lnTo>
                        <a:pt x="100" y="8"/>
                      </a:lnTo>
                      <a:lnTo>
                        <a:pt x="112" y="12"/>
                      </a:lnTo>
                      <a:lnTo>
                        <a:pt x="124" y="24"/>
                      </a:lnTo>
                      <a:lnTo>
                        <a:pt x="132" y="36"/>
                      </a:lnTo>
                      <a:lnTo>
                        <a:pt x="136" y="48"/>
                      </a:lnTo>
                      <a:lnTo>
                        <a:pt x="140" y="65"/>
                      </a:lnTo>
                      <a:lnTo>
                        <a:pt x="144" y="81"/>
                      </a:lnTo>
                      <a:lnTo>
                        <a:pt x="140" y="97"/>
                      </a:lnTo>
                      <a:lnTo>
                        <a:pt x="136" y="113"/>
                      </a:lnTo>
                      <a:lnTo>
                        <a:pt x="132" y="125"/>
                      </a:lnTo>
                      <a:lnTo>
                        <a:pt x="124" y="137"/>
                      </a:lnTo>
                      <a:lnTo>
                        <a:pt x="112" y="149"/>
                      </a:lnTo>
                      <a:lnTo>
                        <a:pt x="100" y="157"/>
                      </a:lnTo>
                      <a:lnTo>
                        <a:pt x="88" y="161"/>
                      </a:lnTo>
                      <a:lnTo>
                        <a:pt x="72" y="161"/>
                      </a:lnTo>
                      <a:lnTo>
                        <a:pt x="56" y="161"/>
                      </a:lnTo>
                      <a:lnTo>
                        <a:pt x="44" y="157"/>
                      </a:lnTo>
                      <a:lnTo>
                        <a:pt x="32" y="149"/>
                      </a:lnTo>
                      <a:lnTo>
                        <a:pt x="24" y="137"/>
                      </a:lnTo>
                      <a:lnTo>
                        <a:pt x="12" y="125"/>
                      </a:lnTo>
                      <a:lnTo>
                        <a:pt x="8" y="113"/>
                      </a:lnTo>
                      <a:lnTo>
                        <a:pt x="4" y="97"/>
                      </a:lnTo>
                      <a:lnTo>
                        <a:pt x="0" y="81"/>
                      </a:lnTo>
                      <a:lnTo>
                        <a:pt x="4" y="65"/>
                      </a:lnTo>
                      <a:lnTo>
                        <a:pt x="8" y="48"/>
                      </a:lnTo>
                      <a:lnTo>
                        <a:pt x="12" y="36"/>
                      </a:lnTo>
                      <a:lnTo>
                        <a:pt x="24" y="24"/>
                      </a:lnTo>
                      <a:lnTo>
                        <a:pt x="32" y="12"/>
                      </a:lnTo>
                      <a:lnTo>
                        <a:pt x="44" y="8"/>
                      </a:lnTo>
                      <a:lnTo>
                        <a:pt x="56" y="0"/>
                      </a:lnTo>
                      <a:lnTo>
                        <a:pt x="72" y="0"/>
                      </a:lnTo>
                      <a:close/>
                    </a:path>
                  </a:pathLst>
                </a:cu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4794840" y="1955160"/>
                  <a:ext cx="201240" cy="195480"/>
                </a:xfrm>
                <a:custGeom>
                  <a:avLst/>
                  <a:gdLst/>
                  <a:ahLst/>
                  <a:rect l="l" t="t" r="r" b="b"/>
                  <a:pathLst>
                    <a:path w="941" h="858">
                      <a:moveTo>
                        <a:pt x="0" y="0"/>
                      </a:moveTo>
                      <a:lnTo>
                        <a:pt x="4" y="40"/>
                      </a:lnTo>
                      <a:lnTo>
                        <a:pt x="4" y="36"/>
                      </a:lnTo>
                      <a:lnTo>
                        <a:pt x="4" y="32"/>
                      </a:lnTo>
                      <a:lnTo>
                        <a:pt x="4" y="32"/>
                      </a:lnTo>
                      <a:lnTo>
                        <a:pt x="4" y="28"/>
                      </a:lnTo>
                      <a:lnTo>
                        <a:pt x="4" y="24"/>
                      </a:lnTo>
                      <a:lnTo>
                        <a:pt x="8" y="20"/>
                      </a:lnTo>
                      <a:lnTo>
                        <a:pt x="8" y="20"/>
                      </a:lnTo>
                      <a:lnTo>
                        <a:pt x="8" y="16"/>
                      </a:lnTo>
                      <a:lnTo>
                        <a:pt x="0" y="0"/>
                      </a:lnTo>
                      <a:close/>
                      <a:moveTo>
                        <a:pt x="12" y="129"/>
                      </a:moveTo>
                      <a:lnTo>
                        <a:pt x="36" y="403"/>
                      </a:lnTo>
                      <a:lnTo>
                        <a:pt x="193" y="617"/>
                      </a:lnTo>
                      <a:lnTo>
                        <a:pt x="326" y="770"/>
                      </a:lnTo>
                      <a:lnTo>
                        <a:pt x="462" y="858"/>
                      </a:lnTo>
                      <a:lnTo>
                        <a:pt x="466" y="846"/>
                      </a:lnTo>
                      <a:lnTo>
                        <a:pt x="470" y="834"/>
                      </a:lnTo>
                      <a:lnTo>
                        <a:pt x="474" y="818"/>
                      </a:lnTo>
                      <a:lnTo>
                        <a:pt x="478" y="806"/>
                      </a:lnTo>
                      <a:lnTo>
                        <a:pt x="486" y="794"/>
                      </a:lnTo>
                      <a:lnTo>
                        <a:pt x="494" y="782"/>
                      </a:lnTo>
                      <a:lnTo>
                        <a:pt x="502" y="770"/>
                      </a:lnTo>
                      <a:lnTo>
                        <a:pt x="511" y="762"/>
                      </a:lnTo>
                      <a:lnTo>
                        <a:pt x="531" y="738"/>
                      </a:lnTo>
                      <a:lnTo>
                        <a:pt x="551" y="721"/>
                      </a:lnTo>
                      <a:lnTo>
                        <a:pt x="579" y="705"/>
                      </a:lnTo>
                      <a:lnTo>
                        <a:pt x="607" y="697"/>
                      </a:lnTo>
                      <a:lnTo>
                        <a:pt x="635" y="689"/>
                      </a:lnTo>
                      <a:lnTo>
                        <a:pt x="667" y="689"/>
                      </a:lnTo>
                      <a:lnTo>
                        <a:pt x="700" y="689"/>
                      </a:lnTo>
                      <a:lnTo>
                        <a:pt x="728" y="693"/>
                      </a:lnTo>
                      <a:lnTo>
                        <a:pt x="716" y="677"/>
                      </a:lnTo>
                      <a:lnTo>
                        <a:pt x="700" y="665"/>
                      </a:lnTo>
                      <a:lnTo>
                        <a:pt x="687" y="653"/>
                      </a:lnTo>
                      <a:lnTo>
                        <a:pt x="671" y="641"/>
                      </a:lnTo>
                      <a:lnTo>
                        <a:pt x="655" y="633"/>
                      </a:lnTo>
                      <a:lnTo>
                        <a:pt x="639" y="625"/>
                      </a:lnTo>
                      <a:lnTo>
                        <a:pt x="623" y="613"/>
                      </a:lnTo>
                      <a:lnTo>
                        <a:pt x="603" y="605"/>
                      </a:lnTo>
                      <a:lnTo>
                        <a:pt x="587" y="597"/>
                      </a:lnTo>
                      <a:lnTo>
                        <a:pt x="567" y="584"/>
                      </a:lnTo>
                      <a:lnTo>
                        <a:pt x="551" y="576"/>
                      </a:lnTo>
                      <a:lnTo>
                        <a:pt x="531" y="568"/>
                      </a:lnTo>
                      <a:lnTo>
                        <a:pt x="511" y="564"/>
                      </a:lnTo>
                      <a:lnTo>
                        <a:pt x="494" y="556"/>
                      </a:lnTo>
                      <a:lnTo>
                        <a:pt x="474" y="548"/>
                      </a:lnTo>
                      <a:lnTo>
                        <a:pt x="454" y="544"/>
                      </a:lnTo>
                      <a:lnTo>
                        <a:pt x="249" y="520"/>
                      </a:lnTo>
                      <a:lnTo>
                        <a:pt x="237" y="496"/>
                      </a:lnTo>
                      <a:lnTo>
                        <a:pt x="237" y="496"/>
                      </a:lnTo>
                      <a:lnTo>
                        <a:pt x="237" y="496"/>
                      </a:lnTo>
                      <a:lnTo>
                        <a:pt x="233" y="496"/>
                      </a:lnTo>
                      <a:lnTo>
                        <a:pt x="233" y="496"/>
                      </a:lnTo>
                      <a:lnTo>
                        <a:pt x="233" y="496"/>
                      </a:lnTo>
                      <a:lnTo>
                        <a:pt x="233" y="496"/>
                      </a:lnTo>
                      <a:lnTo>
                        <a:pt x="229" y="496"/>
                      </a:lnTo>
                      <a:lnTo>
                        <a:pt x="229" y="492"/>
                      </a:lnTo>
                      <a:lnTo>
                        <a:pt x="213" y="484"/>
                      </a:lnTo>
                      <a:lnTo>
                        <a:pt x="201" y="472"/>
                      </a:lnTo>
                      <a:lnTo>
                        <a:pt x="185" y="460"/>
                      </a:lnTo>
                      <a:lnTo>
                        <a:pt x="177" y="443"/>
                      </a:lnTo>
                      <a:lnTo>
                        <a:pt x="165" y="431"/>
                      </a:lnTo>
                      <a:lnTo>
                        <a:pt x="157" y="415"/>
                      </a:lnTo>
                      <a:lnTo>
                        <a:pt x="149" y="399"/>
                      </a:lnTo>
                      <a:lnTo>
                        <a:pt x="141" y="383"/>
                      </a:lnTo>
                      <a:lnTo>
                        <a:pt x="141" y="363"/>
                      </a:lnTo>
                      <a:lnTo>
                        <a:pt x="137" y="347"/>
                      </a:lnTo>
                      <a:lnTo>
                        <a:pt x="129" y="331"/>
                      </a:lnTo>
                      <a:lnTo>
                        <a:pt x="121" y="314"/>
                      </a:lnTo>
                      <a:lnTo>
                        <a:pt x="108" y="302"/>
                      </a:lnTo>
                      <a:lnTo>
                        <a:pt x="100" y="286"/>
                      </a:lnTo>
                      <a:lnTo>
                        <a:pt x="96" y="270"/>
                      </a:lnTo>
                      <a:lnTo>
                        <a:pt x="96" y="250"/>
                      </a:lnTo>
                      <a:lnTo>
                        <a:pt x="88" y="250"/>
                      </a:lnTo>
                      <a:lnTo>
                        <a:pt x="80" y="242"/>
                      </a:lnTo>
                      <a:lnTo>
                        <a:pt x="76" y="234"/>
                      </a:lnTo>
                      <a:lnTo>
                        <a:pt x="72" y="222"/>
                      </a:lnTo>
                      <a:lnTo>
                        <a:pt x="68" y="210"/>
                      </a:lnTo>
                      <a:lnTo>
                        <a:pt x="68" y="198"/>
                      </a:lnTo>
                      <a:lnTo>
                        <a:pt x="68" y="185"/>
                      </a:lnTo>
                      <a:lnTo>
                        <a:pt x="68" y="173"/>
                      </a:lnTo>
                      <a:lnTo>
                        <a:pt x="68" y="161"/>
                      </a:lnTo>
                      <a:lnTo>
                        <a:pt x="56" y="157"/>
                      </a:lnTo>
                      <a:lnTo>
                        <a:pt x="48" y="149"/>
                      </a:lnTo>
                      <a:lnTo>
                        <a:pt x="40" y="141"/>
                      </a:lnTo>
                      <a:lnTo>
                        <a:pt x="36" y="133"/>
                      </a:lnTo>
                      <a:lnTo>
                        <a:pt x="36" y="121"/>
                      </a:lnTo>
                      <a:lnTo>
                        <a:pt x="36" y="105"/>
                      </a:lnTo>
                      <a:lnTo>
                        <a:pt x="36" y="93"/>
                      </a:lnTo>
                      <a:lnTo>
                        <a:pt x="36" y="81"/>
                      </a:lnTo>
                      <a:lnTo>
                        <a:pt x="28" y="57"/>
                      </a:lnTo>
                      <a:lnTo>
                        <a:pt x="24" y="65"/>
                      </a:lnTo>
                      <a:lnTo>
                        <a:pt x="24" y="77"/>
                      </a:lnTo>
                      <a:lnTo>
                        <a:pt x="24" y="85"/>
                      </a:lnTo>
                      <a:lnTo>
                        <a:pt x="24" y="93"/>
                      </a:lnTo>
                      <a:lnTo>
                        <a:pt x="24" y="105"/>
                      </a:lnTo>
                      <a:lnTo>
                        <a:pt x="24" y="113"/>
                      </a:lnTo>
                      <a:lnTo>
                        <a:pt x="20" y="121"/>
                      </a:lnTo>
                      <a:lnTo>
                        <a:pt x="12" y="129"/>
                      </a:lnTo>
                      <a:close/>
                      <a:moveTo>
                        <a:pt x="917" y="794"/>
                      </a:moveTo>
                      <a:lnTo>
                        <a:pt x="941" y="790"/>
                      </a:lnTo>
                      <a:lnTo>
                        <a:pt x="897" y="762"/>
                      </a:lnTo>
                      <a:lnTo>
                        <a:pt x="901" y="766"/>
                      </a:lnTo>
                      <a:lnTo>
                        <a:pt x="905" y="770"/>
                      </a:lnTo>
                      <a:lnTo>
                        <a:pt x="905" y="774"/>
                      </a:lnTo>
                      <a:lnTo>
                        <a:pt x="909" y="778"/>
                      </a:lnTo>
                      <a:lnTo>
                        <a:pt x="909" y="782"/>
                      </a:lnTo>
                      <a:lnTo>
                        <a:pt x="913" y="786"/>
                      </a:lnTo>
                      <a:lnTo>
                        <a:pt x="913" y="790"/>
                      </a:lnTo>
                      <a:lnTo>
                        <a:pt x="917" y="794"/>
                      </a:lnTo>
                      <a:lnTo>
                        <a:pt x="917" y="794"/>
                      </a:lnTo>
                      <a:lnTo>
                        <a:pt x="917" y="794"/>
                      </a:lnTo>
                      <a:lnTo>
                        <a:pt x="917" y="794"/>
                      </a:lnTo>
                      <a:lnTo>
                        <a:pt x="917" y="794"/>
                      </a:lnTo>
                      <a:lnTo>
                        <a:pt x="917" y="794"/>
                      </a:lnTo>
                      <a:lnTo>
                        <a:pt x="917" y="794"/>
                      </a:lnTo>
                      <a:lnTo>
                        <a:pt x="917" y="794"/>
                      </a:lnTo>
                      <a:lnTo>
                        <a:pt x="917" y="794"/>
                      </a:lnTo>
                      <a:close/>
                    </a:path>
                  </a:pathLst>
                </a:custGeom>
                <a:solidFill>
                  <a:srgbClr val="c48c5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>
                  <a:off x="5077080" y="1735920"/>
                  <a:ext cx="69480" cy="312840"/>
                </a:xfrm>
                <a:custGeom>
                  <a:avLst/>
                  <a:gdLst/>
                  <a:ahLst/>
                  <a:rect l="l" t="t" r="r" b="b"/>
                  <a:pathLst>
                    <a:path w="325" h="1374">
                      <a:moveTo>
                        <a:pt x="265" y="201"/>
                      </a:moveTo>
                      <a:lnTo>
                        <a:pt x="265" y="205"/>
                      </a:lnTo>
                      <a:lnTo>
                        <a:pt x="261" y="210"/>
                      </a:lnTo>
                      <a:lnTo>
                        <a:pt x="261" y="218"/>
                      </a:lnTo>
                      <a:lnTo>
                        <a:pt x="257" y="234"/>
                      </a:lnTo>
                      <a:lnTo>
                        <a:pt x="253" y="246"/>
                      </a:lnTo>
                      <a:lnTo>
                        <a:pt x="249" y="266"/>
                      </a:lnTo>
                      <a:lnTo>
                        <a:pt x="245" y="286"/>
                      </a:lnTo>
                      <a:lnTo>
                        <a:pt x="237" y="306"/>
                      </a:lnTo>
                      <a:lnTo>
                        <a:pt x="233" y="314"/>
                      </a:lnTo>
                      <a:lnTo>
                        <a:pt x="229" y="322"/>
                      </a:lnTo>
                      <a:lnTo>
                        <a:pt x="225" y="330"/>
                      </a:lnTo>
                      <a:lnTo>
                        <a:pt x="221" y="338"/>
                      </a:lnTo>
                      <a:lnTo>
                        <a:pt x="217" y="347"/>
                      </a:lnTo>
                      <a:lnTo>
                        <a:pt x="217" y="351"/>
                      </a:lnTo>
                      <a:lnTo>
                        <a:pt x="213" y="359"/>
                      </a:lnTo>
                      <a:lnTo>
                        <a:pt x="205" y="367"/>
                      </a:lnTo>
                      <a:lnTo>
                        <a:pt x="205" y="399"/>
                      </a:lnTo>
                      <a:lnTo>
                        <a:pt x="197" y="419"/>
                      </a:lnTo>
                      <a:lnTo>
                        <a:pt x="189" y="439"/>
                      </a:lnTo>
                      <a:lnTo>
                        <a:pt x="181" y="459"/>
                      </a:lnTo>
                      <a:lnTo>
                        <a:pt x="173" y="480"/>
                      </a:lnTo>
                      <a:lnTo>
                        <a:pt x="165" y="500"/>
                      </a:lnTo>
                      <a:lnTo>
                        <a:pt x="157" y="520"/>
                      </a:lnTo>
                      <a:lnTo>
                        <a:pt x="144" y="540"/>
                      </a:lnTo>
                      <a:lnTo>
                        <a:pt x="132" y="556"/>
                      </a:lnTo>
                      <a:lnTo>
                        <a:pt x="120" y="617"/>
                      </a:lnTo>
                      <a:lnTo>
                        <a:pt x="116" y="677"/>
                      </a:lnTo>
                      <a:lnTo>
                        <a:pt x="116" y="737"/>
                      </a:lnTo>
                      <a:lnTo>
                        <a:pt x="124" y="798"/>
                      </a:lnTo>
                      <a:lnTo>
                        <a:pt x="136" y="862"/>
                      </a:lnTo>
                      <a:lnTo>
                        <a:pt x="153" y="923"/>
                      </a:lnTo>
                      <a:lnTo>
                        <a:pt x="173" y="979"/>
                      </a:lnTo>
                      <a:lnTo>
                        <a:pt x="193" y="1040"/>
                      </a:lnTo>
                      <a:lnTo>
                        <a:pt x="201" y="1060"/>
                      </a:lnTo>
                      <a:lnTo>
                        <a:pt x="209" y="1084"/>
                      </a:lnTo>
                      <a:lnTo>
                        <a:pt x="217" y="1104"/>
                      </a:lnTo>
                      <a:lnTo>
                        <a:pt x="225" y="1128"/>
                      </a:lnTo>
                      <a:lnTo>
                        <a:pt x="233" y="1153"/>
                      </a:lnTo>
                      <a:lnTo>
                        <a:pt x="245" y="1173"/>
                      </a:lnTo>
                      <a:lnTo>
                        <a:pt x="257" y="1193"/>
                      </a:lnTo>
                      <a:lnTo>
                        <a:pt x="273" y="1213"/>
                      </a:lnTo>
                      <a:lnTo>
                        <a:pt x="281" y="1225"/>
                      </a:lnTo>
                      <a:lnTo>
                        <a:pt x="289" y="1241"/>
                      </a:lnTo>
                      <a:lnTo>
                        <a:pt x="297" y="1253"/>
                      </a:lnTo>
                      <a:lnTo>
                        <a:pt x="309" y="1265"/>
                      </a:lnTo>
                      <a:lnTo>
                        <a:pt x="317" y="1281"/>
                      </a:lnTo>
                      <a:lnTo>
                        <a:pt x="321" y="1294"/>
                      </a:lnTo>
                      <a:lnTo>
                        <a:pt x="325" y="1310"/>
                      </a:lnTo>
                      <a:lnTo>
                        <a:pt x="321" y="1326"/>
                      </a:lnTo>
                      <a:lnTo>
                        <a:pt x="317" y="1334"/>
                      </a:lnTo>
                      <a:lnTo>
                        <a:pt x="313" y="1342"/>
                      </a:lnTo>
                      <a:lnTo>
                        <a:pt x="309" y="1350"/>
                      </a:lnTo>
                      <a:lnTo>
                        <a:pt x="305" y="1354"/>
                      </a:lnTo>
                      <a:lnTo>
                        <a:pt x="297" y="1362"/>
                      </a:lnTo>
                      <a:lnTo>
                        <a:pt x="289" y="1366"/>
                      </a:lnTo>
                      <a:lnTo>
                        <a:pt x="281" y="1370"/>
                      </a:lnTo>
                      <a:lnTo>
                        <a:pt x="273" y="1374"/>
                      </a:lnTo>
                      <a:lnTo>
                        <a:pt x="177" y="1269"/>
                      </a:lnTo>
                      <a:lnTo>
                        <a:pt x="100" y="1076"/>
                      </a:lnTo>
                      <a:lnTo>
                        <a:pt x="24" y="838"/>
                      </a:lnTo>
                      <a:lnTo>
                        <a:pt x="24" y="830"/>
                      </a:lnTo>
                      <a:lnTo>
                        <a:pt x="20" y="806"/>
                      </a:lnTo>
                      <a:lnTo>
                        <a:pt x="12" y="774"/>
                      </a:lnTo>
                      <a:lnTo>
                        <a:pt x="8" y="733"/>
                      </a:lnTo>
                      <a:lnTo>
                        <a:pt x="4" y="693"/>
                      </a:lnTo>
                      <a:lnTo>
                        <a:pt x="0" y="653"/>
                      </a:lnTo>
                      <a:lnTo>
                        <a:pt x="0" y="621"/>
                      </a:lnTo>
                      <a:lnTo>
                        <a:pt x="4" y="596"/>
                      </a:lnTo>
                      <a:lnTo>
                        <a:pt x="12" y="576"/>
                      </a:lnTo>
                      <a:lnTo>
                        <a:pt x="20" y="548"/>
                      </a:lnTo>
                      <a:lnTo>
                        <a:pt x="28" y="520"/>
                      </a:lnTo>
                      <a:lnTo>
                        <a:pt x="36" y="492"/>
                      </a:lnTo>
                      <a:lnTo>
                        <a:pt x="44" y="467"/>
                      </a:lnTo>
                      <a:lnTo>
                        <a:pt x="48" y="443"/>
                      </a:lnTo>
                      <a:lnTo>
                        <a:pt x="52" y="427"/>
                      </a:lnTo>
                      <a:lnTo>
                        <a:pt x="52" y="423"/>
                      </a:lnTo>
                      <a:lnTo>
                        <a:pt x="157" y="278"/>
                      </a:lnTo>
                      <a:lnTo>
                        <a:pt x="205" y="193"/>
                      </a:lnTo>
                      <a:lnTo>
                        <a:pt x="237" y="125"/>
                      </a:lnTo>
                      <a:lnTo>
                        <a:pt x="253" y="40"/>
                      </a:lnTo>
                      <a:lnTo>
                        <a:pt x="261" y="0"/>
                      </a:lnTo>
                      <a:lnTo>
                        <a:pt x="261" y="12"/>
                      </a:lnTo>
                      <a:lnTo>
                        <a:pt x="261" y="20"/>
                      </a:lnTo>
                      <a:lnTo>
                        <a:pt x="261" y="32"/>
                      </a:lnTo>
                      <a:lnTo>
                        <a:pt x="261" y="44"/>
                      </a:lnTo>
                      <a:lnTo>
                        <a:pt x="261" y="52"/>
                      </a:lnTo>
                      <a:lnTo>
                        <a:pt x="261" y="64"/>
                      </a:lnTo>
                      <a:lnTo>
                        <a:pt x="261" y="77"/>
                      </a:lnTo>
                      <a:lnTo>
                        <a:pt x="265" y="89"/>
                      </a:lnTo>
                      <a:lnTo>
                        <a:pt x="265" y="201"/>
                      </a:lnTo>
                      <a:close/>
                    </a:path>
                  </a:pathLst>
                </a:custGeom>
                <a:solidFill>
                  <a:srgbClr val="edb5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20" name=""/>
                <p:cNvGrpSpPr/>
                <p:nvPr/>
              </p:nvGrpSpPr>
              <p:grpSpPr>
                <a:xfrm>
                  <a:off x="4939200" y="1941480"/>
                  <a:ext cx="302760" cy="289080"/>
                  <a:chOff x="4939200" y="1941480"/>
                  <a:chExt cx="302760" cy="289080"/>
                </a:xfrm>
              </p:grpSpPr>
              <p:sp>
                <p:nvSpPr>
                  <p:cNvPr id="1121" name=""/>
                  <p:cNvSpPr/>
                  <p:nvPr/>
                </p:nvSpPr>
                <p:spPr>
                  <a:xfrm flipH="1" rot="3447000">
                    <a:off x="5002920" y="2074320"/>
                    <a:ext cx="64800" cy="102600"/>
                  </a:xfrm>
                  <a:custGeom>
                    <a:avLst/>
                    <a:gdLst/>
                    <a:ahLst/>
                    <a:rect l="l" t="t" r="r" b="b"/>
                    <a:pathLst>
                      <a:path w="370" h="605">
                        <a:moveTo>
                          <a:pt x="370" y="605"/>
                        </a:moveTo>
                        <a:lnTo>
                          <a:pt x="365" y="597"/>
                        </a:lnTo>
                        <a:lnTo>
                          <a:pt x="361" y="589"/>
                        </a:lnTo>
                        <a:lnTo>
                          <a:pt x="357" y="584"/>
                        </a:lnTo>
                        <a:lnTo>
                          <a:pt x="353" y="576"/>
                        </a:lnTo>
                        <a:lnTo>
                          <a:pt x="349" y="568"/>
                        </a:lnTo>
                        <a:lnTo>
                          <a:pt x="344" y="559"/>
                        </a:lnTo>
                        <a:lnTo>
                          <a:pt x="340" y="555"/>
                        </a:lnTo>
                        <a:lnTo>
                          <a:pt x="340" y="547"/>
                        </a:lnTo>
                        <a:lnTo>
                          <a:pt x="336" y="547"/>
                        </a:lnTo>
                        <a:lnTo>
                          <a:pt x="336" y="547"/>
                        </a:lnTo>
                        <a:lnTo>
                          <a:pt x="332" y="547"/>
                        </a:lnTo>
                        <a:lnTo>
                          <a:pt x="328" y="542"/>
                        </a:lnTo>
                        <a:lnTo>
                          <a:pt x="323" y="542"/>
                        </a:lnTo>
                        <a:lnTo>
                          <a:pt x="319" y="538"/>
                        </a:lnTo>
                        <a:lnTo>
                          <a:pt x="315" y="538"/>
                        </a:lnTo>
                        <a:lnTo>
                          <a:pt x="311" y="538"/>
                        </a:lnTo>
                        <a:lnTo>
                          <a:pt x="307" y="517"/>
                        </a:lnTo>
                        <a:lnTo>
                          <a:pt x="298" y="496"/>
                        </a:lnTo>
                        <a:lnTo>
                          <a:pt x="281" y="475"/>
                        </a:lnTo>
                        <a:lnTo>
                          <a:pt x="269" y="454"/>
                        </a:lnTo>
                        <a:lnTo>
                          <a:pt x="252" y="433"/>
                        </a:lnTo>
                        <a:lnTo>
                          <a:pt x="235" y="412"/>
                        </a:lnTo>
                        <a:lnTo>
                          <a:pt x="227" y="391"/>
                        </a:lnTo>
                        <a:lnTo>
                          <a:pt x="222" y="370"/>
                        </a:lnTo>
                        <a:lnTo>
                          <a:pt x="218" y="370"/>
                        </a:lnTo>
                        <a:lnTo>
                          <a:pt x="218" y="366"/>
                        </a:lnTo>
                        <a:lnTo>
                          <a:pt x="214" y="362"/>
                        </a:lnTo>
                        <a:lnTo>
                          <a:pt x="210" y="358"/>
                        </a:lnTo>
                        <a:lnTo>
                          <a:pt x="210" y="353"/>
                        </a:lnTo>
                        <a:lnTo>
                          <a:pt x="206" y="349"/>
                        </a:lnTo>
                        <a:lnTo>
                          <a:pt x="206" y="341"/>
                        </a:lnTo>
                        <a:lnTo>
                          <a:pt x="201" y="337"/>
                        </a:lnTo>
                        <a:lnTo>
                          <a:pt x="67" y="210"/>
                        </a:lnTo>
                        <a:lnTo>
                          <a:pt x="143" y="412"/>
                        </a:lnTo>
                        <a:lnTo>
                          <a:pt x="370" y="605"/>
                        </a:lnTo>
                        <a:lnTo>
                          <a:pt x="370" y="605"/>
                        </a:lnTo>
                        <a:close/>
                        <a:moveTo>
                          <a:pt x="155" y="219"/>
                        </a:moveTo>
                        <a:lnTo>
                          <a:pt x="151" y="202"/>
                        </a:lnTo>
                        <a:lnTo>
                          <a:pt x="147" y="185"/>
                        </a:lnTo>
                        <a:lnTo>
                          <a:pt x="143" y="173"/>
                        </a:lnTo>
                        <a:lnTo>
                          <a:pt x="138" y="160"/>
                        </a:lnTo>
                        <a:lnTo>
                          <a:pt x="138" y="147"/>
                        </a:lnTo>
                        <a:lnTo>
                          <a:pt x="134" y="135"/>
                        </a:lnTo>
                        <a:lnTo>
                          <a:pt x="134" y="126"/>
                        </a:lnTo>
                        <a:lnTo>
                          <a:pt x="134" y="122"/>
                        </a:lnTo>
                        <a:lnTo>
                          <a:pt x="130" y="118"/>
                        </a:lnTo>
                        <a:lnTo>
                          <a:pt x="130" y="118"/>
                        </a:lnTo>
                        <a:lnTo>
                          <a:pt x="121" y="110"/>
                        </a:lnTo>
                        <a:lnTo>
                          <a:pt x="117" y="105"/>
                        </a:lnTo>
                        <a:lnTo>
                          <a:pt x="113" y="97"/>
                        </a:lnTo>
                        <a:lnTo>
                          <a:pt x="109" y="93"/>
                        </a:lnTo>
                        <a:lnTo>
                          <a:pt x="105" y="84"/>
                        </a:lnTo>
                        <a:lnTo>
                          <a:pt x="105" y="80"/>
                        </a:lnTo>
                        <a:lnTo>
                          <a:pt x="96" y="80"/>
                        </a:lnTo>
                        <a:lnTo>
                          <a:pt x="88" y="72"/>
                        </a:lnTo>
                        <a:lnTo>
                          <a:pt x="79" y="63"/>
                        </a:lnTo>
                        <a:lnTo>
                          <a:pt x="71" y="55"/>
                        </a:lnTo>
                        <a:lnTo>
                          <a:pt x="58" y="42"/>
                        </a:lnTo>
                        <a:lnTo>
                          <a:pt x="50" y="30"/>
                        </a:lnTo>
                        <a:lnTo>
                          <a:pt x="46" y="21"/>
                        </a:lnTo>
                        <a:lnTo>
                          <a:pt x="42" y="13"/>
                        </a:lnTo>
                        <a:lnTo>
                          <a:pt x="33" y="0"/>
                        </a:lnTo>
                        <a:lnTo>
                          <a:pt x="29" y="0"/>
                        </a:lnTo>
                        <a:lnTo>
                          <a:pt x="25" y="0"/>
                        </a:lnTo>
                        <a:lnTo>
                          <a:pt x="21" y="0"/>
                        </a:lnTo>
                        <a:lnTo>
                          <a:pt x="16" y="0"/>
                        </a:lnTo>
                        <a:lnTo>
                          <a:pt x="12" y="5"/>
                        </a:lnTo>
                        <a:lnTo>
                          <a:pt x="8" y="5"/>
                        </a:lnTo>
                        <a:lnTo>
                          <a:pt x="4" y="5"/>
                        </a:lnTo>
                        <a:lnTo>
                          <a:pt x="0" y="5"/>
                        </a:lnTo>
                        <a:lnTo>
                          <a:pt x="16" y="59"/>
                        </a:lnTo>
                        <a:lnTo>
                          <a:pt x="155" y="219"/>
                        </a:lnTo>
                        <a:close/>
                      </a:path>
                    </a:pathLst>
                  </a:custGeom>
                  <a:solidFill>
                    <a:srgbClr val="ebbd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122" name=""/>
                  <p:cNvGrpSpPr/>
                  <p:nvPr/>
                </p:nvGrpSpPr>
                <p:grpSpPr>
                  <a:xfrm>
                    <a:off x="4939200" y="1941480"/>
                    <a:ext cx="302760" cy="289080"/>
                    <a:chOff x="4939200" y="1941480"/>
                    <a:chExt cx="302760" cy="289080"/>
                  </a:xfrm>
                </p:grpSpPr>
                <p:grpSp>
                  <p:nvGrpSpPr>
                    <p:cNvPr id="1123" name=""/>
                    <p:cNvGrpSpPr/>
                    <p:nvPr/>
                  </p:nvGrpSpPr>
                  <p:grpSpPr>
                    <a:xfrm>
                      <a:off x="4939200" y="1941480"/>
                      <a:ext cx="302760" cy="289080"/>
                      <a:chOff x="4939200" y="1941480"/>
                      <a:chExt cx="302760" cy="289080"/>
                    </a:xfrm>
                  </p:grpSpPr>
                  <p:sp>
                    <p:nvSpPr>
                      <p:cNvPr id="1124" name=""/>
                      <p:cNvSpPr/>
                      <p:nvPr/>
                    </p:nvSpPr>
                    <p:spPr>
                      <a:xfrm flipH="1" rot="3447000">
                        <a:off x="4994280" y="1967400"/>
                        <a:ext cx="191880" cy="236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97" h="1399">
                            <a:moveTo>
                              <a:pt x="584" y="63"/>
                            </a:moveTo>
                            <a:lnTo>
                              <a:pt x="727" y="168"/>
                            </a:lnTo>
                            <a:lnTo>
                              <a:pt x="912" y="374"/>
                            </a:lnTo>
                            <a:lnTo>
                              <a:pt x="1055" y="656"/>
                            </a:lnTo>
                            <a:lnTo>
                              <a:pt x="1097" y="878"/>
                            </a:lnTo>
                            <a:lnTo>
                              <a:pt x="1080" y="1097"/>
                            </a:lnTo>
                            <a:lnTo>
                              <a:pt x="992" y="1278"/>
                            </a:lnTo>
                            <a:lnTo>
                              <a:pt x="866" y="1399"/>
                            </a:lnTo>
                            <a:lnTo>
                              <a:pt x="744" y="1391"/>
                            </a:lnTo>
                            <a:lnTo>
                              <a:pt x="609" y="1336"/>
                            </a:lnTo>
                            <a:lnTo>
                              <a:pt x="408" y="1193"/>
                            </a:lnTo>
                            <a:lnTo>
                              <a:pt x="181" y="1000"/>
                            </a:lnTo>
                            <a:lnTo>
                              <a:pt x="105" y="798"/>
                            </a:lnTo>
                            <a:lnTo>
                              <a:pt x="294" y="975"/>
                            </a:lnTo>
                            <a:lnTo>
                              <a:pt x="471" y="1072"/>
                            </a:lnTo>
                            <a:lnTo>
                              <a:pt x="639" y="1097"/>
                            </a:lnTo>
                            <a:lnTo>
                              <a:pt x="807" y="1088"/>
                            </a:lnTo>
                            <a:lnTo>
                              <a:pt x="799" y="1151"/>
                            </a:lnTo>
                            <a:lnTo>
                              <a:pt x="761" y="1206"/>
                            </a:lnTo>
                            <a:lnTo>
                              <a:pt x="778" y="1231"/>
                            </a:lnTo>
                            <a:lnTo>
                              <a:pt x="816" y="1231"/>
                            </a:lnTo>
                            <a:lnTo>
                              <a:pt x="866" y="1160"/>
                            </a:lnTo>
                            <a:lnTo>
                              <a:pt x="879" y="992"/>
                            </a:lnTo>
                            <a:lnTo>
                              <a:pt x="870" y="912"/>
                            </a:lnTo>
                            <a:lnTo>
                              <a:pt x="858" y="862"/>
                            </a:lnTo>
                            <a:lnTo>
                              <a:pt x="849" y="853"/>
                            </a:lnTo>
                            <a:lnTo>
                              <a:pt x="832" y="853"/>
                            </a:lnTo>
                            <a:lnTo>
                              <a:pt x="816" y="870"/>
                            </a:lnTo>
                            <a:lnTo>
                              <a:pt x="832" y="1000"/>
                            </a:lnTo>
                            <a:lnTo>
                              <a:pt x="816" y="1025"/>
                            </a:lnTo>
                            <a:lnTo>
                              <a:pt x="794" y="1038"/>
                            </a:lnTo>
                            <a:lnTo>
                              <a:pt x="517" y="1046"/>
                            </a:lnTo>
                            <a:lnTo>
                              <a:pt x="265" y="887"/>
                            </a:lnTo>
                            <a:lnTo>
                              <a:pt x="54" y="647"/>
                            </a:lnTo>
                            <a:lnTo>
                              <a:pt x="0" y="437"/>
                            </a:lnTo>
                            <a:lnTo>
                              <a:pt x="0" y="160"/>
                            </a:lnTo>
                            <a:lnTo>
                              <a:pt x="29" y="92"/>
                            </a:lnTo>
                            <a:lnTo>
                              <a:pt x="143" y="21"/>
                            </a:lnTo>
                            <a:lnTo>
                              <a:pt x="223" y="0"/>
                            </a:lnTo>
                            <a:lnTo>
                              <a:pt x="416" y="4"/>
                            </a:lnTo>
                            <a:lnTo>
                              <a:pt x="584" y="63"/>
                            </a:lnTo>
                            <a:close/>
                          </a:path>
                        </a:pathLst>
                      </a:custGeom>
                      <a:solidFill>
                        <a:srgbClr val="ffcc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25" name=""/>
                      <p:cNvSpPr/>
                      <p:nvPr/>
                    </p:nvSpPr>
                    <p:spPr>
                      <a:xfrm flipH="1" rot="3447000">
                        <a:off x="5058720" y="2011680"/>
                        <a:ext cx="107280" cy="10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4" h="614">
                            <a:moveTo>
                              <a:pt x="307" y="614"/>
                            </a:moveTo>
                            <a:lnTo>
                              <a:pt x="337" y="614"/>
                            </a:lnTo>
                            <a:lnTo>
                              <a:pt x="371" y="610"/>
                            </a:lnTo>
                            <a:lnTo>
                              <a:pt x="400" y="601"/>
                            </a:lnTo>
                            <a:lnTo>
                              <a:pt x="425" y="589"/>
                            </a:lnTo>
                            <a:lnTo>
                              <a:pt x="455" y="576"/>
                            </a:lnTo>
                            <a:lnTo>
                              <a:pt x="480" y="563"/>
                            </a:lnTo>
                            <a:lnTo>
                              <a:pt x="501" y="542"/>
                            </a:lnTo>
                            <a:lnTo>
                              <a:pt x="526" y="526"/>
                            </a:lnTo>
                            <a:lnTo>
                              <a:pt x="543" y="500"/>
                            </a:lnTo>
                            <a:lnTo>
                              <a:pt x="564" y="479"/>
                            </a:lnTo>
                            <a:lnTo>
                              <a:pt x="577" y="454"/>
                            </a:lnTo>
                            <a:lnTo>
                              <a:pt x="589" y="425"/>
                            </a:lnTo>
                            <a:lnTo>
                              <a:pt x="602" y="400"/>
                            </a:lnTo>
                            <a:lnTo>
                              <a:pt x="610" y="370"/>
                            </a:lnTo>
                            <a:lnTo>
                              <a:pt x="614" y="337"/>
                            </a:lnTo>
                            <a:lnTo>
                              <a:pt x="614" y="307"/>
                            </a:lnTo>
                            <a:lnTo>
                              <a:pt x="614" y="274"/>
                            </a:lnTo>
                            <a:lnTo>
                              <a:pt x="610" y="244"/>
                            </a:lnTo>
                            <a:lnTo>
                              <a:pt x="602" y="215"/>
                            </a:lnTo>
                            <a:lnTo>
                              <a:pt x="589" y="185"/>
                            </a:lnTo>
                            <a:lnTo>
                              <a:pt x="577" y="160"/>
                            </a:lnTo>
                            <a:lnTo>
                              <a:pt x="564" y="135"/>
                            </a:lnTo>
                            <a:lnTo>
                              <a:pt x="543" y="110"/>
                            </a:lnTo>
                            <a:lnTo>
                              <a:pt x="526" y="89"/>
                            </a:lnTo>
                            <a:lnTo>
                              <a:pt x="501" y="68"/>
                            </a:lnTo>
                            <a:lnTo>
                              <a:pt x="480" y="51"/>
                            </a:lnTo>
                            <a:lnTo>
                              <a:pt x="455" y="34"/>
                            </a:lnTo>
                            <a:lnTo>
                              <a:pt x="425" y="21"/>
                            </a:lnTo>
                            <a:lnTo>
                              <a:pt x="400" y="13"/>
                            </a:lnTo>
                            <a:lnTo>
                              <a:pt x="371" y="5"/>
                            </a:lnTo>
                            <a:lnTo>
                              <a:pt x="337" y="0"/>
                            </a:lnTo>
                            <a:lnTo>
                              <a:pt x="307" y="0"/>
                            </a:lnTo>
                            <a:lnTo>
                              <a:pt x="274" y="0"/>
                            </a:lnTo>
                            <a:lnTo>
                              <a:pt x="244" y="5"/>
                            </a:lnTo>
                            <a:lnTo>
                              <a:pt x="215" y="13"/>
                            </a:lnTo>
                            <a:lnTo>
                              <a:pt x="185" y="21"/>
                            </a:lnTo>
                            <a:lnTo>
                              <a:pt x="160" y="34"/>
                            </a:lnTo>
                            <a:lnTo>
                              <a:pt x="135" y="51"/>
                            </a:lnTo>
                            <a:lnTo>
                              <a:pt x="110" y="68"/>
                            </a:lnTo>
                            <a:lnTo>
                              <a:pt x="89" y="89"/>
                            </a:lnTo>
                            <a:lnTo>
                              <a:pt x="68" y="110"/>
                            </a:lnTo>
                            <a:lnTo>
                              <a:pt x="51" y="135"/>
                            </a:lnTo>
                            <a:lnTo>
                              <a:pt x="38" y="160"/>
                            </a:lnTo>
                            <a:lnTo>
                              <a:pt x="21" y="185"/>
                            </a:lnTo>
                            <a:lnTo>
                              <a:pt x="13" y="215"/>
                            </a:lnTo>
                            <a:lnTo>
                              <a:pt x="5" y="244"/>
                            </a:lnTo>
                            <a:lnTo>
                              <a:pt x="0" y="274"/>
                            </a:lnTo>
                            <a:lnTo>
                              <a:pt x="0" y="307"/>
                            </a:lnTo>
                            <a:lnTo>
                              <a:pt x="0" y="337"/>
                            </a:lnTo>
                            <a:lnTo>
                              <a:pt x="5" y="370"/>
                            </a:lnTo>
                            <a:lnTo>
                              <a:pt x="13" y="400"/>
                            </a:lnTo>
                            <a:lnTo>
                              <a:pt x="21" y="425"/>
                            </a:lnTo>
                            <a:lnTo>
                              <a:pt x="38" y="454"/>
                            </a:lnTo>
                            <a:lnTo>
                              <a:pt x="51" y="479"/>
                            </a:lnTo>
                            <a:lnTo>
                              <a:pt x="68" y="500"/>
                            </a:lnTo>
                            <a:lnTo>
                              <a:pt x="89" y="526"/>
                            </a:lnTo>
                            <a:lnTo>
                              <a:pt x="110" y="542"/>
                            </a:lnTo>
                            <a:lnTo>
                              <a:pt x="135" y="563"/>
                            </a:lnTo>
                            <a:lnTo>
                              <a:pt x="160" y="576"/>
                            </a:lnTo>
                            <a:lnTo>
                              <a:pt x="185" y="589"/>
                            </a:lnTo>
                            <a:lnTo>
                              <a:pt x="215" y="601"/>
                            </a:lnTo>
                            <a:lnTo>
                              <a:pt x="244" y="610"/>
                            </a:lnTo>
                            <a:lnTo>
                              <a:pt x="274" y="614"/>
                            </a:lnTo>
                            <a:lnTo>
                              <a:pt x="307" y="614"/>
                            </a:lnTo>
                            <a:close/>
                          </a:path>
                        </a:pathLst>
                      </a:custGeom>
                      <a:solidFill>
                        <a:srgbClr val="ffcc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26" name=""/>
                      <p:cNvSpPr/>
                      <p:nvPr/>
                    </p:nvSpPr>
                    <p:spPr>
                      <a:xfrm flipH="1" rot="3447000">
                        <a:off x="5086080" y="2052720"/>
                        <a:ext cx="34920" cy="24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1" h="143">
                            <a:moveTo>
                              <a:pt x="201" y="21"/>
                            </a:moveTo>
                            <a:lnTo>
                              <a:pt x="185" y="96"/>
                            </a:lnTo>
                            <a:lnTo>
                              <a:pt x="117" y="143"/>
                            </a:lnTo>
                            <a:lnTo>
                              <a:pt x="25" y="134"/>
                            </a:lnTo>
                            <a:lnTo>
                              <a:pt x="0" y="109"/>
                            </a:lnTo>
                            <a:lnTo>
                              <a:pt x="16" y="46"/>
                            </a:lnTo>
                            <a:lnTo>
                              <a:pt x="54" y="8"/>
                            </a:lnTo>
                            <a:lnTo>
                              <a:pt x="88" y="0"/>
                            </a:lnTo>
                            <a:lnTo>
                              <a:pt x="168" y="0"/>
                            </a:lnTo>
                            <a:lnTo>
                              <a:pt x="201" y="21"/>
                            </a:lnTo>
                            <a:close/>
                          </a:path>
                        </a:pathLst>
                      </a:custGeom>
                      <a:solidFill>
                        <a:srgbClr val="00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2680" bIns="-226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127" name=""/>
                    <p:cNvSpPr/>
                    <p:nvPr/>
                  </p:nvSpPr>
                  <p:spPr>
                    <a:xfrm flipH="1" rot="3447000">
                      <a:off x="5164560" y="2060280"/>
                      <a:ext cx="26280" cy="29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1" h="177">
                          <a:moveTo>
                            <a:pt x="151" y="89"/>
                          </a:moveTo>
                          <a:lnTo>
                            <a:pt x="143" y="122"/>
                          </a:lnTo>
                          <a:lnTo>
                            <a:pt x="96" y="169"/>
                          </a:lnTo>
                          <a:lnTo>
                            <a:pt x="38" y="177"/>
                          </a:lnTo>
                          <a:lnTo>
                            <a:pt x="0" y="106"/>
                          </a:lnTo>
                          <a:lnTo>
                            <a:pt x="25" y="34"/>
                          </a:lnTo>
                          <a:lnTo>
                            <a:pt x="71" y="0"/>
                          </a:lnTo>
                          <a:lnTo>
                            <a:pt x="134" y="17"/>
                          </a:lnTo>
                          <a:lnTo>
                            <a:pt x="151" y="89"/>
                          </a:lnTo>
                          <a:close/>
                        </a:path>
                      </a:pathLst>
                    </a:custGeom>
                    <a:solidFill>
                      <a:srgbClr val="19191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128" name=""/>
                    <p:cNvGrpSpPr/>
                    <p:nvPr/>
                  </p:nvGrpSpPr>
                  <p:grpSpPr>
                    <a:xfrm>
                      <a:off x="4983120" y="1944000"/>
                      <a:ext cx="126360" cy="127440"/>
                      <a:chOff x="4983120" y="1944000"/>
                      <a:chExt cx="126360" cy="127440"/>
                    </a:xfrm>
                  </p:grpSpPr>
                  <p:grpSp>
                    <p:nvGrpSpPr>
                      <p:cNvPr id="1129" name=""/>
                      <p:cNvGrpSpPr/>
                      <p:nvPr/>
                    </p:nvGrpSpPr>
                    <p:grpSpPr>
                      <a:xfrm>
                        <a:off x="4983120" y="1944000"/>
                        <a:ext cx="126360" cy="127440"/>
                        <a:chOff x="4983120" y="1944000"/>
                        <a:chExt cx="126360" cy="127440"/>
                      </a:xfrm>
                    </p:grpSpPr>
                    <p:grpSp>
                      <p:nvGrpSpPr>
                        <p:cNvPr id="1130" name=""/>
                        <p:cNvGrpSpPr/>
                        <p:nvPr/>
                      </p:nvGrpSpPr>
                      <p:grpSpPr>
                        <a:xfrm>
                          <a:off x="4983120" y="1944000"/>
                          <a:ext cx="126360" cy="127440"/>
                          <a:chOff x="4983120" y="1944000"/>
                          <a:chExt cx="126360" cy="127440"/>
                        </a:xfrm>
                      </p:grpSpPr>
                      <p:sp>
                        <p:nvSpPr>
                          <p:cNvPr id="1131" name=""/>
                          <p:cNvSpPr/>
                          <p:nvPr/>
                        </p:nvSpPr>
                        <p:spPr>
                          <a:xfrm flipH="1" rot="3447000">
                            <a:off x="4998960" y="1962360"/>
                            <a:ext cx="93600" cy="900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35" h="534">
                                <a:moveTo>
                                  <a:pt x="265" y="534"/>
                                </a:moveTo>
                                <a:lnTo>
                                  <a:pt x="295" y="534"/>
                                </a:lnTo>
                                <a:lnTo>
                                  <a:pt x="320" y="529"/>
                                </a:lnTo>
                                <a:lnTo>
                                  <a:pt x="345" y="521"/>
                                </a:lnTo>
                                <a:lnTo>
                                  <a:pt x="371" y="513"/>
                                </a:lnTo>
                                <a:lnTo>
                                  <a:pt x="392" y="500"/>
                                </a:lnTo>
                                <a:lnTo>
                                  <a:pt x="417" y="487"/>
                                </a:lnTo>
                                <a:lnTo>
                                  <a:pt x="438" y="471"/>
                                </a:lnTo>
                                <a:lnTo>
                                  <a:pt x="455" y="454"/>
                                </a:lnTo>
                                <a:lnTo>
                                  <a:pt x="471" y="437"/>
                                </a:lnTo>
                                <a:lnTo>
                                  <a:pt x="488" y="416"/>
                                </a:lnTo>
                                <a:lnTo>
                                  <a:pt x="501" y="395"/>
                                </a:lnTo>
                                <a:lnTo>
                                  <a:pt x="514" y="370"/>
                                </a:lnTo>
                                <a:lnTo>
                                  <a:pt x="522" y="345"/>
                                </a:lnTo>
                                <a:lnTo>
                                  <a:pt x="526" y="319"/>
                                </a:lnTo>
                                <a:lnTo>
                                  <a:pt x="530" y="294"/>
                                </a:lnTo>
                                <a:lnTo>
                                  <a:pt x="535" y="269"/>
                                </a:lnTo>
                                <a:lnTo>
                                  <a:pt x="530" y="240"/>
                                </a:lnTo>
                                <a:lnTo>
                                  <a:pt x="526" y="214"/>
                                </a:lnTo>
                                <a:lnTo>
                                  <a:pt x="522" y="189"/>
                                </a:lnTo>
                                <a:lnTo>
                                  <a:pt x="514" y="164"/>
                                </a:lnTo>
                                <a:lnTo>
                                  <a:pt x="501" y="143"/>
                                </a:lnTo>
                                <a:lnTo>
                                  <a:pt x="488" y="118"/>
                                </a:lnTo>
                                <a:lnTo>
                                  <a:pt x="471" y="97"/>
                                </a:lnTo>
                                <a:lnTo>
                                  <a:pt x="455" y="80"/>
                                </a:lnTo>
                                <a:lnTo>
                                  <a:pt x="438" y="63"/>
                                </a:lnTo>
                                <a:lnTo>
                                  <a:pt x="417" y="46"/>
                                </a:lnTo>
                                <a:lnTo>
                                  <a:pt x="392" y="34"/>
                                </a:lnTo>
                                <a:lnTo>
                                  <a:pt x="371" y="21"/>
                                </a:lnTo>
                                <a:lnTo>
                                  <a:pt x="345" y="13"/>
                                </a:lnTo>
                                <a:lnTo>
                                  <a:pt x="320" y="8"/>
                                </a:lnTo>
                                <a:lnTo>
                                  <a:pt x="295" y="4"/>
                                </a:lnTo>
                                <a:lnTo>
                                  <a:pt x="265" y="0"/>
                                </a:lnTo>
                                <a:lnTo>
                                  <a:pt x="240" y="4"/>
                                </a:lnTo>
                                <a:lnTo>
                                  <a:pt x="211" y="8"/>
                                </a:lnTo>
                                <a:lnTo>
                                  <a:pt x="186" y="13"/>
                                </a:lnTo>
                                <a:lnTo>
                                  <a:pt x="165" y="21"/>
                                </a:lnTo>
                                <a:lnTo>
                                  <a:pt x="139" y="34"/>
                                </a:lnTo>
                                <a:lnTo>
                                  <a:pt x="118" y="46"/>
                                </a:lnTo>
                                <a:lnTo>
                                  <a:pt x="97" y="63"/>
                                </a:lnTo>
                                <a:lnTo>
                                  <a:pt x="76" y="80"/>
                                </a:lnTo>
                                <a:lnTo>
                                  <a:pt x="59" y="97"/>
                                </a:lnTo>
                                <a:lnTo>
                                  <a:pt x="47" y="118"/>
                                </a:lnTo>
                                <a:lnTo>
                                  <a:pt x="30" y="143"/>
                                </a:lnTo>
                                <a:lnTo>
                                  <a:pt x="22" y="164"/>
                                </a:lnTo>
                                <a:lnTo>
                                  <a:pt x="13" y="189"/>
                                </a:lnTo>
                                <a:lnTo>
                                  <a:pt x="5" y="214"/>
                                </a:lnTo>
                                <a:lnTo>
                                  <a:pt x="0" y="240"/>
                                </a:lnTo>
                                <a:lnTo>
                                  <a:pt x="0" y="269"/>
                                </a:lnTo>
                                <a:lnTo>
                                  <a:pt x="0" y="294"/>
                                </a:lnTo>
                                <a:lnTo>
                                  <a:pt x="5" y="319"/>
                                </a:lnTo>
                                <a:lnTo>
                                  <a:pt x="13" y="345"/>
                                </a:lnTo>
                                <a:lnTo>
                                  <a:pt x="22" y="370"/>
                                </a:lnTo>
                                <a:lnTo>
                                  <a:pt x="30" y="395"/>
                                </a:lnTo>
                                <a:lnTo>
                                  <a:pt x="47" y="416"/>
                                </a:lnTo>
                                <a:lnTo>
                                  <a:pt x="59" y="437"/>
                                </a:lnTo>
                                <a:lnTo>
                                  <a:pt x="76" y="454"/>
                                </a:lnTo>
                                <a:lnTo>
                                  <a:pt x="97" y="471"/>
                                </a:lnTo>
                                <a:lnTo>
                                  <a:pt x="118" y="487"/>
                                </a:lnTo>
                                <a:lnTo>
                                  <a:pt x="139" y="500"/>
                                </a:lnTo>
                                <a:lnTo>
                                  <a:pt x="165" y="513"/>
                                </a:lnTo>
                                <a:lnTo>
                                  <a:pt x="186" y="521"/>
                                </a:lnTo>
                                <a:lnTo>
                                  <a:pt x="211" y="529"/>
                                </a:lnTo>
                                <a:lnTo>
                                  <a:pt x="240" y="534"/>
                                </a:lnTo>
                                <a:lnTo>
                                  <a:pt x="265" y="534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d3d5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3200" bIns="432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32" name=""/>
                          <p:cNvSpPr/>
                          <p:nvPr/>
                        </p:nvSpPr>
                        <p:spPr>
                          <a:xfrm flipH="1" rot="3447000">
                            <a:off x="5008680" y="1959480"/>
                            <a:ext cx="78840" cy="759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50" h="449">
                                <a:moveTo>
                                  <a:pt x="227" y="449"/>
                                </a:moveTo>
                                <a:lnTo>
                                  <a:pt x="248" y="445"/>
                                </a:lnTo>
                                <a:lnTo>
                                  <a:pt x="269" y="445"/>
                                </a:lnTo>
                                <a:lnTo>
                                  <a:pt x="290" y="437"/>
                                </a:lnTo>
                                <a:lnTo>
                                  <a:pt x="311" y="428"/>
                                </a:lnTo>
                                <a:lnTo>
                                  <a:pt x="353" y="412"/>
                                </a:lnTo>
                                <a:lnTo>
                                  <a:pt x="386" y="382"/>
                                </a:lnTo>
                                <a:lnTo>
                                  <a:pt x="412" y="349"/>
                                </a:lnTo>
                                <a:lnTo>
                                  <a:pt x="433" y="311"/>
                                </a:lnTo>
                                <a:lnTo>
                                  <a:pt x="441" y="290"/>
                                </a:lnTo>
                                <a:lnTo>
                                  <a:pt x="445" y="269"/>
                                </a:lnTo>
                                <a:lnTo>
                                  <a:pt x="450" y="248"/>
                                </a:lnTo>
                                <a:lnTo>
                                  <a:pt x="450" y="223"/>
                                </a:lnTo>
                                <a:lnTo>
                                  <a:pt x="450" y="202"/>
                                </a:lnTo>
                                <a:lnTo>
                                  <a:pt x="445" y="180"/>
                                </a:lnTo>
                                <a:lnTo>
                                  <a:pt x="441" y="159"/>
                                </a:lnTo>
                                <a:lnTo>
                                  <a:pt x="433" y="138"/>
                                </a:lnTo>
                                <a:lnTo>
                                  <a:pt x="412" y="101"/>
                                </a:lnTo>
                                <a:lnTo>
                                  <a:pt x="386" y="67"/>
                                </a:lnTo>
                                <a:lnTo>
                                  <a:pt x="353" y="38"/>
                                </a:lnTo>
                                <a:lnTo>
                                  <a:pt x="311" y="17"/>
                                </a:lnTo>
                                <a:lnTo>
                                  <a:pt x="290" y="12"/>
                                </a:lnTo>
                                <a:lnTo>
                                  <a:pt x="269" y="4"/>
                                </a:lnTo>
                                <a:lnTo>
                                  <a:pt x="248" y="4"/>
                                </a:lnTo>
                                <a:lnTo>
                                  <a:pt x="227" y="0"/>
                                </a:lnTo>
                                <a:lnTo>
                                  <a:pt x="201" y="4"/>
                                </a:lnTo>
                                <a:lnTo>
                                  <a:pt x="180" y="4"/>
                                </a:lnTo>
                                <a:lnTo>
                                  <a:pt x="159" y="12"/>
                                </a:lnTo>
                                <a:lnTo>
                                  <a:pt x="138" y="17"/>
                                </a:lnTo>
                                <a:lnTo>
                                  <a:pt x="100" y="38"/>
                                </a:lnTo>
                                <a:lnTo>
                                  <a:pt x="67" y="67"/>
                                </a:lnTo>
                                <a:lnTo>
                                  <a:pt x="37" y="101"/>
                                </a:lnTo>
                                <a:lnTo>
                                  <a:pt x="16" y="138"/>
                                </a:lnTo>
                                <a:lnTo>
                                  <a:pt x="8" y="159"/>
                                </a:lnTo>
                                <a:lnTo>
                                  <a:pt x="4" y="180"/>
                                </a:lnTo>
                                <a:lnTo>
                                  <a:pt x="0" y="202"/>
                                </a:lnTo>
                                <a:lnTo>
                                  <a:pt x="0" y="223"/>
                                </a:lnTo>
                                <a:lnTo>
                                  <a:pt x="0" y="248"/>
                                </a:lnTo>
                                <a:lnTo>
                                  <a:pt x="4" y="269"/>
                                </a:lnTo>
                                <a:lnTo>
                                  <a:pt x="8" y="290"/>
                                </a:lnTo>
                                <a:lnTo>
                                  <a:pt x="16" y="311"/>
                                </a:lnTo>
                                <a:lnTo>
                                  <a:pt x="37" y="349"/>
                                </a:lnTo>
                                <a:lnTo>
                                  <a:pt x="67" y="382"/>
                                </a:lnTo>
                                <a:lnTo>
                                  <a:pt x="100" y="412"/>
                                </a:lnTo>
                                <a:lnTo>
                                  <a:pt x="138" y="428"/>
                                </a:lnTo>
                                <a:lnTo>
                                  <a:pt x="159" y="437"/>
                                </a:lnTo>
                                <a:lnTo>
                                  <a:pt x="180" y="445"/>
                                </a:lnTo>
                                <a:lnTo>
                                  <a:pt x="201" y="445"/>
                                </a:lnTo>
                                <a:lnTo>
                                  <a:pt x="227" y="449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dade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9160" bIns="291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133" name=""/>
                        <p:cNvSpPr/>
                        <p:nvPr/>
                      </p:nvSpPr>
                      <p:spPr>
                        <a:xfrm flipH="1" rot="3447000">
                          <a:off x="5013720" y="1976760"/>
                          <a:ext cx="64800" cy="61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70" h="361">
                              <a:moveTo>
                                <a:pt x="185" y="361"/>
                              </a:moveTo>
                              <a:lnTo>
                                <a:pt x="222" y="361"/>
                              </a:lnTo>
                              <a:lnTo>
                                <a:pt x="256" y="348"/>
                              </a:lnTo>
                              <a:lnTo>
                                <a:pt x="286" y="332"/>
                              </a:lnTo>
                              <a:lnTo>
                                <a:pt x="315" y="311"/>
                              </a:lnTo>
                              <a:lnTo>
                                <a:pt x="336" y="281"/>
                              </a:lnTo>
                              <a:lnTo>
                                <a:pt x="353" y="252"/>
                              </a:lnTo>
                              <a:lnTo>
                                <a:pt x="365" y="218"/>
                              </a:lnTo>
                              <a:lnTo>
                                <a:pt x="370" y="180"/>
                              </a:lnTo>
                              <a:lnTo>
                                <a:pt x="365" y="147"/>
                              </a:lnTo>
                              <a:lnTo>
                                <a:pt x="353" y="113"/>
                              </a:lnTo>
                              <a:lnTo>
                                <a:pt x="336" y="79"/>
                              </a:lnTo>
                              <a:lnTo>
                                <a:pt x="315" y="54"/>
                              </a:lnTo>
                              <a:lnTo>
                                <a:pt x="286" y="33"/>
                              </a:lnTo>
                              <a:lnTo>
                                <a:pt x="256" y="16"/>
                              </a:lnTo>
                              <a:lnTo>
                                <a:pt x="222" y="4"/>
                              </a:lnTo>
                              <a:lnTo>
                                <a:pt x="185" y="0"/>
                              </a:lnTo>
                              <a:lnTo>
                                <a:pt x="147" y="4"/>
                              </a:lnTo>
                              <a:lnTo>
                                <a:pt x="113" y="16"/>
                              </a:lnTo>
                              <a:lnTo>
                                <a:pt x="80" y="33"/>
                              </a:lnTo>
                              <a:lnTo>
                                <a:pt x="54" y="54"/>
                              </a:lnTo>
                              <a:lnTo>
                                <a:pt x="29" y="79"/>
                              </a:lnTo>
                              <a:lnTo>
                                <a:pt x="12" y="113"/>
                              </a:lnTo>
                              <a:lnTo>
                                <a:pt x="4" y="147"/>
                              </a:lnTo>
                              <a:lnTo>
                                <a:pt x="0" y="180"/>
                              </a:lnTo>
                              <a:lnTo>
                                <a:pt x="4" y="218"/>
                              </a:lnTo>
                              <a:lnTo>
                                <a:pt x="12" y="252"/>
                              </a:lnTo>
                              <a:lnTo>
                                <a:pt x="29" y="281"/>
                              </a:lnTo>
                              <a:lnTo>
                                <a:pt x="54" y="311"/>
                              </a:lnTo>
                              <a:lnTo>
                                <a:pt x="80" y="332"/>
                              </a:lnTo>
                              <a:lnTo>
                                <a:pt x="113" y="348"/>
                              </a:lnTo>
                              <a:lnTo>
                                <a:pt x="147" y="361"/>
                              </a:lnTo>
                              <a:lnTo>
                                <a:pt x="185" y="36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e1e7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4400" bIns="144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134" name=""/>
                      <p:cNvSpPr/>
                      <p:nvPr/>
                    </p:nvSpPr>
                    <p:spPr>
                      <a:xfrm flipH="1" rot="3447000">
                        <a:off x="5011200" y="1981440"/>
                        <a:ext cx="50040" cy="46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6" h="278">
                            <a:moveTo>
                              <a:pt x="143" y="278"/>
                            </a:moveTo>
                            <a:lnTo>
                              <a:pt x="172" y="278"/>
                            </a:lnTo>
                            <a:lnTo>
                              <a:pt x="197" y="269"/>
                            </a:lnTo>
                            <a:lnTo>
                              <a:pt x="223" y="257"/>
                            </a:lnTo>
                            <a:lnTo>
                              <a:pt x="244" y="236"/>
                            </a:lnTo>
                            <a:lnTo>
                              <a:pt x="265" y="219"/>
                            </a:lnTo>
                            <a:lnTo>
                              <a:pt x="277" y="194"/>
                            </a:lnTo>
                            <a:lnTo>
                              <a:pt x="286" y="169"/>
                            </a:lnTo>
                            <a:lnTo>
                              <a:pt x="286" y="139"/>
                            </a:lnTo>
                            <a:lnTo>
                              <a:pt x="286" y="110"/>
                            </a:lnTo>
                            <a:lnTo>
                              <a:pt x="277" y="84"/>
                            </a:lnTo>
                            <a:lnTo>
                              <a:pt x="265" y="63"/>
                            </a:lnTo>
                            <a:lnTo>
                              <a:pt x="244" y="42"/>
                            </a:lnTo>
                            <a:lnTo>
                              <a:pt x="223" y="26"/>
                            </a:lnTo>
                            <a:lnTo>
                              <a:pt x="197" y="13"/>
                            </a:lnTo>
                            <a:lnTo>
                              <a:pt x="172" y="5"/>
                            </a:lnTo>
                            <a:lnTo>
                              <a:pt x="143" y="0"/>
                            </a:lnTo>
                            <a:lnTo>
                              <a:pt x="113" y="5"/>
                            </a:lnTo>
                            <a:lnTo>
                              <a:pt x="88" y="13"/>
                            </a:lnTo>
                            <a:lnTo>
                              <a:pt x="63" y="26"/>
                            </a:lnTo>
                            <a:lnTo>
                              <a:pt x="42" y="42"/>
                            </a:lnTo>
                            <a:lnTo>
                              <a:pt x="25" y="63"/>
                            </a:lnTo>
                            <a:lnTo>
                              <a:pt x="12" y="84"/>
                            </a:lnTo>
                            <a:lnTo>
                              <a:pt x="4" y="110"/>
                            </a:lnTo>
                            <a:lnTo>
                              <a:pt x="0" y="139"/>
                            </a:lnTo>
                            <a:lnTo>
                              <a:pt x="4" y="169"/>
                            </a:lnTo>
                            <a:lnTo>
                              <a:pt x="12" y="194"/>
                            </a:lnTo>
                            <a:lnTo>
                              <a:pt x="25" y="219"/>
                            </a:lnTo>
                            <a:lnTo>
                              <a:pt x="42" y="236"/>
                            </a:lnTo>
                            <a:lnTo>
                              <a:pt x="63" y="257"/>
                            </a:lnTo>
                            <a:lnTo>
                              <a:pt x="88" y="269"/>
                            </a:lnTo>
                            <a:lnTo>
                              <a:pt x="113" y="278"/>
                            </a:lnTo>
                            <a:lnTo>
                              <a:pt x="143" y="278"/>
                            </a:lnTo>
                            <a:close/>
                          </a:path>
                        </a:pathLst>
                      </a:custGeom>
                      <a:solidFill>
                        <a:srgbClr val="ffe8f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0" bIns="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  <p:sp>
          <p:nvSpPr>
            <p:cNvPr id="1135" name=""/>
            <p:cNvSpPr/>
            <p:nvPr/>
          </p:nvSpPr>
          <p:spPr>
            <a:xfrm>
              <a:off x="2743200" y="228600"/>
              <a:ext cx="3276720" cy="3124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 advTm="15000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6" name=""/>
          <p:cNvGrpSpPr/>
          <p:nvPr/>
        </p:nvGrpSpPr>
        <p:grpSpPr>
          <a:xfrm>
            <a:off x="1012680" y="1523880"/>
            <a:ext cx="7655040" cy="4114800"/>
            <a:chOff x="1012680" y="1523880"/>
            <a:chExt cx="7655040" cy="4114800"/>
          </a:xfrm>
        </p:grpSpPr>
        <p:grpSp>
          <p:nvGrpSpPr>
            <p:cNvPr id="1137" name=""/>
            <p:cNvGrpSpPr/>
            <p:nvPr/>
          </p:nvGrpSpPr>
          <p:grpSpPr>
            <a:xfrm>
              <a:off x="1012680" y="1523880"/>
              <a:ext cx="3657600" cy="4114800"/>
              <a:chOff x="1012680" y="1523880"/>
              <a:chExt cx="3657600" cy="4114800"/>
            </a:xfrm>
          </p:grpSpPr>
          <p:grpSp>
            <p:nvGrpSpPr>
              <p:cNvPr id="1138" name=""/>
              <p:cNvGrpSpPr/>
              <p:nvPr/>
            </p:nvGrpSpPr>
            <p:grpSpPr>
              <a:xfrm>
                <a:off x="1201320" y="1838160"/>
                <a:ext cx="3176280" cy="3628080"/>
                <a:chOff x="1201320" y="1838160"/>
                <a:chExt cx="3176280" cy="3628080"/>
              </a:xfrm>
            </p:grpSpPr>
            <p:grpSp>
              <p:nvGrpSpPr>
                <p:cNvPr id="1139" name=""/>
                <p:cNvGrpSpPr/>
                <p:nvPr/>
              </p:nvGrpSpPr>
              <p:grpSpPr>
                <a:xfrm>
                  <a:off x="1201320" y="1841760"/>
                  <a:ext cx="3176280" cy="3624480"/>
                  <a:chOff x="1201320" y="1841760"/>
                  <a:chExt cx="3176280" cy="3624480"/>
                </a:xfrm>
              </p:grpSpPr>
              <p:grpSp>
                <p:nvGrpSpPr>
                  <p:cNvPr id="1140" name=""/>
                  <p:cNvGrpSpPr/>
                  <p:nvPr/>
                </p:nvGrpSpPr>
                <p:grpSpPr>
                  <a:xfrm>
                    <a:off x="1201320" y="1841760"/>
                    <a:ext cx="3176280" cy="3624480"/>
                    <a:chOff x="1201320" y="1841760"/>
                    <a:chExt cx="3176280" cy="3624480"/>
                  </a:xfrm>
                </p:grpSpPr>
                <p:grpSp>
                  <p:nvGrpSpPr>
                    <p:cNvPr id="1141" name=""/>
                    <p:cNvGrpSpPr/>
                    <p:nvPr/>
                  </p:nvGrpSpPr>
                  <p:grpSpPr>
                    <a:xfrm>
                      <a:off x="1201320" y="1841760"/>
                      <a:ext cx="3176280" cy="3624480"/>
                      <a:chOff x="1201320" y="1841760"/>
                      <a:chExt cx="3176280" cy="3624480"/>
                    </a:xfrm>
                  </p:grpSpPr>
                  <p:grpSp>
                    <p:nvGrpSpPr>
                      <p:cNvPr id="1142" name=""/>
                      <p:cNvGrpSpPr/>
                      <p:nvPr/>
                    </p:nvGrpSpPr>
                    <p:grpSpPr>
                      <a:xfrm>
                        <a:off x="1201320" y="1841760"/>
                        <a:ext cx="3176280" cy="3624480"/>
                        <a:chOff x="1201320" y="1841760"/>
                        <a:chExt cx="3176280" cy="3624480"/>
                      </a:xfrm>
                    </p:grpSpPr>
                    <p:sp>
                      <p:nvSpPr>
                        <p:cNvPr id="1143" name=""/>
                        <p:cNvSpPr/>
                        <p:nvPr/>
                      </p:nvSpPr>
                      <p:spPr>
                        <a:xfrm>
                          <a:off x="1201320" y="1841760"/>
                          <a:ext cx="3176280" cy="3624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213" h="3261">
                              <a:moveTo>
                                <a:pt x="2696" y="109"/>
                              </a:moveTo>
                              <a:lnTo>
                                <a:pt x="2699" y="122"/>
                              </a:lnTo>
                              <a:lnTo>
                                <a:pt x="2706" y="135"/>
                              </a:lnTo>
                              <a:lnTo>
                                <a:pt x="2715" y="147"/>
                              </a:lnTo>
                              <a:lnTo>
                                <a:pt x="2726" y="157"/>
                              </a:lnTo>
                              <a:lnTo>
                                <a:pt x="2740" y="152"/>
                              </a:lnTo>
                              <a:lnTo>
                                <a:pt x="2752" y="145"/>
                              </a:lnTo>
                              <a:lnTo>
                                <a:pt x="2761" y="135"/>
                              </a:lnTo>
                              <a:lnTo>
                                <a:pt x="2769" y="125"/>
                              </a:lnTo>
                              <a:lnTo>
                                <a:pt x="2779" y="116"/>
                              </a:lnTo>
                              <a:lnTo>
                                <a:pt x="2789" y="111"/>
                              </a:lnTo>
                              <a:lnTo>
                                <a:pt x="2804" y="109"/>
                              </a:lnTo>
                              <a:lnTo>
                                <a:pt x="2821" y="114"/>
                              </a:lnTo>
                              <a:lnTo>
                                <a:pt x="2829" y="132"/>
                              </a:lnTo>
                              <a:lnTo>
                                <a:pt x="2831" y="155"/>
                              </a:lnTo>
                              <a:lnTo>
                                <a:pt x="2832" y="178"/>
                              </a:lnTo>
                              <a:lnTo>
                                <a:pt x="2845" y="195"/>
                              </a:lnTo>
                              <a:lnTo>
                                <a:pt x="2854" y="188"/>
                              </a:lnTo>
                              <a:lnTo>
                                <a:pt x="2864" y="182"/>
                              </a:lnTo>
                              <a:lnTo>
                                <a:pt x="2874" y="177"/>
                              </a:lnTo>
                              <a:lnTo>
                                <a:pt x="2884" y="171"/>
                              </a:lnTo>
                              <a:lnTo>
                                <a:pt x="2894" y="167"/>
                              </a:lnTo>
                              <a:lnTo>
                                <a:pt x="2904" y="162"/>
                              </a:lnTo>
                              <a:lnTo>
                                <a:pt x="2916" y="159"/>
                              </a:lnTo>
                              <a:lnTo>
                                <a:pt x="2926" y="157"/>
                              </a:lnTo>
                              <a:lnTo>
                                <a:pt x="2943" y="167"/>
                              </a:lnTo>
                              <a:lnTo>
                                <a:pt x="2950" y="182"/>
                              </a:lnTo>
                              <a:lnTo>
                                <a:pt x="2950" y="201"/>
                              </a:lnTo>
                              <a:lnTo>
                                <a:pt x="2947" y="221"/>
                              </a:lnTo>
                              <a:lnTo>
                                <a:pt x="2944" y="237"/>
                              </a:lnTo>
                              <a:lnTo>
                                <a:pt x="2947" y="249"/>
                              </a:lnTo>
                              <a:lnTo>
                                <a:pt x="2959" y="251"/>
                              </a:lnTo>
                              <a:lnTo>
                                <a:pt x="2983" y="243"/>
                              </a:lnTo>
                              <a:lnTo>
                                <a:pt x="2996" y="243"/>
                              </a:lnTo>
                              <a:lnTo>
                                <a:pt x="3008" y="244"/>
                              </a:lnTo>
                              <a:lnTo>
                                <a:pt x="3015" y="251"/>
                              </a:lnTo>
                              <a:lnTo>
                                <a:pt x="3018" y="263"/>
                              </a:lnTo>
                              <a:lnTo>
                                <a:pt x="3018" y="279"/>
                              </a:lnTo>
                              <a:lnTo>
                                <a:pt x="3012" y="293"/>
                              </a:lnTo>
                              <a:lnTo>
                                <a:pt x="3005" y="305"/>
                              </a:lnTo>
                              <a:lnTo>
                                <a:pt x="2996" y="316"/>
                              </a:lnTo>
                              <a:lnTo>
                                <a:pt x="2989" y="326"/>
                              </a:lnTo>
                              <a:lnTo>
                                <a:pt x="2983" y="339"/>
                              </a:lnTo>
                              <a:lnTo>
                                <a:pt x="2980" y="352"/>
                              </a:lnTo>
                              <a:lnTo>
                                <a:pt x="2983" y="366"/>
                              </a:lnTo>
                              <a:lnTo>
                                <a:pt x="2973" y="376"/>
                              </a:lnTo>
                              <a:lnTo>
                                <a:pt x="2983" y="382"/>
                              </a:lnTo>
                              <a:lnTo>
                                <a:pt x="2995" y="385"/>
                              </a:lnTo>
                              <a:lnTo>
                                <a:pt x="3006" y="386"/>
                              </a:lnTo>
                              <a:lnTo>
                                <a:pt x="3019" y="386"/>
                              </a:lnTo>
                              <a:lnTo>
                                <a:pt x="3032" y="386"/>
                              </a:lnTo>
                              <a:lnTo>
                                <a:pt x="3044" y="388"/>
                              </a:lnTo>
                              <a:lnTo>
                                <a:pt x="3055" y="391"/>
                              </a:lnTo>
                              <a:lnTo>
                                <a:pt x="3065" y="397"/>
                              </a:lnTo>
                              <a:lnTo>
                                <a:pt x="3091" y="402"/>
                              </a:lnTo>
                              <a:lnTo>
                                <a:pt x="3114" y="409"/>
                              </a:lnTo>
                              <a:lnTo>
                                <a:pt x="3134" y="420"/>
                              </a:lnTo>
                              <a:lnTo>
                                <a:pt x="3151" y="431"/>
                              </a:lnTo>
                              <a:lnTo>
                                <a:pt x="3169" y="445"/>
                              </a:lnTo>
                              <a:lnTo>
                                <a:pt x="3183" y="463"/>
                              </a:lnTo>
                              <a:lnTo>
                                <a:pt x="3199" y="481"/>
                              </a:lnTo>
                              <a:lnTo>
                                <a:pt x="3213" y="503"/>
                              </a:lnTo>
                              <a:lnTo>
                                <a:pt x="3213" y="514"/>
                              </a:lnTo>
                              <a:lnTo>
                                <a:pt x="3209" y="523"/>
                              </a:lnTo>
                              <a:lnTo>
                                <a:pt x="3203" y="532"/>
                              </a:lnTo>
                              <a:lnTo>
                                <a:pt x="3194" y="540"/>
                              </a:lnTo>
                              <a:lnTo>
                                <a:pt x="3183" y="540"/>
                              </a:lnTo>
                              <a:lnTo>
                                <a:pt x="3173" y="537"/>
                              </a:lnTo>
                              <a:lnTo>
                                <a:pt x="3163" y="534"/>
                              </a:lnTo>
                              <a:lnTo>
                                <a:pt x="3154" y="532"/>
                              </a:lnTo>
                              <a:lnTo>
                                <a:pt x="3144" y="526"/>
                              </a:lnTo>
                              <a:lnTo>
                                <a:pt x="3136" y="522"/>
                              </a:lnTo>
                              <a:lnTo>
                                <a:pt x="3125" y="516"/>
                              </a:lnTo>
                              <a:lnTo>
                                <a:pt x="3117" y="510"/>
                              </a:lnTo>
                              <a:lnTo>
                                <a:pt x="3090" y="506"/>
                              </a:lnTo>
                              <a:lnTo>
                                <a:pt x="3062" y="509"/>
                              </a:lnTo>
                              <a:lnTo>
                                <a:pt x="3036" y="514"/>
                              </a:lnTo>
                              <a:lnTo>
                                <a:pt x="3012" y="523"/>
                              </a:lnTo>
                              <a:lnTo>
                                <a:pt x="2988" y="536"/>
                              </a:lnTo>
                              <a:lnTo>
                                <a:pt x="2966" y="550"/>
                              </a:lnTo>
                              <a:lnTo>
                                <a:pt x="2944" y="566"/>
                              </a:lnTo>
                              <a:lnTo>
                                <a:pt x="2926" y="582"/>
                              </a:lnTo>
                              <a:lnTo>
                                <a:pt x="2926" y="613"/>
                              </a:lnTo>
                              <a:lnTo>
                                <a:pt x="2933" y="644"/>
                              </a:lnTo>
                              <a:lnTo>
                                <a:pt x="2944" y="672"/>
                              </a:lnTo>
                              <a:lnTo>
                                <a:pt x="2956" y="700"/>
                              </a:lnTo>
                              <a:lnTo>
                                <a:pt x="2966" y="727"/>
                              </a:lnTo>
                              <a:lnTo>
                                <a:pt x="2972" y="754"/>
                              </a:lnTo>
                              <a:lnTo>
                                <a:pt x="2969" y="783"/>
                              </a:lnTo>
                              <a:lnTo>
                                <a:pt x="2955" y="813"/>
                              </a:lnTo>
                              <a:lnTo>
                                <a:pt x="2952" y="835"/>
                              </a:lnTo>
                              <a:lnTo>
                                <a:pt x="2946" y="855"/>
                              </a:lnTo>
                              <a:lnTo>
                                <a:pt x="2937" y="872"/>
                              </a:lnTo>
                              <a:lnTo>
                                <a:pt x="2926" y="889"/>
                              </a:lnTo>
                              <a:lnTo>
                                <a:pt x="2914" y="894"/>
                              </a:lnTo>
                              <a:lnTo>
                                <a:pt x="2903" y="898"/>
                              </a:lnTo>
                              <a:lnTo>
                                <a:pt x="2891" y="899"/>
                              </a:lnTo>
                              <a:lnTo>
                                <a:pt x="2881" y="899"/>
                              </a:lnTo>
                              <a:lnTo>
                                <a:pt x="2870" y="899"/>
                              </a:lnTo>
                              <a:lnTo>
                                <a:pt x="2858" y="898"/>
                              </a:lnTo>
                              <a:lnTo>
                                <a:pt x="2847" y="894"/>
                              </a:lnTo>
                              <a:lnTo>
                                <a:pt x="2835" y="889"/>
                              </a:lnTo>
                              <a:lnTo>
                                <a:pt x="2835" y="878"/>
                              </a:lnTo>
                              <a:lnTo>
                                <a:pt x="2840" y="868"/>
                              </a:lnTo>
                              <a:lnTo>
                                <a:pt x="2847" y="858"/>
                              </a:lnTo>
                              <a:lnTo>
                                <a:pt x="2855" y="849"/>
                              </a:lnTo>
                              <a:lnTo>
                                <a:pt x="2863" y="840"/>
                              </a:lnTo>
                              <a:lnTo>
                                <a:pt x="2868" y="830"/>
                              </a:lnTo>
                              <a:lnTo>
                                <a:pt x="2871" y="820"/>
                              </a:lnTo>
                              <a:lnTo>
                                <a:pt x="2870" y="807"/>
                              </a:lnTo>
                              <a:lnTo>
                                <a:pt x="2865" y="784"/>
                              </a:lnTo>
                              <a:lnTo>
                                <a:pt x="2857" y="763"/>
                              </a:lnTo>
                              <a:lnTo>
                                <a:pt x="2845" y="743"/>
                              </a:lnTo>
                              <a:lnTo>
                                <a:pt x="2834" y="724"/>
                              </a:lnTo>
                              <a:lnTo>
                                <a:pt x="2821" y="704"/>
                              </a:lnTo>
                              <a:lnTo>
                                <a:pt x="2808" y="684"/>
                              </a:lnTo>
                              <a:lnTo>
                                <a:pt x="2798" y="664"/>
                              </a:lnTo>
                              <a:lnTo>
                                <a:pt x="2792" y="641"/>
                              </a:lnTo>
                              <a:lnTo>
                                <a:pt x="2781" y="672"/>
                              </a:lnTo>
                              <a:lnTo>
                                <a:pt x="2779" y="701"/>
                              </a:lnTo>
                              <a:lnTo>
                                <a:pt x="2785" y="731"/>
                              </a:lnTo>
                              <a:lnTo>
                                <a:pt x="2794" y="760"/>
                              </a:lnTo>
                              <a:lnTo>
                                <a:pt x="2804" y="789"/>
                              </a:lnTo>
                              <a:lnTo>
                                <a:pt x="2811" y="819"/>
                              </a:lnTo>
                              <a:lnTo>
                                <a:pt x="2815" y="851"/>
                              </a:lnTo>
                              <a:lnTo>
                                <a:pt x="2811" y="885"/>
                              </a:lnTo>
                              <a:lnTo>
                                <a:pt x="2802" y="901"/>
                              </a:lnTo>
                              <a:lnTo>
                                <a:pt x="2791" y="917"/>
                              </a:lnTo>
                              <a:lnTo>
                                <a:pt x="2779" y="934"/>
                              </a:lnTo>
                              <a:lnTo>
                                <a:pt x="2766" y="948"/>
                              </a:lnTo>
                              <a:lnTo>
                                <a:pt x="2752" y="963"/>
                              </a:lnTo>
                              <a:lnTo>
                                <a:pt x="2736" y="974"/>
                              </a:lnTo>
                              <a:lnTo>
                                <a:pt x="2719" y="981"/>
                              </a:lnTo>
                              <a:lnTo>
                                <a:pt x="2702" y="986"/>
                              </a:lnTo>
                              <a:lnTo>
                                <a:pt x="2683" y="1055"/>
                              </a:lnTo>
                              <a:lnTo>
                                <a:pt x="2674" y="1125"/>
                              </a:lnTo>
                              <a:lnTo>
                                <a:pt x="2673" y="1197"/>
                              </a:lnTo>
                              <a:lnTo>
                                <a:pt x="2676" y="1272"/>
                              </a:lnTo>
                              <a:lnTo>
                                <a:pt x="2680" y="1346"/>
                              </a:lnTo>
                              <a:lnTo>
                                <a:pt x="2684" y="1424"/>
                              </a:lnTo>
                              <a:lnTo>
                                <a:pt x="2686" y="1503"/>
                              </a:lnTo>
                              <a:lnTo>
                                <a:pt x="2682" y="1583"/>
                              </a:lnTo>
                              <a:lnTo>
                                <a:pt x="2676" y="1639"/>
                              </a:lnTo>
                              <a:lnTo>
                                <a:pt x="2666" y="1694"/>
                              </a:lnTo>
                              <a:lnTo>
                                <a:pt x="2653" y="1749"/>
                              </a:lnTo>
                              <a:lnTo>
                                <a:pt x="2637" y="1800"/>
                              </a:lnTo>
                              <a:lnTo>
                                <a:pt x="2618" y="1852"/>
                              </a:lnTo>
                              <a:lnTo>
                                <a:pt x="2597" y="1902"/>
                              </a:lnTo>
                              <a:lnTo>
                                <a:pt x="2574" y="1950"/>
                              </a:lnTo>
                              <a:lnTo>
                                <a:pt x="2546" y="1997"/>
                              </a:lnTo>
                              <a:lnTo>
                                <a:pt x="2518" y="2042"/>
                              </a:lnTo>
                              <a:lnTo>
                                <a:pt x="2486" y="2085"/>
                              </a:lnTo>
                              <a:lnTo>
                                <a:pt x="2452" y="2126"/>
                              </a:lnTo>
                              <a:lnTo>
                                <a:pt x="2416" y="2165"/>
                              </a:lnTo>
                              <a:lnTo>
                                <a:pt x="2378" y="2203"/>
                              </a:lnTo>
                              <a:lnTo>
                                <a:pt x="2337" y="2238"/>
                              </a:lnTo>
                              <a:lnTo>
                                <a:pt x="2295" y="2271"/>
                              </a:lnTo>
                              <a:lnTo>
                                <a:pt x="2250" y="2302"/>
                              </a:lnTo>
                              <a:lnTo>
                                <a:pt x="2246" y="2309"/>
                              </a:lnTo>
                              <a:lnTo>
                                <a:pt x="2239" y="2315"/>
                              </a:lnTo>
                              <a:lnTo>
                                <a:pt x="2230" y="2322"/>
                              </a:lnTo>
                              <a:lnTo>
                                <a:pt x="2222" y="2329"/>
                              </a:lnTo>
                              <a:lnTo>
                                <a:pt x="2213" y="2336"/>
                              </a:lnTo>
                              <a:lnTo>
                                <a:pt x="2206" y="2342"/>
                              </a:lnTo>
                              <a:lnTo>
                                <a:pt x="2199" y="2349"/>
                              </a:lnTo>
                              <a:lnTo>
                                <a:pt x="2193" y="2355"/>
                              </a:lnTo>
                              <a:lnTo>
                                <a:pt x="2217" y="2353"/>
                              </a:lnTo>
                              <a:lnTo>
                                <a:pt x="2243" y="2349"/>
                              </a:lnTo>
                              <a:lnTo>
                                <a:pt x="2268" y="2343"/>
                              </a:lnTo>
                              <a:lnTo>
                                <a:pt x="2292" y="2336"/>
                              </a:lnTo>
                              <a:lnTo>
                                <a:pt x="2317" y="2329"/>
                              </a:lnTo>
                              <a:lnTo>
                                <a:pt x="2341" y="2322"/>
                              </a:lnTo>
                              <a:lnTo>
                                <a:pt x="2367" y="2317"/>
                              </a:lnTo>
                              <a:lnTo>
                                <a:pt x="2394" y="2316"/>
                              </a:lnTo>
                              <a:lnTo>
                                <a:pt x="2409" y="2346"/>
                              </a:lnTo>
                              <a:lnTo>
                                <a:pt x="2416" y="2376"/>
                              </a:lnTo>
                              <a:lnTo>
                                <a:pt x="2419" y="2408"/>
                              </a:lnTo>
                              <a:lnTo>
                                <a:pt x="2419" y="2440"/>
                              </a:lnTo>
                              <a:lnTo>
                                <a:pt x="2416" y="2473"/>
                              </a:lnTo>
                              <a:lnTo>
                                <a:pt x="2411" y="2506"/>
                              </a:lnTo>
                              <a:lnTo>
                                <a:pt x="2407" y="2540"/>
                              </a:lnTo>
                              <a:lnTo>
                                <a:pt x="2404" y="2576"/>
                              </a:lnTo>
                              <a:lnTo>
                                <a:pt x="2393" y="2603"/>
                              </a:lnTo>
                              <a:lnTo>
                                <a:pt x="2378" y="2626"/>
                              </a:lnTo>
                              <a:lnTo>
                                <a:pt x="2358" y="2645"/>
                              </a:lnTo>
                              <a:lnTo>
                                <a:pt x="2337" y="2662"/>
                              </a:lnTo>
                              <a:lnTo>
                                <a:pt x="2314" y="2675"/>
                              </a:lnTo>
                              <a:lnTo>
                                <a:pt x="2286" y="2687"/>
                              </a:lnTo>
                              <a:lnTo>
                                <a:pt x="2259" y="2694"/>
                              </a:lnTo>
                              <a:lnTo>
                                <a:pt x="2230" y="2700"/>
                              </a:lnTo>
                              <a:lnTo>
                                <a:pt x="2217" y="2702"/>
                              </a:lnTo>
                              <a:lnTo>
                                <a:pt x="2203" y="2704"/>
                              </a:lnTo>
                              <a:lnTo>
                                <a:pt x="2187" y="2704"/>
                              </a:lnTo>
                              <a:lnTo>
                                <a:pt x="2171" y="2702"/>
                              </a:lnTo>
                              <a:lnTo>
                                <a:pt x="2156" y="2700"/>
                              </a:lnTo>
                              <a:lnTo>
                                <a:pt x="2140" y="2695"/>
                              </a:lnTo>
                              <a:lnTo>
                                <a:pt x="2125" y="2690"/>
                              </a:lnTo>
                              <a:lnTo>
                                <a:pt x="2111" y="2681"/>
                              </a:lnTo>
                              <a:lnTo>
                                <a:pt x="2100" y="2667"/>
                              </a:lnTo>
                              <a:lnTo>
                                <a:pt x="2088" y="2651"/>
                              </a:lnTo>
                              <a:lnTo>
                                <a:pt x="2077" y="2634"/>
                              </a:lnTo>
                              <a:lnTo>
                                <a:pt x="2068" y="2616"/>
                              </a:lnTo>
                              <a:lnTo>
                                <a:pt x="2061" y="2598"/>
                              </a:lnTo>
                              <a:lnTo>
                                <a:pt x="2056" y="2579"/>
                              </a:lnTo>
                              <a:lnTo>
                                <a:pt x="2056" y="2560"/>
                              </a:lnTo>
                              <a:lnTo>
                                <a:pt x="2059" y="2542"/>
                              </a:lnTo>
                              <a:lnTo>
                                <a:pt x="2064" y="2542"/>
                              </a:lnTo>
                              <a:lnTo>
                                <a:pt x="2068" y="2539"/>
                              </a:lnTo>
                              <a:lnTo>
                                <a:pt x="2071" y="2536"/>
                              </a:lnTo>
                              <a:lnTo>
                                <a:pt x="2074" y="2532"/>
                              </a:lnTo>
                              <a:lnTo>
                                <a:pt x="2079" y="2544"/>
                              </a:lnTo>
                              <a:lnTo>
                                <a:pt x="2087" y="2556"/>
                              </a:lnTo>
                              <a:lnTo>
                                <a:pt x="2097" y="2565"/>
                              </a:lnTo>
                              <a:lnTo>
                                <a:pt x="2108" y="2572"/>
                              </a:lnTo>
                              <a:lnTo>
                                <a:pt x="2120" y="2579"/>
                              </a:lnTo>
                              <a:lnTo>
                                <a:pt x="2131" y="2583"/>
                              </a:lnTo>
                              <a:lnTo>
                                <a:pt x="2144" y="2589"/>
                              </a:lnTo>
                              <a:lnTo>
                                <a:pt x="2156" y="2593"/>
                              </a:lnTo>
                              <a:lnTo>
                                <a:pt x="2170" y="2589"/>
                              </a:lnTo>
                              <a:lnTo>
                                <a:pt x="2181" y="2582"/>
                              </a:lnTo>
                              <a:lnTo>
                                <a:pt x="2190" y="2573"/>
                              </a:lnTo>
                              <a:lnTo>
                                <a:pt x="2196" y="2562"/>
                              </a:lnTo>
                              <a:lnTo>
                                <a:pt x="2202" y="2549"/>
                              </a:lnTo>
                              <a:lnTo>
                                <a:pt x="2204" y="2536"/>
                              </a:lnTo>
                              <a:lnTo>
                                <a:pt x="2209" y="2523"/>
                              </a:lnTo>
                              <a:lnTo>
                                <a:pt x="2213" y="2509"/>
                              </a:lnTo>
                              <a:lnTo>
                                <a:pt x="2204" y="2493"/>
                              </a:lnTo>
                              <a:lnTo>
                                <a:pt x="2193" y="2486"/>
                              </a:lnTo>
                              <a:lnTo>
                                <a:pt x="2181" y="2486"/>
                              </a:lnTo>
                              <a:lnTo>
                                <a:pt x="2167" y="2488"/>
                              </a:lnTo>
                              <a:lnTo>
                                <a:pt x="2153" y="2496"/>
                              </a:lnTo>
                              <a:lnTo>
                                <a:pt x="2137" y="2501"/>
                              </a:lnTo>
                              <a:lnTo>
                                <a:pt x="2121" y="2506"/>
                              </a:lnTo>
                              <a:lnTo>
                                <a:pt x="2107" y="2504"/>
                              </a:lnTo>
                              <a:lnTo>
                                <a:pt x="2098" y="2501"/>
                              </a:lnTo>
                              <a:lnTo>
                                <a:pt x="2090" y="2500"/>
                              </a:lnTo>
                              <a:lnTo>
                                <a:pt x="2081" y="2498"/>
                              </a:lnTo>
                              <a:lnTo>
                                <a:pt x="2072" y="2497"/>
                              </a:lnTo>
                              <a:lnTo>
                                <a:pt x="2062" y="2498"/>
                              </a:lnTo>
                              <a:lnTo>
                                <a:pt x="2054" y="2500"/>
                              </a:lnTo>
                              <a:lnTo>
                                <a:pt x="2046" y="2503"/>
                              </a:lnTo>
                              <a:lnTo>
                                <a:pt x="2039" y="2509"/>
                              </a:lnTo>
                              <a:lnTo>
                                <a:pt x="1953" y="2470"/>
                              </a:lnTo>
                              <a:lnTo>
                                <a:pt x="1940" y="2475"/>
                              </a:lnTo>
                              <a:lnTo>
                                <a:pt x="1926" y="2481"/>
                              </a:lnTo>
                              <a:lnTo>
                                <a:pt x="1913" y="2486"/>
                              </a:lnTo>
                              <a:lnTo>
                                <a:pt x="1898" y="2491"/>
                              </a:lnTo>
                              <a:lnTo>
                                <a:pt x="1884" y="2496"/>
                              </a:lnTo>
                              <a:lnTo>
                                <a:pt x="1870" y="2500"/>
                              </a:lnTo>
                              <a:lnTo>
                                <a:pt x="1855" y="2503"/>
                              </a:lnTo>
                              <a:lnTo>
                                <a:pt x="1840" y="2504"/>
                              </a:lnTo>
                              <a:lnTo>
                                <a:pt x="1831" y="2509"/>
                              </a:lnTo>
                              <a:lnTo>
                                <a:pt x="1822" y="2511"/>
                              </a:lnTo>
                              <a:lnTo>
                                <a:pt x="1814" y="2513"/>
                              </a:lnTo>
                              <a:lnTo>
                                <a:pt x="1806" y="2516"/>
                              </a:lnTo>
                              <a:lnTo>
                                <a:pt x="1798" y="2519"/>
                              </a:lnTo>
                              <a:lnTo>
                                <a:pt x="1789" y="2520"/>
                              </a:lnTo>
                              <a:lnTo>
                                <a:pt x="1781" y="2523"/>
                              </a:lnTo>
                              <a:lnTo>
                                <a:pt x="1772" y="2527"/>
                              </a:lnTo>
                              <a:lnTo>
                                <a:pt x="1750" y="2529"/>
                              </a:lnTo>
                              <a:lnTo>
                                <a:pt x="1730" y="2532"/>
                              </a:lnTo>
                              <a:lnTo>
                                <a:pt x="1710" y="2534"/>
                              </a:lnTo>
                              <a:lnTo>
                                <a:pt x="1690" y="2539"/>
                              </a:lnTo>
                              <a:lnTo>
                                <a:pt x="1670" y="2544"/>
                              </a:lnTo>
                              <a:lnTo>
                                <a:pt x="1651" y="2550"/>
                              </a:lnTo>
                              <a:lnTo>
                                <a:pt x="1633" y="2557"/>
                              </a:lnTo>
                              <a:lnTo>
                                <a:pt x="1614" y="2566"/>
                              </a:lnTo>
                              <a:lnTo>
                                <a:pt x="1595" y="2575"/>
                              </a:lnTo>
                              <a:lnTo>
                                <a:pt x="1578" y="2585"/>
                              </a:lnTo>
                              <a:lnTo>
                                <a:pt x="1562" y="2596"/>
                              </a:lnTo>
                              <a:lnTo>
                                <a:pt x="1546" y="2608"/>
                              </a:lnTo>
                              <a:lnTo>
                                <a:pt x="1531" y="2619"/>
                              </a:lnTo>
                              <a:lnTo>
                                <a:pt x="1516" y="2632"/>
                              </a:lnTo>
                              <a:lnTo>
                                <a:pt x="1502" y="2646"/>
                              </a:lnTo>
                              <a:lnTo>
                                <a:pt x="1489" y="2661"/>
                              </a:lnTo>
                              <a:lnTo>
                                <a:pt x="1479" y="2674"/>
                              </a:lnTo>
                              <a:lnTo>
                                <a:pt x="1473" y="2688"/>
                              </a:lnTo>
                              <a:lnTo>
                                <a:pt x="1469" y="2702"/>
                              </a:lnTo>
                              <a:lnTo>
                                <a:pt x="1465" y="2718"/>
                              </a:lnTo>
                              <a:lnTo>
                                <a:pt x="1460" y="2734"/>
                              </a:lnTo>
                              <a:lnTo>
                                <a:pt x="1456" y="2748"/>
                              </a:lnTo>
                              <a:lnTo>
                                <a:pt x="1450" y="2764"/>
                              </a:lnTo>
                              <a:lnTo>
                                <a:pt x="1440" y="2777"/>
                              </a:lnTo>
                              <a:lnTo>
                                <a:pt x="1429" y="2769"/>
                              </a:lnTo>
                              <a:lnTo>
                                <a:pt x="1424" y="2756"/>
                              </a:lnTo>
                              <a:lnTo>
                                <a:pt x="1423" y="2741"/>
                              </a:lnTo>
                              <a:lnTo>
                                <a:pt x="1413" y="2730"/>
                              </a:lnTo>
                              <a:lnTo>
                                <a:pt x="1401" y="2744"/>
                              </a:lnTo>
                              <a:lnTo>
                                <a:pt x="1391" y="2760"/>
                              </a:lnTo>
                              <a:lnTo>
                                <a:pt x="1381" y="2777"/>
                              </a:lnTo>
                              <a:lnTo>
                                <a:pt x="1373" y="2796"/>
                              </a:lnTo>
                              <a:lnTo>
                                <a:pt x="1365" y="2816"/>
                              </a:lnTo>
                              <a:lnTo>
                                <a:pt x="1363" y="2838"/>
                              </a:lnTo>
                              <a:lnTo>
                                <a:pt x="1363" y="2859"/>
                              </a:lnTo>
                              <a:lnTo>
                                <a:pt x="1368" y="2881"/>
                              </a:lnTo>
                              <a:lnTo>
                                <a:pt x="1380" y="2896"/>
                              </a:lnTo>
                              <a:lnTo>
                                <a:pt x="1388" y="2915"/>
                              </a:lnTo>
                              <a:lnTo>
                                <a:pt x="1394" y="2934"/>
                              </a:lnTo>
                              <a:lnTo>
                                <a:pt x="1401" y="2952"/>
                              </a:lnTo>
                              <a:lnTo>
                                <a:pt x="1408" y="2971"/>
                              </a:lnTo>
                              <a:lnTo>
                                <a:pt x="1419" y="2987"/>
                              </a:lnTo>
                              <a:lnTo>
                                <a:pt x="1431" y="3001"/>
                              </a:lnTo>
                              <a:lnTo>
                                <a:pt x="1450" y="3011"/>
                              </a:lnTo>
                              <a:lnTo>
                                <a:pt x="1450" y="3019"/>
                              </a:lnTo>
                              <a:lnTo>
                                <a:pt x="1453" y="3024"/>
                              </a:lnTo>
                              <a:lnTo>
                                <a:pt x="1456" y="3030"/>
                              </a:lnTo>
                              <a:lnTo>
                                <a:pt x="1460" y="3034"/>
                              </a:lnTo>
                              <a:lnTo>
                                <a:pt x="1490" y="3036"/>
                              </a:lnTo>
                              <a:lnTo>
                                <a:pt x="1519" y="3036"/>
                              </a:lnTo>
                              <a:lnTo>
                                <a:pt x="1548" y="3037"/>
                              </a:lnTo>
                              <a:lnTo>
                                <a:pt x="1575" y="3037"/>
                              </a:lnTo>
                              <a:lnTo>
                                <a:pt x="1602" y="3039"/>
                              </a:lnTo>
                              <a:lnTo>
                                <a:pt x="1630" y="3040"/>
                              </a:lnTo>
                              <a:lnTo>
                                <a:pt x="1656" y="3042"/>
                              </a:lnTo>
                              <a:lnTo>
                                <a:pt x="1681" y="3044"/>
                              </a:lnTo>
                              <a:lnTo>
                                <a:pt x="1707" y="3047"/>
                              </a:lnTo>
                              <a:lnTo>
                                <a:pt x="1733" y="3052"/>
                              </a:lnTo>
                              <a:lnTo>
                                <a:pt x="1759" y="3057"/>
                              </a:lnTo>
                              <a:lnTo>
                                <a:pt x="1784" y="3063"/>
                              </a:lnTo>
                              <a:lnTo>
                                <a:pt x="1808" y="3072"/>
                              </a:lnTo>
                              <a:lnTo>
                                <a:pt x="1832" y="3082"/>
                              </a:lnTo>
                              <a:lnTo>
                                <a:pt x="1857" y="3093"/>
                              </a:lnTo>
                              <a:lnTo>
                                <a:pt x="1881" y="3106"/>
                              </a:lnTo>
                              <a:lnTo>
                                <a:pt x="1893" y="3123"/>
                              </a:lnTo>
                              <a:lnTo>
                                <a:pt x="1903" y="3138"/>
                              </a:lnTo>
                              <a:lnTo>
                                <a:pt x="1911" y="3154"/>
                              </a:lnTo>
                              <a:lnTo>
                                <a:pt x="1916" y="3174"/>
                              </a:lnTo>
                              <a:lnTo>
                                <a:pt x="1910" y="3175"/>
                              </a:lnTo>
                              <a:lnTo>
                                <a:pt x="1904" y="3179"/>
                              </a:lnTo>
                              <a:lnTo>
                                <a:pt x="1900" y="3184"/>
                              </a:lnTo>
                              <a:lnTo>
                                <a:pt x="1896" y="3188"/>
                              </a:lnTo>
                              <a:lnTo>
                                <a:pt x="1875" y="3177"/>
                              </a:lnTo>
                              <a:lnTo>
                                <a:pt x="1858" y="3167"/>
                              </a:lnTo>
                              <a:lnTo>
                                <a:pt x="1841" y="3156"/>
                              </a:lnTo>
                              <a:lnTo>
                                <a:pt x="1824" y="3149"/>
                              </a:lnTo>
                              <a:lnTo>
                                <a:pt x="1806" y="3142"/>
                              </a:lnTo>
                              <a:lnTo>
                                <a:pt x="1788" y="3138"/>
                              </a:lnTo>
                              <a:lnTo>
                                <a:pt x="1766" y="3134"/>
                              </a:lnTo>
                              <a:lnTo>
                                <a:pt x="1743" y="3131"/>
                              </a:lnTo>
                              <a:lnTo>
                                <a:pt x="1710" y="3116"/>
                              </a:lnTo>
                              <a:lnTo>
                                <a:pt x="1686" y="3115"/>
                              </a:lnTo>
                              <a:lnTo>
                                <a:pt x="1664" y="3113"/>
                              </a:lnTo>
                              <a:lnTo>
                                <a:pt x="1641" y="3111"/>
                              </a:lnTo>
                              <a:lnTo>
                                <a:pt x="1621" y="3108"/>
                              </a:lnTo>
                              <a:lnTo>
                                <a:pt x="1600" y="3105"/>
                              </a:lnTo>
                              <a:lnTo>
                                <a:pt x="1578" y="3103"/>
                              </a:lnTo>
                              <a:lnTo>
                                <a:pt x="1555" y="3103"/>
                              </a:lnTo>
                              <a:lnTo>
                                <a:pt x="1532" y="3106"/>
                              </a:lnTo>
                              <a:lnTo>
                                <a:pt x="1541" y="3118"/>
                              </a:lnTo>
                              <a:lnTo>
                                <a:pt x="1551" y="3128"/>
                              </a:lnTo>
                              <a:lnTo>
                                <a:pt x="1564" y="3136"/>
                              </a:lnTo>
                              <a:lnTo>
                                <a:pt x="1578" y="3144"/>
                              </a:lnTo>
                              <a:lnTo>
                                <a:pt x="1592" y="3151"/>
                              </a:lnTo>
                              <a:lnTo>
                                <a:pt x="1608" y="3158"/>
                              </a:lnTo>
                              <a:lnTo>
                                <a:pt x="1624" y="3162"/>
                              </a:lnTo>
                              <a:lnTo>
                                <a:pt x="1638" y="3168"/>
                              </a:lnTo>
                              <a:lnTo>
                                <a:pt x="1646" y="3172"/>
                              </a:lnTo>
                              <a:lnTo>
                                <a:pt x="1654" y="3175"/>
                              </a:lnTo>
                              <a:lnTo>
                                <a:pt x="1661" y="3179"/>
                              </a:lnTo>
                              <a:lnTo>
                                <a:pt x="1669" y="3184"/>
                              </a:lnTo>
                              <a:lnTo>
                                <a:pt x="1674" y="3190"/>
                              </a:lnTo>
                              <a:lnTo>
                                <a:pt x="1680" y="3197"/>
                              </a:lnTo>
                              <a:lnTo>
                                <a:pt x="1683" y="3204"/>
                              </a:lnTo>
                              <a:lnTo>
                                <a:pt x="1686" y="3213"/>
                              </a:lnTo>
                              <a:lnTo>
                                <a:pt x="1684" y="3221"/>
                              </a:lnTo>
                              <a:lnTo>
                                <a:pt x="1683" y="3230"/>
                              </a:lnTo>
                              <a:lnTo>
                                <a:pt x="1679" y="3240"/>
                              </a:lnTo>
                              <a:lnTo>
                                <a:pt x="1674" y="3248"/>
                              </a:lnTo>
                              <a:lnTo>
                                <a:pt x="1669" y="3256"/>
                              </a:lnTo>
                              <a:lnTo>
                                <a:pt x="1661" y="3260"/>
                              </a:lnTo>
                              <a:lnTo>
                                <a:pt x="1653" y="3261"/>
                              </a:lnTo>
                              <a:lnTo>
                                <a:pt x="1643" y="3260"/>
                              </a:lnTo>
                              <a:lnTo>
                                <a:pt x="1627" y="3247"/>
                              </a:lnTo>
                              <a:lnTo>
                                <a:pt x="1611" y="3234"/>
                              </a:lnTo>
                              <a:lnTo>
                                <a:pt x="1594" y="3221"/>
                              </a:lnTo>
                              <a:lnTo>
                                <a:pt x="1577" y="3208"/>
                              </a:lnTo>
                              <a:lnTo>
                                <a:pt x="1558" y="3197"/>
                              </a:lnTo>
                              <a:lnTo>
                                <a:pt x="1538" y="3185"/>
                              </a:lnTo>
                              <a:lnTo>
                                <a:pt x="1518" y="3174"/>
                              </a:lnTo>
                              <a:lnTo>
                                <a:pt x="1498" y="3165"/>
                              </a:lnTo>
                              <a:lnTo>
                                <a:pt x="1477" y="3156"/>
                              </a:lnTo>
                              <a:lnTo>
                                <a:pt x="1456" y="3149"/>
                              </a:lnTo>
                              <a:lnTo>
                                <a:pt x="1433" y="3144"/>
                              </a:lnTo>
                              <a:lnTo>
                                <a:pt x="1411" y="3139"/>
                              </a:lnTo>
                              <a:lnTo>
                                <a:pt x="1388" y="3136"/>
                              </a:lnTo>
                              <a:lnTo>
                                <a:pt x="1364" y="3135"/>
                              </a:lnTo>
                              <a:lnTo>
                                <a:pt x="1341" y="3136"/>
                              </a:lnTo>
                              <a:lnTo>
                                <a:pt x="1317" y="3141"/>
                              </a:lnTo>
                              <a:lnTo>
                                <a:pt x="1299" y="3129"/>
                              </a:lnTo>
                              <a:lnTo>
                                <a:pt x="1279" y="3128"/>
                              </a:lnTo>
                              <a:lnTo>
                                <a:pt x="1256" y="3134"/>
                              </a:lnTo>
                              <a:lnTo>
                                <a:pt x="1236" y="3139"/>
                              </a:lnTo>
                              <a:lnTo>
                                <a:pt x="1219" y="3145"/>
                              </a:lnTo>
                              <a:lnTo>
                                <a:pt x="1207" y="3142"/>
                              </a:lnTo>
                              <a:lnTo>
                                <a:pt x="1202" y="3126"/>
                              </a:lnTo>
                              <a:lnTo>
                                <a:pt x="1207" y="3096"/>
                              </a:lnTo>
                              <a:lnTo>
                                <a:pt x="1219" y="3088"/>
                              </a:lnTo>
                              <a:lnTo>
                                <a:pt x="1230" y="3082"/>
                              </a:lnTo>
                              <a:lnTo>
                                <a:pt x="1245" y="3076"/>
                              </a:lnTo>
                              <a:lnTo>
                                <a:pt x="1258" y="3072"/>
                              </a:lnTo>
                              <a:lnTo>
                                <a:pt x="1269" y="3066"/>
                              </a:lnTo>
                              <a:lnTo>
                                <a:pt x="1281" y="3060"/>
                              </a:lnTo>
                              <a:lnTo>
                                <a:pt x="1291" y="3052"/>
                              </a:lnTo>
                              <a:lnTo>
                                <a:pt x="1296" y="3040"/>
                              </a:lnTo>
                              <a:lnTo>
                                <a:pt x="1281" y="3020"/>
                              </a:lnTo>
                              <a:lnTo>
                                <a:pt x="1268" y="3000"/>
                              </a:lnTo>
                              <a:lnTo>
                                <a:pt x="1253" y="2980"/>
                              </a:lnTo>
                              <a:lnTo>
                                <a:pt x="1242" y="2958"/>
                              </a:lnTo>
                              <a:lnTo>
                                <a:pt x="1230" y="2937"/>
                              </a:lnTo>
                              <a:lnTo>
                                <a:pt x="1220" y="2915"/>
                              </a:lnTo>
                              <a:lnTo>
                                <a:pt x="1210" y="2892"/>
                              </a:lnTo>
                              <a:lnTo>
                                <a:pt x="1202" y="2868"/>
                              </a:lnTo>
                              <a:lnTo>
                                <a:pt x="1209" y="2839"/>
                              </a:lnTo>
                              <a:lnTo>
                                <a:pt x="1219" y="2812"/>
                              </a:lnTo>
                              <a:lnTo>
                                <a:pt x="1230" y="2784"/>
                              </a:lnTo>
                              <a:lnTo>
                                <a:pt x="1240" y="2757"/>
                              </a:lnTo>
                              <a:lnTo>
                                <a:pt x="1169" y="2753"/>
                              </a:lnTo>
                              <a:lnTo>
                                <a:pt x="1173" y="2740"/>
                              </a:lnTo>
                              <a:lnTo>
                                <a:pt x="1180" y="2730"/>
                              </a:lnTo>
                              <a:lnTo>
                                <a:pt x="1187" y="2721"/>
                              </a:lnTo>
                              <a:lnTo>
                                <a:pt x="1197" y="2713"/>
                              </a:lnTo>
                              <a:lnTo>
                                <a:pt x="1206" y="2705"/>
                              </a:lnTo>
                              <a:lnTo>
                                <a:pt x="1215" y="2697"/>
                              </a:lnTo>
                              <a:lnTo>
                                <a:pt x="1220" y="2687"/>
                              </a:lnTo>
                              <a:lnTo>
                                <a:pt x="1225" y="2675"/>
                              </a:lnTo>
                              <a:lnTo>
                                <a:pt x="1233" y="2668"/>
                              </a:lnTo>
                              <a:lnTo>
                                <a:pt x="1233" y="2658"/>
                              </a:lnTo>
                              <a:lnTo>
                                <a:pt x="1227" y="2646"/>
                              </a:lnTo>
                              <a:lnTo>
                                <a:pt x="1220" y="2638"/>
                              </a:lnTo>
                              <a:lnTo>
                                <a:pt x="1206" y="2625"/>
                              </a:lnTo>
                              <a:lnTo>
                                <a:pt x="1189" y="2613"/>
                              </a:lnTo>
                              <a:lnTo>
                                <a:pt x="1170" y="2605"/>
                              </a:lnTo>
                              <a:lnTo>
                                <a:pt x="1151" y="2595"/>
                              </a:lnTo>
                              <a:lnTo>
                                <a:pt x="1134" y="2585"/>
                              </a:lnTo>
                              <a:lnTo>
                                <a:pt x="1121" y="2570"/>
                              </a:lnTo>
                              <a:lnTo>
                                <a:pt x="1113" y="2555"/>
                              </a:lnTo>
                              <a:lnTo>
                                <a:pt x="1111" y="2532"/>
                              </a:lnTo>
                              <a:lnTo>
                                <a:pt x="1101" y="2517"/>
                              </a:lnTo>
                              <a:lnTo>
                                <a:pt x="1090" y="2503"/>
                              </a:lnTo>
                              <a:lnTo>
                                <a:pt x="1078" y="2491"/>
                              </a:lnTo>
                              <a:lnTo>
                                <a:pt x="1064" y="2480"/>
                              </a:lnTo>
                              <a:lnTo>
                                <a:pt x="1051" y="2468"/>
                              </a:lnTo>
                              <a:lnTo>
                                <a:pt x="1035" y="2460"/>
                              </a:lnTo>
                              <a:lnTo>
                                <a:pt x="1021" y="2450"/>
                              </a:lnTo>
                              <a:lnTo>
                                <a:pt x="1005" y="2442"/>
                              </a:lnTo>
                              <a:lnTo>
                                <a:pt x="988" y="2434"/>
                              </a:lnTo>
                              <a:lnTo>
                                <a:pt x="972" y="2427"/>
                              </a:lnTo>
                              <a:lnTo>
                                <a:pt x="954" y="2419"/>
                              </a:lnTo>
                              <a:lnTo>
                                <a:pt x="937" y="2412"/>
                              </a:lnTo>
                              <a:lnTo>
                                <a:pt x="920" y="2405"/>
                              </a:lnTo>
                              <a:lnTo>
                                <a:pt x="904" y="2398"/>
                              </a:lnTo>
                              <a:lnTo>
                                <a:pt x="887" y="2391"/>
                              </a:lnTo>
                              <a:lnTo>
                                <a:pt x="871" y="2384"/>
                              </a:lnTo>
                              <a:lnTo>
                                <a:pt x="827" y="2372"/>
                              </a:lnTo>
                              <a:lnTo>
                                <a:pt x="783" y="2359"/>
                              </a:lnTo>
                              <a:lnTo>
                                <a:pt x="742" y="2342"/>
                              </a:lnTo>
                              <a:lnTo>
                                <a:pt x="702" y="2322"/>
                              </a:lnTo>
                              <a:lnTo>
                                <a:pt x="663" y="2300"/>
                              </a:lnTo>
                              <a:lnTo>
                                <a:pt x="627" y="2274"/>
                              </a:lnTo>
                              <a:lnTo>
                                <a:pt x="592" y="2247"/>
                              </a:lnTo>
                              <a:lnTo>
                                <a:pt x="559" y="2217"/>
                              </a:lnTo>
                              <a:lnTo>
                                <a:pt x="529" y="2185"/>
                              </a:lnTo>
                              <a:lnTo>
                                <a:pt x="502" y="2151"/>
                              </a:lnTo>
                              <a:lnTo>
                                <a:pt x="477" y="2116"/>
                              </a:lnTo>
                              <a:lnTo>
                                <a:pt x="456" y="2079"/>
                              </a:lnTo>
                              <a:lnTo>
                                <a:pt x="436" y="2040"/>
                              </a:lnTo>
                              <a:lnTo>
                                <a:pt x="420" y="2000"/>
                              </a:lnTo>
                              <a:lnTo>
                                <a:pt x="407" y="1958"/>
                              </a:lnTo>
                              <a:lnTo>
                                <a:pt x="397" y="1915"/>
                              </a:lnTo>
                              <a:lnTo>
                                <a:pt x="393" y="1863"/>
                              </a:lnTo>
                              <a:lnTo>
                                <a:pt x="394" y="1807"/>
                              </a:lnTo>
                              <a:lnTo>
                                <a:pt x="404" y="1751"/>
                              </a:lnTo>
                              <a:lnTo>
                                <a:pt x="421" y="1700"/>
                              </a:lnTo>
                              <a:lnTo>
                                <a:pt x="401" y="1685"/>
                              </a:lnTo>
                              <a:lnTo>
                                <a:pt x="380" y="1669"/>
                              </a:lnTo>
                              <a:lnTo>
                                <a:pt x="357" y="1655"/>
                              </a:lnTo>
                              <a:lnTo>
                                <a:pt x="335" y="1639"/>
                              </a:lnTo>
                              <a:lnTo>
                                <a:pt x="312" y="1622"/>
                              </a:lnTo>
                              <a:lnTo>
                                <a:pt x="291" y="1606"/>
                              </a:lnTo>
                              <a:lnTo>
                                <a:pt x="269" y="1588"/>
                              </a:lnTo>
                              <a:lnTo>
                                <a:pt x="248" y="1569"/>
                              </a:lnTo>
                              <a:lnTo>
                                <a:pt x="227" y="1550"/>
                              </a:lnTo>
                              <a:lnTo>
                                <a:pt x="209" y="1530"/>
                              </a:lnTo>
                              <a:lnTo>
                                <a:pt x="190" y="1510"/>
                              </a:lnTo>
                              <a:lnTo>
                                <a:pt x="174" y="1487"/>
                              </a:lnTo>
                              <a:lnTo>
                                <a:pt x="160" y="1464"/>
                              </a:lnTo>
                              <a:lnTo>
                                <a:pt x="147" y="1440"/>
                              </a:lnTo>
                              <a:lnTo>
                                <a:pt x="137" y="1415"/>
                              </a:lnTo>
                              <a:lnTo>
                                <a:pt x="130" y="1388"/>
                              </a:lnTo>
                              <a:lnTo>
                                <a:pt x="115" y="1363"/>
                              </a:lnTo>
                              <a:lnTo>
                                <a:pt x="107" y="1338"/>
                              </a:lnTo>
                              <a:lnTo>
                                <a:pt x="104" y="1310"/>
                              </a:lnTo>
                              <a:lnTo>
                                <a:pt x="107" y="1283"/>
                              </a:lnTo>
                              <a:lnTo>
                                <a:pt x="112" y="1256"/>
                              </a:lnTo>
                              <a:lnTo>
                                <a:pt x="120" y="1228"/>
                              </a:lnTo>
                              <a:lnTo>
                                <a:pt x="127" y="1201"/>
                              </a:lnTo>
                              <a:lnTo>
                                <a:pt x="134" y="1177"/>
                              </a:lnTo>
                              <a:lnTo>
                                <a:pt x="98" y="1138"/>
                              </a:lnTo>
                              <a:lnTo>
                                <a:pt x="67" y="1096"/>
                              </a:lnTo>
                              <a:lnTo>
                                <a:pt x="41" y="1053"/>
                              </a:lnTo>
                              <a:lnTo>
                                <a:pt x="21" y="1007"/>
                              </a:lnTo>
                              <a:lnTo>
                                <a:pt x="8" y="958"/>
                              </a:lnTo>
                              <a:lnTo>
                                <a:pt x="0" y="908"/>
                              </a:lnTo>
                              <a:lnTo>
                                <a:pt x="0" y="856"/>
                              </a:lnTo>
                              <a:lnTo>
                                <a:pt x="9" y="803"/>
                              </a:lnTo>
                              <a:lnTo>
                                <a:pt x="16" y="786"/>
                              </a:lnTo>
                              <a:lnTo>
                                <a:pt x="25" y="769"/>
                              </a:lnTo>
                              <a:lnTo>
                                <a:pt x="35" y="751"/>
                              </a:lnTo>
                              <a:lnTo>
                                <a:pt x="46" y="734"/>
                              </a:lnTo>
                              <a:lnTo>
                                <a:pt x="59" y="720"/>
                              </a:lnTo>
                              <a:lnTo>
                                <a:pt x="75" y="705"/>
                              </a:lnTo>
                              <a:lnTo>
                                <a:pt x="91" y="695"/>
                              </a:lnTo>
                              <a:lnTo>
                                <a:pt x="110" y="688"/>
                              </a:lnTo>
                              <a:lnTo>
                                <a:pt x="114" y="675"/>
                              </a:lnTo>
                              <a:lnTo>
                                <a:pt x="118" y="662"/>
                              </a:lnTo>
                              <a:lnTo>
                                <a:pt x="120" y="649"/>
                              </a:lnTo>
                              <a:lnTo>
                                <a:pt x="120" y="636"/>
                              </a:lnTo>
                              <a:lnTo>
                                <a:pt x="107" y="616"/>
                              </a:lnTo>
                              <a:lnTo>
                                <a:pt x="102" y="593"/>
                              </a:lnTo>
                              <a:lnTo>
                                <a:pt x="100" y="572"/>
                              </a:lnTo>
                              <a:lnTo>
                                <a:pt x="95" y="550"/>
                              </a:lnTo>
                              <a:lnTo>
                                <a:pt x="81" y="501"/>
                              </a:lnTo>
                              <a:lnTo>
                                <a:pt x="75" y="450"/>
                              </a:lnTo>
                              <a:lnTo>
                                <a:pt x="77" y="395"/>
                              </a:lnTo>
                              <a:lnTo>
                                <a:pt x="81" y="343"/>
                              </a:lnTo>
                              <a:lnTo>
                                <a:pt x="90" y="336"/>
                              </a:lnTo>
                              <a:lnTo>
                                <a:pt x="100" y="330"/>
                              </a:lnTo>
                              <a:lnTo>
                                <a:pt x="110" y="329"/>
                              </a:lnTo>
                              <a:lnTo>
                                <a:pt x="123" y="328"/>
                              </a:lnTo>
                              <a:lnTo>
                                <a:pt x="134" y="329"/>
                              </a:lnTo>
                              <a:lnTo>
                                <a:pt x="146" y="330"/>
                              </a:lnTo>
                              <a:lnTo>
                                <a:pt x="157" y="333"/>
                              </a:lnTo>
                              <a:lnTo>
                                <a:pt x="167" y="335"/>
                              </a:lnTo>
                              <a:lnTo>
                                <a:pt x="192" y="339"/>
                              </a:lnTo>
                              <a:lnTo>
                                <a:pt x="216" y="343"/>
                              </a:lnTo>
                              <a:lnTo>
                                <a:pt x="239" y="351"/>
                              </a:lnTo>
                              <a:lnTo>
                                <a:pt x="263" y="358"/>
                              </a:lnTo>
                              <a:lnTo>
                                <a:pt x="286" y="366"/>
                              </a:lnTo>
                              <a:lnTo>
                                <a:pt x="308" y="375"/>
                              </a:lnTo>
                              <a:lnTo>
                                <a:pt x="331" y="385"/>
                              </a:lnTo>
                              <a:lnTo>
                                <a:pt x="352" y="397"/>
                              </a:lnTo>
                              <a:lnTo>
                                <a:pt x="374" y="408"/>
                              </a:lnTo>
                              <a:lnTo>
                                <a:pt x="396" y="420"/>
                              </a:lnTo>
                              <a:lnTo>
                                <a:pt x="416" y="432"/>
                              </a:lnTo>
                              <a:lnTo>
                                <a:pt x="437" y="444"/>
                              </a:lnTo>
                              <a:lnTo>
                                <a:pt x="457" y="457"/>
                              </a:lnTo>
                              <a:lnTo>
                                <a:pt x="477" y="468"/>
                              </a:lnTo>
                              <a:lnTo>
                                <a:pt x="496" y="481"/>
                              </a:lnTo>
                              <a:lnTo>
                                <a:pt x="516" y="493"/>
                              </a:lnTo>
                              <a:lnTo>
                                <a:pt x="546" y="511"/>
                              </a:lnTo>
                              <a:lnTo>
                                <a:pt x="575" y="532"/>
                              </a:lnTo>
                              <a:lnTo>
                                <a:pt x="605" y="550"/>
                              </a:lnTo>
                              <a:lnTo>
                                <a:pt x="635" y="570"/>
                              </a:lnTo>
                              <a:lnTo>
                                <a:pt x="666" y="590"/>
                              </a:lnTo>
                              <a:lnTo>
                                <a:pt x="694" y="612"/>
                              </a:lnTo>
                              <a:lnTo>
                                <a:pt x="725" y="634"/>
                              </a:lnTo>
                              <a:lnTo>
                                <a:pt x="753" y="655"/>
                              </a:lnTo>
                              <a:lnTo>
                                <a:pt x="781" y="680"/>
                              </a:lnTo>
                              <a:lnTo>
                                <a:pt x="809" y="704"/>
                              </a:lnTo>
                              <a:lnTo>
                                <a:pt x="835" y="728"/>
                              </a:lnTo>
                              <a:lnTo>
                                <a:pt x="861" y="756"/>
                              </a:lnTo>
                              <a:lnTo>
                                <a:pt x="885" y="783"/>
                              </a:lnTo>
                              <a:lnTo>
                                <a:pt x="910" y="812"/>
                              </a:lnTo>
                              <a:lnTo>
                                <a:pt x="931" y="843"/>
                              </a:lnTo>
                              <a:lnTo>
                                <a:pt x="953" y="875"/>
                              </a:lnTo>
                              <a:lnTo>
                                <a:pt x="989" y="905"/>
                              </a:lnTo>
                              <a:lnTo>
                                <a:pt x="1028" y="938"/>
                              </a:lnTo>
                              <a:lnTo>
                                <a:pt x="1067" y="971"/>
                              </a:lnTo>
                              <a:lnTo>
                                <a:pt x="1107" y="1004"/>
                              </a:lnTo>
                              <a:lnTo>
                                <a:pt x="1148" y="1037"/>
                              </a:lnTo>
                              <a:lnTo>
                                <a:pt x="1192" y="1067"/>
                              </a:lnTo>
                              <a:lnTo>
                                <a:pt x="1236" y="1096"/>
                              </a:lnTo>
                              <a:lnTo>
                                <a:pt x="1282" y="1122"/>
                              </a:lnTo>
                              <a:lnTo>
                                <a:pt x="1328" y="1145"/>
                              </a:lnTo>
                              <a:lnTo>
                                <a:pt x="1375" y="1162"/>
                              </a:lnTo>
                              <a:lnTo>
                                <a:pt x="1423" y="1175"/>
                              </a:lnTo>
                              <a:lnTo>
                                <a:pt x="1473" y="1181"/>
                              </a:lnTo>
                              <a:lnTo>
                                <a:pt x="1522" y="1181"/>
                              </a:lnTo>
                              <a:lnTo>
                                <a:pt x="1572" y="1172"/>
                              </a:lnTo>
                              <a:lnTo>
                                <a:pt x="1624" y="1155"/>
                              </a:lnTo>
                              <a:lnTo>
                                <a:pt x="1676" y="1129"/>
                              </a:lnTo>
                              <a:lnTo>
                                <a:pt x="1727" y="1090"/>
                              </a:lnTo>
                              <a:lnTo>
                                <a:pt x="1775" y="1050"/>
                              </a:lnTo>
                              <a:lnTo>
                                <a:pt x="1819" y="1009"/>
                              </a:lnTo>
                              <a:lnTo>
                                <a:pt x="1861" y="964"/>
                              </a:lnTo>
                              <a:lnTo>
                                <a:pt x="1901" y="920"/>
                              </a:lnTo>
                              <a:lnTo>
                                <a:pt x="1940" y="874"/>
                              </a:lnTo>
                              <a:lnTo>
                                <a:pt x="1977" y="826"/>
                              </a:lnTo>
                              <a:lnTo>
                                <a:pt x="2015" y="779"/>
                              </a:lnTo>
                              <a:lnTo>
                                <a:pt x="2051" y="731"/>
                              </a:lnTo>
                              <a:lnTo>
                                <a:pt x="2087" y="684"/>
                              </a:lnTo>
                              <a:lnTo>
                                <a:pt x="2124" y="638"/>
                              </a:lnTo>
                              <a:lnTo>
                                <a:pt x="2161" y="590"/>
                              </a:lnTo>
                              <a:lnTo>
                                <a:pt x="2199" y="545"/>
                              </a:lnTo>
                              <a:lnTo>
                                <a:pt x="2239" y="500"/>
                              </a:lnTo>
                              <a:lnTo>
                                <a:pt x="2282" y="457"/>
                              </a:lnTo>
                              <a:lnTo>
                                <a:pt x="2327" y="415"/>
                              </a:lnTo>
                              <a:lnTo>
                                <a:pt x="2351" y="399"/>
                              </a:lnTo>
                              <a:lnTo>
                                <a:pt x="2375" y="382"/>
                              </a:lnTo>
                              <a:lnTo>
                                <a:pt x="2400" y="366"/>
                              </a:lnTo>
                              <a:lnTo>
                                <a:pt x="2426" y="349"/>
                              </a:lnTo>
                              <a:lnTo>
                                <a:pt x="2450" y="333"/>
                              </a:lnTo>
                              <a:lnTo>
                                <a:pt x="2476" y="319"/>
                              </a:lnTo>
                              <a:lnTo>
                                <a:pt x="2502" y="305"/>
                              </a:lnTo>
                              <a:lnTo>
                                <a:pt x="2528" y="292"/>
                              </a:lnTo>
                              <a:lnTo>
                                <a:pt x="2512" y="270"/>
                              </a:lnTo>
                              <a:lnTo>
                                <a:pt x="2500" y="247"/>
                              </a:lnTo>
                              <a:lnTo>
                                <a:pt x="2493" y="221"/>
                              </a:lnTo>
                              <a:lnTo>
                                <a:pt x="2488" y="194"/>
                              </a:lnTo>
                              <a:lnTo>
                                <a:pt x="2486" y="165"/>
                              </a:lnTo>
                              <a:lnTo>
                                <a:pt x="2486" y="136"/>
                              </a:lnTo>
                              <a:lnTo>
                                <a:pt x="2488" y="108"/>
                              </a:lnTo>
                              <a:lnTo>
                                <a:pt x="2490" y="79"/>
                              </a:lnTo>
                              <a:lnTo>
                                <a:pt x="2495" y="59"/>
                              </a:lnTo>
                              <a:lnTo>
                                <a:pt x="2503" y="43"/>
                              </a:lnTo>
                              <a:lnTo>
                                <a:pt x="2513" y="32"/>
                              </a:lnTo>
                              <a:lnTo>
                                <a:pt x="2528" y="22"/>
                              </a:lnTo>
                              <a:lnTo>
                                <a:pt x="2542" y="16"/>
                              </a:lnTo>
                              <a:lnTo>
                                <a:pt x="2559" y="10"/>
                              </a:lnTo>
                              <a:lnTo>
                                <a:pt x="2577" y="4"/>
                              </a:lnTo>
                              <a:lnTo>
                                <a:pt x="2595" y="0"/>
                              </a:lnTo>
                              <a:lnTo>
                                <a:pt x="2614" y="7"/>
                              </a:lnTo>
                              <a:lnTo>
                                <a:pt x="2630" y="17"/>
                              </a:lnTo>
                              <a:lnTo>
                                <a:pt x="2643" y="30"/>
                              </a:lnTo>
                              <a:lnTo>
                                <a:pt x="2653" y="45"/>
                              </a:lnTo>
                              <a:lnTo>
                                <a:pt x="2663" y="60"/>
                              </a:lnTo>
                              <a:lnTo>
                                <a:pt x="2673" y="78"/>
                              </a:lnTo>
                              <a:lnTo>
                                <a:pt x="2684" y="93"/>
                              </a:lnTo>
                              <a:lnTo>
                                <a:pt x="2696" y="109"/>
                              </a:lnTo>
                              <a:close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44" name=""/>
                        <p:cNvSpPr/>
                        <p:nvPr/>
                      </p:nvSpPr>
                      <p:spPr>
                        <a:xfrm>
                          <a:off x="1417320" y="2134800"/>
                          <a:ext cx="2959920" cy="2622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994" h="2360">
                              <a:moveTo>
                                <a:pt x="2731" y="33"/>
                              </a:moveTo>
                              <a:lnTo>
                                <a:pt x="2738" y="43"/>
                              </a:lnTo>
                              <a:lnTo>
                                <a:pt x="2743" y="56"/>
                              </a:lnTo>
                              <a:lnTo>
                                <a:pt x="2745" y="70"/>
                              </a:lnTo>
                              <a:lnTo>
                                <a:pt x="2748" y="83"/>
                              </a:lnTo>
                              <a:lnTo>
                                <a:pt x="2753" y="96"/>
                              </a:lnTo>
                              <a:lnTo>
                                <a:pt x="2758" y="103"/>
                              </a:lnTo>
                              <a:lnTo>
                                <a:pt x="2768" y="106"/>
                              </a:lnTo>
                              <a:lnTo>
                                <a:pt x="2783" y="100"/>
                              </a:lnTo>
                              <a:lnTo>
                                <a:pt x="2781" y="100"/>
                              </a:lnTo>
                              <a:lnTo>
                                <a:pt x="2780" y="109"/>
                              </a:lnTo>
                              <a:lnTo>
                                <a:pt x="2779" y="119"/>
                              </a:lnTo>
                              <a:lnTo>
                                <a:pt x="2779" y="129"/>
                              </a:lnTo>
                              <a:lnTo>
                                <a:pt x="2806" y="130"/>
                              </a:lnTo>
                              <a:lnTo>
                                <a:pt x="2833" y="132"/>
                              </a:lnTo>
                              <a:lnTo>
                                <a:pt x="2860" y="135"/>
                              </a:lnTo>
                              <a:lnTo>
                                <a:pt x="2886" y="140"/>
                              </a:lnTo>
                              <a:lnTo>
                                <a:pt x="2911" y="149"/>
                              </a:lnTo>
                              <a:lnTo>
                                <a:pt x="2934" y="161"/>
                              </a:lnTo>
                              <a:lnTo>
                                <a:pt x="2954" y="176"/>
                              </a:lnTo>
                              <a:lnTo>
                                <a:pt x="2971" y="196"/>
                              </a:lnTo>
                              <a:lnTo>
                                <a:pt x="2994" y="211"/>
                              </a:lnTo>
                              <a:lnTo>
                                <a:pt x="2975" y="205"/>
                              </a:lnTo>
                              <a:lnTo>
                                <a:pt x="2954" y="198"/>
                              </a:lnTo>
                              <a:lnTo>
                                <a:pt x="2931" y="192"/>
                              </a:lnTo>
                              <a:lnTo>
                                <a:pt x="2908" y="188"/>
                              </a:lnTo>
                              <a:lnTo>
                                <a:pt x="2883" y="184"/>
                              </a:lnTo>
                              <a:lnTo>
                                <a:pt x="2859" y="182"/>
                              </a:lnTo>
                              <a:lnTo>
                                <a:pt x="2837" y="182"/>
                              </a:lnTo>
                              <a:lnTo>
                                <a:pt x="2817" y="186"/>
                              </a:lnTo>
                              <a:lnTo>
                                <a:pt x="2800" y="188"/>
                              </a:lnTo>
                              <a:lnTo>
                                <a:pt x="2783" y="192"/>
                              </a:lnTo>
                              <a:lnTo>
                                <a:pt x="2768" y="198"/>
                              </a:lnTo>
                              <a:lnTo>
                                <a:pt x="2753" y="204"/>
                              </a:lnTo>
                              <a:lnTo>
                                <a:pt x="2737" y="211"/>
                              </a:lnTo>
                              <a:lnTo>
                                <a:pt x="2722" y="217"/>
                              </a:lnTo>
                              <a:lnTo>
                                <a:pt x="2705" y="219"/>
                              </a:lnTo>
                              <a:lnTo>
                                <a:pt x="2688" y="221"/>
                              </a:lnTo>
                              <a:lnTo>
                                <a:pt x="2676" y="231"/>
                              </a:lnTo>
                              <a:lnTo>
                                <a:pt x="2664" y="238"/>
                              </a:lnTo>
                              <a:lnTo>
                                <a:pt x="2651" y="245"/>
                              </a:lnTo>
                              <a:lnTo>
                                <a:pt x="2638" y="252"/>
                              </a:lnTo>
                              <a:lnTo>
                                <a:pt x="2623" y="257"/>
                              </a:lnTo>
                              <a:lnTo>
                                <a:pt x="2609" y="261"/>
                              </a:lnTo>
                              <a:lnTo>
                                <a:pt x="2593" y="265"/>
                              </a:lnTo>
                              <a:lnTo>
                                <a:pt x="2579" y="268"/>
                              </a:lnTo>
                              <a:lnTo>
                                <a:pt x="2563" y="271"/>
                              </a:lnTo>
                              <a:lnTo>
                                <a:pt x="2547" y="273"/>
                              </a:lnTo>
                              <a:lnTo>
                                <a:pt x="2531" y="273"/>
                              </a:lnTo>
                              <a:lnTo>
                                <a:pt x="2517" y="274"/>
                              </a:lnTo>
                              <a:lnTo>
                                <a:pt x="2501" y="274"/>
                              </a:lnTo>
                              <a:lnTo>
                                <a:pt x="2487" y="274"/>
                              </a:lnTo>
                              <a:lnTo>
                                <a:pt x="2472" y="273"/>
                              </a:lnTo>
                              <a:lnTo>
                                <a:pt x="2458" y="273"/>
                              </a:lnTo>
                              <a:lnTo>
                                <a:pt x="2444" y="268"/>
                              </a:lnTo>
                              <a:lnTo>
                                <a:pt x="2432" y="258"/>
                              </a:lnTo>
                              <a:lnTo>
                                <a:pt x="2421" y="247"/>
                              </a:lnTo>
                              <a:lnTo>
                                <a:pt x="2411" y="234"/>
                              </a:lnTo>
                              <a:lnTo>
                                <a:pt x="2401" y="224"/>
                              </a:lnTo>
                              <a:lnTo>
                                <a:pt x="2389" y="217"/>
                              </a:lnTo>
                              <a:lnTo>
                                <a:pt x="2378" y="218"/>
                              </a:lnTo>
                              <a:lnTo>
                                <a:pt x="2362" y="228"/>
                              </a:lnTo>
                              <a:lnTo>
                                <a:pt x="2366" y="244"/>
                              </a:lnTo>
                              <a:lnTo>
                                <a:pt x="2372" y="261"/>
                              </a:lnTo>
                              <a:lnTo>
                                <a:pt x="2379" y="278"/>
                              </a:lnTo>
                              <a:lnTo>
                                <a:pt x="2388" y="294"/>
                              </a:lnTo>
                              <a:lnTo>
                                <a:pt x="2399" y="308"/>
                              </a:lnTo>
                              <a:lnTo>
                                <a:pt x="2411" y="320"/>
                              </a:lnTo>
                              <a:lnTo>
                                <a:pt x="2426" y="329"/>
                              </a:lnTo>
                              <a:lnTo>
                                <a:pt x="2444" y="334"/>
                              </a:lnTo>
                              <a:lnTo>
                                <a:pt x="2422" y="363"/>
                              </a:lnTo>
                              <a:lnTo>
                                <a:pt x="2403" y="395"/>
                              </a:lnTo>
                              <a:lnTo>
                                <a:pt x="2386" y="426"/>
                              </a:lnTo>
                              <a:lnTo>
                                <a:pt x="2372" y="461"/>
                              </a:lnTo>
                              <a:lnTo>
                                <a:pt x="2365" y="495"/>
                              </a:lnTo>
                              <a:lnTo>
                                <a:pt x="2362" y="530"/>
                              </a:lnTo>
                              <a:lnTo>
                                <a:pt x="2368" y="564"/>
                              </a:lnTo>
                              <a:lnTo>
                                <a:pt x="2382" y="597"/>
                              </a:lnTo>
                              <a:lnTo>
                                <a:pt x="2392" y="613"/>
                              </a:lnTo>
                              <a:lnTo>
                                <a:pt x="2402" y="627"/>
                              </a:lnTo>
                              <a:lnTo>
                                <a:pt x="2415" y="640"/>
                              </a:lnTo>
                              <a:lnTo>
                                <a:pt x="2428" y="653"/>
                              </a:lnTo>
                              <a:lnTo>
                                <a:pt x="2441" y="666"/>
                              </a:lnTo>
                              <a:lnTo>
                                <a:pt x="2455" y="678"/>
                              </a:lnTo>
                              <a:lnTo>
                                <a:pt x="2470" y="689"/>
                              </a:lnTo>
                              <a:lnTo>
                                <a:pt x="2485" y="699"/>
                              </a:lnTo>
                              <a:lnTo>
                                <a:pt x="2483" y="732"/>
                              </a:lnTo>
                              <a:lnTo>
                                <a:pt x="2477" y="765"/>
                              </a:lnTo>
                              <a:lnTo>
                                <a:pt x="2468" y="798"/>
                              </a:lnTo>
                              <a:lnTo>
                                <a:pt x="2460" y="831"/>
                              </a:lnTo>
                              <a:lnTo>
                                <a:pt x="2451" y="866"/>
                              </a:lnTo>
                              <a:lnTo>
                                <a:pt x="2444" y="902"/>
                              </a:lnTo>
                              <a:lnTo>
                                <a:pt x="2441" y="939"/>
                              </a:lnTo>
                              <a:lnTo>
                                <a:pt x="2444" y="977"/>
                              </a:lnTo>
                              <a:lnTo>
                                <a:pt x="2432" y="965"/>
                              </a:lnTo>
                              <a:lnTo>
                                <a:pt x="2424" y="954"/>
                              </a:lnTo>
                              <a:lnTo>
                                <a:pt x="2418" y="941"/>
                              </a:lnTo>
                              <a:lnTo>
                                <a:pt x="2412" y="926"/>
                              </a:lnTo>
                              <a:lnTo>
                                <a:pt x="2405" y="915"/>
                              </a:lnTo>
                              <a:lnTo>
                                <a:pt x="2396" y="903"/>
                              </a:lnTo>
                              <a:lnTo>
                                <a:pt x="2383" y="896"/>
                              </a:lnTo>
                              <a:lnTo>
                                <a:pt x="2366" y="890"/>
                              </a:lnTo>
                              <a:lnTo>
                                <a:pt x="2366" y="928"/>
                              </a:lnTo>
                              <a:lnTo>
                                <a:pt x="2373" y="965"/>
                              </a:lnTo>
                              <a:lnTo>
                                <a:pt x="2385" y="1001"/>
                              </a:lnTo>
                              <a:lnTo>
                                <a:pt x="2398" y="1037"/>
                              </a:lnTo>
                              <a:lnTo>
                                <a:pt x="2411" y="1071"/>
                              </a:lnTo>
                              <a:lnTo>
                                <a:pt x="2419" y="1107"/>
                              </a:lnTo>
                              <a:lnTo>
                                <a:pt x="2424" y="1142"/>
                              </a:lnTo>
                              <a:lnTo>
                                <a:pt x="2419" y="1178"/>
                              </a:lnTo>
                              <a:lnTo>
                                <a:pt x="2414" y="1173"/>
                              </a:lnTo>
                              <a:lnTo>
                                <a:pt x="2408" y="1168"/>
                              </a:lnTo>
                              <a:lnTo>
                                <a:pt x="2402" y="1160"/>
                              </a:lnTo>
                              <a:lnTo>
                                <a:pt x="2396" y="1155"/>
                              </a:lnTo>
                              <a:lnTo>
                                <a:pt x="2391" y="1150"/>
                              </a:lnTo>
                              <a:lnTo>
                                <a:pt x="2383" y="1146"/>
                              </a:lnTo>
                              <a:lnTo>
                                <a:pt x="2376" y="1145"/>
                              </a:lnTo>
                              <a:lnTo>
                                <a:pt x="2366" y="1145"/>
                              </a:lnTo>
                              <a:lnTo>
                                <a:pt x="2375" y="1198"/>
                              </a:lnTo>
                              <a:lnTo>
                                <a:pt x="2379" y="1255"/>
                              </a:lnTo>
                              <a:lnTo>
                                <a:pt x="2383" y="1314"/>
                              </a:lnTo>
                              <a:lnTo>
                                <a:pt x="2391" y="1370"/>
                              </a:lnTo>
                              <a:lnTo>
                                <a:pt x="2383" y="1362"/>
                              </a:lnTo>
                              <a:lnTo>
                                <a:pt x="2375" y="1356"/>
                              </a:lnTo>
                              <a:lnTo>
                                <a:pt x="2363" y="1354"/>
                              </a:lnTo>
                              <a:lnTo>
                                <a:pt x="2352" y="1354"/>
                              </a:lnTo>
                              <a:lnTo>
                                <a:pt x="2346" y="1343"/>
                              </a:lnTo>
                              <a:lnTo>
                                <a:pt x="2342" y="1331"/>
                              </a:lnTo>
                              <a:lnTo>
                                <a:pt x="2337" y="1321"/>
                              </a:lnTo>
                              <a:lnTo>
                                <a:pt x="2332" y="1310"/>
                              </a:lnTo>
                              <a:lnTo>
                                <a:pt x="2326" y="1301"/>
                              </a:lnTo>
                              <a:lnTo>
                                <a:pt x="2319" y="1293"/>
                              </a:lnTo>
                              <a:lnTo>
                                <a:pt x="2309" y="1287"/>
                              </a:lnTo>
                              <a:lnTo>
                                <a:pt x="2294" y="1283"/>
                              </a:lnTo>
                              <a:lnTo>
                                <a:pt x="2299" y="1304"/>
                              </a:lnTo>
                              <a:lnTo>
                                <a:pt x="2303" y="1329"/>
                              </a:lnTo>
                              <a:lnTo>
                                <a:pt x="2306" y="1353"/>
                              </a:lnTo>
                              <a:lnTo>
                                <a:pt x="2310" y="1377"/>
                              </a:lnTo>
                              <a:lnTo>
                                <a:pt x="2314" y="1428"/>
                              </a:lnTo>
                              <a:lnTo>
                                <a:pt x="2317" y="1479"/>
                              </a:lnTo>
                              <a:lnTo>
                                <a:pt x="2319" y="1531"/>
                              </a:lnTo>
                              <a:lnTo>
                                <a:pt x="2319" y="1581"/>
                              </a:lnTo>
                              <a:lnTo>
                                <a:pt x="2312" y="1630"/>
                              </a:lnTo>
                              <a:lnTo>
                                <a:pt x="2300" y="1676"/>
                              </a:lnTo>
                              <a:lnTo>
                                <a:pt x="2281" y="1719"/>
                              </a:lnTo>
                              <a:lnTo>
                                <a:pt x="2253" y="1757"/>
                              </a:lnTo>
                              <a:lnTo>
                                <a:pt x="2230" y="1788"/>
                              </a:lnTo>
                              <a:lnTo>
                                <a:pt x="2207" y="1817"/>
                              </a:lnTo>
                              <a:lnTo>
                                <a:pt x="2182" y="1846"/>
                              </a:lnTo>
                              <a:lnTo>
                                <a:pt x="2158" y="1872"/>
                              </a:lnTo>
                              <a:lnTo>
                                <a:pt x="2132" y="1898"/>
                              </a:lnTo>
                              <a:lnTo>
                                <a:pt x="2106" y="1922"/>
                              </a:lnTo>
                              <a:lnTo>
                                <a:pt x="2080" y="1946"/>
                              </a:lnTo>
                              <a:lnTo>
                                <a:pt x="2054" y="1972"/>
                              </a:lnTo>
                              <a:lnTo>
                                <a:pt x="2040" y="1987"/>
                              </a:lnTo>
                              <a:lnTo>
                                <a:pt x="2024" y="2001"/>
                              </a:lnTo>
                              <a:lnTo>
                                <a:pt x="2007" y="2015"/>
                              </a:lnTo>
                              <a:lnTo>
                                <a:pt x="1991" y="2028"/>
                              </a:lnTo>
                              <a:lnTo>
                                <a:pt x="1974" y="2041"/>
                              </a:lnTo>
                              <a:lnTo>
                                <a:pt x="1957" y="2053"/>
                              </a:lnTo>
                              <a:lnTo>
                                <a:pt x="1938" y="2064"/>
                              </a:lnTo>
                              <a:lnTo>
                                <a:pt x="1919" y="2074"/>
                              </a:lnTo>
                              <a:lnTo>
                                <a:pt x="1901" y="2084"/>
                              </a:lnTo>
                              <a:lnTo>
                                <a:pt x="1880" y="2093"/>
                              </a:lnTo>
                              <a:lnTo>
                                <a:pt x="1860" y="2102"/>
                              </a:lnTo>
                              <a:lnTo>
                                <a:pt x="1840" y="2109"/>
                              </a:lnTo>
                              <a:lnTo>
                                <a:pt x="1819" y="2116"/>
                              </a:lnTo>
                              <a:lnTo>
                                <a:pt x="1799" y="2122"/>
                              </a:lnTo>
                              <a:lnTo>
                                <a:pt x="1776" y="2126"/>
                              </a:lnTo>
                              <a:lnTo>
                                <a:pt x="1754" y="2130"/>
                              </a:lnTo>
                              <a:lnTo>
                                <a:pt x="1740" y="2137"/>
                              </a:lnTo>
                              <a:lnTo>
                                <a:pt x="1725" y="2143"/>
                              </a:lnTo>
                              <a:lnTo>
                                <a:pt x="1711" y="2149"/>
                              </a:lnTo>
                              <a:lnTo>
                                <a:pt x="1695" y="2153"/>
                              </a:lnTo>
                              <a:lnTo>
                                <a:pt x="1678" y="2158"/>
                              </a:lnTo>
                              <a:lnTo>
                                <a:pt x="1661" y="2162"/>
                              </a:lnTo>
                              <a:lnTo>
                                <a:pt x="1645" y="2165"/>
                              </a:lnTo>
                              <a:lnTo>
                                <a:pt x="1626" y="2169"/>
                              </a:lnTo>
                              <a:lnTo>
                                <a:pt x="1609" y="2172"/>
                              </a:lnTo>
                              <a:lnTo>
                                <a:pt x="1592" y="2176"/>
                              </a:lnTo>
                              <a:lnTo>
                                <a:pt x="1573" y="2179"/>
                              </a:lnTo>
                              <a:lnTo>
                                <a:pt x="1556" y="2182"/>
                              </a:lnTo>
                              <a:lnTo>
                                <a:pt x="1537" y="2186"/>
                              </a:lnTo>
                              <a:lnTo>
                                <a:pt x="1520" y="2189"/>
                              </a:lnTo>
                              <a:lnTo>
                                <a:pt x="1503" y="2193"/>
                              </a:lnTo>
                              <a:lnTo>
                                <a:pt x="1485" y="2198"/>
                              </a:lnTo>
                              <a:lnTo>
                                <a:pt x="1460" y="2205"/>
                              </a:lnTo>
                              <a:lnTo>
                                <a:pt x="1435" y="2215"/>
                              </a:lnTo>
                              <a:lnTo>
                                <a:pt x="1411" y="2225"/>
                              </a:lnTo>
                              <a:lnTo>
                                <a:pt x="1388" y="2238"/>
                              </a:lnTo>
                              <a:lnTo>
                                <a:pt x="1365" y="2252"/>
                              </a:lnTo>
                              <a:lnTo>
                                <a:pt x="1345" y="2268"/>
                              </a:lnTo>
                              <a:lnTo>
                                <a:pt x="1326" y="2287"/>
                              </a:lnTo>
                              <a:lnTo>
                                <a:pt x="1309" y="2308"/>
                              </a:lnTo>
                              <a:lnTo>
                                <a:pt x="1312" y="2297"/>
                              </a:lnTo>
                              <a:lnTo>
                                <a:pt x="1313" y="2285"/>
                              </a:lnTo>
                              <a:lnTo>
                                <a:pt x="1313" y="2274"/>
                              </a:lnTo>
                              <a:lnTo>
                                <a:pt x="1309" y="2264"/>
                              </a:lnTo>
                              <a:lnTo>
                                <a:pt x="1294" y="2273"/>
                              </a:lnTo>
                              <a:lnTo>
                                <a:pt x="1281" y="2284"/>
                              </a:lnTo>
                              <a:lnTo>
                                <a:pt x="1273" y="2297"/>
                              </a:lnTo>
                              <a:lnTo>
                                <a:pt x="1263" y="2311"/>
                              </a:lnTo>
                              <a:lnTo>
                                <a:pt x="1254" y="2326"/>
                              </a:lnTo>
                              <a:lnTo>
                                <a:pt x="1244" y="2340"/>
                              </a:lnTo>
                              <a:lnTo>
                                <a:pt x="1232" y="2352"/>
                              </a:lnTo>
                              <a:lnTo>
                                <a:pt x="1217" y="2360"/>
                              </a:lnTo>
                              <a:lnTo>
                                <a:pt x="1202" y="2349"/>
                              </a:lnTo>
                              <a:lnTo>
                                <a:pt x="1198" y="2331"/>
                              </a:lnTo>
                              <a:lnTo>
                                <a:pt x="1199" y="2313"/>
                              </a:lnTo>
                              <a:lnTo>
                                <a:pt x="1208" y="2294"/>
                              </a:lnTo>
                              <a:lnTo>
                                <a:pt x="1208" y="2287"/>
                              </a:lnTo>
                              <a:lnTo>
                                <a:pt x="1207" y="2280"/>
                              </a:lnTo>
                              <a:lnTo>
                                <a:pt x="1204" y="2274"/>
                              </a:lnTo>
                              <a:lnTo>
                                <a:pt x="1198" y="2270"/>
                              </a:lnTo>
                              <a:lnTo>
                                <a:pt x="1188" y="2277"/>
                              </a:lnTo>
                              <a:lnTo>
                                <a:pt x="1178" y="2287"/>
                              </a:lnTo>
                              <a:lnTo>
                                <a:pt x="1168" y="2297"/>
                              </a:lnTo>
                              <a:lnTo>
                                <a:pt x="1156" y="2306"/>
                              </a:lnTo>
                              <a:lnTo>
                                <a:pt x="1145" y="2316"/>
                              </a:lnTo>
                              <a:lnTo>
                                <a:pt x="1133" y="2323"/>
                              </a:lnTo>
                              <a:lnTo>
                                <a:pt x="1120" y="2329"/>
                              </a:lnTo>
                              <a:lnTo>
                                <a:pt x="1107" y="2331"/>
                              </a:lnTo>
                              <a:lnTo>
                                <a:pt x="1106" y="2318"/>
                              </a:lnTo>
                              <a:lnTo>
                                <a:pt x="1106" y="2304"/>
                              </a:lnTo>
                              <a:lnTo>
                                <a:pt x="1107" y="2290"/>
                              </a:lnTo>
                              <a:lnTo>
                                <a:pt x="1109" y="2275"/>
                              </a:lnTo>
                              <a:lnTo>
                                <a:pt x="1107" y="2262"/>
                              </a:lnTo>
                              <a:lnTo>
                                <a:pt x="1103" y="2250"/>
                              </a:lnTo>
                              <a:lnTo>
                                <a:pt x="1096" y="2239"/>
                              </a:lnTo>
                              <a:lnTo>
                                <a:pt x="1083" y="2232"/>
                              </a:lnTo>
                              <a:lnTo>
                                <a:pt x="1063" y="2228"/>
                              </a:lnTo>
                              <a:lnTo>
                                <a:pt x="1046" y="2221"/>
                              </a:lnTo>
                              <a:lnTo>
                                <a:pt x="1030" y="2212"/>
                              </a:lnTo>
                              <a:lnTo>
                                <a:pt x="1016" y="2201"/>
                              </a:lnTo>
                              <a:lnTo>
                                <a:pt x="1001" y="2188"/>
                              </a:lnTo>
                              <a:lnTo>
                                <a:pt x="990" y="2173"/>
                              </a:lnTo>
                              <a:lnTo>
                                <a:pt x="978" y="2159"/>
                              </a:lnTo>
                              <a:lnTo>
                                <a:pt x="967" y="2143"/>
                              </a:lnTo>
                              <a:lnTo>
                                <a:pt x="955" y="2129"/>
                              </a:lnTo>
                              <a:lnTo>
                                <a:pt x="942" y="2114"/>
                              </a:lnTo>
                              <a:lnTo>
                                <a:pt x="929" y="2102"/>
                              </a:lnTo>
                              <a:lnTo>
                                <a:pt x="916" y="2090"/>
                              </a:lnTo>
                              <a:lnTo>
                                <a:pt x="901" y="2081"/>
                              </a:lnTo>
                              <a:lnTo>
                                <a:pt x="883" y="2074"/>
                              </a:lnTo>
                              <a:lnTo>
                                <a:pt x="865" y="2070"/>
                              </a:lnTo>
                              <a:lnTo>
                                <a:pt x="843" y="2068"/>
                              </a:lnTo>
                              <a:lnTo>
                                <a:pt x="804" y="2061"/>
                              </a:lnTo>
                              <a:lnTo>
                                <a:pt x="767" y="2053"/>
                              </a:lnTo>
                              <a:lnTo>
                                <a:pt x="730" y="2044"/>
                              </a:lnTo>
                              <a:lnTo>
                                <a:pt x="692" y="2033"/>
                              </a:lnTo>
                              <a:lnTo>
                                <a:pt x="658" y="2020"/>
                              </a:lnTo>
                              <a:lnTo>
                                <a:pt x="622" y="2005"/>
                              </a:lnTo>
                              <a:lnTo>
                                <a:pt x="589" y="1991"/>
                              </a:lnTo>
                              <a:lnTo>
                                <a:pt x="556" y="1974"/>
                              </a:lnTo>
                              <a:lnTo>
                                <a:pt x="524" y="1954"/>
                              </a:lnTo>
                              <a:lnTo>
                                <a:pt x="494" y="1933"/>
                              </a:lnTo>
                              <a:lnTo>
                                <a:pt x="464" y="1910"/>
                              </a:lnTo>
                              <a:lnTo>
                                <a:pt x="437" y="1886"/>
                              </a:lnTo>
                              <a:lnTo>
                                <a:pt x="411" y="1859"/>
                              </a:lnTo>
                              <a:lnTo>
                                <a:pt x="385" y="1831"/>
                              </a:lnTo>
                              <a:lnTo>
                                <a:pt x="362" y="1800"/>
                              </a:lnTo>
                              <a:lnTo>
                                <a:pt x="340" y="1767"/>
                              </a:lnTo>
                              <a:lnTo>
                                <a:pt x="319" y="1731"/>
                              </a:lnTo>
                              <a:lnTo>
                                <a:pt x="300" y="1692"/>
                              </a:lnTo>
                              <a:lnTo>
                                <a:pt x="283" y="1650"/>
                              </a:lnTo>
                              <a:lnTo>
                                <a:pt x="271" y="1607"/>
                              </a:lnTo>
                              <a:lnTo>
                                <a:pt x="264" y="1564"/>
                              </a:lnTo>
                              <a:lnTo>
                                <a:pt x="261" y="1520"/>
                              </a:lnTo>
                              <a:lnTo>
                                <a:pt x="267" y="1475"/>
                              </a:lnTo>
                              <a:lnTo>
                                <a:pt x="278" y="1432"/>
                              </a:lnTo>
                              <a:lnTo>
                                <a:pt x="300" y="1442"/>
                              </a:lnTo>
                              <a:lnTo>
                                <a:pt x="320" y="1451"/>
                              </a:lnTo>
                              <a:lnTo>
                                <a:pt x="342" y="1459"/>
                              </a:lnTo>
                              <a:lnTo>
                                <a:pt x="363" y="1467"/>
                              </a:lnTo>
                              <a:lnTo>
                                <a:pt x="385" y="1472"/>
                              </a:lnTo>
                              <a:lnTo>
                                <a:pt x="406" y="1477"/>
                              </a:lnTo>
                              <a:lnTo>
                                <a:pt x="429" y="1482"/>
                              </a:lnTo>
                              <a:lnTo>
                                <a:pt x="451" y="1485"/>
                              </a:lnTo>
                              <a:lnTo>
                                <a:pt x="474" y="1489"/>
                              </a:lnTo>
                              <a:lnTo>
                                <a:pt x="495" y="1494"/>
                              </a:lnTo>
                              <a:lnTo>
                                <a:pt x="518" y="1497"/>
                              </a:lnTo>
                              <a:lnTo>
                                <a:pt x="541" y="1501"/>
                              </a:lnTo>
                              <a:lnTo>
                                <a:pt x="564" y="1504"/>
                              </a:lnTo>
                              <a:lnTo>
                                <a:pt x="587" y="1508"/>
                              </a:lnTo>
                              <a:lnTo>
                                <a:pt x="610" y="1512"/>
                              </a:lnTo>
                              <a:lnTo>
                                <a:pt x="633" y="1518"/>
                              </a:lnTo>
                              <a:lnTo>
                                <a:pt x="649" y="1538"/>
                              </a:lnTo>
                              <a:lnTo>
                                <a:pt x="666" y="1557"/>
                              </a:lnTo>
                              <a:lnTo>
                                <a:pt x="684" y="1574"/>
                              </a:lnTo>
                              <a:lnTo>
                                <a:pt x="704" y="1589"/>
                              </a:lnTo>
                              <a:lnTo>
                                <a:pt x="724" y="1602"/>
                              </a:lnTo>
                              <a:lnTo>
                                <a:pt x="745" y="1613"/>
                              </a:lnTo>
                              <a:lnTo>
                                <a:pt x="768" y="1623"/>
                              </a:lnTo>
                              <a:lnTo>
                                <a:pt x="791" y="1632"/>
                              </a:lnTo>
                              <a:lnTo>
                                <a:pt x="814" y="1640"/>
                              </a:lnTo>
                              <a:lnTo>
                                <a:pt x="839" y="1646"/>
                              </a:lnTo>
                              <a:lnTo>
                                <a:pt x="865" y="1650"/>
                              </a:lnTo>
                              <a:lnTo>
                                <a:pt x="891" y="1655"/>
                              </a:lnTo>
                              <a:lnTo>
                                <a:pt x="916" y="1658"/>
                              </a:lnTo>
                              <a:lnTo>
                                <a:pt x="942" y="1659"/>
                              </a:lnTo>
                              <a:lnTo>
                                <a:pt x="970" y="1660"/>
                              </a:lnTo>
                              <a:lnTo>
                                <a:pt x="997" y="1660"/>
                              </a:lnTo>
                              <a:lnTo>
                                <a:pt x="968" y="1686"/>
                              </a:lnTo>
                              <a:lnTo>
                                <a:pt x="939" y="1709"/>
                              </a:lnTo>
                              <a:lnTo>
                                <a:pt x="909" y="1734"/>
                              </a:lnTo>
                              <a:lnTo>
                                <a:pt x="880" y="1757"/>
                              </a:lnTo>
                              <a:lnTo>
                                <a:pt x="855" y="1783"/>
                              </a:lnTo>
                              <a:lnTo>
                                <a:pt x="833" y="1811"/>
                              </a:lnTo>
                              <a:lnTo>
                                <a:pt x="819" y="1843"/>
                              </a:lnTo>
                              <a:lnTo>
                                <a:pt x="810" y="1880"/>
                              </a:lnTo>
                              <a:lnTo>
                                <a:pt x="820" y="1910"/>
                              </a:lnTo>
                              <a:lnTo>
                                <a:pt x="836" y="1933"/>
                              </a:lnTo>
                              <a:lnTo>
                                <a:pt x="857" y="1948"/>
                              </a:lnTo>
                              <a:lnTo>
                                <a:pt x="882" y="1958"/>
                              </a:lnTo>
                              <a:lnTo>
                                <a:pt x="909" y="1964"/>
                              </a:lnTo>
                              <a:lnTo>
                                <a:pt x="938" y="1968"/>
                              </a:lnTo>
                              <a:lnTo>
                                <a:pt x="967" y="1972"/>
                              </a:lnTo>
                              <a:lnTo>
                                <a:pt x="993" y="1977"/>
                              </a:lnTo>
                              <a:lnTo>
                                <a:pt x="1014" y="1979"/>
                              </a:lnTo>
                              <a:lnTo>
                                <a:pt x="1034" y="1981"/>
                              </a:lnTo>
                              <a:lnTo>
                                <a:pt x="1056" y="1982"/>
                              </a:lnTo>
                              <a:lnTo>
                                <a:pt x="1076" y="1982"/>
                              </a:lnTo>
                              <a:lnTo>
                                <a:pt x="1096" y="1982"/>
                              </a:lnTo>
                              <a:lnTo>
                                <a:pt x="1118" y="1981"/>
                              </a:lnTo>
                              <a:lnTo>
                                <a:pt x="1138" y="1981"/>
                              </a:lnTo>
                              <a:lnTo>
                                <a:pt x="1158" y="1979"/>
                              </a:lnTo>
                              <a:lnTo>
                                <a:pt x="1179" y="1977"/>
                              </a:lnTo>
                              <a:lnTo>
                                <a:pt x="1199" y="1974"/>
                              </a:lnTo>
                              <a:lnTo>
                                <a:pt x="1220" y="1971"/>
                              </a:lnTo>
                              <a:lnTo>
                                <a:pt x="1241" y="1968"/>
                              </a:lnTo>
                              <a:lnTo>
                                <a:pt x="1261" y="1965"/>
                              </a:lnTo>
                              <a:lnTo>
                                <a:pt x="1281" y="1961"/>
                              </a:lnTo>
                              <a:lnTo>
                                <a:pt x="1303" y="1956"/>
                              </a:lnTo>
                              <a:lnTo>
                                <a:pt x="1323" y="1952"/>
                              </a:lnTo>
                              <a:lnTo>
                                <a:pt x="1335" y="1948"/>
                              </a:lnTo>
                              <a:lnTo>
                                <a:pt x="1346" y="1943"/>
                              </a:lnTo>
                              <a:lnTo>
                                <a:pt x="1357" y="1939"/>
                              </a:lnTo>
                              <a:lnTo>
                                <a:pt x="1369" y="1935"/>
                              </a:lnTo>
                              <a:lnTo>
                                <a:pt x="1380" y="1931"/>
                              </a:lnTo>
                              <a:lnTo>
                                <a:pt x="1392" y="1926"/>
                              </a:lnTo>
                              <a:lnTo>
                                <a:pt x="1403" y="1923"/>
                              </a:lnTo>
                              <a:lnTo>
                                <a:pt x="1414" y="1921"/>
                              </a:lnTo>
                              <a:lnTo>
                                <a:pt x="1434" y="1910"/>
                              </a:lnTo>
                              <a:lnTo>
                                <a:pt x="1452" y="1899"/>
                              </a:lnTo>
                              <a:lnTo>
                                <a:pt x="1472" y="1889"/>
                              </a:lnTo>
                              <a:lnTo>
                                <a:pt x="1491" y="1879"/>
                              </a:lnTo>
                              <a:lnTo>
                                <a:pt x="1511" y="1869"/>
                              </a:lnTo>
                              <a:lnTo>
                                <a:pt x="1530" y="1857"/>
                              </a:lnTo>
                              <a:lnTo>
                                <a:pt x="1549" y="1847"/>
                              </a:lnTo>
                              <a:lnTo>
                                <a:pt x="1567" y="1836"/>
                              </a:lnTo>
                              <a:lnTo>
                                <a:pt x="1586" y="1824"/>
                              </a:lnTo>
                              <a:lnTo>
                                <a:pt x="1603" y="1813"/>
                              </a:lnTo>
                              <a:lnTo>
                                <a:pt x="1620" y="1800"/>
                              </a:lnTo>
                              <a:lnTo>
                                <a:pt x="1639" y="1788"/>
                              </a:lnTo>
                              <a:lnTo>
                                <a:pt x="1656" y="1775"/>
                              </a:lnTo>
                              <a:lnTo>
                                <a:pt x="1672" y="1761"/>
                              </a:lnTo>
                              <a:lnTo>
                                <a:pt x="1689" y="1747"/>
                              </a:lnTo>
                              <a:lnTo>
                                <a:pt x="1705" y="1732"/>
                              </a:lnTo>
                              <a:lnTo>
                                <a:pt x="1731" y="1702"/>
                              </a:lnTo>
                              <a:lnTo>
                                <a:pt x="1757" y="1672"/>
                              </a:lnTo>
                              <a:lnTo>
                                <a:pt x="1783" y="1642"/>
                              </a:lnTo>
                              <a:lnTo>
                                <a:pt x="1810" y="1610"/>
                              </a:lnTo>
                              <a:lnTo>
                                <a:pt x="1837" y="1579"/>
                              </a:lnTo>
                              <a:lnTo>
                                <a:pt x="1863" y="1546"/>
                              </a:lnTo>
                              <a:lnTo>
                                <a:pt x="1889" y="1514"/>
                              </a:lnTo>
                              <a:lnTo>
                                <a:pt x="1914" y="1479"/>
                              </a:lnTo>
                              <a:lnTo>
                                <a:pt x="1938" y="1445"/>
                              </a:lnTo>
                              <a:lnTo>
                                <a:pt x="1960" y="1410"/>
                              </a:lnTo>
                              <a:lnTo>
                                <a:pt x="1981" y="1375"/>
                              </a:lnTo>
                              <a:lnTo>
                                <a:pt x="2000" y="1339"/>
                              </a:lnTo>
                              <a:lnTo>
                                <a:pt x="2016" y="1301"/>
                              </a:lnTo>
                              <a:lnTo>
                                <a:pt x="2030" y="1262"/>
                              </a:lnTo>
                              <a:lnTo>
                                <a:pt x="2041" y="1222"/>
                              </a:lnTo>
                              <a:lnTo>
                                <a:pt x="2050" y="1182"/>
                              </a:lnTo>
                              <a:lnTo>
                                <a:pt x="2059" y="1146"/>
                              </a:lnTo>
                              <a:lnTo>
                                <a:pt x="2064" y="1110"/>
                              </a:lnTo>
                              <a:lnTo>
                                <a:pt x="2064" y="1074"/>
                              </a:lnTo>
                              <a:lnTo>
                                <a:pt x="2063" y="1037"/>
                              </a:lnTo>
                              <a:lnTo>
                                <a:pt x="2057" y="1000"/>
                              </a:lnTo>
                              <a:lnTo>
                                <a:pt x="2050" y="962"/>
                              </a:lnTo>
                              <a:lnTo>
                                <a:pt x="2041" y="926"/>
                              </a:lnTo>
                              <a:lnTo>
                                <a:pt x="2031" y="890"/>
                              </a:lnTo>
                              <a:lnTo>
                                <a:pt x="2014" y="889"/>
                              </a:lnTo>
                              <a:lnTo>
                                <a:pt x="2010" y="898"/>
                              </a:lnTo>
                              <a:lnTo>
                                <a:pt x="2010" y="910"/>
                              </a:lnTo>
                              <a:lnTo>
                                <a:pt x="2007" y="919"/>
                              </a:lnTo>
                              <a:lnTo>
                                <a:pt x="2014" y="988"/>
                              </a:lnTo>
                              <a:lnTo>
                                <a:pt x="2008" y="1054"/>
                              </a:lnTo>
                              <a:lnTo>
                                <a:pt x="1991" y="1117"/>
                              </a:lnTo>
                              <a:lnTo>
                                <a:pt x="1968" y="1179"/>
                              </a:lnTo>
                              <a:lnTo>
                                <a:pt x="1938" y="1238"/>
                              </a:lnTo>
                              <a:lnTo>
                                <a:pt x="1906" y="1297"/>
                              </a:lnTo>
                              <a:lnTo>
                                <a:pt x="1875" y="1353"/>
                              </a:lnTo>
                              <a:lnTo>
                                <a:pt x="1845" y="1408"/>
                              </a:lnTo>
                              <a:lnTo>
                                <a:pt x="1823" y="1438"/>
                              </a:lnTo>
                              <a:lnTo>
                                <a:pt x="1801" y="1467"/>
                              </a:lnTo>
                              <a:lnTo>
                                <a:pt x="1777" y="1492"/>
                              </a:lnTo>
                              <a:lnTo>
                                <a:pt x="1751" y="1518"/>
                              </a:lnTo>
                              <a:lnTo>
                                <a:pt x="1725" y="1543"/>
                              </a:lnTo>
                              <a:lnTo>
                                <a:pt x="1698" y="1566"/>
                              </a:lnTo>
                              <a:lnTo>
                                <a:pt x="1669" y="1587"/>
                              </a:lnTo>
                              <a:lnTo>
                                <a:pt x="1639" y="1609"/>
                              </a:lnTo>
                              <a:lnTo>
                                <a:pt x="1610" y="1630"/>
                              </a:lnTo>
                              <a:lnTo>
                                <a:pt x="1579" y="1652"/>
                              </a:lnTo>
                              <a:lnTo>
                                <a:pt x="1549" y="1672"/>
                              </a:lnTo>
                              <a:lnTo>
                                <a:pt x="1518" y="1692"/>
                              </a:lnTo>
                              <a:lnTo>
                                <a:pt x="1487" y="1712"/>
                              </a:lnTo>
                              <a:lnTo>
                                <a:pt x="1457" y="1734"/>
                              </a:lnTo>
                              <a:lnTo>
                                <a:pt x="1425" y="1755"/>
                              </a:lnTo>
                              <a:lnTo>
                                <a:pt x="1395" y="1777"/>
                              </a:lnTo>
                              <a:lnTo>
                                <a:pt x="1378" y="1784"/>
                              </a:lnTo>
                              <a:lnTo>
                                <a:pt x="1360" y="1793"/>
                              </a:lnTo>
                              <a:lnTo>
                                <a:pt x="1343" y="1800"/>
                              </a:lnTo>
                              <a:lnTo>
                                <a:pt x="1326" y="1806"/>
                              </a:lnTo>
                              <a:lnTo>
                                <a:pt x="1309" y="1813"/>
                              </a:lnTo>
                              <a:lnTo>
                                <a:pt x="1293" y="1819"/>
                              </a:lnTo>
                              <a:lnTo>
                                <a:pt x="1276" y="1824"/>
                              </a:lnTo>
                              <a:lnTo>
                                <a:pt x="1258" y="1830"/>
                              </a:lnTo>
                              <a:lnTo>
                                <a:pt x="1243" y="1836"/>
                              </a:lnTo>
                              <a:lnTo>
                                <a:pt x="1225" y="1840"/>
                              </a:lnTo>
                              <a:lnTo>
                                <a:pt x="1207" y="1844"/>
                              </a:lnTo>
                              <a:lnTo>
                                <a:pt x="1189" y="1847"/>
                              </a:lnTo>
                              <a:lnTo>
                                <a:pt x="1171" y="1850"/>
                              </a:lnTo>
                              <a:lnTo>
                                <a:pt x="1152" y="1853"/>
                              </a:lnTo>
                              <a:lnTo>
                                <a:pt x="1133" y="1856"/>
                              </a:lnTo>
                              <a:lnTo>
                                <a:pt x="1113" y="1857"/>
                              </a:lnTo>
                              <a:lnTo>
                                <a:pt x="1102" y="1853"/>
                              </a:lnTo>
                              <a:lnTo>
                                <a:pt x="1089" y="1850"/>
                              </a:lnTo>
                              <a:lnTo>
                                <a:pt x="1076" y="1847"/>
                              </a:lnTo>
                              <a:lnTo>
                                <a:pt x="1063" y="1844"/>
                              </a:lnTo>
                              <a:lnTo>
                                <a:pt x="1051" y="1841"/>
                              </a:lnTo>
                              <a:lnTo>
                                <a:pt x="1040" y="1837"/>
                              </a:lnTo>
                              <a:lnTo>
                                <a:pt x="1030" y="1831"/>
                              </a:lnTo>
                              <a:lnTo>
                                <a:pt x="1021" y="1824"/>
                              </a:lnTo>
                              <a:lnTo>
                                <a:pt x="1018" y="1800"/>
                              </a:lnTo>
                              <a:lnTo>
                                <a:pt x="1020" y="1775"/>
                              </a:lnTo>
                              <a:lnTo>
                                <a:pt x="1023" y="1752"/>
                              </a:lnTo>
                              <a:lnTo>
                                <a:pt x="1030" y="1731"/>
                              </a:lnTo>
                              <a:lnTo>
                                <a:pt x="1041" y="1711"/>
                              </a:lnTo>
                              <a:lnTo>
                                <a:pt x="1054" y="1692"/>
                              </a:lnTo>
                              <a:lnTo>
                                <a:pt x="1072" y="1675"/>
                              </a:lnTo>
                              <a:lnTo>
                                <a:pt x="1093" y="1660"/>
                              </a:lnTo>
                              <a:lnTo>
                                <a:pt x="1113" y="1652"/>
                              </a:lnTo>
                              <a:lnTo>
                                <a:pt x="1132" y="1642"/>
                              </a:lnTo>
                              <a:lnTo>
                                <a:pt x="1149" y="1630"/>
                              </a:lnTo>
                              <a:lnTo>
                                <a:pt x="1166" y="1617"/>
                              </a:lnTo>
                              <a:lnTo>
                                <a:pt x="1182" y="1603"/>
                              </a:lnTo>
                              <a:lnTo>
                                <a:pt x="1198" y="1590"/>
                              </a:lnTo>
                              <a:lnTo>
                                <a:pt x="1215" y="1577"/>
                              </a:lnTo>
                              <a:lnTo>
                                <a:pt x="1232" y="1566"/>
                              </a:lnTo>
                              <a:lnTo>
                                <a:pt x="1232" y="1546"/>
                              </a:lnTo>
                              <a:lnTo>
                                <a:pt x="1215" y="1546"/>
                              </a:lnTo>
                              <a:lnTo>
                                <a:pt x="1198" y="1547"/>
                              </a:lnTo>
                              <a:lnTo>
                                <a:pt x="1182" y="1550"/>
                              </a:lnTo>
                              <a:lnTo>
                                <a:pt x="1166" y="1554"/>
                              </a:lnTo>
                              <a:lnTo>
                                <a:pt x="1151" y="1558"/>
                              </a:lnTo>
                              <a:lnTo>
                                <a:pt x="1136" y="1564"/>
                              </a:lnTo>
                              <a:lnTo>
                                <a:pt x="1120" y="1570"/>
                              </a:lnTo>
                              <a:lnTo>
                                <a:pt x="1105" y="1576"/>
                              </a:lnTo>
                              <a:lnTo>
                                <a:pt x="1090" y="1581"/>
                              </a:lnTo>
                              <a:lnTo>
                                <a:pt x="1074" y="1587"/>
                              </a:lnTo>
                              <a:lnTo>
                                <a:pt x="1059" y="1591"/>
                              </a:lnTo>
                              <a:lnTo>
                                <a:pt x="1043" y="1594"/>
                              </a:lnTo>
                              <a:lnTo>
                                <a:pt x="1026" y="1597"/>
                              </a:lnTo>
                              <a:lnTo>
                                <a:pt x="1008" y="1597"/>
                              </a:lnTo>
                              <a:lnTo>
                                <a:pt x="991" y="1596"/>
                              </a:lnTo>
                              <a:lnTo>
                                <a:pt x="972" y="1593"/>
                              </a:lnTo>
                              <a:lnTo>
                                <a:pt x="941" y="1581"/>
                              </a:lnTo>
                              <a:lnTo>
                                <a:pt x="908" y="1571"/>
                              </a:lnTo>
                              <a:lnTo>
                                <a:pt x="875" y="1561"/>
                              </a:lnTo>
                              <a:lnTo>
                                <a:pt x="843" y="1548"/>
                              </a:lnTo>
                              <a:lnTo>
                                <a:pt x="813" y="1534"/>
                              </a:lnTo>
                              <a:lnTo>
                                <a:pt x="789" y="1514"/>
                              </a:lnTo>
                              <a:lnTo>
                                <a:pt x="771" y="1485"/>
                              </a:lnTo>
                              <a:lnTo>
                                <a:pt x="761" y="1449"/>
                              </a:lnTo>
                              <a:lnTo>
                                <a:pt x="770" y="1423"/>
                              </a:lnTo>
                              <a:lnTo>
                                <a:pt x="780" y="1399"/>
                              </a:lnTo>
                              <a:lnTo>
                                <a:pt x="794" y="1377"/>
                              </a:lnTo>
                              <a:lnTo>
                                <a:pt x="810" y="1359"/>
                              </a:lnTo>
                              <a:lnTo>
                                <a:pt x="827" y="1342"/>
                              </a:lnTo>
                              <a:lnTo>
                                <a:pt x="849" y="1326"/>
                              </a:lnTo>
                              <a:lnTo>
                                <a:pt x="872" y="1313"/>
                              </a:lnTo>
                              <a:lnTo>
                                <a:pt x="898" y="1301"/>
                              </a:lnTo>
                              <a:lnTo>
                                <a:pt x="893" y="1293"/>
                              </a:lnTo>
                              <a:lnTo>
                                <a:pt x="891" y="1283"/>
                              </a:lnTo>
                              <a:lnTo>
                                <a:pt x="885" y="1277"/>
                              </a:lnTo>
                              <a:lnTo>
                                <a:pt x="873" y="1274"/>
                              </a:lnTo>
                              <a:lnTo>
                                <a:pt x="855" y="1280"/>
                              </a:lnTo>
                              <a:lnTo>
                                <a:pt x="836" y="1287"/>
                              </a:lnTo>
                              <a:lnTo>
                                <a:pt x="816" y="1294"/>
                              </a:lnTo>
                              <a:lnTo>
                                <a:pt x="797" y="1301"/>
                              </a:lnTo>
                              <a:lnTo>
                                <a:pt x="778" y="1308"/>
                              </a:lnTo>
                              <a:lnTo>
                                <a:pt x="760" y="1319"/>
                              </a:lnTo>
                              <a:lnTo>
                                <a:pt x="743" y="1327"/>
                              </a:lnTo>
                              <a:lnTo>
                                <a:pt x="725" y="1337"/>
                              </a:lnTo>
                              <a:lnTo>
                                <a:pt x="708" y="1349"/>
                              </a:lnTo>
                              <a:lnTo>
                                <a:pt x="692" y="1360"/>
                              </a:lnTo>
                              <a:lnTo>
                                <a:pt x="678" y="1373"/>
                              </a:lnTo>
                              <a:lnTo>
                                <a:pt x="664" y="1387"/>
                              </a:lnTo>
                              <a:lnTo>
                                <a:pt x="651" y="1403"/>
                              </a:lnTo>
                              <a:lnTo>
                                <a:pt x="641" y="1419"/>
                              </a:lnTo>
                              <a:lnTo>
                                <a:pt x="630" y="1436"/>
                              </a:lnTo>
                              <a:lnTo>
                                <a:pt x="623" y="1455"/>
                              </a:lnTo>
                              <a:lnTo>
                                <a:pt x="623" y="1474"/>
                              </a:lnTo>
                              <a:lnTo>
                                <a:pt x="602" y="1474"/>
                              </a:lnTo>
                              <a:lnTo>
                                <a:pt x="580" y="1469"/>
                              </a:lnTo>
                              <a:lnTo>
                                <a:pt x="560" y="1462"/>
                              </a:lnTo>
                              <a:lnTo>
                                <a:pt x="539" y="1452"/>
                              </a:lnTo>
                              <a:lnTo>
                                <a:pt x="517" y="1444"/>
                              </a:lnTo>
                              <a:lnTo>
                                <a:pt x="497" y="1435"/>
                              </a:lnTo>
                              <a:lnTo>
                                <a:pt x="474" y="1429"/>
                              </a:lnTo>
                              <a:lnTo>
                                <a:pt x="451" y="1426"/>
                              </a:lnTo>
                              <a:lnTo>
                                <a:pt x="408" y="1402"/>
                              </a:lnTo>
                              <a:lnTo>
                                <a:pt x="426" y="1396"/>
                              </a:lnTo>
                              <a:lnTo>
                                <a:pt x="445" y="1393"/>
                              </a:lnTo>
                              <a:lnTo>
                                <a:pt x="464" y="1393"/>
                              </a:lnTo>
                              <a:lnTo>
                                <a:pt x="482" y="1392"/>
                              </a:lnTo>
                              <a:lnTo>
                                <a:pt x="501" y="1390"/>
                              </a:lnTo>
                              <a:lnTo>
                                <a:pt x="518" y="1386"/>
                              </a:lnTo>
                              <a:lnTo>
                                <a:pt x="536" y="1377"/>
                              </a:lnTo>
                              <a:lnTo>
                                <a:pt x="551" y="1364"/>
                              </a:lnTo>
                              <a:lnTo>
                                <a:pt x="549" y="1354"/>
                              </a:lnTo>
                              <a:lnTo>
                                <a:pt x="540" y="1347"/>
                              </a:lnTo>
                              <a:lnTo>
                                <a:pt x="530" y="1343"/>
                              </a:lnTo>
                              <a:lnTo>
                                <a:pt x="516" y="1342"/>
                              </a:lnTo>
                              <a:lnTo>
                                <a:pt x="503" y="1340"/>
                              </a:lnTo>
                              <a:lnTo>
                                <a:pt x="488" y="1339"/>
                              </a:lnTo>
                              <a:lnTo>
                                <a:pt x="477" y="1336"/>
                              </a:lnTo>
                              <a:lnTo>
                                <a:pt x="467" y="1330"/>
                              </a:lnTo>
                              <a:lnTo>
                                <a:pt x="254" y="1306"/>
                              </a:lnTo>
                              <a:lnTo>
                                <a:pt x="247" y="1298"/>
                              </a:lnTo>
                              <a:lnTo>
                                <a:pt x="238" y="1294"/>
                              </a:lnTo>
                              <a:lnTo>
                                <a:pt x="232" y="1290"/>
                              </a:lnTo>
                              <a:lnTo>
                                <a:pt x="231" y="1278"/>
                              </a:lnTo>
                              <a:lnTo>
                                <a:pt x="245" y="1275"/>
                              </a:lnTo>
                              <a:lnTo>
                                <a:pt x="260" y="1274"/>
                              </a:lnTo>
                              <a:lnTo>
                                <a:pt x="274" y="1273"/>
                              </a:lnTo>
                              <a:lnTo>
                                <a:pt x="289" y="1271"/>
                              </a:lnTo>
                              <a:lnTo>
                                <a:pt x="303" y="1270"/>
                              </a:lnTo>
                              <a:lnTo>
                                <a:pt x="317" y="1265"/>
                              </a:lnTo>
                              <a:lnTo>
                                <a:pt x="329" y="1260"/>
                              </a:lnTo>
                              <a:lnTo>
                                <a:pt x="340" y="1250"/>
                              </a:lnTo>
                              <a:lnTo>
                                <a:pt x="327" y="1239"/>
                              </a:lnTo>
                              <a:lnTo>
                                <a:pt x="312" y="1232"/>
                              </a:lnTo>
                              <a:lnTo>
                                <a:pt x="296" y="1227"/>
                              </a:lnTo>
                              <a:lnTo>
                                <a:pt x="278" y="1222"/>
                              </a:lnTo>
                              <a:lnTo>
                                <a:pt x="260" y="1218"/>
                              </a:lnTo>
                              <a:lnTo>
                                <a:pt x="241" y="1214"/>
                              </a:lnTo>
                              <a:lnTo>
                                <a:pt x="224" y="1208"/>
                              </a:lnTo>
                              <a:lnTo>
                                <a:pt x="207" y="1202"/>
                              </a:lnTo>
                              <a:lnTo>
                                <a:pt x="198" y="1199"/>
                              </a:lnTo>
                              <a:lnTo>
                                <a:pt x="189" y="1195"/>
                              </a:lnTo>
                              <a:lnTo>
                                <a:pt x="181" y="1191"/>
                              </a:lnTo>
                              <a:lnTo>
                                <a:pt x="175" y="1183"/>
                              </a:lnTo>
                              <a:lnTo>
                                <a:pt x="169" y="1176"/>
                              </a:lnTo>
                              <a:lnTo>
                                <a:pt x="168" y="1169"/>
                              </a:lnTo>
                              <a:lnTo>
                                <a:pt x="169" y="1159"/>
                              </a:lnTo>
                              <a:lnTo>
                                <a:pt x="174" y="1149"/>
                              </a:lnTo>
                              <a:lnTo>
                                <a:pt x="187" y="1139"/>
                              </a:lnTo>
                              <a:lnTo>
                                <a:pt x="212" y="1156"/>
                              </a:lnTo>
                              <a:lnTo>
                                <a:pt x="238" y="1172"/>
                              </a:lnTo>
                              <a:lnTo>
                                <a:pt x="264" y="1188"/>
                              </a:lnTo>
                              <a:lnTo>
                                <a:pt x="291" y="1202"/>
                              </a:lnTo>
                              <a:lnTo>
                                <a:pt x="320" y="1215"/>
                              </a:lnTo>
                              <a:lnTo>
                                <a:pt x="349" y="1227"/>
                              </a:lnTo>
                              <a:lnTo>
                                <a:pt x="378" y="1238"/>
                              </a:lnTo>
                              <a:lnTo>
                                <a:pt x="408" y="1247"/>
                              </a:lnTo>
                              <a:lnTo>
                                <a:pt x="437" y="1255"/>
                              </a:lnTo>
                              <a:lnTo>
                                <a:pt x="468" y="1264"/>
                              </a:lnTo>
                              <a:lnTo>
                                <a:pt x="498" y="1270"/>
                              </a:lnTo>
                              <a:lnTo>
                                <a:pt x="530" y="1274"/>
                              </a:lnTo>
                              <a:lnTo>
                                <a:pt x="562" y="1278"/>
                              </a:lnTo>
                              <a:lnTo>
                                <a:pt x="593" y="1281"/>
                              </a:lnTo>
                              <a:lnTo>
                                <a:pt x="625" y="1283"/>
                              </a:lnTo>
                              <a:lnTo>
                                <a:pt x="658" y="1283"/>
                              </a:lnTo>
                              <a:lnTo>
                                <a:pt x="672" y="1268"/>
                              </a:lnTo>
                              <a:lnTo>
                                <a:pt x="661" y="1258"/>
                              </a:lnTo>
                              <a:lnTo>
                                <a:pt x="649" y="1251"/>
                              </a:lnTo>
                              <a:lnTo>
                                <a:pt x="636" y="1248"/>
                              </a:lnTo>
                              <a:lnTo>
                                <a:pt x="623" y="1248"/>
                              </a:lnTo>
                              <a:lnTo>
                                <a:pt x="609" y="1250"/>
                              </a:lnTo>
                              <a:lnTo>
                                <a:pt x="595" y="1251"/>
                              </a:lnTo>
                              <a:lnTo>
                                <a:pt x="580" y="1251"/>
                              </a:lnTo>
                              <a:lnTo>
                                <a:pt x="566" y="1250"/>
                              </a:lnTo>
                              <a:lnTo>
                                <a:pt x="547" y="1247"/>
                              </a:lnTo>
                              <a:lnTo>
                                <a:pt x="528" y="1242"/>
                              </a:lnTo>
                              <a:lnTo>
                                <a:pt x="510" y="1238"/>
                              </a:lnTo>
                              <a:lnTo>
                                <a:pt x="493" y="1232"/>
                              </a:lnTo>
                              <a:lnTo>
                                <a:pt x="475" y="1227"/>
                              </a:lnTo>
                              <a:lnTo>
                                <a:pt x="458" y="1221"/>
                              </a:lnTo>
                              <a:lnTo>
                                <a:pt x="441" y="1214"/>
                              </a:lnTo>
                              <a:lnTo>
                                <a:pt x="425" y="1206"/>
                              </a:lnTo>
                              <a:lnTo>
                                <a:pt x="409" y="1198"/>
                              </a:lnTo>
                              <a:lnTo>
                                <a:pt x="392" y="1189"/>
                              </a:lnTo>
                              <a:lnTo>
                                <a:pt x="378" y="1179"/>
                              </a:lnTo>
                              <a:lnTo>
                                <a:pt x="362" y="1169"/>
                              </a:lnTo>
                              <a:lnTo>
                                <a:pt x="346" y="1158"/>
                              </a:lnTo>
                              <a:lnTo>
                                <a:pt x="332" y="1146"/>
                              </a:lnTo>
                              <a:lnTo>
                                <a:pt x="317" y="1133"/>
                              </a:lnTo>
                              <a:lnTo>
                                <a:pt x="303" y="1120"/>
                              </a:lnTo>
                              <a:lnTo>
                                <a:pt x="317" y="1115"/>
                              </a:lnTo>
                              <a:lnTo>
                                <a:pt x="332" y="1112"/>
                              </a:lnTo>
                              <a:lnTo>
                                <a:pt x="349" y="1109"/>
                              </a:lnTo>
                              <a:lnTo>
                                <a:pt x="365" y="1104"/>
                              </a:lnTo>
                              <a:lnTo>
                                <a:pt x="379" y="1099"/>
                              </a:lnTo>
                              <a:lnTo>
                                <a:pt x="391" y="1092"/>
                              </a:lnTo>
                              <a:lnTo>
                                <a:pt x="399" y="1080"/>
                              </a:lnTo>
                              <a:lnTo>
                                <a:pt x="402" y="1063"/>
                              </a:lnTo>
                              <a:lnTo>
                                <a:pt x="395" y="1053"/>
                              </a:lnTo>
                              <a:lnTo>
                                <a:pt x="211" y="1048"/>
                              </a:lnTo>
                              <a:lnTo>
                                <a:pt x="195" y="1043"/>
                              </a:lnTo>
                              <a:lnTo>
                                <a:pt x="182" y="1037"/>
                              </a:lnTo>
                              <a:lnTo>
                                <a:pt x="171" y="1028"/>
                              </a:lnTo>
                              <a:lnTo>
                                <a:pt x="161" y="1018"/>
                              </a:lnTo>
                              <a:lnTo>
                                <a:pt x="151" y="1008"/>
                              </a:lnTo>
                              <a:lnTo>
                                <a:pt x="141" y="995"/>
                              </a:lnTo>
                              <a:lnTo>
                                <a:pt x="130" y="984"/>
                              </a:lnTo>
                              <a:lnTo>
                                <a:pt x="120" y="971"/>
                              </a:lnTo>
                              <a:lnTo>
                                <a:pt x="142" y="967"/>
                              </a:lnTo>
                              <a:lnTo>
                                <a:pt x="162" y="965"/>
                              </a:lnTo>
                              <a:lnTo>
                                <a:pt x="181" y="967"/>
                              </a:lnTo>
                              <a:lnTo>
                                <a:pt x="201" y="971"/>
                              </a:lnTo>
                              <a:lnTo>
                                <a:pt x="220" y="975"/>
                              </a:lnTo>
                              <a:lnTo>
                                <a:pt x="240" y="978"/>
                              </a:lnTo>
                              <a:lnTo>
                                <a:pt x="260" y="981"/>
                              </a:lnTo>
                              <a:lnTo>
                                <a:pt x="283" y="981"/>
                              </a:lnTo>
                              <a:lnTo>
                                <a:pt x="287" y="975"/>
                              </a:lnTo>
                              <a:lnTo>
                                <a:pt x="289" y="968"/>
                              </a:lnTo>
                              <a:lnTo>
                                <a:pt x="289" y="961"/>
                              </a:lnTo>
                              <a:lnTo>
                                <a:pt x="289" y="952"/>
                              </a:lnTo>
                              <a:lnTo>
                                <a:pt x="271" y="942"/>
                              </a:lnTo>
                              <a:lnTo>
                                <a:pt x="254" y="933"/>
                              </a:lnTo>
                              <a:lnTo>
                                <a:pt x="237" y="926"/>
                              </a:lnTo>
                              <a:lnTo>
                                <a:pt x="220" y="919"/>
                              </a:lnTo>
                              <a:lnTo>
                                <a:pt x="201" y="912"/>
                              </a:lnTo>
                              <a:lnTo>
                                <a:pt x="184" y="905"/>
                              </a:lnTo>
                              <a:lnTo>
                                <a:pt x="165" y="898"/>
                              </a:lnTo>
                              <a:lnTo>
                                <a:pt x="148" y="890"/>
                              </a:lnTo>
                              <a:lnTo>
                                <a:pt x="129" y="883"/>
                              </a:lnTo>
                              <a:lnTo>
                                <a:pt x="112" y="876"/>
                              </a:lnTo>
                              <a:lnTo>
                                <a:pt x="95" y="866"/>
                              </a:lnTo>
                              <a:lnTo>
                                <a:pt x="79" y="856"/>
                              </a:lnTo>
                              <a:lnTo>
                                <a:pt x="63" y="846"/>
                              </a:lnTo>
                              <a:lnTo>
                                <a:pt x="47" y="833"/>
                              </a:lnTo>
                              <a:lnTo>
                                <a:pt x="33" y="819"/>
                              </a:lnTo>
                              <a:lnTo>
                                <a:pt x="20" y="803"/>
                              </a:lnTo>
                              <a:lnTo>
                                <a:pt x="30" y="810"/>
                              </a:lnTo>
                              <a:lnTo>
                                <a:pt x="44" y="816"/>
                              </a:lnTo>
                              <a:lnTo>
                                <a:pt x="60" y="820"/>
                              </a:lnTo>
                              <a:lnTo>
                                <a:pt x="77" y="823"/>
                              </a:lnTo>
                              <a:lnTo>
                                <a:pt x="95" y="826"/>
                              </a:lnTo>
                              <a:lnTo>
                                <a:pt x="113" y="829"/>
                              </a:lnTo>
                              <a:lnTo>
                                <a:pt x="129" y="831"/>
                              </a:lnTo>
                              <a:lnTo>
                                <a:pt x="145" y="833"/>
                              </a:lnTo>
                              <a:lnTo>
                                <a:pt x="146" y="821"/>
                              </a:lnTo>
                              <a:lnTo>
                                <a:pt x="142" y="814"/>
                              </a:lnTo>
                              <a:lnTo>
                                <a:pt x="135" y="807"/>
                              </a:lnTo>
                              <a:lnTo>
                                <a:pt x="126" y="801"/>
                              </a:lnTo>
                              <a:lnTo>
                                <a:pt x="115" y="797"/>
                              </a:lnTo>
                              <a:lnTo>
                                <a:pt x="105" y="791"/>
                              </a:lnTo>
                              <a:lnTo>
                                <a:pt x="95" y="784"/>
                              </a:lnTo>
                              <a:lnTo>
                                <a:pt x="87" y="775"/>
                              </a:lnTo>
                              <a:lnTo>
                                <a:pt x="73" y="775"/>
                              </a:lnTo>
                              <a:lnTo>
                                <a:pt x="61" y="774"/>
                              </a:lnTo>
                              <a:lnTo>
                                <a:pt x="50" y="768"/>
                              </a:lnTo>
                              <a:lnTo>
                                <a:pt x="39" y="763"/>
                              </a:lnTo>
                              <a:lnTo>
                                <a:pt x="28" y="755"/>
                              </a:lnTo>
                              <a:lnTo>
                                <a:pt x="20" y="747"/>
                              </a:lnTo>
                              <a:lnTo>
                                <a:pt x="10" y="738"/>
                              </a:lnTo>
                              <a:lnTo>
                                <a:pt x="1" y="731"/>
                              </a:lnTo>
                              <a:lnTo>
                                <a:pt x="1" y="709"/>
                              </a:lnTo>
                              <a:lnTo>
                                <a:pt x="0" y="685"/>
                              </a:lnTo>
                              <a:lnTo>
                                <a:pt x="3" y="663"/>
                              </a:lnTo>
                              <a:lnTo>
                                <a:pt x="16" y="646"/>
                              </a:lnTo>
                              <a:lnTo>
                                <a:pt x="44" y="645"/>
                              </a:lnTo>
                              <a:lnTo>
                                <a:pt x="69" y="653"/>
                              </a:lnTo>
                              <a:lnTo>
                                <a:pt x="89" y="671"/>
                              </a:lnTo>
                              <a:lnTo>
                                <a:pt x="106" y="692"/>
                              </a:lnTo>
                              <a:lnTo>
                                <a:pt x="122" y="715"/>
                              </a:lnTo>
                              <a:lnTo>
                                <a:pt x="136" y="740"/>
                              </a:lnTo>
                              <a:lnTo>
                                <a:pt x="152" y="760"/>
                              </a:lnTo>
                              <a:lnTo>
                                <a:pt x="169" y="775"/>
                              </a:lnTo>
                              <a:lnTo>
                                <a:pt x="195" y="793"/>
                              </a:lnTo>
                              <a:lnTo>
                                <a:pt x="218" y="811"/>
                              </a:lnTo>
                              <a:lnTo>
                                <a:pt x="240" y="829"/>
                              </a:lnTo>
                              <a:lnTo>
                                <a:pt x="258" y="847"/>
                              </a:lnTo>
                              <a:lnTo>
                                <a:pt x="278" y="866"/>
                              </a:lnTo>
                              <a:lnTo>
                                <a:pt x="299" y="883"/>
                              </a:lnTo>
                              <a:lnTo>
                                <a:pt x="320" y="902"/>
                              </a:lnTo>
                              <a:lnTo>
                                <a:pt x="346" y="919"/>
                              </a:lnTo>
                              <a:lnTo>
                                <a:pt x="360" y="923"/>
                              </a:lnTo>
                              <a:lnTo>
                                <a:pt x="369" y="931"/>
                              </a:lnTo>
                              <a:lnTo>
                                <a:pt x="376" y="942"/>
                              </a:lnTo>
                              <a:lnTo>
                                <a:pt x="380" y="954"/>
                              </a:lnTo>
                              <a:lnTo>
                                <a:pt x="383" y="968"/>
                              </a:lnTo>
                              <a:lnTo>
                                <a:pt x="386" y="981"/>
                              </a:lnTo>
                              <a:lnTo>
                                <a:pt x="392" y="994"/>
                              </a:lnTo>
                              <a:lnTo>
                                <a:pt x="399" y="1005"/>
                              </a:lnTo>
                              <a:lnTo>
                                <a:pt x="418" y="1034"/>
                              </a:lnTo>
                              <a:lnTo>
                                <a:pt x="439" y="1063"/>
                              </a:lnTo>
                              <a:lnTo>
                                <a:pt x="461" y="1087"/>
                              </a:lnTo>
                              <a:lnTo>
                                <a:pt x="485" y="1112"/>
                              </a:lnTo>
                              <a:lnTo>
                                <a:pt x="511" y="1133"/>
                              </a:lnTo>
                              <a:lnTo>
                                <a:pt x="537" y="1153"/>
                              </a:lnTo>
                              <a:lnTo>
                                <a:pt x="564" y="1171"/>
                              </a:lnTo>
                              <a:lnTo>
                                <a:pt x="593" y="1188"/>
                              </a:lnTo>
                              <a:lnTo>
                                <a:pt x="623" y="1202"/>
                              </a:lnTo>
                              <a:lnTo>
                                <a:pt x="653" y="1215"/>
                              </a:lnTo>
                              <a:lnTo>
                                <a:pt x="685" y="1227"/>
                              </a:lnTo>
                              <a:lnTo>
                                <a:pt x="717" y="1237"/>
                              </a:lnTo>
                              <a:lnTo>
                                <a:pt x="750" y="1247"/>
                              </a:lnTo>
                              <a:lnTo>
                                <a:pt x="781" y="1254"/>
                              </a:lnTo>
                              <a:lnTo>
                                <a:pt x="816" y="1260"/>
                              </a:lnTo>
                              <a:lnTo>
                                <a:pt x="849" y="1264"/>
                              </a:lnTo>
                              <a:lnTo>
                                <a:pt x="868" y="1260"/>
                              </a:lnTo>
                              <a:lnTo>
                                <a:pt x="886" y="1257"/>
                              </a:lnTo>
                              <a:lnTo>
                                <a:pt x="906" y="1255"/>
                              </a:lnTo>
                              <a:lnTo>
                                <a:pt x="926" y="1254"/>
                              </a:lnTo>
                              <a:lnTo>
                                <a:pt x="948" y="1254"/>
                              </a:lnTo>
                              <a:lnTo>
                                <a:pt x="968" y="1252"/>
                              </a:lnTo>
                              <a:lnTo>
                                <a:pt x="988" y="1252"/>
                              </a:lnTo>
                              <a:lnTo>
                                <a:pt x="1008" y="1251"/>
                              </a:lnTo>
                              <a:lnTo>
                                <a:pt x="1028" y="1248"/>
                              </a:lnTo>
                              <a:lnTo>
                                <a:pt x="1049" y="1247"/>
                              </a:lnTo>
                              <a:lnTo>
                                <a:pt x="1067" y="1242"/>
                              </a:lnTo>
                              <a:lnTo>
                                <a:pt x="1085" y="1237"/>
                              </a:lnTo>
                              <a:lnTo>
                                <a:pt x="1102" y="1229"/>
                              </a:lnTo>
                              <a:lnTo>
                                <a:pt x="1118" y="1221"/>
                              </a:lnTo>
                              <a:lnTo>
                                <a:pt x="1132" y="1209"/>
                              </a:lnTo>
                              <a:lnTo>
                                <a:pt x="1145" y="1196"/>
                              </a:lnTo>
                              <a:lnTo>
                                <a:pt x="1126" y="1186"/>
                              </a:lnTo>
                              <a:lnTo>
                                <a:pt x="1106" y="1179"/>
                              </a:lnTo>
                              <a:lnTo>
                                <a:pt x="1085" y="1176"/>
                              </a:lnTo>
                              <a:lnTo>
                                <a:pt x="1062" y="1175"/>
                              </a:lnTo>
                              <a:lnTo>
                                <a:pt x="1040" y="1175"/>
                              </a:lnTo>
                              <a:lnTo>
                                <a:pt x="1018" y="1172"/>
                              </a:lnTo>
                              <a:lnTo>
                                <a:pt x="1000" y="1165"/>
                              </a:lnTo>
                              <a:lnTo>
                                <a:pt x="982" y="1155"/>
                              </a:lnTo>
                              <a:lnTo>
                                <a:pt x="1011" y="1153"/>
                              </a:lnTo>
                              <a:lnTo>
                                <a:pt x="1041" y="1150"/>
                              </a:lnTo>
                              <a:lnTo>
                                <a:pt x="1070" y="1148"/>
                              </a:lnTo>
                              <a:lnTo>
                                <a:pt x="1097" y="1145"/>
                              </a:lnTo>
                              <a:lnTo>
                                <a:pt x="1126" y="1140"/>
                              </a:lnTo>
                              <a:lnTo>
                                <a:pt x="1153" y="1136"/>
                              </a:lnTo>
                              <a:lnTo>
                                <a:pt x="1181" y="1130"/>
                              </a:lnTo>
                              <a:lnTo>
                                <a:pt x="1208" y="1125"/>
                              </a:lnTo>
                              <a:lnTo>
                                <a:pt x="1225" y="1129"/>
                              </a:lnTo>
                              <a:lnTo>
                                <a:pt x="1244" y="1130"/>
                              </a:lnTo>
                              <a:lnTo>
                                <a:pt x="1264" y="1127"/>
                              </a:lnTo>
                              <a:lnTo>
                                <a:pt x="1284" y="1123"/>
                              </a:lnTo>
                              <a:lnTo>
                                <a:pt x="1304" y="1117"/>
                              </a:lnTo>
                              <a:lnTo>
                                <a:pt x="1324" y="1109"/>
                              </a:lnTo>
                              <a:lnTo>
                                <a:pt x="1343" y="1100"/>
                              </a:lnTo>
                              <a:lnTo>
                                <a:pt x="1360" y="1090"/>
                              </a:lnTo>
                              <a:lnTo>
                                <a:pt x="1360" y="1077"/>
                              </a:lnTo>
                              <a:lnTo>
                                <a:pt x="1339" y="1076"/>
                              </a:lnTo>
                              <a:lnTo>
                                <a:pt x="1317" y="1074"/>
                              </a:lnTo>
                              <a:lnTo>
                                <a:pt x="1296" y="1071"/>
                              </a:lnTo>
                              <a:lnTo>
                                <a:pt x="1273" y="1069"/>
                              </a:lnTo>
                              <a:lnTo>
                                <a:pt x="1251" y="1064"/>
                              </a:lnTo>
                              <a:lnTo>
                                <a:pt x="1228" y="1060"/>
                              </a:lnTo>
                              <a:lnTo>
                                <a:pt x="1207" y="1054"/>
                              </a:lnTo>
                              <a:lnTo>
                                <a:pt x="1185" y="1047"/>
                              </a:lnTo>
                              <a:lnTo>
                                <a:pt x="1164" y="1040"/>
                              </a:lnTo>
                              <a:lnTo>
                                <a:pt x="1142" y="1033"/>
                              </a:lnTo>
                              <a:lnTo>
                                <a:pt x="1122" y="1023"/>
                              </a:lnTo>
                              <a:lnTo>
                                <a:pt x="1102" y="1012"/>
                              </a:lnTo>
                              <a:lnTo>
                                <a:pt x="1083" y="1002"/>
                              </a:lnTo>
                              <a:lnTo>
                                <a:pt x="1064" y="990"/>
                              </a:lnTo>
                              <a:lnTo>
                                <a:pt x="1047" y="977"/>
                              </a:lnTo>
                              <a:lnTo>
                                <a:pt x="1031" y="962"/>
                              </a:lnTo>
                              <a:lnTo>
                                <a:pt x="1107" y="956"/>
                              </a:lnTo>
                              <a:lnTo>
                                <a:pt x="1105" y="933"/>
                              </a:lnTo>
                              <a:lnTo>
                                <a:pt x="1093" y="922"/>
                              </a:lnTo>
                              <a:lnTo>
                                <a:pt x="1074" y="918"/>
                              </a:lnTo>
                              <a:lnTo>
                                <a:pt x="1051" y="918"/>
                              </a:lnTo>
                              <a:lnTo>
                                <a:pt x="1026" y="919"/>
                              </a:lnTo>
                              <a:lnTo>
                                <a:pt x="1000" y="919"/>
                              </a:lnTo>
                              <a:lnTo>
                                <a:pt x="978" y="915"/>
                              </a:lnTo>
                              <a:lnTo>
                                <a:pt x="960" y="905"/>
                              </a:lnTo>
                              <a:lnTo>
                                <a:pt x="905" y="905"/>
                              </a:lnTo>
                              <a:lnTo>
                                <a:pt x="912" y="918"/>
                              </a:lnTo>
                              <a:lnTo>
                                <a:pt x="919" y="933"/>
                              </a:lnTo>
                              <a:lnTo>
                                <a:pt x="928" y="948"/>
                              </a:lnTo>
                              <a:lnTo>
                                <a:pt x="938" y="964"/>
                              </a:lnTo>
                              <a:lnTo>
                                <a:pt x="949" y="979"/>
                              </a:lnTo>
                              <a:lnTo>
                                <a:pt x="961" y="995"/>
                              </a:lnTo>
                              <a:lnTo>
                                <a:pt x="974" y="1010"/>
                              </a:lnTo>
                              <a:lnTo>
                                <a:pt x="987" y="1024"/>
                              </a:lnTo>
                              <a:lnTo>
                                <a:pt x="993" y="1030"/>
                              </a:lnTo>
                              <a:lnTo>
                                <a:pt x="1000" y="1035"/>
                              </a:lnTo>
                              <a:lnTo>
                                <a:pt x="1007" y="1038"/>
                              </a:lnTo>
                              <a:lnTo>
                                <a:pt x="1016" y="1043"/>
                              </a:lnTo>
                              <a:lnTo>
                                <a:pt x="1023" y="1046"/>
                              </a:lnTo>
                              <a:lnTo>
                                <a:pt x="1028" y="1050"/>
                              </a:lnTo>
                              <a:lnTo>
                                <a:pt x="1033" y="1056"/>
                              </a:lnTo>
                              <a:lnTo>
                                <a:pt x="1036" y="1063"/>
                              </a:lnTo>
                              <a:lnTo>
                                <a:pt x="1017" y="1061"/>
                              </a:lnTo>
                              <a:lnTo>
                                <a:pt x="998" y="1061"/>
                              </a:lnTo>
                              <a:lnTo>
                                <a:pt x="978" y="1063"/>
                              </a:lnTo>
                              <a:lnTo>
                                <a:pt x="960" y="1064"/>
                              </a:lnTo>
                              <a:lnTo>
                                <a:pt x="942" y="1066"/>
                              </a:lnTo>
                              <a:lnTo>
                                <a:pt x="924" y="1069"/>
                              </a:lnTo>
                              <a:lnTo>
                                <a:pt x="905" y="1070"/>
                              </a:lnTo>
                              <a:lnTo>
                                <a:pt x="886" y="1073"/>
                              </a:lnTo>
                              <a:lnTo>
                                <a:pt x="869" y="1076"/>
                              </a:lnTo>
                              <a:lnTo>
                                <a:pt x="850" y="1077"/>
                              </a:lnTo>
                              <a:lnTo>
                                <a:pt x="833" y="1077"/>
                              </a:lnTo>
                              <a:lnTo>
                                <a:pt x="814" y="1077"/>
                              </a:lnTo>
                              <a:lnTo>
                                <a:pt x="797" y="1076"/>
                              </a:lnTo>
                              <a:lnTo>
                                <a:pt x="778" y="1073"/>
                              </a:lnTo>
                              <a:lnTo>
                                <a:pt x="761" y="1069"/>
                              </a:lnTo>
                              <a:lnTo>
                                <a:pt x="744" y="1063"/>
                              </a:lnTo>
                              <a:lnTo>
                                <a:pt x="734" y="1073"/>
                              </a:lnTo>
                              <a:lnTo>
                                <a:pt x="747" y="1087"/>
                              </a:lnTo>
                              <a:lnTo>
                                <a:pt x="758" y="1103"/>
                              </a:lnTo>
                              <a:lnTo>
                                <a:pt x="770" y="1120"/>
                              </a:lnTo>
                              <a:lnTo>
                                <a:pt x="780" y="1137"/>
                              </a:lnTo>
                              <a:lnTo>
                                <a:pt x="791" y="1156"/>
                              </a:lnTo>
                              <a:lnTo>
                                <a:pt x="806" y="1173"/>
                              </a:lnTo>
                              <a:lnTo>
                                <a:pt x="820" y="1189"/>
                              </a:lnTo>
                              <a:lnTo>
                                <a:pt x="839" y="1202"/>
                              </a:lnTo>
                              <a:lnTo>
                                <a:pt x="826" y="1204"/>
                              </a:lnTo>
                              <a:lnTo>
                                <a:pt x="813" y="1202"/>
                              </a:lnTo>
                              <a:lnTo>
                                <a:pt x="800" y="1199"/>
                              </a:lnTo>
                              <a:lnTo>
                                <a:pt x="787" y="1196"/>
                              </a:lnTo>
                              <a:lnTo>
                                <a:pt x="773" y="1194"/>
                              </a:lnTo>
                              <a:lnTo>
                                <a:pt x="760" y="1189"/>
                              </a:lnTo>
                              <a:lnTo>
                                <a:pt x="747" y="1185"/>
                              </a:lnTo>
                              <a:lnTo>
                                <a:pt x="734" y="1182"/>
                              </a:lnTo>
                              <a:lnTo>
                                <a:pt x="704" y="1168"/>
                              </a:lnTo>
                              <a:lnTo>
                                <a:pt x="676" y="1153"/>
                              </a:lnTo>
                              <a:lnTo>
                                <a:pt x="651" y="1139"/>
                              </a:lnTo>
                              <a:lnTo>
                                <a:pt x="626" y="1123"/>
                              </a:lnTo>
                              <a:lnTo>
                                <a:pt x="603" y="1106"/>
                              </a:lnTo>
                              <a:lnTo>
                                <a:pt x="579" y="1087"/>
                              </a:lnTo>
                              <a:lnTo>
                                <a:pt x="556" y="1066"/>
                              </a:lnTo>
                              <a:lnTo>
                                <a:pt x="533" y="1043"/>
                              </a:lnTo>
                              <a:lnTo>
                                <a:pt x="530" y="1023"/>
                              </a:lnTo>
                              <a:lnTo>
                                <a:pt x="523" y="1005"/>
                              </a:lnTo>
                              <a:lnTo>
                                <a:pt x="517" y="988"/>
                              </a:lnTo>
                              <a:lnTo>
                                <a:pt x="518" y="967"/>
                              </a:lnTo>
                              <a:lnTo>
                                <a:pt x="546" y="946"/>
                              </a:lnTo>
                              <a:lnTo>
                                <a:pt x="810" y="977"/>
                              </a:lnTo>
                              <a:lnTo>
                                <a:pt x="817" y="977"/>
                              </a:lnTo>
                              <a:lnTo>
                                <a:pt x="826" y="974"/>
                              </a:lnTo>
                              <a:lnTo>
                                <a:pt x="835" y="971"/>
                              </a:lnTo>
                              <a:lnTo>
                                <a:pt x="843" y="967"/>
                              </a:lnTo>
                              <a:lnTo>
                                <a:pt x="852" y="964"/>
                              </a:lnTo>
                              <a:lnTo>
                                <a:pt x="860" y="961"/>
                              </a:lnTo>
                              <a:lnTo>
                                <a:pt x="869" y="961"/>
                              </a:lnTo>
                              <a:lnTo>
                                <a:pt x="878" y="962"/>
                              </a:lnTo>
                              <a:lnTo>
                                <a:pt x="869" y="949"/>
                              </a:lnTo>
                              <a:lnTo>
                                <a:pt x="859" y="939"/>
                              </a:lnTo>
                              <a:lnTo>
                                <a:pt x="849" y="929"/>
                              </a:lnTo>
                              <a:lnTo>
                                <a:pt x="837" y="919"/>
                              </a:lnTo>
                              <a:lnTo>
                                <a:pt x="826" y="910"/>
                              </a:lnTo>
                              <a:lnTo>
                                <a:pt x="814" y="899"/>
                              </a:lnTo>
                              <a:lnTo>
                                <a:pt x="803" y="887"/>
                              </a:lnTo>
                              <a:lnTo>
                                <a:pt x="791" y="875"/>
                              </a:lnTo>
                              <a:lnTo>
                                <a:pt x="778" y="857"/>
                              </a:lnTo>
                              <a:lnTo>
                                <a:pt x="768" y="839"/>
                              </a:lnTo>
                              <a:lnTo>
                                <a:pt x="760" y="819"/>
                              </a:lnTo>
                              <a:lnTo>
                                <a:pt x="751" y="798"/>
                              </a:lnTo>
                              <a:lnTo>
                                <a:pt x="741" y="780"/>
                              </a:lnTo>
                              <a:lnTo>
                                <a:pt x="730" y="763"/>
                              </a:lnTo>
                              <a:lnTo>
                                <a:pt x="715" y="750"/>
                              </a:lnTo>
                              <a:lnTo>
                                <a:pt x="695" y="741"/>
                              </a:lnTo>
                              <a:lnTo>
                                <a:pt x="688" y="752"/>
                              </a:lnTo>
                              <a:lnTo>
                                <a:pt x="689" y="767"/>
                              </a:lnTo>
                              <a:lnTo>
                                <a:pt x="694" y="783"/>
                              </a:lnTo>
                              <a:lnTo>
                                <a:pt x="695" y="800"/>
                              </a:lnTo>
                              <a:lnTo>
                                <a:pt x="678" y="781"/>
                              </a:lnTo>
                              <a:lnTo>
                                <a:pt x="665" y="758"/>
                              </a:lnTo>
                              <a:lnTo>
                                <a:pt x="656" y="735"/>
                              </a:lnTo>
                              <a:lnTo>
                                <a:pt x="648" y="711"/>
                              </a:lnTo>
                              <a:lnTo>
                                <a:pt x="639" y="688"/>
                              </a:lnTo>
                              <a:lnTo>
                                <a:pt x="628" y="668"/>
                              </a:lnTo>
                              <a:lnTo>
                                <a:pt x="612" y="649"/>
                              </a:lnTo>
                              <a:lnTo>
                                <a:pt x="590" y="636"/>
                              </a:lnTo>
                              <a:lnTo>
                                <a:pt x="583" y="656"/>
                              </a:lnTo>
                              <a:lnTo>
                                <a:pt x="574" y="676"/>
                              </a:lnTo>
                              <a:lnTo>
                                <a:pt x="570" y="696"/>
                              </a:lnTo>
                              <a:lnTo>
                                <a:pt x="576" y="718"/>
                              </a:lnTo>
                              <a:lnTo>
                                <a:pt x="557" y="696"/>
                              </a:lnTo>
                              <a:lnTo>
                                <a:pt x="541" y="672"/>
                              </a:lnTo>
                              <a:lnTo>
                                <a:pt x="528" y="649"/>
                              </a:lnTo>
                              <a:lnTo>
                                <a:pt x="516" y="626"/>
                              </a:lnTo>
                              <a:lnTo>
                                <a:pt x="503" y="604"/>
                              </a:lnTo>
                              <a:lnTo>
                                <a:pt x="488" y="586"/>
                              </a:lnTo>
                              <a:lnTo>
                                <a:pt x="470" y="570"/>
                              </a:lnTo>
                              <a:lnTo>
                                <a:pt x="447" y="560"/>
                              </a:lnTo>
                              <a:lnTo>
                                <a:pt x="447" y="577"/>
                              </a:lnTo>
                              <a:lnTo>
                                <a:pt x="445" y="593"/>
                              </a:lnTo>
                              <a:lnTo>
                                <a:pt x="447" y="610"/>
                              </a:lnTo>
                              <a:lnTo>
                                <a:pt x="451" y="627"/>
                              </a:lnTo>
                              <a:lnTo>
                                <a:pt x="428" y="615"/>
                              </a:lnTo>
                              <a:lnTo>
                                <a:pt x="405" y="599"/>
                              </a:lnTo>
                              <a:lnTo>
                                <a:pt x="385" y="581"/>
                              </a:lnTo>
                              <a:lnTo>
                                <a:pt x="365" y="561"/>
                              </a:lnTo>
                              <a:lnTo>
                                <a:pt x="345" y="543"/>
                              </a:lnTo>
                              <a:lnTo>
                                <a:pt x="323" y="525"/>
                              </a:lnTo>
                              <a:lnTo>
                                <a:pt x="300" y="513"/>
                              </a:lnTo>
                              <a:lnTo>
                                <a:pt x="274" y="502"/>
                              </a:lnTo>
                              <a:lnTo>
                                <a:pt x="268" y="508"/>
                              </a:lnTo>
                              <a:lnTo>
                                <a:pt x="385" y="632"/>
                              </a:lnTo>
                              <a:lnTo>
                                <a:pt x="375" y="642"/>
                              </a:lnTo>
                              <a:lnTo>
                                <a:pt x="365" y="652"/>
                              </a:lnTo>
                              <a:lnTo>
                                <a:pt x="356" y="660"/>
                              </a:lnTo>
                              <a:lnTo>
                                <a:pt x="346" y="671"/>
                              </a:lnTo>
                              <a:lnTo>
                                <a:pt x="337" y="681"/>
                              </a:lnTo>
                              <a:lnTo>
                                <a:pt x="332" y="692"/>
                              </a:lnTo>
                              <a:lnTo>
                                <a:pt x="327" y="702"/>
                              </a:lnTo>
                              <a:lnTo>
                                <a:pt x="326" y="714"/>
                              </a:lnTo>
                              <a:lnTo>
                                <a:pt x="336" y="721"/>
                              </a:lnTo>
                              <a:lnTo>
                                <a:pt x="346" y="722"/>
                              </a:lnTo>
                              <a:lnTo>
                                <a:pt x="355" y="721"/>
                              </a:lnTo>
                              <a:lnTo>
                                <a:pt x="365" y="715"/>
                              </a:lnTo>
                              <a:lnTo>
                                <a:pt x="373" y="709"/>
                              </a:lnTo>
                              <a:lnTo>
                                <a:pt x="382" y="702"/>
                              </a:lnTo>
                              <a:lnTo>
                                <a:pt x="391" y="696"/>
                              </a:lnTo>
                              <a:lnTo>
                                <a:pt x="399" y="694"/>
                              </a:lnTo>
                              <a:lnTo>
                                <a:pt x="428" y="694"/>
                              </a:lnTo>
                              <a:lnTo>
                                <a:pt x="455" y="698"/>
                              </a:lnTo>
                              <a:lnTo>
                                <a:pt x="482" y="706"/>
                              </a:lnTo>
                              <a:lnTo>
                                <a:pt x="507" y="718"/>
                              </a:lnTo>
                              <a:lnTo>
                                <a:pt x="531" y="732"/>
                              </a:lnTo>
                              <a:lnTo>
                                <a:pt x="553" y="748"/>
                              </a:lnTo>
                              <a:lnTo>
                                <a:pt x="574" y="767"/>
                              </a:lnTo>
                              <a:lnTo>
                                <a:pt x="595" y="785"/>
                              </a:lnTo>
                              <a:lnTo>
                                <a:pt x="606" y="793"/>
                              </a:lnTo>
                              <a:lnTo>
                                <a:pt x="616" y="800"/>
                              </a:lnTo>
                              <a:lnTo>
                                <a:pt x="628" y="807"/>
                              </a:lnTo>
                              <a:lnTo>
                                <a:pt x="639" y="814"/>
                              </a:lnTo>
                              <a:lnTo>
                                <a:pt x="651" y="821"/>
                              </a:lnTo>
                              <a:lnTo>
                                <a:pt x="662" y="827"/>
                              </a:lnTo>
                              <a:lnTo>
                                <a:pt x="674" y="833"/>
                              </a:lnTo>
                              <a:lnTo>
                                <a:pt x="685" y="837"/>
                              </a:lnTo>
                              <a:lnTo>
                                <a:pt x="697" y="847"/>
                              </a:lnTo>
                              <a:lnTo>
                                <a:pt x="707" y="859"/>
                              </a:lnTo>
                              <a:lnTo>
                                <a:pt x="718" y="870"/>
                              </a:lnTo>
                              <a:lnTo>
                                <a:pt x="728" y="880"/>
                              </a:lnTo>
                              <a:lnTo>
                                <a:pt x="740" y="892"/>
                              </a:lnTo>
                              <a:lnTo>
                                <a:pt x="751" y="902"/>
                              </a:lnTo>
                              <a:lnTo>
                                <a:pt x="764" y="910"/>
                              </a:lnTo>
                              <a:lnTo>
                                <a:pt x="777" y="919"/>
                              </a:lnTo>
                              <a:lnTo>
                                <a:pt x="754" y="910"/>
                              </a:lnTo>
                              <a:lnTo>
                                <a:pt x="732" y="900"/>
                              </a:lnTo>
                              <a:lnTo>
                                <a:pt x="709" y="890"/>
                              </a:lnTo>
                              <a:lnTo>
                                <a:pt x="687" y="879"/>
                              </a:lnTo>
                              <a:lnTo>
                                <a:pt x="662" y="867"/>
                              </a:lnTo>
                              <a:lnTo>
                                <a:pt x="639" y="856"/>
                              </a:lnTo>
                              <a:lnTo>
                                <a:pt x="616" y="846"/>
                              </a:lnTo>
                              <a:lnTo>
                                <a:pt x="592" y="836"/>
                              </a:lnTo>
                              <a:lnTo>
                                <a:pt x="569" y="827"/>
                              </a:lnTo>
                              <a:lnTo>
                                <a:pt x="544" y="821"/>
                              </a:lnTo>
                              <a:lnTo>
                                <a:pt x="520" y="817"/>
                              </a:lnTo>
                              <a:lnTo>
                                <a:pt x="495" y="814"/>
                              </a:lnTo>
                              <a:lnTo>
                                <a:pt x="472" y="816"/>
                              </a:lnTo>
                              <a:lnTo>
                                <a:pt x="448" y="819"/>
                              </a:lnTo>
                              <a:lnTo>
                                <a:pt x="424" y="826"/>
                              </a:lnTo>
                              <a:lnTo>
                                <a:pt x="399" y="837"/>
                              </a:lnTo>
                              <a:lnTo>
                                <a:pt x="391" y="850"/>
                              </a:lnTo>
                              <a:lnTo>
                                <a:pt x="388" y="867"/>
                              </a:lnTo>
                              <a:lnTo>
                                <a:pt x="380" y="879"/>
                              </a:lnTo>
                              <a:lnTo>
                                <a:pt x="360" y="875"/>
                              </a:lnTo>
                              <a:lnTo>
                                <a:pt x="324" y="843"/>
                              </a:lnTo>
                              <a:lnTo>
                                <a:pt x="294" y="810"/>
                              </a:lnTo>
                              <a:lnTo>
                                <a:pt x="266" y="777"/>
                              </a:lnTo>
                              <a:lnTo>
                                <a:pt x="241" y="741"/>
                              </a:lnTo>
                              <a:lnTo>
                                <a:pt x="218" y="705"/>
                              </a:lnTo>
                              <a:lnTo>
                                <a:pt x="198" y="666"/>
                              </a:lnTo>
                              <a:lnTo>
                                <a:pt x="179" y="626"/>
                              </a:lnTo>
                              <a:lnTo>
                                <a:pt x="164" y="583"/>
                              </a:lnTo>
                              <a:lnTo>
                                <a:pt x="178" y="584"/>
                              </a:lnTo>
                              <a:lnTo>
                                <a:pt x="194" y="587"/>
                              </a:lnTo>
                              <a:lnTo>
                                <a:pt x="208" y="590"/>
                              </a:lnTo>
                              <a:lnTo>
                                <a:pt x="224" y="594"/>
                              </a:lnTo>
                              <a:lnTo>
                                <a:pt x="238" y="597"/>
                              </a:lnTo>
                              <a:lnTo>
                                <a:pt x="253" y="599"/>
                              </a:lnTo>
                              <a:lnTo>
                                <a:pt x="266" y="597"/>
                              </a:lnTo>
                              <a:lnTo>
                                <a:pt x="278" y="593"/>
                              </a:lnTo>
                              <a:lnTo>
                                <a:pt x="261" y="580"/>
                              </a:lnTo>
                              <a:lnTo>
                                <a:pt x="243" y="570"/>
                              </a:lnTo>
                              <a:lnTo>
                                <a:pt x="221" y="558"/>
                              </a:lnTo>
                              <a:lnTo>
                                <a:pt x="201" y="548"/>
                              </a:lnTo>
                              <a:lnTo>
                                <a:pt x="181" y="536"/>
                              </a:lnTo>
                              <a:lnTo>
                                <a:pt x="165" y="521"/>
                              </a:lnTo>
                              <a:lnTo>
                                <a:pt x="152" y="502"/>
                              </a:lnTo>
                              <a:lnTo>
                                <a:pt x="145" y="478"/>
                              </a:lnTo>
                              <a:lnTo>
                                <a:pt x="136" y="452"/>
                              </a:lnTo>
                              <a:lnTo>
                                <a:pt x="135" y="425"/>
                              </a:lnTo>
                              <a:lnTo>
                                <a:pt x="138" y="396"/>
                              </a:lnTo>
                              <a:lnTo>
                                <a:pt x="149" y="372"/>
                              </a:lnTo>
                              <a:lnTo>
                                <a:pt x="161" y="365"/>
                              </a:lnTo>
                              <a:lnTo>
                                <a:pt x="174" y="360"/>
                              </a:lnTo>
                              <a:lnTo>
                                <a:pt x="185" y="357"/>
                              </a:lnTo>
                              <a:lnTo>
                                <a:pt x="198" y="356"/>
                              </a:lnTo>
                              <a:lnTo>
                                <a:pt x="211" y="356"/>
                              </a:lnTo>
                              <a:lnTo>
                                <a:pt x="222" y="356"/>
                              </a:lnTo>
                              <a:lnTo>
                                <a:pt x="234" y="357"/>
                              </a:lnTo>
                              <a:lnTo>
                                <a:pt x="245" y="359"/>
                              </a:lnTo>
                              <a:lnTo>
                                <a:pt x="270" y="375"/>
                              </a:lnTo>
                              <a:lnTo>
                                <a:pt x="290" y="393"/>
                              </a:lnTo>
                              <a:lnTo>
                                <a:pt x="307" y="412"/>
                              </a:lnTo>
                              <a:lnTo>
                                <a:pt x="324" y="432"/>
                              </a:lnTo>
                              <a:lnTo>
                                <a:pt x="342" y="451"/>
                              </a:lnTo>
                              <a:lnTo>
                                <a:pt x="362" y="468"/>
                              </a:lnTo>
                              <a:lnTo>
                                <a:pt x="382" y="482"/>
                              </a:lnTo>
                              <a:lnTo>
                                <a:pt x="408" y="492"/>
                              </a:lnTo>
                              <a:lnTo>
                                <a:pt x="411" y="479"/>
                              </a:lnTo>
                              <a:lnTo>
                                <a:pt x="409" y="467"/>
                              </a:lnTo>
                              <a:lnTo>
                                <a:pt x="405" y="455"/>
                              </a:lnTo>
                              <a:lnTo>
                                <a:pt x="399" y="442"/>
                              </a:lnTo>
                              <a:lnTo>
                                <a:pt x="392" y="431"/>
                              </a:lnTo>
                              <a:lnTo>
                                <a:pt x="385" y="419"/>
                              </a:lnTo>
                              <a:lnTo>
                                <a:pt x="376" y="408"/>
                              </a:lnTo>
                              <a:lnTo>
                                <a:pt x="370" y="396"/>
                              </a:lnTo>
                              <a:lnTo>
                                <a:pt x="380" y="392"/>
                              </a:lnTo>
                              <a:lnTo>
                                <a:pt x="389" y="393"/>
                              </a:lnTo>
                              <a:lnTo>
                                <a:pt x="395" y="399"/>
                              </a:lnTo>
                              <a:lnTo>
                                <a:pt x="402" y="408"/>
                              </a:lnTo>
                              <a:lnTo>
                                <a:pt x="408" y="418"/>
                              </a:lnTo>
                              <a:lnTo>
                                <a:pt x="414" y="426"/>
                              </a:lnTo>
                              <a:lnTo>
                                <a:pt x="422" y="435"/>
                              </a:lnTo>
                              <a:lnTo>
                                <a:pt x="432" y="439"/>
                              </a:lnTo>
                              <a:lnTo>
                                <a:pt x="455" y="459"/>
                              </a:lnTo>
                              <a:lnTo>
                                <a:pt x="474" y="482"/>
                              </a:lnTo>
                              <a:lnTo>
                                <a:pt x="490" y="504"/>
                              </a:lnTo>
                              <a:lnTo>
                                <a:pt x="505" y="528"/>
                              </a:lnTo>
                              <a:lnTo>
                                <a:pt x="518" y="551"/>
                              </a:lnTo>
                              <a:lnTo>
                                <a:pt x="533" y="576"/>
                              </a:lnTo>
                              <a:lnTo>
                                <a:pt x="546" y="599"/>
                              </a:lnTo>
                              <a:lnTo>
                                <a:pt x="562" y="622"/>
                              </a:lnTo>
                              <a:lnTo>
                                <a:pt x="567" y="616"/>
                              </a:lnTo>
                              <a:lnTo>
                                <a:pt x="573" y="619"/>
                              </a:lnTo>
                              <a:lnTo>
                                <a:pt x="579" y="625"/>
                              </a:lnTo>
                              <a:lnTo>
                                <a:pt x="586" y="627"/>
                              </a:lnTo>
                              <a:lnTo>
                                <a:pt x="587" y="602"/>
                              </a:lnTo>
                              <a:lnTo>
                                <a:pt x="579" y="576"/>
                              </a:lnTo>
                              <a:lnTo>
                                <a:pt x="569" y="551"/>
                              </a:lnTo>
                              <a:lnTo>
                                <a:pt x="562" y="525"/>
                              </a:lnTo>
                              <a:lnTo>
                                <a:pt x="584" y="546"/>
                              </a:lnTo>
                              <a:lnTo>
                                <a:pt x="603" y="569"/>
                              </a:lnTo>
                              <a:lnTo>
                                <a:pt x="619" y="592"/>
                              </a:lnTo>
                              <a:lnTo>
                                <a:pt x="633" y="616"/>
                              </a:lnTo>
                              <a:lnTo>
                                <a:pt x="646" y="640"/>
                              </a:lnTo>
                              <a:lnTo>
                                <a:pt x="661" y="663"/>
                              </a:lnTo>
                              <a:lnTo>
                                <a:pt x="678" y="685"/>
                              </a:lnTo>
                              <a:lnTo>
                                <a:pt x="699" y="704"/>
                              </a:lnTo>
                              <a:lnTo>
                                <a:pt x="699" y="672"/>
                              </a:lnTo>
                              <a:lnTo>
                                <a:pt x="694" y="640"/>
                              </a:lnTo>
                              <a:lnTo>
                                <a:pt x="687" y="609"/>
                              </a:lnTo>
                              <a:lnTo>
                                <a:pt x="676" y="580"/>
                              </a:lnTo>
                              <a:lnTo>
                                <a:pt x="711" y="604"/>
                              </a:lnTo>
                              <a:lnTo>
                                <a:pt x="740" y="633"/>
                              </a:lnTo>
                              <a:lnTo>
                                <a:pt x="764" y="666"/>
                              </a:lnTo>
                              <a:lnTo>
                                <a:pt x="787" y="701"/>
                              </a:lnTo>
                              <a:lnTo>
                                <a:pt x="810" y="737"/>
                              </a:lnTo>
                              <a:lnTo>
                                <a:pt x="833" y="770"/>
                              </a:lnTo>
                              <a:lnTo>
                                <a:pt x="857" y="801"/>
                              </a:lnTo>
                              <a:lnTo>
                                <a:pt x="888" y="827"/>
                              </a:lnTo>
                              <a:lnTo>
                                <a:pt x="893" y="819"/>
                              </a:lnTo>
                              <a:lnTo>
                                <a:pt x="893" y="810"/>
                              </a:lnTo>
                              <a:lnTo>
                                <a:pt x="891" y="801"/>
                              </a:lnTo>
                              <a:lnTo>
                                <a:pt x="886" y="793"/>
                              </a:lnTo>
                              <a:lnTo>
                                <a:pt x="883" y="785"/>
                              </a:lnTo>
                              <a:lnTo>
                                <a:pt x="882" y="777"/>
                              </a:lnTo>
                              <a:lnTo>
                                <a:pt x="883" y="770"/>
                              </a:lnTo>
                              <a:lnTo>
                                <a:pt x="892" y="761"/>
                              </a:lnTo>
                              <a:lnTo>
                                <a:pt x="912" y="781"/>
                              </a:lnTo>
                              <a:lnTo>
                                <a:pt x="934" y="800"/>
                              </a:lnTo>
                              <a:lnTo>
                                <a:pt x="955" y="817"/>
                              </a:lnTo>
                              <a:lnTo>
                                <a:pt x="978" y="833"/>
                              </a:lnTo>
                              <a:lnTo>
                                <a:pt x="1003" y="847"/>
                              </a:lnTo>
                              <a:lnTo>
                                <a:pt x="1027" y="860"/>
                              </a:lnTo>
                              <a:lnTo>
                                <a:pt x="1053" y="873"/>
                              </a:lnTo>
                              <a:lnTo>
                                <a:pt x="1079" y="883"/>
                              </a:lnTo>
                              <a:lnTo>
                                <a:pt x="1105" y="893"/>
                              </a:lnTo>
                              <a:lnTo>
                                <a:pt x="1132" y="903"/>
                              </a:lnTo>
                              <a:lnTo>
                                <a:pt x="1158" y="912"/>
                              </a:lnTo>
                              <a:lnTo>
                                <a:pt x="1185" y="921"/>
                              </a:lnTo>
                              <a:lnTo>
                                <a:pt x="1212" y="929"/>
                              </a:lnTo>
                              <a:lnTo>
                                <a:pt x="1240" y="936"/>
                              </a:lnTo>
                              <a:lnTo>
                                <a:pt x="1267" y="945"/>
                              </a:lnTo>
                              <a:lnTo>
                                <a:pt x="1294" y="952"/>
                              </a:lnTo>
                              <a:lnTo>
                                <a:pt x="1319" y="958"/>
                              </a:lnTo>
                              <a:lnTo>
                                <a:pt x="1342" y="959"/>
                              </a:lnTo>
                              <a:lnTo>
                                <a:pt x="1365" y="955"/>
                              </a:lnTo>
                              <a:lnTo>
                                <a:pt x="1388" y="949"/>
                              </a:lnTo>
                              <a:lnTo>
                                <a:pt x="1409" y="942"/>
                              </a:lnTo>
                              <a:lnTo>
                                <a:pt x="1431" y="935"/>
                              </a:lnTo>
                              <a:lnTo>
                                <a:pt x="1452" y="928"/>
                              </a:lnTo>
                              <a:lnTo>
                                <a:pt x="1475" y="923"/>
                              </a:lnTo>
                              <a:lnTo>
                                <a:pt x="1483" y="915"/>
                              </a:lnTo>
                              <a:lnTo>
                                <a:pt x="1493" y="910"/>
                              </a:lnTo>
                              <a:lnTo>
                                <a:pt x="1503" y="909"/>
                              </a:lnTo>
                              <a:lnTo>
                                <a:pt x="1514" y="909"/>
                              </a:lnTo>
                              <a:lnTo>
                                <a:pt x="1533" y="903"/>
                              </a:lnTo>
                              <a:lnTo>
                                <a:pt x="1550" y="896"/>
                              </a:lnTo>
                              <a:lnTo>
                                <a:pt x="1567" y="887"/>
                              </a:lnTo>
                              <a:lnTo>
                                <a:pt x="1583" y="877"/>
                              </a:lnTo>
                              <a:lnTo>
                                <a:pt x="1600" y="866"/>
                              </a:lnTo>
                              <a:lnTo>
                                <a:pt x="1615" y="853"/>
                              </a:lnTo>
                              <a:lnTo>
                                <a:pt x="1630" y="840"/>
                              </a:lnTo>
                              <a:lnTo>
                                <a:pt x="1645" y="826"/>
                              </a:lnTo>
                              <a:lnTo>
                                <a:pt x="1659" y="811"/>
                              </a:lnTo>
                              <a:lnTo>
                                <a:pt x="1674" y="797"/>
                              </a:lnTo>
                              <a:lnTo>
                                <a:pt x="1687" y="781"/>
                              </a:lnTo>
                              <a:lnTo>
                                <a:pt x="1699" y="765"/>
                              </a:lnTo>
                              <a:lnTo>
                                <a:pt x="1712" y="750"/>
                              </a:lnTo>
                              <a:lnTo>
                                <a:pt x="1725" y="734"/>
                              </a:lnTo>
                              <a:lnTo>
                                <a:pt x="1738" y="718"/>
                              </a:lnTo>
                              <a:lnTo>
                                <a:pt x="1750" y="704"/>
                              </a:lnTo>
                              <a:lnTo>
                                <a:pt x="1781" y="666"/>
                              </a:lnTo>
                              <a:lnTo>
                                <a:pt x="1813" y="627"/>
                              </a:lnTo>
                              <a:lnTo>
                                <a:pt x="1845" y="589"/>
                              </a:lnTo>
                              <a:lnTo>
                                <a:pt x="1878" y="550"/>
                              </a:lnTo>
                              <a:lnTo>
                                <a:pt x="1909" y="511"/>
                              </a:lnTo>
                              <a:lnTo>
                                <a:pt x="1944" y="472"/>
                              </a:lnTo>
                              <a:lnTo>
                                <a:pt x="1977" y="433"/>
                              </a:lnTo>
                              <a:lnTo>
                                <a:pt x="2011" y="395"/>
                              </a:lnTo>
                              <a:lnTo>
                                <a:pt x="2046" y="356"/>
                              </a:lnTo>
                              <a:lnTo>
                                <a:pt x="2082" y="319"/>
                              </a:lnTo>
                              <a:lnTo>
                                <a:pt x="2118" y="283"/>
                              </a:lnTo>
                              <a:lnTo>
                                <a:pt x="2155" y="247"/>
                              </a:lnTo>
                              <a:lnTo>
                                <a:pt x="2192" y="212"/>
                              </a:lnTo>
                              <a:lnTo>
                                <a:pt x="2231" y="181"/>
                              </a:lnTo>
                              <a:lnTo>
                                <a:pt x="2270" y="149"/>
                              </a:lnTo>
                              <a:lnTo>
                                <a:pt x="2310" y="119"/>
                              </a:lnTo>
                              <a:lnTo>
                                <a:pt x="2319" y="119"/>
                              </a:lnTo>
                              <a:lnTo>
                                <a:pt x="2327" y="117"/>
                              </a:lnTo>
                              <a:lnTo>
                                <a:pt x="2335" y="115"/>
                              </a:lnTo>
                              <a:lnTo>
                                <a:pt x="2342" y="110"/>
                              </a:lnTo>
                              <a:lnTo>
                                <a:pt x="2349" y="106"/>
                              </a:lnTo>
                              <a:lnTo>
                                <a:pt x="2358" y="103"/>
                              </a:lnTo>
                              <a:lnTo>
                                <a:pt x="2366" y="103"/>
                              </a:lnTo>
                              <a:lnTo>
                                <a:pt x="2376" y="104"/>
                              </a:lnTo>
                              <a:lnTo>
                                <a:pt x="2391" y="86"/>
                              </a:lnTo>
                              <a:lnTo>
                                <a:pt x="2406" y="66"/>
                              </a:lnTo>
                              <a:lnTo>
                                <a:pt x="2424" y="48"/>
                              </a:lnTo>
                              <a:lnTo>
                                <a:pt x="2442" y="33"/>
                              </a:lnTo>
                              <a:lnTo>
                                <a:pt x="2464" y="20"/>
                              </a:lnTo>
                              <a:lnTo>
                                <a:pt x="2487" y="8"/>
                              </a:lnTo>
                              <a:lnTo>
                                <a:pt x="2513" y="2"/>
                              </a:lnTo>
                              <a:lnTo>
                                <a:pt x="2540" y="0"/>
                              </a:lnTo>
                              <a:lnTo>
                                <a:pt x="2564" y="2"/>
                              </a:lnTo>
                              <a:lnTo>
                                <a:pt x="2589" y="5"/>
                              </a:lnTo>
                              <a:lnTo>
                                <a:pt x="2613" y="8"/>
                              </a:lnTo>
                              <a:lnTo>
                                <a:pt x="2638" y="13"/>
                              </a:lnTo>
                              <a:lnTo>
                                <a:pt x="2661" y="17"/>
                              </a:lnTo>
                              <a:lnTo>
                                <a:pt x="2685" y="21"/>
                              </a:lnTo>
                              <a:lnTo>
                                <a:pt x="2708" y="27"/>
                              </a:lnTo>
                              <a:lnTo>
                                <a:pt x="2731" y="33"/>
                              </a:lnTo>
                              <a:close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45" name=""/>
                        <p:cNvSpPr/>
                        <p:nvPr/>
                      </p:nvSpPr>
                      <p:spPr>
                        <a:xfrm>
                          <a:off x="3828960" y="2215080"/>
                          <a:ext cx="165960" cy="136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68" h="123">
                              <a:moveTo>
                                <a:pt x="168" y="31"/>
                              </a:moveTo>
                              <a:lnTo>
                                <a:pt x="159" y="40"/>
                              </a:lnTo>
                              <a:lnTo>
                                <a:pt x="153" y="52"/>
                              </a:lnTo>
                              <a:lnTo>
                                <a:pt x="150" y="65"/>
                              </a:lnTo>
                              <a:lnTo>
                                <a:pt x="149" y="76"/>
                              </a:lnTo>
                              <a:lnTo>
                                <a:pt x="146" y="88"/>
                              </a:lnTo>
                              <a:lnTo>
                                <a:pt x="140" y="99"/>
                              </a:lnTo>
                              <a:lnTo>
                                <a:pt x="132" y="108"/>
                              </a:lnTo>
                              <a:lnTo>
                                <a:pt x="119" y="113"/>
                              </a:lnTo>
                              <a:lnTo>
                                <a:pt x="105" y="121"/>
                              </a:lnTo>
                              <a:lnTo>
                                <a:pt x="90" y="123"/>
                              </a:lnTo>
                              <a:lnTo>
                                <a:pt x="76" y="122"/>
                              </a:lnTo>
                              <a:lnTo>
                                <a:pt x="63" y="118"/>
                              </a:lnTo>
                              <a:lnTo>
                                <a:pt x="50" y="113"/>
                              </a:lnTo>
                              <a:lnTo>
                                <a:pt x="37" y="106"/>
                              </a:lnTo>
                              <a:lnTo>
                                <a:pt x="25" y="99"/>
                              </a:lnTo>
                              <a:lnTo>
                                <a:pt x="14" y="93"/>
                              </a:lnTo>
                              <a:lnTo>
                                <a:pt x="4" y="85"/>
                              </a:lnTo>
                              <a:lnTo>
                                <a:pt x="0" y="75"/>
                              </a:lnTo>
                              <a:lnTo>
                                <a:pt x="0" y="65"/>
                              </a:lnTo>
                              <a:lnTo>
                                <a:pt x="5" y="54"/>
                              </a:lnTo>
                              <a:lnTo>
                                <a:pt x="11" y="46"/>
                              </a:lnTo>
                              <a:lnTo>
                                <a:pt x="18" y="36"/>
                              </a:lnTo>
                              <a:lnTo>
                                <a:pt x="24" y="26"/>
                              </a:lnTo>
                              <a:lnTo>
                                <a:pt x="27" y="17"/>
                              </a:lnTo>
                              <a:lnTo>
                                <a:pt x="41" y="11"/>
                              </a:lnTo>
                              <a:lnTo>
                                <a:pt x="60" y="6"/>
                              </a:lnTo>
                              <a:lnTo>
                                <a:pt x="80" y="1"/>
                              </a:lnTo>
                              <a:lnTo>
                                <a:pt x="102" y="0"/>
                              </a:lnTo>
                              <a:lnTo>
                                <a:pt x="122" y="1"/>
                              </a:lnTo>
                              <a:lnTo>
                                <a:pt x="140" y="7"/>
                              </a:lnTo>
                              <a:lnTo>
                                <a:pt x="156" y="17"/>
                              </a:lnTo>
                              <a:lnTo>
                                <a:pt x="168" y="31"/>
                              </a:lnTo>
                              <a:close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1146" name=""/>
                        <p:cNvGrpSpPr/>
                        <p:nvPr/>
                      </p:nvGrpSpPr>
                      <p:grpSpPr>
                        <a:xfrm>
                          <a:off x="3869280" y="1955880"/>
                          <a:ext cx="324000" cy="395280"/>
                          <a:chOff x="3869280" y="1955880"/>
                          <a:chExt cx="324000" cy="395280"/>
                        </a:xfrm>
                      </p:grpSpPr>
                      <p:sp>
                        <p:nvSpPr>
                          <p:cNvPr id="1147" name=""/>
                          <p:cNvSpPr/>
                          <p:nvPr/>
                        </p:nvSpPr>
                        <p:spPr>
                          <a:xfrm>
                            <a:off x="3869280" y="1955880"/>
                            <a:ext cx="89640" cy="1533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91" h="138">
                                <a:moveTo>
                                  <a:pt x="89" y="138"/>
                                </a:moveTo>
                                <a:lnTo>
                                  <a:pt x="42" y="138"/>
                                </a:lnTo>
                                <a:lnTo>
                                  <a:pt x="37" y="121"/>
                                </a:lnTo>
                                <a:lnTo>
                                  <a:pt x="30" y="103"/>
                                </a:lnTo>
                                <a:lnTo>
                                  <a:pt x="20" y="86"/>
                                </a:lnTo>
                                <a:lnTo>
                                  <a:pt x="12" y="70"/>
                                </a:lnTo>
                                <a:lnTo>
                                  <a:pt x="4" y="54"/>
                                </a:lnTo>
                                <a:lnTo>
                                  <a:pt x="0" y="37"/>
                                </a:lnTo>
                                <a:lnTo>
                                  <a:pt x="3" y="19"/>
                                </a:lnTo>
                                <a:lnTo>
                                  <a:pt x="12" y="0"/>
                                </a:lnTo>
                                <a:lnTo>
                                  <a:pt x="26" y="13"/>
                                </a:lnTo>
                                <a:lnTo>
                                  <a:pt x="40" y="26"/>
                                </a:lnTo>
                                <a:lnTo>
                                  <a:pt x="55" y="42"/>
                                </a:lnTo>
                                <a:lnTo>
                                  <a:pt x="68" y="57"/>
                                </a:lnTo>
                                <a:lnTo>
                                  <a:pt x="79" y="76"/>
                                </a:lnTo>
                                <a:lnTo>
                                  <a:pt x="86" y="95"/>
                                </a:lnTo>
                                <a:lnTo>
                                  <a:pt x="91" y="116"/>
                                </a:lnTo>
                                <a:lnTo>
                                  <a:pt x="89" y="138"/>
                                </a:lnTo>
                                <a:close/>
                              </a:path>
                            </a:pathLst>
                          </a:cu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48" name=""/>
                          <p:cNvSpPr/>
                          <p:nvPr/>
                        </p:nvSpPr>
                        <p:spPr>
                          <a:xfrm>
                            <a:off x="4160880" y="2117880"/>
                            <a:ext cx="32400" cy="543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3" h="49">
                                <a:moveTo>
                                  <a:pt x="28" y="49"/>
                                </a:moveTo>
                                <a:lnTo>
                                  <a:pt x="4" y="49"/>
                                </a:lnTo>
                                <a:lnTo>
                                  <a:pt x="0" y="35"/>
                                </a:lnTo>
                                <a:lnTo>
                                  <a:pt x="1" y="20"/>
                                </a:lnTo>
                                <a:lnTo>
                                  <a:pt x="7" y="8"/>
                                </a:lnTo>
                                <a:lnTo>
                                  <a:pt x="18" y="0"/>
                                </a:lnTo>
                                <a:lnTo>
                                  <a:pt x="27" y="9"/>
                                </a:lnTo>
                                <a:lnTo>
                                  <a:pt x="33" y="22"/>
                                </a:lnTo>
                                <a:lnTo>
                                  <a:pt x="33" y="36"/>
                                </a:lnTo>
                                <a:lnTo>
                                  <a:pt x="28" y="49"/>
                                </a:lnTo>
                                <a:close/>
                              </a:path>
                            </a:pathLst>
                          </a:cu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7560" bIns="75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49" name=""/>
                          <p:cNvSpPr/>
                          <p:nvPr/>
                        </p:nvSpPr>
                        <p:spPr>
                          <a:xfrm>
                            <a:off x="4032360" y="2330280"/>
                            <a:ext cx="61200" cy="208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2" h="19">
                                <a:moveTo>
                                  <a:pt x="62" y="12"/>
                                </a:moveTo>
                                <a:lnTo>
                                  <a:pt x="58" y="16"/>
                                </a:lnTo>
                                <a:lnTo>
                                  <a:pt x="51" y="19"/>
                                </a:lnTo>
                                <a:lnTo>
                                  <a:pt x="43" y="19"/>
                                </a:lnTo>
                                <a:lnTo>
                                  <a:pt x="36" y="18"/>
                                </a:lnTo>
                                <a:lnTo>
                                  <a:pt x="28" y="16"/>
                                </a:lnTo>
                                <a:lnTo>
                                  <a:pt x="19" y="15"/>
                                </a:lnTo>
                                <a:lnTo>
                                  <a:pt x="12" y="12"/>
                                </a:lnTo>
                                <a:lnTo>
                                  <a:pt x="5" y="12"/>
                                </a:lnTo>
                                <a:lnTo>
                                  <a:pt x="0" y="6"/>
                                </a:lnTo>
                                <a:lnTo>
                                  <a:pt x="9" y="5"/>
                                </a:lnTo>
                                <a:lnTo>
                                  <a:pt x="16" y="3"/>
                                </a:lnTo>
                                <a:lnTo>
                                  <a:pt x="25" y="2"/>
                                </a:lnTo>
                                <a:lnTo>
                                  <a:pt x="32" y="0"/>
                                </a:lnTo>
                                <a:lnTo>
                                  <a:pt x="39" y="0"/>
                                </a:lnTo>
                                <a:lnTo>
                                  <a:pt x="46" y="2"/>
                                </a:lnTo>
                                <a:lnTo>
                                  <a:pt x="55" y="6"/>
                                </a:lnTo>
                                <a:lnTo>
                                  <a:pt x="62" y="12"/>
                                </a:lnTo>
                                <a:close/>
                              </a:path>
                            </a:pathLst>
                          </a:custGeom>
                          <a:noFill/>
                          <a:ln w="93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920" bIns="-259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1150" name=""/>
                      <p:cNvSpPr/>
                      <p:nvPr/>
                    </p:nvSpPr>
                    <p:spPr>
                      <a:xfrm>
                        <a:off x="3869280" y="2215440"/>
                        <a:ext cx="125640" cy="13572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151" name=""/>
                      <p:cNvSpPr/>
                      <p:nvPr/>
                    </p:nvSpPr>
                    <p:spPr>
                      <a:xfrm>
                        <a:off x="3917520" y="2172960"/>
                        <a:ext cx="77760" cy="178560"/>
                      </a:xfrm>
                      <a:prstGeom prst="ellipse">
                        <a:avLst/>
                      </a:prstGeom>
                      <a:noFill/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152" name=""/>
                    <p:cNvSpPr/>
                    <p:nvPr/>
                  </p:nvSpPr>
                  <p:spPr>
                    <a:xfrm>
                      <a:off x="4093920" y="2257200"/>
                      <a:ext cx="282600" cy="13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2" h="150">
                          <a:moveTo>
                            <a:pt x="128" y="0"/>
                          </a:moveTo>
                          <a:cubicBezTo>
                            <a:pt x="167" y="14"/>
                            <a:pt x="220" y="20"/>
                            <a:pt x="255" y="38"/>
                          </a:cubicBezTo>
                          <a:cubicBezTo>
                            <a:pt x="263" y="42"/>
                            <a:pt x="270" y="49"/>
                            <a:pt x="278" y="53"/>
                          </a:cubicBezTo>
                          <a:cubicBezTo>
                            <a:pt x="289" y="58"/>
                            <a:pt x="328" y="69"/>
                            <a:pt x="345" y="75"/>
                          </a:cubicBezTo>
                          <a:cubicBezTo>
                            <a:pt x="353" y="78"/>
                            <a:pt x="368" y="83"/>
                            <a:pt x="368" y="83"/>
                          </a:cubicBezTo>
                          <a:cubicBezTo>
                            <a:pt x="370" y="90"/>
                            <a:pt x="382" y="102"/>
                            <a:pt x="375" y="105"/>
                          </a:cubicBezTo>
                          <a:cubicBezTo>
                            <a:pt x="367" y="109"/>
                            <a:pt x="290" y="86"/>
                            <a:pt x="270" y="83"/>
                          </a:cubicBezTo>
                          <a:cubicBezTo>
                            <a:pt x="178" y="95"/>
                            <a:pt x="89" y="123"/>
                            <a:pt x="0" y="150"/>
                          </a:cubicBezTo>
                          <a:cubicBezTo>
                            <a:pt x="0" y="150"/>
                            <a:pt x="15" y="145"/>
                            <a:pt x="23" y="143"/>
                          </a:cubicBezTo>
                          <a:cubicBezTo>
                            <a:pt x="30" y="135"/>
                            <a:pt x="36" y="126"/>
                            <a:pt x="45" y="120"/>
                          </a:cubicBezTo>
                          <a:cubicBezTo>
                            <a:pt x="52" y="116"/>
                            <a:pt x="62" y="118"/>
                            <a:pt x="68" y="113"/>
                          </a:cubicBezTo>
                          <a:cubicBezTo>
                            <a:pt x="75" y="107"/>
                            <a:pt x="77" y="97"/>
                            <a:pt x="83" y="90"/>
                          </a:cubicBezTo>
                          <a:cubicBezTo>
                            <a:pt x="89" y="84"/>
                            <a:pt x="98" y="80"/>
                            <a:pt x="105" y="75"/>
                          </a:cubicBezTo>
                          <a:cubicBezTo>
                            <a:pt x="109" y="64"/>
                            <a:pt x="117" y="37"/>
                            <a:pt x="128" y="30"/>
                          </a:cubicBezTo>
                          <a:cubicBezTo>
                            <a:pt x="141" y="22"/>
                            <a:pt x="173" y="15"/>
                            <a:pt x="173" y="15"/>
                          </a:cubicBezTo>
                          <a:cubicBezTo>
                            <a:pt x="194" y="21"/>
                            <a:pt x="218" y="30"/>
                            <a:pt x="240" y="30"/>
                          </a:cubicBezTo>
                          <a:lnTo>
                            <a:pt x="225" y="82"/>
                          </a:ln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53" name=""/>
                  <p:cNvSpPr/>
                  <p:nvPr/>
                </p:nvSpPr>
                <p:spPr>
                  <a:xfrm>
                    <a:off x="3738960" y="2383560"/>
                    <a:ext cx="394560" cy="541080"/>
                  </a:xfrm>
                  <a:custGeom>
                    <a:avLst/>
                    <a:gdLst/>
                    <a:ahLst/>
                    <a:rect l="l" t="t" r="r" b="b"/>
                    <a:pathLst>
                      <a:path w="533" h="608">
                        <a:moveTo>
                          <a:pt x="158" y="53"/>
                        </a:moveTo>
                        <a:cubicBezTo>
                          <a:pt x="118" y="39"/>
                          <a:pt x="141" y="49"/>
                          <a:pt x="90" y="15"/>
                        </a:cubicBezTo>
                        <a:cubicBezTo>
                          <a:pt x="83" y="10"/>
                          <a:pt x="68" y="0"/>
                          <a:pt x="68" y="0"/>
                        </a:cubicBezTo>
                        <a:cubicBezTo>
                          <a:pt x="53" y="3"/>
                          <a:pt x="36" y="0"/>
                          <a:pt x="23" y="8"/>
                        </a:cubicBezTo>
                        <a:cubicBezTo>
                          <a:pt x="0" y="21"/>
                          <a:pt x="25" y="73"/>
                          <a:pt x="38" y="83"/>
                        </a:cubicBezTo>
                        <a:cubicBezTo>
                          <a:pt x="44" y="88"/>
                          <a:pt x="53" y="88"/>
                          <a:pt x="60" y="90"/>
                        </a:cubicBezTo>
                        <a:cubicBezTo>
                          <a:pt x="122" y="130"/>
                          <a:pt x="75" y="190"/>
                          <a:pt x="53" y="240"/>
                        </a:cubicBezTo>
                        <a:cubicBezTo>
                          <a:pt x="43" y="262"/>
                          <a:pt x="38" y="285"/>
                          <a:pt x="30" y="308"/>
                        </a:cubicBezTo>
                        <a:cubicBezTo>
                          <a:pt x="28" y="315"/>
                          <a:pt x="23" y="330"/>
                          <a:pt x="23" y="330"/>
                        </a:cubicBezTo>
                        <a:cubicBezTo>
                          <a:pt x="30" y="420"/>
                          <a:pt x="35" y="470"/>
                          <a:pt x="98" y="533"/>
                        </a:cubicBezTo>
                        <a:cubicBezTo>
                          <a:pt x="112" y="576"/>
                          <a:pt x="94" y="536"/>
                          <a:pt x="128" y="570"/>
                        </a:cubicBezTo>
                        <a:cubicBezTo>
                          <a:pt x="134" y="576"/>
                          <a:pt x="135" y="588"/>
                          <a:pt x="143" y="593"/>
                        </a:cubicBezTo>
                        <a:cubicBezTo>
                          <a:pt x="156" y="601"/>
                          <a:pt x="188" y="608"/>
                          <a:pt x="188" y="608"/>
                        </a:cubicBezTo>
                        <a:cubicBezTo>
                          <a:pt x="203" y="605"/>
                          <a:pt x="219" y="606"/>
                          <a:pt x="233" y="600"/>
                        </a:cubicBezTo>
                        <a:cubicBezTo>
                          <a:pt x="250" y="593"/>
                          <a:pt x="278" y="570"/>
                          <a:pt x="278" y="570"/>
                        </a:cubicBezTo>
                        <a:cubicBezTo>
                          <a:pt x="288" y="555"/>
                          <a:pt x="302" y="542"/>
                          <a:pt x="308" y="525"/>
                        </a:cubicBezTo>
                        <a:cubicBezTo>
                          <a:pt x="313" y="510"/>
                          <a:pt x="323" y="480"/>
                          <a:pt x="323" y="480"/>
                        </a:cubicBezTo>
                        <a:cubicBezTo>
                          <a:pt x="316" y="405"/>
                          <a:pt x="304" y="342"/>
                          <a:pt x="285" y="270"/>
                        </a:cubicBezTo>
                        <a:cubicBezTo>
                          <a:pt x="294" y="185"/>
                          <a:pt x="283" y="182"/>
                          <a:pt x="338" y="218"/>
                        </a:cubicBezTo>
                        <a:cubicBezTo>
                          <a:pt x="348" y="233"/>
                          <a:pt x="362" y="246"/>
                          <a:pt x="368" y="263"/>
                        </a:cubicBezTo>
                        <a:cubicBezTo>
                          <a:pt x="375" y="285"/>
                          <a:pt x="377" y="310"/>
                          <a:pt x="390" y="330"/>
                        </a:cubicBezTo>
                        <a:cubicBezTo>
                          <a:pt x="405" y="353"/>
                          <a:pt x="412" y="372"/>
                          <a:pt x="420" y="398"/>
                        </a:cubicBezTo>
                        <a:cubicBezTo>
                          <a:pt x="405" y="463"/>
                          <a:pt x="426" y="395"/>
                          <a:pt x="390" y="450"/>
                        </a:cubicBezTo>
                        <a:cubicBezTo>
                          <a:pt x="381" y="463"/>
                          <a:pt x="380" y="480"/>
                          <a:pt x="375" y="495"/>
                        </a:cubicBezTo>
                        <a:cubicBezTo>
                          <a:pt x="395" y="552"/>
                          <a:pt x="463" y="521"/>
                          <a:pt x="503" y="495"/>
                        </a:cubicBezTo>
                        <a:cubicBezTo>
                          <a:pt x="510" y="473"/>
                          <a:pt x="518" y="450"/>
                          <a:pt x="525" y="428"/>
                        </a:cubicBezTo>
                        <a:cubicBezTo>
                          <a:pt x="528" y="420"/>
                          <a:pt x="533" y="405"/>
                          <a:pt x="533" y="405"/>
                        </a:cubicBezTo>
                        <a:cubicBezTo>
                          <a:pt x="526" y="320"/>
                          <a:pt x="515" y="239"/>
                          <a:pt x="488" y="158"/>
                        </a:cubicBezTo>
                        <a:cubicBezTo>
                          <a:pt x="483" y="144"/>
                          <a:pt x="443" y="138"/>
                          <a:pt x="435" y="135"/>
                        </a:cubicBezTo>
                        <a:cubicBezTo>
                          <a:pt x="420" y="130"/>
                          <a:pt x="390" y="120"/>
                          <a:pt x="390" y="120"/>
                        </a:cubicBezTo>
                        <a:cubicBezTo>
                          <a:pt x="322" y="132"/>
                          <a:pt x="262" y="114"/>
                          <a:pt x="195" y="105"/>
                        </a:cubicBezTo>
                        <a:cubicBezTo>
                          <a:pt x="187" y="81"/>
                          <a:pt x="182" y="64"/>
                          <a:pt x="158" y="53"/>
                        </a:cubicBez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54" name=""/>
                <p:cNvSpPr/>
                <p:nvPr/>
              </p:nvSpPr>
              <p:spPr>
                <a:xfrm>
                  <a:off x="3645000" y="1838160"/>
                  <a:ext cx="538200" cy="358560"/>
                </a:xfrm>
                <a:custGeom>
                  <a:avLst/>
                  <a:gdLst/>
                  <a:ahLst/>
                  <a:rect l="l" t="t" r="r" b="b"/>
                  <a:pathLst>
                    <a:path w="727" h="403">
                      <a:moveTo>
                        <a:pt x="82" y="351"/>
                      </a:moveTo>
                      <a:cubicBezTo>
                        <a:pt x="26" y="292"/>
                        <a:pt x="18" y="187"/>
                        <a:pt x="0" y="111"/>
                      </a:cubicBezTo>
                      <a:cubicBezTo>
                        <a:pt x="8" y="77"/>
                        <a:pt x="10" y="62"/>
                        <a:pt x="45" y="51"/>
                      </a:cubicBezTo>
                      <a:cubicBezTo>
                        <a:pt x="94" y="0"/>
                        <a:pt x="118" y="23"/>
                        <a:pt x="202" y="28"/>
                      </a:cubicBezTo>
                      <a:cubicBezTo>
                        <a:pt x="235" y="40"/>
                        <a:pt x="241" y="71"/>
                        <a:pt x="262" y="103"/>
                      </a:cubicBezTo>
                      <a:cubicBezTo>
                        <a:pt x="303" y="165"/>
                        <a:pt x="330" y="235"/>
                        <a:pt x="352" y="306"/>
                      </a:cubicBezTo>
                      <a:cubicBezTo>
                        <a:pt x="362" y="276"/>
                        <a:pt x="367" y="228"/>
                        <a:pt x="382" y="201"/>
                      </a:cubicBezTo>
                      <a:cubicBezTo>
                        <a:pt x="391" y="185"/>
                        <a:pt x="412" y="156"/>
                        <a:pt x="412" y="156"/>
                      </a:cubicBezTo>
                      <a:cubicBezTo>
                        <a:pt x="425" y="158"/>
                        <a:pt x="439" y="156"/>
                        <a:pt x="450" y="163"/>
                      </a:cubicBezTo>
                      <a:cubicBezTo>
                        <a:pt x="467" y="174"/>
                        <a:pt x="456" y="219"/>
                        <a:pt x="480" y="231"/>
                      </a:cubicBezTo>
                      <a:cubicBezTo>
                        <a:pt x="494" y="238"/>
                        <a:pt x="510" y="236"/>
                        <a:pt x="525" y="238"/>
                      </a:cubicBezTo>
                      <a:cubicBezTo>
                        <a:pt x="578" y="220"/>
                        <a:pt x="557" y="232"/>
                        <a:pt x="592" y="208"/>
                      </a:cubicBezTo>
                      <a:cubicBezTo>
                        <a:pt x="627" y="220"/>
                        <a:pt x="617" y="231"/>
                        <a:pt x="637" y="261"/>
                      </a:cubicBezTo>
                      <a:cubicBezTo>
                        <a:pt x="646" y="303"/>
                        <a:pt x="649" y="312"/>
                        <a:pt x="690" y="298"/>
                      </a:cubicBezTo>
                      <a:cubicBezTo>
                        <a:pt x="720" y="309"/>
                        <a:pt x="718" y="321"/>
                        <a:pt x="727" y="351"/>
                      </a:cubicBezTo>
                      <a:cubicBezTo>
                        <a:pt x="718" y="388"/>
                        <a:pt x="710" y="392"/>
                        <a:pt x="675" y="403"/>
                      </a:cubicBezTo>
                      <a:cubicBezTo>
                        <a:pt x="667" y="398"/>
                        <a:pt x="659" y="394"/>
                        <a:pt x="652" y="388"/>
                      </a:cubicBezTo>
                      <a:cubicBezTo>
                        <a:pt x="646" y="382"/>
                        <a:pt x="644" y="372"/>
                        <a:pt x="637" y="366"/>
                      </a:cubicBezTo>
                      <a:cubicBezTo>
                        <a:pt x="599" y="335"/>
                        <a:pt x="526" y="328"/>
                        <a:pt x="480" y="321"/>
                      </a:cubicBezTo>
                      <a:cubicBezTo>
                        <a:pt x="390" y="290"/>
                        <a:pt x="281" y="307"/>
                        <a:pt x="187" y="313"/>
                      </a:cubicBezTo>
                      <a:cubicBezTo>
                        <a:pt x="149" y="327"/>
                        <a:pt x="123" y="342"/>
                        <a:pt x="82" y="351"/>
                      </a:cubicBez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55" name=""/>
              <p:cNvSpPr/>
              <p:nvPr/>
            </p:nvSpPr>
            <p:spPr>
              <a:xfrm>
                <a:off x="1012680" y="1523880"/>
                <a:ext cx="3657600" cy="411480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6" name=""/>
            <p:cNvGrpSpPr/>
            <p:nvPr/>
          </p:nvGrpSpPr>
          <p:grpSpPr>
            <a:xfrm>
              <a:off x="5010120" y="1523880"/>
              <a:ext cx="3657600" cy="4114800"/>
              <a:chOff x="5010120" y="1523880"/>
              <a:chExt cx="3657600" cy="4114800"/>
            </a:xfrm>
          </p:grpSpPr>
          <p:grpSp>
            <p:nvGrpSpPr>
              <p:cNvPr id="1157" name=""/>
              <p:cNvGrpSpPr/>
              <p:nvPr/>
            </p:nvGrpSpPr>
            <p:grpSpPr>
              <a:xfrm>
                <a:off x="5010120" y="1523880"/>
                <a:ext cx="3657600" cy="4114800"/>
                <a:chOff x="5010120" y="1523880"/>
                <a:chExt cx="3657600" cy="4114800"/>
              </a:xfrm>
            </p:grpSpPr>
            <p:grpSp>
              <p:nvGrpSpPr>
                <p:cNvPr id="1158" name=""/>
                <p:cNvGrpSpPr/>
                <p:nvPr/>
              </p:nvGrpSpPr>
              <p:grpSpPr>
                <a:xfrm>
                  <a:off x="5010120" y="1523880"/>
                  <a:ext cx="3657600" cy="4114800"/>
                  <a:chOff x="5010120" y="1523880"/>
                  <a:chExt cx="3657600" cy="4114800"/>
                </a:xfrm>
              </p:grpSpPr>
              <p:grpSp>
                <p:nvGrpSpPr>
                  <p:cNvPr id="1159" name=""/>
                  <p:cNvGrpSpPr/>
                  <p:nvPr/>
                </p:nvGrpSpPr>
                <p:grpSpPr>
                  <a:xfrm>
                    <a:off x="5010120" y="1523880"/>
                    <a:ext cx="3657600" cy="4114800"/>
                    <a:chOff x="5010120" y="1523880"/>
                    <a:chExt cx="3657600" cy="4114800"/>
                  </a:xfrm>
                </p:grpSpPr>
                <p:grpSp>
                  <p:nvGrpSpPr>
                    <p:cNvPr id="1160" name=""/>
                    <p:cNvGrpSpPr/>
                    <p:nvPr/>
                  </p:nvGrpSpPr>
                  <p:grpSpPr>
                    <a:xfrm>
                      <a:off x="5010120" y="1523880"/>
                      <a:ext cx="3657600" cy="4114800"/>
                      <a:chOff x="5010120" y="1523880"/>
                      <a:chExt cx="3657600" cy="4114800"/>
                    </a:xfrm>
                  </p:grpSpPr>
                  <p:grpSp>
                    <p:nvGrpSpPr>
                      <p:cNvPr id="1161" name=""/>
                      <p:cNvGrpSpPr/>
                      <p:nvPr/>
                    </p:nvGrpSpPr>
                    <p:grpSpPr>
                      <a:xfrm>
                        <a:off x="6053760" y="2883960"/>
                        <a:ext cx="1702080" cy="2346120"/>
                        <a:chOff x="6053760" y="2883960"/>
                        <a:chExt cx="1702080" cy="2346120"/>
                      </a:xfrm>
                    </p:grpSpPr>
                    <p:grpSp>
                      <p:nvGrpSpPr>
                        <p:cNvPr id="1162" name=""/>
                        <p:cNvGrpSpPr/>
                        <p:nvPr/>
                      </p:nvGrpSpPr>
                      <p:grpSpPr>
                        <a:xfrm>
                          <a:off x="6053760" y="2883960"/>
                          <a:ext cx="1702080" cy="2346120"/>
                          <a:chOff x="6053760" y="2883960"/>
                          <a:chExt cx="1702080" cy="2346120"/>
                        </a:xfrm>
                      </p:grpSpPr>
                      <p:sp>
                        <p:nvSpPr>
                          <p:cNvPr id="1163" name=""/>
                          <p:cNvSpPr/>
                          <p:nvPr/>
                        </p:nvSpPr>
                        <p:spPr>
                          <a:xfrm>
                            <a:off x="6072840" y="2883960"/>
                            <a:ext cx="1683000" cy="17110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489" h="1440">
                                <a:moveTo>
                                  <a:pt x="8" y="270"/>
                                </a:moveTo>
                                <a:cubicBezTo>
                                  <a:pt x="18" y="255"/>
                                  <a:pt x="33" y="242"/>
                                  <a:pt x="38" y="225"/>
                                </a:cubicBezTo>
                                <a:cubicBezTo>
                                  <a:pt x="54" y="176"/>
                                  <a:pt x="53" y="127"/>
                                  <a:pt x="83" y="83"/>
                                </a:cubicBezTo>
                                <a:cubicBezTo>
                                  <a:pt x="92" y="53"/>
                                  <a:pt x="97" y="41"/>
                                  <a:pt x="128" y="30"/>
                                </a:cubicBezTo>
                                <a:cubicBezTo>
                                  <a:pt x="132" y="43"/>
                                  <a:pt x="133" y="69"/>
                                  <a:pt x="158" y="60"/>
                                </a:cubicBezTo>
                                <a:cubicBezTo>
                                  <a:pt x="161" y="59"/>
                                  <a:pt x="212" y="24"/>
                                  <a:pt x="225" y="15"/>
                                </a:cubicBezTo>
                                <a:cubicBezTo>
                                  <a:pt x="233" y="10"/>
                                  <a:pt x="248" y="0"/>
                                  <a:pt x="248" y="0"/>
                                </a:cubicBezTo>
                                <a:cubicBezTo>
                                  <a:pt x="275" y="10"/>
                                  <a:pt x="287" y="17"/>
                                  <a:pt x="315" y="8"/>
                                </a:cubicBezTo>
                                <a:cubicBezTo>
                                  <a:pt x="335" y="10"/>
                                  <a:pt x="356" y="10"/>
                                  <a:pt x="375" y="15"/>
                                </a:cubicBezTo>
                                <a:cubicBezTo>
                                  <a:pt x="384" y="17"/>
                                  <a:pt x="389" y="27"/>
                                  <a:pt x="398" y="30"/>
                                </a:cubicBezTo>
                                <a:cubicBezTo>
                                  <a:pt x="422" y="37"/>
                                  <a:pt x="449" y="38"/>
                                  <a:pt x="473" y="45"/>
                                </a:cubicBezTo>
                                <a:cubicBezTo>
                                  <a:pt x="505" y="67"/>
                                  <a:pt x="524" y="69"/>
                                  <a:pt x="563" y="75"/>
                                </a:cubicBezTo>
                                <a:cubicBezTo>
                                  <a:pt x="564" y="78"/>
                                  <a:pt x="575" y="117"/>
                                  <a:pt x="578" y="120"/>
                                </a:cubicBezTo>
                                <a:cubicBezTo>
                                  <a:pt x="590" y="132"/>
                                  <a:pt x="629" y="137"/>
                                  <a:pt x="645" y="143"/>
                                </a:cubicBezTo>
                                <a:cubicBezTo>
                                  <a:pt x="657" y="176"/>
                                  <a:pt x="647" y="184"/>
                                  <a:pt x="683" y="195"/>
                                </a:cubicBezTo>
                                <a:cubicBezTo>
                                  <a:pt x="693" y="227"/>
                                  <a:pt x="692" y="244"/>
                                  <a:pt x="720" y="263"/>
                                </a:cubicBezTo>
                                <a:cubicBezTo>
                                  <a:pt x="729" y="312"/>
                                  <a:pt x="728" y="316"/>
                                  <a:pt x="773" y="330"/>
                                </a:cubicBezTo>
                                <a:cubicBezTo>
                                  <a:pt x="778" y="338"/>
                                  <a:pt x="779" y="351"/>
                                  <a:pt x="788" y="353"/>
                                </a:cubicBezTo>
                                <a:cubicBezTo>
                                  <a:pt x="805" y="357"/>
                                  <a:pt x="822" y="345"/>
                                  <a:pt x="840" y="345"/>
                                </a:cubicBezTo>
                                <a:cubicBezTo>
                                  <a:pt x="874" y="345"/>
                                  <a:pt x="938" y="364"/>
                                  <a:pt x="968" y="368"/>
                                </a:cubicBezTo>
                                <a:cubicBezTo>
                                  <a:pt x="993" y="376"/>
                                  <a:pt x="1018" y="382"/>
                                  <a:pt x="1043" y="390"/>
                                </a:cubicBezTo>
                                <a:cubicBezTo>
                                  <a:pt x="1058" y="439"/>
                                  <a:pt x="1091" y="413"/>
                                  <a:pt x="1133" y="428"/>
                                </a:cubicBezTo>
                                <a:cubicBezTo>
                                  <a:pt x="1153" y="457"/>
                                  <a:pt x="1166" y="457"/>
                                  <a:pt x="1200" y="465"/>
                                </a:cubicBezTo>
                                <a:cubicBezTo>
                                  <a:pt x="1215" y="509"/>
                                  <a:pt x="1196" y="469"/>
                                  <a:pt x="1230" y="503"/>
                                </a:cubicBezTo>
                                <a:cubicBezTo>
                                  <a:pt x="1254" y="527"/>
                                  <a:pt x="1238" y="521"/>
                                  <a:pt x="1253" y="548"/>
                                </a:cubicBezTo>
                                <a:cubicBezTo>
                                  <a:pt x="1262" y="564"/>
                                  <a:pt x="1283" y="593"/>
                                  <a:pt x="1283" y="593"/>
                                </a:cubicBezTo>
                                <a:cubicBezTo>
                                  <a:pt x="1301" y="649"/>
                                  <a:pt x="1274" y="580"/>
                                  <a:pt x="1313" y="630"/>
                                </a:cubicBezTo>
                                <a:cubicBezTo>
                                  <a:pt x="1323" y="643"/>
                                  <a:pt x="1334" y="682"/>
                                  <a:pt x="1343" y="698"/>
                                </a:cubicBezTo>
                                <a:cubicBezTo>
                                  <a:pt x="1352" y="714"/>
                                  <a:pt x="1373" y="743"/>
                                  <a:pt x="1373" y="743"/>
                                </a:cubicBezTo>
                                <a:cubicBezTo>
                                  <a:pt x="1385" y="782"/>
                                  <a:pt x="1420" y="779"/>
                                  <a:pt x="1455" y="788"/>
                                </a:cubicBezTo>
                                <a:cubicBezTo>
                                  <a:pt x="1471" y="812"/>
                                  <a:pt x="1489" y="841"/>
                                  <a:pt x="1470" y="870"/>
                                </a:cubicBezTo>
                                <a:cubicBezTo>
                                  <a:pt x="1456" y="890"/>
                                  <a:pt x="1403" y="900"/>
                                  <a:pt x="1403" y="900"/>
                                </a:cubicBezTo>
                                <a:cubicBezTo>
                                  <a:pt x="1379" y="924"/>
                                  <a:pt x="1361" y="925"/>
                                  <a:pt x="1343" y="953"/>
                                </a:cubicBezTo>
                                <a:cubicBezTo>
                                  <a:pt x="1352" y="990"/>
                                  <a:pt x="1375" y="1015"/>
                                  <a:pt x="1388" y="1050"/>
                                </a:cubicBezTo>
                                <a:cubicBezTo>
                                  <a:pt x="1381" y="1087"/>
                                  <a:pt x="1390" y="1171"/>
                                  <a:pt x="1343" y="1185"/>
                                </a:cubicBezTo>
                                <a:cubicBezTo>
                                  <a:pt x="1326" y="1190"/>
                                  <a:pt x="1308" y="1190"/>
                                  <a:pt x="1290" y="1193"/>
                                </a:cubicBezTo>
                                <a:cubicBezTo>
                                  <a:pt x="1225" y="1215"/>
                                  <a:pt x="1258" y="1211"/>
                                  <a:pt x="1208" y="1245"/>
                                </a:cubicBezTo>
                                <a:cubicBezTo>
                                  <a:pt x="1168" y="1238"/>
                                  <a:pt x="1149" y="1243"/>
                                  <a:pt x="1110" y="1253"/>
                                </a:cubicBezTo>
                                <a:cubicBezTo>
                                  <a:pt x="1085" y="1270"/>
                                  <a:pt x="1078" y="1288"/>
                                  <a:pt x="1050" y="1298"/>
                                </a:cubicBezTo>
                                <a:cubicBezTo>
                                  <a:pt x="1038" y="1335"/>
                                  <a:pt x="1043" y="1384"/>
                                  <a:pt x="1028" y="1418"/>
                                </a:cubicBezTo>
                                <a:cubicBezTo>
                                  <a:pt x="1023" y="1429"/>
                                  <a:pt x="993" y="1437"/>
                                  <a:pt x="983" y="1440"/>
                                </a:cubicBezTo>
                                <a:cubicBezTo>
                                  <a:pt x="894" y="1434"/>
                                  <a:pt x="853" y="1425"/>
                                  <a:pt x="765" y="1433"/>
                                </a:cubicBezTo>
                                <a:cubicBezTo>
                                  <a:pt x="688" y="1424"/>
                                  <a:pt x="648" y="1397"/>
                                  <a:pt x="578" y="1388"/>
                                </a:cubicBezTo>
                                <a:cubicBezTo>
                                  <a:pt x="520" y="1301"/>
                                  <a:pt x="465" y="1305"/>
                                  <a:pt x="360" y="1298"/>
                                </a:cubicBezTo>
                                <a:cubicBezTo>
                                  <a:pt x="330" y="1252"/>
                                  <a:pt x="345" y="1196"/>
                                  <a:pt x="285" y="1178"/>
                                </a:cubicBezTo>
                                <a:cubicBezTo>
                                  <a:pt x="278" y="1155"/>
                                  <a:pt x="270" y="1133"/>
                                  <a:pt x="263" y="1110"/>
                                </a:cubicBezTo>
                                <a:cubicBezTo>
                                  <a:pt x="277" y="1048"/>
                                  <a:pt x="261" y="1064"/>
                                  <a:pt x="218" y="1035"/>
                                </a:cubicBezTo>
                                <a:cubicBezTo>
                                  <a:pt x="213" y="1028"/>
                                  <a:pt x="209" y="1019"/>
                                  <a:pt x="203" y="1013"/>
                                </a:cubicBezTo>
                                <a:cubicBezTo>
                                  <a:pt x="196" y="1007"/>
                                  <a:pt x="185" y="1006"/>
                                  <a:pt x="180" y="998"/>
                                </a:cubicBezTo>
                                <a:cubicBezTo>
                                  <a:pt x="174" y="989"/>
                                  <a:pt x="179" y="976"/>
                                  <a:pt x="173" y="968"/>
                                </a:cubicBezTo>
                                <a:cubicBezTo>
                                  <a:pt x="168" y="962"/>
                                  <a:pt x="157" y="964"/>
                                  <a:pt x="150" y="960"/>
                                </a:cubicBezTo>
                                <a:cubicBezTo>
                                  <a:pt x="142" y="956"/>
                                  <a:pt x="135" y="950"/>
                                  <a:pt x="128" y="945"/>
                                </a:cubicBezTo>
                                <a:cubicBezTo>
                                  <a:pt x="112" y="902"/>
                                  <a:pt x="123" y="945"/>
                                  <a:pt x="128" y="893"/>
                                </a:cubicBezTo>
                                <a:cubicBezTo>
                                  <a:pt x="132" y="848"/>
                                  <a:pt x="129" y="803"/>
                                  <a:pt x="135" y="758"/>
                                </a:cubicBezTo>
                                <a:cubicBezTo>
                                  <a:pt x="136" y="749"/>
                                  <a:pt x="146" y="743"/>
                                  <a:pt x="150" y="735"/>
                                </a:cubicBezTo>
                                <a:cubicBezTo>
                                  <a:pt x="165" y="706"/>
                                  <a:pt x="173" y="663"/>
                                  <a:pt x="180" y="630"/>
                                </a:cubicBezTo>
                                <a:cubicBezTo>
                                  <a:pt x="189" y="591"/>
                                  <a:pt x="189" y="572"/>
                                  <a:pt x="210" y="540"/>
                                </a:cubicBezTo>
                                <a:cubicBezTo>
                                  <a:pt x="169" y="512"/>
                                  <a:pt x="192" y="536"/>
                                  <a:pt x="150" y="563"/>
                                </a:cubicBezTo>
                                <a:cubicBezTo>
                                  <a:pt x="141" y="593"/>
                                  <a:pt x="122" y="593"/>
                                  <a:pt x="113" y="623"/>
                                </a:cubicBezTo>
                                <a:cubicBezTo>
                                  <a:pt x="75" y="610"/>
                                  <a:pt x="93" y="623"/>
                                  <a:pt x="75" y="570"/>
                                </a:cubicBezTo>
                                <a:cubicBezTo>
                                  <a:pt x="71" y="558"/>
                                  <a:pt x="50" y="565"/>
                                  <a:pt x="38" y="563"/>
                                </a:cubicBezTo>
                                <a:cubicBezTo>
                                  <a:pt x="13" y="489"/>
                                  <a:pt x="43" y="401"/>
                                  <a:pt x="0" y="338"/>
                                </a:cubicBezTo>
                                <a:cubicBezTo>
                                  <a:pt x="10" y="269"/>
                                  <a:pt x="2" y="302"/>
                                  <a:pt x="23" y="240"/>
                                </a:cubicBezTo>
                                <a:cubicBezTo>
                                  <a:pt x="25" y="233"/>
                                  <a:pt x="45" y="233"/>
                                  <a:pt x="45" y="233"/>
                                </a:cubicBezTo>
                                <a:lnTo>
                                  <a:pt x="8" y="270"/>
                                </a:lnTo>
                                <a:close/>
                              </a:path>
                            </a:pathLst>
                          </a:custGeom>
                          <a:noFill/>
                          <a:ln w="648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1164" name=""/>
                          <p:cNvGrpSpPr/>
                          <p:nvPr/>
                        </p:nvGrpSpPr>
                        <p:grpSpPr>
                          <a:xfrm>
                            <a:off x="6053760" y="3159360"/>
                            <a:ext cx="1625760" cy="2070720"/>
                            <a:chOff x="6053760" y="3159360"/>
                            <a:chExt cx="1625760" cy="2070720"/>
                          </a:xfrm>
                        </p:grpSpPr>
                        <p:sp>
                          <p:nvSpPr>
                            <p:cNvPr id="1165" name=""/>
                            <p:cNvSpPr/>
                            <p:nvPr/>
                          </p:nvSpPr>
                          <p:spPr>
                            <a:xfrm>
                              <a:off x="6053760" y="4494600"/>
                              <a:ext cx="831600" cy="5169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736" h="435">
                                  <a:moveTo>
                                    <a:pt x="561" y="0"/>
                                  </a:moveTo>
                                  <a:lnTo>
                                    <a:pt x="561" y="10"/>
                                  </a:lnTo>
                                  <a:lnTo>
                                    <a:pt x="563" y="18"/>
                                  </a:lnTo>
                                  <a:lnTo>
                                    <a:pt x="567" y="25"/>
                                  </a:lnTo>
                                  <a:lnTo>
                                    <a:pt x="573" y="31"/>
                                  </a:lnTo>
                                  <a:lnTo>
                                    <a:pt x="576" y="23"/>
                                  </a:lnTo>
                                  <a:lnTo>
                                    <a:pt x="581" y="19"/>
                                  </a:lnTo>
                                  <a:lnTo>
                                    <a:pt x="589" y="18"/>
                                  </a:lnTo>
                                  <a:lnTo>
                                    <a:pt x="596" y="19"/>
                                  </a:lnTo>
                                  <a:lnTo>
                                    <a:pt x="599" y="29"/>
                                  </a:lnTo>
                                  <a:lnTo>
                                    <a:pt x="600" y="38"/>
                                  </a:lnTo>
                                  <a:lnTo>
                                    <a:pt x="603" y="46"/>
                                  </a:lnTo>
                                  <a:lnTo>
                                    <a:pt x="610" y="52"/>
                                  </a:lnTo>
                                  <a:lnTo>
                                    <a:pt x="616" y="46"/>
                                  </a:lnTo>
                                  <a:lnTo>
                                    <a:pt x="620" y="41"/>
                                  </a:lnTo>
                                  <a:lnTo>
                                    <a:pt x="623" y="35"/>
                                  </a:lnTo>
                                  <a:lnTo>
                                    <a:pt x="629" y="31"/>
                                  </a:lnTo>
                                  <a:lnTo>
                                    <a:pt x="632" y="46"/>
                                  </a:lnTo>
                                  <a:lnTo>
                                    <a:pt x="630" y="59"/>
                                  </a:lnTo>
                                  <a:lnTo>
                                    <a:pt x="625" y="69"/>
                                  </a:lnTo>
                                  <a:lnTo>
                                    <a:pt x="616" y="78"/>
                                  </a:lnTo>
                                  <a:lnTo>
                                    <a:pt x="606" y="87"/>
                                  </a:lnTo>
                                  <a:lnTo>
                                    <a:pt x="594" y="94"/>
                                  </a:lnTo>
                                  <a:lnTo>
                                    <a:pt x="583" y="101"/>
                                  </a:lnTo>
                                  <a:lnTo>
                                    <a:pt x="573" y="108"/>
                                  </a:lnTo>
                                  <a:lnTo>
                                    <a:pt x="557" y="120"/>
                                  </a:lnTo>
                                  <a:lnTo>
                                    <a:pt x="542" y="133"/>
                                  </a:lnTo>
                                  <a:lnTo>
                                    <a:pt x="529" y="144"/>
                                  </a:lnTo>
                                  <a:lnTo>
                                    <a:pt x="516" y="157"/>
                                  </a:lnTo>
                                  <a:lnTo>
                                    <a:pt x="503" y="170"/>
                                  </a:lnTo>
                                  <a:lnTo>
                                    <a:pt x="490" y="183"/>
                                  </a:lnTo>
                                  <a:lnTo>
                                    <a:pt x="478" y="195"/>
                                  </a:lnTo>
                                  <a:lnTo>
                                    <a:pt x="462" y="206"/>
                                  </a:lnTo>
                                  <a:lnTo>
                                    <a:pt x="457" y="213"/>
                                  </a:lnTo>
                                  <a:lnTo>
                                    <a:pt x="452" y="220"/>
                                  </a:lnTo>
                                  <a:lnTo>
                                    <a:pt x="447" y="228"/>
                                  </a:lnTo>
                                  <a:lnTo>
                                    <a:pt x="449" y="238"/>
                                  </a:lnTo>
                                  <a:lnTo>
                                    <a:pt x="457" y="241"/>
                                  </a:lnTo>
                                  <a:lnTo>
                                    <a:pt x="466" y="243"/>
                                  </a:lnTo>
                                  <a:lnTo>
                                    <a:pt x="476" y="245"/>
                                  </a:lnTo>
                                  <a:lnTo>
                                    <a:pt x="485" y="242"/>
                                  </a:lnTo>
                                  <a:lnTo>
                                    <a:pt x="482" y="238"/>
                                  </a:lnTo>
                                  <a:lnTo>
                                    <a:pt x="478" y="232"/>
                                  </a:lnTo>
                                  <a:lnTo>
                                    <a:pt x="475" y="228"/>
                                  </a:lnTo>
                                  <a:lnTo>
                                    <a:pt x="473" y="220"/>
                                  </a:lnTo>
                                  <a:lnTo>
                                    <a:pt x="480" y="218"/>
                                  </a:lnTo>
                                  <a:lnTo>
                                    <a:pt x="489" y="216"/>
                                  </a:lnTo>
                                  <a:lnTo>
                                    <a:pt x="498" y="218"/>
                                  </a:lnTo>
                                  <a:lnTo>
                                    <a:pt x="506" y="219"/>
                                  </a:lnTo>
                                  <a:lnTo>
                                    <a:pt x="515" y="220"/>
                                  </a:lnTo>
                                  <a:lnTo>
                                    <a:pt x="525" y="222"/>
                                  </a:lnTo>
                                  <a:lnTo>
                                    <a:pt x="534" y="222"/>
                                  </a:lnTo>
                                  <a:lnTo>
                                    <a:pt x="544" y="220"/>
                                  </a:lnTo>
                                  <a:lnTo>
                                    <a:pt x="568" y="220"/>
                                  </a:lnTo>
                                  <a:lnTo>
                                    <a:pt x="591" y="220"/>
                                  </a:lnTo>
                                  <a:lnTo>
                                    <a:pt x="616" y="222"/>
                                  </a:lnTo>
                                  <a:lnTo>
                                    <a:pt x="640" y="225"/>
                                  </a:lnTo>
                                  <a:lnTo>
                                    <a:pt x="665" y="228"/>
                                  </a:lnTo>
                                  <a:lnTo>
                                    <a:pt x="689" y="231"/>
                                  </a:lnTo>
                                  <a:lnTo>
                                    <a:pt x="712" y="233"/>
                                  </a:lnTo>
                                  <a:lnTo>
                                    <a:pt x="736" y="236"/>
                                  </a:lnTo>
                                  <a:lnTo>
                                    <a:pt x="731" y="242"/>
                                  </a:lnTo>
                                  <a:lnTo>
                                    <a:pt x="725" y="245"/>
                                  </a:lnTo>
                                  <a:lnTo>
                                    <a:pt x="720" y="245"/>
                                  </a:lnTo>
                                  <a:lnTo>
                                    <a:pt x="712" y="245"/>
                                  </a:lnTo>
                                  <a:lnTo>
                                    <a:pt x="705" y="243"/>
                                  </a:lnTo>
                                  <a:lnTo>
                                    <a:pt x="698" y="242"/>
                                  </a:lnTo>
                                  <a:lnTo>
                                    <a:pt x="691" y="243"/>
                                  </a:lnTo>
                                  <a:lnTo>
                                    <a:pt x="684" y="245"/>
                                  </a:lnTo>
                                  <a:lnTo>
                                    <a:pt x="659" y="243"/>
                                  </a:lnTo>
                                  <a:lnTo>
                                    <a:pt x="636" y="242"/>
                                  </a:lnTo>
                                  <a:lnTo>
                                    <a:pt x="612" y="239"/>
                                  </a:lnTo>
                                  <a:lnTo>
                                    <a:pt x="589" y="238"/>
                                  </a:lnTo>
                                  <a:lnTo>
                                    <a:pt x="564" y="236"/>
                                  </a:lnTo>
                                  <a:lnTo>
                                    <a:pt x="541" y="236"/>
                                  </a:lnTo>
                                  <a:lnTo>
                                    <a:pt x="516" y="239"/>
                                  </a:lnTo>
                                  <a:lnTo>
                                    <a:pt x="493" y="245"/>
                                  </a:lnTo>
                                  <a:lnTo>
                                    <a:pt x="502" y="249"/>
                                  </a:lnTo>
                                  <a:lnTo>
                                    <a:pt x="512" y="255"/>
                                  </a:lnTo>
                                  <a:lnTo>
                                    <a:pt x="521" y="261"/>
                                  </a:lnTo>
                                  <a:lnTo>
                                    <a:pt x="529" y="269"/>
                                  </a:lnTo>
                                  <a:lnTo>
                                    <a:pt x="538" y="277"/>
                                  </a:lnTo>
                                  <a:lnTo>
                                    <a:pt x="544" y="287"/>
                                  </a:lnTo>
                                  <a:lnTo>
                                    <a:pt x="550" y="297"/>
                                  </a:lnTo>
                                  <a:lnTo>
                                    <a:pt x="552" y="307"/>
                                  </a:lnTo>
                                  <a:lnTo>
                                    <a:pt x="547" y="313"/>
                                  </a:lnTo>
                                  <a:lnTo>
                                    <a:pt x="541" y="314"/>
                                  </a:lnTo>
                                  <a:lnTo>
                                    <a:pt x="535" y="313"/>
                                  </a:lnTo>
                                  <a:lnTo>
                                    <a:pt x="529" y="310"/>
                                  </a:lnTo>
                                  <a:lnTo>
                                    <a:pt x="524" y="307"/>
                                  </a:lnTo>
                                  <a:lnTo>
                                    <a:pt x="518" y="304"/>
                                  </a:lnTo>
                                  <a:lnTo>
                                    <a:pt x="512" y="301"/>
                                  </a:lnTo>
                                  <a:lnTo>
                                    <a:pt x="506" y="301"/>
                                  </a:lnTo>
                                  <a:lnTo>
                                    <a:pt x="483" y="300"/>
                                  </a:lnTo>
                                  <a:lnTo>
                                    <a:pt x="462" y="301"/>
                                  </a:lnTo>
                                  <a:lnTo>
                                    <a:pt x="440" y="304"/>
                                  </a:lnTo>
                                  <a:lnTo>
                                    <a:pt x="420" y="308"/>
                                  </a:lnTo>
                                  <a:lnTo>
                                    <a:pt x="400" y="314"/>
                                  </a:lnTo>
                                  <a:lnTo>
                                    <a:pt x="380" y="321"/>
                                  </a:lnTo>
                                  <a:lnTo>
                                    <a:pt x="359" y="330"/>
                                  </a:lnTo>
                                  <a:lnTo>
                                    <a:pt x="341" y="340"/>
                                  </a:lnTo>
                                  <a:lnTo>
                                    <a:pt x="322" y="350"/>
                                  </a:lnTo>
                                  <a:lnTo>
                                    <a:pt x="303" y="361"/>
                                  </a:lnTo>
                                  <a:lnTo>
                                    <a:pt x="284" y="373"/>
                                  </a:lnTo>
                                  <a:lnTo>
                                    <a:pt x="267" y="384"/>
                                  </a:lnTo>
                                  <a:lnTo>
                                    <a:pt x="248" y="397"/>
                                  </a:lnTo>
                                  <a:lnTo>
                                    <a:pt x="231" y="410"/>
                                  </a:lnTo>
                                  <a:lnTo>
                                    <a:pt x="214" y="422"/>
                                  </a:lnTo>
                                  <a:lnTo>
                                    <a:pt x="196" y="435"/>
                                  </a:lnTo>
                                  <a:lnTo>
                                    <a:pt x="185" y="426"/>
                                  </a:lnTo>
                                  <a:lnTo>
                                    <a:pt x="185" y="412"/>
                                  </a:lnTo>
                                  <a:lnTo>
                                    <a:pt x="188" y="397"/>
                                  </a:lnTo>
                                  <a:lnTo>
                                    <a:pt x="189" y="382"/>
                                  </a:lnTo>
                                  <a:lnTo>
                                    <a:pt x="199" y="374"/>
                                  </a:lnTo>
                                  <a:lnTo>
                                    <a:pt x="208" y="366"/>
                                  </a:lnTo>
                                  <a:lnTo>
                                    <a:pt x="218" y="357"/>
                                  </a:lnTo>
                                  <a:lnTo>
                                    <a:pt x="228" y="348"/>
                                  </a:lnTo>
                                  <a:lnTo>
                                    <a:pt x="238" y="340"/>
                                  </a:lnTo>
                                  <a:lnTo>
                                    <a:pt x="247" y="330"/>
                                  </a:lnTo>
                                  <a:lnTo>
                                    <a:pt x="256" y="321"/>
                                  </a:lnTo>
                                  <a:lnTo>
                                    <a:pt x="264" y="311"/>
                                  </a:lnTo>
                                  <a:lnTo>
                                    <a:pt x="260" y="307"/>
                                  </a:lnTo>
                                  <a:lnTo>
                                    <a:pt x="232" y="307"/>
                                  </a:lnTo>
                                  <a:lnTo>
                                    <a:pt x="205" y="305"/>
                                  </a:lnTo>
                                  <a:lnTo>
                                    <a:pt x="178" y="302"/>
                                  </a:lnTo>
                                  <a:lnTo>
                                    <a:pt x="152" y="301"/>
                                  </a:lnTo>
                                  <a:lnTo>
                                    <a:pt x="124" y="300"/>
                                  </a:lnTo>
                                  <a:lnTo>
                                    <a:pt x="98" y="300"/>
                                  </a:lnTo>
                                  <a:lnTo>
                                    <a:pt x="74" y="304"/>
                                  </a:lnTo>
                                  <a:lnTo>
                                    <a:pt x="48" y="313"/>
                                  </a:lnTo>
                                  <a:lnTo>
                                    <a:pt x="41" y="314"/>
                                  </a:lnTo>
                                  <a:lnTo>
                                    <a:pt x="35" y="318"/>
                                  </a:lnTo>
                                  <a:lnTo>
                                    <a:pt x="29" y="325"/>
                                  </a:lnTo>
                                  <a:lnTo>
                                    <a:pt x="25" y="331"/>
                                  </a:lnTo>
                                  <a:lnTo>
                                    <a:pt x="21" y="337"/>
                                  </a:lnTo>
                                  <a:lnTo>
                                    <a:pt x="15" y="340"/>
                                  </a:lnTo>
                                  <a:lnTo>
                                    <a:pt x="8" y="338"/>
                                  </a:lnTo>
                                  <a:lnTo>
                                    <a:pt x="0" y="331"/>
                                  </a:lnTo>
                                  <a:lnTo>
                                    <a:pt x="11" y="313"/>
                                  </a:lnTo>
                                  <a:lnTo>
                                    <a:pt x="24" y="295"/>
                                  </a:lnTo>
                                  <a:lnTo>
                                    <a:pt x="38" y="281"/>
                                  </a:lnTo>
                                  <a:lnTo>
                                    <a:pt x="55" y="268"/>
                                  </a:lnTo>
                                  <a:lnTo>
                                    <a:pt x="74" y="259"/>
                                  </a:lnTo>
                                  <a:lnTo>
                                    <a:pt x="94" y="252"/>
                                  </a:lnTo>
                                  <a:lnTo>
                                    <a:pt x="116" y="246"/>
                                  </a:lnTo>
                                  <a:lnTo>
                                    <a:pt x="137" y="245"/>
                                  </a:lnTo>
                                  <a:lnTo>
                                    <a:pt x="159" y="236"/>
                                  </a:lnTo>
                                  <a:lnTo>
                                    <a:pt x="153" y="231"/>
                                  </a:lnTo>
                                  <a:lnTo>
                                    <a:pt x="146" y="228"/>
                                  </a:lnTo>
                                  <a:lnTo>
                                    <a:pt x="139" y="226"/>
                                  </a:lnTo>
                                  <a:lnTo>
                                    <a:pt x="130" y="223"/>
                                  </a:lnTo>
                                  <a:lnTo>
                                    <a:pt x="126" y="228"/>
                                  </a:lnTo>
                                  <a:lnTo>
                                    <a:pt x="122" y="228"/>
                                  </a:lnTo>
                                  <a:lnTo>
                                    <a:pt x="114" y="229"/>
                                  </a:lnTo>
                                  <a:lnTo>
                                    <a:pt x="109" y="229"/>
                                  </a:lnTo>
                                  <a:lnTo>
                                    <a:pt x="107" y="223"/>
                                  </a:lnTo>
                                  <a:lnTo>
                                    <a:pt x="106" y="218"/>
                                  </a:lnTo>
                                  <a:lnTo>
                                    <a:pt x="104" y="212"/>
                                  </a:lnTo>
                                  <a:lnTo>
                                    <a:pt x="109" y="207"/>
                                  </a:lnTo>
                                  <a:lnTo>
                                    <a:pt x="133" y="196"/>
                                  </a:lnTo>
                                  <a:lnTo>
                                    <a:pt x="158" y="190"/>
                                  </a:lnTo>
                                  <a:lnTo>
                                    <a:pt x="185" y="189"/>
                                  </a:lnTo>
                                  <a:lnTo>
                                    <a:pt x="211" y="190"/>
                                  </a:lnTo>
                                  <a:lnTo>
                                    <a:pt x="237" y="193"/>
                                  </a:lnTo>
                                  <a:lnTo>
                                    <a:pt x="264" y="195"/>
                                  </a:lnTo>
                                  <a:lnTo>
                                    <a:pt x="290" y="193"/>
                                  </a:lnTo>
                                  <a:lnTo>
                                    <a:pt x="316" y="186"/>
                                  </a:lnTo>
                                  <a:lnTo>
                                    <a:pt x="332" y="180"/>
                                  </a:lnTo>
                                  <a:lnTo>
                                    <a:pt x="348" y="173"/>
                                  </a:lnTo>
                                  <a:lnTo>
                                    <a:pt x="364" y="166"/>
                                  </a:lnTo>
                                  <a:lnTo>
                                    <a:pt x="380" y="157"/>
                                  </a:lnTo>
                                  <a:lnTo>
                                    <a:pt x="394" y="148"/>
                                  </a:lnTo>
                                  <a:lnTo>
                                    <a:pt x="410" y="140"/>
                                  </a:lnTo>
                                  <a:lnTo>
                                    <a:pt x="424" y="130"/>
                                  </a:lnTo>
                                  <a:lnTo>
                                    <a:pt x="439" y="120"/>
                                  </a:lnTo>
                                  <a:lnTo>
                                    <a:pt x="453" y="110"/>
                                  </a:lnTo>
                                  <a:lnTo>
                                    <a:pt x="467" y="100"/>
                                  </a:lnTo>
                                  <a:lnTo>
                                    <a:pt x="482" y="88"/>
                                  </a:lnTo>
                                  <a:lnTo>
                                    <a:pt x="495" y="77"/>
                                  </a:lnTo>
                                  <a:lnTo>
                                    <a:pt x="509" y="65"/>
                                  </a:lnTo>
                                  <a:lnTo>
                                    <a:pt x="522" y="54"/>
                                  </a:lnTo>
                                  <a:lnTo>
                                    <a:pt x="537" y="42"/>
                                  </a:lnTo>
                                  <a:lnTo>
                                    <a:pt x="550" y="31"/>
                                  </a:lnTo>
                                  <a:lnTo>
                                    <a:pt x="548" y="22"/>
                                  </a:lnTo>
                                  <a:lnTo>
                                    <a:pt x="548" y="10"/>
                                  </a:lnTo>
                                  <a:lnTo>
                                    <a:pt x="551" y="3"/>
                                  </a:lnTo>
                                  <a:lnTo>
                                    <a:pt x="561" y="0"/>
                                  </a:ln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66" name=""/>
                            <p:cNvSpPr/>
                            <p:nvPr/>
                          </p:nvSpPr>
                          <p:spPr>
                            <a:xfrm>
                              <a:off x="6502320" y="4538880"/>
                              <a:ext cx="605880" cy="6912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36" h="582">
                                  <a:moveTo>
                                    <a:pt x="536" y="39"/>
                                  </a:moveTo>
                                  <a:lnTo>
                                    <a:pt x="526" y="46"/>
                                  </a:lnTo>
                                  <a:lnTo>
                                    <a:pt x="519" y="53"/>
                                  </a:lnTo>
                                  <a:lnTo>
                                    <a:pt x="512" y="64"/>
                                  </a:lnTo>
                                  <a:lnTo>
                                    <a:pt x="506" y="74"/>
                                  </a:lnTo>
                                  <a:lnTo>
                                    <a:pt x="499" y="84"/>
                                  </a:lnTo>
                                  <a:lnTo>
                                    <a:pt x="491" y="94"/>
                                  </a:lnTo>
                                  <a:lnTo>
                                    <a:pt x="484" y="104"/>
                                  </a:lnTo>
                                  <a:lnTo>
                                    <a:pt x="476" y="112"/>
                                  </a:lnTo>
                                  <a:lnTo>
                                    <a:pt x="463" y="131"/>
                                  </a:lnTo>
                                  <a:lnTo>
                                    <a:pt x="451" y="150"/>
                                  </a:lnTo>
                                  <a:lnTo>
                                    <a:pt x="438" y="169"/>
                                  </a:lnTo>
                                  <a:lnTo>
                                    <a:pt x="427" y="187"/>
                                  </a:lnTo>
                                  <a:lnTo>
                                    <a:pt x="414" y="206"/>
                                  </a:lnTo>
                                  <a:lnTo>
                                    <a:pt x="401" y="225"/>
                                  </a:lnTo>
                                  <a:lnTo>
                                    <a:pt x="389" y="245"/>
                                  </a:lnTo>
                                  <a:lnTo>
                                    <a:pt x="376" y="264"/>
                                  </a:lnTo>
                                  <a:lnTo>
                                    <a:pt x="373" y="274"/>
                                  </a:lnTo>
                                  <a:lnTo>
                                    <a:pt x="367" y="284"/>
                                  </a:lnTo>
                                  <a:lnTo>
                                    <a:pt x="366" y="294"/>
                                  </a:lnTo>
                                  <a:lnTo>
                                    <a:pt x="375" y="302"/>
                                  </a:lnTo>
                                  <a:lnTo>
                                    <a:pt x="388" y="302"/>
                                  </a:lnTo>
                                  <a:lnTo>
                                    <a:pt x="399" y="302"/>
                                  </a:lnTo>
                                  <a:lnTo>
                                    <a:pt x="412" y="302"/>
                                  </a:lnTo>
                                  <a:lnTo>
                                    <a:pt x="424" y="304"/>
                                  </a:lnTo>
                                  <a:lnTo>
                                    <a:pt x="435" y="307"/>
                                  </a:lnTo>
                                  <a:lnTo>
                                    <a:pt x="445" y="311"/>
                                  </a:lnTo>
                                  <a:lnTo>
                                    <a:pt x="455" y="317"/>
                                  </a:lnTo>
                                  <a:lnTo>
                                    <a:pt x="464" y="324"/>
                                  </a:lnTo>
                                  <a:lnTo>
                                    <a:pt x="474" y="338"/>
                                  </a:lnTo>
                                  <a:lnTo>
                                    <a:pt x="484" y="351"/>
                                  </a:lnTo>
                                  <a:lnTo>
                                    <a:pt x="491" y="367"/>
                                  </a:lnTo>
                                  <a:lnTo>
                                    <a:pt x="494" y="384"/>
                                  </a:lnTo>
                                  <a:lnTo>
                                    <a:pt x="491" y="387"/>
                                  </a:lnTo>
                                  <a:lnTo>
                                    <a:pt x="486" y="390"/>
                                  </a:lnTo>
                                  <a:lnTo>
                                    <a:pt x="480" y="392"/>
                                  </a:lnTo>
                                  <a:lnTo>
                                    <a:pt x="476" y="389"/>
                                  </a:lnTo>
                                  <a:lnTo>
                                    <a:pt x="471" y="383"/>
                                  </a:lnTo>
                                  <a:lnTo>
                                    <a:pt x="467" y="374"/>
                                  </a:lnTo>
                                  <a:lnTo>
                                    <a:pt x="461" y="369"/>
                                  </a:lnTo>
                                  <a:lnTo>
                                    <a:pt x="453" y="366"/>
                                  </a:lnTo>
                                  <a:lnTo>
                                    <a:pt x="445" y="369"/>
                                  </a:lnTo>
                                  <a:lnTo>
                                    <a:pt x="438" y="370"/>
                                  </a:lnTo>
                                  <a:lnTo>
                                    <a:pt x="431" y="370"/>
                                  </a:lnTo>
                                  <a:lnTo>
                                    <a:pt x="424" y="371"/>
                                  </a:lnTo>
                                  <a:lnTo>
                                    <a:pt x="416" y="373"/>
                                  </a:lnTo>
                                  <a:lnTo>
                                    <a:pt x="409" y="373"/>
                                  </a:lnTo>
                                  <a:lnTo>
                                    <a:pt x="403" y="374"/>
                                  </a:lnTo>
                                  <a:lnTo>
                                    <a:pt x="398" y="377"/>
                                  </a:lnTo>
                                  <a:lnTo>
                                    <a:pt x="406" y="397"/>
                                  </a:lnTo>
                                  <a:lnTo>
                                    <a:pt x="415" y="419"/>
                                  </a:lnTo>
                                  <a:lnTo>
                                    <a:pt x="421" y="442"/>
                                  </a:lnTo>
                                  <a:lnTo>
                                    <a:pt x="427" y="465"/>
                                  </a:lnTo>
                                  <a:lnTo>
                                    <a:pt x="428" y="488"/>
                                  </a:lnTo>
                                  <a:lnTo>
                                    <a:pt x="428" y="511"/>
                                  </a:lnTo>
                                  <a:lnTo>
                                    <a:pt x="424" y="534"/>
                                  </a:lnTo>
                                  <a:lnTo>
                                    <a:pt x="416" y="557"/>
                                  </a:lnTo>
                                  <a:lnTo>
                                    <a:pt x="412" y="560"/>
                                  </a:lnTo>
                                  <a:lnTo>
                                    <a:pt x="408" y="560"/>
                                  </a:lnTo>
                                  <a:lnTo>
                                    <a:pt x="401" y="560"/>
                                  </a:lnTo>
                                  <a:lnTo>
                                    <a:pt x="395" y="560"/>
                                  </a:lnTo>
                                  <a:lnTo>
                                    <a:pt x="386" y="544"/>
                                  </a:lnTo>
                                  <a:lnTo>
                                    <a:pt x="376" y="528"/>
                                  </a:lnTo>
                                  <a:lnTo>
                                    <a:pt x="363" y="515"/>
                                  </a:lnTo>
                                  <a:lnTo>
                                    <a:pt x="352" y="502"/>
                                  </a:lnTo>
                                  <a:lnTo>
                                    <a:pt x="339" y="489"/>
                                  </a:lnTo>
                                  <a:lnTo>
                                    <a:pt x="324" y="476"/>
                                  </a:lnTo>
                                  <a:lnTo>
                                    <a:pt x="310" y="464"/>
                                  </a:lnTo>
                                  <a:lnTo>
                                    <a:pt x="297" y="451"/>
                                  </a:lnTo>
                                  <a:lnTo>
                                    <a:pt x="280" y="449"/>
                                  </a:lnTo>
                                  <a:lnTo>
                                    <a:pt x="262" y="452"/>
                                  </a:lnTo>
                                  <a:lnTo>
                                    <a:pt x="246" y="458"/>
                                  </a:lnTo>
                                  <a:lnTo>
                                    <a:pt x="231" y="464"/>
                                  </a:lnTo>
                                  <a:lnTo>
                                    <a:pt x="215" y="472"/>
                                  </a:lnTo>
                                  <a:lnTo>
                                    <a:pt x="199" y="479"/>
                                  </a:lnTo>
                                  <a:lnTo>
                                    <a:pt x="183" y="485"/>
                                  </a:lnTo>
                                  <a:lnTo>
                                    <a:pt x="167" y="489"/>
                                  </a:lnTo>
                                  <a:lnTo>
                                    <a:pt x="148" y="501"/>
                                  </a:lnTo>
                                  <a:lnTo>
                                    <a:pt x="128" y="510"/>
                                  </a:lnTo>
                                  <a:lnTo>
                                    <a:pt x="107" y="518"/>
                                  </a:lnTo>
                                  <a:lnTo>
                                    <a:pt x="85" y="527"/>
                                  </a:lnTo>
                                  <a:lnTo>
                                    <a:pt x="65" y="535"/>
                                  </a:lnTo>
                                  <a:lnTo>
                                    <a:pt x="46" y="547"/>
                                  </a:lnTo>
                                  <a:lnTo>
                                    <a:pt x="32" y="563"/>
                                  </a:lnTo>
                                  <a:lnTo>
                                    <a:pt x="19" y="582"/>
                                  </a:lnTo>
                                  <a:lnTo>
                                    <a:pt x="3" y="571"/>
                                  </a:lnTo>
                                  <a:lnTo>
                                    <a:pt x="0" y="554"/>
                                  </a:lnTo>
                                  <a:lnTo>
                                    <a:pt x="4" y="535"/>
                                  </a:lnTo>
                                  <a:lnTo>
                                    <a:pt x="6" y="518"/>
                                  </a:lnTo>
                                  <a:lnTo>
                                    <a:pt x="23" y="498"/>
                                  </a:lnTo>
                                  <a:lnTo>
                                    <a:pt x="40" y="481"/>
                                  </a:lnTo>
                                  <a:lnTo>
                                    <a:pt x="60" y="466"/>
                                  </a:lnTo>
                                  <a:lnTo>
                                    <a:pt x="81" y="452"/>
                                  </a:lnTo>
                                  <a:lnTo>
                                    <a:pt x="102" y="438"/>
                                  </a:lnTo>
                                  <a:lnTo>
                                    <a:pt x="122" y="423"/>
                                  </a:lnTo>
                                  <a:lnTo>
                                    <a:pt x="143" y="409"/>
                                  </a:lnTo>
                                  <a:lnTo>
                                    <a:pt x="163" y="392"/>
                                  </a:lnTo>
                                  <a:lnTo>
                                    <a:pt x="158" y="387"/>
                                  </a:lnTo>
                                  <a:lnTo>
                                    <a:pt x="153" y="383"/>
                                  </a:lnTo>
                                  <a:lnTo>
                                    <a:pt x="147" y="382"/>
                                  </a:lnTo>
                                  <a:lnTo>
                                    <a:pt x="141" y="382"/>
                                  </a:lnTo>
                                  <a:lnTo>
                                    <a:pt x="134" y="382"/>
                                  </a:lnTo>
                                  <a:lnTo>
                                    <a:pt x="127" y="383"/>
                                  </a:lnTo>
                                  <a:lnTo>
                                    <a:pt x="120" y="383"/>
                                  </a:lnTo>
                                  <a:lnTo>
                                    <a:pt x="112" y="384"/>
                                  </a:lnTo>
                                  <a:lnTo>
                                    <a:pt x="101" y="382"/>
                                  </a:lnTo>
                                  <a:lnTo>
                                    <a:pt x="88" y="382"/>
                                  </a:lnTo>
                                  <a:lnTo>
                                    <a:pt x="76" y="383"/>
                                  </a:lnTo>
                                  <a:lnTo>
                                    <a:pt x="63" y="384"/>
                                  </a:lnTo>
                                  <a:lnTo>
                                    <a:pt x="50" y="386"/>
                                  </a:lnTo>
                                  <a:lnTo>
                                    <a:pt x="37" y="387"/>
                                  </a:lnTo>
                                  <a:lnTo>
                                    <a:pt x="24" y="389"/>
                                  </a:lnTo>
                                  <a:lnTo>
                                    <a:pt x="11" y="389"/>
                                  </a:lnTo>
                                  <a:lnTo>
                                    <a:pt x="7" y="377"/>
                                  </a:lnTo>
                                  <a:lnTo>
                                    <a:pt x="14" y="367"/>
                                  </a:lnTo>
                                  <a:lnTo>
                                    <a:pt x="24" y="359"/>
                                  </a:lnTo>
                                  <a:lnTo>
                                    <a:pt x="30" y="347"/>
                                  </a:lnTo>
                                  <a:lnTo>
                                    <a:pt x="47" y="334"/>
                                  </a:lnTo>
                                  <a:lnTo>
                                    <a:pt x="68" y="325"/>
                                  </a:lnTo>
                                  <a:lnTo>
                                    <a:pt x="88" y="320"/>
                                  </a:lnTo>
                                  <a:lnTo>
                                    <a:pt x="111" y="317"/>
                                  </a:lnTo>
                                  <a:lnTo>
                                    <a:pt x="134" y="314"/>
                                  </a:lnTo>
                                  <a:lnTo>
                                    <a:pt x="156" y="311"/>
                                  </a:lnTo>
                                  <a:lnTo>
                                    <a:pt x="179" y="307"/>
                                  </a:lnTo>
                                  <a:lnTo>
                                    <a:pt x="199" y="300"/>
                                  </a:lnTo>
                                  <a:lnTo>
                                    <a:pt x="209" y="298"/>
                                  </a:lnTo>
                                  <a:lnTo>
                                    <a:pt x="218" y="295"/>
                                  </a:lnTo>
                                  <a:lnTo>
                                    <a:pt x="226" y="292"/>
                                  </a:lnTo>
                                  <a:lnTo>
                                    <a:pt x="235" y="288"/>
                                  </a:lnTo>
                                  <a:lnTo>
                                    <a:pt x="244" y="284"/>
                                  </a:lnTo>
                                  <a:lnTo>
                                    <a:pt x="252" y="279"/>
                                  </a:lnTo>
                                  <a:lnTo>
                                    <a:pt x="261" y="274"/>
                                  </a:lnTo>
                                  <a:lnTo>
                                    <a:pt x="269" y="269"/>
                                  </a:lnTo>
                                  <a:lnTo>
                                    <a:pt x="284" y="253"/>
                                  </a:lnTo>
                                  <a:lnTo>
                                    <a:pt x="297" y="236"/>
                                  </a:lnTo>
                                  <a:lnTo>
                                    <a:pt x="311" y="219"/>
                                  </a:lnTo>
                                  <a:lnTo>
                                    <a:pt x="326" y="200"/>
                                  </a:lnTo>
                                  <a:lnTo>
                                    <a:pt x="340" y="182"/>
                                  </a:lnTo>
                                  <a:lnTo>
                                    <a:pt x="353" y="163"/>
                                  </a:lnTo>
                                  <a:lnTo>
                                    <a:pt x="365" y="144"/>
                                  </a:lnTo>
                                  <a:lnTo>
                                    <a:pt x="375" y="124"/>
                                  </a:lnTo>
                                  <a:lnTo>
                                    <a:pt x="382" y="117"/>
                                  </a:lnTo>
                                  <a:lnTo>
                                    <a:pt x="388" y="108"/>
                                  </a:lnTo>
                                  <a:lnTo>
                                    <a:pt x="392" y="100"/>
                                  </a:lnTo>
                                  <a:lnTo>
                                    <a:pt x="396" y="91"/>
                                  </a:lnTo>
                                  <a:lnTo>
                                    <a:pt x="401" y="82"/>
                                  </a:lnTo>
                                  <a:lnTo>
                                    <a:pt x="405" y="74"/>
                                  </a:lnTo>
                                  <a:lnTo>
                                    <a:pt x="411" y="65"/>
                                  </a:lnTo>
                                  <a:lnTo>
                                    <a:pt x="419" y="58"/>
                                  </a:lnTo>
                                  <a:lnTo>
                                    <a:pt x="419" y="52"/>
                                  </a:lnTo>
                                  <a:lnTo>
                                    <a:pt x="424" y="48"/>
                                  </a:lnTo>
                                  <a:lnTo>
                                    <a:pt x="428" y="45"/>
                                  </a:lnTo>
                                  <a:lnTo>
                                    <a:pt x="434" y="42"/>
                                  </a:lnTo>
                                  <a:lnTo>
                                    <a:pt x="437" y="42"/>
                                  </a:lnTo>
                                  <a:lnTo>
                                    <a:pt x="440" y="41"/>
                                  </a:lnTo>
                                  <a:lnTo>
                                    <a:pt x="442" y="39"/>
                                  </a:lnTo>
                                  <a:lnTo>
                                    <a:pt x="445" y="36"/>
                                  </a:lnTo>
                                  <a:lnTo>
                                    <a:pt x="445" y="30"/>
                                  </a:lnTo>
                                  <a:lnTo>
                                    <a:pt x="444" y="25"/>
                                  </a:lnTo>
                                  <a:lnTo>
                                    <a:pt x="444" y="20"/>
                                  </a:lnTo>
                                  <a:lnTo>
                                    <a:pt x="450" y="16"/>
                                  </a:lnTo>
                                  <a:lnTo>
                                    <a:pt x="457" y="18"/>
                                  </a:lnTo>
                                  <a:lnTo>
                                    <a:pt x="458" y="22"/>
                                  </a:lnTo>
                                  <a:lnTo>
                                    <a:pt x="460" y="28"/>
                                  </a:lnTo>
                                  <a:lnTo>
                                    <a:pt x="464" y="30"/>
                                  </a:lnTo>
                                  <a:lnTo>
                                    <a:pt x="468" y="35"/>
                                  </a:lnTo>
                                  <a:lnTo>
                                    <a:pt x="470" y="41"/>
                                  </a:lnTo>
                                  <a:lnTo>
                                    <a:pt x="471" y="45"/>
                                  </a:lnTo>
                                  <a:lnTo>
                                    <a:pt x="477" y="46"/>
                                  </a:lnTo>
                                  <a:lnTo>
                                    <a:pt x="477" y="41"/>
                                  </a:lnTo>
                                  <a:lnTo>
                                    <a:pt x="480" y="32"/>
                                  </a:lnTo>
                                  <a:lnTo>
                                    <a:pt x="481" y="25"/>
                                  </a:lnTo>
                                  <a:lnTo>
                                    <a:pt x="486" y="18"/>
                                  </a:lnTo>
                                  <a:lnTo>
                                    <a:pt x="493" y="19"/>
                                  </a:lnTo>
                                  <a:lnTo>
                                    <a:pt x="494" y="25"/>
                                  </a:lnTo>
                                  <a:lnTo>
                                    <a:pt x="494" y="32"/>
                                  </a:lnTo>
                                  <a:lnTo>
                                    <a:pt x="499" y="39"/>
                                  </a:lnTo>
                                  <a:lnTo>
                                    <a:pt x="509" y="32"/>
                                  </a:lnTo>
                                  <a:lnTo>
                                    <a:pt x="514" y="22"/>
                                  </a:lnTo>
                                  <a:lnTo>
                                    <a:pt x="516" y="10"/>
                                  </a:lnTo>
                                  <a:lnTo>
                                    <a:pt x="516" y="0"/>
                                  </a:lnTo>
                                  <a:lnTo>
                                    <a:pt x="527" y="5"/>
                                  </a:lnTo>
                                  <a:lnTo>
                                    <a:pt x="530" y="15"/>
                                  </a:lnTo>
                                  <a:lnTo>
                                    <a:pt x="530" y="28"/>
                                  </a:lnTo>
                                  <a:lnTo>
                                    <a:pt x="536" y="39"/>
                                  </a:ln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67" name=""/>
                            <p:cNvSpPr/>
                            <p:nvPr/>
                          </p:nvSpPr>
                          <p:spPr>
                            <a:xfrm>
                              <a:off x="6089760" y="3159360"/>
                              <a:ext cx="203400" cy="3751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80" h="316">
                                  <a:moveTo>
                                    <a:pt x="23" y="128"/>
                                  </a:moveTo>
                                  <a:cubicBezTo>
                                    <a:pt x="37" y="114"/>
                                    <a:pt x="55" y="106"/>
                                    <a:pt x="68" y="91"/>
                                  </a:cubicBezTo>
                                  <a:cubicBezTo>
                                    <a:pt x="131" y="19"/>
                                    <a:pt x="69" y="66"/>
                                    <a:pt x="120" y="31"/>
                                  </a:cubicBezTo>
                                  <a:cubicBezTo>
                                    <a:pt x="123" y="23"/>
                                    <a:pt x="125" y="0"/>
                                    <a:pt x="128" y="8"/>
                                  </a:cubicBezTo>
                                  <a:cubicBezTo>
                                    <a:pt x="136" y="27"/>
                                    <a:pt x="131" y="48"/>
                                    <a:pt x="135" y="68"/>
                                  </a:cubicBezTo>
                                  <a:cubicBezTo>
                                    <a:pt x="143" y="106"/>
                                    <a:pt x="159" y="148"/>
                                    <a:pt x="180" y="181"/>
                                  </a:cubicBezTo>
                                  <a:cubicBezTo>
                                    <a:pt x="173" y="186"/>
                                    <a:pt x="164" y="190"/>
                                    <a:pt x="158" y="196"/>
                                  </a:cubicBezTo>
                                  <a:cubicBezTo>
                                    <a:pt x="152" y="202"/>
                                    <a:pt x="150" y="213"/>
                                    <a:pt x="143" y="218"/>
                                  </a:cubicBezTo>
                                  <a:cubicBezTo>
                                    <a:pt x="130" y="228"/>
                                    <a:pt x="112" y="232"/>
                                    <a:pt x="98" y="241"/>
                                  </a:cubicBezTo>
                                  <a:cubicBezTo>
                                    <a:pt x="77" y="298"/>
                                    <a:pt x="108" y="228"/>
                                    <a:pt x="68" y="278"/>
                                  </a:cubicBezTo>
                                  <a:cubicBezTo>
                                    <a:pt x="63" y="284"/>
                                    <a:pt x="67" y="296"/>
                                    <a:pt x="60" y="301"/>
                                  </a:cubicBezTo>
                                  <a:cubicBezTo>
                                    <a:pt x="47" y="310"/>
                                    <a:pt x="15" y="316"/>
                                    <a:pt x="15" y="316"/>
                                  </a:cubicBezTo>
                                  <a:cubicBezTo>
                                    <a:pt x="10" y="301"/>
                                    <a:pt x="0" y="287"/>
                                    <a:pt x="0" y="271"/>
                                  </a:cubicBezTo>
                                  <a:cubicBezTo>
                                    <a:pt x="0" y="240"/>
                                    <a:pt x="21" y="202"/>
                                    <a:pt x="30" y="173"/>
                                  </a:cubicBezTo>
                                  <a:cubicBezTo>
                                    <a:pt x="22" y="138"/>
                                    <a:pt x="23" y="153"/>
                                    <a:pt x="23" y="128"/>
                                  </a:cubicBezTo>
                                  <a:close/>
                                </a:path>
                              </a:pathLst>
                            </a:custGeom>
                            <a:noFill/>
                            <a:ln w="93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1168" name=""/>
                            <p:cNvGrpSpPr/>
                            <p:nvPr/>
                          </p:nvGrpSpPr>
                          <p:grpSpPr>
                            <a:xfrm>
                              <a:off x="6548400" y="3375360"/>
                              <a:ext cx="1131120" cy="865440"/>
                              <a:chOff x="6548400" y="3375360"/>
                              <a:chExt cx="1131120" cy="865440"/>
                            </a:xfrm>
                          </p:grpSpPr>
                          <p:sp>
                            <p:nvSpPr>
                              <p:cNvPr id="1169" name=""/>
                              <p:cNvSpPr/>
                              <p:nvPr/>
                            </p:nvSpPr>
                            <p:spPr>
                              <a:xfrm rot="20679600">
                                <a:off x="6669000" y="3585600"/>
                                <a:ext cx="763920" cy="502200"/>
                              </a:xfrm>
                              <a:prstGeom prst="lightningBolt">
                                <a:avLst/>
                              </a:prstGeom>
                              <a:noFill/>
                              <a:ln w="936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170" name=""/>
                              <p:cNvSpPr/>
                              <p:nvPr/>
                            </p:nvSpPr>
                            <p:spPr>
                              <a:xfrm rot="20532600">
                                <a:off x="6856920" y="3479760"/>
                                <a:ext cx="763920" cy="502200"/>
                              </a:xfrm>
                              <a:prstGeom prst="lightningBol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171" name=""/>
                              <p:cNvSpPr/>
                              <p:nvPr/>
                            </p:nvSpPr>
                            <p:spPr>
                              <a:xfrm rot="20691600">
                                <a:off x="6600600" y="3646800"/>
                                <a:ext cx="763920" cy="502560"/>
                              </a:xfrm>
                              <a:prstGeom prst="lightningBol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grpSp>
                      <p:nvGrpSpPr>
                        <p:cNvPr id="1172" name=""/>
                        <p:cNvGrpSpPr/>
                        <p:nvPr/>
                      </p:nvGrpSpPr>
                      <p:grpSpPr>
                        <a:xfrm>
                          <a:off x="6077520" y="2900520"/>
                          <a:ext cx="1583640" cy="1081800"/>
                          <a:chOff x="6077520" y="2900520"/>
                          <a:chExt cx="1583640" cy="1081800"/>
                        </a:xfrm>
                      </p:grpSpPr>
                      <p:sp>
                        <p:nvSpPr>
                          <p:cNvPr id="1173" name=""/>
                          <p:cNvSpPr/>
                          <p:nvPr/>
                        </p:nvSpPr>
                        <p:spPr>
                          <a:xfrm>
                            <a:off x="6479640" y="2900520"/>
                            <a:ext cx="76680" cy="615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8" h="52">
                                <a:moveTo>
                                  <a:pt x="68" y="3"/>
                                </a:moveTo>
                                <a:lnTo>
                                  <a:pt x="62" y="12"/>
                                </a:lnTo>
                                <a:lnTo>
                                  <a:pt x="53" y="19"/>
                                </a:lnTo>
                                <a:lnTo>
                                  <a:pt x="45" y="25"/>
                                </a:lnTo>
                                <a:lnTo>
                                  <a:pt x="36" y="29"/>
                                </a:lnTo>
                                <a:lnTo>
                                  <a:pt x="26" y="35"/>
                                </a:lnTo>
                                <a:lnTo>
                                  <a:pt x="16" y="39"/>
                                </a:lnTo>
                                <a:lnTo>
                                  <a:pt x="7" y="45"/>
                                </a:lnTo>
                                <a:lnTo>
                                  <a:pt x="0" y="52"/>
                                </a:lnTo>
                                <a:lnTo>
                                  <a:pt x="0" y="42"/>
                                </a:lnTo>
                                <a:lnTo>
                                  <a:pt x="6" y="35"/>
                                </a:lnTo>
                                <a:lnTo>
                                  <a:pt x="14" y="29"/>
                                </a:lnTo>
                                <a:lnTo>
                                  <a:pt x="23" y="23"/>
                                </a:lnTo>
                                <a:lnTo>
                                  <a:pt x="29" y="20"/>
                                </a:lnTo>
                                <a:lnTo>
                                  <a:pt x="35" y="16"/>
                                </a:lnTo>
                                <a:lnTo>
                                  <a:pt x="39" y="10"/>
                                </a:lnTo>
                                <a:lnTo>
                                  <a:pt x="45" y="6"/>
                                </a:lnTo>
                                <a:lnTo>
                                  <a:pt x="49" y="2"/>
                                </a:lnTo>
                                <a:lnTo>
                                  <a:pt x="55" y="0"/>
                                </a:lnTo>
                                <a:lnTo>
                                  <a:pt x="61" y="0"/>
                                </a:lnTo>
                                <a:lnTo>
                                  <a:pt x="68" y="3"/>
                                </a:lnTo>
                                <a:close/>
                              </a:path>
                            </a:pathLst>
                          </a:cu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4760" bIns="147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74" name=""/>
                          <p:cNvSpPr/>
                          <p:nvPr/>
                        </p:nvSpPr>
                        <p:spPr>
                          <a:xfrm>
                            <a:off x="6154200" y="2977560"/>
                            <a:ext cx="19080" cy="295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7" h="25">
                                <a:moveTo>
                                  <a:pt x="17" y="23"/>
                                </a:moveTo>
                                <a:lnTo>
                                  <a:pt x="16" y="25"/>
                                </a:lnTo>
                                <a:lnTo>
                                  <a:pt x="13" y="25"/>
                                </a:lnTo>
                                <a:lnTo>
                                  <a:pt x="11" y="25"/>
                                </a:lnTo>
                                <a:lnTo>
                                  <a:pt x="8" y="25"/>
                                </a:lnTo>
                                <a:lnTo>
                                  <a:pt x="5" y="19"/>
                                </a:lnTo>
                                <a:lnTo>
                                  <a:pt x="3" y="14"/>
                                </a:lnTo>
                                <a:lnTo>
                                  <a:pt x="0" y="9"/>
                                </a:lnTo>
                                <a:lnTo>
                                  <a:pt x="1" y="1"/>
                                </a:lnTo>
                                <a:lnTo>
                                  <a:pt x="8" y="0"/>
                                </a:lnTo>
                                <a:lnTo>
                                  <a:pt x="14" y="6"/>
                                </a:lnTo>
                                <a:lnTo>
                                  <a:pt x="16" y="14"/>
                                </a:lnTo>
                                <a:lnTo>
                                  <a:pt x="17" y="23"/>
                                </a:lnTo>
                                <a:close/>
                              </a:path>
                            </a:pathLst>
                          </a:cu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7280" bIns="-172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75" name=""/>
                          <p:cNvSpPr/>
                          <p:nvPr/>
                        </p:nvSpPr>
                        <p:spPr>
                          <a:xfrm>
                            <a:off x="6697800" y="3004920"/>
                            <a:ext cx="45360" cy="190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0" h="16">
                                <a:moveTo>
                                  <a:pt x="40" y="0"/>
                                </a:moveTo>
                                <a:lnTo>
                                  <a:pt x="36" y="10"/>
                                </a:lnTo>
                                <a:lnTo>
                                  <a:pt x="25" y="12"/>
                                </a:lnTo>
                                <a:lnTo>
                                  <a:pt x="13" y="12"/>
                                </a:lnTo>
                                <a:lnTo>
                                  <a:pt x="3" y="16"/>
                                </a:lnTo>
                                <a:lnTo>
                                  <a:pt x="2" y="14"/>
                                </a:lnTo>
                                <a:lnTo>
                                  <a:pt x="0" y="13"/>
                                </a:lnTo>
                                <a:lnTo>
                                  <a:pt x="0" y="10"/>
                                </a:lnTo>
                                <a:lnTo>
                                  <a:pt x="0" y="9"/>
                                </a:lnTo>
                                <a:lnTo>
                                  <a:pt x="9" y="3"/>
                                </a:lnTo>
                                <a:lnTo>
                                  <a:pt x="19" y="0"/>
                                </a:lnTo>
                                <a:lnTo>
                                  <a:pt x="30" y="0"/>
                                </a:lnTo>
                                <a:lnTo>
                                  <a:pt x="40" y="0"/>
                                </a:lnTo>
                                <a:close/>
                              </a:path>
                            </a:pathLst>
                          </a:cu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7720" bIns="-27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76" name=""/>
                          <p:cNvSpPr/>
                          <p:nvPr/>
                        </p:nvSpPr>
                        <p:spPr>
                          <a:xfrm>
                            <a:off x="6077520" y="3098520"/>
                            <a:ext cx="298080" cy="5475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64" h="461">
                                <a:moveTo>
                                  <a:pt x="176" y="38"/>
                                </a:moveTo>
                                <a:lnTo>
                                  <a:pt x="166" y="79"/>
                                </a:lnTo>
                                <a:lnTo>
                                  <a:pt x="163" y="121"/>
                                </a:lnTo>
                                <a:lnTo>
                                  <a:pt x="170" y="163"/>
                                </a:lnTo>
                                <a:lnTo>
                                  <a:pt x="189" y="200"/>
                                </a:lnTo>
                                <a:lnTo>
                                  <a:pt x="192" y="205"/>
                                </a:lnTo>
                                <a:lnTo>
                                  <a:pt x="195" y="210"/>
                                </a:lnTo>
                                <a:lnTo>
                                  <a:pt x="196" y="216"/>
                                </a:lnTo>
                                <a:lnTo>
                                  <a:pt x="193" y="222"/>
                                </a:lnTo>
                                <a:lnTo>
                                  <a:pt x="186" y="226"/>
                                </a:lnTo>
                                <a:lnTo>
                                  <a:pt x="180" y="232"/>
                                </a:lnTo>
                                <a:lnTo>
                                  <a:pt x="174" y="236"/>
                                </a:lnTo>
                                <a:lnTo>
                                  <a:pt x="166" y="235"/>
                                </a:lnTo>
                                <a:lnTo>
                                  <a:pt x="164" y="226"/>
                                </a:lnTo>
                                <a:lnTo>
                                  <a:pt x="170" y="219"/>
                                </a:lnTo>
                                <a:lnTo>
                                  <a:pt x="173" y="212"/>
                                </a:lnTo>
                                <a:lnTo>
                                  <a:pt x="167" y="205"/>
                                </a:lnTo>
                                <a:lnTo>
                                  <a:pt x="156" y="216"/>
                                </a:lnTo>
                                <a:lnTo>
                                  <a:pt x="144" y="228"/>
                                </a:lnTo>
                                <a:lnTo>
                                  <a:pt x="134" y="239"/>
                                </a:lnTo>
                                <a:lnTo>
                                  <a:pt x="128" y="255"/>
                                </a:lnTo>
                                <a:lnTo>
                                  <a:pt x="125" y="256"/>
                                </a:lnTo>
                                <a:lnTo>
                                  <a:pt x="122" y="259"/>
                                </a:lnTo>
                                <a:lnTo>
                                  <a:pt x="121" y="261"/>
                                </a:lnTo>
                                <a:lnTo>
                                  <a:pt x="117" y="261"/>
                                </a:lnTo>
                                <a:lnTo>
                                  <a:pt x="121" y="241"/>
                                </a:lnTo>
                                <a:lnTo>
                                  <a:pt x="130" y="222"/>
                                </a:lnTo>
                                <a:lnTo>
                                  <a:pt x="140" y="203"/>
                                </a:lnTo>
                                <a:lnTo>
                                  <a:pt x="148" y="184"/>
                                </a:lnTo>
                                <a:lnTo>
                                  <a:pt x="153" y="180"/>
                                </a:lnTo>
                                <a:lnTo>
                                  <a:pt x="156" y="176"/>
                                </a:lnTo>
                                <a:lnTo>
                                  <a:pt x="156" y="170"/>
                                </a:lnTo>
                                <a:lnTo>
                                  <a:pt x="156" y="164"/>
                                </a:lnTo>
                                <a:lnTo>
                                  <a:pt x="153" y="160"/>
                                </a:lnTo>
                                <a:lnTo>
                                  <a:pt x="150" y="160"/>
                                </a:lnTo>
                                <a:lnTo>
                                  <a:pt x="146" y="163"/>
                                </a:lnTo>
                                <a:lnTo>
                                  <a:pt x="141" y="164"/>
                                </a:lnTo>
                                <a:lnTo>
                                  <a:pt x="133" y="176"/>
                                </a:lnTo>
                                <a:lnTo>
                                  <a:pt x="125" y="186"/>
                                </a:lnTo>
                                <a:lnTo>
                                  <a:pt x="118" y="197"/>
                                </a:lnTo>
                                <a:lnTo>
                                  <a:pt x="111" y="209"/>
                                </a:lnTo>
                                <a:lnTo>
                                  <a:pt x="104" y="220"/>
                                </a:lnTo>
                                <a:lnTo>
                                  <a:pt x="98" y="232"/>
                                </a:lnTo>
                                <a:lnTo>
                                  <a:pt x="91" y="243"/>
                                </a:lnTo>
                                <a:lnTo>
                                  <a:pt x="85" y="255"/>
                                </a:lnTo>
                                <a:lnTo>
                                  <a:pt x="78" y="245"/>
                                </a:lnTo>
                                <a:lnTo>
                                  <a:pt x="86" y="229"/>
                                </a:lnTo>
                                <a:lnTo>
                                  <a:pt x="94" y="212"/>
                                </a:lnTo>
                                <a:lnTo>
                                  <a:pt x="101" y="196"/>
                                </a:lnTo>
                                <a:lnTo>
                                  <a:pt x="108" y="179"/>
                                </a:lnTo>
                                <a:lnTo>
                                  <a:pt x="115" y="161"/>
                                </a:lnTo>
                                <a:lnTo>
                                  <a:pt x="124" y="146"/>
                                </a:lnTo>
                                <a:lnTo>
                                  <a:pt x="134" y="130"/>
                                </a:lnTo>
                                <a:lnTo>
                                  <a:pt x="147" y="115"/>
                                </a:lnTo>
                                <a:lnTo>
                                  <a:pt x="147" y="112"/>
                                </a:lnTo>
                                <a:lnTo>
                                  <a:pt x="147" y="108"/>
                                </a:lnTo>
                                <a:lnTo>
                                  <a:pt x="146" y="105"/>
                                </a:lnTo>
                                <a:lnTo>
                                  <a:pt x="144" y="102"/>
                                </a:lnTo>
                                <a:lnTo>
                                  <a:pt x="125" y="124"/>
                                </a:lnTo>
                                <a:lnTo>
                                  <a:pt x="108" y="147"/>
                                </a:lnTo>
                                <a:lnTo>
                                  <a:pt x="92" y="170"/>
                                </a:lnTo>
                                <a:lnTo>
                                  <a:pt x="78" y="196"/>
                                </a:lnTo>
                                <a:lnTo>
                                  <a:pt x="66" y="222"/>
                                </a:lnTo>
                                <a:lnTo>
                                  <a:pt x="55" y="248"/>
                                </a:lnTo>
                                <a:lnTo>
                                  <a:pt x="46" y="275"/>
                                </a:lnTo>
                                <a:lnTo>
                                  <a:pt x="40" y="304"/>
                                </a:lnTo>
                                <a:lnTo>
                                  <a:pt x="39" y="324"/>
                                </a:lnTo>
                                <a:lnTo>
                                  <a:pt x="39" y="346"/>
                                </a:lnTo>
                                <a:lnTo>
                                  <a:pt x="42" y="366"/>
                                </a:lnTo>
                                <a:lnTo>
                                  <a:pt x="49" y="383"/>
                                </a:lnTo>
                                <a:lnTo>
                                  <a:pt x="68" y="357"/>
                                </a:lnTo>
                                <a:lnTo>
                                  <a:pt x="89" y="331"/>
                                </a:lnTo>
                                <a:lnTo>
                                  <a:pt x="114" y="307"/>
                                </a:lnTo>
                                <a:lnTo>
                                  <a:pt x="138" y="282"/>
                                </a:lnTo>
                                <a:lnTo>
                                  <a:pt x="166" y="262"/>
                                </a:lnTo>
                                <a:lnTo>
                                  <a:pt x="195" y="246"/>
                                </a:lnTo>
                                <a:lnTo>
                                  <a:pt x="226" y="233"/>
                                </a:lnTo>
                                <a:lnTo>
                                  <a:pt x="259" y="226"/>
                                </a:lnTo>
                                <a:lnTo>
                                  <a:pt x="262" y="229"/>
                                </a:lnTo>
                                <a:lnTo>
                                  <a:pt x="264" y="232"/>
                                </a:lnTo>
                                <a:lnTo>
                                  <a:pt x="264" y="236"/>
                                </a:lnTo>
                                <a:lnTo>
                                  <a:pt x="261" y="239"/>
                                </a:lnTo>
                                <a:lnTo>
                                  <a:pt x="184" y="292"/>
                                </a:lnTo>
                                <a:lnTo>
                                  <a:pt x="173" y="308"/>
                                </a:lnTo>
                                <a:lnTo>
                                  <a:pt x="161" y="325"/>
                                </a:lnTo>
                                <a:lnTo>
                                  <a:pt x="150" y="341"/>
                                </a:lnTo>
                                <a:lnTo>
                                  <a:pt x="140" y="358"/>
                                </a:lnTo>
                                <a:lnTo>
                                  <a:pt x="131" y="376"/>
                                </a:lnTo>
                                <a:lnTo>
                                  <a:pt x="122" y="393"/>
                                </a:lnTo>
                                <a:lnTo>
                                  <a:pt x="114" y="412"/>
                                </a:lnTo>
                                <a:lnTo>
                                  <a:pt x="107" y="430"/>
                                </a:lnTo>
                                <a:lnTo>
                                  <a:pt x="111" y="435"/>
                                </a:lnTo>
                                <a:lnTo>
                                  <a:pt x="127" y="420"/>
                                </a:lnTo>
                                <a:lnTo>
                                  <a:pt x="141" y="403"/>
                                </a:lnTo>
                                <a:lnTo>
                                  <a:pt x="154" y="386"/>
                                </a:lnTo>
                                <a:lnTo>
                                  <a:pt x="169" y="369"/>
                                </a:lnTo>
                                <a:lnTo>
                                  <a:pt x="184" y="353"/>
                                </a:lnTo>
                                <a:lnTo>
                                  <a:pt x="200" y="340"/>
                                </a:lnTo>
                                <a:lnTo>
                                  <a:pt x="219" y="331"/>
                                </a:lnTo>
                                <a:lnTo>
                                  <a:pt x="241" y="327"/>
                                </a:lnTo>
                                <a:lnTo>
                                  <a:pt x="246" y="334"/>
                                </a:lnTo>
                                <a:lnTo>
                                  <a:pt x="236" y="341"/>
                                </a:lnTo>
                                <a:lnTo>
                                  <a:pt x="222" y="346"/>
                                </a:lnTo>
                                <a:lnTo>
                                  <a:pt x="210" y="351"/>
                                </a:lnTo>
                                <a:lnTo>
                                  <a:pt x="206" y="364"/>
                                </a:lnTo>
                                <a:lnTo>
                                  <a:pt x="199" y="369"/>
                                </a:lnTo>
                                <a:lnTo>
                                  <a:pt x="192" y="371"/>
                                </a:lnTo>
                                <a:lnTo>
                                  <a:pt x="184" y="376"/>
                                </a:lnTo>
                                <a:lnTo>
                                  <a:pt x="179" y="383"/>
                                </a:lnTo>
                                <a:lnTo>
                                  <a:pt x="184" y="390"/>
                                </a:lnTo>
                                <a:lnTo>
                                  <a:pt x="187" y="397"/>
                                </a:lnTo>
                                <a:lnTo>
                                  <a:pt x="186" y="403"/>
                                </a:lnTo>
                                <a:lnTo>
                                  <a:pt x="177" y="409"/>
                                </a:lnTo>
                                <a:lnTo>
                                  <a:pt x="170" y="409"/>
                                </a:lnTo>
                                <a:lnTo>
                                  <a:pt x="164" y="409"/>
                                </a:lnTo>
                                <a:lnTo>
                                  <a:pt x="159" y="410"/>
                                </a:lnTo>
                                <a:lnTo>
                                  <a:pt x="154" y="415"/>
                                </a:lnTo>
                                <a:lnTo>
                                  <a:pt x="154" y="420"/>
                                </a:lnTo>
                                <a:lnTo>
                                  <a:pt x="161" y="420"/>
                                </a:lnTo>
                                <a:lnTo>
                                  <a:pt x="171" y="417"/>
                                </a:lnTo>
                                <a:lnTo>
                                  <a:pt x="180" y="416"/>
                                </a:lnTo>
                                <a:lnTo>
                                  <a:pt x="189" y="416"/>
                                </a:lnTo>
                                <a:lnTo>
                                  <a:pt x="190" y="423"/>
                                </a:lnTo>
                                <a:lnTo>
                                  <a:pt x="184" y="429"/>
                                </a:lnTo>
                                <a:lnTo>
                                  <a:pt x="176" y="432"/>
                                </a:lnTo>
                                <a:lnTo>
                                  <a:pt x="167" y="433"/>
                                </a:lnTo>
                                <a:lnTo>
                                  <a:pt x="161" y="433"/>
                                </a:lnTo>
                                <a:lnTo>
                                  <a:pt x="157" y="430"/>
                                </a:lnTo>
                                <a:lnTo>
                                  <a:pt x="154" y="428"/>
                                </a:lnTo>
                                <a:lnTo>
                                  <a:pt x="151" y="423"/>
                                </a:lnTo>
                                <a:lnTo>
                                  <a:pt x="147" y="430"/>
                                </a:lnTo>
                                <a:lnTo>
                                  <a:pt x="140" y="436"/>
                                </a:lnTo>
                                <a:lnTo>
                                  <a:pt x="134" y="443"/>
                                </a:lnTo>
                                <a:lnTo>
                                  <a:pt x="133" y="451"/>
                                </a:lnTo>
                                <a:lnTo>
                                  <a:pt x="124" y="452"/>
                                </a:lnTo>
                                <a:lnTo>
                                  <a:pt x="117" y="456"/>
                                </a:lnTo>
                                <a:lnTo>
                                  <a:pt x="108" y="459"/>
                                </a:lnTo>
                                <a:lnTo>
                                  <a:pt x="99" y="461"/>
                                </a:lnTo>
                                <a:lnTo>
                                  <a:pt x="97" y="458"/>
                                </a:lnTo>
                                <a:lnTo>
                                  <a:pt x="97" y="453"/>
                                </a:lnTo>
                                <a:lnTo>
                                  <a:pt x="95" y="449"/>
                                </a:lnTo>
                                <a:lnTo>
                                  <a:pt x="97" y="446"/>
                                </a:lnTo>
                                <a:lnTo>
                                  <a:pt x="89" y="436"/>
                                </a:lnTo>
                                <a:lnTo>
                                  <a:pt x="84" y="423"/>
                                </a:lnTo>
                                <a:lnTo>
                                  <a:pt x="78" y="412"/>
                                </a:lnTo>
                                <a:lnTo>
                                  <a:pt x="71" y="399"/>
                                </a:lnTo>
                                <a:lnTo>
                                  <a:pt x="62" y="403"/>
                                </a:lnTo>
                                <a:lnTo>
                                  <a:pt x="56" y="412"/>
                                </a:lnTo>
                                <a:lnTo>
                                  <a:pt x="49" y="419"/>
                                </a:lnTo>
                                <a:lnTo>
                                  <a:pt x="37" y="416"/>
                                </a:lnTo>
                                <a:lnTo>
                                  <a:pt x="22" y="374"/>
                                </a:lnTo>
                                <a:lnTo>
                                  <a:pt x="13" y="331"/>
                                </a:lnTo>
                                <a:lnTo>
                                  <a:pt x="10" y="285"/>
                                </a:lnTo>
                                <a:lnTo>
                                  <a:pt x="17" y="238"/>
                                </a:lnTo>
                                <a:lnTo>
                                  <a:pt x="26" y="202"/>
                                </a:lnTo>
                                <a:lnTo>
                                  <a:pt x="20" y="169"/>
                                </a:lnTo>
                                <a:lnTo>
                                  <a:pt x="9" y="135"/>
                                </a:lnTo>
                                <a:lnTo>
                                  <a:pt x="0" y="102"/>
                                </a:lnTo>
                                <a:lnTo>
                                  <a:pt x="4" y="95"/>
                                </a:lnTo>
                                <a:lnTo>
                                  <a:pt x="3" y="85"/>
                                </a:lnTo>
                                <a:lnTo>
                                  <a:pt x="4" y="78"/>
                                </a:lnTo>
                                <a:lnTo>
                                  <a:pt x="14" y="78"/>
                                </a:lnTo>
                                <a:lnTo>
                                  <a:pt x="23" y="81"/>
                                </a:lnTo>
                                <a:lnTo>
                                  <a:pt x="29" y="87"/>
                                </a:lnTo>
                                <a:lnTo>
                                  <a:pt x="35" y="91"/>
                                </a:lnTo>
                                <a:lnTo>
                                  <a:pt x="43" y="92"/>
                                </a:lnTo>
                                <a:lnTo>
                                  <a:pt x="50" y="91"/>
                                </a:lnTo>
                                <a:lnTo>
                                  <a:pt x="56" y="88"/>
                                </a:lnTo>
                                <a:lnTo>
                                  <a:pt x="61" y="84"/>
                                </a:lnTo>
                                <a:lnTo>
                                  <a:pt x="62" y="78"/>
                                </a:lnTo>
                                <a:lnTo>
                                  <a:pt x="102" y="81"/>
                                </a:lnTo>
                                <a:lnTo>
                                  <a:pt x="102" y="92"/>
                                </a:lnTo>
                                <a:lnTo>
                                  <a:pt x="91" y="92"/>
                                </a:lnTo>
                                <a:lnTo>
                                  <a:pt x="82" y="91"/>
                                </a:lnTo>
                                <a:lnTo>
                                  <a:pt x="72" y="94"/>
                                </a:lnTo>
                                <a:lnTo>
                                  <a:pt x="65" y="100"/>
                                </a:lnTo>
                                <a:lnTo>
                                  <a:pt x="59" y="105"/>
                                </a:lnTo>
                                <a:lnTo>
                                  <a:pt x="50" y="107"/>
                                </a:lnTo>
                                <a:lnTo>
                                  <a:pt x="42" y="105"/>
                                </a:lnTo>
                                <a:lnTo>
                                  <a:pt x="33" y="104"/>
                                </a:lnTo>
                                <a:lnTo>
                                  <a:pt x="26" y="104"/>
                                </a:lnTo>
                                <a:lnTo>
                                  <a:pt x="22" y="107"/>
                                </a:lnTo>
                                <a:lnTo>
                                  <a:pt x="20" y="114"/>
                                </a:lnTo>
                                <a:lnTo>
                                  <a:pt x="24" y="127"/>
                                </a:lnTo>
                                <a:lnTo>
                                  <a:pt x="33" y="135"/>
                                </a:lnTo>
                                <a:lnTo>
                                  <a:pt x="39" y="150"/>
                                </a:lnTo>
                                <a:lnTo>
                                  <a:pt x="46" y="157"/>
                                </a:lnTo>
                                <a:lnTo>
                                  <a:pt x="59" y="151"/>
                                </a:lnTo>
                                <a:lnTo>
                                  <a:pt x="79" y="135"/>
                                </a:lnTo>
                                <a:lnTo>
                                  <a:pt x="98" y="118"/>
                                </a:lnTo>
                                <a:lnTo>
                                  <a:pt x="112" y="98"/>
                                </a:lnTo>
                                <a:lnTo>
                                  <a:pt x="127" y="78"/>
                                </a:lnTo>
                                <a:lnTo>
                                  <a:pt x="140" y="56"/>
                                </a:lnTo>
                                <a:lnTo>
                                  <a:pt x="153" y="36"/>
                                </a:lnTo>
                                <a:lnTo>
                                  <a:pt x="169" y="17"/>
                                </a:lnTo>
                                <a:lnTo>
                                  <a:pt x="184" y="0"/>
                                </a:lnTo>
                                <a:lnTo>
                                  <a:pt x="189" y="10"/>
                                </a:lnTo>
                                <a:lnTo>
                                  <a:pt x="184" y="19"/>
                                </a:lnTo>
                                <a:lnTo>
                                  <a:pt x="179" y="28"/>
                                </a:lnTo>
                                <a:lnTo>
                                  <a:pt x="176" y="38"/>
                                </a:lnTo>
                                <a:close/>
                              </a:path>
                            </a:pathLst>
                          </a:cu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77" name=""/>
                          <p:cNvSpPr/>
                          <p:nvPr/>
                        </p:nvSpPr>
                        <p:spPr>
                          <a:xfrm>
                            <a:off x="6830280" y="3179520"/>
                            <a:ext cx="27000" cy="115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4" h="10">
                                <a:moveTo>
                                  <a:pt x="24" y="6"/>
                                </a:moveTo>
                                <a:lnTo>
                                  <a:pt x="24" y="10"/>
                                </a:lnTo>
                                <a:lnTo>
                                  <a:pt x="19" y="10"/>
                                </a:lnTo>
                                <a:lnTo>
                                  <a:pt x="10" y="8"/>
                                </a:lnTo>
                                <a:lnTo>
                                  <a:pt x="3" y="6"/>
                                </a:lnTo>
                                <a:lnTo>
                                  <a:pt x="0" y="0"/>
                                </a:lnTo>
                                <a:lnTo>
                                  <a:pt x="7" y="1"/>
                                </a:lnTo>
                                <a:lnTo>
                                  <a:pt x="13" y="0"/>
                                </a:lnTo>
                                <a:lnTo>
                                  <a:pt x="20" y="1"/>
                                </a:lnTo>
                                <a:lnTo>
                                  <a:pt x="24" y="6"/>
                                </a:lnTo>
                                <a:close/>
                              </a:path>
                            </a:pathLst>
                          </a:cu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5280" bIns="-352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78" name=""/>
                          <p:cNvSpPr/>
                          <p:nvPr/>
                        </p:nvSpPr>
                        <p:spPr>
                          <a:xfrm>
                            <a:off x="6419880" y="3183120"/>
                            <a:ext cx="100440" cy="1209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89" h="102">
                                <a:moveTo>
                                  <a:pt x="88" y="33"/>
                                </a:moveTo>
                                <a:lnTo>
                                  <a:pt x="89" y="44"/>
                                </a:lnTo>
                                <a:lnTo>
                                  <a:pt x="86" y="56"/>
                                </a:lnTo>
                                <a:lnTo>
                                  <a:pt x="82" y="66"/>
                                </a:lnTo>
                                <a:lnTo>
                                  <a:pt x="80" y="77"/>
                                </a:lnTo>
                                <a:lnTo>
                                  <a:pt x="73" y="83"/>
                                </a:lnTo>
                                <a:lnTo>
                                  <a:pt x="67" y="89"/>
                                </a:lnTo>
                                <a:lnTo>
                                  <a:pt x="60" y="93"/>
                                </a:lnTo>
                                <a:lnTo>
                                  <a:pt x="52" y="98"/>
                                </a:lnTo>
                                <a:lnTo>
                                  <a:pt x="44" y="100"/>
                                </a:lnTo>
                                <a:lnTo>
                                  <a:pt x="36" y="102"/>
                                </a:lnTo>
                                <a:lnTo>
                                  <a:pt x="27" y="100"/>
                                </a:lnTo>
                                <a:lnTo>
                                  <a:pt x="17" y="98"/>
                                </a:lnTo>
                                <a:lnTo>
                                  <a:pt x="11" y="96"/>
                                </a:lnTo>
                                <a:lnTo>
                                  <a:pt x="7" y="93"/>
                                </a:lnTo>
                                <a:lnTo>
                                  <a:pt x="4" y="89"/>
                                </a:lnTo>
                                <a:lnTo>
                                  <a:pt x="1" y="85"/>
                                </a:lnTo>
                                <a:lnTo>
                                  <a:pt x="0" y="70"/>
                                </a:lnTo>
                                <a:lnTo>
                                  <a:pt x="1" y="56"/>
                                </a:lnTo>
                                <a:lnTo>
                                  <a:pt x="4" y="43"/>
                                </a:lnTo>
                                <a:lnTo>
                                  <a:pt x="10" y="31"/>
                                </a:lnTo>
                                <a:lnTo>
                                  <a:pt x="16" y="27"/>
                                </a:lnTo>
                                <a:lnTo>
                                  <a:pt x="21" y="21"/>
                                </a:lnTo>
                                <a:lnTo>
                                  <a:pt x="27" y="17"/>
                                </a:lnTo>
                                <a:lnTo>
                                  <a:pt x="33" y="11"/>
                                </a:lnTo>
                                <a:lnTo>
                                  <a:pt x="40" y="7"/>
                                </a:lnTo>
                                <a:lnTo>
                                  <a:pt x="46" y="4"/>
                                </a:lnTo>
                                <a:lnTo>
                                  <a:pt x="53" y="1"/>
                                </a:lnTo>
                                <a:lnTo>
                                  <a:pt x="60" y="0"/>
                                </a:lnTo>
                                <a:lnTo>
                                  <a:pt x="70" y="4"/>
                                </a:lnTo>
                                <a:lnTo>
                                  <a:pt x="79" y="11"/>
                                </a:lnTo>
                                <a:lnTo>
                                  <a:pt x="85" y="21"/>
                                </a:lnTo>
                                <a:lnTo>
                                  <a:pt x="88" y="33"/>
                                </a:lnTo>
                                <a:close/>
                              </a:path>
                            </a:pathLst>
                          </a:cu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79" name=""/>
                          <p:cNvSpPr/>
                          <p:nvPr/>
                        </p:nvSpPr>
                        <p:spPr>
                          <a:xfrm>
                            <a:off x="7011360" y="3309120"/>
                            <a:ext cx="65160" cy="414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8" h="35">
                                <a:moveTo>
                                  <a:pt x="58" y="2"/>
                                </a:moveTo>
                                <a:lnTo>
                                  <a:pt x="52" y="12"/>
                                </a:lnTo>
                                <a:lnTo>
                                  <a:pt x="43" y="19"/>
                                </a:lnTo>
                                <a:lnTo>
                                  <a:pt x="33" y="26"/>
                                </a:lnTo>
                                <a:lnTo>
                                  <a:pt x="24" y="35"/>
                                </a:lnTo>
                                <a:lnTo>
                                  <a:pt x="17" y="35"/>
                                </a:lnTo>
                                <a:lnTo>
                                  <a:pt x="11" y="35"/>
                                </a:lnTo>
                                <a:lnTo>
                                  <a:pt x="6" y="33"/>
                                </a:lnTo>
                                <a:lnTo>
                                  <a:pt x="0" y="30"/>
                                </a:lnTo>
                                <a:lnTo>
                                  <a:pt x="6" y="25"/>
                                </a:lnTo>
                                <a:lnTo>
                                  <a:pt x="14" y="22"/>
                                </a:lnTo>
                                <a:lnTo>
                                  <a:pt x="23" y="20"/>
                                </a:lnTo>
                                <a:lnTo>
                                  <a:pt x="32" y="16"/>
                                </a:lnTo>
                                <a:lnTo>
                                  <a:pt x="37" y="12"/>
                                </a:lnTo>
                                <a:lnTo>
                                  <a:pt x="43" y="5"/>
                                </a:lnTo>
                                <a:lnTo>
                                  <a:pt x="50" y="0"/>
                                </a:lnTo>
                                <a:lnTo>
                                  <a:pt x="58" y="2"/>
                                </a:lnTo>
                                <a:close/>
                              </a:path>
                            </a:pathLst>
                          </a:cu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5400" bIns="-54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80" name=""/>
                          <p:cNvSpPr/>
                          <p:nvPr/>
                        </p:nvSpPr>
                        <p:spPr>
                          <a:xfrm>
                            <a:off x="6898320" y="3321000"/>
                            <a:ext cx="49680" cy="392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4" h="33">
                                <a:moveTo>
                                  <a:pt x="44" y="32"/>
                                </a:moveTo>
                                <a:lnTo>
                                  <a:pt x="35" y="33"/>
                                </a:lnTo>
                                <a:lnTo>
                                  <a:pt x="26" y="30"/>
                                </a:lnTo>
                                <a:lnTo>
                                  <a:pt x="18" y="25"/>
                                </a:lnTo>
                                <a:lnTo>
                                  <a:pt x="9" y="20"/>
                                </a:lnTo>
                                <a:lnTo>
                                  <a:pt x="6" y="15"/>
                                </a:lnTo>
                                <a:lnTo>
                                  <a:pt x="3" y="10"/>
                                </a:lnTo>
                                <a:lnTo>
                                  <a:pt x="0" y="6"/>
                                </a:lnTo>
                                <a:lnTo>
                                  <a:pt x="2" y="0"/>
                                </a:lnTo>
                                <a:lnTo>
                                  <a:pt x="13" y="10"/>
                                </a:lnTo>
                                <a:lnTo>
                                  <a:pt x="26" y="15"/>
                                </a:lnTo>
                                <a:lnTo>
                                  <a:pt x="38" y="20"/>
                                </a:lnTo>
                                <a:lnTo>
                                  <a:pt x="44" y="32"/>
                                </a:lnTo>
                                <a:close/>
                              </a:path>
                            </a:pathLst>
                          </a:cu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7560" bIns="-75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81" name=""/>
                          <p:cNvSpPr/>
                          <p:nvPr/>
                        </p:nvSpPr>
                        <p:spPr>
                          <a:xfrm>
                            <a:off x="7274520" y="3389760"/>
                            <a:ext cx="54000" cy="244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8" h="21">
                                <a:moveTo>
                                  <a:pt x="48" y="11"/>
                                </a:moveTo>
                                <a:lnTo>
                                  <a:pt x="39" y="17"/>
                                </a:lnTo>
                                <a:lnTo>
                                  <a:pt x="29" y="16"/>
                                </a:lnTo>
                                <a:lnTo>
                                  <a:pt x="19" y="14"/>
                                </a:lnTo>
                                <a:lnTo>
                                  <a:pt x="12" y="21"/>
                                </a:lnTo>
                                <a:lnTo>
                                  <a:pt x="9" y="21"/>
                                </a:lnTo>
                                <a:lnTo>
                                  <a:pt x="6" y="21"/>
                                </a:lnTo>
                                <a:lnTo>
                                  <a:pt x="3" y="20"/>
                                </a:lnTo>
                                <a:lnTo>
                                  <a:pt x="0" y="19"/>
                                </a:lnTo>
                                <a:lnTo>
                                  <a:pt x="0" y="13"/>
                                </a:lnTo>
                                <a:lnTo>
                                  <a:pt x="3" y="7"/>
                                </a:lnTo>
                                <a:lnTo>
                                  <a:pt x="9" y="3"/>
                                </a:lnTo>
                                <a:lnTo>
                                  <a:pt x="15" y="1"/>
                                </a:lnTo>
                                <a:lnTo>
                                  <a:pt x="26" y="6"/>
                                </a:lnTo>
                                <a:lnTo>
                                  <a:pt x="36" y="1"/>
                                </a:lnTo>
                                <a:lnTo>
                                  <a:pt x="45" y="0"/>
                                </a:lnTo>
                                <a:lnTo>
                                  <a:pt x="48" y="11"/>
                                </a:lnTo>
                                <a:close/>
                              </a:path>
                            </a:pathLst>
                          </a:cu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2320" bIns="-223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82" name=""/>
                          <p:cNvSpPr/>
                          <p:nvPr/>
                        </p:nvSpPr>
                        <p:spPr>
                          <a:xfrm>
                            <a:off x="7392240" y="3466800"/>
                            <a:ext cx="97920" cy="676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87" h="57">
                                <a:moveTo>
                                  <a:pt x="48" y="0"/>
                                </a:moveTo>
                                <a:lnTo>
                                  <a:pt x="56" y="14"/>
                                </a:lnTo>
                                <a:lnTo>
                                  <a:pt x="65" y="28"/>
                                </a:lnTo>
                                <a:lnTo>
                                  <a:pt x="77" y="41"/>
                                </a:lnTo>
                                <a:lnTo>
                                  <a:pt x="87" y="53"/>
                                </a:lnTo>
                                <a:lnTo>
                                  <a:pt x="84" y="54"/>
                                </a:lnTo>
                                <a:lnTo>
                                  <a:pt x="81" y="56"/>
                                </a:lnTo>
                                <a:lnTo>
                                  <a:pt x="78" y="57"/>
                                </a:lnTo>
                                <a:lnTo>
                                  <a:pt x="75" y="57"/>
                                </a:lnTo>
                                <a:lnTo>
                                  <a:pt x="66" y="46"/>
                                </a:lnTo>
                                <a:lnTo>
                                  <a:pt x="58" y="36"/>
                                </a:lnTo>
                                <a:lnTo>
                                  <a:pt x="51" y="24"/>
                                </a:lnTo>
                                <a:lnTo>
                                  <a:pt x="45" y="13"/>
                                </a:lnTo>
                                <a:lnTo>
                                  <a:pt x="39" y="14"/>
                                </a:lnTo>
                                <a:lnTo>
                                  <a:pt x="33" y="15"/>
                                </a:lnTo>
                                <a:lnTo>
                                  <a:pt x="29" y="17"/>
                                </a:lnTo>
                                <a:lnTo>
                                  <a:pt x="23" y="18"/>
                                </a:lnTo>
                                <a:lnTo>
                                  <a:pt x="17" y="18"/>
                                </a:lnTo>
                                <a:lnTo>
                                  <a:pt x="12" y="20"/>
                                </a:lnTo>
                                <a:lnTo>
                                  <a:pt x="6" y="20"/>
                                </a:lnTo>
                                <a:lnTo>
                                  <a:pt x="0" y="21"/>
                                </a:lnTo>
                                <a:lnTo>
                                  <a:pt x="3" y="15"/>
                                </a:lnTo>
                                <a:lnTo>
                                  <a:pt x="9" y="11"/>
                                </a:lnTo>
                                <a:lnTo>
                                  <a:pt x="15" y="8"/>
                                </a:lnTo>
                                <a:lnTo>
                                  <a:pt x="20" y="7"/>
                                </a:lnTo>
                                <a:lnTo>
                                  <a:pt x="28" y="5"/>
                                </a:lnTo>
                                <a:lnTo>
                                  <a:pt x="35" y="4"/>
                                </a:lnTo>
                                <a:lnTo>
                                  <a:pt x="42" y="2"/>
                                </a:lnTo>
                                <a:lnTo>
                                  <a:pt x="48" y="0"/>
                                </a:lnTo>
                                <a:close/>
                              </a:path>
                            </a:pathLst>
                          </a:cu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20880" bIns="208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83" name=""/>
                          <p:cNvSpPr/>
                          <p:nvPr/>
                        </p:nvSpPr>
                        <p:spPr>
                          <a:xfrm>
                            <a:off x="6222240" y="3710520"/>
                            <a:ext cx="31320" cy="212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28" h="18">
                                <a:moveTo>
                                  <a:pt x="28" y="3"/>
                                </a:moveTo>
                                <a:lnTo>
                                  <a:pt x="26" y="12"/>
                                </a:lnTo>
                                <a:lnTo>
                                  <a:pt x="20" y="15"/>
                                </a:lnTo>
                                <a:lnTo>
                                  <a:pt x="12" y="15"/>
                                </a:lnTo>
                                <a:lnTo>
                                  <a:pt x="5" y="18"/>
                                </a:lnTo>
                                <a:lnTo>
                                  <a:pt x="0" y="12"/>
                                </a:lnTo>
                                <a:lnTo>
                                  <a:pt x="6" y="6"/>
                                </a:lnTo>
                                <a:lnTo>
                                  <a:pt x="15" y="2"/>
                                </a:lnTo>
                                <a:lnTo>
                                  <a:pt x="22" y="0"/>
                                </a:lnTo>
                                <a:lnTo>
                                  <a:pt x="28" y="3"/>
                                </a:lnTo>
                                <a:close/>
                              </a:path>
                            </a:pathLst>
                          </a:cu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5560" bIns="-255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84" name=""/>
                          <p:cNvSpPr/>
                          <p:nvPr/>
                        </p:nvSpPr>
                        <p:spPr>
                          <a:xfrm>
                            <a:off x="7602480" y="3776040"/>
                            <a:ext cx="58680" cy="424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2" h="36">
                                <a:moveTo>
                                  <a:pt x="48" y="20"/>
                                </a:moveTo>
                                <a:lnTo>
                                  <a:pt x="49" y="24"/>
                                </a:lnTo>
                                <a:lnTo>
                                  <a:pt x="50" y="27"/>
                                </a:lnTo>
                                <a:lnTo>
                                  <a:pt x="52" y="32"/>
                                </a:lnTo>
                                <a:lnTo>
                                  <a:pt x="52" y="36"/>
                                </a:lnTo>
                                <a:lnTo>
                                  <a:pt x="46" y="35"/>
                                </a:lnTo>
                                <a:lnTo>
                                  <a:pt x="39" y="33"/>
                                </a:lnTo>
                                <a:lnTo>
                                  <a:pt x="33" y="30"/>
                                </a:lnTo>
                                <a:lnTo>
                                  <a:pt x="26" y="26"/>
                                </a:lnTo>
                                <a:lnTo>
                                  <a:pt x="20" y="22"/>
                                </a:lnTo>
                                <a:lnTo>
                                  <a:pt x="13" y="16"/>
                                </a:lnTo>
                                <a:lnTo>
                                  <a:pt x="7" y="13"/>
                                </a:lnTo>
                                <a:lnTo>
                                  <a:pt x="0" y="9"/>
                                </a:lnTo>
                                <a:lnTo>
                                  <a:pt x="3" y="0"/>
                                </a:lnTo>
                                <a:lnTo>
                                  <a:pt x="48" y="20"/>
                                </a:lnTo>
                                <a:close/>
                              </a:path>
                            </a:pathLst>
                          </a:cu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320" bIns="-43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85" name=""/>
                          <p:cNvSpPr/>
                          <p:nvPr/>
                        </p:nvSpPr>
                        <p:spPr>
                          <a:xfrm>
                            <a:off x="7607160" y="3916080"/>
                            <a:ext cx="54000" cy="234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8" h="20">
                                <a:moveTo>
                                  <a:pt x="48" y="9"/>
                                </a:moveTo>
                                <a:lnTo>
                                  <a:pt x="48" y="19"/>
                                </a:lnTo>
                                <a:lnTo>
                                  <a:pt x="41" y="20"/>
                                </a:lnTo>
                                <a:lnTo>
                                  <a:pt x="35" y="20"/>
                                </a:lnTo>
                                <a:lnTo>
                                  <a:pt x="28" y="20"/>
                                </a:lnTo>
                                <a:lnTo>
                                  <a:pt x="22" y="19"/>
                                </a:lnTo>
                                <a:lnTo>
                                  <a:pt x="15" y="17"/>
                                </a:lnTo>
                                <a:lnTo>
                                  <a:pt x="9" y="14"/>
                                </a:lnTo>
                                <a:lnTo>
                                  <a:pt x="5" y="12"/>
                                </a:lnTo>
                                <a:lnTo>
                                  <a:pt x="0" y="7"/>
                                </a:lnTo>
                                <a:lnTo>
                                  <a:pt x="3" y="0"/>
                                </a:lnTo>
                                <a:lnTo>
                                  <a:pt x="9" y="1"/>
                                </a:lnTo>
                                <a:lnTo>
                                  <a:pt x="15" y="3"/>
                                </a:lnTo>
                                <a:lnTo>
                                  <a:pt x="21" y="6"/>
                                </a:lnTo>
                                <a:lnTo>
                                  <a:pt x="26" y="9"/>
                                </a:lnTo>
                                <a:lnTo>
                                  <a:pt x="31" y="10"/>
                                </a:lnTo>
                                <a:lnTo>
                                  <a:pt x="36" y="10"/>
                                </a:lnTo>
                                <a:lnTo>
                                  <a:pt x="42" y="10"/>
                                </a:lnTo>
                                <a:lnTo>
                                  <a:pt x="48" y="9"/>
                                </a:lnTo>
                                <a:close/>
                              </a:path>
                            </a:pathLst>
                          </a:cu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3400" bIns="-234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86" name=""/>
                          <p:cNvSpPr/>
                          <p:nvPr/>
                        </p:nvSpPr>
                        <p:spPr>
                          <a:xfrm>
                            <a:off x="6199200" y="3943440"/>
                            <a:ext cx="37080" cy="388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3" h="33">
                                <a:moveTo>
                                  <a:pt x="32" y="0"/>
                                </a:moveTo>
                                <a:lnTo>
                                  <a:pt x="33" y="12"/>
                                </a:lnTo>
                                <a:lnTo>
                                  <a:pt x="27" y="17"/>
                                </a:lnTo>
                                <a:lnTo>
                                  <a:pt x="17" y="24"/>
                                </a:lnTo>
                                <a:lnTo>
                                  <a:pt x="10" y="33"/>
                                </a:lnTo>
                                <a:lnTo>
                                  <a:pt x="6" y="32"/>
                                </a:lnTo>
                                <a:lnTo>
                                  <a:pt x="2" y="27"/>
                                </a:lnTo>
                                <a:lnTo>
                                  <a:pt x="0" y="23"/>
                                </a:lnTo>
                                <a:lnTo>
                                  <a:pt x="3" y="19"/>
                                </a:lnTo>
                                <a:lnTo>
                                  <a:pt x="10" y="13"/>
                                </a:lnTo>
                                <a:lnTo>
                                  <a:pt x="17" y="7"/>
                                </a:lnTo>
                                <a:lnTo>
                                  <a:pt x="25" y="3"/>
                                </a:lnTo>
                                <a:lnTo>
                                  <a:pt x="32" y="0"/>
                                </a:lnTo>
                                <a:close/>
                              </a:path>
                            </a:pathLst>
                          </a:cu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7920" bIns="-79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187" name=""/>
                        <p:cNvSpPr/>
                        <p:nvPr/>
                      </p:nvSpPr>
                      <p:spPr>
                        <a:xfrm>
                          <a:off x="6206400" y="3392640"/>
                          <a:ext cx="168120" cy="2552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49" h="215">
                              <a:moveTo>
                                <a:pt x="18" y="202"/>
                              </a:moveTo>
                              <a:cubicBezTo>
                                <a:pt x="13" y="195"/>
                                <a:pt x="4" y="189"/>
                                <a:pt x="3" y="180"/>
                              </a:cubicBezTo>
                              <a:cubicBezTo>
                                <a:pt x="0" y="158"/>
                                <a:pt x="35" y="74"/>
                                <a:pt x="55" y="60"/>
                              </a:cubicBezTo>
                              <a:cubicBezTo>
                                <a:pt x="78" y="45"/>
                                <a:pt x="100" y="30"/>
                                <a:pt x="123" y="15"/>
                              </a:cubicBezTo>
                              <a:cubicBezTo>
                                <a:pt x="130" y="10"/>
                                <a:pt x="145" y="0"/>
                                <a:pt x="145" y="0"/>
                              </a:cubicBezTo>
                              <a:cubicBezTo>
                                <a:pt x="131" y="43"/>
                                <a:pt x="149" y="69"/>
                                <a:pt x="108" y="97"/>
                              </a:cubicBezTo>
                              <a:cubicBezTo>
                                <a:pt x="103" y="105"/>
                                <a:pt x="100" y="114"/>
                                <a:pt x="93" y="120"/>
                              </a:cubicBezTo>
                              <a:cubicBezTo>
                                <a:pt x="87" y="125"/>
                                <a:pt x="76" y="121"/>
                                <a:pt x="70" y="127"/>
                              </a:cubicBezTo>
                              <a:cubicBezTo>
                                <a:pt x="57" y="140"/>
                                <a:pt x="50" y="157"/>
                                <a:pt x="40" y="172"/>
                              </a:cubicBezTo>
                              <a:cubicBezTo>
                                <a:pt x="11" y="215"/>
                                <a:pt x="18" y="141"/>
                                <a:pt x="18" y="202"/>
                              </a:cubicBezTo>
                              <a:close/>
                            </a:path>
                          </a:pathLst>
                        </a:custGeom>
                        <a:noFill/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188" name=""/>
                      <p:cNvSpPr/>
                      <p:nvPr/>
                    </p:nvSpPr>
                    <p:spPr>
                      <a:xfrm>
                        <a:off x="5010120" y="1523880"/>
                        <a:ext cx="3657600" cy="411480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80808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189" name=""/>
                    <p:cNvSpPr/>
                    <p:nvPr/>
                  </p:nvSpPr>
                  <p:spPr>
                    <a:xfrm>
                      <a:off x="6154200" y="3360240"/>
                      <a:ext cx="208800" cy="23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9" h="373">
                          <a:moveTo>
                            <a:pt x="41" y="294"/>
                          </a:moveTo>
                          <a:cubicBezTo>
                            <a:pt x="91" y="145"/>
                            <a:pt x="7" y="373"/>
                            <a:pt x="101" y="204"/>
                          </a:cubicBezTo>
                          <a:cubicBezTo>
                            <a:pt x="175" y="72"/>
                            <a:pt x="83" y="146"/>
                            <a:pt x="176" y="84"/>
                          </a:cubicBezTo>
                          <a:cubicBezTo>
                            <a:pt x="204" y="0"/>
                            <a:pt x="230" y="23"/>
                            <a:pt x="311" y="39"/>
                          </a:cubicBezTo>
                          <a:cubicBezTo>
                            <a:pt x="273" y="152"/>
                            <a:pt x="329" y="17"/>
                            <a:pt x="251" y="114"/>
                          </a:cubicBezTo>
                          <a:cubicBezTo>
                            <a:pt x="168" y="218"/>
                            <a:pt x="320" y="103"/>
                            <a:pt x="191" y="189"/>
                          </a:cubicBezTo>
                          <a:cubicBezTo>
                            <a:pt x="181" y="219"/>
                            <a:pt x="179" y="253"/>
                            <a:pt x="161" y="279"/>
                          </a:cubicBezTo>
                          <a:cubicBezTo>
                            <a:pt x="141" y="309"/>
                            <a:pt x="101" y="369"/>
                            <a:pt x="101" y="369"/>
                          </a:cubicBezTo>
                          <a:cubicBezTo>
                            <a:pt x="86" y="364"/>
                            <a:pt x="67" y="365"/>
                            <a:pt x="56" y="354"/>
                          </a:cubicBezTo>
                          <a:cubicBezTo>
                            <a:pt x="0" y="298"/>
                            <a:pt x="92" y="228"/>
                            <a:pt x="131" y="189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190" name=""/>
                  <p:cNvSpPr/>
                  <p:nvPr/>
                </p:nvSpPr>
                <p:spPr>
                  <a:xfrm>
                    <a:off x="6375960" y="3159720"/>
                    <a:ext cx="104040" cy="907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7280" bIns="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91" name=""/>
                <p:cNvSpPr/>
                <p:nvPr/>
              </p:nvSpPr>
              <p:spPr>
                <a:xfrm>
                  <a:off x="6601320" y="3480120"/>
                  <a:ext cx="920160" cy="787320"/>
                </a:xfrm>
                <a:custGeom>
                  <a:avLst/>
                  <a:gdLst/>
                  <a:ahLst/>
                  <a:rect l="l" t="t" r="r" b="b"/>
                  <a:pathLst>
                    <a:path w="1383" h="870">
                      <a:moveTo>
                        <a:pt x="127" y="165"/>
                      </a:moveTo>
                      <a:cubicBezTo>
                        <a:pt x="76" y="216"/>
                        <a:pt x="74" y="248"/>
                        <a:pt x="7" y="270"/>
                      </a:cubicBezTo>
                      <a:cubicBezTo>
                        <a:pt x="15" y="345"/>
                        <a:pt x="0" y="398"/>
                        <a:pt x="52" y="450"/>
                      </a:cubicBezTo>
                      <a:cubicBezTo>
                        <a:pt x="88" y="486"/>
                        <a:pt x="142" y="495"/>
                        <a:pt x="187" y="510"/>
                      </a:cubicBezTo>
                      <a:cubicBezTo>
                        <a:pt x="202" y="515"/>
                        <a:pt x="232" y="525"/>
                        <a:pt x="232" y="525"/>
                      </a:cubicBezTo>
                      <a:cubicBezTo>
                        <a:pt x="242" y="540"/>
                        <a:pt x="248" y="559"/>
                        <a:pt x="262" y="570"/>
                      </a:cubicBezTo>
                      <a:cubicBezTo>
                        <a:pt x="272" y="578"/>
                        <a:pt x="363" y="599"/>
                        <a:pt x="367" y="600"/>
                      </a:cubicBezTo>
                      <a:cubicBezTo>
                        <a:pt x="516" y="642"/>
                        <a:pt x="636" y="637"/>
                        <a:pt x="802" y="645"/>
                      </a:cubicBezTo>
                      <a:cubicBezTo>
                        <a:pt x="817" y="655"/>
                        <a:pt x="836" y="661"/>
                        <a:pt x="847" y="675"/>
                      </a:cubicBezTo>
                      <a:cubicBezTo>
                        <a:pt x="857" y="687"/>
                        <a:pt x="849" y="711"/>
                        <a:pt x="862" y="720"/>
                      </a:cubicBezTo>
                      <a:cubicBezTo>
                        <a:pt x="930" y="769"/>
                        <a:pt x="1055" y="765"/>
                        <a:pt x="1132" y="780"/>
                      </a:cubicBezTo>
                      <a:cubicBezTo>
                        <a:pt x="1167" y="832"/>
                        <a:pt x="1193" y="850"/>
                        <a:pt x="1252" y="870"/>
                      </a:cubicBezTo>
                      <a:cubicBezTo>
                        <a:pt x="1279" y="790"/>
                        <a:pt x="1274" y="748"/>
                        <a:pt x="1357" y="720"/>
                      </a:cubicBezTo>
                      <a:cubicBezTo>
                        <a:pt x="1380" y="651"/>
                        <a:pt x="1383" y="639"/>
                        <a:pt x="1312" y="615"/>
                      </a:cubicBezTo>
                      <a:cubicBezTo>
                        <a:pt x="1280" y="520"/>
                        <a:pt x="1296" y="499"/>
                        <a:pt x="1222" y="450"/>
                      </a:cubicBezTo>
                      <a:cubicBezTo>
                        <a:pt x="1167" y="367"/>
                        <a:pt x="1224" y="433"/>
                        <a:pt x="1147" y="390"/>
                      </a:cubicBezTo>
                      <a:cubicBezTo>
                        <a:pt x="1115" y="372"/>
                        <a:pt x="1087" y="350"/>
                        <a:pt x="1057" y="330"/>
                      </a:cubicBezTo>
                      <a:cubicBezTo>
                        <a:pt x="985" y="282"/>
                        <a:pt x="867" y="286"/>
                        <a:pt x="787" y="270"/>
                      </a:cubicBezTo>
                      <a:cubicBezTo>
                        <a:pt x="742" y="240"/>
                        <a:pt x="697" y="225"/>
                        <a:pt x="652" y="195"/>
                      </a:cubicBezTo>
                      <a:cubicBezTo>
                        <a:pt x="642" y="180"/>
                        <a:pt x="637" y="160"/>
                        <a:pt x="622" y="150"/>
                      </a:cubicBezTo>
                      <a:cubicBezTo>
                        <a:pt x="595" y="133"/>
                        <a:pt x="532" y="120"/>
                        <a:pt x="532" y="120"/>
                      </a:cubicBezTo>
                      <a:cubicBezTo>
                        <a:pt x="509" y="52"/>
                        <a:pt x="482" y="61"/>
                        <a:pt x="442" y="0"/>
                      </a:cubicBezTo>
                      <a:cubicBezTo>
                        <a:pt x="361" y="8"/>
                        <a:pt x="232" y="10"/>
                        <a:pt x="157" y="60"/>
                      </a:cubicBezTo>
                      <a:cubicBezTo>
                        <a:pt x="127" y="80"/>
                        <a:pt x="67" y="120"/>
                        <a:pt x="67" y="120"/>
                      </a:cubicBezTo>
                      <a:cubicBezTo>
                        <a:pt x="43" y="193"/>
                        <a:pt x="22" y="253"/>
                        <a:pt x="22" y="33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92" name=""/>
              <p:cNvSpPr/>
              <p:nvPr/>
            </p:nvSpPr>
            <p:spPr>
              <a:xfrm>
                <a:off x="6647760" y="3586320"/>
                <a:ext cx="819000" cy="500400"/>
              </a:xfrm>
              <a:custGeom>
                <a:avLst/>
                <a:gdLst/>
                <a:ahLst/>
                <a:rect l="l" t="t" r="r" b="b"/>
                <a:pathLst>
                  <a:path w="1290" h="788">
                    <a:moveTo>
                      <a:pt x="150" y="128"/>
                    </a:moveTo>
                    <a:cubicBezTo>
                      <a:pt x="140" y="143"/>
                      <a:pt x="133" y="160"/>
                      <a:pt x="120" y="173"/>
                    </a:cubicBezTo>
                    <a:cubicBezTo>
                      <a:pt x="107" y="186"/>
                      <a:pt x="87" y="189"/>
                      <a:pt x="75" y="203"/>
                    </a:cubicBezTo>
                    <a:cubicBezTo>
                      <a:pt x="19" y="266"/>
                      <a:pt x="21" y="276"/>
                      <a:pt x="0" y="338"/>
                    </a:cubicBezTo>
                    <a:cubicBezTo>
                      <a:pt x="54" y="392"/>
                      <a:pt x="74" y="387"/>
                      <a:pt x="135" y="428"/>
                    </a:cubicBezTo>
                    <a:cubicBezTo>
                      <a:pt x="145" y="443"/>
                      <a:pt x="150" y="463"/>
                      <a:pt x="165" y="473"/>
                    </a:cubicBezTo>
                    <a:cubicBezTo>
                      <a:pt x="175" y="479"/>
                      <a:pt x="343" y="543"/>
                      <a:pt x="360" y="548"/>
                    </a:cubicBezTo>
                    <a:cubicBezTo>
                      <a:pt x="436" y="571"/>
                      <a:pt x="510" y="598"/>
                      <a:pt x="585" y="623"/>
                    </a:cubicBezTo>
                    <a:cubicBezTo>
                      <a:pt x="628" y="637"/>
                      <a:pt x="679" y="648"/>
                      <a:pt x="720" y="668"/>
                    </a:cubicBezTo>
                    <a:cubicBezTo>
                      <a:pt x="843" y="729"/>
                      <a:pt x="975" y="769"/>
                      <a:pt x="1110" y="788"/>
                    </a:cubicBezTo>
                    <a:cubicBezTo>
                      <a:pt x="1150" y="783"/>
                      <a:pt x="1190" y="780"/>
                      <a:pt x="1230" y="773"/>
                    </a:cubicBezTo>
                    <a:cubicBezTo>
                      <a:pt x="1246" y="770"/>
                      <a:pt x="1264" y="769"/>
                      <a:pt x="1275" y="758"/>
                    </a:cubicBezTo>
                    <a:cubicBezTo>
                      <a:pt x="1286" y="747"/>
                      <a:pt x="1285" y="728"/>
                      <a:pt x="1290" y="713"/>
                    </a:cubicBezTo>
                    <a:cubicBezTo>
                      <a:pt x="1260" y="703"/>
                      <a:pt x="1230" y="693"/>
                      <a:pt x="1200" y="683"/>
                    </a:cubicBezTo>
                    <a:cubicBezTo>
                      <a:pt x="1170" y="673"/>
                      <a:pt x="1180" y="623"/>
                      <a:pt x="1170" y="593"/>
                    </a:cubicBezTo>
                    <a:cubicBezTo>
                      <a:pt x="1150" y="532"/>
                      <a:pt x="1148" y="444"/>
                      <a:pt x="1095" y="398"/>
                    </a:cubicBezTo>
                    <a:lnTo>
                      <a:pt x="915" y="308"/>
                    </a:lnTo>
                    <a:cubicBezTo>
                      <a:pt x="915" y="308"/>
                      <a:pt x="915" y="308"/>
                      <a:pt x="915" y="308"/>
                    </a:cubicBezTo>
                    <a:cubicBezTo>
                      <a:pt x="864" y="274"/>
                      <a:pt x="825" y="263"/>
                      <a:pt x="765" y="248"/>
                    </a:cubicBezTo>
                    <a:cubicBezTo>
                      <a:pt x="750" y="238"/>
                      <a:pt x="736" y="226"/>
                      <a:pt x="720" y="218"/>
                    </a:cubicBezTo>
                    <a:cubicBezTo>
                      <a:pt x="706" y="211"/>
                      <a:pt x="689" y="211"/>
                      <a:pt x="675" y="203"/>
                    </a:cubicBezTo>
                    <a:cubicBezTo>
                      <a:pt x="643" y="185"/>
                      <a:pt x="585" y="143"/>
                      <a:pt x="585" y="143"/>
                    </a:cubicBezTo>
                    <a:cubicBezTo>
                      <a:pt x="535" y="68"/>
                      <a:pt x="570" y="108"/>
                      <a:pt x="465" y="38"/>
                    </a:cubicBezTo>
                    <a:cubicBezTo>
                      <a:pt x="439" y="20"/>
                      <a:pt x="375" y="8"/>
                      <a:pt x="375" y="8"/>
                    </a:cubicBezTo>
                    <a:cubicBezTo>
                      <a:pt x="315" y="15"/>
                      <a:pt x="242" y="0"/>
                      <a:pt x="195" y="38"/>
                    </a:cubicBezTo>
                    <a:cubicBezTo>
                      <a:pt x="181" y="49"/>
                      <a:pt x="173" y="67"/>
                      <a:pt x="165" y="83"/>
                    </a:cubicBezTo>
                    <a:cubicBezTo>
                      <a:pt x="158" y="97"/>
                      <a:pt x="150" y="128"/>
                      <a:pt x="150" y="128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slow" advTm="15000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3" name=""/>
          <p:cNvGrpSpPr/>
          <p:nvPr/>
        </p:nvGrpSpPr>
        <p:grpSpPr>
          <a:xfrm>
            <a:off x="304560" y="457200"/>
            <a:ext cx="8076960" cy="5951160"/>
            <a:chOff x="304560" y="457200"/>
            <a:chExt cx="8076960" cy="5951160"/>
          </a:xfrm>
        </p:grpSpPr>
        <p:sp>
          <p:nvSpPr>
            <p:cNvPr id="1194" name=""/>
            <p:cNvSpPr/>
            <p:nvPr/>
          </p:nvSpPr>
          <p:spPr>
            <a:xfrm>
              <a:off x="2466000" y="457200"/>
              <a:ext cx="363996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MPARISON CH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For BRAINSTORMING SES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5" name=""/>
            <p:cNvGrpSpPr/>
            <p:nvPr/>
          </p:nvGrpSpPr>
          <p:grpSpPr>
            <a:xfrm>
              <a:off x="304560" y="1668240"/>
              <a:ext cx="8076960" cy="4740120"/>
              <a:chOff x="304560" y="1668240"/>
              <a:chExt cx="8076960" cy="4740120"/>
            </a:xfrm>
          </p:grpSpPr>
          <p:grpSp>
            <p:nvGrpSpPr>
              <p:cNvPr id="1196" name=""/>
              <p:cNvGrpSpPr/>
              <p:nvPr/>
            </p:nvGrpSpPr>
            <p:grpSpPr>
              <a:xfrm>
                <a:off x="304560" y="1668240"/>
                <a:ext cx="8076960" cy="4740120"/>
                <a:chOff x="304560" y="1668240"/>
                <a:chExt cx="8076960" cy="4740120"/>
              </a:xfrm>
            </p:grpSpPr>
            <p:grpSp>
              <p:nvGrpSpPr>
                <p:cNvPr id="1197" name=""/>
                <p:cNvGrpSpPr/>
                <p:nvPr/>
              </p:nvGrpSpPr>
              <p:grpSpPr>
                <a:xfrm>
                  <a:off x="304560" y="1668240"/>
                  <a:ext cx="8076960" cy="4740120"/>
                  <a:chOff x="304560" y="1668240"/>
                  <a:chExt cx="8076960" cy="4740120"/>
                </a:xfrm>
              </p:grpSpPr>
              <p:grpSp>
                <p:nvGrpSpPr>
                  <p:cNvPr id="1198" name=""/>
                  <p:cNvGrpSpPr/>
                  <p:nvPr/>
                </p:nvGrpSpPr>
                <p:grpSpPr>
                  <a:xfrm>
                    <a:off x="304560" y="1668240"/>
                    <a:ext cx="8076960" cy="4740120"/>
                    <a:chOff x="304560" y="1668240"/>
                    <a:chExt cx="8076960" cy="4740120"/>
                  </a:xfrm>
                </p:grpSpPr>
                <p:grpSp>
                  <p:nvGrpSpPr>
                    <p:cNvPr id="1199" name=""/>
                    <p:cNvGrpSpPr/>
                    <p:nvPr/>
                  </p:nvGrpSpPr>
                  <p:grpSpPr>
                    <a:xfrm>
                      <a:off x="304560" y="1668240"/>
                      <a:ext cx="8076960" cy="4740120"/>
                      <a:chOff x="304560" y="1668240"/>
                      <a:chExt cx="8076960" cy="4740120"/>
                    </a:xfrm>
                  </p:grpSpPr>
                  <p:grpSp>
                    <p:nvGrpSpPr>
                      <p:cNvPr id="1200" name=""/>
                      <p:cNvGrpSpPr/>
                      <p:nvPr/>
                    </p:nvGrpSpPr>
                    <p:grpSpPr>
                      <a:xfrm>
                        <a:off x="304560" y="1668240"/>
                        <a:ext cx="8076960" cy="4740120"/>
                        <a:chOff x="304560" y="1668240"/>
                        <a:chExt cx="8076960" cy="4740120"/>
                      </a:xfrm>
                    </p:grpSpPr>
                    <p:grpSp>
                      <p:nvGrpSpPr>
                        <p:cNvPr id="1201" name=""/>
                        <p:cNvGrpSpPr/>
                        <p:nvPr/>
                      </p:nvGrpSpPr>
                      <p:grpSpPr>
                        <a:xfrm>
                          <a:off x="3831480" y="1668240"/>
                          <a:ext cx="4550040" cy="4740120"/>
                          <a:chOff x="3831480" y="1668240"/>
                          <a:chExt cx="4550040" cy="4740120"/>
                        </a:xfrm>
                      </p:grpSpPr>
                      <p:sp>
                        <p:nvSpPr>
                          <p:cNvPr id="1202" name=""/>
                          <p:cNvSpPr/>
                          <p:nvPr/>
                        </p:nvSpPr>
                        <p:spPr>
                          <a:xfrm>
                            <a:off x="3831480" y="2835720"/>
                            <a:ext cx="2535120" cy="24379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03" name=""/>
                          <p:cNvSpPr/>
                          <p:nvPr/>
                        </p:nvSpPr>
                        <p:spPr>
                          <a:xfrm>
                            <a:off x="6610680" y="1668240"/>
                            <a:ext cx="1755000" cy="1015560"/>
                          </a:xfrm>
                          <a:prstGeom prst="borderCallout1">
                            <a:avLst>
                              <a:gd name="adj1" fmla="val 18750"/>
                              <a:gd name="adj2" fmla="val -8333"/>
                              <a:gd name="adj3" fmla="val 116666"/>
                              <a:gd name="adj4" fmla="val -61449"/>
                            </a:avLst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04" name=""/>
                          <p:cNvSpPr/>
                          <p:nvPr/>
                        </p:nvSpPr>
                        <p:spPr>
                          <a:xfrm>
                            <a:off x="6622560" y="5392800"/>
                            <a:ext cx="1755000" cy="1015560"/>
                          </a:xfrm>
                          <a:prstGeom prst="borderCallout1">
                            <a:avLst>
                              <a:gd name="adj1" fmla="val 18750"/>
                              <a:gd name="adj2" fmla="val -8333"/>
                              <a:gd name="adj3" fmla="val -49055"/>
                              <a:gd name="adj4" fmla="val -31541"/>
                            </a:avLst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05" name=""/>
                          <p:cNvSpPr/>
                          <p:nvPr/>
                        </p:nvSpPr>
                        <p:spPr>
                          <a:xfrm>
                            <a:off x="6626520" y="3419640"/>
                            <a:ext cx="1755000" cy="1015920"/>
                          </a:xfrm>
                          <a:prstGeom prst="borderCallout1">
                            <a:avLst>
                              <a:gd name="adj1" fmla="val 18750"/>
                              <a:gd name="adj2" fmla="val -8333"/>
                              <a:gd name="adj3" fmla="val 15500"/>
                              <a:gd name="adj4" fmla="val -22189"/>
                            </a:avLst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1206" name=""/>
                        <p:cNvGrpSpPr/>
                        <p:nvPr/>
                      </p:nvGrpSpPr>
                      <p:grpSpPr>
                        <a:xfrm>
                          <a:off x="304560" y="1668240"/>
                          <a:ext cx="4550040" cy="4740120"/>
                          <a:chOff x="304560" y="1668240"/>
                          <a:chExt cx="4550040" cy="4740120"/>
                        </a:xfrm>
                      </p:grpSpPr>
                      <p:sp>
                        <p:nvSpPr>
                          <p:cNvPr id="1207" name=""/>
                          <p:cNvSpPr/>
                          <p:nvPr/>
                        </p:nvSpPr>
                        <p:spPr>
                          <a:xfrm flipH="1">
                            <a:off x="2319480" y="2835720"/>
                            <a:ext cx="2535120" cy="24379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08" name=""/>
                          <p:cNvSpPr/>
                          <p:nvPr/>
                        </p:nvSpPr>
                        <p:spPr>
                          <a:xfrm flipH="1">
                            <a:off x="320040" y="1668240"/>
                            <a:ext cx="1755000" cy="1015560"/>
                          </a:xfrm>
                          <a:prstGeom prst="borderCallout1">
                            <a:avLst>
                              <a:gd name="adj1" fmla="val 18750"/>
                              <a:gd name="adj2" fmla="val -8333"/>
                              <a:gd name="adj3" fmla="val 116666"/>
                              <a:gd name="adj4" fmla="val -61449"/>
                            </a:avLst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09" name=""/>
                          <p:cNvSpPr/>
                          <p:nvPr/>
                        </p:nvSpPr>
                        <p:spPr>
                          <a:xfrm flipH="1">
                            <a:off x="308160" y="5392800"/>
                            <a:ext cx="1755000" cy="1015560"/>
                          </a:xfrm>
                          <a:prstGeom prst="borderCallout1">
                            <a:avLst>
                              <a:gd name="adj1" fmla="val 18750"/>
                              <a:gd name="adj2" fmla="val -8333"/>
                              <a:gd name="adj3" fmla="val -49055"/>
                              <a:gd name="adj4" fmla="val -31541"/>
                            </a:avLst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210" name=""/>
                          <p:cNvSpPr/>
                          <p:nvPr/>
                        </p:nvSpPr>
                        <p:spPr>
                          <a:xfrm flipH="1">
                            <a:off x="304200" y="3419640"/>
                            <a:ext cx="1755000" cy="1015920"/>
                          </a:xfrm>
                          <a:prstGeom prst="borderCallout1">
                            <a:avLst>
                              <a:gd name="adj1" fmla="val 18750"/>
                              <a:gd name="adj2" fmla="val -8333"/>
                              <a:gd name="adj3" fmla="val 15500"/>
                              <a:gd name="adj4" fmla="val -22189"/>
                            </a:avLst>
                          </a:prstGeom>
                          <a:solidFill>
                            <a:srgbClr val="ffffff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211" name=""/>
                        <p:cNvSpPr/>
                        <p:nvPr/>
                      </p:nvSpPr>
                      <p:spPr>
                        <a:xfrm rot="5400000">
                          <a:off x="2948400" y="2836800"/>
                          <a:ext cx="2836440" cy="2274840"/>
                        </a:xfrm>
                        <a:custGeom>
                          <a:avLst/>
                          <a:gdLst>
                            <a:gd name="textAreaLeft" fmla="*/ 0 w 2836440"/>
                            <a:gd name="textAreaRight" fmla="*/ 2836800 w 2836440"/>
                            <a:gd name="textAreaTop" fmla="*/ 455400 h 2274840"/>
                            <a:gd name="textAreaBottom" fmla="*/ 1819440 h 2274840"/>
                          </a:gdLst>
                          <a:ahLst/>
                          <a:rect l="textAreaLeft" t="textAreaTop" r="textAreaRight" b="textAreaBottom"/>
                          <a:pathLst>
                            <a:path w="21600" h="21600">
                              <a:moveTo>
                                <a:pt x="0" y="4325"/>
                              </a:moveTo>
                              <a:lnTo>
                                <a:pt x="0" y="17275"/>
                              </a:lnTo>
                              <a:lnTo>
                                <a:pt x="10159" y="17275"/>
                              </a:lnTo>
                              <a:lnTo>
                                <a:pt x="10159" y="19050"/>
                              </a:lnTo>
                              <a:lnTo>
                                <a:pt x="7318" y="19050"/>
                              </a:lnTo>
                              <a:lnTo>
                                <a:pt x="10800" y="21600"/>
                              </a:lnTo>
                              <a:lnTo>
                                <a:pt x="14282" y="19050"/>
                              </a:lnTo>
                              <a:lnTo>
                                <a:pt x="11441" y="19050"/>
                              </a:lnTo>
                              <a:lnTo>
                                <a:pt x="11441" y="17275"/>
                              </a:lnTo>
                              <a:lnTo>
                                <a:pt x="21600" y="17275"/>
                              </a:lnTo>
                              <a:lnTo>
                                <a:pt x="21600" y="4325"/>
                              </a:lnTo>
                              <a:lnTo>
                                <a:pt x="11441" y="4325"/>
                              </a:lnTo>
                              <a:lnTo>
                                <a:pt x="11441" y="2550"/>
                              </a:lnTo>
                              <a:lnTo>
                                <a:pt x="14282" y="2550"/>
                              </a:lnTo>
                              <a:lnTo>
                                <a:pt x="10800" y="0"/>
                              </a:lnTo>
                              <a:lnTo>
                                <a:pt x="7318" y="2550"/>
                              </a:lnTo>
                              <a:lnTo>
                                <a:pt x="10159" y="2550"/>
                              </a:lnTo>
                              <a:lnTo>
                                <a:pt x="10159" y="432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212" name=""/>
                      <p:cNvSpPr/>
                      <p:nvPr/>
                    </p:nvSpPr>
                    <p:spPr>
                      <a:xfrm>
                        <a:off x="624960" y="3504600"/>
                        <a:ext cx="1137240" cy="219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DIFFERENT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3" name=""/>
                      <p:cNvSpPr/>
                      <p:nvPr/>
                    </p:nvSpPr>
                    <p:spPr>
                      <a:xfrm>
                        <a:off x="527760" y="5485320"/>
                        <a:ext cx="1137600" cy="219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DIFFERENT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4" name=""/>
                      <p:cNvSpPr/>
                      <p:nvPr/>
                    </p:nvSpPr>
                    <p:spPr>
                      <a:xfrm>
                        <a:off x="6897600" y="1760760"/>
                        <a:ext cx="1137600" cy="219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DIFFERENT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5" name=""/>
                      <p:cNvSpPr/>
                      <p:nvPr/>
                    </p:nvSpPr>
                    <p:spPr>
                      <a:xfrm>
                        <a:off x="6897600" y="3504600"/>
                        <a:ext cx="1137600" cy="219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DIFFERENT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6" name=""/>
                      <p:cNvSpPr/>
                      <p:nvPr/>
                    </p:nvSpPr>
                    <p:spPr>
                      <a:xfrm>
                        <a:off x="6897600" y="5485320"/>
                        <a:ext cx="1137600" cy="219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DIFFERENT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7" name=""/>
                      <p:cNvSpPr/>
                      <p:nvPr/>
                    </p:nvSpPr>
                    <p:spPr>
                      <a:xfrm>
                        <a:off x="624960" y="1760760"/>
                        <a:ext cx="1137240" cy="219960"/>
                      </a:xfrm>
                      <a:prstGeom prst="rect">
                        <a:avLst/>
                      </a:prstGeom>
                      <a:solidFill>
                        <a:srgbClr val="ffffff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2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DIFFERENT</a:t>
                        </a:r>
                        <a:endPara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pic>
                  <p:nvPicPr>
                    <p:cNvPr id="1218" name="SL00644_" descr=""/>
                    <p:cNvPicPr/>
                    <p:nvPr/>
                  </p:nvPicPr>
                  <p:blipFill>
                    <a:blip r:embed="rId1"/>
                    <a:stretch/>
                  </p:blipFill>
                  <p:spPr>
                    <a:xfrm>
                      <a:off x="2642760" y="3182760"/>
                      <a:ext cx="843840" cy="54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sp>
                <p:nvSpPr>
                  <p:cNvPr id="1219" name=""/>
                  <p:cNvSpPr/>
                  <p:nvPr/>
                </p:nvSpPr>
                <p:spPr>
                  <a:xfrm>
                    <a:off x="3831480" y="2683800"/>
                    <a:ext cx="1023120" cy="261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AM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pic>
              <p:nvPicPr>
                <p:cNvPr id="1220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177880" y="3148920"/>
                  <a:ext cx="749160" cy="575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221" name=""/>
              <p:cNvSpPr/>
              <p:nvPr/>
            </p:nvSpPr>
            <p:spPr>
              <a:xfrm>
                <a:off x="2791080" y="4520520"/>
                <a:ext cx="695520" cy="406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BE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5177880" y="4520520"/>
                <a:ext cx="749160" cy="406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B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slow" advTm="15000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"/>
          <p:cNvSpPr/>
          <p:nvPr/>
        </p:nvSpPr>
        <p:spPr>
          <a:xfrm>
            <a:off x="1295280" y="152280"/>
            <a:ext cx="621036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CHECK – OFF 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entury Gothic"/>
              </a:rPr>
              <a:t>TO USE FOR FORMATIVE ASSESSMENTS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(p1. of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609480" y="762120"/>
            <a:ext cx="79250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Student Name:  _________________________________________________   Assessment 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Directions: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 </a:t>
            </a:r>
            <a:r>
              <a:rPr b="1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Use a check marks 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√</a:t>
            </a:r>
            <a:r>
              <a:rPr b="1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) to indicate an acceptable performanc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 </a:t>
            </a:r>
            <a:r>
              <a:rPr b="1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Use a zeros (0)  to indicate a performance that did not meet criter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 </a:t>
            </a:r>
            <a:r>
              <a:rPr b="1" lang="en-US" sz="14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No marks indicate no contribu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5" name=""/>
          <p:cNvGrpSpPr/>
          <p:nvPr/>
        </p:nvGrpSpPr>
        <p:grpSpPr>
          <a:xfrm>
            <a:off x="685800" y="1862280"/>
            <a:ext cx="6630840" cy="4995720"/>
            <a:chOff x="685800" y="1862280"/>
            <a:chExt cx="6630840" cy="4995720"/>
          </a:xfrm>
        </p:grpSpPr>
        <p:grpSp>
          <p:nvGrpSpPr>
            <p:cNvPr id="1226" name=""/>
            <p:cNvGrpSpPr/>
            <p:nvPr/>
          </p:nvGrpSpPr>
          <p:grpSpPr>
            <a:xfrm>
              <a:off x="689040" y="1866600"/>
              <a:ext cx="6623640" cy="4986720"/>
              <a:chOff x="689040" y="1866600"/>
              <a:chExt cx="6623640" cy="4986720"/>
            </a:xfrm>
          </p:grpSpPr>
          <p:grpSp>
            <p:nvGrpSpPr>
              <p:cNvPr id="1227" name=""/>
              <p:cNvGrpSpPr/>
              <p:nvPr/>
            </p:nvGrpSpPr>
            <p:grpSpPr>
              <a:xfrm>
                <a:off x="689040" y="1866600"/>
                <a:ext cx="1707480" cy="768960"/>
                <a:chOff x="689040" y="1866600"/>
                <a:chExt cx="1707480" cy="768960"/>
              </a:xfrm>
            </p:grpSpPr>
            <p:sp>
              <p:nvSpPr>
                <p:cNvPr id="1228" name=""/>
                <p:cNvSpPr/>
                <p:nvPr/>
              </p:nvSpPr>
              <p:spPr>
                <a:xfrm>
                  <a:off x="740520" y="1866600"/>
                  <a:ext cx="1604160" cy="76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entury Gothic"/>
                      <a:ea typeface="Times New Roman"/>
                    </a:rPr>
                    <a:t>Times Assessed and R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>
                  <a:off x="689040" y="1866600"/>
                  <a:ext cx="1707480" cy="76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0" name=""/>
              <p:cNvGrpSpPr/>
              <p:nvPr/>
            </p:nvGrpSpPr>
            <p:grpSpPr>
              <a:xfrm>
                <a:off x="2396520" y="1866600"/>
                <a:ext cx="2044080" cy="768960"/>
                <a:chOff x="2396520" y="1866600"/>
                <a:chExt cx="2044080" cy="768960"/>
              </a:xfrm>
            </p:grpSpPr>
            <p:sp>
              <p:nvSpPr>
                <p:cNvPr id="1231" name=""/>
                <p:cNvSpPr/>
                <p:nvPr/>
              </p:nvSpPr>
              <p:spPr>
                <a:xfrm>
                  <a:off x="2447640" y="1866600"/>
                  <a:ext cx="1941120" cy="76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Century Gothic"/>
                    </a:rPr>
                    <a:t>Comment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>
                  <a:off x="2396520" y="1866600"/>
                  <a:ext cx="2044080" cy="76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3" name=""/>
              <p:cNvGrpSpPr/>
              <p:nvPr/>
            </p:nvGrpSpPr>
            <p:grpSpPr>
              <a:xfrm>
                <a:off x="4440600" y="1866600"/>
                <a:ext cx="2872080" cy="768960"/>
                <a:chOff x="4440600" y="1866600"/>
                <a:chExt cx="2872080" cy="768960"/>
              </a:xfrm>
            </p:grpSpPr>
            <p:sp>
              <p:nvSpPr>
                <p:cNvPr id="1234" name=""/>
                <p:cNvSpPr/>
                <p:nvPr/>
              </p:nvSpPr>
              <p:spPr>
                <a:xfrm>
                  <a:off x="4491720" y="1866600"/>
                  <a:ext cx="2769120" cy="76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Century Gothic"/>
                    </a:rPr>
                    <a:t>Assessment Criteri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4440600" y="1866600"/>
                  <a:ext cx="2872080" cy="76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6" name=""/>
              <p:cNvGrpSpPr/>
              <p:nvPr/>
            </p:nvGrpSpPr>
            <p:grpSpPr>
              <a:xfrm>
                <a:off x="689040" y="2635560"/>
                <a:ext cx="1707480" cy="954720"/>
                <a:chOff x="689040" y="2635560"/>
                <a:chExt cx="1707480" cy="954720"/>
              </a:xfrm>
            </p:grpSpPr>
            <p:sp>
              <p:nvSpPr>
                <p:cNvPr id="1237" name=""/>
                <p:cNvSpPr/>
                <p:nvPr/>
              </p:nvSpPr>
              <p:spPr>
                <a:xfrm>
                  <a:off x="740520" y="2635560"/>
                  <a:ext cx="1604160" cy="95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entury Gothic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689040" y="2635560"/>
                  <a:ext cx="1707480" cy="954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9" name=""/>
              <p:cNvGrpSpPr/>
              <p:nvPr/>
            </p:nvGrpSpPr>
            <p:grpSpPr>
              <a:xfrm>
                <a:off x="2396520" y="2635560"/>
                <a:ext cx="2044080" cy="954720"/>
                <a:chOff x="2396520" y="2635560"/>
                <a:chExt cx="2044080" cy="954720"/>
              </a:xfrm>
            </p:grpSpPr>
            <p:sp>
              <p:nvSpPr>
                <p:cNvPr id="1240" name=""/>
                <p:cNvSpPr/>
                <p:nvPr/>
              </p:nvSpPr>
              <p:spPr>
                <a:xfrm>
                  <a:off x="2447640" y="2635560"/>
                  <a:ext cx="1941120" cy="95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entury Gothic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>
                  <a:off x="2396520" y="2635560"/>
                  <a:ext cx="2044080" cy="954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2" name=""/>
              <p:cNvGrpSpPr/>
              <p:nvPr/>
            </p:nvGrpSpPr>
            <p:grpSpPr>
              <a:xfrm>
                <a:off x="4440600" y="2635560"/>
                <a:ext cx="2872080" cy="954720"/>
                <a:chOff x="4440600" y="2635560"/>
                <a:chExt cx="2872080" cy="954720"/>
              </a:xfrm>
            </p:grpSpPr>
            <p:sp>
              <p:nvSpPr>
                <p:cNvPr id="1243" name=""/>
                <p:cNvSpPr/>
                <p:nvPr/>
              </p:nvSpPr>
              <p:spPr>
                <a:xfrm>
                  <a:off x="4491720" y="2635560"/>
                  <a:ext cx="2769120" cy="95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entury Gothic"/>
                      <a:ea typeface="Times New Roman"/>
                    </a:rPr>
                    <a:t>Makes predictions about a story after looking at illustrations and hearing the titl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>
                  <a:off x="4440600" y="2635560"/>
                  <a:ext cx="2872080" cy="954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5" name=""/>
              <p:cNvGrpSpPr/>
              <p:nvPr/>
            </p:nvGrpSpPr>
            <p:grpSpPr>
              <a:xfrm>
                <a:off x="689040" y="3590640"/>
                <a:ext cx="1707480" cy="769320"/>
                <a:chOff x="689040" y="3590640"/>
                <a:chExt cx="1707480" cy="769320"/>
              </a:xfrm>
            </p:grpSpPr>
            <p:sp>
              <p:nvSpPr>
                <p:cNvPr id="1246" name=""/>
                <p:cNvSpPr/>
                <p:nvPr/>
              </p:nvSpPr>
              <p:spPr>
                <a:xfrm>
                  <a:off x="740520" y="3590640"/>
                  <a:ext cx="1604160" cy="76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entury Gothic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>
                  <a:off x="689040" y="3590640"/>
                  <a:ext cx="1707480" cy="76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8" name=""/>
              <p:cNvGrpSpPr/>
              <p:nvPr/>
            </p:nvGrpSpPr>
            <p:grpSpPr>
              <a:xfrm>
                <a:off x="2396520" y="3590640"/>
                <a:ext cx="2044080" cy="769320"/>
                <a:chOff x="2396520" y="3590640"/>
                <a:chExt cx="2044080" cy="769320"/>
              </a:xfrm>
            </p:grpSpPr>
            <p:sp>
              <p:nvSpPr>
                <p:cNvPr id="1249" name=""/>
                <p:cNvSpPr/>
                <p:nvPr/>
              </p:nvSpPr>
              <p:spPr>
                <a:xfrm>
                  <a:off x="2447640" y="3590640"/>
                  <a:ext cx="1941120" cy="76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entury Gothic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>
                  <a:off x="2396520" y="3590640"/>
                  <a:ext cx="2044080" cy="76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1" name=""/>
              <p:cNvGrpSpPr/>
              <p:nvPr/>
            </p:nvGrpSpPr>
            <p:grpSpPr>
              <a:xfrm>
                <a:off x="4440600" y="3590640"/>
                <a:ext cx="2872080" cy="769320"/>
                <a:chOff x="4440600" y="3590640"/>
                <a:chExt cx="2872080" cy="769320"/>
              </a:xfrm>
            </p:grpSpPr>
            <p:sp>
              <p:nvSpPr>
                <p:cNvPr id="1252" name=""/>
                <p:cNvSpPr/>
                <p:nvPr/>
              </p:nvSpPr>
              <p:spPr>
                <a:xfrm>
                  <a:off x="4491720" y="3590640"/>
                  <a:ext cx="2769120" cy="76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entury Gothic"/>
                      <a:ea typeface="Times New Roman"/>
                    </a:rPr>
                    <a:t>Draws pictures of animals that do belong in a category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3" name=""/>
                <p:cNvSpPr/>
                <p:nvPr/>
              </p:nvSpPr>
              <p:spPr>
                <a:xfrm>
                  <a:off x="4440600" y="3590640"/>
                  <a:ext cx="2872080" cy="76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4" name=""/>
              <p:cNvGrpSpPr/>
              <p:nvPr/>
            </p:nvGrpSpPr>
            <p:grpSpPr>
              <a:xfrm>
                <a:off x="689040" y="4359960"/>
                <a:ext cx="1707480" cy="769320"/>
                <a:chOff x="689040" y="4359960"/>
                <a:chExt cx="1707480" cy="769320"/>
              </a:xfrm>
            </p:grpSpPr>
            <p:sp>
              <p:nvSpPr>
                <p:cNvPr id="1255" name=""/>
                <p:cNvSpPr/>
                <p:nvPr/>
              </p:nvSpPr>
              <p:spPr>
                <a:xfrm>
                  <a:off x="740520" y="4359960"/>
                  <a:ext cx="1604160" cy="76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entury Gothic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6" name=""/>
                <p:cNvSpPr/>
                <p:nvPr/>
              </p:nvSpPr>
              <p:spPr>
                <a:xfrm>
                  <a:off x="689040" y="4359960"/>
                  <a:ext cx="1707480" cy="76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7" name=""/>
              <p:cNvGrpSpPr/>
              <p:nvPr/>
            </p:nvGrpSpPr>
            <p:grpSpPr>
              <a:xfrm>
                <a:off x="2396520" y="4359960"/>
                <a:ext cx="2044080" cy="769320"/>
                <a:chOff x="2396520" y="4359960"/>
                <a:chExt cx="2044080" cy="769320"/>
              </a:xfrm>
            </p:grpSpPr>
            <p:sp>
              <p:nvSpPr>
                <p:cNvPr id="1258" name=""/>
                <p:cNvSpPr/>
                <p:nvPr/>
              </p:nvSpPr>
              <p:spPr>
                <a:xfrm>
                  <a:off x="2447640" y="4359960"/>
                  <a:ext cx="1941120" cy="76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entury Gothic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9" name=""/>
                <p:cNvSpPr/>
                <p:nvPr/>
              </p:nvSpPr>
              <p:spPr>
                <a:xfrm>
                  <a:off x="2396520" y="4359960"/>
                  <a:ext cx="2044080" cy="76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0" name=""/>
              <p:cNvGrpSpPr/>
              <p:nvPr/>
            </p:nvGrpSpPr>
            <p:grpSpPr>
              <a:xfrm>
                <a:off x="4440600" y="4359960"/>
                <a:ext cx="2872080" cy="769320"/>
                <a:chOff x="4440600" y="4359960"/>
                <a:chExt cx="2872080" cy="769320"/>
              </a:xfrm>
            </p:grpSpPr>
            <p:sp>
              <p:nvSpPr>
                <p:cNvPr id="1261" name=""/>
                <p:cNvSpPr/>
                <p:nvPr/>
              </p:nvSpPr>
              <p:spPr>
                <a:xfrm>
                  <a:off x="4491720" y="4359960"/>
                  <a:ext cx="2769120" cy="76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entury Gothic"/>
                      <a:ea typeface="Times New Roman"/>
                    </a:rPr>
                    <a:t>Answers questions about what animals should be excluded from a category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>
                  <a:off x="4440600" y="4359960"/>
                  <a:ext cx="2872080" cy="76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3" name=""/>
              <p:cNvGrpSpPr/>
              <p:nvPr/>
            </p:nvGrpSpPr>
            <p:grpSpPr>
              <a:xfrm>
                <a:off x="689040" y="5129280"/>
                <a:ext cx="1707480" cy="768960"/>
                <a:chOff x="689040" y="5129280"/>
                <a:chExt cx="1707480" cy="768960"/>
              </a:xfrm>
            </p:grpSpPr>
            <p:sp>
              <p:nvSpPr>
                <p:cNvPr id="1264" name=""/>
                <p:cNvSpPr/>
                <p:nvPr/>
              </p:nvSpPr>
              <p:spPr>
                <a:xfrm>
                  <a:off x="740520" y="5129280"/>
                  <a:ext cx="1604160" cy="76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entury Gothic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689040" y="5129280"/>
                  <a:ext cx="1707480" cy="76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6" name=""/>
              <p:cNvGrpSpPr/>
              <p:nvPr/>
            </p:nvGrpSpPr>
            <p:grpSpPr>
              <a:xfrm>
                <a:off x="2396520" y="5129280"/>
                <a:ext cx="2044080" cy="768960"/>
                <a:chOff x="2396520" y="5129280"/>
                <a:chExt cx="2044080" cy="768960"/>
              </a:xfrm>
            </p:grpSpPr>
            <p:sp>
              <p:nvSpPr>
                <p:cNvPr id="1267" name=""/>
                <p:cNvSpPr/>
                <p:nvPr/>
              </p:nvSpPr>
              <p:spPr>
                <a:xfrm>
                  <a:off x="2447640" y="5129280"/>
                  <a:ext cx="1941120" cy="76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entury Gothic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2396520" y="5129280"/>
                  <a:ext cx="2044080" cy="76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9" name=""/>
              <p:cNvGrpSpPr/>
              <p:nvPr/>
            </p:nvGrpSpPr>
            <p:grpSpPr>
              <a:xfrm>
                <a:off x="4440600" y="5129280"/>
                <a:ext cx="2872080" cy="768960"/>
                <a:chOff x="4440600" y="5129280"/>
                <a:chExt cx="2872080" cy="768960"/>
              </a:xfrm>
            </p:grpSpPr>
            <p:sp>
              <p:nvSpPr>
                <p:cNvPr id="1270" name=""/>
                <p:cNvSpPr/>
                <p:nvPr/>
              </p:nvSpPr>
              <p:spPr>
                <a:xfrm>
                  <a:off x="4491720" y="5129280"/>
                  <a:ext cx="2769120" cy="76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entury Gothic"/>
                      <a:ea typeface="Times New Roman"/>
                    </a:rPr>
                    <a:t>Answers yes and no questions using physical signaling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4440600" y="5129280"/>
                  <a:ext cx="2872080" cy="768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2" name=""/>
              <p:cNvGrpSpPr/>
              <p:nvPr/>
            </p:nvGrpSpPr>
            <p:grpSpPr>
              <a:xfrm>
                <a:off x="689040" y="5898600"/>
                <a:ext cx="1707480" cy="954720"/>
                <a:chOff x="689040" y="5898600"/>
                <a:chExt cx="1707480" cy="954720"/>
              </a:xfrm>
            </p:grpSpPr>
            <p:sp>
              <p:nvSpPr>
                <p:cNvPr id="1273" name=""/>
                <p:cNvSpPr/>
                <p:nvPr/>
              </p:nvSpPr>
              <p:spPr>
                <a:xfrm>
                  <a:off x="740520" y="5898600"/>
                  <a:ext cx="1604160" cy="95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entury Gothic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689040" y="5898600"/>
                  <a:ext cx="1707480" cy="954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5" name=""/>
              <p:cNvGrpSpPr/>
              <p:nvPr/>
            </p:nvGrpSpPr>
            <p:grpSpPr>
              <a:xfrm>
                <a:off x="2396520" y="5898600"/>
                <a:ext cx="2044080" cy="954720"/>
                <a:chOff x="2396520" y="5898600"/>
                <a:chExt cx="2044080" cy="954720"/>
              </a:xfrm>
            </p:grpSpPr>
            <p:sp>
              <p:nvSpPr>
                <p:cNvPr id="1276" name=""/>
                <p:cNvSpPr/>
                <p:nvPr/>
              </p:nvSpPr>
              <p:spPr>
                <a:xfrm>
                  <a:off x="2447640" y="5898600"/>
                  <a:ext cx="1941120" cy="95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entury Gothic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2396520" y="5898600"/>
                  <a:ext cx="2044080" cy="954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8" name=""/>
              <p:cNvGrpSpPr/>
              <p:nvPr/>
            </p:nvGrpSpPr>
            <p:grpSpPr>
              <a:xfrm>
                <a:off x="4440600" y="5898600"/>
                <a:ext cx="2872080" cy="954720"/>
                <a:chOff x="4440600" y="5898600"/>
                <a:chExt cx="2872080" cy="954720"/>
              </a:xfrm>
            </p:grpSpPr>
            <p:sp>
              <p:nvSpPr>
                <p:cNvPr id="1279" name=""/>
                <p:cNvSpPr/>
                <p:nvPr/>
              </p:nvSpPr>
              <p:spPr>
                <a:xfrm>
                  <a:off x="4491720" y="5898600"/>
                  <a:ext cx="2769120" cy="954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entury Gothic"/>
                      <a:ea typeface="Times New Roman"/>
                    </a:rPr>
                    <a:t>Uses creative and critical thinking by contributing ideas during cooperative grouping.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0" name=""/>
                <p:cNvSpPr/>
                <p:nvPr/>
              </p:nvSpPr>
              <p:spPr>
                <a:xfrm>
                  <a:off x="4440600" y="5898600"/>
                  <a:ext cx="2872080" cy="954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81" name=""/>
            <p:cNvSpPr/>
            <p:nvPr/>
          </p:nvSpPr>
          <p:spPr>
            <a:xfrm>
              <a:off x="685800" y="1862280"/>
              <a:ext cx="6630840" cy="49957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 advTm="15000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"/>
          <p:cNvSpPr/>
          <p:nvPr/>
        </p:nvSpPr>
        <p:spPr>
          <a:xfrm>
            <a:off x="3240" y="-28440"/>
            <a:ext cx="9144000" cy="6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STUDENT BOOK-MAKING S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3" name=""/>
          <p:cNvGrpSpPr/>
          <p:nvPr/>
        </p:nvGrpSpPr>
        <p:grpSpPr>
          <a:xfrm>
            <a:off x="1371600" y="838080"/>
            <a:ext cx="5825880" cy="2305080"/>
            <a:chOff x="1371600" y="838080"/>
            <a:chExt cx="5825880" cy="2305080"/>
          </a:xfrm>
        </p:grpSpPr>
        <p:grpSp>
          <p:nvGrpSpPr>
            <p:cNvPr id="1284" name=""/>
            <p:cNvGrpSpPr/>
            <p:nvPr/>
          </p:nvGrpSpPr>
          <p:grpSpPr>
            <a:xfrm>
              <a:off x="1376280" y="842760"/>
              <a:ext cx="5816520" cy="2295360"/>
              <a:chOff x="1376280" y="842760"/>
              <a:chExt cx="5816520" cy="2295360"/>
            </a:xfrm>
          </p:grpSpPr>
          <p:grpSp>
            <p:nvGrpSpPr>
              <p:cNvPr id="1285" name=""/>
              <p:cNvGrpSpPr/>
              <p:nvPr/>
            </p:nvGrpSpPr>
            <p:grpSpPr>
              <a:xfrm>
                <a:off x="1376280" y="842760"/>
                <a:ext cx="2908440" cy="1593720"/>
                <a:chOff x="1376280" y="842760"/>
                <a:chExt cx="2908440" cy="1593720"/>
              </a:xfrm>
            </p:grpSpPr>
            <p:sp>
              <p:nvSpPr>
                <p:cNvPr id="1286" name=""/>
                <p:cNvSpPr/>
                <p:nvPr/>
              </p:nvSpPr>
              <p:spPr>
                <a:xfrm>
                  <a:off x="1444680" y="842760"/>
                  <a:ext cx="2771640" cy="159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entury Gothic"/>
                      <a:ea typeface="Times New Roman"/>
                    </a:rPr>
                    <a:t>(As a group, students have decided to use two animals.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7" name=""/>
                <p:cNvSpPr/>
                <p:nvPr/>
              </p:nvSpPr>
              <p:spPr>
                <a:xfrm>
                  <a:off x="1376280" y="842760"/>
                  <a:ext cx="2908440" cy="159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8" name=""/>
              <p:cNvGrpSpPr/>
              <p:nvPr/>
            </p:nvGrpSpPr>
            <p:grpSpPr>
              <a:xfrm>
                <a:off x="4284720" y="842760"/>
                <a:ext cx="2908080" cy="1593720"/>
                <a:chOff x="4284720" y="842760"/>
                <a:chExt cx="2908080" cy="1593720"/>
              </a:xfrm>
            </p:grpSpPr>
            <p:sp>
              <p:nvSpPr>
                <p:cNvPr id="1289" name=""/>
                <p:cNvSpPr/>
                <p:nvPr/>
              </p:nvSpPr>
              <p:spPr>
                <a:xfrm>
                  <a:off x="4352760" y="842760"/>
                  <a:ext cx="2772000" cy="159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entury Gothic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4284720" y="842760"/>
                  <a:ext cx="2908080" cy="159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1" name=""/>
              <p:cNvGrpSpPr/>
              <p:nvPr/>
            </p:nvGrpSpPr>
            <p:grpSpPr>
              <a:xfrm>
                <a:off x="1376280" y="2436480"/>
                <a:ext cx="2908440" cy="701640"/>
                <a:chOff x="1376280" y="2436480"/>
                <a:chExt cx="2908440" cy="701640"/>
              </a:xfrm>
            </p:grpSpPr>
            <p:sp>
              <p:nvSpPr>
                <p:cNvPr id="1292" name=""/>
                <p:cNvSpPr/>
                <p:nvPr/>
              </p:nvSpPr>
              <p:spPr>
                <a:xfrm>
                  <a:off x="1444680" y="2436480"/>
                  <a:ext cx="277164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 u="sng">
                      <a:solidFill>
                        <a:srgbClr val="000000"/>
                      </a:solidFill>
                      <a:uFillTx/>
                      <a:latin typeface="Century Gothic"/>
                    </a:rPr>
                    <a:t>Bears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Century Gothic"/>
                    </a:rPr>
                    <a:t> do </a:t>
                  </a:r>
                  <a:r>
                    <a:rPr b="1" lang="en-US" sz="1600" spc="-1" strike="noStrike" u="sng">
                      <a:solidFill>
                        <a:srgbClr val="000000"/>
                      </a:solidFill>
                      <a:uFillTx/>
                      <a:latin typeface="Century Gothic"/>
                    </a:rPr>
                    <a:t>sleep at night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Century Gothic"/>
                    </a:rPr>
                    <a:t>.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1376280" y="2436480"/>
                  <a:ext cx="290844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4" name=""/>
              <p:cNvGrpSpPr/>
              <p:nvPr/>
            </p:nvGrpSpPr>
            <p:grpSpPr>
              <a:xfrm>
                <a:off x="4284720" y="2436480"/>
                <a:ext cx="2908080" cy="701640"/>
                <a:chOff x="4284720" y="2436480"/>
                <a:chExt cx="2908080" cy="701640"/>
              </a:xfrm>
            </p:grpSpPr>
            <p:sp>
              <p:nvSpPr>
                <p:cNvPr id="1295" name=""/>
                <p:cNvSpPr/>
                <p:nvPr/>
              </p:nvSpPr>
              <p:spPr>
                <a:xfrm>
                  <a:off x="4352760" y="2436480"/>
                  <a:ext cx="277200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Century Gothic"/>
                      <a:ea typeface="Times New Roman"/>
                    </a:rPr>
                    <a:t>Bats do not.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>
                  <a:off x="4284720" y="2436480"/>
                  <a:ext cx="29080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97" name=""/>
            <p:cNvSpPr/>
            <p:nvPr/>
          </p:nvSpPr>
          <p:spPr>
            <a:xfrm>
              <a:off x="1371600" y="838080"/>
              <a:ext cx="5825880" cy="23050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8" name=""/>
          <p:cNvSpPr/>
          <p:nvPr/>
        </p:nvSpPr>
        <p:spPr>
          <a:xfrm>
            <a:off x="3240" y="3124080"/>
            <a:ext cx="9144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9" name=""/>
          <p:cNvGrpSpPr/>
          <p:nvPr/>
        </p:nvGrpSpPr>
        <p:grpSpPr>
          <a:xfrm>
            <a:off x="1371600" y="3657600"/>
            <a:ext cx="5825880" cy="2305080"/>
            <a:chOff x="1371600" y="3657600"/>
            <a:chExt cx="5825880" cy="2305080"/>
          </a:xfrm>
        </p:grpSpPr>
        <p:grpSp>
          <p:nvGrpSpPr>
            <p:cNvPr id="1300" name=""/>
            <p:cNvGrpSpPr/>
            <p:nvPr/>
          </p:nvGrpSpPr>
          <p:grpSpPr>
            <a:xfrm>
              <a:off x="1376280" y="3662280"/>
              <a:ext cx="5816520" cy="2295360"/>
              <a:chOff x="1376280" y="3662280"/>
              <a:chExt cx="5816520" cy="2295360"/>
            </a:xfrm>
          </p:grpSpPr>
          <p:grpSp>
            <p:nvGrpSpPr>
              <p:cNvPr id="1301" name=""/>
              <p:cNvGrpSpPr/>
              <p:nvPr/>
            </p:nvGrpSpPr>
            <p:grpSpPr>
              <a:xfrm>
                <a:off x="1376280" y="3662280"/>
                <a:ext cx="2908440" cy="1593720"/>
                <a:chOff x="1376280" y="3662280"/>
                <a:chExt cx="2908440" cy="1593720"/>
              </a:xfrm>
            </p:grpSpPr>
            <p:sp>
              <p:nvSpPr>
                <p:cNvPr id="1302" name=""/>
                <p:cNvSpPr/>
                <p:nvPr/>
              </p:nvSpPr>
              <p:spPr>
                <a:xfrm>
                  <a:off x="1444680" y="3662280"/>
                  <a:ext cx="2771640" cy="159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entury Gothic"/>
                      <a:ea typeface="Times New Roman"/>
                    </a:rPr>
                    <a:t>(teacher  makes last pages for book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3" name=""/>
                <p:cNvSpPr/>
                <p:nvPr/>
              </p:nvSpPr>
              <p:spPr>
                <a:xfrm>
                  <a:off x="1376280" y="3662280"/>
                  <a:ext cx="2908440" cy="159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4" name=""/>
              <p:cNvGrpSpPr/>
              <p:nvPr/>
            </p:nvGrpSpPr>
            <p:grpSpPr>
              <a:xfrm>
                <a:off x="4284720" y="3662280"/>
                <a:ext cx="2908080" cy="1593720"/>
                <a:chOff x="4284720" y="3662280"/>
                <a:chExt cx="2908080" cy="1593720"/>
              </a:xfrm>
            </p:grpSpPr>
            <p:sp>
              <p:nvSpPr>
                <p:cNvPr id="1305" name=""/>
                <p:cNvSpPr/>
                <p:nvPr/>
              </p:nvSpPr>
              <p:spPr>
                <a:xfrm>
                  <a:off x="4352760" y="3662280"/>
                  <a:ext cx="2772000" cy="159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entury Gothic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6" name=""/>
                <p:cNvSpPr/>
                <p:nvPr/>
              </p:nvSpPr>
              <p:spPr>
                <a:xfrm>
                  <a:off x="4284720" y="3662280"/>
                  <a:ext cx="2908080" cy="159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7" name=""/>
              <p:cNvGrpSpPr/>
              <p:nvPr/>
            </p:nvGrpSpPr>
            <p:grpSpPr>
              <a:xfrm>
                <a:off x="1376280" y="5256000"/>
                <a:ext cx="2908440" cy="701640"/>
                <a:chOff x="1376280" y="5256000"/>
                <a:chExt cx="2908440" cy="701640"/>
              </a:xfrm>
            </p:grpSpPr>
            <p:sp>
              <p:nvSpPr>
                <p:cNvPr id="1308" name=""/>
                <p:cNvSpPr/>
                <p:nvPr/>
              </p:nvSpPr>
              <p:spPr>
                <a:xfrm>
                  <a:off x="1444680" y="5256000"/>
                  <a:ext cx="277164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Century Gothic"/>
                    </a:rPr>
                    <a:t>But both bears and bat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9" name=""/>
                <p:cNvSpPr/>
                <p:nvPr/>
              </p:nvSpPr>
              <p:spPr>
                <a:xfrm>
                  <a:off x="1376280" y="5256000"/>
                  <a:ext cx="290844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0" name=""/>
              <p:cNvGrpSpPr/>
              <p:nvPr/>
            </p:nvGrpSpPr>
            <p:grpSpPr>
              <a:xfrm>
                <a:off x="4284720" y="5256000"/>
                <a:ext cx="2908080" cy="701640"/>
                <a:chOff x="4284720" y="5256000"/>
                <a:chExt cx="2908080" cy="701640"/>
              </a:xfrm>
            </p:grpSpPr>
            <p:sp>
              <p:nvSpPr>
                <p:cNvPr id="1311" name=""/>
                <p:cNvSpPr/>
                <p:nvPr/>
              </p:nvSpPr>
              <p:spPr>
                <a:xfrm>
                  <a:off x="4352760" y="5256000"/>
                  <a:ext cx="2772000" cy="70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Century Gothic"/>
                      <a:ea typeface="Times New Roman"/>
                    </a:rPr>
                    <a:t>like to sleep in a cave.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>
                  <a:off x="4284720" y="5256000"/>
                  <a:ext cx="2908080" cy="701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13" name=""/>
            <p:cNvSpPr/>
            <p:nvPr/>
          </p:nvSpPr>
          <p:spPr>
            <a:xfrm>
              <a:off x="1371600" y="3657600"/>
              <a:ext cx="5825880" cy="23050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4" name=""/>
          <p:cNvSpPr/>
          <p:nvPr/>
        </p:nvSpPr>
        <p:spPr>
          <a:xfrm>
            <a:off x="3240" y="62467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"/>
          <p:cNvSpPr/>
          <p:nvPr/>
        </p:nvSpPr>
        <p:spPr>
          <a:xfrm>
            <a:off x="3240" y="-1461960"/>
            <a:ext cx="914400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entury Gothic"/>
              </a:rPr>
              <a:t>UNIT ASSESSMENT CHART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(p. 1 of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Student Name__________________________________________  Assessment date______________________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3240" y="-426960"/>
            <a:ext cx="9144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457200" y="380880"/>
            <a:ext cx="8690040" cy="170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Directions: Do this together in small groups or individual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Read the criteria to the student that you will be assessing and give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Let student predict what he expects to ear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Let the student color a face in the PREDICTED column one for each ro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Assess by highlighting a face in column YOU ARE GREAT or YOU NEED PRACT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When choosing YOU NEED PRACTICE make a suggestion of a method so he can impro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8" name=""/>
          <p:cNvGrpSpPr/>
          <p:nvPr/>
        </p:nvGrpSpPr>
        <p:grpSpPr>
          <a:xfrm>
            <a:off x="380880" y="1905120"/>
            <a:ext cx="7848720" cy="4647960"/>
            <a:chOff x="380880" y="1905120"/>
            <a:chExt cx="7848720" cy="4647960"/>
          </a:xfrm>
        </p:grpSpPr>
        <p:grpSp>
          <p:nvGrpSpPr>
            <p:cNvPr id="1319" name=""/>
            <p:cNvGrpSpPr/>
            <p:nvPr/>
          </p:nvGrpSpPr>
          <p:grpSpPr>
            <a:xfrm>
              <a:off x="384840" y="1908360"/>
              <a:ext cx="7839720" cy="4640400"/>
              <a:chOff x="384840" y="1908360"/>
              <a:chExt cx="7839720" cy="4640400"/>
            </a:xfrm>
          </p:grpSpPr>
          <p:grpSp>
            <p:nvGrpSpPr>
              <p:cNvPr id="1320" name=""/>
              <p:cNvGrpSpPr/>
              <p:nvPr/>
            </p:nvGrpSpPr>
            <p:grpSpPr>
              <a:xfrm>
                <a:off x="384840" y="1908360"/>
                <a:ext cx="1567800" cy="1070640"/>
                <a:chOff x="384840" y="1908360"/>
                <a:chExt cx="1567800" cy="1070640"/>
              </a:xfrm>
            </p:grpSpPr>
            <p:sp>
              <p:nvSpPr>
                <p:cNvPr id="1321" name=""/>
                <p:cNvSpPr/>
                <p:nvPr/>
              </p:nvSpPr>
              <p:spPr>
                <a:xfrm>
                  <a:off x="443880" y="1908360"/>
                  <a:ext cx="1449000" cy="10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entury Gothic"/>
                      <a:ea typeface="Times New Roman"/>
                    </a:rPr>
                    <a:t>This is what I predic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2" name=""/>
                <p:cNvSpPr/>
                <p:nvPr/>
              </p:nvSpPr>
              <p:spPr>
                <a:xfrm>
                  <a:off x="384840" y="1908360"/>
                  <a:ext cx="1567800" cy="10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3" name=""/>
              <p:cNvGrpSpPr/>
              <p:nvPr/>
            </p:nvGrpSpPr>
            <p:grpSpPr>
              <a:xfrm>
                <a:off x="1952640" y="1908360"/>
                <a:ext cx="2540520" cy="1070640"/>
                <a:chOff x="1952640" y="1908360"/>
                <a:chExt cx="2540520" cy="1070640"/>
              </a:xfrm>
            </p:grpSpPr>
            <p:sp>
              <p:nvSpPr>
                <p:cNvPr id="1324" name=""/>
                <p:cNvSpPr/>
                <p:nvPr/>
              </p:nvSpPr>
              <p:spPr>
                <a:xfrm>
                  <a:off x="2011680" y="1908360"/>
                  <a:ext cx="2421720" cy="10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entury Gothic"/>
                      <a:ea typeface="Times New Roman"/>
                    </a:rPr>
                    <a:t>This is what you had to do: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1952640" y="1908360"/>
                  <a:ext cx="2540520" cy="10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6" name=""/>
              <p:cNvGrpSpPr/>
              <p:nvPr/>
            </p:nvGrpSpPr>
            <p:grpSpPr>
              <a:xfrm>
                <a:off x="4493160" y="1908360"/>
                <a:ext cx="1207440" cy="1110240"/>
                <a:chOff x="4493160" y="1908360"/>
                <a:chExt cx="1207440" cy="1110240"/>
              </a:xfrm>
            </p:grpSpPr>
            <p:grpSp>
              <p:nvGrpSpPr>
                <p:cNvPr id="1327" name=""/>
                <p:cNvGrpSpPr/>
                <p:nvPr/>
              </p:nvGrpSpPr>
              <p:grpSpPr>
                <a:xfrm>
                  <a:off x="4553640" y="1908360"/>
                  <a:ext cx="1087560" cy="1110240"/>
                  <a:chOff x="4553640" y="1908360"/>
                  <a:chExt cx="1087560" cy="1110240"/>
                </a:xfrm>
              </p:grpSpPr>
              <p:sp>
                <p:nvSpPr>
                  <p:cNvPr id="1328" name=""/>
                  <p:cNvSpPr/>
                  <p:nvPr/>
                </p:nvSpPr>
                <p:spPr>
                  <a:xfrm>
                    <a:off x="4553640" y="1908360"/>
                    <a:ext cx="1087560" cy="426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Century Gothic"/>
                      </a:rPr>
                      <a:t>YOU ARE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9" name=""/>
                  <p:cNvSpPr/>
                  <p:nvPr/>
                </p:nvSpPr>
                <p:spPr>
                  <a:xfrm>
                    <a:off x="4553640" y="2348640"/>
                    <a:ext cx="1087560" cy="669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Century Gothic"/>
                      </a:rPr>
                      <a:t>GREAT!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30" name=""/>
                <p:cNvSpPr/>
                <p:nvPr/>
              </p:nvSpPr>
              <p:spPr>
                <a:xfrm>
                  <a:off x="4493160" y="1908360"/>
                  <a:ext cx="1207440" cy="10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1" name=""/>
              <p:cNvGrpSpPr/>
              <p:nvPr/>
            </p:nvGrpSpPr>
            <p:grpSpPr>
              <a:xfrm>
                <a:off x="5700960" y="1908360"/>
                <a:ext cx="1158120" cy="1070640"/>
                <a:chOff x="5700960" y="1908360"/>
                <a:chExt cx="1158120" cy="1070640"/>
              </a:xfrm>
            </p:grpSpPr>
            <p:sp>
              <p:nvSpPr>
                <p:cNvPr id="1332" name=""/>
                <p:cNvSpPr/>
                <p:nvPr/>
              </p:nvSpPr>
              <p:spPr>
                <a:xfrm>
                  <a:off x="5759640" y="1908360"/>
                  <a:ext cx="1039680" cy="10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entury Gothic"/>
                      <a:ea typeface="Times New Roman"/>
                    </a:rPr>
                    <a:t>YOU NEED PRACTIC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>
                  <a:off x="5700960" y="1908360"/>
                  <a:ext cx="1158120" cy="10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4" name=""/>
              <p:cNvGrpSpPr/>
              <p:nvPr/>
            </p:nvGrpSpPr>
            <p:grpSpPr>
              <a:xfrm>
                <a:off x="6859080" y="1908360"/>
                <a:ext cx="1365480" cy="1070640"/>
                <a:chOff x="6859080" y="1908360"/>
                <a:chExt cx="1365480" cy="1070640"/>
              </a:xfrm>
            </p:grpSpPr>
            <p:sp>
              <p:nvSpPr>
                <p:cNvPr id="1335" name=""/>
                <p:cNvSpPr/>
                <p:nvPr/>
              </p:nvSpPr>
              <p:spPr>
                <a:xfrm>
                  <a:off x="6917760" y="1908360"/>
                  <a:ext cx="1247400" cy="107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Century Gothic"/>
                      <a:ea typeface="Times New Roman"/>
                    </a:rPr>
                    <a:t>SUGGESTED PRACTIC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>
                  <a:off x="6859080" y="1908360"/>
                  <a:ext cx="1365480" cy="1070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7" name=""/>
              <p:cNvGrpSpPr/>
              <p:nvPr/>
            </p:nvGrpSpPr>
            <p:grpSpPr>
              <a:xfrm>
                <a:off x="384840" y="2979000"/>
                <a:ext cx="1567800" cy="1189800"/>
                <a:chOff x="384840" y="2979000"/>
                <a:chExt cx="1567800" cy="1189800"/>
              </a:xfrm>
            </p:grpSpPr>
            <p:sp>
              <p:nvSpPr>
                <p:cNvPr id="1338" name=""/>
                <p:cNvSpPr/>
                <p:nvPr/>
              </p:nvSpPr>
              <p:spPr>
                <a:xfrm>
                  <a:off x="443880" y="2979000"/>
                  <a:ext cx="1449000" cy="11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☺</a:t>
                  </a:r>
                  <a:r>
                    <a:rPr b="1" lang="en-US" sz="3600" spc="-1" strike="noStrike">
                      <a:solidFill>
                        <a:srgbClr val="000000"/>
                      </a:solidFill>
                      <a:latin typeface="Almanac MT"/>
                      <a:ea typeface="Almanac MT"/>
                    </a:rPr>
                    <a:t>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>
                  <a:off x="384840" y="2979000"/>
                  <a:ext cx="1567800" cy="1189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0" name=""/>
              <p:cNvGrpSpPr/>
              <p:nvPr/>
            </p:nvGrpSpPr>
            <p:grpSpPr>
              <a:xfrm>
                <a:off x="1952640" y="2979000"/>
                <a:ext cx="2540520" cy="1189800"/>
                <a:chOff x="1952640" y="2979000"/>
                <a:chExt cx="2540520" cy="1189800"/>
              </a:xfrm>
            </p:grpSpPr>
            <p:sp>
              <p:nvSpPr>
                <p:cNvPr id="1341" name=""/>
                <p:cNvSpPr/>
                <p:nvPr/>
              </p:nvSpPr>
              <p:spPr>
                <a:xfrm>
                  <a:off x="2011680" y="2979000"/>
                  <a:ext cx="2421720" cy="11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entury Gothic"/>
                      <a:ea typeface="Times New Roman"/>
                    </a:rPr>
                    <a:t>Follow directions for book making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entury Gothic"/>
                      <a:ea typeface="Times New Roman"/>
                    </a:rPr>
                    <a:t>Drawing pictur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2" name=""/>
                <p:cNvSpPr/>
                <p:nvPr/>
              </p:nvSpPr>
              <p:spPr>
                <a:xfrm>
                  <a:off x="1952640" y="2979000"/>
                  <a:ext cx="2540520" cy="1189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3" name=""/>
              <p:cNvGrpSpPr/>
              <p:nvPr/>
            </p:nvGrpSpPr>
            <p:grpSpPr>
              <a:xfrm>
                <a:off x="4493160" y="2979000"/>
                <a:ext cx="1207440" cy="1189800"/>
                <a:chOff x="4493160" y="2979000"/>
                <a:chExt cx="1207440" cy="1189800"/>
              </a:xfrm>
            </p:grpSpPr>
            <p:sp>
              <p:nvSpPr>
                <p:cNvPr id="1344" name=""/>
                <p:cNvSpPr/>
                <p:nvPr/>
              </p:nvSpPr>
              <p:spPr>
                <a:xfrm>
                  <a:off x="4551840" y="2979000"/>
                  <a:ext cx="1089000" cy="11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☺</a:t>
                  </a:r>
                  <a:endParaRPr b="0" lang="en-US" sz="7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>
                  <a:off x="4493160" y="2979000"/>
                  <a:ext cx="1207440" cy="1189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6" name=""/>
              <p:cNvGrpSpPr/>
              <p:nvPr/>
            </p:nvGrpSpPr>
            <p:grpSpPr>
              <a:xfrm>
                <a:off x="5700960" y="2979000"/>
                <a:ext cx="1158120" cy="1189800"/>
                <a:chOff x="5700960" y="2979000"/>
                <a:chExt cx="1158120" cy="1189800"/>
              </a:xfrm>
            </p:grpSpPr>
            <p:sp>
              <p:nvSpPr>
                <p:cNvPr id="1347" name=""/>
                <p:cNvSpPr/>
                <p:nvPr/>
              </p:nvSpPr>
              <p:spPr>
                <a:xfrm>
                  <a:off x="5759640" y="2979000"/>
                  <a:ext cx="1039680" cy="11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800" spc="-1" strike="noStrike">
                      <a:solidFill>
                        <a:srgbClr val="000000"/>
                      </a:solidFill>
                      <a:latin typeface="Almanac MT"/>
                      <a:ea typeface="Almanac MT"/>
                    </a:rPr>
                    <a:t></a:t>
                  </a:r>
                  <a:endParaRPr b="0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8" name=""/>
                <p:cNvSpPr/>
                <p:nvPr/>
              </p:nvSpPr>
              <p:spPr>
                <a:xfrm>
                  <a:off x="5700960" y="2979000"/>
                  <a:ext cx="1158120" cy="1189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9" name=""/>
              <p:cNvGrpSpPr/>
              <p:nvPr/>
            </p:nvGrpSpPr>
            <p:grpSpPr>
              <a:xfrm>
                <a:off x="6859080" y="2979000"/>
                <a:ext cx="1365480" cy="1189800"/>
                <a:chOff x="6859080" y="2979000"/>
                <a:chExt cx="1365480" cy="1189800"/>
              </a:xfrm>
            </p:grpSpPr>
            <p:sp>
              <p:nvSpPr>
                <p:cNvPr id="1350" name=""/>
                <p:cNvSpPr/>
                <p:nvPr/>
              </p:nvSpPr>
              <p:spPr>
                <a:xfrm>
                  <a:off x="6917760" y="2979000"/>
                  <a:ext cx="1247400" cy="11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entury Gothic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6859080" y="2979000"/>
                  <a:ext cx="1365480" cy="1189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2" name=""/>
              <p:cNvGrpSpPr/>
              <p:nvPr/>
            </p:nvGrpSpPr>
            <p:grpSpPr>
              <a:xfrm>
                <a:off x="384840" y="4169160"/>
                <a:ext cx="1567800" cy="1189800"/>
                <a:chOff x="384840" y="4169160"/>
                <a:chExt cx="1567800" cy="1189800"/>
              </a:xfrm>
            </p:grpSpPr>
            <p:sp>
              <p:nvSpPr>
                <p:cNvPr id="1353" name=""/>
                <p:cNvSpPr/>
                <p:nvPr/>
              </p:nvSpPr>
              <p:spPr>
                <a:xfrm>
                  <a:off x="443880" y="4169160"/>
                  <a:ext cx="1449000" cy="11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☺</a:t>
                  </a:r>
                  <a:r>
                    <a:rPr b="1" lang="en-US" sz="3600" spc="-1" strike="noStrike">
                      <a:solidFill>
                        <a:srgbClr val="000000"/>
                      </a:solidFill>
                      <a:latin typeface="Almanac MT"/>
                      <a:ea typeface="Almanac MT"/>
                    </a:rPr>
                    <a:t>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4" name=""/>
                <p:cNvSpPr/>
                <p:nvPr/>
              </p:nvSpPr>
              <p:spPr>
                <a:xfrm>
                  <a:off x="384840" y="4169160"/>
                  <a:ext cx="1567800" cy="1189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5" name=""/>
              <p:cNvGrpSpPr/>
              <p:nvPr/>
            </p:nvGrpSpPr>
            <p:grpSpPr>
              <a:xfrm>
                <a:off x="1952640" y="4169160"/>
                <a:ext cx="2540520" cy="1189800"/>
                <a:chOff x="1952640" y="4169160"/>
                <a:chExt cx="2540520" cy="1189800"/>
              </a:xfrm>
            </p:grpSpPr>
            <p:sp>
              <p:nvSpPr>
                <p:cNvPr id="1356" name=""/>
                <p:cNvSpPr/>
                <p:nvPr/>
              </p:nvSpPr>
              <p:spPr>
                <a:xfrm>
                  <a:off x="2011680" y="4169160"/>
                  <a:ext cx="2421720" cy="11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entury Gothic"/>
                      <a:ea typeface="Times New Roman"/>
                    </a:rPr>
                    <a:t>Follow direction for book making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entury Gothic"/>
                      <a:ea typeface="Times New Roman"/>
                    </a:rPr>
                    <a:t>Telling the teacher what to write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>
                  <a:off x="1952640" y="4169160"/>
                  <a:ext cx="2540520" cy="1189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8" name=""/>
              <p:cNvGrpSpPr/>
              <p:nvPr/>
            </p:nvGrpSpPr>
            <p:grpSpPr>
              <a:xfrm>
                <a:off x="4493160" y="4169160"/>
                <a:ext cx="1207440" cy="1189800"/>
                <a:chOff x="4493160" y="4169160"/>
                <a:chExt cx="1207440" cy="1189800"/>
              </a:xfrm>
            </p:grpSpPr>
            <p:sp>
              <p:nvSpPr>
                <p:cNvPr id="1359" name=""/>
                <p:cNvSpPr/>
                <p:nvPr/>
              </p:nvSpPr>
              <p:spPr>
                <a:xfrm>
                  <a:off x="4551840" y="4169160"/>
                  <a:ext cx="1089000" cy="11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☺</a:t>
                  </a:r>
                  <a:endParaRPr b="0" lang="en-US" sz="7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>
                  <a:off x="4493160" y="4169160"/>
                  <a:ext cx="1207440" cy="1189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1" name=""/>
              <p:cNvGrpSpPr/>
              <p:nvPr/>
            </p:nvGrpSpPr>
            <p:grpSpPr>
              <a:xfrm>
                <a:off x="5700960" y="4169160"/>
                <a:ext cx="1158120" cy="1189800"/>
                <a:chOff x="5700960" y="4169160"/>
                <a:chExt cx="1158120" cy="1189800"/>
              </a:xfrm>
            </p:grpSpPr>
            <p:sp>
              <p:nvSpPr>
                <p:cNvPr id="1362" name=""/>
                <p:cNvSpPr/>
                <p:nvPr/>
              </p:nvSpPr>
              <p:spPr>
                <a:xfrm>
                  <a:off x="5759640" y="4169160"/>
                  <a:ext cx="1039680" cy="11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800" spc="-1" strike="noStrike">
                      <a:solidFill>
                        <a:srgbClr val="000000"/>
                      </a:solidFill>
                      <a:latin typeface="Almanac MT"/>
                      <a:ea typeface="Almanac MT"/>
                    </a:rPr>
                    <a:t></a:t>
                  </a:r>
                  <a:endParaRPr b="0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3" name=""/>
                <p:cNvSpPr/>
                <p:nvPr/>
              </p:nvSpPr>
              <p:spPr>
                <a:xfrm>
                  <a:off x="5700960" y="4169160"/>
                  <a:ext cx="1158120" cy="1189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4" name=""/>
              <p:cNvGrpSpPr/>
              <p:nvPr/>
            </p:nvGrpSpPr>
            <p:grpSpPr>
              <a:xfrm>
                <a:off x="6859080" y="4169160"/>
                <a:ext cx="1365480" cy="1189800"/>
                <a:chOff x="6859080" y="4169160"/>
                <a:chExt cx="1365480" cy="1189800"/>
              </a:xfrm>
            </p:grpSpPr>
            <p:sp>
              <p:nvSpPr>
                <p:cNvPr id="1365" name=""/>
                <p:cNvSpPr/>
                <p:nvPr/>
              </p:nvSpPr>
              <p:spPr>
                <a:xfrm>
                  <a:off x="6917760" y="4169160"/>
                  <a:ext cx="1247400" cy="11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entury Gothic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6" name=""/>
                <p:cNvSpPr/>
                <p:nvPr/>
              </p:nvSpPr>
              <p:spPr>
                <a:xfrm>
                  <a:off x="6859080" y="4169160"/>
                  <a:ext cx="1365480" cy="1189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7" name=""/>
              <p:cNvGrpSpPr/>
              <p:nvPr/>
            </p:nvGrpSpPr>
            <p:grpSpPr>
              <a:xfrm>
                <a:off x="384840" y="5358960"/>
                <a:ext cx="1567800" cy="1189800"/>
                <a:chOff x="384840" y="5358960"/>
                <a:chExt cx="1567800" cy="1189800"/>
              </a:xfrm>
            </p:grpSpPr>
            <p:sp>
              <p:nvSpPr>
                <p:cNvPr id="1368" name=""/>
                <p:cNvSpPr/>
                <p:nvPr/>
              </p:nvSpPr>
              <p:spPr>
                <a:xfrm>
                  <a:off x="443880" y="5358960"/>
                  <a:ext cx="1449000" cy="11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☺</a:t>
                  </a:r>
                  <a:r>
                    <a:rPr b="1" lang="en-US" sz="3600" spc="-1" strike="noStrike">
                      <a:solidFill>
                        <a:srgbClr val="000000"/>
                      </a:solidFill>
                      <a:latin typeface="Almanac MT"/>
                      <a:ea typeface="Almanac MT"/>
                    </a:rPr>
                    <a:t>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9" name=""/>
                <p:cNvSpPr/>
                <p:nvPr/>
              </p:nvSpPr>
              <p:spPr>
                <a:xfrm>
                  <a:off x="384840" y="5358960"/>
                  <a:ext cx="1567800" cy="1189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0" name=""/>
              <p:cNvGrpSpPr/>
              <p:nvPr/>
            </p:nvGrpSpPr>
            <p:grpSpPr>
              <a:xfrm>
                <a:off x="1952640" y="5358960"/>
                <a:ext cx="2540520" cy="1189800"/>
                <a:chOff x="1952640" y="5358960"/>
                <a:chExt cx="2540520" cy="1189800"/>
              </a:xfrm>
            </p:grpSpPr>
            <p:sp>
              <p:nvSpPr>
                <p:cNvPr id="1371" name=""/>
                <p:cNvSpPr/>
                <p:nvPr/>
              </p:nvSpPr>
              <p:spPr>
                <a:xfrm>
                  <a:off x="2011680" y="5358960"/>
                  <a:ext cx="2421720" cy="11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entury Gothic"/>
                      <a:ea typeface="Times New Roman"/>
                    </a:rPr>
                    <a:t>Organize the information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entury Gothic"/>
                      <a:ea typeface="Times New Roman"/>
                    </a:rPr>
                    <a:t>Draws or gives the idea for an animal for the group descrip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>
                  <a:off x="1952640" y="5358960"/>
                  <a:ext cx="2540520" cy="1189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3" name=""/>
              <p:cNvGrpSpPr/>
              <p:nvPr/>
            </p:nvGrpSpPr>
            <p:grpSpPr>
              <a:xfrm>
                <a:off x="4493160" y="5358960"/>
                <a:ext cx="1207440" cy="1189800"/>
                <a:chOff x="4493160" y="5358960"/>
                <a:chExt cx="1207440" cy="1189800"/>
              </a:xfrm>
            </p:grpSpPr>
            <p:sp>
              <p:nvSpPr>
                <p:cNvPr id="1374" name=""/>
                <p:cNvSpPr/>
                <p:nvPr/>
              </p:nvSpPr>
              <p:spPr>
                <a:xfrm>
                  <a:off x="4551840" y="5358960"/>
                  <a:ext cx="1089000" cy="11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☺</a:t>
                  </a:r>
                  <a:endParaRPr b="0" lang="en-US" sz="7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5" name=""/>
                <p:cNvSpPr/>
                <p:nvPr/>
              </p:nvSpPr>
              <p:spPr>
                <a:xfrm>
                  <a:off x="4493160" y="5358960"/>
                  <a:ext cx="1207440" cy="1189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6" name=""/>
              <p:cNvGrpSpPr/>
              <p:nvPr/>
            </p:nvGrpSpPr>
            <p:grpSpPr>
              <a:xfrm>
                <a:off x="5700960" y="5358960"/>
                <a:ext cx="1158120" cy="1189800"/>
                <a:chOff x="5700960" y="5358960"/>
                <a:chExt cx="1158120" cy="1189800"/>
              </a:xfrm>
            </p:grpSpPr>
            <p:sp>
              <p:nvSpPr>
                <p:cNvPr id="1377" name=""/>
                <p:cNvSpPr/>
                <p:nvPr/>
              </p:nvSpPr>
              <p:spPr>
                <a:xfrm>
                  <a:off x="5759640" y="5358960"/>
                  <a:ext cx="1039680" cy="11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800" spc="-1" strike="noStrike">
                      <a:solidFill>
                        <a:srgbClr val="000000"/>
                      </a:solidFill>
                      <a:latin typeface="Almanac MT"/>
                      <a:ea typeface="Almanac MT"/>
                    </a:rPr>
                    <a:t></a:t>
                  </a:r>
                  <a:endParaRPr b="0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5700960" y="5358960"/>
                  <a:ext cx="1158120" cy="1189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9" name=""/>
              <p:cNvGrpSpPr/>
              <p:nvPr/>
            </p:nvGrpSpPr>
            <p:grpSpPr>
              <a:xfrm>
                <a:off x="6859080" y="5358960"/>
                <a:ext cx="1365480" cy="1189800"/>
                <a:chOff x="6859080" y="5358960"/>
                <a:chExt cx="1365480" cy="1189800"/>
              </a:xfrm>
            </p:grpSpPr>
            <p:sp>
              <p:nvSpPr>
                <p:cNvPr id="1380" name=""/>
                <p:cNvSpPr/>
                <p:nvPr/>
              </p:nvSpPr>
              <p:spPr>
                <a:xfrm>
                  <a:off x="6917760" y="5358960"/>
                  <a:ext cx="1247400" cy="118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entury Gothic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1" name=""/>
                <p:cNvSpPr/>
                <p:nvPr/>
              </p:nvSpPr>
              <p:spPr>
                <a:xfrm>
                  <a:off x="6859080" y="5358960"/>
                  <a:ext cx="1365480" cy="1189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82" name=""/>
            <p:cNvSpPr/>
            <p:nvPr/>
          </p:nvSpPr>
          <p:spPr>
            <a:xfrm>
              <a:off x="380880" y="1905120"/>
              <a:ext cx="7848720" cy="46479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 advTm="15000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"/>
          <p:cNvSpPr/>
          <p:nvPr/>
        </p:nvSpPr>
        <p:spPr>
          <a:xfrm>
            <a:off x="3240" y="-4777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4" name=""/>
          <p:cNvGrpSpPr/>
          <p:nvPr/>
        </p:nvGrpSpPr>
        <p:grpSpPr>
          <a:xfrm>
            <a:off x="457200" y="304920"/>
            <a:ext cx="8053560" cy="531720"/>
            <a:chOff x="457200" y="304920"/>
            <a:chExt cx="8053560" cy="531720"/>
          </a:xfrm>
        </p:grpSpPr>
        <p:grpSp>
          <p:nvGrpSpPr>
            <p:cNvPr id="1385" name=""/>
            <p:cNvGrpSpPr/>
            <p:nvPr/>
          </p:nvGrpSpPr>
          <p:grpSpPr>
            <a:xfrm>
              <a:off x="461520" y="308520"/>
              <a:ext cx="8044200" cy="524160"/>
              <a:chOff x="461520" y="308520"/>
              <a:chExt cx="8044200" cy="524160"/>
            </a:xfrm>
          </p:grpSpPr>
          <p:sp>
            <p:nvSpPr>
              <p:cNvPr id="1386" name=""/>
              <p:cNvSpPr/>
              <p:nvPr/>
            </p:nvSpPr>
            <p:spPr>
              <a:xfrm>
                <a:off x="525960" y="308520"/>
                <a:ext cx="7914960" cy="524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Century Gothic"/>
                    <a:ea typeface="Times New Roman"/>
                  </a:rPr>
                  <a:t>UNIT ASSESSMENT CHART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Century Gothic"/>
                    <a:ea typeface="Times New Roman"/>
                  </a:rPr>
                  <a:t> (p. 2 of 2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461520" y="308520"/>
                <a:ext cx="8044200" cy="5241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8" name=""/>
            <p:cNvSpPr/>
            <p:nvPr/>
          </p:nvSpPr>
          <p:spPr>
            <a:xfrm>
              <a:off x="457200" y="304920"/>
              <a:ext cx="8053560" cy="5317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9" name=""/>
          <p:cNvSpPr/>
          <p:nvPr/>
        </p:nvSpPr>
        <p:spPr>
          <a:xfrm>
            <a:off x="3240" y="83664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0" name=""/>
          <p:cNvGrpSpPr/>
          <p:nvPr/>
        </p:nvGrpSpPr>
        <p:grpSpPr>
          <a:xfrm>
            <a:off x="914400" y="1523880"/>
            <a:ext cx="7467480" cy="3886200"/>
            <a:chOff x="914400" y="1523880"/>
            <a:chExt cx="7467480" cy="3886200"/>
          </a:xfrm>
        </p:grpSpPr>
        <p:grpSp>
          <p:nvGrpSpPr>
            <p:cNvPr id="1391" name=""/>
            <p:cNvGrpSpPr/>
            <p:nvPr/>
          </p:nvGrpSpPr>
          <p:grpSpPr>
            <a:xfrm>
              <a:off x="918000" y="1527480"/>
              <a:ext cx="7459200" cy="3877920"/>
              <a:chOff x="918000" y="1527480"/>
              <a:chExt cx="7459200" cy="3877920"/>
            </a:xfrm>
          </p:grpSpPr>
          <p:grpSp>
            <p:nvGrpSpPr>
              <p:cNvPr id="1392" name=""/>
              <p:cNvGrpSpPr/>
              <p:nvPr/>
            </p:nvGrpSpPr>
            <p:grpSpPr>
              <a:xfrm>
                <a:off x="918000" y="1527480"/>
                <a:ext cx="1491840" cy="1292760"/>
                <a:chOff x="918000" y="1527480"/>
                <a:chExt cx="1491840" cy="1292760"/>
              </a:xfrm>
            </p:grpSpPr>
            <p:sp>
              <p:nvSpPr>
                <p:cNvPr id="1393" name=""/>
                <p:cNvSpPr/>
                <p:nvPr/>
              </p:nvSpPr>
              <p:spPr>
                <a:xfrm>
                  <a:off x="974160" y="1527480"/>
                  <a:ext cx="1378800" cy="129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☺</a:t>
                  </a:r>
                  <a:r>
                    <a:rPr b="0" lang="en-US" sz="4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</a:t>
                  </a:r>
                  <a:r>
                    <a:rPr b="1" lang="en-US" sz="3600" spc="-1" strike="noStrike">
                      <a:solidFill>
                        <a:srgbClr val="000000"/>
                      </a:solidFill>
                      <a:latin typeface="Almanac MT"/>
                      <a:ea typeface="Almanac MT"/>
                    </a:rPr>
                    <a:t>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>
                  <a:off x="918000" y="1527480"/>
                  <a:ext cx="1491840" cy="129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5" name=""/>
              <p:cNvGrpSpPr/>
              <p:nvPr/>
            </p:nvGrpSpPr>
            <p:grpSpPr>
              <a:xfrm>
                <a:off x="2409840" y="1527480"/>
                <a:ext cx="2417040" cy="1292760"/>
                <a:chOff x="2409840" y="1527480"/>
                <a:chExt cx="2417040" cy="1292760"/>
              </a:xfrm>
            </p:grpSpPr>
            <p:sp>
              <p:nvSpPr>
                <p:cNvPr id="1396" name=""/>
                <p:cNvSpPr/>
                <p:nvPr/>
              </p:nvSpPr>
              <p:spPr>
                <a:xfrm>
                  <a:off x="2466000" y="1527480"/>
                  <a:ext cx="2304000" cy="129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entury Gothic"/>
                      <a:ea typeface="Times New Roman"/>
                    </a:rPr>
                    <a:t>Cooperates in group contributing ide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entury Gothic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7" name=""/>
                <p:cNvSpPr/>
                <p:nvPr/>
              </p:nvSpPr>
              <p:spPr>
                <a:xfrm>
                  <a:off x="2409840" y="1527480"/>
                  <a:ext cx="2417040" cy="129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8" name=""/>
              <p:cNvGrpSpPr/>
              <p:nvPr/>
            </p:nvGrpSpPr>
            <p:grpSpPr>
              <a:xfrm>
                <a:off x="4826880" y="1527480"/>
                <a:ext cx="1148760" cy="1292760"/>
                <a:chOff x="4826880" y="1527480"/>
                <a:chExt cx="1148760" cy="1292760"/>
              </a:xfrm>
            </p:grpSpPr>
            <p:sp>
              <p:nvSpPr>
                <p:cNvPr id="1399" name=""/>
                <p:cNvSpPr/>
                <p:nvPr/>
              </p:nvSpPr>
              <p:spPr>
                <a:xfrm>
                  <a:off x="4882680" y="1527480"/>
                  <a:ext cx="1036080" cy="129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☺</a:t>
                  </a:r>
                  <a:endParaRPr b="0" lang="en-US" sz="7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0" name=""/>
                <p:cNvSpPr/>
                <p:nvPr/>
              </p:nvSpPr>
              <p:spPr>
                <a:xfrm>
                  <a:off x="4826880" y="1527480"/>
                  <a:ext cx="1148760" cy="129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1" name=""/>
              <p:cNvGrpSpPr/>
              <p:nvPr/>
            </p:nvGrpSpPr>
            <p:grpSpPr>
              <a:xfrm>
                <a:off x="5976000" y="1527480"/>
                <a:ext cx="1101600" cy="1292760"/>
                <a:chOff x="5976000" y="1527480"/>
                <a:chExt cx="1101600" cy="1292760"/>
              </a:xfrm>
            </p:grpSpPr>
            <p:sp>
              <p:nvSpPr>
                <p:cNvPr id="1402" name=""/>
                <p:cNvSpPr/>
                <p:nvPr/>
              </p:nvSpPr>
              <p:spPr>
                <a:xfrm>
                  <a:off x="6031800" y="1527480"/>
                  <a:ext cx="988920" cy="129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800" spc="-1" strike="noStrike">
                      <a:solidFill>
                        <a:srgbClr val="000000"/>
                      </a:solidFill>
                      <a:latin typeface="Almanac MT"/>
                      <a:ea typeface="Almanac MT"/>
                    </a:rPr>
                    <a:t></a:t>
                  </a:r>
                  <a:endParaRPr b="0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>
                  <a:off x="5976000" y="1527480"/>
                  <a:ext cx="1101600" cy="129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4" name=""/>
              <p:cNvGrpSpPr/>
              <p:nvPr/>
            </p:nvGrpSpPr>
            <p:grpSpPr>
              <a:xfrm>
                <a:off x="7077960" y="1527480"/>
                <a:ext cx="1299240" cy="1292760"/>
                <a:chOff x="7077960" y="1527480"/>
                <a:chExt cx="1299240" cy="1292760"/>
              </a:xfrm>
            </p:grpSpPr>
            <p:sp>
              <p:nvSpPr>
                <p:cNvPr id="1405" name=""/>
                <p:cNvSpPr/>
                <p:nvPr/>
              </p:nvSpPr>
              <p:spPr>
                <a:xfrm>
                  <a:off x="7133760" y="1527480"/>
                  <a:ext cx="1186920" cy="129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entury Gothic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>
                  <a:off x="7077960" y="1527480"/>
                  <a:ext cx="1299240" cy="129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7" name=""/>
              <p:cNvGrpSpPr/>
              <p:nvPr/>
            </p:nvGrpSpPr>
            <p:grpSpPr>
              <a:xfrm>
                <a:off x="918000" y="2820240"/>
                <a:ext cx="1491840" cy="1292400"/>
                <a:chOff x="918000" y="2820240"/>
                <a:chExt cx="1491840" cy="1292400"/>
              </a:xfrm>
            </p:grpSpPr>
            <p:sp>
              <p:nvSpPr>
                <p:cNvPr id="1408" name=""/>
                <p:cNvSpPr/>
                <p:nvPr/>
              </p:nvSpPr>
              <p:spPr>
                <a:xfrm>
                  <a:off x="974160" y="2820240"/>
                  <a:ext cx="1378800" cy="129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☺</a:t>
                  </a:r>
                  <a:r>
                    <a:rPr b="0" lang="en-US" sz="4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</a:t>
                  </a:r>
                  <a:r>
                    <a:rPr b="1" lang="en-US" sz="3600" spc="-1" strike="noStrike">
                      <a:solidFill>
                        <a:srgbClr val="000000"/>
                      </a:solidFill>
                      <a:latin typeface="Almanac MT"/>
                      <a:ea typeface="Almanac MT"/>
                    </a:rPr>
                    <a:t>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9" name=""/>
                <p:cNvSpPr/>
                <p:nvPr/>
              </p:nvSpPr>
              <p:spPr>
                <a:xfrm>
                  <a:off x="918000" y="2820240"/>
                  <a:ext cx="1491840" cy="129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0" name=""/>
              <p:cNvGrpSpPr/>
              <p:nvPr/>
            </p:nvGrpSpPr>
            <p:grpSpPr>
              <a:xfrm>
                <a:off x="2409840" y="2820240"/>
                <a:ext cx="2417040" cy="1292400"/>
                <a:chOff x="2409840" y="2820240"/>
                <a:chExt cx="2417040" cy="1292400"/>
              </a:xfrm>
            </p:grpSpPr>
            <p:sp>
              <p:nvSpPr>
                <p:cNvPr id="1411" name=""/>
                <p:cNvSpPr/>
                <p:nvPr/>
              </p:nvSpPr>
              <p:spPr>
                <a:xfrm>
                  <a:off x="2466000" y="2820240"/>
                  <a:ext cx="2304000" cy="129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entury Gothic"/>
                      <a:ea typeface="Times New Roman"/>
                    </a:rPr>
                    <a:t>Cooperates in group shares ideas about categorizing animal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2" name=""/>
                <p:cNvSpPr/>
                <p:nvPr/>
              </p:nvSpPr>
              <p:spPr>
                <a:xfrm>
                  <a:off x="2409840" y="2820240"/>
                  <a:ext cx="2417040" cy="129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3" name=""/>
              <p:cNvGrpSpPr/>
              <p:nvPr/>
            </p:nvGrpSpPr>
            <p:grpSpPr>
              <a:xfrm>
                <a:off x="4826880" y="2820240"/>
                <a:ext cx="1148760" cy="1292400"/>
                <a:chOff x="4826880" y="2820240"/>
                <a:chExt cx="1148760" cy="1292400"/>
              </a:xfrm>
            </p:grpSpPr>
            <p:sp>
              <p:nvSpPr>
                <p:cNvPr id="1414" name=""/>
                <p:cNvSpPr/>
                <p:nvPr/>
              </p:nvSpPr>
              <p:spPr>
                <a:xfrm>
                  <a:off x="4882680" y="2820240"/>
                  <a:ext cx="1036080" cy="129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☺</a:t>
                  </a:r>
                  <a:endParaRPr b="0" lang="en-US" sz="7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5" name=""/>
                <p:cNvSpPr/>
                <p:nvPr/>
              </p:nvSpPr>
              <p:spPr>
                <a:xfrm>
                  <a:off x="4826880" y="2820240"/>
                  <a:ext cx="1148760" cy="129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6" name=""/>
              <p:cNvGrpSpPr/>
              <p:nvPr/>
            </p:nvGrpSpPr>
            <p:grpSpPr>
              <a:xfrm>
                <a:off x="5976000" y="2820240"/>
                <a:ext cx="1101600" cy="1292400"/>
                <a:chOff x="5976000" y="2820240"/>
                <a:chExt cx="1101600" cy="1292400"/>
              </a:xfrm>
            </p:grpSpPr>
            <p:sp>
              <p:nvSpPr>
                <p:cNvPr id="1417" name=""/>
                <p:cNvSpPr/>
                <p:nvPr/>
              </p:nvSpPr>
              <p:spPr>
                <a:xfrm>
                  <a:off x="6031800" y="2820240"/>
                  <a:ext cx="988920" cy="129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800" spc="-1" strike="noStrike">
                      <a:solidFill>
                        <a:srgbClr val="000000"/>
                      </a:solidFill>
                      <a:latin typeface="Almanac MT"/>
                      <a:ea typeface="Almanac MT"/>
                    </a:rPr>
                    <a:t></a:t>
                  </a:r>
                  <a:endParaRPr b="0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8" name=""/>
                <p:cNvSpPr/>
                <p:nvPr/>
              </p:nvSpPr>
              <p:spPr>
                <a:xfrm>
                  <a:off x="5976000" y="2820240"/>
                  <a:ext cx="1101600" cy="129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9" name=""/>
              <p:cNvGrpSpPr/>
              <p:nvPr/>
            </p:nvGrpSpPr>
            <p:grpSpPr>
              <a:xfrm>
                <a:off x="7077960" y="2820240"/>
                <a:ext cx="1299240" cy="1292400"/>
                <a:chOff x="7077960" y="2820240"/>
                <a:chExt cx="1299240" cy="1292400"/>
              </a:xfrm>
            </p:grpSpPr>
            <p:sp>
              <p:nvSpPr>
                <p:cNvPr id="1420" name=""/>
                <p:cNvSpPr/>
                <p:nvPr/>
              </p:nvSpPr>
              <p:spPr>
                <a:xfrm>
                  <a:off x="7133760" y="2820240"/>
                  <a:ext cx="1186920" cy="129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entury Gothic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1" name=""/>
                <p:cNvSpPr/>
                <p:nvPr/>
              </p:nvSpPr>
              <p:spPr>
                <a:xfrm>
                  <a:off x="7077960" y="2820240"/>
                  <a:ext cx="1299240" cy="129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2" name=""/>
              <p:cNvGrpSpPr/>
              <p:nvPr/>
            </p:nvGrpSpPr>
            <p:grpSpPr>
              <a:xfrm>
                <a:off x="918000" y="4112640"/>
                <a:ext cx="1491840" cy="1292760"/>
                <a:chOff x="918000" y="4112640"/>
                <a:chExt cx="1491840" cy="1292760"/>
              </a:xfrm>
            </p:grpSpPr>
            <p:sp>
              <p:nvSpPr>
                <p:cNvPr id="1423" name=""/>
                <p:cNvSpPr/>
                <p:nvPr/>
              </p:nvSpPr>
              <p:spPr>
                <a:xfrm>
                  <a:off x="974160" y="4112640"/>
                  <a:ext cx="1378800" cy="129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☺</a:t>
                  </a:r>
                  <a:r>
                    <a:rPr b="0" lang="en-US" sz="48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</a:t>
                  </a:r>
                  <a:r>
                    <a:rPr b="1" lang="en-US" sz="3600" spc="-1" strike="noStrike">
                      <a:solidFill>
                        <a:srgbClr val="000000"/>
                      </a:solidFill>
                      <a:latin typeface="Almanac MT"/>
                      <a:ea typeface="Almanac MT"/>
                    </a:rPr>
                    <a:t></a:t>
                  </a: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4" name=""/>
                <p:cNvSpPr/>
                <p:nvPr/>
              </p:nvSpPr>
              <p:spPr>
                <a:xfrm>
                  <a:off x="918000" y="4112640"/>
                  <a:ext cx="1491840" cy="129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5" name=""/>
              <p:cNvGrpSpPr/>
              <p:nvPr/>
            </p:nvGrpSpPr>
            <p:grpSpPr>
              <a:xfrm>
                <a:off x="2409840" y="4112640"/>
                <a:ext cx="2417040" cy="1292760"/>
                <a:chOff x="2409840" y="4112640"/>
                <a:chExt cx="2417040" cy="1292760"/>
              </a:xfrm>
            </p:grpSpPr>
            <p:sp>
              <p:nvSpPr>
                <p:cNvPr id="1426" name=""/>
                <p:cNvSpPr/>
                <p:nvPr/>
              </p:nvSpPr>
              <p:spPr>
                <a:xfrm>
                  <a:off x="2466000" y="4112640"/>
                  <a:ext cx="2304000" cy="129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entury Gothic"/>
                      <a:ea typeface="Times New Roman"/>
                    </a:rPr>
                    <a:t>Cooperates in group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entury Gothic"/>
                      <a:ea typeface="Times New Roman"/>
                    </a:rPr>
                    <a:t>Takes turns drawing and coloring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7" name=""/>
                <p:cNvSpPr/>
                <p:nvPr/>
              </p:nvSpPr>
              <p:spPr>
                <a:xfrm>
                  <a:off x="2409840" y="4112640"/>
                  <a:ext cx="2417040" cy="129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28" name=""/>
              <p:cNvGrpSpPr/>
              <p:nvPr/>
            </p:nvGrpSpPr>
            <p:grpSpPr>
              <a:xfrm>
                <a:off x="4826880" y="4112640"/>
                <a:ext cx="1148760" cy="1292760"/>
                <a:chOff x="4826880" y="4112640"/>
                <a:chExt cx="1148760" cy="1292760"/>
              </a:xfrm>
            </p:grpSpPr>
            <p:sp>
              <p:nvSpPr>
                <p:cNvPr id="1429" name=""/>
                <p:cNvSpPr/>
                <p:nvPr/>
              </p:nvSpPr>
              <p:spPr>
                <a:xfrm>
                  <a:off x="4882680" y="4112640"/>
                  <a:ext cx="1036080" cy="129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☺</a:t>
                  </a:r>
                  <a:endParaRPr b="0" lang="en-US" sz="7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7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0" name=""/>
                <p:cNvSpPr/>
                <p:nvPr/>
              </p:nvSpPr>
              <p:spPr>
                <a:xfrm>
                  <a:off x="4826880" y="4112640"/>
                  <a:ext cx="1148760" cy="129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1" name=""/>
              <p:cNvGrpSpPr/>
              <p:nvPr/>
            </p:nvGrpSpPr>
            <p:grpSpPr>
              <a:xfrm>
                <a:off x="5976000" y="4112640"/>
                <a:ext cx="1101600" cy="1292760"/>
                <a:chOff x="5976000" y="4112640"/>
                <a:chExt cx="1101600" cy="1292760"/>
              </a:xfrm>
            </p:grpSpPr>
            <p:sp>
              <p:nvSpPr>
                <p:cNvPr id="1432" name=""/>
                <p:cNvSpPr/>
                <p:nvPr/>
              </p:nvSpPr>
              <p:spPr>
                <a:xfrm>
                  <a:off x="6031800" y="4112640"/>
                  <a:ext cx="988920" cy="129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4800" spc="-1" strike="noStrike">
                      <a:solidFill>
                        <a:srgbClr val="000000"/>
                      </a:solidFill>
                      <a:latin typeface="Almanac MT"/>
                      <a:ea typeface="Almanac MT"/>
                    </a:rPr>
                    <a:t></a:t>
                  </a:r>
                  <a:endParaRPr b="0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3" name=""/>
                <p:cNvSpPr/>
                <p:nvPr/>
              </p:nvSpPr>
              <p:spPr>
                <a:xfrm>
                  <a:off x="5976000" y="4112640"/>
                  <a:ext cx="1101600" cy="129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4" name=""/>
              <p:cNvGrpSpPr/>
              <p:nvPr/>
            </p:nvGrpSpPr>
            <p:grpSpPr>
              <a:xfrm>
                <a:off x="7077960" y="4112640"/>
                <a:ext cx="1299240" cy="1292760"/>
                <a:chOff x="7077960" y="4112640"/>
                <a:chExt cx="1299240" cy="1292760"/>
              </a:xfrm>
            </p:grpSpPr>
            <p:sp>
              <p:nvSpPr>
                <p:cNvPr id="1435" name=""/>
                <p:cNvSpPr/>
                <p:nvPr/>
              </p:nvSpPr>
              <p:spPr>
                <a:xfrm>
                  <a:off x="7133760" y="4112640"/>
                  <a:ext cx="1186920" cy="129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Century Gothic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6" name=""/>
                <p:cNvSpPr/>
                <p:nvPr/>
              </p:nvSpPr>
              <p:spPr>
                <a:xfrm>
                  <a:off x="7077960" y="4112640"/>
                  <a:ext cx="1299240" cy="1292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37" name=""/>
            <p:cNvSpPr/>
            <p:nvPr/>
          </p:nvSpPr>
          <p:spPr>
            <a:xfrm>
              <a:off x="914400" y="1523880"/>
              <a:ext cx="7467480" cy="38862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8" name=""/>
          <p:cNvSpPr/>
          <p:nvPr/>
        </p:nvSpPr>
        <p:spPr>
          <a:xfrm>
            <a:off x="3240" y="614844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-457200" y="0"/>
            <a:ext cx="12910680" cy="7086240"/>
            <a:chOff x="-457200" y="0"/>
            <a:chExt cx="12910680" cy="7086240"/>
          </a:xfrm>
        </p:grpSpPr>
        <p:pic>
          <p:nvPicPr>
            <p:cNvPr id="47" name="" descr=""/>
            <p:cNvPicPr/>
            <p:nvPr/>
          </p:nvPicPr>
          <p:blipFill>
            <a:blip r:embed="rId1"/>
            <a:stretch/>
          </p:blipFill>
          <p:spPr>
            <a:xfrm>
              <a:off x="6356520" y="0"/>
              <a:ext cx="2787480" cy="5257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8" name=""/>
            <p:cNvGrpSpPr/>
            <p:nvPr/>
          </p:nvGrpSpPr>
          <p:grpSpPr>
            <a:xfrm>
              <a:off x="-457200" y="0"/>
              <a:ext cx="12910680" cy="7086240"/>
              <a:chOff x="-457200" y="0"/>
              <a:chExt cx="12910680" cy="7086240"/>
            </a:xfrm>
          </p:grpSpPr>
          <p:sp>
            <p:nvSpPr>
              <p:cNvPr id="49" name=""/>
              <p:cNvSpPr/>
              <p:nvPr/>
            </p:nvSpPr>
            <p:spPr>
              <a:xfrm>
                <a:off x="356760" y="381240"/>
                <a:ext cx="1036080" cy="1221480"/>
              </a:xfrm>
              <a:prstGeom prst="rect">
                <a:avLst/>
              </a:prstGeom>
              <a:solidFill>
                <a:srgbClr val="7dc0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-457200" y="0"/>
                <a:ext cx="7031160" cy="7086240"/>
              </a:xfrm>
              <a:custGeom>
                <a:avLst/>
                <a:gdLst/>
                <a:ahLst/>
                <a:rect l="l" t="t" r="r" b="b"/>
                <a:pathLst>
                  <a:path w="4574" h="4456">
                    <a:moveTo>
                      <a:pt x="4004" y="0"/>
                    </a:moveTo>
                    <a:cubicBezTo>
                      <a:pt x="4006" y="632"/>
                      <a:pt x="4004" y="3128"/>
                      <a:pt x="4016" y="3792"/>
                    </a:cubicBezTo>
                    <a:cubicBezTo>
                      <a:pt x="4028" y="4456"/>
                      <a:pt x="4080" y="3988"/>
                      <a:pt x="4076" y="3984"/>
                    </a:cubicBezTo>
                    <a:cubicBezTo>
                      <a:pt x="4072" y="3980"/>
                      <a:pt x="4574" y="3804"/>
                      <a:pt x="3992" y="3768"/>
                    </a:cubicBezTo>
                    <a:cubicBezTo>
                      <a:pt x="3410" y="3732"/>
                      <a:pt x="1168" y="3752"/>
                      <a:pt x="584" y="3768"/>
                    </a:cubicBezTo>
                    <a:cubicBezTo>
                      <a:pt x="0" y="3784"/>
                      <a:pt x="497" y="4384"/>
                      <a:pt x="488" y="3864"/>
                    </a:cubicBezTo>
                    <a:cubicBezTo>
                      <a:pt x="479" y="3344"/>
                      <a:pt x="390" y="1141"/>
                      <a:pt x="532" y="647"/>
                    </a:cubicBezTo>
                    <a:cubicBezTo>
                      <a:pt x="674" y="153"/>
                      <a:pt x="1187" y="826"/>
                      <a:pt x="1343" y="900"/>
                    </a:cubicBezTo>
                    <a:cubicBezTo>
                      <a:pt x="1499" y="974"/>
                      <a:pt x="1398" y="1008"/>
                      <a:pt x="1469" y="1092"/>
                    </a:cubicBezTo>
                    <a:cubicBezTo>
                      <a:pt x="1541" y="1176"/>
                      <a:pt x="1723" y="1281"/>
                      <a:pt x="1772" y="1404"/>
                    </a:cubicBezTo>
                    <a:cubicBezTo>
                      <a:pt x="1821" y="1527"/>
                      <a:pt x="1766" y="1748"/>
                      <a:pt x="1763" y="1830"/>
                    </a:cubicBezTo>
                    <a:cubicBezTo>
                      <a:pt x="1760" y="1912"/>
                      <a:pt x="1752" y="1879"/>
                      <a:pt x="1754" y="1899"/>
                    </a:cubicBezTo>
                    <a:cubicBezTo>
                      <a:pt x="1756" y="1920"/>
                      <a:pt x="1775" y="1887"/>
                      <a:pt x="1775" y="1953"/>
                    </a:cubicBezTo>
                    <a:cubicBezTo>
                      <a:pt x="1776" y="2020"/>
                      <a:pt x="1755" y="2238"/>
                      <a:pt x="1757" y="2298"/>
                    </a:cubicBezTo>
                    <a:cubicBezTo>
                      <a:pt x="1759" y="2358"/>
                      <a:pt x="1781" y="2308"/>
                      <a:pt x="1787" y="2316"/>
                    </a:cubicBezTo>
                    <a:cubicBezTo>
                      <a:pt x="1794" y="2324"/>
                      <a:pt x="1796" y="2333"/>
                      <a:pt x="1796" y="2349"/>
                    </a:cubicBezTo>
                    <a:cubicBezTo>
                      <a:pt x="1796" y="2366"/>
                      <a:pt x="1788" y="2378"/>
                      <a:pt x="1784" y="2415"/>
                    </a:cubicBezTo>
                    <a:cubicBezTo>
                      <a:pt x="1780" y="2453"/>
                      <a:pt x="1769" y="2531"/>
                      <a:pt x="1772" y="2574"/>
                    </a:cubicBezTo>
                    <a:cubicBezTo>
                      <a:pt x="1775" y="2617"/>
                      <a:pt x="1766" y="2633"/>
                      <a:pt x="1802" y="2673"/>
                    </a:cubicBezTo>
                    <a:cubicBezTo>
                      <a:pt x="1838" y="2713"/>
                      <a:pt x="1963" y="2816"/>
                      <a:pt x="1988" y="2814"/>
                    </a:cubicBezTo>
                    <a:cubicBezTo>
                      <a:pt x="2013" y="2812"/>
                      <a:pt x="1953" y="2707"/>
                      <a:pt x="1952" y="2658"/>
                    </a:cubicBezTo>
                    <a:cubicBezTo>
                      <a:pt x="1951" y="2609"/>
                      <a:pt x="1978" y="2556"/>
                      <a:pt x="1982" y="2520"/>
                    </a:cubicBezTo>
                    <a:cubicBezTo>
                      <a:pt x="1986" y="2484"/>
                      <a:pt x="1966" y="2461"/>
                      <a:pt x="1976" y="2439"/>
                    </a:cubicBezTo>
                    <a:cubicBezTo>
                      <a:pt x="1986" y="2418"/>
                      <a:pt x="2035" y="2421"/>
                      <a:pt x="2045" y="2391"/>
                    </a:cubicBezTo>
                    <a:cubicBezTo>
                      <a:pt x="2055" y="2362"/>
                      <a:pt x="2027" y="2285"/>
                      <a:pt x="2036" y="2262"/>
                    </a:cubicBezTo>
                    <a:cubicBezTo>
                      <a:pt x="2045" y="2239"/>
                      <a:pt x="2083" y="2256"/>
                      <a:pt x="2099" y="2253"/>
                    </a:cubicBezTo>
                    <a:cubicBezTo>
                      <a:pt x="2116" y="2251"/>
                      <a:pt x="2131" y="2256"/>
                      <a:pt x="2135" y="2247"/>
                    </a:cubicBezTo>
                    <a:cubicBezTo>
                      <a:pt x="2140" y="2238"/>
                      <a:pt x="2052" y="2278"/>
                      <a:pt x="2126" y="2199"/>
                    </a:cubicBezTo>
                    <a:cubicBezTo>
                      <a:pt x="2200" y="2121"/>
                      <a:pt x="2501" y="1863"/>
                      <a:pt x="2582" y="1776"/>
                    </a:cubicBezTo>
                    <a:cubicBezTo>
                      <a:pt x="2663" y="1689"/>
                      <a:pt x="2600" y="1704"/>
                      <a:pt x="2612" y="1677"/>
                    </a:cubicBezTo>
                    <a:cubicBezTo>
                      <a:pt x="2624" y="1651"/>
                      <a:pt x="2637" y="1635"/>
                      <a:pt x="2657" y="1617"/>
                    </a:cubicBezTo>
                    <a:cubicBezTo>
                      <a:pt x="2678" y="1600"/>
                      <a:pt x="2708" y="1581"/>
                      <a:pt x="2735" y="1572"/>
                    </a:cubicBezTo>
                    <a:cubicBezTo>
                      <a:pt x="2762" y="1563"/>
                      <a:pt x="2788" y="1573"/>
                      <a:pt x="2819" y="1563"/>
                    </a:cubicBezTo>
                    <a:cubicBezTo>
                      <a:pt x="2850" y="1554"/>
                      <a:pt x="2896" y="1540"/>
                      <a:pt x="2921" y="1515"/>
                    </a:cubicBezTo>
                    <a:cubicBezTo>
                      <a:pt x="2946" y="1491"/>
                      <a:pt x="2955" y="1444"/>
                      <a:pt x="2969" y="1416"/>
                    </a:cubicBezTo>
                    <a:cubicBezTo>
                      <a:pt x="2984" y="1388"/>
                      <a:pt x="2998" y="1373"/>
                      <a:pt x="3008" y="1344"/>
                    </a:cubicBezTo>
                    <a:cubicBezTo>
                      <a:pt x="3018" y="1315"/>
                      <a:pt x="3025" y="1272"/>
                      <a:pt x="3029" y="1242"/>
                    </a:cubicBezTo>
                    <a:cubicBezTo>
                      <a:pt x="3034" y="1212"/>
                      <a:pt x="3009" y="1203"/>
                      <a:pt x="3035" y="1164"/>
                    </a:cubicBezTo>
                    <a:cubicBezTo>
                      <a:pt x="3062" y="1125"/>
                      <a:pt x="3160" y="1047"/>
                      <a:pt x="3188" y="1008"/>
                    </a:cubicBezTo>
                    <a:cubicBezTo>
                      <a:pt x="3216" y="969"/>
                      <a:pt x="3200" y="951"/>
                      <a:pt x="3200" y="927"/>
                    </a:cubicBezTo>
                    <a:cubicBezTo>
                      <a:pt x="3200" y="904"/>
                      <a:pt x="3196" y="882"/>
                      <a:pt x="3191" y="867"/>
                    </a:cubicBezTo>
                    <a:cubicBezTo>
                      <a:pt x="3186" y="853"/>
                      <a:pt x="3184" y="846"/>
                      <a:pt x="3170" y="840"/>
                    </a:cubicBezTo>
                    <a:cubicBezTo>
                      <a:pt x="3156" y="834"/>
                      <a:pt x="3122" y="844"/>
                      <a:pt x="3104" y="831"/>
                    </a:cubicBezTo>
                    <a:cubicBezTo>
                      <a:pt x="3086" y="819"/>
                      <a:pt x="3090" y="784"/>
                      <a:pt x="3062" y="765"/>
                    </a:cubicBezTo>
                    <a:cubicBezTo>
                      <a:pt x="3034" y="746"/>
                      <a:pt x="2979" y="728"/>
                      <a:pt x="2939" y="717"/>
                    </a:cubicBezTo>
                    <a:cubicBezTo>
                      <a:pt x="2900" y="707"/>
                      <a:pt x="2855" y="716"/>
                      <a:pt x="2825" y="702"/>
                    </a:cubicBezTo>
                    <a:cubicBezTo>
                      <a:pt x="2795" y="688"/>
                      <a:pt x="2790" y="649"/>
                      <a:pt x="2759" y="630"/>
                    </a:cubicBezTo>
                    <a:cubicBezTo>
                      <a:pt x="2728" y="611"/>
                      <a:pt x="2667" y="610"/>
                      <a:pt x="2639" y="588"/>
                    </a:cubicBezTo>
                    <a:cubicBezTo>
                      <a:pt x="2611" y="566"/>
                      <a:pt x="2620" y="534"/>
                      <a:pt x="2591" y="495"/>
                    </a:cubicBezTo>
                    <a:cubicBezTo>
                      <a:pt x="2563" y="456"/>
                      <a:pt x="2514" y="378"/>
                      <a:pt x="2468" y="354"/>
                    </a:cubicBezTo>
                    <a:cubicBezTo>
                      <a:pt x="2422" y="330"/>
                      <a:pt x="2358" y="370"/>
                      <a:pt x="2312" y="351"/>
                    </a:cubicBezTo>
                    <a:cubicBezTo>
                      <a:pt x="2266" y="332"/>
                      <a:pt x="2221" y="271"/>
                      <a:pt x="2192" y="240"/>
                    </a:cubicBezTo>
                    <a:cubicBezTo>
                      <a:pt x="2138" y="258"/>
                      <a:pt x="2157" y="179"/>
                      <a:pt x="2138" y="165"/>
                    </a:cubicBezTo>
                    <a:cubicBezTo>
                      <a:pt x="2120" y="154"/>
                      <a:pt x="2115" y="169"/>
                      <a:pt x="2084" y="171"/>
                    </a:cubicBezTo>
                    <a:cubicBezTo>
                      <a:pt x="2053" y="173"/>
                      <a:pt x="1993" y="178"/>
                      <a:pt x="1952" y="177"/>
                    </a:cubicBezTo>
                    <a:cubicBezTo>
                      <a:pt x="1920" y="176"/>
                      <a:pt x="1907" y="160"/>
                      <a:pt x="1889" y="162"/>
                    </a:cubicBezTo>
                    <a:cubicBezTo>
                      <a:pt x="1872" y="164"/>
                      <a:pt x="1881" y="193"/>
                      <a:pt x="1847" y="186"/>
                    </a:cubicBezTo>
                    <a:cubicBezTo>
                      <a:pt x="1814" y="179"/>
                      <a:pt x="1721" y="124"/>
                      <a:pt x="1688" y="120"/>
                    </a:cubicBezTo>
                    <a:cubicBezTo>
                      <a:pt x="1652" y="112"/>
                      <a:pt x="1664" y="152"/>
                      <a:pt x="1649" y="162"/>
                    </a:cubicBezTo>
                    <a:cubicBezTo>
                      <a:pt x="1634" y="172"/>
                      <a:pt x="1621" y="154"/>
                      <a:pt x="1598" y="177"/>
                    </a:cubicBezTo>
                    <a:cubicBezTo>
                      <a:pt x="1575" y="201"/>
                      <a:pt x="1540" y="288"/>
                      <a:pt x="1511" y="303"/>
                    </a:cubicBezTo>
                    <a:cubicBezTo>
                      <a:pt x="1483" y="319"/>
                      <a:pt x="1436" y="262"/>
                      <a:pt x="1427" y="270"/>
                    </a:cubicBezTo>
                    <a:cubicBezTo>
                      <a:pt x="1413" y="313"/>
                      <a:pt x="1486" y="340"/>
                      <a:pt x="1460" y="354"/>
                    </a:cubicBezTo>
                    <a:cubicBezTo>
                      <a:pt x="1442" y="380"/>
                      <a:pt x="1493" y="415"/>
                      <a:pt x="1466" y="435"/>
                    </a:cubicBezTo>
                    <a:cubicBezTo>
                      <a:pt x="1464" y="456"/>
                      <a:pt x="1474" y="482"/>
                      <a:pt x="1466" y="495"/>
                    </a:cubicBezTo>
                    <a:cubicBezTo>
                      <a:pt x="1460" y="510"/>
                      <a:pt x="1447" y="511"/>
                      <a:pt x="1433" y="525"/>
                    </a:cubicBezTo>
                    <a:cubicBezTo>
                      <a:pt x="1445" y="540"/>
                      <a:pt x="1401" y="561"/>
                      <a:pt x="1385" y="579"/>
                    </a:cubicBezTo>
                    <a:cubicBezTo>
                      <a:pt x="1369" y="598"/>
                      <a:pt x="1359" y="596"/>
                      <a:pt x="1337" y="636"/>
                    </a:cubicBezTo>
                    <a:cubicBezTo>
                      <a:pt x="1314" y="667"/>
                      <a:pt x="1284" y="808"/>
                      <a:pt x="1256" y="816"/>
                    </a:cubicBezTo>
                    <a:cubicBezTo>
                      <a:pt x="1224" y="838"/>
                      <a:pt x="1234" y="777"/>
                      <a:pt x="1108" y="682"/>
                    </a:cubicBezTo>
                    <a:cubicBezTo>
                      <a:pt x="982" y="587"/>
                      <a:pt x="595" y="290"/>
                      <a:pt x="497" y="247"/>
                    </a:cubicBezTo>
                    <a:cubicBezTo>
                      <a:pt x="399" y="204"/>
                      <a:pt x="479" y="398"/>
                      <a:pt x="520" y="423"/>
                    </a:cubicBezTo>
                    <a:cubicBezTo>
                      <a:pt x="470" y="435"/>
                      <a:pt x="777" y="355"/>
                      <a:pt x="744" y="400"/>
                    </a:cubicBezTo>
                    <a:cubicBezTo>
                      <a:pt x="568" y="365"/>
                      <a:pt x="464" y="1069"/>
                      <a:pt x="536" y="1020"/>
                    </a:cubicBezTo>
                    <a:cubicBezTo>
                      <a:pt x="428" y="936"/>
                      <a:pt x="495" y="609"/>
                      <a:pt x="503" y="564"/>
                    </a:cubicBezTo>
                    <a:cubicBezTo>
                      <a:pt x="501" y="470"/>
                      <a:pt x="499" y="409"/>
                      <a:pt x="494" y="321"/>
                    </a:cubicBezTo>
                    <a:cubicBezTo>
                      <a:pt x="497" y="6"/>
                      <a:pt x="494" y="179"/>
                      <a:pt x="494" y="54"/>
                    </a:cubicBezTo>
                    <a:lnTo>
                      <a:pt x="3968" y="72"/>
                    </a:lnTo>
                  </a:path>
                </a:pathLst>
              </a:custGeom>
              <a:solidFill>
                <a:srgbClr val="92bede"/>
              </a:solidFill>
              <a:ln w="41400">
                <a:solidFill>
                  <a:srgbClr val="cc99ff"/>
                </a:solidFill>
                <a:prstDash val="lgDashDot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467000" y="839520"/>
                <a:ext cx="940320" cy="137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" name=""/>
              <p:cNvSpPr/>
              <p:nvPr/>
            </p:nvSpPr>
            <p:spPr>
              <a:xfrm rot="3585600">
                <a:off x="1559520" y="1323360"/>
                <a:ext cx="807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Peru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541160" y="788760"/>
                <a:ext cx="343440" cy="356040"/>
              </a:xfrm>
              <a:custGeom>
                <a:avLst/>
                <a:gdLst/>
                <a:ahLst/>
                <a:rect l="l" t="t" r="r" b="b"/>
                <a:pathLst>
                  <a:path w="223" h="224">
                    <a:moveTo>
                      <a:pt x="202" y="43"/>
                    </a:moveTo>
                    <a:cubicBezTo>
                      <a:pt x="172" y="58"/>
                      <a:pt x="217" y="91"/>
                      <a:pt x="139" y="61"/>
                    </a:cubicBezTo>
                    <a:cubicBezTo>
                      <a:pt x="127" y="63"/>
                      <a:pt x="151" y="0"/>
                      <a:pt x="136" y="4"/>
                    </a:cubicBezTo>
                    <a:cubicBezTo>
                      <a:pt x="126" y="0"/>
                      <a:pt x="94" y="23"/>
                      <a:pt x="79" y="37"/>
                    </a:cubicBezTo>
                    <a:cubicBezTo>
                      <a:pt x="64" y="51"/>
                      <a:pt x="56" y="73"/>
                      <a:pt x="46" y="88"/>
                    </a:cubicBezTo>
                    <a:cubicBezTo>
                      <a:pt x="36" y="103"/>
                      <a:pt x="23" y="115"/>
                      <a:pt x="16" y="127"/>
                    </a:cubicBezTo>
                    <a:cubicBezTo>
                      <a:pt x="28" y="82"/>
                      <a:pt x="4" y="157"/>
                      <a:pt x="4" y="157"/>
                    </a:cubicBezTo>
                    <a:cubicBezTo>
                      <a:pt x="3" y="166"/>
                      <a:pt x="0" y="206"/>
                      <a:pt x="7" y="214"/>
                    </a:cubicBezTo>
                    <a:cubicBezTo>
                      <a:pt x="14" y="222"/>
                      <a:pt x="31" y="205"/>
                      <a:pt x="43" y="205"/>
                    </a:cubicBezTo>
                    <a:cubicBezTo>
                      <a:pt x="55" y="205"/>
                      <a:pt x="65" y="224"/>
                      <a:pt x="82" y="214"/>
                    </a:cubicBezTo>
                    <a:cubicBezTo>
                      <a:pt x="99" y="204"/>
                      <a:pt x="129" y="164"/>
                      <a:pt x="145" y="148"/>
                    </a:cubicBezTo>
                    <a:cubicBezTo>
                      <a:pt x="161" y="132"/>
                      <a:pt x="173" y="124"/>
                      <a:pt x="181" y="115"/>
                    </a:cubicBezTo>
                    <a:cubicBezTo>
                      <a:pt x="189" y="106"/>
                      <a:pt x="194" y="100"/>
                      <a:pt x="196" y="94"/>
                    </a:cubicBezTo>
                    <a:cubicBezTo>
                      <a:pt x="198" y="88"/>
                      <a:pt x="189" y="84"/>
                      <a:pt x="193" y="79"/>
                    </a:cubicBezTo>
                    <a:cubicBezTo>
                      <a:pt x="197" y="74"/>
                      <a:pt x="217" y="67"/>
                      <a:pt x="223" y="64"/>
                    </a:cubicBezTo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1541160" y="839520"/>
                <a:ext cx="343440" cy="344880"/>
              </a:xfrm>
              <a:custGeom>
                <a:avLst/>
                <a:gdLst/>
                <a:ahLst/>
                <a:rect l="l" t="t" r="r" b="b"/>
                <a:pathLst>
                  <a:path w="223" h="224">
                    <a:moveTo>
                      <a:pt x="202" y="43"/>
                    </a:moveTo>
                    <a:cubicBezTo>
                      <a:pt x="172" y="58"/>
                      <a:pt x="217" y="91"/>
                      <a:pt x="139" y="61"/>
                    </a:cubicBezTo>
                    <a:cubicBezTo>
                      <a:pt x="127" y="63"/>
                      <a:pt x="151" y="0"/>
                      <a:pt x="136" y="4"/>
                    </a:cubicBezTo>
                    <a:cubicBezTo>
                      <a:pt x="126" y="0"/>
                      <a:pt x="94" y="23"/>
                      <a:pt x="79" y="37"/>
                    </a:cubicBezTo>
                    <a:cubicBezTo>
                      <a:pt x="64" y="51"/>
                      <a:pt x="56" y="73"/>
                      <a:pt x="46" y="88"/>
                    </a:cubicBezTo>
                    <a:cubicBezTo>
                      <a:pt x="36" y="103"/>
                      <a:pt x="23" y="115"/>
                      <a:pt x="16" y="127"/>
                    </a:cubicBezTo>
                    <a:cubicBezTo>
                      <a:pt x="28" y="82"/>
                      <a:pt x="4" y="157"/>
                      <a:pt x="4" y="157"/>
                    </a:cubicBezTo>
                    <a:cubicBezTo>
                      <a:pt x="3" y="166"/>
                      <a:pt x="0" y="206"/>
                      <a:pt x="7" y="214"/>
                    </a:cubicBezTo>
                    <a:cubicBezTo>
                      <a:pt x="14" y="222"/>
                      <a:pt x="31" y="205"/>
                      <a:pt x="43" y="205"/>
                    </a:cubicBezTo>
                    <a:cubicBezTo>
                      <a:pt x="55" y="205"/>
                      <a:pt x="65" y="224"/>
                      <a:pt x="82" y="214"/>
                    </a:cubicBezTo>
                    <a:cubicBezTo>
                      <a:pt x="99" y="204"/>
                      <a:pt x="129" y="164"/>
                      <a:pt x="145" y="148"/>
                    </a:cubicBezTo>
                    <a:cubicBezTo>
                      <a:pt x="161" y="132"/>
                      <a:pt x="173" y="124"/>
                      <a:pt x="181" y="115"/>
                    </a:cubicBezTo>
                    <a:cubicBezTo>
                      <a:pt x="189" y="106"/>
                      <a:pt x="194" y="100"/>
                      <a:pt x="196" y="94"/>
                    </a:cubicBezTo>
                    <a:cubicBezTo>
                      <a:pt x="198" y="88"/>
                      <a:pt x="189" y="84"/>
                      <a:pt x="193" y="79"/>
                    </a:cubicBezTo>
                    <a:cubicBezTo>
                      <a:pt x="197" y="74"/>
                      <a:pt x="217" y="67"/>
                      <a:pt x="223" y="64"/>
                    </a:cubicBezTo>
                  </a:path>
                </a:pathLst>
              </a:custGeom>
              <a:solidFill>
                <a:srgbClr val="2bffc7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207160" y="2220120"/>
                <a:ext cx="333000" cy="2207160"/>
              </a:xfrm>
              <a:custGeom>
                <a:avLst/>
                <a:gdLst/>
                <a:ahLst/>
                <a:rect l="l" t="t" r="r" b="b"/>
                <a:pathLst>
                  <a:path w="192" h="1388">
                    <a:moveTo>
                      <a:pt x="48" y="20"/>
                    </a:moveTo>
                    <a:cubicBezTo>
                      <a:pt x="21" y="101"/>
                      <a:pt x="48" y="1"/>
                      <a:pt x="48" y="128"/>
                    </a:cubicBezTo>
                    <a:cubicBezTo>
                      <a:pt x="48" y="222"/>
                      <a:pt x="30" y="324"/>
                      <a:pt x="12" y="416"/>
                    </a:cubicBezTo>
                    <a:cubicBezTo>
                      <a:pt x="16" y="448"/>
                      <a:pt x="25" y="480"/>
                      <a:pt x="24" y="512"/>
                    </a:cubicBezTo>
                    <a:cubicBezTo>
                      <a:pt x="21" y="600"/>
                      <a:pt x="0" y="776"/>
                      <a:pt x="0" y="776"/>
                    </a:cubicBezTo>
                    <a:cubicBezTo>
                      <a:pt x="4" y="820"/>
                      <a:pt x="3" y="865"/>
                      <a:pt x="12" y="908"/>
                    </a:cubicBezTo>
                    <a:cubicBezTo>
                      <a:pt x="15" y="922"/>
                      <a:pt x="35" y="930"/>
                      <a:pt x="36" y="944"/>
                    </a:cubicBezTo>
                    <a:cubicBezTo>
                      <a:pt x="42" y="1012"/>
                      <a:pt x="20" y="1080"/>
                      <a:pt x="12" y="1148"/>
                    </a:cubicBezTo>
                    <a:cubicBezTo>
                      <a:pt x="20" y="1172"/>
                      <a:pt x="22" y="1199"/>
                      <a:pt x="36" y="1220"/>
                    </a:cubicBezTo>
                    <a:cubicBezTo>
                      <a:pt x="44" y="1232"/>
                      <a:pt x="54" y="1243"/>
                      <a:pt x="60" y="1256"/>
                    </a:cubicBezTo>
                    <a:cubicBezTo>
                      <a:pt x="66" y="1267"/>
                      <a:pt x="64" y="1282"/>
                      <a:pt x="72" y="1292"/>
                    </a:cubicBezTo>
                    <a:cubicBezTo>
                      <a:pt x="81" y="1303"/>
                      <a:pt x="96" y="1308"/>
                      <a:pt x="108" y="1316"/>
                    </a:cubicBezTo>
                    <a:cubicBezTo>
                      <a:pt x="127" y="1374"/>
                      <a:pt x="141" y="1354"/>
                      <a:pt x="192" y="1388"/>
                    </a:cubicBezTo>
                    <a:cubicBezTo>
                      <a:pt x="166" y="1311"/>
                      <a:pt x="110" y="1250"/>
                      <a:pt x="84" y="1172"/>
                    </a:cubicBezTo>
                    <a:cubicBezTo>
                      <a:pt x="88" y="1124"/>
                      <a:pt x="90" y="1076"/>
                      <a:pt x="96" y="1028"/>
                    </a:cubicBezTo>
                    <a:cubicBezTo>
                      <a:pt x="98" y="1015"/>
                      <a:pt x="108" y="1005"/>
                      <a:pt x="108" y="992"/>
                    </a:cubicBezTo>
                    <a:cubicBezTo>
                      <a:pt x="108" y="937"/>
                      <a:pt x="81" y="866"/>
                      <a:pt x="72" y="812"/>
                    </a:cubicBezTo>
                    <a:cubicBezTo>
                      <a:pt x="78" y="676"/>
                      <a:pt x="74" y="527"/>
                      <a:pt x="108" y="392"/>
                    </a:cubicBezTo>
                    <a:cubicBezTo>
                      <a:pt x="127" y="0"/>
                      <a:pt x="97" y="245"/>
                      <a:pt x="156" y="68"/>
                    </a:cubicBezTo>
                    <a:cubicBezTo>
                      <a:pt x="132" y="60"/>
                      <a:pt x="109" y="38"/>
                      <a:pt x="84" y="44"/>
                    </a:cubicBezTo>
                    <a:cubicBezTo>
                      <a:pt x="68" y="48"/>
                      <a:pt x="50" y="65"/>
                      <a:pt x="36" y="56"/>
                    </a:cubicBezTo>
                    <a:cubicBezTo>
                      <a:pt x="25" y="49"/>
                      <a:pt x="44" y="32"/>
                      <a:pt x="48" y="20"/>
                    </a:cubicBez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2213640"/>
                <a:ext cx="295560" cy="2207520"/>
              </a:xfrm>
              <a:custGeom>
                <a:avLst/>
                <a:gdLst/>
                <a:ahLst/>
                <a:rect l="l" t="t" r="r" b="b"/>
                <a:pathLst>
                  <a:path w="192" h="1388">
                    <a:moveTo>
                      <a:pt x="48" y="20"/>
                    </a:moveTo>
                    <a:cubicBezTo>
                      <a:pt x="21" y="101"/>
                      <a:pt x="48" y="1"/>
                      <a:pt x="48" y="128"/>
                    </a:cubicBezTo>
                    <a:cubicBezTo>
                      <a:pt x="48" y="222"/>
                      <a:pt x="30" y="324"/>
                      <a:pt x="12" y="416"/>
                    </a:cubicBezTo>
                    <a:cubicBezTo>
                      <a:pt x="16" y="448"/>
                      <a:pt x="25" y="480"/>
                      <a:pt x="24" y="512"/>
                    </a:cubicBezTo>
                    <a:cubicBezTo>
                      <a:pt x="21" y="600"/>
                      <a:pt x="0" y="776"/>
                      <a:pt x="0" y="776"/>
                    </a:cubicBezTo>
                    <a:cubicBezTo>
                      <a:pt x="4" y="820"/>
                      <a:pt x="3" y="865"/>
                      <a:pt x="12" y="908"/>
                    </a:cubicBezTo>
                    <a:cubicBezTo>
                      <a:pt x="15" y="922"/>
                      <a:pt x="35" y="930"/>
                      <a:pt x="36" y="944"/>
                    </a:cubicBezTo>
                    <a:cubicBezTo>
                      <a:pt x="42" y="1012"/>
                      <a:pt x="20" y="1080"/>
                      <a:pt x="12" y="1148"/>
                    </a:cubicBezTo>
                    <a:cubicBezTo>
                      <a:pt x="20" y="1172"/>
                      <a:pt x="22" y="1199"/>
                      <a:pt x="36" y="1220"/>
                    </a:cubicBezTo>
                    <a:cubicBezTo>
                      <a:pt x="44" y="1232"/>
                      <a:pt x="54" y="1243"/>
                      <a:pt x="60" y="1256"/>
                    </a:cubicBezTo>
                    <a:cubicBezTo>
                      <a:pt x="66" y="1267"/>
                      <a:pt x="64" y="1282"/>
                      <a:pt x="72" y="1292"/>
                    </a:cubicBezTo>
                    <a:cubicBezTo>
                      <a:pt x="81" y="1303"/>
                      <a:pt x="96" y="1308"/>
                      <a:pt x="108" y="1316"/>
                    </a:cubicBezTo>
                    <a:cubicBezTo>
                      <a:pt x="127" y="1374"/>
                      <a:pt x="141" y="1354"/>
                      <a:pt x="192" y="1388"/>
                    </a:cubicBezTo>
                    <a:cubicBezTo>
                      <a:pt x="166" y="1311"/>
                      <a:pt x="110" y="1250"/>
                      <a:pt x="84" y="1172"/>
                    </a:cubicBezTo>
                    <a:cubicBezTo>
                      <a:pt x="88" y="1124"/>
                      <a:pt x="90" y="1076"/>
                      <a:pt x="96" y="1028"/>
                    </a:cubicBezTo>
                    <a:cubicBezTo>
                      <a:pt x="98" y="1015"/>
                      <a:pt x="108" y="1005"/>
                      <a:pt x="108" y="992"/>
                    </a:cubicBezTo>
                    <a:cubicBezTo>
                      <a:pt x="108" y="937"/>
                      <a:pt x="81" y="866"/>
                      <a:pt x="72" y="812"/>
                    </a:cubicBezTo>
                    <a:cubicBezTo>
                      <a:pt x="78" y="676"/>
                      <a:pt x="74" y="527"/>
                      <a:pt x="108" y="392"/>
                    </a:cubicBezTo>
                    <a:cubicBezTo>
                      <a:pt x="127" y="0"/>
                      <a:pt x="97" y="245"/>
                      <a:pt x="156" y="68"/>
                    </a:cubicBezTo>
                    <a:cubicBezTo>
                      <a:pt x="132" y="60"/>
                      <a:pt x="109" y="38"/>
                      <a:pt x="84" y="44"/>
                    </a:cubicBezTo>
                    <a:cubicBezTo>
                      <a:pt x="68" y="48"/>
                      <a:pt x="50" y="65"/>
                      <a:pt x="36" y="56"/>
                    </a:cubicBezTo>
                    <a:cubicBezTo>
                      <a:pt x="25" y="49"/>
                      <a:pt x="44" y="32"/>
                      <a:pt x="48" y="20"/>
                    </a:cubicBezTo>
                    <a:close/>
                  </a:path>
                </a:pathLst>
              </a:custGeom>
              <a:solidFill>
                <a:srgbClr val="00cc99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-14400" y="609120"/>
                <a:ext cx="1334880" cy="45972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Ecuado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093840" y="1679040"/>
                <a:ext cx="1111320" cy="45972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Bolivi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799000" y="3511080"/>
                <a:ext cx="888120" cy="45972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Chil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571920" y="2437920"/>
                <a:ext cx="88815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1" name="BD08091_" descr=""/>
              <p:cNvPicPr/>
              <p:nvPr/>
            </p:nvPicPr>
            <p:blipFill>
              <a:blip r:embed="rId3"/>
              <a:srcRect l="4382" t="6953" r="3824" b="38614"/>
              <a:stretch/>
            </p:blipFill>
            <p:spPr>
              <a:xfrm>
                <a:off x="800640" y="2518920"/>
                <a:ext cx="823320" cy="1383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" name=""/>
              <p:cNvSpPr/>
              <p:nvPr/>
            </p:nvSpPr>
            <p:spPr>
              <a:xfrm>
                <a:off x="800640" y="2518920"/>
                <a:ext cx="295920" cy="457920"/>
              </a:xfrm>
              <a:custGeom>
                <a:avLst/>
                <a:gdLst/>
                <a:ahLst/>
                <a:rect l="l" t="t" r="r" b="b"/>
                <a:pathLst>
                  <a:path w="430" h="647">
                    <a:moveTo>
                      <a:pt x="307" y="70"/>
                    </a:moveTo>
                    <a:cubicBezTo>
                      <a:pt x="345" y="57"/>
                      <a:pt x="379" y="62"/>
                      <a:pt x="412" y="85"/>
                    </a:cubicBezTo>
                    <a:cubicBezTo>
                      <a:pt x="430" y="154"/>
                      <a:pt x="419" y="273"/>
                      <a:pt x="352" y="317"/>
                    </a:cubicBezTo>
                    <a:cubicBezTo>
                      <a:pt x="363" y="400"/>
                      <a:pt x="403" y="522"/>
                      <a:pt x="300" y="542"/>
                    </a:cubicBezTo>
                    <a:cubicBezTo>
                      <a:pt x="286" y="595"/>
                      <a:pt x="282" y="629"/>
                      <a:pt x="225" y="647"/>
                    </a:cubicBezTo>
                    <a:cubicBezTo>
                      <a:pt x="180" y="633"/>
                      <a:pt x="202" y="622"/>
                      <a:pt x="180" y="595"/>
                    </a:cubicBezTo>
                    <a:cubicBezTo>
                      <a:pt x="170" y="583"/>
                      <a:pt x="149" y="577"/>
                      <a:pt x="135" y="572"/>
                    </a:cubicBezTo>
                    <a:cubicBezTo>
                      <a:pt x="112" y="550"/>
                      <a:pt x="100" y="535"/>
                      <a:pt x="90" y="505"/>
                    </a:cubicBezTo>
                    <a:cubicBezTo>
                      <a:pt x="84" y="433"/>
                      <a:pt x="98" y="380"/>
                      <a:pt x="37" y="340"/>
                    </a:cubicBezTo>
                    <a:cubicBezTo>
                      <a:pt x="14" y="304"/>
                      <a:pt x="24" y="325"/>
                      <a:pt x="7" y="272"/>
                    </a:cubicBezTo>
                    <a:cubicBezTo>
                      <a:pt x="5" y="265"/>
                      <a:pt x="0" y="250"/>
                      <a:pt x="0" y="250"/>
                    </a:cubicBezTo>
                    <a:cubicBezTo>
                      <a:pt x="2" y="229"/>
                      <a:pt x="1" y="156"/>
                      <a:pt x="30" y="137"/>
                    </a:cubicBezTo>
                    <a:cubicBezTo>
                      <a:pt x="47" y="126"/>
                      <a:pt x="70" y="127"/>
                      <a:pt x="90" y="122"/>
                    </a:cubicBezTo>
                    <a:cubicBezTo>
                      <a:pt x="111" y="92"/>
                      <a:pt x="99" y="81"/>
                      <a:pt x="135" y="70"/>
                    </a:cubicBezTo>
                    <a:cubicBezTo>
                      <a:pt x="160" y="53"/>
                      <a:pt x="166" y="34"/>
                      <a:pt x="195" y="25"/>
                    </a:cubicBezTo>
                    <a:cubicBezTo>
                      <a:pt x="202" y="17"/>
                      <a:pt x="207" y="5"/>
                      <a:pt x="217" y="2"/>
                    </a:cubicBezTo>
                    <a:cubicBezTo>
                      <a:pt x="225" y="0"/>
                      <a:pt x="288" y="21"/>
                      <a:pt x="300" y="25"/>
                    </a:cubicBezTo>
                    <a:cubicBezTo>
                      <a:pt x="302" y="32"/>
                      <a:pt x="304" y="40"/>
                      <a:pt x="307" y="47"/>
                    </a:cubicBezTo>
                    <a:cubicBezTo>
                      <a:pt x="320" y="74"/>
                      <a:pt x="334" y="70"/>
                      <a:pt x="307" y="70"/>
                    </a:cubicBezTo>
                    <a:close/>
                  </a:path>
                </a:pathLst>
              </a:custGeom>
              <a:solidFill>
                <a:srgbClr val="cde9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80320" y="3893040"/>
                <a:ext cx="1182600" cy="580680"/>
              </a:xfrm>
              <a:prstGeom prst="rect">
                <a:avLst/>
              </a:prstGeom>
              <a:solidFill>
                <a:srgbClr val="ff99cc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he Andes Mountain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4" name="BD08091_" descr=""/>
              <p:cNvPicPr/>
              <p:nvPr/>
            </p:nvPicPr>
            <p:blipFill>
              <a:blip r:embed="rId4"/>
              <a:srcRect l="4382" t="6953" r="3824" b="38614"/>
              <a:stretch/>
            </p:blipFill>
            <p:spPr>
              <a:xfrm>
                <a:off x="2429280" y="2747880"/>
                <a:ext cx="141840" cy="23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BD08091_" descr=""/>
              <p:cNvPicPr/>
              <p:nvPr/>
            </p:nvPicPr>
            <p:blipFill>
              <a:blip r:embed="rId5"/>
              <a:srcRect l="4382" t="6953" r="3824" b="38614"/>
              <a:stretch/>
            </p:blipFill>
            <p:spPr>
              <a:xfrm>
                <a:off x="2281320" y="1450080"/>
                <a:ext cx="141480" cy="23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BD08091_" descr=""/>
              <p:cNvPicPr/>
              <p:nvPr/>
            </p:nvPicPr>
            <p:blipFill>
              <a:blip r:embed="rId6"/>
              <a:srcRect l="4382" t="6953" r="3824" b="38614"/>
              <a:stretch/>
            </p:blipFill>
            <p:spPr>
              <a:xfrm>
                <a:off x="2355120" y="2518920"/>
                <a:ext cx="141840" cy="23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BD08091_" descr=""/>
              <p:cNvPicPr/>
              <p:nvPr/>
            </p:nvPicPr>
            <p:blipFill>
              <a:blip r:embed="rId7"/>
              <a:srcRect l="4382" t="6953" r="3824" b="38614"/>
              <a:stretch/>
            </p:blipFill>
            <p:spPr>
              <a:xfrm>
                <a:off x="2429280" y="2289960"/>
                <a:ext cx="141840" cy="23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" name=""/>
              <p:cNvSpPr/>
              <p:nvPr/>
            </p:nvSpPr>
            <p:spPr>
              <a:xfrm>
                <a:off x="2281320" y="1526400"/>
                <a:ext cx="573120" cy="809640"/>
              </a:xfrm>
              <a:custGeom>
                <a:avLst/>
                <a:gdLst/>
                <a:ahLst/>
                <a:rect l="l" t="t" r="r" b="b"/>
                <a:pathLst>
                  <a:path w="336" h="423">
                    <a:moveTo>
                      <a:pt x="36" y="77"/>
                    </a:moveTo>
                    <a:cubicBezTo>
                      <a:pt x="41" y="62"/>
                      <a:pt x="54" y="12"/>
                      <a:pt x="72" y="5"/>
                    </a:cubicBezTo>
                    <a:cubicBezTo>
                      <a:pt x="84" y="0"/>
                      <a:pt x="96" y="13"/>
                      <a:pt x="108" y="17"/>
                    </a:cubicBezTo>
                    <a:cubicBezTo>
                      <a:pt x="139" y="63"/>
                      <a:pt x="151" y="71"/>
                      <a:pt x="204" y="53"/>
                    </a:cubicBezTo>
                    <a:cubicBezTo>
                      <a:pt x="256" y="70"/>
                      <a:pt x="270" y="71"/>
                      <a:pt x="288" y="125"/>
                    </a:cubicBezTo>
                    <a:cubicBezTo>
                      <a:pt x="266" y="191"/>
                      <a:pt x="270" y="139"/>
                      <a:pt x="312" y="173"/>
                    </a:cubicBezTo>
                    <a:cubicBezTo>
                      <a:pt x="323" y="182"/>
                      <a:pt x="328" y="197"/>
                      <a:pt x="336" y="209"/>
                    </a:cubicBezTo>
                    <a:cubicBezTo>
                      <a:pt x="321" y="286"/>
                      <a:pt x="323" y="281"/>
                      <a:pt x="252" y="305"/>
                    </a:cubicBezTo>
                    <a:cubicBezTo>
                      <a:pt x="244" y="317"/>
                      <a:pt x="238" y="331"/>
                      <a:pt x="228" y="341"/>
                    </a:cubicBezTo>
                    <a:cubicBezTo>
                      <a:pt x="218" y="351"/>
                      <a:pt x="201" y="354"/>
                      <a:pt x="192" y="365"/>
                    </a:cubicBezTo>
                    <a:cubicBezTo>
                      <a:pt x="145" y="423"/>
                      <a:pt x="223" y="387"/>
                      <a:pt x="144" y="413"/>
                    </a:cubicBezTo>
                    <a:cubicBezTo>
                      <a:pt x="120" y="405"/>
                      <a:pt x="93" y="403"/>
                      <a:pt x="72" y="389"/>
                    </a:cubicBezTo>
                    <a:cubicBezTo>
                      <a:pt x="48" y="373"/>
                      <a:pt x="0" y="341"/>
                      <a:pt x="0" y="341"/>
                    </a:cubicBezTo>
                    <a:cubicBezTo>
                      <a:pt x="8" y="317"/>
                      <a:pt x="16" y="293"/>
                      <a:pt x="24" y="269"/>
                    </a:cubicBezTo>
                    <a:cubicBezTo>
                      <a:pt x="28" y="257"/>
                      <a:pt x="32" y="245"/>
                      <a:pt x="36" y="233"/>
                    </a:cubicBezTo>
                    <a:cubicBezTo>
                      <a:pt x="40" y="221"/>
                      <a:pt x="48" y="197"/>
                      <a:pt x="48" y="197"/>
                    </a:cubicBezTo>
                    <a:cubicBezTo>
                      <a:pt x="31" y="145"/>
                      <a:pt x="31" y="167"/>
                      <a:pt x="48" y="101"/>
                    </a:cubicBezTo>
                    <a:cubicBezTo>
                      <a:pt x="51" y="89"/>
                      <a:pt x="66" y="76"/>
                      <a:pt x="60" y="65"/>
                    </a:cubicBezTo>
                    <a:cubicBezTo>
                      <a:pt x="56" y="57"/>
                      <a:pt x="44" y="73"/>
                      <a:pt x="36" y="77"/>
                    </a:cubicBezTo>
                    <a:close/>
                  </a:path>
                </a:pathLst>
              </a:custGeom>
              <a:solidFill>
                <a:srgbClr val="ffe783"/>
              </a:solid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69" name="BD08091_" descr=""/>
              <p:cNvPicPr/>
              <p:nvPr/>
            </p:nvPicPr>
            <p:blipFill>
              <a:blip r:embed="rId8"/>
              <a:srcRect l="4382" t="6953" r="3824" b="38614"/>
              <a:stretch/>
            </p:blipFill>
            <p:spPr>
              <a:xfrm>
                <a:off x="2059200" y="1373760"/>
                <a:ext cx="141480" cy="23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" name="BD08091_" descr=""/>
              <p:cNvPicPr/>
              <p:nvPr/>
            </p:nvPicPr>
            <p:blipFill>
              <a:blip r:embed="rId9"/>
              <a:srcRect l="4382" t="6953" r="3824" b="38614"/>
              <a:stretch/>
            </p:blipFill>
            <p:spPr>
              <a:xfrm>
                <a:off x="2281320" y="2061000"/>
                <a:ext cx="141480" cy="23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" name=""/>
              <p:cNvSpPr/>
              <p:nvPr/>
            </p:nvSpPr>
            <p:spPr>
              <a:xfrm>
                <a:off x="1319040" y="839520"/>
                <a:ext cx="221760" cy="181080"/>
              </a:xfrm>
              <a:prstGeom prst="rightArrow">
                <a:avLst>
                  <a:gd name="adj1" fmla="val 50000"/>
                  <a:gd name="adj2" fmla="val 3061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799000" y="1908000"/>
                <a:ext cx="295920" cy="152640"/>
              </a:xfrm>
              <a:prstGeom prst="leftArrow">
                <a:avLst>
                  <a:gd name="adj1" fmla="val 50000"/>
                  <a:gd name="adj2" fmla="val 48467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503440" y="3664080"/>
                <a:ext cx="295560" cy="180720"/>
              </a:xfrm>
              <a:prstGeom prst="leftArrow">
                <a:avLst>
                  <a:gd name="adj1" fmla="val 50000"/>
                  <a:gd name="adj2" fmla="val 4088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74" name="BD08091_" descr=""/>
              <p:cNvPicPr/>
              <p:nvPr/>
            </p:nvPicPr>
            <p:blipFill>
              <a:blip r:embed="rId10"/>
              <a:srcRect l="4382" t="6953" r="3824" b="38614"/>
              <a:stretch/>
            </p:blipFill>
            <p:spPr>
              <a:xfrm>
                <a:off x="2281320" y="1755360"/>
                <a:ext cx="141480" cy="238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5" name="BD08091_" descr=""/>
              <p:cNvPicPr/>
              <p:nvPr/>
            </p:nvPicPr>
            <p:blipFill>
              <a:blip r:embed="rId11"/>
              <a:srcRect l="4382" t="6953" r="3824" b="38614"/>
              <a:stretch/>
            </p:blipFill>
            <p:spPr>
              <a:xfrm>
                <a:off x="2355120" y="2900520"/>
                <a:ext cx="141840" cy="238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76" name=""/>
          <p:cNvGrpSpPr/>
          <p:nvPr/>
        </p:nvGrpSpPr>
        <p:grpSpPr>
          <a:xfrm>
            <a:off x="1345320" y="465120"/>
            <a:ext cx="630720" cy="793080"/>
            <a:chOff x="1345320" y="465120"/>
            <a:chExt cx="630720" cy="793080"/>
          </a:xfrm>
        </p:grpSpPr>
        <p:grpSp>
          <p:nvGrpSpPr>
            <p:cNvPr id="77" name=""/>
            <p:cNvGrpSpPr/>
            <p:nvPr/>
          </p:nvGrpSpPr>
          <p:grpSpPr>
            <a:xfrm>
              <a:off x="1345320" y="465120"/>
              <a:ext cx="630720" cy="793080"/>
              <a:chOff x="1345320" y="465120"/>
              <a:chExt cx="630720" cy="793080"/>
            </a:xfrm>
          </p:grpSpPr>
          <p:sp>
            <p:nvSpPr>
              <p:cNvPr id="78" name=""/>
              <p:cNvSpPr/>
              <p:nvPr/>
            </p:nvSpPr>
            <p:spPr>
              <a:xfrm rot="21327600">
                <a:off x="1435680" y="469440"/>
                <a:ext cx="113040" cy="95760"/>
              </a:xfrm>
              <a:prstGeom prst="irregularSeal2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9" name=""/>
              <p:cNvGrpSpPr/>
              <p:nvPr/>
            </p:nvGrpSpPr>
            <p:grpSpPr>
              <a:xfrm>
                <a:off x="1345320" y="483480"/>
                <a:ext cx="630720" cy="774720"/>
                <a:chOff x="1345320" y="483480"/>
                <a:chExt cx="630720" cy="774720"/>
              </a:xfrm>
            </p:grpSpPr>
            <p:grpSp>
              <p:nvGrpSpPr>
                <p:cNvPr id="80" name=""/>
                <p:cNvGrpSpPr/>
                <p:nvPr/>
              </p:nvGrpSpPr>
              <p:grpSpPr>
                <a:xfrm>
                  <a:off x="1345320" y="483480"/>
                  <a:ext cx="630720" cy="774720"/>
                  <a:chOff x="1345320" y="483480"/>
                  <a:chExt cx="630720" cy="774720"/>
                </a:xfrm>
              </p:grpSpPr>
              <p:grpSp>
                <p:nvGrpSpPr>
                  <p:cNvPr id="81" name=""/>
                  <p:cNvGrpSpPr/>
                  <p:nvPr/>
                </p:nvGrpSpPr>
                <p:grpSpPr>
                  <a:xfrm>
                    <a:off x="1345320" y="483480"/>
                    <a:ext cx="630720" cy="774720"/>
                    <a:chOff x="1345320" y="483480"/>
                    <a:chExt cx="630720" cy="774720"/>
                  </a:xfrm>
                </p:grpSpPr>
                <p:grpSp>
                  <p:nvGrpSpPr>
                    <p:cNvPr id="82" name=""/>
                    <p:cNvGrpSpPr/>
                    <p:nvPr/>
                  </p:nvGrpSpPr>
                  <p:grpSpPr>
                    <a:xfrm>
                      <a:off x="1345320" y="483480"/>
                      <a:ext cx="630720" cy="774720"/>
                      <a:chOff x="1345320" y="483480"/>
                      <a:chExt cx="630720" cy="774720"/>
                    </a:xfrm>
                  </p:grpSpPr>
                  <p:grpSp>
                    <p:nvGrpSpPr>
                      <p:cNvPr id="83" name=""/>
                      <p:cNvGrpSpPr/>
                      <p:nvPr/>
                    </p:nvGrpSpPr>
                    <p:grpSpPr>
                      <a:xfrm>
                        <a:off x="1345320" y="483480"/>
                        <a:ext cx="630720" cy="774720"/>
                        <a:chOff x="1345320" y="483480"/>
                        <a:chExt cx="630720" cy="774720"/>
                      </a:xfrm>
                    </p:grpSpPr>
                    <p:grpSp>
                      <p:nvGrpSpPr>
                        <p:cNvPr id="84" name=""/>
                        <p:cNvGrpSpPr/>
                        <p:nvPr/>
                      </p:nvGrpSpPr>
                      <p:grpSpPr>
                        <a:xfrm>
                          <a:off x="1345320" y="483480"/>
                          <a:ext cx="630720" cy="774720"/>
                          <a:chOff x="1345320" y="483480"/>
                          <a:chExt cx="630720" cy="774720"/>
                        </a:xfrm>
                      </p:grpSpPr>
                      <p:grpSp>
                        <p:nvGrpSpPr>
                          <p:cNvPr id="85" name=""/>
                          <p:cNvGrpSpPr/>
                          <p:nvPr/>
                        </p:nvGrpSpPr>
                        <p:grpSpPr>
                          <a:xfrm>
                            <a:off x="1345320" y="483480"/>
                            <a:ext cx="630720" cy="774720"/>
                            <a:chOff x="1345320" y="483480"/>
                            <a:chExt cx="630720" cy="774720"/>
                          </a:xfrm>
                        </p:grpSpPr>
                        <p:grpSp>
                          <p:nvGrpSpPr>
                            <p:cNvPr id="86" name=""/>
                            <p:cNvGrpSpPr/>
                            <p:nvPr/>
                          </p:nvGrpSpPr>
                          <p:grpSpPr>
                            <a:xfrm>
                              <a:off x="1345320" y="483480"/>
                              <a:ext cx="630720" cy="774720"/>
                              <a:chOff x="1345320" y="483480"/>
                              <a:chExt cx="630720" cy="774720"/>
                            </a:xfrm>
                          </p:grpSpPr>
                          <p:grpSp>
                            <p:nvGrpSpPr>
                              <p:cNvPr id="87" name=""/>
                              <p:cNvGrpSpPr/>
                              <p:nvPr/>
                            </p:nvGrpSpPr>
                            <p:grpSpPr>
                              <a:xfrm>
                                <a:off x="1345320" y="483480"/>
                                <a:ext cx="630720" cy="774720"/>
                                <a:chOff x="1345320" y="483480"/>
                                <a:chExt cx="630720" cy="774720"/>
                              </a:xfrm>
                            </p:grpSpPr>
                            <p:sp>
                              <p:nvSpPr>
                                <p:cNvPr id="88" name=""/>
                                <p:cNvSpPr/>
                                <p:nvPr/>
                              </p:nvSpPr>
                              <p:spPr>
                                <a:xfrm rot="21327600">
                                  <a:off x="1373040" y="504720"/>
                                  <a:ext cx="574560" cy="73152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5613" h="7564">
                                      <a:moveTo>
                                        <a:pt x="1709" y="155"/>
                                      </a:moveTo>
                                      <a:lnTo>
                                        <a:pt x="1920" y="129"/>
                                      </a:lnTo>
                                      <a:lnTo>
                                        <a:pt x="2153" y="21"/>
                                      </a:lnTo>
                                      <a:lnTo>
                                        <a:pt x="2278" y="43"/>
                                      </a:lnTo>
                                      <a:lnTo>
                                        <a:pt x="2382" y="82"/>
                                      </a:lnTo>
                                      <a:lnTo>
                                        <a:pt x="2489" y="129"/>
                                      </a:lnTo>
                                      <a:lnTo>
                                        <a:pt x="2554" y="176"/>
                                      </a:lnTo>
                                      <a:lnTo>
                                        <a:pt x="2584" y="211"/>
                                      </a:lnTo>
                                      <a:lnTo>
                                        <a:pt x="2571" y="254"/>
                                      </a:lnTo>
                                      <a:lnTo>
                                        <a:pt x="2403" y="400"/>
                                      </a:lnTo>
                                      <a:lnTo>
                                        <a:pt x="2343" y="400"/>
                                      </a:lnTo>
                                      <a:lnTo>
                                        <a:pt x="2235" y="464"/>
                                      </a:lnTo>
                                      <a:lnTo>
                                        <a:pt x="2153" y="494"/>
                                      </a:lnTo>
                                      <a:lnTo>
                                        <a:pt x="1993" y="464"/>
                                      </a:lnTo>
                                      <a:lnTo>
                                        <a:pt x="1929" y="430"/>
                                      </a:lnTo>
                                      <a:lnTo>
                                        <a:pt x="1885" y="430"/>
                                      </a:lnTo>
                                      <a:lnTo>
                                        <a:pt x="1864" y="451"/>
                                      </a:lnTo>
                                      <a:lnTo>
                                        <a:pt x="1959" y="611"/>
                                      </a:lnTo>
                                      <a:lnTo>
                                        <a:pt x="2002" y="937"/>
                                      </a:lnTo>
                                      <a:lnTo>
                                        <a:pt x="1972" y="1204"/>
                                      </a:lnTo>
                                      <a:lnTo>
                                        <a:pt x="1825" y="1733"/>
                                      </a:lnTo>
                                      <a:lnTo>
                                        <a:pt x="1791" y="2055"/>
                                      </a:lnTo>
                                      <a:lnTo>
                                        <a:pt x="1812" y="2184"/>
                                      </a:lnTo>
                                      <a:lnTo>
                                        <a:pt x="1812" y="2300"/>
                                      </a:lnTo>
                                      <a:lnTo>
                                        <a:pt x="1885" y="2425"/>
                                      </a:lnTo>
                                      <a:lnTo>
                                        <a:pt x="1937" y="2468"/>
                                      </a:lnTo>
                                      <a:lnTo>
                                        <a:pt x="2088" y="2395"/>
                                      </a:lnTo>
                                      <a:lnTo>
                                        <a:pt x="2183" y="2343"/>
                                      </a:lnTo>
                                      <a:lnTo>
                                        <a:pt x="2619" y="2300"/>
                                      </a:lnTo>
                                      <a:lnTo>
                                        <a:pt x="3072" y="2374"/>
                                      </a:lnTo>
                                      <a:lnTo>
                                        <a:pt x="3348" y="2395"/>
                                      </a:lnTo>
                                      <a:lnTo>
                                        <a:pt x="3486" y="2352"/>
                                      </a:lnTo>
                                      <a:lnTo>
                                        <a:pt x="3676" y="2322"/>
                                      </a:lnTo>
                                      <a:lnTo>
                                        <a:pt x="3736" y="2288"/>
                                      </a:lnTo>
                                      <a:lnTo>
                                        <a:pt x="4077" y="2322"/>
                                      </a:lnTo>
                                      <a:lnTo>
                                        <a:pt x="4513" y="2395"/>
                                      </a:lnTo>
                                      <a:lnTo>
                                        <a:pt x="4746" y="2490"/>
                                      </a:lnTo>
                                      <a:lnTo>
                                        <a:pt x="4914" y="2533"/>
                                      </a:lnTo>
                                      <a:lnTo>
                                        <a:pt x="5039" y="2511"/>
                                      </a:lnTo>
                                      <a:lnTo>
                                        <a:pt x="5104" y="2477"/>
                                      </a:lnTo>
                                      <a:lnTo>
                                        <a:pt x="5251" y="2477"/>
                                      </a:lnTo>
                                      <a:lnTo>
                                        <a:pt x="5389" y="2541"/>
                                      </a:lnTo>
                                      <a:lnTo>
                                        <a:pt x="5527" y="2692"/>
                                      </a:lnTo>
                                      <a:lnTo>
                                        <a:pt x="5578" y="2816"/>
                                      </a:lnTo>
                                      <a:lnTo>
                                        <a:pt x="5613" y="2954"/>
                                      </a:lnTo>
                                      <a:lnTo>
                                        <a:pt x="5548" y="3311"/>
                                      </a:lnTo>
                                      <a:lnTo>
                                        <a:pt x="5548" y="3449"/>
                                      </a:lnTo>
                                      <a:lnTo>
                                        <a:pt x="5570" y="3479"/>
                                      </a:lnTo>
                                      <a:lnTo>
                                        <a:pt x="5570" y="3526"/>
                                      </a:lnTo>
                                      <a:lnTo>
                                        <a:pt x="5497" y="3578"/>
                                      </a:lnTo>
                                      <a:lnTo>
                                        <a:pt x="5466" y="3578"/>
                                      </a:lnTo>
                                      <a:lnTo>
                                        <a:pt x="5432" y="3513"/>
                                      </a:lnTo>
                                      <a:lnTo>
                                        <a:pt x="5337" y="3504"/>
                                      </a:lnTo>
                                      <a:lnTo>
                                        <a:pt x="5337" y="3479"/>
                                      </a:lnTo>
                                      <a:lnTo>
                                        <a:pt x="5324" y="3470"/>
                                      </a:lnTo>
                                      <a:lnTo>
                                        <a:pt x="5307" y="3492"/>
                                      </a:lnTo>
                                      <a:lnTo>
                                        <a:pt x="5307" y="3535"/>
                                      </a:lnTo>
                                      <a:lnTo>
                                        <a:pt x="5346" y="3586"/>
                                      </a:lnTo>
                                      <a:lnTo>
                                        <a:pt x="5324" y="3629"/>
                                      </a:lnTo>
                                      <a:lnTo>
                                        <a:pt x="5367" y="3745"/>
                                      </a:lnTo>
                                      <a:lnTo>
                                        <a:pt x="5337" y="3754"/>
                                      </a:lnTo>
                                      <a:lnTo>
                                        <a:pt x="5337" y="3810"/>
                                      </a:lnTo>
                                      <a:lnTo>
                                        <a:pt x="5358" y="3827"/>
                                      </a:lnTo>
                                      <a:lnTo>
                                        <a:pt x="5358" y="3861"/>
                                      </a:lnTo>
                                      <a:lnTo>
                                        <a:pt x="5315" y="3891"/>
                                      </a:lnTo>
                                      <a:lnTo>
                                        <a:pt x="5294" y="3913"/>
                                      </a:lnTo>
                                      <a:lnTo>
                                        <a:pt x="5315" y="3969"/>
                                      </a:lnTo>
                                      <a:lnTo>
                                        <a:pt x="5264" y="4008"/>
                                      </a:lnTo>
                                      <a:lnTo>
                                        <a:pt x="5242" y="4029"/>
                                      </a:lnTo>
                                      <a:lnTo>
                                        <a:pt x="5307" y="4072"/>
                                      </a:lnTo>
                                      <a:lnTo>
                                        <a:pt x="5307" y="4081"/>
                                      </a:lnTo>
                                      <a:lnTo>
                                        <a:pt x="5315" y="4094"/>
                                      </a:lnTo>
                                      <a:lnTo>
                                        <a:pt x="5212" y="4188"/>
                                      </a:lnTo>
                                      <a:lnTo>
                                        <a:pt x="5229" y="4231"/>
                                      </a:lnTo>
                                      <a:lnTo>
                                        <a:pt x="5199" y="4326"/>
                                      </a:lnTo>
                                      <a:lnTo>
                                        <a:pt x="5212" y="4347"/>
                                      </a:lnTo>
                                      <a:lnTo>
                                        <a:pt x="5212" y="4377"/>
                                      </a:lnTo>
                                      <a:lnTo>
                                        <a:pt x="5095" y="4450"/>
                                      </a:lnTo>
                                      <a:lnTo>
                                        <a:pt x="5039" y="4506"/>
                                      </a:lnTo>
                                      <a:lnTo>
                                        <a:pt x="5039" y="4545"/>
                                      </a:lnTo>
                                      <a:lnTo>
                                        <a:pt x="5069" y="4567"/>
                                      </a:lnTo>
                                      <a:lnTo>
                                        <a:pt x="5095" y="4592"/>
                                      </a:lnTo>
                                      <a:lnTo>
                                        <a:pt x="5095" y="4622"/>
                                      </a:lnTo>
                                      <a:lnTo>
                                        <a:pt x="5031" y="4674"/>
                                      </a:lnTo>
                                      <a:lnTo>
                                        <a:pt x="4987" y="4717"/>
                                      </a:lnTo>
                                      <a:lnTo>
                                        <a:pt x="4996" y="4726"/>
                                      </a:lnTo>
                                      <a:lnTo>
                                        <a:pt x="5009" y="4726"/>
                                      </a:lnTo>
                                      <a:lnTo>
                                        <a:pt x="5009" y="4760"/>
                                      </a:lnTo>
                                      <a:lnTo>
                                        <a:pt x="4841" y="4949"/>
                                      </a:lnTo>
                                      <a:lnTo>
                                        <a:pt x="4871" y="5181"/>
                                      </a:lnTo>
                                      <a:lnTo>
                                        <a:pt x="5022" y="5444"/>
                                      </a:lnTo>
                                      <a:lnTo>
                                        <a:pt x="5095" y="5517"/>
                                      </a:lnTo>
                                      <a:lnTo>
                                        <a:pt x="5061" y="5783"/>
                                      </a:lnTo>
                                      <a:lnTo>
                                        <a:pt x="4966" y="6192"/>
                                      </a:lnTo>
                                      <a:lnTo>
                                        <a:pt x="4923" y="6510"/>
                                      </a:lnTo>
                                      <a:lnTo>
                                        <a:pt x="4923" y="7164"/>
                                      </a:lnTo>
                                      <a:lnTo>
                                        <a:pt x="4936" y="7258"/>
                                      </a:lnTo>
                                      <a:lnTo>
                                        <a:pt x="4936" y="7293"/>
                                      </a:lnTo>
                                      <a:lnTo>
                                        <a:pt x="4880" y="7323"/>
                                      </a:lnTo>
                                      <a:lnTo>
                                        <a:pt x="4841" y="7396"/>
                                      </a:lnTo>
                                      <a:lnTo>
                                        <a:pt x="4841" y="7512"/>
                                      </a:lnTo>
                                      <a:lnTo>
                                        <a:pt x="4806" y="7546"/>
                                      </a:lnTo>
                                      <a:lnTo>
                                        <a:pt x="4301" y="7564"/>
                                      </a:lnTo>
                                      <a:lnTo>
                                        <a:pt x="4258" y="7546"/>
                                      </a:lnTo>
                                      <a:lnTo>
                                        <a:pt x="4258" y="7426"/>
                                      </a:lnTo>
                                      <a:lnTo>
                                        <a:pt x="4353" y="7344"/>
                                      </a:lnTo>
                                      <a:lnTo>
                                        <a:pt x="4491" y="7280"/>
                                      </a:lnTo>
                                      <a:lnTo>
                                        <a:pt x="4565" y="7228"/>
                                      </a:lnTo>
                                      <a:lnTo>
                                        <a:pt x="4616" y="7009"/>
                                      </a:lnTo>
                                      <a:lnTo>
                                        <a:pt x="4616" y="6205"/>
                                      </a:lnTo>
                                      <a:lnTo>
                                        <a:pt x="4543" y="5857"/>
                                      </a:lnTo>
                                      <a:lnTo>
                                        <a:pt x="4310" y="5500"/>
                                      </a:lnTo>
                                      <a:lnTo>
                                        <a:pt x="4172" y="5336"/>
                                      </a:lnTo>
                                      <a:lnTo>
                                        <a:pt x="3952" y="5203"/>
                                      </a:lnTo>
                                      <a:lnTo>
                                        <a:pt x="3836" y="5405"/>
                                      </a:lnTo>
                                      <a:lnTo>
                                        <a:pt x="3801" y="5525"/>
                                      </a:lnTo>
                                      <a:lnTo>
                                        <a:pt x="3801" y="5581"/>
                                      </a:lnTo>
                                      <a:lnTo>
                                        <a:pt x="3823" y="5603"/>
                                      </a:lnTo>
                                      <a:lnTo>
                                        <a:pt x="3823" y="5801"/>
                                      </a:lnTo>
                                      <a:lnTo>
                                        <a:pt x="3486" y="6373"/>
                                      </a:lnTo>
                                      <a:lnTo>
                                        <a:pt x="3326" y="6721"/>
                                      </a:lnTo>
                                      <a:lnTo>
                                        <a:pt x="3232" y="6996"/>
                                      </a:lnTo>
                                      <a:lnTo>
                                        <a:pt x="3210" y="7082"/>
                                      </a:lnTo>
                                      <a:lnTo>
                                        <a:pt x="3253" y="7250"/>
                                      </a:lnTo>
                                      <a:lnTo>
                                        <a:pt x="3232" y="7323"/>
                                      </a:lnTo>
                                      <a:lnTo>
                                        <a:pt x="3167" y="7323"/>
                                      </a:lnTo>
                                      <a:lnTo>
                                        <a:pt x="3137" y="7301"/>
                                      </a:lnTo>
                                      <a:lnTo>
                                        <a:pt x="3124" y="7301"/>
                                      </a:lnTo>
                                      <a:lnTo>
                                        <a:pt x="3124" y="7353"/>
                                      </a:lnTo>
                                      <a:lnTo>
                                        <a:pt x="3145" y="7417"/>
                                      </a:lnTo>
                                      <a:lnTo>
                                        <a:pt x="3124" y="7491"/>
                                      </a:lnTo>
                                      <a:lnTo>
                                        <a:pt x="3007" y="7525"/>
                                      </a:lnTo>
                                      <a:lnTo>
                                        <a:pt x="2869" y="7499"/>
                                      </a:lnTo>
                                      <a:lnTo>
                                        <a:pt x="2533" y="7525"/>
                                      </a:lnTo>
                                      <a:lnTo>
                                        <a:pt x="2489" y="7499"/>
                                      </a:lnTo>
                                      <a:lnTo>
                                        <a:pt x="2524" y="7374"/>
                                      </a:lnTo>
                                      <a:lnTo>
                                        <a:pt x="2627" y="7271"/>
                                      </a:lnTo>
                                      <a:lnTo>
                                        <a:pt x="2774" y="7207"/>
                                      </a:lnTo>
                                      <a:lnTo>
                                        <a:pt x="2904" y="7009"/>
                                      </a:lnTo>
                                      <a:lnTo>
                                        <a:pt x="3167" y="6403"/>
                                      </a:lnTo>
                                      <a:lnTo>
                                        <a:pt x="3167" y="6338"/>
                                      </a:lnTo>
                                      <a:lnTo>
                                        <a:pt x="3158" y="5887"/>
                                      </a:lnTo>
                                      <a:lnTo>
                                        <a:pt x="3050" y="5431"/>
                                      </a:lnTo>
                                      <a:lnTo>
                                        <a:pt x="3007" y="5212"/>
                                      </a:lnTo>
                                      <a:lnTo>
                                        <a:pt x="3016" y="5035"/>
                                      </a:lnTo>
                                      <a:lnTo>
                                        <a:pt x="3063" y="4717"/>
                                      </a:lnTo>
                                      <a:lnTo>
                                        <a:pt x="3081" y="4674"/>
                                      </a:lnTo>
                                      <a:lnTo>
                                        <a:pt x="2999" y="4653"/>
                                      </a:lnTo>
                                      <a:lnTo>
                                        <a:pt x="2921" y="4704"/>
                                      </a:lnTo>
                                      <a:lnTo>
                                        <a:pt x="2869" y="4687"/>
                                      </a:lnTo>
                                      <a:lnTo>
                                        <a:pt x="2787" y="4739"/>
                                      </a:lnTo>
                                      <a:lnTo>
                                        <a:pt x="2774" y="4726"/>
                                      </a:lnTo>
                                      <a:lnTo>
                                        <a:pt x="2701" y="4782"/>
                                      </a:lnTo>
                                      <a:lnTo>
                                        <a:pt x="2679" y="4782"/>
                                      </a:lnTo>
                                      <a:lnTo>
                                        <a:pt x="2658" y="4760"/>
                                      </a:lnTo>
                                      <a:lnTo>
                                        <a:pt x="2511" y="4782"/>
                                      </a:lnTo>
                                      <a:lnTo>
                                        <a:pt x="2438" y="4842"/>
                                      </a:lnTo>
                                      <a:lnTo>
                                        <a:pt x="2343" y="4820"/>
                                      </a:lnTo>
                                      <a:lnTo>
                                        <a:pt x="2330" y="4833"/>
                                      </a:lnTo>
                                      <a:lnTo>
                                        <a:pt x="2127" y="4833"/>
                                      </a:lnTo>
                                      <a:lnTo>
                                        <a:pt x="2097" y="4812"/>
                                      </a:lnTo>
                                      <a:lnTo>
                                        <a:pt x="2088" y="4799"/>
                                      </a:lnTo>
                                      <a:lnTo>
                                        <a:pt x="1920" y="4958"/>
                                      </a:lnTo>
                                      <a:lnTo>
                                        <a:pt x="1441" y="5487"/>
                                      </a:lnTo>
                                      <a:lnTo>
                                        <a:pt x="1484" y="5538"/>
                                      </a:lnTo>
                                      <a:lnTo>
                                        <a:pt x="1476" y="5646"/>
                                      </a:lnTo>
                                      <a:lnTo>
                                        <a:pt x="1463" y="5654"/>
                                      </a:lnTo>
                                      <a:lnTo>
                                        <a:pt x="1825" y="5848"/>
                                      </a:lnTo>
                                      <a:lnTo>
                                        <a:pt x="1907" y="5865"/>
                                      </a:lnTo>
                                      <a:lnTo>
                                        <a:pt x="2054" y="5857"/>
                                      </a:lnTo>
                                      <a:lnTo>
                                        <a:pt x="2140" y="5835"/>
                                      </a:lnTo>
                                      <a:lnTo>
                                        <a:pt x="2183" y="5792"/>
                                      </a:lnTo>
                                      <a:lnTo>
                                        <a:pt x="2205" y="5792"/>
                                      </a:lnTo>
                                      <a:lnTo>
                                        <a:pt x="2226" y="5857"/>
                                      </a:lnTo>
                                      <a:lnTo>
                                        <a:pt x="2248" y="5878"/>
                                      </a:lnTo>
                                      <a:lnTo>
                                        <a:pt x="2278" y="5878"/>
                                      </a:lnTo>
                                      <a:lnTo>
                                        <a:pt x="2343" y="5783"/>
                                      </a:lnTo>
                                      <a:lnTo>
                                        <a:pt x="2425" y="5728"/>
                                      </a:lnTo>
                                      <a:lnTo>
                                        <a:pt x="2606" y="5740"/>
                                      </a:lnTo>
                                      <a:lnTo>
                                        <a:pt x="2774" y="5835"/>
                                      </a:lnTo>
                                      <a:lnTo>
                                        <a:pt x="2809" y="5865"/>
                                      </a:lnTo>
                                      <a:lnTo>
                                        <a:pt x="2826" y="5908"/>
                                      </a:lnTo>
                                      <a:lnTo>
                                        <a:pt x="2826" y="5951"/>
                                      </a:lnTo>
                                      <a:lnTo>
                                        <a:pt x="2524" y="6110"/>
                                      </a:lnTo>
                                      <a:lnTo>
                                        <a:pt x="2256" y="6235"/>
                                      </a:lnTo>
                                      <a:lnTo>
                                        <a:pt x="2067" y="6226"/>
                                      </a:lnTo>
                                      <a:lnTo>
                                        <a:pt x="1514" y="6024"/>
                                      </a:lnTo>
                                      <a:lnTo>
                                        <a:pt x="1264" y="5865"/>
                                      </a:lnTo>
                                      <a:lnTo>
                                        <a:pt x="1191" y="5943"/>
                                      </a:lnTo>
                                      <a:lnTo>
                                        <a:pt x="1191" y="5981"/>
                                      </a:lnTo>
                                      <a:lnTo>
                                        <a:pt x="1105" y="6089"/>
                                      </a:lnTo>
                                      <a:lnTo>
                                        <a:pt x="975" y="6330"/>
                                      </a:lnTo>
                                      <a:lnTo>
                                        <a:pt x="915" y="6648"/>
                                      </a:lnTo>
                                      <a:lnTo>
                                        <a:pt x="859" y="6880"/>
                                      </a:lnTo>
                                      <a:lnTo>
                                        <a:pt x="889" y="7056"/>
                                      </a:lnTo>
                                      <a:lnTo>
                                        <a:pt x="902" y="7121"/>
                                      </a:lnTo>
                                      <a:lnTo>
                                        <a:pt x="880" y="7185"/>
                                      </a:lnTo>
                                      <a:lnTo>
                                        <a:pt x="755" y="7258"/>
                                      </a:lnTo>
                                      <a:lnTo>
                                        <a:pt x="669" y="7353"/>
                                      </a:lnTo>
                                      <a:lnTo>
                                        <a:pt x="734" y="7452"/>
                                      </a:lnTo>
                                      <a:lnTo>
                                        <a:pt x="721" y="7525"/>
                                      </a:lnTo>
                                      <a:lnTo>
                                        <a:pt x="552" y="7555"/>
                                      </a:lnTo>
                                      <a:lnTo>
                                        <a:pt x="108" y="7534"/>
                                      </a:lnTo>
                                      <a:lnTo>
                                        <a:pt x="173" y="7387"/>
                                      </a:lnTo>
                                      <a:lnTo>
                                        <a:pt x="276" y="7250"/>
                                      </a:lnTo>
                                      <a:lnTo>
                                        <a:pt x="319" y="7237"/>
                                      </a:lnTo>
                                      <a:lnTo>
                                        <a:pt x="531" y="6975"/>
                                      </a:lnTo>
                                      <a:lnTo>
                                        <a:pt x="764" y="6256"/>
                                      </a:lnTo>
                                      <a:lnTo>
                                        <a:pt x="815" y="5943"/>
                                      </a:lnTo>
                                      <a:lnTo>
                                        <a:pt x="837" y="5857"/>
                                      </a:lnTo>
                                      <a:lnTo>
                                        <a:pt x="828" y="5500"/>
                                      </a:lnTo>
                                      <a:lnTo>
                                        <a:pt x="923" y="5212"/>
                                      </a:lnTo>
                                      <a:lnTo>
                                        <a:pt x="962" y="4704"/>
                                      </a:lnTo>
                                      <a:lnTo>
                                        <a:pt x="988" y="4592"/>
                                      </a:lnTo>
                                      <a:lnTo>
                                        <a:pt x="988" y="4545"/>
                                      </a:lnTo>
                                      <a:lnTo>
                                        <a:pt x="867" y="4369"/>
                                      </a:lnTo>
                                      <a:lnTo>
                                        <a:pt x="859" y="4377"/>
                                      </a:lnTo>
                                      <a:lnTo>
                                        <a:pt x="859" y="4399"/>
                                      </a:lnTo>
                                      <a:lnTo>
                                        <a:pt x="828" y="4412"/>
                                      </a:lnTo>
                                      <a:lnTo>
                                        <a:pt x="734" y="4296"/>
                                      </a:lnTo>
                                      <a:lnTo>
                                        <a:pt x="639" y="4188"/>
                                      </a:lnTo>
                                      <a:lnTo>
                                        <a:pt x="604" y="4223"/>
                                      </a:lnTo>
                                      <a:lnTo>
                                        <a:pt x="531" y="4081"/>
                                      </a:lnTo>
                                      <a:lnTo>
                                        <a:pt x="509" y="3999"/>
                                      </a:lnTo>
                                      <a:lnTo>
                                        <a:pt x="501" y="3986"/>
                                      </a:lnTo>
                                      <a:lnTo>
                                        <a:pt x="470" y="4051"/>
                                      </a:lnTo>
                                      <a:lnTo>
                                        <a:pt x="470" y="4063"/>
                                      </a:lnTo>
                                      <a:lnTo>
                                        <a:pt x="444" y="4063"/>
                                      </a:lnTo>
                                      <a:lnTo>
                                        <a:pt x="384" y="3797"/>
                                      </a:lnTo>
                                      <a:lnTo>
                                        <a:pt x="362" y="3818"/>
                                      </a:lnTo>
                                      <a:lnTo>
                                        <a:pt x="350" y="3818"/>
                                      </a:lnTo>
                                      <a:lnTo>
                                        <a:pt x="298" y="3535"/>
                                      </a:lnTo>
                                      <a:lnTo>
                                        <a:pt x="255" y="3535"/>
                                      </a:lnTo>
                                      <a:lnTo>
                                        <a:pt x="224" y="3375"/>
                                      </a:lnTo>
                                      <a:lnTo>
                                        <a:pt x="224" y="3354"/>
                                      </a:lnTo>
                                      <a:lnTo>
                                        <a:pt x="173" y="3354"/>
                                      </a:lnTo>
                                      <a:lnTo>
                                        <a:pt x="138" y="3070"/>
                                      </a:lnTo>
                                      <a:lnTo>
                                        <a:pt x="138" y="2890"/>
                                      </a:lnTo>
                                      <a:lnTo>
                                        <a:pt x="173" y="2773"/>
                                      </a:lnTo>
                                      <a:lnTo>
                                        <a:pt x="173" y="2765"/>
                                      </a:lnTo>
                                      <a:lnTo>
                                        <a:pt x="121" y="2765"/>
                                      </a:lnTo>
                                      <a:lnTo>
                                        <a:pt x="181" y="2460"/>
                                      </a:lnTo>
                                      <a:lnTo>
                                        <a:pt x="121" y="2468"/>
                                      </a:lnTo>
                                      <a:lnTo>
                                        <a:pt x="194" y="2193"/>
                                      </a:lnTo>
                                      <a:lnTo>
                                        <a:pt x="289" y="1815"/>
                                      </a:lnTo>
                                      <a:lnTo>
                                        <a:pt x="224" y="1815"/>
                                      </a:lnTo>
                                      <a:lnTo>
                                        <a:pt x="311" y="1591"/>
                                      </a:lnTo>
                                      <a:lnTo>
                                        <a:pt x="216" y="1625"/>
                                      </a:lnTo>
                                      <a:lnTo>
                                        <a:pt x="289" y="1466"/>
                                      </a:lnTo>
                                      <a:lnTo>
                                        <a:pt x="350" y="1385"/>
                                      </a:lnTo>
                                      <a:lnTo>
                                        <a:pt x="350" y="1372"/>
                                      </a:lnTo>
                                      <a:lnTo>
                                        <a:pt x="311" y="1372"/>
                                      </a:lnTo>
                                      <a:lnTo>
                                        <a:pt x="289" y="1393"/>
                                      </a:lnTo>
                                      <a:lnTo>
                                        <a:pt x="276" y="1385"/>
                                      </a:lnTo>
                                      <a:lnTo>
                                        <a:pt x="268" y="1385"/>
                                      </a:lnTo>
                                      <a:lnTo>
                                        <a:pt x="328" y="1307"/>
                                      </a:lnTo>
                                      <a:lnTo>
                                        <a:pt x="639" y="1023"/>
                                      </a:lnTo>
                                      <a:lnTo>
                                        <a:pt x="677" y="937"/>
                                      </a:lnTo>
                                      <a:lnTo>
                                        <a:pt x="690" y="929"/>
                                      </a:lnTo>
                                      <a:lnTo>
                                        <a:pt x="583" y="873"/>
                                      </a:lnTo>
                                      <a:lnTo>
                                        <a:pt x="470" y="856"/>
                                      </a:lnTo>
                                      <a:lnTo>
                                        <a:pt x="371" y="834"/>
                                      </a:lnTo>
                                      <a:lnTo>
                                        <a:pt x="216" y="800"/>
                                      </a:lnTo>
                                      <a:lnTo>
                                        <a:pt x="138" y="697"/>
                                      </a:lnTo>
                                      <a:lnTo>
                                        <a:pt x="73" y="697"/>
                                      </a:lnTo>
                                      <a:lnTo>
                                        <a:pt x="0" y="645"/>
                                      </a:lnTo>
                                      <a:lnTo>
                                        <a:pt x="0" y="507"/>
                                      </a:lnTo>
                                      <a:lnTo>
                                        <a:pt x="276" y="254"/>
                                      </a:lnTo>
                                      <a:lnTo>
                                        <a:pt x="531" y="224"/>
                                      </a:lnTo>
                                      <a:lnTo>
                                        <a:pt x="902" y="52"/>
                                      </a:lnTo>
                                      <a:lnTo>
                                        <a:pt x="1122" y="0"/>
                                      </a:lnTo>
                                      <a:lnTo>
                                        <a:pt x="1432" y="21"/>
                                      </a:lnTo>
                                      <a:lnTo>
                                        <a:pt x="1709" y="155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grpSp>
                              <p:nvGrpSpPr>
                                <p:cNvPr id="89" name=""/>
                                <p:cNvGrpSpPr/>
                                <p:nvPr/>
                              </p:nvGrpSpPr>
                              <p:grpSpPr>
                                <a:xfrm>
                                  <a:off x="1368000" y="554400"/>
                                  <a:ext cx="449640" cy="686520"/>
                                  <a:chOff x="1368000" y="554400"/>
                                  <a:chExt cx="449640" cy="686520"/>
                                </a:xfrm>
                              </p:grpSpPr>
                              <p:sp>
                                <p:nvSpPr>
                                  <p:cNvPr id="90" name=""/>
                                  <p:cNvSpPr/>
                                  <p:nvPr/>
                                </p:nvSpPr>
                                <p:spPr>
                                  <a:xfrm rot="21327600">
                                    <a:off x="1383840" y="567720"/>
                                    <a:ext cx="355680" cy="416520"/>
                                  </a:xfrm>
                                  <a:custGeom>
                                    <a:avLst/>
                                    <a:gdLst/>
                                    <a:ahLst/>
                                    <a:rect l="l" t="t" r="r" b="b"/>
                                    <a:pathLst>
                                      <a:path w="3473" h="4305">
                                        <a:moveTo>
                                          <a:pt x="1665" y="0"/>
                                        </a:moveTo>
                                        <a:lnTo>
                                          <a:pt x="1665" y="82"/>
                                        </a:lnTo>
                                        <a:lnTo>
                                          <a:pt x="1626" y="104"/>
                                        </a:lnTo>
                                        <a:lnTo>
                                          <a:pt x="1622" y="112"/>
                                        </a:lnTo>
                                        <a:lnTo>
                                          <a:pt x="1618" y="129"/>
                                        </a:lnTo>
                                        <a:lnTo>
                                          <a:pt x="1605" y="142"/>
                                        </a:lnTo>
                                        <a:lnTo>
                                          <a:pt x="1596" y="159"/>
                                        </a:lnTo>
                                        <a:lnTo>
                                          <a:pt x="1583" y="177"/>
                                        </a:lnTo>
                                        <a:lnTo>
                                          <a:pt x="1574" y="190"/>
                                        </a:lnTo>
                                        <a:lnTo>
                                          <a:pt x="1566" y="202"/>
                                        </a:lnTo>
                                        <a:lnTo>
                                          <a:pt x="1566" y="202"/>
                                        </a:lnTo>
                                        <a:lnTo>
                                          <a:pt x="1544" y="202"/>
                                        </a:lnTo>
                                        <a:lnTo>
                                          <a:pt x="1544" y="211"/>
                                        </a:lnTo>
                                        <a:lnTo>
                                          <a:pt x="1540" y="224"/>
                                        </a:lnTo>
                                        <a:lnTo>
                                          <a:pt x="1536" y="233"/>
                                        </a:lnTo>
                                        <a:lnTo>
                                          <a:pt x="1531" y="241"/>
                                        </a:lnTo>
                                        <a:lnTo>
                                          <a:pt x="1527" y="250"/>
                                        </a:lnTo>
                                        <a:lnTo>
                                          <a:pt x="1518" y="258"/>
                                        </a:lnTo>
                                        <a:lnTo>
                                          <a:pt x="1510" y="263"/>
                                        </a:lnTo>
                                        <a:lnTo>
                                          <a:pt x="1501" y="267"/>
                                        </a:lnTo>
                                        <a:lnTo>
                                          <a:pt x="1501" y="284"/>
                                        </a:lnTo>
                                        <a:lnTo>
                                          <a:pt x="1501" y="306"/>
                                        </a:lnTo>
                                        <a:lnTo>
                                          <a:pt x="1497" y="306"/>
                                        </a:lnTo>
                                        <a:lnTo>
                                          <a:pt x="1492" y="310"/>
                                        </a:lnTo>
                                        <a:lnTo>
                                          <a:pt x="1488" y="314"/>
                                        </a:lnTo>
                                        <a:lnTo>
                                          <a:pt x="1484" y="323"/>
                                        </a:lnTo>
                                        <a:lnTo>
                                          <a:pt x="1475" y="331"/>
                                        </a:lnTo>
                                        <a:lnTo>
                                          <a:pt x="1467" y="340"/>
                                        </a:lnTo>
                                        <a:lnTo>
                                          <a:pt x="1462" y="349"/>
                                        </a:lnTo>
                                        <a:lnTo>
                                          <a:pt x="1454" y="357"/>
                                        </a:lnTo>
                                        <a:lnTo>
                                          <a:pt x="1410" y="379"/>
                                        </a:lnTo>
                                        <a:lnTo>
                                          <a:pt x="1484" y="293"/>
                                        </a:lnTo>
                                        <a:lnTo>
                                          <a:pt x="1505" y="147"/>
                                        </a:lnTo>
                                        <a:lnTo>
                                          <a:pt x="1609" y="0"/>
                                        </a:lnTo>
                                        <a:lnTo>
                                          <a:pt x="1665" y="0"/>
                                        </a:lnTo>
                                        <a:lnTo>
                                          <a:pt x="1665" y="0"/>
                                        </a:lnTo>
                                        <a:close/>
                                        <a:moveTo>
                                          <a:pt x="1423" y="422"/>
                                        </a:moveTo>
                                        <a:lnTo>
                                          <a:pt x="1423" y="426"/>
                                        </a:lnTo>
                                        <a:lnTo>
                                          <a:pt x="1423" y="426"/>
                                        </a:lnTo>
                                        <a:lnTo>
                                          <a:pt x="1423" y="426"/>
                                        </a:lnTo>
                                        <a:lnTo>
                                          <a:pt x="1423" y="426"/>
                                        </a:lnTo>
                                        <a:lnTo>
                                          <a:pt x="1423" y="426"/>
                                        </a:lnTo>
                                        <a:lnTo>
                                          <a:pt x="1423" y="426"/>
                                        </a:lnTo>
                                        <a:lnTo>
                                          <a:pt x="1423" y="426"/>
                                        </a:lnTo>
                                        <a:lnTo>
                                          <a:pt x="1423" y="426"/>
                                        </a:lnTo>
                                        <a:lnTo>
                                          <a:pt x="1415" y="430"/>
                                        </a:lnTo>
                                        <a:lnTo>
                                          <a:pt x="1406" y="430"/>
                                        </a:lnTo>
                                        <a:lnTo>
                                          <a:pt x="1398" y="435"/>
                                        </a:lnTo>
                                        <a:lnTo>
                                          <a:pt x="1389" y="439"/>
                                        </a:lnTo>
                                        <a:lnTo>
                                          <a:pt x="1385" y="448"/>
                                        </a:lnTo>
                                        <a:lnTo>
                                          <a:pt x="1376" y="452"/>
                                        </a:lnTo>
                                        <a:lnTo>
                                          <a:pt x="1367" y="460"/>
                                        </a:lnTo>
                                        <a:lnTo>
                                          <a:pt x="1359" y="469"/>
                                        </a:lnTo>
                                        <a:lnTo>
                                          <a:pt x="1298" y="469"/>
                                        </a:lnTo>
                                        <a:lnTo>
                                          <a:pt x="1294" y="478"/>
                                        </a:lnTo>
                                        <a:lnTo>
                                          <a:pt x="1285" y="491"/>
                                        </a:lnTo>
                                        <a:lnTo>
                                          <a:pt x="1268" y="503"/>
                                        </a:lnTo>
                                        <a:lnTo>
                                          <a:pt x="1247" y="521"/>
                                        </a:lnTo>
                                        <a:lnTo>
                                          <a:pt x="1229" y="534"/>
                                        </a:lnTo>
                                        <a:lnTo>
                                          <a:pt x="1212" y="551"/>
                                        </a:lnTo>
                                        <a:lnTo>
                                          <a:pt x="1203" y="559"/>
                                        </a:lnTo>
                                        <a:lnTo>
                                          <a:pt x="1199" y="572"/>
                                        </a:lnTo>
                                        <a:lnTo>
                                          <a:pt x="1186" y="572"/>
                                        </a:lnTo>
                                        <a:lnTo>
                                          <a:pt x="1178" y="572"/>
                                        </a:lnTo>
                                        <a:lnTo>
                                          <a:pt x="1165" y="581"/>
                                        </a:lnTo>
                                        <a:lnTo>
                                          <a:pt x="1147" y="585"/>
                                        </a:lnTo>
                                        <a:lnTo>
                                          <a:pt x="1134" y="594"/>
                                        </a:lnTo>
                                        <a:lnTo>
                                          <a:pt x="1126" y="607"/>
                                        </a:lnTo>
                                        <a:lnTo>
                                          <a:pt x="1117" y="615"/>
                                        </a:lnTo>
                                        <a:lnTo>
                                          <a:pt x="1117" y="632"/>
                                        </a:lnTo>
                                        <a:lnTo>
                                          <a:pt x="1126" y="632"/>
                                        </a:lnTo>
                                        <a:lnTo>
                                          <a:pt x="1134" y="628"/>
                                        </a:lnTo>
                                        <a:lnTo>
                                          <a:pt x="1143" y="624"/>
                                        </a:lnTo>
                                        <a:lnTo>
                                          <a:pt x="1156" y="620"/>
                                        </a:lnTo>
                                        <a:lnTo>
                                          <a:pt x="1165" y="611"/>
                                        </a:lnTo>
                                        <a:lnTo>
                                          <a:pt x="1169" y="607"/>
                                        </a:lnTo>
                                        <a:lnTo>
                                          <a:pt x="1173" y="598"/>
                                        </a:lnTo>
                                        <a:lnTo>
                                          <a:pt x="1178" y="589"/>
                                        </a:lnTo>
                                        <a:lnTo>
                                          <a:pt x="1117" y="611"/>
                                        </a:lnTo>
                                        <a:lnTo>
                                          <a:pt x="1044" y="632"/>
                                        </a:lnTo>
                                        <a:lnTo>
                                          <a:pt x="966" y="650"/>
                                        </a:lnTo>
                                        <a:lnTo>
                                          <a:pt x="884" y="667"/>
                                        </a:lnTo>
                                        <a:lnTo>
                                          <a:pt x="806" y="688"/>
                                        </a:lnTo>
                                        <a:lnTo>
                                          <a:pt x="733" y="710"/>
                                        </a:lnTo>
                                        <a:lnTo>
                                          <a:pt x="703" y="723"/>
                                        </a:lnTo>
                                        <a:lnTo>
                                          <a:pt x="673" y="740"/>
                                        </a:lnTo>
                                        <a:lnTo>
                                          <a:pt x="647" y="757"/>
                                        </a:lnTo>
                                        <a:lnTo>
                                          <a:pt x="625" y="774"/>
                                        </a:lnTo>
                                        <a:lnTo>
                                          <a:pt x="634" y="774"/>
                                        </a:lnTo>
                                        <a:lnTo>
                                          <a:pt x="643" y="770"/>
                                        </a:lnTo>
                                        <a:lnTo>
                                          <a:pt x="651" y="766"/>
                                        </a:lnTo>
                                        <a:lnTo>
                                          <a:pt x="655" y="761"/>
                                        </a:lnTo>
                                        <a:lnTo>
                                          <a:pt x="664" y="761"/>
                                        </a:lnTo>
                                        <a:lnTo>
                                          <a:pt x="673" y="757"/>
                                        </a:lnTo>
                                        <a:lnTo>
                                          <a:pt x="681" y="753"/>
                                        </a:lnTo>
                                        <a:lnTo>
                                          <a:pt x="686" y="753"/>
                                        </a:lnTo>
                                        <a:lnTo>
                                          <a:pt x="677" y="774"/>
                                        </a:lnTo>
                                        <a:lnTo>
                                          <a:pt x="664" y="800"/>
                                        </a:lnTo>
                                        <a:lnTo>
                                          <a:pt x="647" y="822"/>
                                        </a:lnTo>
                                        <a:lnTo>
                                          <a:pt x="630" y="843"/>
                                        </a:lnTo>
                                        <a:lnTo>
                                          <a:pt x="612" y="869"/>
                                        </a:lnTo>
                                        <a:lnTo>
                                          <a:pt x="599" y="890"/>
                                        </a:lnTo>
                                        <a:lnTo>
                                          <a:pt x="591" y="912"/>
                                        </a:lnTo>
                                        <a:lnTo>
                                          <a:pt x="586" y="938"/>
                                        </a:lnTo>
                                        <a:lnTo>
                                          <a:pt x="634" y="912"/>
                                        </a:lnTo>
                                        <a:lnTo>
                                          <a:pt x="655" y="908"/>
                                        </a:lnTo>
                                        <a:lnTo>
                                          <a:pt x="660" y="908"/>
                                        </a:lnTo>
                                        <a:lnTo>
                                          <a:pt x="660" y="912"/>
                                        </a:lnTo>
                                        <a:lnTo>
                                          <a:pt x="655" y="921"/>
                                        </a:lnTo>
                                        <a:lnTo>
                                          <a:pt x="651" y="929"/>
                                        </a:lnTo>
                                        <a:lnTo>
                                          <a:pt x="630" y="955"/>
                                        </a:lnTo>
                                        <a:lnTo>
                                          <a:pt x="599" y="985"/>
                                        </a:lnTo>
                                        <a:lnTo>
                                          <a:pt x="569" y="1019"/>
                                        </a:lnTo>
                                        <a:lnTo>
                                          <a:pt x="543" y="1058"/>
                                        </a:lnTo>
                                        <a:lnTo>
                                          <a:pt x="552" y="1058"/>
                                        </a:lnTo>
                                        <a:lnTo>
                                          <a:pt x="565" y="1054"/>
                                        </a:lnTo>
                                        <a:lnTo>
                                          <a:pt x="574" y="1045"/>
                                        </a:lnTo>
                                        <a:lnTo>
                                          <a:pt x="586" y="1037"/>
                                        </a:lnTo>
                                        <a:lnTo>
                                          <a:pt x="604" y="1032"/>
                                        </a:lnTo>
                                        <a:lnTo>
                                          <a:pt x="617" y="1024"/>
                                        </a:lnTo>
                                        <a:lnTo>
                                          <a:pt x="630" y="1019"/>
                                        </a:lnTo>
                                        <a:lnTo>
                                          <a:pt x="647" y="1019"/>
                                        </a:lnTo>
                                        <a:lnTo>
                                          <a:pt x="621" y="1050"/>
                                        </a:lnTo>
                                        <a:lnTo>
                                          <a:pt x="595" y="1101"/>
                                        </a:lnTo>
                                        <a:lnTo>
                                          <a:pt x="569" y="1161"/>
                                        </a:lnTo>
                                        <a:lnTo>
                                          <a:pt x="539" y="1222"/>
                                        </a:lnTo>
                                        <a:lnTo>
                                          <a:pt x="504" y="1282"/>
                                        </a:lnTo>
                                        <a:lnTo>
                                          <a:pt x="466" y="1333"/>
                                        </a:lnTo>
                                        <a:lnTo>
                                          <a:pt x="448" y="1355"/>
                                        </a:lnTo>
                                        <a:lnTo>
                                          <a:pt x="427" y="1372"/>
                                        </a:lnTo>
                                        <a:lnTo>
                                          <a:pt x="405" y="1381"/>
                                        </a:lnTo>
                                        <a:lnTo>
                                          <a:pt x="384" y="1385"/>
                                        </a:lnTo>
                                        <a:lnTo>
                                          <a:pt x="397" y="1376"/>
                                        </a:lnTo>
                                        <a:lnTo>
                                          <a:pt x="414" y="1363"/>
                                        </a:lnTo>
                                        <a:lnTo>
                                          <a:pt x="435" y="1355"/>
                                        </a:lnTo>
                                        <a:lnTo>
                                          <a:pt x="457" y="1346"/>
                                        </a:lnTo>
                                        <a:lnTo>
                                          <a:pt x="483" y="1338"/>
                                        </a:lnTo>
                                        <a:lnTo>
                                          <a:pt x="509" y="1329"/>
                                        </a:lnTo>
                                        <a:lnTo>
                                          <a:pt x="535" y="1325"/>
                                        </a:lnTo>
                                        <a:lnTo>
                                          <a:pt x="565" y="1320"/>
                                        </a:lnTo>
                                        <a:lnTo>
                                          <a:pt x="483" y="1626"/>
                                        </a:lnTo>
                                        <a:lnTo>
                                          <a:pt x="466" y="1634"/>
                                        </a:lnTo>
                                        <a:lnTo>
                                          <a:pt x="448" y="1643"/>
                                        </a:lnTo>
                                        <a:lnTo>
                                          <a:pt x="431" y="1652"/>
                                        </a:lnTo>
                                        <a:lnTo>
                                          <a:pt x="414" y="1660"/>
                                        </a:lnTo>
                                        <a:lnTo>
                                          <a:pt x="397" y="1669"/>
                                        </a:lnTo>
                                        <a:lnTo>
                                          <a:pt x="384" y="1682"/>
                                        </a:lnTo>
                                        <a:lnTo>
                                          <a:pt x="371" y="1695"/>
                                        </a:lnTo>
                                        <a:lnTo>
                                          <a:pt x="362" y="1707"/>
                                        </a:lnTo>
                                        <a:lnTo>
                                          <a:pt x="371" y="1699"/>
                                        </a:lnTo>
                                        <a:lnTo>
                                          <a:pt x="384" y="1690"/>
                                        </a:lnTo>
                                        <a:lnTo>
                                          <a:pt x="397" y="1677"/>
                                        </a:lnTo>
                                        <a:lnTo>
                                          <a:pt x="414" y="1669"/>
                                        </a:lnTo>
                                        <a:lnTo>
                                          <a:pt x="427" y="1656"/>
                                        </a:lnTo>
                                        <a:lnTo>
                                          <a:pt x="440" y="1647"/>
                                        </a:lnTo>
                                        <a:lnTo>
                                          <a:pt x="453" y="1634"/>
                                        </a:lnTo>
                                        <a:lnTo>
                                          <a:pt x="461" y="1626"/>
                                        </a:lnTo>
                                        <a:lnTo>
                                          <a:pt x="448" y="1686"/>
                                        </a:lnTo>
                                        <a:lnTo>
                                          <a:pt x="435" y="1738"/>
                                        </a:lnTo>
                                        <a:lnTo>
                                          <a:pt x="423" y="1785"/>
                                        </a:lnTo>
                                        <a:lnTo>
                                          <a:pt x="405" y="1832"/>
                                        </a:lnTo>
                                        <a:lnTo>
                                          <a:pt x="392" y="1871"/>
                                        </a:lnTo>
                                        <a:lnTo>
                                          <a:pt x="371" y="1910"/>
                                        </a:lnTo>
                                        <a:lnTo>
                                          <a:pt x="349" y="1940"/>
                                        </a:lnTo>
                                        <a:lnTo>
                                          <a:pt x="319" y="1974"/>
                                        </a:lnTo>
                                        <a:lnTo>
                                          <a:pt x="328" y="1970"/>
                                        </a:lnTo>
                                        <a:lnTo>
                                          <a:pt x="332" y="1965"/>
                                        </a:lnTo>
                                        <a:lnTo>
                                          <a:pt x="336" y="1961"/>
                                        </a:lnTo>
                                        <a:lnTo>
                                          <a:pt x="345" y="1953"/>
                                        </a:lnTo>
                                        <a:lnTo>
                                          <a:pt x="349" y="1944"/>
                                        </a:lnTo>
                                        <a:lnTo>
                                          <a:pt x="358" y="1940"/>
                                        </a:lnTo>
                                        <a:lnTo>
                                          <a:pt x="366" y="1935"/>
                                        </a:lnTo>
                                        <a:lnTo>
                                          <a:pt x="384" y="1931"/>
                                        </a:lnTo>
                                        <a:lnTo>
                                          <a:pt x="371" y="1940"/>
                                        </a:lnTo>
                                        <a:lnTo>
                                          <a:pt x="362" y="1944"/>
                                        </a:lnTo>
                                        <a:lnTo>
                                          <a:pt x="353" y="1957"/>
                                        </a:lnTo>
                                        <a:lnTo>
                                          <a:pt x="345" y="1965"/>
                                        </a:lnTo>
                                        <a:lnTo>
                                          <a:pt x="336" y="1996"/>
                                        </a:lnTo>
                                        <a:lnTo>
                                          <a:pt x="328" y="2030"/>
                                        </a:lnTo>
                                        <a:lnTo>
                                          <a:pt x="323" y="2064"/>
                                        </a:lnTo>
                                        <a:lnTo>
                                          <a:pt x="323" y="2099"/>
                                        </a:lnTo>
                                        <a:lnTo>
                                          <a:pt x="319" y="2129"/>
                                        </a:lnTo>
                                        <a:lnTo>
                                          <a:pt x="319" y="2155"/>
                                        </a:lnTo>
                                        <a:lnTo>
                                          <a:pt x="336" y="2155"/>
                                        </a:lnTo>
                                        <a:lnTo>
                                          <a:pt x="349" y="2150"/>
                                        </a:lnTo>
                                        <a:lnTo>
                                          <a:pt x="366" y="2142"/>
                                        </a:lnTo>
                                        <a:lnTo>
                                          <a:pt x="379" y="2137"/>
                                        </a:lnTo>
                                        <a:lnTo>
                                          <a:pt x="392" y="2129"/>
                                        </a:lnTo>
                                        <a:lnTo>
                                          <a:pt x="405" y="2120"/>
                                        </a:lnTo>
                                        <a:lnTo>
                                          <a:pt x="414" y="2116"/>
                                        </a:lnTo>
                                        <a:lnTo>
                                          <a:pt x="423" y="2116"/>
                                        </a:lnTo>
                                        <a:lnTo>
                                          <a:pt x="414" y="2155"/>
                                        </a:lnTo>
                                        <a:lnTo>
                                          <a:pt x="405" y="2202"/>
                                        </a:lnTo>
                                        <a:lnTo>
                                          <a:pt x="392" y="2249"/>
                                        </a:lnTo>
                                        <a:lnTo>
                                          <a:pt x="384" y="2297"/>
                                        </a:lnTo>
                                        <a:lnTo>
                                          <a:pt x="375" y="2348"/>
                                        </a:lnTo>
                                        <a:lnTo>
                                          <a:pt x="366" y="2395"/>
                                        </a:lnTo>
                                        <a:lnTo>
                                          <a:pt x="362" y="2438"/>
                                        </a:lnTo>
                                        <a:lnTo>
                                          <a:pt x="362" y="2481"/>
                                        </a:lnTo>
                                        <a:lnTo>
                                          <a:pt x="371" y="2473"/>
                                        </a:lnTo>
                                        <a:lnTo>
                                          <a:pt x="379" y="2464"/>
                                        </a:lnTo>
                                        <a:lnTo>
                                          <a:pt x="392" y="2451"/>
                                        </a:lnTo>
                                        <a:lnTo>
                                          <a:pt x="405" y="2443"/>
                                        </a:lnTo>
                                        <a:lnTo>
                                          <a:pt x="418" y="2434"/>
                                        </a:lnTo>
                                        <a:lnTo>
                                          <a:pt x="431" y="2426"/>
                                        </a:lnTo>
                                        <a:lnTo>
                                          <a:pt x="448" y="2421"/>
                                        </a:lnTo>
                                        <a:lnTo>
                                          <a:pt x="461" y="2421"/>
                                        </a:lnTo>
                                        <a:lnTo>
                                          <a:pt x="461" y="2443"/>
                                        </a:lnTo>
                                        <a:lnTo>
                                          <a:pt x="457" y="2473"/>
                                        </a:lnTo>
                                        <a:lnTo>
                                          <a:pt x="448" y="2503"/>
                                        </a:lnTo>
                                        <a:lnTo>
                                          <a:pt x="444" y="2533"/>
                                        </a:lnTo>
                                        <a:lnTo>
                                          <a:pt x="435" y="2563"/>
                                        </a:lnTo>
                                        <a:lnTo>
                                          <a:pt x="427" y="2593"/>
                                        </a:lnTo>
                                        <a:lnTo>
                                          <a:pt x="423" y="2619"/>
                                        </a:lnTo>
                                        <a:lnTo>
                                          <a:pt x="423" y="2645"/>
                                        </a:lnTo>
                                        <a:lnTo>
                                          <a:pt x="431" y="2628"/>
                                        </a:lnTo>
                                        <a:lnTo>
                                          <a:pt x="444" y="2615"/>
                                        </a:lnTo>
                                        <a:lnTo>
                                          <a:pt x="457" y="2598"/>
                                        </a:lnTo>
                                        <a:lnTo>
                                          <a:pt x="474" y="2585"/>
                                        </a:lnTo>
                                        <a:lnTo>
                                          <a:pt x="487" y="2572"/>
                                        </a:lnTo>
                                        <a:lnTo>
                                          <a:pt x="504" y="2559"/>
                                        </a:lnTo>
                                        <a:lnTo>
                                          <a:pt x="513" y="2550"/>
                                        </a:lnTo>
                                        <a:lnTo>
                                          <a:pt x="526" y="2542"/>
                                        </a:lnTo>
                                        <a:lnTo>
                                          <a:pt x="530" y="2580"/>
                                        </a:lnTo>
                                        <a:lnTo>
                                          <a:pt x="535" y="2636"/>
                                        </a:lnTo>
                                        <a:lnTo>
                                          <a:pt x="539" y="2701"/>
                                        </a:lnTo>
                                        <a:lnTo>
                                          <a:pt x="543" y="2770"/>
                                        </a:lnTo>
                                        <a:lnTo>
                                          <a:pt x="543" y="2838"/>
                                        </a:lnTo>
                                        <a:lnTo>
                                          <a:pt x="543" y="2899"/>
                                        </a:lnTo>
                                        <a:lnTo>
                                          <a:pt x="543" y="2942"/>
                                        </a:lnTo>
                                        <a:lnTo>
                                          <a:pt x="543" y="2967"/>
                                        </a:lnTo>
                                        <a:lnTo>
                                          <a:pt x="552" y="2967"/>
                                        </a:lnTo>
                                        <a:lnTo>
                                          <a:pt x="565" y="2963"/>
                                        </a:lnTo>
                                        <a:lnTo>
                                          <a:pt x="574" y="2954"/>
                                        </a:lnTo>
                                        <a:lnTo>
                                          <a:pt x="582" y="2950"/>
                                        </a:lnTo>
                                        <a:lnTo>
                                          <a:pt x="591" y="2942"/>
                                        </a:lnTo>
                                        <a:lnTo>
                                          <a:pt x="599" y="2933"/>
                                        </a:lnTo>
                                        <a:lnTo>
                                          <a:pt x="604" y="2929"/>
                                        </a:lnTo>
                                        <a:lnTo>
                                          <a:pt x="608" y="2929"/>
                                        </a:lnTo>
                                        <a:lnTo>
                                          <a:pt x="625" y="3316"/>
                                        </a:lnTo>
                                        <a:lnTo>
                                          <a:pt x="643" y="3286"/>
                                        </a:lnTo>
                                        <a:lnTo>
                                          <a:pt x="668" y="3255"/>
                                        </a:lnTo>
                                        <a:lnTo>
                                          <a:pt x="694" y="3225"/>
                                        </a:lnTo>
                                        <a:lnTo>
                                          <a:pt x="720" y="3200"/>
                                        </a:lnTo>
                                        <a:lnTo>
                                          <a:pt x="750" y="3174"/>
                                        </a:lnTo>
                                        <a:lnTo>
                                          <a:pt x="776" y="3148"/>
                                        </a:lnTo>
                                        <a:lnTo>
                                          <a:pt x="806" y="3126"/>
                                        </a:lnTo>
                                        <a:lnTo>
                                          <a:pt x="828" y="3114"/>
                                        </a:lnTo>
                                        <a:lnTo>
                                          <a:pt x="837" y="3135"/>
                                        </a:lnTo>
                                        <a:lnTo>
                                          <a:pt x="845" y="3161"/>
                                        </a:lnTo>
                                        <a:lnTo>
                                          <a:pt x="854" y="3187"/>
                                        </a:lnTo>
                                        <a:lnTo>
                                          <a:pt x="858" y="3212"/>
                                        </a:lnTo>
                                        <a:lnTo>
                                          <a:pt x="863" y="3238"/>
                                        </a:lnTo>
                                        <a:lnTo>
                                          <a:pt x="867" y="3264"/>
                                        </a:lnTo>
                                        <a:lnTo>
                                          <a:pt x="871" y="3290"/>
                                        </a:lnTo>
                                        <a:lnTo>
                                          <a:pt x="871" y="3316"/>
                                        </a:lnTo>
                                        <a:lnTo>
                                          <a:pt x="880" y="3311"/>
                                        </a:lnTo>
                                        <a:lnTo>
                                          <a:pt x="893" y="3316"/>
                                        </a:lnTo>
                                        <a:lnTo>
                                          <a:pt x="901" y="3324"/>
                                        </a:lnTo>
                                        <a:lnTo>
                                          <a:pt x="906" y="3337"/>
                                        </a:lnTo>
                                        <a:lnTo>
                                          <a:pt x="919" y="3367"/>
                                        </a:lnTo>
                                        <a:lnTo>
                                          <a:pt x="927" y="3410"/>
                                        </a:lnTo>
                                        <a:lnTo>
                                          <a:pt x="936" y="3453"/>
                                        </a:lnTo>
                                        <a:lnTo>
                                          <a:pt x="940" y="3501"/>
                                        </a:lnTo>
                                        <a:lnTo>
                                          <a:pt x="945" y="3544"/>
                                        </a:lnTo>
                                        <a:lnTo>
                                          <a:pt x="953" y="3578"/>
                                        </a:lnTo>
                                        <a:lnTo>
                                          <a:pt x="962" y="3565"/>
                                        </a:lnTo>
                                        <a:lnTo>
                                          <a:pt x="970" y="3552"/>
                                        </a:lnTo>
                                        <a:lnTo>
                                          <a:pt x="983" y="3539"/>
                                        </a:lnTo>
                                        <a:lnTo>
                                          <a:pt x="996" y="3531"/>
                                        </a:lnTo>
                                        <a:lnTo>
                                          <a:pt x="1009" y="3522"/>
                                        </a:lnTo>
                                        <a:lnTo>
                                          <a:pt x="1022" y="3513"/>
                                        </a:lnTo>
                                        <a:lnTo>
                                          <a:pt x="1039" y="3505"/>
                                        </a:lnTo>
                                        <a:lnTo>
                                          <a:pt x="1052" y="3496"/>
                                        </a:lnTo>
                                        <a:lnTo>
                                          <a:pt x="1057" y="3513"/>
                                        </a:lnTo>
                                        <a:lnTo>
                                          <a:pt x="1061" y="3535"/>
                                        </a:lnTo>
                                        <a:lnTo>
                                          <a:pt x="1065" y="3556"/>
                                        </a:lnTo>
                                        <a:lnTo>
                                          <a:pt x="1074" y="3582"/>
                                        </a:lnTo>
                                        <a:lnTo>
                                          <a:pt x="1083" y="3608"/>
                                        </a:lnTo>
                                        <a:lnTo>
                                          <a:pt x="1087" y="3634"/>
                                        </a:lnTo>
                                        <a:lnTo>
                                          <a:pt x="1096" y="3655"/>
                                        </a:lnTo>
                                        <a:lnTo>
                                          <a:pt x="1096" y="3681"/>
                                        </a:lnTo>
                                        <a:lnTo>
                                          <a:pt x="1096" y="3673"/>
                                        </a:lnTo>
                                        <a:lnTo>
                                          <a:pt x="1100" y="3664"/>
                                        </a:lnTo>
                                        <a:lnTo>
                                          <a:pt x="1104" y="3660"/>
                                        </a:lnTo>
                                        <a:lnTo>
                                          <a:pt x="1108" y="3651"/>
                                        </a:lnTo>
                                        <a:lnTo>
                                          <a:pt x="1113" y="3647"/>
                                        </a:lnTo>
                                        <a:lnTo>
                                          <a:pt x="1121" y="3642"/>
                                        </a:lnTo>
                                        <a:lnTo>
                                          <a:pt x="1130" y="3642"/>
                                        </a:lnTo>
                                        <a:lnTo>
                                          <a:pt x="1134" y="3638"/>
                                        </a:lnTo>
                                        <a:lnTo>
                                          <a:pt x="1134" y="3703"/>
                                        </a:lnTo>
                                        <a:lnTo>
                                          <a:pt x="1143" y="3698"/>
                                        </a:lnTo>
                                        <a:lnTo>
                                          <a:pt x="1156" y="3694"/>
                                        </a:lnTo>
                                        <a:lnTo>
                                          <a:pt x="1165" y="3690"/>
                                        </a:lnTo>
                                        <a:lnTo>
                                          <a:pt x="1173" y="3681"/>
                                        </a:lnTo>
                                        <a:lnTo>
                                          <a:pt x="1182" y="3673"/>
                                        </a:lnTo>
                                        <a:lnTo>
                                          <a:pt x="1190" y="3668"/>
                                        </a:lnTo>
                                        <a:lnTo>
                                          <a:pt x="1195" y="3664"/>
                                        </a:lnTo>
                                        <a:lnTo>
                                          <a:pt x="1199" y="3660"/>
                                        </a:lnTo>
                                        <a:lnTo>
                                          <a:pt x="1199" y="3668"/>
                                        </a:lnTo>
                                        <a:lnTo>
                                          <a:pt x="1203" y="3681"/>
                                        </a:lnTo>
                                        <a:lnTo>
                                          <a:pt x="1212" y="3694"/>
                                        </a:lnTo>
                                        <a:lnTo>
                                          <a:pt x="1216" y="3711"/>
                                        </a:lnTo>
                                        <a:lnTo>
                                          <a:pt x="1225" y="3724"/>
                                        </a:lnTo>
                                        <a:lnTo>
                                          <a:pt x="1234" y="3741"/>
                                        </a:lnTo>
                                        <a:lnTo>
                                          <a:pt x="1238" y="3754"/>
                                        </a:lnTo>
                                        <a:lnTo>
                                          <a:pt x="1238" y="3763"/>
                                        </a:lnTo>
                                        <a:lnTo>
                                          <a:pt x="1238" y="3754"/>
                                        </a:lnTo>
                                        <a:lnTo>
                                          <a:pt x="1247" y="3746"/>
                                        </a:lnTo>
                                        <a:lnTo>
                                          <a:pt x="1251" y="3733"/>
                                        </a:lnTo>
                                        <a:lnTo>
                                          <a:pt x="1259" y="3720"/>
                                        </a:lnTo>
                                        <a:lnTo>
                                          <a:pt x="1272" y="3711"/>
                                        </a:lnTo>
                                        <a:lnTo>
                                          <a:pt x="1281" y="3698"/>
                                        </a:lnTo>
                                        <a:lnTo>
                                          <a:pt x="1290" y="3690"/>
                                        </a:lnTo>
                                        <a:lnTo>
                                          <a:pt x="1298" y="3681"/>
                                        </a:lnTo>
                                        <a:lnTo>
                                          <a:pt x="1298" y="3690"/>
                                        </a:lnTo>
                                        <a:lnTo>
                                          <a:pt x="1303" y="3694"/>
                                        </a:lnTo>
                                        <a:lnTo>
                                          <a:pt x="1307" y="3703"/>
                                        </a:lnTo>
                                        <a:lnTo>
                                          <a:pt x="1311" y="3711"/>
                                        </a:lnTo>
                                        <a:lnTo>
                                          <a:pt x="1320" y="3720"/>
                                        </a:lnTo>
                                        <a:lnTo>
                                          <a:pt x="1324" y="3728"/>
                                        </a:lnTo>
                                        <a:lnTo>
                                          <a:pt x="1333" y="3733"/>
                                        </a:lnTo>
                                        <a:lnTo>
                                          <a:pt x="1341" y="3741"/>
                                        </a:lnTo>
                                        <a:lnTo>
                                          <a:pt x="1341" y="3763"/>
                                        </a:lnTo>
                                        <a:lnTo>
                                          <a:pt x="1341" y="3784"/>
                                        </a:lnTo>
                                        <a:lnTo>
                                          <a:pt x="1350" y="3767"/>
                                        </a:lnTo>
                                        <a:lnTo>
                                          <a:pt x="1363" y="3750"/>
                                        </a:lnTo>
                                        <a:lnTo>
                                          <a:pt x="1376" y="3737"/>
                                        </a:lnTo>
                                        <a:lnTo>
                                          <a:pt x="1389" y="3724"/>
                                        </a:lnTo>
                                        <a:lnTo>
                                          <a:pt x="1406" y="3711"/>
                                        </a:lnTo>
                                        <a:lnTo>
                                          <a:pt x="1419" y="3698"/>
                                        </a:lnTo>
                                        <a:lnTo>
                                          <a:pt x="1432" y="3690"/>
                                        </a:lnTo>
                                        <a:lnTo>
                                          <a:pt x="1441" y="3681"/>
                                        </a:lnTo>
                                        <a:lnTo>
                                          <a:pt x="1454" y="3690"/>
                                        </a:lnTo>
                                        <a:lnTo>
                                          <a:pt x="1467" y="3698"/>
                                        </a:lnTo>
                                        <a:lnTo>
                                          <a:pt x="1484" y="3711"/>
                                        </a:lnTo>
                                        <a:lnTo>
                                          <a:pt x="1501" y="3724"/>
                                        </a:lnTo>
                                        <a:lnTo>
                                          <a:pt x="1518" y="3737"/>
                                        </a:lnTo>
                                        <a:lnTo>
                                          <a:pt x="1531" y="3750"/>
                                        </a:lnTo>
                                        <a:lnTo>
                                          <a:pt x="1540" y="3767"/>
                                        </a:lnTo>
                                        <a:lnTo>
                                          <a:pt x="1544" y="3784"/>
                                        </a:lnTo>
                                        <a:lnTo>
                                          <a:pt x="1583" y="3741"/>
                                        </a:lnTo>
                                        <a:lnTo>
                                          <a:pt x="1592" y="3750"/>
                                        </a:lnTo>
                                        <a:lnTo>
                                          <a:pt x="1600" y="3763"/>
                                        </a:lnTo>
                                        <a:lnTo>
                                          <a:pt x="1605" y="3780"/>
                                        </a:lnTo>
                                        <a:lnTo>
                                          <a:pt x="1613" y="3793"/>
                                        </a:lnTo>
                                        <a:lnTo>
                                          <a:pt x="1618" y="3814"/>
                                        </a:lnTo>
                                        <a:lnTo>
                                          <a:pt x="1622" y="3832"/>
                                        </a:lnTo>
                                        <a:lnTo>
                                          <a:pt x="1626" y="3849"/>
                                        </a:lnTo>
                                        <a:lnTo>
                                          <a:pt x="1626" y="3862"/>
                                        </a:lnTo>
                                        <a:lnTo>
                                          <a:pt x="1635" y="3849"/>
                                        </a:lnTo>
                                        <a:lnTo>
                                          <a:pt x="1643" y="3832"/>
                                        </a:lnTo>
                                        <a:lnTo>
                                          <a:pt x="1656" y="3819"/>
                                        </a:lnTo>
                                        <a:lnTo>
                                          <a:pt x="1669" y="3806"/>
                                        </a:lnTo>
                                        <a:lnTo>
                                          <a:pt x="1682" y="3797"/>
                                        </a:lnTo>
                                        <a:lnTo>
                                          <a:pt x="1695" y="3789"/>
                                        </a:lnTo>
                                        <a:lnTo>
                                          <a:pt x="1712" y="3784"/>
                                        </a:lnTo>
                                        <a:lnTo>
                                          <a:pt x="1725" y="3784"/>
                                        </a:lnTo>
                                        <a:lnTo>
                                          <a:pt x="1734" y="3793"/>
                                        </a:lnTo>
                                        <a:lnTo>
                                          <a:pt x="1747" y="3806"/>
                                        </a:lnTo>
                                        <a:lnTo>
                                          <a:pt x="1756" y="3823"/>
                                        </a:lnTo>
                                        <a:lnTo>
                                          <a:pt x="1769" y="3840"/>
                                        </a:lnTo>
                                        <a:lnTo>
                                          <a:pt x="1782" y="3857"/>
                                        </a:lnTo>
                                        <a:lnTo>
                                          <a:pt x="1790" y="3870"/>
                                        </a:lnTo>
                                        <a:lnTo>
                                          <a:pt x="1799" y="3879"/>
                                        </a:lnTo>
                                        <a:lnTo>
                                          <a:pt x="1807" y="3883"/>
                                        </a:lnTo>
                                        <a:lnTo>
                                          <a:pt x="1812" y="3883"/>
                                        </a:lnTo>
                                        <a:lnTo>
                                          <a:pt x="1812" y="3883"/>
                                        </a:lnTo>
                                        <a:lnTo>
                                          <a:pt x="1816" y="3883"/>
                                        </a:lnTo>
                                        <a:lnTo>
                                          <a:pt x="1816" y="3883"/>
                                        </a:lnTo>
                                        <a:lnTo>
                                          <a:pt x="1820" y="3879"/>
                                        </a:lnTo>
                                        <a:lnTo>
                                          <a:pt x="1825" y="3879"/>
                                        </a:lnTo>
                                        <a:lnTo>
                                          <a:pt x="1825" y="3875"/>
                                        </a:lnTo>
                                        <a:lnTo>
                                          <a:pt x="1829" y="3875"/>
                                        </a:lnTo>
                                        <a:lnTo>
                                          <a:pt x="1812" y="3892"/>
                                        </a:lnTo>
                                        <a:lnTo>
                                          <a:pt x="1777" y="3870"/>
                                        </a:lnTo>
                                        <a:lnTo>
                                          <a:pt x="1760" y="3849"/>
                                        </a:lnTo>
                                        <a:lnTo>
                                          <a:pt x="1674" y="3965"/>
                                        </a:lnTo>
                                        <a:lnTo>
                                          <a:pt x="1665" y="3986"/>
                                        </a:lnTo>
                                        <a:lnTo>
                                          <a:pt x="1643" y="4008"/>
                                        </a:lnTo>
                                        <a:lnTo>
                                          <a:pt x="1523" y="3943"/>
                                        </a:lnTo>
                                        <a:lnTo>
                                          <a:pt x="1536" y="3892"/>
                                        </a:lnTo>
                                        <a:lnTo>
                                          <a:pt x="1536" y="3862"/>
                                        </a:lnTo>
                                        <a:lnTo>
                                          <a:pt x="1505" y="3832"/>
                                        </a:lnTo>
                                        <a:lnTo>
                                          <a:pt x="1346" y="3986"/>
                                        </a:lnTo>
                                        <a:lnTo>
                                          <a:pt x="1281" y="4124"/>
                                        </a:lnTo>
                                        <a:lnTo>
                                          <a:pt x="1221" y="4133"/>
                                        </a:lnTo>
                                        <a:lnTo>
                                          <a:pt x="1113" y="3986"/>
                                        </a:lnTo>
                                        <a:lnTo>
                                          <a:pt x="1078" y="3986"/>
                                        </a:lnTo>
                                        <a:lnTo>
                                          <a:pt x="1078" y="4085"/>
                                        </a:lnTo>
                                        <a:lnTo>
                                          <a:pt x="996" y="3986"/>
                                        </a:lnTo>
                                        <a:lnTo>
                                          <a:pt x="983" y="3956"/>
                                        </a:lnTo>
                                        <a:lnTo>
                                          <a:pt x="962" y="3935"/>
                                        </a:lnTo>
                                        <a:lnTo>
                                          <a:pt x="923" y="3978"/>
                                        </a:lnTo>
                                        <a:lnTo>
                                          <a:pt x="880" y="3870"/>
                                        </a:lnTo>
                                        <a:lnTo>
                                          <a:pt x="858" y="3849"/>
                                        </a:lnTo>
                                        <a:lnTo>
                                          <a:pt x="837" y="3862"/>
                                        </a:lnTo>
                                        <a:lnTo>
                                          <a:pt x="815" y="3883"/>
                                        </a:lnTo>
                                        <a:lnTo>
                                          <a:pt x="815" y="3965"/>
                                        </a:lnTo>
                                        <a:lnTo>
                                          <a:pt x="772" y="3849"/>
                                        </a:lnTo>
                                        <a:lnTo>
                                          <a:pt x="763" y="3767"/>
                                        </a:lnTo>
                                        <a:lnTo>
                                          <a:pt x="742" y="3754"/>
                                        </a:lnTo>
                                        <a:lnTo>
                                          <a:pt x="668" y="3789"/>
                                        </a:lnTo>
                                        <a:lnTo>
                                          <a:pt x="561" y="3673"/>
                                        </a:lnTo>
                                        <a:lnTo>
                                          <a:pt x="530" y="3673"/>
                                        </a:lnTo>
                                        <a:lnTo>
                                          <a:pt x="444" y="3565"/>
                                        </a:lnTo>
                                        <a:lnTo>
                                          <a:pt x="414" y="3565"/>
                                        </a:lnTo>
                                        <a:lnTo>
                                          <a:pt x="341" y="3354"/>
                                        </a:lnTo>
                                        <a:lnTo>
                                          <a:pt x="310" y="3354"/>
                                        </a:lnTo>
                                        <a:lnTo>
                                          <a:pt x="284" y="3376"/>
                                        </a:lnTo>
                                        <a:lnTo>
                                          <a:pt x="284" y="3440"/>
                                        </a:lnTo>
                                        <a:lnTo>
                                          <a:pt x="246" y="3122"/>
                                        </a:lnTo>
                                        <a:lnTo>
                                          <a:pt x="233" y="3114"/>
                                        </a:lnTo>
                                        <a:lnTo>
                                          <a:pt x="211" y="3114"/>
                                        </a:lnTo>
                                        <a:lnTo>
                                          <a:pt x="190" y="3131"/>
                                        </a:lnTo>
                                        <a:lnTo>
                                          <a:pt x="190" y="3165"/>
                                        </a:lnTo>
                                        <a:lnTo>
                                          <a:pt x="168" y="2911"/>
                                        </a:lnTo>
                                        <a:lnTo>
                                          <a:pt x="168" y="2825"/>
                                        </a:lnTo>
                                        <a:lnTo>
                                          <a:pt x="159" y="2817"/>
                                        </a:lnTo>
                                        <a:lnTo>
                                          <a:pt x="138" y="2817"/>
                                        </a:lnTo>
                                        <a:lnTo>
                                          <a:pt x="108" y="2868"/>
                                        </a:lnTo>
                                        <a:lnTo>
                                          <a:pt x="116" y="2658"/>
                                        </a:lnTo>
                                        <a:lnTo>
                                          <a:pt x="95" y="2636"/>
                                        </a:lnTo>
                                        <a:lnTo>
                                          <a:pt x="73" y="2636"/>
                                        </a:lnTo>
                                        <a:lnTo>
                                          <a:pt x="34" y="2731"/>
                                        </a:lnTo>
                                        <a:lnTo>
                                          <a:pt x="43" y="2490"/>
                                        </a:lnTo>
                                        <a:lnTo>
                                          <a:pt x="56" y="2469"/>
                                        </a:lnTo>
                                        <a:lnTo>
                                          <a:pt x="56" y="2434"/>
                                        </a:lnTo>
                                        <a:lnTo>
                                          <a:pt x="13" y="2404"/>
                                        </a:lnTo>
                                        <a:lnTo>
                                          <a:pt x="86" y="2129"/>
                                        </a:lnTo>
                                        <a:lnTo>
                                          <a:pt x="86" y="2112"/>
                                        </a:lnTo>
                                        <a:lnTo>
                                          <a:pt x="64" y="2086"/>
                                        </a:lnTo>
                                        <a:lnTo>
                                          <a:pt x="43" y="2086"/>
                                        </a:lnTo>
                                        <a:lnTo>
                                          <a:pt x="0" y="2159"/>
                                        </a:lnTo>
                                        <a:lnTo>
                                          <a:pt x="108" y="1815"/>
                                        </a:lnTo>
                                        <a:lnTo>
                                          <a:pt x="73" y="1781"/>
                                        </a:lnTo>
                                        <a:lnTo>
                                          <a:pt x="0" y="1875"/>
                                        </a:lnTo>
                                        <a:lnTo>
                                          <a:pt x="95" y="1634"/>
                                        </a:lnTo>
                                        <a:lnTo>
                                          <a:pt x="181" y="1497"/>
                                        </a:lnTo>
                                        <a:lnTo>
                                          <a:pt x="181" y="1467"/>
                                        </a:lnTo>
                                        <a:lnTo>
                                          <a:pt x="168" y="1454"/>
                                        </a:lnTo>
                                        <a:lnTo>
                                          <a:pt x="138" y="1454"/>
                                        </a:lnTo>
                                        <a:lnTo>
                                          <a:pt x="95" y="1518"/>
                                        </a:lnTo>
                                        <a:lnTo>
                                          <a:pt x="211" y="1170"/>
                                        </a:lnTo>
                                        <a:lnTo>
                                          <a:pt x="202" y="1161"/>
                                        </a:lnTo>
                                        <a:lnTo>
                                          <a:pt x="129" y="1213"/>
                                        </a:lnTo>
                                        <a:lnTo>
                                          <a:pt x="224" y="1024"/>
                                        </a:lnTo>
                                        <a:lnTo>
                                          <a:pt x="224" y="1002"/>
                                        </a:lnTo>
                                        <a:lnTo>
                                          <a:pt x="202" y="981"/>
                                        </a:lnTo>
                                        <a:lnTo>
                                          <a:pt x="116" y="1045"/>
                                        </a:lnTo>
                                        <a:lnTo>
                                          <a:pt x="246" y="852"/>
                                        </a:lnTo>
                                        <a:lnTo>
                                          <a:pt x="284" y="809"/>
                                        </a:lnTo>
                                        <a:lnTo>
                                          <a:pt x="263" y="749"/>
                                        </a:lnTo>
                                        <a:lnTo>
                                          <a:pt x="530" y="482"/>
                                        </a:lnTo>
                                        <a:lnTo>
                                          <a:pt x="561" y="443"/>
                                        </a:lnTo>
                                        <a:lnTo>
                                          <a:pt x="772" y="473"/>
                                        </a:lnTo>
                                        <a:lnTo>
                                          <a:pt x="910" y="508"/>
                                        </a:lnTo>
                                        <a:lnTo>
                                          <a:pt x="1294" y="430"/>
                                        </a:lnTo>
                                        <a:lnTo>
                                          <a:pt x="1367" y="400"/>
                                        </a:lnTo>
                                        <a:lnTo>
                                          <a:pt x="1398" y="430"/>
                                        </a:lnTo>
                                        <a:lnTo>
                                          <a:pt x="1423" y="422"/>
                                        </a:lnTo>
                                        <a:close/>
                                        <a:moveTo>
                                          <a:pt x="1833" y="3870"/>
                                        </a:moveTo>
                                        <a:lnTo>
                                          <a:pt x="1846" y="3862"/>
                                        </a:lnTo>
                                        <a:lnTo>
                                          <a:pt x="1859" y="3849"/>
                                        </a:lnTo>
                                        <a:lnTo>
                                          <a:pt x="1872" y="3836"/>
                                        </a:lnTo>
                                        <a:lnTo>
                                          <a:pt x="1885" y="3823"/>
                                        </a:lnTo>
                                        <a:lnTo>
                                          <a:pt x="1894" y="3810"/>
                                        </a:lnTo>
                                        <a:lnTo>
                                          <a:pt x="1902" y="3802"/>
                                        </a:lnTo>
                                        <a:lnTo>
                                          <a:pt x="1911" y="3789"/>
                                        </a:lnTo>
                                        <a:lnTo>
                                          <a:pt x="1911" y="3784"/>
                                        </a:lnTo>
                                        <a:lnTo>
                                          <a:pt x="1989" y="3879"/>
                                        </a:lnTo>
                                        <a:lnTo>
                                          <a:pt x="1980" y="3905"/>
                                        </a:lnTo>
                                        <a:lnTo>
                                          <a:pt x="1894" y="3965"/>
                                        </a:lnTo>
                                        <a:lnTo>
                                          <a:pt x="1885" y="3978"/>
                                        </a:lnTo>
                                        <a:lnTo>
                                          <a:pt x="1863" y="3905"/>
                                        </a:lnTo>
                                        <a:lnTo>
                                          <a:pt x="1833" y="3870"/>
                                        </a:lnTo>
                                        <a:close/>
                                        <a:moveTo>
                                          <a:pt x="2045" y="3832"/>
                                        </a:moveTo>
                                        <a:lnTo>
                                          <a:pt x="2075" y="3802"/>
                                        </a:lnTo>
                                        <a:lnTo>
                                          <a:pt x="2075" y="3810"/>
                                        </a:lnTo>
                                        <a:lnTo>
                                          <a:pt x="2079" y="3823"/>
                                        </a:lnTo>
                                        <a:lnTo>
                                          <a:pt x="2088" y="3836"/>
                                        </a:lnTo>
                                        <a:lnTo>
                                          <a:pt x="2096" y="3849"/>
                                        </a:lnTo>
                                        <a:lnTo>
                                          <a:pt x="2105" y="3862"/>
                                        </a:lnTo>
                                        <a:lnTo>
                                          <a:pt x="2118" y="3875"/>
                                        </a:lnTo>
                                        <a:lnTo>
                                          <a:pt x="2127" y="3883"/>
                                        </a:lnTo>
                                        <a:lnTo>
                                          <a:pt x="2135" y="3883"/>
                                        </a:lnTo>
                                        <a:lnTo>
                                          <a:pt x="2144" y="3883"/>
                                        </a:lnTo>
                                        <a:lnTo>
                                          <a:pt x="2157" y="3875"/>
                                        </a:lnTo>
                                        <a:lnTo>
                                          <a:pt x="2170" y="3866"/>
                                        </a:lnTo>
                                        <a:lnTo>
                                          <a:pt x="2187" y="3853"/>
                                        </a:lnTo>
                                        <a:lnTo>
                                          <a:pt x="2200" y="3840"/>
                                        </a:lnTo>
                                        <a:lnTo>
                                          <a:pt x="2217" y="3832"/>
                                        </a:lnTo>
                                        <a:lnTo>
                                          <a:pt x="2226" y="3827"/>
                                        </a:lnTo>
                                        <a:lnTo>
                                          <a:pt x="2239" y="3823"/>
                                        </a:lnTo>
                                        <a:lnTo>
                                          <a:pt x="2252" y="3832"/>
                                        </a:lnTo>
                                        <a:lnTo>
                                          <a:pt x="2265" y="3840"/>
                                        </a:lnTo>
                                        <a:lnTo>
                                          <a:pt x="2278" y="3853"/>
                                        </a:lnTo>
                                        <a:lnTo>
                                          <a:pt x="2286" y="3862"/>
                                        </a:lnTo>
                                        <a:lnTo>
                                          <a:pt x="2299" y="3870"/>
                                        </a:lnTo>
                                        <a:lnTo>
                                          <a:pt x="2312" y="3879"/>
                                        </a:lnTo>
                                        <a:lnTo>
                                          <a:pt x="2325" y="3883"/>
                                        </a:lnTo>
                                        <a:lnTo>
                                          <a:pt x="2338" y="3883"/>
                                        </a:lnTo>
                                        <a:lnTo>
                                          <a:pt x="2355" y="3866"/>
                                        </a:lnTo>
                                        <a:lnTo>
                                          <a:pt x="2368" y="3857"/>
                                        </a:lnTo>
                                        <a:lnTo>
                                          <a:pt x="2386" y="3853"/>
                                        </a:lnTo>
                                        <a:lnTo>
                                          <a:pt x="2403" y="3857"/>
                                        </a:lnTo>
                                        <a:lnTo>
                                          <a:pt x="2420" y="3862"/>
                                        </a:lnTo>
                                        <a:lnTo>
                                          <a:pt x="2442" y="3875"/>
                                        </a:lnTo>
                                        <a:lnTo>
                                          <a:pt x="2459" y="3888"/>
                                        </a:lnTo>
                                        <a:lnTo>
                                          <a:pt x="2480" y="3905"/>
                                        </a:lnTo>
                                        <a:lnTo>
                                          <a:pt x="2532" y="3875"/>
                                        </a:lnTo>
                                        <a:lnTo>
                                          <a:pt x="2575" y="3849"/>
                                        </a:lnTo>
                                        <a:lnTo>
                                          <a:pt x="2614" y="3832"/>
                                        </a:lnTo>
                                        <a:lnTo>
                                          <a:pt x="2649" y="3819"/>
                                        </a:lnTo>
                                        <a:lnTo>
                                          <a:pt x="2666" y="3814"/>
                                        </a:lnTo>
                                        <a:lnTo>
                                          <a:pt x="2683" y="3814"/>
                                        </a:lnTo>
                                        <a:lnTo>
                                          <a:pt x="2700" y="3819"/>
                                        </a:lnTo>
                                        <a:lnTo>
                                          <a:pt x="2718" y="3823"/>
                                        </a:lnTo>
                                        <a:lnTo>
                                          <a:pt x="2735" y="3832"/>
                                        </a:lnTo>
                                        <a:lnTo>
                                          <a:pt x="2752" y="3845"/>
                                        </a:lnTo>
                                        <a:lnTo>
                                          <a:pt x="2770" y="3862"/>
                                        </a:lnTo>
                                        <a:lnTo>
                                          <a:pt x="2787" y="3883"/>
                                        </a:lnTo>
                                        <a:lnTo>
                                          <a:pt x="2847" y="3681"/>
                                        </a:lnTo>
                                        <a:lnTo>
                                          <a:pt x="2869" y="3681"/>
                                        </a:lnTo>
                                        <a:lnTo>
                                          <a:pt x="2890" y="3681"/>
                                        </a:lnTo>
                                        <a:lnTo>
                                          <a:pt x="2951" y="3741"/>
                                        </a:lnTo>
                                        <a:lnTo>
                                          <a:pt x="2951" y="3733"/>
                                        </a:lnTo>
                                        <a:lnTo>
                                          <a:pt x="2959" y="3724"/>
                                        </a:lnTo>
                                        <a:lnTo>
                                          <a:pt x="2964" y="3711"/>
                                        </a:lnTo>
                                        <a:lnTo>
                                          <a:pt x="2972" y="3703"/>
                                        </a:lnTo>
                                        <a:lnTo>
                                          <a:pt x="2981" y="3690"/>
                                        </a:lnTo>
                                        <a:lnTo>
                                          <a:pt x="2985" y="3677"/>
                                        </a:lnTo>
                                        <a:lnTo>
                                          <a:pt x="2990" y="3668"/>
                                        </a:lnTo>
                                        <a:lnTo>
                                          <a:pt x="2994" y="3660"/>
                                        </a:lnTo>
                                        <a:lnTo>
                                          <a:pt x="2998" y="3660"/>
                                        </a:lnTo>
                                        <a:lnTo>
                                          <a:pt x="3011" y="3664"/>
                                        </a:lnTo>
                                        <a:lnTo>
                                          <a:pt x="3020" y="3668"/>
                                        </a:lnTo>
                                        <a:lnTo>
                                          <a:pt x="3033" y="3673"/>
                                        </a:lnTo>
                                        <a:lnTo>
                                          <a:pt x="3046" y="3681"/>
                                        </a:lnTo>
                                        <a:lnTo>
                                          <a:pt x="3054" y="3685"/>
                                        </a:lnTo>
                                        <a:lnTo>
                                          <a:pt x="3063" y="3694"/>
                                        </a:lnTo>
                                        <a:lnTo>
                                          <a:pt x="3072" y="3703"/>
                                        </a:lnTo>
                                        <a:lnTo>
                                          <a:pt x="3076" y="3694"/>
                                        </a:lnTo>
                                        <a:lnTo>
                                          <a:pt x="3084" y="3681"/>
                                        </a:lnTo>
                                        <a:lnTo>
                                          <a:pt x="3093" y="3673"/>
                                        </a:lnTo>
                                        <a:lnTo>
                                          <a:pt x="3106" y="3664"/>
                                        </a:lnTo>
                                        <a:lnTo>
                                          <a:pt x="3119" y="3655"/>
                                        </a:lnTo>
                                        <a:lnTo>
                                          <a:pt x="3132" y="3647"/>
                                        </a:lnTo>
                                        <a:lnTo>
                                          <a:pt x="3145" y="3642"/>
                                        </a:lnTo>
                                        <a:lnTo>
                                          <a:pt x="3153" y="3638"/>
                                        </a:lnTo>
                                        <a:lnTo>
                                          <a:pt x="3162" y="3642"/>
                                        </a:lnTo>
                                        <a:lnTo>
                                          <a:pt x="3175" y="3642"/>
                                        </a:lnTo>
                                        <a:lnTo>
                                          <a:pt x="3184" y="3647"/>
                                        </a:lnTo>
                                        <a:lnTo>
                                          <a:pt x="3197" y="3651"/>
                                        </a:lnTo>
                                        <a:lnTo>
                                          <a:pt x="3214" y="3655"/>
                                        </a:lnTo>
                                        <a:lnTo>
                                          <a:pt x="3227" y="3655"/>
                                        </a:lnTo>
                                        <a:lnTo>
                                          <a:pt x="3240" y="3660"/>
                                        </a:lnTo>
                                        <a:lnTo>
                                          <a:pt x="3257" y="3660"/>
                                        </a:lnTo>
                                        <a:lnTo>
                                          <a:pt x="3261" y="3647"/>
                                        </a:lnTo>
                                        <a:lnTo>
                                          <a:pt x="3270" y="3638"/>
                                        </a:lnTo>
                                        <a:lnTo>
                                          <a:pt x="3283" y="3630"/>
                                        </a:lnTo>
                                        <a:lnTo>
                                          <a:pt x="3296" y="3621"/>
                                        </a:lnTo>
                                        <a:lnTo>
                                          <a:pt x="3313" y="3612"/>
                                        </a:lnTo>
                                        <a:lnTo>
                                          <a:pt x="3326" y="3604"/>
                                        </a:lnTo>
                                        <a:lnTo>
                                          <a:pt x="3335" y="3591"/>
                                        </a:lnTo>
                                        <a:lnTo>
                                          <a:pt x="3339" y="3578"/>
                                        </a:lnTo>
                                        <a:lnTo>
                                          <a:pt x="3343" y="3582"/>
                                        </a:lnTo>
                                        <a:lnTo>
                                          <a:pt x="3348" y="3587"/>
                                        </a:lnTo>
                                        <a:lnTo>
                                          <a:pt x="3352" y="3591"/>
                                        </a:lnTo>
                                        <a:lnTo>
                                          <a:pt x="3356" y="3599"/>
                                        </a:lnTo>
                                        <a:lnTo>
                                          <a:pt x="3361" y="3604"/>
                                        </a:lnTo>
                                        <a:lnTo>
                                          <a:pt x="3365" y="3612"/>
                                        </a:lnTo>
                                        <a:lnTo>
                                          <a:pt x="3374" y="3617"/>
                                        </a:lnTo>
                                        <a:lnTo>
                                          <a:pt x="3378" y="3625"/>
                                        </a:lnTo>
                                        <a:lnTo>
                                          <a:pt x="3335" y="3617"/>
                                        </a:lnTo>
                                        <a:lnTo>
                                          <a:pt x="3313" y="3642"/>
                                        </a:lnTo>
                                        <a:lnTo>
                                          <a:pt x="3313" y="3660"/>
                                        </a:lnTo>
                                        <a:lnTo>
                                          <a:pt x="3348" y="3690"/>
                                        </a:lnTo>
                                        <a:lnTo>
                                          <a:pt x="3399" y="3690"/>
                                        </a:lnTo>
                                        <a:lnTo>
                                          <a:pt x="3473" y="3819"/>
                                        </a:lnTo>
                                        <a:lnTo>
                                          <a:pt x="3421" y="3810"/>
                                        </a:lnTo>
                                        <a:lnTo>
                                          <a:pt x="3386" y="3892"/>
                                        </a:lnTo>
                                        <a:lnTo>
                                          <a:pt x="3335" y="3905"/>
                                        </a:lnTo>
                                        <a:lnTo>
                                          <a:pt x="3313" y="3956"/>
                                        </a:lnTo>
                                        <a:lnTo>
                                          <a:pt x="3292" y="3935"/>
                                        </a:lnTo>
                                        <a:lnTo>
                                          <a:pt x="3274" y="3935"/>
                                        </a:lnTo>
                                        <a:lnTo>
                                          <a:pt x="3218" y="4021"/>
                                        </a:lnTo>
                                        <a:lnTo>
                                          <a:pt x="3188" y="4029"/>
                                        </a:lnTo>
                                        <a:lnTo>
                                          <a:pt x="3153" y="4029"/>
                                        </a:lnTo>
                                        <a:lnTo>
                                          <a:pt x="3153" y="4021"/>
                                        </a:lnTo>
                                        <a:lnTo>
                                          <a:pt x="3132" y="3999"/>
                                        </a:lnTo>
                                        <a:lnTo>
                                          <a:pt x="3102" y="3999"/>
                                        </a:lnTo>
                                        <a:lnTo>
                                          <a:pt x="3080" y="4038"/>
                                        </a:lnTo>
                                        <a:lnTo>
                                          <a:pt x="3037" y="4072"/>
                                        </a:lnTo>
                                        <a:lnTo>
                                          <a:pt x="2998" y="4051"/>
                                        </a:lnTo>
                                        <a:lnTo>
                                          <a:pt x="2985" y="4038"/>
                                        </a:lnTo>
                                        <a:lnTo>
                                          <a:pt x="2912" y="4115"/>
                                        </a:lnTo>
                                        <a:lnTo>
                                          <a:pt x="2869" y="4115"/>
                                        </a:lnTo>
                                        <a:lnTo>
                                          <a:pt x="2856" y="4085"/>
                                        </a:lnTo>
                                        <a:lnTo>
                                          <a:pt x="2847" y="4072"/>
                                        </a:lnTo>
                                        <a:lnTo>
                                          <a:pt x="2826" y="4072"/>
                                        </a:lnTo>
                                        <a:lnTo>
                                          <a:pt x="2795" y="4124"/>
                                        </a:lnTo>
                                        <a:lnTo>
                                          <a:pt x="2774" y="4146"/>
                                        </a:lnTo>
                                        <a:lnTo>
                                          <a:pt x="2731" y="4115"/>
                                        </a:lnTo>
                                        <a:lnTo>
                                          <a:pt x="2649" y="4167"/>
                                        </a:lnTo>
                                        <a:lnTo>
                                          <a:pt x="2614" y="4158"/>
                                        </a:lnTo>
                                        <a:lnTo>
                                          <a:pt x="2593" y="4158"/>
                                        </a:lnTo>
                                        <a:lnTo>
                                          <a:pt x="2571" y="4197"/>
                                        </a:lnTo>
                                        <a:lnTo>
                                          <a:pt x="2541" y="4232"/>
                                        </a:lnTo>
                                        <a:lnTo>
                                          <a:pt x="2519" y="4197"/>
                                        </a:lnTo>
                                        <a:lnTo>
                                          <a:pt x="2489" y="4167"/>
                                        </a:lnTo>
                                        <a:lnTo>
                                          <a:pt x="2437" y="4219"/>
                                        </a:lnTo>
                                        <a:lnTo>
                                          <a:pt x="2364" y="4219"/>
                                        </a:lnTo>
                                        <a:lnTo>
                                          <a:pt x="2364" y="4210"/>
                                        </a:lnTo>
                                        <a:lnTo>
                                          <a:pt x="2351" y="4197"/>
                                        </a:lnTo>
                                        <a:lnTo>
                                          <a:pt x="2308" y="4262"/>
                                        </a:lnTo>
                                        <a:lnTo>
                                          <a:pt x="2278" y="4253"/>
                                        </a:lnTo>
                                        <a:lnTo>
                                          <a:pt x="2256" y="4283"/>
                                        </a:lnTo>
                                        <a:lnTo>
                                          <a:pt x="2256" y="4292"/>
                                        </a:lnTo>
                                        <a:lnTo>
                                          <a:pt x="2235" y="4292"/>
                                        </a:lnTo>
                                        <a:lnTo>
                                          <a:pt x="2235" y="4283"/>
                                        </a:lnTo>
                                        <a:lnTo>
                                          <a:pt x="2213" y="4262"/>
                                        </a:lnTo>
                                        <a:lnTo>
                                          <a:pt x="2161" y="4283"/>
                                        </a:lnTo>
                                        <a:lnTo>
                                          <a:pt x="2140" y="4283"/>
                                        </a:lnTo>
                                        <a:lnTo>
                                          <a:pt x="2118" y="4262"/>
                                        </a:lnTo>
                                        <a:lnTo>
                                          <a:pt x="2109" y="4275"/>
                                        </a:lnTo>
                                        <a:lnTo>
                                          <a:pt x="2109" y="4305"/>
                                        </a:lnTo>
                                        <a:lnTo>
                                          <a:pt x="2053" y="4262"/>
                                        </a:lnTo>
                                        <a:lnTo>
                                          <a:pt x="2032" y="4292"/>
                                        </a:lnTo>
                                        <a:lnTo>
                                          <a:pt x="1980" y="4275"/>
                                        </a:lnTo>
                                        <a:lnTo>
                                          <a:pt x="1967" y="4262"/>
                                        </a:lnTo>
                                        <a:lnTo>
                                          <a:pt x="2096" y="4103"/>
                                        </a:lnTo>
                                        <a:lnTo>
                                          <a:pt x="2127" y="4038"/>
                                        </a:lnTo>
                                        <a:lnTo>
                                          <a:pt x="2075" y="3956"/>
                                        </a:lnTo>
                                        <a:lnTo>
                                          <a:pt x="2053" y="3840"/>
                                        </a:lnTo>
                                        <a:lnTo>
                                          <a:pt x="2045" y="3832"/>
                                        </a:lnTo>
                                        <a:close/>
                                      </a:path>
                                    </a:pathLst>
                                  </a:custGeom>
                                  <a:blipFill rotWithShape="0">
                                    <a:blip r:embed="rId13"/>
                                    <a:srcRect/>
                                    <a:tile tx="0" ty="0" sx="100000" sy="100000" algn="ctr"/>
                                  </a:blipFill>
                                  <a:ln w="9360">
                                    <a:solidFill>
                                      <a:srgbClr val="c0c0c0"/>
                                    </a:solidFill>
                                    <a:round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91" name=""/>
                                  <p:cNvSpPr/>
                                  <p:nvPr/>
                                </p:nvSpPr>
                                <p:spPr>
                                  <a:xfrm rot="21327600">
                                    <a:off x="1413000" y="948600"/>
                                    <a:ext cx="122400" cy="288000"/>
                                  </a:xfrm>
                                  <a:custGeom>
                                    <a:avLst/>
                                    <a:gdLst/>
                                    <a:ahLst/>
                                    <a:rect l="l" t="t" r="r" b="b"/>
                                    <a:pathLst>
                                      <a:path w="1195" h="2976">
                                        <a:moveTo>
                                          <a:pt x="940" y="95"/>
                                        </a:moveTo>
                                        <a:lnTo>
                                          <a:pt x="953" y="86"/>
                                        </a:lnTo>
                                        <a:lnTo>
                                          <a:pt x="953" y="77"/>
                                        </a:lnTo>
                                        <a:lnTo>
                                          <a:pt x="1048" y="150"/>
                                        </a:lnTo>
                                        <a:lnTo>
                                          <a:pt x="1083" y="116"/>
                                        </a:lnTo>
                                        <a:lnTo>
                                          <a:pt x="1165" y="181"/>
                                        </a:lnTo>
                                        <a:lnTo>
                                          <a:pt x="1195" y="181"/>
                                        </a:lnTo>
                                        <a:lnTo>
                                          <a:pt x="1156" y="318"/>
                                        </a:lnTo>
                                        <a:lnTo>
                                          <a:pt x="902" y="843"/>
                                        </a:lnTo>
                                        <a:lnTo>
                                          <a:pt x="902" y="1174"/>
                                        </a:lnTo>
                                        <a:lnTo>
                                          <a:pt x="953" y="1277"/>
                                        </a:lnTo>
                                        <a:lnTo>
                                          <a:pt x="988" y="1299"/>
                                        </a:lnTo>
                                        <a:lnTo>
                                          <a:pt x="1005" y="1320"/>
                                        </a:lnTo>
                                        <a:lnTo>
                                          <a:pt x="794" y="1711"/>
                                        </a:lnTo>
                                        <a:lnTo>
                                          <a:pt x="712" y="1944"/>
                                        </a:lnTo>
                                        <a:lnTo>
                                          <a:pt x="612" y="2365"/>
                                        </a:lnTo>
                                        <a:lnTo>
                                          <a:pt x="656" y="2576"/>
                                        </a:lnTo>
                                        <a:lnTo>
                                          <a:pt x="625" y="2640"/>
                                        </a:lnTo>
                                        <a:lnTo>
                                          <a:pt x="496" y="2722"/>
                                        </a:lnTo>
                                        <a:lnTo>
                                          <a:pt x="436" y="2808"/>
                                        </a:lnTo>
                                        <a:lnTo>
                                          <a:pt x="414" y="2859"/>
                                        </a:lnTo>
                                        <a:lnTo>
                                          <a:pt x="474" y="2937"/>
                                        </a:lnTo>
                                        <a:lnTo>
                                          <a:pt x="474" y="2976"/>
                                        </a:lnTo>
                                        <a:lnTo>
                                          <a:pt x="0" y="2976"/>
                                        </a:lnTo>
                                        <a:lnTo>
                                          <a:pt x="0" y="2902"/>
                                        </a:lnTo>
                                        <a:lnTo>
                                          <a:pt x="86" y="2786"/>
                                        </a:lnTo>
                                        <a:lnTo>
                                          <a:pt x="254" y="2640"/>
                                        </a:lnTo>
                                        <a:lnTo>
                                          <a:pt x="371" y="2460"/>
                                        </a:lnTo>
                                        <a:lnTo>
                                          <a:pt x="634" y="1561"/>
                                        </a:lnTo>
                                        <a:lnTo>
                                          <a:pt x="677" y="1234"/>
                                        </a:lnTo>
                                        <a:lnTo>
                                          <a:pt x="656" y="993"/>
                                        </a:lnTo>
                                        <a:lnTo>
                                          <a:pt x="751" y="748"/>
                                        </a:lnTo>
                                        <a:lnTo>
                                          <a:pt x="794" y="224"/>
                                        </a:lnTo>
                                        <a:lnTo>
                                          <a:pt x="837" y="0"/>
                                        </a:lnTo>
                                        <a:lnTo>
                                          <a:pt x="902" y="95"/>
                                        </a:lnTo>
                                        <a:lnTo>
                                          <a:pt x="940" y="95"/>
                                        </a:lnTo>
                                        <a:close/>
                                      </a:path>
                                    </a:pathLst>
                                  </a:custGeom>
                                  <a:blipFill rotWithShape="0">
                                    <a:blip r:embed="rId14"/>
                                    <a:srcRect/>
                                    <a:tile tx="0" ty="0" sx="100000" sy="100000" algn="ctr"/>
                                  </a:blipFill>
                                  <a:ln w="9360">
                                    <a:solidFill>
                                      <a:srgbClr val="c0c0c0"/>
                                    </a:solidFill>
                                    <a:round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92" name=""/>
                                  <p:cNvSpPr/>
                                  <p:nvPr/>
                                </p:nvSpPr>
                                <p:spPr>
                                  <a:xfrm rot="21327600">
                                    <a:off x="1487160" y="945720"/>
                                    <a:ext cx="40320" cy="96480"/>
                                  </a:xfrm>
                                  <a:custGeom>
                                    <a:avLst/>
                                    <a:gdLst/>
                                    <a:ahLst/>
                                    <a:rect l="l" t="t" r="r" b="b"/>
                                    <a:pathLst>
                                      <a:path w="397" h="998">
                                        <a:moveTo>
                                          <a:pt x="0" y="202"/>
                                        </a:moveTo>
                                        <a:lnTo>
                                          <a:pt x="69" y="202"/>
                                        </a:lnTo>
                                        <a:lnTo>
                                          <a:pt x="69" y="228"/>
                                        </a:lnTo>
                                        <a:lnTo>
                                          <a:pt x="69" y="254"/>
                                        </a:lnTo>
                                        <a:lnTo>
                                          <a:pt x="65" y="284"/>
                                        </a:lnTo>
                                        <a:lnTo>
                                          <a:pt x="60" y="314"/>
                                        </a:lnTo>
                                        <a:lnTo>
                                          <a:pt x="56" y="344"/>
                                        </a:lnTo>
                                        <a:lnTo>
                                          <a:pt x="52" y="374"/>
                                        </a:lnTo>
                                        <a:lnTo>
                                          <a:pt x="52" y="400"/>
                                        </a:lnTo>
                                        <a:lnTo>
                                          <a:pt x="52" y="426"/>
                                        </a:lnTo>
                                        <a:lnTo>
                                          <a:pt x="43" y="426"/>
                                        </a:lnTo>
                                        <a:lnTo>
                                          <a:pt x="39" y="430"/>
                                        </a:lnTo>
                                        <a:lnTo>
                                          <a:pt x="35" y="434"/>
                                        </a:lnTo>
                                        <a:lnTo>
                                          <a:pt x="35" y="439"/>
                                        </a:lnTo>
                                        <a:lnTo>
                                          <a:pt x="30" y="443"/>
                                        </a:lnTo>
                                        <a:lnTo>
                                          <a:pt x="30" y="451"/>
                                        </a:lnTo>
                                        <a:lnTo>
                                          <a:pt x="30" y="456"/>
                                        </a:lnTo>
                                        <a:lnTo>
                                          <a:pt x="30" y="464"/>
                                        </a:lnTo>
                                        <a:lnTo>
                                          <a:pt x="39" y="464"/>
                                        </a:lnTo>
                                        <a:lnTo>
                                          <a:pt x="43" y="469"/>
                                        </a:lnTo>
                                        <a:lnTo>
                                          <a:pt x="52" y="473"/>
                                        </a:lnTo>
                                        <a:lnTo>
                                          <a:pt x="60" y="477"/>
                                        </a:lnTo>
                                        <a:lnTo>
                                          <a:pt x="69" y="477"/>
                                        </a:lnTo>
                                        <a:lnTo>
                                          <a:pt x="78" y="482"/>
                                        </a:lnTo>
                                        <a:lnTo>
                                          <a:pt x="82" y="486"/>
                                        </a:lnTo>
                                        <a:lnTo>
                                          <a:pt x="91" y="486"/>
                                        </a:lnTo>
                                        <a:lnTo>
                                          <a:pt x="112" y="525"/>
                                        </a:lnTo>
                                        <a:lnTo>
                                          <a:pt x="112" y="537"/>
                                        </a:lnTo>
                                        <a:lnTo>
                                          <a:pt x="108" y="559"/>
                                        </a:lnTo>
                                        <a:lnTo>
                                          <a:pt x="104" y="585"/>
                                        </a:lnTo>
                                        <a:lnTo>
                                          <a:pt x="95" y="615"/>
                                        </a:lnTo>
                                        <a:lnTo>
                                          <a:pt x="86" y="645"/>
                                        </a:lnTo>
                                        <a:lnTo>
                                          <a:pt x="78" y="666"/>
                                        </a:lnTo>
                                        <a:lnTo>
                                          <a:pt x="65" y="684"/>
                                        </a:lnTo>
                                        <a:lnTo>
                                          <a:pt x="52" y="688"/>
                                        </a:lnTo>
                                        <a:lnTo>
                                          <a:pt x="52" y="727"/>
                                        </a:lnTo>
                                        <a:lnTo>
                                          <a:pt x="56" y="765"/>
                                        </a:lnTo>
                                        <a:lnTo>
                                          <a:pt x="65" y="804"/>
                                        </a:lnTo>
                                        <a:lnTo>
                                          <a:pt x="69" y="843"/>
                                        </a:lnTo>
                                        <a:lnTo>
                                          <a:pt x="78" y="881"/>
                                        </a:lnTo>
                                        <a:lnTo>
                                          <a:pt x="86" y="916"/>
                                        </a:lnTo>
                                        <a:lnTo>
                                          <a:pt x="91" y="955"/>
                                        </a:lnTo>
                                        <a:lnTo>
                                          <a:pt x="91" y="993"/>
                                        </a:lnTo>
                                        <a:lnTo>
                                          <a:pt x="91" y="993"/>
                                        </a:lnTo>
                                        <a:lnTo>
                                          <a:pt x="95" y="993"/>
                                        </a:lnTo>
                                        <a:lnTo>
                                          <a:pt x="95" y="993"/>
                                        </a:lnTo>
                                        <a:lnTo>
                                          <a:pt x="99" y="993"/>
                                        </a:lnTo>
                                        <a:lnTo>
                                          <a:pt x="99" y="993"/>
                                        </a:lnTo>
                                        <a:lnTo>
                                          <a:pt x="99" y="998"/>
                                        </a:lnTo>
                                        <a:lnTo>
                                          <a:pt x="99" y="998"/>
                                        </a:lnTo>
                                        <a:lnTo>
                                          <a:pt x="104" y="998"/>
                                        </a:lnTo>
                                        <a:lnTo>
                                          <a:pt x="104" y="843"/>
                                        </a:lnTo>
                                        <a:lnTo>
                                          <a:pt x="358" y="318"/>
                                        </a:lnTo>
                                        <a:lnTo>
                                          <a:pt x="397" y="189"/>
                                        </a:lnTo>
                                        <a:lnTo>
                                          <a:pt x="397" y="189"/>
                                        </a:lnTo>
                                        <a:lnTo>
                                          <a:pt x="397" y="189"/>
                                        </a:lnTo>
                                        <a:lnTo>
                                          <a:pt x="397" y="185"/>
                                        </a:lnTo>
                                        <a:lnTo>
                                          <a:pt x="397" y="185"/>
                                        </a:lnTo>
                                        <a:lnTo>
                                          <a:pt x="397" y="185"/>
                                        </a:lnTo>
                                        <a:lnTo>
                                          <a:pt x="397" y="181"/>
                                        </a:lnTo>
                                        <a:lnTo>
                                          <a:pt x="397" y="181"/>
                                        </a:lnTo>
                                        <a:lnTo>
                                          <a:pt x="397" y="181"/>
                                        </a:lnTo>
                                        <a:lnTo>
                                          <a:pt x="367" y="181"/>
                                        </a:lnTo>
                                        <a:lnTo>
                                          <a:pt x="285" y="116"/>
                                        </a:lnTo>
                                        <a:lnTo>
                                          <a:pt x="250" y="150"/>
                                        </a:lnTo>
                                        <a:lnTo>
                                          <a:pt x="155" y="77"/>
                                        </a:lnTo>
                                        <a:lnTo>
                                          <a:pt x="155" y="86"/>
                                        </a:lnTo>
                                        <a:lnTo>
                                          <a:pt x="142" y="95"/>
                                        </a:lnTo>
                                        <a:lnTo>
                                          <a:pt x="104" y="95"/>
                                        </a:lnTo>
                                        <a:lnTo>
                                          <a:pt x="39" y="0"/>
                                        </a:lnTo>
                                        <a:lnTo>
                                          <a:pt x="0" y="202"/>
                                        </a:lnTo>
                                        <a:close/>
                                      </a:path>
                                    </a:pathLst>
                                  </a:custGeom>
                                  <a:blipFill rotWithShape="0">
                                    <a:blip r:embed="rId15"/>
                                    <a:srcRect/>
                                    <a:tile tx="0" ty="0" sx="100000" sy="100000" algn="ctr"/>
                                  </a:blipFill>
                                  <a:ln w="9360">
                                    <a:solidFill>
                                      <a:srgbClr val="c0c0c0"/>
                                    </a:solidFill>
                                    <a:round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grpSp>
                                <p:nvGrpSpPr>
                                  <p:cNvPr id="9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424520" y="572760"/>
                                    <a:ext cx="393120" cy="661680"/>
                                    <a:chOff x="1424520" y="572760"/>
                                    <a:chExt cx="393120" cy="661680"/>
                                  </a:xfrm>
                                </p:grpSpPr>
                                <p:sp>
                                  <p:nvSpPr>
                                    <p:cNvPr id="94" name=""/>
                                    <p:cNvSpPr/>
                                    <p:nvPr/>
                                  </p:nvSpPr>
                                  <p:spPr>
                                    <a:xfrm rot="21327600">
                                      <a:off x="1425600" y="633960"/>
                                      <a:ext cx="49680" cy="3456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487" h="357">
                                          <a:moveTo>
                                            <a:pt x="487" y="9"/>
                                          </a:moveTo>
                                          <a:lnTo>
                                            <a:pt x="487" y="30"/>
                                          </a:lnTo>
                                          <a:lnTo>
                                            <a:pt x="233" y="125"/>
                                          </a:lnTo>
                                          <a:lnTo>
                                            <a:pt x="211" y="147"/>
                                          </a:lnTo>
                                          <a:lnTo>
                                            <a:pt x="285" y="155"/>
                                          </a:lnTo>
                                          <a:lnTo>
                                            <a:pt x="293" y="168"/>
                                          </a:lnTo>
                                          <a:lnTo>
                                            <a:pt x="293" y="177"/>
                                          </a:lnTo>
                                          <a:lnTo>
                                            <a:pt x="190" y="207"/>
                                          </a:lnTo>
                                          <a:lnTo>
                                            <a:pt x="168" y="228"/>
                                          </a:lnTo>
                                          <a:lnTo>
                                            <a:pt x="190" y="250"/>
                                          </a:lnTo>
                                          <a:lnTo>
                                            <a:pt x="220" y="228"/>
                                          </a:lnTo>
                                          <a:lnTo>
                                            <a:pt x="233" y="241"/>
                                          </a:lnTo>
                                          <a:lnTo>
                                            <a:pt x="246" y="241"/>
                                          </a:lnTo>
                                          <a:lnTo>
                                            <a:pt x="246" y="250"/>
                                          </a:lnTo>
                                          <a:lnTo>
                                            <a:pt x="0" y="357"/>
                                          </a:lnTo>
                                          <a:lnTo>
                                            <a:pt x="116" y="263"/>
                                          </a:lnTo>
                                          <a:lnTo>
                                            <a:pt x="159" y="190"/>
                                          </a:lnTo>
                                          <a:lnTo>
                                            <a:pt x="146" y="177"/>
                                          </a:lnTo>
                                          <a:lnTo>
                                            <a:pt x="146" y="147"/>
                                          </a:lnTo>
                                          <a:lnTo>
                                            <a:pt x="328" y="73"/>
                                          </a:lnTo>
                                          <a:lnTo>
                                            <a:pt x="328" y="18"/>
                                          </a:lnTo>
                                          <a:lnTo>
                                            <a:pt x="379" y="0"/>
                                          </a:lnTo>
                                          <a:lnTo>
                                            <a:pt x="474" y="0"/>
                                          </a:lnTo>
                                          <a:lnTo>
                                            <a:pt x="487" y="9"/>
                                          </a:lnTo>
                                          <a:close/>
                                        </a:path>
                                      </a:pathLst>
                                    </a:custGeom>
                                    <a:blipFill rotWithShape="0">
                                      <a:blip r:embed="rId16"/>
                                      <a:srcRect/>
                                      <a:tile tx="0" ty="0" sx="100000" sy="100000" algn="ctr"/>
                                    </a:blipFill>
                                    <a:ln w="9360">
                                      <a:solidFill>
                                        <a:srgbClr val="c0c0c0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12240" bIns="-1224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95" name=""/>
                                    <p:cNvSpPr/>
                                    <p:nvPr/>
                                  </p:nvSpPr>
                                  <p:spPr>
                                    <a:xfrm rot="21327600">
                                      <a:off x="1439640" y="863640"/>
                                      <a:ext cx="10800" cy="4464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108" h="464">
                                          <a:moveTo>
                                            <a:pt x="21" y="224"/>
                                          </a:moveTo>
                                          <a:lnTo>
                                            <a:pt x="21" y="232"/>
                                          </a:lnTo>
                                          <a:lnTo>
                                            <a:pt x="34" y="245"/>
                                          </a:lnTo>
                                          <a:lnTo>
                                            <a:pt x="64" y="151"/>
                                          </a:lnTo>
                                          <a:lnTo>
                                            <a:pt x="73" y="151"/>
                                          </a:lnTo>
                                          <a:lnTo>
                                            <a:pt x="73" y="421"/>
                                          </a:lnTo>
                                          <a:lnTo>
                                            <a:pt x="108" y="452"/>
                                          </a:lnTo>
                                          <a:lnTo>
                                            <a:pt x="95" y="464"/>
                                          </a:lnTo>
                                          <a:lnTo>
                                            <a:pt x="73" y="464"/>
                                          </a:lnTo>
                                          <a:lnTo>
                                            <a:pt x="51" y="413"/>
                                          </a:lnTo>
                                          <a:lnTo>
                                            <a:pt x="43" y="305"/>
                                          </a:lnTo>
                                          <a:lnTo>
                                            <a:pt x="0" y="254"/>
                                          </a:lnTo>
                                          <a:lnTo>
                                            <a:pt x="0" y="65"/>
                                          </a:lnTo>
                                          <a:lnTo>
                                            <a:pt x="34" y="0"/>
                                          </a:lnTo>
                                          <a:lnTo>
                                            <a:pt x="43" y="9"/>
                                          </a:lnTo>
                                          <a:lnTo>
                                            <a:pt x="21" y="224"/>
                                          </a:lnTo>
                                          <a:close/>
                                        </a:path>
                                      </a:pathLst>
                                    </a:custGeom>
                                    <a:blipFill rotWithShape="0">
                                      <a:blip r:embed="rId17"/>
                                      <a:srcRect/>
                                      <a:tile tx="0" ty="0" sx="100000" sy="100000" algn="ctr"/>
                                    </a:blipFill>
                                    <a:ln w="9360">
                                      <a:solidFill>
                                        <a:srgbClr val="c0c0c0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2160" bIns="-216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96" name=""/>
                                    <p:cNvSpPr/>
                                    <p:nvPr/>
                                  </p:nvSpPr>
                                  <p:spPr>
                                    <a:xfrm rot="21327600">
                                      <a:off x="1468800" y="898560"/>
                                      <a:ext cx="25200" cy="2952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246" h="306">
                                          <a:moveTo>
                                            <a:pt x="65" y="73"/>
                                          </a:moveTo>
                                          <a:lnTo>
                                            <a:pt x="86" y="254"/>
                                          </a:lnTo>
                                          <a:lnTo>
                                            <a:pt x="108" y="276"/>
                                          </a:lnTo>
                                          <a:lnTo>
                                            <a:pt x="151" y="168"/>
                                          </a:lnTo>
                                          <a:lnTo>
                                            <a:pt x="151" y="159"/>
                                          </a:lnTo>
                                          <a:lnTo>
                                            <a:pt x="172" y="159"/>
                                          </a:lnTo>
                                          <a:lnTo>
                                            <a:pt x="224" y="276"/>
                                          </a:lnTo>
                                          <a:lnTo>
                                            <a:pt x="246" y="297"/>
                                          </a:lnTo>
                                          <a:lnTo>
                                            <a:pt x="233" y="306"/>
                                          </a:lnTo>
                                          <a:lnTo>
                                            <a:pt x="159" y="202"/>
                                          </a:lnTo>
                                          <a:lnTo>
                                            <a:pt x="121" y="297"/>
                                          </a:lnTo>
                                          <a:lnTo>
                                            <a:pt x="108" y="306"/>
                                          </a:lnTo>
                                          <a:lnTo>
                                            <a:pt x="56" y="241"/>
                                          </a:lnTo>
                                          <a:lnTo>
                                            <a:pt x="13" y="159"/>
                                          </a:lnTo>
                                          <a:lnTo>
                                            <a:pt x="0" y="0"/>
                                          </a:lnTo>
                                          <a:lnTo>
                                            <a:pt x="56" y="73"/>
                                          </a:lnTo>
                                          <a:lnTo>
                                            <a:pt x="65" y="73"/>
                                          </a:lnTo>
                                          <a:close/>
                                        </a:path>
                                      </a:pathLst>
                                    </a:custGeom>
                                    <a:blipFill rotWithShape="0">
                                      <a:blip r:embed="rId18"/>
                                      <a:srcRect/>
                                      <a:tile tx="0" ty="0" sx="100000" sy="100000" algn="ctr"/>
                                    </a:blipFill>
                                    <a:ln w="9360">
                                      <a:solidFill>
                                        <a:srgbClr val="c0c0c0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17280" bIns="-172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97" name=""/>
                                    <p:cNvSpPr/>
                                    <p:nvPr/>
                                  </p:nvSpPr>
                                  <p:spPr>
                                    <a:xfrm rot="21327600">
                                      <a:off x="1691640" y="921600"/>
                                      <a:ext cx="35280" cy="1584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345" h="167">
                                          <a:moveTo>
                                            <a:pt x="284" y="73"/>
                                          </a:moveTo>
                                          <a:lnTo>
                                            <a:pt x="336" y="73"/>
                                          </a:lnTo>
                                          <a:lnTo>
                                            <a:pt x="345" y="64"/>
                                          </a:lnTo>
                                          <a:lnTo>
                                            <a:pt x="345" y="86"/>
                                          </a:lnTo>
                                          <a:lnTo>
                                            <a:pt x="315" y="107"/>
                                          </a:lnTo>
                                          <a:lnTo>
                                            <a:pt x="250" y="94"/>
                                          </a:lnTo>
                                          <a:lnTo>
                                            <a:pt x="198" y="150"/>
                                          </a:lnTo>
                                          <a:lnTo>
                                            <a:pt x="146" y="129"/>
                                          </a:lnTo>
                                          <a:lnTo>
                                            <a:pt x="116" y="94"/>
                                          </a:lnTo>
                                          <a:lnTo>
                                            <a:pt x="73" y="150"/>
                                          </a:lnTo>
                                          <a:lnTo>
                                            <a:pt x="51" y="167"/>
                                          </a:lnTo>
                                          <a:lnTo>
                                            <a:pt x="8" y="159"/>
                                          </a:lnTo>
                                          <a:lnTo>
                                            <a:pt x="0" y="94"/>
                                          </a:lnTo>
                                          <a:lnTo>
                                            <a:pt x="0" y="64"/>
                                          </a:lnTo>
                                          <a:lnTo>
                                            <a:pt x="21" y="64"/>
                                          </a:lnTo>
                                          <a:lnTo>
                                            <a:pt x="39" y="137"/>
                                          </a:lnTo>
                                          <a:lnTo>
                                            <a:pt x="103" y="73"/>
                                          </a:lnTo>
                                          <a:lnTo>
                                            <a:pt x="103" y="43"/>
                                          </a:lnTo>
                                          <a:lnTo>
                                            <a:pt x="116" y="34"/>
                                          </a:lnTo>
                                          <a:lnTo>
                                            <a:pt x="190" y="116"/>
                                          </a:lnTo>
                                          <a:lnTo>
                                            <a:pt x="198" y="129"/>
                                          </a:lnTo>
                                          <a:lnTo>
                                            <a:pt x="241" y="86"/>
                                          </a:lnTo>
                                          <a:lnTo>
                                            <a:pt x="220" y="0"/>
                                          </a:lnTo>
                                          <a:lnTo>
                                            <a:pt x="250" y="13"/>
                                          </a:lnTo>
                                          <a:lnTo>
                                            <a:pt x="284" y="73"/>
                                          </a:lnTo>
                                          <a:close/>
                                        </a:path>
                                      </a:pathLst>
                                    </a:custGeom>
                                    <a:blipFill rotWithShape="0">
                                      <a:blip r:embed="rId19"/>
                                      <a:srcRect/>
                                      <a:tile tx="0" ty="0" sx="100000" sy="100000" algn="ctr"/>
                                    </a:blipFill>
                                    <a:ln w="9360">
                                      <a:solidFill>
                                        <a:srgbClr val="c0c0c0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0960" bIns="-3096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98" name=""/>
                                    <p:cNvSpPr/>
                                    <p:nvPr/>
                                  </p:nvSpPr>
                                  <p:spPr>
                                    <a:xfrm rot="21327600">
                                      <a:off x="1649520" y="941400"/>
                                      <a:ext cx="18000" cy="1224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177" h="129">
                                          <a:moveTo>
                                            <a:pt x="177" y="86"/>
                                          </a:moveTo>
                                          <a:lnTo>
                                            <a:pt x="134" y="95"/>
                                          </a:lnTo>
                                          <a:lnTo>
                                            <a:pt x="103" y="129"/>
                                          </a:lnTo>
                                          <a:lnTo>
                                            <a:pt x="30" y="108"/>
                                          </a:lnTo>
                                          <a:lnTo>
                                            <a:pt x="0" y="56"/>
                                          </a:lnTo>
                                          <a:lnTo>
                                            <a:pt x="0" y="43"/>
                                          </a:lnTo>
                                          <a:lnTo>
                                            <a:pt x="17" y="22"/>
                                          </a:lnTo>
                                          <a:lnTo>
                                            <a:pt x="82" y="108"/>
                                          </a:lnTo>
                                          <a:lnTo>
                                            <a:pt x="103" y="108"/>
                                          </a:lnTo>
                                          <a:lnTo>
                                            <a:pt x="112" y="0"/>
                                          </a:lnTo>
                                          <a:lnTo>
                                            <a:pt x="134" y="0"/>
                                          </a:lnTo>
                                          <a:lnTo>
                                            <a:pt x="177" y="86"/>
                                          </a:lnTo>
                                          <a:close/>
                                        </a:path>
                                      </a:pathLst>
                                    </a:custGeom>
                                    <a:blipFill rotWithShape="0">
                                      <a:blip r:embed="rId20"/>
                                      <a:srcRect/>
                                      <a:tile tx="0" ty="0" sx="100000" sy="100000" algn="ctr"/>
                                    </a:blipFill>
                                    <a:ln w="9360">
                                      <a:solidFill>
                                        <a:srgbClr val="c0c0c0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4560" bIns="-3456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99" name=""/>
                                    <p:cNvSpPr/>
                                    <p:nvPr/>
                                  </p:nvSpPr>
                                  <p:spPr>
                                    <a:xfrm rot="21327600">
                                      <a:off x="1566720" y="750960"/>
                                      <a:ext cx="120960" cy="4068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1182" h="421">
                                          <a:moveTo>
                                            <a:pt x="121" y="189"/>
                                          </a:moveTo>
                                          <a:lnTo>
                                            <a:pt x="138" y="189"/>
                                          </a:lnTo>
                                          <a:lnTo>
                                            <a:pt x="155" y="180"/>
                                          </a:lnTo>
                                          <a:lnTo>
                                            <a:pt x="177" y="167"/>
                                          </a:lnTo>
                                          <a:lnTo>
                                            <a:pt x="199" y="154"/>
                                          </a:lnTo>
                                          <a:lnTo>
                                            <a:pt x="220" y="137"/>
                                          </a:lnTo>
                                          <a:lnTo>
                                            <a:pt x="242" y="129"/>
                                          </a:lnTo>
                                          <a:lnTo>
                                            <a:pt x="259" y="120"/>
                                          </a:lnTo>
                                          <a:lnTo>
                                            <a:pt x="272" y="116"/>
                                          </a:lnTo>
                                          <a:lnTo>
                                            <a:pt x="276" y="103"/>
                                          </a:lnTo>
                                          <a:lnTo>
                                            <a:pt x="281" y="90"/>
                                          </a:lnTo>
                                          <a:lnTo>
                                            <a:pt x="289" y="81"/>
                                          </a:lnTo>
                                          <a:lnTo>
                                            <a:pt x="298" y="68"/>
                                          </a:lnTo>
                                          <a:lnTo>
                                            <a:pt x="324" y="51"/>
                                          </a:lnTo>
                                          <a:lnTo>
                                            <a:pt x="358" y="38"/>
                                          </a:lnTo>
                                          <a:lnTo>
                                            <a:pt x="401" y="25"/>
                                          </a:lnTo>
                                          <a:lnTo>
                                            <a:pt x="449" y="17"/>
                                          </a:lnTo>
                                          <a:lnTo>
                                            <a:pt x="501" y="8"/>
                                          </a:lnTo>
                                          <a:lnTo>
                                            <a:pt x="557" y="4"/>
                                          </a:lnTo>
                                          <a:lnTo>
                                            <a:pt x="669" y="0"/>
                                          </a:lnTo>
                                          <a:lnTo>
                                            <a:pt x="772" y="0"/>
                                          </a:lnTo>
                                          <a:lnTo>
                                            <a:pt x="816" y="4"/>
                                          </a:lnTo>
                                          <a:lnTo>
                                            <a:pt x="854" y="8"/>
                                          </a:lnTo>
                                          <a:lnTo>
                                            <a:pt x="889" y="17"/>
                                          </a:lnTo>
                                          <a:lnTo>
                                            <a:pt x="910" y="25"/>
                                          </a:lnTo>
                                          <a:lnTo>
                                            <a:pt x="910" y="25"/>
                                          </a:lnTo>
                                          <a:lnTo>
                                            <a:pt x="910" y="30"/>
                                          </a:lnTo>
                                          <a:lnTo>
                                            <a:pt x="910" y="30"/>
                                          </a:lnTo>
                                          <a:lnTo>
                                            <a:pt x="910" y="34"/>
                                          </a:lnTo>
                                          <a:lnTo>
                                            <a:pt x="910" y="34"/>
                                          </a:lnTo>
                                          <a:lnTo>
                                            <a:pt x="910" y="34"/>
                                          </a:lnTo>
                                          <a:lnTo>
                                            <a:pt x="910" y="38"/>
                                          </a:lnTo>
                                          <a:lnTo>
                                            <a:pt x="910" y="38"/>
                                          </a:lnTo>
                                          <a:lnTo>
                                            <a:pt x="928" y="47"/>
                                          </a:lnTo>
                                          <a:lnTo>
                                            <a:pt x="954" y="60"/>
                                          </a:lnTo>
                                          <a:lnTo>
                                            <a:pt x="984" y="77"/>
                                          </a:lnTo>
                                          <a:lnTo>
                                            <a:pt x="1014" y="90"/>
                                          </a:lnTo>
                                          <a:lnTo>
                                            <a:pt x="1044" y="107"/>
                                          </a:lnTo>
                                          <a:lnTo>
                                            <a:pt x="1074" y="120"/>
                                          </a:lnTo>
                                          <a:lnTo>
                                            <a:pt x="1100" y="129"/>
                                          </a:lnTo>
                                          <a:lnTo>
                                            <a:pt x="1122" y="129"/>
                                          </a:lnTo>
                                          <a:lnTo>
                                            <a:pt x="1126" y="137"/>
                                          </a:lnTo>
                                          <a:lnTo>
                                            <a:pt x="1135" y="146"/>
                                          </a:lnTo>
                                          <a:lnTo>
                                            <a:pt x="1143" y="150"/>
                                          </a:lnTo>
                                          <a:lnTo>
                                            <a:pt x="1152" y="159"/>
                                          </a:lnTo>
                                          <a:lnTo>
                                            <a:pt x="1161" y="167"/>
                                          </a:lnTo>
                                          <a:lnTo>
                                            <a:pt x="1169" y="172"/>
                                          </a:lnTo>
                                          <a:lnTo>
                                            <a:pt x="1174" y="176"/>
                                          </a:lnTo>
                                          <a:lnTo>
                                            <a:pt x="1182" y="176"/>
                                          </a:lnTo>
                                          <a:lnTo>
                                            <a:pt x="1182" y="197"/>
                                          </a:lnTo>
                                          <a:lnTo>
                                            <a:pt x="1182" y="219"/>
                                          </a:lnTo>
                                          <a:lnTo>
                                            <a:pt x="1182" y="236"/>
                                          </a:lnTo>
                                          <a:lnTo>
                                            <a:pt x="1182" y="258"/>
                                          </a:lnTo>
                                          <a:lnTo>
                                            <a:pt x="1182" y="279"/>
                                          </a:lnTo>
                                          <a:lnTo>
                                            <a:pt x="1182" y="301"/>
                                          </a:lnTo>
                                          <a:lnTo>
                                            <a:pt x="1182" y="322"/>
                                          </a:lnTo>
                                          <a:lnTo>
                                            <a:pt x="1182" y="339"/>
                                          </a:lnTo>
                                          <a:lnTo>
                                            <a:pt x="1161" y="356"/>
                                          </a:lnTo>
                                          <a:lnTo>
                                            <a:pt x="1139" y="374"/>
                                          </a:lnTo>
                                          <a:lnTo>
                                            <a:pt x="1109" y="382"/>
                                          </a:lnTo>
                                          <a:lnTo>
                                            <a:pt x="1079" y="395"/>
                                          </a:lnTo>
                                          <a:lnTo>
                                            <a:pt x="1005" y="412"/>
                                          </a:lnTo>
                                          <a:lnTo>
                                            <a:pt x="928" y="417"/>
                                          </a:lnTo>
                                          <a:lnTo>
                                            <a:pt x="850" y="421"/>
                                          </a:lnTo>
                                          <a:lnTo>
                                            <a:pt x="772" y="412"/>
                                          </a:lnTo>
                                          <a:lnTo>
                                            <a:pt x="738" y="404"/>
                                          </a:lnTo>
                                          <a:lnTo>
                                            <a:pt x="708" y="395"/>
                                          </a:lnTo>
                                          <a:lnTo>
                                            <a:pt x="677" y="387"/>
                                          </a:lnTo>
                                          <a:lnTo>
                                            <a:pt x="652" y="374"/>
                                          </a:lnTo>
                                          <a:lnTo>
                                            <a:pt x="652" y="369"/>
                                          </a:lnTo>
                                          <a:lnTo>
                                            <a:pt x="652" y="369"/>
                                          </a:lnTo>
                                          <a:lnTo>
                                            <a:pt x="652" y="365"/>
                                          </a:lnTo>
                                          <a:lnTo>
                                            <a:pt x="652" y="365"/>
                                          </a:lnTo>
                                          <a:lnTo>
                                            <a:pt x="652" y="361"/>
                                          </a:lnTo>
                                          <a:lnTo>
                                            <a:pt x="652" y="361"/>
                                          </a:lnTo>
                                          <a:lnTo>
                                            <a:pt x="652" y="356"/>
                                          </a:lnTo>
                                          <a:lnTo>
                                            <a:pt x="652" y="356"/>
                                          </a:lnTo>
                                          <a:lnTo>
                                            <a:pt x="643" y="356"/>
                                          </a:lnTo>
                                          <a:lnTo>
                                            <a:pt x="630" y="356"/>
                                          </a:lnTo>
                                          <a:lnTo>
                                            <a:pt x="617" y="356"/>
                                          </a:lnTo>
                                          <a:lnTo>
                                            <a:pt x="600" y="356"/>
                                          </a:lnTo>
                                          <a:lnTo>
                                            <a:pt x="587" y="361"/>
                                          </a:lnTo>
                                          <a:lnTo>
                                            <a:pt x="574" y="361"/>
                                          </a:lnTo>
                                          <a:lnTo>
                                            <a:pt x="565" y="365"/>
                                          </a:lnTo>
                                          <a:lnTo>
                                            <a:pt x="561" y="374"/>
                                          </a:lnTo>
                                          <a:lnTo>
                                            <a:pt x="501" y="374"/>
                                          </a:lnTo>
                                          <a:lnTo>
                                            <a:pt x="440" y="374"/>
                                          </a:lnTo>
                                          <a:lnTo>
                                            <a:pt x="380" y="374"/>
                                          </a:lnTo>
                                          <a:lnTo>
                                            <a:pt x="319" y="374"/>
                                          </a:lnTo>
                                          <a:lnTo>
                                            <a:pt x="259" y="374"/>
                                          </a:lnTo>
                                          <a:lnTo>
                                            <a:pt x="199" y="374"/>
                                          </a:lnTo>
                                          <a:lnTo>
                                            <a:pt x="138" y="374"/>
                                          </a:lnTo>
                                          <a:lnTo>
                                            <a:pt x="78" y="374"/>
                                          </a:lnTo>
                                          <a:lnTo>
                                            <a:pt x="69" y="369"/>
                                          </a:lnTo>
                                          <a:lnTo>
                                            <a:pt x="65" y="369"/>
                                          </a:lnTo>
                                          <a:lnTo>
                                            <a:pt x="61" y="365"/>
                                          </a:lnTo>
                                          <a:lnTo>
                                            <a:pt x="56" y="365"/>
                                          </a:lnTo>
                                          <a:lnTo>
                                            <a:pt x="48" y="361"/>
                                          </a:lnTo>
                                          <a:lnTo>
                                            <a:pt x="43" y="361"/>
                                          </a:lnTo>
                                          <a:lnTo>
                                            <a:pt x="39" y="356"/>
                                          </a:lnTo>
                                          <a:lnTo>
                                            <a:pt x="30" y="356"/>
                                          </a:lnTo>
                                          <a:lnTo>
                                            <a:pt x="26" y="352"/>
                                          </a:lnTo>
                                          <a:lnTo>
                                            <a:pt x="26" y="348"/>
                                          </a:lnTo>
                                          <a:lnTo>
                                            <a:pt x="22" y="344"/>
                                          </a:lnTo>
                                          <a:lnTo>
                                            <a:pt x="17" y="339"/>
                                          </a:lnTo>
                                          <a:lnTo>
                                            <a:pt x="13" y="339"/>
                                          </a:lnTo>
                                          <a:lnTo>
                                            <a:pt x="9" y="335"/>
                                          </a:lnTo>
                                          <a:lnTo>
                                            <a:pt x="4" y="331"/>
                                          </a:lnTo>
                                          <a:lnTo>
                                            <a:pt x="0" y="326"/>
                                          </a:lnTo>
                                          <a:lnTo>
                                            <a:pt x="0" y="318"/>
                                          </a:lnTo>
                                          <a:lnTo>
                                            <a:pt x="0" y="309"/>
                                          </a:lnTo>
                                          <a:lnTo>
                                            <a:pt x="0" y="305"/>
                                          </a:lnTo>
                                          <a:lnTo>
                                            <a:pt x="0" y="296"/>
                                          </a:lnTo>
                                          <a:lnTo>
                                            <a:pt x="0" y="288"/>
                                          </a:lnTo>
                                          <a:lnTo>
                                            <a:pt x="0" y="279"/>
                                          </a:lnTo>
                                          <a:lnTo>
                                            <a:pt x="0" y="275"/>
                                          </a:lnTo>
                                          <a:lnTo>
                                            <a:pt x="0" y="266"/>
                                          </a:lnTo>
                                          <a:lnTo>
                                            <a:pt x="9" y="258"/>
                                          </a:lnTo>
                                          <a:lnTo>
                                            <a:pt x="13" y="253"/>
                                          </a:lnTo>
                                          <a:lnTo>
                                            <a:pt x="22" y="245"/>
                                          </a:lnTo>
                                          <a:lnTo>
                                            <a:pt x="30" y="232"/>
                                          </a:lnTo>
                                          <a:lnTo>
                                            <a:pt x="35" y="223"/>
                                          </a:lnTo>
                                          <a:lnTo>
                                            <a:pt x="43" y="215"/>
                                          </a:lnTo>
                                          <a:lnTo>
                                            <a:pt x="43" y="202"/>
                                          </a:lnTo>
                                          <a:lnTo>
                                            <a:pt x="48" y="189"/>
                                          </a:lnTo>
                                          <a:lnTo>
                                            <a:pt x="52" y="189"/>
                                          </a:lnTo>
                                          <a:lnTo>
                                            <a:pt x="61" y="180"/>
                                          </a:lnTo>
                                          <a:lnTo>
                                            <a:pt x="73" y="172"/>
                                          </a:lnTo>
                                          <a:lnTo>
                                            <a:pt x="86" y="163"/>
                                          </a:lnTo>
                                          <a:lnTo>
                                            <a:pt x="95" y="159"/>
                                          </a:lnTo>
                                          <a:lnTo>
                                            <a:pt x="108" y="159"/>
                                          </a:lnTo>
                                          <a:lnTo>
                                            <a:pt x="117" y="167"/>
                                          </a:lnTo>
                                          <a:lnTo>
                                            <a:pt x="121" y="189"/>
                                          </a:lnTo>
                                          <a:close/>
                                        </a:path>
                                      </a:pathLst>
                                    </a:custGeom>
                                    <a:blipFill rotWithShape="0">
                                      <a:blip r:embed="rId21"/>
                                      <a:srcRect/>
                                      <a:tile tx="0" ty="0" sx="100000" sy="100000" algn="ctr"/>
                                    </a:blipFill>
                                    <a:ln w="9360">
                                      <a:solidFill>
                                        <a:srgbClr val="c0c0c0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6120" bIns="-612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00" name=""/>
                                    <p:cNvSpPr/>
                                    <p:nvPr/>
                                  </p:nvSpPr>
                                  <p:spPr>
                                    <a:xfrm rot="21327600">
                                      <a:off x="1750680" y="747720"/>
                                      <a:ext cx="65520" cy="3528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642" h="366">
                                          <a:moveTo>
                                            <a:pt x="21" y="48"/>
                                          </a:moveTo>
                                          <a:lnTo>
                                            <a:pt x="43" y="35"/>
                                          </a:lnTo>
                                          <a:lnTo>
                                            <a:pt x="64" y="22"/>
                                          </a:lnTo>
                                          <a:lnTo>
                                            <a:pt x="90" y="13"/>
                                          </a:lnTo>
                                          <a:lnTo>
                                            <a:pt x="116" y="9"/>
                                          </a:lnTo>
                                          <a:lnTo>
                                            <a:pt x="142" y="5"/>
                                          </a:lnTo>
                                          <a:lnTo>
                                            <a:pt x="172" y="0"/>
                                          </a:lnTo>
                                          <a:lnTo>
                                            <a:pt x="202" y="5"/>
                                          </a:lnTo>
                                          <a:lnTo>
                                            <a:pt x="233" y="5"/>
                                          </a:lnTo>
                                          <a:lnTo>
                                            <a:pt x="293" y="18"/>
                                          </a:lnTo>
                                          <a:lnTo>
                                            <a:pt x="349" y="35"/>
                                          </a:lnTo>
                                          <a:lnTo>
                                            <a:pt x="397" y="61"/>
                                          </a:lnTo>
                                          <a:lnTo>
                                            <a:pt x="440" y="86"/>
                                          </a:lnTo>
                                          <a:lnTo>
                                            <a:pt x="440" y="95"/>
                                          </a:lnTo>
                                          <a:lnTo>
                                            <a:pt x="461" y="108"/>
                                          </a:lnTo>
                                          <a:lnTo>
                                            <a:pt x="496" y="121"/>
                                          </a:lnTo>
                                          <a:lnTo>
                                            <a:pt x="539" y="134"/>
                                          </a:lnTo>
                                          <a:lnTo>
                                            <a:pt x="578" y="151"/>
                                          </a:lnTo>
                                          <a:lnTo>
                                            <a:pt x="595" y="160"/>
                                          </a:lnTo>
                                          <a:lnTo>
                                            <a:pt x="612" y="168"/>
                                          </a:lnTo>
                                          <a:lnTo>
                                            <a:pt x="625" y="181"/>
                                          </a:lnTo>
                                          <a:lnTo>
                                            <a:pt x="634" y="194"/>
                                          </a:lnTo>
                                          <a:lnTo>
                                            <a:pt x="638" y="207"/>
                                          </a:lnTo>
                                          <a:lnTo>
                                            <a:pt x="642" y="220"/>
                                          </a:lnTo>
                                          <a:lnTo>
                                            <a:pt x="638" y="237"/>
                                          </a:lnTo>
                                          <a:lnTo>
                                            <a:pt x="629" y="258"/>
                                          </a:lnTo>
                                          <a:lnTo>
                                            <a:pt x="617" y="258"/>
                                          </a:lnTo>
                                          <a:lnTo>
                                            <a:pt x="599" y="263"/>
                                          </a:lnTo>
                                          <a:lnTo>
                                            <a:pt x="586" y="267"/>
                                          </a:lnTo>
                                          <a:lnTo>
                                            <a:pt x="573" y="271"/>
                                          </a:lnTo>
                                          <a:lnTo>
                                            <a:pt x="556" y="276"/>
                                          </a:lnTo>
                                          <a:lnTo>
                                            <a:pt x="543" y="280"/>
                                          </a:lnTo>
                                          <a:lnTo>
                                            <a:pt x="530" y="284"/>
                                          </a:lnTo>
                                          <a:lnTo>
                                            <a:pt x="513" y="284"/>
                                          </a:lnTo>
                                          <a:lnTo>
                                            <a:pt x="500" y="297"/>
                                          </a:lnTo>
                                          <a:lnTo>
                                            <a:pt x="478" y="314"/>
                                          </a:lnTo>
                                          <a:lnTo>
                                            <a:pt x="453" y="327"/>
                                          </a:lnTo>
                                          <a:lnTo>
                                            <a:pt x="427" y="344"/>
                                          </a:lnTo>
                                          <a:lnTo>
                                            <a:pt x="397" y="357"/>
                                          </a:lnTo>
                                          <a:lnTo>
                                            <a:pt x="371" y="366"/>
                                          </a:lnTo>
                                          <a:lnTo>
                                            <a:pt x="345" y="366"/>
                                          </a:lnTo>
                                          <a:lnTo>
                                            <a:pt x="323" y="362"/>
                                          </a:lnTo>
                                          <a:lnTo>
                                            <a:pt x="323" y="353"/>
                                          </a:lnTo>
                                          <a:lnTo>
                                            <a:pt x="310" y="344"/>
                                          </a:lnTo>
                                          <a:lnTo>
                                            <a:pt x="293" y="336"/>
                                          </a:lnTo>
                                          <a:lnTo>
                                            <a:pt x="276" y="332"/>
                                          </a:lnTo>
                                          <a:lnTo>
                                            <a:pt x="250" y="327"/>
                                          </a:lnTo>
                                          <a:lnTo>
                                            <a:pt x="228" y="319"/>
                                          </a:lnTo>
                                          <a:lnTo>
                                            <a:pt x="207" y="319"/>
                                          </a:lnTo>
                                          <a:lnTo>
                                            <a:pt x="189" y="314"/>
                                          </a:lnTo>
                                          <a:lnTo>
                                            <a:pt x="172" y="314"/>
                                          </a:lnTo>
                                          <a:lnTo>
                                            <a:pt x="164" y="306"/>
                                          </a:lnTo>
                                          <a:lnTo>
                                            <a:pt x="151" y="297"/>
                                          </a:lnTo>
                                          <a:lnTo>
                                            <a:pt x="133" y="284"/>
                                          </a:lnTo>
                                          <a:lnTo>
                                            <a:pt x="112" y="271"/>
                                          </a:lnTo>
                                          <a:lnTo>
                                            <a:pt x="95" y="263"/>
                                          </a:lnTo>
                                          <a:lnTo>
                                            <a:pt x="77" y="254"/>
                                          </a:lnTo>
                                          <a:lnTo>
                                            <a:pt x="60" y="250"/>
                                          </a:lnTo>
                                          <a:lnTo>
                                            <a:pt x="47" y="246"/>
                                          </a:lnTo>
                                          <a:lnTo>
                                            <a:pt x="47" y="237"/>
                                          </a:lnTo>
                                          <a:lnTo>
                                            <a:pt x="43" y="228"/>
                                          </a:lnTo>
                                          <a:lnTo>
                                            <a:pt x="38" y="220"/>
                                          </a:lnTo>
                                          <a:lnTo>
                                            <a:pt x="34" y="211"/>
                                          </a:lnTo>
                                          <a:lnTo>
                                            <a:pt x="30" y="203"/>
                                          </a:lnTo>
                                          <a:lnTo>
                                            <a:pt x="25" y="190"/>
                                          </a:lnTo>
                                          <a:lnTo>
                                            <a:pt x="21" y="181"/>
                                          </a:lnTo>
                                          <a:lnTo>
                                            <a:pt x="21" y="172"/>
                                          </a:lnTo>
                                          <a:lnTo>
                                            <a:pt x="13" y="168"/>
                                          </a:lnTo>
                                          <a:lnTo>
                                            <a:pt x="8" y="160"/>
                                          </a:lnTo>
                                          <a:lnTo>
                                            <a:pt x="4" y="147"/>
                                          </a:lnTo>
                                          <a:lnTo>
                                            <a:pt x="4" y="129"/>
                                          </a:lnTo>
                                          <a:lnTo>
                                            <a:pt x="0" y="117"/>
                                          </a:lnTo>
                                          <a:lnTo>
                                            <a:pt x="0" y="99"/>
                                          </a:lnTo>
                                          <a:lnTo>
                                            <a:pt x="0" y="86"/>
                                          </a:lnTo>
                                          <a:lnTo>
                                            <a:pt x="0" y="78"/>
                                          </a:lnTo>
                                          <a:lnTo>
                                            <a:pt x="4" y="74"/>
                                          </a:lnTo>
                                          <a:lnTo>
                                            <a:pt x="8" y="69"/>
                                          </a:lnTo>
                                          <a:lnTo>
                                            <a:pt x="13" y="65"/>
                                          </a:lnTo>
                                          <a:lnTo>
                                            <a:pt x="13" y="56"/>
                                          </a:lnTo>
                                          <a:lnTo>
                                            <a:pt x="17" y="48"/>
                                          </a:lnTo>
                                          <a:lnTo>
                                            <a:pt x="17" y="39"/>
                                          </a:lnTo>
                                          <a:lnTo>
                                            <a:pt x="21" y="35"/>
                                          </a:lnTo>
                                          <a:lnTo>
                                            <a:pt x="21" y="31"/>
                                          </a:lnTo>
                                          <a:lnTo>
                                            <a:pt x="21" y="48"/>
                                          </a:lnTo>
                                          <a:close/>
                                        </a:path>
                                      </a:pathLst>
                                    </a:custGeom>
                                    <a:blipFill rotWithShape="0">
                                      <a:blip r:embed="rId22"/>
                                      <a:srcRect/>
                                      <a:tile tx="0" ty="0" sx="100000" sy="100000" algn="ctr"/>
                                    </a:blipFill>
                                    <a:ln w="9360">
                                      <a:solidFill>
                                        <a:srgbClr val="c0c0c0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11520" bIns="-1152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grpSp>
                                  <p:nvGrpSpPr>
                                    <p:cNvPr id="101" name="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1499040" y="927360"/>
                                      <a:ext cx="304920" cy="307080"/>
                                      <a:chOff x="1499040" y="927360"/>
                                      <a:chExt cx="304920" cy="307080"/>
                                    </a:xfrm>
                                  </p:grpSpPr>
                                  <p:sp>
                                    <p:nvSpPr>
                                      <p:cNvPr id="102" name=""/>
                                      <p:cNvSpPr/>
                                      <p:nvPr/>
                                    </p:nvSpPr>
                                    <p:spPr>
                                      <a:xfrm rot="21327600">
                                        <a:off x="1651320" y="932400"/>
                                        <a:ext cx="141120" cy="297000"/>
                                      </a:xfrm>
                                      <a:custGeom>
                                        <a:avLst/>
                                        <a:gdLst/>
                                        <a:ahLst/>
                                        <a:rect l="l" t="t" r="r" b="b"/>
                                        <a:pathLst>
                                          <a:path w="1376" h="3070">
                                            <a:moveTo>
                                              <a:pt x="1186" y="516"/>
                                            </a:moveTo>
                                            <a:lnTo>
                                              <a:pt x="1259" y="675"/>
                                            </a:lnTo>
                                            <a:lnTo>
                                              <a:pt x="1376" y="782"/>
                                            </a:lnTo>
                                            <a:lnTo>
                                              <a:pt x="1229" y="1088"/>
                                            </a:lnTo>
                                            <a:lnTo>
                                              <a:pt x="1238" y="1195"/>
                                            </a:lnTo>
                                            <a:lnTo>
                                              <a:pt x="1259" y="1307"/>
                                            </a:lnTo>
                                            <a:lnTo>
                                              <a:pt x="1203" y="1479"/>
                                            </a:lnTo>
                                            <a:lnTo>
                                              <a:pt x="832" y="2098"/>
                                            </a:lnTo>
                                            <a:lnTo>
                                              <a:pt x="664" y="2545"/>
                                            </a:lnTo>
                                            <a:lnTo>
                                              <a:pt x="642" y="2683"/>
                                            </a:lnTo>
                                            <a:lnTo>
                                              <a:pt x="664" y="2829"/>
                                            </a:lnTo>
                                            <a:lnTo>
                                              <a:pt x="664" y="2872"/>
                                            </a:lnTo>
                                            <a:lnTo>
                                              <a:pt x="569" y="2851"/>
                                            </a:lnTo>
                                            <a:lnTo>
                                              <a:pt x="517" y="2851"/>
                                            </a:lnTo>
                                            <a:lnTo>
                                              <a:pt x="517" y="2932"/>
                                            </a:lnTo>
                                            <a:lnTo>
                                              <a:pt x="569" y="3006"/>
                                            </a:lnTo>
                                            <a:lnTo>
                                              <a:pt x="569" y="3040"/>
                                            </a:lnTo>
                                            <a:lnTo>
                                              <a:pt x="466" y="3070"/>
                                            </a:lnTo>
                                            <a:lnTo>
                                              <a:pt x="0" y="3070"/>
                                            </a:lnTo>
                                            <a:lnTo>
                                              <a:pt x="30" y="2988"/>
                                            </a:lnTo>
                                            <a:lnTo>
                                              <a:pt x="159" y="2894"/>
                                            </a:lnTo>
                                            <a:lnTo>
                                              <a:pt x="284" y="2838"/>
                                            </a:lnTo>
                                            <a:lnTo>
                                              <a:pt x="435" y="2610"/>
                                            </a:lnTo>
                                            <a:lnTo>
                                              <a:pt x="466" y="2468"/>
                                            </a:lnTo>
                                            <a:lnTo>
                                              <a:pt x="655" y="2060"/>
                                            </a:lnTo>
                                            <a:lnTo>
                                              <a:pt x="686" y="1763"/>
                                            </a:lnTo>
                                            <a:lnTo>
                                              <a:pt x="642" y="1341"/>
                                            </a:lnTo>
                                            <a:lnTo>
                                              <a:pt x="517" y="877"/>
                                            </a:lnTo>
                                            <a:lnTo>
                                              <a:pt x="517" y="666"/>
                                            </a:lnTo>
                                            <a:lnTo>
                                              <a:pt x="560" y="348"/>
                                            </a:lnTo>
                                            <a:lnTo>
                                              <a:pt x="612" y="223"/>
                                            </a:lnTo>
                                            <a:lnTo>
                                              <a:pt x="642" y="241"/>
                                            </a:lnTo>
                                            <a:lnTo>
                                              <a:pt x="750" y="180"/>
                                            </a:lnTo>
                                            <a:lnTo>
                                              <a:pt x="845" y="180"/>
                                            </a:lnTo>
                                            <a:lnTo>
                                              <a:pt x="910" y="129"/>
                                            </a:lnTo>
                                            <a:lnTo>
                                              <a:pt x="919" y="129"/>
                                            </a:lnTo>
                                            <a:lnTo>
                                              <a:pt x="927" y="137"/>
                                            </a:lnTo>
                                            <a:lnTo>
                                              <a:pt x="1070" y="21"/>
                                            </a:lnTo>
                                            <a:lnTo>
                                              <a:pt x="1130" y="0"/>
                                            </a:lnTo>
                                            <a:lnTo>
                                              <a:pt x="1173" y="211"/>
                                            </a:lnTo>
                                            <a:lnTo>
                                              <a:pt x="1186" y="516"/>
                                            </a:lnTo>
                                            <a:close/>
                                          </a:path>
                                        </a:pathLst>
                                      </a:custGeom>
                                      <a:blipFill rotWithShape="0">
                                        <a:blip r:embed="rId23"/>
                                        <a:srcRect/>
                                        <a:tile tx="0" ty="0" sx="100000" sy="100000" algn="ctr"/>
                                      </a:blipFill>
                                      <a:ln w="9360">
                                        <a:solidFill>
                                          <a:srgbClr val="c0c0c0"/>
                                        </a:solidFill>
                                        <a:round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  <p:sp>
                                    <p:nvSpPr>
                                      <p:cNvPr id="103" name=""/>
                                      <p:cNvSpPr/>
                                      <p:nvPr/>
                                    </p:nvSpPr>
                                    <p:spPr>
                                      <a:xfrm rot="21327600">
                                        <a:off x="1505520" y="943560"/>
                                        <a:ext cx="165960" cy="173520"/>
                                      </a:xfrm>
                                      <a:custGeom>
                                        <a:avLst/>
                                        <a:gdLst/>
                                        <a:ahLst/>
                                        <a:rect l="l" t="t" r="r" b="b"/>
                                        <a:pathLst>
                                          <a:path w="1618" h="1793">
                                            <a:moveTo>
                                              <a:pt x="561" y="103"/>
                                            </a:moveTo>
                                            <a:lnTo>
                                              <a:pt x="613" y="167"/>
                                            </a:lnTo>
                                            <a:lnTo>
                                              <a:pt x="656" y="155"/>
                                            </a:lnTo>
                                            <a:lnTo>
                                              <a:pt x="686" y="155"/>
                                            </a:lnTo>
                                            <a:lnTo>
                                              <a:pt x="764" y="0"/>
                                            </a:lnTo>
                                            <a:lnTo>
                                              <a:pt x="846" y="94"/>
                                            </a:lnTo>
                                            <a:lnTo>
                                              <a:pt x="867" y="133"/>
                                            </a:lnTo>
                                            <a:lnTo>
                                              <a:pt x="889" y="155"/>
                                            </a:lnTo>
                                            <a:lnTo>
                                              <a:pt x="911" y="155"/>
                                            </a:lnTo>
                                            <a:lnTo>
                                              <a:pt x="962" y="60"/>
                                            </a:lnTo>
                                            <a:lnTo>
                                              <a:pt x="1006" y="30"/>
                                            </a:lnTo>
                                            <a:lnTo>
                                              <a:pt x="1057" y="133"/>
                                            </a:lnTo>
                                            <a:lnTo>
                                              <a:pt x="997" y="253"/>
                                            </a:lnTo>
                                            <a:lnTo>
                                              <a:pt x="932" y="305"/>
                                            </a:lnTo>
                                            <a:lnTo>
                                              <a:pt x="233" y="1066"/>
                                            </a:lnTo>
                                            <a:lnTo>
                                              <a:pt x="276" y="1169"/>
                                            </a:lnTo>
                                            <a:lnTo>
                                              <a:pt x="255" y="1191"/>
                                            </a:lnTo>
                                            <a:lnTo>
                                              <a:pt x="263" y="1199"/>
                                            </a:lnTo>
                                            <a:lnTo>
                                              <a:pt x="263" y="1221"/>
                                            </a:lnTo>
                                            <a:lnTo>
                                              <a:pt x="255" y="1221"/>
                                            </a:lnTo>
                                            <a:lnTo>
                                              <a:pt x="255" y="1264"/>
                                            </a:lnTo>
                                            <a:lnTo>
                                              <a:pt x="656" y="1475"/>
                                            </a:lnTo>
                                            <a:lnTo>
                                              <a:pt x="924" y="1483"/>
                                            </a:lnTo>
                                            <a:lnTo>
                                              <a:pt x="997" y="1453"/>
                                            </a:lnTo>
                                            <a:lnTo>
                                              <a:pt x="1006" y="1453"/>
                                            </a:lnTo>
                                            <a:lnTo>
                                              <a:pt x="1018" y="1445"/>
                                            </a:lnTo>
                                            <a:lnTo>
                                              <a:pt x="1057" y="1518"/>
                                            </a:lnTo>
                                            <a:lnTo>
                                              <a:pt x="1113" y="1531"/>
                                            </a:lnTo>
                                            <a:lnTo>
                                              <a:pt x="1290" y="1359"/>
                                            </a:lnTo>
                                            <a:lnTo>
                                              <a:pt x="1450" y="1380"/>
                                            </a:lnTo>
                                            <a:lnTo>
                                              <a:pt x="1545" y="1445"/>
                                            </a:lnTo>
                                            <a:lnTo>
                                              <a:pt x="1588" y="1466"/>
                                            </a:lnTo>
                                            <a:lnTo>
                                              <a:pt x="1618" y="1496"/>
                                            </a:lnTo>
                                            <a:lnTo>
                                              <a:pt x="1618" y="1518"/>
                                            </a:lnTo>
                                            <a:lnTo>
                                              <a:pt x="1131" y="1758"/>
                                            </a:lnTo>
                                            <a:lnTo>
                                              <a:pt x="997" y="1793"/>
                                            </a:lnTo>
                                            <a:lnTo>
                                              <a:pt x="380" y="1582"/>
                                            </a:lnTo>
                                            <a:lnTo>
                                              <a:pt x="43" y="1350"/>
                                            </a:lnTo>
                                            <a:lnTo>
                                              <a:pt x="0" y="1285"/>
                                            </a:lnTo>
                                            <a:lnTo>
                                              <a:pt x="9" y="937"/>
                                            </a:lnTo>
                                            <a:lnTo>
                                              <a:pt x="432" y="51"/>
                                            </a:lnTo>
                                            <a:lnTo>
                                              <a:pt x="479" y="0"/>
                                            </a:lnTo>
                                            <a:lnTo>
                                              <a:pt x="496" y="81"/>
                                            </a:lnTo>
                                            <a:lnTo>
                                              <a:pt x="561" y="103"/>
                                            </a:lnTo>
                                            <a:close/>
                                          </a:path>
                                        </a:pathLst>
                                      </a:custGeom>
                                      <a:blipFill rotWithShape="0">
                                        <a:blip r:embed="rId24"/>
                                        <a:srcRect/>
                                        <a:tile tx="0" ty="0" sx="100000" sy="100000" algn="ctr"/>
                                      </a:blipFill>
                                      <a:ln w="9360">
                                        <a:solidFill>
                                          <a:srgbClr val="c0c0c0"/>
                                        </a:solidFill>
                                        <a:round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  <p:sp>
                                    <p:nvSpPr>
                                      <p:cNvPr id="104" name=""/>
                                      <p:cNvSpPr/>
                                      <p:nvPr/>
                                    </p:nvSpPr>
                                    <p:spPr>
                                      <a:xfrm rot="21327600">
                                        <a:off x="1701360" y="930600"/>
                                        <a:ext cx="84960" cy="147600"/>
                                      </a:xfrm>
                                      <a:custGeom>
                                        <a:avLst/>
                                        <a:gdLst/>
                                        <a:ahLst/>
                                        <a:rect l="l" t="t" r="r" b="b"/>
                                        <a:pathLst>
                                          <a:path w="828" h="1526">
                                            <a:moveTo>
                                              <a:pt x="0" y="426"/>
                                            </a:moveTo>
                                            <a:lnTo>
                                              <a:pt x="90" y="318"/>
                                            </a:lnTo>
                                            <a:lnTo>
                                              <a:pt x="151" y="318"/>
                                            </a:lnTo>
                                            <a:lnTo>
                                              <a:pt x="155" y="327"/>
                                            </a:lnTo>
                                            <a:lnTo>
                                              <a:pt x="155" y="335"/>
                                            </a:lnTo>
                                            <a:lnTo>
                                              <a:pt x="159" y="348"/>
                                            </a:lnTo>
                                            <a:lnTo>
                                              <a:pt x="163" y="357"/>
                                            </a:lnTo>
                                            <a:lnTo>
                                              <a:pt x="168" y="370"/>
                                            </a:lnTo>
                                            <a:lnTo>
                                              <a:pt x="168" y="378"/>
                                            </a:lnTo>
                                            <a:lnTo>
                                              <a:pt x="172" y="391"/>
                                            </a:lnTo>
                                            <a:lnTo>
                                              <a:pt x="172" y="400"/>
                                            </a:lnTo>
                                            <a:lnTo>
                                              <a:pt x="181" y="395"/>
                                            </a:lnTo>
                                            <a:lnTo>
                                              <a:pt x="189" y="391"/>
                                            </a:lnTo>
                                            <a:lnTo>
                                              <a:pt x="198" y="387"/>
                                            </a:lnTo>
                                            <a:lnTo>
                                              <a:pt x="207" y="378"/>
                                            </a:lnTo>
                                            <a:lnTo>
                                              <a:pt x="215" y="370"/>
                                            </a:lnTo>
                                            <a:lnTo>
                                              <a:pt x="228" y="365"/>
                                            </a:lnTo>
                                            <a:lnTo>
                                              <a:pt x="241" y="361"/>
                                            </a:lnTo>
                                            <a:lnTo>
                                              <a:pt x="254" y="357"/>
                                            </a:lnTo>
                                            <a:lnTo>
                                              <a:pt x="293" y="400"/>
                                            </a:lnTo>
                                            <a:lnTo>
                                              <a:pt x="302" y="400"/>
                                            </a:lnTo>
                                            <a:lnTo>
                                              <a:pt x="310" y="395"/>
                                            </a:lnTo>
                                            <a:lnTo>
                                              <a:pt x="319" y="391"/>
                                            </a:lnTo>
                                            <a:lnTo>
                                              <a:pt x="327" y="387"/>
                                            </a:lnTo>
                                            <a:lnTo>
                                              <a:pt x="332" y="383"/>
                                            </a:lnTo>
                                            <a:lnTo>
                                              <a:pt x="340" y="383"/>
                                            </a:lnTo>
                                            <a:lnTo>
                                              <a:pt x="349" y="378"/>
                                            </a:lnTo>
                                            <a:lnTo>
                                              <a:pt x="358" y="378"/>
                                            </a:lnTo>
                                            <a:lnTo>
                                              <a:pt x="358" y="460"/>
                                            </a:lnTo>
                                            <a:lnTo>
                                              <a:pt x="314" y="499"/>
                                            </a:lnTo>
                                            <a:lnTo>
                                              <a:pt x="314" y="524"/>
                                            </a:lnTo>
                                            <a:lnTo>
                                              <a:pt x="314" y="550"/>
                                            </a:lnTo>
                                            <a:lnTo>
                                              <a:pt x="314" y="580"/>
                                            </a:lnTo>
                                            <a:lnTo>
                                              <a:pt x="319" y="610"/>
                                            </a:lnTo>
                                            <a:lnTo>
                                              <a:pt x="319" y="641"/>
                                            </a:lnTo>
                                            <a:lnTo>
                                              <a:pt x="323" y="671"/>
                                            </a:lnTo>
                                            <a:lnTo>
                                              <a:pt x="327" y="701"/>
                                            </a:lnTo>
                                            <a:lnTo>
                                              <a:pt x="336" y="722"/>
                                            </a:lnTo>
                                            <a:lnTo>
                                              <a:pt x="349" y="727"/>
                                            </a:lnTo>
                                            <a:lnTo>
                                              <a:pt x="362" y="735"/>
                                            </a:lnTo>
                                            <a:lnTo>
                                              <a:pt x="375" y="752"/>
                                            </a:lnTo>
                                            <a:lnTo>
                                              <a:pt x="383" y="765"/>
                                            </a:lnTo>
                                            <a:lnTo>
                                              <a:pt x="392" y="782"/>
                                            </a:lnTo>
                                            <a:lnTo>
                                              <a:pt x="401" y="800"/>
                                            </a:lnTo>
                                            <a:lnTo>
                                              <a:pt x="409" y="817"/>
                                            </a:lnTo>
                                            <a:lnTo>
                                              <a:pt x="418" y="825"/>
                                            </a:lnTo>
                                            <a:lnTo>
                                              <a:pt x="422" y="881"/>
                                            </a:lnTo>
                                            <a:lnTo>
                                              <a:pt x="431" y="937"/>
                                            </a:lnTo>
                                            <a:lnTo>
                                              <a:pt x="444" y="997"/>
                                            </a:lnTo>
                                            <a:lnTo>
                                              <a:pt x="457" y="1053"/>
                                            </a:lnTo>
                                            <a:lnTo>
                                              <a:pt x="474" y="1109"/>
                                            </a:lnTo>
                                            <a:lnTo>
                                              <a:pt x="487" y="1161"/>
                                            </a:lnTo>
                                            <a:lnTo>
                                              <a:pt x="496" y="1212"/>
                                            </a:lnTo>
                                            <a:lnTo>
                                              <a:pt x="500" y="1251"/>
                                            </a:lnTo>
                                            <a:lnTo>
                                              <a:pt x="517" y="1273"/>
                                            </a:lnTo>
                                            <a:lnTo>
                                              <a:pt x="539" y="1294"/>
                                            </a:lnTo>
                                            <a:lnTo>
                                              <a:pt x="556" y="1294"/>
                                            </a:lnTo>
                                            <a:lnTo>
                                              <a:pt x="565" y="1298"/>
                                            </a:lnTo>
                                            <a:lnTo>
                                              <a:pt x="578" y="1307"/>
                                            </a:lnTo>
                                            <a:lnTo>
                                              <a:pt x="586" y="1311"/>
                                            </a:lnTo>
                                            <a:lnTo>
                                              <a:pt x="599" y="1320"/>
                                            </a:lnTo>
                                            <a:lnTo>
                                              <a:pt x="604" y="1329"/>
                                            </a:lnTo>
                                            <a:lnTo>
                                              <a:pt x="612" y="1333"/>
                                            </a:lnTo>
                                            <a:lnTo>
                                              <a:pt x="621" y="1333"/>
                                            </a:lnTo>
                                            <a:lnTo>
                                              <a:pt x="621" y="1359"/>
                                            </a:lnTo>
                                            <a:lnTo>
                                              <a:pt x="621" y="1380"/>
                                            </a:lnTo>
                                            <a:lnTo>
                                              <a:pt x="621" y="1406"/>
                                            </a:lnTo>
                                            <a:lnTo>
                                              <a:pt x="621" y="1432"/>
                                            </a:lnTo>
                                            <a:lnTo>
                                              <a:pt x="621" y="1453"/>
                                            </a:lnTo>
                                            <a:lnTo>
                                              <a:pt x="625" y="1479"/>
                                            </a:lnTo>
                                            <a:lnTo>
                                              <a:pt x="625" y="1505"/>
                                            </a:lnTo>
                                            <a:lnTo>
                                              <a:pt x="625" y="1526"/>
                                            </a:lnTo>
                                            <a:lnTo>
                                              <a:pt x="655" y="1479"/>
                                            </a:lnTo>
                                            <a:lnTo>
                                              <a:pt x="711" y="1307"/>
                                            </a:lnTo>
                                            <a:lnTo>
                                              <a:pt x="690" y="1195"/>
                                            </a:lnTo>
                                            <a:lnTo>
                                              <a:pt x="681" y="1088"/>
                                            </a:lnTo>
                                            <a:lnTo>
                                              <a:pt x="828" y="782"/>
                                            </a:lnTo>
                                            <a:lnTo>
                                              <a:pt x="711" y="675"/>
                                            </a:lnTo>
                                            <a:lnTo>
                                              <a:pt x="638" y="516"/>
                                            </a:lnTo>
                                            <a:lnTo>
                                              <a:pt x="625" y="211"/>
                                            </a:lnTo>
                                            <a:lnTo>
                                              <a:pt x="582" y="0"/>
                                            </a:lnTo>
                                            <a:lnTo>
                                              <a:pt x="522" y="21"/>
                                            </a:lnTo>
                                            <a:lnTo>
                                              <a:pt x="379" y="137"/>
                                            </a:lnTo>
                                            <a:lnTo>
                                              <a:pt x="371" y="129"/>
                                            </a:lnTo>
                                            <a:lnTo>
                                              <a:pt x="362" y="129"/>
                                            </a:lnTo>
                                            <a:lnTo>
                                              <a:pt x="297" y="180"/>
                                            </a:lnTo>
                                            <a:lnTo>
                                              <a:pt x="202" y="180"/>
                                            </a:lnTo>
                                            <a:lnTo>
                                              <a:pt x="94" y="241"/>
                                            </a:lnTo>
                                            <a:lnTo>
                                              <a:pt x="64" y="223"/>
                                            </a:lnTo>
                                            <a:lnTo>
                                              <a:pt x="30" y="305"/>
                                            </a:lnTo>
                                            <a:lnTo>
                                              <a:pt x="25" y="327"/>
                                            </a:lnTo>
                                            <a:lnTo>
                                              <a:pt x="25" y="344"/>
                                            </a:lnTo>
                                            <a:lnTo>
                                              <a:pt x="21" y="365"/>
                                            </a:lnTo>
                                            <a:lnTo>
                                              <a:pt x="17" y="383"/>
                                            </a:lnTo>
                                            <a:lnTo>
                                              <a:pt x="12" y="395"/>
                                            </a:lnTo>
                                            <a:lnTo>
                                              <a:pt x="8" y="413"/>
                                            </a:lnTo>
                                            <a:lnTo>
                                              <a:pt x="4" y="421"/>
                                            </a:lnTo>
                                            <a:lnTo>
                                              <a:pt x="0" y="430"/>
                                            </a:lnTo>
                                            <a:lnTo>
                                              <a:pt x="0" y="426"/>
                                            </a:lnTo>
                                            <a:close/>
                                          </a:path>
                                        </a:pathLst>
                                      </a:custGeom>
                                      <a:blipFill rotWithShape="0">
                                        <a:blip r:embed="rId25"/>
                                        <a:srcRect/>
                                        <a:tile tx="0" ty="0" sx="100000" sy="100000" algn="ctr"/>
                                      </a:blipFill>
                                      <a:ln w="9360">
                                        <a:solidFill>
                                          <a:srgbClr val="c0c0c0"/>
                                        </a:solidFill>
                                        <a:round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</p:grpSp>
                                <p:sp>
                                  <p:nvSpPr>
                                    <p:cNvPr id="105" name=""/>
                                    <p:cNvSpPr/>
                                    <p:nvPr/>
                                  </p:nvSpPr>
                                  <p:spPr>
                                    <a:xfrm rot="21327600">
                                      <a:off x="1436760" y="575280"/>
                                      <a:ext cx="74160" cy="3204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725" h="331">
                                          <a:moveTo>
                                            <a:pt x="13" y="133"/>
                                          </a:moveTo>
                                          <a:lnTo>
                                            <a:pt x="17" y="133"/>
                                          </a:lnTo>
                                          <a:lnTo>
                                            <a:pt x="22" y="129"/>
                                          </a:lnTo>
                                          <a:lnTo>
                                            <a:pt x="30" y="124"/>
                                          </a:lnTo>
                                          <a:lnTo>
                                            <a:pt x="39" y="120"/>
                                          </a:lnTo>
                                          <a:lnTo>
                                            <a:pt x="52" y="111"/>
                                          </a:lnTo>
                                          <a:lnTo>
                                            <a:pt x="61" y="107"/>
                                          </a:lnTo>
                                          <a:lnTo>
                                            <a:pt x="65" y="103"/>
                                          </a:lnTo>
                                          <a:lnTo>
                                            <a:pt x="69" y="98"/>
                                          </a:lnTo>
                                          <a:lnTo>
                                            <a:pt x="112" y="103"/>
                                          </a:lnTo>
                                          <a:lnTo>
                                            <a:pt x="155" y="103"/>
                                          </a:lnTo>
                                          <a:lnTo>
                                            <a:pt x="199" y="103"/>
                                          </a:lnTo>
                                          <a:lnTo>
                                            <a:pt x="242" y="107"/>
                                          </a:lnTo>
                                          <a:lnTo>
                                            <a:pt x="285" y="107"/>
                                          </a:lnTo>
                                          <a:lnTo>
                                            <a:pt x="328" y="111"/>
                                          </a:lnTo>
                                          <a:lnTo>
                                            <a:pt x="371" y="111"/>
                                          </a:lnTo>
                                          <a:lnTo>
                                            <a:pt x="419" y="111"/>
                                          </a:lnTo>
                                          <a:lnTo>
                                            <a:pt x="419" y="111"/>
                                          </a:lnTo>
                                          <a:lnTo>
                                            <a:pt x="419" y="111"/>
                                          </a:lnTo>
                                          <a:lnTo>
                                            <a:pt x="423" y="107"/>
                                          </a:lnTo>
                                          <a:lnTo>
                                            <a:pt x="427" y="103"/>
                                          </a:lnTo>
                                          <a:lnTo>
                                            <a:pt x="436" y="98"/>
                                          </a:lnTo>
                                          <a:lnTo>
                                            <a:pt x="440" y="94"/>
                                          </a:lnTo>
                                          <a:lnTo>
                                            <a:pt x="444" y="94"/>
                                          </a:lnTo>
                                          <a:lnTo>
                                            <a:pt x="449" y="90"/>
                                          </a:lnTo>
                                          <a:lnTo>
                                            <a:pt x="449" y="90"/>
                                          </a:lnTo>
                                          <a:lnTo>
                                            <a:pt x="449" y="86"/>
                                          </a:lnTo>
                                          <a:lnTo>
                                            <a:pt x="453" y="86"/>
                                          </a:lnTo>
                                          <a:lnTo>
                                            <a:pt x="457" y="81"/>
                                          </a:lnTo>
                                          <a:lnTo>
                                            <a:pt x="462" y="81"/>
                                          </a:lnTo>
                                          <a:lnTo>
                                            <a:pt x="466" y="77"/>
                                          </a:lnTo>
                                          <a:lnTo>
                                            <a:pt x="475" y="77"/>
                                          </a:lnTo>
                                          <a:lnTo>
                                            <a:pt x="479" y="77"/>
                                          </a:lnTo>
                                          <a:lnTo>
                                            <a:pt x="483" y="73"/>
                                          </a:lnTo>
                                          <a:lnTo>
                                            <a:pt x="496" y="60"/>
                                          </a:lnTo>
                                          <a:lnTo>
                                            <a:pt x="514" y="51"/>
                                          </a:lnTo>
                                          <a:lnTo>
                                            <a:pt x="535" y="38"/>
                                          </a:lnTo>
                                          <a:lnTo>
                                            <a:pt x="557" y="25"/>
                                          </a:lnTo>
                                          <a:lnTo>
                                            <a:pt x="578" y="17"/>
                                          </a:lnTo>
                                          <a:lnTo>
                                            <a:pt x="591" y="8"/>
                                          </a:lnTo>
                                          <a:lnTo>
                                            <a:pt x="604" y="0"/>
                                          </a:lnTo>
                                          <a:lnTo>
                                            <a:pt x="613" y="0"/>
                                          </a:lnTo>
                                          <a:lnTo>
                                            <a:pt x="621" y="0"/>
                                          </a:lnTo>
                                          <a:lnTo>
                                            <a:pt x="634" y="0"/>
                                          </a:lnTo>
                                          <a:lnTo>
                                            <a:pt x="647" y="4"/>
                                          </a:lnTo>
                                          <a:lnTo>
                                            <a:pt x="660" y="4"/>
                                          </a:lnTo>
                                          <a:lnTo>
                                            <a:pt x="669" y="8"/>
                                          </a:lnTo>
                                          <a:lnTo>
                                            <a:pt x="677" y="12"/>
                                          </a:lnTo>
                                          <a:lnTo>
                                            <a:pt x="682" y="21"/>
                                          </a:lnTo>
                                          <a:lnTo>
                                            <a:pt x="686" y="21"/>
                                          </a:lnTo>
                                          <a:lnTo>
                                            <a:pt x="690" y="25"/>
                                          </a:lnTo>
                                          <a:lnTo>
                                            <a:pt x="695" y="34"/>
                                          </a:lnTo>
                                          <a:lnTo>
                                            <a:pt x="699" y="38"/>
                                          </a:lnTo>
                                          <a:lnTo>
                                            <a:pt x="699" y="47"/>
                                          </a:lnTo>
                                          <a:lnTo>
                                            <a:pt x="699" y="55"/>
                                          </a:lnTo>
                                          <a:lnTo>
                                            <a:pt x="699" y="60"/>
                                          </a:lnTo>
                                          <a:lnTo>
                                            <a:pt x="703" y="64"/>
                                          </a:lnTo>
                                          <a:lnTo>
                                            <a:pt x="703" y="64"/>
                                          </a:lnTo>
                                          <a:lnTo>
                                            <a:pt x="703" y="64"/>
                                          </a:lnTo>
                                          <a:lnTo>
                                            <a:pt x="708" y="64"/>
                                          </a:lnTo>
                                          <a:lnTo>
                                            <a:pt x="708" y="64"/>
                                          </a:lnTo>
                                          <a:lnTo>
                                            <a:pt x="708" y="64"/>
                                          </a:lnTo>
                                          <a:lnTo>
                                            <a:pt x="708" y="64"/>
                                          </a:lnTo>
                                          <a:lnTo>
                                            <a:pt x="712" y="64"/>
                                          </a:lnTo>
                                          <a:lnTo>
                                            <a:pt x="712" y="64"/>
                                          </a:lnTo>
                                          <a:lnTo>
                                            <a:pt x="721" y="81"/>
                                          </a:lnTo>
                                          <a:lnTo>
                                            <a:pt x="725" y="98"/>
                                          </a:lnTo>
                                          <a:lnTo>
                                            <a:pt x="721" y="116"/>
                                          </a:lnTo>
                                          <a:lnTo>
                                            <a:pt x="716" y="133"/>
                                          </a:lnTo>
                                          <a:lnTo>
                                            <a:pt x="699" y="163"/>
                                          </a:lnTo>
                                          <a:lnTo>
                                            <a:pt x="673" y="193"/>
                                          </a:lnTo>
                                          <a:lnTo>
                                            <a:pt x="643" y="219"/>
                                          </a:lnTo>
                                          <a:lnTo>
                                            <a:pt x="617" y="240"/>
                                          </a:lnTo>
                                          <a:lnTo>
                                            <a:pt x="595" y="258"/>
                                          </a:lnTo>
                                          <a:lnTo>
                                            <a:pt x="587" y="275"/>
                                          </a:lnTo>
                                          <a:lnTo>
                                            <a:pt x="548" y="279"/>
                                          </a:lnTo>
                                          <a:lnTo>
                                            <a:pt x="505" y="288"/>
                                          </a:lnTo>
                                          <a:lnTo>
                                            <a:pt x="466" y="301"/>
                                          </a:lnTo>
                                          <a:lnTo>
                                            <a:pt x="427" y="313"/>
                                          </a:lnTo>
                                          <a:lnTo>
                                            <a:pt x="384" y="322"/>
                                          </a:lnTo>
                                          <a:lnTo>
                                            <a:pt x="341" y="331"/>
                                          </a:lnTo>
                                          <a:lnTo>
                                            <a:pt x="293" y="331"/>
                                          </a:lnTo>
                                          <a:lnTo>
                                            <a:pt x="246" y="326"/>
                                          </a:lnTo>
                                          <a:lnTo>
                                            <a:pt x="229" y="322"/>
                                          </a:lnTo>
                                          <a:lnTo>
                                            <a:pt x="207" y="318"/>
                                          </a:lnTo>
                                          <a:lnTo>
                                            <a:pt x="186" y="313"/>
                                          </a:lnTo>
                                          <a:lnTo>
                                            <a:pt x="164" y="305"/>
                                          </a:lnTo>
                                          <a:lnTo>
                                            <a:pt x="142" y="301"/>
                                          </a:lnTo>
                                          <a:lnTo>
                                            <a:pt x="121" y="296"/>
                                          </a:lnTo>
                                          <a:lnTo>
                                            <a:pt x="104" y="292"/>
                                          </a:lnTo>
                                          <a:lnTo>
                                            <a:pt x="82" y="292"/>
                                          </a:lnTo>
                                          <a:lnTo>
                                            <a:pt x="82" y="288"/>
                                          </a:lnTo>
                                          <a:lnTo>
                                            <a:pt x="78" y="283"/>
                                          </a:lnTo>
                                          <a:lnTo>
                                            <a:pt x="73" y="279"/>
                                          </a:lnTo>
                                          <a:lnTo>
                                            <a:pt x="69" y="275"/>
                                          </a:lnTo>
                                          <a:lnTo>
                                            <a:pt x="61" y="270"/>
                                          </a:lnTo>
                                          <a:lnTo>
                                            <a:pt x="56" y="266"/>
                                          </a:lnTo>
                                          <a:lnTo>
                                            <a:pt x="52" y="262"/>
                                          </a:lnTo>
                                          <a:lnTo>
                                            <a:pt x="52" y="258"/>
                                          </a:lnTo>
                                          <a:lnTo>
                                            <a:pt x="48" y="253"/>
                                          </a:lnTo>
                                          <a:lnTo>
                                            <a:pt x="43" y="249"/>
                                          </a:lnTo>
                                          <a:lnTo>
                                            <a:pt x="39" y="245"/>
                                          </a:lnTo>
                                          <a:lnTo>
                                            <a:pt x="35" y="240"/>
                                          </a:lnTo>
                                          <a:lnTo>
                                            <a:pt x="30" y="236"/>
                                          </a:lnTo>
                                          <a:lnTo>
                                            <a:pt x="26" y="232"/>
                                          </a:lnTo>
                                          <a:lnTo>
                                            <a:pt x="26" y="232"/>
                                          </a:lnTo>
                                          <a:lnTo>
                                            <a:pt x="22" y="227"/>
                                          </a:lnTo>
                                          <a:lnTo>
                                            <a:pt x="22" y="210"/>
                                          </a:lnTo>
                                          <a:lnTo>
                                            <a:pt x="17" y="197"/>
                                          </a:lnTo>
                                          <a:lnTo>
                                            <a:pt x="13" y="184"/>
                                          </a:lnTo>
                                          <a:lnTo>
                                            <a:pt x="4" y="172"/>
                                          </a:lnTo>
                                          <a:lnTo>
                                            <a:pt x="4" y="159"/>
                                          </a:lnTo>
                                          <a:lnTo>
                                            <a:pt x="0" y="150"/>
                                          </a:lnTo>
                                          <a:lnTo>
                                            <a:pt x="4" y="141"/>
                                          </a:lnTo>
                                          <a:lnTo>
                                            <a:pt x="13" y="133"/>
                                          </a:lnTo>
                                          <a:close/>
                                        </a:path>
                                      </a:pathLst>
                                    </a:custGeom>
                                    <a:blipFill rotWithShape="0">
                                      <a:blip r:embed="rId26"/>
                                      <a:srcRect/>
                                      <a:tile tx="0" ty="0" sx="100000" sy="100000" algn="ctr"/>
                                    </a:blipFill>
                                    <a:ln w="9360">
                                      <a:solidFill>
                                        <a:srgbClr val="c0c0c0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14760" bIns="-1476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sp>
                              <p:nvSpPr>
                                <p:cNvPr id="106" name=""/>
                                <p:cNvSpPr/>
                                <p:nvPr/>
                              </p:nvSpPr>
                              <p:spPr>
                                <a:xfrm rot="21327600">
                                  <a:off x="1393200" y="549360"/>
                                  <a:ext cx="554040" cy="67752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5410" h="7005">
                                      <a:moveTo>
                                        <a:pt x="1738" y="73"/>
                                      </a:moveTo>
                                      <a:lnTo>
                                        <a:pt x="1790" y="306"/>
                                      </a:lnTo>
                                      <a:lnTo>
                                        <a:pt x="1777" y="654"/>
                                      </a:lnTo>
                                      <a:lnTo>
                                        <a:pt x="1600" y="1338"/>
                                      </a:lnTo>
                                      <a:lnTo>
                                        <a:pt x="1600" y="1781"/>
                                      </a:lnTo>
                                      <a:lnTo>
                                        <a:pt x="1704" y="1991"/>
                                      </a:lnTo>
                                      <a:lnTo>
                                        <a:pt x="1769" y="2013"/>
                                      </a:lnTo>
                                      <a:lnTo>
                                        <a:pt x="2088" y="1875"/>
                                      </a:lnTo>
                                      <a:lnTo>
                                        <a:pt x="2498" y="1845"/>
                                      </a:lnTo>
                                      <a:lnTo>
                                        <a:pt x="2554" y="1867"/>
                                      </a:lnTo>
                                      <a:lnTo>
                                        <a:pt x="2657" y="1867"/>
                                      </a:lnTo>
                                      <a:lnTo>
                                        <a:pt x="3132" y="1931"/>
                                      </a:lnTo>
                                      <a:lnTo>
                                        <a:pt x="3503" y="1858"/>
                                      </a:lnTo>
                                      <a:lnTo>
                                        <a:pt x="3632" y="1836"/>
                                      </a:lnTo>
                                      <a:lnTo>
                                        <a:pt x="4047" y="1867"/>
                                      </a:lnTo>
                                      <a:lnTo>
                                        <a:pt x="4405" y="1961"/>
                                      </a:lnTo>
                                      <a:lnTo>
                                        <a:pt x="4763" y="2086"/>
                                      </a:lnTo>
                                      <a:lnTo>
                                        <a:pt x="4996" y="2013"/>
                                      </a:lnTo>
                                      <a:lnTo>
                                        <a:pt x="5147" y="2034"/>
                                      </a:lnTo>
                                      <a:lnTo>
                                        <a:pt x="5280" y="2142"/>
                                      </a:lnTo>
                                      <a:lnTo>
                                        <a:pt x="5367" y="2258"/>
                                      </a:lnTo>
                                      <a:lnTo>
                                        <a:pt x="5410" y="2434"/>
                                      </a:lnTo>
                                      <a:lnTo>
                                        <a:pt x="5354" y="2765"/>
                                      </a:lnTo>
                                      <a:lnTo>
                                        <a:pt x="5337" y="2890"/>
                                      </a:lnTo>
                                      <a:lnTo>
                                        <a:pt x="5354" y="2997"/>
                                      </a:lnTo>
                                      <a:lnTo>
                                        <a:pt x="5337" y="3019"/>
                                      </a:lnTo>
                                      <a:lnTo>
                                        <a:pt x="5280" y="2963"/>
                                      </a:lnTo>
                                      <a:lnTo>
                                        <a:pt x="5220" y="2963"/>
                                      </a:lnTo>
                                      <a:lnTo>
                                        <a:pt x="5186" y="2860"/>
                                      </a:lnTo>
                                      <a:lnTo>
                                        <a:pt x="5147" y="2795"/>
                                      </a:lnTo>
                                      <a:lnTo>
                                        <a:pt x="5147" y="2731"/>
                                      </a:lnTo>
                                      <a:lnTo>
                                        <a:pt x="5112" y="2709"/>
                                      </a:lnTo>
                                      <a:lnTo>
                                        <a:pt x="5112" y="2542"/>
                                      </a:lnTo>
                                      <a:lnTo>
                                        <a:pt x="4965" y="2340"/>
                                      </a:lnTo>
                                      <a:lnTo>
                                        <a:pt x="4957" y="2331"/>
                                      </a:lnTo>
                                      <a:lnTo>
                                        <a:pt x="4935" y="2352"/>
                                      </a:lnTo>
                                      <a:lnTo>
                                        <a:pt x="4957" y="2417"/>
                                      </a:lnTo>
                                      <a:lnTo>
                                        <a:pt x="5069" y="2576"/>
                                      </a:lnTo>
                                      <a:lnTo>
                                        <a:pt x="5030" y="2615"/>
                                      </a:lnTo>
                                      <a:lnTo>
                                        <a:pt x="5052" y="2744"/>
                                      </a:lnTo>
                                      <a:lnTo>
                                        <a:pt x="5082" y="2774"/>
                                      </a:lnTo>
                                      <a:lnTo>
                                        <a:pt x="5082" y="2868"/>
                                      </a:lnTo>
                                      <a:lnTo>
                                        <a:pt x="5112" y="2924"/>
                                      </a:lnTo>
                                      <a:lnTo>
                                        <a:pt x="5104" y="3019"/>
                                      </a:lnTo>
                                      <a:lnTo>
                                        <a:pt x="5134" y="3079"/>
                                      </a:lnTo>
                                      <a:lnTo>
                                        <a:pt x="5125" y="3122"/>
                                      </a:lnTo>
                                      <a:lnTo>
                                        <a:pt x="5155" y="3217"/>
                                      </a:lnTo>
                                      <a:lnTo>
                                        <a:pt x="5112" y="3260"/>
                                      </a:lnTo>
                                      <a:lnTo>
                                        <a:pt x="5147" y="3333"/>
                                      </a:lnTo>
                                      <a:lnTo>
                                        <a:pt x="5091" y="3397"/>
                                      </a:lnTo>
                                      <a:lnTo>
                                        <a:pt x="5091" y="3449"/>
                                      </a:lnTo>
                                      <a:lnTo>
                                        <a:pt x="5030" y="3513"/>
                                      </a:lnTo>
                                      <a:lnTo>
                                        <a:pt x="5091" y="3595"/>
                                      </a:lnTo>
                                      <a:lnTo>
                                        <a:pt x="5009" y="3673"/>
                                      </a:lnTo>
                                      <a:lnTo>
                                        <a:pt x="4996" y="3681"/>
                                      </a:lnTo>
                                      <a:lnTo>
                                        <a:pt x="4996" y="3716"/>
                                      </a:lnTo>
                                      <a:lnTo>
                                        <a:pt x="5017" y="3737"/>
                                      </a:lnTo>
                                      <a:lnTo>
                                        <a:pt x="4987" y="3819"/>
                                      </a:lnTo>
                                      <a:lnTo>
                                        <a:pt x="4987" y="3840"/>
                                      </a:lnTo>
                                      <a:lnTo>
                                        <a:pt x="4996" y="3849"/>
                                      </a:lnTo>
                                      <a:lnTo>
                                        <a:pt x="4836" y="4008"/>
                                      </a:lnTo>
                                      <a:lnTo>
                                        <a:pt x="4879" y="4103"/>
                                      </a:lnTo>
                                      <a:lnTo>
                                        <a:pt x="4763" y="4232"/>
                                      </a:lnTo>
                                      <a:lnTo>
                                        <a:pt x="4763" y="4283"/>
                                      </a:lnTo>
                                      <a:lnTo>
                                        <a:pt x="4711" y="4335"/>
                                      </a:lnTo>
                                      <a:lnTo>
                                        <a:pt x="4711" y="4305"/>
                                      </a:lnTo>
                                      <a:lnTo>
                                        <a:pt x="4689" y="4283"/>
                                      </a:lnTo>
                                      <a:lnTo>
                                        <a:pt x="4659" y="4292"/>
                                      </a:lnTo>
                                      <a:lnTo>
                                        <a:pt x="4625" y="4335"/>
                                      </a:lnTo>
                                      <a:lnTo>
                                        <a:pt x="4646" y="4386"/>
                                      </a:lnTo>
                                      <a:lnTo>
                                        <a:pt x="4668" y="4696"/>
                                      </a:lnTo>
                                      <a:lnTo>
                                        <a:pt x="4814" y="4971"/>
                                      </a:lnTo>
                                      <a:lnTo>
                                        <a:pt x="4879" y="5031"/>
                                      </a:lnTo>
                                      <a:lnTo>
                                        <a:pt x="4836" y="5350"/>
                                      </a:lnTo>
                                      <a:lnTo>
                                        <a:pt x="4776" y="5633"/>
                                      </a:lnTo>
                                      <a:lnTo>
                                        <a:pt x="4720" y="6106"/>
                                      </a:lnTo>
                                      <a:lnTo>
                                        <a:pt x="4720" y="6648"/>
                                      </a:lnTo>
                                      <a:lnTo>
                                        <a:pt x="4733" y="6657"/>
                                      </a:lnTo>
                                      <a:lnTo>
                                        <a:pt x="4702" y="6764"/>
                                      </a:lnTo>
                                      <a:lnTo>
                                        <a:pt x="4625" y="6889"/>
                                      </a:lnTo>
                                      <a:lnTo>
                                        <a:pt x="4646" y="6953"/>
                                      </a:lnTo>
                                      <a:lnTo>
                                        <a:pt x="4638" y="6984"/>
                                      </a:lnTo>
                                      <a:lnTo>
                                        <a:pt x="4465" y="7005"/>
                                      </a:lnTo>
                                      <a:lnTo>
                                        <a:pt x="4426" y="6984"/>
                                      </a:lnTo>
                                      <a:lnTo>
                                        <a:pt x="4141" y="7005"/>
                                      </a:lnTo>
                                      <a:lnTo>
                                        <a:pt x="4141" y="6945"/>
                                      </a:lnTo>
                                      <a:lnTo>
                                        <a:pt x="4236" y="6859"/>
                                      </a:lnTo>
                                      <a:lnTo>
                                        <a:pt x="4310" y="6837"/>
                                      </a:lnTo>
                                      <a:lnTo>
                                        <a:pt x="4426" y="6751"/>
                                      </a:lnTo>
                                      <a:lnTo>
                                        <a:pt x="4478" y="6635"/>
                                      </a:lnTo>
                                      <a:lnTo>
                                        <a:pt x="4512" y="6403"/>
                                      </a:lnTo>
                                      <a:lnTo>
                                        <a:pt x="4478" y="5547"/>
                                      </a:lnTo>
                                      <a:lnTo>
                                        <a:pt x="4405" y="5294"/>
                                      </a:lnTo>
                                      <a:lnTo>
                                        <a:pt x="4370" y="5212"/>
                                      </a:lnTo>
                                      <a:lnTo>
                                        <a:pt x="4288" y="5117"/>
                                      </a:lnTo>
                                      <a:lnTo>
                                        <a:pt x="4107" y="4864"/>
                                      </a:lnTo>
                                      <a:lnTo>
                                        <a:pt x="3926" y="4717"/>
                                      </a:lnTo>
                                      <a:lnTo>
                                        <a:pt x="3736" y="4601"/>
                                      </a:lnTo>
                                      <a:lnTo>
                                        <a:pt x="3624" y="4442"/>
                                      </a:lnTo>
                                      <a:lnTo>
                                        <a:pt x="3602" y="4189"/>
                                      </a:lnTo>
                                      <a:lnTo>
                                        <a:pt x="3589" y="3986"/>
                                      </a:lnTo>
                                      <a:lnTo>
                                        <a:pt x="3503" y="3724"/>
                                      </a:lnTo>
                                      <a:lnTo>
                                        <a:pt x="3494" y="3716"/>
                                      </a:lnTo>
                                      <a:lnTo>
                                        <a:pt x="3473" y="3716"/>
                                      </a:lnTo>
                                      <a:lnTo>
                                        <a:pt x="3451" y="3660"/>
                                      </a:lnTo>
                                      <a:lnTo>
                                        <a:pt x="3421" y="3630"/>
                                      </a:lnTo>
                                      <a:lnTo>
                                        <a:pt x="3335" y="3617"/>
                                      </a:lnTo>
                                      <a:lnTo>
                                        <a:pt x="3313" y="3642"/>
                                      </a:lnTo>
                                      <a:lnTo>
                                        <a:pt x="3313" y="3660"/>
                                      </a:lnTo>
                                      <a:lnTo>
                                        <a:pt x="3348" y="3690"/>
                                      </a:lnTo>
                                      <a:lnTo>
                                        <a:pt x="3399" y="3690"/>
                                      </a:lnTo>
                                      <a:lnTo>
                                        <a:pt x="3473" y="3819"/>
                                      </a:lnTo>
                                      <a:lnTo>
                                        <a:pt x="3421" y="3810"/>
                                      </a:lnTo>
                                      <a:lnTo>
                                        <a:pt x="3386" y="3892"/>
                                      </a:lnTo>
                                      <a:lnTo>
                                        <a:pt x="3335" y="3905"/>
                                      </a:lnTo>
                                      <a:lnTo>
                                        <a:pt x="3313" y="3956"/>
                                      </a:lnTo>
                                      <a:lnTo>
                                        <a:pt x="3292" y="3935"/>
                                      </a:lnTo>
                                      <a:lnTo>
                                        <a:pt x="3274" y="3935"/>
                                      </a:lnTo>
                                      <a:lnTo>
                                        <a:pt x="3218" y="4021"/>
                                      </a:lnTo>
                                      <a:lnTo>
                                        <a:pt x="3188" y="4029"/>
                                      </a:lnTo>
                                      <a:lnTo>
                                        <a:pt x="3153" y="4029"/>
                                      </a:lnTo>
                                      <a:lnTo>
                                        <a:pt x="3153" y="4021"/>
                                      </a:lnTo>
                                      <a:lnTo>
                                        <a:pt x="3132" y="3999"/>
                                      </a:lnTo>
                                      <a:lnTo>
                                        <a:pt x="3102" y="3999"/>
                                      </a:lnTo>
                                      <a:lnTo>
                                        <a:pt x="3080" y="4038"/>
                                      </a:lnTo>
                                      <a:lnTo>
                                        <a:pt x="3037" y="4072"/>
                                      </a:lnTo>
                                      <a:lnTo>
                                        <a:pt x="2998" y="4051"/>
                                      </a:lnTo>
                                      <a:lnTo>
                                        <a:pt x="2985" y="4038"/>
                                      </a:lnTo>
                                      <a:lnTo>
                                        <a:pt x="2912" y="4115"/>
                                      </a:lnTo>
                                      <a:lnTo>
                                        <a:pt x="2869" y="4115"/>
                                      </a:lnTo>
                                      <a:lnTo>
                                        <a:pt x="2856" y="4085"/>
                                      </a:lnTo>
                                      <a:lnTo>
                                        <a:pt x="2847" y="4072"/>
                                      </a:lnTo>
                                      <a:lnTo>
                                        <a:pt x="2826" y="4072"/>
                                      </a:lnTo>
                                      <a:lnTo>
                                        <a:pt x="2795" y="4124"/>
                                      </a:lnTo>
                                      <a:lnTo>
                                        <a:pt x="2774" y="4146"/>
                                      </a:lnTo>
                                      <a:lnTo>
                                        <a:pt x="2731" y="4115"/>
                                      </a:lnTo>
                                      <a:lnTo>
                                        <a:pt x="2649" y="4167"/>
                                      </a:lnTo>
                                      <a:lnTo>
                                        <a:pt x="2614" y="4158"/>
                                      </a:lnTo>
                                      <a:lnTo>
                                        <a:pt x="2593" y="4158"/>
                                      </a:lnTo>
                                      <a:lnTo>
                                        <a:pt x="2571" y="4197"/>
                                      </a:lnTo>
                                      <a:lnTo>
                                        <a:pt x="2541" y="4232"/>
                                      </a:lnTo>
                                      <a:lnTo>
                                        <a:pt x="2519" y="4197"/>
                                      </a:lnTo>
                                      <a:lnTo>
                                        <a:pt x="2489" y="4167"/>
                                      </a:lnTo>
                                      <a:lnTo>
                                        <a:pt x="2437" y="4219"/>
                                      </a:lnTo>
                                      <a:lnTo>
                                        <a:pt x="2364" y="4219"/>
                                      </a:lnTo>
                                      <a:lnTo>
                                        <a:pt x="2364" y="4210"/>
                                      </a:lnTo>
                                      <a:lnTo>
                                        <a:pt x="2351" y="4197"/>
                                      </a:lnTo>
                                      <a:lnTo>
                                        <a:pt x="2308" y="4262"/>
                                      </a:lnTo>
                                      <a:lnTo>
                                        <a:pt x="2278" y="4253"/>
                                      </a:lnTo>
                                      <a:lnTo>
                                        <a:pt x="2256" y="4283"/>
                                      </a:lnTo>
                                      <a:lnTo>
                                        <a:pt x="2256" y="4292"/>
                                      </a:lnTo>
                                      <a:lnTo>
                                        <a:pt x="2235" y="4292"/>
                                      </a:lnTo>
                                      <a:lnTo>
                                        <a:pt x="2235" y="4283"/>
                                      </a:lnTo>
                                      <a:lnTo>
                                        <a:pt x="2213" y="4262"/>
                                      </a:lnTo>
                                      <a:lnTo>
                                        <a:pt x="2161" y="4283"/>
                                      </a:lnTo>
                                      <a:lnTo>
                                        <a:pt x="2140" y="4283"/>
                                      </a:lnTo>
                                      <a:lnTo>
                                        <a:pt x="2118" y="4262"/>
                                      </a:lnTo>
                                      <a:lnTo>
                                        <a:pt x="2109" y="4275"/>
                                      </a:lnTo>
                                      <a:lnTo>
                                        <a:pt x="2109" y="4305"/>
                                      </a:lnTo>
                                      <a:lnTo>
                                        <a:pt x="2053" y="4262"/>
                                      </a:lnTo>
                                      <a:lnTo>
                                        <a:pt x="2032" y="4292"/>
                                      </a:lnTo>
                                      <a:lnTo>
                                        <a:pt x="1980" y="4275"/>
                                      </a:lnTo>
                                      <a:lnTo>
                                        <a:pt x="1967" y="4262"/>
                                      </a:lnTo>
                                      <a:lnTo>
                                        <a:pt x="2096" y="4103"/>
                                      </a:lnTo>
                                      <a:lnTo>
                                        <a:pt x="2127" y="4038"/>
                                      </a:lnTo>
                                      <a:lnTo>
                                        <a:pt x="2075" y="3956"/>
                                      </a:lnTo>
                                      <a:lnTo>
                                        <a:pt x="2053" y="3840"/>
                                      </a:lnTo>
                                      <a:lnTo>
                                        <a:pt x="2045" y="3832"/>
                                      </a:lnTo>
                                      <a:lnTo>
                                        <a:pt x="2014" y="3832"/>
                                      </a:lnTo>
                                      <a:lnTo>
                                        <a:pt x="1980" y="3905"/>
                                      </a:lnTo>
                                      <a:lnTo>
                                        <a:pt x="1894" y="3965"/>
                                      </a:lnTo>
                                      <a:lnTo>
                                        <a:pt x="1885" y="3978"/>
                                      </a:lnTo>
                                      <a:lnTo>
                                        <a:pt x="1863" y="3905"/>
                                      </a:lnTo>
                                      <a:lnTo>
                                        <a:pt x="1833" y="3870"/>
                                      </a:lnTo>
                                      <a:lnTo>
                                        <a:pt x="1812" y="3892"/>
                                      </a:lnTo>
                                      <a:lnTo>
                                        <a:pt x="1777" y="3870"/>
                                      </a:lnTo>
                                      <a:lnTo>
                                        <a:pt x="1760" y="3849"/>
                                      </a:lnTo>
                                      <a:lnTo>
                                        <a:pt x="1674" y="3965"/>
                                      </a:lnTo>
                                      <a:lnTo>
                                        <a:pt x="1665" y="3986"/>
                                      </a:lnTo>
                                      <a:lnTo>
                                        <a:pt x="1643" y="4008"/>
                                      </a:lnTo>
                                      <a:lnTo>
                                        <a:pt x="1523" y="3943"/>
                                      </a:lnTo>
                                      <a:lnTo>
                                        <a:pt x="1536" y="3892"/>
                                      </a:lnTo>
                                      <a:lnTo>
                                        <a:pt x="1536" y="3862"/>
                                      </a:lnTo>
                                      <a:lnTo>
                                        <a:pt x="1505" y="3832"/>
                                      </a:lnTo>
                                      <a:lnTo>
                                        <a:pt x="1346" y="3986"/>
                                      </a:lnTo>
                                      <a:lnTo>
                                        <a:pt x="1281" y="4124"/>
                                      </a:lnTo>
                                      <a:lnTo>
                                        <a:pt x="1221" y="4133"/>
                                      </a:lnTo>
                                      <a:lnTo>
                                        <a:pt x="1113" y="3986"/>
                                      </a:lnTo>
                                      <a:lnTo>
                                        <a:pt x="1078" y="3986"/>
                                      </a:lnTo>
                                      <a:lnTo>
                                        <a:pt x="1078" y="4085"/>
                                      </a:lnTo>
                                      <a:lnTo>
                                        <a:pt x="996" y="3986"/>
                                      </a:lnTo>
                                      <a:lnTo>
                                        <a:pt x="983" y="3956"/>
                                      </a:lnTo>
                                      <a:lnTo>
                                        <a:pt x="962" y="3935"/>
                                      </a:lnTo>
                                      <a:lnTo>
                                        <a:pt x="923" y="3978"/>
                                      </a:lnTo>
                                      <a:lnTo>
                                        <a:pt x="880" y="3870"/>
                                      </a:lnTo>
                                      <a:lnTo>
                                        <a:pt x="858" y="3849"/>
                                      </a:lnTo>
                                      <a:lnTo>
                                        <a:pt x="837" y="3862"/>
                                      </a:lnTo>
                                      <a:lnTo>
                                        <a:pt x="815" y="3883"/>
                                      </a:lnTo>
                                      <a:lnTo>
                                        <a:pt x="815" y="3965"/>
                                      </a:lnTo>
                                      <a:lnTo>
                                        <a:pt x="772" y="3849"/>
                                      </a:lnTo>
                                      <a:lnTo>
                                        <a:pt x="763" y="3767"/>
                                      </a:lnTo>
                                      <a:lnTo>
                                        <a:pt x="742" y="3754"/>
                                      </a:lnTo>
                                      <a:lnTo>
                                        <a:pt x="668" y="3789"/>
                                      </a:lnTo>
                                      <a:lnTo>
                                        <a:pt x="561" y="3673"/>
                                      </a:lnTo>
                                      <a:lnTo>
                                        <a:pt x="530" y="3673"/>
                                      </a:lnTo>
                                      <a:lnTo>
                                        <a:pt x="444" y="3565"/>
                                      </a:lnTo>
                                      <a:lnTo>
                                        <a:pt x="414" y="3565"/>
                                      </a:lnTo>
                                      <a:lnTo>
                                        <a:pt x="341" y="3354"/>
                                      </a:lnTo>
                                      <a:lnTo>
                                        <a:pt x="310" y="3354"/>
                                      </a:lnTo>
                                      <a:lnTo>
                                        <a:pt x="284" y="3376"/>
                                      </a:lnTo>
                                      <a:lnTo>
                                        <a:pt x="284" y="3440"/>
                                      </a:lnTo>
                                      <a:lnTo>
                                        <a:pt x="246" y="3122"/>
                                      </a:lnTo>
                                      <a:lnTo>
                                        <a:pt x="233" y="3114"/>
                                      </a:lnTo>
                                      <a:lnTo>
                                        <a:pt x="211" y="3114"/>
                                      </a:lnTo>
                                      <a:lnTo>
                                        <a:pt x="190" y="3131"/>
                                      </a:lnTo>
                                      <a:lnTo>
                                        <a:pt x="190" y="3165"/>
                                      </a:lnTo>
                                      <a:lnTo>
                                        <a:pt x="168" y="2911"/>
                                      </a:lnTo>
                                      <a:lnTo>
                                        <a:pt x="168" y="2825"/>
                                      </a:lnTo>
                                      <a:lnTo>
                                        <a:pt x="159" y="2817"/>
                                      </a:lnTo>
                                      <a:lnTo>
                                        <a:pt x="138" y="2817"/>
                                      </a:lnTo>
                                      <a:lnTo>
                                        <a:pt x="108" y="2868"/>
                                      </a:lnTo>
                                      <a:lnTo>
                                        <a:pt x="116" y="2658"/>
                                      </a:lnTo>
                                      <a:lnTo>
                                        <a:pt x="95" y="2636"/>
                                      </a:lnTo>
                                      <a:lnTo>
                                        <a:pt x="73" y="2636"/>
                                      </a:lnTo>
                                      <a:lnTo>
                                        <a:pt x="34" y="2731"/>
                                      </a:lnTo>
                                      <a:lnTo>
                                        <a:pt x="43" y="2490"/>
                                      </a:lnTo>
                                      <a:lnTo>
                                        <a:pt x="56" y="2469"/>
                                      </a:lnTo>
                                      <a:lnTo>
                                        <a:pt x="56" y="2434"/>
                                      </a:lnTo>
                                      <a:lnTo>
                                        <a:pt x="13" y="2404"/>
                                      </a:lnTo>
                                      <a:lnTo>
                                        <a:pt x="86" y="2129"/>
                                      </a:lnTo>
                                      <a:lnTo>
                                        <a:pt x="86" y="2112"/>
                                      </a:lnTo>
                                      <a:lnTo>
                                        <a:pt x="64" y="2086"/>
                                      </a:lnTo>
                                      <a:lnTo>
                                        <a:pt x="43" y="2086"/>
                                      </a:lnTo>
                                      <a:lnTo>
                                        <a:pt x="0" y="2159"/>
                                      </a:lnTo>
                                      <a:lnTo>
                                        <a:pt x="108" y="1815"/>
                                      </a:lnTo>
                                      <a:lnTo>
                                        <a:pt x="73" y="1781"/>
                                      </a:lnTo>
                                      <a:lnTo>
                                        <a:pt x="0" y="1875"/>
                                      </a:lnTo>
                                      <a:lnTo>
                                        <a:pt x="95" y="1634"/>
                                      </a:lnTo>
                                      <a:lnTo>
                                        <a:pt x="181" y="1497"/>
                                      </a:lnTo>
                                      <a:lnTo>
                                        <a:pt x="181" y="1467"/>
                                      </a:lnTo>
                                      <a:lnTo>
                                        <a:pt x="168" y="1454"/>
                                      </a:lnTo>
                                      <a:lnTo>
                                        <a:pt x="138" y="1454"/>
                                      </a:lnTo>
                                      <a:lnTo>
                                        <a:pt x="95" y="1518"/>
                                      </a:lnTo>
                                      <a:lnTo>
                                        <a:pt x="211" y="1170"/>
                                      </a:lnTo>
                                      <a:lnTo>
                                        <a:pt x="202" y="1161"/>
                                      </a:lnTo>
                                      <a:lnTo>
                                        <a:pt x="129" y="1213"/>
                                      </a:lnTo>
                                      <a:lnTo>
                                        <a:pt x="224" y="1024"/>
                                      </a:lnTo>
                                      <a:lnTo>
                                        <a:pt x="224" y="1002"/>
                                      </a:lnTo>
                                      <a:lnTo>
                                        <a:pt x="202" y="981"/>
                                      </a:lnTo>
                                      <a:lnTo>
                                        <a:pt x="116" y="1045"/>
                                      </a:lnTo>
                                      <a:lnTo>
                                        <a:pt x="246" y="852"/>
                                      </a:lnTo>
                                      <a:lnTo>
                                        <a:pt x="284" y="809"/>
                                      </a:lnTo>
                                      <a:lnTo>
                                        <a:pt x="263" y="749"/>
                                      </a:lnTo>
                                      <a:lnTo>
                                        <a:pt x="530" y="482"/>
                                      </a:lnTo>
                                      <a:lnTo>
                                        <a:pt x="561" y="443"/>
                                      </a:lnTo>
                                      <a:lnTo>
                                        <a:pt x="772" y="473"/>
                                      </a:lnTo>
                                      <a:lnTo>
                                        <a:pt x="910" y="508"/>
                                      </a:lnTo>
                                      <a:lnTo>
                                        <a:pt x="1294" y="430"/>
                                      </a:lnTo>
                                      <a:lnTo>
                                        <a:pt x="1367" y="400"/>
                                      </a:lnTo>
                                      <a:lnTo>
                                        <a:pt x="1398" y="430"/>
                                      </a:lnTo>
                                      <a:lnTo>
                                        <a:pt x="1462" y="409"/>
                                      </a:lnTo>
                                      <a:lnTo>
                                        <a:pt x="1492" y="379"/>
                                      </a:lnTo>
                                      <a:lnTo>
                                        <a:pt x="1492" y="357"/>
                                      </a:lnTo>
                                      <a:lnTo>
                                        <a:pt x="1484" y="349"/>
                                      </a:lnTo>
                                      <a:lnTo>
                                        <a:pt x="1410" y="379"/>
                                      </a:lnTo>
                                      <a:lnTo>
                                        <a:pt x="1484" y="293"/>
                                      </a:lnTo>
                                      <a:lnTo>
                                        <a:pt x="1505" y="147"/>
                                      </a:lnTo>
                                      <a:lnTo>
                                        <a:pt x="1609" y="0"/>
                                      </a:lnTo>
                                      <a:lnTo>
                                        <a:pt x="1665" y="0"/>
                                      </a:lnTo>
                                      <a:lnTo>
                                        <a:pt x="1738" y="73"/>
                                      </a:lnTo>
                                      <a:close/>
                                    </a:path>
                                  </a:pathLst>
                                </a:custGeom>
                                <a:blipFill rotWithShape="0">
                                  <a:blip r:embed="rId27"/>
                                  <a:srcRect/>
                                  <a:tile tx="0" ty="0" sx="100000" sy="100000" algn="ctr"/>
                                </a:blip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107" name=""/>
                              <p:cNvSpPr/>
                              <p:nvPr/>
                            </p:nvSpPr>
                            <p:spPr>
                              <a:xfrm rot="21327600">
                                <a:off x="1378080" y="523080"/>
                                <a:ext cx="123480" cy="22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208" h="236">
                                    <a:moveTo>
                                      <a:pt x="160" y="103"/>
                                    </a:moveTo>
                                    <a:lnTo>
                                      <a:pt x="333" y="103"/>
                                    </a:lnTo>
                                    <a:lnTo>
                                      <a:pt x="337" y="99"/>
                                    </a:lnTo>
                                    <a:lnTo>
                                      <a:pt x="341" y="94"/>
                                    </a:lnTo>
                                    <a:lnTo>
                                      <a:pt x="350" y="90"/>
                                    </a:lnTo>
                                    <a:lnTo>
                                      <a:pt x="358" y="86"/>
                                    </a:lnTo>
                                    <a:lnTo>
                                      <a:pt x="371" y="81"/>
                                    </a:lnTo>
                                    <a:lnTo>
                                      <a:pt x="380" y="77"/>
                                    </a:lnTo>
                                    <a:lnTo>
                                      <a:pt x="389" y="73"/>
                                    </a:lnTo>
                                    <a:lnTo>
                                      <a:pt x="393" y="73"/>
                                    </a:lnTo>
                                    <a:lnTo>
                                      <a:pt x="414" y="51"/>
                                    </a:lnTo>
                                    <a:lnTo>
                                      <a:pt x="445" y="51"/>
                                    </a:lnTo>
                                    <a:lnTo>
                                      <a:pt x="492" y="51"/>
                                    </a:lnTo>
                                    <a:lnTo>
                                      <a:pt x="557" y="56"/>
                                    </a:lnTo>
                                    <a:lnTo>
                                      <a:pt x="626" y="56"/>
                                    </a:lnTo>
                                    <a:lnTo>
                                      <a:pt x="695" y="56"/>
                                    </a:lnTo>
                                    <a:lnTo>
                                      <a:pt x="755" y="51"/>
                                    </a:lnTo>
                                    <a:lnTo>
                                      <a:pt x="798" y="47"/>
                                    </a:lnTo>
                                    <a:lnTo>
                                      <a:pt x="820" y="43"/>
                                    </a:lnTo>
                                    <a:lnTo>
                                      <a:pt x="820" y="30"/>
                                    </a:lnTo>
                                    <a:lnTo>
                                      <a:pt x="833" y="25"/>
                                    </a:lnTo>
                                    <a:lnTo>
                                      <a:pt x="850" y="17"/>
                                    </a:lnTo>
                                    <a:lnTo>
                                      <a:pt x="863" y="13"/>
                                    </a:lnTo>
                                    <a:lnTo>
                                      <a:pt x="880" y="8"/>
                                    </a:lnTo>
                                    <a:lnTo>
                                      <a:pt x="898" y="4"/>
                                    </a:lnTo>
                                    <a:lnTo>
                                      <a:pt x="911" y="4"/>
                                    </a:lnTo>
                                    <a:lnTo>
                                      <a:pt x="928" y="0"/>
                                    </a:lnTo>
                                    <a:lnTo>
                                      <a:pt x="945" y="0"/>
                                    </a:lnTo>
                                    <a:lnTo>
                                      <a:pt x="967" y="13"/>
                                    </a:lnTo>
                                    <a:lnTo>
                                      <a:pt x="993" y="25"/>
                                    </a:lnTo>
                                    <a:lnTo>
                                      <a:pt x="1027" y="34"/>
                                    </a:lnTo>
                                    <a:lnTo>
                                      <a:pt x="1066" y="38"/>
                                    </a:lnTo>
                                    <a:lnTo>
                                      <a:pt x="1105" y="38"/>
                                    </a:lnTo>
                                    <a:lnTo>
                                      <a:pt x="1144" y="43"/>
                                    </a:lnTo>
                                    <a:lnTo>
                                      <a:pt x="1178" y="43"/>
                                    </a:lnTo>
                                    <a:lnTo>
                                      <a:pt x="1208" y="43"/>
                                    </a:lnTo>
                                    <a:lnTo>
                                      <a:pt x="1208" y="47"/>
                                    </a:lnTo>
                                    <a:lnTo>
                                      <a:pt x="1204" y="51"/>
                                    </a:lnTo>
                                    <a:lnTo>
                                      <a:pt x="1204" y="56"/>
                                    </a:lnTo>
                                    <a:lnTo>
                                      <a:pt x="1200" y="64"/>
                                    </a:lnTo>
                                    <a:lnTo>
                                      <a:pt x="1191" y="68"/>
                                    </a:lnTo>
                                    <a:lnTo>
                                      <a:pt x="1187" y="73"/>
                                    </a:lnTo>
                                    <a:lnTo>
                                      <a:pt x="1182" y="77"/>
                                    </a:lnTo>
                                    <a:lnTo>
                                      <a:pt x="1178" y="81"/>
                                    </a:lnTo>
                                    <a:lnTo>
                                      <a:pt x="1157" y="86"/>
                                    </a:lnTo>
                                    <a:lnTo>
                                      <a:pt x="1131" y="86"/>
                                    </a:lnTo>
                                    <a:lnTo>
                                      <a:pt x="1109" y="94"/>
                                    </a:lnTo>
                                    <a:lnTo>
                                      <a:pt x="1083" y="99"/>
                                    </a:lnTo>
                                    <a:lnTo>
                                      <a:pt x="1062" y="103"/>
                                    </a:lnTo>
                                    <a:lnTo>
                                      <a:pt x="1036" y="107"/>
                                    </a:lnTo>
                                    <a:lnTo>
                                      <a:pt x="1014" y="111"/>
                                    </a:lnTo>
                                    <a:lnTo>
                                      <a:pt x="997" y="111"/>
                                    </a:lnTo>
                                    <a:lnTo>
                                      <a:pt x="1001" y="116"/>
                                    </a:lnTo>
                                    <a:lnTo>
                                      <a:pt x="1001" y="116"/>
                                    </a:lnTo>
                                    <a:lnTo>
                                      <a:pt x="1006" y="120"/>
                                    </a:lnTo>
                                    <a:lnTo>
                                      <a:pt x="1010" y="124"/>
                                    </a:lnTo>
                                    <a:lnTo>
                                      <a:pt x="1014" y="129"/>
                                    </a:lnTo>
                                    <a:lnTo>
                                      <a:pt x="1018" y="133"/>
                                    </a:lnTo>
                                    <a:lnTo>
                                      <a:pt x="1023" y="137"/>
                                    </a:lnTo>
                                    <a:lnTo>
                                      <a:pt x="1027" y="142"/>
                                    </a:lnTo>
                                    <a:lnTo>
                                      <a:pt x="811" y="154"/>
                                    </a:lnTo>
                                    <a:lnTo>
                                      <a:pt x="811" y="159"/>
                                    </a:lnTo>
                                    <a:lnTo>
                                      <a:pt x="811" y="163"/>
                                    </a:lnTo>
                                    <a:lnTo>
                                      <a:pt x="807" y="167"/>
                                    </a:lnTo>
                                    <a:lnTo>
                                      <a:pt x="807" y="176"/>
                                    </a:lnTo>
                                    <a:lnTo>
                                      <a:pt x="807" y="180"/>
                                    </a:lnTo>
                                    <a:lnTo>
                                      <a:pt x="803" y="185"/>
                                    </a:lnTo>
                                    <a:lnTo>
                                      <a:pt x="803" y="189"/>
                                    </a:lnTo>
                                    <a:lnTo>
                                      <a:pt x="803" y="193"/>
                                    </a:lnTo>
                                    <a:lnTo>
                                      <a:pt x="781" y="193"/>
                                    </a:lnTo>
                                    <a:lnTo>
                                      <a:pt x="755" y="189"/>
                                    </a:lnTo>
                                    <a:lnTo>
                                      <a:pt x="721" y="185"/>
                                    </a:lnTo>
                                    <a:lnTo>
                                      <a:pt x="686" y="180"/>
                                    </a:lnTo>
                                    <a:lnTo>
                                      <a:pt x="652" y="180"/>
                                    </a:lnTo>
                                    <a:lnTo>
                                      <a:pt x="622" y="176"/>
                                    </a:lnTo>
                                    <a:lnTo>
                                      <a:pt x="596" y="180"/>
                                    </a:lnTo>
                                    <a:lnTo>
                                      <a:pt x="578" y="185"/>
                                    </a:lnTo>
                                    <a:lnTo>
                                      <a:pt x="578" y="193"/>
                                    </a:lnTo>
                                    <a:lnTo>
                                      <a:pt x="548" y="193"/>
                                    </a:lnTo>
                                    <a:lnTo>
                                      <a:pt x="548" y="206"/>
                                    </a:lnTo>
                                    <a:lnTo>
                                      <a:pt x="548" y="215"/>
                                    </a:lnTo>
                                    <a:lnTo>
                                      <a:pt x="100" y="236"/>
                                    </a:lnTo>
                                    <a:lnTo>
                                      <a:pt x="95" y="228"/>
                                    </a:lnTo>
                                    <a:lnTo>
                                      <a:pt x="87" y="219"/>
                                    </a:lnTo>
                                    <a:lnTo>
                                      <a:pt x="82" y="206"/>
                                    </a:lnTo>
                                    <a:lnTo>
                                      <a:pt x="74" y="197"/>
                                    </a:lnTo>
                                    <a:lnTo>
                                      <a:pt x="65" y="185"/>
                                    </a:lnTo>
                                    <a:lnTo>
                                      <a:pt x="61" y="172"/>
                                    </a:lnTo>
                                    <a:lnTo>
                                      <a:pt x="52" y="163"/>
                                    </a:lnTo>
                                    <a:lnTo>
                                      <a:pt x="48" y="154"/>
                                    </a:lnTo>
                                    <a:lnTo>
                                      <a:pt x="91" y="167"/>
                                    </a:lnTo>
                                    <a:lnTo>
                                      <a:pt x="164" y="159"/>
                                    </a:lnTo>
                                    <a:lnTo>
                                      <a:pt x="186" y="137"/>
                                    </a:lnTo>
                                    <a:lnTo>
                                      <a:pt x="160" y="103"/>
                                    </a:lnTo>
                                    <a:close/>
                                    <a:moveTo>
                                      <a:pt x="22" y="142"/>
                                    </a:moveTo>
                                    <a:lnTo>
                                      <a:pt x="18" y="142"/>
                                    </a:lnTo>
                                    <a:lnTo>
                                      <a:pt x="13" y="142"/>
                                    </a:lnTo>
                                    <a:lnTo>
                                      <a:pt x="13" y="142"/>
                                    </a:lnTo>
                                    <a:lnTo>
                                      <a:pt x="9" y="142"/>
                                    </a:lnTo>
                                    <a:lnTo>
                                      <a:pt x="9" y="142"/>
                                    </a:lnTo>
                                    <a:lnTo>
                                      <a:pt x="5" y="137"/>
                                    </a:lnTo>
                                    <a:lnTo>
                                      <a:pt x="5" y="137"/>
                                    </a:lnTo>
                                    <a:lnTo>
                                      <a:pt x="0" y="137"/>
                                    </a:lnTo>
                                    <a:lnTo>
                                      <a:pt x="5" y="137"/>
                                    </a:lnTo>
                                    <a:lnTo>
                                      <a:pt x="22" y="142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efd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4120" bIns="-24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08" name=""/>
                            <p:cNvSpPr/>
                            <p:nvPr/>
                          </p:nvSpPr>
                          <p:spPr>
                            <a:xfrm rot="21327600">
                              <a:off x="1350000" y="573840"/>
                              <a:ext cx="54360" cy="248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31" h="258">
                                  <a:moveTo>
                                    <a:pt x="121" y="0"/>
                                  </a:moveTo>
                                  <a:lnTo>
                                    <a:pt x="125" y="4"/>
                                  </a:lnTo>
                                  <a:lnTo>
                                    <a:pt x="130" y="4"/>
                                  </a:lnTo>
                                  <a:lnTo>
                                    <a:pt x="134" y="4"/>
                                  </a:lnTo>
                                  <a:lnTo>
                                    <a:pt x="138" y="4"/>
                                  </a:lnTo>
                                  <a:lnTo>
                                    <a:pt x="138" y="4"/>
                                  </a:lnTo>
                                  <a:lnTo>
                                    <a:pt x="143" y="4"/>
                                  </a:lnTo>
                                  <a:lnTo>
                                    <a:pt x="147" y="4"/>
                                  </a:lnTo>
                                  <a:lnTo>
                                    <a:pt x="151" y="4"/>
                                  </a:lnTo>
                                  <a:lnTo>
                                    <a:pt x="151" y="86"/>
                                  </a:lnTo>
                                  <a:lnTo>
                                    <a:pt x="177" y="90"/>
                                  </a:lnTo>
                                  <a:lnTo>
                                    <a:pt x="212" y="103"/>
                                  </a:lnTo>
                                  <a:lnTo>
                                    <a:pt x="246" y="120"/>
                                  </a:lnTo>
                                  <a:lnTo>
                                    <a:pt x="281" y="137"/>
                                  </a:lnTo>
                                  <a:lnTo>
                                    <a:pt x="324" y="155"/>
                                  </a:lnTo>
                                  <a:lnTo>
                                    <a:pt x="363" y="172"/>
                                  </a:lnTo>
                                  <a:lnTo>
                                    <a:pt x="406" y="185"/>
                                  </a:lnTo>
                                  <a:lnTo>
                                    <a:pt x="445" y="189"/>
                                  </a:lnTo>
                                  <a:lnTo>
                                    <a:pt x="449" y="193"/>
                                  </a:lnTo>
                                  <a:lnTo>
                                    <a:pt x="453" y="202"/>
                                  </a:lnTo>
                                  <a:lnTo>
                                    <a:pt x="466" y="210"/>
                                  </a:lnTo>
                                  <a:lnTo>
                                    <a:pt x="479" y="219"/>
                                  </a:lnTo>
                                  <a:lnTo>
                                    <a:pt x="492" y="228"/>
                                  </a:lnTo>
                                  <a:lnTo>
                                    <a:pt x="505" y="241"/>
                                  </a:lnTo>
                                  <a:lnTo>
                                    <a:pt x="518" y="249"/>
                                  </a:lnTo>
                                  <a:lnTo>
                                    <a:pt x="531" y="258"/>
                                  </a:lnTo>
                                  <a:lnTo>
                                    <a:pt x="458" y="253"/>
                                  </a:lnTo>
                                  <a:lnTo>
                                    <a:pt x="358" y="232"/>
                                  </a:lnTo>
                                  <a:lnTo>
                                    <a:pt x="225" y="232"/>
                                  </a:lnTo>
                                  <a:lnTo>
                                    <a:pt x="130" y="219"/>
                                  </a:lnTo>
                                  <a:lnTo>
                                    <a:pt x="87" y="198"/>
                                  </a:lnTo>
                                  <a:lnTo>
                                    <a:pt x="13" y="198"/>
                                  </a:lnTo>
                                  <a:lnTo>
                                    <a:pt x="0" y="159"/>
                                  </a:lnTo>
                                  <a:lnTo>
                                    <a:pt x="44" y="38"/>
                                  </a:lnTo>
                                  <a:lnTo>
                                    <a:pt x="121" y="0"/>
                                  </a:lnTo>
                                  <a:close/>
                                </a:path>
                              </a:pathLst>
                            </a:custGeom>
                            <a:blipFill rotWithShape="0">
                              <a:blip r:embed="rId28"/>
                              <a:srcRect/>
                              <a:tile tx="0" ty="0" sx="100000" sy="100000" algn="ctr"/>
                            </a:blipFill>
                            <a:ln w="9360">
                              <a:solidFill>
                                <a:srgbClr val="ffcc99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1960" bIns="-219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09" name=""/>
                          <p:cNvGrpSpPr/>
                          <p:nvPr/>
                        </p:nvGrpSpPr>
                        <p:grpSpPr>
                          <a:xfrm>
                            <a:off x="1423080" y="563400"/>
                            <a:ext cx="531360" cy="687960"/>
                            <a:chOff x="1423080" y="563400"/>
                            <a:chExt cx="531360" cy="687960"/>
                          </a:xfrm>
                        </p:grpSpPr>
                        <p:grpSp>
                          <p:nvGrpSpPr>
                            <p:cNvPr id="110" name=""/>
                            <p:cNvGrpSpPr/>
                            <p:nvPr/>
                          </p:nvGrpSpPr>
                          <p:grpSpPr>
                            <a:xfrm>
                              <a:off x="1553400" y="738360"/>
                              <a:ext cx="271440" cy="86040"/>
                              <a:chOff x="1553400" y="738360"/>
                              <a:chExt cx="271440" cy="86040"/>
                            </a:xfrm>
                          </p:grpSpPr>
                          <p:sp>
                            <p:nvSpPr>
                              <p:cNvPr id="111" name=""/>
                              <p:cNvSpPr/>
                              <p:nvPr/>
                            </p:nvSpPr>
                            <p:spPr>
                              <a:xfrm rot="21327600">
                                <a:off x="1554120" y="764640"/>
                                <a:ext cx="78480" cy="26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68" h="275">
                                    <a:moveTo>
                                      <a:pt x="77" y="129"/>
                                    </a:moveTo>
                                    <a:lnTo>
                                      <a:pt x="86" y="125"/>
                                    </a:lnTo>
                                    <a:lnTo>
                                      <a:pt x="99" y="121"/>
                                    </a:lnTo>
                                    <a:lnTo>
                                      <a:pt x="112" y="112"/>
                                    </a:lnTo>
                                    <a:lnTo>
                                      <a:pt x="129" y="103"/>
                                    </a:lnTo>
                                    <a:lnTo>
                                      <a:pt x="142" y="95"/>
                                    </a:lnTo>
                                    <a:lnTo>
                                      <a:pt x="155" y="86"/>
                                    </a:lnTo>
                                    <a:lnTo>
                                      <a:pt x="168" y="82"/>
                                    </a:lnTo>
                                    <a:lnTo>
                                      <a:pt x="177" y="78"/>
                                    </a:lnTo>
                                    <a:lnTo>
                                      <a:pt x="181" y="60"/>
                                    </a:lnTo>
                                    <a:lnTo>
                                      <a:pt x="194" y="47"/>
                                    </a:lnTo>
                                    <a:lnTo>
                                      <a:pt x="211" y="39"/>
                                    </a:lnTo>
                                    <a:lnTo>
                                      <a:pt x="233" y="26"/>
                                    </a:lnTo>
                                    <a:lnTo>
                                      <a:pt x="293" y="13"/>
                                    </a:lnTo>
                                    <a:lnTo>
                                      <a:pt x="362" y="4"/>
                                    </a:lnTo>
                                    <a:lnTo>
                                      <a:pt x="436" y="0"/>
                                    </a:lnTo>
                                    <a:lnTo>
                                      <a:pt x="500" y="4"/>
                                    </a:lnTo>
                                    <a:lnTo>
                                      <a:pt x="556" y="9"/>
                                    </a:lnTo>
                                    <a:lnTo>
                                      <a:pt x="591" y="17"/>
                                    </a:lnTo>
                                    <a:lnTo>
                                      <a:pt x="591" y="30"/>
                                    </a:lnTo>
                                    <a:lnTo>
                                      <a:pt x="604" y="35"/>
                                    </a:lnTo>
                                    <a:lnTo>
                                      <a:pt x="621" y="43"/>
                                    </a:lnTo>
                                    <a:lnTo>
                                      <a:pt x="638" y="52"/>
                                    </a:lnTo>
                                    <a:lnTo>
                                      <a:pt x="660" y="60"/>
                                    </a:lnTo>
                                    <a:lnTo>
                                      <a:pt x="681" y="73"/>
                                    </a:lnTo>
                                    <a:lnTo>
                                      <a:pt x="699" y="82"/>
                                    </a:lnTo>
                                    <a:lnTo>
                                      <a:pt x="716" y="86"/>
                                    </a:lnTo>
                                    <a:lnTo>
                                      <a:pt x="729" y="86"/>
                                    </a:lnTo>
                                    <a:lnTo>
                                      <a:pt x="733" y="90"/>
                                    </a:lnTo>
                                    <a:lnTo>
                                      <a:pt x="738" y="95"/>
                                    </a:lnTo>
                                    <a:lnTo>
                                      <a:pt x="742" y="103"/>
                                    </a:lnTo>
                                    <a:lnTo>
                                      <a:pt x="751" y="108"/>
                                    </a:lnTo>
                                    <a:lnTo>
                                      <a:pt x="755" y="112"/>
                                    </a:lnTo>
                                    <a:lnTo>
                                      <a:pt x="759" y="112"/>
                                    </a:lnTo>
                                    <a:lnTo>
                                      <a:pt x="763" y="116"/>
                                    </a:lnTo>
                                    <a:lnTo>
                                      <a:pt x="768" y="116"/>
                                    </a:lnTo>
                                    <a:lnTo>
                                      <a:pt x="768" y="224"/>
                                    </a:lnTo>
                                    <a:lnTo>
                                      <a:pt x="742" y="245"/>
                                    </a:lnTo>
                                    <a:lnTo>
                                      <a:pt x="703" y="262"/>
                                    </a:lnTo>
                                    <a:lnTo>
                                      <a:pt x="656" y="271"/>
                                    </a:lnTo>
                                    <a:lnTo>
                                      <a:pt x="604" y="275"/>
                                    </a:lnTo>
                                    <a:lnTo>
                                      <a:pt x="552" y="275"/>
                                    </a:lnTo>
                                    <a:lnTo>
                                      <a:pt x="500" y="271"/>
                                    </a:lnTo>
                                    <a:lnTo>
                                      <a:pt x="457" y="262"/>
                                    </a:lnTo>
                                    <a:lnTo>
                                      <a:pt x="423" y="245"/>
                                    </a:lnTo>
                                    <a:lnTo>
                                      <a:pt x="423" y="237"/>
                                    </a:lnTo>
                                    <a:lnTo>
                                      <a:pt x="418" y="237"/>
                                    </a:lnTo>
                                    <a:lnTo>
                                      <a:pt x="410" y="237"/>
                                    </a:lnTo>
                                    <a:lnTo>
                                      <a:pt x="401" y="237"/>
                                    </a:lnTo>
                                    <a:lnTo>
                                      <a:pt x="388" y="237"/>
                                    </a:lnTo>
                                    <a:lnTo>
                                      <a:pt x="379" y="237"/>
                                    </a:lnTo>
                                    <a:lnTo>
                                      <a:pt x="371" y="241"/>
                                    </a:lnTo>
                                    <a:lnTo>
                                      <a:pt x="367" y="241"/>
                                    </a:lnTo>
                                    <a:lnTo>
                                      <a:pt x="362" y="245"/>
                                    </a:lnTo>
                                    <a:lnTo>
                                      <a:pt x="47" y="245"/>
                                    </a:lnTo>
                                    <a:lnTo>
                                      <a:pt x="43" y="245"/>
                                    </a:lnTo>
                                    <a:lnTo>
                                      <a:pt x="43" y="245"/>
                                    </a:lnTo>
                                    <a:lnTo>
                                      <a:pt x="39" y="241"/>
                                    </a:lnTo>
                                    <a:lnTo>
                                      <a:pt x="34" y="241"/>
                                    </a:lnTo>
                                    <a:lnTo>
                                      <a:pt x="30" y="237"/>
                                    </a:lnTo>
                                    <a:lnTo>
                                      <a:pt x="26" y="237"/>
                                    </a:lnTo>
                                    <a:lnTo>
                                      <a:pt x="21" y="237"/>
                                    </a:lnTo>
                                    <a:lnTo>
                                      <a:pt x="17" y="237"/>
                                    </a:lnTo>
                                    <a:lnTo>
                                      <a:pt x="0" y="215"/>
                                    </a:lnTo>
                                    <a:lnTo>
                                      <a:pt x="0" y="176"/>
                                    </a:lnTo>
                                    <a:lnTo>
                                      <a:pt x="4" y="172"/>
                                    </a:lnTo>
                                    <a:lnTo>
                                      <a:pt x="8" y="168"/>
                                    </a:lnTo>
                                    <a:lnTo>
                                      <a:pt x="13" y="164"/>
                                    </a:lnTo>
                                    <a:lnTo>
                                      <a:pt x="17" y="155"/>
                                    </a:lnTo>
                                    <a:lnTo>
                                      <a:pt x="21" y="151"/>
                                    </a:lnTo>
                                    <a:lnTo>
                                      <a:pt x="26" y="142"/>
                                    </a:lnTo>
                                    <a:lnTo>
                                      <a:pt x="30" y="133"/>
                                    </a:lnTo>
                                    <a:lnTo>
                                      <a:pt x="30" y="129"/>
                                    </a:lnTo>
                                    <a:lnTo>
                                      <a:pt x="34" y="125"/>
                                    </a:lnTo>
                                    <a:lnTo>
                                      <a:pt x="39" y="121"/>
                                    </a:lnTo>
                                    <a:lnTo>
                                      <a:pt x="47" y="116"/>
                                    </a:lnTo>
                                    <a:lnTo>
                                      <a:pt x="52" y="108"/>
                                    </a:lnTo>
                                    <a:lnTo>
                                      <a:pt x="60" y="103"/>
                                    </a:lnTo>
                                    <a:lnTo>
                                      <a:pt x="69" y="108"/>
                                    </a:lnTo>
                                    <a:lnTo>
                                      <a:pt x="73" y="112"/>
                                    </a:lnTo>
                                    <a:lnTo>
                                      <a:pt x="77" y="129"/>
                                    </a:lnTo>
                                    <a:close/>
                                  </a:path>
                                </a:pathLst>
                              </a:custGeom>
                              <a:blipFill rotWithShape="0">
                                <a:blip r:embed="rId29"/>
                                <a:srcRect/>
                                <a:tile tx="0" ty="0" sx="100000" sy="100000" algn="ctr"/>
                              </a:blip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0160" bIns="-20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12" name=""/>
                              <p:cNvSpPr/>
                              <p:nvPr/>
                            </p:nvSpPr>
                            <p:spPr>
                              <a:xfrm rot="21327600">
                                <a:off x="1681560" y="743760"/>
                                <a:ext cx="140400" cy="752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72" h="778">
                                    <a:moveTo>
                                      <a:pt x="39" y="95"/>
                                    </a:moveTo>
                                    <a:lnTo>
                                      <a:pt x="86" y="65"/>
                                    </a:lnTo>
                                    <a:lnTo>
                                      <a:pt x="134" y="39"/>
                                    </a:lnTo>
                                    <a:lnTo>
                                      <a:pt x="190" y="22"/>
                                    </a:lnTo>
                                    <a:lnTo>
                                      <a:pt x="246" y="9"/>
                                    </a:lnTo>
                                    <a:lnTo>
                                      <a:pt x="306" y="0"/>
                                    </a:lnTo>
                                    <a:lnTo>
                                      <a:pt x="371" y="0"/>
                                    </a:lnTo>
                                    <a:lnTo>
                                      <a:pt x="431" y="0"/>
                                    </a:lnTo>
                                    <a:lnTo>
                                      <a:pt x="496" y="9"/>
                                    </a:lnTo>
                                    <a:lnTo>
                                      <a:pt x="561" y="17"/>
                                    </a:lnTo>
                                    <a:lnTo>
                                      <a:pt x="626" y="30"/>
                                    </a:lnTo>
                                    <a:lnTo>
                                      <a:pt x="686" y="47"/>
                                    </a:lnTo>
                                    <a:lnTo>
                                      <a:pt x="742" y="69"/>
                                    </a:lnTo>
                                    <a:lnTo>
                                      <a:pt x="798" y="95"/>
                                    </a:lnTo>
                                    <a:lnTo>
                                      <a:pt x="850" y="121"/>
                                    </a:lnTo>
                                    <a:lnTo>
                                      <a:pt x="897" y="146"/>
                                    </a:lnTo>
                                    <a:lnTo>
                                      <a:pt x="936" y="176"/>
                                    </a:lnTo>
                                    <a:lnTo>
                                      <a:pt x="936" y="198"/>
                                    </a:lnTo>
                                    <a:lnTo>
                                      <a:pt x="962" y="211"/>
                                    </a:lnTo>
                                    <a:lnTo>
                                      <a:pt x="992" y="228"/>
                                    </a:lnTo>
                                    <a:lnTo>
                                      <a:pt x="1027" y="241"/>
                                    </a:lnTo>
                                    <a:lnTo>
                                      <a:pt x="1066" y="254"/>
                                    </a:lnTo>
                                    <a:lnTo>
                                      <a:pt x="1148" y="284"/>
                                    </a:lnTo>
                                    <a:lnTo>
                                      <a:pt x="1234" y="318"/>
                                    </a:lnTo>
                                    <a:lnTo>
                                      <a:pt x="1273" y="336"/>
                                    </a:lnTo>
                                    <a:lnTo>
                                      <a:pt x="1307" y="357"/>
                                    </a:lnTo>
                                    <a:lnTo>
                                      <a:pt x="1333" y="379"/>
                                    </a:lnTo>
                                    <a:lnTo>
                                      <a:pt x="1355" y="404"/>
                                    </a:lnTo>
                                    <a:lnTo>
                                      <a:pt x="1363" y="422"/>
                                    </a:lnTo>
                                    <a:lnTo>
                                      <a:pt x="1368" y="434"/>
                                    </a:lnTo>
                                    <a:lnTo>
                                      <a:pt x="1372" y="452"/>
                                    </a:lnTo>
                                    <a:lnTo>
                                      <a:pt x="1372" y="469"/>
                                    </a:lnTo>
                                    <a:lnTo>
                                      <a:pt x="1372" y="486"/>
                                    </a:lnTo>
                                    <a:lnTo>
                                      <a:pt x="1368" y="503"/>
                                    </a:lnTo>
                                    <a:lnTo>
                                      <a:pt x="1359" y="520"/>
                                    </a:lnTo>
                                    <a:lnTo>
                                      <a:pt x="1346" y="542"/>
                                    </a:lnTo>
                                    <a:lnTo>
                                      <a:pt x="1316" y="546"/>
                                    </a:lnTo>
                                    <a:lnTo>
                                      <a:pt x="1286" y="551"/>
                                    </a:lnTo>
                                    <a:lnTo>
                                      <a:pt x="1255" y="563"/>
                                    </a:lnTo>
                                    <a:lnTo>
                                      <a:pt x="1225" y="572"/>
                                    </a:lnTo>
                                    <a:lnTo>
                                      <a:pt x="1191" y="585"/>
                                    </a:lnTo>
                                    <a:lnTo>
                                      <a:pt x="1161" y="594"/>
                                    </a:lnTo>
                                    <a:lnTo>
                                      <a:pt x="1130" y="602"/>
                                    </a:lnTo>
                                    <a:lnTo>
                                      <a:pt x="1100" y="602"/>
                                    </a:lnTo>
                                    <a:lnTo>
                                      <a:pt x="1070" y="632"/>
                                    </a:lnTo>
                                    <a:lnTo>
                                      <a:pt x="1027" y="662"/>
                                    </a:lnTo>
                                    <a:lnTo>
                                      <a:pt x="971" y="697"/>
                                    </a:lnTo>
                                    <a:lnTo>
                                      <a:pt x="910" y="731"/>
                                    </a:lnTo>
                                    <a:lnTo>
                                      <a:pt x="850" y="757"/>
                                    </a:lnTo>
                                    <a:lnTo>
                                      <a:pt x="790" y="774"/>
                                    </a:lnTo>
                                    <a:lnTo>
                                      <a:pt x="764" y="778"/>
                                    </a:lnTo>
                                    <a:lnTo>
                                      <a:pt x="738" y="778"/>
                                    </a:lnTo>
                                    <a:lnTo>
                                      <a:pt x="712" y="774"/>
                                    </a:lnTo>
                                    <a:lnTo>
                                      <a:pt x="695" y="766"/>
                                    </a:lnTo>
                                    <a:lnTo>
                                      <a:pt x="695" y="744"/>
                                    </a:lnTo>
                                    <a:lnTo>
                                      <a:pt x="664" y="731"/>
                                    </a:lnTo>
                                    <a:lnTo>
                                      <a:pt x="630" y="718"/>
                                    </a:lnTo>
                                    <a:lnTo>
                                      <a:pt x="582" y="701"/>
                                    </a:lnTo>
                                    <a:lnTo>
                                      <a:pt x="539" y="688"/>
                                    </a:lnTo>
                                    <a:lnTo>
                                      <a:pt x="492" y="680"/>
                                    </a:lnTo>
                                    <a:lnTo>
                                      <a:pt x="444" y="671"/>
                                    </a:lnTo>
                                    <a:lnTo>
                                      <a:pt x="401" y="667"/>
                                    </a:lnTo>
                                    <a:lnTo>
                                      <a:pt x="367" y="667"/>
                                    </a:lnTo>
                                    <a:lnTo>
                                      <a:pt x="345" y="645"/>
                                    </a:lnTo>
                                    <a:lnTo>
                                      <a:pt x="315" y="624"/>
                                    </a:lnTo>
                                    <a:lnTo>
                                      <a:pt x="280" y="602"/>
                                    </a:lnTo>
                                    <a:lnTo>
                                      <a:pt x="242" y="576"/>
                                    </a:lnTo>
                                    <a:lnTo>
                                      <a:pt x="203" y="555"/>
                                    </a:lnTo>
                                    <a:lnTo>
                                      <a:pt x="164" y="538"/>
                                    </a:lnTo>
                                    <a:lnTo>
                                      <a:pt x="129" y="529"/>
                                    </a:lnTo>
                                    <a:lnTo>
                                      <a:pt x="104" y="520"/>
                                    </a:lnTo>
                                    <a:lnTo>
                                      <a:pt x="99" y="499"/>
                                    </a:lnTo>
                                    <a:lnTo>
                                      <a:pt x="91" y="482"/>
                                    </a:lnTo>
                                    <a:lnTo>
                                      <a:pt x="82" y="460"/>
                                    </a:lnTo>
                                    <a:lnTo>
                                      <a:pt x="69" y="443"/>
                                    </a:lnTo>
                                    <a:lnTo>
                                      <a:pt x="60" y="422"/>
                                    </a:lnTo>
                                    <a:lnTo>
                                      <a:pt x="52" y="404"/>
                                    </a:lnTo>
                                    <a:lnTo>
                                      <a:pt x="43" y="383"/>
                                    </a:lnTo>
                                    <a:lnTo>
                                      <a:pt x="39" y="361"/>
                                    </a:lnTo>
                                    <a:lnTo>
                                      <a:pt x="35" y="357"/>
                                    </a:lnTo>
                                    <a:lnTo>
                                      <a:pt x="26" y="353"/>
                                    </a:lnTo>
                                    <a:lnTo>
                                      <a:pt x="22" y="344"/>
                                    </a:lnTo>
                                    <a:lnTo>
                                      <a:pt x="17" y="336"/>
                                    </a:lnTo>
                                    <a:lnTo>
                                      <a:pt x="9" y="305"/>
                                    </a:lnTo>
                                    <a:lnTo>
                                      <a:pt x="4" y="275"/>
                                    </a:lnTo>
                                    <a:lnTo>
                                      <a:pt x="0" y="241"/>
                                    </a:lnTo>
                                    <a:lnTo>
                                      <a:pt x="0" y="207"/>
                                    </a:lnTo>
                                    <a:lnTo>
                                      <a:pt x="0" y="176"/>
                                    </a:lnTo>
                                    <a:lnTo>
                                      <a:pt x="0" y="155"/>
                                    </a:lnTo>
                                    <a:lnTo>
                                      <a:pt x="9" y="155"/>
                                    </a:lnTo>
                                    <a:lnTo>
                                      <a:pt x="13" y="142"/>
                                    </a:lnTo>
                                    <a:lnTo>
                                      <a:pt x="22" y="129"/>
                                    </a:lnTo>
                                    <a:lnTo>
                                      <a:pt x="26" y="112"/>
                                    </a:lnTo>
                                    <a:lnTo>
                                      <a:pt x="35" y="95"/>
                                    </a:lnTo>
                                    <a:lnTo>
                                      <a:pt x="39" y="78"/>
                                    </a:lnTo>
                                    <a:lnTo>
                                      <a:pt x="39" y="65"/>
                                    </a:lnTo>
                                    <a:lnTo>
                                      <a:pt x="39" y="56"/>
                                    </a:lnTo>
                                    <a:lnTo>
                                      <a:pt x="39" y="95"/>
                                    </a:lnTo>
                                    <a:close/>
                                  </a:path>
                                </a:pathLst>
                              </a:custGeom>
                              <a:blipFill rotWithShape="0">
                                <a:blip r:embed="rId30"/>
                                <a:srcRect/>
                                <a:tile tx="0" ty="0" sx="100000" sy="100000" algn="ctr"/>
                              </a:blip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28440" bIns="284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13" name=""/>
                              <p:cNvSpPr/>
                              <p:nvPr/>
                            </p:nvSpPr>
                            <p:spPr>
                              <a:xfrm rot="21327600">
                                <a:off x="1706040" y="753480"/>
                                <a:ext cx="84240" cy="453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824" h="469">
                                    <a:moveTo>
                                      <a:pt x="26" y="56"/>
                                    </a:moveTo>
                                    <a:lnTo>
                                      <a:pt x="51" y="39"/>
                                    </a:lnTo>
                                    <a:lnTo>
                                      <a:pt x="82" y="22"/>
                                    </a:lnTo>
                                    <a:lnTo>
                                      <a:pt x="116" y="13"/>
                                    </a:lnTo>
                                    <a:lnTo>
                                      <a:pt x="151" y="5"/>
                                    </a:lnTo>
                                    <a:lnTo>
                                      <a:pt x="185" y="0"/>
                                    </a:lnTo>
                                    <a:lnTo>
                                      <a:pt x="224" y="0"/>
                                    </a:lnTo>
                                    <a:lnTo>
                                      <a:pt x="263" y="0"/>
                                    </a:lnTo>
                                    <a:lnTo>
                                      <a:pt x="302" y="5"/>
                                    </a:lnTo>
                                    <a:lnTo>
                                      <a:pt x="375" y="18"/>
                                    </a:lnTo>
                                    <a:lnTo>
                                      <a:pt x="448" y="43"/>
                                    </a:lnTo>
                                    <a:lnTo>
                                      <a:pt x="483" y="56"/>
                                    </a:lnTo>
                                    <a:lnTo>
                                      <a:pt x="513" y="69"/>
                                    </a:lnTo>
                                    <a:lnTo>
                                      <a:pt x="539" y="86"/>
                                    </a:lnTo>
                                    <a:lnTo>
                                      <a:pt x="565" y="104"/>
                                    </a:lnTo>
                                    <a:lnTo>
                                      <a:pt x="565" y="108"/>
                                    </a:lnTo>
                                    <a:lnTo>
                                      <a:pt x="565" y="108"/>
                                    </a:lnTo>
                                    <a:lnTo>
                                      <a:pt x="565" y="112"/>
                                    </a:lnTo>
                                    <a:lnTo>
                                      <a:pt x="565" y="112"/>
                                    </a:lnTo>
                                    <a:lnTo>
                                      <a:pt x="565" y="112"/>
                                    </a:lnTo>
                                    <a:lnTo>
                                      <a:pt x="565" y="116"/>
                                    </a:lnTo>
                                    <a:lnTo>
                                      <a:pt x="565" y="116"/>
                                    </a:lnTo>
                                    <a:lnTo>
                                      <a:pt x="565" y="116"/>
                                    </a:lnTo>
                                    <a:lnTo>
                                      <a:pt x="595" y="134"/>
                                    </a:lnTo>
                                    <a:lnTo>
                                      <a:pt x="642" y="151"/>
                                    </a:lnTo>
                                    <a:lnTo>
                                      <a:pt x="690" y="168"/>
                                    </a:lnTo>
                                    <a:lnTo>
                                      <a:pt x="742" y="190"/>
                                    </a:lnTo>
                                    <a:lnTo>
                                      <a:pt x="763" y="202"/>
                                    </a:lnTo>
                                    <a:lnTo>
                                      <a:pt x="785" y="215"/>
                                    </a:lnTo>
                                    <a:lnTo>
                                      <a:pt x="802" y="228"/>
                                    </a:lnTo>
                                    <a:lnTo>
                                      <a:pt x="815" y="241"/>
                                    </a:lnTo>
                                    <a:lnTo>
                                      <a:pt x="824" y="258"/>
                                    </a:lnTo>
                                    <a:lnTo>
                                      <a:pt x="824" y="280"/>
                                    </a:lnTo>
                                    <a:lnTo>
                                      <a:pt x="819" y="301"/>
                                    </a:lnTo>
                                    <a:lnTo>
                                      <a:pt x="811" y="327"/>
                                    </a:lnTo>
                                    <a:lnTo>
                                      <a:pt x="789" y="327"/>
                                    </a:lnTo>
                                    <a:lnTo>
                                      <a:pt x="772" y="331"/>
                                    </a:lnTo>
                                    <a:lnTo>
                                      <a:pt x="755" y="336"/>
                                    </a:lnTo>
                                    <a:lnTo>
                                      <a:pt x="737" y="344"/>
                                    </a:lnTo>
                                    <a:lnTo>
                                      <a:pt x="716" y="349"/>
                                    </a:lnTo>
                                    <a:lnTo>
                                      <a:pt x="699" y="357"/>
                                    </a:lnTo>
                                    <a:lnTo>
                                      <a:pt x="681" y="362"/>
                                    </a:lnTo>
                                    <a:lnTo>
                                      <a:pt x="664" y="362"/>
                                    </a:lnTo>
                                    <a:lnTo>
                                      <a:pt x="642" y="379"/>
                                    </a:lnTo>
                                    <a:lnTo>
                                      <a:pt x="617" y="396"/>
                                    </a:lnTo>
                                    <a:lnTo>
                                      <a:pt x="586" y="417"/>
                                    </a:lnTo>
                                    <a:lnTo>
                                      <a:pt x="548" y="439"/>
                                    </a:lnTo>
                                    <a:lnTo>
                                      <a:pt x="513" y="456"/>
                                    </a:lnTo>
                                    <a:lnTo>
                                      <a:pt x="474" y="465"/>
                                    </a:lnTo>
                                    <a:lnTo>
                                      <a:pt x="461" y="469"/>
                                    </a:lnTo>
                                    <a:lnTo>
                                      <a:pt x="444" y="469"/>
                                    </a:lnTo>
                                    <a:lnTo>
                                      <a:pt x="431" y="465"/>
                                    </a:lnTo>
                                    <a:lnTo>
                                      <a:pt x="418" y="460"/>
                                    </a:lnTo>
                                    <a:lnTo>
                                      <a:pt x="418" y="456"/>
                                    </a:lnTo>
                                    <a:lnTo>
                                      <a:pt x="418" y="456"/>
                                    </a:lnTo>
                                    <a:lnTo>
                                      <a:pt x="418" y="456"/>
                                    </a:lnTo>
                                    <a:lnTo>
                                      <a:pt x="418" y="452"/>
                                    </a:lnTo>
                                    <a:lnTo>
                                      <a:pt x="418" y="452"/>
                                    </a:lnTo>
                                    <a:lnTo>
                                      <a:pt x="418" y="452"/>
                                    </a:lnTo>
                                    <a:lnTo>
                                      <a:pt x="418" y="448"/>
                                    </a:lnTo>
                                    <a:lnTo>
                                      <a:pt x="418" y="448"/>
                                    </a:lnTo>
                                    <a:lnTo>
                                      <a:pt x="401" y="439"/>
                                    </a:lnTo>
                                    <a:lnTo>
                                      <a:pt x="379" y="430"/>
                                    </a:lnTo>
                                    <a:lnTo>
                                      <a:pt x="353" y="422"/>
                                    </a:lnTo>
                                    <a:lnTo>
                                      <a:pt x="323" y="413"/>
                                    </a:lnTo>
                                    <a:lnTo>
                                      <a:pt x="297" y="409"/>
                                    </a:lnTo>
                                    <a:lnTo>
                                      <a:pt x="267" y="405"/>
                                    </a:lnTo>
                                    <a:lnTo>
                                      <a:pt x="241" y="400"/>
                                    </a:lnTo>
                                    <a:lnTo>
                                      <a:pt x="220" y="400"/>
                                    </a:lnTo>
                                    <a:lnTo>
                                      <a:pt x="211" y="387"/>
                                    </a:lnTo>
                                    <a:lnTo>
                                      <a:pt x="194" y="374"/>
                                    </a:lnTo>
                                    <a:lnTo>
                                      <a:pt x="172" y="362"/>
                                    </a:lnTo>
                                    <a:lnTo>
                                      <a:pt x="146" y="344"/>
                                    </a:lnTo>
                                    <a:lnTo>
                                      <a:pt x="125" y="331"/>
                                    </a:lnTo>
                                    <a:lnTo>
                                      <a:pt x="99" y="323"/>
                                    </a:lnTo>
                                    <a:lnTo>
                                      <a:pt x="77" y="314"/>
                                    </a:lnTo>
                                    <a:lnTo>
                                      <a:pt x="64" y="314"/>
                                    </a:lnTo>
                                    <a:lnTo>
                                      <a:pt x="60" y="301"/>
                                    </a:lnTo>
                                    <a:lnTo>
                                      <a:pt x="56" y="288"/>
                                    </a:lnTo>
                                    <a:lnTo>
                                      <a:pt x="51" y="276"/>
                                    </a:lnTo>
                                    <a:lnTo>
                                      <a:pt x="43" y="263"/>
                                    </a:lnTo>
                                    <a:lnTo>
                                      <a:pt x="38" y="254"/>
                                    </a:lnTo>
                                    <a:lnTo>
                                      <a:pt x="30" y="241"/>
                                    </a:lnTo>
                                    <a:lnTo>
                                      <a:pt x="26" y="228"/>
                                    </a:lnTo>
                                    <a:lnTo>
                                      <a:pt x="26" y="215"/>
                                    </a:lnTo>
                                    <a:lnTo>
                                      <a:pt x="17" y="211"/>
                                    </a:lnTo>
                                    <a:lnTo>
                                      <a:pt x="13" y="198"/>
                                    </a:lnTo>
                                    <a:lnTo>
                                      <a:pt x="8" y="185"/>
                                    </a:lnTo>
                                    <a:lnTo>
                                      <a:pt x="4" y="164"/>
                                    </a:lnTo>
                                    <a:lnTo>
                                      <a:pt x="4" y="142"/>
                                    </a:lnTo>
                                    <a:lnTo>
                                      <a:pt x="4" y="121"/>
                                    </a:lnTo>
                                    <a:lnTo>
                                      <a:pt x="0" y="104"/>
                                    </a:lnTo>
                                    <a:lnTo>
                                      <a:pt x="0" y="95"/>
                                    </a:lnTo>
                                    <a:lnTo>
                                      <a:pt x="4" y="91"/>
                                    </a:lnTo>
                                    <a:lnTo>
                                      <a:pt x="13" y="86"/>
                                    </a:lnTo>
                                    <a:lnTo>
                                      <a:pt x="13" y="78"/>
                                    </a:lnTo>
                                    <a:lnTo>
                                      <a:pt x="17" y="69"/>
                                    </a:lnTo>
                                    <a:lnTo>
                                      <a:pt x="21" y="56"/>
                                    </a:lnTo>
                                    <a:lnTo>
                                      <a:pt x="26" y="48"/>
                                    </a:lnTo>
                                    <a:lnTo>
                                      <a:pt x="26" y="39"/>
                                    </a:lnTo>
                                    <a:lnTo>
                                      <a:pt x="26" y="30"/>
                                    </a:lnTo>
                                    <a:lnTo>
                                      <a:pt x="26" y="35"/>
                                    </a:lnTo>
                                    <a:lnTo>
                                      <a:pt x="26" y="39"/>
                                    </a:lnTo>
                                    <a:lnTo>
                                      <a:pt x="26" y="43"/>
                                    </a:lnTo>
                                    <a:lnTo>
                                      <a:pt x="26" y="43"/>
                                    </a:lnTo>
                                    <a:lnTo>
                                      <a:pt x="26" y="48"/>
                                    </a:lnTo>
                                    <a:lnTo>
                                      <a:pt x="26" y="52"/>
                                    </a:lnTo>
                                    <a:lnTo>
                                      <a:pt x="26" y="52"/>
                                    </a:lnTo>
                                    <a:lnTo>
                                      <a:pt x="26" y="56"/>
                                    </a:lnTo>
                                    <a:close/>
                                  </a:path>
                                </a:pathLst>
                              </a:custGeom>
                              <a:blipFill rotWithShape="0">
                                <a:blip r:embed="rId31"/>
                                <a:srcRect/>
                                <a:tile tx="0" ty="0" sx="100000" sy="100000" algn="ctr"/>
                              </a:blip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440" bIns="-14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14" name=""/>
                            <p:cNvGrpSpPr/>
                            <p:nvPr/>
                          </p:nvGrpSpPr>
                          <p:grpSpPr>
                            <a:xfrm>
                              <a:off x="1423080" y="563400"/>
                              <a:ext cx="531360" cy="687960"/>
                              <a:chOff x="1423080" y="563400"/>
                              <a:chExt cx="531360" cy="687960"/>
                            </a:xfrm>
                          </p:grpSpPr>
                          <p:grpSp>
                            <p:nvGrpSpPr>
                              <p:cNvPr id="115" name=""/>
                              <p:cNvGrpSpPr/>
                              <p:nvPr/>
                            </p:nvGrpSpPr>
                            <p:grpSpPr>
                              <a:xfrm>
                                <a:off x="1462320" y="614520"/>
                                <a:ext cx="492120" cy="464040"/>
                                <a:chOff x="1462320" y="614520"/>
                                <a:chExt cx="492120" cy="464040"/>
                              </a:xfrm>
                            </p:grpSpPr>
                            <p:sp>
                              <p:nvSpPr>
                                <p:cNvPr id="116" name=""/>
                                <p:cNvSpPr/>
                                <p:nvPr/>
                              </p:nvSpPr>
                              <p:spPr>
                                <a:xfrm rot="21327600">
                                  <a:off x="1778400" y="802800"/>
                                  <a:ext cx="77040" cy="1476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755" h="1526">
                                      <a:moveTo>
                                        <a:pt x="39" y="774"/>
                                      </a:moveTo>
                                      <a:lnTo>
                                        <a:pt x="69" y="855"/>
                                      </a:lnTo>
                                      <a:lnTo>
                                        <a:pt x="95" y="946"/>
                                      </a:lnTo>
                                      <a:lnTo>
                                        <a:pt x="116" y="1040"/>
                                      </a:lnTo>
                                      <a:lnTo>
                                        <a:pt x="133" y="1143"/>
                                      </a:lnTo>
                                      <a:lnTo>
                                        <a:pt x="146" y="1242"/>
                                      </a:lnTo>
                                      <a:lnTo>
                                        <a:pt x="155" y="1341"/>
                                      </a:lnTo>
                                      <a:lnTo>
                                        <a:pt x="159" y="1436"/>
                                      </a:lnTo>
                                      <a:lnTo>
                                        <a:pt x="164" y="1526"/>
                                      </a:lnTo>
                                      <a:lnTo>
                                        <a:pt x="190" y="1492"/>
                                      </a:lnTo>
                                      <a:lnTo>
                                        <a:pt x="211" y="1462"/>
                                      </a:lnTo>
                                      <a:lnTo>
                                        <a:pt x="228" y="1427"/>
                                      </a:lnTo>
                                      <a:lnTo>
                                        <a:pt x="237" y="1388"/>
                                      </a:lnTo>
                                      <a:lnTo>
                                        <a:pt x="246" y="1354"/>
                                      </a:lnTo>
                                      <a:lnTo>
                                        <a:pt x="246" y="1315"/>
                                      </a:lnTo>
                                      <a:lnTo>
                                        <a:pt x="246" y="1277"/>
                                      </a:lnTo>
                                      <a:lnTo>
                                        <a:pt x="246" y="1238"/>
                                      </a:lnTo>
                                      <a:lnTo>
                                        <a:pt x="233" y="1161"/>
                                      </a:lnTo>
                                      <a:lnTo>
                                        <a:pt x="220" y="1083"/>
                                      </a:lnTo>
                                      <a:lnTo>
                                        <a:pt x="207" y="1006"/>
                                      </a:lnTo>
                                      <a:lnTo>
                                        <a:pt x="202" y="937"/>
                                      </a:lnTo>
                                      <a:lnTo>
                                        <a:pt x="215" y="937"/>
                                      </a:lnTo>
                                      <a:lnTo>
                                        <a:pt x="228" y="946"/>
                                      </a:lnTo>
                                      <a:lnTo>
                                        <a:pt x="246" y="954"/>
                                      </a:lnTo>
                                      <a:lnTo>
                                        <a:pt x="263" y="967"/>
                                      </a:lnTo>
                                      <a:lnTo>
                                        <a:pt x="302" y="1001"/>
                                      </a:lnTo>
                                      <a:lnTo>
                                        <a:pt x="345" y="1044"/>
                                      </a:lnTo>
                                      <a:lnTo>
                                        <a:pt x="384" y="1083"/>
                                      </a:lnTo>
                                      <a:lnTo>
                                        <a:pt x="418" y="1126"/>
                                      </a:lnTo>
                                      <a:lnTo>
                                        <a:pt x="448" y="1156"/>
                                      </a:lnTo>
                                      <a:lnTo>
                                        <a:pt x="470" y="1178"/>
                                      </a:lnTo>
                                      <a:lnTo>
                                        <a:pt x="470" y="1139"/>
                                      </a:lnTo>
                                      <a:lnTo>
                                        <a:pt x="470" y="1092"/>
                                      </a:lnTo>
                                      <a:lnTo>
                                        <a:pt x="470" y="1044"/>
                                      </a:lnTo>
                                      <a:lnTo>
                                        <a:pt x="474" y="997"/>
                                      </a:lnTo>
                                      <a:lnTo>
                                        <a:pt x="479" y="946"/>
                                      </a:lnTo>
                                      <a:lnTo>
                                        <a:pt x="487" y="898"/>
                                      </a:lnTo>
                                      <a:lnTo>
                                        <a:pt x="496" y="855"/>
                                      </a:lnTo>
                                      <a:lnTo>
                                        <a:pt x="509" y="812"/>
                                      </a:lnTo>
                                      <a:lnTo>
                                        <a:pt x="504" y="804"/>
                                      </a:lnTo>
                                      <a:lnTo>
                                        <a:pt x="500" y="791"/>
                                      </a:lnTo>
                                      <a:lnTo>
                                        <a:pt x="492" y="774"/>
                                      </a:lnTo>
                                      <a:lnTo>
                                        <a:pt x="479" y="752"/>
                                      </a:lnTo>
                                      <a:lnTo>
                                        <a:pt x="466" y="735"/>
                                      </a:lnTo>
                                      <a:lnTo>
                                        <a:pt x="457" y="718"/>
                                      </a:lnTo>
                                      <a:lnTo>
                                        <a:pt x="448" y="700"/>
                                      </a:lnTo>
                                      <a:lnTo>
                                        <a:pt x="448" y="692"/>
                                      </a:lnTo>
                                      <a:lnTo>
                                        <a:pt x="569" y="692"/>
                                      </a:lnTo>
                                      <a:lnTo>
                                        <a:pt x="591" y="365"/>
                                      </a:lnTo>
                                      <a:lnTo>
                                        <a:pt x="604" y="369"/>
                                      </a:lnTo>
                                      <a:lnTo>
                                        <a:pt x="621" y="378"/>
                                      </a:lnTo>
                                      <a:lnTo>
                                        <a:pt x="638" y="391"/>
                                      </a:lnTo>
                                      <a:lnTo>
                                        <a:pt x="651" y="408"/>
                                      </a:lnTo>
                                      <a:lnTo>
                                        <a:pt x="668" y="421"/>
                                      </a:lnTo>
                                      <a:lnTo>
                                        <a:pt x="681" y="434"/>
                                      </a:lnTo>
                                      <a:lnTo>
                                        <a:pt x="699" y="442"/>
                                      </a:lnTo>
                                      <a:lnTo>
                                        <a:pt x="712" y="447"/>
                                      </a:lnTo>
                                      <a:lnTo>
                                        <a:pt x="707" y="447"/>
                                      </a:lnTo>
                                      <a:lnTo>
                                        <a:pt x="699" y="438"/>
                                      </a:lnTo>
                                      <a:lnTo>
                                        <a:pt x="694" y="430"/>
                                      </a:lnTo>
                                      <a:lnTo>
                                        <a:pt x="690" y="417"/>
                                      </a:lnTo>
                                      <a:lnTo>
                                        <a:pt x="681" y="387"/>
                                      </a:lnTo>
                                      <a:lnTo>
                                        <a:pt x="673" y="352"/>
                                      </a:lnTo>
                                      <a:lnTo>
                                        <a:pt x="668" y="313"/>
                                      </a:lnTo>
                                      <a:lnTo>
                                        <a:pt x="664" y="275"/>
                                      </a:lnTo>
                                      <a:lnTo>
                                        <a:pt x="660" y="245"/>
                                      </a:lnTo>
                                      <a:lnTo>
                                        <a:pt x="651" y="223"/>
                                      </a:lnTo>
                                      <a:lnTo>
                                        <a:pt x="660" y="215"/>
                                      </a:lnTo>
                                      <a:lnTo>
                                        <a:pt x="668" y="210"/>
                                      </a:lnTo>
                                      <a:lnTo>
                                        <a:pt x="681" y="202"/>
                                      </a:lnTo>
                                      <a:lnTo>
                                        <a:pt x="694" y="197"/>
                                      </a:lnTo>
                                      <a:lnTo>
                                        <a:pt x="707" y="193"/>
                                      </a:lnTo>
                                      <a:lnTo>
                                        <a:pt x="724" y="189"/>
                                      </a:lnTo>
                                      <a:lnTo>
                                        <a:pt x="737" y="184"/>
                                      </a:lnTo>
                                      <a:lnTo>
                                        <a:pt x="755" y="184"/>
                                      </a:lnTo>
                                      <a:lnTo>
                                        <a:pt x="750" y="163"/>
                                      </a:lnTo>
                                      <a:lnTo>
                                        <a:pt x="746" y="137"/>
                                      </a:lnTo>
                                      <a:lnTo>
                                        <a:pt x="737" y="107"/>
                                      </a:lnTo>
                                      <a:lnTo>
                                        <a:pt x="729" y="77"/>
                                      </a:lnTo>
                                      <a:lnTo>
                                        <a:pt x="716" y="47"/>
                                      </a:lnTo>
                                      <a:lnTo>
                                        <a:pt x="703" y="25"/>
                                      </a:lnTo>
                                      <a:lnTo>
                                        <a:pt x="686" y="8"/>
                                      </a:lnTo>
                                      <a:lnTo>
                                        <a:pt x="673" y="0"/>
                                      </a:lnTo>
                                      <a:lnTo>
                                        <a:pt x="673" y="206"/>
                                      </a:lnTo>
                                      <a:lnTo>
                                        <a:pt x="655" y="202"/>
                                      </a:lnTo>
                                      <a:lnTo>
                                        <a:pt x="638" y="193"/>
                                      </a:lnTo>
                                      <a:lnTo>
                                        <a:pt x="621" y="184"/>
                                      </a:lnTo>
                                      <a:lnTo>
                                        <a:pt x="604" y="172"/>
                                      </a:lnTo>
                                      <a:lnTo>
                                        <a:pt x="586" y="163"/>
                                      </a:lnTo>
                                      <a:lnTo>
                                        <a:pt x="573" y="154"/>
                                      </a:lnTo>
                                      <a:lnTo>
                                        <a:pt x="561" y="146"/>
                                      </a:lnTo>
                                      <a:lnTo>
                                        <a:pt x="548" y="141"/>
                                      </a:lnTo>
                                      <a:lnTo>
                                        <a:pt x="552" y="146"/>
                                      </a:lnTo>
                                      <a:lnTo>
                                        <a:pt x="556" y="159"/>
                                      </a:lnTo>
                                      <a:lnTo>
                                        <a:pt x="561" y="176"/>
                                      </a:lnTo>
                                      <a:lnTo>
                                        <a:pt x="569" y="197"/>
                                      </a:lnTo>
                                      <a:lnTo>
                                        <a:pt x="578" y="223"/>
                                      </a:lnTo>
                                      <a:lnTo>
                                        <a:pt x="582" y="245"/>
                                      </a:lnTo>
                                      <a:lnTo>
                                        <a:pt x="586" y="266"/>
                                      </a:lnTo>
                                      <a:lnTo>
                                        <a:pt x="591" y="283"/>
                                      </a:lnTo>
                                      <a:lnTo>
                                        <a:pt x="569" y="326"/>
                                      </a:lnTo>
                                      <a:lnTo>
                                        <a:pt x="561" y="322"/>
                                      </a:lnTo>
                                      <a:lnTo>
                                        <a:pt x="543" y="318"/>
                                      </a:lnTo>
                                      <a:lnTo>
                                        <a:pt x="526" y="313"/>
                                      </a:lnTo>
                                      <a:lnTo>
                                        <a:pt x="509" y="305"/>
                                      </a:lnTo>
                                      <a:lnTo>
                                        <a:pt x="492" y="292"/>
                                      </a:lnTo>
                                      <a:lnTo>
                                        <a:pt x="474" y="283"/>
                                      </a:lnTo>
                                      <a:lnTo>
                                        <a:pt x="457" y="275"/>
                                      </a:lnTo>
                                      <a:lnTo>
                                        <a:pt x="448" y="266"/>
                                      </a:lnTo>
                                      <a:lnTo>
                                        <a:pt x="435" y="313"/>
                                      </a:lnTo>
                                      <a:lnTo>
                                        <a:pt x="431" y="369"/>
                                      </a:lnTo>
                                      <a:lnTo>
                                        <a:pt x="431" y="430"/>
                                      </a:lnTo>
                                      <a:lnTo>
                                        <a:pt x="435" y="490"/>
                                      </a:lnTo>
                                      <a:lnTo>
                                        <a:pt x="448" y="554"/>
                                      </a:lnTo>
                                      <a:lnTo>
                                        <a:pt x="457" y="614"/>
                                      </a:lnTo>
                                      <a:lnTo>
                                        <a:pt x="474" y="675"/>
                                      </a:lnTo>
                                      <a:lnTo>
                                        <a:pt x="487" y="731"/>
                                      </a:lnTo>
                                      <a:lnTo>
                                        <a:pt x="470" y="774"/>
                                      </a:lnTo>
                                      <a:lnTo>
                                        <a:pt x="435" y="769"/>
                                      </a:lnTo>
                                      <a:lnTo>
                                        <a:pt x="410" y="761"/>
                                      </a:lnTo>
                                      <a:lnTo>
                                        <a:pt x="388" y="743"/>
                                      </a:lnTo>
                                      <a:lnTo>
                                        <a:pt x="366" y="726"/>
                                      </a:lnTo>
                                      <a:lnTo>
                                        <a:pt x="349" y="700"/>
                                      </a:lnTo>
                                      <a:lnTo>
                                        <a:pt x="336" y="675"/>
                                      </a:lnTo>
                                      <a:lnTo>
                                        <a:pt x="323" y="649"/>
                                      </a:lnTo>
                                      <a:lnTo>
                                        <a:pt x="315" y="619"/>
                                      </a:lnTo>
                                      <a:lnTo>
                                        <a:pt x="297" y="563"/>
                                      </a:lnTo>
                                      <a:lnTo>
                                        <a:pt x="280" y="516"/>
                                      </a:lnTo>
                                      <a:lnTo>
                                        <a:pt x="267" y="498"/>
                                      </a:lnTo>
                                      <a:lnTo>
                                        <a:pt x="254" y="481"/>
                                      </a:lnTo>
                                      <a:lnTo>
                                        <a:pt x="241" y="473"/>
                                      </a:lnTo>
                                      <a:lnTo>
                                        <a:pt x="224" y="468"/>
                                      </a:lnTo>
                                      <a:lnTo>
                                        <a:pt x="224" y="516"/>
                                      </a:lnTo>
                                      <a:lnTo>
                                        <a:pt x="224" y="567"/>
                                      </a:lnTo>
                                      <a:lnTo>
                                        <a:pt x="224" y="619"/>
                                      </a:lnTo>
                                      <a:lnTo>
                                        <a:pt x="228" y="670"/>
                                      </a:lnTo>
                                      <a:lnTo>
                                        <a:pt x="233" y="718"/>
                                      </a:lnTo>
                                      <a:lnTo>
                                        <a:pt x="241" y="769"/>
                                      </a:lnTo>
                                      <a:lnTo>
                                        <a:pt x="250" y="812"/>
                                      </a:lnTo>
                                      <a:lnTo>
                                        <a:pt x="263" y="855"/>
                                      </a:lnTo>
                                      <a:lnTo>
                                        <a:pt x="263" y="864"/>
                                      </a:lnTo>
                                      <a:lnTo>
                                        <a:pt x="259" y="868"/>
                                      </a:lnTo>
                                      <a:lnTo>
                                        <a:pt x="250" y="877"/>
                                      </a:lnTo>
                                      <a:lnTo>
                                        <a:pt x="246" y="885"/>
                                      </a:lnTo>
                                      <a:lnTo>
                                        <a:pt x="237" y="894"/>
                                      </a:lnTo>
                                      <a:lnTo>
                                        <a:pt x="228" y="898"/>
                                      </a:lnTo>
                                      <a:lnTo>
                                        <a:pt x="224" y="907"/>
                                      </a:lnTo>
                                      <a:lnTo>
                                        <a:pt x="224" y="915"/>
                                      </a:lnTo>
                                      <a:lnTo>
                                        <a:pt x="202" y="915"/>
                                      </a:lnTo>
                                      <a:lnTo>
                                        <a:pt x="181" y="915"/>
                                      </a:lnTo>
                                      <a:lnTo>
                                        <a:pt x="168" y="860"/>
                                      </a:lnTo>
                                      <a:lnTo>
                                        <a:pt x="159" y="799"/>
                                      </a:lnTo>
                                      <a:lnTo>
                                        <a:pt x="151" y="739"/>
                                      </a:lnTo>
                                      <a:lnTo>
                                        <a:pt x="138" y="679"/>
                                      </a:lnTo>
                                      <a:lnTo>
                                        <a:pt x="129" y="649"/>
                                      </a:lnTo>
                                      <a:lnTo>
                                        <a:pt x="116" y="623"/>
                                      </a:lnTo>
                                      <a:lnTo>
                                        <a:pt x="108" y="593"/>
                                      </a:lnTo>
                                      <a:lnTo>
                                        <a:pt x="90" y="571"/>
                                      </a:lnTo>
                                      <a:lnTo>
                                        <a:pt x="73" y="546"/>
                                      </a:lnTo>
                                      <a:lnTo>
                                        <a:pt x="51" y="524"/>
                                      </a:lnTo>
                                      <a:lnTo>
                                        <a:pt x="26" y="507"/>
                                      </a:lnTo>
                                      <a:lnTo>
                                        <a:pt x="0" y="490"/>
                                      </a:lnTo>
                                      <a:lnTo>
                                        <a:pt x="0" y="520"/>
                                      </a:lnTo>
                                      <a:lnTo>
                                        <a:pt x="4" y="554"/>
                                      </a:lnTo>
                                      <a:lnTo>
                                        <a:pt x="4" y="593"/>
                                      </a:lnTo>
                                      <a:lnTo>
                                        <a:pt x="8" y="632"/>
                                      </a:lnTo>
                                      <a:lnTo>
                                        <a:pt x="13" y="670"/>
                                      </a:lnTo>
                                      <a:lnTo>
                                        <a:pt x="17" y="705"/>
                                      </a:lnTo>
                                      <a:lnTo>
                                        <a:pt x="17" y="739"/>
                                      </a:lnTo>
                                      <a:lnTo>
                                        <a:pt x="21" y="774"/>
                                      </a:lnTo>
                                      <a:lnTo>
                                        <a:pt x="60" y="795"/>
                                      </a:lnTo>
                                      <a:lnTo>
                                        <a:pt x="39" y="774"/>
                                      </a:lnTo>
                                      <a:close/>
                                    </a:path>
                                  </a:pathLst>
                                </a:custGeom>
                                <a:blipFill rotWithShape="0">
                                  <a:blip r:embed="rId32"/>
                                  <a:srcRect/>
                                  <a:tile tx="0" ty="0" sx="100000" sy="100000" algn="ctr"/>
                                </a:blip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17" name=""/>
                                <p:cNvSpPr/>
                                <p:nvPr/>
                              </p:nvSpPr>
                              <p:spPr>
                                <a:xfrm rot="21327600">
                                  <a:off x="1761480" y="764640"/>
                                  <a:ext cx="180720" cy="30708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65" h="3173">
                                      <a:moveTo>
                                        <a:pt x="1277" y="185"/>
                                      </a:moveTo>
                                      <a:lnTo>
                                        <a:pt x="1303" y="275"/>
                                      </a:lnTo>
                                      <a:lnTo>
                                        <a:pt x="1333" y="383"/>
                                      </a:lnTo>
                                      <a:lnTo>
                                        <a:pt x="1364" y="495"/>
                                      </a:lnTo>
                                      <a:lnTo>
                                        <a:pt x="1385" y="615"/>
                                      </a:lnTo>
                                      <a:lnTo>
                                        <a:pt x="1389" y="671"/>
                                      </a:lnTo>
                                      <a:lnTo>
                                        <a:pt x="1394" y="727"/>
                                      </a:lnTo>
                                      <a:lnTo>
                                        <a:pt x="1394" y="783"/>
                                      </a:lnTo>
                                      <a:lnTo>
                                        <a:pt x="1389" y="834"/>
                                      </a:lnTo>
                                      <a:lnTo>
                                        <a:pt x="1381" y="882"/>
                                      </a:lnTo>
                                      <a:lnTo>
                                        <a:pt x="1368" y="925"/>
                                      </a:lnTo>
                                      <a:lnTo>
                                        <a:pt x="1346" y="963"/>
                                      </a:lnTo>
                                      <a:lnTo>
                                        <a:pt x="1320" y="998"/>
                                      </a:lnTo>
                                      <a:lnTo>
                                        <a:pt x="1329" y="998"/>
                                      </a:lnTo>
                                      <a:lnTo>
                                        <a:pt x="1333" y="993"/>
                                      </a:lnTo>
                                      <a:lnTo>
                                        <a:pt x="1342" y="989"/>
                                      </a:lnTo>
                                      <a:lnTo>
                                        <a:pt x="1346" y="985"/>
                                      </a:lnTo>
                                      <a:lnTo>
                                        <a:pt x="1355" y="976"/>
                                      </a:lnTo>
                                      <a:lnTo>
                                        <a:pt x="1355" y="972"/>
                                      </a:lnTo>
                                      <a:lnTo>
                                        <a:pt x="1359" y="963"/>
                                      </a:lnTo>
                                      <a:lnTo>
                                        <a:pt x="1359" y="955"/>
                                      </a:lnTo>
                                      <a:lnTo>
                                        <a:pt x="1359" y="933"/>
                                      </a:lnTo>
                                      <a:lnTo>
                                        <a:pt x="1355" y="912"/>
                                      </a:lnTo>
                                      <a:lnTo>
                                        <a:pt x="1351" y="890"/>
                                      </a:lnTo>
                                      <a:lnTo>
                                        <a:pt x="1342" y="869"/>
                                      </a:lnTo>
                                      <a:lnTo>
                                        <a:pt x="1333" y="851"/>
                                      </a:lnTo>
                                      <a:lnTo>
                                        <a:pt x="1316" y="834"/>
                                      </a:lnTo>
                                      <a:lnTo>
                                        <a:pt x="1299" y="821"/>
                                      </a:lnTo>
                                      <a:lnTo>
                                        <a:pt x="1277" y="813"/>
                                      </a:lnTo>
                                      <a:lnTo>
                                        <a:pt x="1238" y="1320"/>
                                      </a:lnTo>
                                      <a:lnTo>
                                        <a:pt x="1230" y="1307"/>
                                      </a:lnTo>
                                      <a:lnTo>
                                        <a:pt x="1221" y="1290"/>
                                      </a:lnTo>
                                      <a:lnTo>
                                        <a:pt x="1213" y="1277"/>
                                      </a:lnTo>
                                      <a:lnTo>
                                        <a:pt x="1204" y="1260"/>
                                      </a:lnTo>
                                      <a:lnTo>
                                        <a:pt x="1195" y="1247"/>
                                      </a:lnTo>
                                      <a:lnTo>
                                        <a:pt x="1182" y="1230"/>
                                      </a:lnTo>
                                      <a:lnTo>
                                        <a:pt x="1169" y="1217"/>
                                      </a:lnTo>
                                      <a:lnTo>
                                        <a:pt x="1156" y="1200"/>
                                      </a:lnTo>
                                      <a:lnTo>
                                        <a:pt x="1144" y="1234"/>
                                      </a:lnTo>
                                      <a:lnTo>
                                        <a:pt x="1139" y="1273"/>
                                      </a:lnTo>
                                      <a:lnTo>
                                        <a:pt x="1135" y="1312"/>
                                      </a:lnTo>
                                      <a:lnTo>
                                        <a:pt x="1139" y="1355"/>
                                      </a:lnTo>
                                      <a:lnTo>
                                        <a:pt x="1148" y="1441"/>
                                      </a:lnTo>
                                      <a:lnTo>
                                        <a:pt x="1161" y="1531"/>
                                      </a:lnTo>
                                      <a:lnTo>
                                        <a:pt x="1161" y="1578"/>
                                      </a:lnTo>
                                      <a:lnTo>
                                        <a:pt x="1165" y="1621"/>
                                      </a:lnTo>
                                      <a:lnTo>
                                        <a:pt x="1161" y="1668"/>
                                      </a:lnTo>
                                      <a:lnTo>
                                        <a:pt x="1152" y="1716"/>
                                      </a:lnTo>
                                      <a:lnTo>
                                        <a:pt x="1139" y="1759"/>
                                      </a:lnTo>
                                      <a:lnTo>
                                        <a:pt x="1122" y="1806"/>
                                      </a:lnTo>
                                      <a:lnTo>
                                        <a:pt x="1092" y="1849"/>
                                      </a:lnTo>
                                      <a:lnTo>
                                        <a:pt x="1053" y="1892"/>
                                      </a:lnTo>
                                      <a:lnTo>
                                        <a:pt x="1036" y="1892"/>
                                      </a:lnTo>
                                      <a:lnTo>
                                        <a:pt x="1014" y="1892"/>
                                      </a:lnTo>
                                      <a:lnTo>
                                        <a:pt x="1010" y="1875"/>
                                      </a:lnTo>
                                      <a:lnTo>
                                        <a:pt x="1005" y="1858"/>
                                      </a:lnTo>
                                      <a:lnTo>
                                        <a:pt x="1001" y="1840"/>
                                      </a:lnTo>
                                      <a:lnTo>
                                        <a:pt x="993" y="1823"/>
                                      </a:lnTo>
                                      <a:lnTo>
                                        <a:pt x="984" y="1806"/>
                                      </a:lnTo>
                                      <a:lnTo>
                                        <a:pt x="980" y="1793"/>
                                      </a:lnTo>
                                      <a:lnTo>
                                        <a:pt x="975" y="1780"/>
                                      </a:lnTo>
                                      <a:lnTo>
                                        <a:pt x="971" y="1767"/>
                                      </a:lnTo>
                                      <a:lnTo>
                                        <a:pt x="971" y="1823"/>
                                      </a:lnTo>
                                      <a:lnTo>
                                        <a:pt x="958" y="1875"/>
                                      </a:lnTo>
                                      <a:lnTo>
                                        <a:pt x="945" y="1926"/>
                                      </a:lnTo>
                                      <a:lnTo>
                                        <a:pt x="932" y="1978"/>
                                      </a:lnTo>
                                      <a:lnTo>
                                        <a:pt x="919" y="2025"/>
                                      </a:lnTo>
                                      <a:lnTo>
                                        <a:pt x="902" y="2073"/>
                                      </a:lnTo>
                                      <a:lnTo>
                                        <a:pt x="893" y="2116"/>
                                      </a:lnTo>
                                      <a:lnTo>
                                        <a:pt x="893" y="2154"/>
                                      </a:lnTo>
                                      <a:lnTo>
                                        <a:pt x="885" y="2154"/>
                                      </a:lnTo>
                                      <a:lnTo>
                                        <a:pt x="876" y="2159"/>
                                      </a:lnTo>
                                      <a:lnTo>
                                        <a:pt x="867" y="2163"/>
                                      </a:lnTo>
                                      <a:lnTo>
                                        <a:pt x="863" y="2167"/>
                                      </a:lnTo>
                                      <a:lnTo>
                                        <a:pt x="859" y="2176"/>
                                      </a:lnTo>
                                      <a:lnTo>
                                        <a:pt x="854" y="2180"/>
                                      </a:lnTo>
                                      <a:lnTo>
                                        <a:pt x="850" y="2189"/>
                                      </a:lnTo>
                                      <a:lnTo>
                                        <a:pt x="850" y="2197"/>
                                      </a:lnTo>
                                      <a:lnTo>
                                        <a:pt x="837" y="2193"/>
                                      </a:lnTo>
                                      <a:lnTo>
                                        <a:pt x="829" y="2189"/>
                                      </a:lnTo>
                                      <a:lnTo>
                                        <a:pt x="820" y="2184"/>
                                      </a:lnTo>
                                      <a:lnTo>
                                        <a:pt x="811" y="2176"/>
                                      </a:lnTo>
                                      <a:lnTo>
                                        <a:pt x="807" y="2167"/>
                                      </a:lnTo>
                                      <a:lnTo>
                                        <a:pt x="803" y="2163"/>
                                      </a:lnTo>
                                      <a:lnTo>
                                        <a:pt x="794" y="2159"/>
                                      </a:lnTo>
                                      <a:lnTo>
                                        <a:pt x="790" y="2154"/>
                                      </a:lnTo>
                                      <a:lnTo>
                                        <a:pt x="747" y="1466"/>
                                      </a:lnTo>
                                      <a:lnTo>
                                        <a:pt x="755" y="1466"/>
                                      </a:lnTo>
                                      <a:lnTo>
                                        <a:pt x="768" y="1471"/>
                                      </a:lnTo>
                                      <a:lnTo>
                                        <a:pt x="777" y="1479"/>
                                      </a:lnTo>
                                      <a:lnTo>
                                        <a:pt x="790" y="1484"/>
                                      </a:lnTo>
                                      <a:lnTo>
                                        <a:pt x="803" y="1492"/>
                                      </a:lnTo>
                                      <a:lnTo>
                                        <a:pt x="811" y="1496"/>
                                      </a:lnTo>
                                      <a:lnTo>
                                        <a:pt x="820" y="1505"/>
                                      </a:lnTo>
                                      <a:lnTo>
                                        <a:pt x="829" y="1505"/>
                                      </a:lnTo>
                                      <a:lnTo>
                                        <a:pt x="829" y="1320"/>
                                      </a:lnTo>
                                      <a:lnTo>
                                        <a:pt x="837" y="1324"/>
                                      </a:lnTo>
                                      <a:lnTo>
                                        <a:pt x="846" y="1324"/>
                                      </a:lnTo>
                                      <a:lnTo>
                                        <a:pt x="854" y="1329"/>
                                      </a:lnTo>
                                      <a:lnTo>
                                        <a:pt x="863" y="1333"/>
                                      </a:lnTo>
                                      <a:lnTo>
                                        <a:pt x="872" y="1337"/>
                                      </a:lnTo>
                                      <a:lnTo>
                                        <a:pt x="885" y="1337"/>
                                      </a:lnTo>
                                      <a:lnTo>
                                        <a:pt x="898" y="1342"/>
                                      </a:lnTo>
                                      <a:lnTo>
                                        <a:pt x="911" y="1342"/>
                                      </a:lnTo>
                                      <a:lnTo>
                                        <a:pt x="915" y="1363"/>
                                      </a:lnTo>
                                      <a:lnTo>
                                        <a:pt x="919" y="1389"/>
                                      </a:lnTo>
                                      <a:lnTo>
                                        <a:pt x="932" y="1423"/>
                                      </a:lnTo>
                                      <a:lnTo>
                                        <a:pt x="941" y="1458"/>
                                      </a:lnTo>
                                      <a:lnTo>
                                        <a:pt x="954" y="1492"/>
                                      </a:lnTo>
                                      <a:lnTo>
                                        <a:pt x="962" y="1527"/>
                                      </a:lnTo>
                                      <a:lnTo>
                                        <a:pt x="971" y="1561"/>
                                      </a:lnTo>
                                      <a:lnTo>
                                        <a:pt x="971" y="1587"/>
                                      </a:lnTo>
                                      <a:lnTo>
                                        <a:pt x="993" y="1036"/>
                                      </a:lnTo>
                                      <a:lnTo>
                                        <a:pt x="1010" y="1041"/>
                                      </a:lnTo>
                                      <a:lnTo>
                                        <a:pt x="1027" y="1045"/>
                                      </a:lnTo>
                                      <a:lnTo>
                                        <a:pt x="1044" y="1049"/>
                                      </a:lnTo>
                                      <a:lnTo>
                                        <a:pt x="1066" y="1058"/>
                                      </a:lnTo>
                                      <a:lnTo>
                                        <a:pt x="1083" y="1066"/>
                                      </a:lnTo>
                                      <a:lnTo>
                                        <a:pt x="1100" y="1071"/>
                                      </a:lnTo>
                                      <a:lnTo>
                                        <a:pt x="1122" y="1075"/>
                                      </a:lnTo>
                                      <a:lnTo>
                                        <a:pt x="1135" y="1079"/>
                                      </a:lnTo>
                                      <a:lnTo>
                                        <a:pt x="1135" y="1097"/>
                                      </a:lnTo>
                                      <a:lnTo>
                                        <a:pt x="1135" y="1118"/>
                                      </a:lnTo>
                                      <a:lnTo>
                                        <a:pt x="1118" y="671"/>
                                      </a:lnTo>
                                      <a:lnTo>
                                        <a:pt x="1139" y="675"/>
                                      </a:lnTo>
                                      <a:lnTo>
                                        <a:pt x="1156" y="684"/>
                                      </a:lnTo>
                                      <a:lnTo>
                                        <a:pt x="1178" y="701"/>
                                      </a:lnTo>
                                      <a:lnTo>
                                        <a:pt x="1195" y="718"/>
                                      </a:lnTo>
                                      <a:lnTo>
                                        <a:pt x="1213" y="735"/>
                                      </a:lnTo>
                                      <a:lnTo>
                                        <a:pt x="1225" y="757"/>
                                      </a:lnTo>
                                      <a:lnTo>
                                        <a:pt x="1243" y="778"/>
                                      </a:lnTo>
                                      <a:lnTo>
                                        <a:pt x="1260" y="796"/>
                                      </a:lnTo>
                                      <a:lnTo>
                                        <a:pt x="1251" y="791"/>
                                      </a:lnTo>
                                      <a:lnTo>
                                        <a:pt x="1243" y="778"/>
                                      </a:lnTo>
                                      <a:lnTo>
                                        <a:pt x="1238" y="765"/>
                                      </a:lnTo>
                                      <a:lnTo>
                                        <a:pt x="1234" y="744"/>
                                      </a:lnTo>
                                      <a:lnTo>
                                        <a:pt x="1225" y="692"/>
                                      </a:lnTo>
                                      <a:lnTo>
                                        <a:pt x="1221" y="632"/>
                                      </a:lnTo>
                                      <a:lnTo>
                                        <a:pt x="1221" y="563"/>
                                      </a:lnTo>
                                      <a:lnTo>
                                        <a:pt x="1217" y="503"/>
                                      </a:lnTo>
                                      <a:lnTo>
                                        <a:pt x="1217" y="447"/>
                                      </a:lnTo>
                                      <a:lnTo>
                                        <a:pt x="1217" y="409"/>
                                      </a:lnTo>
                                      <a:lnTo>
                                        <a:pt x="1195" y="387"/>
                                      </a:lnTo>
                                      <a:lnTo>
                                        <a:pt x="1191" y="396"/>
                                      </a:lnTo>
                                      <a:lnTo>
                                        <a:pt x="1187" y="413"/>
                                      </a:lnTo>
                                      <a:lnTo>
                                        <a:pt x="1187" y="434"/>
                                      </a:lnTo>
                                      <a:lnTo>
                                        <a:pt x="1191" y="460"/>
                                      </a:lnTo>
                                      <a:lnTo>
                                        <a:pt x="1195" y="520"/>
                                      </a:lnTo>
                                      <a:lnTo>
                                        <a:pt x="1208" y="589"/>
                                      </a:lnTo>
                                      <a:lnTo>
                                        <a:pt x="1217" y="658"/>
                                      </a:lnTo>
                                      <a:lnTo>
                                        <a:pt x="1225" y="727"/>
                                      </a:lnTo>
                                      <a:lnTo>
                                        <a:pt x="1225" y="757"/>
                                      </a:lnTo>
                                      <a:lnTo>
                                        <a:pt x="1225" y="787"/>
                                      </a:lnTo>
                                      <a:lnTo>
                                        <a:pt x="1225" y="813"/>
                                      </a:lnTo>
                                      <a:lnTo>
                                        <a:pt x="1217" y="834"/>
                                      </a:lnTo>
                                      <a:lnTo>
                                        <a:pt x="1204" y="821"/>
                                      </a:lnTo>
                                      <a:lnTo>
                                        <a:pt x="1191" y="804"/>
                                      </a:lnTo>
                                      <a:lnTo>
                                        <a:pt x="1178" y="783"/>
                                      </a:lnTo>
                                      <a:lnTo>
                                        <a:pt x="1169" y="757"/>
                                      </a:lnTo>
                                      <a:lnTo>
                                        <a:pt x="1152" y="692"/>
                                      </a:lnTo>
                                      <a:lnTo>
                                        <a:pt x="1135" y="628"/>
                                      </a:lnTo>
                                      <a:lnTo>
                                        <a:pt x="1113" y="559"/>
                                      </a:lnTo>
                                      <a:lnTo>
                                        <a:pt x="1096" y="503"/>
                                      </a:lnTo>
                                      <a:lnTo>
                                        <a:pt x="1083" y="482"/>
                                      </a:lnTo>
                                      <a:lnTo>
                                        <a:pt x="1066" y="464"/>
                                      </a:lnTo>
                                      <a:lnTo>
                                        <a:pt x="1053" y="452"/>
                                      </a:lnTo>
                                      <a:lnTo>
                                        <a:pt x="1036" y="447"/>
                                      </a:lnTo>
                                      <a:lnTo>
                                        <a:pt x="1036" y="507"/>
                                      </a:lnTo>
                                      <a:lnTo>
                                        <a:pt x="1044" y="576"/>
                                      </a:lnTo>
                                      <a:lnTo>
                                        <a:pt x="1057" y="654"/>
                                      </a:lnTo>
                                      <a:lnTo>
                                        <a:pt x="1066" y="731"/>
                                      </a:lnTo>
                                      <a:lnTo>
                                        <a:pt x="1074" y="808"/>
                                      </a:lnTo>
                                      <a:lnTo>
                                        <a:pt x="1079" y="882"/>
                                      </a:lnTo>
                                      <a:lnTo>
                                        <a:pt x="1074" y="912"/>
                                      </a:lnTo>
                                      <a:lnTo>
                                        <a:pt x="1070" y="946"/>
                                      </a:lnTo>
                                      <a:lnTo>
                                        <a:pt x="1066" y="972"/>
                                      </a:lnTo>
                                      <a:lnTo>
                                        <a:pt x="1053" y="998"/>
                                      </a:lnTo>
                                      <a:lnTo>
                                        <a:pt x="1036" y="998"/>
                                      </a:lnTo>
                                      <a:lnTo>
                                        <a:pt x="1014" y="998"/>
                                      </a:lnTo>
                                      <a:lnTo>
                                        <a:pt x="993" y="955"/>
                                      </a:lnTo>
                                      <a:lnTo>
                                        <a:pt x="971" y="955"/>
                                      </a:lnTo>
                                      <a:lnTo>
                                        <a:pt x="954" y="955"/>
                                      </a:lnTo>
                                      <a:lnTo>
                                        <a:pt x="954" y="950"/>
                                      </a:lnTo>
                                      <a:lnTo>
                                        <a:pt x="949" y="946"/>
                                      </a:lnTo>
                                      <a:lnTo>
                                        <a:pt x="945" y="942"/>
                                      </a:lnTo>
                                      <a:lnTo>
                                        <a:pt x="945" y="937"/>
                                      </a:lnTo>
                                      <a:lnTo>
                                        <a:pt x="945" y="937"/>
                                      </a:lnTo>
                                      <a:lnTo>
                                        <a:pt x="945" y="937"/>
                                      </a:lnTo>
                                      <a:lnTo>
                                        <a:pt x="945" y="937"/>
                                      </a:lnTo>
                                      <a:lnTo>
                                        <a:pt x="954" y="937"/>
                                      </a:lnTo>
                                      <a:lnTo>
                                        <a:pt x="954" y="968"/>
                                      </a:lnTo>
                                      <a:lnTo>
                                        <a:pt x="954" y="1002"/>
                                      </a:lnTo>
                                      <a:lnTo>
                                        <a:pt x="949" y="1041"/>
                                      </a:lnTo>
                                      <a:lnTo>
                                        <a:pt x="949" y="1075"/>
                                      </a:lnTo>
                                      <a:lnTo>
                                        <a:pt x="949" y="1109"/>
                                      </a:lnTo>
                                      <a:lnTo>
                                        <a:pt x="945" y="1144"/>
                                      </a:lnTo>
                                      <a:lnTo>
                                        <a:pt x="941" y="1174"/>
                                      </a:lnTo>
                                      <a:lnTo>
                                        <a:pt x="932" y="1200"/>
                                      </a:lnTo>
                                      <a:lnTo>
                                        <a:pt x="923" y="1200"/>
                                      </a:lnTo>
                                      <a:lnTo>
                                        <a:pt x="911" y="1195"/>
                                      </a:lnTo>
                                      <a:lnTo>
                                        <a:pt x="898" y="1187"/>
                                      </a:lnTo>
                                      <a:lnTo>
                                        <a:pt x="880" y="1178"/>
                                      </a:lnTo>
                                      <a:lnTo>
                                        <a:pt x="867" y="1165"/>
                                      </a:lnTo>
                                      <a:lnTo>
                                        <a:pt x="850" y="1157"/>
                                      </a:lnTo>
                                      <a:lnTo>
                                        <a:pt x="842" y="1148"/>
                                      </a:lnTo>
                                      <a:lnTo>
                                        <a:pt x="829" y="1140"/>
                                      </a:lnTo>
                                      <a:lnTo>
                                        <a:pt x="829" y="1131"/>
                                      </a:lnTo>
                                      <a:lnTo>
                                        <a:pt x="824" y="1114"/>
                                      </a:lnTo>
                                      <a:lnTo>
                                        <a:pt x="816" y="1097"/>
                                      </a:lnTo>
                                      <a:lnTo>
                                        <a:pt x="807" y="1079"/>
                                      </a:lnTo>
                                      <a:lnTo>
                                        <a:pt x="798" y="1062"/>
                                      </a:lnTo>
                                      <a:lnTo>
                                        <a:pt x="785" y="1049"/>
                                      </a:lnTo>
                                      <a:lnTo>
                                        <a:pt x="777" y="1041"/>
                                      </a:lnTo>
                                      <a:lnTo>
                                        <a:pt x="768" y="1036"/>
                                      </a:lnTo>
                                      <a:lnTo>
                                        <a:pt x="747" y="1036"/>
                                      </a:lnTo>
                                      <a:lnTo>
                                        <a:pt x="708" y="1079"/>
                                      </a:lnTo>
                                      <a:lnTo>
                                        <a:pt x="712" y="1131"/>
                                      </a:lnTo>
                                      <a:lnTo>
                                        <a:pt x="716" y="1187"/>
                                      </a:lnTo>
                                      <a:lnTo>
                                        <a:pt x="725" y="1251"/>
                                      </a:lnTo>
                                      <a:lnTo>
                                        <a:pt x="729" y="1312"/>
                                      </a:lnTo>
                                      <a:lnTo>
                                        <a:pt x="725" y="1342"/>
                                      </a:lnTo>
                                      <a:lnTo>
                                        <a:pt x="725" y="1372"/>
                                      </a:lnTo>
                                      <a:lnTo>
                                        <a:pt x="716" y="1398"/>
                                      </a:lnTo>
                                      <a:lnTo>
                                        <a:pt x="708" y="1419"/>
                                      </a:lnTo>
                                      <a:lnTo>
                                        <a:pt x="695" y="1441"/>
                                      </a:lnTo>
                                      <a:lnTo>
                                        <a:pt x="678" y="1462"/>
                                      </a:lnTo>
                                      <a:lnTo>
                                        <a:pt x="656" y="1475"/>
                                      </a:lnTo>
                                      <a:lnTo>
                                        <a:pt x="626" y="1484"/>
                                      </a:lnTo>
                                      <a:lnTo>
                                        <a:pt x="617" y="1484"/>
                                      </a:lnTo>
                                      <a:lnTo>
                                        <a:pt x="609" y="1479"/>
                                      </a:lnTo>
                                      <a:lnTo>
                                        <a:pt x="596" y="1475"/>
                                      </a:lnTo>
                                      <a:lnTo>
                                        <a:pt x="587" y="1471"/>
                                      </a:lnTo>
                                      <a:lnTo>
                                        <a:pt x="574" y="1466"/>
                                      </a:lnTo>
                                      <a:lnTo>
                                        <a:pt x="561" y="1458"/>
                                      </a:lnTo>
                                      <a:lnTo>
                                        <a:pt x="552" y="1453"/>
                                      </a:lnTo>
                                      <a:lnTo>
                                        <a:pt x="544" y="1445"/>
                                      </a:lnTo>
                                      <a:lnTo>
                                        <a:pt x="552" y="1449"/>
                                      </a:lnTo>
                                      <a:lnTo>
                                        <a:pt x="561" y="1458"/>
                                      </a:lnTo>
                                      <a:lnTo>
                                        <a:pt x="565" y="1475"/>
                                      </a:lnTo>
                                      <a:lnTo>
                                        <a:pt x="570" y="1496"/>
                                      </a:lnTo>
                                      <a:lnTo>
                                        <a:pt x="583" y="1552"/>
                                      </a:lnTo>
                                      <a:lnTo>
                                        <a:pt x="587" y="1621"/>
                                      </a:lnTo>
                                      <a:lnTo>
                                        <a:pt x="591" y="1686"/>
                                      </a:lnTo>
                                      <a:lnTo>
                                        <a:pt x="591" y="1746"/>
                                      </a:lnTo>
                                      <a:lnTo>
                                        <a:pt x="591" y="1789"/>
                                      </a:lnTo>
                                      <a:lnTo>
                                        <a:pt x="587" y="1810"/>
                                      </a:lnTo>
                                      <a:lnTo>
                                        <a:pt x="565" y="1832"/>
                                      </a:lnTo>
                                      <a:lnTo>
                                        <a:pt x="505" y="1832"/>
                                      </a:lnTo>
                                      <a:lnTo>
                                        <a:pt x="496" y="1823"/>
                                      </a:lnTo>
                                      <a:lnTo>
                                        <a:pt x="488" y="1815"/>
                                      </a:lnTo>
                                      <a:lnTo>
                                        <a:pt x="475" y="1806"/>
                                      </a:lnTo>
                                      <a:lnTo>
                                        <a:pt x="466" y="1802"/>
                                      </a:lnTo>
                                      <a:lnTo>
                                        <a:pt x="458" y="1793"/>
                                      </a:lnTo>
                                      <a:lnTo>
                                        <a:pt x="449" y="1785"/>
                                      </a:lnTo>
                                      <a:lnTo>
                                        <a:pt x="445" y="1776"/>
                                      </a:lnTo>
                                      <a:lnTo>
                                        <a:pt x="445" y="1767"/>
                                      </a:lnTo>
                                      <a:lnTo>
                                        <a:pt x="449" y="1780"/>
                                      </a:lnTo>
                                      <a:lnTo>
                                        <a:pt x="453" y="1806"/>
                                      </a:lnTo>
                                      <a:lnTo>
                                        <a:pt x="458" y="1832"/>
                                      </a:lnTo>
                                      <a:lnTo>
                                        <a:pt x="462" y="1866"/>
                                      </a:lnTo>
                                      <a:lnTo>
                                        <a:pt x="462" y="1901"/>
                                      </a:lnTo>
                                      <a:lnTo>
                                        <a:pt x="462" y="1935"/>
                                      </a:lnTo>
                                      <a:lnTo>
                                        <a:pt x="462" y="1965"/>
                                      </a:lnTo>
                                      <a:lnTo>
                                        <a:pt x="462" y="1991"/>
                                      </a:lnTo>
                                      <a:lnTo>
                                        <a:pt x="445" y="2012"/>
                                      </a:lnTo>
                                      <a:lnTo>
                                        <a:pt x="406" y="2008"/>
                                      </a:lnTo>
                                      <a:lnTo>
                                        <a:pt x="367" y="1995"/>
                                      </a:lnTo>
                                      <a:lnTo>
                                        <a:pt x="328" y="1969"/>
                                      </a:lnTo>
                                      <a:lnTo>
                                        <a:pt x="294" y="1944"/>
                                      </a:lnTo>
                                      <a:lnTo>
                                        <a:pt x="263" y="1914"/>
                                      </a:lnTo>
                                      <a:lnTo>
                                        <a:pt x="229" y="1883"/>
                                      </a:lnTo>
                                      <a:lnTo>
                                        <a:pt x="203" y="1858"/>
                                      </a:lnTo>
                                      <a:lnTo>
                                        <a:pt x="177" y="1832"/>
                                      </a:lnTo>
                                      <a:lnTo>
                                        <a:pt x="190" y="1832"/>
                                      </a:lnTo>
                                      <a:lnTo>
                                        <a:pt x="194" y="1845"/>
                                      </a:lnTo>
                                      <a:lnTo>
                                        <a:pt x="194" y="1858"/>
                                      </a:lnTo>
                                      <a:lnTo>
                                        <a:pt x="194" y="1875"/>
                                      </a:lnTo>
                                      <a:lnTo>
                                        <a:pt x="190" y="1892"/>
                                      </a:lnTo>
                                      <a:lnTo>
                                        <a:pt x="181" y="1909"/>
                                      </a:lnTo>
                                      <a:lnTo>
                                        <a:pt x="177" y="1922"/>
                                      </a:lnTo>
                                      <a:lnTo>
                                        <a:pt x="177" y="1931"/>
                                      </a:lnTo>
                                      <a:lnTo>
                                        <a:pt x="95" y="1931"/>
                                      </a:lnTo>
                                      <a:lnTo>
                                        <a:pt x="74" y="1909"/>
                                      </a:lnTo>
                                      <a:lnTo>
                                        <a:pt x="56" y="1883"/>
                                      </a:lnTo>
                                      <a:lnTo>
                                        <a:pt x="43" y="1862"/>
                                      </a:lnTo>
                                      <a:lnTo>
                                        <a:pt x="30" y="1836"/>
                                      </a:lnTo>
                                      <a:lnTo>
                                        <a:pt x="26" y="1806"/>
                                      </a:lnTo>
                                      <a:lnTo>
                                        <a:pt x="17" y="1776"/>
                                      </a:lnTo>
                                      <a:lnTo>
                                        <a:pt x="17" y="1746"/>
                                      </a:lnTo>
                                      <a:lnTo>
                                        <a:pt x="13" y="1707"/>
                                      </a:lnTo>
                                      <a:lnTo>
                                        <a:pt x="0" y="1694"/>
                                      </a:lnTo>
                                      <a:lnTo>
                                        <a:pt x="9" y="1785"/>
                                      </a:lnTo>
                                      <a:lnTo>
                                        <a:pt x="22" y="1832"/>
                                      </a:lnTo>
                                      <a:lnTo>
                                        <a:pt x="39" y="1875"/>
                                      </a:lnTo>
                                      <a:lnTo>
                                        <a:pt x="56" y="1918"/>
                                      </a:lnTo>
                                      <a:lnTo>
                                        <a:pt x="74" y="1965"/>
                                      </a:lnTo>
                                      <a:lnTo>
                                        <a:pt x="91" y="2008"/>
                                      </a:lnTo>
                                      <a:lnTo>
                                        <a:pt x="104" y="2051"/>
                                      </a:lnTo>
                                      <a:lnTo>
                                        <a:pt x="112" y="2094"/>
                                      </a:lnTo>
                                      <a:lnTo>
                                        <a:pt x="117" y="2137"/>
                                      </a:lnTo>
                                      <a:lnTo>
                                        <a:pt x="138" y="2159"/>
                                      </a:lnTo>
                                      <a:lnTo>
                                        <a:pt x="164" y="2189"/>
                                      </a:lnTo>
                                      <a:lnTo>
                                        <a:pt x="194" y="2219"/>
                                      </a:lnTo>
                                      <a:lnTo>
                                        <a:pt x="225" y="2249"/>
                                      </a:lnTo>
                                      <a:lnTo>
                                        <a:pt x="255" y="2275"/>
                                      </a:lnTo>
                                      <a:lnTo>
                                        <a:pt x="289" y="2296"/>
                                      </a:lnTo>
                                      <a:lnTo>
                                        <a:pt x="307" y="2305"/>
                                      </a:lnTo>
                                      <a:lnTo>
                                        <a:pt x="324" y="2313"/>
                                      </a:lnTo>
                                      <a:lnTo>
                                        <a:pt x="341" y="2318"/>
                                      </a:lnTo>
                                      <a:lnTo>
                                        <a:pt x="363" y="2318"/>
                                      </a:lnTo>
                                      <a:lnTo>
                                        <a:pt x="363" y="2258"/>
                                      </a:lnTo>
                                      <a:lnTo>
                                        <a:pt x="345" y="2240"/>
                                      </a:lnTo>
                                      <a:lnTo>
                                        <a:pt x="332" y="2219"/>
                                      </a:lnTo>
                                      <a:lnTo>
                                        <a:pt x="324" y="2197"/>
                                      </a:lnTo>
                                      <a:lnTo>
                                        <a:pt x="315" y="2172"/>
                                      </a:lnTo>
                                      <a:lnTo>
                                        <a:pt x="307" y="2150"/>
                                      </a:lnTo>
                                      <a:lnTo>
                                        <a:pt x="302" y="2124"/>
                                      </a:lnTo>
                                      <a:lnTo>
                                        <a:pt x="302" y="2098"/>
                                      </a:lnTo>
                                      <a:lnTo>
                                        <a:pt x="298" y="2073"/>
                                      </a:lnTo>
                                      <a:lnTo>
                                        <a:pt x="315" y="2077"/>
                                      </a:lnTo>
                                      <a:lnTo>
                                        <a:pt x="328" y="2086"/>
                                      </a:lnTo>
                                      <a:lnTo>
                                        <a:pt x="341" y="2098"/>
                                      </a:lnTo>
                                      <a:lnTo>
                                        <a:pt x="354" y="2116"/>
                                      </a:lnTo>
                                      <a:lnTo>
                                        <a:pt x="380" y="2159"/>
                                      </a:lnTo>
                                      <a:lnTo>
                                        <a:pt x="406" y="2206"/>
                                      </a:lnTo>
                                      <a:lnTo>
                                        <a:pt x="436" y="2253"/>
                                      </a:lnTo>
                                      <a:lnTo>
                                        <a:pt x="466" y="2296"/>
                                      </a:lnTo>
                                      <a:lnTo>
                                        <a:pt x="483" y="2313"/>
                                      </a:lnTo>
                                      <a:lnTo>
                                        <a:pt x="501" y="2326"/>
                                      </a:lnTo>
                                      <a:lnTo>
                                        <a:pt x="522" y="2335"/>
                                      </a:lnTo>
                                      <a:lnTo>
                                        <a:pt x="544" y="2339"/>
                                      </a:lnTo>
                                      <a:lnTo>
                                        <a:pt x="544" y="2305"/>
                                      </a:lnTo>
                                      <a:lnTo>
                                        <a:pt x="540" y="2270"/>
                                      </a:lnTo>
                                      <a:lnTo>
                                        <a:pt x="540" y="2236"/>
                                      </a:lnTo>
                                      <a:lnTo>
                                        <a:pt x="535" y="2197"/>
                                      </a:lnTo>
                                      <a:lnTo>
                                        <a:pt x="531" y="2159"/>
                                      </a:lnTo>
                                      <a:lnTo>
                                        <a:pt x="527" y="2120"/>
                                      </a:lnTo>
                                      <a:lnTo>
                                        <a:pt x="527" y="2086"/>
                                      </a:lnTo>
                                      <a:lnTo>
                                        <a:pt x="522" y="2055"/>
                                      </a:lnTo>
                                      <a:lnTo>
                                        <a:pt x="531" y="2051"/>
                                      </a:lnTo>
                                      <a:lnTo>
                                        <a:pt x="544" y="2043"/>
                                      </a:lnTo>
                                      <a:lnTo>
                                        <a:pt x="552" y="2034"/>
                                      </a:lnTo>
                                      <a:lnTo>
                                        <a:pt x="565" y="2025"/>
                                      </a:lnTo>
                                      <a:lnTo>
                                        <a:pt x="578" y="2012"/>
                                      </a:lnTo>
                                      <a:lnTo>
                                        <a:pt x="587" y="2004"/>
                                      </a:lnTo>
                                      <a:lnTo>
                                        <a:pt x="596" y="1995"/>
                                      </a:lnTo>
                                      <a:lnTo>
                                        <a:pt x="604" y="1991"/>
                                      </a:lnTo>
                                      <a:lnTo>
                                        <a:pt x="613" y="2000"/>
                                      </a:lnTo>
                                      <a:lnTo>
                                        <a:pt x="626" y="2008"/>
                                      </a:lnTo>
                                      <a:lnTo>
                                        <a:pt x="634" y="2017"/>
                                      </a:lnTo>
                                      <a:lnTo>
                                        <a:pt x="647" y="2025"/>
                                      </a:lnTo>
                                      <a:lnTo>
                                        <a:pt x="656" y="2030"/>
                                      </a:lnTo>
                                      <a:lnTo>
                                        <a:pt x="669" y="2038"/>
                                      </a:lnTo>
                                      <a:lnTo>
                                        <a:pt x="678" y="2047"/>
                                      </a:lnTo>
                                      <a:lnTo>
                                        <a:pt x="686" y="2055"/>
                                      </a:lnTo>
                                      <a:lnTo>
                                        <a:pt x="686" y="2086"/>
                                      </a:lnTo>
                                      <a:lnTo>
                                        <a:pt x="678" y="2124"/>
                                      </a:lnTo>
                                      <a:lnTo>
                                        <a:pt x="673" y="2172"/>
                                      </a:lnTo>
                                      <a:lnTo>
                                        <a:pt x="665" y="2223"/>
                                      </a:lnTo>
                                      <a:lnTo>
                                        <a:pt x="660" y="2270"/>
                                      </a:lnTo>
                                      <a:lnTo>
                                        <a:pt x="660" y="2309"/>
                                      </a:lnTo>
                                      <a:lnTo>
                                        <a:pt x="665" y="2326"/>
                                      </a:lnTo>
                                      <a:lnTo>
                                        <a:pt x="669" y="2344"/>
                                      </a:lnTo>
                                      <a:lnTo>
                                        <a:pt x="678" y="2352"/>
                                      </a:lnTo>
                                      <a:lnTo>
                                        <a:pt x="686" y="2361"/>
                                      </a:lnTo>
                                      <a:lnTo>
                                        <a:pt x="691" y="2374"/>
                                      </a:lnTo>
                                      <a:lnTo>
                                        <a:pt x="695" y="2391"/>
                                      </a:lnTo>
                                      <a:lnTo>
                                        <a:pt x="708" y="2404"/>
                                      </a:lnTo>
                                      <a:lnTo>
                                        <a:pt x="716" y="2421"/>
                                      </a:lnTo>
                                      <a:lnTo>
                                        <a:pt x="729" y="2434"/>
                                      </a:lnTo>
                                      <a:lnTo>
                                        <a:pt x="738" y="2451"/>
                                      </a:lnTo>
                                      <a:lnTo>
                                        <a:pt x="747" y="2464"/>
                                      </a:lnTo>
                                      <a:lnTo>
                                        <a:pt x="747" y="2481"/>
                                      </a:lnTo>
                                      <a:lnTo>
                                        <a:pt x="647" y="2481"/>
                                      </a:lnTo>
                                      <a:lnTo>
                                        <a:pt x="647" y="2503"/>
                                      </a:lnTo>
                                      <a:lnTo>
                                        <a:pt x="656" y="2524"/>
                                      </a:lnTo>
                                      <a:lnTo>
                                        <a:pt x="665" y="2550"/>
                                      </a:lnTo>
                                      <a:lnTo>
                                        <a:pt x="678" y="2571"/>
                                      </a:lnTo>
                                      <a:lnTo>
                                        <a:pt x="691" y="2589"/>
                                      </a:lnTo>
                                      <a:lnTo>
                                        <a:pt x="699" y="2610"/>
                                      </a:lnTo>
                                      <a:lnTo>
                                        <a:pt x="703" y="2627"/>
                                      </a:lnTo>
                                      <a:lnTo>
                                        <a:pt x="708" y="2645"/>
                                      </a:lnTo>
                                      <a:lnTo>
                                        <a:pt x="734" y="2645"/>
                                      </a:lnTo>
                                      <a:lnTo>
                                        <a:pt x="755" y="2645"/>
                                      </a:lnTo>
                                      <a:lnTo>
                                        <a:pt x="781" y="2649"/>
                                      </a:lnTo>
                                      <a:lnTo>
                                        <a:pt x="807" y="2653"/>
                                      </a:lnTo>
                                      <a:lnTo>
                                        <a:pt x="833" y="2657"/>
                                      </a:lnTo>
                                      <a:lnTo>
                                        <a:pt x="854" y="2662"/>
                                      </a:lnTo>
                                      <a:lnTo>
                                        <a:pt x="876" y="2662"/>
                                      </a:lnTo>
                                      <a:lnTo>
                                        <a:pt x="893" y="2662"/>
                                      </a:lnTo>
                                      <a:lnTo>
                                        <a:pt x="893" y="2696"/>
                                      </a:lnTo>
                                      <a:lnTo>
                                        <a:pt x="902" y="2726"/>
                                      </a:lnTo>
                                      <a:lnTo>
                                        <a:pt x="915" y="2761"/>
                                      </a:lnTo>
                                      <a:lnTo>
                                        <a:pt x="928" y="2791"/>
                                      </a:lnTo>
                                      <a:lnTo>
                                        <a:pt x="945" y="2821"/>
                                      </a:lnTo>
                                      <a:lnTo>
                                        <a:pt x="958" y="2847"/>
                                      </a:lnTo>
                                      <a:lnTo>
                                        <a:pt x="975" y="2868"/>
                                      </a:lnTo>
                                      <a:lnTo>
                                        <a:pt x="993" y="2885"/>
                                      </a:lnTo>
                                      <a:lnTo>
                                        <a:pt x="997" y="2924"/>
                                      </a:lnTo>
                                      <a:lnTo>
                                        <a:pt x="1005" y="2967"/>
                                      </a:lnTo>
                                      <a:lnTo>
                                        <a:pt x="1018" y="3006"/>
                                      </a:lnTo>
                                      <a:lnTo>
                                        <a:pt x="1036" y="3044"/>
                                      </a:lnTo>
                                      <a:lnTo>
                                        <a:pt x="1049" y="3083"/>
                                      </a:lnTo>
                                      <a:lnTo>
                                        <a:pt x="1062" y="3118"/>
                                      </a:lnTo>
                                      <a:lnTo>
                                        <a:pt x="1070" y="3148"/>
                                      </a:lnTo>
                                      <a:lnTo>
                                        <a:pt x="1074" y="3173"/>
                                      </a:lnTo>
                                      <a:lnTo>
                                        <a:pt x="1087" y="3161"/>
                                      </a:lnTo>
                                      <a:lnTo>
                                        <a:pt x="1096" y="3143"/>
                                      </a:lnTo>
                                      <a:lnTo>
                                        <a:pt x="1100" y="3126"/>
                                      </a:lnTo>
                                      <a:lnTo>
                                        <a:pt x="1109" y="3105"/>
                                      </a:lnTo>
                                      <a:lnTo>
                                        <a:pt x="1113" y="3062"/>
                                      </a:lnTo>
                                      <a:lnTo>
                                        <a:pt x="1118" y="3019"/>
                                      </a:lnTo>
                                      <a:lnTo>
                                        <a:pt x="1118" y="2967"/>
                                      </a:lnTo>
                                      <a:lnTo>
                                        <a:pt x="1118" y="2924"/>
                                      </a:lnTo>
                                      <a:lnTo>
                                        <a:pt x="1118" y="2881"/>
                                      </a:lnTo>
                                      <a:lnTo>
                                        <a:pt x="1118" y="2847"/>
                                      </a:lnTo>
                                      <a:lnTo>
                                        <a:pt x="1238" y="2847"/>
                                      </a:lnTo>
                                      <a:lnTo>
                                        <a:pt x="1243" y="2842"/>
                                      </a:lnTo>
                                      <a:lnTo>
                                        <a:pt x="1247" y="2838"/>
                                      </a:lnTo>
                                      <a:lnTo>
                                        <a:pt x="1251" y="2834"/>
                                      </a:lnTo>
                                      <a:lnTo>
                                        <a:pt x="1256" y="2829"/>
                                      </a:lnTo>
                                      <a:lnTo>
                                        <a:pt x="1260" y="2829"/>
                                      </a:lnTo>
                                      <a:lnTo>
                                        <a:pt x="1269" y="2825"/>
                                      </a:lnTo>
                                      <a:lnTo>
                                        <a:pt x="1273" y="2821"/>
                                      </a:lnTo>
                                      <a:lnTo>
                                        <a:pt x="1277" y="2817"/>
                                      </a:lnTo>
                                      <a:lnTo>
                                        <a:pt x="1290" y="2713"/>
                                      </a:lnTo>
                                      <a:lnTo>
                                        <a:pt x="1225" y="2653"/>
                                      </a:lnTo>
                                      <a:lnTo>
                                        <a:pt x="1079" y="2378"/>
                                      </a:lnTo>
                                      <a:lnTo>
                                        <a:pt x="1057" y="2068"/>
                                      </a:lnTo>
                                      <a:lnTo>
                                        <a:pt x="1036" y="2017"/>
                                      </a:lnTo>
                                      <a:lnTo>
                                        <a:pt x="1070" y="1974"/>
                                      </a:lnTo>
                                      <a:lnTo>
                                        <a:pt x="1100" y="1965"/>
                                      </a:lnTo>
                                      <a:lnTo>
                                        <a:pt x="1122" y="1987"/>
                                      </a:lnTo>
                                      <a:lnTo>
                                        <a:pt x="1122" y="2017"/>
                                      </a:lnTo>
                                      <a:lnTo>
                                        <a:pt x="1174" y="1965"/>
                                      </a:lnTo>
                                      <a:lnTo>
                                        <a:pt x="1174" y="1914"/>
                                      </a:lnTo>
                                      <a:lnTo>
                                        <a:pt x="1290" y="1785"/>
                                      </a:lnTo>
                                      <a:lnTo>
                                        <a:pt x="1247" y="1690"/>
                                      </a:lnTo>
                                      <a:lnTo>
                                        <a:pt x="1407" y="1531"/>
                                      </a:lnTo>
                                      <a:lnTo>
                                        <a:pt x="1398" y="1522"/>
                                      </a:lnTo>
                                      <a:lnTo>
                                        <a:pt x="1398" y="1501"/>
                                      </a:lnTo>
                                      <a:lnTo>
                                        <a:pt x="1428" y="1419"/>
                                      </a:lnTo>
                                      <a:lnTo>
                                        <a:pt x="1407" y="1398"/>
                                      </a:lnTo>
                                      <a:lnTo>
                                        <a:pt x="1407" y="1363"/>
                                      </a:lnTo>
                                      <a:lnTo>
                                        <a:pt x="1420" y="1355"/>
                                      </a:lnTo>
                                      <a:lnTo>
                                        <a:pt x="1502" y="1277"/>
                                      </a:lnTo>
                                      <a:lnTo>
                                        <a:pt x="1441" y="1195"/>
                                      </a:lnTo>
                                      <a:lnTo>
                                        <a:pt x="1502" y="1131"/>
                                      </a:lnTo>
                                      <a:lnTo>
                                        <a:pt x="1502" y="1079"/>
                                      </a:lnTo>
                                      <a:lnTo>
                                        <a:pt x="1558" y="1015"/>
                                      </a:lnTo>
                                      <a:lnTo>
                                        <a:pt x="1523" y="942"/>
                                      </a:lnTo>
                                      <a:lnTo>
                                        <a:pt x="1566" y="899"/>
                                      </a:lnTo>
                                      <a:lnTo>
                                        <a:pt x="1536" y="804"/>
                                      </a:lnTo>
                                      <a:lnTo>
                                        <a:pt x="1545" y="761"/>
                                      </a:lnTo>
                                      <a:lnTo>
                                        <a:pt x="1515" y="701"/>
                                      </a:lnTo>
                                      <a:lnTo>
                                        <a:pt x="1523" y="606"/>
                                      </a:lnTo>
                                      <a:lnTo>
                                        <a:pt x="1493" y="550"/>
                                      </a:lnTo>
                                      <a:lnTo>
                                        <a:pt x="1493" y="456"/>
                                      </a:lnTo>
                                      <a:lnTo>
                                        <a:pt x="1463" y="426"/>
                                      </a:lnTo>
                                      <a:lnTo>
                                        <a:pt x="1441" y="297"/>
                                      </a:lnTo>
                                      <a:lnTo>
                                        <a:pt x="1480" y="258"/>
                                      </a:lnTo>
                                      <a:lnTo>
                                        <a:pt x="1368" y="99"/>
                                      </a:lnTo>
                                      <a:lnTo>
                                        <a:pt x="1346" y="34"/>
                                      </a:lnTo>
                                      <a:lnTo>
                                        <a:pt x="1355" y="26"/>
                                      </a:lnTo>
                                      <a:lnTo>
                                        <a:pt x="1351" y="22"/>
                                      </a:lnTo>
                                      <a:lnTo>
                                        <a:pt x="1346" y="17"/>
                                      </a:lnTo>
                                      <a:lnTo>
                                        <a:pt x="1342" y="13"/>
                                      </a:lnTo>
                                      <a:lnTo>
                                        <a:pt x="1338" y="9"/>
                                      </a:lnTo>
                                      <a:lnTo>
                                        <a:pt x="1333" y="4"/>
                                      </a:lnTo>
                                      <a:lnTo>
                                        <a:pt x="1329" y="4"/>
                                      </a:lnTo>
                                      <a:lnTo>
                                        <a:pt x="1325" y="0"/>
                                      </a:lnTo>
                                      <a:lnTo>
                                        <a:pt x="1320" y="0"/>
                                      </a:lnTo>
                                      <a:lnTo>
                                        <a:pt x="1320" y="22"/>
                                      </a:lnTo>
                                      <a:lnTo>
                                        <a:pt x="1325" y="47"/>
                                      </a:lnTo>
                                      <a:lnTo>
                                        <a:pt x="1333" y="77"/>
                                      </a:lnTo>
                                      <a:lnTo>
                                        <a:pt x="1338" y="112"/>
                                      </a:lnTo>
                                      <a:lnTo>
                                        <a:pt x="1342" y="146"/>
                                      </a:lnTo>
                                      <a:lnTo>
                                        <a:pt x="1346" y="176"/>
                                      </a:lnTo>
                                      <a:lnTo>
                                        <a:pt x="1346" y="206"/>
                                      </a:lnTo>
                                      <a:lnTo>
                                        <a:pt x="1342" y="224"/>
                                      </a:lnTo>
                                      <a:lnTo>
                                        <a:pt x="1320" y="224"/>
                                      </a:lnTo>
                                      <a:lnTo>
                                        <a:pt x="1320" y="267"/>
                                      </a:lnTo>
                                      <a:lnTo>
                                        <a:pt x="1277" y="185"/>
                                      </a:lnTo>
                                      <a:close/>
                                      <a:moveTo>
                                        <a:pt x="1752" y="593"/>
                                      </a:moveTo>
                                      <a:lnTo>
                                        <a:pt x="1748" y="589"/>
                                      </a:lnTo>
                                      <a:lnTo>
                                        <a:pt x="1687" y="589"/>
                                      </a:lnTo>
                                      <a:lnTo>
                                        <a:pt x="1687" y="572"/>
                                      </a:lnTo>
                                      <a:lnTo>
                                        <a:pt x="1683" y="555"/>
                                      </a:lnTo>
                                      <a:lnTo>
                                        <a:pt x="1678" y="529"/>
                                      </a:lnTo>
                                      <a:lnTo>
                                        <a:pt x="1678" y="507"/>
                                      </a:lnTo>
                                      <a:lnTo>
                                        <a:pt x="1674" y="482"/>
                                      </a:lnTo>
                                      <a:lnTo>
                                        <a:pt x="1670" y="456"/>
                                      </a:lnTo>
                                      <a:lnTo>
                                        <a:pt x="1666" y="430"/>
                                      </a:lnTo>
                                      <a:lnTo>
                                        <a:pt x="1666" y="409"/>
                                      </a:lnTo>
                                      <a:lnTo>
                                        <a:pt x="1657" y="404"/>
                                      </a:lnTo>
                                      <a:lnTo>
                                        <a:pt x="1648" y="400"/>
                                      </a:lnTo>
                                      <a:lnTo>
                                        <a:pt x="1635" y="396"/>
                                      </a:lnTo>
                                      <a:lnTo>
                                        <a:pt x="1627" y="387"/>
                                      </a:lnTo>
                                      <a:lnTo>
                                        <a:pt x="1614" y="378"/>
                                      </a:lnTo>
                                      <a:lnTo>
                                        <a:pt x="1605" y="374"/>
                                      </a:lnTo>
                                      <a:lnTo>
                                        <a:pt x="1592" y="370"/>
                                      </a:lnTo>
                                      <a:lnTo>
                                        <a:pt x="1584" y="366"/>
                                      </a:lnTo>
                                      <a:lnTo>
                                        <a:pt x="1584" y="357"/>
                                      </a:lnTo>
                                      <a:lnTo>
                                        <a:pt x="1579" y="340"/>
                                      </a:lnTo>
                                      <a:lnTo>
                                        <a:pt x="1571" y="318"/>
                                      </a:lnTo>
                                      <a:lnTo>
                                        <a:pt x="1562" y="297"/>
                                      </a:lnTo>
                                      <a:lnTo>
                                        <a:pt x="1553" y="280"/>
                                      </a:lnTo>
                                      <a:lnTo>
                                        <a:pt x="1540" y="262"/>
                                      </a:lnTo>
                                      <a:lnTo>
                                        <a:pt x="1532" y="249"/>
                                      </a:lnTo>
                                      <a:lnTo>
                                        <a:pt x="1523" y="245"/>
                                      </a:lnTo>
                                      <a:lnTo>
                                        <a:pt x="1523" y="391"/>
                                      </a:lnTo>
                                      <a:lnTo>
                                        <a:pt x="1558" y="413"/>
                                      </a:lnTo>
                                      <a:lnTo>
                                        <a:pt x="1558" y="477"/>
                                      </a:lnTo>
                                      <a:lnTo>
                                        <a:pt x="1597" y="542"/>
                                      </a:lnTo>
                                      <a:lnTo>
                                        <a:pt x="1631" y="645"/>
                                      </a:lnTo>
                                      <a:lnTo>
                                        <a:pt x="1691" y="645"/>
                                      </a:lnTo>
                                      <a:lnTo>
                                        <a:pt x="1748" y="701"/>
                                      </a:lnTo>
                                      <a:lnTo>
                                        <a:pt x="1765" y="679"/>
                                      </a:lnTo>
                                      <a:lnTo>
                                        <a:pt x="1752" y="593"/>
                                      </a:lnTo>
                                      <a:close/>
                                      <a:moveTo>
                                        <a:pt x="1519" y="219"/>
                                      </a:moveTo>
                                      <a:lnTo>
                                        <a:pt x="1515" y="202"/>
                                      </a:lnTo>
                                      <a:lnTo>
                                        <a:pt x="1506" y="189"/>
                                      </a:lnTo>
                                      <a:lnTo>
                                        <a:pt x="1497" y="176"/>
                                      </a:lnTo>
                                      <a:lnTo>
                                        <a:pt x="1489" y="163"/>
                                      </a:lnTo>
                                      <a:lnTo>
                                        <a:pt x="1476" y="151"/>
                                      </a:lnTo>
                                      <a:lnTo>
                                        <a:pt x="1467" y="138"/>
                                      </a:lnTo>
                                      <a:lnTo>
                                        <a:pt x="1454" y="125"/>
                                      </a:lnTo>
                                      <a:lnTo>
                                        <a:pt x="1441" y="116"/>
                                      </a:lnTo>
                                      <a:lnTo>
                                        <a:pt x="1519" y="219"/>
                                      </a:lnTo>
                                      <a:close/>
                                      <a:moveTo>
                                        <a:pt x="1407" y="65"/>
                                      </a:moveTo>
                                      <a:lnTo>
                                        <a:pt x="1407" y="65"/>
                                      </a:lnTo>
                                      <a:lnTo>
                                        <a:pt x="1402" y="60"/>
                                      </a:lnTo>
                                      <a:lnTo>
                                        <a:pt x="1402" y="56"/>
                                      </a:lnTo>
                                      <a:lnTo>
                                        <a:pt x="1402" y="52"/>
                                      </a:lnTo>
                                      <a:lnTo>
                                        <a:pt x="1402" y="52"/>
                                      </a:lnTo>
                                      <a:lnTo>
                                        <a:pt x="1402" y="47"/>
                                      </a:lnTo>
                                      <a:lnTo>
                                        <a:pt x="1402" y="43"/>
                                      </a:lnTo>
                                      <a:lnTo>
                                        <a:pt x="1402" y="43"/>
                                      </a:lnTo>
                                      <a:lnTo>
                                        <a:pt x="1398" y="43"/>
                                      </a:lnTo>
                                      <a:lnTo>
                                        <a:pt x="1398" y="43"/>
                                      </a:lnTo>
                                      <a:lnTo>
                                        <a:pt x="1398" y="43"/>
                                      </a:lnTo>
                                      <a:lnTo>
                                        <a:pt x="1394" y="43"/>
                                      </a:lnTo>
                                      <a:lnTo>
                                        <a:pt x="1394" y="39"/>
                                      </a:lnTo>
                                      <a:lnTo>
                                        <a:pt x="1389" y="39"/>
                                      </a:lnTo>
                                      <a:lnTo>
                                        <a:pt x="1389" y="39"/>
                                      </a:lnTo>
                                      <a:lnTo>
                                        <a:pt x="1389" y="39"/>
                                      </a:lnTo>
                                      <a:lnTo>
                                        <a:pt x="1407" y="65"/>
                                      </a:lnTo>
                                      <a:close/>
                                    </a:path>
                                  </a:pathLst>
                                </a:custGeom>
                                <a:blipFill rotWithShape="0">
                                  <a:blip r:embed="rId33"/>
                                  <a:srcRect/>
                                  <a:tile tx="0" ty="0" sx="100000" sy="100000" algn="ctr"/>
                                </a:blip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18" name=""/>
                                <p:cNvSpPr/>
                                <p:nvPr/>
                              </p:nvSpPr>
                              <p:spPr>
                                <a:xfrm rot="21327600">
                                  <a:off x="1468440" y="615960"/>
                                  <a:ext cx="45720" cy="15912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449" h="1646">
                                      <a:moveTo>
                                        <a:pt x="224" y="322"/>
                                      </a:moveTo>
                                      <a:lnTo>
                                        <a:pt x="211" y="356"/>
                                      </a:lnTo>
                                      <a:lnTo>
                                        <a:pt x="194" y="387"/>
                                      </a:lnTo>
                                      <a:lnTo>
                                        <a:pt x="181" y="408"/>
                                      </a:lnTo>
                                      <a:lnTo>
                                        <a:pt x="164" y="430"/>
                                      </a:lnTo>
                                      <a:lnTo>
                                        <a:pt x="147" y="447"/>
                                      </a:lnTo>
                                      <a:lnTo>
                                        <a:pt x="125" y="468"/>
                                      </a:lnTo>
                                      <a:lnTo>
                                        <a:pt x="104" y="485"/>
                                      </a:lnTo>
                                      <a:lnTo>
                                        <a:pt x="82" y="507"/>
                                      </a:lnTo>
                                      <a:lnTo>
                                        <a:pt x="82" y="546"/>
                                      </a:lnTo>
                                      <a:lnTo>
                                        <a:pt x="82" y="580"/>
                                      </a:lnTo>
                                      <a:lnTo>
                                        <a:pt x="78" y="619"/>
                                      </a:lnTo>
                                      <a:lnTo>
                                        <a:pt x="73" y="657"/>
                                      </a:lnTo>
                                      <a:lnTo>
                                        <a:pt x="65" y="692"/>
                                      </a:lnTo>
                                      <a:lnTo>
                                        <a:pt x="47" y="726"/>
                                      </a:lnTo>
                                      <a:lnTo>
                                        <a:pt x="30" y="761"/>
                                      </a:lnTo>
                                      <a:lnTo>
                                        <a:pt x="0" y="791"/>
                                      </a:lnTo>
                                      <a:lnTo>
                                        <a:pt x="0" y="817"/>
                                      </a:lnTo>
                                      <a:lnTo>
                                        <a:pt x="0" y="851"/>
                                      </a:lnTo>
                                      <a:lnTo>
                                        <a:pt x="0" y="898"/>
                                      </a:lnTo>
                                      <a:lnTo>
                                        <a:pt x="0" y="950"/>
                                      </a:lnTo>
                                      <a:lnTo>
                                        <a:pt x="4" y="997"/>
                                      </a:lnTo>
                                      <a:lnTo>
                                        <a:pt x="9" y="1036"/>
                                      </a:lnTo>
                                      <a:lnTo>
                                        <a:pt x="17" y="1053"/>
                                      </a:lnTo>
                                      <a:lnTo>
                                        <a:pt x="22" y="1066"/>
                                      </a:lnTo>
                                      <a:lnTo>
                                        <a:pt x="30" y="1075"/>
                                      </a:lnTo>
                                      <a:lnTo>
                                        <a:pt x="43" y="1075"/>
                                      </a:lnTo>
                                      <a:lnTo>
                                        <a:pt x="43" y="1066"/>
                                      </a:lnTo>
                                      <a:lnTo>
                                        <a:pt x="47" y="1057"/>
                                      </a:lnTo>
                                      <a:lnTo>
                                        <a:pt x="47" y="1044"/>
                                      </a:lnTo>
                                      <a:lnTo>
                                        <a:pt x="52" y="1036"/>
                                      </a:lnTo>
                                      <a:lnTo>
                                        <a:pt x="56" y="1023"/>
                                      </a:lnTo>
                                      <a:lnTo>
                                        <a:pt x="60" y="1014"/>
                                      </a:lnTo>
                                      <a:lnTo>
                                        <a:pt x="60" y="1001"/>
                                      </a:lnTo>
                                      <a:lnTo>
                                        <a:pt x="65" y="993"/>
                                      </a:lnTo>
                                      <a:lnTo>
                                        <a:pt x="82" y="976"/>
                                      </a:lnTo>
                                      <a:lnTo>
                                        <a:pt x="142" y="976"/>
                                      </a:lnTo>
                                      <a:lnTo>
                                        <a:pt x="134" y="1010"/>
                                      </a:lnTo>
                                      <a:lnTo>
                                        <a:pt x="104" y="1075"/>
                                      </a:lnTo>
                                      <a:lnTo>
                                        <a:pt x="69" y="1161"/>
                                      </a:lnTo>
                                      <a:lnTo>
                                        <a:pt x="35" y="1255"/>
                                      </a:lnTo>
                                      <a:lnTo>
                                        <a:pt x="22" y="1302"/>
                                      </a:lnTo>
                                      <a:lnTo>
                                        <a:pt x="13" y="1345"/>
                                      </a:lnTo>
                                      <a:lnTo>
                                        <a:pt x="13" y="1388"/>
                                      </a:lnTo>
                                      <a:lnTo>
                                        <a:pt x="17" y="1427"/>
                                      </a:lnTo>
                                      <a:lnTo>
                                        <a:pt x="22" y="1440"/>
                                      </a:lnTo>
                                      <a:lnTo>
                                        <a:pt x="26" y="1457"/>
                                      </a:lnTo>
                                      <a:lnTo>
                                        <a:pt x="39" y="1470"/>
                                      </a:lnTo>
                                      <a:lnTo>
                                        <a:pt x="47" y="1483"/>
                                      </a:lnTo>
                                      <a:lnTo>
                                        <a:pt x="65" y="1492"/>
                                      </a:lnTo>
                                      <a:lnTo>
                                        <a:pt x="82" y="1496"/>
                                      </a:lnTo>
                                      <a:lnTo>
                                        <a:pt x="99" y="1500"/>
                                      </a:lnTo>
                                      <a:lnTo>
                                        <a:pt x="125" y="1500"/>
                                      </a:lnTo>
                                      <a:lnTo>
                                        <a:pt x="125" y="1358"/>
                                      </a:lnTo>
                                      <a:lnTo>
                                        <a:pt x="134" y="1358"/>
                                      </a:lnTo>
                                      <a:lnTo>
                                        <a:pt x="138" y="1358"/>
                                      </a:lnTo>
                                      <a:lnTo>
                                        <a:pt x="147" y="1354"/>
                                      </a:lnTo>
                                      <a:lnTo>
                                        <a:pt x="155" y="1350"/>
                                      </a:lnTo>
                                      <a:lnTo>
                                        <a:pt x="164" y="1345"/>
                                      </a:lnTo>
                                      <a:lnTo>
                                        <a:pt x="168" y="1341"/>
                                      </a:lnTo>
                                      <a:lnTo>
                                        <a:pt x="177" y="1341"/>
                                      </a:lnTo>
                                      <a:lnTo>
                                        <a:pt x="186" y="1341"/>
                                      </a:lnTo>
                                      <a:lnTo>
                                        <a:pt x="181" y="1371"/>
                                      </a:lnTo>
                                      <a:lnTo>
                                        <a:pt x="173" y="1414"/>
                                      </a:lnTo>
                                      <a:lnTo>
                                        <a:pt x="160" y="1462"/>
                                      </a:lnTo>
                                      <a:lnTo>
                                        <a:pt x="155" y="1513"/>
                                      </a:lnTo>
                                      <a:lnTo>
                                        <a:pt x="155" y="1539"/>
                                      </a:lnTo>
                                      <a:lnTo>
                                        <a:pt x="155" y="1565"/>
                                      </a:lnTo>
                                      <a:lnTo>
                                        <a:pt x="160" y="1586"/>
                                      </a:lnTo>
                                      <a:lnTo>
                                        <a:pt x="168" y="1603"/>
                                      </a:lnTo>
                                      <a:lnTo>
                                        <a:pt x="181" y="1621"/>
                                      </a:lnTo>
                                      <a:lnTo>
                                        <a:pt x="198" y="1634"/>
                                      </a:lnTo>
                                      <a:lnTo>
                                        <a:pt x="220" y="1642"/>
                                      </a:lnTo>
                                      <a:lnTo>
                                        <a:pt x="246" y="1646"/>
                                      </a:lnTo>
                                      <a:lnTo>
                                        <a:pt x="250" y="1612"/>
                                      </a:lnTo>
                                      <a:lnTo>
                                        <a:pt x="255" y="1560"/>
                                      </a:lnTo>
                                      <a:lnTo>
                                        <a:pt x="263" y="1500"/>
                                      </a:lnTo>
                                      <a:lnTo>
                                        <a:pt x="276" y="1440"/>
                                      </a:lnTo>
                                      <a:lnTo>
                                        <a:pt x="293" y="1380"/>
                                      </a:lnTo>
                                      <a:lnTo>
                                        <a:pt x="315" y="1328"/>
                                      </a:lnTo>
                                      <a:lnTo>
                                        <a:pt x="328" y="1307"/>
                                      </a:lnTo>
                                      <a:lnTo>
                                        <a:pt x="341" y="1294"/>
                                      </a:lnTo>
                                      <a:lnTo>
                                        <a:pt x="354" y="1281"/>
                                      </a:lnTo>
                                      <a:lnTo>
                                        <a:pt x="367" y="1277"/>
                                      </a:lnTo>
                                      <a:lnTo>
                                        <a:pt x="367" y="1272"/>
                                      </a:lnTo>
                                      <a:lnTo>
                                        <a:pt x="367" y="1264"/>
                                      </a:lnTo>
                                      <a:lnTo>
                                        <a:pt x="362" y="1255"/>
                                      </a:lnTo>
                                      <a:lnTo>
                                        <a:pt x="358" y="1247"/>
                                      </a:lnTo>
                                      <a:lnTo>
                                        <a:pt x="354" y="1242"/>
                                      </a:lnTo>
                                      <a:lnTo>
                                        <a:pt x="349" y="1234"/>
                                      </a:lnTo>
                                      <a:lnTo>
                                        <a:pt x="349" y="1225"/>
                                      </a:lnTo>
                                      <a:lnTo>
                                        <a:pt x="349" y="1216"/>
                                      </a:lnTo>
                                      <a:lnTo>
                                        <a:pt x="341" y="1221"/>
                                      </a:lnTo>
                                      <a:lnTo>
                                        <a:pt x="328" y="1225"/>
                                      </a:lnTo>
                                      <a:lnTo>
                                        <a:pt x="311" y="1229"/>
                                      </a:lnTo>
                                      <a:lnTo>
                                        <a:pt x="298" y="1238"/>
                                      </a:lnTo>
                                      <a:lnTo>
                                        <a:pt x="280" y="1247"/>
                                      </a:lnTo>
                                      <a:lnTo>
                                        <a:pt x="268" y="1251"/>
                                      </a:lnTo>
                                      <a:lnTo>
                                        <a:pt x="255" y="1255"/>
                                      </a:lnTo>
                                      <a:lnTo>
                                        <a:pt x="246" y="1259"/>
                                      </a:lnTo>
                                      <a:lnTo>
                                        <a:pt x="237" y="1277"/>
                                      </a:lnTo>
                                      <a:lnTo>
                                        <a:pt x="224" y="1294"/>
                                      </a:lnTo>
                                      <a:lnTo>
                                        <a:pt x="211" y="1315"/>
                                      </a:lnTo>
                                      <a:lnTo>
                                        <a:pt x="198" y="1341"/>
                                      </a:lnTo>
                                      <a:lnTo>
                                        <a:pt x="186" y="1363"/>
                                      </a:lnTo>
                                      <a:lnTo>
                                        <a:pt x="177" y="1384"/>
                                      </a:lnTo>
                                      <a:lnTo>
                                        <a:pt x="168" y="1406"/>
                                      </a:lnTo>
                                      <a:lnTo>
                                        <a:pt x="164" y="1423"/>
                                      </a:lnTo>
                                      <a:lnTo>
                                        <a:pt x="168" y="1376"/>
                                      </a:lnTo>
                                      <a:lnTo>
                                        <a:pt x="173" y="1328"/>
                                      </a:lnTo>
                                      <a:lnTo>
                                        <a:pt x="177" y="1277"/>
                                      </a:lnTo>
                                      <a:lnTo>
                                        <a:pt x="186" y="1229"/>
                                      </a:lnTo>
                                      <a:lnTo>
                                        <a:pt x="194" y="1182"/>
                                      </a:lnTo>
                                      <a:lnTo>
                                        <a:pt x="198" y="1139"/>
                                      </a:lnTo>
                                      <a:lnTo>
                                        <a:pt x="203" y="1096"/>
                                      </a:lnTo>
                                      <a:lnTo>
                                        <a:pt x="207" y="1053"/>
                                      </a:lnTo>
                                      <a:lnTo>
                                        <a:pt x="198" y="1057"/>
                                      </a:lnTo>
                                      <a:lnTo>
                                        <a:pt x="186" y="1062"/>
                                      </a:lnTo>
                                      <a:lnTo>
                                        <a:pt x="177" y="1070"/>
                                      </a:lnTo>
                                      <a:lnTo>
                                        <a:pt x="164" y="1079"/>
                                      </a:lnTo>
                                      <a:lnTo>
                                        <a:pt x="155" y="1087"/>
                                      </a:lnTo>
                                      <a:lnTo>
                                        <a:pt x="142" y="1096"/>
                                      </a:lnTo>
                                      <a:lnTo>
                                        <a:pt x="134" y="1109"/>
                                      </a:lnTo>
                                      <a:lnTo>
                                        <a:pt x="125" y="1118"/>
                                      </a:lnTo>
                                      <a:lnTo>
                                        <a:pt x="125" y="1135"/>
                                      </a:lnTo>
                                      <a:lnTo>
                                        <a:pt x="125" y="1156"/>
                                      </a:lnTo>
                                      <a:lnTo>
                                        <a:pt x="138" y="1109"/>
                                      </a:lnTo>
                                      <a:lnTo>
                                        <a:pt x="155" y="1053"/>
                                      </a:lnTo>
                                      <a:lnTo>
                                        <a:pt x="173" y="984"/>
                                      </a:lnTo>
                                      <a:lnTo>
                                        <a:pt x="190" y="911"/>
                                      </a:lnTo>
                                      <a:lnTo>
                                        <a:pt x="203" y="838"/>
                                      </a:lnTo>
                                      <a:lnTo>
                                        <a:pt x="216" y="765"/>
                                      </a:lnTo>
                                      <a:lnTo>
                                        <a:pt x="224" y="700"/>
                                      </a:lnTo>
                                      <a:lnTo>
                                        <a:pt x="224" y="649"/>
                                      </a:lnTo>
                                      <a:lnTo>
                                        <a:pt x="207" y="653"/>
                                      </a:lnTo>
                                      <a:lnTo>
                                        <a:pt x="190" y="666"/>
                                      </a:lnTo>
                                      <a:lnTo>
                                        <a:pt x="177" y="679"/>
                                      </a:lnTo>
                                      <a:lnTo>
                                        <a:pt x="168" y="700"/>
                                      </a:lnTo>
                                      <a:lnTo>
                                        <a:pt x="160" y="718"/>
                                      </a:lnTo>
                                      <a:lnTo>
                                        <a:pt x="147" y="735"/>
                                      </a:lnTo>
                                      <a:lnTo>
                                        <a:pt x="138" y="748"/>
                                      </a:lnTo>
                                      <a:lnTo>
                                        <a:pt x="125" y="752"/>
                                      </a:lnTo>
                                      <a:lnTo>
                                        <a:pt x="134" y="726"/>
                                      </a:lnTo>
                                      <a:lnTo>
                                        <a:pt x="147" y="696"/>
                                      </a:lnTo>
                                      <a:lnTo>
                                        <a:pt x="160" y="662"/>
                                      </a:lnTo>
                                      <a:lnTo>
                                        <a:pt x="173" y="627"/>
                                      </a:lnTo>
                                      <a:lnTo>
                                        <a:pt x="186" y="593"/>
                                      </a:lnTo>
                                      <a:lnTo>
                                        <a:pt x="194" y="563"/>
                                      </a:lnTo>
                                      <a:lnTo>
                                        <a:pt x="203" y="533"/>
                                      </a:lnTo>
                                      <a:lnTo>
                                        <a:pt x="207" y="507"/>
                                      </a:lnTo>
                                      <a:lnTo>
                                        <a:pt x="220" y="503"/>
                                      </a:lnTo>
                                      <a:lnTo>
                                        <a:pt x="229" y="498"/>
                                      </a:lnTo>
                                      <a:lnTo>
                                        <a:pt x="237" y="494"/>
                                      </a:lnTo>
                                      <a:lnTo>
                                        <a:pt x="246" y="485"/>
                                      </a:lnTo>
                                      <a:lnTo>
                                        <a:pt x="250" y="473"/>
                                      </a:lnTo>
                                      <a:lnTo>
                                        <a:pt x="255" y="464"/>
                                      </a:lnTo>
                                      <a:lnTo>
                                        <a:pt x="259" y="455"/>
                                      </a:lnTo>
                                      <a:lnTo>
                                        <a:pt x="268" y="447"/>
                                      </a:lnTo>
                                      <a:lnTo>
                                        <a:pt x="276" y="442"/>
                                      </a:lnTo>
                                      <a:lnTo>
                                        <a:pt x="280" y="442"/>
                                      </a:lnTo>
                                      <a:lnTo>
                                        <a:pt x="289" y="438"/>
                                      </a:lnTo>
                                      <a:lnTo>
                                        <a:pt x="298" y="434"/>
                                      </a:lnTo>
                                      <a:lnTo>
                                        <a:pt x="306" y="430"/>
                                      </a:lnTo>
                                      <a:lnTo>
                                        <a:pt x="311" y="430"/>
                                      </a:lnTo>
                                      <a:lnTo>
                                        <a:pt x="319" y="425"/>
                                      </a:lnTo>
                                      <a:lnTo>
                                        <a:pt x="328" y="425"/>
                                      </a:lnTo>
                                      <a:lnTo>
                                        <a:pt x="328" y="408"/>
                                      </a:lnTo>
                                      <a:lnTo>
                                        <a:pt x="324" y="387"/>
                                      </a:lnTo>
                                      <a:lnTo>
                                        <a:pt x="324" y="365"/>
                                      </a:lnTo>
                                      <a:lnTo>
                                        <a:pt x="319" y="344"/>
                                      </a:lnTo>
                                      <a:lnTo>
                                        <a:pt x="315" y="322"/>
                                      </a:lnTo>
                                      <a:lnTo>
                                        <a:pt x="311" y="301"/>
                                      </a:lnTo>
                                      <a:lnTo>
                                        <a:pt x="311" y="279"/>
                                      </a:lnTo>
                                      <a:lnTo>
                                        <a:pt x="306" y="262"/>
                                      </a:lnTo>
                                      <a:lnTo>
                                        <a:pt x="319" y="262"/>
                                      </a:lnTo>
                                      <a:lnTo>
                                        <a:pt x="332" y="253"/>
                                      </a:lnTo>
                                      <a:lnTo>
                                        <a:pt x="345" y="245"/>
                                      </a:lnTo>
                                      <a:lnTo>
                                        <a:pt x="354" y="232"/>
                                      </a:lnTo>
                                      <a:lnTo>
                                        <a:pt x="380" y="193"/>
                                      </a:lnTo>
                                      <a:lnTo>
                                        <a:pt x="401" y="154"/>
                                      </a:lnTo>
                                      <a:lnTo>
                                        <a:pt x="423" y="107"/>
                                      </a:lnTo>
                                      <a:lnTo>
                                        <a:pt x="436" y="64"/>
                                      </a:lnTo>
                                      <a:lnTo>
                                        <a:pt x="449" y="25"/>
                                      </a:lnTo>
                                      <a:lnTo>
                                        <a:pt x="449" y="0"/>
                                      </a:lnTo>
                                      <a:lnTo>
                                        <a:pt x="414" y="25"/>
                                      </a:lnTo>
                                      <a:lnTo>
                                        <a:pt x="384" y="55"/>
                                      </a:lnTo>
                                      <a:lnTo>
                                        <a:pt x="354" y="90"/>
                                      </a:lnTo>
                                      <a:lnTo>
                                        <a:pt x="324" y="124"/>
                                      </a:lnTo>
                                      <a:lnTo>
                                        <a:pt x="289" y="154"/>
                                      </a:lnTo>
                                      <a:lnTo>
                                        <a:pt x="255" y="180"/>
                                      </a:lnTo>
                                      <a:lnTo>
                                        <a:pt x="237" y="189"/>
                                      </a:lnTo>
                                      <a:lnTo>
                                        <a:pt x="216" y="193"/>
                                      </a:lnTo>
                                      <a:lnTo>
                                        <a:pt x="190" y="202"/>
                                      </a:lnTo>
                                      <a:lnTo>
                                        <a:pt x="164" y="202"/>
                                      </a:lnTo>
                                      <a:lnTo>
                                        <a:pt x="160" y="223"/>
                                      </a:lnTo>
                                      <a:lnTo>
                                        <a:pt x="151" y="249"/>
                                      </a:lnTo>
                                      <a:lnTo>
                                        <a:pt x="138" y="279"/>
                                      </a:lnTo>
                                      <a:lnTo>
                                        <a:pt x="125" y="305"/>
                                      </a:lnTo>
                                      <a:lnTo>
                                        <a:pt x="108" y="335"/>
                                      </a:lnTo>
                                      <a:lnTo>
                                        <a:pt x="95" y="365"/>
                                      </a:lnTo>
                                      <a:lnTo>
                                        <a:pt x="86" y="395"/>
                                      </a:lnTo>
                                      <a:lnTo>
                                        <a:pt x="82" y="425"/>
                                      </a:lnTo>
                                      <a:lnTo>
                                        <a:pt x="86" y="417"/>
                                      </a:lnTo>
                                      <a:lnTo>
                                        <a:pt x="91" y="408"/>
                                      </a:lnTo>
                                      <a:lnTo>
                                        <a:pt x="95" y="399"/>
                                      </a:lnTo>
                                      <a:lnTo>
                                        <a:pt x="104" y="391"/>
                                      </a:lnTo>
                                      <a:lnTo>
                                        <a:pt x="112" y="382"/>
                                      </a:lnTo>
                                      <a:lnTo>
                                        <a:pt x="117" y="369"/>
                                      </a:lnTo>
                                      <a:lnTo>
                                        <a:pt x="121" y="356"/>
                                      </a:lnTo>
                                      <a:lnTo>
                                        <a:pt x="125" y="344"/>
                                      </a:lnTo>
                                      <a:lnTo>
                                        <a:pt x="142" y="322"/>
                                      </a:lnTo>
                                      <a:lnTo>
                                        <a:pt x="164" y="322"/>
                                      </a:lnTo>
                                      <a:lnTo>
                                        <a:pt x="164" y="305"/>
                                      </a:lnTo>
                                      <a:lnTo>
                                        <a:pt x="186" y="283"/>
                                      </a:lnTo>
                                      <a:lnTo>
                                        <a:pt x="224" y="322"/>
                                      </a:lnTo>
                                      <a:close/>
                                    </a:path>
                                  </a:pathLst>
                                </a:custGeom>
                                <a:blipFill rotWithShape="0">
                                  <a:blip r:embed="rId34"/>
                                  <a:srcRect/>
                                  <a:tile tx="0" ty="0" sx="100000" sy="100000" algn="ctr"/>
                                </a:blip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19" name=""/>
                                <p:cNvSpPr/>
                                <p:nvPr/>
                              </p:nvSpPr>
                              <p:spPr>
                                <a:xfrm rot="21327600">
                                  <a:off x="1541520" y="741600"/>
                                  <a:ext cx="162360" cy="5472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587" h="567">
                                      <a:moveTo>
                                        <a:pt x="159" y="258"/>
                                      </a:moveTo>
                                      <a:lnTo>
                                        <a:pt x="181" y="253"/>
                                      </a:lnTo>
                                      <a:lnTo>
                                        <a:pt x="207" y="245"/>
                                      </a:lnTo>
                                      <a:lnTo>
                                        <a:pt x="233" y="228"/>
                                      </a:lnTo>
                                      <a:lnTo>
                                        <a:pt x="263" y="206"/>
                                      </a:lnTo>
                                      <a:lnTo>
                                        <a:pt x="293" y="189"/>
                                      </a:lnTo>
                                      <a:lnTo>
                                        <a:pt x="323" y="172"/>
                                      </a:lnTo>
                                      <a:lnTo>
                                        <a:pt x="345" y="163"/>
                                      </a:lnTo>
                                      <a:lnTo>
                                        <a:pt x="367" y="159"/>
                                      </a:lnTo>
                                      <a:lnTo>
                                        <a:pt x="367" y="142"/>
                                      </a:lnTo>
                                      <a:lnTo>
                                        <a:pt x="375" y="124"/>
                                      </a:lnTo>
                                      <a:lnTo>
                                        <a:pt x="384" y="111"/>
                                      </a:lnTo>
                                      <a:lnTo>
                                        <a:pt x="397" y="99"/>
                                      </a:lnTo>
                                      <a:lnTo>
                                        <a:pt x="436" y="73"/>
                                      </a:lnTo>
                                      <a:lnTo>
                                        <a:pt x="483" y="51"/>
                                      </a:lnTo>
                                      <a:lnTo>
                                        <a:pt x="539" y="34"/>
                                      </a:lnTo>
                                      <a:lnTo>
                                        <a:pt x="604" y="21"/>
                                      </a:lnTo>
                                      <a:lnTo>
                                        <a:pt x="673" y="13"/>
                                      </a:lnTo>
                                      <a:lnTo>
                                        <a:pt x="746" y="4"/>
                                      </a:lnTo>
                                      <a:lnTo>
                                        <a:pt x="824" y="0"/>
                                      </a:lnTo>
                                      <a:lnTo>
                                        <a:pt x="897" y="0"/>
                                      </a:lnTo>
                                      <a:lnTo>
                                        <a:pt x="971" y="0"/>
                                      </a:lnTo>
                                      <a:lnTo>
                                        <a:pt x="1035" y="4"/>
                                      </a:lnTo>
                                      <a:lnTo>
                                        <a:pt x="1096" y="8"/>
                                      </a:lnTo>
                                      <a:lnTo>
                                        <a:pt x="1152" y="17"/>
                                      </a:lnTo>
                                      <a:lnTo>
                                        <a:pt x="1191" y="25"/>
                                      </a:lnTo>
                                      <a:lnTo>
                                        <a:pt x="1221" y="34"/>
                                      </a:lnTo>
                                      <a:lnTo>
                                        <a:pt x="1221" y="56"/>
                                      </a:lnTo>
                                      <a:lnTo>
                                        <a:pt x="1251" y="68"/>
                                      </a:lnTo>
                                      <a:lnTo>
                                        <a:pt x="1285" y="81"/>
                                      </a:lnTo>
                                      <a:lnTo>
                                        <a:pt x="1324" y="103"/>
                                      </a:lnTo>
                                      <a:lnTo>
                                        <a:pt x="1363" y="124"/>
                                      </a:lnTo>
                                      <a:lnTo>
                                        <a:pt x="1406" y="146"/>
                                      </a:lnTo>
                                      <a:lnTo>
                                        <a:pt x="1445" y="163"/>
                                      </a:lnTo>
                                      <a:lnTo>
                                        <a:pt x="1480" y="172"/>
                                      </a:lnTo>
                                      <a:lnTo>
                                        <a:pt x="1506" y="176"/>
                                      </a:lnTo>
                                      <a:lnTo>
                                        <a:pt x="1514" y="185"/>
                                      </a:lnTo>
                                      <a:lnTo>
                                        <a:pt x="1527" y="197"/>
                                      </a:lnTo>
                                      <a:lnTo>
                                        <a:pt x="1536" y="206"/>
                                      </a:lnTo>
                                      <a:lnTo>
                                        <a:pt x="1549" y="215"/>
                                      </a:lnTo>
                                      <a:lnTo>
                                        <a:pt x="1562" y="223"/>
                                      </a:lnTo>
                                      <a:lnTo>
                                        <a:pt x="1570" y="232"/>
                                      </a:lnTo>
                                      <a:lnTo>
                                        <a:pt x="1579" y="236"/>
                                      </a:lnTo>
                                      <a:lnTo>
                                        <a:pt x="1587" y="240"/>
                                      </a:lnTo>
                                      <a:lnTo>
                                        <a:pt x="1587" y="464"/>
                                      </a:lnTo>
                                      <a:lnTo>
                                        <a:pt x="1562" y="486"/>
                                      </a:lnTo>
                                      <a:lnTo>
                                        <a:pt x="1531" y="503"/>
                                      </a:lnTo>
                                      <a:lnTo>
                                        <a:pt x="1493" y="520"/>
                                      </a:lnTo>
                                      <a:lnTo>
                                        <a:pt x="1449" y="533"/>
                                      </a:lnTo>
                                      <a:lnTo>
                                        <a:pt x="1402" y="546"/>
                                      </a:lnTo>
                                      <a:lnTo>
                                        <a:pt x="1350" y="554"/>
                                      </a:lnTo>
                                      <a:lnTo>
                                        <a:pt x="1298" y="563"/>
                                      </a:lnTo>
                                      <a:lnTo>
                                        <a:pt x="1247" y="567"/>
                                      </a:lnTo>
                                      <a:lnTo>
                                        <a:pt x="1195" y="567"/>
                                      </a:lnTo>
                                      <a:lnTo>
                                        <a:pt x="1139" y="567"/>
                                      </a:lnTo>
                                      <a:lnTo>
                                        <a:pt x="1087" y="563"/>
                                      </a:lnTo>
                                      <a:lnTo>
                                        <a:pt x="1040" y="559"/>
                                      </a:lnTo>
                                      <a:lnTo>
                                        <a:pt x="992" y="546"/>
                                      </a:lnTo>
                                      <a:lnTo>
                                        <a:pt x="949" y="537"/>
                                      </a:lnTo>
                                      <a:lnTo>
                                        <a:pt x="910" y="520"/>
                                      </a:lnTo>
                                      <a:lnTo>
                                        <a:pt x="876" y="503"/>
                                      </a:lnTo>
                                      <a:lnTo>
                                        <a:pt x="876" y="481"/>
                                      </a:lnTo>
                                      <a:lnTo>
                                        <a:pt x="863" y="481"/>
                                      </a:lnTo>
                                      <a:lnTo>
                                        <a:pt x="845" y="481"/>
                                      </a:lnTo>
                                      <a:lnTo>
                                        <a:pt x="828" y="486"/>
                                      </a:lnTo>
                                      <a:lnTo>
                                        <a:pt x="807" y="486"/>
                                      </a:lnTo>
                                      <a:lnTo>
                                        <a:pt x="785" y="486"/>
                                      </a:lnTo>
                                      <a:lnTo>
                                        <a:pt x="768" y="490"/>
                                      </a:lnTo>
                                      <a:lnTo>
                                        <a:pt x="759" y="494"/>
                                      </a:lnTo>
                                      <a:lnTo>
                                        <a:pt x="755" y="503"/>
                                      </a:lnTo>
                                      <a:lnTo>
                                        <a:pt x="99" y="503"/>
                                      </a:lnTo>
                                      <a:lnTo>
                                        <a:pt x="95" y="503"/>
                                      </a:lnTo>
                                      <a:lnTo>
                                        <a:pt x="86" y="498"/>
                                      </a:lnTo>
                                      <a:lnTo>
                                        <a:pt x="77" y="498"/>
                                      </a:lnTo>
                                      <a:lnTo>
                                        <a:pt x="69" y="494"/>
                                      </a:lnTo>
                                      <a:lnTo>
                                        <a:pt x="60" y="490"/>
                                      </a:lnTo>
                                      <a:lnTo>
                                        <a:pt x="56" y="486"/>
                                      </a:lnTo>
                                      <a:lnTo>
                                        <a:pt x="47" y="486"/>
                                      </a:lnTo>
                                      <a:lnTo>
                                        <a:pt x="39" y="481"/>
                                      </a:lnTo>
                                      <a:lnTo>
                                        <a:pt x="0" y="443"/>
                                      </a:lnTo>
                                      <a:lnTo>
                                        <a:pt x="0" y="361"/>
                                      </a:lnTo>
                                      <a:lnTo>
                                        <a:pt x="8" y="352"/>
                                      </a:lnTo>
                                      <a:lnTo>
                                        <a:pt x="17" y="344"/>
                                      </a:lnTo>
                                      <a:lnTo>
                                        <a:pt x="26" y="331"/>
                                      </a:lnTo>
                                      <a:lnTo>
                                        <a:pt x="39" y="318"/>
                                      </a:lnTo>
                                      <a:lnTo>
                                        <a:pt x="47" y="305"/>
                                      </a:lnTo>
                                      <a:lnTo>
                                        <a:pt x="52" y="288"/>
                                      </a:lnTo>
                                      <a:lnTo>
                                        <a:pt x="56" y="275"/>
                                      </a:lnTo>
                                      <a:lnTo>
                                        <a:pt x="60" y="258"/>
                                      </a:lnTo>
                                      <a:lnTo>
                                        <a:pt x="69" y="253"/>
                                      </a:lnTo>
                                      <a:lnTo>
                                        <a:pt x="82" y="245"/>
                                      </a:lnTo>
                                      <a:lnTo>
                                        <a:pt x="95" y="232"/>
                                      </a:lnTo>
                                      <a:lnTo>
                                        <a:pt x="112" y="219"/>
                                      </a:lnTo>
                                      <a:lnTo>
                                        <a:pt x="125" y="215"/>
                                      </a:lnTo>
                                      <a:lnTo>
                                        <a:pt x="138" y="215"/>
                                      </a:lnTo>
                                      <a:lnTo>
                                        <a:pt x="151" y="232"/>
                                      </a:lnTo>
                                      <a:lnTo>
                                        <a:pt x="159" y="258"/>
                                      </a:lnTo>
                                      <a:close/>
                                    </a:path>
                                  </a:pathLst>
                                </a:custGeom>
                                <a:blipFill rotWithShape="0">
                                  <a:blip r:embed="rId35"/>
                                  <a:srcRect/>
                                  <a:tile tx="0" ty="0" sx="100000" sy="100000" algn="ctr"/>
                                </a:blip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7920" bIns="792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120" name=""/>
                              <p:cNvSpPr/>
                              <p:nvPr/>
                            </p:nvSpPr>
                            <p:spPr>
                              <a:xfrm rot="21327600">
                                <a:off x="1553400" y="744120"/>
                                <a:ext cx="141480" cy="478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85" h="495">
                                    <a:moveTo>
                                      <a:pt x="142" y="228"/>
                                    </a:moveTo>
                                    <a:lnTo>
                                      <a:pt x="160" y="224"/>
                                    </a:lnTo>
                                    <a:lnTo>
                                      <a:pt x="181" y="215"/>
                                    </a:lnTo>
                                    <a:lnTo>
                                      <a:pt x="203" y="198"/>
                                    </a:lnTo>
                                    <a:lnTo>
                                      <a:pt x="229" y="185"/>
                                    </a:lnTo>
                                    <a:lnTo>
                                      <a:pt x="259" y="168"/>
                                    </a:lnTo>
                                    <a:lnTo>
                                      <a:pt x="280" y="151"/>
                                    </a:lnTo>
                                    <a:lnTo>
                                      <a:pt x="302" y="142"/>
                                    </a:lnTo>
                                    <a:lnTo>
                                      <a:pt x="319" y="138"/>
                                    </a:lnTo>
                                    <a:lnTo>
                                      <a:pt x="319" y="125"/>
                                    </a:lnTo>
                                    <a:lnTo>
                                      <a:pt x="328" y="112"/>
                                    </a:lnTo>
                                    <a:lnTo>
                                      <a:pt x="336" y="99"/>
                                    </a:lnTo>
                                    <a:lnTo>
                                      <a:pt x="345" y="86"/>
                                    </a:lnTo>
                                    <a:lnTo>
                                      <a:pt x="380" y="65"/>
                                    </a:lnTo>
                                    <a:lnTo>
                                      <a:pt x="423" y="48"/>
                                    </a:lnTo>
                                    <a:lnTo>
                                      <a:pt x="470" y="35"/>
                                    </a:lnTo>
                                    <a:lnTo>
                                      <a:pt x="526" y="22"/>
                                    </a:lnTo>
                                    <a:lnTo>
                                      <a:pt x="587" y="13"/>
                                    </a:lnTo>
                                    <a:lnTo>
                                      <a:pt x="651" y="5"/>
                                    </a:lnTo>
                                    <a:lnTo>
                                      <a:pt x="716" y="5"/>
                                    </a:lnTo>
                                    <a:lnTo>
                                      <a:pt x="781" y="0"/>
                                    </a:lnTo>
                                    <a:lnTo>
                                      <a:pt x="846" y="0"/>
                                    </a:lnTo>
                                    <a:lnTo>
                                      <a:pt x="906" y="5"/>
                                    </a:lnTo>
                                    <a:lnTo>
                                      <a:pt x="958" y="9"/>
                                    </a:lnTo>
                                    <a:lnTo>
                                      <a:pt x="1001" y="18"/>
                                    </a:lnTo>
                                    <a:lnTo>
                                      <a:pt x="1040" y="22"/>
                                    </a:lnTo>
                                    <a:lnTo>
                                      <a:pt x="1066" y="35"/>
                                    </a:lnTo>
                                    <a:lnTo>
                                      <a:pt x="1066" y="35"/>
                                    </a:lnTo>
                                    <a:lnTo>
                                      <a:pt x="1066" y="39"/>
                                    </a:lnTo>
                                    <a:lnTo>
                                      <a:pt x="1066" y="39"/>
                                    </a:lnTo>
                                    <a:lnTo>
                                      <a:pt x="1066" y="43"/>
                                    </a:lnTo>
                                    <a:lnTo>
                                      <a:pt x="1066" y="43"/>
                                    </a:lnTo>
                                    <a:lnTo>
                                      <a:pt x="1066" y="48"/>
                                    </a:lnTo>
                                    <a:lnTo>
                                      <a:pt x="1066" y="48"/>
                                    </a:lnTo>
                                    <a:lnTo>
                                      <a:pt x="1066" y="52"/>
                                    </a:lnTo>
                                    <a:lnTo>
                                      <a:pt x="1087" y="61"/>
                                    </a:lnTo>
                                    <a:lnTo>
                                      <a:pt x="1117" y="74"/>
                                    </a:lnTo>
                                    <a:lnTo>
                                      <a:pt x="1152" y="91"/>
                                    </a:lnTo>
                                    <a:lnTo>
                                      <a:pt x="1191" y="112"/>
                                    </a:lnTo>
                                    <a:lnTo>
                                      <a:pt x="1225" y="129"/>
                                    </a:lnTo>
                                    <a:lnTo>
                                      <a:pt x="1260" y="142"/>
                                    </a:lnTo>
                                    <a:lnTo>
                                      <a:pt x="1290" y="151"/>
                                    </a:lnTo>
                                    <a:lnTo>
                                      <a:pt x="1316" y="155"/>
                                    </a:lnTo>
                                    <a:lnTo>
                                      <a:pt x="1320" y="164"/>
                                    </a:lnTo>
                                    <a:lnTo>
                                      <a:pt x="1329" y="172"/>
                                    </a:lnTo>
                                    <a:lnTo>
                                      <a:pt x="1342" y="181"/>
                                    </a:lnTo>
                                    <a:lnTo>
                                      <a:pt x="1350" y="190"/>
                                    </a:lnTo>
                                    <a:lnTo>
                                      <a:pt x="1359" y="198"/>
                                    </a:lnTo>
                                    <a:lnTo>
                                      <a:pt x="1368" y="203"/>
                                    </a:lnTo>
                                    <a:lnTo>
                                      <a:pt x="1376" y="207"/>
                                    </a:lnTo>
                                    <a:lnTo>
                                      <a:pt x="1385" y="211"/>
                                    </a:lnTo>
                                    <a:lnTo>
                                      <a:pt x="1385" y="233"/>
                                    </a:lnTo>
                                    <a:lnTo>
                                      <a:pt x="1385" y="258"/>
                                    </a:lnTo>
                                    <a:lnTo>
                                      <a:pt x="1385" y="284"/>
                                    </a:lnTo>
                                    <a:lnTo>
                                      <a:pt x="1385" y="306"/>
                                    </a:lnTo>
                                    <a:lnTo>
                                      <a:pt x="1385" y="332"/>
                                    </a:lnTo>
                                    <a:lnTo>
                                      <a:pt x="1385" y="357"/>
                                    </a:lnTo>
                                    <a:lnTo>
                                      <a:pt x="1385" y="379"/>
                                    </a:lnTo>
                                    <a:lnTo>
                                      <a:pt x="1385" y="405"/>
                                    </a:lnTo>
                                    <a:lnTo>
                                      <a:pt x="1363" y="422"/>
                                    </a:lnTo>
                                    <a:lnTo>
                                      <a:pt x="1333" y="439"/>
                                    </a:lnTo>
                                    <a:lnTo>
                                      <a:pt x="1299" y="456"/>
                                    </a:lnTo>
                                    <a:lnTo>
                                      <a:pt x="1264" y="469"/>
                                    </a:lnTo>
                                    <a:lnTo>
                                      <a:pt x="1221" y="478"/>
                                    </a:lnTo>
                                    <a:lnTo>
                                      <a:pt x="1178" y="486"/>
                                    </a:lnTo>
                                    <a:lnTo>
                                      <a:pt x="1135" y="491"/>
                                    </a:lnTo>
                                    <a:lnTo>
                                      <a:pt x="1087" y="495"/>
                                    </a:lnTo>
                                    <a:lnTo>
                                      <a:pt x="1040" y="495"/>
                                    </a:lnTo>
                                    <a:lnTo>
                                      <a:pt x="997" y="495"/>
                                    </a:lnTo>
                                    <a:lnTo>
                                      <a:pt x="949" y="491"/>
                                    </a:lnTo>
                                    <a:lnTo>
                                      <a:pt x="906" y="486"/>
                                    </a:lnTo>
                                    <a:lnTo>
                                      <a:pt x="863" y="478"/>
                                    </a:lnTo>
                                    <a:lnTo>
                                      <a:pt x="828" y="469"/>
                                    </a:lnTo>
                                    <a:lnTo>
                                      <a:pt x="794" y="456"/>
                                    </a:lnTo>
                                    <a:lnTo>
                                      <a:pt x="764" y="439"/>
                                    </a:lnTo>
                                    <a:lnTo>
                                      <a:pt x="764" y="439"/>
                                    </a:lnTo>
                                    <a:lnTo>
                                      <a:pt x="764" y="435"/>
                                    </a:lnTo>
                                    <a:lnTo>
                                      <a:pt x="764" y="435"/>
                                    </a:lnTo>
                                    <a:lnTo>
                                      <a:pt x="764" y="430"/>
                                    </a:lnTo>
                                    <a:lnTo>
                                      <a:pt x="764" y="430"/>
                                    </a:lnTo>
                                    <a:lnTo>
                                      <a:pt x="764" y="426"/>
                                    </a:lnTo>
                                    <a:lnTo>
                                      <a:pt x="764" y="426"/>
                                    </a:lnTo>
                                    <a:lnTo>
                                      <a:pt x="764" y="422"/>
                                    </a:lnTo>
                                    <a:lnTo>
                                      <a:pt x="755" y="422"/>
                                    </a:lnTo>
                                    <a:lnTo>
                                      <a:pt x="738" y="422"/>
                                    </a:lnTo>
                                    <a:lnTo>
                                      <a:pt x="720" y="422"/>
                                    </a:lnTo>
                                    <a:lnTo>
                                      <a:pt x="703" y="426"/>
                                    </a:lnTo>
                                    <a:lnTo>
                                      <a:pt x="686" y="426"/>
                                    </a:lnTo>
                                    <a:lnTo>
                                      <a:pt x="673" y="430"/>
                                    </a:lnTo>
                                    <a:lnTo>
                                      <a:pt x="660" y="435"/>
                                    </a:lnTo>
                                    <a:lnTo>
                                      <a:pt x="656" y="439"/>
                                    </a:lnTo>
                                    <a:lnTo>
                                      <a:pt x="587" y="439"/>
                                    </a:lnTo>
                                    <a:lnTo>
                                      <a:pt x="513" y="439"/>
                                    </a:lnTo>
                                    <a:lnTo>
                                      <a:pt x="444" y="439"/>
                                    </a:lnTo>
                                    <a:lnTo>
                                      <a:pt x="371" y="439"/>
                                    </a:lnTo>
                                    <a:lnTo>
                                      <a:pt x="302" y="439"/>
                                    </a:lnTo>
                                    <a:lnTo>
                                      <a:pt x="229" y="439"/>
                                    </a:lnTo>
                                    <a:lnTo>
                                      <a:pt x="160" y="439"/>
                                    </a:lnTo>
                                    <a:lnTo>
                                      <a:pt x="91" y="439"/>
                                    </a:lnTo>
                                    <a:lnTo>
                                      <a:pt x="82" y="439"/>
                                    </a:lnTo>
                                    <a:lnTo>
                                      <a:pt x="73" y="439"/>
                                    </a:lnTo>
                                    <a:lnTo>
                                      <a:pt x="69" y="435"/>
                                    </a:lnTo>
                                    <a:lnTo>
                                      <a:pt x="60" y="430"/>
                                    </a:lnTo>
                                    <a:lnTo>
                                      <a:pt x="56" y="426"/>
                                    </a:lnTo>
                                    <a:lnTo>
                                      <a:pt x="47" y="426"/>
                                    </a:lnTo>
                                    <a:lnTo>
                                      <a:pt x="43" y="422"/>
                                    </a:lnTo>
                                    <a:lnTo>
                                      <a:pt x="34" y="422"/>
                                    </a:lnTo>
                                    <a:lnTo>
                                      <a:pt x="30" y="418"/>
                                    </a:lnTo>
                                    <a:lnTo>
                                      <a:pt x="26" y="413"/>
                                    </a:lnTo>
                                    <a:lnTo>
                                      <a:pt x="22" y="409"/>
                                    </a:lnTo>
                                    <a:lnTo>
                                      <a:pt x="17" y="405"/>
                                    </a:lnTo>
                                    <a:lnTo>
                                      <a:pt x="13" y="400"/>
                                    </a:lnTo>
                                    <a:lnTo>
                                      <a:pt x="9" y="396"/>
                                    </a:lnTo>
                                    <a:lnTo>
                                      <a:pt x="4" y="392"/>
                                    </a:lnTo>
                                    <a:lnTo>
                                      <a:pt x="0" y="387"/>
                                    </a:lnTo>
                                    <a:lnTo>
                                      <a:pt x="0" y="379"/>
                                    </a:lnTo>
                                    <a:lnTo>
                                      <a:pt x="0" y="370"/>
                                    </a:lnTo>
                                    <a:lnTo>
                                      <a:pt x="0" y="362"/>
                                    </a:lnTo>
                                    <a:lnTo>
                                      <a:pt x="0" y="353"/>
                                    </a:lnTo>
                                    <a:lnTo>
                                      <a:pt x="0" y="344"/>
                                    </a:lnTo>
                                    <a:lnTo>
                                      <a:pt x="0" y="336"/>
                                    </a:lnTo>
                                    <a:lnTo>
                                      <a:pt x="0" y="327"/>
                                    </a:lnTo>
                                    <a:lnTo>
                                      <a:pt x="0" y="314"/>
                                    </a:lnTo>
                                    <a:lnTo>
                                      <a:pt x="9" y="310"/>
                                    </a:lnTo>
                                    <a:lnTo>
                                      <a:pt x="17" y="301"/>
                                    </a:lnTo>
                                    <a:lnTo>
                                      <a:pt x="26" y="289"/>
                                    </a:lnTo>
                                    <a:lnTo>
                                      <a:pt x="34" y="280"/>
                                    </a:lnTo>
                                    <a:lnTo>
                                      <a:pt x="39" y="267"/>
                                    </a:lnTo>
                                    <a:lnTo>
                                      <a:pt x="47" y="254"/>
                                    </a:lnTo>
                                    <a:lnTo>
                                      <a:pt x="52" y="241"/>
                                    </a:lnTo>
                                    <a:lnTo>
                                      <a:pt x="52" y="228"/>
                                    </a:lnTo>
                                    <a:lnTo>
                                      <a:pt x="60" y="224"/>
                                    </a:lnTo>
                                    <a:lnTo>
                                      <a:pt x="73" y="215"/>
                                    </a:lnTo>
                                    <a:lnTo>
                                      <a:pt x="86" y="203"/>
                                    </a:lnTo>
                                    <a:lnTo>
                                      <a:pt x="99" y="194"/>
                                    </a:lnTo>
                                    <a:lnTo>
                                      <a:pt x="112" y="190"/>
                                    </a:lnTo>
                                    <a:lnTo>
                                      <a:pt x="125" y="190"/>
                                    </a:lnTo>
                                    <a:lnTo>
                                      <a:pt x="134" y="203"/>
                                    </a:lnTo>
                                    <a:lnTo>
                                      <a:pt x="142" y="228"/>
                                    </a:lnTo>
                                    <a:close/>
                                  </a:path>
                                </a:pathLst>
                              </a:custGeom>
                              <a:blipFill rotWithShape="0">
                                <a:blip r:embed="rId36"/>
                                <a:srcRect/>
                                <a:tile tx="0" ty="0" sx="100000" sy="100000" algn="ctr"/>
                              </a:blip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080" bIns="108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21" name=""/>
                              <p:cNvSpPr/>
                              <p:nvPr/>
                            </p:nvSpPr>
                            <p:spPr>
                              <a:xfrm rot="21327600">
                                <a:off x="1423080" y="1238400"/>
                                <a:ext cx="48240" cy="108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474" h="112">
                                    <a:moveTo>
                                      <a:pt x="30" y="0"/>
                                    </a:moveTo>
                                    <a:lnTo>
                                      <a:pt x="90" y="8"/>
                                    </a:lnTo>
                                    <a:lnTo>
                                      <a:pt x="147" y="17"/>
                                    </a:lnTo>
                                    <a:lnTo>
                                      <a:pt x="203" y="30"/>
                                    </a:lnTo>
                                    <a:lnTo>
                                      <a:pt x="254" y="43"/>
                                    </a:lnTo>
                                    <a:lnTo>
                                      <a:pt x="306" y="60"/>
                                    </a:lnTo>
                                    <a:lnTo>
                                      <a:pt x="362" y="69"/>
                                    </a:lnTo>
                                    <a:lnTo>
                                      <a:pt x="418" y="77"/>
                                    </a:lnTo>
                                    <a:lnTo>
                                      <a:pt x="474" y="81"/>
                                    </a:lnTo>
                                    <a:lnTo>
                                      <a:pt x="474" y="112"/>
                                    </a:lnTo>
                                    <a:lnTo>
                                      <a:pt x="0" y="112"/>
                                    </a:lnTo>
                                    <a:lnTo>
                                      <a:pt x="0" y="38"/>
                                    </a:lnTo>
                                    <a:lnTo>
                                      <a:pt x="30" y="0"/>
                                    </a:lnTo>
                                    <a:close/>
                                  </a:path>
                                </a:pathLst>
                              </a:custGeom>
                              <a:blipFill rotWithShape="0">
                                <a:blip r:embed="rId37"/>
                                <a:srcRect/>
                                <a:tile tx="0" ty="0" sx="100000" sy="100000" algn="ctr"/>
                              </a:blip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6000" bIns="-360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22" name=""/>
                              <p:cNvSpPr/>
                              <p:nvPr/>
                            </p:nvSpPr>
                            <p:spPr>
                              <a:xfrm rot="21327600">
                                <a:off x="1428120" y="566640"/>
                                <a:ext cx="84960" cy="388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832" h="404">
                                    <a:moveTo>
                                      <a:pt x="13" y="163"/>
                                    </a:moveTo>
                                    <a:lnTo>
                                      <a:pt x="17" y="159"/>
                                    </a:lnTo>
                                    <a:lnTo>
                                      <a:pt x="21" y="155"/>
                                    </a:lnTo>
                                    <a:lnTo>
                                      <a:pt x="34" y="150"/>
                                    </a:lnTo>
                                    <a:lnTo>
                                      <a:pt x="43" y="142"/>
                                    </a:lnTo>
                                    <a:lnTo>
                                      <a:pt x="56" y="138"/>
                                    </a:lnTo>
                                    <a:lnTo>
                                      <a:pt x="64" y="129"/>
                                    </a:lnTo>
                                    <a:lnTo>
                                      <a:pt x="73" y="125"/>
                                    </a:lnTo>
                                    <a:lnTo>
                                      <a:pt x="77" y="120"/>
                                    </a:lnTo>
                                    <a:lnTo>
                                      <a:pt x="125" y="120"/>
                                    </a:lnTo>
                                    <a:lnTo>
                                      <a:pt x="177" y="125"/>
                                    </a:lnTo>
                                    <a:lnTo>
                                      <a:pt x="228" y="125"/>
                                    </a:lnTo>
                                    <a:lnTo>
                                      <a:pt x="276" y="129"/>
                                    </a:lnTo>
                                    <a:lnTo>
                                      <a:pt x="328" y="129"/>
                                    </a:lnTo>
                                    <a:lnTo>
                                      <a:pt x="379" y="133"/>
                                    </a:lnTo>
                                    <a:lnTo>
                                      <a:pt x="427" y="133"/>
                                    </a:lnTo>
                                    <a:lnTo>
                                      <a:pt x="479" y="138"/>
                                    </a:lnTo>
                                    <a:lnTo>
                                      <a:pt x="479" y="133"/>
                                    </a:lnTo>
                                    <a:lnTo>
                                      <a:pt x="483" y="133"/>
                                    </a:lnTo>
                                    <a:lnTo>
                                      <a:pt x="487" y="129"/>
                                    </a:lnTo>
                                    <a:lnTo>
                                      <a:pt x="492" y="125"/>
                                    </a:lnTo>
                                    <a:lnTo>
                                      <a:pt x="500" y="120"/>
                                    </a:lnTo>
                                    <a:lnTo>
                                      <a:pt x="504" y="116"/>
                                    </a:lnTo>
                                    <a:lnTo>
                                      <a:pt x="509" y="112"/>
                                    </a:lnTo>
                                    <a:lnTo>
                                      <a:pt x="513" y="112"/>
                                    </a:lnTo>
                                    <a:lnTo>
                                      <a:pt x="517" y="107"/>
                                    </a:lnTo>
                                    <a:lnTo>
                                      <a:pt x="517" y="103"/>
                                    </a:lnTo>
                                    <a:lnTo>
                                      <a:pt x="522" y="103"/>
                                    </a:lnTo>
                                    <a:lnTo>
                                      <a:pt x="526" y="99"/>
                                    </a:lnTo>
                                    <a:lnTo>
                                      <a:pt x="530" y="95"/>
                                    </a:lnTo>
                                    <a:lnTo>
                                      <a:pt x="539" y="95"/>
                                    </a:lnTo>
                                    <a:lnTo>
                                      <a:pt x="543" y="95"/>
                                    </a:lnTo>
                                    <a:lnTo>
                                      <a:pt x="552" y="95"/>
                                    </a:lnTo>
                                    <a:lnTo>
                                      <a:pt x="556" y="86"/>
                                    </a:lnTo>
                                    <a:lnTo>
                                      <a:pt x="569" y="73"/>
                                    </a:lnTo>
                                    <a:lnTo>
                                      <a:pt x="591" y="60"/>
                                    </a:lnTo>
                                    <a:lnTo>
                                      <a:pt x="617" y="47"/>
                                    </a:lnTo>
                                    <a:lnTo>
                                      <a:pt x="643" y="30"/>
                                    </a:lnTo>
                                    <a:lnTo>
                                      <a:pt x="664" y="17"/>
                                    </a:lnTo>
                                    <a:lnTo>
                                      <a:pt x="681" y="9"/>
                                    </a:lnTo>
                                    <a:lnTo>
                                      <a:pt x="694" y="0"/>
                                    </a:lnTo>
                                    <a:lnTo>
                                      <a:pt x="707" y="0"/>
                                    </a:lnTo>
                                    <a:lnTo>
                                      <a:pt x="720" y="0"/>
                                    </a:lnTo>
                                    <a:lnTo>
                                      <a:pt x="733" y="0"/>
                                    </a:lnTo>
                                    <a:lnTo>
                                      <a:pt x="746" y="0"/>
                                    </a:lnTo>
                                    <a:lnTo>
                                      <a:pt x="759" y="4"/>
                                    </a:lnTo>
                                    <a:lnTo>
                                      <a:pt x="772" y="9"/>
                                    </a:lnTo>
                                    <a:lnTo>
                                      <a:pt x="781" y="17"/>
                                    </a:lnTo>
                                    <a:lnTo>
                                      <a:pt x="785" y="26"/>
                                    </a:lnTo>
                                    <a:lnTo>
                                      <a:pt x="794" y="26"/>
                                    </a:lnTo>
                                    <a:lnTo>
                                      <a:pt x="798" y="30"/>
                                    </a:lnTo>
                                    <a:lnTo>
                                      <a:pt x="802" y="39"/>
                                    </a:lnTo>
                                    <a:lnTo>
                                      <a:pt x="802" y="47"/>
                                    </a:lnTo>
                                    <a:lnTo>
                                      <a:pt x="806" y="56"/>
                                    </a:lnTo>
                                    <a:lnTo>
                                      <a:pt x="806" y="64"/>
                                    </a:lnTo>
                                    <a:lnTo>
                                      <a:pt x="806" y="73"/>
                                    </a:lnTo>
                                    <a:lnTo>
                                      <a:pt x="811" y="77"/>
                                    </a:lnTo>
                                    <a:lnTo>
                                      <a:pt x="811" y="77"/>
                                    </a:lnTo>
                                    <a:lnTo>
                                      <a:pt x="815" y="77"/>
                                    </a:lnTo>
                                    <a:lnTo>
                                      <a:pt x="815" y="77"/>
                                    </a:lnTo>
                                    <a:lnTo>
                                      <a:pt x="815" y="77"/>
                                    </a:lnTo>
                                    <a:lnTo>
                                      <a:pt x="815" y="77"/>
                                    </a:lnTo>
                                    <a:lnTo>
                                      <a:pt x="819" y="77"/>
                                    </a:lnTo>
                                    <a:lnTo>
                                      <a:pt x="819" y="77"/>
                                    </a:lnTo>
                                    <a:lnTo>
                                      <a:pt x="819" y="77"/>
                                    </a:lnTo>
                                    <a:lnTo>
                                      <a:pt x="828" y="99"/>
                                    </a:lnTo>
                                    <a:lnTo>
                                      <a:pt x="832" y="120"/>
                                    </a:lnTo>
                                    <a:lnTo>
                                      <a:pt x="832" y="142"/>
                                    </a:lnTo>
                                    <a:lnTo>
                                      <a:pt x="828" y="159"/>
                                    </a:lnTo>
                                    <a:lnTo>
                                      <a:pt x="806" y="198"/>
                                    </a:lnTo>
                                    <a:lnTo>
                                      <a:pt x="776" y="232"/>
                                    </a:lnTo>
                                    <a:lnTo>
                                      <a:pt x="742" y="262"/>
                                    </a:lnTo>
                                    <a:lnTo>
                                      <a:pt x="707" y="288"/>
                                    </a:lnTo>
                                    <a:lnTo>
                                      <a:pt x="694" y="301"/>
                                    </a:lnTo>
                                    <a:lnTo>
                                      <a:pt x="686" y="314"/>
                                    </a:lnTo>
                                    <a:lnTo>
                                      <a:pt x="677" y="327"/>
                                    </a:lnTo>
                                    <a:lnTo>
                                      <a:pt x="677" y="335"/>
                                    </a:lnTo>
                                    <a:lnTo>
                                      <a:pt x="630" y="340"/>
                                    </a:lnTo>
                                    <a:lnTo>
                                      <a:pt x="582" y="348"/>
                                    </a:lnTo>
                                    <a:lnTo>
                                      <a:pt x="535" y="361"/>
                                    </a:lnTo>
                                    <a:lnTo>
                                      <a:pt x="487" y="378"/>
                                    </a:lnTo>
                                    <a:lnTo>
                                      <a:pt x="440" y="391"/>
                                    </a:lnTo>
                                    <a:lnTo>
                                      <a:pt x="388" y="400"/>
                                    </a:lnTo>
                                    <a:lnTo>
                                      <a:pt x="362" y="404"/>
                                    </a:lnTo>
                                    <a:lnTo>
                                      <a:pt x="336" y="404"/>
                                    </a:lnTo>
                                    <a:lnTo>
                                      <a:pt x="310" y="400"/>
                                    </a:lnTo>
                                    <a:lnTo>
                                      <a:pt x="280" y="396"/>
                                    </a:lnTo>
                                    <a:lnTo>
                                      <a:pt x="259" y="391"/>
                                    </a:lnTo>
                                    <a:lnTo>
                                      <a:pt x="237" y="387"/>
                                    </a:lnTo>
                                    <a:lnTo>
                                      <a:pt x="211" y="378"/>
                                    </a:lnTo>
                                    <a:lnTo>
                                      <a:pt x="190" y="370"/>
                                    </a:lnTo>
                                    <a:lnTo>
                                      <a:pt x="164" y="365"/>
                                    </a:lnTo>
                                    <a:lnTo>
                                      <a:pt x="138" y="357"/>
                                    </a:lnTo>
                                    <a:lnTo>
                                      <a:pt x="116" y="353"/>
                                    </a:lnTo>
                                    <a:lnTo>
                                      <a:pt x="95" y="353"/>
                                    </a:lnTo>
                                    <a:lnTo>
                                      <a:pt x="90" y="348"/>
                                    </a:lnTo>
                                    <a:lnTo>
                                      <a:pt x="86" y="344"/>
                                    </a:lnTo>
                                    <a:lnTo>
                                      <a:pt x="82" y="340"/>
                                    </a:lnTo>
                                    <a:lnTo>
                                      <a:pt x="77" y="335"/>
                                    </a:lnTo>
                                    <a:lnTo>
                                      <a:pt x="69" y="327"/>
                                    </a:lnTo>
                                    <a:lnTo>
                                      <a:pt x="64" y="322"/>
                                    </a:lnTo>
                                    <a:lnTo>
                                      <a:pt x="60" y="314"/>
                                    </a:lnTo>
                                    <a:lnTo>
                                      <a:pt x="56" y="310"/>
                                    </a:lnTo>
                                    <a:lnTo>
                                      <a:pt x="51" y="305"/>
                                    </a:lnTo>
                                    <a:lnTo>
                                      <a:pt x="47" y="301"/>
                                    </a:lnTo>
                                    <a:lnTo>
                                      <a:pt x="39" y="297"/>
                                    </a:lnTo>
                                    <a:lnTo>
                                      <a:pt x="34" y="292"/>
                                    </a:lnTo>
                                    <a:lnTo>
                                      <a:pt x="34" y="288"/>
                                    </a:lnTo>
                                    <a:lnTo>
                                      <a:pt x="30" y="284"/>
                                    </a:lnTo>
                                    <a:lnTo>
                                      <a:pt x="26" y="279"/>
                                    </a:lnTo>
                                    <a:lnTo>
                                      <a:pt x="21" y="275"/>
                                    </a:lnTo>
                                    <a:lnTo>
                                      <a:pt x="21" y="254"/>
                                    </a:lnTo>
                                    <a:lnTo>
                                      <a:pt x="17" y="236"/>
                                    </a:lnTo>
                                    <a:lnTo>
                                      <a:pt x="8" y="219"/>
                                    </a:lnTo>
                                    <a:lnTo>
                                      <a:pt x="4" y="206"/>
                                    </a:lnTo>
                                    <a:lnTo>
                                      <a:pt x="0" y="193"/>
                                    </a:lnTo>
                                    <a:lnTo>
                                      <a:pt x="0" y="181"/>
                                    </a:lnTo>
                                    <a:lnTo>
                                      <a:pt x="4" y="172"/>
                                    </a:lnTo>
                                    <a:lnTo>
                                      <a:pt x="13" y="163"/>
                                    </a:lnTo>
                                    <a:close/>
                                  </a:path>
                                </a:pathLst>
                              </a:custGeom>
                              <a:blipFill rotWithShape="0">
                                <a:blip r:embed="rId38"/>
                                <a:srcRect/>
                                <a:tile tx="0" ty="0" sx="100000" sy="100000" algn="ctr"/>
                              </a:blip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7920" bIns="-79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sp>
                      <p:nvSpPr>
                        <p:cNvPr id="123" name=""/>
                        <p:cNvSpPr/>
                        <p:nvPr/>
                      </p:nvSpPr>
                      <p:spPr>
                        <a:xfrm rot="21327600">
                          <a:off x="1433880" y="522000"/>
                          <a:ext cx="43560" cy="19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31" h="176">
                              <a:moveTo>
                                <a:pt x="475" y="82"/>
                              </a:moveTo>
                              <a:lnTo>
                                <a:pt x="510" y="73"/>
                              </a:lnTo>
                              <a:lnTo>
                                <a:pt x="518" y="73"/>
                              </a:lnTo>
                              <a:lnTo>
                                <a:pt x="531" y="82"/>
                              </a:lnTo>
                              <a:lnTo>
                                <a:pt x="531" y="103"/>
                              </a:lnTo>
                              <a:lnTo>
                                <a:pt x="410" y="95"/>
                              </a:lnTo>
                              <a:lnTo>
                                <a:pt x="294" y="176"/>
                              </a:lnTo>
                              <a:lnTo>
                                <a:pt x="160" y="155"/>
                              </a:lnTo>
                              <a:lnTo>
                                <a:pt x="87" y="95"/>
                              </a:lnTo>
                              <a:lnTo>
                                <a:pt x="9" y="103"/>
                              </a:lnTo>
                              <a:lnTo>
                                <a:pt x="0" y="103"/>
                              </a:lnTo>
                              <a:lnTo>
                                <a:pt x="0" y="82"/>
                              </a:lnTo>
                              <a:lnTo>
                                <a:pt x="182" y="0"/>
                              </a:lnTo>
                              <a:lnTo>
                                <a:pt x="371" y="30"/>
                              </a:lnTo>
                              <a:lnTo>
                                <a:pt x="475" y="8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ae7e06"/>
                        </a:solidFill>
                        <a:ln w="255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7000" bIns="-27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24" name=""/>
                      <p:cNvSpPr/>
                      <p:nvPr/>
                    </p:nvSpPr>
                    <p:spPr>
                      <a:xfrm rot="21327600">
                        <a:off x="1447560" y="541440"/>
                        <a:ext cx="102600" cy="55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05" h="572">
                            <a:moveTo>
                              <a:pt x="30" y="69"/>
                            </a:moveTo>
                            <a:lnTo>
                              <a:pt x="60" y="47"/>
                            </a:lnTo>
                            <a:lnTo>
                              <a:pt x="99" y="30"/>
                            </a:lnTo>
                            <a:lnTo>
                              <a:pt x="138" y="13"/>
                            </a:lnTo>
                            <a:lnTo>
                              <a:pt x="181" y="4"/>
                            </a:lnTo>
                            <a:lnTo>
                              <a:pt x="224" y="0"/>
                            </a:lnTo>
                            <a:lnTo>
                              <a:pt x="267" y="0"/>
                            </a:lnTo>
                            <a:lnTo>
                              <a:pt x="315" y="0"/>
                            </a:lnTo>
                            <a:lnTo>
                              <a:pt x="362" y="4"/>
                            </a:lnTo>
                            <a:lnTo>
                              <a:pt x="410" y="13"/>
                            </a:lnTo>
                            <a:lnTo>
                              <a:pt x="457" y="21"/>
                            </a:lnTo>
                            <a:lnTo>
                              <a:pt x="500" y="34"/>
                            </a:lnTo>
                            <a:lnTo>
                              <a:pt x="544" y="52"/>
                            </a:lnTo>
                            <a:lnTo>
                              <a:pt x="582" y="69"/>
                            </a:lnTo>
                            <a:lnTo>
                              <a:pt x="621" y="86"/>
                            </a:lnTo>
                            <a:lnTo>
                              <a:pt x="656" y="107"/>
                            </a:lnTo>
                            <a:lnTo>
                              <a:pt x="686" y="129"/>
                            </a:lnTo>
                            <a:lnTo>
                              <a:pt x="686" y="129"/>
                            </a:lnTo>
                            <a:lnTo>
                              <a:pt x="686" y="133"/>
                            </a:lnTo>
                            <a:lnTo>
                              <a:pt x="686" y="133"/>
                            </a:lnTo>
                            <a:lnTo>
                              <a:pt x="686" y="138"/>
                            </a:lnTo>
                            <a:lnTo>
                              <a:pt x="686" y="138"/>
                            </a:lnTo>
                            <a:lnTo>
                              <a:pt x="686" y="142"/>
                            </a:lnTo>
                            <a:lnTo>
                              <a:pt x="686" y="142"/>
                            </a:lnTo>
                            <a:lnTo>
                              <a:pt x="686" y="142"/>
                            </a:lnTo>
                            <a:lnTo>
                              <a:pt x="725" y="163"/>
                            </a:lnTo>
                            <a:lnTo>
                              <a:pt x="781" y="185"/>
                            </a:lnTo>
                            <a:lnTo>
                              <a:pt x="841" y="206"/>
                            </a:lnTo>
                            <a:lnTo>
                              <a:pt x="902" y="232"/>
                            </a:lnTo>
                            <a:lnTo>
                              <a:pt x="932" y="245"/>
                            </a:lnTo>
                            <a:lnTo>
                              <a:pt x="958" y="262"/>
                            </a:lnTo>
                            <a:lnTo>
                              <a:pt x="979" y="279"/>
                            </a:lnTo>
                            <a:lnTo>
                              <a:pt x="992" y="297"/>
                            </a:lnTo>
                            <a:lnTo>
                              <a:pt x="1001" y="318"/>
                            </a:lnTo>
                            <a:lnTo>
                              <a:pt x="1005" y="344"/>
                            </a:lnTo>
                            <a:lnTo>
                              <a:pt x="1001" y="370"/>
                            </a:lnTo>
                            <a:lnTo>
                              <a:pt x="984" y="396"/>
                            </a:lnTo>
                            <a:lnTo>
                              <a:pt x="962" y="400"/>
                            </a:lnTo>
                            <a:lnTo>
                              <a:pt x="940" y="404"/>
                            </a:lnTo>
                            <a:lnTo>
                              <a:pt x="919" y="413"/>
                            </a:lnTo>
                            <a:lnTo>
                              <a:pt x="897" y="421"/>
                            </a:lnTo>
                            <a:lnTo>
                              <a:pt x="871" y="430"/>
                            </a:lnTo>
                            <a:lnTo>
                              <a:pt x="850" y="434"/>
                            </a:lnTo>
                            <a:lnTo>
                              <a:pt x="828" y="439"/>
                            </a:lnTo>
                            <a:lnTo>
                              <a:pt x="807" y="443"/>
                            </a:lnTo>
                            <a:lnTo>
                              <a:pt x="785" y="460"/>
                            </a:lnTo>
                            <a:lnTo>
                              <a:pt x="751" y="486"/>
                            </a:lnTo>
                            <a:lnTo>
                              <a:pt x="712" y="512"/>
                            </a:lnTo>
                            <a:lnTo>
                              <a:pt x="669" y="533"/>
                            </a:lnTo>
                            <a:lnTo>
                              <a:pt x="621" y="555"/>
                            </a:lnTo>
                            <a:lnTo>
                              <a:pt x="578" y="568"/>
                            </a:lnTo>
                            <a:lnTo>
                              <a:pt x="557" y="572"/>
                            </a:lnTo>
                            <a:lnTo>
                              <a:pt x="539" y="572"/>
                            </a:lnTo>
                            <a:lnTo>
                              <a:pt x="522" y="568"/>
                            </a:lnTo>
                            <a:lnTo>
                              <a:pt x="505" y="563"/>
                            </a:lnTo>
                            <a:lnTo>
                              <a:pt x="505" y="559"/>
                            </a:lnTo>
                            <a:lnTo>
                              <a:pt x="505" y="559"/>
                            </a:lnTo>
                            <a:lnTo>
                              <a:pt x="505" y="555"/>
                            </a:lnTo>
                            <a:lnTo>
                              <a:pt x="505" y="555"/>
                            </a:lnTo>
                            <a:lnTo>
                              <a:pt x="505" y="550"/>
                            </a:lnTo>
                            <a:lnTo>
                              <a:pt x="505" y="550"/>
                            </a:lnTo>
                            <a:lnTo>
                              <a:pt x="505" y="550"/>
                            </a:lnTo>
                            <a:lnTo>
                              <a:pt x="505" y="546"/>
                            </a:lnTo>
                            <a:lnTo>
                              <a:pt x="487" y="537"/>
                            </a:lnTo>
                            <a:lnTo>
                              <a:pt x="457" y="525"/>
                            </a:lnTo>
                            <a:lnTo>
                              <a:pt x="427" y="516"/>
                            </a:lnTo>
                            <a:lnTo>
                              <a:pt x="393" y="507"/>
                            </a:lnTo>
                            <a:lnTo>
                              <a:pt x="358" y="499"/>
                            </a:lnTo>
                            <a:lnTo>
                              <a:pt x="324" y="490"/>
                            </a:lnTo>
                            <a:lnTo>
                              <a:pt x="293" y="490"/>
                            </a:lnTo>
                            <a:lnTo>
                              <a:pt x="267" y="486"/>
                            </a:lnTo>
                            <a:lnTo>
                              <a:pt x="250" y="473"/>
                            </a:lnTo>
                            <a:lnTo>
                              <a:pt x="229" y="460"/>
                            </a:lnTo>
                            <a:lnTo>
                              <a:pt x="203" y="439"/>
                            </a:lnTo>
                            <a:lnTo>
                              <a:pt x="177" y="421"/>
                            </a:lnTo>
                            <a:lnTo>
                              <a:pt x="147" y="408"/>
                            </a:lnTo>
                            <a:lnTo>
                              <a:pt x="116" y="396"/>
                            </a:lnTo>
                            <a:lnTo>
                              <a:pt x="95" y="387"/>
                            </a:lnTo>
                            <a:lnTo>
                              <a:pt x="73" y="383"/>
                            </a:lnTo>
                            <a:lnTo>
                              <a:pt x="69" y="365"/>
                            </a:lnTo>
                            <a:lnTo>
                              <a:pt x="65" y="353"/>
                            </a:lnTo>
                            <a:lnTo>
                              <a:pt x="60" y="335"/>
                            </a:lnTo>
                            <a:lnTo>
                              <a:pt x="52" y="322"/>
                            </a:lnTo>
                            <a:lnTo>
                              <a:pt x="43" y="310"/>
                            </a:lnTo>
                            <a:lnTo>
                              <a:pt x="34" y="292"/>
                            </a:lnTo>
                            <a:lnTo>
                              <a:pt x="30" y="279"/>
                            </a:lnTo>
                            <a:lnTo>
                              <a:pt x="30" y="262"/>
                            </a:lnTo>
                            <a:lnTo>
                              <a:pt x="17" y="258"/>
                            </a:lnTo>
                            <a:lnTo>
                              <a:pt x="13" y="245"/>
                            </a:lnTo>
                            <a:lnTo>
                              <a:pt x="4" y="224"/>
                            </a:lnTo>
                            <a:lnTo>
                              <a:pt x="0" y="198"/>
                            </a:lnTo>
                            <a:lnTo>
                              <a:pt x="0" y="176"/>
                            </a:lnTo>
                            <a:lnTo>
                              <a:pt x="0" y="150"/>
                            </a:lnTo>
                            <a:lnTo>
                              <a:pt x="0" y="129"/>
                            </a:lnTo>
                            <a:lnTo>
                              <a:pt x="0" y="116"/>
                            </a:lnTo>
                            <a:lnTo>
                              <a:pt x="4" y="112"/>
                            </a:lnTo>
                            <a:lnTo>
                              <a:pt x="9" y="103"/>
                            </a:lnTo>
                            <a:lnTo>
                              <a:pt x="13" y="95"/>
                            </a:lnTo>
                            <a:lnTo>
                              <a:pt x="17" y="82"/>
                            </a:lnTo>
                            <a:lnTo>
                              <a:pt x="22" y="69"/>
                            </a:lnTo>
                            <a:lnTo>
                              <a:pt x="26" y="56"/>
                            </a:lnTo>
                            <a:lnTo>
                              <a:pt x="26" y="47"/>
                            </a:lnTo>
                            <a:lnTo>
                              <a:pt x="30" y="39"/>
                            </a:lnTo>
                            <a:lnTo>
                              <a:pt x="30" y="43"/>
                            </a:lnTo>
                            <a:lnTo>
                              <a:pt x="30" y="47"/>
                            </a:lnTo>
                            <a:lnTo>
                              <a:pt x="30" y="52"/>
                            </a:lnTo>
                            <a:lnTo>
                              <a:pt x="30" y="56"/>
                            </a:lnTo>
                            <a:lnTo>
                              <a:pt x="30" y="60"/>
                            </a:lnTo>
                            <a:lnTo>
                              <a:pt x="30" y="60"/>
                            </a:lnTo>
                            <a:lnTo>
                              <a:pt x="30" y="64"/>
                            </a:lnTo>
                            <a:lnTo>
                              <a:pt x="30" y="69"/>
                            </a:lnTo>
                            <a:close/>
                          </a:path>
                        </a:pathLst>
                      </a:custGeom>
                      <a:blipFill rotWithShape="0">
                        <a:blip r:embed="rId39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280" bIns="8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25" name=""/>
                    <p:cNvSpPr/>
                    <p:nvPr/>
                  </p:nvSpPr>
                  <p:spPr>
                    <a:xfrm rot="21327600">
                      <a:off x="1382040" y="541800"/>
                      <a:ext cx="121680" cy="6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91" h="675">
                          <a:moveTo>
                            <a:pt x="35" y="81"/>
                          </a:moveTo>
                          <a:lnTo>
                            <a:pt x="73" y="55"/>
                          </a:lnTo>
                          <a:lnTo>
                            <a:pt x="116" y="34"/>
                          </a:lnTo>
                          <a:lnTo>
                            <a:pt x="164" y="17"/>
                          </a:lnTo>
                          <a:lnTo>
                            <a:pt x="211" y="8"/>
                          </a:lnTo>
                          <a:lnTo>
                            <a:pt x="263" y="0"/>
                          </a:lnTo>
                          <a:lnTo>
                            <a:pt x="319" y="0"/>
                          </a:lnTo>
                          <a:lnTo>
                            <a:pt x="375" y="0"/>
                          </a:lnTo>
                          <a:lnTo>
                            <a:pt x="431" y="4"/>
                          </a:lnTo>
                          <a:lnTo>
                            <a:pt x="483" y="12"/>
                          </a:lnTo>
                          <a:lnTo>
                            <a:pt x="539" y="25"/>
                          </a:lnTo>
                          <a:lnTo>
                            <a:pt x="591" y="43"/>
                          </a:lnTo>
                          <a:lnTo>
                            <a:pt x="643" y="60"/>
                          </a:lnTo>
                          <a:lnTo>
                            <a:pt x="690" y="81"/>
                          </a:lnTo>
                          <a:lnTo>
                            <a:pt x="738" y="103"/>
                          </a:lnTo>
                          <a:lnTo>
                            <a:pt x="777" y="129"/>
                          </a:lnTo>
                          <a:lnTo>
                            <a:pt x="811" y="154"/>
                          </a:lnTo>
                          <a:lnTo>
                            <a:pt x="811" y="154"/>
                          </a:lnTo>
                          <a:lnTo>
                            <a:pt x="811" y="159"/>
                          </a:lnTo>
                          <a:lnTo>
                            <a:pt x="811" y="159"/>
                          </a:lnTo>
                          <a:lnTo>
                            <a:pt x="811" y="163"/>
                          </a:lnTo>
                          <a:lnTo>
                            <a:pt x="811" y="163"/>
                          </a:lnTo>
                          <a:lnTo>
                            <a:pt x="811" y="167"/>
                          </a:lnTo>
                          <a:lnTo>
                            <a:pt x="811" y="167"/>
                          </a:lnTo>
                          <a:lnTo>
                            <a:pt x="811" y="172"/>
                          </a:lnTo>
                          <a:lnTo>
                            <a:pt x="859" y="197"/>
                          </a:lnTo>
                          <a:lnTo>
                            <a:pt x="923" y="219"/>
                          </a:lnTo>
                          <a:lnTo>
                            <a:pt x="997" y="245"/>
                          </a:lnTo>
                          <a:lnTo>
                            <a:pt x="1070" y="275"/>
                          </a:lnTo>
                          <a:lnTo>
                            <a:pt x="1100" y="292"/>
                          </a:lnTo>
                          <a:lnTo>
                            <a:pt x="1130" y="309"/>
                          </a:lnTo>
                          <a:lnTo>
                            <a:pt x="1156" y="326"/>
                          </a:lnTo>
                          <a:lnTo>
                            <a:pt x="1173" y="352"/>
                          </a:lnTo>
                          <a:lnTo>
                            <a:pt x="1186" y="378"/>
                          </a:lnTo>
                          <a:lnTo>
                            <a:pt x="1191" y="404"/>
                          </a:lnTo>
                          <a:lnTo>
                            <a:pt x="1182" y="434"/>
                          </a:lnTo>
                          <a:lnTo>
                            <a:pt x="1165" y="468"/>
                          </a:lnTo>
                          <a:lnTo>
                            <a:pt x="1139" y="473"/>
                          </a:lnTo>
                          <a:lnTo>
                            <a:pt x="1113" y="477"/>
                          </a:lnTo>
                          <a:lnTo>
                            <a:pt x="1087" y="485"/>
                          </a:lnTo>
                          <a:lnTo>
                            <a:pt x="1061" y="494"/>
                          </a:lnTo>
                          <a:lnTo>
                            <a:pt x="1031" y="507"/>
                          </a:lnTo>
                          <a:lnTo>
                            <a:pt x="1005" y="516"/>
                          </a:lnTo>
                          <a:lnTo>
                            <a:pt x="979" y="520"/>
                          </a:lnTo>
                          <a:lnTo>
                            <a:pt x="953" y="524"/>
                          </a:lnTo>
                          <a:lnTo>
                            <a:pt x="928" y="546"/>
                          </a:lnTo>
                          <a:lnTo>
                            <a:pt x="889" y="576"/>
                          </a:lnTo>
                          <a:lnTo>
                            <a:pt x="841" y="606"/>
                          </a:lnTo>
                          <a:lnTo>
                            <a:pt x="790" y="632"/>
                          </a:lnTo>
                          <a:lnTo>
                            <a:pt x="738" y="657"/>
                          </a:lnTo>
                          <a:lnTo>
                            <a:pt x="686" y="670"/>
                          </a:lnTo>
                          <a:lnTo>
                            <a:pt x="660" y="675"/>
                          </a:lnTo>
                          <a:lnTo>
                            <a:pt x="639" y="675"/>
                          </a:lnTo>
                          <a:lnTo>
                            <a:pt x="617" y="670"/>
                          </a:lnTo>
                          <a:lnTo>
                            <a:pt x="600" y="662"/>
                          </a:lnTo>
                          <a:lnTo>
                            <a:pt x="600" y="662"/>
                          </a:lnTo>
                          <a:lnTo>
                            <a:pt x="600" y="657"/>
                          </a:lnTo>
                          <a:lnTo>
                            <a:pt x="600" y="657"/>
                          </a:lnTo>
                          <a:lnTo>
                            <a:pt x="600" y="653"/>
                          </a:lnTo>
                          <a:lnTo>
                            <a:pt x="600" y="653"/>
                          </a:lnTo>
                          <a:lnTo>
                            <a:pt x="600" y="649"/>
                          </a:lnTo>
                          <a:lnTo>
                            <a:pt x="600" y="649"/>
                          </a:lnTo>
                          <a:lnTo>
                            <a:pt x="600" y="645"/>
                          </a:lnTo>
                          <a:lnTo>
                            <a:pt x="574" y="632"/>
                          </a:lnTo>
                          <a:lnTo>
                            <a:pt x="544" y="619"/>
                          </a:lnTo>
                          <a:lnTo>
                            <a:pt x="505" y="610"/>
                          </a:lnTo>
                          <a:lnTo>
                            <a:pt x="466" y="597"/>
                          </a:lnTo>
                          <a:lnTo>
                            <a:pt x="423" y="589"/>
                          </a:lnTo>
                          <a:lnTo>
                            <a:pt x="384" y="580"/>
                          </a:lnTo>
                          <a:lnTo>
                            <a:pt x="349" y="576"/>
                          </a:lnTo>
                          <a:lnTo>
                            <a:pt x="319" y="576"/>
                          </a:lnTo>
                          <a:lnTo>
                            <a:pt x="298" y="559"/>
                          </a:lnTo>
                          <a:lnTo>
                            <a:pt x="272" y="541"/>
                          </a:lnTo>
                          <a:lnTo>
                            <a:pt x="242" y="520"/>
                          </a:lnTo>
                          <a:lnTo>
                            <a:pt x="207" y="498"/>
                          </a:lnTo>
                          <a:lnTo>
                            <a:pt x="173" y="481"/>
                          </a:lnTo>
                          <a:lnTo>
                            <a:pt x="142" y="468"/>
                          </a:lnTo>
                          <a:lnTo>
                            <a:pt x="112" y="455"/>
                          </a:lnTo>
                          <a:lnTo>
                            <a:pt x="86" y="451"/>
                          </a:lnTo>
                          <a:lnTo>
                            <a:pt x="86" y="434"/>
                          </a:lnTo>
                          <a:lnTo>
                            <a:pt x="78" y="417"/>
                          </a:lnTo>
                          <a:lnTo>
                            <a:pt x="69" y="399"/>
                          </a:lnTo>
                          <a:lnTo>
                            <a:pt x="60" y="382"/>
                          </a:lnTo>
                          <a:lnTo>
                            <a:pt x="52" y="365"/>
                          </a:lnTo>
                          <a:lnTo>
                            <a:pt x="43" y="348"/>
                          </a:lnTo>
                          <a:lnTo>
                            <a:pt x="35" y="331"/>
                          </a:lnTo>
                          <a:lnTo>
                            <a:pt x="35" y="309"/>
                          </a:lnTo>
                          <a:lnTo>
                            <a:pt x="22" y="305"/>
                          </a:lnTo>
                          <a:lnTo>
                            <a:pt x="13" y="288"/>
                          </a:lnTo>
                          <a:lnTo>
                            <a:pt x="9" y="266"/>
                          </a:lnTo>
                          <a:lnTo>
                            <a:pt x="4" y="236"/>
                          </a:lnTo>
                          <a:lnTo>
                            <a:pt x="0" y="206"/>
                          </a:lnTo>
                          <a:lnTo>
                            <a:pt x="0" y="176"/>
                          </a:lnTo>
                          <a:lnTo>
                            <a:pt x="0" y="154"/>
                          </a:lnTo>
                          <a:lnTo>
                            <a:pt x="0" y="133"/>
                          </a:lnTo>
                          <a:lnTo>
                            <a:pt x="4" y="133"/>
                          </a:lnTo>
                          <a:lnTo>
                            <a:pt x="13" y="124"/>
                          </a:lnTo>
                          <a:lnTo>
                            <a:pt x="17" y="111"/>
                          </a:lnTo>
                          <a:lnTo>
                            <a:pt x="22" y="98"/>
                          </a:lnTo>
                          <a:lnTo>
                            <a:pt x="26" y="81"/>
                          </a:lnTo>
                          <a:lnTo>
                            <a:pt x="30" y="68"/>
                          </a:lnTo>
                          <a:lnTo>
                            <a:pt x="35" y="55"/>
                          </a:lnTo>
                          <a:lnTo>
                            <a:pt x="35" y="47"/>
                          </a:lnTo>
                          <a:lnTo>
                            <a:pt x="35" y="51"/>
                          </a:lnTo>
                          <a:lnTo>
                            <a:pt x="35" y="55"/>
                          </a:lnTo>
                          <a:lnTo>
                            <a:pt x="35" y="60"/>
                          </a:lnTo>
                          <a:lnTo>
                            <a:pt x="35" y="64"/>
                          </a:lnTo>
                          <a:lnTo>
                            <a:pt x="35" y="68"/>
                          </a:lnTo>
                          <a:lnTo>
                            <a:pt x="35" y="73"/>
                          </a:lnTo>
                          <a:lnTo>
                            <a:pt x="35" y="77"/>
                          </a:lnTo>
                          <a:lnTo>
                            <a:pt x="35" y="81"/>
                          </a:lnTo>
                          <a:close/>
                        </a:path>
                      </a:pathLst>
                    </a:custGeom>
                    <a:blipFill rotWithShape="0">
                      <a:blip r:embed="rId40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360" bIns="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6" name=""/>
                  <p:cNvSpPr/>
                  <p:nvPr/>
                </p:nvSpPr>
                <p:spPr>
                  <a:xfrm rot="21327600">
                    <a:off x="1506600" y="499680"/>
                    <a:ext cx="10368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949" h="477">
                        <a:moveTo>
                          <a:pt x="17" y="194"/>
                        </a:moveTo>
                        <a:lnTo>
                          <a:pt x="17" y="194"/>
                        </a:lnTo>
                        <a:lnTo>
                          <a:pt x="26" y="189"/>
                        </a:lnTo>
                        <a:lnTo>
                          <a:pt x="39" y="181"/>
                        </a:lnTo>
                        <a:lnTo>
                          <a:pt x="52" y="172"/>
                        </a:lnTo>
                        <a:lnTo>
                          <a:pt x="65" y="163"/>
                        </a:lnTo>
                        <a:lnTo>
                          <a:pt x="78" y="155"/>
                        </a:lnTo>
                        <a:lnTo>
                          <a:pt x="86" y="146"/>
                        </a:lnTo>
                        <a:lnTo>
                          <a:pt x="86" y="142"/>
                        </a:lnTo>
                        <a:lnTo>
                          <a:pt x="548" y="163"/>
                        </a:lnTo>
                        <a:lnTo>
                          <a:pt x="548" y="163"/>
                        </a:lnTo>
                        <a:lnTo>
                          <a:pt x="552" y="159"/>
                        </a:lnTo>
                        <a:lnTo>
                          <a:pt x="557" y="155"/>
                        </a:lnTo>
                        <a:lnTo>
                          <a:pt x="561" y="146"/>
                        </a:lnTo>
                        <a:lnTo>
                          <a:pt x="569" y="142"/>
                        </a:lnTo>
                        <a:lnTo>
                          <a:pt x="578" y="138"/>
                        </a:lnTo>
                        <a:lnTo>
                          <a:pt x="582" y="133"/>
                        </a:lnTo>
                        <a:lnTo>
                          <a:pt x="587" y="133"/>
                        </a:lnTo>
                        <a:lnTo>
                          <a:pt x="587" y="129"/>
                        </a:lnTo>
                        <a:lnTo>
                          <a:pt x="591" y="125"/>
                        </a:lnTo>
                        <a:lnTo>
                          <a:pt x="595" y="120"/>
                        </a:lnTo>
                        <a:lnTo>
                          <a:pt x="600" y="120"/>
                        </a:lnTo>
                        <a:lnTo>
                          <a:pt x="604" y="116"/>
                        </a:lnTo>
                        <a:lnTo>
                          <a:pt x="613" y="116"/>
                        </a:lnTo>
                        <a:lnTo>
                          <a:pt x="621" y="112"/>
                        </a:lnTo>
                        <a:lnTo>
                          <a:pt x="630" y="112"/>
                        </a:lnTo>
                        <a:lnTo>
                          <a:pt x="634" y="103"/>
                        </a:lnTo>
                        <a:lnTo>
                          <a:pt x="651" y="90"/>
                        </a:lnTo>
                        <a:lnTo>
                          <a:pt x="673" y="73"/>
                        </a:lnTo>
                        <a:lnTo>
                          <a:pt x="703" y="56"/>
                        </a:lnTo>
                        <a:lnTo>
                          <a:pt x="729" y="39"/>
                        </a:lnTo>
                        <a:lnTo>
                          <a:pt x="755" y="26"/>
                        </a:lnTo>
                        <a:lnTo>
                          <a:pt x="777" y="9"/>
                        </a:lnTo>
                        <a:lnTo>
                          <a:pt x="790" y="0"/>
                        </a:lnTo>
                        <a:lnTo>
                          <a:pt x="802" y="0"/>
                        </a:lnTo>
                        <a:lnTo>
                          <a:pt x="820" y="0"/>
                        </a:lnTo>
                        <a:lnTo>
                          <a:pt x="833" y="4"/>
                        </a:lnTo>
                        <a:lnTo>
                          <a:pt x="850" y="4"/>
                        </a:lnTo>
                        <a:lnTo>
                          <a:pt x="863" y="9"/>
                        </a:lnTo>
                        <a:lnTo>
                          <a:pt x="876" y="13"/>
                        </a:lnTo>
                        <a:lnTo>
                          <a:pt x="889" y="22"/>
                        </a:lnTo>
                        <a:lnTo>
                          <a:pt x="893" y="30"/>
                        </a:lnTo>
                        <a:lnTo>
                          <a:pt x="902" y="34"/>
                        </a:lnTo>
                        <a:lnTo>
                          <a:pt x="910" y="39"/>
                        </a:lnTo>
                        <a:lnTo>
                          <a:pt x="915" y="47"/>
                        </a:lnTo>
                        <a:lnTo>
                          <a:pt x="915" y="56"/>
                        </a:lnTo>
                        <a:lnTo>
                          <a:pt x="919" y="69"/>
                        </a:lnTo>
                        <a:lnTo>
                          <a:pt x="919" y="77"/>
                        </a:lnTo>
                        <a:lnTo>
                          <a:pt x="919" y="86"/>
                        </a:lnTo>
                        <a:lnTo>
                          <a:pt x="923" y="90"/>
                        </a:lnTo>
                        <a:lnTo>
                          <a:pt x="932" y="90"/>
                        </a:lnTo>
                        <a:lnTo>
                          <a:pt x="945" y="120"/>
                        </a:lnTo>
                        <a:lnTo>
                          <a:pt x="949" y="142"/>
                        </a:lnTo>
                        <a:lnTo>
                          <a:pt x="949" y="168"/>
                        </a:lnTo>
                        <a:lnTo>
                          <a:pt x="941" y="189"/>
                        </a:lnTo>
                        <a:lnTo>
                          <a:pt x="932" y="215"/>
                        </a:lnTo>
                        <a:lnTo>
                          <a:pt x="919" y="237"/>
                        </a:lnTo>
                        <a:lnTo>
                          <a:pt x="902" y="254"/>
                        </a:lnTo>
                        <a:lnTo>
                          <a:pt x="884" y="275"/>
                        </a:lnTo>
                        <a:lnTo>
                          <a:pt x="846" y="310"/>
                        </a:lnTo>
                        <a:lnTo>
                          <a:pt x="807" y="344"/>
                        </a:lnTo>
                        <a:lnTo>
                          <a:pt x="794" y="357"/>
                        </a:lnTo>
                        <a:lnTo>
                          <a:pt x="781" y="374"/>
                        </a:lnTo>
                        <a:lnTo>
                          <a:pt x="772" y="387"/>
                        </a:lnTo>
                        <a:lnTo>
                          <a:pt x="772" y="396"/>
                        </a:lnTo>
                        <a:lnTo>
                          <a:pt x="716" y="400"/>
                        </a:lnTo>
                        <a:lnTo>
                          <a:pt x="664" y="413"/>
                        </a:lnTo>
                        <a:lnTo>
                          <a:pt x="613" y="430"/>
                        </a:lnTo>
                        <a:lnTo>
                          <a:pt x="557" y="447"/>
                        </a:lnTo>
                        <a:lnTo>
                          <a:pt x="500" y="464"/>
                        </a:lnTo>
                        <a:lnTo>
                          <a:pt x="444" y="473"/>
                        </a:lnTo>
                        <a:lnTo>
                          <a:pt x="414" y="477"/>
                        </a:lnTo>
                        <a:lnTo>
                          <a:pt x="384" y="477"/>
                        </a:lnTo>
                        <a:lnTo>
                          <a:pt x="354" y="473"/>
                        </a:lnTo>
                        <a:lnTo>
                          <a:pt x="324" y="469"/>
                        </a:lnTo>
                        <a:lnTo>
                          <a:pt x="298" y="464"/>
                        </a:lnTo>
                        <a:lnTo>
                          <a:pt x="272" y="456"/>
                        </a:lnTo>
                        <a:lnTo>
                          <a:pt x="242" y="447"/>
                        </a:lnTo>
                        <a:lnTo>
                          <a:pt x="216" y="439"/>
                        </a:lnTo>
                        <a:lnTo>
                          <a:pt x="186" y="430"/>
                        </a:lnTo>
                        <a:lnTo>
                          <a:pt x="160" y="426"/>
                        </a:lnTo>
                        <a:lnTo>
                          <a:pt x="134" y="417"/>
                        </a:lnTo>
                        <a:lnTo>
                          <a:pt x="108" y="417"/>
                        </a:lnTo>
                        <a:lnTo>
                          <a:pt x="108" y="413"/>
                        </a:lnTo>
                        <a:lnTo>
                          <a:pt x="104" y="409"/>
                        </a:lnTo>
                        <a:lnTo>
                          <a:pt x="95" y="404"/>
                        </a:lnTo>
                        <a:lnTo>
                          <a:pt x="86" y="396"/>
                        </a:lnTo>
                        <a:lnTo>
                          <a:pt x="82" y="387"/>
                        </a:lnTo>
                        <a:lnTo>
                          <a:pt x="73" y="383"/>
                        </a:lnTo>
                        <a:lnTo>
                          <a:pt x="69" y="374"/>
                        </a:lnTo>
                        <a:lnTo>
                          <a:pt x="69" y="366"/>
                        </a:lnTo>
                        <a:lnTo>
                          <a:pt x="60" y="361"/>
                        </a:lnTo>
                        <a:lnTo>
                          <a:pt x="52" y="357"/>
                        </a:lnTo>
                        <a:lnTo>
                          <a:pt x="47" y="353"/>
                        </a:lnTo>
                        <a:lnTo>
                          <a:pt x="43" y="348"/>
                        </a:lnTo>
                        <a:lnTo>
                          <a:pt x="39" y="340"/>
                        </a:lnTo>
                        <a:lnTo>
                          <a:pt x="35" y="335"/>
                        </a:lnTo>
                        <a:lnTo>
                          <a:pt x="30" y="331"/>
                        </a:lnTo>
                        <a:lnTo>
                          <a:pt x="26" y="327"/>
                        </a:lnTo>
                        <a:lnTo>
                          <a:pt x="26" y="305"/>
                        </a:lnTo>
                        <a:lnTo>
                          <a:pt x="17" y="284"/>
                        </a:lnTo>
                        <a:lnTo>
                          <a:pt x="13" y="262"/>
                        </a:lnTo>
                        <a:lnTo>
                          <a:pt x="4" y="245"/>
                        </a:lnTo>
                        <a:lnTo>
                          <a:pt x="0" y="228"/>
                        </a:lnTo>
                        <a:lnTo>
                          <a:pt x="0" y="215"/>
                        </a:lnTo>
                        <a:lnTo>
                          <a:pt x="4" y="202"/>
                        </a:lnTo>
                        <a:lnTo>
                          <a:pt x="17" y="194"/>
                        </a:lnTo>
                        <a:close/>
                      </a:path>
                    </a:pathLst>
                  </a:custGeom>
                  <a:blipFill rotWithShape="0">
                    <a:blip r:embed="rId41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27" name=""/>
                <p:cNvSpPr/>
                <p:nvPr/>
              </p:nvSpPr>
              <p:spPr>
                <a:xfrm rot="21327600">
                  <a:off x="1467360" y="512640"/>
                  <a:ext cx="99720" cy="33480"/>
                </a:xfrm>
                <a:custGeom>
                  <a:avLst/>
                  <a:gdLst/>
                  <a:ahLst/>
                  <a:rect l="l" t="t" r="r" b="b"/>
                  <a:pathLst>
                    <a:path w="975" h="349">
                      <a:moveTo>
                        <a:pt x="99" y="159"/>
                      </a:moveTo>
                      <a:lnTo>
                        <a:pt x="107" y="155"/>
                      </a:lnTo>
                      <a:lnTo>
                        <a:pt x="125" y="151"/>
                      </a:lnTo>
                      <a:lnTo>
                        <a:pt x="142" y="138"/>
                      </a:lnTo>
                      <a:lnTo>
                        <a:pt x="159" y="129"/>
                      </a:lnTo>
                      <a:lnTo>
                        <a:pt x="181" y="116"/>
                      </a:lnTo>
                      <a:lnTo>
                        <a:pt x="198" y="108"/>
                      </a:lnTo>
                      <a:lnTo>
                        <a:pt x="211" y="99"/>
                      </a:lnTo>
                      <a:lnTo>
                        <a:pt x="224" y="95"/>
                      </a:lnTo>
                      <a:lnTo>
                        <a:pt x="228" y="78"/>
                      </a:lnTo>
                      <a:lnTo>
                        <a:pt x="241" y="61"/>
                      </a:lnTo>
                      <a:lnTo>
                        <a:pt x="263" y="43"/>
                      </a:lnTo>
                      <a:lnTo>
                        <a:pt x="293" y="35"/>
                      </a:lnTo>
                      <a:lnTo>
                        <a:pt x="328" y="22"/>
                      </a:lnTo>
                      <a:lnTo>
                        <a:pt x="371" y="13"/>
                      </a:lnTo>
                      <a:lnTo>
                        <a:pt x="414" y="9"/>
                      </a:lnTo>
                      <a:lnTo>
                        <a:pt x="457" y="5"/>
                      </a:lnTo>
                      <a:lnTo>
                        <a:pt x="548" y="0"/>
                      </a:lnTo>
                      <a:lnTo>
                        <a:pt x="634" y="0"/>
                      </a:lnTo>
                      <a:lnTo>
                        <a:pt x="703" y="9"/>
                      </a:lnTo>
                      <a:lnTo>
                        <a:pt x="746" y="22"/>
                      </a:lnTo>
                      <a:lnTo>
                        <a:pt x="746" y="22"/>
                      </a:lnTo>
                      <a:lnTo>
                        <a:pt x="746" y="26"/>
                      </a:lnTo>
                      <a:lnTo>
                        <a:pt x="746" y="26"/>
                      </a:lnTo>
                      <a:lnTo>
                        <a:pt x="746" y="30"/>
                      </a:lnTo>
                      <a:lnTo>
                        <a:pt x="746" y="30"/>
                      </a:lnTo>
                      <a:lnTo>
                        <a:pt x="746" y="30"/>
                      </a:lnTo>
                      <a:lnTo>
                        <a:pt x="746" y="35"/>
                      </a:lnTo>
                      <a:lnTo>
                        <a:pt x="746" y="35"/>
                      </a:lnTo>
                      <a:lnTo>
                        <a:pt x="763" y="43"/>
                      </a:lnTo>
                      <a:lnTo>
                        <a:pt x="785" y="52"/>
                      </a:lnTo>
                      <a:lnTo>
                        <a:pt x="811" y="65"/>
                      </a:lnTo>
                      <a:lnTo>
                        <a:pt x="837" y="78"/>
                      </a:lnTo>
                      <a:lnTo>
                        <a:pt x="863" y="91"/>
                      </a:lnTo>
                      <a:lnTo>
                        <a:pt x="884" y="99"/>
                      </a:lnTo>
                      <a:lnTo>
                        <a:pt x="906" y="108"/>
                      </a:lnTo>
                      <a:lnTo>
                        <a:pt x="923" y="108"/>
                      </a:lnTo>
                      <a:lnTo>
                        <a:pt x="927" y="116"/>
                      </a:lnTo>
                      <a:lnTo>
                        <a:pt x="936" y="121"/>
                      </a:lnTo>
                      <a:lnTo>
                        <a:pt x="940" y="125"/>
                      </a:lnTo>
                      <a:lnTo>
                        <a:pt x="949" y="134"/>
                      </a:lnTo>
                      <a:lnTo>
                        <a:pt x="953" y="138"/>
                      </a:lnTo>
                      <a:lnTo>
                        <a:pt x="962" y="142"/>
                      </a:lnTo>
                      <a:lnTo>
                        <a:pt x="966" y="147"/>
                      </a:lnTo>
                      <a:lnTo>
                        <a:pt x="975" y="147"/>
                      </a:lnTo>
                      <a:lnTo>
                        <a:pt x="975" y="164"/>
                      </a:lnTo>
                      <a:lnTo>
                        <a:pt x="975" y="181"/>
                      </a:lnTo>
                      <a:lnTo>
                        <a:pt x="975" y="198"/>
                      </a:lnTo>
                      <a:lnTo>
                        <a:pt x="975" y="215"/>
                      </a:lnTo>
                      <a:lnTo>
                        <a:pt x="975" y="233"/>
                      </a:lnTo>
                      <a:lnTo>
                        <a:pt x="975" y="250"/>
                      </a:lnTo>
                      <a:lnTo>
                        <a:pt x="975" y="267"/>
                      </a:lnTo>
                      <a:lnTo>
                        <a:pt x="975" y="284"/>
                      </a:lnTo>
                      <a:lnTo>
                        <a:pt x="957" y="297"/>
                      </a:lnTo>
                      <a:lnTo>
                        <a:pt x="936" y="310"/>
                      </a:lnTo>
                      <a:lnTo>
                        <a:pt x="914" y="319"/>
                      </a:lnTo>
                      <a:lnTo>
                        <a:pt x="888" y="327"/>
                      </a:lnTo>
                      <a:lnTo>
                        <a:pt x="828" y="340"/>
                      </a:lnTo>
                      <a:lnTo>
                        <a:pt x="763" y="349"/>
                      </a:lnTo>
                      <a:lnTo>
                        <a:pt x="699" y="349"/>
                      </a:lnTo>
                      <a:lnTo>
                        <a:pt x="634" y="340"/>
                      </a:lnTo>
                      <a:lnTo>
                        <a:pt x="608" y="336"/>
                      </a:lnTo>
                      <a:lnTo>
                        <a:pt x="578" y="327"/>
                      </a:lnTo>
                      <a:lnTo>
                        <a:pt x="556" y="319"/>
                      </a:lnTo>
                      <a:lnTo>
                        <a:pt x="535" y="310"/>
                      </a:lnTo>
                      <a:lnTo>
                        <a:pt x="535" y="306"/>
                      </a:lnTo>
                      <a:lnTo>
                        <a:pt x="535" y="306"/>
                      </a:lnTo>
                      <a:lnTo>
                        <a:pt x="535" y="306"/>
                      </a:lnTo>
                      <a:lnTo>
                        <a:pt x="535" y="301"/>
                      </a:lnTo>
                      <a:lnTo>
                        <a:pt x="535" y="301"/>
                      </a:lnTo>
                      <a:lnTo>
                        <a:pt x="535" y="301"/>
                      </a:lnTo>
                      <a:lnTo>
                        <a:pt x="535" y="297"/>
                      </a:lnTo>
                      <a:lnTo>
                        <a:pt x="535" y="297"/>
                      </a:lnTo>
                      <a:lnTo>
                        <a:pt x="530" y="297"/>
                      </a:lnTo>
                      <a:lnTo>
                        <a:pt x="517" y="297"/>
                      </a:lnTo>
                      <a:lnTo>
                        <a:pt x="504" y="297"/>
                      </a:lnTo>
                      <a:lnTo>
                        <a:pt x="491" y="297"/>
                      </a:lnTo>
                      <a:lnTo>
                        <a:pt x="479" y="301"/>
                      </a:lnTo>
                      <a:lnTo>
                        <a:pt x="470" y="301"/>
                      </a:lnTo>
                      <a:lnTo>
                        <a:pt x="461" y="306"/>
                      </a:lnTo>
                      <a:lnTo>
                        <a:pt x="461" y="310"/>
                      </a:lnTo>
                      <a:lnTo>
                        <a:pt x="409" y="310"/>
                      </a:lnTo>
                      <a:lnTo>
                        <a:pt x="362" y="310"/>
                      </a:lnTo>
                      <a:lnTo>
                        <a:pt x="310" y="310"/>
                      </a:lnTo>
                      <a:lnTo>
                        <a:pt x="258" y="310"/>
                      </a:lnTo>
                      <a:lnTo>
                        <a:pt x="211" y="310"/>
                      </a:lnTo>
                      <a:lnTo>
                        <a:pt x="159" y="310"/>
                      </a:lnTo>
                      <a:lnTo>
                        <a:pt x="112" y="310"/>
                      </a:lnTo>
                      <a:lnTo>
                        <a:pt x="60" y="310"/>
                      </a:lnTo>
                      <a:lnTo>
                        <a:pt x="56" y="310"/>
                      </a:lnTo>
                      <a:lnTo>
                        <a:pt x="51" y="306"/>
                      </a:lnTo>
                      <a:lnTo>
                        <a:pt x="47" y="306"/>
                      </a:lnTo>
                      <a:lnTo>
                        <a:pt x="43" y="301"/>
                      </a:lnTo>
                      <a:lnTo>
                        <a:pt x="38" y="301"/>
                      </a:lnTo>
                      <a:lnTo>
                        <a:pt x="34" y="297"/>
                      </a:lnTo>
                      <a:lnTo>
                        <a:pt x="26" y="297"/>
                      </a:lnTo>
                      <a:lnTo>
                        <a:pt x="21" y="297"/>
                      </a:lnTo>
                      <a:lnTo>
                        <a:pt x="21" y="293"/>
                      </a:lnTo>
                      <a:lnTo>
                        <a:pt x="17" y="288"/>
                      </a:lnTo>
                      <a:lnTo>
                        <a:pt x="13" y="288"/>
                      </a:lnTo>
                      <a:lnTo>
                        <a:pt x="8" y="284"/>
                      </a:lnTo>
                      <a:lnTo>
                        <a:pt x="8" y="280"/>
                      </a:lnTo>
                      <a:lnTo>
                        <a:pt x="4" y="276"/>
                      </a:lnTo>
                      <a:lnTo>
                        <a:pt x="0" y="276"/>
                      </a:lnTo>
                      <a:lnTo>
                        <a:pt x="0" y="271"/>
                      </a:lnTo>
                      <a:lnTo>
                        <a:pt x="0" y="267"/>
                      </a:lnTo>
                      <a:lnTo>
                        <a:pt x="0" y="258"/>
                      </a:lnTo>
                      <a:lnTo>
                        <a:pt x="0" y="254"/>
                      </a:lnTo>
                      <a:lnTo>
                        <a:pt x="0" y="245"/>
                      </a:lnTo>
                      <a:lnTo>
                        <a:pt x="0" y="241"/>
                      </a:lnTo>
                      <a:lnTo>
                        <a:pt x="0" y="233"/>
                      </a:lnTo>
                      <a:lnTo>
                        <a:pt x="0" y="228"/>
                      </a:lnTo>
                      <a:lnTo>
                        <a:pt x="0" y="220"/>
                      </a:lnTo>
                      <a:lnTo>
                        <a:pt x="4" y="215"/>
                      </a:lnTo>
                      <a:lnTo>
                        <a:pt x="8" y="211"/>
                      </a:lnTo>
                      <a:lnTo>
                        <a:pt x="17" y="202"/>
                      </a:lnTo>
                      <a:lnTo>
                        <a:pt x="21" y="194"/>
                      </a:lnTo>
                      <a:lnTo>
                        <a:pt x="26" y="185"/>
                      </a:lnTo>
                      <a:lnTo>
                        <a:pt x="30" y="177"/>
                      </a:lnTo>
                      <a:lnTo>
                        <a:pt x="34" y="168"/>
                      </a:lnTo>
                      <a:lnTo>
                        <a:pt x="34" y="159"/>
                      </a:lnTo>
                      <a:lnTo>
                        <a:pt x="43" y="155"/>
                      </a:lnTo>
                      <a:lnTo>
                        <a:pt x="47" y="151"/>
                      </a:lnTo>
                      <a:lnTo>
                        <a:pt x="56" y="142"/>
                      </a:lnTo>
                      <a:lnTo>
                        <a:pt x="64" y="138"/>
                      </a:lnTo>
                      <a:lnTo>
                        <a:pt x="77" y="134"/>
                      </a:lnTo>
                      <a:lnTo>
                        <a:pt x="86" y="134"/>
                      </a:lnTo>
                      <a:lnTo>
                        <a:pt x="90" y="142"/>
                      </a:lnTo>
                      <a:lnTo>
                        <a:pt x="99" y="159"/>
                      </a:lnTo>
                      <a:close/>
                    </a:path>
                  </a:pathLst>
                </a:custGeom>
                <a:blipFill rotWithShape="0">
                  <a:blip r:embed="rId4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8" name=""/>
            <p:cNvSpPr/>
            <p:nvPr/>
          </p:nvSpPr>
          <p:spPr>
            <a:xfrm rot="21327600">
              <a:off x="1370160" y="539280"/>
              <a:ext cx="109080" cy="70200"/>
            </a:xfrm>
            <a:custGeom>
              <a:avLst/>
              <a:gdLst/>
              <a:ahLst/>
              <a:rect l="l" t="t" r="r" b="b"/>
              <a:pathLst>
                <a:path w="2097" h="920">
                  <a:moveTo>
                    <a:pt x="1450" y="86"/>
                  </a:moveTo>
                  <a:lnTo>
                    <a:pt x="1610" y="172"/>
                  </a:lnTo>
                  <a:lnTo>
                    <a:pt x="1778" y="146"/>
                  </a:lnTo>
                  <a:lnTo>
                    <a:pt x="1959" y="86"/>
                  </a:lnTo>
                  <a:lnTo>
                    <a:pt x="2011" y="43"/>
                  </a:lnTo>
                  <a:lnTo>
                    <a:pt x="2097" y="43"/>
                  </a:lnTo>
                  <a:lnTo>
                    <a:pt x="1959" y="108"/>
                  </a:lnTo>
                  <a:lnTo>
                    <a:pt x="1778" y="245"/>
                  </a:lnTo>
                  <a:lnTo>
                    <a:pt x="1726" y="245"/>
                  </a:lnTo>
                  <a:lnTo>
                    <a:pt x="1696" y="288"/>
                  </a:lnTo>
                  <a:lnTo>
                    <a:pt x="1748" y="340"/>
                  </a:lnTo>
                  <a:lnTo>
                    <a:pt x="1864" y="348"/>
                  </a:lnTo>
                  <a:lnTo>
                    <a:pt x="1981" y="413"/>
                  </a:lnTo>
                  <a:lnTo>
                    <a:pt x="1821" y="361"/>
                  </a:lnTo>
                  <a:lnTo>
                    <a:pt x="1705" y="400"/>
                  </a:lnTo>
                  <a:lnTo>
                    <a:pt x="1549" y="572"/>
                  </a:lnTo>
                  <a:lnTo>
                    <a:pt x="1515" y="697"/>
                  </a:lnTo>
                  <a:lnTo>
                    <a:pt x="1515" y="761"/>
                  </a:lnTo>
                  <a:lnTo>
                    <a:pt x="1390" y="856"/>
                  </a:lnTo>
                  <a:lnTo>
                    <a:pt x="1006" y="920"/>
                  </a:lnTo>
                  <a:lnTo>
                    <a:pt x="837" y="899"/>
                  </a:lnTo>
                  <a:lnTo>
                    <a:pt x="781" y="877"/>
                  </a:lnTo>
                  <a:lnTo>
                    <a:pt x="708" y="877"/>
                  </a:lnTo>
                  <a:lnTo>
                    <a:pt x="458" y="804"/>
                  </a:lnTo>
                  <a:lnTo>
                    <a:pt x="328" y="761"/>
                  </a:lnTo>
                  <a:lnTo>
                    <a:pt x="160" y="740"/>
                  </a:lnTo>
                  <a:lnTo>
                    <a:pt x="130" y="710"/>
                  </a:lnTo>
                  <a:lnTo>
                    <a:pt x="458" y="710"/>
                  </a:lnTo>
                  <a:lnTo>
                    <a:pt x="518" y="740"/>
                  </a:lnTo>
                  <a:lnTo>
                    <a:pt x="561" y="783"/>
                  </a:lnTo>
                  <a:lnTo>
                    <a:pt x="604" y="761"/>
                  </a:lnTo>
                  <a:lnTo>
                    <a:pt x="604" y="645"/>
                  </a:lnTo>
                  <a:lnTo>
                    <a:pt x="458" y="636"/>
                  </a:lnTo>
                  <a:lnTo>
                    <a:pt x="358" y="615"/>
                  </a:lnTo>
                  <a:lnTo>
                    <a:pt x="225" y="615"/>
                  </a:lnTo>
                  <a:lnTo>
                    <a:pt x="130" y="602"/>
                  </a:lnTo>
                  <a:lnTo>
                    <a:pt x="87" y="581"/>
                  </a:lnTo>
                  <a:lnTo>
                    <a:pt x="13" y="581"/>
                  </a:lnTo>
                  <a:lnTo>
                    <a:pt x="0" y="542"/>
                  </a:lnTo>
                  <a:lnTo>
                    <a:pt x="44" y="421"/>
                  </a:lnTo>
                  <a:lnTo>
                    <a:pt x="169" y="361"/>
                  </a:lnTo>
                  <a:lnTo>
                    <a:pt x="255" y="391"/>
                  </a:lnTo>
                  <a:lnTo>
                    <a:pt x="328" y="383"/>
                  </a:lnTo>
                  <a:lnTo>
                    <a:pt x="350" y="361"/>
                  </a:lnTo>
                  <a:lnTo>
                    <a:pt x="320" y="318"/>
                  </a:lnTo>
                  <a:lnTo>
                    <a:pt x="298" y="297"/>
                  </a:lnTo>
                  <a:lnTo>
                    <a:pt x="138" y="305"/>
                  </a:lnTo>
                  <a:lnTo>
                    <a:pt x="212" y="267"/>
                  </a:lnTo>
                  <a:lnTo>
                    <a:pt x="225" y="267"/>
                  </a:lnTo>
                  <a:lnTo>
                    <a:pt x="255" y="297"/>
                  </a:lnTo>
                  <a:lnTo>
                    <a:pt x="276" y="267"/>
                  </a:lnTo>
                  <a:lnTo>
                    <a:pt x="466" y="245"/>
                  </a:lnTo>
                  <a:lnTo>
                    <a:pt x="466" y="224"/>
                  </a:lnTo>
                  <a:lnTo>
                    <a:pt x="846" y="52"/>
                  </a:lnTo>
                  <a:lnTo>
                    <a:pt x="997" y="22"/>
                  </a:lnTo>
                  <a:lnTo>
                    <a:pt x="1144" y="0"/>
                  </a:lnTo>
                  <a:lnTo>
                    <a:pt x="1390" y="52"/>
                  </a:lnTo>
                  <a:lnTo>
                    <a:pt x="1450" y="86"/>
                  </a:lnTo>
                  <a:close/>
                </a:path>
              </a:pathLst>
            </a:custGeom>
            <a:blipFill rotWithShape="0">
              <a:blip r:embed="rId4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1877040" y="846720"/>
            <a:ext cx="635040" cy="794520"/>
            <a:chOff x="1877040" y="846720"/>
            <a:chExt cx="635040" cy="794520"/>
          </a:xfrm>
        </p:grpSpPr>
        <p:grpSp>
          <p:nvGrpSpPr>
            <p:cNvPr id="130" name=""/>
            <p:cNvGrpSpPr/>
            <p:nvPr/>
          </p:nvGrpSpPr>
          <p:grpSpPr>
            <a:xfrm>
              <a:off x="1877040" y="846720"/>
              <a:ext cx="635040" cy="794520"/>
              <a:chOff x="1877040" y="846720"/>
              <a:chExt cx="635040" cy="794520"/>
            </a:xfrm>
          </p:grpSpPr>
          <p:sp>
            <p:nvSpPr>
              <p:cNvPr id="131" name=""/>
              <p:cNvSpPr/>
              <p:nvPr/>
            </p:nvSpPr>
            <p:spPr>
              <a:xfrm rot="21306000">
                <a:off x="1966680" y="851400"/>
                <a:ext cx="113040" cy="96120"/>
              </a:xfrm>
              <a:prstGeom prst="irregularSeal2">
                <a:avLst/>
              </a:prstGeom>
              <a:blipFill rotWithShape="0">
                <a:blip r:embed="rId44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77040" y="862920"/>
                <a:ext cx="635040" cy="778320"/>
                <a:chOff x="1877040" y="862920"/>
                <a:chExt cx="635040" cy="778320"/>
              </a:xfrm>
            </p:grpSpPr>
            <p:grpSp>
              <p:nvGrpSpPr>
                <p:cNvPr id="133" name=""/>
                <p:cNvGrpSpPr/>
                <p:nvPr/>
              </p:nvGrpSpPr>
              <p:grpSpPr>
                <a:xfrm>
                  <a:off x="1877040" y="862920"/>
                  <a:ext cx="635040" cy="778320"/>
                  <a:chOff x="1877040" y="862920"/>
                  <a:chExt cx="635040" cy="778320"/>
                </a:xfrm>
              </p:grpSpPr>
              <p:grpSp>
                <p:nvGrpSpPr>
                  <p:cNvPr id="134" name=""/>
                  <p:cNvGrpSpPr/>
                  <p:nvPr/>
                </p:nvGrpSpPr>
                <p:grpSpPr>
                  <a:xfrm>
                    <a:off x="1877040" y="862920"/>
                    <a:ext cx="635040" cy="778320"/>
                    <a:chOff x="1877040" y="862920"/>
                    <a:chExt cx="635040" cy="778320"/>
                  </a:xfrm>
                </p:grpSpPr>
                <p:grpSp>
                  <p:nvGrpSpPr>
                    <p:cNvPr id="135" name=""/>
                    <p:cNvGrpSpPr/>
                    <p:nvPr/>
                  </p:nvGrpSpPr>
                  <p:grpSpPr>
                    <a:xfrm>
                      <a:off x="1877040" y="862920"/>
                      <a:ext cx="635040" cy="778320"/>
                      <a:chOff x="1877040" y="862920"/>
                      <a:chExt cx="635040" cy="778320"/>
                    </a:xfrm>
                  </p:grpSpPr>
                  <p:grpSp>
                    <p:nvGrpSpPr>
                      <p:cNvPr id="136" name=""/>
                      <p:cNvGrpSpPr/>
                      <p:nvPr/>
                    </p:nvGrpSpPr>
                    <p:grpSpPr>
                      <a:xfrm>
                        <a:off x="1877040" y="862920"/>
                        <a:ext cx="635040" cy="778320"/>
                        <a:chOff x="1877040" y="862920"/>
                        <a:chExt cx="635040" cy="778320"/>
                      </a:xfrm>
                    </p:grpSpPr>
                    <p:grpSp>
                      <p:nvGrpSpPr>
                        <p:cNvPr id="137" name=""/>
                        <p:cNvGrpSpPr/>
                        <p:nvPr/>
                      </p:nvGrpSpPr>
                      <p:grpSpPr>
                        <a:xfrm>
                          <a:off x="1877040" y="862920"/>
                          <a:ext cx="635040" cy="778320"/>
                          <a:chOff x="1877040" y="862920"/>
                          <a:chExt cx="635040" cy="778320"/>
                        </a:xfrm>
                      </p:grpSpPr>
                      <p:grpSp>
                        <p:nvGrpSpPr>
                          <p:cNvPr id="138" name=""/>
                          <p:cNvGrpSpPr/>
                          <p:nvPr/>
                        </p:nvGrpSpPr>
                        <p:grpSpPr>
                          <a:xfrm>
                            <a:off x="1877040" y="862920"/>
                            <a:ext cx="635040" cy="778320"/>
                            <a:chOff x="1877040" y="862920"/>
                            <a:chExt cx="635040" cy="778320"/>
                          </a:xfrm>
                        </p:grpSpPr>
                        <p:grpSp>
                          <p:nvGrpSpPr>
                            <p:cNvPr id="139" name=""/>
                            <p:cNvGrpSpPr/>
                            <p:nvPr/>
                          </p:nvGrpSpPr>
                          <p:grpSpPr>
                            <a:xfrm>
                              <a:off x="1877040" y="862920"/>
                              <a:ext cx="635040" cy="778320"/>
                              <a:chOff x="1877040" y="862920"/>
                              <a:chExt cx="635040" cy="778320"/>
                            </a:xfrm>
                          </p:grpSpPr>
                          <p:grpSp>
                            <p:nvGrpSpPr>
                              <p:cNvPr id="140" name=""/>
                              <p:cNvGrpSpPr/>
                              <p:nvPr/>
                            </p:nvGrpSpPr>
                            <p:grpSpPr>
                              <a:xfrm>
                                <a:off x="1877040" y="862920"/>
                                <a:ext cx="635040" cy="778320"/>
                                <a:chOff x="1877040" y="862920"/>
                                <a:chExt cx="635040" cy="778320"/>
                              </a:xfrm>
                            </p:grpSpPr>
                            <p:sp>
                              <p:nvSpPr>
                                <p:cNvPr id="141" name=""/>
                                <p:cNvSpPr/>
                                <p:nvPr/>
                              </p:nvSpPr>
                              <p:spPr>
                                <a:xfrm rot="21306000">
                                  <a:off x="1906920" y="885960"/>
                                  <a:ext cx="574560" cy="73188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5613" h="7564">
                                      <a:moveTo>
                                        <a:pt x="1709" y="155"/>
                                      </a:moveTo>
                                      <a:lnTo>
                                        <a:pt x="1920" y="129"/>
                                      </a:lnTo>
                                      <a:lnTo>
                                        <a:pt x="2153" y="21"/>
                                      </a:lnTo>
                                      <a:lnTo>
                                        <a:pt x="2278" y="43"/>
                                      </a:lnTo>
                                      <a:lnTo>
                                        <a:pt x="2382" y="82"/>
                                      </a:lnTo>
                                      <a:lnTo>
                                        <a:pt x="2489" y="129"/>
                                      </a:lnTo>
                                      <a:lnTo>
                                        <a:pt x="2554" y="176"/>
                                      </a:lnTo>
                                      <a:lnTo>
                                        <a:pt x="2584" y="211"/>
                                      </a:lnTo>
                                      <a:lnTo>
                                        <a:pt x="2571" y="254"/>
                                      </a:lnTo>
                                      <a:lnTo>
                                        <a:pt x="2403" y="400"/>
                                      </a:lnTo>
                                      <a:lnTo>
                                        <a:pt x="2343" y="400"/>
                                      </a:lnTo>
                                      <a:lnTo>
                                        <a:pt x="2235" y="464"/>
                                      </a:lnTo>
                                      <a:lnTo>
                                        <a:pt x="2153" y="494"/>
                                      </a:lnTo>
                                      <a:lnTo>
                                        <a:pt x="1993" y="464"/>
                                      </a:lnTo>
                                      <a:lnTo>
                                        <a:pt x="1929" y="430"/>
                                      </a:lnTo>
                                      <a:lnTo>
                                        <a:pt x="1885" y="430"/>
                                      </a:lnTo>
                                      <a:lnTo>
                                        <a:pt x="1864" y="451"/>
                                      </a:lnTo>
                                      <a:lnTo>
                                        <a:pt x="1959" y="611"/>
                                      </a:lnTo>
                                      <a:lnTo>
                                        <a:pt x="2002" y="937"/>
                                      </a:lnTo>
                                      <a:lnTo>
                                        <a:pt x="1972" y="1204"/>
                                      </a:lnTo>
                                      <a:lnTo>
                                        <a:pt x="1825" y="1733"/>
                                      </a:lnTo>
                                      <a:lnTo>
                                        <a:pt x="1791" y="2055"/>
                                      </a:lnTo>
                                      <a:lnTo>
                                        <a:pt x="1812" y="2184"/>
                                      </a:lnTo>
                                      <a:lnTo>
                                        <a:pt x="1812" y="2300"/>
                                      </a:lnTo>
                                      <a:lnTo>
                                        <a:pt x="1885" y="2425"/>
                                      </a:lnTo>
                                      <a:lnTo>
                                        <a:pt x="1937" y="2468"/>
                                      </a:lnTo>
                                      <a:lnTo>
                                        <a:pt x="2088" y="2395"/>
                                      </a:lnTo>
                                      <a:lnTo>
                                        <a:pt x="2183" y="2343"/>
                                      </a:lnTo>
                                      <a:lnTo>
                                        <a:pt x="2619" y="2300"/>
                                      </a:lnTo>
                                      <a:lnTo>
                                        <a:pt x="3072" y="2374"/>
                                      </a:lnTo>
                                      <a:lnTo>
                                        <a:pt x="3348" y="2395"/>
                                      </a:lnTo>
                                      <a:lnTo>
                                        <a:pt x="3486" y="2352"/>
                                      </a:lnTo>
                                      <a:lnTo>
                                        <a:pt x="3676" y="2322"/>
                                      </a:lnTo>
                                      <a:lnTo>
                                        <a:pt x="3736" y="2288"/>
                                      </a:lnTo>
                                      <a:lnTo>
                                        <a:pt x="4077" y="2322"/>
                                      </a:lnTo>
                                      <a:lnTo>
                                        <a:pt x="4513" y="2395"/>
                                      </a:lnTo>
                                      <a:lnTo>
                                        <a:pt x="4746" y="2490"/>
                                      </a:lnTo>
                                      <a:lnTo>
                                        <a:pt x="4914" y="2533"/>
                                      </a:lnTo>
                                      <a:lnTo>
                                        <a:pt x="5039" y="2511"/>
                                      </a:lnTo>
                                      <a:lnTo>
                                        <a:pt x="5104" y="2477"/>
                                      </a:lnTo>
                                      <a:lnTo>
                                        <a:pt x="5251" y="2477"/>
                                      </a:lnTo>
                                      <a:lnTo>
                                        <a:pt x="5389" y="2541"/>
                                      </a:lnTo>
                                      <a:lnTo>
                                        <a:pt x="5527" y="2692"/>
                                      </a:lnTo>
                                      <a:lnTo>
                                        <a:pt x="5578" y="2816"/>
                                      </a:lnTo>
                                      <a:lnTo>
                                        <a:pt x="5613" y="2954"/>
                                      </a:lnTo>
                                      <a:lnTo>
                                        <a:pt x="5548" y="3311"/>
                                      </a:lnTo>
                                      <a:lnTo>
                                        <a:pt x="5548" y="3449"/>
                                      </a:lnTo>
                                      <a:lnTo>
                                        <a:pt x="5570" y="3479"/>
                                      </a:lnTo>
                                      <a:lnTo>
                                        <a:pt x="5570" y="3526"/>
                                      </a:lnTo>
                                      <a:lnTo>
                                        <a:pt x="5497" y="3578"/>
                                      </a:lnTo>
                                      <a:lnTo>
                                        <a:pt x="5466" y="3578"/>
                                      </a:lnTo>
                                      <a:lnTo>
                                        <a:pt x="5432" y="3513"/>
                                      </a:lnTo>
                                      <a:lnTo>
                                        <a:pt x="5337" y="3504"/>
                                      </a:lnTo>
                                      <a:lnTo>
                                        <a:pt x="5337" y="3479"/>
                                      </a:lnTo>
                                      <a:lnTo>
                                        <a:pt x="5324" y="3470"/>
                                      </a:lnTo>
                                      <a:lnTo>
                                        <a:pt x="5307" y="3492"/>
                                      </a:lnTo>
                                      <a:lnTo>
                                        <a:pt x="5307" y="3535"/>
                                      </a:lnTo>
                                      <a:lnTo>
                                        <a:pt x="5346" y="3586"/>
                                      </a:lnTo>
                                      <a:lnTo>
                                        <a:pt x="5324" y="3629"/>
                                      </a:lnTo>
                                      <a:lnTo>
                                        <a:pt x="5367" y="3745"/>
                                      </a:lnTo>
                                      <a:lnTo>
                                        <a:pt x="5337" y="3754"/>
                                      </a:lnTo>
                                      <a:lnTo>
                                        <a:pt x="5337" y="3810"/>
                                      </a:lnTo>
                                      <a:lnTo>
                                        <a:pt x="5358" y="3827"/>
                                      </a:lnTo>
                                      <a:lnTo>
                                        <a:pt x="5358" y="3861"/>
                                      </a:lnTo>
                                      <a:lnTo>
                                        <a:pt x="5315" y="3891"/>
                                      </a:lnTo>
                                      <a:lnTo>
                                        <a:pt x="5294" y="3913"/>
                                      </a:lnTo>
                                      <a:lnTo>
                                        <a:pt x="5315" y="3969"/>
                                      </a:lnTo>
                                      <a:lnTo>
                                        <a:pt x="5264" y="4008"/>
                                      </a:lnTo>
                                      <a:lnTo>
                                        <a:pt x="5242" y="4029"/>
                                      </a:lnTo>
                                      <a:lnTo>
                                        <a:pt x="5307" y="4072"/>
                                      </a:lnTo>
                                      <a:lnTo>
                                        <a:pt x="5307" y="4081"/>
                                      </a:lnTo>
                                      <a:lnTo>
                                        <a:pt x="5315" y="4094"/>
                                      </a:lnTo>
                                      <a:lnTo>
                                        <a:pt x="5212" y="4188"/>
                                      </a:lnTo>
                                      <a:lnTo>
                                        <a:pt x="5229" y="4231"/>
                                      </a:lnTo>
                                      <a:lnTo>
                                        <a:pt x="5199" y="4326"/>
                                      </a:lnTo>
                                      <a:lnTo>
                                        <a:pt x="5212" y="4347"/>
                                      </a:lnTo>
                                      <a:lnTo>
                                        <a:pt x="5212" y="4377"/>
                                      </a:lnTo>
                                      <a:lnTo>
                                        <a:pt x="5095" y="4450"/>
                                      </a:lnTo>
                                      <a:lnTo>
                                        <a:pt x="5039" y="4506"/>
                                      </a:lnTo>
                                      <a:lnTo>
                                        <a:pt x="5039" y="4545"/>
                                      </a:lnTo>
                                      <a:lnTo>
                                        <a:pt x="5069" y="4567"/>
                                      </a:lnTo>
                                      <a:lnTo>
                                        <a:pt x="5095" y="4592"/>
                                      </a:lnTo>
                                      <a:lnTo>
                                        <a:pt x="5095" y="4622"/>
                                      </a:lnTo>
                                      <a:lnTo>
                                        <a:pt x="5031" y="4674"/>
                                      </a:lnTo>
                                      <a:lnTo>
                                        <a:pt x="4987" y="4717"/>
                                      </a:lnTo>
                                      <a:lnTo>
                                        <a:pt x="4996" y="4726"/>
                                      </a:lnTo>
                                      <a:lnTo>
                                        <a:pt x="5009" y="4726"/>
                                      </a:lnTo>
                                      <a:lnTo>
                                        <a:pt x="5009" y="4760"/>
                                      </a:lnTo>
                                      <a:lnTo>
                                        <a:pt x="4841" y="4949"/>
                                      </a:lnTo>
                                      <a:lnTo>
                                        <a:pt x="4871" y="5181"/>
                                      </a:lnTo>
                                      <a:lnTo>
                                        <a:pt x="5022" y="5444"/>
                                      </a:lnTo>
                                      <a:lnTo>
                                        <a:pt x="5095" y="5517"/>
                                      </a:lnTo>
                                      <a:lnTo>
                                        <a:pt x="5061" y="5783"/>
                                      </a:lnTo>
                                      <a:lnTo>
                                        <a:pt x="4966" y="6192"/>
                                      </a:lnTo>
                                      <a:lnTo>
                                        <a:pt x="4923" y="6510"/>
                                      </a:lnTo>
                                      <a:lnTo>
                                        <a:pt x="4923" y="7164"/>
                                      </a:lnTo>
                                      <a:lnTo>
                                        <a:pt x="4936" y="7258"/>
                                      </a:lnTo>
                                      <a:lnTo>
                                        <a:pt x="4936" y="7293"/>
                                      </a:lnTo>
                                      <a:lnTo>
                                        <a:pt x="4880" y="7323"/>
                                      </a:lnTo>
                                      <a:lnTo>
                                        <a:pt x="4841" y="7396"/>
                                      </a:lnTo>
                                      <a:lnTo>
                                        <a:pt x="4841" y="7512"/>
                                      </a:lnTo>
                                      <a:lnTo>
                                        <a:pt x="4806" y="7546"/>
                                      </a:lnTo>
                                      <a:lnTo>
                                        <a:pt x="4301" y="7564"/>
                                      </a:lnTo>
                                      <a:lnTo>
                                        <a:pt x="4258" y="7546"/>
                                      </a:lnTo>
                                      <a:lnTo>
                                        <a:pt x="4258" y="7426"/>
                                      </a:lnTo>
                                      <a:lnTo>
                                        <a:pt x="4353" y="7344"/>
                                      </a:lnTo>
                                      <a:lnTo>
                                        <a:pt x="4491" y="7280"/>
                                      </a:lnTo>
                                      <a:lnTo>
                                        <a:pt x="4565" y="7228"/>
                                      </a:lnTo>
                                      <a:lnTo>
                                        <a:pt x="4616" y="7009"/>
                                      </a:lnTo>
                                      <a:lnTo>
                                        <a:pt x="4616" y="6205"/>
                                      </a:lnTo>
                                      <a:lnTo>
                                        <a:pt x="4543" y="5857"/>
                                      </a:lnTo>
                                      <a:lnTo>
                                        <a:pt x="4310" y="5500"/>
                                      </a:lnTo>
                                      <a:lnTo>
                                        <a:pt x="4172" y="5336"/>
                                      </a:lnTo>
                                      <a:lnTo>
                                        <a:pt x="3952" y="5203"/>
                                      </a:lnTo>
                                      <a:lnTo>
                                        <a:pt x="3836" y="5405"/>
                                      </a:lnTo>
                                      <a:lnTo>
                                        <a:pt x="3801" y="5525"/>
                                      </a:lnTo>
                                      <a:lnTo>
                                        <a:pt x="3801" y="5581"/>
                                      </a:lnTo>
                                      <a:lnTo>
                                        <a:pt x="3823" y="5603"/>
                                      </a:lnTo>
                                      <a:lnTo>
                                        <a:pt x="3823" y="5801"/>
                                      </a:lnTo>
                                      <a:lnTo>
                                        <a:pt x="3486" y="6373"/>
                                      </a:lnTo>
                                      <a:lnTo>
                                        <a:pt x="3326" y="6721"/>
                                      </a:lnTo>
                                      <a:lnTo>
                                        <a:pt x="3232" y="6996"/>
                                      </a:lnTo>
                                      <a:lnTo>
                                        <a:pt x="3210" y="7082"/>
                                      </a:lnTo>
                                      <a:lnTo>
                                        <a:pt x="3253" y="7250"/>
                                      </a:lnTo>
                                      <a:lnTo>
                                        <a:pt x="3232" y="7323"/>
                                      </a:lnTo>
                                      <a:lnTo>
                                        <a:pt x="3167" y="7323"/>
                                      </a:lnTo>
                                      <a:lnTo>
                                        <a:pt x="3137" y="7301"/>
                                      </a:lnTo>
                                      <a:lnTo>
                                        <a:pt x="3124" y="7301"/>
                                      </a:lnTo>
                                      <a:lnTo>
                                        <a:pt x="3124" y="7353"/>
                                      </a:lnTo>
                                      <a:lnTo>
                                        <a:pt x="3145" y="7417"/>
                                      </a:lnTo>
                                      <a:lnTo>
                                        <a:pt x="3124" y="7491"/>
                                      </a:lnTo>
                                      <a:lnTo>
                                        <a:pt x="3007" y="7525"/>
                                      </a:lnTo>
                                      <a:lnTo>
                                        <a:pt x="2869" y="7499"/>
                                      </a:lnTo>
                                      <a:lnTo>
                                        <a:pt x="2533" y="7525"/>
                                      </a:lnTo>
                                      <a:lnTo>
                                        <a:pt x="2489" y="7499"/>
                                      </a:lnTo>
                                      <a:lnTo>
                                        <a:pt x="2524" y="7374"/>
                                      </a:lnTo>
                                      <a:lnTo>
                                        <a:pt x="2627" y="7271"/>
                                      </a:lnTo>
                                      <a:lnTo>
                                        <a:pt x="2774" y="7207"/>
                                      </a:lnTo>
                                      <a:lnTo>
                                        <a:pt x="2904" y="7009"/>
                                      </a:lnTo>
                                      <a:lnTo>
                                        <a:pt x="3167" y="6403"/>
                                      </a:lnTo>
                                      <a:lnTo>
                                        <a:pt x="3167" y="6338"/>
                                      </a:lnTo>
                                      <a:lnTo>
                                        <a:pt x="3158" y="5887"/>
                                      </a:lnTo>
                                      <a:lnTo>
                                        <a:pt x="3050" y="5431"/>
                                      </a:lnTo>
                                      <a:lnTo>
                                        <a:pt x="3007" y="5212"/>
                                      </a:lnTo>
                                      <a:lnTo>
                                        <a:pt x="3016" y="5035"/>
                                      </a:lnTo>
                                      <a:lnTo>
                                        <a:pt x="3063" y="4717"/>
                                      </a:lnTo>
                                      <a:lnTo>
                                        <a:pt x="3081" y="4674"/>
                                      </a:lnTo>
                                      <a:lnTo>
                                        <a:pt x="2999" y="4653"/>
                                      </a:lnTo>
                                      <a:lnTo>
                                        <a:pt x="2921" y="4704"/>
                                      </a:lnTo>
                                      <a:lnTo>
                                        <a:pt x="2869" y="4687"/>
                                      </a:lnTo>
                                      <a:lnTo>
                                        <a:pt x="2787" y="4739"/>
                                      </a:lnTo>
                                      <a:lnTo>
                                        <a:pt x="2774" y="4726"/>
                                      </a:lnTo>
                                      <a:lnTo>
                                        <a:pt x="2701" y="4782"/>
                                      </a:lnTo>
                                      <a:lnTo>
                                        <a:pt x="2679" y="4782"/>
                                      </a:lnTo>
                                      <a:lnTo>
                                        <a:pt x="2658" y="4760"/>
                                      </a:lnTo>
                                      <a:lnTo>
                                        <a:pt x="2511" y="4782"/>
                                      </a:lnTo>
                                      <a:lnTo>
                                        <a:pt x="2438" y="4842"/>
                                      </a:lnTo>
                                      <a:lnTo>
                                        <a:pt x="2343" y="4820"/>
                                      </a:lnTo>
                                      <a:lnTo>
                                        <a:pt x="2330" y="4833"/>
                                      </a:lnTo>
                                      <a:lnTo>
                                        <a:pt x="2127" y="4833"/>
                                      </a:lnTo>
                                      <a:lnTo>
                                        <a:pt x="2097" y="4812"/>
                                      </a:lnTo>
                                      <a:lnTo>
                                        <a:pt x="2088" y="4799"/>
                                      </a:lnTo>
                                      <a:lnTo>
                                        <a:pt x="1920" y="4958"/>
                                      </a:lnTo>
                                      <a:lnTo>
                                        <a:pt x="1441" y="5487"/>
                                      </a:lnTo>
                                      <a:lnTo>
                                        <a:pt x="1484" y="5538"/>
                                      </a:lnTo>
                                      <a:lnTo>
                                        <a:pt x="1476" y="5646"/>
                                      </a:lnTo>
                                      <a:lnTo>
                                        <a:pt x="1463" y="5654"/>
                                      </a:lnTo>
                                      <a:lnTo>
                                        <a:pt x="1825" y="5848"/>
                                      </a:lnTo>
                                      <a:lnTo>
                                        <a:pt x="1907" y="5865"/>
                                      </a:lnTo>
                                      <a:lnTo>
                                        <a:pt x="2054" y="5857"/>
                                      </a:lnTo>
                                      <a:lnTo>
                                        <a:pt x="2140" y="5835"/>
                                      </a:lnTo>
                                      <a:lnTo>
                                        <a:pt x="2183" y="5792"/>
                                      </a:lnTo>
                                      <a:lnTo>
                                        <a:pt x="2205" y="5792"/>
                                      </a:lnTo>
                                      <a:lnTo>
                                        <a:pt x="2226" y="5857"/>
                                      </a:lnTo>
                                      <a:lnTo>
                                        <a:pt x="2248" y="5878"/>
                                      </a:lnTo>
                                      <a:lnTo>
                                        <a:pt x="2278" y="5878"/>
                                      </a:lnTo>
                                      <a:lnTo>
                                        <a:pt x="2343" y="5783"/>
                                      </a:lnTo>
                                      <a:lnTo>
                                        <a:pt x="2425" y="5728"/>
                                      </a:lnTo>
                                      <a:lnTo>
                                        <a:pt x="2606" y="5740"/>
                                      </a:lnTo>
                                      <a:lnTo>
                                        <a:pt x="2774" y="5835"/>
                                      </a:lnTo>
                                      <a:lnTo>
                                        <a:pt x="2809" y="5865"/>
                                      </a:lnTo>
                                      <a:lnTo>
                                        <a:pt x="2826" y="5908"/>
                                      </a:lnTo>
                                      <a:lnTo>
                                        <a:pt x="2826" y="5951"/>
                                      </a:lnTo>
                                      <a:lnTo>
                                        <a:pt x="2524" y="6110"/>
                                      </a:lnTo>
                                      <a:lnTo>
                                        <a:pt x="2256" y="6235"/>
                                      </a:lnTo>
                                      <a:lnTo>
                                        <a:pt x="2067" y="6226"/>
                                      </a:lnTo>
                                      <a:lnTo>
                                        <a:pt x="1514" y="6024"/>
                                      </a:lnTo>
                                      <a:lnTo>
                                        <a:pt x="1264" y="5865"/>
                                      </a:lnTo>
                                      <a:lnTo>
                                        <a:pt x="1191" y="5943"/>
                                      </a:lnTo>
                                      <a:lnTo>
                                        <a:pt x="1191" y="5981"/>
                                      </a:lnTo>
                                      <a:lnTo>
                                        <a:pt x="1105" y="6089"/>
                                      </a:lnTo>
                                      <a:lnTo>
                                        <a:pt x="975" y="6330"/>
                                      </a:lnTo>
                                      <a:lnTo>
                                        <a:pt x="915" y="6648"/>
                                      </a:lnTo>
                                      <a:lnTo>
                                        <a:pt x="859" y="6880"/>
                                      </a:lnTo>
                                      <a:lnTo>
                                        <a:pt x="889" y="7056"/>
                                      </a:lnTo>
                                      <a:lnTo>
                                        <a:pt x="902" y="7121"/>
                                      </a:lnTo>
                                      <a:lnTo>
                                        <a:pt x="880" y="7185"/>
                                      </a:lnTo>
                                      <a:lnTo>
                                        <a:pt x="755" y="7258"/>
                                      </a:lnTo>
                                      <a:lnTo>
                                        <a:pt x="669" y="7353"/>
                                      </a:lnTo>
                                      <a:lnTo>
                                        <a:pt x="734" y="7452"/>
                                      </a:lnTo>
                                      <a:lnTo>
                                        <a:pt x="721" y="7525"/>
                                      </a:lnTo>
                                      <a:lnTo>
                                        <a:pt x="552" y="7555"/>
                                      </a:lnTo>
                                      <a:lnTo>
                                        <a:pt x="108" y="7534"/>
                                      </a:lnTo>
                                      <a:lnTo>
                                        <a:pt x="173" y="7387"/>
                                      </a:lnTo>
                                      <a:lnTo>
                                        <a:pt x="276" y="7250"/>
                                      </a:lnTo>
                                      <a:lnTo>
                                        <a:pt x="319" y="7237"/>
                                      </a:lnTo>
                                      <a:lnTo>
                                        <a:pt x="531" y="6975"/>
                                      </a:lnTo>
                                      <a:lnTo>
                                        <a:pt x="764" y="6256"/>
                                      </a:lnTo>
                                      <a:lnTo>
                                        <a:pt x="815" y="5943"/>
                                      </a:lnTo>
                                      <a:lnTo>
                                        <a:pt x="837" y="5857"/>
                                      </a:lnTo>
                                      <a:lnTo>
                                        <a:pt x="828" y="5500"/>
                                      </a:lnTo>
                                      <a:lnTo>
                                        <a:pt x="923" y="5212"/>
                                      </a:lnTo>
                                      <a:lnTo>
                                        <a:pt x="962" y="4704"/>
                                      </a:lnTo>
                                      <a:lnTo>
                                        <a:pt x="988" y="4592"/>
                                      </a:lnTo>
                                      <a:lnTo>
                                        <a:pt x="988" y="4545"/>
                                      </a:lnTo>
                                      <a:lnTo>
                                        <a:pt x="867" y="4369"/>
                                      </a:lnTo>
                                      <a:lnTo>
                                        <a:pt x="859" y="4377"/>
                                      </a:lnTo>
                                      <a:lnTo>
                                        <a:pt x="859" y="4399"/>
                                      </a:lnTo>
                                      <a:lnTo>
                                        <a:pt x="828" y="4412"/>
                                      </a:lnTo>
                                      <a:lnTo>
                                        <a:pt x="734" y="4296"/>
                                      </a:lnTo>
                                      <a:lnTo>
                                        <a:pt x="639" y="4188"/>
                                      </a:lnTo>
                                      <a:lnTo>
                                        <a:pt x="604" y="4223"/>
                                      </a:lnTo>
                                      <a:lnTo>
                                        <a:pt x="531" y="4081"/>
                                      </a:lnTo>
                                      <a:lnTo>
                                        <a:pt x="509" y="3999"/>
                                      </a:lnTo>
                                      <a:lnTo>
                                        <a:pt x="501" y="3986"/>
                                      </a:lnTo>
                                      <a:lnTo>
                                        <a:pt x="470" y="4051"/>
                                      </a:lnTo>
                                      <a:lnTo>
                                        <a:pt x="470" y="4063"/>
                                      </a:lnTo>
                                      <a:lnTo>
                                        <a:pt x="444" y="4063"/>
                                      </a:lnTo>
                                      <a:lnTo>
                                        <a:pt x="384" y="3797"/>
                                      </a:lnTo>
                                      <a:lnTo>
                                        <a:pt x="362" y="3818"/>
                                      </a:lnTo>
                                      <a:lnTo>
                                        <a:pt x="350" y="3818"/>
                                      </a:lnTo>
                                      <a:lnTo>
                                        <a:pt x="298" y="3535"/>
                                      </a:lnTo>
                                      <a:lnTo>
                                        <a:pt x="255" y="3535"/>
                                      </a:lnTo>
                                      <a:lnTo>
                                        <a:pt x="224" y="3375"/>
                                      </a:lnTo>
                                      <a:lnTo>
                                        <a:pt x="224" y="3354"/>
                                      </a:lnTo>
                                      <a:lnTo>
                                        <a:pt x="173" y="3354"/>
                                      </a:lnTo>
                                      <a:lnTo>
                                        <a:pt x="138" y="3070"/>
                                      </a:lnTo>
                                      <a:lnTo>
                                        <a:pt x="138" y="2890"/>
                                      </a:lnTo>
                                      <a:lnTo>
                                        <a:pt x="173" y="2773"/>
                                      </a:lnTo>
                                      <a:lnTo>
                                        <a:pt x="173" y="2765"/>
                                      </a:lnTo>
                                      <a:lnTo>
                                        <a:pt x="121" y="2765"/>
                                      </a:lnTo>
                                      <a:lnTo>
                                        <a:pt x="181" y="2460"/>
                                      </a:lnTo>
                                      <a:lnTo>
                                        <a:pt x="121" y="2468"/>
                                      </a:lnTo>
                                      <a:lnTo>
                                        <a:pt x="194" y="2193"/>
                                      </a:lnTo>
                                      <a:lnTo>
                                        <a:pt x="289" y="1815"/>
                                      </a:lnTo>
                                      <a:lnTo>
                                        <a:pt x="224" y="1815"/>
                                      </a:lnTo>
                                      <a:lnTo>
                                        <a:pt x="311" y="1591"/>
                                      </a:lnTo>
                                      <a:lnTo>
                                        <a:pt x="216" y="1625"/>
                                      </a:lnTo>
                                      <a:lnTo>
                                        <a:pt x="289" y="1466"/>
                                      </a:lnTo>
                                      <a:lnTo>
                                        <a:pt x="350" y="1385"/>
                                      </a:lnTo>
                                      <a:lnTo>
                                        <a:pt x="350" y="1372"/>
                                      </a:lnTo>
                                      <a:lnTo>
                                        <a:pt x="311" y="1372"/>
                                      </a:lnTo>
                                      <a:lnTo>
                                        <a:pt x="289" y="1393"/>
                                      </a:lnTo>
                                      <a:lnTo>
                                        <a:pt x="276" y="1385"/>
                                      </a:lnTo>
                                      <a:lnTo>
                                        <a:pt x="268" y="1385"/>
                                      </a:lnTo>
                                      <a:lnTo>
                                        <a:pt x="328" y="1307"/>
                                      </a:lnTo>
                                      <a:lnTo>
                                        <a:pt x="639" y="1023"/>
                                      </a:lnTo>
                                      <a:lnTo>
                                        <a:pt x="677" y="937"/>
                                      </a:lnTo>
                                      <a:lnTo>
                                        <a:pt x="690" y="929"/>
                                      </a:lnTo>
                                      <a:lnTo>
                                        <a:pt x="583" y="873"/>
                                      </a:lnTo>
                                      <a:lnTo>
                                        <a:pt x="470" y="856"/>
                                      </a:lnTo>
                                      <a:lnTo>
                                        <a:pt x="371" y="834"/>
                                      </a:lnTo>
                                      <a:lnTo>
                                        <a:pt x="216" y="800"/>
                                      </a:lnTo>
                                      <a:lnTo>
                                        <a:pt x="138" y="697"/>
                                      </a:lnTo>
                                      <a:lnTo>
                                        <a:pt x="73" y="697"/>
                                      </a:lnTo>
                                      <a:lnTo>
                                        <a:pt x="0" y="645"/>
                                      </a:lnTo>
                                      <a:lnTo>
                                        <a:pt x="0" y="507"/>
                                      </a:lnTo>
                                      <a:lnTo>
                                        <a:pt x="276" y="254"/>
                                      </a:lnTo>
                                      <a:lnTo>
                                        <a:pt x="531" y="224"/>
                                      </a:lnTo>
                                      <a:lnTo>
                                        <a:pt x="902" y="52"/>
                                      </a:lnTo>
                                      <a:lnTo>
                                        <a:pt x="1122" y="0"/>
                                      </a:lnTo>
                                      <a:lnTo>
                                        <a:pt x="1432" y="21"/>
                                      </a:lnTo>
                                      <a:lnTo>
                                        <a:pt x="1709" y="155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grpSp>
                              <p:nvGrpSpPr>
                                <p:cNvPr id="142" name=""/>
                                <p:cNvGrpSpPr/>
                                <p:nvPr/>
                              </p:nvGrpSpPr>
                              <p:grpSpPr>
                                <a:xfrm>
                                  <a:off x="1900080" y="934920"/>
                                  <a:ext cx="450720" cy="688680"/>
                                  <a:chOff x="1900080" y="934920"/>
                                  <a:chExt cx="450720" cy="688680"/>
                                </a:xfrm>
                              </p:grpSpPr>
                              <p:sp>
                                <p:nvSpPr>
                                  <p:cNvPr id="143" name=""/>
                                  <p:cNvSpPr/>
                                  <p:nvPr/>
                                </p:nvSpPr>
                                <p:spPr>
                                  <a:xfrm rot="21306000">
                                    <a:off x="1917000" y="948960"/>
                                    <a:ext cx="355680" cy="416880"/>
                                  </a:xfrm>
                                  <a:custGeom>
                                    <a:avLst/>
                                    <a:gdLst/>
                                    <a:ahLst/>
                                    <a:rect l="l" t="t" r="r" b="b"/>
                                    <a:pathLst>
                                      <a:path w="3473" h="4305">
                                        <a:moveTo>
                                          <a:pt x="1665" y="0"/>
                                        </a:moveTo>
                                        <a:lnTo>
                                          <a:pt x="1665" y="82"/>
                                        </a:lnTo>
                                        <a:lnTo>
                                          <a:pt x="1626" y="104"/>
                                        </a:lnTo>
                                        <a:lnTo>
                                          <a:pt x="1622" y="112"/>
                                        </a:lnTo>
                                        <a:lnTo>
                                          <a:pt x="1618" y="129"/>
                                        </a:lnTo>
                                        <a:lnTo>
                                          <a:pt x="1605" y="142"/>
                                        </a:lnTo>
                                        <a:lnTo>
                                          <a:pt x="1596" y="159"/>
                                        </a:lnTo>
                                        <a:lnTo>
                                          <a:pt x="1583" y="177"/>
                                        </a:lnTo>
                                        <a:lnTo>
                                          <a:pt x="1574" y="190"/>
                                        </a:lnTo>
                                        <a:lnTo>
                                          <a:pt x="1566" y="202"/>
                                        </a:lnTo>
                                        <a:lnTo>
                                          <a:pt x="1566" y="202"/>
                                        </a:lnTo>
                                        <a:lnTo>
                                          <a:pt x="1544" y="202"/>
                                        </a:lnTo>
                                        <a:lnTo>
                                          <a:pt x="1544" y="211"/>
                                        </a:lnTo>
                                        <a:lnTo>
                                          <a:pt x="1540" y="224"/>
                                        </a:lnTo>
                                        <a:lnTo>
                                          <a:pt x="1536" y="233"/>
                                        </a:lnTo>
                                        <a:lnTo>
                                          <a:pt x="1531" y="241"/>
                                        </a:lnTo>
                                        <a:lnTo>
                                          <a:pt x="1527" y="250"/>
                                        </a:lnTo>
                                        <a:lnTo>
                                          <a:pt x="1518" y="258"/>
                                        </a:lnTo>
                                        <a:lnTo>
                                          <a:pt x="1510" y="263"/>
                                        </a:lnTo>
                                        <a:lnTo>
                                          <a:pt x="1501" y="267"/>
                                        </a:lnTo>
                                        <a:lnTo>
                                          <a:pt x="1501" y="284"/>
                                        </a:lnTo>
                                        <a:lnTo>
                                          <a:pt x="1501" y="306"/>
                                        </a:lnTo>
                                        <a:lnTo>
                                          <a:pt x="1497" y="306"/>
                                        </a:lnTo>
                                        <a:lnTo>
                                          <a:pt x="1492" y="310"/>
                                        </a:lnTo>
                                        <a:lnTo>
                                          <a:pt x="1488" y="314"/>
                                        </a:lnTo>
                                        <a:lnTo>
                                          <a:pt x="1484" y="323"/>
                                        </a:lnTo>
                                        <a:lnTo>
                                          <a:pt x="1475" y="331"/>
                                        </a:lnTo>
                                        <a:lnTo>
                                          <a:pt x="1467" y="340"/>
                                        </a:lnTo>
                                        <a:lnTo>
                                          <a:pt x="1462" y="349"/>
                                        </a:lnTo>
                                        <a:lnTo>
                                          <a:pt x="1454" y="357"/>
                                        </a:lnTo>
                                        <a:lnTo>
                                          <a:pt x="1410" y="379"/>
                                        </a:lnTo>
                                        <a:lnTo>
                                          <a:pt x="1484" y="293"/>
                                        </a:lnTo>
                                        <a:lnTo>
                                          <a:pt x="1505" y="147"/>
                                        </a:lnTo>
                                        <a:lnTo>
                                          <a:pt x="1609" y="0"/>
                                        </a:lnTo>
                                        <a:lnTo>
                                          <a:pt x="1665" y="0"/>
                                        </a:lnTo>
                                        <a:lnTo>
                                          <a:pt x="1665" y="0"/>
                                        </a:lnTo>
                                        <a:close/>
                                        <a:moveTo>
                                          <a:pt x="1423" y="422"/>
                                        </a:moveTo>
                                        <a:lnTo>
                                          <a:pt x="1423" y="426"/>
                                        </a:lnTo>
                                        <a:lnTo>
                                          <a:pt x="1423" y="426"/>
                                        </a:lnTo>
                                        <a:lnTo>
                                          <a:pt x="1423" y="426"/>
                                        </a:lnTo>
                                        <a:lnTo>
                                          <a:pt x="1423" y="426"/>
                                        </a:lnTo>
                                        <a:lnTo>
                                          <a:pt x="1423" y="426"/>
                                        </a:lnTo>
                                        <a:lnTo>
                                          <a:pt x="1423" y="426"/>
                                        </a:lnTo>
                                        <a:lnTo>
                                          <a:pt x="1423" y="426"/>
                                        </a:lnTo>
                                        <a:lnTo>
                                          <a:pt x="1423" y="426"/>
                                        </a:lnTo>
                                        <a:lnTo>
                                          <a:pt x="1415" y="430"/>
                                        </a:lnTo>
                                        <a:lnTo>
                                          <a:pt x="1406" y="430"/>
                                        </a:lnTo>
                                        <a:lnTo>
                                          <a:pt x="1398" y="435"/>
                                        </a:lnTo>
                                        <a:lnTo>
                                          <a:pt x="1389" y="439"/>
                                        </a:lnTo>
                                        <a:lnTo>
                                          <a:pt x="1385" y="448"/>
                                        </a:lnTo>
                                        <a:lnTo>
                                          <a:pt x="1376" y="452"/>
                                        </a:lnTo>
                                        <a:lnTo>
                                          <a:pt x="1367" y="460"/>
                                        </a:lnTo>
                                        <a:lnTo>
                                          <a:pt x="1359" y="469"/>
                                        </a:lnTo>
                                        <a:lnTo>
                                          <a:pt x="1298" y="469"/>
                                        </a:lnTo>
                                        <a:lnTo>
                                          <a:pt x="1294" y="478"/>
                                        </a:lnTo>
                                        <a:lnTo>
                                          <a:pt x="1285" y="491"/>
                                        </a:lnTo>
                                        <a:lnTo>
                                          <a:pt x="1268" y="503"/>
                                        </a:lnTo>
                                        <a:lnTo>
                                          <a:pt x="1247" y="521"/>
                                        </a:lnTo>
                                        <a:lnTo>
                                          <a:pt x="1229" y="534"/>
                                        </a:lnTo>
                                        <a:lnTo>
                                          <a:pt x="1212" y="551"/>
                                        </a:lnTo>
                                        <a:lnTo>
                                          <a:pt x="1203" y="559"/>
                                        </a:lnTo>
                                        <a:lnTo>
                                          <a:pt x="1199" y="572"/>
                                        </a:lnTo>
                                        <a:lnTo>
                                          <a:pt x="1186" y="572"/>
                                        </a:lnTo>
                                        <a:lnTo>
                                          <a:pt x="1178" y="572"/>
                                        </a:lnTo>
                                        <a:lnTo>
                                          <a:pt x="1165" y="581"/>
                                        </a:lnTo>
                                        <a:lnTo>
                                          <a:pt x="1147" y="585"/>
                                        </a:lnTo>
                                        <a:lnTo>
                                          <a:pt x="1134" y="594"/>
                                        </a:lnTo>
                                        <a:lnTo>
                                          <a:pt x="1126" y="607"/>
                                        </a:lnTo>
                                        <a:lnTo>
                                          <a:pt x="1117" y="615"/>
                                        </a:lnTo>
                                        <a:lnTo>
                                          <a:pt x="1117" y="632"/>
                                        </a:lnTo>
                                        <a:lnTo>
                                          <a:pt x="1126" y="632"/>
                                        </a:lnTo>
                                        <a:lnTo>
                                          <a:pt x="1134" y="628"/>
                                        </a:lnTo>
                                        <a:lnTo>
                                          <a:pt x="1143" y="624"/>
                                        </a:lnTo>
                                        <a:lnTo>
                                          <a:pt x="1156" y="620"/>
                                        </a:lnTo>
                                        <a:lnTo>
                                          <a:pt x="1165" y="611"/>
                                        </a:lnTo>
                                        <a:lnTo>
                                          <a:pt x="1169" y="607"/>
                                        </a:lnTo>
                                        <a:lnTo>
                                          <a:pt x="1173" y="598"/>
                                        </a:lnTo>
                                        <a:lnTo>
                                          <a:pt x="1178" y="589"/>
                                        </a:lnTo>
                                        <a:lnTo>
                                          <a:pt x="1117" y="611"/>
                                        </a:lnTo>
                                        <a:lnTo>
                                          <a:pt x="1044" y="632"/>
                                        </a:lnTo>
                                        <a:lnTo>
                                          <a:pt x="966" y="650"/>
                                        </a:lnTo>
                                        <a:lnTo>
                                          <a:pt x="884" y="667"/>
                                        </a:lnTo>
                                        <a:lnTo>
                                          <a:pt x="806" y="688"/>
                                        </a:lnTo>
                                        <a:lnTo>
                                          <a:pt x="733" y="710"/>
                                        </a:lnTo>
                                        <a:lnTo>
                                          <a:pt x="703" y="723"/>
                                        </a:lnTo>
                                        <a:lnTo>
                                          <a:pt x="673" y="740"/>
                                        </a:lnTo>
                                        <a:lnTo>
                                          <a:pt x="647" y="757"/>
                                        </a:lnTo>
                                        <a:lnTo>
                                          <a:pt x="625" y="774"/>
                                        </a:lnTo>
                                        <a:lnTo>
                                          <a:pt x="634" y="774"/>
                                        </a:lnTo>
                                        <a:lnTo>
                                          <a:pt x="643" y="770"/>
                                        </a:lnTo>
                                        <a:lnTo>
                                          <a:pt x="651" y="766"/>
                                        </a:lnTo>
                                        <a:lnTo>
                                          <a:pt x="655" y="761"/>
                                        </a:lnTo>
                                        <a:lnTo>
                                          <a:pt x="664" y="761"/>
                                        </a:lnTo>
                                        <a:lnTo>
                                          <a:pt x="673" y="757"/>
                                        </a:lnTo>
                                        <a:lnTo>
                                          <a:pt x="681" y="753"/>
                                        </a:lnTo>
                                        <a:lnTo>
                                          <a:pt x="686" y="753"/>
                                        </a:lnTo>
                                        <a:lnTo>
                                          <a:pt x="677" y="774"/>
                                        </a:lnTo>
                                        <a:lnTo>
                                          <a:pt x="664" y="800"/>
                                        </a:lnTo>
                                        <a:lnTo>
                                          <a:pt x="647" y="822"/>
                                        </a:lnTo>
                                        <a:lnTo>
                                          <a:pt x="630" y="843"/>
                                        </a:lnTo>
                                        <a:lnTo>
                                          <a:pt x="612" y="869"/>
                                        </a:lnTo>
                                        <a:lnTo>
                                          <a:pt x="599" y="890"/>
                                        </a:lnTo>
                                        <a:lnTo>
                                          <a:pt x="591" y="912"/>
                                        </a:lnTo>
                                        <a:lnTo>
                                          <a:pt x="586" y="938"/>
                                        </a:lnTo>
                                        <a:lnTo>
                                          <a:pt x="634" y="912"/>
                                        </a:lnTo>
                                        <a:lnTo>
                                          <a:pt x="655" y="908"/>
                                        </a:lnTo>
                                        <a:lnTo>
                                          <a:pt x="660" y="908"/>
                                        </a:lnTo>
                                        <a:lnTo>
                                          <a:pt x="660" y="912"/>
                                        </a:lnTo>
                                        <a:lnTo>
                                          <a:pt x="655" y="921"/>
                                        </a:lnTo>
                                        <a:lnTo>
                                          <a:pt x="651" y="929"/>
                                        </a:lnTo>
                                        <a:lnTo>
                                          <a:pt x="630" y="955"/>
                                        </a:lnTo>
                                        <a:lnTo>
                                          <a:pt x="599" y="985"/>
                                        </a:lnTo>
                                        <a:lnTo>
                                          <a:pt x="569" y="1019"/>
                                        </a:lnTo>
                                        <a:lnTo>
                                          <a:pt x="543" y="1058"/>
                                        </a:lnTo>
                                        <a:lnTo>
                                          <a:pt x="552" y="1058"/>
                                        </a:lnTo>
                                        <a:lnTo>
                                          <a:pt x="565" y="1054"/>
                                        </a:lnTo>
                                        <a:lnTo>
                                          <a:pt x="574" y="1045"/>
                                        </a:lnTo>
                                        <a:lnTo>
                                          <a:pt x="586" y="1037"/>
                                        </a:lnTo>
                                        <a:lnTo>
                                          <a:pt x="604" y="1032"/>
                                        </a:lnTo>
                                        <a:lnTo>
                                          <a:pt x="617" y="1024"/>
                                        </a:lnTo>
                                        <a:lnTo>
                                          <a:pt x="630" y="1019"/>
                                        </a:lnTo>
                                        <a:lnTo>
                                          <a:pt x="647" y="1019"/>
                                        </a:lnTo>
                                        <a:lnTo>
                                          <a:pt x="621" y="1050"/>
                                        </a:lnTo>
                                        <a:lnTo>
                                          <a:pt x="595" y="1101"/>
                                        </a:lnTo>
                                        <a:lnTo>
                                          <a:pt x="569" y="1161"/>
                                        </a:lnTo>
                                        <a:lnTo>
                                          <a:pt x="539" y="1222"/>
                                        </a:lnTo>
                                        <a:lnTo>
                                          <a:pt x="504" y="1282"/>
                                        </a:lnTo>
                                        <a:lnTo>
                                          <a:pt x="466" y="1333"/>
                                        </a:lnTo>
                                        <a:lnTo>
                                          <a:pt x="448" y="1355"/>
                                        </a:lnTo>
                                        <a:lnTo>
                                          <a:pt x="427" y="1372"/>
                                        </a:lnTo>
                                        <a:lnTo>
                                          <a:pt x="405" y="1381"/>
                                        </a:lnTo>
                                        <a:lnTo>
                                          <a:pt x="384" y="1385"/>
                                        </a:lnTo>
                                        <a:lnTo>
                                          <a:pt x="397" y="1376"/>
                                        </a:lnTo>
                                        <a:lnTo>
                                          <a:pt x="414" y="1363"/>
                                        </a:lnTo>
                                        <a:lnTo>
                                          <a:pt x="435" y="1355"/>
                                        </a:lnTo>
                                        <a:lnTo>
                                          <a:pt x="457" y="1346"/>
                                        </a:lnTo>
                                        <a:lnTo>
                                          <a:pt x="483" y="1338"/>
                                        </a:lnTo>
                                        <a:lnTo>
                                          <a:pt x="509" y="1329"/>
                                        </a:lnTo>
                                        <a:lnTo>
                                          <a:pt x="535" y="1325"/>
                                        </a:lnTo>
                                        <a:lnTo>
                                          <a:pt x="565" y="1320"/>
                                        </a:lnTo>
                                        <a:lnTo>
                                          <a:pt x="483" y="1626"/>
                                        </a:lnTo>
                                        <a:lnTo>
                                          <a:pt x="466" y="1634"/>
                                        </a:lnTo>
                                        <a:lnTo>
                                          <a:pt x="448" y="1643"/>
                                        </a:lnTo>
                                        <a:lnTo>
                                          <a:pt x="431" y="1652"/>
                                        </a:lnTo>
                                        <a:lnTo>
                                          <a:pt x="414" y="1660"/>
                                        </a:lnTo>
                                        <a:lnTo>
                                          <a:pt x="397" y="1669"/>
                                        </a:lnTo>
                                        <a:lnTo>
                                          <a:pt x="384" y="1682"/>
                                        </a:lnTo>
                                        <a:lnTo>
                                          <a:pt x="371" y="1695"/>
                                        </a:lnTo>
                                        <a:lnTo>
                                          <a:pt x="362" y="1707"/>
                                        </a:lnTo>
                                        <a:lnTo>
                                          <a:pt x="371" y="1699"/>
                                        </a:lnTo>
                                        <a:lnTo>
                                          <a:pt x="384" y="1690"/>
                                        </a:lnTo>
                                        <a:lnTo>
                                          <a:pt x="397" y="1677"/>
                                        </a:lnTo>
                                        <a:lnTo>
                                          <a:pt x="414" y="1669"/>
                                        </a:lnTo>
                                        <a:lnTo>
                                          <a:pt x="427" y="1656"/>
                                        </a:lnTo>
                                        <a:lnTo>
                                          <a:pt x="440" y="1647"/>
                                        </a:lnTo>
                                        <a:lnTo>
                                          <a:pt x="453" y="1634"/>
                                        </a:lnTo>
                                        <a:lnTo>
                                          <a:pt x="461" y="1626"/>
                                        </a:lnTo>
                                        <a:lnTo>
                                          <a:pt x="448" y="1686"/>
                                        </a:lnTo>
                                        <a:lnTo>
                                          <a:pt x="435" y="1738"/>
                                        </a:lnTo>
                                        <a:lnTo>
                                          <a:pt x="423" y="1785"/>
                                        </a:lnTo>
                                        <a:lnTo>
                                          <a:pt x="405" y="1832"/>
                                        </a:lnTo>
                                        <a:lnTo>
                                          <a:pt x="392" y="1871"/>
                                        </a:lnTo>
                                        <a:lnTo>
                                          <a:pt x="371" y="1910"/>
                                        </a:lnTo>
                                        <a:lnTo>
                                          <a:pt x="349" y="1940"/>
                                        </a:lnTo>
                                        <a:lnTo>
                                          <a:pt x="319" y="1974"/>
                                        </a:lnTo>
                                        <a:lnTo>
                                          <a:pt x="328" y="1970"/>
                                        </a:lnTo>
                                        <a:lnTo>
                                          <a:pt x="332" y="1965"/>
                                        </a:lnTo>
                                        <a:lnTo>
                                          <a:pt x="336" y="1961"/>
                                        </a:lnTo>
                                        <a:lnTo>
                                          <a:pt x="345" y="1953"/>
                                        </a:lnTo>
                                        <a:lnTo>
                                          <a:pt x="349" y="1944"/>
                                        </a:lnTo>
                                        <a:lnTo>
                                          <a:pt x="358" y="1940"/>
                                        </a:lnTo>
                                        <a:lnTo>
                                          <a:pt x="366" y="1935"/>
                                        </a:lnTo>
                                        <a:lnTo>
                                          <a:pt x="384" y="1931"/>
                                        </a:lnTo>
                                        <a:lnTo>
                                          <a:pt x="371" y="1940"/>
                                        </a:lnTo>
                                        <a:lnTo>
                                          <a:pt x="362" y="1944"/>
                                        </a:lnTo>
                                        <a:lnTo>
                                          <a:pt x="353" y="1957"/>
                                        </a:lnTo>
                                        <a:lnTo>
                                          <a:pt x="345" y="1965"/>
                                        </a:lnTo>
                                        <a:lnTo>
                                          <a:pt x="336" y="1996"/>
                                        </a:lnTo>
                                        <a:lnTo>
                                          <a:pt x="328" y="2030"/>
                                        </a:lnTo>
                                        <a:lnTo>
                                          <a:pt x="323" y="2064"/>
                                        </a:lnTo>
                                        <a:lnTo>
                                          <a:pt x="323" y="2099"/>
                                        </a:lnTo>
                                        <a:lnTo>
                                          <a:pt x="319" y="2129"/>
                                        </a:lnTo>
                                        <a:lnTo>
                                          <a:pt x="319" y="2155"/>
                                        </a:lnTo>
                                        <a:lnTo>
                                          <a:pt x="336" y="2155"/>
                                        </a:lnTo>
                                        <a:lnTo>
                                          <a:pt x="349" y="2150"/>
                                        </a:lnTo>
                                        <a:lnTo>
                                          <a:pt x="366" y="2142"/>
                                        </a:lnTo>
                                        <a:lnTo>
                                          <a:pt x="379" y="2137"/>
                                        </a:lnTo>
                                        <a:lnTo>
                                          <a:pt x="392" y="2129"/>
                                        </a:lnTo>
                                        <a:lnTo>
                                          <a:pt x="405" y="2120"/>
                                        </a:lnTo>
                                        <a:lnTo>
                                          <a:pt x="414" y="2116"/>
                                        </a:lnTo>
                                        <a:lnTo>
                                          <a:pt x="423" y="2116"/>
                                        </a:lnTo>
                                        <a:lnTo>
                                          <a:pt x="414" y="2155"/>
                                        </a:lnTo>
                                        <a:lnTo>
                                          <a:pt x="405" y="2202"/>
                                        </a:lnTo>
                                        <a:lnTo>
                                          <a:pt x="392" y="2249"/>
                                        </a:lnTo>
                                        <a:lnTo>
                                          <a:pt x="384" y="2297"/>
                                        </a:lnTo>
                                        <a:lnTo>
                                          <a:pt x="375" y="2348"/>
                                        </a:lnTo>
                                        <a:lnTo>
                                          <a:pt x="366" y="2395"/>
                                        </a:lnTo>
                                        <a:lnTo>
                                          <a:pt x="362" y="2438"/>
                                        </a:lnTo>
                                        <a:lnTo>
                                          <a:pt x="362" y="2481"/>
                                        </a:lnTo>
                                        <a:lnTo>
                                          <a:pt x="371" y="2473"/>
                                        </a:lnTo>
                                        <a:lnTo>
                                          <a:pt x="379" y="2464"/>
                                        </a:lnTo>
                                        <a:lnTo>
                                          <a:pt x="392" y="2451"/>
                                        </a:lnTo>
                                        <a:lnTo>
                                          <a:pt x="405" y="2443"/>
                                        </a:lnTo>
                                        <a:lnTo>
                                          <a:pt x="418" y="2434"/>
                                        </a:lnTo>
                                        <a:lnTo>
                                          <a:pt x="431" y="2426"/>
                                        </a:lnTo>
                                        <a:lnTo>
                                          <a:pt x="448" y="2421"/>
                                        </a:lnTo>
                                        <a:lnTo>
                                          <a:pt x="461" y="2421"/>
                                        </a:lnTo>
                                        <a:lnTo>
                                          <a:pt x="461" y="2443"/>
                                        </a:lnTo>
                                        <a:lnTo>
                                          <a:pt x="457" y="2473"/>
                                        </a:lnTo>
                                        <a:lnTo>
                                          <a:pt x="448" y="2503"/>
                                        </a:lnTo>
                                        <a:lnTo>
                                          <a:pt x="444" y="2533"/>
                                        </a:lnTo>
                                        <a:lnTo>
                                          <a:pt x="435" y="2563"/>
                                        </a:lnTo>
                                        <a:lnTo>
                                          <a:pt x="427" y="2593"/>
                                        </a:lnTo>
                                        <a:lnTo>
                                          <a:pt x="423" y="2619"/>
                                        </a:lnTo>
                                        <a:lnTo>
                                          <a:pt x="423" y="2645"/>
                                        </a:lnTo>
                                        <a:lnTo>
                                          <a:pt x="431" y="2628"/>
                                        </a:lnTo>
                                        <a:lnTo>
                                          <a:pt x="444" y="2615"/>
                                        </a:lnTo>
                                        <a:lnTo>
                                          <a:pt x="457" y="2598"/>
                                        </a:lnTo>
                                        <a:lnTo>
                                          <a:pt x="474" y="2585"/>
                                        </a:lnTo>
                                        <a:lnTo>
                                          <a:pt x="487" y="2572"/>
                                        </a:lnTo>
                                        <a:lnTo>
                                          <a:pt x="504" y="2559"/>
                                        </a:lnTo>
                                        <a:lnTo>
                                          <a:pt x="513" y="2550"/>
                                        </a:lnTo>
                                        <a:lnTo>
                                          <a:pt x="526" y="2542"/>
                                        </a:lnTo>
                                        <a:lnTo>
                                          <a:pt x="530" y="2580"/>
                                        </a:lnTo>
                                        <a:lnTo>
                                          <a:pt x="535" y="2636"/>
                                        </a:lnTo>
                                        <a:lnTo>
                                          <a:pt x="539" y="2701"/>
                                        </a:lnTo>
                                        <a:lnTo>
                                          <a:pt x="543" y="2770"/>
                                        </a:lnTo>
                                        <a:lnTo>
                                          <a:pt x="543" y="2838"/>
                                        </a:lnTo>
                                        <a:lnTo>
                                          <a:pt x="543" y="2899"/>
                                        </a:lnTo>
                                        <a:lnTo>
                                          <a:pt x="543" y="2942"/>
                                        </a:lnTo>
                                        <a:lnTo>
                                          <a:pt x="543" y="2967"/>
                                        </a:lnTo>
                                        <a:lnTo>
                                          <a:pt x="552" y="2967"/>
                                        </a:lnTo>
                                        <a:lnTo>
                                          <a:pt x="565" y="2963"/>
                                        </a:lnTo>
                                        <a:lnTo>
                                          <a:pt x="574" y="2954"/>
                                        </a:lnTo>
                                        <a:lnTo>
                                          <a:pt x="582" y="2950"/>
                                        </a:lnTo>
                                        <a:lnTo>
                                          <a:pt x="591" y="2942"/>
                                        </a:lnTo>
                                        <a:lnTo>
                                          <a:pt x="599" y="2933"/>
                                        </a:lnTo>
                                        <a:lnTo>
                                          <a:pt x="604" y="2929"/>
                                        </a:lnTo>
                                        <a:lnTo>
                                          <a:pt x="608" y="2929"/>
                                        </a:lnTo>
                                        <a:lnTo>
                                          <a:pt x="625" y="3316"/>
                                        </a:lnTo>
                                        <a:lnTo>
                                          <a:pt x="643" y="3286"/>
                                        </a:lnTo>
                                        <a:lnTo>
                                          <a:pt x="668" y="3255"/>
                                        </a:lnTo>
                                        <a:lnTo>
                                          <a:pt x="694" y="3225"/>
                                        </a:lnTo>
                                        <a:lnTo>
                                          <a:pt x="720" y="3200"/>
                                        </a:lnTo>
                                        <a:lnTo>
                                          <a:pt x="750" y="3174"/>
                                        </a:lnTo>
                                        <a:lnTo>
                                          <a:pt x="776" y="3148"/>
                                        </a:lnTo>
                                        <a:lnTo>
                                          <a:pt x="806" y="3126"/>
                                        </a:lnTo>
                                        <a:lnTo>
                                          <a:pt x="828" y="3114"/>
                                        </a:lnTo>
                                        <a:lnTo>
                                          <a:pt x="837" y="3135"/>
                                        </a:lnTo>
                                        <a:lnTo>
                                          <a:pt x="845" y="3161"/>
                                        </a:lnTo>
                                        <a:lnTo>
                                          <a:pt x="854" y="3187"/>
                                        </a:lnTo>
                                        <a:lnTo>
                                          <a:pt x="858" y="3212"/>
                                        </a:lnTo>
                                        <a:lnTo>
                                          <a:pt x="863" y="3238"/>
                                        </a:lnTo>
                                        <a:lnTo>
                                          <a:pt x="867" y="3264"/>
                                        </a:lnTo>
                                        <a:lnTo>
                                          <a:pt x="871" y="3290"/>
                                        </a:lnTo>
                                        <a:lnTo>
                                          <a:pt x="871" y="3316"/>
                                        </a:lnTo>
                                        <a:lnTo>
                                          <a:pt x="880" y="3311"/>
                                        </a:lnTo>
                                        <a:lnTo>
                                          <a:pt x="893" y="3316"/>
                                        </a:lnTo>
                                        <a:lnTo>
                                          <a:pt x="901" y="3324"/>
                                        </a:lnTo>
                                        <a:lnTo>
                                          <a:pt x="906" y="3337"/>
                                        </a:lnTo>
                                        <a:lnTo>
                                          <a:pt x="919" y="3367"/>
                                        </a:lnTo>
                                        <a:lnTo>
                                          <a:pt x="927" y="3410"/>
                                        </a:lnTo>
                                        <a:lnTo>
                                          <a:pt x="936" y="3453"/>
                                        </a:lnTo>
                                        <a:lnTo>
                                          <a:pt x="940" y="3501"/>
                                        </a:lnTo>
                                        <a:lnTo>
                                          <a:pt x="945" y="3544"/>
                                        </a:lnTo>
                                        <a:lnTo>
                                          <a:pt x="953" y="3578"/>
                                        </a:lnTo>
                                        <a:lnTo>
                                          <a:pt x="962" y="3565"/>
                                        </a:lnTo>
                                        <a:lnTo>
                                          <a:pt x="970" y="3552"/>
                                        </a:lnTo>
                                        <a:lnTo>
                                          <a:pt x="983" y="3539"/>
                                        </a:lnTo>
                                        <a:lnTo>
                                          <a:pt x="996" y="3531"/>
                                        </a:lnTo>
                                        <a:lnTo>
                                          <a:pt x="1009" y="3522"/>
                                        </a:lnTo>
                                        <a:lnTo>
                                          <a:pt x="1022" y="3513"/>
                                        </a:lnTo>
                                        <a:lnTo>
                                          <a:pt x="1039" y="3505"/>
                                        </a:lnTo>
                                        <a:lnTo>
                                          <a:pt x="1052" y="3496"/>
                                        </a:lnTo>
                                        <a:lnTo>
                                          <a:pt x="1057" y="3513"/>
                                        </a:lnTo>
                                        <a:lnTo>
                                          <a:pt x="1061" y="3535"/>
                                        </a:lnTo>
                                        <a:lnTo>
                                          <a:pt x="1065" y="3556"/>
                                        </a:lnTo>
                                        <a:lnTo>
                                          <a:pt x="1074" y="3582"/>
                                        </a:lnTo>
                                        <a:lnTo>
                                          <a:pt x="1083" y="3608"/>
                                        </a:lnTo>
                                        <a:lnTo>
                                          <a:pt x="1087" y="3634"/>
                                        </a:lnTo>
                                        <a:lnTo>
                                          <a:pt x="1096" y="3655"/>
                                        </a:lnTo>
                                        <a:lnTo>
                                          <a:pt x="1096" y="3681"/>
                                        </a:lnTo>
                                        <a:lnTo>
                                          <a:pt x="1096" y="3673"/>
                                        </a:lnTo>
                                        <a:lnTo>
                                          <a:pt x="1100" y="3664"/>
                                        </a:lnTo>
                                        <a:lnTo>
                                          <a:pt x="1104" y="3660"/>
                                        </a:lnTo>
                                        <a:lnTo>
                                          <a:pt x="1108" y="3651"/>
                                        </a:lnTo>
                                        <a:lnTo>
                                          <a:pt x="1113" y="3647"/>
                                        </a:lnTo>
                                        <a:lnTo>
                                          <a:pt x="1121" y="3642"/>
                                        </a:lnTo>
                                        <a:lnTo>
                                          <a:pt x="1130" y="3642"/>
                                        </a:lnTo>
                                        <a:lnTo>
                                          <a:pt x="1134" y="3638"/>
                                        </a:lnTo>
                                        <a:lnTo>
                                          <a:pt x="1134" y="3703"/>
                                        </a:lnTo>
                                        <a:lnTo>
                                          <a:pt x="1143" y="3698"/>
                                        </a:lnTo>
                                        <a:lnTo>
                                          <a:pt x="1156" y="3694"/>
                                        </a:lnTo>
                                        <a:lnTo>
                                          <a:pt x="1165" y="3690"/>
                                        </a:lnTo>
                                        <a:lnTo>
                                          <a:pt x="1173" y="3681"/>
                                        </a:lnTo>
                                        <a:lnTo>
                                          <a:pt x="1182" y="3673"/>
                                        </a:lnTo>
                                        <a:lnTo>
                                          <a:pt x="1190" y="3668"/>
                                        </a:lnTo>
                                        <a:lnTo>
                                          <a:pt x="1195" y="3664"/>
                                        </a:lnTo>
                                        <a:lnTo>
                                          <a:pt x="1199" y="3660"/>
                                        </a:lnTo>
                                        <a:lnTo>
                                          <a:pt x="1199" y="3668"/>
                                        </a:lnTo>
                                        <a:lnTo>
                                          <a:pt x="1203" y="3681"/>
                                        </a:lnTo>
                                        <a:lnTo>
                                          <a:pt x="1212" y="3694"/>
                                        </a:lnTo>
                                        <a:lnTo>
                                          <a:pt x="1216" y="3711"/>
                                        </a:lnTo>
                                        <a:lnTo>
                                          <a:pt x="1225" y="3724"/>
                                        </a:lnTo>
                                        <a:lnTo>
                                          <a:pt x="1234" y="3741"/>
                                        </a:lnTo>
                                        <a:lnTo>
                                          <a:pt x="1238" y="3754"/>
                                        </a:lnTo>
                                        <a:lnTo>
                                          <a:pt x="1238" y="3763"/>
                                        </a:lnTo>
                                        <a:lnTo>
                                          <a:pt x="1238" y="3754"/>
                                        </a:lnTo>
                                        <a:lnTo>
                                          <a:pt x="1247" y="3746"/>
                                        </a:lnTo>
                                        <a:lnTo>
                                          <a:pt x="1251" y="3733"/>
                                        </a:lnTo>
                                        <a:lnTo>
                                          <a:pt x="1259" y="3720"/>
                                        </a:lnTo>
                                        <a:lnTo>
                                          <a:pt x="1272" y="3711"/>
                                        </a:lnTo>
                                        <a:lnTo>
                                          <a:pt x="1281" y="3698"/>
                                        </a:lnTo>
                                        <a:lnTo>
                                          <a:pt x="1290" y="3690"/>
                                        </a:lnTo>
                                        <a:lnTo>
                                          <a:pt x="1298" y="3681"/>
                                        </a:lnTo>
                                        <a:lnTo>
                                          <a:pt x="1298" y="3690"/>
                                        </a:lnTo>
                                        <a:lnTo>
                                          <a:pt x="1303" y="3694"/>
                                        </a:lnTo>
                                        <a:lnTo>
                                          <a:pt x="1307" y="3703"/>
                                        </a:lnTo>
                                        <a:lnTo>
                                          <a:pt x="1311" y="3711"/>
                                        </a:lnTo>
                                        <a:lnTo>
                                          <a:pt x="1320" y="3720"/>
                                        </a:lnTo>
                                        <a:lnTo>
                                          <a:pt x="1324" y="3728"/>
                                        </a:lnTo>
                                        <a:lnTo>
                                          <a:pt x="1333" y="3733"/>
                                        </a:lnTo>
                                        <a:lnTo>
                                          <a:pt x="1341" y="3741"/>
                                        </a:lnTo>
                                        <a:lnTo>
                                          <a:pt x="1341" y="3763"/>
                                        </a:lnTo>
                                        <a:lnTo>
                                          <a:pt x="1341" y="3784"/>
                                        </a:lnTo>
                                        <a:lnTo>
                                          <a:pt x="1350" y="3767"/>
                                        </a:lnTo>
                                        <a:lnTo>
                                          <a:pt x="1363" y="3750"/>
                                        </a:lnTo>
                                        <a:lnTo>
                                          <a:pt x="1376" y="3737"/>
                                        </a:lnTo>
                                        <a:lnTo>
                                          <a:pt x="1389" y="3724"/>
                                        </a:lnTo>
                                        <a:lnTo>
                                          <a:pt x="1406" y="3711"/>
                                        </a:lnTo>
                                        <a:lnTo>
                                          <a:pt x="1419" y="3698"/>
                                        </a:lnTo>
                                        <a:lnTo>
                                          <a:pt x="1432" y="3690"/>
                                        </a:lnTo>
                                        <a:lnTo>
                                          <a:pt x="1441" y="3681"/>
                                        </a:lnTo>
                                        <a:lnTo>
                                          <a:pt x="1454" y="3690"/>
                                        </a:lnTo>
                                        <a:lnTo>
                                          <a:pt x="1467" y="3698"/>
                                        </a:lnTo>
                                        <a:lnTo>
                                          <a:pt x="1484" y="3711"/>
                                        </a:lnTo>
                                        <a:lnTo>
                                          <a:pt x="1501" y="3724"/>
                                        </a:lnTo>
                                        <a:lnTo>
                                          <a:pt x="1518" y="3737"/>
                                        </a:lnTo>
                                        <a:lnTo>
                                          <a:pt x="1531" y="3750"/>
                                        </a:lnTo>
                                        <a:lnTo>
                                          <a:pt x="1540" y="3767"/>
                                        </a:lnTo>
                                        <a:lnTo>
                                          <a:pt x="1544" y="3784"/>
                                        </a:lnTo>
                                        <a:lnTo>
                                          <a:pt x="1583" y="3741"/>
                                        </a:lnTo>
                                        <a:lnTo>
                                          <a:pt x="1592" y="3750"/>
                                        </a:lnTo>
                                        <a:lnTo>
                                          <a:pt x="1600" y="3763"/>
                                        </a:lnTo>
                                        <a:lnTo>
                                          <a:pt x="1605" y="3780"/>
                                        </a:lnTo>
                                        <a:lnTo>
                                          <a:pt x="1613" y="3793"/>
                                        </a:lnTo>
                                        <a:lnTo>
                                          <a:pt x="1618" y="3814"/>
                                        </a:lnTo>
                                        <a:lnTo>
                                          <a:pt x="1622" y="3832"/>
                                        </a:lnTo>
                                        <a:lnTo>
                                          <a:pt x="1626" y="3849"/>
                                        </a:lnTo>
                                        <a:lnTo>
                                          <a:pt x="1626" y="3862"/>
                                        </a:lnTo>
                                        <a:lnTo>
                                          <a:pt x="1635" y="3849"/>
                                        </a:lnTo>
                                        <a:lnTo>
                                          <a:pt x="1643" y="3832"/>
                                        </a:lnTo>
                                        <a:lnTo>
                                          <a:pt x="1656" y="3819"/>
                                        </a:lnTo>
                                        <a:lnTo>
                                          <a:pt x="1669" y="3806"/>
                                        </a:lnTo>
                                        <a:lnTo>
                                          <a:pt x="1682" y="3797"/>
                                        </a:lnTo>
                                        <a:lnTo>
                                          <a:pt x="1695" y="3789"/>
                                        </a:lnTo>
                                        <a:lnTo>
                                          <a:pt x="1712" y="3784"/>
                                        </a:lnTo>
                                        <a:lnTo>
                                          <a:pt x="1725" y="3784"/>
                                        </a:lnTo>
                                        <a:lnTo>
                                          <a:pt x="1734" y="3793"/>
                                        </a:lnTo>
                                        <a:lnTo>
                                          <a:pt x="1747" y="3806"/>
                                        </a:lnTo>
                                        <a:lnTo>
                                          <a:pt x="1756" y="3823"/>
                                        </a:lnTo>
                                        <a:lnTo>
                                          <a:pt x="1769" y="3840"/>
                                        </a:lnTo>
                                        <a:lnTo>
                                          <a:pt x="1782" y="3857"/>
                                        </a:lnTo>
                                        <a:lnTo>
                                          <a:pt x="1790" y="3870"/>
                                        </a:lnTo>
                                        <a:lnTo>
                                          <a:pt x="1799" y="3879"/>
                                        </a:lnTo>
                                        <a:lnTo>
                                          <a:pt x="1807" y="3883"/>
                                        </a:lnTo>
                                        <a:lnTo>
                                          <a:pt x="1812" y="3883"/>
                                        </a:lnTo>
                                        <a:lnTo>
                                          <a:pt x="1812" y="3883"/>
                                        </a:lnTo>
                                        <a:lnTo>
                                          <a:pt x="1816" y="3883"/>
                                        </a:lnTo>
                                        <a:lnTo>
                                          <a:pt x="1816" y="3883"/>
                                        </a:lnTo>
                                        <a:lnTo>
                                          <a:pt x="1820" y="3879"/>
                                        </a:lnTo>
                                        <a:lnTo>
                                          <a:pt x="1825" y="3879"/>
                                        </a:lnTo>
                                        <a:lnTo>
                                          <a:pt x="1825" y="3875"/>
                                        </a:lnTo>
                                        <a:lnTo>
                                          <a:pt x="1829" y="3875"/>
                                        </a:lnTo>
                                        <a:lnTo>
                                          <a:pt x="1812" y="3892"/>
                                        </a:lnTo>
                                        <a:lnTo>
                                          <a:pt x="1777" y="3870"/>
                                        </a:lnTo>
                                        <a:lnTo>
                                          <a:pt x="1760" y="3849"/>
                                        </a:lnTo>
                                        <a:lnTo>
                                          <a:pt x="1674" y="3965"/>
                                        </a:lnTo>
                                        <a:lnTo>
                                          <a:pt x="1665" y="3986"/>
                                        </a:lnTo>
                                        <a:lnTo>
                                          <a:pt x="1643" y="4008"/>
                                        </a:lnTo>
                                        <a:lnTo>
                                          <a:pt x="1523" y="3943"/>
                                        </a:lnTo>
                                        <a:lnTo>
                                          <a:pt x="1536" y="3892"/>
                                        </a:lnTo>
                                        <a:lnTo>
                                          <a:pt x="1536" y="3862"/>
                                        </a:lnTo>
                                        <a:lnTo>
                                          <a:pt x="1505" y="3832"/>
                                        </a:lnTo>
                                        <a:lnTo>
                                          <a:pt x="1346" y="3986"/>
                                        </a:lnTo>
                                        <a:lnTo>
                                          <a:pt x="1281" y="4124"/>
                                        </a:lnTo>
                                        <a:lnTo>
                                          <a:pt x="1221" y="4133"/>
                                        </a:lnTo>
                                        <a:lnTo>
                                          <a:pt x="1113" y="3986"/>
                                        </a:lnTo>
                                        <a:lnTo>
                                          <a:pt x="1078" y="3986"/>
                                        </a:lnTo>
                                        <a:lnTo>
                                          <a:pt x="1078" y="4085"/>
                                        </a:lnTo>
                                        <a:lnTo>
                                          <a:pt x="996" y="3986"/>
                                        </a:lnTo>
                                        <a:lnTo>
                                          <a:pt x="983" y="3956"/>
                                        </a:lnTo>
                                        <a:lnTo>
                                          <a:pt x="962" y="3935"/>
                                        </a:lnTo>
                                        <a:lnTo>
                                          <a:pt x="923" y="3978"/>
                                        </a:lnTo>
                                        <a:lnTo>
                                          <a:pt x="880" y="3870"/>
                                        </a:lnTo>
                                        <a:lnTo>
                                          <a:pt x="858" y="3849"/>
                                        </a:lnTo>
                                        <a:lnTo>
                                          <a:pt x="837" y="3862"/>
                                        </a:lnTo>
                                        <a:lnTo>
                                          <a:pt x="815" y="3883"/>
                                        </a:lnTo>
                                        <a:lnTo>
                                          <a:pt x="815" y="3965"/>
                                        </a:lnTo>
                                        <a:lnTo>
                                          <a:pt x="772" y="3849"/>
                                        </a:lnTo>
                                        <a:lnTo>
                                          <a:pt x="763" y="3767"/>
                                        </a:lnTo>
                                        <a:lnTo>
                                          <a:pt x="742" y="3754"/>
                                        </a:lnTo>
                                        <a:lnTo>
                                          <a:pt x="668" y="3789"/>
                                        </a:lnTo>
                                        <a:lnTo>
                                          <a:pt x="561" y="3673"/>
                                        </a:lnTo>
                                        <a:lnTo>
                                          <a:pt x="530" y="3673"/>
                                        </a:lnTo>
                                        <a:lnTo>
                                          <a:pt x="444" y="3565"/>
                                        </a:lnTo>
                                        <a:lnTo>
                                          <a:pt x="414" y="3565"/>
                                        </a:lnTo>
                                        <a:lnTo>
                                          <a:pt x="341" y="3354"/>
                                        </a:lnTo>
                                        <a:lnTo>
                                          <a:pt x="310" y="3354"/>
                                        </a:lnTo>
                                        <a:lnTo>
                                          <a:pt x="284" y="3376"/>
                                        </a:lnTo>
                                        <a:lnTo>
                                          <a:pt x="284" y="3440"/>
                                        </a:lnTo>
                                        <a:lnTo>
                                          <a:pt x="246" y="3122"/>
                                        </a:lnTo>
                                        <a:lnTo>
                                          <a:pt x="233" y="3114"/>
                                        </a:lnTo>
                                        <a:lnTo>
                                          <a:pt x="211" y="3114"/>
                                        </a:lnTo>
                                        <a:lnTo>
                                          <a:pt x="190" y="3131"/>
                                        </a:lnTo>
                                        <a:lnTo>
                                          <a:pt x="190" y="3165"/>
                                        </a:lnTo>
                                        <a:lnTo>
                                          <a:pt x="168" y="2911"/>
                                        </a:lnTo>
                                        <a:lnTo>
                                          <a:pt x="168" y="2825"/>
                                        </a:lnTo>
                                        <a:lnTo>
                                          <a:pt x="159" y="2817"/>
                                        </a:lnTo>
                                        <a:lnTo>
                                          <a:pt x="138" y="2817"/>
                                        </a:lnTo>
                                        <a:lnTo>
                                          <a:pt x="108" y="2868"/>
                                        </a:lnTo>
                                        <a:lnTo>
                                          <a:pt x="116" y="2658"/>
                                        </a:lnTo>
                                        <a:lnTo>
                                          <a:pt x="95" y="2636"/>
                                        </a:lnTo>
                                        <a:lnTo>
                                          <a:pt x="73" y="2636"/>
                                        </a:lnTo>
                                        <a:lnTo>
                                          <a:pt x="34" y="2731"/>
                                        </a:lnTo>
                                        <a:lnTo>
                                          <a:pt x="43" y="2490"/>
                                        </a:lnTo>
                                        <a:lnTo>
                                          <a:pt x="56" y="2469"/>
                                        </a:lnTo>
                                        <a:lnTo>
                                          <a:pt x="56" y="2434"/>
                                        </a:lnTo>
                                        <a:lnTo>
                                          <a:pt x="13" y="2404"/>
                                        </a:lnTo>
                                        <a:lnTo>
                                          <a:pt x="86" y="2129"/>
                                        </a:lnTo>
                                        <a:lnTo>
                                          <a:pt x="86" y="2112"/>
                                        </a:lnTo>
                                        <a:lnTo>
                                          <a:pt x="64" y="2086"/>
                                        </a:lnTo>
                                        <a:lnTo>
                                          <a:pt x="43" y="2086"/>
                                        </a:lnTo>
                                        <a:lnTo>
                                          <a:pt x="0" y="2159"/>
                                        </a:lnTo>
                                        <a:lnTo>
                                          <a:pt x="108" y="1815"/>
                                        </a:lnTo>
                                        <a:lnTo>
                                          <a:pt x="73" y="1781"/>
                                        </a:lnTo>
                                        <a:lnTo>
                                          <a:pt x="0" y="1875"/>
                                        </a:lnTo>
                                        <a:lnTo>
                                          <a:pt x="95" y="1634"/>
                                        </a:lnTo>
                                        <a:lnTo>
                                          <a:pt x="181" y="1497"/>
                                        </a:lnTo>
                                        <a:lnTo>
                                          <a:pt x="181" y="1467"/>
                                        </a:lnTo>
                                        <a:lnTo>
                                          <a:pt x="168" y="1454"/>
                                        </a:lnTo>
                                        <a:lnTo>
                                          <a:pt x="138" y="1454"/>
                                        </a:lnTo>
                                        <a:lnTo>
                                          <a:pt x="95" y="1518"/>
                                        </a:lnTo>
                                        <a:lnTo>
                                          <a:pt x="211" y="1170"/>
                                        </a:lnTo>
                                        <a:lnTo>
                                          <a:pt x="202" y="1161"/>
                                        </a:lnTo>
                                        <a:lnTo>
                                          <a:pt x="129" y="1213"/>
                                        </a:lnTo>
                                        <a:lnTo>
                                          <a:pt x="224" y="1024"/>
                                        </a:lnTo>
                                        <a:lnTo>
                                          <a:pt x="224" y="1002"/>
                                        </a:lnTo>
                                        <a:lnTo>
                                          <a:pt x="202" y="981"/>
                                        </a:lnTo>
                                        <a:lnTo>
                                          <a:pt x="116" y="1045"/>
                                        </a:lnTo>
                                        <a:lnTo>
                                          <a:pt x="246" y="852"/>
                                        </a:lnTo>
                                        <a:lnTo>
                                          <a:pt x="284" y="809"/>
                                        </a:lnTo>
                                        <a:lnTo>
                                          <a:pt x="263" y="749"/>
                                        </a:lnTo>
                                        <a:lnTo>
                                          <a:pt x="530" y="482"/>
                                        </a:lnTo>
                                        <a:lnTo>
                                          <a:pt x="561" y="443"/>
                                        </a:lnTo>
                                        <a:lnTo>
                                          <a:pt x="772" y="473"/>
                                        </a:lnTo>
                                        <a:lnTo>
                                          <a:pt x="910" y="508"/>
                                        </a:lnTo>
                                        <a:lnTo>
                                          <a:pt x="1294" y="430"/>
                                        </a:lnTo>
                                        <a:lnTo>
                                          <a:pt x="1367" y="400"/>
                                        </a:lnTo>
                                        <a:lnTo>
                                          <a:pt x="1398" y="430"/>
                                        </a:lnTo>
                                        <a:lnTo>
                                          <a:pt x="1423" y="422"/>
                                        </a:lnTo>
                                        <a:close/>
                                        <a:moveTo>
                                          <a:pt x="1833" y="3870"/>
                                        </a:moveTo>
                                        <a:lnTo>
                                          <a:pt x="1846" y="3862"/>
                                        </a:lnTo>
                                        <a:lnTo>
                                          <a:pt x="1859" y="3849"/>
                                        </a:lnTo>
                                        <a:lnTo>
                                          <a:pt x="1872" y="3836"/>
                                        </a:lnTo>
                                        <a:lnTo>
                                          <a:pt x="1885" y="3823"/>
                                        </a:lnTo>
                                        <a:lnTo>
                                          <a:pt x="1894" y="3810"/>
                                        </a:lnTo>
                                        <a:lnTo>
                                          <a:pt x="1902" y="3802"/>
                                        </a:lnTo>
                                        <a:lnTo>
                                          <a:pt x="1911" y="3789"/>
                                        </a:lnTo>
                                        <a:lnTo>
                                          <a:pt x="1911" y="3784"/>
                                        </a:lnTo>
                                        <a:lnTo>
                                          <a:pt x="1989" y="3879"/>
                                        </a:lnTo>
                                        <a:lnTo>
                                          <a:pt x="1980" y="3905"/>
                                        </a:lnTo>
                                        <a:lnTo>
                                          <a:pt x="1894" y="3965"/>
                                        </a:lnTo>
                                        <a:lnTo>
                                          <a:pt x="1885" y="3978"/>
                                        </a:lnTo>
                                        <a:lnTo>
                                          <a:pt x="1863" y="3905"/>
                                        </a:lnTo>
                                        <a:lnTo>
                                          <a:pt x="1833" y="3870"/>
                                        </a:lnTo>
                                        <a:close/>
                                        <a:moveTo>
                                          <a:pt x="2045" y="3832"/>
                                        </a:moveTo>
                                        <a:lnTo>
                                          <a:pt x="2075" y="3802"/>
                                        </a:lnTo>
                                        <a:lnTo>
                                          <a:pt x="2075" y="3810"/>
                                        </a:lnTo>
                                        <a:lnTo>
                                          <a:pt x="2079" y="3823"/>
                                        </a:lnTo>
                                        <a:lnTo>
                                          <a:pt x="2088" y="3836"/>
                                        </a:lnTo>
                                        <a:lnTo>
                                          <a:pt x="2096" y="3849"/>
                                        </a:lnTo>
                                        <a:lnTo>
                                          <a:pt x="2105" y="3862"/>
                                        </a:lnTo>
                                        <a:lnTo>
                                          <a:pt x="2118" y="3875"/>
                                        </a:lnTo>
                                        <a:lnTo>
                                          <a:pt x="2127" y="3883"/>
                                        </a:lnTo>
                                        <a:lnTo>
                                          <a:pt x="2135" y="3883"/>
                                        </a:lnTo>
                                        <a:lnTo>
                                          <a:pt x="2144" y="3883"/>
                                        </a:lnTo>
                                        <a:lnTo>
                                          <a:pt x="2157" y="3875"/>
                                        </a:lnTo>
                                        <a:lnTo>
                                          <a:pt x="2170" y="3866"/>
                                        </a:lnTo>
                                        <a:lnTo>
                                          <a:pt x="2187" y="3853"/>
                                        </a:lnTo>
                                        <a:lnTo>
                                          <a:pt x="2200" y="3840"/>
                                        </a:lnTo>
                                        <a:lnTo>
                                          <a:pt x="2217" y="3832"/>
                                        </a:lnTo>
                                        <a:lnTo>
                                          <a:pt x="2226" y="3827"/>
                                        </a:lnTo>
                                        <a:lnTo>
                                          <a:pt x="2239" y="3823"/>
                                        </a:lnTo>
                                        <a:lnTo>
                                          <a:pt x="2252" y="3832"/>
                                        </a:lnTo>
                                        <a:lnTo>
                                          <a:pt x="2265" y="3840"/>
                                        </a:lnTo>
                                        <a:lnTo>
                                          <a:pt x="2278" y="3853"/>
                                        </a:lnTo>
                                        <a:lnTo>
                                          <a:pt x="2286" y="3862"/>
                                        </a:lnTo>
                                        <a:lnTo>
                                          <a:pt x="2299" y="3870"/>
                                        </a:lnTo>
                                        <a:lnTo>
                                          <a:pt x="2312" y="3879"/>
                                        </a:lnTo>
                                        <a:lnTo>
                                          <a:pt x="2325" y="3883"/>
                                        </a:lnTo>
                                        <a:lnTo>
                                          <a:pt x="2338" y="3883"/>
                                        </a:lnTo>
                                        <a:lnTo>
                                          <a:pt x="2355" y="3866"/>
                                        </a:lnTo>
                                        <a:lnTo>
                                          <a:pt x="2368" y="3857"/>
                                        </a:lnTo>
                                        <a:lnTo>
                                          <a:pt x="2386" y="3853"/>
                                        </a:lnTo>
                                        <a:lnTo>
                                          <a:pt x="2403" y="3857"/>
                                        </a:lnTo>
                                        <a:lnTo>
                                          <a:pt x="2420" y="3862"/>
                                        </a:lnTo>
                                        <a:lnTo>
                                          <a:pt x="2442" y="3875"/>
                                        </a:lnTo>
                                        <a:lnTo>
                                          <a:pt x="2459" y="3888"/>
                                        </a:lnTo>
                                        <a:lnTo>
                                          <a:pt x="2480" y="3905"/>
                                        </a:lnTo>
                                        <a:lnTo>
                                          <a:pt x="2532" y="3875"/>
                                        </a:lnTo>
                                        <a:lnTo>
                                          <a:pt x="2575" y="3849"/>
                                        </a:lnTo>
                                        <a:lnTo>
                                          <a:pt x="2614" y="3832"/>
                                        </a:lnTo>
                                        <a:lnTo>
                                          <a:pt x="2649" y="3819"/>
                                        </a:lnTo>
                                        <a:lnTo>
                                          <a:pt x="2666" y="3814"/>
                                        </a:lnTo>
                                        <a:lnTo>
                                          <a:pt x="2683" y="3814"/>
                                        </a:lnTo>
                                        <a:lnTo>
                                          <a:pt x="2700" y="3819"/>
                                        </a:lnTo>
                                        <a:lnTo>
                                          <a:pt x="2718" y="3823"/>
                                        </a:lnTo>
                                        <a:lnTo>
                                          <a:pt x="2735" y="3832"/>
                                        </a:lnTo>
                                        <a:lnTo>
                                          <a:pt x="2752" y="3845"/>
                                        </a:lnTo>
                                        <a:lnTo>
                                          <a:pt x="2770" y="3862"/>
                                        </a:lnTo>
                                        <a:lnTo>
                                          <a:pt x="2787" y="3883"/>
                                        </a:lnTo>
                                        <a:lnTo>
                                          <a:pt x="2847" y="3681"/>
                                        </a:lnTo>
                                        <a:lnTo>
                                          <a:pt x="2869" y="3681"/>
                                        </a:lnTo>
                                        <a:lnTo>
                                          <a:pt x="2890" y="3681"/>
                                        </a:lnTo>
                                        <a:lnTo>
                                          <a:pt x="2951" y="3741"/>
                                        </a:lnTo>
                                        <a:lnTo>
                                          <a:pt x="2951" y="3733"/>
                                        </a:lnTo>
                                        <a:lnTo>
                                          <a:pt x="2959" y="3724"/>
                                        </a:lnTo>
                                        <a:lnTo>
                                          <a:pt x="2964" y="3711"/>
                                        </a:lnTo>
                                        <a:lnTo>
                                          <a:pt x="2972" y="3703"/>
                                        </a:lnTo>
                                        <a:lnTo>
                                          <a:pt x="2981" y="3690"/>
                                        </a:lnTo>
                                        <a:lnTo>
                                          <a:pt x="2985" y="3677"/>
                                        </a:lnTo>
                                        <a:lnTo>
                                          <a:pt x="2990" y="3668"/>
                                        </a:lnTo>
                                        <a:lnTo>
                                          <a:pt x="2994" y="3660"/>
                                        </a:lnTo>
                                        <a:lnTo>
                                          <a:pt x="2998" y="3660"/>
                                        </a:lnTo>
                                        <a:lnTo>
                                          <a:pt x="3011" y="3664"/>
                                        </a:lnTo>
                                        <a:lnTo>
                                          <a:pt x="3020" y="3668"/>
                                        </a:lnTo>
                                        <a:lnTo>
                                          <a:pt x="3033" y="3673"/>
                                        </a:lnTo>
                                        <a:lnTo>
                                          <a:pt x="3046" y="3681"/>
                                        </a:lnTo>
                                        <a:lnTo>
                                          <a:pt x="3054" y="3685"/>
                                        </a:lnTo>
                                        <a:lnTo>
                                          <a:pt x="3063" y="3694"/>
                                        </a:lnTo>
                                        <a:lnTo>
                                          <a:pt x="3072" y="3703"/>
                                        </a:lnTo>
                                        <a:lnTo>
                                          <a:pt x="3076" y="3694"/>
                                        </a:lnTo>
                                        <a:lnTo>
                                          <a:pt x="3084" y="3681"/>
                                        </a:lnTo>
                                        <a:lnTo>
                                          <a:pt x="3093" y="3673"/>
                                        </a:lnTo>
                                        <a:lnTo>
                                          <a:pt x="3106" y="3664"/>
                                        </a:lnTo>
                                        <a:lnTo>
                                          <a:pt x="3119" y="3655"/>
                                        </a:lnTo>
                                        <a:lnTo>
                                          <a:pt x="3132" y="3647"/>
                                        </a:lnTo>
                                        <a:lnTo>
                                          <a:pt x="3145" y="3642"/>
                                        </a:lnTo>
                                        <a:lnTo>
                                          <a:pt x="3153" y="3638"/>
                                        </a:lnTo>
                                        <a:lnTo>
                                          <a:pt x="3162" y="3642"/>
                                        </a:lnTo>
                                        <a:lnTo>
                                          <a:pt x="3175" y="3642"/>
                                        </a:lnTo>
                                        <a:lnTo>
                                          <a:pt x="3184" y="3647"/>
                                        </a:lnTo>
                                        <a:lnTo>
                                          <a:pt x="3197" y="3651"/>
                                        </a:lnTo>
                                        <a:lnTo>
                                          <a:pt x="3214" y="3655"/>
                                        </a:lnTo>
                                        <a:lnTo>
                                          <a:pt x="3227" y="3655"/>
                                        </a:lnTo>
                                        <a:lnTo>
                                          <a:pt x="3240" y="3660"/>
                                        </a:lnTo>
                                        <a:lnTo>
                                          <a:pt x="3257" y="3660"/>
                                        </a:lnTo>
                                        <a:lnTo>
                                          <a:pt x="3261" y="3647"/>
                                        </a:lnTo>
                                        <a:lnTo>
                                          <a:pt x="3270" y="3638"/>
                                        </a:lnTo>
                                        <a:lnTo>
                                          <a:pt x="3283" y="3630"/>
                                        </a:lnTo>
                                        <a:lnTo>
                                          <a:pt x="3296" y="3621"/>
                                        </a:lnTo>
                                        <a:lnTo>
                                          <a:pt x="3313" y="3612"/>
                                        </a:lnTo>
                                        <a:lnTo>
                                          <a:pt x="3326" y="3604"/>
                                        </a:lnTo>
                                        <a:lnTo>
                                          <a:pt x="3335" y="3591"/>
                                        </a:lnTo>
                                        <a:lnTo>
                                          <a:pt x="3339" y="3578"/>
                                        </a:lnTo>
                                        <a:lnTo>
                                          <a:pt x="3343" y="3582"/>
                                        </a:lnTo>
                                        <a:lnTo>
                                          <a:pt x="3348" y="3587"/>
                                        </a:lnTo>
                                        <a:lnTo>
                                          <a:pt x="3352" y="3591"/>
                                        </a:lnTo>
                                        <a:lnTo>
                                          <a:pt x="3356" y="3599"/>
                                        </a:lnTo>
                                        <a:lnTo>
                                          <a:pt x="3361" y="3604"/>
                                        </a:lnTo>
                                        <a:lnTo>
                                          <a:pt x="3365" y="3612"/>
                                        </a:lnTo>
                                        <a:lnTo>
                                          <a:pt x="3374" y="3617"/>
                                        </a:lnTo>
                                        <a:lnTo>
                                          <a:pt x="3378" y="3625"/>
                                        </a:lnTo>
                                        <a:lnTo>
                                          <a:pt x="3335" y="3617"/>
                                        </a:lnTo>
                                        <a:lnTo>
                                          <a:pt x="3313" y="3642"/>
                                        </a:lnTo>
                                        <a:lnTo>
                                          <a:pt x="3313" y="3660"/>
                                        </a:lnTo>
                                        <a:lnTo>
                                          <a:pt x="3348" y="3690"/>
                                        </a:lnTo>
                                        <a:lnTo>
                                          <a:pt x="3399" y="3690"/>
                                        </a:lnTo>
                                        <a:lnTo>
                                          <a:pt x="3473" y="3819"/>
                                        </a:lnTo>
                                        <a:lnTo>
                                          <a:pt x="3421" y="3810"/>
                                        </a:lnTo>
                                        <a:lnTo>
                                          <a:pt x="3386" y="3892"/>
                                        </a:lnTo>
                                        <a:lnTo>
                                          <a:pt x="3335" y="3905"/>
                                        </a:lnTo>
                                        <a:lnTo>
                                          <a:pt x="3313" y="3956"/>
                                        </a:lnTo>
                                        <a:lnTo>
                                          <a:pt x="3292" y="3935"/>
                                        </a:lnTo>
                                        <a:lnTo>
                                          <a:pt x="3274" y="3935"/>
                                        </a:lnTo>
                                        <a:lnTo>
                                          <a:pt x="3218" y="4021"/>
                                        </a:lnTo>
                                        <a:lnTo>
                                          <a:pt x="3188" y="4029"/>
                                        </a:lnTo>
                                        <a:lnTo>
                                          <a:pt x="3153" y="4029"/>
                                        </a:lnTo>
                                        <a:lnTo>
                                          <a:pt x="3153" y="4021"/>
                                        </a:lnTo>
                                        <a:lnTo>
                                          <a:pt x="3132" y="3999"/>
                                        </a:lnTo>
                                        <a:lnTo>
                                          <a:pt x="3102" y="3999"/>
                                        </a:lnTo>
                                        <a:lnTo>
                                          <a:pt x="3080" y="4038"/>
                                        </a:lnTo>
                                        <a:lnTo>
                                          <a:pt x="3037" y="4072"/>
                                        </a:lnTo>
                                        <a:lnTo>
                                          <a:pt x="2998" y="4051"/>
                                        </a:lnTo>
                                        <a:lnTo>
                                          <a:pt x="2985" y="4038"/>
                                        </a:lnTo>
                                        <a:lnTo>
                                          <a:pt x="2912" y="4115"/>
                                        </a:lnTo>
                                        <a:lnTo>
                                          <a:pt x="2869" y="4115"/>
                                        </a:lnTo>
                                        <a:lnTo>
                                          <a:pt x="2856" y="4085"/>
                                        </a:lnTo>
                                        <a:lnTo>
                                          <a:pt x="2847" y="4072"/>
                                        </a:lnTo>
                                        <a:lnTo>
                                          <a:pt x="2826" y="4072"/>
                                        </a:lnTo>
                                        <a:lnTo>
                                          <a:pt x="2795" y="4124"/>
                                        </a:lnTo>
                                        <a:lnTo>
                                          <a:pt x="2774" y="4146"/>
                                        </a:lnTo>
                                        <a:lnTo>
                                          <a:pt x="2731" y="4115"/>
                                        </a:lnTo>
                                        <a:lnTo>
                                          <a:pt x="2649" y="4167"/>
                                        </a:lnTo>
                                        <a:lnTo>
                                          <a:pt x="2614" y="4158"/>
                                        </a:lnTo>
                                        <a:lnTo>
                                          <a:pt x="2593" y="4158"/>
                                        </a:lnTo>
                                        <a:lnTo>
                                          <a:pt x="2571" y="4197"/>
                                        </a:lnTo>
                                        <a:lnTo>
                                          <a:pt x="2541" y="4232"/>
                                        </a:lnTo>
                                        <a:lnTo>
                                          <a:pt x="2519" y="4197"/>
                                        </a:lnTo>
                                        <a:lnTo>
                                          <a:pt x="2489" y="4167"/>
                                        </a:lnTo>
                                        <a:lnTo>
                                          <a:pt x="2437" y="4219"/>
                                        </a:lnTo>
                                        <a:lnTo>
                                          <a:pt x="2364" y="4219"/>
                                        </a:lnTo>
                                        <a:lnTo>
                                          <a:pt x="2364" y="4210"/>
                                        </a:lnTo>
                                        <a:lnTo>
                                          <a:pt x="2351" y="4197"/>
                                        </a:lnTo>
                                        <a:lnTo>
                                          <a:pt x="2308" y="4262"/>
                                        </a:lnTo>
                                        <a:lnTo>
                                          <a:pt x="2278" y="4253"/>
                                        </a:lnTo>
                                        <a:lnTo>
                                          <a:pt x="2256" y="4283"/>
                                        </a:lnTo>
                                        <a:lnTo>
                                          <a:pt x="2256" y="4292"/>
                                        </a:lnTo>
                                        <a:lnTo>
                                          <a:pt x="2235" y="4292"/>
                                        </a:lnTo>
                                        <a:lnTo>
                                          <a:pt x="2235" y="4283"/>
                                        </a:lnTo>
                                        <a:lnTo>
                                          <a:pt x="2213" y="4262"/>
                                        </a:lnTo>
                                        <a:lnTo>
                                          <a:pt x="2161" y="4283"/>
                                        </a:lnTo>
                                        <a:lnTo>
                                          <a:pt x="2140" y="4283"/>
                                        </a:lnTo>
                                        <a:lnTo>
                                          <a:pt x="2118" y="4262"/>
                                        </a:lnTo>
                                        <a:lnTo>
                                          <a:pt x="2109" y="4275"/>
                                        </a:lnTo>
                                        <a:lnTo>
                                          <a:pt x="2109" y="4305"/>
                                        </a:lnTo>
                                        <a:lnTo>
                                          <a:pt x="2053" y="4262"/>
                                        </a:lnTo>
                                        <a:lnTo>
                                          <a:pt x="2032" y="4292"/>
                                        </a:lnTo>
                                        <a:lnTo>
                                          <a:pt x="1980" y="4275"/>
                                        </a:lnTo>
                                        <a:lnTo>
                                          <a:pt x="1967" y="4262"/>
                                        </a:lnTo>
                                        <a:lnTo>
                                          <a:pt x="2096" y="4103"/>
                                        </a:lnTo>
                                        <a:lnTo>
                                          <a:pt x="2127" y="4038"/>
                                        </a:lnTo>
                                        <a:lnTo>
                                          <a:pt x="2075" y="3956"/>
                                        </a:lnTo>
                                        <a:lnTo>
                                          <a:pt x="2053" y="3840"/>
                                        </a:lnTo>
                                        <a:lnTo>
                                          <a:pt x="2045" y="3832"/>
                                        </a:lnTo>
                                        <a:close/>
                                      </a:path>
                                    </a:pathLst>
                                  </a:custGeom>
                                  <a:blipFill rotWithShape="0">
                                    <a:blip r:embed="rId45"/>
                                    <a:srcRect/>
                                    <a:tile tx="0" ty="0" sx="100000" sy="100000" algn="ctr"/>
                                  </a:blipFill>
                                  <a:ln w="9360">
                                    <a:solidFill>
                                      <a:srgbClr val="c0c0c0"/>
                                    </a:solidFill>
                                    <a:round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144" name=""/>
                                  <p:cNvSpPr/>
                                  <p:nvPr/>
                                </p:nvSpPr>
                                <p:spPr>
                                  <a:xfrm rot="21306000">
                                    <a:off x="1947960" y="1330920"/>
                                    <a:ext cx="122400" cy="288000"/>
                                  </a:xfrm>
                                  <a:custGeom>
                                    <a:avLst/>
                                    <a:gdLst/>
                                    <a:ahLst/>
                                    <a:rect l="l" t="t" r="r" b="b"/>
                                    <a:pathLst>
                                      <a:path w="1195" h="2976">
                                        <a:moveTo>
                                          <a:pt x="940" y="95"/>
                                        </a:moveTo>
                                        <a:lnTo>
                                          <a:pt x="953" y="86"/>
                                        </a:lnTo>
                                        <a:lnTo>
                                          <a:pt x="953" y="77"/>
                                        </a:lnTo>
                                        <a:lnTo>
                                          <a:pt x="1048" y="150"/>
                                        </a:lnTo>
                                        <a:lnTo>
                                          <a:pt x="1083" y="116"/>
                                        </a:lnTo>
                                        <a:lnTo>
                                          <a:pt x="1165" y="181"/>
                                        </a:lnTo>
                                        <a:lnTo>
                                          <a:pt x="1195" y="181"/>
                                        </a:lnTo>
                                        <a:lnTo>
                                          <a:pt x="1156" y="318"/>
                                        </a:lnTo>
                                        <a:lnTo>
                                          <a:pt x="902" y="843"/>
                                        </a:lnTo>
                                        <a:lnTo>
                                          <a:pt x="902" y="1174"/>
                                        </a:lnTo>
                                        <a:lnTo>
                                          <a:pt x="953" y="1277"/>
                                        </a:lnTo>
                                        <a:lnTo>
                                          <a:pt x="988" y="1299"/>
                                        </a:lnTo>
                                        <a:lnTo>
                                          <a:pt x="1005" y="1320"/>
                                        </a:lnTo>
                                        <a:lnTo>
                                          <a:pt x="794" y="1711"/>
                                        </a:lnTo>
                                        <a:lnTo>
                                          <a:pt x="712" y="1944"/>
                                        </a:lnTo>
                                        <a:lnTo>
                                          <a:pt x="612" y="2365"/>
                                        </a:lnTo>
                                        <a:lnTo>
                                          <a:pt x="656" y="2576"/>
                                        </a:lnTo>
                                        <a:lnTo>
                                          <a:pt x="625" y="2640"/>
                                        </a:lnTo>
                                        <a:lnTo>
                                          <a:pt x="496" y="2722"/>
                                        </a:lnTo>
                                        <a:lnTo>
                                          <a:pt x="436" y="2808"/>
                                        </a:lnTo>
                                        <a:lnTo>
                                          <a:pt x="414" y="2859"/>
                                        </a:lnTo>
                                        <a:lnTo>
                                          <a:pt x="474" y="2937"/>
                                        </a:lnTo>
                                        <a:lnTo>
                                          <a:pt x="474" y="2976"/>
                                        </a:lnTo>
                                        <a:lnTo>
                                          <a:pt x="0" y="2976"/>
                                        </a:lnTo>
                                        <a:lnTo>
                                          <a:pt x="0" y="2902"/>
                                        </a:lnTo>
                                        <a:lnTo>
                                          <a:pt x="86" y="2786"/>
                                        </a:lnTo>
                                        <a:lnTo>
                                          <a:pt x="254" y="2640"/>
                                        </a:lnTo>
                                        <a:lnTo>
                                          <a:pt x="371" y="2460"/>
                                        </a:lnTo>
                                        <a:lnTo>
                                          <a:pt x="634" y="1561"/>
                                        </a:lnTo>
                                        <a:lnTo>
                                          <a:pt x="677" y="1234"/>
                                        </a:lnTo>
                                        <a:lnTo>
                                          <a:pt x="656" y="993"/>
                                        </a:lnTo>
                                        <a:lnTo>
                                          <a:pt x="751" y="748"/>
                                        </a:lnTo>
                                        <a:lnTo>
                                          <a:pt x="794" y="224"/>
                                        </a:lnTo>
                                        <a:lnTo>
                                          <a:pt x="837" y="0"/>
                                        </a:lnTo>
                                        <a:lnTo>
                                          <a:pt x="902" y="95"/>
                                        </a:lnTo>
                                        <a:lnTo>
                                          <a:pt x="940" y="95"/>
                                        </a:lnTo>
                                        <a:close/>
                                      </a:path>
                                    </a:pathLst>
                                  </a:custGeom>
                                  <a:blipFill rotWithShape="0">
                                    <a:blip r:embed="rId46"/>
                                    <a:srcRect/>
                                    <a:tile tx="0" ty="0" sx="100000" sy="100000" algn="ctr"/>
                                  </a:blipFill>
                                  <a:ln w="9360">
                                    <a:solidFill>
                                      <a:srgbClr val="c0c0c0"/>
                                    </a:solidFill>
                                    <a:round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145" name=""/>
                                  <p:cNvSpPr/>
                                  <p:nvPr/>
                                </p:nvSpPr>
                                <p:spPr>
                                  <a:xfrm rot="21306000">
                                    <a:off x="2021400" y="1327680"/>
                                    <a:ext cx="40320" cy="96480"/>
                                  </a:xfrm>
                                  <a:custGeom>
                                    <a:avLst/>
                                    <a:gdLst/>
                                    <a:ahLst/>
                                    <a:rect l="l" t="t" r="r" b="b"/>
                                    <a:pathLst>
                                      <a:path w="397" h="998">
                                        <a:moveTo>
                                          <a:pt x="0" y="202"/>
                                        </a:moveTo>
                                        <a:lnTo>
                                          <a:pt x="69" y="202"/>
                                        </a:lnTo>
                                        <a:lnTo>
                                          <a:pt x="69" y="228"/>
                                        </a:lnTo>
                                        <a:lnTo>
                                          <a:pt x="69" y="254"/>
                                        </a:lnTo>
                                        <a:lnTo>
                                          <a:pt x="65" y="284"/>
                                        </a:lnTo>
                                        <a:lnTo>
                                          <a:pt x="60" y="314"/>
                                        </a:lnTo>
                                        <a:lnTo>
                                          <a:pt x="56" y="344"/>
                                        </a:lnTo>
                                        <a:lnTo>
                                          <a:pt x="52" y="374"/>
                                        </a:lnTo>
                                        <a:lnTo>
                                          <a:pt x="52" y="400"/>
                                        </a:lnTo>
                                        <a:lnTo>
                                          <a:pt x="52" y="426"/>
                                        </a:lnTo>
                                        <a:lnTo>
                                          <a:pt x="43" y="426"/>
                                        </a:lnTo>
                                        <a:lnTo>
                                          <a:pt x="39" y="430"/>
                                        </a:lnTo>
                                        <a:lnTo>
                                          <a:pt x="35" y="434"/>
                                        </a:lnTo>
                                        <a:lnTo>
                                          <a:pt x="35" y="439"/>
                                        </a:lnTo>
                                        <a:lnTo>
                                          <a:pt x="30" y="443"/>
                                        </a:lnTo>
                                        <a:lnTo>
                                          <a:pt x="30" y="451"/>
                                        </a:lnTo>
                                        <a:lnTo>
                                          <a:pt x="30" y="456"/>
                                        </a:lnTo>
                                        <a:lnTo>
                                          <a:pt x="30" y="464"/>
                                        </a:lnTo>
                                        <a:lnTo>
                                          <a:pt x="39" y="464"/>
                                        </a:lnTo>
                                        <a:lnTo>
                                          <a:pt x="43" y="469"/>
                                        </a:lnTo>
                                        <a:lnTo>
                                          <a:pt x="52" y="473"/>
                                        </a:lnTo>
                                        <a:lnTo>
                                          <a:pt x="60" y="477"/>
                                        </a:lnTo>
                                        <a:lnTo>
                                          <a:pt x="69" y="477"/>
                                        </a:lnTo>
                                        <a:lnTo>
                                          <a:pt x="78" y="482"/>
                                        </a:lnTo>
                                        <a:lnTo>
                                          <a:pt x="82" y="486"/>
                                        </a:lnTo>
                                        <a:lnTo>
                                          <a:pt x="91" y="486"/>
                                        </a:lnTo>
                                        <a:lnTo>
                                          <a:pt x="112" y="525"/>
                                        </a:lnTo>
                                        <a:lnTo>
                                          <a:pt x="112" y="537"/>
                                        </a:lnTo>
                                        <a:lnTo>
                                          <a:pt x="108" y="559"/>
                                        </a:lnTo>
                                        <a:lnTo>
                                          <a:pt x="104" y="585"/>
                                        </a:lnTo>
                                        <a:lnTo>
                                          <a:pt x="95" y="615"/>
                                        </a:lnTo>
                                        <a:lnTo>
                                          <a:pt x="86" y="645"/>
                                        </a:lnTo>
                                        <a:lnTo>
                                          <a:pt x="78" y="666"/>
                                        </a:lnTo>
                                        <a:lnTo>
                                          <a:pt x="65" y="684"/>
                                        </a:lnTo>
                                        <a:lnTo>
                                          <a:pt x="52" y="688"/>
                                        </a:lnTo>
                                        <a:lnTo>
                                          <a:pt x="52" y="727"/>
                                        </a:lnTo>
                                        <a:lnTo>
                                          <a:pt x="56" y="765"/>
                                        </a:lnTo>
                                        <a:lnTo>
                                          <a:pt x="65" y="804"/>
                                        </a:lnTo>
                                        <a:lnTo>
                                          <a:pt x="69" y="843"/>
                                        </a:lnTo>
                                        <a:lnTo>
                                          <a:pt x="78" y="881"/>
                                        </a:lnTo>
                                        <a:lnTo>
                                          <a:pt x="86" y="916"/>
                                        </a:lnTo>
                                        <a:lnTo>
                                          <a:pt x="91" y="955"/>
                                        </a:lnTo>
                                        <a:lnTo>
                                          <a:pt x="91" y="993"/>
                                        </a:lnTo>
                                        <a:lnTo>
                                          <a:pt x="91" y="993"/>
                                        </a:lnTo>
                                        <a:lnTo>
                                          <a:pt x="95" y="993"/>
                                        </a:lnTo>
                                        <a:lnTo>
                                          <a:pt x="95" y="993"/>
                                        </a:lnTo>
                                        <a:lnTo>
                                          <a:pt x="99" y="993"/>
                                        </a:lnTo>
                                        <a:lnTo>
                                          <a:pt x="99" y="993"/>
                                        </a:lnTo>
                                        <a:lnTo>
                                          <a:pt x="99" y="998"/>
                                        </a:lnTo>
                                        <a:lnTo>
                                          <a:pt x="99" y="998"/>
                                        </a:lnTo>
                                        <a:lnTo>
                                          <a:pt x="104" y="998"/>
                                        </a:lnTo>
                                        <a:lnTo>
                                          <a:pt x="104" y="843"/>
                                        </a:lnTo>
                                        <a:lnTo>
                                          <a:pt x="358" y="318"/>
                                        </a:lnTo>
                                        <a:lnTo>
                                          <a:pt x="397" y="189"/>
                                        </a:lnTo>
                                        <a:lnTo>
                                          <a:pt x="397" y="189"/>
                                        </a:lnTo>
                                        <a:lnTo>
                                          <a:pt x="397" y="189"/>
                                        </a:lnTo>
                                        <a:lnTo>
                                          <a:pt x="397" y="185"/>
                                        </a:lnTo>
                                        <a:lnTo>
                                          <a:pt x="397" y="185"/>
                                        </a:lnTo>
                                        <a:lnTo>
                                          <a:pt x="397" y="185"/>
                                        </a:lnTo>
                                        <a:lnTo>
                                          <a:pt x="397" y="181"/>
                                        </a:lnTo>
                                        <a:lnTo>
                                          <a:pt x="397" y="181"/>
                                        </a:lnTo>
                                        <a:lnTo>
                                          <a:pt x="397" y="181"/>
                                        </a:lnTo>
                                        <a:lnTo>
                                          <a:pt x="367" y="181"/>
                                        </a:lnTo>
                                        <a:lnTo>
                                          <a:pt x="285" y="116"/>
                                        </a:lnTo>
                                        <a:lnTo>
                                          <a:pt x="250" y="150"/>
                                        </a:lnTo>
                                        <a:lnTo>
                                          <a:pt x="155" y="77"/>
                                        </a:lnTo>
                                        <a:lnTo>
                                          <a:pt x="155" y="86"/>
                                        </a:lnTo>
                                        <a:lnTo>
                                          <a:pt x="142" y="95"/>
                                        </a:lnTo>
                                        <a:lnTo>
                                          <a:pt x="104" y="95"/>
                                        </a:lnTo>
                                        <a:lnTo>
                                          <a:pt x="39" y="0"/>
                                        </a:lnTo>
                                        <a:lnTo>
                                          <a:pt x="0" y="202"/>
                                        </a:lnTo>
                                        <a:close/>
                                      </a:path>
                                    </a:pathLst>
                                  </a:custGeom>
                                  <a:blipFill rotWithShape="0">
                                    <a:blip r:embed="rId47"/>
                                    <a:srcRect/>
                                    <a:tile tx="0" ty="0" sx="100000" sy="100000" algn="ctr"/>
                                  </a:blipFill>
                                  <a:ln w="9360">
                                    <a:solidFill>
                                      <a:srgbClr val="c0c0c0"/>
                                    </a:solidFill>
                                    <a:round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grpSp>
                                <p:nvGrpSpPr>
                                  <p:cNvPr id="14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1956600" y="954360"/>
                                    <a:ext cx="394200" cy="661320"/>
                                    <a:chOff x="1956600" y="954360"/>
                                    <a:chExt cx="394200" cy="661320"/>
                                  </a:xfrm>
                                </p:grpSpPr>
                                <p:sp>
                                  <p:nvSpPr>
                                    <p:cNvPr id="147" name=""/>
                                    <p:cNvSpPr/>
                                    <p:nvPr/>
                                  </p:nvSpPr>
                                  <p:spPr>
                                    <a:xfrm rot="21306000">
                                      <a:off x="1957680" y="1015920"/>
                                      <a:ext cx="49680" cy="3456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487" h="357">
                                          <a:moveTo>
                                            <a:pt x="487" y="9"/>
                                          </a:moveTo>
                                          <a:lnTo>
                                            <a:pt x="487" y="30"/>
                                          </a:lnTo>
                                          <a:lnTo>
                                            <a:pt x="233" y="125"/>
                                          </a:lnTo>
                                          <a:lnTo>
                                            <a:pt x="211" y="147"/>
                                          </a:lnTo>
                                          <a:lnTo>
                                            <a:pt x="285" y="155"/>
                                          </a:lnTo>
                                          <a:lnTo>
                                            <a:pt x="293" y="168"/>
                                          </a:lnTo>
                                          <a:lnTo>
                                            <a:pt x="293" y="177"/>
                                          </a:lnTo>
                                          <a:lnTo>
                                            <a:pt x="190" y="207"/>
                                          </a:lnTo>
                                          <a:lnTo>
                                            <a:pt x="168" y="228"/>
                                          </a:lnTo>
                                          <a:lnTo>
                                            <a:pt x="190" y="250"/>
                                          </a:lnTo>
                                          <a:lnTo>
                                            <a:pt x="220" y="228"/>
                                          </a:lnTo>
                                          <a:lnTo>
                                            <a:pt x="233" y="241"/>
                                          </a:lnTo>
                                          <a:lnTo>
                                            <a:pt x="246" y="241"/>
                                          </a:lnTo>
                                          <a:lnTo>
                                            <a:pt x="246" y="250"/>
                                          </a:lnTo>
                                          <a:lnTo>
                                            <a:pt x="0" y="357"/>
                                          </a:lnTo>
                                          <a:lnTo>
                                            <a:pt x="116" y="263"/>
                                          </a:lnTo>
                                          <a:lnTo>
                                            <a:pt x="159" y="190"/>
                                          </a:lnTo>
                                          <a:lnTo>
                                            <a:pt x="146" y="177"/>
                                          </a:lnTo>
                                          <a:lnTo>
                                            <a:pt x="146" y="147"/>
                                          </a:lnTo>
                                          <a:lnTo>
                                            <a:pt x="328" y="73"/>
                                          </a:lnTo>
                                          <a:lnTo>
                                            <a:pt x="328" y="18"/>
                                          </a:lnTo>
                                          <a:lnTo>
                                            <a:pt x="379" y="0"/>
                                          </a:lnTo>
                                          <a:lnTo>
                                            <a:pt x="474" y="0"/>
                                          </a:lnTo>
                                          <a:lnTo>
                                            <a:pt x="487" y="9"/>
                                          </a:lnTo>
                                          <a:close/>
                                        </a:path>
                                      </a:pathLst>
                                    </a:custGeom>
                                    <a:blipFill rotWithShape="0">
                                      <a:blip r:embed="rId48"/>
                                      <a:srcRect/>
                                      <a:tile tx="0" ty="0" sx="100000" sy="100000" algn="ctr"/>
                                    </a:blipFill>
                                    <a:ln w="9360">
                                      <a:solidFill>
                                        <a:srgbClr val="c0c0c0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12240" bIns="-1224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48" name=""/>
                                    <p:cNvSpPr/>
                                    <p:nvPr/>
                                  </p:nvSpPr>
                                  <p:spPr>
                                    <a:xfrm rot="21306000">
                                      <a:off x="1973520" y="1245960"/>
                                      <a:ext cx="10800" cy="4464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108" h="464">
                                          <a:moveTo>
                                            <a:pt x="21" y="224"/>
                                          </a:moveTo>
                                          <a:lnTo>
                                            <a:pt x="21" y="232"/>
                                          </a:lnTo>
                                          <a:lnTo>
                                            <a:pt x="34" y="245"/>
                                          </a:lnTo>
                                          <a:lnTo>
                                            <a:pt x="64" y="151"/>
                                          </a:lnTo>
                                          <a:lnTo>
                                            <a:pt x="73" y="151"/>
                                          </a:lnTo>
                                          <a:lnTo>
                                            <a:pt x="73" y="421"/>
                                          </a:lnTo>
                                          <a:lnTo>
                                            <a:pt x="108" y="452"/>
                                          </a:lnTo>
                                          <a:lnTo>
                                            <a:pt x="95" y="464"/>
                                          </a:lnTo>
                                          <a:lnTo>
                                            <a:pt x="73" y="464"/>
                                          </a:lnTo>
                                          <a:lnTo>
                                            <a:pt x="51" y="413"/>
                                          </a:lnTo>
                                          <a:lnTo>
                                            <a:pt x="43" y="305"/>
                                          </a:lnTo>
                                          <a:lnTo>
                                            <a:pt x="0" y="254"/>
                                          </a:lnTo>
                                          <a:lnTo>
                                            <a:pt x="0" y="65"/>
                                          </a:lnTo>
                                          <a:lnTo>
                                            <a:pt x="34" y="0"/>
                                          </a:lnTo>
                                          <a:lnTo>
                                            <a:pt x="43" y="9"/>
                                          </a:lnTo>
                                          <a:lnTo>
                                            <a:pt x="21" y="224"/>
                                          </a:lnTo>
                                          <a:close/>
                                        </a:path>
                                      </a:pathLst>
                                    </a:custGeom>
                                    <a:blipFill rotWithShape="0">
                                      <a:blip r:embed="rId49"/>
                                      <a:srcRect/>
                                      <a:tile tx="0" ty="0" sx="100000" sy="100000" algn="ctr"/>
                                    </a:blipFill>
                                    <a:ln w="9360">
                                      <a:solidFill>
                                        <a:srgbClr val="c0c0c0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2160" bIns="-216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49" name=""/>
                                    <p:cNvSpPr/>
                                    <p:nvPr/>
                                  </p:nvSpPr>
                                  <p:spPr>
                                    <a:xfrm rot="21306000">
                                      <a:off x="2002680" y="1280520"/>
                                      <a:ext cx="25200" cy="2952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246" h="306">
                                          <a:moveTo>
                                            <a:pt x="65" y="73"/>
                                          </a:moveTo>
                                          <a:lnTo>
                                            <a:pt x="86" y="254"/>
                                          </a:lnTo>
                                          <a:lnTo>
                                            <a:pt x="108" y="276"/>
                                          </a:lnTo>
                                          <a:lnTo>
                                            <a:pt x="151" y="168"/>
                                          </a:lnTo>
                                          <a:lnTo>
                                            <a:pt x="151" y="159"/>
                                          </a:lnTo>
                                          <a:lnTo>
                                            <a:pt x="172" y="159"/>
                                          </a:lnTo>
                                          <a:lnTo>
                                            <a:pt x="224" y="276"/>
                                          </a:lnTo>
                                          <a:lnTo>
                                            <a:pt x="246" y="297"/>
                                          </a:lnTo>
                                          <a:lnTo>
                                            <a:pt x="233" y="306"/>
                                          </a:lnTo>
                                          <a:lnTo>
                                            <a:pt x="159" y="202"/>
                                          </a:lnTo>
                                          <a:lnTo>
                                            <a:pt x="121" y="297"/>
                                          </a:lnTo>
                                          <a:lnTo>
                                            <a:pt x="108" y="306"/>
                                          </a:lnTo>
                                          <a:lnTo>
                                            <a:pt x="56" y="241"/>
                                          </a:lnTo>
                                          <a:lnTo>
                                            <a:pt x="13" y="159"/>
                                          </a:lnTo>
                                          <a:lnTo>
                                            <a:pt x="0" y="0"/>
                                          </a:lnTo>
                                          <a:lnTo>
                                            <a:pt x="56" y="73"/>
                                          </a:lnTo>
                                          <a:lnTo>
                                            <a:pt x="65" y="73"/>
                                          </a:lnTo>
                                          <a:close/>
                                        </a:path>
                                      </a:pathLst>
                                    </a:custGeom>
                                    <a:blipFill rotWithShape="0">
                                      <a:blip r:embed="rId50"/>
                                      <a:srcRect/>
                                      <a:tile tx="0" ty="0" sx="100000" sy="100000" algn="ctr"/>
                                    </a:blipFill>
                                    <a:ln w="9360">
                                      <a:solidFill>
                                        <a:srgbClr val="c0c0c0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17280" bIns="-172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50" name=""/>
                                    <p:cNvSpPr/>
                                    <p:nvPr/>
                                  </p:nvSpPr>
                                  <p:spPr>
                                    <a:xfrm rot="21306000">
                                      <a:off x="2225520" y="1302120"/>
                                      <a:ext cx="35280" cy="1584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345" h="167">
                                          <a:moveTo>
                                            <a:pt x="284" y="73"/>
                                          </a:moveTo>
                                          <a:lnTo>
                                            <a:pt x="336" y="73"/>
                                          </a:lnTo>
                                          <a:lnTo>
                                            <a:pt x="345" y="64"/>
                                          </a:lnTo>
                                          <a:lnTo>
                                            <a:pt x="345" y="86"/>
                                          </a:lnTo>
                                          <a:lnTo>
                                            <a:pt x="315" y="107"/>
                                          </a:lnTo>
                                          <a:lnTo>
                                            <a:pt x="250" y="94"/>
                                          </a:lnTo>
                                          <a:lnTo>
                                            <a:pt x="198" y="150"/>
                                          </a:lnTo>
                                          <a:lnTo>
                                            <a:pt x="146" y="129"/>
                                          </a:lnTo>
                                          <a:lnTo>
                                            <a:pt x="116" y="94"/>
                                          </a:lnTo>
                                          <a:lnTo>
                                            <a:pt x="73" y="150"/>
                                          </a:lnTo>
                                          <a:lnTo>
                                            <a:pt x="51" y="167"/>
                                          </a:lnTo>
                                          <a:lnTo>
                                            <a:pt x="8" y="159"/>
                                          </a:lnTo>
                                          <a:lnTo>
                                            <a:pt x="0" y="94"/>
                                          </a:lnTo>
                                          <a:lnTo>
                                            <a:pt x="0" y="64"/>
                                          </a:lnTo>
                                          <a:lnTo>
                                            <a:pt x="21" y="64"/>
                                          </a:lnTo>
                                          <a:lnTo>
                                            <a:pt x="39" y="137"/>
                                          </a:lnTo>
                                          <a:lnTo>
                                            <a:pt x="103" y="73"/>
                                          </a:lnTo>
                                          <a:lnTo>
                                            <a:pt x="103" y="43"/>
                                          </a:lnTo>
                                          <a:lnTo>
                                            <a:pt x="116" y="34"/>
                                          </a:lnTo>
                                          <a:lnTo>
                                            <a:pt x="190" y="116"/>
                                          </a:lnTo>
                                          <a:lnTo>
                                            <a:pt x="198" y="129"/>
                                          </a:lnTo>
                                          <a:lnTo>
                                            <a:pt x="241" y="86"/>
                                          </a:lnTo>
                                          <a:lnTo>
                                            <a:pt x="220" y="0"/>
                                          </a:lnTo>
                                          <a:lnTo>
                                            <a:pt x="250" y="13"/>
                                          </a:lnTo>
                                          <a:lnTo>
                                            <a:pt x="284" y="73"/>
                                          </a:lnTo>
                                          <a:close/>
                                        </a:path>
                                      </a:pathLst>
                                    </a:custGeom>
                                    <a:blipFill rotWithShape="0">
                                      <a:blip r:embed="rId51"/>
                                      <a:srcRect/>
                                      <a:tile tx="0" ty="0" sx="100000" sy="100000" algn="ctr"/>
                                    </a:blipFill>
                                    <a:ln w="9360">
                                      <a:solidFill>
                                        <a:srgbClr val="c0c0c0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0960" bIns="-3096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51" name=""/>
                                    <p:cNvSpPr/>
                                    <p:nvPr/>
                                  </p:nvSpPr>
                                  <p:spPr>
                                    <a:xfrm rot="21306000">
                                      <a:off x="2183760" y="1322640"/>
                                      <a:ext cx="18000" cy="1224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177" h="129">
                                          <a:moveTo>
                                            <a:pt x="177" y="86"/>
                                          </a:moveTo>
                                          <a:lnTo>
                                            <a:pt x="134" y="95"/>
                                          </a:lnTo>
                                          <a:lnTo>
                                            <a:pt x="103" y="129"/>
                                          </a:lnTo>
                                          <a:lnTo>
                                            <a:pt x="30" y="108"/>
                                          </a:lnTo>
                                          <a:lnTo>
                                            <a:pt x="0" y="56"/>
                                          </a:lnTo>
                                          <a:lnTo>
                                            <a:pt x="0" y="43"/>
                                          </a:lnTo>
                                          <a:lnTo>
                                            <a:pt x="17" y="22"/>
                                          </a:lnTo>
                                          <a:lnTo>
                                            <a:pt x="82" y="108"/>
                                          </a:lnTo>
                                          <a:lnTo>
                                            <a:pt x="103" y="108"/>
                                          </a:lnTo>
                                          <a:lnTo>
                                            <a:pt x="112" y="0"/>
                                          </a:lnTo>
                                          <a:lnTo>
                                            <a:pt x="134" y="0"/>
                                          </a:lnTo>
                                          <a:lnTo>
                                            <a:pt x="177" y="86"/>
                                          </a:lnTo>
                                          <a:close/>
                                        </a:path>
                                      </a:pathLst>
                                    </a:custGeom>
                                    <a:blipFill rotWithShape="0">
                                      <a:blip r:embed="rId52"/>
                                      <a:srcRect/>
                                      <a:tile tx="0" ty="0" sx="100000" sy="100000" algn="ctr"/>
                                    </a:blipFill>
                                    <a:ln w="9360">
                                      <a:solidFill>
                                        <a:srgbClr val="c0c0c0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4560" bIns="-3456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52" name=""/>
                                    <p:cNvSpPr/>
                                    <p:nvPr/>
                                  </p:nvSpPr>
                                  <p:spPr>
                                    <a:xfrm rot="21306000">
                                      <a:off x="2100240" y="1131840"/>
                                      <a:ext cx="120960" cy="4068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1182" h="421">
                                          <a:moveTo>
                                            <a:pt x="121" y="189"/>
                                          </a:moveTo>
                                          <a:lnTo>
                                            <a:pt x="138" y="189"/>
                                          </a:lnTo>
                                          <a:lnTo>
                                            <a:pt x="155" y="180"/>
                                          </a:lnTo>
                                          <a:lnTo>
                                            <a:pt x="177" y="167"/>
                                          </a:lnTo>
                                          <a:lnTo>
                                            <a:pt x="199" y="154"/>
                                          </a:lnTo>
                                          <a:lnTo>
                                            <a:pt x="220" y="137"/>
                                          </a:lnTo>
                                          <a:lnTo>
                                            <a:pt x="242" y="129"/>
                                          </a:lnTo>
                                          <a:lnTo>
                                            <a:pt x="259" y="120"/>
                                          </a:lnTo>
                                          <a:lnTo>
                                            <a:pt x="272" y="116"/>
                                          </a:lnTo>
                                          <a:lnTo>
                                            <a:pt x="276" y="103"/>
                                          </a:lnTo>
                                          <a:lnTo>
                                            <a:pt x="281" y="90"/>
                                          </a:lnTo>
                                          <a:lnTo>
                                            <a:pt x="289" y="81"/>
                                          </a:lnTo>
                                          <a:lnTo>
                                            <a:pt x="298" y="68"/>
                                          </a:lnTo>
                                          <a:lnTo>
                                            <a:pt x="324" y="51"/>
                                          </a:lnTo>
                                          <a:lnTo>
                                            <a:pt x="358" y="38"/>
                                          </a:lnTo>
                                          <a:lnTo>
                                            <a:pt x="401" y="25"/>
                                          </a:lnTo>
                                          <a:lnTo>
                                            <a:pt x="449" y="17"/>
                                          </a:lnTo>
                                          <a:lnTo>
                                            <a:pt x="501" y="8"/>
                                          </a:lnTo>
                                          <a:lnTo>
                                            <a:pt x="557" y="4"/>
                                          </a:lnTo>
                                          <a:lnTo>
                                            <a:pt x="669" y="0"/>
                                          </a:lnTo>
                                          <a:lnTo>
                                            <a:pt x="772" y="0"/>
                                          </a:lnTo>
                                          <a:lnTo>
                                            <a:pt x="816" y="4"/>
                                          </a:lnTo>
                                          <a:lnTo>
                                            <a:pt x="854" y="8"/>
                                          </a:lnTo>
                                          <a:lnTo>
                                            <a:pt x="889" y="17"/>
                                          </a:lnTo>
                                          <a:lnTo>
                                            <a:pt x="910" y="25"/>
                                          </a:lnTo>
                                          <a:lnTo>
                                            <a:pt x="910" y="25"/>
                                          </a:lnTo>
                                          <a:lnTo>
                                            <a:pt x="910" y="30"/>
                                          </a:lnTo>
                                          <a:lnTo>
                                            <a:pt x="910" y="30"/>
                                          </a:lnTo>
                                          <a:lnTo>
                                            <a:pt x="910" y="34"/>
                                          </a:lnTo>
                                          <a:lnTo>
                                            <a:pt x="910" y="34"/>
                                          </a:lnTo>
                                          <a:lnTo>
                                            <a:pt x="910" y="34"/>
                                          </a:lnTo>
                                          <a:lnTo>
                                            <a:pt x="910" y="38"/>
                                          </a:lnTo>
                                          <a:lnTo>
                                            <a:pt x="910" y="38"/>
                                          </a:lnTo>
                                          <a:lnTo>
                                            <a:pt x="928" y="47"/>
                                          </a:lnTo>
                                          <a:lnTo>
                                            <a:pt x="954" y="60"/>
                                          </a:lnTo>
                                          <a:lnTo>
                                            <a:pt x="984" y="77"/>
                                          </a:lnTo>
                                          <a:lnTo>
                                            <a:pt x="1014" y="90"/>
                                          </a:lnTo>
                                          <a:lnTo>
                                            <a:pt x="1044" y="107"/>
                                          </a:lnTo>
                                          <a:lnTo>
                                            <a:pt x="1074" y="120"/>
                                          </a:lnTo>
                                          <a:lnTo>
                                            <a:pt x="1100" y="129"/>
                                          </a:lnTo>
                                          <a:lnTo>
                                            <a:pt x="1122" y="129"/>
                                          </a:lnTo>
                                          <a:lnTo>
                                            <a:pt x="1126" y="137"/>
                                          </a:lnTo>
                                          <a:lnTo>
                                            <a:pt x="1135" y="146"/>
                                          </a:lnTo>
                                          <a:lnTo>
                                            <a:pt x="1143" y="150"/>
                                          </a:lnTo>
                                          <a:lnTo>
                                            <a:pt x="1152" y="159"/>
                                          </a:lnTo>
                                          <a:lnTo>
                                            <a:pt x="1161" y="167"/>
                                          </a:lnTo>
                                          <a:lnTo>
                                            <a:pt x="1169" y="172"/>
                                          </a:lnTo>
                                          <a:lnTo>
                                            <a:pt x="1174" y="176"/>
                                          </a:lnTo>
                                          <a:lnTo>
                                            <a:pt x="1182" y="176"/>
                                          </a:lnTo>
                                          <a:lnTo>
                                            <a:pt x="1182" y="197"/>
                                          </a:lnTo>
                                          <a:lnTo>
                                            <a:pt x="1182" y="219"/>
                                          </a:lnTo>
                                          <a:lnTo>
                                            <a:pt x="1182" y="236"/>
                                          </a:lnTo>
                                          <a:lnTo>
                                            <a:pt x="1182" y="258"/>
                                          </a:lnTo>
                                          <a:lnTo>
                                            <a:pt x="1182" y="279"/>
                                          </a:lnTo>
                                          <a:lnTo>
                                            <a:pt x="1182" y="301"/>
                                          </a:lnTo>
                                          <a:lnTo>
                                            <a:pt x="1182" y="322"/>
                                          </a:lnTo>
                                          <a:lnTo>
                                            <a:pt x="1182" y="339"/>
                                          </a:lnTo>
                                          <a:lnTo>
                                            <a:pt x="1161" y="356"/>
                                          </a:lnTo>
                                          <a:lnTo>
                                            <a:pt x="1139" y="374"/>
                                          </a:lnTo>
                                          <a:lnTo>
                                            <a:pt x="1109" y="382"/>
                                          </a:lnTo>
                                          <a:lnTo>
                                            <a:pt x="1079" y="395"/>
                                          </a:lnTo>
                                          <a:lnTo>
                                            <a:pt x="1005" y="412"/>
                                          </a:lnTo>
                                          <a:lnTo>
                                            <a:pt x="928" y="417"/>
                                          </a:lnTo>
                                          <a:lnTo>
                                            <a:pt x="850" y="421"/>
                                          </a:lnTo>
                                          <a:lnTo>
                                            <a:pt x="772" y="412"/>
                                          </a:lnTo>
                                          <a:lnTo>
                                            <a:pt x="738" y="404"/>
                                          </a:lnTo>
                                          <a:lnTo>
                                            <a:pt x="708" y="395"/>
                                          </a:lnTo>
                                          <a:lnTo>
                                            <a:pt x="677" y="387"/>
                                          </a:lnTo>
                                          <a:lnTo>
                                            <a:pt x="652" y="374"/>
                                          </a:lnTo>
                                          <a:lnTo>
                                            <a:pt x="652" y="369"/>
                                          </a:lnTo>
                                          <a:lnTo>
                                            <a:pt x="652" y="369"/>
                                          </a:lnTo>
                                          <a:lnTo>
                                            <a:pt x="652" y="365"/>
                                          </a:lnTo>
                                          <a:lnTo>
                                            <a:pt x="652" y="365"/>
                                          </a:lnTo>
                                          <a:lnTo>
                                            <a:pt x="652" y="361"/>
                                          </a:lnTo>
                                          <a:lnTo>
                                            <a:pt x="652" y="361"/>
                                          </a:lnTo>
                                          <a:lnTo>
                                            <a:pt x="652" y="356"/>
                                          </a:lnTo>
                                          <a:lnTo>
                                            <a:pt x="652" y="356"/>
                                          </a:lnTo>
                                          <a:lnTo>
                                            <a:pt x="643" y="356"/>
                                          </a:lnTo>
                                          <a:lnTo>
                                            <a:pt x="630" y="356"/>
                                          </a:lnTo>
                                          <a:lnTo>
                                            <a:pt x="617" y="356"/>
                                          </a:lnTo>
                                          <a:lnTo>
                                            <a:pt x="600" y="356"/>
                                          </a:lnTo>
                                          <a:lnTo>
                                            <a:pt x="587" y="361"/>
                                          </a:lnTo>
                                          <a:lnTo>
                                            <a:pt x="574" y="361"/>
                                          </a:lnTo>
                                          <a:lnTo>
                                            <a:pt x="565" y="365"/>
                                          </a:lnTo>
                                          <a:lnTo>
                                            <a:pt x="561" y="374"/>
                                          </a:lnTo>
                                          <a:lnTo>
                                            <a:pt x="501" y="374"/>
                                          </a:lnTo>
                                          <a:lnTo>
                                            <a:pt x="440" y="374"/>
                                          </a:lnTo>
                                          <a:lnTo>
                                            <a:pt x="380" y="374"/>
                                          </a:lnTo>
                                          <a:lnTo>
                                            <a:pt x="319" y="374"/>
                                          </a:lnTo>
                                          <a:lnTo>
                                            <a:pt x="259" y="374"/>
                                          </a:lnTo>
                                          <a:lnTo>
                                            <a:pt x="199" y="374"/>
                                          </a:lnTo>
                                          <a:lnTo>
                                            <a:pt x="138" y="374"/>
                                          </a:lnTo>
                                          <a:lnTo>
                                            <a:pt x="78" y="374"/>
                                          </a:lnTo>
                                          <a:lnTo>
                                            <a:pt x="69" y="369"/>
                                          </a:lnTo>
                                          <a:lnTo>
                                            <a:pt x="65" y="369"/>
                                          </a:lnTo>
                                          <a:lnTo>
                                            <a:pt x="61" y="365"/>
                                          </a:lnTo>
                                          <a:lnTo>
                                            <a:pt x="56" y="365"/>
                                          </a:lnTo>
                                          <a:lnTo>
                                            <a:pt x="48" y="361"/>
                                          </a:lnTo>
                                          <a:lnTo>
                                            <a:pt x="43" y="361"/>
                                          </a:lnTo>
                                          <a:lnTo>
                                            <a:pt x="39" y="356"/>
                                          </a:lnTo>
                                          <a:lnTo>
                                            <a:pt x="30" y="356"/>
                                          </a:lnTo>
                                          <a:lnTo>
                                            <a:pt x="26" y="352"/>
                                          </a:lnTo>
                                          <a:lnTo>
                                            <a:pt x="26" y="348"/>
                                          </a:lnTo>
                                          <a:lnTo>
                                            <a:pt x="22" y="344"/>
                                          </a:lnTo>
                                          <a:lnTo>
                                            <a:pt x="17" y="339"/>
                                          </a:lnTo>
                                          <a:lnTo>
                                            <a:pt x="13" y="339"/>
                                          </a:lnTo>
                                          <a:lnTo>
                                            <a:pt x="9" y="335"/>
                                          </a:lnTo>
                                          <a:lnTo>
                                            <a:pt x="4" y="331"/>
                                          </a:lnTo>
                                          <a:lnTo>
                                            <a:pt x="0" y="326"/>
                                          </a:lnTo>
                                          <a:lnTo>
                                            <a:pt x="0" y="318"/>
                                          </a:lnTo>
                                          <a:lnTo>
                                            <a:pt x="0" y="309"/>
                                          </a:lnTo>
                                          <a:lnTo>
                                            <a:pt x="0" y="305"/>
                                          </a:lnTo>
                                          <a:lnTo>
                                            <a:pt x="0" y="296"/>
                                          </a:lnTo>
                                          <a:lnTo>
                                            <a:pt x="0" y="288"/>
                                          </a:lnTo>
                                          <a:lnTo>
                                            <a:pt x="0" y="279"/>
                                          </a:lnTo>
                                          <a:lnTo>
                                            <a:pt x="0" y="275"/>
                                          </a:lnTo>
                                          <a:lnTo>
                                            <a:pt x="0" y="266"/>
                                          </a:lnTo>
                                          <a:lnTo>
                                            <a:pt x="9" y="258"/>
                                          </a:lnTo>
                                          <a:lnTo>
                                            <a:pt x="13" y="253"/>
                                          </a:lnTo>
                                          <a:lnTo>
                                            <a:pt x="22" y="245"/>
                                          </a:lnTo>
                                          <a:lnTo>
                                            <a:pt x="30" y="232"/>
                                          </a:lnTo>
                                          <a:lnTo>
                                            <a:pt x="35" y="223"/>
                                          </a:lnTo>
                                          <a:lnTo>
                                            <a:pt x="43" y="215"/>
                                          </a:lnTo>
                                          <a:lnTo>
                                            <a:pt x="43" y="202"/>
                                          </a:lnTo>
                                          <a:lnTo>
                                            <a:pt x="48" y="189"/>
                                          </a:lnTo>
                                          <a:lnTo>
                                            <a:pt x="52" y="189"/>
                                          </a:lnTo>
                                          <a:lnTo>
                                            <a:pt x="61" y="180"/>
                                          </a:lnTo>
                                          <a:lnTo>
                                            <a:pt x="73" y="172"/>
                                          </a:lnTo>
                                          <a:lnTo>
                                            <a:pt x="86" y="163"/>
                                          </a:lnTo>
                                          <a:lnTo>
                                            <a:pt x="95" y="159"/>
                                          </a:lnTo>
                                          <a:lnTo>
                                            <a:pt x="108" y="159"/>
                                          </a:lnTo>
                                          <a:lnTo>
                                            <a:pt x="117" y="167"/>
                                          </a:lnTo>
                                          <a:lnTo>
                                            <a:pt x="121" y="189"/>
                                          </a:lnTo>
                                          <a:close/>
                                        </a:path>
                                      </a:pathLst>
                                    </a:custGeom>
                                    <a:blipFill rotWithShape="0">
                                      <a:blip r:embed="rId53"/>
                                      <a:srcRect/>
                                      <a:tile tx="0" ty="0" sx="100000" sy="100000" algn="ctr"/>
                                    </a:blipFill>
                                    <a:ln w="9360">
                                      <a:solidFill>
                                        <a:srgbClr val="c0c0c0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6120" bIns="-612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153" name=""/>
                                    <p:cNvSpPr/>
                                    <p:nvPr/>
                                  </p:nvSpPr>
                                  <p:spPr>
                                    <a:xfrm rot="21306000">
                                      <a:off x="2283480" y="1128600"/>
                                      <a:ext cx="65520" cy="3528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642" h="366">
                                          <a:moveTo>
                                            <a:pt x="21" y="48"/>
                                          </a:moveTo>
                                          <a:lnTo>
                                            <a:pt x="43" y="35"/>
                                          </a:lnTo>
                                          <a:lnTo>
                                            <a:pt x="64" y="22"/>
                                          </a:lnTo>
                                          <a:lnTo>
                                            <a:pt x="90" y="13"/>
                                          </a:lnTo>
                                          <a:lnTo>
                                            <a:pt x="116" y="9"/>
                                          </a:lnTo>
                                          <a:lnTo>
                                            <a:pt x="142" y="5"/>
                                          </a:lnTo>
                                          <a:lnTo>
                                            <a:pt x="172" y="0"/>
                                          </a:lnTo>
                                          <a:lnTo>
                                            <a:pt x="202" y="5"/>
                                          </a:lnTo>
                                          <a:lnTo>
                                            <a:pt x="233" y="5"/>
                                          </a:lnTo>
                                          <a:lnTo>
                                            <a:pt x="293" y="18"/>
                                          </a:lnTo>
                                          <a:lnTo>
                                            <a:pt x="349" y="35"/>
                                          </a:lnTo>
                                          <a:lnTo>
                                            <a:pt x="397" y="61"/>
                                          </a:lnTo>
                                          <a:lnTo>
                                            <a:pt x="440" y="86"/>
                                          </a:lnTo>
                                          <a:lnTo>
                                            <a:pt x="440" y="95"/>
                                          </a:lnTo>
                                          <a:lnTo>
                                            <a:pt x="461" y="108"/>
                                          </a:lnTo>
                                          <a:lnTo>
                                            <a:pt x="496" y="121"/>
                                          </a:lnTo>
                                          <a:lnTo>
                                            <a:pt x="539" y="134"/>
                                          </a:lnTo>
                                          <a:lnTo>
                                            <a:pt x="578" y="151"/>
                                          </a:lnTo>
                                          <a:lnTo>
                                            <a:pt x="595" y="160"/>
                                          </a:lnTo>
                                          <a:lnTo>
                                            <a:pt x="612" y="168"/>
                                          </a:lnTo>
                                          <a:lnTo>
                                            <a:pt x="625" y="181"/>
                                          </a:lnTo>
                                          <a:lnTo>
                                            <a:pt x="634" y="194"/>
                                          </a:lnTo>
                                          <a:lnTo>
                                            <a:pt x="638" y="207"/>
                                          </a:lnTo>
                                          <a:lnTo>
                                            <a:pt x="642" y="220"/>
                                          </a:lnTo>
                                          <a:lnTo>
                                            <a:pt x="638" y="237"/>
                                          </a:lnTo>
                                          <a:lnTo>
                                            <a:pt x="629" y="258"/>
                                          </a:lnTo>
                                          <a:lnTo>
                                            <a:pt x="617" y="258"/>
                                          </a:lnTo>
                                          <a:lnTo>
                                            <a:pt x="599" y="263"/>
                                          </a:lnTo>
                                          <a:lnTo>
                                            <a:pt x="586" y="267"/>
                                          </a:lnTo>
                                          <a:lnTo>
                                            <a:pt x="573" y="271"/>
                                          </a:lnTo>
                                          <a:lnTo>
                                            <a:pt x="556" y="276"/>
                                          </a:lnTo>
                                          <a:lnTo>
                                            <a:pt x="543" y="280"/>
                                          </a:lnTo>
                                          <a:lnTo>
                                            <a:pt x="530" y="284"/>
                                          </a:lnTo>
                                          <a:lnTo>
                                            <a:pt x="513" y="284"/>
                                          </a:lnTo>
                                          <a:lnTo>
                                            <a:pt x="500" y="297"/>
                                          </a:lnTo>
                                          <a:lnTo>
                                            <a:pt x="478" y="314"/>
                                          </a:lnTo>
                                          <a:lnTo>
                                            <a:pt x="453" y="327"/>
                                          </a:lnTo>
                                          <a:lnTo>
                                            <a:pt x="427" y="344"/>
                                          </a:lnTo>
                                          <a:lnTo>
                                            <a:pt x="397" y="357"/>
                                          </a:lnTo>
                                          <a:lnTo>
                                            <a:pt x="371" y="366"/>
                                          </a:lnTo>
                                          <a:lnTo>
                                            <a:pt x="345" y="366"/>
                                          </a:lnTo>
                                          <a:lnTo>
                                            <a:pt x="323" y="362"/>
                                          </a:lnTo>
                                          <a:lnTo>
                                            <a:pt x="323" y="353"/>
                                          </a:lnTo>
                                          <a:lnTo>
                                            <a:pt x="310" y="344"/>
                                          </a:lnTo>
                                          <a:lnTo>
                                            <a:pt x="293" y="336"/>
                                          </a:lnTo>
                                          <a:lnTo>
                                            <a:pt x="276" y="332"/>
                                          </a:lnTo>
                                          <a:lnTo>
                                            <a:pt x="250" y="327"/>
                                          </a:lnTo>
                                          <a:lnTo>
                                            <a:pt x="228" y="319"/>
                                          </a:lnTo>
                                          <a:lnTo>
                                            <a:pt x="207" y="319"/>
                                          </a:lnTo>
                                          <a:lnTo>
                                            <a:pt x="189" y="314"/>
                                          </a:lnTo>
                                          <a:lnTo>
                                            <a:pt x="172" y="314"/>
                                          </a:lnTo>
                                          <a:lnTo>
                                            <a:pt x="164" y="306"/>
                                          </a:lnTo>
                                          <a:lnTo>
                                            <a:pt x="151" y="297"/>
                                          </a:lnTo>
                                          <a:lnTo>
                                            <a:pt x="133" y="284"/>
                                          </a:lnTo>
                                          <a:lnTo>
                                            <a:pt x="112" y="271"/>
                                          </a:lnTo>
                                          <a:lnTo>
                                            <a:pt x="95" y="263"/>
                                          </a:lnTo>
                                          <a:lnTo>
                                            <a:pt x="77" y="254"/>
                                          </a:lnTo>
                                          <a:lnTo>
                                            <a:pt x="60" y="250"/>
                                          </a:lnTo>
                                          <a:lnTo>
                                            <a:pt x="47" y="246"/>
                                          </a:lnTo>
                                          <a:lnTo>
                                            <a:pt x="47" y="237"/>
                                          </a:lnTo>
                                          <a:lnTo>
                                            <a:pt x="43" y="228"/>
                                          </a:lnTo>
                                          <a:lnTo>
                                            <a:pt x="38" y="220"/>
                                          </a:lnTo>
                                          <a:lnTo>
                                            <a:pt x="34" y="211"/>
                                          </a:lnTo>
                                          <a:lnTo>
                                            <a:pt x="30" y="203"/>
                                          </a:lnTo>
                                          <a:lnTo>
                                            <a:pt x="25" y="190"/>
                                          </a:lnTo>
                                          <a:lnTo>
                                            <a:pt x="21" y="181"/>
                                          </a:lnTo>
                                          <a:lnTo>
                                            <a:pt x="21" y="172"/>
                                          </a:lnTo>
                                          <a:lnTo>
                                            <a:pt x="13" y="168"/>
                                          </a:lnTo>
                                          <a:lnTo>
                                            <a:pt x="8" y="160"/>
                                          </a:lnTo>
                                          <a:lnTo>
                                            <a:pt x="4" y="147"/>
                                          </a:lnTo>
                                          <a:lnTo>
                                            <a:pt x="4" y="129"/>
                                          </a:lnTo>
                                          <a:lnTo>
                                            <a:pt x="0" y="117"/>
                                          </a:lnTo>
                                          <a:lnTo>
                                            <a:pt x="0" y="99"/>
                                          </a:lnTo>
                                          <a:lnTo>
                                            <a:pt x="0" y="86"/>
                                          </a:lnTo>
                                          <a:lnTo>
                                            <a:pt x="0" y="78"/>
                                          </a:lnTo>
                                          <a:lnTo>
                                            <a:pt x="4" y="74"/>
                                          </a:lnTo>
                                          <a:lnTo>
                                            <a:pt x="8" y="69"/>
                                          </a:lnTo>
                                          <a:lnTo>
                                            <a:pt x="13" y="65"/>
                                          </a:lnTo>
                                          <a:lnTo>
                                            <a:pt x="13" y="56"/>
                                          </a:lnTo>
                                          <a:lnTo>
                                            <a:pt x="17" y="48"/>
                                          </a:lnTo>
                                          <a:lnTo>
                                            <a:pt x="17" y="39"/>
                                          </a:lnTo>
                                          <a:lnTo>
                                            <a:pt x="21" y="35"/>
                                          </a:lnTo>
                                          <a:lnTo>
                                            <a:pt x="21" y="31"/>
                                          </a:lnTo>
                                          <a:lnTo>
                                            <a:pt x="21" y="48"/>
                                          </a:lnTo>
                                          <a:close/>
                                        </a:path>
                                      </a:pathLst>
                                    </a:custGeom>
                                    <a:blipFill rotWithShape="0">
                                      <a:blip r:embed="rId54"/>
                                      <a:srcRect/>
                                      <a:tile tx="0" ty="0" sx="100000" sy="100000" algn="ctr"/>
                                    </a:blipFill>
                                    <a:ln w="9360">
                                      <a:solidFill>
                                        <a:srgbClr val="c0c0c0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11520" bIns="-1152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grpSp>
                                  <p:nvGrpSpPr>
                                    <p:cNvPr id="154" name="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2033280" y="1307520"/>
                                      <a:ext cx="306720" cy="308160"/>
                                      <a:chOff x="2033280" y="1307520"/>
                                      <a:chExt cx="306720" cy="308160"/>
                                    </a:xfrm>
                                  </p:grpSpPr>
                                  <p:sp>
                                    <p:nvSpPr>
                                      <p:cNvPr id="155" name=""/>
                                      <p:cNvSpPr/>
                                      <p:nvPr/>
                                    </p:nvSpPr>
                                    <p:spPr>
                                      <a:xfrm rot="21306000">
                                        <a:off x="2186280" y="1312560"/>
                                        <a:ext cx="141120" cy="297360"/>
                                      </a:xfrm>
                                      <a:custGeom>
                                        <a:avLst/>
                                        <a:gdLst/>
                                        <a:ahLst/>
                                        <a:rect l="l" t="t" r="r" b="b"/>
                                        <a:pathLst>
                                          <a:path w="1376" h="3070">
                                            <a:moveTo>
                                              <a:pt x="1186" y="516"/>
                                            </a:moveTo>
                                            <a:lnTo>
                                              <a:pt x="1259" y="675"/>
                                            </a:lnTo>
                                            <a:lnTo>
                                              <a:pt x="1376" y="782"/>
                                            </a:lnTo>
                                            <a:lnTo>
                                              <a:pt x="1229" y="1088"/>
                                            </a:lnTo>
                                            <a:lnTo>
                                              <a:pt x="1238" y="1195"/>
                                            </a:lnTo>
                                            <a:lnTo>
                                              <a:pt x="1259" y="1307"/>
                                            </a:lnTo>
                                            <a:lnTo>
                                              <a:pt x="1203" y="1479"/>
                                            </a:lnTo>
                                            <a:lnTo>
                                              <a:pt x="832" y="2098"/>
                                            </a:lnTo>
                                            <a:lnTo>
                                              <a:pt x="664" y="2545"/>
                                            </a:lnTo>
                                            <a:lnTo>
                                              <a:pt x="642" y="2683"/>
                                            </a:lnTo>
                                            <a:lnTo>
                                              <a:pt x="664" y="2829"/>
                                            </a:lnTo>
                                            <a:lnTo>
                                              <a:pt x="664" y="2872"/>
                                            </a:lnTo>
                                            <a:lnTo>
                                              <a:pt x="569" y="2851"/>
                                            </a:lnTo>
                                            <a:lnTo>
                                              <a:pt x="517" y="2851"/>
                                            </a:lnTo>
                                            <a:lnTo>
                                              <a:pt x="517" y="2932"/>
                                            </a:lnTo>
                                            <a:lnTo>
                                              <a:pt x="569" y="3006"/>
                                            </a:lnTo>
                                            <a:lnTo>
                                              <a:pt x="569" y="3040"/>
                                            </a:lnTo>
                                            <a:lnTo>
                                              <a:pt x="466" y="3070"/>
                                            </a:lnTo>
                                            <a:lnTo>
                                              <a:pt x="0" y="3070"/>
                                            </a:lnTo>
                                            <a:lnTo>
                                              <a:pt x="30" y="2988"/>
                                            </a:lnTo>
                                            <a:lnTo>
                                              <a:pt x="159" y="2894"/>
                                            </a:lnTo>
                                            <a:lnTo>
                                              <a:pt x="284" y="2838"/>
                                            </a:lnTo>
                                            <a:lnTo>
                                              <a:pt x="435" y="2610"/>
                                            </a:lnTo>
                                            <a:lnTo>
                                              <a:pt x="466" y="2468"/>
                                            </a:lnTo>
                                            <a:lnTo>
                                              <a:pt x="655" y="2060"/>
                                            </a:lnTo>
                                            <a:lnTo>
                                              <a:pt x="686" y="1763"/>
                                            </a:lnTo>
                                            <a:lnTo>
                                              <a:pt x="642" y="1341"/>
                                            </a:lnTo>
                                            <a:lnTo>
                                              <a:pt x="517" y="877"/>
                                            </a:lnTo>
                                            <a:lnTo>
                                              <a:pt x="517" y="666"/>
                                            </a:lnTo>
                                            <a:lnTo>
                                              <a:pt x="560" y="348"/>
                                            </a:lnTo>
                                            <a:lnTo>
                                              <a:pt x="612" y="223"/>
                                            </a:lnTo>
                                            <a:lnTo>
                                              <a:pt x="642" y="241"/>
                                            </a:lnTo>
                                            <a:lnTo>
                                              <a:pt x="750" y="180"/>
                                            </a:lnTo>
                                            <a:lnTo>
                                              <a:pt x="845" y="180"/>
                                            </a:lnTo>
                                            <a:lnTo>
                                              <a:pt x="910" y="129"/>
                                            </a:lnTo>
                                            <a:lnTo>
                                              <a:pt x="919" y="129"/>
                                            </a:lnTo>
                                            <a:lnTo>
                                              <a:pt x="927" y="137"/>
                                            </a:lnTo>
                                            <a:lnTo>
                                              <a:pt x="1070" y="21"/>
                                            </a:lnTo>
                                            <a:lnTo>
                                              <a:pt x="1130" y="0"/>
                                            </a:lnTo>
                                            <a:lnTo>
                                              <a:pt x="1173" y="211"/>
                                            </a:lnTo>
                                            <a:lnTo>
                                              <a:pt x="1186" y="516"/>
                                            </a:lnTo>
                                            <a:close/>
                                          </a:path>
                                        </a:pathLst>
                                      </a:custGeom>
                                      <a:blipFill rotWithShape="0">
                                        <a:blip r:embed="rId55"/>
                                        <a:srcRect/>
                                        <a:tile tx="0" ty="0" sx="100000" sy="100000" algn="ctr"/>
                                      </a:blipFill>
                                      <a:ln w="9360">
                                        <a:solidFill>
                                          <a:srgbClr val="c0c0c0"/>
                                        </a:solidFill>
                                        <a:round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  <p:sp>
                                    <p:nvSpPr>
                                      <p:cNvPr id="156" name=""/>
                                      <p:cNvSpPr/>
                                      <p:nvPr/>
                                    </p:nvSpPr>
                                    <p:spPr>
                                      <a:xfrm rot="21306000">
                                        <a:off x="2040120" y="1325160"/>
                                        <a:ext cx="165960" cy="173520"/>
                                      </a:xfrm>
                                      <a:custGeom>
                                        <a:avLst/>
                                        <a:gdLst/>
                                        <a:ahLst/>
                                        <a:rect l="l" t="t" r="r" b="b"/>
                                        <a:pathLst>
                                          <a:path w="1618" h="1793">
                                            <a:moveTo>
                                              <a:pt x="561" y="103"/>
                                            </a:moveTo>
                                            <a:lnTo>
                                              <a:pt x="613" y="167"/>
                                            </a:lnTo>
                                            <a:lnTo>
                                              <a:pt x="656" y="155"/>
                                            </a:lnTo>
                                            <a:lnTo>
                                              <a:pt x="686" y="155"/>
                                            </a:lnTo>
                                            <a:lnTo>
                                              <a:pt x="764" y="0"/>
                                            </a:lnTo>
                                            <a:lnTo>
                                              <a:pt x="846" y="94"/>
                                            </a:lnTo>
                                            <a:lnTo>
                                              <a:pt x="867" y="133"/>
                                            </a:lnTo>
                                            <a:lnTo>
                                              <a:pt x="889" y="155"/>
                                            </a:lnTo>
                                            <a:lnTo>
                                              <a:pt x="911" y="155"/>
                                            </a:lnTo>
                                            <a:lnTo>
                                              <a:pt x="962" y="60"/>
                                            </a:lnTo>
                                            <a:lnTo>
                                              <a:pt x="1006" y="30"/>
                                            </a:lnTo>
                                            <a:lnTo>
                                              <a:pt x="1057" y="133"/>
                                            </a:lnTo>
                                            <a:lnTo>
                                              <a:pt x="997" y="253"/>
                                            </a:lnTo>
                                            <a:lnTo>
                                              <a:pt x="932" y="305"/>
                                            </a:lnTo>
                                            <a:lnTo>
                                              <a:pt x="233" y="1066"/>
                                            </a:lnTo>
                                            <a:lnTo>
                                              <a:pt x="276" y="1169"/>
                                            </a:lnTo>
                                            <a:lnTo>
                                              <a:pt x="255" y="1191"/>
                                            </a:lnTo>
                                            <a:lnTo>
                                              <a:pt x="263" y="1199"/>
                                            </a:lnTo>
                                            <a:lnTo>
                                              <a:pt x="263" y="1221"/>
                                            </a:lnTo>
                                            <a:lnTo>
                                              <a:pt x="255" y="1221"/>
                                            </a:lnTo>
                                            <a:lnTo>
                                              <a:pt x="255" y="1264"/>
                                            </a:lnTo>
                                            <a:lnTo>
                                              <a:pt x="656" y="1475"/>
                                            </a:lnTo>
                                            <a:lnTo>
                                              <a:pt x="924" y="1483"/>
                                            </a:lnTo>
                                            <a:lnTo>
                                              <a:pt x="997" y="1453"/>
                                            </a:lnTo>
                                            <a:lnTo>
                                              <a:pt x="1006" y="1453"/>
                                            </a:lnTo>
                                            <a:lnTo>
                                              <a:pt x="1018" y="1445"/>
                                            </a:lnTo>
                                            <a:lnTo>
                                              <a:pt x="1057" y="1518"/>
                                            </a:lnTo>
                                            <a:lnTo>
                                              <a:pt x="1113" y="1531"/>
                                            </a:lnTo>
                                            <a:lnTo>
                                              <a:pt x="1290" y="1359"/>
                                            </a:lnTo>
                                            <a:lnTo>
                                              <a:pt x="1450" y="1380"/>
                                            </a:lnTo>
                                            <a:lnTo>
                                              <a:pt x="1545" y="1445"/>
                                            </a:lnTo>
                                            <a:lnTo>
                                              <a:pt x="1588" y="1466"/>
                                            </a:lnTo>
                                            <a:lnTo>
                                              <a:pt x="1618" y="1496"/>
                                            </a:lnTo>
                                            <a:lnTo>
                                              <a:pt x="1618" y="1518"/>
                                            </a:lnTo>
                                            <a:lnTo>
                                              <a:pt x="1131" y="1758"/>
                                            </a:lnTo>
                                            <a:lnTo>
                                              <a:pt x="997" y="1793"/>
                                            </a:lnTo>
                                            <a:lnTo>
                                              <a:pt x="380" y="1582"/>
                                            </a:lnTo>
                                            <a:lnTo>
                                              <a:pt x="43" y="1350"/>
                                            </a:lnTo>
                                            <a:lnTo>
                                              <a:pt x="0" y="1285"/>
                                            </a:lnTo>
                                            <a:lnTo>
                                              <a:pt x="9" y="937"/>
                                            </a:lnTo>
                                            <a:lnTo>
                                              <a:pt x="432" y="51"/>
                                            </a:lnTo>
                                            <a:lnTo>
                                              <a:pt x="479" y="0"/>
                                            </a:lnTo>
                                            <a:lnTo>
                                              <a:pt x="496" y="81"/>
                                            </a:lnTo>
                                            <a:lnTo>
                                              <a:pt x="561" y="103"/>
                                            </a:lnTo>
                                            <a:close/>
                                          </a:path>
                                        </a:pathLst>
                                      </a:custGeom>
                                      <a:blipFill rotWithShape="0">
                                        <a:blip r:embed="rId56"/>
                                        <a:srcRect/>
                                        <a:tile tx="0" ty="0" sx="100000" sy="100000" algn="ctr"/>
                                      </a:blipFill>
                                      <a:ln w="9360">
                                        <a:solidFill>
                                          <a:srgbClr val="c0c0c0"/>
                                        </a:solidFill>
                                        <a:round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  <p:sp>
                                    <p:nvSpPr>
                                      <p:cNvPr id="157" name=""/>
                                      <p:cNvSpPr/>
                                      <p:nvPr/>
                                    </p:nvSpPr>
                                    <p:spPr>
                                      <a:xfrm rot="21306000">
                                        <a:off x="2235960" y="1310760"/>
                                        <a:ext cx="84960" cy="147960"/>
                                      </a:xfrm>
                                      <a:custGeom>
                                        <a:avLst/>
                                        <a:gdLst/>
                                        <a:ahLst/>
                                        <a:rect l="l" t="t" r="r" b="b"/>
                                        <a:pathLst>
                                          <a:path w="828" h="1526">
                                            <a:moveTo>
                                              <a:pt x="0" y="426"/>
                                            </a:moveTo>
                                            <a:lnTo>
                                              <a:pt x="90" y="318"/>
                                            </a:lnTo>
                                            <a:lnTo>
                                              <a:pt x="151" y="318"/>
                                            </a:lnTo>
                                            <a:lnTo>
                                              <a:pt x="155" y="327"/>
                                            </a:lnTo>
                                            <a:lnTo>
                                              <a:pt x="155" y="335"/>
                                            </a:lnTo>
                                            <a:lnTo>
                                              <a:pt x="159" y="348"/>
                                            </a:lnTo>
                                            <a:lnTo>
                                              <a:pt x="163" y="357"/>
                                            </a:lnTo>
                                            <a:lnTo>
                                              <a:pt x="168" y="370"/>
                                            </a:lnTo>
                                            <a:lnTo>
                                              <a:pt x="168" y="378"/>
                                            </a:lnTo>
                                            <a:lnTo>
                                              <a:pt x="172" y="391"/>
                                            </a:lnTo>
                                            <a:lnTo>
                                              <a:pt x="172" y="400"/>
                                            </a:lnTo>
                                            <a:lnTo>
                                              <a:pt x="181" y="395"/>
                                            </a:lnTo>
                                            <a:lnTo>
                                              <a:pt x="189" y="391"/>
                                            </a:lnTo>
                                            <a:lnTo>
                                              <a:pt x="198" y="387"/>
                                            </a:lnTo>
                                            <a:lnTo>
                                              <a:pt x="207" y="378"/>
                                            </a:lnTo>
                                            <a:lnTo>
                                              <a:pt x="215" y="370"/>
                                            </a:lnTo>
                                            <a:lnTo>
                                              <a:pt x="228" y="365"/>
                                            </a:lnTo>
                                            <a:lnTo>
                                              <a:pt x="241" y="361"/>
                                            </a:lnTo>
                                            <a:lnTo>
                                              <a:pt x="254" y="357"/>
                                            </a:lnTo>
                                            <a:lnTo>
                                              <a:pt x="293" y="400"/>
                                            </a:lnTo>
                                            <a:lnTo>
                                              <a:pt x="302" y="400"/>
                                            </a:lnTo>
                                            <a:lnTo>
                                              <a:pt x="310" y="395"/>
                                            </a:lnTo>
                                            <a:lnTo>
                                              <a:pt x="319" y="391"/>
                                            </a:lnTo>
                                            <a:lnTo>
                                              <a:pt x="327" y="387"/>
                                            </a:lnTo>
                                            <a:lnTo>
                                              <a:pt x="332" y="383"/>
                                            </a:lnTo>
                                            <a:lnTo>
                                              <a:pt x="340" y="383"/>
                                            </a:lnTo>
                                            <a:lnTo>
                                              <a:pt x="349" y="378"/>
                                            </a:lnTo>
                                            <a:lnTo>
                                              <a:pt x="358" y="378"/>
                                            </a:lnTo>
                                            <a:lnTo>
                                              <a:pt x="358" y="460"/>
                                            </a:lnTo>
                                            <a:lnTo>
                                              <a:pt x="314" y="499"/>
                                            </a:lnTo>
                                            <a:lnTo>
                                              <a:pt x="314" y="524"/>
                                            </a:lnTo>
                                            <a:lnTo>
                                              <a:pt x="314" y="550"/>
                                            </a:lnTo>
                                            <a:lnTo>
                                              <a:pt x="314" y="580"/>
                                            </a:lnTo>
                                            <a:lnTo>
                                              <a:pt x="319" y="610"/>
                                            </a:lnTo>
                                            <a:lnTo>
                                              <a:pt x="319" y="641"/>
                                            </a:lnTo>
                                            <a:lnTo>
                                              <a:pt x="323" y="671"/>
                                            </a:lnTo>
                                            <a:lnTo>
                                              <a:pt x="327" y="701"/>
                                            </a:lnTo>
                                            <a:lnTo>
                                              <a:pt x="336" y="722"/>
                                            </a:lnTo>
                                            <a:lnTo>
                                              <a:pt x="349" y="727"/>
                                            </a:lnTo>
                                            <a:lnTo>
                                              <a:pt x="362" y="735"/>
                                            </a:lnTo>
                                            <a:lnTo>
                                              <a:pt x="375" y="752"/>
                                            </a:lnTo>
                                            <a:lnTo>
                                              <a:pt x="383" y="765"/>
                                            </a:lnTo>
                                            <a:lnTo>
                                              <a:pt x="392" y="782"/>
                                            </a:lnTo>
                                            <a:lnTo>
                                              <a:pt x="401" y="800"/>
                                            </a:lnTo>
                                            <a:lnTo>
                                              <a:pt x="409" y="817"/>
                                            </a:lnTo>
                                            <a:lnTo>
                                              <a:pt x="418" y="825"/>
                                            </a:lnTo>
                                            <a:lnTo>
                                              <a:pt x="422" y="881"/>
                                            </a:lnTo>
                                            <a:lnTo>
                                              <a:pt x="431" y="937"/>
                                            </a:lnTo>
                                            <a:lnTo>
                                              <a:pt x="444" y="997"/>
                                            </a:lnTo>
                                            <a:lnTo>
                                              <a:pt x="457" y="1053"/>
                                            </a:lnTo>
                                            <a:lnTo>
                                              <a:pt x="474" y="1109"/>
                                            </a:lnTo>
                                            <a:lnTo>
                                              <a:pt x="487" y="1161"/>
                                            </a:lnTo>
                                            <a:lnTo>
                                              <a:pt x="496" y="1212"/>
                                            </a:lnTo>
                                            <a:lnTo>
                                              <a:pt x="500" y="1251"/>
                                            </a:lnTo>
                                            <a:lnTo>
                                              <a:pt x="517" y="1273"/>
                                            </a:lnTo>
                                            <a:lnTo>
                                              <a:pt x="539" y="1294"/>
                                            </a:lnTo>
                                            <a:lnTo>
                                              <a:pt x="556" y="1294"/>
                                            </a:lnTo>
                                            <a:lnTo>
                                              <a:pt x="565" y="1298"/>
                                            </a:lnTo>
                                            <a:lnTo>
                                              <a:pt x="578" y="1307"/>
                                            </a:lnTo>
                                            <a:lnTo>
                                              <a:pt x="586" y="1311"/>
                                            </a:lnTo>
                                            <a:lnTo>
                                              <a:pt x="599" y="1320"/>
                                            </a:lnTo>
                                            <a:lnTo>
                                              <a:pt x="604" y="1329"/>
                                            </a:lnTo>
                                            <a:lnTo>
                                              <a:pt x="612" y="1333"/>
                                            </a:lnTo>
                                            <a:lnTo>
                                              <a:pt x="621" y="1333"/>
                                            </a:lnTo>
                                            <a:lnTo>
                                              <a:pt x="621" y="1359"/>
                                            </a:lnTo>
                                            <a:lnTo>
                                              <a:pt x="621" y="1380"/>
                                            </a:lnTo>
                                            <a:lnTo>
                                              <a:pt x="621" y="1406"/>
                                            </a:lnTo>
                                            <a:lnTo>
                                              <a:pt x="621" y="1432"/>
                                            </a:lnTo>
                                            <a:lnTo>
                                              <a:pt x="621" y="1453"/>
                                            </a:lnTo>
                                            <a:lnTo>
                                              <a:pt x="625" y="1479"/>
                                            </a:lnTo>
                                            <a:lnTo>
                                              <a:pt x="625" y="1505"/>
                                            </a:lnTo>
                                            <a:lnTo>
                                              <a:pt x="625" y="1526"/>
                                            </a:lnTo>
                                            <a:lnTo>
                                              <a:pt x="655" y="1479"/>
                                            </a:lnTo>
                                            <a:lnTo>
                                              <a:pt x="711" y="1307"/>
                                            </a:lnTo>
                                            <a:lnTo>
                                              <a:pt x="690" y="1195"/>
                                            </a:lnTo>
                                            <a:lnTo>
                                              <a:pt x="681" y="1088"/>
                                            </a:lnTo>
                                            <a:lnTo>
                                              <a:pt x="828" y="782"/>
                                            </a:lnTo>
                                            <a:lnTo>
                                              <a:pt x="711" y="675"/>
                                            </a:lnTo>
                                            <a:lnTo>
                                              <a:pt x="638" y="516"/>
                                            </a:lnTo>
                                            <a:lnTo>
                                              <a:pt x="625" y="211"/>
                                            </a:lnTo>
                                            <a:lnTo>
                                              <a:pt x="582" y="0"/>
                                            </a:lnTo>
                                            <a:lnTo>
                                              <a:pt x="522" y="21"/>
                                            </a:lnTo>
                                            <a:lnTo>
                                              <a:pt x="379" y="137"/>
                                            </a:lnTo>
                                            <a:lnTo>
                                              <a:pt x="371" y="129"/>
                                            </a:lnTo>
                                            <a:lnTo>
                                              <a:pt x="362" y="129"/>
                                            </a:lnTo>
                                            <a:lnTo>
                                              <a:pt x="297" y="180"/>
                                            </a:lnTo>
                                            <a:lnTo>
                                              <a:pt x="202" y="180"/>
                                            </a:lnTo>
                                            <a:lnTo>
                                              <a:pt x="94" y="241"/>
                                            </a:lnTo>
                                            <a:lnTo>
                                              <a:pt x="64" y="223"/>
                                            </a:lnTo>
                                            <a:lnTo>
                                              <a:pt x="30" y="305"/>
                                            </a:lnTo>
                                            <a:lnTo>
                                              <a:pt x="25" y="327"/>
                                            </a:lnTo>
                                            <a:lnTo>
                                              <a:pt x="25" y="344"/>
                                            </a:lnTo>
                                            <a:lnTo>
                                              <a:pt x="21" y="365"/>
                                            </a:lnTo>
                                            <a:lnTo>
                                              <a:pt x="17" y="383"/>
                                            </a:lnTo>
                                            <a:lnTo>
                                              <a:pt x="12" y="395"/>
                                            </a:lnTo>
                                            <a:lnTo>
                                              <a:pt x="8" y="413"/>
                                            </a:lnTo>
                                            <a:lnTo>
                                              <a:pt x="4" y="421"/>
                                            </a:lnTo>
                                            <a:lnTo>
                                              <a:pt x="0" y="430"/>
                                            </a:lnTo>
                                            <a:lnTo>
                                              <a:pt x="0" y="426"/>
                                            </a:lnTo>
                                            <a:close/>
                                          </a:path>
                                        </a:pathLst>
                                      </a:custGeom>
                                      <a:blipFill rotWithShape="0">
                                        <a:blip r:embed="rId57"/>
                                        <a:srcRect/>
                                        <a:tile tx="0" ty="0" sx="100000" sy="100000" algn="ctr"/>
                                      </a:blipFill>
                                      <a:ln w="9360">
                                        <a:solidFill>
                                          <a:srgbClr val="c0c0c0"/>
                                        </a:solidFill>
                                        <a:round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</p:grpSp>
                                <p:sp>
                                  <p:nvSpPr>
                                    <p:cNvPr id="158" name=""/>
                                    <p:cNvSpPr/>
                                    <p:nvPr/>
                                  </p:nvSpPr>
                                  <p:spPr>
                                    <a:xfrm rot="21306000">
                                      <a:off x="1968480" y="957600"/>
                                      <a:ext cx="74160" cy="3204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725" h="331">
                                          <a:moveTo>
                                            <a:pt x="13" y="133"/>
                                          </a:moveTo>
                                          <a:lnTo>
                                            <a:pt x="17" y="133"/>
                                          </a:lnTo>
                                          <a:lnTo>
                                            <a:pt x="22" y="129"/>
                                          </a:lnTo>
                                          <a:lnTo>
                                            <a:pt x="30" y="124"/>
                                          </a:lnTo>
                                          <a:lnTo>
                                            <a:pt x="39" y="120"/>
                                          </a:lnTo>
                                          <a:lnTo>
                                            <a:pt x="52" y="111"/>
                                          </a:lnTo>
                                          <a:lnTo>
                                            <a:pt x="61" y="107"/>
                                          </a:lnTo>
                                          <a:lnTo>
                                            <a:pt x="65" y="103"/>
                                          </a:lnTo>
                                          <a:lnTo>
                                            <a:pt x="69" y="98"/>
                                          </a:lnTo>
                                          <a:lnTo>
                                            <a:pt x="112" y="103"/>
                                          </a:lnTo>
                                          <a:lnTo>
                                            <a:pt x="155" y="103"/>
                                          </a:lnTo>
                                          <a:lnTo>
                                            <a:pt x="199" y="103"/>
                                          </a:lnTo>
                                          <a:lnTo>
                                            <a:pt x="242" y="107"/>
                                          </a:lnTo>
                                          <a:lnTo>
                                            <a:pt x="285" y="107"/>
                                          </a:lnTo>
                                          <a:lnTo>
                                            <a:pt x="328" y="111"/>
                                          </a:lnTo>
                                          <a:lnTo>
                                            <a:pt x="371" y="111"/>
                                          </a:lnTo>
                                          <a:lnTo>
                                            <a:pt x="419" y="111"/>
                                          </a:lnTo>
                                          <a:lnTo>
                                            <a:pt x="419" y="111"/>
                                          </a:lnTo>
                                          <a:lnTo>
                                            <a:pt x="419" y="111"/>
                                          </a:lnTo>
                                          <a:lnTo>
                                            <a:pt x="423" y="107"/>
                                          </a:lnTo>
                                          <a:lnTo>
                                            <a:pt x="427" y="103"/>
                                          </a:lnTo>
                                          <a:lnTo>
                                            <a:pt x="436" y="98"/>
                                          </a:lnTo>
                                          <a:lnTo>
                                            <a:pt x="440" y="94"/>
                                          </a:lnTo>
                                          <a:lnTo>
                                            <a:pt x="444" y="94"/>
                                          </a:lnTo>
                                          <a:lnTo>
                                            <a:pt x="449" y="90"/>
                                          </a:lnTo>
                                          <a:lnTo>
                                            <a:pt x="449" y="90"/>
                                          </a:lnTo>
                                          <a:lnTo>
                                            <a:pt x="449" y="86"/>
                                          </a:lnTo>
                                          <a:lnTo>
                                            <a:pt x="453" y="86"/>
                                          </a:lnTo>
                                          <a:lnTo>
                                            <a:pt x="457" y="81"/>
                                          </a:lnTo>
                                          <a:lnTo>
                                            <a:pt x="462" y="81"/>
                                          </a:lnTo>
                                          <a:lnTo>
                                            <a:pt x="466" y="77"/>
                                          </a:lnTo>
                                          <a:lnTo>
                                            <a:pt x="475" y="77"/>
                                          </a:lnTo>
                                          <a:lnTo>
                                            <a:pt x="479" y="77"/>
                                          </a:lnTo>
                                          <a:lnTo>
                                            <a:pt x="483" y="73"/>
                                          </a:lnTo>
                                          <a:lnTo>
                                            <a:pt x="496" y="60"/>
                                          </a:lnTo>
                                          <a:lnTo>
                                            <a:pt x="514" y="51"/>
                                          </a:lnTo>
                                          <a:lnTo>
                                            <a:pt x="535" y="38"/>
                                          </a:lnTo>
                                          <a:lnTo>
                                            <a:pt x="557" y="25"/>
                                          </a:lnTo>
                                          <a:lnTo>
                                            <a:pt x="578" y="17"/>
                                          </a:lnTo>
                                          <a:lnTo>
                                            <a:pt x="591" y="8"/>
                                          </a:lnTo>
                                          <a:lnTo>
                                            <a:pt x="604" y="0"/>
                                          </a:lnTo>
                                          <a:lnTo>
                                            <a:pt x="613" y="0"/>
                                          </a:lnTo>
                                          <a:lnTo>
                                            <a:pt x="621" y="0"/>
                                          </a:lnTo>
                                          <a:lnTo>
                                            <a:pt x="634" y="0"/>
                                          </a:lnTo>
                                          <a:lnTo>
                                            <a:pt x="647" y="4"/>
                                          </a:lnTo>
                                          <a:lnTo>
                                            <a:pt x="660" y="4"/>
                                          </a:lnTo>
                                          <a:lnTo>
                                            <a:pt x="669" y="8"/>
                                          </a:lnTo>
                                          <a:lnTo>
                                            <a:pt x="677" y="12"/>
                                          </a:lnTo>
                                          <a:lnTo>
                                            <a:pt x="682" y="21"/>
                                          </a:lnTo>
                                          <a:lnTo>
                                            <a:pt x="686" y="21"/>
                                          </a:lnTo>
                                          <a:lnTo>
                                            <a:pt x="690" y="25"/>
                                          </a:lnTo>
                                          <a:lnTo>
                                            <a:pt x="695" y="34"/>
                                          </a:lnTo>
                                          <a:lnTo>
                                            <a:pt x="699" y="38"/>
                                          </a:lnTo>
                                          <a:lnTo>
                                            <a:pt x="699" y="47"/>
                                          </a:lnTo>
                                          <a:lnTo>
                                            <a:pt x="699" y="55"/>
                                          </a:lnTo>
                                          <a:lnTo>
                                            <a:pt x="699" y="60"/>
                                          </a:lnTo>
                                          <a:lnTo>
                                            <a:pt x="703" y="64"/>
                                          </a:lnTo>
                                          <a:lnTo>
                                            <a:pt x="703" y="64"/>
                                          </a:lnTo>
                                          <a:lnTo>
                                            <a:pt x="703" y="64"/>
                                          </a:lnTo>
                                          <a:lnTo>
                                            <a:pt x="708" y="64"/>
                                          </a:lnTo>
                                          <a:lnTo>
                                            <a:pt x="708" y="64"/>
                                          </a:lnTo>
                                          <a:lnTo>
                                            <a:pt x="708" y="64"/>
                                          </a:lnTo>
                                          <a:lnTo>
                                            <a:pt x="708" y="64"/>
                                          </a:lnTo>
                                          <a:lnTo>
                                            <a:pt x="712" y="64"/>
                                          </a:lnTo>
                                          <a:lnTo>
                                            <a:pt x="712" y="64"/>
                                          </a:lnTo>
                                          <a:lnTo>
                                            <a:pt x="721" y="81"/>
                                          </a:lnTo>
                                          <a:lnTo>
                                            <a:pt x="725" y="98"/>
                                          </a:lnTo>
                                          <a:lnTo>
                                            <a:pt x="721" y="116"/>
                                          </a:lnTo>
                                          <a:lnTo>
                                            <a:pt x="716" y="133"/>
                                          </a:lnTo>
                                          <a:lnTo>
                                            <a:pt x="699" y="163"/>
                                          </a:lnTo>
                                          <a:lnTo>
                                            <a:pt x="673" y="193"/>
                                          </a:lnTo>
                                          <a:lnTo>
                                            <a:pt x="643" y="219"/>
                                          </a:lnTo>
                                          <a:lnTo>
                                            <a:pt x="617" y="240"/>
                                          </a:lnTo>
                                          <a:lnTo>
                                            <a:pt x="595" y="258"/>
                                          </a:lnTo>
                                          <a:lnTo>
                                            <a:pt x="587" y="275"/>
                                          </a:lnTo>
                                          <a:lnTo>
                                            <a:pt x="548" y="279"/>
                                          </a:lnTo>
                                          <a:lnTo>
                                            <a:pt x="505" y="288"/>
                                          </a:lnTo>
                                          <a:lnTo>
                                            <a:pt x="466" y="301"/>
                                          </a:lnTo>
                                          <a:lnTo>
                                            <a:pt x="427" y="313"/>
                                          </a:lnTo>
                                          <a:lnTo>
                                            <a:pt x="384" y="322"/>
                                          </a:lnTo>
                                          <a:lnTo>
                                            <a:pt x="341" y="331"/>
                                          </a:lnTo>
                                          <a:lnTo>
                                            <a:pt x="293" y="331"/>
                                          </a:lnTo>
                                          <a:lnTo>
                                            <a:pt x="246" y="326"/>
                                          </a:lnTo>
                                          <a:lnTo>
                                            <a:pt x="229" y="322"/>
                                          </a:lnTo>
                                          <a:lnTo>
                                            <a:pt x="207" y="318"/>
                                          </a:lnTo>
                                          <a:lnTo>
                                            <a:pt x="186" y="313"/>
                                          </a:lnTo>
                                          <a:lnTo>
                                            <a:pt x="164" y="305"/>
                                          </a:lnTo>
                                          <a:lnTo>
                                            <a:pt x="142" y="301"/>
                                          </a:lnTo>
                                          <a:lnTo>
                                            <a:pt x="121" y="296"/>
                                          </a:lnTo>
                                          <a:lnTo>
                                            <a:pt x="104" y="292"/>
                                          </a:lnTo>
                                          <a:lnTo>
                                            <a:pt x="82" y="292"/>
                                          </a:lnTo>
                                          <a:lnTo>
                                            <a:pt x="82" y="288"/>
                                          </a:lnTo>
                                          <a:lnTo>
                                            <a:pt x="78" y="283"/>
                                          </a:lnTo>
                                          <a:lnTo>
                                            <a:pt x="73" y="279"/>
                                          </a:lnTo>
                                          <a:lnTo>
                                            <a:pt x="69" y="275"/>
                                          </a:lnTo>
                                          <a:lnTo>
                                            <a:pt x="61" y="270"/>
                                          </a:lnTo>
                                          <a:lnTo>
                                            <a:pt x="56" y="266"/>
                                          </a:lnTo>
                                          <a:lnTo>
                                            <a:pt x="52" y="262"/>
                                          </a:lnTo>
                                          <a:lnTo>
                                            <a:pt x="52" y="258"/>
                                          </a:lnTo>
                                          <a:lnTo>
                                            <a:pt x="48" y="253"/>
                                          </a:lnTo>
                                          <a:lnTo>
                                            <a:pt x="43" y="249"/>
                                          </a:lnTo>
                                          <a:lnTo>
                                            <a:pt x="39" y="245"/>
                                          </a:lnTo>
                                          <a:lnTo>
                                            <a:pt x="35" y="240"/>
                                          </a:lnTo>
                                          <a:lnTo>
                                            <a:pt x="30" y="236"/>
                                          </a:lnTo>
                                          <a:lnTo>
                                            <a:pt x="26" y="232"/>
                                          </a:lnTo>
                                          <a:lnTo>
                                            <a:pt x="26" y="232"/>
                                          </a:lnTo>
                                          <a:lnTo>
                                            <a:pt x="22" y="227"/>
                                          </a:lnTo>
                                          <a:lnTo>
                                            <a:pt x="22" y="210"/>
                                          </a:lnTo>
                                          <a:lnTo>
                                            <a:pt x="17" y="197"/>
                                          </a:lnTo>
                                          <a:lnTo>
                                            <a:pt x="13" y="184"/>
                                          </a:lnTo>
                                          <a:lnTo>
                                            <a:pt x="4" y="172"/>
                                          </a:lnTo>
                                          <a:lnTo>
                                            <a:pt x="4" y="159"/>
                                          </a:lnTo>
                                          <a:lnTo>
                                            <a:pt x="0" y="150"/>
                                          </a:lnTo>
                                          <a:lnTo>
                                            <a:pt x="4" y="141"/>
                                          </a:lnTo>
                                          <a:lnTo>
                                            <a:pt x="13" y="133"/>
                                          </a:lnTo>
                                          <a:close/>
                                        </a:path>
                                      </a:pathLst>
                                    </a:custGeom>
                                    <a:blipFill rotWithShape="0">
                                      <a:blip r:embed="rId58"/>
                                      <a:srcRect/>
                                      <a:tile tx="0" ty="0" sx="100000" sy="100000" algn="ctr"/>
                                    </a:blipFill>
                                    <a:ln w="9360">
                                      <a:solidFill>
                                        <a:srgbClr val="c0c0c0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14760" bIns="-1476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sp>
                              <p:nvSpPr>
                                <p:cNvPr id="159" name=""/>
                                <p:cNvSpPr/>
                                <p:nvPr/>
                              </p:nvSpPr>
                              <p:spPr>
                                <a:xfrm rot="21306000">
                                  <a:off x="1926720" y="929880"/>
                                  <a:ext cx="554040" cy="67788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5410" h="7005">
                                      <a:moveTo>
                                        <a:pt x="1738" y="73"/>
                                      </a:moveTo>
                                      <a:lnTo>
                                        <a:pt x="1790" y="306"/>
                                      </a:lnTo>
                                      <a:lnTo>
                                        <a:pt x="1777" y="654"/>
                                      </a:lnTo>
                                      <a:lnTo>
                                        <a:pt x="1600" y="1338"/>
                                      </a:lnTo>
                                      <a:lnTo>
                                        <a:pt x="1600" y="1781"/>
                                      </a:lnTo>
                                      <a:lnTo>
                                        <a:pt x="1704" y="1991"/>
                                      </a:lnTo>
                                      <a:lnTo>
                                        <a:pt x="1769" y="2013"/>
                                      </a:lnTo>
                                      <a:lnTo>
                                        <a:pt x="2088" y="1875"/>
                                      </a:lnTo>
                                      <a:lnTo>
                                        <a:pt x="2498" y="1845"/>
                                      </a:lnTo>
                                      <a:lnTo>
                                        <a:pt x="2554" y="1867"/>
                                      </a:lnTo>
                                      <a:lnTo>
                                        <a:pt x="2657" y="1867"/>
                                      </a:lnTo>
                                      <a:lnTo>
                                        <a:pt x="3132" y="1931"/>
                                      </a:lnTo>
                                      <a:lnTo>
                                        <a:pt x="3503" y="1858"/>
                                      </a:lnTo>
                                      <a:lnTo>
                                        <a:pt x="3632" y="1836"/>
                                      </a:lnTo>
                                      <a:lnTo>
                                        <a:pt x="4047" y="1867"/>
                                      </a:lnTo>
                                      <a:lnTo>
                                        <a:pt x="4405" y="1961"/>
                                      </a:lnTo>
                                      <a:lnTo>
                                        <a:pt x="4763" y="2086"/>
                                      </a:lnTo>
                                      <a:lnTo>
                                        <a:pt x="4996" y="2013"/>
                                      </a:lnTo>
                                      <a:lnTo>
                                        <a:pt x="5147" y="2034"/>
                                      </a:lnTo>
                                      <a:lnTo>
                                        <a:pt x="5280" y="2142"/>
                                      </a:lnTo>
                                      <a:lnTo>
                                        <a:pt x="5367" y="2258"/>
                                      </a:lnTo>
                                      <a:lnTo>
                                        <a:pt x="5410" y="2434"/>
                                      </a:lnTo>
                                      <a:lnTo>
                                        <a:pt x="5354" y="2765"/>
                                      </a:lnTo>
                                      <a:lnTo>
                                        <a:pt x="5337" y="2890"/>
                                      </a:lnTo>
                                      <a:lnTo>
                                        <a:pt x="5354" y="2997"/>
                                      </a:lnTo>
                                      <a:lnTo>
                                        <a:pt x="5337" y="3019"/>
                                      </a:lnTo>
                                      <a:lnTo>
                                        <a:pt x="5280" y="2963"/>
                                      </a:lnTo>
                                      <a:lnTo>
                                        <a:pt x="5220" y="2963"/>
                                      </a:lnTo>
                                      <a:lnTo>
                                        <a:pt x="5186" y="2860"/>
                                      </a:lnTo>
                                      <a:lnTo>
                                        <a:pt x="5147" y="2795"/>
                                      </a:lnTo>
                                      <a:lnTo>
                                        <a:pt x="5147" y="2731"/>
                                      </a:lnTo>
                                      <a:lnTo>
                                        <a:pt x="5112" y="2709"/>
                                      </a:lnTo>
                                      <a:lnTo>
                                        <a:pt x="5112" y="2542"/>
                                      </a:lnTo>
                                      <a:lnTo>
                                        <a:pt x="4965" y="2340"/>
                                      </a:lnTo>
                                      <a:lnTo>
                                        <a:pt x="4957" y="2331"/>
                                      </a:lnTo>
                                      <a:lnTo>
                                        <a:pt x="4935" y="2352"/>
                                      </a:lnTo>
                                      <a:lnTo>
                                        <a:pt x="4957" y="2417"/>
                                      </a:lnTo>
                                      <a:lnTo>
                                        <a:pt x="5069" y="2576"/>
                                      </a:lnTo>
                                      <a:lnTo>
                                        <a:pt x="5030" y="2615"/>
                                      </a:lnTo>
                                      <a:lnTo>
                                        <a:pt x="5052" y="2744"/>
                                      </a:lnTo>
                                      <a:lnTo>
                                        <a:pt x="5082" y="2774"/>
                                      </a:lnTo>
                                      <a:lnTo>
                                        <a:pt x="5082" y="2868"/>
                                      </a:lnTo>
                                      <a:lnTo>
                                        <a:pt x="5112" y="2924"/>
                                      </a:lnTo>
                                      <a:lnTo>
                                        <a:pt x="5104" y="3019"/>
                                      </a:lnTo>
                                      <a:lnTo>
                                        <a:pt x="5134" y="3079"/>
                                      </a:lnTo>
                                      <a:lnTo>
                                        <a:pt x="5125" y="3122"/>
                                      </a:lnTo>
                                      <a:lnTo>
                                        <a:pt x="5155" y="3217"/>
                                      </a:lnTo>
                                      <a:lnTo>
                                        <a:pt x="5112" y="3260"/>
                                      </a:lnTo>
                                      <a:lnTo>
                                        <a:pt x="5147" y="3333"/>
                                      </a:lnTo>
                                      <a:lnTo>
                                        <a:pt x="5091" y="3397"/>
                                      </a:lnTo>
                                      <a:lnTo>
                                        <a:pt x="5091" y="3449"/>
                                      </a:lnTo>
                                      <a:lnTo>
                                        <a:pt x="5030" y="3513"/>
                                      </a:lnTo>
                                      <a:lnTo>
                                        <a:pt x="5091" y="3595"/>
                                      </a:lnTo>
                                      <a:lnTo>
                                        <a:pt x="5009" y="3673"/>
                                      </a:lnTo>
                                      <a:lnTo>
                                        <a:pt x="4996" y="3681"/>
                                      </a:lnTo>
                                      <a:lnTo>
                                        <a:pt x="4996" y="3716"/>
                                      </a:lnTo>
                                      <a:lnTo>
                                        <a:pt x="5017" y="3737"/>
                                      </a:lnTo>
                                      <a:lnTo>
                                        <a:pt x="4987" y="3819"/>
                                      </a:lnTo>
                                      <a:lnTo>
                                        <a:pt x="4987" y="3840"/>
                                      </a:lnTo>
                                      <a:lnTo>
                                        <a:pt x="4996" y="3849"/>
                                      </a:lnTo>
                                      <a:lnTo>
                                        <a:pt x="4836" y="4008"/>
                                      </a:lnTo>
                                      <a:lnTo>
                                        <a:pt x="4879" y="4103"/>
                                      </a:lnTo>
                                      <a:lnTo>
                                        <a:pt x="4763" y="4232"/>
                                      </a:lnTo>
                                      <a:lnTo>
                                        <a:pt x="4763" y="4283"/>
                                      </a:lnTo>
                                      <a:lnTo>
                                        <a:pt x="4711" y="4335"/>
                                      </a:lnTo>
                                      <a:lnTo>
                                        <a:pt x="4711" y="4305"/>
                                      </a:lnTo>
                                      <a:lnTo>
                                        <a:pt x="4689" y="4283"/>
                                      </a:lnTo>
                                      <a:lnTo>
                                        <a:pt x="4659" y="4292"/>
                                      </a:lnTo>
                                      <a:lnTo>
                                        <a:pt x="4625" y="4335"/>
                                      </a:lnTo>
                                      <a:lnTo>
                                        <a:pt x="4646" y="4386"/>
                                      </a:lnTo>
                                      <a:lnTo>
                                        <a:pt x="4668" y="4696"/>
                                      </a:lnTo>
                                      <a:lnTo>
                                        <a:pt x="4814" y="4971"/>
                                      </a:lnTo>
                                      <a:lnTo>
                                        <a:pt x="4879" y="5031"/>
                                      </a:lnTo>
                                      <a:lnTo>
                                        <a:pt x="4836" y="5350"/>
                                      </a:lnTo>
                                      <a:lnTo>
                                        <a:pt x="4776" y="5633"/>
                                      </a:lnTo>
                                      <a:lnTo>
                                        <a:pt x="4720" y="6106"/>
                                      </a:lnTo>
                                      <a:lnTo>
                                        <a:pt x="4720" y="6648"/>
                                      </a:lnTo>
                                      <a:lnTo>
                                        <a:pt x="4733" y="6657"/>
                                      </a:lnTo>
                                      <a:lnTo>
                                        <a:pt x="4702" y="6764"/>
                                      </a:lnTo>
                                      <a:lnTo>
                                        <a:pt x="4625" y="6889"/>
                                      </a:lnTo>
                                      <a:lnTo>
                                        <a:pt x="4646" y="6953"/>
                                      </a:lnTo>
                                      <a:lnTo>
                                        <a:pt x="4638" y="6984"/>
                                      </a:lnTo>
                                      <a:lnTo>
                                        <a:pt x="4465" y="7005"/>
                                      </a:lnTo>
                                      <a:lnTo>
                                        <a:pt x="4426" y="6984"/>
                                      </a:lnTo>
                                      <a:lnTo>
                                        <a:pt x="4141" y="7005"/>
                                      </a:lnTo>
                                      <a:lnTo>
                                        <a:pt x="4141" y="6945"/>
                                      </a:lnTo>
                                      <a:lnTo>
                                        <a:pt x="4236" y="6859"/>
                                      </a:lnTo>
                                      <a:lnTo>
                                        <a:pt x="4310" y="6837"/>
                                      </a:lnTo>
                                      <a:lnTo>
                                        <a:pt x="4426" y="6751"/>
                                      </a:lnTo>
                                      <a:lnTo>
                                        <a:pt x="4478" y="6635"/>
                                      </a:lnTo>
                                      <a:lnTo>
                                        <a:pt x="4512" y="6403"/>
                                      </a:lnTo>
                                      <a:lnTo>
                                        <a:pt x="4478" y="5547"/>
                                      </a:lnTo>
                                      <a:lnTo>
                                        <a:pt x="4405" y="5294"/>
                                      </a:lnTo>
                                      <a:lnTo>
                                        <a:pt x="4370" y="5212"/>
                                      </a:lnTo>
                                      <a:lnTo>
                                        <a:pt x="4288" y="5117"/>
                                      </a:lnTo>
                                      <a:lnTo>
                                        <a:pt x="4107" y="4864"/>
                                      </a:lnTo>
                                      <a:lnTo>
                                        <a:pt x="3926" y="4717"/>
                                      </a:lnTo>
                                      <a:lnTo>
                                        <a:pt x="3736" y="4601"/>
                                      </a:lnTo>
                                      <a:lnTo>
                                        <a:pt x="3624" y="4442"/>
                                      </a:lnTo>
                                      <a:lnTo>
                                        <a:pt x="3602" y="4189"/>
                                      </a:lnTo>
                                      <a:lnTo>
                                        <a:pt x="3589" y="3986"/>
                                      </a:lnTo>
                                      <a:lnTo>
                                        <a:pt x="3503" y="3724"/>
                                      </a:lnTo>
                                      <a:lnTo>
                                        <a:pt x="3494" y="3716"/>
                                      </a:lnTo>
                                      <a:lnTo>
                                        <a:pt x="3473" y="3716"/>
                                      </a:lnTo>
                                      <a:lnTo>
                                        <a:pt x="3451" y="3660"/>
                                      </a:lnTo>
                                      <a:lnTo>
                                        <a:pt x="3421" y="3630"/>
                                      </a:lnTo>
                                      <a:lnTo>
                                        <a:pt x="3335" y="3617"/>
                                      </a:lnTo>
                                      <a:lnTo>
                                        <a:pt x="3313" y="3642"/>
                                      </a:lnTo>
                                      <a:lnTo>
                                        <a:pt x="3313" y="3660"/>
                                      </a:lnTo>
                                      <a:lnTo>
                                        <a:pt x="3348" y="3690"/>
                                      </a:lnTo>
                                      <a:lnTo>
                                        <a:pt x="3399" y="3690"/>
                                      </a:lnTo>
                                      <a:lnTo>
                                        <a:pt x="3473" y="3819"/>
                                      </a:lnTo>
                                      <a:lnTo>
                                        <a:pt x="3421" y="3810"/>
                                      </a:lnTo>
                                      <a:lnTo>
                                        <a:pt x="3386" y="3892"/>
                                      </a:lnTo>
                                      <a:lnTo>
                                        <a:pt x="3335" y="3905"/>
                                      </a:lnTo>
                                      <a:lnTo>
                                        <a:pt x="3313" y="3956"/>
                                      </a:lnTo>
                                      <a:lnTo>
                                        <a:pt x="3292" y="3935"/>
                                      </a:lnTo>
                                      <a:lnTo>
                                        <a:pt x="3274" y="3935"/>
                                      </a:lnTo>
                                      <a:lnTo>
                                        <a:pt x="3218" y="4021"/>
                                      </a:lnTo>
                                      <a:lnTo>
                                        <a:pt x="3188" y="4029"/>
                                      </a:lnTo>
                                      <a:lnTo>
                                        <a:pt x="3153" y="4029"/>
                                      </a:lnTo>
                                      <a:lnTo>
                                        <a:pt x="3153" y="4021"/>
                                      </a:lnTo>
                                      <a:lnTo>
                                        <a:pt x="3132" y="3999"/>
                                      </a:lnTo>
                                      <a:lnTo>
                                        <a:pt x="3102" y="3999"/>
                                      </a:lnTo>
                                      <a:lnTo>
                                        <a:pt x="3080" y="4038"/>
                                      </a:lnTo>
                                      <a:lnTo>
                                        <a:pt x="3037" y="4072"/>
                                      </a:lnTo>
                                      <a:lnTo>
                                        <a:pt x="2998" y="4051"/>
                                      </a:lnTo>
                                      <a:lnTo>
                                        <a:pt x="2985" y="4038"/>
                                      </a:lnTo>
                                      <a:lnTo>
                                        <a:pt x="2912" y="4115"/>
                                      </a:lnTo>
                                      <a:lnTo>
                                        <a:pt x="2869" y="4115"/>
                                      </a:lnTo>
                                      <a:lnTo>
                                        <a:pt x="2856" y="4085"/>
                                      </a:lnTo>
                                      <a:lnTo>
                                        <a:pt x="2847" y="4072"/>
                                      </a:lnTo>
                                      <a:lnTo>
                                        <a:pt x="2826" y="4072"/>
                                      </a:lnTo>
                                      <a:lnTo>
                                        <a:pt x="2795" y="4124"/>
                                      </a:lnTo>
                                      <a:lnTo>
                                        <a:pt x="2774" y="4146"/>
                                      </a:lnTo>
                                      <a:lnTo>
                                        <a:pt x="2731" y="4115"/>
                                      </a:lnTo>
                                      <a:lnTo>
                                        <a:pt x="2649" y="4167"/>
                                      </a:lnTo>
                                      <a:lnTo>
                                        <a:pt x="2614" y="4158"/>
                                      </a:lnTo>
                                      <a:lnTo>
                                        <a:pt x="2593" y="4158"/>
                                      </a:lnTo>
                                      <a:lnTo>
                                        <a:pt x="2571" y="4197"/>
                                      </a:lnTo>
                                      <a:lnTo>
                                        <a:pt x="2541" y="4232"/>
                                      </a:lnTo>
                                      <a:lnTo>
                                        <a:pt x="2519" y="4197"/>
                                      </a:lnTo>
                                      <a:lnTo>
                                        <a:pt x="2489" y="4167"/>
                                      </a:lnTo>
                                      <a:lnTo>
                                        <a:pt x="2437" y="4219"/>
                                      </a:lnTo>
                                      <a:lnTo>
                                        <a:pt x="2364" y="4219"/>
                                      </a:lnTo>
                                      <a:lnTo>
                                        <a:pt x="2364" y="4210"/>
                                      </a:lnTo>
                                      <a:lnTo>
                                        <a:pt x="2351" y="4197"/>
                                      </a:lnTo>
                                      <a:lnTo>
                                        <a:pt x="2308" y="4262"/>
                                      </a:lnTo>
                                      <a:lnTo>
                                        <a:pt x="2278" y="4253"/>
                                      </a:lnTo>
                                      <a:lnTo>
                                        <a:pt x="2256" y="4283"/>
                                      </a:lnTo>
                                      <a:lnTo>
                                        <a:pt x="2256" y="4292"/>
                                      </a:lnTo>
                                      <a:lnTo>
                                        <a:pt x="2235" y="4292"/>
                                      </a:lnTo>
                                      <a:lnTo>
                                        <a:pt x="2235" y="4283"/>
                                      </a:lnTo>
                                      <a:lnTo>
                                        <a:pt x="2213" y="4262"/>
                                      </a:lnTo>
                                      <a:lnTo>
                                        <a:pt x="2161" y="4283"/>
                                      </a:lnTo>
                                      <a:lnTo>
                                        <a:pt x="2140" y="4283"/>
                                      </a:lnTo>
                                      <a:lnTo>
                                        <a:pt x="2118" y="4262"/>
                                      </a:lnTo>
                                      <a:lnTo>
                                        <a:pt x="2109" y="4275"/>
                                      </a:lnTo>
                                      <a:lnTo>
                                        <a:pt x="2109" y="4305"/>
                                      </a:lnTo>
                                      <a:lnTo>
                                        <a:pt x="2053" y="4262"/>
                                      </a:lnTo>
                                      <a:lnTo>
                                        <a:pt x="2032" y="4292"/>
                                      </a:lnTo>
                                      <a:lnTo>
                                        <a:pt x="1980" y="4275"/>
                                      </a:lnTo>
                                      <a:lnTo>
                                        <a:pt x="1967" y="4262"/>
                                      </a:lnTo>
                                      <a:lnTo>
                                        <a:pt x="2096" y="4103"/>
                                      </a:lnTo>
                                      <a:lnTo>
                                        <a:pt x="2127" y="4038"/>
                                      </a:lnTo>
                                      <a:lnTo>
                                        <a:pt x="2075" y="3956"/>
                                      </a:lnTo>
                                      <a:lnTo>
                                        <a:pt x="2053" y="3840"/>
                                      </a:lnTo>
                                      <a:lnTo>
                                        <a:pt x="2045" y="3832"/>
                                      </a:lnTo>
                                      <a:lnTo>
                                        <a:pt x="2014" y="3832"/>
                                      </a:lnTo>
                                      <a:lnTo>
                                        <a:pt x="1980" y="3905"/>
                                      </a:lnTo>
                                      <a:lnTo>
                                        <a:pt x="1894" y="3965"/>
                                      </a:lnTo>
                                      <a:lnTo>
                                        <a:pt x="1885" y="3978"/>
                                      </a:lnTo>
                                      <a:lnTo>
                                        <a:pt x="1863" y="3905"/>
                                      </a:lnTo>
                                      <a:lnTo>
                                        <a:pt x="1833" y="3870"/>
                                      </a:lnTo>
                                      <a:lnTo>
                                        <a:pt x="1812" y="3892"/>
                                      </a:lnTo>
                                      <a:lnTo>
                                        <a:pt x="1777" y="3870"/>
                                      </a:lnTo>
                                      <a:lnTo>
                                        <a:pt x="1760" y="3849"/>
                                      </a:lnTo>
                                      <a:lnTo>
                                        <a:pt x="1674" y="3965"/>
                                      </a:lnTo>
                                      <a:lnTo>
                                        <a:pt x="1665" y="3986"/>
                                      </a:lnTo>
                                      <a:lnTo>
                                        <a:pt x="1643" y="4008"/>
                                      </a:lnTo>
                                      <a:lnTo>
                                        <a:pt x="1523" y="3943"/>
                                      </a:lnTo>
                                      <a:lnTo>
                                        <a:pt x="1536" y="3892"/>
                                      </a:lnTo>
                                      <a:lnTo>
                                        <a:pt x="1536" y="3862"/>
                                      </a:lnTo>
                                      <a:lnTo>
                                        <a:pt x="1505" y="3832"/>
                                      </a:lnTo>
                                      <a:lnTo>
                                        <a:pt x="1346" y="3986"/>
                                      </a:lnTo>
                                      <a:lnTo>
                                        <a:pt x="1281" y="4124"/>
                                      </a:lnTo>
                                      <a:lnTo>
                                        <a:pt x="1221" y="4133"/>
                                      </a:lnTo>
                                      <a:lnTo>
                                        <a:pt x="1113" y="3986"/>
                                      </a:lnTo>
                                      <a:lnTo>
                                        <a:pt x="1078" y="3986"/>
                                      </a:lnTo>
                                      <a:lnTo>
                                        <a:pt x="1078" y="4085"/>
                                      </a:lnTo>
                                      <a:lnTo>
                                        <a:pt x="996" y="3986"/>
                                      </a:lnTo>
                                      <a:lnTo>
                                        <a:pt x="983" y="3956"/>
                                      </a:lnTo>
                                      <a:lnTo>
                                        <a:pt x="962" y="3935"/>
                                      </a:lnTo>
                                      <a:lnTo>
                                        <a:pt x="923" y="3978"/>
                                      </a:lnTo>
                                      <a:lnTo>
                                        <a:pt x="880" y="3870"/>
                                      </a:lnTo>
                                      <a:lnTo>
                                        <a:pt x="858" y="3849"/>
                                      </a:lnTo>
                                      <a:lnTo>
                                        <a:pt x="837" y="3862"/>
                                      </a:lnTo>
                                      <a:lnTo>
                                        <a:pt x="815" y="3883"/>
                                      </a:lnTo>
                                      <a:lnTo>
                                        <a:pt x="815" y="3965"/>
                                      </a:lnTo>
                                      <a:lnTo>
                                        <a:pt x="772" y="3849"/>
                                      </a:lnTo>
                                      <a:lnTo>
                                        <a:pt x="763" y="3767"/>
                                      </a:lnTo>
                                      <a:lnTo>
                                        <a:pt x="742" y="3754"/>
                                      </a:lnTo>
                                      <a:lnTo>
                                        <a:pt x="668" y="3789"/>
                                      </a:lnTo>
                                      <a:lnTo>
                                        <a:pt x="561" y="3673"/>
                                      </a:lnTo>
                                      <a:lnTo>
                                        <a:pt x="530" y="3673"/>
                                      </a:lnTo>
                                      <a:lnTo>
                                        <a:pt x="444" y="3565"/>
                                      </a:lnTo>
                                      <a:lnTo>
                                        <a:pt x="414" y="3565"/>
                                      </a:lnTo>
                                      <a:lnTo>
                                        <a:pt x="341" y="3354"/>
                                      </a:lnTo>
                                      <a:lnTo>
                                        <a:pt x="310" y="3354"/>
                                      </a:lnTo>
                                      <a:lnTo>
                                        <a:pt x="284" y="3376"/>
                                      </a:lnTo>
                                      <a:lnTo>
                                        <a:pt x="284" y="3440"/>
                                      </a:lnTo>
                                      <a:lnTo>
                                        <a:pt x="246" y="3122"/>
                                      </a:lnTo>
                                      <a:lnTo>
                                        <a:pt x="233" y="3114"/>
                                      </a:lnTo>
                                      <a:lnTo>
                                        <a:pt x="211" y="3114"/>
                                      </a:lnTo>
                                      <a:lnTo>
                                        <a:pt x="190" y="3131"/>
                                      </a:lnTo>
                                      <a:lnTo>
                                        <a:pt x="190" y="3165"/>
                                      </a:lnTo>
                                      <a:lnTo>
                                        <a:pt x="168" y="2911"/>
                                      </a:lnTo>
                                      <a:lnTo>
                                        <a:pt x="168" y="2825"/>
                                      </a:lnTo>
                                      <a:lnTo>
                                        <a:pt x="159" y="2817"/>
                                      </a:lnTo>
                                      <a:lnTo>
                                        <a:pt x="138" y="2817"/>
                                      </a:lnTo>
                                      <a:lnTo>
                                        <a:pt x="108" y="2868"/>
                                      </a:lnTo>
                                      <a:lnTo>
                                        <a:pt x="116" y="2658"/>
                                      </a:lnTo>
                                      <a:lnTo>
                                        <a:pt x="95" y="2636"/>
                                      </a:lnTo>
                                      <a:lnTo>
                                        <a:pt x="73" y="2636"/>
                                      </a:lnTo>
                                      <a:lnTo>
                                        <a:pt x="34" y="2731"/>
                                      </a:lnTo>
                                      <a:lnTo>
                                        <a:pt x="43" y="2490"/>
                                      </a:lnTo>
                                      <a:lnTo>
                                        <a:pt x="56" y="2469"/>
                                      </a:lnTo>
                                      <a:lnTo>
                                        <a:pt x="56" y="2434"/>
                                      </a:lnTo>
                                      <a:lnTo>
                                        <a:pt x="13" y="2404"/>
                                      </a:lnTo>
                                      <a:lnTo>
                                        <a:pt x="86" y="2129"/>
                                      </a:lnTo>
                                      <a:lnTo>
                                        <a:pt x="86" y="2112"/>
                                      </a:lnTo>
                                      <a:lnTo>
                                        <a:pt x="64" y="2086"/>
                                      </a:lnTo>
                                      <a:lnTo>
                                        <a:pt x="43" y="2086"/>
                                      </a:lnTo>
                                      <a:lnTo>
                                        <a:pt x="0" y="2159"/>
                                      </a:lnTo>
                                      <a:lnTo>
                                        <a:pt x="108" y="1815"/>
                                      </a:lnTo>
                                      <a:lnTo>
                                        <a:pt x="73" y="1781"/>
                                      </a:lnTo>
                                      <a:lnTo>
                                        <a:pt x="0" y="1875"/>
                                      </a:lnTo>
                                      <a:lnTo>
                                        <a:pt x="95" y="1634"/>
                                      </a:lnTo>
                                      <a:lnTo>
                                        <a:pt x="181" y="1497"/>
                                      </a:lnTo>
                                      <a:lnTo>
                                        <a:pt x="181" y="1467"/>
                                      </a:lnTo>
                                      <a:lnTo>
                                        <a:pt x="168" y="1454"/>
                                      </a:lnTo>
                                      <a:lnTo>
                                        <a:pt x="138" y="1454"/>
                                      </a:lnTo>
                                      <a:lnTo>
                                        <a:pt x="95" y="1518"/>
                                      </a:lnTo>
                                      <a:lnTo>
                                        <a:pt x="211" y="1170"/>
                                      </a:lnTo>
                                      <a:lnTo>
                                        <a:pt x="202" y="1161"/>
                                      </a:lnTo>
                                      <a:lnTo>
                                        <a:pt x="129" y="1213"/>
                                      </a:lnTo>
                                      <a:lnTo>
                                        <a:pt x="224" y="1024"/>
                                      </a:lnTo>
                                      <a:lnTo>
                                        <a:pt x="224" y="1002"/>
                                      </a:lnTo>
                                      <a:lnTo>
                                        <a:pt x="202" y="981"/>
                                      </a:lnTo>
                                      <a:lnTo>
                                        <a:pt x="116" y="1045"/>
                                      </a:lnTo>
                                      <a:lnTo>
                                        <a:pt x="246" y="852"/>
                                      </a:lnTo>
                                      <a:lnTo>
                                        <a:pt x="284" y="809"/>
                                      </a:lnTo>
                                      <a:lnTo>
                                        <a:pt x="263" y="749"/>
                                      </a:lnTo>
                                      <a:lnTo>
                                        <a:pt x="530" y="482"/>
                                      </a:lnTo>
                                      <a:lnTo>
                                        <a:pt x="561" y="443"/>
                                      </a:lnTo>
                                      <a:lnTo>
                                        <a:pt x="772" y="473"/>
                                      </a:lnTo>
                                      <a:lnTo>
                                        <a:pt x="910" y="508"/>
                                      </a:lnTo>
                                      <a:lnTo>
                                        <a:pt x="1294" y="430"/>
                                      </a:lnTo>
                                      <a:lnTo>
                                        <a:pt x="1367" y="400"/>
                                      </a:lnTo>
                                      <a:lnTo>
                                        <a:pt x="1398" y="430"/>
                                      </a:lnTo>
                                      <a:lnTo>
                                        <a:pt x="1462" y="409"/>
                                      </a:lnTo>
                                      <a:lnTo>
                                        <a:pt x="1492" y="379"/>
                                      </a:lnTo>
                                      <a:lnTo>
                                        <a:pt x="1492" y="357"/>
                                      </a:lnTo>
                                      <a:lnTo>
                                        <a:pt x="1484" y="349"/>
                                      </a:lnTo>
                                      <a:lnTo>
                                        <a:pt x="1410" y="379"/>
                                      </a:lnTo>
                                      <a:lnTo>
                                        <a:pt x="1484" y="293"/>
                                      </a:lnTo>
                                      <a:lnTo>
                                        <a:pt x="1505" y="147"/>
                                      </a:lnTo>
                                      <a:lnTo>
                                        <a:pt x="1609" y="0"/>
                                      </a:lnTo>
                                      <a:lnTo>
                                        <a:pt x="1665" y="0"/>
                                      </a:lnTo>
                                      <a:lnTo>
                                        <a:pt x="1738" y="73"/>
                                      </a:lnTo>
                                      <a:close/>
                                    </a:path>
                                  </a:pathLst>
                                </a:custGeom>
                                <a:blipFill rotWithShape="0">
                                  <a:blip r:embed="rId59"/>
                                  <a:srcRect/>
                                  <a:tile tx="0" ty="0" sx="100000" sy="100000" algn="ctr"/>
                                </a:blip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160" name=""/>
                              <p:cNvSpPr/>
                              <p:nvPr/>
                            </p:nvSpPr>
                            <p:spPr>
                              <a:xfrm rot="21306000">
                                <a:off x="1909800" y="905400"/>
                                <a:ext cx="123480" cy="22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208" h="236">
                                    <a:moveTo>
                                      <a:pt x="160" y="103"/>
                                    </a:moveTo>
                                    <a:lnTo>
                                      <a:pt x="333" y="103"/>
                                    </a:lnTo>
                                    <a:lnTo>
                                      <a:pt x="337" y="99"/>
                                    </a:lnTo>
                                    <a:lnTo>
                                      <a:pt x="341" y="94"/>
                                    </a:lnTo>
                                    <a:lnTo>
                                      <a:pt x="350" y="90"/>
                                    </a:lnTo>
                                    <a:lnTo>
                                      <a:pt x="358" y="86"/>
                                    </a:lnTo>
                                    <a:lnTo>
                                      <a:pt x="371" y="81"/>
                                    </a:lnTo>
                                    <a:lnTo>
                                      <a:pt x="380" y="77"/>
                                    </a:lnTo>
                                    <a:lnTo>
                                      <a:pt x="389" y="73"/>
                                    </a:lnTo>
                                    <a:lnTo>
                                      <a:pt x="393" y="73"/>
                                    </a:lnTo>
                                    <a:lnTo>
                                      <a:pt x="414" y="51"/>
                                    </a:lnTo>
                                    <a:lnTo>
                                      <a:pt x="445" y="51"/>
                                    </a:lnTo>
                                    <a:lnTo>
                                      <a:pt x="492" y="51"/>
                                    </a:lnTo>
                                    <a:lnTo>
                                      <a:pt x="557" y="56"/>
                                    </a:lnTo>
                                    <a:lnTo>
                                      <a:pt x="626" y="56"/>
                                    </a:lnTo>
                                    <a:lnTo>
                                      <a:pt x="695" y="56"/>
                                    </a:lnTo>
                                    <a:lnTo>
                                      <a:pt x="755" y="51"/>
                                    </a:lnTo>
                                    <a:lnTo>
                                      <a:pt x="798" y="47"/>
                                    </a:lnTo>
                                    <a:lnTo>
                                      <a:pt x="820" y="43"/>
                                    </a:lnTo>
                                    <a:lnTo>
                                      <a:pt x="820" y="30"/>
                                    </a:lnTo>
                                    <a:lnTo>
                                      <a:pt x="833" y="25"/>
                                    </a:lnTo>
                                    <a:lnTo>
                                      <a:pt x="850" y="17"/>
                                    </a:lnTo>
                                    <a:lnTo>
                                      <a:pt x="863" y="13"/>
                                    </a:lnTo>
                                    <a:lnTo>
                                      <a:pt x="880" y="8"/>
                                    </a:lnTo>
                                    <a:lnTo>
                                      <a:pt x="898" y="4"/>
                                    </a:lnTo>
                                    <a:lnTo>
                                      <a:pt x="911" y="4"/>
                                    </a:lnTo>
                                    <a:lnTo>
                                      <a:pt x="928" y="0"/>
                                    </a:lnTo>
                                    <a:lnTo>
                                      <a:pt x="945" y="0"/>
                                    </a:lnTo>
                                    <a:lnTo>
                                      <a:pt x="967" y="13"/>
                                    </a:lnTo>
                                    <a:lnTo>
                                      <a:pt x="993" y="25"/>
                                    </a:lnTo>
                                    <a:lnTo>
                                      <a:pt x="1027" y="34"/>
                                    </a:lnTo>
                                    <a:lnTo>
                                      <a:pt x="1066" y="38"/>
                                    </a:lnTo>
                                    <a:lnTo>
                                      <a:pt x="1105" y="38"/>
                                    </a:lnTo>
                                    <a:lnTo>
                                      <a:pt x="1144" y="43"/>
                                    </a:lnTo>
                                    <a:lnTo>
                                      <a:pt x="1178" y="43"/>
                                    </a:lnTo>
                                    <a:lnTo>
                                      <a:pt x="1208" y="43"/>
                                    </a:lnTo>
                                    <a:lnTo>
                                      <a:pt x="1208" y="47"/>
                                    </a:lnTo>
                                    <a:lnTo>
                                      <a:pt x="1204" y="51"/>
                                    </a:lnTo>
                                    <a:lnTo>
                                      <a:pt x="1204" y="56"/>
                                    </a:lnTo>
                                    <a:lnTo>
                                      <a:pt x="1200" y="64"/>
                                    </a:lnTo>
                                    <a:lnTo>
                                      <a:pt x="1191" y="68"/>
                                    </a:lnTo>
                                    <a:lnTo>
                                      <a:pt x="1187" y="73"/>
                                    </a:lnTo>
                                    <a:lnTo>
                                      <a:pt x="1182" y="77"/>
                                    </a:lnTo>
                                    <a:lnTo>
                                      <a:pt x="1178" y="81"/>
                                    </a:lnTo>
                                    <a:lnTo>
                                      <a:pt x="1157" y="86"/>
                                    </a:lnTo>
                                    <a:lnTo>
                                      <a:pt x="1131" y="86"/>
                                    </a:lnTo>
                                    <a:lnTo>
                                      <a:pt x="1109" y="94"/>
                                    </a:lnTo>
                                    <a:lnTo>
                                      <a:pt x="1083" y="99"/>
                                    </a:lnTo>
                                    <a:lnTo>
                                      <a:pt x="1062" y="103"/>
                                    </a:lnTo>
                                    <a:lnTo>
                                      <a:pt x="1036" y="107"/>
                                    </a:lnTo>
                                    <a:lnTo>
                                      <a:pt x="1014" y="111"/>
                                    </a:lnTo>
                                    <a:lnTo>
                                      <a:pt x="997" y="111"/>
                                    </a:lnTo>
                                    <a:lnTo>
                                      <a:pt x="1001" y="116"/>
                                    </a:lnTo>
                                    <a:lnTo>
                                      <a:pt x="1001" y="116"/>
                                    </a:lnTo>
                                    <a:lnTo>
                                      <a:pt x="1006" y="120"/>
                                    </a:lnTo>
                                    <a:lnTo>
                                      <a:pt x="1010" y="124"/>
                                    </a:lnTo>
                                    <a:lnTo>
                                      <a:pt x="1014" y="129"/>
                                    </a:lnTo>
                                    <a:lnTo>
                                      <a:pt x="1018" y="133"/>
                                    </a:lnTo>
                                    <a:lnTo>
                                      <a:pt x="1023" y="137"/>
                                    </a:lnTo>
                                    <a:lnTo>
                                      <a:pt x="1027" y="142"/>
                                    </a:lnTo>
                                    <a:lnTo>
                                      <a:pt x="811" y="154"/>
                                    </a:lnTo>
                                    <a:lnTo>
                                      <a:pt x="811" y="159"/>
                                    </a:lnTo>
                                    <a:lnTo>
                                      <a:pt x="811" y="163"/>
                                    </a:lnTo>
                                    <a:lnTo>
                                      <a:pt x="807" y="167"/>
                                    </a:lnTo>
                                    <a:lnTo>
                                      <a:pt x="807" y="176"/>
                                    </a:lnTo>
                                    <a:lnTo>
                                      <a:pt x="807" y="180"/>
                                    </a:lnTo>
                                    <a:lnTo>
                                      <a:pt x="803" y="185"/>
                                    </a:lnTo>
                                    <a:lnTo>
                                      <a:pt x="803" y="189"/>
                                    </a:lnTo>
                                    <a:lnTo>
                                      <a:pt x="803" y="193"/>
                                    </a:lnTo>
                                    <a:lnTo>
                                      <a:pt x="781" y="193"/>
                                    </a:lnTo>
                                    <a:lnTo>
                                      <a:pt x="755" y="189"/>
                                    </a:lnTo>
                                    <a:lnTo>
                                      <a:pt x="721" y="185"/>
                                    </a:lnTo>
                                    <a:lnTo>
                                      <a:pt x="686" y="180"/>
                                    </a:lnTo>
                                    <a:lnTo>
                                      <a:pt x="652" y="180"/>
                                    </a:lnTo>
                                    <a:lnTo>
                                      <a:pt x="622" y="176"/>
                                    </a:lnTo>
                                    <a:lnTo>
                                      <a:pt x="596" y="180"/>
                                    </a:lnTo>
                                    <a:lnTo>
                                      <a:pt x="578" y="185"/>
                                    </a:lnTo>
                                    <a:lnTo>
                                      <a:pt x="578" y="193"/>
                                    </a:lnTo>
                                    <a:lnTo>
                                      <a:pt x="548" y="193"/>
                                    </a:lnTo>
                                    <a:lnTo>
                                      <a:pt x="548" y="206"/>
                                    </a:lnTo>
                                    <a:lnTo>
                                      <a:pt x="548" y="215"/>
                                    </a:lnTo>
                                    <a:lnTo>
                                      <a:pt x="100" y="236"/>
                                    </a:lnTo>
                                    <a:lnTo>
                                      <a:pt x="95" y="228"/>
                                    </a:lnTo>
                                    <a:lnTo>
                                      <a:pt x="87" y="219"/>
                                    </a:lnTo>
                                    <a:lnTo>
                                      <a:pt x="82" y="206"/>
                                    </a:lnTo>
                                    <a:lnTo>
                                      <a:pt x="74" y="197"/>
                                    </a:lnTo>
                                    <a:lnTo>
                                      <a:pt x="65" y="185"/>
                                    </a:lnTo>
                                    <a:lnTo>
                                      <a:pt x="61" y="172"/>
                                    </a:lnTo>
                                    <a:lnTo>
                                      <a:pt x="52" y="163"/>
                                    </a:lnTo>
                                    <a:lnTo>
                                      <a:pt x="48" y="154"/>
                                    </a:lnTo>
                                    <a:lnTo>
                                      <a:pt x="91" y="167"/>
                                    </a:lnTo>
                                    <a:lnTo>
                                      <a:pt x="164" y="159"/>
                                    </a:lnTo>
                                    <a:lnTo>
                                      <a:pt x="186" y="137"/>
                                    </a:lnTo>
                                    <a:lnTo>
                                      <a:pt x="160" y="103"/>
                                    </a:lnTo>
                                    <a:close/>
                                    <a:moveTo>
                                      <a:pt x="22" y="142"/>
                                    </a:moveTo>
                                    <a:lnTo>
                                      <a:pt x="18" y="142"/>
                                    </a:lnTo>
                                    <a:lnTo>
                                      <a:pt x="13" y="142"/>
                                    </a:lnTo>
                                    <a:lnTo>
                                      <a:pt x="13" y="142"/>
                                    </a:lnTo>
                                    <a:lnTo>
                                      <a:pt x="9" y="142"/>
                                    </a:lnTo>
                                    <a:lnTo>
                                      <a:pt x="9" y="142"/>
                                    </a:lnTo>
                                    <a:lnTo>
                                      <a:pt x="5" y="137"/>
                                    </a:lnTo>
                                    <a:lnTo>
                                      <a:pt x="5" y="137"/>
                                    </a:lnTo>
                                    <a:lnTo>
                                      <a:pt x="0" y="137"/>
                                    </a:lnTo>
                                    <a:lnTo>
                                      <a:pt x="5" y="137"/>
                                    </a:lnTo>
                                    <a:lnTo>
                                      <a:pt x="22" y="142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efd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4120" bIns="-24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61" name=""/>
                            <p:cNvSpPr/>
                            <p:nvPr/>
                          </p:nvSpPr>
                          <p:spPr>
                            <a:xfrm rot="21306000">
                              <a:off x="1881720" y="956520"/>
                              <a:ext cx="54360" cy="248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31" h="258">
                                  <a:moveTo>
                                    <a:pt x="121" y="0"/>
                                  </a:moveTo>
                                  <a:lnTo>
                                    <a:pt x="125" y="4"/>
                                  </a:lnTo>
                                  <a:lnTo>
                                    <a:pt x="130" y="4"/>
                                  </a:lnTo>
                                  <a:lnTo>
                                    <a:pt x="134" y="4"/>
                                  </a:lnTo>
                                  <a:lnTo>
                                    <a:pt x="138" y="4"/>
                                  </a:lnTo>
                                  <a:lnTo>
                                    <a:pt x="138" y="4"/>
                                  </a:lnTo>
                                  <a:lnTo>
                                    <a:pt x="143" y="4"/>
                                  </a:lnTo>
                                  <a:lnTo>
                                    <a:pt x="147" y="4"/>
                                  </a:lnTo>
                                  <a:lnTo>
                                    <a:pt x="151" y="4"/>
                                  </a:lnTo>
                                  <a:lnTo>
                                    <a:pt x="151" y="86"/>
                                  </a:lnTo>
                                  <a:lnTo>
                                    <a:pt x="177" y="90"/>
                                  </a:lnTo>
                                  <a:lnTo>
                                    <a:pt x="212" y="103"/>
                                  </a:lnTo>
                                  <a:lnTo>
                                    <a:pt x="246" y="120"/>
                                  </a:lnTo>
                                  <a:lnTo>
                                    <a:pt x="281" y="137"/>
                                  </a:lnTo>
                                  <a:lnTo>
                                    <a:pt x="324" y="155"/>
                                  </a:lnTo>
                                  <a:lnTo>
                                    <a:pt x="363" y="172"/>
                                  </a:lnTo>
                                  <a:lnTo>
                                    <a:pt x="406" y="185"/>
                                  </a:lnTo>
                                  <a:lnTo>
                                    <a:pt x="445" y="189"/>
                                  </a:lnTo>
                                  <a:lnTo>
                                    <a:pt x="449" y="193"/>
                                  </a:lnTo>
                                  <a:lnTo>
                                    <a:pt x="453" y="202"/>
                                  </a:lnTo>
                                  <a:lnTo>
                                    <a:pt x="466" y="210"/>
                                  </a:lnTo>
                                  <a:lnTo>
                                    <a:pt x="479" y="219"/>
                                  </a:lnTo>
                                  <a:lnTo>
                                    <a:pt x="492" y="228"/>
                                  </a:lnTo>
                                  <a:lnTo>
                                    <a:pt x="505" y="241"/>
                                  </a:lnTo>
                                  <a:lnTo>
                                    <a:pt x="518" y="249"/>
                                  </a:lnTo>
                                  <a:lnTo>
                                    <a:pt x="531" y="258"/>
                                  </a:lnTo>
                                  <a:lnTo>
                                    <a:pt x="458" y="253"/>
                                  </a:lnTo>
                                  <a:lnTo>
                                    <a:pt x="358" y="232"/>
                                  </a:lnTo>
                                  <a:lnTo>
                                    <a:pt x="225" y="232"/>
                                  </a:lnTo>
                                  <a:lnTo>
                                    <a:pt x="130" y="219"/>
                                  </a:lnTo>
                                  <a:lnTo>
                                    <a:pt x="87" y="198"/>
                                  </a:lnTo>
                                  <a:lnTo>
                                    <a:pt x="13" y="198"/>
                                  </a:lnTo>
                                  <a:lnTo>
                                    <a:pt x="0" y="159"/>
                                  </a:lnTo>
                                  <a:lnTo>
                                    <a:pt x="44" y="38"/>
                                  </a:lnTo>
                                  <a:lnTo>
                                    <a:pt x="121" y="0"/>
                                  </a:lnTo>
                                  <a:close/>
                                </a:path>
                              </a:pathLst>
                            </a:custGeom>
                            <a:blipFill rotWithShape="0">
                              <a:blip r:embed="rId60"/>
                              <a:srcRect/>
                              <a:tile tx="0" ty="0" sx="100000" sy="100000" algn="ctr"/>
                            </a:blipFill>
                            <a:ln w="9360">
                              <a:solidFill>
                                <a:srgbClr val="ffcc99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1960" bIns="-219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162" name=""/>
                          <p:cNvGrpSpPr/>
                          <p:nvPr/>
                        </p:nvGrpSpPr>
                        <p:grpSpPr>
                          <a:xfrm>
                            <a:off x="1958760" y="945360"/>
                            <a:ext cx="530280" cy="688680"/>
                            <a:chOff x="1958760" y="945360"/>
                            <a:chExt cx="530280" cy="688680"/>
                          </a:xfrm>
                        </p:grpSpPr>
                        <p:grpSp>
                          <p:nvGrpSpPr>
                            <p:cNvPr id="163" name=""/>
                            <p:cNvGrpSpPr/>
                            <p:nvPr/>
                          </p:nvGrpSpPr>
                          <p:grpSpPr>
                            <a:xfrm>
                              <a:off x="2086200" y="1118520"/>
                              <a:ext cx="271800" cy="86760"/>
                              <a:chOff x="2086200" y="1118520"/>
                              <a:chExt cx="271800" cy="86760"/>
                            </a:xfrm>
                          </p:grpSpPr>
                          <p:sp>
                            <p:nvSpPr>
                              <p:cNvPr id="164" name=""/>
                              <p:cNvSpPr/>
                              <p:nvPr/>
                            </p:nvSpPr>
                            <p:spPr>
                              <a:xfrm rot="21306000">
                                <a:off x="2086920" y="1145880"/>
                                <a:ext cx="78480" cy="26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68" h="275">
                                    <a:moveTo>
                                      <a:pt x="77" y="129"/>
                                    </a:moveTo>
                                    <a:lnTo>
                                      <a:pt x="86" y="125"/>
                                    </a:lnTo>
                                    <a:lnTo>
                                      <a:pt x="99" y="121"/>
                                    </a:lnTo>
                                    <a:lnTo>
                                      <a:pt x="112" y="112"/>
                                    </a:lnTo>
                                    <a:lnTo>
                                      <a:pt x="129" y="103"/>
                                    </a:lnTo>
                                    <a:lnTo>
                                      <a:pt x="142" y="95"/>
                                    </a:lnTo>
                                    <a:lnTo>
                                      <a:pt x="155" y="86"/>
                                    </a:lnTo>
                                    <a:lnTo>
                                      <a:pt x="168" y="82"/>
                                    </a:lnTo>
                                    <a:lnTo>
                                      <a:pt x="177" y="78"/>
                                    </a:lnTo>
                                    <a:lnTo>
                                      <a:pt x="181" y="60"/>
                                    </a:lnTo>
                                    <a:lnTo>
                                      <a:pt x="194" y="47"/>
                                    </a:lnTo>
                                    <a:lnTo>
                                      <a:pt x="211" y="39"/>
                                    </a:lnTo>
                                    <a:lnTo>
                                      <a:pt x="233" y="26"/>
                                    </a:lnTo>
                                    <a:lnTo>
                                      <a:pt x="293" y="13"/>
                                    </a:lnTo>
                                    <a:lnTo>
                                      <a:pt x="362" y="4"/>
                                    </a:lnTo>
                                    <a:lnTo>
                                      <a:pt x="436" y="0"/>
                                    </a:lnTo>
                                    <a:lnTo>
                                      <a:pt x="500" y="4"/>
                                    </a:lnTo>
                                    <a:lnTo>
                                      <a:pt x="556" y="9"/>
                                    </a:lnTo>
                                    <a:lnTo>
                                      <a:pt x="591" y="17"/>
                                    </a:lnTo>
                                    <a:lnTo>
                                      <a:pt x="591" y="30"/>
                                    </a:lnTo>
                                    <a:lnTo>
                                      <a:pt x="604" y="35"/>
                                    </a:lnTo>
                                    <a:lnTo>
                                      <a:pt x="621" y="43"/>
                                    </a:lnTo>
                                    <a:lnTo>
                                      <a:pt x="638" y="52"/>
                                    </a:lnTo>
                                    <a:lnTo>
                                      <a:pt x="660" y="60"/>
                                    </a:lnTo>
                                    <a:lnTo>
                                      <a:pt x="681" y="73"/>
                                    </a:lnTo>
                                    <a:lnTo>
                                      <a:pt x="699" y="82"/>
                                    </a:lnTo>
                                    <a:lnTo>
                                      <a:pt x="716" y="86"/>
                                    </a:lnTo>
                                    <a:lnTo>
                                      <a:pt x="729" y="86"/>
                                    </a:lnTo>
                                    <a:lnTo>
                                      <a:pt x="733" y="90"/>
                                    </a:lnTo>
                                    <a:lnTo>
                                      <a:pt x="738" y="95"/>
                                    </a:lnTo>
                                    <a:lnTo>
                                      <a:pt x="742" y="103"/>
                                    </a:lnTo>
                                    <a:lnTo>
                                      <a:pt x="751" y="108"/>
                                    </a:lnTo>
                                    <a:lnTo>
                                      <a:pt x="755" y="112"/>
                                    </a:lnTo>
                                    <a:lnTo>
                                      <a:pt x="759" y="112"/>
                                    </a:lnTo>
                                    <a:lnTo>
                                      <a:pt x="763" y="116"/>
                                    </a:lnTo>
                                    <a:lnTo>
                                      <a:pt x="768" y="116"/>
                                    </a:lnTo>
                                    <a:lnTo>
                                      <a:pt x="768" y="224"/>
                                    </a:lnTo>
                                    <a:lnTo>
                                      <a:pt x="742" y="245"/>
                                    </a:lnTo>
                                    <a:lnTo>
                                      <a:pt x="703" y="262"/>
                                    </a:lnTo>
                                    <a:lnTo>
                                      <a:pt x="656" y="271"/>
                                    </a:lnTo>
                                    <a:lnTo>
                                      <a:pt x="604" y="275"/>
                                    </a:lnTo>
                                    <a:lnTo>
                                      <a:pt x="552" y="275"/>
                                    </a:lnTo>
                                    <a:lnTo>
                                      <a:pt x="500" y="271"/>
                                    </a:lnTo>
                                    <a:lnTo>
                                      <a:pt x="457" y="262"/>
                                    </a:lnTo>
                                    <a:lnTo>
                                      <a:pt x="423" y="245"/>
                                    </a:lnTo>
                                    <a:lnTo>
                                      <a:pt x="423" y="237"/>
                                    </a:lnTo>
                                    <a:lnTo>
                                      <a:pt x="418" y="237"/>
                                    </a:lnTo>
                                    <a:lnTo>
                                      <a:pt x="410" y="237"/>
                                    </a:lnTo>
                                    <a:lnTo>
                                      <a:pt x="401" y="237"/>
                                    </a:lnTo>
                                    <a:lnTo>
                                      <a:pt x="388" y="237"/>
                                    </a:lnTo>
                                    <a:lnTo>
                                      <a:pt x="379" y="237"/>
                                    </a:lnTo>
                                    <a:lnTo>
                                      <a:pt x="371" y="241"/>
                                    </a:lnTo>
                                    <a:lnTo>
                                      <a:pt x="367" y="241"/>
                                    </a:lnTo>
                                    <a:lnTo>
                                      <a:pt x="362" y="245"/>
                                    </a:lnTo>
                                    <a:lnTo>
                                      <a:pt x="47" y="245"/>
                                    </a:lnTo>
                                    <a:lnTo>
                                      <a:pt x="43" y="245"/>
                                    </a:lnTo>
                                    <a:lnTo>
                                      <a:pt x="43" y="245"/>
                                    </a:lnTo>
                                    <a:lnTo>
                                      <a:pt x="39" y="241"/>
                                    </a:lnTo>
                                    <a:lnTo>
                                      <a:pt x="34" y="241"/>
                                    </a:lnTo>
                                    <a:lnTo>
                                      <a:pt x="30" y="237"/>
                                    </a:lnTo>
                                    <a:lnTo>
                                      <a:pt x="26" y="237"/>
                                    </a:lnTo>
                                    <a:lnTo>
                                      <a:pt x="21" y="237"/>
                                    </a:lnTo>
                                    <a:lnTo>
                                      <a:pt x="17" y="237"/>
                                    </a:lnTo>
                                    <a:lnTo>
                                      <a:pt x="0" y="215"/>
                                    </a:lnTo>
                                    <a:lnTo>
                                      <a:pt x="0" y="176"/>
                                    </a:lnTo>
                                    <a:lnTo>
                                      <a:pt x="4" y="172"/>
                                    </a:lnTo>
                                    <a:lnTo>
                                      <a:pt x="8" y="168"/>
                                    </a:lnTo>
                                    <a:lnTo>
                                      <a:pt x="13" y="164"/>
                                    </a:lnTo>
                                    <a:lnTo>
                                      <a:pt x="17" y="155"/>
                                    </a:lnTo>
                                    <a:lnTo>
                                      <a:pt x="21" y="151"/>
                                    </a:lnTo>
                                    <a:lnTo>
                                      <a:pt x="26" y="142"/>
                                    </a:lnTo>
                                    <a:lnTo>
                                      <a:pt x="30" y="133"/>
                                    </a:lnTo>
                                    <a:lnTo>
                                      <a:pt x="30" y="129"/>
                                    </a:lnTo>
                                    <a:lnTo>
                                      <a:pt x="34" y="125"/>
                                    </a:lnTo>
                                    <a:lnTo>
                                      <a:pt x="39" y="121"/>
                                    </a:lnTo>
                                    <a:lnTo>
                                      <a:pt x="47" y="116"/>
                                    </a:lnTo>
                                    <a:lnTo>
                                      <a:pt x="52" y="108"/>
                                    </a:lnTo>
                                    <a:lnTo>
                                      <a:pt x="60" y="103"/>
                                    </a:lnTo>
                                    <a:lnTo>
                                      <a:pt x="69" y="108"/>
                                    </a:lnTo>
                                    <a:lnTo>
                                      <a:pt x="73" y="112"/>
                                    </a:lnTo>
                                    <a:lnTo>
                                      <a:pt x="77" y="129"/>
                                    </a:lnTo>
                                    <a:close/>
                                  </a:path>
                                </a:pathLst>
                              </a:custGeom>
                              <a:blipFill rotWithShape="0">
                                <a:blip r:embed="rId61"/>
                                <a:srcRect/>
                                <a:tile tx="0" ty="0" sx="100000" sy="100000" algn="ctr"/>
                              </a:blip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0160" bIns="-20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65" name=""/>
                              <p:cNvSpPr/>
                              <p:nvPr/>
                            </p:nvSpPr>
                            <p:spPr>
                              <a:xfrm rot="21306000">
                                <a:off x="2214720" y="1123920"/>
                                <a:ext cx="140400" cy="752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72" h="778">
                                    <a:moveTo>
                                      <a:pt x="39" y="95"/>
                                    </a:moveTo>
                                    <a:lnTo>
                                      <a:pt x="86" y="65"/>
                                    </a:lnTo>
                                    <a:lnTo>
                                      <a:pt x="134" y="39"/>
                                    </a:lnTo>
                                    <a:lnTo>
                                      <a:pt x="190" y="22"/>
                                    </a:lnTo>
                                    <a:lnTo>
                                      <a:pt x="246" y="9"/>
                                    </a:lnTo>
                                    <a:lnTo>
                                      <a:pt x="306" y="0"/>
                                    </a:lnTo>
                                    <a:lnTo>
                                      <a:pt x="371" y="0"/>
                                    </a:lnTo>
                                    <a:lnTo>
                                      <a:pt x="431" y="0"/>
                                    </a:lnTo>
                                    <a:lnTo>
                                      <a:pt x="496" y="9"/>
                                    </a:lnTo>
                                    <a:lnTo>
                                      <a:pt x="561" y="17"/>
                                    </a:lnTo>
                                    <a:lnTo>
                                      <a:pt x="626" y="30"/>
                                    </a:lnTo>
                                    <a:lnTo>
                                      <a:pt x="686" y="47"/>
                                    </a:lnTo>
                                    <a:lnTo>
                                      <a:pt x="742" y="69"/>
                                    </a:lnTo>
                                    <a:lnTo>
                                      <a:pt x="798" y="95"/>
                                    </a:lnTo>
                                    <a:lnTo>
                                      <a:pt x="850" y="121"/>
                                    </a:lnTo>
                                    <a:lnTo>
                                      <a:pt x="897" y="146"/>
                                    </a:lnTo>
                                    <a:lnTo>
                                      <a:pt x="936" y="176"/>
                                    </a:lnTo>
                                    <a:lnTo>
                                      <a:pt x="936" y="198"/>
                                    </a:lnTo>
                                    <a:lnTo>
                                      <a:pt x="962" y="211"/>
                                    </a:lnTo>
                                    <a:lnTo>
                                      <a:pt x="992" y="228"/>
                                    </a:lnTo>
                                    <a:lnTo>
                                      <a:pt x="1027" y="241"/>
                                    </a:lnTo>
                                    <a:lnTo>
                                      <a:pt x="1066" y="254"/>
                                    </a:lnTo>
                                    <a:lnTo>
                                      <a:pt x="1148" y="284"/>
                                    </a:lnTo>
                                    <a:lnTo>
                                      <a:pt x="1234" y="318"/>
                                    </a:lnTo>
                                    <a:lnTo>
                                      <a:pt x="1273" y="336"/>
                                    </a:lnTo>
                                    <a:lnTo>
                                      <a:pt x="1307" y="357"/>
                                    </a:lnTo>
                                    <a:lnTo>
                                      <a:pt x="1333" y="379"/>
                                    </a:lnTo>
                                    <a:lnTo>
                                      <a:pt x="1355" y="404"/>
                                    </a:lnTo>
                                    <a:lnTo>
                                      <a:pt x="1363" y="422"/>
                                    </a:lnTo>
                                    <a:lnTo>
                                      <a:pt x="1368" y="434"/>
                                    </a:lnTo>
                                    <a:lnTo>
                                      <a:pt x="1372" y="452"/>
                                    </a:lnTo>
                                    <a:lnTo>
                                      <a:pt x="1372" y="469"/>
                                    </a:lnTo>
                                    <a:lnTo>
                                      <a:pt x="1372" y="486"/>
                                    </a:lnTo>
                                    <a:lnTo>
                                      <a:pt x="1368" y="503"/>
                                    </a:lnTo>
                                    <a:lnTo>
                                      <a:pt x="1359" y="520"/>
                                    </a:lnTo>
                                    <a:lnTo>
                                      <a:pt x="1346" y="542"/>
                                    </a:lnTo>
                                    <a:lnTo>
                                      <a:pt x="1316" y="546"/>
                                    </a:lnTo>
                                    <a:lnTo>
                                      <a:pt x="1286" y="551"/>
                                    </a:lnTo>
                                    <a:lnTo>
                                      <a:pt x="1255" y="563"/>
                                    </a:lnTo>
                                    <a:lnTo>
                                      <a:pt x="1225" y="572"/>
                                    </a:lnTo>
                                    <a:lnTo>
                                      <a:pt x="1191" y="585"/>
                                    </a:lnTo>
                                    <a:lnTo>
                                      <a:pt x="1161" y="594"/>
                                    </a:lnTo>
                                    <a:lnTo>
                                      <a:pt x="1130" y="602"/>
                                    </a:lnTo>
                                    <a:lnTo>
                                      <a:pt x="1100" y="602"/>
                                    </a:lnTo>
                                    <a:lnTo>
                                      <a:pt x="1070" y="632"/>
                                    </a:lnTo>
                                    <a:lnTo>
                                      <a:pt x="1027" y="662"/>
                                    </a:lnTo>
                                    <a:lnTo>
                                      <a:pt x="971" y="697"/>
                                    </a:lnTo>
                                    <a:lnTo>
                                      <a:pt x="910" y="731"/>
                                    </a:lnTo>
                                    <a:lnTo>
                                      <a:pt x="850" y="757"/>
                                    </a:lnTo>
                                    <a:lnTo>
                                      <a:pt x="790" y="774"/>
                                    </a:lnTo>
                                    <a:lnTo>
                                      <a:pt x="764" y="778"/>
                                    </a:lnTo>
                                    <a:lnTo>
                                      <a:pt x="738" y="778"/>
                                    </a:lnTo>
                                    <a:lnTo>
                                      <a:pt x="712" y="774"/>
                                    </a:lnTo>
                                    <a:lnTo>
                                      <a:pt x="695" y="766"/>
                                    </a:lnTo>
                                    <a:lnTo>
                                      <a:pt x="695" y="744"/>
                                    </a:lnTo>
                                    <a:lnTo>
                                      <a:pt x="664" y="731"/>
                                    </a:lnTo>
                                    <a:lnTo>
                                      <a:pt x="630" y="718"/>
                                    </a:lnTo>
                                    <a:lnTo>
                                      <a:pt x="582" y="701"/>
                                    </a:lnTo>
                                    <a:lnTo>
                                      <a:pt x="539" y="688"/>
                                    </a:lnTo>
                                    <a:lnTo>
                                      <a:pt x="492" y="680"/>
                                    </a:lnTo>
                                    <a:lnTo>
                                      <a:pt x="444" y="671"/>
                                    </a:lnTo>
                                    <a:lnTo>
                                      <a:pt x="401" y="667"/>
                                    </a:lnTo>
                                    <a:lnTo>
                                      <a:pt x="367" y="667"/>
                                    </a:lnTo>
                                    <a:lnTo>
                                      <a:pt x="345" y="645"/>
                                    </a:lnTo>
                                    <a:lnTo>
                                      <a:pt x="315" y="624"/>
                                    </a:lnTo>
                                    <a:lnTo>
                                      <a:pt x="280" y="602"/>
                                    </a:lnTo>
                                    <a:lnTo>
                                      <a:pt x="242" y="576"/>
                                    </a:lnTo>
                                    <a:lnTo>
                                      <a:pt x="203" y="555"/>
                                    </a:lnTo>
                                    <a:lnTo>
                                      <a:pt x="164" y="538"/>
                                    </a:lnTo>
                                    <a:lnTo>
                                      <a:pt x="129" y="529"/>
                                    </a:lnTo>
                                    <a:lnTo>
                                      <a:pt x="104" y="520"/>
                                    </a:lnTo>
                                    <a:lnTo>
                                      <a:pt x="99" y="499"/>
                                    </a:lnTo>
                                    <a:lnTo>
                                      <a:pt x="91" y="482"/>
                                    </a:lnTo>
                                    <a:lnTo>
                                      <a:pt x="82" y="460"/>
                                    </a:lnTo>
                                    <a:lnTo>
                                      <a:pt x="69" y="443"/>
                                    </a:lnTo>
                                    <a:lnTo>
                                      <a:pt x="60" y="422"/>
                                    </a:lnTo>
                                    <a:lnTo>
                                      <a:pt x="52" y="404"/>
                                    </a:lnTo>
                                    <a:lnTo>
                                      <a:pt x="43" y="383"/>
                                    </a:lnTo>
                                    <a:lnTo>
                                      <a:pt x="39" y="361"/>
                                    </a:lnTo>
                                    <a:lnTo>
                                      <a:pt x="35" y="357"/>
                                    </a:lnTo>
                                    <a:lnTo>
                                      <a:pt x="26" y="353"/>
                                    </a:lnTo>
                                    <a:lnTo>
                                      <a:pt x="22" y="344"/>
                                    </a:lnTo>
                                    <a:lnTo>
                                      <a:pt x="17" y="336"/>
                                    </a:lnTo>
                                    <a:lnTo>
                                      <a:pt x="9" y="305"/>
                                    </a:lnTo>
                                    <a:lnTo>
                                      <a:pt x="4" y="275"/>
                                    </a:lnTo>
                                    <a:lnTo>
                                      <a:pt x="0" y="241"/>
                                    </a:lnTo>
                                    <a:lnTo>
                                      <a:pt x="0" y="207"/>
                                    </a:lnTo>
                                    <a:lnTo>
                                      <a:pt x="0" y="176"/>
                                    </a:lnTo>
                                    <a:lnTo>
                                      <a:pt x="0" y="155"/>
                                    </a:lnTo>
                                    <a:lnTo>
                                      <a:pt x="9" y="155"/>
                                    </a:lnTo>
                                    <a:lnTo>
                                      <a:pt x="13" y="142"/>
                                    </a:lnTo>
                                    <a:lnTo>
                                      <a:pt x="22" y="129"/>
                                    </a:lnTo>
                                    <a:lnTo>
                                      <a:pt x="26" y="112"/>
                                    </a:lnTo>
                                    <a:lnTo>
                                      <a:pt x="35" y="95"/>
                                    </a:lnTo>
                                    <a:lnTo>
                                      <a:pt x="39" y="78"/>
                                    </a:lnTo>
                                    <a:lnTo>
                                      <a:pt x="39" y="65"/>
                                    </a:lnTo>
                                    <a:lnTo>
                                      <a:pt x="39" y="56"/>
                                    </a:lnTo>
                                    <a:lnTo>
                                      <a:pt x="39" y="95"/>
                                    </a:lnTo>
                                    <a:close/>
                                  </a:path>
                                </a:pathLst>
                              </a:custGeom>
                              <a:blipFill rotWithShape="0">
                                <a:blip r:embed="rId62"/>
                                <a:srcRect/>
                                <a:tile tx="0" ty="0" sx="100000" sy="100000" algn="ctr"/>
                              </a:blip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28440" bIns="284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66" name=""/>
                              <p:cNvSpPr/>
                              <p:nvPr/>
                            </p:nvSpPr>
                            <p:spPr>
                              <a:xfrm rot="21306000">
                                <a:off x="2238840" y="1134000"/>
                                <a:ext cx="84240" cy="453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824" h="469">
                                    <a:moveTo>
                                      <a:pt x="26" y="56"/>
                                    </a:moveTo>
                                    <a:lnTo>
                                      <a:pt x="51" y="39"/>
                                    </a:lnTo>
                                    <a:lnTo>
                                      <a:pt x="82" y="22"/>
                                    </a:lnTo>
                                    <a:lnTo>
                                      <a:pt x="116" y="13"/>
                                    </a:lnTo>
                                    <a:lnTo>
                                      <a:pt x="151" y="5"/>
                                    </a:lnTo>
                                    <a:lnTo>
                                      <a:pt x="185" y="0"/>
                                    </a:lnTo>
                                    <a:lnTo>
                                      <a:pt x="224" y="0"/>
                                    </a:lnTo>
                                    <a:lnTo>
                                      <a:pt x="263" y="0"/>
                                    </a:lnTo>
                                    <a:lnTo>
                                      <a:pt x="302" y="5"/>
                                    </a:lnTo>
                                    <a:lnTo>
                                      <a:pt x="375" y="18"/>
                                    </a:lnTo>
                                    <a:lnTo>
                                      <a:pt x="448" y="43"/>
                                    </a:lnTo>
                                    <a:lnTo>
                                      <a:pt x="483" y="56"/>
                                    </a:lnTo>
                                    <a:lnTo>
                                      <a:pt x="513" y="69"/>
                                    </a:lnTo>
                                    <a:lnTo>
                                      <a:pt x="539" y="86"/>
                                    </a:lnTo>
                                    <a:lnTo>
                                      <a:pt x="565" y="104"/>
                                    </a:lnTo>
                                    <a:lnTo>
                                      <a:pt x="565" y="108"/>
                                    </a:lnTo>
                                    <a:lnTo>
                                      <a:pt x="565" y="108"/>
                                    </a:lnTo>
                                    <a:lnTo>
                                      <a:pt x="565" y="112"/>
                                    </a:lnTo>
                                    <a:lnTo>
                                      <a:pt x="565" y="112"/>
                                    </a:lnTo>
                                    <a:lnTo>
                                      <a:pt x="565" y="112"/>
                                    </a:lnTo>
                                    <a:lnTo>
                                      <a:pt x="565" y="116"/>
                                    </a:lnTo>
                                    <a:lnTo>
                                      <a:pt x="565" y="116"/>
                                    </a:lnTo>
                                    <a:lnTo>
                                      <a:pt x="565" y="116"/>
                                    </a:lnTo>
                                    <a:lnTo>
                                      <a:pt x="595" y="134"/>
                                    </a:lnTo>
                                    <a:lnTo>
                                      <a:pt x="642" y="151"/>
                                    </a:lnTo>
                                    <a:lnTo>
                                      <a:pt x="690" y="168"/>
                                    </a:lnTo>
                                    <a:lnTo>
                                      <a:pt x="742" y="190"/>
                                    </a:lnTo>
                                    <a:lnTo>
                                      <a:pt x="763" y="202"/>
                                    </a:lnTo>
                                    <a:lnTo>
                                      <a:pt x="785" y="215"/>
                                    </a:lnTo>
                                    <a:lnTo>
                                      <a:pt x="802" y="228"/>
                                    </a:lnTo>
                                    <a:lnTo>
                                      <a:pt x="815" y="241"/>
                                    </a:lnTo>
                                    <a:lnTo>
                                      <a:pt x="824" y="258"/>
                                    </a:lnTo>
                                    <a:lnTo>
                                      <a:pt x="824" y="280"/>
                                    </a:lnTo>
                                    <a:lnTo>
                                      <a:pt x="819" y="301"/>
                                    </a:lnTo>
                                    <a:lnTo>
                                      <a:pt x="811" y="327"/>
                                    </a:lnTo>
                                    <a:lnTo>
                                      <a:pt x="789" y="327"/>
                                    </a:lnTo>
                                    <a:lnTo>
                                      <a:pt x="772" y="331"/>
                                    </a:lnTo>
                                    <a:lnTo>
                                      <a:pt x="755" y="336"/>
                                    </a:lnTo>
                                    <a:lnTo>
                                      <a:pt x="737" y="344"/>
                                    </a:lnTo>
                                    <a:lnTo>
                                      <a:pt x="716" y="349"/>
                                    </a:lnTo>
                                    <a:lnTo>
                                      <a:pt x="699" y="357"/>
                                    </a:lnTo>
                                    <a:lnTo>
                                      <a:pt x="681" y="362"/>
                                    </a:lnTo>
                                    <a:lnTo>
                                      <a:pt x="664" y="362"/>
                                    </a:lnTo>
                                    <a:lnTo>
                                      <a:pt x="642" y="379"/>
                                    </a:lnTo>
                                    <a:lnTo>
                                      <a:pt x="617" y="396"/>
                                    </a:lnTo>
                                    <a:lnTo>
                                      <a:pt x="586" y="417"/>
                                    </a:lnTo>
                                    <a:lnTo>
                                      <a:pt x="548" y="439"/>
                                    </a:lnTo>
                                    <a:lnTo>
                                      <a:pt x="513" y="456"/>
                                    </a:lnTo>
                                    <a:lnTo>
                                      <a:pt x="474" y="465"/>
                                    </a:lnTo>
                                    <a:lnTo>
                                      <a:pt x="461" y="469"/>
                                    </a:lnTo>
                                    <a:lnTo>
                                      <a:pt x="444" y="469"/>
                                    </a:lnTo>
                                    <a:lnTo>
                                      <a:pt x="431" y="465"/>
                                    </a:lnTo>
                                    <a:lnTo>
                                      <a:pt x="418" y="460"/>
                                    </a:lnTo>
                                    <a:lnTo>
                                      <a:pt x="418" y="456"/>
                                    </a:lnTo>
                                    <a:lnTo>
                                      <a:pt x="418" y="456"/>
                                    </a:lnTo>
                                    <a:lnTo>
                                      <a:pt x="418" y="456"/>
                                    </a:lnTo>
                                    <a:lnTo>
                                      <a:pt x="418" y="452"/>
                                    </a:lnTo>
                                    <a:lnTo>
                                      <a:pt x="418" y="452"/>
                                    </a:lnTo>
                                    <a:lnTo>
                                      <a:pt x="418" y="452"/>
                                    </a:lnTo>
                                    <a:lnTo>
                                      <a:pt x="418" y="448"/>
                                    </a:lnTo>
                                    <a:lnTo>
                                      <a:pt x="418" y="448"/>
                                    </a:lnTo>
                                    <a:lnTo>
                                      <a:pt x="401" y="439"/>
                                    </a:lnTo>
                                    <a:lnTo>
                                      <a:pt x="379" y="430"/>
                                    </a:lnTo>
                                    <a:lnTo>
                                      <a:pt x="353" y="422"/>
                                    </a:lnTo>
                                    <a:lnTo>
                                      <a:pt x="323" y="413"/>
                                    </a:lnTo>
                                    <a:lnTo>
                                      <a:pt x="297" y="409"/>
                                    </a:lnTo>
                                    <a:lnTo>
                                      <a:pt x="267" y="405"/>
                                    </a:lnTo>
                                    <a:lnTo>
                                      <a:pt x="241" y="400"/>
                                    </a:lnTo>
                                    <a:lnTo>
                                      <a:pt x="220" y="400"/>
                                    </a:lnTo>
                                    <a:lnTo>
                                      <a:pt x="211" y="387"/>
                                    </a:lnTo>
                                    <a:lnTo>
                                      <a:pt x="194" y="374"/>
                                    </a:lnTo>
                                    <a:lnTo>
                                      <a:pt x="172" y="362"/>
                                    </a:lnTo>
                                    <a:lnTo>
                                      <a:pt x="146" y="344"/>
                                    </a:lnTo>
                                    <a:lnTo>
                                      <a:pt x="125" y="331"/>
                                    </a:lnTo>
                                    <a:lnTo>
                                      <a:pt x="99" y="323"/>
                                    </a:lnTo>
                                    <a:lnTo>
                                      <a:pt x="77" y="314"/>
                                    </a:lnTo>
                                    <a:lnTo>
                                      <a:pt x="64" y="314"/>
                                    </a:lnTo>
                                    <a:lnTo>
                                      <a:pt x="60" y="301"/>
                                    </a:lnTo>
                                    <a:lnTo>
                                      <a:pt x="56" y="288"/>
                                    </a:lnTo>
                                    <a:lnTo>
                                      <a:pt x="51" y="276"/>
                                    </a:lnTo>
                                    <a:lnTo>
                                      <a:pt x="43" y="263"/>
                                    </a:lnTo>
                                    <a:lnTo>
                                      <a:pt x="38" y="254"/>
                                    </a:lnTo>
                                    <a:lnTo>
                                      <a:pt x="30" y="241"/>
                                    </a:lnTo>
                                    <a:lnTo>
                                      <a:pt x="26" y="228"/>
                                    </a:lnTo>
                                    <a:lnTo>
                                      <a:pt x="26" y="215"/>
                                    </a:lnTo>
                                    <a:lnTo>
                                      <a:pt x="17" y="211"/>
                                    </a:lnTo>
                                    <a:lnTo>
                                      <a:pt x="13" y="198"/>
                                    </a:lnTo>
                                    <a:lnTo>
                                      <a:pt x="8" y="185"/>
                                    </a:lnTo>
                                    <a:lnTo>
                                      <a:pt x="4" y="164"/>
                                    </a:lnTo>
                                    <a:lnTo>
                                      <a:pt x="4" y="142"/>
                                    </a:lnTo>
                                    <a:lnTo>
                                      <a:pt x="4" y="121"/>
                                    </a:lnTo>
                                    <a:lnTo>
                                      <a:pt x="0" y="104"/>
                                    </a:lnTo>
                                    <a:lnTo>
                                      <a:pt x="0" y="95"/>
                                    </a:lnTo>
                                    <a:lnTo>
                                      <a:pt x="4" y="91"/>
                                    </a:lnTo>
                                    <a:lnTo>
                                      <a:pt x="13" y="86"/>
                                    </a:lnTo>
                                    <a:lnTo>
                                      <a:pt x="13" y="78"/>
                                    </a:lnTo>
                                    <a:lnTo>
                                      <a:pt x="17" y="69"/>
                                    </a:lnTo>
                                    <a:lnTo>
                                      <a:pt x="21" y="56"/>
                                    </a:lnTo>
                                    <a:lnTo>
                                      <a:pt x="26" y="48"/>
                                    </a:lnTo>
                                    <a:lnTo>
                                      <a:pt x="26" y="39"/>
                                    </a:lnTo>
                                    <a:lnTo>
                                      <a:pt x="26" y="30"/>
                                    </a:lnTo>
                                    <a:lnTo>
                                      <a:pt x="26" y="35"/>
                                    </a:lnTo>
                                    <a:lnTo>
                                      <a:pt x="26" y="39"/>
                                    </a:lnTo>
                                    <a:lnTo>
                                      <a:pt x="26" y="43"/>
                                    </a:lnTo>
                                    <a:lnTo>
                                      <a:pt x="26" y="43"/>
                                    </a:lnTo>
                                    <a:lnTo>
                                      <a:pt x="26" y="48"/>
                                    </a:lnTo>
                                    <a:lnTo>
                                      <a:pt x="26" y="52"/>
                                    </a:lnTo>
                                    <a:lnTo>
                                      <a:pt x="26" y="52"/>
                                    </a:lnTo>
                                    <a:lnTo>
                                      <a:pt x="26" y="56"/>
                                    </a:lnTo>
                                    <a:close/>
                                  </a:path>
                                </a:pathLst>
                              </a:custGeom>
                              <a:blipFill rotWithShape="0">
                                <a:blip r:embed="rId63"/>
                                <a:srcRect/>
                                <a:tile tx="0" ty="0" sx="100000" sy="100000" algn="ctr"/>
                              </a:blip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440" bIns="-14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167" name=""/>
                            <p:cNvGrpSpPr/>
                            <p:nvPr/>
                          </p:nvGrpSpPr>
                          <p:grpSpPr>
                            <a:xfrm>
                              <a:off x="1958760" y="945360"/>
                              <a:ext cx="530280" cy="688680"/>
                              <a:chOff x="1958760" y="945360"/>
                              <a:chExt cx="530280" cy="688680"/>
                            </a:xfrm>
                          </p:grpSpPr>
                          <p:grpSp>
                            <p:nvGrpSpPr>
                              <p:cNvPr id="168" name=""/>
                              <p:cNvGrpSpPr/>
                              <p:nvPr/>
                            </p:nvGrpSpPr>
                            <p:grpSpPr>
                              <a:xfrm>
                                <a:off x="1994400" y="996480"/>
                                <a:ext cx="494640" cy="462960"/>
                                <a:chOff x="1994400" y="996480"/>
                                <a:chExt cx="494640" cy="462960"/>
                              </a:xfrm>
                            </p:grpSpPr>
                            <p:sp>
                              <p:nvSpPr>
                                <p:cNvPr id="169" name=""/>
                                <p:cNvSpPr/>
                                <p:nvPr/>
                              </p:nvSpPr>
                              <p:spPr>
                                <a:xfrm rot="21306000">
                                  <a:off x="2312280" y="1183320"/>
                                  <a:ext cx="77040" cy="1476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755" h="1526">
                                      <a:moveTo>
                                        <a:pt x="39" y="774"/>
                                      </a:moveTo>
                                      <a:lnTo>
                                        <a:pt x="69" y="855"/>
                                      </a:lnTo>
                                      <a:lnTo>
                                        <a:pt x="95" y="946"/>
                                      </a:lnTo>
                                      <a:lnTo>
                                        <a:pt x="116" y="1040"/>
                                      </a:lnTo>
                                      <a:lnTo>
                                        <a:pt x="133" y="1143"/>
                                      </a:lnTo>
                                      <a:lnTo>
                                        <a:pt x="146" y="1242"/>
                                      </a:lnTo>
                                      <a:lnTo>
                                        <a:pt x="155" y="1341"/>
                                      </a:lnTo>
                                      <a:lnTo>
                                        <a:pt x="159" y="1436"/>
                                      </a:lnTo>
                                      <a:lnTo>
                                        <a:pt x="164" y="1526"/>
                                      </a:lnTo>
                                      <a:lnTo>
                                        <a:pt x="190" y="1492"/>
                                      </a:lnTo>
                                      <a:lnTo>
                                        <a:pt x="211" y="1462"/>
                                      </a:lnTo>
                                      <a:lnTo>
                                        <a:pt x="228" y="1427"/>
                                      </a:lnTo>
                                      <a:lnTo>
                                        <a:pt x="237" y="1388"/>
                                      </a:lnTo>
                                      <a:lnTo>
                                        <a:pt x="246" y="1354"/>
                                      </a:lnTo>
                                      <a:lnTo>
                                        <a:pt x="246" y="1315"/>
                                      </a:lnTo>
                                      <a:lnTo>
                                        <a:pt x="246" y="1277"/>
                                      </a:lnTo>
                                      <a:lnTo>
                                        <a:pt x="246" y="1238"/>
                                      </a:lnTo>
                                      <a:lnTo>
                                        <a:pt x="233" y="1161"/>
                                      </a:lnTo>
                                      <a:lnTo>
                                        <a:pt x="220" y="1083"/>
                                      </a:lnTo>
                                      <a:lnTo>
                                        <a:pt x="207" y="1006"/>
                                      </a:lnTo>
                                      <a:lnTo>
                                        <a:pt x="202" y="937"/>
                                      </a:lnTo>
                                      <a:lnTo>
                                        <a:pt x="215" y="937"/>
                                      </a:lnTo>
                                      <a:lnTo>
                                        <a:pt x="228" y="946"/>
                                      </a:lnTo>
                                      <a:lnTo>
                                        <a:pt x="246" y="954"/>
                                      </a:lnTo>
                                      <a:lnTo>
                                        <a:pt x="263" y="967"/>
                                      </a:lnTo>
                                      <a:lnTo>
                                        <a:pt x="302" y="1001"/>
                                      </a:lnTo>
                                      <a:lnTo>
                                        <a:pt x="345" y="1044"/>
                                      </a:lnTo>
                                      <a:lnTo>
                                        <a:pt x="384" y="1083"/>
                                      </a:lnTo>
                                      <a:lnTo>
                                        <a:pt x="418" y="1126"/>
                                      </a:lnTo>
                                      <a:lnTo>
                                        <a:pt x="448" y="1156"/>
                                      </a:lnTo>
                                      <a:lnTo>
                                        <a:pt x="470" y="1178"/>
                                      </a:lnTo>
                                      <a:lnTo>
                                        <a:pt x="470" y="1139"/>
                                      </a:lnTo>
                                      <a:lnTo>
                                        <a:pt x="470" y="1092"/>
                                      </a:lnTo>
                                      <a:lnTo>
                                        <a:pt x="470" y="1044"/>
                                      </a:lnTo>
                                      <a:lnTo>
                                        <a:pt x="474" y="997"/>
                                      </a:lnTo>
                                      <a:lnTo>
                                        <a:pt x="479" y="946"/>
                                      </a:lnTo>
                                      <a:lnTo>
                                        <a:pt x="487" y="898"/>
                                      </a:lnTo>
                                      <a:lnTo>
                                        <a:pt x="496" y="855"/>
                                      </a:lnTo>
                                      <a:lnTo>
                                        <a:pt x="509" y="812"/>
                                      </a:lnTo>
                                      <a:lnTo>
                                        <a:pt x="504" y="804"/>
                                      </a:lnTo>
                                      <a:lnTo>
                                        <a:pt x="500" y="791"/>
                                      </a:lnTo>
                                      <a:lnTo>
                                        <a:pt x="492" y="774"/>
                                      </a:lnTo>
                                      <a:lnTo>
                                        <a:pt x="479" y="752"/>
                                      </a:lnTo>
                                      <a:lnTo>
                                        <a:pt x="466" y="735"/>
                                      </a:lnTo>
                                      <a:lnTo>
                                        <a:pt x="457" y="718"/>
                                      </a:lnTo>
                                      <a:lnTo>
                                        <a:pt x="448" y="700"/>
                                      </a:lnTo>
                                      <a:lnTo>
                                        <a:pt x="448" y="692"/>
                                      </a:lnTo>
                                      <a:lnTo>
                                        <a:pt x="569" y="692"/>
                                      </a:lnTo>
                                      <a:lnTo>
                                        <a:pt x="591" y="365"/>
                                      </a:lnTo>
                                      <a:lnTo>
                                        <a:pt x="604" y="369"/>
                                      </a:lnTo>
                                      <a:lnTo>
                                        <a:pt x="621" y="378"/>
                                      </a:lnTo>
                                      <a:lnTo>
                                        <a:pt x="638" y="391"/>
                                      </a:lnTo>
                                      <a:lnTo>
                                        <a:pt x="651" y="408"/>
                                      </a:lnTo>
                                      <a:lnTo>
                                        <a:pt x="668" y="421"/>
                                      </a:lnTo>
                                      <a:lnTo>
                                        <a:pt x="681" y="434"/>
                                      </a:lnTo>
                                      <a:lnTo>
                                        <a:pt x="699" y="442"/>
                                      </a:lnTo>
                                      <a:lnTo>
                                        <a:pt x="712" y="447"/>
                                      </a:lnTo>
                                      <a:lnTo>
                                        <a:pt x="707" y="447"/>
                                      </a:lnTo>
                                      <a:lnTo>
                                        <a:pt x="699" y="438"/>
                                      </a:lnTo>
                                      <a:lnTo>
                                        <a:pt x="694" y="430"/>
                                      </a:lnTo>
                                      <a:lnTo>
                                        <a:pt x="690" y="417"/>
                                      </a:lnTo>
                                      <a:lnTo>
                                        <a:pt x="681" y="387"/>
                                      </a:lnTo>
                                      <a:lnTo>
                                        <a:pt x="673" y="352"/>
                                      </a:lnTo>
                                      <a:lnTo>
                                        <a:pt x="668" y="313"/>
                                      </a:lnTo>
                                      <a:lnTo>
                                        <a:pt x="664" y="275"/>
                                      </a:lnTo>
                                      <a:lnTo>
                                        <a:pt x="660" y="245"/>
                                      </a:lnTo>
                                      <a:lnTo>
                                        <a:pt x="651" y="223"/>
                                      </a:lnTo>
                                      <a:lnTo>
                                        <a:pt x="660" y="215"/>
                                      </a:lnTo>
                                      <a:lnTo>
                                        <a:pt x="668" y="210"/>
                                      </a:lnTo>
                                      <a:lnTo>
                                        <a:pt x="681" y="202"/>
                                      </a:lnTo>
                                      <a:lnTo>
                                        <a:pt x="694" y="197"/>
                                      </a:lnTo>
                                      <a:lnTo>
                                        <a:pt x="707" y="193"/>
                                      </a:lnTo>
                                      <a:lnTo>
                                        <a:pt x="724" y="189"/>
                                      </a:lnTo>
                                      <a:lnTo>
                                        <a:pt x="737" y="184"/>
                                      </a:lnTo>
                                      <a:lnTo>
                                        <a:pt x="755" y="184"/>
                                      </a:lnTo>
                                      <a:lnTo>
                                        <a:pt x="750" y="163"/>
                                      </a:lnTo>
                                      <a:lnTo>
                                        <a:pt x="746" y="137"/>
                                      </a:lnTo>
                                      <a:lnTo>
                                        <a:pt x="737" y="107"/>
                                      </a:lnTo>
                                      <a:lnTo>
                                        <a:pt x="729" y="77"/>
                                      </a:lnTo>
                                      <a:lnTo>
                                        <a:pt x="716" y="47"/>
                                      </a:lnTo>
                                      <a:lnTo>
                                        <a:pt x="703" y="25"/>
                                      </a:lnTo>
                                      <a:lnTo>
                                        <a:pt x="686" y="8"/>
                                      </a:lnTo>
                                      <a:lnTo>
                                        <a:pt x="673" y="0"/>
                                      </a:lnTo>
                                      <a:lnTo>
                                        <a:pt x="673" y="206"/>
                                      </a:lnTo>
                                      <a:lnTo>
                                        <a:pt x="655" y="202"/>
                                      </a:lnTo>
                                      <a:lnTo>
                                        <a:pt x="638" y="193"/>
                                      </a:lnTo>
                                      <a:lnTo>
                                        <a:pt x="621" y="184"/>
                                      </a:lnTo>
                                      <a:lnTo>
                                        <a:pt x="604" y="172"/>
                                      </a:lnTo>
                                      <a:lnTo>
                                        <a:pt x="586" y="163"/>
                                      </a:lnTo>
                                      <a:lnTo>
                                        <a:pt x="573" y="154"/>
                                      </a:lnTo>
                                      <a:lnTo>
                                        <a:pt x="561" y="146"/>
                                      </a:lnTo>
                                      <a:lnTo>
                                        <a:pt x="548" y="141"/>
                                      </a:lnTo>
                                      <a:lnTo>
                                        <a:pt x="552" y="146"/>
                                      </a:lnTo>
                                      <a:lnTo>
                                        <a:pt x="556" y="159"/>
                                      </a:lnTo>
                                      <a:lnTo>
                                        <a:pt x="561" y="176"/>
                                      </a:lnTo>
                                      <a:lnTo>
                                        <a:pt x="569" y="197"/>
                                      </a:lnTo>
                                      <a:lnTo>
                                        <a:pt x="578" y="223"/>
                                      </a:lnTo>
                                      <a:lnTo>
                                        <a:pt x="582" y="245"/>
                                      </a:lnTo>
                                      <a:lnTo>
                                        <a:pt x="586" y="266"/>
                                      </a:lnTo>
                                      <a:lnTo>
                                        <a:pt x="591" y="283"/>
                                      </a:lnTo>
                                      <a:lnTo>
                                        <a:pt x="569" y="326"/>
                                      </a:lnTo>
                                      <a:lnTo>
                                        <a:pt x="561" y="322"/>
                                      </a:lnTo>
                                      <a:lnTo>
                                        <a:pt x="543" y="318"/>
                                      </a:lnTo>
                                      <a:lnTo>
                                        <a:pt x="526" y="313"/>
                                      </a:lnTo>
                                      <a:lnTo>
                                        <a:pt x="509" y="305"/>
                                      </a:lnTo>
                                      <a:lnTo>
                                        <a:pt x="492" y="292"/>
                                      </a:lnTo>
                                      <a:lnTo>
                                        <a:pt x="474" y="283"/>
                                      </a:lnTo>
                                      <a:lnTo>
                                        <a:pt x="457" y="275"/>
                                      </a:lnTo>
                                      <a:lnTo>
                                        <a:pt x="448" y="266"/>
                                      </a:lnTo>
                                      <a:lnTo>
                                        <a:pt x="435" y="313"/>
                                      </a:lnTo>
                                      <a:lnTo>
                                        <a:pt x="431" y="369"/>
                                      </a:lnTo>
                                      <a:lnTo>
                                        <a:pt x="431" y="430"/>
                                      </a:lnTo>
                                      <a:lnTo>
                                        <a:pt x="435" y="490"/>
                                      </a:lnTo>
                                      <a:lnTo>
                                        <a:pt x="448" y="554"/>
                                      </a:lnTo>
                                      <a:lnTo>
                                        <a:pt x="457" y="614"/>
                                      </a:lnTo>
                                      <a:lnTo>
                                        <a:pt x="474" y="675"/>
                                      </a:lnTo>
                                      <a:lnTo>
                                        <a:pt x="487" y="731"/>
                                      </a:lnTo>
                                      <a:lnTo>
                                        <a:pt x="470" y="774"/>
                                      </a:lnTo>
                                      <a:lnTo>
                                        <a:pt x="435" y="769"/>
                                      </a:lnTo>
                                      <a:lnTo>
                                        <a:pt x="410" y="761"/>
                                      </a:lnTo>
                                      <a:lnTo>
                                        <a:pt x="388" y="743"/>
                                      </a:lnTo>
                                      <a:lnTo>
                                        <a:pt x="366" y="726"/>
                                      </a:lnTo>
                                      <a:lnTo>
                                        <a:pt x="349" y="700"/>
                                      </a:lnTo>
                                      <a:lnTo>
                                        <a:pt x="336" y="675"/>
                                      </a:lnTo>
                                      <a:lnTo>
                                        <a:pt x="323" y="649"/>
                                      </a:lnTo>
                                      <a:lnTo>
                                        <a:pt x="315" y="619"/>
                                      </a:lnTo>
                                      <a:lnTo>
                                        <a:pt x="297" y="563"/>
                                      </a:lnTo>
                                      <a:lnTo>
                                        <a:pt x="280" y="516"/>
                                      </a:lnTo>
                                      <a:lnTo>
                                        <a:pt x="267" y="498"/>
                                      </a:lnTo>
                                      <a:lnTo>
                                        <a:pt x="254" y="481"/>
                                      </a:lnTo>
                                      <a:lnTo>
                                        <a:pt x="241" y="473"/>
                                      </a:lnTo>
                                      <a:lnTo>
                                        <a:pt x="224" y="468"/>
                                      </a:lnTo>
                                      <a:lnTo>
                                        <a:pt x="224" y="516"/>
                                      </a:lnTo>
                                      <a:lnTo>
                                        <a:pt x="224" y="567"/>
                                      </a:lnTo>
                                      <a:lnTo>
                                        <a:pt x="224" y="619"/>
                                      </a:lnTo>
                                      <a:lnTo>
                                        <a:pt x="228" y="670"/>
                                      </a:lnTo>
                                      <a:lnTo>
                                        <a:pt x="233" y="718"/>
                                      </a:lnTo>
                                      <a:lnTo>
                                        <a:pt x="241" y="769"/>
                                      </a:lnTo>
                                      <a:lnTo>
                                        <a:pt x="250" y="812"/>
                                      </a:lnTo>
                                      <a:lnTo>
                                        <a:pt x="263" y="855"/>
                                      </a:lnTo>
                                      <a:lnTo>
                                        <a:pt x="263" y="864"/>
                                      </a:lnTo>
                                      <a:lnTo>
                                        <a:pt x="259" y="868"/>
                                      </a:lnTo>
                                      <a:lnTo>
                                        <a:pt x="250" y="877"/>
                                      </a:lnTo>
                                      <a:lnTo>
                                        <a:pt x="246" y="885"/>
                                      </a:lnTo>
                                      <a:lnTo>
                                        <a:pt x="237" y="894"/>
                                      </a:lnTo>
                                      <a:lnTo>
                                        <a:pt x="228" y="898"/>
                                      </a:lnTo>
                                      <a:lnTo>
                                        <a:pt x="224" y="907"/>
                                      </a:lnTo>
                                      <a:lnTo>
                                        <a:pt x="224" y="915"/>
                                      </a:lnTo>
                                      <a:lnTo>
                                        <a:pt x="202" y="915"/>
                                      </a:lnTo>
                                      <a:lnTo>
                                        <a:pt x="181" y="915"/>
                                      </a:lnTo>
                                      <a:lnTo>
                                        <a:pt x="168" y="860"/>
                                      </a:lnTo>
                                      <a:lnTo>
                                        <a:pt x="159" y="799"/>
                                      </a:lnTo>
                                      <a:lnTo>
                                        <a:pt x="151" y="739"/>
                                      </a:lnTo>
                                      <a:lnTo>
                                        <a:pt x="138" y="679"/>
                                      </a:lnTo>
                                      <a:lnTo>
                                        <a:pt x="129" y="649"/>
                                      </a:lnTo>
                                      <a:lnTo>
                                        <a:pt x="116" y="623"/>
                                      </a:lnTo>
                                      <a:lnTo>
                                        <a:pt x="108" y="593"/>
                                      </a:lnTo>
                                      <a:lnTo>
                                        <a:pt x="90" y="571"/>
                                      </a:lnTo>
                                      <a:lnTo>
                                        <a:pt x="73" y="546"/>
                                      </a:lnTo>
                                      <a:lnTo>
                                        <a:pt x="51" y="524"/>
                                      </a:lnTo>
                                      <a:lnTo>
                                        <a:pt x="26" y="507"/>
                                      </a:lnTo>
                                      <a:lnTo>
                                        <a:pt x="0" y="490"/>
                                      </a:lnTo>
                                      <a:lnTo>
                                        <a:pt x="0" y="520"/>
                                      </a:lnTo>
                                      <a:lnTo>
                                        <a:pt x="4" y="554"/>
                                      </a:lnTo>
                                      <a:lnTo>
                                        <a:pt x="4" y="593"/>
                                      </a:lnTo>
                                      <a:lnTo>
                                        <a:pt x="8" y="632"/>
                                      </a:lnTo>
                                      <a:lnTo>
                                        <a:pt x="13" y="670"/>
                                      </a:lnTo>
                                      <a:lnTo>
                                        <a:pt x="17" y="705"/>
                                      </a:lnTo>
                                      <a:lnTo>
                                        <a:pt x="17" y="739"/>
                                      </a:lnTo>
                                      <a:lnTo>
                                        <a:pt x="21" y="774"/>
                                      </a:lnTo>
                                      <a:lnTo>
                                        <a:pt x="60" y="795"/>
                                      </a:lnTo>
                                      <a:lnTo>
                                        <a:pt x="39" y="774"/>
                                      </a:lnTo>
                                      <a:close/>
                                    </a:path>
                                  </a:pathLst>
                                </a:custGeom>
                                <a:blipFill rotWithShape="0">
                                  <a:blip r:embed="rId64"/>
                                  <a:srcRect/>
                                  <a:tile tx="0" ty="0" sx="100000" sy="100000" algn="ctr"/>
                                </a:blip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70" name=""/>
                                <p:cNvSpPr/>
                                <p:nvPr/>
                              </p:nvSpPr>
                              <p:spPr>
                                <a:xfrm rot="21306000">
                                  <a:off x="2295360" y="1144440"/>
                                  <a:ext cx="180720" cy="30744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65" h="3173">
                                      <a:moveTo>
                                        <a:pt x="1277" y="185"/>
                                      </a:moveTo>
                                      <a:lnTo>
                                        <a:pt x="1303" y="275"/>
                                      </a:lnTo>
                                      <a:lnTo>
                                        <a:pt x="1333" y="383"/>
                                      </a:lnTo>
                                      <a:lnTo>
                                        <a:pt x="1364" y="495"/>
                                      </a:lnTo>
                                      <a:lnTo>
                                        <a:pt x="1385" y="615"/>
                                      </a:lnTo>
                                      <a:lnTo>
                                        <a:pt x="1389" y="671"/>
                                      </a:lnTo>
                                      <a:lnTo>
                                        <a:pt x="1394" y="727"/>
                                      </a:lnTo>
                                      <a:lnTo>
                                        <a:pt x="1394" y="783"/>
                                      </a:lnTo>
                                      <a:lnTo>
                                        <a:pt x="1389" y="834"/>
                                      </a:lnTo>
                                      <a:lnTo>
                                        <a:pt x="1381" y="882"/>
                                      </a:lnTo>
                                      <a:lnTo>
                                        <a:pt x="1368" y="925"/>
                                      </a:lnTo>
                                      <a:lnTo>
                                        <a:pt x="1346" y="963"/>
                                      </a:lnTo>
                                      <a:lnTo>
                                        <a:pt x="1320" y="998"/>
                                      </a:lnTo>
                                      <a:lnTo>
                                        <a:pt x="1329" y="998"/>
                                      </a:lnTo>
                                      <a:lnTo>
                                        <a:pt x="1333" y="993"/>
                                      </a:lnTo>
                                      <a:lnTo>
                                        <a:pt x="1342" y="989"/>
                                      </a:lnTo>
                                      <a:lnTo>
                                        <a:pt x="1346" y="985"/>
                                      </a:lnTo>
                                      <a:lnTo>
                                        <a:pt x="1355" y="976"/>
                                      </a:lnTo>
                                      <a:lnTo>
                                        <a:pt x="1355" y="972"/>
                                      </a:lnTo>
                                      <a:lnTo>
                                        <a:pt x="1359" y="963"/>
                                      </a:lnTo>
                                      <a:lnTo>
                                        <a:pt x="1359" y="955"/>
                                      </a:lnTo>
                                      <a:lnTo>
                                        <a:pt x="1359" y="933"/>
                                      </a:lnTo>
                                      <a:lnTo>
                                        <a:pt x="1355" y="912"/>
                                      </a:lnTo>
                                      <a:lnTo>
                                        <a:pt x="1351" y="890"/>
                                      </a:lnTo>
                                      <a:lnTo>
                                        <a:pt x="1342" y="869"/>
                                      </a:lnTo>
                                      <a:lnTo>
                                        <a:pt x="1333" y="851"/>
                                      </a:lnTo>
                                      <a:lnTo>
                                        <a:pt x="1316" y="834"/>
                                      </a:lnTo>
                                      <a:lnTo>
                                        <a:pt x="1299" y="821"/>
                                      </a:lnTo>
                                      <a:lnTo>
                                        <a:pt x="1277" y="813"/>
                                      </a:lnTo>
                                      <a:lnTo>
                                        <a:pt x="1238" y="1320"/>
                                      </a:lnTo>
                                      <a:lnTo>
                                        <a:pt x="1230" y="1307"/>
                                      </a:lnTo>
                                      <a:lnTo>
                                        <a:pt x="1221" y="1290"/>
                                      </a:lnTo>
                                      <a:lnTo>
                                        <a:pt x="1213" y="1277"/>
                                      </a:lnTo>
                                      <a:lnTo>
                                        <a:pt x="1204" y="1260"/>
                                      </a:lnTo>
                                      <a:lnTo>
                                        <a:pt x="1195" y="1247"/>
                                      </a:lnTo>
                                      <a:lnTo>
                                        <a:pt x="1182" y="1230"/>
                                      </a:lnTo>
                                      <a:lnTo>
                                        <a:pt x="1169" y="1217"/>
                                      </a:lnTo>
                                      <a:lnTo>
                                        <a:pt x="1156" y="1200"/>
                                      </a:lnTo>
                                      <a:lnTo>
                                        <a:pt x="1144" y="1234"/>
                                      </a:lnTo>
                                      <a:lnTo>
                                        <a:pt x="1139" y="1273"/>
                                      </a:lnTo>
                                      <a:lnTo>
                                        <a:pt x="1135" y="1312"/>
                                      </a:lnTo>
                                      <a:lnTo>
                                        <a:pt x="1139" y="1355"/>
                                      </a:lnTo>
                                      <a:lnTo>
                                        <a:pt x="1148" y="1441"/>
                                      </a:lnTo>
                                      <a:lnTo>
                                        <a:pt x="1161" y="1531"/>
                                      </a:lnTo>
                                      <a:lnTo>
                                        <a:pt x="1161" y="1578"/>
                                      </a:lnTo>
                                      <a:lnTo>
                                        <a:pt x="1165" y="1621"/>
                                      </a:lnTo>
                                      <a:lnTo>
                                        <a:pt x="1161" y="1668"/>
                                      </a:lnTo>
                                      <a:lnTo>
                                        <a:pt x="1152" y="1716"/>
                                      </a:lnTo>
                                      <a:lnTo>
                                        <a:pt x="1139" y="1759"/>
                                      </a:lnTo>
                                      <a:lnTo>
                                        <a:pt x="1122" y="1806"/>
                                      </a:lnTo>
                                      <a:lnTo>
                                        <a:pt x="1092" y="1849"/>
                                      </a:lnTo>
                                      <a:lnTo>
                                        <a:pt x="1053" y="1892"/>
                                      </a:lnTo>
                                      <a:lnTo>
                                        <a:pt x="1036" y="1892"/>
                                      </a:lnTo>
                                      <a:lnTo>
                                        <a:pt x="1014" y="1892"/>
                                      </a:lnTo>
                                      <a:lnTo>
                                        <a:pt x="1010" y="1875"/>
                                      </a:lnTo>
                                      <a:lnTo>
                                        <a:pt x="1005" y="1858"/>
                                      </a:lnTo>
                                      <a:lnTo>
                                        <a:pt x="1001" y="1840"/>
                                      </a:lnTo>
                                      <a:lnTo>
                                        <a:pt x="993" y="1823"/>
                                      </a:lnTo>
                                      <a:lnTo>
                                        <a:pt x="984" y="1806"/>
                                      </a:lnTo>
                                      <a:lnTo>
                                        <a:pt x="980" y="1793"/>
                                      </a:lnTo>
                                      <a:lnTo>
                                        <a:pt x="975" y="1780"/>
                                      </a:lnTo>
                                      <a:lnTo>
                                        <a:pt x="971" y="1767"/>
                                      </a:lnTo>
                                      <a:lnTo>
                                        <a:pt x="971" y="1823"/>
                                      </a:lnTo>
                                      <a:lnTo>
                                        <a:pt x="958" y="1875"/>
                                      </a:lnTo>
                                      <a:lnTo>
                                        <a:pt x="945" y="1926"/>
                                      </a:lnTo>
                                      <a:lnTo>
                                        <a:pt x="932" y="1978"/>
                                      </a:lnTo>
                                      <a:lnTo>
                                        <a:pt x="919" y="2025"/>
                                      </a:lnTo>
                                      <a:lnTo>
                                        <a:pt x="902" y="2073"/>
                                      </a:lnTo>
                                      <a:lnTo>
                                        <a:pt x="893" y="2116"/>
                                      </a:lnTo>
                                      <a:lnTo>
                                        <a:pt x="893" y="2154"/>
                                      </a:lnTo>
                                      <a:lnTo>
                                        <a:pt x="885" y="2154"/>
                                      </a:lnTo>
                                      <a:lnTo>
                                        <a:pt x="876" y="2159"/>
                                      </a:lnTo>
                                      <a:lnTo>
                                        <a:pt x="867" y="2163"/>
                                      </a:lnTo>
                                      <a:lnTo>
                                        <a:pt x="863" y="2167"/>
                                      </a:lnTo>
                                      <a:lnTo>
                                        <a:pt x="859" y="2176"/>
                                      </a:lnTo>
                                      <a:lnTo>
                                        <a:pt x="854" y="2180"/>
                                      </a:lnTo>
                                      <a:lnTo>
                                        <a:pt x="850" y="2189"/>
                                      </a:lnTo>
                                      <a:lnTo>
                                        <a:pt x="850" y="2197"/>
                                      </a:lnTo>
                                      <a:lnTo>
                                        <a:pt x="837" y="2193"/>
                                      </a:lnTo>
                                      <a:lnTo>
                                        <a:pt x="829" y="2189"/>
                                      </a:lnTo>
                                      <a:lnTo>
                                        <a:pt x="820" y="2184"/>
                                      </a:lnTo>
                                      <a:lnTo>
                                        <a:pt x="811" y="2176"/>
                                      </a:lnTo>
                                      <a:lnTo>
                                        <a:pt x="807" y="2167"/>
                                      </a:lnTo>
                                      <a:lnTo>
                                        <a:pt x="803" y="2163"/>
                                      </a:lnTo>
                                      <a:lnTo>
                                        <a:pt x="794" y="2159"/>
                                      </a:lnTo>
                                      <a:lnTo>
                                        <a:pt x="790" y="2154"/>
                                      </a:lnTo>
                                      <a:lnTo>
                                        <a:pt x="747" y="1466"/>
                                      </a:lnTo>
                                      <a:lnTo>
                                        <a:pt x="755" y="1466"/>
                                      </a:lnTo>
                                      <a:lnTo>
                                        <a:pt x="768" y="1471"/>
                                      </a:lnTo>
                                      <a:lnTo>
                                        <a:pt x="777" y="1479"/>
                                      </a:lnTo>
                                      <a:lnTo>
                                        <a:pt x="790" y="1484"/>
                                      </a:lnTo>
                                      <a:lnTo>
                                        <a:pt x="803" y="1492"/>
                                      </a:lnTo>
                                      <a:lnTo>
                                        <a:pt x="811" y="1496"/>
                                      </a:lnTo>
                                      <a:lnTo>
                                        <a:pt x="820" y="1505"/>
                                      </a:lnTo>
                                      <a:lnTo>
                                        <a:pt x="829" y="1505"/>
                                      </a:lnTo>
                                      <a:lnTo>
                                        <a:pt x="829" y="1320"/>
                                      </a:lnTo>
                                      <a:lnTo>
                                        <a:pt x="837" y="1324"/>
                                      </a:lnTo>
                                      <a:lnTo>
                                        <a:pt x="846" y="1324"/>
                                      </a:lnTo>
                                      <a:lnTo>
                                        <a:pt x="854" y="1329"/>
                                      </a:lnTo>
                                      <a:lnTo>
                                        <a:pt x="863" y="1333"/>
                                      </a:lnTo>
                                      <a:lnTo>
                                        <a:pt x="872" y="1337"/>
                                      </a:lnTo>
                                      <a:lnTo>
                                        <a:pt x="885" y="1337"/>
                                      </a:lnTo>
                                      <a:lnTo>
                                        <a:pt x="898" y="1342"/>
                                      </a:lnTo>
                                      <a:lnTo>
                                        <a:pt x="911" y="1342"/>
                                      </a:lnTo>
                                      <a:lnTo>
                                        <a:pt x="915" y="1363"/>
                                      </a:lnTo>
                                      <a:lnTo>
                                        <a:pt x="919" y="1389"/>
                                      </a:lnTo>
                                      <a:lnTo>
                                        <a:pt x="932" y="1423"/>
                                      </a:lnTo>
                                      <a:lnTo>
                                        <a:pt x="941" y="1458"/>
                                      </a:lnTo>
                                      <a:lnTo>
                                        <a:pt x="954" y="1492"/>
                                      </a:lnTo>
                                      <a:lnTo>
                                        <a:pt x="962" y="1527"/>
                                      </a:lnTo>
                                      <a:lnTo>
                                        <a:pt x="971" y="1561"/>
                                      </a:lnTo>
                                      <a:lnTo>
                                        <a:pt x="971" y="1587"/>
                                      </a:lnTo>
                                      <a:lnTo>
                                        <a:pt x="993" y="1036"/>
                                      </a:lnTo>
                                      <a:lnTo>
                                        <a:pt x="1010" y="1041"/>
                                      </a:lnTo>
                                      <a:lnTo>
                                        <a:pt x="1027" y="1045"/>
                                      </a:lnTo>
                                      <a:lnTo>
                                        <a:pt x="1044" y="1049"/>
                                      </a:lnTo>
                                      <a:lnTo>
                                        <a:pt x="1066" y="1058"/>
                                      </a:lnTo>
                                      <a:lnTo>
                                        <a:pt x="1083" y="1066"/>
                                      </a:lnTo>
                                      <a:lnTo>
                                        <a:pt x="1100" y="1071"/>
                                      </a:lnTo>
                                      <a:lnTo>
                                        <a:pt x="1122" y="1075"/>
                                      </a:lnTo>
                                      <a:lnTo>
                                        <a:pt x="1135" y="1079"/>
                                      </a:lnTo>
                                      <a:lnTo>
                                        <a:pt x="1135" y="1097"/>
                                      </a:lnTo>
                                      <a:lnTo>
                                        <a:pt x="1135" y="1118"/>
                                      </a:lnTo>
                                      <a:lnTo>
                                        <a:pt x="1118" y="671"/>
                                      </a:lnTo>
                                      <a:lnTo>
                                        <a:pt x="1139" y="675"/>
                                      </a:lnTo>
                                      <a:lnTo>
                                        <a:pt x="1156" y="684"/>
                                      </a:lnTo>
                                      <a:lnTo>
                                        <a:pt x="1178" y="701"/>
                                      </a:lnTo>
                                      <a:lnTo>
                                        <a:pt x="1195" y="718"/>
                                      </a:lnTo>
                                      <a:lnTo>
                                        <a:pt x="1213" y="735"/>
                                      </a:lnTo>
                                      <a:lnTo>
                                        <a:pt x="1225" y="757"/>
                                      </a:lnTo>
                                      <a:lnTo>
                                        <a:pt x="1243" y="778"/>
                                      </a:lnTo>
                                      <a:lnTo>
                                        <a:pt x="1260" y="796"/>
                                      </a:lnTo>
                                      <a:lnTo>
                                        <a:pt x="1251" y="791"/>
                                      </a:lnTo>
                                      <a:lnTo>
                                        <a:pt x="1243" y="778"/>
                                      </a:lnTo>
                                      <a:lnTo>
                                        <a:pt x="1238" y="765"/>
                                      </a:lnTo>
                                      <a:lnTo>
                                        <a:pt x="1234" y="744"/>
                                      </a:lnTo>
                                      <a:lnTo>
                                        <a:pt x="1225" y="692"/>
                                      </a:lnTo>
                                      <a:lnTo>
                                        <a:pt x="1221" y="632"/>
                                      </a:lnTo>
                                      <a:lnTo>
                                        <a:pt x="1221" y="563"/>
                                      </a:lnTo>
                                      <a:lnTo>
                                        <a:pt x="1217" y="503"/>
                                      </a:lnTo>
                                      <a:lnTo>
                                        <a:pt x="1217" y="447"/>
                                      </a:lnTo>
                                      <a:lnTo>
                                        <a:pt x="1217" y="409"/>
                                      </a:lnTo>
                                      <a:lnTo>
                                        <a:pt x="1195" y="387"/>
                                      </a:lnTo>
                                      <a:lnTo>
                                        <a:pt x="1191" y="396"/>
                                      </a:lnTo>
                                      <a:lnTo>
                                        <a:pt x="1187" y="413"/>
                                      </a:lnTo>
                                      <a:lnTo>
                                        <a:pt x="1187" y="434"/>
                                      </a:lnTo>
                                      <a:lnTo>
                                        <a:pt x="1191" y="460"/>
                                      </a:lnTo>
                                      <a:lnTo>
                                        <a:pt x="1195" y="520"/>
                                      </a:lnTo>
                                      <a:lnTo>
                                        <a:pt x="1208" y="589"/>
                                      </a:lnTo>
                                      <a:lnTo>
                                        <a:pt x="1217" y="658"/>
                                      </a:lnTo>
                                      <a:lnTo>
                                        <a:pt x="1225" y="727"/>
                                      </a:lnTo>
                                      <a:lnTo>
                                        <a:pt x="1225" y="757"/>
                                      </a:lnTo>
                                      <a:lnTo>
                                        <a:pt x="1225" y="787"/>
                                      </a:lnTo>
                                      <a:lnTo>
                                        <a:pt x="1225" y="813"/>
                                      </a:lnTo>
                                      <a:lnTo>
                                        <a:pt x="1217" y="834"/>
                                      </a:lnTo>
                                      <a:lnTo>
                                        <a:pt x="1204" y="821"/>
                                      </a:lnTo>
                                      <a:lnTo>
                                        <a:pt x="1191" y="804"/>
                                      </a:lnTo>
                                      <a:lnTo>
                                        <a:pt x="1178" y="783"/>
                                      </a:lnTo>
                                      <a:lnTo>
                                        <a:pt x="1169" y="757"/>
                                      </a:lnTo>
                                      <a:lnTo>
                                        <a:pt x="1152" y="692"/>
                                      </a:lnTo>
                                      <a:lnTo>
                                        <a:pt x="1135" y="628"/>
                                      </a:lnTo>
                                      <a:lnTo>
                                        <a:pt x="1113" y="559"/>
                                      </a:lnTo>
                                      <a:lnTo>
                                        <a:pt x="1096" y="503"/>
                                      </a:lnTo>
                                      <a:lnTo>
                                        <a:pt x="1083" y="482"/>
                                      </a:lnTo>
                                      <a:lnTo>
                                        <a:pt x="1066" y="464"/>
                                      </a:lnTo>
                                      <a:lnTo>
                                        <a:pt x="1053" y="452"/>
                                      </a:lnTo>
                                      <a:lnTo>
                                        <a:pt x="1036" y="447"/>
                                      </a:lnTo>
                                      <a:lnTo>
                                        <a:pt x="1036" y="507"/>
                                      </a:lnTo>
                                      <a:lnTo>
                                        <a:pt x="1044" y="576"/>
                                      </a:lnTo>
                                      <a:lnTo>
                                        <a:pt x="1057" y="654"/>
                                      </a:lnTo>
                                      <a:lnTo>
                                        <a:pt x="1066" y="731"/>
                                      </a:lnTo>
                                      <a:lnTo>
                                        <a:pt x="1074" y="808"/>
                                      </a:lnTo>
                                      <a:lnTo>
                                        <a:pt x="1079" y="882"/>
                                      </a:lnTo>
                                      <a:lnTo>
                                        <a:pt x="1074" y="912"/>
                                      </a:lnTo>
                                      <a:lnTo>
                                        <a:pt x="1070" y="946"/>
                                      </a:lnTo>
                                      <a:lnTo>
                                        <a:pt x="1066" y="972"/>
                                      </a:lnTo>
                                      <a:lnTo>
                                        <a:pt x="1053" y="998"/>
                                      </a:lnTo>
                                      <a:lnTo>
                                        <a:pt x="1036" y="998"/>
                                      </a:lnTo>
                                      <a:lnTo>
                                        <a:pt x="1014" y="998"/>
                                      </a:lnTo>
                                      <a:lnTo>
                                        <a:pt x="993" y="955"/>
                                      </a:lnTo>
                                      <a:lnTo>
                                        <a:pt x="971" y="955"/>
                                      </a:lnTo>
                                      <a:lnTo>
                                        <a:pt x="954" y="955"/>
                                      </a:lnTo>
                                      <a:lnTo>
                                        <a:pt x="954" y="950"/>
                                      </a:lnTo>
                                      <a:lnTo>
                                        <a:pt x="949" y="946"/>
                                      </a:lnTo>
                                      <a:lnTo>
                                        <a:pt x="945" y="942"/>
                                      </a:lnTo>
                                      <a:lnTo>
                                        <a:pt x="945" y="937"/>
                                      </a:lnTo>
                                      <a:lnTo>
                                        <a:pt x="945" y="937"/>
                                      </a:lnTo>
                                      <a:lnTo>
                                        <a:pt x="945" y="937"/>
                                      </a:lnTo>
                                      <a:lnTo>
                                        <a:pt x="945" y="937"/>
                                      </a:lnTo>
                                      <a:lnTo>
                                        <a:pt x="954" y="937"/>
                                      </a:lnTo>
                                      <a:lnTo>
                                        <a:pt x="954" y="968"/>
                                      </a:lnTo>
                                      <a:lnTo>
                                        <a:pt x="954" y="1002"/>
                                      </a:lnTo>
                                      <a:lnTo>
                                        <a:pt x="949" y="1041"/>
                                      </a:lnTo>
                                      <a:lnTo>
                                        <a:pt x="949" y="1075"/>
                                      </a:lnTo>
                                      <a:lnTo>
                                        <a:pt x="949" y="1109"/>
                                      </a:lnTo>
                                      <a:lnTo>
                                        <a:pt x="945" y="1144"/>
                                      </a:lnTo>
                                      <a:lnTo>
                                        <a:pt x="941" y="1174"/>
                                      </a:lnTo>
                                      <a:lnTo>
                                        <a:pt x="932" y="1200"/>
                                      </a:lnTo>
                                      <a:lnTo>
                                        <a:pt x="923" y="1200"/>
                                      </a:lnTo>
                                      <a:lnTo>
                                        <a:pt x="911" y="1195"/>
                                      </a:lnTo>
                                      <a:lnTo>
                                        <a:pt x="898" y="1187"/>
                                      </a:lnTo>
                                      <a:lnTo>
                                        <a:pt x="880" y="1178"/>
                                      </a:lnTo>
                                      <a:lnTo>
                                        <a:pt x="867" y="1165"/>
                                      </a:lnTo>
                                      <a:lnTo>
                                        <a:pt x="850" y="1157"/>
                                      </a:lnTo>
                                      <a:lnTo>
                                        <a:pt x="842" y="1148"/>
                                      </a:lnTo>
                                      <a:lnTo>
                                        <a:pt x="829" y="1140"/>
                                      </a:lnTo>
                                      <a:lnTo>
                                        <a:pt x="829" y="1131"/>
                                      </a:lnTo>
                                      <a:lnTo>
                                        <a:pt x="824" y="1114"/>
                                      </a:lnTo>
                                      <a:lnTo>
                                        <a:pt x="816" y="1097"/>
                                      </a:lnTo>
                                      <a:lnTo>
                                        <a:pt x="807" y="1079"/>
                                      </a:lnTo>
                                      <a:lnTo>
                                        <a:pt x="798" y="1062"/>
                                      </a:lnTo>
                                      <a:lnTo>
                                        <a:pt x="785" y="1049"/>
                                      </a:lnTo>
                                      <a:lnTo>
                                        <a:pt x="777" y="1041"/>
                                      </a:lnTo>
                                      <a:lnTo>
                                        <a:pt x="768" y="1036"/>
                                      </a:lnTo>
                                      <a:lnTo>
                                        <a:pt x="747" y="1036"/>
                                      </a:lnTo>
                                      <a:lnTo>
                                        <a:pt x="708" y="1079"/>
                                      </a:lnTo>
                                      <a:lnTo>
                                        <a:pt x="712" y="1131"/>
                                      </a:lnTo>
                                      <a:lnTo>
                                        <a:pt x="716" y="1187"/>
                                      </a:lnTo>
                                      <a:lnTo>
                                        <a:pt x="725" y="1251"/>
                                      </a:lnTo>
                                      <a:lnTo>
                                        <a:pt x="729" y="1312"/>
                                      </a:lnTo>
                                      <a:lnTo>
                                        <a:pt x="725" y="1342"/>
                                      </a:lnTo>
                                      <a:lnTo>
                                        <a:pt x="725" y="1372"/>
                                      </a:lnTo>
                                      <a:lnTo>
                                        <a:pt x="716" y="1398"/>
                                      </a:lnTo>
                                      <a:lnTo>
                                        <a:pt x="708" y="1419"/>
                                      </a:lnTo>
                                      <a:lnTo>
                                        <a:pt x="695" y="1441"/>
                                      </a:lnTo>
                                      <a:lnTo>
                                        <a:pt x="678" y="1462"/>
                                      </a:lnTo>
                                      <a:lnTo>
                                        <a:pt x="656" y="1475"/>
                                      </a:lnTo>
                                      <a:lnTo>
                                        <a:pt x="626" y="1484"/>
                                      </a:lnTo>
                                      <a:lnTo>
                                        <a:pt x="617" y="1484"/>
                                      </a:lnTo>
                                      <a:lnTo>
                                        <a:pt x="609" y="1479"/>
                                      </a:lnTo>
                                      <a:lnTo>
                                        <a:pt x="596" y="1475"/>
                                      </a:lnTo>
                                      <a:lnTo>
                                        <a:pt x="587" y="1471"/>
                                      </a:lnTo>
                                      <a:lnTo>
                                        <a:pt x="574" y="1466"/>
                                      </a:lnTo>
                                      <a:lnTo>
                                        <a:pt x="561" y="1458"/>
                                      </a:lnTo>
                                      <a:lnTo>
                                        <a:pt x="552" y="1453"/>
                                      </a:lnTo>
                                      <a:lnTo>
                                        <a:pt x="544" y="1445"/>
                                      </a:lnTo>
                                      <a:lnTo>
                                        <a:pt x="552" y="1449"/>
                                      </a:lnTo>
                                      <a:lnTo>
                                        <a:pt x="561" y="1458"/>
                                      </a:lnTo>
                                      <a:lnTo>
                                        <a:pt x="565" y="1475"/>
                                      </a:lnTo>
                                      <a:lnTo>
                                        <a:pt x="570" y="1496"/>
                                      </a:lnTo>
                                      <a:lnTo>
                                        <a:pt x="583" y="1552"/>
                                      </a:lnTo>
                                      <a:lnTo>
                                        <a:pt x="587" y="1621"/>
                                      </a:lnTo>
                                      <a:lnTo>
                                        <a:pt x="591" y="1686"/>
                                      </a:lnTo>
                                      <a:lnTo>
                                        <a:pt x="591" y="1746"/>
                                      </a:lnTo>
                                      <a:lnTo>
                                        <a:pt x="591" y="1789"/>
                                      </a:lnTo>
                                      <a:lnTo>
                                        <a:pt x="587" y="1810"/>
                                      </a:lnTo>
                                      <a:lnTo>
                                        <a:pt x="565" y="1832"/>
                                      </a:lnTo>
                                      <a:lnTo>
                                        <a:pt x="505" y="1832"/>
                                      </a:lnTo>
                                      <a:lnTo>
                                        <a:pt x="496" y="1823"/>
                                      </a:lnTo>
                                      <a:lnTo>
                                        <a:pt x="488" y="1815"/>
                                      </a:lnTo>
                                      <a:lnTo>
                                        <a:pt x="475" y="1806"/>
                                      </a:lnTo>
                                      <a:lnTo>
                                        <a:pt x="466" y="1802"/>
                                      </a:lnTo>
                                      <a:lnTo>
                                        <a:pt x="458" y="1793"/>
                                      </a:lnTo>
                                      <a:lnTo>
                                        <a:pt x="449" y="1785"/>
                                      </a:lnTo>
                                      <a:lnTo>
                                        <a:pt x="445" y="1776"/>
                                      </a:lnTo>
                                      <a:lnTo>
                                        <a:pt x="445" y="1767"/>
                                      </a:lnTo>
                                      <a:lnTo>
                                        <a:pt x="449" y="1780"/>
                                      </a:lnTo>
                                      <a:lnTo>
                                        <a:pt x="453" y="1806"/>
                                      </a:lnTo>
                                      <a:lnTo>
                                        <a:pt x="458" y="1832"/>
                                      </a:lnTo>
                                      <a:lnTo>
                                        <a:pt x="462" y="1866"/>
                                      </a:lnTo>
                                      <a:lnTo>
                                        <a:pt x="462" y="1901"/>
                                      </a:lnTo>
                                      <a:lnTo>
                                        <a:pt x="462" y="1935"/>
                                      </a:lnTo>
                                      <a:lnTo>
                                        <a:pt x="462" y="1965"/>
                                      </a:lnTo>
                                      <a:lnTo>
                                        <a:pt x="462" y="1991"/>
                                      </a:lnTo>
                                      <a:lnTo>
                                        <a:pt x="445" y="2012"/>
                                      </a:lnTo>
                                      <a:lnTo>
                                        <a:pt x="406" y="2008"/>
                                      </a:lnTo>
                                      <a:lnTo>
                                        <a:pt x="367" y="1995"/>
                                      </a:lnTo>
                                      <a:lnTo>
                                        <a:pt x="328" y="1969"/>
                                      </a:lnTo>
                                      <a:lnTo>
                                        <a:pt x="294" y="1944"/>
                                      </a:lnTo>
                                      <a:lnTo>
                                        <a:pt x="263" y="1914"/>
                                      </a:lnTo>
                                      <a:lnTo>
                                        <a:pt x="229" y="1883"/>
                                      </a:lnTo>
                                      <a:lnTo>
                                        <a:pt x="203" y="1858"/>
                                      </a:lnTo>
                                      <a:lnTo>
                                        <a:pt x="177" y="1832"/>
                                      </a:lnTo>
                                      <a:lnTo>
                                        <a:pt x="190" y="1832"/>
                                      </a:lnTo>
                                      <a:lnTo>
                                        <a:pt x="194" y="1845"/>
                                      </a:lnTo>
                                      <a:lnTo>
                                        <a:pt x="194" y="1858"/>
                                      </a:lnTo>
                                      <a:lnTo>
                                        <a:pt x="194" y="1875"/>
                                      </a:lnTo>
                                      <a:lnTo>
                                        <a:pt x="190" y="1892"/>
                                      </a:lnTo>
                                      <a:lnTo>
                                        <a:pt x="181" y="1909"/>
                                      </a:lnTo>
                                      <a:lnTo>
                                        <a:pt x="177" y="1922"/>
                                      </a:lnTo>
                                      <a:lnTo>
                                        <a:pt x="177" y="1931"/>
                                      </a:lnTo>
                                      <a:lnTo>
                                        <a:pt x="95" y="1931"/>
                                      </a:lnTo>
                                      <a:lnTo>
                                        <a:pt x="74" y="1909"/>
                                      </a:lnTo>
                                      <a:lnTo>
                                        <a:pt x="56" y="1883"/>
                                      </a:lnTo>
                                      <a:lnTo>
                                        <a:pt x="43" y="1862"/>
                                      </a:lnTo>
                                      <a:lnTo>
                                        <a:pt x="30" y="1836"/>
                                      </a:lnTo>
                                      <a:lnTo>
                                        <a:pt x="26" y="1806"/>
                                      </a:lnTo>
                                      <a:lnTo>
                                        <a:pt x="17" y="1776"/>
                                      </a:lnTo>
                                      <a:lnTo>
                                        <a:pt x="17" y="1746"/>
                                      </a:lnTo>
                                      <a:lnTo>
                                        <a:pt x="13" y="1707"/>
                                      </a:lnTo>
                                      <a:lnTo>
                                        <a:pt x="0" y="1694"/>
                                      </a:lnTo>
                                      <a:lnTo>
                                        <a:pt x="9" y="1785"/>
                                      </a:lnTo>
                                      <a:lnTo>
                                        <a:pt x="22" y="1832"/>
                                      </a:lnTo>
                                      <a:lnTo>
                                        <a:pt x="39" y="1875"/>
                                      </a:lnTo>
                                      <a:lnTo>
                                        <a:pt x="56" y="1918"/>
                                      </a:lnTo>
                                      <a:lnTo>
                                        <a:pt x="74" y="1965"/>
                                      </a:lnTo>
                                      <a:lnTo>
                                        <a:pt x="91" y="2008"/>
                                      </a:lnTo>
                                      <a:lnTo>
                                        <a:pt x="104" y="2051"/>
                                      </a:lnTo>
                                      <a:lnTo>
                                        <a:pt x="112" y="2094"/>
                                      </a:lnTo>
                                      <a:lnTo>
                                        <a:pt x="117" y="2137"/>
                                      </a:lnTo>
                                      <a:lnTo>
                                        <a:pt x="138" y="2159"/>
                                      </a:lnTo>
                                      <a:lnTo>
                                        <a:pt x="164" y="2189"/>
                                      </a:lnTo>
                                      <a:lnTo>
                                        <a:pt x="194" y="2219"/>
                                      </a:lnTo>
                                      <a:lnTo>
                                        <a:pt x="225" y="2249"/>
                                      </a:lnTo>
                                      <a:lnTo>
                                        <a:pt x="255" y="2275"/>
                                      </a:lnTo>
                                      <a:lnTo>
                                        <a:pt x="289" y="2296"/>
                                      </a:lnTo>
                                      <a:lnTo>
                                        <a:pt x="307" y="2305"/>
                                      </a:lnTo>
                                      <a:lnTo>
                                        <a:pt x="324" y="2313"/>
                                      </a:lnTo>
                                      <a:lnTo>
                                        <a:pt x="341" y="2318"/>
                                      </a:lnTo>
                                      <a:lnTo>
                                        <a:pt x="363" y="2318"/>
                                      </a:lnTo>
                                      <a:lnTo>
                                        <a:pt x="363" y="2258"/>
                                      </a:lnTo>
                                      <a:lnTo>
                                        <a:pt x="345" y="2240"/>
                                      </a:lnTo>
                                      <a:lnTo>
                                        <a:pt x="332" y="2219"/>
                                      </a:lnTo>
                                      <a:lnTo>
                                        <a:pt x="324" y="2197"/>
                                      </a:lnTo>
                                      <a:lnTo>
                                        <a:pt x="315" y="2172"/>
                                      </a:lnTo>
                                      <a:lnTo>
                                        <a:pt x="307" y="2150"/>
                                      </a:lnTo>
                                      <a:lnTo>
                                        <a:pt x="302" y="2124"/>
                                      </a:lnTo>
                                      <a:lnTo>
                                        <a:pt x="302" y="2098"/>
                                      </a:lnTo>
                                      <a:lnTo>
                                        <a:pt x="298" y="2073"/>
                                      </a:lnTo>
                                      <a:lnTo>
                                        <a:pt x="315" y="2077"/>
                                      </a:lnTo>
                                      <a:lnTo>
                                        <a:pt x="328" y="2086"/>
                                      </a:lnTo>
                                      <a:lnTo>
                                        <a:pt x="341" y="2098"/>
                                      </a:lnTo>
                                      <a:lnTo>
                                        <a:pt x="354" y="2116"/>
                                      </a:lnTo>
                                      <a:lnTo>
                                        <a:pt x="380" y="2159"/>
                                      </a:lnTo>
                                      <a:lnTo>
                                        <a:pt x="406" y="2206"/>
                                      </a:lnTo>
                                      <a:lnTo>
                                        <a:pt x="436" y="2253"/>
                                      </a:lnTo>
                                      <a:lnTo>
                                        <a:pt x="466" y="2296"/>
                                      </a:lnTo>
                                      <a:lnTo>
                                        <a:pt x="483" y="2313"/>
                                      </a:lnTo>
                                      <a:lnTo>
                                        <a:pt x="501" y="2326"/>
                                      </a:lnTo>
                                      <a:lnTo>
                                        <a:pt x="522" y="2335"/>
                                      </a:lnTo>
                                      <a:lnTo>
                                        <a:pt x="544" y="2339"/>
                                      </a:lnTo>
                                      <a:lnTo>
                                        <a:pt x="544" y="2305"/>
                                      </a:lnTo>
                                      <a:lnTo>
                                        <a:pt x="540" y="2270"/>
                                      </a:lnTo>
                                      <a:lnTo>
                                        <a:pt x="540" y="2236"/>
                                      </a:lnTo>
                                      <a:lnTo>
                                        <a:pt x="535" y="2197"/>
                                      </a:lnTo>
                                      <a:lnTo>
                                        <a:pt x="531" y="2159"/>
                                      </a:lnTo>
                                      <a:lnTo>
                                        <a:pt x="527" y="2120"/>
                                      </a:lnTo>
                                      <a:lnTo>
                                        <a:pt x="527" y="2086"/>
                                      </a:lnTo>
                                      <a:lnTo>
                                        <a:pt x="522" y="2055"/>
                                      </a:lnTo>
                                      <a:lnTo>
                                        <a:pt x="531" y="2051"/>
                                      </a:lnTo>
                                      <a:lnTo>
                                        <a:pt x="544" y="2043"/>
                                      </a:lnTo>
                                      <a:lnTo>
                                        <a:pt x="552" y="2034"/>
                                      </a:lnTo>
                                      <a:lnTo>
                                        <a:pt x="565" y="2025"/>
                                      </a:lnTo>
                                      <a:lnTo>
                                        <a:pt x="578" y="2012"/>
                                      </a:lnTo>
                                      <a:lnTo>
                                        <a:pt x="587" y="2004"/>
                                      </a:lnTo>
                                      <a:lnTo>
                                        <a:pt x="596" y="1995"/>
                                      </a:lnTo>
                                      <a:lnTo>
                                        <a:pt x="604" y="1991"/>
                                      </a:lnTo>
                                      <a:lnTo>
                                        <a:pt x="613" y="2000"/>
                                      </a:lnTo>
                                      <a:lnTo>
                                        <a:pt x="626" y="2008"/>
                                      </a:lnTo>
                                      <a:lnTo>
                                        <a:pt x="634" y="2017"/>
                                      </a:lnTo>
                                      <a:lnTo>
                                        <a:pt x="647" y="2025"/>
                                      </a:lnTo>
                                      <a:lnTo>
                                        <a:pt x="656" y="2030"/>
                                      </a:lnTo>
                                      <a:lnTo>
                                        <a:pt x="669" y="2038"/>
                                      </a:lnTo>
                                      <a:lnTo>
                                        <a:pt x="678" y="2047"/>
                                      </a:lnTo>
                                      <a:lnTo>
                                        <a:pt x="686" y="2055"/>
                                      </a:lnTo>
                                      <a:lnTo>
                                        <a:pt x="686" y="2086"/>
                                      </a:lnTo>
                                      <a:lnTo>
                                        <a:pt x="678" y="2124"/>
                                      </a:lnTo>
                                      <a:lnTo>
                                        <a:pt x="673" y="2172"/>
                                      </a:lnTo>
                                      <a:lnTo>
                                        <a:pt x="665" y="2223"/>
                                      </a:lnTo>
                                      <a:lnTo>
                                        <a:pt x="660" y="2270"/>
                                      </a:lnTo>
                                      <a:lnTo>
                                        <a:pt x="660" y="2309"/>
                                      </a:lnTo>
                                      <a:lnTo>
                                        <a:pt x="665" y="2326"/>
                                      </a:lnTo>
                                      <a:lnTo>
                                        <a:pt x="669" y="2344"/>
                                      </a:lnTo>
                                      <a:lnTo>
                                        <a:pt x="678" y="2352"/>
                                      </a:lnTo>
                                      <a:lnTo>
                                        <a:pt x="686" y="2361"/>
                                      </a:lnTo>
                                      <a:lnTo>
                                        <a:pt x="691" y="2374"/>
                                      </a:lnTo>
                                      <a:lnTo>
                                        <a:pt x="695" y="2391"/>
                                      </a:lnTo>
                                      <a:lnTo>
                                        <a:pt x="708" y="2404"/>
                                      </a:lnTo>
                                      <a:lnTo>
                                        <a:pt x="716" y="2421"/>
                                      </a:lnTo>
                                      <a:lnTo>
                                        <a:pt x="729" y="2434"/>
                                      </a:lnTo>
                                      <a:lnTo>
                                        <a:pt x="738" y="2451"/>
                                      </a:lnTo>
                                      <a:lnTo>
                                        <a:pt x="747" y="2464"/>
                                      </a:lnTo>
                                      <a:lnTo>
                                        <a:pt x="747" y="2481"/>
                                      </a:lnTo>
                                      <a:lnTo>
                                        <a:pt x="647" y="2481"/>
                                      </a:lnTo>
                                      <a:lnTo>
                                        <a:pt x="647" y="2503"/>
                                      </a:lnTo>
                                      <a:lnTo>
                                        <a:pt x="656" y="2524"/>
                                      </a:lnTo>
                                      <a:lnTo>
                                        <a:pt x="665" y="2550"/>
                                      </a:lnTo>
                                      <a:lnTo>
                                        <a:pt x="678" y="2571"/>
                                      </a:lnTo>
                                      <a:lnTo>
                                        <a:pt x="691" y="2589"/>
                                      </a:lnTo>
                                      <a:lnTo>
                                        <a:pt x="699" y="2610"/>
                                      </a:lnTo>
                                      <a:lnTo>
                                        <a:pt x="703" y="2627"/>
                                      </a:lnTo>
                                      <a:lnTo>
                                        <a:pt x="708" y="2645"/>
                                      </a:lnTo>
                                      <a:lnTo>
                                        <a:pt x="734" y="2645"/>
                                      </a:lnTo>
                                      <a:lnTo>
                                        <a:pt x="755" y="2645"/>
                                      </a:lnTo>
                                      <a:lnTo>
                                        <a:pt x="781" y="2649"/>
                                      </a:lnTo>
                                      <a:lnTo>
                                        <a:pt x="807" y="2653"/>
                                      </a:lnTo>
                                      <a:lnTo>
                                        <a:pt x="833" y="2657"/>
                                      </a:lnTo>
                                      <a:lnTo>
                                        <a:pt x="854" y="2662"/>
                                      </a:lnTo>
                                      <a:lnTo>
                                        <a:pt x="876" y="2662"/>
                                      </a:lnTo>
                                      <a:lnTo>
                                        <a:pt x="893" y="2662"/>
                                      </a:lnTo>
                                      <a:lnTo>
                                        <a:pt x="893" y="2696"/>
                                      </a:lnTo>
                                      <a:lnTo>
                                        <a:pt x="902" y="2726"/>
                                      </a:lnTo>
                                      <a:lnTo>
                                        <a:pt x="915" y="2761"/>
                                      </a:lnTo>
                                      <a:lnTo>
                                        <a:pt x="928" y="2791"/>
                                      </a:lnTo>
                                      <a:lnTo>
                                        <a:pt x="945" y="2821"/>
                                      </a:lnTo>
                                      <a:lnTo>
                                        <a:pt x="958" y="2847"/>
                                      </a:lnTo>
                                      <a:lnTo>
                                        <a:pt x="975" y="2868"/>
                                      </a:lnTo>
                                      <a:lnTo>
                                        <a:pt x="993" y="2885"/>
                                      </a:lnTo>
                                      <a:lnTo>
                                        <a:pt x="997" y="2924"/>
                                      </a:lnTo>
                                      <a:lnTo>
                                        <a:pt x="1005" y="2967"/>
                                      </a:lnTo>
                                      <a:lnTo>
                                        <a:pt x="1018" y="3006"/>
                                      </a:lnTo>
                                      <a:lnTo>
                                        <a:pt x="1036" y="3044"/>
                                      </a:lnTo>
                                      <a:lnTo>
                                        <a:pt x="1049" y="3083"/>
                                      </a:lnTo>
                                      <a:lnTo>
                                        <a:pt x="1062" y="3118"/>
                                      </a:lnTo>
                                      <a:lnTo>
                                        <a:pt x="1070" y="3148"/>
                                      </a:lnTo>
                                      <a:lnTo>
                                        <a:pt x="1074" y="3173"/>
                                      </a:lnTo>
                                      <a:lnTo>
                                        <a:pt x="1087" y="3161"/>
                                      </a:lnTo>
                                      <a:lnTo>
                                        <a:pt x="1096" y="3143"/>
                                      </a:lnTo>
                                      <a:lnTo>
                                        <a:pt x="1100" y="3126"/>
                                      </a:lnTo>
                                      <a:lnTo>
                                        <a:pt x="1109" y="3105"/>
                                      </a:lnTo>
                                      <a:lnTo>
                                        <a:pt x="1113" y="3062"/>
                                      </a:lnTo>
                                      <a:lnTo>
                                        <a:pt x="1118" y="3019"/>
                                      </a:lnTo>
                                      <a:lnTo>
                                        <a:pt x="1118" y="2967"/>
                                      </a:lnTo>
                                      <a:lnTo>
                                        <a:pt x="1118" y="2924"/>
                                      </a:lnTo>
                                      <a:lnTo>
                                        <a:pt x="1118" y="2881"/>
                                      </a:lnTo>
                                      <a:lnTo>
                                        <a:pt x="1118" y="2847"/>
                                      </a:lnTo>
                                      <a:lnTo>
                                        <a:pt x="1238" y="2847"/>
                                      </a:lnTo>
                                      <a:lnTo>
                                        <a:pt x="1243" y="2842"/>
                                      </a:lnTo>
                                      <a:lnTo>
                                        <a:pt x="1247" y="2838"/>
                                      </a:lnTo>
                                      <a:lnTo>
                                        <a:pt x="1251" y="2834"/>
                                      </a:lnTo>
                                      <a:lnTo>
                                        <a:pt x="1256" y="2829"/>
                                      </a:lnTo>
                                      <a:lnTo>
                                        <a:pt x="1260" y="2829"/>
                                      </a:lnTo>
                                      <a:lnTo>
                                        <a:pt x="1269" y="2825"/>
                                      </a:lnTo>
                                      <a:lnTo>
                                        <a:pt x="1273" y="2821"/>
                                      </a:lnTo>
                                      <a:lnTo>
                                        <a:pt x="1277" y="2817"/>
                                      </a:lnTo>
                                      <a:lnTo>
                                        <a:pt x="1290" y="2713"/>
                                      </a:lnTo>
                                      <a:lnTo>
                                        <a:pt x="1225" y="2653"/>
                                      </a:lnTo>
                                      <a:lnTo>
                                        <a:pt x="1079" y="2378"/>
                                      </a:lnTo>
                                      <a:lnTo>
                                        <a:pt x="1057" y="2068"/>
                                      </a:lnTo>
                                      <a:lnTo>
                                        <a:pt x="1036" y="2017"/>
                                      </a:lnTo>
                                      <a:lnTo>
                                        <a:pt x="1070" y="1974"/>
                                      </a:lnTo>
                                      <a:lnTo>
                                        <a:pt x="1100" y="1965"/>
                                      </a:lnTo>
                                      <a:lnTo>
                                        <a:pt x="1122" y="1987"/>
                                      </a:lnTo>
                                      <a:lnTo>
                                        <a:pt x="1122" y="2017"/>
                                      </a:lnTo>
                                      <a:lnTo>
                                        <a:pt x="1174" y="1965"/>
                                      </a:lnTo>
                                      <a:lnTo>
                                        <a:pt x="1174" y="1914"/>
                                      </a:lnTo>
                                      <a:lnTo>
                                        <a:pt x="1290" y="1785"/>
                                      </a:lnTo>
                                      <a:lnTo>
                                        <a:pt x="1247" y="1690"/>
                                      </a:lnTo>
                                      <a:lnTo>
                                        <a:pt x="1407" y="1531"/>
                                      </a:lnTo>
                                      <a:lnTo>
                                        <a:pt x="1398" y="1522"/>
                                      </a:lnTo>
                                      <a:lnTo>
                                        <a:pt x="1398" y="1501"/>
                                      </a:lnTo>
                                      <a:lnTo>
                                        <a:pt x="1428" y="1419"/>
                                      </a:lnTo>
                                      <a:lnTo>
                                        <a:pt x="1407" y="1398"/>
                                      </a:lnTo>
                                      <a:lnTo>
                                        <a:pt x="1407" y="1363"/>
                                      </a:lnTo>
                                      <a:lnTo>
                                        <a:pt x="1420" y="1355"/>
                                      </a:lnTo>
                                      <a:lnTo>
                                        <a:pt x="1502" y="1277"/>
                                      </a:lnTo>
                                      <a:lnTo>
                                        <a:pt x="1441" y="1195"/>
                                      </a:lnTo>
                                      <a:lnTo>
                                        <a:pt x="1502" y="1131"/>
                                      </a:lnTo>
                                      <a:lnTo>
                                        <a:pt x="1502" y="1079"/>
                                      </a:lnTo>
                                      <a:lnTo>
                                        <a:pt x="1558" y="1015"/>
                                      </a:lnTo>
                                      <a:lnTo>
                                        <a:pt x="1523" y="942"/>
                                      </a:lnTo>
                                      <a:lnTo>
                                        <a:pt x="1566" y="899"/>
                                      </a:lnTo>
                                      <a:lnTo>
                                        <a:pt x="1536" y="804"/>
                                      </a:lnTo>
                                      <a:lnTo>
                                        <a:pt x="1545" y="761"/>
                                      </a:lnTo>
                                      <a:lnTo>
                                        <a:pt x="1515" y="701"/>
                                      </a:lnTo>
                                      <a:lnTo>
                                        <a:pt x="1523" y="606"/>
                                      </a:lnTo>
                                      <a:lnTo>
                                        <a:pt x="1493" y="550"/>
                                      </a:lnTo>
                                      <a:lnTo>
                                        <a:pt x="1493" y="456"/>
                                      </a:lnTo>
                                      <a:lnTo>
                                        <a:pt x="1463" y="426"/>
                                      </a:lnTo>
                                      <a:lnTo>
                                        <a:pt x="1441" y="297"/>
                                      </a:lnTo>
                                      <a:lnTo>
                                        <a:pt x="1480" y="258"/>
                                      </a:lnTo>
                                      <a:lnTo>
                                        <a:pt x="1368" y="99"/>
                                      </a:lnTo>
                                      <a:lnTo>
                                        <a:pt x="1346" y="34"/>
                                      </a:lnTo>
                                      <a:lnTo>
                                        <a:pt x="1355" y="26"/>
                                      </a:lnTo>
                                      <a:lnTo>
                                        <a:pt x="1351" y="22"/>
                                      </a:lnTo>
                                      <a:lnTo>
                                        <a:pt x="1346" y="17"/>
                                      </a:lnTo>
                                      <a:lnTo>
                                        <a:pt x="1342" y="13"/>
                                      </a:lnTo>
                                      <a:lnTo>
                                        <a:pt x="1338" y="9"/>
                                      </a:lnTo>
                                      <a:lnTo>
                                        <a:pt x="1333" y="4"/>
                                      </a:lnTo>
                                      <a:lnTo>
                                        <a:pt x="1329" y="4"/>
                                      </a:lnTo>
                                      <a:lnTo>
                                        <a:pt x="1325" y="0"/>
                                      </a:lnTo>
                                      <a:lnTo>
                                        <a:pt x="1320" y="0"/>
                                      </a:lnTo>
                                      <a:lnTo>
                                        <a:pt x="1320" y="22"/>
                                      </a:lnTo>
                                      <a:lnTo>
                                        <a:pt x="1325" y="47"/>
                                      </a:lnTo>
                                      <a:lnTo>
                                        <a:pt x="1333" y="77"/>
                                      </a:lnTo>
                                      <a:lnTo>
                                        <a:pt x="1338" y="112"/>
                                      </a:lnTo>
                                      <a:lnTo>
                                        <a:pt x="1342" y="146"/>
                                      </a:lnTo>
                                      <a:lnTo>
                                        <a:pt x="1346" y="176"/>
                                      </a:lnTo>
                                      <a:lnTo>
                                        <a:pt x="1346" y="206"/>
                                      </a:lnTo>
                                      <a:lnTo>
                                        <a:pt x="1342" y="224"/>
                                      </a:lnTo>
                                      <a:lnTo>
                                        <a:pt x="1320" y="224"/>
                                      </a:lnTo>
                                      <a:lnTo>
                                        <a:pt x="1320" y="267"/>
                                      </a:lnTo>
                                      <a:lnTo>
                                        <a:pt x="1277" y="185"/>
                                      </a:lnTo>
                                      <a:close/>
                                      <a:moveTo>
                                        <a:pt x="1752" y="593"/>
                                      </a:moveTo>
                                      <a:lnTo>
                                        <a:pt x="1748" y="589"/>
                                      </a:lnTo>
                                      <a:lnTo>
                                        <a:pt x="1687" y="589"/>
                                      </a:lnTo>
                                      <a:lnTo>
                                        <a:pt x="1687" y="572"/>
                                      </a:lnTo>
                                      <a:lnTo>
                                        <a:pt x="1683" y="555"/>
                                      </a:lnTo>
                                      <a:lnTo>
                                        <a:pt x="1678" y="529"/>
                                      </a:lnTo>
                                      <a:lnTo>
                                        <a:pt x="1678" y="507"/>
                                      </a:lnTo>
                                      <a:lnTo>
                                        <a:pt x="1674" y="482"/>
                                      </a:lnTo>
                                      <a:lnTo>
                                        <a:pt x="1670" y="456"/>
                                      </a:lnTo>
                                      <a:lnTo>
                                        <a:pt x="1666" y="430"/>
                                      </a:lnTo>
                                      <a:lnTo>
                                        <a:pt x="1666" y="409"/>
                                      </a:lnTo>
                                      <a:lnTo>
                                        <a:pt x="1657" y="404"/>
                                      </a:lnTo>
                                      <a:lnTo>
                                        <a:pt x="1648" y="400"/>
                                      </a:lnTo>
                                      <a:lnTo>
                                        <a:pt x="1635" y="396"/>
                                      </a:lnTo>
                                      <a:lnTo>
                                        <a:pt x="1627" y="387"/>
                                      </a:lnTo>
                                      <a:lnTo>
                                        <a:pt x="1614" y="378"/>
                                      </a:lnTo>
                                      <a:lnTo>
                                        <a:pt x="1605" y="374"/>
                                      </a:lnTo>
                                      <a:lnTo>
                                        <a:pt x="1592" y="370"/>
                                      </a:lnTo>
                                      <a:lnTo>
                                        <a:pt x="1584" y="366"/>
                                      </a:lnTo>
                                      <a:lnTo>
                                        <a:pt x="1584" y="357"/>
                                      </a:lnTo>
                                      <a:lnTo>
                                        <a:pt x="1579" y="340"/>
                                      </a:lnTo>
                                      <a:lnTo>
                                        <a:pt x="1571" y="318"/>
                                      </a:lnTo>
                                      <a:lnTo>
                                        <a:pt x="1562" y="297"/>
                                      </a:lnTo>
                                      <a:lnTo>
                                        <a:pt x="1553" y="280"/>
                                      </a:lnTo>
                                      <a:lnTo>
                                        <a:pt x="1540" y="262"/>
                                      </a:lnTo>
                                      <a:lnTo>
                                        <a:pt x="1532" y="249"/>
                                      </a:lnTo>
                                      <a:lnTo>
                                        <a:pt x="1523" y="245"/>
                                      </a:lnTo>
                                      <a:lnTo>
                                        <a:pt x="1523" y="391"/>
                                      </a:lnTo>
                                      <a:lnTo>
                                        <a:pt x="1558" y="413"/>
                                      </a:lnTo>
                                      <a:lnTo>
                                        <a:pt x="1558" y="477"/>
                                      </a:lnTo>
                                      <a:lnTo>
                                        <a:pt x="1597" y="542"/>
                                      </a:lnTo>
                                      <a:lnTo>
                                        <a:pt x="1631" y="645"/>
                                      </a:lnTo>
                                      <a:lnTo>
                                        <a:pt x="1691" y="645"/>
                                      </a:lnTo>
                                      <a:lnTo>
                                        <a:pt x="1748" y="701"/>
                                      </a:lnTo>
                                      <a:lnTo>
                                        <a:pt x="1765" y="679"/>
                                      </a:lnTo>
                                      <a:lnTo>
                                        <a:pt x="1752" y="593"/>
                                      </a:lnTo>
                                      <a:close/>
                                      <a:moveTo>
                                        <a:pt x="1519" y="219"/>
                                      </a:moveTo>
                                      <a:lnTo>
                                        <a:pt x="1515" y="202"/>
                                      </a:lnTo>
                                      <a:lnTo>
                                        <a:pt x="1506" y="189"/>
                                      </a:lnTo>
                                      <a:lnTo>
                                        <a:pt x="1497" y="176"/>
                                      </a:lnTo>
                                      <a:lnTo>
                                        <a:pt x="1489" y="163"/>
                                      </a:lnTo>
                                      <a:lnTo>
                                        <a:pt x="1476" y="151"/>
                                      </a:lnTo>
                                      <a:lnTo>
                                        <a:pt x="1467" y="138"/>
                                      </a:lnTo>
                                      <a:lnTo>
                                        <a:pt x="1454" y="125"/>
                                      </a:lnTo>
                                      <a:lnTo>
                                        <a:pt x="1441" y="116"/>
                                      </a:lnTo>
                                      <a:lnTo>
                                        <a:pt x="1519" y="219"/>
                                      </a:lnTo>
                                      <a:close/>
                                      <a:moveTo>
                                        <a:pt x="1407" y="65"/>
                                      </a:moveTo>
                                      <a:lnTo>
                                        <a:pt x="1407" y="65"/>
                                      </a:lnTo>
                                      <a:lnTo>
                                        <a:pt x="1402" y="60"/>
                                      </a:lnTo>
                                      <a:lnTo>
                                        <a:pt x="1402" y="56"/>
                                      </a:lnTo>
                                      <a:lnTo>
                                        <a:pt x="1402" y="52"/>
                                      </a:lnTo>
                                      <a:lnTo>
                                        <a:pt x="1402" y="52"/>
                                      </a:lnTo>
                                      <a:lnTo>
                                        <a:pt x="1402" y="47"/>
                                      </a:lnTo>
                                      <a:lnTo>
                                        <a:pt x="1402" y="43"/>
                                      </a:lnTo>
                                      <a:lnTo>
                                        <a:pt x="1402" y="43"/>
                                      </a:lnTo>
                                      <a:lnTo>
                                        <a:pt x="1398" y="43"/>
                                      </a:lnTo>
                                      <a:lnTo>
                                        <a:pt x="1398" y="43"/>
                                      </a:lnTo>
                                      <a:lnTo>
                                        <a:pt x="1398" y="43"/>
                                      </a:lnTo>
                                      <a:lnTo>
                                        <a:pt x="1394" y="43"/>
                                      </a:lnTo>
                                      <a:lnTo>
                                        <a:pt x="1394" y="39"/>
                                      </a:lnTo>
                                      <a:lnTo>
                                        <a:pt x="1389" y="39"/>
                                      </a:lnTo>
                                      <a:lnTo>
                                        <a:pt x="1389" y="39"/>
                                      </a:lnTo>
                                      <a:lnTo>
                                        <a:pt x="1389" y="39"/>
                                      </a:lnTo>
                                      <a:lnTo>
                                        <a:pt x="1407" y="65"/>
                                      </a:lnTo>
                                      <a:close/>
                                    </a:path>
                                  </a:pathLst>
                                </a:custGeom>
                                <a:blipFill rotWithShape="0">
                                  <a:blip r:embed="rId65"/>
                                  <a:srcRect/>
                                  <a:tile tx="0" ty="0" sx="100000" sy="100000" algn="ctr"/>
                                </a:blip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71" name=""/>
                                <p:cNvSpPr/>
                                <p:nvPr/>
                              </p:nvSpPr>
                              <p:spPr>
                                <a:xfrm rot="21306000">
                                  <a:off x="2000880" y="997920"/>
                                  <a:ext cx="45720" cy="15948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449" h="1646">
                                      <a:moveTo>
                                        <a:pt x="224" y="322"/>
                                      </a:moveTo>
                                      <a:lnTo>
                                        <a:pt x="211" y="356"/>
                                      </a:lnTo>
                                      <a:lnTo>
                                        <a:pt x="194" y="387"/>
                                      </a:lnTo>
                                      <a:lnTo>
                                        <a:pt x="181" y="408"/>
                                      </a:lnTo>
                                      <a:lnTo>
                                        <a:pt x="164" y="430"/>
                                      </a:lnTo>
                                      <a:lnTo>
                                        <a:pt x="147" y="447"/>
                                      </a:lnTo>
                                      <a:lnTo>
                                        <a:pt x="125" y="468"/>
                                      </a:lnTo>
                                      <a:lnTo>
                                        <a:pt x="104" y="485"/>
                                      </a:lnTo>
                                      <a:lnTo>
                                        <a:pt x="82" y="507"/>
                                      </a:lnTo>
                                      <a:lnTo>
                                        <a:pt x="82" y="546"/>
                                      </a:lnTo>
                                      <a:lnTo>
                                        <a:pt x="82" y="580"/>
                                      </a:lnTo>
                                      <a:lnTo>
                                        <a:pt x="78" y="619"/>
                                      </a:lnTo>
                                      <a:lnTo>
                                        <a:pt x="73" y="657"/>
                                      </a:lnTo>
                                      <a:lnTo>
                                        <a:pt x="65" y="692"/>
                                      </a:lnTo>
                                      <a:lnTo>
                                        <a:pt x="47" y="726"/>
                                      </a:lnTo>
                                      <a:lnTo>
                                        <a:pt x="30" y="761"/>
                                      </a:lnTo>
                                      <a:lnTo>
                                        <a:pt x="0" y="791"/>
                                      </a:lnTo>
                                      <a:lnTo>
                                        <a:pt x="0" y="817"/>
                                      </a:lnTo>
                                      <a:lnTo>
                                        <a:pt x="0" y="851"/>
                                      </a:lnTo>
                                      <a:lnTo>
                                        <a:pt x="0" y="898"/>
                                      </a:lnTo>
                                      <a:lnTo>
                                        <a:pt x="0" y="950"/>
                                      </a:lnTo>
                                      <a:lnTo>
                                        <a:pt x="4" y="997"/>
                                      </a:lnTo>
                                      <a:lnTo>
                                        <a:pt x="9" y="1036"/>
                                      </a:lnTo>
                                      <a:lnTo>
                                        <a:pt x="17" y="1053"/>
                                      </a:lnTo>
                                      <a:lnTo>
                                        <a:pt x="22" y="1066"/>
                                      </a:lnTo>
                                      <a:lnTo>
                                        <a:pt x="30" y="1075"/>
                                      </a:lnTo>
                                      <a:lnTo>
                                        <a:pt x="43" y="1075"/>
                                      </a:lnTo>
                                      <a:lnTo>
                                        <a:pt x="43" y="1066"/>
                                      </a:lnTo>
                                      <a:lnTo>
                                        <a:pt x="47" y="1057"/>
                                      </a:lnTo>
                                      <a:lnTo>
                                        <a:pt x="47" y="1044"/>
                                      </a:lnTo>
                                      <a:lnTo>
                                        <a:pt x="52" y="1036"/>
                                      </a:lnTo>
                                      <a:lnTo>
                                        <a:pt x="56" y="1023"/>
                                      </a:lnTo>
                                      <a:lnTo>
                                        <a:pt x="60" y="1014"/>
                                      </a:lnTo>
                                      <a:lnTo>
                                        <a:pt x="60" y="1001"/>
                                      </a:lnTo>
                                      <a:lnTo>
                                        <a:pt x="65" y="993"/>
                                      </a:lnTo>
                                      <a:lnTo>
                                        <a:pt x="82" y="976"/>
                                      </a:lnTo>
                                      <a:lnTo>
                                        <a:pt x="142" y="976"/>
                                      </a:lnTo>
                                      <a:lnTo>
                                        <a:pt x="134" y="1010"/>
                                      </a:lnTo>
                                      <a:lnTo>
                                        <a:pt x="104" y="1075"/>
                                      </a:lnTo>
                                      <a:lnTo>
                                        <a:pt x="69" y="1161"/>
                                      </a:lnTo>
                                      <a:lnTo>
                                        <a:pt x="35" y="1255"/>
                                      </a:lnTo>
                                      <a:lnTo>
                                        <a:pt x="22" y="1302"/>
                                      </a:lnTo>
                                      <a:lnTo>
                                        <a:pt x="13" y="1345"/>
                                      </a:lnTo>
                                      <a:lnTo>
                                        <a:pt x="13" y="1388"/>
                                      </a:lnTo>
                                      <a:lnTo>
                                        <a:pt x="17" y="1427"/>
                                      </a:lnTo>
                                      <a:lnTo>
                                        <a:pt x="22" y="1440"/>
                                      </a:lnTo>
                                      <a:lnTo>
                                        <a:pt x="26" y="1457"/>
                                      </a:lnTo>
                                      <a:lnTo>
                                        <a:pt x="39" y="1470"/>
                                      </a:lnTo>
                                      <a:lnTo>
                                        <a:pt x="47" y="1483"/>
                                      </a:lnTo>
                                      <a:lnTo>
                                        <a:pt x="65" y="1492"/>
                                      </a:lnTo>
                                      <a:lnTo>
                                        <a:pt x="82" y="1496"/>
                                      </a:lnTo>
                                      <a:lnTo>
                                        <a:pt x="99" y="1500"/>
                                      </a:lnTo>
                                      <a:lnTo>
                                        <a:pt x="125" y="1500"/>
                                      </a:lnTo>
                                      <a:lnTo>
                                        <a:pt x="125" y="1358"/>
                                      </a:lnTo>
                                      <a:lnTo>
                                        <a:pt x="134" y="1358"/>
                                      </a:lnTo>
                                      <a:lnTo>
                                        <a:pt x="138" y="1358"/>
                                      </a:lnTo>
                                      <a:lnTo>
                                        <a:pt x="147" y="1354"/>
                                      </a:lnTo>
                                      <a:lnTo>
                                        <a:pt x="155" y="1350"/>
                                      </a:lnTo>
                                      <a:lnTo>
                                        <a:pt x="164" y="1345"/>
                                      </a:lnTo>
                                      <a:lnTo>
                                        <a:pt x="168" y="1341"/>
                                      </a:lnTo>
                                      <a:lnTo>
                                        <a:pt x="177" y="1341"/>
                                      </a:lnTo>
                                      <a:lnTo>
                                        <a:pt x="186" y="1341"/>
                                      </a:lnTo>
                                      <a:lnTo>
                                        <a:pt x="181" y="1371"/>
                                      </a:lnTo>
                                      <a:lnTo>
                                        <a:pt x="173" y="1414"/>
                                      </a:lnTo>
                                      <a:lnTo>
                                        <a:pt x="160" y="1462"/>
                                      </a:lnTo>
                                      <a:lnTo>
                                        <a:pt x="155" y="1513"/>
                                      </a:lnTo>
                                      <a:lnTo>
                                        <a:pt x="155" y="1539"/>
                                      </a:lnTo>
                                      <a:lnTo>
                                        <a:pt x="155" y="1565"/>
                                      </a:lnTo>
                                      <a:lnTo>
                                        <a:pt x="160" y="1586"/>
                                      </a:lnTo>
                                      <a:lnTo>
                                        <a:pt x="168" y="1603"/>
                                      </a:lnTo>
                                      <a:lnTo>
                                        <a:pt x="181" y="1621"/>
                                      </a:lnTo>
                                      <a:lnTo>
                                        <a:pt x="198" y="1634"/>
                                      </a:lnTo>
                                      <a:lnTo>
                                        <a:pt x="220" y="1642"/>
                                      </a:lnTo>
                                      <a:lnTo>
                                        <a:pt x="246" y="1646"/>
                                      </a:lnTo>
                                      <a:lnTo>
                                        <a:pt x="250" y="1612"/>
                                      </a:lnTo>
                                      <a:lnTo>
                                        <a:pt x="255" y="1560"/>
                                      </a:lnTo>
                                      <a:lnTo>
                                        <a:pt x="263" y="1500"/>
                                      </a:lnTo>
                                      <a:lnTo>
                                        <a:pt x="276" y="1440"/>
                                      </a:lnTo>
                                      <a:lnTo>
                                        <a:pt x="293" y="1380"/>
                                      </a:lnTo>
                                      <a:lnTo>
                                        <a:pt x="315" y="1328"/>
                                      </a:lnTo>
                                      <a:lnTo>
                                        <a:pt x="328" y="1307"/>
                                      </a:lnTo>
                                      <a:lnTo>
                                        <a:pt x="341" y="1294"/>
                                      </a:lnTo>
                                      <a:lnTo>
                                        <a:pt x="354" y="1281"/>
                                      </a:lnTo>
                                      <a:lnTo>
                                        <a:pt x="367" y="1277"/>
                                      </a:lnTo>
                                      <a:lnTo>
                                        <a:pt x="367" y="1272"/>
                                      </a:lnTo>
                                      <a:lnTo>
                                        <a:pt x="367" y="1264"/>
                                      </a:lnTo>
                                      <a:lnTo>
                                        <a:pt x="362" y="1255"/>
                                      </a:lnTo>
                                      <a:lnTo>
                                        <a:pt x="358" y="1247"/>
                                      </a:lnTo>
                                      <a:lnTo>
                                        <a:pt x="354" y="1242"/>
                                      </a:lnTo>
                                      <a:lnTo>
                                        <a:pt x="349" y="1234"/>
                                      </a:lnTo>
                                      <a:lnTo>
                                        <a:pt x="349" y="1225"/>
                                      </a:lnTo>
                                      <a:lnTo>
                                        <a:pt x="349" y="1216"/>
                                      </a:lnTo>
                                      <a:lnTo>
                                        <a:pt x="341" y="1221"/>
                                      </a:lnTo>
                                      <a:lnTo>
                                        <a:pt x="328" y="1225"/>
                                      </a:lnTo>
                                      <a:lnTo>
                                        <a:pt x="311" y="1229"/>
                                      </a:lnTo>
                                      <a:lnTo>
                                        <a:pt x="298" y="1238"/>
                                      </a:lnTo>
                                      <a:lnTo>
                                        <a:pt x="280" y="1247"/>
                                      </a:lnTo>
                                      <a:lnTo>
                                        <a:pt x="268" y="1251"/>
                                      </a:lnTo>
                                      <a:lnTo>
                                        <a:pt x="255" y="1255"/>
                                      </a:lnTo>
                                      <a:lnTo>
                                        <a:pt x="246" y="1259"/>
                                      </a:lnTo>
                                      <a:lnTo>
                                        <a:pt x="237" y="1277"/>
                                      </a:lnTo>
                                      <a:lnTo>
                                        <a:pt x="224" y="1294"/>
                                      </a:lnTo>
                                      <a:lnTo>
                                        <a:pt x="211" y="1315"/>
                                      </a:lnTo>
                                      <a:lnTo>
                                        <a:pt x="198" y="1341"/>
                                      </a:lnTo>
                                      <a:lnTo>
                                        <a:pt x="186" y="1363"/>
                                      </a:lnTo>
                                      <a:lnTo>
                                        <a:pt x="177" y="1384"/>
                                      </a:lnTo>
                                      <a:lnTo>
                                        <a:pt x="168" y="1406"/>
                                      </a:lnTo>
                                      <a:lnTo>
                                        <a:pt x="164" y="1423"/>
                                      </a:lnTo>
                                      <a:lnTo>
                                        <a:pt x="168" y="1376"/>
                                      </a:lnTo>
                                      <a:lnTo>
                                        <a:pt x="173" y="1328"/>
                                      </a:lnTo>
                                      <a:lnTo>
                                        <a:pt x="177" y="1277"/>
                                      </a:lnTo>
                                      <a:lnTo>
                                        <a:pt x="186" y="1229"/>
                                      </a:lnTo>
                                      <a:lnTo>
                                        <a:pt x="194" y="1182"/>
                                      </a:lnTo>
                                      <a:lnTo>
                                        <a:pt x="198" y="1139"/>
                                      </a:lnTo>
                                      <a:lnTo>
                                        <a:pt x="203" y="1096"/>
                                      </a:lnTo>
                                      <a:lnTo>
                                        <a:pt x="207" y="1053"/>
                                      </a:lnTo>
                                      <a:lnTo>
                                        <a:pt x="198" y="1057"/>
                                      </a:lnTo>
                                      <a:lnTo>
                                        <a:pt x="186" y="1062"/>
                                      </a:lnTo>
                                      <a:lnTo>
                                        <a:pt x="177" y="1070"/>
                                      </a:lnTo>
                                      <a:lnTo>
                                        <a:pt x="164" y="1079"/>
                                      </a:lnTo>
                                      <a:lnTo>
                                        <a:pt x="155" y="1087"/>
                                      </a:lnTo>
                                      <a:lnTo>
                                        <a:pt x="142" y="1096"/>
                                      </a:lnTo>
                                      <a:lnTo>
                                        <a:pt x="134" y="1109"/>
                                      </a:lnTo>
                                      <a:lnTo>
                                        <a:pt x="125" y="1118"/>
                                      </a:lnTo>
                                      <a:lnTo>
                                        <a:pt x="125" y="1135"/>
                                      </a:lnTo>
                                      <a:lnTo>
                                        <a:pt x="125" y="1156"/>
                                      </a:lnTo>
                                      <a:lnTo>
                                        <a:pt x="138" y="1109"/>
                                      </a:lnTo>
                                      <a:lnTo>
                                        <a:pt x="155" y="1053"/>
                                      </a:lnTo>
                                      <a:lnTo>
                                        <a:pt x="173" y="984"/>
                                      </a:lnTo>
                                      <a:lnTo>
                                        <a:pt x="190" y="911"/>
                                      </a:lnTo>
                                      <a:lnTo>
                                        <a:pt x="203" y="838"/>
                                      </a:lnTo>
                                      <a:lnTo>
                                        <a:pt x="216" y="765"/>
                                      </a:lnTo>
                                      <a:lnTo>
                                        <a:pt x="224" y="700"/>
                                      </a:lnTo>
                                      <a:lnTo>
                                        <a:pt x="224" y="649"/>
                                      </a:lnTo>
                                      <a:lnTo>
                                        <a:pt x="207" y="653"/>
                                      </a:lnTo>
                                      <a:lnTo>
                                        <a:pt x="190" y="666"/>
                                      </a:lnTo>
                                      <a:lnTo>
                                        <a:pt x="177" y="679"/>
                                      </a:lnTo>
                                      <a:lnTo>
                                        <a:pt x="168" y="700"/>
                                      </a:lnTo>
                                      <a:lnTo>
                                        <a:pt x="160" y="718"/>
                                      </a:lnTo>
                                      <a:lnTo>
                                        <a:pt x="147" y="735"/>
                                      </a:lnTo>
                                      <a:lnTo>
                                        <a:pt x="138" y="748"/>
                                      </a:lnTo>
                                      <a:lnTo>
                                        <a:pt x="125" y="752"/>
                                      </a:lnTo>
                                      <a:lnTo>
                                        <a:pt x="134" y="726"/>
                                      </a:lnTo>
                                      <a:lnTo>
                                        <a:pt x="147" y="696"/>
                                      </a:lnTo>
                                      <a:lnTo>
                                        <a:pt x="160" y="662"/>
                                      </a:lnTo>
                                      <a:lnTo>
                                        <a:pt x="173" y="627"/>
                                      </a:lnTo>
                                      <a:lnTo>
                                        <a:pt x="186" y="593"/>
                                      </a:lnTo>
                                      <a:lnTo>
                                        <a:pt x="194" y="563"/>
                                      </a:lnTo>
                                      <a:lnTo>
                                        <a:pt x="203" y="533"/>
                                      </a:lnTo>
                                      <a:lnTo>
                                        <a:pt x="207" y="507"/>
                                      </a:lnTo>
                                      <a:lnTo>
                                        <a:pt x="220" y="503"/>
                                      </a:lnTo>
                                      <a:lnTo>
                                        <a:pt x="229" y="498"/>
                                      </a:lnTo>
                                      <a:lnTo>
                                        <a:pt x="237" y="494"/>
                                      </a:lnTo>
                                      <a:lnTo>
                                        <a:pt x="246" y="485"/>
                                      </a:lnTo>
                                      <a:lnTo>
                                        <a:pt x="250" y="473"/>
                                      </a:lnTo>
                                      <a:lnTo>
                                        <a:pt x="255" y="464"/>
                                      </a:lnTo>
                                      <a:lnTo>
                                        <a:pt x="259" y="455"/>
                                      </a:lnTo>
                                      <a:lnTo>
                                        <a:pt x="268" y="447"/>
                                      </a:lnTo>
                                      <a:lnTo>
                                        <a:pt x="276" y="442"/>
                                      </a:lnTo>
                                      <a:lnTo>
                                        <a:pt x="280" y="442"/>
                                      </a:lnTo>
                                      <a:lnTo>
                                        <a:pt x="289" y="438"/>
                                      </a:lnTo>
                                      <a:lnTo>
                                        <a:pt x="298" y="434"/>
                                      </a:lnTo>
                                      <a:lnTo>
                                        <a:pt x="306" y="430"/>
                                      </a:lnTo>
                                      <a:lnTo>
                                        <a:pt x="311" y="430"/>
                                      </a:lnTo>
                                      <a:lnTo>
                                        <a:pt x="319" y="425"/>
                                      </a:lnTo>
                                      <a:lnTo>
                                        <a:pt x="328" y="425"/>
                                      </a:lnTo>
                                      <a:lnTo>
                                        <a:pt x="328" y="408"/>
                                      </a:lnTo>
                                      <a:lnTo>
                                        <a:pt x="324" y="387"/>
                                      </a:lnTo>
                                      <a:lnTo>
                                        <a:pt x="324" y="365"/>
                                      </a:lnTo>
                                      <a:lnTo>
                                        <a:pt x="319" y="344"/>
                                      </a:lnTo>
                                      <a:lnTo>
                                        <a:pt x="315" y="322"/>
                                      </a:lnTo>
                                      <a:lnTo>
                                        <a:pt x="311" y="301"/>
                                      </a:lnTo>
                                      <a:lnTo>
                                        <a:pt x="311" y="279"/>
                                      </a:lnTo>
                                      <a:lnTo>
                                        <a:pt x="306" y="262"/>
                                      </a:lnTo>
                                      <a:lnTo>
                                        <a:pt x="319" y="262"/>
                                      </a:lnTo>
                                      <a:lnTo>
                                        <a:pt x="332" y="253"/>
                                      </a:lnTo>
                                      <a:lnTo>
                                        <a:pt x="345" y="245"/>
                                      </a:lnTo>
                                      <a:lnTo>
                                        <a:pt x="354" y="232"/>
                                      </a:lnTo>
                                      <a:lnTo>
                                        <a:pt x="380" y="193"/>
                                      </a:lnTo>
                                      <a:lnTo>
                                        <a:pt x="401" y="154"/>
                                      </a:lnTo>
                                      <a:lnTo>
                                        <a:pt x="423" y="107"/>
                                      </a:lnTo>
                                      <a:lnTo>
                                        <a:pt x="436" y="64"/>
                                      </a:lnTo>
                                      <a:lnTo>
                                        <a:pt x="449" y="25"/>
                                      </a:lnTo>
                                      <a:lnTo>
                                        <a:pt x="449" y="0"/>
                                      </a:lnTo>
                                      <a:lnTo>
                                        <a:pt x="414" y="25"/>
                                      </a:lnTo>
                                      <a:lnTo>
                                        <a:pt x="384" y="55"/>
                                      </a:lnTo>
                                      <a:lnTo>
                                        <a:pt x="354" y="90"/>
                                      </a:lnTo>
                                      <a:lnTo>
                                        <a:pt x="324" y="124"/>
                                      </a:lnTo>
                                      <a:lnTo>
                                        <a:pt x="289" y="154"/>
                                      </a:lnTo>
                                      <a:lnTo>
                                        <a:pt x="255" y="180"/>
                                      </a:lnTo>
                                      <a:lnTo>
                                        <a:pt x="237" y="189"/>
                                      </a:lnTo>
                                      <a:lnTo>
                                        <a:pt x="216" y="193"/>
                                      </a:lnTo>
                                      <a:lnTo>
                                        <a:pt x="190" y="202"/>
                                      </a:lnTo>
                                      <a:lnTo>
                                        <a:pt x="164" y="202"/>
                                      </a:lnTo>
                                      <a:lnTo>
                                        <a:pt x="160" y="223"/>
                                      </a:lnTo>
                                      <a:lnTo>
                                        <a:pt x="151" y="249"/>
                                      </a:lnTo>
                                      <a:lnTo>
                                        <a:pt x="138" y="279"/>
                                      </a:lnTo>
                                      <a:lnTo>
                                        <a:pt x="125" y="305"/>
                                      </a:lnTo>
                                      <a:lnTo>
                                        <a:pt x="108" y="335"/>
                                      </a:lnTo>
                                      <a:lnTo>
                                        <a:pt x="95" y="365"/>
                                      </a:lnTo>
                                      <a:lnTo>
                                        <a:pt x="86" y="395"/>
                                      </a:lnTo>
                                      <a:lnTo>
                                        <a:pt x="82" y="425"/>
                                      </a:lnTo>
                                      <a:lnTo>
                                        <a:pt x="86" y="417"/>
                                      </a:lnTo>
                                      <a:lnTo>
                                        <a:pt x="91" y="408"/>
                                      </a:lnTo>
                                      <a:lnTo>
                                        <a:pt x="95" y="399"/>
                                      </a:lnTo>
                                      <a:lnTo>
                                        <a:pt x="104" y="391"/>
                                      </a:lnTo>
                                      <a:lnTo>
                                        <a:pt x="112" y="382"/>
                                      </a:lnTo>
                                      <a:lnTo>
                                        <a:pt x="117" y="369"/>
                                      </a:lnTo>
                                      <a:lnTo>
                                        <a:pt x="121" y="356"/>
                                      </a:lnTo>
                                      <a:lnTo>
                                        <a:pt x="125" y="344"/>
                                      </a:lnTo>
                                      <a:lnTo>
                                        <a:pt x="142" y="322"/>
                                      </a:lnTo>
                                      <a:lnTo>
                                        <a:pt x="164" y="322"/>
                                      </a:lnTo>
                                      <a:lnTo>
                                        <a:pt x="164" y="305"/>
                                      </a:lnTo>
                                      <a:lnTo>
                                        <a:pt x="186" y="283"/>
                                      </a:lnTo>
                                      <a:lnTo>
                                        <a:pt x="224" y="322"/>
                                      </a:lnTo>
                                      <a:close/>
                                    </a:path>
                                  </a:pathLst>
                                </a:custGeom>
                                <a:blipFill rotWithShape="0">
                                  <a:blip r:embed="rId66"/>
                                  <a:srcRect/>
                                  <a:tile tx="0" ty="0" sx="100000" sy="100000" algn="ctr"/>
                                </a:blip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172" name=""/>
                                <p:cNvSpPr/>
                                <p:nvPr/>
                              </p:nvSpPr>
                              <p:spPr>
                                <a:xfrm rot="21306000">
                                  <a:off x="2074680" y="1122840"/>
                                  <a:ext cx="162360" cy="5472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587" h="567">
                                      <a:moveTo>
                                        <a:pt x="159" y="258"/>
                                      </a:moveTo>
                                      <a:lnTo>
                                        <a:pt x="181" y="253"/>
                                      </a:lnTo>
                                      <a:lnTo>
                                        <a:pt x="207" y="245"/>
                                      </a:lnTo>
                                      <a:lnTo>
                                        <a:pt x="233" y="228"/>
                                      </a:lnTo>
                                      <a:lnTo>
                                        <a:pt x="263" y="206"/>
                                      </a:lnTo>
                                      <a:lnTo>
                                        <a:pt x="293" y="189"/>
                                      </a:lnTo>
                                      <a:lnTo>
                                        <a:pt x="323" y="172"/>
                                      </a:lnTo>
                                      <a:lnTo>
                                        <a:pt x="345" y="163"/>
                                      </a:lnTo>
                                      <a:lnTo>
                                        <a:pt x="367" y="159"/>
                                      </a:lnTo>
                                      <a:lnTo>
                                        <a:pt x="367" y="142"/>
                                      </a:lnTo>
                                      <a:lnTo>
                                        <a:pt x="375" y="124"/>
                                      </a:lnTo>
                                      <a:lnTo>
                                        <a:pt x="384" y="111"/>
                                      </a:lnTo>
                                      <a:lnTo>
                                        <a:pt x="397" y="99"/>
                                      </a:lnTo>
                                      <a:lnTo>
                                        <a:pt x="436" y="73"/>
                                      </a:lnTo>
                                      <a:lnTo>
                                        <a:pt x="483" y="51"/>
                                      </a:lnTo>
                                      <a:lnTo>
                                        <a:pt x="539" y="34"/>
                                      </a:lnTo>
                                      <a:lnTo>
                                        <a:pt x="604" y="21"/>
                                      </a:lnTo>
                                      <a:lnTo>
                                        <a:pt x="673" y="13"/>
                                      </a:lnTo>
                                      <a:lnTo>
                                        <a:pt x="746" y="4"/>
                                      </a:lnTo>
                                      <a:lnTo>
                                        <a:pt x="824" y="0"/>
                                      </a:lnTo>
                                      <a:lnTo>
                                        <a:pt x="897" y="0"/>
                                      </a:lnTo>
                                      <a:lnTo>
                                        <a:pt x="971" y="0"/>
                                      </a:lnTo>
                                      <a:lnTo>
                                        <a:pt x="1035" y="4"/>
                                      </a:lnTo>
                                      <a:lnTo>
                                        <a:pt x="1096" y="8"/>
                                      </a:lnTo>
                                      <a:lnTo>
                                        <a:pt x="1152" y="17"/>
                                      </a:lnTo>
                                      <a:lnTo>
                                        <a:pt x="1191" y="25"/>
                                      </a:lnTo>
                                      <a:lnTo>
                                        <a:pt x="1221" y="34"/>
                                      </a:lnTo>
                                      <a:lnTo>
                                        <a:pt x="1221" y="56"/>
                                      </a:lnTo>
                                      <a:lnTo>
                                        <a:pt x="1251" y="68"/>
                                      </a:lnTo>
                                      <a:lnTo>
                                        <a:pt x="1285" y="81"/>
                                      </a:lnTo>
                                      <a:lnTo>
                                        <a:pt x="1324" y="103"/>
                                      </a:lnTo>
                                      <a:lnTo>
                                        <a:pt x="1363" y="124"/>
                                      </a:lnTo>
                                      <a:lnTo>
                                        <a:pt x="1406" y="146"/>
                                      </a:lnTo>
                                      <a:lnTo>
                                        <a:pt x="1445" y="163"/>
                                      </a:lnTo>
                                      <a:lnTo>
                                        <a:pt x="1480" y="172"/>
                                      </a:lnTo>
                                      <a:lnTo>
                                        <a:pt x="1506" y="176"/>
                                      </a:lnTo>
                                      <a:lnTo>
                                        <a:pt x="1514" y="185"/>
                                      </a:lnTo>
                                      <a:lnTo>
                                        <a:pt x="1527" y="197"/>
                                      </a:lnTo>
                                      <a:lnTo>
                                        <a:pt x="1536" y="206"/>
                                      </a:lnTo>
                                      <a:lnTo>
                                        <a:pt x="1549" y="215"/>
                                      </a:lnTo>
                                      <a:lnTo>
                                        <a:pt x="1562" y="223"/>
                                      </a:lnTo>
                                      <a:lnTo>
                                        <a:pt x="1570" y="232"/>
                                      </a:lnTo>
                                      <a:lnTo>
                                        <a:pt x="1579" y="236"/>
                                      </a:lnTo>
                                      <a:lnTo>
                                        <a:pt x="1587" y="240"/>
                                      </a:lnTo>
                                      <a:lnTo>
                                        <a:pt x="1587" y="464"/>
                                      </a:lnTo>
                                      <a:lnTo>
                                        <a:pt x="1562" y="486"/>
                                      </a:lnTo>
                                      <a:lnTo>
                                        <a:pt x="1531" y="503"/>
                                      </a:lnTo>
                                      <a:lnTo>
                                        <a:pt x="1493" y="520"/>
                                      </a:lnTo>
                                      <a:lnTo>
                                        <a:pt x="1449" y="533"/>
                                      </a:lnTo>
                                      <a:lnTo>
                                        <a:pt x="1402" y="546"/>
                                      </a:lnTo>
                                      <a:lnTo>
                                        <a:pt x="1350" y="554"/>
                                      </a:lnTo>
                                      <a:lnTo>
                                        <a:pt x="1298" y="563"/>
                                      </a:lnTo>
                                      <a:lnTo>
                                        <a:pt x="1247" y="567"/>
                                      </a:lnTo>
                                      <a:lnTo>
                                        <a:pt x="1195" y="567"/>
                                      </a:lnTo>
                                      <a:lnTo>
                                        <a:pt x="1139" y="567"/>
                                      </a:lnTo>
                                      <a:lnTo>
                                        <a:pt x="1087" y="563"/>
                                      </a:lnTo>
                                      <a:lnTo>
                                        <a:pt x="1040" y="559"/>
                                      </a:lnTo>
                                      <a:lnTo>
                                        <a:pt x="992" y="546"/>
                                      </a:lnTo>
                                      <a:lnTo>
                                        <a:pt x="949" y="537"/>
                                      </a:lnTo>
                                      <a:lnTo>
                                        <a:pt x="910" y="520"/>
                                      </a:lnTo>
                                      <a:lnTo>
                                        <a:pt x="876" y="503"/>
                                      </a:lnTo>
                                      <a:lnTo>
                                        <a:pt x="876" y="481"/>
                                      </a:lnTo>
                                      <a:lnTo>
                                        <a:pt x="863" y="481"/>
                                      </a:lnTo>
                                      <a:lnTo>
                                        <a:pt x="845" y="481"/>
                                      </a:lnTo>
                                      <a:lnTo>
                                        <a:pt x="828" y="486"/>
                                      </a:lnTo>
                                      <a:lnTo>
                                        <a:pt x="807" y="486"/>
                                      </a:lnTo>
                                      <a:lnTo>
                                        <a:pt x="785" y="486"/>
                                      </a:lnTo>
                                      <a:lnTo>
                                        <a:pt x="768" y="490"/>
                                      </a:lnTo>
                                      <a:lnTo>
                                        <a:pt x="759" y="494"/>
                                      </a:lnTo>
                                      <a:lnTo>
                                        <a:pt x="755" y="503"/>
                                      </a:lnTo>
                                      <a:lnTo>
                                        <a:pt x="99" y="503"/>
                                      </a:lnTo>
                                      <a:lnTo>
                                        <a:pt x="95" y="503"/>
                                      </a:lnTo>
                                      <a:lnTo>
                                        <a:pt x="86" y="498"/>
                                      </a:lnTo>
                                      <a:lnTo>
                                        <a:pt x="77" y="498"/>
                                      </a:lnTo>
                                      <a:lnTo>
                                        <a:pt x="69" y="494"/>
                                      </a:lnTo>
                                      <a:lnTo>
                                        <a:pt x="60" y="490"/>
                                      </a:lnTo>
                                      <a:lnTo>
                                        <a:pt x="56" y="486"/>
                                      </a:lnTo>
                                      <a:lnTo>
                                        <a:pt x="47" y="486"/>
                                      </a:lnTo>
                                      <a:lnTo>
                                        <a:pt x="39" y="481"/>
                                      </a:lnTo>
                                      <a:lnTo>
                                        <a:pt x="0" y="443"/>
                                      </a:lnTo>
                                      <a:lnTo>
                                        <a:pt x="0" y="361"/>
                                      </a:lnTo>
                                      <a:lnTo>
                                        <a:pt x="8" y="352"/>
                                      </a:lnTo>
                                      <a:lnTo>
                                        <a:pt x="17" y="344"/>
                                      </a:lnTo>
                                      <a:lnTo>
                                        <a:pt x="26" y="331"/>
                                      </a:lnTo>
                                      <a:lnTo>
                                        <a:pt x="39" y="318"/>
                                      </a:lnTo>
                                      <a:lnTo>
                                        <a:pt x="47" y="305"/>
                                      </a:lnTo>
                                      <a:lnTo>
                                        <a:pt x="52" y="288"/>
                                      </a:lnTo>
                                      <a:lnTo>
                                        <a:pt x="56" y="275"/>
                                      </a:lnTo>
                                      <a:lnTo>
                                        <a:pt x="60" y="258"/>
                                      </a:lnTo>
                                      <a:lnTo>
                                        <a:pt x="69" y="253"/>
                                      </a:lnTo>
                                      <a:lnTo>
                                        <a:pt x="82" y="245"/>
                                      </a:lnTo>
                                      <a:lnTo>
                                        <a:pt x="95" y="232"/>
                                      </a:lnTo>
                                      <a:lnTo>
                                        <a:pt x="112" y="219"/>
                                      </a:lnTo>
                                      <a:lnTo>
                                        <a:pt x="125" y="215"/>
                                      </a:lnTo>
                                      <a:lnTo>
                                        <a:pt x="138" y="215"/>
                                      </a:lnTo>
                                      <a:lnTo>
                                        <a:pt x="151" y="232"/>
                                      </a:lnTo>
                                      <a:lnTo>
                                        <a:pt x="159" y="258"/>
                                      </a:lnTo>
                                      <a:close/>
                                    </a:path>
                                  </a:pathLst>
                                </a:custGeom>
                                <a:blipFill rotWithShape="0">
                                  <a:blip r:embed="rId67"/>
                                  <a:srcRect/>
                                  <a:tile tx="0" ty="0" sx="100000" sy="100000" algn="ctr"/>
                                </a:blip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7920" bIns="792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173" name=""/>
                              <p:cNvSpPr/>
                              <p:nvPr/>
                            </p:nvSpPr>
                            <p:spPr>
                              <a:xfrm rot="21306000">
                                <a:off x="2086200" y="1125360"/>
                                <a:ext cx="141480" cy="478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85" h="495">
                                    <a:moveTo>
                                      <a:pt x="142" y="228"/>
                                    </a:moveTo>
                                    <a:lnTo>
                                      <a:pt x="160" y="224"/>
                                    </a:lnTo>
                                    <a:lnTo>
                                      <a:pt x="181" y="215"/>
                                    </a:lnTo>
                                    <a:lnTo>
                                      <a:pt x="203" y="198"/>
                                    </a:lnTo>
                                    <a:lnTo>
                                      <a:pt x="229" y="185"/>
                                    </a:lnTo>
                                    <a:lnTo>
                                      <a:pt x="259" y="168"/>
                                    </a:lnTo>
                                    <a:lnTo>
                                      <a:pt x="280" y="151"/>
                                    </a:lnTo>
                                    <a:lnTo>
                                      <a:pt x="302" y="142"/>
                                    </a:lnTo>
                                    <a:lnTo>
                                      <a:pt x="319" y="138"/>
                                    </a:lnTo>
                                    <a:lnTo>
                                      <a:pt x="319" y="125"/>
                                    </a:lnTo>
                                    <a:lnTo>
                                      <a:pt x="328" y="112"/>
                                    </a:lnTo>
                                    <a:lnTo>
                                      <a:pt x="336" y="99"/>
                                    </a:lnTo>
                                    <a:lnTo>
                                      <a:pt x="345" y="86"/>
                                    </a:lnTo>
                                    <a:lnTo>
                                      <a:pt x="380" y="65"/>
                                    </a:lnTo>
                                    <a:lnTo>
                                      <a:pt x="423" y="48"/>
                                    </a:lnTo>
                                    <a:lnTo>
                                      <a:pt x="470" y="35"/>
                                    </a:lnTo>
                                    <a:lnTo>
                                      <a:pt x="526" y="22"/>
                                    </a:lnTo>
                                    <a:lnTo>
                                      <a:pt x="587" y="13"/>
                                    </a:lnTo>
                                    <a:lnTo>
                                      <a:pt x="651" y="5"/>
                                    </a:lnTo>
                                    <a:lnTo>
                                      <a:pt x="716" y="5"/>
                                    </a:lnTo>
                                    <a:lnTo>
                                      <a:pt x="781" y="0"/>
                                    </a:lnTo>
                                    <a:lnTo>
                                      <a:pt x="846" y="0"/>
                                    </a:lnTo>
                                    <a:lnTo>
                                      <a:pt x="906" y="5"/>
                                    </a:lnTo>
                                    <a:lnTo>
                                      <a:pt x="958" y="9"/>
                                    </a:lnTo>
                                    <a:lnTo>
                                      <a:pt x="1001" y="18"/>
                                    </a:lnTo>
                                    <a:lnTo>
                                      <a:pt x="1040" y="22"/>
                                    </a:lnTo>
                                    <a:lnTo>
                                      <a:pt x="1066" y="35"/>
                                    </a:lnTo>
                                    <a:lnTo>
                                      <a:pt x="1066" y="35"/>
                                    </a:lnTo>
                                    <a:lnTo>
                                      <a:pt x="1066" y="39"/>
                                    </a:lnTo>
                                    <a:lnTo>
                                      <a:pt x="1066" y="39"/>
                                    </a:lnTo>
                                    <a:lnTo>
                                      <a:pt x="1066" y="43"/>
                                    </a:lnTo>
                                    <a:lnTo>
                                      <a:pt x="1066" y="43"/>
                                    </a:lnTo>
                                    <a:lnTo>
                                      <a:pt x="1066" y="48"/>
                                    </a:lnTo>
                                    <a:lnTo>
                                      <a:pt x="1066" y="48"/>
                                    </a:lnTo>
                                    <a:lnTo>
                                      <a:pt x="1066" y="52"/>
                                    </a:lnTo>
                                    <a:lnTo>
                                      <a:pt x="1087" y="61"/>
                                    </a:lnTo>
                                    <a:lnTo>
                                      <a:pt x="1117" y="74"/>
                                    </a:lnTo>
                                    <a:lnTo>
                                      <a:pt x="1152" y="91"/>
                                    </a:lnTo>
                                    <a:lnTo>
                                      <a:pt x="1191" y="112"/>
                                    </a:lnTo>
                                    <a:lnTo>
                                      <a:pt x="1225" y="129"/>
                                    </a:lnTo>
                                    <a:lnTo>
                                      <a:pt x="1260" y="142"/>
                                    </a:lnTo>
                                    <a:lnTo>
                                      <a:pt x="1290" y="151"/>
                                    </a:lnTo>
                                    <a:lnTo>
                                      <a:pt x="1316" y="155"/>
                                    </a:lnTo>
                                    <a:lnTo>
                                      <a:pt x="1320" y="164"/>
                                    </a:lnTo>
                                    <a:lnTo>
                                      <a:pt x="1329" y="172"/>
                                    </a:lnTo>
                                    <a:lnTo>
                                      <a:pt x="1342" y="181"/>
                                    </a:lnTo>
                                    <a:lnTo>
                                      <a:pt x="1350" y="190"/>
                                    </a:lnTo>
                                    <a:lnTo>
                                      <a:pt x="1359" y="198"/>
                                    </a:lnTo>
                                    <a:lnTo>
                                      <a:pt x="1368" y="203"/>
                                    </a:lnTo>
                                    <a:lnTo>
                                      <a:pt x="1376" y="207"/>
                                    </a:lnTo>
                                    <a:lnTo>
                                      <a:pt x="1385" y="211"/>
                                    </a:lnTo>
                                    <a:lnTo>
                                      <a:pt x="1385" y="233"/>
                                    </a:lnTo>
                                    <a:lnTo>
                                      <a:pt x="1385" y="258"/>
                                    </a:lnTo>
                                    <a:lnTo>
                                      <a:pt x="1385" y="284"/>
                                    </a:lnTo>
                                    <a:lnTo>
                                      <a:pt x="1385" y="306"/>
                                    </a:lnTo>
                                    <a:lnTo>
                                      <a:pt x="1385" y="332"/>
                                    </a:lnTo>
                                    <a:lnTo>
                                      <a:pt x="1385" y="357"/>
                                    </a:lnTo>
                                    <a:lnTo>
                                      <a:pt x="1385" y="379"/>
                                    </a:lnTo>
                                    <a:lnTo>
                                      <a:pt x="1385" y="405"/>
                                    </a:lnTo>
                                    <a:lnTo>
                                      <a:pt x="1363" y="422"/>
                                    </a:lnTo>
                                    <a:lnTo>
                                      <a:pt x="1333" y="439"/>
                                    </a:lnTo>
                                    <a:lnTo>
                                      <a:pt x="1299" y="456"/>
                                    </a:lnTo>
                                    <a:lnTo>
                                      <a:pt x="1264" y="469"/>
                                    </a:lnTo>
                                    <a:lnTo>
                                      <a:pt x="1221" y="478"/>
                                    </a:lnTo>
                                    <a:lnTo>
                                      <a:pt x="1178" y="486"/>
                                    </a:lnTo>
                                    <a:lnTo>
                                      <a:pt x="1135" y="491"/>
                                    </a:lnTo>
                                    <a:lnTo>
                                      <a:pt x="1087" y="495"/>
                                    </a:lnTo>
                                    <a:lnTo>
                                      <a:pt x="1040" y="495"/>
                                    </a:lnTo>
                                    <a:lnTo>
                                      <a:pt x="997" y="495"/>
                                    </a:lnTo>
                                    <a:lnTo>
                                      <a:pt x="949" y="491"/>
                                    </a:lnTo>
                                    <a:lnTo>
                                      <a:pt x="906" y="486"/>
                                    </a:lnTo>
                                    <a:lnTo>
                                      <a:pt x="863" y="478"/>
                                    </a:lnTo>
                                    <a:lnTo>
                                      <a:pt x="828" y="469"/>
                                    </a:lnTo>
                                    <a:lnTo>
                                      <a:pt x="794" y="456"/>
                                    </a:lnTo>
                                    <a:lnTo>
                                      <a:pt x="764" y="439"/>
                                    </a:lnTo>
                                    <a:lnTo>
                                      <a:pt x="764" y="439"/>
                                    </a:lnTo>
                                    <a:lnTo>
                                      <a:pt x="764" y="435"/>
                                    </a:lnTo>
                                    <a:lnTo>
                                      <a:pt x="764" y="435"/>
                                    </a:lnTo>
                                    <a:lnTo>
                                      <a:pt x="764" y="430"/>
                                    </a:lnTo>
                                    <a:lnTo>
                                      <a:pt x="764" y="430"/>
                                    </a:lnTo>
                                    <a:lnTo>
                                      <a:pt x="764" y="426"/>
                                    </a:lnTo>
                                    <a:lnTo>
                                      <a:pt x="764" y="426"/>
                                    </a:lnTo>
                                    <a:lnTo>
                                      <a:pt x="764" y="422"/>
                                    </a:lnTo>
                                    <a:lnTo>
                                      <a:pt x="755" y="422"/>
                                    </a:lnTo>
                                    <a:lnTo>
                                      <a:pt x="738" y="422"/>
                                    </a:lnTo>
                                    <a:lnTo>
                                      <a:pt x="720" y="422"/>
                                    </a:lnTo>
                                    <a:lnTo>
                                      <a:pt x="703" y="426"/>
                                    </a:lnTo>
                                    <a:lnTo>
                                      <a:pt x="686" y="426"/>
                                    </a:lnTo>
                                    <a:lnTo>
                                      <a:pt x="673" y="430"/>
                                    </a:lnTo>
                                    <a:lnTo>
                                      <a:pt x="660" y="435"/>
                                    </a:lnTo>
                                    <a:lnTo>
                                      <a:pt x="656" y="439"/>
                                    </a:lnTo>
                                    <a:lnTo>
                                      <a:pt x="587" y="439"/>
                                    </a:lnTo>
                                    <a:lnTo>
                                      <a:pt x="513" y="439"/>
                                    </a:lnTo>
                                    <a:lnTo>
                                      <a:pt x="444" y="439"/>
                                    </a:lnTo>
                                    <a:lnTo>
                                      <a:pt x="371" y="439"/>
                                    </a:lnTo>
                                    <a:lnTo>
                                      <a:pt x="302" y="439"/>
                                    </a:lnTo>
                                    <a:lnTo>
                                      <a:pt x="229" y="439"/>
                                    </a:lnTo>
                                    <a:lnTo>
                                      <a:pt x="160" y="439"/>
                                    </a:lnTo>
                                    <a:lnTo>
                                      <a:pt x="91" y="439"/>
                                    </a:lnTo>
                                    <a:lnTo>
                                      <a:pt x="82" y="439"/>
                                    </a:lnTo>
                                    <a:lnTo>
                                      <a:pt x="73" y="439"/>
                                    </a:lnTo>
                                    <a:lnTo>
                                      <a:pt x="69" y="435"/>
                                    </a:lnTo>
                                    <a:lnTo>
                                      <a:pt x="60" y="430"/>
                                    </a:lnTo>
                                    <a:lnTo>
                                      <a:pt x="56" y="426"/>
                                    </a:lnTo>
                                    <a:lnTo>
                                      <a:pt x="47" y="426"/>
                                    </a:lnTo>
                                    <a:lnTo>
                                      <a:pt x="43" y="422"/>
                                    </a:lnTo>
                                    <a:lnTo>
                                      <a:pt x="34" y="422"/>
                                    </a:lnTo>
                                    <a:lnTo>
                                      <a:pt x="30" y="418"/>
                                    </a:lnTo>
                                    <a:lnTo>
                                      <a:pt x="26" y="413"/>
                                    </a:lnTo>
                                    <a:lnTo>
                                      <a:pt x="22" y="409"/>
                                    </a:lnTo>
                                    <a:lnTo>
                                      <a:pt x="17" y="405"/>
                                    </a:lnTo>
                                    <a:lnTo>
                                      <a:pt x="13" y="400"/>
                                    </a:lnTo>
                                    <a:lnTo>
                                      <a:pt x="9" y="396"/>
                                    </a:lnTo>
                                    <a:lnTo>
                                      <a:pt x="4" y="392"/>
                                    </a:lnTo>
                                    <a:lnTo>
                                      <a:pt x="0" y="387"/>
                                    </a:lnTo>
                                    <a:lnTo>
                                      <a:pt x="0" y="379"/>
                                    </a:lnTo>
                                    <a:lnTo>
                                      <a:pt x="0" y="370"/>
                                    </a:lnTo>
                                    <a:lnTo>
                                      <a:pt x="0" y="362"/>
                                    </a:lnTo>
                                    <a:lnTo>
                                      <a:pt x="0" y="353"/>
                                    </a:lnTo>
                                    <a:lnTo>
                                      <a:pt x="0" y="344"/>
                                    </a:lnTo>
                                    <a:lnTo>
                                      <a:pt x="0" y="336"/>
                                    </a:lnTo>
                                    <a:lnTo>
                                      <a:pt x="0" y="327"/>
                                    </a:lnTo>
                                    <a:lnTo>
                                      <a:pt x="0" y="314"/>
                                    </a:lnTo>
                                    <a:lnTo>
                                      <a:pt x="9" y="310"/>
                                    </a:lnTo>
                                    <a:lnTo>
                                      <a:pt x="17" y="301"/>
                                    </a:lnTo>
                                    <a:lnTo>
                                      <a:pt x="26" y="289"/>
                                    </a:lnTo>
                                    <a:lnTo>
                                      <a:pt x="34" y="280"/>
                                    </a:lnTo>
                                    <a:lnTo>
                                      <a:pt x="39" y="267"/>
                                    </a:lnTo>
                                    <a:lnTo>
                                      <a:pt x="47" y="254"/>
                                    </a:lnTo>
                                    <a:lnTo>
                                      <a:pt x="52" y="241"/>
                                    </a:lnTo>
                                    <a:lnTo>
                                      <a:pt x="52" y="228"/>
                                    </a:lnTo>
                                    <a:lnTo>
                                      <a:pt x="60" y="224"/>
                                    </a:lnTo>
                                    <a:lnTo>
                                      <a:pt x="73" y="215"/>
                                    </a:lnTo>
                                    <a:lnTo>
                                      <a:pt x="86" y="203"/>
                                    </a:lnTo>
                                    <a:lnTo>
                                      <a:pt x="99" y="194"/>
                                    </a:lnTo>
                                    <a:lnTo>
                                      <a:pt x="112" y="190"/>
                                    </a:lnTo>
                                    <a:lnTo>
                                      <a:pt x="125" y="190"/>
                                    </a:lnTo>
                                    <a:lnTo>
                                      <a:pt x="134" y="203"/>
                                    </a:lnTo>
                                    <a:lnTo>
                                      <a:pt x="142" y="228"/>
                                    </a:lnTo>
                                    <a:close/>
                                  </a:path>
                                </a:pathLst>
                              </a:custGeom>
                              <a:blipFill rotWithShape="0">
                                <a:blip r:embed="rId68"/>
                                <a:srcRect/>
                                <a:tile tx="0" ty="0" sx="100000" sy="100000" algn="ctr"/>
                              </a:blip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080" bIns="108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4" name=""/>
                              <p:cNvSpPr/>
                              <p:nvPr/>
                            </p:nvSpPr>
                            <p:spPr>
                              <a:xfrm rot="21306000">
                                <a:off x="1959120" y="1621080"/>
                                <a:ext cx="48240" cy="108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474" h="112">
                                    <a:moveTo>
                                      <a:pt x="30" y="0"/>
                                    </a:moveTo>
                                    <a:lnTo>
                                      <a:pt x="90" y="8"/>
                                    </a:lnTo>
                                    <a:lnTo>
                                      <a:pt x="147" y="17"/>
                                    </a:lnTo>
                                    <a:lnTo>
                                      <a:pt x="203" y="30"/>
                                    </a:lnTo>
                                    <a:lnTo>
                                      <a:pt x="254" y="43"/>
                                    </a:lnTo>
                                    <a:lnTo>
                                      <a:pt x="306" y="60"/>
                                    </a:lnTo>
                                    <a:lnTo>
                                      <a:pt x="362" y="69"/>
                                    </a:lnTo>
                                    <a:lnTo>
                                      <a:pt x="418" y="77"/>
                                    </a:lnTo>
                                    <a:lnTo>
                                      <a:pt x="474" y="81"/>
                                    </a:lnTo>
                                    <a:lnTo>
                                      <a:pt x="474" y="112"/>
                                    </a:lnTo>
                                    <a:lnTo>
                                      <a:pt x="0" y="112"/>
                                    </a:lnTo>
                                    <a:lnTo>
                                      <a:pt x="0" y="38"/>
                                    </a:lnTo>
                                    <a:lnTo>
                                      <a:pt x="30" y="0"/>
                                    </a:lnTo>
                                    <a:close/>
                                  </a:path>
                                </a:pathLst>
                              </a:custGeom>
                              <a:blipFill rotWithShape="0">
                                <a:blip r:embed="rId69"/>
                                <a:srcRect/>
                                <a:tile tx="0" ty="0" sx="100000" sy="100000" algn="ctr"/>
                              </a:blip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6000" bIns="-360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5" name=""/>
                              <p:cNvSpPr/>
                              <p:nvPr/>
                            </p:nvSpPr>
                            <p:spPr>
                              <a:xfrm rot="21306000">
                                <a:off x="1960200" y="948600"/>
                                <a:ext cx="84960" cy="388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832" h="404">
                                    <a:moveTo>
                                      <a:pt x="13" y="163"/>
                                    </a:moveTo>
                                    <a:lnTo>
                                      <a:pt x="17" y="159"/>
                                    </a:lnTo>
                                    <a:lnTo>
                                      <a:pt x="21" y="155"/>
                                    </a:lnTo>
                                    <a:lnTo>
                                      <a:pt x="34" y="150"/>
                                    </a:lnTo>
                                    <a:lnTo>
                                      <a:pt x="43" y="142"/>
                                    </a:lnTo>
                                    <a:lnTo>
                                      <a:pt x="56" y="138"/>
                                    </a:lnTo>
                                    <a:lnTo>
                                      <a:pt x="64" y="129"/>
                                    </a:lnTo>
                                    <a:lnTo>
                                      <a:pt x="73" y="125"/>
                                    </a:lnTo>
                                    <a:lnTo>
                                      <a:pt x="77" y="120"/>
                                    </a:lnTo>
                                    <a:lnTo>
                                      <a:pt x="125" y="120"/>
                                    </a:lnTo>
                                    <a:lnTo>
                                      <a:pt x="177" y="125"/>
                                    </a:lnTo>
                                    <a:lnTo>
                                      <a:pt x="228" y="125"/>
                                    </a:lnTo>
                                    <a:lnTo>
                                      <a:pt x="276" y="129"/>
                                    </a:lnTo>
                                    <a:lnTo>
                                      <a:pt x="328" y="129"/>
                                    </a:lnTo>
                                    <a:lnTo>
                                      <a:pt x="379" y="133"/>
                                    </a:lnTo>
                                    <a:lnTo>
                                      <a:pt x="427" y="133"/>
                                    </a:lnTo>
                                    <a:lnTo>
                                      <a:pt x="479" y="138"/>
                                    </a:lnTo>
                                    <a:lnTo>
                                      <a:pt x="479" y="133"/>
                                    </a:lnTo>
                                    <a:lnTo>
                                      <a:pt x="483" y="133"/>
                                    </a:lnTo>
                                    <a:lnTo>
                                      <a:pt x="487" y="129"/>
                                    </a:lnTo>
                                    <a:lnTo>
                                      <a:pt x="492" y="125"/>
                                    </a:lnTo>
                                    <a:lnTo>
                                      <a:pt x="500" y="120"/>
                                    </a:lnTo>
                                    <a:lnTo>
                                      <a:pt x="504" y="116"/>
                                    </a:lnTo>
                                    <a:lnTo>
                                      <a:pt x="509" y="112"/>
                                    </a:lnTo>
                                    <a:lnTo>
                                      <a:pt x="513" y="112"/>
                                    </a:lnTo>
                                    <a:lnTo>
                                      <a:pt x="517" y="107"/>
                                    </a:lnTo>
                                    <a:lnTo>
                                      <a:pt x="517" y="103"/>
                                    </a:lnTo>
                                    <a:lnTo>
                                      <a:pt x="522" y="103"/>
                                    </a:lnTo>
                                    <a:lnTo>
                                      <a:pt x="526" y="99"/>
                                    </a:lnTo>
                                    <a:lnTo>
                                      <a:pt x="530" y="95"/>
                                    </a:lnTo>
                                    <a:lnTo>
                                      <a:pt x="539" y="95"/>
                                    </a:lnTo>
                                    <a:lnTo>
                                      <a:pt x="543" y="95"/>
                                    </a:lnTo>
                                    <a:lnTo>
                                      <a:pt x="552" y="95"/>
                                    </a:lnTo>
                                    <a:lnTo>
                                      <a:pt x="556" y="86"/>
                                    </a:lnTo>
                                    <a:lnTo>
                                      <a:pt x="569" y="73"/>
                                    </a:lnTo>
                                    <a:lnTo>
                                      <a:pt x="591" y="60"/>
                                    </a:lnTo>
                                    <a:lnTo>
                                      <a:pt x="617" y="47"/>
                                    </a:lnTo>
                                    <a:lnTo>
                                      <a:pt x="643" y="30"/>
                                    </a:lnTo>
                                    <a:lnTo>
                                      <a:pt x="664" y="17"/>
                                    </a:lnTo>
                                    <a:lnTo>
                                      <a:pt x="681" y="9"/>
                                    </a:lnTo>
                                    <a:lnTo>
                                      <a:pt x="694" y="0"/>
                                    </a:lnTo>
                                    <a:lnTo>
                                      <a:pt x="707" y="0"/>
                                    </a:lnTo>
                                    <a:lnTo>
                                      <a:pt x="720" y="0"/>
                                    </a:lnTo>
                                    <a:lnTo>
                                      <a:pt x="733" y="0"/>
                                    </a:lnTo>
                                    <a:lnTo>
                                      <a:pt x="746" y="0"/>
                                    </a:lnTo>
                                    <a:lnTo>
                                      <a:pt x="759" y="4"/>
                                    </a:lnTo>
                                    <a:lnTo>
                                      <a:pt x="772" y="9"/>
                                    </a:lnTo>
                                    <a:lnTo>
                                      <a:pt x="781" y="17"/>
                                    </a:lnTo>
                                    <a:lnTo>
                                      <a:pt x="785" y="26"/>
                                    </a:lnTo>
                                    <a:lnTo>
                                      <a:pt x="794" y="26"/>
                                    </a:lnTo>
                                    <a:lnTo>
                                      <a:pt x="798" y="30"/>
                                    </a:lnTo>
                                    <a:lnTo>
                                      <a:pt x="802" y="39"/>
                                    </a:lnTo>
                                    <a:lnTo>
                                      <a:pt x="802" y="47"/>
                                    </a:lnTo>
                                    <a:lnTo>
                                      <a:pt x="806" y="56"/>
                                    </a:lnTo>
                                    <a:lnTo>
                                      <a:pt x="806" y="64"/>
                                    </a:lnTo>
                                    <a:lnTo>
                                      <a:pt x="806" y="73"/>
                                    </a:lnTo>
                                    <a:lnTo>
                                      <a:pt x="811" y="77"/>
                                    </a:lnTo>
                                    <a:lnTo>
                                      <a:pt x="811" y="77"/>
                                    </a:lnTo>
                                    <a:lnTo>
                                      <a:pt x="815" y="77"/>
                                    </a:lnTo>
                                    <a:lnTo>
                                      <a:pt x="815" y="77"/>
                                    </a:lnTo>
                                    <a:lnTo>
                                      <a:pt x="815" y="77"/>
                                    </a:lnTo>
                                    <a:lnTo>
                                      <a:pt x="815" y="77"/>
                                    </a:lnTo>
                                    <a:lnTo>
                                      <a:pt x="819" y="77"/>
                                    </a:lnTo>
                                    <a:lnTo>
                                      <a:pt x="819" y="77"/>
                                    </a:lnTo>
                                    <a:lnTo>
                                      <a:pt x="819" y="77"/>
                                    </a:lnTo>
                                    <a:lnTo>
                                      <a:pt x="828" y="99"/>
                                    </a:lnTo>
                                    <a:lnTo>
                                      <a:pt x="832" y="120"/>
                                    </a:lnTo>
                                    <a:lnTo>
                                      <a:pt x="832" y="142"/>
                                    </a:lnTo>
                                    <a:lnTo>
                                      <a:pt x="828" y="159"/>
                                    </a:lnTo>
                                    <a:lnTo>
                                      <a:pt x="806" y="198"/>
                                    </a:lnTo>
                                    <a:lnTo>
                                      <a:pt x="776" y="232"/>
                                    </a:lnTo>
                                    <a:lnTo>
                                      <a:pt x="742" y="262"/>
                                    </a:lnTo>
                                    <a:lnTo>
                                      <a:pt x="707" y="288"/>
                                    </a:lnTo>
                                    <a:lnTo>
                                      <a:pt x="694" y="301"/>
                                    </a:lnTo>
                                    <a:lnTo>
                                      <a:pt x="686" y="314"/>
                                    </a:lnTo>
                                    <a:lnTo>
                                      <a:pt x="677" y="327"/>
                                    </a:lnTo>
                                    <a:lnTo>
                                      <a:pt x="677" y="335"/>
                                    </a:lnTo>
                                    <a:lnTo>
                                      <a:pt x="630" y="340"/>
                                    </a:lnTo>
                                    <a:lnTo>
                                      <a:pt x="582" y="348"/>
                                    </a:lnTo>
                                    <a:lnTo>
                                      <a:pt x="535" y="361"/>
                                    </a:lnTo>
                                    <a:lnTo>
                                      <a:pt x="487" y="378"/>
                                    </a:lnTo>
                                    <a:lnTo>
                                      <a:pt x="440" y="391"/>
                                    </a:lnTo>
                                    <a:lnTo>
                                      <a:pt x="388" y="400"/>
                                    </a:lnTo>
                                    <a:lnTo>
                                      <a:pt x="362" y="404"/>
                                    </a:lnTo>
                                    <a:lnTo>
                                      <a:pt x="336" y="404"/>
                                    </a:lnTo>
                                    <a:lnTo>
                                      <a:pt x="310" y="400"/>
                                    </a:lnTo>
                                    <a:lnTo>
                                      <a:pt x="280" y="396"/>
                                    </a:lnTo>
                                    <a:lnTo>
                                      <a:pt x="259" y="391"/>
                                    </a:lnTo>
                                    <a:lnTo>
                                      <a:pt x="237" y="387"/>
                                    </a:lnTo>
                                    <a:lnTo>
                                      <a:pt x="211" y="378"/>
                                    </a:lnTo>
                                    <a:lnTo>
                                      <a:pt x="190" y="370"/>
                                    </a:lnTo>
                                    <a:lnTo>
                                      <a:pt x="164" y="365"/>
                                    </a:lnTo>
                                    <a:lnTo>
                                      <a:pt x="138" y="357"/>
                                    </a:lnTo>
                                    <a:lnTo>
                                      <a:pt x="116" y="353"/>
                                    </a:lnTo>
                                    <a:lnTo>
                                      <a:pt x="95" y="353"/>
                                    </a:lnTo>
                                    <a:lnTo>
                                      <a:pt x="90" y="348"/>
                                    </a:lnTo>
                                    <a:lnTo>
                                      <a:pt x="86" y="344"/>
                                    </a:lnTo>
                                    <a:lnTo>
                                      <a:pt x="82" y="340"/>
                                    </a:lnTo>
                                    <a:lnTo>
                                      <a:pt x="77" y="335"/>
                                    </a:lnTo>
                                    <a:lnTo>
                                      <a:pt x="69" y="327"/>
                                    </a:lnTo>
                                    <a:lnTo>
                                      <a:pt x="64" y="322"/>
                                    </a:lnTo>
                                    <a:lnTo>
                                      <a:pt x="60" y="314"/>
                                    </a:lnTo>
                                    <a:lnTo>
                                      <a:pt x="56" y="310"/>
                                    </a:lnTo>
                                    <a:lnTo>
                                      <a:pt x="51" y="305"/>
                                    </a:lnTo>
                                    <a:lnTo>
                                      <a:pt x="47" y="301"/>
                                    </a:lnTo>
                                    <a:lnTo>
                                      <a:pt x="39" y="297"/>
                                    </a:lnTo>
                                    <a:lnTo>
                                      <a:pt x="34" y="292"/>
                                    </a:lnTo>
                                    <a:lnTo>
                                      <a:pt x="34" y="288"/>
                                    </a:lnTo>
                                    <a:lnTo>
                                      <a:pt x="30" y="284"/>
                                    </a:lnTo>
                                    <a:lnTo>
                                      <a:pt x="26" y="279"/>
                                    </a:lnTo>
                                    <a:lnTo>
                                      <a:pt x="21" y="275"/>
                                    </a:lnTo>
                                    <a:lnTo>
                                      <a:pt x="21" y="254"/>
                                    </a:lnTo>
                                    <a:lnTo>
                                      <a:pt x="17" y="236"/>
                                    </a:lnTo>
                                    <a:lnTo>
                                      <a:pt x="8" y="219"/>
                                    </a:lnTo>
                                    <a:lnTo>
                                      <a:pt x="4" y="206"/>
                                    </a:lnTo>
                                    <a:lnTo>
                                      <a:pt x="0" y="193"/>
                                    </a:lnTo>
                                    <a:lnTo>
                                      <a:pt x="0" y="181"/>
                                    </a:lnTo>
                                    <a:lnTo>
                                      <a:pt x="4" y="172"/>
                                    </a:lnTo>
                                    <a:lnTo>
                                      <a:pt x="13" y="163"/>
                                    </a:lnTo>
                                    <a:close/>
                                  </a:path>
                                </a:pathLst>
                              </a:custGeom>
                              <a:blipFill rotWithShape="0">
                                <a:blip r:embed="rId70"/>
                                <a:srcRect/>
                                <a:tile tx="0" ty="0" sx="100000" sy="100000" algn="ctr"/>
                              </a:blip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7920" bIns="-79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sp>
                      <p:nvSpPr>
                        <p:cNvPr id="176" name=""/>
                        <p:cNvSpPr/>
                        <p:nvPr/>
                      </p:nvSpPr>
                      <p:spPr>
                        <a:xfrm rot="21306000">
                          <a:off x="1965600" y="903960"/>
                          <a:ext cx="43560" cy="19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31" h="176">
                              <a:moveTo>
                                <a:pt x="475" y="82"/>
                              </a:moveTo>
                              <a:lnTo>
                                <a:pt x="510" y="73"/>
                              </a:lnTo>
                              <a:lnTo>
                                <a:pt x="518" y="73"/>
                              </a:lnTo>
                              <a:lnTo>
                                <a:pt x="531" y="82"/>
                              </a:lnTo>
                              <a:lnTo>
                                <a:pt x="531" y="103"/>
                              </a:lnTo>
                              <a:lnTo>
                                <a:pt x="410" y="95"/>
                              </a:lnTo>
                              <a:lnTo>
                                <a:pt x="294" y="176"/>
                              </a:lnTo>
                              <a:lnTo>
                                <a:pt x="160" y="155"/>
                              </a:lnTo>
                              <a:lnTo>
                                <a:pt x="87" y="95"/>
                              </a:lnTo>
                              <a:lnTo>
                                <a:pt x="9" y="103"/>
                              </a:lnTo>
                              <a:lnTo>
                                <a:pt x="0" y="103"/>
                              </a:lnTo>
                              <a:lnTo>
                                <a:pt x="0" y="82"/>
                              </a:lnTo>
                              <a:lnTo>
                                <a:pt x="182" y="0"/>
                              </a:lnTo>
                              <a:lnTo>
                                <a:pt x="371" y="30"/>
                              </a:lnTo>
                              <a:lnTo>
                                <a:pt x="475" y="8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ae7e06"/>
                        </a:solidFill>
                        <a:ln w="255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7000" bIns="-27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77" name=""/>
                      <p:cNvSpPr/>
                      <p:nvPr/>
                    </p:nvSpPr>
                    <p:spPr>
                      <a:xfrm rot="21306000">
                        <a:off x="1979640" y="923400"/>
                        <a:ext cx="102600" cy="55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05" h="572">
                            <a:moveTo>
                              <a:pt x="30" y="69"/>
                            </a:moveTo>
                            <a:lnTo>
                              <a:pt x="60" y="47"/>
                            </a:lnTo>
                            <a:lnTo>
                              <a:pt x="99" y="30"/>
                            </a:lnTo>
                            <a:lnTo>
                              <a:pt x="138" y="13"/>
                            </a:lnTo>
                            <a:lnTo>
                              <a:pt x="181" y="4"/>
                            </a:lnTo>
                            <a:lnTo>
                              <a:pt x="224" y="0"/>
                            </a:lnTo>
                            <a:lnTo>
                              <a:pt x="267" y="0"/>
                            </a:lnTo>
                            <a:lnTo>
                              <a:pt x="315" y="0"/>
                            </a:lnTo>
                            <a:lnTo>
                              <a:pt x="362" y="4"/>
                            </a:lnTo>
                            <a:lnTo>
                              <a:pt x="410" y="13"/>
                            </a:lnTo>
                            <a:lnTo>
                              <a:pt x="457" y="21"/>
                            </a:lnTo>
                            <a:lnTo>
                              <a:pt x="500" y="34"/>
                            </a:lnTo>
                            <a:lnTo>
                              <a:pt x="544" y="52"/>
                            </a:lnTo>
                            <a:lnTo>
                              <a:pt x="582" y="69"/>
                            </a:lnTo>
                            <a:lnTo>
                              <a:pt x="621" y="86"/>
                            </a:lnTo>
                            <a:lnTo>
                              <a:pt x="656" y="107"/>
                            </a:lnTo>
                            <a:lnTo>
                              <a:pt x="686" y="129"/>
                            </a:lnTo>
                            <a:lnTo>
                              <a:pt x="686" y="129"/>
                            </a:lnTo>
                            <a:lnTo>
                              <a:pt x="686" y="133"/>
                            </a:lnTo>
                            <a:lnTo>
                              <a:pt x="686" y="133"/>
                            </a:lnTo>
                            <a:lnTo>
                              <a:pt x="686" y="138"/>
                            </a:lnTo>
                            <a:lnTo>
                              <a:pt x="686" y="138"/>
                            </a:lnTo>
                            <a:lnTo>
                              <a:pt x="686" y="142"/>
                            </a:lnTo>
                            <a:lnTo>
                              <a:pt x="686" y="142"/>
                            </a:lnTo>
                            <a:lnTo>
                              <a:pt x="686" y="142"/>
                            </a:lnTo>
                            <a:lnTo>
                              <a:pt x="725" y="163"/>
                            </a:lnTo>
                            <a:lnTo>
                              <a:pt x="781" y="185"/>
                            </a:lnTo>
                            <a:lnTo>
                              <a:pt x="841" y="206"/>
                            </a:lnTo>
                            <a:lnTo>
                              <a:pt x="902" y="232"/>
                            </a:lnTo>
                            <a:lnTo>
                              <a:pt x="932" y="245"/>
                            </a:lnTo>
                            <a:lnTo>
                              <a:pt x="958" y="262"/>
                            </a:lnTo>
                            <a:lnTo>
                              <a:pt x="979" y="279"/>
                            </a:lnTo>
                            <a:lnTo>
                              <a:pt x="992" y="297"/>
                            </a:lnTo>
                            <a:lnTo>
                              <a:pt x="1001" y="318"/>
                            </a:lnTo>
                            <a:lnTo>
                              <a:pt x="1005" y="344"/>
                            </a:lnTo>
                            <a:lnTo>
                              <a:pt x="1001" y="370"/>
                            </a:lnTo>
                            <a:lnTo>
                              <a:pt x="984" y="396"/>
                            </a:lnTo>
                            <a:lnTo>
                              <a:pt x="962" y="400"/>
                            </a:lnTo>
                            <a:lnTo>
                              <a:pt x="940" y="404"/>
                            </a:lnTo>
                            <a:lnTo>
                              <a:pt x="919" y="413"/>
                            </a:lnTo>
                            <a:lnTo>
                              <a:pt x="897" y="421"/>
                            </a:lnTo>
                            <a:lnTo>
                              <a:pt x="871" y="430"/>
                            </a:lnTo>
                            <a:lnTo>
                              <a:pt x="850" y="434"/>
                            </a:lnTo>
                            <a:lnTo>
                              <a:pt x="828" y="439"/>
                            </a:lnTo>
                            <a:lnTo>
                              <a:pt x="807" y="443"/>
                            </a:lnTo>
                            <a:lnTo>
                              <a:pt x="785" y="460"/>
                            </a:lnTo>
                            <a:lnTo>
                              <a:pt x="751" y="486"/>
                            </a:lnTo>
                            <a:lnTo>
                              <a:pt x="712" y="512"/>
                            </a:lnTo>
                            <a:lnTo>
                              <a:pt x="669" y="533"/>
                            </a:lnTo>
                            <a:lnTo>
                              <a:pt x="621" y="555"/>
                            </a:lnTo>
                            <a:lnTo>
                              <a:pt x="578" y="568"/>
                            </a:lnTo>
                            <a:lnTo>
                              <a:pt x="557" y="572"/>
                            </a:lnTo>
                            <a:lnTo>
                              <a:pt x="539" y="572"/>
                            </a:lnTo>
                            <a:lnTo>
                              <a:pt x="522" y="568"/>
                            </a:lnTo>
                            <a:lnTo>
                              <a:pt x="505" y="563"/>
                            </a:lnTo>
                            <a:lnTo>
                              <a:pt x="505" y="559"/>
                            </a:lnTo>
                            <a:lnTo>
                              <a:pt x="505" y="559"/>
                            </a:lnTo>
                            <a:lnTo>
                              <a:pt x="505" y="555"/>
                            </a:lnTo>
                            <a:lnTo>
                              <a:pt x="505" y="555"/>
                            </a:lnTo>
                            <a:lnTo>
                              <a:pt x="505" y="550"/>
                            </a:lnTo>
                            <a:lnTo>
                              <a:pt x="505" y="550"/>
                            </a:lnTo>
                            <a:lnTo>
                              <a:pt x="505" y="550"/>
                            </a:lnTo>
                            <a:lnTo>
                              <a:pt x="505" y="546"/>
                            </a:lnTo>
                            <a:lnTo>
                              <a:pt x="487" y="537"/>
                            </a:lnTo>
                            <a:lnTo>
                              <a:pt x="457" y="525"/>
                            </a:lnTo>
                            <a:lnTo>
                              <a:pt x="427" y="516"/>
                            </a:lnTo>
                            <a:lnTo>
                              <a:pt x="393" y="507"/>
                            </a:lnTo>
                            <a:lnTo>
                              <a:pt x="358" y="499"/>
                            </a:lnTo>
                            <a:lnTo>
                              <a:pt x="324" y="490"/>
                            </a:lnTo>
                            <a:lnTo>
                              <a:pt x="293" y="490"/>
                            </a:lnTo>
                            <a:lnTo>
                              <a:pt x="267" y="486"/>
                            </a:lnTo>
                            <a:lnTo>
                              <a:pt x="250" y="473"/>
                            </a:lnTo>
                            <a:lnTo>
                              <a:pt x="229" y="460"/>
                            </a:lnTo>
                            <a:lnTo>
                              <a:pt x="203" y="439"/>
                            </a:lnTo>
                            <a:lnTo>
                              <a:pt x="177" y="421"/>
                            </a:lnTo>
                            <a:lnTo>
                              <a:pt x="147" y="408"/>
                            </a:lnTo>
                            <a:lnTo>
                              <a:pt x="116" y="396"/>
                            </a:lnTo>
                            <a:lnTo>
                              <a:pt x="95" y="387"/>
                            </a:lnTo>
                            <a:lnTo>
                              <a:pt x="73" y="383"/>
                            </a:lnTo>
                            <a:lnTo>
                              <a:pt x="69" y="365"/>
                            </a:lnTo>
                            <a:lnTo>
                              <a:pt x="65" y="353"/>
                            </a:lnTo>
                            <a:lnTo>
                              <a:pt x="60" y="335"/>
                            </a:lnTo>
                            <a:lnTo>
                              <a:pt x="52" y="322"/>
                            </a:lnTo>
                            <a:lnTo>
                              <a:pt x="43" y="310"/>
                            </a:lnTo>
                            <a:lnTo>
                              <a:pt x="34" y="292"/>
                            </a:lnTo>
                            <a:lnTo>
                              <a:pt x="30" y="279"/>
                            </a:lnTo>
                            <a:lnTo>
                              <a:pt x="30" y="262"/>
                            </a:lnTo>
                            <a:lnTo>
                              <a:pt x="17" y="258"/>
                            </a:lnTo>
                            <a:lnTo>
                              <a:pt x="13" y="245"/>
                            </a:lnTo>
                            <a:lnTo>
                              <a:pt x="4" y="224"/>
                            </a:lnTo>
                            <a:lnTo>
                              <a:pt x="0" y="198"/>
                            </a:lnTo>
                            <a:lnTo>
                              <a:pt x="0" y="176"/>
                            </a:lnTo>
                            <a:lnTo>
                              <a:pt x="0" y="150"/>
                            </a:lnTo>
                            <a:lnTo>
                              <a:pt x="0" y="129"/>
                            </a:lnTo>
                            <a:lnTo>
                              <a:pt x="0" y="116"/>
                            </a:lnTo>
                            <a:lnTo>
                              <a:pt x="4" y="112"/>
                            </a:lnTo>
                            <a:lnTo>
                              <a:pt x="9" y="103"/>
                            </a:lnTo>
                            <a:lnTo>
                              <a:pt x="13" y="95"/>
                            </a:lnTo>
                            <a:lnTo>
                              <a:pt x="17" y="82"/>
                            </a:lnTo>
                            <a:lnTo>
                              <a:pt x="22" y="69"/>
                            </a:lnTo>
                            <a:lnTo>
                              <a:pt x="26" y="56"/>
                            </a:lnTo>
                            <a:lnTo>
                              <a:pt x="26" y="47"/>
                            </a:lnTo>
                            <a:lnTo>
                              <a:pt x="30" y="39"/>
                            </a:lnTo>
                            <a:lnTo>
                              <a:pt x="30" y="43"/>
                            </a:lnTo>
                            <a:lnTo>
                              <a:pt x="30" y="47"/>
                            </a:lnTo>
                            <a:lnTo>
                              <a:pt x="30" y="52"/>
                            </a:lnTo>
                            <a:lnTo>
                              <a:pt x="30" y="56"/>
                            </a:lnTo>
                            <a:lnTo>
                              <a:pt x="30" y="60"/>
                            </a:lnTo>
                            <a:lnTo>
                              <a:pt x="30" y="60"/>
                            </a:lnTo>
                            <a:lnTo>
                              <a:pt x="30" y="64"/>
                            </a:lnTo>
                            <a:lnTo>
                              <a:pt x="30" y="69"/>
                            </a:lnTo>
                            <a:close/>
                          </a:path>
                        </a:pathLst>
                      </a:custGeom>
                      <a:blipFill rotWithShape="0">
                        <a:blip r:embed="rId71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280" bIns="8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78" name=""/>
                    <p:cNvSpPr/>
                    <p:nvPr/>
                  </p:nvSpPr>
                  <p:spPr>
                    <a:xfrm rot="21306000">
                      <a:off x="1913760" y="924120"/>
                      <a:ext cx="121680" cy="6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91" h="675">
                          <a:moveTo>
                            <a:pt x="35" y="81"/>
                          </a:moveTo>
                          <a:lnTo>
                            <a:pt x="73" y="55"/>
                          </a:lnTo>
                          <a:lnTo>
                            <a:pt x="116" y="34"/>
                          </a:lnTo>
                          <a:lnTo>
                            <a:pt x="164" y="17"/>
                          </a:lnTo>
                          <a:lnTo>
                            <a:pt x="211" y="8"/>
                          </a:lnTo>
                          <a:lnTo>
                            <a:pt x="263" y="0"/>
                          </a:lnTo>
                          <a:lnTo>
                            <a:pt x="319" y="0"/>
                          </a:lnTo>
                          <a:lnTo>
                            <a:pt x="375" y="0"/>
                          </a:lnTo>
                          <a:lnTo>
                            <a:pt x="431" y="4"/>
                          </a:lnTo>
                          <a:lnTo>
                            <a:pt x="483" y="12"/>
                          </a:lnTo>
                          <a:lnTo>
                            <a:pt x="539" y="25"/>
                          </a:lnTo>
                          <a:lnTo>
                            <a:pt x="591" y="43"/>
                          </a:lnTo>
                          <a:lnTo>
                            <a:pt x="643" y="60"/>
                          </a:lnTo>
                          <a:lnTo>
                            <a:pt x="690" y="81"/>
                          </a:lnTo>
                          <a:lnTo>
                            <a:pt x="738" y="103"/>
                          </a:lnTo>
                          <a:lnTo>
                            <a:pt x="777" y="129"/>
                          </a:lnTo>
                          <a:lnTo>
                            <a:pt x="811" y="154"/>
                          </a:lnTo>
                          <a:lnTo>
                            <a:pt x="811" y="154"/>
                          </a:lnTo>
                          <a:lnTo>
                            <a:pt x="811" y="159"/>
                          </a:lnTo>
                          <a:lnTo>
                            <a:pt x="811" y="159"/>
                          </a:lnTo>
                          <a:lnTo>
                            <a:pt x="811" y="163"/>
                          </a:lnTo>
                          <a:lnTo>
                            <a:pt x="811" y="163"/>
                          </a:lnTo>
                          <a:lnTo>
                            <a:pt x="811" y="167"/>
                          </a:lnTo>
                          <a:lnTo>
                            <a:pt x="811" y="167"/>
                          </a:lnTo>
                          <a:lnTo>
                            <a:pt x="811" y="172"/>
                          </a:lnTo>
                          <a:lnTo>
                            <a:pt x="859" y="197"/>
                          </a:lnTo>
                          <a:lnTo>
                            <a:pt x="923" y="219"/>
                          </a:lnTo>
                          <a:lnTo>
                            <a:pt x="997" y="245"/>
                          </a:lnTo>
                          <a:lnTo>
                            <a:pt x="1070" y="275"/>
                          </a:lnTo>
                          <a:lnTo>
                            <a:pt x="1100" y="292"/>
                          </a:lnTo>
                          <a:lnTo>
                            <a:pt x="1130" y="309"/>
                          </a:lnTo>
                          <a:lnTo>
                            <a:pt x="1156" y="326"/>
                          </a:lnTo>
                          <a:lnTo>
                            <a:pt x="1173" y="352"/>
                          </a:lnTo>
                          <a:lnTo>
                            <a:pt x="1186" y="378"/>
                          </a:lnTo>
                          <a:lnTo>
                            <a:pt x="1191" y="404"/>
                          </a:lnTo>
                          <a:lnTo>
                            <a:pt x="1182" y="434"/>
                          </a:lnTo>
                          <a:lnTo>
                            <a:pt x="1165" y="468"/>
                          </a:lnTo>
                          <a:lnTo>
                            <a:pt x="1139" y="473"/>
                          </a:lnTo>
                          <a:lnTo>
                            <a:pt x="1113" y="477"/>
                          </a:lnTo>
                          <a:lnTo>
                            <a:pt x="1087" y="485"/>
                          </a:lnTo>
                          <a:lnTo>
                            <a:pt x="1061" y="494"/>
                          </a:lnTo>
                          <a:lnTo>
                            <a:pt x="1031" y="507"/>
                          </a:lnTo>
                          <a:lnTo>
                            <a:pt x="1005" y="516"/>
                          </a:lnTo>
                          <a:lnTo>
                            <a:pt x="979" y="520"/>
                          </a:lnTo>
                          <a:lnTo>
                            <a:pt x="953" y="524"/>
                          </a:lnTo>
                          <a:lnTo>
                            <a:pt x="928" y="546"/>
                          </a:lnTo>
                          <a:lnTo>
                            <a:pt x="889" y="576"/>
                          </a:lnTo>
                          <a:lnTo>
                            <a:pt x="841" y="606"/>
                          </a:lnTo>
                          <a:lnTo>
                            <a:pt x="790" y="632"/>
                          </a:lnTo>
                          <a:lnTo>
                            <a:pt x="738" y="657"/>
                          </a:lnTo>
                          <a:lnTo>
                            <a:pt x="686" y="670"/>
                          </a:lnTo>
                          <a:lnTo>
                            <a:pt x="660" y="675"/>
                          </a:lnTo>
                          <a:lnTo>
                            <a:pt x="639" y="675"/>
                          </a:lnTo>
                          <a:lnTo>
                            <a:pt x="617" y="670"/>
                          </a:lnTo>
                          <a:lnTo>
                            <a:pt x="600" y="662"/>
                          </a:lnTo>
                          <a:lnTo>
                            <a:pt x="600" y="662"/>
                          </a:lnTo>
                          <a:lnTo>
                            <a:pt x="600" y="657"/>
                          </a:lnTo>
                          <a:lnTo>
                            <a:pt x="600" y="657"/>
                          </a:lnTo>
                          <a:lnTo>
                            <a:pt x="600" y="653"/>
                          </a:lnTo>
                          <a:lnTo>
                            <a:pt x="600" y="653"/>
                          </a:lnTo>
                          <a:lnTo>
                            <a:pt x="600" y="649"/>
                          </a:lnTo>
                          <a:lnTo>
                            <a:pt x="600" y="649"/>
                          </a:lnTo>
                          <a:lnTo>
                            <a:pt x="600" y="645"/>
                          </a:lnTo>
                          <a:lnTo>
                            <a:pt x="574" y="632"/>
                          </a:lnTo>
                          <a:lnTo>
                            <a:pt x="544" y="619"/>
                          </a:lnTo>
                          <a:lnTo>
                            <a:pt x="505" y="610"/>
                          </a:lnTo>
                          <a:lnTo>
                            <a:pt x="466" y="597"/>
                          </a:lnTo>
                          <a:lnTo>
                            <a:pt x="423" y="589"/>
                          </a:lnTo>
                          <a:lnTo>
                            <a:pt x="384" y="580"/>
                          </a:lnTo>
                          <a:lnTo>
                            <a:pt x="349" y="576"/>
                          </a:lnTo>
                          <a:lnTo>
                            <a:pt x="319" y="576"/>
                          </a:lnTo>
                          <a:lnTo>
                            <a:pt x="298" y="559"/>
                          </a:lnTo>
                          <a:lnTo>
                            <a:pt x="272" y="541"/>
                          </a:lnTo>
                          <a:lnTo>
                            <a:pt x="242" y="520"/>
                          </a:lnTo>
                          <a:lnTo>
                            <a:pt x="207" y="498"/>
                          </a:lnTo>
                          <a:lnTo>
                            <a:pt x="173" y="481"/>
                          </a:lnTo>
                          <a:lnTo>
                            <a:pt x="142" y="468"/>
                          </a:lnTo>
                          <a:lnTo>
                            <a:pt x="112" y="455"/>
                          </a:lnTo>
                          <a:lnTo>
                            <a:pt x="86" y="451"/>
                          </a:lnTo>
                          <a:lnTo>
                            <a:pt x="86" y="434"/>
                          </a:lnTo>
                          <a:lnTo>
                            <a:pt x="78" y="417"/>
                          </a:lnTo>
                          <a:lnTo>
                            <a:pt x="69" y="399"/>
                          </a:lnTo>
                          <a:lnTo>
                            <a:pt x="60" y="382"/>
                          </a:lnTo>
                          <a:lnTo>
                            <a:pt x="52" y="365"/>
                          </a:lnTo>
                          <a:lnTo>
                            <a:pt x="43" y="348"/>
                          </a:lnTo>
                          <a:lnTo>
                            <a:pt x="35" y="331"/>
                          </a:lnTo>
                          <a:lnTo>
                            <a:pt x="35" y="309"/>
                          </a:lnTo>
                          <a:lnTo>
                            <a:pt x="22" y="305"/>
                          </a:lnTo>
                          <a:lnTo>
                            <a:pt x="13" y="288"/>
                          </a:lnTo>
                          <a:lnTo>
                            <a:pt x="9" y="266"/>
                          </a:lnTo>
                          <a:lnTo>
                            <a:pt x="4" y="236"/>
                          </a:lnTo>
                          <a:lnTo>
                            <a:pt x="0" y="206"/>
                          </a:lnTo>
                          <a:lnTo>
                            <a:pt x="0" y="176"/>
                          </a:lnTo>
                          <a:lnTo>
                            <a:pt x="0" y="154"/>
                          </a:lnTo>
                          <a:lnTo>
                            <a:pt x="0" y="133"/>
                          </a:lnTo>
                          <a:lnTo>
                            <a:pt x="4" y="133"/>
                          </a:lnTo>
                          <a:lnTo>
                            <a:pt x="13" y="124"/>
                          </a:lnTo>
                          <a:lnTo>
                            <a:pt x="17" y="111"/>
                          </a:lnTo>
                          <a:lnTo>
                            <a:pt x="22" y="98"/>
                          </a:lnTo>
                          <a:lnTo>
                            <a:pt x="26" y="81"/>
                          </a:lnTo>
                          <a:lnTo>
                            <a:pt x="30" y="68"/>
                          </a:lnTo>
                          <a:lnTo>
                            <a:pt x="35" y="55"/>
                          </a:lnTo>
                          <a:lnTo>
                            <a:pt x="35" y="47"/>
                          </a:lnTo>
                          <a:lnTo>
                            <a:pt x="35" y="51"/>
                          </a:lnTo>
                          <a:lnTo>
                            <a:pt x="35" y="55"/>
                          </a:lnTo>
                          <a:lnTo>
                            <a:pt x="35" y="60"/>
                          </a:lnTo>
                          <a:lnTo>
                            <a:pt x="35" y="64"/>
                          </a:lnTo>
                          <a:lnTo>
                            <a:pt x="35" y="68"/>
                          </a:lnTo>
                          <a:lnTo>
                            <a:pt x="35" y="73"/>
                          </a:lnTo>
                          <a:lnTo>
                            <a:pt x="35" y="77"/>
                          </a:lnTo>
                          <a:lnTo>
                            <a:pt x="35" y="81"/>
                          </a:lnTo>
                          <a:close/>
                        </a:path>
                      </a:pathLst>
                    </a:custGeom>
                    <a:blipFill rotWithShape="0">
                      <a:blip r:embed="rId72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360" bIns="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79" name=""/>
                  <p:cNvSpPr/>
                  <p:nvPr/>
                </p:nvSpPr>
                <p:spPr>
                  <a:xfrm rot="21306000">
                    <a:off x="2038320" y="881280"/>
                    <a:ext cx="10368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949" h="477">
                        <a:moveTo>
                          <a:pt x="17" y="194"/>
                        </a:moveTo>
                        <a:lnTo>
                          <a:pt x="17" y="194"/>
                        </a:lnTo>
                        <a:lnTo>
                          <a:pt x="26" y="189"/>
                        </a:lnTo>
                        <a:lnTo>
                          <a:pt x="39" y="181"/>
                        </a:lnTo>
                        <a:lnTo>
                          <a:pt x="52" y="172"/>
                        </a:lnTo>
                        <a:lnTo>
                          <a:pt x="65" y="163"/>
                        </a:lnTo>
                        <a:lnTo>
                          <a:pt x="78" y="155"/>
                        </a:lnTo>
                        <a:lnTo>
                          <a:pt x="86" y="146"/>
                        </a:lnTo>
                        <a:lnTo>
                          <a:pt x="86" y="142"/>
                        </a:lnTo>
                        <a:lnTo>
                          <a:pt x="548" y="163"/>
                        </a:lnTo>
                        <a:lnTo>
                          <a:pt x="548" y="163"/>
                        </a:lnTo>
                        <a:lnTo>
                          <a:pt x="552" y="159"/>
                        </a:lnTo>
                        <a:lnTo>
                          <a:pt x="557" y="155"/>
                        </a:lnTo>
                        <a:lnTo>
                          <a:pt x="561" y="146"/>
                        </a:lnTo>
                        <a:lnTo>
                          <a:pt x="569" y="142"/>
                        </a:lnTo>
                        <a:lnTo>
                          <a:pt x="578" y="138"/>
                        </a:lnTo>
                        <a:lnTo>
                          <a:pt x="582" y="133"/>
                        </a:lnTo>
                        <a:lnTo>
                          <a:pt x="587" y="133"/>
                        </a:lnTo>
                        <a:lnTo>
                          <a:pt x="587" y="129"/>
                        </a:lnTo>
                        <a:lnTo>
                          <a:pt x="591" y="125"/>
                        </a:lnTo>
                        <a:lnTo>
                          <a:pt x="595" y="120"/>
                        </a:lnTo>
                        <a:lnTo>
                          <a:pt x="600" y="120"/>
                        </a:lnTo>
                        <a:lnTo>
                          <a:pt x="604" y="116"/>
                        </a:lnTo>
                        <a:lnTo>
                          <a:pt x="613" y="116"/>
                        </a:lnTo>
                        <a:lnTo>
                          <a:pt x="621" y="112"/>
                        </a:lnTo>
                        <a:lnTo>
                          <a:pt x="630" y="112"/>
                        </a:lnTo>
                        <a:lnTo>
                          <a:pt x="634" y="103"/>
                        </a:lnTo>
                        <a:lnTo>
                          <a:pt x="651" y="90"/>
                        </a:lnTo>
                        <a:lnTo>
                          <a:pt x="673" y="73"/>
                        </a:lnTo>
                        <a:lnTo>
                          <a:pt x="703" y="56"/>
                        </a:lnTo>
                        <a:lnTo>
                          <a:pt x="729" y="39"/>
                        </a:lnTo>
                        <a:lnTo>
                          <a:pt x="755" y="26"/>
                        </a:lnTo>
                        <a:lnTo>
                          <a:pt x="777" y="9"/>
                        </a:lnTo>
                        <a:lnTo>
                          <a:pt x="790" y="0"/>
                        </a:lnTo>
                        <a:lnTo>
                          <a:pt x="802" y="0"/>
                        </a:lnTo>
                        <a:lnTo>
                          <a:pt x="820" y="0"/>
                        </a:lnTo>
                        <a:lnTo>
                          <a:pt x="833" y="4"/>
                        </a:lnTo>
                        <a:lnTo>
                          <a:pt x="850" y="4"/>
                        </a:lnTo>
                        <a:lnTo>
                          <a:pt x="863" y="9"/>
                        </a:lnTo>
                        <a:lnTo>
                          <a:pt x="876" y="13"/>
                        </a:lnTo>
                        <a:lnTo>
                          <a:pt x="889" y="22"/>
                        </a:lnTo>
                        <a:lnTo>
                          <a:pt x="893" y="30"/>
                        </a:lnTo>
                        <a:lnTo>
                          <a:pt x="902" y="34"/>
                        </a:lnTo>
                        <a:lnTo>
                          <a:pt x="910" y="39"/>
                        </a:lnTo>
                        <a:lnTo>
                          <a:pt x="915" y="47"/>
                        </a:lnTo>
                        <a:lnTo>
                          <a:pt x="915" y="56"/>
                        </a:lnTo>
                        <a:lnTo>
                          <a:pt x="919" y="69"/>
                        </a:lnTo>
                        <a:lnTo>
                          <a:pt x="919" y="77"/>
                        </a:lnTo>
                        <a:lnTo>
                          <a:pt x="919" y="86"/>
                        </a:lnTo>
                        <a:lnTo>
                          <a:pt x="923" y="90"/>
                        </a:lnTo>
                        <a:lnTo>
                          <a:pt x="932" y="90"/>
                        </a:lnTo>
                        <a:lnTo>
                          <a:pt x="945" y="120"/>
                        </a:lnTo>
                        <a:lnTo>
                          <a:pt x="949" y="142"/>
                        </a:lnTo>
                        <a:lnTo>
                          <a:pt x="949" y="168"/>
                        </a:lnTo>
                        <a:lnTo>
                          <a:pt x="941" y="189"/>
                        </a:lnTo>
                        <a:lnTo>
                          <a:pt x="932" y="215"/>
                        </a:lnTo>
                        <a:lnTo>
                          <a:pt x="919" y="237"/>
                        </a:lnTo>
                        <a:lnTo>
                          <a:pt x="902" y="254"/>
                        </a:lnTo>
                        <a:lnTo>
                          <a:pt x="884" y="275"/>
                        </a:lnTo>
                        <a:lnTo>
                          <a:pt x="846" y="310"/>
                        </a:lnTo>
                        <a:lnTo>
                          <a:pt x="807" y="344"/>
                        </a:lnTo>
                        <a:lnTo>
                          <a:pt x="794" y="357"/>
                        </a:lnTo>
                        <a:lnTo>
                          <a:pt x="781" y="374"/>
                        </a:lnTo>
                        <a:lnTo>
                          <a:pt x="772" y="387"/>
                        </a:lnTo>
                        <a:lnTo>
                          <a:pt x="772" y="396"/>
                        </a:lnTo>
                        <a:lnTo>
                          <a:pt x="716" y="400"/>
                        </a:lnTo>
                        <a:lnTo>
                          <a:pt x="664" y="413"/>
                        </a:lnTo>
                        <a:lnTo>
                          <a:pt x="613" y="430"/>
                        </a:lnTo>
                        <a:lnTo>
                          <a:pt x="557" y="447"/>
                        </a:lnTo>
                        <a:lnTo>
                          <a:pt x="500" y="464"/>
                        </a:lnTo>
                        <a:lnTo>
                          <a:pt x="444" y="473"/>
                        </a:lnTo>
                        <a:lnTo>
                          <a:pt x="414" y="477"/>
                        </a:lnTo>
                        <a:lnTo>
                          <a:pt x="384" y="477"/>
                        </a:lnTo>
                        <a:lnTo>
                          <a:pt x="354" y="473"/>
                        </a:lnTo>
                        <a:lnTo>
                          <a:pt x="324" y="469"/>
                        </a:lnTo>
                        <a:lnTo>
                          <a:pt x="298" y="464"/>
                        </a:lnTo>
                        <a:lnTo>
                          <a:pt x="272" y="456"/>
                        </a:lnTo>
                        <a:lnTo>
                          <a:pt x="242" y="447"/>
                        </a:lnTo>
                        <a:lnTo>
                          <a:pt x="216" y="439"/>
                        </a:lnTo>
                        <a:lnTo>
                          <a:pt x="186" y="430"/>
                        </a:lnTo>
                        <a:lnTo>
                          <a:pt x="160" y="426"/>
                        </a:lnTo>
                        <a:lnTo>
                          <a:pt x="134" y="417"/>
                        </a:lnTo>
                        <a:lnTo>
                          <a:pt x="108" y="417"/>
                        </a:lnTo>
                        <a:lnTo>
                          <a:pt x="108" y="413"/>
                        </a:lnTo>
                        <a:lnTo>
                          <a:pt x="104" y="409"/>
                        </a:lnTo>
                        <a:lnTo>
                          <a:pt x="95" y="404"/>
                        </a:lnTo>
                        <a:lnTo>
                          <a:pt x="86" y="396"/>
                        </a:lnTo>
                        <a:lnTo>
                          <a:pt x="82" y="387"/>
                        </a:lnTo>
                        <a:lnTo>
                          <a:pt x="73" y="383"/>
                        </a:lnTo>
                        <a:lnTo>
                          <a:pt x="69" y="374"/>
                        </a:lnTo>
                        <a:lnTo>
                          <a:pt x="69" y="366"/>
                        </a:lnTo>
                        <a:lnTo>
                          <a:pt x="60" y="361"/>
                        </a:lnTo>
                        <a:lnTo>
                          <a:pt x="52" y="357"/>
                        </a:lnTo>
                        <a:lnTo>
                          <a:pt x="47" y="353"/>
                        </a:lnTo>
                        <a:lnTo>
                          <a:pt x="43" y="348"/>
                        </a:lnTo>
                        <a:lnTo>
                          <a:pt x="39" y="340"/>
                        </a:lnTo>
                        <a:lnTo>
                          <a:pt x="35" y="335"/>
                        </a:lnTo>
                        <a:lnTo>
                          <a:pt x="30" y="331"/>
                        </a:lnTo>
                        <a:lnTo>
                          <a:pt x="26" y="327"/>
                        </a:lnTo>
                        <a:lnTo>
                          <a:pt x="26" y="305"/>
                        </a:lnTo>
                        <a:lnTo>
                          <a:pt x="17" y="284"/>
                        </a:lnTo>
                        <a:lnTo>
                          <a:pt x="13" y="262"/>
                        </a:lnTo>
                        <a:lnTo>
                          <a:pt x="4" y="245"/>
                        </a:lnTo>
                        <a:lnTo>
                          <a:pt x="0" y="228"/>
                        </a:lnTo>
                        <a:lnTo>
                          <a:pt x="0" y="215"/>
                        </a:lnTo>
                        <a:lnTo>
                          <a:pt x="4" y="202"/>
                        </a:lnTo>
                        <a:lnTo>
                          <a:pt x="17" y="194"/>
                        </a:lnTo>
                        <a:close/>
                      </a:path>
                    </a:pathLst>
                  </a:custGeom>
                  <a:blipFill rotWithShape="0">
                    <a:blip r:embed="rId73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80" name=""/>
                <p:cNvSpPr/>
                <p:nvPr/>
              </p:nvSpPr>
              <p:spPr>
                <a:xfrm rot="21306000">
                  <a:off x="1998720" y="894600"/>
                  <a:ext cx="99720" cy="33480"/>
                </a:xfrm>
                <a:custGeom>
                  <a:avLst/>
                  <a:gdLst/>
                  <a:ahLst/>
                  <a:rect l="l" t="t" r="r" b="b"/>
                  <a:pathLst>
                    <a:path w="975" h="349">
                      <a:moveTo>
                        <a:pt x="99" y="159"/>
                      </a:moveTo>
                      <a:lnTo>
                        <a:pt x="107" y="155"/>
                      </a:lnTo>
                      <a:lnTo>
                        <a:pt x="125" y="151"/>
                      </a:lnTo>
                      <a:lnTo>
                        <a:pt x="142" y="138"/>
                      </a:lnTo>
                      <a:lnTo>
                        <a:pt x="159" y="129"/>
                      </a:lnTo>
                      <a:lnTo>
                        <a:pt x="181" y="116"/>
                      </a:lnTo>
                      <a:lnTo>
                        <a:pt x="198" y="108"/>
                      </a:lnTo>
                      <a:lnTo>
                        <a:pt x="211" y="99"/>
                      </a:lnTo>
                      <a:lnTo>
                        <a:pt x="224" y="95"/>
                      </a:lnTo>
                      <a:lnTo>
                        <a:pt x="228" y="78"/>
                      </a:lnTo>
                      <a:lnTo>
                        <a:pt x="241" y="61"/>
                      </a:lnTo>
                      <a:lnTo>
                        <a:pt x="263" y="43"/>
                      </a:lnTo>
                      <a:lnTo>
                        <a:pt x="293" y="35"/>
                      </a:lnTo>
                      <a:lnTo>
                        <a:pt x="328" y="22"/>
                      </a:lnTo>
                      <a:lnTo>
                        <a:pt x="371" y="13"/>
                      </a:lnTo>
                      <a:lnTo>
                        <a:pt x="414" y="9"/>
                      </a:lnTo>
                      <a:lnTo>
                        <a:pt x="457" y="5"/>
                      </a:lnTo>
                      <a:lnTo>
                        <a:pt x="548" y="0"/>
                      </a:lnTo>
                      <a:lnTo>
                        <a:pt x="634" y="0"/>
                      </a:lnTo>
                      <a:lnTo>
                        <a:pt x="703" y="9"/>
                      </a:lnTo>
                      <a:lnTo>
                        <a:pt x="746" y="22"/>
                      </a:lnTo>
                      <a:lnTo>
                        <a:pt x="746" y="22"/>
                      </a:lnTo>
                      <a:lnTo>
                        <a:pt x="746" y="26"/>
                      </a:lnTo>
                      <a:lnTo>
                        <a:pt x="746" y="26"/>
                      </a:lnTo>
                      <a:lnTo>
                        <a:pt x="746" y="30"/>
                      </a:lnTo>
                      <a:lnTo>
                        <a:pt x="746" y="30"/>
                      </a:lnTo>
                      <a:lnTo>
                        <a:pt x="746" y="30"/>
                      </a:lnTo>
                      <a:lnTo>
                        <a:pt x="746" y="35"/>
                      </a:lnTo>
                      <a:lnTo>
                        <a:pt x="746" y="35"/>
                      </a:lnTo>
                      <a:lnTo>
                        <a:pt x="763" y="43"/>
                      </a:lnTo>
                      <a:lnTo>
                        <a:pt x="785" y="52"/>
                      </a:lnTo>
                      <a:lnTo>
                        <a:pt x="811" y="65"/>
                      </a:lnTo>
                      <a:lnTo>
                        <a:pt x="837" y="78"/>
                      </a:lnTo>
                      <a:lnTo>
                        <a:pt x="863" y="91"/>
                      </a:lnTo>
                      <a:lnTo>
                        <a:pt x="884" y="99"/>
                      </a:lnTo>
                      <a:lnTo>
                        <a:pt x="906" y="108"/>
                      </a:lnTo>
                      <a:lnTo>
                        <a:pt x="923" y="108"/>
                      </a:lnTo>
                      <a:lnTo>
                        <a:pt x="927" y="116"/>
                      </a:lnTo>
                      <a:lnTo>
                        <a:pt x="936" y="121"/>
                      </a:lnTo>
                      <a:lnTo>
                        <a:pt x="940" y="125"/>
                      </a:lnTo>
                      <a:lnTo>
                        <a:pt x="949" y="134"/>
                      </a:lnTo>
                      <a:lnTo>
                        <a:pt x="953" y="138"/>
                      </a:lnTo>
                      <a:lnTo>
                        <a:pt x="962" y="142"/>
                      </a:lnTo>
                      <a:lnTo>
                        <a:pt x="966" y="147"/>
                      </a:lnTo>
                      <a:lnTo>
                        <a:pt x="975" y="147"/>
                      </a:lnTo>
                      <a:lnTo>
                        <a:pt x="975" y="164"/>
                      </a:lnTo>
                      <a:lnTo>
                        <a:pt x="975" y="181"/>
                      </a:lnTo>
                      <a:lnTo>
                        <a:pt x="975" y="198"/>
                      </a:lnTo>
                      <a:lnTo>
                        <a:pt x="975" y="215"/>
                      </a:lnTo>
                      <a:lnTo>
                        <a:pt x="975" y="233"/>
                      </a:lnTo>
                      <a:lnTo>
                        <a:pt x="975" y="250"/>
                      </a:lnTo>
                      <a:lnTo>
                        <a:pt x="975" y="267"/>
                      </a:lnTo>
                      <a:lnTo>
                        <a:pt x="975" y="284"/>
                      </a:lnTo>
                      <a:lnTo>
                        <a:pt x="957" y="297"/>
                      </a:lnTo>
                      <a:lnTo>
                        <a:pt x="936" y="310"/>
                      </a:lnTo>
                      <a:lnTo>
                        <a:pt x="914" y="319"/>
                      </a:lnTo>
                      <a:lnTo>
                        <a:pt x="888" y="327"/>
                      </a:lnTo>
                      <a:lnTo>
                        <a:pt x="828" y="340"/>
                      </a:lnTo>
                      <a:lnTo>
                        <a:pt x="763" y="349"/>
                      </a:lnTo>
                      <a:lnTo>
                        <a:pt x="699" y="349"/>
                      </a:lnTo>
                      <a:lnTo>
                        <a:pt x="634" y="340"/>
                      </a:lnTo>
                      <a:lnTo>
                        <a:pt x="608" y="336"/>
                      </a:lnTo>
                      <a:lnTo>
                        <a:pt x="578" y="327"/>
                      </a:lnTo>
                      <a:lnTo>
                        <a:pt x="556" y="319"/>
                      </a:lnTo>
                      <a:lnTo>
                        <a:pt x="535" y="310"/>
                      </a:lnTo>
                      <a:lnTo>
                        <a:pt x="535" y="306"/>
                      </a:lnTo>
                      <a:lnTo>
                        <a:pt x="535" y="306"/>
                      </a:lnTo>
                      <a:lnTo>
                        <a:pt x="535" y="306"/>
                      </a:lnTo>
                      <a:lnTo>
                        <a:pt x="535" y="301"/>
                      </a:lnTo>
                      <a:lnTo>
                        <a:pt x="535" y="301"/>
                      </a:lnTo>
                      <a:lnTo>
                        <a:pt x="535" y="301"/>
                      </a:lnTo>
                      <a:lnTo>
                        <a:pt x="535" y="297"/>
                      </a:lnTo>
                      <a:lnTo>
                        <a:pt x="535" y="297"/>
                      </a:lnTo>
                      <a:lnTo>
                        <a:pt x="530" y="297"/>
                      </a:lnTo>
                      <a:lnTo>
                        <a:pt x="517" y="297"/>
                      </a:lnTo>
                      <a:lnTo>
                        <a:pt x="504" y="297"/>
                      </a:lnTo>
                      <a:lnTo>
                        <a:pt x="491" y="297"/>
                      </a:lnTo>
                      <a:lnTo>
                        <a:pt x="479" y="301"/>
                      </a:lnTo>
                      <a:lnTo>
                        <a:pt x="470" y="301"/>
                      </a:lnTo>
                      <a:lnTo>
                        <a:pt x="461" y="306"/>
                      </a:lnTo>
                      <a:lnTo>
                        <a:pt x="461" y="310"/>
                      </a:lnTo>
                      <a:lnTo>
                        <a:pt x="409" y="310"/>
                      </a:lnTo>
                      <a:lnTo>
                        <a:pt x="362" y="310"/>
                      </a:lnTo>
                      <a:lnTo>
                        <a:pt x="310" y="310"/>
                      </a:lnTo>
                      <a:lnTo>
                        <a:pt x="258" y="310"/>
                      </a:lnTo>
                      <a:lnTo>
                        <a:pt x="211" y="310"/>
                      </a:lnTo>
                      <a:lnTo>
                        <a:pt x="159" y="310"/>
                      </a:lnTo>
                      <a:lnTo>
                        <a:pt x="112" y="310"/>
                      </a:lnTo>
                      <a:lnTo>
                        <a:pt x="60" y="310"/>
                      </a:lnTo>
                      <a:lnTo>
                        <a:pt x="56" y="310"/>
                      </a:lnTo>
                      <a:lnTo>
                        <a:pt x="51" y="306"/>
                      </a:lnTo>
                      <a:lnTo>
                        <a:pt x="47" y="306"/>
                      </a:lnTo>
                      <a:lnTo>
                        <a:pt x="43" y="301"/>
                      </a:lnTo>
                      <a:lnTo>
                        <a:pt x="38" y="301"/>
                      </a:lnTo>
                      <a:lnTo>
                        <a:pt x="34" y="297"/>
                      </a:lnTo>
                      <a:lnTo>
                        <a:pt x="26" y="297"/>
                      </a:lnTo>
                      <a:lnTo>
                        <a:pt x="21" y="297"/>
                      </a:lnTo>
                      <a:lnTo>
                        <a:pt x="21" y="293"/>
                      </a:lnTo>
                      <a:lnTo>
                        <a:pt x="17" y="288"/>
                      </a:lnTo>
                      <a:lnTo>
                        <a:pt x="13" y="288"/>
                      </a:lnTo>
                      <a:lnTo>
                        <a:pt x="8" y="284"/>
                      </a:lnTo>
                      <a:lnTo>
                        <a:pt x="8" y="280"/>
                      </a:lnTo>
                      <a:lnTo>
                        <a:pt x="4" y="276"/>
                      </a:lnTo>
                      <a:lnTo>
                        <a:pt x="0" y="276"/>
                      </a:lnTo>
                      <a:lnTo>
                        <a:pt x="0" y="271"/>
                      </a:lnTo>
                      <a:lnTo>
                        <a:pt x="0" y="267"/>
                      </a:lnTo>
                      <a:lnTo>
                        <a:pt x="0" y="258"/>
                      </a:lnTo>
                      <a:lnTo>
                        <a:pt x="0" y="254"/>
                      </a:lnTo>
                      <a:lnTo>
                        <a:pt x="0" y="245"/>
                      </a:lnTo>
                      <a:lnTo>
                        <a:pt x="0" y="241"/>
                      </a:lnTo>
                      <a:lnTo>
                        <a:pt x="0" y="233"/>
                      </a:lnTo>
                      <a:lnTo>
                        <a:pt x="0" y="228"/>
                      </a:lnTo>
                      <a:lnTo>
                        <a:pt x="0" y="220"/>
                      </a:lnTo>
                      <a:lnTo>
                        <a:pt x="4" y="215"/>
                      </a:lnTo>
                      <a:lnTo>
                        <a:pt x="8" y="211"/>
                      </a:lnTo>
                      <a:lnTo>
                        <a:pt x="17" y="202"/>
                      </a:lnTo>
                      <a:lnTo>
                        <a:pt x="21" y="194"/>
                      </a:lnTo>
                      <a:lnTo>
                        <a:pt x="26" y="185"/>
                      </a:lnTo>
                      <a:lnTo>
                        <a:pt x="30" y="177"/>
                      </a:lnTo>
                      <a:lnTo>
                        <a:pt x="34" y="168"/>
                      </a:lnTo>
                      <a:lnTo>
                        <a:pt x="34" y="159"/>
                      </a:lnTo>
                      <a:lnTo>
                        <a:pt x="43" y="155"/>
                      </a:lnTo>
                      <a:lnTo>
                        <a:pt x="47" y="151"/>
                      </a:lnTo>
                      <a:lnTo>
                        <a:pt x="56" y="142"/>
                      </a:lnTo>
                      <a:lnTo>
                        <a:pt x="64" y="138"/>
                      </a:lnTo>
                      <a:lnTo>
                        <a:pt x="77" y="134"/>
                      </a:lnTo>
                      <a:lnTo>
                        <a:pt x="86" y="134"/>
                      </a:lnTo>
                      <a:lnTo>
                        <a:pt x="90" y="142"/>
                      </a:lnTo>
                      <a:lnTo>
                        <a:pt x="99" y="159"/>
                      </a:lnTo>
                      <a:close/>
                    </a:path>
                  </a:pathLst>
                </a:custGeom>
                <a:blipFill rotWithShape="0">
                  <a:blip r:embed="rId74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1" name=""/>
            <p:cNvSpPr/>
            <p:nvPr/>
          </p:nvSpPr>
          <p:spPr>
            <a:xfrm rot="21306000">
              <a:off x="1901880" y="921960"/>
              <a:ext cx="109080" cy="70200"/>
            </a:xfrm>
            <a:custGeom>
              <a:avLst/>
              <a:gdLst/>
              <a:ahLst/>
              <a:rect l="l" t="t" r="r" b="b"/>
              <a:pathLst>
                <a:path w="2097" h="920">
                  <a:moveTo>
                    <a:pt x="1450" y="86"/>
                  </a:moveTo>
                  <a:lnTo>
                    <a:pt x="1610" y="172"/>
                  </a:lnTo>
                  <a:lnTo>
                    <a:pt x="1778" y="146"/>
                  </a:lnTo>
                  <a:lnTo>
                    <a:pt x="1959" y="86"/>
                  </a:lnTo>
                  <a:lnTo>
                    <a:pt x="2011" y="43"/>
                  </a:lnTo>
                  <a:lnTo>
                    <a:pt x="2097" y="43"/>
                  </a:lnTo>
                  <a:lnTo>
                    <a:pt x="1959" y="108"/>
                  </a:lnTo>
                  <a:lnTo>
                    <a:pt x="1778" y="245"/>
                  </a:lnTo>
                  <a:lnTo>
                    <a:pt x="1726" y="245"/>
                  </a:lnTo>
                  <a:lnTo>
                    <a:pt x="1696" y="288"/>
                  </a:lnTo>
                  <a:lnTo>
                    <a:pt x="1748" y="340"/>
                  </a:lnTo>
                  <a:lnTo>
                    <a:pt x="1864" y="348"/>
                  </a:lnTo>
                  <a:lnTo>
                    <a:pt x="1981" y="413"/>
                  </a:lnTo>
                  <a:lnTo>
                    <a:pt x="1821" y="361"/>
                  </a:lnTo>
                  <a:lnTo>
                    <a:pt x="1705" y="400"/>
                  </a:lnTo>
                  <a:lnTo>
                    <a:pt x="1549" y="572"/>
                  </a:lnTo>
                  <a:lnTo>
                    <a:pt x="1515" y="697"/>
                  </a:lnTo>
                  <a:lnTo>
                    <a:pt x="1515" y="761"/>
                  </a:lnTo>
                  <a:lnTo>
                    <a:pt x="1390" y="856"/>
                  </a:lnTo>
                  <a:lnTo>
                    <a:pt x="1006" y="920"/>
                  </a:lnTo>
                  <a:lnTo>
                    <a:pt x="837" y="899"/>
                  </a:lnTo>
                  <a:lnTo>
                    <a:pt x="781" y="877"/>
                  </a:lnTo>
                  <a:lnTo>
                    <a:pt x="708" y="877"/>
                  </a:lnTo>
                  <a:lnTo>
                    <a:pt x="458" y="804"/>
                  </a:lnTo>
                  <a:lnTo>
                    <a:pt x="328" y="761"/>
                  </a:lnTo>
                  <a:lnTo>
                    <a:pt x="160" y="740"/>
                  </a:lnTo>
                  <a:lnTo>
                    <a:pt x="130" y="710"/>
                  </a:lnTo>
                  <a:lnTo>
                    <a:pt x="458" y="710"/>
                  </a:lnTo>
                  <a:lnTo>
                    <a:pt x="518" y="740"/>
                  </a:lnTo>
                  <a:lnTo>
                    <a:pt x="561" y="783"/>
                  </a:lnTo>
                  <a:lnTo>
                    <a:pt x="604" y="761"/>
                  </a:lnTo>
                  <a:lnTo>
                    <a:pt x="604" y="645"/>
                  </a:lnTo>
                  <a:lnTo>
                    <a:pt x="458" y="636"/>
                  </a:lnTo>
                  <a:lnTo>
                    <a:pt x="358" y="615"/>
                  </a:lnTo>
                  <a:lnTo>
                    <a:pt x="225" y="615"/>
                  </a:lnTo>
                  <a:lnTo>
                    <a:pt x="130" y="602"/>
                  </a:lnTo>
                  <a:lnTo>
                    <a:pt x="87" y="581"/>
                  </a:lnTo>
                  <a:lnTo>
                    <a:pt x="13" y="581"/>
                  </a:lnTo>
                  <a:lnTo>
                    <a:pt x="0" y="542"/>
                  </a:lnTo>
                  <a:lnTo>
                    <a:pt x="44" y="421"/>
                  </a:lnTo>
                  <a:lnTo>
                    <a:pt x="169" y="361"/>
                  </a:lnTo>
                  <a:lnTo>
                    <a:pt x="255" y="391"/>
                  </a:lnTo>
                  <a:lnTo>
                    <a:pt x="328" y="383"/>
                  </a:lnTo>
                  <a:lnTo>
                    <a:pt x="350" y="361"/>
                  </a:lnTo>
                  <a:lnTo>
                    <a:pt x="320" y="318"/>
                  </a:lnTo>
                  <a:lnTo>
                    <a:pt x="298" y="297"/>
                  </a:lnTo>
                  <a:lnTo>
                    <a:pt x="138" y="305"/>
                  </a:lnTo>
                  <a:lnTo>
                    <a:pt x="212" y="267"/>
                  </a:lnTo>
                  <a:lnTo>
                    <a:pt x="225" y="267"/>
                  </a:lnTo>
                  <a:lnTo>
                    <a:pt x="255" y="297"/>
                  </a:lnTo>
                  <a:lnTo>
                    <a:pt x="276" y="267"/>
                  </a:lnTo>
                  <a:lnTo>
                    <a:pt x="466" y="245"/>
                  </a:lnTo>
                  <a:lnTo>
                    <a:pt x="466" y="224"/>
                  </a:lnTo>
                  <a:lnTo>
                    <a:pt x="846" y="52"/>
                  </a:lnTo>
                  <a:lnTo>
                    <a:pt x="997" y="22"/>
                  </a:lnTo>
                  <a:lnTo>
                    <a:pt x="1144" y="0"/>
                  </a:lnTo>
                  <a:lnTo>
                    <a:pt x="1390" y="52"/>
                  </a:lnTo>
                  <a:lnTo>
                    <a:pt x="1450" y="86"/>
                  </a:lnTo>
                  <a:close/>
                </a:path>
              </a:pathLst>
            </a:custGeom>
            <a:blipFill rotWithShape="0">
              <a:blip r:embed="rId7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2309760" y="1300680"/>
            <a:ext cx="687600" cy="816480"/>
            <a:chOff x="2309760" y="1300680"/>
            <a:chExt cx="687600" cy="816480"/>
          </a:xfrm>
        </p:grpSpPr>
        <p:grpSp>
          <p:nvGrpSpPr>
            <p:cNvPr id="183" name=""/>
            <p:cNvGrpSpPr/>
            <p:nvPr/>
          </p:nvGrpSpPr>
          <p:grpSpPr>
            <a:xfrm>
              <a:off x="2309760" y="1300680"/>
              <a:ext cx="687600" cy="816480"/>
              <a:chOff x="2309760" y="1300680"/>
              <a:chExt cx="687600" cy="816480"/>
            </a:xfrm>
          </p:grpSpPr>
          <p:sp>
            <p:nvSpPr>
              <p:cNvPr id="184" name=""/>
              <p:cNvSpPr/>
              <p:nvPr/>
            </p:nvSpPr>
            <p:spPr>
              <a:xfrm rot="21030000">
                <a:off x="2398320" y="1323000"/>
                <a:ext cx="113040" cy="96120"/>
              </a:xfrm>
              <a:prstGeom prst="irregularSeal2">
                <a:avLst/>
              </a:prstGeom>
              <a:blipFill rotWithShape="0">
                <a:blip r:embed="rId76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5" name=""/>
              <p:cNvGrpSpPr/>
              <p:nvPr/>
            </p:nvGrpSpPr>
            <p:grpSpPr>
              <a:xfrm>
                <a:off x="2309760" y="1300680"/>
                <a:ext cx="687600" cy="816480"/>
                <a:chOff x="2309760" y="1300680"/>
                <a:chExt cx="687600" cy="816480"/>
              </a:xfrm>
            </p:grpSpPr>
            <p:grpSp>
              <p:nvGrpSpPr>
                <p:cNvPr id="186" name=""/>
                <p:cNvGrpSpPr/>
                <p:nvPr/>
              </p:nvGrpSpPr>
              <p:grpSpPr>
                <a:xfrm>
                  <a:off x="2309760" y="1300680"/>
                  <a:ext cx="687600" cy="816480"/>
                  <a:chOff x="2309760" y="1300680"/>
                  <a:chExt cx="687600" cy="816480"/>
                </a:xfrm>
              </p:grpSpPr>
              <p:grpSp>
                <p:nvGrpSpPr>
                  <p:cNvPr id="187" name=""/>
                  <p:cNvGrpSpPr/>
                  <p:nvPr/>
                </p:nvGrpSpPr>
                <p:grpSpPr>
                  <a:xfrm>
                    <a:off x="2309760" y="1300680"/>
                    <a:ext cx="687600" cy="816480"/>
                    <a:chOff x="2309760" y="1300680"/>
                    <a:chExt cx="687600" cy="816480"/>
                  </a:xfrm>
                </p:grpSpPr>
                <p:grpSp>
                  <p:nvGrpSpPr>
                    <p:cNvPr id="188" name=""/>
                    <p:cNvGrpSpPr/>
                    <p:nvPr/>
                  </p:nvGrpSpPr>
                  <p:grpSpPr>
                    <a:xfrm>
                      <a:off x="2309760" y="1300680"/>
                      <a:ext cx="687600" cy="816480"/>
                      <a:chOff x="2309760" y="1300680"/>
                      <a:chExt cx="687600" cy="816480"/>
                    </a:xfrm>
                  </p:grpSpPr>
                  <p:grpSp>
                    <p:nvGrpSpPr>
                      <p:cNvPr id="189" name=""/>
                      <p:cNvGrpSpPr/>
                      <p:nvPr/>
                    </p:nvGrpSpPr>
                    <p:grpSpPr>
                      <a:xfrm>
                        <a:off x="2309760" y="1300680"/>
                        <a:ext cx="687600" cy="816480"/>
                        <a:chOff x="2309760" y="1300680"/>
                        <a:chExt cx="687600" cy="816480"/>
                      </a:xfrm>
                    </p:grpSpPr>
                    <p:grpSp>
                      <p:nvGrpSpPr>
                        <p:cNvPr id="190" name=""/>
                        <p:cNvGrpSpPr/>
                        <p:nvPr/>
                      </p:nvGrpSpPr>
                      <p:grpSpPr>
                        <a:xfrm>
                          <a:off x="2309760" y="1300680"/>
                          <a:ext cx="687600" cy="816480"/>
                          <a:chOff x="2309760" y="1300680"/>
                          <a:chExt cx="687600" cy="816480"/>
                        </a:xfrm>
                      </p:grpSpPr>
                      <p:grpSp>
                        <p:nvGrpSpPr>
                          <p:cNvPr id="191" name=""/>
                          <p:cNvGrpSpPr/>
                          <p:nvPr/>
                        </p:nvGrpSpPr>
                        <p:grpSpPr>
                          <a:xfrm>
                            <a:off x="2309760" y="1300680"/>
                            <a:ext cx="687600" cy="816480"/>
                            <a:chOff x="2309760" y="1300680"/>
                            <a:chExt cx="687600" cy="816480"/>
                          </a:xfrm>
                        </p:grpSpPr>
                        <p:grpSp>
                          <p:nvGrpSpPr>
                            <p:cNvPr id="192" name=""/>
                            <p:cNvGrpSpPr/>
                            <p:nvPr/>
                          </p:nvGrpSpPr>
                          <p:grpSpPr>
                            <a:xfrm>
                              <a:off x="2309760" y="1300680"/>
                              <a:ext cx="687600" cy="816480"/>
                              <a:chOff x="2309760" y="1300680"/>
                              <a:chExt cx="687600" cy="816480"/>
                            </a:xfrm>
                          </p:grpSpPr>
                          <p:grpSp>
                            <p:nvGrpSpPr>
                              <p:cNvPr id="193" name=""/>
                              <p:cNvGrpSpPr/>
                              <p:nvPr/>
                            </p:nvGrpSpPr>
                            <p:grpSpPr>
                              <a:xfrm>
                                <a:off x="2309760" y="1300680"/>
                                <a:ext cx="687600" cy="816480"/>
                                <a:chOff x="2309760" y="1300680"/>
                                <a:chExt cx="687600" cy="816480"/>
                              </a:xfrm>
                            </p:grpSpPr>
                            <p:sp>
                              <p:nvSpPr>
                                <p:cNvPr id="194" name=""/>
                                <p:cNvSpPr/>
                                <p:nvPr/>
                              </p:nvSpPr>
                              <p:spPr>
                                <a:xfrm rot="21030000">
                                  <a:off x="2365920" y="1342800"/>
                                  <a:ext cx="574560" cy="73188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5613" h="7564">
                                      <a:moveTo>
                                        <a:pt x="1709" y="155"/>
                                      </a:moveTo>
                                      <a:lnTo>
                                        <a:pt x="1920" y="129"/>
                                      </a:lnTo>
                                      <a:lnTo>
                                        <a:pt x="2153" y="21"/>
                                      </a:lnTo>
                                      <a:lnTo>
                                        <a:pt x="2278" y="43"/>
                                      </a:lnTo>
                                      <a:lnTo>
                                        <a:pt x="2382" y="82"/>
                                      </a:lnTo>
                                      <a:lnTo>
                                        <a:pt x="2489" y="129"/>
                                      </a:lnTo>
                                      <a:lnTo>
                                        <a:pt x="2554" y="176"/>
                                      </a:lnTo>
                                      <a:lnTo>
                                        <a:pt x="2584" y="211"/>
                                      </a:lnTo>
                                      <a:lnTo>
                                        <a:pt x="2571" y="254"/>
                                      </a:lnTo>
                                      <a:lnTo>
                                        <a:pt x="2403" y="400"/>
                                      </a:lnTo>
                                      <a:lnTo>
                                        <a:pt x="2343" y="400"/>
                                      </a:lnTo>
                                      <a:lnTo>
                                        <a:pt x="2235" y="464"/>
                                      </a:lnTo>
                                      <a:lnTo>
                                        <a:pt x="2153" y="494"/>
                                      </a:lnTo>
                                      <a:lnTo>
                                        <a:pt x="1993" y="464"/>
                                      </a:lnTo>
                                      <a:lnTo>
                                        <a:pt x="1929" y="430"/>
                                      </a:lnTo>
                                      <a:lnTo>
                                        <a:pt x="1885" y="430"/>
                                      </a:lnTo>
                                      <a:lnTo>
                                        <a:pt x="1864" y="451"/>
                                      </a:lnTo>
                                      <a:lnTo>
                                        <a:pt x="1959" y="611"/>
                                      </a:lnTo>
                                      <a:lnTo>
                                        <a:pt x="2002" y="937"/>
                                      </a:lnTo>
                                      <a:lnTo>
                                        <a:pt x="1972" y="1204"/>
                                      </a:lnTo>
                                      <a:lnTo>
                                        <a:pt x="1825" y="1733"/>
                                      </a:lnTo>
                                      <a:lnTo>
                                        <a:pt x="1791" y="2055"/>
                                      </a:lnTo>
                                      <a:lnTo>
                                        <a:pt x="1812" y="2184"/>
                                      </a:lnTo>
                                      <a:lnTo>
                                        <a:pt x="1812" y="2300"/>
                                      </a:lnTo>
                                      <a:lnTo>
                                        <a:pt x="1885" y="2425"/>
                                      </a:lnTo>
                                      <a:lnTo>
                                        <a:pt x="1937" y="2468"/>
                                      </a:lnTo>
                                      <a:lnTo>
                                        <a:pt x="2088" y="2395"/>
                                      </a:lnTo>
                                      <a:lnTo>
                                        <a:pt x="2183" y="2343"/>
                                      </a:lnTo>
                                      <a:lnTo>
                                        <a:pt x="2619" y="2300"/>
                                      </a:lnTo>
                                      <a:lnTo>
                                        <a:pt x="3072" y="2374"/>
                                      </a:lnTo>
                                      <a:lnTo>
                                        <a:pt x="3348" y="2395"/>
                                      </a:lnTo>
                                      <a:lnTo>
                                        <a:pt x="3486" y="2352"/>
                                      </a:lnTo>
                                      <a:lnTo>
                                        <a:pt x="3676" y="2322"/>
                                      </a:lnTo>
                                      <a:lnTo>
                                        <a:pt x="3736" y="2288"/>
                                      </a:lnTo>
                                      <a:lnTo>
                                        <a:pt x="4077" y="2322"/>
                                      </a:lnTo>
                                      <a:lnTo>
                                        <a:pt x="4513" y="2395"/>
                                      </a:lnTo>
                                      <a:lnTo>
                                        <a:pt x="4746" y="2490"/>
                                      </a:lnTo>
                                      <a:lnTo>
                                        <a:pt x="4914" y="2533"/>
                                      </a:lnTo>
                                      <a:lnTo>
                                        <a:pt x="5039" y="2511"/>
                                      </a:lnTo>
                                      <a:lnTo>
                                        <a:pt x="5104" y="2477"/>
                                      </a:lnTo>
                                      <a:lnTo>
                                        <a:pt x="5251" y="2477"/>
                                      </a:lnTo>
                                      <a:lnTo>
                                        <a:pt x="5389" y="2541"/>
                                      </a:lnTo>
                                      <a:lnTo>
                                        <a:pt x="5527" y="2692"/>
                                      </a:lnTo>
                                      <a:lnTo>
                                        <a:pt x="5578" y="2816"/>
                                      </a:lnTo>
                                      <a:lnTo>
                                        <a:pt x="5613" y="2954"/>
                                      </a:lnTo>
                                      <a:lnTo>
                                        <a:pt x="5548" y="3311"/>
                                      </a:lnTo>
                                      <a:lnTo>
                                        <a:pt x="5548" y="3449"/>
                                      </a:lnTo>
                                      <a:lnTo>
                                        <a:pt x="5570" y="3479"/>
                                      </a:lnTo>
                                      <a:lnTo>
                                        <a:pt x="5570" y="3526"/>
                                      </a:lnTo>
                                      <a:lnTo>
                                        <a:pt x="5497" y="3578"/>
                                      </a:lnTo>
                                      <a:lnTo>
                                        <a:pt x="5466" y="3578"/>
                                      </a:lnTo>
                                      <a:lnTo>
                                        <a:pt x="5432" y="3513"/>
                                      </a:lnTo>
                                      <a:lnTo>
                                        <a:pt x="5337" y="3504"/>
                                      </a:lnTo>
                                      <a:lnTo>
                                        <a:pt x="5337" y="3479"/>
                                      </a:lnTo>
                                      <a:lnTo>
                                        <a:pt x="5324" y="3470"/>
                                      </a:lnTo>
                                      <a:lnTo>
                                        <a:pt x="5307" y="3492"/>
                                      </a:lnTo>
                                      <a:lnTo>
                                        <a:pt x="5307" y="3535"/>
                                      </a:lnTo>
                                      <a:lnTo>
                                        <a:pt x="5346" y="3586"/>
                                      </a:lnTo>
                                      <a:lnTo>
                                        <a:pt x="5324" y="3629"/>
                                      </a:lnTo>
                                      <a:lnTo>
                                        <a:pt x="5367" y="3745"/>
                                      </a:lnTo>
                                      <a:lnTo>
                                        <a:pt x="5337" y="3754"/>
                                      </a:lnTo>
                                      <a:lnTo>
                                        <a:pt x="5337" y="3810"/>
                                      </a:lnTo>
                                      <a:lnTo>
                                        <a:pt x="5358" y="3827"/>
                                      </a:lnTo>
                                      <a:lnTo>
                                        <a:pt x="5358" y="3861"/>
                                      </a:lnTo>
                                      <a:lnTo>
                                        <a:pt x="5315" y="3891"/>
                                      </a:lnTo>
                                      <a:lnTo>
                                        <a:pt x="5294" y="3913"/>
                                      </a:lnTo>
                                      <a:lnTo>
                                        <a:pt x="5315" y="3969"/>
                                      </a:lnTo>
                                      <a:lnTo>
                                        <a:pt x="5264" y="4008"/>
                                      </a:lnTo>
                                      <a:lnTo>
                                        <a:pt x="5242" y="4029"/>
                                      </a:lnTo>
                                      <a:lnTo>
                                        <a:pt x="5307" y="4072"/>
                                      </a:lnTo>
                                      <a:lnTo>
                                        <a:pt x="5307" y="4081"/>
                                      </a:lnTo>
                                      <a:lnTo>
                                        <a:pt x="5315" y="4094"/>
                                      </a:lnTo>
                                      <a:lnTo>
                                        <a:pt x="5212" y="4188"/>
                                      </a:lnTo>
                                      <a:lnTo>
                                        <a:pt x="5229" y="4231"/>
                                      </a:lnTo>
                                      <a:lnTo>
                                        <a:pt x="5199" y="4326"/>
                                      </a:lnTo>
                                      <a:lnTo>
                                        <a:pt x="5212" y="4347"/>
                                      </a:lnTo>
                                      <a:lnTo>
                                        <a:pt x="5212" y="4377"/>
                                      </a:lnTo>
                                      <a:lnTo>
                                        <a:pt x="5095" y="4450"/>
                                      </a:lnTo>
                                      <a:lnTo>
                                        <a:pt x="5039" y="4506"/>
                                      </a:lnTo>
                                      <a:lnTo>
                                        <a:pt x="5039" y="4545"/>
                                      </a:lnTo>
                                      <a:lnTo>
                                        <a:pt x="5069" y="4567"/>
                                      </a:lnTo>
                                      <a:lnTo>
                                        <a:pt x="5095" y="4592"/>
                                      </a:lnTo>
                                      <a:lnTo>
                                        <a:pt x="5095" y="4622"/>
                                      </a:lnTo>
                                      <a:lnTo>
                                        <a:pt x="5031" y="4674"/>
                                      </a:lnTo>
                                      <a:lnTo>
                                        <a:pt x="4987" y="4717"/>
                                      </a:lnTo>
                                      <a:lnTo>
                                        <a:pt x="4996" y="4726"/>
                                      </a:lnTo>
                                      <a:lnTo>
                                        <a:pt x="5009" y="4726"/>
                                      </a:lnTo>
                                      <a:lnTo>
                                        <a:pt x="5009" y="4760"/>
                                      </a:lnTo>
                                      <a:lnTo>
                                        <a:pt x="4841" y="4949"/>
                                      </a:lnTo>
                                      <a:lnTo>
                                        <a:pt x="4871" y="5181"/>
                                      </a:lnTo>
                                      <a:lnTo>
                                        <a:pt x="5022" y="5444"/>
                                      </a:lnTo>
                                      <a:lnTo>
                                        <a:pt x="5095" y="5517"/>
                                      </a:lnTo>
                                      <a:lnTo>
                                        <a:pt x="5061" y="5783"/>
                                      </a:lnTo>
                                      <a:lnTo>
                                        <a:pt x="4966" y="6192"/>
                                      </a:lnTo>
                                      <a:lnTo>
                                        <a:pt x="4923" y="6510"/>
                                      </a:lnTo>
                                      <a:lnTo>
                                        <a:pt x="4923" y="7164"/>
                                      </a:lnTo>
                                      <a:lnTo>
                                        <a:pt x="4936" y="7258"/>
                                      </a:lnTo>
                                      <a:lnTo>
                                        <a:pt x="4936" y="7293"/>
                                      </a:lnTo>
                                      <a:lnTo>
                                        <a:pt x="4880" y="7323"/>
                                      </a:lnTo>
                                      <a:lnTo>
                                        <a:pt x="4841" y="7396"/>
                                      </a:lnTo>
                                      <a:lnTo>
                                        <a:pt x="4841" y="7512"/>
                                      </a:lnTo>
                                      <a:lnTo>
                                        <a:pt x="4806" y="7546"/>
                                      </a:lnTo>
                                      <a:lnTo>
                                        <a:pt x="4301" y="7564"/>
                                      </a:lnTo>
                                      <a:lnTo>
                                        <a:pt x="4258" y="7546"/>
                                      </a:lnTo>
                                      <a:lnTo>
                                        <a:pt x="4258" y="7426"/>
                                      </a:lnTo>
                                      <a:lnTo>
                                        <a:pt x="4353" y="7344"/>
                                      </a:lnTo>
                                      <a:lnTo>
                                        <a:pt x="4491" y="7280"/>
                                      </a:lnTo>
                                      <a:lnTo>
                                        <a:pt x="4565" y="7228"/>
                                      </a:lnTo>
                                      <a:lnTo>
                                        <a:pt x="4616" y="7009"/>
                                      </a:lnTo>
                                      <a:lnTo>
                                        <a:pt x="4616" y="6205"/>
                                      </a:lnTo>
                                      <a:lnTo>
                                        <a:pt x="4543" y="5857"/>
                                      </a:lnTo>
                                      <a:lnTo>
                                        <a:pt x="4310" y="5500"/>
                                      </a:lnTo>
                                      <a:lnTo>
                                        <a:pt x="4172" y="5336"/>
                                      </a:lnTo>
                                      <a:lnTo>
                                        <a:pt x="3952" y="5203"/>
                                      </a:lnTo>
                                      <a:lnTo>
                                        <a:pt x="3836" y="5405"/>
                                      </a:lnTo>
                                      <a:lnTo>
                                        <a:pt x="3801" y="5525"/>
                                      </a:lnTo>
                                      <a:lnTo>
                                        <a:pt x="3801" y="5581"/>
                                      </a:lnTo>
                                      <a:lnTo>
                                        <a:pt x="3823" y="5603"/>
                                      </a:lnTo>
                                      <a:lnTo>
                                        <a:pt x="3823" y="5801"/>
                                      </a:lnTo>
                                      <a:lnTo>
                                        <a:pt x="3486" y="6373"/>
                                      </a:lnTo>
                                      <a:lnTo>
                                        <a:pt x="3326" y="6721"/>
                                      </a:lnTo>
                                      <a:lnTo>
                                        <a:pt x="3232" y="6996"/>
                                      </a:lnTo>
                                      <a:lnTo>
                                        <a:pt x="3210" y="7082"/>
                                      </a:lnTo>
                                      <a:lnTo>
                                        <a:pt x="3253" y="7250"/>
                                      </a:lnTo>
                                      <a:lnTo>
                                        <a:pt x="3232" y="7323"/>
                                      </a:lnTo>
                                      <a:lnTo>
                                        <a:pt x="3167" y="7323"/>
                                      </a:lnTo>
                                      <a:lnTo>
                                        <a:pt x="3137" y="7301"/>
                                      </a:lnTo>
                                      <a:lnTo>
                                        <a:pt x="3124" y="7301"/>
                                      </a:lnTo>
                                      <a:lnTo>
                                        <a:pt x="3124" y="7353"/>
                                      </a:lnTo>
                                      <a:lnTo>
                                        <a:pt x="3145" y="7417"/>
                                      </a:lnTo>
                                      <a:lnTo>
                                        <a:pt x="3124" y="7491"/>
                                      </a:lnTo>
                                      <a:lnTo>
                                        <a:pt x="3007" y="7525"/>
                                      </a:lnTo>
                                      <a:lnTo>
                                        <a:pt x="2869" y="7499"/>
                                      </a:lnTo>
                                      <a:lnTo>
                                        <a:pt x="2533" y="7525"/>
                                      </a:lnTo>
                                      <a:lnTo>
                                        <a:pt x="2489" y="7499"/>
                                      </a:lnTo>
                                      <a:lnTo>
                                        <a:pt x="2524" y="7374"/>
                                      </a:lnTo>
                                      <a:lnTo>
                                        <a:pt x="2627" y="7271"/>
                                      </a:lnTo>
                                      <a:lnTo>
                                        <a:pt x="2774" y="7207"/>
                                      </a:lnTo>
                                      <a:lnTo>
                                        <a:pt x="2904" y="7009"/>
                                      </a:lnTo>
                                      <a:lnTo>
                                        <a:pt x="3167" y="6403"/>
                                      </a:lnTo>
                                      <a:lnTo>
                                        <a:pt x="3167" y="6338"/>
                                      </a:lnTo>
                                      <a:lnTo>
                                        <a:pt x="3158" y="5887"/>
                                      </a:lnTo>
                                      <a:lnTo>
                                        <a:pt x="3050" y="5431"/>
                                      </a:lnTo>
                                      <a:lnTo>
                                        <a:pt x="3007" y="5212"/>
                                      </a:lnTo>
                                      <a:lnTo>
                                        <a:pt x="3016" y="5035"/>
                                      </a:lnTo>
                                      <a:lnTo>
                                        <a:pt x="3063" y="4717"/>
                                      </a:lnTo>
                                      <a:lnTo>
                                        <a:pt x="3081" y="4674"/>
                                      </a:lnTo>
                                      <a:lnTo>
                                        <a:pt x="2999" y="4653"/>
                                      </a:lnTo>
                                      <a:lnTo>
                                        <a:pt x="2921" y="4704"/>
                                      </a:lnTo>
                                      <a:lnTo>
                                        <a:pt x="2869" y="4687"/>
                                      </a:lnTo>
                                      <a:lnTo>
                                        <a:pt x="2787" y="4739"/>
                                      </a:lnTo>
                                      <a:lnTo>
                                        <a:pt x="2774" y="4726"/>
                                      </a:lnTo>
                                      <a:lnTo>
                                        <a:pt x="2701" y="4782"/>
                                      </a:lnTo>
                                      <a:lnTo>
                                        <a:pt x="2679" y="4782"/>
                                      </a:lnTo>
                                      <a:lnTo>
                                        <a:pt x="2658" y="4760"/>
                                      </a:lnTo>
                                      <a:lnTo>
                                        <a:pt x="2511" y="4782"/>
                                      </a:lnTo>
                                      <a:lnTo>
                                        <a:pt x="2438" y="4842"/>
                                      </a:lnTo>
                                      <a:lnTo>
                                        <a:pt x="2343" y="4820"/>
                                      </a:lnTo>
                                      <a:lnTo>
                                        <a:pt x="2330" y="4833"/>
                                      </a:lnTo>
                                      <a:lnTo>
                                        <a:pt x="2127" y="4833"/>
                                      </a:lnTo>
                                      <a:lnTo>
                                        <a:pt x="2097" y="4812"/>
                                      </a:lnTo>
                                      <a:lnTo>
                                        <a:pt x="2088" y="4799"/>
                                      </a:lnTo>
                                      <a:lnTo>
                                        <a:pt x="1920" y="4958"/>
                                      </a:lnTo>
                                      <a:lnTo>
                                        <a:pt x="1441" y="5487"/>
                                      </a:lnTo>
                                      <a:lnTo>
                                        <a:pt x="1484" y="5538"/>
                                      </a:lnTo>
                                      <a:lnTo>
                                        <a:pt x="1476" y="5646"/>
                                      </a:lnTo>
                                      <a:lnTo>
                                        <a:pt x="1463" y="5654"/>
                                      </a:lnTo>
                                      <a:lnTo>
                                        <a:pt x="1825" y="5848"/>
                                      </a:lnTo>
                                      <a:lnTo>
                                        <a:pt x="1907" y="5865"/>
                                      </a:lnTo>
                                      <a:lnTo>
                                        <a:pt x="2054" y="5857"/>
                                      </a:lnTo>
                                      <a:lnTo>
                                        <a:pt x="2140" y="5835"/>
                                      </a:lnTo>
                                      <a:lnTo>
                                        <a:pt x="2183" y="5792"/>
                                      </a:lnTo>
                                      <a:lnTo>
                                        <a:pt x="2205" y="5792"/>
                                      </a:lnTo>
                                      <a:lnTo>
                                        <a:pt x="2226" y="5857"/>
                                      </a:lnTo>
                                      <a:lnTo>
                                        <a:pt x="2248" y="5878"/>
                                      </a:lnTo>
                                      <a:lnTo>
                                        <a:pt x="2278" y="5878"/>
                                      </a:lnTo>
                                      <a:lnTo>
                                        <a:pt x="2343" y="5783"/>
                                      </a:lnTo>
                                      <a:lnTo>
                                        <a:pt x="2425" y="5728"/>
                                      </a:lnTo>
                                      <a:lnTo>
                                        <a:pt x="2606" y="5740"/>
                                      </a:lnTo>
                                      <a:lnTo>
                                        <a:pt x="2774" y="5835"/>
                                      </a:lnTo>
                                      <a:lnTo>
                                        <a:pt x="2809" y="5865"/>
                                      </a:lnTo>
                                      <a:lnTo>
                                        <a:pt x="2826" y="5908"/>
                                      </a:lnTo>
                                      <a:lnTo>
                                        <a:pt x="2826" y="5951"/>
                                      </a:lnTo>
                                      <a:lnTo>
                                        <a:pt x="2524" y="6110"/>
                                      </a:lnTo>
                                      <a:lnTo>
                                        <a:pt x="2256" y="6235"/>
                                      </a:lnTo>
                                      <a:lnTo>
                                        <a:pt x="2067" y="6226"/>
                                      </a:lnTo>
                                      <a:lnTo>
                                        <a:pt x="1514" y="6024"/>
                                      </a:lnTo>
                                      <a:lnTo>
                                        <a:pt x="1264" y="5865"/>
                                      </a:lnTo>
                                      <a:lnTo>
                                        <a:pt x="1191" y="5943"/>
                                      </a:lnTo>
                                      <a:lnTo>
                                        <a:pt x="1191" y="5981"/>
                                      </a:lnTo>
                                      <a:lnTo>
                                        <a:pt x="1105" y="6089"/>
                                      </a:lnTo>
                                      <a:lnTo>
                                        <a:pt x="975" y="6330"/>
                                      </a:lnTo>
                                      <a:lnTo>
                                        <a:pt x="915" y="6648"/>
                                      </a:lnTo>
                                      <a:lnTo>
                                        <a:pt x="859" y="6880"/>
                                      </a:lnTo>
                                      <a:lnTo>
                                        <a:pt x="889" y="7056"/>
                                      </a:lnTo>
                                      <a:lnTo>
                                        <a:pt x="902" y="7121"/>
                                      </a:lnTo>
                                      <a:lnTo>
                                        <a:pt x="880" y="7185"/>
                                      </a:lnTo>
                                      <a:lnTo>
                                        <a:pt x="755" y="7258"/>
                                      </a:lnTo>
                                      <a:lnTo>
                                        <a:pt x="669" y="7353"/>
                                      </a:lnTo>
                                      <a:lnTo>
                                        <a:pt x="734" y="7452"/>
                                      </a:lnTo>
                                      <a:lnTo>
                                        <a:pt x="721" y="7525"/>
                                      </a:lnTo>
                                      <a:lnTo>
                                        <a:pt x="552" y="7555"/>
                                      </a:lnTo>
                                      <a:lnTo>
                                        <a:pt x="108" y="7534"/>
                                      </a:lnTo>
                                      <a:lnTo>
                                        <a:pt x="173" y="7387"/>
                                      </a:lnTo>
                                      <a:lnTo>
                                        <a:pt x="276" y="7250"/>
                                      </a:lnTo>
                                      <a:lnTo>
                                        <a:pt x="319" y="7237"/>
                                      </a:lnTo>
                                      <a:lnTo>
                                        <a:pt x="531" y="6975"/>
                                      </a:lnTo>
                                      <a:lnTo>
                                        <a:pt x="764" y="6256"/>
                                      </a:lnTo>
                                      <a:lnTo>
                                        <a:pt x="815" y="5943"/>
                                      </a:lnTo>
                                      <a:lnTo>
                                        <a:pt x="837" y="5857"/>
                                      </a:lnTo>
                                      <a:lnTo>
                                        <a:pt x="828" y="5500"/>
                                      </a:lnTo>
                                      <a:lnTo>
                                        <a:pt x="923" y="5212"/>
                                      </a:lnTo>
                                      <a:lnTo>
                                        <a:pt x="962" y="4704"/>
                                      </a:lnTo>
                                      <a:lnTo>
                                        <a:pt x="988" y="4592"/>
                                      </a:lnTo>
                                      <a:lnTo>
                                        <a:pt x="988" y="4545"/>
                                      </a:lnTo>
                                      <a:lnTo>
                                        <a:pt x="867" y="4369"/>
                                      </a:lnTo>
                                      <a:lnTo>
                                        <a:pt x="859" y="4377"/>
                                      </a:lnTo>
                                      <a:lnTo>
                                        <a:pt x="859" y="4399"/>
                                      </a:lnTo>
                                      <a:lnTo>
                                        <a:pt x="828" y="4412"/>
                                      </a:lnTo>
                                      <a:lnTo>
                                        <a:pt x="734" y="4296"/>
                                      </a:lnTo>
                                      <a:lnTo>
                                        <a:pt x="639" y="4188"/>
                                      </a:lnTo>
                                      <a:lnTo>
                                        <a:pt x="604" y="4223"/>
                                      </a:lnTo>
                                      <a:lnTo>
                                        <a:pt x="531" y="4081"/>
                                      </a:lnTo>
                                      <a:lnTo>
                                        <a:pt x="509" y="3999"/>
                                      </a:lnTo>
                                      <a:lnTo>
                                        <a:pt x="501" y="3986"/>
                                      </a:lnTo>
                                      <a:lnTo>
                                        <a:pt x="470" y="4051"/>
                                      </a:lnTo>
                                      <a:lnTo>
                                        <a:pt x="470" y="4063"/>
                                      </a:lnTo>
                                      <a:lnTo>
                                        <a:pt x="444" y="4063"/>
                                      </a:lnTo>
                                      <a:lnTo>
                                        <a:pt x="384" y="3797"/>
                                      </a:lnTo>
                                      <a:lnTo>
                                        <a:pt x="362" y="3818"/>
                                      </a:lnTo>
                                      <a:lnTo>
                                        <a:pt x="350" y="3818"/>
                                      </a:lnTo>
                                      <a:lnTo>
                                        <a:pt x="298" y="3535"/>
                                      </a:lnTo>
                                      <a:lnTo>
                                        <a:pt x="255" y="3535"/>
                                      </a:lnTo>
                                      <a:lnTo>
                                        <a:pt x="224" y="3375"/>
                                      </a:lnTo>
                                      <a:lnTo>
                                        <a:pt x="224" y="3354"/>
                                      </a:lnTo>
                                      <a:lnTo>
                                        <a:pt x="173" y="3354"/>
                                      </a:lnTo>
                                      <a:lnTo>
                                        <a:pt x="138" y="3070"/>
                                      </a:lnTo>
                                      <a:lnTo>
                                        <a:pt x="138" y="2890"/>
                                      </a:lnTo>
                                      <a:lnTo>
                                        <a:pt x="173" y="2773"/>
                                      </a:lnTo>
                                      <a:lnTo>
                                        <a:pt x="173" y="2765"/>
                                      </a:lnTo>
                                      <a:lnTo>
                                        <a:pt x="121" y="2765"/>
                                      </a:lnTo>
                                      <a:lnTo>
                                        <a:pt x="181" y="2460"/>
                                      </a:lnTo>
                                      <a:lnTo>
                                        <a:pt x="121" y="2468"/>
                                      </a:lnTo>
                                      <a:lnTo>
                                        <a:pt x="194" y="2193"/>
                                      </a:lnTo>
                                      <a:lnTo>
                                        <a:pt x="289" y="1815"/>
                                      </a:lnTo>
                                      <a:lnTo>
                                        <a:pt x="224" y="1815"/>
                                      </a:lnTo>
                                      <a:lnTo>
                                        <a:pt x="311" y="1591"/>
                                      </a:lnTo>
                                      <a:lnTo>
                                        <a:pt x="216" y="1625"/>
                                      </a:lnTo>
                                      <a:lnTo>
                                        <a:pt x="289" y="1466"/>
                                      </a:lnTo>
                                      <a:lnTo>
                                        <a:pt x="350" y="1385"/>
                                      </a:lnTo>
                                      <a:lnTo>
                                        <a:pt x="350" y="1372"/>
                                      </a:lnTo>
                                      <a:lnTo>
                                        <a:pt x="311" y="1372"/>
                                      </a:lnTo>
                                      <a:lnTo>
                                        <a:pt x="289" y="1393"/>
                                      </a:lnTo>
                                      <a:lnTo>
                                        <a:pt x="276" y="1385"/>
                                      </a:lnTo>
                                      <a:lnTo>
                                        <a:pt x="268" y="1385"/>
                                      </a:lnTo>
                                      <a:lnTo>
                                        <a:pt x="328" y="1307"/>
                                      </a:lnTo>
                                      <a:lnTo>
                                        <a:pt x="639" y="1023"/>
                                      </a:lnTo>
                                      <a:lnTo>
                                        <a:pt x="677" y="937"/>
                                      </a:lnTo>
                                      <a:lnTo>
                                        <a:pt x="690" y="929"/>
                                      </a:lnTo>
                                      <a:lnTo>
                                        <a:pt x="583" y="873"/>
                                      </a:lnTo>
                                      <a:lnTo>
                                        <a:pt x="470" y="856"/>
                                      </a:lnTo>
                                      <a:lnTo>
                                        <a:pt x="371" y="834"/>
                                      </a:lnTo>
                                      <a:lnTo>
                                        <a:pt x="216" y="800"/>
                                      </a:lnTo>
                                      <a:lnTo>
                                        <a:pt x="138" y="697"/>
                                      </a:lnTo>
                                      <a:lnTo>
                                        <a:pt x="73" y="697"/>
                                      </a:lnTo>
                                      <a:lnTo>
                                        <a:pt x="0" y="645"/>
                                      </a:lnTo>
                                      <a:lnTo>
                                        <a:pt x="0" y="507"/>
                                      </a:lnTo>
                                      <a:lnTo>
                                        <a:pt x="276" y="254"/>
                                      </a:lnTo>
                                      <a:lnTo>
                                        <a:pt x="531" y="224"/>
                                      </a:lnTo>
                                      <a:lnTo>
                                        <a:pt x="902" y="52"/>
                                      </a:lnTo>
                                      <a:lnTo>
                                        <a:pt x="1122" y="0"/>
                                      </a:lnTo>
                                      <a:lnTo>
                                        <a:pt x="1432" y="21"/>
                                      </a:lnTo>
                                      <a:lnTo>
                                        <a:pt x="1709" y="155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grpSp>
                              <p:nvGrpSpPr>
                                <p:cNvPr id="195" name=""/>
                                <p:cNvGrpSpPr/>
                                <p:nvPr/>
                              </p:nvGrpSpPr>
                              <p:grpSpPr>
                                <a:xfrm>
                                  <a:off x="2337120" y="1387800"/>
                                  <a:ext cx="489600" cy="710280"/>
                                  <a:chOff x="2337120" y="1387800"/>
                                  <a:chExt cx="489600" cy="710280"/>
                                </a:xfrm>
                              </p:grpSpPr>
                              <p:sp>
                                <p:nvSpPr>
                                  <p:cNvPr id="196" name=""/>
                                  <p:cNvSpPr/>
                                  <p:nvPr/>
                                </p:nvSpPr>
                                <p:spPr>
                                  <a:xfrm rot="21030000">
                                    <a:off x="2368800" y="1414080"/>
                                    <a:ext cx="355680" cy="416880"/>
                                  </a:xfrm>
                                  <a:custGeom>
                                    <a:avLst/>
                                    <a:gdLst/>
                                    <a:ahLst/>
                                    <a:rect l="l" t="t" r="r" b="b"/>
                                    <a:pathLst>
                                      <a:path w="3473" h="4305">
                                        <a:moveTo>
                                          <a:pt x="1665" y="0"/>
                                        </a:moveTo>
                                        <a:lnTo>
                                          <a:pt x="1665" y="82"/>
                                        </a:lnTo>
                                        <a:lnTo>
                                          <a:pt x="1626" y="104"/>
                                        </a:lnTo>
                                        <a:lnTo>
                                          <a:pt x="1622" y="112"/>
                                        </a:lnTo>
                                        <a:lnTo>
                                          <a:pt x="1618" y="129"/>
                                        </a:lnTo>
                                        <a:lnTo>
                                          <a:pt x="1605" y="142"/>
                                        </a:lnTo>
                                        <a:lnTo>
                                          <a:pt x="1596" y="159"/>
                                        </a:lnTo>
                                        <a:lnTo>
                                          <a:pt x="1583" y="177"/>
                                        </a:lnTo>
                                        <a:lnTo>
                                          <a:pt x="1574" y="190"/>
                                        </a:lnTo>
                                        <a:lnTo>
                                          <a:pt x="1566" y="202"/>
                                        </a:lnTo>
                                        <a:lnTo>
                                          <a:pt x="1566" y="202"/>
                                        </a:lnTo>
                                        <a:lnTo>
                                          <a:pt x="1544" y="202"/>
                                        </a:lnTo>
                                        <a:lnTo>
                                          <a:pt x="1544" y="211"/>
                                        </a:lnTo>
                                        <a:lnTo>
                                          <a:pt x="1540" y="224"/>
                                        </a:lnTo>
                                        <a:lnTo>
                                          <a:pt x="1536" y="233"/>
                                        </a:lnTo>
                                        <a:lnTo>
                                          <a:pt x="1531" y="241"/>
                                        </a:lnTo>
                                        <a:lnTo>
                                          <a:pt x="1527" y="250"/>
                                        </a:lnTo>
                                        <a:lnTo>
                                          <a:pt x="1518" y="258"/>
                                        </a:lnTo>
                                        <a:lnTo>
                                          <a:pt x="1510" y="263"/>
                                        </a:lnTo>
                                        <a:lnTo>
                                          <a:pt x="1501" y="267"/>
                                        </a:lnTo>
                                        <a:lnTo>
                                          <a:pt x="1501" y="284"/>
                                        </a:lnTo>
                                        <a:lnTo>
                                          <a:pt x="1501" y="306"/>
                                        </a:lnTo>
                                        <a:lnTo>
                                          <a:pt x="1497" y="306"/>
                                        </a:lnTo>
                                        <a:lnTo>
                                          <a:pt x="1492" y="310"/>
                                        </a:lnTo>
                                        <a:lnTo>
                                          <a:pt x="1488" y="314"/>
                                        </a:lnTo>
                                        <a:lnTo>
                                          <a:pt x="1484" y="323"/>
                                        </a:lnTo>
                                        <a:lnTo>
                                          <a:pt x="1475" y="331"/>
                                        </a:lnTo>
                                        <a:lnTo>
                                          <a:pt x="1467" y="340"/>
                                        </a:lnTo>
                                        <a:lnTo>
                                          <a:pt x="1462" y="349"/>
                                        </a:lnTo>
                                        <a:lnTo>
                                          <a:pt x="1454" y="357"/>
                                        </a:lnTo>
                                        <a:lnTo>
                                          <a:pt x="1410" y="379"/>
                                        </a:lnTo>
                                        <a:lnTo>
                                          <a:pt x="1484" y="293"/>
                                        </a:lnTo>
                                        <a:lnTo>
                                          <a:pt x="1505" y="147"/>
                                        </a:lnTo>
                                        <a:lnTo>
                                          <a:pt x="1609" y="0"/>
                                        </a:lnTo>
                                        <a:lnTo>
                                          <a:pt x="1665" y="0"/>
                                        </a:lnTo>
                                        <a:lnTo>
                                          <a:pt x="1665" y="0"/>
                                        </a:lnTo>
                                        <a:close/>
                                        <a:moveTo>
                                          <a:pt x="1423" y="422"/>
                                        </a:moveTo>
                                        <a:lnTo>
                                          <a:pt x="1423" y="426"/>
                                        </a:lnTo>
                                        <a:lnTo>
                                          <a:pt x="1423" y="426"/>
                                        </a:lnTo>
                                        <a:lnTo>
                                          <a:pt x="1423" y="426"/>
                                        </a:lnTo>
                                        <a:lnTo>
                                          <a:pt x="1423" y="426"/>
                                        </a:lnTo>
                                        <a:lnTo>
                                          <a:pt x="1423" y="426"/>
                                        </a:lnTo>
                                        <a:lnTo>
                                          <a:pt x="1423" y="426"/>
                                        </a:lnTo>
                                        <a:lnTo>
                                          <a:pt x="1423" y="426"/>
                                        </a:lnTo>
                                        <a:lnTo>
                                          <a:pt x="1423" y="426"/>
                                        </a:lnTo>
                                        <a:lnTo>
                                          <a:pt x="1415" y="430"/>
                                        </a:lnTo>
                                        <a:lnTo>
                                          <a:pt x="1406" y="430"/>
                                        </a:lnTo>
                                        <a:lnTo>
                                          <a:pt x="1398" y="435"/>
                                        </a:lnTo>
                                        <a:lnTo>
                                          <a:pt x="1389" y="439"/>
                                        </a:lnTo>
                                        <a:lnTo>
                                          <a:pt x="1385" y="448"/>
                                        </a:lnTo>
                                        <a:lnTo>
                                          <a:pt x="1376" y="452"/>
                                        </a:lnTo>
                                        <a:lnTo>
                                          <a:pt x="1367" y="460"/>
                                        </a:lnTo>
                                        <a:lnTo>
                                          <a:pt x="1359" y="469"/>
                                        </a:lnTo>
                                        <a:lnTo>
                                          <a:pt x="1298" y="469"/>
                                        </a:lnTo>
                                        <a:lnTo>
                                          <a:pt x="1294" y="478"/>
                                        </a:lnTo>
                                        <a:lnTo>
                                          <a:pt x="1285" y="491"/>
                                        </a:lnTo>
                                        <a:lnTo>
                                          <a:pt x="1268" y="503"/>
                                        </a:lnTo>
                                        <a:lnTo>
                                          <a:pt x="1247" y="521"/>
                                        </a:lnTo>
                                        <a:lnTo>
                                          <a:pt x="1229" y="534"/>
                                        </a:lnTo>
                                        <a:lnTo>
                                          <a:pt x="1212" y="551"/>
                                        </a:lnTo>
                                        <a:lnTo>
                                          <a:pt x="1203" y="559"/>
                                        </a:lnTo>
                                        <a:lnTo>
                                          <a:pt x="1199" y="572"/>
                                        </a:lnTo>
                                        <a:lnTo>
                                          <a:pt x="1186" y="572"/>
                                        </a:lnTo>
                                        <a:lnTo>
                                          <a:pt x="1178" y="572"/>
                                        </a:lnTo>
                                        <a:lnTo>
                                          <a:pt x="1165" y="581"/>
                                        </a:lnTo>
                                        <a:lnTo>
                                          <a:pt x="1147" y="585"/>
                                        </a:lnTo>
                                        <a:lnTo>
                                          <a:pt x="1134" y="594"/>
                                        </a:lnTo>
                                        <a:lnTo>
                                          <a:pt x="1126" y="607"/>
                                        </a:lnTo>
                                        <a:lnTo>
                                          <a:pt x="1117" y="615"/>
                                        </a:lnTo>
                                        <a:lnTo>
                                          <a:pt x="1117" y="632"/>
                                        </a:lnTo>
                                        <a:lnTo>
                                          <a:pt x="1126" y="632"/>
                                        </a:lnTo>
                                        <a:lnTo>
                                          <a:pt x="1134" y="628"/>
                                        </a:lnTo>
                                        <a:lnTo>
                                          <a:pt x="1143" y="624"/>
                                        </a:lnTo>
                                        <a:lnTo>
                                          <a:pt x="1156" y="620"/>
                                        </a:lnTo>
                                        <a:lnTo>
                                          <a:pt x="1165" y="611"/>
                                        </a:lnTo>
                                        <a:lnTo>
                                          <a:pt x="1169" y="607"/>
                                        </a:lnTo>
                                        <a:lnTo>
                                          <a:pt x="1173" y="598"/>
                                        </a:lnTo>
                                        <a:lnTo>
                                          <a:pt x="1178" y="589"/>
                                        </a:lnTo>
                                        <a:lnTo>
                                          <a:pt x="1117" y="611"/>
                                        </a:lnTo>
                                        <a:lnTo>
                                          <a:pt x="1044" y="632"/>
                                        </a:lnTo>
                                        <a:lnTo>
                                          <a:pt x="966" y="650"/>
                                        </a:lnTo>
                                        <a:lnTo>
                                          <a:pt x="884" y="667"/>
                                        </a:lnTo>
                                        <a:lnTo>
                                          <a:pt x="806" y="688"/>
                                        </a:lnTo>
                                        <a:lnTo>
                                          <a:pt x="733" y="710"/>
                                        </a:lnTo>
                                        <a:lnTo>
                                          <a:pt x="703" y="723"/>
                                        </a:lnTo>
                                        <a:lnTo>
                                          <a:pt x="673" y="740"/>
                                        </a:lnTo>
                                        <a:lnTo>
                                          <a:pt x="647" y="757"/>
                                        </a:lnTo>
                                        <a:lnTo>
                                          <a:pt x="625" y="774"/>
                                        </a:lnTo>
                                        <a:lnTo>
                                          <a:pt x="634" y="774"/>
                                        </a:lnTo>
                                        <a:lnTo>
                                          <a:pt x="643" y="770"/>
                                        </a:lnTo>
                                        <a:lnTo>
                                          <a:pt x="651" y="766"/>
                                        </a:lnTo>
                                        <a:lnTo>
                                          <a:pt x="655" y="761"/>
                                        </a:lnTo>
                                        <a:lnTo>
                                          <a:pt x="664" y="761"/>
                                        </a:lnTo>
                                        <a:lnTo>
                                          <a:pt x="673" y="757"/>
                                        </a:lnTo>
                                        <a:lnTo>
                                          <a:pt x="681" y="753"/>
                                        </a:lnTo>
                                        <a:lnTo>
                                          <a:pt x="686" y="753"/>
                                        </a:lnTo>
                                        <a:lnTo>
                                          <a:pt x="677" y="774"/>
                                        </a:lnTo>
                                        <a:lnTo>
                                          <a:pt x="664" y="800"/>
                                        </a:lnTo>
                                        <a:lnTo>
                                          <a:pt x="647" y="822"/>
                                        </a:lnTo>
                                        <a:lnTo>
                                          <a:pt x="630" y="843"/>
                                        </a:lnTo>
                                        <a:lnTo>
                                          <a:pt x="612" y="869"/>
                                        </a:lnTo>
                                        <a:lnTo>
                                          <a:pt x="599" y="890"/>
                                        </a:lnTo>
                                        <a:lnTo>
                                          <a:pt x="591" y="912"/>
                                        </a:lnTo>
                                        <a:lnTo>
                                          <a:pt x="586" y="938"/>
                                        </a:lnTo>
                                        <a:lnTo>
                                          <a:pt x="634" y="912"/>
                                        </a:lnTo>
                                        <a:lnTo>
                                          <a:pt x="655" y="908"/>
                                        </a:lnTo>
                                        <a:lnTo>
                                          <a:pt x="660" y="908"/>
                                        </a:lnTo>
                                        <a:lnTo>
                                          <a:pt x="660" y="912"/>
                                        </a:lnTo>
                                        <a:lnTo>
                                          <a:pt x="655" y="921"/>
                                        </a:lnTo>
                                        <a:lnTo>
                                          <a:pt x="651" y="929"/>
                                        </a:lnTo>
                                        <a:lnTo>
                                          <a:pt x="630" y="955"/>
                                        </a:lnTo>
                                        <a:lnTo>
                                          <a:pt x="599" y="985"/>
                                        </a:lnTo>
                                        <a:lnTo>
                                          <a:pt x="569" y="1019"/>
                                        </a:lnTo>
                                        <a:lnTo>
                                          <a:pt x="543" y="1058"/>
                                        </a:lnTo>
                                        <a:lnTo>
                                          <a:pt x="552" y="1058"/>
                                        </a:lnTo>
                                        <a:lnTo>
                                          <a:pt x="565" y="1054"/>
                                        </a:lnTo>
                                        <a:lnTo>
                                          <a:pt x="574" y="1045"/>
                                        </a:lnTo>
                                        <a:lnTo>
                                          <a:pt x="586" y="1037"/>
                                        </a:lnTo>
                                        <a:lnTo>
                                          <a:pt x="604" y="1032"/>
                                        </a:lnTo>
                                        <a:lnTo>
                                          <a:pt x="617" y="1024"/>
                                        </a:lnTo>
                                        <a:lnTo>
                                          <a:pt x="630" y="1019"/>
                                        </a:lnTo>
                                        <a:lnTo>
                                          <a:pt x="647" y="1019"/>
                                        </a:lnTo>
                                        <a:lnTo>
                                          <a:pt x="621" y="1050"/>
                                        </a:lnTo>
                                        <a:lnTo>
                                          <a:pt x="595" y="1101"/>
                                        </a:lnTo>
                                        <a:lnTo>
                                          <a:pt x="569" y="1161"/>
                                        </a:lnTo>
                                        <a:lnTo>
                                          <a:pt x="539" y="1222"/>
                                        </a:lnTo>
                                        <a:lnTo>
                                          <a:pt x="504" y="1282"/>
                                        </a:lnTo>
                                        <a:lnTo>
                                          <a:pt x="466" y="1333"/>
                                        </a:lnTo>
                                        <a:lnTo>
                                          <a:pt x="448" y="1355"/>
                                        </a:lnTo>
                                        <a:lnTo>
                                          <a:pt x="427" y="1372"/>
                                        </a:lnTo>
                                        <a:lnTo>
                                          <a:pt x="405" y="1381"/>
                                        </a:lnTo>
                                        <a:lnTo>
                                          <a:pt x="384" y="1385"/>
                                        </a:lnTo>
                                        <a:lnTo>
                                          <a:pt x="397" y="1376"/>
                                        </a:lnTo>
                                        <a:lnTo>
                                          <a:pt x="414" y="1363"/>
                                        </a:lnTo>
                                        <a:lnTo>
                                          <a:pt x="435" y="1355"/>
                                        </a:lnTo>
                                        <a:lnTo>
                                          <a:pt x="457" y="1346"/>
                                        </a:lnTo>
                                        <a:lnTo>
                                          <a:pt x="483" y="1338"/>
                                        </a:lnTo>
                                        <a:lnTo>
                                          <a:pt x="509" y="1329"/>
                                        </a:lnTo>
                                        <a:lnTo>
                                          <a:pt x="535" y="1325"/>
                                        </a:lnTo>
                                        <a:lnTo>
                                          <a:pt x="565" y="1320"/>
                                        </a:lnTo>
                                        <a:lnTo>
                                          <a:pt x="483" y="1626"/>
                                        </a:lnTo>
                                        <a:lnTo>
                                          <a:pt x="466" y="1634"/>
                                        </a:lnTo>
                                        <a:lnTo>
                                          <a:pt x="448" y="1643"/>
                                        </a:lnTo>
                                        <a:lnTo>
                                          <a:pt x="431" y="1652"/>
                                        </a:lnTo>
                                        <a:lnTo>
                                          <a:pt x="414" y="1660"/>
                                        </a:lnTo>
                                        <a:lnTo>
                                          <a:pt x="397" y="1669"/>
                                        </a:lnTo>
                                        <a:lnTo>
                                          <a:pt x="384" y="1682"/>
                                        </a:lnTo>
                                        <a:lnTo>
                                          <a:pt x="371" y="1695"/>
                                        </a:lnTo>
                                        <a:lnTo>
                                          <a:pt x="362" y="1707"/>
                                        </a:lnTo>
                                        <a:lnTo>
                                          <a:pt x="371" y="1699"/>
                                        </a:lnTo>
                                        <a:lnTo>
                                          <a:pt x="384" y="1690"/>
                                        </a:lnTo>
                                        <a:lnTo>
                                          <a:pt x="397" y="1677"/>
                                        </a:lnTo>
                                        <a:lnTo>
                                          <a:pt x="414" y="1669"/>
                                        </a:lnTo>
                                        <a:lnTo>
                                          <a:pt x="427" y="1656"/>
                                        </a:lnTo>
                                        <a:lnTo>
                                          <a:pt x="440" y="1647"/>
                                        </a:lnTo>
                                        <a:lnTo>
                                          <a:pt x="453" y="1634"/>
                                        </a:lnTo>
                                        <a:lnTo>
                                          <a:pt x="461" y="1626"/>
                                        </a:lnTo>
                                        <a:lnTo>
                                          <a:pt x="448" y="1686"/>
                                        </a:lnTo>
                                        <a:lnTo>
                                          <a:pt x="435" y="1738"/>
                                        </a:lnTo>
                                        <a:lnTo>
                                          <a:pt x="423" y="1785"/>
                                        </a:lnTo>
                                        <a:lnTo>
                                          <a:pt x="405" y="1832"/>
                                        </a:lnTo>
                                        <a:lnTo>
                                          <a:pt x="392" y="1871"/>
                                        </a:lnTo>
                                        <a:lnTo>
                                          <a:pt x="371" y="1910"/>
                                        </a:lnTo>
                                        <a:lnTo>
                                          <a:pt x="349" y="1940"/>
                                        </a:lnTo>
                                        <a:lnTo>
                                          <a:pt x="319" y="1974"/>
                                        </a:lnTo>
                                        <a:lnTo>
                                          <a:pt x="328" y="1970"/>
                                        </a:lnTo>
                                        <a:lnTo>
                                          <a:pt x="332" y="1965"/>
                                        </a:lnTo>
                                        <a:lnTo>
                                          <a:pt x="336" y="1961"/>
                                        </a:lnTo>
                                        <a:lnTo>
                                          <a:pt x="345" y="1953"/>
                                        </a:lnTo>
                                        <a:lnTo>
                                          <a:pt x="349" y="1944"/>
                                        </a:lnTo>
                                        <a:lnTo>
                                          <a:pt x="358" y="1940"/>
                                        </a:lnTo>
                                        <a:lnTo>
                                          <a:pt x="366" y="1935"/>
                                        </a:lnTo>
                                        <a:lnTo>
                                          <a:pt x="384" y="1931"/>
                                        </a:lnTo>
                                        <a:lnTo>
                                          <a:pt x="371" y="1940"/>
                                        </a:lnTo>
                                        <a:lnTo>
                                          <a:pt x="362" y="1944"/>
                                        </a:lnTo>
                                        <a:lnTo>
                                          <a:pt x="353" y="1957"/>
                                        </a:lnTo>
                                        <a:lnTo>
                                          <a:pt x="345" y="1965"/>
                                        </a:lnTo>
                                        <a:lnTo>
                                          <a:pt x="336" y="1996"/>
                                        </a:lnTo>
                                        <a:lnTo>
                                          <a:pt x="328" y="2030"/>
                                        </a:lnTo>
                                        <a:lnTo>
                                          <a:pt x="323" y="2064"/>
                                        </a:lnTo>
                                        <a:lnTo>
                                          <a:pt x="323" y="2099"/>
                                        </a:lnTo>
                                        <a:lnTo>
                                          <a:pt x="319" y="2129"/>
                                        </a:lnTo>
                                        <a:lnTo>
                                          <a:pt x="319" y="2155"/>
                                        </a:lnTo>
                                        <a:lnTo>
                                          <a:pt x="336" y="2155"/>
                                        </a:lnTo>
                                        <a:lnTo>
                                          <a:pt x="349" y="2150"/>
                                        </a:lnTo>
                                        <a:lnTo>
                                          <a:pt x="366" y="2142"/>
                                        </a:lnTo>
                                        <a:lnTo>
                                          <a:pt x="379" y="2137"/>
                                        </a:lnTo>
                                        <a:lnTo>
                                          <a:pt x="392" y="2129"/>
                                        </a:lnTo>
                                        <a:lnTo>
                                          <a:pt x="405" y="2120"/>
                                        </a:lnTo>
                                        <a:lnTo>
                                          <a:pt x="414" y="2116"/>
                                        </a:lnTo>
                                        <a:lnTo>
                                          <a:pt x="423" y="2116"/>
                                        </a:lnTo>
                                        <a:lnTo>
                                          <a:pt x="414" y="2155"/>
                                        </a:lnTo>
                                        <a:lnTo>
                                          <a:pt x="405" y="2202"/>
                                        </a:lnTo>
                                        <a:lnTo>
                                          <a:pt x="392" y="2249"/>
                                        </a:lnTo>
                                        <a:lnTo>
                                          <a:pt x="384" y="2297"/>
                                        </a:lnTo>
                                        <a:lnTo>
                                          <a:pt x="375" y="2348"/>
                                        </a:lnTo>
                                        <a:lnTo>
                                          <a:pt x="366" y="2395"/>
                                        </a:lnTo>
                                        <a:lnTo>
                                          <a:pt x="362" y="2438"/>
                                        </a:lnTo>
                                        <a:lnTo>
                                          <a:pt x="362" y="2481"/>
                                        </a:lnTo>
                                        <a:lnTo>
                                          <a:pt x="371" y="2473"/>
                                        </a:lnTo>
                                        <a:lnTo>
                                          <a:pt x="379" y="2464"/>
                                        </a:lnTo>
                                        <a:lnTo>
                                          <a:pt x="392" y="2451"/>
                                        </a:lnTo>
                                        <a:lnTo>
                                          <a:pt x="405" y="2443"/>
                                        </a:lnTo>
                                        <a:lnTo>
                                          <a:pt x="418" y="2434"/>
                                        </a:lnTo>
                                        <a:lnTo>
                                          <a:pt x="431" y="2426"/>
                                        </a:lnTo>
                                        <a:lnTo>
                                          <a:pt x="448" y="2421"/>
                                        </a:lnTo>
                                        <a:lnTo>
                                          <a:pt x="461" y="2421"/>
                                        </a:lnTo>
                                        <a:lnTo>
                                          <a:pt x="461" y="2443"/>
                                        </a:lnTo>
                                        <a:lnTo>
                                          <a:pt x="457" y="2473"/>
                                        </a:lnTo>
                                        <a:lnTo>
                                          <a:pt x="448" y="2503"/>
                                        </a:lnTo>
                                        <a:lnTo>
                                          <a:pt x="444" y="2533"/>
                                        </a:lnTo>
                                        <a:lnTo>
                                          <a:pt x="435" y="2563"/>
                                        </a:lnTo>
                                        <a:lnTo>
                                          <a:pt x="427" y="2593"/>
                                        </a:lnTo>
                                        <a:lnTo>
                                          <a:pt x="423" y="2619"/>
                                        </a:lnTo>
                                        <a:lnTo>
                                          <a:pt x="423" y="2645"/>
                                        </a:lnTo>
                                        <a:lnTo>
                                          <a:pt x="431" y="2628"/>
                                        </a:lnTo>
                                        <a:lnTo>
                                          <a:pt x="444" y="2615"/>
                                        </a:lnTo>
                                        <a:lnTo>
                                          <a:pt x="457" y="2598"/>
                                        </a:lnTo>
                                        <a:lnTo>
                                          <a:pt x="474" y="2585"/>
                                        </a:lnTo>
                                        <a:lnTo>
                                          <a:pt x="487" y="2572"/>
                                        </a:lnTo>
                                        <a:lnTo>
                                          <a:pt x="504" y="2559"/>
                                        </a:lnTo>
                                        <a:lnTo>
                                          <a:pt x="513" y="2550"/>
                                        </a:lnTo>
                                        <a:lnTo>
                                          <a:pt x="526" y="2542"/>
                                        </a:lnTo>
                                        <a:lnTo>
                                          <a:pt x="530" y="2580"/>
                                        </a:lnTo>
                                        <a:lnTo>
                                          <a:pt x="535" y="2636"/>
                                        </a:lnTo>
                                        <a:lnTo>
                                          <a:pt x="539" y="2701"/>
                                        </a:lnTo>
                                        <a:lnTo>
                                          <a:pt x="543" y="2770"/>
                                        </a:lnTo>
                                        <a:lnTo>
                                          <a:pt x="543" y="2838"/>
                                        </a:lnTo>
                                        <a:lnTo>
                                          <a:pt x="543" y="2899"/>
                                        </a:lnTo>
                                        <a:lnTo>
                                          <a:pt x="543" y="2942"/>
                                        </a:lnTo>
                                        <a:lnTo>
                                          <a:pt x="543" y="2967"/>
                                        </a:lnTo>
                                        <a:lnTo>
                                          <a:pt x="552" y="2967"/>
                                        </a:lnTo>
                                        <a:lnTo>
                                          <a:pt x="565" y="2963"/>
                                        </a:lnTo>
                                        <a:lnTo>
                                          <a:pt x="574" y="2954"/>
                                        </a:lnTo>
                                        <a:lnTo>
                                          <a:pt x="582" y="2950"/>
                                        </a:lnTo>
                                        <a:lnTo>
                                          <a:pt x="591" y="2942"/>
                                        </a:lnTo>
                                        <a:lnTo>
                                          <a:pt x="599" y="2933"/>
                                        </a:lnTo>
                                        <a:lnTo>
                                          <a:pt x="604" y="2929"/>
                                        </a:lnTo>
                                        <a:lnTo>
                                          <a:pt x="608" y="2929"/>
                                        </a:lnTo>
                                        <a:lnTo>
                                          <a:pt x="625" y="3316"/>
                                        </a:lnTo>
                                        <a:lnTo>
                                          <a:pt x="643" y="3286"/>
                                        </a:lnTo>
                                        <a:lnTo>
                                          <a:pt x="668" y="3255"/>
                                        </a:lnTo>
                                        <a:lnTo>
                                          <a:pt x="694" y="3225"/>
                                        </a:lnTo>
                                        <a:lnTo>
                                          <a:pt x="720" y="3200"/>
                                        </a:lnTo>
                                        <a:lnTo>
                                          <a:pt x="750" y="3174"/>
                                        </a:lnTo>
                                        <a:lnTo>
                                          <a:pt x="776" y="3148"/>
                                        </a:lnTo>
                                        <a:lnTo>
                                          <a:pt x="806" y="3126"/>
                                        </a:lnTo>
                                        <a:lnTo>
                                          <a:pt x="828" y="3114"/>
                                        </a:lnTo>
                                        <a:lnTo>
                                          <a:pt x="837" y="3135"/>
                                        </a:lnTo>
                                        <a:lnTo>
                                          <a:pt x="845" y="3161"/>
                                        </a:lnTo>
                                        <a:lnTo>
                                          <a:pt x="854" y="3187"/>
                                        </a:lnTo>
                                        <a:lnTo>
                                          <a:pt x="858" y="3212"/>
                                        </a:lnTo>
                                        <a:lnTo>
                                          <a:pt x="863" y="3238"/>
                                        </a:lnTo>
                                        <a:lnTo>
                                          <a:pt x="867" y="3264"/>
                                        </a:lnTo>
                                        <a:lnTo>
                                          <a:pt x="871" y="3290"/>
                                        </a:lnTo>
                                        <a:lnTo>
                                          <a:pt x="871" y="3316"/>
                                        </a:lnTo>
                                        <a:lnTo>
                                          <a:pt x="880" y="3311"/>
                                        </a:lnTo>
                                        <a:lnTo>
                                          <a:pt x="893" y="3316"/>
                                        </a:lnTo>
                                        <a:lnTo>
                                          <a:pt x="901" y="3324"/>
                                        </a:lnTo>
                                        <a:lnTo>
                                          <a:pt x="906" y="3337"/>
                                        </a:lnTo>
                                        <a:lnTo>
                                          <a:pt x="919" y="3367"/>
                                        </a:lnTo>
                                        <a:lnTo>
                                          <a:pt x="927" y="3410"/>
                                        </a:lnTo>
                                        <a:lnTo>
                                          <a:pt x="936" y="3453"/>
                                        </a:lnTo>
                                        <a:lnTo>
                                          <a:pt x="940" y="3501"/>
                                        </a:lnTo>
                                        <a:lnTo>
                                          <a:pt x="945" y="3544"/>
                                        </a:lnTo>
                                        <a:lnTo>
                                          <a:pt x="953" y="3578"/>
                                        </a:lnTo>
                                        <a:lnTo>
                                          <a:pt x="962" y="3565"/>
                                        </a:lnTo>
                                        <a:lnTo>
                                          <a:pt x="970" y="3552"/>
                                        </a:lnTo>
                                        <a:lnTo>
                                          <a:pt x="983" y="3539"/>
                                        </a:lnTo>
                                        <a:lnTo>
                                          <a:pt x="996" y="3531"/>
                                        </a:lnTo>
                                        <a:lnTo>
                                          <a:pt x="1009" y="3522"/>
                                        </a:lnTo>
                                        <a:lnTo>
                                          <a:pt x="1022" y="3513"/>
                                        </a:lnTo>
                                        <a:lnTo>
                                          <a:pt x="1039" y="3505"/>
                                        </a:lnTo>
                                        <a:lnTo>
                                          <a:pt x="1052" y="3496"/>
                                        </a:lnTo>
                                        <a:lnTo>
                                          <a:pt x="1057" y="3513"/>
                                        </a:lnTo>
                                        <a:lnTo>
                                          <a:pt x="1061" y="3535"/>
                                        </a:lnTo>
                                        <a:lnTo>
                                          <a:pt x="1065" y="3556"/>
                                        </a:lnTo>
                                        <a:lnTo>
                                          <a:pt x="1074" y="3582"/>
                                        </a:lnTo>
                                        <a:lnTo>
                                          <a:pt x="1083" y="3608"/>
                                        </a:lnTo>
                                        <a:lnTo>
                                          <a:pt x="1087" y="3634"/>
                                        </a:lnTo>
                                        <a:lnTo>
                                          <a:pt x="1096" y="3655"/>
                                        </a:lnTo>
                                        <a:lnTo>
                                          <a:pt x="1096" y="3681"/>
                                        </a:lnTo>
                                        <a:lnTo>
                                          <a:pt x="1096" y="3673"/>
                                        </a:lnTo>
                                        <a:lnTo>
                                          <a:pt x="1100" y="3664"/>
                                        </a:lnTo>
                                        <a:lnTo>
                                          <a:pt x="1104" y="3660"/>
                                        </a:lnTo>
                                        <a:lnTo>
                                          <a:pt x="1108" y="3651"/>
                                        </a:lnTo>
                                        <a:lnTo>
                                          <a:pt x="1113" y="3647"/>
                                        </a:lnTo>
                                        <a:lnTo>
                                          <a:pt x="1121" y="3642"/>
                                        </a:lnTo>
                                        <a:lnTo>
                                          <a:pt x="1130" y="3642"/>
                                        </a:lnTo>
                                        <a:lnTo>
                                          <a:pt x="1134" y="3638"/>
                                        </a:lnTo>
                                        <a:lnTo>
                                          <a:pt x="1134" y="3703"/>
                                        </a:lnTo>
                                        <a:lnTo>
                                          <a:pt x="1143" y="3698"/>
                                        </a:lnTo>
                                        <a:lnTo>
                                          <a:pt x="1156" y="3694"/>
                                        </a:lnTo>
                                        <a:lnTo>
                                          <a:pt x="1165" y="3690"/>
                                        </a:lnTo>
                                        <a:lnTo>
                                          <a:pt x="1173" y="3681"/>
                                        </a:lnTo>
                                        <a:lnTo>
                                          <a:pt x="1182" y="3673"/>
                                        </a:lnTo>
                                        <a:lnTo>
                                          <a:pt x="1190" y="3668"/>
                                        </a:lnTo>
                                        <a:lnTo>
                                          <a:pt x="1195" y="3664"/>
                                        </a:lnTo>
                                        <a:lnTo>
                                          <a:pt x="1199" y="3660"/>
                                        </a:lnTo>
                                        <a:lnTo>
                                          <a:pt x="1199" y="3668"/>
                                        </a:lnTo>
                                        <a:lnTo>
                                          <a:pt x="1203" y="3681"/>
                                        </a:lnTo>
                                        <a:lnTo>
                                          <a:pt x="1212" y="3694"/>
                                        </a:lnTo>
                                        <a:lnTo>
                                          <a:pt x="1216" y="3711"/>
                                        </a:lnTo>
                                        <a:lnTo>
                                          <a:pt x="1225" y="3724"/>
                                        </a:lnTo>
                                        <a:lnTo>
                                          <a:pt x="1234" y="3741"/>
                                        </a:lnTo>
                                        <a:lnTo>
                                          <a:pt x="1238" y="3754"/>
                                        </a:lnTo>
                                        <a:lnTo>
                                          <a:pt x="1238" y="3763"/>
                                        </a:lnTo>
                                        <a:lnTo>
                                          <a:pt x="1238" y="3754"/>
                                        </a:lnTo>
                                        <a:lnTo>
                                          <a:pt x="1247" y="3746"/>
                                        </a:lnTo>
                                        <a:lnTo>
                                          <a:pt x="1251" y="3733"/>
                                        </a:lnTo>
                                        <a:lnTo>
                                          <a:pt x="1259" y="3720"/>
                                        </a:lnTo>
                                        <a:lnTo>
                                          <a:pt x="1272" y="3711"/>
                                        </a:lnTo>
                                        <a:lnTo>
                                          <a:pt x="1281" y="3698"/>
                                        </a:lnTo>
                                        <a:lnTo>
                                          <a:pt x="1290" y="3690"/>
                                        </a:lnTo>
                                        <a:lnTo>
                                          <a:pt x="1298" y="3681"/>
                                        </a:lnTo>
                                        <a:lnTo>
                                          <a:pt x="1298" y="3690"/>
                                        </a:lnTo>
                                        <a:lnTo>
                                          <a:pt x="1303" y="3694"/>
                                        </a:lnTo>
                                        <a:lnTo>
                                          <a:pt x="1307" y="3703"/>
                                        </a:lnTo>
                                        <a:lnTo>
                                          <a:pt x="1311" y="3711"/>
                                        </a:lnTo>
                                        <a:lnTo>
                                          <a:pt x="1320" y="3720"/>
                                        </a:lnTo>
                                        <a:lnTo>
                                          <a:pt x="1324" y="3728"/>
                                        </a:lnTo>
                                        <a:lnTo>
                                          <a:pt x="1333" y="3733"/>
                                        </a:lnTo>
                                        <a:lnTo>
                                          <a:pt x="1341" y="3741"/>
                                        </a:lnTo>
                                        <a:lnTo>
                                          <a:pt x="1341" y="3763"/>
                                        </a:lnTo>
                                        <a:lnTo>
                                          <a:pt x="1341" y="3784"/>
                                        </a:lnTo>
                                        <a:lnTo>
                                          <a:pt x="1350" y="3767"/>
                                        </a:lnTo>
                                        <a:lnTo>
                                          <a:pt x="1363" y="3750"/>
                                        </a:lnTo>
                                        <a:lnTo>
                                          <a:pt x="1376" y="3737"/>
                                        </a:lnTo>
                                        <a:lnTo>
                                          <a:pt x="1389" y="3724"/>
                                        </a:lnTo>
                                        <a:lnTo>
                                          <a:pt x="1406" y="3711"/>
                                        </a:lnTo>
                                        <a:lnTo>
                                          <a:pt x="1419" y="3698"/>
                                        </a:lnTo>
                                        <a:lnTo>
                                          <a:pt x="1432" y="3690"/>
                                        </a:lnTo>
                                        <a:lnTo>
                                          <a:pt x="1441" y="3681"/>
                                        </a:lnTo>
                                        <a:lnTo>
                                          <a:pt x="1454" y="3690"/>
                                        </a:lnTo>
                                        <a:lnTo>
                                          <a:pt x="1467" y="3698"/>
                                        </a:lnTo>
                                        <a:lnTo>
                                          <a:pt x="1484" y="3711"/>
                                        </a:lnTo>
                                        <a:lnTo>
                                          <a:pt x="1501" y="3724"/>
                                        </a:lnTo>
                                        <a:lnTo>
                                          <a:pt x="1518" y="3737"/>
                                        </a:lnTo>
                                        <a:lnTo>
                                          <a:pt x="1531" y="3750"/>
                                        </a:lnTo>
                                        <a:lnTo>
                                          <a:pt x="1540" y="3767"/>
                                        </a:lnTo>
                                        <a:lnTo>
                                          <a:pt x="1544" y="3784"/>
                                        </a:lnTo>
                                        <a:lnTo>
                                          <a:pt x="1583" y="3741"/>
                                        </a:lnTo>
                                        <a:lnTo>
                                          <a:pt x="1592" y="3750"/>
                                        </a:lnTo>
                                        <a:lnTo>
                                          <a:pt x="1600" y="3763"/>
                                        </a:lnTo>
                                        <a:lnTo>
                                          <a:pt x="1605" y="3780"/>
                                        </a:lnTo>
                                        <a:lnTo>
                                          <a:pt x="1613" y="3793"/>
                                        </a:lnTo>
                                        <a:lnTo>
                                          <a:pt x="1618" y="3814"/>
                                        </a:lnTo>
                                        <a:lnTo>
                                          <a:pt x="1622" y="3832"/>
                                        </a:lnTo>
                                        <a:lnTo>
                                          <a:pt x="1626" y="3849"/>
                                        </a:lnTo>
                                        <a:lnTo>
                                          <a:pt x="1626" y="3862"/>
                                        </a:lnTo>
                                        <a:lnTo>
                                          <a:pt x="1635" y="3849"/>
                                        </a:lnTo>
                                        <a:lnTo>
                                          <a:pt x="1643" y="3832"/>
                                        </a:lnTo>
                                        <a:lnTo>
                                          <a:pt x="1656" y="3819"/>
                                        </a:lnTo>
                                        <a:lnTo>
                                          <a:pt x="1669" y="3806"/>
                                        </a:lnTo>
                                        <a:lnTo>
                                          <a:pt x="1682" y="3797"/>
                                        </a:lnTo>
                                        <a:lnTo>
                                          <a:pt x="1695" y="3789"/>
                                        </a:lnTo>
                                        <a:lnTo>
                                          <a:pt x="1712" y="3784"/>
                                        </a:lnTo>
                                        <a:lnTo>
                                          <a:pt x="1725" y="3784"/>
                                        </a:lnTo>
                                        <a:lnTo>
                                          <a:pt x="1734" y="3793"/>
                                        </a:lnTo>
                                        <a:lnTo>
                                          <a:pt x="1747" y="3806"/>
                                        </a:lnTo>
                                        <a:lnTo>
                                          <a:pt x="1756" y="3823"/>
                                        </a:lnTo>
                                        <a:lnTo>
                                          <a:pt x="1769" y="3840"/>
                                        </a:lnTo>
                                        <a:lnTo>
                                          <a:pt x="1782" y="3857"/>
                                        </a:lnTo>
                                        <a:lnTo>
                                          <a:pt x="1790" y="3870"/>
                                        </a:lnTo>
                                        <a:lnTo>
                                          <a:pt x="1799" y="3879"/>
                                        </a:lnTo>
                                        <a:lnTo>
                                          <a:pt x="1807" y="3883"/>
                                        </a:lnTo>
                                        <a:lnTo>
                                          <a:pt x="1812" y="3883"/>
                                        </a:lnTo>
                                        <a:lnTo>
                                          <a:pt x="1812" y="3883"/>
                                        </a:lnTo>
                                        <a:lnTo>
                                          <a:pt x="1816" y="3883"/>
                                        </a:lnTo>
                                        <a:lnTo>
                                          <a:pt x="1816" y="3883"/>
                                        </a:lnTo>
                                        <a:lnTo>
                                          <a:pt x="1820" y="3879"/>
                                        </a:lnTo>
                                        <a:lnTo>
                                          <a:pt x="1825" y="3879"/>
                                        </a:lnTo>
                                        <a:lnTo>
                                          <a:pt x="1825" y="3875"/>
                                        </a:lnTo>
                                        <a:lnTo>
                                          <a:pt x="1829" y="3875"/>
                                        </a:lnTo>
                                        <a:lnTo>
                                          <a:pt x="1812" y="3892"/>
                                        </a:lnTo>
                                        <a:lnTo>
                                          <a:pt x="1777" y="3870"/>
                                        </a:lnTo>
                                        <a:lnTo>
                                          <a:pt x="1760" y="3849"/>
                                        </a:lnTo>
                                        <a:lnTo>
                                          <a:pt x="1674" y="3965"/>
                                        </a:lnTo>
                                        <a:lnTo>
                                          <a:pt x="1665" y="3986"/>
                                        </a:lnTo>
                                        <a:lnTo>
                                          <a:pt x="1643" y="4008"/>
                                        </a:lnTo>
                                        <a:lnTo>
                                          <a:pt x="1523" y="3943"/>
                                        </a:lnTo>
                                        <a:lnTo>
                                          <a:pt x="1536" y="3892"/>
                                        </a:lnTo>
                                        <a:lnTo>
                                          <a:pt x="1536" y="3862"/>
                                        </a:lnTo>
                                        <a:lnTo>
                                          <a:pt x="1505" y="3832"/>
                                        </a:lnTo>
                                        <a:lnTo>
                                          <a:pt x="1346" y="3986"/>
                                        </a:lnTo>
                                        <a:lnTo>
                                          <a:pt x="1281" y="4124"/>
                                        </a:lnTo>
                                        <a:lnTo>
                                          <a:pt x="1221" y="4133"/>
                                        </a:lnTo>
                                        <a:lnTo>
                                          <a:pt x="1113" y="3986"/>
                                        </a:lnTo>
                                        <a:lnTo>
                                          <a:pt x="1078" y="3986"/>
                                        </a:lnTo>
                                        <a:lnTo>
                                          <a:pt x="1078" y="4085"/>
                                        </a:lnTo>
                                        <a:lnTo>
                                          <a:pt x="996" y="3986"/>
                                        </a:lnTo>
                                        <a:lnTo>
                                          <a:pt x="983" y="3956"/>
                                        </a:lnTo>
                                        <a:lnTo>
                                          <a:pt x="962" y="3935"/>
                                        </a:lnTo>
                                        <a:lnTo>
                                          <a:pt x="923" y="3978"/>
                                        </a:lnTo>
                                        <a:lnTo>
                                          <a:pt x="880" y="3870"/>
                                        </a:lnTo>
                                        <a:lnTo>
                                          <a:pt x="858" y="3849"/>
                                        </a:lnTo>
                                        <a:lnTo>
                                          <a:pt x="837" y="3862"/>
                                        </a:lnTo>
                                        <a:lnTo>
                                          <a:pt x="815" y="3883"/>
                                        </a:lnTo>
                                        <a:lnTo>
                                          <a:pt x="815" y="3965"/>
                                        </a:lnTo>
                                        <a:lnTo>
                                          <a:pt x="772" y="3849"/>
                                        </a:lnTo>
                                        <a:lnTo>
                                          <a:pt x="763" y="3767"/>
                                        </a:lnTo>
                                        <a:lnTo>
                                          <a:pt x="742" y="3754"/>
                                        </a:lnTo>
                                        <a:lnTo>
                                          <a:pt x="668" y="3789"/>
                                        </a:lnTo>
                                        <a:lnTo>
                                          <a:pt x="561" y="3673"/>
                                        </a:lnTo>
                                        <a:lnTo>
                                          <a:pt x="530" y="3673"/>
                                        </a:lnTo>
                                        <a:lnTo>
                                          <a:pt x="444" y="3565"/>
                                        </a:lnTo>
                                        <a:lnTo>
                                          <a:pt x="414" y="3565"/>
                                        </a:lnTo>
                                        <a:lnTo>
                                          <a:pt x="341" y="3354"/>
                                        </a:lnTo>
                                        <a:lnTo>
                                          <a:pt x="310" y="3354"/>
                                        </a:lnTo>
                                        <a:lnTo>
                                          <a:pt x="284" y="3376"/>
                                        </a:lnTo>
                                        <a:lnTo>
                                          <a:pt x="284" y="3440"/>
                                        </a:lnTo>
                                        <a:lnTo>
                                          <a:pt x="246" y="3122"/>
                                        </a:lnTo>
                                        <a:lnTo>
                                          <a:pt x="233" y="3114"/>
                                        </a:lnTo>
                                        <a:lnTo>
                                          <a:pt x="211" y="3114"/>
                                        </a:lnTo>
                                        <a:lnTo>
                                          <a:pt x="190" y="3131"/>
                                        </a:lnTo>
                                        <a:lnTo>
                                          <a:pt x="190" y="3165"/>
                                        </a:lnTo>
                                        <a:lnTo>
                                          <a:pt x="168" y="2911"/>
                                        </a:lnTo>
                                        <a:lnTo>
                                          <a:pt x="168" y="2825"/>
                                        </a:lnTo>
                                        <a:lnTo>
                                          <a:pt x="159" y="2817"/>
                                        </a:lnTo>
                                        <a:lnTo>
                                          <a:pt x="138" y="2817"/>
                                        </a:lnTo>
                                        <a:lnTo>
                                          <a:pt x="108" y="2868"/>
                                        </a:lnTo>
                                        <a:lnTo>
                                          <a:pt x="116" y="2658"/>
                                        </a:lnTo>
                                        <a:lnTo>
                                          <a:pt x="95" y="2636"/>
                                        </a:lnTo>
                                        <a:lnTo>
                                          <a:pt x="73" y="2636"/>
                                        </a:lnTo>
                                        <a:lnTo>
                                          <a:pt x="34" y="2731"/>
                                        </a:lnTo>
                                        <a:lnTo>
                                          <a:pt x="43" y="2490"/>
                                        </a:lnTo>
                                        <a:lnTo>
                                          <a:pt x="56" y="2469"/>
                                        </a:lnTo>
                                        <a:lnTo>
                                          <a:pt x="56" y="2434"/>
                                        </a:lnTo>
                                        <a:lnTo>
                                          <a:pt x="13" y="2404"/>
                                        </a:lnTo>
                                        <a:lnTo>
                                          <a:pt x="86" y="2129"/>
                                        </a:lnTo>
                                        <a:lnTo>
                                          <a:pt x="86" y="2112"/>
                                        </a:lnTo>
                                        <a:lnTo>
                                          <a:pt x="64" y="2086"/>
                                        </a:lnTo>
                                        <a:lnTo>
                                          <a:pt x="43" y="2086"/>
                                        </a:lnTo>
                                        <a:lnTo>
                                          <a:pt x="0" y="2159"/>
                                        </a:lnTo>
                                        <a:lnTo>
                                          <a:pt x="108" y="1815"/>
                                        </a:lnTo>
                                        <a:lnTo>
                                          <a:pt x="73" y="1781"/>
                                        </a:lnTo>
                                        <a:lnTo>
                                          <a:pt x="0" y="1875"/>
                                        </a:lnTo>
                                        <a:lnTo>
                                          <a:pt x="95" y="1634"/>
                                        </a:lnTo>
                                        <a:lnTo>
                                          <a:pt x="181" y="1497"/>
                                        </a:lnTo>
                                        <a:lnTo>
                                          <a:pt x="181" y="1467"/>
                                        </a:lnTo>
                                        <a:lnTo>
                                          <a:pt x="168" y="1454"/>
                                        </a:lnTo>
                                        <a:lnTo>
                                          <a:pt x="138" y="1454"/>
                                        </a:lnTo>
                                        <a:lnTo>
                                          <a:pt x="95" y="1518"/>
                                        </a:lnTo>
                                        <a:lnTo>
                                          <a:pt x="211" y="1170"/>
                                        </a:lnTo>
                                        <a:lnTo>
                                          <a:pt x="202" y="1161"/>
                                        </a:lnTo>
                                        <a:lnTo>
                                          <a:pt x="129" y="1213"/>
                                        </a:lnTo>
                                        <a:lnTo>
                                          <a:pt x="224" y="1024"/>
                                        </a:lnTo>
                                        <a:lnTo>
                                          <a:pt x="224" y="1002"/>
                                        </a:lnTo>
                                        <a:lnTo>
                                          <a:pt x="202" y="981"/>
                                        </a:lnTo>
                                        <a:lnTo>
                                          <a:pt x="116" y="1045"/>
                                        </a:lnTo>
                                        <a:lnTo>
                                          <a:pt x="246" y="852"/>
                                        </a:lnTo>
                                        <a:lnTo>
                                          <a:pt x="284" y="809"/>
                                        </a:lnTo>
                                        <a:lnTo>
                                          <a:pt x="263" y="749"/>
                                        </a:lnTo>
                                        <a:lnTo>
                                          <a:pt x="530" y="482"/>
                                        </a:lnTo>
                                        <a:lnTo>
                                          <a:pt x="561" y="443"/>
                                        </a:lnTo>
                                        <a:lnTo>
                                          <a:pt x="772" y="473"/>
                                        </a:lnTo>
                                        <a:lnTo>
                                          <a:pt x="910" y="508"/>
                                        </a:lnTo>
                                        <a:lnTo>
                                          <a:pt x="1294" y="430"/>
                                        </a:lnTo>
                                        <a:lnTo>
                                          <a:pt x="1367" y="400"/>
                                        </a:lnTo>
                                        <a:lnTo>
                                          <a:pt x="1398" y="430"/>
                                        </a:lnTo>
                                        <a:lnTo>
                                          <a:pt x="1423" y="422"/>
                                        </a:lnTo>
                                        <a:close/>
                                        <a:moveTo>
                                          <a:pt x="1833" y="3870"/>
                                        </a:moveTo>
                                        <a:lnTo>
                                          <a:pt x="1846" y="3862"/>
                                        </a:lnTo>
                                        <a:lnTo>
                                          <a:pt x="1859" y="3849"/>
                                        </a:lnTo>
                                        <a:lnTo>
                                          <a:pt x="1872" y="3836"/>
                                        </a:lnTo>
                                        <a:lnTo>
                                          <a:pt x="1885" y="3823"/>
                                        </a:lnTo>
                                        <a:lnTo>
                                          <a:pt x="1894" y="3810"/>
                                        </a:lnTo>
                                        <a:lnTo>
                                          <a:pt x="1902" y="3802"/>
                                        </a:lnTo>
                                        <a:lnTo>
                                          <a:pt x="1911" y="3789"/>
                                        </a:lnTo>
                                        <a:lnTo>
                                          <a:pt x="1911" y="3784"/>
                                        </a:lnTo>
                                        <a:lnTo>
                                          <a:pt x="1989" y="3879"/>
                                        </a:lnTo>
                                        <a:lnTo>
                                          <a:pt x="1980" y="3905"/>
                                        </a:lnTo>
                                        <a:lnTo>
                                          <a:pt x="1894" y="3965"/>
                                        </a:lnTo>
                                        <a:lnTo>
                                          <a:pt x="1885" y="3978"/>
                                        </a:lnTo>
                                        <a:lnTo>
                                          <a:pt x="1863" y="3905"/>
                                        </a:lnTo>
                                        <a:lnTo>
                                          <a:pt x="1833" y="3870"/>
                                        </a:lnTo>
                                        <a:close/>
                                        <a:moveTo>
                                          <a:pt x="2045" y="3832"/>
                                        </a:moveTo>
                                        <a:lnTo>
                                          <a:pt x="2075" y="3802"/>
                                        </a:lnTo>
                                        <a:lnTo>
                                          <a:pt x="2075" y="3810"/>
                                        </a:lnTo>
                                        <a:lnTo>
                                          <a:pt x="2079" y="3823"/>
                                        </a:lnTo>
                                        <a:lnTo>
                                          <a:pt x="2088" y="3836"/>
                                        </a:lnTo>
                                        <a:lnTo>
                                          <a:pt x="2096" y="3849"/>
                                        </a:lnTo>
                                        <a:lnTo>
                                          <a:pt x="2105" y="3862"/>
                                        </a:lnTo>
                                        <a:lnTo>
                                          <a:pt x="2118" y="3875"/>
                                        </a:lnTo>
                                        <a:lnTo>
                                          <a:pt x="2127" y="3883"/>
                                        </a:lnTo>
                                        <a:lnTo>
                                          <a:pt x="2135" y="3883"/>
                                        </a:lnTo>
                                        <a:lnTo>
                                          <a:pt x="2144" y="3883"/>
                                        </a:lnTo>
                                        <a:lnTo>
                                          <a:pt x="2157" y="3875"/>
                                        </a:lnTo>
                                        <a:lnTo>
                                          <a:pt x="2170" y="3866"/>
                                        </a:lnTo>
                                        <a:lnTo>
                                          <a:pt x="2187" y="3853"/>
                                        </a:lnTo>
                                        <a:lnTo>
                                          <a:pt x="2200" y="3840"/>
                                        </a:lnTo>
                                        <a:lnTo>
                                          <a:pt x="2217" y="3832"/>
                                        </a:lnTo>
                                        <a:lnTo>
                                          <a:pt x="2226" y="3827"/>
                                        </a:lnTo>
                                        <a:lnTo>
                                          <a:pt x="2239" y="3823"/>
                                        </a:lnTo>
                                        <a:lnTo>
                                          <a:pt x="2252" y="3832"/>
                                        </a:lnTo>
                                        <a:lnTo>
                                          <a:pt x="2265" y="3840"/>
                                        </a:lnTo>
                                        <a:lnTo>
                                          <a:pt x="2278" y="3853"/>
                                        </a:lnTo>
                                        <a:lnTo>
                                          <a:pt x="2286" y="3862"/>
                                        </a:lnTo>
                                        <a:lnTo>
                                          <a:pt x="2299" y="3870"/>
                                        </a:lnTo>
                                        <a:lnTo>
                                          <a:pt x="2312" y="3879"/>
                                        </a:lnTo>
                                        <a:lnTo>
                                          <a:pt x="2325" y="3883"/>
                                        </a:lnTo>
                                        <a:lnTo>
                                          <a:pt x="2338" y="3883"/>
                                        </a:lnTo>
                                        <a:lnTo>
                                          <a:pt x="2355" y="3866"/>
                                        </a:lnTo>
                                        <a:lnTo>
                                          <a:pt x="2368" y="3857"/>
                                        </a:lnTo>
                                        <a:lnTo>
                                          <a:pt x="2386" y="3853"/>
                                        </a:lnTo>
                                        <a:lnTo>
                                          <a:pt x="2403" y="3857"/>
                                        </a:lnTo>
                                        <a:lnTo>
                                          <a:pt x="2420" y="3862"/>
                                        </a:lnTo>
                                        <a:lnTo>
                                          <a:pt x="2442" y="3875"/>
                                        </a:lnTo>
                                        <a:lnTo>
                                          <a:pt x="2459" y="3888"/>
                                        </a:lnTo>
                                        <a:lnTo>
                                          <a:pt x="2480" y="3905"/>
                                        </a:lnTo>
                                        <a:lnTo>
                                          <a:pt x="2532" y="3875"/>
                                        </a:lnTo>
                                        <a:lnTo>
                                          <a:pt x="2575" y="3849"/>
                                        </a:lnTo>
                                        <a:lnTo>
                                          <a:pt x="2614" y="3832"/>
                                        </a:lnTo>
                                        <a:lnTo>
                                          <a:pt x="2649" y="3819"/>
                                        </a:lnTo>
                                        <a:lnTo>
                                          <a:pt x="2666" y="3814"/>
                                        </a:lnTo>
                                        <a:lnTo>
                                          <a:pt x="2683" y="3814"/>
                                        </a:lnTo>
                                        <a:lnTo>
                                          <a:pt x="2700" y="3819"/>
                                        </a:lnTo>
                                        <a:lnTo>
                                          <a:pt x="2718" y="3823"/>
                                        </a:lnTo>
                                        <a:lnTo>
                                          <a:pt x="2735" y="3832"/>
                                        </a:lnTo>
                                        <a:lnTo>
                                          <a:pt x="2752" y="3845"/>
                                        </a:lnTo>
                                        <a:lnTo>
                                          <a:pt x="2770" y="3862"/>
                                        </a:lnTo>
                                        <a:lnTo>
                                          <a:pt x="2787" y="3883"/>
                                        </a:lnTo>
                                        <a:lnTo>
                                          <a:pt x="2847" y="3681"/>
                                        </a:lnTo>
                                        <a:lnTo>
                                          <a:pt x="2869" y="3681"/>
                                        </a:lnTo>
                                        <a:lnTo>
                                          <a:pt x="2890" y="3681"/>
                                        </a:lnTo>
                                        <a:lnTo>
                                          <a:pt x="2951" y="3741"/>
                                        </a:lnTo>
                                        <a:lnTo>
                                          <a:pt x="2951" y="3733"/>
                                        </a:lnTo>
                                        <a:lnTo>
                                          <a:pt x="2959" y="3724"/>
                                        </a:lnTo>
                                        <a:lnTo>
                                          <a:pt x="2964" y="3711"/>
                                        </a:lnTo>
                                        <a:lnTo>
                                          <a:pt x="2972" y="3703"/>
                                        </a:lnTo>
                                        <a:lnTo>
                                          <a:pt x="2981" y="3690"/>
                                        </a:lnTo>
                                        <a:lnTo>
                                          <a:pt x="2985" y="3677"/>
                                        </a:lnTo>
                                        <a:lnTo>
                                          <a:pt x="2990" y="3668"/>
                                        </a:lnTo>
                                        <a:lnTo>
                                          <a:pt x="2994" y="3660"/>
                                        </a:lnTo>
                                        <a:lnTo>
                                          <a:pt x="2998" y="3660"/>
                                        </a:lnTo>
                                        <a:lnTo>
                                          <a:pt x="3011" y="3664"/>
                                        </a:lnTo>
                                        <a:lnTo>
                                          <a:pt x="3020" y="3668"/>
                                        </a:lnTo>
                                        <a:lnTo>
                                          <a:pt x="3033" y="3673"/>
                                        </a:lnTo>
                                        <a:lnTo>
                                          <a:pt x="3046" y="3681"/>
                                        </a:lnTo>
                                        <a:lnTo>
                                          <a:pt x="3054" y="3685"/>
                                        </a:lnTo>
                                        <a:lnTo>
                                          <a:pt x="3063" y="3694"/>
                                        </a:lnTo>
                                        <a:lnTo>
                                          <a:pt x="3072" y="3703"/>
                                        </a:lnTo>
                                        <a:lnTo>
                                          <a:pt x="3076" y="3694"/>
                                        </a:lnTo>
                                        <a:lnTo>
                                          <a:pt x="3084" y="3681"/>
                                        </a:lnTo>
                                        <a:lnTo>
                                          <a:pt x="3093" y="3673"/>
                                        </a:lnTo>
                                        <a:lnTo>
                                          <a:pt x="3106" y="3664"/>
                                        </a:lnTo>
                                        <a:lnTo>
                                          <a:pt x="3119" y="3655"/>
                                        </a:lnTo>
                                        <a:lnTo>
                                          <a:pt x="3132" y="3647"/>
                                        </a:lnTo>
                                        <a:lnTo>
                                          <a:pt x="3145" y="3642"/>
                                        </a:lnTo>
                                        <a:lnTo>
                                          <a:pt x="3153" y="3638"/>
                                        </a:lnTo>
                                        <a:lnTo>
                                          <a:pt x="3162" y="3642"/>
                                        </a:lnTo>
                                        <a:lnTo>
                                          <a:pt x="3175" y="3642"/>
                                        </a:lnTo>
                                        <a:lnTo>
                                          <a:pt x="3184" y="3647"/>
                                        </a:lnTo>
                                        <a:lnTo>
                                          <a:pt x="3197" y="3651"/>
                                        </a:lnTo>
                                        <a:lnTo>
                                          <a:pt x="3214" y="3655"/>
                                        </a:lnTo>
                                        <a:lnTo>
                                          <a:pt x="3227" y="3655"/>
                                        </a:lnTo>
                                        <a:lnTo>
                                          <a:pt x="3240" y="3660"/>
                                        </a:lnTo>
                                        <a:lnTo>
                                          <a:pt x="3257" y="3660"/>
                                        </a:lnTo>
                                        <a:lnTo>
                                          <a:pt x="3261" y="3647"/>
                                        </a:lnTo>
                                        <a:lnTo>
                                          <a:pt x="3270" y="3638"/>
                                        </a:lnTo>
                                        <a:lnTo>
                                          <a:pt x="3283" y="3630"/>
                                        </a:lnTo>
                                        <a:lnTo>
                                          <a:pt x="3296" y="3621"/>
                                        </a:lnTo>
                                        <a:lnTo>
                                          <a:pt x="3313" y="3612"/>
                                        </a:lnTo>
                                        <a:lnTo>
                                          <a:pt x="3326" y="3604"/>
                                        </a:lnTo>
                                        <a:lnTo>
                                          <a:pt x="3335" y="3591"/>
                                        </a:lnTo>
                                        <a:lnTo>
                                          <a:pt x="3339" y="3578"/>
                                        </a:lnTo>
                                        <a:lnTo>
                                          <a:pt x="3343" y="3582"/>
                                        </a:lnTo>
                                        <a:lnTo>
                                          <a:pt x="3348" y="3587"/>
                                        </a:lnTo>
                                        <a:lnTo>
                                          <a:pt x="3352" y="3591"/>
                                        </a:lnTo>
                                        <a:lnTo>
                                          <a:pt x="3356" y="3599"/>
                                        </a:lnTo>
                                        <a:lnTo>
                                          <a:pt x="3361" y="3604"/>
                                        </a:lnTo>
                                        <a:lnTo>
                                          <a:pt x="3365" y="3612"/>
                                        </a:lnTo>
                                        <a:lnTo>
                                          <a:pt x="3374" y="3617"/>
                                        </a:lnTo>
                                        <a:lnTo>
                                          <a:pt x="3378" y="3625"/>
                                        </a:lnTo>
                                        <a:lnTo>
                                          <a:pt x="3335" y="3617"/>
                                        </a:lnTo>
                                        <a:lnTo>
                                          <a:pt x="3313" y="3642"/>
                                        </a:lnTo>
                                        <a:lnTo>
                                          <a:pt x="3313" y="3660"/>
                                        </a:lnTo>
                                        <a:lnTo>
                                          <a:pt x="3348" y="3690"/>
                                        </a:lnTo>
                                        <a:lnTo>
                                          <a:pt x="3399" y="3690"/>
                                        </a:lnTo>
                                        <a:lnTo>
                                          <a:pt x="3473" y="3819"/>
                                        </a:lnTo>
                                        <a:lnTo>
                                          <a:pt x="3421" y="3810"/>
                                        </a:lnTo>
                                        <a:lnTo>
                                          <a:pt x="3386" y="3892"/>
                                        </a:lnTo>
                                        <a:lnTo>
                                          <a:pt x="3335" y="3905"/>
                                        </a:lnTo>
                                        <a:lnTo>
                                          <a:pt x="3313" y="3956"/>
                                        </a:lnTo>
                                        <a:lnTo>
                                          <a:pt x="3292" y="3935"/>
                                        </a:lnTo>
                                        <a:lnTo>
                                          <a:pt x="3274" y="3935"/>
                                        </a:lnTo>
                                        <a:lnTo>
                                          <a:pt x="3218" y="4021"/>
                                        </a:lnTo>
                                        <a:lnTo>
                                          <a:pt x="3188" y="4029"/>
                                        </a:lnTo>
                                        <a:lnTo>
                                          <a:pt x="3153" y="4029"/>
                                        </a:lnTo>
                                        <a:lnTo>
                                          <a:pt x="3153" y="4021"/>
                                        </a:lnTo>
                                        <a:lnTo>
                                          <a:pt x="3132" y="3999"/>
                                        </a:lnTo>
                                        <a:lnTo>
                                          <a:pt x="3102" y="3999"/>
                                        </a:lnTo>
                                        <a:lnTo>
                                          <a:pt x="3080" y="4038"/>
                                        </a:lnTo>
                                        <a:lnTo>
                                          <a:pt x="3037" y="4072"/>
                                        </a:lnTo>
                                        <a:lnTo>
                                          <a:pt x="2998" y="4051"/>
                                        </a:lnTo>
                                        <a:lnTo>
                                          <a:pt x="2985" y="4038"/>
                                        </a:lnTo>
                                        <a:lnTo>
                                          <a:pt x="2912" y="4115"/>
                                        </a:lnTo>
                                        <a:lnTo>
                                          <a:pt x="2869" y="4115"/>
                                        </a:lnTo>
                                        <a:lnTo>
                                          <a:pt x="2856" y="4085"/>
                                        </a:lnTo>
                                        <a:lnTo>
                                          <a:pt x="2847" y="4072"/>
                                        </a:lnTo>
                                        <a:lnTo>
                                          <a:pt x="2826" y="4072"/>
                                        </a:lnTo>
                                        <a:lnTo>
                                          <a:pt x="2795" y="4124"/>
                                        </a:lnTo>
                                        <a:lnTo>
                                          <a:pt x="2774" y="4146"/>
                                        </a:lnTo>
                                        <a:lnTo>
                                          <a:pt x="2731" y="4115"/>
                                        </a:lnTo>
                                        <a:lnTo>
                                          <a:pt x="2649" y="4167"/>
                                        </a:lnTo>
                                        <a:lnTo>
                                          <a:pt x="2614" y="4158"/>
                                        </a:lnTo>
                                        <a:lnTo>
                                          <a:pt x="2593" y="4158"/>
                                        </a:lnTo>
                                        <a:lnTo>
                                          <a:pt x="2571" y="4197"/>
                                        </a:lnTo>
                                        <a:lnTo>
                                          <a:pt x="2541" y="4232"/>
                                        </a:lnTo>
                                        <a:lnTo>
                                          <a:pt x="2519" y="4197"/>
                                        </a:lnTo>
                                        <a:lnTo>
                                          <a:pt x="2489" y="4167"/>
                                        </a:lnTo>
                                        <a:lnTo>
                                          <a:pt x="2437" y="4219"/>
                                        </a:lnTo>
                                        <a:lnTo>
                                          <a:pt x="2364" y="4219"/>
                                        </a:lnTo>
                                        <a:lnTo>
                                          <a:pt x="2364" y="4210"/>
                                        </a:lnTo>
                                        <a:lnTo>
                                          <a:pt x="2351" y="4197"/>
                                        </a:lnTo>
                                        <a:lnTo>
                                          <a:pt x="2308" y="4262"/>
                                        </a:lnTo>
                                        <a:lnTo>
                                          <a:pt x="2278" y="4253"/>
                                        </a:lnTo>
                                        <a:lnTo>
                                          <a:pt x="2256" y="4283"/>
                                        </a:lnTo>
                                        <a:lnTo>
                                          <a:pt x="2256" y="4292"/>
                                        </a:lnTo>
                                        <a:lnTo>
                                          <a:pt x="2235" y="4292"/>
                                        </a:lnTo>
                                        <a:lnTo>
                                          <a:pt x="2235" y="4283"/>
                                        </a:lnTo>
                                        <a:lnTo>
                                          <a:pt x="2213" y="4262"/>
                                        </a:lnTo>
                                        <a:lnTo>
                                          <a:pt x="2161" y="4283"/>
                                        </a:lnTo>
                                        <a:lnTo>
                                          <a:pt x="2140" y="4283"/>
                                        </a:lnTo>
                                        <a:lnTo>
                                          <a:pt x="2118" y="4262"/>
                                        </a:lnTo>
                                        <a:lnTo>
                                          <a:pt x="2109" y="4275"/>
                                        </a:lnTo>
                                        <a:lnTo>
                                          <a:pt x="2109" y="4305"/>
                                        </a:lnTo>
                                        <a:lnTo>
                                          <a:pt x="2053" y="4262"/>
                                        </a:lnTo>
                                        <a:lnTo>
                                          <a:pt x="2032" y="4292"/>
                                        </a:lnTo>
                                        <a:lnTo>
                                          <a:pt x="1980" y="4275"/>
                                        </a:lnTo>
                                        <a:lnTo>
                                          <a:pt x="1967" y="4262"/>
                                        </a:lnTo>
                                        <a:lnTo>
                                          <a:pt x="2096" y="4103"/>
                                        </a:lnTo>
                                        <a:lnTo>
                                          <a:pt x="2127" y="4038"/>
                                        </a:lnTo>
                                        <a:lnTo>
                                          <a:pt x="2075" y="3956"/>
                                        </a:lnTo>
                                        <a:lnTo>
                                          <a:pt x="2053" y="3840"/>
                                        </a:lnTo>
                                        <a:lnTo>
                                          <a:pt x="2045" y="3832"/>
                                        </a:lnTo>
                                        <a:close/>
                                      </a:path>
                                    </a:pathLst>
                                  </a:custGeom>
                                  <a:blipFill rotWithShape="0">
                                    <a:blip r:embed="rId77"/>
                                    <a:srcRect/>
                                    <a:tile tx="0" ty="0" sx="100000" sy="100000" algn="ctr"/>
                                  </a:blipFill>
                                  <a:ln w="9360">
                                    <a:solidFill>
                                      <a:srgbClr val="c0c0c0"/>
                                    </a:solidFill>
                                    <a:round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197" name=""/>
                                  <p:cNvSpPr/>
                                  <p:nvPr/>
                                </p:nvSpPr>
                                <p:spPr>
                                  <a:xfrm rot="21030000">
                                    <a:off x="2425680" y="1801800"/>
                                    <a:ext cx="122400" cy="288000"/>
                                  </a:xfrm>
                                  <a:custGeom>
                                    <a:avLst/>
                                    <a:gdLst/>
                                    <a:ahLst/>
                                    <a:rect l="l" t="t" r="r" b="b"/>
                                    <a:pathLst>
                                      <a:path w="1195" h="2976">
                                        <a:moveTo>
                                          <a:pt x="940" y="95"/>
                                        </a:moveTo>
                                        <a:lnTo>
                                          <a:pt x="953" y="86"/>
                                        </a:lnTo>
                                        <a:lnTo>
                                          <a:pt x="953" y="77"/>
                                        </a:lnTo>
                                        <a:lnTo>
                                          <a:pt x="1048" y="150"/>
                                        </a:lnTo>
                                        <a:lnTo>
                                          <a:pt x="1083" y="116"/>
                                        </a:lnTo>
                                        <a:lnTo>
                                          <a:pt x="1165" y="181"/>
                                        </a:lnTo>
                                        <a:lnTo>
                                          <a:pt x="1195" y="181"/>
                                        </a:lnTo>
                                        <a:lnTo>
                                          <a:pt x="1156" y="318"/>
                                        </a:lnTo>
                                        <a:lnTo>
                                          <a:pt x="902" y="843"/>
                                        </a:lnTo>
                                        <a:lnTo>
                                          <a:pt x="902" y="1174"/>
                                        </a:lnTo>
                                        <a:lnTo>
                                          <a:pt x="953" y="1277"/>
                                        </a:lnTo>
                                        <a:lnTo>
                                          <a:pt x="988" y="1299"/>
                                        </a:lnTo>
                                        <a:lnTo>
                                          <a:pt x="1005" y="1320"/>
                                        </a:lnTo>
                                        <a:lnTo>
                                          <a:pt x="794" y="1711"/>
                                        </a:lnTo>
                                        <a:lnTo>
                                          <a:pt x="712" y="1944"/>
                                        </a:lnTo>
                                        <a:lnTo>
                                          <a:pt x="612" y="2365"/>
                                        </a:lnTo>
                                        <a:lnTo>
                                          <a:pt x="656" y="2576"/>
                                        </a:lnTo>
                                        <a:lnTo>
                                          <a:pt x="625" y="2640"/>
                                        </a:lnTo>
                                        <a:lnTo>
                                          <a:pt x="496" y="2722"/>
                                        </a:lnTo>
                                        <a:lnTo>
                                          <a:pt x="436" y="2808"/>
                                        </a:lnTo>
                                        <a:lnTo>
                                          <a:pt x="414" y="2859"/>
                                        </a:lnTo>
                                        <a:lnTo>
                                          <a:pt x="474" y="2937"/>
                                        </a:lnTo>
                                        <a:lnTo>
                                          <a:pt x="474" y="2976"/>
                                        </a:lnTo>
                                        <a:lnTo>
                                          <a:pt x="0" y="2976"/>
                                        </a:lnTo>
                                        <a:lnTo>
                                          <a:pt x="0" y="2902"/>
                                        </a:lnTo>
                                        <a:lnTo>
                                          <a:pt x="86" y="2786"/>
                                        </a:lnTo>
                                        <a:lnTo>
                                          <a:pt x="254" y="2640"/>
                                        </a:lnTo>
                                        <a:lnTo>
                                          <a:pt x="371" y="2460"/>
                                        </a:lnTo>
                                        <a:lnTo>
                                          <a:pt x="634" y="1561"/>
                                        </a:lnTo>
                                        <a:lnTo>
                                          <a:pt x="677" y="1234"/>
                                        </a:lnTo>
                                        <a:lnTo>
                                          <a:pt x="656" y="993"/>
                                        </a:lnTo>
                                        <a:lnTo>
                                          <a:pt x="751" y="748"/>
                                        </a:lnTo>
                                        <a:lnTo>
                                          <a:pt x="794" y="224"/>
                                        </a:lnTo>
                                        <a:lnTo>
                                          <a:pt x="837" y="0"/>
                                        </a:lnTo>
                                        <a:lnTo>
                                          <a:pt x="902" y="95"/>
                                        </a:lnTo>
                                        <a:lnTo>
                                          <a:pt x="940" y="95"/>
                                        </a:lnTo>
                                        <a:close/>
                                      </a:path>
                                    </a:pathLst>
                                  </a:custGeom>
                                  <a:blipFill rotWithShape="0">
                                    <a:blip r:embed="rId78"/>
                                    <a:srcRect/>
                                    <a:tile tx="0" ty="0" sx="100000" sy="100000" algn="ctr"/>
                                  </a:blipFill>
                                  <a:ln w="9360">
                                    <a:solidFill>
                                      <a:srgbClr val="c0c0c0"/>
                                    </a:solidFill>
                                    <a:round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198" name=""/>
                                  <p:cNvSpPr/>
                                  <p:nvPr/>
                                </p:nvSpPr>
                                <p:spPr>
                                  <a:xfrm rot="21030000">
                                    <a:off x="2491200" y="1796400"/>
                                    <a:ext cx="40320" cy="96480"/>
                                  </a:xfrm>
                                  <a:custGeom>
                                    <a:avLst/>
                                    <a:gdLst/>
                                    <a:ahLst/>
                                    <a:rect l="l" t="t" r="r" b="b"/>
                                    <a:pathLst>
                                      <a:path w="397" h="998">
                                        <a:moveTo>
                                          <a:pt x="0" y="202"/>
                                        </a:moveTo>
                                        <a:lnTo>
                                          <a:pt x="69" y="202"/>
                                        </a:lnTo>
                                        <a:lnTo>
                                          <a:pt x="69" y="228"/>
                                        </a:lnTo>
                                        <a:lnTo>
                                          <a:pt x="69" y="254"/>
                                        </a:lnTo>
                                        <a:lnTo>
                                          <a:pt x="65" y="284"/>
                                        </a:lnTo>
                                        <a:lnTo>
                                          <a:pt x="60" y="314"/>
                                        </a:lnTo>
                                        <a:lnTo>
                                          <a:pt x="56" y="344"/>
                                        </a:lnTo>
                                        <a:lnTo>
                                          <a:pt x="52" y="374"/>
                                        </a:lnTo>
                                        <a:lnTo>
                                          <a:pt x="52" y="400"/>
                                        </a:lnTo>
                                        <a:lnTo>
                                          <a:pt x="52" y="426"/>
                                        </a:lnTo>
                                        <a:lnTo>
                                          <a:pt x="43" y="426"/>
                                        </a:lnTo>
                                        <a:lnTo>
                                          <a:pt x="39" y="430"/>
                                        </a:lnTo>
                                        <a:lnTo>
                                          <a:pt x="35" y="434"/>
                                        </a:lnTo>
                                        <a:lnTo>
                                          <a:pt x="35" y="439"/>
                                        </a:lnTo>
                                        <a:lnTo>
                                          <a:pt x="30" y="443"/>
                                        </a:lnTo>
                                        <a:lnTo>
                                          <a:pt x="30" y="451"/>
                                        </a:lnTo>
                                        <a:lnTo>
                                          <a:pt x="30" y="456"/>
                                        </a:lnTo>
                                        <a:lnTo>
                                          <a:pt x="30" y="464"/>
                                        </a:lnTo>
                                        <a:lnTo>
                                          <a:pt x="39" y="464"/>
                                        </a:lnTo>
                                        <a:lnTo>
                                          <a:pt x="43" y="469"/>
                                        </a:lnTo>
                                        <a:lnTo>
                                          <a:pt x="52" y="473"/>
                                        </a:lnTo>
                                        <a:lnTo>
                                          <a:pt x="60" y="477"/>
                                        </a:lnTo>
                                        <a:lnTo>
                                          <a:pt x="69" y="477"/>
                                        </a:lnTo>
                                        <a:lnTo>
                                          <a:pt x="78" y="482"/>
                                        </a:lnTo>
                                        <a:lnTo>
                                          <a:pt x="82" y="486"/>
                                        </a:lnTo>
                                        <a:lnTo>
                                          <a:pt x="91" y="486"/>
                                        </a:lnTo>
                                        <a:lnTo>
                                          <a:pt x="112" y="525"/>
                                        </a:lnTo>
                                        <a:lnTo>
                                          <a:pt x="112" y="537"/>
                                        </a:lnTo>
                                        <a:lnTo>
                                          <a:pt x="108" y="559"/>
                                        </a:lnTo>
                                        <a:lnTo>
                                          <a:pt x="104" y="585"/>
                                        </a:lnTo>
                                        <a:lnTo>
                                          <a:pt x="95" y="615"/>
                                        </a:lnTo>
                                        <a:lnTo>
                                          <a:pt x="86" y="645"/>
                                        </a:lnTo>
                                        <a:lnTo>
                                          <a:pt x="78" y="666"/>
                                        </a:lnTo>
                                        <a:lnTo>
                                          <a:pt x="65" y="684"/>
                                        </a:lnTo>
                                        <a:lnTo>
                                          <a:pt x="52" y="688"/>
                                        </a:lnTo>
                                        <a:lnTo>
                                          <a:pt x="52" y="727"/>
                                        </a:lnTo>
                                        <a:lnTo>
                                          <a:pt x="56" y="765"/>
                                        </a:lnTo>
                                        <a:lnTo>
                                          <a:pt x="65" y="804"/>
                                        </a:lnTo>
                                        <a:lnTo>
                                          <a:pt x="69" y="843"/>
                                        </a:lnTo>
                                        <a:lnTo>
                                          <a:pt x="78" y="881"/>
                                        </a:lnTo>
                                        <a:lnTo>
                                          <a:pt x="86" y="916"/>
                                        </a:lnTo>
                                        <a:lnTo>
                                          <a:pt x="91" y="955"/>
                                        </a:lnTo>
                                        <a:lnTo>
                                          <a:pt x="91" y="993"/>
                                        </a:lnTo>
                                        <a:lnTo>
                                          <a:pt x="91" y="993"/>
                                        </a:lnTo>
                                        <a:lnTo>
                                          <a:pt x="95" y="993"/>
                                        </a:lnTo>
                                        <a:lnTo>
                                          <a:pt x="95" y="993"/>
                                        </a:lnTo>
                                        <a:lnTo>
                                          <a:pt x="99" y="993"/>
                                        </a:lnTo>
                                        <a:lnTo>
                                          <a:pt x="99" y="993"/>
                                        </a:lnTo>
                                        <a:lnTo>
                                          <a:pt x="99" y="998"/>
                                        </a:lnTo>
                                        <a:lnTo>
                                          <a:pt x="99" y="998"/>
                                        </a:lnTo>
                                        <a:lnTo>
                                          <a:pt x="104" y="998"/>
                                        </a:lnTo>
                                        <a:lnTo>
                                          <a:pt x="104" y="843"/>
                                        </a:lnTo>
                                        <a:lnTo>
                                          <a:pt x="358" y="318"/>
                                        </a:lnTo>
                                        <a:lnTo>
                                          <a:pt x="397" y="189"/>
                                        </a:lnTo>
                                        <a:lnTo>
                                          <a:pt x="397" y="189"/>
                                        </a:lnTo>
                                        <a:lnTo>
                                          <a:pt x="397" y="189"/>
                                        </a:lnTo>
                                        <a:lnTo>
                                          <a:pt x="397" y="185"/>
                                        </a:lnTo>
                                        <a:lnTo>
                                          <a:pt x="397" y="185"/>
                                        </a:lnTo>
                                        <a:lnTo>
                                          <a:pt x="397" y="185"/>
                                        </a:lnTo>
                                        <a:lnTo>
                                          <a:pt x="397" y="181"/>
                                        </a:lnTo>
                                        <a:lnTo>
                                          <a:pt x="397" y="181"/>
                                        </a:lnTo>
                                        <a:lnTo>
                                          <a:pt x="397" y="181"/>
                                        </a:lnTo>
                                        <a:lnTo>
                                          <a:pt x="367" y="181"/>
                                        </a:lnTo>
                                        <a:lnTo>
                                          <a:pt x="285" y="116"/>
                                        </a:lnTo>
                                        <a:lnTo>
                                          <a:pt x="250" y="150"/>
                                        </a:lnTo>
                                        <a:lnTo>
                                          <a:pt x="155" y="77"/>
                                        </a:lnTo>
                                        <a:lnTo>
                                          <a:pt x="155" y="86"/>
                                        </a:lnTo>
                                        <a:lnTo>
                                          <a:pt x="142" y="95"/>
                                        </a:lnTo>
                                        <a:lnTo>
                                          <a:pt x="104" y="95"/>
                                        </a:lnTo>
                                        <a:lnTo>
                                          <a:pt x="39" y="0"/>
                                        </a:lnTo>
                                        <a:lnTo>
                                          <a:pt x="0" y="202"/>
                                        </a:lnTo>
                                        <a:close/>
                                      </a:path>
                                    </a:pathLst>
                                  </a:custGeom>
                                  <a:blipFill rotWithShape="0">
                                    <a:blip r:embed="rId79"/>
                                    <a:srcRect/>
                                    <a:tile tx="0" ty="0" sx="100000" sy="100000" algn="ctr"/>
                                  </a:blipFill>
                                  <a:ln w="9360">
                                    <a:solidFill>
                                      <a:srgbClr val="c0c0c0"/>
                                    </a:solidFill>
                                    <a:round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grpSp>
                                <p:nvGrpSpPr>
                                  <p:cNvPr id="19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397600" y="1424520"/>
                                    <a:ext cx="429120" cy="646920"/>
                                    <a:chOff x="2397600" y="1424520"/>
                                    <a:chExt cx="429120" cy="646920"/>
                                  </a:xfrm>
                                </p:grpSpPr>
                                <p:sp>
                                  <p:nvSpPr>
                                    <p:cNvPr id="200" name=""/>
                                    <p:cNvSpPr/>
                                    <p:nvPr/>
                                  </p:nvSpPr>
                                  <p:spPr>
                                    <a:xfrm rot="21030000">
                                      <a:off x="2399760" y="1490400"/>
                                      <a:ext cx="49680" cy="3456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487" h="357">
                                          <a:moveTo>
                                            <a:pt x="487" y="9"/>
                                          </a:moveTo>
                                          <a:lnTo>
                                            <a:pt x="487" y="30"/>
                                          </a:lnTo>
                                          <a:lnTo>
                                            <a:pt x="233" y="125"/>
                                          </a:lnTo>
                                          <a:lnTo>
                                            <a:pt x="211" y="147"/>
                                          </a:lnTo>
                                          <a:lnTo>
                                            <a:pt x="285" y="155"/>
                                          </a:lnTo>
                                          <a:lnTo>
                                            <a:pt x="293" y="168"/>
                                          </a:lnTo>
                                          <a:lnTo>
                                            <a:pt x="293" y="177"/>
                                          </a:lnTo>
                                          <a:lnTo>
                                            <a:pt x="190" y="207"/>
                                          </a:lnTo>
                                          <a:lnTo>
                                            <a:pt x="168" y="228"/>
                                          </a:lnTo>
                                          <a:lnTo>
                                            <a:pt x="190" y="250"/>
                                          </a:lnTo>
                                          <a:lnTo>
                                            <a:pt x="220" y="228"/>
                                          </a:lnTo>
                                          <a:lnTo>
                                            <a:pt x="233" y="241"/>
                                          </a:lnTo>
                                          <a:lnTo>
                                            <a:pt x="246" y="241"/>
                                          </a:lnTo>
                                          <a:lnTo>
                                            <a:pt x="246" y="250"/>
                                          </a:lnTo>
                                          <a:lnTo>
                                            <a:pt x="0" y="357"/>
                                          </a:lnTo>
                                          <a:lnTo>
                                            <a:pt x="116" y="263"/>
                                          </a:lnTo>
                                          <a:lnTo>
                                            <a:pt x="159" y="190"/>
                                          </a:lnTo>
                                          <a:lnTo>
                                            <a:pt x="146" y="177"/>
                                          </a:lnTo>
                                          <a:lnTo>
                                            <a:pt x="146" y="147"/>
                                          </a:lnTo>
                                          <a:lnTo>
                                            <a:pt x="328" y="73"/>
                                          </a:lnTo>
                                          <a:lnTo>
                                            <a:pt x="328" y="18"/>
                                          </a:lnTo>
                                          <a:lnTo>
                                            <a:pt x="379" y="0"/>
                                          </a:lnTo>
                                          <a:lnTo>
                                            <a:pt x="474" y="0"/>
                                          </a:lnTo>
                                          <a:lnTo>
                                            <a:pt x="487" y="9"/>
                                          </a:lnTo>
                                          <a:close/>
                                        </a:path>
                                      </a:pathLst>
                                    </a:custGeom>
                                    <a:blipFill rotWithShape="0">
                                      <a:blip r:embed="rId80"/>
                                      <a:srcRect/>
                                      <a:tile tx="0" ty="0" sx="100000" sy="100000" algn="ctr"/>
                                    </a:blipFill>
                                    <a:ln w="9360">
                                      <a:solidFill>
                                        <a:srgbClr val="c0c0c0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12240" bIns="-1224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01" name=""/>
                                    <p:cNvSpPr/>
                                    <p:nvPr/>
                                  </p:nvSpPr>
                                  <p:spPr>
                                    <a:xfrm rot="21030000">
                                      <a:off x="2434680" y="1720080"/>
                                      <a:ext cx="10800" cy="4464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108" h="464">
                                          <a:moveTo>
                                            <a:pt x="21" y="224"/>
                                          </a:moveTo>
                                          <a:lnTo>
                                            <a:pt x="21" y="232"/>
                                          </a:lnTo>
                                          <a:lnTo>
                                            <a:pt x="34" y="245"/>
                                          </a:lnTo>
                                          <a:lnTo>
                                            <a:pt x="64" y="151"/>
                                          </a:lnTo>
                                          <a:lnTo>
                                            <a:pt x="73" y="151"/>
                                          </a:lnTo>
                                          <a:lnTo>
                                            <a:pt x="73" y="421"/>
                                          </a:lnTo>
                                          <a:lnTo>
                                            <a:pt x="108" y="452"/>
                                          </a:lnTo>
                                          <a:lnTo>
                                            <a:pt x="95" y="464"/>
                                          </a:lnTo>
                                          <a:lnTo>
                                            <a:pt x="73" y="464"/>
                                          </a:lnTo>
                                          <a:lnTo>
                                            <a:pt x="51" y="413"/>
                                          </a:lnTo>
                                          <a:lnTo>
                                            <a:pt x="43" y="305"/>
                                          </a:lnTo>
                                          <a:lnTo>
                                            <a:pt x="0" y="254"/>
                                          </a:lnTo>
                                          <a:lnTo>
                                            <a:pt x="0" y="65"/>
                                          </a:lnTo>
                                          <a:lnTo>
                                            <a:pt x="34" y="0"/>
                                          </a:lnTo>
                                          <a:lnTo>
                                            <a:pt x="43" y="9"/>
                                          </a:lnTo>
                                          <a:lnTo>
                                            <a:pt x="21" y="224"/>
                                          </a:lnTo>
                                          <a:close/>
                                        </a:path>
                                      </a:pathLst>
                                    </a:custGeom>
                                    <a:blipFill rotWithShape="0">
                                      <a:blip r:embed="rId81"/>
                                      <a:srcRect/>
                                      <a:tile tx="0" ty="0" sx="100000" sy="100000" algn="ctr"/>
                                    </a:blipFill>
                                    <a:ln w="9360">
                                      <a:solidFill>
                                        <a:srgbClr val="c0c0c0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2160" bIns="-216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02" name=""/>
                                    <p:cNvSpPr/>
                                    <p:nvPr/>
                                  </p:nvSpPr>
                                  <p:spPr>
                                    <a:xfrm rot="21030000">
                                      <a:off x="2466000" y="1751760"/>
                                      <a:ext cx="25200" cy="2952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246" h="306">
                                          <a:moveTo>
                                            <a:pt x="65" y="73"/>
                                          </a:moveTo>
                                          <a:lnTo>
                                            <a:pt x="86" y="254"/>
                                          </a:lnTo>
                                          <a:lnTo>
                                            <a:pt x="108" y="276"/>
                                          </a:lnTo>
                                          <a:lnTo>
                                            <a:pt x="151" y="168"/>
                                          </a:lnTo>
                                          <a:lnTo>
                                            <a:pt x="151" y="159"/>
                                          </a:lnTo>
                                          <a:lnTo>
                                            <a:pt x="172" y="159"/>
                                          </a:lnTo>
                                          <a:lnTo>
                                            <a:pt x="224" y="276"/>
                                          </a:lnTo>
                                          <a:lnTo>
                                            <a:pt x="246" y="297"/>
                                          </a:lnTo>
                                          <a:lnTo>
                                            <a:pt x="233" y="306"/>
                                          </a:lnTo>
                                          <a:lnTo>
                                            <a:pt x="159" y="202"/>
                                          </a:lnTo>
                                          <a:lnTo>
                                            <a:pt x="121" y="297"/>
                                          </a:lnTo>
                                          <a:lnTo>
                                            <a:pt x="108" y="306"/>
                                          </a:lnTo>
                                          <a:lnTo>
                                            <a:pt x="56" y="241"/>
                                          </a:lnTo>
                                          <a:lnTo>
                                            <a:pt x="13" y="159"/>
                                          </a:lnTo>
                                          <a:lnTo>
                                            <a:pt x="0" y="0"/>
                                          </a:lnTo>
                                          <a:lnTo>
                                            <a:pt x="56" y="73"/>
                                          </a:lnTo>
                                          <a:lnTo>
                                            <a:pt x="65" y="73"/>
                                          </a:lnTo>
                                          <a:close/>
                                        </a:path>
                                      </a:pathLst>
                                    </a:custGeom>
                                    <a:blipFill rotWithShape="0">
                                      <a:blip r:embed="rId82"/>
                                      <a:srcRect/>
                                      <a:tile tx="0" ty="0" sx="100000" sy="100000" algn="ctr"/>
                                    </a:blipFill>
                                    <a:ln w="9360">
                                      <a:solidFill>
                                        <a:srgbClr val="c0c0c0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17280" bIns="-172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03" name=""/>
                                    <p:cNvSpPr/>
                                    <p:nvPr/>
                                  </p:nvSpPr>
                                  <p:spPr>
                                    <a:xfrm rot="21030000">
                                      <a:off x="2689200" y="1755000"/>
                                      <a:ext cx="35280" cy="1584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345" h="167">
                                          <a:moveTo>
                                            <a:pt x="284" y="73"/>
                                          </a:moveTo>
                                          <a:lnTo>
                                            <a:pt x="336" y="73"/>
                                          </a:lnTo>
                                          <a:lnTo>
                                            <a:pt x="345" y="64"/>
                                          </a:lnTo>
                                          <a:lnTo>
                                            <a:pt x="345" y="86"/>
                                          </a:lnTo>
                                          <a:lnTo>
                                            <a:pt x="315" y="107"/>
                                          </a:lnTo>
                                          <a:lnTo>
                                            <a:pt x="250" y="94"/>
                                          </a:lnTo>
                                          <a:lnTo>
                                            <a:pt x="198" y="150"/>
                                          </a:lnTo>
                                          <a:lnTo>
                                            <a:pt x="146" y="129"/>
                                          </a:lnTo>
                                          <a:lnTo>
                                            <a:pt x="116" y="94"/>
                                          </a:lnTo>
                                          <a:lnTo>
                                            <a:pt x="73" y="150"/>
                                          </a:lnTo>
                                          <a:lnTo>
                                            <a:pt x="51" y="167"/>
                                          </a:lnTo>
                                          <a:lnTo>
                                            <a:pt x="8" y="159"/>
                                          </a:lnTo>
                                          <a:lnTo>
                                            <a:pt x="0" y="94"/>
                                          </a:lnTo>
                                          <a:lnTo>
                                            <a:pt x="0" y="64"/>
                                          </a:lnTo>
                                          <a:lnTo>
                                            <a:pt x="21" y="64"/>
                                          </a:lnTo>
                                          <a:lnTo>
                                            <a:pt x="39" y="137"/>
                                          </a:lnTo>
                                          <a:lnTo>
                                            <a:pt x="103" y="73"/>
                                          </a:lnTo>
                                          <a:lnTo>
                                            <a:pt x="103" y="43"/>
                                          </a:lnTo>
                                          <a:lnTo>
                                            <a:pt x="116" y="34"/>
                                          </a:lnTo>
                                          <a:lnTo>
                                            <a:pt x="190" y="116"/>
                                          </a:lnTo>
                                          <a:lnTo>
                                            <a:pt x="198" y="129"/>
                                          </a:lnTo>
                                          <a:lnTo>
                                            <a:pt x="241" y="86"/>
                                          </a:lnTo>
                                          <a:lnTo>
                                            <a:pt x="220" y="0"/>
                                          </a:lnTo>
                                          <a:lnTo>
                                            <a:pt x="250" y="13"/>
                                          </a:lnTo>
                                          <a:lnTo>
                                            <a:pt x="284" y="73"/>
                                          </a:lnTo>
                                          <a:close/>
                                        </a:path>
                                      </a:pathLst>
                                    </a:custGeom>
                                    <a:blipFill rotWithShape="0">
                                      <a:blip r:embed="rId83"/>
                                      <a:srcRect/>
                                      <a:tile tx="0" ty="0" sx="100000" sy="100000" algn="ctr"/>
                                    </a:blipFill>
                                    <a:ln w="9360">
                                      <a:solidFill>
                                        <a:srgbClr val="c0c0c0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0960" bIns="-3096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04" name=""/>
                                    <p:cNvSpPr/>
                                    <p:nvPr/>
                                  </p:nvSpPr>
                                  <p:spPr>
                                    <a:xfrm rot="21030000">
                                      <a:off x="2648880" y="1779480"/>
                                      <a:ext cx="18000" cy="1224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177" h="129">
                                          <a:moveTo>
                                            <a:pt x="177" y="86"/>
                                          </a:moveTo>
                                          <a:lnTo>
                                            <a:pt x="134" y="95"/>
                                          </a:lnTo>
                                          <a:lnTo>
                                            <a:pt x="103" y="129"/>
                                          </a:lnTo>
                                          <a:lnTo>
                                            <a:pt x="30" y="108"/>
                                          </a:lnTo>
                                          <a:lnTo>
                                            <a:pt x="0" y="56"/>
                                          </a:lnTo>
                                          <a:lnTo>
                                            <a:pt x="0" y="43"/>
                                          </a:lnTo>
                                          <a:lnTo>
                                            <a:pt x="17" y="22"/>
                                          </a:lnTo>
                                          <a:lnTo>
                                            <a:pt x="82" y="108"/>
                                          </a:lnTo>
                                          <a:lnTo>
                                            <a:pt x="103" y="108"/>
                                          </a:lnTo>
                                          <a:lnTo>
                                            <a:pt x="112" y="0"/>
                                          </a:lnTo>
                                          <a:lnTo>
                                            <a:pt x="134" y="0"/>
                                          </a:lnTo>
                                          <a:lnTo>
                                            <a:pt x="177" y="86"/>
                                          </a:lnTo>
                                          <a:close/>
                                        </a:path>
                                      </a:pathLst>
                                    </a:custGeom>
                                    <a:blipFill rotWithShape="0">
                                      <a:blip r:embed="rId84"/>
                                      <a:srcRect/>
                                      <a:tile tx="0" ty="0" sx="100000" sy="100000" algn="ctr"/>
                                    </a:blipFill>
                                    <a:ln w="9360">
                                      <a:solidFill>
                                        <a:srgbClr val="c0c0c0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4560" bIns="-3456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05" name=""/>
                                    <p:cNvSpPr/>
                                    <p:nvPr/>
                                  </p:nvSpPr>
                                  <p:spPr>
                                    <a:xfrm rot="21030000">
                                      <a:off x="2551320" y="1591920"/>
                                      <a:ext cx="120960" cy="4068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1182" h="421">
                                          <a:moveTo>
                                            <a:pt x="121" y="189"/>
                                          </a:moveTo>
                                          <a:lnTo>
                                            <a:pt x="138" y="189"/>
                                          </a:lnTo>
                                          <a:lnTo>
                                            <a:pt x="155" y="180"/>
                                          </a:lnTo>
                                          <a:lnTo>
                                            <a:pt x="177" y="167"/>
                                          </a:lnTo>
                                          <a:lnTo>
                                            <a:pt x="199" y="154"/>
                                          </a:lnTo>
                                          <a:lnTo>
                                            <a:pt x="220" y="137"/>
                                          </a:lnTo>
                                          <a:lnTo>
                                            <a:pt x="242" y="129"/>
                                          </a:lnTo>
                                          <a:lnTo>
                                            <a:pt x="259" y="120"/>
                                          </a:lnTo>
                                          <a:lnTo>
                                            <a:pt x="272" y="116"/>
                                          </a:lnTo>
                                          <a:lnTo>
                                            <a:pt x="276" y="103"/>
                                          </a:lnTo>
                                          <a:lnTo>
                                            <a:pt x="281" y="90"/>
                                          </a:lnTo>
                                          <a:lnTo>
                                            <a:pt x="289" y="81"/>
                                          </a:lnTo>
                                          <a:lnTo>
                                            <a:pt x="298" y="68"/>
                                          </a:lnTo>
                                          <a:lnTo>
                                            <a:pt x="324" y="51"/>
                                          </a:lnTo>
                                          <a:lnTo>
                                            <a:pt x="358" y="38"/>
                                          </a:lnTo>
                                          <a:lnTo>
                                            <a:pt x="401" y="25"/>
                                          </a:lnTo>
                                          <a:lnTo>
                                            <a:pt x="449" y="17"/>
                                          </a:lnTo>
                                          <a:lnTo>
                                            <a:pt x="501" y="8"/>
                                          </a:lnTo>
                                          <a:lnTo>
                                            <a:pt x="557" y="4"/>
                                          </a:lnTo>
                                          <a:lnTo>
                                            <a:pt x="669" y="0"/>
                                          </a:lnTo>
                                          <a:lnTo>
                                            <a:pt x="772" y="0"/>
                                          </a:lnTo>
                                          <a:lnTo>
                                            <a:pt x="816" y="4"/>
                                          </a:lnTo>
                                          <a:lnTo>
                                            <a:pt x="854" y="8"/>
                                          </a:lnTo>
                                          <a:lnTo>
                                            <a:pt x="889" y="17"/>
                                          </a:lnTo>
                                          <a:lnTo>
                                            <a:pt x="910" y="25"/>
                                          </a:lnTo>
                                          <a:lnTo>
                                            <a:pt x="910" y="25"/>
                                          </a:lnTo>
                                          <a:lnTo>
                                            <a:pt x="910" y="30"/>
                                          </a:lnTo>
                                          <a:lnTo>
                                            <a:pt x="910" y="30"/>
                                          </a:lnTo>
                                          <a:lnTo>
                                            <a:pt x="910" y="34"/>
                                          </a:lnTo>
                                          <a:lnTo>
                                            <a:pt x="910" y="34"/>
                                          </a:lnTo>
                                          <a:lnTo>
                                            <a:pt x="910" y="34"/>
                                          </a:lnTo>
                                          <a:lnTo>
                                            <a:pt x="910" y="38"/>
                                          </a:lnTo>
                                          <a:lnTo>
                                            <a:pt x="910" y="38"/>
                                          </a:lnTo>
                                          <a:lnTo>
                                            <a:pt x="928" y="47"/>
                                          </a:lnTo>
                                          <a:lnTo>
                                            <a:pt x="954" y="60"/>
                                          </a:lnTo>
                                          <a:lnTo>
                                            <a:pt x="984" y="77"/>
                                          </a:lnTo>
                                          <a:lnTo>
                                            <a:pt x="1014" y="90"/>
                                          </a:lnTo>
                                          <a:lnTo>
                                            <a:pt x="1044" y="107"/>
                                          </a:lnTo>
                                          <a:lnTo>
                                            <a:pt x="1074" y="120"/>
                                          </a:lnTo>
                                          <a:lnTo>
                                            <a:pt x="1100" y="129"/>
                                          </a:lnTo>
                                          <a:lnTo>
                                            <a:pt x="1122" y="129"/>
                                          </a:lnTo>
                                          <a:lnTo>
                                            <a:pt x="1126" y="137"/>
                                          </a:lnTo>
                                          <a:lnTo>
                                            <a:pt x="1135" y="146"/>
                                          </a:lnTo>
                                          <a:lnTo>
                                            <a:pt x="1143" y="150"/>
                                          </a:lnTo>
                                          <a:lnTo>
                                            <a:pt x="1152" y="159"/>
                                          </a:lnTo>
                                          <a:lnTo>
                                            <a:pt x="1161" y="167"/>
                                          </a:lnTo>
                                          <a:lnTo>
                                            <a:pt x="1169" y="172"/>
                                          </a:lnTo>
                                          <a:lnTo>
                                            <a:pt x="1174" y="176"/>
                                          </a:lnTo>
                                          <a:lnTo>
                                            <a:pt x="1182" y="176"/>
                                          </a:lnTo>
                                          <a:lnTo>
                                            <a:pt x="1182" y="197"/>
                                          </a:lnTo>
                                          <a:lnTo>
                                            <a:pt x="1182" y="219"/>
                                          </a:lnTo>
                                          <a:lnTo>
                                            <a:pt x="1182" y="236"/>
                                          </a:lnTo>
                                          <a:lnTo>
                                            <a:pt x="1182" y="258"/>
                                          </a:lnTo>
                                          <a:lnTo>
                                            <a:pt x="1182" y="279"/>
                                          </a:lnTo>
                                          <a:lnTo>
                                            <a:pt x="1182" y="301"/>
                                          </a:lnTo>
                                          <a:lnTo>
                                            <a:pt x="1182" y="322"/>
                                          </a:lnTo>
                                          <a:lnTo>
                                            <a:pt x="1182" y="339"/>
                                          </a:lnTo>
                                          <a:lnTo>
                                            <a:pt x="1161" y="356"/>
                                          </a:lnTo>
                                          <a:lnTo>
                                            <a:pt x="1139" y="374"/>
                                          </a:lnTo>
                                          <a:lnTo>
                                            <a:pt x="1109" y="382"/>
                                          </a:lnTo>
                                          <a:lnTo>
                                            <a:pt x="1079" y="395"/>
                                          </a:lnTo>
                                          <a:lnTo>
                                            <a:pt x="1005" y="412"/>
                                          </a:lnTo>
                                          <a:lnTo>
                                            <a:pt x="928" y="417"/>
                                          </a:lnTo>
                                          <a:lnTo>
                                            <a:pt x="850" y="421"/>
                                          </a:lnTo>
                                          <a:lnTo>
                                            <a:pt x="772" y="412"/>
                                          </a:lnTo>
                                          <a:lnTo>
                                            <a:pt x="738" y="404"/>
                                          </a:lnTo>
                                          <a:lnTo>
                                            <a:pt x="708" y="395"/>
                                          </a:lnTo>
                                          <a:lnTo>
                                            <a:pt x="677" y="387"/>
                                          </a:lnTo>
                                          <a:lnTo>
                                            <a:pt x="652" y="374"/>
                                          </a:lnTo>
                                          <a:lnTo>
                                            <a:pt x="652" y="369"/>
                                          </a:lnTo>
                                          <a:lnTo>
                                            <a:pt x="652" y="369"/>
                                          </a:lnTo>
                                          <a:lnTo>
                                            <a:pt x="652" y="365"/>
                                          </a:lnTo>
                                          <a:lnTo>
                                            <a:pt x="652" y="365"/>
                                          </a:lnTo>
                                          <a:lnTo>
                                            <a:pt x="652" y="361"/>
                                          </a:lnTo>
                                          <a:lnTo>
                                            <a:pt x="652" y="361"/>
                                          </a:lnTo>
                                          <a:lnTo>
                                            <a:pt x="652" y="356"/>
                                          </a:lnTo>
                                          <a:lnTo>
                                            <a:pt x="652" y="356"/>
                                          </a:lnTo>
                                          <a:lnTo>
                                            <a:pt x="643" y="356"/>
                                          </a:lnTo>
                                          <a:lnTo>
                                            <a:pt x="630" y="356"/>
                                          </a:lnTo>
                                          <a:lnTo>
                                            <a:pt x="617" y="356"/>
                                          </a:lnTo>
                                          <a:lnTo>
                                            <a:pt x="600" y="356"/>
                                          </a:lnTo>
                                          <a:lnTo>
                                            <a:pt x="587" y="361"/>
                                          </a:lnTo>
                                          <a:lnTo>
                                            <a:pt x="574" y="361"/>
                                          </a:lnTo>
                                          <a:lnTo>
                                            <a:pt x="565" y="365"/>
                                          </a:lnTo>
                                          <a:lnTo>
                                            <a:pt x="561" y="374"/>
                                          </a:lnTo>
                                          <a:lnTo>
                                            <a:pt x="501" y="374"/>
                                          </a:lnTo>
                                          <a:lnTo>
                                            <a:pt x="440" y="374"/>
                                          </a:lnTo>
                                          <a:lnTo>
                                            <a:pt x="380" y="374"/>
                                          </a:lnTo>
                                          <a:lnTo>
                                            <a:pt x="319" y="374"/>
                                          </a:lnTo>
                                          <a:lnTo>
                                            <a:pt x="259" y="374"/>
                                          </a:lnTo>
                                          <a:lnTo>
                                            <a:pt x="199" y="374"/>
                                          </a:lnTo>
                                          <a:lnTo>
                                            <a:pt x="138" y="374"/>
                                          </a:lnTo>
                                          <a:lnTo>
                                            <a:pt x="78" y="374"/>
                                          </a:lnTo>
                                          <a:lnTo>
                                            <a:pt x="69" y="369"/>
                                          </a:lnTo>
                                          <a:lnTo>
                                            <a:pt x="65" y="369"/>
                                          </a:lnTo>
                                          <a:lnTo>
                                            <a:pt x="61" y="365"/>
                                          </a:lnTo>
                                          <a:lnTo>
                                            <a:pt x="56" y="365"/>
                                          </a:lnTo>
                                          <a:lnTo>
                                            <a:pt x="48" y="361"/>
                                          </a:lnTo>
                                          <a:lnTo>
                                            <a:pt x="43" y="361"/>
                                          </a:lnTo>
                                          <a:lnTo>
                                            <a:pt x="39" y="356"/>
                                          </a:lnTo>
                                          <a:lnTo>
                                            <a:pt x="30" y="356"/>
                                          </a:lnTo>
                                          <a:lnTo>
                                            <a:pt x="26" y="352"/>
                                          </a:lnTo>
                                          <a:lnTo>
                                            <a:pt x="26" y="348"/>
                                          </a:lnTo>
                                          <a:lnTo>
                                            <a:pt x="22" y="344"/>
                                          </a:lnTo>
                                          <a:lnTo>
                                            <a:pt x="17" y="339"/>
                                          </a:lnTo>
                                          <a:lnTo>
                                            <a:pt x="13" y="339"/>
                                          </a:lnTo>
                                          <a:lnTo>
                                            <a:pt x="9" y="335"/>
                                          </a:lnTo>
                                          <a:lnTo>
                                            <a:pt x="4" y="331"/>
                                          </a:lnTo>
                                          <a:lnTo>
                                            <a:pt x="0" y="326"/>
                                          </a:lnTo>
                                          <a:lnTo>
                                            <a:pt x="0" y="318"/>
                                          </a:lnTo>
                                          <a:lnTo>
                                            <a:pt x="0" y="309"/>
                                          </a:lnTo>
                                          <a:lnTo>
                                            <a:pt x="0" y="305"/>
                                          </a:lnTo>
                                          <a:lnTo>
                                            <a:pt x="0" y="296"/>
                                          </a:lnTo>
                                          <a:lnTo>
                                            <a:pt x="0" y="288"/>
                                          </a:lnTo>
                                          <a:lnTo>
                                            <a:pt x="0" y="279"/>
                                          </a:lnTo>
                                          <a:lnTo>
                                            <a:pt x="0" y="275"/>
                                          </a:lnTo>
                                          <a:lnTo>
                                            <a:pt x="0" y="266"/>
                                          </a:lnTo>
                                          <a:lnTo>
                                            <a:pt x="9" y="258"/>
                                          </a:lnTo>
                                          <a:lnTo>
                                            <a:pt x="13" y="253"/>
                                          </a:lnTo>
                                          <a:lnTo>
                                            <a:pt x="22" y="245"/>
                                          </a:lnTo>
                                          <a:lnTo>
                                            <a:pt x="30" y="232"/>
                                          </a:lnTo>
                                          <a:lnTo>
                                            <a:pt x="35" y="223"/>
                                          </a:lnTo>
                                          <a:lnTo>
                                            <a:pt x="43" y="215"/>
                                          </a:lnTo>
                                          <a:lnTo>
                                            <a:pt x="43" y="202"/>
                                          </a:lnTo>
                                          <a:lnTo>
                                            <a:pt x="48" y="189"/>
                                          </a:lnTo>
                                          <a:lnTo>
                                            <a:pt x="52" y="189"/>
                                          </a:lnTo>
                                          <a:lnTo>
                                            <a:pt x="61" y="180"/>
                                          </a:lnTo>
                                          <a:lnTo>
                                            <a:pt x="73" y="172"/>
                                          </a:lnTo>
                                          <a:lnTo>
                                            <a:pt x="86" y="163"/>
                                          </a:lnTo>
                                          <a:lnTo>
                                            <a:pt x="95" y="159"/>
                                          </a:lnTo>
                                          <a:lnTo>
                                            <a:pt x="108" y="159"/>
                                          </a:lnTo>
                                          <a:lnTo>
                                            <a:pt x="117" y="167"/>
                                          </a:lnTo>
                                          <a:lnTo>
                                            <a:pt x="121" y="189"/>
                                          </a:lnTo>
                                          <a:close/>
                                        </a:path>
                                      </a:pathLst>
                                    </a:custGeom>
                                    <a:blipFill rotWithShape="0">
                                      <a:blip r:embed="rId85"/>
                                      <a:srcRect/>
                                      <a:tile tx="0" ty="0" sx="100000" sy="100000" algn="ctr"/>
                                    </a:blipFill>
                                    <a:ln w="9360">
                                      <a:solidFill>
                                        <a:srgbClr val="c0c0c0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6120" bIns="-612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06" name=""/>
                                    <p:cNvSpPr/>
                                    <p:nvPr/>
                                  </p:nvSpPr>
                                  <p:spPr>
                                    <a:xfrm rot="21030000">
                                      <a:off x="2733840" y="1575720"/>
                                      <a:ext cx="65520" cy="3528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642" h="366">
                                          <a:moveTo>
                                            <a:pt x="21" y="48"/>
                                          </a:moveTo>
                                          <a:lnTo>
                                            <a:pt x="43" y="35"/>
                                          </a:lnTo>
                                          <a:lnTo>
                                            <a:pt x="64" y="22"/>
                                          </a:lnTo>
                                          <a:lnTo>
                                            <a:pt x="90" y="13"/>
                                          </a:lnTo>
                                          <a:lnTo>
                                            <a:pt x="116" y="9"/>
                                          </a:lnTo>
                                          <a:lnTo>
                                            <a:pt x="142" y="5"/>
                                          </a:lnTo>
                                          <a:lnTo>
                                            <a:pt x="172" y="0"/>
                                          </a:lnTo>
                                          <a:lnTo>
                                            <a:pt x="202" y="5"/>
                                          </a:lnTo>
                                          <a:lnTo>
                                            <a:pt x="233" y="5"/>
                                          </a:lnTo>
                                          <a:lnTo>
                                            <a:pt x="293" y="18"/>
                                          </a:lnTo>
                                          <a:lnTo>
                                            <a:pt x="349" y="35"/>
                                          </a:lnTo>
                                          <a:lnTo>
                                            <a:pt x="397" y="61"/>
                                          </a:lnTo>
                                          <a:lnTo>
                                            <a:pt x="440" y="86"/>
                                          </a:lnTo>
                                          <a:lnTo>
                                            <a:pt x="440" y="95"/>
                                          </a:lnTo>
                                          <a:lnTo>
                                            <a:pt x="461" y="108"/>
                                          </a:lnTo>
                                          <a:lnTo>
                                            <a:pt x="496" y="121"/>
                                          </a:lnTo>
                                          <a:lnTo>
                                            <a:pt x="539" y="134"/>
                                          </a:lnTo>
                                          <a:lnTo>
                                            <a:pt x="578" y="151"/>
                                          </a:lnTo>
                                          <a:lnTo>
                                            <a:pt x="595" y="160"/>
                                          </a:lnTo>
                                          <a:lnTo>
                                            <a:pt x="612" y="168"/>
                                          </a:lnTo>
                                          <a:lnTo>
                                            <a:pt x="625" y="181"/>
                                          </a:lnTo>
                                          <a:lnTo>
                                            <a:pt x="634" y="194"/>
                                          </a:lnTo>
                                          <a:lnTo>
                                            <a:pt x="638" y="207"/>
                                          </a:lnTo>
                                          <a:lnTo>
                                            <a:pt x="642" y="220"/>
                                          </a:lnTo>
                                          <a:lnTo>
                                            <a:pt x="638" y="237"/>
                                          </a:lnTo>
                                          <a:lnTo>
                                            <a:pt x="629" y="258"/>
                                          </a:lnTo>
                                          <a:lnTo>
                                            <a:pt x="617" y="258"/>
                                          </a:lnTo>
                                          <a:lnTo>
                                            <a:pt x="599" y="263"/>
                                          </a:lnTo>
                                          <a:lnTo>
                                            <a:pt x="586" y="267"/>
                                          </a:lnTo>
                                          <a:lnTo>
                                            <a:pt x="573" y="271"/>
                                          </a:lnTo>
                                          <a:lnTo>
                                            <a:pt x="556" y="276"/>
                                          </a:lnTo>
                                          <a:lnTo>
                                            <a:pt x="543" y="280"/>
                                          </a:lnTo>
                                          <a:lnTo>
                                            <a:pt x="530" y="284"/>
                                          </a:lnTo>
                                          <a:lnTo>
                                            <a:pt x="513" y="284"/>
                                          </a:lnTo>
                                          <a:lnTo>
                                            <a:pt x="500" y="297"/>
                                          </a:lnTo>
                                          <a:lnTo>
                                            <a:pt x="478" y="314"/>
                                          </a:lnTo>
                                          <a:lnTo>
                                            <a:pt x="453" y="327"/>
                                          </a:lnTo>
                                          <a:lnTo>
                                            <a:pt x="427" y="344"/>
                                          </a:lnTo>
                                          <a:lnTo>
                                            <a:pt x="397" y="357"/>
                                          </a:lnTo>
                                          <a:lnTo>
                                            <a:pt x="371" y="366"/>
                                          </a:lnTo>
                                          <a:lnTo>
                                            <a:pt x="345" y="366"/>
                                          </a:lnTo>
                                          <a:lnTo>
                                            <a:pt x="323" y="362"/>
                                          </a:lnTo>
                                          <a:lnTo>
                                            <a:pt x="323" y="353"/>
                                          </a:lnTo>
                                          <a:lnTo>
                                            <a:pt x="310" y="344"/>
                                          </a:lnTo>
                                          <a:lnTo>
                                            <a:pt x="293" y="336"/>
                                          </a:lnTo>
                                          <a:lnTo>
                                            <a:pt x="276" y="332"/>
                                          </a:lnTo>
                                          <a:lnTo>
                                            <a:pt x="250" y="327"/>
                                          </a:lnTo>
                                          <a:lnTo>
                                            <a:pt x="228" y="319"/>
                                          </a:lnTo>
                                          <a:lnTo>
                                            <a:pt x="207" y="319"/>
                                          </a:lnTo>
                                          <a:lnTo>
                                            <a:pt x="189" y="314"/>
                                          </a:lnTo>
                                          <a:lnTo>
                                            <a:pt x="172" y="314"/>
                                          </a:lnTo>
                                          <a:lnTo>
                                            <a:pt x="164" y="306"/>
                                          </a:lnTo>
                                          <a:lnTo>
                                            <a:pt x="151" y="297"/>
                                          </a:lnTo>
                                          <a:lnTo>
                                            <a:pt x="133" y="284"/>
                                          </a:lnTo>
                                          <a:lnTo>
                                            <a:pt x="112" y="271"/>
                                          </a:lnTo>
                                          <a:lnTo>
                                            <a:pt x="95" y="263"/>
                                          </a:lnTo>
                                          <a:lnTo>
                                            <a:pt x="77" y="254"/>
                                          </a:lnTo>
                                          <a:lnTo>
                                            <a:pt x="60" y="250"/>
                                          </a:lnTo>
                                          <a:lnTo>
                                            <a:pt x="47" y="246"/>
                                          </a:lnTo>
                                          <a:lnTo>
                                            <a:pt x="47" y="237"/>
                                          </a:lnTo>
                                          <a:lnTo>
                                            <a:pt x="43" y="228"/>
                                          </a:lnTo>
                                          <a:lnTo>
                                            <a:pt x="38" y="220"/>
                                          </a:lnTo>
                                          <a:lnTo>
                                            <a:pt x="34" y="211"/>
                                          </a:lnTo>
                                          <a:lnTo>
                                            <a:pt x="30" y="203"/>
                                          </a:lnTo>
                                          <a:lnTo>
                                            <a:pt x="25" y="190"/>
                                          </a:lnTo>
                                          <a:lnTo>
                                            <a:pt x="21" y="181"/>
                                          </a:lnTo>
                                          <a:lnTo>
                                            <a:pt x="21" y="172"/>
                                          </a:lnTo>
                                          <a:lnTo>
                                            <a:pt x="13" y="168"/>
                                          </a:lnTo>
                                          <a:lnTo>
                                            <a:pt x="8" y="160"/>
                                          </a:lnTo>
                                          <a:lnTo>
                                            <a:pt x="4" y="147"/>
                                          </a:lnTo>
                                          <a:lnTo>
                                            <a:pt x="4" y="129"/>
                                          </a:lnTo>
                                          <a:lnTo>
                                            <a:pt x="0" y="117"/>
                                          </a:lnTo>
                                          <a:lnTo>
                                            <a:pt x="0" y="99"/>
                                          </a:lnTo>
                                          <a:lnTo>
                                            <a:pt x="0" y="86"/>
                                          </a:lnTo>
                                          <a:lnTo>
                                            <a:pt x="0" y="78"/>
                                          </a:lnTo>
                                          <a:lnTo>
                                            <a:pt x="4" y="74"/>
                                          </a:lnTo>
                                          <a:lnTo>
                                            <a:pt x="8" y="69"/>
                                          </a:lnTo>
                                          <a:lnTo>
                                            <a:pt x="13" y="65"/>
                                          </a:lnTo>
                                          <a:lnTo>
                                            <a:pt x="13" y="56"/>
                                          </a:lnTo>
                                          <a:lnTo>
                                            <a:pt x="17" y="48"/>
                                          </a:lnTo>
                                          <a:lnTo>
                                            <a:pt x="17" y="39"/>
                                          </a:lnTo>
                                          <a:lnTo>
                                            <a:pt x="21" y="35"/>
                                          </a:lnTo>
                                          <a:lnTo>
                                            <a:pt x="21" y="31"/>
                                          </a:lnTo>
                                          <a:lnTo>
                                            <a:pt x="21" y="48"/>
                                          </a:lnTo>
                                          <a:close/>
                                        </a:path>
                                      </a:pathLst>
                                    </a:custGeom>
                                    <a:blipFill rotWithShape="0">
                                      <a:blip r:embed="rId86"/>
                                      <a:srcRect/>
                                      <a:tile tx="0" ty="0" sx="100000" sy="100000" algn="ctr"/>
                                    </a:blipFill>
                                    <a:ln w="9360">
                                      <a:solidFill>
                                        <a:srgbClr val="c0c0c0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11520" bIns="-1152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grpSp>
                                  <p:nvGrpSpPr>
                                    <p:cNvPr id="207" name="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2499480" y="1754640"/>
                                      <a:ext cx="327240" cy="316800"/>
                                      <a:chOff x="2499480" y="1754640"/>
                                      <a:chExt cx="327240" cy="316800"/>
                                    </a:xfrm>
                                  </p:grpSpPr>
                                  <p:sp>
                                    <p:nvSpPr>
                                      <p:cNvPr id="208" name=""/>
                                      <p:cNvSpPr/>
                                      <p:nvPr/>
                                    </p:nvSpPr>
                                    <p:spPr>
                                      <a:xfrm rot="21030000">
                                        <a:off x="2661840" y="1764000"/>
                                        <a:ext cx="141120" cy="297360"/>
                                      </a:xfrm>
                                      <a:custGeom>
                                        <a:avLst/>
                                        <a:gdLst/>
                                        <a:ahLst/>
                                        <a:rect l="l" t="t" r="r" b="b"/>
                                        <a:pathLst>
                                          <a:path w="1376" h="3070">
                                            <a:moveTo>
                                              <a:pt x="1186" y="516"/>
                                            </a:moveTo>
                                            <a:lnTo>
                                              <a:pt x="1259" y="675"/>
                                            </a:lnTo>
                                            <a:lnTo>
                                              <a:pt x="1376" y="782"/>
                                            </a:lnTo>
                                            <a:lnTo>
                                              <a:pt x="1229" y="1088"/>
                                            </a:lnTo>
                                            <a:lnTo>
                                              <a:pt x="1238" y="1195"/>
                                            </a:lnTo>
                                            <a:lnTo>
                                              <a:pt x="1259" y="1307"/>
                                            </a:lnTo>
                                            <a:lnTo>
                                              <a:pt x="1203" y="1479"/>
                                            </a:lnTo>
                                            <a:lnTo>
                                              <a:pt x="832" y="2098"/>
                                            </a:lnTo>
                                            <a:lnTo>
                                              <a:pt x="664" y="2545"/>
                                            </a:lnTo>
                                            <a:lnTo>
                                              <a:pt x="642" y="2683"/>
                                            </a:lnTo>
                                            <a:lnTo>
                                              <a:pt x="664" y="2829"/>
                                            </a:lnTo>
                                            <a:lnTo>
                                              <a:pt x="664" y="2872"/>
                                            </a:lnTo>
                                            <a:lnTo>
                                              <a:pt x="569" y="2851"/>
                                            </a:lnTo>
                                            <a:lnTo>
                                              <a:pt x="517" y="2851"/>
                                            </a:lnTo>
                                            <a:lnTo>
                                              <a:pt x="517" y="2932"/>
                                            </a:lnTo>
                                            <a:lnTo>
                                              <a:pt x="569" y="3006"/>
                                            </a:lnTo>
                                            <a:lnTo>
                                              <a:pt x="569" y="3040"/>
                                            </a:lnTo>
                                            <a:lnTo>
                                              <a:pt x="466" y="3070"/>
                                            </a:lnTo>
                                            <a:lnTo>
                                              <a:pt x="0" y="3070"/>
                                            </a:lnTo>
                                            <a:lnTo>
                                              <a:pt x="30" y="2988"/>
                                            </a:lnTo>
                                            <a:lnTo>
                                              <a:pt x="159" y="2894"/>
                                            </a:lnTo>
                                            <a:lnTo>
                                              <a:pt x="284" y="2838"/>
                                            </a:lnTo>
                                            <a:lnTo>
                                              <a:pt x="435" y="2610"/>
                                            </a:lnTo>
                                            <a:lnTo>
                                              <a:pt x="466" y="2468"/>
                                            </a:lnTo>
                                            <a:lnTo>
                                              <a:pt x="655" y="2060"/>
                                            </a:lnTo>
                                            <a:lnTo>
                                              <a:pt x="686" y="1763"/>
                                            </a:lnTo>
                                            <a:lnTo>
                                              <a:pt x="642" y="1341"/>
                                            </a:lnTo>
                                            <a:lnTo>
                                              <a:pt x="517" y="877"/>
                                            </a:lnTo>
                                            <a:lnTo>
                                              <a:pt x="517" y="666"/>
                                            </a:lnTo>
                                            <a:lnTo>
                                              <a:pt x="560" y="348"/>
                                            </a:lnTo>
                                            <a:lnTo>
                                              <a:pt x="612" y="223"/>
                                            </a:lnTo>
                                            <a:lnTo>
                                              <a:pt x="642" y="241"/>
                                            </a:lnTo>
                                            <a:lnTo>
                                              <a:pt x="750" y="180"/>
                                            </a:lnTo>
                                            <a:lnTo>
                                              <a:pt x="845" y="180"/>
                                            </a:lnTo>
                                            <a:lnTo>
                                              <a:pt x="910" y="129"/>
                                            </a:lnTo>
                                            <a:lnTo>
                                              <a:pt x="919" y="129"/>
                                            </a:lnTo>
                                            <a:lnTo>
                                              <a:pt x="927" y="137"/>
                                            </a:lnTo>
                                            <a:lnTo>
                                              <a:pt x="1070" y="21"/>
                                            </a:lnTo>
                                            <a:lnTo>
                                              <a:pt x="1130" y="0"/>
                                            </a:lnTo>
                                            <a:lnTo>
                                              <a:pt x="1173" y="211"/>
                                            </a:lnTo>
                                            <a:lnTo>
                                              <a:pt x="1186" y="516"/>
                                            </a:lnTo>
                                            <a:close/>
                                          </a:path>
                                        </a:pathLst>
                                      </a:custGeom>
                                      <a:blipFill rotWithShape="0">
                                        <a:blip r:embed="rId87"/>
                                        <a:srcRect/>
                                        <a:tile tx="0" ty="0" sx="100000" sy="100000" algn="ctr"/>
                                      </a:blipFill>
                                      <a:ln w="9360">
                                        <a:solidFill>
                                          <a:srgbClr val="c0c0c0"/>
                                        </a:solidFill>
                                        <a:round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  <p:sp>
                                    <p:nvSpPr>
                                      <p:cNvPr id="209" name=""/>
                                      <p:cNvSpPr/>
                                      <p:nvPr/>
                                    </p:nvSpPr>
                                    <p:spPr>
                                      <a:xfrm rot="21030000">
                                        <a:off x="2512440" y="1787040"/>
                                        <a:ext cx="165960" cy="173520"/>
                                      </a:xfrm>
                                      <a:custGeom>
                                        <a:avLst/>
                                        <a:gdLst/>
                                        <a:ahLst/>
                                        <a:rect l="l" t="t" r="r" b="b"/>
                                        <a:pathLst>
                                          <a:path w="1618" h="1793">
                                            <a:moveTo>
                                              <a:pt x="561" y="103"/>
                                            </a:moveTo>
                                            <a:lnTo>
                                              <a:pt x="613" y="167"/>
                                            </a:lnTo>
                                            <a:lnTo>
                                              <a:pt x="656" y="155"/>
                                            </a:lnTo>
                                            <a:lnTo>
                                              <a:pt x="686" y="155"/>
                                            </a:lnTo>
                                            <a:lnTo>
                                              <a:pt x="764" y="0"/>
                                            </a:lnTo>
                                            <a:lnTo>
                                              <a:pt x="846" y="94"/>
                                            </a:lnTo>
                                            <a:lnTo>
                                              <a:pt x="867" y="133"/>
                                            </a:lnTo>
                                            <a:lnTo>
                                              <a:pt x="889" y="155"/>
                                            </a:lnTo>
                                            <a:lnTo>
                                              <a:pt x="911" y="155"/>
                                            </a:lnTo>
                                            <a:lnTo>
                                              <a:pt x="962" y="60"/>
                                            </a:lnTo>
                                            <a:lnTo>
                                              <a:pt x="1006" y="30"/>
                                            </a:lnTo>
                                            <a:lnTo>
                                              <a:pt x="1057" y="133"/>
                                            </a:lnTo>
                                            <a:lnTo>
                                              <a:pt x="997" y="253"/>
                                            </a:lnTo>
                                            <a:lnTo>
                                              <a:pt x="932" y="305"/>
                                            </a:lnTo>
                                            <a:lnTo>
                                              <a:pt x="233" y="1066"/>
                                            </a:lnTo>
                                            <a:lnTo>
                                              <a:pt x="276" y="1169"/>
                                            </a:lnTo>
                                            <a:lnTo>
                                              <a:pt x="255" y="1191"/>
                                            </a:lnTo>
                                            <a:lnTo>
                                              <a:pt x="263" y="1199"/>
                                            </a:lnTo>
                                            <a:lnTo>
                                              <a:pt x="263" y="1221"/>
                                            </a:lnTo>
                                            <a:lnTo>
                                              <a:pt x="255" y="1221"/>
                                            </a:lnTo>
                                            <a:lnTo>
                                              <a:pt x="255" y="1264"/>
                                            </a:lnTo>
                                            <a:lnTo>
                                              <a:pt x="656" y="1475"/>
                                            </a:lnTo>
                                            <a:lnTo>
                                              <a:pt x="924" y="1483"/>
                                            </a:lnTo>
                                            <a:lnTo>
                                              <a:pt x="997" y="1453"/>
                                            </a:lnTo>
                                            <a:lnTo>
                                              <a:pt x="1006" y="1453"/>
                                            </a:lnTo>
                                            <a:lnTo>
                                              <a:pt x="1018" y="1445"/>
                                            </a:lnTo>
                                            <a:lnTo>
                                              <a:pt x="1057" y="1518"/>
                                            </a:lnTo>
                                            <a:lnTo>
                                              <a:pt x="1113" y="1531"/>
                                            </a:lnTo>
                                            <a:lnTo>
                                              <a:pt x="1290" y="1359"/>
                                            </a:lnTo>
                                            <a:lnTo>
                                              <a:pt x="1450" y="1380"/>
                                            </a:lnTo>
                                            <a:lnTo>
                                              <a:pt x="1545" y="1445"/>
                                            </a:lnTo>
                                            <a:lnTo>
                                              <a:pt x="1588" y="1466"/>
                                            </a:lnTo>
                                            <a:lnTo>
                                              <a:pt x="1618" y="1496"/>
                                            </a:lnTo>
                                            <a:lnTo>
                                              <a:pt x="1618" y="1518"/>
                                            </a:lnTo>
                                            <a:lnTo>
                                              <a:pt x="1131" y="1758"/>
                                            </a:lnTo>
                                            <a:lnTo>
                                              <a:pt x="997" y="1793"/>
                                            </a:lnTo>
                                            <a:lnTo>
                                              <a:pt x="380" y="1582"/>
                                            </a:lnTo>
                                            <a:lnTo>
                                              <a:pt x="43" y="1350"/>
                                            </a:lnTo>
                                            <a:lnTo>
                                              <a:pt x="0" y="1285"/>
                                            </a:lnTo>
                                            <a:lnTo>
                                              <a:pt x="9" y="937"/>
                                            </a:lnTo>
                                            <a:lnTo>
                                              <a:pt x="432" y="51"/>
                                            </a:lnTo>
                                            <a:lnTo>
                                              <a:pt x="479" y="0"/>
                                            </a:lnTo>
                                            <a:lnTo>
                                              <a:pt x="496" y="81"/>
                                            </a:lnTo>
                                            <a:lnTo>
                                              <a:pt x="561" y="103"/>
                                            </a:lnTo>
                                            <a:close/>
                                          </a:path>
                                        </a:pathLst>
                                      </a:custGeom>
                                      <a:blipFill rotWithShape="0">
                                        <a:blip r:embed="rId88"/>
                                        <a:srcRect/>
                                        <a:tile tx="0" ty="0" sx="100000" sy="100000" algn="ctr"/>
                                      </a:blipFill>
                                      <a:ln w="9360">
                                        <a:solidFill>
                                          <a:srgbClr val="c0c0c0"/>
                                        </a:solidFill>
                                        <a:round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  <p:sp>
                                    <p:nvSpPr>
                                      <p:cNvPr id="210" name=""/>
                                      <p:cNvSpPr/>
                                      <p:nvPr/>
                                    </p:nvSpPr>
                                    <p:spPr>
                                      <a:xfrm rot="21030000">
                                        <a:off x="2705400" y="1760400"/>
                                        <a:ext cx="84960" cy="147960"/>
                                      </a:xfrm>
                                      <a:custGeom>
                                        <a:avLst/>
                                        <a:gdLst/>
                                        <a:ahLst/>
                                        <a:rect l="l" t="t" r="r" b="b"/>
                                        <a:pathLst>
                                          <a:path w="828" h="1526">
                                            <a:moveTo>
                                              <a:pt x="0" y="426"/>
                                            </a:moveTo>
                                            <a:lnTo>
                                              <a:pt x="90" y="318"/>
                                            </a:lnTo>
                                            <a:lnTo>
                                              <a:pt x="151" y="318"/>
                                            </a:lnTo>
                                            <a:lnTo>
                                              <a:pt x="155" y="327"/>
                                            </a:lnTo>
                                            <a:lnTo>
                                              <a:pt x="155" y="335"/>
                                            </a:lnTo>
                                            <a:lnTo>
                                              <a:pt x="159" y="348"/>
                                            </a:lnTo>
                                            <a:lnTo>
                                              <a:pt x="163" y="357"/>
                                            </a:lnTo>
                                            <a:lnTo>
                                              <a:pt x="168" y="370"/>
                                            </a:lnTo>
                                            <a:lnTo>
                                              <a:pt x="168" y="378"/>
                                            </a:lnTo>
                                            <a:lnTo>
                                              <a:pt x="172" y="391"/>
                                            </a:lnTo>
                                            <a:lnTo>
                                              <a:pt x="172" y="400"/>
                                            </a:lnTo>
                                            <a:lnTo>
                                              <a:pt x="181" y="395"/>
                                            </a:lnTo>
                                            <a:lnTo>
                                              <a:pt x="189" y="391"/>
                                            </a:lnTo>
                                            <a:lnTo>
                                              <a:pt x="198" y="387"/>
                                            </a:lnTo>
                                            <a:lnTo>
                                              <a:pt x="207" y="378"/>
                                            </a:lnTo>
                                            <a:lnTo>
                                              <a:pt x="215" y="370"/>
                                            </a:lnTo>
                                            <a:lnTo>
                                              <a:pt x="228" y="365"/>
                                            </a:lnTo>
                                            <a:lnTo>
                                              <a:pt x="241" y="361"/>
                                            </a:lnTo>
                                            <a:lnTo>
                                              <a:pt x="254" y="357"/>
                                            </a:lnTo>
                                            <a:lnTo>
                                              <a:pt x="293" y="400"/>
                                            </a:lnTo>
                                            <a:lnTo>
                                              <a:pt x="302" y="400"/>
                                            </a:lnTo>
                                            <a:lnTo>
                                              <a:pt x="310" y="395"/>
                                            </a:lnTo>
                                            <a:lnTo>
                                              <a:pt x="319" y="391"/>
                                            </a:lnTo>
                                            <a:lnTo>
                                              <a:pt x="327" y="387"/>
                                            </a:lnTo>
                                            <a:lnTo>
                                              <a:pt x="332" y="383"/>
                                            </a:lnTo>
                                            <a:lnTo>
                                              <a:pt x="340" y="383"/>
                                            </a:lnTo>
                                            <a:lnTo>
                                              <a:pt x="349" y="378"/>
                                            </a:lnTo>
                                            <a:lnTo>
                                              <a:pt x="358" y="378"/>
                                            </a:lnTo>
                                            <a:lnTo>
                                              <a:pt x="358" y="460"/>
                                            </a:lnTo>
                                            <a:lnTo>
                                              <a:pt x="314" y="499"/>
                                            </a:lnTo>
                                            <a:lnTo>
                                              <a:pt x="314" y="524"/>
                                            </a:lnTo>
                                            <a:lnTo>
                                              <a:pt x="314" y="550"/>
                                            </a:lnTo>
                                            <a:lnTo>
                                              <a:pt x="314" y="580"/>
                                            </a:lnTo>
                                            <a:lnTo>
                                              <a:pt x="319" y="610"/>
                                            </a:lnTo>
                                            <a:lnTo>
                                              <a:pt x="319" y="641"/>
                                            </a:lnTo>
                                            <a:lnTo>
                                              <a:pt x="323" y="671"/>
                                            </a:lnTo>
                                            <a:lnTo>
                                              <a:pt x="327" y="701"/>
                                            </a:lnTo>
                                            <a:lnTo>
                                              <a:pt x="336" y="722"/>
                                            </a:lnTo>
                                            <a:lnTo>
                                              <a:pt x="349" y="727"/>
                                            </a:lnTo>
                                            <a:lnTo>
                                              <a:pt x="362" y="735"/>
                                            </a:lnTo>
                                            <a:lnTo>
                                              <a:pt x="375" y="752"/>
                                            </a:lnTo>
                                            <a:lnTo>
                                              <a:pt x="383" y="765"/>
                                            </a:lnTo>
                                            <a:lnTo>
                                              <a:pt x="392" y="782"/>
                                            </a:lnTo>
                                            <a:lnTo>
                                              <a:pt x="401" y="800"/>
                                            </a:lnTo>
                                            <a:lnTo>
                                              <a:pt x="409" y="817"/>
                                            </a:lnTo>
                                            <a:lnTo>
                                              <a:pt x="418" y="825"/>
                                            </a:lnTo>
                                            <a:lnTo>
                                              <a:pt x="422" y="881"/>
                                            </a:lnTo>
                                            <a:lnTo>
                                              <a:pt x="431" y="937"/>
                                            </a:lnTo>
                                            <a:lnTo>
                                              <a:pt x="444" y="997"/>
                                            </a:lnTo>
                                            <a:lnTo>
                                              <a:pt x="457" y="1053"/>
                                            </a:lnTo>
                                            <a:lnTo>
                                              <a:pt x="474" y="1109"/>
                                            </a:lnTo>
                                            <a:lnTo>
                                              <a:pt x="487" y="1161"/>
                                            </a:lnTo>
                                            <a:lnTo>
                                              <a:pt x="496" y="1212"/>
                                            </a:lnTo>
                                            <a:lnTo>
                                              <a:pt x="500" y="1251"/>
                                            </a:lnTo>
                                            <a:lnTo>
                                              <a:pt x="517" y="1273"/>
                                            </a:lnTo>
                                            <a:lnTo>
                                              <a:pt x="539" y="1294"/>
                                            </a:lnTo>
                                            <a:lnTo>
                                              <a:pt x="556" y="1294"/>
                                            </a:lnTo>
                                            <a:lnTo>
                                              <a:pt x="565" y="1298"/>
                                            </a:lnTo>
                                            <a:lnTo>
                                              <a:pt x="578" y="1307"/>
                                            </a:lnTo>
                                            <a:lnTo>
                                              <a:pt x="586" y="1311"/>
                                            </a:lnTo>
                                            <a:lnTo>
                                              <a:pt x="599" y="1320"/>
                                            </a:lnTo>
                                            <a:lnTo>
                                              <a:pt x="604" y="1329"/>
                                            </a:lnTo>
                                            <a:lnTo>
                                              <a:pt x="612" y="1333"/>
                                            </a:lnTo>
                                            <a:lnTo>
                                              <a:pt x="621" y="1333"/>
                                            </a:lnTo>
                                            <a:lnTo>
                                              <a:pt x="621" y="1359"/>
                                            </a:lnTo>
                                            <a:lnTo>
                                              <a:pt x="621" y="1380"/>
                                            </a:lnTo>
                                            <a:lnTo>
                                              <a:pt x="621" y="1406"/>
                                            </a:lnTo>
                                            <a:lnTo>
                                              <a:pt x="621" y="1432"/>
                                            </a:lnTo>
                                            <a:lnTo>
                                              <a:pt x="621" y="1453"/>
                                            </a:lnTo>
                                            <a:lnTo>
                                              <a:pt x="625" y="1479"/>
                                            </a:lnTo>
                                            <a:lnTo>
                                              <a:pt x="625" y="1505"/>
                                            </a:lnTo>
                                            <a:lnTo>
                                              <a:pt x="625" y="1526"/>
                                            </a:lnTo>
                                            <a:lnTo>
                                              <a:pt x="655" y="1479"/>
                                            </a:lnTo>
                                            <a:lnTo>
                                              <a:pt x="711" y="1307"/>
                                            </a:lnTo>
                                            <a:lnTo>
                                              <a:pt x="690" y="1195"/>
                                            </a:lnTo>
                                            <a:lnTo>
                                              <a:pt x="681" y="1088"/>
                                            </a:lnTo>
                                            <a:lnTo>
                                              <a:pt x="828" y="782"/>
                                            </a:lnTo>
                                            <a:lnTo>
                                              <a:pt x="711" y="675"/>
                                            </a:lnTo>
                                            <a:lnTo>
                                              <a:pt x="638" y="516"/>
                                            </a:lnTo>
                                            <a:lnTo>
                                              <a:pt x="625" y="211"/>
                                            </a:lnTo>
                                            <a:lnTo>
                                              <a:pt x="582" y="0"/>
                                            </a:lnTo>
                                            <a:lnTo>
                                              <a:pt x="522" y="21"/>
                                            </a:lnTo>
                                            <a:lnTo>
                                              <a:pt x="379" y="137"/>
                                            </a:lnTo>
                                            <a:lnTo>
                                              <a:pt x="371" y="129"/>
                                            </a:lnTo>
                                            <a:lnTo>
                                              <a:pt x="362" y="129"/>
                                            </a:lnTo>
                                            <a:lnTo>
                                              <a:pt x="297" y="180"/>
                                            </a:lnTo>
                                            <a:lnTo>
                                              <a:pt x="202" y="180"/>
                                            </a:lnTo>
                                            <a:lnTo>
                                              <a:pt x="94" y="241"/>
                                            </a:lnTo>
                                            <a:lnTo>
                                              <a:pt x="64" y="223"/>
                                            </a:lnTo>
                                            <a:lnTo>
                                              <a:pt x="30" y="305"/>
                                            </a:lnTo>
                                            <a:lnTo>
                                              <a:pt x="25" y="327"/>
                                            </a:lnTo>
                                            <a:lnTo>
                                              <a:pt x="25" y="344"/>
                                            </a:lnTo>
                                            <a:lnTo>
                                              <a:pt x="21" y="365"/>
                                            </a:lnTo>
                                            <a:lnTo>
                                              <a:pt x="17" y="383"/>
                                            </a:lnTo>
                                            <a:lnTo>
                                              <a:pt x="12" y="395"/>
                                            </a:lnTo>
                                            <a:lnTo>
                                              <a:pt x="8" y="413"/>
                                            </a:lnTo>
                                            <a:lnTo>
                                              <a:pt x="4" y="421"/>
                                            </a:lnTo>
                                            <a:lnTo>
                                              <a:pt x="0" y="430"/>
                                            </a:lnTo>
                                            <a:lnTo>
                                              <a:pt x="0" y="426"/>
                                            </a:lnTo>
                                            <a:close/>
                                          </a:path>
                                        </a:pathLst>
                                      </a:custGeom>
                                      <a:blipFill rotWithShape="0">
                                        <a:blip r:embed="rId89"/>
                                        <a:srcRect/>
                                        <a:tile tx="0" ty="0" sx="100000" sy="100000" algn="ctr"/>
                                      </a:blipFill>
                                      <a:ln w="9360">
                                        <a:solidFill>
                                          <a:srgbClr val="c0c0c0"/>
                                        </a:solidFill>
                                        <a:round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</p:grpSp>
                                <p:sp>
                                  <p:nvSpPr>
                                    <p:cNvPr id="211" name=""/>
                                    <p:cNvSpPr/>
                                    <p:nvPr/>
                                  </p:nvSpPr>
                                  <p:spPr>
                                    <a:xfrm rot="21030000">
                                      <a:off x="2405880" y="1430280"/>
                                      <a:ext cx="74160" cy="3204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725" h="331">
                                          <a:moveTo>
                                            <a:pt x="13" y="133"/>
                                          </a:moveTo>
                                          <a:lnTo>
                                            <a:pt x="17" y="133"/>
                                          </a:lnTo>
                                          <a:lnTo>
                                            <a:pt x="22" y="129"/>
                                          </a:lnTo>
                                          <a:lnTo>
                                            <a:pt x="30" y="124"/>
                                          </a:lnTo>
                                          <a:lnTo>
                                            <a:pt x="39" y="120"/>
                                          </a:lnTo>
                                          <a:lnTo>
                                            <a:pt x="52" y="111"/>
                                          </a:lnTo>
                                          <a:lnTo>
                                            <a:pt x="61" y="107"/>
                                          </a:lnTo>
                                          <a:lnTo>
                                            <a:pt x="65" y="103"/>
                                          </a:lnTo>
                                          <a:lnTo>
                                            <a:pt x="69" y="98"/>
                                          </a:lnTo>
                                          <a:lnTo>
                                            <a:pt x="112" y="103"/>
                                          </a:lnTo>
                                          <a:lnTo>
                                            <a:pt x="155" y="103"/>
                                          </a:lnTo>
                                          <a:lnTo>
                                            <a:pt x="199" y="103"/>
                                          </a:lnTo>
                                          <a:lnTo>
                                            <a:pt x="242" y="107"/>
                                          </a:lnTo>
                                          <a:lnTo>
                                            <a:pt x="285" y="107"/>
                                          </a:lnTo>
                                          <a:lnTo>
                                            <a:pt x="328" y="111"/>
                                          </a:lnTo>
                                          <a:lnTo>
                                            <a:pt x="371" y="111"/>
                                          </a:lnTo>
                                          <a:lnTo>
                                            <a:pt x="419" y="111"/>
                                          </a:lnTo>
                                          <a:lnTo>
                                            <a:pt x="419" y="111"/>
                                          </a:lnTo>
                                          <a:lnTo>
                                            <a:pt x="419" y="111"/>
                                          </a:lnTo>
                                          <a:lnTo>
                                            <a:pt x="423" y="107"/>
                                          </a:lnTo>
                                          <a:lnTo>
                                            <a:pt x="427" y="103"/>
                                          </a:lnTo>
                                          <a:lnTo>
                                            <a:pt x="436" y="98"/>
                                          </a:lnTo>
                                          <a:lnTo>
                                            <a:pt x="440" y="94"/>
                                          </a:lnTo>
                                          <a:lnTo>
                                            <a:pt x="444" y="94"/>
                                          </a:lnTo>
                                          <a:lnTo>
                                            <a:pt x="449" y="90"/>
                                          </a:lnTo>
                                          <a:lnTo>
                                            <a:pt x="449" y="90"/>
                                          </a:lnTo>
                                          <a:lnTo>
                                            <a:pt x="449" y="86"/>
                                          </a:lnTo>
                                          <a:lnTo>
                                            <a:pt x="453" y="86"/>
                                          </a:lnTo>
                                          <a:lnTo>
                                            <a:pt x="457" y="81"/>
                                          </a:lnTo>
                                          <a:lnTo>
                                            <a:pt x="462" y="81"/>
                                          </a:lnTo>
                                          <a:lnTo>
                                            <a:pt x="466" y="77"/>
                                          </a:lnTo>
                                          <a:lnTo>
                                            <a:pt x="475" y="77"/>
                                          </a:lnTo>
                                          <a:lnTo>
                                            <a:pt x="479" y="77"/>
                                          </a:lnTo>
                                          <a:lnTo>
                                            <a:pt x="483" y="73"/>
                                          </a:lnTo>
                                          <a:lnTo>
                                            <a:pt x="496" y="60"/>
                                          </a:lnTo>
                                          <a:lnTo>
                                            <a:pt x="514" y="51"/>
                                          </a:lnTo>
                                          <a:lnTo>
                                            <a:pt x="535" y="38"/>
                                          </a:lnTo>
                                          <a:lnTo>
                                            <a:pt x="557" y="25"/>
                                          </a:lnTo>
                                          <a:lnTo>
                                            <a:pt x="578" y="17"/>
                                          </a:lnTo>
                                          <a:lnTo>
                                            <a:pt x="591" y="8"/>
                                          </a:lnTo>
                                          <a:lnTo>
                                            <a:pt x="604" y="0"/>
                                          </a:lnTo>
                                          <a:lnTo>
                                            <a:pt x="613" y="0"/>
                                          </a:lnTo>
                                          <a:lnTo>
                                            <a:pt x="621" y="0"/>
                                          </a:lnTo>
                                          <a:lnTo>
                                            <a:pt x="634" y="0"/>
                                          </a:lnTo>
                                          <a:lnTo>
                                            <a:pt x="647" y="4"/>
                                          </a:lnTo>
                                          <a:lnTo>
                                            <a:pt x="660" y="4"/>
                                          </a:lnTo>
                                          <a:lnTo>
                                            <a:pt x="669" y="8"/>
                                          </a:lnTo>
                                          <a:lnTo>
                                            <a:pt x="677" y="12"/>
                                          </a:lnTo>
                                          <a:lnTo>
                                            <a:pt x="682" y="21"/>
                                          </a:lnTo>
                                          <a:lnTo>
                                            <a:pt x="686" y="21"/>
                                          </a:lnTo>
                                          <a:lnTo>
                                            <a:pt x="690" y="25"/>
                                          </a:lnTo>
                                          <a:lnTo>
                                            <a:pt x="695" y="34"/>
                                          </a:lnTo>
                                          <a:lnTo>
                                            <a:pt x="699" y="38"/>
                                          </a:lnTo>
                                          <a:lnTo>
                                            <a:pt x="699" y="47"/>
                                          </a:lnTo>
                                          <a:lnTo>
                                            <a:pt x="699" y="55"/>
                                          </a:lnTo>
                                          <a:lnTo>
                                            <a:pt x="699" y="60"/>
                                          </a:lnTo>
                                          <a:lnTo>
                                            <a:pt x="703" y="64"/>
                                          </a:lnTo>
                                          <a:lnTo>
                                            <a:pt x="703" y="64"/>
                                          </a:lnTo>
                                          <a:lnTo>
                                            <a:pt x="703" y="64"/>
                                          </a:lnTo>
                                          <a:lnTo>
                                            <a:pt x="708" y="64"/>
                                          </a:lnTo>
                                          <a:lnTo>
                                            <a:pt x="708" y="64"/>
                                          </a:lnTo>
                                          <a:lnTo>
                                            <a:pt x="708" y="64"/>
                                          </a:lnTo>
                                          <a:lnTo>
                                            <a:pt x="708" y="64"/>
                                          </a:lnTo>
                                          <a:lnTo>
                                            <a:pt x="712" y="64"/>
                                          </a:lnTo>
                                          <a:lnTo>
                                            <a:pt x="712" y="64"/>
                                          </a:lnTo>
                                          <a:lnTo>
                                            <a:pt x="721" y="81"/>
                                          </a:lnTo>
                                          <a:lnTo>
                                            <a:pt x="725" y="98"/>
                                          </a:lnTo>
                                          <a:lnTo>
                                            <a:pt x="721" y="116"/>
                                          </a:lnTo>
                                          <a:lnTo>
                                            <a:pt x="716" y="133"/>
                                          </a:lnTo>
                                          <a:lnTo>
                                            <a:pt x="699" y="163"/>
                                          </a:lnTo>
                                          <a:lnTo>
                                            <a:pt x="673" y="193"/>
                                          </a:lnTo>
                                          <a:lnTo>
                                            <a:pt x="643" y="219"/>
                                          </a:lnTo>
                                          <a:lnTo>
                                            <a:pt x="617" y="240"/>
                                          </a:lnTo>
                                          <a:lnTo>
                                            <a:pt x="595" y="258"/>
                                          </a:lnTo>
                                          <a:lnTo>
                                            <a:pt x="587" y="275"/>
                                          </a:lnTo>
                                          <a:lnTo>
                                            <a:pt x="548" y="279"/>
                                          </a:lnTo>
                                          <a:lnTo>
                                            <a:pt x="505" y="288"/>
                                          </a:lnTo>
                                          <a:lnTo>
                                            <a:pt x="466" y="301"/>
                                          </a:lnTo>
                                          <a:lnTo>
                                            <a:pt x="427" y="313"/>
                                          </a:lnTo>
                                          <a:lnTo>
                                            <a:pt x="384" y="322"/>
                                          </a:lnTo>
                                          <a:lnTo>
                                            <a:pt x="341" y="331"/>
                                          </a:lnTo>
                                          <a:lnTo>
                                            <a:pt x="293" y="331"/>
                                          </a:lnTo>
                                          <a:lnTo>
                                            <a:pt x="246" y="326"/>
                                          </a:lnTo>
                                          <a:lnTo>
                                            <a:pt x="229" y="322"/>
                                          </a:lnTo>
                                          <a:lnTo>
                                            <a:pt x="207" y="318"/>
                                          </a:lnTo>
                                          <a:lnTo>
                                            <a:pt x="186" y="313"/>
                                          </a:lnTo>
                                          <a:lnTo>
                                            <a:pt x="164" y="305"/>
                                          </a:lnTo>
                                          <a:lnTo>
                                            <a:pt x="142" y="301"/>
                                          </a:lnTo>
                                          <a:lnTo>
                                            <a:pt x="121" y="296"/>
                                          </a:lnTo>
                                          <a:lnTo>
                                            <a:pt x="104" y="292"/>
                                          </a:lnTo>
                                          <a:lnTo>
                                            <a:pt x="82" y="292"/>
                                          </a:lnTo>
                                          <a:lnTo>
                                            <a:pt x="82" y="288"/>
                                          </a:lnTo>
                                          <a:lnTo>
                                            <a:pt x="78" y="283"/>
                                          </a:lnTo>
                                          <a:lnTo>
                                            <a:pt x="73" y="279"/>
                                          </a:lnTo>
                                          <a:lnTo>
                                            <a:pt x="69" y="275"/>
                                          </a:lnTo>
                                          <a:lnTo>
                                            <a:pt x="61" y="270"/>
                                          </a:lnTo>
                                          <a:lnTo>
                                            <a:pt x="56" y="266"/>
                                          </a:lnTo>
                                          <a:lnTo>
                                            <a:pt x="52" y="262"/>
                                          </a:lnTo>
                                          <a:lnTo>
                                            <a:pt x="52" y="258"/>
                                          </a:lnTo>
                                          <a:lnTo>
                                            <a:pt x="48" y="253"/>
                                          </a:lnTo>
                                          <a:lnTo>
                                            <a:pt x="43" y="249"/>
                                          </a:lnTo>
                                          <a:lnTo>
                                            <a:pt x="39" y="245"/>
                                          </a:lnTo>
                                          <a:lnTo>
                                            <a:pt x="35" y="240"/>
                                          </a:lnTo>
                                          <a:lnTo>
                                            <a:pt x="30" y="236"/>
                                          </a:lnTo>
                                          <a:lnTo>
                                            <a:pt x="26" y="232"/>
                                          </a:lnTo>
                                          <a:lnTo>
                                            <a:pt x="26" y="232"/>
                                          </a:lnTo>
                                          <a:lnTo>
                                            <a:pt x="22" y="227"/>
                                          </a:lnTo>
                                          <a:lnTo>
                                            <a:pt x="22" y="210"/>
                                          </a:lnTo>
                                          <a:lnTo>
                                            <a:pt x="17" y="197"/>
                                          </a:lnTo>
                                          <a:lnTo>
                                            <a:pt x="13" y="184"/>
                                          </a:lnTo>
                                          <a:lnTo>
                                            <a:pt x="4" y="172"/>
                                          </a:lnTo>
                                          <a:lnTo>
                                            <a:pt x="4" y="159"/>
                                          </a:lnTo>
                                          <a:lnTo>
                                            <a:pt x="0" y="150"/>
                                          </a:lnTo>
                                          <a:lnTo>
                                            <a:pt x="4" y="141"/>
                                          </a:lnTo>
                                          <a:lnTo>
                                            <a:pt x="13" y="133"/>
                                          </a:lnTo>
                                          <a:close/>
                                        </a:path>
                                      </a:pathLst>
                                    </a:custGeom>
                                    <a:blipFill rotWithShape="0">
                                      <a:blip r:embed="rId90"/>
                                      <a:srcRect/>
                                      <a:tile tx="0" ty="0" sx="100000" sy="100000" algn="ctr"/>
                                    </a:blipFill>
                                    <a:ln w="9360">
                                      <a:solidFill>
                                        <a:srgbClr val="c0c0c0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14760" bIns="-1476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sp>
                              <p:nvSpPr>
                                <p:cNvPr id="212" name=""/>
                                <p:cNvSpPr/>
                                <p:nvPr/>
                              </p:nvSpPr>
                              <p:spPr>
                                <a:xfrm rot="21030000">
                                  <a:off x="2387160" y="1386360"/>
                                  <a:ext cx="554040" cy="67788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5410" h="7005">
                                      <a:moveTo>
                                        <a:pt x="1738" y="73"/>
                                      </a:moveTo>
                                      <a:lnTo>
                                        <a:pt x="1790" y="306"/>
                                      </a:lnTo>
                                      <a:lnTo>
                                        <a:pt x="1777" y="654"/>
                                      </a:lnTo>
                                      <a:lnTo>
                                        <a:pt x="1600" y="1338"/>
                                      </a:lnTo>
                                      <a:lnTo>
                                        <a:pt x="1600" y="1781"/>
                                      </a:lnTo>
                                      <a:lnTo>
                                        <a:pt x="1704" y="1991"/>
                                      </a:lnTo>
                                      <a:lnTo>
                                        <a:pt x="1769" y="2013"/>
                                      </a:lnTo>
                                      <a:lnTo>
                                        <a:pt x="2088" y="1875"/>
                                      </a:lnTo>
                                      <a:lnTo>
                                        <a:pt x="2498" y="1845"/>
                                      </a:lnTo>
                                      <a:lnTo>
                                        <a:pt x="2554" y="1867"/>
                                      </a:lnTo>
                                      <a:lnTo>
                                        <a:pt x="2657" y="1867"/>
                                      </a:lnTo>
                                      <a:lnTo>
                                        <a:pt x="3132" y="1931"/>
                                      </a:lnTo>
                                      <a:lnTo>
                                        <a:pt x="3503" y="1858"/>
                                      </a:lnTo>
                                      <a:lnTo>
                                        <a:pt x="3632" y="1836"/>
                                      </a:lnTo>
                                      <a:lnTo>
                                        <a:pt x="4047" y="1867"/>
                                      </a:lnTo>
                                      <a:lnTo>
                                        <a:pt x="4405" y="1961"/>
                                      </a:lnTo>
                                      <a:lnTo>
                                        <a:pt x="4763" y="2086"/>
                                      </a:lnTo>
                                      <a:lnTo>
                                        <a:pt x="4996" y="2013"/>
                                      </a:lnTo>
                                      <a:lnTo>
                                        <a:pt x="5147" y="2034"/>
                                      </a:lnTo>
                                      <a:lnTo>
                                        <a:pt x="5280" y="2142"/>
                                      </a:lnTo>
                                      <a:lnTo>
                                        <a:pt x="5367" y="2258"/>
                                      </a:lnTo>
                                      <a:lnTo>
                                        <a:pt x="5410" y="2434"/>
                                      </a:lnTo>
                                      <a:lnTo>
                                        <a:pt x="5354" y="2765"/>
                                      </a:lnTo>
                                      <a:lnTo>
                                        <a:pt x="5337" y="2890"/>
                                      </a:lnTo>
                                      <a:lnTo>
                                        <a:pt x="5354" y="2997"/>
                                      </a:lnTo>
                                      <a:lnTo>
                                        <a:pt x="5337" y="3019"/>
                                      </a:lnTo>
                                      <a:lnTo>
                                        <a:pt x="5280" y="2963"/>
                                      </a:lnTo>
                                      <a:lnTo>
                                        <a:pt x="5220" y="2963"/>
                                      </a:lnTo>
                                      <a:lnTo>
                                        <a:pt x="5186" y="2860"/>
                                      </a:lnTo>
                                      <a:lnTo>
                                        <a:pt x="5147" y="2795"/>
                                      </a:lnTo>
                                      <a:lnTo>
                                        <a:pt x="5147" y="2731"/>
                                      </a:lnTo>
                                      <a:lnTo>
                                        <a:pt x="5112" y="2709"/>
                                      </a:lnTo>
                                      <a:lnTo>
                                        <a:pt x="5112" y="2542"/>
                                      </a:lnTo>
                                      <a:lnTo>
                                        <a:pt x="4965" y="2340"/>
                                      </a:lnTo>
                                      <a:lnTo>
                                        <a:pt x="4957" y="2331"/>
                                      </a:lnTo>
                                      <a:lnTo>
                                        <a:pt x="4935" y="2352"/>
                                      </a:lnTo>
                                      <a:lnTo>
                                        <a:pt x="4957" y="2417"/>
                                      </a:lnTo>
                                      <a:lnTo>
                                        <a:pt x="5069" y="2576"/>
                                      </a:lnTo>
                                      <a:lnTo>
                                        <a:pt x="5030" y="2615"/>
                                      </a:lnTo>
                                      <a:lnTo>
                                        <a:pt x="5052" y="2744"/>
                                      </a:lnTo>
                                      <a:lnTo>
                                        <a:pt x="5082" y="2774"/>
                                      </a:lnTo>
                                      <a:lnTo>
                                        <a:pt x="5082" y="2868"/>
                                      </a:lnTo>
                                      <a:lnTo>
                                        <a:pt x="5112" y="2924"/>
                                      </a:lnTo>
                                      <a:lnTo>
                                        <a:pt x="5104" y="3019"/>
                                      </a:lnTo>
                                      <a:lnTo>
                                        <a:pt x="5134" y="3079"/>
                                      </a:lnTo>
                                      <a:lnTo>
                                        <a:pt x="5125" y="3122"/>
                                      </a:lnTo>
                                      <a:lnTo>
                                        <a:pt x="5155" y="3217"/>
                                      </a:lnTo>
                                      <a:lnTo>
                                        <a:pt x="5112" y="3260"/>
                                      </a:lnTo>
                                      <a:lnTo>
                                        <a:pt x="5147" y="3333"/>
                                      </a:lnTo>
                                      <a:lnTo>
                                        <a:pt x="5091" y="3397"/>
                                      </a:lnTo>
                                      <a:lnTo>
                                        <a:pt x="5091" y="3449"/>
                                      </a:lnTo>
                                      <a:lnTo>
                                        <a:pt x="5030" y="3513"/>
                                      </a:lnTo>
                                      <a:lnTo>
                                        <a:pt x="5091" y="3595"/>
                                      </a:lnTo>
                                      <a:lnTo>
                                        <a:pt x="5009" y="3673"/>
                                      </a:lnTo>
                                      <a:lnTo>
                                        <a:pt x="4996" y="3681"/>
                                      </a:lnTo>
                                      <a:lnTo>
                                        <a:pt x="4996" y="3716"/>
                                      </a:lnTo>
                                      <a:lnTo>
                                        <a:pt x="5017" y="3737"/>
                                      </a:lnTo>
                                      <a:lnTo>
                                        <a:pt x="4987" y="3819"/>
                                      </a:lnTo>
                                      <a:lnTo>
                                        <a:pt x="4987" y="3840"/>
                                      </a:lnTo>
                                      <a:lnTo>
                                        <a:pt x="4996" y="3849"/>
                                      </a:lnTo>
                                      <a:lnTo>
                                        <a:pt x="4836" y="4008"/>
                                      </a:lnTo>
                                      <a:lnTo>
                                        <a:pt x="4879" y="4103"/>
                                      </a:lnTo>
                                      <a:lnTo>
                                        <a:pt x="4763" y="4232"/>
                                      </a:lnTo>
                                      <a:lnTo>
                                        <a:pt x="4763" y="4283"/>
                                      </a:lnTo>
                                      <a:lnTo>
                                        <a:pt x="4711" y="4335"/>
                                      </a:lnTo>
                                      <a:lnTo>
                                        <a:pt x="4711" y="4305"/>
                                      </a:lnTo>
                                      <a:lnTo>
                                        <a:pt x="4689" y="4283"/>
                                      </a:lnTo>
                                      <a:lnTo>
                                        <a:pt x="4659" y="4292"/>
                                      </a:lnTo>
                                      <a:lnTo>
                                        <a:pt x="4625" y="4335"/>
                                      </a:lnTo>
                                      <a:lnTo>
                                        <a:pt x="4646" y="4386"/>
                                      </a:lnTo>
                                      <a:lnTo>
                                        <a:pt x="4668" y="4696"/>
                                      </a:lnTo>
                                      <a:lnTo>
                                        <a:pt x="4814" y="4971"/>
                                      </a:lnTo>
                                      <a:lnTo>
                                        <a:pt x="4879" y="5031"/>
                                      </a:lnTo>
                                      <a:lnTo>
                                        <a:pt x="4836" y="5350"/>
                                      </a:lnTo>
                                      <a:lnTo>
                                        <a:pt x="4776" y="5633"/>
                                      </a:lnTo>
                                      <a:lnTo>
                                        <a:pt x="4720" y="6106"/>
                                      </a:lnTo>
                                      <a:lnTo>
                                        <a:pt x="4720" y="6648"/>
                                      </a:lnTo>
                                      <a:lnTo>
                                        <a:pt x="4733" y="6657"/>
                                      </a:lnTo>
                                      <a:lnTo>
                                        <a:pt x="4702" y="6764"/>
                                      </a:lnTo>
                                      <a:lnTo>
                                        <a:pt x="4625" y="6889"/>
                                      </a:lnTo>
                                      <a:lnTo>
                                        <a:pt x="4646" y="6953"/>
                                      </a:lnTo>
                                      <a:lnTo>
                                        <a:pt x="4638" y="6984"/>
                                      </a:lnTo>
                                      <a:lnTo>
                                        <a:pt x="4465" y="7005"/>
                                      </a:lnTo>
                                      <a:lnTo>
                                        <a:pt x="4426" y="6984"/>
                                      </a:lnTo>
                                      <a:lnTo>
                                        <a:pt x="4141" y="7005"/>
                                      </a:lnTo>
                                      <a:lnTo>
                                        <a:pt x="4141" y="6945"/>
                                      </a:lnTo>
                                      <a:lnTo>
                                        <a:pt x="4236" y="6859"/>
                                      </a:lnTo>
                                      <a:lnTo>
                                        <a:pt x="4310" y="6837"/>
                                      </a:lnTo>
                                      <a:lnTo>
                                        <a:pt x="4426" y="6751"/>
                                      </a:lnTo>
                                      <a:lnTo>
                                        <a:pt x="4478" y="6635"/>
                                      </a:lnTo>
                                      <a:lnTo>
                                        <a:pt x="4512" y="6403"/>
                                      </a:lnTo>
                                      <a:lnTo>
                                        <a:pt x="4478" y="5547"/>
                                      </a:lnTo>
                                      <a:lnTo>
                                        <a:pt x="4405" y="5294"/>
                                      </a:lnTo>
                                      <a:lnTo>
                                        <a:pt x="4370" y="5212"/>
                                      </a:lnTo>
                                      <a:lnTo>
                                        <a:pt x="4288" y="5117"/>
                                      </a:lnTo>
                                      <a:lnTo>
                                        <a:pt x="4107" y="4864"/>
                                      </a:lnTo>
                                      <a:lnTo>
                                        <a:pt x="3926" y="4717"/>
                                      </a:lnTo>
                                      <a:lnTo>
                                        <a:pt x="3736" y="4601"/>
                                      </a:lnTo>
                                      <a:lnTo>
                                        <a:pt x="3624" y="4442"/>
                                      </a:lnTo>
                                      <a:lnTo>
                                        <a:pt x="3602" y="4189"/>
                                      </a:lnTo>
                                      <a:lnTo>
                                        <a:pt x="3589" y="3986"/>
                                      </a:lnTo>
                                      <a:lnTo>
                                        <a:pt x="3503" y="3724"/>
                                      </a:lnTo>
                                      <a:lnTo>
                                        <a:pt x="3494" y="3716"/>
                                      </a:lnTo>
                                      <a:lnTo>
                                        <a:pt x="3473" y="3716"/>
                                      </a:lnTo>
                                      <a:lnTo>
                                        <a:pt x="3451" y="3660"/>
                                      </a:lnTo>
                                      <a:lnTo>
                                        <a:pt x="3421" y="3630"/>
                                      </a:lnTo>
                                      <a:lnTo>
                                        <a:pt x="3335" y="3617"/>
                                      </a:lnTo>
                                      <a:lnTo>
                                        <a:pt x="3313" y="3642"/>
                                      </a:lnTo>
                                      <a:lnTo>
                                        <a:pt x="3313" y="3660"/>
                                      </a:lnTo>
                                      <a:lnTo>
                                        <a:pt x="3348" y="3690"/>
                                      </a:lnTo>
                                      <a:lnTo>
                                        <a:pt x="3399" y="3690"/>
                                      </a:lnTo>
                                      <a:lnTo>
                                        <a:pt x="3473" y="3819"/>
                                      </a:lnTo>
                                      <a:lnTo>
                                        <a:pt x="3421" y="3810"/>
                                      </a:lnTo>
                                      <a:lnTo>
                                        <a:pt x="3386" y="3892"/>
                                      </a:lnTo>
                                      <a:lnTo>
                                        <a:pt x="3335" y="3905"/>
                                      </a:lnTo>
                                      <a:lnTo>
                                        <a:pt x="3313" y="3956"/>
                                      </a:lnTo>
                                      <a:lnTo>
                                        <a:pt x="3292" y="3935"/>
                                      </a:lnTo>
                                      <a:lnTo>
                                        <a:pt x="3274" y="3935"/>
                                      </a:lnTo>
                                      <a:lnTo>
                                        <a:pt x="3218" y="4021"/>
                                      </a:lnTo>
                                      <a:lnTo>
                                        <a:pt x="3188" y="4029"/>
                                      </a:lnTo>
                                      <a:lnTo>
                                        <a:pt x="3153" y="4029"/>
                                      </a:lnTo>
                                      <a:lnTo>
                                        <a:pt x="3153" y="4021"/>
                                      </a:lnTo>
                                      <a:lnTo>
                                        <a:pt x="3132" y="3999"/>
                                      </a:lnTo>
                                      <a:lnTo>
                                        <a:pt x="3102" y="3999"/>
                                      </a:lnTo>
                                      <a:lnTo>
                                        <a:pt x="3080" y="4038"/>
                                      </a:lnTo>
                                      <a:lnTo>
                                        <a:pt x="3037" y="4072"/>
                                      </a:lnTo>
                                      <a:lnTo>
                                        <a:pt x="2998" y="4051"/>
                                      </a:lnTo>
                                      <a:lnTo>
                                        <a:pt x="2985" y="4038"/>
                                      </a:lnTo>
                                      <a:lnTo>
                                        <a:pt x="2912" y="4115"/>
                                      </a:lnTo>
                                      <a:lnTo>
                                        <a:pt x="2869" y="4115"/>
                                      </a:lnTo>
                                      <a:lnTo>
                                        <a:pt x="2856" y="4085"/>
                                      </a:lnTo>
                                      <a:lnTo>
                                        <a:pt x="2847" y="4072"/>
                                      </a:lnTo>
                                      <a:lnTo>
                                        <a:pt x="2826" y="4072"/>
                                      </a:lnTo>
                                      <a:lnTo>
                                        <a:pt x="2795" y="4124"/>
                                      </a:lnTo>
                                      <a:lnTo>
                                        <a:pt x="2774" y="4146"/>
                                      </a:lnTo>
                                      <a:lnTo>
                                        <a:pt x="2731" y="4115"/>
                                      </a:lnTo>
                                      <a:lnTo>
                                        <a:pt x="2649" y="4167"/>
                                      </a:lnTo>
                                      <a:lnTo>
                                        <a:pt x="2614" y="4158"/>
                                      </a:lnTo>
                                      <a:lnTo>
                                        <a:pt x="2593" y="4158"/>
                                      </a:lnTo>
                                      <a:lnTo>
                                        <a:pt x="2571" y="4197"/>
                                      </a:lnTo>
                                      <a:lnTo>
                                        <a:pt x="2541" y="4232"/>
                                      </a:lnTo>
                                      <a:lnTo>
                                        <a:pt x="2519" y="4197"/>
                                      </a:lnTo>
                                      <a:lnTo>
                                        <a:pt x="2489" y="4167"/>
                                      </a:lnTo>
                                      <a:lnTo>
                                        <a:pt x="2437" y="4219"/>
                                      </a:lnTo>
                                      <a:lnTo>
                                        <a:pt x="2364" y="4219"/>
                                      </a:lnTo>
                                      <a:lnTo>
                                        <a:pt x="2364" y="4210"/>
                                      </a:lnTo>
                                      <a:lnTo>
                                        <a:pt x="2351" y="4197"/>
                                      </a:lnTo>
                                      <a:lnTo>
                                        <a:pt x="2308" y="4262"/>
                                      </a:lnTo>
                                      <a:lnTo>
                                        <a:pt x="2278" y="4253"/>
                                      </a:lnTo>
                                      <a:lnTo>
                                        <a:pt x="2256" y="4283"/>
                                      </a:lnTo>
                                      <a:lnTo>
                                        <a:pt x="2256" y="4292"/>
                                      </a:lnTo>
                                      <a:lnTo>
                                        <a:pt x="2235" y="4292"/>
                                      </a:lnTo>
                                      <a:lnTo>
                                        <a:pt x="2235" y="4283"/>
                                      </a:lnTo>
                                      <a:lnTo>
                                        <a:pt x="2213" y="4262"/>
                                      </a:lnTo>
                                      <a:lnTo>
                                        <a:pt x="2161" y="4283"/>
                                      </a:lnTo>
                                      <a:lnTo>
                                        <a:pt x="2140" y="4283"/>
                                      </a:lnTo>
                                      <a:lnTo>
                                        <a:pt x="2118" y="4262"/>
                                      </a:lnTo>
                                      <a:lnTo>
                                        <a:pt x="2109" y="4275"/>
                                      </a:lnTo>
                                      <a:lnTo>
                                        <a:pt x="2109" y="4305"/>
                                      </a:lnTo>
                                      <a:lnTo>
                                        <a:pt x="2053" y="4262"/>
                                      </a:lnTo>
                                      <a:lnTo>
                                        <a:pt x="2032" y="4292"/>
                                      </a:lnTo>
                                      <a:lnTo>
                                        <a:pt x="1980" y="4275"/>
                                      </a:lnTo>
                                      <a:lnTo>
                                        <a:pt x="1967" y="4262"/>
                                      </a:lnTo>
                                      <a:lnTo>
                                        <a:pt x="2096" y="4103"/>
                                      </a:lnTo>
                                      <a:lnTo>
                                        <a:pt x="2127" y="4038"/>
                                      </a:lnTo>
                                      <a:lnTo>
                                        <a:pt x="2075" y="3956"/>
                                      </a:lnTo>
                                      <a:lnTo>
                                        <a:pt x="2053" y="3840"/>
                                      </a:lnTo>
                                      <a:lnTo>
                                        <a:pt x="2045" y="3832"/>
                                      </a:lnTo>
                                      <a:lnTo>
                                        <a:pt x="2014" y="3832"/>
                                      </a:lnTo>
                                      <a:lnTo>
                                        <a:pt x="1980" y="3905"/>
                                      </a:lnTo>
                                      <a:lnTo>
                                        <a:pt x="1894" y="3965"/>
                                      </a:lnTo>
                                      <a:lnTo>
                                        <a:pt x="1885" y="3978"/>
                                      </a:lnTo>
                                      <a:lnTo>
                                        <a:pt x="1863" y="3905"/>
                                      </a:lnTo>
                                      <a:lnTo>
                                        <a:pt x="1833" y="3870"/>
                                      </a:lnTo>
                                      <a:lnTo>
                                        <a:pt x="1812" y="3892"/>
                                      </a:lnTo>
                                      <a:lnTo>
                                        <a:pt x="1777" y="3870"/>
                                      </a:lnTo>
                                      <a:lnTo>
                                        <a:pt x="1760" y="3849"/>
                                      </a:lnTo>
                                      <a:lnTo>
                                        <a:pt x="1674" y="3965"/>
                                      </a:lnTo>
                                      <a:lnTo>
                                        <a:pt x="1665" y="3986"/>
                                      </a:lnTo>
                                      <a:lnTo>
                                        <a:pt x="1643" y="4008"/>
                                      </a:lnTo>
                                      <a:lnTo>
                                        <a:pt x="1523" y="3943"/>
                                      </a:lnTo>
                                      <a:lnTo>
                                        <a:pt x="1536" y="3892"/>
                                      </a:lnTo>
                                      <a:lnTo>
                                        <a:pt x="1536" y="3862"/>
                                      </a:lnTo>
                                      <a:lnTo>
                                        <a:pt x="1505" y="3832"/>
                                      </a:lnTo>
                                      <a:lnTo>
                                        <a:pt x="1346" y="3986"/>
                                      </a:lnTo>
                                      <a:lnTo>
                                        <a:pt x="1281" y="4124"/>
                                      </a:lnTo>
                                      <a:lnTo>
                                        <a:pt x="1221" y="4133"/>
                                      </a:lnTo>
                                      <a:lnTo>
                                        <a:pt x="1113" y="3986"/>
                                      </a:lnTo>
                                      <a:lnTo>
                                        <a:pt x="1078" y="3986"/>
                                      </a:lnTo>
                                      <a:lnTo>
                                        <a:pt x="1078" y="4085"/>
                                      </a:lnTo>
                                      <a:lnTo>
                                        <a:pt x="996" y="3986"/>
                                      </a:lnTo>
                                      <a:lnTo>
                                        <a:pt x="983" y="3956"/>
                                      </a:lnTo>
                                      <a:lnTo>
                                        <a:pt x="962" y="3935"/>
                                      </a:lnTo>
                                      <a:lnTo>
                                        <a:pt x="923" y="3978"/>
                                      </a:lnTo>
                                      <a:lnTo>
                                        <a:pt x="880" y="3870"/>
                                      </a:lnTo>
                                      <a:lnTo>
                                        <a:pt x="858" y="3849"/>
                                      </a:lnTo>
                                      <a:lnTo>
                                        <a:pt x="837" y="3862"/>
                                      </a:lnTo>
                                      <a:lnTo>
                                        <a:pt x="815" y="3883"/>
                                      </a:lnTo>
                                      <a:lnTo>
                                        <a:pt x="815" y="3965"/>
                                      </a:lnTo>
                                      <a:lnTo>
                                        <a:pt x="772" y="3849"/>
                                      </a:lnTo>
                                      <a:lnTo>
                                        <a:pt x="763" y="3767"/>
                                      </a:lnTo>
                                      <a:lnTo>
                                        <a:pt x="742" y="3754"/>
                                      </a:lnTo>
                                      <a:lnTo>
                                        <a:pt x="668" y="3789"/>
                                      </a:lnTo>
                                      <a:lnTo>
                                        <a:pt x="561" y="3673"/>
                                      </a:lnTo>
                                      <a:lnTo>
                                        <a:pt x="530" y="3673"/>
                                      </a:lnTo>
                                      <a:lnTo>
                                        <a:pt x="444" y="3565"/>
                                      </a:lnTo>
                                      <a:lnTo>
                                        <a:pt x="414" y="3565"/>
                                      </a:lnTo>
                                      <a:lnTo>
                                        <a:pt x="341" y="3354"/>
                                      </a:lnTo>
                                      <a:lnTo>
                                        <a:pt x="310" y="3354"/>
                                      </a:lnTo>
                                      <a:lnTo>
                                        <a:pt x="284" y="3376"/>
                                      </a:lnTo>
                                      <a:lnTo>
                                        <a:pt x="284" y="3440"/>
                                      </a:lnTo>
                                      <a:lnTo>
                                        <a:pt x="246" y="3122"/>
                                      </a:lnTo>
                                      <a:lnTo>
                                        <a:pt x="233" y="3114"/>
                                      </a:lnTo>
                                      <a:lnTo>
                                        <a:pt x="211" y="3114"/>
                                      </a:lnTo>
                                      <a:lnTo>
                                        <a:pt x="190" y="3131"/>
                                      </a:lnTo>
                                      <a:lnTo>
                                        <a:pt x="190" y="3165"/>
                                      </a:lnTo>
                                      <a:lnTo>
                                        <a:pt x="168" y="2911"/>
                                      </a:lnTo>
                                      <a:lnTo>
                                        <a:pt x="168" y="2825"/>
                                      </a:lnTo>
                                      <a:lnTo>
                                        <a:pt x="159" y="2817"/>
                                      </a:lnTo>
                                      <a:lnTo>
                                        <a:pt x="138" y="2817"/>
                                      </a:lnTo>
                                      <a:lnTo>
                                        <a:pt x="108" y="2868"/>
                                      </a:lnTo>
                                      <a:lnTo>
                                        <a:pt x="116" y="2658"/>
                                      </a:lnTo>
                                      <a:lnTo>
                                        <a:pt x="95" y="2636"/>
                                      </a:lnTo>
                                      <a:lnTo>
                                        <a:pt x="73" y="2636"/>
                                      </a:lnTo>
                                      <a:lnTo>
                                        <a:pt x="34" y="2731"/>
                                      </a:lnTo>
                                      <a:lnTo>
                                        <a:pt x="43" y="2490"/>
                                      </a:lnTo>
                                      <a:lnTo>
                                        <a:pt x="56" y="2469"/>
                                      </a:lnTo>
                                      <a:lnTo>
                                        <a:pt x="56" y="2434"/>
                                      </a:lnTo>
                                      <a:lnTo>
                                        <a:pt x="13" y="2404"/>
                                      </a:lnTo>
                                      <a:lnTo>
                                        <a:pt x="86" y="2129"/>
                                      </a:lnTo>
                                      <a:lnTo>
                                        <a:pt x="86" y="2112"/>
                                      </a:lnTo>
                                      <a:lnTo>
                                        <a:pt x="64" y="2086"/>
                                      </a:lnTo>
                                      <a:lnTo>
                                        <a:pt x="43" y="2086"/>
                                      </a:lnTo>
                                      <a:lnTo>
                                        <a:pt x="0" y="2159"/>
                                      </a:lnTo>
                                      <a:lnTo>
                                        <a:pt x="108" y="1815"/>
                                      </a:lnTo>
                                      <a:lnTo>
                                        <a:pt x="73" y="1781"/>
                                      </a:lnTo>
                                      <a:lnTo>
                                        <a:pt x="0" y="1875"/>
                                      </a:lnTo>
                                      <a:lnTo>
                                        <a:pt x="95" y="1634"/>
                                      </a:lnTo>
                                      <a:lnTo>
                                        <a:pt x="181" y="1497"/>
                                      </a:lnTo>
                                      <a:lnTo>
                                        <a:pt x="181" y="1467"/>
                                      </a:lnTo>
                                      <a:lnTo>
                                        <a:pt x="168" y="1454"/>
                                      </a:lnTo>
                                      <a:lnTo>
                                        <a:pt x="138" y="1454"/>
                                      </a:lnTo>
                                      <a:lnTo>
                                        <a:pt x="95" y="1518"/>
                                      </a:lnTo>
                                      <a:lnTo>
                                        <a:pt x="211" y="1170"/>
                                      </a:lnTo>
                                      <a:lnTo>
                                        <a:pt x="202" y="1161"/>
                                      </a:lnTo>
                                      <a:lnTo>
                                        <a:pt x="129" y="1213"/>
                                      </a:lnTo>
                                      <a:lnTo>
                                        <a:pt x="224" y="1024"/>
                                      </a:lnTo>
                                      <a:lnTo>
                                        <a:pt x="224" y="1002"/>
                                      </a:lnTo>
                                      <a:lnTo>
                                        <a:pt x="202" y="981"/>
                                      </a:lnTo>
                                      <a:lnTo>
                                        <a:pt x="116" y="1045"/>
                                      </a:lnTo>
                                      <a:lnTo>
                                        <a:pt x="246" y="852"/>
                                      </a:lnTo>
                                      <a:lnTo>
                                        <a:pt x="284" y="809"/>
                                      </a:lnTo>
                                      <a:lnTo>
                                        <a:pt x="263" y="749"/>
                                      </a:lnTo>
                                      <a:lnTo>
                                        <a:pt x="530" y="482"/>
                                      </a:lnTo>
                                      <a:lnTo>
                                        <a:pt x="561" y="443"/>
                                      </a:lnTo>
                                      <a:lnTo>
                                        <a:pt x="772" y="473"/>
                                      </a:lnTo>
                                      <a:lnTo>
                                        <a:pt x="910" y="508"/>
                                      </a:lnTo>
                                      <a:lnTo>
                                        <a:pt x="1294" y="430"/>
                                      </a:lnTo>
                                      <a:lnTo>
                                        <a:pt x="1367" y="400"/>
                                      </a:lnTo>
                                      <a:lnTo>
                                        <a:pt x="1398" y="430"/>
                                      </a:lnTo>
                                      <a:lnTo>
                                        <a:pt x="1462" y="409"/>
                                      </a:lnTo>
                                      <a:lnTo>
                                        <a:pt x="1492" y="379"/>
                                      </a:lnTo>
                                      <a:lnTo>
                                        <a:pt x="1492" y="357"/>
                                      </a:lnTo>
                                      <a:lnTo>
                                        <a:pt x="1484" y="349"/>
                                      </a:lnTo>
                                      <a:lnTo>
                                        <a:pt x="1410" y="379"/>
                                      </a:lnTo>
                                      <a:lnTo>
                                        <a:pt x="1484" y="293"/>
                                      </a:lnTo>
                                      <a:lnTo>
                                        <a:pt x="1505" y="147"/>
                                      </a:lnTo>
                                      <a:lnTo>
                                        <a:pt x="1609" y="0"/>
                                      </a:lnTo>
                                      <a:lnTo>
                                        <a:pt x="1665" y="0"/>
                                      </a:lnTo>
                                      <a:lnTo>
                                        <a:pt x="1738" y="73"/>
                                      </a:lnTo>
                                      <a:close/>
                                    </a:path>
                                  </a:pathLst>
                                </a:custGeom>
                                <a:blipFill rotWithShape="0">
                                  <a:blip r:embed="rId91"/>
                                  <a:srcRect/>
                                  <a:tile tx="0" ty="0" sx="100000" sy="100000" algn="ctr"/>
                                </a:blip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213" name=""/>
                              <p:cNvSpPr/>
                              <p:nvPr/>
                            </p:nvSpPr>
                            <p:spPr>
                              <a:xfrm rot="21030000">
                                <a:off x="2342520" y="1381320"/>
                                <a:ext cx="123480" cy="22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208" h="236">
                                    <a:moveTo>
                                      <a:pt x="160" y="103"/>
                                    </a:moveTo>
                                    <a:lnTo>
                                      <a:pt x="333" y="103"/>
                                    </a:lnTo>
                                    <a:lnTo>
                                      <a:pt x="337" y="99"/>
                                    </a:lnTo>
                                    <a:lnTo>
                                      <a:pt x="341" y="94"/>
                                    </a:lnTo>
                                    <a:lnTo>
                                      <a:pt x="350" y="90"/>
                                    </a:lnTo>
                                    <a:lnTo>
                                      <a:pt x="358" y="86"/>
                                    </a:lnTo>
                                    <a:lnTo>
                                      <a:pt x="371" y="81"/>
                                    </a:lnTo>
                                    <a:lnTo>
                                      <a:pt x="380" y="77"/>
                                    </a:lnTo>
                                    <a:lnTo>
                                      <a:pt x="389" y="73"/>
                                    </a:lnTo>
                                    <a:lnTo>
                                      <a:pt x="393" y="73"/>
                                    </a:lnTo>
                                    <a:lnTo>
                                      <a:pt x="414" y="51"/>
                                    </a:lnTo>
                                    <a:lnTo>
                                      <a:pt x="445" y="51"/>
                                    </a:lnTo>
                                    <a:lnTo>
                                      <a:pt x="492" y="51"/>
                                    </a:lnTo>
                                    <a:lnTo>
                                      <a:pt x="557" y="56"/>
                                    </a:lnTo>
                                    <a:lnTo>
                                      <a:pt x="626" y="56"/>
                                    </a:lnTo>
                                    <a:lnTo>
                                      <a:pt x="695" y="56"/>
                                    </a:lnTo>
                                    <a:lnTo>
                                      <a:pt x="755" y="51"/>
                                    </a:lnTo>
                                    <a:lnTo>
                                      <a:pt x="798" y="47"/>
                                    </a:lnTo>
                                    <a:lnTo>
                                      <a:pt x="820" y="43"/>
                                    </a:lnTo>
                                    <a:lnTo>
                                      <a:pt x="820" y="30"/>
                                    </a:lnTo>
                                    <a:lnTo>
                                      <a:pt x="833" y="25"/>
                                    </a:lnTo>
                                    <a:lnTo>
                                      <a:pt x="850" y="17"/>
                                    </a:lnTo>
                                    <a:lnTo>
                                      <a:pt x="863" y="13"/>
                                    </a:lnTo>
                                    <a:lnTo>
                                      <a:pt x="880" y="8"/>
                                    </a:lnTo>
                                    <a:lnTo>
                                      <a:pt x="898" y="4"/>
                                    </a:lnTo>
                                    <a:lnTo>
                                      <a:pt x="911" y="4"/>
                                    </a:lnTo>
                                    <a:lnTo>
                                      <a:pt x="928" y="0"/>
                                    </a:lnTo>
                                    <a:lnTo>
                                      <a:pt x="945" y="0"/>
                                    </a:lnTo>
                                    <a:lnTo>
                                      <a:pt x="967" y="13"/>
                                    </a:lnTo>
                                    <a:lnTo>
                                      <a:pt x="993" y="25"/>
                                    </a:lnTo>
                                    <a:lnTo>
                                      <a:pt x="1027" y="34"/>
                                    </a:lnTo>
                                    <a:lnTo>
                                      <a:pt x="1066" y="38"/>
                                    </a:lnTo>
                                    <a:lnTo>
                                      <a:pt x="1105" y="38"/>
                                    </a:lnTo>
                                    <a:lnTo>
                                      <a:pt x="1144" y="43"/>
                                    </a:lnTo>
                                    <a:lnTo>
                                      <a:pt x="1178" y="43"/>
                                    </a:lnTo>
                                    <a:lnTo>
                                      <a:pt x="1208" y="43"/>
                                    </a:lnTo>
                                    <a:lnTo>
                                      <a:pt x="1208" y="47"/>
                                    </a:lnTo>
                                    <a:lnTo>
                                      <a:pt x="1204" y="51"/>
                                    </a:lnTo>
                                    <a:lnTo>
                                      <a:pt x="1204" y="56"/>
                                    </a:lnTo>
                                    <a:lnTo>
                                      <a:pt x="1200" y="64"/>
                                    </a:lnTo>
                                    <a:lnTo>
                                      <a:pt x="1191" y="68"/>
                                    </a:lnTo>
                                    <a:lnTo>
                                      <a:pt x="1187" y="73"/>
                                    </a:lnTo>
                                    <a:lnTo>
                                      <a:pt x="1182" y="77"/>
                                    </a:lnTo>
                                    <a:lnTo>
                                      <a:pt x="1178" y="81"/>
                                    </a:lnTo>
                                    <a:lnTo>
                                      <a:pt x="1157" y="86"/>
                                    </a:lnTo>
                                    <a:lnTo>
                                      <a:pt x="1131" y="86"/>
                                    </a:lnTo>
                                    <a:lnTo>
                                      <a:pt x="1109" y="94"/>
                                    </a:lnTo>
                                    <a:lnTo>
                                      <a:pt x="1083" y="99"/>
                                    </a:lnTo>
                                    <a:lnTo>
                                      <a:pt x="1062" y="103"/>
                                    </a:lnTo>
                                    <a:lnTo>
                                      <a:pt x="1036" y="107"/>
                                    </a:lnTo>
                                    <a:lnTo>
                                      <a:pt x="1014" y="111"/>
                                    </a:lnTo>
                                    <a:lnTo>
                                      <a:pt x="997" y="111"/>
                                    </a:lnTo>
                                    <a:lnTo>
                                      <a:pt x="1001" y="116"/>
                                    </a:lnTo>
                                    <a:lnTo>
                                      <a:pt x="1001" y="116"/>
                                    </a:lnTo>
                                    <a:lnTo>
                                      <a:pt x="1006" y="120"/>
                                    </a:lnTo>
                                    <a:lnTo>
                                      <a:pt x="1010" y="124"/>
                                    </a:lnTo>
                                    <a:lnTo>
                                      <a:pt x="1014" y="129"/>
                                    </a:lnTo>
                                    <a:lnTo>
                                      <a:pt x="1018" y="133"/>
                                    </a:lnTo>
                                    <a:lnTo>
                                      <a:pt x="1023" y="137"/>
                                    </a:lnTo>
                                    <a:lnTo>
                                      <a:pt x="1027" y="142"/>
                                    </a:lnTo>
                                    <a:lnTo>
                                      <a:pt x="811" y="154"/>
                                    </a:lnTo>
                                    <a:lnTo>
                                      <a:pt x="811" y="159"/>
                                    </a:lnTo>
                                    <a:lnTo>
                                      <a:pt x="811" y="163"/>
                                    </a:lnTo>
                                    <a:lnTo>
                                      <a:pt x="807" y="167"/>
                                    </a:lnTo>
                                    <a:lnTo>
                                      <a:pt x="807" y="176"/>
                                    </a:lnTo>
                                    <a:lnTo>
                                      <a:pt x="807" y="180"/>
                                    </a:lnTo>
                                    <a:lnTo>
                                      <a:pt x="803" y="185"/>
                                    </a:lnTo>
                                    <a:lnTo>
                                      <a:pt x="803" y="189"/>
                                    </a:lnTo>
                                    <a:lnTo>
                                      <a:pt x="803" y="193"/>
                                    </a:lnTo>
                                    <a:lnTo>
                                      <a:pt x="781" y="193"/>
                                    </a:lnTo>
                                    <a:lnTo>
                                      <a:pt x="755" y="189"/>
                                    </a:lnTo>
                                    <a:lnTo>
                                      <a:pt x="721" y="185"/>
                                    </a:lnTo>
                                    <a:lnTo>
                                      <a:pt x="686" y="180"/>
                                    </a:lnTo>
                                    <a:lnTo>
                                      <a:pt x="652" y="180"/>
                                    </a:lnTo>
                                    <a:lnTo>
                                      <a:pt x="622" y="176"/>
                                    </a:lnTo>
                                    <a:lnTo>
                                      <a:pt x="596" y="180"/>
                                    </a:lnTo>
                                    <a:lnTo>
                                      <a:pt x="578" y="185"/>
                                    </a:lnTo>
                                    <a:lnTo>
                                      <a:pt x="578" y="193"/>
                                    </a:lnTo>
                                    <a:lnTo>
                                      <a:pt x="548" y="193"/>
                                    </a:lnTo>
                                    <a:lnTo>
                                      <a:pt x="548" y="206"/>
                                    </a:lnTo>
                                    <a:lnTo>
                                      <a:pt x="548" y="215"/>
                                    </a:lnTo>
                                    <a:lnTo>
                                      <a:pt x="100" y="236"/>
                                    </a:lnTo>
                                    <a:lnTo>
                                      <a:pt x="95" y="228"/>
                                    </a:lnTo>
                                    <a:lnTo>
                                      <a:pt x="87" y="219"/>
                                    </a:lnTo>
                                    <a:lnTo>
                                      <a:pt x="82" y="206"/>
                                    </a:lnTo>
                                    <a:lnTo>
                                      <a:pt x="74" y="197"/>
                                    </a:lnTo>
                                    <a:lnTo>
                                      <a:pt x="65" y="185"/>
                                    </a:lnTo>
                                    <a:lnTo>
                                      <a:pt x="61" y="172"/>
                                    </a:lnTo>
                                    <a:lnTo>
                                      <a:pt x="52" y="163"/>
                                    </a:lnTo>
                                    <a:lnTo>
                                      <a:pt x="48" y="154"/>
                                    </a:lnTo>
                                    <a:lnTo>
                                      <a:pt x="91" y="167"/>
                                    </a:lnTo>
                                    <a:lnTo>
                                      <a:pt x="164" y="159"/>
                                    </a:lnTo>
                                    <a:lnTo>
                                      <a:pt x="186" y="137"/>
                                    </a:lnTo>
                                    <a:lnTo>
                                      <a:pt x="160" y="103"/>
                                    </a:lnTo>
                                    <a:close/>
                                    <a:moveTo>
                                      <a:pt x="22" y="142"/>
                                    </a:moveTo>
                                    <a:lnTo>
                                      <a:pt x="18" y="142"/>
                                    </a:lnTo>
                                    <a:lnTo>
                                      <a:pt x="13" y="142"/>
                                    </a:lnTo>
                                    <a:lnTo>
                                      <a:pt x="13" y="142"/>
                                    </a:lnTo>
                                    <a:lnTo>
                                      <a:pt x="9" y="142"/>
                                    </a:lnTo>
                                    <a:lnTo>
                                      <a:pt x="9" y="142"/>
                                    </a:lnTo>
                                    <a:lnTo>
                                      <a:pt x="5" y="137"/>
                                    </a:lnTo>
                                    <a:lnTo>
                                      <a:pt x="5" y="137"/>
                                    </a:lnTo>
                                    <a:lnTo>
                                      <a:pt x="0" y="137"/>
                                    </a:lnTo>
                                    <a:lnTo>
                                      <a:pt x="5" y="137"/>
                                    </a:lnTo>
                                    <a:lnTo>
                                      <a:pt x="22" y="142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efd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4120" bIns="-24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214" name=""/>
                            <p:cNvSpPr/>
                            <p:nvPr/>
                          </p:nvSpPr>
                          <p:spPr>
                            <a:xfrm rot="21030000">
                              <a:off x="2319120" y="1437480"/>
                              <a:ext cx="54360" cy="248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31" h="258">
                                  <a:moveTo>
                                    <a:pt x="121" y="0"/>
                                  </a:moveTo>
                                  <a:lnTo>
                                    <a:pt x="125" y="4"/>
                                  </a:lnTo>
                                  <a:lnTo>
                                    <a:pt x="130" y="4"/>
                                  </a:lnTo>
                                  <a:lnTo>
                                    <a:pt x="134" y="4"/>
                                  </a:lnTo>
                                  <a:lnTo>
                                    <a:pt x="138" y="4"/>
                                  </a:lnTo>
                                  <a:lnTo>
                                    <a:pt x="138" y="4"/>
                                  </a:lnTo>
                                  <a:lnTo>
                                    <a:pt x="143" y="4"/>
                                  </a:lnTo>
                                  <a:lnTo>
                                    <a:pt x="147" y="4"/>
                                  </a:lnTo>
                                  <a:lnTo>
                                    <a:pt x="151" y="4"/>
                                  </a:lnTo>
                                  <a:lnTo>
                                    <a:pt x="151" y="86"/>
                                  </a:lnTo>
                                  <a:lnTo>
                                    <a:pt x="177" y="90"/>
                                  </a:lnTo>
                                  <a:lnTo>
                                    <a:pt x="212" y="103"/>
                                  </a:lnTo>
                                  <a:lnTo>
                                    <a:pt x="246" y="120"/>
                                  </a:lnTo>
                                  <a:lnTo>
                                    <a:pt x="281" y="137"/>
                                  </a:lnTo>
                                  <a:lnTo>
                                    <a:pt x="324" y="155"/>
                                  </a:lnTo>
                                  <a:lnTo>
                                    <a:pt x="363" y="172"/>
                                  </a:lnTo>
                                  <a:lnTo>
                                    <a:pt x="406" y="185"/>
                                  </a:lnTo>
                                  <a:lnTo>
                                    <a:pt x="445" y="189"/>
                                  </a:lnTo>
                                  <a:lnTo>
                                    <a:pt x="449" y="193"/>
                                  </a:lnTo>
                                  <a:lnTo>
                                    <a:pt x="453" y="202"/>
                                  </a:lnTo>
                                  <a:lnTo>
                                    <a:pt x="466" y="210"/>
                                  </a:lnTo>
                                  <a:lnTo>
                                    <a:pt x="479" y="219"/>
                                  </a:lnTo>
                                  <a:lnTo>
                                    <a:pt x="492" y="228"/>
                                  </a:lnTo>
                                  <a:lnTo>
                                    <a:pt x="505" y="241"/>
                                  </a:lnTo>
                                  <a:lnTo>
                                    <a:pt x="518" y="249"/>
                                  </a:lnTo>
                                  <a:lnTo>
                                    <a:pt x="531" y="258"/>
                                  </a:lnTo>
                                  <a:lnTo>
                                    <a:pt x="458" y="253"/>
                                  </a:lnTo>
                                  <a:lnTo>
                                    <a:pt x="358" y="232"/>
                                  </a:lnTo>
                                  <a:lnTo>
                                    <a:pt x="225" y="232"/>
                                  </a:lnTo>
                                  <a:lnTo>
                                    <a:pt x="130" y="219"/>
                                  </a:lnTo>
                                  <a:lnTo>
                                    <a:pt x="87" y="198"/>
                                  </a:lnTo>
                                  <a:lnTo>
                                    <a:pt x="13" y="198"/>
                                  </a:lnTo>
                                  <a:lnTo>
                                    <a:pt x="0" y="159"/>
                                  </a:lnTo>
                                  <a:lnTo>
                                    <a:pt x="44" y="38"/>
                                  </a:lnTo>
                                  <a:lnTo>
                                    <a:pt x="121" y="0"/>
                                  </a:lnTo>
                                  <a:close/>
                                </a:path>
                              </a:pathLst>
                            </a:custGeom>
                            <a:blipFill rotWithShape="0">
                              <a:blip r:embed="rId92"/>
                              <a:srcRect/>
                              <a:tile tx="0" ty="0" sx="100000" sy="100000" algn="ctr"/>
                            </a:blipFill>
                            <a:ln w="9360">
                              <a:solidFill>
                                <a:srgbClr val="ffcc99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1960" bIns="-219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15" name=""/>
                          <p:cNvGrpSpPr/>
                          <p:nvPr/>
                        </p:nvGrpSpPr>
                        <p:grpSpPr>
                          <a:xfrm>
                            <a:off x="2394720" y="1415160"/>
                            <a:ext cx="568080" cy="693720"/>
                            <a:chOff x="2394720" y="1415160"/>
                            <a:chExt cx="568080" cy="693720"/>
                          </a:xfrm>
                        </p:grpSpPr>
                        <p:grpSp>
                          <p:nvGrpSpPr>
                            <p:cNvPr id="216" name=""/>
                            <p:cNvGrpSpPr/>
                            <p:nvPr/>
                          </p:nvGrpSpPr>
                          <p:grpSpPr>
                            <a:xfrm>
                              <a:off x="2537640" y="1563480"/>
                              <a:ext cx="274320" cy="97200"/>
                              <a:chOff x="2537640" y="1563480"/>
                              <a:chExt cx="274320" cy="97200"/>
                            </a:xfrm>
                          </p:grpSpPr>
                          <p:sp>
                            <p:nvSpPr>
                              <p:cNvPr id="217" name=""/>
                              <p:cNvSpPr/>
                              <p:nvPr/>
                            </p:nvSpPr>
                            <p:spPr>
                              <a:xfrm rot="21030000">
                                <a:off x="2539080" y="1608840"/>
                                <a:ext cx="78480" cy="26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68" h="275">
                                    <a:moveTo>
                                      <a:pt x="77" y="129"/>
                                    </a:moveTo>
                                    <a:lnTo>
                                      <a:pt x="86" y="125"/>
                                    </a:lnTo>
                                    <a:lnTo>
                                      <a:pt x="99" y="121"/>
                                    </a:lnTo>
                                    <a:lnTo>
                                      <a:pt x="112" y="112"/>
                                    </a:lnTo>
                                    <a:lnTo>
                                      <a:pt x="129" y="103"/>
                                    </a:lnTo>
                                    <a:lnTo>
                                      <a:pt x="142" y="95"/>
                                    </a:lnTo>
                                    <a:lnTo>
                                      <a:pt x="155" y="86"/>
                                    </a:lnTo>
                                    <a:lnTo>
                                      <a:pt x="168" y="82"/>
                                    </a:lnTo>
                                    <a:lnTo>
                                      <a:pt x="177" y="78"/>
                                    </a:lnTo>
                                    <a:lnTo>
                                      <a:pt x="181" y="60"/>
                                    </a:lnTo>
                                    <a:lnTo>
                                      <a:pt x="194" y="47"/>
                                    </a:lnTo>
                                    <a:lnTo>
                                      <a:pt x="211" y="39"/>
                                    </a:lnTo>
                                    <a:lnTo>
                                      <a:pt x="233" y="26"/>
                                    </a:lnTo>
                                    <a:lnTo>
                                      <a:pt x="293" y="13"/>
                                    </a:lnTo>
                                    <a:lnTo>
                                      <a:pt x="362" y="4"/>
                                    </a:lnTo>
                                    <a:lnTo>
                                      <a:pt x="436" y="0"/>
                                    </a:lnTo>
                                    <a:lnTo>
                                      <a:pt x="500" y="4"/>
                                    </a:lnTo>
                                    <a:lnTo>
                                      <a:pt x="556" y="9"/>
                                    </a:lnTo>
                                    <a:lnTo>
                                      <a:pt x="591" y="17"/>
                                    </a:lnTo>
                                    <a:lnTo>
                                      <a:pt x="591" y="30"/>
                                    </a:lnTo>
                                    <a:lnTo>
                                      <a:pt x="604" y="35"/>
                                    </a:lnTo>
                                    <a:lnTo>
                                      <a:pt x="621" y="43"/>
                                    </a:lnTo>
                                    <a:lnTo>
                                      <a:pt x="638" y="52"/>
                                    </a:lnTo>
                                    <a:lnTo>
                                      <a:pt x="660" y="60"/>
                                    </a:lnTo>
                                    <a:lnTo>
                                      <a:pt x="681" y="73"/>
                                    </a:lnTo>
                                    <a:lnTo>
                                      <a:pt x="699" y="82"/>
                                    </a:lnTo>
                                    <a:lnTo>
                                      <a:pt x="716" y="86"/>
                                    </a:lnTo>
                                    <a:lnTo>
                                      <a:pt x="729" y="86"/>
                                    </a:lnTo>
                                    <a:lnTo>
                                      <a:pt x="733" y="90"/>
                                    </a:lnTo>
                                    <a:lnTo>
                                      <a:pt x="738" y="95"/>
                                    </a:lnTo>
                                    <a:lnTo>
                                      <a:pt x="742" y="103"/>
                                    </a:lnTo>
                                    <a:lnTo>
                                      <a:pt x="751" y="108"/>
                                    </a:lnTo>
                                    <a:lnTo>
                                      <a:pt x="755" y="112"/>
                                    </a:lnTo>
                                    <a:lnTo>
                                      <a:pt x="759" y="112"/>
                                    </a:lnTo>
                                    <a:lnTo>
                                      <a:pt x="763" y="116"/>
                                    </a:lnTo>
                                    <a:lnTo>
                                      <a:pt x="768" y="116"/>
                                    </a:lnTo>
                                    <a:lnTo>
                                      <a:pt x="768" y="224"/>
                                    </a:lnTo>
                                    <a:lnTo>
                                      <a:pt x="742" y="245"/>
                                    </a:lnTo>
                                    <a:lnTo>
                                      <a:pt x="703" y="262"/>
                                    </a:lnTo>
                                    <a:lnTo>
                                      <a:pt x="656" y="271"/>
                                    </a:lnTo>
                                    <a:lnTo>
                                      <a:pt x="604" y="275"/>
                                    </a:lnTo>
                                    <a:lnTo>
                                      <a:pt x="552" y="275"/>
                                    </a:lnTo>
                                    <a:lnTo>
                                      <a:pt x="500" y="271"/>
                                    </a:lnTo>
                                    <a:lnTo>
                                      <a:pt x="457" y="262"/>
                                    </a:lnTo>
                                    <a:lnTo>
                                      <a:pt x="423" y="245"/>
                                    </a:lnTo>
                                    <a:lnTo>
                                      <a:pt x="423" y="237"/>
                                    </a:lnTo>
                                    <a:lnTo>
                                      <a:pt x="418" y="237"/>
                                    </a:lnTo>
                                    <a:lnTo>
                                      <a:pt x="410" y="237"/>
                                    </a:lnTo>
                                    <a:lnTo>
                                      <a:pt x="401" y="237"/>
                                    </a:lnTo>
                                    <a:lnTo>
                                      <a:pt x="388" y="237"/>
                                    </a:lnTo>
                                    <a:lnTo>
                                      <a:pt x="379" y="237"/>
                                    </a:lnTo>
                                    <a:lnTo>
                                      <a:pt x="371" y="241"/>
                                    </a:lnTo>
                                    <a:lnTo>
                                      <a:pt x="367" y="241"/>
                                    </a:lnTo>
                                    <a:lnTo>
                                      <a:pt x="362" y="245"/>
                                    </a:lnTo>
                                    <a:lnTo>
                                      <a:pt x="47" y="245"/>
                                    </a:lnTo>
                                    <a:lnTo>
                                      <a:pt x="43" y="245"/>
                                    </a:lnTo>
                                    <a:lnTo>
                                      <a:pt x="43" y="245"/>
                                    </a:lnTo>
                                    <a:lnTo>
                                      <a:pt x="39" y="241"/>
                                    </a:lnTo>
                                    <a:lnTo>
                                      <a:pt x="34" y="241"/>
                                    </a:lnTo>
                                    <a:lnTo>
                                      <a:pt x="30" y="237"/>
                                    </a:lnTo>
                                    <a:lnTo>
                                      <a:pt x="26" y="237"/>
                                    </a:lnTo>
                                    <a:lnTo>
                                      <a:pt x="21" y="237"/>
                                    </a:lnTo>
                                    <a:lnTo>
                                      <a:pt x="17" y="237"/>
                                    </a:lnTo>
                                    <a:lnTo>
                                      <a:pt x="0" y="215"/>
                                    </a:lnTo>
                                    <a:lnTo>
                                      <a:pt x="0" y="176"/>
                                    </a:lnTo>
                                    <a:lnTo>
                                      <a:pt x="4" y="172"/>
                                    </a:lnTo>
                                    <a:lnTo>
                                      <a:pt x="8" y="168"/>
                                    </a:lnTo>
                                    <a:lnTo>
                                      <a:pt x="13" y="164"/>
                                    </a:lnTo>
                                    <a:lnTo>
                                      <a:pt x="17" y="155"/>
                                    </a:lnTo>
                                    <a:lnTo>
                                      <a:pt x="21" y="151"/>
                                    </a:lnTo>
                                    <a:lnTo>
                                      <a:pt x="26" y="142"/>
                                    </a:lnTo>
                                    <a:lnTo>
                                      <a:pt x="30" y="133"/>
                                    </a:lnTo>
                                    <a:lnTo>
                                      <a:pt x="30" y="129"/>
                                    </a:lnTo>
                                    <a:lnTo>
                                      <a:pt x="34" y="125"/>
                                    </a:lnTo>
                                    <a:lnTo>
                                      <a:pt x="39" y="121"/>
                                    </a:lnTo>
                                    <a:lnTo>
                                      <a:pt x="47" y="116"/>
                                    </a:lnTo>
                                    <a:lnTo>
                                      <a:pt x="52" y="108"/>
                                    </a:lnTo>
                                    <a:lnTo>
                                      <a:pt x="60" y="103"/>
                                    </a:lnTo>
                                    <a:lnTo>
                                      <a:pt x="69" y="108"/>
                                    </a:lnTo>
                                    <a:lnTo>
                                      <a:pt x="73" y="112"/>
                                    </a:lnTo>
                                    <a:lnTo>
                                      <a:pt x="77" y="129"/>
                                    </a:lnTo>
                                    <a:close/>
                                  </a:path>
                                </a:pathLst>
                              </a:custGeom>
                              <a:blipFill rotWithShape="0">
                                <a:blip r:embed="rId93"/>
                                <a:srcRect/>
                                <a:tile tx="0" ty="0" sx="100000" sy="100000" algn="ctr"/>
                              </a:blip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0160" bIns="-20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18" name=""/>
                              <p:cNvSpPr/>
                              <p:nvPr/>
                            </p:nvSpPr>
                            <p:spPr>
                              <a:xfrm rot="21030000">
                                <a:off x="2666160" y="1574280"/>
                                <a:ext cx="140400" cy="752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72" h="778">
                                    <a:moveTo>
                                      <a:pt x="39" y="95"/>
                                    </a:moveTo>
                                    <a:lnTo>
                                      <a:pt x="86" y="65"/>
                                    </a:lnTo>
                                    <a:lnTo>
                                      <a:pt x="134" y="39"/>
                                    </a:lnTo>
                                    <a:lnTo>
                                      <a:pt x="190" y="22"/>
                                    </a:lnTo>
                                    <a:lnTo>
                                      <a:pt x="246" y="9"/>
                                    </a:lnTo>
                                    <a:lnTo>
                                      <a:pt x="306" y="0"/>
                                    </a:lnTo>
                                    <a:lnTo>
                                      <a:pt x="371" y="0"/>
                                    </a:lnTo>
                                    <a:lnTo>
                                      <a:pt x="431" y="0"/>
                                    </a:lnTo>
                                    <a:lnTo>
                                      <a:pt x="496" y="9"/>
                                    </a:lnTo>
                                    <a:lnTo>
                                      <a:pt x="561" y="17"/>
                                    </a:lnTo>
                                    <a:lnTo>
                                      <a:pt x="626" y="30"/>
                                    </a:lnTo>
                                    <a:lnTo>
                                      <a:pt x="686" y="47"/>
                                    </a:lnTo>
                                    <a:lnTo>
                                      <a:pt x="742" y="69"/>
                                    </a:lnTo>
                                    <a:lnTo>
                                      <a:pt x="798" y="95"/>
                                    </a:lnTo>
                                    <a:lnTo>
                                      <a:pt x="850" y="121"/>
                                    </a:lnTo>
                                    <a:lnTo>
                                      <a:pt x="897" y="146"/>
                                    </a:lnTo>
                                    <a:lnTo>
                                      <a:pt x="936" y="176"/>
                                    </a:lnTo>
                                    <a:lnTo>
                                      <a:pt x="936" y="198"/>
                                    </a:lnTo>
                                    <a:lnTo>
                                      <a:pt x="962" y="211"/>
                                    </a:lnTo>
                                    <a:lnTo>
                                      <a:pt x="992" y="228"/>
                                    </a:lnTo>
                                    <a:lnTo>
                                      <a:pt x="1027" y="241"/>
                                    </a:lnTo>
                                    <a:lnTo>
                                      <a:pt x="1066" y="254"/>
                                    </a:lnTo>
                                    <a:lnTo>
                                      <a:pt x="1148" y="284"/>
                                    </a:lnTo>
                                    <a:lnTo>
                                      <a:pt x="1234" y="318"/>
                                    </a:lnTo>
                                    <a:lnTo>
                                      <a:pt x="1273" y="336"/>
                                    </a:lnTo>
                                    <a:lnTo>
                                      <a:pt x="1307" y="357"/>
                                    </a:lnTo>
                                    <a:lnTo>
                                      <a:pt x="1333" y="379"/>
                                    </a:lnTo>
                                    <a:lnTo>
                                      <a:pt x="1355" y="404"/>
                                    </a:lnTo>
                                    <a:lnTo>
                                      <a:pt x="1363" y="422"/>
                                    </a:lnTo>
                                    <a:lnTo>
                                      <a:pt x="1368" y="434"/>
                                    </a:lnTo>
                                    <a:lnTo>
                                      <a:pt x="1372" y="452"/>
                                    </a:lnTo>
                                    <a:lnTo>
                                      <a:pt x="1372" y="469"/>
                                    </a:lnTo>
                                    <a:lnTo>
                                      <a:pt x="1372" y="486"/>
                                    </a:lnTo>
                                    <a:lnTo>
                                      <a:pt x="1368" y="503"/>
                                    </a:lnTo>
                                    <a:lnTo>
                                      <a:pt x="1359" y="520"/>
                                    </a:lnTo>
                                    <a:lnTo>
                                      <a:pt x="1346" y="542"/>
                                    </a:lnTo>
                                    <a:lnTo>
                                      <a:pt x="1316" y="546"/>
                                    </a:lnTo>
                                    <a:lnTo>
                                      <a:pt x="1286" y="551"/>
                                    </a:lnTo>
                                    <a:lnTo>
                                      <a:pt x="1255" y="563"/>
                                    </a:lnTo>
                                    <a:lnTo>
                                      <a:pt x="1225" y="572"/>
                                    </a:lnTo>
                                    <a:lnTo>
                                      <a:pt x="1191" y="585"/>
                                    </a:lnTo>
                                    <a:lnTo>
                                      <a:pt x="1161" y="594"/>
                                    </a:lnTo>
                                    <a:lnTo>
                                      <a:pt x="1130" y="602"/>
                                    </a:lnTo>
                                    <a:lnTo>
                                      <a:pt x="1100" y="602"/>
                                    </a:lnTo>
                                    <a:lnTo>
                                      <a:pt x="1070" y="632"/>
                                    </a:lnTo>
                                    <a:lnTo>
                                      <a:pt x="1027" y="662"/>
                                    </a:lnTo>
                                    <a:lnTo>
                                      <a:pt x="971" y="697"/>
                                    </a:lnTo>
                                    <a:lnTo>
                                      <a:pt x="910" y="731"/>
                                    </a:lnTo>
                                    <a:lnTo>
                                      <a:pt x="850" y="757"/>
                                    </a:lnTo>
                                    <a:lnTo>
                                      <a:pt x="790" y="774"/>
                                    </a:lnTo>
                                    <a:lnTo>
                                      <a:pt x="764" y="778"/>
                                    </a:lnTo>
                                    <a:lnTo>
                                      <a:pt x="738" y="778"/>
                                    </a:lnTo>
                                    <a:lnTo>
                                      <a:pt x="712" y="774"/>
                                    </a:lnTo>
                                    <a:lnTo>
                                      <a:pt x="695" y="766"/>
                                    </a:lnTo>
                                    <a:lnTo>
                                      <a:pt x="695" y="744"/>
                                    </a:lnTo>
                                    <a:lnTo>
                                      <a:pt x="664" y="731"/>
                                    </a:lnTo>
                                    <a:lnTo>
                                      <a:pt x="630" y="718"/>
                                    </a:lnTo>
                                    <a:lnTo>
                                      <a:pt x="582" y="701"/>
                                    </a:lnTo>
                                    <a:lnTo>
                                      <a:pt x="539" y="688"/>
                                    </a:lnTo>
                                    <a:lnTo>
                                      <a:pt x="492" y="680"/>
                                    </a:lnTo>
                                    <a:lnTo>
                                      <a:pt x="444" y="671"/>
                                    </a:lnTo>
                                    <a:lnTo>
                                      <a:pt x="401" y="667"/>
                                    </a:lnTo>
                                    <a:lnTo>
                                      <a:pt x="367" y="667"/>
                                    </a:lnTo>
                                    <a:lnTo>
                                      <a:pt x="345" y="645"/>
                                    </a:lnTo>
                                    <a:lnTo>
                                      <a:pt x="315" y="624"/>
                                    </a:lnTo>
                                    <a:lnTo>
                                      <a:pt x="280" y="602"/>
                                    </a:lnTo>
                                    <a:lnTo>
                                      <a:pt x="242" y="576"/>
                                    </a:lnTo>
                                    <a:lnTo>
                                      <a:pt x="203" y="555"/>
                                    </a:lnTo>
                                    <a:lnTo>
                                      <a:pt x="164" y="538"/>
                                    </a:lnTo>
                                    <a:lnTo>
                                      <a:pt x="129" y="529"/>
                                    </a:lnTo>
                                    <a:lnTo>
                                      <a:pt x="104" y="520"/>
                                    </a:lnTo>
                                    <a:lnTo>
                                      <a:pt x="99" y="499"/>
                                    </a:lnTo>
                                    <a:lnTo>
                                      <a:pt x="91" y="482"/>
                                    </a:lnTo>
                                    <a:lnTo>
                                      <a:pt x="82" y="460"/>
                                    </a:lnTo>
                                    <a:lnTo>
                                      <a:pt x="69" y="443"/>
                                    </a:lnTo>
                                    <a:lnTo>
                                      <a:pt x="60" y="422"/>
                                    </a:lnTo>
                                    <a:lnTo>
                                      <a:pt x="52" y="404"/>
                                    </a:lnTo>
                                    <a:lnTo>
                                      <a:pt x="43" y="383"/>
                                    </a:lnTo>
                                    <a:lnTo>
                                      <a:pt x="39" y="361"/>
                                    </a:lnTo>
                                    <a:lnTo>
                                      <a:pt x="35" y="357"/>
                                    </a:lnTo>
                                    <a:lnTo>
                                      <a:pt x="26" y="353"/>
                                    </a:lnTo>
                                    <a:lnTo>
                                      <a:pt x="22" y="344"/>
                                    </a:lnTo>
                                    <a:lnTo>
                                      <a:pt x="17" y="336"/>
                                    </a:lnTo>
                                    <a:lnTo>
                                      <a:pt x="9" y="305"/>
                                    </a:lnTo>
                                    <a:lnTo>
                                      <a:pt x="4" y="275"/>
                                    </a:lnTo>
                                    <a:lnTo>
                                      <a:pt x="0" y="241"/>
                                    </a:lnTo>
                                    <a:lnTo>
                                      <a:pt x="0" y="207"/>
                                    </a:lnTo>
                                    <a:lnTo>
                                      <a:pt x="0" y="176"/>
                                    </a:lnTo>
                                    <a:lnTo>
                                      <a:pt x="0" y="155"/>
                                    </a:lnTo>
                                    <a:lnTo>
                                      <a:pt x="9" y="155"/>
                                    </a:lnTo>
                                    <a:lnTo>
                                      <a:pt x="13" y="142"/>
                                    </a:lnTo>
                                    <a:lnTo>
                                      <a:pt x="22" y="129"/>
                                    </a:lnTo>
                                    <a:lnTo>
                                      <a:pt x="26" y="112"/>
                                    </a:lnTo>
                                    <a:lnTo>
                                      <a:pt x="35" y="95"/>
                                    </a:lnTo>
                                    <a:lnTo>
                                      <a:pt x="39" y="78"/>
                                    </a:lnTo>
                                    <a:lnTo>
                                      <a:pt x="39" y="65"/>
                                    </a:lnTo>
                                    <a:lnTo>
                                      <a:pt x="39" y="56"/>
                                    </a:lnTo>
                                    <a:lnTo>
                                      <a:pt x="39" y="95"/>
                                    </a:lnTo>
                                    <a:close/>
                                  </a:path>
                                </a:pathLst>
                              </a:custGeom>
                              <a:blipFill rotWithShape="0">
                                <a:blip r:embed="rId94"/>
                                <a:srcRect/>
                                <a:tile tx="0" ty="0" sx="100000" sy="100000" algn="ctr"/>
                              </a:blip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28440" bIns="284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19" name=""/>
                              <p:cNvSpPr/>
                              <p:nvPr/>
                            </p:nvSpPr>
                            <p:spPr>
                              <a:xfrm rot="21030000">
                                <a:off x="2690280" y="1584360"/>
                                <a:ext cx="84240" cy="453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824" h="469">
                                    <a:moveTo>
                                      <a:pt x="26" y="56"/>
                                    </a:moveTo>
                                    <a:lnTo>
                                      <a:pt x="51" y="39"/>
                                    </a:lnTo>
                                    <a:lnTo>
                                      <a:pt x="82" y="22"/>
                                    </a:lnTo>
                                    <a:lnTo>
                                      <a:pt x="116" y="13"/>
                                    </a:lnTo>
                                    <a:lnTo>
                                      <a:pt x="151" y="5"/>
                                    </a:lnTo>
                                    <a:lnTo>
                                      <a:pt x="185" y="0"/>
                                    </a:lnTo>
                                    <a:lnTo>
                                      <a:pt x="224" y="0"/>
                                    </a:lnTo>
                                    <a:lnTo>
                                      <a:pt x="263" y="0"/>
                                    </a:lnTo>
                                    <a:lnTo>
                                      <a:pt x="302" y="5"/>
                                    </a:lnTo>
                                    <a:lnTo>
                                      <a:pt x="375" y="18"/>
                                    </a:lnTo>
                                    <a:lnTo>
                                      <a:pt x="448" y="43"/>
                                    </a:lnTo>
                                    <a:lnTo>
                                      <a:pt x="483" y="56"/>
                                    </a:lnTo>
                                    <a:lnTo>
                                      <a:pt x="513" y="69"/>
                                    </a:lnTo>
                                    <a:lnTo>
                                      <a:pt x="539" y="86"/>
                                    </a:lnTo>
                                    <a:lnTo>
                                      <a:pt x="565" y="104"/>
                                    </a:lnTo>
                                    <a:lnTo>
                                      <a:pt x="565" y="108"/>
                                    </a:lnTo>
                                    <a:lnTo>
                                      <a:pt x="565" y="108"/>
                                    </a:lnTo>
                                    <a:lnTo>
                                      <a:pt x="565" y="112"/>
                                    </a:lnTo>
                                    <a:lnTo>
                                      <a:pt x="565" y="112"/>
                                    </a:lnTo>
                                    <a:lnTo>
                                      <a:pt x="565" y="112"/>
                                    </a:lnTo>
                                    <a:lnTo>
                                      <a:pt x="565" y="116"/>
                                    </a:lnTo>
                                    <a:lnTo>
                                      <a:pt x="565" y="116"/>
                                    </a:lnTo>
                                    <a:lnTo>
                                      <a:pt x="565" y="116"/>
                                    </a:lnTo>
                                    <a:lnTo>
                                      <a:pt x="595" y="134"/>
                                    </a:lnTo>
                                    <a:lnTo>
                                      <a:pt x="642" y="151"/>
                                    </a:lnTo>
                                    <a:lnTo>
                                      <a:pt x="690" y="168"/>
                                    </a:lnTo>
                                    <a:lnTo>
                                      <a:pt x="742" y="190"/>
                                    </a:lnTo>
                                    <a:lnTo>
                                      <a:pt x="763" y="202"/>
                                    </a:lnTo>
                                    <a:lnTo>
                                      <a:pt x="785" y="215"/>
                                    </a:lnTo>
                                    <a:lnTo>
                                      <a:pt x="802" y="228"/>
                                    </a:lnTo>
                                    <a:lnTo>
                                      <a:pt x="815" y="241"/>
                                    </a:lnTo>
                                    <a:lnTo>
                                      <a:pt x="824" y="258"/>
                                    </a:lnTo>
                                    <a:lnTo>
                                      <a:pt x="824" y="280"/>
                                    </a:lnTo>
                                    <a:lnTo>
                                      <a:pt x="819" y="301"/>
                                    </a:lnTo>
                                    <a:lnTo>
                                      <a:pt x="811" y="327"/>
                                    </a:lnTo>
                                    <a:lnTo>
                                      <a:pt x="789" y="327"/>
                                    </a:lnTo>
                                    <a:lnTo>
                                      <a:pt x="772" y="331"/>
                                    </a:lnTo>
                                    <a:lnTo>
                                      <a:pt x="755" y="336"/>
                                    </a:lnTo>
                                    <a:lnTo>
                                      <a:pt x="737" y="344"/>
                                    </a:lnTo>
                                    <a:lnTo>
                                      <a:pt x="716" y="349"/>
                                    </a:lnTo>
                                    <a:lnTo>
                                      <a:pt x="699" y="357"/>
                                    </a:lnTo>
                                    <a:lnTo>
                                      <a:pt x="681" y="362"/>
                                    </a:lnTo>
                                    <a:lnTo>
                                      <a:pt x="664" y="362"/>
                                    </a:lnTo>
                                    <a:lnTo>
                                      <a:pt x="642" y="379"/>
                                    </a:lnTo>
                                    <a:lnTo>
                                      <a:pt x="617" y="396"/>
                                    </a:lnTo>
                                    <a:lnTo>
                                      <a:pt x="586" y="417"/>
                                    </a:lnTo>
                                    <a:lnTo>
                                      <a:pt x="548" y="439"/>
                                    </a:lnTo>
                                    <a:lnTo>
                                      <a:pt x="513" y="456"/>
                                    </a:lnTo>
                                    <a:lnTo>
                                      <a:pt x="474" y="465"/>
                                    </a:lnTo>
                                    <a:lnTo>
                                      <a:pt x="461" y="469"/>
                                    </a:lnTo>
                                    <a:lnTo>
                                      <a:pt x="444" y="469"/>
                                    </a:lnTo>
                                    <a:lnTo>
                                      <a:pt x="431" y="465"/>
                                    </a:lnTo>
                                    <a:lnTo>
                                      <a:pt x="418" y="460"/>
                                    </a:lnTo>
                                    <a:lnTo>
                                      <a:pt x="418" y="456"/>
                                    </a:lnTo>
                                    <a:lnTo>
                                      <a:pt x="418" y="456"/>
                                    </a:lnTo>
                                    <a:lnTo>
                                      <a:pt x="418" y="456"/>
                                    </a:lnTo>
                                    <a:lnTo>
                                      <a:pt x="418" y="452"/>
                                    </a:lnTo>
                                    <a:lnTo>
                                      <a:pt x="418" y="452"/>
                                    </a:lnTo>
                                    <a:lnTo>
                                      <a:pt x="418" y="452"/>
                                    </a:lnTo>
                                    <a:lnTo>
                                      <a:pt x="418" y="448"/>
                                    </a:lnTo>
                                    <a:lnTo>
                                      <a:pt x="418" y="448"/>
                                    </a:lnTo>
                                    <a:lnTo>
                                      <a:pt x="401" y="439"/>
                                    </a:lnTo>
                                    <a:lnTo>
                                      <a:pt x="379" y="430"/>
                                    </a:lnTo>
                                    <a:lnTo>
                                      <a:pt x="353" y="422"/>
                                    </a:lnTo>
                                    <a:lnTo>
                                      <a:pt x="323" y="413"/>
                                    </a:lnTo>
                                    <a:lnTo>
                                      <a:pt x="297" y="409"/>
                                    </a:lnTo>
                                    <a:lnTo>
                                      <a:pt x="267" y="405"/>
                                    </a:lnTo>
                                    <a:lnTo>
                                      <a:pt x="241" y="400"/>
                                    </a:lnTo>
                                    <a:lnTo>
                                      <a:pt x="220" y="400"/>
                                    </a:lnTo>
                                    <a:lnTo>
                                      <a:pt x="211" y="387"/>
                                    </a:lnTo>
                                    <a:lnTo>
                                      <a:pt x="194" y="374"/>
                                    </a:lnTo>
                                    <a:lnTo>
                                      <a:pt x="172" y="362"/>
                                    </a:lnTo>
                                    <a:lnTo>
                                      <a:pt x="146" y="344"/>
                                    </a:lnTo>
                                    <a:lnTo>
                                      <a:pt x="125" y="331"/>
                                    </a:lnTo>
                                    <a:lnTo>
                                      <a:pt x="99" y="323"/>
                                    </a:lnTo>
                                    <a:lnTo>
                                      <a:pt x="77" y="314"/>
                                    </a:lnTo>
                                    <a:lnTo>
                                      <a:pt x="64" y="314"/>
                                    </a:lnTo>
                                    <a:lnTo>
                                      <a:pt x="60" y="301"/>
                                    </a:lnTo>
                                    <a:lnTo>
                                      <a:pt x="56" y="288"/>
                                    </a:lnTo>
                                    <a:lnTo>
                                      <a:pt x="51" y="276"/>
                                    </a:lnTo>
                                    <a:lnTo>
                                      <a:pt x="43" y="263"/>
                                    </a:lnTo>
                                    <a:lnTo>
                                      <a:pt x="38" y="254"/>
                                    </a:lnTo>
                                    <a:lnTo>
                                      <a:pt x="30" y="241"/>
                                    </a:lnTo>
                                    <a:lnTo>
                                      <a:pt x="26" y="228"/>
                                    </a:lnTo>
                                    <a:lnTo>
                                      <a:pt x="26" y="215"/>
                                    </a:lnTo>
                                    <a:lnTo>
                                      <a:pt x="17" y="211"/>
                                    </a:lnTo>
                                    <a:lnTo>
                                      <a:pt x="13" y="198"/>
                                    </a:lnTo>
                                    <a:lnTo>
                                      <a:pt x="8" y="185"/>
                                    </a:lnTo>
                                    <a:lnTo>
                                      <a:pt x="4" y="164"/>
                                    </a:lnTo>
                                    <a:lnTo>
                                      <a:pt x="4" y="142"/>
                                    </a:lnTo>
                                    <a:lnTo>
                                      <a:pt x="4" y="121"/>
                                    </a:lnTo>
                                    <a:lnTo>
                                      <a:pt x="0" y="104"/>
                                    </a:lnTo>
                                    <a:lnTo>
                                      <a:pt x="0" y="95"/>
                                    </a:lnTo>
                                    <a:lnTo>
                                      <a:pt x="4" y="91"/>
                                    </a:lnTo>
                                    <a:lnTo>
                                      <a:pt x="13" y="86"/>
                                    </a:lnTo>
                                    <a:lnTo>
                                      <a:pt x="13" y="78"/>
                                    </a:lnTo>
                                    <a:lnTo>
                                      <a:pt x="17" y="69"/>
                                    </a:lnTo>
                                    <a:lnTo>
                                      <a:pt x="21" y="56"/>
                                    </a:lnTo>
                                    <a:lnTo>
                                      <a:pt x="26" y="48"/>
                                    </a:lnTo>
                                    <a:lnTo>
                                      <a:pt x="26" y="39"/>
                                    </a:lnTo>
                                    <a:lnTo>
                                      <a:pt x="26" y="30"/>
                                    </a:lnTo>
                                    <a:lnTo>
                                      <a:pt x="26" y="35"/>
                                    </a:lnTo>
                                    <a:lnTo>
                                      <a:pt x="26" y="39"/>
                                    </a:lnTo>
                                    <a:lnTo>
                                      <a:pt x="26" y="43"/>
                                    </a:lnTo>
                                    <a:lnTo>
                                      <a:pt x="26" y="43"/>
                                    </a:lnTo>
                                    <a:lnTo>
                                      <a:pt x="26" y="48"/>
                                    </a:lnTo>
                                    <a:lnTo>
                                      <a:pt x="26" y="52"/>
                                    </a:lnTo>
                                    <a:lnTo>
                                      <a:pt x="26" y="52"/>
                                    </a:lnTo>
                                    <a:lnTo>
                                      <a:pt x="26" y="56"/>
                                    </a:lnTo>
                                    <a:close/>
                                  </a:path>
                                </a:pathLst>
                              </a:custGeom>
                              <a:blipFill rotWithShape="0">
                                <a:blip r:embed="rId95"/>
                                <a:srcRect/>
                                <a:tile tx="0" ty="0" sx="100000" sy="100000" algn="ctr"/>
                              </a:blip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440" bIns="-14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20" name=""/>
                            <p:cNvGrpSpPr/>
                            <p:nvPr/>
                          </p:nvGrpSpPr>
                          <p:grpSpPr>
                            <a:xfrm>
                              <a:off x="2394720" y="1415160"/>
                              <a:ext cx="568080" cy="693720"/>
                              <a:chOff x="2394720" y="1415160"/>
                              <a:chExt cx="568080" cy="693720"/>
                            </a:xfrm>
                          </p:grpSpPr>
                          <p:grpSp>
                            <p:nvGrpSpPr>
                              <p:cNvPr id="221" name=""/>
                              <p:cNvGrpSpPr/>
                              <p:nvPr/>
                            </p:nvGrpSpPr>
                            <p:grpSpPr>
                              <a:xfrm>
                                <a:off x="2433960" y="1466640"/>
                                <a:ext cx="528840" cy="439560"/>
                                <a:chOff x="2433960" y="1466640"/>
                                <a:chExt cx="528840" cy="439560"/>
                              </a:xfrm>
                            </p:grpSpPr>
                            <p:sp>
                              <p:nvSpPr>
                                <p:cNvPr id="222" name=""/>
                                <p:cNvSpPr/>
                                <p:nvPr/>
                              </p:nvSpPr>
                              <p:spPr>
                                <a:xfrm rot="21030000">
                                  <a:off x="2771280" y="1627560"/>
                                  <a:ext cx="77040" cy="1476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755" h="1526">
                                      <a:moveTo>
                                        <a:pt x="39" y="774"/>
                                      </a:moveTo>
                                      <a:lnTo>
                                        <a:pt x="69" y="855"/>
                                      </a:lnTo>
                                      <a:lnTo>
                                        <a:pt x="95" y="946"/>
                                      </a:lnTo>
                                      <a:lnTo>
                                        <a:pt x="116" y="1040"/>
                                      </a:lnTo>
                                      <a:lnTo>
                                        <a:pt x="133" y="1143"/>
                                      </a:lnTo>
                                      <a:lnTo>
                                        <a:pt x="146" y="1242"/>
                                      </a:lnTo>
                                      <a:lnTo>
                                        <a:pt x="155" y="1341"/>
                                      </a:lnTo>
                                      <a:lnTo>
                                        <a:pt x="159" y="1436"/>
                                      </a:lnTo>
                                      <a:lnTo>
                                        <a:pt x="164" y="1526"/>
                                      </a:lnTo>
                                      <a:lnTo>
                                        <a:pt x="190" y="1492"/>
                                      </a:lnTo>
                                      <a:lnTo>
                                        <a:pt x="211" y="1462"/>
                                      </a:lnTo>
                                      <a:lnTo>
                                        <a:pt x="228" y="1427"/>
                                      </a:lnTo>
                                      <a:lnTo>
                                        <a:pt x="237" y="1388"/>
                                      </a:lnTo>
                                      <a:lnTo>
                                        <a:pt x="246" y="1354"/>
                                      </a:lnTo>
                                      <a:lnTo>
                                        <a:pt x="246" y="1315"/>
                                      </a:lnTo>
                                      <a:lnTo>
                                        <a:pt x="246" y="1277"/>
                                      </a:lnTo>
                                      <a:lnTo>
                                        <a:pt x="246" y="1238"/>
                                      </a:lnTo>
                                      <a:lnTo>
                                        <a:pt x="233" y="1161"/>
                                      </a:lnTo>
                                      <a:lnTo>
                                        <a:pt x="220" y="1083"/>
                                      </a:lnTo>
                                      <a:lnTo>
                                        <a:pt x="207" y="1006"/>
                                      </a:lnTo>
                                      <a:lnTo>
                                        <a:pt x="202" y="937"/>
                                      </a:lnTo>
                                      <a:lnTo>
                                        <a:pt x="215" y="937"/>
                                      </a:lnTo>
                                      <a:lnTo>
                                        <a:pt x="228" y="946"/>
                                      </a:lnTo>
                                      <a:lnTo>
                                        <a:pt x="246" y="954"/>
                                      </a:lnTo>
                                      <a:lnTo>
                                        <a:pt x="263" y="967"/>
                                      </a:lnTo>
                                      <a:lnTo>
                                        <a:pt x="302" y="1001"/>
                                      </a:lnTo>
                                      <a:lnTo>
                                        <a:pt x="345" y="1044"/>
                                      </a:lnTo>
                                      <a:lnTo>
                                        <a:pt x="384" y="1083"/>
                                      </a:lnTo>
                                      <a:lnTo>
                                        <a:pt x="418" y="1126"/>
                                      </a:lnTo>
                                      <a:lnTo>
                                        <a:pt x="448" y="1156"/>
                                      </a:lnTo>
                                      <a:lnTo>
                                        <a:pt x="470" y="1178"/>
                                      </a:lnTo>
                                      <a:lnTo>
                                        <a:pt x="470" y="1139"/>
                                      </a:lnTo>
                                      <a:lnTo>
                                        <a:pt x="470" y="1092"/>
                                      </a:lnTo>
                                      <a:lnTo>
                                        <a:pt x="470" y="1044"/>
                                      </a:lnTo>
                                      <a:lnTo>
                                        <a:pt x="474" y="997"/>
                                      </a:lnTo>
                                      <a:lnTo>
                                        <a:pt x="479" y="946"/>
                                      </a:lnTo>
                                      <a:lnTo>
                                        <a:pt x="487" y="898"/>
                                      </a:lnTo>
                                      <a:lnTo>
                                        <a:pt x="496" y="855"/>
                                      </a:lnTo>
                                      <a:lnTo>
                                        <a:pt x="509" y="812"/>
                                      </a:lnTo>
                                      <a:lnTo>
                                        <a:pt x="504" y="804"/>
                                      </a:lnTo>
                                      <a:lnTo>
                                        <a:pt x="500" y="791"/>
                                      </a:lnTo>
                                      <a:lnTo>
                                        <a:pt x="492" y="774"/>
                                      </a:lnTo>
                                      <a:lnTo>
                                        <a:pt x="479" y="752"/>
                                      </a:lnTo>
                                      <a:lnTo>
                                        <a:pt x="466" y="735"/>
                                      </a:lnTo>
                                      <a:lnTo>
                                        <a:pt x="457" y="718"/>
                                      </a:lnTo>
                                      <a:lnTo>
                                        <a:pt x="448" y="700"/>
                                      </a:lnTo>
                                      <a:lnTo>
                                        <a:pt x="448" y="692"/>
                                      </a:lnTo>
                                      <a:lnTo>
                                        <a:pt x="569" y="692"/>
                                      </a:lnTo>
                                      <a:lnTo>
                                        <a:pt x="591" y="365"/>
                                      </a:lnTo>
                                      <a:lnTo>
                                        <a:pt x="604" y="369"/>
                                      </a:lnTo>
                                      <a:lnTo>
                                        <a:pt x="621" y="378"/>
                                      </a:lnTo>
                                      <a:lnTo>
                                        <a:pt x="638" y="391"/>
                                      </a:lnTo>
                                      <a:lnTo>
                                        <a:pt x="651" y="408"/>
                                      </a:lnTo>
                                      <a:lnTo>
                                        <a:pt x="668" y="421"/>
                                      </a:lnTo>
                                      <a:lnTo>
                                        <a:pt x="681" y="434"/>
                                      </a:lnTo>
                                      <a:lnTo>
                                        <a:pt x="699" y="442"/>
                                      </a:lnTo>
                                      <a:lnTo>
                                        <a:pt x="712" y="447"/>
                                      </a:lnTo>
                                      <a:lnTo>
                                        <a:pt x="707" y="447"/>
                                      </a:lnTo>
                                      <a:lnTo>
                                        <a:pt x="699" y="438"/>
                                      </a:lnTo>
                                      <a:lnTo>
                                        <a:pt x="694" y="430"/>
                                      </a:lnTo>
                                      <a:lnTo>
                                        <a:pt x="690" y="417"/>
                                      </a:lnTo>
                                      <a:lnTo>
                                        <a:pt x="681" y="387"/>
                                      </a:lnTo>
                                      <a:lnTo>
                                        <a:pt x="673" y="352"/>
                                      </a:lnTo>
                                      <a:lnTo>
                                        <a:pt x="668" y="313"/>
                                      </a:lnTo>
                                      <a:lnTo>
                                        <a:pt x="664" y="275"/>
                                      </a:lnTo>
                                      <a:lnTo>
                                        <a:pt x="660" y="245"/>
                                      </a:lnTo>
                                      <a:lnTo>
                                        <a:pt x="651" y="223"/>
                                      </a:lnTo>
                                      <a:lnTo>
                                        <a:pt x="660" y="215"/>
                                      </a:lnTo>
                                      <a:lnTo>
                                        <a:pt x="668" y="210"/>
                                      </a:lnTo>
                                      <a:lnTo>
                                        <a:pt x="681" y="202"/>
                                      </a:lnTo>
                                      <a:lnTo>
                                        <a:pt x="694" y="197"/>
                                      </a:lnTo>
                                      <a:lnTo>
                                        <a:pt x="707" y="193"/>
                                      </a:lnTo>
                                      <a:lnTo>
                                        <a:pt x="724" y="189"/>
                                      </a:lnTo>
                                      <a:lnTo>
                                        <a:pt x="737" y="184"/>
                                      </a:lnTo>
                                      <a:lnTo>
                                        <a:pt x="755" y="184"/>
                                      </a:lnTo>
                                      <a:lnTo>
                                        <a:pt x="750" y="163"/>
                                      </a:lnTo>
                                      <a:lnTo>
                                        <a:pt x="746" y="137"/>
                                      </a:lnTo>
                                      <a:lnTo>
                                        <a:pt x="737" y="107"/>
                                      </a:lnTo>
                                      <a:lnTo>
                                        <a:pt x="729" y="77"/>
                                      </a:lnTo>
                                      <a:lnTo>
                                        <a:pt x="716" y="47"/>
                                      </a:lnTo>
                                      <a:lnTo>
                                        <a:pt x="703" y="25"/>
                                      </a:lnTo>
                                      <a:lnTo>
                                        <a:pt x="686" y="8"/>
                                      </a:lnTo>
                                      <a:lnTo>
                                        <a:pt x="673" y="0"/>
                                      </a:lnTo>
                                      <a:lnTo>
                                        <a:pt x="673" y="206"/>
                                      </a:lnTo>
                                      <a:lnTo>
                                        <a:pt x="655" y="202"/>
                                      </a:lnTo>
                                      <a:lnTo>
                                        <a:pt x="638" y="193"/>
                                      </a:lnTo>
                                      <a:lnTo>
                                        <a:pt x="621" y="184"/>
                                      </a:lnTo>
                                      <a:lnTo>
                                        <a:pt x="604" y="172"/>
                                      </a:lnTo>
                                      <a:lnTo>
                                        <a:pt x="586" y="163"/>
                                      </a:lnTo>
                                      <a:lnTo>
                                        <a:pt x="573" y="154"/>
                                      </a:lnTo>
                                      <a:lnTo>
                                        <a:pt x="561" y="146"/>
                                      </a:lnTo>
                                      <a:lnTo>
                                        <a:pt x="548" y="141"/>
                                      </a:lnTo>
                                      <a:lnTo>
                                        <a:pt x="552" y="146"/>
                                      </a:lnTo>
                                      <a:lnTo>
                                        <a:pt x="556" y="159"/>
                                      </a:lnTo>
                                      <a:lnTo>
                                        <a:pt x="561" y="176"/>
                                      </a:lnTo>
                                      <a:lnTo>
                                        <a:pt x="569" y="197"/>
                                      </a:lnTo>
                                      <a:lnTo>
                                        <a:pt x="578" y="223"/>
                                      </a:lnTo>
                                      <a:lnTo>
                                        <a:pt x="582" y="245"/>
                                      </a:lnTo>
                                      <a:lnTo>
                                        <a:pt x="586" y="266"/>
                                      </a:lnTo>
                                      <a:lnTo>
                                        <a:pt x="591" y="283"/>
                                      </a:lnTo>
                                      <a:lnTo>
                                        <a:pt x="569" y="326"/>
                                      </a:lnTo>
                                      <a:lnTo>
                                        <a:pt x="561" y="322"/>
                                      </a:lnTo>
                                      <a:lnTo>
                                        <a:pt x="543" y="318"/>
                                      </a:lnTo>
                                      <a:lnTo>
                                        <a:pt x="526" y="313"/>
                                      </a:lnTo>
                                      <a:lnTo>
                                        <a:pt x="509" y="305"/>
                                      </a:lnTo>
                                      <a:lnTo>
                                        <a:pt x="492" y="292"/>
                                      </a:lnTo>
                                      <a:lnTo>
                                        <a:pt x="474" y="283"/>
                                      </a:lnTo>
                                      <a:lnTo>
                                        <a:pt x="457" y="275"/>
                                      </a:lnTo>
                                      <a:lnTo>
                                        <a:pt x="448" y="266"/>
                                      </a:lnTo>
                                      <a:lnTo>
                                        <a:pt x="435" y="313"/>
                                      </a:lnTo>
                                      <a:lnTo>
                                        <a:pt x="431" y="369"/>
                                      </a:lnTo>
                                      <a:lnTo>
                                        <a:pt x="431" y="430"/>
                                      </a:lnTo>
                                      <a:lnTo>
                                        <a:pt x="435" y="490"/>
                                      </a:lnTo>
                                      <a:lnTo>
                                        <a:pt x="448" y="554"/>
                                      </a:lnTo>
                                      <a:lnTo>
                                        <a:pt x="457" y="614"/>
                                      </a:lnTo>
                                      <a:lnTo>
                                        <a:pt x="474" y="675"/>
                                      </a:lnTo>
                                      <a:lnTo>
                                        <a:pt x="487" y="731"/>
                                      </a:lnTo>
                                      <a:lnTo>
                                        <a:pt x="470" y="774"/>
                                      </a:lnTo>
                                      <a:lnTo>
                                        <a:pt x="435" y="769"/>
                                      </a:lnTo>
                                      <a:lnTo>
                                        <a:pt x="410" y="761"/>
                                      </a:lnTo>
                                      <a:lnTo>
                                        <a:pt x="388" y="743"/>
                                      </a:lnTo>
                                      <a:lnTo>
                                        <a:pt x="366" y="726"/>
                                      </a:lnTo>
                                      <a:lnTo>
                                        <a:pt x="349" y="700"/>
                                      </a:lnTo>
                                      <a:lnTo>
                                        <a:pt x="336" y="675"/>
                                      </a:lnTo>
                                      <a:lnTo>
                                        <a:pt x="323" y="649"/>
                                      </a:lnTo>
                                      <a:lnTo>
                                        <a:pt x="315" y="619"/>
                                      </a:lnTo>
                                      <a:lnTo>
                                        <a:pt x="297" y="563"/>
                                      </a:lnTo>
                                      <a:lnTo>
                                        <a:pt x="280" y="516"/>
                                      </a:lnTo>
                                      <a:lnTo>
                                        <a:pt x="267" y="498"/>
                                      </a:lnTo>
                                      <a:lnTo>
                                        <a:pt x="254" y="481"/>
                                      </a:lnTo>
                                      <a:lnTo>
                                        <a:pt x="241" y="473"/>
                                      </a:lnTo>
                                      <a:lnTo>
                                        <a:pt x="224" y="468"/>
                                      </a:lnTo>
                                      <a:lnTo>
                                        <a:pt x="224" y="516"/>
                                      </a:lnTo>
                                      <a:lnTo>
                                        <a:pt x="224" y="567"/>
                                      </a:lnTo>
                                      <a:lnTo>
                                        <a:pt x="224" y="619"/>
                                      </a:lnTo>
                                      <a:lnTo>
                                        <a:pt x="228" y="670"/>
                                      </a:lnTo>
                                      <a:lnTo>
                                        <a:pt x="233" y="718"/>
                                      </a:lnTo>
                                      <a:lnTo>
                                        <a:pt x="241" y="769"/>
                                      </a:lnTo>
                                      <a:lnTo>
                                        <a:pt x="250" y="812"/>
                                      </a:lnTo>
                                      <a:lnTo>
                                        <a:pt x="263" y="855"/>
                                      </a:lnTo>
                                      <a:lnTo>
                                        <a:pt x="263" y="864"/>
                                      </a:lnTo>
                                      <a:lnTo>
                                        <a:pt x="259" y="868"/>
                                      </a:lnTo>
                                      <a:lnTo>
                                        <a:pt x="250" y="877"/>
                                      </a:lnTo>
                                      <a:lnTo>
                                        <a:pt x="246" y="885"/>
                                      </a:lnTo>
                                      <a:lnTo>
                                        <a:pt x="237" y="894"/>
                                      </a:lnTo>
                                      <a:lnTo>
                                        <a:pt x="228" y="898"/>
                                      </a:lnTo>
                                      <a:lnTo>
                                        <a:pt x="224" y="907"/>
                                      </a:lnTo>
                                      <a:lnTo>
                                        <a:pt x="224" y="915"/>
                                      </a:lnTo>
                                      <a:lnTo>
                                        <a:pt x="202" y="915"/>
                                      </a:lnTo>
                                      <a:lnTo>
                                        <a:pt x="181" y="915"/>
                                      </a:lnTo>
                                      <a:lnTo>
                                        <a:pt x="168" y="860"/>
                                      </a:lnTo>
                                      <a:lnTo>
                                        <a:pt x="159" y="799"/>
                                      </a:lnTo>
                                      <a:lnTo>
                                        <a:pt x="151" y="739"/>
                                      </a:lnTo>
                                      <a:lnTo>
                                        <a:pt x="138" y="679"/>
                                      </a:lnTo>
                                      <a:lnTo>
                                        <a:pt x="129" y="649"/>
                                      </a:lnTo>
                                      <a:lnTo>
                                        <a:pt x="116" y="623"/>
                                      </a:lnTo>
                                      <a:lnTo>
                                        <a:pt x="108" y="593"/>
                                      </a:lnTo>
                                      <a:lnTo>
                                        <a:pt x="90" y="571"/>
                                      </a:lnTo>
                                      <a:lnTo>
                                        <a:pt x="73" y="546"/>
                                      </a:lnTo>
                                      <a:lnTo>
                                        <a:pt x="51" y="524"/>
                                      </a:lnTo>
                                      <a:lnTo>
                                        <a:pt x="26" y="507"/>
                                      </a:lnTo>
                                      <a:lnTo>
                                        <a:pt x="0" y="490"/>
                                      </a:lnTo>
                                      <a:lnTo>
                                        <a:pt x="0" y="520"/>
                                      </a:lnTo>
                                      <a:lnTo>
                                        <a:pt x="4" y="554"/>
                                      </a:lnTo>
                                      <a:lnTo>
                                        <a:pt x="4" y="593"/>
                                      </a:lnTo>
                                      <a:lnTo>
                                        <a:pt x="8" y="632"/>
                                      </a:lnTo>
                                      <a:lnTo>
                                        <a:pt x="13" y="670"/>
                                      </a:lnTo>
                                      <a:lnTo>
                                        <a:pt x="17" y="705"/>
                                      </a:lnTo>
                                      <a:lnTo>
                                        <a:pt x="17" y="739"/>
                                      </a:lnTo>
                                      <a:lnTo>
                                        <a:pt x="21" y="774"/>
                                      </a:lnTo>
                                      <a:lnTo>
                                        <a:pt x="60" y="795"/>
                                      </a:lnTo>
                                      <a:lnTo>
                                        <a:pt x="39" y="774"/>
                                      </a:lnTo>
                                      <a:close/>
                                    </a:path>
                                  </a:pathLst>
                                </a:custGeom>
                                <a:blipFill rotWithShape="0">
                                  <a:blip r:embed="rId96"/>
                                  <a:srcRect/>
                                  <a:tile tx="0" ty="0" sx="100000" sy="100000" algn="ctr"/>
                                </a:blip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23" name=""/>
                                <p:cNvSpPr/>
                                <p:nvPr/>
                              </p:nvSpPr>
                              <p:spPr>
                                <a:xfrm rot="21030000">
                                  <a:off x="2757960" y="1585800"/>
                                  <a:ext cx="180720" cy="30744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65" h="3173">
                                      <a:moveTo>
                                        <a:pt x="1277" y="185"/>
                                      </a:moveTo>
                                      <a:lnTo>
                                        <a:pt x="1303" y="275"/>
                                      </a:lnTo>
                                      <a:lnTo>
                                        <a:pt x="1333" y="383"/>
                                      </a:lnTo>
                                      <a:lnTo>
                                        <a:pt x="1364" y="495"/>
                                      </a:lnTo>
                                      <a:lnTo>
                                        <a:pt x="1385" y="615"/>
                                      </a:lnTo>
                                      <a:lnTo>
                                        <a:pt x="1389" y="671"/>
                                      </a:lnTo>
                                      <a:lnTo>
                                        <a:pt x="1394" y="727"/>
                                      </a:lnTo>
                                      <a:lnTo>
                                        <a:pt x="1394" y="783"/>
                                      </a:lnTo>
                                      <a:lnTo>
                                        <a:pt x="1389" y="834"/>
                                      </a:lnTo>
                                      <a:lnTo>
                                        <a:pt x="1381" y="882"/>
                                      </a:lnTo>
                                      <a:lnTo>
                                        <a:pt x="1368" y="925"/>
                                      </a:lnTo>
                                      <a:lnTo>
                                        <a:pt x="1346" y="963"/>
                                      </a:lnTo>
                                      <a:lnTo>
                                        <a:pt x="1320" y="998"/>
                                      </a:lnTo>
                                      <a:lnTo>
                                        <a:pt x="1329" y="998"/>
                                      </a:lnTo>
                                      <a:lnTo>
                                        <a:pt x="1333" y="993"/>
                                      </a:lnTo>
                                      <a:lnTo>
                                        <a:pt x="1342" y="989"/>
                                      </a:lnTo>
                                      <a:lnTo>
                                        <a:pt x="1346" y="985"/>
                                      </a:lnTo>
                                      <a:lnTo>
                                        <a:pt x="1355" y="976"/>
                                      </a:lnTo>
                                      <a:lnTo>
                                        <a:pt x="1355" y="972"/>
                                      </a:lnTo>
                                      <a:lnTo>
                                        <a:pt x="1359" y="963"/>
                                      </a:lnTo>
                                      <a:lnTo>
                                        <a:pt x="1359" y="955"/>
                                      </a:lnTo>
                                      <a:lnTo>
                                        <a:pt x="1359" y="933"/>
                                      </a:lnTo>
                                      <a:lnTo>
                                        <a:pt x="1355" y="912"/>
                                      </a:lnTo>
                                      <a:lnTo>
                                        <a:pt x="1351" y="890"/>
                                      </a:lnTo>
                                      <a:lnTo>
                                        <a:pt x="1342" y="869"/>
                                      </a:lnTo>
                                      <a:lnTo>
                                        <a:pt x="1333" y="851"/>
                                      </a:lnTo>
                                      <a:lnTo>
                                        <a:pt x="1316" y="834"/>
                                      </a:lnTo>
                                      <a:lnTo>
                                        <a:pt x="1299" y="821"/>
                                      </a:lnTo>
                                      <a:lnTo>
                                        <a:pt x="1277" y="813"/>
                                      </a:lnTo>
                                      <a:lnTo>
                                        <a:pt x="1238" y="1320"/>
                                      </a:lnTo>
                                      <a:lnTo>
                                        <a:pt x="1230" y="1307"/>
                                      </a:lnTo>
                                      <a:lnTo>
                                        <a:pt x="1221" y="1290"/>
                                      </a:lnTo>
                                      <a:lnTo>
                                        <a:pt x="1213" y="1277"/>
                                      </a:lnTo>
                                      <a:lnTo>
                                        <a:pt x="1204" y="1260"/>
                                      </a:lnTo>
                                      <a:lnTo>
                                        <a:pt x="1195" y="1247"/>
                                      </a:lnTo>
                                      <a:lnTo>
                                        <a:pt x="1182" y="1230"/>
                                      </a:lnTo>
                                      <a:lnTo>
                                        <a:pt x="1169" y="1217"/>
                                      </a:lnTo>
                                      <a:lnTo>
                                        <a:pt x="1156" y="1200"/>
                                      </a:lnTo>
                                      <a:lnTo>
                                        <a:pt x="1144" y="1234"/>
                                      </a:lnTo>
                                      <a:lnTo>
                                        <a:pt x="1139" y="1273"/>
                                      </a:lnTo>
                                      <a:lnTo>
                                        <a:pt x="1135" y="1312"/>
                                      </a:lnTo>
                                      <a:lnTo>
                                        <a:pt x="1139" y="1355"/>
                                      </a:lnTo>
                                      <a:lnTo>
                                        <a:pt x="1148" y="1441"/>
                                      </a:lnTo>
                                      <a:lnTo>
                                        <a:pt x="1161" y="1531"/>
                                      </a:lnTo>
                                      <a:lnTo>
                                        <a:pt x="1161" y="1578"/>
                                      </a:lnTo>
                                      <a:lnTo>
                                        <a:pt x="1165" y="1621"/>
                                      </a:lnTo>
                                      <a:lnTo>
                                        <a:pt x="1161" y="1668"/>
                                      </a:lnTo>
                                      <a:lnTo>
                                        <a:pt x="1152" y="1716"/>
                                      </a:lnTo>
                                      <a:lnTo>
                                        <a:pt x="1139" y="1759"/>
                                      </a:lnTo>
                                      <a:lnTo>
                                        <a:pt x="1122" y="1806"/>
                                      </a:lnTo>
                                      <a:lnTo>
                                        <a:pt x="1092" y="1849"/>
                                      </a:lnTo>
                                      <a:lnTo>
                                        <a:pt x="1053" y="1892"/>
                                      </a:lnTo>
                                      <a:lnTo>
                                        <a:pt x="1036" y="1892"/>
                                      </a:lnTo>
                                      <a:lnTo>
                                        <a:pt x="1014" y="1892"/>
                                      </a:lnTo>
                                      <a:lnTo>
                                        <a:pt x="1010" y="1875"/>
                                      </a:lnTo>
                                      <a:lnTo>
                                        <a:pt x="1005" y="1858"/>
                                      </a:lnTo>
                                      <a:lnTo>
                                        <a:pt x="1001" y="1840"/>
                                      </a:lnTo>
                                      <a:lnTo>
                                        <a:pt x="993" y="1823"/>
                                      </a:lnTo>
                                      <a:lnTo>
                                        <a:pt x="984" y="1806"/>
                                      </a:lnTo>
                                      <a:lnTo>
                                        <a:pt x="980" y="1793"/>
                                      </a:lnTo>
                                      <a:lnTo>
                                        <a:pt x="975" y="1780"/>
                                      </a:lnTo>
                                      <a:lnTo>
                                        <a:pt x="971" y="1767"/>
                                      </a:lnTo>
                                      <a:lnTo>
                                        <a:pt x="971" y="1823"/>
                                      </a:lnTo>
                                      <a:lnTo>
                                        <a:pt x="958" y="1875"/>
                                      </a:lnTo>
                                      <a:lnTo>
                                        <a:pt x="945" y="1926"/>
                                      </a:lnTo>
                                      <a:lnTo>
                                        <a:pt x="932" y="1978"/>
                                      </a:lnTo>
                                      <a:lnTo>
                                        <a:pt x="919" y="2025"/>
                                      </a:lnTo>
                                      <a:lnTo>
                                        <a:pt x="902" y="2073"/>
                                      </a:lnTo>
                                      <a:lnTo>
                                        <a:pt x="893" y="2116"/>
                                      </a:lnTo>
                                      <a:lnTo>
                                        <a:pt x="893" y="2154"/>
                                      </a:lnTo>
                                      <a:lnTo>
                                        <a:pt x="885" y="2154"/>
                                      </a:lnTo>
                                      <a:lnTo>
                                        <a:pt x="876" y="2159"/>
                                      </a:lnTo>
                                      <a:lnTo>
                                        <a:pt x="867" y="2163"/>
                                      </a:lnTo>
                                      <a:lnTo>
                                        <a:pt x="863" y="2167"/>
                                      </a:lnTo>
                                      <a:lnTo>
                                        <a:pt x="859" y="2176"/>
                                      </a:lnTo>
                                      <a:lnTo>
                                        <a:pt x="854" y="2180"/>
                                      </a:lnTo>
                                      <a:lnTo>
                                        <a:pt x="850" y="2189"/>
                                      </a:lnTo>
                                      <a:lnTo>
                                        <a:pt x="850" y="2197"/>
                                      </a:lnTo>
                                      <a:lnTo>
                                        <a:pt x="837" y="2193"/>
                                      </a:lnTo>
                                      <a:lnTo>
                                        <a:pt x="829" y="2189"/>
                                      </a:lnTo>
                                      <a:lnTo>
                                        <a:pt x="820" y="2184"/>
                                      </a:lnTo>
                                      <a:lnTo>
                                        <a:pt x="811" y="2176"/>
                                      </a:lnTo>
                                      <a:lnTo>
                                        <a:pt x="807" y="2167"/>
                                      </a:lnTo>
                                      <a:lnTo>
                                        <a:pt x="803" y="2163"/>
                                      </a:lnTo>
                                      <a:lnTo>
                                        <a:pt x="794" y="2159"/>
                                      </a:lnTo>
                                      <a:lnTo>
                                        <a:pt x="790" y="2154"/>
                                      </a:lnTo>
                                      <a:lnTo>
                                        <a:pt x="747" y="1466"/>
                                      </a:lnTo>
                                      <a:lnTo>
                                        <a:pt x="755" y="1466"/>
                                      </a:lnTo>
                                      <a:lnTo>
                                        <a:pt x="768" y="1471"/>
                                      </a:lnTo>
                                      <a:lnTo>
                                        <a:pt x="777" y="1479"/>
                                      </a:lnTo>
                                      <a:lnTo>
                                        <a:pt x="790" y="1484"/>
                                      </a:lnTo>
                                      <a:lnTo>
                                        <a:pt x="803" y="1492"/>
                                      </a:lnTo>
                                      <a:lnTo>
                                        <a:pt x="811" y="1496"/>
                                      </a:lnTo>
                                      <a:lnTo>
                                        <a:pt x="820" y="1505"/>
                                      </a:lnTo>
                                      <a:lnTo>
                                        <a:pt x="829" y="1505"/>
                                      </a:lnTo>
                                      <a:lnTo>
                                        <a:pt x="829" y="1320"/>
                                      </a:lnTo>
                                      <a:lnTo>
                                        <a:pt x="837" y="1324"/>
                                      </a:lnTo>
                                      <a:lnTo>
                                        <a:pt x="846" y="1324"/>
                                      </a:lnTo>
                                      <a:lnTo>
                                        <a:pt x="854" y="1329"/>
                                      </a:lnTo>
                                      <a:lnTo>
                                        <a:pt x="863" y="1333"/>
                                      </a:lnTo>
                                      <a:lnTo>
                                        <a:pt x="872" y="1337"/>
                                      </a:lnTo>
                                      <a:lnTo>
                                        <a:pt x="885" y="1337"/>
                                      </a:lnTo>
                                      <a:lnTo>
                                        <a:pt x="898" y="1342"/>
                                      </a:lnTo>
                                      <a:lnTo>
                                        <a:pt x="911" y="1342"/>
                                      </a:lnTo>
                                      <a:lnTo>
                                        <a:pt x="915" y="1363"/>
                                      </a:lnTo>
                                      <a:lnTo>
                                        <a:pt x="919" y="1389"/>
                                      </a:lnTo>
                                      <a:lnTo>
                                        <a:pt x="932" y="1423"/>
                                      </a:lnTo>
                                      <a:lnTo>
                                        <a:pt x="941" y="1458"/>
                                      </a:lnTo>
                                      <a:lnTo>
                                        <a:pt x="954" y="1492"/>
                                      </a:lnTo>
                                      <a:lnTo>
                                        <a:pt x="962" y="1527"/>
                                      </a:lnTo>
                                      <a:lnTo>
                                        <a:pt x="971" y="1561"/>
                                      </a:lnTo>
                                      <a:lnTo>
                                        <a:pt x="971" y="1587"/>
                                      </a:lnTo>
                                      <a:lnTo>
                                        <a:pt x="993" y="1036"/>
                                      </a:lnTo>
                                      <a:lnTo>
                                        <a:pt x="1010" y="1041"/>
                                      </a:lnTo>
                                      <a:lnTo>
                                        <a:pt x="1027" y="1045"/>
                                      </a:lnTo>
                                      <a:lnTo>
                                        <a:pt x="1044" y="1049"/>
                                      </a:lnTo>
                                      <a:lnTo>
                                        <a:pt x="1066" y="1058"/>
                                      </a:lnTo>
                                      <a:lnTo>
                                        <a:pt x="1083" y="1066"/>
                                      </a:lnTo>
                                      <a:lnTo>
                                        <a:pt x="1100" y="1071"/>
                                      </a:lnTo>
                                      <a:lnTo>
                                        <a:pt x="1122" y="1075"/>
                                      </a:lnTo>
                                      <a:lnTo>
                                        <a:pt x="1135" y="1079"/>
                                      </a:lnTo>
                                      <a:lnTo>
                                        <a:pt x="1135" y="1097"/>
                                      </a:lnTo>
                                      <a:lnTo>
                                        <a:pt x="1135" y="1118"/>
                                      </a:lnTo>
                                      <a:lnTo>
                                        <a:pt x="1118" y="671"/>
                                      </a:lnTo>
                                      <a:lnTo>
                                        <a:pt x="1139" y="675"/>
                                      </a:lnTo>
                                      <a:lnTo>
                                        <a:pt x="1156" y="684"/>
                                      </a:lnTo>
                                      <a:lnTo>
                                        <a:pt x="1178" y="701"/>
                                      </a:lnTo>
                                      <a:lnTo>
                                        <a:pt x="1195" y="718"/>
                                      </a:lnTo>
                                      <a:lnTo>
                                        <a:pt x="1213" y="735"/>
                                      </a:lnTo>
                                      <a:lnTo>
                                        <a:pt x="1225" y="757"/>
                                      </a:lnTo>
                                      <a:lnTo>
                                        <a:pt x="1243" y="778"/>
                                      </a:lnTo>
                                      <a:lnTo>
                                        <a:pt x="1260" y="796"/>
                                      </a:lnTo>
                                      <a:lnTo>
                                        <a:pt x="1251" y="791"/>
                                      </a:lnTo>
                                      <a:lnTo>
                                        <a:pt x="1243" y="778"/>
                                      </a:lnTo>
                                      <a:lnTo>
                                        <a:pt x="1238" y="765"/>
                                      </a:lnTo>
                                      <a:lnTo>
                                        <a:pt x="1234" y="744"/>
                                      </a:lnTo>
                                      <a:lnTo>
                                        <a:pt x="1225" y="692"/>
                                      </a:lnTo>
                                      <a:lnTo>
                                        <a:pt x="1221" y="632"/>
                                      </a:lnTo>
                                      <a:lnTo>
                                        <a:pt x="1221" y="563"/>
                                      </a:lnTo>
                                      <a:lnTo>
                                        <a:pt x="1217" y="503"/>
                                      </a:lnTo>
                                      <a:lnTo>
                                        <a:pt x="1217" y="447"/>
                                      </a:lnTo>
                                      <a:lnTo>
                                        <a:pt x="1217" y="409"/>
                                      </a:lnTo>
                                      <a:lnTo>
                                        <a:pt x="1195" y="387"/>
                                      </a:lnTo>
                                      <a:lnTo>
                                        <a:pt x="1191" y="396"/>
                                      </a:lnTo>
                                      <a:lnTo>
                                        <a:pt x="1187" y="413"/>
                                      </a:lnTo>
                                      <a:lnTo>
                                        <a:pt x="1187" y="434"/>
                                      </a:lnTo>
                                      <a:lnTo>
                                        <a:pt x="1191" y="460"/>
                                      </a:lnTo>
                                      <a:lnTo>
                                        <a:pt x="1195" y="520"/>
                                      </a:lnTo>
                                      <a:lnTo>
                                        <a:pt x="1208" y="589"/>
                                      </a:lnTo>
                                      <a:lnTo>
                                        <a:pt x="1217" y="658"/>
                                      </a:lnTo>
                                      <a:lnTo>
                                        <a:pt x="1225" y="727"/>
                                      </a:lnTo>
                                      <a:lnTo>
                                        <a:pt x="1225" y="757"/>
                                      </a:lnTo>
                                      <a:lnTo>
                                        <a:pt x="1225" y="787"/>
                                      </a:lnTo>
                                      <a:lnTo>
                                        <a:pt x="1225" y="813"/>
                                      </a:lnTo>
                                      <a:lnTo>
                                        <a:pt x="1217" y="834"/>
                                      </a:lnTo>
                                      <a:lnTo>
                                        <a:pt x="1204" y="821"/>
                                      </a:lnTo>
                                      <a:lnTo>
                                        <a:pt x="1191" y="804"/>
                                      </a:lnTo>
                                      <a:lnTo>
                                        <a:pt x="1178" y="783"/>
                                      </a:lnTo>
                                      <a:lnTo>
                                        <a:pt x="1169" y="757"/>
                                      </a:lnTo>
                                      <a:lnTo>
                                        <a:pt x="1152" y="692"/>
                                      </a:lnTo>
                                      <a:lnTo>
                                        <a:pt x="1135" y="628"/>
                                      </a:lnTo>
                                      <a:lnTo>
                                        <a:pt x="1113" y="559"/>
                                      </a:lnTo>
                                      <a:lnTo>
                                        <a:pt x="1096" y="503"/>
                                      </a:lnTo>
                                      <a:lnTo>
                                        <a:pt x="1083" y="482"/>
                                      </a:lnTo>
                                      <a:lnTo>
                                        <a:pt x="1066" y="464"/>
                                      </a:lnTo>
                                      <a:lnTo>
                                        <a:pt x="1053" y="452"/>
                                      </a:lnTo>
                                      <a:lnTo>
                                        <a:pt x="1036" y="447"/>
                                      </a:lnTo>
                                      <a:lnTo>
                                        <a:pt x="1036" y="507"/>
                                      </a:lnTo>
                                      <a:lnTo>
                                        <a:pt x="1044" y="576"/>
                                      </a:lnTo>
                                      <a:lnTo>
                                        <a:pt x="1057" y="654"/>
                                      </a:lnTo>
                                      <a:lnTo>
                                        <a:pt x="1066" y="731"/>
                                      </a:lnTo>
                                      <a:lnTo>
                                        <a:pt x="1074" y="808"/>
                                      </a:lnTo>
                                      <a:lnTo>
                                        <a:pt x="1079" y="882"/>
                                      </a:lnTo>
                                      <a:lnTo>
                                        <a:pt x="1074" y="912"/>
                                      </a:lnTo>
                                      <a:lnTo>
                                        <a:pt x="1070" y="946"/>
                                      </a:lnTo>
                                      <a:lnTo>
                                        <a:pt x="1066" y="972"/>
                                      </a:lnTo>
                                      <a:lnTo>
                                        <a:pt x="1053" y="998"/>
                                      </a:lnTo>
                                      <a:lnTo>
                                        <a:pt x="1036" y="998"/>
                                      </a:lnTo>
                                      <a:lnTo>
                                        <a:pt x="1014" y="998"/>
                                      </a:lnTo>
                                      <a:lnTo>
                                        <a:pt x="993" y="955"/>
                                      </a:lnTo>
                                      <a:lnTo>
                                        <a:pt x="971" y="955"/>
                                      </a:lnTo>
                                      <a:lnTo>
                                        <a:pt x="954" y="955"/>
                                      </a:lnTo>
                                      <a:lnTo>
                                        <a:pt x="954" y="950"/>
                                      </a:lnTo>
                                      <a:lnTo>
                                        <a:pt x="949" y="946"/>
                                      </a:lnTo>
                                      <a:lnTo>
                                        <a:pt x="945" y="942"/>
                                      </a:lnTo>
                                      <a:lnTo>
                                        <a:pt x="945" y="937"/>
                                      </a:lnTo>
                                      <a:lnTo>
                                        <a:pt x="945" y="937"/>
                                      </a:lnTo>
                                      <a:lnTo>
                                        <a:pt x="945" y="937"/>
                                      </a:lnTo>
                                      <a:lnTo>
                                        <a:pt x="945" y="937"/>
                                      </a:lnTo>
                                      <a:lnTo>
                                        <a:pt x="954" y="937"/>
                                      </a:lnTo>
                                      <a:lnTo>
                                        <a:pt x="954" y="968"/>
                                      </a:lnTo>
                                      <a:lnTo>
                                        <a:pt x="954" y="1002"/>
                                      </a:lnTo>
                                      <a:lnTo>
                                        <a:pt x="949" y="1041"/>
                                      </a:lnTo>
                                      <a:lnTo>
                                        <a:pt x="949" y="1075"/>
                                      </a:lnTo>
                                      <a:lnTo>
                                        <a:pt x="949" y="1109"/>
                                      </a:lnTo>
                                      <a:lnTo>
                                        <a:pt x="945" y="1144"/>
                                      </a:lnTo>
                                      <a:lnTo>
                                        <a:pt x="941" y="1174"/>
                                      </a:lnTo>
                                      <a:lnTo>
                                        <a:pt x="932" y="1200"/>
                                      </a:lnTo>
                                      <a:lnTo>
                                        <a:pt x="923" y="1200"/>
                                      </a:lnTo>
                                      <a:lnTo>
                                        <a:pt x="911" y="1195"/>
                                      </a:lnTo>
                                      <a:lnTo>
                                        <a:pt x="898" y="1187"/>
                                      </a:lnTo>
                                      <a:lnTo>
                                        <a:pt x="880" y="1178"/>
                                      </a:lnTo>
                                      <a:lnTo>
                                        <a:pt x="867" y="1165"/>
                                      </a:lnTo>
                                      <a:lnTo>
                                        <a:pt x="850" y="1157"/>
                                      </a:lnTo>
                                      <a:lnTo>
                                        <a:pt x="842" y="1148"/>
                                      </a:lnTo>
                                      <a:lnTo>
                                        <a:pt x="829" y="1140"/>
                                      </a:lnTo>
                                      <a:lnTo>
                                        <a:pt x="829" y="1131"/>
                                      </a:lnTo>
                                      <a:lnTo>
                                        <a:pt x="824" y="1114"/>
                                      </a:lnTo>
                                      <a:lnTo>
                                        <a:pt x="816" y="1097"/>
                                      </a:lnTo>
                                      <a:lnTo>
                                        <a:pt x="807" y="1079"/>
                                      </a:lnTo>
                                      <a:lnTo>
                                        <a:pt x="798" y="1062"/>
                                      </a:lnTo>
                                      <a:lnTo>
                                        <a:pt x="785" y="1049"/>
                                      </a:lnTo>
                                      <a:lnTo>
                                        <a:pt x="777" y="1041"/>
                                      </a:lnTo>
                                      <a:lnTo>
                                        <a:pt x="768" y="1036"/>
                                      </a:lnTo>
                                      <a:lnTo>
                                        <a:pt x="747" y="1036"/>
                                      </a:lnTo>
                                      <a:lnTo>
                                        <a:pt x="708" y="1079"/>
                                      </a:lnTo>
                                      <a:lnTo>
                                        <a:pt x="712" y="1131"/>
                                      </a:lnTo>
                                      <a:lnTo>
                                        <a:pt x="716" y="1187"/>
                                      </a:lnTo>
                                      <a:lnTo>
                                        <a:pt x="725" y="1251"/>
                                      </a:lnTo>
                                      <a:lnTo>
                                        <a:pt x="729" y="1312"/>
                                      </a:lnTo>
                                      <a:lnTo>
                                        <a:pt x="725" y="1342"/>
                                      </a:lnTo>
                                      <a:lnTo>
                                        <a:pt x="725" y="1372"/>
                                      </a:lnTo>
                                      <a:lnTo>
                                        <a:pt x="716" y="1398"/>
                                      </a:lnTo>
                                      <a:lnTo>
                                        <a:pt x="708" y="1419"/>
                                      </a:lnTo>
                                      <a:lnTo>
                                        <a:pt x="695" y="1441"/>
                                      </a:lnTo>
                                      <a:lnTo>
                                        <a:pt x="678" y="1462"/>
                                      </a:lnTo>
                                      <a:lnTo>
                                        <a:pt x="656" y="1475"/>
                                      </a:lnTo>
                                      <a:lnTo>
                                        <a:pt x="626" y="1484"/>
                                      </a:lnTo>
                                      <a:lnTo>
                                        <a:pt x="617" y="1484"/>
                                      </a:lnTo>
                                      <a:lnTo>
                                        <a:pt x="609" y="1479"/>
                                      </a:lnTo>
                                      <a:lnTo>
                                        <a:pt x="596" y="1475"/>
                                      </a:lnTo>
                                      <a:lnTo>
                                        <a:pt x="587" y="1471"/>
                                      </a:lnTo>
                                      <a:lnTo>
                                        <a:pt x="574" y="1466"/>
                                      </a:lnTo>
                                      <a:lnTo>
                                        <a:pt x="561" y="1458"/>
                                      </a:lnTo>
                                      <a:lnTo>
                                        <a:pt x="552" y="1453"/>
                                      </a:lnTo>
                                      <a:lnTo>
                                        <a:pt x="544" y="1445"/>
                                      </a:lnTo>
                                      <a:lnTo>
                                        <a:pt x="552" y="1449"/>
                                      </a:lnTo>
                                      <a:lnTo>
                                        <a:pt x="561" y="1458"/>
                                      </a:lnTo>
                                      <a:lnTo>
                                        <a:pt x="565" y="1475"/>
                                      </a:lnTo>
                                      <a:lnTo>
                                        <a:pt x="570" y="1496"/>
                                      </a:lnTo>
                                      <a:lnTo>
                                        <a:pt x="583" y="1552"/>
                                      </a:lnTo>
                                      <a:lnTo>
                                        <a:pt x="587" y="1621"/>
                                      </a:lnTo>
                                      <a:lnTo>
                                        <a:pt x="591" y="1686"/>
                                      </a:lnTo>
                                      <a:lnTo>
                                        <a:pt x="591" y="1746"/>
                                      </a:lnTo>
                                      <a:lnTo>
                                        <a:pt x="591" y="1789"/>
                                      </a:lnTo>
                                      <a:lnTo>
                                        <a:pt x="587" y="1810"/>
                                      </a:lnTo>
                                      <a:lnTo>
                                        <a:pt x="565" y="1832"/>
                                      </a:lnTo>
                                      <a:lnTo>
                                        <a:pt x="505" y="1832"/>
                                      </a:lnTo>
                                      <a:lnTo>
                                        <a:pt x="496" y="1823"/>
                                      </a:lnTo>
                                      <a:lnTo>
                                        <a:pt x="488" y="1815"/>
                                      </a:lnTo>
                                      <a:lnTo>
                                        <a:pt x="475" y="1806"/>
                                      </a:lnTo>
                                      <a:lnTo>
                                        <a:pt x="466" y="1802"/>
                                      </a:lnTo>
                                      <a:lnTo>
                                        <a:pt x="458" y="1793"/>
                                      </a:lnTo>
                                      <a:lnTo>
                                        <a:pt x="449" y="1785"/>
                                      </a:lnTo>
                                      <a:lnTo>
                                        <a:pt x="445" y="1776"/>
                                      </a:lnTo>
                                      <a:lnTo>
                                        <a:pt x="445" y="1767"/>
                                      </a:lnTo>
                                      <a:lnTo>
                                        <a:pt x="449" y="1780"/>
                                      </a:lnTo>
                                      <a:lnTo>
                                        <a:pt x="453" y="1806"/>
                                      </a:lnTo>
                                      <a:lnTo>
                                        <a:pt x="458" y="1832"/>
                                      </a:lnTo>
                                      <a:lnTo>
                                        <a:pt x="462" y="1866"/>
                                      </a:lnTo>
                                      <a:lnTo>
                                        <a:pt x="462" y="1901"/>
                                      </a:lnTo>
                                      <a:lnTo>
                                        <a:pt x="462" y="1935"/>
                                      </a:lnTo>
                                      <a:lnTo>
                                        <a:pt x="462" y="1965"/>
                                      </a:lnTo>
                                      <a:lnTo>
                                        <a:pt x="462" y="1991"/>
                                      </a:lnTo>
                                      <a:lnTo>
                                        <a:pt x="445" y="2012"/>
                                      </a:lnTo>
                                      <a:lnTo>
                                        <a:pt x="406" y="2008"/>
                                      </a:lnTo>
                                      <a:lnTo>
                                        <a:pt x="367" y="1995"/>
                                      </a:lnTo>
                                      <a:lnTo>
                                        <a:pt x="328" y="1969"/>
                                      </a:lnTo>
                                      <a:lnTo>
                                        <a:pt x="294" y="1944"/>
                                      </a:lnTo>
                                      <a:lnTo>
                                        <a:pt x="263" y="1914"/>
                                      </a:lnTo>
                                      <a:lnTo>
                                        <a:pt x="229" y="1883"/>
                                      </a:lnTo>
                                      <a:lnTo>
                                        <a:pt x="203" y="1858"/>
                                      </a:lnTo>
                                      <a:lnTo>
                                        <a:pt x="177" y="1832"/>
                                      </a:lnTo>
                                      <a:lnTo>
                                        <a:pt x="190" y="1832"/>
                                      </a:lnTo>
                                      <a:lnTo>
                                        <a:pt x="194" y="1845"/>
                                      </a:lnTo>
                                      <a:lnTo>
                                        <a:pt x="194" y="1858"/>
                                      </a:lnTo>
                                      <a:lnTo>
                                        <a:pt x="194" y="1875"/>
                                      </a:lnTo>
                                      <a:lnTo>
                                        <a:pt x="190" y="1892"/>
                                      </a:lnTo>
                                      <a:lnTo>
                                        <a:pt x="181" y="1909"/>
                                      </a:lnTo>
                                      <a:lnTo>
                                        <a:pt x="177" y="1922"/>
                                      </a:lnTo>
                                      <a:lnTo>
                                        <a:pt x="177" y="1931"/>
                                      </a:lnTo>
                                      <a:lnTo>
                                        <a:pt x="95" y="1931"/>
                                      </a:lnTo>
                                      <a:lnTo>
                                        <a:pt x="74" y="1909"/>
                                      </a:lnTo>
                                      <a:lnTo>
                                        <a:pt x="56" y="1883"/>
                                      </a:lnTo>
                                      <a:lnTo>
                                        <a:pt x="43" y="1862"/>
                                      </a:lnTo>
                                      <a:lnTo>
                                        <a:pt x="30" y="1836"/>
                                      </a:lnTo>
                                      <a:lnTo>
                                        <a:pt x="26" y="1806"/>
                                      </a:lnTo>
                                      <a:lnTo>
                                        <a:pt x="17" y="1776"/>
                                      </a:lnTo>
                                      <a:lnTo>
                                        <a:pt x="17" y="1746"/>
                                      </a:lnTo>
                                      <a:lnTo>
                                        <a:pt x="13" y="1707"/>
                                      </a:lnTo>
                                      <a:lnTo>
                                        <a:pt x="0" y="1694"/>
                                      </a:lnTo>
                                      <a:lnTo>
                                        <a:pt x="9" y="1785"/>
                                      </a:lnTo>
                                      <a:lnTo>
                                        <a:pt x="22" y="1832"/>
                                      </a:lnTo>
                                      <a:lnTo>
                                        <a:pt x="39" y="1875"/>
                                      </a:lnTo>
                                      <a:lnTo>
                                        <a:pt x="56" y="1918"/>
                                      </a:lnTo>
                                      <a:lnTo>
                                        <a:pt x="74" y="1965"/>
                                      </a:lnTo>
                                      <a:lnTo>
                                        <a:pt x="91" y="2008"/>
                                      </a:lnTo>
                                      <a:lnTo>
                                        <a:pt x="104" y="2051"/>
                                      </a:lnTo>
                                      <a:lnTo>
                                        <a:pt x="112" y="2094"/>
                                      </a:lnTo>
                                      <a:lnTo>
                                        <a:pt x="117" y="2137"/>
                                      </a:lnTo>
                                      <a:lnTo>
                                        <a:pt x="138" y="2159"/>
                                      </a:lnTo>
                                      <a:lnTo>
                                        <a:pt x="164" y="2189"/>
                                      </a:lnTo>
                                      <a:lnTo>
                                        <a:pt x="194" y="2219"/>
                                      </a:lnTo>
                                      <a:lnTo>
                                        <a:pt x="225" y="2249"/>
                                      </a:lnTo>
                                      <a:lnTo>
                                        <a:pt x="255" y="2275"/>
                                      </a:lnTo>
                                      <a:lnTo>
                                        <a:pt x="289" y="2296"/>
                                      </a:lnTo>
                                      <a:lnTo>
                                        <a:pt x="307" y="2305"/>
                                      </a:lnTo>
                                      <a:lnTo>
                                        <a:pt x="324" y="2313"/>
                                      </a:lnTo>
                                      <a:lnTo>
                                        <a:pt x="341" y="2318"/>
                                      </a:lnTo>
                                      <a:lnTo>
                                        <a:pt x="363" y="2318"/>
                                      </a:lnTo>
                                      <a:lnTo>
                                        <a:pt x="363" y="2258"/>
                                      </a:lnTo>
                                      <a:lnTo>
                                        <a:pt x="345" y="2240"/>
                                      </a:lnTo>
                                      <a:lnTo>
                                        <a:pt x="332" y="2219"/>
                                      </a:lnTo>
                                      <a:lnTo>
                                        <a:pt x="324" y="2197"/>
                                      </a:lnTo>
                                      <a:lnTo>
                                        <a:pt x="315" y="2172"/>
                                      </a:lnTo>
                                      <a:lnTo>
                                        <a:pt x="307" y="2150"/>
                                      </a:lnTo>
                                      <a:lnTo>
                                        <a:pt x="302" y="2124"/>
                                      </a:lnTo>
                                      <a:lnTo>
                                        <a:pt x="302" y="2098"/>
                                      </a:lnTo>
                                      <a:lnTo>
                                        <a:pt x="298" y="2073"/>
                                      </a:lnTo>
                                      <a:lnTo>
                                        <a:pt x="315" y="2077"/>
                                      </a:lnTo>
                                      <a:lnTo>
                                        <a:pt x="328" y="2086"/>
                                      </a:lnTo>
                                      <a:lnTo>
                                        <a:pt x="341" y="2098"/>
                                      </a:lnTo>
                                      <a:lnTo>
                                        <a:pt x="354" y="2116"/>
                                      </a:lnTo>
                                      <a:lnTo>
                                        <a:pt x="380" y="2159"/>
                                      </a:lnTo>
                                      <a:lnTo>
                                        <a:pt x="406" y="2206"/>
                                      </a:lnTo>
                                      <a:lnTo>
                                        <a:pt x="436" y="2253"/>
                                      </a:lnTo>
                                      <a:lnTo>
                                        <a:pt x="466" y="2296"/>
                                      </a:lnTo>
                                      <a:lnTo>
                                        <a:pt x="483" y="2313"/>
                                      </a:lnTo>
                                      <a:lnTo>
                                        <a:pt x="501" y="2326"/>
                                      </a:lnTo>
                                      <a:lnTo>
                                        <a:pt x="522" y="2335"/>
                                      </a:lnTo>
                                      <a:lnTo>
                                        <a:pt x="544" y="2339"/>
                                      </a:lnTo>
                                      <a:lnTo>
                                        <a:pt x="544" y="2305"/>
                                      </a:lnTo>
                                      <a:lnTo>
                                        <a:pt x="540" y="2270"/>
                                      </a:lnTo>
                                      <a:lnTo>
                                        <a:pt x="540" y="2236"/>
                                      </a:lnTo>
                                      <a:lnTo>
                                        <a:pt x="535" y="2197"/>
                                      </a:lnTo>
                                      <a:lnTo>
                                        <a:pt x="531" y="2159"/>
                                      </a:lnTo>
                                      <a:lnTo>
                                        <a:pt x="527" y="2120"/>
                                      </a:lnTo>
                                      <a:lnTo>
                                        <a:pt x="527" y="2086"/>
                                      </a:lnTo>
                                      <a:lnTo>
                                        <a:pt x="522" y="2055"/>
                                      </a:lnTo>
                                      <a:lnTo>
                                        <a:pt x="531" y="2051"/>
                                      </a:lnTo>
                                      <a:lnTo>
                                        <a:pt x="544" y="2043"/>
                                      </a:lnTo>
                                      <a:lnTo>
                                        <a:pt x="552" y="2034"/>
                                      </a:lnTo>
                                      <a:lnTo>
                                        <a:pt x="565" y="2025"/>
                                      </a:lnTo>
                                      <a:lnTo>
                                        <a:pt x="578" y="2012"/>
                                      </a:lnTo>
                                      <a:lnTo>
                                        <a:pt x="587" y="2004"/>
                                      </a:lnTo>
                                      <a:lnTo>
                                        <a:pt x="596" y="1995"/>
                                      </a:lnTo>
                                      <a:lnTo>
                                        <a:pt x="604" y="1991"/>
                                      </a:lnTo>
                                      <a:lnTo>
                                        <a:pt x="613" y="2000"/>
                                      </a:lnTo>
                                      <a:lnTo>
                                        <a:pt x="626" y="2008"/>
                                      </a:lnTo>
                                      <a:lnTo>
                                        <a:pt x="634" y="2017"/>
                                      </a:lnTo>
                                      <a:lnTo>
                                        <a:pt x="647" y="2025"/>
                                      </a:lnTo>
                                      <a:lnTo>
                                        <a:pt x="656" y="2030"/>
                                      </a:lnTo>
                                      <a:lnTo>
                                        <a:pt x="669" y="2038"/>
                                      </a:lnTo>
                                      <a:lnTo>
                                        <a:pt x="678" y="2047"/>
                                      </a:lnTo>
                                      <a:lnTo>
                                        <a:pt x="686" y="2055"/>
                                      </a:lnTo>
                                      <a:lnTo>
                                        <a:pt x="686" y="2086"/>
                                      </a:lnTo>
                                      <a:lnTo>
                                        <a:pt x="678" y="2124"/>
                                      </a:lnTo>
                                      <a:lnTo>
                                        <a:pt x="673" y="2172"/>
                                      </a:lnTo>
                                      <a:lnTo>
                                        <a:pt x="665" y="2223"/>
                                      </a:lnTo>
                                      <a:lnTo>
                                        <a:pt x="660" y="2270"/>
                                      </a:lnTo>
                                      <a:lnTo>
                                        <a:pt x="660" y="2309"/>
                                      </a:lnTo>
                                      <a:lnTo>
                                        <a:pt x="665" y="2326"/>
                                      </a:lnTo>
                                      <a:lnTo>
                                        <a:pt x="669" y="2344"/>
                                      </a:lnTo>
                                      <a:lnTo>
                                        <a:pt x="678" y="2352"/>
                                      </a:lnTo>
                                      <a:lnTo>
                                        <a:pt x="686" y="2361"/>
                                      </a:lnTo>
                                      <a:lnTo>
                                        <a:pt x="691" y="2374"/>
                                      </a:lnTo>
                                      <a:lnTo>
                                        <a:pt x="695" y="2391"/>
                                      </a:lnTo>
                                      <a:lnTo>
                                        <a:pt x="708" y="2404"/>
                                      </a:lnTo>
                                      <a:lnTo>
                                        <a:pt x="716" y="2421"/>
                                      </a:lnTo>
                                      <a:lnTo>
                                        <a:pt x="729" y="2434"/>
                                      </a:lnTo>
                                      <a:lnTo>
                                        <a:pt x="738" y="2451"/>
                                      </a:lnTo>
                                      <a:lnTo>
                                        <a:pt x="747" y="2464"/>
                                      </a:lnTo>
                                      <a:lnTo>
                                        <a:pt x="747" y="2481"/>
                                      </a:lnTo>
                                      <a:lnTo>
                                        <a:pt x="647" y="2481"/>
                                      </a:lnTo>
                                      <a:lnTo>
                                        <a:pt x="647" y="2503"/>
                                      </a:lnTo>
                                      <a:lnTo>
                                        <a:pt x="656" y="2524"/>
                                      </a:lnTo>
                                      <a:lnTo>
                                        <a:pt x="665" y="2550"/>
                                      </a:lnTo>
                                      <a:lnTo>
                                        <a:pt x="678" y="2571"/>
                                      </a:lnTo>
                                      <a:lnTo>
                                        <a:pt x="691" y="2589"/>
                                      </a:lnTo>
                                      <a:lnTo>
                                        <a:pt x="699" y="2610"/>
                                      </a:lnTo>
                                      <a:lnTo>
                                        <a:pt x="703" y="2627"/>
                                      </a:lnTo>
                                      <a:lnTo>
                                        <a:pt x="708" y="2645"/>
                                      </a:lnTo>
                                      <a:lnTo>
                                        <a:pt x="734" y="2645"/>
                                      </a:lnTo>
                                      <a:lnTo>
                                        <a:pt x="755" y="2645"/>
                                      </a:lnTo>
                                      <a:lnTo>
                                        <a:pt x="781" y="2649"/>
                                      </a:lnTo>
                                      <a:lnTo>
                                        <a:pt x="807" y="2653"/>
                                      </a:lnTo>
                                      <a:lnTo>
                                        <a:pt x="833" y="2657"/>
                                      </a:lnTo>
                                      <a:lnTo>
                                        <a:pt x="854" y="2662"/>
                                      </a:lnTo>
                                      <a:lnTo>
                                        <a:pt x="876" y="2662"/>
                                      </a:lnTo>
                                      <a:lnTo>
                                        <a:pt x="893" y="2662"/>
                                      </a:lnTo>
                                      <a:lnTo>
                                        <a:pt x="893" y="2696"/>
                                      </a:lnTo>
                                      <a:lnTo>
                                        <a:pt x="902" y="2726"/>
                                      </a:lnTo>
                                      <a:lnTo>
                                        <a:pt x="915" y="2761"/>
                                      </a:lnTo>
                                      <a:lnTo>
                                        <a:pt x="928" y="2791"/>
                                      </a:lnTo>
                                      <a:lnTo>
                                        <a:pt x="945" y="2821"/>
                                      </a:lnTo>
                                      <a:lnTo>
                                        <a:pt x="958" y="2847"/>
                                      </a:lnTo>
                                      <a:lnTo>
                                        <a:pt x="975" y="2868"/>
                                      </a:lnTo>
                                      <a:lnTo>
                                        <a:pt x="993" y="2885"/>
                                      </a:lnTo>
                                      <a:lnTo>
                                        <a:pt x="997" y="2924"/>
                                      </a:lnTo>
                                      <a:lnTo>
                                        <a:pt x="1005" y="2967"/>
                                      </a:lnTo>
                                      <a:lnTo>
                                        <a:pt x="1018" y="3006"/>
                                      </a:lnTo>
                                      <a:lnTo>
                                        <a:pt x="1036" y="3044"/>
                                      </a:lnTo>
                                      <a:lnTo>
                                        <a:pt x="1049" y="3083"/>
                                      </a:lnTo>
                                      <a:lnTo>
                                        <a:pt x="1062" y="3118"/>
                                      </a:lnTo>
                                      <a:lnTo>
                                        <a:pt x="1070" y="3148"/>
                                      </a:lnTo>
                                      <a:lnTo>
                                        <a:pt x="1074" y="3173"/>
                                      </a:lnTo>
                                      <a:lnTo>
                                        <a:pt x="1087" y="3161"/>
                                      </a:lnTo>
                                      <a:lnTo>
                                        <a:pt x="1096" y="3143"/>
                                      </a:lnTo>
                                      <a:lnTo>
                                        <a:pt x="1100" y="3126"/>
                                      </a:lnTo>
                                      <a:lnTo>
                                        <a:pt x="1109" y="3105"/>
                                      </a:lnTo>
                                      <a:lnTo>
                                        <a:pt x="1113" y="3062"/>
                                      </a:lnTo>
                                      <a:lnTo>
                                        <a:pt x="1118" y="3019"/>
                                      </a:lnTo>
                                      <a:lnTo>
                                        <a:pt x="1118" y="2967"/>
                                      </a:lnTo>
                                      <a:lnTo>
                                        <a:pt x="1118" y="2924"/>
                                      </a:lnTo>
                                      <a:lnTo>
                                        <a:pt x="1118" y="2881"/>
                                      </a:lnTo>
                                      <a:lnTo>
                                        <a:pt x="1118" y="2847"/>
                                      </a:lnTo>
                                      <a:lnTo>
                                        <a:pt x="1238" y="2847"/>
                                      </a:lnTo>
                                      <a:lnTo>
                                        <a:pt x="1243" y="2842"/>
                                      </a:lnTo>
                                      <a:lnTo>
                                        <a:pt x="1247" y="2838"/>
                                      </a:lnTo>
                                      <a:lnTo>
                                        <a:pt x="1251" y="2834"/>
                                      </a:lnTo>
                                      <a:lnTo>
                                        <a:pt x="1256" y="2829"/>
                                      </a:lnTo>
                                      <a:lnTo>
                                        <a:pt x="1260" y="2829"/>
                                      </a:lnTo>
                                      <a:lnTo>
                                        <a:pt x="1269" y="2825"/>
                                      </a:lnTo>
                                      <a:lnTo>
                                        <a:pt x="1273" y="2821"/>
                                      </a:lnTo>
                                      <a:lnTo>
                                        <a:pt x="1277" y="2817"/>
                                      </a:lnTo>
                                      <a:lnTo>
                                        <a:pt x="1290" y="2713"/>
                                      </a:lnTo>
                                      <a:lnTo>
                                        <a:pt x="1225" y="2653"/>
                                      </a:lnTo>
                                      <a:lnTo>
                                        <a:pt x="1079" y="2378"/>
                                      </a:lnTo>
                                      <a:lnTo>
                                        <a:pt x="1057" y="2068"/>
                                      </a:lnTo>
                                      <a:lnTo>
                                        <a:pt x="1036" y="2017"/>
                                      </a:lnTo>
                                      <a:lnTo>
                                        <a:pt x="1070" y="1974"/>
                                      </a:lnTo>
                                      <a:lnTo>
                                        <a:pt x="1100" y="1965"/>
                                      </a:lnTo>
                                      <a:lnTo>
                                        <a:pt x="1122" y="1987"/>
                                      </a:lnTo>
                                      <a:lnTo>
                                        <a:pt x="1122" y="2017"/>
                                      </a:lnTo>
                                      <a:lnTo>
                                        <a:pt x="1174" y="1965"/>
                                      </a:lnTo>
                                      <a:lnTo>
                                        <a:pt x="1174" y="1914"/>
                                      </a:lnTo>
                                      <a:lnTo>
                                        <a:pt x="1290" y="1785"/>
                                      </a:lnTo>
                                      <a:lnTo>
                                        <a:pt x="1247" y="1690"/>
                                      </a:lnTo>
                                      <a:lnTo>
                                        <a:pt x="1407" y="1531"/>
                                      </a:lnTo>
                                      <a:lnTo>
                                        <a:pt x="1398" y="1522"/>
                                      </a:lnTo>
                                      <a:lnTo>
                                        <a:pt x="1398" y="1501"/>
                                      </a:lnTo>
                                      <a:lnTo>
                                        <a:pt x="1428" y="1419"/>
                                      </a:lnTo>
                                      <a:lnTo>
                                        <a:pt x="1407" y="1398"/>
                                      </a:lnTo>
                                      <a:lnTo>
                                        <a:pt x="1407" y="1363"/>
                                      </a:lnTo>
                                      <a:lnTo>
                                        <a:pt x="1420" y="1355"/>
                                      </a:lnTo>
                                      <a:lnTo>
                                        <a:pt x="1502" y="1277"/>
                                      </a:lnTo>
                                      <a:lnTo>
                                        <a:pt x="1441" y="1195"/>
                                      </a:lnTo>
                                      <a:lnTo>
                                        <a:pt x="1502" y="1131"/>
                                      </a:lnTo>
                                      <a:lnTo>
                                        <a:pt x="1502" y="1079"/>
                                      </a:lnTo>
                                      <a:lnTo>
                                        <a:pt x="1558" y="1015"/>
                                      </a:lnTo>
                                      <a:lnTo>
                                        <a:pt x="1523" y="942"/>
                                      </a:lnTo>
                                      <a:lnTo>
                                        <a:pt x="1566" y="899"/>
                                      </a:lnTo>
                                      <a:lnTo>
                                        <a:pt x="1536" y="804"/>
                                      </a:lnTo>
                                      <a:lnTo>
                                        <a:pt x="1545" y="761"/>
                                      </a:lnTo>
                                      <a:lnTo>
                                        <a:pt x="1515" y="701"/>
                                      </a:lnTo>
                                      <a:lnTo>
                                        <a:pt x="1523" y="606"/>
                                      </a:lnTo>
                                      <a:lnTo>
                                        <a:pt x="1493" y="550"/>
                                      </a:lnTo>
                                      <a:lnTo>
                                        <a:pt x="1493" y="456"/>
                                      </a:lnTo>
                                      <a:lnTo>
                                        <a:pt x="1463" y="426"/>
                                      </a:lnTo>
                                      <a:lnTo>
                                        <a:pt x="1441" y="297"/>
                                      </a:lnTo>
                                      <a:lnTo>
                                        <a:pt x="1480" y="258"/>
                                      </a:lnTo>
                                      <a:lnTo>
                                        <a:pt x="1368" y="99"/>
                                      </a:lnTo>
                                      <a:lnTo>
                                        <a:pt x="1346" y="34"/>
                                      </a:lnTo>
                                      <a:lnTo>
                                        <a:pt x="1355" y="26"/>
                                      </a:lnTo>
                                      <a:lnTo>
                                        <a:pt x="1351" y="22"/>
                                      </a:lnTo>
                                      <a:lnTo>
                                        <a:pt x="1346" y="17"/>
                                      </a:lnTo>
                                      <a:lnTo>
                                        <a:pt x="1342" y="13"/>
                                      </a:lnTo>
                                      <a:lnTo>
                                        <a:pt x="1338" y="9"/>
                                      </a:lnTo>
                                      <a:lnTo>
                                        <a:pt x="1333" y="4"/>
                                      </a:lnTo>
                                      <a:lnTo>
                                        <a:pt x="1329" y="4"/>
                                      </a:lnTo>
                                      <a:lnTo>
                                        <a:pt x="1325" y="0"/>
                                      </a:lnTo>
                                      <a:lnTo>
                                        <a:pt x="1320" y="0"/>
                                      </a:lnTo>
                                      <a:lnTo>
                                        <a:pt x="1320" y="22"/>
                                      </a:lnTo>
                                      <a:lnTo>
                                        <a:pt x="1325" y="47"/>
                                      </a:lnTo>
                                      <a:lnTo>
                                        <a:pt x="1333" y="77"/>
                                      </a:lnTo>
                                      <a:lnTo>
                                        <a:pt x="1338" y="112"/>
                                      </a:lnTo>
                                      <a:lnTo>
                                        <a:pt x="1342" y="146"/>
                                      </a:lnTo>
                                      <a:lnTo>
                                        <a:pt x="1346" y="176"/>
                                      </a:lnTo>
                                      <a:lnTo>
                                        <a:pt x="1346" y="206"/>
                                      </a:lnTo>
                                      <a:lnTo>
                                        <a:pt x="1342" y="224"/>
                                      </a:lnTo>
                                      <a:lnTo>
                                        <a:pt x="1320" y="224"/>
                                      </a:lnTo>
                                      <a:lnTo>
                                        <a:pt x="1320" y="267"/>
                                      </a:lnTo>
                                      <a:lnTo>
                                        <a:pt x="1277" y="185"/>
                                      </a:lnTo>
                                      <a:close/>
                                      <a:moveTo>
                                        <a:pt x="1752" y="593"/>
                                      </a:moveTo>
                                      <a:lnTo>
                                        <a:pt x="1748" y="589"/>
                                      </a:lnTo>
                                      <a:lnTo>
                                        <a:pt x="1687" y="589"/>
                                      </a:lnTo>
                                      <a:lnTo>
                                        <a:pt x="1687" y="572"/>
                                      </a:lnTo>
                                      <a:lnTo>
                                        <a:pt x="1683" y="555"/>
                                      </a:lnTo>
                                      <a:lnTo>
                                        <a:pt x="1678" y="529"/>
                                      </a:lnTo>
                                      <a:lnTo>
                                        <a:pt x="1678" y="507"/>
                                      </a:lnTo>
                                      <a:lnTo>
                                        <a:pt x="1674" y="482"/>
                                      </a:lnTo>
                                      <a:lnTo>
                                        <a:pt x="1670" y="456"/>
                                      </a:lnTo>
                                      <a:lnTo>
                                        <a:pt x="1666" y="430"/>
                                      </a:lnTo>
                                      <a:lnTo>
                                        <a:pt x="1666" y="409"/>
                                      </a:lnTo>
                                      <a:lnTo>
                                        <a:pt x="1657" y="404"/>
                                      </a:lnTo>
                                      <a:lnTo>
                                        <a:pt x="1648" y="400"/>
                                      </a:lnTo>
                                      <a:lnTo>
                                        <a:pt x="1635" y="396"/>
                                      </a:lnTo>
                                      <a:lnTo>
                                        <a:pt x="1627" y="387"/>
                                      </a:lnTo>
                                      <a:lnTo>
                                        <a:pt x="1614" y="378"/>
                                      </a:lnTo>
                                      <a:lnTo>
                                        <a:pt x="1605" y="374"/>
                                      </a:lnTo>
                                      <a:lnTo>
                                        <a:pt x="1592" y="370"/>
                                      </a:lnTo>
                                      <a:lnTo>
                                        <a:pt x="1584" y="366"/>
                                      </a:lnTo>
                                      <a:lnTo>
                                        <a:pt x="1584" y="357"/>
                                      </a:lnTo>
                                      <a:lnTo>
                                        <a:pt x="1579" y="340"/>
                                      </a:lnTo>
                                      <a:lnTo>
                                        <a:pt x="1571" y="318"/>
                                      </a:lnTo>
                                      <a:lnTo>
                                        <a:pt x="1562" y="297"/>
                                      </a:lnTo>
                                      <a:lnTo>
                                        <a:pt x="1553" y="280"/>
                                      </a:lnTo>
                                      <a:lnTo>
                                        <a:pt x="1540" y="262"/>
                                      </a:lnTo>
                                      <a:lnTo>
                                        <a:pt x="1532" y="249"/>
                                      </a:lnTo>
                                      <a:lnTo>
                                        <a:pt x="1523" y="245"/>
                                      </a:lnTo>
                                      <a:lnTo>
                                        <a:pt x="1523" y="391"/>
                                      </a:lnTo>
                                      <a:lnTo>
                                        <a:pt x="1558" y="413"/>
                                      </a:lnTo>
                                      <a:lnTo>
                                        <a:pt x="1558" y="477"/>
                                      </a:lnTo>
                                      <a:lnTo>
                                        <a:pt x="1597" y="542"/>
                                      </a:lnTo>
                                      <a:lnTo>
                                        <a:pt x="1631" y="645"/>
                                      </a:lnTo>
                                      <a:lnTo>
                                        <a:pt x="1691" y="645"/>
                                      </a:lnTo>
                                      <a:lnTo>
                                        <a:pt x="1748" y="701"/>
                                      </a:lnTo>
                                      <a:lnTo>
                                        <a:pt x="1765" y="679"/>
                                      </a:lnTo>
                                      <a:lnTo>
                                        <a:pt x="1752" y="593"/>
                                      </a:lnTo>
                                      <a:close/>
                                      <a:moveTo>
                                        <a:pt x="1519" y="219"/>
                                      </a:moveTo>
                                      <a:lnTo>
                                        <a:pt x="1515" y="202"/>
                                      </a:lnTo>
                                      <a:lnTo>
                                        <a:pt x="1506" y="189"/>
                                      </a:lnTo>
                                      <a:lnTo>
                                        <a:pt x="1497" y="176"/>
                                      </a:lnTo>
                                      <a:lnTo>
                                        <a:pt x="1489" y="163"/>
                                      </a:lnTo>
                                      <a:lnTo>
                                        <a:pt x="1476" y="151"/>
                                      </a:lnTo>
                                      <a:lnTo>
                                        <a:pt x="1467" y="138"/>
                                      </a:lnTo>
                                      <a:lnTo>
                                        <a:pt x="1454" y="125"/>
                                      </a:lnTo>
                                      <a:lnTo>
                                        <a:pt x="1441" y="116"/>
                                      </a:lnTo>
                                      <a:lnTo>
                                        <a:pt x="1519" y="219"/>
                                      </a:lnTo>
                                      <a:close/>
                                      <a:moveTo>
                                        <a:pt x="1407" y="65"/>
                                      </a:moveTo>
                                      <a:lnTo>
                                        <a:pt x="1407" y="65"/>
                                      </a:lnTo>
                                      <a:lnTo>
                                        <a:pt x="1402" y="60"/>
                                      </a:lnTo>
                                      <a:lnTo>
                                        <a:pt x="1402" y="56"/>
                                      </a:lnTo>
                                      <a:lnTo>
                                        <a:pt x="1402" y="52"/>
                                      </a:lnTo>
                                      <a:lnTo>
                                        <a:pt x="1402" y="52"/>
                                      </a:lnTo>
                                      <a:lnTo>
                                        <a:pt x="1402" y="47"/>
                                      </a:lnTo>
                                      <a:lnTo>
                                        <a:pt x="1402" y="43"/>
                                      </a:lnTo>
                                      <a:lnTo>
                                        <a:pt x="1402" y="43"/>
                                      </a:lnTo>
                                      <a:lnTo>
                                        <a:pt x="1398" y="43"/>
                                      </a:lnTo>
                                      <a:lnTo>
                                        <a:pt x="1398" y="43"/>
                                      </a:lnTo>
                                      <a:lnTo>
                                        <a:pt x="1398" y="43"/>
                                      </a:lnTo>
                                      <a:lnTo>
                                        <a:pt x="1394" y="43"/>
                                      </a:lnTo>
                                      <a:lnTo>
                                        <a:pt x="1394" y="39"/>
                                      </a:lnTo>
                                      <a:lnTo>
                                        <a:pt x="1389" y="39"/>
                                      </a:lnTo>
                                      <a:lnTo>
                                        <a:pt x="1389" y="39"/>
                                      </a:lnTo>
                                      <a:lnTo>
                                        <a:pt x="1389" y="39"/>
                                      </a:lnTo>
                                      <a:lnTo>
                                        <a:pt x="1407" y="65"/>
                                      </a:lnTo>
                                      <a:close/>
                                    </a:path>
                                  </a:pathLst>
                                </a:custGeom>
                                <a:blipFill rotWithShape="0">
                                  <a:blip r:embed="rId97"/>
                                  <a:srcRect/>
                                  <a:tile tx="0" ty="0" sx="100000" sy="100000" algn="ctr"/>
                                </a:blip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24" name=""/>
                                <p:cNvSpPr/>
                                <p:nvPr/>
                              </p:nvSpPr>
                              <p:spPr>
                                <a:xfrm rot="21030000">
                                  <a:off x="2446560" y="1469160"/>
                                  <a:ext cx="45720" cy="15948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449" h="1646">
                                      <a:moveTo>
                                        <a:pt x="224" y="322"/>
                                      </a:moveTo>
                                      <a:lnTo>
                                        <a:pt x="211" y="356"/>
                                      </a:lnTo>
                                      <a:lnTo>
                                        <a:pt x="194" y="387"/>
                                      </a:lnTo>
                                      <a:lnTo>
                                        <a:pt x="181" y="408"/>
                                      </a:lnTo>
                                      <a:lnTo>
                                        <a:pt x="164" y="430"/>
                                      </a:lnTo>
                                      <a:lnTo>
                                        <a:pt x="147" y="447"/>
                                      </a:lnTo>
                                      <a:lnTo>
                                        <a:pt x="125" y="468"/>
                                      </a:lnTo>
                                      <a:lnTo>
                                        <a:pt x="104" y="485"/>
                                      </a:lnTo>
                                      <a:lnTo>
                                        <a:pt x="82" y="507"/>
                                      </a:lnTo>
                                      <a:lnTo>
                                        <a:pt x="82" y="546"/>
                                      </a:lnTo>
                                      <a:lnTo>
                                        <a:pt x="82" y="580"/>
                                      </a:lnTo>
                                      <a:lnTo>
                                        <a:pt x="78" y="619"/>
                                      </a:lnTo>
                                      <a:lnTo>
                                        <a:pt x="73" y="657"/>
                                      </a:lnTo>
                                      <a:lnTo>
                                        <a:pt x="65" y="692"/>
                                      </a:lnTo>
                                      <a:lnTo>
                                        <a:pt x="47" y="726"/>
                                      </a:lnTo>
                                      <a:lnTo>
                                        <a:pt x="30" y="761"/>
                                      </a:lnTo>
                                      <a:lnTo>
                                        <a:pt x="0" y="791"/>
                                      </a:lnTo>
                                      <a:lnTo>
                                        <a:pt x="0" y="817"/>
                                      </a:lnTo>
                                      <a:lnTo>
                                        <a:pt x="0" y="851"/>
                                      </a:lnTo>
                                      <a:lnTo>
                                        <a:pt x="0" y="898"/>
                                      </a:lnTo>
                                      <a:lnTo>
                                        <a:pt x="0" y="950"/>
                                      </a:lnTo>
                                      <a:lnTo>
                                        <a:pt x="4" y="997"/>
                                      </a:lnTo>
                                      <a:lnTo>
                                        <a:pt x="9" y="1036"/>
                                      </a:lnTo>
                                      <a:lnTo>
                                        <a:pt x="17" y="1053"/>
                                      </a:lnTo>
                                      <a:lnTo>
                                        <a:pt x="22" y="1066"/>
                                      </a:lnTo>
                                      <a:lnTo>
                                        <a:pt x="30" y="1075"/>
                                      </a:lnTo>
                                      <a:lnTo>
                                        <a:pt x="43" y="1075"/>
                                      </a:lnTo>
                                      <a:lnTo>
                                        <a:pt x="43" y="1066"/>
                                      </a:lnTo>
                                      <a:lnTo>
                                        <a:pt x="47" y="1057"/>
                                      </a:lnTo>
                                      <a:lnTo>
                                        <a:pt x="47" y="1044"/>
                                      </a:lnTo>
                                      <a:lnTo>
                                        <a:pt x="52" y="1036"/>
                                      </a:lnTo>
                                      <a:lnTo>
                                        <a:pt x="56" y="1023"/>
                                      </a:lnTo>
                                      <a:lnTo>
                                        <a:pt x="60" y="1014"/>
                                      </a:lnTo>
                                      <a:lnTo>
                                        <a:pt x="60" y="1001"/>
                                      </a:lnTo>
                                      <a:lnTo>
                                        <a:pt x="65" y="993"/>
                                      </a:lnTo>
                                      <a:lnTo>
                                        <a:pt x="82" y="976"/>
                                      </a:lnTo>
                                      <a:lnTo>
                                        <a:pt x="142" y="976"/>
                                      </a:lnTo>
                                      <a:lnTo>
                                        <a:pt x="134" y="1010"/>
                                      </a:lnTo>
                                      <a:lnTo>
                                        <a:pt x="104" y="1075"/>
                                      </a:lnTo>
                                      <a:lnTo>
                                        <a:pt x="69" y="1161"/>
                                      </a:lnTo>
                                      <a:lnTo>
                                        <a:pt x="35" y="1255"/>
                                      </a:lnTo>
                                      <a:lnTo>
                                        <a:pt x="22" y="1302"/>
                                      </a:lnTo>
                                      <a:lnTo>
                                        <a:pt x="13" y="1345"/>
                                      </a:lnTo>
                                      <a:lnTo>
                                        <a:pt x="13" y="1388"/>
                                      </a:lnTo>
                                      <a:lnTo>
                                        <a:pt x="17" y="1427"/>
                                      </a:lnTo>
                                      <a:lnTo>
                                        <a:pt x="22" y="1440"/>
                                      </a:lnTo>
                                      <a:lnTo>
                                        <a:pt x="26" y="1457"/>
                                      </a:lnTo>
                                      <a:lnTo>
                                        <a:pt x="39" y="1470"/>
                                      </a:lnTo>
                                      <a:lnTo>
                                        <a:pt x="47" y="1483"/>
                                      </a:lnTo>
                                      <a:lnTo>
                                        <a:pt x="65" y="1492"/>
                                      </a:lnTo>
                                      <a:lnTo>
                                        <a:pt x="82" y="1496"/>
                                      </a:lnTo>
                                      <a:lnTo>
                                        <a:pt x="99" y="1500"/>
                                      </a:lnTo>
                                      <a:lnTo>
                                        <a:pt x="125" y="1500"/>
                                      </a:lnTo>
                                      <a:lnTo>
                                        <a:pt x="125" y="1358"/>
                                      </a:lnTo>
                                      <a:lnTo>
                                        <a:pt x="134" y="1358"/>
                                      </a:lnTo>
                                      <a:lnTo>
                                        <a:pt x="138" y="1358"/>
                                      </a:lnTo>
                                      <a:lnTo>
                                        <a:pt x="147" y="1354"/>
                                      </a:lnTo>
                                      <a:lnTo>
                                        <a:pt x="155" y="1350"/>
                                      </a:lnTo>
                                      <a:lnTo>
                                        <a:pt x="164" y="1345"/>
                                      </a:lnTo>
                                      <a:lnTo>
                                        <a:pt x="168" y="1341"/>
                                      </a:lnTo>
                                      <a:lnTo>
                                        <a:pt x="177" y="1341"/>
                                      </a:lnTo>
                                      <a:lnTo>
                                        <a:pt x="186" y="1341"/>
                                      </a:lnTo>
                                      <a:lnTo>
                                        <a:pt x="181" y="1371"/>
                                      </a:lnTo>
                                      <a:lnTo>
                                        <a:pt x="173" y="1414"/>
                                      </a:lnTo>
                                      <a:lnTo>
                                        <a:pt x="160" y="1462"/>
                                      </a:lnTo>
                                      <a:lnTo>
                                        <a:pt x="155" y="1513"/>
                                      </a:lnTo>
                                      <a:lnTo>
                                        <a:pt x="155" y="1539"/>
                                      </a:lnTo>
                                      <a:lnTo>
                                        <a:pt x="155" y="1565"/>
                                      </a:lnTo>
                                      <a:lnTo>
                                        <a:pt x="160" y="1586"/>
                                      </a:lnTo>
                                      <a:lnTo>
                                        <a:pt x="168" y="1603"/>
                                      </a:lnTo>
                                      <a:lnTo>
                                        <a:pt x="181" y="1621"/>
                                      </a:lnTo>
                                      <a:lnTo>
                                        <a:pt x="198" y="1634"/>
                                      </a:lnTo>
                                      <a:lnTo>
                                        <a:pt x="220" y="1642"/>
                                      </a:lnTo>
                                      <a:lnTo>
                                        <a:pt x="246" y="1646"/>
                                      </a:lnTo>
                                      <a:lnTo>
                                        <a:pt x="250" y="1612"/>
                                      </a:lnTo>
                                      <a:lnTo>
                                        <a:pt x="255" y="1560"/>
                                      </a:lnTo>
                                      <a:lnTo>
                                        <a:pt x="263" y="1500"/>
                                      </a:lnTo>
                                      <a:lnTo>
                                        <a:pt x="276" y="1440"/>
                                      </a:lnTo>
                                      <a:lnTo>
                                        <a:pt x="293" y="1380"/>
                                      </a:lnTo>
                                      <a:lnTo>
                                        <a:pt x="315" y="1328"/>
                                      </a:lnTo>
                                      <a:lnTo>
                                        <a:pt x="328" y="1307"/>
                                      </a:lnTo>
                                      <a:lnTo>
                                        <a:pt x="341" y="1294"/>
                                      </a:lnTo>
                                      <a:lnTo>
                                        <a:pt x="354" y="1281"/>
                                      </a:lnTo>
                                      <a:lnTo>
                                        <a:pt x="367" y="1277"/>
                                      </a:lnTo>
                                      <a:lnTo>
                                        <a:pt x="367" y="1272"/>
                                      </a:lnTo>
                                      <a:lnTo>
                                        <a:pt x="367" y="1264"/>
                                      </a:lnTo>
                                      <a:lnTo>
                                        <a:pt x="362" y="1255"/>
                                      </a:lnTo>
                                      <a:lnTo>
                                        <a:pt x="358" y="1247"/>
                                      </a:lnTo>
                                      <a:lnTo>
                                        <a:pt x="354" y="1242"/>
                                      </a:lnTo>
                                      <a:lnTo>
                                        <a:pt x="349" y="1234"/>
                                      </a:lnTo>
                                      <a:lnTo>
                                        <a:pt x="349" y="1225"/>
                                      </a:lnTo>
                                      <a:lnTo>
                                        <a:pt x="349" y="1216"/>
                                      </a:lnTo>
                                      <a:lnTo>
                                        <a:pt x="341" y="1221"/>
                                      </a:lnTo>
                                      <a:lnTo>
                                        <a:pt x="328" y="1225"/>
                                      </a:lnTo>
                                      <a:lnTo>
                                        <a:pt x="311" y="1229"/>
                                      </a:lnTo>
                                      <a:lnTo>
                                        <a:pt x="298" y="1238"/>
                                      </a:lnTo>
                                      <a:lnTo>
                                        <a:pt x="280" y="1247"/>
                                      </a:lnTo>
                                      <a:lnTo>
                                        <a:pt x="268" y="1251"/>
                                      </a:lnTo>
                                      <a:lnTo>
                                        <a:pt x="255" y="1255"/>
                                      </a:lnTo>
                                      <a:lnTo>
                                        <a:pt x="246" y="1259"/>
                                      </a:lnTo>
                                      <a:lnTo>
                                        <a:pt x="237" y="1277"/>
                                      </a:lnTo>
                                      <a:lnTo>
                                        <a:pt x="224" y="1294"/>
                                      </a:lnTo>
                                      <a:lnTo>
                                        <a:pt x="211" y="1315"/>
                                      </a:lnTo>
                                      <a:lnTo>
                                        <a:pt x="198" y="1341"/>
                                      </a:lnTo>
                                      <a:lnTo>
                                        <a:pt x="186" y="1363"/>
                                      </a:lnTo>
                                      <a:lnTo>
                                        <a:pt x="177" y="1384"/>
                                      </a:lnTo>
                                      <a:lnTo>
                                        <a:pt x="168" y="1406"/>
                                      </a:lnTo>
                                      <a:lnTo>
                                        <a:pt x="164" y="1423"/>
                                      </a:lnTo>
                                      <a:lnTo>
                                        <a:pt x="168" y="1376"/>
                                      </a:lnTo>
                                      <a:lnTo>
                                        <a:pt x="173" y="1328"/>
                                      </a:lnTo>
                                      <a:lnTo>
                                        <a:pt x="177" y="1277"/>
                                      </a:lnTo>
                                      <a:lnTo>
                                        <a:pt x="186" y="1229"/>
                                      </a:lnTo>
                                      <a:lnTo>
                                        <a:pt x="194" y="1182"/>
                                      </a:lnTo>
                                      <a:lnTo>
                                        <a:pt x="198" y="1139"/>
                                      </a:lnTo>
                                      <a:lnTo>
                                        <a:pt x="203" y="1096"/>
                                      </a:lnTo>
                                      <a:lnTo>
                                        <a:pt x="207" y="1053"/>
                                      </a:lnTo>
                                      <a:lnTo>
                                        <a:pt x="198" y="1057"/>
                                      </a:lnTo>
                                      <a:lnTo>
                                        <a:pt x="186" y="1062"/>
                                      </a:lnTo>
                                      <a:lnTo>
                                        <a:pt x="177" y="1070"/>
                                      </a:lnTo>
                                      <a:lnTo>
                                        <a:pt x="164" y="1079"/>
                                      </a:lnTo>
                                      <a:lnTo>
                                        <a:pt x="155" y="1087"/>
                                      </a:lnTo>
                                      <a:lnTo>
                                        <a:pt x="142" y="1096"/>
                                      </a:lnTo>
                                      <a:lnTo>
                                        <a:pt x="134" y="1109"/>
                                      </a:lnTo>
                                      <a:lnTo>
                                        <a:pt x="125" y="1118"/>
                                      </a:lnTo>
                                      <a:lnTo>
                                        <a:pt x="125" y="1135"/>
                                      </a:lnTo>
                                      <a:lnTo>
                                        <a:pt x="125" y="1156"/>
                                      </a:lnTo>
                                      <a:lnTo>
                                        <a:pt x="138" y="1109"/>
                                      </a:lnTo>
                                      <a:lnTo>
                                        <a:pt x="155" y="1053"/>
                                      </a:lnTo>
                                      <a:lnTo>
                                        <a:pt x="173" y="984"/>
                                      </a:lnTo>
                                      <a:lnTo>
                                        <a:pt x="190" y="911"/>
                                      </a:lnTo>
                                      <a:lnTo>
                                        <a:pt x="203" y="838"/>
                                      </a:lnTo>
                                      <a:lnTo>
                                        <a:pt x="216" y="765"/>
                                      </a:lnTo>
                                      <a:lnTo>
                                        <a:pt x="224" y="700"/>
                                      </a:lnTo>
                                      <a:lnTo>
                                        <a:pt x="224" y="649"/>
                                      </a:lnTo>
                                      <a:lnTo>
                                        <a:pt x="207" y="653"/>
                                      </a:lnTo>
                                      <a:lnTo>
                                        <a:pt x="190" y="666"/>
                                      </a:lnTo>
                                      <a:lnTo>
                                        <a:pt x="177" y="679"/>
                                      </a:lnTo>
                                      <a:lnTo>
                                        <a:pt x="168" y="700"/>
                                      </a:lnTo>
                                      <a:lnTo>
                                        <a:pt x="160" y="718"/>
                                      </a:lnTo>
                                      <a:lnTo>
                                        <a:pt x="147" y="735"/>
                                      </a:lnTo>
                                      <a:lnTo>
                                        <a:pt x="138" y="748"/>
                                      </a:lnTo>
                                      <a:lnTo>
                                        <a:pt x="125" y="752"/>
                                      </a:lnTo>
                                      <a:lnTo>
                                        <a:pt x="134" y="726"/>
                                      </a:lnTo>
                                      <a:lnTo>
                                        <a:pt x="147" y="696"/>
                                      </a:lnTo>
                                      <a:lnTo>
                                        <a:pt x="160" y="662"/>
                                      </a:lnTo>
                                      <a:lnTo>
                                        <a:pt x="173" y="627"/>
                                      </a:lnTo>
                                      <a:lnTo>
                                        <a:pt x="186" y="593"/>
                                      </a:lnTo>
                                      <a:lnTo>
                                        <a:pt x="194" y="563"/>
                                      </a:lnTo>
                                      <a:lnTo>
                                        <a:pt x="203" y="533"/>
                                      </a:lnTo>
                                      <a:lnTo>
                                        <a:pt x="207" y="507"/>
                                      </a:lnTo>
                                      <a:lnTo>
                                        <a:pt x="220" y="503"/>
                                      </a:lnTo>
                                      <a:lnTo>
                                        <a:pt x="229" y="498"/>
                                      </a:lnTo>
                                      <a:lnTo>
                                        <a:pt x="237" y="494"/>
                                      </a:lnTo>
                                      <a:lnTo>
                                        <a:pt x="246" y="485"/>
                                      </a:lnTo>
                                      <a:lnTo>
                                        <a:pt x="250" y="473"/>
                                      </a:lnTo>
                                      <a:lnTo>
                                        <a:pt x="255" y="464"/>
                                      </a:lnTo>
                                      <a:lnTo>
                                        <a:pt x="259" y="455"/>
                                      </a:lnTo>
                                      <a:lnTo>
                                        <a:pt x="268" y="447"/>
                                      </a:lnTo>
                                      <a:lnTo>
                                        <a:pt x="276" y="442"/>
                                      </a:lnTo>
                                      <a:lnTo>
                                        <a:pt x="280" y="442"/>
                                      </a:lnTo>
                                      <a:lnTo>
                                        <a:pt x="289" y="438"/>
                                      </a:lnTo>
                                      <a:lnTo>
                                        <a:pt x="298" y="434"/>
                                      </a:lnTo>
                                      <a:lnTo>
                                        <a:pt x="306" y="430"/>
                                      </a:lnTo>
                                      <a:lnTo>
                                        <a:pt x="311" y="430"/>
                                      </a:lnTo>
                                      <a:lnTo>
                                        <a:pt x="319" y="425"/>
                                      </a:lnTo>
                                      <a:lnTo>
                                        <a:pt x="328" y="425"/>
                                      </a:lnTo>
                                      <a:lnTo>
                                        <a:pt x="328" y="408"/>
                                      </a:lnTo>
                                      <a:lnTo>
                                        <a:pt x="324" y="387"/>
                                      </a:lnTo>
                                      <a:lnTo>
                                        <a:pt x="324" y="365"/>
                                      </a:lnTo>
                                      <a:lnTo>
                                        <a:pt x="319" y="344"/>
                                      </a:lnTo>
                                      <a:lnTo>
                                        <a:pt x="315" y="322"/>
                                      </a:lnTo>
                                      <a:lnTo>
                                        <a:pt x="311" y="301"/>
                                      </a:lnTo>
                                      <a:lnTo>
                                        <a:pt x="311" y="279"/>
                                      </a:lnTo>
                                      <a:lnTo>
                                        <a:pt x="306" y="262"/>
                                      </a:lnTo>
                                      <a:lnTo>
                                        <a:pt x="319" y="262"/>
                                      </a:lnTo>
                                      <a:lnTo>
                                        <a:pt x="332" y="253"/>
                                      </a:lnTo>
                                      <a:lnTo>
                                        <a:pt x="345" y="245"/>
                                      </a:lnTo>
                                      <a:lnTo>
                                        <a:pt x="354" y="232"/>
                                      </a:lnTo>
                                      <a:lnTo>
                                        <a:pt x="380" y="193"/>
                                      </a:lnTo>
                                      <a:lnTo>
                                        <a:pt x="401" y="154"/>
                                      </a:lnTo>
                                      <a:lnTo>
                                        <a:pt x="423" y="107"/>
                                      </a:lnTo>
                                      <a:lnTo>
                                        <a:pt x="436" y="64"/>
                                      </a:lnTo>
                                      <a:lnTo>
                                        <a:pt x="449" y="25"/>
                                      </a:lnTo>
                                      <a:lnTo>
                                        <a:pt x="449" y="0"/>
                                      </a:lnTo>
                                      <a:lnTo>
                                        <a:pt x="414" y="25"/>
                                      </a:lnTo>
                                      <a:lnTo>
                                        <a:pt x="384" y="55"/>
                                      </a:lnTo>
                                      <a:lnTo>
                                        <a:pt x="354" y="90"/>
                                      </a:lnTo>
                                      <a:lnTo>
                                        <a:pt x="324" y="124"/>
                                      </a:lnTo>
                                      <a:lnTo>
                                        <a:pt x="289" y="154"/>
                                      </a:lnTo>
                                      <a:lnTo>
                                        <a:pt x="255" y="180"/>
                                      </a:lnTo>
                                      <a:lnTo>
                                        <a:pt x="237" y="189"/>
                                      </a:lnTo>
                                      <a:lnTo>
                                        <a:pt x="216" y="193"/>
                                      </a:lnTo>
                                      <a:lnTo>
                                        <a:pt x="190" y="202"/>
                                      </a:lnTo>
                                      <a:lnTo>
                                        <a:pt x="164" y="202"/>
                                      </a:lnTo>
                                      <a:lnTo>
                                        <a:pt x="160" y="223"/>
                                      </a:lnTo>
                                      <a:lnTo>
                                        <a:pt x="151" y="249"/>
                                      </a:lnTo>
                                      <a:lnTo>
                                        <a:pt x="138" y="279"/>
                                      </a:lnTo>
                                      <a:lnTo>
                                        <a:pt x="125" y="305"/>
                                      </a:lnTo>
                                      <a:lnTo>
                                        <a:pt x="108" y="335"/>
                                      </a:lnTo>
                                      <a:lnTo>
                                        <a:pt x="95" y="365"/>
                                      </a:lnTo>
                                      <a:lnTo>
                                        <a:pt x="86" y="395"/>
                                      </a:lnTo>
                                      <a:lnTo>
                                        <a:pt x="82" y="425"/>
                                      </a:lnTo>
                                      <a:lnTo>
                                        <a:pt x="86" y="417"/>
                                      </a:lnTo>
                                      <a:lnTo>
                                        <a:pt x="91" y="408"/>
                                      </a:lnTo>
                                      <a:lnTo>
                                        <a:pt x="95" y="399"/>
                                      </a:lnTo>
                                      <a:lnTo>
                                        <a:pt x="104" y="391"/>
                                      </a:lnTo>
                                      <a:lnTo>
                                        <a:pt x="112" y="382"/>
                                      </a:lnTo>
                                      <a:lnTo>
                                        <a:pt x="117" y="369"/>
                                      </a:lnTo>
                                      <a:lnTo>
                                        <a:pt x="121" y="356"/>
                                      </a:lnTo>
                                      <a:lnTo>
                                        <a:pt x="125" y="344"/>
                                      </a:lnTo>
                                      <a:lnTo>
                                        <a:pt x="142" y="322"/>
                                      </a:lnTo>
                                      <a:lnTo>
                                        <a:pt x="164" y="322"/>
                                      </a:lnTo>
                                      <a:lnTo>
                                        <a:pt x="164" y="305"/>
                                      </a:lnTo>
                                      <a:lnTo>
                                        <a:pt x="186" y="283"/>
                                      </a:lnTo>
                                      <a:lnTo>
                                        <a:pt x="224" y="322"/>
                                      </a:lnTo>
                                      <a:close/>
                                    </a:path>
                                  </a:pathLst>
                                </a:custGeom>
                                <a:blipFill rotWithShape="0">
                                  <a:blip r:embed="rId98"/>
                                  <a:srcRect/>
                                  <a:tile tx="0" ty="0" sx="100000" sy="100000" algn="ctr"/>
                                </a:blip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25" name=""/>
                                <p:cNvSpPr/>
                                <p:nvPr/>
                              </p:nvSpPr>
                              <p:spPr>
                                <a:xfrm rot="21030000">
                                  <a:off x="2525760" y="1583280"/>
                                  <a:ext cx="162360" cy="5472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587" h="567">
                                      <a:moveTo>
                                        <a:pt x="159" y="258"/>
                                      </a:moveTo>
                                      <a:lnTo>
                                        <a:pt x="181" y="253"/>
                                      </a:lnTo>
                                      <a:lnTo>
                                        <a:pt x="207" y="245"/>
                                      </a:lnTo>
                                      <a:lnTo>
                                        <a:pt x="233" y="228"/>
                                      </a:lnTo>
                                      <a:lnTo>
                                        <a:pt x="263" y="206"/>
                                      </a:lnTo>
                                      <a:lnTo>
                                        <a:pt x="293" y="189"/>
                                      </a:lnTo>
                                      <a:lnTo>
                                        <a:pt x="323" y="172"/>
                                      </a:lnTo>
                                      <a:lnTo>
                                        <a:pt x="345" y="163"/>
                                      </a:lnTo>
                                      <a:lnTo>
                                        <a:pt x="367" y="159"/>
                                      </a:lnTo>
                                      <a:lnTo>
                                        <a:pt x="367" y="142"/>
                                      </a:lnTo>
                                      <a:lnTo>
                                        <a:pt x="375" y="124"/>
                                      </a:lnTo>
                                      <a:lnTo>
                                        <a:pt x="384" y="111"/>
                                      </a:lnTo>
                                      <a:lnTo>
                                        <a:pt x="397" y="99"/>
                                      </a:lnTo>
                                      <a:lnTo>
                                        <a:pt x="436" y="73"/>
                                      </a:lnTo>
                                      <a:lnTo>
                                        <a:pt x="483" y="51"/>
                                      </a:lnTo>
                                      <a:lnTo>
                                        <a:pt x="539" y="34"/>
                                      </a:lnTo>
                                      <a:lnTo>
                                        <a:pt x="604" y="21"/>
                                      </a:lnTo>
                                      <a:lnTo>
                                        <a:pt x="673" y="13"/>
                                      </a:lnTo>
                                      <a:lnTo>
                                        <a:pt x="746" y="4"/>
                                      </a:lnTo>
                                      <a:lnTo>
                                        <a:pt x="824" y="0"/>
                                      </a:lnTo>
                                      <a:lnTo>
                                        <a:pt x="897" y="0"/>
                                      </a:lnTo>
                                      <a:lnTo>
                                        <a:pt x="971" y="0"/>
                                      </a:lnTo>
                                      <a:lnTo>
                                        <a:pt x="1035" y="4"/>
                                      </a:lnTo>
                                      <a:lnTo>
                                        <a:pt x="1096" y="8"/>
                                      </a:lnTo>
                                      <a:lnTo>
                                        <a:pt x="1152" y="17"/>
                                      </a:lnTo>
                                      <a:lnTo>
                                        <a:pt x="1191" y="25"/>
                                      </a:lnTo>
                                      <a:lnTo>
                                        <a:pt x="1221" y="34"/>
                                      </a:lnTo>
                                      <a:lnTo>
                                        <a:pt x="1221" y="56"/>
                                      </a:lnTo>
                                      <a:lnTo>
                                        <a:pt x="1251" y="68"/>
                                      </a:lnTo>
                                      <a:lnTo>
                                        <a:pt x="1285" y="81"/>
                                      </a:lnTo>
                                      <a:lnTo>
                                        <a:pt x="1324" y="103"/>
                                      </a:lnTo>
                                      <a:lnTo>
                                        <a:pt x="1363" y="124"/>
                                      </a:lnTo>
                                      <a:lnTo>
                                        <a:pt x="1406" y="146"/>
                                      </a:lnTo>
                                      <a:lnTo>
                                        <a:pt x="1445" y="163"/>
                                      </a:lnTo>
                                      <a:lnTo>
                                        <a:pt x="1480" y="172"/>
                                      </a:lnTo>
                                      <a:lnTo>
                                        <a:pt x="1506" y="176"/>
                                      </a:lnTo>
                                      <a:lnTo>
                                        <a:pt x="1514" y="185"/>
                                      </a:lnTo>
                                      <a:lnTo>
                                        <a:pt x="1527" y="197"/>
                                      </a:lnTo>
                                      <a:lnTo>
                                        <a:pt x="1536" y="206"/>
                                      </a:lnTo>
                                      <a:lnTo>
                                        <a:pt x="1549" y="215"/>
                                      </a:lnTo>
                                      <a:lnTo>
                                        <a:pt x="1562" y="223"/>
                                      </a:lnTo>
                                      <a:lnTo>
                                        <a:pt x="1570" y="232"/>
                                      </a:lnTo>
                                      <a:lnTo>
                                        <a:pt x="1579" y="236"/>
                                      </a:lnTo>
                                      <a:lnTo>
                                        <a:pt x="1587" y="240"/>
                                      </a:lnTo>
                                      <a:lnTo>
                                        <a:pt x="1587" y="464"/>
                                      </a:lnTo>
                                      <a:lnTo>
                                        <a:pt x="1562" y="486"/>
                                      </a:lnTo>
                                      <a:lnTo>
                                        <a:pt x="1531" y="503"/>
                                      </a:lnTo>
                                      <a:lnTo>
                                        <a:pt x="1493" y="520"/>
                                      </a:lnTo>
                                      <a:lnTo>
                                        <a:pt x="1449" y="533"/>
                                      </a:lnTo>
                                      <a:lnTo>
                                        <a:pt x="1402" y="546"/>
                                      </a:lnTo>
                                      <a:lnTo>
                                        <a:pt x="1350" y="554"/>
                                      </a:lnTo>
                                      <a:lnTo>
                                        <a:pt x="1298" y="563"/>
                                      </a:lnTo>
                                      <a:lnTo>
                                        <a:pt x="1247" y="567"/>
                                      </a:lnTo>
                                      <a:lnTo>
                                        <a:pt x="1195" y="567"/>
                                      </a:lnTo>
                                      <a:lnTo>
                                        <a:pt x="1139" y="567"/>
                                      </a:lnTo>
                                      <a:lnTo>
                                        <a:pt x="1087" y="563"/>
                                      </a:lnTo>
                                      <a:lnTo>
                                        <a:pt x="1040" y="559"/>
                                      </a:lnTo>
                                      <a:lnTo>
                                        <a:pt x="992" y="546"/>
                                      </a:lnTo>
                                      <a:lnTo>
                                        <a:pt x="949" y="537"/>
                                      </a:lnTo>
                                      <a:lnTo>
                                        <a:pt x="910" y="520"/>
                                      </a:lnTo>
                                      <a:lnTo>
                                        <a:pt x="876" y="503"/>
                                      </a:lnTo>
                                      <a:lnTo>
                                        <a:pt x="876" y="481"/>
                                      </a:lnTo>
                                      <a:lnTo>
                                        <a:pt x="863" y="481"/>
                                      </a:lnTo>
                                      <a:lnTo>
                                        <a:pt x="845" y="481"/>
                                      </a:lnTo>
                                      <a:lnTo>
                                        <a:pt x="828" y="486"/>
                                      </a:lnTo>
                                      <a:lnTo>
                                        <a:pt x="807" y="486"/>
                                      </a:lnTo>
                                      <a:lnTo>
                                        <a:pt x="785" y="486"/>
                                      </a:lnTo>
                                      <a:lnTo>
                                        <a:pt x="768" y="490"/>
                                      </a:lnTo>
                                      <a:lnTo>
                                        <a:pt x="759" y="494"/>
                                      </a:lnTo>
                                      <a:lnTo>
                                        <a:pt x="755" y="503"/>
                                      </a:lnTo>
                                      <a:lnTo>
                                        <a:pt x="99" y="503"/>
                                      </a:lnTo>
                                      <a:lnTo>
                                        <a:pt x="95" y="503"/>
                                      </a:lnTo>
                                      <a:lnTo>
                                        <a:pt x="86" y="498"/>
                                      </a:lnTo>
                                      <a:lnTo>
                                        <a:pt x="77" y="498"/>
                                      </a:lnTo>
                                      <a:lnTo>
                                        <a:pt x="69" y="494"/>
                                      </a:lnTo>
                                      <a:lnTo>
                                        <a:pt x="60" y="490"/>
                                      </a:lnTo>
                                      <a:lnTo>
                                        <a:pt x="56" y="486"/>
                                      </a:lnTo>
                                      <a:lnTo>
                                        <a:pt x="47" y="486"/>
                                      </a:lnTo>
                                      <a:lnTo>
                                        <a:pt x="39" y="481"/>
                                      </a:lnTo>
                                      <a:lnTo>
                                        <a:pt x="0" y="443"/>
                                      </a:lnTo>
                                      <a:lnTo>
                                        <a:pt x="0" y="361"/>
                                      </a:lnTo>
                                      <a:lnTo>
                                        <a:pt x="8" y="352"/>
                                      </a:lnTo>
                                      <a:lnTo>
                                        <a:pt x="17" y="344"/>
                                      </a:lnTo>
                                      <a:lnTo>
                                        <a:pt x="26" y="331"/>
                                      </a:lnTo>
                                      <a:lnTo>
                                        <a:pt x="39" y="318"/>
                                      </a:lnTo>
                                      <a:lnTo>
                                        <a:pt x="47" y="305"/>
                                      </a:lnTo>
                                      <a:lnTo>
                                        <a:pt x="52" y="288"/>
                                      </a:lnTo>
                                      <a:lnTo>
                                        <a:pt x="56" y="275"/>
                                      </a:lnTo>
                                      <a:lnTo>
                                        <a:pt x="60" y="258"/>
                                      </a:lnTo>
                                      <a:lnTo>
                                        <a:pt x="69" y="253"/>
                                      </a:lnTo>
                                      <a:lnTo>
                                        <a:pt x="82" y="245"/>
                                      </a:lnTo>
                                      <a:lnTo>
                                        <a:pt x="95" y="232"/>
                                      </a:lnTo>
                                      <a:lnTo>
                                        <a:pt x="112" y="219"/>
                                      </a:lnTo>
                                      <a:lnTo>
                                        <a:pt x="125" y="215"/>
                                      </a:lnTo>
                                      <a:lnTo>
                                        <a:pt x="138" y="215"/>
                                      </a:lnTo>
                                      <a:lnTo>
                                        <a:pt x="151" y="232"/>
                                      </a:lnTo>
                                      <a:lnTo>
                                        <a:pt x="159" y="258"/>
                                      </a:lnTo>
                                      <a:close/>
                                    </a:path>
                                  </a:pathLst>
                                </a:custGeom>
                                <a:blipFill rotWithShape="0">
                                  <a:blip r:embed="rId99"/>
                                  <a:srcRect/>
                                  <a:tile tx="0" ty="0" sx="100000" sy="100000" algn="ctr"/>
                                </a:blip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7920" bIns="792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226" name=""/>
                              <p:cNvSpPr/>
                              <p:nvPr/>
                            </p:nvSpPr>
                            <p:spPr>
                              <a:xfrm rot="21030000">
                                <a:off x="2537640" y="1585440"/>
                                <a:ext cx="141480" cy="478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85" h="495">
                                    <a:moveTo>
                                      <a:pt x="142" y="228"/>
                                    </a:moveTo>
                                    <a:lnTo>
                                      <a:pt x="160" y="224"/>
                                    </a:lnTo>
                                    <a:lnTo>
                                      <a:pt x="181" y="215"/>
                                    </a:lnTo>
                                    <a:lnTo>
                                      <a:pt x="203" y="198"/>
                                    </a:lnTo>
                                    <a:lnTo>
                                      <a:pt x="229" y="185"/>
                                    </a:lnTo>
                                    <a:lnTo>
                                      <a:pt x="259" y="168"/>
                                    </a:lnTo>
                                    <a:lnTo>
                                      <a:pt x="280" y="151"/>
                                    </a:lnTo>
                                    <a:lnTo>
                                      <a:pt x="302" y="142"/>
                                    </a:lnTo>
                                    <a:lnTo>
                                      <a:pt x="319" y="138"/>
                                    </a:lnTo>
                                    <a:lnTo>
                                      <a:pt x="319" y="125"/>
                                    </a:lnTo>
                                    <a:lnTo>
                                      <a:pt x="328" y="112"/>
                                    </a:lnTo>
                                    <a:lnTo>
                                      <a:pt x="336" y="99"/>
                                    </a:lnTo>
                                    <a:lnTo>
                                      <a:pt x="345" y="86"/>
                                    </a:lnTo>
                                    <a:lnTo>
                                      <a:pt x="380" y="65"/>
                                    </a:lnTo>
                                    <a:lnTo>
                                      <a:pt x="423" y="48"/>
                                    </a:lnTo>
                                    <a:lnTo>
                                      <a:pt x="470" y="35"/>
                                    </a:lnTo>
                                    <a:lnTo>
                                      <a:pt x="526" y="22"/>
                                    </a:lnTo>
                                    <a:lnTo>
                                      <a:pt x="587" y="13"/>
                                    </a:lnTo>
                                    <a:lnTo>
                                      <a:pt x="651" y="5"/>
                                    </a:lnTo>
                                    <a:lnTo>
                                      <a:pt x="716" y="5"/>
                                    </a:lnTo>
                                    <a:lnTo>
                                      <a:pt x="781" y="0"/>
                                    </a:lnTo>
                                    <a:lnTo>
                                      <a:pt x="846" y="0"/>
                                    </a:lnTo>
                                    <a:lnTo>
                                      <a:pt x="906" y="5"/>
                                    </a:lnTo>
                                    <a:lnTo>
                                      <a:pt x="958" y="9"/>
                                    </a:lnTo>
                                    <a:lnTo>
                                      <a:pt x="1001" y="18"/>
                                    </a:lnTo>
                                    <a:lnTo>
                                      <a:pt x="1040" y="22"/>
                                    </a:lnTo>
                                    <a:lnTo>
                                      <a:pt x="1066" y="35"/>
                                    </a:lnTo>
                                    <a:lnTo>
                                      <a:pt x="1066" y="35"/>
                                    </a:lnTo>
                                    <a:lnTo>
                                      <a:pt x="1066" y="39"/>
                                    </a:lnTo>
                                    <a:lnTo>
                                      <a:pt x="1066" y="39"/>
                                    </a:lnTo>
                                    <a:lnTo>
                                      <a:pt x="1066" y="43"/>
                                    </a:lnTo>
                                    <a:lnTo>
                                      <a:pt x="1066" y="43"/>
                                    </a:lnTo>
                                    <a:lnTo>
                                      <a:pt x="1066" y="48"/>
                                    </a:lnTo>
                                    <a:lnTo>
                                      <a:pt x="1066" y="48"/>
                                    </a:lnTo>
                                    <a:lnTo>
                                      <a:pt x="1066" y="52"/>
                                    </a:lnTo>
                                    <a:lnTo>
                                      <a:pt x="1087" y="61"/>
                                    </a:lnTo>
                                    <a:lnTo>
                                      <a:pt x="1117" y="74"/>
                                    </a:lnTo>
                                    <a:lnTo>
                                      <a:pt x="1152" y="91"/>
                                    </a:lnTo>
                                    <a:lnTo>
                                      <a:pt x="1191" y="112"/>
                                    </a:lnTo>
                                    <a:lnTo>
                                      <a:pt x="1225" y="129"/>
                                    </a:lnTo>
                                    <a:lnTo>
                                      <a:pt x="1260" y="142"/>
                                    </a:lnTo>
                                    <a:lnTo>
                                      <a:pt x="1290" y="151"/>
                                    </a:lnTo>
                                    <a:lnTo>
                                      <a:pt x="1316" y="155"/>
                                    </a:lnTo>
                                    <a:lnTo>
                                      <a:pt x="1320" y="164"/>
                                    </a:lnTo>
                                    <a:lnTo>
                                      <a:pt x="1329" y="172"/>
                                    </a:lnTo>
                                    <a:lnTo>
                                      <a:pt x="1342" y="181"/>
                                    </a:lnTo>
                                    <a:lnTo>
                                      <a:pt x="1350" y="190"/>
                                    </a:lnTo>
                                    <a:lnTo>
                                      <a:pt x="1359" y="198"/>
                                    </a:lnTo>
                                    <a:lnTo>
                                      <a:pt x="1368" y="203"/>
                                    </a:lnTo>
                                    <a:lnTo>
                                      <a:pt x="1376" y="207"/>
                                    </a:lnTo>
                                    <a:lnTo>
                                      <a:pt x="1385" y="211"/>
                                    </a:lnTo>
                                    <a:lnTo>
                                      <a:pt x="1385" y="233"/>
                                    </a:lnTo>
                                    <a:lnTo>
                                      <a:pt x="1385" y="258"/>
                                    </a:lnTo>
                                    <a:lnTo>
                                      <a:pt x="1385" y="284"/>
                                    </a:lnTo>
                                    <a:lnTo>
                                      <a:pt x="1385" y="306"/>
                                    </a:lnTo>
                                    <a:lnTo>
                                      <a:pt x="1385" y="332"/>
                                    </a:lnTo>
                                    <a:lnTo>
                                      <a:pt x="1385" y="357"/>
                                    </a:lnTo>
                                    <a:lnTo>
                                      <a:pt x="1385" y="379"/>
                                    </a:lnTo>
                                    <a:lnTo>
                                      <a:pt x="1385" y="405"/>
                                    </a:lnTo>
                                    <a:lnTo>
                                      <a:pt x="1363" y="422"/>
                                    </a:lnTo>
                                    <a:lnTo>
                                      <a:pt x="1333" y="439"/>
                                    </a:lnTo>
                                    <a:lnTo>
                                      <a:pt x="1299" y="456"/>
                                    </a:lnTo>
                                    <a:lnTo>
                                      <a:pt x="1264" y="469"/>
                                    </a:lnTo>
                                    <a:lnTo>
                                      <a:pt x="1221" y="478"/>
                                    </a:lnTo>
                                    <a:lnTo>
                                      <a:pt x="1178" y="486"/>
                                    </a:lnTo>
                                    <a:lnTo>
                                      <a:pt x="1135" y="491"/>
                                    </a:lnTo>
                                    <a:lnTo>
                                      <a:pt x="1087" y="495"/>
                                    </a:lnTo>
                                    <a:lnTo>
                                      <a:pt x="1040" y="495"/>
                                    </a:lnTo>
                                    <a:lnTo>
                                      <a:pt x="997" y="495"/>
                                    </a:lnTo>
                                    <a:lnTo>
                                      <a:pt x="949" y="491"/>
                                    </a:lnTo>
                                    <a:lnTo>
                                      <a:pt x="906" y="486"/>
                                    </a:lnTo>
                                    <a:lnTo>
                                      <a:pt x="863" y="478"/>
                                    </a:lnTo>
                                    <a:lnTo>
                                      <a:pt x="828" y="469"/>
                                    </a:lnTo>
                                    <a:lnTo>
                                      <a:pt x="794" y="456"/>
                                    </a:lnTo>
                                    <a:lnTo>
                                      <a:pt x="764" y="439"/>
                                    </a:lnTo>
                                    <a:lnTo>
                                      <a:pt x="764" y="439"/>
                                    </a:lnTo>
                                    <a:lnTo>
                                      <a:pt x="764" y="435"/>
                                    </a:lnTo>
                                    <a:lnTo>
                                      <a:pt x="764" y="435"/>
                                    </a:lnTo>
                                    <a:lnTo>
                                      <a:pt x="764" y="430"/>
                                    </a:lnTo>
                                    <a:lnTo>
                                      <a:pt x="764" y="430"/>
                                    </a:lnTo>
                                    <a:lnTo>
                                      <a:pt x="764" y="426"/>
                                    </a:lnTo>
                                    <a:lnTo>
                                      <a:pt x="764" y="426"/>
                                    </a:lnTo>
                                    <a:lnTo>
                                      <a:pt x="764" y="422"/>
                                    </a:lnTo>
                                    <a:lnTo>
                                      <a:pt x="755" y="422"/>
                                    </a:lnTo>
                                    <a:lnTo>
                                      <a:pt x="738" y="422"/>
                                    </a:lnTo>
                                    <a:lnTo>
                                      <a:pt x="720" y="422"/>
                                    </a:lnTo>
                                    <a:lnTo>
                                      <a:pt x="703" y="426"/>
                                    </a:lnTo>
                                    <a:lnTo>
                                      <a:pt x="686" y="426"/>
                                    </a:lnTo>
                                    <a:lnTo>
                                      <a:pt x="673" y="430"/>
                                    </a:lnTo>
                                    <a:lnTo>
                                      <a:pt x="660" y="435"/>
                                    </a:lnTo>
                                    <a:lnTo>
                                      <a:pt x="656" y="439"/>
                                    </a:lnTo>
                                    <a:lnTo>
                                      <a:pt x="587" y="439"/>
                                    </a:lnTo>
                                    <a:lnTo>
                                      <a:pt x="513" y="439"/>
                                    </a:lnTo>
                                    <a:lnTo>
                                      <a:pt x="444" y="439"/>
                                    </a:lnTo>
                                    <a:lnTo>
                                      <a:pt x="371" y="439"/>
                                    </a:lnTo>
                                    <a:lnTo>
                                      <a:pt x="302" y="439"/>
                                    </a:lnTo>
                                    <a:lnTo>
                                      <a:pt x="229" y="439"/>
                                    </a:lnTo>
                                    <a:lnTo>
                                      <a:pt x="160" y="439"/>
                                    </a:lnTo>
                                    <a:lnTo>
                                      <a:pt x="91" y="439"/>
                                    </a:lnTo>
                                    <a:lnTo>
                                      <a:pt x="82" y="439"/>
                                    </a:lnTo>
                                    <a:lnTo>
                                      <a:pt x="73" y="439"/>
                                    </a:lnTo>
                                    <a:lnTo>
                                      <a:pt x="69" y="435"/>
                                    </a:lnTo>
                                    <a:lnTo>
                                      <a:pt x="60" y="430"/>
                                    </a:lnTo>
                                    <a:lnTo>
                                      <a:pt x="56" y="426"/>
                                    </a:lnTo>
                                    <a:lnTo>
                                      <a:pt x="47" y="426"/>
                                    </a:lnTo>
                                    <a:lnTo>
                                      <a:pt x="43" y="422"/>
                                    </a:lnTo>
                                    <a:lnTo>
                                      <a:pt x="34" y="422"/>
                                    </a:lnTo>
                                    <a:lnTo>
                                      <a:pt x="30" y="418"/>
                                    </a:lnTo>
                                    <a:lnTo>
                                      <a:pt x="26" y="413"/>
                                    </a:lnTo>
                                    <a:lnTo>
                                      <a:pt x="22" y="409"/>
                                    </a:lnTo>
                                    <a:lnTo>
                                      <a:pt x="17" y="405"/>
                                    </a:lnTo>
                                    <a:lnTo>
                                      <a:pt x="13" y="400"/>
                                    </a:lnTo>
                                    <a:lnTo>
                                      <a:pt x="9" y="396"/>
                                    </a:lnTo>
                                    <a:lnTo>
                                      <a:pt x="4" y="392"/>
                                    </a:lnTo>
                                    <a:lnTo>
                                      <a:pt x="0" y="387"/>
                                    </a:lnTo>
                                    <a:lnTo>
                                      <a:pt x="0" y="379"/>
                                    </a:lnTo>
                                    <a:lnTo>
                                      <a:pt x="0" y="370"/>
                                    </a:lnTo>
                                    <a:lnTo>
                                      <a:pt x="0" y="362"/>
                                    </a:lnTo>
                                    <a:lnTo>
                                      <a:pt x="0" y="353"/>
                                    </a:lnTo>
                                    <a:lnTo>
                                      <a:pt x="0" y="344"/>
                                    </a:lnTo>
                                    <a:lnTo>
                                      <a:pt x="0" y="336"/>
                                    </a:lnTo>
                                    <a:lnTo>
                                      <a:pt x="0" y="327"/>
                                    </a:lnTo>
                                    <a:lnTo>
                                      <a:pt x="0" y="314"/>
                                    </a:lnTo>
                                    <a:lnTo>
                                      <a:pt x="9" y="310"/>
                                    </a:lnTo>
                                    <a:lnTo>
                                      <a:pt x="17" y="301"/>
                                    </a:lnTo>
                                    <a:lnTo>
                                      <a:pt x="26" y="289"/>
                                    </a:lnTo>
                                    <a:lnTo>
                                      <a:pt x="34" y="280"/>
                                    </a:lnTo>
                                    <a:lnTo>
                                      <a:pt x="39" y="267"/>
                                    </a:lnTo>
                                    <a:lnTo>
                                      <a:pt x="47" y="254"/>
                                    </a:lnTo>
                                    <a:lnTo>
                                      <a:pt x="52" y="241"/>
                                    </a:lnTo>
                                    <a:lnTo>
                                      <a:pt x="52" y="228"/>
                                    </a:lnTo>
                                    <a:lnTo>
                                      <a:pt x="60" y="224"/>
                                    </a:lnTo>
                                    <a:lnTo>
                                      <a:pt x="73" y="215"/>
                                    </a:lnTo>
                                    <a:lnTo>
                                      <a:pt x="86" y="203"/>
                                    </a:lnTo>
                                    <a:lnTo>
                                      <a:pt x="99" y="194"/>
                                    </a:lnTo>
                                    <a:lnTo>
                                      <a:pt x="112" y="190"/>
                                    </a:lnTo>
                                    <a:lnTo>
                                      <a:pt x="125" y="190"/>
                                    </a:lnTo>
                                    <a:lnTo>
                                      <a:pt x="134" y="203"/>
                                    </a:lnTo>
                                    <a:lnTo>
                                      <a:pt x="142" y="228"/>
                                    </a:lnTo>
                                    <a:close/>
                                  </a:path>
                                </a:pathLst>
                              </a:custGeom>
                              <a:blipFill rotWithShape="0">
                                <a:blip r:embed="rId100"/>
                                <a:srcRect/>
                                <a:tile tx="0" ty="0" sx="100000" sy="100000" algn="ctr"/>
                              </a:blip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080" bIns="108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27" name=""/>
                              <p:cNvSpPr/>
                              <p:nvPr/>
                            </p:nvSpPr>
                            <p:spPr>
                              <a:xfrm rot="21030000">
                                <a:off x="2449080" y="2093760"/>
                                <a:ext cx="48240" cy="108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474" h="112">
                                    <a:moveTo>
                                      <a:pt x="30" y="0"/>
                                    </a:moveTo>
                                    <a:lnTo>
                                      <a:pt x="90" y="8"/>
                                    </a:lnTo>
                                    <a:lnTo>
                                      <a:pt x="147" y="17"/>
                                    </a:lnTo>
                                    <a:lnTo>
                                      <a:pt x="203" y="30"/>
                                    </a:lnTo>
                                    <a:lnTo>
                                      <a:pt x="254" y="43"/>
                                    </a:lnTo>
                                    <a:lnTo>
                                      <a:pt x="306" y="60"/>
                                    </a:lnTo>
                                    <a:lnTo>
                                      <a:pt x="362" y="69"/>
                                    </a:lnTo>
                                    <a:lnTo>
                                      <a:pt x="418" y="77"/>
                                    </a:lnTo>
                                    <a:lnTo>
                                      <a:pt x="474" y="81"/>
                                    </a:lnTo>
                                    <a:lnTo>
                                      <a:pt x="474" y="112"/>
                                    </a:lnTo>
                                    <a:lnTo>
                                      <a:pt x="0" y="112"/>
                                    </a:lnTo>
                                    <a:lnTo>
                                      <a:pt x="0" y="38"/>
                                    </a:lnTo>
                                    <a:lnTo>
                                      <a:pt x="30" y="0"/>
                                    </a:lnTo>
                                    <a:close/>
                                  </a:path>
                                </a:pathLst>
                              </a:custGeom>
                              <a:blipFill rotWithShape="0">
                                <a:blip r:embed="rId101"/>
                                <a:srcRect/>
                                <a:tile tx="0" ty="0" sx="100000" sy="100000" algn="ctr"/>
                              </a:blip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6000" bIns="-360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28" name=""/>
                              <p:cNvSpPr/>
                              <p:nvPr/>
                            </p:nvSpPr>
                            <p:spPr>
                              <a:xfrm rot="21030000">
                                <a:off x="2397240" y="1421640"/>
                                <a:ext cx="84960" cy="388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832" h="404">
                                    <a:moveTo>
                                      <a:pt x="13" y="163"/>
                                    </a:moveTo>
                                    <a:lnTo>
                                      <a:pt x="17" y="159"/>
                                    </a:lnTo>
                                    <a:lnTo>
                                      <a:pt x="21" y="155"/>
                                    </a:lnTo>
                                    <a:lnTo>
                                      <a:pt x="34" y="150"/>
                                    </a:lnTo>
                                    <a:lnTo>
                                      <a:pt x="43" y="142"/>
                                    </a:lnTo>
                                    <a:lnTo>
                                      <a:pt x="56" y="138"/>
                                    </a:lnTo>
                                    <a:lnTo>
                                      <a:pt x="64" y="129"/>
                                    </a:lnTo>
                                    <a:lnTo>
                                      <a:pt x="73" y="125"/>
                                    </a:lnTo>
                                    <a:lnTo>
                                      <a:pt x="77" y="120"/>
                                    </a:lnTo>
                                    <a:lnTo>
                                      <a:pt x="125" y="120"/>
                                    </a:lnTo>
                                    <a:lnTo>
                                      <a:pt x="177" y="125"/>
                                    </a:lnTo>
                                    <a:lnTo>
                                      <a:pt x="228" y="125"/>
                                    </a:lnTo>
                                    <a:lnTo>
                                      <a:pt x="276" y="129"/>
                                    </a:lnTo>
                                    <a:lnTo>
                                      <a:pt x="328" y="129"/>
                                    </a:lnTo>
                                    <a:lnTo>
                                      <a:pt x="379" y="133"/>
                                    </a:lnTo>
                                    <a:lnTo>
                                      <a:pt x="427" y="133"/>
                                    </a:lnTo>
                                    <a:lnTo>
                                      <a:pt x="479" y="138"/>
                                    </a:lnTo>
                                    <a:lnTo>
                                      <a:pt x="479" y="133"/>
                                    </a:lnTo>
                                    <a:lnTo>
                                      <a:pt x="483" y="133"/>
                                    </a:lnTo>
                                    <a:lnTo>
                                      <a:pt x="487" y="129"/>
                                    </a:lnTo>
                                    <a:lnTo>
                                      <a:pt x="492" y="125"/>
                                    </a:lnTo>
                                    <a:lnTo>
                                      <a:pt x="500" y="120"/>
                                    </a:lnTo>
                                    <a:lnTo>
                                      <a:pt x="504" y="116"/>
                                    </a:lnTo>
                                    <a:lnTo>
                                      <a:pt x="509" y="112"/>
                                    </a:lnTo>
                                    <a:lnTo>
                                      <a:pt x="513" y="112"/>
                                    </a:lnTo>
                                    <a:lnTo>
                                      <a:pt x="517" y="107"/>
                                    </a:lnTo>
                                    <a:lnTo>
                                      <a:pt x="517" y="103"/>
                                    </a:lnTo>
                                    <a:lnTo>
                                      <a:pt x="522" y="103"/>
                                    </a:lnTo>
                                    <a:lnTo>
                                      <a:pt x="526" y="99"/>
                                    </a:lnTo>
                                    <a:lnTo>
                                      <a:pt x="530" y="95"/>
                                    </a:lnTo>
                                    <a:lnTo>
                                      <a:pt x="539" y="95"/>
                                    </a:lnTo>
                                    <a:lnTo>
                                      <a:pt x="543" y="95"/>
                                    </a:lnTo>
                                    <a:lnTo>
                                      <a:pt x="552" y="95"/>
                                    </a:lnTo>
                                    <a:lnTo>
                                      <a:pt x="556" y="86"/>
                                    </a:lnTo>
                                    <a:lnTo>
                                      <a:pt x="569" y="73"/>
                                    </a:lnTo>
                                    <a:lnTo>
                                      <a:pt x="591" y="60"/>
                                    </a:lnTo>
                                    <a:lnTo>
                                      <a:pt x="617" y="47"/>
                                    </a:lnTo>
                                    <a:lnTo>
                                      <a:pt x="643" y="30"/>
                                    </a:lnTo>
                                    <a:lnTo>
                                      <a:pt x="664" y="17"/>
                                    </a:lnTo>
                                    <a:lnTo>
                                      <a:pt x="681" y="9"/>
                                    </a:lnTo>
                                    <a:lnTo>
                                      <a:pt x="694" y="0"/>
                                    </a:lnTo>
                                    <a:lnTo>
                                      <a:pt x="707" y="0"/>
                                    </a:lnTo>
                                    <a:lnTo>
                                      <a:pt x="720" y="0"/>
                                    </a:lnTo>
                                    <a:lnTo>
                                      <a:pt x="733" y="0"/>
                                    </a:lnTo>
                                    <a:lnTo>
                                      <a:pt x="746" y="0"/>
                                    </a:lnTo>
                                    <a:lnTo>
                                      <a:pt x="759" y="4"/>
                                    </a:lnTo>
                                    <a:lnTo>
                                      <a:pt x="772" y="9"/>
                                    </a:lnTo>
                                    <a:lnTo>
                                      <a:pt x="781" y="17"/>
                                    </a:lnTo>
                                    <a:lnTo>
                                      <a:pt x="785" y="26"/>
                                    </a:lnTo>
                                    <a:lnTo>
                                      <a:pt x="794" y="26"/>
                                    </a:lnTo>
                                    <a:lnTo>
                                      <a:pt x="798" y="30"/>
                                    </a:lnTo>
                                    <a:lnTo>
                                      <a:pt x="802" y="39"/>
                                    </a:lnTo>
                                    <a:lnTo>
                                      <a:pt x="802" y="47"/>
                                    </a:lnTo>
                                    <a:lnTo>
                                      <a:pt x="806" y="56"/>
                                    </a:lnTo>
                                    <a:lnTo>
                                      <a:pt x="806" y="64"/>
                                    </a:lnTo>
                                    <a:lnTo>
                                      <a:pt x="806" y="73"/>
                                    </a:lnTo>
                                    <a:lnTo>
                                      <a:pt x="811" y="77"/>
                                    </a:lnTo>
                                    <a:lnTo>
                                      <a:pt x="811" y="77"/>
                                    </a:lnTo>
                                    <a:lnTo>
                                      <a:pt x="815" y="77"/>
                                    </a:lnTo>
                                    <a:lnTo>
                                      <a:pt x="815" y="77"/>
                                    </a:lnTo>
                                    <a:lnTo>
                                      <a:pt x="815" y="77"/>
                                    </a:lnTo>
                                    <a:lnTo>
                                      <a:pt x="815" y="77"/>
                                    </a:lnTo>
                                    <a:lnTo>
                                      <a:pt x="819" y="77"/>
                                    </a:lnTo>
                                    <a:lnTo>
                                      <a:pt x="819" y="77"/>
                                    </a:lnTo>
                                    <a:lnTo>
                                      <a:pt x="819" y="77"/>
                                    </a:lnTo>
                                    <a:lnTo>
                                      <a:pt x="828" y="99"/>
                                    </a:lnTo>
                                    <a:lnTo>
                                      <a:pt x="832" y="120"/>
                                    </a:lnTo>
                                    <a:lnTo>
                                      <a:pt x="832" y="142"/>
                                    </a:lnTo>
                                    <a:lnTo>
                                      <a:pt x="828" y="159"/>
                                    </a:lnTo>
                                    <a:lnTo>
                                      <a:pt x="806" y="198"/>
                                    </a:lnTo>
                                    <a:lnTo>
                                      <a:pt x="776" y="232"/>
                                    </a:lnTo>
                                    <a:lnTo>
                                      <a:pt x="742" y="262"/>
                                    </a:lnTo>
                                    <a:lnTo>
                                      <a:pt x="707" y="288"/>
                                    </a:lnTo>
                                    <a:lnTo>
                                      <a:pt x="694" y="301"/>
                                    </a:lnTo>
                                    <a:lnTo>
                                      <a:pt x="686" y="314"/>
                                    </a:lnTo>
                                    <a:lnTo>
                                      <a:pt x="677" y="327"/>
                                    </a:lnTo>
                                    <a:lnTo>
                                      <a:pt x="677" y="335"/>
                                    </a:lnTo>
                                    <a:lnTo>
                                      <a:pt x="630" y="340"/>
                                    </a:lnTo>
                                    <a:lnTo>
                                      <a:pt x="582" y="348"/>
                                    </a:lnTo>
                                    <a:lnTo>
                                      <a:pt x="535" y="361"/>
                                    </a:lnTo>
                                    <a:lnTo>
                                      <a:pt x="487" y="378"/>
                                    </a:lnTo>
                                    <a:lnTo>
                                      <a:pt x="440" y="391"/>
                                    </a:lnTo>
                                    <a:lnTo>
                                      <a:pt x="388" y="400"/>
                                    </a:lnTo>
                                    <a:lnTo>
                                      <a:pt x="362" y="404"/>
                                    </a:lnTo>
                                    <a:lnTo>
                                      <a:pt x="336" y="404"/>
                                    </a:lnTo>
                                    <a:lnTo>
                                      <a:pt x="310" y="400"/>
                                    </a:lnTo>
                                    <a:lnTo>
                                      <a:pt x="280" y="396"/>
                                    </a:lnTo>
                                    <a:lnTo>
                                      <a:pt x="259" y="391"/>
                                    </a:lnTo>
                                    <a:lnTo>
                                      <a:pt x="237" y="387"/>
                                    </a:lnTo>
                                    <a:lnTo>
                                      <a:pt x="211" y="378"/>
                                    </a:lnTo>
                                    <a:lnTo>
                                      <a:pt x="190" y="370"/>
                                    </a:lnTo>
                                    <a:lnTo>
                                      <a:pt x="164" y="365"/>
                                    </a:lnTo>
                                    <a:lnTo>
                                      <a:pt x="138" y="357"/>
                                    </a:lnTo>
                                    <a:lnTo>
                                      <a:pt x="116" y="353"/>
                                    </a:lnTo>
                                    <a:lnTo>
                                      <a:pt x="95" y="353"/>
                                    </a:lnTo>
                                    <a:lnTo>
                                      <a:pt x="90" y="348"/>
                                    </a:lnTo>
                                    <a:lnTo>
                                      <a:pt x="86" y="344"/>
                                    </a:lnTo>
                                    <a:lnTo>
                                      <a:pt x="82" y="340"/>
                                    </a:lnTo>
                                    <a:lnTo>
                                      <a:pt x="77" y="335"/>
                                    </a:lnTo>
                                    <a:lnTo>
                                      <a:pt x="69" y="327"/>
                                    </a:lnTo>
                                    <a:lnTo>
                                      <a:pt x="64" y="322"/>
                                    </a:lnTo>
                                    <a:lnTo>
                                      <a:pt x="60" y="314"/>
                                    </a:lnTo>
                                    <a:lnTo>
                                      <a:pt x="56" y="310"/>
                                    </a:lnTo>
                                    <a:lnTo>
                                      <a:pt x="51" y="305"/>
                                    </a:lnTo>
                                    <a:lnTo>
                                      <a:pt x="47" y="301"/>
                                    </a:lnTo>
                                    <a:lnTo>
                                      <a:pt x="39" y="297"/>
                                    </a:lnTo>
                                    <a:lnTo>
                                      <a:pt x="34" y="292"/>
                                    </a:lnTo>
                                    <a:lnTo>
                                      <a:pt x="34" y="288"/>
                                    </a:lnTo>
                                    <a:lnTo>
                                      <a:pt x="30" y="284"/>
                                    </a:lnTo>
                                    <a:lnTo>
                                      <a:pt x="26" y="279"/>
                                    </a:lnTo>
                                    <a:lnTo>
                                      <a:pt x="21" y="275"/>
                                    </a:lnTo>
                                    <a:lnTo>
                                      <a:pt x="21" y="254"/>
                                    </a:lnTo>
                                    <a:lnTo>
                                      <a:pt x="17" y="236"/>
                                    </a:lnTo>
                                    <a:lnTo>
                                      <a:pt x="8" y="219"/>
                                    </a:lnTo>
                                    <a:lnTo>
                                      <a:pt x="4" y="206"/>
                                    </a:lnTo>
                                    <a:lnTo>
                                      <a:pt x="0" y="193"/>
                                    </a:lnTo>
                                    <a:lnTo>
                                      <a:pt x="0" y="181"/>
                                    </a:lnTo>
                                    <a:lnTo>
                                      <a:pt x="4" y="172"/>
                                    </a:lnTo>
                                    <a:lnTo>
                                      <a:pt x="13" y="163"/>
                                    </a:lnTo>
                                    <a:close/>
                                  </a:path>
                                </a:pathLst>
                              </a:custGeom>
                              <a:blipFill rotWithShape="0">
                                <a:blip r:embed="rId102"/>
                                <a:srcRect/>
                                <a:tile tx="0" ty="0" sx="100000" sy="100000" algn="ctr"/>
                              </a:blip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7920" bIns="-79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rot="21030000">
                          <a:off x="2398320" y="1378440"/>
                          <a:ext cx="43560" cy="19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31" h="176">
                              <a:moveTo>
                                <a:pt x="475" y="82"/>
                              </a:moveTo>
                              <a:lnTo>
                                <a:pt x="510" y="73"/>
                              </a:lnTo>
                              <a:lnTo>
                                <a:pt x="518" y="73"/>
                              </a:lnTo>
                              <a:lnTo>
                                <a:pt x="531" y="82"/>
                              </a:lnTo>
                              <a:lnTo>
                                <a:pt x="531" y="103"/>
                              </a:lnTo>
                              <a:lnTo>
                                <a:pt x="410" y="95"/>
                              </a:lnTo>
                              <a:lnTo>
                                <a:pt x="294" y="176"/>
                              </a:lnTo>
                              <a:lnTo>
                                <a:pt x="160" y="155"/>
                              </a:lnTo>
                              <a:lnTo>
                                <a:pt x="87" y="95"/>
                              </a:lnTo>
                              <a:lnTo>
                                <a:pt x="9" y="103"/>
                              </a:lnTo>
                              <a:lnTo>
                                <a:pt x="0" y="103"/>
                              </a:lnTo>
                              <a:lnTo>
                                <a:pt x="0" y="82"/>
                              </a:lnTo>
                              <a:lnTo>
                                <a:pt x="182" y="0"/>
                              </a:lnTo>
                              <a:lnTo>
                                <a:pt x="371" y="30"/>
                              </a:lnTo>
                              <a:lnTo>
                                <a:pt x="475" y="8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ae7e06"/>
                        </a:solidFill>
                        <a:ln w="255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7000" bIns="-27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30" name=""/>
                      <p:cNvSpPr/>
                      <p:nvPr/>
                    </p:nvSpPr>
                    <p:spPr>
                      <a:xfrm rot="21030000">
                        <a:off x="2414880" y="1394640"/>
                        <a:ext cx="102600" cy="55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05" h="572">
                            <a:moveTo>
                              <a:pt x="30" y="69"/>
                            </a:moveTo>
                            <a:lnTo>
                              <a:pt x="60" y="47"/>
                            </a:lnTo>
                            <a:lnTo>
                              <a:pt x="99" y="30"/>
                            </a:lnTo>
                            <a:lnTo>
                              <a:pt x="138" y="13"/>
                            </a:lnTo>
                            <a:lnTo>
                              <a:pt x="181" y="4"/>
                            </a:lnTo>
                            <a:lnTo>
                              <a:pt x="224" y="0"/>
                            </a:lnTo>
                            <a:lnTo>
                              <a:pt x="267" y="0"/>
                            </a:lnTo>
                            <a:lnTo>
                              <a:pt x="315" y="0"/>
                            </a:lnTo>
                            <a:lnTo>
                              <a:pt x="362" y="4"/>
                            </a:lnTo>
                            <a:lnTo>
                              <a:pt x="410" y="13"/>
                            </a:lnTo>
                            <a:lnTo>
                              <a:pt x="457" y="21"/>
                            </a:lnTo>
                            <a:lnTo>
                              <a:pt x="500" y="34"/>
                            </a:lnTo>
                            <a:lnTo>
                              <a:pt x="544" y="52"/>
                            </a:lnTo>
                            <a:lnTo>
                              <a:pt x="582" y="69"/>
                            </a:lnTo>
                            <a:lnTo>
                              <a:pt x="621" y="86"/>
                            </a:lnTo>
                            <a:lnTo>
                              <a:pt x="656" y="107"/>
                            </a:lnTo>
                            <a:lnTo>
                              <a:pt x="686" y="129"/>
                            </a:lnTo>
                            <a:lnTo>
                              <a:pt x="686" y="129"/>
                            </a:lnTo>
                            <a:lnTo>
                              <a:pt x="686" y="133"/>
                            </a:lnTo>
                            <a:lnTo>
                              <a:pt x="686" y="133"/>
                            </a:lnTo>
                            <a:lnTo>
                              <a:pt x="686" y="138"/>
                            </a:lnTo>
                            <a:lnTo>
                              <a:pt x="686" y="138"/>
                            </a:lnTo>
                            <a:lnTo>
                              <a:pt x="686" y="142"/>
                            </a:lnTo>
                            <a:lnTo>
                              <a:pt x="686" y="142"/>
                            </a:lnTo>
                            <a:lnTo>
                              <a:pt x="686" y="142"/>
                            </a:lnTo>
                            <a:lnTo>
                              <a:pt x="725" y="163"/>
                            </a:lnTo>
                            <a:lnTo>
                              <a:pt x="781" y="185"/>
                            </a:lnTo>
                            <a:lnTo>
                              <a:pt x="841" y="206"/>
                            </a:lnTo>
                            <a:lnTo>
                              <a:pt x="902" y="232"/>
                            </a:lnTo>
                            <a:lnTo>
                              <a:pt x="932" y="245"/>
                            </a:lnTo>
                            <a:lnTo>
                              <a:pt x="958" y="262"/>
                            </a:lnTo>
                            <a:lnTo>
                              <a:pt x="979" y="279"/>
                            </a:lnTo>
                            <a:lnTo>
                              <a:pt x="992" y="297"/>
                            </a:lnTo>
                            <a:lnTo>
                              <a:pt x="1001" y="318"/>
                            </a:lnTo>
                            <a:lnTo>
                              <a:pt x="1005" y="344"/>
                            </a:lnTo>
                            <a:lnTo>
                              <a:pt x="1001" y="370"/>
                            </a:lnTo>
                            <a:lnTo>
                              <a:pt x="984" y="396"/>
                            </a:lnTo>
                            <a:lnTo>
                              <a:pt x="962" y="400"/>
                            </a:lnTo>
                            <a:lnTo>
                              <a:pt x="940" y="404"/>
                            </a:lnTo>
                            <a:lnTo>
                              <a:pt x="919" y="413"/>
                            </a:lnTo>
                            <a:lnTo>
                              <a:pt x="897" y="421"/>
                            </a:lnTo>
                            <a:lnTo>
                              <a:pt x="871" y="430"/>
                            </a:lnTo>
                            <a:lnTo>
                              <a:pt x="850" y="434"/>
                            </a:lnTo>
                            <a:lnTo>
                              <a:pt x="828" y="439"/>
                            </a:lnTo>
                            <a:lnTo>
                              <a:pt x="807" y="443"/>
                            </a:lnTo>
                            <a:lnTo>
                              <a:pt x="785" y="460"/>
                            </a:lnTo>
                            <a:lnTo>
                              <a:pt x="751" y="486"/>
                            </a:lnTo>
                            <a:lnTo>
                              <a:pt x="712" y="512"/>
                            </a:lnTo>
                            <a:lnTo>
                              <a:pt x="669" y="533"/>
                            </a:lnTo>
                            <a:lnTo>
                              <a:pt x="621" y="555"/>
                            </a:lnTo>
                            <a:lnTo>
                              <a:pt x="578" y="568"/>
                            </a:lnTo>
                            <a:lnTo>
                              <a:pt x="557" y="572"/>
                            </a:lnTo>
                            <a:lnTo>
                              <a:pt x="539" y="572"/>
                            </a:lnTo>
                            <a:lnTo>
                              <a:pt x="522" y="568"/>
                            </a:lnTo>
                            <a:lnTo>
                              <a:pt x="505" y="563"/>
                            </a:lnTo>
                            <a:lnTo>
                              <a:pt x="505" y="559"/>
                            </a:lnTo>
                            <a:lnTo>
                              <a:pt x="505" y="559"/>
                            </a:lnTo>
                            <a:lnTo>
                              <a:pt x="505" y="555"/>
                            </a:lnTo>
                            <a:lnTo>
                              <a:pt x="505" y="555"/>
                            </a:lnTo>
                            <a:lnTo>
                              <a:pt x="505" y="550"/>
                            </a:lnTo>
                            <a:lnTo>
                              <a:pt x="505" y="550"/>
                            </a:lnTo>
                            <a:lnTo>
                              <a:pt x="505" y="550"/>
                            </a:lnTo>
                            <a:lnTo>
                              <a:pt x="505" y="546"/>
                            </a:lnTo>
                            <a:lnTo>
                              <a:pt x="487" y="537"/>
                            </a:lnTo>
                            <a:lnTo>
                              <a:pt x="457" y="525"/>
                            </a:lnTo>
                            <a:lnTo>
                              <a:pt x="427" y="516"/>
                            </a:lnTo>
                            <a:lnTo>
                              <a:pt x="393" y="507"/>
                            </a:lnTo>
                            <a:lnTo>
                              <a:pt x="358" y="499"/>
                            </a:lnTo>
                            <a:lnTo>
                              <a:pt x="324" y="490"/>
                            </a:lnTo>
                            <a:lnTo>
                              <a:pt x="293" y="490"/>
                            </a:lnTo>
                            <a:lnTo>
                              <a:pt x="267" y="486"/>
                            </a:lnTo>
                            <a:lnTo>
                              <a:pt x="250" y="473"/>
                            </a:lnTo>
                            <a:lnTo>
                              <a:pt x="229" y="460"/>
                            </a:lnTo>
                            <a:lnTo>
                              <a:pt x="203" y="439"/>
                            </a:lnTo>
                            <a:lnTo>
                              <a:pt x="177" y="421"/>
                            </a:lnTo>
                            <a:lnTo>
                              <a:pt x="147" y="408"/>
                            </a:lnTo>
                            <a:lnTo>
                              <a:pt x="116" y="396"/>
                            </a:lnTo>
                            <a:lnTo>
                              <a:pt x="95" y="387"/>
                            </a:lnTo>
                            <a:lnTo>
                              <a:pt x="73" y="383"/>
                            </a:lnTo>
                            <a:lnTo>
                              <a:pt x="69" y="365"/>
                            </a:lnTo>
                            <a:lnTo>
                              <a:pt x="65" y="353"/>
                            </a:lnTo>
                            <a:lnTo>
                              <a:pt x="60" y="335"/>
                            </a:lnTo>
                            <a:lnTo>
                              <a:pt x="52" y="322"/>
                            </a:lnTo>
                            <a:lnTo>
                              <a:pt x="43" y="310"/>
                            </a:lnTo>
                            <a:lnTo>
                              <a:pt x="34" y="292"/>
                            </a:lnTo>
                            <a:lnTo>
                              <a:pt x="30" y="279"/>
                            </a:lnTo>
                            <a:lnTo>
                              <a:pt x="30" y="262"/>
                            </a:lnTo>
                            <a:lnTo>
                              <a:pt x="17" y="258"/>
                            </a:lnTo>
                            <a:lnTo>
                              <a:pt x="13" y="245"/>
                            </a:lnTo>
                            <a:lnTo>
                              <a:pt x="4" y="224"/>
                            </a:lnTo>
                            <a:lnTo>
                              <a:pt x="0" y="198"/>
                            </a:lnTo>
                            <a:lnTo>
                              <a:pt x="0" y="176"/>
                            </a:lnTo>
                            <a:lnTo>
                              <a:pt x="0" y="150"/>
                            </a:lnTo>
                            <a:lnTo>
                              <a:pt x="0" y="129"/>
                            </a:lnTo>
                            <a:lnTo>
                              <a:pt x="0" y="116"/>
                            </a:lnTo>
                            <a:lnTo>
                              <a:pt x="4" y="112"/>
                            </a:lnTo>
                            <a:lnTo>
                              <a:pt x="9" y="103"/>
                            </a:lnTo>
                            <a:lnTo>
                              <a:pt x="13" y="95"/>
                            </a:lnTo>
                            <a:lnTo>
                              <a:pt x="17" y="82"/>
                            </a:lnTo>
                            <a:lnTo>
                              <a:pt x="22" y="69"/>
                            </a:lnTo>
                            <a:lnTo>
                              <a:pt x="26" y="56"/>
                            </a:lnTo>
                            <a:lnTo>
                              <a:pt x="26" y="47"/>
                            </a:lnTo>
                            <a:lnTo>
                              <a:pt x="30" y="39"/>
                            </a:lnTo>
                            <a:lnTo>
                              <a:pt x="30" y="43"/>
                            </a:lnTo>
                            <a:lnTo>
                              <a:pt x="30" y="47"/>
                            </a:lnTo>
                            <a:lnTo>
                              <a:pt x="30" y="52"/>
                            </a:lnTo>
                            <a:lnTo>
                              <a:pt x="30" y="56"/>
                            </a:lnTo>
                            <a:lnTo>
                              <a:pt x="30" y="60"/>
                            </a:lnTo>
                            <a:lnTo>
                              <a:pt x="30" y="60"/>
                            </a:lnTo>
                            <a:lnTo>
                              <a:pt x="30" y="64"/>
                            </a:lnTo>
                            <a:lnTo>
                              <a:pt x="30" y="69"/>
                            </a:lnTo>
                            <a:close/>
                          </a:path>
                        </a:pathLst>
                      </a:custGeom>
                      <a:blipFill rotWithShape="0">
                        <a:blip r:embed="rId103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280" bIns="8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31" name=""/>
                    <p:cNvSpPr/>
                    <p:nvPr/>
                  </p:nvSpPr>
                  <p:spPr>
                    <a:xfrm rot="21030000">
                      <a:off x="2349720" y="1399320"/>
                      <a:ext cx="121680" cy="6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91" h="675">
                          <a:moveTo>
                            <a:pt x="35" y="81"/>
                          </a:moveTo>
                          <a:lnTo>
                            <a:pt x="73" y="55"/>
                          </a:lnTo>
                          <a:lnTo>
                            <a:pt x="116" y="34"/>
                          </a:lnTo>
                          <a:lnTo>
                            <a:pt x="164" y="17"/>
                          </a:lnTo>
                          <a:lnTo>
                            <a:pt x="211" y="8"/>
                          </a:lnTo>
                          <a:lnTo>
                            <a:pt x="263" y="0"/>
                          </a:lnTo>
                          <a:lnTo>
                            <a:pt x="319" y="0"/>
                          </a:lnTo>
                          <a:lnTo>
                            <a:pt x="375" y="0"/>
                          </a:lnTo>
                          <a:lnTo>
                            <a:pt x="431" y="4"/>
                          </a:lnTo>
                          <a:lnTo>
                            <a:pt x="483" y="12"/>
                          </a:lnTo>
                          <a:lnTo>
                            <a:pt x="539" y="25"/>
                          </a:lnTo>
                          <a:lnTo>
                            <a:pt x="591" y="43"/>
                          </a:lnTo>
                          <a:lnTo>
                            <a:pt x="643" y="60"/>
                          </a:lnTo>
                          <a:lnTo>
                            <a:pt x="690" y="81"/>
                          </a:lnTo>
                          <a:lnTo>
                            <a:pt x="738" y="103"/>
                          </a:lnTo>
                          <a:lnTo>
                            <a:pt x="777" y="129"/>
                          </a:lnTo>
                          <a:lnTo>
                            <a:pt x="811" y="154"/>
                          </a:lnTo>
                          <a:lnTo>
                            <a:pt x="811" y="154"/>
                          </a:lnTo>
                          <a:lnTo>
                            <a:pt x="811" y="159"/>
                          </a:lnTo>
                          <a:lnTo>
                            <a:pt x="811" y="159"/>
                          </a:lnTo>
                          <a:lnTo>
                            <a:pt x="811" y="163"/>
                          </a:lnTo>
                          <a:lnTo>
                            <a:pt x="811" y="163"/>
                          </a:lnTo>
                          <a:lnTo>
                            <a:pt x="811" y="167"/>
                          </a:lnTo>
                          <a:lnTo>
                            <a:pt x="811" y="167"/>
                          </a:lnTo>
                          <a:lnTo>
                            <a:pt x="811" y="172"/>
                          </a:lnTo>
                          <a:lnTo>
                            <a:pt x="859" y="197"/>
                          </a:lnTo>
                          <a:lnTo>
                            <a:pt x="923" y="219"/>
                          </a:lnTo>
                          <a:lnTo>
                            <a:pt x="997" y="245"/>
                          </a:lnTo>
                          <a:lnTo>
                            <a:pt x="1070" y="275"/>
                          </a:lnTo>
                          <a:lnTo>
                            <a:pt x="1100" y="292"/>
                          </a:lnTo>
                          <a:lnTo>
                            <a:pt x="1130" y="309"/>
                          </a:lnTo>
                          <a:lnTo>
                            <a:pt x="1156" y="326"/>
                          </a:lnTo>
                          <a:lnTo>
                            <a:pt x="1173" y="352"/>
                          </a:lnTo>
                          <a:lnTo>
                            <a:pt x="1186" y="378"/>
                          </a:lnTo>
                          <a:lnTo>
                            <a:pt x="1191" y="404"/>
                          </a:lnTo>
                          <a:lnTo>
                            <a:pt x="1182" y="434"/>
                          </a:lnTo>
                          <a:lnTo>
                            <a:pt x="1165" y="468"/>
                          </a:lnTo>
                          <a:lnTo>
                            <a:pt x="1139" y="473"/>
                          </a:lnTo>
                          <a:lnTo>
                            <a:pt x="1113" y="477"/>
                          </a:lnTo>
                          <a:lnTo>
                            <a:pt x="1087" y="485"/>
                          </a:lnTo>
                          <a:lnTo>
                            <a:pt x="1061" y="494"/>
                          </a:lnTo>
                          <a:lnTo>
                            <a:pt x="1031" y="507"/>
                          </a:lnTo>
                          <a:lnTo>
                            <a:pt x="1005" y="516"/>
                          </a:lnTo>
                          <a:lnTo>
                            <a:pt x="979" y="520"/>
                          </a:lnTo>
                          <a:lnTo>
                            <a:pt x="953" y="524"/>
                          </a:lnTo>
                          <a:lnTo>
                            <a:pt x="928" y="546"/>
                          </a:lnTo>
                          <a:lnTo>
                            <a:pt x="889" y="576"/>
                          </a:lnTo>
                          <a:lnTo>
                            <a:pt x="841" y="606"/>
                          </a:lnTo>
                          <a:lnTo>
                            <a:pt x="790" y="632"/>
                          </a:lnTo>
                          <a:lnTo>
                            <a:pt x="738" y="657"/>
                          </a:lnTo>
                          <a:lnTo>
                            <a:pt x="686" y="670"/>
                          </a:lnTo>
                          <a:lnTo>
                            <a:pt x="660" y="675"/>
                          </a:lnTo>
                          <a:lnTo>
                            <a:pt x="639" y="675"/>
                          </a:lnTo>
                          <a:lnTo>
                            <a:pt x="617" y="670"/>
                          </a:lnTo>
                          <a:lnTo>
                            <a:pt x="600" y="662"/>
                          </a:lnTo>
                          <a:lnTo>
                            <a:pt x="600" y="662"/>
                          </a:lnTo>
                          <a:lnTo>
                            <a:pt x="600" y="657"/>
                          </a:lnTo>
                          <a:lnTo>
                            <a:pt x="600" y="657"/>
                          </a:lnTo>
                          <a:lnTo>
                            <a:pt x="600" y="653"/>
                          </a:lnTo>
                          <a:lnTo>
                            <a:pt x="600" y="653"/>
                          </a:lnTo>
                          <a:lnTo>
                            <a:pt x="600" y="649"/>
                          </a:lnTo>
                          <a:lnTo>
                            <a:pt x="600" y="649"/>
                          </a:lnTo>
                          <a:lnTo>
                            <a:pt x="600" y="645"/>
                          </a:lnTo>
                          <a:lnTo>
                            <a:pt x="574" y="632"/>
                          </a:lnTo>
                          <a:lnTo>
                            <a:pt x="544" y="619"/>
                          </a:lnTo>
                          <a:lnTo>
                            <a:pt x="505" y="610"/>
                          </a:lnTo>
                          <a:lnTo>
                            <a:pt x="466" y="597"/>
                          </a:lnTo>
                          <a:lnTo>
                            <a:pt x="423" y="589"/>
                          </a:lnTo>
                          <a:lnTo>
                            <a:pt x="384" y="580"/>
                          </a:lnTo>
                          <a:lnTo>
                            <a:pt x="349" y="576"/>
                          </a:lnTo>
                          <a:lnTo>
                            <a:pt x="319" y="576"/>
                          </a:lnTo>
                          <a:lnTo>
                            <a:pt x="298" y="559"/>
                          </a:lnTo>
                          <a:lnTo>
                            <a:pt x="272" y="541"/>
                          </a:lnTo>
                          <a:lnTo>
                            <a:pt x="242" y="520"/>
                          </a:lnTo>
                          <a:lnTo>
                            <a:pt x="207" y="498"/>
                          </a:lnTo>
                          <a:lnTo>
                            <a:pt x="173" y="481"/>
                          </a:lnTo>
                          <a:lnTo>
                            <a:pt x="142" y="468"/>
                          </a:lnTo>
                          <a:lnTo>
                            <a:pt x="112" y="455"/>
                          </a:lnTo>
                          <a:lnTo>
                            <a:pt x="86" y="451"/>
                          </a:lnTo>
                          <a:lnTo>
                            <a:pt x="86" y="434"/>
                          </a:lnTo>
                          <a:lnTo>
                            <a:pt x="78" y="417"/>
                          </a:lnTo>
                          <a:lnTo>
                            <a:pt x="69" y="399"/>
                          </a:lnTo>
                          <a:lnTo>
                            <a:pt x="60" y="382"/>
                          </a:lnTo>
                          <a:lnTo>
                            <a:pt x="52" y="365"/>
                          </a:lnTo>
                          <a:lnTo>
                            <a:pt x="43" y="348"/>
                          </a:lnTo>
                          <a:lnTo>
                            <a:pt x="35" y="331"/>
                          </a:lnTo>
                          <a:lnTo>
                            <a:pt x="35" y="309"/>
                          </a:lnTo>
                          <a:lnTo>
                            <a:pt x="22" y="305"/>
                          </a:lnTo>
                          <a:lnTo>
                            <a:pt x="13" y="288"/>
                          </a:lnTo>
                          <a:lnTo>
                            <a:pt x="9" y="266"/>
                          </a:lnTo>
                          <a:lnTo>
                            <a:pt x="4" y="236"/>
                          </a:lnTo>
                          <a:lnTo>
                            <a:pt x="0" y="206"/>
                          </a:lnTo>
                          <a:lnTo>
                            <a:pt x="0" y="176"/>
                          </a:lnTo>
                          <a:lnTo>
                            <a:pt x="0" y="154"/>
                          </a:lnTo>
                          <a:lnTo>
                            <a:pt x="0" y="133"/>
                          </a:lnTo>
                          <a:lnTo>
                            <a:pt x="4" y="133"/>
                          </a:lnTo>
                          <a:lnTo>
                            <a:pt x="13" y="124"/>
                          </a:lnTo>
                          <a:lnTo>
                            <a:pt x="17" y="111"/>
                          </a:lnTo>
                          <a:lnTo>
                            <a:pt x="22" y="98"/>
                          </a:lnTo>
                          <a:lnTo>
                            <a:pt x="26" y="81"/>
                          </a:lnTo>
                          <a:lnTo>
                            <a:pt x="30" y="68"/>
                          </a:lnTo>
                          <a:lnTo>
                            <a:pt x="35" y="55"/>
                          </a:lnTo>
                          <a:lnTo>
                            <a:pt x="35" y="47"/>
                          </a:lnTo>
                          <a:lnTo>
                            <a:pt x="35" y="51"/>
                          </a:lnTo>
                          <a:lnTo>
                            <a:pt x="35" y="55"/>
                          </a:lnTo>
                          <a:lnTo>
                            <a:pt x="35" y="60"/>
                          </a:lnTo>
                          <a:lnTo>
                            <a:pt x="35" y="64"/>
                          </a:lnTo>
                          <a:lnTo>
                            <a:pt x="35" y="68"/>
                          </a:lnTo>
                          <a:lnTo>
                            <a:pt x="35" y="73"/>
                          </a:lnTo>
                          <a:lnTo>
                            <a:pt x="35" y="77"/>
                          </a:lnTo>
                          <a:lnTo>
                            <a:pt x="35" y="81"/>
                          </a:lnTo>
                          <a:close/>
                        </a:path>
                      </a:pathLst>
                    </a:custGeom>
                    <a:blipFill rotWithShape="0">
                      <a:blip r:embed="rId104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360" bIns="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2" name=""/>
                  <p:cNvSpPr/>
                  <p:nvPr/>
                </p:nvSpPr>
                <p:spPr>
                  <a:xfrm rot="21030000">
                    <a:off x="2470680" y="1347480"/>
                    <a:ext cx="103680" cy="66960"/>
                  </a:xfrm>
                  <a:custGeom>
                    <a:avLst/>
                    <a:gdLst/>
                    <a:ahLst/>
                    <a:rect l="l" t="t" r="r" b="b"/>
                    <a:pathLst>
                      <a:path w="949" h="477">
                        <a:moveTo>
                          <a:pt x="17" y="194"/>
                        </a:moveTo>
                        <a:lnTo>
                          <a:pt x="17" y="194"/>
                        </a:lnTo>
                        <a:lnTo>
                          <a:pt x="26" y="189"/>
                        </a:lnTo>
                        <a:lnTo>
                          <a:pt x="39" y="181"/>
                        </a:lnTo>
                        <a:lnTo>
                          <a:pt x="52" y="172"/>
                        </a:lnTo>
                        <a:lnTo>
                          <a:pt x="65" y="163"/>
                        </a:lnTo>
                        <a:lnTo>
                          <a:pt x="78" y="155"/>
                        </a:lnTo>
                        <a:lnTo>
                          <a:pt x="86" y="146"/>
                        </a:lnTo>
                        <a:lnTo>
                          <a:pt x="86" y="142"/>
                        </a:lnTo>
                        <a:lnTo>
                          <a:pt x="548" y="163"/>
                        </a:lnTo>
                        <a:lnTo>
                          <a:pt x="548" y="163"/>
                        </a:lnTo>
                        <a:lnTo>
                          <a:pt x="552" y="159"/>
                        </a:lnTo>
                        <a:lnTo>
                          <a:pt x="557" y="155"/>
                        </a:lnTo>
                        <a:lnTo>
                          <a:pt x="561" y="146"/>
                        </a:lnTo>
                        <a:lnTo>
                          <a:pt x="569" y="142"/>
                        </a:lnTo>
                        <a:lnTo>
                          <a:pt x="578" y="138"/>
                        </a:lnTo>
                        <a:lnTo>
                          <a:pt x="582" y="133"/>
                        </a:lnTo>
                        <a:lnTo>
                          <a:pt x="587" y="133"/>
                        </a:lnTo>
                        <a:lnTo>
                          <a:pt x="587" y="129"/>
                        </a:lnTo>
                        <a:lnTo>
                          <a:pt x="591" y="125"/>
                        </a:lnTo>
                        <a:lnTo>
                          <a:pt x="595" y="120"/>
                        </a:lnTo>
                        <a:lnTo>
                          <a:pt x="600" y="120"/>
                        </a:lnTo>
                        <a:lnTo>
                          <a:pt x="604" y="116"/>
                        </a:lnTo>
                        <a:lnTo>
                          <a:pt x="613" y="116"/>
                        </a:lnTo>
                        <a:lnTo>
                          <a:pt x="621" y="112"/>
                        </a:lnTo>
                        <a:lnTo>
                          <a:pt x="630" y="112"/>
                        </a:lnTo>
                        <a:lnTo>
                          <a:pt x="634" y="103"/>
                        </a:lnTo>
                        <a:lnTo>
                          <a:pt x="651" y="90"/>
                        </a:lnTo>
                        <a:lnTo>
                          <a:pt x="673" y="73"/>
                        </a:lnTo>
                        <a:lnTo>
                          <a:pt x="703" y="56"/>
                        </a:lnTo>
                        <a:lnTo>
                          <a:pt x="729" y="39"/>
                        </a:lnTo>
                        <a:lnTo>
                          <a:pt x="755" y="26"/>
                        </a:lnTo>
                        <a:lnTo>
                          <a:pt x="777" y="9"/>
                        </a:lnTo>
                        <a:lnTo>
                          <a:pt x="790" y="0"/>
                        </a:lnTo>
                        <a:lnTo>
                          <a:pt x="802" y="0"/>
                        </a:lnTo>
                        <a:lnTo>
                          <a:pt x="820" y="0"/>
                        </a:lnTo>
                        <a:lnTo>
                          <a:pt x="833" y="4"/>
                        </a:lnTo>
                        <a:lnTo>
                          <a:pt x="850" y="4"/>
                        </a:lnTo>
                        <a:lnTo>
                          <a:pt x="863" y="9"/>
                        </a:lnTo>
                        <a:lnTo>
                          <a:pt x="876" y="13"/>
                        </a:lnTo>
                        <a:lnTo>
                          <a:pt x="889" y="22"/>
                        </a:lnTo>
                        <a:lnTo>
                          <a:pt x="893" y="30"/>
                        </a:lnTo>
                        <a:lnTo>
                          <a:pt x="902" y="34"/>
                        </a:lnTo>
                        <a:lnTo>
                          <a:pt x="910" y="39"/>
                        </a:lnTo>
                        <a:lnTo>
                          <a:pt x="915" y="47"/>
                        </a:lnTo>
                        <a:lnTo>
                          <a:pt x="915" y="56"/>
                        </a:lnTo>
                        <a:lnTo>
                          <a:pt x="919" y="69"/>
                        </a:lnTo>
                        <a:lnTo>
                          <a:pt x="919" y="77"/>
                        </a:lnTo>
                        <a:lnTo>
                          <a:pt x="919" y="86"/>
                        </a:lnTo>
                        <a:lnTo>
                          <a:pt x="923" y="90"/>
                        </a:lnTo>
                        <a:lnTo>
                          <a:pt x="932" y="90"/>
                        </a:lnTo>
                        <a:lnTo>
                          <a:pt x="945" y="120"/>
                        </a:lnTo>
                        <a:lnTo>
                          <a:pt x="949" y="142"/>
                        </a:lnTo>
                        <a:lnTo>
                          <a:pt x="949" y="168"/>
                        </a:lnTo>
                        <a:lnTo>
                          <a:pt x="941" y="189"/>
                        </a:lnTo>
                        <a:lnTo>
                          <a:pt x="932" y="215"/>
                        </a:lnTo>
                        <a:lnTo>
                          <a:pt x="919" y="237"/>
                        </a:lnTo>
                        <a:lnTo>
                          <a:pt x="902" y="254"/>
                        </a:lnTo>
                        <a:lnTo>
                          <a:pt x="884" y="275"/>
                        </a:lnTo>
                        <a:lnTo>
                          <a:pt x="846" y="310"/>
                        </a:lnTo>
                        <a:lnTo>
                          <a:pt x="807" y="344"/>
                        </a:lnTo>
                        <a:lnTo>
                          <a:pt x="794" y="357"/>
                        </a:lnTo>
                        <a:lnTo>
                          <a:pt x="781" y="374"/>
                        </a:lnTo>
                        <a:lnTo>
                          <a:pt x="772" y="387"/>
                        </a:lnTo>
                        <a:lnTo>
                          <a:pt x="772" y="396"/>
                        </a:lnTo>
                        <a:lnTo>
                          <a:pt x="716" y="400"/>
                        </a:lnTo>
                        <a:lnTo>
                          <a:pt x="664" y="413"/>
                        </a:lnTo>
                        <a:lnTo>
                          <a:pt x="613" y="430"/>
                        </a:lnTo>
                        <a:lnTo>
                          <a:pt x="557" y="447"/>
                        </a:lnTo>
                        <a:lnTo>
                          <a:pt x="500" y="464"/>
                        </a:lnTo>
                        <a:lnTo>
                          <a:pt x="444" y="473"/>
                        </a:lnTo>
                        <a:lnTo>
                          <a:pt x="414" y="477"/>
                        </a:lnTo>
                        <a:lnTo>
                          <a:pt x="384" y="477"/>
                        </a:lnTo>
                        <a:lnTo>
                          <a:pt x="354" y="473"/>
                        </a:lnTo>
                        <a:lnTo>
                          <a:pt x="324" y="469"/>
                        </a:lnTo>
                        <a:lnTo>
                          <a:pt x="298" y="464"/>
                        </a:lnTo>
                        <a:lnTo>
                          <a:pt x="272" y="456"/>
                        </a:lnTo>
                        <a:lnTo>
                          <a:pt x="242" y="447"/>
                        </a:lnTo>
                        <a:lnTo>
                          <a:pt x="216" y="439"/>
                        </a:lnTo>
                        <a:lnTo>
                          <a:pt x="186" y="430"/>
                        </a:lnTo>
                        <a:lnTo>
                          <a:pt x="160" y="426"/>
                        </a:lnTo>
                        <a:lnTo>
                          <a:pt x="134" y="417"/>
                        </a:lnTo>
                        <a:lnTo>
                          <a:pt x="108" y="417"/>
                        </a:lnTo>
                        <a:lnTo>
                          <a:pt x="108" y="413"/>
                        </a:lnTo>
                        <a:lnTo>
                          <a:pt x="104" y="409"/>
                        </a:lnTo>
                        <a:lnTo>
                          <a:pt x="95" y="404"/>
                        </a:lnTo>
                        <a:lnTo>
                          <a:pt x="86" y="396"/>
                        </a:lnTo>
                        <a:lnTo>
                          <a:pt x="82" y="387"/>
                        </a:lnTo>
                        <a:lnTo>
                          <a:pt x="73" y="383"/>
                        </a:lnTo>
                        <a:lnTo>
                          <a:pt x="69" y="374"/>
                        </a:lnTo>
                        <a:lnTo>
                          <a:pt x="69" y="366"/>
                        </a:lnTo>
                        <a:lnTo>
                          <a:pt x="60" y="361"/>
                        </a:lnTo>
                        <a:lnTo>
                          <a:pt x="52" y="357"/>
                        </a:lnTo>
                        <a:lnTo>
                          <a:pt x="47" y="353"/>
                        </a:lnTo>
                        <a:lnTo>
                          <a:pt x="43" y="348"/>
                        </a:lnTo>
                        <a:lnTo>
                          <a:pt x="39" y="340"/>
                        </a:lnTo>
                        <a:lnTo>
                          <a:pt x="35" y="335"/>
                        </a:lnTo>
                        <a:lnTo>
                          <a:pt x="30" y="331"/>
                        </a:lnTo>
                        <a:lnTo>
                          <a:pt x="26" y="327"/>
                        </a:lnTo>
                        <a:lnTo>
                          <a:pt x="26" y="305"/>
                        </a:lnTo>
                        <a:lnTo>
                          <a:pt x="17" y="284"/>
                        </a:lnTo>
                        <a:lnTo>
                          <a:pt x="13" y="262"/>
                        </a:lnTo>
                        <a:lnTo>
                          <a:pt x="4" y="245"/>
                        </a:lnTo>
                        <a:lnTo>
                          <a:pt x="0" y="228"/>
                        </a:lnTo>
                        <a:lnTo>
                          <a:pt x="0" y="215"/>
                        </a:lnTo>
                        <a:lnTo>
                          <a:pt x="4" y="202"/>
                        </a:lnTo>
                        <a:lnTo>
                          <a:pt x="17" y="194"/>
                        </a:lnTo>
                        <a:close/>
                      </a:path>
                    </a:pathLst>
                  </a:custGeom>
                  <a:blipFill rotWithShape="0">
                    <a:blip r:embed="rId105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0160" bIns="20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3" name=""/>
                <p:cNvSpPr/>
                <p:nvPr/>
              </p:nvSpPr>
              <p:spPr>
                <a:xfrm rot="21030000">
                  <a:off x="2431080" y="1364400"/>
                  <a:ext cx="99720" cy="33480"/>
                </a:xfrm>
                <a:custGeom>
                  <a:avLst/>
                  <a:gdLst/>
                  <a:ahLst/>
                  <a:rect l="l" t="t" r="r" b="b"/>
                  <a:pathLst>
                    <a:path w="975" h="349">
                      <a:moveTo>
                        <a:pt x="99" y="159"/>
                      </a:moveTo>
                      <a:lnTo>
                        <a:pt x="107" y="155"/>
                      </a:lnTo>
                      <a:lnTo>
                        <a:pt x="125" y="151"/>
                      </a:lnTo>
                      <a:lnTo>
                        <a:pt x="142" y="138"/>
                      </a:lnTo>
                      <a:lnTo>
                        <a:pt x="159" y="129"/>
                      </a:lnTo>
                      <a:lnTo>
                        <a:pt x="181" y="116"/>
                      </a:lnTo>
                      <a:lnTo>
                        <a:pt x="198" y="108"/>
                      </a:lnTo>
                      <a:lnTo>
                        <a:pt x="211" y="99"/>
                      </a:lnTo>
                      <a:lnTo>
                        <a:pt x="224" y="95"/>
                      </a:lnTo>
                      <a:lnTo>
                        <a:pt x="228" y="78"/>
                      </a:lnTo>
                      <a:lnTo>
                        <a:pt x="241" y="61"/>
                      </a:lnTo>
                      <a:lnTo>
                        <a:pt x="263" y="43"/>
                      </a:lnTo>
                      <a:lnTo>
                        <a:pt x="293" y="35"/>
                      </a:lnTo>
                      <a:lnTo>
                        <a:pt x="328" y="22"/>
                      </a:lnTo>
                      <a:lnTo>
                        <a:pt x="371" y="13"/>
                      </a:lnTo>
                      <a:lnTo>
                        <a:pt x="414" y="9"/>
                      </a:lnTo>
                      <a:lnTo>
                        <a:pt x="457" y="5"/>
                      </a:lnTo>
                      <a:lnTo>
                        <a:pt x="548" y="0"/>
                      </a:lnTo>
                      <a:lnTo>
                        <a:pt x="634" y="0"/>
                      </a:lnTo>
                      <a:lnTo>
                        <a:pt x="703" y="9"/>
                      </a:lnTo>
                      <a:lnTo>
                        <a:pt x="746" y="22"/>
                      </a:lnTo>
                      <a:lnTo>
                        <a:pt x="746" y="22"/>
                      </a:lnTo>
                      <a:lnTo>
                        <a:pt x="746" y="26"/>
                      </a:lnTo>
                      <a:lnTo>
                        <a:pt x="746" y="26"/>
                      </a:lnTo>
                      <a:lnTo>
                        <a:pt x="746" y="30"/>
                      </a:lnTo>
                      <a:lnTo>
                        <a:pt x="746" y="30"/>
                      </a:lnTo>
                      <a:lnTo>
                        <a:pt x="746" y="30"/>
                      </a:lnTo>
                      <a:lnTo>
                        <a:pt x="746" y="35"/>
                      </a:lnTo>
                      <a:lnTo>
                        <a:pt x="746" y="35"/>
                      </a:lnTo>
                      <a:lnTo>
                        <a:pt x="763" y="43"/>
                      </a:lnTo>
                      <a:lnTo>
                        <a:pt x="785" y="52"/>
                      </a:lnTo>
                      <a:lnTo>
                        <a:pt x="811" y="65"/>
                      </a:lnTo>
                      <a:lnTo>
                        <a:pt x="837" y="78"/>
                      </a:lnTo>
                      <a:lnTo>
                        <a:pt x="863" y="91"/>
                      </a:lnTo>
                      <a:lnTo>
                        <a:pt x="884" y="99"/>
                      </a:lnTo>
                      <a:lnTo>
                        <a:pt x="906" y="108"/>
                      </a:lnTo>
                      <a:lnTo>
                        <a:pt x="923" y="108"/>
                      </a:lnTo>
                      <a:lnTo>
                        <a:pt x="927" y="116"/>
                      </a:lnTo>
                      <a:lnTo>
                        <a:pt x="936" y="121"/>
                      </a:lnTo>
                      <a:lnTo>
                        <a:pt x="940" y="125"/>
                      </a:lnTo>
                      <a:lnTo>
                        <a:pt x="949" y="134"/>
                      </a:lnTo>
                      <a:lnTo>
                        <a:pt x="953" y="138"/>
                      </a:lnTo>
                      <a:lnTo>
                        <a:pt x="962" y="142"/>
                      </a:lnTo>
                      <a:lnTo>
                        <a:pt x="966" y="147"/>
                      </a:lnTo>
                      <a:lnTo>
                        <a:pt x="975" y="147"/>
                      </a:lnTo>
                      <a:lnTo>
                        <a:pt x="975" y="164"/>
                      </a:lnTo>
                      <a:lnTo>
                        <a:pt x="975" y="181"/>
                      </a:lnTo>
                      <a:lnTo>
                        <a:pt x="975" y="198"/>
                      </a:lnTo>
                      <a:lnTo>
                        <a:pt x="975" y="215"/>
                      </a:lnTo>
                      <a:lnTo>
                        <a:pt x="975" y="233"/>
                      </a:lnTo>
                      <a:lnTo>
                        <a:pt x="975" y="250"/>
                      </a:lnTo>
                      <a:lnTo>
                        <a:pt x="975" y="267"/>
                      </a:lnTo>
                      <a:lnTo>
                        <a:pt x="975" y="284"/>
                      </a:lnTo>
                      <a:lnTo>
                        <a:pt x="957" y="297"/>
                      </a:lnTo>
                      <a:lnTo>
                        <a:pt x="936" y="310"/>
                      </a:lnTo>
                      <a:lnTo>
                        <a:pt x="914" y="319"/>
                      </a:lnTo>
                      <a:lnTo>
                        <a:pt x="888" y="327"/>
                      </a:lnTo>
                      <a:lnTo>
                        <a:pt x="828" y="340"/>
                      </a:lnTo>
                      <a:lnTo>
                        <a:pt x="763" y="349"/>
                      </a:lnTo>
                      <a:lnTo>
                        <a:pt x="699" y="349"/>
                      </a:lnTo>
                      <a:lnTo>
                        <a:pt x="634" y="340"/>
                      </a:lnTo>
                      <a:lnTo>
                        <a:pt x="608" y="336"/>
                      </a:lnTo>
                      <a:lnTo>
                        <a:pt x="578" y="327"/>
                      </a:lnTo>
                      <a:lnTo>
                        <a:pt x="556" y="319"/>
                      </a:lnTo>
                      <a:lnTo>
                        <a:pt x="535" y="310"/>
                      </a:lnTo>
                      <a:lnTo>
                        <a:pt x="535" y="306"/>
                      </a:lnTo>
                      <a:lnTo>
                        <a:pt x="535" y="306"/>
                      </a:lnTo>
                      <a:lnTo>
                        <a:pt x="535" y="306"/>
                      </a:lnTo>
                      <a:lnTo>
                        <a:pt x="535" y="301"/>
                      </a:lnTo>
                      <a:lnTo>
                        <a:pt x="535" y="301"/>
                      </a:lnTo>
                      <a:lnTo>
                        <a:pt x="535" y="301"/>
                      </a:lnTo>
                      <a:lnTo>
                        <a:pt x="535" y="297"/>
                      </a:lnTo>
                      <a:lnTo>
                        <a:pt x="535" y="297"/>
                      </a:lnTo>
                      <a:lnTo>
                        <a:pt x="530" y="297"/>
                      </a:lnTo>
                      <a:lnTo>
                        <a:pt x="517" y="297"/>
                      </a:lnTo>
                      <a:lnTo>
                        <a:pt x="504" y="297"/>
                      </a:lnTo>
                      <a:lnTo>
                        <a:pt x="491" y="297"/>
                      </a:lnTo>
                      <a:lnTo>
                        <a:pt x="479" y="301"/>
                      </a:lnTo>
                      <a:lnTo>
                        <a:pt x="470" y="301"/>
                      </a:lnTo>
                      <a:lnTo>
                        <a:pt x="461" y="306"/>
                      </a:lnTo>
                      <a:lnTo>
                        <a:pt x="461" y="310"/>
                      </a:lnTo>
                      <a:lnTo>
                        <a:pt x="409" y="310"/>
                      </a:lnTo>
                      <a:lnTo>
                        <a:pt x="362" y="310"/>
                      </a:lnTo>
                      <a:lnTo>
                        <a:pt x="310" y="310"/>
                      </a:lnTo>
                      <a:lnTo>
                        <a:pt x="258" y="310"/>
                      </a:lnTo>
                      <a:lnTo>
                        <a:pt x="211" y="310"/>
                      </a:lnTo>
                      <a:lnTo>
                        <a:pt x="159" y="310"/>
                      </a:lnTo>
                      <a:lnTo>
                        <a:pt x="112" y="310"/>
                      </a:lnTo>
                      <a:lnTo>
                        <a:pt x="60" y="310"/>
                      </a:lnTo>
                      <a:lnTo>
                        <a:pt x="56" y="310"/>
                      </a:lnTo>
                      <a:lnTo>
                        <a:pt x="51" y="306"/>
                      </a:lnTo>
                      <a:lnTo>
                        <a:pt x="47" y="306"/>
                      </a:lnTo>
                      <a:lnTo>
                        <a:pt x="43" y="301"/>
                      </a:lnTo>
                      <a:lnTo>
                        <a:pt x="38" y="301"/>
                      </a:lnTo>
                      <a:lnTo>
                        <a:pt x="34" y="297"/>
                      </a:lnTo>
                      <a:lnTo>
                        <a:pt x="26" y="297"/>
                      </a:lnTo>
                      <a:lnTo>
                        <a:pt x="21" y="297"/>
                      </a:lnTo>
                      <a:lnTo>
                        <a:pt x="21" y="293"/>
                      </a:lnTo>
                      <a:lnTo>
                        <a:pt x="17" y="288"/>
                      </a:lnTo>
                      <a:lnTo>
                        <a:pt x="13" y="288"/>
                      </a:lnTo>
                      <a:lnTo>
                        <a:pt x="8" y="284"/>
                      </a:lnTo>
                      <a:lnTo>
                        <a:pt x="8" y="280"/>
                      </a:lnTo>
                      <a:lnTo>
                        <a:pt x="4" y="276"/>
                      </a:lnTo>
                      <a:lnTo>
                        <a:pt x="0" y="276"/>
                      </a:lnTo>
                      <a:lnTo>
                        <a:pt x="0" y="271"/>
                      </a:lnTo>
                      <a:lnTo>
                        <a:pt x="0" y="267"/>
                      </a:lnTo>
                      <a:lnTo>
                        <a:pt x="0" y="258"/>
                      </a:lnTo>
                      <a:lnTo>
                        <a:pt x="0" y="254"/>
                      </a:lnTo>
                      <a:lnTo>
                        <a:pt x="0" y="245"/>
                      </a:lnTo>
                      <a:lnTo>
                        <a:pt x="0" y="241"/>
                      </a:lnTo>
                      <a:lnTo>
                        <a:pt x="0" y="233"/>
                      </a:lnTo>
                      <a:lnTo>
                        <a:pt x="0" y="228"/>
                      </a:lnTo>
                      <a:lnTo>
                        <a:pt x="0" y="220"/>
                      </a:lnTo>
                      <a:lnTo>
                        <a:pt x="4" y="215"/>
                      </a:lnTo>
                      <a:lnTo>
                        <a:pt x="8" y="211"/>
                      </a:lnTo>
                      <a:lnTo>
                        <a:pt x="17" y="202"/>
                      </a:lnTo>
                      <a:lnTo>
                        <a:pt x="21" y="194"/>
                      </a:lnTo>
                      <a:lnTo>
                        <a:pt x="26" y="185"/>
                      </a:lnTo>
                      <a:lnTo>
                        <a:pt x="30" y="177"/>
                      </a:lnTo>
                      <a:lnTo>
                        <a:pt x="34" y="168"/>
                      </a:lnTo>
                      <a:lnTo>
                        <a:pt x="34" y="159"/>
                      </a:lnTo>
                      <a:lnTo>
                        <a:pt x="43" y="155"/>
                      </a:lnTo>
                      <a:lnTo>
                        <a:pt x="47" y="151"/>
                      </a:lnTo>
                      <a:lnTo>
                        <a:pt x="56" y="142"/>
                      </a:lnTo>
                      <a:lnTo>
                        <a:pt x="64" y="138"/>
                      </a:lnTo>
                      <a:lnTo>
                        <a:pt x="77" y="134"/>
                      </a:lnTo>
                      <a:lnTo>
                        <a:pt x="86" y="134"/>
                      </a:lnTo>
                      <a:lnTo>
                        <a:pt x="90" y="142"/>
                      </a:lnTo>
                      <a:lnTo>
                        <a:pt x="99" y="159"/>
                      </a:lnTo>
                      <a:close/>
                    </a:path>
                  </a:pathLst>
                </a:custGeom>
                <a:blipFill rotWithShape="0">
                  <a:blip r:embed="rId106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4" name=""/>
            <p:cNvSpPr/>
            <p:nvPr/>
          </p:nvSpPr>
          <p:spPr>
            <a:xfrm rot="21030000">
              <a:off x="2338200" y="1398960"/>
              <a:ext cx="109080" cy="70200"/>
            </a:xfrm>
            <a:custGeom>
              <a:avLst/>
              <a:gdLst/>
              <a:ahLst/>
              <a:rect l="l" t="t" r="r" b="b"/>
              <a:pathLst>
                <a:path w="2097" h="920">
                  <a:moveTo>
                    <a:pt x="1450" y="86"/>
                  </a:moveTo>
                  <a:lnTo>
                    <a:pt x="1610" y="172"/>
                  </a:lnTo>
                  <a:lnTo>
                    <a:pt x="1778" y="146"/>
                  </a:lnTo>
                  <a:lnTo>
                    <a:pt x="1959" y="86"/>
                  </a:lnTo>
                  <a:lnTo>
                    <a:pt x="2011" y="43"/>
                  </a:lnTo>
                  <a:lnTo>
                    <a:pt x="2097" y="43"/>
                  </a:lnTo>
                  <a:lnTo>
                    <a:pt x="1959" y="108"/>
                  </a:lnTo>
                  <a:lnTo>
                    <a:pt x="1778" y="245"/>
                  </a:lnTo>
                  <a:lnTo>
                    <a:pt x="1726" y="245"/>
                  </a:lnTo>
                  <a:lnTo>
                    <a:pt x="1696" y="288"/>
                  </a:lnTo>
                  <a:lnTo>
                    <a:pt x="1748" y="340"/>
                  </a:lnTo>
                  <a:lnTo>
                    <a:pt x="1864" y="348"/>
                  </a:lnTo>
                  <a:lnTo>
                    <a:pt x="1981" y="413"/>
                  </a:lnTo>
                  <a:lnTo>
                    <a:pt x="1821" y="361"/>
                  </a:lnTo>
                  <a:lnTo>
                    <a:pt x="1705" y="400"/>
                  </a:lnTo>
                  <a:lnTo>
                    <a:pt x="1549" y="572"/>
                  </a:lnTo>
                  <a:lnTo>
                    <a:pt x="1515" y="697"/>
                  </a:lnTo>
                  <a:lnTo>
                    <a:pt x="1515" y="761"/>
                  </a:lnTo>
                  <a:lnTo>
                    <a:pt x="1390" y="856"/>
                  </a:lnTo>
                  <a:lnTo>
                    <a:pt x="1006" y="920"/>
                  </a:lnTo>
                  <a:lnTo>
                    <a:pt x="837" y="899"/>
                  </a:lnTo>
                  <a:lnTo>
                    <a:pt x="781" y="877"/>
                  </a:lnTo>
                  <a:lnTo>
                    <a:pt x="708" y="877"/>
                  </a:lnTo>
                  <a:lnTo>
                    <a:pt x="458" y="804"/>
                  </a:lnTo>
                  <a:lnTo>
                    <a:pt x="328" y="761"/>
                  </a:lnTo>
                  <a:lnTo>
                    <a:pt x="160" y="740"/>
                  </a:lnTo>
                  <a:lnTo>
                    <a:pt x="130" y="710"/>
                  </a:lnTo>
                  <a:lnTo>
                    <a:pt x="458" y="710"/>
                  </a:lnTo>
                  <a:lnTo>
                    <a:pt x="518" y="740"/>
                  </a:lnTo>
                  <a:lnTo>
                    <a:pt x="561" y="783"/>
                  </a:lnTo>
                  <a:lnTo>
                    <a:pt x="604" y="761"/>
                  </a:lnTo>
                  <a:lnTo>
                    <a:pt x="604" y="645"/>
                  </a:lnTo>
                  <a:lnTo>
                    <a:pt x="458" y="636"/>
                  </a:lnTo>
                  <a:lnTo>
                    <a:pt x="358" y="615"/>
                  </a:lnTo>
                  <a:lnTo>
                    <a:pt x="225" y="615"/>
                  </a:lnTo>
                  <a:lnTo>
                    <a:pt x="130" y="602"/>
                  </a:lnTo>
                  <a:lnTo>
                    <a:pt x="87" y="581"/>
                  </a:lnTo>
                  <a:lnTo>
                    <a:pt x="13" y="581"/>
                  </a:lnTo>
                  <a:lnTo>
                    <a:pt x="0" y="542"/>
                  </a:lnTo>
                  <a:lnTo>
                    <a:pt x="44" y="421"/>
                  </a:lnTo>
                  <a:lnTo>
                    <a:pt x="169" y="361"/>
                  </a:lnTo>
                  <a:lnTo>
                    <a:pt x="255" y="391"/>
                  </a:lnTo>
                  <a:lnTo>
                    <a:pt x="328" y="383"/>
                  </a:lnTo>
                  <a:lnTo>
                    <a:pt x="350" y="361"/>
                  </a:lnTo>
                  <a:lnTo>
                    <a:pt x="320" y="318"/>
                  </a:lnTo>
                  <a:lnTo>
                    <a:pt x="298" y="297"/>
                  </a:lnTo>
                  <a:lnTo>
                    <a:pt x="138" y="305"/>
                  </a:lnTo>
                  <a:lnTo>
                    <a:pt x="212" y="267"/>
                  </a:lnTo>
                  <a:lnTo>
                    <a:pt x="225" y="267"/>
                  </a:lnTo>
                  <a:lnTo>
                    <a:pt x="255" y="297"/>
                  </a:lnTo>
                  <a:lnTo>
                    <a:pt x="276" y="267"/>
                  </a:lnTo>
                  <a:lnTo>
                    <a:pt x="466" y="245"/>
                  </a:lnTo>
                  <a:lnTo>
                    <a:pt x="466" y="224"/>
                  </a:lnTo>
                  <a:lnTo>
                    <a:pt x="846" y="52"/>
                  </a:lnTo>
                  <a:lnTo>
                    <a:pt x="997" y="22"/>
                  </a:lnTo>
                  <a:lnTo>
                    <a:pt x="1144" y="0"/>
                  </a:lnTo>
                  <a:lnTo>
                    <a:pt x="1390" y="52"/>
                  </a:lnTo>
                  <a:lnTo>
                    <a:pt x="1450" y="86"/>
                  </a:lnTo>
                  <a:close/>
                </a:path>
              </a:pathLst>
            </a:custGeom>
            <a:blipFill rotWithShape="0">
              <a:blip r:embed="rId10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2649240" y="1910160"/>
            <a:ext cx="612360" cy="788760"/>
            <a:chOff x="2649240" y="1910160"/>
            <a:chExt cx="612360" cy="788760"/>
          </a:xfrm>
        </p:grpSpPr>
        <p:grpSp>
          <p:nvGrpSpPr>
            <p:cNvPr id="236" name=""/>
            <p:cNvGrpSpPr/>
            <p:nvPr/>
          </p:nvGrpSpPr>
          <p:grpSpPr>
            <a:xfrm>
              <a:off x="2649240" y="1910160"/>
              <a:ext cx="612360" cy="788760"/>
              <a:chOff x="2649240" y="1910160"/>
              <a:chExt cx="612360" cy="788760"/>
            </a:xfrm>
          </p:grpSpPr>
          <p:sp>
            <p:nvSpPr>
              <p:cNvPr id="237" name=""/>
              <p:cNvSpPr/>
              <p:nvPr/>
            </p:nvSpPr>
            <p:spPr>
              <a:xfrm rot="21419400">
                <a:off x="2739600" y="1912680"/>
                <a:ext cx="113040" cy="95760"/>
              </a:xfrm>
              <a:prstGeom prst="irregularSeal2">
                <a:avLst/>
              </a:prstGeom>
              <a:blipFill rotWithShape="0">
                <a:blip r:embed="rId108"/>
                <a:srcRect/>
                <a:tile tx="0" ty="0" sx="100000" sy="100000" algn="ctr"/>
              </a:blip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8" name=""/>
              <p:cNvGrpSpPr/>
              <p:nvPr/>
            </p:nvGrpSpPr>
            <p:grpSpPr>
              <a:xfrm>
                <a:off x="2649240" y="1938240"/>
                <a:ext cx="612360" cy="760680"/>
                <a:chOff x="2649240" y="1938240"/>
                <a:chExt cx="612360" cy="760680"/>
              </a:xfrm>
            </p:grpSpPr>
            <p:grpSp>
              <p:nvGrpSpPr>
                <p:cNvPr id="239" name=""/>
                <p:cNvGrpSpPr/>
                <p:nvPr/>
              </p:nvGrpSpPr>
              <p:grpSpPr>
                <a:xfrm>
                  <a:off x="2649240" y="1938240"/>
                  <a:ext cx="612360" cy="760680"/>
                  <a:chOff x="2649240" y="1938240"/>
                  <a:chExt cx="612360" cy="760680"/>
                </a:xfrm>
              </p:grpSpPr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2649240" y="1938240"/>
                    <a:ext cx="612360" cy="760680"/>
                    <a:chOff x="2649240" y="1938240"/>
                    <a:chExt cx="612360" cy="760680"/>
                  </a:xfrm>
                </p:grpSpPr>
                <p:grpSp>
                  <p:nvGrpSpPr>
                    <p:cNvPr id="241" name=""/>
                    <p:cNvGrpSpPr/>
                    <p:nvPr/>
                  </p:nvGrpSpPr>
                  <p:grpSpPr>
                    <a:xfrm>
                      <a:off x="2649240" y="1938240"/>
                      <a:ext cx="612360" cy="760680"/>
                      <a:chOff x="2649240" y="1938240"/>
                      <a:chExt cx="612360" cy="760680"/>
                    </a:xfrm>
                  </p:grpSpPr>
                  <p:grpSp>
                    <p:nvGrpSpPr>
                      <p:cNvPr id="242" name=""/>
                      <p:cNvGrpSpPr/>
                      <p:nvPr/>
                    </p:nvGrpSpPr>
                    <p:grpSpPr>
                      <a:xfrm>
                        <a:off x="2649240" y="1938240"/>
                        <a:ext cx="612360" cy="760680"/>
                        <a:chOff x="2649240" y="1938240"/>
                        <a:chExt cx="612360" cy="760680"/>
                      </a:xfrm>
                    </p:grpSpPr>
                    <p:grpSp>
                      <p:nvGrpSpPr>
                        <p:cNvPr id="243" name=""/>
                        <p:cNvGrpSpPr/>
                        <p:nvPr/>
                      </p:nvGrpSpPr>
                      <p:grpSpPr>
                        <a:xfrm>
                          <a:off x="2649240" y="1938240"/>
                          <a:ext cx="612360" cy="760680"/>
                          <a:chOff x="2649240" y="1938240"/>
                          <a:chExt cx="612360" cy="760680"/>
                        </a:xfrm>
                      </p:grpSpPr>
                      <p:grpSp>
                        <p:nvGrpSpPr>
                          <p:cNvPr id="244" name=""/>
                          <p:cNvGrpSpPr/>
                          <p:nvPr/>
                        </p:nvGrpSpPr>
                        <p:grpSpPr>
                          <a:xfrm>
                            <a:off x="2649240" y="1938240"/>
                            <a:ext cx="612360" cy="760680"/>
                            <a:chOff x="2649240" y="1938240"/>
                            <a:chExt cx="612360" cy="760680"/>
                          </a:xfrm>
                        </p:grpSpPr>
                        <p:grpSp>
                          <p:nvGrpSpPr>
                            <p:cNvPr id="245" name=""/>
                            <p:cNvGrpSpPr/>
                            <p:nvPr/>
                          </p:nvGrpSpPr>
                          <p:grpSpPr>
                            <a:xfrm>
                              <a:off x="2649240" y="1938240"/>
                              <a:ext cx="612360" cy="760680"/>
                              <a:chOff x="2649240" y="1938240"/>
                              <a:chExt cx="612360" cy="760680"/>
                            </a:xfrm>
                          </p:grpSpPr>
                          <p:grpSp>
                            <p:nvGrpSpPr>
                              <p:cNvPr id="246" name=""/>
                              <p:cNvGrpSpPr/>
                              <p:nvPr/>
                            </p:nvGrpSpPr>
                            <p:grpSpPr>
                              <a:xfrm>
                                <a:off x="2649240" y="1938240"/>
                                <a:ext cx="612360" cy="760680"/>
                                <a:chOff x="2649240" y="1938240"/>
                                <a:chExt cx="612360" cy="760680"/>
                              </a:xfrm>
                            </p:grpSpPr>
                            <p:sp>
                              <p:nvSpPr>
                                <p:cNvPr id="247" name=""/>
                                <p:cNvSpPr/>
                                <p:nvPr/>
                              </p:nvSpPr>
                              <p:spPr>
                                <a:xfrm rot="21419400">
                                  <a:off x="2667960" y="1952640"/>
                                  <a:ext cx="574920" cy="73152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5613" h="7564">
                                      <a:moveTo>
                                        <a:pt x="1709" y="155"/>
                                      </a:moveTo>
                                      <a:lnTo>
                                        <a:pt x="1920" y="129"/>
                                      </a:lnTo>
                                      <a:lnTo>
                                        <a:pt x="2153" y="21"/>
                                      </a:lnTo>
                                      <a:lnTo>
                                        <a:pt x="2278" y="43"/>
                                      </a:lnTo>
                                      <a:lnTo>
                                        <a:pt x="2382" y="82"/>
                                      </a:lnTo>
                                      <a:lnTo>
                                        <a:pt x="2489" y="129"/>
                                      </a:lnTo>
                                      <a:lnTo>
                                        <a:pt x="2554" y="176"/>
                                      </a:lnTo>
                                      <a:lnTo>
                                        <a:pt x="2584" y="211"/>
                                      </a:lnTo>
                                      <a:lnTo>
                                        <a:pt x="2571" y="254"/>
                                      </a:lnTo>
                                      <a:lnTo>
                                        <a:pt x="2403" y="400"/>
                                      </a:lnTo>
                                      <a:lnTo>
                                        <a:pt x="2343" y="400"/>
                                      </a:lnTo>
                                      <a:lnTo>
                                        <a:pt x="2235" y="464"/>
                                      </a:lnTo>
                                      <a:lnTo>
                                        <a:pt x="2153" y="494"/>
                                      </a:lnTo>
                                      <a:lnTo>
                                        <a:pt x="1993" y="464"/>
                                      </a:lnTo>
                                      <a:lnTo>
                                        <a:pt x="1929" y="430"/>
                                      </a:lnTo>
                                      <a:lnTo>
                                        <a:pt x="1885" y="430"/>
                                      </a:lnTo>
                                      <a:lnTo>
                                        <a:pt x="1864" y="451"/>
                                      </a:lnTo>
                                      <a:lnTo>
                                        <a:pt x="1959" y="611"/>
                                      </a:lnTo>
                                      <a:lnTo>
                                        <a:pt x="2002" y="937"/>
                                      </a:lnTo>
                                      <a:lnTo>
                                        <a:pt x="1972" y="1204"/>
                                      </a:lnTo>
                                      <a:lnTo>
                                        <a:pt x="1825" y="1733"/>
                                      </a:lnTo>
                                      <a:lnTo>
                                        <a:pt x="1791" y="2055"/>
                                      </a:lnTo>
                                      <a:lnTo>
                                        <a:pt x="1812" y="2184"/>
                                      </a:lnTo>
                                      <a:lnTo>
                                        <a:pt x="1812" y="2300"/>
                                      </a:lnTo>
                                      <a:lnTo>
                                        <a:pt x="1885" y="2425"/>
                                      </a:lnTo>
                                      <a:lnTo>
                                        <a:pt x="1937" y="2468"/>
                                      </a:lnTo>
                                      <a:lnTo>
                                        <a:pt x="2088" y="2395"/>
                                      </a:lnTo>
                                      <a:lnTo>
                                        <a:pt x="2183" y="2343"/>
                                      </a:lnTo>
                                      <a:lnTo>
                                        <a:pt x="2619" y="2300"/>
                                      </a:lnTo>
                                      <a:lnTo>
                                        <a:pt x="3072" y="2374"/>
                                      </a:lnTo>
                                      <a:lnTo>
                                        <a:pt x="3348" y="2395"/>
                                      </a:lnTo>
                                      <a:lnTo>
                                        <a:pt x="3486" y="2352"/>
                                      </a:lnTo>
                                      <a:lnTo>
                                        <a:pt x="3676" y="2322"/>
                                      </a:lnTo>
                                      <a:lnTo>
                                        <a:pt x="3736" y="2288"/>
                                      </a:lnTo>
                                      <a:lnTo>
                                        <a:pt x="4077" y="2322"/>
                                      </a:lnTo>
                                      <a:lnTo>
                                        <a:pt x="4513" y="2395"/>
                                      </a:lnTo>
                                      <a:lnTo>
                                        <a:pt x="4746" y="2490"/>
                                      </a:lnTo>
                                      <a:lnTo>
                                        <a:pt x="4914" y="2533"/>
                                      </a:lnTo>
                                      <a:lnTo>
                                        <a:pt x="5039" y="2511"/>
                                      </a:lnTo>
                                      <a:lnTo>
                                        <a:pt x="5104" y="2477"/>
                                      </a:lnTo>
                                      <a:lnTo>
                                        <a:pt x="5251" y="2477"/>
                                      </a:lnTo>
                                      <a:lnTo>
                                        <a:pt x="5389" y="2541"/>
                                      </a:lnTo>
                                      <a:lnTo>
                                        <a:pt x="5527" y="2692"/>
                                      </a:lnTo>
                                      <a:lnTo>
                                        <a:pt x="5578" y="2816"/>
                                      </a:lnTo>
                                      <a:lnTo>
                                        <a:pt x="5613" y="2954"/>
                                      </a:lnTo>
                                      <a:lnTo>
                                        <a:pt x="5548" y="3311"/>
                                      </a:lnTo>
                                      <a:lnTo>
                                        <a:pt x="5548" y="3449"/>
                                      </a:lnTo>
                                      <a:lnTo>
                                        <a:pt x="5570" y="3479"/>
                                      </a:lnTo>
                                      <a:lnTo>
                                        <a:pt x="5570" y="3526"/>
                                      </a:lnTo>
                                      <a:lnTo>
                                        <a:pt x="5497" y="3578"/>
                                      </a:lnTo>
                                      <a:lnTo>
                                        <a:pt x="5466" y="3578"/>
                                      </a:lnTo>
                                      <a:lnTo>
                                        <a:pt x="5432" y="3513"/>
                                      </a:lnTo>
                                      <a:lnTo>
                                        <a:pt x="5337" y="3504"/>
                                      </a:lnTo>
                                      <a:lnTo>
                                        <a:pt x="5337" y="3479"/>
                                      </a:lnTo>
                                      <a:lnTo>
                                        <a:pt x="5324" y="3470"/>
                                      </a:lnTo>
                                      <a:lnTo>
                                        <a:pt x="5307" y="3492"/>
                                      </a:lnTo>
                                      <a:lnTo>
                                        <a:pt x="5307" y="3535"/>
                                      </a:lnTo>
                                      <a:lnTo>
                                        <a:pt x="5346" y="3586"/>
                                      </a:lnTo>
                                      <a:lnTo>
                                        <a:pt x="5324" y="3629"/>
                                      </a:lnTo>
                                      <a:lnTo>
                                        <a:pt x="5367" y="3745"/>
                                      </a:lnTo>
                                      <a:lnTo>
                                        <a:pt x="5337" y="3754"/>
                                      </a:lnTo>
                                      <a:lnTo>
                                        <a:pt x="5337" y="3810"/>
                                      </a:lnTo>
                                      <a:lnTo>
                                        <a:pt x="5358" y="3827"/>
                                      </a:lnTo>
                                      <a:lnTo>
                                        <a:pt x="5358" y="3861"/>
                                      </a:lnTo>
                                      <a:lnTo>
                                        <a:pt x="5315" y="3891"/>
                                      </a:lnTo>
                                      <a:lnTo>
                                        <a:pt x="5294" y="3913"/>
                                      </a:lnTo>
                                      <a:lnTo>
                                        <a:pt x="5315" y="3969"/>
                                      </a:lnTo>
                                      <a:lnTo>
                                        <a:pt x="5264" y="4008"/>
                                      </a:lnTo>
                                      <a:lnTo>
                                        <a:pt x="5242" y="4029"/>
                                      </a:lnTo>
                                      <a:lnTo>
                                        <a:pt x="5307" y="4072"/>
                                      </a:lnTo>
                                      <a:lnTo>
                                        <a:pt x="5307" y="4081"/>
                                      </a:lnTo>
                                      <a:lnTo>
                                        <a:pt x="5315" y="4094"/>
                                      </a:lnTo>
                                      <a:lnTo>
                                        <a:pt x="5212" y="4188"/>
                                      </a:lnTo>
                                      <a:lnTo>
                                        <a:pt x="5229" y="4231"/>
                                      </a:lnTo>
                                      <a:lnTo>
                                        <a:pt x="5199" y="4326"/>
                                      </a:lnTo>
                                      <a:lnTo>
                                        <a:pt x="5212" y="4347"/>
                                      </a:lnTo>
                                      <a:lnTo>
                                        <a:pt x="5212" y="4377"/>
                                      </a:lnTo>
                                      <a:lnTo>
                                        <a:pt x="5095" y="4450"/>
                                      </a:lnTo>
                                      <a:lnTo>
                                        <a:pt x="5039" y="4506"/>
                                      </a:lnTo>
                                      <a:lnTo>
                                        <a:pt x="5039" y="4545"/>
                                      </a:lnTo>
                                      <a:lnTo>
                                        <a:pt x="5069" y="4567"/>
                                      </a:lnTo>
                                      <a:lnTo>
                                        <a:pt x="5095" y="4592"/>
                                      </a:lnTo>
                                      <a:lnTo>
                                        <a:pt x="5095" y="4622"/>
                                      </a:lnTo>
                                      <a:lnTo>
                                        <a:pt x="5031" y="4674"/>
                                      </a:lnTo>
                                      <a:lnTo>
                                        <a:pt x="4987" y="4717"/>
                                      </a:lnTo>
                                      <a:lnTo>
                                        <a:pt x="4996" y="4726"/>
                                      </a:lnTo>
                                      <a:lnTo>
                                        <a:pt x="5009" y="4726"/>
                                      </a:lnTo>
                                      <a:lnTo>
                                        <a:pt x="5009" y="4760"/>
                                      </a:lnTo>
                                      <a:lnTo>
                                        <a:pt x="4841" y="4949"/>
                                      </a:lnTo>
                                      <a:lnTo>
                                        <a:pt x="4871" y="5181"/>
                                      </a:lnTo>
                                      <a:lnTo>
                                        <a:pt x="5022" y="5444"/>
                                      </a:lnTo>
                                      <a:lnTo>
                                        <a:pt x="5095" y="5517"/>
                                      </a:lnTo>
                                      <a:lnTo>
                                        <a:pt x="5061" y="5783"/>
                                      </a:lnTo>
                                      <a:lnTo>
                                        <a:pt x="4966" y="6192"/>
                                      </a:lnTo>
                                      <a:lnTo>
                                        <a:pt x="4923" y="6510"/>
                                      </a:lnTo>
                                      <a:lnTo>
                                        <a:pt x="4923" y="7164"/>
                                      </a:lnTo>
                                      <a:lnTo>
                                        <a:pt x="4936" y="7258"/>
                                      </a:lnTo>
                                      <a:lnTo>
                                        <a:pt x="4936" y="7293"/>
                                      </a:lnTo>
                                      <a:lnTo>
                                        <a:pt x="4880" y="7323"/>
                                      </a:lnTo>
                                      <a:lnTo>
                                        <a:pt x="4841" y="7396"/>
                                      </a:lnTo>
                                      <a:lnTo>
                                        <a:pt x="4841" y="7512"/>
                                      </a:lnTo>
                                      <a:lnTo>
                                        <a:pt x="4806" y="7546"/>
                                      </a:lnTo>
                                      <a:lnTo>
                                        <a:pt x="4301" y="7564"/>
                                      </a:lnTo>
                                      <a:lnTo>
                                        <a:pt x="4258" y="7546"/>
                                      </a:lnTo>
                                      <a:lnTo>
                                        <a:pt x="4258" y="7426"/>
                                      </a:lnTo>
                                      <a:lnTo>
                                        <a:pt x="4353" y="7344"/>
                                      </a:lnTo>
                                      <a:lnTo>
                                        <a:pt x="4491" y="7280"/>
                                      </a:lnTo>
                                      <a:lnTo>
                                        <a:pt x="4565" y="7228"/>
                                      </a:lnTo>
                                      <a:lnTo>
                                        <a:pt x="4616" y="7009"/>
                                      </a:lnTo>
                                      <a:lnTo>
                                        <a:pt x="4616" y="6205"/>
                                      </a:lnTo>
                                      <a:lnTo>
                                        <a:pt x="4543" y="5857"/>
                                      </a:lnTo>
                                      <a:lnTo>
                                        <a:pt x="4310" y="5500"/>
                                      </a:lnTo>
                                      <a:lnTo>
                                        <a:pt x="4172" y="5336"/>
                                      </a:lnTo>
                                      <a:lnTo>
                                        <a:pt x="3952" y="5203"/>
                                      </a:lnTo>
                                      <a:lnTo>
                                        <a:pt x="3836" y="5405"/>
                                      </a:lnTo>
                                      <a:lnTo>
                                        <a:pt x="3801" y="5525"/>
                                      </a:lnTo>
                                      <a:lnTo>
                                        <a:pt x="3801" y="5581"/>
                                      </a:lnTo>
                                      <a:lnTo>
                                        <a:pt x="3823" y="5603"/>
                                      </a:lnTo>
                                      <a:lnTo>
                                        <a:pt x="3823" y="5801"/>
                                      </a:lnTo>
                                      <a:lnTo>
                                        <a:pt x="3486" y="6373"/>
                                      </a:lnTo>
                                      <a:lnTo>
                                        <a:pt x="3326" y="6721"/>
                                      </a:lnTo>
                                      <a:lnTo>
                                        <a:pt x="3232" y="6996"/>
                                      </a:lnTo>
                                      <a:lnTo>
                                        <a:pt x="3210" y="7082"/>
                                      </a:lnTo>
                                      <a:lnTo>
                                        <a:pt x="3253" y="7250"/>
                                      </a:lnTo>
                                      <a:lnTo>
                                        <a:pt x="3232" y="7323"/>
                                      </a:lnTo>
                                      <a:lnTo>
                                        <a:pt x="3167" y="7323"/>
                                      </a:lnTo>
                                      <a:lnTo>
                                        <a:pt x="3137" y="7301"/>
                                      </a:lnTo>
                                      <a:lnTo>
                                        <a:pt x="3124" y="7301"/>
                                      </a:lnTo>
                                      <a:lnTo>
                                        <a:pt x="3124" y="7353"/>
                                      </a:lnTo>
                                      <a:lnTo>
                                        <a:pt x="3145" y="7417"/>
                                      </a:lnTo>
                                      <a:lnTo>
                                        <a:pt x="3124" y="7491"/>
                                      </a:lnTo>
                                      <a:lnTo>
                                        <a:pt x="3007" y="7525"/>
                                      </a:lnTo>
                                      <a:lnTo>
                                        <a:pt x="2869" y="7499"/>
                                      </a:lnTo>
                                      <a:lnTo>
                                        <a:pt x="2533" y="7525"/>
                                      </a:lnTo>
                                      <a:lnTo>
                                        <a:pt x="2489" y="7499"/>
                                      </a:lnTo>
                                      <a:lnTo>
                                        <a:pt x="2524" y="7374"/>
                                      </a:lnTo>
                                      <a:lnTo>
                                        <a:pt x="2627" y="7271"/>
                                      </a:lnTo>
                                      <a:lnTo>
                                        <a:pt x="2774" y="7207"/>
                                      </a:lnTo>
                                      <a:lnTo>
                                        <a:pt x="2904" y="7009"/>
                                      </a:lnTo>
                                      <a:lnTo>
                                        <a:pt x="3167" y="6403"/>
                                      </a:lnTo>
                                      <a:lnTo>
                                        <a:pt x="3167" y="6338"/>
                                      </a:lnTo>
                                      <a:lnTo>
                                        <a:pt x="3158" y="5887"/>
                                      </a:lnTo>
                                      <a:lnTo>
                                        <a:pt x="3050" y="5431"/>
                                      </a:lnTo>
                                      <a:lnTo>
                                        <a:pt x="3007" y="5212"/>
                                      </a:lnTo>
                                      <a:lnTo>
                                        <a:pt x="3016" y="5035"/>
                                      </a:lnTo>
                                      <a:lnTo>
                                        <a:pt x="3063" y="4717"/>
                                      </a:lnTo>
                                      <a:lnTo>
                                        <a:pt x="3081" y="4674"/>
                                      </a:lnTo>
                                      <a:lnTo>
                                        <a:pt x="2999" y="4653"/>
                                      </a:lnTo>
                                      <a:lnTo>
                                        <a:pt x="2921" y="4704"/>
                                      </a:lnTo>
                                      <a:lnTo>
                                        <a:pt x="2869" y="4687"/>
                                      </a:lnTo>
                                      <a:lnTo>
                                        <a:pt x="2787" y="4739"/>
                                      </a:lnTo>
                                      <a:lnTo>
                                        <a:pt x="2774" y="4726"/>
                                      </a:lnTo>
                                      <a:lnTo>
                                        <a:pt x="2701" y="4782"/>
                                      </a:lnTo>
                                      <a:lnTo>
                                        <a:pt x="2679" y="4782"/>
                                      </a:lnTo>
                                      <a:lnTo>
                                        <a:pt x="2658" y="4760"/>
                                      </a:lnTo>
                                      <a:lnTo>
                                        <a:pt x="2511" y="4782"/>
                                      </a:lnTo>
                                      <a:lnTo>
                                        <a:pt x="2438" y="4842"/>
                                      </a:lnTo>
                                      <a:lnTo>
                                        <a:pt x="2343" y="4820"/>
                                      </a:lnTo>
                                      <a:lnTo>
                                        <a:pt x="2330" y="4833"/>
                                      </a:lnTo>
                                      <a:lnTo>
                                        <a:pt x="2127" y="4833"/>
                                      </a:lnTo>
                                      <a:lnTo>
                                        <a:pt x="2097" y="4812"/>
                                      </a:lnTo>
                                      <a:lnTo>
                                        <a:pt x="2088" y="4799"/>
                                      </a:lnTo>
                                      <a:lnTo>
                                        <a:pt x="1920" y="4958"/>
                                      </a:lnTo>
                                      <a:lnTo>
                                        <a:pt x="1441" y="5487"/>
                                      </a:lnTo>
                                      <a:lnTo>
                                        <a:pt x="1484" y="5538"/>
                                      </a:lnTo>
                                      <a:lnTo>
                                        <a:pt x="1476" y="5646"/>
                                      </a:lnTo>
                                      <a:lnTo>
                                        <a:pt x="1463" y="5654"/>
                                      </a:lnTo>
                                      <a:lnTo>
                                        <a:pt x="1825" y="5848"/>
                                      </a:lnTo>
                                      <a:lnTo>
                                        <a:pt x="1907" y="5865"/>
                                      </a:lnTo>
                                      <a:lnTo>
                                        <a:pt x="2054" y="5857"/>
                                      </a:lnTo>
                                      <a:lnTo>
                                        <a:pt x="2140" y="5835"/>
                                      </a:lnTo>
                                      <a:lnTo>
                                        <a:pt x="2183" y="5792"/>
                                      </a:lnTo>
                                      <a:lnTo>
                                        <a:pt x="2205" y="5792"/>
                                      </a:lnTo>
                                      <a:lnTo>
                                        <a:pt x="2226" y="5857"/>
                                      </a:lnTo>
                                      <a:lnTo>
                                        <a:pt x="2248" y="5878"/>
                                      </a:lnTo>
                                      <a:lnTo>
                                        <a:pt x="2278" y="5878"/>
                                      </a:lnTo>
                                      <a:lnTo>
                                        <a:pt x="2343" y="5783"/>
                                      </a:lnTo>
                                      <a:lnTo>
                                        <a:pt x="2425" y="5728"/>
                                      </a:lnTo>
                                      <a:lnTo>
                                        <a:pt x="2606" y="5740"/>
                                      </a:lnTo>
                                      <a:lnTo>
                                        <a:pt x="2774" y="5835"/>
                                      </a:lnTo>
                                      <a:lnTo>
                                        <a:pt x="2809" y="5865"/>
                                      </a:lnTo>
                                      <a:lnTo>
                                        <a:pt x="2826" y="5908"/>
                                      </a:lnTo>
                                      <a:lnTo>
                                        <a:pt x="2826" y="5951"/>
                                      </a:lnTo>
                                      <a:lnTo>
                                        <a:pt x="2524" y="6110"/>
                                      </a:lnTo>
                                      <a:lnTo>
                                        <a:pt x="2256" y="6235"/>
                                      </a:lnTo>
                                      <a:lnTo>
                                        <a:pt x="2067" y="6226"/>
                                      </a:lnTo>
                                      <a:lnTo>
                                        <a:pt x="1514" y="6024"/>
                                      </a:lnTo>
                                      <a:lnTo>
                                        <a:pt x="1264" y="5865"/>
                                      </a:lnTo>
                                      <a:lnTo>
                                        <a:pt x="1191" y="5943"/>
                                      </a:lnTo>
                                      <a:lnTo>
                                        <a:pt x="1191" y="5981"/>
                                      </a:lnTo>
                                      <a:lnTo>
                                        <a:pt x="1105" y="6089"/>
                                      </a:lnTo>
                                      <a:lnTo>
                                        <a:pt x="975" y="6330"/>
                                      </a:lnTo>
                                      <a:lnTo>
                                        <a:pt x="915" y="6648"/>
                                      </a:lnTo>
                                      <a:lnTo>
                                        <a:pt x="859" y="6880"/>
                                      </a:lnTo>
                                      <a:lnTo>
                                        <a:pt x="889" y="7056"/>
                                      </a:lnTo>
                                      <a:lnTo>
                                        <a:pt x="902" y="7121"/>
                                      </a:lnTo>
                                      <a:lnTo>
                                        <a:pt x="880" y="7185"/>
                                      </a:lnTo>
                                      <a:lnTo>
                                        <a:pt x="755" y="7258"/>
                                      </a:lnTo>
                                      <a:lnTo>
                                        <a:pt x="669" y="7353"/>
                                      </a:lnTo>
                                      <a:lnTo>
                                        <a:pt x="734" y="7452"/>
                                      </a:lnTo>
                                      <a:lnTo>
                                        <a:pt x="721" y="7525"/>
                                      </a:lnTo>
                                      <a:lnTo>
                                        <a:pt x="552" y="7555"/>
                                      </a:lnTo>
                                      <a:lnTo>
                                        <a:pt x="108" y="7534"/>
                                      </a:lnTo>
                                      <a:lnTo>
                                        <a:pt x="173" y="7387"/>
                                      </a:lnTo>
                                      <a:lnTo>
                                        <a:pt x="276" y="7250"/>
                                      </a:lnTo>
                                      <a:lnTo>
                                        <a:pt x="319" y="7237"/>
                                      </a:lnTo>
                                      <a:lnTo>
                                        <a:pt x="531" y="6975"/>
                                      </a:lnTo>
                                      <a:lnTo>
                                        <a:pt x="764" y="6256"/>
                                      </a:lnTo>
                                      <a:lnTo>
                                        <a:pt x="815" y="5943"/>
                                      </a:lnTo>
                                      <a:lnTo>
                                        <a:pt x="837" y="5857"/>
                                      </a:lnTo>
                                      <a:lnTo>
                                        <a:pt x="828" y="5500"/>
                                      </a:lnTo>
                                      <a:lnTo>
                                        <a:pt x="923" y="5212"/>
                                      </a:lnTo>
                                      <a:lnTo>
                                        <a:pt x="962" y="4704"/>
                                      </a:lnTo>
                                      <a:lnTo>
                                        <a:pt x="988" y="4592"/>
                                      </a:lnTo>
                                      <a:lnTo>
                                        <a:pt x="988" y="4545"/>
                                      </a:lnTo>
                                      <a:lnTo>
                                        <a:pt x="867" y="4369"/>
                                      </a:lnTo>
                                      <a:lnTo>
                                        <a:pt x="859" y="4377"/>
                                      </a:lnTo>
                                      <a:lnTo>
                                        <a:pt x="859" y="4399"/>
                                      </a:lnTo>
                                      <a:lnTo>
                                        <a:pt x="828" y="4412"/>
                                      </a:lnTo>
                                      <a:lnTo>
                                        <a:pt x="734" y="4296"/>
                                      </a:lnTo>
                                      <a:lnTo>
                                        <a:pt x="639" y="4188"/>
                                      </a:lnTo>
                                      <a:lnTo>
                                        <a:pt x="604" y="4223"/>
                                      </a:lnTo>
                                      <a:lnTo>
                                        <a:pt x="531" y="4081"/>
                                      </a:lnTo>
                                      <a:lnTo>
                                        <a:pt x="509" y="3999"/>
                                      </a:lnTo>
                                      <a:lnTo>
                                        <a:pt x="501" y="3986"/>
                                      </a:lnTo>
                                      <a:lnTo>
                                        <a:pt x="470" y="4051"/>
                                      </a:lnTo>
                                      <a:lnTo>
                                        <a:pt x="470" y="4063"/>
                                      </a:lnTo>
                                      <a:lnTo>
                                        <a:pt x="444" y="4063"/>
                                      </a:lnTo>
                                      <a:lnTo>
                                        <a:pt x="384" y="3797"/>
                                      </a:lnTo>
                                      <a:lnTo>
                                        <a:pt x="362" y="3818"/>
                                      </a:lnTo>
                                      <a:lnTo>
                                        <a:pt x="350" y="3818"/>
                                      </a:lnTo>
                                      <a:lnTo>
                                        <a:pt x="298" y="3535"/>
                                      </a:lnTo>
                                      <a:lnTo>
                                        <a:pt x="255" y="3535"/>
                                      </a:lnTo>
                                      <a:lnTo>
                                        <a:pt x="224" y="3375"/>
                                      </a:lnTo>
                                      <a:lnTo>
                                        <a:pt x="224" y="3354"/>
                                      </a:lnTo>
                                      <a:lnTo>
                                        <a:pt x="173" y="3354"/>
                                      </a:lnTo>
                                      <a:lnTo>
                                        <a:pt x="138" y="3070"/>
                                      </a:lnTo>
                                      <a:lnTo>
                                        <a:pt x="138" y="2890"/>
                                      </a:lnTo>
                                      <a:lnTo>
                                        <a:pt x="173" y="2773"/>
                                      </a:lnTo>
                                      <a:lnTo>
                                        <a:pt x="173" y="2765"/>
                                      </a:lnTo>
                                      <a:lnTo>
                                        <a:pt x="121" y="2765"/>
                                      </a:lnTo>
                                      <a:lnTo>
                                        <a:pt x="181" y="2460"/>
                                      </a:lnTo>
                                      <a:lnTo>
                                        <a:pt x="121" y="2468"/>
                                      </a:lnTo>
                                      <a:lnTo>
                                        <a:pt x="194" y="2193"/>
                                      </a:lnTo>
                                      <a:lnTo>
                                        <a:pt x="289" y="1815"/>
                                      </a:lnTo>
                                      <a:lnTo>
                                        <a:pt x="224" y="1815"/>
                                      </a:lnTo>
                                      <a:lnTo>
                                        <a:pt x="311" y="1591"/>
                                      </a:lnTo>
                                      <a:lnTo>
                                        <a:pt x="216" y="1625"/>
                                      </a:lnTo>
                                      <a:lnTo>
                                        <a:pt x="289" y="1466"/>
                                      </a:lnTo>
                                      <a:lnTo>
                                        <a:pt x="350" y="1385"/>
                                      </a:lnTo>
                                      <a:lnTo>
                                        <a:pt x="350" y="1372"/>
                                      </a:lnTo>
                                      <a:lnTo>
                                        <a:pt x="311" y="1372"/>
                                      </a:lnTo>
                                      <a:lnTo>
                                        <a:pt x="289" y="1393"/>
                                      </a:lnTo>
                                      <a:lnTo>
                                        <a:pt x="276" y="1385"/>
                                      </a:lnTo>
                                      <a:lnTo>
                                        <a:pt x="268" y="1385"/>
                                      </a:lnTo>
                                      <a:lnTo>
                                        <a:pt x="328" y="1307"/>
                                      </a:lnTo>
                                      <a:lnTo>
                                        <a:pt x="639" y="1023"/>
                                      </a:lnTo>
                                      <a:lnTo>
                                        <a:pt x="677" y="937"/>
                                      </a:lnTo>
                                      <a:lnTo>
                                        <a:pt x="690" y="929"/>
                                      </a:lnTo>
                                      <a:lnTo>
                                        <a:pt x="583" y="873"/>
                                      </a:lnTo>
                                      <a:lnTo>
                                        <a:pt x="470" y="856"/>
                                      </a:lnTo>
                                      <a:lnTo>
                                        <a:pt x="371" y="834"/>
                                      </a:lnTo>
                                      <a:lnTo>
                                        <a:pt x="216" y="800"/>
                                      </a:lnTo>
                                      <a:lnTo>
                                        <a:pt x="138" y="697"/>
                                      </a:lnTo>
                                      <a:lnTo>
                                        <a:pt x="73" y="697"/>
                                      </a:lnTo>
                                      <a:lnTo>
                                        <a:pt x="0" y="645"/>
                                      </a:lnTo>
                                      <a:lnTo>
                                        <a:pt x="0" y="507"/>
                                      </a:lnTo>
                                      <a:lnTo>
                                        <a:pt x="276" y="254"/>
                                      </a:lnTo>
                                      <a:lnTo>
                                        <a:pt x="531" y="224"/>
                                      </a:lnTo>
                                      <a:lnTo>
                                        <a:pt x="902" y="52"/>
                                      </a:lnTo>
                                      <a:lnTo>
                                        <a:pt x="1122" y="0"/>
                                      </a:lnTo>
                                      <a:lnTo>
                                        <a:pt x="1432" y="21"/>
                                      </a:lnTo>
                                      <a:lnTo>
                                        <a:pt x="1709" y="155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000000"/>
                                </a:solid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grpSp>
                              <p:nvGrpSpPr>
                                <p:cNvPr id="248" name=""/>
                                <p:cNvGrpSpPr/>
                                <p:nvPr/>
                              </p:nvGrpSpPr>
                              <p:grpSpPr>
                                <a:xfrm>
                                  <a:off x="2670480" y="2003760"/>
                                  <a:ext cx="444600" cy="678960"/>
                                  <a:chOff x="2670480" y="2003760"/>
                                  <a:chExt cx="444600" cy="678960"/>
                                </a:xfrm>
                              </p:grpSpPr>
                              <p:sp>
                                <p:nvSpPr>
                                  <p:cNvPr id="249" name=""/>
                                  <p:cNvSpPr/>
                                  <p:nvPr/>
                                </p:nvSpPr>
                                <p:spPr>
                                  <a:xfrm rot="21419400">
                                    <a:off x="2680920" y="2012760"/>
                                    <a:ext cx="356040" cy="416520"/>
                                  </a:xfrm>
                                  <a:custGeom>
                                    <a:avLst/>
                                    <a:gdLst/>
                                    <a:ahLst/>
                                    <a:rect l="l" t="t" r="r" b="b"/>
                                    <a:pathLst>
                                      <a:path w="3473" h="4305">
                                        <a:moveTo>
                                          <a:pt x="1665" y="0"/>
                                        </a:moveTo>
                                        <a:lnTo>
                                          <a:pt x="1665" y="82"/>
                                        </a:lnTo>
                                        <a:lnTo>
                                          <a:pt x="1626" y="104"/>
                                        </a:lnTo>
                                        <a:lnTo>
                                          <a:pt x="1622" y="112"/>
                                        </a:lnTo>
                                        <a:lnTo>
                                          <a:pt x="1618" y="129"/>
                                        </a:lnTo>
                                        <a:lnTo>
                                          <a:pt x="1605" y="142"/>
                                        </a:lnTo>
                                        <a:lnTo>
                                          <a:pt x="1596" y="159"/>
                                        </a:lnTo>
                                        <a:lnTo>
                                          <a:pt x="1583" y="177"/>
                                        </a:lnTo>
                                        <a:lnTo>
                                          <a:pt x="1574" y="190"/>
                                        </a:lnTo>
                                        <a:lnTo>
                                          <a:pt x="1566" y="202"/>
                                        </a:lnTo>
                                        <a:lnTo>
                                          <a:pt x="1566" y="202"/>
                                        </a:lnTo>
                                        <a:lnTo>
                                          <a:pt x="1544" y="202"/>
                                        </a:lnTo>
                                        <a:lnTo>
                                          <a:pt x="1544" y="211"/>
                                        </a:lnTo>
                                        <a:lnTo>
                                          <a:pt x="1540" y="224"/>
                                        </a:lnTo>
                                        <a:lnTo>
                                          <a:pt x="1536" y="233"/>
                                        </a:lnTo>
                                        <a:lnTo>
                                          <a:pt x="1531" y="241"/>
                                        </a:lnTo>
                                        <a:lnTo>
                                          <a:pt x="1527" y="250"/>
                                        </a:lnTo>
                                        <a:lnTo>
                                          <a:pt x="1518" y="258"/>
                                        </a:lnTo>
                                        <a:lnTo>
                                          <a:pt x="1510" y="263"/>
                                        </a:lnTo>
                                        <a:lnTo>
                                          <a:pt x="1501" y="267"/>
                                        </a:lnTo>
                                        <a:lnTo>
                                          <a:pt x="1501" y="284"/>
                                        </a:lnTo>
                                        <a:lnTo>
                                          <a:pt x="1501" y="306"/>
                                        </a:lnTo>
                                        <a:lnTo>
                                          <a:pt x="1497" y="306"/>
                                        </a:lnTo>
                                        <a:lnTo>
                                          <a:pt x="1492" y="310"/>
                                        </a:lnTo>
                                        <a:lnTo>
                                          <a:pt x="1488" y="314"/>
                                        </a:lnTo>
                                        <a:lnTo>
                                          <a:pt x="1484" y="323"/>
                                        </a:lnTo>
                                        <a:lnTo>
                                          <a:pt x="1475" y="331"/>
                                        </a:lnTo>
                                        <a:lnTo>
                                          <a:pt x="1467" y="340"/>
                                        </a:lnTo>
                                        <a:lnTo>
                                          <a:pt x="1462" y="349"/>
                                        </a:lnTo>
                                        <a:lnTo>
                                          <a:pt x="1454" y="357"/>
                                        </a:lnTo>
                                        <a:lnTo>
                                          <a:pt x="1410" y="379"/>
                                        </a:lnTo>
                                        <a:lnTo>
                                          <a:pt x="1484" y="293"/>
                                        </a:lnTo>
                                        <a:lnTo>
                                          <a:pt x="1505" y="147"/>
                                        </a:lnTo>
                                        <a:lnTo>
                                          <a:pt x="1609" y="0"/>
                                        </a:lnTo>
                                        <a:lnTo>
                                          <a:pt x="1665" y="0"/>
                                        </a:lnTo>
                                        <a:lnTo>
                                          <a:pt x="1665" y="0"/>
                                        </a:lnTo>
                                        <a:close/>
                                        <a:moveTo>
                                          <a:pt x="1423" y="422"/>
                                        </a:moveTo>
                                        <a:lnTo>
                                          <a:pt x="1423" y="426"/>
                                        </a:lnTo>
                                        <a:lnTo>
                                          <a:pt x="1423" y="426"/>
                                        </a:lnTo>
                                        <a:lnTo>
                                          <a:pt x="1423" y="426"/>
                                        </a:lnTo>
                                        <a:lnTo>
                                          <a:pt x="1423" y="426"/>
                                        </a:lnTo>
                                        <a:lnTo>
                                          <a:pt x="1423" y="426"/>
                                        </a:lnTo>
                                        <a:lnTo>
                                          <a:pt x="1423" y="426"/>
                                        </a:lnTo>
                                        <a:lnTo>
                                          <a:pt x="1423" y="426"/>
                                        </a:lnTo>
                                        <a:lnTo>
                                          <a:pt x="1423" y="426"/>
                                        </a:lnTo>
                                        <a:lnTo>
                                          <a:pt x="1415" y="430"/>
                                        </a:lnTo>
                                        <a:lnTo>
                                          <a:pt x="1406" y="430"/>
                                        </a:lnTo>
                                        <a:lnTo>
                                          <a:pt x="1398" y="435"/>
                                        </a:lnTo>
                                        <a:lnTo>
                                          <a:pt x="1389" y="439"/>
                                        </a:lnTo>
                                        <a:lnTo>
                                          <a:pt x="1385" y="448"/>
                                        </a:lnTo>
                                        <a:lnTo>
                                          <a:pt x="1376" y="452"/>
                                        </a:lnTo>
                                        <a:lnTo>
                                          <a:pt x="1367" y="460"/>
                                        </a:lnTo>
                                        <a:lnTo>
                                          <a:pt x="1359" y="469"/>
                                        </a:lnTo>
                                        <a:lnTo>
                                          <a:pt x="1298" y="469"/>
                                        </a:lnTo>
                                        <a:lnTo>
                                          <a:pt x="1294" y="478"/>
                                        </a:lnTo>
                                        <a:lnTo>
                                          <a:pt x="1285" y="491"/>
                                        </a:lnTo>
                                        <a:lnTo>
                                          <a:pt x="1268" y="503"/>
                                        </a:lnTo>
                                        <a:lnTo>
                                          <a:pt x="1247" y="521"/>
                                        </a:lnTo>
                                        <a:lnTo>
                                          <a:pt x="1229" y="534"/>
                                        </a:lnTo>
                                        <a:lnTo>
                                          <a:pt x="1212" y="551"/>
                                        </a:lnTo>
                                        <a:lnTo>
                                          <a:pt x="1203" y="559"/>
                                        </a:lnTo>
                                        <a:lnTo>
                                          <a:pt x="1199" y="572"/>
                                        </a:lnTo>
                                        <a:lnTo>
                                          <a:pt x="1186" y="572"/>
                                        </a:lnTo>
                                        <a:lnTo>
                                          <a:pt x="1178" y="572"/>
                                        </a:lnTo>
                                        <a:lnTo>
                                          <a:pt x="1165" y="581"/>
                                        </a:lnTo>
                                        <a:lnTo>
                                          <a:pt x="1147" y="585"/>
                                        </a:lnTo>
                                        <a:lnTo>
                                          <a:pt x="1134" y="594"/>
                                        </a:lnTo>
                                        <a:lnTo>
                                          <a:pt x="1126" y="607"/>
                                        </a:lnTo>
                                        <a:lnTo>
                                          <a:pt x="1117" y="615"/>
                                        </a:lnTo>
                                        <a:lnTo>
                                          <a:pt x="1117" y="632"/>
                                        </a:lnTo>
                                        <a:lnTo>
                                          <a:pt x="1126" y="632"/>
                                        </a:lnTo>
                                        <a:lnTo>
                                          <a:pt x="1134" y="628"/>
                                        </a:lnTo>
                                        <a:lnTo>
                                          <a:pt x="1143" y="624"/>
                                        </a:lnTo>
                                        <a:lnTo>
                                          <a:pt x="1156" y="620"/>
                                        </a:lnTo>
                                        <a:lnTo>
                                          <a:pt x="1165" y="611"/>
                                        </a:lnTo>
                                        <a:lnTo>
                                          <a:pt x="1169" y="607"/>
                                        </a:lnTo>
                                        <a:lnTo>
                                          <a:pt x="1173" y="598"/>
                                        </a:lnTo>
                                        <a:lnTo>
                                          <a:pt x="1178" y="589"/>
                                        </a:lnTo>
                                        <a:lnTo>
                                          <a:pt x="1117" y="611"/>
                                        </a:lnTo>
                                        <a:lnTo>
                                          <a:pt x="1044" y="632"/>
                                        </a:lnTo>
                                        <a:lnTo>
                                          <a:pt x="966" y="650"/>
                                        </a:lnTo>
                                        <a:lnTo>
                                          <a:pt x="884" y="667"/>
                                        </a:lnTo>
                                        <a:lnTo>
                                          <a:pt x="806" y="688"/>
                                        </a:lnTo>
                                        <a:lnTo>
                                          <a:pt x="733" y="710"/>
                                        </a:lnTo>
                                        <a:lnTo>
                                          <a:pt x="703" y="723"/>
                                        </a:lnTo>
                                        <a:lnTo>
                                          <a:pt x="673" y="740"/>
                                        </a:lnTo>
                                        <a:lnTo>
                                          <a:pt x="647" y="757"/>
                                        </a:lnTo>
                                        <a:lnTo>
                                          <a:pt x="625" y="774"/>
                                        </a:lnTo>
                                        <a:lnTo>
                                          <a:pt x="634" y="774"/>
                                        </a:lnTo>
                                        <a:lnTo>
                                          <a:pt x="643" y="770"/>
                                        </a:lnTo>
                                        <a:lnTo>
                                          <a:pt x="651" y="766"/>
                                        </a:lnTo>
                                        <a:lnTo>
                                          <a:pt x="655" y="761"/>
                                        </a:lnTo>
                                        <a:lnTo>
                                          <a:pt x="664" y="761"/>
                                        </a:lnTo>
                                        <a:lnTo>
                                          <a:pt x="673" y="757"/>
                                        </a:lnTo>
                                        <a:lnTo>
                                          <a:pt x="681" y="753"/>
                                        </a:lnTo>
                                        <a:lnTo>
                                          <a:pt x="686" y="753"/>
                                        </a:lnTo>
                                        <a:lnTo>
                                          <a:pt x="677" y="774"/>
                                        </a:lnTo>
                                        <a:lnTo>
                                          <a:pt x="664" y="800"/>
                                        </a:lnTo>
                                        <a:lnTo>
                                          <a:pt x="647" y="822"/>
                                        </a:lnTo>
                                        <a:lnTo>
                                          <a:pt x="630" y="843"/>
                                        </a:lnTo>
                                        <a:lnTo>
                                          <a:pt x="612" y="869"/>
                                        </a:lnTo>
                                        <a:lnTo>
                                          <a:pt x="599" y="890"/>
                                        </a:lnTo>
                                        <a:lnTo>
                                          <a:pt x="591" y="912"/>
                                        </a:lnTo>
                                        <a:lnTo>
                                          <a:pt x="586" y="938"/>
                                        </a:lnTo>
                                        <a:lnTo>
                                          <a:pt x="634" y="912"/>
                                        </a:lnTo>
                                        <a:lnTo>
                                          <a:pt x="655" y="908"/>
                                        </a:lnTo>
                                        <a:lnTo>
                                          <a:pt x="660" y="908"/>
                                        </a:lnTo>
                                        <a:lnTo>
                                          <a:pt x="660" y="912"/>
                                        </a:lnTo>
                                        <a:lnTo>
                                          <a:pt x="655" y="921"/>
                                        </a:lnTo>
                                        <a:lnTo>
                                          <a:pt x="651" y="929"/>
                                        </a:lnTo>
                                        <a:lnTo>
                                          <a:pt x="630" y="955"/>
                                        </a:lnTo>
                                        <a:lnTo>
                                          <a:pt x="599" y="985"/>
                                        </a:lnTo>
                                        <a:lnTo>
                                          <a:pt x="569" y="1019"/>
                                        </a:lnTo>
                                        <a:lnTo>
                                          <a:pt x="543" y="1058"/>
                                        </a:lnTo>
                                        <a:lnTo>
                                          <a:pt x="552" y="1058"/>
                                        </a:lnTo>
                                        <a:lnTo>
                                          <a:pt x="565" y="1054"/>
                                        </a:lnTo>
                                        <a:lnTo>
                                          <a:pt x="574" y="1045"/>
                                        </a:lnTo>
                                        <a:lnTo>
                                          <a:pt x="586" y="1037"/>
                                        </a:lnTo>
                                        <a:lnTo>
                                          <a:pt x="604" y="1032"/>
                                        </a:lnTo>
                                        <a:lnTo>
                                          <a:pt x="617" y="1024"/>
                                        </a:lnTo>
                                        <a:lnTo>
                                          <a:pt x="630" y="1019"/>
                                        </a:lnTo>
                                        <a:lnTo>
                                          <a:pt x="647" y="1019"/>
                                        </a:lnTo>
                                        <a:lnTo>
                                          <a:pt x="621" y="1050"/>
                                        </a:lnTo>
                                        <a:lnTo>
                                          <a:pt x="595" y="1101"/>
                                        </a:lnTo>
                                        <a:lnTo>
                                          <a:pt x="569" y="1161"/>
                                        </a:lnTo>
                                        <a:lnTo>
                                          <a:pt x="539" y="1222"/>
                                        </a:lnTo>
                                        <a:lnTo>
                                          <a:pt x="504" y="1282"/>
                                        </a:lnTo>
                                        <a:lnTo>
                                          <a:pt x="466" y="1333"/>
                                        </a:lnTo>
                                        <a:lnTo>
                                          <a:pt x="448" y="1355"/>
                                        </a:lnTo>
                                        <a:lnTo>
                                          <a:pt x="427" y="1372"/>
                                        </a:lnTo>
                                        <a:lnTo>
                                          <a:pt x="405" y="1381"/>
                                        </a:lnTo>
                                        <a:lnTo>
                                          <a:pt x="384" y="1385"/>
                                        </a:lnTo>
                                        <a:lnTo>
                                          <a:pt x="397" y="1376"/>
                                        </a:lnTo>
                                        <a:lnTo>
                                          <a:pt x="414" y="1363"/>
                                        </a:lnTo>
                                        <a:lnTo>
                                          <a:pt x="435" y="1355"/>
                                        </a:lnTo>
                                        <a:lnTo>
                                          <a:pt x="457" y="1346"/>
                                        </a:lnTo>
                                        <a:lnTo>
                                          <a:pt x="483" y="1338"/>
                                        </a:lnTo>
                                        <a:lnTo>
                                          <a:pt x="509" y="1329"/>
                                        </a:lnTo>
                                        <a:lnTo>
                                          <a:pt x="535" y="1325"/>
                                        </a:lnTo>
                                        <a:lnTo>
                                          <a:pt x="565" y="1320"/>
                                        </a:lnTo>
                                        <a:lnTo>
                                          <a:pt x="483" y="1626"/>
                                        </a:lnTo>
                                        <a:lnTo>
                                          <a:pt x="466" y="1634"/>
                                        </a:lnTo>
                                        <a:lnTo>
                                          <a:pt x="448" y="1643"/>
                                        </a:lnTo>
                                        <a:lnTo>
                                          <a:pt x="431" y="1652"/>
                                        </a:lnTo>
                                        <a:lnTo>
                                          <a:pt x="414" y="1660"/>
                                        </a:lnTo>
                                        <a:lnTo>
                                          <a:pt x="397" y="1669"/>
                                        </a:lnTo>
                                        <a:lnTo>
                                          <a:pt x="384" y="1682"/>
                                        </a:lnTo>
                                        <a:lnTo>
                                          <a:pt x="371" y="1695"/>
                                        </a:lnTo>
                                        <a:lnTo>
                                          <a:pt x="362" y="1707"/>
                                        </a:lnTo>
                                        <a:lnTo>
                                          <a:pt x="371" y="1699"/>
                                        </a:lnTo>
                                        <a:lnTo>
                                          <a:pt x="384" y="1690"/>
                                        </a:lnTo>
                                        <a:lnTo>
                                          <a:pt x="397" y="1677"/>
                                        </a:lnTo>
                                        <a:lnTo>
                                          <a:pt x="414" y="1669"/>
                                        </a:lnTo>
                                        <a:lnTo>
                                          <a:pt x="427" y="1656"/>
                                        </a:lnTo>
                                        <a:lnTo>
                                          <a:pt x="440" y="1647"/>
                                        </a:lnTo>
                                        <a:lnTo>
                                          <a:pt x="453" y="1634"/>
                                        </a:lnTo>
                                        <a:lnTo>
                                          <a:pt x="461" y="1626"/>
                                        </a:lnTo>
                                        <a:lnTo>
                                          <a:pt x="448" y="1686"/>
                                        </a:lnTo>
                                        <a:lnTo>
                                          <a:pt x="435" y="1738"/>
                                        </a:lnTo>
                                        <a:lnTo>
                                          <a:pt x="423" y="1785"/>
                                        </a:lnTo>
                                        <a:lnTo>
                                          <a:pt x="405" y="1832"/>
                                        </a:lnTo>
                                        <a:lnTo>
                                          <a:pt x="392" y="1871"/>
                                        </a:lnTo>
                                        <a:lnTo>
                                          <a:pt x="371" y="1910"/>
                                        </a:lnTo>
                                        <a:lnTo>
                                          <a:pt x="349" y="1940"/>
                                        </a:lnTo>
                                        <a:lnTo>
                                          <a:pt x="319" y="1974"/>
                                        </a:lnTo>
                                        <a:lnTo>
                                          <a:pt x="328" y="1970"/>
                                        </a:lnTo>
                                        <a:lnTo>
                                          <a:pt x="332" y="1965"/>
                                        </a:lnTo>
                                        <a:lnTo>
                                          <a:pt x="336" y="1961"/>
                                        </a:lnTo>
                                        <a:lnTo>
                                          <a:pt x="345" y="1953"/>
                                        </a:lnTo>
                                        <a:lnTo>
                                          <a:pt x="349" y="1944"/>
                                        </a:lnTo>
                                        <a:lnTo>
                                          <a:pt x="358" y="1940"/>
                                        </a:lnTo>
                                        <a:lnTo>
                                          <a:pt x="366" y="1935"/>
                                        </a:lnTo>
                                        <a:lnTo>
                                          <a:pt x="384" y="1931"/>
                                        </a:lnTo>
                                        <a:lnTo>
                                          <a:pt x="371" y="1940"/>
                                        </a:lnTo>
                                        <a:lnTo>
                                          <a:pt x="362" y="1944"/>
                                        </a:lnTo>
                                        <a:lnTo>
                                          <a:pt x="353" y="1957"/>
                                        </a:lnTo>
                                        <a:lnTo>
                                          <a:pt x="345" y="1965"/>
                                        </a:lnTo>
                                        <a:lnTo>
                                          <a:pt x="336" y="1996"/>
                                        </a:lnTo>
                                        <a:lnTo>
                                          <a:pt x="328" y="2030"/>
                                        </a:lnTo>
                                        <a:lnTo>
                                          <a:pt x="323" y="2064"/>
                                        </a:lnTo>
                                        <a:lnTo>
                                          <a:pt x="323" y="2099"/>
                                        </a:lnTo>
                                        <a:lnTo>
                                          <a:pt x="319" y="2129"/>
                                        </a:lnTo>
                                        <a:lnTo>
                                          <a:pt x="319" y="2155"/>
                                        </a:lnTo>
                                        <a:lnTo>
                                          <a:pt x="336" y="2155"/>
                                        </a:lnTo>
                                        <a:lnTo>
                                          <a:pt x="349" y="2150"/>
                                        </a:lnTo>
                                        <a:lnTo>
                                          <a:pt x="366" y="2142"/>
                                        </a:lnTo>
                                        <a:lnTo>
                                          <a:pt x="379" y="2137"/>
                                        </a:lnTo>
                                        <a:lnTo>
                                          <a:pt x="392" y="2129"/>
                                        </a:lnTo>
                                        <a:lnTo>
                                          <a:pt x="405" y="2120"/>
                                        </a:lnTo>
                                        <a:lnTo>
                                          <a:pt x="414" y="2116"/>
                                        </a:lnTo>
                                        <a:lnTo>
                                          <a:pt x="423" y="2116"/>
                                        </a:lnTo>
                                        <a:lnTo>
                                          <a:pt x="414" y="2155"/>
                                        </a:lnTo>
                                        <a:lnTo>
                                          <a:pt x="405" y="2202"/>
                                        </a:lnTo>
                                        <a:lnTo>
                                          <a:pt x="392" y="2249"/>
                                        </a:lnTo>
                                        <a:lnTo>
                                          <a:pt x="384" y="2297"/>
                                        </a:lnTo>
                                        <a:lnTo>
                                          <a:pt x="375" y="2348"/>
                                        </a:lnTo>
                                        <a:lnTo>
                                          <a:pt x="366" y="2395"/>
                                        </a:lnTo>
                                        <a:lnTo>
                                          <a:pt x="362" y="2438"/>
                                        </a:lnTo>
                                        <a:lnTo>
                                          <a:pt x="362" y="2481"/>
                                        </a:lnTo>
                                        <a:lnTo>
                                          <a:pt x="371" y="2473"/>
                                        </a:lnTo>
                                        <a:lnTo>
                                          <a:pt x="379" y="2464"/>
                                        </a:lnTo>
                                        <a:lnTo>
                                          <a:pt x="392" y="2451"/>
                                        </a:lnTo>
                                        <a:lnTo>
                                          <a:pt x="405" y="2443"/>
                                        </a:lnTo>
                                        <a:lnTo>
                                          <a:pt x="418" y="2434"/>
                                        </a:lnTo>
                                        <a:lnTo>
                                          <a:pt x="431" y="2426"/>
                                        </a:lnTo>
                                        <a:lnTo>
                                          <a:pt x="448" y="2421"/>
                                        </a:lnTo>
                                        <a:lnTo>
                                          <a:pt x="461" y="2421"/>
                                        </a:lnTo>
                                        <a:lnTo>
                                          <a:pt x="461" y="2443"/>
                                        </a:lnTo>
                                        <a:lnTo>
                                          <a:pt x="457" y="2473"/>
                                        </a:lnTo>
                                        <a:lnTo>
                                          <a:pt x="448" y="2503"/>
                                        </a:lnTo>
                                        <a:lnTo>
                                          <a:pt x="444" y="2533"/>
                                        </a:lnTo>
                                        <a:lnTo>
                                          <a:pt x="435" y="2563"/>
                                        </a:lnTo>
                                        <a:lnTo>
                                          <a:pt x="427" y="2593"/>
                                        </a:lnTo>
                                        <a:lnTo>
                                          <a:pt x="423" y="2619"/>
                                        </a:lnTo>
                                        <a:lnTo>
                                          <a:pt x="423" y="2645"/>
                                        </a:lnTo>
                                        <a:lnTo>
                                          <a:pt x="431" y="2628"/>
                                        </a:lnTo>
                                        <a:lnTo>
                                          <a:pt x="444" y="2615"/>
                                        </a:lnTo>
                                        <a:lnTo>
                                          <a:pt x="457" y="2598"/>
                                        </a:lnTo>
                                        <a:lnTo>
                                          <a:pt x="474" y="2585"/>
                                        </a:lnTo>
                                        <a:lnTo>
                                          <a:pt x="487" y="2572"/>
                                        </a:lnTo>
                                        <a:lnTo>
                                          <a:pt x="504" y="2559"/>
                                        </a:lnTo>
                                        <a:lnTo>
                                          <a:pt x="513" y="2550"/>
                                        </a:lnTo>
                                        <a:lnTo>
                                          <a:pt x="526" y="2542"/>
                                        </a:lnTo>
                                        <a:lnTo>
                                          <a:pt x="530" y="2580"/>
                                        </a:lnTo>
                                        <a:lnTo>
                                          <a:pt x="535" y="2636"/>
                                        </a:lnTo>
                                        <a:lnTo>
                                          <a:pt x="539" y="2701"/>
                                        </a:lnTo>
                                        <a:lnTo>
                                          <a:pt x="543" y="2770"/>
                                        </a:lnTo>
                                        <a:lnTo>
                                          <a:pt x="543" y="2838"/>
                                        </a:lnTo>
                                        <a:lnTo>
                                          <a:pt x="543" y="2899"/>
                                        </a:lnTo>
                                        <a:lnTo>
                                          <a:pt x="543" y="2942"/>
                                        </a:lnTo>
                                        <a:lnTo>
                                          <a:pt x="543" y="2967"/>
                                        </a:lnTo>
                                        <a:lnTo>
                                          <a:pt x="552" y="2967"/>
                                        </a:lnTo>
                                        <a:lnTo>
                                          <a:pt x="565" y="2963"/>
                                        </a:lnTo>
                                        <a:lnTo>
                                          <a:pt x="574" y="2954"/>
                                        </a:lnTo>
                                        <a:lnTo>
                                          <a:pt x="582" y="2950"/>
                                        </a:lnTo>
                                        <a:lnTo>
                                          <a:pt x="591" y="2942"/>
                                        </a:lnTo>
                                        <a:lnTo>
                                          <a:pt x="599" y="2933"/>
                                        </a:lnTo>
                                        <a:lnTo>
                                          <a:pt x="604" y="2929"/>
                                        </a:lnTo>
                                        <a:lnTo>
                                          <a:pt x="608" y="2929"/>
                                        </a:lnTo>
                                        <a:lnTo>
                                          <a:pt x="625" y="3316"/>
                                        </a:lnTo>
                                        <a:lnTo>
                                          <a:pt x="643" y="3286"/>
                                        </a:lnTo>
                                        <a:lnTo>
                                          <a:pt x="668" y="3255"/>
                                        </a:lnTo>
                                        <a:lnTo>
                                          <a:pt x="694" y="3225"/>
                                        </a:lnTo>
                                        <a:lnTo>
                                          <a:pt x="720" y="3200"/>
                                        </a:lnTo>
                                        <a:lnTo>
                                          <a:pt x="750" y="3174"/>
                                        </a:lnTo>
                                        <a:lnTo>
                                          <a:pt x="776" y="3148"/>
                                        </a:lnTo>
                                        <a:lnTo>
                                          <a:pt x="806" y="3126"/>
                                        </a:lnTo>
                                        <a:lnTo>
                                          <a:pt x="828" y="3114"/>
                                        </a:lnTo>
                                        <a:lnTo>
                                          <a:pt x="837" y="3135"/>
                                        </a:lnTo>
                                        <a:lnTo>
                                          <a:pt x="845" y="3161"/>
                                        </a:lnTo>
                                        <a:lnTo>
                                          <a:pt x="854" y="3187"/>
                                        </a:lnTo>
                                        <a:lnTo>
                                          <a:pt x="858" y="3212"/>
                                        </a:lnTo>
                                        <a:lnTo>
                                          <a:pt x="863" y="3238"/>
                                        </a:lnTo>
                                        <a:lnTo>
                                          <a:pt x="867" y="3264"/>
                                        </a:lnTo>
                                        <a:lnTo>
                                          <a:pt x="871" y="3290"/>
                                        </a:lnTo>
                                        <a:lnTo>
                                          <a:pt x="871" y="3316"/>
                                        </a:lnTo>
                                        <a:lnTo>
                                          <a:pt x="880" y="3311"/>
                                        </a:lnTo>
                                        <a:lnTo>
                                          <a:pt x="893" y="3316"/>
                                        </a:lnTo>
                                        <a:lnTo>
                                          <a:pt x="901" y="3324"/>
                                        </a:lnTo>
                                        <a:lnTo>
                                          <a:pt x="906" y="3337"/>
                                        </a:lnTo>
                                        <a:lnTo>
                                          <a:pt x="919" y="3367"/>
                                        </a:lnTo>
                                        <a:lnTo>
                                          <a:pt x="927" y="3410"/>
                                        </a:lnTo>
                                        <a:lnTo>
                                          <a:pt x="936" y="3453"/>
                                        </a:lnTo>
                                        <a:lnTo>
                                          <a:pt x="940" y="3501"/>
                                        </a:lnTo>
                                        <a:lnTo>
                                          <a:pt x="945" y="3544"/>
                                        </a:lnTo>
                                        <a:lnTo>
                                          <a:pt x="953" y="3578"/>
                                        </a:lnTo>
                                        <a:lnTo>
                                          <a:pt x="962" y="3565"/>
                                        </a:lnTo>
                                        <a:lnTo>
                                          <a:pt x="970" y="3552"/>
                                        </a:lnTo>
                                        <a:lnTo>
                                          <a:pt x="983" y="3539"/>
                                        </a:lnTo>
                                        <a:lnTo>
                                          <a:pt x="996" y="3531"/>
                                        </a:lnTo>
                                        <a:lnTo>
                                          <a:pt x="1009" y="3522"/>
                                        </a:lnTo>
                                        <a:lnTo>
                                          <a:pt x="1022" y="3513"/>
                                        </a:lnTo>
                                        <a:lnTo>
                                          <a:pt x="1039" y="3505"/>
                                        </a:lnTo>
                                        <a:lnTo>
                                          <a:pt x="1052" y="3496"/>
                                        </a:lnTo>
                                        <a:lnTo>
                                          <a:pt x="1057" y="3513"/>
                                        </a:lnTo>
                                        <a:lnTo>
                                          <a:pt x="1061" y="3535"/>
                                        </a:lnTo>
                                        <a:lnTo>
                                          <a:pt x="1065" y="3556"/>
                                        </a:lnTo>
                                        <a:lnTo>
                                          <a:pt x="1074" y="3582"/>
                                        </a:lnTo>
                                        <a:lnTo>
                                          <a:pt x="1083" y="3608"/>
                                        </a:lnTo>
                                        <a:lnTo>
                                          <a:pt x="1087" y="3634"/>
                                        </a:lnTo>
                                        <a:lnTo>
                                          <a:pt x="1096" y="3655"/>
                                        </a:lnTo>
                                        <a:lnTo>
                                          <a:pt x="1096" y="3681"/>
                                        </a:lnTo>
                                        <a:lnTo>
                                          <a:pt x="1096" y="3673"/>
                                        </a:lnTo>
                                        <a:lnTo>
                                          <a:pt x="1100" y="3664"/>
                                        </a:lnTo>
                                        <a:lnTo>
                                          <a:pt x="1104" y="3660"/>
                                        </a:lnTo>
                                        <a:lnTo>
                                          <a:pt x="1108" y="3651"/>
                                        </a:lnTo>
                                        <a:lnTo>
                                          <a:pt x="1113" y="3647"/>
                                        </a:lnTo>
                                        <a:lnTo>
                                          <a:pt x="1121" y="3642"/>
                                        </a:lnTo>
                                        <a:lnTo>
                                          <a:pt x="1130" y="3642"/>
                                        </a:lnTo>
                                        <a:lnTo>
                                          <a:pt x="1134" y="3638"/>
                                        </a:lnTo>
                                        <a:lnTo>
                                          <a:pt x="1134" y="3703"/>
                                        </a:lnTo>
                                        <a:lnTo>
                                          <a:pt x="1143" y="3698"/>
                                        </a:lnTo>
                                        <a:lnTo>
                                          <a:pt x="1156" y="3694"/>
                                        </a:lnTo>
                                        <a:lnTo>
                                          <a:pt x="1165" y="3690"/>
                                        </a:lnTo>
                                        <a:lnTo>
                                          <a:pt x="1173" y="3681"/>
                                        </a:lnTo>
                                        <a:lnTo>
                                          <a:pt x="1182" y="3673"/>
                                        </a:lnTo>
                                        <a:lnTo>
                                          <a:pt x="1190" y="3668"/>
                                        </a:lnTo>
                                        <a:lnTo>
                                          <a:pt x="1195" y="3664"/>
                                        </a:lnTo>
                                        <a:lnTo>
                                          <a:pt x="1199" y="3660"/>
                                        </a:lnTo>
                                        <a:lnTo>
                                          <a:pt x="1199" y="3668"/>
                                        </a:lnTo>
                                        <a:lnTo>
                                          <a:pt x="1203" y="3681"/>
                                        </a:lnTo>
                                        <a:lnTo>
                                          <a:pt x="1212" y="3694"/>
                                        </a:lnTo>
                                        <a:lnTo>
                                          <a:pt x="1216" y="3711"/>
                                        </a:lnTo>
                                        <a:lnTo>
                                          <a:pt x="1225" y="3724"/>
                                        </a:lnTo>
                                        <a:lnTo>
                                          <a:pt x="1234" y="3741"/>
                                        </a:lnTo>
                                        <a:lnTo>
                                          <a:pt x="1238" y="3754"/>
                                        </a:lnTo>
                                        <a:lnTo>
                                          <a:pt x="1238" y="3763"/>
                                        </a:lnTo>
                                        <a:lnTo>
                                          <a:pt x="1238" y="3754"/>
                                        </a:lnTo>
                                        <a:lnTo>
                                          <a:pt x="1247" y="3746"/>
                                        </a:lnTo>
                                        <a:lnTo>
                                          <a:pt x="1251" y="3733"/>
                                        </a:lnTo>
                                        <a:lnTo>
                                          <a:pt x="1259" y="3720"/>
                                        </a:lnTo>
                                        <a:lnTo>
                                          <a:pt x="1272" y="3711"/>
                                        </a:lnTo>
                                        <a:lnTo>
                                          <a:pt x="1281" y="3698"/>
                                        </a:lnTo>
                                        <a:lnTo>
                                          <a:pt x="1290" y="3690"/>
                                        </a:lnTo>
                                        <a:lnTo>
                                          <a:pt x="1298" y="3681"/>
                                        </a:lnTo>
                                        <a:lnTo>
                                          <a:pt x="1298" y="3690"/>
                                        </a:lnTo>
                                        <a:lnTo>
                                          <a:pt x="1303" y="3694"/>
                                        </a:lnTo>
                                        <a:lnTo>
                                          <a:pt x="1307" y="3703"/>
                                        </a:lnTo>
                                        <a:lnTo>
                                          <a:pt x="1311" y="3711"/>
                                        </a:lnTo>
                                        <a:lnTo>
                                          <a:pt x="1320" y="3720"/>
                                        </a:lnTo>
                                        <a:lnTo>
                                          <a:pt x="1324" y="3728"/>
                                        </a:lnTo>
                                        <a:lnTo>
                                          <a:pt x="1333" y="3733"/>
                                        </a:lnTo>
                                        <a:lnTo>
                                          <a:pt x="1341" y="3741"/>
                                        </a:lnTo>
                                        <a:lnTo>
                                          <a:pt x="1341" y="3763"/>
                                        </a:lnTo>
                                        <a:lnTo>
                                          <a:pt x="1341" y="3784"/>
                                        </a:lnTo>
                                        <a:lnTo>
                                          <a:pt x="1350" y="3767"/>
                                        </a:lnTo>
                                        <a:lnTo>
                                          <a:pt x="1363" y="3750"/>
                                        </a:lnTo>
                                        <a:lnTo>
                                          <a:pt x="1376" y="3737"/>
                                        </a:lnTo>
                                        <a:lnTo>
                                          <a:pt x="1389" y="3724"/>
                                        </a:lnTo>
                                        <a:lnTo>
                                          <a:pt x="1406" y="3711"/>
                                        </a:lnTo>
                                        <a:lnTo>
                                          <a:pt x="1419" y="3698"/>
                                        </a:lnTo>
                                        <a:lnTo>
                                          <a:pt x="1432" y="3690"/>
                                        </a:lnTo>
                                        <a:lnTo>
                                          <a:pt x="1441" y="3681"/>
                                        </a:lnTo>
                                        <a:lnTo>
                                          <a:pt x="1454" y="3690"/>
                                        </a:lnTo>
                                        <a:lnTo>
                                          <a:pt x="1467" y="3698"/>
                                        </a:lnTo>
                                        <a:lnTo>
                                          <a:pt x="1484" y="3711"/>
                                        </a:lnTo>
                                        <a:lnTo>
                                          <a:pt x="1501" y="3724"/>
                                        </a:lnTo>
                                        <a:lnTo>
                                          <a:pt x="1518" y="3737"/>
                                        </a:lnTo>
                                        <a:lnTo>
                                          <a:pt x="1531" y="3750"/>
                                        </a:lnTo>
                                        <a:lnTo>
                                          <a:pt x="1540" y="3767"/>
                                        </a:lnTo>
                                        <a:lnTo>
                                          <a:pt x="1544" y="3784"/>
                                        </a:lnTo>
                                        <a:lnTo>
                                          <a:pt x="1583" y="3741"/>
                                        </a:lnTo>
                                        <a:lnTo>
                                          <a:pt x="1592" y="3750"/>
                                        </a:lnTo>
                                        <a:lnTo>
                                          <a:pt x="1600" y="3763"/>
                                        </a:lnTo>
                                        <a:lnTo>
                                          <a:pt x="1605" y="3780"/>
                                        </a:lnTo>
                                        <a:lnTo>
                                          <a:pt x="1613" y="3793"/>
                                        </a:lnTo>
                                        <a:lnTo>
                                          <a:pt x="1618" y="3814"/>
                                        </a:lnTo>
                                        <a:lnTo>
                                          <a:pt x="1622" y="3832"/>
                                        </a:lnTo>
                                        <a:lnTo>
                                          <a:pt x="1626" y="3849"/>
                                        </a:lnTo>
                                        <a:lnTo>
                                          <a:pt x="1626" y="3862"/>
                                        </a:lnTo>
                                        <a:lnTo>
                                          <a:pt x="1635" y="3849"/>
                                        </a:lnTo>
                                        <a:lnTo>
                                          <a:pt x="1643" y="3832"/>
                                        </a:lnTo>
                                        <a:lnTo>
                                          <a:pt x="1656" y="3819"/>
                                        </a:lnTo>
                                        <a:lnTo>
                                          <a:pt x="1669" y="3806"/>
                                        </a:lnTo>
                                        <a:lnTo>
                                          <a:pt x="1682" y="3797"/>
                                        </a:lnTo>
                                        <a:lnTo>
                                          <a:pt x="1695" y="3789"/>
                                        </a:lnTo>
                                        <a:lnTo>
                                          <a:pt x="1712" y="3784"/>
                                        </a:lnTo>
                                        <a:lnTo>
                                          <a:pt x="1725" y="3784"/>
                                        </a:lnTo>
                                        <a:lnTo>
                                          <a:pt x="1734" y="3793"/>
                                        </a:lnTo>
                                        <a:lnTo>
                                          <a:pt x="1747" y="3806"/>
                                        </a:lnTo>
                                        <a:lnTo>
                                          <a:pt x="1756" y="3823"/>
                                        </a:lnTo>
                                        <a:lnTo>
                                          <a:pt x="1769" y="3840"/>
                                        </a:lnTo>
                                        <a:lnTo>
                                          <a:pt x="1782" y="3857"/>
                                        </a:lnTo>
                                        <a:lnTo>
                                          <a:pt x="1790" y="3870"/>
                                        </a:lnTo>
                                        <a:lnTo>
                                          <a:pt x="1799" y="3879"/>
                                        </a:lnTo>
                                        <a:lnTo>
                                          <a:pt x="1807" y="3883"/>
                                        </a:lnTo>
                                        <a:lnTo>
                                          <a:pt x="1812" y="3883"/>
                                        </a:lnTo>
                                        <a:lnTo>
                                          <a:pt x="1812" y="3883"/>
                                        </a:lnTo>
                                        <a:lnTo>
                                          <a:pt x="1816" y="3883"/>
                                        </a:lnTo>
                                        <a:lnTo>
                                          <a:pt x="1816" y="3883"/>
                                        </a:lnTo>
                                        <a:lnTo>
                                          <a:pt x="1820" y="3879"/>
                                        </a:lnTo>
                                        <a:lnTo>
                                          <a:pt x="1825" y="3879"/>
                                        </a:lnTo>
                                        <a:lnTo>
                                          <a:pt x="1825" y="3875"/>
                                        </a:lnTo>
                                        <a:lnTo>
                                          <a:pt x="1829" y="3875"/>
                                        </a:lnTo>
                                        <a:lnTo>
                                          <a:pt x="1812" y="3892"/>
                                        </a:lnTo>
                                        <a:lnTo>
                                          <a:pt x="1777" y="3870"/>
                                        </a:lnTo>
                                        <a:lnTo>
                                          <a:pt x="1760" y="3849"/>
                                        </a:lnTo>
                                        <a:lnTo>
                                          <a:pt x="1674" y="3965"/>
                                        </a:lnTo>
                                        <a:lnTo>
                                          <a:pt x="1665" y="3986"/>
                                        </a:lnTo>
                                        <a:lnTo>
                                          <a:pt x="1643" y="4008"/>
                                        </a:lnTo>
                                        <a:lnTo>
                                          <a:pt x="1523" y="3943"/>
                                        </a:lnTo>
                                        <a:lnTo>
                                          <a:pt x="1536" y="3892"/>
                                        </a:lnTo>
                                        <a:lnTo>
                                          <a:pt x="1536" y="3862"/>
                                        </a:lnTo>
                                        <a:lnTo>
                                          <a:pt x="1505" y="3832"/>
                                        </a:lnTo>
                                        <a:lnTo>
                                          <a:pt x="1346" y="3986"/>
                                        </a:lnTo>
                                        <a:lnTo>
                                          <a:pt x="1281" y="4124"/>
                                        </a:lnTo>
                                        <a:lnTo>
                                          <a:pt x="1221" y="4133"/>
                                        </a:lnTo>
                                        <a:lnTo>
                                          <a:pt x="1113" y="3986"/>
                                        </a:lnTo>
                                        <a:lnTo>
                                          <a:pt x="1078" y="3986"/>
                                        </a:lnTo>
                                        <a:lnTo>
                                          <a:pt x="1078" y="4085"/>
                                        </a:lnTo>
                                        <a:lnTo>
                                          <a:pt x="996" y="3986"/>
                                        </a:lnTo>
                                        <a:lnTo>
                                          <a:pt x="983" y="3956"/>
                                        </a:lnTo>
                                        <a:lnTo>
                                          <a:pt x="962" y="3935"/>
                                        </a:lnTo>
                                        <a:lnTo>
                                          <a:pt x="923" y="3978"/>
                                        </a:lnTo>
                                        <a:lnTo>
                                          <a:pt x="880" y="3870"/>
                                        </a:lnTo>
                                        <a:lnTo>
                                          <a:pt x="858" y="3849"/>
                                        </a:lnTo>
                                        <a:lnTo>
                                          <a:pt x="837" y="3862"/>
                                        </a:lnTo>
                                        <a:lnTo>
                                          <a:pt x="815" y="3883"/>
                                        </a:lnTo>
                                        <a:lnTo>
                                          <a:pt x="815" y="3965"/>
                                        </a:lnTo>
                                        <a:lnTo>
                                          <a:pt x="772" y="3849"/>
                                        </a:lnTo>
                                        <a:lnTo>
                                          <a:pt x="763" y="3767"/>
                                        </a:lnTo>
                                        <a:lnTo>
                                          <a:pt x="742" y="3754"/>
                                        </a:lnTo>
                                        <a:lnTo>
                                          <a:pt x="668" y="3789"/>
                                        </a:lnTo>
                                        <a:lnTo>
                                          <a:pt x="561" y="3673"/>
                                        </a:lnTo>
                                        <a:lnTo>
                                          <a:pt x="530" y="3673"/>
                                        </a:lnTo>
                                        <a:lnTo>
                                          <a:pt x="444" y="3565"/>
                                        </a:lnTo>
                                        <a:lnTo>
                                          <a:pt x="414" y="3565"/>
                                        </a:lnTo>
                                        <a:lnTo>
                                          <a:pt x="341" y="3354"/>
                                        </a:lnTo>
                                        <a:lnTo>
                                          <a:pt x="310" y="3354"/>
                                        </a:lnTo>
                                        <a:lnTo>
                                          <a:pt x="284" y="3376"/>
                                        </a:lnTo>
                                        <a:lnTo>
                                          <a:pt x="284" y="3440"/>
                                        </a:lnTo>
                                        <a:lnTo>
                                          <a:pt x="246" y="3122"/>
                                        </a:lnTo>
                                        <a:lnTo>
                                          <a:pt x="233" y="3114"/>
                                        </a:lnTo>
                                        <a:lnTo>
                                          <a:pt x="211" y="3114"/>
                                        </a:lnTo>
                                        <a:lnTo>
                                          <a:pt x="190" y="3131"/>
                                        </a:lnTo>
                                        <a:lnTo>
                                          <a:pt x="190" y="3165"/>
                                        </a:lnTo>
                                        <a:lnTo>
                                          <a:pt x="168" y="2911"/>
                                        </a:lnTo>
                                        <a:lnTo>
                                          <a:pt x="168" y="2825"/>
                                        </a:lnTo>
                                        <a:lnTo>
                                          <a:pt x="159" y="2817"/>
                                        </a:lnTo>
                                        <a:lnTo>
                                          <a:pt x="138" y="2817"/>
                                        </a:lnTo>
                                        <a:lnTo>
                                          <a:pt x="108" y="2868"/>
                                        </a:lnTo>
                                        <a:lnTo>
                                          <a:pt x="116" y="2658"/>
                                        </a:lnTo>
                                        <a:lnTo>
                                          <a:pt x="95" y="2636"/>
                                        </a:lnTo>
                                        <a:lnTo>
                                          <a:pt x="73" y="2636"/>
                                        </a:lnTo>
                                        <a:lnTo>
                                          <a:pt x="34" y="2731"/>
                                        </a:lnTo>
                                        <a:lnTo>
                                          <a:pt x="43" y="2490"/>
                                        </a:lnTo>
                                        <a:lnTo>
                                          <a:pt x="56" y="2469"/>
                                        </a:lnTo>
                                        <a:lnTo>
                                          <a:pt x="56" y="2434"/>
                                        </a:lnTo>
                                        <a:lnTo>
                                          <a:pt x="13" y="2404"/>
                                        </a:lnTo>
                                        <a:lnTo>
                                          <a:pt x="86" y="2129"/>
                                        </a:lnTo>
                                        <a:lnTo>
                                          <a:pt x="86" y="2112"/>
                                        </a:lnTo>
                                        <a:lnTo>
                                          <a:pt x="64" y="2086"/>
                                        </a:lnTo>
                                        <a:lnTo>
                                          <a:pt x="43" y="2086"/>
                                        </a:lnTo>
                                        <a:lnTo>
                                          <a:pt x="0" y="2159"/>
                                        </a:lnTo>
                                        <a:lnTo>
                                          <a:pt x="108" y="1815"/>
                                        </a:lnTo>
                                        <a:lnTo>
                                          <a:pt x="73" y="1781"/>
                                        </a:lnTo>
                                        <a:lnTo>
                                          <a:pt x="0" y="1875"/>
                                        </a:lnTo>
                                        <a:lnTo>
                                          <a:pt x="95" y="1634"/>
                                        </a:lnTo>
                                        <a:lnTo>
                                          <a:pt x="181" y="1497"/>
                                        </a:lnTo>
                                        <a:lnTo>
                                          <a:pt x="181" y="1467"/>
                                        </a:lnTo>
                                        <a:lnTo>
                                          <a:pt x="168" y="1454"/>
                                        </a:lnTo>
                                        <a:lnTo>
                                          <a:pt x="138" y="1454"/>
                                        </a:lnTo>
                                        <a:lnTo>
                                          <a:pt x="95" y="1518"/>
                                        </a:lnTo>
                                        <a:lnTo>
                                          <a:pt x="211" y="1170"/>
                                        </a:lnTo>
                                        <a:lnTo>
                                          <a:pt x="202" y="1161"/>
                                        </a:lnTo>
                                        <a:lnTo>
                                          <a:pt x="129" y="1213"/>
                                        </a:lnTo>
                                        <a:lnTo>
                                          <a:pt x="224" y="1024"/>
                                        </a:lnTo>
                                        <a:lnTo>
                                          <a:pt x="224" y="1002"/>
                                        </a:lnTo>
                                        <a:lnTo>
                                          <a:pt x="202" y="981"/>
                                        </a:lnTo>
                                        <a:lnTo>
                                          <a:pt x="116" y="1045"/>
                                        </a:lnTo>
                                        <a:lnTo>
                                          <a:pt x="246" y="852"/>
                                        </a:lnTo>
                                        <a:lnTo>
                                          <a:pt x="284" y="809"/>
                                        </a:lnTo>
                                        <a:lnTo>
                                          <a:pt x="263" y="749"/>
                                        </a:lnTo>
                                        <a:lnTo>
                                          <a:pt x="530" y="482"/>
                                        </a:lnTo>
                                        <a:lnTo>
                                          <a:pt x="561" y="443"/>
                                        </a:lnTo>
                                        <a:lnTo>
                                          <a:pt x="772" y="473"/>
                                        </a:lnTo>
                                        <a:lnTo>
                                          <a:pt x="910" y="508"/>
                                        </a:lnTo>
                                        <a:lnTo>
                                          <a:pt x="1294" y="430"/>
                                        </a:lnTo>
                                        <a:lnTo>
                                          <a:pt x="1367" y="400"/>
                                        </a:lnTo>
                                        <a:lnTo>
                                          <a:pt x="1398" y="430"/>
                                        </a:lnTo>
                                        <a:lnTo>
                                          <a:pt x="1423" y="422"/>
                                        </a:lnTo>
                                        <a:close/>
                                        <a:moveTo>
                                          <a:pt x="1833" y="3870"/>
                                        </a:moveTo>
                                        <a:lnTo>
                                          <a:pt x="1846" y="3862"/>
                                        </a:lnTo>
                                        <a:lnTo>
                                          <a:pt x="1859" y="3849"/>
                                        </a:lnTo>
                                        <a:lnTo>
                                          <a:pt x="1872" y="3836"/>
                                        </a:lnTo>
                                        <a:lnTo>
                                          <a:pt x="1885" y="3823"/>
                                        </a:lnTo>
                                        <a:lnTo>
                                          <a:pt x="1894" y="3810"/>
                                        </a:lnTo>
                                        <a:lnTo>
                                          <a:pt x="1902" y="3802"/>
                                        </a:lnTo>
                                        <a:lnTo>
                                          <a:pt x="1911" y="3789"/>
                                        </a:lnTo>
                                        <a:lnTo>
                                          <a:pt x="1911" y="3784"/>
                                        </a:lnTo>
                                        <a:lnTo>
                                          <a:pt x="1989" y="3879"/>
                                        </a:lnTo>
                                        <a:lnTo>
                                          <a:pt x="1980" y="3905"/>
                                        </a:lnTo>
                                        <a:lnTo>
                                          <a:pt x="1894" y="3965"/>
                                        </a:lnTo>
                                        <a:lnTo>
                                          <a:pt x="1885" y="3978"/>
                                        </a:lnTo>
                                        <a:lnTo>
                                          <a:pt x="1863" y="3905"/>
                                        </a:lnTo>
                                        <a:lnTo>
                                          <a:pt x="1833" y="3870"/>
                                        </a:lnTo>
                                        <a:close/>
                                        <a:moveTo>
                                          <a:pt x="2045" y="3832"/>
                                        </a:moveTo>
                                        <a:lnTo>
                                          <a:pt x="2075" y="3802"/>
                                        </a:lnTo>
                                        <a:lnTo>
                                          <a:pt x="2075" y="3810"/>
                                        </a:lnTo>
                                        <a:lnTo>
                                          <a:pt x="2079" y="3823"/>
                                        </a:lnTo>
                                        <a:lnTo>
                                          <a:pt x="2088" y="3836"/>
                                        </a:lnTo>
                                        <a:lnTo>
                                          <a:pt x="2096" y="3849"/>
                                        </a:lnTo>
                                        <a:lnTo>
                                          <a:pt x="2105" y="3862"/>
                                        </a:lnTo>
                                        <a:lnTo>
                                          <a:pt x="2118" y="3875"/>
                                        </a:lnTo>
                                        <a:lnTo>
                                          <a:pt x="2127" y="3883"/>
                                        </a:lnTo>
                                        <a:lnTo>
                                          <a:pt x="2135" y="3883"/>
                                        </a:lnTo>
                                        <a:lnTo>
                                          <a:pt x="2144" y="3883"/>
                                        </a:lnTo>
                                        <a:lnTo>
                                          <a:pt x="2157" y="3875"/>
                                        </a:lnTo>
                                        <a:lnTo>
                                          <a:pt x="2170" y="3866"/>
                                        </a:lnTo>
                                        <a:lnTo>
                                          <a:pt x="2187" y="3853"/>
                                        </a:lnTo>
                                        <a:lnTo>
                                          <a:pt x="2200" y="3840"/>
                                        </a:lnTo>
                                        <a:lnTo>
                                          <a:pt x="2217" y="3832"/>
                                        </a:lnTo>
                                        <a:lnTo>
                                          <a:pt x="2226" y="3827"/>
                                        </a:lnTo>
                                        <a:lnTo>
                                          <a:pt x="2239" y="3823"/>
                                        </a:lnTo>
                                        <a:lnTo>
                                          <a:pt x="2252" y="3832"/>
                                        </a:lnTo>
                                        <a:lnTo>
                                          <a:pt x="2265" y="3840"/>
                                        </a:lnTo>
                                        <a:lnTo>
                                          <a:pt x="2278" y="3853"/>
                                        </a:lnTo>
                                        <a:lnTo>
                                          <a:pt x="2286" y="3862"/>
                                        </a:lnTo>
                                        <a:lnTo>
                                          <a:pt x="2299" y="3870"/>
                                        </a:lnTo>
                                        <a:lnTo>
                                          <a:pt x="2312" y="3879"/>
                                        </a:lnTo>
                                        <a:lnTo>
                                          <a:pt x="2325" y="3883"/>
                                        </a:lnTo>
                                        <a:lnTo>
                                          <a:pt x="2338" y="3883"/>
                                        </a:lnTo>
                                        <a:lnTo>
                                          <a:pt x="2355" y="3866"/>
                                        </a:lnTo>
                                        <a:lnTo>
                                          <a:pt x="2368" y="3857"/>
                                        </a:lnTo>
                                        <a:lnTo>
                                          <a:pt x="2386" y="3853"/>
                                        </a:lnTo>
                                        <a:lnTo>
                                          <a:pt x="2403" y="3857"/>
                                        </a:lnTo>
                                        <a:lnTo>
                                          <a:pt x="2420" y="3862"/>
                                        </a:lnTo>
                                        <a:lnTo>
                                          <a:pt x="2442" y="3875"/>
                                        </a:lnTo>
                                        <a:lnTo>
                                          <a:pt x="2459" y="3888"/>
                                        </a:lnTo>
                                        <a:lnTo>
                                          <a:pt x="2480" y="3905"/>
                                        </a:lnTo>
                                        <a:lnTo>
                                          <a:pt x="2532" y="3875"/>
                                        </a:lnTo>
                                        <a:lnTo>
                                          <a:pt x="2575" y="3849"/>
                                        </a:lnTo>
                                        <a:lnTo>
                                          <a:pt x="2614" y="3832"/>
                                        </a:lnTo>
                                        <a:lnTo>
                                          <a:pt x="2649" y="3819"/>
                                        </a:lnTo>
                                        <a:lnTo>
                                          <a:pt x="2666" y="3814"/>
                                        </a:lnTo>
                                        <a:lnTo>
                                          <a:pt x="2683" y="3814"/>
                                        </a:lnTo>
                                        <a:lnTo>
                                          <a:pt x="2700" y="3819"/>
                                        </a:lnTo>
                                        <a:lnTo>
                                          <a:pt x="2718" y="3823"/>
                                        </a:lnTo>
                                        <a:lnTo>
                                          <a:pt x="2735" y="3832"/>
                                        </a:lnTo>
                                        <a:lnTo>
                                          <a:pt x="2752" y="3845"/>
                                        </a:lnTo>
                                        <a:lnTo>
                                          <a:pt x="2770" y="3862"/>
                                        </a:lnTo>
                                        <a:lnTo>
                                          <a:pt x="2787" y="3883"/>
                                        </a:lnTo>
                                        <a:lnTo>
                                          <a:pt x="2847" y="3681"/>
                                        </a:lnTo>
                                        <a:lnTo>
                                          <a:pt x="2869" y="3681"/>
                                        </a:lnTo>
                                        <a:lnTo>
                                          <a:pt x="2890" y="3681"/>
                                        </a:lnTo>
                                        <a:lnTo>
                                          <a:pt x="2951" y="3741"/>
                                        </a:lnTo>
                                        <a:lnTo>
                                          <a:pt x="2951" y="3733"/>
                                        </a:lnTo>
                                        <a:lnTo>
                                          <a:pt x="2959" y="3724"/>
                                        </a:lnTo>
                                        <a:lnTo>
                                          <a:pt x="2964" y="3711"/>
                                        </a:lnTo>
                                        <a:lnTo>
                                          <a:pt x="2972" y="3703"/>
                                        </a:lnTo>
                                        <a:lnTo>
                                          <a:pt x="2981" y="3690"/>
                                        </a:lnTo>
                                        <a:lnTo>
                                          <a:pt x="2985" y="3677"/>
                                        </a:lnTo>
                                        <a:lnTo>
                                          <a:pt x="2990" y="3668"/>
                                        </a:lnTo>
                                        <a:lnTo>
                                          <a:pt x="2994" y="3660"/>
                                        </a:lnTo>
                                        <a:lnTo>
                                          <a:pt x="2998" y="3660"/>
                                        </a:lnTo>
                                        <a:lnTo>
                                          <a:pt x="3011" y="3664"/>
                                        </a:lnTo>
                                        <a:lnTo>
                                          <a:pt x="3020" y="3668"/>
                                        </a:lnTo>
                                        <a:lnTo>
                                          <a:pt x="3033" y="3673"/>
                                        </a:lnTo>
                                        <a:lnTo>
                                          <a:pt x="3046" y="3681"/>
                                        </a:lnTo>
                                        <a:lnTo>
                                          <a:pt x="3054" y="3685"/>
                                        </a:lnTo>
                                        <a:lnTo>
                                          <a:pt x="3063" y="3694"/>
                                        </a:lnTo>
                                        <a:lnTo>
                                          <a:pt x="3072" y="3703"/>
                                        </a:lnTo>
                                        <a:lnTo>
                                          <a:pt x="3076" y="3694"/>
                                        </a:lnTo>
                                        <a:lnTo>
                                          <a:pt x="3084" y="3681"/>
                                        </a:lnTo>
                                        <a:lnTo>
                                          <a:pt x="3093" y="3673"/>
                                        </a:lnTo>
                                        <a:lnTo>
                                          <a:pt x="3106" y="3664"/>
                                        </a:lnTo>
                                        <a:lnTo>
                                          <a:pt x="3119" y="3655"/>
                                        </a:lnTo>
                                        <a:lnTo>
                                          <a:pt x="3132" y="3647"/>
                                        </a:lnTo>
                                        <a:lnTo>
                                          <a:pt x="3145" y="3642"/>
                                        </a:lnTo>
                                        <a:lnTo>
                                          <a:pt x="3153" y="3638"/>
                                        </a:lnTo>
                                        <a:lnTo>
                                          <a:pt x="3162" y="3642"/>
                                        </a:lnTo>
                                        <a:lnTo>
                                          <a:pt x="3175" y="3642"/>
                                        </a:lnTo>
                                        <a:lnTo>
                                          <a:pt x="3184" y="3647"/>
                                        </a:lnTo>
                                        <a:lnTo>
                                          <a:pt x="3197" y="3651"/>
                                        </a:lnTo>
                                        <a:lnTo>
                                          <a:pt x="3214" y="3655"/>
                                        </a:lnTo>
                                        <a:lnTo>
                                          <a:pt x="3227" y="3655"/>
                                        </a:lnTo>
                                        <a:lnTo>
                                          <a:pt x="3240" y="3660"/>
                                        </a:lnTo>
                                        <a:lnTo>
                                          <a:pt x="3257" y="3660"/>
                                        </a:lnTo>
                                        <a:lnTo>
                                          <a:pt x="3261" y="3647"/>
                                        </a:lnTo>
                                        <a:lnTo>
                                          <a:pt x="3270" y="3638"/>
                                        </a:lnTo>
                                        <a:lnTo>
                                          <a:pt x="3283" y="3630"/>
                                        </a:lnTo>
                                        <a:lnTo>
                                          <a:pt x="3296" y="3621"/>
                                        </a:lnTo>
                                        <a:lnTo>
                                          <a:pt x="3313" y="3612"/>
                                        </a:lnTo>
                                        <a:lnTo>
                                          <a:pt x="3326" y="3604"/>
                                        </a:lnTo>
                                        <a:lnTo>
                                          <a:pt x="3335" y="3591"/>
                                        </a:lnTo>
                                        <a:lnTo>
                                          <a:pt x="3339" y="3578"/>
                                        </a:lnTo>
                                        <a:lnTo>
                                          <a:pt x="3343" y="3582"/>
                                        </a:lnTo>
                                        <a:lnTo>
                                          <a:pt x="3348" y="3587"/>
                                        </a:lnTo>
                                        <a:lnTo>
                                          <a:pt x="3352" y="3591"/>
                                        </a:lnTo>
                                        <a:lnTo>
                                          <a:pt x="3356" y="3599"/>
                                        </a:lnTo>
                                        <a:lnTo>
                                          <a:pt x="3361" y="3604"/>
                                        </a:lnTo>
                                        <a:lnTo>
                                          <a:pt x="3365" y="3612"/>
                                        </a:lnTo>
                                        <a:lnTo>
                                          <a:pt x="3374" y="3617"/>
                                        </a:lnTo>
                                        <a:lnTo>
                                          <a:pt x="3378" y="3625"/>
                                        </a:lnTo>
                                        <a:lnTo>
                                          <a:pt x="3335" y="3617"/>
                                        </a:lnTo>
                                        <a:lnTo>
                                          <a:pt x="3313" y="3642"/>
                                        </a:lnTo>
                                        <a:lnTo>
                                          <a:pt x="3313" y="3660"/>
                                        </a:lnTo>
                                        <a:lnTo>
                                          <a:pt x="3348" y="3690"/>
                                        </a:lnTo>
                                        <a:lnTo>
                                          <a:pt x="3399" y="3690"/>
                                        </a:lnTo>
                                        <a:lnTo>
                                          <a:pt x="3473" y="3819"/>
                                        </a:lnTo>
                                        <a:lnTo>
                                          <a:pt x="3421" y="3810"/>
                                        </a:lnTo>
                                        <a:lnTo>
                                          <a:pt x="3386" y="3892"/>
                                        </a:lnTo>
                                        <a:lnTo>
                                          <a:pt x="3335" y="3905"/>
                                        </a:lnTo>
                                        <a:lnTo>
                                          <a:pt x="3313" y="3956"/>
                                        </a:lnTo>
                                        <a:lnTo>
                                          <a:pt x="3292" y="3935"/>
                                        </a:lnTo>
                                        <a:lnTo>
                                          <a:pt x="3274" y="3935"/>
                                        </a:lnTo>
                                        <a:lnTo>
                                          <a:pt x="3218" y="4021"/>
                                        </a:lnTo>
                                        <a:lnTo>
                                          <a:pt x="3188" y="4029"/>
                                        </a:lnTo>
                                        <a:lnTo>
                                          <a:pt x="3153" y="4029"/>
                                        </a:lnTo>
                                        <a:lnTo>
                                          <a:pt x="3153" y="4021"/>
                                        </a:lnTo>
                                        <a:lnTo>
                                          <a:pt x="3132" y="3999"/>
                                        </a:lnTo>
                                        <a:lnTo>
                                          <a:pt x="3102" y="3999"/>
                                        </a:lnTo>
                                        <a:lnTo>
                                          <a:pt x="3080" y="4038"/>
                                        </a:lnTo>
                                        <a:lnTo>
                                          <a:pt x="3037" y="4072"/>
                                        </a:lnTo>
                                        <a:lnTo>
                                          <a:pt x="2998" y="4051"/>
                                        </a:lnTo>
                                        <a:lnTo>
                                          <a:pt x="2985" y="4038"/>
                                        </a:lnTo>
                                        <a:lnTo>
                                          <a:pt x="2912" y="4115"/>
                                        </a:lnTo>
                                        <a:lnTo>
                                          <a:pt x="2869" y="4115"/>
                                        </a:lnTo>
                                        <a:lnTo>
                                          <a:pt x="2856" y="4085"/>
                                        </a:lnTo>
                                        <a:lnTo>
                                          <a:pt x="2847" y="4072"/>
                                        </a:lnTo>
                                        <a:lnTo>
                                          <a:pt x="2826" y="4072"/>
                                        </a:lnTo>
                                        <a:lnTo>
                                          <a:pt x="2795" y="4124"/>
                                        </a:lnTo>
                                        <a:lnTo>
                                          <a:pt x="2774" y="4146"/>
                                        </a:lnTo>
                                        <a:lnTo>
                                          <a:pt x="2731" y="4115"/>
                                        </a:lnTo>
                                        <a:lnTo>
                                          <a:pt x="2649" y="4167"/>
                                        </a:lnTo>
                                        <a:lnTo>
                                          <a:pt x="2614" y="4158"/>
                                        </a:lnTo>
                                        <a:lnTo>
                                          <a:pt x="2593" y="4158"/>
                                        </a:lnTo>
                                        <a:lnTo>
                                          <a:pt x="2571" y="4197"/>
                                        </a:lnTo>
                                        <a:lnTo>
                                          <a:pt x="2541" y="4232"/>
                                        </a:lnTo>
                                        <a:lnTo>
                                          <a:pt x="2519" y="4197"/>
                                        </a:lnTo>
                                        <a:lnTo>
                                          <a:pt x="2489" y="4167"/>
                                        </a:lnTo>
                                        <a:lnTo>
                                          <a:pt x="2437" y="4219"/>
                                        </a:lnTo>
                                        <a:lnTo>
                                          <a:pt x="2364" y="4219"/>
                                        </a:lnTo>
                                        <a:lnTo>
                                          <a:pt x="2364" y="4210"/>
                                        </a:lnTo>
                                        <a:lnTo>
                                          <a:pt x="2351" y="4197"/>
                                        </a:lnTo>
                                        <a:lnTo>
                                          <a:pt x="2308" y="4262"/>
                                        </a:lnTo>
                                        <a:lnTo>
                                          <a:pt x="2278" y="4253"/>
                                        </a:lnTo>
                                        <a:lnTo>
                                          <a:pt x="2256" y="4283"/>
                                        </a:lnTo>
                                        <a:lnTo>
                                          <a:pt x="2256" y="4292"/>
                                        </a:lnTo>
                                        <a:lnTo>
                                          <a:pt x="2235" y="4292"/>
                                        </a:lnTo>
                                        <a:lnTo>
                                          <a:pt x="2235" y="4283"/>
                                        </a:lnTo>
                                        <a:lnTo>
                                          <a:pt x="2213" y="4262"/>
                                        </a:lnTo>
                                        <a:lnTo>
                                          <a:pt x="2161" y="4283"/>
                                        </a:lnTo>
                                        <a:lnTo>
                                          <a:pt x="2140" y="4283"/>
                                        </a:lnTo>
                                        <a:lnTo>
                                          <a:pt x="2118" y="4262"/>
                                        </a:lnTo>
                                        <a:lnTo>
                                          <a:pt x="2109" y="4275"/>
                                        </a:lnTo>
                                        <a:lnTo>
                                          <a:pt x="2109" y="4305"/>
                                        </a:lnTo>
                                        <a:lnTo>
                                          <a:pt x="2053" y="4262"/>
                                        </a:lnTo>
                                        <a:lnTo>
                                          <a:pt x="2032" y="4292"/>
                                        </a:lnTo>
                                        <a:lnTo>
                                          <a:pt x="1980" y="4275"/>
                                        </a:lnTo>
                                        <a:lnTo>
                                          <a:pt x="1967" y="4262"/>
                                        </a:lnTo>
                                        <a:lnTo>
                                          <a:pt x="2096" y="4103"/>
                                        </a:lnTo>
                                        <a:lnTo>
                                          <a:pt x="2127" y="4038"/>
                                        </a:lnTo>
                                        <a:lnTo>
                                          <a:pt x="2075" y="3956"/>
                                        </a:lnTo>
                                        <a:lnTo>
                                          <a:pt x="2053" y="3840"/>
                                        </a:lnTo>
                                        <a:lnTo>
                                          <a:pt x="2045" y="3832"/>
                                        </a:lnTo>
                                        <a:close/>
                                      </a:path>
                                    </a:pathLst>
                                  </a:custGeom>
                                  <a:blipFill rotWithShape="0">
                                    <a:blip r:embed="rId109"/>
                                    <a:srcRect/>
                                    <a:tile tx="0" ty="0" sx="100000" sy="100000" algn="ctr"/>
                                  </a:blipFill>
                                  <a:ln w="9360">
                                    <a:solidFill>
                                      <a:srgbClr val="c0c0c0"/>
                                    </a:solidFill>
                                    <a:round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50" name=""/>
                                  <p:cNvSpPr/>
                                  <p:nvPr/>
                                </p:nvSpPr>
                                <p:spPr>
                                  <a:xfrm rot="21419400">
                                    <a:off x="2701800" y="2391480"/>
                                    <a:ext cx="122400" cy="288000"/>
                                  </a:xfrm>
                                  <a:custGeom>
                                    <a:avLst/>
                                    <a:gdLst/>
                                    <a:ahLst/>
                                    <a:rect l="l" t="t" r="r" b="b"/>
                                    <a:pathLst>
                                      <a:path w="1195" h="2976">
                                        <a:moveTo>
                                          <a:pt x="940" y="95"/>
                                        </a:moveTo>
                                        <a:lnTo>
                                          <a:pt x="953" y="86"/>
                                        </a:lnTo>
                                        <a:lnTo>
                                          <a:pt x="953" y="77"/>
                                        </a:lnTo>
                                        <a:lnTo>
                                          <a:pt x="1048" y="150"/>
                                        </a:lnTo>
                                        <a:lnTo>
                                          <a:pt x="1083" y="116"/>
                                        </a:lnTo>
                                        <a:lnTo>
                                          <a:pt x="1165" y="181"/>
                                        </a:lnTo>
                                        <a:lnTo>
                                          <a:pt x="1195" y="181"/>
                                        </a:lnTo>
                                        <a:lnTo>
                                          <a:pt x="1156" y="318"/>
                                        </a:lnTo>
                                        <a:lnTo>
                                          <a:pt x="902" y="843"/>
                                        </a:lnTo>
                                        <a:lnTo>
                                          <a:pt x="902" y="1174"/>
                                        </a:lnTo>
                                        <a:lnTo>
                                          <a:pt x="953" y="1277"/>
                                        </a:lnTo>
                                        <a:lnTo>
                                          <a:pt x="988" y="1299"/>
                                        </a:lnTo>
                                        <a:lnTo>
                                          <a:pt x="1005" y="1320"/>
                                        </a:lnTo>
                                        <a:lnTo>
                                          <a:pt x="794" y="1711"/>
                                        </a:lnTo>
                                        <a:lnTo>
                                          <a:pt x="712" y="1944"/>
                                        </a:lnTo>
                                        <a:lnTo>
                                          <a:pt x="612" y="2365"/>
                                        </a:lnTo>
                                        <a:lnTo>
                                          <a:pt x="656" y="2576"/>
                                        </a:lnTo>
                                        <a:lnTo>
                                          <a:pt x="625" y="2640"/>
                                        </a:lnTo>
                                        <a:lnTo>
                                          <a:pt x="496" y="2722"/>
                                        </a:lnTo>
                                        <a:lnTo>
                                          <a:pt x="436" y="2808"/>
                                        </a:lnTo>
                                        <a:lnTo>
                                          <a:pt x="414" y="2859"/>
                                        </a:lnTo>
                                        <a:lnTo>
                                          <a:pt x="474" y="2937"/>
                                        </a:lnTo>
                                        <a:lnTo>
                                          <a:pt x="474" y="2976"/>
                                        </a:lnTo>
                                        <a:lnTo>
                                          <a:pt x="0" y="2976"/>
                                        </a:lnTo>
                                        <a:lnTo>
                                          <a:pt x="0" y="2902"/>
                                        </a:lnTo>
                                        <a:lnTo>
                                          <a:pt x="86" y="2786"/>
                                        </a:lnTo>
                                        <a:lnTo>
                                          <a:pt x="254" y="2640"/>
                                        </a:lnTo>
                                        <a:lnTo>
                                          <a:pt x="371" y="2460"/>
                                        </a:lnTo>
                                        <a:lnTo>
                                          <a:pt x="634" y="1561"/>
                                        </a:lnTo>
                                        <a:lnTo>
                                          <a:pt x="677" y="1234"/>
                                        </a:lnTo>
                                        <a:lnTo>
                                          <a:pt x="656" y="993"/>
                                        </a:lnTo>
                                        <a:lnTo>
                                          <a:pt x="751" y="748"/>
                                        </a:lnTo>
                                        <a:lnTo>
                                          <a:pt x="794" y="224"/>
                                        </a:lnTo>
                                        <a:lnTo>
                                          <a:pt x="837" y="0"/>
                                        </a:lnTo>
                                        <a:lnTo>
                                          <a:pt x="902" y="95"/>
                                        </a:lnTo>
                                        <a:lnTo>
                                          <a:pt x="940" y="95"/>
                                        </a:lnTo>
                                        <a:close/>
                                      </a:path>
                                    </a:pathLst>
                                  </a:custGeom>
                                  <a:blipFill rotWithShape="0">
                                    <a:blip r:embed="rId110"/>
                                    <a:srcRect/>
                                    <a:tile tx="0" ty="0" sx="100000" sy="100000" algn="ctr"/>
                                  </a:blipFill>
                                  <a:ln w="9360">
                                    <a:solidFill>
                                      <a:srgbClr val="c0c0c0"/>
                                    </a:solidFill>
                                    <a:round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251" name=""/>
                                  <p:cNvSpPr/>
                                  <p:nvPr/>
                                </p:nvSpPr>
                                <p:spPr>
                                  <a:xfrm rot="21419400">
                                    <a:off x="2778120" y="2389320"/>
                                    <a:ext cx="40680" cy="96480"/>
                                  </a:xfrm>
                                  <a:custGeom>
                                    <a:avLst/>
                                    <a:gdLst/>
                                    <a:ahLst/>
                                    <a:rect l="l" t="t" r="r" b="b"/>
                                    <a:pathLst>
                                      <a:path w="397" h="998">
                                        <a:moveTo>
                                          <a:pt x="0" y="202"/>
                                        </a:moveTo>
                                        <a:lnTo>
                                          <a:pt x="69" y="202"/>
                                        </a:lnTo>
                                        <a:lnTo>
                                          <a:pt x="69" y="228"/>
                                        </a:lnTo>
                                        <a:lnTo>
                                          <a:pt x="69" y="254"/>
                                        </a:lnTo>
                                        <a:lnTo>
                                          <a:pt x="65" y="284"/>
                                        </a:lnTo>
                                        <a:lnTo>
                                          <a:pt x="60" y="314"/>
                                        </a:lnTo>
                                        <a:lnTo>
                                          <a:pt x="56" y="344"/>
                                        </a:lnTo>
                                        <a:lnTo>
                                          <a:pt x="52" y="374"/>
                                        </a:lnTo>
                                        <a:lnTo>
                                          <a:pt x="52" y="400"/>
                                        </a:lnTo>
                                        <a:lnTo>
                                          <a:pt x="52" y="426"/>
                                        </a:lnTo>
                                        <a:lnTo>
                                          <a:pt x="43" y="426"/>
                                        </a:lnTo>
                                        <a:lnTo>
                                          <a:pt x="39" y="430"/>
                                        </a:lnTo>
                                        <a:lnTo>
                                          <a:pt x="35" y="434"/>
                                        </a:lnTo>
                                        <a:lnTo>
                                          <a:pt x="35" y="439"/>
                                        </a:lnTo>
                                        <a:lnTo>
                                          <a:pt x="30" y="443"/>
                                        </a:lnTo>
                                        <a:lnTo>
                                          <a:pt x="30" y="451"/>
                                        </a:lnTo>
                                        <a:lnTo>
                                          <a:pt x="30" y="456"/>
                                        </a:lnTo>
                                        <a:lnTo>
                                          <a:pt x="30" y="464"/>
                                        </a:lnTo>
                                        <a:lnTo>
                                          <a:pt x="39" y="464"/>
                                        </a:lnTo>
                                        <a:lnTo>
                                          <a:pt x="43" y="469"/>
                                        </a:lnTo>
                                        <a:lnTo>
                                          <a:pt x="52" y="473"/>
                                        </a:lnTo>
                                        <a:lnTo>
                                          <a:pt x="60" y="477"/>
                                        </a:lnTo>
                                        <a:lnTo>
                                          <a:pt x="69" y="477"/>
                                        </a:lnTo>
                                        <a:lnTo>
                                          <a:pt x="78" y="482"/>
                                        </a:lnTo>
                                        <a:lnTo>
                                          <a:pt x="82" y="486"/>
                                        </a:lnTo>
                                        <a:lnTo>
                                          <a:pt x="91" y="486"/>
                                        </a:lnTo>
                                        <a:lnTo>
                                          <a:pt x="112" y="525"/>
                                        </a:lnTo>
                                        <a:lnTo>
                                          <a:pt x="112" y="537"/>
                                        </a:lnTo>
                                        <a:lnTo>
                                          <a:pt x="108" y="559"/>
                                        </a:lnTo>
                                        <a:lnTo>
                                          <a:pt x="104" y="585"/>
                                        </a:lnTo>
                                        <a:lnTo>
                                          <a:pt x="95" y="615"/>
                                        </a:lnTo>
                                        <a:lnTo>
                                          <a:pt x="86" y="645"/>
                                        </a:lnTo>
                                        <a:lnTo>
                                          <a:pt x="78" y="666"/>
                                        </a:lnTo>
                                        <a:lnTo>
                                          <a:pt x="65" y="684"/>
                                        </a:lnTo>
                                        <a:lnTo>
                                          <a:pt x="52" y="688"/>
                                        </a:lnTo>
                                        <a:lnTo>
                                          <a:pt x="52" y="727"/>
                                        </a:lnTo>
                                        <a:lnTo>
                                          <a:pt x="56" y="765"/>
                                        </a:lnTo>
                                        <a:lnTo>
                                          <a:pt x="65" y="804"/>
                                        </a:lnTo>
                                        <a:lnTo>
                                          <a:pt x="69" y="843"/>
                                        </a:lnTo>
                                        <a:lnTo>
                                          <a:pt x="78" y="881"/>
                                        </a:lnTo>
                                        <a:lnTo>
                                          <a:pt x="86" y="916"/>
                                        </a:lnTo>
                                        <a:lnTo>
                                          <a:pt x="91" y="955"/>
                                        </a:lnTo>
                                        <a:lnTo>
                                          <a:pt x="91" y="993"/>
                                        </a:lnTo>
                                        <a:lnTo>
                                          <a:pt x="91" y="993"/>
                                        </a:lnTo>
                                        <a:lnTo>
                                          <a:pt x="95" y="993"/>
                                        </a:lnTo>
                                        <a:lnTo>
                                          <a:pt x="95" y="993"/>
                                        </a:lnTo>
                                        <a:lnTo>
                                          <a:pt x="99" y="993"/>
                                        </a:lnTo>
                                        <a:lnTo>
                                          <a:pt x="99" y="993"/>
                                        </a:lnTo>
                                        <a:lnTo>
                                          <a:pt x="99" y="998"/>
                                        </a:lnTo>
                                        <a:lnTo>
                                          <a:pt x="99" y="998"/>
                                        </a:lnTo>
                                        <a:lnTo>
                                          <a:pt x="104" y="998"/>
                                        </a:lnTo>
                                        <a:lnTo>
                                          <a:pt x="104" y="843"/>
                                        </a:lnTo>
                                        <a:lnTo>
                                          <a:pt x="358" y="318"/>
                                        </a:lnTo>
                                        <a:lnTo>
                                          <a:pt x="397" y="189"/>
                                        </a:lnTo>
                                        <a:lnTo>
                                          <a:pt x="397" y="189"/>
                                        </a:lnTo>
                                        <a:lnTo>
                                          <a:pt x="397" y="189"/>
                                        </a:lnTo>
                                        <a:lnTo>
                                          <a:pt x="397" y="185"/>
                                        </a:lnTo>
                                        <a:lnTo>
                                          <a:pt x="397" y="185"/>
                                        </a:lnTo>
                                        <a:lnTo>
                                          <a:pt x="397" y="185"/>
                                        </a:lnTo>
                                        <a:lnTo>
                                          <a:pt x="397" y="181"/>
                                        </a:lnTo>
                                        <a:lnTo>
                                          <a:pt x="397" y="181"/>
                                        </a:lnTo>
                                        <a:lnTo>
                                          <a:pt x="397" y="181"/>
                                        </a:lnTo>
                                        <a:lnTo>
                                          <a:pt x="367" y="181"/>
                                        </a:lnTo>
                                        <a:lnTo>
                                          <a:pt x="285" y="116"/>
                                        </a:lnTo>
                                        <a:lnTo>
                                          <a:pt x="250" y="150"/>
                                        </a:lnTo>
                                        <a:lnTo>
                                          <a:pt x="155" y="77"/>
                                        </a:lnTo>
                                        <a:lnTo>
                                          <a:pt x="155" y="86"/>
                                        </a:lnTo>
                                        <a:lnTo>
                                          <a:pt x="142" y="95"/>
                                        </a:lnTo>
                                        <a:lnTo>
                                          <a:pt x="104" y="95"/>
                                        </a:lnTo>
                                        <a:lnTo>
                                          <a:pt x="39" y="0"/>
                                        </a:lnTo>
                                        <a:lnTo>
                                          <a:pt x="0" y="202"/>
                                        </a:lnTo>
                                        <a:close/>
                                      </a:path>
                                    </a:pathLst>
                                  </a:custGeom>
                                  <a:blipFill rotWithShape="0">
                                    <a:blip r:embed="rId111"/>
                                    <a:srcRect/>
                                    <a:tile tx="0" ty="0" sx="100000" sy="100000" algn="ctr"/>
                                  </a:blipFill>
                                  <a:ln w="9360">
                                    <a:solidFill>
                                      <a:srgbClr val="c0c0c0"/>
                                    </a:solidFill>
                                    <a:round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46800" bIns="4680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grpSp>
                                <p:nvGrpSpPr>
                                  <p:cNvPr id="25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2725200" y="2016360"/>
                                    <a:ext cx="389880" cy="666000"/>
                                    <a:chOff x="2725200" y="2016360"/>
                                    <a:chExt cx="389880" cy="666000"/>
                                  </a:xfrm>
                                </p:grpSpPr>
                                <p:sp>
                                  <p:nvSpPr>
                                    <p:cNvPr id="253" name=""/>
                                    <p:cNvSpPr/>
                                    <p:nvPr/>
                                  </p:nvSpPr>
                                  <p:spPr>
                                    <a:xfrm rot="21419400">
                                      <a:off x="2725920" y="2076480"/>
                                      <a:ext cx="49680" cy="3456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487" h="357">
                                          <a:moveTo>
                                            <a:pt x="487" y="9"/>
                                          </a:moveTo>
                                          <a:lnTo>
                                            <a:pt x="487" y="30"/>
                                          </a:lnTo>
                                          <a:lnTo>
                                            <a:pt x="233" y="125"/>
                                          </a:lnTo>
                                          <a:lnTo>
                                            <a:pt x="211" y="147"/>
                                          </a:lnTo>
                                          <a:lnTo>
                                            <a:pt x="285" y="155"/>
                                          </a:lnTo>
                                          <a:lnTo>
                                            <a:pt x="293" y="168"/>
                                          </a:lnTo>
                                          <a:lnTo>
                                            <a:pt x="293" y="177"/>
                                          </a:lnTo>
                                          <a:lnTo>
                                            <a:pt x="190" y="207"/>
                                          </a:lnTo>
                                          <a:lnTo>
                                            <a:pt x="168" y="228"/>
                                          </a:lnTo>
                                          <a:lnTo>
                                            <a:pt x="190" y="250"/>
                                          </a:lnTo>
                                          <a:lnTo>
                                            <a:pt x="220" y="228"/>
                                          </a:lnTo>
                                          <a:lnTo>
                                            <a:pt x="233" y="241"/>
                                          </a:lnTo>
                                          <a:lnTo>
                                            <a:pt x="246" y="241"/>
                                          </a:lnTo>
                                          <a:lnTo>
                                            <a:pt x="246" y="250"/>
                                          </a:lnTo>
                                          <a:lnTo>
                                            <a:pt x="0" y="357"/>
                                          </a:lnTo>
                                          <a:lnTo>
                                            <a:pt x="116" y="263"/>
                                          </a:lnTo>
                                          <a:lnTo>
                                            <a:pt x="159" y="190"/>
                                          </a:lnTo>
                                          <a:lnTo>
                                            <a:pt x="146" y="177"/>
                                          </a:lnTo>
                                          <a:lnTo>
                                            <a:pt x="146" y="147"/>
                                          </a:lnTo>
                                          <a:lnTo>
                                            <a:pt x="328" y="73"/>
                                          </a:lnTo>
                                          <a:lnTo>
                                            <a:pt x="328" y="18"/>
                                          </a:lnTo>
                                          <a:lnTo>
                                            <a:pt x="379" y="0"/>
                                          </a:lnTo>
                                          <a:lnTo>
                                            <a:pt x="474" y="0"/>
                                          </a:lnTo>
                                          <a:lnTo>
                                            <a:pt x="487" y="9"/>
                                          </a:lnTo>
                                          <a:close/>
                                        </a:path>
                                      </a:pathLst>
                                    </a:custGeom>
                                    <a:blipFill rotWithShape="0">
                                      <a:blip r:embed="rId112"/>
                                      <a:srcRect/>
                                      <a:tile tx="0" ty="0" sx="100000" sy="100000" algn="ctr"/>
                                    </a:blipFill>
                                    <a:ln w="9360">
                                      <a:solidFill>
                                        <a:srgbClr val="c0c0c0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12240" bIns="-1224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54" name=""/>
                                    <p:cNvSpPr/>
                                    <p:nvPr/>
                                  </p:nvSpPr>
                                  <p:spPr>
                                    <a:xfrm rot="21419400">
                                      <a:off x="2734200" y="2305800"/>
                                      <a:ext cx="10800" cy="4464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108" h="464">
                                          <a:moveTo>
                                            <a:pt x="21" y="224"/>
                                          </a:moveTo>
                                          <a:lnTo>
                                            <a:pt x="21" y="232"/>
                                          </a:lnTo>
                                          <a:lnTo>
                                            <a:pt x="34" y="245"/>
                                          </a:lnTo>
                                          <a:lnTo>
                                            <a:pt x="64" y="151"/>
                                          </a:lnTo>
                                          <a:lnTo>
                                            <a:pt x="73" y="151"/>
                                          </a:lnTo>
                                          <a:lnTo>
                                            <a:pt x="73" y="421"/>
                                          </a:lnTo>
                                          <a:lnTo>
                                            <a:pt x="108" y="452"/>
                                          </a:lnTo>
                                          <a:lnTo>
                                            <a:pt x="95" y="464"/>
                                          </a:lnTo>
                                          <a:lnTo>
                                            <a:pt x="73" y="464"/>
                                          </a:lnTo>
                                          <a:lnTo>
                                            <a:pt x="51" y="413"/>
                                          </a:lnTo>
                                          <a:lnTo>
                                            <a:pt x="43" y="305"/>
                                          </a:lnTo>
                                          <a:lnTo>
                                            <a:pt x="0" y="254"/>
                                          </a:lnTo>
                                          <a:lnTo>
                                            <a:pt x="0" y="65"/>
                                          </a:lnTo>
                                          <a:lnTo>
                                            <a:pt x="34" y="0"/>
                                          </a:lnTo>
                                          <a:lnTo>
                                            <a:pt x="43" y="9"/>
                                          </a:lnTo>
                                          <a:lnTo>
                                            <a:pt x="21" y="224"/>
                                          </a:lnTo>
                                          <a:close/>
                                        </a:path>
                                      </a:pathLst>
                                    </a:custGeom>
                                    <a:blipFill rotWithShape="0">
                                      <a:blip r:embed="rId113"/>
                                      <a:srcRect/>
                                      <a:tile tx="0" ty="0" sx="100000" sy="100000" algn="ctr"/>
                                    </a:blipFill>
                                    <a:ln w="9360">
                                      <a:solidFill>
                                        <a:srgbClr val="c0c0c0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2160" bIns="-216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55" name=""/>
                                    <p:cNvSpPr/>
                                    <p:nvPr/>
                                  </p:nvSpPr>
                                  <p:spPr>
                                    <a:xfrm rot="21419400">
                                      <a:off x="2762280" y="2341800"/>
                                      <a:ext cx="25200" cy="2952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246" h="306">
                                          <a:moveTo>
                                            <a:pt x="65" y="73"/>
                                          </a:moveTo>
                                          <a:lnTo>
                                            <a:pt x="86" y="254"/>
                                          </a:lnTo>
                                          <a:lnTo>
                                            <a:pt x="108" y="276"/>
                                          </a:lnTo>
                                          <a:lnTo>
                                            <a:pt x="151" y="168"/>
                                          </a:lnTo>
                                          <a:lnTo>
                                            <a:pt x="151" y="159"/>
                                          </a:lnTo>
                                          <a:lnTo>
                                            <a:pt x="172" y="159"/>
                                          </a:lnTo>
                                          <a:lnTo>
                                            <a:pt x="224" y="276"/>
                                          </a:lnTo>
                                          <a:lnTo>
                                            <a:pt x="246" y="297"/>
                                          </a:lnTo>
                                          <a:lnTo>
                                            <a:pt x="233" y="306"/>
                                          </a:lnTo>
                                          <a:lnTo>
                                            <a:pt x="159" y="202"/>
                                          </a:lnTo>
                                          <a:lnTo>
                                            <a:pt x="121" y="297"/>
                                          </a:lnTo>
                                          <a:lnTo>
                                            <a:pt x="108" y="306"/>
                                          </a:lnTo>
                                          <a:lnTo>
                                            <a:pt x="56" y="241"/>
                                          </a:lnTo>
                                          <a:lnTo>
                                            <a:pt x="13" y="159"/>
                                          </a:lnTo>
                                          <a:lnTo>
                                            <a:pt x="0" y="0"/>
                                          </a:lnTo>
                                          <a:lnTo>
                                            <a:pt x="56" y="73"/>
                                          </a:lnTo>
                                          <a:lnTo>
                                            <a:pt x="65" y="73"/>
                                          </a:lnTo>
                                          <a:close/>
                                        </a:path>
                                      </a:pathLst>
                                    </a:custGeom>
                                    <a:blipFill rotWithShape="0">
                                      <a:blip r:embed="rId114"/>
                                      <a:srcRect/>
                                      <a:tile tx="0" ty="0" sx="100000" sy="100000" algn="ctr"/>
                                    </a:blipFill>
                                    <a:ln w="9360">
                                      <a:solidFill>
                                        <a:srgbClr val="c0c0c0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17280" bIns="-172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56" name=""/>
                                    <p:cNvSpPr/>
                                    <p:nvPr/>
                                  </p:nvSpPr>
                                  <p:spPr>
                                    <a:xfrm rot="21419400">
                                      <a:off x="2984760" y="2370600"/>
                                      <a:ext cx="35280" cy="1584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345" h="167">
                                          <a:moveTo>
                                            <a:pt x="284" y="73"/>
                                          </a:moveTo>
                                          <a:lnTo>
                                            <a:pt x="336" y="73"/>
                                          </a:lnTo>
                                          <a:lnTo>
                                            <a:pt x="345" y="64"/>
                                          </a:lnTo>
                                          <a:lnTo>
                                            <a:pt x="345" y="86"/>
                                          </a:lnTo>
                                          <a:lnTo>
                                            <a:pt x="315" y="107"/>
                                          </a:lnTo>
                                          <a:lnTo>
                                            <a:pt x="250" y="94"/>
                                          </a:lnTo>
                                          <a:lnTo>
                                            <a:pt x="198" y="150"/>
                                          </a:lnTo>
                                          <a:lnTo>
                                            <a:pt x="146" y="129"/>
                                          </a:lnTo>
                                          <a:lnTo>
                                            <a:pt x="116" y="94"/>
                                          </a:lnTo>
                                          <a:lnTo>
                                            <a:pt x="73" y="150"/>
                                          </a:lnTo>
                                          <a:lnTo>
                                            <a:pt x="51" y="167"/>
                                          </a:lnTo>
                                          <a:lnTo>
                                            <a:pt x="8" y="159"/>
                                          </a:lnTo>
                                          <a:lnTo>
                                            <a:pt x="0" y="94"/>
                                          </a:lnTo>
                                          <a:lnTo>
                                            <a:pt x="0" y="64"/>
                                          </a:lnTo>
                                          <a:lnTo>
                                            <a:pt x="21" y="64"/>
                                          </a:lnTo>
                                          <a:lnTo>
                                            <a:pt x="39" y="137"/>
                                          </a:lnTo>
                                          <a:lnTo>
                                            <a:pt x="103" y="73"/>
                                          </a:lnTo>
                                          <a:lnTo>
                                            <a:pt x="103" y="43"/>
                                          </a:lnTo>
                                          <a:lnTo>
                                            <a:pt x="116" y="34"/>
                                          </a:lnTo>
                                          <a:lnTo>
                                            <a:pt x="190" y="116"/>
                                          </a:lnTo>
                                          <a:lnTo>
                                            <a:pt x="198" y="129"/>
                                          </a:lnTo>
                                          <a:lnTo>
                                            <a:pt x="241" y="86"/>
                                          </a:lnTo>
                                          <a:lnTo>
                                            <a:pt x="220" y="0"/>
                                          </a:lnTo>
                                          <a:lnTo>
                                            <a:pt x="250" y="13"/>
                                          </a:lnTo>
                                          <a:lnTo>
                                            <a:pt x="284" y="73"/>
                                          </a:lnTo>
                                          <a:close/>
                                        </a:path>
                                      </a:pathLst>
                                    </a:custGeom>
                                    <a:blipFill rotWithShape="0">
                                      <a:blip r:embed="rId115"/>
                                      <a:srcRect/>
                                      <a:tile tx="0" ty="0" sx="100000" sy="100000" algn="ctr"/>
                                    </a:blipFill>
                                    <a:ln w="9360">
                                      <a:solidFill>
                                        <a:srgbClr val="c0c0c0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0960" bIns="-3096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57" name=""/>
                                    <p:cNvSpPr/>
                                    <p:nvPr/>
                                  </p:nvSpPr>
                                  <p:spPr>
                                    <a:xfrm rot="21419400">
                                      <a:off x="2942280" y="2389320"/>
                                      <a:ext cx="18000" cy="1224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177" h="129">
                                          <a:moveTo>
                                            <a:pt x="177" y="86"/>
                                          </a:moveTo>
                                          <a:lnTo>
                                            <a:pt x="134" y="95"/>
                                          </a:lnTo>
                                          <a:lnTo>
                                            <a:pt x="103" y="129"/>
                                          </a:lnTo>
                                          <a:lnTo>
                                            <a:pt x="30" y="108"/>
                                          </a:lnTo>
                                          <a:lnTo>
                                            <a:pt x="0" y="56"/>
                                          </a:lnTo>
                                          <a:lnTo>
                                            <a:pt x="0" y="43"/>
                                          </a:lnTo>
                                          <a:lnTo>
                                            <a:pt x="17" y="22"/>
                                          </a:lnTo>
                                          <a:lnTo>
                                            <a:pt x="82" y="108"/>
                                          </a:lnTo>
                                          <a:lnTo>
                                            <a:pt x="103" y="108"/>
                                          </a:lnTo>
                                          <a:lnTo>
                                            <a:pt x="112" y="0"/>
                                          </a:lnTo>
                                          <a:lnTo>
                                            <a:pt x="134" y="0"/>
                                          </a:lnTo>
                                          <a:lnTo>
                                            <a:pt x="177" y="86"/>
                                          </a:lnTo>
                                          <a:close/>
                                        </a:path>
                                      </a:pathLst>
                                    </a:custGeom>
                                    <a:blipFill rotWithShape="0">
                                      <a:blip r:embed="rId116"/>
                                      <a:srcRect/>
                                      <a:tile tx="0" ty="0" sx="100000" sy="100000" algn="ctr"/>
                                    </a:blipFill>
                                    <a:ln w="9360">
                                      <a:solidFill>
                                        <a:srgbClr val="c0c0c0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34560" bIns="-3456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58" name=""/>
                                    <p:cNvSpPr/>
                                    <p:nvPr/>
                                  </p:nvSpPr>
                                  <p:spPr>
                                    <a:xfrm rot="21419400">
                                      <a:off x="2864160" y="2198160"/>
                                      <a:ext cx="120960" cy="4068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1182" h="421">
                                          <a:moveTo>
                                            <a:pt x="121" y="189"/>
                                          </a:moveTo>
                                          <a:lnTo>
                                            <a:pt x="138" y="189"/>
                                          </a:lnTo>
                                          <a:lnTo>
                                            <a:pt x="155" y="180"/>
                                          </a:lnTo>
                                          <a:lnTo>
                                            <a:pt x="177" y="167"/>
                                          </a:lnTo>
                                          <a:lnTo>
                                            <a:pt x="199" y="154"/>
                                          </a:lnTo>
                                          <a:lnTo>
                                            <a:pt x="220" y="137"/>
                                          </a:lnTo>
                                          <a:lnTo>
                                            <a:pt x="242" y="129"/>
                                          </a:lnTo>
                                          <a:lnTo>
                                            <a:pt x="259" y="120"/>
                                          </a:lnTo>
                                          <a:lnTo>
                                            <a:pt x="272" y="116"/>
                                          </a:lnTo>
                                          <a:lnTo>
                                            <a:pt x="276" y="103"/>
                                          </a:lnTo>
                                          <a:lnTo>
                                            <a:pt x="281" y="90"/>
                                          </a:lnTo>
                                          <a:lnTo>
                                            <a:pt x="289" y="81"/>
                                          </a:lnTo>
                                          <a:lnTo>
                                            <a:pt x="298" y="68"/>
                                          </a:lnTo>
                                          <a:lnTo>
                                            <a:pt x="324" y="51"/>
                                          </a:lnTo>
                                          <a:lnTo>
                                            <a:pt x="358" y="38"/>
                                          </a:lnTo>
                                          <a:lnTo>
                                            <a:pt x="401" y="25"/>
                                          </a:lnTo>
                                          <a:lnTo>
                                            <a:pt x="449" y="17"/>
                                          </a:lnTo>
                                          <a:lnTo>
                                            <a:pt x="501" y="8"/>
                                          </a:lnTo>
                                          <a:lnTo>
                                            <a:pt x="557" y="4"/>
                                          </a:lnTo>
                                          <a:lnTo>
                                            <a:pt x="669" y="0"/>
                                          </a:lnTo>
                                          <a:lnTo>
                                            <a:pt x="772" y="0"/>
                                          </a:lnTo>
                                          <a:lnTo>
                                            <a:pt x="816" y="4"/>
                                          </a:lnTo>
                                          <a:lnTo>
                                            <a:pt x="854" y="8"/>
                                          </a:lnTo>
                                          <a:lnTo>
                                            <a:pt x="889" y="17"/>
                                          </a:lnTo>
                                          <a:lnTo>
                                            <a:pt x="910" y="25"/>
                                          </a:lnTo>
                                          <a:lnTo>
                                            <a:pt x="910" y="25"/>
                                          </a:lnTo>
                                          <a:lnTo>
                                            <a:pt x="910" y="30"/>
                                          </a:lnTo>
                                          <a:lnTo>
                                            <a:pt x="910" y="30"/>
                                          </a:lnTo>
                                          <a:lnTo>
                                            <a:pt x="910" y="34"/>
                                          </a:lnTo>
                                          <a:lnTo>
                                            <a:pt x="910" y="34"/>
                                          </a:lnTo>
                                          <a:lnTo>
                                            <a:pt x="910" y="34"/>
                                          </a:lnTo>
                                          <a:lnTo>
                                            <a:pt x="910" y="38"/>
                                          </a:lnTo>
                                          <a:lnTo>
                                            <a:pt x="910" y="38"/>
                                          </a:lnTo>
                                          <a:lnTo>
                                            <a:pt x="928" y="47"/>
                                          </a:lnTo>
                                          <a:lnTo>
                                            <a:pt x="954" y="60"/>
                                          </a:lnTo>
                                          <a:lnTo>
                                            <a:pt x="984" y="77"/>
                                          </a:lnTo>
                                          <a:lnTo>
                                            <a:pt x="1014" y="90"/>
                                          </a:lnTo>
                                          <a:lnTo>
                                            <a:pt x="1044" y="107"/>
                                          </a:lnTo>
                                          <a:lnTo>
                                            <a:pt x="1074" y="120"/>
                                          </a:lnTo>
                                          <a:lnTo>
                                            <a:pt x="1100" y="129"/>
                                          </a:lnTo>
                                          <a:lnTo>
                                            <a:pt x="1122" y="129"/>
                                          </a:lnTo>
                                          <a:lnTo>
                                            <a:pt x="1126" y="137"/>
                                          </a:lnTo>
                                          <a:lnTo>
                                            <a:pt x="1135" y="146"/>
                                          </a:lnTo>
                                          <a:lnTo>
                                            <a:pt x="1143" y="150"/>
                                          </a:lnTo>
                                          <a:lnTo>
                                            <a:pt x="1152" y="159"/>
                                          </a:lnTo>
                                          <a:lnTo>
                                            <a:pt x="1161" y="167"/>
                                          </a:lnTo>
                                          <a:lnTo>
                                            <a:pt x="1169" y="172"/>
                                          </a:lnTo>
                                          <a:lnTo>
                                            <a:pt x="1174" y="176"/>
                                          </a:lnTo>
                                          <a:lnTo>
                                            <a:pt x="1182" y="176"/>
                                          </a:lnTo>
                                          <a:lnTo>
                                            <a:pt x="1182" y="197"/>
                                          </a:lnTo>
                                          <a:lnTo>
                                            <a:pt x="1182" y="219"/>
                                          </a:lnTo>
                                          <a:lnTo>
                                            <a:pt x="1182" y="236"/>
                                          </a:lnTo>
                                          <a:lnTo>
                                            <a:pt x="1182" y="258"/>
                                          </a:lnTo>
                                          <a:lnTo>
                                            <a:pt x="1182" y="279"/>
                                          </a:lnTo>
                                          <a:lnTo>
                                            <a:pt x="1182" y="301"/>
                                          </a:lnTo>
                                          <a:lnTo>
                                            <a:pt x="1182" y="322"/>
                                          </a:lnTo>
                                          <a:lnTo>
                                            <a:pt x="1182" y="339"/>
                                          </a:lnTo>
                                          <a:lnTo>
                                            <a:pt x="1161" y="356"/>
                                          </a:lnTo>
                                          <a:lnTo>
                                            <a:pt x="1139" y="374"/>
                                          </a:lnTo>
                                          <a:lnTo>
                                            <a:pt x="1109" y="382"/>
                                          </a:lnTo>
                                          <a:lnTo>
                                            <a:pt x="1079" y="395"/>
                                          </a:lnTo>
                                          <a:lnTo>
                                            <a:pt x="1005" y="412"/>
                                          </a:lnTo>
                                          <a:lnTo>
                                            <a:pt x="928" y="417"/>
                                          </a:lnTo>
                                          <a:lnTo>
                                            <a:pt x="850" y="421"/>
                                          </a:lnTo>
                                          <a:lnTo>
                                            <a:pt x="772" y="412"/>
                                          </a:lnTo>
                                          <a:lnTo>
                                            <a:pt x="738" y="404"/>
                                          </a:lnTo>
                                          <a:lnTo>
                                            <a:pt x="708" y="395"/>
                                          </a:lnTo>
                                          <a:lnTo>
                                            <a:pt x="677" y="387"/>
                                          </a:lnTo>
                                          <a:lnTo>
                                            <a:pt x="652" y="374"/>
                                          </a:lnTo>
                                          <a:lnTo>
                                            <a:pt x="652" y="369"/>
                                          </a:lnTo>
                                          <a:lnTo>
                                            <a:pt x="652" y="369"/>
                                          </a:lnTo>
                                          <a:lnTo>
                                            <a:pt x="652" y="365"/>
                                          </a:lnTo>
                                          <a:lnTo>
                                            <a:pt x="652" y="365"/>
                                          </a:lnTo>
                                          <a:lnTo>
                                            <a:pt x="652" y="361"/>
                                          </a:lnTo>
                                          <a:lnTo>
                                            <a:pt x="652" y="361"/>
                                          </a:lnTo>
                                          <a:lnTo>
                                            <a:pt x="652" y="356"/>
                                          </a:lnTo>
                                          <a:lnTo>
                                            <a:pt x="652" y="356"/>
                                          </a:lnTo>
                                          <a:lnTo>
                                            <a:pt x="643" y="356"/>
                                          </a:lnTo>
                                          <a:lnTo>
                                            <a:pt x="630" y="356"/>
                                          </a:lnTo>
                                          <a:lnTo>
                                            <a:pt x="617" y="356"/>
                                          </a:lnTo>
                                          <a:lnTo>
                                            <a:pt x="600" y="356"/>
                                          </a:lnTo>
                                          <a:lnTo>
                                            <a:pt x="587" y="361"/>
                                          </a:lnTo>
                                          <a:lnTo>
                                            <a:pt x="574" y="361"/>
                                          </a:lnTo>
                                          <a:lnTo>
                                            <a:pt x="565" y="365"/>
                                          </a:lnTo>
                                          <a:lnTo>
                                            <a:pt x="561" y="374"/>
                                          </a:lnTo>
                                          <a:lnTo>
                                            <a:pt x="501" y="374"/>
                                          </a:lnTo>
                                          <a:lnTo>
                                            <a:pt x="440" y="374"/>
                                          </a:lnTo>
                                          <a:lnTo>
                                            <a:pt x="380" y="374"/>
                                          </a:lnTo>
                                          <a:lnTo>
                                            <a:pt x="319" y="374"/>
                                          </a:lnTo>
                                          <a:lnTo>
                                            <a:pt x="259" y="374"/>
                                          </a:lnTo>
                                          <a:lnTo>
                                            <a:pt x="199" y="374"/>
                                          </a:lnTo>
                                          <a:lnTo>
                                            <a:pt x="138" y="374"/>
                                          </a:lnTo>
                                          <a:lnTo>
                                            <a:pt x="78" y="374"/>
                                          </a:lnTo>
                                          <a:lnTo>
                                            <a:pt x="69" y="369"/>
                                          </a:lnTo>
                                          <a:lnTo>
                                            <a:pt x="65" y="369"/>
                                          </a:lnTo>
                                          <a:lnTo>
                                            <a:pt x="61" y="365"/>
                                          </a:lnTo>
                                          <a:lnTo>
                                            <a:pt x="56" y="365"/>
                                          </a:lnTo>
                                          <a:lnTo>
                                            <a:pt x="48" y="361"/>
                                          </a:lnTo>
                                          <a:lnTo>
                                            <a:pt x="43" y="361"/>
                                          </a:lnTo>
                                          <a:lnTo>
                                            <a:pt x="39" y="356"/>
                                          </a:lnTo>
                                          <a:lnTo>
                                            <a:pt x="30" y="356"/>
                                          </a:lnTo>
                                          <a:lnTo>
                                            <a:pt x="26" y="352"/>
                                          </a:lnTo>
                                          <a:lnTo>
                                            <a:pt x="26" y="348"/>
                                          </a:lnTo>
                                          <a:lnTo>
                                            <a:pt x="22" y="344"/>
                                          </a:lnTo>
                                          <a:lnTo>
                                            <a:pt x="17" y="339"/>
                                          </a:lnTo>
                                          <a:lnTo>
                                            <a:pt x="13" y="339"/>
                                          </a:lnTo>
                                          <a:lnTo>
                                            <a:pt x="9" y="335"/>
                                          </a:lnTo>
                                          <a:lnTo>
                                            <a:pt x="4" y="331"/>
                                          </a:lnTo>
                                          <a:lnTo>
                                            <a:pt x="0" y="326"/>
                                          </a:lnTo>
                                          <a:lnTo>
                                            <a:pt x="0" y="318"/>
                                          </a:lnTo>
                                          <a:lnTo>
                                            <a:pt x="0" y="309"/>
                                          </a:lnTo>
                                          <a:lnTo>
                                            <a:pt x="0" y="305"/>
                                          </a:lnTo>
                                          <a:lnTo>
                                            <a:pt x="0" y="296"/>
                                          </a:lnTo>
                                          <a:lnTo>
                                            <a:pt x="0" y="288"/>
                                          </a:lnTo>
                                          <a:lnTo>
                                            <a:pt x="0" y="279"/>
                                          </a:lnTo>
                                          <a:lnTo>
                                            <a:pt x="0" y="275"/>
                                          </a:lnTo>
                                          <a:lnTo>
                                            <a:pt x="0" y="266"/>
                                          </a:lnTo>
                                          <a:lnTo>
                                            <a:pt x="9" y="258"/>
                                          </a:lnTo>
                                          <a:lnTo>
                                            <a:pt x="13" y="253"/>
                                          </a:lnTo>
                                          <a:lnTo>
                                            <a:pt x="22" y="245"/>
                                          </a:lnTo>
                                          <a:lnTo>
                                            <a:pt x="30" y="232"/>
                                          </a:lnTo>
                                          <a:lnTo>
                                            <a:pt x="35" y="223"/>
                                          </a:lnTo>
                                          <a:lnTo>
                                            <a:pt x="43" y="215"/>
                                          </a:lnTo>
                                          <a:lnTo>
                                            <a:pt x="43" y="202"/>
                                          </a:lnTo>
                                          <a:lnTo>
                                            <a:pt x="48" y="189"/>
                                          </a:lnTo>
                                          <a:lnTo>
                                            <a:pt x="52" y="189"/>
                                          </a:lnTo>
                                          <a:lnTo>
                                            <a:pt x="61" y="180"/>
                                          </a:lnTo>
                                          <a:lnTo>
                                            <a:pt x="73" y="172"/>
                                          </a:lnTo>
                                          <a:lnTo>
                                            <a:pt x="86" y="163"/>
                                          </a:lnTo>
                                          <a:lnTo>
                                            <a:pt x="95" y="159"/>
                                          </a:lnTo>
                                          <a:lnTo>
                                            <a:pt x="108" y="159"/>
                                          </a:lnTo>
                                          <a:lnTo>
                                            <a:pt x="117" y="167"/>
                                          </a:lnTo>
                                          <a:lnTo>
                                            <a:pt x="121" y="189"/>
                                          </a:lnTo>
                                          <a:close/>
                                        </a:path>
                                      </a:pathLst>
                                    </a:custGeom>
                                    <a:blipFill rotWithShape="0">
                                      <a:blip r:embed="rId117"/>
                                      <a:srcRect/>
                                      <a:tile tx="0" ty="0" sx="100000" sy="100000" algn="ctr"/>
                                    </a:blipFill>
                                    <a:ln w="9360">
                                      <a:solidFill>
                                        <a:srgbClr val="c0c0c0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6120" bIns="-612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259" name=""/>
                                    <p:cNvSpPr/>
                                    <p:nvPr/>
                                  </p:nvSpPr>
                                  <p:spPr>
                                    <a:xfrm rot="21419400">
                                      <a:off x="3048120" y="2199240"/>
                                      <a:ext cx="65880" cy="3528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642" h="366">
                                          <a:moveTo>
                                            <a:pt x="21" y="48"/>
                                          </a:moveTo>
                                          <a:lnTo>
                                            <a:pt x="43" y="35"/>
                                          </a:lnTo>
                                          <a:lnTo>
                                            <a:pt x="64" y="22"/>
                                          </a:lnTo>
                                          <a:lnTo>
                                            <a:pt x="90" y="13"/>
                                          </a:lnTo>
                                          <a:lnTo>
                                            <a:pt x="116" y="9"/>
                                          </a:lnTo>
                                          <a:lnTo>
                                            <a:pt x="142" y="5"/>
                                          </a:lnTo>
                                          <a:lnTo>
                                            <a:pt x="172" y="0"/>
                                          </a:lnTo>
                                          <a:lnTo>
                                            <a:pt x="202" y="5"/>
                                          </a:lnTo>
                                          <a:lnTo>
                                            <a:pt x="233" y="5"/>
                                          </a:lnTo>
                                          <a:lnTo>
                                            <a:pt x="293" y="18"/>
                                          </a:lnTo>
                                          <a:lnTo>
                                            <a:pt x="349" y="35"/>
                                          </a:lnTo>
                                          <a:lnTo>
                                            <a:pt x="397" y="61"/>
                                          </a:lnTo>
                                          <a:lnTo>
                                            <a:pt x="440" y="86"/>
                                          </a:lnTo>
                                          <a:lnTo>
                                            <a:pt x="440" y="95"/>
                                          </a:lnTo>
                                          <a:lnTo>
                                            <a:pt x="461" y="108"/>
                                          </a:lnTo>
                                          <a:lnTo>
                                            <a:pt x="496" y="121"/>
                                          </a:lnTo>
                                          <a:lnTo>
                                            <a:pt x="539" y="134"/>
                                          </a:lnTo>
                                          <a:lnTo>
                                            <a:pt x="578" y="151"/>
                                          </a:lnTo>
                                          <a:lnTo>
                                            <a:pt x="595" y="160"/>
                                          </a:lnTo>
                                          <a:lnTo>
                                            <a:pt x="612" y="168"/>
                                          </a:lnTo>
                                          <a:lnTo>
                                            <a:pt x="625" y="181"/>
                                          </a:lnTo>
                                          <a:lnTo>
                                            <a:pt x="634" y="194"/>
                                          </a:lnTo>
                                          <a:lnTo>
                                            <a:pt x="638" y="207"/>
                                          </a:lnTo>
                                          <a:lnTo>
                                            <a:pt x="642" y="220"/>
                                          </a:lnTo>
                                          <a:lnTo>
                                            <a:pt x="638" y="237"/>
                                          </a:lnTo>
                                          <a:lnTo>
                                            <a:pt x="629" y="258"/>
                                          </a:lnTo>
                                          <a:lnTo>
                                            <a:pt x="617" y="258"/>
                                          </a:lnTo>
                                          <a:lnTo>
                                            <a:pt x="599" y="263"/>
                                          </a:lnTo>
                                          <a:lnTo>
                                            <a:pt x="586" y="267"/>
                                          </a:lnTo>
                                          <a:lnTo>
                                            <a:pt x="573" y="271"/>
                                          </a:lnTo>
                                          <a:lnTo>
                                            <a:pt x="556" y="276"/>
                                          </a:lnTo>
                                          <a:lnTo>
                                            <a:pt x="543" y="280"/>
                                          </a:lnTo>
                                          <a:lnTo>
                                            <a:pt x="530" y="284"/>
                                          </a:lnTo>
                                          <a:lnTo>
                                            <a:pt x="513" y="284"/>
                                          </a:lnTo>
                                          <a:lnTo>
                                            <a:pt x="500" y="297"/>
                                          </a:lnTo>
                                          <a:lnTo>
                                            <a:pt x="478" y="314"/>
                                          </a:lnTo>
                                          <a:lnTo>
                                            <a:pt x="453" y="327"/>
                                          </a:lnTo>
                                          <a:lnTo>
                                            <a:pt x="427" y="344"/>
                                          </a:lnTo>
                                          <a:lnTo>
                                            <a:pt x="397" y="357"/>
                                          </a:lnTo>
                                          <a:lnTo>
                                            <a:pt x="371" y="366"/>
                                          </a:lnTo>
                                          <a:lnTo>
                                            <a:pt x="345" y="366"/>
                                          </a:lnTo>
                                          <a:lnTo>
                                            <a:pt x="323" y="362"/>
                                          </a:lnTo>
                                          <a:lnTo>
                                            <a:pt x="323" y="353"/>
                                          </a:lnTo>
                                          <a:lnTo>
                                            <a:pt x="310" y="344"/>
                                          </a:lnTo>
                                          <a:lnTo>
                                            <a:pt x="293" y="336"/>
                                          </a:lnTo>
                                          <a:lnTo>
                                            <a:pt x="276" y="332"/>
                                          </a:lnTo>
                                          <a:lnTo>
                                            <a:pt x="250" y="327"/>
                                          </a:lnTo>
                                          <a:lnTo>
                                            <a:pt x="228" y="319"/>
                                          </a:lnTo>
                                          <a:lnTo>
                                            <a:pt x="207" y="319"/>
                                          </a:lnTo>
                                          <a:lnTo>
                                            <a:pt x="189" y="314"/>
                                          </a:lnTo>
                                          <a:lnTo>
                                            <a:pt x="172" y="314"/>
                                          </a:lnTo>
                                          <a:lnTo>
                                            <a:pt x="164" y="306"/>
                                          </a:lnTo>
                                          <a:lnTo>
                                            <a:pt x="151" y="297"/>
                                          </a:lnTo>
                                          <a:lnTo>
                                            <a:pt x="133" y="284"/>
                                          </a:lnTo>
                                          <a:lnTo>
                                            <a:pt x="112" y="271"/>
                                          </a:lnTo>
                                          <a:lnTo>
                                            <a:pt x="95" y="263"/>
                                          </a:lnTo>
                                          <a:lnTo>
                                            <a:pt x="77" y="254"/>
                                          </a:lnTo>
                                          <a:lnTo>
                                            <a:pt x="60" y="250"/>
                                          </a:lnTo>
                                          <a:lnTo>
                                            <a:pt x="47" y="246"/>
                                          </a:lnTo>
                                          <a:lnTo>
                                            <a:pt x="47" y="237"/>
                                          </a:lnTo>
                                          <a:lnTo>
                                            <a:pt x="43" y="228"/>
                                          </a:lnTo>
                                          <a:lnTo>
                                            <a:pt x="38" y="220"/>
                                          </a:lnTo>
                                          <a:lnTo>
                                            <a:pt x="34" y="211"/>
                                          </a:lnTo>
                                          <a:lnTo>
                                            <a:pt x="30" y="203"/>
                                          </a:lnTo>
                                          <a:lnTo>
                                            <a:pt x="25" y="190"/>
                                          </a:lnTo>
                                          <a:lnTo>
                                            <a:pt x="21" y="181"/>
                                          </a:lnTo>
                                          <a:lnTo>
                                            <a:pt x="21" y="172"/>
                                          </a:lnTo>
                                          <a:lnTo>
                                            <a:pt x="13" y="168"/>
                                          </a:lnTo>
                                          <a:lnTo>
                                            <a:pt x="8" y="160"/>
                                          </a:lnTo>
                                          <a:lnTo>
                                            <a:pt x="4" y="147"/>
                                          </a:lnTo>
                                          <a:lnTo>
                                            <a:pt x="4" y="129"/>
                                          </a:lnTo>
                                          <a:lnTo>
                                            <a:pt x="0" y="117"/>
                                          </a:lnTo>
                                          <a:lnTo>
                                            <a:pt x="0" y="99"/>
                                          </a:lnTo>
                                          <a:lnTo>
                                            <a:pt x="0" y="86"/>
                                          </a:lnTo>
                                          <a:lnTo>
                                            <a:pt x="0" y="78"/>
                                          </a:lnTo>
                                          <a:lnTo>
                                            <a:pt x="4" y="74"/>
                                          </a:lnTo>
                                          <a:lnTo>
                                            <a:pt x="8" y="69"/>
                                          </a:lnTo>
                                          <a:lnTo>
                                            <a:pt x="13" y="65"/>
                                          </a:lnTo>
                                          <a:lnTo>
                                            <a:pt x="13" y="56"/>
                                          </a:lnTo>
                                          <a:lnTo>
                                            <a:pt x="17" y="48"/>
                                          </a:lnTo>
                                          <a:lnTo>
                                            <a:pt x="17" y="39"/>
                                          </a:lnTo>
                                          <a:lnTo>
                                            <a:pt x="21" y="35"/>
                                          </a:lnTo>
                                          <a:lnTo>
                                            <a:pt x="21" y="31"/>
                                          </a:lnTo>
                                          <a:lnTo>
                                            <a:pt x="21" y="48"/>
                                          </a:lnTo>
                                          <a:close/>
                                        </a:path>
                                      </a:pathLst>
                                    </a:custGeom>
                                    <a:blipFill rotWithShape="0">
                                      <a:blip r:embed="rId118"/>
                                      <a:srcRect/>
                                      <a:tile tx="0" ty="0" sx="100000" sy="100000" algn="ctr"/>
                                    </a:blipFill>
                                    <a:ln w="9360">
                                      <a:solidFill>
                                        <a:srgbClr val="c0c0c0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11520" bIns="-1152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grpSp>
                                  <p:nvGrpSpPr>
                                    <p:cNvPr id="260" name=""/>
                                    <p:cNvGrpSpPr/>
                                    <p:nvPr/>
                                  </p:nvGrpSpPr>
                                  <p:grpSpPr>
                                    <a:xfrm>
                                      <a:off x="2792160" y="2378160"/>
                                      <a:ext cx="297360" cy="304200"/>
                                      <a:chOff x="2792160" y="2378160"/>
                                      <a:chExt cx="297360" cy="304200"/>
                                    </a:xfrm>
                                  </p:grpSpPr>
                                  <p:sp>
                                    <p:nvSpPr>
                                      <p:cNvPr id="261" name=""/>
                                      <p:cNvSpPr/>
                                      <p:nvPr/>
                                    </p:nvSpPr>
                                    <p:spPr>
                                      <a:xfrm rot="21419400">
                                        <a:off x="2940480" y="2381760"/>
                                        <a:ext cx="141120" cy="297000"/>
                                      </a:xfrm>
                                      <a:custGeom>
                                        <a:avLst/>
                                        <a:gdLst/>
                                        <a:ahLst/>
                                        <a:rect l="l" t="t" r="r" b="b"/>
                                        <a:pathLst>
                                          <a:path w="1376" h="3070">
                                            <a:moveTo>
                                              <a:pt x="1186" y="516"/>
                                            </a:moveTo>
                                            <a:lnTo>
                                              <a:pt x="1259" y="675"/>
                                            </a:lnTo>
                                            <a:lnTo>
                                              <a:pt x="1376" y="782"/>
                                            </a:lnTo>
                                            <a:lnTo>
                                              <a:pt x="1229" y="1088"/>
                                            </a:lnTo>
                                            <a:lnTo>
                                              <a:pt x="1238" y="1195"/>
                                            </a:lnTo>
                                            <a:lnTo>
                                              <a:pt x="1259" y="1307"/>
                                            </a:lnTo>
                                            <a:lnTo>
                                              <a:pt x="1203" y="1479"/>
                                            </a:lnTo>
                                            <a:lnTo>
                                              <a:pt x="832" y="2098"/>
                                            </a:lnTo>
                                            <a:lnTo>
                                              <a:pt x="664" y="2545"/>
                                            </a:lnTo>
                                            <a:lnTo>
                                              <a:pt x="642" y="2683"/>
                                            </a:lnTo>
                                            <a:lnTo>
                                              <a:pt x="664" y="2829"/>
                                            </a:lnTo>
                                            <a:lnTo>
                                              <a:pt x="664" y="2872"/>
                                            </a:lnTo>
                                            <a:lnTo>
                                              <a:pt x="569" y="2851"/>
                                            </a:lnTo>
                                            <a:lnTo>
                                              <a:pt x="517" y="2851"/>
                                            </a:lnTo>
                                            <a:lnTo>
                                              <a:pt x="517" y="2932"/>
                                            </a:lnTo>
                                            <a:lnTo>
                                              <a:pt x="569" y="3006"/>
                                            </a:lnTo>
                                            <a:lnTo>
                                              <a:pt x="569" y="3040"/>
                                            </a:lnTo>
                                            <a:lnTo>
                                              <a:pt x="466" y="3070"/>
                                            </a:lnTo>
                                            <a:lnTo>
                                              <a:pt x="0" y="3070"/>
                                            </a:lnTo>
                                            <a:lnTo>
                                              <a:pt x="30" y="2988"/>
                                            </a:lnTo>
                                            <a:lnTo>
                                              <a:pt x="159" y="2894"/>
                                            </a:lnTo>
                                            <a:lnTo>
                                              <a:pt x="284" y="2838"/>
                                            </a:lnTo>
                                            <a:lnTo>
                                              <a:pt x="435" y="2610"/>
                                            </a:lnTo>
                                            <a:lnTo>
                                              <a:pt x="466" y="2468"/>
                                            </a:lnTo>
                                            <a:lnTo>
                                              <a:pt x="655" y="2060"/>
                                            </a:lnTo>
                                            <a:lnTo>
                                              <a:pt x="686" y="1763"/>
                                            </a:lnTo>
                                            <a:lnTo>
                                              <a:pt x="642" y="1341"/>
                                            </a:lnTo>
                                            <a:lnTo>
                                              <a:pt x="517" y="877"/>
                                            </a:lnTo>
                                            <a:lnTo>
                                              <a:pt x="517" y="666"/>
                                            </a:lnTo>
                                            <a:lnTo>
                                              <a:pt x="560" y="348"/>
                                            </a:lnTo>
                                            <a:lnTo>
                                              <a:pt x="612" y="223"/>
                                            </a:lnTo>
                                            <a:lnTo>
                                              <a:pt x="642" y="241"/>
                                            </a:lnTo>
                                            <a:lnTo>
                                              <a:pt x="750" y="180"/>
                                            </a:lnTo>
                                            <a:lnTo>
                                              <a:pt x="845" y="180"/>
                                            </a:lnTo>
                                            <a:lnTo>
                                              <a:pt x="910" y="129"/>
                                            </a:lnTo>
                                            <a:lnTo>
                                              <a:pt x="919" y="129"/>
                                            </a:lnTo>
                                            <a:lnTo>
                                              <a:pt x="927" y="137"/>
                                            </a:lnTo>
                                            <a:lnTo>
                                              <a:pt x="1070" y="21"/>
                                            </a:lnTo>
                                            <a:lnTo>
                                              <a:pt x="1130" y="0"/>
                                            </a:lnTo>
                                            <a:lnTo>
                                              <a:pt x="1173" y="211"/>
                                            </a:lnTo>
                                            <a:lnTo>
                                              <a:pt x="1186" y="516"/>
                                            </a:lnTo>
                                            <a:close/>
                                          </a:path>
                                        </a:pathLst>
                                      </a:custGeom>
                                      <a:blipFill rotWithShape="0">
                                        <a:blip r:embed="rId119"/>
                                        <a:srcRect/>
                                        <a:tile tx="0" ty="0" sx="100000" sy="100000" algn="ctr"/>
                                      </a:blipFill>
                                      <a:ln w="9360">
                                        <a:solidFill>
                                          <a:srgbClr val="c0c0c0"/>
                                        </a:solidFill>
                                        <a:round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  <p:sp>
                                    <p:nvSpPr>
                                      <p:cNvPr id="262" name=""/>
                                      <p:cNvSpPr/>
                                      <p:nvPr/>
                                    </p:nvSpPr>
                                    <p:spPr>
                                      <a:xfrm rot="21419400">
                                        <a:off x="2796480" y="2389680"/>
                                        <a:ext cx="165960" cy="173520"/>
                                      </a:xfrm>
                                      <a:custGeom>
                                        <a:avLst/>
                                        <a:gdLst/>
                                        <a:ahLst/>
                                        <a:rect l="l" t="t" r="r" b="b"/>
                                        <a:pathLst>
                                          <a:path w="1618" h="1793">
                                            <a:moveTo>
                                              <a:pt x="561" y="103"/>
                                            </a:moveTo>
                                            <a:lnTo>
                                              <a:pt x="613" y="167"/>
                                            </a:lnTo>
                                            <a:lnTo>
                                              <a:pt x="656" y="155"/>
                                            </a:lnTo>
                                            <a:lnTo>
                                              <a:pt x="686" y="155"/>
                                            </a:lnTo>
                                            <a:lnTo>
                                              <a:pt x="764" y="0"/>
                                            </a:lnTo>
                                            <a:lnTo>
                                              <a:pt x="846" y="94"/>
                                            </a:lnTo>
                                            <a:lnTo>
                                              <a:pt x="867" y="133"/>
                                            </a:lnTo>
                                            <a:lnTo>
                                              <a:pt x="889" y="155"/>
                                            </a:lnTo>
                                            <a:lnTo>
                                              <a:pt x="911" y="155"/>
                                            </a:lnTo>
                                            <a:lnTo>
                                              <a:pt x="962" y="60"/>
                                            </a:lnTo>
                                            <a:lnTo>
                                              <a:pt x="1006" y="30"/>
                                            </a:lnTo>
                                            <a:lnTo>
                                              <a:pt x="1057" y="133"/>
                                            </a:lnTo>
                                            <a:lnTo>
                                              <a:pt x="997" y="253"/>
                                            </a:lnTo>
                                            <a:lnTo>
                                              <a:pt x="932" y="305"/>
                                            </a:lnTo>
                                            <a:lnTo>
                                              <a:pt x="233" y="1066"/>
                                            </a:lnTo>
                                            <a:lnTo>
                                              <a:pt x="276" y="1169"/>
                                            </a:lnTo>
                                            <a:lnTo>
                                              <a:pt x="255" y="1191"/>
                                            </a:lnTo>
                                            <a:lnTo>
                                              <a:pt x="263" y="1199"/>
                                            </a:lnTo>
                                            <a:lnTo>
                                              <a:pt x="263" y="1221"/>
                                            </a:lnTo>
                                            <a:lnTo>
                                              <a:pt x="255" y="1221"/>
                                            </a:lnTo>
                                            <a:lnTo>
                                              <a:pt x="255" y="1264"/>
                                            </a:lnTo>
                                            <a:lnTo>
                                              <a:pt x="656" y="1475"/>
                                            </a:lnTo>
                                            <a:lnTo>
                                              <a:pt x="924" y="1483"/>
                                            </a:lnTo>
                                            <a:lnTo>
                                              <a:pt x="997" y="1453"/>
                                            </a:lnTo>
                                            <a:lnTo>
                                              <a:pt x="1006" y="1453"/>
                                            </a:lnTo>
                                            <a:lnTo>
                                              <a:pt x="1018" y="1445"/>
                                            </a:lnTo>
                                            <a:lnTo>
                                              <a:pt x="1057" y="1518"/>
                                            </a:lnTo>
                                            <a:lnTo>
                                              <a:pt x="1113" y="1531"/>
                                            </a:lnTo>
                                            <a:lnTo>
                                              <a:pt x="1290" y="1359"/>
                                            </a:lnTo>
                                            <a:lnTo>
                                              <a:pt x="1450" y="1380"/>
                                            </a:lnTo>
                                            <a:lnTo>
                                              <a:pt x="1545" y="1445"/>
                                            </a:lnTo>
                                            <a:lnTo>
                                              <a:pt x="1588" y="1466"/>
                                            </a:lnTo>
                                            <a:lnTo>
                                              <a:pt x="1618" y="1496"/>
                                            </a:lnTo>
                                            <a:lnTo>
                                              <a:pt x="1618" y="1518"/>
                                            </a:lnTo>
                                            <a:lnTo>
                                              <a:pt x="1131" y="1758"/>
                                            </a:lnTo>
                                            <a:lnTo>
                                              <a:pt x="997" y="1793"/>
                                            </a:lnTo>
                                            <a:lnTo>
                                              <a:pt x="380" y="1582"/>
                                            </a:lnTo>
                                            <a:lnTo>
                                              <a:pt x="43" y="1350"/>
                                            </a:lnTo>
                                            <a:lnTo>
                                              <a:pt x="0" y="1285"/>
                                            </a:lnTo>
                                            <a:lnTo>
                                              <a:pt x="9" y="937"/>
                                            </a:lnTo>
                                            <a:lnTo>
                                              <a:pt x="432" y="51"/>
                                            </a:lnTo>
                                            <a:lnTo>
                                              <a:pt x="479" y="0"/>
                                            </a:lnTo>
                                            <a:lnTo>
                                              <a:pt x="496" y="81"/>
                                            </a:lnTo>
                                            <a:lnTo>
                                              <a:pt x="561" y="103"/>
                                            </a:lnTo>
                                            <a:close/>
                                          </a:path>
                                        </a:pathLst>
                                      </a:custGeom>
                                      <a:blipFill rotWithShape="0">
                                        <a:blip r:embed="rId120"/>
                                        <a:srcRect/>
                                        <a:tile tx="0" ty="0" sx="100000" sy="100000" algn="ctr"/>
                                      </a:blipFill>
                                      <a:ln w="9360">
                                        <a:solidFill>
                                          <a:srgbClr val="c0c0c0"/>
                                        </a:solidFill>
                                        <a:round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  <p:sp>
                                    <p:nvSpPr>
                                      <p:cNvPr id="263" name=""/>
                                      <p:cNvSpPr/>
                                      <p:nvPr/>
                                    </p:nvSpPr>
                                    <p:spPr>
                                      <a:xfrm rot="21419400">
                                        <a:off x="2992680" y="2380320"/>
                                        <a:ext cx="84960" cy="147600"/>
                                      </a:xfrm>
                                      <a:custGeom>
                                        <a:avLst/>
                                        <a:gdLst/>
                                        <a:ahLst/>
                                        <a:rect l="l" t="t" r="r" b="b"/>
                                        <a:pathLst>
                                          <a:path w="828" h="1526">
                                            <a:moveTo>
                                              <a:pt x="0" y="426"/>
                                            </a:moveTo>
                                            <a:lnTo>
                                              <a:pt x="90" y="318"/>
                                            </a:lnTo>
                                            <a:lnTo>
                                              <a:pt x="151" y="318"/>
                                            </a:lnTo>
                                            <a:lnTo>
                                              <a:pt x="155" y="327"/>
                                            </a:lnTo>
                                            <a:lnTo>
                                              <a:pt x="155" y="335"/>
                                            </a:lnTo>
                                            <a:lnTo>
                                              <a:pt x="159" y="348"/>
                                            </a:lnTo>
                                            <a:lnTo>
                                              <a:pt x="163" y="357"/>
                                            </a:lnTo>
                                            <a:lnTo>
                                              <a:pt x="168" y="370"/>
                                            </a:lnTo>
                                            <a:lnTo>
                                              <a:pt x="168" y="378"/>
                                            </a:lnTo>
                                            <a:lnTo>
                                              <a:pt x="172" y="391"/>
                                            </a:lnTo>
                                            <a:lnTo>
                                              <a:pt x="172" y="400"/>
                                            </a:lnTo>
                                            <a:lnTo>
                                              <a:pt x="181" y="395"/>
                                            </a:lnTo>
                                            <a:lnTo>
                                              <a:pt x="189" y="391"/>
                                            </a:lnTo>
                                            <a:lnTo>
                                              <a:pt x="198" y="387"/>
                                            </a:lnTo>
                                            <a:lnTo>
                                              <a:pt x="207" y="378"/>
                                            </a:lnTo>
                                            <a:lnTo>
                                              <a:pt x="215" y="370"/>
                                            </a:lnTo>
                                            <a:lnTo>
                                              <a:pt x="228" y="365"/>
                                            </a:lnTo>
                                            <a:lnTo>
                                              <a:pt x="241" y="361"/>
                                            </a:lnTo>
                                            <a:lnTo>
                                              <a:pt x="254" y="357"/>
                                            </a:lnTo>
                                            <a:lnTo>
                                              <a:pt x="293" y="400"/>
                                            </a:lnTo>
                                            <a:lnTo>
                                              <a:pt x="302" y="400"/>
                                            </a:lnTo>
                                            <a:lnTo>
                                              <a:pt x="310" y="395"/>
                                            </a:lnTo>
                                            <a:lnTo>
                                              <a:pt x="319" y="391"/>
                                            </a:lnTo>
                                            <a:lnTo>
                                              <a:pt x="327" y="387"/>
                                            </a:lnTo>
                                            <a:lnTo>
                                              <a:pt x="332" y="383"/>
                                            </a:lnTo>
                                            <a:lnTo>
                                              <a:pt x="340" y="383"/>
                                            </a:lnTo>
                                            <a:lnTo>
                                              <a:pt x="349" y="378"/>
                                            </a:lnTo>
                                            <a:lnTo>
                                              <a:pt x="358" y="378"/>
                                            </a:lnTo>
                                            <a:lnTo>
                                              <a:pt x="358" y="460"/>
                                            </a:lnTo>
                                            <a:lnTo>
                                              <a:pt x="314" y="499"/>
                                            </a:lnTo>
                                            <a:lnTo>
                                              <a:pt x="314" y="524"/>
                                            </a:lnTo>
                                            <a:lnTo>
                                              <a:pt x="314" y="550"/>
                                            </a:lnTo>
                                            <a:lnTo>
                                              <a:pt x="314" y="580"/>
                                            </a:lnTo>
                                            <a:lnTo>
                                              <a:pt x="319" y="610"/>
                                            </a:lnTo>
                                            <a:lnTo>
                                              <a:pt x="319" y="641"/>
                                            </a:lnTo>
                                            <a:lnTo>
                                              <a:pt x="323" y="671"/>
                                            </a:lnTo>
                                            <a:lnTo>
                                              <a:pt x="327" y="701"/>
                                            </a:lnTo>
                                            <a:lnTo>
                                              <a:pt x="336" y="722"/>
                                            </a:lnTo>
                                            <a:lnTo>
                                              <a:pt x="349" y="727"/>
                                            </a:lnTo>
                                            <a:lnTo>
                                              <a:pt x="362" y="735"/>
                                            </a:lnTo>
                                            <a:lnTo>
                                              <a:pt x="375" y="752"/>
                                            </a:lnTo>
                                            <a:lnTo>
                                              <a:pt x="383" y="765"/>
                                            </a:lnTo>
                                            <a:lnTo>
                                              <a:pt x="392" y="782"/>
                                            </a:lnTo>
                                            <a:lnTo>
                                              <a:pt x="401" y="800"/>
                                            </a:lnTo>
                                            <a:lnTo>
                                              <a:pt x="409" y="817"/>
                                            </a:lnTo>
                                            <a:lnTo>
                                              <a:pt x="418" y="825"/>
                                            </a:lnTo>
                                            <a:lnTo>
                                              <a:pt x="422" y="881"/>
                                            </a:lnTo>
                                            <a:lnTo>
                                              <a:pt x="431" y="937"/>
                                            </a:lnTo>
                                            <a:lnTo>
                                              <a:pt x="444" y="997"/>
                                            </a:lnTo>
                                            <a:lnTo>
                                              <a:pt x="457" y="1053"/>
                                            </a:lnTo>
                                            <a:lnTo>
                                              <a:pt x="474" y="1109"/>
                                            </a:lnTo>
                                            <a:lnTo>
                                              <a:pt x="487" y="1161"/>
                                            </a:lnTo>
                                            <a:lnTo>
                                              <a:pt x="496" y="1212"/>
                                            </a:lnTo>
                                            <a:lnTo>
                                              <a:pt x="500" y="1251"/>
                                            </a:lnTo>
                                            <a:lnTo>
                                              <a:pt x="517" y="1273"/>
                                            </a:lnTo>
                                            <a:lnTo>
                                              <a:pt x="539" y="1294"/>
                                            </a:lnTo>
                                            <a:lnTo>
                                              <a:pt x="556" y="1294"/>
                                            </a:lnTo>
                                            <a:lnTo>
                                              <a:pt x="565" y="1298"/>
                                            </a:lnTo>
                                            <a:lnTo>
                                              <a:pt x="578" y="1307"/>
                                            </a:lnTo>
                                            <a:lnTo>
                                              <a:pt x="586" y="1311"/>
                                            </a:lnTo>
                                            <a:lnTo>
                                              <a:pt x="599" y="1320"/>
                                            </a:lnTo>
                                            <a:lnTo>
                                              <a:pt x="604" y="1329"/>
                                            </a:lnTo>
                                            <a:lnTo>
                                              <a:pt x="612" y="1333"/>
                                            </a:lnTo>
                                            <a:lnTo>
                                              <a:pt x="621" y="1333"/>
                                            </a:lnTo>
                                            <a:lnTo>
                                              <a:pt x="621" y="1359"/>
                                            </a:lnTo>
                                            <a:lnTo>
                                              <a:pt x="621" y="1380"/>
                                            </a:lnTo>
                                            <a:lnTo>
                                              <a:pt x="621" y="1406"/>
                                            </a:lnTo>
                                            <a:lnTo>
                                              <a:pt x="621" y="1432"/>
                                            </a:lnTo>
                                            <a:lnTo>
                                              <a:pt x="621" y="1453"/>
                                            </a:lnTo>
                                            <a:lnTo>
                                              <a:pt x="625" y="1479"/>
                                            </a:lnTo>
                                            <a:lnTo>
                                              <a:pt x="625" y="1505"/>
                                            </a:lnTo>
                                            <a:lnTo>
                                              <a:pt x="625" y="1526"/>
                                            </a:lnTo>
                                            <a:lnTo>
                                              <a:pt x="655" y="1479"/>
                                            </a:lnTo>
                                            <a:lnTo>
                                              <a:pt x="711" y="1307"/>
                                            </a:lnTo>
                                            <a:lnTo>
                                              <a:pt x="690" y="1195"/>
                                            </a:lnTo>
                                            <a:lnTo>
                                              <a:pt x="681" y="1088"/>
                                            </a:lnTo>
                                            <a:lnTo>
                                              <a:pt x="828" y="782"/>
                                            </a:lnTo>
                                            <a:lnTo>
                                              <a:pt x="711" y="675"/>
                                            </a:lnTo>
                                            <a:lnTo>
                                              <a:pt x="638" y="516"/>
                                            </a:lnTo>
                                            <a:lnTo>
                                              <a:pt x="625" y="211"/>
                                            </a:lnTo>
                                            <a:lnTo>
                                              <a:pt x="582" y="0"/>
                                            </a:lnTo>
                                            <a:lnTo>
                                              <a:pt x="522" y="21"/>
                                            </a:lnTo>
                                            <a:lnTo>
                                              <a:pt x="379" y="137"/>
                                            </a:lnTo>
                                            <a:lnTo>
                                              <a:pt x="371" y="129"/>
                                            </a:lnTo>
                                            <a:lnTo>
                                              <a:pt x="362" y="129"/>
                                            </a:lnTo>
                                            <a:lnTo>
                                              <a:pt x="297" y="180"/>
                                            </a:lnTo>
                                            <a:lnTo>
                                              <a:pt x="202" y="180"/>
                                            </a:lnTo>
                                            <a:lnTo>
                                              <a:pt x="94" y="241"/>
                                            </a:lnTo>
                                            <a:lnTo>
                                              <a:pt x="64" y="223"/>
                                            </a:lnTo>
                                            <a:lnTo>
                                              <a:pt x="30" y="305"/>
                                            </a:lnTo>
                                            <a:lnTo>
                                              <a:pt x="25" y="327"/>
                                            </a:lnTo>
                                            <a:lnTo>
                                              <a:pt x="25" y="344"/>
                                            </a:lnTo>
                                            <a:lnTo>
                                              <a:pt x="21" y="365"/>
                                            </a:lnTo>
                                            <a:lnTo>
                                              <a:pt x="17" y="383"/>
                                            </a:lnTo>
                                            <a:lnTo>
                                              <a:pt x="12" y="395"/>
                                            </a:lnTo>
                                            <a:lnTo>
                                              <a:pt x="8" y="413"/>
                                            </a:lnTo>
                                            <a:lnTo>
                                              <a:pt x="4" y="421"/>
                                            </a:lnTo>
                                            <a:lnTo>
                                              <a:pt x="0" y="430"/>
                                            </a:lnTo>
                                            <a:lnTo>
                                              <a:pt x="0" y="426"/>
                                            </a:lnTo>
                                            <a:close/>
                                          </a:path>
                                        </a:pathLst>
                                      </a:custGeom>
                                      <a:blipFill rotWithShape="0">
                                        <a:blip r:embed="rId121"/>
                                        <a:srcRect/>
                                        <a:tile tx="0" ty="0" sx="100000" sy="100000" algn="ctr"/>
                                      </a:blipFill>
                                      <a:ln w="9360">
                                        <a:solidFill>
                                          <a:srgbClr val="c0c0c0"/>
                                        </a:solidFill>
                                        <a:round/>
                                      </a:ln>
                                    </p:spPr>
                                    <p:style>
                                      <a:lnRef idx="0"/>
                                      <a:fillRef idx="0"/>
                                      <a:effectRef idx="0"/>
                                      <a:fontRef idx="minor"/>
                                    </p:style>
                                    <p:txBody>
                                      <a:bodyPr lIns="90000" rIns="90000" tIns="46800" bIns="46800" anchor="t">
                                        <a:noAutofit/>
                                      </a:bodyPr>
                                      <a:p>
                                        <a:endParaRPr b="0" lang="en-US" sz="2400" spc="-1" strike="noStrike">
                                          <a:solidFill>
                                            <a:srgbClr val="000000"/>
                                          </a:solidFill>
                                          <a:latin typeface="Times New Roman"/>
                                        </a:endParaRPr>
                                      </a:p>
                                    </p:txBody>
                                  </p:sp>
                                </p:grpSp>
                                <p:sp>
                                  <p:nvSpPr>
                                    <p:cNvPr id="264" name=""/>
                                    <p:cNvSpPr/>
                                    <p:nvPr/>
                                  </p:nvSpPr>
                                  <p:spPr>
                                    <a:xfrm rot="21419400">
                                      <a:off x="2738880" y="2018160"/>
                                      <a:ext cx="74160" cy="32040"/>
                                    </a:xfrm>
                                    <a:custGeom>
                                      <a:avLst/>
                                      <a:gdLst/>
                                      <a:ahLst/>
                                      <a:rect l="l" t="t" r="r" b="b"/>
                                      <a:pathLst>
                                        <a:path w="725" h="331">
                                          <a:moveTo>
                                            <a:pt x="13" y="133"/>
                                          </a:moveTo>
                                          <a:lnTo>
                                            <a:pt x="17" y="133"/>
                                          </a:lnTo>
                                          <a:lnTo>
                                            <a:pt x="22" y="129"/>
                                          </a:lnTo>
                                          <a:lnTo>
                                            <a:pt x="30" y="124"/>
                                          </a:lnTo>
                                          <a:lnTo>
                                            <a:pt x="39" y="120"/>
                                          </a:lnTo>
                                          <a:lnTo>
                                            <a:pt x="52" y="111"/>
                                          </a:lnTo>
                                          <a:lnTo>
                                            <a:pt x="61" y="107"/>
                                          </a:lnTo>
                                          <a:lnTo>
                                            <a:pt x="65" y="103"/>
                                          </a:lnTo>
                                          <a:lnTo>
                                            <a:pt x="69" y="98"/>
                                          </a:lnTo>
                                          <a:lnTo>
                                            <a:pt x="112" y="103"/>
                                          </a:lnTo>
                                          <a:lnTo>
                                            <a:pt x="155" y="103"/>
                                          </a:lnTo>
                                          <a:lnTo>
                                            <a:pt x="199" y="103"/>
                                          </a:lnTo>
                                          <a:lnTo>
                                            <a:pt x="242" y="107"/>
                                          </a:lnTo>
                                          <a:lnTo>
                                            <a:pt x="285" y="107"/>
                                          </a:lnTo>
                                          <a:lnTo>
                                            <a:pt x="328" y="111"/>
                                          </a:lnTo>
                                          <a:lnTo>
                                            <a:pt x="371" y="111"/>
                                          </a:lnTo>
                                          <a:lnTo>
                                            <a:pt x="419" y="111"/>
                                          </a:lnTo>
                                          <a:lnTo>
                                            <a:pt x="419" y="111"/>
                                          </a:lnTo>
                                          <a:lnTo>
                                            <a:pt x="419" y="111"/>
                                          </a:lnTo>
                                          <a:lnTo>
                                            <a:pt x="423" y="107"/>
                                          </a:lnTo>
                                          <a:lnTo>
                                            <a:pt x="427" y="103"/>
                                          </a:lnTo>
                                          <a:lnTo>
                                            <a:pt x="436" y="98"/>
                                          </a:lnTo>
                                          <a:lnTo>
                                            <a:pt x="440" y="94"/>
                                          </a:lnTo>
                                          <a:lnTo>
                                            <a:pt x="444" y="94"/>
                                          </a:lnTo>
                                          <a:lnTo>
                                            <a:pt x="449" y="90"/>
                                          </a:lnTo>
                                          <a:lnTo>
                                            <a:pt x="449" y="90"/>
                                          </a:lnTo>
                                          <a:lnTo>
                                            <a:pt x="449" y="86"/>
                                          </a:lnTo>
                                          <a:lnTo>
                                            <a:pt x="453" y="86"/>
                                          </a:lnTo>
                                          <a:lnTo>
                                            <a:pt x="457" y="81"/>
                                          </a:lnTo>
                                          <a:lnTo>
                                            <a:pt x="462" y="81"/>
                                          </a:lnTo>
                                          <a:lnTo>
                                            <a:pt x="466" y="77"/>
                                          </a:lnTo>
                                          <a:lnTo>
                                            <a:pt x="475" y="77"/>
                                          </a:lnTo>
                                          <a:lnTo>
                                            <a:pt x="479" y="77"/>
                                          </a:lnTo>
                                          <a:lnTo>
                                            <a:pt x="483" y="73"/>
                                          </a:lnTo>
                                          <a:lnTo>
                                            <a:pt x="496" y="60"/>
                                          </a:lnTo>
                                          <a:lnTo>
                                            <a:pt x="514" y="51"/>
                                          </a:lnTo>
                                          <a:lnTo>
                                            <a:pt x="535" y="38"/>
                                          </a:lnTo>
                                          <a:lnTo>
                                            <a:pt x="557" y="25"/>
                                          </a:lnTo>
                                          <a:lnTo>
                                            <a:pt x="578" y="17"/>
                                          </a:lnTo>
                                          <a:lnTo>
                                            <a:pt x="591" y="8"/>
                                          </a:lnTo>
                                          <a:lnTo>
                                            <a:pt x="604" y="0"/>
                                          </a:lnTo>
                                          <a:lnTo>
                                            <a:pt x="613" y="0"/>
                                          </a:lnTo>
                                          <a:lnTo>
                                            <a:pt x="621" y="0"/>
                                          </a:lnTo>
                                          <a:lnTo>
                                            <a:pt x="634" y="0"/>
                                          </a:lnTo>
                                          <a:lnTo>
                                            <a:pt x="647" y="4"/>
                                          </a:lnTo>
                                          <a:lnTo>
                                            <a:pt x="660" y="4"/>
                                          </a:lnTo>
                                          <a:lnTo>
                                            <a:pt x="669" y="8"/>
                                          </a:lnTo>
                                          <a:lnTo>
                                            <a:pt x="677" y="12"/>
                                          </a:lnTo>
                                          <a:lnTo>
                                            <a:pt x="682" y="21"/>
                                          </a:lnTo>
                                          <a:lnTo>
                                            <a:pt x="686" y="21"/>
                                          </a:lnTo>
                                          <a:lnTo>
                                            <a:pt x="690" y="25"/>
                                          </a:lnTo>
                                          <a:lnTo>
                                            <a:pt x="695" y="34"/>
                                          </a:lnTo>
                                          <a:lnTo>
                                            <a:pt x="699" y="38"/>
                                          </a:lnTo>
                                          <a:lnTo>
                                            <a:pt x="699" y="47"/>
                                          </a:lnTo>
                                          <a:lnTo>
                                            <a:pt x="699" y="55"/>
                                          </a:lnTo>
                                          <a:lnTo>
                                            <a:pt x="699" y="60"/>
                                          </a:lnTo>
                                          <a:lnTo>
                                            <a:pt x="703" y="64"/>
                                          </a:lnTo>
                                          <a:lnTo>
                                            <a:pt x="703" y="64"/>
                                          </a:lnTo>
                                          <a:lnTo>
                                            <a:pt x="703" y="64"/>
                                          </a:lnTo>
                                          <a:lnTo>
                                            <a:pt x="708" y="64"/>
                                          </a:lnTo>
                                          <a:lnTo>
                                            <a:pt x="708" y="64"/>
                                          </a:lnTo>
                                          <a:lnTo>
                                            <a:pt x="708" y="64"/>
                                          </a:lnTo>
                                          <a:lnTo>
                                            <a:pt x="708" y="64"/>
                                          </a:lnTo>
                                          <a:lnTo>
                                            <a:pt x="712" y="64"/>
                                          </a:lnTo>
                                          <a:lnTo>
                                            <a:pt x="712" y="64"/>
                                          </a:lnTo>
                                          <a:lnTo>
                                            <a:pt x="721" y="81"/>
                                          </a:lnTo>
                                          <a:lnTo>
                                            <a:pt x="725" y="98"/>
                                          </a:lnTo>
                                          <a:lnTo>
                                            <a:pt x="721" y="116"/>
                                          </a:lnTo>
                                          <a:lnTo>
                                            <a:pt x="716" y="133"/>
                                          </a:lnTo>
                                          <a:lnTo>
                                            <a:pt x="699" y="163"/>
                                          </a:lnTo>
                                          <a:lnTo>
                                            <a:pt x="673" y="193"/>
                                          </a:lnTo>
                                          <a:lnTo>
                                            <a:pt x="643" y="219"/>
                                          </a:lnTo>
                                          <a:lnTo>
                                            <a:pt x="617" y="240"/>
                                          </a:lnTo>
                                          <a:lnTo>
                                            <a:pt x="595" y="258"/>
                                          </a:lnTo>
                                          <a:lnTo>
                                            <a:pt x="587" y="275"/>
                                          </a:lnTo>
                                          <a:lnTo>
                                            <a:pt x="548" y="279"/>
                                          </a:lnTo>
                                          <a:lnTo>
                                            <a:pt x="505" y="288"/>
                                          </a:lnTo>
                                          <a:lnTo>
                                            <a:pt x="466" y="301"/>
                                          </a:lnTo>
                                          <a:lnTo>
                                            <a:pt x="427" y="313"/>
                                          </a:lnTo>
                                          <a:lnTo>
                                            <a:pt x="384" y="322"/>
                                          </a:lnTo>
                                          <a:lnTo>
                                            <a:pt x="341" y="331"/>
                                          </a:lnTo>
                                          <a:lnTo>
                                            <a:pt x="293" y="331"/>
                                          </a:lnTo>
                                          <a:lnTo>
                                            <a:pt x="246" y="326"/>
                                          </a:lnTo>
                                          <a:lnTo>
                                            <a:pt x="229" y="322"/>
                                          </a:lnTo>
                                          <a:lnTo>
                                            <a:pt x="207" y="318"/>
                                          </a:lnTo>
                                          <a:lnTo>
                                            <a:pt x="186" y="313"/>
                                          </a:lnTo>
                                          <a:lnTo>
                                            <a:pt x="164" y="305"/>
                                          </a:lnTo>
                                          <a:lnTo>
                                            <a:pt x="142" y="301"/>
                                          </a:lnTo>
                                          <a:lnTo>
                                            <a:pt x="121" y="296"/>
                                          </a:lnTo>
                                          <a:lnTo>
                                            <a:pt x="104" y="292"/>
                                          </a:lnTo>
                                          <a:lnTo>
                                            <a:pt x="82" y="292"/>
                                          </a:lnTo>
                                          <a:lnTo>
                                            <a:pt x="82" y="288"/>
                                          </a:lnTo>
                                          <a:lnTo>
                                            <a:pt x="78" y="283"/>
                                          </a:lnTo>
                                          <a:lnTo>
                                            <a:pt x="73" y="279"/>
                                          </a:lnTo>
                                          <a:lnTo>
                                            <a:pt x="69" y="275"/>
                                          </a:lnTo>
                                          <a:lnTo>
                                            <a:pt x="61" y="270"/>
                                          </a:lnTo>
                                          <a:lnTo>
                                            <a:pt x="56" y="266"/>
                                          </a:lnTo>
                                          <a:lnTo>
                                            <a:pt x="52" y="262"/>
                                          </a:lnTo>
                                          <a:lnTo>
                                            <a:pt x="52" y="258"/>
                                          </a:lnTo>
                                          <a:lnTo>
                                            <a:pt x="48" y="253"/>
                                          </a:lnTo>
                                          <a:lnTo>
                                            <a:pt x="43" y="249"/>
                                          </a:lnTo>
                                          <a:lnTo>
                                            <a:pt x="39" y="245"/>
                                          </a:lnTo>
                                          <a:lnTo>
                                            <a:pt x="35" y="240"/>
                                          </a:lnTo>
                                          <a:lnTo>
                                            <a:pt x="30" y="236"/>
                                          </a:lnTo>
                                          <a:lnTo>
                                            <a:pt x="26" y="232"/>
                                          </a:lnTo>
                                          <a:lnTo>
                                            <a:pt x="26" y="232"/>
                                          </a:lnTo>
                                          <a:lnTo>
                                            <a:pt x="22" y="227"/>
                                          </a:lnTo>
                                          <a:lnTo>
                                            <a:pt x="22" y="210"/>
                                          </a:lnTo>
                                          <a:lnTo>
                                            <a:pt x="17" y="197"/>
                                          </a:lnTo>
                                          <a:lnTo>
                                            <a:pt x="13" y="184"/>
                                          </a:lnTo>
                                          <a:lnTo>
                                            <a:pt x="4" y="172"/>
                                          </a:lnTo>
                                          <a:lnTo>
                                            <a:pt x="4" y="159"/>
                                          </a:lnTo>
                                          <a:lnTo>
                                            <a:pt x="0" y="150"/>
                                          </a:lnTo>
                                          <a:lnTo>
                                            <a:pt x="4" y="141"/>
                                          </a:lnTo>
                                          <a:lnTo>
                                            <a:pt x="13" y="133"/>
                                          </a:lnTo>
                                          <a:close/>
                                        </a:path>
                                      </a:pathLst>
                                    </a:custGeom>
                                    <a:blipFill rotWithShape="0">
                                      <a:blip r:embed="rId122"/>
                                      <a:srcRect/>
                                      <a:tile tx="0" ty="0" sx="100000" sy="100000" algn="ctr"/>
                                    </a:blipFill>
                                    <a:ln w="9360">
                                      <a:solidFill>
                                        <a:srgbClr val="c0c0c0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-14760" bIns="-1476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sp>
                              <p:nvSpPr>
                                <p:cNvPr id="265" name=""/>
                                <p:cNvSpPr/>
                                <p:nvPr/>
                              </p:nvSpPr>
                              <p:spPr>
                                <a:xfrm rot="21419400">
                                  <a:off x="2687400" y="1997280"/>
                                  <a:ext cx="554400" cy="67752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5410" h="7005">
                                      <a:moveTo>
                                        <a:pt x="1738" y="73"/>
                                      </a:moveTo>
                                      <a:lnTo>
                                        <a:pt x="1790" y="306"/>
                                      </a:lnTo>
                                      <a:lnTo>
                                        <a:pt x="1777" y="654"/>
                                      </a:lnTo>
                                      <a:lnTo>
                                        <a:pt x="1600" y="1338"/>
                                      </a:lnTo>
                                      <a:lnTo>
                                        <a:pt x="1600" y="1781"/>
                                      </a:lnTo>
                                      <a:lnTo>
                                        <a:pt x="1704" y="1991"/>
                                      </a:lnTo>
                                      <a:lnTo>
                                        <a:pt x="1769" y="2013"/>
                                      </a:lnTo>
                                      <a:lnTo>
                                        <a:pt x="2088" y="1875"/>
                                      </a:lnTo>
                                      <a:lnTo>
                                        <a:pt x="2498" y="1845"/>
                                      </a:lnTo>
                                      <a:lnTo>
                                        <a:pt x="2554" y="1867"/>
                                      </a:lnTo>
                                      <a:lnTo>
                                        <a:pt x="2657" y="1867"/>
                                      </a:lnTo>
                                      <a:lnTo>
                                        <a:pt x="3132" y="1931"/>
                                      </a:lnTo>
                                      <a:lnTo>
                                        <a:pt x="3503" y="1858"/>
                                      </a:lnTo>
                                      <a:lnTo>
                                        <a:pt x="3632" y="1836"/>
                                      </a:lnTo>
                                      <a:lnTo>
                                        <a:pt x="4047" y="1867"/>
                                      </a:lnTo>
                                      <a:lnTo>
                                        <a:pt x="4405" y="1961"/>
                                      </a:lnTo>
                                      <a:lnTo>
                                        <a:pt x="4763" y="2086"/>
                                      </a:lnTo>
                                      <a:lnTo>
                                        <a:pt x="4996" y="2013"/>
                                      </a:lnTo>
                                      <a:lnTo>
                                        <a:pt x="5147" y="2034"/>
                                      </a:lnTo>
                                      <a:lnTo>
                                        <a:pt x="5280" y="2142"/>
                                      </a:lnTo>
                                      <a:lnTo>
                                        <a:pt x="5367" y="2258"/>
                                      </a:lnTo>
                                      <a:lnTo>
                                        <a:pt x="5410" y="2434"/>
                                      </a:lnTo>
                                      <a:lnTo>
                                        <a:pt x="5354" y="2765"/>
                                      </a:lnTo>
                                      <a:lnTo>
                                        <a:pt x="5337" y="2890"/>
                                      </a:lnTo>
                                      <a:lnTo>
                                        <a:pt x="5354" y="2997"/>
                                      </a:lnTo>
                                      <a:lnTo>
                                        <a:pt x="5337" y="3019"/>
                                      </a:lnTo>
                                      <a:lnTo>
                                        <a:pt x="5280" y="2963"/>
                                      </a:lnTo>
                                      <a:lnTo>
                                        <a:pt x="5220" y="2963"/>
                                      </a:lnTo>
                                      <a:lnTo>
                                        <a:pt x="5186" y="2860"/>
                                      </a:lnTo>
                                      <a:lnTo>
                                        <a:pt x="5147" y="2795"/>
                                      </a:lnTo>
                                      <a:lnTo>
                                        <a:pt x="5147" y="2731"/>
                                      </a:lnTo>
                                      <a:lnTo>
                                        <a:pt x="5112" y="2709"/>
                                      </a:lnTo>
                                      <a:lnTo>
                                        <a:pt x="5112" y="2542"/>
                                      </a:lnTo>
                                      <a:lnTo>
                                        <a:pt x="4965" y="2340"/>
                                      </a:lnTo>
                                      <a:lnTo>
                                        <a:pt x="4957" y="2331"/>
                                      </a:lnTo>
                                      <a:lnTo>
                                        <a:pt x="4935" y="2352"/>
                                      </a:lnTo>
                                      <a:lnTo>
                                        <a:pt x="4957" y="2417"/>
                                      </a:lnTo>
                                      <a:lnTo>
                                        <a:pt x="5069" y="2576"/>
                                      </a:lnTo>
                                      <a:lnTo>
                                        <a:pt x="5030" y="2615"/>
                                      </a:lnTo>
                                      <a:lnTo>
                                        <a:pt x="5052" y="2744"/>
                                      </a:lnTo>
                                      <a:lnTo>
                                        <a:pt x="5082" y="2774"/>
                                      </a:lnTo>
                                      <a:lnTo>
                                        <a:pt x="5082" y="2868"/>
                                      </a:lnTo>
                                      <a:lnTo>
                                        <a:pt x="5112" y="2924"/>
                                      </a:lnTo>
                                      <a:lnTo>
                                        <a:pt x="5104" y="3019"/>
                                      </a:lnTo>
                                      <a:lnTo>
                                        <a:pt x="5134" y="3079"/>
                                      </a:lnTo>
                                      <a:lnTo>
                                        <a:pt x="5125" y="3122"/>
                                      </a:lnTo>
                                      <a:lnTo>
                                        <a:pt x="5155" y="3217"/>
                                      </a:lnTo>
                                      <a:lnTo>
                                        <a:pt x="5112" y="3260"/>
                                      </a:lnTo>
                                      <a:lnTo>
                                        <a:pt x="5147" y="3333"/>
                                      </a:lnTo>
                                      <a:lnTo>
                                        <a:pt x="5091" y="3397"/>
                                      </a:lnTo>
                                      <a:lnTo>
                                        <a:pt x="5091" y="3449"/>
                                      </a:lnTo>
                                      <a:lnTo>
                                        <a:pt x="5030" y="3513"/>
                                      </a:lnTo>
                                      <a:lnTo>
                                        <a:pt x="5091" y="3595"/>
                                      </a:lnTo>
                                      <a:lnTo>
                                        <a:pt x="5009" y="3673"/>
                                      </a:lnTo>
                                      <a:lnTo>
                                        <a:pt x="4996" y="3681"/>
                                      </a:lnTo>
                                      <a:lnTo>
                                        <a:pt x="4996" y="3716"/>
                                      </a:lnTo>
                                      <a:lnTo>
                                        <a:pt x="5017" y="3737"/>
                                      </a:lnTo>
                                      <a:lnTo>
                                        <a:pt x="4987" y="3819"/>
                                      </a:lnTo>
                                      <a:lnTo>
                                        <a:pt x="4987" y="3840"/>
                                      </a:lnTo>
                                      <a:lnTo>
                                        <a:pt x="4996" y="3849"/>
                                      </a:lnTo>
                                      <a:lnTo>
                                        <a:pt x="4836" y="4008"/>
                                      </a:lnTo>
                                      <a:lnTo>
                                        <a:pt x="4879" y="4103"/>
                                      </a:lnTo>
                                      <a:lnTo>
                                        <a:pt x="4763" y="4232"/>
                                      </a:lnTo>
                                      <a:lnTo>
                                        <a:pt x="4763" y="4283"/>
                                      </a:lnTo>
                                      <a:lnTo>
                                        <a:pt x="4711" y="4335"/>
                                      </a:lnTo>
                                      <a:lnTo>
                                        <a:pt x="4711" y="4305"/>
                                      </a:lnTo>
                                      <a:lnTo>
                                        <a:pt x="4689" y="4283"/>
                                      </a:lnTo>
                                      <a:lnTo>
                                        <a:pt x="4659" y="4292"/>
                                      </a:lnTo>
                                      <a:lnTo>
                                        <a:pt x="4625" y="4335"/>
                                      </a:lnTo>
                                      <a:lnTo>
                                        <a:pt x="4646" y="4386"/>
                                      </a:lnTo>
                                      <a:lnTo>
                                        <a:pt x="4668" y="4696"/>
                                      </a:lnTo>
                                      <a:lnTo>
                                        <a:pt x="4814" y="4971"/>
                                      </a:lnTo>
                                      <a:lnTo>
                                        <a:pt x="4879" y="5031"/>
                                      </a:lnTo>
                                      <a:lnTo>
                                        <a:pt x="4836" y="5350"/>
                                      </a:lnTo>
                                      <a:lnTo>
                                        <a:pt x="4776" y="5633"/>
                                      </a:lnTo>
                                      <a:lnTo>
                                        <a:pt x="4720" y="6106"/>
                                      </a:lnTo>
                                      <a:lnTo>
                                        <a:pt x="4720" y="6648"/>
                                      </a:lnTo>
                                      <a:lnTo>
                                        <a:pt x="4733" y="6657"/>
                                      </a:lnTo>
                                      <a:lnTo>
                                        <a:pt x="4702" y="6764"/>
                                      </a:lnTo>
                                      <a:lnTo>
                                        <a:pt x="4625" y="6889"/>
                                      </a:lnTo>
                                      <a:lnTo>
                                        <a:pt x="4646" y="6953"/>
                                      </a:lnTo>
                                      <a:lnTo>
                                        <a:pt x="4638" y="6984"/>
                                      </a:lnTo>
                                      <a:lnTo>
                                        <a:pt x="4465" y="7005"/>
                                      </a:lnTo>
                                      <a:lnTo>
                                        <a:pt x="4426" y="6984"/>
                                      </a:lnTo>
                                      <a:lnTo>
                                        <a:pt x="4141" y="7005"/>
                                      </a:lnTo>
                                      <a:lnTo>
                                        <a:pt x="4141" y="6945"/>
                                      </a:lnTo>
                                      <a:lnTo>
                                        <a:pt x="4236" y="6859"/>
                                      </a:lnTo>
                                      <a:lnTo>
                                        <a:pt x="4310" y="6837"/>
                                      </a:lnTo>
                                      <a:lnTo>
                                        <a:pt x="4426" y="6751"/>
                                      </a:lnTo>
                                      <a:lnTo>
                                        <a:pt x="4478" y="6635"/>
                                      </a:lnTo>
                                      <a:lnTo>
                                        <a:pt x="4512" y="6403"/>
                                      </a:lnTo>
                                      <a:lnTo>
                                        <a:pt x="4478" y="5547"/>
                                      </a:lnTo>
                                      <a:lnTo>
                                        <a:pt x="4405" y="5294"/>
                                      </a:lnTo>
                                      <a:lnTo>
                                        <a:pt x="4370" y="5212"/>
                                      </a:lnTo>
                                      <a:lnTo>
                                        <a:pt x="4288" y="5117"/>
                                      </a:lnTo>
                                      <a:lnTo>
                                        <a:pt x="4107" y="4864"/>
                                      </a:lnTo>
                                      <a:lnTo>
                                        <a:pt x="3926" y="4717"/>
                                      </a:lnTo>
                                      <a:lnTo>
                                        <a:pt x="3736" y="4601"/>
                                      </a:lnTo>
                                      <a:lnTo>
                                        <a:pt x="3624" y="4442"/>
                                      </a:lnTo>
                                      <a:lnTo>
                                        <a:pt x="3602" y="4189"/>
                                      </a:lnTo>
                                      <a:lnTo>
                                        <a:pt x="3589" y="3986"/>
                                      </a:lnTo>
                                      <a:lnTo>
                                        <a:pt x="3503" y="3724"/>
                                      </a:lnTo>
                                      <a:lnTo>
                                        <a:pt x="3494" y="3716"/>
                                      </a:lnTo>
                                      <a:lnTo>
                                        <a:pt x="3473" y="3716"/>
                                      </a:lnTo>
                                      <a:lnTo>
                                        <a:pt x="3451" y="3660"/>
                                      </a:lnTo>
                                      <a:lnTo>
                                        <a:pt x="3421" y="3630"/>
                                      </a:lnTo>
                                      <a:lnTo>
                                        <a:pt x="3335" y="3617"/>
                                      </a:lnTo>
                                      <a:lnTo>
                                        <a:pt x="3313" y="3642"/>
                                      </a:lnTo>
                                      <a:lnTo>
                                        <a:pt x="3313" y="3660"/>
                                      </a:lnTo>
                                      <a:lnTo>
                                        <a:pt x="3348" y="3690"/>
                                      </a:lnTo>
                                      <a:lnTo>
                                        <a:pt x="3399" y="3690"/>
                                      </a:lnTo>
                                      <a:lnTo>
                                        <a:pt x="3473" y="3819"/>
                                      </a:lnTo>
                                      <a:lnTo>
                                        <a:pt x="3421" y="3810"/>
                                      </a:lnTo>
                                      <a:lnTo>
                                        <a:pt x="3386" y="3892"/>
                                      </a:lnTo>
                                      <a:lnTo>
                                        <a:pt x="3335" y="3905"/>
                                      </a:lnTo>
                                      <a:lnTo>
                                        <a:pt x="3313" y="3956"/>
                                      </a:lnTo>
                                      <a:lnTo>
                                        <a:pt x="3292" y="3935"/>
                                      </a:lnTo>
                                      <a:lnTo>
                                        <a:pt x="3274" y="3935"/>
                                      </a:lnTo>
                                      <a:lnTo>
                                        <a:pt x="3218" y="4021"/>
                                      </a:lnTo>
                                      <a:lnTo>
                                        <a:pt x="3188" y="4029"/>
                                      </a:lnTo>
                                      <a:lnTo>
                                        <a:pt x="3153" y="4029"/>
                                      </a:lnTo>
                                      <a:lnTo>
                                        <a:pt x="3153" y="4021"/>
                                      </a:lnTo>
                                      <a:lnTo>
                                        <a:pt x="3132" y="3999"/>
                                      </a:lnTo>
                                      <a:lnTo>
                                        <a:pt x="3102" y="3999"/>
                                      </a:lnTo>
                                      <a:lnTo>
                                        <a:pt x="3080" y="4038"/>
                                      </a:lnTo>
                                      <a:lnTo>
                                        <a:pt x="3037" y="4072"/>
                                      </a:lnTo>
                                      <a:lnTo>
                                        <a:pt x="2998" y="4051"/>
                                      </a:lnTo>
                                      <a:lnTo>
                                        <a:pt x="2985" y="4038"/>
                                      </a:lnTo>
                                      <a:lnTo>
                                        <a:pt x="2912" y="4115"/>
                                      </a:lnTo>
                                      <a:lnTo>
                                        <a:pt x="2869" y="4115"/>
                                      </a:lnTo>
                                      <a:lnTo>
                                        <a:pt x="2856" y="4085"/>
                                      </a:lnTo>
                                      <a:lnTo>
                                        <a:pt x="2847" y="4072"/>
                                      </a:lnTo>
                                      <a:lnTo>
                                        <a:pt x="2826" y="4072"/>
                                      </a:lnTo>
                                      <a:lnTo>
                                        <a:pt x="2795" y="4124"/>
                                      </a:lnTo>
                                      <a:lnTo>
                                        <a:pt x="2774" y="4146"/>
                                      </a:lnTo>
                                      <a:lnTo>
                                        <a:pt x="2731" y="4115"/>
                                      </a:lnTo>
                                      <a:lnTo>
                                        <a:pt x="2649" y="4167"/>
                                      </a:lnTo>
                                      <a:lnTo>
                                        <a:pt x="2614" y="4158"/>
                                      </a:lnTo>
                                      <a:lnTo>
                                        <a:pt x="2593" y="4158"/>
                                      </a:lnTo>
                                      <a:lnTo>
                                        <a:pt x="2571" y="4197"/>
                                      </a:lnTo>
                                      <a:lnTo>
                                        <a:pt x="2541" y="4232"/>
                                      </a:lnTo>
                                      <a:lnTo>
                                        <a:pt x="2519" y="4197"/>
                                      </a:lnTo>
                                      <a:lnTo>
                                        <a:pt x="2489" y="4167"/>
                                      </a:lnTo>
                                      <a:lnTo>
                                        <a:pt x="2437" y="4219"/>
                                      </a:lnTo>
                                      <a:lnTo>
                                        <a:pt x="2364" y="4219"/>
                                      </a:lnTo>
                                      <a:lnTo>
                                        <a:pt x="2364" y="4210"/>
                                      </a:lnTo>
                                      <a:lnTo>
                                        <a:pt x="2351" y="4197"/>
                                      </a:lnTo>
                                      <a:lnTo>
                                        <a:pt x="2308" y="4262"/>
                                      </a:lnTo>
                                      <a:lnTo>
                                        <a:pt x="2278" y="4253"/>
                                      </a:lnTo>
                                      <a:lnTo>
                                        <a:pt x="2256" y="4283"/>
                                      </a:lnTo>
                                      <a:lnTo>
                                        <a:pt x="2256" y="4292"/>
                                      </a:lnTo>
                                      <a:lnTo>
                                        <a:pt x="2235" y="4292"/>
                                      </a:lnTo>
                                      <a:lnTo>
                                        <a:pt x="2235" y="4283"/>
                                      </a:lnTo>
                                      <a:lnTo>
                                        <a:pt x="2213" y="4262"/>
                                      </a:lnTo>
                                      <a:lnTo>
                                        <a:pt x="2161" y="4283"/>
                                      </a:lnTo>
                                      <a:lnTo>
                                        <a:pt x="2140" y="4283"/>
                                      </a:lnTo>
                                      <a:lnTo>
                                        <a:pt x="2118" y="4262"/>
                                      </a:lnTo>
                                      <a:lnTo>
                                        <a:pt x="2109" y="4275"/>
                                      </a:lnTo>
                                      <a:lnTo>
                                        <a:pt x="2109" y="4305"/>
                                      </a:lnTo>
                                      <a:lnTo>
                                        <a:pt x="2053" y="4262"/>
                                      </a:lnTo>
                                      <a:lnTo>
                                        <a:pt x="2032" y="4292"/>
                                      </a:lnTo>
                                      <a:lnTo>
                                        <a:pt x="1980" y="4275"/>
                                      </a:lnTo>
                                      <a:lnTo>
                                        <a:pt x="1967" y="4262"/>
                                      </a:lnTo>
                                      <a:lnTo>
                                        <a:pt x="2096" y="4103"/>
                                      </a:lnTo>
                                      <a:lnTo>
                                        <a:pt x="2127" y="4038"/>
                                      </a:lnTo>
                                      <a:lnTo>
                                        <a:pt x="2075" y="3956"/>
                                      </a:lnTo>
                                      <a:lnTo>
                                        <a:pt x="2053" y="3840"/>
                                      </a:lnTo>
                                      <a:lnTo>
                                        <a:pt x="2045" y="3832"/>
                                      </a:lnTo>
                                      <a:lnTo>
                                        <a:pt x="2014" y="3832"/>
                                      </a:lnTo>
                                      <a:lnTo>
                                        <a:pt x="1980" y="3905"/>
                                      </a:lnTo>
                                      <a:lnTo>
                                        <a:pt x="1894" y="3965"/>
                                      </a:lnTo>
                                      <a:lnTo>
                                        <a:pt x="1885" y="3978"/>
                                      </a:lnTo>
                                      <a:lnTo>
                                        <a:pt x="1863" y="3905"/>
                                      </a:lnTo>
                                      <a:lnTo>
                                        <a:pt x="1833" y="3870"/>
                                      </a:lnTo>
                                      <a:lnTo>
                                        <a:pt x="1812" y="3892"/>
                                      </a:lnTo>
                                      <a:lnTo>
                                        <a:pt x="1777" y="3870"/>
                                      </a:lnTo>
                                      <a:lnTo>
                                        <a:pt x="1760" y="3849"/>
                                      </a:lnTo>
                                      <a:lnTo>
                                        <a:pt x="1674" y="3965"/>
                                      </a:lnTo>
                                      <a:lnTo>
                                        <a:pt x="1665" y="3986"/>
                                      </a:lnTo>
                                      <a:lnTo>
                                        <a:pt x="1643" y="4008"/>
                                      </a:lnTo>
                                      <a:lnTo>
                                        <a:pt x="1523" y="3943"/>
                                      </a:lnTo>
                                      <a:lnTo>
                                        <a:pt x="1536" y="3892"/>
                                      </a:lnTo>
                                      <a:lnTo>
                                        <a:pt x="1536" y="3862"/>
                                      </a:lnTo>
                                      <a:lnTo>
                                        <a:pt x="1505" y="3832"/>
                                      </a:lnTo>
                                      <a:lnTo>
                                        <a:pt x="1346" y="3986"/>
                                      </a:lnTo>
                                      <a:lnTo>
                                        <a:pt x="1281" y="4124"/>
                                      </a:lnTo>
                                      <a:lnTo>
                                        <a:pt x="1221" y="4133"/>
                                      </a:lnTo>
                                      <a:lnTo>
                                        <a:pt x="1113" y="3986"/>
                                      </a:lnTo>
                                      <a:lnTo>
                                        <a:pt x="1078" y="3986"/>
                                      </a:lnTo>
                                      <a:lnTo>
                                        <a:pt x="1078" y="4085"/>
                                      </a:lnTo>
                                      <a:lnTo>
                                        <a:pt x="996" y="3986"/>
                                      </a:lnTo>
                                      <a:lnTo>
                                        <a:pt x="983" y="3956"/>
                                      </a:lnTo>
                                      <a:lnTo>
                                        <a:pt x="962" y="3935"/>
                                      </a:lnTo>
                                      <a:lnTo>
                                        <a:pt x="923" y="3978"/>
                                      </a:lnTo>
                                      <a:lnTo>
                                        <a:pt x="880" y="3870"/>
                                      </a:lnTo>
                                      <a:lnTo>
                                        <a:pt x="858" y="3849"/>
                                      </a:lnTo>
                                      <a:lnTo>
                                        <a:pt x="837" y="3862"/>
                                      </a:lnTo>
                                      <a:lnTo>
                                        <a:pt x="815" y="3883"/>
                                      </a:lnTo>
                                      <a:lnTo>
                                        <a:pt x="815" y="3965"/>
                                      </a:lnTo>
                                      <a:lnTo>
                                        <a:pt x="772" y="3849"/>
                                      </a:lnTo>
                                      <a:lnTo>
                                        <a:pt x="763" y="3767"/>
                                      </a:lnTo>
                                      <a:lnTo>
                                        <a:pt x="742" y="3754"/>
                                      </a:lnTo>
                                      <a:lnTo>
                                        <a:pt x="668" y="3789"/>
                                      </a:lnTo>
                                      <a:lnTo>
                                        <a:pt x="561" y="3673"/>
                                      </a:lnTo>
                                      <a:lnTo>
                                        <a:pt x="530" y="3673"/>
                                      </a:lnTo>
                                      <a:lnTo>
                                        <a:pt x="444" y="3565"/>
                                      </a:lnTo>
                                      <a:lnTo>
                                        <a:pt x="414" y="3565"/>
                                      </a:lnTo>
                                      <a:lnTo>
                                        <a:pt x="341" y="3354"/>
                                      </a:lnTo>
                                      <a:lnTo>
                                        <a:pt x="310" y="3354"/>
                                      </a:lnTo>
                                      <a:lnTo>
                                        <a:pt x="284" y="3376"/>
                                      </a:lnTo>
                                      <a:lnTo>
                                        <a:pt x="284" y="3440"/>
                                      </a:lnTo>
                                      <a:lnTo>
                                        <a:pt x="246" y="3122"/>
                                      </a:lnTo>
                                      <a:lnTo>
                                        <a:pt x="233" y="3114"/>
                                      </a:lnTo>
                                      <a:lnTo>
                                        <a:pt x="211" y="3114"/>
                                      </a:lnTo>
                                      <a:lnTo>
                                        <a:pt x="190" y="3131"/>
                                      </a:lnTo>
                                      <a:lnTo>
                                        <a:pt x="190" y="3165"/>
                                      </a:lnTo>
                                      <a:lnTo>
                                        <a:pt x="168" y="2911"/>
                                      </a:lnTo>
                                      <a:lnTo>
                                        <a:pt x="168" y="2825"/>
                                      </a:lnTo>
                                      <a:lnTo>
                                        <a:pt x="159" y="2817"/>
                                      </a:lnTo>
                                      <a:lnTo>
                                        <a:pt x="138" y="2817"/>
                                      </a:lnTo>
                                      <a:lnTo>
                                        <a:pt x="108" y="2868"/>
                                      </a:lnTo>
                                      <a:lnTo>
                                        <a:pt x="116" y="2658"/>
                                      </a:lnTo>
                                      <a:lnTo>
                                        <a:pt x="95" y="2636"/>
                                      </a:lnTo>
                                      <a:lnTo>
                                        <a:pt x="73" y="2636"/>
                                      </a:lnTo>
                                      <a:lnTo>
                                        <a:pt x="34" y="2731"/>
                                      </a:lnTo>
                                      <a:lnTo>
                                        <a:pt x="43" y="2490"/>
                                      </a:lnTo>
                                      <a:lnTo>
                                        <a:pt x="56" y="2469"/>
                                      </a:lnTo>
                                      <a:lnTo>
                                        <a:pt x="56" y="2434"/>
                                      </a:lnTo>
                                      <a:lnTo>
                                        <a:pt x="13" y="2404"/>
                                      </a:lnTo>
                                      <a:lnTo>
                                        <a:pt x="86" y="2129"/>
                                      </a:lnTo>
                                      <a:lnTo>
                                        <a:pt x="86" y="2112"/>
                                      </a:lnTo>
                                      <a:lnTo>
                                        <a:pt x="64" y="2086"/>
                                      </a:lnTo>
                                      <a:lnTo>
                                        <a:pt x="43" y="2086"/>
                                      </a:lnTo>
                                      <a:lnTo>
                                        <a:pt x="0" y="2159"/>
                                      </a:lnTo>
                                      <a:lnTo>
                                        <a:pt x="108" y="1815"/>
                                      </a:lnTo>
                                      <a:lnTo>
                                        <a:pt x="73" y="1781"/>
                                      </a:lnTo>
                                      <a:lnTo>
                                        <a:pt x="0" y="1875"/>
                                      </a:lnTo>
                                      <a:lnTo>
                                        <a:pt x="95" y="1634"/>
                                      </a:lnTo>
                                      <a:lnTo>
                                        <a:pt x="181" y="1497"/>
                                      </a:lnTo>
                                      <a:lnTo>
                                        <a:pt x="181" y="1467"/>
                                      </a:lnTo>
                                      <a:lnTo>
                                        <a:pt x="168" y="1454"/>
                                      </a:lnTo>
                                      <a:lnTo>
                                        <a:pt x="138" y="1454"/>
                                      </a:lnTo>
                                      <a:lnTo>
                                        <a:pt x="95" y="1518"/>
                                      </a:lnTo>
                                      <a:lnTo>
                                        <a:pt x="211" y="1170"/>
                                      </a:lnTo>
                                      <a:lnTo>
                                        <a:pt x="202" y="1161"/>
                                      </a:lnTo>
                                      <a:lnTo>
                                        <a:pt x="129" y="1213"/>
                                      </a:lnTo>
                                      <a:lnTo>
                                        <a:pt x="224" y="1024"/>
                                      </a:lnTo>
                                      <a:lnTo>
                                        <a:pt x="224" y="1002"/>
                                      </a:lnTo>
                                      <a:lnTo>
                                        <a:pt x="202" y="981"/>
                                      </a:lnTo>
                                      <a:lnTo>
                                        <a:pt x="116" y="1045"/>
                                      </a:lnTo>
                                      <a:lnTo>
                                        <a:pt x="246" y="852"/>
                                      </a:lnTo>
                                      <a:lnTo>
                                        <a:pt x="284" y="809"/>
                                      </a:lnTo>
                                      <a:lnTo>
                                        <a:pt x="263" y="749"/>
                                      </a:lnTo>
                                      <a:lnTo>
                                        <a:pt x="530" y="482"/>
                                      </a:lnTo>
                                      <a:lnTo>
                                        <a:pt x="561" y="443"/>
                                      </a:lnTo>
                                      <a:lnTo>
                                        <a:pt x="772" y="473"/>
                                      </a:lnTo>
                                      <a:lnTo>
                                        <a:pt x="910" y="508"/>
                                      </a:lnTo>
                                      <a:lnTo>
                                        <a:pt x="1294" y="430"/>
                                      </a:lnTo>
                                      <a:lnTo>
                                        <a:pt x="1367" y="400"/>
                                      </a:lnTo>
                                      <a:lnTo>
                                        <a:pt x="1398" y="430"/>
                                      </a:lnTo>
                                      <a:lnTo>
                                        <a:pt x="1462" y="409"/>
                                      </a:lnTo>
                                      <a:lnTo>
                                        <a:pt x="1492" y="379"/>
                                      </a:lnTo>
                                      <a:lnTo>
                                        <a:pt x="1492" y="357"/>
                                      </a:lnTo>
                                      <a:lnTo>
                                        <a:pt x="1484" y="349"/>
                                      </a:lnTo>
                                      <a:lnTo>
                                        <a:pt x="1410" y="379"/>
                                      </a:lnTo>
                                      <a:lnTo>
                                        <a:pt x="1484" y="293"/>
                                      </a:lnTo>
                                      <a:lnTo>
                                        <a:pt x="1505" y="147"/>
                                      </a:lnTo>
                                      <a:lnTo>
                                        <a:pt x="1609" y="0"/>
                                      </a:lnTo>
                                      <a:lnTo>
                                        <a:pt x="1665" y="0"/>
                                      </a:lnTo>
                                      <a:lnTo>
                                        <a:pt x="1738" y="73"/>
                                      </a:lnTo>
                                      <a:close/>
                                    </a:path>
                                  </a:pathLst>
                                </a:custGeom>
                                <a:blipFill rotWithShape="0">
                                  <a:blip r:embed="rId123"/>
                                  <a:srcRect/>
                                  <a:tile tx="0" ty="0" sx="100000" sy="100000" algn="ctr"/>
                                </a:blip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266" name=""/>
                              <p:cNvSpPr/>
                              <p:nvPr/>
                            </p:nvSpPr>
                            <p:spPr>
                              <a:xfrm rot="21419400">
                                <a:off x="2681640" y="1965240"/>
                                <a:ext cx="123480" cy="226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208" h="236">
                                    <a:moveTo>
                                      <a:pt x="160" y="103"/>
                                    </a:moveTo>
                                    <a:lnTo>
                                      <a:pt x="333" y="103"/>
                                    </a:lnTo>
                                    <a:lnTo>
                                      <a:pt x="337" y="99"/>
                                    </a:lnTo>
                                    <a:lnTo>
                                      <a:pt x="341" y="94"/>
                                    </a:lnTo>
                                    <a:lnTo>
                                      <a:pt x="350" y="90"/>
                                    </a:lnTo>
                                    <a:lnTo>
                                      <a:pt x="358" y="86"/>
                                    </a:lnTo>
                                    <a:lnTo>
                                      <a:pt x="371" y="81"/>
                                    </a:lnTo>
                                    <a:lnTo>
                                      <a:pt x="380" y="77"/>
                                    </a:lnTo>
                                    <a:lnTo>
                                      <a:pt x="389" y="73"/>
                                    </a:lnTo>
                                    <a:lnTo>
                                      <a:pt x="393" y="73"/>
                                    </a:lnTo>
                                    <a:lnTo>
                                      <a:pt x="414" y="51"/>
                                    </a:lnTo>
                                    <a:lnTo>
                                      <a:pt x="445" y="51"/>
                                    </a:lnTo>
                                    <a:lnTo>
                                      <a:pt x="492" y="51"/>
                                    </a:lnTo>
                                    <a:lnTo>
                                      <a:pt x="557" y="56"/>
                                    </a:lnTo>
                                    <a:lnTo>
                                      <a:pt x="626" y="56"/>
                                    </a:lnTo>
                                    <a:lnTo>
                                      <a:pt x="695" y="56"/>
                                    </a:lnTo>
                                    <a:lnTo>
                                      <a:pt x="755" y="51"/>
                                    </a:lnTo>
                                    <a:lnTo>
                                      <a:pt x="798" y="47"/>
                                    </a:lnTo>
                                    <a:lnTo>
                                      <a:pt x="820" y="43"/>
                                    </a:lnTo>
                                    <a:lnTo>
                                      <a:pt x="820" y="30"/>
                                    </a:lnTo>
                                    <a:lnTo>
                                      <a:pt x="833" y="25"/>
                                    </a:lnTo>
                                    <a:lnTo>
                                      <a:pt x="850" y="17"/>
                                    </a:lnTo>
                                    <a:lnTo>
                                      <a:pt x="863" y="13"/>
                                    </a:lnTo>
                                    <a:lnTo>
                                      <a:pt x="880" y="8"/>
                                    </a:lnTo>
                                    <a:lnTo>
                                      <a:pt x="898" y="4"/>
                                    </a:lnTo>
                                    <a:lnTo>
                                      <a:pt x="911" y="4"/>
                                    </a:lnTo>
                                    <a:lnTo>
                                      <a:pt x="928" y="0"/>
                                    </a:lnTo>
                                    <a:lnTo>
                                      <a:pt x="945" y="0"/>
                                    </a:lnTo>
                                    <a:lnTo>
                                      <a:pt x="967" y="13"/>
                                    </a:lnTo>
                                    <a:lnTo>
                                      <a:pt x="993" y="25"/>
                                    </a:lnTo>
                                    <a:lnTo>
                                      <a:pt x="1027" y="34"/>
                                    </a:lnTo>
                                    <a:lnTo>
                                      <a:pt x="1066" y="38"/>
                                    </a:lnTo>
                                    <a:lnTo>
                                      <a:pt x="1105" y="38"/>
                                    </a:lnTo>
                                    <a:lnTo>
                                      <a:pt x="1144" y="43"/>
                                    </a:lnTo>
                                    <a:lnTo>
                                      <a:pt x="1178" y="43"/>
                                    </a:lnTo>
                                    <a:lnTo>
                                      <a:pt x="1208" y="43"/>
                                    </a:lnTo>
                                    <a:lnTo>
                                      <a:pt x="1208" y="47"/>
                                    </a:lnTo>
                                    <a:lnTo>
                                      <a:pt x="1204" y="51"/>
                                    </a:lnTo>
                                    <a:lnTo>
                                      <a:pt x="1204" y="56"/>
                                    </a:lnTo>
                                    <a:lnTo>
                                      <a:pt x="1200" y="64"/>
                                    </a:lnTo>
                                    <a:lnTo>
                                      <a:pt x="1191" y="68"/>
                                    </a:lnTo>
                                    <a:lnTo>
                                      <a:pt x="1187" y="73"/>
                                    </a:lnTo>
                                    <a:lnTo>
                                      <a:pt x="1182" y="77"/>
                                    </a:lnTo>
                                    <a:lnTo>
                                      <a:pt x="1178" y="81"/>
                                    </a:lnTo>
                                    <a:lnTo>
                                      <a:pt x="1157" y="86"/>
                                    </a:lnTo>
                                    <a:lnTo>
                                      <a:pt x="1131" y="86"/>
                                    </a:lnTo>
                                    <a:lnTo>
                                      <a:pt x="1109" y="94"/>
                                    </a:lnTo>
                                    <a:lnTo>
                                      <a:pt x="1083" y="99"/>
                                    </a:lnTo>
                                    <a:lnTo>
                                      <a:pt x="1062" y="103"/>
                                    </a:lnTo>
                                    <a:lnTo>
                                      <a:pt x="1036" y="107"/>
                                    </a:lnTo>
                                    <a:lnTo>
                                      <a:pt x="1014" y="111"/>
                                    </a:lnTo>
                                    <a:lnTo>
                                      <a:pt x="997" y="111"/>
                                    </a:lnTo>
                                    <a:lnTo>
                                      <a:pt x="1001" y="116"/>
                                    </a:lnTo>
                                    <a:lnTo>
                                      <a:pt x="1001" y="116"/>
                                    </a:lnTo>
                                    <a:lnTo>
                                      <a:pt x="1006" y="120"/>
                                    </a:lnTo>
                                    <a:lnTo>
                                      <a:pt x="1010" y="124"/>
                                    </a:lnTo>
                                    <a:lnTo>
                                      <a:pt x="1014" y="129"/>
                                    </a:lnTo>
                                    <a:lnTo>
                                      <a:pt x="1018" y="133"/>
                                    </a:lnTo>
                                    <a:lnTo>
                                      <a:pt x="1023" y="137"/>
                                    </a:lnTo>
                                    <a:lnTo>
                                      <a:pt x="1027" y="142"/>
                                    </a:lnTo>
                                    <a:lnTo>
                                      <a:pt x="811" y="154"/>
                                    </a:lnTo>
                                    <a:lnTo>
                                      <a:pt x="811" y="159"/>
                                    </a:lnTo>
                                    <a:lnTo>
                                      <a:pt x="811" y="163"/>
                                    </a:lnTo>
                                    <a:lnTo>
                                      <a:pt x="807" y="167"/>
                                    </a:lnTo>
                                    <a:lnTo>
                                      <a:pt x="807" y="176"/>
                                    </a:lnTo>
                                    <a:lnTo>
                                      <a:pt x="807" y="180"/>
                                    </a:lnTo>
                                    <a:lnTo>
                                      <a:pt x="803" y="185"/>
                                    </a:lnTo>
                                    <a:lnTo>
                                      <a:pt x="803" y="189"/>
                                    </a:lnTo>
                                    <a:lnTo>
                                      <a:pt x="803" y="193"/>
                                    </a:lnTo>
                                    <a:lnTo>
                                      <a:pt x="781" y="193"/>
                                    </a:lnTo>
                                    <a:lnTo>
                                      <a:pt x="755" y="189"/>
                                    </a:lnTo>
                                    <a:lnTo>
                                      <a:pt x="721" y="185"/>
                                    </a:lnTo>
                                    <a:lnTo>
                                      <a:pt x="686" y="180"/>
                                    </a:lnTo>
                                    <a:lnTo>
                                      <a:pt x="652" y="180"/>
                                    </a:lnTo>
                                    <a:lnTo>
                                      <a:pt x="622" y="176"/>
                                    </a:lnTo>
                                    <a:lnTo>
                                      <a:pt x="596" y="180"/>
                                    </a:lnTo>
                                    <a:lnTo>
                                      <a:pt x="578" y="185"/>
                                    </a:lnTo>
                                    <a:lnTo>
                                      <a:pt x="578" y="193"/>
                                    </a:lnTo>
                                    <a:lnTo>
                                      <a:pt x="548" y="193"/>
                                    </a:lnTo>
                                    <a:lnTo>
                                      <a:pt x="548" y="206"/>
                                    </a:lnTo>
                                    <a:lnTo>
                                      <a:pt x="548" y="215"/>
                                    </a:lnTo>
                                    <a:lnTo>
                                      <a:pt x="100" y="236"/>
                                    </a:lnTo>
                                    <a:lnTo>
                                      <a:pt x="95" y="228"/>
                                    </a:lnTo>
                                    <a:lnTo>
                                      <a:pt x="87" y="219"/>
                                    </a:lnTo>
                                    <a:lnTo>
                                      <a:pt x="82" y="206"/>
                                    </a:lnTo>
                                    <a:lnTo>
                                      <a:pt x="74" y="197"/>
                                    </a:lnTo>
                                    <a:lnTo>
                                      <a:pt x="65" y="185"/>
                                    </a:lnTo>
                                    <a:lnTo>
                                      <a:pt x="61" y="172"/>
                                    </a:lnTo>
                                    <a:lnTo>
                                      <a:pt x="52" y="163"/>
                                    </a:lnTo>
                                    <a:lnTo>
                                      <a:pt x="48" y="154"/>
                                    </a:lnTo>
                                    <a:lnTo>
                                      <a:pt x="91" y="167"/>
                                    </a:lnTo>
                                    <a:lnTo>
                                      <a:pt x="164" y="159"/>
                                    </a:lnTo>
                                    <a:lnTo>
                                      <a:pt x="186" y="137"/>
                                    </a:lnTo>
                                    <a:lnTo>
                                      <a:pt x="160" y="103"/>
                                    </a:lnTo>
                                    <a:close/>
                                    <a:moveTo>
                                      <a:pt x="22" y="142"/>
                                    </a:moveTo>
                                    <a:lnTo>
                                      <a:pt x="18" y="142"/>
                                    </a:lnTo>
                                    <a:lnTo>
                                      <a:pt x="13" y="142"/>
                                    </a:lnTo>
                                    <a:lnTo>
                                      <a:pt x="13" y="142"/>
                                    </a:lnTo>
                                    <a:lnTo>
                                      <a:pt x="9" y="142"/>
                                    </a:lnTo>
                                    <a:lnTo>
                                      <a:pt x="9" y="142"/>
                                    </a:lnTo>
                                    <a:lnTo>
                                      <a:pt x="5" y="137"/>
                                    </a:lnTo>
                                    <a:lnTo>
                                      <a:pt x="5" y="137"/>
                                    </a:lnTo>
                                    <a:lnTo>
                                      <a:pt x="0" y="137"/>
                                    </a:lnTo>
                                    <a:lnTo>
                                      <a:pt x="5" y="137"/>
                                    </a:lnTo>
                                    <a:lnTo>
                                      <a:pt x="22" y="142"/>
                                    </a:lnTo>
                                    <a:close/>
                                  </a:path>
                                </a:pathLst>
                              </a:custGeom>
                              <a:solidFill>
                                <a:srgbClr val="ffefdf"/>
                              </a:solidFill>
                              <a:ln w="324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4120" bIns="-241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267" name=""/>
                            <p:cNvSpPr/>
                            <p:nvPr/>
                          </p:nvSpPr>
                          <p:spPr>
                            <a:xfrm rot="21419400">
                              <a:off x="2652120" y="2014200"/>
                              <a:ext cx="54360" cy="248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31" h="258">
                                  <a:moveTo>
                                    <a:pt x="121" y="0"/>
                                  </a:moveTo>
                                  <a:lnTo>
                                    <a:pt x="125" y="4"/>
                                  </a:lnTo>
                                  <a:lnTo>
                                    <a:pt x="130" y="4"/>
                                  </a:lnTo>
                                  <a:lnTo>
                                    <a:pt x="134" y="4"/>
                                  </a:lnTo>
                                  <a:lnTo>
                                    <a:pt x="138" y="4"/>
                                  </a:lnTo>
                                  <a:lnTo>
                                    <a:pt x="138" y="4"/>
                                  </a:lnTo>
                                  <a:lnTo>
                                    <a:pt x="143" y="4"/>
                                  </a:lnTo>
                                  <a:lnTo>
                                    <a:pt x="147" y="4"/>
                                  </a:lnTo>
                                  <a:lnTo>
                                    <a:pt x="151" y="4"/>
                                  </a:lnTo>
                                  <a:lnTo>
                                    <a:pt x="151" y="86"/>
                                  </a:lnTo>
                                  <a:lnTo>
                                    <a:pt x="177" y="90"/>
                                  </a:lnTo>
                                  <a:lnTo>
                                    <a:pt x="212" y="103"/>
                                  </a:lnTo>
                                  <a:lnTo>
                                    <a:pt x="246" y="120"/>
                                  </a:lnTo>
                                  <a:lnTo>
                                    <a:pt x="281" y="137"/>
                                  </a:lnTo>
                                  <a:lnTo>
                                    <a:pt x="324" y="155"/>
                                  </a:lnTo>
                                  <a:lnTo>
                                    <a:pt x="363" y="172"/>
                                  </a:lnTo>
                                  <a:lnTo>
                                    <a:pt x="406" y="185"/>
                                  </a:lnTo>
                                  <a:lnTo>
                                    <a:pt x="445" y="189"/>
                                  </a:lnTo>
                                  <a:lnTo>
                                    <a:pt x="449" y="193"/>
                                  </a:lnTo>
                                  <a:lnTo>
                                    <a:pt x="453" y="202"/>
                                  </a:lnTo>
                                  <a:lnTo>
                                    <a:pt x="466" y="210"/>
                                  </a:lnTo>
                                  <a:lnTo>
                                    <a:pt x="479" y="219"/>
                                  </a:lnTo>
                                  <a:lnTo>
                                    <a:pt x="492" y="228"/>
                                  </a:lnTo>
                                  <a:lnTo>
                                    <a:pt x="505" y="241"/>
                                  </a:lnTo>
                                  <a:lnTo>
                                    <a:pt x="518" y="249"/>
                                  </a:lnTo>
                                  <a:lnTo>
                                    <a:pt x="531" y="258"/>
                                  </a:lnTo>
                                  <a:lnTo>
                                    <a:pt x="458" y="253"/>
                                  </a:lnTo>
                                  <a:lnTo>
                                    <a:pt x="358" y="232"/>
                                  </a:lnTo>
                                  <a:lnTo>
                                    <a:pt x="225" y="232"/>
                                  </a:lnTo>
                                  <a:lnTo>
                                    <a:pt x="130" y="219"/>
                                  </a:lnTo>
                                  <a:lnTo>
                                    <a:pt x="87" y="198"/>
                                  </a:lnTo>
                                  <a:lnTo>
                                    <a:pt x="13" y="198"/>
                                  </a:lnTo>
                                  <a:lnTo>
                                    <a:pt x="0" y="159"/>
                                  </a:lnTo>
                                  <a:lnTo>
                                    <a:pt x="44" y="38"/>
                                  </a:lnTo>
                                  <a:lnTo>
                                    <a:pt x="121" y="0"/>
                                  </a:lnTo>
                                  <a:close/>
                                </a:path>
                              </a:pathLst>
                            </a:custGeom>
                            <a:blipFill rotWithShape="0">
                              <a:blip r:embed="rId124"/>
                              <a:srcRect/>
                              <a:tile tx="0" ty="0" sx="100000" sy="100000" algn="ctr"/>
                            </a:blipFill>
                            <a:ln w="9360">
                              <a:solidFill>
                                <a:srgbClr val="ffcc99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1960" bIns="-2196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268" name=""/>
                          <p:cNvGrpSpPr/>
                          <p:nvPr/>
                        </p:nvGrpSpPr>
                        <p:grpSpPr>
                          <a:xfrm>
                            <a:off x="2707920" y="2007720"/>
                            <a:ext cx="536040" cy="685080"/>
                            <a:chOff x="2707920" y="2007720"/>
                            <a:chExt cx="536040" cy="685080"/>
                          </a:xfrm>
                        </p:grpSpPr>
                        <p:grpSp>
                          <p:nvGrpSpPr>
                            <p:cNvPr id="269" name=""/>
                            <p:cNvGrpSpPr/>
                            <p:nvPr/>
                          </p:nvGrpSpPr>
                          <p:grpSpPr>
                            <a:xfrm>
                              <a:off x="2850840" y="2190600"/>
                              <a:ext cx="270000" cy="82440"/>
                              <a:chOff x="2850840" y="2190600"/>
                              <a:chExt cx="270000" cy="82440"/>
                            </a:xfrm>
                          </p:grpSpPr>
                          <p:sp>
                            <p:nvSpPr>
                              <p:cNvPr id="270" name=""/>
                              <p:cNvSpPr/>
                              <p:nvPr/>
                            </p:nvSpPr>
                            <p:spPr>
                              <a:xfrm rot="21419400">
                                <a:off x="2851200" y="2210760"/>
                                <a:ext cx="78480" cy="266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768" h="275">
                                    <a:moveTo>
                                      <a:pt x="77" y="129"/>
                                    </a:moveTo>
                                    <a:lnTo>
                                      <a:pt x="86" y="125"/>
                                    </a:lnTo>
                                    <a:lnTo>
                                      <a:pt x="99" y="121"/>
                                    </a:lnTo>
                                    <a:lnTo>
                                      <a:pt x="112" y="112"/>
                                    </a:lnTo>
                                    <a:lnTo>
                                      <a:pt x="129" y="103"/>
                                    </a:lnTo>
                                    <a:lnTo>
                                      <a:pt x="142" y="95"/>
                                    </a:lnTo>
                                    <a:lnTo>
                                      <a:pt x="155" y="86"/>
                                    </a:lnTo>
                                    <a:lnTo>
                                      <a:pt x="168" y="82"/>
                                    </a:lnTo>
                                    <a:lnTo>
                                      <a:pt x="177" y="78"/>
                                    </a:lnTo>
                                    <a:lnTo>
                                      <a:pt x="181" y="60"/>
                                    </a:lnTo>
                                    <a:lnTo>
                                      <a:pt x="194" y="47"/>
                                    </a:lnTo>
                                    <a:lnTo>
                                      <a:pt x="211" y="39"/>
                                    </a:lnTo>
                                    <a:lnTo>
                                      <a:pt x="233" y="26"/>
                                    </a:lnTo>
                                    <a:lnTo>
                                      <a:pt x="293" y="13"/>
                                    </a:lnTo>
                                    <a:lnTo>
                                      <a:pt x="362" y="4"/>
                                    </a:lnTo>
                                    <a:lnTo>
                                      <a:pt x="436" y="0"/>
                                    </a:lnTo>
                                    <a:lnTo>
                                      <a:pt x="500" y="4"/>
                                    </a:lnTo>
                                    <a:lnTo>
                                      <a:pt x="556" y="9"/>
                                    </a:lnTo>
                                    <a:lnTo>
                                      <a:pt x="591" y="17"/>
                                    </a:lnTo>
                                    <a:lnTo>
                                      <a:pt x="591" y="30"/>
                                    </a:lnTo>
                                    <a:lnTo>
                                      <a:pt x="604" y="35"/>
                                    </a:lnTo>
                                    <a:lnTo>
                                      <a:pt x="621" y="43"/>
                                    </a:lnTo>
                                    <a:lnTo>
                                      <a:pt x="638" y="52"/>
                                    </a:lnTo>
                                    <a:lnTo>
                                      <a:pt x="660" y="60"/>
                                    </a:lnTo>
                                    <a:lnTo>
                                      <a:pt x="681" y="73"/>
                                    </a:lnTo>
                                    <a:lnTo>
                                      <a:pt x="699" y="82"/>
                                    </a:lnTo>
                                    <a:lnTo>
                                      <a:pt x="716" y="86"/>
                                    </a:lnTo>
                                    <a:lnTo>
                                      <a:pt x="729" y="86"/>
                                    </a:lnTo>
                                    <a:lnTo>
                                      <a:pt x="733" y="90"/>
                                    </a:lnTo>
                                    <a:lnTo>
                                      <a:pt x="738" y="95"/>
                                    </a:lnTo>
                                    <a:lnTo>
                                      <a:pt x="742" y="103"/>
                                    </a:lnTo>
                                    <a:lnTo>
                                      <a:pt x="751" y="108"/>
                                    </a:lnTo>
                                    <a:lnTo>
                                      <a:pt x="755" y="112"/>
                                    </a:lnTo>
                                    <a:lnTo>
                                      <a:pt x="759" y="112"/>
                                    </a:lnTo>
                                    <a:lnTo>
                                      <a:pt x="763" y="116"/>
                                    </a:lnTo>
                                    <a:lnTo>
                                      <a:pt x="768" y="116"/>
                                    </a:lnTo>
                                    <a:lnTo>
                                      <a:pt x="768" y="224"/>
                                    </a:lnTo>
                                    <a:lnTo>
                                      <a:pt x="742" y="245"/>
                                    </a:lnTo>
                                    <a:lnTo>
                                      <a:pt x="703" y="262"/>
                                    </a:lnTo>
                                    <a:lnTo>
                                      <a:pt x="656" y="271"/>
                                    </a:lnTo>
                                    <a:lnTo>
                                      <a:pt x="604" y="275"/>
                                    </a:lnTo>
                                    <a:lnTo>
                                      <a:pt x="552" y="275"/>
                                    </a:lnTo>
                                    <a:lnTo>
                                      <a:pt x="500" y="271"/>
                                    </a:lnTo>
                                    <a:lnTo>
                                      <a:pt x="457" y="262"/>
                                    </a:lnTo>
                                    <a:lnTo>
                                      <a:pt x="423" y="245"/>
                                    </a:lnTo>
                                    <a:lnTo>
                                      <a:pt x="423" y="237"/>
                                    </a:lnTo>
                                    <a:lnTo>
                                      <a:pt x="418" y="237"/>
                                    </a:lnTo>
                                    <a:lnTo>
                                      <a:pt x="410" y="237"/>
                                    </a:lnTo>
                                    <a:lnTo>
                                      <a:pt x="401" y="237"/>
                                    </a:lnTo>
                                    <a:lnTo>
                                      <a:pt x="388" y="237"/>
                                    </a:lnTo>
                                    <a:lnTo>
                                      <a:pt x="379" y="237"/>
                                    </a:lnTo>
                                    <a:lnTo>
                                      <a:pt x="371" y="241"/>
                                    </a:lnTo>
                                    <a:lnTo>
                                      <a:pt x="367" y="241"/>
                                    </a:lnTo>
                                    <a:lnTo>
                                      <a:pt x="362" y="245"/>
                                    </a:lnTo>
                                    <a:lnTo>
                                      <a:pt x="47" y="245"/>
                                    </a:lnTo>
                                    <a:lnTo>
                                      <a:pt x="43" y="245"/>
                                    </a:lnTo>
                                    <a:lnTo>
                                      <a:pt x="43" y="245"/>
                                    </a:lnTo>
                                    <a:lnTo>
                                      <a:pt x="39" y="241"/>
                                    </a:lnTo>
                                    <a:lnTo>
                                      <a:pt x="34" y="241"/>
                                    </a:lnTo>
                                    <a:lnTo>
                                      <a:pt x="30" y="237"/>
                                    </a:lnTo>
                                    <a:lnTo>
                                      <a:pt x="26" y="237"/>
                                    </a:lnTo>
                                    <a:lnTo>
                                      <a:pt x="21" y="237"/>
                                    </a:lnTo>
                                    <a:lnTo>
                                      <a:pt x="17" y="237"/>
                                    </a:lnTo>
                                    <a:lnTo>
                                      <a:pt x="0" y="215"/>
                                    </a:lnTo>
                                    <a:lnTo>
                                      <a:pt x="0" y="176"/>
                                    </a:lnTo>
                                    <a:lnTo>
                                      <a:pt x="4" y="172"/>
                                    </a:lnTo>
                                    <a:lnTo>
                                      <a:pt x="8" y="168"/>
                                    </a:lnTo>
                                    <a:lnTo>
                                      <a:pt x="13" y="164"/>
                                    </a:lnTo>
                                    <a:lnTo>
                                      <a:pt x="17" y="155"/>
                                    </a:lnTo>
                                    <a:lnTo>
                                      <a:pt x="21" y="151"/>
                                    </a:lnTo>
                                    <a:lnTo>
                                      <a:pt x="26" y="142"/>
                                    </a:lnTo>
                                    <a:lnTo>
                                      <a:pt x="30" y="133"/>
                                    </a:lnTo>
                                    <a:lnTo>
                                      <a:pt x="30" y="129"/>
                                    </a:lnTo>
                                    <a:lnTo>
                                      <a:pt x="34" y="125"/>
                                    </a:lnTo>
                                    <a:lnTo>
                                      <a:pt x="39" y="121"/>
                                    </a:lnTo>
                                    <a:lnTo>
                                      <a:pt x="47" y="116"/>
                                    </a:lnTo>
                                    <a:lnTo>
                                      <a:pt x="52" y="108"/>
                                    </a:lnTo>
                                    <a:lnTo>
                                      <a:pt x="60" y="103"/>
                                    </a:lnTo>
                                    <a:lnTo>
                                      <a:pt x="69" y="108"/>
                                    </a:lnTo>
                                    <a:lnTo>
                                      <a:pt x="73" y="112"/>
                                    </a:lnTo>
                                    <a:lnTo>
                                      <a:pt x="77" y="129"/>
                                    </a:lnTo>
                                    <a:close/>
                                  </a:path>
                                </a:pathLst>
                              </a:custGeom>
                              <a:blipFill rotWithShape="0">
                                <a:blip r:embed="rId125"/>
                                <a:srcRect/>
                                <a:tile tx="0" ty="0" sx="100000" sy="100000" algn="ctr"/>
                              </a:blip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20160" bIns="-20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71" name=""/>
                              <p:cNvSpPr/>
                              <p:nvPr/>
                            </p:nvSpPr>
                            <p:spPr>
                              <a:xfrm rot="21419400">
                                <a:off x="2978640" y="2193840"/>
                                <a:ext cx="140400" cy="7524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72" h="778">
                                    <a:moveTo>
                                      <a:pt x="39" y="95"/>
                                    </a:moveTo>
                                    <a:lnTo>
                                      <a:pt x="86" y="65"/>
                                    </a:lnTo>
                                    <a:lnTo>
                                      <a:pt x="134" y="39"/>
                                    </a:lnTo>
                                    <a:lnTo>
                                      <a:pt x="190" y="22"/>
                                    </a:lnTo>
                                    <a:lnTo>
                                      <a:pt x="246" y="9"/>
                                    </a:lnTo>
                                    <a:lnTo>
                                      <a:pt x="306" y="0"/>
                                    </a:lnTo>
                                    <a:lnTo>
                                      <a:pt x="371" y="0"/>
                                    </a:lnTo>
                                    <a:lnTo>
                                      <a:pt x="431" y="0"/>
                                    </a:lnTo>
                                    <a:lnTo>
                                      <a:pt x="496" y="9"/>
                                    </a:lnTo>
                                    <a:lnTo>
                                      <a:pt x="561" y="17"/>
                                    </a:lnTo>
                                    <a:lnTo>
                                      <a:pt x="626" y="30"/>
                                    </a:lnTo>
                                    <a:lnTo>
                                      <a:pt x="686" y="47"/>
                                    </a:lnTo>
                                    <a:lnTo>
                                      <a:pt x="742" y="69"/>
                                    </a:lnTo>
                                    <a:lnTo>
                                      <a:pt x="798" y="95"/>
                                    </a:lnTo>
                                    <a:lnTo>
                                      <a:pt x="850" y="121"/>
                                    </a:lnTo>
                                    <a:lnTo>
                                      <a:pt x="897" y="146"/>
                                    </a:lnTo>
                                    <a:lnTo>
                                      <a:pt x="936" y="176"/>
                                    </a:lnTo>
                                    <a:lnTo>
                                      <a:pt x="936" y="198"/>
                                    </a:lnTo>
                                    <a:lnTo>
                                      <a:pt x="962" y="211"/>
                                    </a:lnTo>
                                    <a:lnTo>
                                      <a:pt x="992" y="228"/>
                                    </a:lnTo>
                                    <a:lnTo>
                                      <a:pt x="1027" y="241"/>
                                    </a:lnTo>
                                    <a:lnTo>
                                      <a:pt x="1066" y="254"/>
                                    </a:lnTo>
                                    <a:lnTo>
                                      <a:pt x="1148" y="284"/>
                                    </a:lnTo>
                                    <a:lnTo>
                                      <a:pt x="1234" y="318"/>
                                    </a:lnTo>
                                    <a:lnTo>
                                      <a:pt x="1273" y="336"/>
                                    </a:lnTo>
                                    <a:lnTo>
                                      <a:pt x="1307" y="357"/>
                                    </a:lnTo>
                                    <a:lnTo>
                                      <a:pt x="1333" y="379"/>
                                    </a:lnTo>
                                    <a:lnTo>
                                      <a:pt x="1355" y="404"/>
                                    </a:lnTo>
                                    <a:lnTo>
                                      <a:pt x="1363" y="422"/>
                                    </a:lnTo>
                                    <a:lnTo>
                                      <a:pt x="1368" y="434"/>
                                    </a:lnTo>
                                    <a:lnTo>
                                      <a:pt x="1372" y="452"/>
                                    </a:lnTo>
                                    <a:lnTo>
                                      <a:pt x="1372" y="469"/>
                                    </a:lnTo>
                                    <a:lnTo>
                                      <a:pt x="1372" y="486"/>
                                    </a:lnTo>
                                    <a:lnTo>
                                      <a:pt x="1368" y="503"/>
                                    </a:lnTo>
                                    <a:lnTo>
                                      <a:pt x="1359" y="520"/>
                                    </a:lnTo>
                                    <a:lnTo>
                                      <a:pt x="1346" y="542"/>
                                    </a:lnTo>
                                    <a:lnTo>
                                      <a:pt x="1316" y="546"/>
                                    </a:lnTo>
                                    <a:lnTo>
                                      <a:pt x="1286" y="551"/>
                                    </a:lnTo>
                                    <a:lnTo>
                                      <a:pt x="1255" y="563"/>
                                    </a:lnTo>
                                    <a:lnTo>
                                      <a:pt x="1225" y="572"/>
                                    </a:lnTo>
                                    <a:lnTo>
                                      <a:pt x="1191" y="585"/>
                                    </a:lnTo>
                                    <a:lnTo>
                                      <a:pt x="1161" y="594"/>
                                    </a:lnTo>
                                    <a:lnTo>
                                      <a:pt x="1130" y="602"/>
                                    </a:lnTo>
                                    <a:lnTo>
                                      <a:pt x="1100" y="602"/>
                                    </a:lnTo>
                                    <a:lnTo>
                                      <a:pt x="1070" y="632"/>
                                    </a:lnTo>
                                    <a:lnTo>
                                      <a:pt x="1027" y="662"/>
                                    </a:lnTo>
                                    <a:lnTo>
                                      <a:pt x="971" y="697"/>
                                    </a:lnTo>
                                    <a:lnTo>
                                      <a:pt x="910" y="731"/>
                                    </a:lnTo>
                                    <a:lnTo>
                                      <a:pt x="850" y="757"/>
                                    </a:lnTo>
                                    <a:lnTo>
                                      <a:pt x="790" y="774"/>
                                    </a:lnTo>
                                    <a:lnTo>
                                      <a:pt x="764" y="778"/>
                                    </a:lnTo>
                                    <a:lnTo>
                                      <a:pt x="738" y="778"/>
                                    </a:lnTo>
                                    <a:lnTo>
                                      <a:pt x="712" y="774"/>
                                    </a:lnTo>
                                    <a:lnTo>
                                      <a:pt x="695" y="766"/>
                                    </a:lnTo>
                                    <a:lnTo>
                                      <a:pt x="695" y="744"/>
                                    </a:lnTo>
                                    <a:lnTo>
                                      <a:pt x="664" y="731"/>
                                    </a:lnTo>
                                    <a:lnTo>
                                      <a:pt x="630" y="718"/>
                                    </a:lnTo>
                                    <a:lnTo>
                                      <a:pt x="582" y="701"/>
                                    </a:lnTo>
                                    <a:lnTo>
                                      <a:pt x="539" y="688"/>
                                    </a:lnTo>
                                    <a:lnTo>
                                      <a:pt x="492" y="680"/>
                                    </a:lnTo>
                                    <a:lnTo>
                                      <a:pt x="444" y="671"/>
                                    </a:lnTo>
                                    <a:lnTo>
                                      <a:pt x="401" y="667"/>
                                    </a:lnTo>
                                    <a:lnTo>
                                      <a:pt x="367" y="667"/>
                                    </a:lnTo>
                                    <a:lnTo>
                                      <a:pt x="345" y="645"/>
                                    </a:lnTo>
                                    <a:lnTo>
                                      <a:pt x="315" y="624"/>
                                    </a:lnTo>
                                    <a:lnTo>
                                      <a:pt x="280" y="602"/>
                                    </a:lnTo>
                                    <a:lnTo>
                                      <a:pt x="242" y="576"/>
                                    </a:lnTo>
                                    <a:lnTo>
                                      <a:pt x="203" y="555"/>
                                    </a:lnTo>
                                    <a:lnTo>
                                      <a:pt x="164" y="538"/>
                                    </a:lnTo>
                                    <a:lnTo>
                                      <a:pt x="129" y="529"/>
                                    </a:lnTo>
                                    <a:lnTo>
                                      <a:pt x="104" y="520"/>
                                    </a:lnTo>
                                    <a:lnTo>
                                      <a:pt x="99" y="499"/>
                                    </a:lnTo>
                                    <a:lnTo>
                                      <a:pt x="91" y="482"/>
                                    </a:lnTo>
                                    <a:lnTo>
                                      <a:pt x="82" y="460"/>
                                    </a:lnTo>
                                    <a:lnTo>
                                      <a:pt x="69" y="443"/>
                                    </a:lnTo>
                                    <a:lnTo>
                                      <a:pt x="60" y="422"/>
                                    </a:lnTo>
                                    <a:lnTo>
                                      <a:pt x="52" y="404"/>
                                    </a:lnTo>
                                    <a:lnTo>
                                      <a:pt x="43" y="383"/>
                                    </a:lnTo>
                                    <a:lnTo>
                                      <a:pt x="39" y="361"/>
                                    </a:lnTo>
                                    <a:lnTo>
                                      <a:pt x="35" y="357"/>
                                    </a:lnTo>
                                    <a:lnTo>
                                      <a:pt x="26" y="353"/>
                                    </a:lnTo>
                                    <a:lnTo>
                                      <a:pt x="22" y="344"/>
                                    </a:lnTo>
                                    <a:lnTo>
                                      <a:pt x="17" y="336"/>
                                    </a:lnTo>
                                    <a:lnTo>
                                      <a:pt x="9" y="305"/>
                                    </a:lnTo>
                                    <a:lnTo>
                                      <a:pt x="4" y="275"/>
                                    </a:lnTo>
                                    <a:lnTo>
                                      <a:pt x="0" y="241"/>
                                    </a:lnTo>
                                    <a:lnTo>
                                      <a:pt x="0" y="207"/>
                                    </a:lnTo>
                                    <a:lnTo>
                                      <a:pt x="0" y="176"/>
                                    </a:lnTo>
                                    <a:lnTo>
                                      <a:pt x="0" y="155"/>
                                    </a:lnTo>
                                    <a:lnTo>
                                      <a:pt x="9" y="155"/>
                                    </a:lnTo>
                                    <a:lnTo>
                                      <a:pt x="13" y="142"/>
                                    </a:lnTo>
                                    <a:lnTo>
                                      <a:pt x="22" y="129"/>
                                    </a:lnTo>
                                    <a:lnTo>
                                      <a:pt x="26" y="112"/>
                                    </a:lnTo>
                                    <a:lnTo>
                                      <a:pt x="35" y="95"/>
                                    </a:lnTo>
                                    <a:lnTo>
                                      <a:pt x="39" y="78"/>
                                    </a:lnTo>
                                    <a:lnTo>
                                      <a:pt x="39" y="65"/>
                                    </a:lnTo>
                                    <a:lnTo>
                                      <a:pt x="39" y="56"/>
                                    </a:lnTo>
                                    <a:lnTo>
                                      <a:pt x="39" y="95"/>
                                    </a:lnTo>
                                    <a:close/>
                                  </a:path>
                                </a:pathLst>
                              </a:custGeom>
                              <a:blipFill rotWithShape="0">
                                <a:blip r:embed="rId126"/>
                                <a:srcRect/>
                                <a:tile tx="0" ty="0" sx="100000" sy="100000" algn="ctr"/>
                              </a:blip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28440" bIns="284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72" name=""/>
                              <p:cNvSpPr/>
                              <p:nvPr/>
                            </p:nvSpPr>
                            <p:spPr>
                              <a:xfrm rot="21419400">
                                <a:off x="3003120" y="2203920"/>
                                <a:ext cx="84240" cy="4536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824" h="469">
                                    <a:moveTo>
                                      <a:pt x="26" y="56"/>
                                    </a:moveTo>
                                    <a:lnTo>
                                      <a:pt x="51" y="39"/>
                                    </a:lnTo>
                                    <a:lnTo>
                                      <a:pt x="82" y="22"/>
                                    </a:lnTo>
                                    <a:lnTo>
                                      <a:pt x="116" y="13"/>
                                    </a:lnTo>
                                    <a:lnTo>
                                      <a:pt x="151" y="5"/>
                                    </a:lnTo>
                                    <a:lnTo>
                                      <a:pt x="185" y="0"/>
                                    </a:lnTo>
                                    <a:lnTo>
                                      <a:pt x="224" y="0"/>
                                    </a:lnTo>
                                    <a:lnTo>
                                      <a:pt x="263" y="0"/>
                                    </a:lnTo>
                                    <a:lnTo>
                                      <a:pt x="302" y="5"/>
                                    </a:lnTo>
                                    <a:lnTo>
                                      <a:pt x="375" y="18"/>
                                    </a:lnTo>
                                    <a:lnTo>
                                      <a:pt x="448" y="43"/>
                                    </a:lnTo>
                                    <a:lnTo>
                                      <a:pt x="483" y="56"/>
                                    </a:lnTo>
                                    <a:lnTo>
                                      <a:pt x="513" y="69"/>
                                    </a:lnTo>
                                    <a:lnTo>
                                      <a:pt x="539" y="86"/>
                                    </a:lnTo>
                                    <a:lnTo>
                                      <a:pt x="565" y="104"/>
                                    </a:lnTo>
                                    <a:lnTo>
                                      <a:pt x="565" y="108"/>
                                    </a:lnTo>
                                    <a:lnTo>
                                      <a:pt x="565" y="108"/>
                                    </a:lnTo>
                                    <a:lnTo>
                                      <a:pt x="565" y="112"/>
                                    </a:lnTo>
                                    <a:lnTo>
                                      <a:pt x="565" y="112"/>
                                    </a:lnTo>
                                    <a:lnTo>
                                      <a:pt x="565" y="112"/>
                                    </a:lnTo>
                                    <a:lnTo>
                                      <a:pt x="565" y="116"/>
                                    </a:lnTo>
                                    <a:lnTo>
                                      <a:pt x="565" y="116"/>
                                    </a:lnTo>
                                    <a:lnTo>
                                      <a:pt x="565" y="116"/>
                                    </a:lnTo>
                                    <a:lnTo>
                                      <a:pt x="595" y="134"/>
                                    </a:lnTo>
                                    <a:lnTo>
                                      <a:pt x="642" y="151"/>
                                    </a:lnTo>
                                    <a:lnTo>
                                      <a:pt x="690" y="168"/>
                                    </a:lnTo>
                                    <a:lnTo>
                                      <a:pt x="742" y="190"/>
                                    </a:lnTo>
                                    <a:lnTo>
                                      <a:pt x="763" y="202"/>
                                    </a:lnTo>
                                    <a:lnTo>
                                      <a:pt x="785" y="215"/>
                                    </a:lnTo>
                                    <a:lnTo>
                                      <a:pt x="802" y="228"/>
                                    </a:lnTo>
                                    <a:lnTo>
                                      <a:pt x="815" y="241"/>
                                    </a:lnTo>
                                    <a:lnTo>
                                      <a:pt x="824" y="258"/>
                                    </a:lnTo>
                                    <a:lnTo>
                                      <a:pt x="824" y="280"/>
                                    </a:lnTo>
                                    <a:lnTo>
                                      <a:pt x="819" y="301"/>
                                    </a:lnTo>
                                    <a:lnTo>
                                      <a:pt x="811" y="327"/>
                                    </a:lnTo>
                                    <a:lnTo>
                                      <a:pt x="789" y="327"/>
                                    </a:lnTo>
                                    <a:lnTo>
                                      <a:pt x="772" y="331"/>
                                    </a:lnTo>
                                    <a:lnTo>
                                      <a:pt x="755" y="336"/>
                                    </a:lnTo>
                                    <a:lnTo>
                                      <a:pt x="737" y="344"/>
                                    </a:lnTo>
                                    <a:lnTo>
                                      <a:pt x="716" y="349"/>
                                    </a:lnTo>
                                    <a:lnTo>
                                      <a:pt x="699" y="357"/>
                                    </a:lnTo>
                                    <a:lnTo>
                                      <a:pt x="681" y="362"/>
                                    </a:lnTo>
                                    <a:lnTo>
                                      <a:pt x="664" y="362"/>
                                    </a:lnTo>
                                    <a:lnTo>
                                      <a:pt x="642" y="379"/>
                                    </a:lnTo>
                                    <a:lnTo>
                                      <a:pt x="617" y="396"/>
                                    </a:lnTo>
                                    <a:lnTo>
                                      <a:pt x="586" y="417"/>
                                    </a:lnTo>
                                    <a:lnTo>
                                      <a:pt x="548" y="439"/>
                                    </a:lnTo>
                                    <a:lnTo>
                                      <a:pt x="513" y="456"/>
                                    </a:lnTo>
                                    <a:lnTo>
                                      <a:pt x="474" y="465"/>
                                    </a:lnTo>
                                    <a:lnTo>
                                      <a:pt x="461" y="469"/>
                                    </a:lnTo>
                                    <a:lnTo>
                                      <a:pt x="444" y="469"/>
                                    </a:lnTo>
                                    <a:lnTo>
                                      <a:pt x="431" y="465"/>
                                    </a:lnTo>
                                    <a:lnTo>
                                      <a:pt x="418" y="460"/>
                                    </a:lnTo>
                                    <a:lnTo>
                                      <a:pt x="418" y="456"/>
                                    </a:lnTo>
                                    <a:lnTo>
                                      <a:pt x="418" y="456"/>
                                    </a:lnTo>
                                    <a:lnTo>
                                      <a:pt x="418" y="456"/>
                                    </a:lnTo>
                                    <a:lnTo>
                                      <a:pt x="418" y="452"/>
                                    </a:lnTo>
                                    <a:lnTo>
                                      <a:pt x="418" y="452"/>
                                    </a:lnTo>
                                    <a:lnTo>
                                      <a:pt x="418" y="452"/>
                                    </a:lnTo>
                                    <a:lnTo>
                                      <a:pt x="418" y="448"/>
                                    </a:lnTo>
                                    <a:lnTo>
                                      <a:pt x="418" y="448"/>
                                    </a:lnTo>
                                    <a:lnTo>
                                      <a:pt x="401" y="439"/>
                                    </a:lnTo>
                                    <a:lnTo>
                                      <a:pt x="379" y="430"/>
                                    </a:lnTo>
                                    <a:lnTo>
                                      <a:pt x="353" y="422"/>
                                    </a:lnTo>
                                    <a:lnTo>
                                      <a:pt x="323" y="413"/>
                                    </a:lnTo>
                                    <a:lnTo>
                                      <a:pt x="297" y="409"/>
                                    </a:lnTo>
                                    <a:lnTo>
                                      <a:pt x="267" y="405"/>
                                    </a:lnTo>
                                    <a:lnTo>
                                      <a:pt x="241" y="400"/>
                                    </a:lnTo>
                                    <a:lnTo>
                                      <a:pt x="220" y="400"/>
                                    </a:lnTo>
                                    <a:lnTo>
                                      <a:pt x="211" y="387"/>
                                    </a:lnTo>
                                    <a:lnTo>
                                      <a:pt x="194" y="374"/>
                                    </a:lnTo>
                                    <a:lnTo>
                                      <a:pt x="172" y="362"/>
                                    </a:lnTo>
                                    <a:lnTo>
                                      <a:pt x="146" y="344"/>
                                    </a:lnTo>
                                    <a:lnTo>
                                      <a:pt x="125" y="331"/>
                                    </a:lnTo>
                                    <a:lnTo>
                                      <a:pt x="99" y="323"/>
                                    </a:lnTo>
                                    <a:lnTo>
                                      <a:pt x="77" y="314"/>
                                    </a:lnTo>
                                    <a:lnTo>
                                      <a:pt x="64" y="314"/>
                                    </a:lnTo>
                                    <a:lnTo>
                                      <a:pt x="60" y="301"/>
                                    </a:lnTo>
                                    <a:lnTo>
                                      <a:pt x="56" y="288"/>
                                    </a:lnTo>
                                    <a:lnTo>
                                      <a:pt x="51" y="276"/>
                                    </a:lnTo>
                                    <a:lnTo>
                                      <a:pt x="43" y="263"/>
                                    </a:lnTo>
                                    <a:lnTo>
                                      <a:pt x="38" y="254"/>
                                    </a:lnTo>
                                    <a:lnTo>
                                      <a:pt x="30" y="241"/>
                                    </a:lnTo>
                                    <a:lnTo>
                                      <a:pt x="26" y="228"/>
                                    </a:lnTo>
                                    <a:lnTo>
                                      <a:pt x="26" y="215"/>
                                    </a:lnTo>
                                    <a:lnTo>
                                      <a:pt x="17" y="211"/>
                                    </a:lnTo>
                                    <a:lnTo>
                                      <a:pt x="13" y="198"/>
                                    </a:lnTo>
                                    <a:lnTo>
                                      <a:pt x="8" y="185"/>
                                    </a:lnTo>
                                    <a:lnTo>
                                      <a:pt x="4" y="164"/>
                                    </a:lnTo>
                                    <a:lnTo>
                                      <a:pt x="4" y="142"/>
                                    </a:lnTo>
                                    <a:lnTo>
                                      <a:pt x="4" y="121"/>
                                    </a:lnTo>
                                    <a:lnTo>
                                      <a:pt x="0" y="104"/>
                                    </a:lnTo>
                                    <a:lnTo>
                                      <a:pt x="0" y="95"/>
                                    </a:lnTo>
                                    <a:lnTo>
                                      <a:pt x="4" y="91"/>
                                    </a:lnTo>
                                    <a:lnTo>
                                      <a:pt x="13" y="86"/>
                                    </a:lnTo>
                                    <a:lnTo>
                                      <a:pt x="13" y="78"/>
                                    </a:lnTo>
                                    <a:lnTo>
                                      <a:pt x="17" y="69"/>
                                    </a:lnTo>
                                    <a:lnTo>
                                      <a:pt x="21" y="56"/>
                                    </a:lnTo>
                                    <a:lnTo>
                                      <a:pt x="26" y="48"/>
                                    </a:lnTo>
                                    <a:lnTo>
                                      <a:pt x="26" y="39"/>
                                    </a:lnTo>
                                    <a:lnTo>
                                      <a:pt x="26" y="30"/>
                                    </a:lnTo>
                                    <a:lnTo>
                                      <a:pt x="26" y="35"/>
                                    </a:lnTo>
                                    <a:lnTo>
                                      <a:pt x="26" y="39"/>
                                    </a:lnTo>
                                    <a:lnTo>
                                      <a:pt x="26" y="43"/>
                                    </a:lnTo>
                                    <a:lnTo>
                                      <a:pt x="26" y="43"/>
                                    </a:lnTo>
                                    <a:lnTo>
                                      <a:pt x="26" y="48"/>
                                    </a:lnTo>
                                    <a:lnTo>
                                      <a:pt x="26" y="52"/>
                                    </a:lnTo>
                                    <a:lnTo>
                                      <a:pt x="26" y="52"/>
                                    </a:lnTo>
                                    <a:lnTo>
                                      <a:pt x="26" y="56"/>
                                    </a:lnTo>
                                    <a:close/>
                                  </a:path>
                                </a:pathLst>
                              </a:custGeom>
                              <a:blipFill rotWithShape="0">
                                <a:blip r:embed="rId127"/>
                                <a:srcRect/>
                                <a:tile tx="0" ty="0" sx="100000" sy="100000" algn="ctr"/>
                              </a:blip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1440" bIns="-14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273" name=""/>
                            <p:cNvGrpSpPr/>
                            <p:nvPr/>
                          </p:nvGrpSpPr>
                          <p:grpSpPr>
                            <a:xfrm>
                              <a:off x="2707920" y="2007720"/>
                              <a:ext cx="536040" cy="685080"/>
                              <a:chOff x="2707920" y="2007720"/>
                              <a:chExt cx="536040" cy="685080"/>
                            </a:xfrm>
                          </p:grpSpPr>
                          <p:grpSp>
                            <p:nvGrpSpPr>
                              <p:cNvPr id="274" name=""/>
                              <p:cNvGrpSpPr/>
                              <p:nvPr/>
                            </p:nvGrpSpPr>
                            <p:grpSpPr>
                              <a:xfrm>
                                <a:off x="2763720" y="2058480"/>
                                <a:ext cx="480240" cy="471240"/>
                                <a:chOff x="2763720" y="2058480"/>
                                <a:chExt cx="480240" cy="471240"/>
                              </a:xfrm>
                            </p:grpSpPr>
                            <p:sp>
                              <p:nvSpPr>
                                <p:cNvPr id="275" name=""/>
                                <p:cNvSpPr/>
                                <p:nvPr/>
                              </p:nvSpPr>
                              <p:spPr>
                                <a:xfrm rot="21419400">
                                  <a:off x="3072960" y="2255040"/>
                                  <a:ext cx="77400" cy="1476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755" h="1526">
                                      <a:moveTo>
                                        <a:pt x="39" y="774"/>
                                      </a:moveTo>
                                      <a:lnTo>
                                        <a:pt x="69" y="855"/>
                                      </a:lnTo>
                                      <a:lnTo>
                                        <a:pt x="95" y="946"/>
                                      </a:lnTo>
                                      <a:lnTo>
                                        <a:pt x="116" y="1040"/>
                                      </a:lnTo>
                                      <a:lnTo>
                                        <a:pt x="133" y="1143"/>
                                      </a:lnTo>
                                      <a:lnTo>
                                        <a:pt x="146" y="1242"/>
                                      </a:lnTo>
                                      <a:lnTo>
                                        <a:pt x="155" y="1341"/>
                                      </a:lnTo>
                                      <a:lnTo>
                                        <a:pt x="159" y="1436"/>
                                      </a:lnTo>
                                      <a:lnTo>
                                        <a:pt x="164" y="1526"/>
                                      </a:lnTo>
                                      <a:lnTo>
                                        <a:pt x="190" y="1492"/>
                                      </a:lnTo>
                                      <a:lnTo>
                                        <a:pt x="211" y="1462"/>
                                      </a:lnTo>
                                      <a:lnTo>
                                        <a:pt x="228" y="1427"/>
                                      </a:lnTo>
                                      <a:lnTo>
                                        <a:pt x="237" y="1388"/>
                                      </a:lnTo>
                                      <a:lnTo>
                                        <a:pt x="246" y="1354"/>
                                      </a:lnTo>
                                      <a:lnTo>
                                        <a:pt x="246" y="1315"/>
                                      </a:lnTo>
                                      <a:lnTo>
                                        <a:pt x="246" y="1277"/>
                                      </a:lnTo>
                                      <a:lnTo>
                                        <a:pt x="246" y="1238"/>
                                      </a:lnTo>
                                      <a:lnTo>
                                        <a:pt x="233" y="1161"/>
                                      </a:lnTo>
                                      <a:lnTo>
                                        <a:pt x="220" y="1083"/>
                                      </a:lnTo>
                                      <a:lnTo>
                                        <a:pt x="207" y="1006"/>
                                      </a:lnTo>
                                      <a:lnTo>
                                        <a:pt x="202" y="937"/>
                                      </a:lnTo>
                                      <a:lnTo>
                                        <a:pt x="215" y="937"/>
                                      </a:lnTo>
                                      <a:lnTo>
                                        <a:pt x="228" y="946"/>
                                      </a:lnTo>
                                      <a:lnTo>
                                        <a:pt x="246" y="954"/>
                                      </a:lnTo>
                                      <a:lnTo>
                                        <a:pt x="263" y="967"/>
                                      </a:lnTo>
                                      <a:lnTo>
                                        <a:pt x="302" y="1001"/>
                                      </a:lnTo>
                                      <a:lnTo>
                                        <a:pt x="345" y="1044"/>
                                      </a:lnTo>
                                      <a:lnTo>
                                        <a:pt x="384" y="1083"/>
                                      </a:lnTo>
                                      <a:lnTo>
                                        <a:pt x="418" y="1126"/>
                                      </a:lnTo>
                                      <a:lnTo>
                                        <a:pt x="448" y="1156"/>
                                      </a:lnTo>
                                      <a:lnTo>
                                        <a:pt x="470" y="1178"/>
                                      </a:lnTo>
                                      <a:lnTo>
                                        <a:pt x="470" y="1139"/>
                                      </a:lnTo>
                                      <a:lnTo>
                                        <a:pt x="470" y="1092"/>
                                      </a:lnTo>
                                      <a:lnTo>
                                        <a:pt x="470" y="1044"/>
                                      </a:lnTo>
                                      <a:lnTo>
                                        <a:pt x="474" y="997"/>
                                      </a:lnTo>
                                      <a:lnTo>
                                        <a:pt x="479" y="946"/>
                                      </a:lnTo>
                                      <a:lnTo>
                                        <a:pt x="487" y="898"/>
                                      </a:lnTo>
                                      <a:lnTo>
                                        <a:pt x="496" y="855"/>
                                      </a:lnTo>
                                      <a:lnTo>
                                        <a:pt x="509" y="812"/>
                                      </a:lnTo>
                                      <a:lnTo>
                                        <a:pt x="504" y="804"/>
                                      </a:lnTo>
                                      <a:lnTo>
                                        <a:pt x="500" y="791"/>
                                      </a:lnTo>
                                      <a:lnTo>
                                        <a:pt x="492" y="774"/>
                                      </a:lnTo>
                                      <a:lnTo>
                                        <a:pt x="479" y="752"/>
                                      </a:lnTo>
                                      <a:lnTo>
                                        <a:pt x="466" y="735"/>
                                      </a:lnTo>
                                      <a:lnTo>
                                        <a:pt x="457" y="718"/>
                                      </a:lnTo>
                                      <a:lnTo>
                                        <a:pt x="448" y="700"/>
                                      </a:lnTo>
                                      <a:lnTo>
                                        <a:pt x="448" y="692"/>
                                      </a:lnTo>
                                      <a:lnTo>
                                        <a:pt x="569" y="692"/>
                                      </a:lnTo>
                                      <a:lnTo>
                                        <a:pt x="591" y="365"/>
                                      </a:lnTo>
                                      <a:lnTo>
                                        <a:pt x="604" y="369"/>
                                      </a:lnTo>
                                      <a:lnTo>
                                        <a:pt x="621" y="378"/>
                                      </a:lnTo>
                                      <a:lnTo>
                                        <a:pt x="638" y="391"/>
                                      </a:lnTo>
                                      <a:lnTo>
                                        <a:pt x="651" y="408"/>
                                      </a:lnTo>
                                      <a:lnTo>
                                        <a:pt x="668" y="421"/>
                                      </a:lnTo>
                                      <a:lnTo>
                                        <a:pt x="681" y="434"/>
                                      </a:lnTo>
                                      <a:lnTo>
                                        <a:pt x="699" y="442"/>
                                      </a:lnTo>
                                      <a:lnTo>
                                        <a:pt x="712" y="447"/>
                                      </a:lnTo>
                                      <a:lnTo>
                                        <a:pt x="707" y="447"/>
                                      </a:lnTo>
                                      <a:lnTo>
                                        <a:pt x="699" y="438"/>
                                      </a:lnTo>
                                      <a:lnTo>
                                        <a:pt x="694" y="430"/>
                                      </a:lnTo>
                                      <a:lnTo>
                                        <a:pt x="690" y="417"/>
                                      </a:lnTo>
                                      <a:lnTo>
                                        <a:pt x="681" y="387"/>
                                      </a:lnTo>
                                      <a:lnTo>
                                        <a:pt x="673" y="352"/>
                                      </a:lnTo>
                                      <a:lnTo>
                                        <a:pt x="668" y="313"/>
                                      </a:lnTo>
                                      <a:lnTo>
                                        <a:pt x="664" y="275"/>
                                      </a:lnTo>
                                      <a:lnTo>
                                        <a:pt x="660" y="245"/>
                                      </a:lnTo>
                                      <a:lnTo>
                                        <a:pt x="651" y="223"/>
                                      </a:lnTo>
                                      <a:lnTo>
                                        <a:pt x="660" y="215"/>
                                      </a:lnTo>
                                      <a:lnTo>
                                        <a:pt x="668" y="210"/>
                                      </a:lnTo>
                                      <a:lnTo>
                                        <a:pt x="681" y="202"/>
                                      </a:lnTo>
                                      <a:lnTo>
                                        <a:pt x="694" y="197"/>
                                      </a:lnTo>
                                      <a:lnTo>
                                        <a:pt x="707" y="193"/>
                                      </a:lnTo>
                                      <a:lnTo>
                                        <a:pt x="724" y="189"/>
                                      </a:lnTo>
                                      <a:lnTo>
                                        <a:pt x="737" y="184"/>
                                      </a:lnTo>
                                      <a:lnTo>
                                        <a:pt x="755" y="184"/>
                                      </a:lnTo>
                                      <a:lnTo>
                                        <a:pt x="750" y="163"/>
                                      </a:lnTo>
                                      <a:lnTo>
                                        <a:pt x="746" y="137"/>
                                      </a:lnTo>
                                      <a:lnTo>
                                        <a:pt x="737" y="107"/>
                                      </a:lnTo>
                                      <a:lnTo>
                                        <a:pt x="729" y="77"/>
                                      </a:lnTo>
                                      <a:lnTo>
                                        <a:pt x="716" y="47"/>
                                      </a:lnTo>
                                      <a:lnTo>
                                        <a:pt x="703" y="25"/>
                                      </a:lnTo>
                                      <a:lnTo>
                                        <a:pt x="686" y="8"/>
                                      </a:lnTo>
                                      <a:lnTo>
                                        <a:pt x="673" y="0"/>
                                      </a:lnTo>
                                      <a:lnTo>
                                        <a:pt x="673" y="206"/>
                                      </a:lnTo>
                                      <a:lnTo>
                                        <a:pt x="655" y="202"/>
                                      </a:lnTo>
                                      <a:lnTo>
                                        <a:pt x="638" y="193"/>
                                      </a:lnTo>
                                      <a:lnTo>
                                        <a:pt x="621" y="184"/>
                                      </a:lnTo>
                                      <a:lnTo>
                                        <a:pt x="604" y="172"/>
                                      </a:lnTo>
                                      <a:lnTo>
                                        <a:pt x="586" y="163"/>
                                      </a:lnTo>
                                      <a:lnTo>
                                        <a:pt x="573" y="154"/>
                                      </a:lnTo>
                                      <a:lnTo>
                                        <a:pt x="561" y="146"/>
                                      </a:lnTo>
                                      <a:lnTo>
                                        <a:pt x="548" y="141"/>
                                      </a:lnTo>
                                      <a:lnTo>
                                        <a:pt x="552" y="146"/>
                                      </a:lnTo>
                                      <a:lnTo>
                                        <a:pt x="556" y="159"/>
                                      </a:lnTo>
                                      <a:lnTo>
                                        <a:pt x="561" y="176"/>
                                      </a:lnTo>
                                      <a:lnTo>
                                        <a:pt x="569" y="197"/>
                                      </a:lnTo>
                                      <a:lnTo>
                                        <a:pt x="578" y="223"/>
                                      </a:lnTo>
                                      <a:lnTo>
                                        <a:pt x="582" y="245"/>
                                      </a:lnTo>
                                      <a:lnTo>
                                        <a:pt x="586" y="266"/>
                                      </a:lnTo>
                                      <a:lnTo>
                                        <a:pt x="591" y="283"/>
                                      </a:lnTo>
                                      <a:lnTo>
                                        <a:pt x="569" y="326"/>
                                      </a:lnTo>
                                      <a:lnTo>
                                        <a:pt x="561" y="322"/>
                                      </a:lnTo>
                                      <a:lnTo>
                                        <a:pt x="543" y="318"/>
                                      </a:lnTo>
                                      <a:lnTo>
                                        <a:pt x="526" y="313"/>
                                      </a:lnTo>
                                      <a:lnTo>
                                        <a:pt x="509" y="305"/>
                                      </a:lnTo>
                                      <a:lnTo>
                                        <a:pt x="492" y="292"/>
                                      </a:lnTo>
                                      <a:lnTo>
                                        <a:pt x="474" y="283"/>
                                      </a:lnTo>
                                      <a:lnTo>
                                        <a:pt x="457" y="275"/>
                                      </a:lnTo>
                                      <a:lnTo>
                                        <a:pt x="448" y="266"/>
                                      </a:lnTo>
                                      <a:lnTo>
                                        <a:pt x="435" y="313"/>
                                      </a:lnTo>
                                      <a:lnTo>
                                        <a:pt x="431" y="369"/>
                                      </a:lnTo>
                                      <a:lnTo>
                                        <a:pt x="431" y="430"/>
                                      </a:lnTo>
                                      <a:lnTo>
                                        <a:pt x="435" y="490"/>
                                      </a:lnTo>
                                      <a:lnTo>
                                        <a:pt x="448" y="554"/>
                                      </a:lnTo>
                                      <a:lnTo>
                                        <a:pt x="457" y="614"/>
                                      </a:lnTo>
                                      <a:lnTo>
                                        <a:pt x="474" y="675"/>
                                      </a:lnTo>
                                      <a:lnTo>
                                        <a:pt x="487" y="731"/>
                                      </a:lnTo>
                                      <a:lnTo>
                                        <a:pt x="470" y="774"/>
                                      </a:lnTo>
                                      <a:lnTo>
                                        <a:pt x="435" y="769"/>
                                      </a:lnTo>
                                      <a:lnTo>
                                        <a:pt x="410" y="761"/>
                                      </a:lnTo>
                                      <a:lnTo>
                                        <a:pt x="388" y="743"/>
                                      </a:lnTo>
                                      <a:lnTo>
                                        <a:pt x="366" y="726"/>
                                      </a:lnTo>
                                      <a:lnTo>
                                        <a:pt x="349" y="700"/>
                                      </a:lnTo>
                                      <a:lnTo>
                                        <a:pt x="336" y="675"/>
                                      </a:lnTo>
                                      <a:lnTo>
                                        <a:pt x="323" y="649"/>
                                      </a:lnTo>
                                      <a:lnTo>
                                        <a:pt x="315" y="619"/>
                                      </a:lnTo>
                                      <a:lnTo>
                                        <a:pt x="297" y="563"/>
                                      </a:lnTo>
                                      <a:lnTo>
                                        <a:pt x="280" y="516"/>
                                      </a:lnTo>
                                      <a:lnTo>
                                        <a:pt x="267" y="498"/>
                                      </a:lnTo>
                                      <a:lnTo>
                                        <a:pt x="254" y="481"/>
                                      </a:lnTo>
                                      <a:lnTo>
                                        <a:pt x="241" y="473"/>
                                      </a:lnTo>
                                      <a:lnTo>
                                        <a:pt x="224" y="468"/>
                                      </a:lnTo>
                                      <a:lnTo>
                                        <a:pt x="224" y="516"/>
                                      </a:lnTo>
                                      <a:lnTo>
                                        <a:pt x="224" y="567"/>
                                      </a:lnTo>
                                      <a:lnTo>
                                        <a:pt x="224" y="619"/>
                                      </a:lnTo>
                                      <a:lnTo>
                                        <a:pt x="228" y="670"/>
                                      </a:lnTo>
                                      <a:lnTo>
                                        <a:pt x="233" y="718"/>
                                      </a:lnTo>
                                      <a:lnTo>
                                        <a:pt x="241" y="769"/>
                                      </a:lnTo>
                                      <a:lnTo>
                                        <a:pt x="250" y="812"/>
                                      </a:lnTo>
                                      <a:lnTo>
                                        <a:pt x="263" y="855"/>
                                      </a:lnTo>
                                      <a:lnTo>
                                        <a:pt x="263" y="864"/>
                                      </a:lnTo>
                                      <a:lnTo>
                                        <a:pt x="259" y="868"/>
                                      </a:lnTo>
                                      <a:lnTo>
                                        <a:pt x="250" y="877"/>
                                      </a:lnTo>
                                      <a:lnTo>
                                        <a:pt x="246" y="885"/>
                                      </a:lnTo>
                                      <a:lnTo>
                                        <a:pt x="237" y="894"/>
                                      </a:lnTo>
                                      <a:lnTo>
                                        <a:pt x="228" y="898"/>
                                      </a:lnTo>
                                      <a:lnTo>
                                        <a:pt x="224" y="907"/>
                                      </a:lnTo>
                                      <a:lnTo>
                                        <a:pt x="224" y="915"/>
                                      </a:lnTo>
                                      <a:lnTo>
                                        <a:pt x="202" y="915"/>
                                      </a:lnTo>
                                      <a:lnTo>
                                        <a:pt x="181" y="915"/>
                                      </a:lnTo>
                                      <a:lnTo>
                                        <a:pt x="168" y="860"/>
                                      </a:lnTo>
                                      <a:lnTo>
                                        <a:pt x="159" y="799"/>
                                      </a:lnTo>
                                      <a:lnTo>
                                        <a:pt x="151" y="739"/>
                                      </a:lnTo>
                                      <a:lnTo>
                                        <a:pt x="138" y="679"/>
                                      </a:lnTo>
                                      <a:lnTo>
                                        <a:pt x="129" y="649"/>
                                      </a:lnTo>
                                      <a:lnTo>
                                        <a:pt x="116" y="623"/>
                                      </a:lnTo>
                                      <a:lnTo>
                                        <a:pt x="108" y="593"/>
                                      </a:lnTo>
                                      <a:lnTo>
                                        <a:pt x="90" y="571"/>
                                      </a:lnTo>
                                      <a:lnTo>
                                        <a:pt x="73" y="546"/>
                                      </a:lnTo>
                                      <a:lnTo>
                                        <a:pt x="51" y="524"/>
                                      </a:lnTo>
                                      <a:lnTo>
                                        <a:pt x="26" y="507"/>
                                      </a:lnTo>
                                      <a:lnTo>
                                        <a:pt x="0" y="490"/>
                                      </a:lnTo>
                                      <a:lnTo>
                                        <a:pt x="0" y="520"/>
                                      </a:lnTo>
                                      <a:lnTo>
                                        <a:pt x="4" y="554"/>
                                      </a:lnTo>
                                      <a:lnTo>
                                        <a:pt x="4" y="593"/>
                                      </a:lnTo>
                                      <a:lnTo>
                                        <a:pt x="8" y="632"/>
                                      </a:lnTo>
                                      <a:lnTo>
                                        <a:pt x="13" y="670"/>
                                      </a:lnTo>
                                      <a:lnTo>
                                        <a:pt x="17" y="705"/>
                                      </a:lnTo>
                                      <a:lnTo>
                                        <a:pt x="17" y="739"/>
                                      </a:lnTo>
                                      <a:lnTo>
                                        <a:pt x="21" y="774"/>
                                      </a:lnTo>
                                      <a:lnTo>
                                        <a:pt x="60" y="795"/>
                                      </a:lnTo>
                                      <a:lnTo>
                                        <a:pt x="39" y="774"/>
                                      </a:lnTo>
                                      <a:close/>
                                    </a:path>
                                  </a:pathLst>
                                </a:custGeom>
                                <a:blipFill rotWithShape="0">
                                  <a:blip r:embed="rId128"/>
                                  <a:srcRect/>
                                  <a:tile tx="0" ty="0" sx="100000" sy="100000" algn="ctr"/>
                                </a:blip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76" name=""/>
                                <p:cNvSpPr/>
                                <p:nvPr/>
                              </p:nvSpPr>
                              <p:spPr>
                                <a:xfrm rot="21419400">
                                  <a:off x="3055320" y="2217960"/>
                                  <a:ext cx="180720" cy="30708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765" h="3173">
                                      <a:moveTo>
                                        <a:pt x="1277" y="185"/>
                                      </a:moveTo>
                                      <a:lnTo>
                                        <a:pt x="1303" y="275"/>
                                      </a:lnTo>
                                      <a:lnTo>
                                        <a:pt x="1333" y="383"/>
                                      </a:lnTo>
                                      <a:lnTo>
                                        <a:pt x="1364" y="495"/>
                                      </a:lnTo>
                                      <a:lnTo>
                                        <a:pt x="1385" y="615"/>
                                      </a:lnTo>
                                      <a:lnTo>
                                        <a:pt x="1389" y="671"/>
                                      </a:lnTo>
                                      <a:lnTo>
                                        <a:pt x="1394" y="727"/>
                                      </a:lnTo>
                                      <a:lnTo>
                                        <a:pt x="1394" y="783"/>
                                      </a:lnTo>
                                      <a:lnTo>
                                        <a:pt x="1389" y="834"/>
                                      </a:lnTo>
                                      <a:lnTo>
                                        <a:pt x="1381" y="882"/>
                                      </a:lnTo>
                                      <a:lnTo>
                                        <a:pt x="1368" y="925"/>
                                      </a:lnTo>
                                      <a:lnTo>
                                        <a:pt x="1346" y="963"/>
                                      </a:lnTo>
                                      <a:lnTo>
                                        <a:pt x="1320" y="998"/>
                                      </a:lnTo>
                                      <a:lnTo>
                                        <a:pt x="1329" y="998"/>
                                      </a:lnTo>
                                      <a:lnTo>
                                        <a:pt x="1333" y="993"/>
                                      </a:lnTo>
                                      <a:lnTo>
                                        <a:pt x="1342" y="989"/>
                                      </a:lnTo>
                                      <a:lnTo>
                                        <a:pt x="1346" y="985"/>
                                      </a:lnTo>
                                      <a:lnTo>
                                        <a:pt x="1355" y="976"/>
                                      </a:lnTo>
                                      <a:lnTo>
                                        <a:pt x="1355" y="972"/>
                                      </a:lnTo>
                                      <a:lnTo>
                                        <a:pt x="1359" y="963"/>
                                      </a:lnTo>
                                      <a:lnTo>
                                        <a:pt x="1359" y="955"/>
                                      </a:lnTo>
                                      <a:lnTo>
                                        <a:pt x="1359" y="933"/>
                                      </a:lnTo>
                                      <a:lnTo>
                                        <a:pt x="1355" y="912"/>
                                      </a:lnTo>
                                      <a:lnTo>
                                        <a:pt x="1351" y="890"/>
                                      </a:lnTo>
                                      <a:lnTo>
                                        <a:pt x="1342" y="869"/>
                                      </a:lnTo>
                                      <a:lnTo>
                                        <a:pt x="1333" y="851"/>
                                      </a:lnTo>
                                      <a:lnTo>
                                        <a:pt x="1316" y="834"/>
                                      </a:lnTo>
                                      <a:lnTo>
                                        <a:pt x="1299" y="821"/>
                                      </a:lnTo>
                                      <a:lnTo>
                                        <a:pt x="1277" y="813"/>
                                      </a:lnTo>
                                      <a:lnTo>
                                        <a:pt x="1238" y="1320"/>
                                      </a:lnTo>
                                      <a:lnTo>
                                        <a:pt x="1230" y="1307"/>
                                      </a:lnTo>
                                      <a:lnTo>
                                        <a:pt x="1221" y="1290"/>
                                      </a:lnTo>
                                      <a:lnTo>
                                        <a:pt x="1213" y="1277"/>
                                      </a:lnTo>
                                      <a:lnTo>
                                        <a:pt x="1204" y="1260"/>
                                      </a:lnTo>
                                      <a:lnTo>
                                        <a:pt x="1195" y="1247"/>
                                      </a:lnTo>
                                      <a:lnTo>
                                        <a:pt x="1182" y="1230"/>
                                      </a:lnTo>
                                      <a:lnTo>
                                        <a:pt x="1169" y="1217"/>
                                      </a:lnTo>
                                      <a:lnTo>
                                        <a:pt x="1156" y="1200"/>
                                      </a:lnTo>
                                      <a:lnTo>
                                        <a:pt x="1144" y="1234"/>
                                      </a:lnTo>
                                      <a:lnTo>
                                        <a:pt x="1139" y="1273"/>
                                      </a:lnTo>
                                      <a:lnTo>
                                        <a:pt x="1135" y="1312"/>
                                      </a:lnTo>
                                      <a:lnTo>
                                        <a:pt x="1139" y="1355"/>
                                      </a:lnTo>
                                      <a:lnTo>
                                        <a:pt x="1148" y="1441"/>
                                      </a:lnTo>
                                      <a:lnTo>
                                        <a:pt x="1161" y="1531"/>
                                      </a:lnTo>
                                      <a:lnTo>
                                        <a:pt x="1161" y="1578"/>
                                      </a:lnTo>
                                      <a:lnTo>
                                        <a:pt x="1165" y="1621"/>
                                      </a:lnTo>
                                      <a:lnTo>
                                        <a:pt x="1161" y="1668"/>
                                      </a:lnTo>
                                      <a:lnTo>
                                        <a:pt x="1152" y="1716"/>
                                      </a:lnTo>
                                      <a:lnTo>
                                        <a:pt x="1139" y="1759"/>
                                      </a:lnTo>
                                      <a:lnTo>
                                        <a:pt x="1122" y="1806"/>
                                      </a:lnTo>
                                      <a:lnTo>
                                        <a:pt x="1092" y="1849"/>
                                      </a:lnTo>
                                      <a:lnTo>
                                        <a:pt x="1053" y="1892"/>
                                      </a:lnTo>
                                      <a:lnTo>
                                        <a:pt x="1036" y="1892"/>
                                      </a:lnTo>
                                      <a:lnTo>
                                        <a:pt x="1014" y="1892"/>
                                      </a:lnTo>
                                      <a:lnTo>
                                        <a:pt x="1010" y="1875"/>
                                      </a:lnTo>
                                      <a:lnTo>
                                        <a:pt x="1005" y="1858"/>
                                      </a:lnTo>
                                      <a:lnTo>
                                        <a:pt x="1001" y="1840"/>
                                      </a:lnTo>
                                      <a:lnTo>
                                        <a:pt x="993" y="1823"/>
                                      </a:lnTo>
                                      <a:lnTo>
                                        <a:pt x="984" y="1806"/>
                                      </a:lnTo>
                                      <a:lnTo>
                                        <a:pt x="980" y="1793"/>
                                      </a:lnTo>
                                      <a:lnTo>
                                        <a:pt x="975" y="1780"/>
                                      </a:lnTo>
                                      <a:lnTo>
                                        <a:pt x="971" y="1767"/>
                                      </a:lnTo>
                                      <a:lnTo>
                                        <a:pt x="971" y="1823"/>
                                      </a:lnTo>
                                      <a:lnTo>
                                        <a:pt x="958" y="1875"/>
                                      </a:lnTo>
                                      <a:lnTo>
                                        <a:pt x="945" y="1926"/>
                                      </a:lnTo>
                                      <a:lnTo>
                                        <a:pt x="932" y="1978"/>
                                      </a:lnTo>
                                      <a:lnTo>
                                        <a:pt x="919" y="2025"/>
                                      </a:lnTo>
                                      <a:lnTo>
                                        <a:pt x="902" y="2073"/>
                                      </a:lnTo>
                                      <a:lnTo>
                                        <a:pt x="893" y="2116"/>
                                      </a:lnTo>
                                      <a:lnTo>
                                        <a:pt x="893" y="2154"/>
                                      </a:lnTo>
                                      <a:lnTo>
                                        <a:pt x="885" y="2154"/>
                                      </a:lnTo>
                                      <a:lnTo>
                                        <a:pt x="876" y="2159"/>
                                      </a:lnTo>
                                      <a:lnTo>
                                        <a:pt x="867" y="2163"/>
                                      </a:lnTo>
                                      <a:lnTo>
                                        <a:pt x="863" y="2167"/>
                                      </a:lnTo>
                                      <a:lnTo>
                                        <a:pt x="859" y="2176"/>
                                      </a:lnTo>
                                      <a:lnTo>
                                        <a:pt x="854" y="2180"/>
                                      </a:lnTo>
                                      <a:lnTo>
                                        <a:pt x="850" y="2189"/>
                                      </a:lnTo>
                                      <a:lnTo>
                                        <a:pt x="850" y="2197"/>
                                      </a:lnTo>
                                      <a:lnTo>
                                        <a:pt x="837" y="2193"/>
                                      </a:lnTo>
                                      <a:lnTo>
                                        <a:pt x="829" y="2189"/>
                                      </a:lnTo>
                                      <a:lnTo>
                                        <a:pt x="820" y="2184"/>
                                      </a:lnTo>
                                      <a:lnTo>
                                        <a:pt x="811" y="2176"/>
                                      </a:lnTo>
                                      <a:lnTo>
                                        <a:pt x="807" y="2167"/>
                                      </a:lnTo>
                                      <a:lnTo>
                                        <a:pt x="803" y="2163"/>
                                      </a:lnTo>
                                      <a:lnTo>
                                        <a:pt x="794" y="2159"/>
                                      </a:lnTo>
                                      <a:lnTo>
                                        <a:pt x="790" y="2154"/>
                                      </a:lnTo>
                                      <a:lnTo>
                                        <a:pt x="747" y="1466"/>
                                      </a:lnTo>
                                      <a:lnTo>
                                        <a:pt x="755" y="1466"/>
                                      </a:lnTo>
                                      <a:lnTo>
                                        <a:pt x="768" y="1471"/>
                                      </a:lnTo>
                                      <a:lnTo>
                                        <a:pt x="777" y="1479"/>
                                      </a:lnTo>
                                      <a:lnTo>
                                        <a:pt x="790" y="1484"/>
                                      </a:lnTo>
                                      <a:lnTo>
                                        <a:pt x="803" y="1492"/>
                                      </a:lnTo>
                                      <a:lnTo>
                                        <a:pt x="811" y="1496"/>
                                      </a:lnTo>
                                      <a:lnTo>
                                        <a:pt x="820" y="1505"/>
                                      </a:lnTo>
                                      <a:lnTo>
                                        <a:pt x="829" y="1505"/>
                                      </a:lnTo>
                                      <a:lnTo>
                                        <a:pt x="829" y="1320"/>
                                      </a:lnTo>
                                      <a:lnTo>
                                        <a:pt x="837" y="1324"/>
                                      </a:lnTo>
                                      <a:lnTo>
                                        <a:pt x="846" y="1324"/>
                                      </a:lnTo>
                                      <a:lnTo>
                                        <a:pt x="854" y="1329"/>
                                      </a:lnTo>
                                      <a:lnTo>
                                        <a:pt x="863" y="1333"/>
                                      </a:lnTo>
                                      <a:lnTo>
                                        <a:pt x="872" y="1337"/>
                                      </a:lnTo>
                                      <a:lnTo>
                                        <a:pt x="885" y="1337"/>
                                      </a:lnTo>
                                      <a:lnTo>
                                        <a:pt x="898" y="1342"/>
                                      </a:lnTo>
                                      <a:lnTo>
                                        <a:pt x="911" y="1342"/>
                                      </a:lnTo>
                                      <a:lnTo>
                                        <a:pt x="915" y="1363"/>
                                      </a:lnTo>
                                      <a:lnTo>
                                        <a:pt x="919" y="1389"/>
                                      </a:lnTo>
                                      <a:lnTo>
                                        <a:pt x="932" y="1423"/>
                                      </a:lnTo>
                                      <a:lnTo>
                                        <a:pt x="941" y="1458"/>
                                      </a:lnTo>
                                      <a:lnTo>
                                        <a:pt x="954" y="1492"/>
                                      </a:lnTo>
                                      <a:lnTo>
                                        <a:pt x="962" y="1527"/>
                                      </a:lnTo>
                                      <a:lnTo>
                                        <a:pt x="971" y="1561"/>
                                      </a:lnTo>
                                      <a:lnTo>
                                        <a:pt x="971" y="1587"/>
                                      </a:lnTo>
                                      <a:lnTo>
                                        <a:pt x="993" y="1036"/>
                                      </a:lnTo>
                                      <a:lnTo>
                                        <a:pt x="1010" y="1041"/>
                                      </a:lnTo>
                                      <a:lnTo>
                                        <a:pt x="1027" y="1045"/>
                                      </a:lnTo>
                                      <a:lnTo>
                                        <a:pt x="1044" y="1049"/>
                                      </a:lnTo>
                                      <a:lnTo>
                                        <a:pt x="1066" y="1058"/>
                                      </a:lnTo>
                                      <a:lnTo>
                                        <a:pt x="1083" y="1066"/>
                                      </a:lnTo>
                                      <a:lnTo>
                                        <a:pt x="1100" y="1071"/>
                                      </a:lnTo>
                                      <a:lnTo>
                                        <a:pt x="1122" y="1075"/>
                                      </a:lnTo>
                                      <a:lnTo>
                                        <a:pt x="1135" y="1079"/>
                                      </a:lnTo>
                                      <a:lnTo>
                                        <a:pt x="1135" y="1097"/>
                                      </a:lnTo>
                                      <a:lnTo>
                                        <a:pt x="1135" y="1118"/>
                                      </a:lnTo>
                                      <a:lnTo>
                                        <a:pt x="1118" y="671"/>
                                      </a:lnTo>
                                      <a:lnTo>
                                        <a:pt x="1139" y="675"/>
                                      </a:lnTo>
                                      <a:lnTo>
                                        <a:pt x="1156" y="684"/>
                                      </a:lnTo>
                                      <a:lnTo>
                                        <a:pt x="1178" y="701"/>
                                      </a:lnTo>
                                      <a:lnTo>
                                        <a:pt x="1195" y="718"/>
                                      </a:lnTo>
                                      <a:lnTo>
                                        <a:pt x="1213" y="735"/>
                                      </a:lnTo>
                                      <a:lnTo>
                                        <a:pt x="1225" y="757"/>
                                      </a:lnTo>
                                      <a:lnTo>
                                        <a:pt x="1243" y="778"/>
                                      </a:lnTo>
                                      <a:lnTo>
                                        <a:pt x="1260" y="796"/>
                                      </a:lnTo>
                                      <a:lnTo>
                                        <a:pt x="1251" y="791"/>
                                      </a:lnTo>
                                      <a:lnTo>
                                        <a:pt x="1243" y="778"/>
                                      </a:lnTo>
                                      <a:lnTo>
                                        <a:pt x="1238" y="765"/>
                                      </a:lnTo>
                                      <a:lnTo>
                                        <a:pt x="1234" y="744"/>
                                      </a:lnTo>
                                      <a:lnTo>
                                        <a:pt x="1225" y="692"/>
                                      </a:lnTo>
                                      <a:lnTo>
                                        <a:pt x="1221" y="632"/>
                                      </a:lnTo>
                                      <a:lnTo>
                                        <a:pt x="1221" y="563"/>
                                      </a:lnTo>
                                      <a:lnTo>
                                        <a:pt x="1217" y="503"/>
                                      </a:lnTo>
                                      <a:lnTo>
                                        <a:pt x="1217" y="447"/>
                                      </a:lnTo>
                                      <a:lnTo>
                                        <a:pt x="1217" y="409"/>
                                      </a:lnTo>
                                      <a:lnTo>
                                        <a:pt x="1195" y="387"/>
                                      </a:lnTo>
                                      <a:lnTo>
                                        <a:pt x="1191" y="396"/>
                                      </a:lnTo>
                                      <a:lnTo>
                                        <a:pt x="1187" y="413"/>
                                      </a:lnTo>
                                      <a:lnTo>
                                        <a:pt x="1187" y="434"/>
                                      </a:lnTo>
                                      <a:lnTo>
                                        <a:pt x="1191" y="460"/>
                                      </a:lnTo>
                                      <a:lnTo>
                                        <a:pt x="1195" y="520"/>
                                      </a:lnTo>
                                      <a:lnTo>
                                        <a:pt x="1208" y="589"/>
                                      </a:lnTo>
                                      <a:lnTo>
                                        <a:pt x="1217" y="658"/>
                                      </a:lnTo>
                                      <a:lnTo>
                                        <a:pt x="1225" y="727"/>
                                      </a:lnTo>
                                      <a:lnTo>
                                        <a:pt x="1225" y="757"/>
                                      </a:lnTo>
                                      <a:lnTo>
                                        <a:pt x="1225" y="787"/>
                                      </a:lnTo>
                                      <a:lnTo>
                                        <a:pt x="1225" y="813"/>
                                      </a:lnTo>
                                      <a:lnTo>
                                        <a:pt x="1217" y="834"/>
                                      </a:lnTo>
                                      <a:lnTo>
                                        <a:pt x="1204" y="821"/>
                                      </a:lnTo>
                                      <a:lnTo>
                                        <a:pt x="1191" y="804"/>
                                      </a:lnTo>
                                      <a:lnTo>
                                        <a:pt x="1178" y="783"/>
                                      </a:lnTo>
                                      <a:lnTo>
                                        <a:pt x="1169" y="757"/>
                                      </a:lnTo>
                                      <a:lnTo>
                                        <a:pt x="1152" y="692"/>
                                      </a:lnTo>
                                      <a:lnTo>
                                        <a:pt x="1135" y="628"/>
                                      </a:lnTo>
                                      <a:lnTo>
                                        <a:pt x="1113" y="559"/>
                                      </a:lnTo>
                                      <a:lnTo>
                                        <a:pt x="1096" y="503"/>
                                      </a:lnTo>
                                      <a:lnTo>
                                        <a:pt x="1083" y="482"/>
                                      </a:lnTo>
                                      <a:lnTo>
                                        <a:pt x="1066" y="464"/>
                                      </a:lnTo>
                                      <a:lnTo>
                                        <a:pt x="1053" y="452"/>
                                      </a:lnTo>
                                      <a:lnTo>
                                        <a:pt x="1036" y="447"/>
                                      </a:lnTo>
                                      <a:lnTo>
                                        <a:pt x="1036" y="507"/>
                                      </a:lnTo>
                                      <a:lnTo>
                                        <a:pt x="1044" y="576"/>
                                      </a:lnTo>
                                      <a:lnTo>
                                        <a:pt x="1057" y="654"/>
                                      </a:lnTo>
                                      <a:lnTo>
                                        <a:pt x="1066" y="731"/>
                                      </a:lnTo>
                                      <a:lnTo>
                                        <a:pt x="1074" y="808"/>
                                      </a:lnTo>
                                      <a:lnTo>
                                        <a:pt x="1079" y="882"/>
                                      </a:lnTo>
                                      <a:lnTo>
                                        <a:pt x="1074" y="912"/>
                                      </a:lnTo>
                                      <a:lnTo>
                                        <a:pt x="1070" y="946"/>
                                      </a:lnTo>
                                      <a:lnTo>
                                        <a:pt x="1066" y="972"/>
                                      </a:lnTo>
                                      <a:lnTo>
                                        <a:pt x="1053" y="998"/>
                                      </a:lnTo>
                                      <a:lnTo>
                                        <a:pt x="1036" y="998"/>
                                      </a:lnTo>
                                      <a:lnTo>
                                        <a:pt x="1014" y="998"/>
                                      </a:lnTo>
                                      <a:lnTo>
                                        <a:pt x="993" y="955"/>
                                      </a:lnTo>
                                      <a:lnTo>
                                        <a:pt x="971" y="955"/>
                                      </a:lnTo>
                                      <a:lnTo>
                                        <a:pt x="954" y="955"/>
                                      </a:lnTo>
                                      <a:lnTo>
                                        <a:pt x="954" y="950"/>
                                      </a:lnTo>
                                      <a:lnTo>
                                        <a:pt x="949" y="946"/>
                                      </a:lnTo>
                                      <a:lnTo>
                                        <a:pt x="945" y="942"/>
                                      </a:lnTo>
                                      <a:lnTo>
                                        <a:pt x="945" y="937"/>
                                      </a:lnTo>
                                      <a:lnTo>
                                        <a:pt x="945" y="937"/>
                                      </a:lnTo>
                                      <a:lnTo>
                                        <a:pt x="945" y="937"/>
                                      </a:lnTo>
                                      <a:lnTo>
                                        <a:pt x="945" y="937"/>
                                      </a:lnTo>
                                      <a:lnTo>
                                        <a:pt x="954" y="937"/>
                                      </a:lnTo>
                                      <a:lnTo>
                                        <a:pt x="954" y="968"/>
                                      </a:lnTo>
                                      <a:lnTo>
                                        <a:pt x="954" y="1002"/>
                                      </a:lnTo>
                                      <a:lnTo>
                                        <a:pt x="949" y="1041"/>
                                      </a:lnTo>
                                      <a:lnTo>
                                        <a:pt x="949" y="1075"/>
                                      </a:lnTo>
                                      <a:lnTo>
                                        <a:pt x="949" y="1109"/>
                                      </a:lnTo>
                                      <a:lnTo>
                                        <a:pt x="945" y="1144"/>
                                      </a:lnTo>
                                      <a:lnTo>
                                        <a:pt x="941" y="1174"/>
                                      </a:lnTo>
                                      <a:lnTo>
                                        <a:pt x="932" y="1200"/>
                                      </a:lnTo>
                                      <a:lnTo>
                                        <a:pt x="923" y="1200"/>
                                      </a:lnTo>
                                      <a:lnTo>
                                        <a:pt x="911" y="1195"/>
                                      </a:lnTo>
                                      <a:lnTo>
                                        <a:pt x="898" y="1187"/>
                                      </a:lnTo>
                                      <a:lnTo>
                                        <a:pt x="880" y="1178"/>
                                      </a:lnTo>
                                      <a:lnTo>
                                        <a:pt x="867" y="1165"/>
                                      </a:lnTo>
                                      <a:lnTo>
                                        <a:pt x="850" y="1157"/>
                                      </a:lnTo>
                                      <a:lnTo>
                                        <a:pt x="842" y="1148"/>
                                      </a:lnTo>
                                      <a:lnTo>
                                        <a:pt x="829" y="1140"/>
                                      </a:lnTo>
                                      <a:lnTo>
                                        <a:pt x="829" y="1131"/>
                                      </a:lnTo>
                                      <a:lnTo>
                                        <a:pt x="824" y="1114"/>
                                      </a:lnTo>
                                      <a:lnTo>
                                        <a:pt x="816" y="1097"/>
                                      </a:lnTo>
                                      <a:lnTo>
                                        <a:pt x="807" y="1079"/>
                                      </a:lnTo>
                                      <a:lnTo>
                                        <a:pt x="798" y="1062"/>
                                      </a:lnTo>
                                      <a:lnTo>
                                        <a:pt x="785" y="1049"/>
                                      </a:lnTo>
                                      <a:lnTo>
                                        <a:pt x="777" y="1041"/>
                                      </a:lnTo>
                                      <a:lnTo>
                                        <a:pt x="768" y="1036"/>
                                      </a:lnTo>
                                      <a:lnTo>
                                        <a:pt x="747" y="1036"/>
                                      </a:lnTo>
                                      <a:lnTo>
                                        <a:pt x="708" y="1079"/>
                                      </a:lnTo>
                                      <a:lnTo>
                                        <a:pt x="712" y="1131"/>
                                      </a:lnTo>
                                      <a:lnTo>
                                        <a:pt x="716" y="1187"/>
                                      </a:lnTo>
                                      <a:lnTo>
                                        <a:pt x="725" y="1251"/>
                                      </a:lnTo>
                                      <a:lnTo>
                                        <a:pt x="729" y="1312"/>
                                      </a:lnTo>
                                      <a:lnTo>
                                        <a:pt x="725" y="1342"/>
                                      </a:lnTo>
                                      <a:lnTo>
                                        <a:pt x="725" y="1372"/>
                                      </a:lnTo>
                                      <a:lnTo>
                                        <a:pt x="716" y="1398"/>
                                      </a:lnTo>
                                      <a:lnTo>
                                        <a:pt x="708" y="1419"/>
                                      </a:lnTo>
                                      <a:lnTo>
                                        <a:pt x="695" y="1441"/>
                                      </a:lnTo>
                                      <a:lnTo>
                                        <a:pt x="678" y="1462"/>
                                      </a:lnTo>
                                      <a:lnTo>
                                        <a:pt x="656" y="1475"/>
                                      </a:lnTo>
                                      <a:lnTo>
                                        <a:pt x="626" y="1484"/>
                                      </a:lnTo>
                                      <a:lnTo>
                                        <a:pt x="617" y="1484"/>
                                      </a:lnTo>
                                      <a:lnTo>
                                        <a:pt x="609" y="1479"/>
                                      </a:lnTo>
                                      <a:lnTo>
                                        <a:pt x="596" y="1475"/>
                                      </a:lnTo>
                                      <a:lnTo>
                                        <a:pt x="587" y="1471"/>
                                      </a:lnTo>
                                      <a:lnTo>
                                        <a:pt x="574" y="1466"/>
                                      </a:lnTo>
                                      <a:lnTo>
                                        <a:pt x="561" y="1458"/>
                                      </a:lnTo>
                                      <a:lnTo>
                                        <a:pt x="552" y="1453"/>
                                      </a:lnTo>
                                      <a:lnTo>
                                        <a:pt x="544" y="1445"/>
                                      </a:lnTo>
                                      <a:lnTo>
                                        <a:pt x="552" y="1449"/>
                                      </a:lnTo>
                                      <a:lnTo>
                                        <a:pt x="561" y="1458"/>
                                      </a:lnTo>
                                      <a:lnTo>
                                        <a:pt x="565" y="1475"/>
                                      </a:lnTo>
                                      <a:lnTo>
                                        <a:pt x="570" y="1496"/>
                                      </a:lnTo>
                                      <a:lnTo>
                                        <a:pt x="583" y="1552"/>
                                      </a:lnTo>
                                      <a:lnTo>
                                        <a:pt x="587" y="1621"/>
                                      </a:lnTo>
                                      <a:lnTo>
                                        <a:pt x="591" y="1686"/>
                                      </a:lnTo>
                                      <a:lnTo>
                                        <a:pt x="591" y="1746"/>
                                      </a:lnTo>
                                      <a:lnTo>
                                        <a:pt x="591" y="1789"/>
                                      </a:lnTo>
                                      <a:lnTo>
                                        <a:pt x="587" y="1810"/>
                                      </a:lnTo>
                                      <a:lnTo>
                                        <a:pt x="565" y="1832"/>
                                      </a:lnTo>
                                      <a:lnTo>
                                        <a:pt x="505" y="1832"/>
                                      </a:lnTo>
                                      <a:lnTo>
                                        <a:pt x="496" y="1823"/>
                                      </a:lnTo>
                                      <a:lnTo>
                                        <a:pt x="488" y="1815"/>
                                      </a:lnTo>
                                      <a:lnTo>
                                        <a:pt x="475" y="1806"/>
                                      </a:lnTo>
                                      <a:lnTo>
                                        <a:pt x="466" y="1802"/>
                                      </a:lnTo>
                                      <a:lnTo>
                                        <a:pt x="458" y="1793"/>
                                      </a:lnTo>
                                      <a:lnTo>
                                        <a:pt x="449" y="1785"/>
                                      </a:lnTo>
                                      <a:lnTo>
                                        <a:pt x="445" y="1776"/>
                                      </a:lnTo>
                                      <a:lnTo>
                                        <a:pt x="445" y="1767"/>
                                      </a:lnTo>
                                      <a:lnTo>
                                        <a:pt x="449" y="1780"/>
                                      </a:lnTo>
                                      <a:lnTo>
                                        <a:pt x="453" y="1806"/>
                                      </a:lnTo>
                                      <a:lnTo>
                                        <a:pt x="458" y="1832"/>
                                      </a:lnTo>
                                      <a:lnTo>
                                        <a:pt x="462" y="1866"/>
                                      </a:lnTo>
                                      <a:lnTo>
                                        <a:pt x="462" y="1901"/>
                                      </a:lnTo>
                                      <a:lnTo>
                                        <a:pt x="462" y="1935"/>
                                      </a:lnTo>
                                      <a:lnTo>
                                        <a:pt x="462" y="1965"/>
                                      </a:lnTo>
                                      <a:lnTo>
                                        <a:pt x="462" y="1991"/>
                                      </a:lnTo>
                                      <a:lnTo>
                                        <a:pt x="445" y="2012"/>
                                      </a:lnTo>
                                      <a:lnTo>
                                        <a:pt x="406" y="2008"/>
                                      </a:lnTo>
                                      <a:lnTo>
                                        <a:pt x="367" y="1995"/>
                                      </a:lnTo>
                                      <a:lnTo>
                                        <a:pt x="328" y="1969"/>
                                      </a:lnTo>
                                      <a:lnTo>
                                        <a:pt x="294" y="1944"/>
                                      </a:lnTo>
                                      <a:lnTo>
                                        <a:pt x="263" y="1914"/>
                                      </a:lnTo>
                                      <a:lnTo>
                                        <a:pt x="229" y="1883"/>
                                      </a:lnTo>
                                      <a:lnTo>
                                        <a:pt x="203" y="1858"/>
                                      </a:lnTo>
                                      <a:lnTo>
                                        <a:pt x="177" y="1832"/>
                                      </a:lnTo>
                                      <a:lnTo>
                                        <a:pt x="190" y="1832"/>
                                      </a:lnTo>
                                      <a:lnTo>
                                        <a:pt x="194" y="1845"/>
                                      </a:lnTo>
                                      <a:lnTo>
                                        <a:pt x="194" y="1858"/>
                                      </a:lnTo>
                                      <a:lnTo>
                                        <a:pt x="194" y="1875"/>
                                      </a:lnTo>
                                      <a:lnTo>
                                        <a:pt x="190" y="1892"/>
                                      </a:lnTo>
                                      <a:lnTo>
                                        <a:pt x="181" y="1909"/>
                                      </a:lnTo>
                                      <a:lnTo>
                                        <a:pt x="177" y="1922"/>
                                      </a:lnTo>
                                      <a:lnTo>
                                        <a:pt x="177" y="1931"/>
                                      </a:lnTo>
                                      <a:lnTo>
                                        <a:pt x="95" y="1931"/>
                                      </a:lnTo>
                                      <a:lnTo>
                                        <a:pt x="74" y="1909"/>
                                      </a:lnTo>
                                      <a:lnTo>
                                        <a:pt x="56" y="1883"/>
                                      </a:lnTo>
                                      <a:lnTo>
                                        <a:pt x="43" y="1862"/>
                                      </a:lnTo>
                                      <a:lnTo>
                                        <a:pt x="30" y="1836"/>
                                      </a:lnTo>
                                      <a:lnTo>
                                        <a:pt x="26" y="1806"/>
                                      </a:lnTo>
                                      <a:lnTo>
                                        <a:pt x="17" y="1776"/>
                                      </a:lnTo>
                                      <a:lnTo>
                                        <a:pt x="17" y="1746"/>
                                      </a:lnTo>
                                      <a:lnTo>
                                        <a:pt x="13" y="1707"/>
                                      </a:lnTo>
                                      <a:lnTo>
                                        <a:pt x="0" y="1694"/>
                                      </a:lnTo>
                                      <a:lnTo>
                                        <a:pt x="9" y="1785"/>
                                      </a:lnTo>
                                      <a:lnTo>
                                        <a:pt x="22" y="1832"/>
                                      </a:lnTo>
                                      <a:lnTo>
                                        <a:pt x="39" y="1875"/>
                                      </a:lnTo>
                                      <a:lnTo>
                                        <a:pt x="56" y="1918"/>
                                      </a:lnTo>
                                      <a:lnTo>
                                        <a:pt x="74" y="1965"/>
                                      </a:lnTo>
                                      <a:lnTo>
                                        <a:pt x="91" y="2008"/>
                                      </a:lnTo>
                                      <a:lnTo>
                                        <a:pt x="104" y="2051"/>
                                      </a:lnTo>
                                      <a:lnTo>
                                        <a:pt x="112" y="2094"/>
                                      </a:lnTo>
                                      <a:lnTo>
                                        <a:pt x="117" y="2137"/>
                                      </a:lnTo>
                                      <a:lnTo>
                                        <a:pt x="138" y="2159"/>
                                      </a:lnTo>
                                      <a:lnTo>
                                        <a:pt x="164" y="2189"/>
                                      </a:lnTo>
                                      <a:lnTo>
                                        <a:pt x="194" y="2219"/>
                                      </a:lnTo>
                                      <a:lnTo>
                                        <a:pt x="225" y="2249"/>
                                      </a:lnTo>
                                      <a:lnTo>
                                        <a:pt x="255" y="2275"/>
                                      </a:lnTo>
                                      <a:lnTo>
                                        <a:pt x="289" y="2296"/>
                                      </a:lnTo>
                                      <a:lnTo>
                                        <a:pt x="307" y="2305"/>
                                      </a:lnTo>
                                      <a:lnTo>
                                        <a:pt x="324" y="2313"/>
                                      </a:lnTo>
                                      <a:lnTo>
                                        <a:pt x="341" y="2318"/>
                                      </a:lnTo>
                                      <a:lnTo>
                                        <a:pt x="363" y="2318"/>
                                      </a:lnTo>
                                      <a:lnTo>
                                        <a:pt x="363" y="2258"/>
                                      </a:lnTo>
                                      <a:lnTo>
                                        <a:pt x="345" y="2240"/>
                                      </a:lnTo>
                                      <a:lnTo>
                                        <a:pt x="332" y="2219"/>
                                      </a:lnTo>
                                      <a:lnTo>
                                        <a:pt x="324" y="2197"/>
                                      </a:lnTo>
                                      <a:lnTo>
                                        <a:pt x="315" y="2172"/>
                                      </a:lnTo>
                                      <a:lnTo>
                                        <a:pt x="307" y="2150"/>
                                      </a:lnTo>
                                      <a:lnTo>
                                        <a:pt x="302" y="2124"/>
                                      </a:lnTo>
                                      <a:lnTo>
                                        <a:pt x="302" y="2098"/>
                                      </a:lnTo>
                                      <a:lnTo>
                                        <a:pt x="298" y="2073"/>
                                      </a:lnTo>
                                      <a:lnTo>
                                        <a:pt x="315" y="2077"/>
                                      </a:lnTo>
                                      <a:lnTo>
                                        <a:pt x="328" y="2086"/>
                                      </a:lnTo>
                                      <a:lnTo>
                                        <a:pt x="341" y="2098"/>
                                      </a:lnTo>
                                      <a:lnTo>
                                        <a:pt x="354" y="2116"/>
                                      </a:lnTo>
                                      <a:lnTo>
                                        <a:pt x="380" y="2159"/>
                                      </a:lnTo>
                                      <a:lnTo>
                                        <a:pt x="406" y="2206"/>
                                      </a:lnTo>
                                      <a:lnTo>
                                        <a:pt x="436" y="2253"/>
                                      </a:lnTo>
                                      <a:lnTo>
                                        <a:pt x="466" y="2296"/>
                                      </a:lnTo>
                                      <a:lnTo>
                                        <a:pt x="483" y="2313"/>
                                      </a:lnTo>
                                      <a:lnTo>
                                        <a:pt x="501" y="2326"/>
                                      </a:lnTo>
                                      <a:lnTo>
                                        <a:pt x="522" y="2335"/>
                                      </a:lnTo>
                                      <a:lnTo>
                                        <a:pt x="544" y="2339"/>
                                      </a:lnTo>
                                      <a:lnTo>
                                        <a:pt x="544" y="2305"/>
                                      </a:lnTo>
                                      <a:lnTo>
                                        <a:pt x="540" y="2270"/>
                                      </a:lnTo>
                                      <a:lnTo>
                                        <a:pt x="540" y="2236"/>
                                      </a:lnTo>
                                      <a:lnTo>
                                        <a:pt x="535" y="2197"/>
                                      </a:lnTo>
                                      <a:lnTo>
                                        <a:pt x="531" y="2159"/>
                                      </a:lnTo>
                                      <a:lnTo>
                                        <a:pt x="527" y="2120"/>
                                      </a:lnTo>
                                      <a:lnTo>
                                        <a:pt x="527" y="2086"/>
                                      </a:lnTo>
                                      <a:lnTo>
                                        <a:pt x="522" y="2055"/>
                                      </a:lnTo>
                                      <a:lnTo>
                                        <a:pt x="531" y="2051"/>
                                      </a:lnTo>
                                      <a:lnTo>
                                        <a:pt x="544" y="2043"/>
                                      </a:lnTo>
                                      <a:lnTo>
                                        <a:pt x="552" y="2034"/>
                                      </a:lnTo>
                                      <a:lnTo>
                                        <a:pt x="565" y="2025"/>
                                      </a:lnTo>
                                      <a:lnTo>
                                        <a:pt x="578" y="2012"/>
                                      </a:lnTo>
                                      <a:lnTo>
                                        <a:pt x="587" y="2004"/>
                                      </a:lnTo>
                                      <a:lnTo>
                                        <a:pt x="596" y="1995"/>
                                      </a:lnTo>
                                      <a:lnTo>
                                        <a:pt x="604" y="1991"/>
                                      </a:lnTo>
                                      <a:lnTo>
                                        <a:pt x="613" y="2000"/>
                                      </a:lnTo>
                                      <a:lnTo>
                                        <a:pt x="626" y="2008"/>
                                      </a:lnTo>
                                      <a:lnTo>
                                        <a:pt x="634" y="2017"/>
                                      </a:lnTo>
                                      <a:lnTo>
                                        <a:pt x="647" y="2025"/>
                                      </a:lnTo>
                                      <a:lnTo>
                                        <a:pt x="656" y="2030"/>
                                      </a:lnTo>
                                      <a:lnTo>
                                        <a:pt x="669" y="2038"/>
                                      </a:lnTo>
                                      <a:lnTo>
                                        <a:pt x="678" y="2047"/>
                                      </a:lnTo>
                                      <a:lnTo>
                                        <a:pt x="686" y="2055"/>
                                      </a:lnTo>
                                      <a:lnTo>
                                        <a:pt x="686" y="2086"/>
                                      </a:lnTo>
                                      <a:lnTo>
                                        <a:pt x="678" y="2124"/>
                                      </a:lnTo>
                                      <a:lnTo>
                                        <a:pt x="673" y="2172"/>
                                      </a:lnTo>
                                      <a:lnTo>
                                        <a:pt x="665" y="2223"/>
                                      </a:lnTo>
                                      <a:lnTo>
                                        <a:pt x="660" y="2270"/>
                                      </a:lnTo>
                                      <a:lnTo>
                                        <a:pt x="660" y="2309"/>
                                      </a:lnTo>
                                      <a:lnTo>
                                        <a:pt x="665" y="2326"/>
                                      </a:lnTo>
                                      <a:lnTo>
                                        <a:pt x="669" y="2344"/>
                                      </a:lnTo>
                                      <a:lnTo>
                                        <a:pt x="678" y="2352"/>
                                      </a:lnTo>
                                      <a:lnTo>
                                        <a:pt x="686" y="2361"/>
                                      </a:lnTo>
                                      <a:lnTo>
                                        <a:pt x="691" y="2374"/>
                                      </a:lnTo>
                                      <a:lnTo>
                                        <a:pt x="695" y="2391"/>
                                      </a:lnTo>
                                      <a:lnTo>
                                        <a:pt x="708" y="2404"/>
                                      </a:lnTo>
                                      <a:lnTo>
                                        <a:pt x="716" y="2421"/>
                                      </a:lnTo>
                                      <a:lnTo>
                                        <a:pt x="729" y="2434"/>
                                      </a:lnTo>
                                      <a:lnTo>
                                        <a:pt x="738" y="2451"/>
                                      </a:lnTo>
                                      <a:lnTo>
                                        <a:pt x="747" y="2464"/>
                                      </a:lnTo>
                                      <a:lnTo>
                                        <a:pt x="747" y="2481"/>
                                      </a:lnTo>
                                      <a:lnTo>
                                        <a:pt x="647" y="2481"/>
                                      </a:lnTo>
                                      <a:lnTo>
                                        <a:pt x="647" y="2503"/>
                                      </a:lnTo>
                                      <a:lnTo>
                                        <a:pt x="656" y="2524"/>
                                      </a:lnTo>
                                      <a:lnTo>
                                        <a:pt x="665" y="2550"/>
                                      </a:lnTo>
                                      <a:lnTo>
                                        <a:pt x="678" y="2571"/>
                                      </a:lnTo>
                                      <a:lnTo>
                                        <a:pt x="691" y="2589"/>
                                      </a:lnTo>
                                      <a:lnTo>
                                        <a:pt x="699" y="2610"/>
                                      </a:lnTo>
                                      <a:lnTo>
                                        <a:pt x="703" y="2627"/>
                                      </a:lnTo>
                                      <a:lnTo>
                                        <a:pt x="708" y="2645"/>
                                      </a:lnTo>
                                      <a:lnTo>
                                        <a:pt x="734" y="2645"/>
                                      </a:lnTo>
                                      <a:lnTo>
                                        <a:pt x="755" y="2645"/>
                                      </a:lnTo>
                                      <a:lnTo>
                                        <a:pt x="781" y="2649"/>
                                      </a:lnTo>
                                      <a:lnTo>
                                        <a:pt x="807" y="2653"/>
                                      </a:lnTo>
                                      <a:lnTo>
                                        <a:pt x="833" y="2657"/>
                                      </a:lnTo>
                                      <a:lnTo>
                                        <a:pt x="854" y="2662"/>
                                      </a:lnTo>
                                      <a:lnTo>
                                        <a:pt x="876" y="2662"/>
                                      </a:lnTo>
                                      <a:lnTo>
                                        <a:pt x="893" y="2662"/>
                                      </a:lnTo>
                                      <a:lnTo>
                                        <a:pt x="893" y="2696"/>
                                      </a:lnTo>
                                      <a:lnTo>
                                        <a:pt x="902" y="2726"/>
                                      </a:lnTo>
                                      <a:lnTo>
                                        <a:pt x="915" y="2761"/>
                                      </a:lnTo>
                                      <a:lnTo>
                                        <a:pt x="928" y="2791"/>
                                      </a:lnTo>
                                      <a:lnTo>
                                        <a:pt x="945" y="2821"/>
                                      </a:lnTo>
                                      <a:lnTo>
                                        <a:pt x="958" y="2847"/>
                                      </a:lnTo>
                                      <a:lnTo>
                                        <a:pt x="975" y="2868"/>
                                      </a:lnTo>
                                      <a:lnTo>
                                        <a:pt x="993" y="2885"/>
                                      </a:lnTo>
                                      <a:lnTo>
                                        <a:pt x="997" y="2924"/>
                                      </a:lnTo>
                                      <a:lnTo>
                                        <a:pt x="1005" y="2967"/>
                                      </a:lnTo>
                                      <a:lnTo>
                                        <a:pt x="1018" y="3006"/>
                                      </a:lnTo>
                                      <a:lnTo>
                                        <a:pt x="1036" y="3044"/>
                                      </a:lnTo>
                                      <a:lnTo>
                                        <a:pt x="1049" y="3083"/>
                                      </a:lnTo>
                                      <a:lnTo>
                                        <a:pt x="1062" y="3118"/>
                                      </a:lnTo>
                                      <a:lnTo>
                                        <a:pt x="1070" y="3148"/>
                                      </a:lnTo>
                                      <a:lnTo>
                                        <a:pt x="1074" y="3173"/>
                                      </a:lnTo>
                                      <a:lnTo>
                                        <a:pt x="1087" y="3161"/>
                                      </a:lnTo>
                                      <a:lnTo>
                                        <a:pt x="1096" y="3143"/>
                                      </a:lnTo>
                                      <a:lnTo>
                                        <a:pt x="1100" y="3126"/>
                                      </a:lnTo>
                                      <a:lnTo>
                                        <a:pt x="1109" y="3105"/>
                                      </a:lnTo>
                                      <a:lnTo>
                                        <a:pt x="1113" y="3062"/>
                                      </a:lnTo>
                                      <a:lnTo>
                                        <a:pt x="1118" y="3019"/>
                                      </a:lnTo>
                                      <a:lnTo>
                                        <a:pt x="1118" y="2967"/>
                                      </a:lnTo>
                                      <a:lnTo>
                                        <a:pt x="1118" y="2924"/>
                                      </a:lnTo>
                                      <a:lnTo>
                                        <a:pt x="1118" y="2881"/>
                                      </a:lnTo>
                                      <a:lnTo>
                                        <a:pt x="1118" y="2847"/>
                                      </a:lnTo>
                                      <a:lnTo>
                                        <a:pt x="1238" y="2847"/>
                                      </a:lnTo>
                                      <a:lnTo>
                                        <a:pt x="1243" y="2842"/>
                                      </a:lnTo>
                                      <a:lnTo>
                                        <a:pt x="1247" y="2838"/>
                                      </a:lnTo>
                                      <a:lnTo>
                                        <a:pt x="1251" y="2834"/>
                                      </a:lnTo>
                                      <a:lnTo>
                                        <a:pt x="1256" y="2829"/>
                                      </a:lnTo>
                                      <a:lnTo>
                                        <a:pt x="1260" y="2829"/>
                                      </a:lnTo>
                                      <a:lnTo>
                                        <a:pt x="1269" y="2825"/>
                                      </a:lnTo>
                                      <a:lnTo>
                                        <a:pt x="1273" y="2821"/>
                                      </a:lnTo>
                                      <a:lnTo>
                                        <a:pt x="1277" y="2817"/>
                                      </a:lnTo>
                                      <a:lnTo>
                                        <a:pt x="1290" y="2713"/>
                                      </a:lnTo>
                                      <a:lnTo>
                                        <a:pt x="1225" y="2653"/>
                                      </a:lnTo>
                                      <a:lnTo>
                                        <a:pt x="1079" y="2378"/>
                                      </a:lnTo>
                                      <a:lnTo>
                                        <a:pt x="1057" y="2068"/>
                                      </a:lnTo>
                                      <a:lnTo>
                                        <a:pt x="1036" y="2017"/>
                                      </a:lnTo>
                                      <a:lnTo>
                                        <a:pt x="1070" y="1974"/>
                                      </a:lnTo>
                                      <a:lnTo>
                                        <a:pt x="1100" y="1965"/>
                                      </a:lnTo>
                                      <a:lnTo>
                                        <a:pt x="1122" y="1987"/>
                                      </a:lnTo>
                                      <a:lnTo>
                                        <a:pt x="1122" y="2017"/>
                                      </a:lnTo>
                                      <a:lnTo>
                                        <a:pt x="1174" y="1965"/>
                                      </a:lnTo>
                                      <a:lnTo>
                                        <a:pt x="1174" y="1914"/>
                                      </a:lnTo>
                                      <a:lnTo>
                                        <a:pt x="1290" y="1785"/>
                                      </a:lnTo>
                                      <a:lnTo>
                                        <a:pt x="1247" y="1690"/>
                                      </a:lnTo>
                                      <a:lnTo>
                                        <a:pt x="1407" y="1531"/>
                                      </a:lnTo>
                                      <a:lnTo>
                                        <a:pt x="1398" y="1522"/>
                                      </a:lnTo>
                                      <a:lnTo>
                                        <a:pt x="1398" y="1501"/>
                                      </a:lnTo>
                                      <a:lnTo>
                                        <a:pt x="1428" y="1419"/>
                                      </a:lnTo>
                                      <a:lnTo>
                                        <a:pt x="1407" y="1398"/>
                                      </a:lnTo>
                                      <a:lnTo>
                                        <a:pt x="1407" y="1363"/>
                                      </a:lnTo>
                                      <a:lnTo>
                                        <a:pt x="1420" y="1355"/>
                                      </a:lnTo>
                                      <a:lnTo>
                                        <a:pt x="1502" y="1277"/>
                                      </a:lnTo>
                                      <a:lnTo>
                                        <a:pt x="1441" y="1195"/>
                                      </a:lnTo>
                                      <a:lnTo>
                                        <a:pt x="1502" y="1131"/>
                                      </a:lnTo>
                                      <a:lnTo>
                                        <a:pt x="1502" y="1079"/>
                                      </a:lnTo>
                                      <a:lnTo>
                                        <a:pt x="1558" y="1015"/>
                                      </a:lnTo>
                                      <a:lnTo>
                                        <a:pt x="1523" y="942"/>
                                      </a:lnTo>
                                      <a:lnTo>
                                        <a:pt x="1566" y="899"/>
                                      </a:lnTo>
                                      <a:lnTo>
                                        <a:pt x="1536" y="804"/>
                                      </a:lnTo>
                                      <a:lnTo>
                                        <a:pt x="1545" y="761"/>
                                      </a:lnTo>
                                      <a:lnTo>
                                        <a:pt x="1515" y="701"/>
                                      </a:lnTo>
                                      <a:lnTo>
                                        <a:pt x="1523" y="606"/>
                                      </a:lnTo>
                                      <a:lnTo>
                                        <a:pt x="1493" y="550"/>
                                      </a:lnTo>
                                      <a:lnTo>
                                        <a:pt x="1493" y="456"/>
                                      </a:lnTo>
                                      <a:lnTo>
                                        <a:pt x="1463" y="426"/>
                                      </a:lnTo>
                                      <a:lnTo>
                                        <a:pt x="1441" y="297"/>
                                      </a:lnTo>
                                      <a:lnTo>
                                        <a:pt x="1480" y="258"/>
                                      </a:lnTo>
                                      <a:lnTo>
                                        <a:pt x="1368" y="99"/>
                                      </a:lnTo>
                                      <a:lnTo>
                                        <a:pt x="1346" y="34"/>
                                      </a:lnTo>
                                      <a:lnTo>
                                        <a:pt x="1355" y="26"/>
                                      </a:lnTo>
                                      <a:lnTo>
                                        <a:pt x="1351" y="22"/>
                                      </a:lnTo>
                                      <a:lnTo>
                                        <a:pt x="1346" y="17"/>
                                      </a:lnTo>
                                      <a:lnTo>
                                        <a:pt x="1342" y="13"/>
                                      </a:lnTo>
                                      <a:lnTo>
                                        <a:pt x="1338" y="9"/>
                                      </a:lnTo>
                                      <a:lnTo>
                                        <a:pt x="1333" y="4"/>
                                      </a:lnTo>
                                      <a:lnTo>
                                        <a:pt x="1329" y="4"/>
                                      </a:lnTo>
                                      <a:lnTo>
                                        <a:pt x="1325" y="0"/>
                                      </a:lnTo>
                                      <a:lnTo>
                                        <a:pt x="1320" y="0"/>
                                      </a:lnTo>
                                      <a:lnTo>
                                        <a:pt x="1320" y="22"/>
                                      </a:lnTo>
                                      <a:lnTo>
                                        <a:pt x="1325" y="47"/>
                                      </a:lnTo>
                                      <a:lnTo>
                                        <a:pt x="1333" y="77"/>
                                      </a:lnTo>
                                      <a:lnTo>
                                        <a:pt x="1338" y="112"/>
                                      </a:lnTo>
                                      <a:lnTo>
                                        <a:pt x="1342" y="146"/>
                                      </a:lnTo>
                                      <a:lnTo>
                                        <a:pt x="1346" y="176"/>
                                      </a:lnTo>
                                      <a:lnTo>
                                        <a:pt x="1346" y="206"/>
                                      </a:lnTo>
                                      <a:lnTo>
                                        <a:pt x="1342" y="224"/>
                                      </a:lnTo>
                                      <a:lnTo>
                                        <a:pt x="1320" y="224"/>
                                      </a:lnTo>
                                      <a:lnTo>
                                        <a:pt x="1320" y="267"/>
                                      </a:lnTo>
                                      <a:lnTo>
                                        <a:pt x="1277" y="185"/>
                                      </a:lnTo>
                                      <a:close/>
                                      <a:moveTo>
                                        <a:pt x="1752" y="593"/>
                                      </a:moveTo>
                                      <a:lnTo>
                                        <a:pt x="1748" y="589"/>
                                      </a:lnTo>
                                      <a:lnTo>
                                        <a:pt x="1687" y="589"/>
                                      </a:lnTo>
                                      <a:lnTo>
                                        <a:pt x="1687" y="572"/>
                                      </a:lnTo>
                                      <a:lnTo>
                                        <a:pt x="1683" y="555"/>
                                      </a:lnTo>
                                      <a:lnTo>
                                        <a:pt x="1678" y="529"/>
                                      </a:lnTo>
                                      <a:lnTo>
                                        <a:pt x="1678" y="507"/>
                                      </a:lnTo>
                                      <a:lnTo>
                                        <a:pt x="1674" y="482"/>
                                      </a:lnTo>
                                      <a:lnTo>
                                        <a:pt x="1670" y="456"/>
                                      </a:lnTo>
                                      <a:lnTo>
                                        <a:pt x="1666" y="430"/>
                                      </a:lnTo>
                                      <a:lnTo>
                                        <a:pt x="1666" y="409"/>
                                      </a:lnTo>
                                      <a:lnTo>
                                        <a:pt x="1657" y="404"/>
                                      </a:lnTo>
                                      <a:lnTo>
                                        <a:pt x="1648" y="400"/>
                                      </a:lnTo>
                                      <a:lnTo>
                                        <a:pt x="1635" y="396"/>
                                      </a:lnTo>
                                      <a:lnTo>
                                        <a:pt x="1627" y="387"/>
                                      </a:lnTo>
                                      <a:lnTo>
                                        <a:pt x="1614" y="378"/>
                                      </a:lnTo>
                                      <a:lnTo>
                                        <a:pt x="1605" y="374"/>
                                      </a:lnTo>
                                      <a:lnTo>
                                        <a:pt x="1592" y="370"/>
                                      </a:lnTo>
                                      <a:lnTo>
                                        <a:pt x="1584" y="366"/>
                                      </a:lnTo>
                                      <a:lnTo>
                                        <a:pt x="1584" y="357"/>
                                      </a:lnTo>
                                      <a:lnTo>
                                        <a:pt x="1579" y="340"/>
                                      </a:lnTo>
                                      <a:lnTo>
                                        <a:pt x="1571" y="318"/>
                                      </a:lnTo>
                                      <a:lnTo>
                                        <a:pt x="1562" y="297"/>
                                      </a:lnTo>
                                      <a:lnTo>
                                        <a:pt x="1553" y="280"/>
                                      </a:lnTo>
                                      <a:lnTo>
                                        <a:pt x="1540" y="262"/>
                                      </a:lnTo>
                                      <a:lnTo>
                                        <a:pt x="1532" y="249"/>
                                      </a:lnTo>
                                      <a:lnTo>
                                        <a:pt x="1523" y="245"/>
                                      </a:lnTo>
                                      <a:lnTo>
                                        <a:pt x="1523" y="391"/>
                                      </a:lnTo>
                                      <a:lnTo>
                                        <a:pt x="1558" y="413"/>
                                      </a:lnTo>
                                      <a:lnTo>
                                        <a:pt x="1558" y="477"/>
                                      </a:lnTo>
                                      <a:lnTo>
                                        <a:pt x="1597" y="542"/>
                                      </a:lnTo>
                                      <a:lnTo>
                                        <a:pt x="1631" y="645"/>
                                      </a:lnTo>
                                      <a:lnTo>
                                        <a:pt x="1691" y="645"/>
                                      </a:lnTo>
                                      <a:lnTo>
                                        <a:pt x="1748" y="701"/>
                                      </a:lnTo>
                                      <a:lnTo>
                                        <a:pt x="1765" y="679"/>
                                      </a:lnTo>
                                      <a:lnTo>
                                        <a:pt x="1752" y="593"/>
                                      </a:lnTo>
                                      <a:close/>
                                      <a:moveTo>
                                        <a:pt x="1519" y="219"/>
                                      </a:moveTo>
                                      <a:lnTo>
                                        <a:pt x="1515" y="202"/>
                                      </a:lnTo>
                                      <a:lnTo>
                                        <a:pt x="1506" y="189"/>
                                      </a:lnTo>
                                      <a:lnTo>
                                        <a:pt x="1497" y="176"/>
                                      </a:lnTo>
                                      <a:lnTo>
                                        <a:pt x="1489" y="163"/>
                                      </a:lnTo>
                                      <a:lnTo>
                                        <a:pt x="1476" y="151"/>
                                      </a:lnTo>
                                      <a:lnTo>
                                        <a:pt x="1467" y="138"/>
                                      </a:lnTo>
                                      <a:lnTo>
                                        <a:pt x="1454" y="125"/>
                                      </a:lnTo>
                                      <a:lnTo>
                                        <a:pt x="1441" y="116"/>
                                      </a:lnTo>
                                      <a:lnTo>
                                        <a:pt x="1519" y="219"/>
                                      </a:lnTo>
                                      <a:close/>
                                      <a:moveTo>
                                        <a:pt x="1407" y="65"/>
                                      </a:moveTo>
                                      <a:lnTo>
                                        <a:pt x="1407" y="65"/>
                                      </a:lnTo>
                                      <a:lnTo>
                                        <a:pt x="1402" y="60"/>
                                      </a:lnTo>
                                      <a:lnTo>
                                        <a:pt x="1402" y="56"/>
                                      </a:lnTo>
                                      <a:lnTo>
                                        <a:pt x="1402" y="52"/>
                                      </a:lnTo>
                                      <a:lnTo>
                                        <a:pt x="1402" y="52"/>
                                      </a:lnTo>
                                      <a:lnTo>
                                        <a:pt x="1402" y="47"/>
                                      </a:lnTo>
                                      <a:lnTo>
                                        <a:pt x="1402" y="43"/>
                                      </a:lnTo>
                                      <a:lnTo>
                                        <a:pt x="1402" y="43"/>
                                      </a:lnTo>
                                      <a:lnTo>
                                        <a:pt x="1398" y="43"/>
                                      </a:lnTo>
                                      <a:lnTo>
                                        <a:pt x="1398" y="43"/>
                                      </a:lnTo>
                                      <a:lnTo>
                                        <a:pt x="1398" y="43"/>
                                      </a:lnTo>
                                      <a:lnTo>
                                        <a:pt x="1394" y="43"/>
                                      </a:lnTo>
                                      <a:lnTo>
                                        <a:pt x="1394" y="39"/>
                                      </a:lnTo>
                                      <a:lnTo>
                                        <a:pt x="1389" y="39"/>
                                      </a:lnTo>
                                      <a:lnTo>
                                        <a:pt x="1389" y="39"/>
                                      </a:lnTo>
                                      <a:lnTo>
                                        <a:pt x="1389" y="39"/>
                                      </a:lnTo>
                                      <a:lnTo>
                                        <a:pt x="1407" y="65"/>
                                      </a:lnTo>
                                      <a:close/>
                                    </a:path>
                                  </a:pathLst>
                                </a:custGeom>
                                <a:blipFill rotWithShape="0">
                                  <a:blip r:embed="rId129"/>
                                  <a:srcRect/>
                                  <a:tile tx="0" ty="0" sx="100000" sy="100000" algn="ctr"/>
                                </a:blip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77" name=""/>
                                <p:cNvSpPr/>
                                <p:nvPr/>
                              </p:nvSpPr>
                              <p:spPr>
                                <a:xfrm rot="21419400">
                                  <a:off x="2767680" y="2059560"/>
                                  <a:ext cx="45720" cy="15912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449" h="1646">
                                      <a:moveTo>
                                        <a:pt x="224" y="322"/>
                                      </a:moveTo>
                                      <a:lnTo>
                                        <a:pt x="211" y="356"/>
                                      </a:lnTo>
                                      <a:lnTo>
                                        <a:pt x="194" y="387"/>
                                      </a:lnTo>
                                      <a:lnTo>
                                        <a:pt x="181" y="408"/>
                                      </a:lnTo>
                                      <a:lnTo>
                                        <a:pt x="164" y="430"/>
                                      </a:lnTo>
                                      <a:lnTo>
                                        <a:pt x="147" y="447"/>
                                      </a:lnTo>
                                      <a:lnTo>
                                        <a:pt x="125" y="468"/>
                                      </a:lnTo>
                                      <a:lnTo>
                                        <a:pt x="104" y="485"/>
                                      </a:lnTo>
                                      <a:lnTo>
                                        <a:pt x="82" y="507"/>
                                      </a:lnTo>
                                      <a:lnTo>
                                        <a:pt x="82" y="546"/>
                                      </a:lnTo>
                                      <a:lnTo>
                                        <a:pt x="82" y="580"/>
                                      </a:lnTo>
                                      <a:lnTo>
                                        <a:pt x="78" y="619"/>
                                      </a:lnTo>
                                      <a:lnTo>
                                        <a:pt x="73" y="657"/>
                                      </a:lnTo>
                                      <a:lnTo>
                                        <a:pt x="65" y="692"/>
                                      </a:lnTo>
                                      <a:lnTo>
                                        <a:pt x="47" y="726"/>
                                      </a:lnTo>
                                      <a:lnTo>
                                        <a:pt x="30" y="761"/>
                                      </a:lnTo>
                                      <a:lnTo>
                                        <a:pt x="0" y="791"/>
                                      </a:lnTo>
                                      <a:lnTo>
                                        <a:pt x="0" y="817"/>
                                      </a:lnTo>
                                      <a:lnTo>
                                        <a:pt x="0" y="851"/>
                                      </a:lnTo>
                                      <a:lnTo>
                                        <a:pt x="0" y="898"/>
                                      </a:lnTo>
                                      <a:lnTo>
                                        <a:pt x="0" y="950"/>
                                      </a:lnTo>
                                      <a:lnTo>
                                        <a:pt x="4" y="997"/>
                                      </a:lnTo>
                                      <a:lnTo>
                                        <a:pt x="9" y="1036"/>
                                      </a:lnTo>
                                      <a:lnTo>
                                        <a:pt x="17" y="1053"/>
                                      </a:lnTo>
                                      <a:lnTo>
                                        <a:pt x="22" y="1066"/>
                                      </a:lnTo>
                                      <a:lnTo>
                                        <a:pt x="30" y="1075"/>
                                      </a:lnTo>
                                      <a:lnTo>
                                        <a:pt x="43" y="1075"/>
                                      </a:lnTo>
                                      <a:lnTo>
                                        <a:pt x="43" y="1066"/>
                                      </a:lnTo>
                                      <a:lnTo>
                                        <a:pt x="47" y="1057"/>
                                      </a:lnTo>
                                      <a:lnTo>
                                        <a:pt x="47" y="1044"/>
                                      </a:lnTo>
                                      <a:lnTo>
                                        <a:pt x="52" y="1036"/>
                                      </a:lnTo>
                                      <a:lnTo>
                                        <a:pt x="56" y="1023"/>
                                      </a:lnTo>
                                      <a:lnTo>
                                        <a:pt x="60" y="1014"/>
                                      </a:lnTo>
                                      <a:lnTo>
                                        <a:pt x="60" y="1001"/>
                                      </a:lnTo>
                                      <a:lnTo>
                                        <a:pt x="65" y="993"/>
                                      </a:lnTo>
                                      <a:lnTo>
                                        <a:pt x="82" y="976"/>
                                      </a:lnTo>
                                      <a:lnTo>
                                        <a:pt x="142" y="976"/>
                                      </a:lnTo>
                                      <a:lnTo>
                                        <a:pt x="134" y="1010"/>
                                      </a:lnTo>
                                      <a:lnTo>
                                        <a:pt x="104" y="1075"/>
                                      </a:lnTo>
                                      <a:lnTo>
                                        <a:pt x="69" y="1161"/>
                                      </a:lnTo>
                                      <a:lnTo>
                                        <a:pt x="35" y="1255"/>
                                      </a:lnTo>
                                      <a:lnTo>
                                        <a:pt x="22" y="1302"/>
                                      </a:lnTo>
                                      <a:lnTo>
                                        <a:pt x="13" y="1345"/>
                                      </a:lnTo>
                                      <a:lnTo>
                                        <a:pt x="13" y="1388"/>
                                      </a:lnTo>
                                      <a:lnTo>
                                        <a:pt x="17" y="1427"/>
                                      </a:lnTo>
                                      <a:lnTo>
                                        <a:pt x="22" y="1440"/>
                                      </a:lnTo>
                                      <a:lnTo>
                                        <a:pt x="26" y="1457"/>
                                      </a:lnTo>
                                      <a:lnTo>
                                        <a:pt x="39" y="1470"/>
                                      </a:lnTo>
                                      <a:lnTo>
                                        <a:pt x="47" y="1483"/>
                                      </a:lnTo>
                                      <a:lnTo>
                                        <a:pt x="65" y="1492"/>
                                      </a:lnTo>
                                      <a:lnTo>
                                        <a:pt x="82" y="1496"/>
                                      </a:lnTo>
                                      <a:lnTo>
                                        <a:pt x="99" y="1500"/>
                                      </a:lnTo>
                                      <a:lnTo>
                                        <a:pt x="125" y="1500"/>
                                      </a:lnTo>
                                      <a:lnTo>
                                        <a:pt x="125" y="1358"/>
                                      </a:lnTo>
                                      <a:lnTo>
                                        <a:pt x="134" y="1358"/>
                                      </a:lnTo>
                                      <a:lnTo>
                                        <a:pt x="138" y="1358"/>
                                      </a:lnTo>
                                      <a:lnTo>
                                        <a:pt x="147" y="1354"/>
                                      </a:lnTo>
                                      <a:lnTo>
                                        <a:pt x="155" y="1350"/>
                                      </a:lnTo>
                                      <a:lnTo>
                                        <a:pt x="164" y="1345"/>
                                      </a:lnTo>
                                      <a:lnTo>
                                        <a:pt x="168" y="1341"/>
                                      </a:lnTo>
                                      <a:lnTo>
                                        <a:pt x="177" y="1341"/>
                                      </a:lnTo>
                                      <a:lnTo>
                                        <a:pt x="186" y="1341"/>
                                      </a:lnTo>
                                      <a:lnTo>
                                        <a:pt x="181" y="1371"/>
                                      </a:lnTo>
                                      <a:lnTo>
                                        <a:pt x="173" y="1414"/>
                                      </a:lnTo>
                                      <a:lnTo>
                                        <a:pt x="160" y="1462"/>
                                      </a:lnTo>
                                      <a:lnTo>
                                        <a:pt x="155" y="1513"/>
                                      </a:lnTo>
                                      <a:lnTo>
                                        <a:pt x="155" y="1539"/>
                                      </a:lnTo>
                                      <a:lnTo>
                                        <a:pt x="155" y="1565"/>
                                      </a:lnTo>
                                      <a:lnTo>
                                        <a:pt x="160" y="1586"/>
                                      </a:lnTo>
                                      <a:lnTo>
                                        <a:pt x="168" y="1603"/>
                                      </a:lnTo>
                                      <a:lnTo>
                                        <a:pt x="181" y="1621"/>
                                      </a:lnTo>
                                      <a:lnTo>
                                        <a:pt x="198" y="1634"/>
                                      </a:lnTo>
                                      <a:lnTo>
                                        <a:pt x="220" y="1642"/>
                                      </a:lnTo>
                                      <a:lnTo>
                                        <a:pt x="246" y="1646"/>
                                      </a:lnTo>
                                      <a:lnTo>
                                        <a:pt x="250" y="1612"/>
                                      </a:lnTo>
                                      <a:lnTo>
                                        <a:pt x="255" y="1560"/>
                                      </a:lnTo>
                                      <a:lnTo>
                                        <a:pt x="263" y="1500"/>
                                      </a:lnTo>
                                      <a:lnTo>
                                        <a:pt x="276" y="1440"/>
                                      </a:lnTo>
                                      <a:lnTo>
                                        <a:pt x="293" y="1380"/>
                                      </a:lnTo>
                                      <a:lnTo>
                                        <a:pt x="315" y="1328"/>
                                      </a:lnTo>
                                      <a:lnTo>
                                        <a:pt x="328" y="1307"/>
                                      </a:lnTo>
                                      <a:lnTo>
                                        <a:pt x="341" y="1294"/>
                                      </a:lnTo>
                                      <a:lnTo>
                                        <a:pt x="354" y="1281"/>
                                      </a:lnTo>
                                      <a:lnTo>
                                        <a:pt x="367" y="1277"/>
                                      </a:lnTo>
                                      <a:lnTo>
                                        <a:pt x="367" y="1272"/>
                                      </a:lnTo>
                                      <a:lnTo>
                                        <a:pt x="367" y="1264"/>
                                      </a:lnTo>
                                      <a:lnTo>
                                        <a:pt x="362" y="1255"/>
                                      </a:lnTo>
                                      <a:lnTo>
                                        <a:pt x="358" y="1247"/>
                                      </a:lnTo>
                                      <a:lnTo>
                                        <a:pt x="354" y="1242"/>
                                      </a:lnTo>
                                      <a:lnTo>
                                        <a:pt x="349" y="1234"/>
                                      </a:lnTo>
                                      <a:lnTo>
                                        <a:pt x="349" y="1225"/>
                                      </a:lnTo>
                                      <a:lnTo>
                                        <a:pt x="349" y="1216"/>
                                      </a:lnTo>
                                      <a:lnTo>
                                        <a:pt x="341" y="1221"/>
                                      </a:lnTo>
                                      <a:lnTo>
                                        <a:pt x="328" y="1225"/>
                                      </a:lnTo>
                                      <a:lnTo>
                                        <a:pt x="311" y="1229"/>
                                      </a:lnTo>
                                      <a:lnTo>
                                        <a:pt x="298" y="1238"/>
                                      </a:lnTo>
                                      <a:lnTo>
                                        <a:pt x="280" y="1247"/>
                                      </a:lnTo>
                                      <a:lnTo>
                                        <a:pt x="268" y="1251"/>
                                      </a:lnTo>
                                      <a:lnTo>
                                        <a:pt x="255" y="1255"/>
                                      </a:lnTo>
                                      <a:lnTo>
                                        <a:pt x="246" y="1259"/>
                                      </a:lnTo>
                                      <a:lnTo>
                                        <a:pt x="237" y="1277"/>
                                      </a:lnTo>
                                      <a:lnTo>
                                        <a:pt x="224" y="1294"/>
                                      </a:lnTo>
                                      <a:lnTo>
                                        <a:pt x="211" y="1315"/>
                                      </a:lnTo>
                                      <a:lnTo>
                                        <a:pt x="198" y="1341"/>
                                      </a:lnTo>
                                      <a:lnTo>
                                        <a:pt x="186" y="1363"/>
                                      </a:lnTo>
                                      <a:lnTo>
                                        <a:pt x="177" y="1384"/>
                                      </a:lnTo>
                                      <a:lnTo>
                                        <a:pt x="168" y="1406"/>
                                      </a:lnTo>
                                      <a:lnTo>
                                        <a:pt x="164" y="1423"/>
                                      </a:lnTo>
                                      <a:lnTo>
                                        <a:pt x="168" y="1376"/>
                                      </a:lnTo>
                                      <a:lnTo>
                                        <a:pt x="173" y="1328"/>
                                      </a:lnTo>
                                      <a:lnTo>
                                        <a:pt x="177" y="1277"/>
                                      </a:lnTo>
                                      <a:lnTo>
                                        <a:pt x="186" y="1229"/>
                                      </a:lnTo>
                                      <a:lnTo>
                                        <a:pt x="194" y="1182"/>
                                      </a:lnTo>
                                      <a:lnTo>
                                        <a:pt x="198" y="1139"/>
                                      </a:lnTo>
                                      <a:lnTo>
                                        <a:pt x="203" y="1096"/>
                                      </a:lnTo>
                                      <a:lnTo>
                                        <a:pt x="207" y="1053"/>
                                      </a:lnTo>
                                      <a:lnTo>
                                        <a:pt x="198" y="1057"/>
                                      </a:lnTo>
                                      <a:lnTo>
                                        <a:pt x="186" y="1062"/>
                                      </a:lnTo>
                                      <a:lnTo>
                                        <a:pt x="177" y="1070"/>
                                      </a:lnTo>
                                      <a:lnTo>
                                        <a:pt x="164" y="1079"/>
                                      </a:lnTo>
                                      <a:lnTo>
                                        <a:pt x="155" y="1087"/>
                                      </a:lnTo>
                                      <a:lnTo>
                                        <a:pt x="142" y="1096"/>
                                      </a:lnTo>
                                      <a:lnTo>
                                        <a:pt x="134" y="1109"/>
                                      </a:lnTo>
                                      <a:lnTo>
                                        <a:pt x="125" y="1118"/>
                                      </a:lnTo>
                                      <a:lnTo>
                                        <a:pt x="125" y="1135"/>
                                      </a:lnTo>
                                      <a:lnTo>
                                        <a:pt x="125" y="1156"/>
                                      </a:lnTo>
                                      <a:lnTo>
                                        <a:pt x="138" y="1109"/>
                                      </a:lnTo>
                                      <a:lnTo>
                                        <a:pt x="155" y="1053"/>
                                      </a:lnTo>
                                      <a:lnTo>
                                        <a:pt x="173" y="984"/>
                                      </a:lnTo>
                                      <a:lnTo>
                                        <a:pt x="190" y="911"/>
                                      </a:lnTo>
                                      <a:lnTo>
                                        <a:pt x="203" y="838"/>
                                      </a:lnTo>
                                      <a:lnTo>
                                        <a:pt x="216" y="765"/>
                                      </a:lnTo>
                                      <a:lnTo>
                                        <a:pt x="224" y="700"/>
                                      </a:lnTo>
                                      <a:lnTo>
                                        <a:pt x="224" y="649"/>
                                      </a:lnTo>
                                      <a:lnTo>
                                        <a:pt x="207" y="653"/>
                                      </a:lnTo>
                                      <a:lnTo>
                                        <a:pt x="190" y="666"/>
                                      </a:lnTo>
                                      <a:lnTo>
                                        <a:pt x="177" y="679"/>
                                      </a:lnTo>
                                      <a:lnTo>
                                        <a:pt x="168" y="700"/>
                                      </a:lnTo>
                                      <a:lnTo>
                                        <a:pt x="160" y="718"/>
                                      </a:lnTo>
                                      <a:lnTo>
                                        <a:pt x="147" y="735"/>
                                      </a:lnTo>
                                      <a:lnTo>
                                        <a:pt x="138" y="748"/>
                                      </a:lnTo>
                                      <a:lnTo>
                                        <a:pt x="125" y="752"/>
                                      </a:lnTo>
                                      <a:lnTo>
                                        <a:pt x="134" y="726"/>
                                      </a:lnTo>
                                      <a:lnTo>
                                        <a:pt x="147" y="696"/>
                                      </a:lnTo>
                                      <a:lnTo>
                                        <a:pt x="160" y="662"/>
                                      </a:lnTo>
                                      <a:lnTo>
                                        <a:pt x="173" y="627"/>
                                      </a:lnTo>
                                      <a:lnTo>
                                        <a:pt x="186" y="593"/>
                                      </a:lnTo>
                                      <a:lnTo>
                                        <a:pt x="194" y="563"/>
                                      </a:lnTo>
                                      <a:lnTo>
                                        <a:pt x="203" y="533"/>
                                      </a:lnTo>
                                      <a:lnTo>
                                        <a:pt x="207" y="507"/>
                                      </a:lnTo>
                                      <a:lnTo>
                                        <a:pt x="220" y="503"/>
                                      </a:lnTo>
                                      <a:lnTo>
                                        <a:pt x="229" y="498"/>
                                      </a:lnTo>
                                      <a:lnTo>
                                        <a:pt x="237" y="494"/>
                                      </a:lnTo>
                                      <a:lnTo>
                                        <a:pt x="246" y="485"/>
                                      </a:lnTo>
                                      <a:lnTo>
                                        <a:pt x="250" y="473"/>
                                      </a:lnTo>
                                      <a:lnTo>
                                        <a:pt x="255" y="464"/>
                                      </a:lnTo>
                                      <a:lnTo>
                                        <a:pt x="259" y="455"/>
                                      </a:lnTo>
                                      <a:lnTo>
                                        <a:pt x="268" y="447"/>
                                      </a:lnTo>
                                      <a:lnTo>
                                        <a:pt x="276" y="442"/>
                                      </a:lnTo>
                                      <a:lnTo>
                                        <a:pt x="280" y="442"/>
                                      </a:lnTo>
                                      <a:lnTo>
                                        <a:pt x="289" y="438"/>
                                      </a:lnTo>
                                      <a:lnTo>
                                        <a:pt x="298" y="434"/>
                                      </a:lnTo>
                                      <a:lnTo>
                                        <a:pt x="306" y="430"/>
                                      </a:lnTo>
                                      <a:lnTo>
                                        <a:pt x="311" y="430"/>
                                      </a:lnTo>
                                      <a:lnTo>
                                        <a:pt x="319" y="425"/>
                                      </a:lnTo>
                                      <a:lnTo>
                                        <a:pt x="328" y="425"/>
                                      </a:lnTo>
                                      <a:lnTo>
                                        <a:pt x="328" y="408"/>
                                      </a:lnTo>
                                      <a:lnTo>
                                        <a:pt x="324" y="387"/>
                                      </a:lnTo>
                                      <a:lnTo>
                                        <a:pt x="324" y="365"/>
                                      </a:lnTo>
                                      <a:lnTo>
                                        <a:pt x="319" y="344"/>
                                      </a:lnTo>
                                      <a:lnTo>
                                        <a:pt x="315" y="322"/>
                                      </a:lnTo>
                                      <a:lnTo>
                                        <a:pt x="311" y="301"/>
                                      </a:lnTo>
                                      <a:lnTo>
                                        <a:pt x="311" y="279"/>
                                      </a:lnTo>
                                      <a:lnTo>
                                        <a:pt x="306" y="262"/>
                                      </a:lnTo>
                                      <a:lnTo>
                                        <a:pt x="319" y="262"/>
                                      </a:lnTo>
                                      <a:lnTo>
                                        <a:pt x="332" y="253"/>
                                      </a:lnTo>
                                      <a:lnTo>
                                        <a:pt x="345" y="245"/>
                                      </a:lnTo>
                                      <a:lnTo>
                                        <a:pt x="354" y="232"/>
                                      </a:lnTo>
                                      <a:lnTo>
                                        <a:pt x="380" y="193"/>
                                      </a:lnTo>
                                      <a:lnTo>
                                        <a:pt x="401" y="154"/>
                                      </a:lnTo>
                                      <a:lnTo>
                                        <a:pt x="423" y="107"/>
                                      </a:lnTo>
                                      <a:lnTo>
                                        <a:pt x="436" y="64"/>
                                      </a:lnTo>
                                      <a:lnTo>
                                        <a:pt x="449" y="25"/>
                                      </a:lnTo>
                                      <a:lnTo>
                                        <a:pt x="449" y="0"/>
                                      </a:lnTo>
                                      <a:lnTo>
                                        <a:pt x="414" y="25"/>
                                      </a:lnTo>
                                      <a:lnTo>
                                        <a:pt x="384" y="55"/>
                                      </a:lnTo>
                                      <a:lnTo>
                                        <a:pt x="354" y="90"/>
                                      </a:lnTo>
                                      <a:lnTo>
                                        <a:pt x="324" y="124"/>
                                      </a:lnTo>
                                      <a:lnTo>
                                        <a:pt x="289" y="154"/>
                                      </a:lnTo>
                                      <a:lnTo>
                                        <a:pt x="255" y="180"/>
                                      </a:lnTo>
                                      <a:lnTo>
                                        <a:pt x="237" y="189"/>
                                      </a:lnTo>
                                      <a:lnTo>
                                        <a:pt x="216" y="193"/>
                                      </a:lnTo>
                                      <a:lnTo>
                                        <a:pt x="190" y="202"/>
                                      </a:lnTo>
                                      <a:lnTo>
                                        <a:pt x="164" y="202"/>
                                      </a:lnTo>
                                      <a:lnTo>
                                        <a:pt x="160" y="223"/>
                                      </a:lnTo>
                                      <a:lnTo>
                                        <a:pt x="151" y="249"/>
                                      </a:lnTo>
                                      <a:lnTo>
                                        <a:pt x="138" y="279"/>
                                      </a:lnTo>
                                      <a:lnTo>
                                        <a:pt x="125" y="305"/>
                                      </a:lnTo>
                                      <a:lnTo>
                                        <a:pt x="108" y="335"/>
                                      </a:lnTo>
                                      <a:lnTo>
                                        <a:pt x="95" y="365"/>
                                      </a:lnTo>
                                      <a:lnTo>
                                        <a:pt x="86" y="395"/>
                                      </a:lnTo>
                                      <a:lnTo>
                                        <a:pt x="82" y="425"/>
                                      </a:lnTo>
                                      <a:lnTo>
                                        <a:pt x="86" y="417"/>
                                      </a:lnTo>
                                      <a:lnTo>
                                        <a:pt x="91" y="408"/>
                                      </a:lnTo>
                                      <a:lnTo>
                                        <a:pt x="95" y="399"/>
                                      </a:lnTo>
                                      <a:lnTo>
                                        <a:pt x="104" y="391"/>
                                      </a:lnTo>
                                      <a:lnTo>
                                        <a:pt x="112" y="382"/>
                                      </a:lnTo>
                                      <a:lnTo>
                                        <a:pt x="117" y="369"/>
                                      </a:lnTo>
                                      <a:lnTo>
                                        <a:pt x="121" y="356"/>
                                      </a:lnTo>
                                      <a:lnTo>
                                        <a:pt x="125" y="344"/>
                                      </a:lnTo>
                                      <a:lnTo>
                                        <a:pt x="142" y="322"/>
                                      </a:lnTo>
                                      <a:lnTo>
                                        <a:pt x="164" y="322"/>
                                      </a:lnTo>
                                      <a:lnTo>
                                        <a:pt x="164" y="305"/>
                                      </a:lnTo>
                                      <a:lnTo>
                                        <a:pt x="186" y="283"/>
                                      </a:lnTo>
                                      <a:lnTo>
                                        <a:pt x="224" y="322"/>
                                      </a:lnTo>
                                      <a:close/>
                                    </a:path>
                                  </a:pathLst>
                                </a:custGeom>
                                <a:blipFill rotWithShape="0">
                                  <a:blip r:embed="rId130"/>
                                  <a:srcRect/>
                                  <a:tile tx="0" ty="0" sx="100000" sy="100000" algn="ctr"/>
                                </a:blip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278" name=""/>
                                <p:cNvSpPr/>
                                <p:nvPr/>
                              </p:nvSpPr>
                              <p:spPr>
                                <a:xfrm rot="21419400">
                                  <a:off x="2838960" y="2189160"/>
                                  <a:ext cx="162720" cy="5472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587" h="567">
                                      <a:moveTo>
                                        <a:pt x="159" y="258"/>
                                      </a:moveTo>
                                      <a:lnTo>
                                        <a:pt x="181" y="253"/>
                                      </a:lnTo>
                                      <a:lnTo>
                                        <a:pt x="207" y="245"/>
                                      </a:lnTo>
                                      <a:lnTo>
                                        <a:pt x="233" y="228"/>
                                      </a:lnTo>
                                      <a:lnTo>
                                        <a:pt x="263" y="206"/>
                                      </a:lnTo>
                                      <a:lnTo>
                                        <a:pt x="293" y="189"/>
                                      </a:lnTo>
                                      <a:lnTo>
                                        <a:pt x="323" y="172"/>
                                      </a:lnTo>
                                      <a:lnTo>
                                        <a:pt x="345" y="163"/>
                                      </a:lnTo>
                                      <a:lnTo>
                                        <a:pt x="367" y="159"/>
                                      </a:lnTo>
                                      <a:lnTo>
                                        <a:pt x="367" y="142"/>
                                      </a:lnTo>
                                      <a:lnTo>
                                        <a:pt x="375" y="124"/>
                                      </a:lnTo>
                                      <a:lnTo>
                                        <a:pt x="384" y="111"/>
                                      </a:lnTo>
                                      <a:lnTo>
                                        <a:pt x="397" y="99"/>
                                      </a:lnTo>
                                      <a:lnTo>
                                        <a:pt x="436" y="73"/>
                                      </a:lnTo>
                                      <a:lnTo>
                                        <a:pt x="483" y="51"/>
                                      </a:lnTo>
                                      <a:lnTo>
                                        <a:pt x="539" y="34"/>
                                      </a:lnTo>
                                      <a:lnTo>
                                        <a:pt x="604" y="21"/>
                                      </a:lnTo>
                                      <a:lnTo>
                                        <a:pt x="673" y="13"/>
                                      </a:lnTo>
                                      <a:lnTo>
                                        <a:pt x="746" y="4"/>
                                      </a:lnTo>
                                      <a:lnTo>
                                        <a:pt x="824" y="0"/>
                                      </a:lnTo>
                                      <a:lnTo>
                                        <a:pt x="897" y="0"/>
                                      </a:lnTo>
                                      <a:lnTo>
                                        <a:pt x="971" y="0"/>
                                      </a:lnTo>
                                      <a:lnTo>
                                        <a:pt x="1035" y="4"/>
                                      </a:lnTo>
                                      <a:lnTo>
                                        <a:pt x="1096" y="8"/>
                                      </a:lnTo>
                                      <a:lnTo>
                                        <a:pt x="1152" y="17"/>
                                      </a:lnTo>
                                      <a:lnTo>
                                        <a:pt x="1191" y="25"/>
                                      </a:lnTo>
                                      <a:lnTo>
                                        <a:pt x="1221" y="34"/>
                                      </a:lnTo>
                                      <a:lnTo>
                                        <a:pt x="1221" y="56"/>
                                      </a:lnTo>
                                      <a:lnTo>
                                        <a:pt x="1251" y="68"/>
                                      </a:lnTo>
                                      <a:lnTo>
                                        <a:pt x="1285" y="81"/>
                                      </a:lnTo>
                                      <a:lnTo>
                                        <a:pt x="1324" y="103"/>
                                      </a:lnTo>
                                      <a:lnTo>
                                        <a:pt x="1363" y="124"/>
                                      </a:lnTo>
                                      <a:lnTo>
                                        <a:pt x="1406" y="146"/>
                                      </a:lnTo>
                                      <a:lnTo>
                                        <a:pt x="1445" y="163"/>
                                      </a:lnTo>
                                      <a:lnTo>
                                        <a:pt x="1480" y="172"/>
                                      </a:lnTo>
                                      <a:lnTo>
                                        <a:pt x="1506" y="176"/>
                                      </a:lnTo>
                                      <a:lnTo>
                                        <a:pt x="1514" y="185"/>
                                      </a:lnTo>
                                      <a:lnTo>
                                        <a:pt x="1527" y="197"/>
                                      </a:lnTo>
                                      <a:lnTo>
                                        <a:pt x="1536" y="206"/>
                                      </a:lnTo>
                                      <a:lnTo>
                                        <a:pt x="1549" y="215"/>
                                      </a:lnTo>
                                      <a:lnTo>
                                        <a:pt x="1562" y="223"/>
                                      </a:lnTo>
                                      <a:lnTo>
                                        <a:pt x="1570" y="232"/>
                                      </a:lnTo>
                                      <a:lnTo>
                                        <a:pt x="1579" y="236"/>
                                      </a:lnTo>
                                      <a:lnTo>
                                        <a:pt x="1587" y="240"/>
                                      </a:lnTo>
                                      <a:lnTo>
                                        <a:pt x="1587" y="464"/>
                                      </a:lnTo>
                                      <a:lnTo>
                                        <a:pt x="1562" y="486"/>
                                      </a:lnTo>
                                      <a:lnTo>
                                        <a:pt x="1531" y="503"/>
                                      </a:lnTo>
                                      <a:lnTo>
                                        <a:pt x="1493" y="520"/>
                                      </a:lnTo>
                                      <a:lnTo>
                                        <a:pt x="1449" y="533"/>
                                      </a:lnTo>
                                      <a:lnTo>
                                        <a:pt x="1402" y="546"/>
                                      </a:lnTo>
                                      <a:lnTo>
                                        <a:pt x="1350" y="554"/>
                                      </a:lnTo>
                                      <a:lnTo>
                                        <a:pt x="1298" y="563"/>
                                      </a:lnTo>
                                      <a:lnTo>
                                        <a:pt x="1247" y="567"/>
                                      </a:lnTo>
                                      <a:lnTo>
                                        <a:pt x="1195" y="567"/>
                                      </a:lnTo>
                                      <a:lnTo>
                                        <a:pt x="1139" y="567"/>
                                      </a:lnTo>
                                      <a:lnTo>
                                        <a:pt x="1087" y="563"/>
                                      </a:lnTo>
                                      <a:lnTo>
                                        <a:pt x="1040" y="559"/>
                                      </a:lnTo>
                                      <a:lnTo>
                                        <a:pt x="992" y="546"/>
                                      </a:lnTo>
                                      <a:lnTo>
                                        <a:pt x="949" y="537"/>
                                      </a:lnTo>
                                      <a:lnTo>
                                        <a:pt x="910" y="520"/>
                                      </a:lnTo>
                                      <a:lnTo>
                                        <a:pt x="876" y="503"/>
                                      </a:lnTo>
                                      <a:lnTo>
                                        <a:pt x="876" y="481"/>
                                      </a:lnTo>
                                      <a:lnTo>
                                        <a:pt x="863" y="481"/>
                                      </a:lnTo>
                                      <a:lnTo>
                                        <a:pt x="845" y="481"/>
                                      </a:lnTo>
                                      <a:lnTo>
                                        <a:pt x="828" y="486"/>
                                      </a:lnTo>
                                      <a:lnTo>
                                        <a:pt x="807" y="486"/>
                                      </a:lnTo>
                                      <a:lnTo>
                                        <a:pt x="785" y="486"/>
                                      </a:lnTo>
                                      <a:lnTo>
                                        <a:pt x="768" y="490"/>
                                      </a:lnTo>
                                      <a:lnTo>
                                        <a:pt x="759" y="494"/>
                                      </a:lnTo>
                                      <a:lnTo>
                                        <a:pt x="755" y="503"/>
                                      </a:lnTo>
                                      <a:lnTo>
                                        <a:pt x="99" y="503"/>
                                      </a:lnTo>
                                      <a:lnTo>
                                        <a:pt x="95" y="503"/>
                                      </a:lnTo>
                                      <a:lnTo>
                                        <a:pt x="86" y="498"/>
                                      </a:lnTo>
                                      <a:lnTo>
                                        <a:pt x="77" y="498"/>
                                      </a:lnTo>
                                      <a:lnTo>
                                        <a:pt x="69" y="494"/>
                                      </a:lnTo>
                                      <a:lnTo>
                                        <a:pt x="60" y="490"/>
                                      </a:lnTo>
                                      <a:lnTo>
                                        <a:pt x="56" y="486"/>
                                      </a:lnTo>
                                      <a:lnTo>
                                        <a:pt x="47" y="486"/>
                                      </a:lnTo>
                                      <a:lnTo>
                                        <a:pt x="39" y="481"/>
                                      </a:lnTo>
                                      <a:lnTo>
                                        <a:pt x="0" y="443"/>
                                      </a:lnTo>
                                      <a:lnTo>
                                        <a:pt x="0" y="361"/>
                                      </a:lnTo>
                                      <a:lnTo>
                                        <a:pt x="8" y="352"/>
                                      </a:lnTo>
                                      <a:lnTo>
                                        <a:pt x="17" y="344"/>
                                      </a:lnTo>
                                      <a:lnTo>
                                        <a:pt x="26" y="331"/>
                                      </a:lnTo>
                                      <a:lnTo>
                                        <a:pt x="39" y="318"/>
                                      </a:lnTo>
                                      <a:lnTo>
                                        <a:pt x="47" y="305"/>
                                      </a:lnTo>
                                      <a:lnTo>
                                        <a:pt x="52" y="288"/>
                                      </a:lnTo>
                                      <a:lnTo>
                                        <a:pt x="56" y="275"/>
                                      </a:lnTo>
                                      <a:lnTo>
                                        <a:pt x="60" y="258"/>
                                      </a:lnTo>
                                      <a:lnTo>
                                        <a:pt x="69" y="253"/>
                                      </a:lnTo>
                                      <a:lnTo>
                                        <a:pt x="82" y="245"/>
                                      </a:lnTo>
                                      <a:lnTo>
                                        <a:pt x="95" y="232"/>
                                      </a:lnTo>
                                      <a:lnTo>
                                        <a:pt x="112" y="219"/>
                                      </a:lnTo>
                                      <a:lnTo>
                                        <a:pt x="125" y="215"/>
                                      </a:lnTo>
                                      <a:lnTo>
                                        <a:pt x="138" y="215"/>
                                      </a:lnTo>
                                      <a:lnTo>
                                        <a:pt x="151" y="232"/>
                                      </a:lnTo>
                                      <a:lnTo>
                                        <a:pt x="159" y="258"/>
                                      </a:lnTo>
                                      <a:close/>
                                    </a:path>
                                  </a:pathLst>
                                </a:custGeom>
                                <a:blipFill rotWithShape="0">
                                  <a:blip r:embed="rId131"/>
                                  <a:srcRect/>
                                  <a:tile tx="0" ty="0" sx="100000" sy="100000" algn="ctr"/>
                                </a:blipFill>
                                <a:ln w="0">
                                  <a:noFill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7920" bIns="792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279" name=""/>
                              <p:cNvSpPr/>
                              <p:nvPr/>
                            </p:nvSpPr>
                            <p:spPr>
                              <a:xfrm rot="21419400">
                                <a:off x="2850840" y="2190960"/>
                                <a:ext cx="141840" cy="478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1385" h="495">
                                    <a:moveTo>
                                      <a:pt x="142" y="228"/>
                                    </a:moveTo>
                                    <a:lnTo>
                                      <a:pt x="160" y="224"/>
                                    </a:lnTo>
                                    <a:lnTo>
                                      <a:pt x="181" y="215"/>
                                    </a:lnTo>
                                    <a:lnTo>
                                      <a:pt x="203" y="198"/>
                                    </a:lnTo>
                                    <a:lnTo>
                                      <a:pt x="229" y="185"/>
                                    </a:lnTo>
                                    <a:lnTo>
                                      <a:pt x="259" y="168"/>
                                    </a:lnTo>
                                    <a:lnTo>
                                      <a:pt x="280" y="151"/>
                                    </a:lnTo>
                                    <a:lnTo>
                                      <a:pt x="302" y="142"/>
                                    </a:lnTo>
                                    <a:lnTo>
                                      <a:pt x="319" y="138"/>
                                    </a:lnTo>
                                    <a:lnTo>
                                      <a:pt x="319" y="125"/>
                                    </a:lnTo>
                                    <a:lnTo>
                                      <a:pt x="328" y="112"/>
                                    </a:lnTo>
                                    <a:lnTo>
                                      <a:pt x="336" y="99"/>
                                    </a:lnTo>
                                    <a:lnTo>
                                      <a:pt x="345" y="86"/>
                                    </a:lnTo>
                                    <a:lnTo>
                                      <a:pt x="380" y="65"/>
                                    </a:lnTo>
                                    <a:lnTo>
                                      <a:pt x="423" y="48"/>
                                    </a:lnTo>
                                    <a:lnTo>
                                      <a:pt x="470" y="35"/>
                                    </a:lnTo>
                                    <a:lnTo>
                                      <a:pt x="526" y="22"/>
                                    </a:lnTo>
                                    <a:lnTo>
                                      <a:pt x="587" y="13"/>
                                    </a:lnTo>
                                    <a:lnTo>
                                      <a:pt x="651" y="5"/>
                                    </a:lnTo>
                                    <a:lnTo>
                                      <a:pt x="716" y="5"/>
                                    </a:lnTo>
                                    <a:lnTo>
                                      <a:pt x="781" y="0"/>
                                    </a:lnTo>
                                    <a:lnTo>
                                      <a:pt x="846" y="0"/>
                                    </a:lnTo>
                                    <a:lnTo>
                                      <a:pt x="906" y="5"/>
                                    </a:lnTo>
                                    <a:lnTo>
                                      <a:pt x="958" y="9"/>
                                    </a:lnTo>
                                    <a:lnTo>
                                      <a:pt x="1001" y="18"/>
                                    </a:lnTo>
                                    <a:lnTo>
                                      <a:pt x="1040" y="22"/>
                                    </a:lnTo>
                                    <a:lnTo>
                                      <a:pt x="1066" y="35"/>
                                    </a:lnTo>
                                    <a:lnTo>
                                      <a:pt x="1066" y="35"/>
                                    </a:lnTo>
                                    <a:lnTo>
                                      <a:pt x="1066" y="39"/>
                                    </a:lnTo>
                                    <a:lnTo>
                                      <a:pt x="1066" y="39"/>
                                    </a:lnTo>
                                    <a:lnTo>
                                      <a:pt x="1066" y="43"/>
                                    </a:lnTo>
                                    <a:lnTo>
                                      <a:pt x="1066" y="43"/>
                                    </a:lnTo>
                                    <a:lnTo>
                                      <a:pt x="1066" y="48"/>
                                    </a:lnTo>
                                    <a:lnTo>
                                      <a:pt x="1066" y="48"/>
                                    </a:lnTo>
                                    <a:lnTo>
                                      <a:pt x="1066" y="52"/>
                                    </a:lnTo>
                                    <a:lnTo>
                                      <a:pt x="1087" y="61"/>
                                    </a:lnTo>
                                    <a:lnTo>
                                      <a:pt x="1117" y="74"/>
                                    </a:lnTo>
                                    <a:lnTo>
                                      <a:pt x="1152" y="91"/>
                                    </a:lnTo>
                                    <a:lnTo>
                                      <a:pt x="1191" y="112"/>
                                    </a:lnTo>
                                    <a:lnTo>
                                      <a:pt x="1225" y="129"/>
                                    </a:lnTo>
                                    <a:lnTo>
                                      <a:pt x="1260" y="142"/>
                                    </a:lnTo>
                                    <a:lnTo>
                                      <a:pt x="1290" y="151"/>
                                    </a:lnTo>
                                    <a:lnTo>
                                      <a:pt x="1316" y="155"/>
                                    </a:lnTo>
                                    <a:lnTo>
                                      <a:pt x="1320" y="164"/>
                                    </a:lnTo>
                                    <a:lnTo>
                                      <a:pt x="1329" y="172"/>
                                    </a:lnTo>
                                    <a:lnTo>
                                      <a:pt x="1342" y="181"/>
                                    </a:lnTo>
                                    <a:lnTo>
                                      <a:pt x="1350" y="190"/>
                                    </a:lnTo>
                                    <a:lnTo>
                                      <a:pt x="1359" y="198"/>
                                    </a:lnTo>
                                    <a:lnTo>
                                      <a:pt x="1368" y="203"/>
                                    </a:lnTo>
                                    <a:lnTo>
                                      <a:pt x="1376" y="207"/>
                                    </a:lnTo>
                                    <a:lnTo>
                                      <a:pt x="1385" y="211"/>
                                    </a:lnTo>
                                    <a:lnTo>
                                      <a:pt x="1385" y="233"/>
                                    </a:lnTo>
                                    <a:lnTo>
                                      <a:pt x="1385" y="258"/>
                                    </a:lnTo>
                                    <a:lnTo>
                                      <a:pt x="1385" y="284"/>
                                    </a:lnTo>
                                    <a:lnTo>
                                      <a:pt x="1385" y="306"/>
                                    </a:lnTo>
                                    <a:lnTo>
                                      <a:pt x="1385" y="332"/>
                                    </a:lnTo>
                                    <a:lnTo>
                                      <a:pt x="1385" y="357"/>
                                    </a:lnTo>
                                    <a:lnTo>
                                      <a:pt x="1385" y="379"/>
                                    </a:lnTo>
                                    <a:lnTo>
                                      <a:pt x="1385" y="405"/>
                                    </a:lnTo>
                                    <a:lnTo>
                                      <a:pt x="1363" y="422"/>
                                    </a:lnTo>
                                    <a:lnTo>
                                      <a:pt x="1333" y="439"/>
                                    </a:lnTo>
                                    <a:lnTo>
                                      <a:pt x="1299" y="456"/>
                                    </a:lnTo>
                                    <a:lnTo>
                                      <a:pt x="1264" y="469"/>
                                    </a:lnTo>
                                    <a:lnTo>
                                      <a:pt x="1221" y="478"/>
                                    </a:lnTo>
                                    <a:lnTo>
                                      <a:pt x="1178" y="486"/>
                                    </a:lnTo>
                                    <a:lnTo>
                                      <a:pt x="1135" y="491"/>
                                    </a:lnTo>
                                    <a:lnTo>
                                      <a:pt x="1087" y="495"/>
                                    </a:lnTo>
                                    <a:lnTo>
                                      <a:pt x="1040" y="495"/>
                                    </a:lnTo>
                                    <a:lnTo>
                                      <a:pt x="997" y="495"/>
                                    </a:lnTo>
                                    <a:lnTo>
                                      <a:pt x="949" y="491"/>
                                    </a:lnTo>
                                    <a:lnTo>
                                      <a:pt x="906" y="486"/>
                                    </a:lnTo>
                                    <a:lnTo>
                                      <a:pt x="863" y="478"/>
                                    </a:lnTo>
                                    <a:lnTo>
                                      <a:pt x="828" y="469"/>
                                    </a:lnTo>
                                    <a:lnTo>
                                      <a:pt x="794" y="456"/>
                                    </a:lnTo>
                                    <a:lnTo>
                                      <a:pt x="764" y="439"/>
                                    </a:lnTo>
                                    <a:lnTo>
                                      <a:pt x="764" y="439"/>
                                    </a:lnTo>
                                    <a:lnTo>
                                      <a:pt x="764" y="435"/>
                                    </a:lnTo>
                                    <a:lnTo>
                                      <a:pt x="764" y="435"/>
                                    </a:lnTo>
                                    <a:lnTo>
                                      <a:pt x="764" y="430"/>
                                    </a:lnTo>
                                    <a:lnTo>
                                      <a:pt x="764" y="430"/>
                                    </a:lnTo>
                                    <a:lnTo>
                                      <a:pt x="764" y="426"/>
                                    </a:lnTo>
                                    <a:lnTo>
                                      <a:pt x="764" y="426"/>
                                    </a:lnTo>
                                    <a:lnTo>
                                      <a:pt x="764" y="422"/>
                                    </a:lnTo>
                                    <a:lnTo>
                                      <a:pt x="755" y="422"/>
                                    </a:lnTo>
                                    <a:lnTo>
                                      <a:pt x="738" y="422"/>
                                    </a:lnTo>
                                    <a:lnTo>
                                      <a:pt x="720" y="422"/>
                                    </a:lnTo>
                                    <a:lnTo>
                                      <a:pt x="703" y="426"/>
                                    </a:lnTo>
                                    <a:lnTo>
                                      <a:pt x="686" y="426"/>
                                    </a:lnTo>
                                    <a:lnTo>
                                      <a:pt x="673" y="430"/>
                                    </a:lnTo>
                                    <a:lnTo>
                                      <a:pt x="660" y="435"/>
                                    </a:lnTo>
                                    <a:lnTo>
                                      <a:pt x="656" y="439"/>
                                    </a:lnTo>
                                    <a:lnTo>
                                      <a:pt x="587" y="439"/>
                                    </a:lnTo>
                                    <a:lnTo>
                                      <a:pt x="513" y="439"/>
                                    </a:lnTo>
                                    <a:lnTo>
                                      <a:pt x="444" y="439"/>
                                    </a:lnTo>
                                    <a:lnTo>
                                      <a:pt x="371" y="439"/>
                                    </a:lnTo>
                                    <a:lnTo>
                                      <a:pt x="302" y="439"/>
                                    </a:lnTo>
                                    <a:lnTo>
                                      <a:pt x="229" y="439"/>
                                    </a:lnTo>
                                    <a:lnTo>
                                      <a:pt x="160" y="439"/>
                                    </a:lnTo>
                                    <a:lnTo>
                                      <a:pt x="91" y="439"/>
                                    </a:lnTo>
                                    <a:lnTo>
                                      <a:pt x="82" y="439"/>
                                    </a:lnTo>
                                    <a:lnTo>
                                      <a:pt x="73" y="439"/>
                                    </a:lnTo>
                                    <a:lnTo>
                                      <a:pt x="69" y="435"/>
                                    </a:lnTo>
                                    <a:lnTo>
                                      <a:pt x="60" y="430"/>
                                    </a:lnTo>
                                    <a:lnTo>
                                      <a:pt x="56" y="426"/>
                                    </a:lnTo>
                                    <a:lnTo>
                                      <a:pt x="47" y="426"/>
                                    </a:lnTo>
                                    <a:lnTo>
                                      <a:pt x="43" y="422"/>
                                    </a:lnTo>
                                    <a:lnTo>
                                      <a:pt x="34" y="422"/>
                                    </a:lnTo>
                                    <a:lnTo>
                                      <a:pt x="30" y="418"/>
                                    </a:lnTo>
                                    <a:lnTo>
                                      <a:pt x="26" y="413"/>
                                    </a:lnTo>
                                    <a:lnTo>
                                      <a:pt x="22" y="409"/>
                                    </a:lnTo>
                                    <a:lnTo>
                                      <a:pt x="17" y="405"/>
                                    </a:lnTo>
                                    <a:lnTo>
                                      <a:pt x="13" y="400"/>
                                    </a:lnTo>
                                    <a:lnTo>
                                      <a:pt x="9" y="396"/>
                                    </a:lnTo>
                                    <a:lnTo>
                                      <a:pt x="4" y="392"/>
                                    </a:lnTo>
                                    <a:lnTo>
                                      <a:pt x="0" y="387"/>
                                    </a:lnTo>
                                    <a:lnTo>
                                      <a:pt x="0" y="379"/>
                                    </a:lnTo>
                                    <a:lnTo>
                                      <a:pt x="0" y="370"/>
                                    </a:lnTo>
                                    <a:lnTo>
                                      <a:pt x="0" y="362"/>
                                    </a:lnTo>
                                    <a:lnTo>
                                      <a:pt x="0" y="353"/>
                                    </a:lnTo>
                                    <a:lnTo>
                                      <a:pt x="0" y="344"/>
                                    </a:lnTo>
                                    <a:lnTo>
                                      <a:pt x="0" y="336"/>
                                    </a:lnTo>
                                    <a:lnTo>
                                      <a:pt x="0" y="327"/>
                                    </a:lnTo>
                                    <a:lnTo>
                                      <a:pt x="0" y="314"/>
                                    </a:lnTo>
                                    <a:lnTo>
                                      <a:pt x="9" y="310"/>
                                    </a:lnTo>
                                    <a:lnTo>
                                      <a:pt x="17" y="301"/>
                                    </a:lnTo>
                                    <a:lnTo>
                                      <a:pt x="26" y="289"/>
                                    </a:lnTo>
                                    <a:lnTo>
                                      <a:pt x="34" y="280"/>
                                    </a:lnTo>
                                    <a:lnTo>
                                      <a:pt x="39" y="267"/>
                                    </a:lnTo>
                                    <a:lnTo>
                                      <a:pt x="47" y="254"/>
                                    </a:lnTo>
                                    <a:lnTo>
                                      <a:pt x="52" y="241"/>
                                    </a:lnTo>
                                    <a:lnTo>
                                      <a:pt x="52" y="228"/>
                                    </a:lnTo>
                                    <a:lnTo>
                                      <a:pt x="60" y="224"/>
                                    </a:lnTo>
                                    <a:lnTo>
                                      <a:pt x="73" y="215"/>
                                    </a:lnTo>
                                    <a:lnTo>
                                      <a:pt x="86" y="203"/>
                                    </a:lnTo>
                                    <a:lnTo>
                                      <a:pt x="99" y="194"/>
                                    </a:lnTo>
                                    <a:lnTo>
                                      <a:pt x="112" y="190"/>
                                    </a:lnTo>
                                    <a:lnTo>
                                      <a:pt x="125" y="190"/>
                                    </a:lnTo>
                                    <a:lnTo>
                                      <a:pt x="134" y="203"/>
                                    </a:lnTo>
                                    <a:lnTo>
                                      <a:pt x="142" y="228"/>
                                    </a:lnTo>
                                    <a:close/>
                                  </a:path>
                                </a:pathLst>
                              </a:custGeom>
                              <a:blipFill rotWithShape="0">
                                <a:blip r:embed="rId132"/>
                                <a:srcRect/>
                                <a:tile tx="0" ty="0" sx="100000" sy="100000" algn="ctr"/>
                              </a:blip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080" bIns="108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0" name=""/>
                              <p:cNvSpPr/>
                              <p:nvPr/>
                            </p:nvSpPr>
                            <p:spPr>
                              <a:xfrm rot="21419400">
                                <a:off x="2707920" y="2680560"/>
                                <a:ext cx="48240" cy="1080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474" h="112">
                                    <a:moveTo>
                                      <a:pt x="30" y="0"/>
                                    </a:moveTo>
                                    <a:lnTo>
                                      <a:pt x="90" y="8"/>
                                    </a:lnTo>
                                    <a:lnTo>
                                      <a:pt x="147" y="17"/>
                                    </a:lnTo>
                                    <a:lnTo>
                                      <a:pt x="203" y="30"/>
                                    </a:lnTo>
                                    <a:lnTo>
                                      <a:pt x="254" y="43"/>
                                    </a:lnTo>
                                    <a:lnTo>
                                      <a:pt x="306" y="60"/>
                                    </a:lnTo>
                                    <a:lnTo>
                                      <a:pt x="362" y="69"/>
                                    </a:lnTo>
                                    <a:lnTo>
                                      <a:pt x="418" y="77"/>
                                    </a:lnTo>
                                    <a:lnTo>
                                      <a:pt x="474" y="81"/>
                                    </a:lnTo>
                                    <a:lnTo>
                                      <a:pt x="474" y="112"/>
                                    </a:lnTo>
                                    <a:lnTo>
                                      <a:pt x="0" y="112"/>
                                    </a:lnTo>
                                    <a:lnTo>
                                      <a:pt x="0" y="38"/>
                                    </a:lnTo>
                                    <a:lnTo>
                                      <a:pt x="30" y="0"/>
                                    </a:lnTo>
                                    <a:close/>
                                  </a:path>
                                </a:pathLst>
                              </a:custGeom>
                              <a:blipFill rotWithShape="0">
                                <a:blip r:embed="rId133"/>
                                <a:srcRect/>
                                <a:tile tx="0" ty="0" sx="100000" sy="100000" algn="ctr"/>
                              </a:blip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6000" bIns="-360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281" name=""/>
                              <p:cNvSpPr/>
                              <p:nvPr/>
                            </p:nvSpPr>
                            <p:spPr>
                              <a:xfrm rot="21419400">
                                <a:off x="2730600" y="2009520"/>
                                <a:ext cx="84960" cy="388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832" h="404">
                                    <a:moveTo>
                                      <a:pt x="13" y="163"/>
                                    </a:moveTo>
                                    <a:lnTo>
                                      <a:pt x="17" y="159"/>
                                    </a:lnTo>
                                    <a:lnTo>
                                      <a:pt x="21" y="155"/>
                                    </a:lnTo>
                                    <a:lnTo>
                                      <a:pt x="34" y="150"/>
                                    </a:lnTo>
                                    <a:lnTo>
                                      <a:pt x="43" y="142"/>
                                    </a:lnTo>
                                    <a:lnTo>
                                      <a:pt x="56" y="138"/>
                                    </a:lnTo>
                                    <a:lnTo>
                                      <a:pt x="64" y="129"/>
                                    </a:lnTo>
                                    <a:lnTo>
                                      <a:pt x="73" y="125"/>
                                    </a:lnTo>
                                    <a:lnTo>
                                      <a:pt x="77" y="120"/>
                                    </a:lnTo>
                                    <a:lnTo>
                                      <a:pt x="125" y="120"/>
                                    </a:lnTo>
                                    <a:lnTo>
                                      <a:pt x="177" y="125"/>
                                    </a:lnTo>
                                    <a:lnTo>
                                      <a:pt x="228" y="125"/>
                                    </a:lnTo>
                                    <a:lnTo>
                                      <a:pt x="276" y="129"/>
                                    </a:lnTo>
                                    <a:lnTo>
                                      <a:pt x="328" y="129"/>
                                    </a:lnTo>
                                    <a:lnTo>
                                      <a:pt x="379" y="133"/>
                                    </a:lnTo>
                                    <a:lnTo>
                                      <a:pt x="427" y="133"/>
                                    </a:lnTo>
                                    <a:lnTo>
                                      <a:pt x="479" y="138"/>
                                    </a:lnTo>
                                    <a:lnTo>
                                      <a:pt x="479" y="133"/>
                                    </a:lnTo>
                                    <a:lnTo>
                                      <a:pt x="483" y="133"/>
                                    </a:lnTo>
                                    <a:lnTo>
                                      <a:pt x="487" y="129"/>
                                    </a:lnTo>
                                    <a:lnTo>
                                      <a:pt x="492" y="125"/>
                                    </a:lnTo>
                                    <a:lnTo>
                                      <a:pt x="500" y="120"/>
                                    </a:lnTo>
                                    <a:lnTo>
                                      <a:pt x="504" y="116"/>
                                    </a:lnTo>
                                    <a:lnTo>
                                      <a:pt x="509" y="112"/>
                                    </a:lnTo>
                                    <a:lnTo>
                                      <a:pt x="513" y="112"/>
                                    </a:lnTo>
                                    <a:lnTo>
                                      <a:pt x="517" y="107"/>
                                    </a:lnTo>
                                    <a:lnTo>
                                      <a:pt x="517" y="103"/>
                                    </a:lnTo>
                                    <a:lnTo>
                                      <a:pt x="522" y="103"/>
                                    </a:lnTo>
                                    <a:lnTo>
                                      <a:pt x="526" y="99"/>
                                    </a:lnTo>
                                    <a:lnTo>
                                      <a:pt x="530" y="95"/>
                                    </a:lnTo>
                                    <a:lnTo>
                                      <a:pt x="539" y="95"/>
                                    </a:lnTo>
                                    <a:lnTo>
                                      <a:pt x="543" y="95"/>
                                    </a:lnTo>
                                    <a:lnTo>
                                      <a:pt x="552" y="95"/>
                                    </a:lnTo>
                                    <a:lnTo>
                                      <a:pt x="556" y="86"/>
                                    </a:lnTo>
                                    <a:lnTo>
                                      <a:pt x="569" y="73"/>
                                    </a:lnTo>
                                    <a:lnTo>
                                      <a:pt x="591" y="60"/>
                                    </a:lnTo>
                                    <a:lnTo>
                                      <a:pt x="617" y="47"/>
                                    </a:lnTo>
                                    <a:lnTo>
                                      <a:pt x="643" y="30"/>
                                    </a:lnTo>
                                    <a:lnTo>
                                      <a:pt x="664" y="17"/>
                                    </a:lnTo>
                                    <a:lnTo>
                                      <a:pt x="681" y="9"/>
                                    </a:lnTo>
                                    <a:lnTo>
                                      <a:pt x="694" y="0"/>
                                    </a:lnTo>
                                    <a:lnTo>
                                      <a:pt x="707" y="0"/>
                                    </a:lnTo>
                                    <a:lnTo>
                                      <a:pt x="720" y="0"/>
                                    </a:lnTo>
                                    <a:lnTo>
                                      <a:pt x="733" y="0"/>
                                    </a:lnTo>
                                    <a:lnTo>
                                      <a:pt x="746" y="0"/>
                                    </a:lnTo>
                                    <a:lnTo>
                                      <a:pt x="759" y="4"/>
                                    </a:lnTo>
                                    <a:lnTo>
                                      <a:pt x="772" y="9"/>
                                    </a:lnTo>
                                    <a:lnTo>
                                      <a:pt x="781" y="17"/>
                                    </a:lnTo>
                                    <a:lnTo>
                                      <a:pt x="785" y="26"/>
                                    </a:lnTo>
                                    <a:lnTo>
                                      <a:pt x="794" y="26"/>
                                    </a:lnTo>
                                    <a:lnTo>
                                      <a:pt x="798" y="30"/>
                                    </a:lnTo>
                                    <a:lnTo>
                                      <a:pt x="802" y="39"/>
                                    </a:lnTo>
                                    <a:lnTo>
                                      <a:pt x="802" y="47"/>
                                    </a:lnTo>
                                    <a:lnTo>
                                      <a:pt x="806" y="56"/>
                                    </a:lnTo>
                                    <a:lnTo>
                                      <a:pt x="806" y="64"/>
                                    </a:lnTo>
                                    <a:lnTo>
                                      <a:pt x="806" y="73"/>
                                    </a:lnTo>
                                    <a:lnTo>
                                      <a:pt x="811" y="77"/>
                                    </a:lnTo>
                                    <a:lnTo>
                                      <a:pt x="811" y="77"/>
                                    </a:lnTo>
                                    <a:lnTo>
                                      <a:pt x="815" y="77"/>
                                    </a:lnTo>
                                    <a:lnTo>
                                      <a:pt x="815" y="77"/>
                                    </a:lnTo>
                                    <a:lnTo>
                                      <a:pt x="815" y="77"/>
                                    </a:lnTo>
                                    <a:lnTo>
                                      <a:pt x="815" y="77"/>
                                    </a:lnTo>
                                    <a:lnTo>
                                      <a:pt x="819" y="77"/>
                                    </a:lnTo>
                                    <a:lnTo>
                                      <a:pt x="819" y="77"/>
                                    </a:lnTo>
                                    <a:lnTo>
                                      <a:pt x="819" y="77"/>
                                    </a:lnTo>
                                    <a:lnTo>
                                      <a:pt x="828" y="99"/>
                                    </a:lnTo>
                                    <a:lnTo>
                                      <a:pt x="832" y="120"/>
                                    </a:lnTo>
                                    <a:lnTo>
                                      <a:pt x="832" y="142"/>
                                    </a:lnTo>
                                    <a:lnTo>
                                      <a:pt x="828" y="159"/>
                                    </a:lnTo>
                                    <a:lnTo>
                                      <a:pt x="806" y="198"/>
                                    </a:lnTo>
                                    <a:lnTo>
                                      <a:pt x="776" y="232"/>
                                    </a:lnTo>
                                    <a:lnTo>
                                      <a:pt x="742" y="262"/>
                                    </a:lnTo>
                                    <a:lnTo>
                                      <a:pt x="707" y="288"/>
                                    </a:lnTo>
                                    <a:lnTo>
                                      <a:pt x="694" y="301"/>
                                    </a:lnTo>
                                    <a:lnTo>
                                      <a:pt x="686" y="314"/>
                                    </a:lnTo>
                                    <a:lnTo>
                                      <a:pt x="677" y="327"/>
                                    </a:lnTo>
                                    <a:lnTo>
                                      <a:pt x="677" y="335"/>
                                    </a:lnTo>
                                    <a:lnTo>
                                      <a:pt x="630" y="340"/>
                                    </a:lnTo>
                                    <a:lnTo>
                                      <a:pt x="582" y="348"/>
                                    </a:lnTo>
                                    <a:lnTo>
                                      <a:pt x="535" y="361"/>
                                    </a:lnTo>
                                    <a:lnTo>
                                      <a:pt x="487" y="378"/>
                                    </a:lnTo>
                                    <a:lnTo>
                                      <a:pt x="440" y="391"/>
                                    </a:lnTo>
                                    <a:lnTo>
                                      <a:pt x="388" y="400"/>
                                    </a:lnTo>
                                    <a:lnTo>
                                      <a:pt x="362" y="404"/>
                                    </a:lnTo>
                                    <a:lnTo>
                                      <a:pt x="336" y="404"/>
                                    </a:lnTo>
                                    <a:lnTo>
                                      <a:pt x="310" y="400"/>
                                    </a:lnTo>
                                    <a:lnTo>
                                      <a:pt x="280" y="396"/>
                                    </a:lnTo>
                                    <a:lnTo>
                                      <a:pt x="259" y="391"/>
                                    </a:lnTo>
                                    <a:lnTo>
                                      <a:pt x="237" y="387"/>
                                    </a:lnTo>
                                    <a:lnTo>
                                      <a:pt x="211" y="378"/>
                                    </a:lnTo>
                                    <a:lnTo>
                                      <a:pt x="190" y="370"/>
                                    </a:lnTo>
                                    <a:lnTo>
                                      <a:pt x="164" y="365"/>
                                    </a:lnTo>
                                    <a:lnTo>
                                      <a:pt x="138" y="357"/>
                                    </a:lnTo>
                                    <a:lnTo>
                                      <a:pt x="116" y="353"/>
                                    </a:lnTo>
                                    <a:lnTo>
                                      <a:pt x="95" y="353"/>
                                    </a:lnTo>
                                    <a:lnTo>
                                      <a:pt x="90" y="348"/>
                                    </a:lnTo>
                                    <a:lnTo>
                                      <a:pt x="86" y="344"/>
                                    </a:lnTo>
                                    <a:lnTo>
                                      <a:pt x="82" y="340"/>
                                    </a:lnTo>
                                    <a:lnTo>
                                      <a:pt x="77" y="335"/>
                                    </a:lnTo>
                                    <a:lnTo>
                                      <a:pt x="69" y="327"/>
                                    </a:lnTo>
                                    <a:lnTo>
                                      <a:pt x="64" y="322"/>
                                    </a:lnTo>
                                    <a:lnTo>
                                      <a:pt x="60" y="314"/>
                                    </a:lnTo>
                                    <a:lnTo>
                                      <a:pt x="56" y="310"/>
                                    </a:lnTo>
                                    <a:lnTo>
                                      <a:pt x="51" y="305"/>
                                    </a:lnTo>
                                    <a:lnTo>
                                      <a:pt x="47" y="301"/>
                                    </a:lnTo>
                                    <a:lnTo>
                                      <a:pt x="39" y="297"/>
                                    </a:lnTo>
                                    <a:lnTo>
                                      <a:pt x="34" y="292"/>
                                    </a:lnTo>
                                    <a:lnTo>
                                      <a:pt x="34" y="288"/>
                                    </a:lnTo>
                                    <a:lnTo>
                                      <a:pt x="30" y="284"/>
                                    </a:lnTo>
                                    <a:lnTo>
                                      <a:pt x="26" y="279"/>
                                    </a:lnTo>
                                    <a:lnTo>
                                      <a:pt x="21" y="275"/>
                                    </a:lnTo>
                                    <a:lnTo>
                                      <a:pt x="21" y="254"/>
                                    </a:lnTo>
                                    <a:lnTo>
                                      <a:pt x="17" y="236"/>
                                    </a:lnTo>
                                    <a:lnTo>
                                      <a:pt x="8" y="219"/>
                                    </a:lnTo>
                                    <a:lnTo>
                                      <a:pt x="4" y="206"/>
                                    </a:lnTo>
                                    <a:lnTo>
                                      <a:pt x="0" y="193"/>
                                    </a:lnTo>
                                    <a:lnTo>
                                      <a:pt x="0" y="181"/>
                                    </a:lnTo>
                                    <a:lnTo>
                                      <a:pt x="4" y="172"/>
                                    </a:lnTo>
                                    <a:lnTo>
                                      <a:pt x="13" y="163"/>
                                    </a:lnTo>
                                    <a:close/>
                                  </a:path>
                                </a:pathLst>
                              </a:custGeom>
                              <a:blipFill rotWithShape="0">
                                <a:blip r:embed="rId134"/>
                                <a:srcRect/>
                                <a:tile tx="0" ty="0" sx="100000" sy="100000" algn="ctr"/>
                              </a:blip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7920" bIns="-792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  <p:sp>
                      <p:nvSpPr>
                        <p:cNvPr id="282" name=""/>
                        <p:cNvSpPr/>
                        <p:nvPr/>
                      </p:nvSpPr>
                      <p:spPr>
                        <a:xfrm rot="21419400">
                          <a:off x="2737800" y="1964160"/>
                          <a:ext cx="43560" cy="19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31" h="176">
                              <a:moveTo>
                                <a:pt x="475" y="82"/>
                              </a:moveTo>
                              <a:lnTo>
                                <a:pt x="510" y="73"/>
                              </a:lnTo>
                              <a:lnTo>
                                <a:pt x="518" y="73"/>
                              </a:lnTo>
                              <a:lnTo>
                                <a:pt x="531" y="82"/>
                              </a:lnTo>
                              <a:lnTo>
                                <a:pt x="531" y="103"/>
                              </a:lnTo>
                              <a:lnTo>
                                <a:pt x="410" y="95"/>
                              </a:lnTo>
                              <a:lnTo>
                                <a:pt x="294" y="176"/>
                              </a:lnTo>
                              <a:lnTo>
                                <a:pt x="160" y="155"/>
                              </a:lnTo>
                              <a:lnTo>
                                <a:pt x="87" y="95"/>
                              </a:lnTo>
                              <a:lnTo>
                                <a:pt x="9" y="103"/>
                              </a:lnTo>
                              <a:lnTo>
                                <a:pt x="0" y="103"/>
                              </a:lnTo>
                              <a:lnTo>
                                <a:pt x="0" y="82"/>
                              </a:lnTo>
                              <a:lnTo>
                                <a:pt x="182" y="0"/>
                              </a:lnTo>
                              <a:lnTo>
                                <a:pt x="371" y="30"/>
                              </a:lnTo>
                              <a:lnTo>
                                <a:pt x="475" y="8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ae7e06"/>
                        </a:solidFill>
                        <a:ln w="255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7000" bIns="-270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83" name=""/>
                      <p:cNvSpPr/>
                      <p:nvPr/>
                    </p:nvSpPr>
                    <p:spPr>
                      <a:xfrm rot="21419400">
                        <a:off x="2750760" y="1985400"/>
                        <a:ext cx="102960" cy="55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05" h="572">
                            <a:moveTo>
                              <a:pt x="30" y="69"/>
                            </a:moveTo>
                            <a:lnTo>
                              <a:pt x="60" y="47"/>
                            </a:lnTo>
                            <a:lnTo>
                              <a:pt x="99" y="30"/>
                            </a:lnTo>
                            <a:lnTo>
                              <a:pt x="138" y="13"/>
                            </a:lnTo>
                            <a:lnTo>
                              <a:pt x="181" y="4"/>
                            </a:lnTo>
                            <a:lnTo>
                              <a:pt x="224" y="0"/>
                            </a:lnTo>
                            <a:lnTo>
                              <a:pt x="267" y="0"/>
                            </a:lnTo>
                            <a:lnTo>
                              <a:pt x="315" y="0"/>
                            </a:lnTo>
                            <a:lnTo>
                              <a:pt x="362" y="4"/>
                            </a:lnTo>
                            <a:lnTo>
                              <a:pt x="410" y="13"/>
                            </a:lnTo>
                            <a:lnTo>
                              <a:pt x="457" y="21"/>
                            </a:lnTo>
                            <a:lnTo>
                              <a:pt x="500" y="34"/>
                            </a:lnTo>
                            <a:lnTo>
                              <a:pt x="544" y="52"/>
                            </a:lnTo>
                            <a:lnTo>
                              <a:pt x="582" y="69"/>
                            </a:lnTo>
                            <a:lnTo>
                              <a:pt x="621" y="86"/>
                            </a:lnTo>
                            <a:lnTo>
                              <a:pt x="656" y="107"/>
                            </a:lnTo>
                            <a:lnTo>
                              <a:pt x="686" y="129"/>
                            </a:lnTo>
                            <a:lnTo>
                              <a:pt x="686" y="129"/>
                            </a:lnTo>
                            <a:lnTo>
                              <a:pt x="686" y="133"/>
                            </a:lnTo>
                            <a:lnTo>
                              <a:pt x="686" y="133"/>
                            </a:lnTo>
                            <a:lnTo>
                              <a:pt x="686" y="138"/>
                            </a:lnTo>
                            <a:lnTo>
                              <a:pt x="686" y="138"/>
                            </a:lnTo>
                            <a:lnTo>
                              <a:pt x="686" y="142"/>
                            </a:lnTo>
                            <a:lnTo>
                              <a:pt x="686" y="142"/>
                            </a:lnTo>
                            <a:lnTo>
                              <a:pt x="686" y="142"/>
                            </a:lnTo>
                            <a:lnTo>
                              <a:pt x="725" y="163"/>
                            </a:lnTo>
                            <a:lnTo>
                              <a:pt x="781" y="185"/>
                            </a:lnTo>
                            <a:lnTo>
                              <a:pt x="841" y="206"/>
                            </a:lnTo>
                            <a:lnTo>
                              <a:pt x="902" y="232"/>
                            </a:lnTo>
                            <a:lnTo>
                              <a:pt x="932" y="245"/>
                            </a:lnTo>
                            <a:lnTo>
                              <a:pt x="958" y="262"/>
                            </a:lnTo>
                            <a:lnTo>
                              <a:pt x="979" y="279"/>
                            </a:lnTo>
                            <a:lnTo>
                              <a:pt x="992" y="297"/>
                            </a:lnTo>
                            <a:lnTo>
                              <a:pt x="1001" y="318"/>
                            </a:lnTo>
                            <a:lnTo>
                              <a:pt x="1005" y="344"/>
                            </a:lnTo>
                            <a:lnTo>
                              <a:pt x="1001" y="370"/>
                            </a:lnTo>
                            <a:lnTo>
                              <a:pt x="984" y="396"/>
                            </a:lnTo>
                            <a:lnTo>
                              <a:pt x="962" y="400"/>
                            </a:lnTo>
                            <a:lnTo>
                              <a:pt x="940" y="404"/>
                            </a:lnTo>
                            <a:lnTo>
                              <a:pt x="919" y="413"/>
                            </a:lnTo>
                            <a:lnTo>
                              <a:pt x="897" y="421"/>
                            </a:lnTo>
                            <a:lnTo>
                              <a:pt x="871" y="430"/>
                            </a:lnTo>
                            <a:lnTo>
                              <a:pt x="850" y="434"/>
                            </a:lnTo>
                            <a:lnTo>
                              <a:pt x="828" y="439"/>
                            </a:lnTo>
                            <a:lnTo>
                              <a:pt x="807" y="443"/>
                            </a:lnTo>
                            <a:lnTo>
                              <a:pt x="785" y="460"/>
                            </a:lnTo>
                            <a:lnTo>
                              <a:pt x="751" y="486"/>
                            </a:lnTo>
                            <a:lnTo>
                              <a:pt x="712" y="512"/>
                            </a:lnTo>
                            <a:lnTo>
                              <a:pt x="669" y="533"/>
                            </a:lnTo>
                            <a:lnTo>
                              <a:pt x="621" y="555"/>
                            </a:lnTo>
                            <a:lnTo>
                              <a:pt x="578" y="568"/>
                            </a:lnTo>
                            <a:lnTo>
                              <a:pt x="557" y="572"/>
                            </a:lnTo>
                            <a:lnTo>
                              <a:pt x="539" y="572"/>
                            </a:lnTo>
                            <a:lnTo>
                              <a:pt x="522" y="568"/>
                            </a:lnTo>
                            <a:lnTo>
                              <a:pt x="505" y="563"/>
                            </a:lnTo>
                            <a:lnTo>
                              <a:pt x="505" y="559"/>
                            </a:lnTo>
                            <a:lnTo>
                              <a:pt x="505" y="559"/>
                            </a:lnTo>
                            <a:lnTo>
                              <a:pt x="505" y="555"/>
                            </a:lnTo>
                            <a:lnTo>
                              <a:pt x="505" y="555"/>
                            </a:lnTo>
                            <a:lnTo>
                              <a:pt x="505" y="550"/>
                            </a:lnTo>
                            <a:lnTo>
                              <a:pt x="505" y="550"/>
                            </a:lnTo>
                            <a:lnTo>
                              <a:pt x="505" y="550"/>
                            </a:lnTo>
                            <a:lnTo>
                              <a:pt x="505" y="546"/>
                            </a:lnTo>
                            <a:lnTo>
                              <a:pt x="487" y="537"/>
                            </a:lnTo>
                            <a:lnTo>
                              <a:pt x="457" y="525"/>
                            </a:lnTo>
                            <a:lnTo>
                              <a:pt x="427" y="516"/>
                            </a:lnTo>
                            <a:lnTo>
                              <a:pt x="393" y="507"/>
                            </a:lnTo>
                            <a:lnTo>
                              <a:pt x="358" y="499"/>
                            </a:lnTo>
                            <a:lnTo>
                              <a:pt x="324" y="490"/>
                            </a:lnTo>
                            <a:lnTo>
                              <a:pt x="293" y="490"/>
                            </a:lnTo>
                            <a:lnTo>
                              <a:pt x="267" y="486"/>
                            </a:lnTo>
                            <a:lnTo>
                              <a:pt x="250" y="473"/>
                            </a:lnTo>
                            <a:lnTo>
                              <a:pt x="229" y="460"/>
                            </a:lnTo>
                            <a:lnTo>
                              <a:pt x="203" y="439"/>
                            </a:lnTo>
                            <a:lnTo>
                              <a:pt x="177" y="421"/>
                            </a:lnTo>
                            <a:lnTo>
                              <a:pt x="147" y="408"/>
                            </a:lnTo>
                            <a:lnTo>
                              <a:pt x="116" y="396"/>
                            </a:lnTo>
                            <a:lnTo>
                              <a:pt x="95" y="387"/>
                            </a:lnTo>
                            <a:lnTo>
                              <a:pt x="73" y="383"/>
                            </a:lnTo>
                            <a:lnTo>
                              <a:pt x="69" y="365"/>
                            </a:lnTo>
                            <a:lnTo>
                              <a:pt x="65" y="353"/>
                            </a:lnTo>
                            <a:lnTo>
                              <a:pt x="60" y="335"/>
                            </a:lnTo>
                            <a:lnTo>
                              <a:pt x="52" y="322"/>
                            </a:lnTo>
                            <a:lnTo>
                              <a:pt x="43" y="310"/>
                            </a:lnTo>
                            <a:lnTo>
                              <a:pt x="34" y="292"/>
                            </a:lnTo>
                            <a:lnTo>
                              <a:pt x="30" y="279"/>
                            </a:lnTo>
                            <a:lnTo>
                              <a:pt x="30" y="262"/>
                            </a:lnTo>
                            <a:lnTo>
                              <a:pt x="17" y="258"/>
                            </a:lnTo>
                            <a:lnTo>
                              <a:pt x="13" y="245"/>
                            </a:lnTo>
                            <a:lnTo>
                              <a:pt x="4" y="224"/>
                            </a:lnTo>
                            <a:lnTo>
                              <a:pt x="0" y="198"/>
                            </a:lnTo>
                            <a:lnTo>
                              <a:pt x="0" y="176"/>
                            </a:lnTo>
                            <a:lnTo>
                              <a:pt x="0" y="150"/>
                            </a:lnTo>
                            <a:lnTo>
                              <a:pt x="0" y="129"/>
                            </a:lnTo>
                            <a:lnTo>
                              <a:pt x="0" y="116"/>
                            </a:lnTo>
                            <a:lnTo>
                              <a:pt x="4" y="112"/>
                            </a:lnTo>
                            <a:lnTo>
                              <a:pt x="9" y="103"/>
                            </a:lnTo>
                            <a:lnTo>
                              <a:pt x="13" y="95"/>
                            </a:lnTo>
                            <a:lnTo>
                              <a:pt x="17" y="82"/>
                            </a:lnTo>
                            <a:lnTo>
                              <a:pt x="22" y="69"/>
                            </a:lnTo>
                            <a:lnTo>
                              <a:pt x="26" y="56"/>
                            </a:lnTo>
                            <a:lnTo>
                              <a:pt x="26" y="47"/>
                            </a:lnTo>
                            <a:lnTo>
                              <a:pt x="30" y="39"/>
                            </a:lnTo>
                            <a:lnTo>
                              <a:pt x="30" y="43"/>
                            </a:lnTo>
                            <a:lnTo>
                              <a:pt x="30" y="47"/>
                            </a:lnTo>
                            <a:lnTo>
                              <a:pt x="30" y="52"/>
                            </a:lnTo>
                            <a:lnTo>
                              <a:pt x="30" y="56"/>
                            </a:lnTo>
                            <a:lnTo>
                              <a:pt x="30" y="60"/>
                            </a:lnTo>
                            <a:lnTo>
                              <a:pt x="30" y="60"/>
                            </a:lnTo>
                            <a:lnTo>
                              <a:pt x="30" y="64"/>
                            </a:lnTo>
                            <a:lnTo>
                              <a:pt x="30" y="69"/>
                            </a:lnTo>
                            <a:close/>
                          </a:path>
                        </a:pathLst>
                      </a:custGeom>
                      <a:blipFill rotWithShape="0">
                        <a:blip r:embed="rId135"/>
                        <a:srcRect/>
                        <a:tile tx="0" ty="0" sx="100000" sy="100000" algn="ctr"/>
                      </a:blip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8280" bIns="82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84" name=""/>
                    <p:cNvSpPr/>
                    <p:nvPr/>
                  </p:nvSpPr>
                  <p:spPr>
                    <a:xfrm rot="21419400">
                      <a:off x="2684520" y="1983600"/>
                      <a:ext cx="122040" cy="6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91" h="675">
                          <a:moveTo>
                            <a:pt x="35" y="81"/>
                          </a:moveTo>
                          <a:lnTo>
                            <a:pt x="73" y="55"/>
                          </a:lnTo>
                          <a:lnTo>
                            <a:pt x="116" y="34"/>
                          </a:lnTo>
                          <a:lnTo>
                            <a:pt x="164" y="17"/>
                          </a:lnTo>
                          <a:lnTo>
                            <a:pt x="211" y="8"/>
                          </a:lnTo>
                          <a:lnTo>
                            <a:pt x="263" y="0"/>
                          </a:lnTo>
                          <a:lnTo>
                            <a:pt x="319" y="0"/>
                          </a:lnTo>
                          <a:lnTo>
                            <a:pt x="375" y="0"/>
                          </a:lnTo>
                          <a:lnTo>
                            <a:pt x="431" y="4"/>
                          </a:lnTo>
                          <a:lnTo>
                            <a:pt x="483" y="12"/>
                          </a:lnTo>
                          <a:lnTo>
                            <a:pt x="539" y="25"/>
                          </a:lnTo>
                          <a:lnTo>
                            <a:pt x="591" y="43"/>
                          </a:lnTo>
                          <a:lnTo>
                            <a:pt x="643" y="60"/>
                          </a:lnTo>
                          <a:lnTo>
                            <a:pt x="690" y="81"/>
                          </a:lnTo>
                          <a:lnTo>
                            <a:pt x="738" y="103"/>
                          </a:lnTo>
                          <a:lnTo>
                            <a:pt x="777" y="129"/>
                          </a:lnTo>
                          <a:lnTo>
                            <a:pt x="811" y="154"/>
                          </a:lnTo>
                          <a:lnTo>
                            <a:pt x="811" y="154"/>
                          </a:lnTo>
                          <a:lnTo>
                            <a:pt x="811" y="159"/>
                          </a:lnTo>
                          <a:lnTo>
                            <a:pt x="811" y="159"/>
                          </a:lnTo>
                          <a:lnTo>
                            <a:pt x="811" y="163"/>
                          </a:lnTo>
                          <a:lnTo>
                            <a:pt x="811" y="163"/>
                          </a:lnTo>
                          <a:lnTo>
                            <a:pt x="811" y="167"/>
                          </a:lnTo>
                          <a:lnTo>
                            <a:pt x="811" y="167"/>
                          </a:lnTo>
                          <a:lnTo>
                            <a:pt x="811" y="172"/>
                          </a:lnTo>
                          <a:lnTo>
                            <a:pt x="859" y="197"/>
                          </a:lnTo>
                          <a:lnTo>
                            <a:pt x="923" y="219"/>
                          </a:lnTo>
                          <a:lnTo>
                            <a:pt x="997" y="245"/>
                          </a:lnTo>
                          <a:lnTo>
                            <a:pt x="1070" y="275"/>
                          </a:lnTo>
                          <a:lnTo>
                            <a:pt x="1100" y="292"/>
                          </a:lnTo>
                          <a:lnTo>
                            <a:pt x="1130" y="309"/>
                          </a:lnTo>
                          <a:lnTo>
                            <a:pt x="1156" y="326"/>
                          </a:lnTo>
                          <a:lnTo>
                            <a:pt x="1173" y="352"/>
                          </a:lnTo>
                          <a:lnTo>
                            <a:pt x="1186" y="378"/>
                          </a:lnTo>
                          <a:lnTo>
                            <a:pt x="1191" y="404"/>
                          </a:lnTo>
                          <a:lnTo>
                            <a:pt x="1182" y="434"/>
                          </a:lnTo>
                          <a:lnTo>
                            <a:pt x="1165" y="468"/>
                          </a:lnTo>
                          <a:lnTo>
                            <a:pt x="1139" y="473"/>
                          </a:lnTo>
                          <a:lnTo>
                            <a:pt x="1113" y="477"/>
                          </a:lnTo>
                          <a:lnTo>
                            <a:pt x="1087" y="485"/>
                          </a:lnTo>
                          <a:lnTo>
                            <a:pt x="1061" y="494"/>
                          </a:lnTo>
                          <a:lnTo>
                            <a:pt x="1031" y="507"/>
                          </a:lnTo>
                          <a:lnTo>
                            <a:pt x="1005" y="516"/>
                          </a:lnTo>
                          <a:lnTo>
                            <a:pt x="979" y="520"/>
                          </a:lnTo>
                          <a:lnTo>
                            <a:pt x="953" y="524"/>
                          </a:lnTo>
                          <a:lnTo>
                            <a:pt x="928" y="546"/>
                          </a:lnTo>
                          <a:lnTo>
                            <a:pt x="889" y="576"/>
                          </a:lnTo>
                          <a:lnTo>
                            <a:pt x="841" y="606"/>
                          </a:lnTo>
                          <a:lnTo>
                            <a:pt x="790" y="632"/>
                          </a:lnTo>
                          <a:lnTo>
                            <a:pt x="738" y="657"/>
                          </a:lnTo>
                          <a:lnTo>
                            <a:pt x="686" y="670"/>
                          </a:lnTo>
                          <a:lnTo>
                            <a:pt x="660" y="675"/>
                          </a:lnTo>
                          <a:lnTo>
                            <a:pt x="639" y="675"/>
                          </a:lnTo>
                          <a:lnTo>
                            <a:pt x="617" y="670"/>
                          </a:lnTo>
                          <a:lnTo>
                            <a:pt x="600" y="662"/>
                          </a:lnTo>
                          <a:lnTo>
                            <a:pt x="600" y="662"/>
                          </a:lnTo>
                          <a:lnTo>
                            <a:pt x="600" y="657"/>
                          </a:lnTo>
                          <a:lnTo>
                            <a:pt x="600" y="657"/>
                          </a:lnTo>
                          <a:lnTo>
                            <a:pt x="600" y="653"/>
                          </a:lnTo>
                          <a:lnTo>
                            <a:pt x="600" y="653"/>
                          </a:lnTo>
                          <a:lnTo>
                            <a:pt x="600" y="649"/>
                          </a:lnTo>
                          <a:lnTo>
                            <a:pt x="600" y="649"/>
                          </a:lnTo>
                          <a:lnTo>
                            <a:pt x="600" y="645"/>
                          </a:lnTo>
                          <a:lnTo>
                            <a:pt x="574" y="632"/>
                          </a:lnTo>
                          <a:lnTo>
                            <a:pt x="544" y="619"/>
                          </a:lnTo>
                          <a:lnTo>
                            <a:pt x="505" y="610"/>
                          </a:lnTo>
                          <a:lnTo>
                            <a:pt x="466" y="597"/>
                          </a:lnTo>
                          <a:lnTo>
                            <a:pt x="423" y="589"/>
                          </a:lnTo>
                          <a:lnTo>
                            <a:pt x="384" y="580"/>
                          </a:lnTo>
                          <a:lnTo>
                            <a:pt x="349" y="576"/>
                          </a:lnTo>
                          <a:lnTo>
                            <a:pt x="319" y="576"/>
                          </a:lnTo>
                          <a:lnTo>
                            <a:pt x="298" y="559"/>
                          </a:lnTo>
                          <a:lnTo>
                            <a:pt x="272" y="541"/>
                          </a:lnTo>
                          <a:lnTo>
                            <a:pt x="242" y="520"/>
                          </a:lnTo>
                          <a:lnTo>
                            <a:pt x="207" y="498"/>
                          </a:lnTo>
                          <a:lnTo>
                            <a:pt x="173" y="481"/>
                          </a:lnTo>
                          <a:lnTo>
                            <a:pt x="142" y="468"/>
                          </a:lnTo>
                          <a:lnTo>
                            <a:pt x="112" y="455"/>
                          </a:lnTo>
                          <a:lnTo>
                            <a:pt x="86" y="451"/>
                          </a:lnTo>
                          <a:lnTo>
                            <a:pt x="86" y="434"/>
                          </a:lnTo>
                          <a:lnTo>
                            <a:pt x="78" y="417"/>
                          </a:lnTo>
                          <a:lnTo>
                            <a:pt x="69" y="399"/>
                          </a:lnTo>
                          <a:lnTo>
                            <a:pt x="60" y="382"/>
                          </a:lnTo>
                          <a:lnTo>
                            <a:pt x="52" y="365"/>
                          </a:lnTo>
                          <a:lnTo>
                            <a:pt x="43" y="348"/>
                          </a:lnTo>
                          <a:lnTo>
                            <a:pt x="35" y="331"/>
                          </a:lnTo>
                          <a:lnTo>
                            <a:pt x="35" y="309"/>
                          </a:lnTo>
                          <a:lnTo>
                            <a:pt x="22" y="305"/>
                          </a:lnTo>
                          <a:lnTo>
                            <a:pt x="13" y="288"/>
                          </a:lnTo>
                          <a:lnTo>
                            <a:pt x="9" y="266"/>
                          </a:lnTo>
                          <a:lnTo>
                            <a:pt x="4" y="236"/>
                          </a:lnTo>
                          <a:lnTo>
                            <a:pt x="0" y="206"/>
                          </a:lnTo>
                          <a:lnTo>
                            <a:pt x="0" y="176"/>
                          </a:lnTo>
                          <a:lnTo>
                            <a:pt x="0" y="154"/>
                          </a:lnTo>
                          <a:lnTo>
                            <a:pt x="0" y="133"/>
                          </a:lnTo>
                          <a:lnTo>
                            <a:pt x="4" y="133"/>
                          </a:lnTo>
                          <a:lnTo>
                            <a:pt x="13" y="124"/>
                          </a:lnTo>
                          <a:lnTo>
                            <a:pt x="17" y="111"/>
                          </a:lnTo>
                          <a:lnTo>
                            <a:pt x="22" y="98"/>
                          </a:lnTo>
                          <a:lnTo>
                            <a:pt x="26" y="81"/>
                          </a:lnTo>
                          <a:lnTo>
                            <a:pt x="30" y="68"/>
                          </a:lnTo>
                          <a:lnTo>
                            <a:pt x="35" y="55"/>
                          </a:lnTo>
                          <a:lnTo>
                            <a:pt x="35" y="47"/>
                          </a:lnTo>
                          <a:lnTo>
                            <a:pt x="35" y="51"/>
                          </a:lnTo>
                          <a:lnTo>
                            <a:pt x="35" y="55"/>
                          </a:lnTo>
                          <a:lnTo>
                            <a:pt x="35" y="60"/>
                          </a:lnTo>
                          <a:lnTo>
                            <a:pt x="35" y="64"/>
                          </a:lnTo>
                          <a:lnTo>
                            <a:pt x="35" y="68"/>
                          </a:lnTo>
                          <a:lnTo>
                            <a:pt x="35" y="73"/>
                          </a:lnTo>
                          <a:lnTo>
                            <a:pt x="35" y="77"/>
                          </a:lnTo>
                          <a:lnTo>
                            <a:pt x="35" y="81"/>
                          </a:lnTo>
                          <a:close/>
                        </a:path>
                      </a:pathLst>
                    </a:custGeom>
                    <a:blipFill rotWithShape="0">
                      <a:blip r:embed="rId136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360" bIns="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5" name=""/>
                  <p:cNvSpPr/>
                  <p:nvPr/>
                </p:nvSpPr>
                <p:spPr>
                  <a:xfrm rot="21419400">
                    <a:off x="2810520" y="1945080"/>
                    <a:ext cx="103680" cy="66600"/>
                  </a:xfrm>
                  <a:custGeom>
                    <a:avLst/>
                    <a:gdLst/>
                    <a:ahLst/>
                    <a:rect l="l" t="t" r="r" b="b"/>
                    <a:pathLst>
                      <a:path w="949" h="477">
                        <a:moveTo>
                          <a:pt x="17" y="194"/>
                        </a:moveTo>
                        <a:lnTo>
                          <a:pt x="17" y="194"/>
                        </a:lnTo>
                        <a:lnTo>
                          <a:pt x="26" y="189"/>
                        </a:lnTo>
                        <a:lnTo>
                          <a:pt x="39" y="181"/>
                        </a:lnTo>
                        <a:lnTo>
                          <a:pt x="52" y="172"/>
                        </a:lnTo>
                        <a:lnTo>
                          <a:pt x="65" y="163"/>
                        </a:lnTo>
                        <a:lnTo>
                          <a:pt x="78" y="155"/>
                        </a:lnTo>
                        <a:lnTo>
                          <a:pt x="86" y="146"/>
                        </a:lnTo>
                        <a:lnTo>
                          <a:pt x="86" y="142"/>
                        </a:lnTo>
                        <a:lnTo>
                          <a:pt x="548" y="163"/>
                        </a:lnTo>
                        <a:lnTo>
                          <a:pt x="548" y="163"/>
                        </a:lnTo>
                        <a:lnTo>
                          <a:pt x="552" y="159"/>
                        </a:lnTo>
                        <a:lnTo>
                          <a:pt x="557" y="155"/>
                        </a:lnTo>
                        <a:lnTo>
                          <a:pt x="561" y="146"/>
                        </a:lnTo>
                        <a:lnTo>
                          <a:pt x="569" y="142"/>
                        </a:lnTo>
                        <a:lnTo>
                          <a:pt x="578" y="138"/>
                        </a:lnTo>
                        <a:lnTo>
                          <a:pt x="582" y="133"/>
                        </a:lnTo>
                        <a:lnTo>
                          <a:pt x="587" y="133"/>
                        </a:lnTo>
                        <a:lnTo>
                          <a:pt x="587" y="129"/>
                        </a:lnTo>
                        <a:lnTo>
                          <a:pt x="591" y="125"/>
                        </a:lnTo>
                        <a:lnTo>
                          <a:pt x="595" y="120"/>
                        </a:lnTo>
                        <a:lnTo>
                          <a:pt x="600" y="120"/>
                        </a:lnTo>
                        <a:lnTo>
                          <a:pt x="604" y="116"/>
                        </a:lnTo>
                        <a:lnTo>
                          <a:pt x="613" y="116"/>
                        </a:lnTo>
                        <a:lnTo>
                          <a:pt x="621" y="112"/>
                        </a:lnTo>
                        <a:lnTo>
                          <a:pt x="630" y="112"/>
                        </a:lnTo>
                        <a:lnTo>
                          <a:pt x="634" y="103"/>
                        </a:lnTo>
                        <a:lnTo>
                          <a:pt x="651" y="90"/>
                        </a:lnTo>
                        <a:lnTo>
                          <a:pt x="673" y="73"/>
                        </a:lnTo>
                        <a:lnTo>
                          <a:pt x="703" y="56"/>
                        </a:lnTo>
                        <a:lnTo>
                          <a:pt x="729" y="39"/>
                        </a:lnTo>
                        <a:lnTo>
                          <a:pt x="755" y="26"/>
                        </a:lnTo>
                        <a:lnTo>
                          <a:pt x="777" y="9"/>
                        </a:lnTo>
                        <a:lnTo>
                          <a:pt x="790" y="0"/>
                        </a:lnTo>
                        <a:lnTo>
                          <a:pt x="802" y="0"/>
                        </a:lnTo>
                        <a:lnTo>
                          <a:pt x="820" y="0"/>
                        </a:lnTo>
                        <a:lnTo>
                          <a:pt x="833" y="4"/>
                        </a:lnTo>
                        <a:lnTo>
                          <a:pt x="850" y="4"/>
                        </a:lnTo>
                        <a:lnTo>
                          <a:pt x="863" y="9"/>
                        </a:lnTo>
                        <a:lnTo>
                          <a:pt x="876" y="13"/>
                        </a:lnTo>
                        <a:lnTo>
                          <a:pt x="889" y="22"/>
                        </a:lnTo>
                        <a:lnTo>
                          <a:pt x="893" y="30"/>
                        </a:lnTo>
                        <a:lnTo>
                          <a:pt x="902" y="34"/>
                        </a:lnTo>
                        <a:lnTo>
                          <a:pt x="910" y="39"/>
                        </a:lnTo>
                        <a:lnTo>
                          <a:pt x="915" y="47"/>
                        </a:lnTo>
                        <a:lnTo>
                          <a:pt x="915" y="56"/>
                        </a:lnTo>
                        <a:lnTo>
                          <a:pt x="919" y="69"/>
                        </a:lnTo>
                        <a:lnTo>
                          <a:pt x="919" y="77"/>
                        </a:lnTo>
                        <a:lnTo>
                          <a:pt x="919" y="86"/>
                        </a:lnTo>
                        <a:lnTo>
                          <a:pt x="923" y="90"/>
                        </a:lnTo>
                        <a:lnTo>
                          <a:pt x="932" y="90"/>
                        </a:lnTo>
                        <a:lnTo>
                          <a:pt x="945" y="120"/>
                        </a:lnTo>
                        <a:lnTo>
                          <a:pt x="949" y="142"/>
                        </a:lnTo>
                        <a:lnTo>
                          <a:pt x="949" y="168"/>
                        </a:lnTo>
                        <a:lnTo>
                          <a:pt x="941" y="189"/>
                        </a:lnTo>
                        <a:lnTo>
                          <a:pt x="932" y="215"/>
                        </a:lnTo>
                        <a:lnTo>
                          <a:pt x="919" y="237"/>
                        </a:lnTo>
                        <a:lnTo>
                          <a:pt x="902" y="254"/>
                        </a:lnTo>
                        <a:lnTo>
                          <a:pt x="884" y="275"/>
                        </a:lnTo>
                        <a:lnTo>
                          <a:pt x="846" y="310"/>
                        </a:lnTo>
                        <a:lnTo>
                          <a:pt x="807" y="344"/>
                        </a:lnTo>
                        <a:lnTo>
                          <a:pt x="794" y="357"/>
                        </a:lnTo>
                        <a:lnTo>
                          <a:pt x="781" y="374"/>
                        </a:lnTo>
                        <a:lnTo>
                          <a:pt x="772" y="387"/>
                        </a:lnTo>
                        <a:lnTo>
                          <a:pt x="772" y="396"/>
                        </a:lnTo>
                        <a:lnTo>
                          <a:pt x="716" y="400"/>
                        </a:lnTo>
                        <a:lnTo>
                          <a:pt x="664" y="413"/>
                        </a:lnTo>
                        <a:lnTo>
                          <a:pt x="613" y="430"/>
                        </a:lnTo>
                        <a:lnTo>
                          <a:pt x="557" y="447"/>
                        </a:lnTo>
                        <a:lnTo>
                          <a:pt x="500" y="464"/>
                        </a:lnTo>
                        <a:lnTo>
                          <a:pt x="444" y="473"/>
                        </a:lnTo>
                        <a:lnTo>
                          <a:pt x="414" y="477"/>
                        </a:lnTo>
                        <a:lnTo>
                          <a:pt x="384" y="477"/>
                        </a:lnTo>
                        <a:lnTo>
                          <a:pt x="354" y="473"/>
                        </a:lnTo>
                        <a:lnTo>
                          <a:pt x="324" y="469"/>
                        </a:lnTo>
                        <a:lnTo>
                          <a:pt x="298" y="464"/>
                        </a:lnTo>
                        <a:lnTo>
                          <a:pt x="272" y="456"/>
                        </a:lnTo>
                        <a:lnTo>
                          <a:pt x="242" y="447"/>
                        </a:lnTo>
                        <a:lnTo>
                          <a:pt x="216" y="439"/>
                        </a:lnTo>
                        <a:lnTo>
                          <a:pt x="186" y="430"/>
                        </a:lnTo>
                        <a:lnTo>
                          <a:pt x="160" y="426"/>
                        </a:lnTo>
                        <a:lnTo>
                          <a:pt x="134" y="417"/>
                        </a:lnTo>
                        <a:lnTo>
                          <a:pt x="108" y="417"/>
                        </a:lnTo>
                        <a:lnTo>
                          <a:pt x="108" y="413"/>
                        </a:lnTo>
                        <a:lnTo>
                          <a:pt x="104" y="409"/>
                        </a:lnTo>
                        <a:lnTo>
                          <a:pt x="95" y="404"/>
                        </a:lnTo>
                        <a:lnTo>
                          <a:pt x="86" y="396"/>
                        </a:lnTo>
                        <a:lnTo>
                          <a:pt x="82" y="387"/>
                        </a:lnTo>
                        <a:lnTo>
                          <a:pt x="73" y="383"/>
                        </a:lnTo>
                        <a:lnTo>
                          <a:pt x="69" y="374"/>
                        </a:lnTo>
                        <a:lnTo>
                          <a:pt x="69" y="366"/>
                        </a:lnTo>
                        <a:lnTo>
                          <a:pt x="60" y="361"/>
                        </a:lnTo>
                        <a:lnTo>
                          <a:pt x="52" y="357"/>
                        </a:lnTo>
                        <a:lnTo>
                          <a:pt x="47" y="353"/>
                        </a:lnTo>
                        <a:lnTo>
                          <a:pt x="43" y="348"/>
                        </a:lnTo>
                        <a:lnTo>
                          <a:pt x="39" y="340"/>
                        </a:lnTo>
                        <a:lnTo>
                          <a:pt x="35" y="335"/>
                        </a:lnTo>
                        <a:lnTo>
                          <a:pt x="30" y="331"/>
                        </a:lnTo>
                        <a:lnTo>
                          <a:pt x="26" y="327"/>
                        </a:lnTo>
                        <a:lnTo>
                          <a:pt x="26" y="305"/>
                        </a:lnTo>
                        <a:lnTo>
                          <a:pt x="17" y="284"/>
                        </a:lnTo>
                        <a:lnTo>
                          <a:pt x="13" y="262"/>
                        </a:lnTo>
                        <a:lnTo>
                          <a:pt x="4" y="245"/>
                        </a:lnTo>
                        <a:lnTo>
                          <a:pt x="0" y="228"/>
                        </a:lnTo>
                        <a:lnTo>
                          <a:pt x="0" y="215"/>
                        </a:lnTo>
                        <a:lnTo>
                          <a:pt x="4" y="202"/>
                        </a:lnTo>
                        <a:lnTo>
                          <a:pt x="17" y="194"/>
                        </a:lnTo>
                        <a:close/>
                      </a:path>
                    </a:pathLst>
                  </a:custGeom>
                  <a:blipFill rotWithShape="0">
                    <a:blip r:embed="rId137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800" bIns="19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6" name=""/>
                <p:cNvSpPr/>
                <p:nvPr/>
              </p:nvSpPr>
              <p:spPr>
                <a:xfrm rot="21419400">
                  <a:off x="2770920" y="1957320"/>
                  <a:ext cx="99720" cy="33480"/>
                </a:xfrm>
                <a:custGeom>
                  <a:avLst/>
                  <a:gdLst/>
                  <a:ahLst/>
                  <a:rect l="l" t="t" r="r" b="b"/>
                  <a:pathLst>
                    <a:path w="975" h="349">
                      <a:moveTo>
                        <a:pt x="99" y="159"/>
                      </a:moveTo>
                      <a:lnTo>
                        <a:pt x="107" y="155"/>
                      </a:lnTo>
                      <a:lnTo>
                        <a:pt x="125" y="151"/>
                      </a:lnTo>
                      <a:lnTo>
                        <a:pt x="142" y="138"/>
                      </a:lnTo>
                      <a:lnTo>
                        <a:pt x="159" y="129"/>
                      </a:lnTo>
                      <a:lnTo>
                        <a:pt x="181" y="116"/>
                      </a:lnTo>
                      <a:lnTo>
                        <a:pt x="198" y="108"/>
                      </a:lnTo>
                      <a:lnTo>
                        <a:pt x="211" y="99"/>
                      </a:lnTo>
                      <a:lnTo>
                        <a:pt x="224" y="95"/>
                      </a:lnTo>
                      <a:lnTo>
                        <a:pt x="228" y="78"/>
                      </a:lnTo>
                      <a:lnTo>
                        <a:pt x="241" y="61"/>
                      </a:lnTo>
                      <a:lnTo>
                        <a:pt x="263" y="43"/>
                      </a:lnTo>
                      <a:lnTo>
                        <a:pt x="293" y="35"/>
                      </a:lnTo>
                      <a:lnTo>
                        <a:pt x="328" y="22"/>
                      </a:lnTo>
                      <a:lnTo>
                        <a:pt x="371" y="13"/>
                      </a:lnTo>
                      <a:lnTo>
                        <a:pt x="414" y="9"/>
                      </a:lnTo>
                      <a:lnTo>
                        <a:pt x="457" y="5"/>
                      </a:lnTo>
                      <a:lnTo>
                        <a:pt x="548" y="0"/>
                      </a:lnTo>
                      <a:lnTo>
                        <a:pt x="634" y="0"/>
                      </a:lnTo>
                      <a:lnTo>
                        <a:pt x="703" y="9"/>
                      </a:lnTo>
                      <a:lnTo>
                        <a:pt x="746" y="22"/>
                      </a:lnTo>
                      <a:lnTo>
                        <a:pt x="746" y="22"/>
                      </a:lnTo>
                      <a:lnTo>
                        <a:pt x="746" y="26"/>
                      </a:lnTo>
                      <a:lnTo>
                        <a:pt x="746" y="26"/>
                      </a:lnTo>
                      <a:lnTo>
                        <a:pt x="746" y="30"/>
                      </a:lnTo>
                      <a:lnTo>
                        <a:pt x="746" y="30"/>
                      </a:lnTo>
                      <a:lnTo>
                        <a:pt x="746" y="30"/>
                      </a:lnTo>
                      <a:lnTo>
                        <a:pt x="746" y="35"/>
                      </a:lnTo>
                      <a:lnTo>
                        <a:pt x="746" y="35"/>
                      </a:lnTo>
                      <a:lnTo>
                        <a:pt x="763" y="43"/>
                      </a:lnTo>
                      <a:lnTo>
                        <a:pt x="785" y="52"/>
                      </a:lnTo>
                      <a:lnTo>
                        <a:pt x="811" y="65"/>
                      </a:lnTo>
                      <a:lnTo>
                        <a:pt x="837" y="78"/>
                      </a:lnTo>
                      <a:lnTo>
                        <a:pt x="863" y="91"/>
                      </a:lnTo>
                      <a:lnTo>
                        <a:pt x="884" y="99"/>
                      </a:lnTo>
                      <a:lnTo>
                        <a:pt x="906" y="108"/>
                      </a:lnTo>
                      <a:lnTo>
                        <a:pt x="923" y="108"/>
                      </a:lnTo>
                      <a:lnTo>
                        <a:pt x="927" y="116"/>
                      </a:lnTo>
                      <a:lnTo>
                        <a:pt x="936" y="121"/>
                      </a:lnTo>
                      <a:lnTo>
                        <a:pt x="940" y="125"/>
                      </a:lnTo>
                      <a:lnTo>
                        <a:pt x="949" y="134"/>
                      </a:lnTo>
                      <a:lnTo>
                        <a:pt x="953" y="138"/>
                      </a:lnTo>
                      <a:lnTo>
                        <a:pt x="962" y="142"/>
                      </a:lnTo>
                      <a:lnTo>
                        <a:pt x="966" y="147"/>
                      </a:lnTo>
                      <a:lnTo>
                        <a:pt x="975" y="147"/>
                      </a:lnTo>
                      <a:lnTo>
                        <a:pt x="975" y="164"/>
                      </a:lnTo>
                      <a:lnTo>
                        <a:pt x="975" y="181"/>
                      </a:lnTo>
                      <a:lnTo>
                        <a:pt x="975" y="198"/>
                      </a:lnTo>
                      <a:lnTo>
                        <a:pt x="975" y="215"/>
                      </a:lnTo>
                      <a:lnTo>
                        <a:pt x="975" y="233"/>
                      </a:lnTo>
                      <a:lnTo>
                        <a:pt x="975" y="250"/>
                      </a:lnTo>
                      <a:lnTo>
                        <a:pt x="975" y="267"/>
                      </a:lnTo>
                      <a:lnTo>
                        <a:pt x="975" y="284"/>
                      </a:lnTo>
                      <a:lnTo>
                        <a:pt x="957" y="297"/>
                      </a:lnTo>
                      <a:lnTo>
                        <a:pt x="936" y="310"/>
                      </a:lnTo>
                      <a:lnTo>
                        <a:pt x="914" y="319"/>
                      </a:lnTo>
                      <a:lnTo>
                        <a:pt x="888" y="327"/>
                      </a:lnTo>
                      <a:lnTo>
                        <a:pt x="828" y="340"/>
                      </a:lnTo>
                      <a:lnTo>
                        <a:pt x="763" y="349"/>
                      </a:lnTo>
                      <a:lnTo>
                        <a:pt x="699" y="349"/>
                      </a:lnTo>
                      <a:lnTo>
                        <a:pt x="634" y="340"/>
                      </a:lnTo>
                      <a:lnTo>
                        <a:pt x="608" y="336"/>
                      </a:lnTo>
                      <a:lnTo>
                        <a:pt x="578" y="327"/>
                      </a:lnTo>
                      <a:lnTo>
                        <a:pt x="556" y="319"/>
                      </a:lnTo>
                      <a:lnTo>
                        <a:pt x="535" y="310"/>
                      </a:lnTo>
                      <a:lnTo>
                        <a:pt x="535" y="306"/>
                      </a:lnTo>
                      <a:lnTo>
                        <a:pt x="535" y="306"/>
                      </a:lnTo>
                      <a:lnTo>
                        <a:pt x="535" y="306"/>
                      </a:lnTo>
                      <a:lnTo>
                        <a:pt x="535" y="301"/>
                      </a:lnTo>
                      <a:lnTo>
                        <a:pt x="535" y="301"/>
                      </a:lnTo>
                      <a:lnTo>
                        <a:pt x="535" y="301"/>
                      </a:lnTo>
                      <a:lnTo>
                        <a:pt x="535" y="297"/>
                      </a:lnTo>
                      <a:lnTo>
                        <a:pt x="535" y="297"/>
                      </a:lnTo>
                      <a:lnTo>
                        <a:pt x="530" y="297"/>
                      </a:lnTo>
                      <a:lnTo>
                        <a:pt x="517" y="297"/>
                      </a:lnTo>
                      <a:lnTo>
                        <a:pt x="504" y="297"/>
                      </a:lnTo>
                      <a:lnTo>
                        <a:pt x="491" y="297"/>
                      </a:lnTo>
                      <a:lnTo>
                        <a:pt x="479" y="301"/>
                      </a:lnTo>
                      <a:lnTo>
                        <a:pt x="470" y="301"/>
                      </a:lnTo>
                      <a:lnTo>
                        <a:pt x="461" y="306"/>
                      </a:lnTo>
                      <a:lnTo>
                        <a:pt x="461" y="310"/>
                      </a:lnTo>
                      <a:lnTo>
                        <a:pt x="409" y="310"/>
                      </a:lnTo>
                      <a:lnTo>
                        <a:pt x="362" y="310"/>
                      </a:lnTo>
                      <a:lnTo>
                        <a:pt x="310" y="310"/>
                      </a:lnTo>
                      <a:lnTo>
                        <a:pt x="258" y="310"/>
                      </a:lnTo>
                      <a:lnTo>
                        <a:pt x="211" y="310"/>
                      </a:lnTo>
                      <a:lnTo>
                        <a:pt x="159" y="310"/>
                      </a:lnTo>
                      <a:lnTo>
                        <a:pt x="112" y="310"/>
                      </a:lnTo>
                      <a:lnTo>
                        <a:pt x="60" y="310"/>
                      </a:lnTo>
                      <a:lnTo>
                        <a:pt x="56" y="310"/>
                      </a:lnTo>
                      <a:lnTo>
                        <a:pt x="51" y="306"/>
                      </a:lnTo>
                      <a:lnTo>
                        <a:pt x="47" y="306"/>
                      </a:lnTo>
                      <a:lnTo>
                        <a:pt x="43" y="301"/>
                      </a:lnTo>
                      <a:lnTo>
                        <a:pt x="38" y="301"/>
                      </a:lnTo>
                      <a:lnTo>
                        <a:pt x="34" y="297"/>
                      </a:lnTo>
                      <a:lnTo>
                        <a:pt x="26" y="297"/>
                      </a:lnTo>
                      <a:lnTo>
                        <a:pt x="21" y="297"/>
                      </a:lnTo>
                      <a:lnTo>
                        <a:pt x="21" y="293"/>
                      </a:lnTo>
                      <a:lnTo>
                        <a:pt x="17" y="288"/>
                      </a:lnTo>
                      <a:lnTo>
                        <a:pt x="13" y="288"/>
                      </a:lnTo>
                      <a:lnTo>
                        <a:pt x="8" y="284"/>
                      </a:lnTo>
                      <a:lnTo>
                        <a:pt x="8" y="280"/>
                      </a:lnTo>
                      <a:lnTo>
                        <a:pt x="4" y="276"/>
                      </a:lnTo>
                      <a:lnTo>
                        <a:pt x="0" y="276"/>
                      </a:lnTo>
                      <a:lnTo>
                        <a:pt x="0" y="271"/>
                      </a:lnTo>
                      <a:lnTo>
                        <a:pt x="0" y="267"/>
                      </a:lnTo>
                      <a:lnTo>
                        <a:pt x="0" y="258"/>
                      </a:lnTo>
                      <a:lnTo>
                        <a:pt x="0" y="254"/>
                      </a:lnTo>
                      <a:lnTo>
                        <a:pt x="0" y="245"/>
                      </a:lnTo>
                      <a:lnTo>
                        <a:pt x="0" y="241"/>
                      </a:lnTo>
                      <a:lnTo>
                        <a:pt x="0" y="233"/>
                      </a:lnTo>
                      <a:lnTo>
                        <a:pt x="0" y="228"/>
                      </a:lnTo>
                      <a:lnTo>
                        <a:pt x="0" y="220"/>
                      </a:lnTo>
                      <a:lnTo>
                        <a:pt x="4" y="215"/>
                      </a:lnTo>
                      <a:lnTo>
                        <a:pt x="8" y="211"/>
                      </a:lnTo>
                      <a:lnTo>
                        <a:pt x="17" y="202"/>
                      </a:lnTo>
                      <a:lnTo>
                        <a:pt x="21" y="194"/>
                      </a:lnTo>
                      <a:lnTo>
                        <a:pt x="26" y="185"/>
                      </a:lnTo>
                      <a:lnTo>
                        <a:pt x="30" y="177"/>
                      </a:lnTo>
                      <a:lnTo>
                        <a:pt x="34" y="168"/>
                      </a:lnTo>
                      <a:lnTo>
                        <a:pt x="34" y="159"/>
                      </a:lnTo>
                      <a:lnTo>
                        <a:pt x="43" y="155"/>
                      </a:lnTo>
                      <a:lnTo>
                        <a:pt x="47" y="151"/>
                      </a:lnTo>
                      <a:lnTo>
                        <a:pt x="56" y="142"/>
                      </a:lnTo>
                      <a:lnTo>
                        <a:pt x="64" y="138"/>
                      </a:lnTo>
                      <a:lnTo>
                        <a:pt x="77" y="134"/>
                      </a:lnTo>
                      <a:lnTo>
                        <a:pt x="86" y="134"/>
                      </a:lnTo>
                      <a:lnTo>
                        <a:pt x="90" y="142"/>
                      </a:lnTo>
                      <a:lnTo>
                        <a:pt x="99" y="159"/>
                      </a:lnTo>
                      <a:close/>
                    </a:path>
                  </a:pathLst>
                </a:custGeom>
                <a:blipFill rotWithShape="0">
                  <a:blip r:embed="rId138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87" name=""/>
            <p:cNvSpPr/>
            <p:nvPr/>
          </p:nvSpPr>
          <p:spPr>
            <a:xfrm rot="21419400">
              <a:off x="2672640" y="1981080"/>
              <a:ext cx="109440" cy="70200"/>
            </a:xfrm>
            <a:custGeom>
              <a:avLst/>
              <a:gdLst/>
              <a:ahLst/>
              <a:rect l="l" t="t" r="r" b="b"/>
              <a:pathLst>
                <a:path w="2097" h="920">
                  <a:moveTo>
                    <a:pt x="1450" y="86"/>
                  </a:moveTo>
                  <a:lnTo>
                    <a:pt x="1610" y="172"/>
                  </a:lnTo>
                  <a:lnTo>
                    <a:pt x="1778" y="146"/>
                  </a:lnTo>
                  <a:lnTo>
                    <a:pt x="1959" y="86"/>
                  </a:lnTo>
                  <a:lnTo>
                    <a:pt x="2011" y="43"/>
                  </a:lnTo>
                  <a:lnTo>
                    <a:pt x="2097" y="43"/>
                  </a:lnTo>
                  <a:lnTo>
                    <a:pt x="1959" y="108"/>
                  </a:lnTo>
                  <a:lnTo>
                    <a:pt x="1778" y="245"/>
                  </a:lnTo>
                  <a:lnTo>
                    <a:pt x="1726" y="245"/>
                  </a:lnTo>
                  <a:lnTo>
                    <a:pt x="1696" y="288"/>
                  </a:lnTo>
                  <a:lnTo>
                    <a:pt x="1748" y="340"/>
                  </a:lnTo>
                  <a:lnTo>
                    <a:pt x="1864" y="348"/>
                  </a:lnTo>
                  <a:lnTo>
                    <a:pt x="1981" y="413"/>
                  </a:lnTo>
                  <a:lnTo>
                    <a:pt x="1821" y="361"/>
                  </a:lnTo>
                  <a:lnTo>
                    <a:pt x="1705" y="400"/>
                  </a:lnTo>
                  <a:lnTo>
                    <a:pt x="1549" y="572"/>
                  </a:lnTo>
                  <a:lnTo>
                    <a:pt x="1515" y="697"/>
                  </a:lnTo>
                  <a:lnTo>
                    <a:pt x="1515" y="761"/>
                  </a:lnTo>
                  <a:lnTo>
                    <a:pt x="1390" y="856"/>
                  </a:lnTo>
                  <a:lnTo>
                    <a:pt x="1006" y="920"/>
                  </a:lnTo>
                  <a:lnTo>
                    <a:pt x="837" y="899"/>
                  </a:lnTo>
                  <a:lnTo>
                    <a:pt x="781" y="877"/>
                  </a:lnTo>
                  <a:lnTo>
                    <a:pt x="708" y="877"/>
                  </a:lnTo>
                  <a:lnTo>
                    <a:pt x="458" y="804"/>
                  </a:lnTo>
                  <a:lnTo>
                    <a:pt x="328" y="761"/>
                  </a:lnTo>
                  <a:lnTo>
                    <a:pt x="160" y="740"/>
                  </a:lnTo>
                  <a:lnTo>
                    <a:pt x="130" y="710"/>
                  </a:lnTo>
                  <a:lnTo>
                    <a:pt x="458" y="710"/>
                  </a:lnTo>
                  <a:lnTo>
                    <a:pt x="518" y="740"/>
                  </a:lnTo>
                  <a:lnTo>
                    <a:pt x="561" y="783"/>
                  </a:lnTo>
                  <a:lnTo>
                    <a:pt x="604" y="761"/>
                  </a:lnTo>
                  <a:lnTo>
                    <a:pt x="604" y="645"/>
                  </a:lnTo>
                  <a:lnTo>
                    <a:pt x="458" y="636"/>
                  </a:lnTo>
                  <a:lnTo>
                    <a:pt x="358" y="615"/>
                  </a:lnTo>
                  <a:lnTo>
                    <a:pt x="225" y="615"/>
                  </a:lnTo>
                  <a:lnTo>
                    <a:pt x="130" y="602"/>
                  </a:lnTo>
                  <a:lnTo>
                    <a:pt x="87" y="581"/>
                  </a:lnTo>
                  <a:lnTo>
                    <a:pt x="13" y="581"/>
                  </a:lnTo>
                  <a:lnTo>
                    <a:pt x="0" y="542"/>
                  </a:lnTo>
                  <a:lnTo>
                    <a:pt x="44" y="421"/>
                  </a:lnTo>
                  <a:lnTo>
                    <a:pt x="169" y="361"/>
                  </a:lnTo>
                  <a:lnTo>
                    <a:pt x="255" y="391"/>
                  </a:lnTo>
                  <a:lnTo>
                    <a:pt x="328" y="383"/>
                  </a:lnTo>
                  <a:lnTo>
                    <a:pt x="350" y="361"/>
                  </a:lnTo>
                  <a:lnTo>
                    <a:pt x="320" y="318"/>
                  </a:lnTo>
                  <a:lnTo>
                    <a:pt x="298" y="297"/>
                  </a:lnTo>
                  <a:lnTo>
                    <a:pt x="138" y="305"/>
                  </a:lnTo>
                  <a:lnTo>
                    <a:pt x="212" y="267"/>
                  </a:lnTo>
                  <a:lnTo>
                    <a:pt x="225" y="267"/>
                  </a:lnTo>
                  <a:lnTo>
                    <a:pt x="255" y="297"/>
                  </a:lnTo>
                  <a:lnTo>
                    <a:pt x="276" y="267"/>
                  </a:lnTo>
                  <a:lnTo>
                    <a:pt x="466" y="245"/>
                  </a:lnTo>
                  <a:lnTo>
                    <a:pt x="466" y="224"/>
                  </a:lnTo>
                  <a:lnTo>
                    <a:pt x="846" y="52"/>
                  </a:lnTo>
                  <a:lnTo>
                    <a:pt x="997" y="22"/>
                  </a:lnTo>
                  <a:lnTo>
                    <a:pt x="1144" y="0"/>
                  </a:lnTo>
                  <a:lnTo>
                    <a:pt x="1390" y="52"/>
                  </a:lnTo>
                  <a:lnTo>
                    <a:pt x="1450" y="86"/>
                  </a:lnTo>
                  <a:close/>
                </a:path>
              </a:pathLst>
            </a:custGeom>
            <a:blipFill rotWithShape="0">
              <a:blip r:embed="rId13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3048120" y="3276720"/>
            <a:ext cx="4419360" cy="3276360"/>
            <a:chOff x="3048120" y="3276720"/>
            <a:chExt cx="4419360" cy="3276360"/>
          </a:xfrm>
        </p:grpSpPr>
        <p:sp>
          <p:nvSpPr>
            <p:cNvPr id="289" name=""/>
            <p:cNvSpPr/>
            <p:nvPr/>
          </p:nvSpPr>
          <p:spPr>
            <a:xfrm flipH="1">
              <a:off x="3048120" y="3713760"/>
              <a:ext cx="2880720" cy="2689920"/>
            </a:xfrm>
            <a:prstGeom prst="triangle">
              <a:avLst>
                <a:gd name="adj" fmla="val 50000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3048120" y="3276720"/>
              <a:ext cx="4419360" cy="3276360"/>
              <a:chOff x="3048120" y="3276720"/>
              <a:chExt cx="4419360" cy="3276360"/>
            </a:xfrm>
          </p:grpSpPr>
          <p:grpSp>
            <p:nvGrpSpPr>
              <p:cNvPr id="291" name=""/>
              <p:cNvGrpSpPr/>
              <p:nvPr/>
            </p:nvGrpSpPr>
            <p:grpSpPr>
              <a:xfrm>
                <a:off x="3279960" y="3276720"/>
                <a:ext cx="4187520" cy="3276360"/>
                <a:chOff x="3279960" y="3276720"/>
                <a:chExt cx="4187520" cy="3276360"/>
              </a:xfrm>
            </p:grpSpPr>
            <p:sp>
              <p:nvSpPr>
                <p:cNvPr id="292" name=""/>
                <p:cNvSpPr/>
                <p:nvPr/>
              </p:nvSpPr>
              <p:spPr>
                <a:xfrm flipH="1">
                  <a:off x="3279960" y="3276720"/>
                  <a:ext cx="4187520" cy="3276360"/>
                </a:xfrm>
                <a:custGeom>
                  <a:avLst/>
                  <a:gdLst/>
                  <a:ahLst/>
                  <a:rect l="l" t="t" r="r" b="b"/>
                  <a:pathLst>
                    <a:path w="5723" h="4045">
                      <a:moveTo>
                        <a:pt x="750" y="4045"/>
                      </a:moveTo>
                      <a:lnTo>
                        <a:pt x="721" y="4041"/>
                      </a:lnTo>
                      <a:lnTo>
                        <a:pt x="698" y="4039"/>
                      </a:lnTo>
                      <a:lnTo>
                        <a:pt x="681" y="4033"/>
                      </a:lnTo>
                      <a:lnTo>
                        <a:pt x="669" y="4029"/>
                      </a:lnTo>
                      <a:lnTo>
                        <a:pt x="658" y="4018"/>
                      </a:lnTo>
                      <a:lnTo>
                        <a:pt x="650" y="4004"/>
                      </a:lnTo>
                      <a:lnTo>
                        <a:pt x="640" y="3987"/>
                      </a:lnTo>
                      <a:lnTo>
                        <a:pt x="633" y="3964"/>
                      </a:lnTo>
                      <a:lnTo>
                        <a:pt x="604" y="3951"/>
                      </a:lnTo>
                      <a:lnTo>
                        <a:pt x="573" y="3945"/>
                      </a:lnTo>
                      <a:lnTo>
                        <a:pt x="539" y="3945"/>
                      </a:lnTo>
                      <a:lnTo>
                        <a:pt x="504" y="3949"/>
                      </a:lnTo>
                      <a:lnTo>
                        <a:pt x="466" y="3951"/>
                      </a:lnTo>
                      <a:lnTo>
                        <a:pt x="430" y="3953"/>
                      </a:lnTo>
                      <a:lnTo>
                        <a:pt x="393" y="3949"/>
                      </a:lnTo>
                      <a:lnTo>
                        <a:pt x="359" y="3939"/>
                      </a:lnTo>
                      <a:lnTo>
                        <a:pt x="318" y="3930"/>
                      </a:lnTo>
                      <a:lnTo>
                        <a:pt x="284" y="3922"/>
                      </a:lnTo>
                      <a:lnTo>
                        <a:pt x="255" y="3909"/>
                      </a:lnTo>
                      <a:lnTo>
                        <a:pt x="232" y="3895"/>
                      </a:lnTo>
                      <a:lnTo>
                        <a:pt x="215" y="3874"/>
                      </a:lnTo>
                      <a:lnTo>
                        <a:pt x="207" y="3849"/>
                      </a:lnTo>
                      <a:lnTo>
                        <a:pt x="205" y="3818"/>
                      </a:lnTo>
                      <a:lnTo>
                        <a:pt x="215" y="3780"/>
                      </a:lnTo>
                      <a:lnTo>
                        <a:pt x="205" y="3734"/>
                      </a:lnTo>
                      <a:lnTo>
                        <a:pt x="188" y="3713"/>
                      </a:lnTo>
                      <a:lnTo>
                        <a:pt x="163" y="3705"/>
                      </a:lnTo>
                      <a:lnTo>
                        <a:pt x="136" y="3709"/>
                      </a:lnTo>
                      <a:lnTo>
                        <a:pt x="106" y="3715"/>
                      </a:lnTo>
                      <a:lnTo>
                        <a:pt x="81" y="3723"/>
                      </a:lnTo>
                      <a:lnTo>
                        <a:pt x="58" y="3723"/>
                      </a:lnTo>
                      <a:lnTo>
                        <a:pt x="44" y="3709"/>
                      </a:lnTo>
                      <a:lnTo>
                        <a:pt x="38" y="3684"/>
                      </a:lnTo>
                      <a:lnTo>
                        <a:pt x="35" y="3657"/>
                      </a:lnTo>
                      <a:lnTo>
                        <a:pt x="27" y="3627"/>
                      </a:lnTo>
                      <a:lnTo>
                        <a:pt x="21" y="3596"/>
                      </a:lnTo>
                      <a:lnTo>
                        <a:pt x="14" y="3565"/>
                      </a:lnTo>
                      <a:lnTo>
                        <a:pt x="10" y="3537"/>
                      </a:lnTo>
                      <a:lnTo>
                        <a:pt x="6" y="3514"/>
                      </a:lnTo>
                      <a:lnTo>
                        <a:pt x="10" y="3496"/>
                      </a:lnTo>
                      <a:lnTo>
                        <a:pt x="21" y="3483"/>
                      </a:lnTo>
                      <a:lnTo>
                        <a:pt x="35" y="3470"/>
                      </a:lnTo>
                      <a:lnTo>
                        <a:pt x="46" y="3456"/>
                      </a:lnTo>
                      <a:lnTo>
                        <a:pt x="61" y="3443"/>
                      </a:lnTo>
                      <a:lnTo>
                        <a:pt x="73" y="3425"/>
                      </a:lnTo>
                      <a:lnTo>
                        <a:pt x="86" y="3412"/>
                      </a:lnTo>
                      <a:lnTo>
                        <a:pt x="96" y="3397"/>
                      </a:lnTo>
                      <a:lnTo>
                        <a:pt x="106" y="3385"/>
                      </a:lnTo>
                      <a:lnTo>
                        <a:pt x="121" y="3376"/>
                      </a:lnTo>
                      <a:lnTo>
                        <a:pt x="134" y="3370"/>
                      </a:lnTo>
                      <a:lnTo>
                        <a:pt x="146" y="3364"/>
                      </a:lnTo>
                      <a:lnTo>
                        <a:pt x="157" y="3360"/>
                      </a:lnTo>
                      <a:lnTo>
                        <a:pt x="165" y="3351"/>
                      </a:lnTo>
                      <a:lnTo>
                        <a:pt x="175" y="3343"/>
                      </a:lnTo>
                      <a:lnTo>
                        <a:pt x="180" y="3330"/>
                      </a:lnTo>
                      <a:lnTo>
                        <a:pt x="186" y="3316"/>
                      </a:lnTo>
                      <a:lnTo>
                        <a:pt x="194" y="3309"/>
                      </a:lnTo>
                      <a:lnTo>
                        <a:pt x="209" y="3301"/>
                      </a:lnTo>
                      <a:lnTo>
                        <a:pt x="222" y="3289"/>
                      </a:lnTo>
                      <a:lnTo>
                        <a:pt x="238" y="3282"/>
                      </a:lnTo>
                      <a:lnTo>
                        <a:pt x="211" y="3276"/>
                      </a:lnTo>
                      <a:lnTo>
                        <a:pt x="176" y="3270"/>
                      </a:lnTo>
                      <a:lnTo>
                        <a:pt x="136" y="3261"/>
                      </a:lnTo>
                      <a:lnTo>
                        <a:pt x="98" y="3253"/>
                      </a:lnTo>
                      <a:lnTo>
                        <a:pt x="60" y="3240"/>
                      </a:lnTo>
                      <a:lnTo>
                        <a:pt x="29" y="3226"/>
                      </a:lnTo>
                      <a:lnTo>
                        <a:pt x="8" y="3207"/>
                      </a:lnTo>
                      <a:lnTo>
                        <a:pt x="0" y="3184"/>
                      </a:lnTo>
                      <a:lnTo>
                        <a:pt x="8" y="3172"/>
                      </a:lnTo>
                      <a:lnTo>
                        <a:pt x="17" y="3161"/>
                      </a:lnTo>
                      <a:lnTo>
                        <a:pt x="25" y="3149"/>
                      </a:lnTo>
                      <a:lnTo>
                        <a:pt x="35" y="3138"/>
                      </a:lnTo>
                      <a:lnTo>
                        <a:pt x="42" y="3126"/>
                      </a:lnTo>
                      <a:lnTo>
                        <a:pt x="52" y="3115"/>
                      </a:lnTo>
                      <a:lnTo>
                        <a:pt x="60" y="3103"/>
                      </a:lnTo>
                      <a:lnTo>
                        <a:pt x="69" y="3094"/>
                      </a:lnTo>
                      <a:lnTo>
                        <a:pt x="63" y="3075"/>
                      </a:lnTo>
                      <a:lnTo>
                        <a:pt x="52" y="3057"/>
                      </a:lnTo>
                      <a:lnTo>
                        <a:pt x="40" y="3042"/>
                      </a:lnTo>
                      <a:lnTo>
                        <a:pt x="37" y="3027"/>
                      </a:lnTo>
                      <a:lnTo>
                        <a:pt x="56" y="3010"/>
                      </a:lnTo>
                      <a:lnTo>
                        <a:pt x="71" y="3000"/>
                      </a:lnTo>
                      <a:lnTo>
                        <a:pt x="83" y="2990"/>
                      </a:lnTo>
                      <a:lnTo>
                        <a:pt x="94" y="2985"/>
                      </a:lnTo>
                      <a:lnTo>
                        <a:pt x="106" y="2973"/>
                      </a:lnTo>
                      <a:lnTo>
                        <a:pt x="119" y="2963"/>
                      </a:lnTo>
                      <a:lnTo>
                        <a:pt x="161" y="2946"/>
                      </a:lnTo>
                      <a:lnTo>
                        <a:pt x="217" y="2925"/>
                      </a:lnTo>
                      <a:lnTo>
                        <a:pt x="272" y="2900"/>
                      </a:lnTo>
                      <a:lnTo>
                        <a:pt x="332" y="2871"/>
                      </a:lnTo>
                      <a:lnTo>
                        <a:pt x="384" y="2837"/>
                      </a:lnTo>
                      <a:lnTo>
                        <a:pt x="430" y="2801"/>
                      </a:lnTo>
                      <a:lnTo>
                        <a:pt x="462" y="2760"/>
                      </a:lnTo>
                      <a:lnTo>
                        <a:pt x="481" y="2722"/>
                      </a:lnTo>
                      <a:lnTo>
                        <a:pt x="508" y="2689"/>
                      </a:lnTo>
                      <a:lnTo>
                        <a:pt x="539" y="2664"/>
                      </a:lnTo>
                      <a:lnTo>
                        <a:pt x="571" y="2640"/>
                      </a:lnTo>
                      <a:lnTo>
                        <a:pt x="606" y="2618"/>
                      </a:lnTo>
                      <a:lnTo>
                        <a:pt x="640" y="2595"/>
                      </a:lnTo>
                      <a:lnTo>
                        <a:pt x="675" y="2574"/>
                      </a:lnTo>
                      <a:lnTo>
                        <a:pt x="708" y="2549"/>
                      </a:lnTo>
                      <a:lnTo>
                        <a:pt x="740" y="2526"/>
                      </a:lnTo>
                      <a:lnTo>
                        <a:pt x="755" y="2503"/>
                      </a:lnTo>
                      <a:lnTo>
                        <a:pt x="777" y="2480"/>
                      </a:lnTo>
                      <a:lnTo>
                        <a:pt x="798" y="2454"/>
                      </a:lnTo>
                      <a:lnTo>
                        <a:pt x="823" y="2429"/>
                      </a:lnTo>
                      <a:lnTo>
                        <a:pt x="844" y="2400"/>
                      </a:lnTo>
                      <a:lnTo>
                        <a:pt x="867" y="2373"/>
                      </a:lnTo>
                      <a:lnTo>
                        <a:pt x="882" y="2348"/>
                      </a:lnTo>
                      <a:lnTo>
                        <a:pt x="894" y="2327"/>
                      </a:lnTo>
                      <a:lnTo>
                        <a:pt x="897" y="2327"/>
                      </a:lnTo>
                      <a:lnTo>
                        <a:pt x="903" y="2327"/>
                      </a:lnTo>
                      <a:lnTo>
                        <a:pt x="922" y="2342"/>
                      </a:lnTo>
                      <a:lnTo>
                        <a:pt x="943" y="2360"/>
                      </a:lnTo>
                      <a:lnTo>
                        <a:pt x="961" y="2377"/>
                      </a:lnTo>
                      <a:lnTo>
                        <a:pt x="980" y="2396"/>
                      </a:lnTo>
                      <a:lnTo>
                        <a:pt x="993" y="2413"/>
                      </a:lnTo>
                      <a:lnTo>
                        <a:pt x="1009" y="2436"/>
                      </a:lnTo>
                      <a:lnTo>
                        <a:pt x="1024" y="2459"/>
                      </a:lnTo>
                      <a:lnTo>
                        <a:pt x="1039" y="2486"/>
                      </a:lnTo>
                      <a:lnTo>
                        <a:pt x="1047" y="2500"/>
                      </a:lnTo>
                      <a:lnTo>
                        <a:pt x="1057" y="2515"/>
                      </a:lnTo>
                      <a:lnTo>
                        <a:pt x="1068" y="2530"/>
                      </a:lnTo>
                      <a:lnTo>
                        <a:pt x="1080" y="2546"/>
                      </a:lnTo>
                      <a:lnTo>
                        <a:pt x="1091" y="2559"/>
                      </a:lnTo>
                      <a:lnTo>
                        <a:pt x="1106" y="2574"/>
                      </a:lnTo>
                      <a:lnTo>
                        <a:pt x="1122" y="2588"/>
                      </a:lnTo>
                      <a:lnTo>
                        <a:pt x="1139" y="2603"/>
                      </a:lnTo>
                      <a:lnTo>
                        <a:pt x="1154" y="2588"/>
                      </a:lnTo>
                      <a:lnTo>
                        <a:pt x="1172" y="2574"/>
                      </a:lnTo>
                      <a:lnTo>
                        <a:pt x="1189" y="2559"/>
                      </a:lnTo>
                      <a:lnTo>
                        <a:pt x="1206" y="2546"/>
                      </a:lnTo>
                      <a:lnTo>
                        <a:pt x="1221" y="2530"/>
                      </a:lnTo>
                      <a:lnTo>
                        <a:pt x="1239" y="2515"/>
                      </a:lnTo>
                      <a:lnTo>
                        <a:pt x="1254" y="2500"/>
                      </a:lnTo>
                      <a:lnTo>
                        <a:pt x="1269" y="2484"/>
                      </a:lnTo>
                      <a:lnTo>
                        <a:pt x="1275" y="2467"/>
                      </a:lnTo>
                      <a:lnTo>
                        <a:pt x="1283" y="2452"/>
                      </a:lnTo>
                      <a:lnTo>
                        <a:pt x="1292" y="2438"/>
                      </a:lnTo>
                      <a:lnTo>
                        <a:pt x="1304" y="2427"/>
                      </a:lnTo>
                      <a:lnTo>
                        <a:pt x="1300" y="2404"/>
                      </a:lnTo>
                      <a:lnTo>
                        <a:pt x="1296" y="2385"/>
                      </a:lnTo>
                      <a:lnTo>
                        <a:pt x="1292" y="2363"/>
                      </a:lnTo>
                      <a:lnTo>
                        <a:pt x="1289" y="2346"/>
                      </a:lnTo>
                      <a:lnTo>
                        <a:pt x="1285" y="2325"/>
                      </a:lnTo>
                      <a:lnTo>
                        <a:pt x="1281" y="2306"/>
                      </a:lnTo>
                      <a:lnTo>
                        <a:pt x="1277" y="2289"/>
                      </a:lnTo>
                      <a:lnTo>
                        <a:pt x="1275" y="2271"/>
                      </a:lnTo>
                      <a:lnTo>
                        <a:pt x="1258" y="2235"/>
                      </a:lnTo>
                      <a:lnTo>
                        <a:pt x="1244" y="2204"/>
                      </a:lnTo>
                      <a:lnTo>
                        <a:pt x="1231" y="2176"/>
                      </a:lnTo>
                      <a:lnTo>
                        <a:pt x="1221" y="2147"/>
                      </a:lnTo>
                      <a:lnTo>
                        <a:pt x="1216" y="2116"/>
                      </a:lnTo>
                      <a:lnTo>
                        <a:pt x="1216" y="2087"/>
                      </a:lnTo>
                      <a:lnTo>
                        <a:pt x="1219" y="2055"/>
                      </a:lnTo>
                      <a:lnTo>
                        <a:pt x="1233" y="2022"/>
                      </a:lnTo>
                      <a:lnTo>
                        <a:pt x="1242" y="2022"/>
                      </a:lnTo>
                      <a:lnTo>
                        <a:pt x="1252" y="2022"/>
                      </a:lnTo>
                      <a:lnTo>
                        <a:pt x="1252" y="2020"/>
                      </a:lnTo>
                      <a:lnTo>
                        <a:pt x="1254" y="2020"/>
                      </a:lnTo>
                      <a:lnTo>
                        <a:pt x="1241" y="1999"/>
                      </a:lnTo>
                      <a:lnTo>
                        <a:pt x="1233" y="1984"/>
                      </a:lnTo>
                      <a:lnTo>
                        <a:pt x="1227" y="1972"/>
                      </a:lnTo>
                      <a:lnTo>
                        <a:pt x="1223" y="1961"/>
                      </a:lnTo>
                      <a:lnTo>
                        <a:pt x="1218" y="1947"/>
                      </a:lnTo>
                      <a:lnTo>
                        <a:pt x="1216" y="1934"/>
                      </a:lnTo>
                      <a:lnTo>
                        <a:pt x="1214" y="1917"/>
                      </a:lnTo>
                      <a:lnTo>
                        <a:pt x="1212" y="1898"/>
                      </a:lnTo>
                      <a:lnTo>
                        <a:pt x="1198" y="1903"/>
                      </a:lnTo>
                      <a:lnTo>
                        <a:pt x="1185" y="1903"/>
                      </a:lnTo>
                      <a:lnTo>
                        <a:pt x="1181" y="1888"/>
                      </a:lnTo>
                      <a:lnTo>
                        <a:pt x="1181" y="1873"/>
                      </a:lnTo>
                      <a:lnTo>
                        <a:pt x="1181" y="1855"/>
                      </a:lnTo>
                      <a:lnTo>
                        <a:pt x="1185" y="1838"/>
                      </a:lnTo>
                      <a:lnTo>
                        <a:pt x="1185" y="1821"/>
                      </a:lnTo>
                      <a:lnTo>
                        <a:pt x="1189" y="1804"/>
                      </a:lnTo>
                      <a:lnTo>
                        <a:pt x="1189" y="1788"/>
                      </a:lnTo>
                      <a:lnTo>
                        <a:pt x="1193" y="1777"/>
                      </a:lnTo>
                      <a:lnTo>
                        <a:pt x="1181" y="1777"/>
                      </a:lnTo>
                      <a:lnTo>
                        <a:pt x="1173" y="1779"/>
                      </a:lnTo>
                      <a:lnTo>
                        <a:pt x="1166" y="1777"/>
                      </a:lnTo>
                      <a:lnTo>
                        <a:pt x="1160" y="1773"/>
                      </a:lnTo>
                      <a:lnTo>
                        <a:pt x="1160" y="1750"/>
                      </a:lnTo>
                      <a:lnTo>
                        <a:pt x="1166" y="1729"/>
                      </a:lnTo>
                      <a:lnTo>
                        <a:pt x="1172" y="1708"/>
                      </a:lnTo>
                      <a:lnTo>
                        <a:pt x="1181" y="1687"/>
                      </a:lnTo>
                      <a:lnTo>
                        <a:pt x="1187" y="1664"/>
                      </a:lnTo>
                      <a:lnTo>
                        <a:pt x="1196" y="1645"/>
                      </a:lnTo>
                      <a:lnTo>
                        <a:pt x="1206" y="1624"/>
                      </a:lnTo>
                      <a:lnTo>
                        <a:pt x="1218" y="1606"/>
                      </a:lnTo>
                      <a:lnTo>
                        <a:pt x="1204" y="1606"/>
                      </a:lnTo>
                      <a:lnTo>
                        <a:pt x="1195" y="1612"/>
                      </a:lnTo>
                      <a:lnTo>
                        <a:pt x="1185" y="1616"/>
                      </a:lnTo>
                      <a:lnTo>
                        <a:pt x="1173" y="1620"/>
                      </a:lnTo>
                      <a:lnTo>
                        <a:pt x="1177" y="1597"/>
                      </a:lnTo>
                      <a:lnTo>
                        <a:pt x="1189" y="1572"/>
                      </a:lnTo>
                      <a:lnTo>
                        <a:pt x="1204" y="1541"/>
                      </a:lnTo>
                      <a:lnTo>
                        <a:pt x="1225" y="1512"/>
                      </a:lnTo>
                      <a:lnTo>
                        <a:pt x="1246" y="1484"/>
                      </a:lnTo>
                      <a:lnTo>
                        <a:pt x="1267" y="1457"/>
                      </a:lnTo>
                      <a:lnTo>
                        <a:pt x="1287" y="1434"/>
                      </a:lnTo>
                      <a:lnTo>
                        <a:pt x="1302" y="1418"/>
                      </a:lnTo>
                      <a:lnTo>
                        <a:pt x="1296" y="1411"/>
                      </a:lnTo>
                      <a:lnTo>
                        <a:pt x="1289" y="1403"/>
                      </a:lnTo>
                      <a:lnTo>
                        <a:pt x="1281" y="1393"/>
                      </a:lnTo>
                      <a:lnTo>
                        <a:pt x="1275" y="1384"/>
                      </a:lnTo>
                      <a:lnTo>
                        <a:pt x="1269" y="1365"/>
                      </a:lnTo>
                      <a:lnTo>
                        <a:pt x="1265" y="1347"/>
                      </a:lnTo>
                      <a:lnTo>
                        <a:pt x="1264" y="1330"/>
                      </a:lnTo>
                      <a:lnTo>
                        <a:pt x="1264" y="1315"/>
                      </a:lnTo>
                      <a:lnTo>
                        <a:pt x="1264" y="1298"/>
                      </a:lnTo>
                      <a:lnTo>
                        <a:pt x="1264" y="1280"/>
                      </a:lnTo>
                      <a:lnTo>
                        <a:pt x="1265" y="1263"/>
                      </a:lnTo>
                      <a:lnTo>
                        <a:pt x="1267" y="1246"/>
                      </a:lnTo>
                      <a:lnTo>
                        <a:pt x="1271" y="1248"/>
                      </a:lnTo>
                      <a:lnTo>
                        <a:pt x="1281" y="1257"/>
                      </a:lnTo>
                      <a:lnTo>
                        <a:pt x="1281" y="1254"/>
                      </a:lnTo>
                      <a:lnTo>
                        <a:pt x="1283" y="1254"/>
                      </a:lnTo>
                      <a:lnTo>
                        <a:pt x="1287" y="1240"/>
                      </a:lnTo>
                      <a:lnTo>
                        <a:pt x="1290" y="1229"/>
                      </a:lnTo>
                      <a:lnTo>
                        <a:pt x="1296" y="1217"/>
                      </a:lnTo>
                      <a:lnTo>
                        <a:pt x="1302" y="1206"/>
                      </a:lnTo>
                      <a:lnTo>
                        <a:pt x="1306" y="1194"/>
                      </a:lnTo>
                      <a:lnTo>
                        <a:pt x="1310" y="1183"/>
                      </a:lnTo>
                      <a:lnTo>
                        <a:pt x="1313" y="1173"/>
                      </a:lnTo>
                      <a:lnTo>
                        <a:pt x="1319" y="1163"/>
                      </a:lnTo>
                      <a:lnTo>
                        <a:pt x="1325" y="1163"/>
                      </a:lnTo>
                      <a:lnTo>
                        <a:pt x="1331" y="1163"/>
                      </a:lnTo>
                      <a:lnTo>
                        <a:pt x="1340" y="1148"/>
                      </a:lnTo>
                      <a:lnTo>
                        <a:pt x="1356" y="1135"/>
                      </a:lnTo>
                      <a:lnTo>
                        <a:pt x="1371" y="1117"/>
                      </a:lnTo>
                      <a:lnTo>
                        <a:pt x="1390" y="1104"/>
                      </a:lnTo>
                      <a:lnTo>
                        <a:pt x="1409" y="1089"/>
                      </a:lnTo>
                      <a:lnTo>
                        <a:pt x="1428" y="1081"/>
                      </a:lnTo>
                      <a:lnTo>
                        <a:pt x="1448" y="1075"/>
                      </a:lnTo>
                      <a:lnTo>
                        <a:pt x="1469" y="1079"/>
                      </a:lnTo>
                      <a:lnTo>
                        <a:pt x="1469" y="1083"/>
                      </a:lnTo>
                      <a:lnTo>
                        <a:pt x="1455" y="1096"/>
                      </a:lnTo>
                      <a:lnTo>
                        <a:pt x="1440" y="1108"/>
                      </a:lnTo>
                      <a:lnTo>
                        <a:pt x="1440" y="1110"/>
                      </a:lnTo>
                      <a:lnTo>
                        <a:pt x="1440" y="1114"/>
                      </a:lnTo>
                      <a:lnTo>
                        <a:pt x="1442" y="1114"/>
                      </a:lnTo>
                      <a:lnTo>
                        <a:pt x="1444" y="1116"/>
                      </a:lnTo>
                      <a:lnTo>
                        <a:pt x="1440" y="1127"/>
                      </a:lnTo>
                      <a:lnTo>
                        <a:pt x="1438" y="1139"/>
                      </a:lnTo>
                      <a:lnTo>
                        <a:pt x="1434" y="1150"/>
                      </a:lnTo>
                      <a:lnTo>
                        <a:pt x="1432" y="1162"/>
                      </a:lnTo>
                      <a:lnTo>
                        <a:pt x="1428" y="1173"/>
                      </a:lnTo>
                      <a:lnTo>
                        <a:pt x="1427" y="1185"/>
                      </a:lnTo>
                      <a:lnTo>
                        <a:pt x="1423" y="1198"/>
                      </a:lnTo>
                      <a:lnTo>
                        <a:pt x="1423" y="1211"/>
                      </a:lnTo>
                      <a:lnTo>
                        <a:pt x="1430" y="1208"/>
                      </a:lnTo>
                      <a:lnTo>
                        <a:pt x="1438" y="1200"/>
                      </a:lnTo>
                      <a:lnTo>
                        <a:pt x="1446" y="1190"/>
                      </a:lnTo>
                      <a:lnTo>
                        <a:pt x="1457" y="1188"/>
                      </a:lnTo>
                      <a:lnTo>
                        <a:pt x="1459" y="1196"/>
                      </a:lnTo>
                      <a:lnTo>
                        <a:pt x="1461" y="1209"/>
                      </a:lnTo>
                      <a:lnTo>
                        <a:pt x="1463" y="1225"/>
                      </a:lnTo>
                      <a:lnTo>
                        <a:pt x="1467" y="1240"/>
                      </a:lnTo>
                      <a:lnTo>
                        <a:pt x="1469" y="1242"/>
                      </a:lnTo>
                      <a:lnTo>
                        <a:pt x="1482" y="1240"/>
                      </a:lnTo>
                      <a:lnTo>
                        <a:pt x="1488" y="1252"/>
                      </a:lnTo>
                      <a:lnTo>
                        <a:pt x="1496" y="1261"/>
                      </a:lnTo>
                      <a:lnTo>
                        <a:pt x="1505" y="1269"/>
                      </a:lnTo>
                      <a:lnTo>
                        <a:pt x="1522" y="1278"/>
                      </a:lnTo>
                      <a:lnTo>
                        <a:pt x="1557" y="1278"/>
                      </a:lnTo>
                      <a:lnTo>
                        <a:pt x="1591" y="1284"/>
                      </a:lnTo>
                      <a:lnTo>
                        <a:pt x="1624" y="1290"/>
                      </a:lnTo>
                      <a:lnTo>
                        <a:pt x="1657" y="1303"/>
                      </a:lnTo>
                      <a:lnTo>
                        <a:pt x="1687" y="1317"/>
                      </a:lnTo>
                      <a:lnTo>
                        <a:pt x="1718" y="1336"/>
                      </a:lnTo>
                      <a:lnTo>
                        <a:pt x="1749" y="1357"/>
                      </a:lnTo>
                      <a:lnTo>
                        <a:pt x="1781" y="1382"/>
                      </a:lnTo>
                      <a:lnTo>
                        <a:pt x="1808" y="1407"/>
                      </a:lnTo>
                      <a:lnTo>
                        <a:pt x="1848" y="1422"/>
                      </a:lnTo>
                      <a:lnTo>
                        <a:pt x="1898" y="1428"/>
                      </a:lnTo>
                      <a:lnTo>
                        <a:pt x="1954" y="1428"/>
                      </a:lnTo>
                      <a:lnTo>
                        <a:pt x="2009" y="1422"/>
                      </a:lnTo>
                      <a:lnTo>
                        <a:pt x="2067" y="1416"/>
                      </a:lnTo>
                      <a:lnTo>
                        <a:pt x="2117" y="1411"/>
                      </a:lnTo>
                      <a:lnTo>
                        <a:pt x="2161" y="1411"/>
                      </a:lnTo>
                      <a:lnTo>
                        <a:pt x="2172" y="1395"/>
                      </a:lnTo>
                      <a:lnTo>
                        <a:pt x="2188" y="1384"/>
                      </a:lnTo>
                      <a:lnTo>
                        <a:pt x="2203" y="1374"/>
                      </a:lnTo>
                      <a:lnTo>
                        <a:pt x="2220" y="1365"/>
                      </a:lnTo>
                      <a:lnTo>
                        <a:pt x="2236" y="1353"/>
                      </a:lnTo>
                      <a:lnTo>
                        <a:pt x="2253" y="1344"/>
                      </a:lnTo>
                      <a:lnTo>
                        <a:pt x="2270" y="1332"/>
                      </a:lnTo>
                      <a:lnTo>
                        <a:pt x="2287" y="1323"/>
                      </a:lnTo>
                      <a:lnTo>
                        <a:pt x="2324" y="1278"/>
                      </a:lnTo>
                      <a:lnTo>
                        <a:pt x="2349" y="1232"/>
                      </a:lnTo>
                      <a:lnTo>
                        <a:pt x="2360" y="1183"/>
                      </a:lnTo>
                      <a:lnTo>
                        <a:pt x="2368" y="1133"/>
                      </a:lnTo>
                      <a:lnTo>
                        <a:pt x="2366" y="1077"/>
                      </a:lnTo>
                      <a:lnTo>
                        <a:pt x="2362" y="1025"/>
                      </a:lnTo>
                      <a:lnTo>
                        <a:pt x="2355" y="972"/>
                      </a:lnTo>
                      <a:lnTo>
                        <a:pt x="2351" y="920"/>
                      </a:lnTo>
                      <a:lnTo>
                        <a:pt x="2343" y="918"/>
                      </a:lnTo>
                      <a:lnTo>
                        <a:pt x="2337" y="918"/>
                      </a:lnTo>
                      <a:lnTo>
                        <a:pt x="2335" y="901"/>
                      </a:lnTo>
                      <a:lnTo>
                        <a:pt x="2335" y="884"/>
                      </a:lnTo>
                      <a:lnTo>
                        <a:pt x="2333" y="866"/>
                      </a:lnTo>
                      <a:lnTo>
                        <a:pt x="2333" y="851"/>
                      </a:lnTo>
                      <a:lnTo>
                        <a:pt x="2322" y="851"/>
                      </a:lnTo>
                      <a:lnTo>
                        <a:pt x="2314" y="851"/>
                      </a:lnTo>
                      <a:lnTo>
                        <a:pt x="2301" y="832"/>
                      </a:lnTo>
                      <a:lnTo>
                        <a:pt x="2291" y="815"/>
                      </a:lnTo>
                      <a:lnTo>
                        <a:pt x="2284" y="795"/>
                      </a:lnTo>
                      <a:lnTo>
                        <a:pt x="2278" y="776"/>
                      </a:lnTo>
                      <a:lnTo>
                        <a:pt x="2272" y="755"/>
                      </a:lnTo>
                      <a:lnTo>
                        <a:pt x="2270" y="738"/>
                      </a:lnTo>
                      <a:lnTo>
                        <a:pt x="2266" y="719"/>
                      </a:lnTo>
                      <a:lnTo>
                        <a:pt x="2266" y="703"/>
                      </a:lnTo>
                      <a:lnTo>
                        <a:pt x="2255" y="698"/>
                      </a:lnTo>
                      <a:lnTo>
                        <a:pt x="2249" y="690"/>
                      </a:lnTo>
                      <a:lnTo>
                        <a:pt x="2245" y="680"/>
                      </a:lnTo>
                      <a:lnTo>
                        <a:pt x="2245" y="671"/>
                      </a:lnTo>
                      <a:lnTo>
                        <a:pt x="2245" y="659"/>
                      </a:lnTo>
                      <a:lnTo>
                        <a:pt x="2247" y="648"/>
                      </a:lnTo>
                      <a:lnTo>
                        <a:pt x="2249" y="636"/>
                      </a:lnTo>
                      <a:lnTo>
                        <a:pt x="2253" y="629"/>
                      </a:lnTo>
                      <a:lnTo>
                        <a:pt x="2241" y="621"/>
                      </a:lnTo>
                      <a:lnTo>
                        <a:pt x="2238" y="611"/>
                      </a:lnTo>
                      <a:lnTo>
                        <a:pt x="2236" y="598"/>
                      </a:lnTo>
                      <a:lnTo>
                        <a:pt x="2241" y="586"/>
                      </a:lnTo>
                      <a:lnTo>
                        <a:pt x="2245" y="569"/>
                      </a:lnTo>
                      <a:lnTo>
                        <a:pt x="2251" y="556"/>
                      </a:lnTo>
                      <a:lnTo>
                        <a:pt x="2255" y="542"/>
                      </a:lnTo>
                      <a:lnTo>
                        <a:pt x="2259" y="533"/>
                      </a:lnTo>
                      <a:lnTo>
                        <a:pt x="2249" y="521"/>
                      </a:lnTo>
                      <a:lnTo>
                        <a:pt x="2249" y="508"/>
                      </a:lnTo>
                      <a:lnTo>
                        <a:pt x="2251" y="491"/>
                      </a:lnTo>
                      <a:lnTo>
                        <a:pt x="2261" y="475"/>
                      </a:lnTo>
                      <a:lnTo>
                        <a:pt x="2268" y="458"/>
                      </a:lnTo>
                      <a:lnTo>
                        <a:pt x="2280" y="445"/>
                      </a:lnTo>
                      <a:lnTo>
                        <a:pt x="2289" y="431"/>
                      </a:lnTo>
                      <a:lnTo>
                        <a:pt x="2299" y="425"/>
                      </a:lnTo>
                      <a:lnTo>
                        <a:pt x="2280" y="412"/>
                      </a:lnTo>
                      <a:lnTo>
                        <a:pt x="2276" y="400"/>
                      </a:lnTo>
                      <a:lnTo>
                        <a:pt x="2284" y="385"/>
                      </a:lnTo>
                      <a:lnTo>
                        <a:pt x="2299" y="372"/>
                      </a:lnTo>
                      <a:lnTo>
                        <a:pt x="2314" y="356"/>
                      </a:lnTo>
                      <a:lnTo>
                        <a:pt x="2333" y="343"/>
                      </a:lnTo>
                      <a:lnTo>
                        <a:pt x="2349" y="331"/>
                      </a:lnTo>
                      <a:lnTo>
                        <a:pt x="2360" y="326"/>
                      </a:lnTo>
                      <a:lnTo>
                        <a:pt x="2347" y="322"/>
                      </a:lnTo>
                      <a:lnTo>
                        <a:pt x="2341" y="318"/>
                      </a:lnTo>
                      <a:lnTo>
                        <a:pt x="2335" y="314"/>
                      </a:lnTo>
                      <a:lnTo>
                        <a:pt x="2333" y="310"/>
                      </a:lnTo>
                      <a:lnTo>
                        <a:pt x="2335" y="307"/>
                      </a:lnTo>
                      <a:lnTo>
                        <a:pt x="2349" y="303"/>
                      </a:lnTo>
                      <a:lnTo>
                        <a:pt x="2347" y="284"/>
                      </a:lnTo>
                      <a:lnTo>
                        <a:pt x="2345" y="270"/>
                      </a:lnTo>
                      <a:lnTo>
                        <a:pt x="2341" y="257"/>
                      </a:lnTo>
                      <a:lnTo>
                        <a:pt x="2339" y="245"/>
                      </a:lnTo>
                      <a:lnTo>
                        <a:pt x="2335" y="232"/>
                      </a:lnTo>
                      <a:lnTo>
                        <a:pt x="2335" y="220"/>
                      </a:lnTo>
                      <a:lnTo>
                        <a:pt x="2335" y="207"/>
                      </a:lnTo>
                      <a:lnTo>
                        <a:pt x="2343" y="193"/>
                      </a:lnTo>
                      <a:lnTo>
                        <a:pt x="2349" y="178"/>
                      </a:lnTo>
                      <a:lnTo>
                        <a:pt x="2364" y="155"/>
                      </a:lnTo>
                      <a:lnTo>
                        <a:pt x="2379" y="123"/>
                      </a:lnTo>
                      <a:lnTo>
                        <a:pt x="2401" y="90"/>
                      </a:lnTo>
                      <a:lnTo>
                        <a:pt x="2418" y="55"/>
                      </a:lnTo>
                      <a:lnTo>
                        <a:pt x="2435" y="27"/>
                      </a:lnTo>
                      <a:lnTo>
                        <a:pt x="2447" y="6"/>
                      </a:lnTo>
                      <a:lnTo>
                        <a:pt x="2452" y="0"/>
                      </a:lnTo>
                      <a:lnTo>
                        <a:pt x="2473" y="21"/>
                      </a:lnTo>
                      <a:lnTo>
                        <a:pt x="2487" y="54"/>
                      </a:lnTo>
                      <a:lnTo>
                        <a:pt x="2493" y="90"/>
                      </a:lnTo>
                      <a:lnTo>
                        <a:pt x="2493" y="130"/>
                      </a:lnTo>
                      <a:lnTo>
                        <a:pt x="2487" y="170"/>
                      </a:lnTo>
                      <a:lnTo>
                        <a:pt x="2479" y="211"/>
                      </a:lnTo>
                      <a:lnTo>
                        <a:pt x="2471" y="247"/>
                      </a:lnTo>
                      <a:lnTo>
                        <a:pt x="2468" y="280"/>
                      </a:lnTo>
                      <a:lnTo>
                        <a:pt x="2468" y="282"/>
                      </a:lnTo>
                      <a:lnTo>
                        <a:pt x="2468" y="287"/>
                      </a:lnTo>
                      <a:lnTo>
                        <a:pt x="2477" y="289"/>
                      </a:lnTo>
                      <a:lnTo>
                        <a:pt x="2487" y="291"/>
                      </a:lnTo>
                      <a:lnTo>
                        <a:pt x="2496" y="272"/>
                      </a:lnTo>
                      <a:lnTo>
                        <a:pt x="2508" y="261"/>
                      </a:lnTo>
                      <a:lnTo>
                        <a:pt x="2519" y="249"/>
                      </a:lnTo>
                      <a:lnTo>
                        <a:pt x="2535" y="239"/>
                      </a:lnTo>
                      <a:lnTo>
                        <a:pt x="2550" y="211"/>
                      </a:lnTo>
                      <a:lnTo>
                        <a:pt x="2564" y="182"/>
                      </a:lnTo>
                      <a:lnTo>
                        <a:pt x="2575" y="151"/>
                      </a:lnTo>
                      <a:lnTo>
                        <a:pt x="2588" y="123"/>
                      </a:lnTo>
                      <a:lnTo>
                        <a:pt x="2598" y="92"/>
                      </a:lnTo>
                      <a:lnTo>
                        <a:pt x="2608" y="61"/>
                      </a:lnTo>
                      <a:lnTo>
                        <a:pt x="2615" y="32"/>
                      </a:lnTo>
                      <a:lnTo>
                        <a:pt x="2625" y="4"/>
                      </a:lnTo>
                      <a:lnTo>
                        <a:pt x="2640" y="8"/>
                      </a:lnTo>
                      <a:lnTo>
                        <a:pt x="2656" y="19"/>
                      </a:lnTo>
                      <a:lnTo>
                        <a:pt x="2667" y="36"/>
                      </a:lnTo>
                      <a:lnTo>
                        <a:pt x="2679" y="59"/>
                      </a:lnTo>
                      <a:lnTo>
                        <a:pt x="2684" y="82"/>
                      </a:lnTo>
                      <a:lnTo>
                        <a:pt x="2692" y="107"/>
                      </a:lnTo>
                      <a:lnTo>
                        <a:pt x="2696" y="130"/>
                      </a:lnTo>
                      <a:lnTo>
                        <a:pt x="2702" y="151"/>
                      </a:lnTo>
                      <a:lnTo>
                        <a:pt x="2698" y="169"/>
                      </a:lnTo>
                      <a:lnTo>
                        <a:pt x="2696" y="186"/>
                      </a:lnTo>
                      <a:lnTo>
                        <a:pt x="2692" y="203"/>
                      </a:lnTo>
                      <a:lnTo>
                        <a:pt x="2688" y="222"/>
                      </a:lnTo>
                      <a:lnTo>
                        <a:pt x="2682" y="239"/>
                      </a:lnTo>
                      <a:lnTo>
                        <a:pt x="2679" y="257"/>
                      </a:lnTo>
                      <a:lnTo>
                        <a:pt x="2675" y="276"/>
                      </a:lnTo>
                      <a:lnTo>
                        <a:pt x="2675" y="295"/>
                      </a:lnTo>
                      <a:lnTo>
                        <a:pt x="2690" y="287"/>
                      </a:lnTo>
                      <a:lnTo>
                        <a:pt x="2703" y="282"/>
                      </a:lnTo>
                      <a:lnTo>
                        <a:pt x="2713" y="278"/>
                      </a:lnTo>
                      <a:lnTo>
                        <a:pt x="2725" y="280"/>
                      </a:lnTo>
                      <a:lnTo>
                        <a:pt x="2732" y="284"/>
                      </a:lnTo>
                      <a:lnTo>
                        <a:pt x="2742" y="295"/>
                      </a:lnTo>
                      <a:lnTo>
                        <a:pt x="2749" y="310"/>
                      </a:lnTo>
                      <a:lnTo>
                        <a:pt x="2759" y="335"/>
                      </a:lnTo>
                      <a:lnTo>
                        <a:pt x="2763" y="358"/>
                      </a:lnTo>
                      <a:lnTo>
                        <a:pt x="2774" y="379"/>
                      </a:lnTo>
                      <a:lnTo>
                        <a:pt x="2790" y="397"/>
                      </a:lnTo>
                      <a:lnTo>
                        <a:pt x="2809" y="408"/>
                      </a:lnTo>
                      <a:lnTo>
                        <a:pt x="2830" y="414"/>
                      </a:lnTo>
                      <a:lnTo>
                        <a:pt x="2853" y="418"/>
                      </a:lnTo>
                      <a:lnTo>
                        <a:pt x="2880" y="418"/>
                      </a:lnTo>
                      <a:lnTo>
                        <a:pt x="2909" y="412"/>
                      </a:lnTo>
                      <a:lnTo>
                        <a:pt x="2932" y="431"/>
                      </a:lnTo>
                      <a:lnTo>
                        <a:pt x="2941" y="452"/>
                      </a:lnTo>
                      <a:lnTo>
                        <a:pt x="2941" y="471"/>
                      </a:lnTo>
                      <a:lnTo>
                        <a:pt x="2935" y="493"/>
                      </a:lnTo>
                      <a:lnTo>
                        <a:pt x="2924" y="512"/>
                      </a:lnTo>
                      <a:lnTo>
                        <a:pt x="2912" y="535"/>
                      </a:lnTo>
                      <a:lnTo>
                        <a:pt x="2903" y="558"/>
                      </a:lnTo>
                      <a:lnTo>
                        <a:pt x="2901" y="585"/>
                      </a:lnTo>
                      <a:lnTo>
                        <a:pt x="2882" y="604"/>
                      </a:lnTo>
                      <a:lnTo>
                        <a:pt x="2857" y="617"/>
                      </a:lnTo>
                      <a:lnTo>
                        <a:pt x="2826" y="625"/>
                      </a:lnTo>
                      <a:lnTo>
                        <a:pt x="2796" y="634"/>
                      </a:lnTo>
                      <a:lnTo>
                        <a:pt x="2763" y="642"/>
                      </a:lnTo>
                      <a:lnTo>
                        <a:pt x="2732" y="657"/>
                      </a:lnTo>
                      <a:lnTo>
                        <a:pt x="2705" y="677"/>
                      </a:lnTo>
                      <a:lnTo>
                        <a:pt x="2686" y="709"/>
                      </a:lnTo>
                      <a:lnTo>
                        <a:pt x="2682" y="784"/>
                      </a:lnTo>
                      <a:lnTo>
                        <a:pt x="2692" y="862"/>
                      </a:lnTo>
                      <a:lnTo>
                        <a:pt x="2709" y="939"/>
                      </a:lnTo>
                      <a:lnTo>
                        <a:pt x="2732" y="1020"/>
                      </a:lnTo>
                      <a:lnTo>
                        <a:pt x="2753" y="1098"/>
                      </a:lnTo>
                      <a:lnTo>
                        <a:pt x="2776" y="1179"/>
                      </a:lnTo>
                      <a:lnTo>
                        <a:pt x="2790" y="1259"/>
                      </a:lnTo>
                      <a:lnTo>
                        <a:pt x="2799" y="1340"/>
                      </a:lnTo>
                      <a:lnTo>
                        <a:pt x="2803" y="1378"/>
                      </a:lnTo>
                      <a:lnTo>
                        <a:pt x="2805" y="1424"/>
                      </a:lnTo>
                      <a:lnTo>
                        <a:pt x="2803" y="1472"/>
                      </a:lnTo>
                      <a:lnTo>
                        <a:pt x="2799" y="1522"/>
                      </a:lnTo>
                      <a:lnTo>
                        <a:pt x="2792" y="1570"/>
                      </a:lnTo>
                      <a:lnTo>
                        <a:pt x="2782" y="1618"/>
                      </a:lnTo>
                      <a:lnTo>
                        <a:pt x="2771" y="1662"/>
                      </a:lnTo>
                      <a:lnTo>
                        <a:pt x="2759" y="1704"/>
                      </a:lnTo>
                      <a:lnTo>
                        <a:pt x="2755" y="1719"/>
                      </a:lnTo>
                      <a:lnTo>
                        <a:pt x="2753" y="1733"/>
                      </a:lnTo>
                      <a:lnTo>
                        <a:pt x="2751" y="1742"/>
                      </a:lnTo>
                      <a:lnTo>
                        <a:pt x="2751" y="1750"/>
                      </a:lnTo>
                      <a:lnTo>
                        <a:pt x="2749" y="1758"/>
                      </a:lnTo>
                      <a:lnTo>
                        <a:pt x="2749" y="1763"/>
                      </a:lnTo>
                      <a:lnTo>
                        <a:pt x="2744" y="1763"/>
                      </a:lnTo>
                      <a:lnTo>
                        <a:pt x="2740" y="1748"/>
                      </a:lnTo>
                      <a:lnTo>
                        <a:pt x="2740" y="1735"/>
                      </a:lnTo>
                      <a:lnTo>
                        <a:pt x="2736" y="1721"/>
                      </a:lnTo>
                      <a:lnTo>
                        <a:pt x="2736" y="1708"/>
                      </a:lnTo>
                      <a:lnTo>
                        <a:pt x="2726" y="1710"/>
                      </a:lnTo>
                      <a:lnTo>
                        <a:pt x="2721" y="1717"/>
                      </a:lnTo>
                      <a:lnTo>
                        <a:pt x="2711" y="1727"/>
                      </a:lnTo>
                      <a:lnTo>
                        <a:pt x="2705" y="1740"/>
                      </a:lnTo>
                      <a:lnTo>
                        <a:pt x="2698" y="1752"/>
                      </a:lnTo>
                      <a:lnTo>
                        <a:pt x="2692" y="1763"/>
                      </a:lnTo>
                      <a:lnTo>
                        <a:pt x="2686" y="1773"/>
                      </a:lnTo>
                      <a:lnTo>
                        <a:pt x="2680" y="1785"/>
                      </a:lnTo>
                      <a:lnTo>
                        <a:pt x="2675" y="1811"/>
                      </a:lnTo>
                      <a:lnTo>
                        <a:pt x="2669" y="1838"/>
                      </a:lnTo>
                      <a:lnTo>
                        <a:pt x="2661" y="1865"/>
                      </a:lnTo>
                      <a:lnTo>
                        <a:pt x="2652" y="1894"/>
                      </a:lnTo>
                      <a:lnTo>
                        <a:pt x="2638" y="1919"/>
                      </a:lnTo>
                      <a:lnTo>
                        <a:pt x="2627" y="1946"/>
                      </a:lnTo>
                      <a:lnTo>
                        <a:pt x="2611" y="1971"/>
                      </a:lnTo>
                      <a:lnTo>
                        <a:pt x="2598" y="1997"/>
                      </a:lnTo>
                      <a:lnTo>
                        <a:pt x="2562" y="2036"/>
                      </a:lnTo>
                      <a:lnTo>
                        <a:pt x="2531" y="2082"/>
                      </a:lnTo>
                      <a:lnTo>
                        <a:pt x="2502" y="2128"/>
                      </a:lnTo>
                      <a:lnTo>
                        <a:pt x="2481" y="2179"/>
                      </a:lnTo>
                      <a:lnTo>
                        <a:pt x="2462" y="2231"/>
                      </a:lnTo>
                      <a:lnTo>
                        <a:pt x="2448" y="2285"/>
                      </a:lnTo>
                      <a:lnTo>
                        <a:pt x="2441" y="2340"/>
                      </a:lnTo>
                      <a:lnTo>
                        <a:pt x="2439" y="2396"/>
                      </a:lnTo>
                      <a:lnTo>
                        <a:pt x="2429" y="2421"/>
                      </a:lnTo>
                      <a:lnTo>
                        <a:pt x="2420" y="2446"/>
                      </a:lnTo>
                      <a:lnTo>
                        <a:pt x="2410" y="2469"/>
                      </a:lnTo>
                      <a:lnTo>
                        <a:pt x="2402" y="2494"/>
                      </a:lnTo>
                      <a:lnTo>
                        <a:pt x="2391" y="2517"/>
                      </a:lnTo>
                      <a:lnTo>
                        <a:pt x="2385" y="2544"/>
                      </a:lnTo>
                      <a:lnTo>
                        <a:pt x="2379" y="2572"/>
                      </a:lnTo>
                      <a:lnTo>
                        <a:pt x="2378" y="2603"/>
                      </a:lnTo>
                      <a:lnTo>
                        <a:pt x="2404" y="2594"/>
                      </a:lnTo>
                      <a:lnTo>
                        <a:pt x="2435" y="2574"/>
                      </a:lnTo>
                      <a:lnTo>
                        <a:pt x="2468" y="2546"/>
                      </a:lnTo>
                      <a:lnTo>
                        <a:pt x="2500" y="2513"/>
                      </a:lnTo>
                      <a:lnTo>
                        <a:pt x="2529" y="2475"/>
                      </a:lnTo>
                      <a:lnTo>
                        <a:pt x="2558" y="2438"/>
                      </a:lnTo>
                      <a:lnTo>
                        <a:pt x="2581" y="2406"/>
                      </a:lnTo>
                      <a:lnTo>
                        <a:pt x="2600" y="2383"/>
                      </a:lnTo>
                      <a:lnTo>
                        <a:pt x="2611" y="2369"/>
                      </a:lnTo>
                      <a:lnTo>
                        <a:pt x="2625" y="2358"/>
                      </a:lnTo>
                      <a:lnTo>
                        <a:pt x="2636" y="2346"/>
                      </a:lnTo>
                      <a:lnTo>
                        <a:pt x="2652" y="2337"/>
                      </a:lnTo>
                      <a:lnTo>
                        <a:pt x="2663" y="2327"/>
                      </a:lnTo>
                      <a:lnTo>
                        <a:pt x="2680" y="2325"/>
                      </a:lnTo>
                      <a:lnTo>
                        <a:pt x="2696" y="2325"/>
                      </a:lnTo>
                      <a:lnTo>
                        <a:pt x="2715" y="2331"/>
                      </a:lnTo>
                      <a:lnTo>
                        <a:pt x="2755" y="2365"/>
                      </a:lnTo>
                      <a:lnTo>
                        <a:pt x="2796" y="2396"/>
                      </a:lnTo>
                      <a:lnTo>
                        <a:pt x="2834" y="2421"/>
                      </a:lnTo>
                      <a:lnTo>
                        <a:pt x="2874" y="2442"/>
                      </a:lnTo>
                      <a:lnTo>
                        <a:pt x="2914" y="2457"/>
                      </a:lnTo>
                      <a:lnTo>
                        <a:pt x="2960" y="2473"/>
                      </a:lnTo>
                      <a:lnTo>
                        <a:pt x="3010" y="2486"/>
                      </a:lnTo>
                      <a:lnTo>
                        <a:pt x="3068" y="2503"/>
                      </a:lnTo>
                      <a:lnTo>
                        <a:pt x="3091" y="2507"/>
                      </a:lnTo>
                      <a:lnTo>
                        <a:pt x="3116" y="2513"/>
                      </a:lnTo>
                      <a:lnTo>
                        <a:pt x="3143" y="2519"/>
                      </a:lnTo>
                      <a:lnTo>
                        <a:pt x="3169" y="2526"/>
                      </a:lnTo>
                      <a:lnTo>
                        <a:pt x="3194" y="2532"/>
                      </a:lnTo>
                      <a:lnTo>
                        <a:pt x="3221" y="2544"/>
                      </a:lnTo>
                      <a:lnTo>
                        <a:pt x="3244" y="2557"/>
                      </a:lnTo>
                      <a:lnTo>
                        <a:pt x="3269" y="2576"/>
                      </a:lnTo>
                      <a:lnTo>
                        <a:pt x="3327" y="2544"/>
                      </a:lnTo>
                      <a:lnTo>
                        <a:pt x="3386" y="2507"/>
                      </a:lnTo>
                      <a:lnTo>
                        <a:pt x="3440" y="2467"/>
                      </a:lnTo>
                      <a:lnTo>
                        <a:pt x="3493" y="2423"/>
                      </a:lnTo>
                      <a:lnTo>
                        <a:pt x="3543" y="2375"/>
                      </a:lnTo>
                      <a:lnTo>
                        <a:pt x="3593" y="2327"/>
                      </a:lnTo>
                      <a:lnTo>
                        <a:pt x="3643" y="2281"/>
                      </a:lnTo>
                      <a:lnTo>
                        <a:pt x="3695" y="2237"/>
                      </a:lnTo>
                      <a:lnTo>
                        <a:pt x="3718" y="2220"/>
                      </a:lnTo>
                      <a:lnTo>
                        <a:pt x="3745" y="2202"/>
                      </a:lnTo>
                      <a:lnTo>
                        <a:pt x="3771" y="2185"/>
                      </a:lnTo>
                      <a:lnTo>
                        <a:pt x="3798" y="2170"/>
                      </a:lnTo>
                      <a:lnTo>
                        <a:pt x="3823" y="2151"/>
                      </a:lnTo>
                      <a:lnTo>
                        <a:pt x="3850" y="2133"/>
                      </a:lnTo>
                      <a:lnTo>
                        <a:pt x="3873" y="2114"/>
                      </a:lnTo>
                      <a:lnTo>
                        <a:pt x="3898" y="2095"/>
                      </a:lnTo>
                      <a:lnTo>
                        <a:pt x="3900" y="2078"/>
                      </a:lnTo>
                      <a:lnTo>
                        <a:pt x="3904" y="2061"/>
                      </a:lnTo>
                      <a:lnTo>
                        <a:pt x="3908" y="2045"/>
                      </a:lnTo>
                      <a:lnTo>
                        <a:pt x="3915" y="2034"/>
                      </a:lnTo>
                      <a:lnTo>
                        <a:pt x="3921" y="2020"/>
                      </a:lnTo>
                      <a:lnTo>
                        <a:pt x="3932" y="2013"/>
                      </a:lnTo>
                      <a:lnTo>
                        <a:pt x="3944" y="2007"/>
                      </a:lnTo>
                      <a:lnTo>
                        <a:pt x="3963" y="2005"/>
                      </a:lnTo>
                      <a:lnTo>
                        <a:pt x="3971" y="2005"/>
                      </a:lnTo>
                      <a:lnTo>
                        <a:pt x="3978" y="2009"/>
                      </a:lnTo>
                      <a:lnTo>
                        <a:pt x="3986" y="2007"/>
                      </a:lnTo>
                      <a:lnTo>
                        <a:pt x="4000" y="2007"/>
                      </a:lnTo>
                      <a:lnTo>
                        <a:pt x="3994" y="2003"/>
                      </a:lnTo>
                      <a:lnTo>
                        <a:pt x="3990" y="1999"/>
                      </a:lnTo>
                      <a:lnTo>
                        <a:pt x="3990" y="1982"/>
                      </a:lnTo>
                      <a:lnTo>
                        <a:pt x="3990" y="1965"/>
                      </a:lnTo>
                      <a:lnTo>
                        <a:pt x="3990" y="1949"/>
                      </a:lnTo>
                      <a:lnTo>
                        <a:pt x="3992" y="1934"/>
                      </a:lnTo>
                      <a:lnTo>
                        <a:pt x="3990" y="1919"/>
                      </a:lnTo>
                      <a:lnTo>
                        <a:pt x="3988" y="1905"/>
                      </a:lnTo>
                      <a:lnTo>
                        <a:pt x="3982" y="1890"/>
                      </a:lnTo>
                      <a:lnTo>
                        <a:pt x="3978" y="1877"/>
                      </a:lnTo>
                      <a:lnTo>
                        <a:pt x="3963" y="1857"/>
                      </a:lnTo>
                      <a:lnTo>
                        <a:pt x="3952" y="1850"/>
                      </a:lnTo>
                      <a:lnTo>
                        <a:pt x="3944" y="1848"/>
                      </a:lnTo>
                      <a:lnTo>
                        <a:pt x="3938" y="1854"/>
                      </a:lnTo>
                      <a:lnTo>
                        <a:pt x="3931" y="1857"/>
                      </a:lnTo>
                      <a:lnTo>
                        <a:pt x="3923" y="1865"/>
                      </a:lnTo>
                      <a:lnTo>
                        <a:pt x="3911" y="1871"/>
                      </a:lnTo>
                      <a:lnTo>
                        <a:pt x="3898" y="1875"/>
                      </a:lnTo>
                      <a:lnTo>
                        <a:pt x="3890" y="1859"/>
                      </a:lnTo>
                      <a:lnTo>
                        <a:pt x="3888" y="1846"/>
                      </a:lnTo>
                      <a:lnTo>
                        <a:pt x="3877" y="1840"/>
                      </a:lnTo>
                      <a:lnTo>
                        <a:pt x="3873" y="1836"/>
                      </a:lnTo>
                      <a:lnTo>
                        <a:pt x="3871" y="1829"/>
                      </a:lnTo>
                      <a:lnTo>
                        <a:pt x="3873" y="1823"/>
                      </a:lnTo>
                      <a:lnTo>
                        <a:pt x="3881" y="1808"/>
                      </a:lnTo>
                      <a:lnTo>
                        <a:pt x="3888" y="1792"/>
                      </a:lnTo>
                      <a:lnTo>
                        <a:pt x="3885" y="1790"/>
                      </a:lnTo>
                      <a:lnTo>
                        <a:pt x="3885" y="1783"/>
                      </a:lnTo>
                      <a:lnTo>
                        <a:pt x="3885" y="1779"/>
                      </a:lnTo>
                      <a:lnTo>
                        <a:pt x="3900" y="1760"/>
                      </a:lnTo>
                      <a:lnTo>
                        <a:pt x="3915" y="1748"/>
                      </a:lnTo>
                      <a:lnTo>
                        <a:pt x="3925" y="1737"/>
                      </a:lnTo>
                      <a:lnTo>
                        <a:pt x="3934" y="1727"/>
                      </a:lnTo>
                      <a:lnTo>
                        <a:pt x="3938" y="1712"/>
                      </a:lnTo>
                      <a:lnTo>
                        <a:pt x="3944" y="1693"/>
                      </a:lnTo>
                      <a:lnTo>
                        <a:pt x="3946" y="1668"/>
                      </a:lnTo>
                      <a:lnTo>
                        <a:pt x="3948" y="1637"/>
                      </a:lnTo>
                      <a:lnTo>
                        <a:pt x="3950" y="1629"/>
                      </a:lnTo>
                      <a:lnTo>
                        <a:pt x="3954" y="1622"/>
                      </a:lnTo>
                      <a:lnTo>
                        <a:pt x="3959" y="1612"/>
                      </a:lnTo>
                      <a:lnTo>
                        <a:pt x="3967" y="1602"/>
                      </a:lnTo>
                      <a:lnTo>
                        <a:pt x="3977" y="1583"/>
                      </a:lnTo>
                      <a:lnTo>
                        <a:pt x="3982" y="1576"/>
                      </a:lnTo>
                      <a:lnTo>
                        <a:pt x="3963" y="1556"/>
                      </a:lnTo>
                      <a:lnTo>
                        <a:pt x="3948" y="1537"/>
                      </a:lnTo>
                      <a:lnTo>
                        <a:pt x="3934" y="1516"/>
                      </a:lnTo>
                      <a:lnTo>
                        <a:pt x="3927" y="1497"/>
                      </a:lnTo>
                      <a:lnTo>
                        <a:pt x="3919" y="1474"/>
                      </a:lnTo>
                      <a:lnTo>
                        <a:pt x="3913" y="1453"/>
                      </a:lnTo>
                      <a:lnTo>
                        <a:pt x="3909" y="1430"/>
                      </a:lnTo>
                      <a:lnTo>
                        <a:pt x="3908" y="1409"/>
                      </a:lnTo>
                      <a:lnTo>
                        <a:pt x="3900" y="1407"/>
                      </a:lnTo>
                      <a:lnTo>
                        <a:pt x="3898" y="1405"/>
                      </a:lnTo>
                      <a:lnTo>
                        <a:pt x="3896" y="1397"/>
                      </a:lnTo>
                      <a:lnTo>
                        <a:pt x="3894" y="1390"/>
                      </a:lnTo>
                      <a:lnTo>
                        <a:pt x="3879" y="1384"/>
                      </a:lnTo>
                      <a:lnTo>
                        <a:pt x="3869" y="1378"/>
                      </a:lnTo>
                      <a:lnTo>
                        <a:pt x="3863" y="1370"/>
                      </a:lnTo>
                      <a:lnTo>
                        <a:pt x="3863" y="1365"/>
                      </a:lnTo>
                      <a:lnTo>
                        <a:pt x="3865" y="1355"/>
                      </a:lnTo>
                      <a:lnTo>
                        <a:pt x="3871" y="1347"/>
                      </a:lnTo>
                      <a:lnTo>
                        <a:pt x="3879" y="1340"/>
                      </a:lnTo>
                      <a:lnTo>
                        <a:pt x="3892" y="1336"/>
                      </a:lnTo>
                      <a:lnTo>
                        <a:pt x="3892" y="1330"/>
                      </a:lnTo>
                      <a:lnTo>
                        <a:pt x="3892" y="1326"/>
                      </a:lnTo>
                      <a:lnTo>
                        <a:pt x="3879" y="1313"/>
                      </a:lnTo>
                      <a:lnTo>
                        <a:pt x="3873" y="1298"/>
                      </a:lnTo>
                      <a:lnTo>
                        <a:pt x="3867" y="1280"/>
                      </a:lnTo>
                      <a:lnTo>
                        <a:pt x="3865" y="1265"/>
                      </a:lnTo>
                      <a:lnTo>
                        <a:pt x="3865" y="1248"/>
                      </a:lnTo>
                      <a:lnTo>
                        <a:pt x="3867" y="1234"/>
                      </a:lnTo>
                      <a:lnTo>
                        <a:pt x="3871" y="1223"/>
                      </a:lnTo>
                      <a:lnTo>
                        <a:pt x="3879" y="1217"/>
                      </a:lnTo>
                      <a:lnTo>
                        <a:pt x="3885" y="1209"/>
                      </a:lnTo>
                      <a:lnTo>
                        <a:pt x="3896" y="1206"/>
                      </a:lnTo>
                      <a:lnTo>
                        <a:pt x="3908" y="1200"/>
                      </a:lnTo>
                      <a:lnTo>
                        <a:pt x="3923" y="1198"/>
                      </a:lnTo>
                      <a:lnTo>
                        <a:pt x="3923" y="1185"/>
                      </a:lnTo>
                      <a:lnTo>
                        <a:pt x="3925" y="1173"/>
                      </a:lnTo>
                      <a:lnTo>
                        <a:pt x="3927" y="1162"/>
                      </a:lnTo>
                      <a:lnTo>
                        <a:pt x="3929" y="1150"/>
                      </a:lnTo>
                      <a:lnTo>
                        <a:pt x="3913" y="1150"/>
                      </a:lnTo>
                      <a:lnTo>
                        <a:pt x="3902" y="1158"/>
                      </a:lnTo>
                      <a:lnTo>
                        <a:pt x="3892" y="1163"/>
                      </a:lnTo>
                      <a:lnTo>
                        <a:pt x="3883" y="1173"/>
                      </a:lnTo>
                      <a:lnTo>
                        <a:pt x="3869" y="1179"/>
                      </a:lnTo>
                      <a:lnTo>
                        <a:pt x="3858" y="1183"/>
                      </a:lnTo>
                      <a:lnTo>
                        <a:pt x="3844" y="1183"/>
                      </a:lnTo>
                      <a:lnTo>
                        <a:pt x="3831" y="1177"/>
                      </a:lnTo>
                      <a:lnTo>
                        <a:pt x="3817" y="1175"/>
                      </a:lnTo>
                      <a:lnTo>
                        <a:pt x="3806" y="1175"/>
                      </a:lnTo>
                      <a:lnTo>
                        <a:pt x="3794" y="1175"/>
                      </a:lnTo>
                      <a:lnTo>
                        <a:pt x="3783" y="1175"/>
                      </a:lnTo>
                      <a:lnTo>
                        <a:pt x="3762" y="1169"/>
                      </a:lnTo>
                      <a:lnTo>
                        <a:pt x="3746" y="1163"/>
                      </a:lnTo>
                      <a:lnTo>
                        <a:pt x="3746" y="1158"/>
                      </a:lnTo>
                      <a:lnTo>
                        <a:pt x="3746" y="1156"/>
                      </a:lnTo>
                      <a:lnTo>
                        <a:pt x="3756" y="1152"/>
                      </a:lnTo>
                      <a:lnTo>
                        <a:pt x="3768" y="1148"/>
                      </a:lnTo>
                      <a:lnTo>
                        <a:pt x="3777" y="1142"/>
                      </a:lnTo>
                      <a:lnTo>
                        <a:pt x="3789" y="1139"/>
                      </a:lnTo>
                      <a:lnTo>
                        <a:pt x="3798" y="1131"/>
                      </a:lnTo>
                      <a:lnTo>
                        <a:pt x="3810" y="1125"/>
                      </a:lnTo>
                      <a:lnTo>
                        <a:pt x="3819" y="1119"/>
                      </a:lnTo>
                      <a:lnTo>
                        <a:pt x="3831" y="1114"/>
                      </a:lnTo>
                      <a:lnTo>
                        <a:pt x="3831" y="1110"/>
                      </a:lnTo>
                      <a:lnTo>
                        <a:pt x="3831" y="1106"/>
                      </a:lnTo>
                      <a:lnTo>
                        <a:pt x="3819" y="1104"/>
                      </a:lnTo>
                      <a:lnTo>
                        <a:pt x="3812" y="1102"/>
                      </a:lnTo>
                      <a:lnTo>
                        <a:pt x="3804" y="1100"/>
                      </a:lnTo>
                      <a:lnTo>
                        <a:pt x="3804" y="1094"/>
                      </a:lnTo>
                      <a:lnTo>
                        <a:pt x="3808" y="1089"/>
                      </a:lnTo>
                      <a:lnTo>
                        <a:pt x="3817" y="1083"/>
                      </a:lnTo>
                      <a:lnTo>
                        <a:pt x="3829" y="1075"/>
                      </a:lnTo>
                      <a:lnTo>
                        <a:pt x="3840" y="1068"/>
                      </a:lnTo>
                      <a:lnTo>
                        <a:pt x="3850" y="1058"/>
                      </a:lnTo>
                      <a:lnTo>
                        <a:pt x="3862" y="1050"/>
                      </a:lnTo>
                      <a:lnTo>
                        <a:pt x="3867" y="1043"/>
                      </a:lnTo>
                      <a:lnTo>
                        <a:pt x="3873" y="1037"/>
                      </a:lnTo>
                      <a:lnTo>
                        <a:pt x="3863" y="1037"/>
                      </a:lnTo>
                      <a:lnTo>
                        <a:pt x="3854" y="1039"/>
                      </a:lnTo>
                      <a:lnTo>
                        <a:pt x="3842" y="1043"/>
                      </a:lnTo>
                      <a:lnTo>
                        <a:pt x="3833" y="1047"/>
                      </a:lnTo>
                      <a:lnTo>
                        <a:pt x="3814" y="1048"/>
                      </a:lnTo>
                      <a:lnTo>
                        <a:pt x="3804" y="1045"/>
                      </a:lnTo>
                      <a:lnTo>
                        <a:pt x="3808" y="1037"/>
                      </a:lnTo>
                      <a:lnTo>
                        <a:pt x="3814" y="1031"/>
                      </a:lnTo>
                      <a:lnTo>
                        <a:pt x="3817" y="1025"/>
                      </a:lnTo>
                      <a:lnTo>
                        <a:pt x="3825" y="1020"/>
                      </a:lnTo>
                      <a:lnTo>
                        <a:pt x="3833" y="1012"/>
                      </a:lnTo>
                      <a:lnTo>
                        <a:pt x="3846" y="1002"/>
                      </a:lnTo>
                      <a:lnTo>
                        <a:pt x="3835" y="1001"/>
                      </a:lnTo>
                      <a:lnTo>
                        <a:pt x="3825" y="1001"/>
                      </a:lnTo>
                      <a:lnTo>
                        <a:pt x="3816" y="999"/>
                      </a:lnTo>
                      <a:lnTo>
                        <a:pt x="3810" y="997"/>
                      </a:lnTo>
                      <a:lnTo>
                        <a:pt x="3812" y="983"/>
                      </a:lnTo>
                      <a:lnTo>
                        <a:pt x="3821" y="972"/>
                      </a:lnTo>
                      <a:lnTo>
                        <a:pt x="3831" y="962"/>
                      </a:lnTo>
                      <a:lnTo>
                        <a:pt x="3844" y="955"/>
                      </a:lnTo>
                      <a:lnTo>
                        <a:pt x="3856" y="945"/>
                      </a:lnTo>
                      <a:lnTo>
                        <a:pt x="3869" y="935"/>
                      </a:lnTo>
                      <a:lnTo>
                        <a:pt x="3879" y="924"/>
                      </a:lnTo>
                      <a:lnTo>
                        <a:pt x="3888" y="914"/>
                      </a:lnTo>
                      <a:lnTo>
                        <a:pt x="3886" y="910"/>
                      </a:lnTo>
                      <a:lnTo>
                        <a:pt x="3885" y="910"/>
                      </a:lnTo>
                      <a:lnTo>
                        <a:pt x="3881" y="910"/>
                      </a:lnTo>
                      <a:lnTo>
                        <a:pt x="3875" y="914"/>
                      </a:lnTo>
                      <a:lnTo>
                        <a:pt x="3867" y="914"/>
                      </a:lnTo>
                      <a:lnTo>
                        <a:pt x="3867" y="910"/>
                      </a:lnTo>
                      <a:lnTo>
                        <a:pt x="3867" y="907"/>
                      </a:lnTo>
                      <a:lnTo>
                        <a:pt x="3877" y="893"/>
                      </a:lnTo>
                      <a:lnTo>
                        <a:pt x="3890" y="878"/>
                      </a:lnTo>
                      <a:lnTo>
                        <a:pt x="3900" y="862"/>
                      </a:lnTo>
                      <a:lnTo>
                        <a:pt x="3908" y="849"/>
                      </a:lnTo>
                      <a:lnTo>
                        <a:pt x="3900" y="847"/>
                      </a:lnTo>
                      <a:lnTo>
                        <a:pt x="3898" y="845"/>
                      </a:lnTo>
                      <a:lnTo>
                        <a:pt x="3898" y="834"/>
                      </a:lnTo>
                      <a:lnTo>
                        <a:pt x="3904" y="824"/>
                      </a:lnTo>
                      <a:lnTo>
                        <a:pt x="3911" y="811"/>
                      </a:lnTo>
                      <a:lnTo>
                        <a:pt x="3923" y="799"/>
                      </a:lnTo>
                      <a:lnTo>
                        <a:pt x="3932" y="786"/>
                      </a:lnTo>
                      <a:lnTo>
                        <a:pt x="3942" y="774"/>
                      </a:lnTo>
                      <a:lnTo>
                        <a:pt x="3952" y="765"/>
                      </a:lnTo>
                      <a:lnTo>
                        <a:pt x="3961" y="759"/>
                      </a:lnTo>
                      <a:lnTo>
                        <a:pt x="3965" y="738"/>
                      </a:lnTo>
                      <a:lnTo>
                        <a:pt x="3969" y="723"/>
                      </a:lnTo>
                      <a:lnTo>
                        <a:pt x="3971" y="711"/>
                      </a:lnTo>
                      <a:lnTo>
                        <a:pt x="3975" y="705"/>
                      </a:lnTo>
                      <a:lnTo>
                        <a:pt x="3977" y="698"/>
                      </a:lnTo>
                      <a:lnTo>
                        <a:pt x="3982" y="698"/>
                      </a:lnTo>
                      <a:lnTo>
                        <a:pt x="3982" y="701"/>
                      </a:lnTo>
                      <a:lnTo>
                        <a:pt x="3984" y="713"/>
                      </a:lnTo>
                      <a:lnTo>
                        <a:pt x="3986" y="728"/>
                      </a:lnTo>
                      <a:lnTo>
                        <a:pt x="3992" y="749"/>
                      </a:lnTo>
                      <a:lnTo>
                        <a:pt x="3998" y="770"/>
                      </a:lnTo>
                      <a:lnTo>
                        <a:pt x="4005" y="792"/>
                      </a:lnTo>
                      <a:lnTo>
                        <a:pt x="4015" y="809"/>
                      </a:lnTo>
                      <a:lnTo>
                        <a:pt x="4026" y="824"/>
                      </a:lnTo>
                      <a:lnTo>
                        <a:pt x="4030" y="839"/>
                      </a:lnTo>
                      <a:lnTo>
                        <a:pt x="4040" y="857"/>
                      </a:lnTo>
                      <a:lnTo>
                        <a:pt x="4047" y="870"/>
                      </a:lnTo>
                      <a:lnTo>
                        <a:pt x="4057" y="885"/>
                      </a:lnTo>
                      <a:lnTo>
                        <a:pt x="4061" y="895"/>
                      </a:lnTo>
                      <a:lnTo>
                        <a:pt x="4059" y="903"/>
                      </a:lnTo>
                      <a:lnTo>
                        <a:pt x="4047" y="903"/>
                      </a:lnTo>
                      <a:lnTo>
                        <a:pt x="4026" y="899"/>
                      </a:lnTo>
                      <a:lnTo>
                        <a:pt x="4028" y="910"/>
                      </a:lnTo>
                      <a:lnTo>
                        <a:pt x="4034" y="924"/>
                      </a:lnTo>
                      <a:lnTo>
                        <a:pt x="4040" y="932"/>
                      </a:lnTo>
                      <a:lnTo>
                        <a:pt x="4046" y="939"/>
                      </a:lnTo>
                      <a:lnTo>
                        <a:pt x="4046" y="943"/>
                      </a:lnTo>
                      <a:lnTo>
                        <a:pt x="4044" y="947"/>
                      </a:lnTo>
                      <a:lnTo>
                        <a:pt x="4034" y="951"/>
                      </a:lnTo>
                      <a:lnTo>
                        <a:pt x="4017" y="955"/>
                      </a:lnTo>
                      <a:lnTo>
                        <a:pt x="4017" y="964"/>
                      </a:lnTo>
                      <a:lnTo>
                        <a:pt x="4023" y="976"/>
                      </a:lnTo>
                      <a:lnTo>
                        <a:pt x="4028" y="983"/>
                      </a:lnTo>
                      <a:lnTo>
                        <a:pt x="4038" y="993"/>
                      </a:lnTo>
                      <a:lnTo>
                        <a:pt x="4051" y="1008"/>
                      </a:lnTo>
                      <a:lnTo>
                        <a:pt x="4059" y="1024"/>
                      </a:lnTo>
                      <a:lnTo>
                        <a:pt x="4055" y="1024"/>
                      </a:lnTo>
                      <a:lnTo>
                        <a:pt x="4051" y="1029"/>
                      </a:lnTo>
                      <a:lnTo>
                        <a:pt x="4044" y="1025"/>
                      </a:lnTo>
                      <a:lnTo>
                        <a:pt x="4038" y="1024"/>
                      </a:lnTo>
                      <a:lnTo>
                        <a:pt x="4038" y="1033"/>
                      </a:lnTo>
                      <a:lnTo>
                        <a:pt x="4042" y="1043"/>
                      </a:lnTo>
                      <a:lnTo>
                        <a:pt x="4046" y="1048"/>
                      </a:lnTo>
                      <a:lnTo>
                        <a:pt x="4051" y="1056"/>
                      </a:lnTo>
                      <a:lnTo>
                        <a:pt x="4063" y="1066"/>
                      </a:lnTo>
                      <a:lnTo>
                        <a:pt x="4080" y="1083"/>
                      </a:lnTo>
                      <a:lnTo>
                        <a:pt x="4067" y="1087"/>
                      </a:lnTo>
                      <a:lnTo>
                        <a:pt x="4057" y="1087"/>
                      </a:lnTo>
                      <a:lnTo>
                        <a:pt x="4057" y="1096"/>
                      </a:lnTo>
                      <a:lnTo>
                        <a:pt x="4065" y="1108"/>
                      </a:lnTo>
                      <a:lnTo>
                        <a:pt x="4072" y="1119"/>
                      </a:lnTo>
                      <a:lnTo>
                        <a:pt x="4084" y="1131"/>
                      </a:lnTo>
                      <a:lnTo>
                        <a:pt x="4101" y="1146"/>
                      </a:lnTo>
                      <a:lnTo>
                        <a:pt x="4109" y="1160"/>
                      </a:lnTo>
                      <a:lnTo>
                        <a:pt x="4095" y="1158"/>
                      </a:lnTo>
                      <a:lnTo>
                        <a:pt x="4084" y="1156"/>
                      </a:lnTo>
                      <a:lnTo>
                        <a:pt x="4072" y="1152"/>
                      </a:lnTo>
                      <a:lnTo>
                        <a:pt x="4061" y="1148"/>
                      </a:lnTo>
                      <a:lnTo>
                        <a:pt x="4040" y="1140"/>
                      </a:lnTo>
                      <a:lnTo>
                        <a:pt x="4024" y="1139"/>
                      </a:lnTo>
                      <a:lnTo>
                        <a:pt x="4028" y="1150"/>
                      </a:lnTo>
                      <a:lnTo>
                        <a:pt x="4032" y="1167"/>
                      </a:lnTo>
                      <a:lnTo>
                        <a:pt x="4021" y="1162"/>
                      </a:lnTo>
                      <a:lnTo>
                        <a:pt x="4011" y="1158"/>
                      </a:lnTo>
                      <a:lnTo>
                        <a:pt x="4001" y="1152"/>
                      </a:lnTo>
                      <a:lnTo>
                        <a:pt x="3996" y="1154"/>
                      </a:lnTo>
                      <a:lnTo>
                        <a:pt x="3992" y="1171"/>
                      </a:lnTo>
                      <a:lnTo>
                        <a:pt x="3990" y="1190"/>
                      </a:lnTo>
                      <a:lnTo>
                        <a:pt x="3990" y="1208"/>
                      </a:lnTo>
                      <a:lnTo>
                        <a:pt x="3990" y="1229"/>
                      </a:lnTo>
                      <a:lnTo>
                        <a:pt x="4003" y="1244"/>
                      </a:lnTo>
                      <a:lnTo>
                        <a:pt x="4013" y="1265"/>
                      </a:lnTo>
                      <a:lnTo>
                        <a:pt x="4013" y="1277"/>
                      </a:lnTo>
                      <a:lnTo>
                        <a:pt x="4015" y="1288"/>
                      </a:lnTo>
                      <a:lnTo>
                        <a:pt x="4015" y="1300"/>
                      </a:lnTo>
                      <a:lnTo>
                        <a:pt x="4017" y="1315"/>
                      </a:lnTo>
                      <a:lnTo>
                        <a:pt x="4009" y="1321"/>
                      </a:lnTo>
                      <a:lnTo>
                        <a:pt x="4003" y="1323"/>
                      </a:lnTo>
                      <a:lnTo>
                        <a:pt x="4005" y="1334"/>
                      </a:lnTo>
                      <a:lnTo>
                        <a:pt x="4011" y="1349"/>
                      </a:lnTo>
                      <a:lnTo>
                        <a:pt x="4007" y="1351"/>
                      </a:lnTo>
                      <a:lnTo>
                        <a:pt x="4003" y="1353"/>
                      </a:lnTo>
                      <a:lnTo>
                        <a:pt x="3998" y="1365"/>
                      </a:lnTo>
                      <a:lnTo>
                        <a:pt x="4000" y="1376"/>
                      </a:lnTo>
                      <a:lnTo>
                        <a:pt x="4001" y="1388"/>
                      </a:lnTo>
                      <a:lnTo>
                        <a:pt x="4009" y="1401"/>
                      </a:lnTo>
                      <a:lnTo>
                        <a:pt x="4017" y="1411"/>
                      </a:lnTo>
                      <a:lnTo>
                        <a:pt x="4030" y="1422"/>
                      </a:lnTo>
                      <a:lnTo>
                        <a:pt x="4042" y="1430"/>
                      </a:lnTo>
                      <a:lnTo>
                        <a:pt x="4057" y="1438"/>
                      </a:lnTo>
                      <a:lnTo>
                        <a:pt x="4065" y="1426"/>
                      </a:lnTo>
                      <a:lnTo>
                        <a:pt x="4076" y="1418"/>
                      </a:lnTo>
                      <a:lnTo>
                        <a:pt x="4086" y="1411"/>
                      </a:lnTo>
                      <a:lnTo>
                        <a:pt x="4095" y="1405"/>
                      </a:lnTo>
                      <a:lnTo>
                        <a:pt x="4101" y="1395"/>
                      </a:lnTo>
                      <a:lnTo>
                        <a:pt x="4109" y="1386"/>
                      </a:lnTo>
                      <a:lnTo>
                        <a:pt x="4113" y="1372"/>
                      </a:lnTo>
                      <a:lnTo>
                        <a:pt x="4117" y="1355"/>
                      </a:lnTo>
                      <a:lnTo>
                        <a:pt x="4107" y="1342"/>
                      </a:lnTo>
                      <a:lnTo>
                        <a:pt x="4101" y="1328"/>
                      </a:lnTo>
                      <a:lnTo>
                        <a:pt x="4097" y="1311"/>
                      </a:lnTo>
                      <a:lnTo>
                        <a:pt x="4097" y="1296"/>
                      </a:lnTo>
                      <a:lnTo>
                        <a:pt x="4097" y="1278"/>
                      </a:lnTo>
                      <a:lnTo>
                        <a:pt x="4103" y="1267"/>
                      </a:lnTo>
                      <a:lnTo>
                        <a:pt x="4109" y="1257"/>
                      </a:lnTo>
                      <a:lnTo>
                        <a:pt x="4122" y="1254"/>
                      </a:lnTo>
                      <a:lnTo>
                        <a:pt x="4126" y="1259"/>
                      </a:lnTo>
                      <a:lnTo>
                        <a:pt x="4130" y="1273"/>
                      </a:lnTo>
                      <a:lnTo>
                        <a:pt x="4140" y="1267"/>
                      </a:lnTo>
                      <a:lnTo>
                        <a:pt x="4149" y="1263"/>
                      </a:lnTo>
                      <a:lnTo>
                        <a:pt x="4157" y="1255"/>
                      </a:lnTo>
                      <a:lnTo>
                        <a:pt x="4166" y="1248"/>
                      </a:lnTo>
                      <a:lnTo>
                        <a:pt x="4174" y="1240"/>
                      </a:lnTo>
                      <a:lnTo>
                        <a:pt x="4186" y="1234"/>
                      </a:lnTo>
                      <a:lnTo>
                        <a:pt x="4199" y="1231"/>
                      </a:lnTo>
                      <a:lnTo>
                        <a:pt x="4218" y="1231"/>
                      </a:lnTo>
                      <a:lnTo>
                        <a:pt x="4235" y="1217"/>
                      </a:lnTo>
                      <a:lnTo>
                        <a:pt x="4256" y="1206"/>
                      </a:lnTo>
                      <a:lnTo>
                        <a:pt x="4278" y="1196"/>
                      </a:lnTo>
                      <a:lnTo>
                        <a:pt x="4301" y="1192"/>
                      </a:lnTo>
                      <a:lnTo>
                        <a:pt x="4320" y="1192"/>
                      </a:lnTo>
                      <a:lnTo>
                        <a:pt x="4341" y="1198"/>
                      </a:lnTo>
                      <a:lnTo>
                        <a:pt x="4356" y="1213"/>
                      </a:lnTo>
                      <a:lnTo>
                        <a:pt x="4373" y="1238"/>
                      </a:lnTo>
                      <a:lnTo>
                        <a:pt x="4372" y="1252"/>
                      </a:lnTo>
                      <a:lnTo>
                        <a:pt x="4370" y="1267"/>
                      </a:lnTo>
                      <a:lnTo>
                        <a:pt x="4370" y="1282"/>
                      </a:lnTo>
                      <a:lnTo>
                        <a:pt x="4372" y="1301"/>
                      </a:lnTo>
                      <a:lnTo>
                        <a:pt x="4379" y="1296"/>
                      </a:lnTo>
                      <a:lnTo>
                        <a:pt x="4389" y="1288"/>
                      </a:lnTo>
                      <a:lnTo>
                        <a:pt x="4400" y="1278"/>
                      </a:lnTo>
                      <a:lnTo>
                        <a:pt x="4418" y="1275"/>
                      </a:lnTo>
                      <a:lnTo>
                        <a:pt x="4418" y="1277"/>
                      </a:lnTo>
                      <a:lnTo>
                        <a:pt x="4419" y="1280"/>
                      </a:lnTo>
                      <a:lnTo>
                        <a:pt x="4419" y="1286"/>
                      </a:lnTo>
                      <a:lnTo>
                        <a:pt x="4421" y="1298"/>
                      </a:lnTo>
                      <a:lnTo>
                        <a:pt x="4433" y="1298"/>
                      </a:lnTo>
                      <a:lnTo>
                        <a:pt x="4446" y="1298"/>
                      </a:lnTo>
                      <a:lnTo>
                        <a:pt x="4452" y="1307"/>
                      </a:lnTo>
                      <a:lnTo>
                        <a:pt x="4456" y="1324"/>
                      </a:lnTo>
                      <a:lnTo>
                        <a:pt x="4454" y="1344"/>
                      </a:lnTo>
                      <a:lnTo>
                        <a:pt x="4450" y="1363"/>
                      </a:lnTo>
                      <a:lnTo>
                        <a:pt x="4439" y="1376"/>
                      </a:lnTo>
                      <a:lnTo>
                        <a:pt x="4425" y="1384"/>
                      </a:lnTo>
                      <a:lnTo>
                        <a:pt x="4408" y="1380"/>
                      </a:lnTo>
                      <a:lnTo>
                        <a:pt x="4385" y="1363"/>
                      </a:lnTo>
                      <a:lnTo>
                        <a:pt x="4373" y="1361"/>
                      </a:lnTo>
                      <a:lnTo>
                        <a:pt x="4364" y="1359"/>
                      </a:lnTo>
                      <a:lnTo>
                        <a:pt x="4356" y="1355"/>
                      </a:lnTo>
                      <a:lnTo>
                        <a:pt x="4350" y="1351"/>
                      </a:lnTo>
                      <a:lnTo>
                        <a:pt x="4337" y="1344"/>
                      </a:lnTo>
                      <a:lnTo>
                        <a:pt x="4327" y="1344"/>
                      </a:lnTo>
                      <a:lnTo>
                        <a:pt x="4324" y="1351"/>
                      </a:lnTo>
                      <a:lnTo>
                        <a:pt x="4322" y="1363"/>
                      </a:lnTo>
                      <a:lnTo>
                        <a:pt x="4318" y="1374"/>
                      </a:lnTo>
                      <a:lnTo>
                        <a:pt x="4314" y="1390"/>
                      </a:lnTo>
                      <a:lnTo>
                        <a:pt x="4306" y="1401"/>
                      </a:lnTo>
                      <a:lnTo>
                        <a:pt x="4301" y="1413"/>
                      </a:lnTo>
                      <a:lnTo>
                        <a:pt x="4295" y="1422"/>
                      </a:lnTo>
                      <a:lnTo>
                        <a:pt x="4289" y="1430"/>
                      </a:lnTo>
                      <a:lnTo>
                        <a:pt x="4289" y="1438"/>
                      </a:lnTo>
                      <a:lnTo>
                        <a:pt x="4289" y="1447"/>
                      </a:lnTo>
                      <a:lnTo>
                        <a:pt x="4291" y="1459"/>
                      </a:lnTo>
                      <a:lnTo>
                        <a:pt x="4293" y="1470"/>
                      </a:lnTo>
                      <a:lnTo>
                        <a:pt x="4293" y="1482"/>
                      </a:lnTo>
                      <a:lnTo>
                        <a:pt x="4295" y="1493"/>
                      </a:lnTo>
                      <a:lnTo>
                        <a:pt x="4295" y="1505"/>
                      </a:lnTo>
                      <a:lnTo>
                        <a:pt x="4297" y="1516"/>
                      </a:lnTo>
                      <a:lnTo>
                        <a:pt x="4312" y="1532"/>
                      </a:lnTo>
                      <a:lnTo>
                        <a:pt x="4326" y="1547"/>
                      </a:lnTo>
                      <a:lnTo>
                        <a:pt x="4337" y="1560"/>
                      </a:lnTo>
                      <a:lnTo>
                        <a:pt x="4350" y="1576"/>
                      </a:lnTo>
                      <a:lnTo>
                        <a:pt x="4358" y="1591"/>
                      </a:lnTo>
                      <a:lnTo>
                        <a:pt x="4368" y="1610"/>
                      </a:lnTo>
                      <a:lnTo>
                        <a:pt x="4375" y="1631"/>
                      </a:lnTo>
                      <a:lnTo>
                        <a:pt x="4385" y="1658"/>
                      </a:lnTo>
                      <a:lnTo>
                        <a:pt x="4391" y="1652"/>
                      </a:lnTo>
                      <a:lnTo>
                        <a:pt x="4400" y="1654"/>
                      </a:lnTo>
                      <a:lnTo>
                        <a:pt x="4412" y="1673"/>
                      </a:lnTo>
                      <a:lnTo>
                        <a:pt x="4423" y="1694"/>
                      </a:lnTo>
                      <a:lnTo>
                        <a:pt x="4427" y="1704"/>
                      </a:lnTo>
                      <a:lnTo>
                        <a:pt x="4429" y="1716"/>
                      </a:lnTo>
                      <a:lnTo>
                        <a:pt x="4427" y="1727"/>
                      </a:lnTo>
                      <a:lnTo>
                        <a:pt x="4421" y="1739"/>
                      </a:lnTo>
                      <a:lnTo>
                        <a:pt x="4419" y="1737"/>
                      </a:lnTo>
                      <a:lnTo>
                        <a:pt x="4418" y="1737"/>
                      </a:lnTo>
                      <a:lnTo>
                        <a:pt x="4412" y="1735"/>
                      </a:lnTo>
                      <a:lnTo>
                        <a:pt x="4404" y="1735"/>
                      </a:lnTo>
                      <a:lnTo>
                        <a:pt x="4402" y="1740"/>
                      </a:lnTo>
                      <a:lnTo>
                        <a:pt x="4406" y="1758"/>
                      </a:lnTo>
                      <a:lnTo>
                        <a:pt x="4408" y="1775"/>
                      </a:lnTo>
                      <a:lnTo>
                        <a:pt x="4412" y="1790"/>
                      </a:lnTo>
                      <a:lnTo>
                        <a:pt x="4414" y="1790"/>
                      </a:lnTo>
                      <a:lnTo>
                        <a:pt x="4418" y="1792"/>
                      </a:lnTo>
                      <a:lnTo>
                        <a:pt x="4418" y="1806"/>
                      </a:lnTo>
                      <a:lnTo>
                        <a:pt x="4437" y="1836"/>
                      </a:lnTo>
                      <a:lnTo>
                        <a:pt x="4464" y="1877"/>
                      </a:lnTo>
                      <a:lnTo>
                        <a:pt x="4492" y="1928"/>
                      </a:lnTo>
                      <a:lnTo>
                        <a:pt x="4513" y="1984"/>
                      </a:lnTo>
                      <a:lnTo>
                        <a:pt x="4523" y="2045"/>
                      </a:lnTo>
                      <a:lnTo>
                        <a:pt x="4513" y="2105"/>
                      </a:lnTo>
                      <a:lnTo>
                        <a:pt x="4477" y="2166"/>
                      </a:lnTo>
                      <a:lnTo>
                        <a:pt x="4483" y="2187"/>
                      </a:lnTo>
                      <a:lnTo>
                        <a:pt x="4496" y="2214"/>
                      </a:lnTo>
                      <a:lnTo>
                        <a:pt x="4513" y="2243"/>
                      </a:lnTo>
                      <a:lnTo>
                        <a:pt x="4534" y="2273"/>
                      </a:lnTo>
                      <a:lnTo>
                        <a:pt x="4556" y="2302"/>
                      </a:lnTo>
                      <a:lnTo>
                        <a:pt x="4577" y="2333"/>
                      </a:lnTo>
                      <a:lnTo>
                        <a:pt x="4594" y="2362"/>
                      </a:lnTo>
                      <a:lnTo>
                        <a:pt x="4611" y="2392"/>
                      </a:lnTo>
                      <a:lnTo>
                        <a:pt x="4655" y="2431"/>
                      </a:lnTo>
                      <a:lnTo>
                        <a:pt x="4707" y="2469"/>
                      </a:lnTo>
                      <a:lnTo>
                        <a:pt x="4759" y="2507"/>
                      </a:lnTo>
                      <a:lnTo>
                        <a:pt x="4814" y="2548"/>
                      </a:lnTo>
                      <a:lnTo>
                        <a:pt x="4868" y="2584"/>
                      </a:lnTo>
                      <a:lnTo>
                        <a:pt x="4924" y="2622"/>
                      </a:lnTo>
                      <a:lnTo>
                        <a:pt x="4977" y="2661"/>
                      </a:lnTo>
                      <a:lnTo>
                        <a:pt x="5031" y="2701"/>
                      </a:lnTo>
                      <a:lnTo>
                        <a:pt x="5075" y="2732"/>
                      </a:lnTo>
                      <a:lnTo>
                        <a:pt x="5121" y="2770"/>
                      </a:lnTo>
                      <a:lnTo>
                        <a:pt x="5163" y="2810"/>
                      </a:lnTo>
                      <a:lnTo>
                        <a:pt x="5206" y="2854"/>
                      </a:lnTo>
                      <a:lnTo>
                        <a:pt x="5246" y="2896"/>
                      </a:lnTo>
                      <a:lnTo>
                        <a:pt x="5288" y="2940"/>
                      </a:lnTo>
                      <a:lnTo>
                        <a:pt x="5332" y="2981"/>
                      </a:lnTo>
                      <a:lnTo>
                        <a:pt x="5380" y="3023"/>
                      </a:lnTo>
                      <a:lnTo>
                        <a:pt x="5405" y="3046"/>
                      </a:lnTo>
                      <a:lnTo>
                        <a:pt x="5434" y="3073"/>
                      </a:lnTo>
                      <a:lnTo>
                        <a:pt x="5462" y="3098"/>
                      </a:lnTo>
                      <a:lnTo>
                        <a:pt x="5495" y="3125"/>
                      </a:lnTo>
                      <a:lnTo>
                        <a:pt x="5524" y="3149"/>
                      </a:lnTo>
                      <a:lnTo>
                        <a:pt x="5556" y="3174"/>
                      </a:lnTo>
                      <a:lnTo>
                        <a:pt x="5589" y="3195"/>
                      </a:lnTo>
                      <a:lnTo>
                        <a:pt x="5624" y="3218"/>
                      </a:lnTo>
                      <a:lnTo>
                        <a:pt x="5643" y="3236"/>
                      </a:lnTo>
                      <a:lnTo>
                        <a:pt x="5658" y="3249"/>
                      </a:lnTo>
                      <a:lnTo>
                        <a:pt x="5670" y="3259"/>
                      </a:lnTo>
                      <a:lnTo>
                        <a:pt x="5679" y="3270"/>
                      </a:lnTo>
                      <a:lnTo>
                        <a:pt x="5685" y="3278"/>
                      </a:lnTo>
                      <a:lnTo>
                        <a:pt x="5691" y="3293"/>
                      </a:lnTo>
                      <a:lnTo>
                        <a:pt x="5696" y="3314"/>
                      </a:lnTo>
                      <a:lnTo>
                        <a:pt x="5706" y="3345"/>
                      </a:lnTo>
                      <a:lnTo>
                        <a:pt x="5712" y="3356"/>
                      </a:lnTo>
                      <a:lnTo>
                        <a:pt x="5717" y="3372"/>
                      </a:lnTo>
                      <a:lnTo>
                        <a:pt x="5719" y="3387"/>
                      </a:lnTo>
                      <a:lnTo>
                        <a:pt x="5723" y="3406"/>
                      </a:lnTo>
                      <a:lnTo>
                        <a:pt x="5704" y="3418"/>
                      </a:lnTo>
                      <a:lnTo>
                        <a:pt x="5685" y="3427"/>
                      </a:lnTo>
                      <a:lnTo>
                        <a:pt x="5662" y="3431"/>
                      </a:lnTo>
                      <a:lnTo>
                        <a:pt x="5641" y="3437"/>
                      </a:lnTo>
                      <a:lnTo>
                        <a:pt x="5618" y="3437"/>
                      </a:lnTo>
                      <a:lnTo>
                        <a:pt x="5595" y="3439"/>
                      </a:lnTo>
                      <a:lnTo>
                        <a:pt x="5574" y="3439"/>
                      </a:lnTo>
                      <a:lnTo>
                        <a:pt x="5554" y="3439"/>
                      </a:lnTo>
                      <a:lnTo>
                        <a:pt x="5535" y="3441"/>
                      </a:lnTo>
                      <a:lnTo>
                        <a:pt x="5518" y="3445"/>
                      </a:lnTo>
                      <a:lnTo>
                        <a:pt x="5499" y="3447"/>
                      </a:lnTo>
                      <a:lnTo>
                        <a:pt x="5482" y="3450"/>
                      </a:lnTo>
                      <a:lnTo>
                        <a:pt x="5464" y="3452"/>
                      </a:lnTo>
                      <a:lnTo>
                        <a:pt x="5447" y="3456"/>
                      </a:lnTo>
                      <a:lnTo>
                        <a:pt x="5430" y="3458"/>
                      </a:lnTo>
                      <a:lnTo>
                        <a:pt x="5415" y="3462"/>
                      </a:lnTo>
                      <a:lnTo>
                        <a:pt x="5370" y="3462"/>
                      </a:lnTo>
                      <a:lnTo>
                        <a:pt x="5328" y="3464"/>
                      </a:lnTo>
                      <a:lnTo>
                        <a:pt x="5288" y="3464"/>
                      </a:lnTo>
                      <a:lnTo>
                        <a:pt x="5248" y="3466"/>
                      </a:lnTo>
                      <a:lnTo>
                        <a:pt x="5207" y="3466"/>
                      </a:lnTo>
                      <a:lnTo>
                        <a:pt x="5167" y="3471"/>
                      </a:lnTo>
                      <a:lnTo>
                        <a:pt x="5129" y="3477"/>
                      </a:lnTo>
                      <a:lnTo>
                        <a:pt x="5092" y="3487"/>
                      </a:lnTo>
                      <a:lnTo>
                        <a:pt x="5092" y="3500"/>
                      </a:lnTo>
                      <a:lnTo>
                        <a:pt x="5098" y="3516"/>
                      </a:lnTo>
                      <a:lnTo>
                        <a:pt x="5104" y="3527"/>
                      </a:lnTo>
                      <a:lnTo>
                        <a:pt x="5110" y="3539"/>
                      </a:lnTo>
                      <a:lnTo>
                        <a:pt x="5114" y="3548"/>
                      </a:lnTo>
                      <a:lnTo>
                        <a:pt x="5114" y="3560"/>
                      </a:lnTo>
                      <a:lnTo>
                        <a:pt x="5108" y="3569"/>
                      </a:lnTo>
                      <a:lnTo>
                        <a:pt x="5096" y="3581"/>
                      </a:lnTo>
                      <a:lnTo>
                        <a:pt x="5096" y="3583"/>
                      </a:lnTo>
                      <a:lnTo>
                        <a:pt x="5096" y="3587"/>
                      </a:lnTo>
                      <a:lnTo>
                        <a:pt x="5112" y="3596"/>
                      </a:lnTo>
                      <a:lnTo>
                        <a:pt x="5127" y="3608"/>
                      </a:lnTo>
                      <a:lnTo>
                        <a:pt x="5115" y="3604"/>
                      </a:lnTo>
                      <a:lnTo>
                        <a:pt x="5102" y="3602"/>
                      </a:lnTo>
                      <a:lnTo>
                        <a:pt x="5089" y="3596"/>
                      </a:lnTo>
                      <a:lnTo>
                        <a:pt x="5083" y="3594"/>
                      </a:lnTo>
                      <a:lnTo>
                        <a:pt x="5081" y="3590"/>
                      </a:lnTo>
                      <a:lnTo>
                        <a:pt x="5079" y="3587"/>
                      </a:lnTo>
                      <a:lnTo>
                        <a:pt x="4960" y="3596"/>
                      </a:lnTo>
                      <a:lnTo>
                        <a:pt x="4843" y="3598"/>
                      </a:lnTo>
                      <a:lnTo>
                        <a:pt x="4724" y="3592"/>
                      </a:lnTo>
                      <a:lnTo>
                        <a:pt x="4605" y="3583"/>
                      </a:lnTo>
                      <a:lnTo>
                        <a:pt x="4485" y="3569"/>
                      </a:lnTo>
                      <a:lnTo>
                        <a:pt x="4366" y="3560"/>
                      </a:lnTo>
                      <a:lnTo>
                        <a:pt x="4249" y="3556"/>
                      </a:lnTo>
                      <a:lnTo>
                        <a:pt x="4134" y="3560"/>
                      </a:lnTo>
                      <a:lnTo>
                        <a:pt x="4145" y="3562"/>
                      </a:lnTo>
                      <a:lnTo>
                        <a:pt x="4157" y="3564"/>
                      </a:lnTo>
                      <a:lnTo>
                        <a:pt x="4168" y="3565"/>
                      </a:lnTo>
                      <a:lnTo>
                        <a:pt x="4182" y="3569"/>
                      </a:lnTo>
                      <a:lnTo>
                        <a:pt x="4182" y="3573"/>
                      </a:lnTo>
                      <a:lnTo>
                        <a:pt x="4182" y="3579"/>
                      </a:lnTo>
                      <a:lnTo>
                        <a:pt x="4128" y="3594"/>
                      </a:lnTo>
                      <a:lnTo>
                        <a:pt x="4074" y="3608"/>
                      </a:lnTo>
                      <a:lnTo>
                        <a:pt x="4021" y="3615"/>
                      </a:lnTo>
                      <a:lnTo>
                        <a:pt x="3967" y="3623"/>
                      </a:lnTo>
                      <a:lnTo>
                        <a:pt x="3911" y="3627"/>
                      </a:lnTo>
                      <a:lnTo>
                        <a:pt x="3860" y="3631"/>
                      </a:lnTo>
                      <a:lnTo>
                        <a:pt x="3806" y="3633"/>
                      </a:lnTo>
                      <a:lnTo>
                        <a:pt x="3754" y="3634"/>
                      </a:lnTo>
                      <a:lnTo>
                        <a:pt x="3743" y="3636"/>
                      </a:lnTo>
                      <a:lnTo>
                        <a:pt x="3731" y="3642"/>
                      </a:lnTo>
                      <a:lnTo>
                        <a:pt x="3718" y="3650"/>
                      </a:lnTo>
                      <a:lnTo>
                        <a:pt x="3704" y="3657"/>
                      </a:lnTo>
                      <a:lnTo>
                        <a:pt x="3691" y="3665"/>
                      </a:lnTo>
                      <a:lnTo>
                        <a:pt x="3679" y="3673"/>
                      </a:lnTo>
                      <a:lnTo>
                        <a:pt x="3670" y="3680"/>
                      </a:lnTo>
                      <a:lnTo>
                        <a:pt x="3666" y="3690"/>
                      </a:lnTo>
                      <a:lnTo>
                        <a:pt x="3679" y="3702"/>
                      </a:lnTo>
                      <a:lnTo>
                        <a:pt x="3699" y="3715"/>
                      </a:lnTo>
                      <a:lnTo>
                        <a:pt x="3720" y="3728"/>
                      </a:lnTo>
                      <a:lnTo>
                        <a:pt x="3743" y="3744"/>
                      </a:lnTo>
                      <a:lnTo>
                        <a:pt x="3766" y="3757"/>
                      </a:lnTo>
                      <a:lnTo>
                        <a:pt x="3791" y="3771"/>
                      </a:lnTo>
                      <a:lnTo>
                        <a:pt x="3812" y="3784"/>
                      </a:lnTo>
                      <a:lnTo>
                        <a:pt x="3833" y="3799"/>
                      </a:lnTo>
                      <a:lnTo>
                        <a:pt x="3850" y="3803"/>
                      </a:lnTo>
                      <a:lnTo>
                        <a:pt x="3881" y="3813"/>
                      </a:lnTo>
                      <a:lnTo>
                        <a:pt x="3921" y="3824"/>
                      </a:lnTo>
                      <a:lnTo>
                        <a:pt x="3963" y="3840"/>
                      </a:lnTo>
                      <a:lnTo>
                        <a:pt x="4000" y="3855"/>
                      </a:lnTo>
                      <a:lnTo>
                        <a:pt x="4030" y="3876"/>
                      </a:lnTo>
                      <a:lnTo>
                        <a:pt x="4044" y="3899"/>
                      </a:lnTo>
                      <a:lnTo>
                        <a:pt x="4038" y="3926"/>
                      </a:lnTo>
                      <a:lnTo>
                        <a:pt x="3978" y="3953"/>
                      </a:lnTo>
                      <a:lnTo>
                        <a:pt x="3908" y="3962"/>
                      </a:lnTo>
                      <a:lnTo>
                        <a:pt x="3827" y="3960"/>
                      </a:lnTo>
                      <a:lnTo>
                        <a:pt x="3745" y="3953"/>
                      </a:lnTo>
                      <a:lnTo>
                        <a:pt x="3664" y="3941"/>
                      </a:lnTo>
                      <a:lnTo>
                        <a:pt x="3593" y="3937"/>
                      </a:lnTo>
                      <a:lnTo>
                        <a:pt x="3537" y="3941"/>
                      </a:lnTo>
                      <a:lnTo>
                        <a:pt x="3503" y="3964"/>
                      </a:lnTo>
                      <a:lnTo>
                        <a:pt x="3486" y="3964"/>
                      </a:lnTo>
                      <a:lnTo>
                        <a:pt x="3474" y="3964"/>
                      </a:lnTo>
                      <a:lnTo>
                        <a:pt x="3463" y="3962"/>
                      </a:lnTo>
                      <a:lnTo>
                        <a:pt x="3451" y="3962"/>
                      </a:lnTo>
                      <a:lnTo>
                        <a:pt x="3440" y="3958"/>
                      </a:lnTo>
                      <a:lnTo>
                        <a:pt x="3428" y="3956"/>
                      </a:lnTo>
                      <a:lnTo>
                        <a:pt x="3417" y="3956"/>
                      </a:lnTo>
                      <a:lnTo>
                        <a:pt x="3407" y="3958"/>
                      </a:lnTo>
                      <a:lnTo>
                        <a:pt x="3359" y="3972"/>
                      </a:lnTo>
                      <a:lnTo>
                        <a:pt x="3309" y="3981"/>
                      </a:lnTo>
                      <a:lnTo>
                        <a:pt x="3258" y="3983"/>
                      </a:lnTo>
                      <a:lnTo>
                        <a:pt x="3206" y="3983"/>
                      </a:lnTo>
                      <a:lnTo>
                        <a:pt x="3154" y="3978"/>
                      </a:lnTo>
                      <a:lnTo>
                        <a:pt x="3102" y="3972"/>
                      </a:lnTo>
                      <a:lnTo>
                        <a:pt x="3051" y="3966"/>
                      </a:lnTo>
                      <a:lnTo>
                        <a:pt x="3004" y="3964"/>
                      </a:lnTo>
                      <a:lnTo>
                        <a:pt x="2960" y="3958"/>
                      </a:lnTo>
                      <a:lnTo>
                        <a:pt x="2916" y="3956"/>
                      </a:lnTo>
                      <a:lnTo>
                        <a:pt x="2872" y="3955"/>
                      </a:lnTo>
                      <a:lnTo>
                        <a:pt x="2832" y="3955"/>
                      </a:lnTo>
                      <a:lnTo>
                        <a:pt x="2790" y="3951"/>
                      </a:lnTo>
                      <a:lnTo>
                        <a:pt x="2749" y="3949"/>
                      </a:lnTo>
                      <a:lnTo>
                        <a:pt x="2709" y="3941"/>
                      </a:lnTo>
                      <a:lnTo>
                        <a:pt x="2673" y="3933"/>
                      </a:lnTo>
                      <a:lnTo>
                        <a:pt x="2648" y="3930"/>
                      </a:lnTo>
                      <a:lnTo>
                        <a:pt x="2625" y="3930"/>
                      </a:lnTo>
                      <a:lnTo>
                        <a:pt x="2602" y="3926"/>
                      </a:lnTo>
                      <a:lnTo>
                        <a:pt x="2579" y="3926"/>
                      </a:lnTo>
                      <a:lnTo>
                        <a:pt x="2556" y="3924"/>
                      </a:lnTo>
                      <a:lnTo>
                        <a:pt x="2533" y="3922"/>
                      </a:lnTo>
                      <a:lnTo>
                        <a:pt x="2510" y="3920"/>
                      </a:lnTo>
                      <a:lnTo>
                        <a:pt x="2487" y="3920"/>
                      </a:lnTo>
                      <a:lnTo>
                        <a:pt x="2494" y="3933"/>
                      </a:lnTo>
                      <a:lnTo>
                        <a:pt x="2512" y="3953"/>
                      </a:lnTo>
                      <a:lnTo>
                        <a:pt x="2523" y="3970"/>
                      </a:lnTo>
                      <a:lnTo>
                        <a:pt x="2529" y="3981"/>
                      </a:lnTo>
                      <a:lnTo>
                        <a:pt x="2481" y="3976"/>
                      </a:lnTo>
                      <a:lnTo>
                        <a:pt x="2435" y="3976"/>
                      </a:lnTo>
                      <a:lnTo>
                        <a:pt x="2389" y="3978"/>
                      </a:lnTo>
                      <a:lnTo>
                        <a:pt x="2345" y="3981"/>
                      </a:lnTo>
                      <a:lnTo>
                        <a:pt x="2299" y="3983"/>
                      </a:lnTo>
                      <a:lnTo>
                        <a:pt x="2253" y="3987"/>
                      </a:lnTo>
                      <a:lnTo>
                        <a:pt x="2207" y="3985"/>
                      </a:lnTo>
                      <a:lnTo>
                        <a:pt x="2163" y="3985"/>
                      </a:lnTo>
                      <a:lnTo>
                        <a:pt x="2134" y="3987"/>
                      </a:lnTo>
                      <a:lnTo>
                        <a:pt x="2111" y="3993"/>
                      </a:lnTo>
                      <a:lnTo>
                        <a:pt x="2088" y="3997"/>
                      </a:lnTo>
                      <a:lnTo>
                        <a:pt x="2069" y="4001"/>
                      </a:lnTo>
                      <a:lnTo>
                        <a:pt x="2048" y="4001"/>
                      </a:lnTo>
                      <a:lnTo>
                        <a:pt x="2027" y="3999"/>
                      </a:lnTo>
                      <a:lnTo>
                        <a:pt x="2004" y="3993"/>
                      </a:lnTo>
                      <a:lnTo>
                        <a:pt x="1983" y="3981"/>
                      </a:lnTo>
                      <a:lnTo>
                        <a:pt x="1960" y="3978"/>
                      </a:lnTo>
                      <a:lnTo>
                        <a:pt x="1940" y="3978"/>
                      </a:lnTo>
                      <a:lnTo>
                        <a:pt x="1921" y="3979"/>
                      </a:lnTo>
                      <a:lnTo>
                        <a:pt x="1904" y="3981"/>
                      </a:lnTo>
                      <a:lnTo>
                        <a:pt x="1885" y="3979"/>
                      </a:lnTo>
                      <a:lnTo>
                        <a:pt x="1868" y="3979"/>
                      </a:lnTo>
                      <a:lnTo>
                        <a:pt x="1848" y="3974"/>
                      </a:lnTo>
                      <a:lnTo>
                        <a:pt x="1831" y="3968"/>
                      </a:lnTo>
                      <a:lnTo>
                        <a:pt x="1793" y="3935"/>
                      </a:lnTo>
                      <a:lnTo>
                        <a:pt x="1754" y="3924"/>
                      </a:lnTo>
                      <a:lnTo>
                        <a:pt x="1714" y="3926"/>
                      </a:lnTo>
                      <a:lnTo>
                        <a:pt x="1676" y="3939"/>
                      </a:lnTo>
                      <a:lnTo>
                        <a:pt x="1637" y="3951"/>
                      </a:lnTo>
                      <a:lnTo>
                        <a:pt x="1607" y="3962"/>
                      </a:lnTo>
                      <a:lnTo>
                        <a:pt x="1580" y="3962"/>
                      </a:lnTo>
                      <a:lnTo>
                        <a:pt x="1561" y="3951"/>
                      </a:lnTo>
                      <a:lnTo>
                        <a:pt x="1559" y="3928"/>
                      </a:lnTo>
                      <a:lnTo>
                        <a:pt x="1557" y="3910"/>
                      </a:lnTo>
                      <a:lnTo>
                        <a:pt x="1551" y="3895"/>
                      </a:lnTo>
                      <a:lnTo>
                        <a:pt x="1547" y="3886"/>
                      </a:lnTo>
                      <a:lnTo>
                        <a:pt x="1538" y="3876"/>
                      </a:lnTo>
                      <a:lnTo>
                        <a:pt x="1526" y="3872"/>
                      </a:lnTo>
                      <a:lnTo>
                        <a:pt x="1511" y="3868"/>
                      </a:lnTo>
                      <a:lnTo>
                        <a:pt x="1492" y="3868"/>
                      </a:lnTo>
                      <a:lnTo>
                        <a:pt x="1488" y="3855"/>
                      </a:lnTo>
                      <a:lnTo>
                        <a:pt x="1494" y="3838"/>
                      </a:lnTo>
                      <a:lnTo>
                        <a:pt x="1503" y="3815"/>
                      </a:lnTo>
                      <a:lnTo>
                        <a:pt x="1519" y="3792"/>
                      </a:lnTo>
                      <a:lnTo>
                        <a:pt x="1534" y="3767"/>
                      </a:lnTo>
                      <a:lnTo>
                        <a:pt x="1549" y="3748"/>
                      </a:lnTo>
                      <a:lnTo>
                        <a:pt x="1559" y="3732"/>
                      </a:lnTo>
                      <a:lnTo>
                        <a:pt x="1568" y="3728"/>
                      </a:lnTo>
                      <a:lnTo>
                        <a:pt x="1580" y="3692"/>
                      </a:lnTo>
                      <a:lnTo>
                        <a:pt x="1597" y="3659"/>
                      </a:lnTo>
                      <a:lnTo>
                        <a:pt x="1614" y="3625"/>
                      </a:lnTo>
                      <a:lnTo>
                        <a:pt x="1634" y="3594"/>
                      </a:lnTo>
                      <a:lnTo>
                        <a:pt x="1649" y="3562"/>
                      </a:lnTo>
                      <a:lnTo>
                        <a:pt x="1664" y="3529"/>
                      </a:lnTo>
                      <a:lnTo>
                        <a:pt x="1676" y="3494"/>
                      </a:lnTo>
                      <a:lnTo>
                        <a:pt x="1682" y="3462"/>
                      </a:lnTo>
                      <a:lnTo>
                        <a:pt x="1659" y="3468"/>
                      </a:lnTo>
                      <a:lnTo>
                        <a:pt x="1636" y="3487"/>
                      </a:lnTo>
                      <a:lnTo>
                        <a:pt x="1607" y="3514"/>
                      </a:lnTo>
                      <a:lnTo>
                        <a:pt x="1580" y="3546"/>
                      </a:lnTo>
                      <a:lnTo>
                        <a:pt x="1547" y="3577"/>
                      </a:lnTo>
                      <a:lnTo>
                        <a:pt x="1519" y="3604"/>
                      </a:lnTo>
                      <a:lnTo>
                        <a:pt x="1490" y="3623"/>
                      </a:lnTo>
                      <a:lnTo>
                        <a:pt x="1467" y="3633"/>
                      </a:lnTo>
                      <a:lnTo>
                        <a:pt x="1461" y="3623"/>
                      </a:lnTo>
                      <a:lnTo>
                        <a:pt x="1461" y="3613"/>
                      </a:lnTo>
                      <a:lnTo>
                        <a:pt x="1440" y="3617"/>
                      </a:lnTo>
                      <a:lnTo>
                        <a:pt x="1421" y="3629"/>
                      </a:lnTo>
                      <a:lnTo>
                        <a:pt x="1402" y="3640"/>
                      </a:lnTo>
                      <a:lnTo>
                        <a:pt x="1384" y="3656"/>
                      </a:lnTo>
                      <a:lnTo>
                        <a:pt x="1365" y="3669"/>
                      </a:lnTo>
                      <a:lnTo>
                        <a:pt x="1348" y="3684"/>
                      </a:lnTo>
                      <a:lnTo>
                        <a:pt x="1331" y="3698"/>
                      </a:lnTo>
                      <a:lnTo>
                        <a:pt x="1315" y="3711"/>
                      </a:lnTo>
                      <a:lnTo>
                        <a:pt x="1277" y="3749"/>
                      </a:lnTo>
                      <a:lnTo>
                        <a:pt x="1239" y="3788"/>
                      </a:lnTo>
                      <a:lnTo>
                        <a:pt x="1196" y="3820"/>
                      </a:lnTo>
                      <a:lnTo>
                        <a:pt x="1156" y="3855"/>
                      </a:lnTo>
                      <a:lnTo>
                        <a:pt x="1110" y="3886"/>
                      </a:lnTo>
                      <a:lnTo>
                        <a:pt x="1066" y="3918"/>
                      </a:lnTo>
                      <a:lnTo>
                        <a:pt x="1020" y="3949"/>
                      </a:lnTo>
                      <a:lnTo>
                        <a:pt x="980" y="3981"/>
                      </a:lnTo>
                      <a:lnTo>
                        <a:pt x="951" y="3995"/>
                      </a:lnTo>
                      <a:lnTo>
                        <a:pt x="922" y="4008"/>
                      </a:lnTo>
                      <a:lnTo>
                        <a:pt x="894" y="4018"/>
                      </a:lnTo>
                      <a:lnTo>
                        <a:pt x="865" y="4027"/>
                      </a:lnTo>
                      <a:lnTo>
                        <a:pt x="836" y="4031"/>
                      </a:lnTo>
                      <a:lnTo>
                        <a:pt x="807" y="4037"/>
                      </a:lnTo>
                      <a:lnTo>
                        <a:pt x="779" y="4041"/>
                      </a:lnTo>
                      <a:lnTo>
                        <a:pt x="750" y="4045"/>
                      </a:lnTo>
                      <a:close/>
                      <a:moveTo>
                        <a:pt x="1712" y="2609"/>
                      </a:moveTo>
                      <a:lnTo>
                        <a:pt x="1733" y="2605"/>
                      </a:lnTo>
                      <a:lnTo>
                        <a:pt x="1754" y="2595"/>
                      </a:lnTo>
                      <a:lnTo>
                        <a:pt x="1774" y="2584"/>
                      </a:lnTo>
                      <a:lnTo>
                        <a:pt x="1795" y="2571"/>
                      </a:lnTo>
                      <a:lnTo>
                        <a:pt x="1814" y="2557"/>
                      </a:lnTo>
                      <a:lnTo>
                        <a:pt x="1835" y="2548"/>
                      </a:lnTo>
                      <a:lnTo>
                        <a:pt x="1856" y="2544"/>
                      </a:lnTo>
                      <a:lnTo>
                        <a:pt x="1879" y="2546"/>
                      </a:lnTo>
                      <a:lnTo>
                        <a:pt x="1904" y="2557"/>
                      </a:lnTo>
                      <a:lnTo>
                        <a:pt x="1935" y="2563"/>
                      </a:lnTo>
                      <a:lnTo>
                        <a:pt x="1969" y="2567"/>
                      </a:lnTo>
                      <a:lnTo>
                        <a:pt x="2004" y="2571"/>
                      </a:lnTo>
                      <a:lnTo>
                        <a:pt x="2036" y="2572"/>
                      </a:lnTo>
                      <a:lnTo>
                        <a:pt x="2069" y="2578"/>
                      </a:lnTo>
                      <a:lnTo>
                        <a:pt x="2098" y="2588"/>
                      </a:lnTo>
                      <a:lnTo>
                        <a:pt x="2126" y="2607"/>
                      </a:lnTo>
                      <a:lnTo>
                        <a:pt x="2130" y="2590"/>
                      </a:lnTo>
                      <a:lnTo>
                        <a:pt x="2134" y="2580"/>
                      </a:lnTo>
                      <a:lnTo>
                        <a:pt x="2140" y="2569"/>
                      </a:lnTo>
                      <a:lnTo>
                        <a:pt x="2153" y="2553"/>
                      </a:lnTo>
                      <a:lnTo>
                        <a:pt x="2153" y="2517"/>
                      </a:lnTo>
                      <a:lnTo>
                        <a:pt x="2153" y="2479"/>
                      </a:lnTo>
                      <a:lnTo>
                        <a:pt x="2151" y="2440"/>
                      </a:lnTo>
                      <a:lnTo>
                        <a:pt x="2147" y="2402"/>
                      </a:lnTo>
                      <a:lnTo>
                        <a:pt x="2142" y="2362"/>
                      </a:lnTo>
                      <a:lnTo>
                        <a:pt x="2136" y="2325"/>
                      </a:lnTo>
                      <a:lnTo>
                        <a:pt x="2130" y="2287"/>
                      </a:lnTo>
                      <a:lnTo>
                        <a:pt x="2126" y="2254"/>
                      </a:lnTo>
                      <a:lnTo>
                        <a:pt x="2123" y="2254"/>
                      </a:lnTo>
                      <a:lnTo>
                        <a:pt x="2121" y="2254"/>
                      </a:lnTo>
                      <a:lnTo>
                        <a:pt x="2119" y="2262"/>
                      </a:lnTo>
                      <a:lnTo>
                        <a:pt x="2117" y="2277"/>
                      </a:lnTo>
                      <a:lnTo>
                        <a:pt x="2111" y="2289"/>
                      </a:lnTo>
                      <a:lnTo>
                        <a:pt x="2105" y="2296"/>
                      </a:lnTo>
                      <a:lnTo>
                        <a:pt x="2105" y="2285"/>
                      </a:lnTo>
                      <a:lnTo>
                        <a:pt x="2105" y="2277"/>
                      </a:lnTo>
                      <a:lnTo>
                        <a:pt x="2105" y="2271"/>
                      </a:lnTo>
                      <a:lnTo>
                        <a:pt x="2105" y="2268"/>
                      </a:lnTo>
                      <a:lnTo>
                        <a:pt x="2105" y="2258"/>
                      </a:lnTo>
                      <a:lnTo>
                        <a:pt x="2107" y="2250"/>
                      </a:lnTo>
                      <a:lnTo>
                        <a:pt x="2101" y="2260"/>
                      </a:lnTo>
                      <a:lnTo>
                        <a:pt x="2098" y="2273"/>
                      </a:lnTo>
                      <a:lnTo>
                        <a:pt x="2094" y="2287"/>
                      </a:lnTo>
                      <a:lnTo>
                        <a:pt x="2090" y="2304"/>
                      </a:lnTo>
                      <a:lnTo>
                        <a:pt x="2084" y="2317"/>
                      </a:lnTo>
                      <a:lnTo>
                        <a:pt x="2080" y="2333"/>
                      </a:lnTo>
                      <a:lnTo>
                        <a:pt x="2077" y="2342"/>
                      </a:lnTo>
                      <a:lnTo>
                        <a:pt x="2073" y="2352"/>
                      </a:lnTo>
                      <a:lnTo>
                        <a:pt x="2069" y="2348"/>
                      </a:lnTo>
                      <a:lnTo>
                        <a:pt x="2065" y="2348"/>
                      </a:lnTo>
                      <a:lnTo>
                        <a:pt x="2059" y="2329"/>
                      </a:lnTo>
                      <a:lnTo>
                        <a:pt x="2054" y="2310"/>
                      </a:lnTo>
                      <a:lnTo>
                        <a:pt x="2050" y="2291"/>
                      </a:lnTo>
                      <a:lnTo>
                        <a:pt x="2046" y="2271"/>
                      </a:lnTo>
                      <a:lnTo>
                        <a:pt x="2040" y="2271"/>
                      </a:lnTo>
                      <a:lnTo>
                        <a:pt x="2036" y="2271"/>
                      </a:lnTo>
                      <a:lnTo>
                        <a:pt x="2031" y="2283"/>
                      </a:lnTo>
                      <a:lnTo>
                        <a:pt x="2027" y="2296"/>
                      </a:lnTo>
                      <a:lnTo>
                        <a:pt x="2021" y="2306"/>
                      </a:lnTo>
                      <a:lnTo>
                        <a:pt x="2011" y="2317"/>
                      </a:lnTo>
                      <a:lnTo>
                        <a:pt x="2004" y="2302"/>
                      </a:lnTo>
                      <a:lnTo>
                        <a:pt x="2002" y="2289"/>
                      </a:lnTo>
                      <a:lnTo>
                        <a:pt x="2002" y="2275"/>
                      </a:lnTo>
                      <a:lnTo>
                        <a:pt x="2004" y="2262"/>
                      </a:lnTo>
                      <a:lnTo>
                        <a:pt x="1992" y="2264"/>
                      </a:lnTo>
                      <a:lnTo>
                        <a:pt x="1986" y="2271"/>
                      </a:lnTo>
                      <a:lnTo>
                        <a:pt x="1979" y="2283"/>
                      </a:lnTo>
                      <a:lnTo>
                        <a:pt x="1975" y="2294"/>
                      </a:lnTo>
                      <a:lnTo>
                        <a:pt x="1969" y="2306"/>
                      </a:lnTo>
                      <a:lnTo>
                        <a:pt x="1967" y="2319"/>
                      </a:lnTo>
                      <a:lnTo>
                        <a:pt x="1967" y="2331"/>
                      </a:lnTo>
                      <a:lnTo>
                        <a:pt x="1967" y="2344"/>
                      </a:lnTo>
                      <a:lnTo>
                        <a:pt x="1956" y="2358"/>
                      </a:lnTo>
                      <a:lnTo>
                        <a:pt x="1946" y="2375"/>
                      </a:lnTo>
                      <a:lnTo>
                        <a:pt x="1937" y="2392"/>
                      </a:lnTo>
                      <a:lnTo>
                        <a:pt x="1927" y="2413"/>
                      </a:lnTo>
                      <a:lnTo>
                        <a:pt x="1915" y="2431"/>
                      </a:lnTo>
                      <a:lnTo>
                        <a:pt x="1906" y="2450"/>
                      </a:lnTo>
                      <a:lnTo>
                        <a:pt x="1894" y="2465"/>
                      </a:lnTo>
                      <a:lnTo>
                        <a:pt x="1885" y="2479"/>
                      </a:lnTo>
                      <a:lnTo>
                        <a:pt x="1873" y="2473"/>
                      </a:lnTo>
                      <a:lnTo>
                        <a:pt x="1868" y="2471"/>
                      </a:lnTo>
                      <a:lnTo>
                        <a:pt x="1864" y="2463"/>
                      </a:lnTo>
                      <a:lnTo>
                        <a:pt x="1864" y="2457"/>
                      </a:lnTo>
                      <a:lnTo>
                        <a:pt x="1862" y="2459"/>
                      </a:lnTo>
                      <a:lnTo>
                        <a:pt x="1862" y="2461"/>
                      </a:lnTo>
                      <a:lnTo>
                        <a:pt x="1856" y="2473"/>
                      </a:lnTo>
                      <a:lnTo>
                        <a:pt x="1850" y="2486"/>
                      </a:lnTo>
                      <a:lnTo>
                        <a:pt x="1845" y="2498"/>
                      </a:lnTo>
                      <a:lnTo>
                        <a:pt x="1841" y="2511"/>
                      </a:lnTo>
                      <a:lnTo>
                        <a:pt x="1833" y="2521"/>
                      </a:lnTo>
                      <a:lnTo>
                        <a:pt x="1825" y="2532"/>
                      </a:lnTo>
                      <a:lnTo>
                        <a:pt x="1816" y="2542"/>
                      </a:lnTo>
                      <a:lnTo>
                        <a:pt x="1806" y="2553"/>
                      </a:lnTo>
                      <a:lnTo>
                        <a:pt x="1793" y="2544"/>
                      </a:lnTo>
                      <a:lnTo>
                        <a:pt x="1785" y="2528"/>
                      </a:lnTo>
                      <a:lnTo>
                        <a:pt x="1777" y="2507"/>
                      </a:lnTo>
                      <a:lnTo>
                        <a:pt x="1776" y="2482"/>
                      </a:lnTo>
                      <a:lnTo>
                        <a:pt x="1772" y="2455"/>
                      </a:lnTo>
                      <a:lnTo>
                        <a:pt x="1772" y="2431"/>
                      </a:lnTo>
                      <a:lnTo>
                        <a:pt x="1772" y="2409"/>
                      </a:lnTo>
                      <a:lnTo>
                        <a:pt x="1774" y="2396"/>
                      </a:lnTo>
                      <a:lnTo>
                        <a:pt x="1770" y="2396"/>
                      </a:lnTo>
                      <a:lnTo>
                        <a:pt x="1766" y="2396"/>
                      </a:lnTo>
                      <a:lnTo>
                        <a:pt x="1758" y="2406"/>
                      </a:lnTo>
                      <a:lnTo>
                        <a:pt x="1752" y="2417"/>
                      </a:lnTo>
                      <a:lnTo>
                        <a:pt x="1745" y="2429"/>
                      </a:lnTo>
                      <a:lnTo>
                        <a:pt x="1739" y="2440"/>
                      </a:lnTo>
                      <a:lnTo>
                        <a:pt x="1735" y="2436"/>
                      </a:lnTo>
                      <a:lnTo>
                        <a:pt x="1731" y="2436"/>
                      </a:lnTo>
                      <a:lnTo>
                        <a:pt x="1724" y="2423"/>
                      </a:lnTo>
                      <a:lnTo>
                        <a:pt x="1722" y="2409"/>
                      </a:lnTo>
                      <a:lnTo>
                        <a:pt x="1722" y="2394"/>
                      </a:lnTo>
                      <a:lnTo>
                        <a:pt x="1724" y="2383"/>
                      </a:lnTo>
                      <a:lnTo>
                        <a:pt x="1720" y="2385"/>
                      </a:lnTo>
                      <a:lnTo>
                        <a:pt x="1718" y="2386"/>
                      </a:lnTo>
                      <a:lnTo>
                        <a:pt x="1712" y="2396"/>
                      </a:lnTo>
                      <a:lnTo>
                        <a:pt x="1708" y="2408"/>
                      </a:lnTo>
                      <a:lnTo>
                        <a:pt x="1705" y="2417"/>
                      </a:lnTo>
                      <a:lnTo>
                        <a:pt x="1703" y="2429"/>
                      </a:lnTo>
                      <a:lnTo>
                        <a:pt x="1697" y="2429"/>
                      </a:lnTo>
                      <a:lnTo>
                        <a:pt x="1693" y="2429"/>
                      </a:lnTo>
                      <a:lnTo>
                        <a:pt x="1691" y="2417"/>
                      </a:lnTo>
                      <a:lnTo>
                        <a:pt x="1689" y="2406"/>
                      </a:lnTo>
                      <a:lnTo>
                        <a:pt x="1672" y="2400"/>
                      </a:lnTo>
                      <a:lnTo>
                        <a:pt x="1662" y="2392"/>
                      </a:lnTo>
                      <a:lnTo>
                        <a:pt x="1655" y="2381"/>
                      </a:lnTo>
                      <a:lnTo>
                        <a:pt x="1655" y="2369"/>
                      </a:lnTo>
                      <a:lnTo>
                        <a:pt x="1651" y="2354"/>
                      </a:lnTo>
                      <a:lnTo>
                        <a:pt x="1651" y="2339"/>
                      </a:lnTo>
                      <a:lnTo>
                        <a:pt x="1649" y="2323"/>
                      </a:lnTo>
                      <a:lnTo>
                        <a:pt x="1649" y="2312"/>
                      </a:lnTo>
                      <a:lnTo>
                        <a:pt x="1636" y="2308"/>
                      </a:lnTo>
                      <a:lnTo>
                        <a:pt x="1628" y="2304"/>
                      </a:lnTo>
                      <a:lnTo>
                        <a:pt x="1620" y="2300"/>
                      </a:lnTo>
                      <a:lnTo>
                        <a:pt x="1618" y="2296"/>
                      </a:lnTo>
                      <a:lnTo>
                        <a:pt x="1614" y="2289"/>
                      </a:lnTo>
                      <a:lnTo>
                        <a:pt x="1613" y="2279"/>
                      </a:lnTo>
                      <a:lnTo>
                        <a:pt x="1609" y="2268"/>
                      </a:lnTo>
                      <a:lnTo>
                        <a:pt x="1607" y="2256"/>
                      </a:lnTo>
                      <a:lnTo>
                        <a:pt x="1593" y="2262"/>
                      </a:lnTo>
                      <a:lnTo>
                        <a:pt x="1588" y="2273"/>
                      </a:lnTo>
                      <a:lnTo>
                        <a:pt x="1580" y="2283"/>
                      </a:lnTo>
                      <a:lnTo>
                        <a:pt x="1574" y="2296"/>
                      </a:lnTo>
                      <a:lnTo>
                        <a:pt x="1570" y="2296"/>
                      </a:lnTo>
                      <a:lnTo>
                        <a:pt x="1567" y="2296"/>
                      </a:lnTo>
                      <a:lnTo>
                        <a:pt x="1559" y="2285"/>
                      </a:lnTo>
                      <a:lnTo>
                        <a:pt x="1553" y="2281"/>
                      </a:lnTo>
                      <a:lnTo>
                        <a:pt x="1547" y="2312"/>
                      </a:lnTo>
                      <a:lnTo>
                        <a:pt x="1547" y="2342"/>
                      </a:lnTo>
                      <a:lnTo>
                        <a:pt x="1547" y="2373"/>
                      </a:lnTo>
                      <a:lnTo>
                        <a:pt x="1553" y="2406"/>
                      </a:lnTo>
                      <a:lnTo>
                        <a:pt x="1557" y="2436"/>
                      </a:lnTo>
                      <a:lnTo>
                        <a:pt x="1567" y="2471"/>
                      </a:lnTo>
                      <a:lnTo>
                        <a:pt x="1576" y="2503"/>
                      </a:lnTo>
                      <a:lnTo>
                        <a:pt x="1588" y="2538"/>
                      </a:lnTo>
                      <a:lnTo>
                        <a:pt x="1601" y="2538"/>
                      </a:lnTo>
                      <a:lnTo>
                        <a:pt x="1611" y="2542"/>
                      </a:lnTo>
                      <a:lnTo>
                        <a:pt x="1614" y="2546"/>
                      </a:lnTo>
                      <a:lnTo>
                        <a:pt x="1618" y="2551"/>
                      </a:lnTo>
                      <a:lnTo>
                        <a:pt x="1618" y="2557"/>
                      </a:lnTo>
                      <a:lnTo>
                        <a:pt x="1620" y="2567"/>
                      </a:lnTo>
                      <a:lnTo>
                        <a:pt x="1622" y="2578"/>
                      </a:lnTo>
                      <a:lnTo>
                        <a:pt x="1630" y="2590"/>
                      </a:lnTo>
                      <a:lnTo>
                        <a:pt x="1645" y="2588"/>
                      </a:lnTo>
                      <a:lnTo>
                        <a:pt x="1659" y="2588"/>
                      </a:lnTo>
                      <a:lnTo>
                        <a:pt x="1666" y="2588"/>
                      </a:lnTo>
                      <a:lnTo>
                        <a:pt x="1674" y="2590"/>
                      </a:lnTo>
                      <a:lnTo>
                        <a:pt x="1678" y="2592"/>
                      </a:lnTo>
                      <a:lnTo>
                        <a:pt x="1685" y="2595"/>
                      </a:lnTo>
                      <a:lnTo>
                        <a:pt x="1695" y="2601"/>
                      </a:lnTo>
                      <a:lnTo>
                        <a:pt x="1712" y="2609"/>
                      </a:lnTo>
                      <a:close/>
                      <a:moveTo>
                        <a:pt x="1476" y="2521"/>
                      </a:moveTo>
                      <a:lnTo>
                        <a:pt x="1476" y="2523"/>
                      </a:lnTo>
                      <a:lnTo>
                        <a:pt x="1478" y="2519"/>
                      </a:lnTo>
                      <a:lnTo>
                        <a:pt x="1469" y="2484"/>
                      </a:lnTo>
                      <a:lnTo>
                        <a:pt x="1463" y="2454"/>
                      </a:lnTo>
                      <a:lnTo>
                        <a:pt x="1457" y="2423"/>
                      </a:lnTo>
                      <a:lnTo>
                        <a:pt x="1451" y="2394"/>
                      </a:lnTo>
                      <a:lnTo>
                        <a:pt x="1444" y="2363"/>
                      </a:lnTo>
                      <a:lnTo>
                        <a:pt x="1438" y="2335"/>
                      </a:lnTo>
                      <a:lnTo>
                        <a:pt x="1428" y="2306"/>
                      </a:lnTo>
                      <a:lnTo>
                        <a:pt x="1419" y="2277"/>
                      </a:lnTo>
                      <a:lnTo>
                        <a:pt x="1415" y="2275"/>
                      </a:lnTo>
                      <a:lnTo>
                        <a:pt x="1413" y="2275"/>
                      </a:lnTo>
                      <a:lnTo>
                        <a:pt x="1407" y="2312"/>
                      </a:lnTo>
                      <a:lnTo>
                        <a:pt x="1404" y="2346"/>
                      </a:lnTo>
                      <a:lnTo>
                        <a:pt x="1402" y="2377"/>
                      </a:lnTo>
                      <a:lnTo>
                        <a:pt x="1407" y="2408"/>
                      </a:lnTo>
                      <a:lnTo>
                        <a:pt x="1415" y="2434"/>
                      </a:lnTo>
                      <a:lnTo>
                        <a:pt x="1428" y="2463"/>
                      </a:lnTo>
                      <a:lnTo>
                        <a:pt x="1448" y="2490"/>
                      </a:lnTo>
                      <a:lnTo>
                        <a:pt x="1476" y="2521"/>
                      </a:lnTo>
                      <a:close/>
                      <a:moveTo>
                        <a:pt x="2259" y="2641"/>
                      </a:moveTo>
                      <a:lnTo>
                        <a:pt x="2261" y="2641"/>
                      </a:lnTo>
                      <a:lnTo>
                        <a:pt x="2264" y="2641"/>
                      </a:lnTo>
                      <a:lnTo>
                        <a:pt x="2264" y="2628"/>
                      </a:lnTo>
                      <a:lnTo>
                        <a:pt x="2264" y="2617"/>
                      </a:lnTo>
                      <a:lnTo>
                        <a:pt x="2259" y="2617"/>
                      </a:lnTo>
                      <a:lnTo>
                        <a:pt x="2257" y="2617"/>
                      </a:lnTo>
                      <a:lnTo>
                        <a:pt x="2257" y="2630"/>
                      </a:lnTo>
                      <a:lnTo>
                        <a:pt x="2257" y="2638"/>
                      </a:lnTo>
                      <a:lnTo>
                        <a:pt x="2257" y="2640"/>
                      </a:lnTo>
                      <a:lnTo>
                        <a:pt x="2259" y="2641"/>
                      </a:lnTo>
                      <a:close/>
                      <a:moveTo>
                        <a:pt x="4205" y="1938"/>
                      </a:moveTo>
                      <a:lnTo>
                        <a:pt x="4210" y="1928"/>
                      </a:lnTo>
                      <a:lnTo>
                        <a:pt x="4218" y="1915"/>
                      </a:lnTo>
                      <a:lnTo>
                        <a:pt x="4222" y="1898"/>
                      </a:lnTo>
                      <a:lnTo>
                        <a:pt x="4226" y="1888"/>
                      </a:lnTo>
                      <a:lnTo>
                        <a:pt x="4218" y="1888"/>
                      </a:lnTo>
                      <a:lnTo>
                        <a:pt x="4205" y="1890"/>
                      </a:lnTo>
                      <a:lnTo>
                        <a:pt x="4205" y="1900"/>
                      </a:lnTo>
                      <a:lnTo>
                        <a:pt x="4205" y="1909"/>
                      </a:lnTo>
                      <a:lnTo>
                        <a:pt x="4205" y="1913"/>
                      </a:lnTo>
                      <a:lnTo>
                        <a:pt x="4205" y="1919"/>
                      </a:lnTo>
                      <a:lnTo>
                        <a:pt x="4205" y="1926"/>
                      </a:lnTo>
                      <a:lnTo>
                        <a:pt x="4205" y="1938"/>
                      </a:lnTo>
                      <a:close/>
                      <a:moveTo>
                        <a:pt x="4281" y="1800"/>
                      </a:moveTo>
                      <a:lnTo>
                        <a:pt x="4285" y="1800"/>
                      </a:lnTo>
                      <a:lnTo>
                        <a:pt x="4293" y="1800"/>
                      </a:lnTo>
                      <a:lnTo>
                        <a:pt x="4295" y="1788"/>
                      </a:lnTo>
                      <a:lnTo>
                        <a:pt x="4297" y="1781"/>
                      </a:lnTo>
                      <a:lnTo>
                        <a:pt x="4299" y="1771"/>
                      </a:lnTo>
                      <a:lnTo>
                        <a:pt x="4301" y="1763"/>
                      </a:lnTo>
                      <a:lnTo>
                        <a:pt x="4295" y="1763"/>
                      </a:lnTo>
                      <a:lnTo>
                        <a:pt x="4293" y="1763"/>
                      </a:lnTo>
                      <a:lnTo>
                        <a:pt x="4285" y="1773"/>
                      </a:lnTo>
                      <a:lnTo>
                        <a:pt x="4274" y="1785"/>
                      </a:lnTo>
                      <a:lnTo>
                        <a:pt x="4276" y="1792"/>
                      </a:lnTo>
                      <a:lnTo>
                        <a:pt x="4281" y="18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3" name=""/>
                <p:cNvGrpSpPr/>
                <p:nvPr/>
              </p:nvGrpSpPr>
              <p:grpSpPr>
                <a:xfrm>
                  <a:off x="3280680" y="3298320"/>
                  <a:ext cx="4173120" cy="3254400"/>
                  <a:chOff x="3280680" y="3298320"/>
                  <a:chExt cx="4173120" cy="3254400"/>
                </a:xfrm>
              </p:grpSpPr>
              <p:sp>
                <p:nvSpPr>
                  <p:cNvPr id="294" name=""/>
                  <p:cNvSpPr/>
                  <p:nvPr/>
                </p:nvSpPr>
                <p:spPr>
                  <a:xfrm flipH="1">
                    <a:off x="4508280" y="5352480"/>
                    <a:ext cx="2939040" cy="1200240"/>
                  </a:xfrm>
                  <a:custGeom>
                    <a:avLst/>
                    <a:gdLst/>
                    <a:ahLst/>
                    <a:rect l="l" t="t" r="r" b="b"/>
                    <a:pathLst>
                      <a:path w="4017" h="1482">
                        <a:moveTo>
                          <a:pt x="715" y="1482"/>
                        </a:moveTo>
                        <a:lnTo>
                          <a:pt x="681" y="1476"/>
                        </a:lnTo>
                        <a:lnTo>
                          <a:pt x="660" y="1469"/>
                        </a:lnTo>
                        <a:lnTo>
                          <a:pt x="646" y="1457"/>
                        </a:lnTo>
                        <a:lnTo>
                          <a:pt x="641" y="1446"/>
                        </a:lnTo>
                        <a:lnTo>
                          <a:pt x="633" y="1430"/>
                        </a:lnTo>
                        <a:lnTo>
                          <a:pt x="627" y="1415"/>
                        </a:lnTo>
                        <a:lnTo>
                          <a:pt x="616" y="1402"/>
                        </a:lnTo>
                        <a:lnTo>
                          <a:pt x="598" y="1392"/>
                        </a:lnTo>
                        <a:lnTo>
                          <a:pt x="568" y="1388"/>
                        </a:lnTo>
                        <a:lnTo>
                          <a:pt x="539" y="1390"/>
                        </a:lnTo>
                        <a:lnTo>
                          <a:pt x="510" y="1392"/>
                        </a:lnTo>
                        <a:lnTo>
                          <a:pt x="481" y="1396"/>
                        </a:lnTo>
                        <a:lnTo>
                          <a:pt x="453" y="1398"/>
                        </a:lnTo>
                        <a:lnTo>
                          <a:pt x="424" y="1400"/>
                        </a:lnTo>
                        <a:lnTo>
                          <a:pt x="397" y="1398"/>
                        </a:lnTo>
                        <a:lnTo>
                          <a:pt x="372" y="1394"/>
                        </a:lnTo>
                        <a:lnTo>
                          <a:pt x="326" y="1375"/>
                        </a:lnTo>
                        <a:lnTo>
                          <a:pt x="286" y="1363"/>
                        </a:lnTo>
                        <a:lnTo>
                          <a:pt x="253" y="1354"/>
                        </a:lnTo>
                        <a:lnTo>
                          <a:pt x="230" y="1344"/>
                        </a:lnTo>
                        <a:lnTo>
                          <a:pt x="213" y="1327"/>
                        </a:lnTo>
                        <a:lnTo>
                          <a:pt x="203" y="1302"/>
                        </a:lnTo>
                        <a:lnTo>
                          <a:pt x="200" y="1265"/>
                        </a:lnTo>
                        <a:lnTo>
                          <a:pt x="205" y="1212"/>
                        </a:lnTo>
                        <a:lnTo>
                          <a:pt x="194" y="1179"/>
                        </a:lnTo>
                        <a:lnTo>
                          <a:pt x="179" y="1160"/>
                        </a:lnTo>
                        <a:lnTo>
                          <a:pt x="159" y="1150"/>
                        </a:lnTo>
                        <a:lnTo>
                          <a:pt x="138" y="1150"/>
                        </a:lnTo>
                        <a:lnTo>
                          <a:pt x="113" y="1152"/>
                        </a:lnTo>
                        <a:lnTo>
                          <a:pt x="90" y="1158"/>
                        </a:lnTo>
                        <a:lnTo>
                          <a:pt x="67" y="1164"/>
                        </a:lnTo>
                        <a:lnTo>
                          <a:pt x="44" y="1170"/>
                        </a:lnTo>
                        <a:lnTo>
                          <a:pt x="37" y="1156"/>
                        </a:lnTo>
                        <a:lnTo>
                          <a:pt x="29" y="1131"/>
                        </a:lnTo>
                        <a:lnTo>
                          <a:pt x="21" y="1097"/>
                        </a:lnTo>
                        <a:lnTo>
                          <a:pt x="16" y="1060"/>
                        </a:lnTo>
                        <a:lnTo>
                          <a:pt x="10" y="1020"/>
                        </a:lnTo>
                        <a:lnTo>
                          <a:pt x="4" y="988"/>
                        </a:lnTo>
                        <a:lnTo>
                          <a:pt x="0" y="961"/>
                        </a:lnTo>
                        <a:lnTo>
                          <a:pt x="2" y="947"/>
                        </a:lnTo>
                        <a:lnTo>
                          <a:pt x="18" y="928"/>
                        </a:lnTo>
                        <a:lnTo>
                          <a:pt x="33" y="909"/>
                        </a:lnTo>
                        <a:lnTo>
                          <a:pt x="46" y="892"/>
                        </a:lnTo>
                        <a:lnTo>
                          <a:pt x="62" y="874"/>
                        </a:lnTo>
                        <a:lnTo>
                          <a:pt x="75" y="857"/>
                        </a:lnTo>
                        <a:lnTo>
                          <a:pt x="94" y="842"/>
                        </a:lnTo>
                        <a:lnTo>
                          <a:pt x="113" y="828"/>
                        </a:lnTo>
                        <a:lnTo>
                          <a:pt x="140" y="817"/>
                        </a:lnTo>
                        <a:lnTo>
                          <a:pt x="150" y="809"/>
                        </a:lnTo>
                        <a:lnTo>
                          <a:pt x="159" y="802"/>
                        </a:lnTo>
                        <a:lnTo>
                          <a:pt x="167" y="792"/>
                        </a:lnTo>
                        <a:lnTo>
                          <a:pt x="175" y="782"/>
                        </a:lnTo>
                        <a:lnTo>
                          <a:pt x="179" y="765"/>
                        </a:lnTo>
                        <a:lnTo>
                          <a:pt x="190" y="756"/>
                        </a:lnTo>
                        <a:lnTo>
                          <a:pt x="202" y="746"/>
                        </a:lnTo>
                        <a:lnTo>
                          <a:pt x="217" y="740"/>
                        </a:lnTo>
                        <a:lnTo>
                          <a:pt x="228" y="734"/>
                        </a:lnTo>
                        <a:lnTo>
                          <a:pt x="240" y="731"/>
                        </a:lnTo>
                        <a:lnTo>
                          <a:pt x="248" y="727"/>
                        </a:lnTo>
                        <a:lnTo>
                          <a:pt x="253" y="723"/>
                        </a:lnTo>
                        <a:lnTo>
                          <a:pt x="274" y="715"/>
                        </a:lnTo>
                        <a:lnTo>
                          <a:pt x="299" y="710"/>
                        </a:lnTo>
                        <a:lnTo>
                          <a:pt x="324" y="700"/>
                        </a:lnTo>
                        <a:lnTo>
                          <a:pt x="353" y="692"/>
                        </a:lnTo>
                        <a:lnTo>
                          <a:pt x="380" y="681"/>
                        </a:lnTo>
                        <a:lnTo>
                          <a:pt x="407" y="671"/>
                        </a:lnTo>
                        <a:lnTo>
                          <a:pt x="430" y="662"/>
                        </a:lnTo>
                        <a:lnTo>
                          <a:pt x="455" y="652"/>
                        </a:lnTo>
                        <a:lnTo>
                          <a:pt x="474" y="625"/>
                        </a:lnTo>
                        <a:lnTo>
                          <a:pt x="499" y="602"/>
                        </a:lnTo>
                        <a:lnTo>
                          <a:pt x="526" y="581"/>
                        </a:lnTo>
                        <a:lnTo>
                          <a:pt x="556" y="564"/>
                        </a:lnTo>
                        <a:lnTo>
                          <a:pt x="585" y="547"/>
                        </a:lnTo>
                        <a:lnTo>
                          <a:pt x="616" y="529"/>
                        </a:lnTo>
                        <a:lnTo>
                          <a:pt x="644" y="514"/>
                        </a:lnTo>
                        <a:lnTo>
                          <a:pt x="675" y="499"/>
                        </a:lnTo>
                        <a:lnTo>
                          <a:pt x="706" y="470"/>
                        </a:lnTo>
                        <a:lnTo>
                          <a:pt x="740" y="449"/>
                        </a:lnTo>
                        <a:lnTo>
                          <a:pt x="773" y="432"/>
                        </a:lnTo>
                        <a:lnTo>
                          <a:pt x="809" y="420"/>
                        </a:lnTo>
                        <a:lnTo>
                          <a:pt x="844" y="409"/>
                        </a:lnTo>
                        <a:lnTo>
                          <a:pt x="880" y="401"/>
                        </a:lnTo>
                        <a:lnTo>
                          <a:pt x="919" y="391"/>
                        </a:lnTo>
                        <a:lnTo>
                          <a:pt x="961" y="382"/>
                        </a:lnTo>
                        <a:lnTo>
                          <a:pt x="970" y="374"/>
                        </a:lnTo>
                        <a:lnTo>
                          <a:pt x="982" y="368"/>
                        </a:lnTo>
                        <a:lnTo>
                          <a:pt x="993" y="363"/>
                        </a:lnTo>
                        <a:lnTo>
                          <a:pt x="1005" y="357"/>
                        </a:lnTo>
                        <a:lnTo>
                          <a:pt x="1016" y="349"/>
                        </a:lnTo>
                        <a:lnTo>
                          <a:pt x="1028" y="343"/>
                        </a:lnTo>
                        <a:lnTo>
                          <a:pt x="1039" y="338"/>
                        </a:lnTo>
                        <a:lnTo>
                          <a:pt x="1051" y="332"/>
                        </a:lnTo>
                        <a:lnTo>
                          <a:pt x="1072" y="309"/>
                        </a:lnTo>
                        <a:lnTo>
                          <a:pt x="1095" y="284"/>
                        </a:lnTo>
                        <a:lnTo>
                          <a:pt x="1120" y="257"/>
                        </a:lnTo>
                        <a:lnTo>
                          <a:pt x="1149" y="230"/>
                        </a:lnTo>
                        <a:lnTo>
                          <a:pt x="1177" y="203"/>
                        </a:lnTo>
                        <a:lnTo>
                          <a:pt x="1208" y="182"/>
                        </a:lnTo>
                        <a:lnTo>
                          <a:pt x="1239" y="167"/>
                        </a:lnTo>
                        <a:lnTo>
                          <a:pt x="1271" y="157"/>
                        </a:lnTo>
                        <a:lnTo>
                          <a:pt x="1270" y="198"/>
                        </a:lnTo>
                        <a:lnTo>
                          <a:pt x="1287" y="228"/>
                        </a:lnTo>
                        <a:lnTo>
                          <a:pt x="1314" y="242"/>
                        </a:lnTo>
                        <a:lnTo>
                          <a:pt x="1350" y="244"/>
                        </a:lnTo>
                        <a:lnTo>
                          <a:pt x="1383" y="232"/>
                        </a:lnTo>
                        <a:lnTo>
                          <a:pt x="1413" y="211"/>
                        </a:lnTo>
                        <a:lnTo>
                          <a:pt x="1434" y="177"/>
                        </a:lnTo>
                        <a:lnTo>
                          <a:pt x="1442" y="134"/>
                        </a:lnTo>
                        <a:lnTo>
                          <a:pt x="1431" y="115"/>
                        </a:lnTo>
                        <a:lnTo>
                          <a:pt x="1431" y="98"/>
                        </a:lnTo>
                        <a:lnTo>
                          <a:pt x="1432" y="88"/>
                        </a:lnTo>
                        <a:lnTo>
                          <a:pt x="1438" y="83"/>
                        </a:lnTo>
                        <a:lnTo>
                          <a:pt x="1446" y="79"/>
                        </a:lnTo>
                        <a:lnTo>
                          <a:pt x="1459" y="79"/>
                        </a:lnTo>
                        <a:lnTo>
                          <a:pt x="1459" y="98"/>
                        </a:lnTo>
                        <a:lnTo>
                          <a:pt x="1459" y="113"/>
                        </a:lnTo>
                        <a:lnTo>
                          <a:pt x="1463" y="125"/>
                        </a:lnTo>
                        <a:lnTo>
                          <a:pt x="1471" y="138"/>
                        </a:lnTo>
                        <a:lnTo>
                          <a:pt x="1478" y="146"/>
                        </a:lnTo>
                        <a:lnTo>
                          <a:pt x="1492" y="156"/>
                        </a:lnTo>
                        <a:lnTo>
                          <a:pt x="1509" y="163"/>
                        </a:lnTo>
                        <a:lnTo>
                          <a:pt x="1534" y="175"/>
                        </a:lnTo>
                        <a:lnTo>
                          <a:pt x="1559" y="175"/>
                        </a:lnTo>
                        <a:lnTo>
                          <a:pt x="1584" y="171"/>
                        </a:lnTo>
                        <a:lnTo>
                          <a:pt x="1603" y="159"/>
                        </a:lnTo>
                        <a:lnTo>
                          <a:pt x="1620" y="146"/>
                        </a:lnTo>
                        <a:lnTo>
                          <a:pt x="1630" y="127"/>
                        </a:lnTo>
                        <a:lnTo>
                          <a:pt x="1634" y="106"/>
                        </a:lnTo>
                        <a:lnTo>
                          <a:pt x="1628" y="81"/>
                        </a:lnTo>
                        <a:lnTo>
                          <a:pt x="1618" y="58"/>
                        </a:lnTo>
                        <a:lnTo>
                          <a:pt x="1618" y="52"/>
                        </a:lnTo>
                        <a:lnTo>
                          <a:pt x="1622" y="48"/>
                        </a:lnTo>
                        <a:lnTo>
                          <a:pt x="1634" y="44"/>
                        </a:lnTo>
                        <a:lnTo>
                          <a:pt x="1647" y="46"/>
                        </a:lnTo>
                        <a:lnTo>
                          <a:pt x="1659" y="50"/>
                        </a:lnTo>
                        <a:lnTo>
                          <a:pt x="1670" y="56"/>
                        </a:lnTo>
                        <a:lnTo>
                          <a:pt x="1680" y="58"/>
                        </a:lnTo>
                        <a:lnTo>
                          <a:pt x="1693" y="62"/>
                        </a:lnTo>
                        <a:lnTo>
                          <a:pt x="1709" y="62"/>
                        </a:lnTo>
                        <a:lnTo>
                          <a:pt x="1730" y="58"/>
                        </a:lnTo>
                        <a:lnTo>
                          <a:pt x="1739" y="50"/>
                        </a:lnTo>
                        <a:lnTo>
                          <a:pt x="1755" y="42"/>
                        </a:lnTo>
                        <a:lnTo>
                          <a:pt x="1770" y="33"/>
                        </a:lnTo>
                        <a:lnTo>
                          <a:pt x="1787" y="23"/>
                        </a:lnTo>
                        <a:lnTo>
                          <a:pt x="1803" y="12"/>
                        </a:lnTo>
                        <a:lnTo>
                          <a:pt x="1820" y="6"/>
                        </a:lnTo>
                        <a:lnTo>
                          <a:pt x="1835" y="0"/>
                        </a:lnTo>
                        <a:lnTo>
                          <a:pt x="1850" y="0"/>
                        </a:lnTo>
                        <a:lnTo>
                          <a:pt x="1877" y="8"/>
                        </a:lnTo>
                        <a:lnTo>
                          <a:pt x="1910" y="16"/>
                        </a:lnTo>
                        <a:lnTo>
                          <a:pt x="1944" y="19"/>
                        </a:lnTo>
                        <a:lnTo>
                          <a:pt x="1983" y="25"/>
                        </a:lnTo>
                        <a:lnTo>
                          <a:pt x="2015" y="31"/>
                        </a:lnTo>
                        <a:lnTo>
                          <a:pt x="2048" y="39"/>
                        </a:lnTo>
                        <a:lnTo>
                          <a:pt x="2077" y="50"/>
                        </a:lnTo>
                        <a:lnTo>
                          <a:pt x="2104" y="67"/>
                        </a:lnTo>
                        <a:lnTo>
                          <a:pt x="2105" y="90"/>
                        </a:lnTo>
                        <a:lnTo>
                          <a:pt x="2113" y="117"/>
                        </a:lnTo>
                        <a:lnTo>
                          <a:pt x="2119" y="146"/>
                        </a:lnTo>
                        <a:lnTo>
                          <a:pt x="2128" y="175"/>
                        </a:lnTo>
                        <a:lnTo>
                          <a:pt x="2132" y="203"/>
                        </a:lnTo>
                        <a:lnTo>
                          <a:pt x="2136" y="232"/>
                        </a:lnTo>
                        <a:lnTo>
                          <a:pt x="2134" y="261"/>
                        </a:lnTo>
                        <a:lnTo>
                          <a:pt x="2127" y="290"/>
                        </a:lnTo>
                        <a:lnTo>
                          <a:pt x="2105" y="307"/>
                        </a:lnTo>
                        <a:lnTo>
                          <a:pt x="2090" y="324"/>
                        </a:lnTo>
                        <a:lnTo>
                          <a:pt x="2079" y="341"/>
                        </a:lnTo>
                        <a:lnTo>
                          <a:pt x="2073" y="359"/>
                        </a:lnTo>
                        <a:lnTo>
                          <a:pt x="2073" y="374"/>
                        </a:lnTo>
                        <a:lnTo>
                          <a:pt x="2081" y="391"/>
                        </a:lnTo>
                        <a:lnTo>
                          <a:pt x="2096" y="407"/>
                        </a:lnTo>
                        <a:lnTo>
                          <a:pt x="2121" y="424"/>
                        </a:lnTo>
                        <a:lnTo>
                          <a:pt x="2150" y="428"/>
                        </a:lnTo>
                        <a:lnTo>
                          <a:pt x="2176" y="434"/>
                        </a:lnTo>
                        <a:lnTo>
                          <a:pt x="2197" y="434"/>
                        </a:lnTo>
                        <a:lnTo>
                          <a:pt x="2217" y="432"/>
                        </a:lnTo>
                        <a:lnTo>
                          <a:pt x="2228" y="420"/>
                        </a:lnTo>
                        <a:lnTo>
                          <a:pt x="2242" y="405"/>
                        </a:lnTo>
                        <a:lnTo>
                          <a:pt x="2249" y="380"/>
                        </a:lnTo>
                        <a:lnTo>
                          <a:pt x="2259" y="349"/>
                        </a:lnTo>
                        <a:lnTo>
                          <a:pt x="2278" y="370"/>
                        </a:lnTo>
                        <a:lnTo>
                          <a:pt x="2297" y="389"/>
                        </a:lnTo>
                        <a:lnTo>
                          <a:pt x="2316" y="405"/>
                        </a:lnTo>
                        <a:lnTo>
                          <a:pt x="2337" y="414"/>
                        </a:lnTo>
                        <a:lnTo>
                          <a:pt x="2357" y="414"/>
                        </a:lnTo>
                        <a:lnTo>
                          <a:pt x="2378" y="409"/>
                        </a:lnTo>
                        <a:lnTo>
                          <a:pt x="2401" y="391"/>
                        </a:lnTo>
                        <a:lnTo>
                          <a:pt x="2426" y="368"/>
                        </a:lnTo>
                        <a:lnTo>
                          <a:pt x="2426" y="353"/>
                        </a:lnTo>
                        <a:lnTo>
                          <a:pt x="2422" y="340"/>
                        </a:lnTo>
                        <a:lnTo>
                          <a:pt x="2414" y="322"/>
                        </a:lnTo>
                        <a:lnTo>
                          <a:pt x="2406" y="305"/>
                        </a:lnTo>
                        <a:lnTo>
                          <a:pt x="2395" y="288"/>
                        </a:lnTo>
                        <a:lnTo>
                          <a:pt x="2385" y="274"/>
                        </a:lnTo>
                        <a:lnTo>
                          <a:pt x="2376" y="261"/>
                        </a:lnTo>
                        <a:lnTo>
                          <a:pt x="2370" y="255"/>
                        </a:lnTo>
                        <a:lnTo>
                          <a:pt x="2366" y="244"/>
                        </a:lnTo>
                        <a:lnTo>
                          <a:pt x="2362" y="232"/>
                        </a:lnTo>
                        <a:lnTo>
                          <a:pt x="2359" y="221"/>
                        </a:lnTo>
                        <a:lnTo>
                          <a:pt x="2357" y="209"/>
                        </a:lnTo>
                        <a:lnTo>
                          <a:pt x="2353" y="198"/>
                        </a:lnTo>
                        <a:lnTo>
                          <a:pt x="2351" y="186"/>
                        </a:lnTo>
                        <a:lnTo>
                          <a:pt x="2349" y="175"/>
                        </a:lnTo>
                        <a:lnTo>
                          <a:pt x="2349" y="167"/>
                        </a:lnTo>
                        <a:lnTo>
                          <a:pt x="2355" y="171"/>
                        </a:lnTo>
                        <a:lnTo>
                          <a:pt x="2370" y="182"/>
                        </a:lnTo>
                        <a:lnTo>
                          <a:pt x="2383" y="194"/>
                        </a:lnTo>
                        <a:lnTo>
                          <a:pt x="2399" y="207"/>
                        </a:lnTo>
                        <a:lnTo>
                          <a:pt x="2437" y="221"/>
                        </a:lnTo>
                        <a:lnTo>
                          <a:pt x="2475" y="240"/>
                        </a:lnTo>
                        <a:lnTo>
                          <a:pt x="2512" y="259"/>
                        </a:lnTo>
                        <a:lnTo>
                          <a:pt x="2550" y="284"/>
                        </a:lnTo>
                        <a:lnTo>
                          <a:pt x="2585" y="307"/>
                        </a:lnTo>
                        <a:lnTo>
                          <a:pt x="2623" y="332"/>
                        </a:lnTo>
                        <a:lnTo>
                          <a:pt x="2661" y="355"/>
                        </a:lnTo>
                        <a:lnTo>
                          <a:pt x="2702" y="380"/>
                        </a:lnTo>
                        <a:lnTo>
                          <a:pt x="2711" y="391"/>
                        </a:lnTo>
                        <a:lnTo>
                          <a:pt x="2719" y="407"/>
                        </a:lnTo>
                        <a:lnTo>
                          <a:pt x="2723" y="424"/>
                        </a:lnTo>
                        <a:lnTo>
                          <a:pt x="2729" y="441"/>
                        </a:lnTo>
                        <a:lnTo>
                          <a:pt x="2732" y="458"/>
                        </a:lnTo>
                        <a:lnTo>
                          <a:pt x="2742" y="476"/>
                        </a:lnTo>
                        <a:lnTo>
                          <a:pt x="2755" y="495"/>
                        </a:lnTo>
                        <a:lnTo>
                          <a:pt x="2778" y="514"/>
                        </a:lnTo>
                        <a:lnTo>
                          <a:pt x="2805" y="526"/>
                        </a:lnTo>
                        <a:lnTo>
                          <a:pt x="2828" y="539"/>
                        </a:lnTo>
                        <a:lnTo>
                          <a:pt x="2849" y="550"/>
                        </a:lnTo>
                        <a:lnTo>
                          <a:pt x="2869" y="564"/>
                        </a:lnTo>
                        <a:lnTo>
                          <a:pt x="2884" y="577"/>
                        </a:lnTo>
                        <a:lnTo>
                          <a:pt x="2901" y="598"/>
                        </a:lnTo>
                        <a:lnTo>
                          <a:pt x="2918" y="621"/>
                        </a:lnTo>
                        <a:lnTo>
                          <a:pt x="2938" y="650"/>
                        </a:lnTo>
                        <a:lnTo>
                          <a:pt x="2959" y="673"/>
                        </a:lnTo>
                        <a:lnTo>
                          <a:pt x="2985" y="694"/>
                        </a:lnTo>
                        <a:lnTo>
                          <a:pt x="3014" y="713"/>
                        </a:lnTo>
                        <a:lnTo>
                          <a:pt x="3043" y="733"/>
                        </a:lnTo>
                        <a:lnTo>
                          <a:pt x="3072" y="750"/>
                        </a:lnTo>
                        <a:lnTo>
                          <a:pt x="3101" y="769"/>
                        </a:lnTo>
                        <a:lnTo>
                          <a:pt x="3129" y="788"/>
                        </a:lnTo>
                        <a:lnTo>
                          <a:pt x="3160" y="813"/>
                        </a:lnTo>
                        <a:lnTo>
                          <a:pt x="3171" y="828"/>
                        </a:lnTo>
                        <a:lnTo>
                          <a:pt x="3185" y="846"/>
                        </a:lnTo>
                        <a:lnTo>
                          <a:pt x="3198" y="863"/>
                        </a:lnTo>
                        <a:lnTo>
                          <a:pt x="3214" y="880"/>
                        </a:lnTo>
                        <a:lnTo>
                          <a:pt x="3225" y="897"/>
                        </a:lnTo>
                        <a:lnTo>
                          <a:pt x="3240" y="915"/>
                        </a:lnTo>
                        <a:lnTo>
                          <a:pt x="3256" y="932"/>
                        </a:lnTo>
                        <a:lnTo>
                          <a:pt x="3273" y="949"/>
                        </a:lnTo>
                        <a:lnTo>
                          <a:pt x="3300" y="966"/>
                        </a:lnTo>
                        <a:lnTo>
                          <a:pt x="3333" y="984"/>
                        </a:lnTo>
                        <a:lnTo>
                          <a:pt x="3365" y="999"/>
                        </a:lnTo>
                        <a:lnTo>
                          <a:pt x="3400" y="1014"/>
                        </a:lnTo>
                        <a:lnTo>
                          <a:pt x="3432" y="1028"/>
                        </a:lnTo>
                        <a:lnTo>
                          <a:pt x="3467" y="1041"/>
                        </a:lnTo>
                        <a:lnTo>
                          <a:pt x="3501" y="1057"/>
                        </a:lnTo>
                        <a:lnTo>
                          <a:pt x="3536" y="1076"/>
                        </a:lnTo>
                        <a:lnTo>
                          <a:pt x="3559" y="1093"/>
                        </a:lnTo>
                        <a:lnTo>
                          <a:pt x="3582" y="1110"/>
                        </a:lnTo>
                        <a:lnTo>
                          <a:pt x="3605" y="1127"/>
                        </a:lnTo>
                        <a:lnTo>
                          <a:pt x="3630" y="1145"/>
                        </a:lnTo>
                        <a:lnTo>
                          <a:pt x="3653" y="1158"/>
                        </a:lnTo>
                        <a:lnTo>
                          <a:pt x="3680" y="1173"/>
                        </a:lnTo>
                        <a:lnTo>
                          <a:pt x="3706" y="1189"/>
                        </a:lnTo>
                        <a:lnTo>
                          <a:pt x="3737" y="1204"/>
                        </a:lnTo>
                        <a:lnTo>
                          <a:pt x="3768" y="1225"/>
                        </a:lnTo>
                        <a:lnTo>
                          <a:pt x="3800" y="1242"/>
                        </a:lnTo>
                        <a:lnTo>
                          <a:pt x="3831" y="1256"/>
                        </a:lnTo>
                        <a:lnTo>
                          <a:pt x="3864" y="1269"/>
                        </a:lnTo>
                        <a:lnTo>
                          <a:pt x="3894" y="1281"/>
                        </a:lnTo>
                        <a:lnTo>
                          <a:pt x="3929" y="1292"/>
                        </a:lnTo>
                        <a:lnTo>
                          <a:pt x="3963" y="1306"/>
                        </a:lnTo>
                        <a:lnTo>
                          <a:pt x="4004" y="1323"/>
                        </a:lnTo>
                        <a:lnTo>
                          <a:pt x="4017" y="1352"/>
                        </a:lnTo>
                        <a:lnTo>
                          <a:pt x="4002" y="1375"/>
                        </a:lnTo>
                        <a:lnTo>
                          <a:pt x="3965" y="1388"/>
                        </a:lnTo>
                        <a:lnTo>
                          <a:pt x="3915" y="1398"/>
                        </a:lnTo>
                        <a:lnTo>
                          <a:pt x="3858" y="1398"/>
                        </a:lnTo>
                        <a:lnTo>
                          <a:pt x="3806" y="1400"/>
                        </a:lnTo>
                        <a:lnTo>
                          <a:pt x="3764" y="1400"/>
                        </a:lnTo>
                        <a:lnTo>
                          <a:pt x="3745" y="1400"/>
                        </a:lnTo>
                        <a:lnTo>
                          <a:pt x="3720" y="1396"/>
                        </a:lnTo>
                        <a:lnTo>
                          <a:pt x="3695" y="1392"/>
                        </a:lnTo>
                        <a:lnTo>
                          <a:pt x="3672" y="1388"/>
                        </a:lnTo>
                        <a:lnTo>
                          <a:pt x="3649" y="1386"/>
                        </a:lnTo>
                        <a:lnTo>
                          <a:pt x="3624" y="1382"/>
                        </a:lnTo>
                        <a:lnTo>
                          <a:pt x="3601" y="1380"/>
                        </a:lnTo>
                        <a:lnTo>
                          <a:pt x="3578" y="1379"/>
                        </a:lnTo>
                        <a:lnTo>
                          <a:pt x="3557" y="1379"/>
                        </a:lnTo>
                        <a:lnTo>
                          <a:pt x="3530" y="1382"/>
                        </a:lnTo>
                        <a:lnTo>
                          <a:pt x="3509" y="1386"/>
                        </a:lnTo>
                        <a:lnTo>
                          <a:pt x="3492" y="1388"/>
                        </a:lnTo>
                        <a:lnTo>
                          <a:pt x="3480" y="1392"/>
                        </a:lnTo>
                        <a:lnTo>
                          <a:pt x="3467" y="1394"/>
                        </a:lnTo>
                        <a:lnTo>
                          <a:pt x="3459" y="1396"/>
                        </a:lnTo>
                        <a:lnTo>
                          <a:pt x="3453" y="1396"/>
                        </a:lnTo>
                        <a:lnTo>
                          <a:pt x="3451" y="1398"/>
                        </a:lnTo>
                        <a:lnTo>
                          <a:pt x="3449" y="1400"/>
                        </a:lnTo>
                        <a:lnTo>
                          <a:pt x="3449" y="1405"/>
                        </a:lnTo>
                        <a:lnTo>
                          <a:pt x="3434" y="1400"/>
                        </a:lnTo>
                        <a:lnTo>
                          <a:pt x="3423" y="1396"/>
                        </a:lnTo>
                        <a:lnTo>
                          <a:pt x="3409" y="1392"/>
                        </a:lnTo>
                        <a:lnTo>
                          <a:pt x="3398" y="1392"/>
                        </a:lnTo>
                        <a:lnTo>
                          <a:pt x="3350" y="1409"/>
                        </a:lnTo>
                        <a:lnTo>
                          <a:pt x="3300" y="1419"/>
                        </a:lnTo>
                        <a:lnTo>
                          <a:pt x="3248" y="1421"/>
                        </a:lnTo>
                        <a:lnTo>
                          <a:pt x="3196" y="1421"/>
                        </a:lnTo>
                        <a:lnTo>
                          <a:pt x="3141" y="1415"/>
                        </a:lnTo>
                        <a:lnTo>
                          <a:pt x="3089" y="1411"/>
                        </a:lnTo>
                        <a:lnTo>
                          <a:pt x="3037" y="1405"/>
                        </a:lnTo>
                        <a:lnTo>
                          <a:pt x="2989" y="1405"/>
                        </a:lnTo>
                        <a:lnTo>
                          <a:pt x="2953" y="1400"/>
                        </a:lnTo>
                        <a:lnTo>
                          <a:pt x="2920" y="1398"/>
                        </a:lnTo>
                        <a:lnTo>
                          <a:pt x="2888" y="1394"/>
                        </a:lnTo>
                        <a:lnTo>
                          <a:pt x="2857" y="1392"/>
                        </a:lnTo>
                        <a:lnTo>
                          <a:pt x="2824" y="1390"/>
                        </a:lnTo>
                        <a:lnTo>
                          <a:pt x="2792" y="1390"/>
                        </a:lnTo>
                        <a:lnTo>
                          <a:pt x="2757" y="1390"/>
                        </a:lnTo>
                        <a:lnTo>
                          <a:pt x="2725" y="1390"/>
                        </a:lnTo>
                        <a:lnTo>
                          <a:pt x="2698" y="1382"/>
                        </a:lnTo>
                        <a:lnTo>
                          <a:pt x="2661" y="1377"/>
                        </a:lnTo>
                        <a:lnTo>
                          <a:pt x="2615" y="1369"/>
                        </a:lnTo>
                        <a:lnTo>
                          <a:pt x="2571" y="1363"/>
                        </a:lnTo>
                        <a:lnTo>
                          <a:pt x="2527" y="1357"/>
                        </a:lnTo>
                        <a:lnTo>
                          <a:pt x="2491" y="1356"/>
                        </a:lnTo>
                        <a:lnTo>
                          <a:pt x="2464" y="1357"/>
                        </a:lnTo>
                        <a:lnTo>
                          <a:pt x="2456" y="1367"/>
                        </a:lnTo>
                        <a:lnTo>
                          <a:pt x="2464" y="1375"/>
                        </a:lnTo>
                        <a:lnTo>
                          <a:pt x="2479" y="1392"/>
                        </a:lnTo>
                        <a:lnTo>
                          <a:pt x="2491" y="1409"/>
                        </a:lnTo>
                        <a:lnTo>
                          <a:pt x="2491" y="1421"/>
                        </a:lnTo>
                        <a:lnTo>
                          <a:pt x="2449" y="1415"/>
                        </a:lnTo>
                        <a:lnTo>
                          <a:pt x="2406" y="1415"/>
                        </a:lnTo>
                        <a:lnTo>
                          <a:pt x="2366" y="1417"/>
                        </a:lnTo>
                        <a:lnTo>
                          <a:pt x="2326" y="1423"/>
                        </a:lnTo>
                        <a:lnTo>
                          <a:pt x="2286" y="1425"/>
                        </a:lnTo>
                        <a:lnTo>
                          <a:pt x="2245" y="1428"/>
                        </a:lnTo>
                        <a:lnTo>
                          <a:pt x="2205" y="1428"/>
                        </a:lnTo>
                        <a:lnTo>
                          <a:pt x="2165" y="1426"/>
                        </a:lnTo>
                        <a:lnTo>
                          <a:pt x="2142" y="1426"/>
                        </a:lnTo>
                        <a:lnTo>
                          <a:pt x="2119" y="1428"/>
                        </a:lnTo>
                        <a:lnTo>
                          <a:pt x="2096" y="1432"/>
                        </a:lnTo>
                        <a:lnTo>
                          <a:pt x="2075" y="1438"/>
                        </a:lnTo>
                        <a:lnTo>
                          <a:pt x="2054" y="1440"/>
                        </a:lnTo>
                        <a:lnTo>
                          <a:pt x="2035" y="1442"/>
                        </a:lnTo>
                        <a:lnTo>
                          <a:pt x="2013" y="1440"/>
                        </a:lnTo>
                        <a:lnTo>
                          <a:pt x="1996" y="1440"/>
                        </a:lnTo>
                        <a:lnTo>
                          <a:pt x="1975" y="1426"/>
                        </a:lnTo>
                        <a:lnTo>
                          <a:pt x="1954" y="1419"/>
                        </a:lnTo>
                        <a:lnTo>
                          <a:pt x="1931" y="1417"/>
                        </a:lnTo>
                        <a:lnTo>
                          <a:pt x="1910" y="1419"/>
                        </a:lnTo>
                        <a:lnTo>
                          <a:pt x="1887" y="1419"/>
                        </a:lnTo>
                        <a:lnTo>
                          <a:pt x="1866" y="1421"/>
                        </a:lnTo>
                        <a:lnTo>
                          <a:pt x="1845" y="1419"/>
                        </a:lnTo>
                        <a:lnTo>
                          <a:pt x="1824" y="1415"/>
                        </a:lnTo>
                        <a:lnTo>
                          <a:pt x="1785" y="1380"/>
                        </a:lnTo>
                        <a:lnTo>
                          <a:pt x="1747" y="1367"/>
                        </a:lnTo>
                        <a:lnTo>
                          <a:pt x="1707" y="1369"/>
                        </a:lnTo>
                        <a:lnTo>
                          <a:pt x="1672" y="1379"/>
                        </a:lnTo>
                        <a:lnTo>
                          <a:pt x="1636" y="1390"/>
                        </a:lnTo>
                        <a:lnTo>
                          <a:pt x="1605" y="1402"/>
                        </a:lnTo>
                        <a:lnTo>
                          <a:pt x="1576" y="1405"/>
                        </a:lnTo>
                        <a:lnTo>
                          <a:pt x="1553" y="1398"/>
                        </a:lnTo>
                        <a:lnTo>
                          <a:pt x="1549" y="1373"/>
                        </a:lnTo>
                        <a:lnTo>
                          <a:pt x="1546" y="1354"/>
                        </a:lnTo>
                        <a:lnTo>
                          <a:pt x="1540" y="1338"/>
                        </a:lnTo>
                        <a:lnTo>
                          <a:pt x="1534" y="1327"/>
                        </a:lnTo>
                        <a:lnTo>
                          <a:pt x="1525" y="1317"/>
                        </a:lnTo>
                        <a:lnTo>
                          <a:pt x="1513" y="1311"/>
                        </a:lnTo>
                        <a:lnTo>
                          <a:pt x="1496" y="1308"/>
                        </a:lnTo>
                        <a:lnTo>
                          <a:pt x="1477" y="1308"/>
                        </a:lnTo>
                        <a:lnTo>
                          <a:pt x="1477" y="1302"/>
                        </a:lnTo>
                        <a:lnTo>
                          <a:pt x="1478" y="1296"/>
                        </a:lnTo>
                        <a:lnTo>
                          <a:pt x="1482" y="1288"/>
                        </a:lnTo>
                        <a:lnTo>
                          <a:pt x="1490" y="1275"/>
                        </a:lnTo>
                        <a:lnTo>
                          <a:pt x="1507" y="1248"/>
                        </a:lnTo>
                        <a:lnTo>
                          <a:pt x="1534" y="1206"/>
                        </a:lnTo>
                        <a:lnTo>
                          <a:pt x="1567" y="1150"/>
                        </a:lnTo>
                        <a:lnTo>
                          <a:pt x="1599" y="1089"/>
                        </a:lnTo>
                        <a:lnTo>
                          <a:pt x="1628" y="1026"/>
                        </a:lnTo>
                        <a:lnTo>
                          <a:pt x="1653" y="970"/>
                        </a:lnTo>
                        <a:lnTo>
                          <a:pt x="1664" y="924"/>
                        </a:lnTo>
                        <a:lnTo>
                          <a:pt x="1664" y="899"/>
                        </a:lnTo>
                        <a:lnTo>
                          <a:pt x="1643" y="907"/>
                        </a:lnTo>
                        <a:lnTo>
                          <a:pt x="1620" y="924"/>
                        </a:lnTo>
                        <a:lnTo>
                          <a:pt x="1592" y="947"/>
                        </a:lnTo>
                        <a:lnTo>
                          <a:pt x="1565" y="976"/>
                        </a:lnTo>
                        <a:lnTo>
                          <a:pt x="1534" y="1003"/>
                        </a:lnTo>
                        <a:lnTo>
                          <a:pt x="1505" y="1030"/>
                        </a:lnTo>
                        <a:lnTo>
                          <a:pt x="1477" y="1051"/>
                        </a:lnTo>
                        <a:lnTo>
                          <a:pt x="1455" y="1068"/>
                        </a:lnTo>
                        <a:lnTo>
                          <a:pt x="1455" y="1060"/>
                        </a:lnTo>
                        <a:lnTo>
                          <a:pt x="1455" y="1055"/>
                        </a:lnTo>
                        <a:lnTo>
                          <a:pt x="1446" y="1051"/>
                        </a:lnTo>
                        <a:lnTo>
                          <a:pt x="1434" y="1055"/>
                        </a:lnTo>
                        <a:lnTo>
                          <a:pt x="1419" y="1060"/>
                        </a:lnTo>
                        <a:lnTo>
                          <a:pt x="1406" y="1070"/>
                        </a:lnTo>
                        <a:lnTo>
                          <a:pt x="1388" y="1078"/>
                        </a:lnTo>
                        <a:lnTo>
                          <a:pt x="1371" y="1087"/>
                        </a:lnTo>
                        <a:lnTo>
                          <a:pt x="1356" y="1095"/>
                        </a:lnTo>
                        <a:lnTo>
                          <a:pt x="1346" y="1101"/>
                        </a:lnTo>
                        <a:lnTo>
                          <a:pt x="1277" y="1166"/>
                        </a:lnTo>
                        <a:lnTo>
                          <a:pt x="1208" y="1231"/>
                        </a:lnTo>
                        <a:lnTo>
                          <a:pt x="1135" y="1294"/>
                        </a:lnTo>
                        <a:lnTo>
                          <a:pt x="1062" y="1354"/>
                        </a:lnTo>
                        <a:lnTo>
                          <a:pt x="982" y="1403"/>
                        </a:lnTo>
                        <a:lnTo>
                          <a:pt x="899" y="1444"/>
                        </a:lnTo>
                        <a:lnTo>
                          <a:pt x="809" y="1469"/>
                        </a:lnTo>
                        <a:lnTo>
                          <a:pt x="715" y="1482"/>
                        </a:lnTo>
                        <a:close/>
                      </a:path>
                    </a:pathLst>
                  </a:custGeom>
                  <a:solidFill>
                    <a:srgbClr val="99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 flipH="1">
                    <a:off x="4708440" y="5609160"/>
                    <a:ext cx="482760" cy="662400"/>
                  </a:xfrm>
                  <a:custGeom>
                    <a:avLst/>
                    <a:gdLst/>
                    <a:ahLst/>
                    <a:rect l="l" t="t" r="r" b="b"/>
                    <a:pathLst>
                      <a:path w="660" h="818">
                        <a:moveTo>
                          <a:pt x="537" y="818"/>
                        </a:moveTo>
                        <a:lnTo>
                          <a:pt x="516" y="801"/>
                        </a:lnTo>
                        <a:lnTo>
                          <a:pt x="499" y="787"/>
                        </a:lnTo>
                        <a:lnTo>
                          <a:pt x="482" y="774"/>
                        </a:lnTo>
                        <a:lnTo>
                          <a:pt x="466" y="763"/>
                        </a:lnTo>
                        <a:lnTo>
                          <a:pt x="449" y="751"/>
                        </a:lnTo>
                        <a:lnTo>
                          <a:pt x="432" y="740"/>
                        </a:lnTo>
                        <a:lnTo>
                          <a:pt x="412" y="728"/>
                        </a:lnTo>
                        <a:lnTo>
                          <a:pt x="395" y="720"/>
                        </a:lnTo>
                        <a:lnTo>
                          <a:pt x="340" y="697"/>
                        </a:lnTo>
                        <a:lnTo>
                          <a:pt x="294" y="678"/>
                        </a:lnTo>
                        <a:lnTo>
                          <a:pt x="253" y="657"/>
                        </a:lnTo>
                        <a:lnTo>
                          <a:pt x="219" y="636"/>
                        </a:lnTo>
                        <a:lnTo>
                          <a:pt x="186" y="609"/>
                        </a:lnTo>
                        <a:lnTo>
                          <a:pt x="156" y="578"/>
                        </a:lnTo>
                        <a:lnTo>
                          <a:pt x="123" y="542"/>
                        </a:lnTo>
                        <a:lnTo>
                          <a:pt x="90" y="500"/>
                        </a:lnTo>
                        <a:lnTo>
                          <a:pt x="67" y="481"/>
                        </a:lnTo>
                        <a:lnTo>
                          <a:pt x="52" y="467"/>
                        </a:lnTo>
                        <a:lnTo>
                          <a:pt x="39" y="456"/>
                        </a:lnTo>
                        <a:lnTo>
                          <a:pt x="31" y="450"/>
                        </a:lnTo>
                        <a:lnTo>
                          <a:pt x="16" y="439"/>
                        </a:lnTo>
                        <a:lnTo>
                          <a:pt x="0" y="429"/>
                        </a:lnTo>
                        <a:lnTo>
                          <a:pt x="4" y="408"/>
                        </a:lnTo>
                        <a:lnTo>
                          <a:pt x="14" y="387"/>
                        </a:lnTo>
                        <a:lnTo>
                          <a:pt x="25" y="364"/>
                        </a:lnTo>
                        <a:lnTo>
                          <a:pt x="42" y="345"/>
                        </a:lnTo>
                        <a:lnTo>
                          <a:pt x="60" y="324"/>
                        </a:lnTo>
                        <a:lnTo>
                          <a:pt x="77" y="304"/>
                        </a:lnTo>
                        <a:lnTo>
                          <a:pt x="92" y="287"/>
                        </a:lnTo>
                        <a:lnTo>
                          <a:pt x="108" y="272"/>
                        </a:lnTo>
                        <a:lnTo>
                          <a:pt x="146" y="249"/>
                        </a:lnTo>
                        <a:lnTo>
                          <a:pt x="182" y="226"/>
                        </a:lnTo>
                        <a:lnTo>
                          <a:pt x="211" y="201"/>
                        </a:lnTo>
                        <a:lnTo>
                          <a:pt x="242" y="176"/>
                        </a:lnTo>
                        <a:lnTo>
                          <a:pt x="267" y="147"/>
                        </a:lnTo>
                        <a:lnTo>
                          <a:pt x="294" y="118"/>
                        </a:lnTo>
                        <a:lnTo>
                          <a:pt x="320" y="88"/>
                        </a:lnTo>
                        <a:lnTo>
                          <a:pt x="353" y="57"/>
                        </a:lnTo>
                        <a:lnTo>
                          <a:pt x="359" y="42"/>
                        </a:lnTo>
                        <a:lnTo>
                          <a:pt x="365" y="28"/>
                        </a:lnTo>
                        <a:lnTo>
                          <a:pt x="370" y="15"/>
                        </a:lnTo>
                        <a:lnTo>
                          <a:pt x="376" y="1"/>
                        </a:lnTo>
                        <a:lnTo>
                          <a:pt x="380" y="0"/>
                        </a:lnTo>
                        <a:lnTo>
                          <a:pt x="384" y="0"/>
                        </a:lnTo>
                        <a:lnTo>
                          <a:pt x="388" y="17"/>
                        </a:lnTo>
                        <a:lnTo>
                          <a:pt x="393" y="36"/>
                        </a:lnTo>
                        <a:lnTo>
                          <a:pt x="397" y="57"/>
                        </a:lnTo>
                        <a:lnTo>
                          <a:pt x="401" y="80"/>
                        </a:lnTo>
                        <a:lnTo>
                          <a:pt x="401" y="101"/>
                        </a:lnTo>
                        <a:lnTo>
                          <a:pt x="401" y="124"/>
                        </a:lnTo>
                        <a:lnTo>
                          <a:pt x="399" y="147"/>
                        </a:lnTo>
                        <a:lnTo>
                          <a:pt x="397" y="170"/>
                        </a:lnTo>
                        <a:lnTo>
                          <a:pt x="384" y="201"/>
                        </a:lnTo>
                        <a:lnTo>
                          <a:pt x="378" y="235"/>
                        </a:lnTo>
                        <a:lnTo>
                          <a:pt x="378" y="270"/>
                        </a:lnTo>
                        <a:lnTo>
                          <a:pt x="384" y="304"/>
                        </a:lnTo>
                        <a:lnTo>
                          <a:pt x="393" y="337"/>
                        </a:lnTo>
                        <a:lnTo>
                          <a:pt x="411" y="370"/>
                        </a:lnTo>
                        <a:lnTo>
                          <a:pt x="432" y="398"/>
                        </a:lnTo>
                        <a:lnTo>
                          <a:pt x="457" y="429"/>
                        </a:lnTo>
                        <a:lnTo>
                          <a:pt x="472" y="439"/>
                        </a:lnTo>
                        <a:lnTo>
                          <a:pt x="487" y="450"/>
                        </a:lnTo>
                        <a:lnTo>
                          <a:pt x="503" y="462"/>
                        </a:lnTo>
                        <a:lnTo>
                          <a:pt x="518" y="475"/>
                        </a:lnTo>
                        <a:lnTo>
                          <a:pt x="531" y="486"/>
                        </a:lnTo>
                        <a:lnTo>
                          <a:pt x="547" y="502"/>
                        </a:lnTo>
                        <a:lnTo>
                          <a:pt x="560" y="517"/>
                        </a:lnTo>
                        <a:lnTo>
                          <a:pt x="577" y="536"/>
                        </a:lnTo>
                        <a:lnTo>
                          <a:pt x="579" y="554"/>
                        </a:lnTo>
                        <a:lnTo>
                          <a:pt x="579" y="569"/>
                        </a:lnTo>
                        <a:lnTo>
                          <a:pt x="572" y="578"/>
                        </a:lnTo>
                        <a:lnTo>
                          <a:pt x="564" y="590"/>
                        </a:lnTo>
                        <a:lnTo>
                          <a:pt x="552" y="598"/>
                        </a:lnTo>
                        <a:lnTo>
                          <a:pt x="543" y="607"/>
                        </a:lnTo>
                        <a:lnTo>
                          <a:pt x="535" y="617"/>
                        </a:lnTo>
                        <a:lnTo>
                          <a:pt x="533" y="630"/>
                        </a:lnTo>
                        <a:lnTo>
                          <a:pt x="545" y="640"/>
                        </a:lnTo>
                        <a:lnTo>
                          <a:pt x="562" y="653"/>
                        </a:lnTo>
                        <a:lnTo>
                          <a:pt x="583" y="665"/>
                        </a:lnTo>
                        <a:lnTo>
                          <a:pt x="608" y="682"/>
                        </a:lnTo>
                        <a:lnTo>
                          <a:pt x="627" y="697"/>
                        </a:lnTo>
                        <a:lnTo>
                          <a:pt x="644" y="715"/>
                        </a:lnTo>
                        <a:lnTo>
                          <a:pt x="656" y="734"/>
                        </a:lnTo>
                        <a:lnTo>
                          <a:pt x="660" y="755"/>
                        </a:lnTo>
                        <a:lnTo>
                          <a:pt x="648" y="759"/>
                        </a:lnTo>
                        <a:lnTo>
                          <a:pt x="633" y="766"/>
                        </a:lnTo>
                        <a:lnTo>
                          <a:pt x="616" y="774"/>
                        </a:lnTo>
                        <a:lnTo>
                          <a:pt x="598" y="784"/>
                        </a:lnTo>
                        <a:lnTo>
                          <a:pt x="579" y="791"/>
                        </a:lnTo>
                        <a:lnTo>
                          <a:pt x="564" y="801"/>
                        </a:lnTo>
                        <a:lnTo>
                          <a:pt x="551" y="805"/>
                        </a:lnTo>
                        <a:lnTo>
                          <a:pt x="543" y="807"/>
                        </a:lnTo>
                        <a:lnTo>
                          <a:pt x="539" y="812"/>
                        </a:lnTo>
                        <a:lnTo>
                          <a:pt x="537" y="818"/>
                        </a:lnTo>
                        <a:close/>
                      </a:path>
                    </a:pathLst>
                  </a:cu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 flipH="1">
                    <a:off x="3280680" y="4978080"/>
                    <a:ext cx="2223360" cy="1243800"/>
                  </a:xfrm>
                  <a:custGeom>
                    <a:avLst/>
                    <a:gdLst/>
                    <a:ahLst/>
                    <a:rect l="l" t="t" r="r" b="b"/>
                    <a:pathLst>
                      <a:path w="3039" h="1536">
                        <a:moveTo>
                          <a:pt x="1121" y="1536"/>
                        </a:moveTo>
                        <a:lnTo>
                          <a:pt x="1110" y="1536"/>
                        </a:lnTo>
                        <a:lnTo>
                          <a:pt x="1100" y="1536"/>
                        </a:lnTo>
                        <a:lnTo>
                          <a:pt x="1098" y="1526"/>
                        </a:lnTo>
                        <a:lnTo>
                          <a:pt x="1098" y="1517"/>
                        </a:lnTo>
                        <a:lnTo>
                          <a:pt x="1093" y="1517"/>
                        </a:lnTo>
                        <a:lnTo>
                          <a:pt x="1089" y="1517"/>
                        </a:lnTo>
                        <a:lnTo>
                          <a:pt x="1079" y="1497"/>
                        </a:lnTo>
                        <a:lnTo>
                          <a:pt x="1066" y="1480"/>
                        </a:lnTo>
                        <a:lnTo>
                          <a:pt x="1047" y="1463"/>
                        </a:lnTo>
                        <a:lnTo>
                          <a:pt x="1027" y="1451"/>
                        </a:lnTo>
                        <a:lnTo>
                          <a:pt x="1004" y="1436"/>
                        </a:lnTo>
                        <a:lnTo>
                          <a:pt x="987" y="1425"/>
                        </a:lnTo>
                        <a:lnTo>
                          <a:pt x="974" y="1413"/>
                        </a:lnTo>
                        <a:lnTo>
                          <a:pt x="970" y="1403"/>
                        </a:lnTo>
                        <a:lnTo>
                          <a:pt x="989" y="1382"/>
                        </a:lnTo>
                        <a:lnTo>
                          <a:pt x="1006" y="1363"/>
                        </a:lnTo>
                        <a:lnTo>
                          <a:pt x="1010" y="1350"/>
                        </a:lnTo>
                        <a:lnTo>
                          <a:pt x="1014" y="1338"/>
                        </a:lnTo>
                        <a:lnTo>
                          <a:pt x="1012" y="1325"/>
                        </a:lnTo>
                        <a:lnTo>
                          <a:pt x="1010" y="1313"/>
                        </a:lnTo>
                        <a:lnTo>
                          <a:pt x="970" y="1273"/>
                        </a:lnTo>
                        <a:lnTo>
                          <a:pt x="928" y="1235"/>
                        </a:lnTo>
                        <a:lnTo>
                          <a:pt x="887" y="1193"/>
                        </a:lnTo>
                        <a:lnTo>
                          <a:pt x="853" y="1152"/>
                        </a:lnTo>
                        <a:lnTo>
                          <a:pt x="824" y="1106"/>
                        </a:lnTo>
                        <a:lnTo>
                          <a:pt x="809" y="1060"/>
                        </a:lnTo>
                        <a:lnTo>
                          <a:pt x="809" y="1009"/>
                        </a:lnTo>
                        <a:lnTo>
                          <a:pt x="830" y="953"/>
                        </a:lnTo>
                        <a:lnTo>
                          <a:pt x="832" y="930"/>
                        </a:lnTo>
                        <a:lnTo>
                          <a:pt x="834" y="903"/>
                        </a:lnTo>
                        <a:lnTo>
                          <a:pt x="832" y="872"/>
                        </a:lnTo>
                        <a:lnTo>
                          <a:pt x="832" y="844"/>
                        </a:lnTo>
                        <a:lnTo>
                          <a:pt x="826" y="815"/>
                        </a:lnTo>
                        <a:lnTo>
                          <a:pt x="818" y="788"/>
                        </a:lnTo>
                        <a:lnTo>
                          <a:pt x="807" y="767"/>
                        </a:lnTo>
                        <a:lnTo>
                          <a:pt x="795" y="752"/>
                        </a:lnTo>
                        <a:lnTo>
                          <a:pt x="792" y="754"/>
                        </a:lnTo>
                        <a:lnTo>
                          <a:pt x="790" y="761"/>
                        </a:lnTo>
                        <a:lnTo>
                          <a:pt x="786" y="773"/>
                        </a:lnTo>
                        <a:lnTo>
                          <a:pt x="784" y="790"/>
                        </a:lnTo>
                        <a:lnTo>
                          <a:pt x="780" y="803"/>
                        </a:lnTo>
                        <a:lnTo>
                          <a:pt x="776" y="819"/>
                        </a:lnTo>
                        <a:lnTo>
                          <a:pt x="772" y="830"/>
                        </a:lnTo>
                        <a:lnTo>
                          <a:pt x="769" y="842"/>
                        </a:lnTo>
                        <a:lnTo>
                          <a:pt x="740" y="865"/>
                        </a:lnTo>
                        <a:lnTo>
                          <a:pt x="717" y="890"/>
                        </a:lnTo>
                        <a:lnTo>
                          <a:pt x="696" y="913"/>
                        </a:lnTo>
                        <a:lnTo>
                          <a:pt x="677" y="940"/>
                        </a:lnTo>
                        <a:lnTo>
                          <a:pt x="654" y="961"/>
                        </a:lnTo>
                        <a:lnTo>
                          <a:pt x="631" y="984"/>
                        </a:lnTo>
                        <a:lnTo>
                          <a:pt x="604" y="1005"/>
                        </a:lnTo>
                        <a:lnTo>
                          <a:pt x="573" y="1024"/>
                        </a:lnTo>
                        <a:lnTo>
                          <a:pt x="552" y="1032"/>
                        </a:lnTo>
                        <a:lnTo>
                          <a:pt x="537" y="1041"/>
                        </a:lnTo>
                        <a:lnTo>
                          <a:pt x="519" y="1053"/>
                        </a:lnTo>
                        <a:lnTo>
                          <a:pt x="508" y="1066"/>
                        </a:lnTo>
                        <a:lnTo>
                          <a:pt x="494" y="1078"/>
                        </a:lnTo>
                        <a:lnTo>
                          <a:pt x="483" y="1093"/>
                        </a:lnTo>
                        <a:lnTo>
                          <a:pt x="473" y="1108"/>
                        </a:lnTo>
                        <a:lnTo>
                          <a:pt x="464" y="1127"/>
                        </a:lnTo>
                        <a:lnTo>
                          <a:pt x="441" y="1150"/>
                        </a:lnTo>
                        <a:lnTo>
                          <a:pt x="427" y="1170"/>
                        </a:lnTo>
                        <a:lnTo>
                          <a:pt x="418" y="1185"/>
                        </a:lnTo>
                        <a:lnTo>
                          <a:pt x="412" y="1195"/>
                        </a:lnTo>
                        <a:lnTo>
                          <a:pt x="402" y="1195"/>
                        </a:lnTo>
                        <a:lnTo>
                          <a:pt x="389" y="1189"/>
                        </a:lnTo>
                        <a:lnTo>
                          <a:pt x="364" y="1173"/>
                        </a:lnTo>
                        <a:lnTo>
                          <a:pt x="331" y="1150"/>
                        </a:lnTo>
                        <a:lnTo>
                          <a:pt x="308" y="1122"/>
                        </a:lnTo>
                        <a:lnTo>
                          <a:pt x="285" y="1095"/>
                        </a:lnTo>
                        <a:lnTo>
                          <a:pt x="262" y="1066"/>
                        </a:lnTo>
                        <a:lnTo>
                          <a:pt x="239" y="1043"/>
                        </a:lnTo>
                        <a:lnTo>
                          <a:pt x="211" y="1018"/>
                        </a:lnTo>
                        <a:lnTo>
                          <a:pt x="184" y="999"/>
                        </a:lnTo>
                        <a:lnTo>
                          <a:pt x="155" y="982"/>
                        </a:lnTo>
                        <a:lnTo>
                          <a:pt x="124" y="970"/>
                        </a:lnTo>
                        <a:lnTo>
                          <a:pt x="105" y="953"/>
                        </a:lnTo>
                        <a:lnTo>
                          <a:pt x="94" y="940"/>
                        </a:lnTo>
                        <a:lnTo>
                          <a:pt x="84" y="926"/>
                        </a:lnTo>
                        <a:lnTo>
                          <a:pt x="80" y="913"/>
                        </a:lnTo>
                        <a:lnTo>
                          <a:pt x="76" y="897"/>
                        </a:lnTo>
                        <a:lnTo>
                          <a:pt x="74" y="884"/>
                        </a:lnTo>
                        <a:lnTo>
                          <a:pt x="71" y="867"/>
                        </a:lnTo>
                        <a:lnTo>
                          <a:pt x="67" y="849"/>
                        </a:lnTo>
                        <a:lnTo>
                          <a:pt x="55" y="842"/>
                        </a:lnTo>
                        <a:lnTo>
                          <a:pt x="46" y="836"/>
                        </a:lnTo>
                        <a:lnTo>
                          <a:pt x="36" y="828"/>
                        </a:lnTo>
                        <a:lnTo>
                          <a:pt x="27" y="823"/>
                        </a:lnTo>
                        <a:lnTo>
                          <a:pt x="7" y="809"/>
                        </a:lnTo>
                        <a:lnTo>
                          <a:pt x="0" y="803"/>
                        </a:lnTo>
                        <a:lnTo>
                          <a:pt x="17" y="798"/>
                        </a:lnTo>
                        <a:lnTo>
                          <a:pt x="34" y="794"/>
                        </a:lnTo>
                        <a:lnTo>
                          <a:pt x="51" y="790"/>
                        </a:lnTo>
                        <a:lnTo>
                          <a:pt x="69" y="788"/>
                        </a:lnTo>
                        <a:lnTo>
                          <a:pt x="86" y="782"/>
                        </a:lnTo>
                        <a:lnTo>
                          <a:pt x="103" y="779"/>
                        </a:lnTo>
                        <a:lnTo>
                          <a:pt x="121" y="773"/>
                        </a:lnTo>
                        <a:lnTo>
                          <a:pt x="140" y="767"/>
                        </a:lnTo>
                        <a:lnTo>
                          <a:pt x="218" y="723"/>
                        </a:lnTo>
                        <a:lnTo>
                          <a:pt x="297" y="679"/>
                        </a:lnTo>
                        <a:lnTo>
                          <a:pt x="374" y="633"/>
                        </a:lnTo>
                        <a:lnTo>
                          <a:pt x="452" y="587"/>
                        </a:lnTo>
                        <a:lnTo>
                          <a:pt x="529" y="537"/>
                        </a:lnTo>
                        <a:lnTo>
                          <a:pt x="606" y="489"/>
                        </a:lnTo>
                        <a:lnTo>
                          <a:pt x="682" y="439"/>
                        </a:lnTo>
                        <a:lnTo>
                          <a:pt x="759" y="391"/>
                        </a:lnTo>
                        <a:lnTo>
                          <a:pt x="809" y="349"/>
                        </a:lnTo>
                        <a:lnTo>
                          <a:pt x="859" y="307"/>
                        </a:lnTo>
                        <a:lnTo>
                          <a:pt x="907" y="263"/>
                        </a:lnTo>
                        <a:lnTo>
                          <a:pt x="955" y="221"/>
                        </a:lnTo>
                        <a:lnTo>
                          <a:pt x="1001" y="179"/>
                        </a:lnTo>
                        <a:lnTo>
                          <a:pt x="1052" y="138"/>
                        </a:lnTo>
                        <a:lnTo>
                          <a:pt x="1104" y="98"/>
                        </a:lnTo>
                        <a:lnTo>
                          <a:pt x="1162" y="65"/>
                        </a:lnTo>
                        <a:lnTo>
                          <a:pt x="1173" y="52"/>
                        </a:lnTo>
                        <a:lnTo>
                          <a:pt x="1192" y="37"/>
                        </a:lnTo>
                        <a:lnTo>
                          <a:pt x="1211" y="21"/>
                        </a:lnTo>
                        <a:lnTo>
                          <a:pt x="1227" y="14"/>
                        </a:lnTo>
                        <a:lnTo>
                          <a:pt x="1238" y="37"/>
                        </a:lnTo>
                        <a:lnTo>
                          <a:pt x="1256" y="48"/>
                        </a:lnTo>
                        <a:lnTo>
                          <a:pt x="1277" y="48"/>
                        </a:lnTo>
                        <a:lnTo>
                          <a:pt x="1300" y="42"/>
                        </a:lnTo>
                        <a:lnTo>
                          <a:pt x="1321" y="31"/>
                        </a:lnTo>
                        <a:lnTo>
                          <a:pt x="1342" y="21"/>
                        </a:lnTo>
                        <a:lnTo>
                          <a:pt x="1357" y="12"/>
                        </a:lnTo>
                        <a:lnTo>
                          <a:pt x="1369" y="12"/>
                        </a:lnTo>
                        <a:lnTo>
                          <a:pt x="1378" y="18"/>
                        </a:lnTo>
                        <a:lnTo>
                          <a:pt x="1390" y="14"/>
                        </a:lnTo>
                        <a:lnTo>
                          <a:pt x="1399" y="6"/>
                        </a:lnTo>
                        <a:lnTo>
                          <a:pt x="1411" y="0"/>
                        </a:lnTo>
                        <a:lnTo>
                          <a:pt x="1415" y="12"/>
                        </a:lnTo>
                        <a:lnTo>
                          <a:pt x="1424" y="25"/>
                        </a:lnTo>
                        <a:lnTo>
                          <a:pt x="1428" y="25"/>
                        </a:lnTo>
                        <a:lnTo>
                          <a:pt x="1434" y="25"/>
                        </a:lnTo>
                        <a:lnTo>
                          <a:pt x="1443" y="39"/>
                        </a:lnTo>
                        <a:lnTo>
                          <a:pt x="1457" y="50"/>
                        </a:lnTo>
                        <a:lnTo>
                          <a:pt x="1472" y="58"/>
                        </a:lnTo>
                        <a:lnTo>
                          <a:pt x="1489" y="64"/>
                        </a:lnTo>
                        <a:lnTo>
                          <a:pt x="1505" y="64"/>
                        </a:lnTo>
                        <a:lnTo>
                          <a:pt x="1522" y="62"/>
                        </a:lnTo>
                        <a:lnTo>
                          <a:pt x="1539" y="54"/>
                        </a:lnTo>
                        <a:lnTo>
                          <a:pt x="1557" y="42"/>
                        </a:lnTo>
                        <a:lnTo>
                          <a:pt x="1583" y="48"/>
                        </a:lnTo>
                        <a:lnTo>
                          <a:pt x="1610" y="56"/>
                        </a:lnTo>
                        <a:lnTo>
                          <a:pt x="1637" y="64"/>
                        </a:lnTo>
                        <a:lnTo>
                          <a:pt x="1666" y="73"/>
                        </a:lnTo>
                        <a:lnTo>
                          <a:pt x="1693" y="77"/>
                        </a:lnTo>
                        <a:lnTo>
                          <a:pt x="1721" y="83"/>
                        </a:lnTo>
                        <a:lnTo>
                          <a:pt x="1752" y="83"/>
                        </a:lnTo>
                        <a:lnTo>
                          <a:pt x="1789" y="83"/>
                        </a:lnTo>
                        <a:lnTo>
                          <a:pt x="1810" y="115"/>
                        </a:lnTo>
                        <a:lnTo>
                          <a:pt x="1833" y="150"/>
                        </a:lnTo>
                        <a:lnTo>
                          <a:pt x="1856" y="186"/>
                        </a:lnTo>
                        <a:lnTo>
                          <a:pt x="1879" y="223"/>
                        </a:lnTo>
                        <a:lnTo>
                          <a:pt x="1902" y="257"/>
                        </a:lnTo>
                        <a:lnTo>
                          <a:pt x="1929" y="292"/>
                        </a:lnTo>
                        <a:lnTo>
                          <a:pt x="1957" y="324"/>
                        </a:lnTo>
                        <a:lnTo>
                          <a:pt x="1992" y="357"/>
                        </a:lnTo>
                        <a:lnTo>
                          <a:pt x="2045" y="391"/>
                        </a:lnTo>
                        <a:lnTo>
                          <a:pt x="2103" y="428"/>
                        </a:lnTo>
                        <a:lnTo>
                          <a:pt x="2161" y="466"/>
                        </a:lnTo>
                        <a:lnTo>
                          <a:pt x="2218" y="506"/>
                        </a:lnTo>
                        <a:lnTo>
                          <a:pt x="2274" y="547"/>
                        </a:lnTo>
                        <a:lnTo>
                          <a:pt x="2329" y="589"/>
                        </a:lnTo>
                        <a:lnTo>
                          <a:pt x="2383" y="631"/>
                        </a:lnTo>
                        <a:lnTo>
                          <a:pt x="2439" y="677"/>
                        </a:lnTo>
                        <a:lnTo>
                          <a:pt x="2504" y="744"/>
                        </a:lnTo>
                        <a:lnTo>
                          <a:pt x="2569" y="811"/>
                        </a:lnTo>
                        <a:lnTo>
                          <a:pt x="2632" y="872"/>
                        </a:lnTo>
                        <a:lnTo>
                          <a:pt x="2701" y="934"/>
                        </a:lnTo>
                        <a:lnTo>
                          <a:pt x="2768" y="991"/>
                        </a:lnTo>
                        <a:lnTo>
                          <a:pt x="2841" y="1051"/>
                        </a:lnTo>
                        <a:lnTo>
                          <a:pt x="2914" y="1110"/>
                        </a:lnTo>
                        <a:lnTo>
                          <a:pt x="2993" y="1170"/>
                        </a:lnTo>
                        <a:lnTo>
                          <a:pt x="2998" y="1179"/>
                        </a:lnTo>
                        <a:lnTo>
                          <a:pt x="3006" y="1195"/>
                        </a:lnTo>
                        <a:lnTo>
                          <a:pt x="3012" y="1214"/>
                        </a:lnTo>
                        <a:lnTo>
                          <a:pt x="3021" y="1237"/>
                        </a:lnTo>
                        <a:lnTo>
                          <a:pt x="3027" y="1258"/>
                        </a:lnTo>
                        <a:lnTo>
                          <a:pt x="3033" y="1279"/>
                        </a:lnTo>
                        <a:lnTo>
                          <a:pt x="3037" y="1298"/>
                        </a:lnTo>
                        <a:lnTo>
                          <a:pt x="3039" y="1315"/>
                        </a:lnTo>
                        <a:lnTo>
                          <a:pt x="3023" y="1323"/>
                        </a:lnTo>
                        <a:lnTo>
                          <a:pt x="3008" y="1329"/>
                        </a:lnTo>
                        <a:lnTo>
                          <a:pt x="2991" y="1333"/>
                        </a:lnTo>
                        <a:lnTo>
                          <a:pt x="2973" y="1338"/>
                        </a:lnTo>
                        <a:lnTo>
                          <a:pt x="2954" y="1338"/>
                        </a:lnTo>
                        <a:lnTo>
                          <a:pt x="2937" y="1338"/>
                        </a:lnTo>
                        <a:lnTo>
                          <a:pt x="2922" y="1338"/>
                        </a:lnTo>
                        <a:lnTo>
                          <a:pt x="2908" y="1340"/>
                        </a:lnTo>
                        <a:lnTo>
                          <a:pt x="2851" y="1344"/>
                        </a:lnTo>
                        <a:lnTo>
                          <a:pt x="2793" y="1350"/>
                        </a:lnTo>
                        <a:lnTo>
                          <a:pt x="2736" y="1356"/>
                        </a:lnTo>
                        <a:lnTo>
                          <a:pt x="2680" y="1361"/>
                        </a:lnTo>
                        <a:lnTo>
                          <a:pt x="2623" y="1363"/>
                        </a:lnTo>
                        <a:lnTo>
                          <a:pt x="2567" y="1369"/>
                        </a:lnTo>
                        <a:lnTo>
                          <a:pt x="2511" y="1371"/>
                        </a:lnTo>
                        <a:lnTo>
                          <a:pt x="2458" y="1377"/>
                        </a:lnTo>
                        <a:lnTo>
                          <a:pt x="2440" y="1379"/>
                        </a:lnTo>
                        <a:lnTo>
                          <a:pt x="2431" y="1382"/>
                        </a:lnTo>
                        <a:lnTo>
                          <a:pt x="2421" y="1384"/>
                        </a:lnTo>
                        <a:lnTo>
                          <a:pt x="2416" y="1388"/>
                        </a:lnTo>
                        <a:lnTo>
                          <a:pt x="2410" y="1390"/>
                        </a:lnTo>
                        <a:lnTo>
                          <a:pt x="2408" y="1392"/>
                        </a:lnTo>
                        <a:lnTo>
                          <a:pt x="2408" y="1400"/>
                        </a:lnTo>
                        <a:lnTo>
                          <a:pt x="2412" y="1411"/>
                        </a:lnTo>
                        <a:lnTo>
                          <a:pt x="2416" y="1421"/>
                        </a:lnTo>
                        <a:lnTo>
                          <a:pt x="2421" y="1432"/>
                        </a:lnTo>
                        <a:lnTo>
                          <a:pt x="2425" y="1442"/>
                        </a:lnTo>
                        <a:lnTo>
                          <a:pt x="2431" y="1453"/>
                        </a:lnTo>
                        <a:lnTo>
                          <a:pt x="2433" y="1463"/>
                        </a:lnTo>
                        <a:lnTo>
                          <a:pt x="2435" y="1473"/>
                        </a:lnTo>
                        <a:lnTo>
                          <a:pt x="2419" y="1480"/>
                        </a:lnTo>
                        <a:lnTo>
                          <a:pt x="2404" y="1486"/>
                        </a:lnTo>
                        <a:lnTo>
                          <a:pt x="2381" y="1469"/>
                        </a:lnTo>
                        <a:lnTo>
                          <a:pt x="2358" y="1457"/>
                        </a:lnTo>
                        <a:lnTo>
                          <a:pt x="2333" y="1446"/>
                        </a:lnTo>
                        <a:lnTo>
                          <a:pt x="2310" y="1434"/>
                        </a:lnTo>
                        <a:lnTo>
                          <a:pt x="2287" y="1423"/>
                        </a:lnTo>
                        <a:lnTo>
                          <a:pt x="2264" y="1411"/>
                        </a:lnTo>
                        <a:lnTo>
                          <a:pt x="2243" y="1398"/>
                        </a:lnTo>
                        <a:lnTo>
                          <a:pt x="2228" y="1384"/>
                        </a:lnTo>
                        <a:lnTo>
                          <a:pt x="2172" y="1354"/>
                        </a:lnTo>
                        <a:lnTo>
                          <a:pt x="2122" y="1317"/>
                        </a:lnTo>
                        <a:lnTo>
                          <a:pt x="2078" y="1277"/>
                        </a:lnTo>
                        <a:lnTo>
                          <a:pt x="2040" y="1233"/>
                        </a:lnTo>
                        <a:lnTo>
                          <a:pt x="2005" y="1181"/>
                        </a:lnTo>
                        <a:lnTo>
                          <a:pt x="1978" y="1131"/>
                        </a:lnTo>
                        <a:lnTo>
                          <a:pt x="1955" y="1074"/>
                        </a:lnTo>
                        <a:lnTo>
                          <a:pt x="1940" y="1018"/>
                        </a:lnTo>
                        <a:lnTo>
                          <a:pt x="1930" y="989"/>
                        </a:lnTo>
                        <a:lnTo>
                          <a:pt x="1921" y="966"/>
                        </a:lnTo>
                        <a:lnTo>
                          <a:pt x="1909" y="943"/>
                        </a:lnTo>
                        <a:lnTo>
                          <a:pt x="1900" y="924"/>
                        </a:lnTo>
                        <a:lnTo>
                          <a:pt x="1886" y="901"/>
                        </a:lnTo>
                        <a:lnTo>
                          <a:pt x="1875" y="882"/>
                        </a:lnTo>
                        <a:lnTo>
                          <a:pt x="1861" y="861"/>
                        </a:lnTo>
                        <a:lnTo>
                          <a:pt x="1848" y="842"/>
                        </a:lnTo>
                        <a:lnTo>
                          <a:pt x="1842" y="819"/>
                        </a:lnTo>
                        <a:lnTo>
                          <a:pt x="1842" y="803"/>
                        </a:lnTo>
                        <a:lnTo>
                          <a:pt x="1844" y="790"/>
                        </a:lnTo>
                        <a:lnTo>
                          <a:pt x="1852" y="782"/>
                        </a:lnTo>
                        <a:lnTo>
                          <a:pt x="1861" y="773"/>
                        </a:lnTo>
                        <a:lnTo>
                          <a:pt x="1873" y="765"/>
                        </a:lnTo>
                        <a:lnTo>
                          <a:pt x="1886" y="754"/>
                        </a:lnTo>
                        <a:lnTo>
                          <a:pt x="1902" y="740"/>
                        </a:lnTo>
                        <a:lnTo>
                          <a:pt x="1883" y="700"/>
                        </a:lnTo>
                        <a:lnTo>
                          <a:pt x="1858" y="667"/>
                        </a:lnTo>
                        <a:lnTo>
                          <a:pt x="1827" y="637"/>
                        </a:lnTo>
                        <a:lnTo>
                          <a:pt x="1794" y="608"/>
                        </a:lnTo>
                        <a:lnTo>
                          <a:pt x="1758" y="577"/>
                        </a:lnTo>
                        <a:lnTo>
                          <a:pt x="1727" y="549"/>
                        </a:lnTo>
                        <a:lnTo>
                          <a:pt x="1698" y="516"/>
                        </a:lnTo>
                        <a:lnTo>
                          <a:pt x="1677" y="481"/>
                        </a:lnTo>
                        <a:lnTo>
                          <a:pt x="1672" y="464"/>
                        </a:lnTo>
                        <a:lnTo>
                          <a:pt x="1668" y="447"/>
                        </a:lnTo>
                        <a:lnTo>
                          <a:pt x="1662" y="430"/>
                        </a:lnTo>
                        <a:lnTo>
                          <a:pt x="1658" y="414"/>
                        </a:lnTo>
                        <a:lnTo>
                          <a:pt x="1651" y="397"/>
                        </a:lnTo>
                        <a:lnTo>
                          <a:pt x="1645" y="384"/>
                        </a:lnTo>
                        <a:lnTo>
                          <a:pt x="1637" y="372"/>
                        </a:lnTo>
                        <a:lnTo>
                          <a:pt x="1627" y="364"/>
                        </a:lnTo>
                        <a:lnTo>
                          <a:pt x="1610" y="359"/>
                        </a:lnTo>
                        <a:lnTo>
                          <a:pt x="1601" y="355"/>
                        </a:lnTo>
                        <a:lnTo>
                          <a:pt x="1593" y="347"/>
                        </a:lnTo>
                        <a:lnTo>
                          <a:pt x="1591" y="340"/>
                        </a:lnTo>
                        <a:lnTo>
                          <a:pt x="1589" y="328"/>
                        </a:lnTo>
                        <a:lnTo>
                          <a:pt x="1589" y="318"/>
                        </a:lnTo>
                        <a:lnTo>
                          <a:pt x="1589" y="307"/>
                        </a:lnTo>
                        <a:lnTo>
                          <a:pt x="1591" y="295"/>
                        </a:lnTo>
                        <a:lnTo>
                          <a:pt x="1585" y="295"/>
                        </a:lnTo>
                        <a:lnTo>
                          <a:pt x="1583" y="295"/>
                        </a:lnTo>
                        <a:lnTo>
                          <a:pt x="1581" y="290"/>
                        </a:lnTo>
                        <a:lnTo>
                          <a:pt x="1580" y="284"/>
                        </a:lnTo>
                        <a:lnTo>
                          <a:pt x="1576" y="282"/>
                        </a:lnTo>
                        <a:lnTo>
                          <a:pt x="1574" y="282"/>
                        </a:lnTo>
                        <a:lnTo>
                          <a:pt x="1558" y="330"/>
                        </a:lnTo>
                        <a:lnTo>
                          <a:pt x="1537" y="378"/>
                        </a:lnTo>
                        <a:lnTo>
                          <a:pt x="1509" y="420"/>
                        </a:lnTo>
                        <a:lnTo>
                          <a:pt x="1480" y="464"/>
                        </a:lnTo>
                        <a:lnTo>
                          <a:pt x="1445" y="506"/>
                        </a:lnTo>
                        <a:lnTo>
                          <a:pt x="1415" y="550"/>
                        </a:lnTo>
                        <a:lnTo>
                          <a:pt x="1386" y="595"/>
                        </a:lnTo>
                        <a:lnTo>
                          <a:pt x="1363" y="642"/>
                        </a:lnTo>
                        <a:lnTo>
                          <a:pt x="1363" y="658"/>
                        </a:lnTo>
                        <a:lnTo>
                          <a:pt x="1371" y="669"/>
                        </a:lnTo>
                        <a:lnTo>
                          <a:pt x="1374" y="671"/>
                        </a:lnTo>
                        <a:lnTo>
                          <a:pt x="1382" y="677"/>
                        </a:lnTo>
                        <a:lnTo>
                          <a:pt x="1392" y="681"/>
                        </a:lnTo>
                        <a:lnTo>
                          <a:pt x="1403" y="688"/>
                        </a:lnTo>
                        <a:lnTo>
                          <a:pt x="1394" y="711"/>
                        </a:lnTo>
                        <a:lnTo>
                          <a:pt x="1374" y="740"/>
                        </a:lnTo>
                        <a:lnTo>
                          <a:pt x="1346" y="769"/>
                        </a:lnTo>
                        <a:lnTo>
                          <a:pt x="1317" y="798"/>
                        </a:lnTo>
                        <a:lnTo>
                          <a:pt x="1286" y="825"/>
                        </a:lnTo>
                        <a:lnTo>
                          <a:pt x="1265" y="853"/>
                        </a:lnTo>
                        <a:lnTo>
                          <a:pt x="1252" y="878"/>
                        </a:lnTo>
                        <a:lnTo>
                          <a:pt x="1257" y="905"/>
                        </a:lnTo>
                        <a:lnTo>
                          <a:pt x="1290" y="924"/>
                        </a:lnTo>
                        <a:lnTo>
                          <a:pt x="1330" y="945"/>
                        </a:lnTo>
                        <a:lnTo>
                          <a:pt x="1374" y="965"/>
                        </a:lnTo>
                        <a:lnTo>
                          <a:pt x="1420" y="986"/>
                        </a:lnTo>
                        <a:lnTo>
                          <a:pt x="1461" y="1009"/>
                        </a:lnTo>
                        <a:lnTo>
                          <a:pt x="1497" y="1037"/>
                        </a:lnTo>
                        <a:lnTo>
                          <a:pt x="1522" y="1072"/>
                        </a:lnTo>
                        <a:lnTo>
                          <a:pt x="1537" y="1118"/>
                        </a:lnTo>
                        <a:lnTo>
                          <a:pt x="1524" y="1156"/>
                        </a:lnTo>
                        <a:lnTo>
                          <a:pt x="1507" y="1191"/>
                        </a:lnTo>
                        <a:lnTo>
                          <a:pt x="1482" y="1219"/>
                        </a:lnTo>
                        <a:lnTo>
                          <a:pt x="1461" y="1248"/>
                        </a:lnTo>
                        <a:lnTo>
                          <a:pt x="1440" y="1275"/>
                        </a:lnTo>
                        <a:lnTo>
                          <a:pt x="1428" y="1310"/>
                        </a:lnTo>
                        <a:lnTo>
                          <a:pt x="1430" y="1350"/>
                        </a:lnTo>
                        <a:lnTo>
                          <a:pt x="1449" y="1400"/>
                        </a:lnTo>
                        <a:lnTo>
                          <a:pt x="1449" y="1413"/>
                        </a:lnTo>
                        <a:lnTo>
                          <a:pt x="1443" y="1428"/>
                        </a:lnTo>
                        <a:lnTo>
                          <a:pt x="1436" y="1444"/>
                        </a:lnTo>
                        <a:lnTo>
                          <a:pt x="1428" y="1459"/>
                        </a:lnTo>
                        <a:lnTo>
                          <a:pt x="1411" y="1461"/>
                        </a:lnTo>
                        <a:lnTo>
                          <a:pt x="1396" y="1465"/>
                        </a:lnTo>
                        <a:lnTo>
                          <a:pt x="1380" y="1467"/>
                        </a:lnTo>
                        <a:lnTo>
                          <a:pt x="1365" y="1473"/>
                        </a:lnTo>
                        <a:lnTo>
                          <a:pt x="1365" y="1476"/>
                        </a:lnTo>
                        <a:lnTo>
                          <a:pt x="1374" y="1480"/>
                        </a:lnTo>
                        <a:lnTo>
                          <a:pt x="1392" y="1480"/>
                        </a:lnTo>
                        <a:lnTo>
                          <a:pt x="1415" y="1482"/>
                        </a:lnTo>
                        <a:lnTo>
                          <a:pt x="1436" y="1480"/>
                        </a:lnTo>
                        <a:lnTo>
                          <a:pt x="1459" y="1480"/>
                        </a:lnTo>
                        <a:lnTo>
                          <a:pt x="1478" y="1480"/>
                        </a:lnTo>
                        <a:lnTo>
                          <a:pt x="1493" y="1482"/>
                        </a:lnTo>
                        <a:lnTo>
                          <a:pt x="1465" y="1496"/>
                        </a:lnTo>
                        <a:lnTo>
                          <a:pt x="1422" y="1509"/>
                        </a:lnTo>
                        <a:lnTo>
                          <a:pt x="1369" y="1517"/>
                        </a:lnTo>
                        <a:lnTo>
                          <a:pt x="1309" y="1524"/>
                        </a:lnTo>
                        <a:lnTo>
                          <a:pt x="1248" y="1528"/>
                        </a:lnTo>
                        <a:lnTo>
                          <a:pt x="1194" y="1532"/>
                        </a:lnTo>
                        <a:lnTo>
                          <a:pt x="1150" y="1534"/>
                        </a:lnTo>
                        <a:lnTo>
                          <a:pt x="1121" y="1536"/>
                        </a:lnTo>
                        <a:close/>
                      </a:path>
                    </a:pathLst>
                  </a:custGeom>
                  <a:solidFill>
                    <a:srgbClr val="99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 flipH="1">
                    <a:off x="3754800" y="5221800"/>
                    <a:ext cx="826560" cy="97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130" h="1200">
                        <a:moveTo>
                          <a:pt x="963" y="1200"/>
                        </a:moveTo>
                        <a:lnTo>
                          <a:pt x="865" y="1191"/>
                        </a:lnTo>
                        <a:lnTo>
                          <a:pt x="767" y="1183"/>
                        </a:lnTo>
                        <a:lnTo>
                          <a:pt x="669" y="1175"/>
                        </a:lnTo>
                        <a:lnTo>
                          <a:pt x="574" y="1170"/>
                        </a:lnTo>
                        <a:lnTo>
                          <a:pt x="476" y="1164"/>
                        </a:lnTo>
                        <a:lnTo>
                          <a:pt x="378" y="1160"/>
                        </a:lnTo>
                        <a:lnTo>
                          <a:pt x="282" y="1156"/>
                        </a:lnTo>
                        <a:lnTo>
                          <a:pt x="186" y="1158"/>
                        </a:lnTo>
                        <a:lnTo>
                          <a:pt x="186" y="1139"/>
                        </a:lnTo>
                        <a:lnTo>
                          <a:pt x="192" y="1127"/>
                        </a:lnTo>
                        <a:lnTo>
                          <a:pt x="196" y="1114"/>
                        </a:lnTo>
                        <a:lnTo>
                          <a:pt x="198" y="1102"/>
                        </a:lnTo>
                        <a:lnTo>
                          <a:pt x="179" y="1056"/>
                        </a:lnTo>
                        <a:lnTo>
                          <a:pt x="175" y="1018"/>
                        </a:lnTo>
                        <a:lnTo>
                          <a:pt x="182" y="986"/>
                        </a:lnTo>
                        <a:lnTo>
                          <a:pt x="198" y="957"/>
                        </a:lnTo>
                        <a:lnTo>
                          <a:pt x="217" y="926"/>
                        </a:lnTo>
                        <a:lnTo>
                          <a:pt x="240" y="897"/>
                        </a:lnTo>
                        <a:lnTo>
                          <a:pt x="261" y="865"/>
                        </a:lnTo>
                        <a:lnTo>
                          <a:pt x="282" y="828"/>
                        </a:lnTo>
                        <a:lnTo>
                          <a:pt x="271" y="780"/>
                        </a:lnTo>
                        <a:lnTo>
                          <a:pt x="246" y="744"/>
                        </a:lnTo>
                        <a:lnTo>
                          <a:pt x="209" y="711"/>
                        </a:lnTo>
                        <a:lnTo>
                          <a:pt x="169" y="687"/>
                        </a:lnTo>
                        <a:lnTo>
                          <a:pt x="123" y="664"/>
                        </a:lnTo>
                        <a:lnTo>
                          <a:pt x="79" y="644"/>
                        </a:lnTo>
                        <a:lnTo>
                          <a:pt x="39" y="623"/>
                        </a:lnTo>
                        <a:lnTo>
                          <a:pt x="6" y="604"/>
                        </a:lnTo>
                        <a:lnTo>
                          <a:pt x="0" y="571"/>
                        </a:lnTo>
                        <a:lnTo>
                          <a:pt x="18" y="539"/>
                        </a:lnTo>
                        <a:lnTo>
                          <a:pt x="48" y="506"/>
                        </a:lnTo>
                        <a:lnTo>
                          <a:pt x="87" y="476"/>
                        </a:lnTo>
                        <a:lnTo>
                          <a:pt x="117" y="443"/>
                        </a:lnTo>
                        <a:lnTo>
                          <a:pt x="140" y="414"/>
                        </a:lnTo>
                        <a:lnTo>
                          <a:pt x="140" y="386"/>
                        </a:lnTo>
                        <a:lnTo>
                          <a:pt x="115" y="364"/>
                        </a:lnTo>
                        <a:lnTo>
                          <a:pt x="110" y="336"/>
                        </a:lnTo>
                        <a:lnTo>
                          <a:pt x="123" y="299"/>
                        </a:lnTo>
                        <a:lnTo>
                          <a:pt x="148" y="257"/>
                        </a:lnTo>
                        <a:lnTo>
                          <a:pt x="181" y="213"/>
                        </a:lnTo>
                        <a:lnTo>
                          <a:pt x="213" y="167"/>
                        </a:lnTo>
                        <a:lnTo>
                          <a:pt x="248" y="125"/>
                        </a:lnTo>
                        <a:lnTo>
                          <a:pt x="276" y="87"/>
                        </a:lnTo>
                        <a:lnTo>
                          <a:pt x="297" y="58"/>
                        </a:lnTo>
                        <a:lnTo>
                          <a:pt x="305" y="42"/>
                        </a:lnTo>
                        <a:lnTo>
                          <a:pt x="313" y="27"/>
                        </a:lnTo>
                        <a:lnTo>
                          <a:pt x="317" y="12"/>
                        </a:lnTo>
                        <a:lnTo>
                          <a:pt x="322" y="0"/>
                        </a:lnTo>
                        <a:lnTo>
                          <a:pt x="324" y="27"/>
                        </a:lnTo>
                        <a:lnTo>
                          <a:pt x="328" y="44"/>
                        </a:lnTo>
                        <a:lnTo>
                          <a:pt x="332" y="52"/>
                        </a:lnTo>
                        <a:lnTo>
                          <a:pt x="340" y="58"/>
                        </a:lnTo>
                        <a:lnTo>
                          <a:pt x="345" y="60"/>
                        </a:lnTo>
                        <a:lnTo>
                          <a:pt x="357" y="63"/>
                        </a:lnTo>
                        <a:lnTo>
                          <a:pt x="366" y="71"/>
                        </a:lnTo>
                        <a:lnTo>
                          <a:pt x="382" y="90"/>
                        </a:lnTo>
                        <a:lnTo>
                          <a:pt x="390" y="117"/>
                        </a:lnTo>
                        <a:lnTo>
                          <a:pt x="399" y="144"/>
                        </a:lnTo>
                        <a:lnTo>
                          <a:pt x="407" y="169"/>
                        </a:lnTo>
                        <a:lnTo>
                          <a:pt x="418" y="194"/>
                        </a:lnTo>
                        <a:lnTo>
                          <a:pt x="430" y="217"/>
                        </a:lnTo>
                        <a:lnTo>
                          <a:pt x="445" y="240"/>
                        </a:lnTo>
                        <a:lnTo>
                          <a:pt x="464" y="263"/>
                        </a:lnTo>
                        <a:lnTo>
                          <a:pt x="491" y="286"/>
                        </a:lnTo>
                        <a:lnTo>
                          <a:pt x="505" y="295"/>
                        </a:lnTo>
                        <a:lnTo>
                          <a:pt x="526" y="311"/>
                        </a:lnTo>
                        <a:lnTo>
                          <a:pt x="549" y="326"/>
                        </a:lnTo>
                        <a:lnTo>
                          <a:pt x="574" y="349"/>
                        </a:lnTo>
                        <a:lnTo>
                          <a:pt x="593" y="368"/>
                        </a:lnTo>
                        <a:lnTo>
                          <a:pt x="612" y="391"/>
                        </a:lnTo>
                        <a:lnTo>
                          <a:pt x="623" y="414"/>
                        </a:lnTo>
                        <a:lnTo>
                          <a:pt x="629" y="437"/>
                        </a:lnTo>
                        <a:lnTo>
                          <a:pt x="606" y="456"/>
                        </a:lnTo>
                        <a:lnTo>
                          <a:pt x="589" y="474"/>
                        </a:lnTo>
                        <a:lnTo>
                          <a:pt x="575" y="489"/>
                        </a:lnTo>
                        <a:lnTo>
                          <a:pt x="570" y="504"/>
                        </a:lnTo>
                        <a:lnTo>
                          <a:pt x="568" y="518"/>
                        </a:lnTo>
                        <a:lnTo>
                          <a:pt x="574" y="535"/>
                        </a:lnTo>
                        <a:lnTo>
                          <a:pt x="587" y="556"/>
                        </a:lnTo>
                        <a:lnTo>
                          <a:pt x="610" y="583"/>
                        </a:lnTo>
                        <a:lnTo>
                          <a:pt x="618" y="596"/>
                        </a:lnTo>
                        <a:lnTo>
                          <a:pt x="625" y="612"/>
                        </a:lnTo>
                        <a:lnTo>
                          <a:pt x="633" y="625"/>
                        </a:lnTo>
                        <a:lnTo>
                          <a:pt x="643" y="642"/>
                        </a:lnTo>
                        <a:lnTo>
                          <a:pt x="650" y="656"/>
                        </a:lnTo>
                        <a:lnTo>
                          <a:pt x="658" y="671"/>
                        </a:lnTo>
                        <a:lnTo>
                          <a:pt x="664" y="688"/>
                        </a:lnTo>
                        <a:lnTo>
                          <a:pt x="671" y="708"/>
                        </a:lnTo>
                        <a:lnTo>
                          <a:pt x="685" y="757"/>
                        </a:lnTo>
                        <a:lnTo>
                          <a:pt x="706" y="809"/>
                        </a:lnTo>
                        <a:lnTo>
                          <a:pt x="729" y="859"/>
                        </a:lnTo>
                        <a:lnTo>
                          <a:pt x="758" y="911"/>
                        </a:lnTo>
                        <a:lnTo>
                          <a:pt x="790" y="955"/>
                        </a:lnTo>
                        <a:lnTo>
                          <a:pt x="830" y="999"/>
                        </a:lnTo>
                        <a:lnTo>
                          <a:pt x="875" y="1035"/>
                        </a:lnTo>
                        <a:lnTo>
                          <a:pt x="924" y="1066"/>
                        </a:lnTo>
                        <a:lnTo>
                          <a:pt x="944" y="1081"/>
                        </a:lnTo>
                        <a:lnTo>
                          <a:pt x="967" y="1097"/>
                        </a:lnTo>
                        <a:lnTo>
                          <a:pt x="992" y="1112"/>
                        </a:lnTo>
                        <a:lnTo>
                          <a:pt x="1020" y="1129"/>
                        </a:lnTo>
                        <a:lnTo>
                          <a:pt x="1047" y="1143"/>
                        </a:lnTo>
                        <a:lnTo>
                          <a:pt x="1074" y="1158"/>
                        </a:lnTo>
                        <a:lnTo>
                          <a:pt x="1101" y="1172"/>
                        </a:lnTo>
                        <a:lnTo>
                          <a:pt x="1130" y="1187"/>
                        </a:lnTo>
                        <a:lnTo>
                          <a:pt x="1116" y="1191"/>
                        </a:lnTo>
                        <a:lnTo>
                          <a:pt x="1097" y="1196"/>
                        </a:lnTo>
                        <a:lnTo>
                          <a:pt x="1072" y="1198"/>
                        </a:lnTo>
                        <a:lnTo>
                          <a:pt x="1047" y="1200"/>
                        </a:lnTo>
                        <a:lnTo>
                          <a:pt x="1020" y="1200"/>
                        </a:lnTo>
                        <a:lnTo>
                          <a:pt x="995" y="1200"/>
                        </a:lnTo>
                        <a:lnTo>
                          <a:pt x="976" y="1200"/>
                        </a:lnTo>
                        <a:lnTo>
                          <a:pt x="963" y="1200"/>
                        </a:lnTo>
                        <a:close/>
                      </a:path>
                    </a:pathLst>
                  </a:cu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 flipH="1">
                    <a:off x="4439520" y="6168240"/>
                    <a:ext cx="9360" cy="7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0">
                        <a:moveTo>
                          <a:pt x="0" y="0"/>
                        </a:moveTo>
                        <a:lnTo>
                          <a:pt x="5" y="0"/>
                        </a:lnTo>
                        <a:lnTo>
                          <a:pt x="13" y="0"/>
                        </a:lnTo>
                        <a:lnTo>
                          <a:pt x="5" y="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080" bIns="-46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 flipH="1">
                    <a:off x="6539400" y="5377320"/>
                    <a:ext cx="914400" cy="55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250" h="688">
                        <a:moveTo>
                          <a:pt x="235" y="688"/>
                        </a:moveTo>
                        <a:lnTo>
                          <a:pt x="212" y="682"/>
                        </a:lnTo>
                        <a:lnTo>
                          <a:pt x="180" y="679"/>
                        </a:lnTo>
                        <a:lnTo>
                          <a:pt x="140" y="673"/>
                        </a:lnTo>
                        <a:lnTo>
                          <a:pt x="101" y="665"/>
                        </a:lnTo>
                        <a:lnTo>
                          <a:pt x="61" y="652"/>
                        </a:lnTo>
                        <a:lnTo>
                          <a:pt x="30" y="638"/>
                        </a:lnTo>
                        <a:lnTo>
                          <a:pt x="7" y="621"/>
                        </a:lnTo>
                        <a:lnTo>
                          <a:pt x="0" y="602"/>
                        </a:lnTo>
                        <a:lnTo>
                          <a:pt x="27" y="567"/>
                        </a:lnTo>
                        <a:lnTo>
                          <a:pt x="48" y="544"/>
                        </a:lnTo>
                        <a:lnTo>
                          <a:pt x="59" y="527"/>
                        </a:lnTo>
                        <a:lnTo>
                          <a:pt x="67" y="518"/>
                        </a:lnTo>
                        <a:lnTo>
                          <a:pt x="67" y="506"/>
                        </a:lnTo>
                        <a:lnTo>
                          <a:pt x="61" y="495"/>
                        </a:lnTo>
                        <a:lnTo>
                          <a:pt x="50" y="475"/>
                        </a:lnTo>
                        <a:lnTo>
                          <a:pt x="38" y="452"/>
                        </a:lnTo>
                        <a:lnTo>
                          <a:pt x="40" y="445"/>
                        </a:lnTo>
                        <a:lnTo>
                          <a:pt x="48" y="437"/>
                        </a:lnTo>
                        <a:lnTo>
                          <a:pt x="57" y="427"/>
                        </a:lnTo>
                        <a:lnTo>
                          <a:pt x="71" y="418"/>
                        </a:lnTo>
                        <a:lnTo>
                          <a:pt x="82" y="406"/>
                        </a:lnTo>
                        <a:lnTo>
                          <a:pt x="96" y="399"/>
                        </a:lnTo>
                        <a:lnTo>
                          <a:pt x="105" y="391"/>
                        </a:lnTo>
                        <a:lnTo>
                          <a:pt x="115" y="387"/>
                        </a:lnTo>
                        <a:lnTo>
                          <a:pt x="153" y="372"/>
                        </a:lnTo>
                        <a:lnTo>
                          <a:pt x="203" y="351"/>
                        </a:lnTo>
                        <a:lnTo>
                          <a:pt x="260" y="322"/>
                        </a:lnTo>
                        <a:lnTo>
                          <a:pt x="322" y="293"/>
                        </a:lnTo>
                        <a:lnTo>
                          <a:pt x="377" y="257"/>
                        </a:lnTo>
                        <a:lnTo>
                          <a:pt x="427" y="220"/>
                        </a:lnTo>
                        <a:lnTo>
                          <a:pt x="462" y="180"/>
                        </a:lnTo>
                        <a:lnTo>
                          <a:pt x="481" y="142"/>
                        </a:lnTo>
                        <a:lnTo>
                          <a:pt x="492" y="125"/>
                        </a:lnTo>
                        <a:lnTo>
                          <a:pt x="517" y="102"/>
                        </a:lnTo>
                        <a:lnTo>
                          <a:pt x="548" y="77"/>
                        </a:lnTo>
                        <a:lnTo>
                          <a:pt x="583" y="52"/>
                        </a:lnTo>
                        <a:lnTo>
                          <a:pt x="615" y="27"/>
                        </a:lnTo>
                        <a:lnTo>
                          <a:pt x="646" y="10"/>
                        </a:lnTo>
                        <a:lnTo>
                          <a:pt x="667" y="0"/>
                        </a:lnTo>
                        <a:lnTo>
                          <a:pt x="682" y="2"/>
                        </a:lnTo>
                        <a:lnTo>
                          <a:pt x="669" y="15"/>
                        </a:lnTo>
                        <a:lnTo>
                          <a:pt x="657" y="34"/>
                        </a:lnTo>
                        <a:lnTo>
                          <a:pt x="642" y="50"/>
                        </a:lnTo>
                        <a:lnTo>
                          <a:pt x="627" y="65"/>
                        </a:lnTo>
                        <a:lnTo>
                          <a:pt x="627" y="67"/>
                        </a:lnTo>
                        <a:lnTo>
                          <a:pt x="627" y="73"/>
                        </a:lnTo>
                        <a:lnTo>
                          <a:pt x="629" y="73"/>
                        </a:lnTo>
                        <a:lnTo>
                          <a:pt x="630" y="73"/>
                        </a:lnTo>
                        <a:lnTo>
                          <a:pt x="625" y="84"/>
                        </a:lnTo>
                        <a:lnTo>
                          <a:pt x="621" y="96"/>
                        </a:lnTo>
                        <a:lnTo>
                          <a:pt x="613" y="107"/>
                        </a:lnTo>
                        <a:lnTo>
                          <a:pt x="607" y="121"/>
                        </a:lnTo>
                        <a:lnTo>
                          <a:pt x="598" y="130"/>
                        </a:lnTo>
                        <a:lnTo>
                          <a:pt x="590" y="142"/>
                        </a:lnTo>
                        <a:lnTo>
                          <a:pt x="583" y="153"/>
                        </a:lnTo>
                        <a:lnTo>
                          <a:pt x="575" y="165"/>
                        </a:lnTo>
                        <a:lnTo>
                          <a:pt x="577" y="171"/>
                        </a:lnTo>
                        <a:lnTo>
                          <a:pt x="579" y="178"/>
                        </a:lnTo>
                        <a:lnTo>
                          <a:pt x="590" y="178"/>
                        </a:lnTo>
                        <a:lnTo>
                          <a:pt x="611" y="172"/>
                        </a:lnTo>
                        <a:lnTo>
                          <a:pt x="632" y="161"/>
                        </a:lnTo>
                        <a:lnTo>
                          <a:pt x="659" y="148"/>
                        </a:lnTo>
                        <a:lnTo>
                          <a:pt x="682" y="132"/>
                        </a:lnTo>
                        <a:lnTo>
                          <a:pt x="703" y="119"/>
                        </a:lnTo>
                        <a:lnTo>
                          <a:pt x="721" y="107"/>
                        </a:lnTo>
                        <a:lnTo>
                          <a:pt x="732" y="103"/>
                        </a:lnTo>
                        <a:lnTo>
                          <a:pt x="730" y="117"/>
                        </a:lnTo>
                        <a:lnTo>
                          <a:pt x="730" y="126"/>
                        </a:lnTo>
                        <a:lnTo>
                          <a:pt x="730" y="132"/>
                        </a:lnTo>
                        <a:lnTo>
                          <a:pt x="730" y="138"/>
                        </a:lnTo>
                        <a:lnTo>
                          <a:pt x="740" y="132"/>
                        </a:lnTo>
                        <a:lnTo>
                          <a:pt x="751" y="126"/>
                        </a:lnTo>
                        <a:lnTo>
                          <a:pt x="761" y="117"/>
                        </a:lnTo>
                        <a:lnTo>
                          <a:pt x="772" y="107"/>
                        </a:lnTo>
                        <a:lnTo>
                          <a:pt x="782" y="96"/>
                        </a:lnTo>
                        <a:lnTo>
                          <a:pt x="793" y="88"/>
                        </a:lnTo>
                        <a:lnTo>
                          <a:pt x="805" y="82"/>
                        </a:lnTo>
                        <a:lnTo>
                          <a:pt x="822" y="82"/>
                        </a:lnTo>
                        <a:lnTo>
                          <a:pt x="822" y="96"/>
                        </a:lnTo>
                        <a:lnTo>
                          <a:pt x="828" y="111"/>
                        </a:lnTo>
                        <a:lnTo>
                          <a:pt x="832" y="115"/>
                        </a:lnTo>
                        <a:lnTo>
                          <a:pt x="838" y="121"/>
                        </a:lnTo>
                        <a:lnTo>
                          <a:pt x="845" y="125"/>
                        </a:lnTo>
                        <a:lnTo>
                          <a:pt x="857" y="126"/>
                        </a:lnTo>
                        <a:lnTo>
                          <a:pt x="864" y="111"/>
                        </a:lnTo>
                        <a:lnTo>
                          <a:pt x="874" y="98"/>
                        </a:lnTo>
                        <a:lnTo>
                          <a:pt x="884" y="82"/>
                        </a:lnTo>
                        <a:lnTo>
                          <a:pt x="893" y="69"/>
                        </a:lnTo>
                        <a:lnTo>
                          <a:pt x="899" y="52"/>
                        </a:lnTo>
                        <a:lnTo>
                          <a:pt x="905" y="36"/>
                        </a:lnTo>
                        <a:lnTo>
                          <a:pt x="910" y="21"/>
                        </a:lnTo>
                        <a:lnTo>
                          <a:pt x="918" y="10"/>
                        </a:lnTo>
                        <a:lnTo>
                          <a:pt x="922" y="10"/>
                        </a:lnTo>
                        <a:lnTo>
                          <a:pt x="926" y="10"/>
                        </a:lnTo>
                        <a:lnTo>
                          <a:pt x="939" y="27"/>
                        </a:lnTo>
                        <a:lnTo>
                          <a:pt x="956" y="44"/>
                        </a:lnTo>
                        <a:lnTo>
                          <a:pt x="972" y="61"/>
                        </a:lnTo>
                        <a:lnTo>
                          <a:pt x="987" y="80"/>
                        </a:lnTo>
                        <a:lnTo>
                          <a:pt x="993" y="94"/>
                        </a:lnTo>
                        <a:lnTo>
                          <a:pt x="1000" y="109"/>
                        </a:lnTo>
                        <a:lnTo>
                          <a:pt x="1008" y="126"/>
                        </a:lnTo>
                        <a:lnTo>
                          <a:pt x="1022" y="144"/>
                        </a:lnTo>
                        <a:lnTo>
                          <a:pt x="1029" y="140"/>
                        </a:lnTo>
                        <a:lnTo>
                          <a:pt x="1039" y="132"/>
                        </a:lnTo>
                        <a:lnTo>
                          <a:pt x="1047" y="121"/>
                        </a:lnTo>
                        <a:lnTo>
                          <a:pt x="1054" y="111"/>
                        </a:lnTo>
                        <a:lnTo>
                          <a:pt x="1058" y="96"/>
                        </a:lnTo>
                        <a:lnTo>
                          <a:pt x="1064" y="84"/>
                        </a:lnTo>
                        <a:lnTo>
                          <a:pt x="1068" y="73"/>
                        </a:lnTo>
                        <a:lnTo>
                          <a:pt x="1073" y="67"/>
                        </a:lnTo>
                        <a:lnTo>
                          <a:pt x="1081" y="67"/>
                        </a:lnTo>
                        <a:lnTo>
                          <a:pt x="1093" y="65"/>
                        </a:lnTo>
                        <a:lnTo>
                          <a:pt x="1094" y="52"/>
                        </a:lnTo>
                        <a:lnTo>
                          <a:pt x="1100" y="44"/>
                        </a:lnTo>
                        <a:lnTo>
                          <a:pt x="1106" y="34"/>
                        </a:lnTo>
                        <a:lnTo>
                          <a:pt x="1114" y="25"/>
                        </a:lnTo>
                        <a:lnTo>
                          <a:pt x="1117" y="25"/>
                        </a:lnTo>
                        <a:lnTo>
                          <a:pt x="1121" y="25"/>
                        </a:lnTo>
                        <a:lnTo>
                          <a:pt x="1123" y="31"/>
                        </a:lnTo>
                        <a:lnTo>
                          <a:pt x="1125" y="38"/>
                        </a:lnTo>
                        <a:lnTo>
                          <a:pt x="1139" y="44"/>
                        </a:lnTo>
                        <a:lnTo>
                          <a:pt x="1154" y="52"/>
                        </a:lnTo>
                        <a:lnTo>
                          <a:pt x="1169" y="61"/>
                        </a:lnTo>
                        <a:lnTo>
                          <a:pt x="1186" y="73"/>
                        </a:lnTo>
                        <a:lnTo>
                          <a:pt x="1202" y="84"/>
                        </a:lnTo>
                        <a:lnTo>
                          <a:pt x="1217" y="98"/>
                        </a:lnTo>
                        <a:lnTo>
                          <a:pt x="1232" y="111"/>
                        </a:lnTo>
                        <a:lnTo>
                          <a:pt x="1250" y="126"/>
                        </a:lnTo>
                        <a:lnTo>
                          <a:pt x="1236" y="136"/>
                        </a:lnTo>
                        <a:lnTo>
                          <a:pt x="1223" y="144"/>
                        </a:lnTo>
                        <a:lnTo>
                          <a:pt x="1208" y="149"/>
                        </a:lnTo>
                        <a:lnTo>
                          <a:pt x="1196" y="157"/>
                        </a:lnTo>
                        <a:lnTo>
                          <a:pt x="1169" y="176"/>
                        </a:lnTo>
                        <a:lnTo>
                          <a:pt x="1146" y="199"/>
                        </a:lnTo>
                        <a:lnTo>
                          <a:pt x="1125" y="220"/>
                        </a:lnTo>
                        <a:lnTo>
                          <a:pt x="1104" y="243"/>
                        </a:lnTo>
                        <a:lnTo>
                          <a:pt x="1081" y="264"/>
                        </a:lnTo>
                        <a:lnTo>
                          <a:pt x="1058" y="286"/>
                        </a:lnTo>
                        <a:lnTo>
                          <a:pt x="1033" y="305"/>
                        </a:lnTo>
                        <a:lnTo>
                          <a:pt x="1008" y="324"/>
                        </a:lnTo>
                        <a:lnTo>
                          <a:pt x="968" y="333"/>
                        </a:lnTo>
                        <a:lnTo>
                          <a:pt x="930" y="345"/>
                        </a:lnTo>
                        <a:lnTo>
                          <a:pt x="889" y="356"/>
                        </a:lnTo>
                        <a:lnTo>
                          <a:pt x="849" y="368"/>
                        </a:lnTo>
                        <a:lnTo>
                          <a:pt x="809" y="379"/>
                        </a:lnTo>
                        <a:lnTo>
                          <a:pt x="770" y="395"/>
                        </a:lnTo>
                        <a:lnTo>
                          <a:pt x="736" y="412"/>
                        </a:lnTo>
                        <a:lnTo>
                          <a:pt x="709" y="431"/>
                        </a:lnTo>
                        <a:lnTo>
                          <a:pt x="688" y="447"/>
                        </a:lnTo>
                        <a:lnTo>
                          <a:pt x="667" y="462"/>
                        </a:lnTo>
                        <a:lnTo>
                          <a:pt x="646" y="473"/>
                        </a:lnTo>
                        <a:lnTo>
                          <a:pt x="627" y="487"/>
                        </a:lnTo>
                        <a:lnTo>
                          <a:pt x="606" y="498"/>
                        </a:lnTo>
                        <a:lnTo>
                          <a:pt x="586" y="512"/>
                        </a:lnTo>
                        <a:lnTo>
                          <a:pt x="565" y="523"/>
                        </a:lnTo>
                        <a:lnTo>
                          <a:pt x="546" y="539"/>
                        </a:lnTo>
                        <a:lnTo>
                          <a:pt x="514" y="565"/>
                        </a:lnTo>
                        <a:lnTo>
                          <a:pt x="481" y="590"/>
                        </a:lnTo>
                        <a:lnTo>
                          <a:pt x="446" y="610"/>
                        </a:lnTo>
                        <a:lnTo>
                          <a:pt x="414" y="629"/>
                        </a:lnTo>
                        <a:lnTo>
                          <a:pt x="377" y="642"/>
                        </a:lnTo>
                        <a:lnTo>
                          <a:pt x="341" y="657"/>
                        </a:lnTo>
                        <a:lnTo>
                          <a:pt x="303" y="671"/>
                        </a:lnTo>
                        <a:lnTo>
                          <a:pt x="266" y="684"/>
                        </a:lnTo>
                        <a:lnTo>
                          <a:pt x="249" y="686"/>
                        </a:lnTo>
                        <a:lnTo>
                          <a:pt x="235" y="688"/>
                        </a:lnTo>
                        <a:close/>
                      </a:path>
                    </a:pathLst>
                  </a:custGeom>
                  <a:solidFill>
                    <a:srgbClr val="99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 flipH="1">
                    <a:off x="5799960" y="5599440"/>
                    <a:ext cx="122040" cy="9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67" h="119">
                        <a:moveTo>
                          <a:pt x="71" y="119"/>
                        </a:moveTo>
                        <a:lnTo>
                          <a:pt x="46" y="109"/>
                        </a:lnTo>
                        <a:lnTo>
                          <a:pt x="27" y="100"/>
                        </a:lnTo>
                        <a:lnTo>
                          <a:pt x="12" y="86"/>
                        </a:lnTo>
                        <a:lnTo>
                          <a:pt x="4" y="75"/>
                        </a:lnTo>
                        <a:lnTo>
                          <a:pt x="0" y="58"/>
                        </a:lnTo>
                        <a:lnTo>
                          <a:pt x="6" y="42"/>
                        </a:lnTo>
                        <a:lnTo>
                          <a:pt x="16" y="23"/>
                        </a:lnTo>
                        <a:lnTo>
                          <a:pt x="37" y="6"/>
                        </a:lnTo>
                        <a:lnTo>
                          <a:pt x="54" y="0"/>
                        </a:lnTo>
                        <a:lnTo>
                          <a:pt x="66" y="10"/>
                        </a:lnTo>
                        <a:lnTo>
                          <a:pt x="67" y="15"/>
                        </a:lnTo>
                        <a:lnTo>
                          <a:pt x="69" y="25"/>
                        </a:lnTo>
                        <a:lnTo>
                          <a:pt x="69" y="36"/>
                        </a:lnTo>
                        <a:lnTo>
                          <a:pt x="67" y="48"/>
                        </a:lnTo>
                        <a:lnTo>
                          <a:pt x="77" y="44"/>
                        </a:lnTo>
                        <a:lnTo>
                          <a:pt x="85" y="36"/>
                        </a:lnTo>
                        <a:lnTo>
                          <a:pt x="92" y="27"/>
                        </a:lnTo>
                        <a:lnTo>
                          <a:pt x="106" y="23"/>
                        </a:lnTo>
                        <a:lnTo>
                          <a:pt x="108" y="31"/>
                        </a:lnTo>
                        <a:lnTo>
                          <a:pt x="110" y="40"/>
                        </a:lnTo>
                        <a:lnTo>
                          <a:pt x="113" y="46"/>
                        </a:lnTo>
                        <a:lnTo>
                          <a:pt x="127" y="50"/>
                        </a:lnTo>
                        <a:lnTo>
                          <a:pt x="135" y="36"/>
                        </a:lnTo>
                        <a:lnTo>
                          <a:pt x="142" y="29"/>
                        </a:lnTo>
                        <a:lnTo>
                          <a:pt x="152" y="21"/>
                        </a:lnTo>
                        <a:lnTo>
                          <a:pt x="167" y="19"/>
                        </a:lnTo>
                        <a:lnTo>
                          <a:pt x="161" y="46"/>
                        </a:lnTo>
                        <a:lnTo>
                          <a:pt x="158" y="67"/>
                        </a:lnTo>
                        <a:lnTo>
                          <a:pt x="152" y="84"/>
                        </a:lnTo>
                        <a:lnTo>
                          <a:pt x="146" y="100"/>
                        </a:lnTo>
                        <a:lnTo>
                          <a:pt x="135" y="107"/>
                        </a:lnTo>
                        <a:lnTo>
                          <a:pt x="119" y="113"/>
                        </a:lnTo>
                        <a:lnTo>
                          <a:pt x="98" y="117"/>
                        </a:lnTo>
                        <a:lnTo>
                          <a:pt x="71" y="119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 flipH="1">
                    <a:off x="5682960" y="5576040"/>
                    <a:ext cx="10872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49" h="133">
                        <a:moveTo>
                          <a:pt x="82" y="133"/>
                        </a:moveTo>
                        <a:lnTo>
                          <a:pt x="63" y="127"/>
                        </a:lnTo>
                        <a:lnTo>
                          <a:pt x="48" y="119"/>
                        </a:lnTo>
                        <a:lnTo>
                          <a:pt x="34" y="106"/>
                        </a:lnTo>
                        <a:lnTo>
                          <a:pt x="23" y="94"/>
                        </a:lnTo>
                        <a:lnTo>
                          <a:pt x="11" y="79"/>
                        </a:lnTo>
                        <a:lnTo>
                          <a:pt x="5" y="64"/>
                        </a:lnTo>
                        <a:lnTo>
                          <a:pt x="0" y="48"/>
                        </a:lnTo>
                        <a:lnTo>
                          <a:pt x="0" y="35"/>
                        </a:lnTo>
                        <a:lnTo>
                          <a:pt x="13" y="23"/>
                        </a:lnTo>
                        <a:lnTo>
                          <a:pt x="25" y="18"/>
                        </a:lnTo>
                        <a:lnTo>
                          <a:pt x="30" y="16"/>
                        </a:lnTo>
                        <a:lnTo>
                          <a:pt x="38" y="16"/>
                        </a:lnTo>
                        <a:lnTo>
                          <a:pt x="48" y="16"/>
                        </a:lnTo>
                        <a:lnTo>
                          <a:pt x="65" y="16"/>
                        </a:lnTo>
                        <a:lnTo>
                          <a:pt x="67" y="10"/>
                        </a:lnTo>
                        <a:lnTo>
                          <a:pt x="69" y="6"/>
                        </a:lnTo>
                        <a:lnTo>
                          <a:pt x="73" y="6"/>
                        </a:lnTo>
                        <a:lnTo>
                          <a:pt x="78" y="6"/>
                        </a:lnTo>
                        <a:lnTo>
                          <a:pt x="80" y="6"/>
                        </a:lnTo>
                        <a:lnTo>
                          <a:pt x="82" y="10"/>
                        </a:lnTo>
                        <a:lnTo>
                          <a:pt x="92" y="6"/>
                        </a:lnTo>
                        <a:lnTo>
                          <a:pt x="96" y="0"/>
                        </a:lnTo>
                        <a:lnTo>
                          <a:pt x="99" y="0"/>
                        </a:lnTo>
                        <a:lnTo>
                          <a:pt x="107" y="0"/>
                        </a:lnTo>
                        <a:lnTo>
                          <a:pt x="119" y="18"/>
                        </a:lnTo>
                        <a:lnTo>
                          <a:pt x="132" y="41"/>
                        </a:lnTo>
                        <a:lnTo>
                          <a:pt x="142" y="60"/>
                        </a:lnTo>
                        <a:lnTo>
                          <a:pt x="149" y="81"/>
                        </a:lnTo>
                        <a:lnTo>
                          <a:pt x="147" y="96"/>
                        </a:lnTo>
                        <a:lnTo>
                          <a:pt x="138" y="113"/>
                        </a:lnTo>
                        <a:lnTo>
                          <a:pt x="115" y="125"/>
                        </a:lnTo>
                        <a:lnTo>
                          <a:pt x="82" y="133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 flipH="1">
                    <a:off x="5321520" y="3298320"/>
                    <a:ext cx="1281960" cy="2330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52" h="2877">
                        <a:moveTo>
                          <a:pt x="1052" y="2876"/>
                        </a:moveTo>
                        <a:lnTo>
                          <a:pt x="1043" y="2862"/>
                        </a:lnTo>
                        <a:lnTo>
                          <a:pt x="1033" y="2856"/>
                        </a:lnTo>
                        <a:lnTo>
                          <a:pt x="1021" y="2849"/>
                        </a:lnTo>
                        <a:lnTo>
                          <a:pt x="1010" y="2845"/>
                        </a:lnTo>
                        <a:lnTo>
                          <a:pt x="998" y="2837"/>
                        </a:lnTo>
                        <a:lnTo>
                          <a:pt x="991" y="2831"/>
                        </a:lnTo>
                        <a:lnTo>
                          <a:pt x="987" y="2820"/>
                        </a:lnTo>
                        <a:lnTo>
                          <a:pt x="989" y="2808"/>
                        </a:lnTo>
                        <a:lnTo>
                          <a:pt x="995" y="2807"/>
                        </a:lnTo>
                        <a:lnTo>
                          <a:pt x="998" y="2807"/>
                        </a:lnTo>
                        <a:lnTo>
                          <a:pt x="997" y="2791"/>
                        </a:lnTo>
                        <a:lnTo>
                          <a:pt x="997" y="2778"/>
                        </a:lnTo>
                        <a:lnTo>
                          <a:pt x="995" y="2764"/>
                        </a:lnTo>
                        <a:lnTo>
                          <a:pt x="995" y="2751"/>
                        </a:lnTo>
                        <a:lnTo>
                          <a:pt x="991" y="2738"/>
                        </a:lnTo>
                        <a:lnTo>
                          <a:pt x="989" y="2724"/>
                        </a:lnTo>
                        <a:lnTo>
                          <a:pt x="987" y="2713"/>
                        </a:lnTo>
                        <a:lnTo>
                          <a:pt x="985" y="2703"/>
                        </a:lnTo>
                        <a:lnTo>
                          <a:pt x="972" y="2667"/>
                        </a:lnTo>
                        <a:lnTo>
                          <a:pt x="966" y="2636"/>
                        </a:lnTo>
                        <a:lnTo>
                          <a:pt x="966" y="2611"/>
                        </a:lnTo>
                        <a:lnTo>
                          <a:pt x="972" y="2590"/>
                        </a:lnTo>
                        <a:lnTo>
                          <a:pt x="977" y="2567"/>
                        </a:lnTo>
                        <a:lnTo>
                          <a:pt x="985" y="2544"/>
                        </a:lnTo>
                        <a:lnTo>
                          <a:pt x="989" y="2517"/>
                        </a:lnTo>
                        <a:lnTo>
                          <a:pt x="995" y="2488"/>
                        </a:lnTo>
                        <a:lnTo>
                          <a:pt x="989" y="2440"/>
                        </a:lnTo>
                        <a:lnTo>
                          <a:pt x="983" y="2394"/>
                        </a:lnTo>
                        <a:lnTo>
                          <a:pt x="977" y="2346"/>
                        </a:lnTo>
                        <a:lnTo>
                          <a:pt x="974" y="2300"/>
                        </a:lnTo>
                        <a:lnTo>
                          <a:pt x="968" y="2254"/>
                        </a:lnTo>
                        <a:lnTo>
                          <a:pt x="964" y="2208"/>
                        </a:lnTo>
                        <a:lnTo>
                          <a:pt x="962" y="2164"/>
                        </a:lnTo>
                        <a:lnTo>
                          <a:pt x="962" y="2120"/>
                        </a:lnTo>
                        <a:lnTo>
                          <a:pt x="956" y="2103"/>
                        </a:lnTo>
                        <a:lnTo>
                          <a:pt x="956" y="2086"/>
                        </a:lnTo>
                        <a:lnTo>
                          <a:pt x="956" y="2069"/>
                        </a:lnTo>
                        <a:lnTo>
                          <a:pt x="962" y="2051"/>
                        </a:lnTo>
                        <a:lnTo>
                          <a:pt x="966" y="2032"/>
                        </a:lnTo>
                        <a:lnTo>
                          <a:pt x="970" y="2015"/>
                        </a:lnTo>
                        <a:lnTo>
                          <a:pt x="972" y="1998"/>
                        </a:lnTo>
                        <a:lnTo>
                          <a:pt x="974" y="1984"/>
                        </a:lnTo>
                        <a:lnTo>
                          <a:pt x="960" y="2003"/>
                        </a:lnTo>
                        <a:lnTo>
                          <a:pt x="952" y="2030"/>
                        </a:lnTo>
                        <a:lnTo>
                          <a:pt x="951" y="2063"/>
                        </a:lnTo>
                        <a:lnTo>
                          <a:pt x="951" y="2101"/>
                        </a:lnTo>
                        <a:lnTo>
                          <a:pt x="949" y="2138"/>
                        </a:lnTo>
                        <a:lnTo>
                          <a:pt x="947" y="2172"/>
                        </a:lnTo>
                        <a:lnTo>
                          <a:pt x="941" y="2203"/>
                        </a:lnTo>
                        <a:lnTo>
                          <a:pt x="929" y="2230"/>
                        </a:lnTo>
                        <a:lnTo>
                          <a:pt x="926" y="2233"/>
                        </a:lnTo>
                        <a:lnTo>
                          <a:pt x="924" y="2245"/>
                        </a:lnTo>
                        <a:lnTo>
                          <a:pt x="920" y="2256"/>
                        </a:lnTo>
                        <a:lnTo>
                          <a:pt x="916" y="2272"/>
                        </a:lnTo>
                        <a:lnTo>
                          <a:pt x="910" y="2285"/>
                        </a:lnTo>
                        <a:lnTo>
                          <a:pt x="905" y="2299"/>
                        </a:lnTo>
                        <a:lnTo>
                          <a:pt x="901" y="2308"/>
                        </a:lnTo>
                        <a:lnTo>
                          <a:pt x="899" y="2314"/>
                        </a:lnTo>
                        <a:lnTo>
                          <a:pt x="895" y="2308"/>
                        </a:lnTo>
                        <a:lnTo>
                          <a:pt x="893" y="2302"/>
                        </a:lnTo>
                        <a:lnTo>
                          <a:pt x="889" y="2291"/>
                        </a:lnTo>
                        <a:lnTo>
                          <a:pt x="885" y="2279"/>
                        </a:lnTo>
                        <a:lnTo>
                          <a:pt x="882" y="2268"/>
                        </a:lnTo>
                        <a:lnTo>
                          <a:pt x="878" y="2256"/>
                        </a:lnTo>
                        <a:lnTo>
                          <a:pt x="874" y="2249"/>
                        </a:lnTo>
                        <a:lnTo>
                          <a:pt x="874" y="2245"/>
                        </a:lnTo>
                        <a:lnTo>
                          <a:pt x="870" y="2245"/>
                        </a:lnTo>
                        <a:lnTo>
                          <a:pt x="866" y="2245"/>
                        </a:lnTo>
                        <a:lnTo>
                          <a:pt x="860" y="2249"/>
                        </a:lnTo>
                        <a:lnTo>
                          <a:pt x="859" y="2254"/>
                        </a:lnTo>
                        <a:lnTo>
                          <a:pt x="855" y="2258"/>
                        </a:lnTo>
                        <a:lnTo>
                          <a:pt x="853" y="2264"/>
                        </a:lnTo>
                        <a:lnTo>
                          <a:pt x="849" y="2272"/>
                        </a:lnTo>
                        <a:lnTo>
                          <a:pt x="845" y="2285"/>
                        </a:lnTo>
                        <a:lnTo>
                          <a:pt x="841" y="2285"/>
                        </a:lnTo>
                        <a:lnTo>
                          <a:pt x="839" y="2285"/>
                        </a:lnTo>
                        <a:lnTo>
                          <a:pt x="837" y="2270"/>
                        </a:lnTo>
                        <a:lnTo>
                          <a:pt x="837" y="2256"/>
                        </a:lnTo>
                        <a:lnTo>
                          <a:pt x="837" y="2241"/>
                        </a:lnTo>
                        <a:lnTo>
                          <a:pt x="837" y="2230"/>
                        </a:lnTo>
                        <a:lnTo>
                          <a:pt x="824" y="2233"/>
                        </a:lnTo>
                        <a:lnTo>
                          <a:pt x="814" y="2245"/>
                        </a:lnTo>
                        <a:lnTo>
                          <a:pt x="805" y="2256"/>
                        </a:lnTo>
                        <a:lnTo>
                          <a:pt x="799" y="2274"/>
                        </a:lnTo>
                        <a:lnTo>
                          <a:pt x="793" y="2291"/>
                        </a:lnTo>
                        <a:lnTo>
                          <a:pt x="788" y="2308"/>
                        </a:lnTo>
                        <a:lnTo>
                          <a:pt x="784" y="2322"/>
                        </a:lnTo>
                        <a:lnTo>
                          <a:pt x="784" y="2337"/>
                        </a:lnTo>
                        <a:lnTo>
                          <a:pt x="772" y="2348"/>
                        </a:lnTo>
                        <a:lnTo>
                          <a:pt x="765" y="2364"/>
                        </a:lnTo>
                        <a:lnTo>
                          <a:pt x="755" y="2377"/>
                        </a:lnTo>
                        <a:lnTo>
                          <a:pt x="749" y="2394"/>
                        </a:lnTo>
                        <a:lnTo>
                          <a:pt x="740" y="2408"/>
                        </a:lnTo>
                        <a:lnTo>
                          <a:pt x="732" y="2423"/>
                        </a:lnTo>
                        <a:lnTo>
                          <a:pt x="724" y="2438"/>
                        </a:lnTo>
                        <a:lnTo>
                          <a:pt x="719" y="2454"/>
                        </a:lnTo>
                        <a:lnTo>
                          <a:pt x="711" y="2454"/>
                        </a:lnTo>
                        <a:lnTo>
                          <a:pt x="707" y="2454"/>
                        </a:lnTo>
                        <a:lnTo>
                          <a:pt x="699" y="2438"/>
                        </a:lnTo>
                        <a:lnTo>
                          <a:pt x="697" y="2425"/>
                        </a:lnTo>
                        <a:lnTo>
                          <a:pt x="699" y="2408"/>
                        </a:lnTo>
                        <a:lnTo>
                          <a:pt x="701" y="2398"/>
                        </a:lnTo>
                        <a:lnTo>
                          <a:pt x="697" y="2396"/>
                        </a:lnTo>
                        <a:lnTo>
                          <a:pt x="688" y="2414"/>
                        </a:lnTo>
                        <a:lnTo>
                          <a:pt x="682" y="2433"/>
                        </a:lnTo>
                        <a:lnTo>
                          <a:pt x="676" y="2448"/>
                        </a:lnTo>
                        <a:lnTo>
                          <a:pt x="671" y="2463"/>
                        </a:lnTo>
                        <a:lnTo>
                          <a:pt x="663" y="2477"/>
                        </a:lnTo>
                        <a:lnTo>
                          <a:pt x="655" y="2492"/>
                        </a:lnTo>
                        <a:lnTo>
                          <a:pt x="646" y="2508"/>
                        </a:lnTo>
                        <a:lnTo>
                          <a:pt x="638" y="2525"/>
                        </a:lnTo>
                        <a:lnTo>
                          <a:pt x="632" y="2525"/>
                        </a:lnTo>
                        <a:lnTo>
                          <a:pt x="628" y="2529"/>
                        </a:lnTo>
                        <a:lnTo>
                          <a:pt x="621" y="2513"/>
                        </a:lnTo>
                        <a:lnTo>
                          <a:pt x="617" y="2496"/>
                        </a:lnTo>
                        <a:lnTo>
                          <a:pt x="613" y="2473"/>
                        </a:lnTo>
                        <a:lnTo>
                          <a:pt x="613" y="2452"/>
                        </a:lnTo>
                        <a:lnTo>
                          <a:pt x="609" y="2427"/>
                        </a:lnTo>
                        <a:lnTo>
                          <a:pt x="607" y="2406"/>
                        </a:lnTo>
                        <a:lnTo>
                          <a:pt x="605" y="2385"/>
                        </a:lnTo>
                        <a:lnTo>
                          <a:pt x="604" y="2371"/>
                        </a:lnTo>
                        <a:lnTo>
                          <a:pt x="600" y="2369"/>
                        </a:lnTo>
                        <a:lnTo>
                          <a:pt x="596" y="2369"/>
                        </a:lnTo>
                        <a:lnTo>
                          <a:pt x="584" y="2381"/>
                        </a:lnTo>
                        <a:lnTo>
                          <a:pt x="573" y="2396"/>
                        </a:lnTo>
                        <a:lnTo>
                          <a:pt x="565" y="2406"/>
                        </a:lnTo>
                        <a:lnTo>
                          <a:pt x="561" y="2414"/>
                        </a:lnTo>
                        <a:lnTo>
                          <a:pt x="557" y="2400"/>
                        </a:lnTo>
                        <a:lnTo>
                          <a:pt x="557" y="2387"/>
                        </a:lnTo>
                        <a:lnTo>
                          <a:pt x="557" y="2375"/>
                        </a:lnTo>
                        <a:lnTo>
                          <a:pt x="557" y="2364"/>
                        </a:lnTo>
                        <a:lnTo>
                          <a:pt x="557" y="2352"/>
                        </a:lnTo>
                        <a:lnTo>
                          <a:pt x="561" y="2341"/>
                        </a:lnTo>
                        <a:lnTo>
                          <a:pt x="561" y="2329"/>
                        </a:lnTo>
                        <a:lnTo>
                          <a:pt x="565" y="2320"/>
                        </a:lnTo>
                        <a:lnTo>
                          <a:pt x="550" y="2329"/>
                        </a:lnTo>
                        <a:lnTo>
                          <a:pt x="544" y="2348"/>
                        </a:lnTo>
                        <a:lnTo>
                          <a:pt x="540" y="2358"/>
                        </a:lnTo>
                        <a:lnTo>
                          <a:pt x="536" y="2369"/>
                        </a:lnTo>
                        <a:lnTo>
                          <a:pt x="531" y="2377"/>
                        </a:lnTo>
                        <a:lnTo>
                          <a:pt x="527" y="2385"/>
                        </a:lnTo>
                        <a:lnTo>
                          <a:pt x="525" y="2381"/>
                        </a:lnTo>
                        <a:lnTo>
                          <a:pt x="525" y="2377"/>
                        </a:lnTo>
                        <a:lnTo>
                          <a:pt x="513" y="2375"/>
                        </a:lnTo>
                        <a:lnTo>
                          <a:pt x="506" y="2377"/>
                        </a:lnTo>
                        <a:lnTo>
                          <a:pt x="500" y="2368"/>
                        </a:lnTo>
                        <a:lnTo>
                          <a:pt x="496" y="2358"/>
                        </a:lnTo>
                        <a:lnTo>
                          <a:pt x="492" y="2345"/>
                        </a:lnTo>
                        <a:lnTo>
                          <a:pt x="490" y="2331"/>
                        </a:lnTo>
                        <a:lnTo>
                          <a:pt x="487" y="2314"/>
                        </a:lnTo>
                        <a:lnTo>
                          <a:pt x="485" y="2300"/>
                        </a:lnTo>
                        <a:lnTo>
                          <a:pt x="481" y="2287"/>
                        </a:lnTo>
                        <a:lnTo>
                          <a:pt x="479" y="2279"/>
                        </a:lnTo>
                        <a:lnTo>
                          <a:pt x="475" y="2279"/>
                        </a:lnTo>
                        <a:lnTo>
                          <a:pt x="471" y="2279"/>
                        </a:lnTo>
                        <a:lnTo>
                          <a:pt x="465" y="2279"/>
                        </a:lnTo>
                        <a:lnTo>
                          <a:pt x="462" y="2281"/>
                        </a:lnTo>
                        <a:lnTo>
                          <a:pt x="454" y="2264"/>
                        </a:lnTo>
                        <a:lnTo>
                          <a:pt x="448" y="2249"/>
                        </a:lnTo>
                        <a:lnTo>
                          <a:pt x="439" y="2235"/>
                        </a:lnTo>
                        <a:lnTo>
                          <a:pt x="429" y="2226"/>
                        </a:lnTo>
                        <a:lnTo>
                          <a:pt x="421" y="2235"/>
                        </a:lnTo>
                        <a:lnTo>
                          <a:pt x="414" y="2249"/>
                        </a:lnTo>
                        <a:lnTo>
                          <a:pt x="404" y="2258"/>
                        </a:lnTo>
                        <a:lnTo>
                          <a:pt x="396" y="2264"/>
                        </a:lnTo>
                        <a:lnTo>
                          <a:pt x="391" y="2247"/>
                        </a:lnTo>
                        <a:lnTo>
                          <a:pt x="385" y="2237"/>
                        </a:lnTo>
                        <a:lnTo>
                          <a:pt x="372" y="2253"/>
                        </a:lnTo>
                        <a:lnTo>
                          <a:pt x="364" y="2274"/>
                        </a:lnTo>
                        <a:lnTo>
                          <a:pt x="358" y="2295"/>
                        </a:lnTo>
                        <a:lnTo>
                          <a:pt x="352" y="2318"/>
                        </a:lnTo>
                        <a:lnTo>
                          <a:pt x="347" y="2339"/>
                        </a:lnTo>
                        <a:lnTo>
                          <a:pt x="341" y="2360"/>
                        </a:lnTo>
                        <a:lnTo>
                          <a:pt x="331" y="2381"/>
                        </a:lnTo>
                        <a:lnTo>
                          <a:pt x="320" y="2400"/>
                        </a:lnTo>
                        <a:lnTo>
                          <a:pt x="318" y="2381"/>
                        </a:lnTo>
                        <a:lnTo>
                          <a:pt x="320" y="2366"/>
                        </a:lnTo>
                        <a:lnTo>
                          <a:pt x="322" y="2350"/>
                        </a:lnTo>
                        <a:lnTo>
                          <a:pt x="324" y="2337"/>
                        </a:lnTo>
                        <a:lnTo>
                          <a:pt x="312" y="2312"/>
                        </a:lnTo>
                        <a:lnTo>
                          <a:pt x="306" y="2285"/>
                        </a:lnTo>
                        <a:lnTo>
                          <a:pt x="301" y="2256"/>
                        </a:lnTo>
                        <a:lnTo>
                          <a:pt x="299" y="2230"/>
                        </a:lnTo>
                        <a:lnTo>
                          <a:pt x="297" y="2201"/>
                        </a:lnTo>
                        <a:lnTo>
                          <a:pt x="297" y="2176"/>
                        </a:lnTo>
                        <a:lnTo>
                          <a:pt x="297" y="2149"/>
                        </a:lnTo>
                        <a:lnTo>
                          <a:pt x="299" y="2128"/>
                        </a:lnTo>
                        <a:lnTo>
                          <a:pt x="312" y="2120"/>
                        </a:lnTo>
                        <a:lnTo>
                          <a:pt x="322" y="2113"/>
                        </a:lnTo>
                        <a:lnTo>
                          <a:pt x="325" y="2105"/>
                        </a:lnTo>
                        <a:lnTo>
                          <a:pt x="333" y="2093"/>
                        </a:lnTo>
                        <a:lnTo>
                          <a:pt x="347" y="2093"/>
                        </a:lnTo>
                        <a:lnTo>
                          <a:pt x="362" y="2093"/>
                        </a:lnTo>
                        <a:lnTo>
                          <a:pt x="366" y="2103"/>
                        </a:lnTo>
                        <a:lnTo>
                          <a:pt x="375" y="2115"/>
                        </a:lnTo>
                        <a:lnTo>
                          <a:pt x="396" y="2074"/>
                        </a:lnTo>
                        <a:lnTo>
                          <a:pt x="416" y="2030"/>
                        </a:lnTo>
                        <a:lnTo>
                          <a:pt x="429" y="1982"/>
                        </a:lnTo>
                        <a:lnTo>
                          <a:pt x="441" y="1936"/>
                        </a:lnTo>
                        <a:lnTo>
                          <a:pt x="446" y="1886"/>
                        </a:lnTo>
                        <a:lnTo>
                          <a:pt x="450" y="1838"/>
                        </a:lnTo>
                        <a:lnTo>
                          <a:pt x="450" y="1791"/>
                        </a:lnTo>
                        <a:lnTo>
                          <a:pt x="450" y="1746"/>
                        </a:lnTo>
                        <a:lnTo>
                          <a:pt x="444" y="1735"/>
                        </a:lnTo>
                        <a:lnTo>
                          <a:pt x="441" y="1725"/>
                        </a:lnTo>
                        <a:lnTo>
                          <a:pt x="439" y="1718"/>
                        </a:lnTo>
                        <a:lnTo>
                          <a:pt x="441" y="1712"/>
                        </a:lnTo>
                        <a:lnTo>
                          <a:pt x="435" y="1710"/>
                        </a:lnTo>
                        <a:lnTo>
                          <a:pt x="431" y="1710"/>
                        </a:lnTo>
                        <a:lnTo>
                          <a:pt x="431" y="1733"/>
                        </a:lnTo>
                        <a:lnTo>
                          <a:pt x="437" y="1768"/>
                        </a:lnTo>
                        <a:lnTo>
                          <a:pt x="439" y="1806"/>
                        </a:lnTo>
                        <a:lnTo>
                          <a:pt x="442" y="1850"/>
                        </a:lnTo>
                        <a:lnTo>
                          <a:pt x="442" y="1890"/>
                        </a:lnTo>
                        <a:lnTo>
                          <a:pt x="441" y="1929"/>
                        </a:lnTo>
                        <a:lnTo>
                          <a:pt x="433" y="1959"/>
                        </a:lnTo>
                        <a:lnTo>
                          <a:pt x="421" y="1980"/>
                        </a:lnTo>
                        <a:lnTo>
                          <a:pt x="418" y="1973"/>
                        </a:lnTo>
                        <a:lnTo>
                          <a:pt x="414" y="1963"/>
                        </a:lnTo>
                        <a:lnTo>
                          <a:pt x="410" y="1963"/>
                        </a:lnTo>
                        <a:lnTo>
                          <a:pt x="408" y="1963"/>
                        </a:lnTo>
                        <a:lnTo>
                          <a:pt x="406" y="1980"/>
                        </a:lnTo>
                        <a:lnTo>
                          <a:pt x="406" y="1998"/>
                        </a:lnTo>
                        <a:lnTo>
                          <a:pt x="402" y="2013"/>
                        </a:lnTo>
                        <a:lnTo>
                          <a:pt x="400" y="2028"/>
                        </a:lnTo>
                        <a:lnTo>
                          <a:pt x="396" y="2042"/>
                        </a:lnTo>
                        <a:lnTo>
                          <a:pt x="393" y="2059"/>
                        </a:lnTo>
                        <a:lnTo>
                          <a:pt x="387" y="2074"/>
                        </a:lnTo>
                        <a:lnTo>
                          <a:pt x="381" y="2093"/>
                        </a:lnTo>
                        <a:lnTo>
                          <a:pt x="377" y="2093"/>
                        </a:lnTo>
                        <a:lnTo>
                          <a:pt x="373" y="2095"/>
                        </a:lnTo>
                        <a:lnTo>
                          <a:pt x="372" y="2084"/>
                        </a:lnTo>
                        <a:lnTo>
                          <a:pt x="372" y="2074"/>
                        </a:lnTo>
                        <a:lnTo>
                          <a:pt x="372" y="2063"/>
                        </a:lnTo>
                        <a:lnTo>
                          <a:pt x="372" y="2053"/>
                        </a:lnTo>
                        <a:lnTo>
                          <a:pt x="368" y="2053"/>
                        </a:lnTo>
                        <a:lnTo>
                          <a:pt x="366" y="2057"/>
                        </a:lnTo>
                        <a:lnTo>
                          <a:pt x="358" y="2069"/>
                        </a:lnTo>
                        <a:lnTo>
                          <a:pt x="354" y="2084"/>
                        </a:lnTo>
                        <a:lnTo>
                          <a:pt x="343" y="2080"/>
                        </a:lnTo>
                        <a:lnTo>
                          <a:pt x="331" y="2080"/>
                        </a:lnTo>
                        <a:lnTo>
                          <a:pt x="322" y="2093"/>
                        </a:lnTo>
                        <a:lnTo>
                          <a:pt x="316" y="2109"/>
                        </a:lnTo>
                        <a:lnTo>
                          <a:pt x="297" y="2115"/>
                        </a:lnTo>
                        <a:lnTo>
                          <a:pt x="278" y="2126"/>
                        </a:lnTo>
                        <a:lnTo>
                          <a:pt x="258" y="2139"/>
                        </a:lnTo>
                        <a:lnTo>
                          <a:pt x="247" y="2151"/>
                        </a:lnTo>
                        <a:lnTo>
                          <a:pt x="245" y="2161"/>
                        </a:lnTo>
                        <a:lnTo>
                          <a:pt x="243" y="2182"/>
                        </a:lnTo>
                        <a:lnTo>
                          <a:pt x="239" y="2210"/>
                        </a:lnTo>
                        <a:lnTo>
                          <a:pt x="235" y="2245"/>
                        </a:lnTo>
                        <a:lnTo>
                          <a:pt x="230" y="2277"/>
                        </a:lnTo>
                        <a:lnTo>
                          <a:pt x="226" y="2306"/>
                        </a:lnTo>
                        <a:lnTo>
                          <a:pt x="222" y="2329"/>
                        </a:lnTo>
                        <a:lnTo>
                          <a:pt x="222" y="2341"/>
                        </a:lnTo>
                        <a:lnTo>
                          <a:pt x="222" y="2364"/>
                        </a:lnTo>
                        <a:lnTo>
                          <a:pt x="222" y="2389"/>
                        </a:lnTo>
                        <a:lnTo>
                          <a:pt x="222" y="2414"/>
                        </a:lnTo>
                        <a:lnTo>
                          <a:pt x="224" y="2438"/>
                        </a:lnTo>
                        <a:lnTo>
                          <a:pt x="224" y="2463"/>
                        </a:lnTo>
                        <a:lnTo>
                          <a:pt x="230" y="2490"/>
                        </a:lnTo>
                        <a:lnTo>
                          <a:pt x="233" y="2515"/>
                        </a:lnTo>
                        <a:lnTo>
                          <a:pt x="241" y="2542"/>
                        </a:lnTo>
                        <a:lnTo>
                          <a:pt x="235" y="2544"/>
                        </a:lnTo>
                        <a:lnTo>
                          <a:pt x="230" y="2546"/>
                        </a:lnTo>
                        <a:lnTo>
                          <a:pt x="232" y="2554"/>
                        </a:lnTo>
                        <a:lnTo>
                          <a:pt x="243" y="2557"/>
                        </a:lnTo>
                        <a:lnTo>
                          <a:pt x="247" y="2565"/>
                        </a:lnTo>
                        <a:lnTo>
                          <a:pt x="251" y="2573"/>
                        </a:lnTo>
                        <a:lnTo>
                          <a:pt x="253" y="2582"/>
                        </a:lnTo>
                        <a:lnTo>
                          <a:pt x="255" y="2594"/>
                        </a:lnTo>
                        <a:lnTo>
                          <a:pt x="237" y="2603"/>
                        </a:lnTo>
                        <a:lnTo>
                          <a:pt x="222" y="2619"/>
                        </a:lnTo>
                        <a:lnTo>
                          <a:pt x="203" y="2632"/>
                        </a:lnTo>
                        <a:lnTo>
                          <a:pt x="186" y="2646"/>
                        </a:lnTo>
                        <a:lnTo>
                          <a:pt x="178" y="2630"/>
                        </a:lnTo>
                        <a:lnTo>
                          <a:pt x="170" y="2626"/>
                        </a:lnTo>
                        <a:lnTo>
                          <a:pt x="159" y="2626"/>
                        </a:lnTo>
                        <a:lnTo>
                          <a:pt x="147" y="2632"/>
                        </a:lnTo>
                        <a:lnTo>
                          <a:pt x="145" y="2621"/>
                        </a:lnTo>
                        <a:lnTo>
                          <a:pt x="145" y="2611"/>
                        </a:lnTo>
                        <a:lnTo>
                          <a:pt x="145" y="2603"/>
                        </a:lnTo>
                        <a:lnTo>
                          <a:pt x="147" y="2598"/>
                        </a:lnTo>
                        <a:lnTo>
                          <a:pt x="147" y="2582"/>
                        </a:lnTo>
                        <a:lnTo>
                          <a:pt x="153" y="2569"/>
                        </a:lnTo>
                        <a:lnTo>
                          <a:pt x="159" y="2567"/>
                        </a:lnTo>
                        <a:lnTo>
                          <a:pt x="166" y="2565"/>
                        </a:lnTo>
                        <a:lnTo>
                          <a:pt x="166" y="2561"/>
                        </a:lnTo>
                        <a:lnTo>
                          <a:pt x="166" y="2557"/>
                        </a:lnTo>
                        <a:lnTo>
                          <a:pt x="163" y="2555"/>
                        </a:lnTo>
                        <a:lnTo>
                          <a:pt x="159" y="2555"/>
                        </a:lnTo>
                        <a:lnTo>
                          <a:pt x="159" y="2540"/>
                        </a:lnTo>
                        <a:lnTo>
                          <a:pt x="161" y="2529"/>
                        </a:lnTo>
                        <a:lnTo>
                          <a:pt x="157" y="2515"/>
                        </a:lnTo>
                        <a:lnTo>
                          <a:pt x="153" y="2490"/>
                        </a:lnTo>
                        <a:lnTo>
                          <a:pt x="145" y="2452"/>
                        </a:lnTo>
                        <a:lnTo>
                          <a:pt x="140" y="2408"/>
                        </a:lnTo>
                        <a:lnTo>
                          <a:pt x="132" y="2360"/>
                        </a:lnTo>
                        <a:lnTo>
                          <a:pt x="124" y="2318"/>
                        </a:lnTo>
                        <a:lnTo>
                          <a:pt x="118" y="2281"/>
                        </a:lnTo>
                        <a:lnTo>
                          <a:pt x="117" y="2260"/>
                        </a:lnTo>
                        <a:lnTo>
                          <a:pt x="101" y="2228"/>
                        </a:lnTo>
                        <a:lnTo>
                          <a:pt x="86" y="2197"/>
                        </a:lnTo>
                        <a:lnTo>
                          <a:pt x="72" y="2168"/>
                        </a:lnTo>
                        <a:lnTo>
                          <a:pt x="63" y="2139"/>
                        </a:lnTo>
                        <a:lnTo>
                          <a:pt x="53" y="2109"/>
                        </a:lnTo>
                        <a:lnTo>
                          <a:pt x="51" y="2080"/>
                        </a:lnTo>
                        <a:lnTo>
                          <a:pt x="55" y="2049"/>
                        </a:lnTo>
                        <a:lnTo>
                          <a:pt x="67" y="2019"/>
                        </a:lnTo>
                        <a:lnTo>
                          <a:pt x="72" y="2017"/>
                        </a:lnTo>
                        <a:lnTo>
                          <a:pt x="82" y="2017"/>
                        </a:lnTo>
                        <a:lnTo>
                          <a:pt x="84" y="2021"/>
                        </a:lnTo>
                        <a:lnTo>
                          <a:pt x="88" y="2024"/>
                        </a:lnTo>
                        <a:lnTo>
                          <a:pt x="92" y="2024"/>
                        </a:lnTo>
                        <a:lnTo>
                          <a:pt x="97" y="2024"/>
                        </a:lnTo>
                        <a:lnTo>
                          <a:pt x="97" y="2021"/>
                        </a:lnTo>
                        <a:lnTo>
                          <a:pt x="97" y="2019"/>
                        </a:lnTo>
                        <a:lnTo>
                          <a:pt x="80" y="1998"/>
                        </a:lnTo>
                        <a:lnTo>
                          <a:pt x="70" y="1978"/>
                        </a:lnTo>
                        <a:lnTo>
                          <a:pt x="63" y="1957"/>
                        </a:lnTo>
                        <a:lnTo>
                          <a:pt x="59" y="1940"/>
                        </a:lnTo>
                        <a:lnTo>
                          <a:pt x="55" y="1919"/>
                        </a:lnTo>
                        <a:lnTo>
                          <a:pt x="53" y="1900"/>
                        </a:lnTo>
                        <a:lnTo>
                          <a:pt x="49" y="1881"/>
                        </a:lnTo>
                        <a:lnTo>
                          <a:pt x="46" y="1863"/>
                        </a:lnTo>
                        <a:lnTo>
                          <a:pt x="40" y="1863"/>
                        </a:lnTo>
                        <a:lnTo>
                          <a:pt x="30" y="1871"/>
                        </a:lnTo>
                        <a:lnTo>
                          <a:pt x="21" y="1879"/>
                        </a:lnTo>
                        <a:lnTo>
                          <a:pt x="21" y="1861"/>
                        </a:lnTo>
                        <a:lnTo>
                          <a:pt x="23" y="1844"/>
                        </a:lnTo>
                        <a:lnTo>
                          <a:pt x="23" y="1821"/>
                        </a:lnTo>
                        <a:lnTo>
                          <a:pt x="26" y="1800"/>
                        </a:lnTo>
                        <a:lnTo>
                          <a:pt x="26" y="1777"/>
                        </a:lnTo>
                        <a:lnTo>
                          <a:pt x="28" y="1758"/>
                        </a:lnTo>
                        <a:lnTo>
                          <a:pt x="26" y="1743"/>
                        </a:lnTo>
                        <a:lnTo>
                          <a:pt x="26" y="1735"/>
                        </a:lnTo>
                        <a:lnTo>
                          <a:pt x="15" y="1746"/>
                        </a:lnTo>
                        <a:lnTo>
                          <a:pt x="0" y="1754"/>
                        </a:lnTo>
                        <a:lnTo>
                          <a:pt x="1" y="1723"/>
                        </a:lnTo>
                        <a:lnTo>
                          <a:pt x="9" y="1695"/>
                        </a:lnTo>
                        <a:lnTo>
                          <a:pt x="19" y="1668"/>
                        </a:lnTo>
                        <a:lnTo>
                          <a:pt x="30" y="1645"/>
                        </a:lnTo>
                        <a:lnTo>
                          <a:pt x="42" y="1622"/>
                        </a:lnTo>
                        <a:lnTo>
                          <a:pt x="53" y="1599"/>
                        </a:lnTo>
                        <a:lnTo>
                          <a:pt x="63" y="1576"/>
                        </a:lnTo>
                        <a:lnTo>
                          <a:pt x="69" y="1555"/>
                        </a:lnTo>
                        <a:lnTo>
                          <a:pt x="51" y="1561"/>
                        </a:lnTo>
                        <a:lnTo>
                          <a:pt x="40" y="1574"/>
                        </a:lnTo>
                        <a:lnTo>
                          <a:pt x="24" y="1585"/>
                        </a:lnTo>
                        <a:lnTo>
                          <a:pt x="11" y="1595"/>
                        </a:lnTo>
                        <a:lnTo>
                          <a:pt x="15" y="1572"/>
                        </a:lnTo>
                        <a:lnTo>
                          <a:pt x="26" y="1547"/>
                        </a:lnTo>
                        <a:lnTo>
                          <a:pt x="42" y="1516"/>
                        </a:lnTo>
                        <a:lnTo>
                          <a:pt x="65" y="1488"/>
                        </a:lnTo>
                        <a:lnTo>
                          <a:pt x="86" y="1459"/>
                        </a:lnTo>
                        <a:lnTo>
                          <a:pt x="109" y="1432"/>
                        </a:lnTo>
                        <a:lnTo>
                          <a:pt x="128" y="1409"/>
                        </a:lnTo>
                        <a:lnTo>
                          <a:pt x="145" y="1392"/>
                        </a:lnTo>
                        <a:lnTo>
                          <a:pt x="155" y="1384"/>
                        </a:lnTo>
                        <a:lnTo>
                          <a:pt x="168" y="1375"/>
                        </a:lnTo>
                        <a:lnTo>
                          <a:pt x="180" y="1365"/>
                        </a:lnTo>
                        <a:lnTo>
                          <a:pt x="187" y="1357"/>
                        </a:lnTo>
                        <a:lnTo>
                          <a:pt x="174" y="1357"/>
                        </a:lnTo>
                        <a:lnTo>
                          <a:pt x="163" y="1361"/>
                        </a:lnTo>
                        <a:lnTo>
                          <a:pt x="149" y="1365"/>
                        </a:lnTo>
                        <a:lnTo>
                          <a:pt x="138" y="1371"/>
                        </a:lnTo>
                        <a:lnTo>
                          <a:pt x="138" y="1359"/>
                        </a:lnTo>
                        <a:lnTo>
                          <a:pt x="143" y="1353"/>
                        </a:lnTo>
                        <a:lnTo>
                          <a:pt x="147" y="1350"/>
                        </a:lnTo>
                        <a:lnTo>
                          <a:pt x="153" y="1350"/>
                        </a:lnTo>
                        <a:lnTo>
                          <a:pt x="163" y="1344"/>
                        </a:lnTo>
                        <a:lnTo>
                          <a:pt x="174" y="1332"/>
                        </a:lnTo>
                        <a:lnTo>
                          <a:pt x="228" y="1302"/>
                        </a:lnTo>
                        <a:lnTo>
                          <a:pt x="283" y="1284"/>
                        </a:lnTo>
                        <a:lnTo>
                          <a:pt x="337" y="1273"/>
                        </a:lnTo>
                        <a:lnTo>
                          <a:pt x="393" y="1275"/>
                        </a:lnTo>
                        <a:lnTo>
                          <a:pt x="444" y="1283"/>
                        </a:lnTo>
                        <a:lnTo>
                          <a:pt x="498" y="1302"/>
                        </a:lnTo>
                        <a:lnTo>
                          <a:pt x="548" y="1329"/>
                        </a:lnTo>
                        <a:lnTo>
                          <a:pt x="600" y="1367"/>
                        </a:lnTo>
                        <a:lnTo>
                          <a:pt x="632" y="1394"/>
                        </a:lnTo>
                        <a:lnTo>
                          <a:pt x="676" y="1411"/>
                        </a:lnTo>
                        <a:lnTo>
                          <a:pt x="724" y="1419"/>
                        </a:lnTo>
                        <a:lnTo>
                          <a:pt x="780" y="1421"/>
                        </a:lnTo>
                        <a:lnTo>
                          <a:pt x="834" y="1415"/>
                        </a:lnTo>
                        <a:lnTo>
                          <a:pt x="889" y="1411"/>
                        </a:lnTo>
                        <a:lnTo>
                          <a:pt x="939" y="1405"/>
                        </a:lnTo>
                        <a:lnTo>
                          <a:pt x="985" y="1401"/>
                        </a:lnTo>
                        <a:lnTo>
                          <a:pt x="981" y="1405"/>
                        </a:lnTo>
                        <a:lnTo>
                          <a:pt x="972" y="1415"/>
                        </a:lnTo>
                        <a:lnTo>
                          <a:pt x="958" y="1426"/>
                        </a:lnTo>
                        <a:lnTo>
                          <a:pt x="947" y="1438"/>
                        </a:lnTo>
                        <a:lnTo>
                          <a:pt x="933" y="1447"/>
                        </a:lnTo>
                        <a:lnTo>
                          <a:pt x="926" y="1459"/>
                        </a:lnTo>
                        <a:lnTo>
                          <a:pt x="922" y="1469"/>
                        </a:lnTo>
                        <a:lnTo>
                          <a:pt x="928" y="1476"/>
                        </a:lnTo>
                        <a:lnTo>
                          <a:pt x="935" y="1470"/>
                        </a:lnTo>
                        <a:lnTo>
                          <a:pt x="947" y="1465"/>
                        </a:lnTo>
                        <a:lnTo>
                          <a:pt x="949" y="1465"/>
                        </a:lnTo>
                        <a:lnTo>
                          <a:pt x="941" y="1476"/>
                        </a:lnTo>
                        <a:lnTo>
                          <a:pt x="933" y="1488"/>
                        </a:lnTo>
                        <a:lnTo>
                          <a:pt x="926" y="1497"/>
                        </a:lnTo>
                        <a:lnTo>
                          <a:pt x="918" y="1509"/>
                        </a:lnTo>
                        <a:lnTo>
                          <a:pt x="908" y="1518"/>
                        </a:lnTo>
                        <a:lnTo>
                          <a:pt x="903" y="1532"/>
                        </a:lnTo>
                        <a:lnTo>
                          <a:pt x="897" y="1547"/>
                        </a:lnTo>
                        <a:lnTo>
                          <a:pt x="895" y="1568"/>
                        </a:lnTo>
                        <a:lnTo>
                          <a:pt x="899" y="1568"/>
                        </a:lnTo>
                        <a:lnTo>
                          <a:pt x="905" y="1568"/>
                        </a:lnTo>
                        <a:lnTo>
                          <a:pt x="906" y="1545"/>
                        </a:lnTo>
                        <a:lnTo>
                          <a:pt x="914" y="1528"/>
                        </a:lnTo>
                        <a:lnTo>
                          <a:pt x="924" y="1509"/>
                        </a:lnTo>
                        <a:lnTo>
                          <a:pt x="937" y="1493"/>
                        </a:lnTo>
                        <a:lnTo>
                          <a:pt x="949" y="1478"/>
                        </a:lnTo>
                        <a:lnTo>
                          <a:pt x="960" y="1467"/>
                        </a:lnTo>
                        <a:lnTo>
                          <a:pt x="966" y="1455"/>
                        </a:lnTo>
                        <a:lnTo>
                          <a:pt x="970" y="1447"/>
                        </a:lnTo>
                        <a:lnTo>
                          <a:pt x="966" y="1447"/>
                        </a:lnTo>
                        <a:lnTo>
                          <a:pt x="962" y="1447"/>
                        </a:lnTo>
                        <a:lnTo>
                          <a:pt x="962" y="1442"/>
                        </a:lnTo>
                        <a:lnTo>
                          <a:pt x="977" y="1428"/>
                        </a:lnTo>
                        <a:lnTo>
                          <a:pt x="998" y="1417"/>
                        </a:lnTo>
                        <a:lnTo>
                          <a:pt x="1016" y="1405"/>
                        </a:lnTo>
                        <a:lnTo>
                          <a:pt x="1029" y="1396"/>
                        </a:lnTo>
                        <a:lnTo>
                          <a:pt x="1020" y="1392"/>
                        </a:lnTo>
                        <a:lnTo>
                          <a:pt x="1016" y="1388"/>
                        </a:lnTo>
                        <a:lnTo>
                          <a:pt x="1016" y="1384"/>
                        </a:lnTo>
                        <a:lnTo>
                          <a:pt x="1016" y="1380"/>
                        </a:lnTo>
                        <a:lnTo>
                          <a:pt x="1067" y="1348"/>
                        </a:lnTo>
                        <a:lnTo>
                          <a:pt x="1112" y="1317"/>
                        </a:lnTo>
                        <a:lnTo>
                          <a:pt x="1144" y="1284"/>
                        </a:lnTo>
                        <a:lnTo>
                          <a:pt x="1169" y="1250"/>
                        </a:lnTo>
                        <a:lnTo>
                          <a:pt x="1186" y="1210"/>
                        </a:lnTo>
                        <a:lnTo>
                          <a:pt x="1198" y="1166"/>
                        </a:lnTo>
                        <a:lnTo>
                          <a:pt x="1206" y="1112"/>
                        </a:lnTo>
                        <a:lnTo>
                          <a:pt x="1209" y="1053"/>
                        </a:lnTo>
                        <a:lnTo>
                          <a:pt x="1206" y="1033"/>
                        </a:lnTo>
                        <a:lnTo>
                          <a:pt x="1204" y="1014"/>
                        </a:lnTo>
                        <a:lnTo>
                          <a:pt x="1200" y="995"/>
                        </a:lnTo>
                        <a:lnTo>
                          <a:pt x="1198" y="976"/>
                        </a:lnTo>
                        <a:lnTo>
                          <a:pt x="1194" y="957"/>
                        </a:lnTo>
                        <a:lnTo>
                          <a:pt x="1192" y="938"/>
                        </a:lnTo>
                        <a:lnTo>
                          <a:pt x="1190" y="920"/>
                        </a:lnTo>
                        <a:lnTo>
                          <a:pt x="1192" y="903"/>
                        </a:lnTo>
                        <a:lnTo>
                          <a:pt x="1196" y="907"/>
                        </a:lnTo>
                        <a:lnTo>
                          <a:pt x="1200" y="915"/>
                        </a:lnTo>
                        <a:lnTo>
                          <a:pt x="1204" y="924"/>
                        </a:lnTo>
                        <a:lnTo>
                          <a:pt x="1207" y="936"/>
                        </a:lnTo>
                        <a:lnTo>
                          <a:pt x="1209" y="947"/>
                        </a:lnTo>
                        <a:lnTo>
                          <a:pt x="1213" y="959"/>
                        </a:lnTo>
                        <a:lnTo>
                          <a:pt x="1215" y="968"/>
                        </a:lnTo>
                        <a:lnTo>
                          <a:pt x="1219" y="980"/>
                        </a:lnTo>
                        <a:lnTo>
                          <a:pt x="1217" y="959"/>
                        </a:lnTo>
                        <a:lnTo>
                          <a:pt x="1217" y="943"/>
                        </a:lnTo>
                        <a:lnTo>
                          <a:pt x="1213" y="928"/>
                        </a:lnTo>
                        <a:lnTo>
                          <a:pt x="1209" y="918"/>
                        </a:lnTo>
                        <a:lnTo>
                          <a:pt x="1202" y="907"/>
                        </a:lnTo>
                        <a:lnTo>
                          <a:pt x="1196" y="895"/>
                        </a:lnTo>
                        <a:lnTo>
                          <a:pt x="1188" y="884"/>
                        </a:lnTo>
                        <a:lnTo>
                          <a:pt x="1179" y="874"/>
                        </a:lnTo>
                        <a:lnTo>
                          <a:pt x="1171" y="857"/>
                        </a:lnTo>
                        <a:lnTo>
                          <a:pt x="1169" y="840"/>
                        </a:lnTo>
                        <a:lnTo>
                          <a:pt x="1165" y="822"/>
                        </a:lnTo>
                        <a:lnTo>
                          <a:pt x="1161" y="811"/>
                        </a:lnTo>
                        <a:lnTo>
                          <a:pt x="1154" y="817"/>
                        </a:lnTo>
                        <a:lnTo>
                          <a:pt x="1154" y="824"/>
                        </a:lnTo>
                        <a:lnTo>
                          <a:pt x="1146" y="824"/>
                        </a:lnTo>
                        <a:lnTo>
                          <a:pt x="1142" y="824"/>
                        </a:lnTo>
                        <a:lnTo>
                          <a:pt x="1131" y="803"/>
                        </a:lnTo>
                        <a:lnTo>
                          <a:pt x="1123" y="784"/>
                        </a:lnTo>
                        <a:lnTo>
                          <a:pt x="1115" y="763"/>
                        </a:lnTo>
                        <a:lnTo>
                          <a:pt x="1112" y="742"/>
                        </a:lnTo>
                        <a:lnTo>
                          <a:pt x="1106" y="719"/>
                        </a:lnTo>
                        <a:lnTo>
                          <a:pt x="1104" y="698"/>
                        </a:lnTo>
                        <a:lnTo>
                          <a:pt x="1102" y="677"/>
                        </a:lnTo>
                        <a:lnTo>
                          <a:pt x="1102" y="660"/>
                        </a:lnTo>
                        <a:lnTo>
                          <a:pt x="1092" y="661"/>
                        </a:lnTo>
                        <a:lnTo>
                          <a:pt x="1087" y="669"/>
                        </a:lnTo>
                        <a:lnTo>
                          <a:pt x="1087" y="658"/>
                        </a:lnTo>
                        <a:lnTo>
                          <a:pt x="1087" y="646"/>
                        </a:lnTo>
                        <a:lnTo>
                          <a:pt x="1087" y="637"/>
                        </a:lnTo>
                        <a:lnTo>
                          <a:pt x="1087" y="629"/>
                        </a:lnTo>
                        <a:lnTo>
                          <a:pt x="1089" y="610"/>
                        </a:lnTo>
                        <a:lnTo>
                          <a:pt x="1092" y="592"/>
                        </a:lnTo>
                        <a:lnTo>
                          <a:pt x="1089" y="591"/>
                        </a:lnTo>
                        <a:lnTo>
                          <a:pt x="1081" y="592"/>
                        </a:lnTo>
                        <a:lnTo>
                          <a:pt x="1075" y="596"/>
                        </a:lnTo>
                        <a:lnTo>
                          <a:pt x="1075" y="581"/>
                        </a:lnTo>
                        <a:lnTo>
                          <a:pt x="1081" y="569"/>
                        </a:lnTo>
                        <a:lnTo>
                          <a:pt x="1085" y="554"/>
                        </a:lnTo>
                        <a:lnTo>
                          <a:pt x="1090" y="543"/>
                        </a:lnTo>
                        <a:lnTo>
                          <a:pt x="1094" y="529"/>
                        </a:lnTo>
                        <a:lnTo>
                          <a:pt x="1098" y="518"/>
                        </a:lnTo>
                        <a:lnTo>
                          <a:pt x="1100" y="506"/>
                        </a:lnTo>
                        <a:lnTo>
                          <a:pt x="1102" y="499"/>
                        </a:lnTo>
                        <a:lnTo>
                          <a:pt x="1094" y="500"/>
                        </a:lnTo>
                        <a:lnTo>
                          <a:pt x="1087" y="502"/>
                        </a:lnTo>
                        <a:lnTo>
                          <a:pt x="1087" y="479"/>
                        </a:lnTo>
                        <a:lnTo>
                          <a:pt x="1094" y="462"/>
                        </a:lnTo>
                        <a:lnTo>
                          <a:pt x="1104" y="445"/>
                        </a:lnTo>
                        <a:lnTo>
                          <a:pt x="1115" y="433"/>
                        </a:lnTo>
                        <a:lnTo>
                          <a:pt x="1125" y="422"/>
                        </a:lnTo>
                        <a:lnTo>
                          <a:pt x="1137" y="410"/>
                        </a:lnTo>
                        <a:lnTo>
                          <a:pt x="1146" y="399"/>
                        </a:lnTo>
                        <a:lnTo>
                          <a:pt x="1154" y="389"/>
                        </a:lnTo>
                        <a:lnTo>
                          <a:pt x="1152" y="387"/>
                        </a:lnTo>
                        <a:lnTo>
                          <a:pt x="1150" y="387"/>
                        </a:lnTo>
                        <a:lnTo>
                          <a:pt x="1140" y="389"/>
                        </a:lnTo>
                        <a:lnTo>
                          <a:pt x="1131" y="391"/>
                        </a:lnTo>
                        <a:lnTo>
                          <a:pt x="1119" y="391"/>
                        </a:lnTo>
                        <a:lnTo>
                          <a:pt x="1114" y="391"/>
                        </a:lnTo>
                        <a:lnTo>
                          <a:pt x="1117" y="372"/>
                        </a:lnTo>
                        <a:lnTo>
                          <a:pt x="1127" y="359"/>
                        </a:lnTo>
                        <a:lnTo>
                          <a:pt x="1137" y="347"/>
                        </a:lnTo>
                        <a:lnTo>
                          <a:pt x="1154" y="337"/>
                        </a:lnTo>
                        <a:lnTo>
                          <a:pt x="1167" y="328"/>
                        </a:lnTo>
                        <a:lnTo>
                          <a:pt x="1184" y="322"/>
                        </a:lnTo>
                        <a:lnTo>
                          <a:pt x="1202" y="316"/>
                        </a:lnTo>
                        <a:lnTo>
                          <a:pt x="1219" y="313"/>
                        </a:lnTo>
                        <a:lnTo>
                          <a:pt x="1219" y="305"/>
                        </a:lnTo>
                        <a:lnTo>
                          <a:pt x="1219" y="301"/>
                        </a:lnTo>
                        <a:lnTo>
                          <a:pt x="1204" y="299"/>
                        </a:lnTo>
                        <a:lnTo>
                          <a:pt x="1188" y="299"/>
                        </a:lnTo>
                        <a:lnTo>
                          <a:pt x="1188" y="293"/>
                        </a:lnTo>
                        <a:lnTo>
                          <a:pt x="1188" y="291"/>
                        </a:lnTo>
                        <a:lnTo>
                          <a:pt x="1198" y="288"/>
                        </a:lnTo>
                        <a:lnTo>
                          <a:pt x="1213" y="284"/>
                        </a:lnTo>
                        <a:lnTo>
                          <a:pt x="1229" y="280"/>
                        </a:lnTo>
                        <a:lnTo>
                          <a:pt x="1246" y="280"/>
                        </a:lnTo>
                        <a:lnTo>
                          <a:pt x="1261" y="276"/>
                        </a:lnTo>
                        <a:lnTo>
                          <a:pt x="1276" y="278"/>
                        </a:lnTo>
                        <a:lnTo>
                          <a:pt x="1292" y="280"/>
                        </a:lnTo>
                        <a:lnTo>
                          <a:pt x="1307" y="286"/>
                        </a:lnTo>
                        <a:lnTo>
                          <a:pt x="1307" y="290"/>
                        </a:lnTo>
                        <a:lnTo>
                          <a:pt x="1307" y="301"/>
                        </a:lnTo>
                        <a:lnTo>
                          <a:pt x="1307" y="313"/>
                        </a:lnTo>
                        <a:lnTo>
                          <a:pt x="1311" y="328"/>
                        </a:lnTo>
                        <a:lnTo>
                          <a:pt x="1313" y="337"/>
                        </a:lnTo>
                        <a:lnTo>
                          <a:pt x="1321" y="347"/>
                        </a:lnTo>
                        <a:lnTo>
                          <a:pt x="1328" y="351"/>
                        </a:lnTo>
                        <a:lnTo>
                          <a:pt x="1342" y="353"/>
                        </a:lnTo>
                        <a:lnTo>
                          <a:pt x="1322" y="336"/>
                        </a:lnTo>
                        <a:lnTo>
                          <a:pt x="1317" y="316"/>
                        </a:lnTo>
                        <a:lnTo>
                          <a:pt x="1319" y="293"/>
                        </a:lnTo>
                        <a:lnTo>
                          <a:pt x="1332" y="272"/>
                        </a:lnTo>
                        <a:lnTo>
                          <a:pt x="1347" y="249"/>
                        </a:lnTo>
                        <a:lnTo>
                          <a:pt x="1365" y="228"/>
                        </a:lnTo>
                        <a:lnTo>
                          <a:pt x="1378" y="209"/>
                        </a:lnTo>
                        <a:lnTo>
                          <a:pt x="1392" y="198"/>
                        </a:lnTo>
                        <a:lnTo>
                          <a:pt x="1397" y="180"/>
                        </a:lnTo>
                        <a:lnTo>
                          <a:pt x="1403" y="163"/>
                        </a:lnTo>
                        <a:lnTo>
                          <a:pt x="1409" y="146"/>
                        </a:lnTo>
                        <a:lnTo>
                          <a:pt x="1415" y="129"/>
                        </a:lnTo>
                        <a:lnTo>
                          <a:pt x="1420" y="111"/>
                        </a:lnTo>
                        <a:lnTo>
                          <a:pt x="1428" y="94"/>
                        </a:lnTo>
                        <a:lnTo>
                          <a:pt x="1434" y="77"/>
                        </a:lnTo>
                        <a:lnTo>
                          <a:pt x="1441" y="63"/>
                        </a:lnTo>
                        <a:lnTo>
                          <a:pt x="1443" y="46"/>
                        </a:lnTo>
                        <a:lnTo>
                          <a:pt x="1447" y="29"/>
                        </a:lnTo>
                        <a:lnTo>
                          <a:pt x="1453" y="12"/>
                        </a:lnTo>
                        <a:lnTo>
                          <a:pt x="1461" y="0"/>
                        </a:lnTo>
                        <a:lnTo>
                          <a:pt x="1472" y="6"/>
                        </a:lnTo>
                        <a:lnTo>
                          <a:pt x="1484" y="17"/>
                        </a:lnTo>
                        <a:lnTo>
                          <a:pt x="1491" y="31"/>
                        </a:lnTo>
                        <a:lnTo>
                          <a:pt x="1501" y="52"/>
                        </a:lnTo>
                        <a:lnTo>
                          <a:pt x="1507" y="71"/>
                        </a:lnTo>
                        <a:lnTo>
                          <a:pt x="1512" y="92"/>
                        </a:lnTo>
                        <a:lnTo>
                          <a:pt x="1514" y="109"/>
                        </a:lnTo>
                        <a:lnTo>
                          <a:pt x="1518" y="127"/>
                        </a:lnTo>
                        <a:lnTo>
                          <a:pt x="1516" y="148"/>
                        </a:lnTo>
                        <a:lnTo>
                          <a:pt x="1514" y="173"/>
                        </a:lnTo>
                        <a:lnTo>
                          <a:pt x="1510" y="198"/>
                        </a:lnTo>
                        <a:lnTo>
                          <a:pt x="1507" y="226"/>
                        </a:lnTo>
                        <a:lnTo>
                          <a:pt x="1497" y="249"/>
                        </a:lnTo>
                        <a:lnTo>
                          <a:pt x="1487" y="274"/>
                        </a:lnTo>
                        <a:lnTo>
                          <a:pt x="1474" y="295"/>
                        </a:lnTo>
                        <a:lnTo>
                          <a:pt x="1459" y="314"/>
                        </a:lnTo>
                        <a:lnTo>
                          <a:pt x="1451" y="320"/>
                        </a:lnTo>
                        <a:lnTo>
                          <a:pt x="1443" y="328"/>
                        </a:lnTo>
                        <a:lnTo>
                          <a:pt x="1436" y="337"/>
                        </a:lnTo>
                        <a:lnTo>
                          <a:pt x="1430" y="349"/>
                        </a:lnTo>
                        <a:lnTo>
                          <a:pt x="1424" y="359"/>
                        </a:lnTo>
                        <a:lnTo>
                          <a:pt x="1418" y="370"/>
                        </a:lnTo>
                        <a:lnTo>
                          <a:pt x="1416" y="382"/>
                        </a:lnTo>
                        <a:lnTo>
                          <a:pt x="1418" y="395"/>
                        </a:lnTo>
                        <a:lnTo>
                          <a:pt x="1424" y="382"/>
                        </a:lnTo>
                        <a:lnTo>
                          <a:pt x="1434" y="368"/>
                        </a:lnTo>
                        <a:lnTo>
                          <a:pt x="1441" y="351"/>
                        </a:lnTo>
                        <a:lnTo>
                          <a:pt x="1453" y="336"/>
                        </a:lnTo>
                        <a:lnTo>
                          <a:pt x="1464" y="318"/>
                        </a:lnTo>
                        <a:lnTo>
                          <a:pt x="1476" y="307"/>
                        </a:lnTo>
                        <a:lnTo>
                          <a:pt x="1487" y="295"/>
                        </a:lnTo>
                        <a:lnTo>
                          <a:pt x="1501" y="291"/>
                        </a:lnTo>
                        <a:lnTo>
                          <a:pt x="1501" y="303"/>
                        </a:lnTo>
                        <a:lnTo>
                          <a:pt x="1501" y="318"/>
                        </a:lnTo>
                        <a:lnTo>
                          <a:pt x="1497" y="336"/>
                        </a:lnTo>
                        <a:lnTo>
                          <a:pt x="1493" y="353"/>
                        </a:lnTo>
                        <a:lnTo>
                          <a:pt x="1484" y="368"/>
                        </a:lnTo>
                        <a:lnTo>
                          <a:pt x="1476" y="385"/>
                        </a:lnTo>
                        <a:lnTo>
                          <a:pt x="1468" y="401"/>
                        </a:lnTo>
                        <a:lnTo>
                          <a:pt x="1462" y="416"/>
                        </a:lnTo>
                        <a:lnTo>
                          <a:pt x="1464" y="418"/>
                        </a:lnTo>
                        <a:lnTo>
                          <a:pt x="1466" y="422"/>
                        </a:lnTo>
                        <a:lnTo>
                          <a:pt x="1468" y="431"/>
                        </a:lnTo>
                        <a:lnTo>
                          <a:pt x="1484" y="431"/>
                        </a:lnTo>
                        <a:lnTo>
                          <a:pt x="1501" y="435"/>
                        </a:lnTo>
                        <a:lnTo>
                          <a:pt x="1514" y="439"/>
                        </a:lnTo>
                        <a:lnTo>
                          <a:pt x="1530" y="443"/>
                        </a:lnTo>
                        <a:lnTo>
                          <a:pt x="1541" y="445"/>
                        </a:lnTo>
                        <a:lnTo>
                          <a:pt x="1554" y="447"/>
                        </a:lnTo>
                        <a:lnTo>
                          <a:pt x="1570" y="443"/>
                        </a:lnTo>
                        <a:lnTo>
                          <a:pt x="1587" y="437"/>
                        </a:lnTo>
                        <a:lnTo>
                          <a:pt x="1599" y="437"/>
                        </a:lnTo>
                        <a:lnTo>
                          <a:pt x="1610" y="437"/>
                        </a:lnTo>
                        <a:lnTo>
                          <a:pt x="1622" y="437"/>
                        </a:lnTo>
                        <a:lnTo>
                          <a:pt x="1633" y="437"/>
                        </a:lnTo>
                        <a:lnTo>
                          <a:pt x="1645" y="437"/>
                        </a:lnTo>
                        <a:lnTo>
                          <a:pt x="1656" y="437"/>
                        </a:lnTo>
                        <a:lnTo>
                          <a:pt x="1668" y="437"/>
                        </a:lnTo>
                        <a:lnTo>
                          <a:pt x="1681" y="439"/>
                        </a:lnTo>
                        <a:lnTo>
                          <a:pt x="1693" y="431"/>
                        </a:lnTo>
                        <a:lnTo>
                          <a:pt x="1712" y="431"/>
                        </a:lnTo>
                        <a:lnTo>
                          <a:pt x="1717" y="439"/>
                        </a:lnTo>
                        <a:lnTo>
                          <a:pt x="1727" y="451"/>
                        </a:lnTo>
                        <a:lnTo>
                          <a:pt x="1737" y="458"/>
                        </a:lnTo>
                        <a:lnTo>
                          <a:pt x="1752" y="466"/>
                        </a:lnTo>
                        <a:lnTo>
                          <a:pt x="1748" y="477"/>
                        </a:lnTo>
                        <a:lnTo>
                          <a:pt x="1744" y="489"/>
                        </a:lnTo>
                        <a:lnTo>
                          <a:pt x="1739" y="500"/>
                        </a:lnTo>
                        <a:lnTo>
                          <a:pt x="1733" y="514"/>
                        </a:lnTo>
                        <a:lnTo>
                          <a:pt x="1723" y="523"/>
                        </a:lnTo>
                        <a:lnTo>
                          <a:pt x="1716" y="533"/>
                        </a:lnTo>
                        <a:lnTo>
                          <a:pt x="1706" y="541"/>
                        </a:lnTo>
                        <a:lnTo>
                          <a:pt x="1696" y="550"/>
                        </a:lnTo>
                        <a:lnTo>
                          <a:pt x="1696" y="556"/>
                        </a:lnTo>
                        <a:lnTo>
                          <a:pt x="1696" y="562"/>
                        </a:lnTo>
                        <a:lnTo>
                          <a:pt x="1700" y="562"/>
                        </a:lnTo>
                        <a:lnTo>
                          <a:pt x="1708" y="562"/>
                        </a:lnTo>
                        <a:lnTo>
                          <a:pt x="1710" y="556"/>
                        </a:lnTo>
                        <a:lnTo>
                          <a:pt x="1719" y="554"/>
                        </a:lnTo>
                        <a:lnTo>
                          <a:pt x="1714" y="568"/>
                        </a:lnTo>
                        <a:lnTo>
                          <a:pt x="1704" y="575"/>
                        </a:lnTo>
                        <a:lnTo>
                          <a:pt x="1691" y="583"/>
                        </a:lnTo>
                        <a:lnTo>
                          <a:pt x="1677" y="591"/>
                        </a:lnTo>
                        <a:lnTo>
                          <a:pt x="1645" y="596"/>
                        </a:lnTo>
                        <a:lnTo>
                          <a:pt x="1616" y="606"/>
                        </a:lnTo>
                        <a:lnTo>
                          <a:pt x="1589" y="615"/>
                        </a:lnTo>
                        <a:lnTo>
                          <a:pt x="1564" y="627"/>
                        </a:lnTo>
                        <a:lnTo>
                          <a:pt x="1537" y="638"/>
                        </a:lnTo>
                        <a:lnTo>
                          <a:pt x="1512" y="654"/>
                        </a:lnTo>
                        <a:lnTo>
                          <a:pt x="1487" y="669"/>
                        </a:lnTo>
                        <a:lnTo>
                          <a:pt x="1462" y="686"/>
                        </a:lnTo>
                        <a:lnTo>
                          <a:pt x="1462" y="675"/>
                        </a:lnTo>
                        <a:lnTo>
                          <a:pt x="1464" y="663"/>
                        </a:lnTo>
                        <a:lnTo>
                          <a:pt x="1466" y="652"/>
                        </a:lnTo>
                        <a:lnTo>
                          <a:pt x="1468" y="646"/>
                        </a:lnTo>
                        <a:lnTo>
                          <a:pt x="1449" y="648"/>
                        </a:lnTo>
                        <a:lnTo>
                          <a:pt x="1436" y="658"/>
                        </a:lnTo>
                        <a:lnTo>
                          <a:pt x="1422" y="667"/>
                        </a:lnTo>
                        <a:lnTo>
                          <a:pt x="1411" y="679"/>
                        </a:lnTo>
                        <a:lnTo>
                          <a:pt x="1403" y="660"/>
                        </a:lnTo>
                        <a:lnTo>
                          <a:pt x="1401" y="646"/>
                        </a:lnTo>
                        <a:lnTo>
                          <a:pt x="1401" y="635"/>
                        </a:lnTo>
                        <a:lnTo>
                          <a:pt x="1403" y="629"/>
                        </a:lnTo>
                        <a:lnTo>
                          <a:pt x="1409" y="614"/>
                        </a:lnTo>
                        <a:lnTo>
                          <a:pt x="1415" y="598"/>
                        </a:lnTo>
                        <a:lnTo>
                          <a:pt x="1413" y="594"/>
                        </a:lnTo>
                        <a:lnTo>
                          <a:pt x="1411" y="592"/>
                        </a:lnTo>
                        <a:lnTo>
                          <a:pt x="1388" y="615"/>
                        </a:lnTo>
                        <a:lnTo>
                          <a:pt x="1370" y="637"/>
                        </a:lnTo>
                        <a:lnTo>
                          <a:pt x="1357" y="656"/>
                        </a:lnTo>
                        <a:lnTo>
                          <a:pt x="1351" y="677"/>
                        </a:lnTo>
                        <a:lnTo>
                          <a:pt x="1344" y="694"/>
                        </a:lnTo>
                        <a:lnTo>
                          <a:pt x="1342" y="719"/>
                        </a:lnTo>
                        <a:lnTo>
                          <a:pt x="1342" y="748"/>
                        </a:lnTo>
                        <a:lnTo>
                          <a:pt x="1342" y="784"/>
                        </a:lnTo>
                        <a:lnTo>
                          <a:pt x="1345" y="784"/>
                        </a:lnTo>
                        <a:lnTo>
                          <a:pt x="1351" y="786"/>
                        </a:lnTo>
                        <a:lnTo>
                          <a:pt x="1351" y="805"/>
                        </a:lnTo>
                        <a:lnTo>
                          <a:pt x="1355" y="824"/>
                        </a:lnTo>
                        <a:lnTo>
                          <a:pt x="1380" y="901"/>
                        </a:lnTo>
                        <a:lnTo>
                          <a:pt x="1388" y="976"/>
                        </a:lnTo>
                        <a:lnTo>
                          <a:pt x="1380" y="1045"/>
                        </a:lnTo>
                        <a:lnTo>
                          <a:pt x="1361" y="1116"/>
                        </a:lnTo>
                        <a:lnTo>
                          <a:pt x="1330" y="1181"/>
                        </a:lnTo>
                        <a:lnTo>
                          <a:pt x="1296" y="1250"/>
                        </a:lnTo>
                        <a:lnTo>
                          <a:pt x="1257" y="1319"/>
                        </a:lnTo>
                        <a:lnTo>
                          <a:pt x="1223" y="1392"/>
                        </a:lnTo>
                        <a:lnTo>
                          <a:pt x="1215" y="1409"/>
                        </a:lnTo>
                        <a:lnTo>
                          <a:pt x="1207" y="1426"/>
                        </a:lnTo>
                        <a:lnTo>
                          <a:pt x="1198" y="1444"/>
                        </a:lnTo>
                        <a:lnTo>
                          <a:pt x="1190" y="1463"/>
                        </a:lnTo>
                        <a:lnTo>
                          <a:pt x="1181" y="1480"/>
                        </a:lnTo>
                        <a:lnTo>
                          <a:pt x="1175" y="1499"/>
                        </a:lnTo>
                        <a:lnTo>
                          <a:pt x="1171" y="1518"/>
                        </a:lnTo>
                        <a:lnTo>
                          <a:pt x="1175" y="1538"/>
                        </a:lnTo>
                        <a:lnTo>
                          <a:pt x="1181" y="1532"/>
                        </a:lnTo>
                        <a:lnTo>
                          <a:pt x="1192" y="1515"/>
                        </a:lnTo>
                        <a:lnTo>
                          <a:pt x="1204" y="1495"/>
                        </a:lnTo>
                        <a:lnTo>
                          <a:pt x="1223" y="1486"/>
                        </a:lnTo>
                        <a:lnTo>
                          <a:pt x="1209" y="1520"/>
                        </a:lnTo>
                        <a:lnTo>
                          <a:pt x="1194" y="1561"/>
                        </a:lnTo>
                        <a:lnTo>
                          <a:pt x="1177" y="1605"/>
                        </a:lnTo>
                        <a:lnTo>
                          <a:pt x="1161" y="1651"/>
                        </a:lnTo>
                        <a:lnTo>
                          <a:pt x="1148" y="1695"/>
                        </a:lnTo>
                        <a:lnTo>
                          <a:pt x="1142" y="1739"/>
                        </a:lnTo>
                        <a:lnTo>
                          <a:pt x="1142" y="1781"/>
                        </a:lnTo>
                        <a:lnTo>
                          <a:pt x="1154" y="1821"/>
                        </a:lnTo>
                        <a:lnTo>
                          <a:pt x="1161" y="1821"/>
                        </a:lnTo>
                        <a:lnTo>
                          <a:pt x="1165" y="1808"/>
                        </a:lnTo>
                        <a:lnTo>
                          <a:pt x="1171" y="1800"/>
                        </a:lnTo>
                        <a:lnTo>
                          <a:pt x="1173" y="1812"/>
                        </a:lnTo>
                        <a:lnTo>
                          <a:pt x="1175" y="1823"/>
                        </a:lnTo>
                        <a:lnTo>
                          <a:pt x="1179" y="1835"/>
                        </a:lnTo>
                        <a:lnTo>
                          <a:pt x="1184" y="1852"/>
                        </a:lnTo>
                        <a:lnTo>
                          <a:pt x="1196" y="1860"/>
                        </a:lnTo>
                        <a:lnTo>
                          <a:pt x="1204" y="1869"/>
                        </a:lnTo>
                        <a:lnTo>
                          <a:pt x="1209" y="1877"/>
                        </a:lnTo>
                        <a:lnTo>
                          <a:pt x="1213" y="1886"/>
                        </a:lnTo>
                        <a:lnTo>
                          <a:pt x="1213" y="1896"/>
                        </a:lnTo>
                        <a:lnTo>
                          <a:pt x="1213" y="1907"/>
                        </a:lnTo>
                        <a:lnTo>
                          <a:pt x="1211" y="1921"/>
                        </a:lnTo>
                        <a:lnTo>
                          <a:pt x="1209" y="1940"/>
                        </a:lnTo>
                        <a:lnTo>
                          <a:pt x="1211" y="1942"/>
                        </a:lnTo>
                        <a:lnTo>
                          <a:pt x="1209" y="1957"/>
                        </a:lnTo>
                        <a:lnTo>
                          <a:pt x="1209" y="1977"/>
                        </a:lnTo>
                        <a:lnTo>
                          <a:pt x="1211" y="1977"/>
                        </a:lnTo>
                        <a:lnTo>
                          <a:pt x="1219" y="1977"/>
                        </a:lnTo>
                        <a:lnTo>
                          <a:pt x="1213" y="2009"/>
                        </a:lnTo>
                        <a:lnTo>
                          <a:pt x="1206" y="2042"/>
                        </a:lnTo>
                        <a:lnTo>
                          <a:pt x="1196" y="2074"/>
                        </a:lnTo>
                        <a:lnTo>
                          <a:pt x="1186" y="2107"/>
                        </a:lnTo>
                        <a:lnTo>
                          <a:pt x="1173" y="2138"/>
                        </a:lnTo>
                        <a:lnTo>
                          <a:pt x="1161" y="2170"/>
                        </a:lnTo>
                        <a:lnTo>
                          <a:pt x="1150" y="2203"/>
                        </a:lnTo>
                        <a:lnTo>
                          <a:pt x="1142" y="2239"/>
                        </a:lnTo>
                        <a:lnTo>
                          <a:pt x="1135" y="2285"/>
                        </a:lnTo>
                        <a:lnTo>
                          <a:pt x="1127" y="2331"/>
                        </a:lnTo>
                        <a:lnTo>
                          <a:pt x="1119" y="2377"/>
                        </a:lnTo>
                        <a:lnTo>
                          <a:pt x="1114" y="2423"/>
                        </a:lnTo>
                        <a:lnTo>
                          <a:pt x="1104" y="2467"/>
                        </a:lnTo>
                        <a:lnTo>
                          <a:pt x="1094" y="2513"/>
                        </a:lnTo>
                        <a:lnTo>
                          <a:pt x="1083" y="2559"/>
                        </a:lnTo>
                        <a:lnTo>
                          <a:pt x="1073" y="2607"/>
                        </a:lnTo>
                        <a:lnTo>
                          <a:pt x="1067" y="2630"/>
                        </a:lnTo>
                        <a:lnTo>
                          <a:pt x="1064" y="2655"/>
                        </a:lnTo>
                        <a:lnTo>
                          <a:pt x="1062" y="2680"/>
                        </a:lnTo>
                        <a:lnTo>
                          <a:pt x="1062" y="2707"/>
                        </a:lnTo>
                        <a:lnTo>
                          <a:pt x="1062" y="2730"/>
                        </a:lnTo>
                        <a:lnTo>
                          <a:pt x="1066" y="2757"/>
                        </a:lnTo>
                        <a:lnTo>
                          <a:pt x="1069" y="2782"/>
                        </a:lnTo>
                        <a:lnTo>
                          <a:pt x="1081" y="2808"/>
                        </a:lnTo>
                        <a:lnTo>
                          <a:pt x="1081" y="2820"/>
                        </a:lnTo>
                        <a:lnTo>
                          <a:pt x="1081" y="2830"/>
                        </a:lnTo>
                        <a:lnTo>
                          <a:pt x="1079" y="2837"/>
                        </a:lnTo>
                        <a:lnTo>
                          <a:pt x="1079" y="2845"/>
                        </a:lnTo>
                        <a:lnTo>
                          <a:pt x="1073" y="2851"/>
                        </a:lnTo>
                        <a:lnTo>
                          <a:pt x="1069" y="2858"/>
                        </a:lnTo>
                        <a:lnTo>
                          <a:pt x="1062" y="2866"/>
                        </a:lnTo>
                        <a:lnTo>
                          <a:pt x="1054" y="2877"/>
                        </a:lnTo>
                        <a:lnTo>
                          <a:pt x="1052" y="2876"/>
                        </a:lnTo>
                        <a:close/>
                      </a:path>
                    </a:pathLst>
                  </a:custGeom>
                  <a:solidFill>
                    <a:srgbClr val="99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3" name=""/>
                  <p:cNvSpPr/>
                  <p:nvPr/>
                </p:nvSpPr>
                <p:spPr>
                  <a:xfrm flipH="1">
                    <a:off x="5077080" y="5294880"/>
                    <a:ext cx="655560" cy="322920"/>
                  </a:xfrm>
                  <a:custGeom>
                    <a:avLst/>
                    <a:gdLst/>
                    <a:ahLst/>
                    <a:rect l="l" t="t" r="r" b="b"/>
                    <a:pathLst>
                      <a:path w="896" h="399">
                        <a:moveTo>
                          <a:pt x="294" y="399"/>
                        </a:moveTo>
                        <a:lnTo>
                          <a:pt x="274" y="391"/>
                        </a:lnTo>
                        <a:lnTo>
                          <a:pt x="255" y="382"/>
                        </a:lnTo>
                        <a:lnTo>
                          <a:pt x="236" y="368"/>
                        </a:lnTo>
                        <a:lnTo>
                          <a:pt x="219" y="355"/>
                        </a:lnTo>
                        <a:lnTo>
                          <a:pt x="200" y="340"/>
                        </a:lnTo>
                        <a:lnTo>
                          <a:pt x="182" y="326"/>
                        </a:lnTo>
                        <a:lnTo>
                          <a:pt x="165" y="313"/>
                        </a:lnTo>
                        <a:lnTo>
                          <a:pt x="154" y="305"/>
                        </a:lnTo>
                        <a:lnTo>
                          <a:pt x="136" y="297"/>
                        </a:lnTo>
                        <a:lnTo>
                          <a:pt x="121" y="292"/>
                        </a:lnTo>
                        <a:lnTo>
                          <a:pt x="106" y="286"/>
                        </a:lnTo>
                        <a:lnTo>
                          <a:pt x="90" y="280"/>
                        </a:lnTo>
                        <a:lnTo>
                          <a:pt x="75" y="273"/>
                        </a:lnTo>
                        <a:lnTo>
                          <a:pt x="62" y="267"/>
                        </a:lnTo>
                        <a:lnTo>
                          <a:pt x="48" y="259"/>
                        </a:lnTo>
                        <a:lnTo>
                          <a:pt x="37" y="253"/>
                        </a:lnTo>
                        <a:lnTo>
                          <a:pt x="27" y="242"/>
                        </a:lnTo>
                        <a:lnTo>
                          <a:pt x="19" y="232"/>
                        </a:lnTo>
                        <a:lnTo>
                          <a:pt x="10" y="223"/>
                        </a:lnTo>
                        <a:lnTo>
                          <a:pt x="0" y="219"/>
                        </a:lnTo>
                        <a:lnTo>
                          <a:pt x="0" y="207"/>
                        </a:lnTo>
                        <a:lnTo>
                          <a:pt x="0" y="196"/>
                        </a:lnTo>
                        <a:lnTo>
                          <a:pt x="2" y="184"/>
                        </a:lnTo>
                        <a:lnTo>
                          <a:pt x="4" y="175"/>
                        </a:lnTo>
                        <a:lnTo>
                          <a:pt x="6" y="163"/>
                        </a:lnTo>
                        <a:lnTo>
                          <a:pt x="8" y="152"/>
                        </a:lnTo>
                        <a:lnTo>
                          <a:pt x="10" y="142"/>
                        </a:lnTo>
                        <a:lnTo>
                          <a:pt x="14" y="133"/>
                        </a:lnTo>
                        <a:lnTo>
                          <a:pt x="31" y="125"/>
                        </a:lnTo>
                        <a:lnTo>
                          <a:pt x="48" y="115"/>
                        </a:lnTo>
                        <a:lnTo>
                          <a:pt x="65" y="100"/>
                        </a:lnTo>
                        <a:lnTo>
                          <a:pt x="85" y="85"/>
                        </a:lnTo>
                        <a:lnTo>
                          <a:pt x="100" y="67"/>
                        </a:lnTo>
                        <a:lnTo>
                          <a:pt x="117" y="50"/>
                        </a:lnTo>
                        <a:lnTo>
                          <a:pt x="134" y="37"/>
                        </a:lnTo>
                        <a:lnTo>
                          <a:pt x="154" y="29"/>
                        </a:lnTo>
                        <a:lnTo>
                          <a:pt x="148" y="43"/>
                        </a:lnTo>
                        <a:lnTo>
                          <a:pt x="140" y="54"/>
                        </a:lnTo>
                        <a:lnTo>
                          <a:pt x="131" y="62"/>
                        </a:lnTo>
                        <a:lnTo>
                          <a:pt x="123" y="69"/>
                        </a:lnTo>
                        <a:lnTo>
                          <a:pt x="119" y="71"/>
                        </a:lnTo>
                        <a:lnTo>
                          <a:pt x="121" y="75"/>
                        </a:lnTo>
                        <a:lnTo>
                          <a:pt x="131" y="77"/>
                        </a:lnTo>
                        <a:lnTo>
                          <a:pt x="152" y="81"/>
                        </a:lnTo>
                        <a:lnTo>
                          <a:pt x="152" y="89"/>
                        </a:lnTo>
                        <a:lnTo>
                          <a:pt x="148" y="100"/>
                        </a:lnTo>
                        <a:lnTo>
                          <a:pt x="144" y="112"/>
                        </a:lnTo>
                        <a:lnTo>
                          <a:pt x="140" y="125"/>
                        </a:lnTo>
                        <a:lnTo>
                          <a:pt x="136" y="133"/>
                        </a:lnTo>
                        <a:lnTo>
                          <a:pt x="140" y="138"/>
                        </a:lnTo>
                        <a:lnTo>
                          <a:pt x="148" y="135"/>
                        </a:lnTo>
                        <a:lnTo>
                          <a:pt x="165" y="127"/>
                        </a:lnTo>
                        <a:lnTo>
                          <a:pt x="177" y="121"/>
                        </a:lnTo>
                        <a:lnTo>
                          <a:pt x="186" y="115"/>
                        </a:lnTo>
                        <a:lnTo>
                          <a:pt x="194" y="112"/>
                        </a:lnTo>
                        <a:lnTo>
                          <a:pt x="202" y="113"/>
                        </a:lnTo>
                        <a:lnTo>
                          <a:pt x="207" y="113"/>
                        </a:lnTo>
                        <a:lnTo>
                          <a:pt x="215" y="119"/>
                        </a:lnTo>
                        <a:lnTo>
                          <a:pt x="223" y="129"/>
                        </a:lnTo>
                        <a:lnTo>
                          <a:pt x="236" y="146"/>
                        </a:lnTo>
                        <a:lnTo>
                          <a:pt x="249" y="140"/>
                        </a:lnTo>
                        <a:lnTo>
                          <a:pt x="265" y="131"/>
                        </a:lnTo>
                        <a:lnTo>
                          <a:pt x="280" y="115"/>
                        </a:lnTo>
                        <a:lnTo>
                          <a:pt x="295" y="102"/>
                        </a:lnTo>
                        <a:lnTo>
                          <a:pt x="311" y="85"/>
                        </a:lnTo>
                        <a:lnTo>
                          <a:pt x="328" y="69"/>
                        </a:lnTo>
                        <a:lnTo>
                          <a:pt x="345" y="60"/>
                        </a:lnTo>
                        <a:lnTo>
                          <a:pt x="368" y="56"/>
                        </a:lnTo>
                        <a:lnTo>
                          <a:pt x="374" y="60"/>
                        </a:lnTo>
                        <a:lnTo>
                          <a:pt x="386" y="67"/>
                        </a:lnTo>
                        <a:lnTo>
                          <a:pt x="397" y="77"/>
                        </a:lnTo>
                        <a:lnTo>
                          <a:pt x="412" y="89"/>
                        </a:lnTo>
                        <a:lnTo>
                          <a:pt x="424" y="94"/>
                        </a:lnTo>
                        <a:lnTo>
                          <a:pt x="437" y="102"/>
                        </a:lnTo>
                        <a:lnTo>
                          <a:pt x="451" y="102"/>
                        </a:lnTo>
                        <a:lnTo>
                          <a:pt x="464" y="98"/>
                        </a:lnTo>
                        <a:lnTo>
                          <a:pt x="470" y="79"/>
                        </a:lnTo>
                        <a:lnTo>
                          <a:pt x="476" y="62"/>
                        </a:lnTo>
                        <a:lnTo>
                          <a:pt x="481" y="44"/>
                        </a:lnTo>
                        <a:lnTo>
                          <a:pt x="491" y="31"/>
                        </a:lnTo>
                        <a:lnTo>
                          <a:pt x="506" y="31"/>
                        </a:lnTo>
                        <a:lnTo>
                          <a:pt x="520" y="33"/>
                        </a:lnTo>
                        <a:lnTo>
                          <a:pt x="527" y="33"/>
                        </a:lnTo>
                        <a:lnTo>
                          <a:pt x="537" y="35"/>
                        </a:lnTo>
                        <a:lnTo>
                          <a:pt x="543" y="31"/>
                        </a:lnTo>
                        <a:lnTo>
                          <a:pt x="552" y="25"/>
                        </a:lnTo>
                        <a:lnTo>
                          <a:pt x="562" y="14"/>
                        </a:lnTo>
                        <a:lnTo>
                          <a:pt x="577" y="0"/>
                        </a:lnTo>
                        <a:lnTo>
                          <a:pt x="612" y="4"/>
                        </a:lnTo>
                        <a:lnTo>
                          <a:pt x="652" y="12"/>
                        </a:lnTo>
                        <a:lnTo>
                          <a:pt x="694" y="20"/>
                        </a:lnTo>
                        <a:lnTo>
                          <a:pt x="738" y="31"/>
                        </a:lnTo>
                        <a:lnTo>
                          <a:pt x="781" y="43"/>
                        </a:lnTo>
                        <a:lnTo>
                          <a:pt x="825" y="60"/>
                        </a:lnTo>
                        <a:lnTo>
                          <a:pt x="863" y="77"/>
                        </a:lnTo>
                        <a:lnTo>
                          <a:pt x="896" y="100"/>
                        </a:lnTo>
                        <a:lnTo>
                          <a:pt x="832" y="142"/>
                        </a:lnTo>
                        <a:lnTo>
                          <a:pt x="769" y="186"/>
                        </a:lnTo>
                        <a:lnTo>
                          <a:pt x="702" y="228"/>
                        </a:lnTo>
                        <a:lnTo>
                          <a:pt x="637" y="273"/>
                        </a:lnTo>
                        <a:lnTo>
                          <a:pt x="568" y="311"/>
                        </a:lnTo>
                        <a:lnTo>
                          <a:pt x="501" y="345"/>
                        </a:lnTo>
                        <a:lnTo>
                          <a:pt x="432" y="374"/>
                        </a:lnTo>
                        <a:lnTo>
                          <a:pt x="363" y="397"/>
                        </a:lnTo>
                        <a:lnTo>
                          <a:pt x="351" y="397"/>
                        </a:lnTo>
                        <a:lnTo>
                          <a:pt x="341" y="397"/>
                        </a:lnTo>
                        <a:lnTo>
                          <a:pt x="332" y="397"/>
                        </a:lnTo>
                        <a:lnTo>
                          <a:pt x="322" y="397"/>
                        </a:lnTo>
                        <a:lnTo>
                          <a:pt x="309" y="397"/>
                        </a:lnTo>
                        <a:lnTo>
                          <a:pt x="294" y="399"/>
                        </a:lnTo>
                        <a:close/>
                      </a:path>
                    </a:pathLst>
                  </a:custGeom>
                  <a:solidFill>
                    <a:srgbClr val="99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 flipH="1">
                    <a:off x="5509440" y="4748760"/>
                    <a:ext cx="294840" cy="839880"/>
                  </a:xfrm>
                  <a:custGeom>
                    <a:avLst/>
                    <a:gdLst/>
                    <a:ahLst/>
                    <a:rect l="l" t="t" r="r" b="b"/>
                    <a:pathLst>
                      <a:path w="403" h="1037">
                        <a:moveTo>
                          <a:pt x="10" y="1037"/>
                        </a:moveTo>
                        <a:lnTo>
                          <a:pt x="0" y="1025"/>
                        </a:lnTo>
                        <a:lnTo>
                          <a:pt x="0" y="1012"/>
                        </a:lnTo>
                        <a:lnTo>
                          <a:pt x="2" y="996"/>
                        </a:lnTo>
                        <a:lnTo>
                          <a:pt x="8" y="987"/>
                        </a:lnTo>
                        <a:lnTo>
                          <a:pt x="10" y="958"/>
                        </a:lnTo>
                        <a:lnTo>
                          <a:pt x="12" y="931"/>
                        </a:lnTo>
                        <a:lnTo>
                          <a:pt x="12" y="902"/>
                        </a:lnTo>
                        <a:lnTo>
                          <a:pt x="12" y="876"/>
                        </a:lnTo>
                        <a:lnTo>
                          <a:pt x="10" y="847"/>
                        </a:lnTo>
                        <a:lnTo>
                          <a:pt x="10" y="822"/>
                        </a:lnTo>
                        <a:lnTo>
                          <a:pt x="8" y="795"/>
                        </a:lnTo>
                        <a:lnTo>
                          <a:pt x="6" y="772"/>
                        </a:lnTo>
                        <a:lnTo>
                          <a:pt x="8" y="768"/>
                        </a:lnTo>
                        <a:lnTo>
                          <a:pt x="10" y="768"/>
                        </a:lnTo>
                        <a:lnTo>
                          <a:pt x="10" y="732"/>
                        </a:lnTo>
                        <a:lnTo>
                          <a:pt x="14" y="695"/>
                        </a:lnTo>
                        <a:lnTo>
                          <a:pt x="20" y="659"/>
                        </a:lnTo>
                        <a:lnTo>
                          <a:pt x="27" y="624"/>
                        </a:lnTo>
                        <a:lnTo>
                          <a:pt x="33" y="586"/>
                        </a:lnTo>
                        <a:lnTo>
                          <a:pt x="41" y="550"/>
                        </a:lnTo>
                        <a:lnTo>
                          <a:pt x="48" y="515"/>
                        </a:lnTo>
                        <a:lnTo>
                          <a:pt x="56" y="483"/>
                        </a:lnTo>
                        <a:lnTo>
                          <a:pt x="64" y="444"/>
                        </a:lnTo>
                        <a:lnTo>
                          <a:pt x="75" y="408"/>
                        </a:lnTo>
                        <a:lnTo>
                          <a:pt x="87" y="370"/>
                        </a:lnTo>
                        <a:lnTo>
                          <a:pt x="100" y="335"/>
                        </a:lnTo>
                        <a:lnTo>
                          <a:pt x="112" y="297"/>
                        </a:lnTo>
                        <a:lnTo>
                          <a:pt x="123" y="260"/>
                        </a:lnTo>
                        <a:lnTo>
                          <a:pt x="129" y="224"/>
                        </a:lnTo>
                        <a:lnTo>
                          <a:pt x="135" y="189"/>
                        </a:lnTo>
                        <a:lnTo>
                          <a:pt x="131" y="172"/>
                        </a:lnTo>
                        <a:lnTo>
                          <a:pt x="133" y="159"/>
                        </a:lnTo>
                        <a:lnTo>
                          <a:pt x="135" y="163"/>
                        </a:lnTo>
                        <a:lnTo>
                          <a:pt x="140" y="168"/>
                        </a:lnTo>
                        <a:lnTo>
                          <a:pt x="148" y="161"/>
                        </a:lnTo>
                        <a:lnTo>
                          <a:pt x="156" y="151"/>
                        </a:lnTo>
                        <a:lnTo>
                          <a:pt x="163" y="141"/>
                        </a:lnTo>
                        <a:lnTo>
                          <a:pt x="175" y="136"/>
                        </a:lnTo>
                        <a:lnTo>
                          <a:pt x="171" y="145"/>
                        </a:lnTo>
                        <a:lnTo>
                          <a:pt x="165" y="155"/>
                        </a:lnTo>
                        <a:lnTo>
                          <a:pt x="160" y="163"/>
                        </a:lnTo>
                        <a:lnTo>
                          <a:pt x="156" y="176"/>
                        </a:lnTo>
                        <a:lnTo>
                          <a:pt x="158" y="176"/>
                        </a:lnTo>
                        <a:lnTo>
                          <a:pt x="161" y="178"/>
                        </a:lnTo>
                        <a:lnTo>
                          <a:pt x="173" y="166"/>
                        </a:lnTo>
                        <a:lnTo>
                          <a:pt x="186" y="163"/>
                        </a:lnTo>
                        <a:lnTo>
                          <a:pt x="198" y="159"/>
                        </a:lnTo>
                        <a:lnTo>
                          <a:pt x="217" y="164"/>
                        </a:lnTo>
                        <a:lnTo>
                          <a:pt x="238" y="155"/>
                        </a:lnTo>
                        <a:lnTo>
                          <a:pt x="263" y="141"/>
                        </a:lnTo>
                        <a:lnTo>
                          <a:pt x="288" y="118"/>
                        </a:lnTo>
                        <a:lnTo>
                          <a:pt x="315" y="95"/>
                        </a:lnTo>
                        <a:lnTo>
                          <a:pt x="338" y="69"/>
                        </a:lnTo>
                        <a:lnTo>
                          <a:pt x="361" y="42"/>
                        </a:lnTo>
                        <a:lnTo>
                          <a:pt x="380" y="17"/>
                        </a:lnTo>
                        <a:lnTo>
                          <a:pt x="397" y="0"/>
                        </a:lnTo>
                        <a:lnTo>
                          <a:pt x="399" y="0"/>
                        </a:lnTo>
                        <a:lnTo>
                          <a:pt x="403" y="0"/>
                        </a:lnTo>
                        <a:lnTo>
                          <a:pt x="401" y="5"/>
                        </a:lnTo>
                        <a:lnTo>
                          <a:pt x="399" y="17"/>
                        </a:lnTo>
                        <a:lnTo>
                          <a:pt x="395" y="28"/>
                        </a:lnTo>
                        <a:lnTo>
                          <a:pt x="393" y="40"/>
                        </a:lnTo>
                        <a:lnTo>
                          <a:pt x="388" y="49"/>
                        </a:lnTo>
                        <a:lnTo>
                          <a:pt x="384" y="61"/>
                        </a:lnTo>
                        <a:lnTo>
                          <a:pt x="380" y="70"/>
                        </a:lnTo>
                        <a:lnTo>
                          <a:pt x="378" y="82"/>
                        </a:lnTo>
                        <a:lnTo>
                          <a:pt x="342" y="138"/>
                        </a:lnTo>
                        <a:lnTo>
                          <a:pt x="305" y="195"/>
                        </a:lnTo>
                        <a:lnTo>
                          <a:pt x="267" y="253"/>
                        </a:lnTo>
                        <a:lnTo>
                          <a:pt x="234" y="316"/>
                        </a:lnTo>
                        <a:lnTo>
                          <a:pt x="202" y="377"/>
                        </a:lnTo>
                        <a:lnTo>
                          <a:pt x="179" y="442"/>
                        </a:lnTo>
                        <a:lnTo>
                          <a:pt x="165" y="508"/>
                        </a:lnTo>
                        <a:lnTo>
                          <a:pt x="163" y="578"/>
                        </a:lnTo>
                        <a:lnTo>
                          <a:pt x="160" y="594"/>
                        </a:lnTo>
                        <a:lnTo>
                          <a:pt x="156" y="609"/>
                        </a:lnTo>
                        <a:lnTo>
                          <a:pt x="137" y="649"/>
                        </a:lnTo>
                        <a:lnTo>
                          <a:pt x="121" y="694"/>
                        </a:lnTo>
                        <a:lnTo>
                          <a:pt x="108" y="736"/>
                        </a:lnTo>
                        <a:lnTo>
                          <a:pt x="98" y="780"/>
                        </a:lnTo>
                        <a:lnTo>
                          <a:pt x="91" y="822"/>
                        </a:lnTo>
                        <a:lnTo>
                          <a:pt x="89" y="866"/>
                        </a:lnTo>
                        <a:lnTo>
                          <a:pt x="91" y="912"/>
                        </a:lnTo>
                        <a:lnTo>
                          <a:pt x="100" y="958"/>
                        </a:lnTo>
                        <a:lnTo>
                          <a:pt x="102" y="975"/>
                        </a:lnTo>
                        <a:lnTo>
                          <a:pt x="106" y="994"/>
                        </a:lnTo>
                        <a:lnTo>
                          <a:pt x="102" y="1004"/>
                        </a:lnTo>
                        <a:lnTo>
                          <a:pt x="98" y="1014"/>
                        </a:lnTo>
                        <a:lnTo>
                          <a:pt x="87" y="1004"/>
                        </a:lnTo>
                        <a:lnTo>
                          <a:pt x="83" y="1002"/>
                        </a:lnTo>
                        <a:lnTo>
                          <a:pt x="79" y="1000"/>
                        </a:lnTo>
                        <a:lnTo>
                          <a:pt x="79" y="1004"/>
                        </a:lnTo>
                        <a:lnTo>
                          <a:pt x="77" y="1012"/>
                        </a:lnTo>
                        <a:lnTo>
                          <a:pt x="73" y="1027"/>
                        </a:lnTo>
                        <a:lnTo>
                          <a:pt x="62" y="1027"/>
                        </a:lnTo>
                        <a:lnTo>
                          <a:pt x="52" y="1027"/>
                        </a:lnTo>
                        <a:lnTo>
                          <a:pt x="45" y="1027"/>
                        </a:lnTo>
                        <a:lnTo>
                          <a:pt x="39" y="1029"/>
                        </a:lnTo>
                        <a:lnTo>
                          <a:pt x="25" y="1031"/>
                        </a:lnTo>
                        <a:lnTo>
                          <a:pt x="10" y="1037"/>
                        </a:lnTo>
                        <a:close/>
                      </a:path>
                    </a:pathLst>
                  </a:custGeom>
                  <a:solidFill>
                    <a:srgbClr val="99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 flipH="1">
                    <a:off x="5802840" y="5434920"/>
                    <a:ext cx="16920" cy="113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140">
                        <a:moveTo>
                          <a:pt x="14" y="140"/>
                        </a:moveTo>
                        <a:lnTo>
                          <a:pt x="6" y="123"/>
                        </a:lnTo>
                        <a:lnTo>
                          <a:pt x="2" y="107"/>
                        </a:lnTo>
                        <a:lnTo>
                          <a:pt x="0" y="88"/>
                        </a:lnTo>
                        <a:lnTo>
                          <a:pt x="2" y="69"/>
                        </a:lnTo>
                        <a:lnTo>
                          <a:pt x="2" y="48"/>
                        </a:lnTo>
                        <a:lnTo>
                          <a:pt x="4" y="29"/>
                        </a:lnTo>
                        <a:lnTo>
                          <a:pt x="4" y="11"/>
                        </a:lnTo>
                        <a:lnTo>
                          <a:pt x="8" y="0"/>
                        </a:lnTo>
                        <a:lnTo>
                          <a:pt x="14" y="4"/>
                        </a:lnTo>
                        <a:lnTo>
                          <a:pt x="21" y="17"/>
                        </a:lnTo>
                        <a:lnTo>
                          <a:pt x="21" y="36"/>
                        </a:lnTo>
                        <a:lnTo>
                          <a:pt x="23" y="61"/>
                        </a:lnTo>
                        <a:lnTo>
                          <a:pt x="21" y="84"/>
                        </a:lnTo>
                        <a:lnTo>
                          <a:pt x="19" y="107"/>
                        </a:lnTo>
                        <a:lnTo>
                          <a:pt x="16" y="126"/>
                        </a:lnTo>
                        <a:lnTo>
                          <a:pt x="16" y="140"/>
                        </a:lnTo>
                        <a:lnTo>
                          <a:pt x="14" y="140"/>
                        </a:lnTo>
                        <a:close/>
                      </a:path>
                    </a:pathLst>
                  </a:custGeom>
                  <a:solidFill>
                    <a:srgbClr val="99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6" name=""/>
                  <p:cNvSpPr/>
                  <p:nvPr/>
                </p:nvSpPr>
                <p:spPr>
                  <a:xfrm flipH="1">
                    <a:off x="6406560" y="5412960"/>
                    <a:ext cx="10800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148" h="155">
                        <a:moveTo>
                          <a:pt x="48" y="155"/>
                        </a:moveTo>
                        <a:lnTo>
                          <a:pt x="19" y="140"/>
                        </a:lnTo>
                        <a:lnTo>
                          <a:pt x="6" y="119"/>
                        </a:lnTo>
                        <a:lnTo>
                          <a:pt x="0" y="96"/>
                        </a:lnTo>
                        <a:lnTo>
                          <a:pt x="4" y="73"/>
                        </a:lnTo>
                        <a:lnTo>
                          <a:pt x="12" y="50"/>
                        </a:lnTo>
                        <a:lnTo>
                          <a:pt x="25" y="35"/>
                        </a:lnTo>
                        <a:lnTo>
                          <a:pt x="41" y="25"/>
                        </a:lnTo>
                        <a:lnTo>
                          <a:pt x="56" y="31"/>
                        </a:lnTo>
                        <a:lnTo>
                          <a:pt x="52" y="38"/>
                        </a:lnTo>
                        <a:lnTo>
                          <a:pt x="52" y="46"/>
                        </a:lnTo>
                        <a:lnTo>
                          <a:pt x="52" y="50"/>
                        </a:lnTo>
                        <a:lnTo>
                          <a:pt x="56" y="58"/>
                        </a:lnTo>
                        <a:lnTo>
                          <a:pt x="60" y="58"/>
                        </a:lnTo>
                        <a:lnTo>
                          <a:pt x="71" y="44"/>
                        </a:lnTo>
                        <a:lnTo>
                          <a:pt x="85" y="33"/>
                        </a:lnTo>
                        <a:lnTo>
                          <a:pt x="98" y="21"/>
                        </a:lnTo>
                        <a:lnTo>
                          <a:pt x="115" y="15"/>
                        </a:lnTo>
                        <a:lnTo>
                          <a:pt x="121" y="6"/>
                        </a:lnTo>
                        <a:lnTo>
                          <a:pt x="127" y="0"/>
                        </a:lnTo>
                        <a:lnTo>
                          <a:pt x="131" y="0"/>
                        </a:lnTo>
                        <a:lnTo>
                          <a:pt x="134" y="0"/>
                        </a:lnTo>
                        <a:lnTo>
                          <a:pt x="140" y="31"/>
                        </a:lnTo>
                        <a:lnTo>
                          <a:pt x="146" y="61"/>
                        </a:lnTo>
                        <a:lnTo>
                          <a:pt x="148" y="86"/>
                        </a:lnTo>
                        <a:lnTo>
                          <a:pt x="146" y="111"/>
                        </a:lnTo>
                        <a:lnTo>
                          <a:pt x="133" y="128"/>
                        </a:lnTo>
                        <a:lnTo>
                          <a:pt x="115" y="142"/>
                        </a:lnTo>
                        <a:lnTo>
                          <a:pt x="87" y="151"/>
                        </a:lnTo>
                        <a:lnTo>
                          <a:pt x="48" y="155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 flipH="1">
                    <a:off x="6650640" y="5182920"/>
                    <a:ext cx="374400" cy="333720"/>
                  </a:xfrm>
                  <a:custGeom>
                    <a:avLst/>
                    <a:gdLst/>
                    <a:ahLst/>
                    <a:rect l="l" t="t" r="r" b="b"/>
                    <a:pathLst>
                      <a:path w="512" h="412">
                        <a:moveTo>
                          <a:pt x="2" y="412"/>
                        </a:moveTo>
                        <a:lnTo>
                          <a:pt x="0" y="409"/>
                        </a:lnTo>
                        <a:lnTo>
                          <a:pt x="0" y="405"/>
                        </a:lnTo>
                        <a:lnTo>
                          <a:pt x="8" y="393"/>
                        </a:lnTo>
                        <a:lnTo>
                          <a:pt x="18" y="382"/>
                        </a:lnTo>
                        <a:lnTo>
                          <a:pt x="27" y="368"/>
                        </a:lnTo>
                        <a:lnTo>
                          <a:pt x="37" y="355"/>
                        </a:lnTo>
                        <a:lnTo>
                          <a:pt x="43" y="340"/>
                        </a:lnTo>
                        <a:lnTo>
                          <a:pt x="48" y="328"/>
                        </a:lnTo>
                        <a:lnTo>
                          <a:pt x="52" y="313"/>
                        </a:lnTo>
                        <a:lnTo>
                          <a:pt x="56" y="301"/>
                        </a:lnTo>
                        <a:lnTo>
                          <a:pt x="75" y="273"/>
                        </a:lnTo>
                        <a:lnTo>
                          <a:pt x="108" y="232"/>
                        </a:lnTo>
                        <a:lnTo>
                          <a:pt x="142" y="182"/>
                        </a:lnTo>
                        <a:lnTo>
                          <a:pt x="183" y="133"/>
                        </a:lnTo>
                        <a:lnTo>
                          <a:pt x="221" y="83"/>
                        </a:lnTo>
                        <a:lnTo>
                          <a:pt x="257" y="42"/>
                        </a:lnTo>
                        <a:lnTo>
                          <a:pt x="288" y="12"/>
                        </a:lnTo>
                        <a:lnTo>
                          <a:pt x="311" y="0"/>
                        </a:lnTo>
                        <a:lnTo>
                          <a:pt x="328" y="14"/>
                        </a:lnTo>
                        <a:lnTo>
                          <a:pt x="345" y="29"/>
                        </a:lnTo>
                        <a:lnTo>
                          <a:pt x="361" y="42"/>
                        </a:lnTo>
                        <a:lnTo>
                          <a:pt x="378" y="60"/>
                        </a:lnTo>
                        <a:lnTo>
                          <a:pt x="391" y="77"/>
                        </a:lnTo>
                        <a:lnTo>
                          <a:pt x="407" y="96"/>
                        </a:lnTo>
                        <a:lnTo>
                          <a:pt x="418" y="117"/>
                        </a:lnTo>
                        <a:lnTo>
                          <a:pt x="432" y="142"/>
                        </a:lnTo>
                        <a:lnTo>
                          <a:pt x="436" y="150"/>
                        </a:lnTo>
                        <a:lnTo>
                          <a:pt x="447" y="163"/>
                        </a:lnTo>
                        <a:lnTo>
                          <a:pt x="461" y="179"/>
                        </a:lnTo>
                        <a:lnTo>
                          <a:pt x="476" y="198"/>
                        </a:lnTo>
                        <a:lnTo>
                          <a:pt x="487" y="213"/>
                        </a:lnTo>
                        <a:lnTo>
                          <a:pt x="501" y="230"/>
                        </a:lnTo>
                        <a:lnTo>
                          <a:pt x="508" y="246"/>
                        </a:lnTo>
                        <a:lnTo>
                          <a:pt x="512" y="257"/>
                        </a:lnTo>
                        <a:lnTo>
                          <a:pt x="507" y="257"/>
                        </a:lnTo>
                        <a:lnTo>
                          <a:pt x="501" y="259"/>
                        </a:lnTo>
                        <a:lnTo>
                          <a:pt x="501" y="274"/>
                        </a:lnTo>
                        <a:lnTo>
                          <a:pt x="501" y="292"/>
                        </a:lnTo>
                        <a:lnTo>
                          <a:pt x="493" y="290"/>
                        </a:lnTo>
                        <a:lnTo>
                          <a:pt x="489" y="286"/>
                        </a:lnTo>
                        <a:lnTo>
                          <a:pt x="484" y="278"/>
                        </a:lnTo>
                        <a:lnTo>
                          <a:pt x="484" y="276"/>
                        </a:lnTo>
                        <a:lnTo>
                          <a:pt x="476" y="288"/>
                        </a:lnTo>
                        <a:lnTo>
                          <a:pt x="478" y="307"/>
                        </a:lnTo>
                        <a:lnTo>
                          <a:pt x="470" y="324"/>
                        </a:lnTo>
                        <a:lnTo>
                          <a:pt x="462" y="342"/>
                        </a:lnTo>
                        <a:lnTo>
                          <a:pt x="453" y="359"/>
                        </a:lnTo>
                        <a:lnTo>
                          <a:pt x="443" y="376"/>
                        </a:lnTo>
                        <a:lnTo>
                          <a:pt x="432" y="365"/>
                        </a:lnTo>
                        <a:lnTo>
                          <a:pt x="426" y="353"/>
                        </a:lnTo>
                        <a:lnTo>
                          <a:pt x="420" y="342"/>
                        </a:lnTo>
                        <a:lnTo>
                          <a:pt x="416" y="332"/>
                        </a:lnTo>
                        <a:lnTo>
                          <a:pt x="407" y="320"/>
                        </a:lnTo>
                        <a:lnTo>
                          <a:pt x="397" y="307"/>
                        </a:lnTo>
                        <a:lnTo>
                          <a:pt x="386" y="292"/>
                        </a:lnTo>
                        <a:lnTo>
                          <a:pt x="374" y="276"/>
                        </a:lnTo>
                        <a:lnTo>
                          <a:pt x="361" y="259"/>
                        </a:lnTo>
                        <a:lnTo>
                          <a:pt x="349" y="246"/>
                        </a:lnTo>
                        <a:lnTo>
                          <a:pt x="340" y="236"/>
                        </a:lnTo>
                        <a:lnTo>
                          <a:pt x="334" y="232"/>
                        </a:lnTo>
                        <a:lnTo>
                          <a:pt x="328" y="244"/>
                        </a:lnTo>
                        <a:lnTo>
                          <a:pt x="322" y="261"/>
                        </a:lnTo>
                        <a:lnTo>
                          <a:pt x="313" y="278"/>
                        </a:lnTo>
                        <a:lnTo>
                          <a:pt x="305" y="299"/>
                        </a:lnTo>
                        <a:lnTo>
                          <a:pt x="294" y="317"/>
                        </a:lnTo>
                        <a:lnTo>
                          <a:pt x="282" y="334"/>
                        </a:lnTo>
                        <a:lnTo>
                          <a:pt x="271" y="345"/>
                        </a:lnTo>
                        <a:lnTo>
                          <a:pt x="259" y="353"/>
                        </a:lnTo>
                        <a:lnTo>
                          <a:pt x="252" y="343"/>
                        </a:lnTo>
                        <a:lnTo>
                          <a:pt x="248" y="334"/>
                        </a:lnTo>
                        <a:lnTo>
                          <a:pt x="242" y="322"/>
                        </a:lnTo>
                        <a:lnTo>
                          <a:pt x="238" y="315"/>
                        </a:lnTo>
                        <a:lnTo>
                          <a:pt x="227" y="315"/>
                        </a:lnTo>
                        <a:lnTo>
                          <a:pt x="215" y="319"/>
                        </a:lnTo>
                        <a:lnTo>
                          <a:pt x="204" y="322"/>
                        </a:lnTo>
                        <a:lnTo>
                          <a:pt x="194" y="332"/>
                        </a:lnTo>
                        <a:lnTo>
                          <a:pt x="173" y="347"/>
                        </a:lnTo>
                        <a:lnTo>
                          <a:pt x="154" y="366"/>
                        </a:lnTo>
                        <a:lnTo>
                          <a:pt x="156" y="351"/>
                        </a:lnTo>
                        <a:lnTo>
                          <a:pt x="158" y="336"/>
                        </a:lnTo>
                        <a:lnTo>
                          <a:pt x="146" y="334"/>
                        </a:lnTo>
                        <a:lnTo>
                          <a:pt x="131" y="340"/>
                        </a:lnTo>
                        <a:lnTo>
                          <a:pt x="108" y="349"/>
                        </a:lnTo>
                        <a:lnTo>
                          <a:pt x="87" y="365"/>
                        </a:lnTo>
                        <a:lnTo>
                          <a:pt x="60" y="378"/>
                        </a:lnTo>
                        <a:lnTo>
                          <a:pt x="39" y="393"/>
                        </a:lnTo>
                        <a:lnTo>
                          <a:pt x="18" y="405"/>
                        </a:lnTo>
                        <a:lnTo>
                          <a:pt x="2" y="412"/>
                        </a:lnTo>
                        <a:close/>
                      </a:path>
                    </a:pathLst>
                  </a:cu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 flipH="1">
                    <a:off x="6260760" y="5367600"/>
                    <a:ext cx="113040" cy="118080"/>
                  </a:xfrm>
                  <a:custGeom>
                    <a:avLst/>
                    <a:gdLst/>
                    <a:ahLst/>
                    <a:rect l="l" t="t" r="r" b="b"/>
                    <a:pathLst>
                      <a:path w="155" h="146">
                        <a:moveTo>
                          <a:pt x="75" y="146"/>
                        </a:moveTo>
                        <a:lnTo>
                          <a:pt x="50" y="135"/>
                        </a:lnTo>
                        <a:lnTo>
                          <a:pt x="31" y="123"/>
                        </a:lnTo>
                        <a:lnTo>
                          <a:pt x="15" y="110"/>
                        </a:lnTo>
                        <a:lnTo>
                          <a:pt x="8" y="98"/>
                        </a:lnTo>
                        <a:lnTo>
                          <a:pt x="0" y="81"/>
                        </a:lnTo>
                        <a:lnTo>
                          <a:pt x="0" y="64"/>
                        </a:lnTo>
                        <a:lnTo>
                          <a:pt x="2" y="43"/>
                        </a:lnTo>
                        <a:lnTo>
                          <a:pt x="10" y="22"/>
                        </a:lnTo>
                        <a:lnTo>
                          <a:pt x="13" y="22"/>
                        </a:lnTo>
                        <a:lnTo>
                          <a:pt x="25" y="22"/>
                        </a:lnTo>
                        <a:lnTo>
                          <a:pt x="38" y="22"/>
                        </a:lnTo>
                        <a:lnTo>
                          <a:pt x="56" y="22"/>
                        </a:lnTo>
                        <a:lnTo>
                          <a:pt x="69" y="22"/>
                        </a:lnTo>
                        <a:lnTo>
                          <a:pt x="84" y="22"/>
                        </a:lnTo>
                        <a:lnTo>
                          <a:pt x="94" y="22"/>
                        </a:lnTo>
                        <a:lnTo>
                          <a:pt x="102" y="23"/>
                        </a:lnTo>
                        <a:lnTo>
                          <a:pt x="102" y="10"/>
                        </a:lnTo>
                        <a:lnTo>
                          <a:pt x="104" y="2"/>
                        </a:lnTo>
                        <a:lnTo>
                          <a:pt x="105" y="0"/>
                        </a:lnTo>
                        <a:lnTo>
                          <a:pt x="107" y="0"/>
                        </a:lnTo>
                        <a:lnTo>
                          <a:pt x="125" y="23"/>
                        </a:lnTo>
                        <a:lnTo>
                          <a:pt x="142" y="46"/>
                        </a:lnTo>
                        <a:lnTo>
                          <a:pt x="151" y="69"/>
                        </a:lnTo>
                        <a:lnTo>
                          <a:pt x="155" y="94"/>
                        </a:lnTo>
                        <a:lnTo>
                          <a:pt x="148" y="112"/>
                        </a:lnTo>
                        <a:lnTo>
                          <a:pt x="134" y="129"/>
                        </a:lnTo>
                        <a:lnTo>
                          <a:pt x="109" y="138"/>
                        </a:lnTo>
                        <a:lnTo>
                          <a:pt x="75" y="146"/>
                        </a:lnTo>
                        <a:close/>
                      </a:path>
                    </a:pathLst>
                  </a:custGeom>
                  <a:solidFill>
                    <a:srgbClr val="4d4d4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 flipH="1">
                    <a:off x="6502320" y="5343480"/>
                    <a:ext cx="115560" cy="131760"/>
                  </a:xfrm>
                  <a:custGeom>
                    <a:avLst/>
                    <a:gdLst/>
                    <a:ahLst/>
                    <a:rect l="l" t="t" r="r" b="b"/>
                    <a:pathLst>
                      <a:path w="158" h="163">
                        <a:moveTo>
                          <a:pt x="115" y="163"/>
                        </a:moveTo>
                        <a:lnTo>
                          <a:pt x="100" y="151"/>
                        </a:lnTo>
                        <a:lnTo>
                          <a:pt x="85" y="140"/>
                        </a:lnTo>
                        <a:lnTo>
                          <a:pt x="66" y="126"/>
                        </a:lnTo>
                        <a:lnTo>
                          <a:pt x="48" y="113"/>
                        </a:lnTo>
                        <a:lnTo>
                          <a:pt x="29" y="98"/>
                        </a:lnTo>
                        <a:lnTo>
                          <a:pt x="16" y="86"/>
                        </a:lnTo>
                        <a:lnTo>
                          <a:pt x="4" y="75"/>
                        </a:lnTo>
                        <a:lnTo>
                          <a:pt x="0" y="65"/>
                        </a:lnTo>
                        <a:lnTo>
                          <a:pt x="6" y="55"/>
                        </a:lnTo>
                        <a:lnTo>
                          <a:pt x="16" y="46"/>
                        </a:lnTo>
                        <a:lnTo>
                          <a:pt x="23" y="36"/>
                        </a:lnTo>
                        <a:lnTo>
                          <a:pt x="35" y="27"/>
                        </a:lnTo>
                        <a:lnTo>
                          <a:pt x="44" y="15"/>
                        </a:lnTo>
                        <a:lnTo>
                          <a:pt x="56" y="7"/>
                        </a:lnTo>
                        <a:lnTo>
                          <a:pt x="66" y="2"/>
                        </a:lnTo>
                        <a:lnTo>
                          <a:pt x="77" y="0"/>
                        </a:lnTo>
                        <a:lnTo>
                          <a:pt x="67" y="7"/>
                        </a:lnTo>
                        <a:lnTo>
                          <a:pt x="58" y="17"/>
                        </a:lnTo>
                        <a:lnTo>
                          <a:pt x="52" y="27"/>
                        </a:lnTo>
                        <a:lnTo>
                          <a:pt x="52" y="40"/>
                        </a:lnTo>
                        <a:lnTo>
                          <a:pt x="60" y="38"/>
                        </a:lnTo>
                        <a:lnTo>
                          <a:pt x="67" y="36"/>
                        </a:lnTo>
                        <a:lnTo>
                          <a:pt x="75" y="32"/>
                        </a:lnTo>
                        <a:lnTo>
                          <a:pt x="89" y="34"/>
                        </a:lnTo>
                        <a:lnTo>
                          <a:pt x="90" y="44"/>
                        </a:lnTo>
                        <a:lnTo>
                          <a:pt x="94" y="55"/>
                        </a:lnTo>
                        <a:lnTo>
                          <a:pt x="98" y="55"/>
                        </a:lnTo>
                        <a:lnTo>
                          <a:pt x="102" y="59"/>
                        </a:lnTo>
                        <a:lnTo>
                          <a:pt x="117" y="50"/>
                        </a:lnTo>
                        <a:lnTo>
                          <a:pt x="138" y="44"/>
                        </a:lnTo>
                        <a:lnTo>
                          <a:pt x="138" y="48"/>
                        </a:lnTo>
                        <a:lnTo>
                          <a:pt x="140" y="53"/>
                        </a:lnTo>
                        <a:lnTo>
                          <a:pt x="144" y="55"/>
                        </a:lnTo>
                        <a:lnTo>
                          <a:pt x="156" y="55"/>
                        </a:lnTo>
                        <a:lnTo>
                          <a:pt x="148" y="67"/>
                        </a:lnTo>
                        <a:lnTo>
                          <a:pt x="146" y="80"/>
                        </a:lnTo>
                        <a:lnTo>
                          <a:pt x="152" y="80"/>
                        </a:lnTo>
                        <a:lnTo>
                          <a:pt x="158" y="82"/>
                        </a:lnTo>
                        <a:lnTo>
                          <a:pt x="156" y="90"/>
                        </a:lnTo>
                        <a:lnTo>
                          <a:pt x="156" y="98"/>
                        </a:lnTo>
                        <a:lnTo>
                          <a:pt x="154" y="101"/>
                        </a:lnTo>
                        <a:lnTo>
                          <a:pt x="152" y="109"/>
                        </a:lnTo>
                        <a:lnTo>
                          <a:pt x="148" y="109"/>
                        </a:lnTo>
                        <a:lnTo>
                          <a:pt x="142" y="109"/>
                        </a:lnTo>
                        <a:lnTo>
                          <a:pt x="138" y="115"/>
                        </a:lnTo>
                        <a:lnTo>
                          <a:pt x="138" y="121"/>
                        </a:lnTo>
                        <a:lnTo>
                          <a:pt x="144" y="121"/>
                        </a:lnTo>
                        <a:lnTo>
                          <a:pt x="150" y="122"/>
                        </a:lnTo>
                        <a:lnTo>
                          <a:pt x="146" y="130"/>
                        </a:lnTo>
                        <a:lnTo>
                          <a:pt x="144" y="140"/>
                        </a:lnTo>
                        <a:lnTo>
                          <a:pt x="142" y="149"/>
                        </a:lnTo>
                        <a:lnTo>
                          <a:pt x="138" y="159"/>
                        </a:lnTo>
                        <a:lnTo>
                          <a:pt x="125" y="157"/>
                        </a:lnTo>
                        <a:lnTo>
                          <a:pt x="115" y="163"/>
                        </a:lnTo>
                        <a:close/>
                      </a:path>
                    </a:pathLst>
                  </a:custGeom>
                  <a:solidFill>
                    <a:srgbClr val="99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 flipH="1">
                    <a:off x="6366600" y="5343480"/>
                    <a:ext cx="49680" cy="7740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96">
                        <a:moveTo>
                          <a:pt x="16" y="96"/>
                        </a:moveTo>
                        <a:lnTo>
                          <a:pt x="10" y="76"/>
                        </a:lnTo>
                        <a:lnTo>
                          <a:pt x="4" y="59"/>
                        </a:lnTo>
                        <a:lnTo>
                          <a:pt x="0" y="42"/>
                        </a:lnTo>
                        <a:lnTo>
                          <a:pt x="0" y="30"/>
                        </a:lnTo>
                        <a:lnTo>
                          <a:pt x="14" y="21"/>
                        </a:lnTo>
                        <a:lnTo>
                          <a:pt x="22" y="11"/>
                        </a:lnTo>
                        <a:lnTo>
                          <a:pt x="23" y="6"/>
                        </a:lnTo>
                        <a:lnTo>
                          <a:pt x="29" y="2"/>
                        </a:lnTo>
                        <a:lnTo>
                          <a:pt x="35" y="0"/>
                        </a:lnTo>
                        <a:lnTo>
                          <a:pt x="48" y="0"/>
                        </a:lnTo>
                        <a:lnTo>
                          <a:pt x="48" y="7"/>
                        </a:lnTo>
                        <a:lnTo>
                          <a:pt x="54" y="17"/>
                        </a:lnTo>
                        <a:lnTo>
                          <a:pt x="58" y="17"/>
                        </a:lnTo>
                        <a:lnTo>
                          <a:pt x="68" y="19"/>
                        </a:lnTo>
                        <a:lnTo>
                          <a:pt x="60" y="29"/>
                        </a:lnTo>
                        <a:lnTo>
                          <a:pt x="56" y="40"/>
                        </a:lnTo>
                        <a:lnTo>
                          <a:pt x="52" y="52"/>
                        </a:lnTo>
                        <a:lnTo>
                          <a:pt x="50" y="63"/>
                        </a:lnTo>
                        <a:lnTo>
                          <a:pt x="43" y="73"/>
                        </a:lnTo>
                        <a:lnTo>
                          <a:pt x="37" y="82"/>
                        </a:lnTo>
                        <a:lnTo>
                          <a:pt x="27" y="88"/>
                        </a:lnTo>
                        <a:lnTo>
                          <a:pt x="16" y="96"/>
                        </a:lnTo>
                        <a:close/>
                      </a:path>
                    </a:pathLst>
                  </a:custGeom>
                  <a:solidFill>
                    <a:srgbClr val="9999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0600" bIns="30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 flipH="1">
                    <a:off x="5320080" y="5175720"/>
                    <a:ext cx="305640" cy="230760"/>
                  </a:xfrm>
                  <a:custGeom>
                    <a:avLst/>
                    <a:gdLst/>
                    <a:ahLst/>
                    <a:rect l="l" t="t" r="r" b="b"/>
                    <a:pathLst>
                      <a:path w="418" h="285">
                        <a:moveTo>
                          <a:pt x="96" y="285"/>
                        </a:moveTo>
                        <a:lnTo>
                          <a:pt x="82" y="268"/>
                        </a:lnTo>
                        <a:lnTo>
                          <a:pt x="73" y="259"/>
                        </a:lnTo>
                        <a:lnTo>
                          <a:pt x="63" y="253"/>
                        </a:lnTo>
                        <a:lnTo>
                          <a:pt x="56" y="251"/>
                        </a:lnTo>
                        <a:lnTo>
                          <a:pt x="46" y="251"/>
                        </a:lnTo>
                        <a:lnTo>
                          <a:pt x="36" y="255"/>
                        </a:lnTo>
                        <a:lnTo>
                          <a:pt x="23" y="259"/>
                        </a:lnTo>
                        <a:lnTo>
                          <a:pt x="9" y="268"/>
                        </a:lnTo>
                        <a:lnTo>
                          <a:pt x="9" y="253"/>
                        </a:lnTo>
                        <a:lnTo>
                          <a:pt x="11" y="243"/>
                        </a:lnTo>
                        <a:lnTo>
                          <a:pt x="11" y="232"/>
                        </a:lnTo>
                        <a:lnTo>
                          <a:pt x="8" y="218"/>
                        </a:lnTo>
                        <a:lnTo>
                          <a:pt x="4" y="218"/>
                        </a:lnTo>
                        <a:lnTo>
                          <a:pt x="0" y="218"/>
                        </a:lnTo>
                        <a:lnTo>
                          <a:pt x="2" y="207"/>
                        </a:lnTo>
                        <a:lnTo>
                          <a:pt x="8" y="197"/>
                        </a:lnTo>
                        <a:lnTo>
                          <a:pt x="15" y="186"/>
                        </a:lnTo>
                        <a:lnTo>
                          <a:pt x="23" y="182"/>
                        </a:lnTo>
                        <a:lnTo>
                          <a:pt x="19" y="167"/>
                        </a:lnTo>
                        <a:lnTo>
                          <a:pt x="27" y="147"/>
                        </a:lnTo>
                        <a:lnTo>
                          <a:pt x="42" y="120"/>
                        </a:lnTo>
                        <a:lnTo>
                          <a:pt x="65" y="96"/>
                        </a:lnTo>
                        <a:lnTo>
                          <a:pt x="86" y="67"/>
                        </a:lnTo>
                        <a:lnTo>
                          <a:pt x="109" y="44"/>
                        </a:lnTo>
                        <a:lnTo>
                          <a:pt x="128" y="23"/>
                        </a:lnTo>
                        <a:lnTo>
                          <a:pt x="144" y="11"/>
                        </a:lnTo>
                        <a:lnTo>
                          <a:pt x="167" y="0"/>
                        </a:lnTo>
                        <a:lnTo>
                          <a:pt x="192" y="2"/>
                        </a:lnTo>
                        <a:lnTo>
                          <a:pt x="217" y="13"/>
                        </a:lnTo>
                        <a:lnTo>
                          <a:pt x="241" y="32"/>
                        </a:lnTo>
                        <a:lnTo>
                          <a:pt x="264" y="51"/>
                        </a:lnTo>
                        <a:lnTo>
                          <a:pt x="289" y="73"/>
                        </a:lnTo>
                        <a:lnTo>
                          <a:pt x="316" y="92"/>
                        </a:lnTo>
                        <a:lnTo>
                          <a:pt x="345" y="107"/>
                        </a:lnTo>
                        <a:lnTo>
                          <a:pt x="345" y="109"/>
                        </a:lnTo>
                        <a:lnTo>
                          <a:pt x="355" y="115"/>
                        </a:lnTo>
                        <a:lnTo>
                          <a:pt x="362" y="117"/>
                        </a:lnTo>
                        <a:lnTo>
                          <a:pt x="376" y="122"/>
                        </a:lnTo>
                        <a:lnTo>
                          <a:pt x="393" y="130"/>
                        </a:lnTo>
                        <a:lnTo>
                          <a:pt x="418" y="142"/>
                        </a:lnTo>
                        <a:lnTo>
                          <a:pt x="408" y="157"/>
                        </a:lnTo>
                        <a:lnTo>
                          <a:pt x="403" y="167"/>
                        </a:lnTo>
                        <a:lnTo>
                          <a:pt x="395" y="172"/>
                        </a:lnTo>
                        <a:lnTo>
                          <a:pt x="387" y="174"/>
                        </a:lnTo>
                        <a:lnTo>
                          <a:pt x="378" y="172"/>
                        </a:lnTo>
                        <a:lnTo>
                          <a:pt x="368" y="168"/>
                        </a:lnTo>
                        <a:lnTo>
                          <a:pt x="357" y="165"/>
                        </a:lnTo>
                        <a:lnTo>
                          <a:pt x="345" y="163"/>
                        </a:lnTo>
                        <a:lnTo>
                          <a:pt x="339" y="170"/>
                        </a:lnTo>
                        <a:lnTo>
                          <a:pt x="335" y="182"/>
                        </a:lnTo>
                        <a:lnTo>
                          <a:pt x="330" y="193"/>
                        </a:lnTo>
                        <a:lnTo>
                          <a:pt x="326" y="207"/>
                        </a:lnTo>
                        <a:lnTo>
                          <a:pt x="320" y="216"/>
                        </a:lnTo>
                        <a:lnTo>
                          <a:pt x="314" y="228"/>
                        </a:lnTo>
                        <a:lnTo>
                          <a:pt x="309" y="236"/>
                        </a:lnTo>
                        <a:lnTo>
                          <a:pt x="305" y="241"/>
                        </a:lnTo>
                        <a:lnTo>
                          <a:pt x="291" y="232"/>
                        </a:lnTo>
                        <a:lnTo>
                          <a:pt x="280" y="226"/>
                        </a:lnTo>
                        <a:lnTo>
                          <a:pt x="270" y="220"/>
                        </a:lnTo>
                        <a:lnTo>
                          <a:pt x="263" y="216"/>
                        </a:lnTo>
                        <a:lnTo>
                          <a:pt x="245" y="205"/>
                        </a:lnTo>
                        <a:lnTo>
                          <a:pt x="228" y="191"/>
                        </a:lnTo>
                        <a:lnTo>
                          <a:pt x="207" y="193"/>
                        </a:lnTo>
                        <a:lnTo>
                          <a:pt x="190" y="201"/>
                        </a:lnTo>
                        <a:lnTo>
                          <a:pt x="172" y="213"/>
                        </a:lnTo>
                        <a:lnTo>
                          <a:pt x="159" y="230"/>
                        </a:lnTo>
                        <a:lnTo>
                          <a:pt x="142" y="243"/>
                        </a:lnTo>
                        <a:lnTo>
                          <a:pt x="126" y="260"/>
                        </a:lnTo>
                        <a:lnTo>
                          <a:pt x="111" y="274"/>
                        </a:lnTo>
                        <a:lnTo>
                          <a:pt x="96" y="285"/>
                        </a:lnTo>
                        <a:close/>
                      </a:path>
                    </a:pathLst>
                  </a:cu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 flipH="1">
                    <a:off x="6495840" y="5262480"/>
                    <a:ext cx="63000" cy="11808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146">
                        <a:moveTo>
                          <a:pt x="23" y="146"/>
                        </a:moveTo>
                        <a:lnTo>
                          <a:pt x="15" y="130"/>
                        </a:lnTo>
                        <a:lnTo>
                          <a:pt x="11" y="125"/>
                        </a:lnTo>
                        <a:lnTo>
                          <a:pt x="6" y="123"/>
                        </a:lnTo>
                        <a:lnTo>
                          <a:pt x="0" y="121"/>
                        </a:lnTo>
                        <a:lnTo>
                          <a:pt x="2" y="109"/>
                        </a:lnTo>
                        <a:lnTo>
                          <a:pt x="9" y="94"/>
                        </a:lnTo>
                        <a:lnTo>
                          <a:pt x="19" y="75"/>
                        </a:lnTo>
                        <a:lnTo>
                          <a:pt x="32" y="56"/>
                        </a:lnTo>
                        <a:lnTo>
                          <a:pt x="44" y="35"/>
                        </a:lnTo>
                        <a:lnTo>
                          <a:pt x="57" y="17"/>
                        </a:lnTo>
                        <a:lnTo>
                          <a:pt x="67" y="4"/>
                        </a:lnTo>
                        <a:lnTo>
                          <a:pt x="75" y="0"/>
                        </a:lnTo>
                        <a:lnTo>
                          <a:pt x="75" y="8"/>
                        </a:lnTo>
                        <a:lnTo>
                          <a:pt x="79" y="23"/>
                        </a:lnTo>
                        <a:lnTo>
                          <a:pt x="82" y="44"/>
                        </a:lnTo>
                        <a:lnTo>
                          <a:pt x="86" y="71"/>
                        </a:lnTo>
                        <a:lnTo>
                          <a:pt x="84" y="94"/>
                        </a:lnTo>
                        <a:lnTo>
                          <a:pt x="84" y="117"/>
                        </a:lnTo>
                        <a:lnTo>
                          <a:pt x="79" y="132"/>
                        </a:lnTo>
                        <a:lnTo>
                          <a:pt x="71" y="144"/>
                        </a:lnTo>
                        <a:lnTo>
                          <a:pt x="57" y="132"/>
                        </a:lnTo>
                        <a:lnTo>
                          <a:pt x="46" y="134"/>
                        </a:lnTo>
                        <a:lnTo>
                          <a:pt x="32" y="140"/>
                        </a:lnTo>
                        <a:lnTo>
                          <a:pt x="23" y="146"/>
                        </a:lnTo>
                        <a:close/>
                      </a:path>
                    </a:pathLst>
                  </a:cu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 flipH="1">
                    <a:off x="6306480" y="5032440"/>
                    <a:ext cx="114840" cy="346680"/>
                  </a:xfrm>
                  <a:custGeom>
                    <a:avLst/>
                    <a:gdLst/>
                    <a:ahLst/>
                    <a:rect l="l" t="t" r="r" b="b"/>
                    <a:pathLst>
                      <a:path w="157" h="428">
                        <a:moveTo>
                          <a:pt x="151" y="428"/>
                        </a:moveTo>
                        <a:lnTo>
                          <a:pt x="138" y="422"/>
                        </a:lnTo>
                        <a:lnTo>
                          <a:pt x="128" y="420"/>
                        </a:lnTo>
                        <a:lnTo>
                          <a:pt x="119" y="420"/>
                        </a:lnTo>
                        <a:lnTo>
                          <a:pt x="113" y="420"/>
                        </a:lnTo>
                        <a:lnTo>
                          <a:pt x="105" y="420"/>
                        </a:lnTo>
                        <a:lnTo>
                          <a:pt x="98" y="422"/>
                        </a:lnTo>
                        <a:lnTo>
                          <a:pt x="88" y="422"/>
                        </a:lnTo>
                        <a:lnTo>
                          <a:pt x="78" y="424"/>
                        </a:lnTo>
                        <a:lnTo>
                          <a:pt x="78" y="405"/>
                        </a:lnTo>
                        <a:lnTo>
                          <a:pt x="78" y="391"/>
                        </a:lnTo>
                        <a:lnTo>
                          <a:pt x="76" y="380"/>
                        </a:lnTo>
                        <a:lnTo>
                          <a:pt x="76" y="372"/>
                        </a:lnTo>
                        <a:lnTo>
                          <a:pt x="73" y="361"/>
                        </a:lnTo>
                        <a:lnTo>
                          <a:pt x="69" y="353"/>
                        </a:lnTo>
                        <a:lnTo>
                          <a:pt x="65" y="342"/>
                        </a:lnTo>
                        <a:lnTo>
                          <a:pt x="63" y="332"/>
                        </a:lnTo>
                        <a:lnTo>
                          <a:pt x="59" y="307"/>
                        </a:lnTo>
                        <a:lnTo>
                          <a:pt x="57" y="284"/>
                        </a:lnTo>
                        <a:lnTo>
                          <a:pt x="53" y="259"/>
                        </a:lnTo>
                        <a:lnTo>
                          <a:pt x="52" y="236"/>
                        </a:lnTo>
                        <a:lnTo>
                          <a:pt x="46" y="211"/>
                        </a:lnTo>
                        <a:lnTo>
                          <a:pt x="40" y="188"/>
                        </a:lnTo>
                        <a:lnTo>
                          <a:pt x="32" y="167"/>
                        </a:lnTo>
                        <a:lnTo>
                          <a:pt x="23" y="152"/>
                        </a:lnTo>
                        <a:lnTo>
                          <a:pt x="13" y="129"/>
                        </a:lnTo>
                        <a:lnTo>
                          <a:pt x="7" y="112"/>
                        </a:lnTo>
                        <a:lnTo>
                          <a:pt x="2" y="94"/>
                        </a:lnTo>
                        <a:lnTo>
                          <a:pt x="2" y="79"/>
                        </a:lnTo>
                        <a:lnTo>
                          <a:pt x="0" y="62"/>
                        </a:lnTo>
                        <a:lnTo>
                          <a:pt x="2" y="46"/>
                        </a:lnTo>
                        <a:lnTo>
                          <a:pt x="4" y="27"/>
                        </a:lnTo>
                        <a:lnTo>
                          <a:pt x="11" y="8"/>
                        </a:lnTo>
                        <a:lnTo>
                          <a:pt x="21" y="0"/>
                        </a:lnTo>
                        <a:lnTo>
                          <a:pt x="36" y="0"/>
                        </a:lnTo>
                        <a:lnTo>
                          <a:pt x="36" y="33"/>
                        </a:lnTo>
                        <a:lnTo>
                          <a:pt x="42" y="66"/>
                        </a:lnTo>
                        <a:lnTo>
                          <a:pt x="46" y="98"/>
                        </a:lnTo>
                        <a:lnTo>
                          <a:pt x="52" y="133"/>
                        </a:lnTo>
                        <a:lnTo>
                          <a:pt x="55" y="165"/>
                        </a:lnTo>
                        <a:lnTo>
                          <a:pt x="59" y="200"/>
                        </a:lnTo>
                        <a:lnTo>
                          <a:pt x="61" y="234"/>
                        </a:lnTo>
                        <a:lnTo>
                          <a:pt x="63" y="273"/>
                        </a:lnTo>
                        <a:lnTo>
                          <a:pt x="71" y="267"/>
                        </a:lnTo>
                        <a:lnTo>
                          <a:pt x="80" y="257"/>
                        </a:lnTo>
                        <a:lnTo>
                          <a:pt x="86" y="246"/>
                        </a:lnTo>
                        <a:lnTo>
                          <a:pt x="92" y="232"/>
                        </a:lnTo>
                        <a:lnTo>
                          <a:pt x="96" y="215"/>
                        </a:lnTo>
                        <a:lnTo>
                          <a:pt x="100" y="202"/>
                        </a:lnTo>
                        <a:lnTo>
                          <a:pt x="101" y="188"/>
                        </a:lnTo>
                        <a:lnTo>
                          <a:pt x="105" y="181"/>
                        </a:lnTo>
                        <a:lnTo>
                          <a:pt x="107" y="181"/>
                        </a:lnTo>
                        <a:lnTo>
                          <a:pt x="111" y="181"/>
                        </a:lnTo>
                        <a:lnTo>
                          <a:pt x="107" y="207"/>
                        </a:lnTo>
                        <a:lnTo>
                          <a:pt x="113" y="238"/>
                        </a:lnTo>
                        <a:lnTo>
                          <a:pt x="121" y="269"/>
                        </a:lnTo>
                        <a:lnTo>
                          <a:pt x="132" y="301"/>
                        </a:lnTo>
                        <a:lnTo>
                          <a:pt x="140" y="332"/>
                        </a:lnTo>
                        <a:lnTo>
                          <a:pt x="149" y="365"/>
                        </a:lnTo>
                        <a:lnTo>
                          <a:pt x="155" y="395"/>
                        </a:lnTo>
                        <a:lnTo>
                          <a:pt x="157" y="428"/>
                        </a:lnTo>
                        <a:lnTo>
                          <a:pt x="151" y="428"/>
                        </a:lnTo>
                        <a:close/>
                      </a:path>
                    </a:pathLst>
                  </a:custGeom>
                  <a:solidFill>
                    <a:srgbClr val="99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 flipH="1">
                    <a:off x="6390720" y="5272920"/>
                    <a:ext cx="4212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104">
                        <a:moveTo>
                          <a:pt x="18" y="104"/>
                        </a:moveTo>
                        <a:lnTo>
                          <a:pt x="12" y="89"/>
                        </a:lnTo>
                        <a:lnTo>
                          <a:pt x="10" y="77"/>
                        </a:lnTo>
                        <a:lnTo>
                          <a:pt x="6" y="62"/>
                        </a:lnTo>
                        <a:lnTo>
                          <a:pt x="4" y="50"/>
                        </a:lnTo>
                        <a:lnTo>
                          <a:pt x="2" y="37"/>
                        </a:lnTo>
                        <a:lnTo>
                          <a:pt x="0" y="24"/>
                        </a:lnTo>
                        <a:lnTo>
                          <a:pt x="0" y="12"/>
                        </a:lnTo>
                        <a:lnTo>
                          <a:pt x="0" y="2"/>
                        </a:lnTo>
                        <a:lnTo>
                          <a:pt x="0" y="0"/>
                        </a:lnTo>
                        <a:lnTo>
                          <a:pt x="2" y="0"/>
                        </a:lnTo>
                        <a:lnTo>
                          <a:pt x="16" y="18"/>
                        </a:lnTo>
                        <a:lnTo>
                          <a:pt x="29" y="35"/>
                        </a:lnTo>
                        <a:lnTo>
                          <a:pt x="43" y="52"/>
                        </a:lnTo>
                        <a:lnTo>
                          <a:pt x="58" y="71"/>
                        </a:lnTo>
                        <a:lnTo>
                          <a:pt x="46" y="87"/>
                        </a:lnTo>
                        <a:lnTo>
                          <a:pt x="35" y="104"/>
                        </a:lnTo>
                        <a:lnTo>
                          <a:pt x="25" y="104"/>
                        </a:lnTo>
                        <a:lnTo>
                          <a:pt x="18" y="104"/>
                        </a:lnTo>
                        <a:close/>
                      </a:path>
                    </a:pathLst>
                  </a:cu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 flipH="1">
                    <a:off x="6284160" y="5350680"/>
                    <a:ext cx="12960" cy="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8">
                        <a:moveTo>
                          <a:pt x="2" y="8"/>
                        </a:moveTo>
                        <a:lnTo>
                          <a:pt x="0" y="4"/>
                        </a:lnTo>
                        <a:lnTo>
                          <a:pt x="0" y="2"/>
                        </a:lnTo>
                        <a:lnTo>
                          <a:pt x="4" y="0"/>
                        </a:lnTo>
                        <a:lnTo>
                          <a:pt x="16" y="0"/>
                        </a:lnTo>
                        <a:lnTo>
                          <a:pt x="16" y="2"/>
                        </a:lnTo>
                        <a:lnTo>
                          <a:pt x="18" y="4"/>
                        </a:lnTo>
                        <a:lnTo>
                          <a:pt x="10" y="8"/>
                        </a:lnTo>
                        <a:lnTo>
                          <a:pt x="2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 flipH="1">
                    <a:off x="4480560" y="4964400"/>
                    <a:ext cx="16560" cy="1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3">
                        <a:moveTo>
                          <a:pt x="6" y="23"/>
                        </a:moveTo>
                        <a:lnTo>
                          <a:pt x="0" y="10"/>
                        </a:lnTo>
                        <a:lnTo>
                          <a:pt x="0" y="0"/>
                        </a:lnTo>
                        <a:lnTo>
                          <a:pt x="12" y="0"/>
                        </a:lnTo>
                        <a:lnTo>
                          <a:pt x="23" y="2"/>
                        </a:lnTo>
                        <a:lnTo>
                          <a:pt x="14" y="13"/>
                        </a:lnTo>
                        <a:lnTo>
                          <a:pt x="6" y="23"/>
                        </a:lnTo>
                        <a:close/>
                      </a:path>
                    </a:pathLst>
                  </a:cu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440" bIns="-28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 flipH="1">
                    <a:off x="4456080" y="4966200"/>
                    <a:ext cx="864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12" h="19">
                        <a:moveTo>
                          <a:pt x="6" y="19"/>
                        </a:moveTo>
                        <a:lnTo>
                          <a:pt x="2" y="8"/>
                        </a:lnTo>
                        <a:lnTo>
                          <a:pt x="0" y="0"/>
                        </a:lnTo>
                        <a:lnTo>
                          <a:pt x="4" y="2"/>
                        </a:lnTo>
                        <a:lnTo>
                          <a:pt x="12" y="6"/>
                        </a:lnTo>
                        <a:lnTo>
                          <a:pt x="12" y="10"/>
                        </a:lnTo>
                        <a:lnTo>
                          <a:pt x="12" y="15"/>
                        </a:lnTo>
                        <a:lnTo>
                          <a:pt x="6" y="15"/>
                        </a:lnTo>
                        <a:lnTo>
                          <a:pt x="6" y="19"/>
                        </a:lnTo>
                        <a:close/>
                      </a:path>
                    </a:pathLst>
                  </a:cu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 flipH="1">
                    <a:off x="4474440" y="4933440"/>
                    <a:ext cx="5760" cy="1044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13">
                        <a:moveTo>
                          <a:pt x="0" y="13"/>
                        </a:moveTo>
                        <a:lnTo>
                          <a:pt x="0" y="5"/>
                        </a:lnTo>
                        <a:lnTo>
                          <a:pt x="4" y="0"/>
                        </a:lnTo>
                        <a:lnTo>
                          <a:pt x="8" y="0"/>
                        </a:lnTo>
                        <a:lnTo>
                          <a:pt x="6" y="4"/>
                        </a:lnTo>
                        <a:lnTo>
                          <a:pt x="4" y="11"/>
                        </a:lnTo>
                        <a:lnTo>
                          <a:pt x="2" y="11"/>
                        </a:lnTo>
                        <a:lnTo>
                          <a:pt x="0" y="13"/>
                        </a:lnTo>
                        <a:close/>
                      </a:path>
                    </a:pathLst>
                  </a:custGeom>
                  <a:solidFill>
                    <a:srgbClr val="cccc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360" bIns="-36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9" name=""/>
                  <p:cNvSpPr/>
                  <p:nvPr/>
                </p:nvSpPr>
                <p:spPr>
                  <a:xfrm flipH="1">
                    <a:off x="5416560" y="3810960"/>
                    <a:ext cx="337320" cy="1064880"/>
                  </a:xfrm>
                  <a:custGeom>
                    <a:avLst/>
                    <a:gdLst/>
                    <a:ahLst/>
                    <a:rect l="l" t="t" r="r" b="b"/>
                    <a:pathLst>
                      <a:path w="461" h="1315">
                        <a:moveTo>
                          <a:pt x="152" y="1315"/>
                        </a:moveTo>
                        <a:lnTo>
                          <a:pt x="146" y="1313"/>
                        </a:lnTo>
                        <a:lnTo>
                          <a:pt x="142" y="1313"/>
                        </a:lnTo>
                        <a:lnTo>
                          <a:pt x="140" y="1305"/>
                        </a:lnTo>
                        <a:lnTo>
                          <a:pt x="140" y="1301"/>
                        </a:lnTo>
                        <a:lnTo>
                          <a:pt x="127" y="1294"/>
                        </a:lnTo>
                        <a:lnTo>
                          <a:pt x="127" y="1282"/>
                        </a:lnTo>
                        <a:lnTo>
                          <a:pt x="123" y="1280"/>
                        </a:lnTo>
                        <a:lnTo>
                          <a:pt x="119" y="1280"/>
                        </a:lnTo>
                        <a:lnTo>
                          <a:pt x="119" y="1288"/>
                        </a:lnTo>
                        <a:lnTo>
                          <a:pt x="123" y="1296"/>
                        </a:lnTo>
                        <a:lnTo>
                          <a:pt x="125" y="1301"/>
                        </a:lnTo>
                        <a:lnTo>
                          <a:pt x="127" y="1307"/>
                        </a:lnTo>
                        <a:lnTo>
                          <a:pt x="119" y="1311"/>
                        </a:lnTo>
                        <a:lnTo>
                          <a:pt x="112" y="1315"/>
                        </a:lnTo>
                        <a:lnTo>
                          <a:pt x="112" y="1303"/>
                        </a:lnTo>
                        <a:lnTo>
                          <a:pt x="112" y="1294"/>
                        </a:lnTo>
                        <a:lnTo>
                          <a:pt x="112" y="1284"/>
                        </a:lnTo>
                        <a:lnTo>
                          <a:pt x="112" y="1278"/>
                        </a:lnTo>
                        <a:lnTo>
                          <a:pt x="106" y="1278"/>
                        </a:lnTo>
                        <a:lnTo>
                          <a:pt x="104" y="1278"/>
                        </a:lnTo>
                        <a:lnTo>
                          <a:pt x="89" y="1290"/>
                        </a:lnTo>
                        <a:lnTo>
                          <a:pt x="77" y="1309"/>
                        </a:lnTo>
                        <a:lnTo>
                          <a:pt x="69" y="1307"/>
                        </a:lnTo>
                        <a:lnTo>
                          <a:pt x="64" y="1303"/>
                        </a:lnTo>
                        <a:lnTo>
                          <a:pt x="60" y="1290"/>
                        </a:lnTo>
                        <a:lnTo>
                          <a:pt x="60" y="1276"/>
                        </a:lnTo>
                        <a:lnTo>
                          <a:pt x="60" y="1263"/>
                        </a:lnTo>
                        <a:lnTo>
                          <a:pt x="60" y="1250"/>
                        </a:lnTo>
                        <a:lnTo>
                          <a:pt x="58" y="1236"/>
                        </a:lnTo>
                        <a:lnTo>
                          <a:pt x="54" y="1225"/>
                        </a:lnTo>
                        <a:lnTo>
                          <a:pt x="46" y="1217"/>
                        </a:lnTo>
                        <a:lnTo>
                          <a:pt x="35" y="1213"/>
                        </a:lnTo>
                        <a:lnTo>
                          <a:pt x="27" y="1202"/>
                        </a:lnTo>
                        <a:lnTo>
                          <a:pt x="25" y="1190"/>
                        </a:lnTo>
                        <a:lnTo>
                          <a:pt x="23" y="1181"/>
                        </a:lnTo>
                        <a:lnTo>
                          <a:pt x="23" y="1171"/>
                        </a:lnTo>
                        <a:lnTo>
                          <a:pt x="22" y="1152"/>
                        </a:lnTo>
                        <a:lnTo>
                          <a:pt x="22" y="1135"/>
                        </a:lnTo>
                        <a:lnTo>
                          <a:pt x="10" y="1136"/>
                        </a:lnTo>
                        <a:lnTo>
                          <a:pt x="6" y="1146"/>
                        </a:lnTo>
                        <a:lnTo>
                          <a:pt x="2" y="1154"/>
                        </a:lnTo>
                        <a:lnTo>
                          <a:pt x="0" y="1163"/>
                        </a:lnTo>
                        <a:lnTo>
                          <a:pt x="0" y="1135"/>
                        </a:lnTo>
                        <a:lnTo>
                          <a:pt x="0" y="1108"/>
                        </a:lnTo>
                        <a:lnTo>
                          <a:pt x="0" y="1083"/>
                        </a:lnTo>
                        <a:lnTo>
                          <a:pt x="4" y="1058"/>
                        </a:lnTo>
                        <a:lnTo>
                          <a:pt x="6" y="1033"/>
                        </a:lnTo>
                        <a:lnTo>
                          <a:pt x="12" y="1008"/>
                        </a:lnTo>
                        <a:lnTo>
                          <a:pt x="18" y="983"/>
                        </a:lnTo>
                        <a:lnTo>
                          <a:pt x="27" y="960"/>
                        </a:lnTo>
                        <a:lnTo>
                          <a:pt x="31" y="945"/>
                        </a:lnTo>
                        <a:lnTo>
                          <a:pt x="37" y="931"/>
                        </a:lnTo>
                        <a:lnTo>
                          <a:pt x="45" y="916"/>
                        </a:lnTo>
                        <a:lnTo>
                          <a:pt x="52" y="901"/>
                        </a:lnTo>
                        <a:lnTo>
                          <a:pt x="58" y="883"/>
                        </a:lnTo>
                        <a:lnTo>
                          <a:pt x="64" y="868"/>
                        </a:lnTo>
                        <a:lnTo>
                          <a:pt x="68" y="853"/>
                        </a:lnTo>
                        <a:lnTo>
                          <a:pt x="71" y="839"/>
                        </a:lnTo>
                        <a:lnTo>
                          <a:pt x="58" y="839"/>
                        </a:lnTo>
                        <a:lnTo>
                          <a:pt x="50" y="845"/>
                        </a:lnTo>
                        <a:lnTo>
                          <a:pt x="43" y="851"/>
                        </a:lnTo>
                        <a:lnTo>
                          <a:pt x="35" y="859"/>
                        </a:lnTo>
                        <a:lnTo>
                          <a:pt x="48" y="788"/>
                        </a:lnTo>
                        <a:lnTo>
                          <a:pt x="75" y="724"/>
                        </a:lnTo>
                        <a:lnTo>
                          <a:pt x="106" y="661"/>
                        </a:lnTo>
                        <a:lnTo>
                          <a:pt x="144" y="602"/>
                        </a:lnTo>
                        <a:lnTo>
                          <a:pt x="177" y="538"/>
                        </a:lnTo>
                        <a:lnTo>
                          <a:pt x="208" y="475"/>
                        </a:lnTo>
                        <a:lnTo>
                          <a:pt x="227" y="406"/>
                        </a:lnTo>
                        <a:lnTo>
                          <a:pt x="236" y="333"/>
                        </a:lnTo>
                        <a:lnTo>
                          <a:pt x="231" y="301"/>
                        </a:lnTo>
                        <a:lnTo>
                          <a:pt x="225" y="274"/>
                        </a:lnTo>
                        <a:lnTo>
                          <a:pt x="219" y="245"/>
                        </a:lnTo>
                        <a:lnTo>
                          <a:pt x="213" y="222"/>
                        </a:lnTo>
                        <a:lnTo>
                          <a:pt x="208" y="195"/>
                        </a:lnTo>
                        <a:lnTo>
                          <a:pt x="204" y="170"/>
                        </a:lnTo>
                        <a:lnTo>
                          <a:pt x="202" y="143"/>
                        </a:lnTo>
                        <a:lnTo>
                          <a:pt x="202" y="117"/>
                        </a:lnTo>
                        <a:lnTo>
                          <a:pt x="196" y="105"/>
                        </a:lnTo>
                        <a:lnTo>
                          <a:pt x="190" y="101"/>
                        </a:lnTo>
                        <a:lnTo>
                          <a:pt x="190" y="88"/>
                        </a:lnTo>
                        <a:lnTo>
                          <a:pt x="190" y="74"/>
                        </a:lnTo>
                        <a:lnTo>
                          <a:pt x="192" y="57"/>
                        </a:lnTo>
                        <a:lnTo>
                          <a:pt x="198" y="42"/>
                        </a:lnTo>
                        <a:lnTo>
                          <a:pt x="202" y="25"/>
                        </a:lnTo>
                        <a:lnTo>
                          <a:pt x="209" y="13"/>
                        </a:lnTo>
                        <a:lnTo>
                          <a:pt x="217" y="4"/>
                        </a:lnTo>
                        <a:lnTo>
                          <a:pt x="229" y="0"/>
                        </a:lnTo>
                        <a:lnTo>
                          <a:pt x="229" y="11"/>
                        </a:lnTo>
                        <a:lnTo>
                          <a:pt x="232" y="25"/>
                        </a:lnTo>
                        <a:lnTo>
                          <a:pt x="236" y="38"/>
                        </a:lnTo>
                        <a:lnTo>
                          <a:pt x="246" y="53"/>
                        </a:lnTo>
                        <a:lnTo>
                          <a:pt x="255" y="50"/>
                        </a:lnTo>
                        <a:lnTo>
                          <a:pt x="267" y="42"/>
                        </a:lnTo>
                        <a:lnTo>
                          <a:pt x="280" y="32"/>
                        </a:lnTo>
                        <a:lnTo>
                          <a:pt x="294" y="27"/>
                        </a:lnTo>
                        <a:lnTo>
                          <a:pt x="292" y="36"/>
                        </a:lnTo>
                        <a:lnTo>
                          <a:pt x="292" y="46"/>
                        </a:lnTo>
                        <a:lnTo>
                          <a:pt x="292" y="57"/>
                        </a:lnTo>
                        <a:lnTo>
                          <a:pt x="298" y="69"/>
                        </a:lnTo>
                        <a:lnTo>
                          <a:pt x="300" y="69"/>
                        </a:lnTo>
                        <a:lnTo>
                          <a:pt x="307" y="69"/>
                        </a:lnTo>
                        <a:lnTo>
                          <a:pt x="317" y="55"/>
                        </a:lnTo>
                        <a:lnTo>
                          <a:pt x="326" y="48"/>
                        </a:lnTo>
                        <a:lnTo>
                          <a:pt x="332" y="42"/>
                        </a:lnTo>
                        <a:lnTo>
                          <a:pt x="338" y="38"/>
                        </a:lnTo>
                        <a:lnTo>
                          <a:pt x="346" y="32"/>
                        </a:lnTo>
                        <a:lnTo>
                          <a:pt x="353" y="28"/>
                        </a:lnTo>
                        <a:lnTo>
                          <a:pt x="353" y="30"/>
                        </a:lnTo>
                        <a:lnTo>
                          <a:pt x="357" y="34"/>
                        </a:lnTo>
                        <a:lnTo>
                          <a:pt x="342" y="57"/>
                        </a:lnTo>
                        <a:lnTo>
                          <a:pt x="336" y="94"/>
                        </a:lnTo>
                        <a:lnTo>
                          <a:pt x="338" y="136"/>
                        </a:lnTo>
                        <a:lnTo>
                          <a:pt x="346" y="184"/>
                        </a:lnTo>
                        <a:lnTo>
                          <a:pt x="353" y="230"/>
                        </a:lnTo>
                        <a:lnTo>
                          <a:pt x="363" y="276"/>
                        </a:lnTo>
                        <a:lnTo>
                          <a:pt x="372" y="312"/>
                        </a:lnTo>
                        <a:lnTo>
                          <a:pt x="382" y="345"/>
                        </a:lnTo>
                        <a:lnTo>
                          <a:pt x="407" y="433"/>
                        </a:lnTo>
                        <a:lnTo>
                          <a:pt x="430" y="521"/>
                        </a:lnTo>
                        <a:lnTo>
                          <a:pt x="447" y="609"/>
                        </a:lnTo>
                        <a:lnTo>
                          <a:pt x="459" y="699"/>
                        </a:lnTo>
                        <a:lnTo>
                          <a:pt x="461" y="786"/>
                        </a:lnTo>
                        <a:lnTo>
                          <a:pt x="457" y="876"/>
                        </a:lnTo>
                        <a:lnTo>
                          <a:pt x="441" y="966"/>
                        </a:lnTo>
                        <a:lnTo>
                          <a:pt x="418" y="1060"/>
                        </a:lnTo>
                        <a:lnTo>
                          <a:pt x="416" y="1062"/>
                        </a:lnTo>
                        <a:lnTo>
                          <a:pt x="416" y="1064"/>
                        </a:lnTo>
                        <a:lnTo>
                          <a:pt x="413" y="1050"/>
                        </a:lnTo>
                        <a:lnTo>
                          <a:pt x="411" y="1039"/>
                        </a:lnTo>
                        <a:lnTo>
                          <a:pt x="409" y="1027"/>
                        </a:lnTo>
                        <a:lnTo>
                          <a:pt x="409" y="1018"/>
                        </a:lnTo>
                        <a:lnTo>
                          <a:pt x="403" y="1018"/>
                        </a:lnTo>
                        <a:lnTo>
                          <a:pt x="401" y="1018"/>
                        </a:lnTo>
                        <a:lnTo>
                          <a:pt x="384" y="1044"/>
                        </a:lnTo>
                        <a:lnTo>
                          <a:pt x="370" y="1071"/>
                        </a:lnTo>
                        <a:lnTo>
                          <a:pt x="353" y="1096"/>
                        </a:lnTo>
                        <a:lnTo>
                          <a:pt x="340" y="1121"/>
                        </a:lnTo>
                        <a:lnTo>
                          <a:pt x="321" y="1144"/>
                        </a:lnTo>
                        <a:lnTo>
                          <a:pt x="303" y="1169"/>
                        </a:lnTo>
                        <a:lnTo>
                          <a:pt x="284" y="1196"/>
                        </a:lnTo>
                        <a:lnTo>
                          <a:pt x="263" y="1225"/>
                        </a:lnTo>
                        <a:lnTo>
                          <a:pt x="259" y="1221"/>
                        </a:lnTo>
                        <a:lnTo>
                          <a:pt x="257" y="1209"/>
                        </a:lnTo>
                        <a:lnTo>
                          <a:pt x="254" y="1209"/>
                        </a:lnTo>
                        <a:lnTo>
                          <a:pt x="252" y="1209"/>
                        </a:lnTo>
                        <a:lnTo>
                          <a:pt x="244" y="1225"/>
                        </a:lnTo>
                        <a:lnTo>
                          <a:pt x="234" y="1240"/>
                        </a:lnTo>
                        <a:lnTo>
                          <a:pt x="223" y="1255"/>
                        </a:lnTo>
                        <a:lnTo>
                          <a:pt x="211" y="1273"/>
                        </a:lnTo>
                        <a:lnTo>
                          <a:pt x="196" y="1286"/>
                        </a:lnTo>
                        <a:lnTo>
                          <a:pt x="183" y="1299"/>
                        </a:lnTo>
                        <a:lnTo>
                          <a:pt x="167" y="1307"/>
                        </a:lnTo>
                        <a:lnTo>
                          <a:pt x="152" y="1315"/>
                        </a:lnTo>
                        <a:close/>
                      </a:path>
                    </a:pathLst>
                  </a:custGeom>
                  <a:solidFill>
                    <a:srgbClr val="cc99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 flipH="1">
                    <a:off x="6493320" y="4414320"/>
                    <a:ext cx="57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8" h="10">
                        <a:moveTo>
                          <a:pt x="0" y="10"/>
                        </a:moveTo>
                        <a:lnTo>
                          <a:pt x="0" y="4"/>
                        </a:lnTo>
                        <a:lnTo>
                          <a:pt x="0" y="2"/>
                        </a:lnTo>
                        <a:lnTo>
                          <a:pt x="2" y="0"/>
                        </a:lnTo>
                        <a:lnTo>
                          <a:pt x="8" y="0"/>
                        </a:lnTo>
                        <a:lnTo>
                          <a:pt x="4" y="4"/>
                        </a:lnTo>
                        <a:lnTo>
                          <a:pt x="0" y="1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 flipH="1">
                    <a:off x="6491880" y="4254840"/>
                    <a:ext cx="4212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58" h="186">
                        <a:moveTo>
                          <a:pt x="22" y="186"/>
                        </a:moveTo>
                        <a:lnTo>
                          <a:pt x="14" y="171"/>
                        </a:lnTo>
                        <a:lnTo>
                          <a:pt x="8" y="159"/>
                        </a:lnTo>
                        <a:lnTo>
                          <a:pt x="4" y="144"/>
                        </a:lnTo>
                        <a:lnTo>
                          <a:pt x="2" y="132"/>
                        </a:lnTo>
                        <a:lnTo>
                          <a:pt x="0" y="119"/>
                        </a:lnTo>
                        <a:lnTo>
                          <a:pt x="0" y="105"/>
                        </a:lnTo>
                        <a:lnTo>
                          <a:pt x="0" y="94"/>
                        </a:lnTo>
                        <a:lnTo>
                          <a:pt x="2" y="82"/>
                        </a:lnTo>
                        <a:lnTo>
                          <a:pt x="4" y="82"/>
                        </a:lnTo>
                        <a:lnTo>
                          <a:pt x="8" y="82"/>
                        </a:lnTo>
                        <a:lnTo>
                          <a:pt x="10" y="94"/>
                        </a:lnTo>
                        <a:lnTo>
                          <a:pt x="14" y="100"/>
                        </a:lnTo>
                        <a:lnTo>
                          <a:pt x="18" y="86"/>
                        </a:lnTo>
                        <a:lnTo>
                          <a:pt x="23" y="73"/>
                        </a:lnTo>
                        <a:lnTo>
                          <a:pt x="25" y="57"/>
                        </a:lnTo>
                        <a:lnTo>
                          <a:pt x="29" y="44"/>
                        </a:lnTo>
                        <a:lnTo>
                          <a:pt x="29" y="31"/>
                        </a:lnTo>
                        <a:lnTo>
                          <a:pt x="35" y="19"/>
                        </a:lnTo>
                        <a:lnTo>
                          <a:pt x="41" y="8"/>
                        </a:lnTo>
                        <a:lnTo>
                          <a:pt x="52" y="0"/>
                        </a:lnTo>
                        <a:lnTo>
                          <a:pt x="50" y="11"/>
                        </a:lnTo>
                        <a:lnTo>
                          <a:pt x="48" y="23"/>
                        </a:lnTo>
                        <a:lnTo>
                          <a:pt x="48" y="34"/>
                        </a:lnTo>
                        <a:lnTo>
                          <a:pt x="48" y="46"/>
                        </a:lnTo>
                        <a:lnTo>
                          <a:pt x="48" y="57"/>
                        </a:lnTo>
                        <a:lnTo>
                          <a:pt x="50" y="71"/>
                        </a:lnTo>
                        <a:lnTo>
                          <a:pt x="52" y="82"/>
                        </a:lnTo>
                        <a:lnTo>
                          <a:pt x="56" y="100"/>
                        </a:lnTo>
                        <a:lnTo>
                          <a:pt x="52" y="100"/>
                        </a:lnTo>
                        <a:lnTo>
                          <a:pt x="50" y="100"/>
                        </a:lnTo>
                        <a:lnTo>
                          <a:pt x="45" y="98"/>
                        </a:lnTo>
                        <a:lnTo>
                          <a:pt x="37" y="96"/>
                        </a:lnTo>
                        <a:lnTo>
                          <a:pt x="31" y="113"/>
                        </a:lnTo>
                        <a:lnTo>
                          <a:pt x="39" y="130"/>
                        </a:lnTo>
                        <a:lnTo>
                          <a:pt x="48" y="144"/>
                        </a:lnTo>
                        <a:lnTo>
                          <a:pt x="58" y="163"/>
                        </a:lnTo>
                        <a:lnTo>
                          <a:pt x="48" y="169"/>
                        </a:lnTo>
                        <a:lnTo>
                          <a:pt x="39" y="176"/>
                        </a:lnTo>
                        <a:lnTo>
                          <a:pt x="29" y="182"/>
                        </a:lnTo>
                        <a:lnTo>
                          <a:pt x="22" y="186"/>
                        </a:lnTo>
                        <a:close/>
                      </a:path>
                    </a:pathLst>
                  </a:custGeom>
                  <a:solidFill>
                    <a:srgbClr val="cc99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2" name=""/>
                  <p:cNvSpPr/>
                  <p:nvPr/>
                </p:nvSpPr>
                <p:spPr>
                  <a:xfrm flipH="1">
                    <a:off x="6355800" y="4163400"/>
                    <a:ext cx="143280" cy="212040"/>
                  </a:xfrm>
                  <a:custGeom>
                    <a:avLst/>
                    <a:gdLst/>
                    <a:ahLst/>
                    <a:rect l="l" t="t" r="r" b="b"/>
                    <a:pathLst>
                      <a:path w="196" h="262">
                        <a:moveTo>
                          <a:pt x="18" y="262"/>
                        </a:moveTo>
                        <a:lnTo>
                          <a:pt x="6" y="251"/>
                        </a:lnTo>
                        <a:lnTo>
                          <a:pt x="2" y="243"/>
                        </a:lnTo>
                        <a:lnTo>
                          <a:pt x="0" y="234"/>
                        </a:lnTo>
                        <a:lnTo>
                          <a:pt x="0" y="228"/>
                        </a:lnTo>
                        <a:lnTo>
                          <a:pt x="10" y="232"/>
                        </a:lnTo>
                        <a:lnTo>
                          <a:pt x="23" y="236"/>
                        </a:lnTo>
                        <a:lnTo>
                          <a:pt x="25" y="232"/>
                        </a:lnTo>
                        <a:lnTo>
                          <a:pt x="27" y="222"/>
                        </a:lnTo>
                        <a:lnTo>
                          <a:pt x="18" y="209"/>
                        </a:lnTo>
                        <a:lnTo>
                          <a:pt x="12" y="193"/>
                        </a:lnTo>
                        <a:lnTo>
                          <a:pt x="8" y="174"/>
                        </a:lnTo>
                        <a:lnTo>
                          <a:pt x="8" y="155"/>
                        </a:lnTo>
                        <a:lnTo>
                          <a:pt x="8" y="134"/>
                        </a:lnTo>
                        <a:lnTo>
                          <a:pt x="12" y="117"/>
                        </a:lnTo>
                        <a:lnTo>
                          <a:pt x="18" y="101"/>
                        </a:lnTo>
                        <a:lnTo>
                          <a:pt x="27" y="92"/>
                        </a:lnTo>
                        <a:lnTo>
                          <a:pt x="29" y="77"/>
                        </a:lnTo>
                        <a:lnTo>
                          <a:pt x="39" y="61"/>
                        </a:lnTo>
                        <a:lnTo>
                          <a:pt x="50" y="44"/>
                        </a:lnTo>
                        <a:lnTo>
                          <a:pt x="67" y="31"/>
                        </a:lnTo>
                        <a:lnTo>
                          <a:pt x="85" y="15"/>
                        </a:lnTo>
                        <a:lnTo>
                          <a:pt x="104" y="6"/>
                        </a:lnTo>
                        <a:lnTo>
                          <a:pt x="121" y="0"/>
                        </a:lnTo>
                        <a:lnTo>
                          <a:pt x="138" y="0"/>
                        </a:lnTo>
                        <a:lnTo>
                          <a:pt x="125" y="11"/>
                        </a:lnTo>
                        <a:lnTo>
                          <a:pt x="108" y="25"/>
                        </a:lnTo>
                        <a:lnTo>
                          <a:pt x="94" y="42"/>
                        </a:lnTo>
                        <a:lnTo>
                          <a:pt x="92" y="61"/>
                        </a:lnTo>
                        <a:lnTo>
                          <a:pt x="104" y="57"/>
                        </a:lnTo>
                        <a:lnTo>
                          <a:pt x="117" y="55"/>
                        </a:lnTo>
                        <a:lnTo>
                          <a:pt x="112" y="61"/>
                        </a:lnTo>
                        <a:lnTo>
                          <a:pt x="108" y="71"/>
                        </a:lnTo>
                        <a:lnTo>
                          <a:pt x="104" y="82"/>
                        </a:lnTo>
                        <a:lnTo>
                          <a:pt x="102" y="96"/>
                        </a:lnTo>
                        <a:lnTo>
                          <a:pt x="98" y="107"/>
                        </a:lnTo>
                        <a:lnTo>
                          <a:pt x="98" y="119"/>
                        </a:lnTo>
                        <a:lnTo>
                          <a:pt x="100" y="128"/>
                        </a:lnTo>
                        <a:lnTo>
                          <a:pt x="108" y="138"/>
                        </a:lnTo>
                        <a:lnTo>
                          <a:pt x="121" y="128"/>
                        </a:lnTo>
                        <a:lnTo>
                          <a:pt x="138" y="121"/>
                        </a:lnTo>
                        <a:lnTo>
                          <a:pt x="136" y="132"/>
                        </a:lnTo>
                        <a:lnTo>
                          <a:pt x="136" y="146"/>
                        </a:lnTo>
                        <a:lnTo>
                          <a:pt x="138" y="157"/>
                        </a:lnTo>
                        <a:lnTo>
                          <a:pt x="146" y="172"/>
                        </a:lnTo>
                        <a:lnTo>
                          <a:pt x="156" y="170"/>
                        </a:lnTo>
                        <a:lnTo>
                          <a:pt x="163" y="169"/>
                        </a:lnTo>
                        <a:lnTo>
                          <a:pt x="167" y="180"/>
                        </a:lnTo>
                        <a:lnTo>
                          <a:pt x="179" y="188"/>
                        </a:lnTo>
                        <a:lnTo>
                          <a:pt x="186" y="193"/>
                        </a:lnTo>
                        <a:lnTo>
                          <a:pt x="196" y="203"/>
                        </a:lnTo>
                        <a:lnTo>
                          <a:pt x="192" y="203"/>
                        </a:lnTo>
                        <a:lnTo>
                          <a:pt x="186" y="205"/>
                        </a:lnTo>
                        <a:lnTo>
                          <a:pt x="175" y="207"/>
                        </a:lnTo>
                        <a:lnTo>
                          <a:pt x="163" y="211"/>
                        </a:lnTo>
                        <a:lnTo>
                          <a:pt x="146" y="215"/>
                        </a:lnTo>
                        <a:lnTo>
                          <a:pt x="127" y="218"/>
                        </a:lnTo>
                        <a:lnTo>
                          <a:pt x="106" y="224"/>
                        </a:lnTo>
                        <a:lnTo>
                          <a:pt x="85" y="230"/>
                        </a:lnTo>
                        <a:lnTo>
                          <a:pt x="69" y="238"/>
                        </a:lnTo>
                        <a:lnTo>
                          <a:pt x="52" y="249"/>
                        </a:lnTo>
                        <a:lnTo>
                          <a:pt x="31" y="257"/>
                        </a:lnTo>
                        <a:lnTo>
                          <a:pt x="18" y="262"/>
                        </a:lnTo>
                        <a:close/>
                      </a:path>
                    </a:pathLst>
                  </a:custGeom>
                  <a:solidFill>
                    <a:srgbClr val="99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3" name=""/>
                  <p:cNvSpPr/>
                  <p:nvPr/>
                </p:nvSpPr>
                <p:spPr>
                  <a:xfrm flipH="1">
                    <a:off x="5314320" y="3630240"/>
                    <a:ext cx="3276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45" h="41">
                        <a:moveTo>
                          <a:pt x="33" y="41"/>
                        </a:moveTo>
                        <a:lnTo>
                          <a:pt x="25" y="33"/>
                        </a:lnTo>
                        <a:lnTo>
                          <a:pt x="20" y="27"/>
                        </a:lnTo>
                        <a:lnTo>
                          <a:pt x="10" y="18"/>
                        </a:lnTo>
                        <a:lnTo>
                          <a:pt x="0" y="8"/>
                        </a:lnTo>
                        <a:lnTo>
                          <a:pt x="0" y="4"/>
                        </a:lnTo>
                        <a:lnTo>
                          <a:pt x="2" y="2"/>
                        </a:lnTo>
                        <a:lnTo>
                          <a:pt x="14" y="0"/>
                        </a:lnTo>
                        <a:lnTo>
                          <a:pt x="25" y="6"/>
                        </a:lnTo>
                        <a:lnTo>
                          <a:pt x="33" y="12"/>
                        </a:lnTo>
                        <a:lnTo>
                          <a:pt x="41" y="21"/>
                        </a:lnTo>
                        <a:lnTo>
                          <a:pt x="45" y="37"/>
                        </a:lnTo>
                        <a:lnTo>
                          <a:pt x="33" y="41"/>
                        </a:lnTo>
                        <a:close/>
                      </a:path>
                    </a:pathLst>
                  </a:cu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 flipH="1">
                    <a:off x="5452200" y="3529800"/>
                    <a:ext cx="66960" cy="12204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151">
                        <a:moveTo>
                          <a:pt x="71" y="151"/>
                        </a:moveTo>
                        <a:lnTo>
                          <a:pt x="57" y="144"/>
                        </a:lnTo>
                        <a:lnTo>
                          <a:pt x="48" y="140"/>
                        </a:lnTo>
                        <a:lnTo>
                          <a:pt x="40" y="136"/>
                        </a:lnTo>
                        <a:lnTo>
                          <a:pt x="34" y="134"/>
                        </a:lnTo>
                        <a:lnTo>
                          <a:pt x="26" y="132"/>
                        </a:lnTo>
                        <a:lnTo>
                          <a:pt x="19" y="132"/>
                        </a:lnTo>
                        <a:lnTo>
                          <a:pt x="9" y="132"/>
                        </a:lnTo>
                        <a:lnTo>
                          <a:pt x="0" y="132"/>
                        </a:lnTo>
                        <a:lnTo>
                          <a:pt x="2" y="113"/>
                        </a:lnTo>
                        <a:lnTo>
                          <a:pt x="7" y="96"/>
                        </a:lnTo>
                        <a:lnTo>
                          <a:pt x="13" y="78"/>
                        </a:lnTo>
                        <a:lnTo>
                          <a:pt x="23" y="63"/>
                        </a:lnTo>
                        <a:lnTo>
                          <a:pt x="30" y="46"/>
                        </a:lnTo>
                        <a:lnTo>
                          <a:pt x="40" y="30"/>
                        </a:lnTo>
                        <a:lnTo>
                          <a:pt x="48" y="15"/>
                        </a:lnTo>
                        <a:lnTo>
                          <a:pt x="57" y="0"/>
                        </a:lnTo>
                        <a:lnTo>
                          <a:pt x="67" y="0"/>
                        </a:lnTo>
                        <a:lnTo>
                          <a:pt x="76" y="0"/>
                        </a:lnTo>
                        <a:lnTo>
                          <a:pt x="82" y="13"/>
                        </a:lnTo>
                        <a:lnTo>
                          <a:pt x="88" y="28"/>
                        </a:lnTo>
                        <a:lnTo>
                          <a:pt x="90" y="46"/>
                        </a:lnTo>
                        <a:lnTo>
                          <a:pt x="92" y="63"/>
                        </a:lnTo>
                        <a:lnTo>
                          <a:pt x="88" y="80"/>
                        </a:lnTo>
                        <a:lnTo>
                          <a:pt x="88" y="101"/>
                        </a:lnTo>
                        <a:lnTo>
                          <a:pt x="88" y="122"/>
                        </a:lnTo>
                        <a:lnTo>
                          <a:pt x="90" y="145"/>
                        </a:lnTo>
                        <a:lnTo>
                          <a:pt x="78" y="149"/>
                        </a:lnTo>
                        <a:lnTo>
                          <a:pt x="71" y="151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 flipH="1">
                    <a:off x="5364000" y="3608280"/>
                    <a:ext cx="73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101" h="47">
                        <a:moveTo>
                          <a:pt x="40" y="47"/>
                        </a:moveTo>
                        <a:lnTo>
                          <a:pt x="27" y="45"/>
                        </a:lnTo>
                        <a:lnTo>
                          <a:pt x="17" y="43"/>
                        </a:lnTo>
                        <a:lnTo>
                          <a:pt x="6" y="39"/>
                        </a:lnTo>
                        <a:lnTo>
                          <a:pt x="0" y="37"/>
                        </a:lnTo>
                        <a:lnTo>
                          <a:pt x="0" y="18"/>
                        </a:lnTo>
                        <a:lnTo>
                          <a:pt x="2" y="0"/>
                        </a:lnTo>
                        <a:lnTo>
                          <a:pt x="13" y="2"/>
                        </a:lnTo>
                        <a:lnTo>
                          <a:pt x="25" y="6"/>
                        </a:lnTo>
                        <a:lnTo>
                          <a:pt x="36" y="10"/>
                        </a:lnTo>
                        <a:lnTo>
                          <a:pt x="50" y="16"/>
                        </a:lnTo>
                        <a:lnTo>
                          <a:pt x="61" y="20"/>
                        </a:lnTo>
                        <a:lnTo>
                          <a:pt x="75" y="25"/>
                        </a:lnTo>
                        <a:lnTo>
                          <a:pt x="88" y="29"/>
                        </a:lnTo>
                        <a:lnTo>
                          <a:pt x="101" y="35"/>
                        </a:lnTo>
                        <a:lnTo>
                          <a:pt x="98" y="35"/>
                        </a:lnTo>
                        <a:lnTo>
                          <a:pt x="90" y="35"/>
                        </a:lnTo>
                        <a:lnTo>
                          <a:pt x="82" y="35"/>
                        </a:lnTo>
                        <a:lnTo>
                          <a:pt x="75" y="35"/>
                        </a:lnTo>
                        <a:lnTo>
                          <a:pt x="57" y="45"/>
                        </a:lnTo>
                        <a:lnTo>
                          <a:pt x="40" y="47"/>
                        </a:lnTo>
                        <a:close/>
                      </a:path>
                    </a:pathLst>
                  </a:custGeom>
                  <a:solidFill>
                    <a:srgbClr val="cc99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000" bIns="-9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" name=""/>
                  <p:cNvSpPr/>
                  <p:nvPr/>
                </p:nvSpPr>
                <p:spPr>
                  <a:xfrm flipH="1">
                    <a:off x="5484240" y="3525120"/>
                    <a:ext cx="1008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14" h="15">
                        <a:moveTo>
                          <a:pt x="2" y="15"/>
                        </a:moveTo>
                        <a:lnTo>
                          <a:pt x="0" y="6"/>
                        </a:lnTo>
                        <a:lnTo>
                          <a:pt x="2" y="2"/>
                        </a:lnTo>
                        <a:lnTo>
                          <a:pt x="4" y="0"/>
                        </a:lnTo>
                        <a:lnTo>
                          <a:pt x="14" y="0"/>
                        </a:lnTo>
                        <a:lnTo>
                          <a:pt x="8" y="8"/>
                        </a:lnTo>
                        <a:lnTo>
                          <a:pt x="2" y="15"/>
                        </a:lnTo>
                        <a:close/>
                      </a:path>
                    </a:pathLst>
                  </a:custGeom>
                  <a:solidFill>
                    <a:srgbClr val="99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 flipH="1">
                    <a:off x="5644800" y="3299760"/>
                    <a:ext cx="102240" cy="228240"/>
                  </a:xfrm>
                  <a:custGeom>
                    <a:avLst/>
                    <a:gdLst/>
                    <a:ahLst/>
                    <a:rect l="l" t="t" r="r" b="b"/>
                    <a:pathLst>
                      <a:path w="140" h="282">
                        <a:moveTo>
                          <a:pt x="19" y="282"/>
                        </a:moveTo>
                        <a:lnTo>
                          <a:pt x="13" y="263"/>
                        </a:lnTo>
                        <a:lnTo>
                          <a:pt x="10" y="249"/>
                        </a:lnTo>
                        <a:lnTo>
                          <a:pt x="4" y="238"/>
                        </a:lnTo>
                        <a:lnTo>
                          <a:pt x="4" y="228"/>
                        </a:lnTo>
                        <a:lnTo>
                          <a:pt x="0" y="217"/>
                        </a:lnTo>
                        <a:lnTo>
                          <a:pt x="0" y="207"/>
                        </a:lnTo>
                        <a:lnTo>
                          <a:pt x="2" y="194"/>
                        </a:lnTo>
                        <a:lnTo>
                          <a:pt x="8" y="182"/>
                        </a:lnTo>
                        <a:lnTo>
                          <a:pt x="21" y="159"/>
                        </a:lnTo>
                        <a:lnTo>
                          <a:pt x="35" y="136"/>
                        </a:lnTo>
                        <a:lnTo>
                          <a:pt x="48" y="113"/>
                        </a:lnTo>
                        <a:lnTo>
                          <a:pt x="61" y="92"/>
                        </a:lnTo>
                        <a:lnTo>
                          <a:pt x="73" y="69"/>
                        </a:lnTo>
                        <a:lnTo>
                          <a:pt x="84" y="46"/>
                        </a:lnTo>
                        <a:lnTo>
                          <a:pt x="96" y="23"/>
                        </a:lnTo>
                        <a:lnTo>
                          <a:pt x="109" y="0"/>
                        </a:lnTo>
                        <a:lnTo>
                          <a:pt x="111" y="0"/>
                        </a:lnTo>
                        <a:lnTo>
                          <a:pt x="117" y="0"/>
                        </a:lnTo>
                        <a:lnTo>
                          <a:pt x="127" y="25"/>
                        </a:lnTo>
                        <a:lnTo>
                          <a:pt x="134" y="58"/>
                        </a:lnTo>
                        <a:lnTo>
                          <a:pt x="138" y="94"/>
                        </a:lnTo>
                        <a:lnTo>
                          <a:pt x="140" y="134"/>
                        </a:lnTo>
                        <a:lnTo>
                          <a:pt x="134" y="171"/>
                        </a:lnTo>
                        <a:lnTo>
                          <a:pt x="128" y="209"/>
                        </a:lnTo>
                        <a:lnTo>
                          <a:pt x="117" y="242"/>
                        </a:lnTo>
                        <a:lnTo>
                          <a:pt x="104" y="268"/>
                        </a:lnTo>
                        <a:lnTo>
                          <a:pt x="92" y="266"/>
                        </a:lnTo>
                        <a:lnTo>
                          <a:pt x="81" y="266"/>
                        </a:lnTo>
                        <a:lnTo>
                          <a:pt x="69" y="266"/>
                        </a:lnTo>
                        <a:lnTo>
                          <a:pt x="58" y="268"/>
                        </a:lnTo>
                        <a:lnTo>
                          <a:pt x="36" y="274"/>
                        </a:lnTo>
                        <a:lnTo>
                          <a:pt x="19" y="282"/>
                        </a:lnTo>
                        <a:close/>
                      </a:path>
                    </a:pathLst>
                  </a:custGeom>
                  <a:solidFill>
                    <a:srgbClr val="9966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28" name=""/>
              <p:cNvSpPr/>
              <p:nvPr/>
            </p:nvSpPr>
            <p:spPr>
              <a:xfrm flipH="1">
                <a:off x="3048120" y="3781080"/>
                <a:ext cx="1390320" cy="2599920"/>
              </a:xfrm>
              <a:custGeom>
                <a:avLst/>
                <a:gdLst/>
                <a:ahLst/>
                <a:rect l="l" t="t" r="r" b="b"/>
                <a:pathLst>
                  <a:path w="1900" h="3210">
                    <a:moveTo>
                      <a:pt x="20" y="9"/>
                    </a:moveTo>
                    <a:cubicBezTo>
                      <a:pt x="53" y="20"/>
                      <a:pt x="120" y="36"/>
                      <a:pt x="140" y="69"/>
                    </a:cubicBezTo>
                    <a:cubicBezTo>
                      <a:pt x="162" y="105"/>
                      <a:pt x="167" y="149"/>
                      <a:pt x="180" y="189"/>
                    </a:cubicBezTo>
                    <a:cubicBezTo>
                      <a:pt x="187" y="209"/>
                      <a:pt x="185" y="234"/>
                      <a:pt x="200" y="249"/>
                    </a:cubicBezTo>
                    <a:cubicBezTo>
                      <a:pt x="240" y="289"/>
                      <a:pt x="280" y="329"/>
                      <a:pt x="320" y="369"/>
                    </a:cubicBezTo>
                    <a:cubicBezTo>
                      <a:pt x="337" y="386"/>
                      <a:pt x="341" y="414"/>
                      <a:pt x="360" y="429"/>
                    </a:cubicBezTo>
                    <a:cubicBezTo>
                      <a:pt x="376" y="442"/>
                      <a:pt x="400" y="442"/>
                      <a:pt x="420" y="449"/>
                    </a:cubicBezTo>
                    <a:cubicBezTo>
                      <a:pt x="427" y="469"/>
                      <a:pt x="431" y="490"/>
                      <a:pt x="440" y="509"/>
                    </a:cubicBezTo>
                    <a:cubicBezTo>
                      <a:pt x="451" y="530"/>
                      <a:pt x="470" y="547"/>
                      <a:pt x="480" y="569"/>
                    </a:cubicBezTo>
                    <a:cubicBezTo>
                      <a:pt x="497" y="608"/>
                      <a:pt x="520" y="689"/>
                      <a:pt x="520" y="689"/>
                    </a:cubicBezTo>
                    <a:cubicBezTo>
                      <a:pt x="543" y="848"/>
                      <a:pt x="543" y="958"/>
                      <a:pt x="680" y="1049"/>
                    </a:cubicBezTo>
                    <a:cubicBezTo>
                      <a:pt x="693" y="1069"/>
                      <a:pt x="703" y="1092"/>
                      <a:pt x="720" y="1109"/>
                    </a:cubicBezTo>
                    <a:cubicBezTo>
                      <a:pt x="737" y="1126"/>
                      <a:pt x="764" y="1131"/>
                      <a:pt x="780" y="1149"/>
                    </a:cubicBezTo>
                    <a:cubicBezTo>
                      <a:pt x="943" y="1336"/>
                      <a:pt x="785" y="1219"/>
                      <a:pt x="920" y="1309"/>
                    </a:cubicBezTo>
                    <a:cubicBezTo>
                      <a:pt x="933" y="1349"/>
                      <a:pt x="954" y="1387"/>
                      <a:pt x="960" y="1429"/>
                    </a:cubicBezTo>
                    <a:cubicBezTo>
                      <a:pt x="970" y="1496"/>
                      <a:pt x="958" y="1576"/>
                      <a:pt x="1000" y="1629"/>
                    </a:cubicBezTo>
                    <a:cubicBezTo>
                      <a:pt x="1015" y="1648"/>
                      <a:pt x="1040" y="1656"/>
                      <a:pt x="1060" y="1669"/>
                    </a:cubicBezTo>
                    <a:cubicBezTo>
                      <a:pt x="1127" y="1769"/>
                      <a:pt x="1080" y="1716"/>
                      <a:pt x="1220" y="1809"/>
                    </a:cubicBezTo>
                    <a:cubicBezTo>
                      <a:pt x="1240" y="1822"/>
                      <a:pt x="1280" y="1849"/>
                      <a:pt x="1280" y="1849"/>
                    </a:cubicBezTo>
                    <a:cubicBezTo>
                      <a:pt x="1318" y="1964"/>
                      <a:pt x="1273" y="1857"/>
                      <a:pt x="1360" y="1969"/>
                    </a:cubicBezTo>
                    <a:cubicBezTo>
                      <a:pt x="1426" y="2053"/>
                      <a:pt x="1444" y="2125"/>
                      <a:pt x="1500" y="2209"/>
                    </a:cubicBezTo>
                    <a:cubicBezTo>
                      <a:pt x="1508" y="2286"/>
                      <a:pt x="1488" y="2406"/>
                      <a:pt x="1560" y="2469"/>
                    </a:cubicBezTo>
                    <a:cubicBezTo>
                      <a:pt x="1596" y="2501"/>
                      <a:pt x="1640" y="2522"/>
                      <a:pt x="1680" y="2549"/>
                    </a:cubicBezTo>
                    <a:cubicBezTo>
                      <a:pt x="1700" y="2562"/>
                      <a:pt x="1740" y="2589"/>
                      <a:pt x="1740" y="2589"/>
                    </a:cubicBezTo>
                    <a:cubicBezTo>
                      <a:pt x="1803" y="2684"/>
                      <a:pt x="1772" y="2626"/>
                      <a:pt x="1820" y="2769"/>
                    </a:cubicBezTo>
                    <a:cubicBezTo>
                      <a:pt x="1827" y="2789"/>
                      <a:pt x="1780" y="2756"/>
                      <a:pt x="1760" y="2749"/>
                    </a:cubicBezTo>
                    <a:cubicBezTo>
                      <a:pt x="1788" y="2890"/>
                      <a:pt x="1769" y="2817"/>
                      <a:pt x="1820" y="2969"/>
                    </a:cubicBezTo>
                    <a:cubicBezTo>
                      <a:pt x="1835" y="3015"/>
                      <a:pt x="1900" y="3089"/>
                      <a:pt x="1900" y="3089"/>
                    </a:cubicBezTo>
                    <a:cubicBezTo>
                      <a:pt x="1896" y="3101"/>
                      <a:pt x="1877" y="3210"/>
                      <a:pt x="1820" y="3169"/>
                    </a:cubicBezTo>
                    <a:cubicBezTo>
                      <a:pt x="1722" y="3099"/>
                      <a:pt x="1758" y="3065"/>
                      <a:pt x="1720" y="2989"/>
                    </a:cubicBezTo>
                    <a:cubicBezTo>
                      <a:pt x="1687" y="2922"/>
                      <a:pt x="1680" y="2929"/>
                      <a:pt x="1620" y="2889"/>
                    </a:cubicBezTo>
                    <a:cubicBezTo>
                      <a:pt x="1613" y="2869"/>
                      <a:pt x="1613" y="2846"/>
                      <a:pt x="1600" y="2829"/>
                    </a:cubicBezTo>
                    <a:cubicBezTo>
                      <a:pt x="1565" y="2784"/>
                      <a:pt x="1480" y="2709"/>
                      <a:pt x="1480" y="2709"/>
                    </a:cubicBezTo>
                    <a:cubicBezTo>
                      <a:pt x="1430" y="2558"/>
                      <a:pt x="1503" y="2738"/>
                      <a:pt x="1400" y="2609"/>
                    </a:cubicBezTo>
                    <a:cubicBezTo>
                      <a:pt x="1387" y="2593"/>
                      <a:pt x="1392" y="2567"/>
                      <a:pt x="1380" y="2549"/>
                    </a:cubicBezTo>
                    <a:cubicBezTo>
                      <a:pt x="1364" y="2525"/>
                      <a:pt x="1340" y="2509"/>
                      <a:pt x="1320" y="2489"/>
                    </a:cubicBezTo>
                    <a:cubicBezTo>
                      <a:pt x="1298" y="2424"/>
                      <a:pt x="1255" y="2376"/>
                      <a:pt x="1240" y="2309"/>
                    </a:cubicBezTo>
                    <a:cubicBezTo>
                      <a:pt x="1211" y="2178"/>
                      <a:pt x="1183" y="2057"/>
                      <a:pt x="1140" y="1929"/>
                    </a:cubicBezTo>
                    <a:cubicBezTo>
                      <a:pt x="1126" y="1886"/>
                      <a:pt x="1116" y="1841"/>
                      <a:pt x="1080" y="1809"/>
                    </a:cubicBezTo>
                    <a:cubicBezTo>
                      <a:pt x="1044" y="1777"/>
                      <a:pt x="960" y="1729"/>
                      <a:pt x="960" y="1729"/>
                    </a:cubicBezTo>
                    <a:cubicBezTo>
                      <a:pt x="867" y="1589"/>
                      <a:pt x="920" y="1636"/>
                      <a:pt x="820" y="1569"/>
                    </a:cubicBezTo>
                    <a:cubicBezTo>
                      <a:pt x="785" y="1463"/>
                      <a:pt x="812" y="1527"/>
                      <a:pt x="720" y="1389"/>
                    </a:cubicBezTo>
                    <a:cubicBezTo>
                      <a:pt x="707" y="1369"/>
                      <a:pt x="688" y="1352"/>
                      <a:pt x="680" y="1329"/>
                    </a:cubicBezTo>
                    <a:cubicBezTo>
                      <a:pt x="637" y="1201"/>
                      <a:pt x="596" y="1143"/>
                      <a:pt x="520" y="1029"/>
                    </a:cubicBezTo>
                    <a:cubicBezTo>
                      <a:pt x="497" y="994"/>
                      <a:pt x="503" y="944"/>
                      <a:pt x="480" y="909"/>
                    </a:cubicBezTo>
                    <a:cubicBezTo>
                      <a:pt x="417" y="814"/>
                      <a:pt x="448" y="872"/>
                      <a:pt x="400" y="729"/>
                    </a:cubicBezTo>
                    <a:cubicBezTo>
                      <a:pt x="393" y="709"/>
                      <a:pt x="392" y="687"/>
                      <a:pt x="380" y="669"/>
                    </a:cubicBezTo>
                    <a:cubicBezTo>
                      <a:pt x="300" y="549"/>
                      <a:pt x="220" y="429"/>
                      <a:pt x="140" y="309"/>
                    </a:cubicBezTo>
                    <a:cubicBezTo>
                      <a:pt x="87" y="230"/>
                      <a:pt x="30" y="159"/>
                      <a:pt x="0" y="69"/>
                    </a:cubicBezTo>
                    <a:cubicBezTo>
                      <a:pt x="7" y="49"/>
                      <a:pt x="1" y="18"/>
                      <a:pt x="20" y="9"/>
                    </a:cubicBezTo>
                    <a:cubicBezTo>
                      <a:pt x="39" y="0"/>
                      <a:pt x="80" y="29"/>
                      <a:pt x="80" y="29"/>
                    </a:cubicBezTo>
                    <a:cubicBezTo>
                      <a:pt x="80" y="29"/>
                      <a:pt x="40" y="16"/>
                      <a:pt x="20" y="9"/>
                    </a:cubicBez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H="1">
                <a:off x="4116600" y="3707640"/>
                <a:ext cx="958320" cy="1166400"/>
              </a:xfrm>
              <a:custGeom>
                <a:avLst/>
                <a:gdLst/>
                <a:ahLst/>
                <a:rect l="l" t="t" r="r" b="b"/>
                <a:pathLst>
                  <a:path w="1310" h="1440">
                    <a:moveTo>
                      <a:pt x="850" y="0"/>
                    </a:moveTo>
                    <a:cubicBezTo>
                      <a:pt x="899" y="148"/>
                      <a:pt x="981" y="272"/>
                      <a:pt x="1030" y="420"/>
                    </a:cubicBezTo>
                    <a:cubicBezTo>
                      <a:pt x="1045" y="466"/>
                      <a:pt x="1083" y="500"/>
                      <a:pt x="1110" y="540"/>
                    </a:cubicBezTo>
                    <a:cubicBezTo>
                      <a:pt x="1122" y="558"/>
                      <a:pt x="1121" y="581"/>
                      <a:pt x="1130" y="600"/>
                    </a:cubicBezTo>
                    <a:cubicBezTo>
                      <a:pt x="1208" y="755"/>
                      <a:pt x="1140" y="569"/>
                      <a:pt x="1190" y="720"/>
                    </a:cubicBezTo>
                    <a:cubicBezTo>
                      <a:pt x="1197" y="767"/>
                      <a:pt x="1202" y="814"/>
                      <a:pt x="1210" y="860"/>
                    </a:cubicBezTo>
                    <a:cubicBezTo>
                      <a:pt x="1215" y="887"/>
                      <a:pt x="1226" y="913"/>
                      <a:pt x="1230" y="940"/>
                    </a:cubicBezTo>
                    <a:cubicBezTo>
                      <a:pt x="1239" y="1000"/>
                      <a:pt x="1238" y="1061"/>
                      <a:pt x="1250" y="1120"/>
                    </a:cubicBezTo>
                    <a:cubicBezTo>
                      <a:pt x="1258" y="1161"/>
                      <a:pt x="1277" y="1200"/>
                      <a:pt x="1290" y="1240"/>
                    </a:cubicBezTo>
                    <a:cubicBezTo>
                      <a:pt x="1297" y="1260"/>
                      <a:pt x="1310" y="1300"/>
                      <a:pt x="1310" y="1300"/>
                    </a:cubicBezTo>
                    <a:cubicBezTo>
                      <a:pt x="1303" y="1320"/>
                      <a:pt x="1305" y="1345"/>
                      <a:pt x="1290" y="1360"/>
                    </a:cubicBezTo>
                    <a:cubicBezTo>
                      <a:pt x="1242" y="1408"/>
                      <a:pt x="1001" y="1361"/>
                      <a:pt x="990" y="1360"/>
                    </a:cubicBezTo>
                    <a:cubicBezTo>
                      <a:pt x="970" y="1347"/>
                      <a:pt x="945" y="1339"/>
                      <a:pt x="930" y="1320"/>
                    </a:cubicBezTo>
                    <a:cubicBezTo>
                      <a:pt x="895" y="1277"/>
                      <a:pt x="890" y="1159"/>
                      <a:pt x="870" y="1100"/>
                    </a:cubicBezTo>
                    <a:cubicBezTo>
                      <a:pt x="850" y="1113"/>
                      <a:pt x="823" y="1120"/>
                      <a:pt x="810" y="1140"/>
                    </a:cubicBezTo>
                    <a:cubicBezTo>
                      <a:pt x="662" y="1377"/>
                      <a:pt x="868" y="1143"/>
                      <a:pt x="750" y="1380"/>
                    </a:cubicBezTo>
                    <a:cubicBezTo>
                      <a:pt x="734" y="1411"/>
                      <a:pt x="658" y="1431"/>
                      <a:pt x="630" y="1440"/>
                    </a:cubicBezTo>
                    <a:cubicBezTo>
                      <a:pt x="610" y="1427"/>
                      <a:pt x="583" y="1420"/>
                      <a:pt x="570" y="1400"/>
                    </a:cubicBezTo>
                    <a:cubicBezTo>
                      <a:pt x="548" y="1364"/>
                      <a:pt x="538" y="1321"/>
                      <a:pt x="530" y="1280"/>
                    </a:cubicBezTo>
                    <a:cubicBezTo>
                      <a:pt x="523" y="1247"/>
                      <a:pt x="529" y="1208"/>
                      <a:pt x="510" y="1180"/>
                    </a:cubicBezTo>
                    <a:cubicBezTo>
                      <a:pt x="498" y="1162"/>
                      <a:pt x="470" y="1167"/>
                      <a:pt x="450" y="1160"/>
                    </a:cubicBezTo>
                    <a:cubicBezTo>
                      <a:pt x="410" y="1173"/>
                      <a:pt x="365" y="1177"/>
                      <a:pt x="330" y="1200"/>
                    </a:cubicBezTo>
                    <a:cubicBezTo>
                      <a:pt x="247" y="1255"/>
                      <a:pt x="182" y="1309"/>
                      <a:pt x="90" y="1340"/>
                    </a:cubicBezTo>
                    <a:cubicBezTo>
                      <a:pt x="70" y="1333"/>
                      <a:pt x="39" y="1339"/>
                      <a:pt x="30" y="1320"/>
                    </a:cubicBezTo>
                    <a:cubicBezTo>
                      <a:pt x="0" y="1259"/>
                      <a:pt x="87" y="1248"/>
                      <a:pt x="110" y="1240"/>
                    </a:cubicBezTo>
                    <a:cubicBezTo>
                      <a:pt x="123" y="1200"/>
                      <a:pt x="137" y="1160"/>
                      <a:pt x="150" y="1120"/>
                    </a:cubicBezTo>
                    <a:cubicBezTo>
                      <a:pt x="157" y="1100"/>
                      <a:pt x="170" y="1060"/>
                      <a:pt x="170" y="1060"/>
                    </a:cubicBezTo>
                    <a:cubicBezTo>
                      <a:pt x="187" y="903"/>
                      <a:pt x="182" y="907"/>
                      <a:pt x="210" y="780"/>
                    </a:cubicBezTo>
                    <a:cubicBezTo>
                      <a:pt x="216" y="753"/>
                      <a:pt x="215" y="723"/>
                      <a:pt x="230" y="700"/>
                    </a:cubicBezTo>
                    <a:cubicBezTo>
                      <a:pt x="243" y="680"/>
                      <a:pt x="270" y="673"/>
                      <a:pt x="290" y="660"/>
                    </a:cubicBezTo>
                    <a:cubicBezTo>
                      <a:pt x="317" y="620"/>
                      <a:pt x="343" y="580"/>
                      <a:pt x="370" y="540"/>
                    </a:cubicBezTo>
                    <a:cubicBezTo>
                      <a:pt x="383" y="520"/>
                      <a:pt x="402" y="503"/>
                      <a:pt x="410" y="480"/>
                    </a:cubicBezTo>
                    <a:cubicBezTo>
                      <a:pt x="461" y="326"/>
                      <a:pt x="461" y="314"/>
                      <a:pt x="550" y="180"/>
                    </a:cubicBezTo>
                    <a:cubicBezTo>
                      <a:pt x="562" y="162"/>
                      <a:pt x="590" y="167"/>
                      <a:pt x="610" y="160"/>
                    </a:cubicBezTo>
                    <a:cubicBezTo>
                      <a:pt x="617" y="140"/>
                      <a:pt x="615" y="115"/>
                      <a:pt x="630" y="100"/>
                    </a:cubicBezTo>
                    <a:cubicBezTo>
                      <a:pt x="645" y="85"/>
                      <a:pt x="671" y="89"/>
                      <a:pt x="690" y="80"/>
                    </a:cubicBezTo>
                    <a:cubicBezTo>
                      <a:pt x="711" y="69"/>
                      <a:pt x="729" y="51"/>
                      <a:pt x="750" y="40"/>
                    </a:cubicBezTo>
                    <a:cubicBezTo>
                      <a:pt x="782" y="24"/>
                      <a:pt x="817" y="13"/>
                      <a:pt x="85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0" name=""/>
          <p:cNvSpPr/>
          <p:nvPr/>
        </p:nvSpPr>
        <p:spPr>
          <a:xfrm flipH="1">
            <a:off x="2590200" y="5029200"/>
            <a:ext cx="6173640" cy="1516320"/>
          </a:xfrm>
          <a:prstGeom prst="wedgeEllipseCallout">
            <a:avLst>
              <a:gd name="adj1" fmla="val -26814"/>
              <a:gd name="adj2" fmla="val -129037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MS Reference Sans Serif"/>
                <a:ea typeface="Times New Roman"/>
              </a:rPr>
              <a:t>I live in the </a:t>
            </a:r>
            <a:r>
              <a:rPr b="1" lang="en-US" sz="1600" spc="-1" strike="noStrike">
                <a:solidFill>
                  <a:srgbClr val="ccccff"/>
                </a:solidFill>
                <a:latin typeface="MS Reference Sans Serif"/>
                <a:ea typeface="Times New Roman"/>
              </a:rPr>
              <a:t>Andes Mountains</a:t>
            </a:r>
            <a:r>
              <a:rPr b="1" lang="en-US" sz="1600" spc="-1" strike="noStrike">
                <a:solidFill>
                  <a:srgbClr val="ffffff"/>
                </a:solidFill>
                <a:latin typeface="MS Reference Sans Serif"/>
                <a:ea typeface="Times New Roman"/>
              </a:rPr>
              <a:t> in northern </a:t>
            </a:r>
            <a:r>
              <a:rPr b="1" lang="en-US" sz="1600" spc="-1" strike="noStrike">
                <a:solidFill>
                  <a:srgbClr val="ffe783"/>
                </a:solidFill>
                <a:latin typeface="MS Reference Sans Serif"/>
                <a:ea typeface="Times New Roman"/>
              </a:rPr>
              <a:t>South America</a:t>
            </a:r>
            <a:r>
              <a:rPr b="1" lang="en-US" sz="1600" spc="-1" strike="noStrike">
                <a:solidFill>
                  <a:srgbClr val="ffffff"/>
                </a:solidFill>
                <a:latin typeface="MS Reference Sans Serif"/>
                <a:ea typeface="Times New Roman"/>
              </a:rPr>
              <a:t>  where the weather never gets too ho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5000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"/>
          <p:cNvGrpSpPr/>
          <p:nvPr/>
        </p:nvGrpSpPr>
        <p:grpSpPr>
          <a:xfrm>
            <a:off x="0" y="685800"/>
            <a:ext cx="6951600" cy="5715000"/>
            <a:chOff x="0" y="685800"/>
            <a:chExt cx="6951600" cy="5715000"/>
          </a:xfrm>
        </p:grpSpPr>
        <p:pic>
          <p:nvPicPr>
            <p:cNvPr id="332" name="" descr=""/>
            <p:cNvPicPr/>
            <p:nvPr/>
          </p:nvPicPr>
          <p:blipFill>
            <a:blip r:embed="rId1"/>
            <a:stretch/>
          </p:blipFill>
          <p:spPr>
            <a:xfrm>
              <a:off x="0" y="685800"/>
              <a:ext cx="4589640" cy="5715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" descr=""/>
            <p:cNvPicPr/>
            <p:nvPr/>
          </p:nvPicPr>
          <p:blipFill>
            <a:blip r:embed="rId2"/>
            <a:stretch/>
          </p:blipFill>
          <p:spPr>
            <a:xfrm>
              <a:off x="2362320" y="685800"/>
              <a:ext cx="4589280" cy="571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" name=""/>
            <p:cNvSpPr/>
            <p:nvPr/>
          </p:nvSpPr>
          <p:spPr>
            <a:xfrm>
              <a:off x="1981080" y="3505320"/>
              <a:ext cx="685800" cy="2057400"/>
            </a:xfrm>
            <a:custGeom>
              <a:avLst/>
              <a:gdLst/>
              <a:ahLst/>
              <a:rect l="l" t="t" r="r" b="b"/>
              <a:pathLst>
                <a:path w="281" h="2269">
                  <a:moveTo>
                    <a:pt x="41" y="757"/>
                  </a:moveTo>
                  <a:cubicBezTo>
                    <a:pt x="0" y="513"/>
                    <a:pt x="5" y="326"/>
                    <a:pt x="29" y="49"/>
                  </a:cubicBezTo>
                  <a:cubicBezTo>
                    <a:pt x="30" y="36"/>
                    <a:pt x="54" y="43"/>
                    <a:pt x="65" y="37"/>
                  </a:cubicBezTo>
                  <a:cubicBezTo>
                    <a:pt x="78" y="31"/>
                    <a:pt x="89" y="21"/>
                    <a:pt x="101" y="13"/>
                  </a:cubicBezTo>
                  <a:cubicBezTo>
                    <a:pt x="162" y="19"/>
                    <a:pt x="253" y="0"/>
                    <a:pt x="269" y="73"/>
                  </a:cubicBezTo>
                  <a:cubicBezTo>
                    <a:pt x="274" y="97"/>
                    <a:pt x="277" y="121"/>
                    <a:pt x="281" y="145"/>
                  </a:cubicBezTo>
                  <a:cubicBezTo>
                    <a:pt x="259" y="279"/>
                    <a:pt x="242" y="410"/>
                    <a:pt x="209" y="541"/>
                  </a:cubicBezTo>
                  <a:cubicBezTo>
                    <a:pt x="188" y="755"/>
                    <a:pt x="223" y="948"/>
                    <a:pt x="257" y="1153"/>
                  </a:cubicBezTo>
                  <a:cubicBezTo>
                    <a:pt x="250" y="1305"/>
                    <a:pt x="254" y="1394"/>
                    <a:pt x="221" y="1525"/>
                  </a:cubicBezTo>
                  <a:cubicBezTo>
                    <a:pt x="198" y="1776"/>
                    <a:pt x="201" y="1692"/>
                    <a:pt x="221" y="2089"/>
                  </a:cubicBezTo>
                  <a:cubicBezTo>
                    <a:pt x="223" y="2126"/>
                    <a:pt x="270" y="2200"/>
                    <a:pt x="281" y="2245"/>
                  </a:cubicBezTo>
                  <a:cubicBezTo>
                    <a:pt x="269" y="2253"/>
                    <a:pt x="259" y="2269"/>
                    <a:pt x="245" y="2269"/>
                  </a:cubicBezTo>
                  <a:cubicBezTo>
                    <a:pt x="203" y="2269"/>
                    <a:pt x="99" y="2208"/>
                    <a:pt x="65" y="2185"/>
                  </a:cubicBezTo>
                  <a:cubicBezTo>
                    <a:pt x="72" y="2066"/>
                    <a:pt x="78" y="1953"/>
                    <a:pt x="101" y="1837"/>
                  </a:cubicBezTo>
                  <a:cubicBezTo>
                    <a:pt x="83" y="1622"/>
                    <a:pt x="65" y="1418"/>
                    <a:pt x="101" y="1201"/>
                  </a:cubicBezTo>
                  <a:cubicBezTo>
                    <a:pt x="81" y="736"/>
                    <a:pt x="119" y="1037"/>
                    <a:pt x="77" y="889"/>
                  </a:cubicBezTo>
                  <a:cubicBezTo>
                    <a:pt x="68" y="857"/>
                    <a:pt x="70" y="757"/>
                    <a:pt x="41" y="757"/>
                  </a:cubicBez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35" name="" descr=""/>
          <p:cNvPicPr/>
          <p:nvPr/>
        </p:nvPicPr>
        <p:blipFill>
          <a:blip r:embed="rId4"/>
          <a:stretch/>
        </p:blipFill>
        <p:spPr>
          <a:xfrm>
            <a:off x="6934320" y="3429000"/>
            <a:ext cx="2147760" cy="327672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3900600" y="2805120"/>
            <a:ext cx="1319040" cy="766800"/>
          </a:xfrm>
          <a:custGeom>
            <a:avLst/>
            <a:gdLst/>
            <a:ahLst/>
            <a:rect l="l" t="t" r="r" b="b"/>
            <a:pathLst>
              <a:path w="831" h="483">
                <a:moveTo>
                  <a:pt x="459" y="48"/>
                </a:moveTo>
                <a:cubicBezTo>
                  <a:pt x="453" y="65"/>
                  <a:pt x="455" y="72"/>
                  <a:pt x="441" y="81"/>
                </a:cubicBezTo>
                <a:cubicBezTo>
                  <a:pt x="437" y="93"/>
                  <a:pt x="426" y="104"/>
                  <a:pt x="414" y="108"/>
                </a:cubicBezTo>
                <a:cubicBezTo>
                  <a:pt x="400" y="122"/>
                  <a:pt x="385" y="128"/>
                  <a:pt x="369" y="138"/>
                </a:cubicBezTo>
                <a:cubicBezTo>
                  <a:pt x="360" y="151"/>
                  <a:pt x="333" y="160"/>
                  <a:pt x="318" y="165"/>
                </a:cubicBezTo>
                <a:cubicBezTo>
                  <a:pt x="312" y="167"/>
                  <a:pt x="300" y="171"/>
                  <a:pt x="300" y="171"/>
                </a:cubicBezTo>
                <a:cubicBezTo>
                  <a:pt x="211" y="166"/>
                  <a:pt x="130" y="136"/>
                  <a:pt x="42" y="126"/>
                </a:cubicBezTo>
                <a:cubicBezTo>
                  <a:pt x="42" y="126"/>
                  <a:pt x="22" y="131"/>
                  <a:pt x="21" y="132"/>
                </a:cubicBezTo>
                <a:cubicBezTo>
                  <a:pt x="16" y="137"/>
                  <a:pt x="9" y="150"/>
                  <a:pt x="9" y="150"/>
                </a:cubicBezTo>
                <a:cubicBezTo>
                  <a:pt x="7" y="164"/>
                  <a:pt x="0" y="192"/>
                  <a:pt x="0" y="192"/>
                </a:cubicBezTo>
                <a:cubicBezTo>
                  <a:pt x="1" y="227"/>
                  <a:pt x="1" y="262"/>
                  <a:pt x="3" y="297"/>
                </a:cubicBezTo>
                <a:cubicBezTo>
                  <a:pt x="5" y="336"/>
                  <a:pt x="30" y="383"/>
                  <a:pt x="42" y="420"/>
                </a:cubicBezTo>
                <a:cubicBezTo>
                  <a:pt x="49" y="441"/>
                  <a:pt x="46" y="469"/>
                  <a:pt x="66" y="483"/>
                </a:cubicBezTo>
                <a:cubicBezTo>
                  <a:pt x="196" y="476"/>
                  <a:pt x="317" y="419"/>
                  <a:pt x="447" y="408"/>
                </a:cubicBezTo>
                <a:cubicBezTo>
                  <a:pt x="478" y="400"/>
                  <a:pt x="439" y="409"/>
                  <a:pt x="504" y="402"/>
                </a:cubicBezTo>
                <a:cubicBezTo>
                  <a:pt x="547" y="397"/>
                  <a:pt x="587" y="385"/>
                  <a:pt x="630" y="381"/>
                </a:cubicBezTo>
                <a:cubicBezTo>
                  <a:pt x="715" y="384"/>
                  <a:pt x="680" y="379"/>
                  <a:pt x="735" y="390"/>
                </a:cubicBezTo>
                <a:cubicBezTo>
                  <a:pt x="738" y="391"/>
                  <a:pt x="772" y="399"/>
                  <a:pt x="777" y="402"/>
                </a:cubicBezTo>
                <a:cubicBezTo>
                  <a:pt x="783" y="406"/>
                  <a:pt x="795" y="414"/>
                  <a:pt x="795" y="414"/>
                </a:cubicBezTo>
                <a:cubicBezTo>
                  <a:pt x="805" y="411"/>
                  <a:pt x="805" y="413"/>
                  <a:pt x="810" y="402"/>
                </a:cubicBezTo>
                <a:cubicBezTo>
                  <a:pt x="824" y="370"/>
                  <a:pt x="815" y="385"/>
                  <a:pt x="810" y="393"/>
                </a:cubicBezTo>
                <a:cubicBezTo>
                  <a:pt x="816" y="416"/>
                  <a:pt x="813" y="398"/>
                  <a:pt x="798" y="393"/>
                </a:cubicBezTo>
                <a:cubicBezTo>
                  <a:pt x="790" y="370"/>
                  <a:pt x="786" y="376"/>
                  <a:pt x="807" y="372"/>
                </a:cubicBezTo>
                <a:cubicBezTo>
                  <a:pt x="831" y="336"/>
                  <a:pt x="810" y="313"/>
                  <a:pt x="795" y="279"/>
                </a:cubicBezTo>
                <a:cubicBezTo>
                  <a:pt x="782" y="250"/>
                  <a:pt x="775" y="216"/>
                  <a:pt x="765" y="186"/>
                </a:cubicBezTo>
                <a:cubicBezTo>
                  <a:pt x="758" y="165"/>
                  <a:pt x="741" y="141"/>
                  <a:pt x="729" y="123"/>
                </a:cubicBezTo>
                <a:cubicBezTo>
                  <a:pt x="725" y="106"/>
                  <a:pt x="717" y="97"/>
                  <a:pt x="702" y="87"/>
                </a:cubicBezTo>
                <a:cubicBezTo>
                  <a:pt x="687" y="65"/>
                  <a:pt x="666" y="50"/>
                  <a:pt x="642" y="39"/>
                </a:cubicBezTo>
                <a:cubicBezTo>
                  <a:pt x="633" y="35"/>
                  <a:pt x="623" y="35"/>
                  <a:pt x="615" y="30"/>
                </a:cubicBezTo>
                <a:cubicBezTo>
                  <a:pt x="591" y="14"/>
                  <a:pt x="554" y="5"/>
                  <a:pt x="525" y="0"/>
                </a:cubicBezTo>
                <a:cubicBezTo>
                  <a:pt x="508" y="3"/>
                  <a:pt x="496" y="10"/>
                  <a:pt x="480" y="15"/>
                </a:cubicBezTo>
                <a:cubicBezTo>
                  <a:pt x="473" y="26"/>
                  <a:pt x="465" y="36"/>
                  <a:pt x="459" y="48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4559400" y="2217600"/>
            <a:ext cx="1522440" cy="1176480"/>
            <a:chOff x="4559400" y="2217600"/>
            <a:chExt cx="1522440" cy="1176480"/>
          </a:xfrm>
        </p:grpSpPr>
        <p:sp>
          <p:nvSpPr>
            <p:cNvPr id="338" name=""/>
            <p:cNvSpPr/>
            <p:nvPr/>
          </p:nvSpPr>
          <p:spPr>
            <a:xfrm rot="21256800">
              <a:off x="4601520" y="2285640"/>
              <a:ext cx="1420560" cy="922680"/>
            </a:xfrm>
            <a:custGeom>
              <a:avLst/>
              <a:gdLst/>
              <a:ahLst/>
              <a:rect l="l" t="t" r="r" b="b"/>
              <a:pathLst>
                <a:path w="3900" h="1099">
                  <a:moveTo>
                    <a:pt x="1004" y="75"/>
                  </a:moveTo>
                  <a:cubicBezTo>
                    <a:pt x="930" y="124"/>
                    <a:pt x="863" y="197"/>
                    <a:pt x="779" y="225"/>
                  </a:cubicBezTo>
                  <a:cubicBezTo>
                    <a:pt x="727" y="303"/>
                    <a:pt x="649" y="320"/>
                    <a:pt x="569" y="360"/>
                  </a:cubicBezTo>
                  <a:cubicBezTo>
                    <a:pt x="492" y="399"/>
                    <a:pt x="411" y="440"/>
                    <a:pt x="329" y="465"/>
                  </a:cubicBezTo>
                  <a:cubicBezTo>
                    <a:pt x="284" y="479"/>
                    <a:pt x="233" y="484"/>
                    <a:pt x="194" y="510"/>
                  </a:cubicBezTo>
                  <a:cubicBezTo>
                    <a:pt x="164" y="530"/>
                    <a:pt x="104" y="570"/>
                    <a:pt x="104" y="570"/>
                  </a:cubicBezTo>
                  <a:cubicBezTo>
                    <a:pt x="73" y="617"/>
                    <a:pt x="0" y="682"/>
                    <a:pt x="59" y="750"/>
                  </a:cubicBezTo>
                  <a:cubicBezTo>
                    <a:pt x="80" y="774"/>
                    <a:pt x="149" y="780"/>
                    <a:pt x="149" y="780"/>
                  </a:cubicBezTo>
                  <a:cubicBezTo>
                    <a:pt x="247" y="774"/>
                    <a:pt x="364" y="777"/>
                    <a:pt x="464" y="750"/>
                  </a:cubicBezTo>
                  <a:cubicBezTo>
                    <a:pt x="495" y="742"/>
                    <a:pt x="524" y="730"/>
                    <a:pt x="554" y="720"/>
                  </a:cubicBezTo>
                  <a:cubicBezTo>
                    <a:pt x="569" y="715"/>
                    <a:pt x="599" y="705"/>
                    <a:pt x="599" y="705"/>
                  </a:cubicBezTo>
                  <a:cubicBezTo>
                    <a:pt x="609" y="690"/>
                    <a:pt x="611" y="664"/>
                    <a:pt x="629" y="660"/>
                  </a:cubicBezTo>
                  <a:cubicBezTo>
                    <a:pt x="647" y="656"/>
                    <a:pt x="662" y="676"/>
                    <a:pt x="674" y="690"/>
                  </a:cubicBezTo>
                  <a:cubicBezTo>
                    <a:pt x="710" y="731"/>
                    <a:pt x="734" y="780"/>
                    <a:pt x="764" y="825"/>
                  </a:cubicBezTo>
                  <a:cubicBezTo>
                    <a:pt x="774" y="840"/>
                    <a:pt x="777" y="864"/>
                    <a:pt x="794" y="870"/>
                  </a:cubicBezTo>
                  <a:cubicBezTo>
                    <a:pt x="830" y="882"/>
                    <a:pt x="914" y="940"/>
                    <a:pt x="929" y="945"/>
                  </a:cubicBezTo>
                  <a:cubicBezTo>
                    <a:pt x="959" y="955"/>
                    <a:pt x="989" y="965"/>
                    <a:pt x="1019" y="975"/>
                  </a:cubicBezTo>
                  <a:cubicBezTo>
                    <a:pt x="1034" y="980"/>
                    <a:pt x="1064" y="990"/>
                    <a:pt x="1064" y="990"/>
                  </a:cubicBezTo>
                  <a:cubicBezTo>
                    <a:pt x="1282" y="981"/>
                    <a:pt x="1384" y="1049"/>
                    <a:pt x="1484" y="900"/>
                  </a:cubicBezTo>
                  <a:cubicBezTo>
                    <a:pt x="1529" y="905"/>
                    <a:pt x="1575" y="906"/>
                    <a:pt x="1619" y="915"/>
                  </a:cubicBezTo>
                  <a:cubicBezTo>
                    <a:pt x="1717" y="935"/>
                    <a:pt x="1796" y="989"/>
                    <a:pt x="1889" y="1020"/>
                  </a:cubicBezTo>
                  <a:cubicBezTo>
                    <a:pt x="1906" y="1026"/>
                    <a:pt x="1918" y="1043"/>
                    <a:pt x="1934" y="1050"/>
                  </a:cubicBezTo>
                  <a:cubicBezTo>
                    <a:pt x="1963" y="1063"/>
                    <a:pt x="2024" y="1080"/>
                    <a:pt x="2024" y="1080"/>
                  </a:cubicBezTo>
                  <a:cubicBezTo>
                    <a:pt x="2074" y="1075"/>
                    <a:pt x="2124" y="1073"/>
                    <a:pt x="2174" y="1065"/>
                  </a:cubicBezTo>
                  <a:cubicBezTo>
                    <a:pt x="2190" y="1063"/>
                    <a:pt x="2210" y="1063"/>
                    <a:pt x="2219" y="1050"/>
                  </a:cubicBezTo>
                  <a:cubicBezTo>
                    <a:pt x="2243" y="1017"/>
                    <a:pt x="2282" y="846"/>
                    <a:pt x="2294" y="810"/>
                  </a:cubicBezTo>
                  <a:cubicBezTo>
                    <a:pt x="2299" y="795"/>
                    <a:pt x="2324" y="800"/>
                    <a:pt x="2339" y="795"/>
                  </a:cubicBezTo>
                  <a:cubicBezTo>
                    <a:pt x="2417" y="802"/>
                    <a:pt x="2502" y="804"/>
                    <a:pt x="2579" y="825"/>
                  </a:cubicBezTo>
                  <a:cubicBezTo>
                    <a:pt x="2619" y="836"/>
                    <a:pt x="2793" y="883"/>
                    <a:pt x="2819" y="900"/>
                  </a:cubicBezTo>
                  <a:cubicBezTo>
                    <a:pt x="2834" y="910"/>
                    <a:pt x="2848" y="923"/>
                    <a:pt x="2864" y="930"/>
                  </a:cubicBezTo>
                  <a:cubicBezTo>
                    <a:pt x="2963" y="974"/>
                    <a:pt x="3076" y="1001"/>
                    <a:pt x="3179" y="1035"/>
                  </a:cubicBezTo>
                  <a:cubicBezTo>
                    <a:pt x="3213" y="1046"/>
                    <a:pt x="3249" y="1044"/>
                    <a:pt x="3284" y="1050"/>
                  </a:cubicBezTo>
                  <a:cubicBezTo>
                    <a:pt x="3369" y="1065"/>
                    <a:pt x="3454" y="1078"/>
                    <a:pt x="3539" y="1095"/>
                  </a:cubicBezTo>
                  <a:cubicBezTo>
                    <a:pt x="3654" y="1090"/>
                    <a:pt x="3770" y="1099"/>
                    <a:pt x="3884" y="1080"/>
                  </a:cubicBezTo>
                  <a:cubicBezTo>
                    <a:pt x="3900" y="1077"/>
                    <a:pt x="3899" y="1051"/>
                    <a:pt x="3899" y="1035"/>
                  </a:cubicBezTo>
                  <a:cubicBezTo>
                    <a:pt x="3899" y="993"/>
                    <a:pt x="3874" y="975"/>
                    <a:pt x="3839" y="960"/>
                  </a:cubicBezTo>
                  <a:cubicBezTo>
                    <a:pt x="3710" y="903"/>
                    <a:pt x="3631" y="910"/>
                    <a:pt x="3479" y="900"/>
                  </a:cubicBezTo>
                  <a:cubicBezTo>
                    <a:pt x="3449" y="890"/>
                    <a:pt x="3419" y="880"/>
                    <a:pt x="3389" y="870"/>
                  </a:cubicBezTo>
                  <a:cubicBezTo>
                    <a:pt x="3374" y="865"/>
                    <a:pt x="3359" y="860"/>
                    <a:pt x="3344" y="855"/>
                  </a:cubicBezTo>
                  <a:cubicBezTo>
                    <a:pt x="3329" y="850"/>
                    <a:pt x="3299" y="840"/>
                    <a:pt x="3299" y="840"/>
                  </a:cubicBezTo>
                  <a:cubicBezTo>
                    <a:pt x="3232" y="739"/>
                    <a:pt x="3311" y="838"/>
                    <a:pt x="3224" y="780"/>
                  </a:cubicBezTo>
                  <a:cubicBezTo>
                    <a:pt x="3206" y="768"/>
                    <a:pt x="3196" y="748"/>
                    <a:pt x="3179" y="735"/>
                  </a:cubicBezTo>
                  <a:cubicBezTo>
                    <a:pt x="3009" y="603"/>
                    <a:pt x="3153" y="714"/>
                    <a:pt x="3044" y="660"/>
                  </a:cubicBezTo>
                  <a:cubicBezTo>
                    <a:pt x="3028" y="652"/>
                    <a:pt x="3015" y="637"/>
                    <a:pt x="2999" y="630"/>
                  </a:cubicBezTo>
                  <a:cubicBezTo>
                    <a:pt x="2903" y="587"/>
                    <a:pt x="2909" y="606"/>
                    <a:pt x="2804" y="585"/>
                  </a:cubicBezTo>
                  <a:cubicBezTo>
                    <a:pt x="2724" y="569"/>
                    <a:pt x="2643" y="545"/>
                    <a:pt x="2564" y="525"/>
                  </a:cubicBezTo>
                  <a:cubicBezTo>
                    <a:pt x="2549" y="521"/>
                    <a:pt x="2533" y="518"/>
                    <a:pt x="2519" y="510"/>
                  </a:cubicBezTo>
                  <a:cubicBezTo>
                    <a:pt x="2487" y="492"/>
                    <a:pt x="2463" y="461"/>
                    <a:pt x="2429" y="450"/>
                  </a:cubicBezTo>
                  <a:cubicBezTo>
                    <a:pt x="2399" y="440"/>
                    <a:pt x="2365" y="438"/>
                    <a:pt x="2339" y="420"/>
                  </a:cubicBezTo>
                  <a:cubicBezTo>
                    <a:pt x="2324" y="410"/>
                    <a:pt x="2310" y="397"/>
                    <a:pt x="2294" y="390"/>
                  </a:cubicBezTo>
                  <a:cubicBezTo>
                    <a:pt x="2108" y="307"/>
                    <a:pt x="2301" y="425"/>
                    <a:pt x="2114" y="300"/>
                  </a:cubicBezTo>
                  <a:cubicBezTo>
                    <a:pt x="2040" y="250"/>
                    <a:pt x="1968" y="219"/>
                    <a:pt x="1889" y="180"/>
                  </a:cubicBezTo>
                  <a:cubicBezTo>
                    <a:pt x="1812" y="142"/>
                    <a:pt x="1747" y="103"/>
                    <a:pt x="1664" y="75"/>
                  </a:cubicBezTo>
                  <a:cubicBezTo>
                    <a:pt x="1619" y="60"/>
                    <a:pt x="1574" y="45"/>
                    <a:pt x="1529" y="30"/>
                  </a:cubicBezTo>
                  <a:cubicBezTo>
                    <a:pt x="1514" y="25"/>
                    <a:pt x="1499" y="20"/>
                    <a:pt x="1484" y="15"/>
                  </a:cubicBezTo>
                  <a:cubicBezTo>
                    <a:pt x="1469" y="10"/>
                    <a:pt x="1439" y="0"/>
                    <a:pt x="1439" y="0"/>
                  </a:cubicBezTo>
                  <a:cubicBezTo>
                    <a:pt x="1354" y="5"/>
                    <a:pt x="1268" y="4"/>
                    <a:pt x="1184" y="15"/>
                  </a:cubicBezTo>
                  <a:cubicBezTo>
                    <a:pt x="1137" y="21"/>
                    <a:pt x="1094" y="45"/>
                    <a:pt x="1049" y="60"/>
                  </a:cubicBezTo>
                  <a:cubicBezTo>
                    <a:pt x="1034" y="65"/>
                    <a:pt x="1004" y="75"/>
                    <a:pt x="1004" y="75"/>
                  </a:cubicBezTo>
                  <a:close/>
                </a:path>
              </a:pathLst>
            </a:custGeom>
            <a:solidFill>
              <a:srgbClr val="b19be7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572000" y="2723760"/>
              <a:ext cx="1509840" cy="670320"/>
            </a:xfrm>
            <a:custGeom>
              <a:avLst/>
              <a:gdLst/>
              <a:ahLst/>
              <a:rect l="l" t="t" r="r" b="b"/>
              <a:pathLst>
                <a:path w="6166" h="1012">
                  <a:moveTo>
                    <a:pt x="78" y="30"/>
                  </a:moveTo>
                  <a:cubicBezTo>
                    <a:pt x="68" y="60"/>
                    <a:pt x="58" y="90"/>
                    <a:pt x="48" y="120"/>
                  </a:cubicBezTo>
                  <a:cubicBezTo>
                    <a:pt x="42" y="137"/>
                    <a:pt x="26" y="149"/>
                    <a:pt x="18" y="165"/>
                  </a:cubicBezTo>
                  <a:cubicBezTo>
                    <a:pt x="11" y="179"/>
                    <a:pt x="8" y="195"/>
                    <a:pt x="3" y="210"/>
                  </a:cubicBezTo>
                  <a:cubicBezTo>
                    <a:pt x="12" y="358"/>
                    <a:pt x="0" y="401"/>
                    <a:pt x="33" y="510"/>
                  </a:cubicBezTo>
                  <a:cubicBezTo>
                    <a:pt x="42" y="540"/>
                    <a:pt x="37" y="582"/>
                    <a:pt x="63" y="600"/>
                  </a:cubicBezTo>
                  <a:cubicBezTo>
                    <a:pt x="78" y="610"/>
                    <a:pt x="93" y="620"/>
                    <a:pt x="108" y="630"/>
                  </a:cubicBezTo>
                  <a:cubicBezTo>
                    <a:pt x="152" y="696"/>
                    <a:pt x="167" y="686"/>
                    <a:pt x="243" y="705"/>
                  </a:cubicBezTo>
                  <a:cubicBezTo>
                    <a:pt x="417" y="662"/>
                    <a:pt x="549" y="681"/>
                    <a:pt x="738" y="690"/>
                  </a:cubicBezTo>
                  <a:cubicBezTo>
                    <a:pt x="803" y="712"/>
                    <a:pt x="856" y="753"/>
                    <a:pt x="918" y="780"/>
                  </a:cubicBezTo>
                  <a:cubicBezTo>
                    <a:pt x="1001" y="817"/>
                    <a:pt x="1088" y="827"/>
                    <a:pt x="1173" y="855"/>
                  </a:cubicBezTo>
                  <a:cubicBezTo>
                    <a:pt x="1188" y="870"/>
                    <a:pt x="1204" y="884"/>
                    <a:pt x="1218" y="900"/>
                  </a:cubicBezTo>
                  <a:cubicBezTo>
                    <a:pt x="1230" y="914"/>
                    <a:pt x="1234" y="934"/>
                    <a:pt x="1248" y="945"/>
                  </a:cubicBezTo>
                  <a:cubicBezTo>
                    <a:pt x="1260" y="955"/>
                    <a:pt x="1279" y="953"/>
                    <a:pt x="1293" y="960"/>
                  </a:cubicBezTo>
                  <a:cubicBezTo>
                    <a:pt x="1397" y="1012"/>
                    <a:pt x="1273" y="974"/>
                    <a:pt x="1398" y="1005"/>
                  </a:cubicBezTo>
                  <a:cubicBezTo>
                    <a:pt x="1450" y="1001"/>
                    <a:pt x="1625" y="992"/>
                    <a:pt x="1698" y="975"/>
                  </a:cubicBezTo>
                  <a:cubicBezTo>
                    <a:pt x="1749" y="963"/>
                    <a:pt x="1797" y="943"/>
                    <a:pt x="1848" y="930"/>
                  </a:cubicBezTo>
                  <a:cubicBezTo>
                    <a:pt x="1997" y="831"/>
                    <a:pt x="2220" y="806"/>
                    <a:pt x="2388" y="750"/>
                  </a:cubicBezTo>
                  <a:cubicBezTo>
                    <a:pt x="2427" y="737"/>
                    <a:pt x="2489" y="728"/>
                    <a:pt x="2523" y="705"/>
                  </a:cubicBezTo>
                  <a:cubicBezTo>
                    <a:pt x="2538" y="695"/>
                    <a:pt x="2552" y="682"/>
                    <a:pt x="2568" y="675"/>
                  </a:cubicBezTo>
                  <a:cubicBezTo>
                    <a:pt x="2597" y="662"/>
                    <a:pt x="2658" y="645"/>
                    <a:pt x="2658" y="645"/>
                  </a:cubicBezTo>
                  <a:cubicBezTo>
                    <a:pt x="2850" y="655"/>
                    <a:pt x="2901" y="646"/>
                    <a:pt x="3048" y="675"/>
                  </a:cubicBezTo>
                  <a:cubicBezTo>
                    <a:pt x="3130" y="691"/>
                    <a:pt x="3209" y="724"/>
                    <a:pt x="3288" y="750"/>
                  </a:cubicBezTo>
                  <a:cubicBezTo>
                    <a:pt x="3350" y="771"/>
                    <a:pt x="3418" y="769"/>
                    <a:pt x="3483" y="780"/>
                  </a:cubicBezTo>
                  <a:cubicBezTo>
                    <a:pt x="3489" y="780"/>
                    <a:pt x="3666" y="782"/>
                    <a:pt x="3723" y="750"/>
                  </a:cubicBezTo>
                  <a:cubicBezTo>
                    <a:pt x="3755" y="732"/>
                    <a:pt x="3813" y="690"/>
                    <a:pt x="3813" y="690"/>
                  </a:cubicBezTo>
                  <a:cubicBezTo>
                    <a:pt x="3844" y="643"/>
                    <a:pt x="3895" y="607"/>
                    <a:pt x="3918" y="555"/>
                  </a:cubicBezTo>
                  <a:cubicBezTo>
                    <a:pt x="3959" y="462"/>
                    <a:pt x="3921" y="434"/>
                    <a:pt x="4008" y="405"/>
                  </a:cubicBezTo>
                  <a:cubicBezTo>
                    <a:pt x="4172" y="419"/>
                    <a:pt x="4326" y="457"/>
                    <a:pt x="4488" y="480"/>
                  </a:cubicBezTo>
                  <a:cubicBezTo>
                    <a:pt x="4757" y="570"/>
                    <a:pt x="4995" y="561"/>
                    <a:pt x="5283" y="570"/>
                  </a:cubicBezTo>
                  <a:cubicBezTo>
                    <a:pt x="5551" y="591"/>
                    <a:pt x="5813" y="578"/>
                    <a:pt x="6078" y="540"/>
                  </a:cubicBezTo>
                  <a:cubicBezTo>
                    <a:pt x="6108" y="494"/>
                    <a:pt x="6166" y="459"/>
                    <a:pt x="6123" y="405"/>
                  </a:cubicBezTo>
                  <a:cubicBezTo>
                    <a:pt x="6112" y="391"/>
                    <a:pt x="6093" y="385"/>
                    <a:pt x="6078" y="375"/>
                  </a:cubicBezTo>
                  <a:cubicBezTo>
                    <a:pt x="5934" y="385"/>
                    <a:pt x="5848" y="394"/>
                    <a:pt x="5718" y="420"/>
                  </a:cubicBezTo>
                  <a:cubicBezTo>
                    <a:pt x="5433" y="402"/>
                    <a:pt x="5147" y="380"/>
                    <a:pt x="4863" y="345"/>
                  </a:cubicBezTo>
                  <a:cubicBezTo>
                    <a:pt x="4739" y="304"/>
                    <a:pt x="4601" y="308"/>
                    <a:pt x="4473" y="300"/>
                  </a:cubicBezTo>
                  <a:cubicBezTo>
                    <a:pt x="4398" y="285"/>
                    <a:pt x="4265" y="267"/>
                    <a:pt x="4203" y="225"/>
                  </a:cubicBezTo>
                  <a:cubicBezTo>
                    <a:pt x="4159" y="196"/>
                    <a:pt x="4163" y="192"/>
                    <a:pt x="4113" y="180"/>
                  </a:cubicBezTo>
                  <a:cubicBezTo>
                    <a:pt x="4044" y="163"/>
                    <a:pt x="3991" y="159"/>
                    <a:pt x="3918" y="150"/>
                  </a:cubicBezTo>
                  <a:cubicBezTo>
                    <a:pt x="3863" y="155"/>
                    <a:pt x="3807" y="153"/>
                    <a:pt x="3753" y="165"/>
                  </a:cubicBezTo>
                  <a:cubicBezTo>
                    <a:pt x="3660" y="185"/>
                    <a:pt x="3686" y="375"/>
                    <a:pt x="3618" y="435"/>
                  </a:cubicBezTo>
                  <a:cubicBezTo>
                    <a:pt x="3519" y="522"/>
                    <a:pt x="3369" y="554"/>
                    <a:pt x="3243" y="585"/>
                  </a:cubicBezTo>
                  <a:cubicBezTo>
                    <a:pt x="3173" y="580"/>
                    <a:pt x="3103" y="577"/>
                    <a:pt x="3033" y="570"/>
                  </a:cubicBezTo>
                  <a:cubicBezTo>
                    <a:pt x="2950" y="561"/>
                    <a:pt x="2873" y="528"/>
                    <a:pt x="2793" y="510"/>
                  </a:cubicBezTo>
                  <a:cubicBezTo>
                    <a:pt x="2700" y="489"/>
                    <a:pt x="2599" y="480"/>
                    <a:pt x="2508" y="450"/>
                  </a:cubicBezTo>
                  <a:cubicBezTo>
                    <a:pt x="2363" y="455"/>
                    <a:pt x="2218" y="456"/>
                    <a:pt x="2073" y="465"/>
                  </a:cubicBezTo>
                  <a:cubicBezTo>
                    <a:pt x="1947" y="473"/>
                    <a:pt x="1822" y="530"/>
                    <a:pt x="1698" y="555"/>
                  </a:cubicBezTo>
                  <a:cubicBezTo>
                    <a:pt x="1669" y="552"/>
                    <a:pt x="1498" y="534"/>
                    <a:pt x="1458" y="525"/>
                  </a:cubicBezTo>
                  <a:cubicBezTo>
                    <a:pt x="1264" y="480"/>
                    <a:pt x="1081" y="393"/>
                    <a:pt x="888" y="345"/>
                  </a:cubicBezTo>
                  <a:cubicBezTo>
                    <a:pt x="726" y="305"/>
                    <a:pt x="566" y="248"/>
                    <a:pt x="408" y="195"/>
                  </a:cubicBezTo>
                  <a:cubicBezTo>
                    <a:pt x="374" y="184"/>
                    <a:pt x="348" y="155"/>
                    <a:pt x="318" y="135"/>
                  </a:cubicBezTo>
                  <a:cubicBezTo>
                    <a:pt x="245" y="87"/>
                    <a:pt x="176" y="28"/>
                    <a:pt x="93" y="0"/>
                  </a:cubicBezTo>
                  <a:cubicBezTo>
                    <a:pt x="78" y="5"/>
                    <a:pt x="56" y="1"/>
                    <a:pt x="48" y="15"/>
                  </a:cubicBezTo>
                  <a:cubicBezTo>
                    <a:pt x="33" y="41"/>
                    <a:pt x="6" y="91"/>
                    <a:pt x="33" y="105"/>
                  </a:cubicBezTo>
                  <a:cubicBezTo>
                    <a:pt x="59" y="118"/>
                    <a:pt x="63" y="55"/>
                    <a:pt x="78" y="30"/>
                  </a:cubicBezTo>
                  <a:close/>
                </a:path>
              </a:pathLst>
            </a:custGeom>
            <a:solidFill>
              <a:srgbClr val="00440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548680" y="2819520"/>
              <a:ext cx="262440" cy="210960"/>
            </a:xfrm>
            <a:custGeom>
              <a:avLst/>
              <a:gdLst/>
              <a:ahLst/>
              <a:rect l="l" t="t" r="r" b="b"/>
              <a:pathLst>
                <a:path w="1100" h="333">
                  <a:moveTo>
                    <a:pt x="282" y="93"/>
                  </a:moveTo>
                  <a:cubicBezTo>
                    <a:pt x="267" y="88"/>
                    <a:pt x="244" y="92"/>
                    <a:pt x="237" y="78"/>
                  </a:cubicBezTo>
                  <a:cubicBezTo>
                    <a:pt x="214" y="32"/>
                    <a:pt x="280" y="24"/>
                    <a:pt x="297" y="18"/>
                  </a:cubicBezTo>
                  <a:cubicBezTo>
                    <a:pt x="399" y="33"/>
                    <a:pt x="496" y="51"/>
                    <a:pt x="582" y="108"/>
                  </a:cubicBezTo>
                  <a:cubicBezTo>
                    <a:pt x="586" y="107"/>
                    <a:pt x="687" y="90"/>
                    <a:pt x="702" y="78"/>
                  </a:cubicBezTo>
                  <a:cubicBezTo>
                    <a:pt x="799" y="0"/>
                    <a:pt x="664" y="56"/>
                    <a:pt x="777" y="18"/>
                  </a:cubicBezTo>
                  <a:cubicBezTo>
                    <a:pt x="884" y="54"/>
                    <a:pt x="841" y="30"/>
                    <a:pt x="912" y="78"/>
                  </a:cubicBezTo>
                  <a:cubicBezTo>
                    <a:pt x="938" y="155"/>
                    <a:pt x="970" y="187"/>
                    <a:pt x="1047" y="213"/>
                  </a:cubicBezTo>
                  <a:cubicBezTo>
                    <a:pt x="1053" y="222"/>
                    <a:pt x="1100" y="284"/>
                    <a:pt x="1092" y="303"/>
                  </a:cubicBezTo>
                  <a:cubicBezTo>
                    <a:pt x="1085" y="320"/>
                    <a:pt x="1062" y="323"/>
                    <a:pt x="1047" y="333"/>
                  </a:cubicBezTo>
                  <a:cubicBezTo>
                    <a:pt x="966" y="306"/>
                    <a:pt x="903" y="270"/>
                    <a:pt x="822" y="243"/>
                  </a:cubicBezTo>
                  <a:cubicBezTo>
                    <a:pt x="807" y="238"/>
                    <a:pt x="792" y="233"/>
                    <a:pt x="777" y="228"/>
                  </a:cubicBezTo>
                  <a:cubicBezTo>
                    <a:pt x="762" y="223"/>
                    <a:pt x="732" y="213"/>
                    <a:pt x="732" y="213"/>
                  </a:cubicBezTo>
                  <a:cubicBezTo>
                    <a:pt x="682" y="230"/>
                    <a:pt x="632" y="241"/>
                    <a:pt x="582" y="258"/>
                  </a:cubicBezTo>
                  <a:cubicBezTo>
                    <a:pt x="500" y="242"/>
                    <a:pt x="424" y="214"/>
                    <a:pt x="342" y="198"/>
                  </a:cubicBezTo>
                  <a:cubicBezTo>
                    <a:pt x="322" y="203"/>
                    <a:pt x="302" y="207"/>
                    <a:pt x="282" y="213"/>
                  </a:cubicBezTo>
                  <a:cubicBezTo>
                    <a:pt x="252" y="222"/>
                    <a:pt x="192" y="243"/>
                    <a:pt x="192" y="243"/>
                  </a:cubicBezTo>
                  <a:cubicBezTo>
                    <a:pt x="175" y="240"/>
                    <a:pt x="0" y="240"/>
                    <a:pt x="72" y="168"/>
                  </a:cubicBezTo>
                  <a:cubicBezTo>
                    <a:pt x="83" y="157"/>
                    <a:pt x="102" y="158"/>
                    <a:pt x="117" y="153"/>
                  </a:cubicBezTo>
                  <a:cubicBezTo>
                    <a:pt x="195" y="179"/>
                    <a:pt x="227" y="148"/>
                    <a:pt x="282" y="93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286240" y="2883960"/>
              <a:ext cx="262440" cy="211320"/>
            </a:xfrm>
            <a:custGeom>
              <a:avLst/>
              <a:gdLst/>
              <a:ahLst/>
              <a:rect l="l" t="t" r="r" b="b"/>
              <a:pathLst>
                <a:path w="1100" h="333">
                  <a:moveTo>
                    <a:pt x="282" y="93"/>
                  </a:moveTo>
                  <a:cubicBezTo>
                    <a:pt x="267" y="88"/>
                    <a:pt x="244" y="92"/>
                    <a:pt x="237" y="78"/>
                  </a:cubicBezTo>
                  <a:cubicBezTo>
                    <a:pt x="214" y="32"/>
                    <a:pt x="280" y="24"/>
                    <a:pt x="297" y="18"/>
                  </a:cubicBezTo>
                  <a:cubicBezTo>
                    <a:pt x="399" y="33"/>
                    <a:pt x="496" y="51"/>
                    <a:pt x="582" y="108"/>
                  </a:cubicBezTo>
                  <a:cubicBezTo>
                    <a:pt x="586" y="107"/>
                    <a:pt x="687" y="90"/>
                    <a:pt x="702" y="78"/>
                  </a:cubicBezTo>
                  <a:cubicBezTo>
                    <a:pt x="799" y="0"/>
                    <a:pt x="664" y="56"/>
                    <a:pt x="777" y="18"/>
                  </a:cubicBezTo>
                  <a:cubicBezTo>
                    <a:pt x="884" y="54"/>
                    <a:pt x="841" y="30"/>
                    <a:pt x="912" y="78"/>
                  </a:cubicBezTo>
                  <a:cubicBezTo>
                    <a:pt x="938" y="155"/>
                    <a:pt x="970" y="187"/>
                    <a:pt x="1047" y="213"/>
                  </a:cubicBezTo>
                  <a:cubicBezTo>
                    <a:pt x="1053" y="222"/>
                    <a:pt x="1100" y="284"/>
                    <a:pt x="1092" y="303"/>
                  </a:cubicBezTo>
                  <a:cubicBezTo>
                    <a:pt x="1085" y="320"/>
                    <a:pt x="1062" y="323"/>
                    <a:pt x="1047" y="333"/>
                  </a:cubicBezTo>
                  <a:cubicBezTo>
                    <a:pt x="966" y="306"/>
                    <a:pt x="903" y="270"/>
                    <a:pt x="822" y="243"/>
                  </a:cubicBezTo>
                  <a:cubicBezTo>
                    <a:pt x="807" y="238"/>
                    <a:pt x="792" y="233"/>
                    <a:pt x="777" y="228"/>
                  </a:cubicBezTo>
                  <a:cubicBezTo>
                    <a:pt x="762" y="223"/>
                    <a:pt x="732" y="213"/>
                    <a:pt x="732" y="213"/>
                  </a:cubicBezTo>
                  <a:cubicBezTo>
                    <a:pt x="682" y="230"/>
                    <a:pt x="632" y="241"/>
                    <a:pt x="582" y="258"/>
                  </a:cubicBezTo>
                  <a:cubicBezTo>
                    <a:pt x="500" y="242"/>
                    <a:pt x="424" y="214"/>
                    <a:pt x="342" y="198"/>
                  </a:cubicBezTo>
                  <a:cubicBezTo>
                    <a:pt x="322" y="203"/>
                    <a:pt x="302" y="207"/>
                    <a:pt x="282" y="213"/>
                  </a:cubicBezTo>
                  <a:cubicBezTo>
                    <a:pt x="252" y="222"/>
                    <a:pt x="192" y="243"/>
                    <a:pt x="192" y="243"/>
                  </a:cubicBezTo>
                  <a:cubicBezTo>
                    <a:pt x="175" y="240"/>
                    <a:pt x="0" y="240"/>
                    <a:pt x="72" y="168"/>
                  </a:cubicBezTo>
                  <a:cubicBezTo>
                    <a:pt x="83" y="157"/>
                    <a:pt x="102" y="158"/>
                    <a:pt x="117" y="153"/>
                  </a:cubicBezTo>
                  <a:cubicBezTo>
                    <a:pt x="195" y="179"/>
                    <a:pt x="227" y="148"/>
                    <a:pt x="282" y="93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93840" y="2286000"/>
              <a:ext cx="353880" cy="437760"/>
            </a:xfrm>
            <a:custGeom>
              <a:avLst/>
              <a:gdLst/>
              <a:ahLst/>
              <a:rect l="l" t="t" r="r" b="b"/>
              <a:pathLst>
                <a:path w="1486" h="690">
                  <a:moveTo>
                    <a:pt x="529" y="15"/>
                  </a:moveTo>
                  <a:cubicBezTo>
                    <a:pt x="495" y="117"/>
                    <a:pt x="481" y="106"/>
                    <a:pt x="394" y="150"/>
                  </a:cubicBezTo>
                  <a:cubicBezTo>
                    <a:pt x="278" y="208"/>
                    <a:pt x="417" y="157"/>
                    <a:pt x="304" y="195"/>
                  </a:cubicBezTo>
                  <a:cubicBezTo>
                    <a:pt x="294" y="210"/>
                    <a:pt x="288" y="229"/>
                    <a:pt x="274" y="240"/>
                  </a:cubicBezTo>
                  <a:cubicBezTo>
                    <a:pt x="262" y="250"/>
                    <a:pt x="243" y="248"/>
                    <a:pt x="229" y="255"/>
                  </a:cubicBezTo>
                  <a:cubicBezTo>
                    <a:pt x="184" y="278"/>
                    <a:pt x="136" y="302"/>
                    <a:pt x="94" y="330"/>
                  </a:cubicBezTo>
                  <a:cubicBezTo>
                    <a:pt x="44" y="405"/>
                    <a:pt x="0" y="427"/>
                    <a:pt x="49" y="525"/>
                  </a:cubicBezTo>
                  <a:cubicBezTo>
                    <a:pt x="56" y="539"/>
                    <a:pt x="79" y="536"/>
                    <a:pt x="94" y="540"/>
                  </a:cubicBezTo>
                  <a:cubicBezTo>
                    <a:pt x="114" y="546"/>
                    <a:pt x="134" y="550"/>
                    <a:pt x="154" y="555"/>
                  </a:cubicBezTo>
                  <a:cubicBezTo>
                    <a:pt x="159" y="570"/>
                    <a:pt x="161" y="586"/>
                    <a:pt x="169" y="600"/>
                  </a:cubicBezTo>
                  <a:cubicBezTo>
                    <a:pt x="187" y="632"/>
                    <a:pt x="229" y="690"/>
                    <a:pt x="229" y="690"/>
                  </a:cubicBezTo>
                  <a:cubicBezTo>
                    <a:pt x="299" y="585"/>
                    <a:pt x="259" y="620"/>
                    <a:pt x="334" y="570"/>
                  </a:cubicBezTo>
                  <a:cubicBezTo>
                    <a:pt x="361" y="490"/>
                    <a:pt x="356" y="448"/>
                    <a:pt x="439" y="420"/>
                  </a:cubicBezTo>
                  <a:cubicBezTo>
                    <a:pt x="495" y="431"/>
                    <a:pt x="582" y="457"/>
                    <a:pt x="634" y="420"/>
                  </a:cubicBezTo>
                  <a:cubicBezTo>
                    <a:pt x="660" y="402"/>
                    <a:pt x="634" y="340"/>
                    <a:pt x="664" y="330"/>
                  </a:cubicBezTo>
                  <a:cubicBezTo>
                    <a:pt x="679" y="325"/>
                    <a:pt x="694" y="320"/>
                    <a:pt x="709" y="315"/>
                  </a:cubicBezTo>
                  <a:cubicBezTo>
                    <a:pt x="724" y="320"/>
                    <a:pt x="742" y="320"/>
                    <a:pt x="754" y="330"/>
                  </a:cubicBezTo>
                  <a:cubicBezTo>
                    <a:pt x="788" y="357"/>
                    <a:pt x="788" y="398"/>
                    <a:pt x="799" y="435"/>
                  </a:cubicBezTo>
                  <a:cubicBezTo>
                    <a:pt x="824" y="523"/>
                    <a:pt x="800" y="437"/>
                    <a:pt x="844" y="525"/>
                  </a:cubicBezTo>
                  <a:cubicBezTo>
                    <a:pt x="851" y="539"/>
                    <a:pt x="850" y="557"/>
                    <a:pt x="859" y="570"/>
                  </a:cubicBezTo>
                  <a:cubicBezTo>
                    <a:pt x="892" y="620"/>
                    <a:pt x="947" y="628"/>
                    <a:pt x="994" y="660"/>
                  </a:cubicBezTo>
                  <a:cubicBezTo>
                    <a:pt x="1019" y="585"/>
                    <a:pt x="1014" y="630"/>
                    <a:pt x="979" y="525"/>
                  </a:cubicBezTo>
                  <a:cubicBezTo>
                    <a:pt x="974" y="510"/>
                    <a:pt x="964" y="480"/>
                    <a:pt x="964" y="480"/>
                  </a:cubicBezTo>
                  <a:cubicBezTo>
                    <a:pt x="1004" y="475"/>
                    <a:pt x="1058" y="496"/>
                    <a:pt x="1084" y="465"/>
                  </a:cubicBezTo>
                  <a:cubicBezTo>
                    <a:pt x="1105" y="441"/>
                    <a:pt x="1054" y="375"/>
                    <a:pt x="1054" y="375"/>
                  </a:cubicBezTo>
                  <a:cubicBezTo>
                    <a:pt x="1059" y="355"/>
                    <a:pt x="1056" y="331"/>
                    <a:pt x="1069" y="315"/>
                  </a:cubicBezTo>
                  <a:cubicBezTo>
                    <a:pt x="1107" y="268"/>
                    <a:pt x="1229" y="336"/>
                    <a:pt x="1264" y="360"/>
                  </a:cubicBezTo>
                  <a:cubicBezTo>
                    <a:pt x="1312" y="431"/>
                    <a:pt x="1277" y="399"/>
                    <a:pt x="1384" y="435"/>
                  </a:cubicBezTo>
                  <a:cubicBezTo>
                    <a:pt x="1399" y="440"/>
                    <a:pt x="1429" y="450"/>
                    <a:pt x="1429" y="450"/>
                  </a:cubicBezTo>
                  <a:cubicBezTo>
                    <a:pt x="1444" y="445"/>
                    <a:pt x="1468" y="450"/>
                    <a:pt x="1474" y="435"/>
                  </a:cubicBezTo>
                  <a:cubicBezTo>
                    <a:pt x="1486" y="406"/>
                    <a:pt x="1430" y="309"/>
                    <a:pt x="1414" y="285"/>
                  </a:cubicBezTo>
                  <a:cubicBezTo>
                    <a:pt x="1426" y="248"/>
                    <a:pt x="1445" y="219"/>
                    <a:pt x="1414" y="180"/>
                  </a:cubicBezTo>
                  <a:cubicBezTo>
                    <a:pt x="1404" y="168"/>
                    <a:pt x="1384" y="170"/>
                    <a:pt x="1369" y="165"/>
                  </a:cubicBezTo>
                  <a:cubicBezTo>
                    <a:pt x="1354" y="150"/>
                    <a:pt x="1342" y="132"/>
                    <a:pt x="1324" y="120"/>
                  </a:cubicBezTo>
                  <a:cubicBezTo>
                    <a:pt x="1311" y="111"/>
                    <a:pt x="1228" y="93"/>
                    <a:pt x="1219" y="90"/>
                  </a:cubicBezTo>
                  <a:cubicBezTo>
                    <a:pt x="1150" y="70"/>
                    <a:pt x="1078" y="64"/>
                    <a:pt x="1009" y="45"/>
                  </a:cubicBezTo>
                  <a:cubicBezTo>
                    <a:pt x="978" y="37"/>
                    <a:pt x="949" y="25"/>
                    <a:pt x="919" y="15"/>
                  </a:cubicBezTo>
                  <a:cubicBezTo>
                    <a:pt x="904" y="10"/>
                    <a:pt x="874" y="0"/>
                    <a:pt x="874" y="0"/>
                  </a:cubicBezTo>
                  <a:cubicBezTo>
                    <a:pt x="769" y="5"/>
                    <a:pt x="663" y="2"/>
                    <a:pt x="559" y="15"/>
                  </a:cubicBezTo>
                  <a:cubicBezTo>
                    <a:pt x="541" y="17"/>
                    <a:pt x="532" y="45"/>
                    <a:pt x="514" y="45"/>
                  </a:cubicBezTo>
                  <a:cubicBezTo>
                    <a:pt x="503" y="45"/>
                    <a:pt x="524" y="25"/>
                    <a:pt x="529" y="1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1802880" y="1254600"/>
            <a:ext cx="948240" cy="1148760"/>
            <a:chOff x="1802880" y="1254600"/>
            <a:chExt cx="948240" cy="1148760"/>
          </a:xfrm>
        </p:grpSpPr>
        <p:sp>
          <p:nvSpPr>
            <p:cNvPr id="344" name=""/>
            <p:cNvSpPr/>
            <p:nvPr/>
          </p:nvSpPr>
          <p:spPr>
            <a:xfrm rot="21256800">
              <a:off x="1846440" y="1294920"/>
              <a:ext cx="860400" cy="922680"/>
            </a:xfrm>
            <a:custGeom>
              <a:avLst/>
              <a:gdLst/>
              <a:ahLst/>
              <a:rect l="l" t="t" r="r" b="b"/>
              <a:pathLst>
                <a:path w="3900" h="1099">
                  <a:moveTo>
                    <a:pt x="1004" y="75"/>
                  </a:moveTo>
                  <a:cubicBezTo>
                    <a:pt x="930" y="124"/>
                    <a:pt x="863" y="197"/>
                    <a:pt x="779" y="225"/>
                  </a:cubicBezTo>
                  <a:cubicBezTo>
                    <a:pt x="727" y="303"/>
                    <a:pt x="649" y="320"/>
                    <a:pt x="569" y="360"/>
                  </a:cubicBezTo>
                  <a:cubicBezTo>
                    <a:pt x="492" y="399"/>
                    <a:pt x="411" y="440"/>
                    <a:pt x="329" y="465"/>
                  </a:cubicBezTo>
                  <a:cubicBezTo>
                    <a:pt x="284" y="479"/>
                    <a:pt x="233" y="484"/>
                    <a:pt x="194" y="510"/>
                  </a:cubicBezTo>
                  <a:cubicBezTo>
                    <a:pt x="164" y="530"/>
                    <a:pt x="104" y="570"/>
                    <a:pt x="104" y="570"/>
                  </a:cubicBezTo>
                  <a:cubicBezTo>
                    <a:pt x="73" y="617"/>
                    <a:pt x="0" y="682"/>
                    <a:pt x="59" y="750"/>
                  </a:cubicBezTo>
                  <a:cubicBezTo>
                    <a:pt x="80" y="774"/>
                    <a:pt x="149" y="780"/>
                    <a:pt x="149" y="780"/>
                  </a:cubicBezTo>
                  <a:cubicBezTo>
                    <a:pt x="247" y="774"/>
                    <a:pt x="364" y="777"/>
                    <a:pt x="464" y="750"/>
                  </a:cubicBezTo>
                  <a:cubicBezTo>
                    <a:pt x="495" y="742"/>
                    <a:pt x="524" y="730"/>
                    <a:pt x="554" y="720"/>
                  </a:cubicBezTo>
                  <a:cubicBezTo>
                    <a:pt x="569" y="715"/>
                    <a:pt x="599" y="705"/>
                    <a:pt x="599" y="705"/>
                  </a:cubicBezTo>
                  <a:cubicBezTo>
                    <a:pt x="609" y="690"/>
                    <a:pt x="611" y="664"/>
                    <a:pt x="629" y="660"/>
                  </a:cubicBezTo>
                  <a:cubicBezTo>
                    <a:pt x="647" y="656"/>
                    <a:pt x="662" y="676"/>
                    <a:pt x="674" y="690"/>
                  </a:cubicBezTo>
                  <a:cubicBezTo>
                    <a:pt x="710" y="731"/>
                    <a:pt x="734" y="780"/>
                    <a:pt x="764" y="825"/>
                  </a:cubicBezTo>
                  <a:cubicBezTo>
                    <a:pt x="774" y="840"/>
                    <a:pt x="777" y="864"/>
                    <a:pt x="794" y="870"/>
                  </a:cubicBezTo>
                  <a:cubicBezTo>
                    <a:pt x="830" y="882"/>
                    <a:pt x="914" y="940"/>
                    <a:pt x="929" y="945"/>
                  </a:cubicBezTo>
                  <a:cubicBezTo>
                    <a:pt x="959" y="955"/>
                    <a:pt x="989" y="965"/>
                    <a:pt x="1019" y="975"/>
                  </a:cubicBezTo>
                  <a:cubicBezTo>
                    <a:pt x="1034" y="980"/>
                    <a:pt x="1064" y="990"/>
                    <a:pt x="1064" y="990"/>
                  </a:cubicBezTo>
                  <a:cubicBezTo>
                    <a:pt x="1282" y="981"/>
                    <a:pt x="1384" y="1049"/>
                    <a:pt x="1484" y="900"/>
                  </a:cubicBezTo>
                  <a:cubicBezTo>
                    <a:pt x="1529" y="905"/>
                    <a:pt x="1575" y="906"/>
                    <a:pt x="1619" y="915"/>
                  </a:cubicBezTo>
                  <a:cubicBezTo>
                    <a:pt x="1717" y="935"/>
                    <a:pt x="1796" y="989"/>
                    <a:pt x="1889" y="1020"/>
                  </a:cubicBezTo>
                  <a:cubicBezTo>
                    <a:pt x="1906" y="1026"/>
                    <a:pt x="1918" y="1043"/>
                    <a:pt x="1934" y="1050"/>
                  </a:cubicBezTo>
                  <a:cubicBezTo>
                    <a:pt x="1963" y="1063"/>
                    <a:pt x="2024" y="1080"/>
                    <a:pt x="2024" y="1080"/>
                  </a:cubicBezTo>
                  <a:cubicBezTo>
                    <a:pt x="2074" y="1075"/>
                    <a:pt x="2124" y="1073"/>
                    <a:pt x="2174" y="1065"/>
                  </a:cubicBezTo>
                  <a:cubicBezTo>
                    <a:pt x="2190" y="1063"/>
                    <a:pt x="2210" y="1063"/>
                    <a:pt x="2219" y="1050"/>
                  </a:cubicBezTo>
                  <a:cubicBezTo>
                    <a:pt x="2243" y="1017"/>
                    <a:pt x="2282" y="846"/>
                    <a:pt x="2294" y="810"/>
                  </a:cubicBezTo>
                  <a:cubicBezTo>
                    <a:pt x="2299" y="795"/>
                    <a:pt x="2324" y="800"/>
                    <a:pt x="2339" y="795"/>
                  </a:cubicBezTo>
                  <a:cubicBezTo>
                    <a:pt x="2417" y="802"/>
                    <a:pt x="2502" y="804"/>
                    <a:pt x="2579" y="825"/>
                  </a:cubicBezTo>
                  <a:cubicBezTo>
                    <a:pt x="2619" y="836"/>
                    <a:pt x="2793" y="883"/>
                    <a:pt x="2819" y="900"/>
                  </a:cubicBezTo>
                  <a:cubicBezTo>
                    <a:pt x="2834" y="910"/>
                    <a:pt x="2848" y="923"/>
                    <a:pt x="2864" y="930"/>
                  </a:cubicBezTo>
                  <a:cubicBezTo>
                    <a:pt x="2963" y="974"/>
                    <a:pt x="3076" y="1001"/>
                    <a:pt x="3179" y="1035"/>
                  </a:cubicBezTo>
                  <a:cubicBezTo>
                    <a:pt x="3213" y="1046"/>
                    <a:pt x="3249" y="1044"/>
                    <a:pt x="3284" y="1050"/>
                  </a:cubicBezTo>
                  <a:cubicBezTo>
                    <a:pt x="3369" y="1065"/>
                    <a:pt x="3454" y="1078"/>
                    <a:pt x="3539" y="1095"/>
                  </a:cubicBezTo>
                  <a:cubicBezTo>
                    <a:pt x="3654" y="1090"/>
                    <a:pt x="3770" y="1099"/>
                    <a:pt x="3884" y="1080"/>
                  </a:cubicBezTo>
                  <a:cubicBezTo>
                    <a:pt x="3900" y="1077"/>
                    <a:pt x="3899" y="1051"/>
                    <a:pt x="3899" y="1035"/>
                  </a:cubicBezTo>
                  <a:cubicBezTo>
                    <a:pt x="3899" y="993"/>
                    <a:pt x="3874" y="975"/>
                    <a:pt x="3839" y="960"/>
                  </a:cubicBezTo>
                  <a:cubicBezTo>
                    <a:pt x="3710" y="903"/>
                    <a:pt x="3631" y="910"/>
                    <a:pt x="3479" y="900"/>
                  </a:cubicBezTo>
                  <a:cubicBezTo>
                    <a:pt x="3449" y="890"/>
                    <a:pt x="3419" y="880"/>
                    <a:pt x="3389" y="870"/>
                  </a:cubicBezTo>
                  <a:cubicBezTo>
                    <a:pt x="3374" y="865"/>
                    <a:pt x="3359" y="860"/>
                    <a:pt x="3344" y="855"/>
                  </a:cubicBezTo>
                  <a:cubicBezTo>
                    <a:pt x="3329" y="850"/>
                    <a:pt x="3299" y="840"/>
                    <a:pt x="3299" y="840"/>
                  </a:cubicBezTo>
                  <a:cubicBezTo>
                    <a:pt x="3232" y="739"/>
                    <a:pt x="3311" y="838"/>
                    <a:pt x="3224" y="780"/>
                  </a:cubicBezTo>
                  <a:cubicBezTo>
                    <a:pt x="3206" y="768"/>
                    <a:pt x="3196" y="748"/>
                    <a:pt x="3179" y="735"/>
                  </a:cubicBezTo>
                  <a:cubicBezTo>
                    <a:pt x="3009" y="603"/>
                    <a:pt x="3153" y="714"/>
                    <a:pt x="3044" y="660"/>
                  </a:cubicBezTo>
                  <a:cubicBezTo>
                    <a:pt x="3028" y="652"/>
                    <a:pt x="3015" y="637"/>
                    <a:pt x="2999" y="630"/>
                  </a:cubicBezTo>
                  <a:cubicBezTo>
                    <a:pt x="2903" y="587"/>
                    <a:pt x="2909" y="606"/>
                    <a:pt x="2804" y="585"/>
                  </a:cubicBezTo>
                  <a:cubicBezTo>
                    <a:pt x="2724" y="569"/>
                    <a:pt x="2643" y="545"/>
                    <a:pt x="2564" y="525"/>
                  </a:cubicBezTo>
                  <a:cubicBezTo>
                    <a:pt x="2549" y="521"/>
                    <a:pt x="2533" y="518"/>
                    <a:pt x="2519" y="510"/>
                  </a:cubicBezTo>
                  <a:cubicBezTo>
                    <a:pt x="2487" y="492"/>
                    <a:pt x="2463" y="461"/>
                    <a:pt x="2429" y="450"/>
                  </a:cubicBezTo>
                  <a:cubicBezTo>
                    <a:pt x="2399" y="440"/>
                    <a:pt x="2365" y="438"/>
                    <a:pt x="2339" y="420"/>
                  </a:cubicBezTo>
                  <a:cubicBezTo>
                    <a:pt x="2324" y="410"/>
                    <a:pt x="2310" y="397"/>
                    <a:pt x="2294" y="390"/>
                  </a:cubicBezTo>
                  <a:cubicBezTo>
                    <a:pt x="2108" y="307"/>
                    <a:pt x="2301" y="425"/>
                    <a:pt x="2114" y="300"/>
                  </a:cubicBezTo>
                  <a:cubicBezTo>
                    <a:pt x="2040" y="250"/>
                    <a:pt x="1968" y="219"/>
                    <a:pt x="1889" y="180"/>
                  </a:cubicBezTo>
                  <a:cubicBezTo>
                    <a:pt x="1812" y="142"/>
                    <a:pt x="1747" y="103"/>
                    <a:pt x="1664" y="75"/>
                  </a:cubicBezTo>
                  <a:cubicBezTo>
                    <a:pt x="1619" y="60"/>
                    <a:pt x="1574" y="45"/>
                    <a:pt x="1529" y="30"/>
                  </a:cubicBezTo>
                  <a:cubicBezTo>
                    <a:pt x="1514" y="25"/>
                    <a:pt x="1499" y="20"/>
                    <a:pt x="1484" y="15"/>
                  </a:cubicBezTo>
                  <a:cubicBezTo>
                    <a:pt x="1469" y="10"/>
                    <a:pt x="1439" y="0"/>
                    <a:pt x="1439" y="0"/>
                  </a:cubicBezTo>
                  <a:cubicBezTo>
                    <a:pt x="1354" y="5"/>
                    <a:pt x="1268" y="4"/>
                    <a:pt x="1184" y="15"/>
                  </a:cubicBezTo>
                  <a:cubicBezTo>
                    <a:pt x="1137" y="21"/>
                    <a:pt x="1094" y="45"/>
                    <a:pt x="1049" y="60"/>
                  </a:cubicBezTo>
                  <a:cubicBezTo>
                    <a:pt x="1034" y="65"/>
                    <a:pt x="1004" y="75"/>
                    <a:pt x="1004" y="75"/>
                  </a:cubicBezTo>
                  <a:close/>
                </a:path>
              </a:pathLst>
            </a:custGeom>
            <a:solidFill>
              <a:srgbClr val="b19be7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828800" y="1733040"/>
              <a:ext cx="914400" cy="670320"/>
            </a:xfrm>
            <a:custGeom>
              <a:avLst/>
              <a:gdLst/>
              <a:ahLst/>
              <a:rect l="l" t="t" r="r" b="b"/>
              <a:pathLst>
                <a:path w="6166" h="1012">
                  <a:moveTo>
                    <a:pt x="78" y="30"/>
                  </a:moveTo>
                  <a:cubicBezTo>
                    <a:pt x="68" y="60"/>
                    <a:pt x="58" y="90"/>
                    <a:pt x="48" y="120"/>
                  </a:cubicBezTo>
                  <a:cubicBezTo>
                    <a:pt x="42" y="137"/>
                    <a:pt x="26" y="149"/>
                    <a:pt x="18" y="165"/>
                  </a:cubicBezTo>
                  <a:cubicBezTo>
                    <a:pt x="11" y="179"/>
                    <a:pt x="8" y="195"/>
                    <a:pt x="3" y="210"/>
                  </a:cubicBezTo>
                  <a:cubicBezTo>
                    <a:pt x="12" y="358"/>
                    <a:pt x="0" y="401"/>
                    <a:pt x="33" y="510"/>
                  </a:cubicBezTo>
                  <a:cubicBezTo>
                    <a:pt x="42" y="540"/>
                    <a:pt x="37" y="582"/>
                    <a:pt x="63" y="600"/>
                  </a:cubicBezTo>
                  <a:cubicBezTo>
                    <a:pt x="78" y="610"/>
                    <a:pt x="93" y="620"/>
                    <a:pt x="108" y="630"/>
                  </a:cubicBezTo>
                  <a:cubicBezTo>
                    <a:pt x="152" y="696"/>
                    <a:pt x="167" y="686"/>
                    <a:pt x="243" y="705"/>
                  </a:cubicBezTo>
                  <a:cubicBezTo>
                    <a:pt x="417" y="662"/>
                    <a:pt x="549" y="681"/>
                    <a:pt x="738" y="690"/>
                  </a:cubicBezTo>
                  <a:cubicBezTo>
                    <a:pt x="803" y="712"/>
                    <a:pt x="856" y="753"/>
                    <a:pt x="918" y="780"/>
                  </a:cubicBezTo>
                  <a:cubicBezTo>
                    <a:pt x="1001" y="817"/>
                    <a:pt x="1088" y="827"/>
                    <a:pt x="1173" y="855"/>
                  </a:cubicBezTo>
                  <a:cubicBezTo>
                    <a:pt x="1188" y="870"/>
                    <a:pt x="1204" y="884"/>
                    <a:pt x="1218" y="900"/>
                  </a:cubicBezTo>
                  <a:cubicBezTo>
                    <a:pt x="1230" y="914"/>
                    <a:pt x="1234" y="934"/>
                    <a:pt x="1248" y="945"/>
                  </a:cubicBezTo>
                  <a:cubicBezTo>
                    <a:pt x="1260" y="955"/>
                    <a:pt x="1279" y="953"/>
                    <a:pt x="1293" y="960"/>
                  </a:cubicBezTo>
                  <a:cubicBezTo>
                    <a:pt x="1397" y="1012"/>
                    <a:pt x="1273" y="974"/>
                    <a:pt x="1398" y="1005"/>
                  </a:cubicBezTo>
                  <a:cubicBezTo>
                    <a:pt x="1450" y="1001"/>
                    <a:pt x="1625" y="992"/>
                    <a:pt x="1698" y="975"/>
                  </a:cubicBezTo>
                  <a:cubicBezTo>
                    <a:pt x="1749" y="963"/>
                    <a:pt x="1797" y="943"/>
                    <a:pt x="1848" y="930"/>
                  </a:cubicBezTo>
                  <a:cubicBezTo>
                    <a:pt x="1997" y="831"/>
                    <a:pt x="2220" y="806"/>
                    <a:pt x="2388" y="750"/>
                  </a:cubicBezTo>
                  <a:cubicBezTo>
                    <a:pt x="2427" y="737"/>
                    <a:pt x="2489" y="728"/>
                    <a:pt x="2523" y="705"/>
                  </a:cubicBezTo>
                  <a:cubicBezTo>
                    <a:pt x="2538" y="695"/>
                    <a:pt x="2552" y="682"/>
                    <a:pt x="2568" y="675"/>
                  </a:cubicBezTo>
                  <a:cubicBezTo>
                    <a:pt x="2597" y="662"/>
                    <a:pt x="2658" y="645"/>
                    <a:pt x="2658" y="645"/>
                  </a:cubicBezTo>
                  <a:cubicBezTo>
                    <a:pt x="2850" y="655"/>
                    <a:pt x="2901" y="646"/>
                    <a:pt x="3048" y="675"/>
                  </a:cubicBezTo>
                  <a:cubicBezTo>
                    <a:pt x="3130" y="691"/>
                    <a:pt x="3209" y="724"/>
                    <a:pt x="3288" y="750"/>
                  </a:cubicBezTo>
                  <a:cubicBezTo>
                    <a:pt x="3350" y="771"/>
                    <a:pt x="3418" y="769"/>
                    <a:pt x="3483" y="780"/>
                  </a:cubicBezTo>
                  <a:cubicBezTo>
                    <a:pt x="3489" y="780"/>
                    <a:pt x="3666" y="782"/>
                    <a:pt x="3723" y="750"/>
                  </a:cubicBezTo>
                  <a:cubicBezTo>
                    <a:pt x="3755" y="732"/>
                    <a:pt x="3813" y="690"/>
                    <a:pt x="3813" y="690"/>
                  </a:cubicBezTo>
                  <a:cubicBezTo>
                    <a:pt x="3844" y="643"/>
                    <a:pt x="3895" y="607"/>
                    <a:pt x="3918" y="555"/>
                  </a:cubicBezTo>
                  <a:cubicBezTo>
                    <a:pt x="3959" y="462"/>
                    <a:pt x="3921" y="434"/>
                    <a:pt x="4008" y="405"/>
                  </a:cubicBezTo>
                  <a:cubicBezTo>
                    <a:pt x="4172" y="419"/>
                    <a:pt x="4326" y="457"/>
                    <a:pt x="4488" y="480"/>
                  </a:cubicBezTo>
                  <a:cubicBezTo>
                    <a:pt x="4757" y="570"/>
                    <a:pt x="4995" y="561"/>
                    <a:pt x="5283" y="570"/>
                  </a:cubicBezTo>
                  <a:cubicBezTo>
                    <a:pt x="5551" y="591"/>
                    <a:pt x="5813" y="578"/>
                    <a:pt x="6078" y="540"/>
                  </a:cubicBezTo>
                  <a:cubicBezTo>
                    <a:pt x="6108" y="494"/>
                    <a:pt x="6166" y="459"/>
                    <a:pt x="6123" y="405"/>
                  </a:cubicBezTo>
                  <a:cubicBezTo>
                    <a:pt x="6112" y="391"/>
                    <a:pt x="6093" y="385"/>
                    <a:pt x="6078" y="375"/>
                  </a:cubicBezTo>
                  <a:cubicBezTo>
                    <a:pt x="5934" y="385"/>
                    <a:pt x="5848" y="394"/>
                    <a:pt x="5718" y="420"/>
                  </a:cubicBezTo>
                  <a:cubicBezTo>
                    <a:pt x="5433" y="402"/>
                    <a:pt x="5147" y="380"/>
                    <a:pt x="4863" y="345"/>
                  </a:cubicBezTo>
                  <a:cubicBezTo>
                    <a:pt x="4739" y="304"/>
                    <a:pt x="4601" y="308"/>
                    <a:pt x="4473" y="300"/>
                  </a:cubicBezTo>
                  <a:cubicBezTo>
                    <a:pt x="4398" y="285"/>
                    <a:pt x="4265" y="267"/>
                    <a:pt x="4203" y="225"/>
                  </a:cubicBezTo>
                  <a:cubicBezTo>
                    <a:pt x="4159" y="196"/>
                    <a:pt x="4163" y="192"/>
                    <a:pt x="4113" y="180"/>
                  </a:cubicBezTo>
                  <a:cubicBezTo>
                    <a:pt x="4044" y="163"/>
                    <a:pt x="3991" y="159"/>
                    <a:pt x="3918" y="150"/>
                  </a:cubicBezTo>
                  <a:cubicBezTo>
                    <a:pt x="3863" y="155"/>
                    <a:pt x="3807" y="153"/>
                    <a:pt x="3753" y="165"/>
                  </a:cubicBezTo>
                  <a:cubicBezTo>
                    <a:pt x="3660" y="185"/>
                    <a:pt x="3686" y="375"/>
                    <a:pt x="3618" y="435"/>
                  </a:cubicBezTo>
                  <a:cubicBezTo>
                    <a:pt x="3519" y="522"/>
                    <a:pt x="3369" y="554"/>
                    <a:pt x="3243" y="585"/>
                  </a:cubicBezTo>
                  <a:cubicBezTo>
                    <a:pt x="3173" y="580"/>
                    <a:pt x="3103" y="577"/>
                    <a:pt x="3033" y="570"/>
                  </a:cubicBezTo>
                  <a:cubicBezTo>
                    <a:pt x="2950" y="561"/>
                    <a:pt x="2873" y="528"/>
                    <a:pt x="2793" y="510"/>
                  </a:cubicBezTo>
                  <a:cubicBezTo>
                    <a:pt x="2700" y="489"/>
                    <a:pt x="2599" y="480"/>
                    <a:pt x="2508" y="450"/>
                  </a:cubicBezTo>
                  <a:cubicBezTo>
                    <a:pt x="2363" y="455"/>
                    <a:pt x="2218" y="456"/>
                    <a:pt x="2073" y="465"/>
                  </a:cubicBezTo>
                  <a:cubicBezTo>
                    <a:pt x="1947" y="473"/>
                    <a:pt x="1822" y="530"/>
                    <a:pt x="1698" y="555"/>
                  </a:cubicBezTo>
                  <a:cubicBezTo>
                    <a:pt x="1669" y="552"/>
                    <a:pt x="1498" y="534"/>
                    <a:pt x="1458" y="525"/>
                  </a:cubicBezTo>
                  <a:cubicBezTo>
                    <a:pt x="1264" y="480"/>
                    <a:pt x="1081" y="393"/>
                    <a:pt x="888" y="345"/>
                  </a:cubicBezTo>
                  <a:cubicBezTo>
                    <a:pt x="726" y="305"/>
                    <a:pt x="566" y="248"/>
                    <a:pt x="408" y="195"/>
                  </a:cubicBezTo>
                  <a:cubicBezTo>
                    <a:pt x="374" y="184"/>
                    <a:pt x="348" y="155"/>
                    <a:pt x="318" y="135"/>
                  </a:cubicBezTo>
                  <a:cubicBezTo>
                    <a:pt x="245" y="87"/>
                    <a:pt x="176" y="28"/>
                    <a:pt x="93" y="0"/>
                  </a:cubicBezTo>
                  <a:cubicBezTo>
                    <a:pt x="78" y="5"/>
                    <a:pt x="56" y="1"/>
                    <a:pt x="48" y="15"/>
                  </a:cubicBezTo>
                  <a:cubicBezTo>
                    <a:pt x="33" y="41"/>
                    <a:pt x="6" y="91"/>
                    <a:pt x="33" y="105"/>
                  </a:cubicBezTo>
                  <a:cubicBezTo>
                    <a:pt x="59" y="118"/>
                    <a:pt x="63" y="55"/>
                    <a:pt x="78" y="30"/>
                  </a:cubicBezTo>
                  <a:close/>
                </a:path>
              </a:pathLst>
            </a:custGeom>
            <a:solidFill>
              <a:srgbClr val="00440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420280" y="1828800"/>
              <a:ext cx="158760" cy="210960"/>
            </a:xfrm>
            <a:custGeom>
              <a:avLst/>
              <a:gdLst/>
              <a:ahLst/>
              <a:rect l="l" t="t" r="r" b="b"/>
              <a:pathLst>
                <a:path w="1100" h="333">
                  <a:moveTo>
                    <a:pt x="282" y="93"/>
                  </a:moveTo>
                  <a:cubicBezTo>
                    <a:pt x="267" y="88"/>
                    <a:pt x="244" y="92"/>
                    <a:pt x="237" y="78"/>
                  </a:cubicBezTo>
                  <a:cubicBezTo>
                    <a:pt x="214" y="32"/>
                    <a:pt x="280" y="24"/>
                    <a:pt x="297" y="18"/>
                  </a:cubicBezTo>
                  <a:cubicBezTo>
                    <a:pt x="399" y="33"/>
                    <a:pt x="496" y="51"/>
                    <a:pt x="582" y="108"/>
                  </a:cubicBezTo>
                  <a:cubicBezTo>
                    <a:pt x="586" y="107"/>
                    <a:pt x="687" y="90"/>
                    <a:pt x="702" y="78"/>
                  </a:cubicBezTo>
                  <a:cubicBezTo>
                    <a:pt x="799" y="0"/>
                    <a:pt x="664" y="56"/>
                    <a:pt x="777" y="18"/>
                  </a:cubicBezTo>
                  <a:cubicBezTo>
                    <a:pt x="884" y="54"/>
                    <a:pt x="841" y="30"/>
                    <a:pt x="912" y="78"/>
                  </a:cubicBezTo>
                  <a:cubicBezTo>
                    <a:pt x="938" y="155"/>
                    <a:pt x="970" y="187"/>
                    <a:pt x="1047" y="213"/>
                  </a:cubicBezTo>
                  <a:cubicBezTo>
                    <a:pt x="1053" y="222"/>
                    <a:pt x="1100" y="284"/>
                    <a:pt x="1092" y="303"/>
                  </a:cubicBezTo>
                  <a:cubicBezTo>
                    <a:pt x="1085" y="320"/>
                    <a:pt x="1062" y="323"/>
                    <a:pt x="1047" y="333"/>
                  </a:cubicBezTo>
                  <a:cubicBezTo>
                    <a:pt x="966" y="306"/>
                    <a:pt x="903" y="270"/>
                    <a:pt x="822" y="243"/>
                  </a:cubicBezTo>
                  <a:cubicBezTo>
                    <a:pt x="807" y="238"/>
                    <a:pt x="792" y="233"/>
                    <a:pt x="777" y="228"/>
                  </a:cubicBezTo>
                  <a:cubicBezTo>
                    <a:pt x="762" y="223"/>
                    <a:pt x="732" y="213"/>
                    <a:pt x="732" y="213"/>
                  </a:cubicBezTo>
                  <a:cubicBezTo>
                    <a:pt x="682" y="230"/>
                    <a:pt x="632" y="241"/>
                    <a:pt x="582" y="258"/>
                  </a:cubicBezTo>
                  <a:cubicBezTo>
                    <a:pt x="500" y="242"/>
                    <a:pt x="424" y="214"/>
                    <a:pt x="342" y="198"/>
                  </a:cubicBezTo>
                  <a:cubicBezTo>
                    <a:pt x="322" y="203"/>
                    <a:pt x="302" y="207"/>
                    <a:pt x="282" y="213"/>
                  </a:cubicBezTo>
                  <a:cubicBezTo>
                    <a:pt x="252" y="222"/>
                    <a:pt x="192" y="243"/>
                    <a:pt x="192" y="243"/>
                  </a:cubicBezTo>
                  <a:cubicBezTo>
                    <a:pt x="175" y="240"/>
                    <a:pt x="0" y="240"/>
                    <a:pt x="72" y="168"/>
                  </a:cubicBezTo>
                  <a:cubicBezTo>
                    <a:pt x="83" y="157"/>
                    <a:pt x="102" y="158"/>
                    <a:pt x="117" y="153"/>
                  </a:cubicBezTo>
                  <a:cubicBezTo>
                    <a:pt x="195" y="179"/>
                    <a:pt x="227" y="148"/>
                    <a:pt x="282" y="93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261160" y="1893240"/>
              <a:ext cx="158760" cy="211320"/>
            </a:xfrm>
            <a:custGeom>
              <a:avLst/>
              <a:gdLst/>
              <a:ahLst/>
              <a:rect l="l" t="t" r="r" b="b"/>
              <a:pathLst>
                <a:path w="1100" h="333">
                  <a:moveTo>
                    <a:pt x="282" y="93"/>
                  </a:moveTo>
                  <a:cubicBezTo>
                    <a:pt x="267" y="88"/>
                    <a:pt x="244" y="92"/>
                    <a:pt x="237" y="78"/>
                  </a:cubicBezTo>
                  <a:cubicBezTo>
                    <a:pt x="214" y="32"/>
                    <a:pt x="280" y="24"/>
                    <a:pt x="297" y="18"/>
                  </a:cubicBezTo>
                  <a:cubicBezTo>
                    <a:pt x="399" y="33"/>
                    <a:pt x="496" y="51"/>
                    <a:pt x="582" y="108"/>
                  </a:cubicBezTo>
                  <a:cubicBezTo>
                    <a:pt x="586" y="107"/>
                    <a:pt x="687" y="90"/>
                    <a:pt x="702" y="78"/>
                  </a:cubicBezTo>
                  <a:cubicBezTo>
                    <a:pt x="799" y="0"/>
                    <a:pt x="664" y="56"/>
                    <a:pt x="777" y="18"/>
                  </a:cubicBezTo>
                  <a:cubicBezTo>
                    <a:pt x="884" y="54"/>
                    <a:pt x="841" y="30"/>
                    <a:pt x="912" y="78"/>
                  </a:cubicBezTo>
                  <a:cubicBezTo>
                    <a:pt x="938" y="155"/>
                    <a:pt x="970" y="187"/>
                    <a:pt x="1047" y="213"/>
                  </a:cubicBezTo>
                  <a:cubicBezTo>
                    <a:pt x="1053" y="222"/>
                    <a:pt x="1100" y="284"/>
                    <a:pt x="1092" y="303"/>
                  </a:cubicBezTo>
                  <a:cubicBezTo>
                    <a:pt x="1085" y="320"/>
                    <a:pt x="1062" y="323"/>
                    <a:pt x="1047" y="333"/>
                  </a:cubicBezTo>
                  <a:cubicBezTo>
                    <a:pt x="966" y="306"/>
                    <a:pt x="903" y="270"/>
                    <a:pt x="822" y="243"/>
                  </a:cubicBezTo>
                  <a:cubicBezTo>
                    <a:pt x="807" y="238"/>
                    <a:pt x="792" y="233"/>
                    <a:pt x="777" y="228"/>
                  </a:cubicBezTo>
                  <a:cubicBezTo>
                    <a:pt x="762" y="223"/>
                    <a:pt x="732" y="213"/>
                    <a:pt x="732" y="213"/>
                  </a:cubicBezTo>
                  <a:cubicBezTo>
                    <a:pt x="682" y="230"/>
                    <a:pt x="632" y="241"/>
                    <a:pt x="582" y="258"/>
                  </a:cubicBezTo>
                  <a:cubicBezTo>
                    <a:pt x="500" y="242"/>
                    <a:pt x="424" y="214"/>
                    <a:pt x="342" y="198"/>
                  </a:cubicBezTo>
                  <a:cubicBezTo>
                    <a:pt x="322" y="203"/>
                    <a:pt x="302" y="207"/>
                    <a:pt x="282" y="213"/>
                  </a:cubicBezTo>
                  <a:cubicBezTo>
                    <a:pt x="252" y="222"/>
                    <a:pt x="192" y="243"/>
                    <a:pt x="192" y="243"/>
                  </a:cubicBezTo>
                  <a:cubicBezTo>
                    <a:pt x="175" y="240"/>
                    <a:pt x="0" y="240"/>
                    <a:pt x="72" y="168"/>
                  </a:cubicBezTo>
                  <a:cubicBezTo>
                    <a:pt x="83" y="157"/>
                    <a:pt x="102" y="158"/>
                    <a:pt x="117" y="153"/>
                  </a:cubicBezTo>
                  <a:cubicBezTo>
                    <a:pt x="195" y="179"/>
                    <a:pt x="227" y="148"/>
                    <a:pt x="282" y="93"/>
                  </a:cubicBez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023560" y="1295280"/>
              <a:ext cx="214560" cy="437760"/>
            </a:xfrm>
            <a:custGeom>
              <a:avLst/>
              <a:gdLst/>
              <a:ahLst/>
              <a:rect l="l" t="t" r="r" b="b"/>
              <a:pathLst>
                <a:path w="1486" h="690">
                  <a:moveTo>
                    <a:pt x="529" y="15"/>
                  </a:moveTo>
                  <a:cubicBezTo>
                    <a:pt x="495" y="117"/>
                    <a:pt x="481" y="106"/>
                    <a:pt x="394" y="150"/>
                  </a:cubicBezTo>
                  <a:cubicBezTo>
                    <a:pt x="278" y="208"/>
                    <a:pt x="417" y="157"/>
                    <a:pt x="304" y="195"/>
                  </a:cubicBezTo>
                  <a:cubicBezTo>
                    <a:pt x="294" y="210"/>
                    <a:pt x="288" y="229"/>
                    <a:pt x="274" y="240"/>
                  </a:cubicBezTo>
                  <a:cubicBezTo>
                    <a:pt x="262" y="250"/>
                    <a:pt x="243" y="248"/>
                    <a:pt x="229" y="255"/>
                  </a:cubicBezTo>
                  <a:cubicBezTo>
                    <a:pt x="184" y="278"/>
                    <a:pt x="136" y="302"/>
                    <a:pt x="94" y="330"/>
                  </a:cubicBezTo>
                  <a:cubicBezTo>
                    <a:pt x="44" y="405"/>
                    <a:pt x="0" y="427"/>
                    <a:pt x="49" y="525"/>
                  </a:cubicBezTo>
                  <a:cubicBezTo>
                    <a:pt x="56" y="539"/>
                    <a:pt x="79" y="536"/>
                    <a:pt x="94" y="540"/>
                  </a:cubicBezTo>
                  <a:cubicBezTo>
                    <a:pt x="114" y="546"/>
                    <a:pt x="134" y="550"/>
                    <a:pt x="154" y="555"/>
                  </a:cubicBezTo>
                  <a:cubicBezTo>
                    <a:pt x="159" y="570"/>
                    <a:pt x="161" y="586"/>
                    <a:pt x="169" y="600"/>
                  </a:cubicBezTo>
                  <a:cubicBezTo>
                    <a:pt x="187" y="632"/>
                    <a:pt x="229" y="690"/>
                    <a:pt x="229" y="690"/>
                  </a:cubicBezTo>
                  <a:cubicBezTo>
                    <a:pt x="299" y="585"/>
                    <a:pt x="259" y="620"/>
                    <a:pt x="334" y="570"/>
                  </a:cubicBezTo>
                  <a:cubicBezTo>
                    <a:pt x="361" y="490"/>
                    <a:pt x="356" y="448"/>
                    <a:pt x="439" y="420"/>
                  </a:cubicBezTo>
                  <a:cubicBezTo>
                    <a:pt x="495" y="431"/>
                    <a:pt x="582" y="457"/>
                    <a:pt x="634" y="420"/>
                  </a:cubicBezTo>
                  <a:cubicBezTo>
                    <a:pt x="660" y="402"/>
                    <a:pt x="634" y="340"/>
                    <a:pt x="664" y="330"/>
                  </a:cubicBezTo>
                  <a:cubicBezTo>
                    <a:pt x="679" y="325"/>
                    <a:pt x="694" y="320"/>
                    <a:pt x="709" y="315"/>
                  </a:cubicBezTo>
                  <a:cubicBezTo>
                    <a:pt x="724" y="320"/>
                    <a:pt x="742" y="320"/>
                    <a:pt x="754" y="330"/>
                  </a:cubicBezTo>
                  <a:cubicBezTo>
                    <a:pt x="788" y="357"/>
                    <a:pt x="788" y="398"/>
                    <a:pt x="799" y="435"/>
                  </a:cubicBezTo>
                  <a:cubicBezTo>
                    <a:pt x="824" y="523"/>
                    <a:pt x="800" y="437"/>
                    <a:pt x="844" y="525"/>
                  </a:cubicBezTo>
                  <a:cubicBezTo>
                    <a:pt x="851" y="539"/>
                    <a:pt x="850" y="557"/>
                    <a:pt x="859" y="570"/>
                  </a:cubicBezTo>
                  <a:cubicBezTo>
                    <a:pt x="892" y="620"/>
                    <a:pt x="947" y="628"/>
                    <a:pt x="994" y="660"/>
                  </a:cubicBezTo>
                  <a:cubicBezTo>
                    <a:pt x="1019" y="585"/>
                    <a:pt x="1014" y="630"/>
                    <a:pt x="979" y="525"/>
                  </a:cubicBezTo>
                  <a:cubicBezTo>
                    <a:pt x="974" y="510"/>
                    <a:pt x="964" y="480"/>
                    <a:pt x="964" y="480"/>
                  </a:cubicBezTo>
                  <a:cubicBezTo>
                    <a:pt x="1004" y="475"/>
                    <a:pt x="1058" y="496"/>
                    <a:pt x="1084" y="465"/>
                  </a:cubicBezTo>
                  <a:cubicBezTo>
                    <a:pt x="1105" y="441"/>
                    <a:pt x="1054" y="375"/>
                    <a:pt x="1054" y="375"/>
                  </a:cubicBezTo>
                  <a:cubicBezTo>
                    <a:pt x="1059" y="355"/>
                    <a:pt x="1056" y="331"/>
                    <a:pt x="1069" y="315"/>
                  </a:cubicBezTo>
                  <a:cubicBezTo>
                    <a:pt x="1107" y="268"/>
                    <a:pt x="1229" y="336"/>
                    <a:pt x="1264" y="360"/>
                  </a:cubicBezTo>
                  <a:cubicBezTo>
                    <a:pt x="1312" y="431"/>
                    <a:pt x="1277" y="399"/>
                    <a:pt x="1384" y="435"/>
                  </a:cubicBezTo>
                  <a:cubicBezTo>
                    <a:pt x="1399" y="440"/>
                    <a:pt x="1429" y="450"/>
                    <a:pt x="1429" y="450"/>
                  </a:cubicBezTo>
                  <a:cubicBezTo>
                    <a:pt x="1444" y="445"/>
                    <a:pt x="1468" y="450"/>
                    <a:pt x="1474" y="435"/>
                  </a:cubicBezTo>
                  <a:cubicBezTo>
                    <a:pt x="1486" y="406"/>
                    <a:pt x="1430" y="309"/>
                    <a:pt x="1414" y="285"/>
                  </a:cubicBezTo>
                  <a:cubicBezTo>
                    <a:pt x="1426" y="248"/>
                    <a:pt x="1445" y="219"/>
                    <a:pt x="1414" y="180"/>
                  </a:cubicBezTo>
                  <a:cubicBezTo>
                    <a:pt x="1404" y="168"/>
                    <a:pt x="1384" y="170"/>
                    <a:pt x="1369" y="165"/>
                  </a:cubicBezTo>
                  <a:cubicBezTo>
                    <a:pt x="1354" y="150"/>
                    <a:pt x="1342" y="132"/>
                    <a:pt x="1324" y="120"/>
                  </a:cubicBezTo>
                  <a:cubicBezTo>
                    <a:pt x="1311" y="111"/>
                    <a:pt x="1228" y="93"/>
                    <a:pt x="1219" y="90"/>
                  </a:cubicBezTo>
                  <a:cubicBezTo>
                    <a:pt x="1150" y="70"/>
                    <a:pt x="1078" y="64"/>
                    <a:pt x="1009" y="45"/>
                  </a:cubicBezTo>
                  <a:cubicBezTo>
                    <a:pt x="978" y="37"/>
                    <a:pt x="949" y="25"/>
                    <a:pt x="919" y="15"/>
                  </a:cubicBezTo>
                  <a:cubicBezTo>
                    <a:pt x="904" y="10"/>
                    <a:pt x="874" y="0"/>
                    <a:pt x="874" y="0"/>
                  </a:cubicBezTo>
                  <a:cubicBezTo>
                    <a:pt x="769" y="5"/>
                    <a:pt x="663" y="2"/>
                    <a:pt x="559" y="15"/>
                  </a:cubicBezTo>
                  <a:cubicBezTo>
                    <a:pt x="541" y="17"/>
                    <a:pt x="532" y="45"/>
                    <a:pt x="514" y="45"/>
                  </a:cubicBezTo>
                  <a:cubicBezTo>
                    <a:pt x="503" y="45"/>
                    <a:pt x="524" y="25"/>
                    <a:pt x="529" y="15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6248520" y="2209680"/>
            <a:ext cx="2809440" cy="268560"/>
            <a:chOff x="6248520" y="2209680"/>
            <a:chExt cx="2809440" cy="268560"/>
          </a:xfrm>
        </p:grpSpPr>
        <p:sp>
          <p:nvSpPr>
            <p:cNvPr id="350" name=""/>
            <p:cNvSpPr/>
            <p:nvPr/>
          </p:nvSpPr>
          <p:spPr>
            <a:xfrm>
              <a:off x="6418440" y="2269440"/>
              <a:ext cx="2339280" cy="208080"/>
            </a:xfrm>
            <a:custGeom>
              <a:avLst/>
              <a:gdLst/>
              <a:ahLst/>
              <a:rect l="l" t="t" r="r" b="b"/>
              <a:pathLst>
                <a:path w="921" h="259">
                  <a:moveTo>
                    <a:pt x="6" y="94"/>
                  </a:moveTo>
                  <a:cubicBezTo>
                    <a:pt x="69" y="0"/>
                    <a:pt x="67" y="17"/>
                    <a:pt x="186" y="34"/>
                  </a:cubicBezTo>
                  <a:cubicBezTo>
                    <a:pt x="201" y="44"/>
                    <a:pt x="220" y="50"/>
                    <a:pt x="231" y="64"/>
                  </a:cubicBezTo>
                  <a:cubicBezTo>
                    <a:pt x="241" y="76"/>
                    <a:pt x="235" y="98"/>
                    <a:pt x="246" y="109"/>
                  </a:cubicBezTo>
                  <a:cubicBezTo>
                    <a:pt x="257" y="120"/>
                    <a:pt x="277" y="117"/>
                    <a:pt x="291" y="124"/>
                  </a:cubicBezTo>
                  <a:cubicBezTo>
                    <a:pt x="407" y="182"/>
                    <a:pt x="268" y="131"/>
                    <a:pt x="381" y="169"/>
                  </a:cubicBezTo>
                  <a:cubicBezTo>
                    <a:pt x="532" y="150"/>
                    <a:pt x="463" y="167"/>
                    <a:pt x="591" y="124"/>
                  </a:cubicBezTo>
                  <a:cubicBezTo>
                    <a:pt x="606" y="119"/>
                    <a:pt x="636" y="109"/>
                    <a:pt x="636" y="109"/>
                  </a:cubicBezTo>
                  <a:cubicBezTo>
                    <a:pt x="701" y="114"/>
                    <a:pt x="767" y="114"/>
                    <a:pt x="831" y="124"/>
                  </a:cubicBezTo>
                  <a:cubicBezTo>
                    <a:pt x="862" y="129"/>
                    <a:pt x="921" y="154"/>
                    <a:pt x="921" y="154"/>
                  </a:cubicBezTo>
                  <a:cubicBezTo>
                    <a:pt x="906" y="164"/>
                    <a:pt x="892" y="177"/>
                    <a:pt x="876" y="184"/>
                  </a:cubicBezTo>
                  <a:cubicBezTo>
                    <a:pt x="847" y="197"/>
                    <a:pt x="786" y="214"/>
                    <a:pt x="786" y="214"/>
                  </a:cubicBezTo>
                  <a:cubicBezTo>
                    <a:pt x="697" y="184"/>
                    <a:pt x="726" y="187"/>
                    <a:pt x="576" y="214"/>
                  </a:cubicBezTo>
                  <a:cubicBezTo>
                    <a:pt x="545" y="219"/>
                    <a:pt x="516" y="234"/>
                    <a:pt x="486" y="244"/>
                  </a:cubicBezTo>
                  <a:cubicBezTo>
                    <a:pt x="471" y="249"/>
                    <a:pt x="441" y="259"/>
                    <a:pt x="441" y="259"/>
                  </a:cubicBezTo>
                  <a:cubicBezTo>
                    <a:pt x="361" y="232"/>
                    <a:pt x="281" y="211"/>
                    <a:pt x="201" y="184"/>
                  </a:cubicBezTo>
                  <a:cubicBezTo>
                    <a:pt x="143" y="165"/>
                    <a:pt x="80" y="169"/>
                    <a:pt x="21" y="154"/>
                  </a:cubicBezTo>
                  <a:cubicBezTo>
                    <a:pt x="16" y="139"/>
                    <a:pt x="0" y="124"/>
                    <a:pt x="6" y="109"/>
                  </a:cubicBezTo>
                  <a:cubicBezTo>
                    <a:pt x="15" y="87"/>
                    <a:pt x="111" y="59"/>
                    <a:pt x="6" y="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5a5a5"/>
                </a:gs>
                <a:gs pos="100000">
                  <a:srgbClr val="ff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418440" y="2269440"/>
              <a:ext cx="2639520" cy="208800"/>
            </a:xfrm>
            <a:custGeom>
              <a:avLst/>
              <a:gdLst/>
              <a:ahLst/>
              <a:rect l="l" t="t" r="r" b="b"/>
              <a:pathLst>
                <a:path w="1642" h="246">
                  <a:moveTo>
                    <a:pt x="22" y="30"/>
                  </a:moveTo>
                  <a:cubicBezTo>
                    <a:pt x="129" y="66"/>
                    <a:pt x="0" y="15"/>
                    <a:pt x="112" y="90"/>
                  </a:cubicBezTo>
                  <a:cubicBezTo>
                    <a:pt x="125" y="99"/>
                    <a:pt x="143" y="98"/>
                    <a:pt x="157" y="105"/>
                  </a:cubicBezTo>
                  <a:cubicBezTo>
                    <a:pt x="173" y="113"/>
                    <a:pt x="186" y="128"/>
                    <a:pt x="202" y="135"/>
                  </a:cubicBezTo>
                  <a:cubicBezTo>
                    <a:pt x="231" y="148"/>
                    <a:pt x="292" y="165"/>
                    <a:pt x="292" y="165"/>
                  </a:cubicBezTo>
                  <a:cubicBezTo>
                    <a:pt x="432" y="151"/>
                    <a:pt x="572" y="134"/>
                    <a:pt x="712" y="120"/>
                  </a:cubicBezTo>
                  <a:cubicBezTo>
                    <a:pt x="792" y="125"/>
                    <a:pt x="872" y="127"/>
                    <a:pt x="952" y="135"/>
                  </a:cubicBezTo>
                  <a:cubicBezTo>
                    <a:pt x="1006" y="141"/>
                    <a:pt x="993" y="158"/>
                    <a:pt x="1042" y="180"/>
                  </a:cubicBezTo>
                  <a:cubicBezTo>
                    <a:pt x="1071" y="193"/>
                    <a:pt x="1102" y="200"/>
                    <a:pt x="1132" y="210"/>
                  </a:cubicBezTo>
                  <a:cubicBezTo>
                    <a:pt x="1207" y="235"/>
                    <a:pt x="1276" y="233"/>
                    <a:pt x="1357" y="240"/>
                  </a:cubicBezTo>
                  <a:cubicBezTo>
                    <a:pt x="1447" y="235"/>
                    <a:pt x="1539" y="246"/>
                    <a:pt x="1627" y="225"/>
                  </a:cubicBezTo>
                  <a:cubicBezTo>
                    <a:pt x="1642" y="221"/>
                    <a:pt x="1623" y="191"/>
                    <a:pt x="1612" y="180"/>
                  </a:cubicBezTo>
                  <a:cubicBezTo>
                    <a:pt x="1601" y="169"/>
                    <a:pt x="1582" y="169"/>
                    <a:pt x="1567" y="165"/>
                  </a:cubicBezTo>
                  <a:cubicBezTo>
                    <a:pt x="1468" y="140"/>
                    <a:pt x="1415" y="144"/>
                    <a:pt x="1297" y="135"/>
                  </a:cubicBezTo>
                  <a:cubicBezTo>
                    <a:pt x="1115" y="105"/>
                    <a:pt x="937" y="66"/>
                    <a:pt x="757" y="30"/>
                  </a:cubicBezTo>
                  <a:cubicBezTo>
                    <a:pt x="519" y="44"/>
                    <a:pt x="506" y="55"/>
                    <a:pt x="277" y="30"/>
                  </a:cubicBezTo>
                  <a:cubicBezTo>
                    <a:pt x="217" y="23"/>
                    <a:pt x="97" y="0"/>
                    <a:pt x="97" y="0"/>
                  </a:cubicBezTo>
                  <a:cubicBezTo>
                    <a:pt x="30" y="17"/>
                    <a:pt x="52" y="0"/>
                    <a:pt x="22" y="3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99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248520" y="2209680"/>
              <a:ext cx="2660040" cy="208080"/>
            </a:xfrm>
            <a:custGeom>
              <a:avLst/>
              <a:gdLst/>
              <a:ahLst/>
              <a:rect l="l" t="t" r="r" b="b"/>
              <a:pathLst>
                <a:path w="2266" h="375">
                  <a:moveTo>
                    <a:pt x="315" y="90"/>
                  </a:moveTo>
                  <a:cubicBezTo>
                    <a:pt x="381" y="68"/>
                    <a:pt x="429" y="22"/>
                    <a:pt x="495" y="0"/>
                  </a:cubicBezTo>
                  <a:cubicBezTo>
                    <a:pt x="580" y="5"/>
                    <a:pt x="665" y="7"/>
                    <a:pt x="750" y="15"/>
                  </a:cubicBezTo>
                  <a:cubicBezTo>
                    <a:pt x="865" y="26"/>
                    <a:pt x="982" y="92"/>
                    <a:pt x="1095" y="120"/>
                  </a:cubicBezTo>
                  <a:cubicBezTo>
                    <a:pt x="1338" y="106"/>
                    <a:pt x="1572" y="73"/>
                    <a:pt x="1815" y="60"/>
                  </a:cubicBezTo>
                  <a:cubicBezTo>
                    <a:pt x="1960" y="65"/>
                    <a:pt x="2106" y="54"/>
                    <a:pt x="2250" y="75"/>
                  </a:cubicBezTo>
                  <a:cubicBezTo>
                    <a:pt x="2266" y="77"/>
                    <a:pt x="2245" y="108"/>
                    <a:pt x="2235" y="120"/>
                  </a:cubicBezTo>
                  <a:cubicBezTo>
                    <a:pt x="2204" y="158"/>
                    <a:pt x="2100" y="180"/>
                    <a:pt x="2100" y="180"/>
                  </a:cubicBezTo>
                  <a:cubicBezTo>
                    <a:pt x="2090" y="195"/>
                    <a:pt x="2059" y="211"/>
                    <a:pt x="2070" y="225"/>
                  </a:cubicBezTo>
                  <a:cubicBezTo>
                    <a:pt x="2085" y="245"/>
                    <a:pt x="2120" y="234"/>
                    <a:pt x="2145" y="240"/>
                  </a:cubicBezTo>
                  <a:cubicBezTo>
                    <a:pt x="2160" y="244"/>
                    <a:pt x="2175" y="250"/>
                    <a:pt x="2190" y="255"/>
                  </a:cubicBezTo>
                  <a:cubicBezTo>
                    <a:pt x="2200" y="270"/>
                    <a:pt x="2217" y="282"/>
                    <a:pt x="2220" y="300"/>
                  </a:cubicBezTo>
                  <a:cubicBezTo>
                    <a:pt x="2231" y="365"/>
                    <a:pt x="2140" y="362"/>
                    <a:pt x="2100" y="375"/>
                  </a:cubicBezTo>
                  <a:cubicBezTo>
                    <a:pt x="1989" y="365"/>
                    <a:pt x="1893" y="352"/>
                    <a:pt x="1785" y="330"/>
                  </a:cubicBezTo>
                  <a:cubicBezTo>
                    <a:pt x="1721" y="317"/>
                    <a:pt x="1653" y="273"/>
                    <a:pt x="1590" y="270"/>
                  </a:cubicBezTo>
                  <a:cubicBezTo>
                    <a:pt x="1465" y="265"/>
                    <a:pt x="1340" y="260"/>
                    <a:pt x="1215" y="255"/>
                  </a:cubicBezTo>
                  <a:cubicBezTo>
                    <a:pt x="1095" y="225"/>
                    <a:pt x="994" y="196"/>
                    <a:pt x="870" y="180"/>
                  </a:cubicBezTo>
                  <a:cubicBezTo>
                    <a:pt x="784" y="192"/>
                    <a:pt x="699" y="204"/>
                    <a:pt x="615" y="225"/>
                  </a:cubicBezTo>
                  <a:cubicBezTo>
                    <a:pt x="535" y="220"/>
                    <a:pt x="455" y="218"/>
                    <a:pt x="375" y="210"/>
                  </a:cubicBezTo>
                  <a:cubicBezTo>
                    <a:pt x="354" y="208"/>
                    <a:pt x="335" y="201"/>
                    <a:pt x="315" y="195"/>
                  </a:cubicBezTo>
                  <a:cubicBezTo>
                    <a:pt x="285" y="186"/>
                    <a:pt x="225" y="165"/>
                    <a:pt x="225" y="165"/>
                  </a:cubicBezTo>
                  <a:cubicBezTo>
                    <a:pt x="122" y="180"/>
                    <a:pt x="97" y="199"/>
                    <a:pt x="0" y="180"/>
                  </a:cubicBezTo>
                  <a:cubicBezTo>
                    <a:pt x="15" y="170"/>
                    <a:pt x="28" y="155"/>
                    <a:pt x="45" y="150"/>
                  </a:cubicBezTo>
                  <a:cubicBezTo>
                    <a:pt x="84" y="139"/>
                    <a:pt x="125" y="142"/>
                    <a:pt x="165" y="135"/>
                  </a:cubicBezTo>
                  <a:cubicBezTo>
                    <a:pt x="224" y="124"/>
                    <a:pt x="200" y="117"/>
                    <a:pt x="255" y="90"/>
                  </a:cubicBezTo>
                  <a:cubicBezTo>
                    <a:pt x="301" y="67"/>
                    <a:pt x="291" y="66"/>
                    <a:pt x="315" y="90"/>
                  </a:cubicBezTo>
                  <a:close/>
                </a:path>
              </a:pathLst>
            </a:custGeom>
            <a:gradFill rotWithShape="0">
              <a:gsLst>
                <a:gs pos="0">
                  <a:srgbClr val="f5a5a5"/>
                </a:gs>
                <a:gs pos="100000">
                  <a:srgbClr val="ffcc99"/>
                </a:gs>
              </a:gsLst>
              <a:lin ang="5400000"/>
            </a:gra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4343400" y="-36360"/>
            <a:ext cx="4800600" cy="3555360"/>
            <a:chOff x="4343400" y="-36360"/>
            <a:chExt cx="4800600" cy="3555360"/>
          </a:xfrm>
        </p:grpSpPr>
        <p:grpSp>
          <p:nvGrpSpPr>
            <p:cNvPr id="354" name=""/>
            <p:cNvGrpSpPr/>
            <p:nvPr/>
          </p:nvGrpSpPr>
          <p:grpSpPr>
            <a:xfrm>
              <a:off x="4343400" y="1249560"/>
              <a:ext cx="4705200" cy="2269440"/>
              <a:chOff x="4343400" y="1249560"/>
              <a:chExt cx="4705200" cy="2269440"/>
            </a:xfrm>
          </p:grpSpPr>
          <p:grpSp>
            <p:nvGrpSpPr>
              <p:cNvPr id="355" name=""/>
              <p:cNvGrpSpPr/>
              <p:nvPr/>
            </p:nvGrpSpPr>
            <p:grpSpPr>
              <a:xfrm>
                <a:off x="4648320" y="1249560"/>
                <a:ext cx="4400280" cy="2269440"/>
                <a:chOff x="4648320" y="1249560"/>
                <a:chExt cx="4400280" cy="2269440"/>
              </a:xfrm>
            </p:grpSpPr>
            <p:grpSp>
              <p:nvGrpSpPr>
                <p:cNvPr id="356" name=""/>
                <p:cNvGrpSpPr/>
                <p:nvPr/>
              </p:nvGrpSpPr>
              <p:grpSpPr>
                <a:xfrm>
                  <a:off x="4648320" y="1249560"/>
                  <a:ext cx="4400280" cy="2269440"/>
                  <a:chOff x="4648320" y="1249560"/>
                  <a:chExt cx="4400280" cy="226944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 rot="20494800">
                    <a:off x="6829560" y="1447560"/>
                    <a:ext cx="1429920" cy="1075320"/>
                  </a:xfrm>
                  <a:custGeom>
                    <a:avLst/>
                    <a:gdLst/>
                    <a:ahLst/>
                    <a:rect l="l" t="t" r="r" b="b"/>
                    <a:pathLst>
                      <a:path w="1929" h="1200">
                        <a:moveTo>
                          <a:pt x="135" y="510"/>
                        </a:moveTo>
                        <a:cubicBezTo>
                          <a:pt x="58" y="484"/>
                          <a:pt x="26" y="452"/>
                          <a:pt x="0" y="375"/>
                        </a:cubicBezTo>
                        <a:cubicBezTo>
                          <a:pt x="5" y="345"/>
                          <a:pt x="0" y="311"/>
                          <a:pt x="15" y="285"/>
                        </a:cubicBezTo>
                        <a:cubicBezTo>
                          <a:pt x="23" y="271"/>
                          <a:pt x="44" y="270"/>
                          <a:pt x="60" y="270"/>
                        </a:cubicBezTo>
                        <a:cubicBezTo>
                          <a:pt x="120" y="270"/>
                          <a:pt x="180" y="280"/>
                          <a:pt x="240" y="285"/>
                        </a:cubicBezTo>
                        <a:cubicBezTo>
                          <a:pt x="317" y="53"/>
                          <a:pt x="229" y="293"/>
                          <a:pt x="300" y="150"/>
                        </a:cubicBezTo>
                        <a:cubicBezTo>
                          <a:pt x="307" y="136"/>
                          <a:pt x="304" y="116"/>
                          <a:pt x="315" y="105"/>
                        </a:cubicBezTo>
                        <a:cubicBezTo>
                          <a:pt x="397" y="23"/>
                          <a:pt x="507" y="13"/>
                          <a:pt x="615" y="0"/>
                        </a:cubicBezTo>
                        <a:cubicBezTo>
                          <a:pt x="695" y="5"/>
                          <a:pt x="775" y="7"/>
                          <a:pt x="855" y="15"/>
                        </a:cubicBezTo>
                        <a:cubicBezTo>
                          <a:pt x="887" y="18"/>
                          <a:pt x="985" y="53"/>
                          <a:pt x="1005" y="60"/>
                        </a:cubicBezTo>
                        <a:cubicBezTo>
                          <a:pt x="1085" y="87"/>
                          <a:pt x="1013" y="95"/>
                          <a:pt x="1095" y="105"/>
                        </a:cubicBezTo>
                        <a:cubicBezTo>
                          <a:pt x="1160" y="113"/>
                          <a:pt x="1225" y="115"/>
                          <a:pt x="1290" y="120"/>
                        </a:cubicBezTo>
                        <a:cubicBezTo>
                          <a:pt x="1425" y="154"/>
                          <a:pt x="1371" y="137"/>
                          <a:pt x="1455" y="165"/>
                        </a:cubicBezTo>
                        <a:cubicBezTo>
                          <a:pt x="1465" y="180"/>
                          <a:pt x="1472" y="197"/>
                          <a:pt x="1485" y="210"/>
                        </a:cubicBezTo>
                        <a:cubicBezTo>
                          <a:pt x="1498" y="223"/>
                          <a:pt x="1519" y="226"/>
                          <a:pt x="1530" y="240"/>
                        </a:cubicBezTo>
                        <a:cubicBezTo>
                          <a:pt x="1559" y="276"/>
                          <a:pt x="1530" y="340"/>
                          <a:pt x="1560" y="375"/>
                        </a:cubicBezTo>
                        <a:cubicBezTo>
                          <a:pt x="1581" y="399"/>
                          <a:pt x="1620" y="395"/>
                          <a:pt x="1650" y="405"/>
                        </a:cubicBezTo>
                        <a:cubicBezTo>
                          <a:pt x="1684" y="416"/>
                          <a:pt x="1710" y="445"/>
                          <a:pt x="1740" y="465"/>
                        </a:cubicBezTo>
                        <a:cubicBezTo>
                          <a:pt x="1755" y="475"/>
                          <a:pt x="1770" y="485"/>
                          <a:pt x="1785" y="495"/>
                        </a:cubicBezTo>
                        <a:cubicBezTo>
                          <a:pt x="1820" y="519"/>
                          <a:pt x="1875" y="585"/>
                          <a:pt x="1875" y="585"/>
                        </a:cubicBezTo>
                        <a:cubicBezTo>
                          <a:pt x="1885" y="615"/>
                          <a:pt x="1923" y="649"/>
                          <a:pt x="1905" y="675"/>
                        </a:cubicBezTo>
                        <a:cubicBezTo>
                          <a:pt x="1861" y="740"/>
                          <a:pt x="1848" y="723"/>
                          <a:pt x="1785" y="765"/>
                        </a:cubicBezTo>
                        <a:cubicBezTo>
                          <a:pt x="1790" y="795"/>
                          <a:pt x="1786" y="828"/>
                          <a:pt x="1800" y="855"/>
                        </a:cubicBezTo>
                        <a:cubicBezTo>
                          <a:pt x="1808" y="871"/>
                          <a:pt x="1831" y="873"/>
                          <a:pt x="1845" y="885"/>
                        </a:cubicBezTo>
                        <a:cubicBezTo>
                          <a:pt x="1861" y="899"/>
                          <a:pt x="1875" y="915"/>
                          <a:pt x="1890" y="930"/>
                        </a:cubicBezTo>
                        <a:cubicBezTo>
                          <a:pt x="1925" y="1036"/>
                          <a:pt x="1929" y="1001"/>
                          <a:pt x="1905" y="1110"/>
                        </a:cubicBezTo>
                        <a:cubicBezTo>
                          <a:pt x="1902" y="1125"/>
                          <a:pt x="1900" y="1143"/>
                          <a:pt x="1890" y="1155"/>
                        </a:cubicBezTo>
                        <a:cubicBezTo>
                          <a:pt x="1869" y="1181"/>
                          <a:pt x="1830" y="1190"/>
                          <a:pt x="1800" y="1200"/>
                        </a:cubicBezTo>
                        <a:cubicBezTo>
                          <a:pt x="1656" y="1186"/>
                          <a:pt x="1542" y="1166"/>
                          <a:pt x="1395" y="1155"/>
                        </a:cubicBezTo>
                        <a:cubicBezTo>
                          <a:pt x="1400" y="1130"/>
                          <a:pt x="1399" y="1103"/>
                          <a:pt x="1410" y="1080"/>
                        </a:cubicBezTo>
                        <a:cubicBezTo>
                          <a:pt x="1455" y="989"/>
                          <a:pt x="1489" y="1091"/>
                          <a:pt x="1440" y="945"/>
                        </a:cubicBezTo>
                        <a:cubicBezTo>
                          <a:pt x="1420" y="885"/>
                          <a:pt x="1368" y="879"/>
                          <a:pt x="1320" y="855"/>
                        </a:cubicBezTo>
                        <a:cubicBezTo>
                          <a:pt x="1304" y="847"/>
                          <a:pt x="1291" y="832"/>
                          <a:pt x="1275" y="825"/>
                        </a:cubicBezTo>
                        <a:cubicBezTo>
                          <a:pt x="1121" y="756"/>
                          <a:pt x="944" y="743"/>
                          <a:pt x="780" y="720"/>
                        </a:cubicBezTo>
                        <a:cubicBezTo>
                          <a:pt x="630" y="670"/>
                          <a:pt x="480" y="620"/>
                          <a:pt x="330" y="570"/>
                        </a:cubicBezTo>
                        <a:cubicBezTo>
                          <a:pt x="276" y="552"/>
                          <a:pt x="216" y="550"/>
                          <a:pt x="165" y="525"/>
                        </a:cubicBezTo>
                        <a:cubicBezTo>
                          <a:pt x="149" y="517"/>
                          <a:pt x="136" y="503"/>
                          <a:pt x="120" y="495"/>
                        </a:cubicBezTo>
                        <a:cubicBezTo>
                          <a:pt x="114" y="492"/>
                          <a:pt x="130" y="505"/>
                          <a:pt x="135" y="510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 rot="21256800">
                    <a:off x="4735800" y="2095920"/>
                    <a:ext cx="4139640" cy="1185120"/>
                  </a:xfrm>
                  <a:custGeom>
                    <a:avLst/>
                    <a:gdLst/>
                    <a:ahLst/>
                    <a:rect l="l" t="t" r="r" b="b"/>
                    <a:pathLst>
                      <a:path w="3900" h="1099">
                        <a:moveTo>
                          <a:pt x="1004" y="75"/>
                        </a:moveTo>
                        <a:cubicBezTo>
                          <a:pt x="930" y="124"/>
                          <a:pt x="863" y="197"/>
                          <a:pt x="779" y="225"/>
                        </a:cubicBezTo>
                        <a:cubicBezTo>
                          <a:pt x="727" y="303"/>
                          <a:pt x="649" y="320"/>
                          <a:pt x="569" y="360"/>
                        </a:cubicBezTo>
                        <a:cubicBezTo>
                          <a:pt x="492" y="399"/>
                          <a:pt x="411" y="440"/>
                          <a:pt x="329" y="465"/>
                        </a:cubicBezTo>
                        <a:cubicBezTo>
                          <a:pt x="284" y="479"/>
                          <a:pt x="233" y="484"/>
                          <a:pt x="194" y="510"/>
                        </a:cubicBezTo>
                        <a:cubicBezTo>
                          <a:pt x="164" y="530"/>
                          <a:pt x="104" y="570"/>
                          <a:pt x="104" y="570"/>
                        </a:cubicBezTo>
                        <a:cubicBezTo>
                          <a:pt x="73" y="617"/>
                          <a:pt x="0" y="682"/>
                          <a:pt x="59" y="750"/>
                        </a:cubicBezTo>
                        <a:cubicBezTo>
                          <a:pt x="80" y="774"/>
                          <a:pt x="149" y="780"/>
                          <a:pt x="149" y="780"/>
                        </a:cubicBezTo>
                        <a:cubicBezTo>
                          <a:pt x="247" y="774"/>
                          <a:pt x="364" y="777"/>
                          <a:pt x="464" y="750"/>
                        </a:cubicBezTo>
                        <a:cubicBezTo>
                          <a:pt x="495" y="742"/>
                          <a:pt x="524" y="730"/>
                          <a:pt x="554" y="720"/>
                        </a:cubicBezTo>
                        <a:cubicBezTo>
                          <a:pt x="569" y="715"/>
                          <a:pt x="599" y="705"/>
                          <a:pt x="599" y="705"/>
                        </a:cubicBezTo>
                        <a:cubicBezTo>
                          <a:pt x="609" y="690"/>
                          <a:pt x="611" y="664"/>
                          <a:pt x="629" y="660"/>
                        </a:cubicBezTo>
                        <a:cubicBezTo>
                          <a:pt x="647" y="656"/>
                          <a:pt x="662" y="676"/>
                          <a:pt x="674" y="690"/>
                        </a:cubicBezTo>
                        <a:cubicBezTo>
                          <a:pt x="710" y="731"/>
                          <a:pt x="734" y="780"/>
                          <a:pt x="764" y="825"/>
                        </a:cubicBezTo>
                        <a:cubicBezTo>
                          <a:pt x="774" y="840"/>
                          <a:pt x="777" y="864"/>
                          <a:pt x="794" y="870"/>
                        </a:cubicBezTo>
                        <a:cubicBezTo>
                          <a:pt x="830" y="882"/>
                          <a:pt x="914" y="940"/>
                          <a:pt x="929" y="945"/>
                        </a:cubicBezTo>
                        <a:cubicBezTo>
                          <a:pt x="959" y="955"/>
                          <a:pt x="989" y="965"/>
                          <a:pt x="1019" y="975"/>
                        </a:cubicBezTo>
                        <a:cubicBezTo>
                          <a:pt x="1034" y="980"/>
                          <a:pt x="1064" y="990"/>
                          <a:pt x="1064" y="990"/>
                        </a:cubicBezTo>
                        <a:cubicBezTo>
                          <a:pt x="1282" y="981"/>
                          <a:pt x="1384" y="1049"/>
                          <a:pt x="1484" y="900"/>
                        </a:cubicBezTo>
                        <a:cubicBezTo>
                          <a:pt x="1529" y="905"/>
                          <a:pt x="1575" y="906"/>
                          <a:pt x="1619" y="915"/>
                        </a:cubicBezTo>
                        <a:cubicBezTo>
                          <a:pt x="1717" y="935"/>
                          <a:pt x="1796" y="989"/>
                          <a:pt x="1889" y="1020"/>
                        </a:cubicBezTo>
                        <a:cubicBezTo>
                          <a:pt x="1906" y="1026"/>
                          <a:pt x="1918" y="1043"/>
                          <a:pt x="1934" y="1050"/>
                        </a:cubicBezTo>
                        <a:cubicBezTo>
                          <a:pt x="1963" y="1063"/>
                          <a:pt x="2024" y="1080"/>
                          <a:pt x="2024" y="1080"/>
                        </a:cubicBezTo>
                        <a:cubicBezTo>
                          <a:pt x="2074" y="1075"/>
                          <a:pt x="2124" y="1073"/>
                          <a:pt x="2174" y="1065"/>
                        </a:cubicBezTo>
                        <a:cubicBezTo>
                          <a:pt x="2190" y="1063"/>
                          <a:pt x="2210" y="1063"/>
                          <a:pt x="2219" y="1050"/>
                        </a:cubicBezTo>
                        <a:cubicBezTo>
                          <a:pt x="2243" y="1017"/>
                          <a:pt x="2282" y="846"/>
                          <a:pt x="2294" y="810"/>
                        </a:cubicBezTo>
                        <a:cubicBezTo>
                          <a:pt x="2299" y="795"/>
                          <a:pt x="2324" y="800"/>
                          <a:pt x="2339" y="795"/>
                        </a:cubicBezTo>
                        <a:cubicBezTo>
                          <a:pt x="2417" y="802"/>
                          <a:pt x="2502" y="804"/>
                          <a:pt x="2579" y="825"/>
                        </a:cubicBezTo>
                        <a:cubicBezTo>
                          <a:pt x="2619" y="836"/>
                          <a:pt x="2793" y="883"/>
                          <a:pt x="2819" y="900"/>
                        </a:cubicBezTo>
                        <a:cubicBezTo>
                          <a:pt x="2834" y="910"/>
                          <a:pt x="2848" y="923"/>
                          <a:pt x="2864" y="930"/>
                        </a:cubicBezTo>
                        <a:cubicBezTo>
                          <a:pt x="2963" y="974"/>
                          <a:pt x="3076" y="1001"/>
                          <a:pt x="3179" y="1035"/>
                        </a:cubicBezTo>
                        <a:cubicBezTo>
                          <a:pt x="3213" y="1046"/>
                          <a:pt x="3249" y="1044"/>
                          <a:pt x="3284" y="1050"/>
                        </a:cubicBezTo>
                        <a:cubicBezTo>
                          <a:pt x="3369" y="1065"/>
                          <a:pt x="3454" y="1078"/>
                          <a:pt x="3539" y="1095"/>
                        </a:cubicBezTo>
                        <a:cubicBezTo>
                          <a:pt x="3654" y="1090"/>
                          <a:pt x="3770" y="1099"/>
                          <a:pt x="3884" y="1080"/>
                        </a:cubicBezTo>
                        <a:cubicBezTo>
                          <a:pt x="3900" y="1077"/>
                          <a:pt x="3899" y="1051"/>
                          <a:pt x="3899" y="1035"/>
                        </a:cubicBezTo>
                        <a:cubicBezTo>
                          <a:pt x="3899" y="993"/>
                          <a:pt x="3874" y="975"/>
                          <a:pt x="3839" y="960"/>
                        </a:cubicBezTo>
                        <a:cubicBezTo>
                          <a:pt x="3710" y="903"/>
                          <a:pt x="3631" y="910"/>
                          <a:pt x="3479" y="900"/>
                        </a:cubicBezTo>
                        <a:cubicBezTo>
                          <a:pt x="3449" y="890"/>
                          <a:pt x="3419" y="880"/>
                          <a:pt x="3389" y="870"/>
                        </a:cubicBezTo>
                        <a:cubicBezTo>
                          <a:pt x="3374" y="865"/>
                          <a:pt x="3359" y="860"/>
                          <a:pt x="3344" y="855"/>
                        </a:cubicBezTo>
                        <a:cubicBezTo>
                          <a:pt x="3329" y="850"/>
                          <a:pt x="3299" y="840"/>
                          <a:pt x="3299" y="840"/>
                        </a:cubicBezTo>
                        <a:cubicBezTo>
                          <a:pt x="3232" y="739"/>
                          <a:pt x="3311" y="838"/>
                          <a:pt x="3224" y="780"/>
                        </a:cubicBezTo>
                        <a:cubicBezTo>
                          <a:pt x="3206" y="768"/>
                          <a:pt x="3196" y="748"/>
                          <a:pt x="3179" y="735"/>
                        </a:cubicBezTo>
                        <a:cubicBezTo>
                          <a:pt x="3009" y="603"/>
                          <a:pt x="3153" y="714"/>
                          <a:pt x="3044" y="660"/>
                        </a:cubicBezTo>
                        <a:cubicBezTo>
                          <a:pt x="3028" y="652"/>
                          <a:pt x="3015" y="637"/>
                          <a:pt x="2999" y="630"/>
                        </a:cubicBezTo>
                        <a:cubicBezTo>
                          <a:pt x="2903" y="587"/>
                          <a:pt x="2909" y="606"/>
                          <a:pt x="2804" y="585"/>
                        </a:cubicBezTo>
                        <a:cubicBezTo>
                          <a:pt x="2724" y="569"/>
                          <a:pt x="2643" y="545"/>
                          <a:pt x="2564" y="525"/>
                        </a:cubicBezTo>
                        <a:cubicBezTo>
                          <a:pt x="2549" y="521"/>
                          <a:pt x="2533" y="518"/>
                          <a:pt x="2519" y="510"/>
                        </a:cubicBezTo>
                        <a:cubicBezTo>
                          <a:pt x="2487" y="492"/>
                          <a:pt x="2463" y="461"/>
                          <a:pt x="2429" y="450"/>
                        </a:cubicBezTo>
                        <a:cubicBezTo>
                          <a:pt x="2399" y="440"/>
                          <a:pt x="2365" y="438"/>
                          <a:pt x="2339" y="420"/>
                        </a:cubicBezTo>
                        <a:cubicBezTo>
                          <a:pt x="2324" y="410"/>
                          <a:pt x="2310" y="397"/>
                          <a:pt x="2294" y="390"/>
                        </a:cubicBezTo>
                        <a:cubicBezTo>
                          <a:pt x="2108" y="307"/>
                          <a:pt x="2301" y="425"/>
                          <a:pt x="2114" y="300"/>
                        </a:cubicBezTo>
                        <a:cubicBezTo>
                          <a:pt x="2040" y="250"/>
                          <a:pt x="1968" y="219"/>
                          <a:pt x="1889" y="180"/>
                        </a:cubicBezTo>
                        <a:cubicBezTo>
                          <a:pt x="1812" y="142"/>
                          <a:pt x="1747" y="103"/>
                          <a:pt x="1664" y="75"/>
                        </a:cubicBezTo>
                        <a:cubicBezTo>
                          <a:pt x="1619" y="60"/>
                          <a:pt x="1574" y="45"/>
                          <a:pt x="1529" y="30"/>
                        </a:cubicBezTo>
                        <a:cubicBezTo>
                          <a:pt x="1514" y="25"/>
                          <a:pt x="1499" y="20"/>
                          <a:pt x="1484" y="15"/>
                        </a:cubicBezTo>
                        <a:cubicBezTo>
                          <a:pt x="1469" y="10"/>
                          <a:pt x="1439" y="0"/>
                          <a:pt x="1439" y="0"/>
                        </a:cubicBezTo>
                        <a:cubicBezTo>
                          <a:pt x="1354" y="5"/>
                          <a:pt x="1268" y="4"/>
                          <a:pt x="1184" y="15"/>
                        </a:cubicBezTo>
                        <a:cubicBezTo>
                          <a:pt x="1137" y="21"/>
                          <a:pt x="1094" y="45"/>
                          <a:pt x="1049" y="60"/>
                        </a:cubicBezTo>
                        <a:cubicBezTo>
                          <a:pt x="1034" y="65"/>
                          <a:pt x="1004" y="75"/>
                          <a:pt x="1004" y="75"/>
                        </a:cubicBezTo>
                        <a:close/>
                      </a:path>
                    </a:pathLst>
                  </a:custGeom>
                  <a:solidFill>
                    <a:srgbClr val="b19be7"/>
                  </a:solidFill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>
                    <a:off x="4648320" y="2658240"/>
                    <a:ext cx="4400280" cy="860760"/>
                  </a:xfrm>
                  <a:custGeom>
                    <a:avLst/>
                    <a:gdLst/>
                    <a:ahLst/>
                    <a:rect l="l" t="t" r="r" b="b"/>
                    <a:pathLst>
                      <a:path w="6166" h="1012">
                        <a:moveTo>
                          <a:pt x="78" y="30"/>
                        </a:moveTo>
                        <a:cubicBezTo>
                          <a:pt x="68" y="60"/>
                          <a:pt x="58" y="90"/>
                          <a:pt x="48" y="120"/>
                        </a:cubicBezTo>
                        <a:cubicBezTo>
                          <a:pt x="42" y="137"/>
                          <a:pt x="26" y="149"/>
                          <a:pt x="18" y="165"/>
                        </a:cubicBezTo>
                        <a:cubicBezTo>
                          <a:pt x="11" y="179"/>
                          <a:pt x="8" y="195"/>
                          <a:pt x="3" y="210"/>
                        </a:cubicBezTo>
                        <a:cubicBezTo>
                          <a:pt x="12" y="358"/>
                          <a:pt x="0" y="401"/>
                          <a:pt x="33" y="510"/>
                        </a:cubicBezTo>
                        <a:cubicBezTo>
                          <a:pt x="42" y="540"/>
                          <a:pt x="37" y="582"/>
                          <a:pt x="63" y="600"/>
                        </a:cubicBezTo>
                        <a:cubicBezTo>
                          <a:pt x="78" y="610"/>
                          <a:pt x="93" y="620"/>
                          <a:pt x="108" y="630"/>
                        </a:cubicBezTo>
                        <a:cubicBezTo>
                          <a:pt x="152" y="696"/>
                          <a:pt x="167" y="686"/>
                          <a:pt x="243" y="705"/>
                        </a:cubicBezTo>
                        <a:cubicBezTo>
                          <a:pt x="417" y="662"/>
                          <a:pt x="549" y="681"/>
                          <a:pt x="738" y="690"/>
                        </a:cubicBezTo>
                        <a:cubicBezTo>
                          <a:pt x="803" y="712"/>
                          <a:pt x="856" y="753"/>
                          <a:pt x="918" y="780"/>
                        </a:cubicBezTo>
                        <a:cubicBezTo>
                          <a:pt x="1001" y="817"/>
                          <a:pt x="1088" y="827"/>
                          <a:pt x="1173" y="855"/>
                        </a:cubicBezTo>
                        <a:cubicBezTo>
                          <a:pt x="1188" y="870"/>
                          <a:pt x="1204" y="884"/>
                          <a:pt x="1218" y="900"/>
                        </a:cubicBezTo>
                        <a:cubicBezTo>
                          <a:pt x="1230" y="914"/>
                          <a:pt x="1234" y="934"/>
                          <a:pt x="1248" y="945"/>
                        </a:cubicBezTo>
                        <a:cubicBezTo>
                          <a:pt x="1260" y="955"/>
                          <a:pt x="1279" y="953"/>
                          <a:pt x="1293" y="960"/>
                        </a:cubicBezTo>
                        <a:cubicBezTo>
                          <a:pt x="1397" y="1012"/>
                          <a:pt x="1273" y="974"/>
                          <a:pt x="1398" y="1005"/>
                        </a:cubicBezTo>
                        <a:cubicBezTo>
                          <a:pt x="1450" y="1001"/>
                          <a:pt x="1625" y="992"/>
                          <a:pt x="1698" y="975"/>
                        </a:cubicBezTo>
                        <a:cubicBezTo>
                          <a:pt x="1749" y="963"/>
                          <a:pt x="1797" y="943"/>
                          <a:pt x="1848" y="930"/>
                        </a:cubicBezTo>
                        <a:cubicBezTo>
                          <a:pt x="1997" y="831"/>
                          <a:pt x="2220" y="806"/>
                          <a:pt x="2388" y="750"/>
                        </a:cubicBezTo>
                        <a:cubicBezTo>
                          <a:pt x="2427" y="737"/>
                          <a:pt x="2489" y="728"/>
                          <a:pt x="2523" y="705"/>
                        </a:cubicBezTo>
                        <a:cubicBezTo>
                          <a:pt x="2538" y="695"/>
                          <a:pt x="2552" y="682"/>
                          <a:pt x="2568" y="675"/>
                        </a:cubicBezTo>
                        <a:cubicBezTo>
                          <a:pt x="2597" y="662"/>
                          <a:pt x="2658" y="645"/>
                          <a:pt x="2658" y="645"/>
                        </a:cubicBezTo>
                        <a:cubicBezTo>
                          <a:pt x="2850" y="655"/>
                          <a:pt x="2901" y="646"/>
                          <a:pt x="3048" y="675"/>
                        </a:cubicBezTo>
                        <a:cubicBezTo>
                          <a:pt x="3130" y="691"/>
                          <a:pt x="3209" y="724"/>
                          <a:pt x="3288" y="750"/>
                        </a:cubicBezTo>
                        <a:cubicBezTo>
                          <a:pt x="3350" y="771"/>
                          <a:pt x="3418" y="769"/>
                          <a:pt x="3483" y="780"/>
                        </a:cubicBezTo>
                        <a:cubicBezTo>
                          <a:pt x="3489" y="780"/>
                          <a:pt x="3666" y="782"/>
                          <a:pt x="3723" y="750"/>
                        </a:cubicBezTo>
                        <a:cubicBezTo>
                          <a:pt x="3755" y="732"/>
                          <a:pt x="3813" y="690"/>
                          <a:pt x="3813" y="690"/>
                        </a:cubicBezTo>
                        <a:cubicBezTo>
                          <a:pt x="3844" y="643"/>
                          <a:pt x="3895" y="607"/>
                          <a:pt x="3918" y="555"/>
                        </a:cubicBezTo>
                        <a:cubicBezTo>
                          <a:pt x="3959" y="462"/>
                          <a:pt x="3921" y="434"/>
                          <a:pt x="4008" y="405"/>
                        </a:cubicBezTo>
                        <a:cubicBezTo>
                          <a:pt x="4172" y="419"/>
                          <a:pt x="4326" y="457"/>
                          <a:pt x="4488" y="480"/>
                        </a:cubicBezTo>
                        <a:cubicBezTo>
                          <a:pt x="4757" y="570"/>
                          <a:pt x="4995" y="561"/>
                          <a:pt x="5283" y="570"/>
                        </a:cubicBezTo>
                        <a:cubicBezTo>
                          <a:pt x="5551" y="591"/>
                          <a:pt x="5813" y="578"/>
                          <a:pt x="6078" y="540"/>
                        </a:cubicBezTo>
                        <a:cubicBezTo>
                          <a:pt x="6108" y="494"/>
                          <a:pt x="6166" y="459"/>
                          <a:pt x="6123" y="405"/>
                        </a:cubicBezTo>
                        <a:cubicBezTo>
                          <a:pt x="6112" y="391"/>
                          <a:pt x="6093" y="385"/>
                          <a:pt x="6078" y="375"/>
                        </a:cubicBezTo>
                        <a:cubicBezTo>
                          <a:pt x="5934" y="385"/>
                          <a:pt x="5848" y="394"/>
                          <a:pt x="5718" y="420"/>
                        </a:cubicBezTo>
                        <a:cubicBezTo>
                          <a:pt x="5433" y="402"/>
                          <a:pt x="5147" y="380"/>
                          <a:pt x="4863" y="345"/>
                        </a:cubicBezTo>
                        <a:cubicBezTo>
                          <a:pt x="4739" y="304"/>
                          <a:pt x="4601" y="308"/>
                          <a:pt x="4473" y="300"/>
                        </a:cubicBezTo>
                        <a:cubicBezTo>
                          <a:pt x="4398" y="285"/>
                          <a:pt x="4265" y="267"/>
                          <a:pt x="4203" y="225"/>
                        </a:cubicBezTo>
                        <a:cubicBezTo>
                          <a:pt x="4159" y="196"/>
                          <a:pt x="4163" y="192"/>
                          <a:pt x="4113" y="180"/>
                        </a:cubicBezTo>
                        <a:cubicBezTo>
                          <a:pt x="4044" y="163"/>
                          <a:pt x="3991" y="159"/>
                          <a:pt x="3918" y="150"/>
                        </a:cubicBezTo>
                        <a:cubicBezTo>
                          <a:pt x="3863" y="155"/>
                          <a:pt x="3807" y="153"/>
                          <a:pt x="3753" y="165"/>
                        </a:cubicBezTo>
                        <a:cubicBezTo>
                          <a:pt x="3660" y="185"/>
                          <a:pt x="3686" y="375"/>
                          <a:pt x="3618" y="435"/>
                        </a:cubicBezTo>
                        <a:cubicBezTo>
                          <a:pt x="3519" y="522"/>
                          <a:pt x="3369" y="554"/>
                          <a:pt x="3243" y="585"/>
                        </a:cubicBezTo>
                        <a:cubicBezTo>
                          <a:pt x="3173" y="580"/>
                          <a:pt x="3103" y="577"/>
                          <a:pt x="3033" y="570"/>
                        </a:cubicBezTo>
                        <a:cubicBezTo>
                          <a:pt x="2950" y="561"/>
                          <a:pt x="2873" y="528"/>
                          <a:pt x="2793" y="510"/>
                        </a:cubicBezTo>
                        <a:cubicBezTo>
                          <a:pt x="2700" y="489"/>
                          <a:pt x="2599" y="480"/>
                          <a:pt x="2508" y="450"/>
                        </a:cubicBezTo>
                        <a:cubicBezTo>
                          <a:pt x="2363" y="455"/>
                          <a:pt x="2218" y="456"/>
                          <a:pt x="2073" y="465"/>
                        </a:cubicBezTo>
                        <a:cubicBezTo>
                          <a:pt x="1947" y="473"/>
                          <a:pt x="1822" y="530"/>
                          <a:pt x="1698" y="555"/>
                        </a:cubicBezTo>
                        <a:cubicBezTo>
                          <a:pt x="1669" y="552"/>
                          <a:pt x="1498" y="534"/>
                          <a:pt x="1458" y="525"/>
                        </a:cubicBezTo>
                        <a:cubicBezTo>
                          <a:pt x="1264" y="480"/>
                          <a:pt x="1081" y="393"/>
                          <a:pt x="888" y="345"/>
                        </a:cubicBezTo>
                        <a:cubicBezTo>
                          <a:pt x="726" y="305"/>
                          <a:pt x="566" y="248"/>
                          <a:pt x="408" y="195"/>
                        </a:cubicBezTo>
                        <a:cubicBezTo>
                          <a:pt x="374" y="184"/>
                          <a:pt x="348" y="155"/>
                          <a:pt x="318" y="135"/>
                        </a:cubicBezTo>
                        <a:cubicBezTo>
                          <a:pt x="245" y="87"/>
                          <a:pt x="176" y="28"/>
                          <a:pt x="93" y="0"/>
                        </a:cubicBezTo>
                        <a:cubicBezTo>
                          <a:pt x="78" y="5"/>
                          <a:pt x="56" y="1"/>
                          <a:pt x="48" y="15"/>
                        </a:cubicBezTo>
                        <a:cubicBezTo>
                          <a:pt x="33" y="41"/>
                          <a:pt x="6" y="91"/>
                          <a:pt x="33" y="105"/>
                        </a:cubicBezTo>
                        <a:cubicBezTo>
                          <a:pt x="59" y="118"/>
                          <a:pt x="63" y="55"/>
                          <a:pt x="78" y="30"/>
                        </a:cubicBezTo>
                        <a:close/>
                      </a:path>
                    </a:pathLst>
                  </a:custGeom>
                  <a:solidFill>
                    <a:srgbClr val="004400"/>
                  </a:solidFill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0" name=""/>
                  <p:cNvSpPr/>
                  <p:nvPr/>
                </p:nvSpPr>
                <p:spPr>
                  <a:xfrm>
                    <a:off x="7494840" y="2781360"/>
                    <a:ext cx="764640" cy="271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00" h="333">
                        <a:moveTo>
                          <a:pt x="282" y="93"/>
                        </a:moveTo>
                        <a:cubicBezTo>
                          <a:pt x="267" y="88"/>
                          <a:pt x="244" y="92"/>
                          <a:pt x="237" y="78"/>
                        </a:cubicBezTo>
                        <a:cubicBezTo>
                          <a:pt x="214" y="32"/>
                          <a:pt x="280" y="24"/>
                          <a:pt x="297" y="18"/>
                        </a:cubicBezTo>
                        <a:cubicBezTo>
                          <a:pt x="399" y="33"/>
                          <a:pt x="496" y="51"/>
                          <a:pt x="582" y="108"/>
                        </a:cubicBezTo>
                        <a:cubicBezTo>
                          <a:pt x="586" y="107"/>
                          <a:pt x="687" y="90"/>
                          <a:pt x="702" y="78"/>
                        </a:cubicBezTo>
                        <a:cubicBezTo>
                          <a:pt x="799" y="0"/>
                          <a:pt x="664" y="56"/>
                          <a:pt x="777" y="18"/>
                        </a:cubicBezTo>
                        <a:cubicBezTo>
                          <a:pt x="884" y="54"/>
                          <a:pt x="841" y="30"/>
                          <a:pt x="912" y="78"/>
                        </a:cubicBezTo>
                        <a:cubicBezTo>
                          <a:pt x="938" y="155"/>
                          <a:pt x="970" y="187"/>
                          <a:pt x="1047" y="213"/>
                        </a:cubicBezTo>
                        <a:cubicBezTo>
                          <a:pt x="1053" y="222"/>
                          <a:pt x="1100" y="284"/>
                          <a:pt x="1092" y="303"/>
                        </a:cubicBezTo>
                        <a:cubicBezTo>
                          <a:pt x="1085" y="320"/>
                          <a:pt x="1062" y="323"/>
                          <a:pt x="1047" y="333"/>
                        </a:cubicBezTo>
                        <a:cubicBezTo>
                          <a:pt x="966" y="306"/>
                          <a:pt x="903" y="270"/>
                          <a:pt x="822" y="243"/>
                        </a:cubicBezTo>
                        <a:cubicBezTo>
                          <a:pt x="807" y="238"/>
                          <a:pt x="792" y="233"/>
                          <a:pt x="777" y="228"/>
                        </a:cubicBezTo>
                        <a:cubicBezTo>
                          <a:pt x="762" y="223"/>
                          <a:pt x="732" y="213"/>
                          <a:pt x="732" y="213"/>
                        </a:cubicBezTo>
                        <a:cubicBezTo>
                          <a:pt x="682" y="230"/>
                          <a:pt x="632" y="241"/>
                          <a:pt x="582" y="258"/>
                        </a:cubicBezTo>
                        <a:cubicBezTo>
                          <a:pt x="500" y="242"/>
                          <a:pt x="424" y="214"/>
                          <a:pt x="342" y="198"/>
                        </a:cubicBezTo>
                        <a:cubicBezTo>
                          <a:pt x="322" y="203"/>
                          <a:pt x="302" y="207"/>
                          <a:pt x="282" y="213"/>
                        </a:cubicBezTo>
                        <a:cubicBezTo>
                          <a:pt x="252" y="222"/>
                          <a:pt x="192" y="243"/>
                          <a:pt x="192" y="243"/>
                        </a:cubicBezTo>
                        <a:cubicBezTo>
                          <a:pt x="175" y="240"/>
                          <a:pt x="0" y="240"/>
                          <a:pt x="72" y="168"/>
                        </a:cubicBezTo>
                        <a:cubicBezTo>
                          <a:pt x="83" y="157"/>
                          <a:pt x="102" y="158"/>
                          <a:pt x="117" y="153"/>
                        </a:cubicBezTo>
                        <a:cubicBezTo>
                          <a:pt x="195" y="179"/>
                          <a:pt x="227" y="148"/>
                          <a:pt x="282" y="93"/>
                        </a:cubicBezTo>
                        <a:close/>
                      </a:path>
                    </a:pathLst>
                  </a:custGeom>
                  <a:solidFill>
                    <a:srgbClr val="008000"/>
                  </a:solidFill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6730200" y="2864520"/>
                    <a:ext cx="764640" cy="271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00" h="333">
                        <a:moveTo>
                          <a:pt x="282" y="93"/>
                        </a:moveTo>
                        <a:cubicBezTo>
                          <a:pt x="267" y="88"/>
                          <a:pt x="244" y="92"/>
                          <a:pt x="237" y="78"/>
                        </a:cubicBezTo>
                        <a:cubicBezTo>
                          <a:pt x="214" y="32"/>
                          <a:pt x="280" y="24"/>
                          <a:pt x="297" y="18"/>
                        </a:cubicBezTo>
                        <a:cubicBezTo>
                          <a:pt x="399" y="33"/>
                          <a:pt x="496" y="51"/>
                          <a:pt x="582" y="108"/>
                        </a:cubicBezTo>
                        <a:cubicBezTo>
                          <a:pt x="586" y="107"/>
                          <a:pt x="687" y="90"/>
                          <a:pt x="702" y="78"/>
                        </a:cubicBezTo>
                        <a:cubicBezTo>
                          <a:pt x="799" y="0"/>
                          <a:pt x="664" y="56"/>
                          <a:pt x="777" y="18"/>
                        </a:cubicBezTo>
                        <a:cubicBezTo>
                          <a:pt x="884" y="54"/>
                          <a:pt x="841" y="30"/>
                          <a:pt x="912" y="78"/>
                        </a:cubicBezTo>
                        <a:cubicBezTo>
                          <a:pt x="938" y="155"/>
                          <a:pt x="970" y="187"/>
                          <a:pt x="1047" y="213"/>
                        </a:cubicBezTo>
                        <a:cubicBezTo>
                          <a:pt x="1053" y="222"/>
                          <a:pt x="1100" y="284"/>
                          <a:pt x="1092" y="303"/>
                        </a:cubicBezTo>
                        <a:cubicBezTo>
                          <a:pt x="1085" y="320"/>
                          <a:pt x="1062" y="323"/>
                          <a:pt x="1047" y="333"/>
                        </a:cubicBezTo>
                        <a:cubicBezTo>
                          <a:pt x="966" y="306"/>
                          <a:pt x="903" y="270"/>
                          <a:pt x="822" y="243"/>
                        </a:cubicBezTo>
                        <a:cubicBezTo>
                          <a:pt x="807" y="238"/>
                          <a:pt x="792" y="233"/>
                          <a:pt x="777" y="228"/>
                        </a:cubicBezTo>
                        <a:cubicBezTo>
                          <a:pt x="762" y="223"/>
                          <a:pt x="732" y="213"/>
                          <a:pt x="732" y="213"/>
                        </a:cubicBezTo>
                        <a:cubicBezTo>
                          <a:pt x="682" y="230"/>
                          <a:pt x="632" y="241"/>
                          <a:pt x="582" y="258"/>
                        </a:cubicBezTo>
                        <a:cubicBezTo>
                          <a:pt x="500" y="242"/>
                          <a:pt x="424" y="214"/>
                          <a:pt x="342" y="198"/>
                        </a:cubicBezTo>
                        <a:cubicBezTo>
                          <a:pt x="322" y="203"/>
                          <a:pt x="302" y="207"/>
                          <a:pt x="282" y="213"/>
                        </a:cubicBezTo>
                        <a:cubicBezTo>
                          <a:pt x="252" y="222"/>
                          <a:pt x="192" y="243"/>
                          <a:pt x="192" y="243"/>
                        </a:cubicBezTo>
                        <a:cubicBezTo>
                          <a:pt x="175" y="240"/>
                          <a:pt x="0" y="240"/>
                          <a:pt x="72" y="168"/>
                        </a:cubicBezTo>
                        <a:cubicBezTo>
                          <a:pt x="83" y="157"/>
                          <a:pt x="102" y="158"/>
                          <a:pt x="117" y="153"/>
                        </a:cubicBezTo>
                        <a:cubicBezTo>
                          <a:pt x="195" y="179"/>
                          <a:pt x="227" y="148"/>
                          <a:pt x="282" y="93"/>
                        </a:cubicBezTo>
                        <a:close/>
                      </a:path>
                    </a:pathLst>
                  </a:custGeom>
                  <a:solidFill>
                    <a:srgbClr val="008000"/>
                  </a:solidFill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5586480" y="2096280"/>
                    <a:ext cx="1032840" cy="56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486" h="690">
                        <a:moveTo>
                          <a:pt x="529" y="15"/>
                        </a:moveTo>
                        <a:cubicBezTo>
                          <a:pt x="495" y="117"/>
                          <a:pt x="481" y="106"/>
                          <a:pt x="394" y="150"/>
                        </a:cubicBezTo>
                        <a:cubicBezTo>
                          <a:pt x="278" y="208"/>
                          <a:pt x="417" y="157"/>
                          <a:pt x="304" y="195"/>
                        </a:cubicBezTo>
                        <a:cubicBezTo>
                          <a:pt x="294" y="210"/>
                          <a:pt x="288" y="229"/>
                          <a:pt x="274" y="240"/>
                        </a:cubicBezTo>
                        <a:cubicBezTo>
                          <a:pt x="262" y="250"/>
                          <a:pt x="243" y="248"/>
                          <a:pt x="229" y="255"/>
                        </a:cubicBezTo>
                        <a:cubicBezTo>
                          <a:pt x="184" y="278"/>
                          <a:pt x="136" y="302"/>
                          <a:pt x="94" y="330"/>
                        </a:cubicBezTo>
                        <a:cubicBezTo>
                          <a:pt x="44" y="405"/>
                          <a:pt x="0" y="427"/>
                          <a:pt x="49" y="525"/>
                        </a:cubicBezTo>
                        <a:cubicBezTo>
                          <a:pt x="56" y="539"/>
                          <a:pt x="79" y="536"/>
                          <a:pt x="94" y="540"/>
                        </a:cubicBezTo>
                        <a:cubicBezTo>
                          <a:pt x="114" y="546"/>
                          <a:pt x="134" y="550"/>
                          <a:pt x="154" y="555"/>
                        </a:cubicBezTo>
                        <a:cubicBezTo>
                          <a:pt x="159" y="570"/>
                          <a:pt x="161" y="586"/>
                          <a:pt x="169" y="600"/>
                        </a:cubicBezTo>
                        <a:cubicBezTo>
                          <a:pt x="187" y="632"/>
                          <a:pt x="229" y="690"/>
                          <a:pt x="229" y="690"/>
                        </a:cubicBezTo>
                        <a:cubicBezTo>
                          <a:pt x="299" y="585"/>
                          <a:pt x="259" y="620"/>
                          <a:pt x="334" y="570"/>
                        </a:cubicBezTo>
                        <a:cubicBezTo>
                          <a:pt x="361" y="490"/>
                          <a:pt x="356" y="448"/>
                          <a:pt x="439" y="420"/>
                        </a:cubicBezTo>
                        <a:cubicBezTo>
                          <a:pt x="495" y="431"/>
                          <a:pt x="582" y="457"/>
                          <a:pt x="634" y="420"/>
                        </a:cubicBezTo>
                        <a:cubicBezTo>
                          <a:pt x="660" y="402"/>
                          <a:pt x="634" y="340"/>
                          <a:pt x="664" y="330"/>
                        </a:cubicBezTo>
                        <a:cubicBezTo>
                          <a:pt x="679" y="325"/>
                          <a:pt x="694" y="320"/>
                          <a:pt x="709" y="315"/>
                        </a:cubicBezTo>
                        <a:cubicBezTo>
                          <a:pt x="724" y="320"/>
                          <a:pt x="742" y="320"/>
                          <a:pt x="754" y="330"/>
                        </a:cubicBezTo>
                        <a:cubicBezTo>
                          <a:pt x="788" y="357"/>
                          <a:pt x="788" y="398"/>
                          <a:pt x="799" y="435"/>
                        </a:cubicBezTo>
                        <a:cubicBezTo>
                          <a:pt x="824" y="523"/>
                          <a:pt x="800" y="437"/>
                          <a:pt x="844" y="525"/>
                        </a:cubicBezTo>
                        <a:cubicBezTo>
                          <a:pt x="851" y="539"/>
                          <a:pt x="850" y="557"/>
                          <a:pt x="859" y="570"/>
                        </a:cubicBezTo>
                        <a:cubicBezTo>
                          <a:pt x="892" y="620"/>
                          <a:pt x="947" y="628"/>
                          <a:pt x="994" y="660"/>
                        </a:cubicBezTo>
                        <a:cubicBezTo>
                          <a:pt x="1019" y="585"/>
                          <a:pt x="1014" y="630"/>
                          <a:pt x="979" y="525"/>
                        </a:cubicBezTo>
                        <a:cubicBezTo>
                          <a:pt x="974" y="510"/>
                          <a:pt x="964" y="480"/>
                          <a:pt x="964" y="480"/>
                        </a:cubicBezTo>
                        <a:cubicBezTo>
                          <a:pt x="1004" y="475"/>
                          <a:pt x="1058" y="496"/>
                          <a:pt x="1084" y="465"/>
                        </a:cubicBezTo>
                        <a:cubicBezTo>
                          <a:pt x="1105" y="441"/>
                          <a:pt x="1054" y="375"/>
                          <a:pt x="1054" y="375"/>
                        </a:cubicBezTo>
                        <a:cubicBezTo>
                          <a:pt x="1059" y="355"/>
                          <a:pt x="1056" y="331"/>
                          <a:pt x="1069" y="315"/>
                        </a:cubicBezTo>
                        <a:cubicBezTo>
                          <a:pt x="1107" y="268"/>
                          <a:pt x="1229" y="336"/>
                          <a:pt x="1264" y="360"/>
                        </a:cubicBezTo>
                        <a:cubicBezTo>
                          <a:pt x="1312" y="431"/>
                          <a:pt x="1277" y="399"/>
                          <a:pt x="1384" y="435"/>
                        </a:cubicBezTo>
                        <a:cubicBezTo>
                          <a:pt x="1399" y="440"/>
                          <a:pt x="1429" y="450"/>
                          <a:pt x="1429" y="450"/>
                        </a:cubicBezTo>
                        <a:cubicBezTo>
                          <a:pt x="1444" y="445"/>
                          <a:pt x="1468" y="450"/>
                          <a:pt x="1474" y="435"/>
                        </a:cubicBezTo>
                        <a:cubicBezTo>
                          <a:pt x="1486" y="406"/>
                          <a:pt x="1430" y="309"/>
                          <a:pt x="1414" y="285"/>
                        </a:cubicBezTo>
                        <a:cubicBezTo>
                          <a:pt x="1426" y="248"/>
                          <a:pt x="1445" y="219"/>
                          <a:pt x="1414" y="180"/>
                        </a:cubicBezTo>
                        <a:cubicBezTo>
                          <a:pt x="1404" y="168"/>
                          <a:pt x="1384" y="170"/>
                          <a:pt x="1369" y="165"/>
                        </a:cubicBezTo>
                        <a:cubicBezTo>
                          <a:pt x="1354" y="150"/>
                          <a:pt x="1342" y="132"/>
                          <a:pt x="1324" y="120"/>
                        </a:cubicBezTo>
                        <a:cubicBezTo>
                          <a:pt x="1311" y="111"/>
                          <a:pt x="1228" y="93"/>
                          <a:pt x="1219" y="90"/>
                        </a:cubicBezTo>
                        <a:cubicBezTo>
                          <a:pt x="1150" y="70"/>
                          <a:pt x="1078" y="64"/>
                          <a:pt x="1009" y="45"/>
                        </a:cubicBezTo>
                        <a:cubicBezTo>
                          <a:pt x="978" y="37"/>
                          <a:pt x="949" y="25"/>
                          <a:pt x="919" y="15"/>
                        </a:cubicBezTo>
                        <a:cubicBezTo>
                          <a:pt x="904" y="10"/>
                          <a:pt x="874" y="0"/>
                          <a:pt x="874" y="0"/>
                        </a:cubicBezTo>
                        <a:cubicBezTo>
                          <a:pt x="769" y="5"/>
                          <a:pt x="663" y="2"/>
                          <a:pt x="559" y="15"/>
                        </a:cubicBezTo>
                        <a:cubicBezTo>
                          <a:pt x="541" y="17"/>
                          <a:pt x="532" y="45"/>
                          <a:pt x="514" y="45"/>
                        </a:cubicBezTo>
                        <a:cubicBezTo>
                          <a:pt x="503" y="45"/>
                          <a:pt x="524" y="25"/>
                          <a:pt x="529" y="15"/>
                        </a:cubicBezTo>
                        <a:close/>
                      </a:path>
                    </a:pathLst>
                  </a:custGeom>
                  <a:solidFill>
                    <a:srgbClr val="ffffff"/>
                  </a:solidFill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7208280" y="2186640"/>
                    <a:ext cx="1141200" cy="20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642" h="246">
                        <a:moveTo>
                          <a:pt x="22" y="30"/>
                        </a:moveTo>
                        <a:cubicBezTo>
                          <a:pt x="129" y="66"/>
                          <a:pt x="0" y="15"/>
                          <a:pt x="112" y="90"/>
                        </a:cubicBezTo>
                        <a:cubicBezTo>
                          <a:pt x="125" y="99"/>
                          <a:pt x="143" y="98"/>
                          <a:pt x="157" y="105"/>
                        </a:cubicBezTo>
                        <a:cubicBezTo>
                          <a:pt x="173" y="113"/>
                          <a:pt x="186" y="128"/>
                          <a:pt x="202" y="135"/>
                        </a:cubicBezTo>
                        <a:cubicBezTo>
                          <a:pt x="231" y="148"/>
                          <a:pt x="292" y="165"/>
                          <a:pt x="292" y="165"/>
                        </a:cubicBezTo>
                        <a:cubicBezTo>
                          <a:pt x="432" y="151"/>
                          <a:pt x="572" y="134"/>
                          <a:pt x="712" y="120"/>
                        </a:cubicBezTo>
                        <a:cubicBezTo>
                          <a:pt x="792" y="125"/>
                          <a:pt x="872" y="127"/>
                          <a:pt x="952" y="135"/>
                        </a:cubicBezTo>
                        <a:cubicBezTo>
                          <a:pt x="1006" y="141"/>
                          <a:pt x="993" y="158"/>
                          <a:pt x="1042" y="180"/>
                        </a:cubicBezTo>
                        <a:cubicBezTo>
                          <a:pt x="1071" y="193"/>
                          <a:pt x="1102" y="200"/>
                          <a:pt x="1132" y="210"/>
                        </a:cubicBezTo>
                        <a:cubicBezTo>
                          <a:pt x="1207" y="235"/>
                          <a:pt x="1276" y="233"/>
                          <a:pt x="1357" y="240"/>
                        </a:cubicBezTo>
                        <a:cubicBezTo>
                          <a:pt x="1447" y="235"/>
                          <a:pt x="1539" y="246"/>
                          <a:pt x="1627" y="225"/>
                        </a:cubicBezTo>
                        <a:cubicBezTo>
                          <a:pt x="1642" y="221"/>
                          <a:pt x="1623" y="191"/>
                          <a:pt x="1612" y="180"/>
                        </a:cubicBezTo>
                        <a:cubicBezTo>
                          <a:pt x="1601" y="169"/>
                          <a:pt x="1582" y="169"/>
                          <a:pt x="1567" y="165"/>
                        </a:cubicBezTo>
                        <a:cubicBezTo>
                          <a:pt x="1468" y="140"/>
                          <a:pt x="1415" y="144"/>
                          <a:pt x="1297" y="135"/>
                        </a:cubicBezTo>
                        <a:cubicBezTo>
                          <a:pt x="1115" y="105"/>
                          <a:pt x="937" y="66"/>
                          <a:pt x="757" y="30"/>
                        </a:cubicBezTo>
                        <a:cubicBezTo>
                          <a:pt x="519" y="44"/>
                          <a:pt x="506" y="55"/>
                          <a:pt x="277" y="30"/>
                        </a:cubicBezTo>
                        <a:cubicBezTo>
                          <a:pt x="217" y="23"/>
                          <a:pt x="97" y="0"/>
                          <a:pt x="97" y="0"/>
                        </a:cubicBezTo>
                        <a:cubicBezTo>
                          <a:pt x="30" y="17"/>
                          <a:pt x="52" y="0"/>
                          <a:pt x="22" y="3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99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975720" y="2001600"/>
                    <a:ext cx="1575000" cy="30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266" h="375">
                        <a:moveTo>
                          <a:pt x="315" y="90"/>
                        </a:moveTo>
                        <a:cubicBezTo>
                          <a:pt x="381" y="68"/>
                          <a:pt x="429" y="22"/>
                          <a:pt x="495" y="0"/>
                        </a:cubicBezTo>
                        <a:cubicBezTo>
                          <a:pt x="580" y="5"/>
                          <a:pt x="665" y="7"/>
                          <a:pt x="750" y="15"/>
                        </a:cubicBezTo>
                        <a:cubicBezTo>
                          <a:pt x="865" y="26"/>
                          <a:pt x="982" y="92"/>
                          <a:pt x="1095" y="120"/>
                        </a:cubicBezTo>
                        <a:cubicBezTo>
                          <a:pt x="1338" y="106"/>
                          <a:pt x="1572" y="73"/>
                          <a:pt x="1815" y="60"/>
                        </a:cubicBezTo>
                        <a:cubicBezTo>
                          <a:pt x="1960" y="65"/>
                          <a:pt x="2106" y="54"/>
                          <a:pt x="2250" y="75"/>
                        </a:cubicBezTo>
                        <a:cubicBezTo>
                          <a:pt x="2266" y="77"/>
                          <a:pt x="2245" y="108"/>
                          <a:pt x="2235" y="120"/>
                        </a:cubicBezTo>
                        <a:cubicBezTo>
                          <a:pt x="2204" y="158"/>
                          <a:pt x="2100" y="180"/>
                          <a:pt x="2100" y="180"/>
                        </a:cubicBezTo>
                        <a:cubicBezTo>
                          <a:pt x="2090" y="195"/>
                          <a:pt x="2059" y="211"/>
                          <a:pt x="2070" y="225"/>
                        </a:cubicBezTo>
                        <a:cubicBezTo>
                          <a:pt x="2085" y="245"/>
                          <a:pt x="2120" y="234"/>
                          <a:pt x="2145" y="240"/>
                        </a:cubicBezTo>
                        <a:cubicBezTo>
                          <a:pt x="2160" y="244"/>
                          <a:pt x="2175" y="250"/>
                          <a:pt x="2190" y="255"/>
                        </a:cubicBezTo>
                        <a:cubicBezTo>
                          <a:pt x="2200" y="270"/>
                          <a:pt x="2217" y="282"/>
                          <a:pt x="2220" y="300"/>
                        </a:cubicBezTo>
                        <a:cubicBezTo>
                          <a:pt x="2231" y="365"/>
                          <a:pt x="2140" y="362"/>
                          <a:pt x="2100" y="375"/>
                        </a:cubicBezTo>
                        <a:cubicBezTo>
                          <a:pt x="1989" y="365"/>
                          <a:pt x="1893" y="352"/>
                          <a:pt x="1785" y="330"/>
                        </a:cubicBezTo>
                        <a:cubicBezTo>
                          <a:pt x="1721" y="317"/>
                          <a:pt x="1653" y="273"/>
                          <a:pt x="1590" y="270"/>
                        </a:cubicBezTo>
                        <a:cubicBezTo>
                          <a:pt x="1465" y="265"/>
                          <a:pt x="1340" y="260"/>
                          <a:pt x="1215" y="255"/>
                        </a:cubicBezTo>
                        <a:cubicBezTo>
                          <a:pt x="1095" y="225"/>
                          <a:pt x="994" y="196"/>
                          <a:pt x="870" y="180"/>
                        </a:cubicBezTo>
                        <a:cubicBezTo>
                          <a:pt x="784" y="192"/>
                          <a:pt x="699" y="204"/>
                          <a:pt x="615" y="225"/>
                        </a:cubicBezTo>
                        <a:cubicBezTo>
                          <a:pt x="535" y="220"/>
                          <a:pt x="455" y="218"/>
                          <a:pt x="375" y="210"/>
                        </a:cubicBezTo>
                        <a:cubicBezTo>
                          <a:pt x="354" y="208"/>
                          <a:pt x="335" y="201"/>
                          <a:pt x="315" y="195"/>
                        </a:cubicBezTo>
                        <a:cubicBezTo>
                          <a:pt x="285" y="186"/>
                          <a:pt x="225" y="165"/>
                          <a:pt x="225" y="165"/>
                        </a:cubicBezTo>
                        <a:cubicBezTo>
                          <a:pt x="122" y="180"/>
                          <a:pt x="97" y="199"/>
                          <a:pt x="0" y="180"/>
                        </a:cubicBezTo>
                        <a:cubicBezTo>
                          <a:pt x="15" y="170"/>
                          <a:pt x="28" y="155"/>
                          <a:pt x="45" y="150"/>
                        </a:cubicBezTo>
                        <a:cubicBezTo>
                          <a:pt x="84" y="139"/>
                          <a:pt x="125" y="142"/>
                          <a:pt x="165" y="135"/>
                        </a:cubicBezTo>
                        <a:cubicBezTo>
                          <a:pt x="224" y="124"/>
                          <a:pt x="200" y="117"/>
                          <a:pt x="255" y="90"/>
                        </a:cubicBezTo>
                        <a:cubicBezTo>
                          <a:pt x="301" y="67"/>
                          <a:pt x="291" y="66"/>
                          <a:pt x="315" y="9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5a5a5"/>
                      </a:gs>
                      <a:gs pos="100000">
                        <a:srgbClr val="ffcc99"/>
                      </a:gs>
                    </a:gsLst>
                    <a:lin ang="5400000"/>
                  </a:gradFill>
                  <a:ln w="93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65" name=""/>
                <p:cNvSpPr/>
                <p:nvPr/>
              </p:nvSpPr>
              <p:spPr>
                <a:xfrm>
                  <a:off x="4735800" y="2668680"/>
                  <a:ext cx="1042560" cy="612360"/>
                </a:xfrm>
                <a:custGeom>
                  <a:avLst/>
                  <a:gdLst/>
                  <a:ahLst/>
                  <a:rect l="l" t="t" r="r" b="b"/>
                  <a:pathLst>
                    <a:path w="1500" h="752">
                      <a:moveTo>
                        <a:pt x="0" y="15"/>
                      </a:moveTo>
                      <a:cubicBezTo>
                        <a:pt x="28" y="99"/>
                        <a:pt x="46" y="214"/>
                        <a:pt x="105" y="285"/>
                      </a:cubicBezTo>
                      <a:cubicBezTo>
                        <a:pt x="119" y="301"/>
                        <a:pt x="130" y="324"/>
                        <a:pt x="150" y="330"/>
                      </a:cubicBezTo>
                      <a:cubicBezTo>
                        <a:pt x="198" y="345"/>
                        <a:pt x="250" y="340"/>
                        <a:pt x="300" y="345"/>
                      </a:cubicBezTo>
                      <a:cubicBezTo>
                        <a:pt x="315" y="350"/>
                        <a:pt x="334" y="349"/>
                        <a:pt x="345" y="360"/>
                      </a:cubicBezTo>
                      <a:cubicBezTo>
                        <a:pt x="356" y="371"/>
                        <a:pt x="352" y="391"/>
                        <a:pt x="360" y="405"/>
                      </a:cubicBezTo>
                      <a:cubicBezTo>
                        <a:pt x="378" y="437"/>
                        <a:pt x="400" y="465"/>
                        <a:pt x="420" y="495"/>
                      </a:cubicBezTo>
                      <a:cubicBezTo>
                        <a:pt x="437" y="520"/>
                        <a:pt x="484" y="531"/>
                        <a:pt x="510" y="540"/>
                      </a:cubicBezTo>
                      <a:cubicBezTo>
                        <a:pt x="589" y="514"/>
                        <a:pt x="542" y="534"/>
                        <a:pt x="645" y="465"/>
                      </a:cubicBezTo>
                      <a:cubicBezTo>
                        <a:pt x="660" y="455"/>
                        <a:pt x="672" y="436"/>
                        <a:pt x="690" y="435"/>
                      </a:cubicBezTo>
                      <a:cubicBezTo>
                        <a:pt x="765" y="430"/>
                        <a:pt x="840" y="425"/>
                        <a:pt x="915" y="420"/>
                      </a:cubicBezTo>
                      <a:cubicBezTo>
                        <a:pt x="925" y="405"/>
                        <a:pt x="927" y="375"/>
                        <a:pt x="945" y="375"/>
                      </a:cubicBezTo>
                      <a:cubicBezTo>
                        <a:pt x="961" y="375"/>
                        <a:pt x="956" y="405"/>
                        <a:pt x="960" y="420"/>
                      </a:cubicBezTo>
                      <a:cubicBezTo>
                        <a:pt x="960" y="421"/>
                        <a:pt x="983" y="518"/>
                        <a:pt x="990" y="525"/>
                      </a:cubicBezTo>
                      <a:cubicBezTo>
                        <a:pt x="1056" y="591"/>
                        <a:pt x="1141" y="596"/>
                        <a:pt x="1215" y="645"/>
                      </a:cubicBezTo>
                      <a:cubicBezTo>
                        <a:pt x="1235" y="675"/>
                        <a:pt x="1255" y="705"/>
                        <a:pt x="1275" y="735"/>
                      </a:cubicBezTo>
                      <a:cubicBezTo>
                        <a:pt x="1286" y="752"/>
                        <a:pt x="1315" y="726"/>
                        <a:pt x="1335" y="720"/>
                      </a:cubicBezTo>
                      <a:cubicBezTo>
                        <a:pt x="1365" y="711"/>
                        <a:pt x="1425" y="690"/>
                        <a:pt x="1425" y="690"/>
                      </a:cubicBezTo>
                      <a:cubicBezTo>
                        <a:pt x="1448" y="620"/>
                        <a:pt x="1461" y="569"/>
                        <a:pt x="1500" y="510"/>
                      </a:cubicBezTo>
                      <a:cubicBezTo>
                        <a:pt x="1487" y="470"/>
                        <a:pt x="1464" y="388"/>
                        <a:pt x="1425" y="375"/>
                      </a:cubicBezTo>
                      <a:cubicBezTo>
                        <a:pt x="1395" y="365"/>
                        <a:pt x="1335" y="345"/>
                        <a:pt x="1335" y="345"/>
                      </a:cubicBezTo>
                      <a:cubicBezTo>
                        <a:pt x="1308" y="263"/>
                        <a:pt x="1327" y="258"/>
                        <a:pt x="1260" y="225"/>
                      </a:cubicBezTo>
                      <a:cubicBezTo>
                        <a:pt x="1246" y="218"/>
                        <a:pt x="1230" y="215"/>
                        <a:pt x="1215" y="210"/>
                      </a:cubicBezTo>
                      <a:cubicBezTo>
                        <a:pt x="1207" y="211"/>
                        <a:pt x="1094" y="226"/>
                        <a:pt x="1080" y="240"/>
                      </a:cubicBezTo>
                      <a:cubicBezTo>
                        <a:pt x="1069" y="251"/>
                        <a:pt x="1076" y="274"/>
                        <a:pt x="1065" y="285"/>
                      </a:cubicBezTo>
                      <a:cubicBezTo>
                        <a:pt x="1054" y="296"/>
                        <a:pt x="1034" y="293"/>
                        <a:pt x="1020" y="300"/>
                      </a:cubicBezTo>
                      <a:cubicBezTo>
                        <a:pt x="1004" y="308"/>
                        <a:pt x="990" y="320"/>
                        <a:pt x="975" y="330"/>
                      </a:cubicBezTo>
                      <a:cubicBezTo>
                        <a:pt x="892" y="275"/>
                        <a:pt x="825" y="300"/>
                        <a:pt x="735" y="330"/>
                      </a:cubicBezTo>
                      <a:cubicBezTo>
                        <a:pt x="710" y="325"/>
                        <a:pt x="685" y="322"/>
                        <a:pt x="660" y="315"/>
                      </a:cubicBezTo>
                      <a:cubicBezTo>
                        <a:pt x="629" y="307"/>
                        <a:pt x="570" y="285"/>
                        <a:pt x="570" y="285"/>
                      </a:cubicBezTo>
                      <a:cubicBezTo>
                        <a:pt x="550" y="226"/>
                        <a:pt x="532" y="200"/>
                        <a:pt x="480" y="165"/>
                      </a:cubicBezTo>
                      <a:cubicBezTo>
                        <a:pt x="408" y="57"/>
                        <a:pt x="510" y="190"/>
                        <a:pt x="360" y="90"/>
                      </a:cubicBezTo>
                      <a:cubicBezTo>
                        <a:pt x="278" y="35"/>
                        <a:pt x="182" y="31"/>
                        <a:pt x="90" y="0"/>
                      </a:cubicBezTo>
                      <a:cubicBezTo>
                        <a:pt x="10" y="16"/>
                        <a:pt x="40" y="15"/>
                        <a:pt x="0" y="15"/>
                      </a:cubicBezTo>
                      <a:close/>
                    </a:path>
                  </a:pathLst>
                </a:custGeom>
                <a:solidFill>
                  <a:srgbClr val="008000"/>
                </a:soli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4343400" y="1981080"/>
                <a:ext cx="2666520" cy="192240"/>
                <a:chOff x="4343400" y="1981080"/>
                <a:chExt cx="2666520" cy="19224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4504680" y="2023920"/>
                  <a:ext cx="2220120" cy="149040"/>
                </a:xfrm>
                <a:custGeom>
                  <a:avLst/>
                  <a:gdLst/>
                  <a:ahLst/>
                  <a:rect l="l" t="t" r="r" b="b"/>
                  <a:pathLst>
                    <a:path w="921" h="259">
                      <a:moveTo>
                        <a:pt x="6" y="94"/>
                      </a:moveTo>
                      <a:cubicBezTo>
                        <a:pt x="69" y="0"/>
                        <a:pt x="67" y="17"/>
                        <a:pt x="186" y="34"/>
                      </a:cubicBezTo>
                      <a:cubicBezTo>
                        <a:pt x="201" y="44"/>
                        <a:pt x="220" y="50"/>
                        <a:pt x="231" y="64"/>
                      </a:cubicBezTo>
                      <a:cubicBezTo>
                        <a:pt x="241" y="76"/>
                        <a:pt x="235" y="98"/>
                        <a:pt x="246" y="109"/>
                      </a:cubicBezTo>
                      <a:cubicBezTo>
                        <a:pt x="257" y="120"/>
                        <a:pt x="277" y="117"/>
                        <a:pt x="291" y="124"/>
                      </a:cubicBezTo>
                      <a:cubicBezTo>
                        <a:pt x="407" y="182"/>
                        <a:pt x="268" y="131"/>
                        <a:pt x="381" y="169"/>
                      </a:cubicBezTo>
                      <a:cubicBezTo>
                        <a:pt x="532" y="150"/>
                        <a:pt x="463" y="167"/>
                        <a:pt x="591" y="124"/>
                      </a:cubicBezTo>
                      <a:cubicBezTo>
                        <a:pt x="606" y="119"/>
                        <a:pt x="636" y="109"/>
                        <a:pt x="636" y="109"/>
                      </a:cubicBezTo>
                      <a:cubicBezTo>
                        <a:pt x="701" y="114"/>
                        <a:pt x="767" y="114"/>
                        <a:pt x="831" y="124"/>
                      </a:cubicBezTo>
                      <a:cubicBezTo>
                        <a:pt x="862" y="129"/>
                        <a:pt x="921" y="154"/>
                        <a:pt x="921" y="154"/>
                      </a:cubicBezTo>
                      <a:cubicBezTo>
                        <a:pt x="906" y="164"/>
                        <a:pt x="892" y="177"/>
                        <a:pt x="876" y="184"/>
                      </a:cubicBezTo>
                      <a:cubicBezTo>
                        <a:pt x="847" y="197"/>
                        <a:pt x="786" y="214"/>
                        <a:pt x="786" y="214"/>
                      </a:cubicBezTo>
                      <a:cubicBezTo>
                        <a:pt x="697" y="184"/>
                        <a:pt x="726" y="187"/>
                        <a:pt x="576" y="214"/>
                      </a:cubicBezTo>
                      <a:cubicBezTo>
                        <a:pt x="545" y="219"/>
                        <a:pt x="516" y="234"/>
                        <a:pt x="486" y="244"/>
                      </a:cubicBezTo>
                      <a:cubicBezTo>
                        <a:pt x="471" y="249"/>
                        <a:pt x="441" y="259"/>
                        <a:pt x="441" y="259"/>
                      </a:cubicBezTo>
                      <a:cubicBezTo>
                        <a:pt x="361" y="232"/>
                        <a:pt x="281" y="211"/>
                        <a:pt x="201" y="184"/>
                      </a:cubicBezTo>
                      <a:cubicBezTo>
                        <a:pt x="143" y="165"/>
                        <a:pt x="80" y="169"/>
                        <a:pt x="21" y="154"/>
                      </a:cubicBezTo>
                      <a:cubicBezTo>
                        <a:pt x="16" y="139"/>
                        <a:pt x="0" y="124"/>
                        <a:pt x="6" y="109"/>
                      </a:cubicBezTo>
                      <a:cubicBezTo>
                        <a:pt x="15" y="87"/>
                        <a:pt x="111" y="59"/>
                        <a:pt x="6" y="9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5a5a5"/>
                    </a:gs>
                    <a:gs pos="100000">
                      <a:srgbClr val="ff99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4504680" y="2023920"/>
                  <a:ext cx="2505240" cy="149400"/>
                </a:xfrm>
                <a:custGeom>
                  <a:avLst/>
                  <a:gdLst/>
                  <a:ahLst/>
                  <a:rect l="l" t="t" r="r" b="b"/>
                  <a:pathLst>
                    <a:path w="1642" h="246">
                      <a:moveTo>
                        <a:pt x="22" y="30"/>
                      </a:moveTo>
                      <a:cubicBezTo>
                        <a:pt x="129" y="66"/>
                        <a:pt x="0" y="15"/>
                        <a:pt x="112" y="90"/>
                      </a:cubicBezTo>
                      <a:cubicBezTo>
                        <a:pt x="125" y="99"/>
                        <a:pt x="143" y="98"/>
                        <a:pt x="157" y="105"/>
                      </a:cubicBezTo>
                      <a:cubicBezTo>
                        <a:pt x="173" y="113"/>
                        <a:pt x="186" y="128"/>
                        <a:pt x="202" y="135"/>
                      </a:cubicBezTo>
                      <a:cubicBezTo>
                        <a:pt x="231" y="148"/>
                        <a:pt x="292" y="165"/>
                        <a:pt x="292" y="165"/>
                      </a:cubicBezTo>
                      <a:cubicBezTo>
                        <a:pt x="432" y="151"/>
                        <a:pt x="572" y="134"/>
                        <a:pt x="712" y="120"/>
                      </a:cubicBezTo>
                      <a:cubicBezTo>
                        <a:pt x="792" y="125"/>
                        <a:pt x="872" y="127"/>
                        <a:pt x="952" y="135"/>
                      </a:cubicBezTo>
                      <a:cubicBezTo>
                        <a:pt x="1006" y="141"/>
                        <a:pt x="993" y="158"/>
                        <a:pt x="1042" y="180"/>
                      </a:cubicBezTo>
                      <a:cubicBezTo>
                        <a:pt x="1071" y="193"/>
                        <a:pt x="1102" y="200"/>
                        <a:pt x="1132" y="210"/>
                      </a:cubicBezTo>
                      <a:cubicBezTo>
                        <a:pt x="1207" y="235"/>
                        <a:pt x="1276" y="233"/>
                        <a:pt x="1357" y="240"/>
                      </a:cubicBezTo>
                      <a:cubicBezTo>
                        <a:pt x="1447" y="235"/>
                        <a:pt x="1539" y="246"/>
                        <a:pt x="1627" y="225"/>
                      </a:cubicBezTo>
                      <a:cubicBezTo>
                        <a:pt x="1642" y="221"/>
                        <a:pt x="1623" y="191"/>
                        <a:pt x="1612" y="180"/>
                      </a:cubicBezTo>
                      <a:cubicBezTo>
                        <a:pt x="1601" y="169"/>
                        <a:pt x="1582" y="169"/>
                        <a:pt x="1567" y="165"/>
                      </a:cubicBezTo>
                      <a:cubicBezTo>
                        <a:pt x="1468" y="140"/>
                        <a:pt x="1415" y="144"/>
                        <a:pt x="1297" y="135"/>
                      </a:cubicBezTo>
                      <a:cubicBezTo>
                        <a:pt x="1115" y="105"/>
                        <a:pt x="937" y="66"/>
                        <a:pt x="757" y="30"/>
                      </a:cubicBezTo>
                      <a:cubicBezTo>
                        <a:pt x="519" y="44"/>
                        <a:pt x="506" y="55"/>
                        <a:pt x="277" y="30"/>
                      </a:cubicBezTo>
                      <a:cubicBezTo>
                        <a:pt x="217" y="23"/>
                        <a:pt x="97" y="0"/>
                        <a:pt x="97" y="0"/>
                      </a:cubicBezTo>
                      <a:cubicBezTo>
                        <a:pt x="30" y="17"/>
                        <a:pt x="52" y="0"/>
                        <a:pt x="22" y="3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ff99"/>
                    </a:gs>
                    <a:gs pos="100000">
                      <a:srgbClr val="ffffff"/>
                    </a:gs>
                  </a:gsLst>
                  <a:lin ang="5400000"/>
                </a:gra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4343400" y="1981080"/>
                  <a:ext cx="2524680" cy="149040"/>
                </a:xfrm>
                <a:custGeom>
                  <a:avLst/>
                  <a:gdLst/>
                  <a:ahLst/>
                  <a:rect l="l" t="t" r="r" b="b"/>
                  <a:pathLst>
                    <a:path w="2266" h="375">
                      <a:moveTo>
                        <a:pt x="315" y="90"/>
                      </a:moveTo>
                      <a:cubicBezTo>
                        <a:pt x="381" y="68"/>
                        <a:pt x="429" y="22"/>
                        <a:pt x="495" y="0"/>
                      </a:cubicBezTo>
                      <a:cubicBezTo>
                        <a:pt x="580" y="5"/>
                        <a:pt x="665" y="7"/>
                        <a:pt x="750" y="15"/>
                      </a:cubicBezTo>
                      <a:cubicBezTo>
                        <a:pt x="865" y="26"/>
                        <a:pt x="982" y="92"/>
                        <a:pt x="1095" y="120"/>
                      </a:cubicBezTo>
                      <a:cubicBezTo>
                        <a:pt x="1338" y="106"/>
                        <a:pt x="1572" y="73"/>
                        <a:pt x="1815" y="60"/>
                      </a:cubicBezTo>
                      <a:cubicBezTo>
                        <a:pt x="1960" y="65"/>
                        <a:pt x="2106" y="54"/>
                        <a:pt x="2250" y="75"/>
                      </a:cubicBezTo>
                      <a:cubicBezTo>
                        <a:pt x="2266" y="77"/>
                        <a:pt x="2245" y="108"/>
                        <a:pt x="2235" y="120"/>
                      </a:cubicBezTo>
                      <a:cubicBezTo>
                        <a:pt x="2204" y="158"/>
                        <a:pt x="2100" y="180"/>
                        <a:pt x="2100" y="180"/>
                      </a:cubicBezTo>
                      <a:cubicBezTo>
                        <a:pt x="2090" y="195"/>
                        <a:pt x="2059" y="211"/>
                        <a:pt x="2070" y="225"/>
                      </a:cubicBezTo>
                      <a:cubicBezTo>
                        <a:pt x="2085" y="245"/>
                        <a:pt x="2120" y="234"/>
                        <a:pt x="2145" y="240"/>
                      </a:cubicBezTo>
                      <a:cubicBezTo>
                        <a:pt x="2160" y="244"/>
                        <a:pt x="2175" y="250"/>
                        <a:pt x="2190" y="255"/>
                      </a:cubicBezTo>
                      <a:cubicBezTo>
                        <a:pt x="2200" y="270"/>
                        <a:pt x="2217" y="282"/>
                        <a:pt x="2220" y="300"/>
                      </a:cubicBezTo>
                      <a:cubicBezTo>
                        <a:pt x="2231" y="365"/>
                        <a:pt x="2140" y="362"/>
                        <a:pt x="2100" y="375"/>
                      </a:cubicBezTo>
                      <a:cubicBezTo>
                        <a:pt x="1989" y="365"/>
                        <a:pt x="1893" y="352"/>
                        <a:pt x="1785" y="330"/>
                      </a:cubicBezTo>
                      <a:cubicBezTo>
                        <a:pt x="1721" y="317"/>
                        <a:pt x="1653" y="273"/>
                        <a:pt x="1590" y="270"/>
                      </a:cubicBezTo>
                      <a:cubicBezTo>
                        <a:pt x="1465" y="265"/>
                        <a:pt x="1340" y="260"/>
                        <a:pt x="1215" y="255"/>
                      </a:cubicBezTo>
                      <a:cubicBezTo>
                        <a:pt x="1095" y="225"/>
                        <a:pt x="994" y="196"/>
                        <a:pt x="870" y="180"/>
                      </a:cubicBezTo>
                      <a:cubicBezTo>
                        <a:pt x="784" y="192"/>
                        <a:pt x="699" y="204"/>
                        <a:pt x="615" y="225"/>
                      </a:cubicBezTo>
                      <a:cubicBezTo>
                        <a:pt x="535" y="220"/>
                        <a:pt x="455" y="218"/>
                        <a:pt x="375" y="210"/>
                      </a:cubicBezTo>
                      <a:cubicBezTo>
                        <a:pt x="354" y="208"/>
                        <a:pt x="335" y="201"/>
                        <a:pt x="315" y="195"/>
                      </a:cubicBezTo>
                      <a:cubicBezTo>
                        <a:pt x="285" y="186"/>
                        <a:pt x="225" y="165"/>
                        <a:pt x="225" y="165"/>
                      </a:cubicBezTo>
                      <a:cubicBezTo>
                        <a:pt x="122" y="180"/>
                        <a:pt x="97" y="199"/>
                        <a:pt x="0" y="180"/>
                      </a:cubicBezTo>
                      <a:cubicBezTo>
                        <a:pt x="15" y="170"/>
                        <a:pt x="28" y="155"/>
                        <a:pt x="45" y="150"/>
                      </a:cubicBezTo>
                      <a:cubicBezTo>
                        <a:pt x="84" y="139"/>
                        <a:pt x="125" y="142"/>
                        <a:pt x="165" y="135"/>
                      </a:cubicBezTo>
                      <a:cubicBezTo>
                        <a:pt x="224" y="124"/>
                        <a:pt x="200" y="117"/>
                        <a:pt x="255" y="90"/>
                      </a:cubicBezTo>
                      <a:cubicBezTo>
                        <a:pt x="301" y="67"/>
                        <a:pt x="291" y="66"/>
                        <a:pt x="315" y="9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5a5a5"/>
                    </a:gs>
                    <a:gs pos="100000">
                      <a:srgbClr val="ffcc99"/>
                    </a:gs>
                  </a:gsLst>
                  <a:lin ang="5400000"/>
                </a:gradFill>
                <a:ln w="936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70" name=""/>
            <p:cNvSpPr/>
            <p:nvPr/>
          </p:nvSpPr>
          <p:spPr>
            <a:xfrm>
              <a:off x="6208560" y="-36360"/>
              <a:ext cx="2935440" cy="3084480"/>
            </a:xfrm>
            <a:custGeom>
              <a:avLst/>
              <a:gdLst/>
              <a:ahLst/>
              <a:rect l="l" t="t" r="r" b="b"/>
              <a:pathLst>
                <a:path w="1849" h="1943">
                  <a:moveTo>
                    <a:pt x="1849" y="224"/>
                  </a:moveTo>
                  <a:cubicBezTo>
                    <a:pt x="1755" y="0"/>
                    <a:pt x="506" y="86"/>
                    <a:pt x="267" y="215"/>
                  </a:cubicBezTo>
                  <a:cubicBezTo>
                    <a:pt x="0" y="387"/>
                    <a:pt x="249" y="1082"/>
                    <a:pt x="249" y="1257"/>
                  </a:cubicBezTo>
                  <a:cubicBezTo>
                    <a:pt x="254" y="1440"/>
                    <a:pt x="256" y="1267"/>
                    <a:pt x="267" y="1266"/>
                  </a:cubicBezTo>
                  <a:cubicBezTo>
                    <a:pt x="278" y="1265"/>
                    <a:pt x="295" y="1252"/>
                    <a:pt x="313" y="1248"/>
                  </a:cubicBezTo>
                  <a:cubicBezTo>
                    <a:pt x="331" y="1244"/>
                    <a:pt x="351" y="1250"/>
                    <a:pt x="377" y="1239"/>
                  </a:cubicBezTo>
                  <a:cubicBezTo>
                    <a:pt x="403" y="1228"/>
                    <a:pt x="451" y="1210"/>
                    <a:pt x="468" y="1184"/>
                  </a:cubicBezTo>
                  <a:cubicBezTo>
                    <a:pt x="485" y="1158"/>
                    <a:pt x="441" y="1120"/>
                    <a:pt x="478" y="1084"/>
                  </a:cubicBezTo>
                  <a:cubicBezTo>
                    <a:pt x="515" y="1048"/>
                    <a:pt x="630" y="982"/>
                    <a:pt x="688" y="965"/>
                  </a:cubicBezTo>
                  <a:cubicBezTo>
                    <a:pt x="746" y="948"/>
                    <a:pt x="785" y="988"/>
                    <a:pt x="825" y="983"/>
                  </a:cubicBezTo>
                  <a:cubicBezTo>
                    <a:pt x="865" y="978"/>
                    <a:pt x="886" y="926"/>
                    <a:pt x="926" y="937"/>
                  </a:cubicBezTo>
                  <a:cubicBezTo>
                    <a:pt x="966" y="948"/>
                    <a:pt x="1020" y="1021"/>
                    <a:pt x="1063" y="1047"/>
                  </a:cubicBezTo>
                  <a:cubicBezTo>
                    <a:pt x="1106" y="1073"/>
                    <a:pt x="1152" y="1081"/>
                    <a:pt x="1182" y="1093"/>
                  </a:cubicBezTo>
                  <a:cubicBezTo>
                    <a:pt x="1212" y="1105"/>
                    <a:pt x="1235" y="1094"/>
                    <a:pt x="1246" y="1120"/>
                  </a:cubicBezTo>
                  <a:cubicBezTo>
                    <a:pt x="1257" y="1146"/>
                    <a:pt x="1229" y="1217"/>
                    <a:pt x="1246" y="1248"/>
                  </a:cubicBezTo>
                  <a:cubicBezTo>
                    <a:pt x="1260" y="1277"/>
                    <a:pt x="1313" y="1293"/>
                    <a:pt x="1346" y="1303"/>
                  </a:cubicBezTo>
                  <a:cubicBezTo>
                    <a:pt x="1379" y="1313"/>
                    <a:pt x="1432" y="1294"/>
                    <a:pt x="1446" y="1309"/>
                  </a:cubicBezTo>
                  <a:cubicBezTo>
                    <a:pt x="1473" y="1329"/>
                    <a:pt x="1399" y="1391"/>
                    <a:pt x="1428" y="1394"/>
                  </a:cubicBezTo>
                  <a:cubicBezTo>
                    <a:pt x="1478" y="1401"/>
                    <a:pt x="1483" y="1450"/>
                    <a:pt x="1703" y="1404"/>
                  </a:cubicBezTo>
                  <a:cubicBezTo>
                    <a:pt x="1694" y="1432"/>
                    <a:pt x="1695" y="1540"/>
                    <a:pt x="1662" y="1617"/>
                  </a:cubicBezTo>
                  <a:cubicBezTo>
                    <a:pt x="1657" y="1630"/>
                    <a:pt x="1642" y="1627"/>
                    <a:pt x="1632" y="1632"/>
                  </a:cubicBezTo>
                  <a:cubicBezTo>
                    <a:pt x="1626" y="1647"/>
                    <a:pt x="1614" y="1567"/>
                    <a:pt x="1602" y="1568"/>
                  </a:cubicBezTo>
                  <a:cubicBezTo>
                    <a:pt x="1531" y="1582"/>
                    <a:pt x="1333" y="1585"/>
                    <a:pt x="1255" y="1577"/>
                  </a:cubicBezTo>
                  <a:cubicBezTo>
                    <a:pt x="1185" y="1555"/>
                    <a:pt x="1130" y="1580"/>
                    <a:pt x="1053" y="1570"/>
                  </a:cubicBezTo>
                  <a:cubicBezTo>
                    <a:pt x="942" y="1585"/>
                    <a:pt x="829" y="1583"/>
                    <a:pt x="719" y="1617"/>
                  </a:cubicBezTo>
                  <a:cubicBezTo>
                    <a:pt x="660" y="1605"/>
                    <a:pt x="611" y="1585"/>
                    <a:pt x="553" y="1570"/>
                  </a:cubicBezTo>
                  <a:cubicBezTo>
                    <a:pt x="593" y="1635"/>
                    <a:pt x="656" y="1642"/>
                    <a:pt x="710" y="1662"/>
                  </a:cubicBezTo>
                  <a:cubicBezTo>
                    <a:pt x="786" y="1691"/>
                    <a:pt x="858" y="1711"/>
                    <a:pt x="935" y="1724"/>
                  </a:cubicBezTo>
                  <a:cubicBezTo>
                    <a:pt x="1022" y="1758"/>
                    <a:pt x="1112" y="1778"/>
                    <a:pt x="1200" y="1800"/>
                  </a:cubicBezTo>
                  <a:cubicBezTo>
                    <a:pt x="1234" y="1819"/>
                    <a:pt x="1283" y="1867"/>
                    <a:pt x="1319" y="1877"/>
                  </a:cubicBezTo>
                  <a:cubicBezTo>
                    <a:pt x="1430" y="1908"/>
                    <a:pt x="1539" y="1928"/>
                    <a:pt x="1653" y="1940"/>
                  </a:cubicBezTo>
                  <a:cubicBezTo>
                    <a:pt x="1706" y="1928"/>
                    <a:pt x="1743" y="1943"/>
                    <a:pt x="1760" y="1862"/>
                  </a:cubicBezTo>
                  <a:cubicBezTo>
                    <a:pt x="1773" y="1713"/>
                    <a:pt x="1761" y="1800"/>
                    <a:pt x="1780" y="1709"/>
                  </a:cubicBezTo>
                  <a:cubicBezTo>
                    <a:pt x="1787" y="1679"/>
                    <a:pt x="1800" y="1617"/>
                    <a:pt x="1800" y="1617"/>
                  </a:cubicBezTo>
                  <a:cubicBezTo>
                    <a:pt x="1806" y="1450"/>
                    <a:pt x="1811" y="384"/>
                    <a:pt x="1849" y="224"/>
                  </a:cubicBezTo>
                  <a:close/>
                </a:path>
              </a:pathLst>
            </a:custGeom>
            <a:gradFill rotWithShape="0">
              <a:gsLst>
                <a:gs pos="0">
                  <a:srgbClr val="ccccff"/>
                </a:gs>
                <a:gs pos="50000">
                  <a:srgbClr val="ccffff"/>
                </a:gs>
                <a:gs pos="100000">
                  <a:srgbClr val="cc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3962520" y="207360"/>
            <a:ext cx="3044880" cy="2212200"/>
          </a:xfrm>
          <a:prstGeom prst="wedgeEllipseCallout">
            <a:avLst>
              <a:gd name="adj1" fmla="val 54787"/>
              <a:gd name="adj2" fmla="val 150745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 are used a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pack animal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the mountai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5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2944800" cy="449568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2">
            <a:alphaModFix amt="50000"/>
          </a:blip>
          <a:stretch/>
        </p:blipFill>
        <p:spPr>
          <a:xfrm>
            <a:off x="5105520" y="1676520"/>
            <a:ext cx="3217680" cy="449568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2971800" y="457200"/>
            <a:ext cx="3352680" cy="825480"/>
          </a:xfrm>
          <a:prstGeom prst="wedgeRectCallout">
            <a:avLst>
              <a:gd name="adj1" fmla="val -59370"/>
              <a:gd name="adj2" fmla="val 245203"/>
            </a:avLst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close relative is the </a:t>
            </a:r>
            <a:r>
              <a:rPr b="1" lang="en-US" sz="2400" spc="-1" strike="noStrike">
                <a:solidFill>
                  <a:srgbClr val="2bffc7"/>
                </a:solidFill>
                <a:latin typeface="Times New Roman"/>
              </a:rPr>
              <a:t>alpa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971800" y="2743200"/>
            <a:ext cx="2664000" cy="1172520"/>
          </a:xfrm>
          <a:prstGeom prst="wedgeEllipseCallout">
            <a:avLst>
              <a:gd name="adj1" fmla="val 66439"/>
              <a:gd name="adj2" fmla="val 28513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 am an </a:t>
            </a:r>
            <a:r>
              <a:rPr b="1" lang="en-US" sz="2400" spc="-1" strike="noStrike">
                <a:solidFill>
                  <a:srgbClr val="ffe783"/>
                </a:solidFill>
                <a:latin typeface="Times New Roman"/>
              </a:rPr>
              <a:t>alpac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bff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" descr="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6477120" y="2895480"/>
            <a:ext cx="2290680" cy="320040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2"/>
          <a:stretch/>
        </p:blipFill>
        <p:spPr>
          <a:xfrm>
            <a:off x="533520" y="0"/>
            <a:ext cx="1896840" cy="289548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457200" y="4757760"/>
            <a:ext cx="41148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S Reference Sans Serif"/>
                <a:ea typeface="Times New Roman"/>
              </a:rPr>
              <a:t>They use a spinning machine to make yarn.  Then they knit the yarn to make clot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HH02292_" descr=""/>
          <p:cNvPicPr/>
          <p:nvPr/>
        </p:nvPicPr>
        <p:blipFill>
          <a:blip r:embed="rId3"/>
          <a:stretch/>
        </p:blipFill>
        <p:spPr>
          <a:xfrm>
            <a:off x="4572000" y="1371600"/>
            <a:ext cx="1295280" cy="1211400"/>
          </a:xfrm>
          <a:prstGeom prst="rect">
            <a:avLst/>
          </a:prstGeom>
          <a:ln w="0">
            <a:noFill/>
          </a:ln>
        </p:spPr>
      </p:pic>
      <p:grpSp>
        <p:nvGrpSpPr>
          <p:cNvPr id="380" name=""/>
          <p:cNvGrpSpPr/>
          <p:nvPr/>
        </p:nvGrpSpPr>
        <p:grpSpPr>
          <a:xfrm>
            <a:off x="3352680" y="2666880"/>
            <a:ext cx="2210040" cy="1676520"/>
            <a:chOff x="3352680" y="2666880"/>
            <a:chExt cx="2210040" cy="1676520"/>
          </a:xfrm>
        </p:grpSpPr>
        <p:pic>
          <p:nvPicPr>
            <p:cNvPr id="381" name="PE03620_" descr=""/>
            <p:cNvPicPr/>
            <p:nvPr/>
          </p:nvPicPr>
          <p:blipFill>
            <a:blip r:embed="rId4"/>
            <a:stretch/>
          </p:blipFill>
          <p:spPr>
            <a:xfrm>
              <a:off x="3352680" y="2666880"/>
              <a:ext cx="2210040" cy="166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3846960" y="2934000"/>
              <a:ext cx="930600" cy="1409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3048120" y="45720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S Reference Sans Serif"/>
                <a:ea typeface="Times New Roman"/>
              </a:rPr>
              <a:t>Some people who own llamas and alpa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819520" y="1447920"/>
            <a:ext cx="113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cb200"/>
                </a:solidFill>
                <a:latin typeface="MS Reference Sans Serif"/>
                <a:ea typeface="Times New Roman"/>
              </a:rPr>
              <a:t>sh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57200" y="3124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MS Reference Sans Serif"/>
                <a:ea typeface="Times New Roman"/>
              </a:rPr>
              <a:t>their </a:t>
            </a:r>
            <a:r>
              <a:rPr b="1" lang="en-US" sz="2400" spc="-1" strike="noStrike">
                <a:solidFill>
                  <a:srgbClr val="ff0000"/>
                </a:solidFill>
                <a:latin typeface="MS Reference Sans Serif"/>
                <a:ea typeface="Times New Roman"/>
              </a:rPr>
              <a:t>flee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6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7ffe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"/>
          <p:cNvGrpSpPr/>
          <p:nvPr/>
        </p:nvGrpSpPr>
        <p:grpSpPr>
          <a:xfrm>
            <a:off x="127440" y="609480"/>
            <a:ext cx="10311840" cy="5829480"/>
            <a:chOff x="127440" y="609480"/>
            <a:chExt cx="10311840" cy="5829480"/>
          </a:xfrm>
        </p:grpSpPr>
        <p:sp>
          <p:nvSpPr>
            <p:cNvPr id="387" name=""/>
            <p:cNvSpPr/>
            <p:nvPr/>
          </p:nvSpPr>
          <p:spPr>
            <a:xfrm flipV="1">
              <a:off x="914400" y="4782960"/>
              <a:ext cx="2629080" cy="1114560"/>
            </a:xfrm>
            <a:custGeom>
              <a:avLst/>
              <a:gdLst/>
              <a:ahLst/>
              <a:rect l="l" t="t" r="r" b="b"/>
              <a:pathLst>
                <a:path w="4311" h="2068">
                  <a:moveTo>
                    <a:pt x="0" y="574"/>
                  </a:moveTo>
                  <a:lnTo>
                    <a:pt x="23" y="566"/>
                  </a:lnTo>
                  <a:lnTo>
                    <a:pt x="49" y="558"/>
                  </a:lnTo>
                  <a:lnTo>
                    <a:pt x="79" y="551"/>
                  </a:lnTo>
                  <a:lnTo>
                    <a:pt x="111" y="543"/>
                  </a:lnTo>
                  <a:lnTo>
                    <a:pt x="141" y="537"/>
                  </a:lnTo>
                  <a:lnTo>
                    <a:pt x="173" y="533"/>
                  </a:lnTo>
                  <a:lnTo>
                    <a:pt x="201" y="533"/>
                  </a:lnTo>
                  <a:lnTo>
                    <a:pt x="225" y="537"/>
                  </a:lnTo>
                  <a:lnTo>
                    <a:pt x="252" y="545"/>
                  </a:lnTo>
                  <a:lnTo>
                    <a:pt x="280" y="551"/>
                  </a:lnTo>
                  <a:lnTo>
                    <a:pt x="312" y="557"/>
                  </a:lnTo>
                  <a:lnTo>
                    <a:pt x="344" y="560"/>
                  </a:lnTo>
                  <a:lnTo>
                    <a:pt x="376" y="566"/>
                  </a:lnTo>
                  <a:lnTo>
                    <a:pt x="404" y="568"/>
                  </a:lnTo>
                  <a:lnTo>
                    <a:pt x="428" y="570"/>
                  </a:lnTo>
                  <a:lnTo>
                    <a:pt x="447" y="572"/>
                  </a:lnTo>
                  <a:lnTo>
                    <a:pt x="456" y="572"/>
                  </a:lnTo>
                  <a:lnTo>
                    <a:pt x="471" y="568"/>
                  </a:lnTo>
                  <a:lnTo>
                    <a:pt x="488" y="564"/>
                  </a:lnTo>
                  <a:lnTo>
                    <a:pt x="511" y="558"/>
                  </a:lnTo>
                  <a:lnTo>
                    <a:pt x="533" y="553"/>
                  </a:lnTo>
                  <a:lnTo>
                    <a:pt x="560" y="545"/>
                  </a:lnTo>
                  <a:lnTo>
                    <a:pt x="588" y="537"/>
                  </a:lnTo>
                  <a:lnTo>
                    <a:pt x="616" y="528"/>
                  </a:lnTo>
                  <a:lnTo>
                    <a:pt x="644" y="520"/>
                  </a:lnTo>
                  <a:lnTo>
                    <a:pt x="672" y="510"/>
                  </a:lnTo>
                  <a:lnTo>
                    <a:pt x="699" y="503"/>
                  </a:lnTo>
                  <a:lnTo>
                    <a:pt x="725" y="495"/>
                  </a:lnTo>
                  <a:lnTo>
                    <a:pt x="749" y="489"/>
                  </a:lnTo>
                  <a:lnTo>
                    <a:pt x="770" y="483"/>
                  </a:lnTo>
                  <a:lnTo>
                    <a:pt x="787" y="478"/>
                  </a:lnTo>
                  <a:lnTo>
                    <a:pt x="800" y="476"/>
                  </a:lnTo>
                  <a:lnTo>
                    <a:pt x="815" y="472"/>
                  </a:lnTo>
                  <a:lnTo>
                    <a:pt x="840" y="468"/>
                  </a:lnTo>
                  <a:lnTo>
                    <a:pt x="872" y="458"/>
                  </a:lnTo>
                  <a:lnTo>
                    <a:pt x="909" y="449"/>
                  </a:lnTo>
                  <a:lnTo>
                    <a:pt x="952" y="437"/>
                  </a:lnTo>
                  <a:lnTo>
                    <a:pt x="999" y="424"/>
                  </a:lnTo>
                  <a:lnTo>
                    <a:pt x="1050" y="410"/>
                  </a:lnTo>
                  <a:lnTo>
                    <a:pt x="1103" y="395"/>
                  </a:lnTo>
                  <a:lnTo>
                    <a:pt x="1155" y="377"/>
                  </a:lnTo>
                  <a:lnTo>
                    <a:pt x="1210" y="360"/>
                  </a:lnTo>
                  <a:lnTo>
                    <a:pt x="1260" y="343"/>
                  </a:lnTo>
                  <a:lnTo>
                    <a:pt x="1311" y="324"/>
                  </a:lnTo>
                  <a:lnTo>
                    <a:pt x="1358" y="306"/>
                  </a:lnTo>
                  <a:lnTo>
                    <a:pt x="1401" y="287"/>
                  </a:lnTo>
                  <a:lnTo>
                    <a:pt x="1437" y="270"/>
                  </a:lnTo>
                  <a:lnTo>
                    <a:pt x="1469" y="252"/>
                  </a:lnTo>
                  <a:lnTo>
                    <a:pt x="1484" y="243"/>
                  </a:lnTo>
                  <a:lnTo>
                    <a:pt x="1503" y="235"/>
                  </a:lnTo>
                  <a:lnTo>
                    <a:pt x="1523" y="223"/>
                  </a:lnTo>
                  <a:lnTo>
                    <a:pt x="1546" y="214"/>
                  </a:lnTo>
                  <a:lnTo>
                    <a:pt x="1572" y="202"/>
                  </a:lnTo>
                  <a:lnTo>
                    <a:pt x="1600" y="191"/>
                  </a:lnTo>
                  <a:lnTo>
                    <a:pt x="1630" y="177"/>
                  </a:lnTo>
                  <a:lnTo>
                    <a:pt x="1662" y="166"/>
                  </a:lnTo>
                  <a:lnTo>
                    <a:pt x="1698" y="152"/>
                  </a:lnTo>
                  <a:lnTo>
                    <a:pt x="1734" y="141"/>
                  </a:lnTo>
                  <a:lnTo>
                    <a:pt x="1771" y="127"/>
                  </a:lnTo>
                  <a:lnTo>
                    <a:pt x="1811" y="116"/>
                  </a:lnTo>
                  <a:lnTo>
                    <a:pt x="1852" y="104"/>
                  </a:lnTo>
                  <a:lnTo>
                    <a:pt x="1893" y="91"/>
                  </a:lnTo>
                  <a:lnTo>
                    <a:pt x="1936" y="79"/>
                  </a:lnTo>
                  <a:lnTo>
                    <a:pt x="1982" y="68"/>
                  </a:lnTo>
                  <a:lnTo>
                    <a:pt x="2027" y="58"/>
                  </a:lnTo>
                  <a:lnTo>
                    <a:pt x="2074" y="48"/>
                  </a:lnTo>
                  <a:lnTo>
                    <a:pt x="2121" y="39"/>
                  </a:lnTo>
                  <a:lnTo>
                    <a:pt x="2168" y="29"/>
                  </a:lnTo>
                  <a:lnTo>
                    <a:pt x="2216" y="21"/>
                  </a:lnTo>
                  <a:lnTo>
                    <a:pt x="2265" y="16"/>
                  </a:lnTo>
                  <a:lnTo>
                    <a:pt x="2314" y="10"/>
                  </a:lnTo>
                  <a:lnTo>
                    <a:pt x="2363" y="6"/>
                  </a:lnTo>
                  <a:lnTo>
                    <a:pt x="2412" y="2"/>
                  </a:lnTo>
                  <a:lnTo>
                    <a:pt x="2461" y="0"/>
                  </a:lnTo>
                  <a:lnTo>
                    <a:pt x="2509" y="0"/>
                  </a:lnTo>
                  <a:lnTo>
                    <a:pt x="2558" y="0"/>
                  </a:lnTo>
                  <a:lnTo>
                    <a:pt x="2605" y="4"/>
                  </a:lnTo>
                  <a:lnTo>
                    <a:pt x="2654" y="8"/>
                  </a:lnTo>
                  <a:lnTo>
                    <a:pt x="2701" y="14"/>
                  </a:lnTo>
                  <a:lnTo>
                    <a:pt x="2746" y="21"/>
                  </a:lnTo>
                  <a:lnTo>
                    <a:pt x="2804" y="35"/>
                  </a:lnTo>
                  <a:lnTo>
                    <a:pt x="2857" y="50"/>
                  </a:lnTo>
                  <a:lnTo>
                    <a:pt x="2904" y="69"/>
                  </a:lnTo>
                  <a:lnTo>
                    <a:pt x="2947" y="89"/>
                  </a:lnTo>
                  <a:lnTo>
                    <a:pt x="2986" y="112"/>
                  </a:lnTo>
                  <a:lnTo>
                    <a:pt x="3020" y="135"/>
                  </a:lnTo>
                  <a:lnTo>
                    <a:pt x="3052" y="158"/>
                  </a:lnTo>
                  <a:lnTo>
                    <a:pt x="3080" y="183"/>
                  </a:lnTo>
                  <a:lnTo>
                    <a:pt x="3103" y="206"/>
                  </a:lnTo>
                  <a:lnTo>
                    <a:pt x="3124" y="229"/>
                  </a:lnTo>
                  <a:lnTo>
                    <a:pt x="3142" y="250"/>
                  </a:lnTo>
                  <a:lnTo>
                    <a:pt x="3157" y="270"/>
                  </a:lnTo>
                  <a:lnTo>
                    <a:pt x="3171" y="289"/>
                  </a:lnTo>
                  <a:lnTo>
                    <a:pt x="3182" y="302"/>
                  </a:lnTo>
                  <a:lnTo>
                    <a:pt x="3191" y="316"/>
                  </a:lnTo>
                  <a:lnTo>
                    <a:pt x="3199" y="324"/>
                  </a:lnTo>
                  <a:lnTo>
                    <a:pt x="3206" y="331"/>
                  </a:lnTo>
                  <a:lnTo>
                    <a:pt x="3217" y="337"/>
                  </a:lnTo>
                  <a:lnTo>
                    <a:pt x="3231" y="345"/>
                  </a:lnTo>
                  <a:lnTo>
                    <a:pt x="3246" y="351"/>
                  </a:lnTo>
                  <a:lnTo>
                    <a:pt x="3263" y="356"/>
                  </a:lnTo>
                  <a:lnTo>
                    <a:pt x="3281" y="364"/>
                  </a:lnTo>
                  <a:lnTo>
                    <a:pt x="3302" y="370"/>
                  </a:lnTo>
                  <a:lnTo>
                    <a:pt x="3325" y="376"/>
                  </a:lnTo>
                  <a:lnTo>
                    <a:pt x="3347" y="381"/>
                  </a:lnTo>
                  <a:lnTo>
                    <a:pt x="3373" y="387"/>
                  </a:lnTo>
                  <a:lnTo>
                    <a:pt x="3398" y="391"/>
                  </a:lnTo>
                  <a:lnTo>
                    <a:pt x="3424" y="397"/>
                  </a:lnTo>
                  <a:lnTo>
                    <a:pt x="3450" y="403"/>
                  </a:lnTo>
                  <a:lnTo>
                    <a:pt x="3477" y="406"/>
                  </a:lnTo>
                  <a:lnTo>
                    <a:pt x="3503" y="410"/>
                  </a:lnTo>
                  <a:lnTo>
                    <a:pt x="3529" y="414"/>
                  </a:lnTo>
                  <a:lnTo>
                    <a:pt x="3580" y="426"/>
                  </a:lnTo>
                  <a:lnTo>
                    <a:pt x="3629" y="441"/>
                  </a:lnTo>
                  <a:lnTo>
                    <a:pt x="3672" y="462"/>
                  </a:lnTo>
                  <a:lnTo>
                    <a:pt x="3711" y="485"/>
                  </a:lnTo>
                  <a:lnTo>
                    <a:pt x="3743" y="508"/>
                  </a:lnTo>
                  <a:lnTo>
                    <a:pt x="3768" y="528"/>
                  </a:lnTo>
                  <a:lnTo>
                    <a:pt x="3783" y="539"/>
                  </a:lnTo>
                  <a:lnTo>
                    <a:pt x="3788" y="545"/>
                  </a:lnTo>
                  <a:lnTo>
                    <a:pt x="3792" y="547"/>
                  </a:lnTo>
                  <a:lnTo>
                    <a:pt x="3802" y="553"/>
                  </a:lnTo>
                  <a:lnTo>
                    <a:pt x="3817" y="562"/>
                  </a:lnTo>
                  <a:lnTo>
                    <a:pt x="3837" y="576"/>
                  </a:lnTo>
                  <a:lnTo>
                    <a:pt x="3862" y="591"/>
                  </a:lnTo>
                  <a:lnTo>
                    <a:pt x="3888" y="610"/>
                  </a:lnTo>
                  <a:lnTo>
                    <a:pt x="3916" y="632"/>
                  </a:lnTo>
                  <a:lnTo>
                    <a:pt x="3946" y="653"/>
                  </a:lnTo>
                  <a:lnTo>
                    <a:pt x="3978" y="676"/>
                  </a:lnTo>
                  <a:lnTo>
                    <a:pt x="4008" y="701"/>
                  </a:lnTo>
                  <a:lnTo>
                    <a:pt x="4038" y="724"/>
                  </a:lnTo>
                  <a:lnTo>
                    <a:pt x="4065" y="749"/>
                  </a:lnTo>
                  <a:lnTo>
                    <a:pt x="4089" y="774"/>
                  </a:lnTo>
                  <a:lnTo>
                    <a:pt x="4110" y="797"/>
                  </a:lnTo>
                  <a:lnTo>
                    <a:pt x="4127" y="820"/>
                  </a:lnTo>
                  <a:lnTo>
                    <a:pt x="4138" y="841"/>
                  </a:lnTo>
                  <a:lnTo>
                    <a:pt x="4147" y="893"/>
                  </a:lnTo>
                  <a:lnTo>
                    <a:pt x="4149" y="963"/>
                  </a:lnTo>
                  <a:lnTo>
                    <a:pt x="4143" y="1044"/>
                  </a:lnTo>
                  <a:lnTo>
                    <a:pt x="4138" y="1130"/>
                  </a:lnTo>
                  <a:lnTo>
                    <a:pt x="4132" y="1217"/>
                  </a:lnTo>
                  <a:lnTo>
                    <a:pt x="4132" y="1296"/>
                  </a:lnTo>
                  <a:lnTo>
                    <a:pt x="4142" y="1359"/>
                  </a:lnTo>
                  <a:lnTo>
                    <a:pt x="4164" y="1402"/>
                  </a:lnTo>
                  <a:lnTo>
                    <a:pt x="4192" y="1438"/>
                  </a:lnTo>
                  <a:lnTo>
                    <a:pt x="4219" y="1488"/>
                  </a:lnTo>
                  <a:lnTo>
                    <a:pt x="4243" y="1546"/>
                  </a:lnTo>
                  <a:lnTo>
                    <a:pt x="4264" y="1606"/>
                  </a:lnTo>
                  <a:lnTo>
                    <a:pt x="4281" y="1663"/>
                  </a:lnTo>
                  <a:lnTo>
                    <a:pt x="4296" y="1714"/>
                  </a:lnTo>
                  <a:lnTo>
                    <a:pt x="4305" y="1752"/>
                  </a:lnTo>
                  <a:lnTo>
                    <a:pt x="4311" y="1775"/>
                  </a:lnTo>
                  <a:lnTo>
                    <a:pt x="4307" y="1783"/>
                  </a:lnTo>
                  <a:lnTo>
                    <a:pt x="4292" y="1794"/>
                  </a:lnTo>
                  <a:lnTo>
                    <a:pt x="4269" y="1810"/>
                  </a:lnTo>
                  <a:lnTo>
                    <a:pt x="4235" y="1825"/>
                  </a:lnTo>
                  <a:lnTo>
                    <a:pt x="4196" y="1844"/>
                  </a:lnTo>
                  <a:lnTo>
                    <a:pt x="4147" y="1864"/>
                  </a:lnTo>
                  <a:lnTo>
                    <a:pt x="4095" y="1885"/>
                  </a:lnTo>
                  <a:lnTo>
                    <a:pt x="4036" y="1904"/>
                  </a:lnTo>
                  <a:lnTo>
                    <a:pt x="3973" y="1925"/>
                  </a:lnTo>
                  <a:lnTo>
                    <a:pt x="3907" y="1946"/>
                  </a:lnTo>
                  <a:lnTo>
                    <a:pt x="3839" y="1966"/>
                  </a:lnTo>
                  <a:lnTo>
                    <a:pt x="3770" y="1983"/>
                  </a:lnTo>
                  <a:lnTo>
                    <a:pt x="3698" y="2000"/>
                  </a:lnTo>
                  <a:lnTo>
                    <a:pt x="3629" y="2014"/>
                  </a:lnTo>
                  <a:lnTo>
                    <a:pt x="3559" y="2025"/>
                  </a:lnTo>
                  <a:lnTo>
                    <a:pt x="3494" y="2033"/>
                  </a:lnTo>
                  <a:lnTo>
                    <a:pt x="3460" y="2037"/>
                  </a:lnTo>
                  <a:lnTo>
                    <a:pt x="3422" y="2039"/>
                  </a:lnTo>
                  <a:lnTo>
                    <a:pt x="3381" y="2043"/>
                  </a:lnTo>
                  <a:lnTo>
                    <a:pt x="3338" y="2045"/>
                  </a:lnTo>
                  <a:lnTo>
                    <a:pt x="3291" y="2048"/>
                  </a:lnTo>
                  <a:lnTo>
                    <a:pt x="3244" y="2050"/>
                  </a:lnTo>
                  <a:lnTo>
                    <a:pt x="3193" y="2052"/>
                  </a:lnTo>
                  <a:lnTo>
                    <a:pt x="3140" y="2054"/>
                  </a:lnTo>
                  <a:lnTo>
                    <a:pt x="3088" y="2056"/>
                  </a:lnTo>
                  <a:lnTo>
                    <a:pt x="3033" y="2058"/>
                  </a:lnTo>
                  <a:lnTo>
                    <a:pt x="2977" y="2060"/>
                  </a:lnTo>
                  <a:lnTo>
                    <a:pt x="2921" y="2062"/>
                  </a:lnTo>
                  <a:lnTo>
                    <a:pt x="2864" y="2064"/>
                  </a:lnTo>
                  <a:lnTo>
                    <a:pt x="2808" y="2064"/>
                  </a:lnTo>
                  <a:lnTo>
                    <a:pt x="2754" y="2066"/>
                  </a:lnTo>
                  <a:lnTo>
                    <a:pt x="2697" y="2066"/>
                  </a:lnTo>
                  <a:lnTo>
                    <a:pt x="2643" y="2066"/>
                  </a:lnTo>
                  <a:lnTo>
                    <a:pt x="2588" y="2066"/>
                  </a:lnTo>
                  <a:lnTo>
                    <a:pt x="2536" y="2068"/>
                  </a:lnTo>
                  <a:lnTo>
                    <a:pt x="2485" y="2068"/>
                  </a:lnTo>
                  <a:lnTo>
                    <a:pt x="2436" y="2066"/>
                  </a:lnTo>
                  <a:lnTo>
                    <a:pt x="2389" y="2066"/>
                  </a:lnTo>
                  <a:lnTo>
                    <a:pt x="2344" y="2066"/>
                  </a:lnTo>
                  <a:lnTo>
                    <a:pt x="2303" y="2066"/>
                  </a:lnTo>
                  <a:lnTo>
                    <a:pt x="2263" y="2064"/>
                  </a:lnTo>
                  <a:lnTo>
                    <a:pt x="2228" y="2064"/>
                  </a:lnTo>
                  <a:lnTo>
                    <a:pt x="2196" y="2062"/>
                  </a:lnTo>
                  <a:lnTo>
                    <a:pt x="2168" y="2060"/>
                  </a:lnTo>
                  <a:lnTo>
                    <a:pt x="2143" y="2058"/>
                  </a:lnTo>
                  <a:lnTo>
                    <a:pt x="2122" y="2056"/>
                  </a:lnTo>
                  <a:lnTo>
                    <a:pt x="2107" y="2054"/>
                  </a:lnTo>
                  <a:lnTo>
                    <a:pt x="2096" y="2052"/>
                  </a:lnTo>
                  <a:lnTo>
                    <a:pt x="2074" y="2048"/>
                  </a:lnTo>
                  <a:lnTo>
                    <a:pt x="2042" y="2045"/>
                  </a:lnTo>
                  <a:lnTo>
                    <a:pt x="1998" y="2041"/>
                  </a:lnTo>
                  <a:lnTo>
                    <a:pt x="1950" y="2039"/>
                  </a:lnTo>
                  <a:lnTo>
                    <a:pt x="1895" y="2037"/>
                  </a:lnTo>
                  <a:lnTo>
                    <a:pt x="1835" y="2035"/>
                  </a:lnTo>
                  <a:lnTo>
                    <a:pt x="1771" y="2035"/>
                  </a:lnTo>
                  <a:lnTo>
                    <a:pt x="1705" y="2035"/>
                  </a:lnTo>
                  <a:lnTo>
                    <a:pt x="1642" y="2037"/>
                  </a:lnTo>
                  <a:lnTo>
                    <a:pt x="1578" y="2039"/>
                  </a:lnTo>
                  <a:lnTo>
                    <a:pt x="1516" y="2041"/>
                  </a:lnTo>
                  <a:lnTo>
                    <a:pt x="1459" y="2043"/>
                  </a:lnTo>
                  <a:lnTo>
                    <a:pt x="1409" y="2047"/>
                  </a:lnTo>
                  <a:lnTo>
                    <a:pt x="1364" y="2050"/>
                  </a:lnTo>
                  <a:lnTo>
                    <a:pt x="1328" y="2054"/>
                  </a:lnTo>
                  <a:lnTo>
                    <a:pt x="1304" y="2060"/>
                  </a:lnTo>
                  <a:lnTo>
                    <a:pt x="1273" y="2064"/>
                  </a:lnTo>
                  <a:lnTo>
                    <a:pt x="1223" y="2062"/>
                  </a:lnTo>
                  <a:lnTo>
                    <a:pt x="1157" y="2058"/>
                  </a:lnTo>
                  <a:lnTo>
                    <a:pt x="1076" y="2050"/>
                  </a:lnTo>
                  <a:lnTo>
                    <a:pt x="984" y="2043"/>
                  </a:lnTo>
                  <a:lnTo>
                    <a:pt x="887" y="2031"/>
                  </a:lnTo>
                  <a:lnTo>
                    <a:pt x="781" y="2018"/>
                  </a:lnTo>
                  <a:lnTo>
                    <a:pt x="676" y="2002"/>
                  </a:lnTo>
                  <a:lnTo>
                    <a:pt x="571" y="1989"/>
                  </a:lnTo>
                  <a:lnTo>
                    <a:pt x="470" y="1973"/>
                  </a:lnTo>
                  <a:lnTo>
                    <a:pt x="376" y="1958"/>
                  </a:lnTo>
                  <a:lnTo>
                    <a:pt x="291" y="1945"/>
                  </a:lnTo>
                  <a:lnTo>
                    <a:pt x="220" y="1931"/>
                  </a:lnTo>
                  <a:lnTo>
                    <a:pt x="165" y="1918"/>
                  </a:lnTo>
                  <a:lnTo>
                    <a:pt x="128" y="1908"/>
                  </a:lnTo>
                  <a:lnTo>
                    <a:pt x="113" y="1900"/>
                  </a:lnTo>
                  <a:lnTo>
                    <a:pt x="103" y="1833"/>
                  </a:lnTo>
                  <a:lnTo>
                    <a:pt x="88" y="1677"/>
                  </a:lnTo>
                  <a:lnTo>
                    <a:pt x="69" y="1465"/>
                  </a:lnTo>
                  <a:lnTo>
                    <a:pt x="51" y="1223"/>
                  </a:lnTo>
                  <a:lnTo>
                    <a:pt x="32" y="984"/>
                  </a:lnTo>
                  <a:lnTo>
                    <a:pt x="15" y="776"/>
                  </a:lnTo>
                  <a:lnTo>
                    <a:pt x="4" y="630"/>
                  </a:lnTo>
                  <a:lnTo>
                    <a:pt x="0" y="574"/>
                  </a:lnTo>
                  <a:close/>
                </a:path>
              </a:pathLst>
            </a:custGeom>
            <a:solidFill>
              <a:srgbClr val="dbc1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652760" y="2324160"/>
              <a:ext cx="214200" cy="176040"/>
            </a:xfrm>
            <a:custGeom>
              <a:avLst/>
              <a:gdLst/>
              <a:ahLst/>
              <a:rect l="l" t="t" r="r" b="b"/>
              <a:pathLst>
                <a:path w="135" h="111">
                  <a:moveTo>
                    <a:pt x="21" y="22"/>
                  </a:moveTo>
                  <a:cubicBezTo>
                    <a:pt x="24" y="28"/>
                    <a:pt x="26" y="31"/>
                    <a:pt x="27" y="37"/>
                  </a:cubicBezTo>
                  <a:cubicBezTo>
                    <a:pt x="26" y="46"/>
                    <a:pt x="24" y="55"/>
                    <a:pt x="21" y="63"/>
                  </a:cubicBezTo>
                  <a:cubicBezTo>
                    <a:pt x="20" y="71"/>
                    <a:pt x="16" y="77"/>
                    <a:pt x="9" y="81"/>
                  </a:cubicBezTo>
                  <a:cubicBezTo>
                    <a:pt x="6" y="86"/>
                    <a:pt x="6" y="92"/>
                    <a:pt x="3" y="97"/>
                  </a:cubicBezTo>
                  <a:cubicBezTo>
                    <a:pt x="0" y="111"/>
                    <a:pt x="15" y="104"/>
                    <a:pt x="23" y="102"/>
                  </a:cubicBezTo>
                  <a:cubicBezTo>
                    <a:pt x="43" y="103"/>
                    <a:pt x="64" y="106"/>
                    <a:pt x="84" y="108"/>
                  </a:cubicBezTo>
                  <a:cubicBezTo>
                    <a:pt x="99" y="110"/>
                    <a:pt x="111" y="109"/>
                    <a:pt x="126" y="108"/>
                  </a:cubicBezTo>
                  <a:cubicBezTo>
                    <a:pt x="132" y="104"/>
                    <a:pt x="131" y="102"/>
                    <a:pt x="135" y="96"/>
                  </a:cubicBezTo>
                  <a:cubicBezTo>
                    <a:pt x="134" y="79"/>
                    <a:pt x="132" y="56"/>
                    <a:pt x="126" y="40"/>
                  </a:cubicBezTo>
                  <a:cubicBezTo>
                    <a:pt x="125" y="32"/>
                    <a:pt x="122" y="32"/>
                    <a:pt x="116" y="28"/>
                  </a:cubicBezTo>
                  <a:cubicBezTo>
                    <a:pt x="114" y="24"/>
                    <a:pt x="113" y="19"/>
                    <a:pt x="111" y="15"/>
                  </a:cubicBezTo>
                  <a:cubicBezTo>
                    <a:pt x="110" y="6"/>
                    <a:pt x="112" y="0"/>
                    <a:pt x="102" y="3"/>
                  </a:cubicBezTo>
                  <a:cubicBezTo>
                    <a:pt x="95" y="8"/>
                    <a:pt x="90" y="14"/>
                    <a:pt x="81" y="18"/>
                  </a:cubicBezTo>
                  <a:cubicBezTo>
                    <a:pt x="77" y="23"/>
                    <a:pt x="75" y="24"/>
                    <a:pt x="69" y="25"/>
                  </a:cubicBezTo>
                  <a:cubicBezTo>
                    <a:pt x="63" y="28"/>
                    <a:pt x="57" y="30"/>
                    <a:pt x="51" y="31"/>
                  </a:cubicBezTo>
                  <a:cubicBezTo>
                    <a:pt x="46" y="34"/>
                    <a:pt x="33" y="30"/>
                    <a:pt x="33" y="30"/>
                  </a:cubicBezTo>
                  <a:cubicBezTo>
                    <a:pt x="26" y="27"/>
                    <a:pt x="30" y="29"/>
                    <a:pt x="21" y="22"/>
                  </a:cubicBez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596960" y="2122560"/>
              <a:ext cx="266760" cy="250920"/>
            </a:xfrm>
            <a:custGeom>
              <a:avLst/>
              <a:gdLst/>
              <a:ahLst/>
              <a:rect l="l" t="t" r="r" b="b"/>
              <a:pathLst>
                <a:path w="386" h="398">
                  <a:moveTo>
                    <a:pt x="258" y="29"/>
                  </a:moveTo>
                  <a:lnTo>
                    <a:pt x="272" y="37"/>
                  </a:lnTo>
                  <a:lnTo>
                    <a:pt x="284" y="44"/>
                  </a:lnTo>
                  <a:lnTo>
                    <a:pt x="296" y="53"/>
                  </a:lnTo>
                  <a:lnTo>
                    <a:pt x="308" y="61"/>
                  </a:lnTo>
                  <a:lnTo>
                    <a:pt x="321" y="70"/>
                  </a:lnTo>
                  <a:lnTo>
                    <a:pt x="331" y="80"/>
                  </a:lnTo>
                  <a:lnTo>
                    <a:pt x="343" y="90"/>
                  </a:lnTo>
                  <a:lnTo>
                    <a:pt x="353" y="102"/>
                  </a:lnTo>
                  <a:lnTo>
                    <a:pt x="352" y="107"/>
                  </a:lnTo>
                  <a:lnTo>
                    <a:pt x="352" y="112"/>
                  </a:lnTo>
                  <a:lnTo>
                    <a:pt x="352" y="117"/>
                  </a:lnTo>
                  <a:lnTo>
                    <a:pt x="353" y="124"/>
                  </a:lnTo>
                  <a:lnTo>
                    <a:pt x="355" y="128"/>
                  </a:lnTo>
                  <a:lnTo>
                    <a:pt x="357" y="133"/>
                  </a:lnTo>
                  <a:lnTo>
                    <a:pt x="362" y="136"/>
                  </a:lnTo>
                  <a:lnTo>
                    <a:pt x="367" y="138"/>
                  </a:lnTo>
                  <a:lnTo>
                    <a:pt x="369" y="140"/>
                  </a:lnTo>
                  <a:lnTo>
                    <a:pt x="371" y="140"/>
                  </a:lnTo>
                  <a:lnTo>
                    <a:pt x="372" y="141"/>
                  </a:lnTo>
                  <a:lnTo>
                    <a:pt x="374" y="141"/>
                  </a:lnTo>
                  <a:lnTo>
                    <a:pt x="376" y="141"/>
                  </a:lnTo>
                  <a:lnTo>
                    <a:pt x="377" y="143"/>
                  </a:lnTo>
                  <a:lnTo>
                    <a:pt x="379" y="141"/>
                  </a:lnTo>
                  <a:lnTo>
                    <a:pt x="381" y="141"/>
                  </a:lnTo>
                  <a:lnTo>
                    <a:pt x="383" y="143"/>
                  </a:lnTo>
                  <a:lnTo>
                    <a:pt x="383" y="143"/>
                  </a:lnTo>
                  <a:lnTo>
                    <a:pt x="384" y="145"/>
                  </a:lnTo>
                  <a:lnTo>
                    <a:pt x="384" y="145"/>
                  </a:lnTo>
                  <a:lnTo>
                    <a:pt x="384" y="147"/>
                  </a:lnTo>
                  <a:lnTo>
                    <a:pt x="386" y="147"/>
                  </a:lnTo>
                  <a:lnTo>
                    <a:pt x="386" y="148"/>
                  </a:lnTo>
                  <a:lnTo>
                    <a:pt x="386" y="150"/>
                  </a:lnTo>
                  <a:lnTo>
                    <a:pt x="381" y="153"/>
                  </a:lnTo>
                  <a:lnTo>
                    <a:pt x="376" y="155"/>
                  </a:lnTo>
                  <a:lnTo>
                    <a:pt x="371" y="158"/>
                  </a:lnTo>
                  <a:lnTo>
                    <a:pt x="367" y="160"/>
                  </a:lnTo>
                  <a:lnTo>
                    <a:pt x="362" y="164"/>
                  </a:lnTo>
                  <a:lnTo>
                    <a:pt x="357" y="165"/>
                  </a:lnTo>
                  <a:lnTo>
                    <a:pt x="353" y="170"/>
                  </a:lnTo>
                  <a:lnTo>
                    <a:pt x="352" y="176"/>
                  </a:lnTo>
                  <a:lnTo>
                    <a:pt x="352" y="179"/>
                  </a:lnTo>
                  <a:lnTo>
                    <a:pt x="353" y="184"/>
                  </a:lnTo>
                  <a:lnTo>
                    <a:pt x="357" y="188"/>
                  </a:lnTo>
                  <a:lnTo>
                    <a:pt x="358" y="191"/>
                  </a:lnTo>
                  <a:lnTo>
                    <a:pt x="362" y="194"/>
                  </a:lnTo>
                  <a:lnTo>
                    <a:pt x="365" y="198"/>
                  </a:lnTo>
                  <a:lnTo>
                    <a:pt x="371" y="201"/>
                  </a:lnTo>
                  <a:lnTo>
                    <a:pt x="374" y="203"/>
                  </a:lnTo>
                  <a:lnTo>
                    <a:pt x="376" y="206"/>
                  </a:lnTo>
                  <a:lnTo>
                    <a:pt x="374" y="210"/>
                  </a:lnTo>
                  <a:lnTo>
                    <a:pt x="374" y="211"/>
                  </a:lnTo>
                  <a:lnTo>
                    <a:pt x="372" y="213"/>
                  </a:lnTo>
                  <a:lnTo>
                    <a:pt x="369" y="215"/>
                  </a:lnTo>
                  <a:lnTo>
                    <a:pt x="367" y="217"/>
                  </a:lnTo>
                  <a:lnTo>
                    <a:pt x="365" y="218"/>
                  </a:lnTo>
                  <a:lnTo>
                    <a:pt x="364" y="220"/>
                  </a:lnTo>
                  <a:lnTo>
                    <a:pt x="360" y="222"/>
                  </a:lnTo>
                  <a:lnTo>
                    <a:pt x="358" y="222"/>
                  </a:lnTo>
                  <a:lnTo>
                    <a:pt x="357" y="223"/>
                  </a:lnTo>
                  <a:lnTo>
                    <a:pt x="355" y="225"/>
                  </a:lnTo>
                  <a:lnTo>
                    <a:pt x="353" y="227"/>
                  </a:lnTo>
                  <a:lnTo>
                    <a:pt x="352" y="229"/>
                  </a:lnTo>
                  <a:lnTo>
                    <a:pt x="348" y="232"/>
                  </a:lnTo>
                  <a:lnTo>
                    <a:pt x="346" y="234"/>
                  </a:lnTo>
                  <a:lnTo>
                    <a:pt x="345" y="237"/>
                  </a:lnTo>
                  <a:lnTo>
                    <a:pt x="345" y="240"/>
                  </a:lnTo>
                  <a:lnTo>
                    <a:pt x="345" y="244"/>
                  </a:lnTo>
                  <a:lnTo>
                    <a:pt x="345" y="246"/>
                  </a:lnTo>
                  <a:lnTo>
                    <a:pt x="348" y="252"/>
                  </a:lnTo>
                  <a:lnTo>
                    <a:pt x="353" y="256"/>
                  </a:lnTo>
                  <a:lnTo>
                    <a:pt x="358" y="261"/>
                  </a:lnTo>
                  <a:lnTo>
                    <a:pt x="360" y="266"/>
                  </a:lnTo>
                  <a:lnTo>
                    <a:pt x="362" y="270"/>
                  </a:lnTo>
                  <a:lnTo>
                    <a:pt x="360" y="273"/>
                  </a:lnTo>
                  <a:lnTo>
                    <a:pt x="360" y="276"/>
                  </a:lnTo>
                  <a:lnTo>
                    <a:pt x="357" y="280"/>
                  </a:lnTo>
                  <a:lnTo>
                    <a:pt x="352" y="281"/>
                  </a:lnTo>
                  <a:lnTo>
                    <a:pt x="346" y="285"/>
                  </a:lnTo>
                  <a:lnTo>
                    <a:pt x="341" y="288"/>
                  </a:lnTo>
                  <a:lnTo>
                    <a:pt x="336" y="293"/>
                  </a:lnTo>
                  <a:lnTo>
                    <a:pt x="333" y="297"/>
                  </a:lnTo>
                  <a:lnTo>
                    <a:pt x="327" y="300"/>
                  </a:lnTo>
                  <a:lnTo>
                    <a:pt x="324" y="305"/>
                  </a:lnTo>
                  <a:lnTo>
                    <a:pt x="319" y="309"/>
                  </a:lnTo>
                  <a:lnTo>
                    <a:pt x="317" y="312"/>
                  </a:lnTo>
                  <a:lnTo>
                    <a:pt x="314" y="316"/>
                  </a:lnTo>
                  <a:lnTo>
                    <a:pt x="312" y="319"/>
                  </a:lnTo>
                  <a:lnTo>
                    <a:pt x="308" y="321"/>
                  </a:lnTo>
                  <a:lnTo>
                    <a:pt x="305" y="324"/>
                  </a:lnTo>
                  <a:lnTo>
                    <a:pt x="302" y="326"/>
                  </a:lnTo>
                  <a:lnTo>
                    <a:pt x="298" y="329"/>
                  </a:lnTo>
                  <a:lnTo>
                    <a:pt x="295" y="331"/>
                  </a:lnTo>
                  <a:lnTo>
                    <a:pt x="283" y="340"/>
                  </a:lnTo>
                  <a:lnTo>
                    <a:pt x="269" y="346"/>
                  </a:lnTo>
                  <a:lnTo>
                    <a:pt x="257" y="355"/>
                  </a:lnTo>
                  <a:lnTo>
                    <a:pt x="245" y="363"/>
                  </a:lnTo>
                  <a:lnTo>
                    <a:pt x="233" y="372"/>
                  </a:lnTo>
                  <a:lnTo>
                    <a:pt x="221" y="381"/>
                  </a:lnTo>
                  <a:lnTo>
                    <a:pt x="207" y="387"/>
                  </a:lnTo>
                  <a:lnTo>
                    <a:pt x="195" y="394"/>
                  </a:lnTo>
                  <a:lnTo>
                    <a:pt x="190" y="396"/>
                  </a:lnTo>
                  <a:lnTo>
                    <a:pt x="184" y="398"/>
                  </a:lnTo>
                  <a:lnTo>
                    <a:pt x="179" y="398"/>
                  </a:lnTo>
                  <a:lnTo>
                    <a:pt x="174" y="398"/>
                  </a:lnTo>
                  <a:lnTo>
                    <a:pt x="169" y="396"/>
                  </a:lnTo>
                  <a:lnTo>
                    <a:pt x="162" y="394"/>
                  </a:lnTo>
                  <a:lnTo>
                    <a:pt x="157" y="393"/>
                  </a:lnTo>
                  <a:lnTo>
                    <a:pt x="153" y="391"/>
                  </a:lnTo>
                  <a:lnTo>
                    <a:pt x="140" y="379"/>
                  </a:lnTo>
                  <a:lnTo>
                    <a:pt x="126" y="369"/>
                  </a:lnTo>
                  <a:lnTo>
                    <a:pt x="110" y="360"/>
                  </a:lnTo>
                  <a:lnTo>
                    <a:pt x="95" y="352"/>
                  </a:lnTo>
                  <a:lnTo>
                    <a:pt x="79" y="341"/>
                  </a:lnTo>
                  <a:lnTo>
                    <a:pt x="64" y="331"/>
                  </a:lnTo>
                  <a:lnTo>
                    <a:pt x="50" y="319"/>
                  </a:lnTo>
                  <a:lnTo>
                    <a:pt x="36" y="305"/>
                  </a:lnTo>
                  <a:lnTo>
                    <a:pt x="36" y="300"/>
                  </a:lnTo>
                  <a:lnTo>
                    <a:pt x="34" y="297"/>
                  </a:lnTo>
                  <a:lnTo>
                    <a:pt x="31" y="293"/>
                  </a:lnTo>
                  <a:lnTo>
                    <a:pt x="29" y="292"/>
                  </a:lnTo>
                  <a:lnTo>
                    <a:pt x="27" y="288"/>
                  </a:lnTo>
                  <a:lnTo>
                    <a:pt x="26" y="285"/>
                  </a:lnTo>
                  <a:lnTo>
                    <a:pt x="24" y="281"/>
                  </a:lnTo>
                  <a:lnTo>
                    <a:pt x="26" y="278"/>
                  </a:lnTo>
                  <a:lnTo>
                    <a:pt x="22" y="271"/>
                  </a:lnTo>
                  <a:lnTo>
                    <a:pt x="21" y="264"/>
                  </a:lnTo>
                  <a:lnTo>
                    <a:pt x="21" y="258"/>
                  </a:lnTo>
                  <a:lnTo>
                    <a:pt x="21" y="251"/>
                  </a:lnTo>
                  <a:lnTo>
                    <a:pt x="19" y="244"/>
                  </a:lnTo>
                  <a:lnTo>
                    <a:pt x="19" y="237"/>
                  </a:lnTo>
                  <a:lnTo>
                    <a:pt x="19" y="230"/>
                  </a:lnTo>
                  <a:lnTo>
                    <a:pt x="17" y="223"/>
                  </a:lnTo>
                  <a:lnTo>
                    <a:pt x="27" y="222"/>
                  </a:lnTo>
                  <a:lnTo>
                    <a:pt x="40" y="222"/>
                  </a:lnTo>
                  <a:lnTo>
                    <a:pt x="52" y="222"/>
                  </a:lnTo>
                  <a:lnTo>
                    <a:pt x="64" y="222"/>
                  </a:lnTo>
                  <a:lnTo>
                    <a:pt x="76" y="220"/>
                  </a:lnTo>
                  <a:lnTo>
                    <a:pt x="88" y="217"/>
                  </a:lnTo>
                  <a:lnTo>
                    <a:pt x="93" y="215"/>
                  </a:lnTo>
                  <a:lnTo>
                    <a:pt x="98" y="211"/>
                  </a:lnTo>
                  <a:lnTo>
                    <a:pt x="102" y="206"/>
                  </a:lnTo>
                  <a:lnTo>
                    <a:pt x="107" y="201"/>
                  </a:lnTo>
                  <a:lnTo>
                    <a:pt x="107" y="201"/>
                  </a:lnTo>
                  <a:lnTo>
                    <a:pt x="109" y="199"/>
                  </a:lnTo>
                  <a:lnTo>
                    <a:pt x="109" y="199"/>
                  </a:lnTo>
                  <a:lnTo>
                    <a:pt x="110" y="198"/>
                  </a:lnTo>
                  <a:lnTo>
                    <a:pt x="110" y="198"/>
                  </a:lnTo>
                  <a:lnTo>
                    <a:pt x="110" y="196"/>
                  </a:lnTo>
                  <a:lnTo>
                    <a:pt x="110" y="194"/>
                  </a:lnTo>
                  <a:lnTo>
                    <a:pt x="110" y="194"/>
                  </a:lnTo>
                  <a:lnTo>
                    <a:pt x="105" y="191"/>
                  </a:lnTo>
                  <a:lnTo>
                    <a:pt x="100" y="188"/>
                  </a:lnTo>
                  <a:lnTo>
                    <a:pt x="96" y="182"/>
                  </a:lnTo>
                  <a:lnTo>
                    <a:pt x="93" y="179"/>
                  </a:lnTo>
                  <a:lnTo>
                    <a:pt x="90" y="174"/>
                  </a:lnTo>
                  <a:lnTo>
                    <a:pt x="86" y="169"/>
                  </a:lnTo>
                  <a:lnTo>
                    <a:pt x="83" y="164"/>
                  </a:lnTo>
                  <a:lnTo>
                    <a:pt x="76" y="162"/>
                  </a:lnTo>
                  <a:lnTo>
                    <a:pt x="74" y="160"/>
                  </a:lnTo>
                  <a:lnTo>
                    <a:pt x="71" y="160"/>
                  </a:lnTo>
                  <a:lnTo>
                    <a:pt x="69" y="160"/>
                  </a:lnTo>
                  <a:lnTo>
                    <a:pt x="67" y="158"/>
                  </a:lnTo>
                  <a:lnTo>
                    <a:pt x="64" y="157"/>
                  </a:lnTo>
                  <a:lnTo>
                    <a:pt x="62" y="157"/>
                  </a:lnTo>
                  <a:lnTo>
                    <a:pt x="60" y="155"/>
                  </a:lnTo>
                  <a:lnTo>
                    <a:pt x="59" y="152"/>
                  </a:lnTo>
                  <a:lnTo>
                    <a:pt x="59" y="152"/>
                  </a:lnTo>
                  <a:lnTo>
                    <a:pt x="59" y="152"/>
                  </a:lnTo>
                  <a:lnTo>
                    <a:pt x="59" y="150"/>
                  </a:lnTo>
                  <a:lnTo>
                    <a:pt x="59" y="150"/>
                  </a:lnTo>
                  <a:lnTo>
                    <a:pt x="59" y="148"/>
                  </a:lnTo>
                  <a:lnTo>
                    <a:pt x="59" y="148"/>
                  </a:lnTo>
                  <a:lnTo>
                    <a:pt x="59" y="148"/>
                  </a:lnTo>
                  <a:lnTo>
                    <a:pt x="57" y="147"/>
                  </a:lnTo>
                  <a:lnTo>
                    <a:pt x="53" y="148"/>
                  </a:lnTo>
                  <a:lnTo>
                    <a:pt x="52" y="150"/>
                  </a:lnTo>
                  <a:lnTo>
                    <a:pt x="48" y="152"/>
                  </a:lnTo>
                  <a:lnTo>
                    <a:pt x="46" y="155"/>
                  </a:lnTo>
                  <a:lnTo>
                    <a:pt x="43" y="157"/>
                  </a:lnTo>
                  <a:lnTo>
                    <a:pt x="41" y="157"/>
                  </a:lnTo>
                  <a:lnTo>
                    <a:pt x="38" y="157"/>
                  </a:lnTo>
                  <a:lnTo>
                    <a:pt x="34" y="153"/>
                  </a:lnTo>
                  <a:lnTo>
                    <a:pt x="33" y="157"/>
                  </a:lnTo>
                  <a:lnTo>
                    <a:pt x="29" y="158"/>
                  </a:lnTo>
                  <a:lnTo>
                    <a:pt x="26" y="160"/>
                  </a:lnTo>
                  <a:lnTo>
                    <a:pt x="22" y="162"/>
                  </a:lnTo>
                  <a:lnTo>
                    <a:pt x="21" y="164"/>
                  </a:lnTo>
                  <a:lnTo>
                    <a:pt x="19" y="165"/>
                  </a:lnTo>
                  <a:lnTo>
                    <a:pt x="19" y="167"/>
                  </a:lnTo>
                  <a:lnTo>
                    <a:pt x="22" y="170"/>
                  </a:lnTo>
                  <a:lnTo>
                    <a:pt x="22" y="172"/>
                  </a:lnTo>
                  <a:lnTo>
                    <a:pt x="22" y="174"/>
                  </a:lnTo>
                  <a:lnTo>
                    <a:pt x="21" y="176"/>
                  </a:lnTo>
                  <a:lnTo>
                    <a:pt x="21" y="176"/>
                  </a:lnTo>
                  <a:lnTo>
                    <a:pt x="19" y="177"/>
                  </a:lnTo>
                  <a:lnTo>
                    <a:pt x="19" y="179"/>
                  </a:lnTo>
                  <a:lnTo>
                    <a:pt x="19" y="179"/>
                  </a:lnTo>
                  <a:lnTo>
                    <a:pt x="17" y="181"/>
                  </a:lnTo>
                  <a:lnTo>
                    <a:pt x="15" y="176"/>
                  </a:lnTo>
                  <a:lnTo>
                    <a:pt x="14" y="170"/>
                  </a:lnTo>
                  <a:lnTo>
                    <a:pt x="12" y="165"/>
                  </a:lnTo>
                  <a:lnTo>
                    <a:pt x="10" y="160"/>
                  </a:lnTo>
                  <a:lnTo>
                    <a:pt x="9" y="153"/>
                  </a:lnTo>
                  <a:lnTo>
                    <a:pt x="7" y="148"/>
                  </a:lnTo>
                  <a:lnTo>
                    <a:pt x="5" y="143"/>
                  </a:lnTo>
                  <a:lnTo>
                    <a:pt x="2" y="138"/>
                  </a:lnTo>
                  <a:lnTo>
                    <a:pt x="5" y="136"/>
                  </a:lnTo>
                  <a:lnTo>
                    <a:pt x="7" y="135"/>
                  </a:lnTo>
                  <a:lnTo>
                    <a:pt x="7" y="133"/>
                  </a:lnTo>
                  <a:lnTo>
                    <a:pt x="9" y="131"/>
                  </a:lnTo>
                  <a:lnTo>
                    <a:pt x="9" y="129"/>
                  </a:lnTo>
                  <a:lnTo>
                    <a:pt x="10" y="126"/>
                  </a:lnTo>
                  <a:lnTo>
                    <a:pt x="10" y="124"/>
                  </a:lnTo>
                  <a:lnTo>
                    <a:pt x="12" y="123"/>
                  </a:lnTo>
                  <a:lnTo>
                    <a:pt x="17" y="117"/>
                  </a:lnTo>
                  <a:lnTo>
                    <a:pt x="22" y="114"/>
                  </a:lnTo>
                  <a:lnTo>
                    <a:pt x="27" y="111"/>
                  </a:lnTo>
                  <a:lnTo>
                    <a:pt x="34" y="109"/>
                  </a:lnTo>
                  <a:lnTo>
                    <a:pt x="41" y="107"/>
                  </a:lnTo>
                  <a:lnTo>
                    <a:pt x="46" y="106"/>
                  </a:lnTo>
                  <a:lnTo>
                    <a:pt x="53" y="106"/>
                  </a:lnTo>
                  <a:lnTo>
                    <a:pt x="60" y="106"/>
                  </a:lnTo>
                  <a:lnTo>
                    <a:pt x="60" y="107"/>
                  </a:lnTo>
                  <a:lnTo>
                    <a:pt x="62" y="109"/>
                  </a:lnTo>
                  <a:lnTo>
                    <a:pt x="62" y="109"/>
                  </a:lnTo>
                  <a:lnTo>
                    <a:pt x="62" y="111"/>
                  </a:lnTo>
                  <a:lnTo>
                    <a:pt x="64" y="112"/>
                  </a:lnTo>
                  <a:lnTo>
                    <a:pt x="64" y="112"/>
                  </a:lnTo>
                  <a:lnTo>
                    <a:pt x="65" y="112"/>
                  </a:lnTo>
                  <a:lnTo>
                    <a:pt x="67" y="112"/>
                  </a:lnTo>
                  <a:lnTo>
                    <a:pt x="69" y="114"/>
                  </a:lnTo>
                  <a:lnTo>
                    <a:pt x="71" y="114"/>
                  </a:lnTo>
                  <a:lnTo>
                    <a:pt x="72" y="112"/>
                  </a:lnTo>
                  <a:lnTo>
                    <a:pt x="74" y="112"/>
                  </a:lnTo>
                  <a:lnTo>
                    <a:pt x="76" y="112"/>
                  </a:lnTo>
                  <a:lnTo>
                    <a:pt x="77" y="111"/>
                  </a:lnTo>
                  <a:lnTo>
                    <a:pt x="77" y="109"/>
                  </a:lnTo>
                  <a:lnTo>
                    <a:pt x="79" y="107"/>
                  </a:lnTo>
                  <a:lnTo>
                    <a:pt x="79" y="107"/>
                  </a:lnTo>
                  <a:lnTo>
                    <a:pt x="79" y="106"/>
                  </a:lnTo>
                  <a:lnTo>
                    <a:pt x="79" y="104"/>
                  </a:lnTo>
                  <a:lnTo>
                    <a:pt x="79" y="102"/>
                  </a:lnTo>
                  <a:lnTo>
                    <a:pt x="79" y="100"/>
                  </a:lnTo>
                  <a:lnTo>
                    <a:pt x="79" y="99"/>
                  </a:lnTo>
                  <a:lnTo>
                    <a:pt x="79" y="99"/>
                  </a:lnTo>
                  <a:lnTo>
                    <a:pt x="77" y="97"/>
                  </a:lnTo>
                  <a:lnTo>
                    <a:pt x="74" y="94"/>
                  </a:lnTo>
                  <a:lnTo>
                    <a:pt x="71" y="92"/>
                  </a:lnTo>
                  <a:lnTo>
                    <a:pt x="69" y="92"/>
                  </a:lnTo>
                  <a:lnTo>
                    <a:pt x="65" y="94"/>
                  </a:lnTo>
                  <a:lnTo>
                    <a:pt x="62" y="95"/>
                  </a:lnTo>
                  <a:lnTo>
                    <a:pt x="59" y="95"/>
                  </a:lnTo>
                  <a:lnTo>
                    <a:pt x="55" y="95"/>
                  </a:lnTo>
                  <a:lnTo>
                    <a:pt x="50" y="95"/>
                  </a:lnTo>
                  <a:lnTo>
                    <a:pt x="43" y="95"/>
                  </a:lnTo>
                  <a:lnTo>
                    <a:pt x="36" y="97"/>
                  </a:lnTo>
                  <a:lnTo>
                    <a:pt x="29" y="99"/>
                  </a:lnTo>
                  <a:lnTo>
                    <a:pt x="24" y="102"/>
                  </a:lnTo>
                  <a:lnTo>
                    <a:pt x="17" y="104"/>
                  </a:lnTo>
                  <a:lnTo>
                    <a:pt x="12" y="109"/>
                  </a:lnTo>
                  <a:lnTo>
                    <a:pt x="7" y="112"/>
                  </a:lnTo>
                  <a:lnTo>
                    <a:pt x="2" y="117"/>
                  </a:lnTo>
                  <a:lnTo>
                    <a:pt x="0" y="114"/>
                  </a:lnTo>
                  <a:lnTo>
                    <a:pt x="0" y="111"/>
                  </a:lnTo>
                  <a:lnTo>
                    <a:pt x="2" y="107"/>
                  </a:lnTo>
                  <a:lnTo>
                    <a:pt x="3" y="104"/>
                  </a:lnTo>
                  <a:lnTo>
                    <a:pt x="5" y="100"/>
                  </a:lnTo>
                  <a:lnTo>
                    <a:pt x="7" y="97"/>
                  </a:lnTo>
                  <a:lnTo>
                    <a:pt x="7" y="94"/>
                  </a:lnTo>
                  <a:lnTo>
                    <a:pt x="7" y="90"/>
                  </a:lnTo>
                  <a:lnTo>
                    <a:pt x="14" y="75"/>
                  </a:lnTo>
                  <a:lnTo>
                    <a:pt x="22" y="63"/>
                  </a:lnTo>
                  <a:lnTo>
                    <a:pt x="34" y="51"/>
                  </a:lnTo>
                  <a:lnTo>
                    <a:pt x="46" y="41"/>
                  </a:lnTo>
                  <a:lnTo>
                    <a:pt x="59" y="30"/>
                  </a:lnTo>
                  <a:lnTo>
                    <a:pt x="72" y="22"/>
                  </a:lnTo>
                  <a:lnTo>
                    <a:pt x="84" y="10"/>
                  </a:lnTo>
                  <a:lnTo>
                    <a:pt x="96" y="0"/>
                  </a:lnTo>
                  <a:lnTo>
                    <a:pt x="115" y="3"/>
                  </a:lnTo>
                  <a:lnTo>
                    <a:pt x="136" y="5"/>
                  </a:lnTo>
                  <a:lnTo>
                    <a:pt x="157" y="8"/>
                  </a:lnTo>
                  <a:lnTo>
                    <a:pt x="177" y="10"/>
                  </a:lnTo>
                  <a:lnTo>
                    <a:pt x="198" y="13"/>
                  </a:lnTo>
                  <a:lnTo>
                    <a:pt x="219" y="18"/>
                  </a:lnTo>
                  <a:lnTo>
                    <a:pt x="238" y="24"/>
                  </a:lnTo>
                  <a:lnTo>
                    <a:pt x="258" y="29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177920" y="2449440"/>
              <a:ext cx="566640" cy="585720"/>
            </a:xfrm>
            <a:custGeom>
              <a:avLst/>
              <a:gdLst/>
              <a:ahLst/>
              <a:rect l="l" t="t" r="r" b="b"/>
              <a:pathLst>
                <a:path w="824" h="926">
                  <a:moveTo>
                    <a:pt x="824" y="12"/>
                  </a:moveTo>
                  <a:lnTo>
                    <a:pt x="822" y="18"/>
                  </a:lnTo>
                  <a:lnTo>
                    <a:pt x="819" y="24"/>
                  </a:lnTo>
                  <a:lnTo>
                    <a:pt x="817" y="30"/>
                  </a:lnTo>
                  <a:lnTo>
                    <a:pt x="815" y="36"/>
                  </a:lnTo>
                  <a:lnTo>
                    <a:pt x="812" y="42"/>
                  </a:lnTo>
                  <a:lnTo>
                    <a:pt x="810" y="47"/>
                  </a:lnTo>
                  <a:lnTo>
                    <a:pt x="807" y="54"/>
                  </a:lnTo>
                  <a:lnTo>
                    <a:pt x="805" y="59"/>
                  </a:lnTo>
                  <a:lnTo>
                    <a:pt x="801" y="66"/>
                  </a:lnTo>
                  <a:lnTo>
                    <a:pt x="795" y="73"/>
                  </a:lnTo>
                  <a:lnTo>
                    <a:pt x="789" y="78"/>
                  </a:lnTo>
                  <a:lnTo>
                    <a:pt x="783" y="83"/>
                  </a:lnTo>
                  <a:lnTo>
                    <a:pt x="776" y="89"/>
                  </a:lnTo>
                  <a:lnTo>
                    <a:pt x="769" y="92"/>
                  </a:lnTo>
                  <a:lnTo>
                    <a:pt x="760" y="95"/>
                  </a:lnTo>
                  <a:lnTo>
                    <a:pt x="753" y="99"/>
                  </a:lnTo>
                  <a:lnTo>
                    <a:pt x="748" y="104"/>
                  </a:lnTo>
                  <a:lnTo>
                    <a:pt x="743" y="107"/>
                  </a:lnTo>
                  <a:lnTo>
                    <a:pt x="736" y="112"/>
                  </a:lnTo>
                  <a:lnTo>
                    <a:pt x="731" y="116"/>
                  </a:lnTo>
                  <a:lnTo>
                    <a:pt x="726" y="121"/>
                  </a:lnTo>
                  <a:lnTo>
                    <a:pt x="719" y="124"/>
                  </a:lnTo>
                  <a:lnTo>
                    <a:pt x="714" y="128"/>
                  </a:lnTo>
                  <a:lnTo>
                    <a:pt x="707" y="130"/>
                  </a:lnTo>
                  <a:lnTo>
                    <a:pt x="703" y="133"/>
                  </a:lnTo>
                  <a:lnTo>
                    <a:pt x="703" y="136"/>
                  </a:lnTo>
                  <a:lnTo>
                    <a:pt x="703" y="141"/>
                  </a:lnTo>
                  <a:lnTo>
                    <a:pt x="705" y="143"/>
                  </a:lnTo>
                  <a:lnTo>
                    <a:pt x="707" y="147"/>
                  </a:lnTo>
                  <a:lnTo>
                    <a:pt x="708" y="150"/>
                  </a:lnTo>
                  <a:lnTo>
                    <a:pt x="712" y="153"/>
                  </a:lnTo>
                  <a:lnTo>
                    <a:pt x="714" y="157"/>
                  </a:lnTo>
                  <a:lnTo>
                    <a:pt x="720" y="159"/>
                  </a:lnTo>
                  <a:lnTo>
                    <a:pt x="724" y="162"/>
                  </a:lnTo>
                  <a:lnTo>
                    <a:pt x="727" y="165"/>
                  </a:lnTo>
                  <a:lnTo>
                    <a:pt x="731" y="171"/>
                  </a:lnTo>
                  <a:lnTo>
                    <a:pt x="733" y="181"/>
                  </a:lnTo>
                  <a:lnTo>
                    <a:pt x="733" y="191"/>
                  </a:lnTo>
                  <a:lnTo>
                    <a:pt x="731" y="203"/>
                  </a:lnTo>
                  <a:lnTo>
                    <a:pt x="731" y="215"/>
                  </a:lnTo>
                  <a:lnTo>
                    <a:pt x="731" y="220"/>
                  </a:lnTo>
                  <a:lnTo>
                    <a:pt x="733" y="225"/>
                  </a:lnTo>
                  <a:lnTo>
                    <a:pt x="736" y="230"/>
                  </a:lnTo>
                  <a:lnTo>
                    <a:pt x="739" y="235"/>
                  </a:lnTo>
                  <a:lnTo>
                    <a:pt x="741" y="237"/>
                  </a:lnTo>
                  <a:lnTo>
                    <a:pt x="743" y="239"/>
                  </a:lnTo>
                  <a:lnTo>
                    <a:pt x="745" y="241"/>
                  </a:lnTo>
                  <a:lnTo>
                    <a:pt x="746" y="242"/>
                  </a:lnTo>
                  <a:lnTo>
                    <a:pt x="748" y="244"/>
                  </a:lnTo>
                  <a:lnTo>
                    <a:pt x="752" y="244"/>
                  </a:lnTo>
                  <a:lnTo>
                    <a:pt x="753" y="246"/>
                  </a:lnTo>
                  <a:lnTo>
                    <a:pt x="757" y="246"/>
                  </a:lnTo>
                  <a:lnTo>
                    <a:pt x="755" y="251"/>
                  </a:lnTo>
                  <a:lnTo>
                    <a:pt x="755" y="258"/>
                  </a:lnTo>
                  <a:lnTo>
                    <a:pt x="753" y="263"/>
                  </a:lnTo>
                  <a:lnTo>
                    <a:pt x="750" y="270"/>
                  </a:lnTo>
                  <a:lnTo>
                    <a:pt x="748" y="275"/>
                  </a:lnTo>
                  <a:lnTo>
                    <a:pt x="746" y="282"/>
                  </a:lnTo>
                  <a:lnTo>
                    <a:pt x="746" y="287"/>
                  </a:lnTo>
                  <a:lnTo>
                    <a:pt x="746" y="294"/>
                  </a:lnTo>
                  <a:lnTo>
                    <a:pt x="739" y="307"/>
                  </a:lnTo>
                  <a:lnTo>
                    <a:pt x="736" y="321"/>
                  </a:lnTo>
                  <a:lnTo>
                    <a:pt x="733" y="336"/>
                  </a:lnTo>
                  <a:lnTo>
                    <a:pt x="729" y="350"/>
                  </a:lnTo>
                  <a:lnTo>
                    <a:pt x="727" y="365"/>
                  </a:lnTo>
                  <a:lnTo>
                    <a:pt x="724" y="381"/>
                  </a:lnTo>
                  <a:lnTo>
                    <a:pt x="722" y="394"/>
                  </a:lnTo>
                  <a:lnTo>
                    <a:pt x="717" y="410"/>
                  </a:lnTo>
                  <a:lnTo>
                    <a:pt x="708" y="447"/>
                  </a:lnTo>
                  <a:lnTo>
                    <a:pt x="698" y="485"/>
                  </a:lnTo>
                  <a:lnTo>
                    <a:pt x="689" y="524"/>
                  </a:lnTo>
                  <a:lnTo>
                    <a:pt x="681" y="562"/>
                  </a:lnTo>
                  <a:lnTo>
                    <a:pt x="672" y="601"/>
                  </a:lnTo>
                  <a:lnTo>
                    <a:pt x="664" y="639"/>
                  </a:lnTo>
                  <a:lnTo>
                    <a:pt x="655" y="678"/>
                  </a:lnTo>
                  <a:lnTo>
                    <a:pt x="646" y="716"/>
                  </a:lnTo>
                  <a:lnTo>
                    <a:pt x="646" y="719"/>
                  </a:lnTo>
                  <a:lnTo>
                    <a:pt x="645" y="721"/>
                  </a:lnTo>
                  <a:lnTo>
                    <a:pt x="645" y="724"/>
                  </a:lnTo>
                  <a:lnTo>
                    <a:pt x="645" y="726"/>
                  </a:lnTo>
                  <a:lnTo>
                    <a:pt x="645" y="727"/>
                  </a:lnTo>
                  <a:lnTo>
                    <a:pt x="645" y="729"/>
                  </a:lnTo>
                  <a:lnTo>
                    <a:pt x="645" y="733"/>
                  </a:lnTo>
                  <a:lnTo>
                    <a:pt x="643" y="734"/>
                  </a:lnTo>
                  <a:lnTo>
                    <a:pt x="641" y="743"/>
                  </a:lnTo>
                  <a:lnTo>
                    <a:pt x="639" y="750"/>
                  </a:lnTo>
                  <a:lnTo>
                    <a:pt x="636" y="758"/>
                  </a:lnTo>
                  <a:lnTo>
                    <a:pt x="634" y="765"/>
                  </a:lnTo>
                  <a:lnTo>
                    <a:pt x="633" y="772"/>
                  </a:lnTo>
                  <a:lnTo>
                    <a:pt x="629" y="780"/>
                  </a:lnTo>
                  <a:lnTo>
                    <a:pt x="627" y="789"/>
                  </a:lnTo>
                  <a:lnTo>
                    <a:pt x="627" y="796"/>
                  </a:lnTo>
                  <a:lnTo>
                    <a:pt x="621" y="811"/>
                  </a:lnTo>
                  <a:lnTo>
                    <a:pt x="615" y="827"/>
                  </a:lnTo>
                  <a:lnTo>
                    <a:pt x="614" y="842"/>
                  </a:lnTo>
                  <a:lnTo>
                    <a:pt x="612" y="859"/>
                  </a:lnTo>
                  <a:lnTo>
                    <a:pt x="610" y="876"/>
                  </a:lnTo>
                  <a:lnTo>
                    <a:pt x="608" y="891"/>
                  </a:lnTo>
                  <a:lnTo>
                    <a:pt x="607" y="907"/>
                  </a:lnTo>
                  <a:lnTo>
                    <a:pt x="602" y="921"/>
                  </a:lnTo>
                  <a:lnTo>
                    <a:pt x="598" y="924"/>
                  </a:lnTo>
                  <a:lnTo>
                    <a:pt x="596" y="926"/>
                  </a:lnTo>
                  <a:lnTo>
                    <a:pt x="593" y="926"/>
                  </a:lnTo>
                  <a:lnTo>
                    <a:pt x="589" y="924"/>
                  </a:lnTo>
                  <a:lnTo>
                    <a:pt x="586" y="924"/>
                  </a:lnTo>
                  <a:lnTo>
                    <a:pt x="583" y="922"/>
                  </a:lnTo>
                  <a:lnTo>
                    <a:pt x="579" y="921"/>
                  </a:lnTo>
                  <a:lnTo>
                    <a:pt x="576" y="921"/>
                  </a:lnTo>
                  <a:lnTo>
                    <a:pt x="560" y="912"/>
                  </a:lnTo>
                  <a:lnTo>
                    <a:pt x="545" y="905"/>
                  </a:lnTo>
                  <a:lnTo>
                    <a:pt x="529" y="900"/>
                  </a:lnTo>
                  <a:lnTo>
                    <a:pt x="512" y="897"/>
                  </a:lnTo>
                  <a:lnTo>
                    <a:pt x="493" y="893"/>
                  </a:lnTo>
                  <a:lnTo>
                    <a:pt x="476" y="891"/>
                  </a:lnTo>
                  <a:lnTo>
                    <a:pt x="457" y="891"/>
                  </a:lnTo>
                  <a:lnTo>
                    <a:pt x="440" y="890"/>
                  </a:lnTo>
                  <a:lnTo>
                    <a:pt x="427" y="898"/>
                  </a:lnTo>
                  <a:lnTo>
                    <a:pt x="414" y="903"/>
                  </a:lnTo>
                  <a:lnTo>
                    <a:pt x="400" y="909"/>
                  </a:lnTo>
                  <a:lnTo>
                    <a:pt x="384" y="912"/>
                  </a:lnTo>
                  <a:lnTo>
                    <a:pt x="371" y="915"/>
                  </a:lnTo>
                  <a:lnTo>
                    <a:pt x="355" y="917"/>
                  </a:lnTo>
                  <a:lnTo>
                    <a:pt x="340" y="919"/>
                  </a:lnTo>
                  <a:lnTo>
                    <a:pt x="324" y="921"/>
                  </a:lnTo>
                  <a:lnTo>
                    <a:pt x="322" y="919"/>
                  </a:lnTo>
                  <a:lnTo>
                    <a:pt x="321" y="919"/>
                  </a:lnTo>
                  <a:lnTo>
                    <a:pt x="319" y="917"/>
                  </a:lnTo>
                  <a:lnTo>
                    <a:pt x="317" y="915"/>
                  </a:lnTo>
                  <a:lnTo>
                    <a:pt x="315" y="914"/>
                  </a:lnTo>
                  <a:lnTo>
                    <a:pt x="314" y="912"/>
                  </a:lnTo>
                  <a:lnTo>
                    <a:pt x="312" y="910"/>
                  </a:lnTo>
                  <a:lnTo>
                    <a:pt x="310" y="909"/>
                  </a:lnTo>
                  <a:lnTo>
                    <a:pt x="310" y="903"/>
                  </a:lnTo>
                  <a:lnTo>
                    <a:pt x="307" y="900"/>
                  </a:lnTo>
                  <a:lnTo>
                    <a:pt x="303" y="897"/>
                  </a:lnTo>
                  <a:lnTo>
                    <a:pt x="300" y="895"/>
                  </a:lnTo>
                  <a:lnTo>
                    <a:pt x="295" y="893"/>
                  </a:lnTo>
                  <a:lnTo>
                    <a:pt x="290" y="891"/>
                  </a:lnTo>
                  <a:lnTo>
                    <a:pt x="284" y="890"/>
                  </a:lnTo>
                  <a:lnTo>
                    <a:pt x="281" y="888"/>
                  </a:lnTo>
                  <a:lnTo>
                    <a:pt x="271" y="883"/>
                  </a:lnTo>
                  <a:lnTo>
                    <a:pt x="262" y="876"/>
                  </a:lnTo>
                  <a:lnTo>
                    <a:pt x="253" y="868"/>
                  </a:lnTo>
                  <a:lnTo>
                    <a:pt x="246" y="859"/>
                  </a:lnTo>
                  <a:lnTo>
                    <a:pt x="240" y="849"/>
                  </a:lnTo>
                  <a:lnTo>
                    <a:pt x="233" y="839"/>
                  </a:lnTo>
                  <a:lnTo>
                    <a:pt x="227" y="828"/>
                  </a:lnTo>
                  <a:lnTo>
                    <a:pt x="219" y="820"/>
                  </a:lnTo>
                  <a:lnTo>
                    <a:pt x="219" y="815"/>
                  </a:lnTo>
                  <a:lnTo>
                    <a:pt x="215" y="809"/>
                  </a:lnTo>
                  <a:lnTo>
                    <a:pt x="212" y="806"/>
                  </a:lnTo>
                  <a:lnTo>
                    <a:pt x="207" y="803"/>
                  </a:lnTo>
                  <a:lnTo>
                    <a:pt x="202" y="801"/>
                  </a:lnTo>
                  <a:lnTo>
                    <a:pt x="196" y="798"/>
                  </a:lnTo>
                  <a:lnTo>
                    <a:pt x="191" y="796"/>
                  </a:lnTo>
                  <a:lnTo>
                    <a:pt x="188" y="792"/>
                  </a:lnTo>
                  <a:lnTo>
                    <a:pt x="179" y="787"/>
                  </a:lnTo>
                  <a:lnTo>
                    <a:pt x="171" y="784"/>
                  </a:lnTo>
                  <a:lnTo>
                    <a:pt x="162" y="780"/>
                  </a:lnTo>
                  <a:lnTo>
                    <a:pt x="153" y="779"/>
                  </a:lnTo>
                  <a:lnTo>
                    <a:pt x="145" y="775"/>
                  </a:lnTo>
                  <a:lnTo>
                    <a:pt x="136" y="774"/>
                  </a:lnTo>
                  <a:lnTo>
                    <a:pt x="128" y="772"/>
                  </a:lnTo>
                  <a:lnTo>
                    <a:pt x="117" y="770"/>
                  </a:lnTo>
                  <a:lnTo>
                    <a:pt x="103" y="770"/>
                  </a:lnTo>
                  <a:lnTo>
                    <a:pt x="90" y="770"/>
                  </a:lnTo>
                  <a:lnTo>
                    <a:pt x="74" y="770"/>
                  </a:lnTo>
                  <a:lnTo>
                    <a:pt x="59" y="770"/>
                  </a:lnTo>
                  <a:lnTo>
                    <a:pt x="45" y="770"/>
                  </a:lnTo>
                  <a:lnTo>
                    <a:pt x="29" y="772"/>
                  </a:lnTo>
                  <a:lnTo>
                    <a:pt x="14" y="774"/>
                  </a:lnTo>
                  <a:lnTo>
                    <a:pt x="0" y="774"/>
                  </a:lnTo>
                  <a:lnTo>
                    <a:pt x="26" y="753"/>
                  </a:lnTo>
                  <a:lnTo>
                    <a:pt x="50" y="731"/>
                  </a:lnTo>
                  <a:lnTo>
                    <a:pt x="74" y="709"/>
                  </a:lnTo>
                  <a:lnTo>
                    <a:pt x="96" y="685"/>
                  </a:lnTo>
                  <a:lnTo>
                    <a:pt x="117" y="659"/>
                  </a:lnTo>
                  <a:lnTo>
                    <a:pt x="136" y="634"/>
                  </a:lnTo>
                  <a:lnTo>
                    <a:pt x="157" y="608"/>
                  </a:lnTo>
                  <a:lnTo>
                    <a:pt x="174" y="582"/>
                  </a:lnTo>
                  <a:lnTo>
                    <a:pt x="209" y="528"/>
                  </a:lnTo>
                  <a:lnTo>
                    <a:pt x="241" y="473"/>
                  </a:lnTo>
                  <a:lnTo>
                    <a:pt x="271" y="417"/>
                  </a:lnTo>
                  <a:lnTo>
                    <a:pt x="300" y="362"/>
                  </a:lnTo>
                  <a:lnTo>
                    <a:pt x="309" y="343"/>
                  </a:lnTo>
                  <a:lnTo>
                    <a:pt x="319" y="323"/>
                  </a:lnTo>
                  <a:lnTo>
                    <a:pt x="327" y="304"/>
                  </a:lnTo>
                  <a:lnTo>
                    <a:pt x="338" y="283"/>
                  </a:lnTo>
                  <a:lnTo>
                    <a:pt x="346" y="264"/>
                  </a:lnTo>
                  <a:lnTo>
                    <a:pt x="357" y="246"/>
                  </a:lnTo>
                  <a:lnTo>
                    <a:pt x="365" y="225"/>
                  </a:lnTo>
                  <a:lnTo>
                    <a:pt x="374" y="206"/>
                  </a:lnTo>
                  <a:lnTo>
                    <a:pt x="386" y="184"/>
                  </a:lnTo>
                  <a:lnTo>
                    <a:pt x="398" y="162"/>
                  </a:lnTo>
                  <a:lnTo>
                    <a:pt x="410" y="138"/>
                  </a:lnTo>
                  <a:lnTo>
                    <a:pt x="426" y="118"/>
                  </a:lnTo>
                  <a:lnTo>
                    <a:pt x="434" y="107"/>
                  </a:lnTo>
                  <a:lnTo>
                    <a:pt x="443" y="99"/>
                  </a:lnTo>
                  <a:lnTo>
                    <a:pt x="452" y="90"/>
                  </a:lnTo>
                  <a:lnTo>
                    <a:pt x="462" y="83"/>
                  </a:lnTo>
                  <a:lnTo>
                    <a:pt x="474" y="78"/>
                  </a:lnTo>
                  <a:lnTo>
                    <a:pt x="486" y="73"/>
                  </a:lnTo>
                  <a:lnTo>
                    <a:pt x="500" y="71"/>
                  </a:lnTo>
                  <a:lnTo>
                    <a:pt x="514" y="71"/>
                  </a:lnTo>
                  <a:lnTo>
                    <a:pt x="521" y="68"/>
                  </a:lnTo>
                  <a:lnTo>
                    <a:pt x="533" y="68"/>
                  </a:lnTo>
                  <a:lnTo>
                    <a:pt x="545" y="68"/>
                  </a:lnTo>
                  <a:lnTo>
                    <a:pt x="557" y="68"/>
                  </a:lnTo>
                  <a:lnTo>
                    <a:pt x="569" y="68"/>
                  </a:lnTo>
                  <a:lnTo>
                    <a:pt x="581" y="70"/>
                  </a:lnTo>
                  <a:lnTo>
                    <a:pt x="593" y="70"/>
                  </a:lnTo>
                  <a:lnTo>
                    <a:pt x="603" y="71"/>
                  </a:lnTo>
                  <a:lnTo>
                    <a:pt x="614" y="73"/>
                  </a:lnTo>
                  <a:lnTo>
                    <a:pt x="617" y="75"/>
                  </a:lnTo>
                  <a:lnTo>
                    <a:pt x="619" y="77"/>
                  </a:lnTo>
                  <a:lnTo>
                    <a:pt x="622" y="78"/>
                  </a:lnTo>
                  <a:lnTo>
                    <a:pt x="624" y="80"/>
                  </a:lnTo>
                  <a:lnTo>
                    <a:pt x="627" y="80"/>
                  </a:lnTo>
                  <a:lnTo>
                    <a:pt x="631" y="82"/>
                  </a:lnTo>
                  <a:lnTo>
                    <a:pt x="634" y="80"/>
                  </a:lnTo>
                  <a:lnTo>
                    <a:pt x="638" y="80"/>
                  </a:lnTo>
                  <a:lnTo>
                    <a:pt x="641" y="77"/>
                  </a:lnTo>
                  <a:lnTo>
                    <a:pt x="645" y="75"/>
                  </a:lnTo>
                  <a:lnTo>
                    <a:pt x="648" y="71"/>
                  </a:lnTo>
                  <a:lnTo>
                    <a:pt x="652" y="68"/>
                  </a:lnTo>
                  <a:lnTo>
                    <a:pt x="653" y="65"/>
                  </a:lnTo>
                  <a:lnTo>
                    <a:pt x="657" y="61"/>
                  </a:lnTo>
                  <a:lnTo>
                    <a:pt x="662" y="59"/>
                  </a:lnTo>
                  <a:lnTo>
                    <a:pt x="667" y="58"/>
                  </a:lnTo>
                  <a:lnTo>
                    <a:pt x="670" y="61"/>
                  </a:lnTo>
                  <a:lnTo>
                    <a:pt x="674" y="65"/>
                  </a:lnTo>
                  <a:lnTo>
                    <a:pt x="679" y="68"/>
                  </a:lnTo>
                  <a:lnTo>
                    <a:pt x="684" y="70"/>
                  </a:lnTo>
                  <a:lnTo>
                    <a:pt x="689" y="71"/>
                  </a:lnTo>
                  <a:lnTo>
                    <a:pt x="695" y="71"/>
                  </a:lnTo>
                  <a:lnTo>
                    <a:pt x="700" y="71"/>
                  </a:lnTo>
                  <a:lnTo>
                    <a:pt x="707" y="71"/>
                  </a:lnTo>
                  <a:lnTo>
                    <a:pt x="708" y="68"/>
                  </a:lnTo>
                  <a:lnTo>
                    <a:pt x="710" y="66"/>
                  </a:lnTo>
                  <a:lnTo>
                    <a:pt x="714" y="63"/>
                  </a:lnTo>
                  <a:lnTo>
                    <a:pt x="715" y="61"/>
                  </a:lnTo>
                  <a:lnTo>
                    <a:pt x="717" y="58"/>
                  </a:lnTo>
                  <a:lnTo>
                    <a:pt x="720" y="56"/>
                  </a:lnTo>
                  <a:lnTo>
                    <a:pt x="722" y="54"/>
                  </a:lnTo>
                  <a:lnTo>
                    <a:pt x="724" y="53"/>
                  </a:lnTo>
                  <a:lnTo>
                    <a:pt x="729" y="54"/>
                  </a:lnTo>
                  <a:lnTo>
                    <a:pt x="734" y="54"/>
                  </a:lnTo>
                  <a:lnTo>
                    <a:pt x="739" y="54"/>
                  </a:lnTo>
                  <a:lnTo>
                    <a:pt x="745" y="54"/>
                  </a:lnTo>
                  <a:lnTo>
                    <a:pt x="750" y="53"/>
                  </a:lnTo>
                  <a:lnTo>
                    <a:pt x="755" y="51"/>
                  </a:lnTo>
                  <a:lnTo>
                    <a:pt x="758" y="47"/>
                  </a:lnTo>
                  <a:lnTo>
                    <a:pt x="764" y="44"/>
                  </a:lnTo>
                  <a:lnTo>
                    <a:pt x="767" y="39"/>
                  </a:lnTo>
                  <a:lnTo>
                    <a:pt x="769" y="34"/>
                  </a:lnTo>
                  <a:lnTo>
                    <a:pt x="770" y="29"/>
                  </a:lnTo>
                  <a:lnTo>
                    <a:pt x="770" y="22"/>
                  </a:lnTo>
                  <a:lnTo>
                    <a:pt x="772" y="17"/>
                  </a:lnTo>
                  <a:lnTo>
                    <a:pt x="774" y="12"/>
                  </a:lnTo>
                  <a:lnTo>
                    <a:pt x="777" y="6"/>
                  </a:lnTo>
                  <a:lnTo>
                    <a:pt x="784" y="3"/>
                  </a:lnTo>
                  <a:lnTo>
                    <a:pt x="784" y="0"/>
                  </a:lnTo>
                  <a:lnTo>
                    <a:pt x="788" y="3"/>
                  </a:lnTo>
                  <a:lnTo>
                    <a:pt x="793" y="5"/>
                  </a:lnTo>
                  <a:lnTo>
                    <a:pt x="798" y="6"/>
                  </a:lnTo>
                  <a:lnTo>
                    <a:pt x="803" y="8"/>
                  </a:lnTo>
                  <a:lnTo>
                    <a:pt x="808" y="10"/>
                  </a:lnTo>
                  <a:lnTo>
                    <a:pt x="814" y="12"/>
                  </a:lnTo>
                  <a:lnTo>
                    <a:pt x="819" y="12"/>
                  </a:lnTo>
                  <a:lnTo>
                    <a:pt x="824" y="1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97120" y="2463840"/>
              <a:ext cx="554040" cy="571320"/>
            </a:xfrm>
            <a:custGeom>
              <a:avLst/>
              <a:gdLst/>
              <a:ahLst/>
              <a:rect l="l" t="t" r="r" b="b"/>
              <a:pathLst>
                <a:path w="807" h="904">
                  <a:moveTo>
                    <a:pt x="326" y="24"/>
                  </a:moveTo>
                  <a:lnTo>
                    <a:pt x="336" y="29"/>
                  </a:lnTo>
                  <a:lnTo>
                    <a:pt x="345" y="36"/>
                  </a:lnTo>
                  <a:lnTo>
                    <a:pt x="355" y="42"/>
                  </a:lnTo>
                  <a:lnTo>
                    <a:pt x="366" y="49"/>
                  </a:lnTo>
                  <a:lnTo>
                    <a:pt x="376" y="56"/>
                  </a:lnTo>
                  <a:lnTo>
                    <a:pt x="385" y="65"/>
                  </a:lnTo>
                  <a:lnTo>
                    <a:pt x="393" y="72"/>
                  </a:lnTo>
                  <a:lnTo>
                    <a:pt x="398" y="80"/>
                  </a:lnTo>
                  <a:lnTo>
                    <a:pt x="407" y="89"/>
                  </a:lnTo>
                  <a:lnTo>
                    <a:pt x="414" y="95"/>
                  </a:lnTo>
                  <a:lnTo>
                    <a:pt x="419" y="104"/>
                  </a:lnTo>
                  <a:lnTo>
                    <a:pt x="424" y="113"/>
                  </a:lnTo>
                  <a:lnTo>
                    <a:pt x="429" y="121"/>
                  </a:lnTo>
                  <a:lnTo>
                    <a:pt x="433" y="130"/>
                  </a:lnTo>
                  <a:lnTo>
                    <a:pt x="436" y="138"/>
                  </a:lnTo>
                  <a:lnTo>
                    <a:pt x="438" y="147"/>
                  </a:lnTo>
                  <a:lnTo>
                    <a:pt x="442" y="148"/>
                  </a:lnTo>
                  <a:lnTo>
                    <a:pt x="455" y="179"/>
                  </a:lnTo>
                  <a:lnTo>
                    <a:pt x="473" y="208"/>
                  </a:lnTo>
                  <a:lnTo>
                    <a:pt x="492" y="237"/>
                  </a:lnTo>
                  <a:lnTo>
                    <a:pt x="510" y="265"/>
                  </a:lnTo>
                  <a:lnTo>
                    <a:pt x="531" y="294"/>
                  </a:lnTo>
                  <a:lnTo>
                    <a:pt x="550" y="323"/>
                  </a:lnTo>
                  <a:lnTo>
                    <a:pt x="567" y="352"/>
                  </a:lnTo>
                  <a:lnTo>
                    <a:pt x="583" y="381"/>
                  </a:lnTo>
                  <a:lnTo>
                    <a:pt x="585" y="386"/>
                  </a:lnTo>
                  <a:lnTo>
                    <a:pt x="586" y="389"/>
                  </a:lnTo>
                  <a:lnTo>
                    <a:pt x="588" y="393"/>
                  </a:lnTo>
                  <a:lnTo>
                    <a:pt x="592" y="396"/>
                  </a:lnTo>
                  <a:lnTo>
                    <a:pt x="593" y="400"/>
                  </a:lnTo>
                  <a:lnTo>
                    <a:pt x="595" y="403"/>
                  </a:lnTo>
                  <a:lnTo>
                    <a:pt x="597" y="408"/>
                  </a:lnTo>
                  <a:lnTo>
                    <a:pt x="600" y="411"/>
                  </a:lnTo>
                  <a:lnTo>
                    <a:pt x="600" y="415"/>
                  </a:lnTo>
                  <a:lnTo>
                    <a:pt x="602" y="417"/>
                  </a:lnTo>
                  <a:lnTo>
                    <a:pt x="604" y="420"/>
                  </a:lnTo>
                  <a:lnTo>
                    <a:pt x="607" y="423"/>
                  </a:lnTo>
                  <a:lnTo>
                    <a:pt x="609" y="427"/>
                  </a:lnTo>
                  <a:lnTo>
                    <a:pt x="610" y="430"/>
                  </a:lnTo>
                  <a:lnTo>
                    <a:pt x="612" y="434"/>
                  </a:lnTo>
                  <a:lnTo>
                    <a:pt x="614" y="437"/>
                  </a:lnTo>
                  <a:lnTo>
                    <a:pt x="617" y="444"/>
                  </a:lnTo>
                  <a:lnTo>
                    <a:pt x="621" y="451"/>
                  </a:lnTo>
                  <a:lnTo>
                    <a:pt x="624" y="458"/>
                  </a:lnTo>
                  <a:lnTo>
                    <a:pt x="629" y="464"/>
                  </a:lnTo>
                  <a:lnTo>
                    <a:pt x="633" y="471"/>
                  </a:lnTo>
                  <a:lnTo>
                    <a:pt x="636" y="478"/>
                  </a:lnTo>
                  <a:lnTo>
                    <a:pt x="641" y="485"/>
                  </a:lnTo>
                  <a:lnTo>
                    <a:pt x="648" y="492"/>
                  </a:lnTo>
                  <a:lnTo>
                    <a:pt x="666" y="517"/>
                  </a:lnTo>
                  <a:lnTo>
                    <a:pt x="685" y="541"/>
                  </a:lnTo>
                  <a:lnTo>
                    <a:pt x="705" y="567"/>
                  </a:lnTo>
                  <a:lnTo>
                    <a:pt x="726" y="591"/>
                  </a:lnTo>
                  <a:lnTo>
                    <a:pt x="747" y="615"/>
                  </a:lnTo>
                  <a:lnTo>
                    <a:pt x="767" y="639"/>
                  </a:lnTo>
                  <a:lnTo>
                    <a:pt x="788" y="663"/>
                  </a:lnTo>
                  <a:lnTo>
                    <a:pt x="807" y="690"/>
                  </a:lnTo>
                  <a:lnTo>
                    <a:pt x="805" y="699"/>
                  </a:lnTo>
                  <a:lnTo>
                    <a:pt x="802" y="705"/>
                  </a:lnTo>
                  <a:lnTo>
                    <a:pt x="795" y="712"/>
                  </a:lnTo>
                  <a:lnTo>
                    <a:pt x="786" y="717"/>
                  </a:lnTo>
                  <a:lnTo>
                    <a:pt x="778" y="721"/>
                  </a:lnTo>
                  <a:lnTo>
                    <a:pt x="767" y="726"/>
                  </a:lnTo>
                  <a:lnTo>
                    <a:pt x="759" y="731"/>
                  </a:lnTo>
                  <a:lnTo>
                    <a:pt x="752" y="736"/>
                  </a:lnTo>
                  <a:lnTo>
                    <a:pt x="740" y="740"/>
                  </a:lnTo>
                  <a:lnTo>
                    <a:pt x="728" y="743"/>
                  </a:lnTo>
                  <a:lnTo>
                    <a:pt x="717" y="745"/>
                  </a:lnTo>
                  <a:lnTo>
                    <a:pt x="705" y="745"/>
                  </a:lnTo>
                  <a:lnTo>
                    <a:pt x="685" y="741"/>
                  </a:lnTo>
                  <a:lnTo>
                    <a:pt x="662" y="734"/>
                  </a:lnTo>
                  <a:lnTo>
                    <a:pt x="641" y="726"/>
                  </a:lnTo>
                  <a:lnTo>
                    <a:pt x="621" y="717"/>
                  </a:lnTo>
                  <a:lnTo>
                    <a:pt x="600" y="710"/>
                  </a:lnTo>
                  <a:lnTo>
                    <a:pt x="578" y="707"/>
                  </a:lnTo>
                  <a:lnTo>
                    <a:pt x="560" y="709"/>
                  </a:lnTo>
                  <a:lnTo>
                    <a:pt x="543" y="714"/>
                  </a:lnTo>
                  <a:lnTo>
                    <a:pt x="529" y="722"/>
                  </a:lnTo>
                  <a:lnTo>
                    <a:pt x="514" y="731"/>
                  </a:lnTo>
                  <a:lnTo>
                    <a:pt x="500" y="741"/>
                  </a:lnTo>
                  <a:lnTo>
                    <a:pt x="486" y="751"/>
                  </a:lnTo>
                  <a:lnTo>
                    <a:pt x="471" y="762"/>
                  </a:lnTo>
                  <a:lnTo>
                    <a:pt x="455" y="770"/>
                  </a:lnTo>
                  <a:lnTo>
                    <a:pt x="440" y="769"/>
                  </a:lnTo>
                  <a:lnTo>
                    <a:pt x="423" y="767"/>
                  </a:lnTo>
                  <a:lnTo>
                    <a:pt x="407" y="765"/>
                  </a:lnTo>
                  <a:lnTo>
                    <a:pt x="392" y="762"/>
                  </a:lnTo>
                  <a:lnTo>
                    <a:pt x="374" y="760"/>
                  </a:lnTo>
                  <a:lnTo>
                    <a:pt x="359" y="760"/>
                  </a:lnTo>
                  <a:lnTo>
                    <a:pt x="343" y="760"/>
                  </a:lnTo>
                  <a:lnTo>
                    <a:pt x="326" y="763"/>
                  </a:lnTo>
                  <a:lnTo>
                    <a:pt x="314" y="770"/>
                  </a:lnTo>
                  <a:lnTo>
                    <a:pt x="304" y="777"/>
                  </a:lnTo>
                  <a:lnTo>
                    <a:pt x="292" y="784"/>
                  </a:lnTo>
                  <a:lnTo>
                    <a:pt x="281" y="792"/>
                  </a:lnTo>
                  <a:lnTo>
                    <a:pt x="261" y="810"/>
                  </a:lnTo>
                  <a:lnTo>
                    <a:pt x="242" y="830"/>
                  </a:lnTo>
                  <a:lnTo>
                    <a:pt x="223" y="849"/>
                  </a:lnTo>
                  <a:lnTo>
                    <a:pt x="204" y="868"/>
                  </a:lnTo>
                  <a:lnTo>
                    <a:pt x="183" y="883"/>
                  </a:lnTo>
                  <a:lnTo>
                    <a:pt x="162" y="897"/>
                  </a:lnTo>
                  <a:lnTo>
                    <a:pt x="152" y="904"/>
                  </a:lnTo>
                  <a:lnTo>
                    <a:pt x="149" y="892"/>
                  </a:lnTo>
                  <a:lnTo>
                    <a:pt x="145" y="881"/>
                  </a:lnTo>
                  <a:lnTo>
                    <a:pt x="145" y="869"/>
                  </a:lnTo>
                  <a:lnTo>
                    <a:pt x="145" y="857"/>
                  </a:lnTo>
                  <a:lnTo>
                    <a:pt x="147" y="845"/>
                  </a:lnTo>
                  <a:lnTo>
                    <a:pt x="147" y="833"/>
                  </a:lnTo>
                  <a:lnTo>
                    <a:pt x="147" y="822"/>
                  </a:lnTo>
                  <a:lnTo>
                    <a:pt x="145" y="810"/>
                  </a:lnTo>
                  <a:lnTo>
                    <a:pt x="143" y="796"/>
                  </a:lnTo>
                  <a:lnTo>
                    <a:pt x="142" y="782"/>
                  </a:lnTo>
                  <a:lnTo>
                    <a:pt x="140" y="769"/>
                  </a:lnTo>
                  <a:lnTo>
                    <a:pt x="138" y="757"/>
                  </a:lnTo>
                  <a:lnTo>
                    <a:pt x="136" y="743"/>
                  </a:lnTo>
                  <a:lnTo>
                    <a:pt x="133" y="729"/>
                  </a:lnTo>
                  <a:lnTo>
                    <a:pt x="131" y="716"/>
                  </a:lnTo>
                  <a:lnTo>
                    <a:pt x="128" y="704"/>
                  </a:lnTo>
                  <a:lnTo>
                    <a:pt x="130" y="697"/>
                  </a:lnTo>
                  <a:lnTo>
                    <a:pt x="130" y="692"/>
                  </a:lnTo>
                  <a:lnTo>
                    <a:pt x="128" y="688"/>
                  </a:lnTo>
                  <a:lnTo>
                    <a:pt x="124" y="683"/>
                  </a:lnTo>
                  <a:lnTo>
                    <a:pt x="123" y="680"/>
                  </a:lnTo>
                  <a:lnTo>
                    <a:pt x="119" y="675"/>
                  </a:lnTo>
                  <a:lnTo>
                    <a:pt x="119" y="669"/>
                  </a:lnTo>
                  <a:lnTo>
                    <a:pt x="119" y="664"/>
                  </a:lnTo>
                  <a:lnTo>
                    <a:pt x="112" y="646"/>
                  </a:lnTo>
                  <a:lnTo>
                    <a:pt x="105" y="627"/>
                  </a:lnTo>
                  <a:lnTo>
                    <a:pt x="99" y="608"/>
                  </a:lnTo>
                  <a:lnTo>
                    <a:pt x="93" y="589"/>
                  </a:lnTo>
                  <a:lnTo>
                    <a:pt x="86" y="570"/>
                  </a:lnTo>
                  <a:lnTo>
                    <a:pt x="81" y="552"/>
                  </a:lnTo>
                  <a:lnTo>
                    <a:pt x="76" y="533"/>
                  </a:lnTo>
                  <a:lnTo>
                    <a:pt x="73" y="512"/>
                  </a:lnTo>
                  <a:lnTo>
                    <a:pt x="71" y="505"/>
                  </a:lnTo>
                  <a:lnTo>
                    <a:pt x="67" y="499"/>
                  </a:lnTo>
                  <a:lnTo>
                    <a:pt x="64" y="492"/>
                  </a:lnTo>
                  <a:lnTo>
                    <a:pt x="62" y="485"/>
                  </a:lnTo>
                  <a:lnTo>
                    <a:pt x="59" y="478"/>
                  </a:lnTo>
                  <a:lnTo>
                    <a:pt x="57" y="471"/>
                  </a:lnTo>
                  <a:lnTo>
                    <a:pt x="57" y="464"/>
                  </a:lnTo>
                  <a:lnTo>
                    <a:pt x="59" y="456"/>
                  </a:lnTo>
                  <a:lnTo>
                    <a:pt x="55" y="452"/>
                  </a:lnTo>
                  <a:lnTo>
                    <a:pt x="50" y="442"/>
                  </a:lnTo>
                  <a:lnTo>
                    <a:pt x="47" y="430"/>
                  </a:lnTo>
                  <a:lnTo>
                    <a:pt x="43" y="420"/>
                  </a:lnTo>
                  <a:lnTo>
                    <a:pt x="40" y="408"/>
                  </a:lnTo>
                  <a:lnTo>
                    <a:pt x="36" y="396"/>
                  </a:lnTo>
                  <a:lnTo>
                    <a:pt x="35" y="386"/>
                  </a:lnTo>
                  <a:lnTo>
                    <a:pt x="30" y="374"/>
                  </a:lnTo>
                  <a:lnTo>
                    <a:pt x="26" y="364"/>
                  </a:lnTo>
                  <a:lnTo>
                    <a:pt x="23" y="348"/>
                  </a:lnTo>
                  <a:lnTo>
                    <a:pt x="19" y="335"/>
                  </a:lnTo>
                  <a:lnTo>
                    <a:pt x="14" y="321"/>
                  </a:lnTo>
                  <a:lnTo>
                    <a:pt x="11" y="306"/>
                  </a:lnTo>
                  <a:lnTo>
                    <a:pt x="5" y="292"/>
                  </a:lnTo>
                  <a:lnTo>
                    <a:pt x="2" y="277"/>
                  </a:lnTo>
                  <a:lnTo>
                    <a:pt x="0" y="263"/>
                  </a:lnTo>
                  <a:lnTo>
                    <a:pt x="0" y="247"/>
                  </a:lnTo>
                  <a:lnTo>
                    <a:pt x="2" y="246"/>
                  </a:lnTo>
                  <a:lnTo>
                    <a:pt x="4" y="244"/>
                  </a:lnTo>
                  <a:lnTo>
                    <a:pt x="5" y="241"/>
                  </a:lnTo>
                  <a:lnTo>
                    <a:pt x="7" y="239"/>
                  </a:lnTo>
                  <a:lnTo>
                    <a:pt x="9" y="236"/>
                  </a:lnTo>
                  <a:lnTo>
                    <a:pt x="11" y="232"/>
                  </a:lnTo>
                  <a:lnTo>
                    <a:pt x="12" y="230"/>
                  </a:lnTo>
                  <a:lnTo>
                    <a:pt x="16" y="230"/>
                  </a:lnTo>
                  <a:lnTo>
                    <a:pt x="26" y="229"/>
                  </a:lnTo>
                  <a:lnTo>
                    <a:pt x="36" y="225"/>
                  </a:lnTo>
                  <a:lnTo>
                    <a:pt x="45" y="218"/>
                  </a:lnTo>
                  <a:lnTo>
                    <a:pt x="52" y="212"/>
                  </a:lnTo>
                  <a:lnTo>
                    <a:pt x="59" y="203"/>
                  </a:lnTo>
                  <a:lnTo>
                    <a:pt x="64" y="195"/>
                  </a:lnTo>
                  <a:lnTo>
                    <a:pt x="69" y="186"/>
                  </a:lnTo>
                  <a:lnTo>
                    <a:pt x="74" y="177"/>
                  </a:lnTo>
                  <a:lnTo>
                    <a:pt x="76" y="172"/>
                  </a:lnTo>
                  <a:lnTo>
                    <a:pt x="74" y="167"/>
                  </a:lnTo>
                  <a:lnTo>
                    <a:pt x="74" y="162"/>
                  </a:lnTo>
                  <a:lnTo>
                    <a:pt x="73" y="157"/>
                  </a:lnTo>
                  <a:lnTo>
                    <a:pt x="73" y="154"/>
                  </a:lnTo>
                  <a:lnTo>
                    <a:pt x="74" y="150"/>
                  </a:lnTo>
                  <a:lnTo>
                    <a:pt x="80" y="148"/>
                  </a:lnTo>
                  <a:lnTo>
                    <a:pt x="86" y="148"/>
                  </a:lnTo>
                  <a:lnTo>
                    <a:pt x="95" y="142"/>
                  </a:lnTo>
                  <a:lnTo>
                    <a:pt x="105" y="133"/>
                  </a:lnTo>
                  <a:lnTo>
                    <a:pt x="114" y="124"/>
                  </a:lnTo>
                  <a:lnTo>
                    <a:pt x="124" y="116"/>
                  </a:lnTo>
                  <a:lnTo>
                    <a:pt x="131" y="106"/>
                  </a:lnTo>
                  <a:lnTo>
                    <a:pt x="140" y="95"/>
                  </a:lnTo>
                  <a:lnTo>
                    <a:pt x="145" y="85"/>
                  </a:lnTo>
                  <a:lnTo>
                    <a:pt x="149" y="72"/>
                  </a:lnTo>
                  <a:lnTo>
                    <a:pt x="152" y="66"/>
                  </a:lnTo>
                  <a:lnTo>
                    <a:pt x="155" y="60"/>
                  </a:lnTo>
                  <a:lnTo>
                    <a:pt x="157" y="51"/>
                  </a:lnTo>
                  <a:lnTo>
                    <a:pt x="159" y="44"/>
                  </a:lnTo>
                  <a:lnTo>
                    <a:pt x="159" y="37"/>
                  </a:lnTo>
                  <a:lnTo>
                    <a:pt x="157" y="29"/>
                  </a:lnTo>
                  <a:lnTo>
                    <a:pt x="155" y="22"/>
                  </a:lnTo>
                  <a:lnTo>
                    <a:pt x="152" y="15"/>
                  </a:lnTo>
                  <a:lnTo>
                    <a:pt x="157" y="13"/>
                  </a:lnTo>
                  <a:lnTo>
                    <a:pt x="161" y="12"/>
                  </a:lnTo>
                  <a:lnTo>
                    <a:pt x="164" y="10"/>
                  </a:lnTo>
                  <a:lnTo>
                    <a:pt x="167" y="10"/>
                  </a:lnTo>
                  <a:lnTo>
                    <a:pt x="171" y="8"/>
                  </a:lnTo>
                  <a:lnTo>
                    <a:pt x="176" y="7"/>
                  </a:lnTo>
                  <a:lnTo>
                    <a:pt x="180" y="5"/>
                  </a:lnTo>
                  <a:lnTo>
                    <a:pt x="185" y="3"/>
                  </a:lnTo>
                  <a:lnTo>
                    <a:pt x="238" y="0"/>
                  </a:lnTo>
                  <a:lnTo>
                    <a:pt x="248" y="1"/>
                  </a:lnTo>
                  <a:lnTo>
                    <a:pt x="259" y="5"/>
                  </a:lnTo>
                  <a:lnTo>
                    <a:pt x="271" y="7"/>
                  </a:lnTo>
                  <a:lnTo>
                    <a:pt x="281" y="10"/>
                  </a:lnTo>
                  <a:lnTo>
                    <a:pt x="293" y="12"/>
                  </a:lnTo>
                  <a:lnTo>
                    <a:pt x="304" y="15"/>
                  </a:lnTo>
                  <a:lnTo>
                    <a:pt x="316" y="19"/>
                  </a:lnTo>
                  <a:lnTo>
                    <a:pt x="326" y="24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665360" y="2000160"/>
              <a:ext cx="230040" cy="181080"/>
            </a:xfrm>
            <a:custGeom>
              <a:avLst/>
              <a:gdLst/>
              <a:ahLst/>
              <a:rect l="l" t="t" r="r" b="b"/>
              <a:pathLst>
                <a:path w="335" h="284">
                  <a:moveTo>
                    <a:pt x="324" y="137"/>
                  </a:moveTo>
                  <a:lnTo>
                    <a:pt x="328" y="147"/>
                  </a:lnTo>
                  <a:lnTo>
                    <a:pt x="329" y="157"/>
                  </a:lnTo>
                  <a:lnTo>
                    <a:pt x="331" y="168"/>
                  </a:lnTo>
                  <a:lnTo>
                    <a:pt x="333" y="180"/>
                  </a:lnTo>
                  <a:lnTo>
                    <a:pt x="335" y="190"/>
                  </a:lnTo>
                  <a:lnTo>
                    <a:pt x="335" y="202"/>
                  </a:lnTo>
                  <a:lnTo>
                    <a:pt x="335" y="212"/>
                  </a:lnTo>
                  <a:lnTo>
                    <a:pt x="335" y="224"/>
                  </a:lnTo>
                  <a:lnTo>
                    <a:pt x="333" y="229"/>
                  </a:lnTo>
                  <a:lnTo>
                    <a:pt x="329" y="233"/>
                  </a:lnTo>
                  <a:lnTo>
                    <a:pt x="326" y="236"/>
                  </a:lnTo>
                  <a:lnTo>
                    <a:pt x="321" y="238"/>
                  </a:lnTo>
                  <a:lnTo>
                    <a:pt x="316" y="241"/>
                  </a:lnTo>
                  <a:lnTo>
                    <a:pt x="310" y="243"/>
                  </a:lnTo>
                  <a:lnTo>
                    <a:pt x="307" y="246"/>
                  </a:lnTo>
                  <a:lnTo>
                    <a:pt x="304" y="250"/>
                  </a:lnTo>
                  <a:lnTo>
                    <a:pt x="304" y="253"/>
                  </a:lnTo>
                  <a:lnTo>
                    <a:pt x="305" y="257"/>
                  </a:lnTo>
                  <a:lnTo>
                    <a:pt x="307" y="260"/>
                  </a:lnTo>
                  <a:lnTo>
                    <a:pt x="307" y="263"/>
                  </a:lnTo>
                  <a:lnTo>
                    <a:pt x="309" y="267"/>
                  </a:lnTo>
                  <a:lnTo>
                    <a:pt x="309" y="268"/>
                  </a:lnTo>
                  <a:lnTo>
                    <a:pt x="309" y="272"/>
                  </a:lnTo>
                  <a:lnTo>
                    <a:pt x="305" y="275"/>
                  </a:lnTo>
                  <a:lnTo>
                    <a:pt x="300" y="270"/>
                  </a:lnTo>
                  <a:lnTo>
                    <a:pt x="295" y="270"/>
                  </a:lnTo>
                  <a:lnTo>
                    <a:pt x="290" y="270"/>
                  </a:lnTo>
                  <a:lnTo>
                    <a:pt x="285" y="274"/>
                  </a:lnTo>
                  <a:lnTo>
                    <a:pt x="279" y="275"/>
                  </a:lnTo>
                  <a:lnTo>
                    <a:pt x="274" y="279"/>
                  </a:lnTo>
                  <a:lnTo>
                    <a:pt x="269" y="282"/>
                  </a:lnTo>
                  <a:lnTo>
                    <a:pt x="266" y="284"/>
                  </a:lnTo>
                  <a:lnTo>
                    <a:pt x="254" y="272"/>
                  </a:lnTo>
                  <a:lnTo>
                    <a:pt x="241" y="262"/>
                  </a:lnTo>
                  <a:lnTo>
                    <a:pt x="229" y="251"/>
                  </a:lnTo>
                  <a:lnTo>
                    <a:pt x="217" y="243"/>
                  </a:lnTo>
                  <a:lnTo>
                    <a:pt x="205" y="234"/>
                  </a:lnTo>
                  <a:lnTo>
                    <a:pt x="193" y="226"/>
                  </a:lnTo>
                  <a:lnTo>
                    <a:pt x="179" y="217"/>
                  </a:lnTo>
                  <a:lnTo>
                    <a:pt x="167" y="210"/>
                  </a:lnTo>
                  <a:lnTo>
                    <a:pt x="166" y="210"/>
                  </a:lnTo>
                  <a:lnTo>
                    <a:pt x="164" y="210"/>
                  </a:lnTo>
                  <a:lnTo>
                    <a:pt x="162" y="210"/>
                  </a:lnTo>
                  <a:lnTo>
                    <a:pt x="160" y="209"/>
                  </a:lnTo>
                  <a:lnTo>
                    <a:pt x="160" y="209"/>
                  </a:lnTo>
                  <a:lnTo>
                    <a:pt x="159" y="209"/>
                  </a:lnTo>
                  <a:lnTo>
                    <a:pt x="159" y="207"/>
                  </a:lnTo>
                  <a:lnTo>
                    <a:pt x="159" y="205"/>
                  </a:lnTo>
                  <a:lnTo>
                    <a:pt x="142" y="202"/>
                  </a:lnTo>
                  <a:lnTo>
                    <a:pt x="124" y="198"/>
                  </a:lnTo>
                  <a:lnTo>
                    <a:pt x="107" y="195"/>
                  </a:lnTo>
                  <a:lnTo>
                    <a:pt x="90" y="193"/>
                  </a:lnTo>
                  <a:lnTo>
                    <a:pt x="73" y="190"/>
                  </a:lnTo>
                  <a:lnTo>
                    <a:pt x="55" y="186"/>
                  </a:lnTo>
                  <a:lnTo>
                    <a:pt x="38" y="185"/>
                  </a:lnTo>
                  <a:lnTo>
                    <a:pt x="21" y="185"/>
                  </a:lnTo>
                  <a:lnTo>
                    <a:pt x="17" y="185"/>
                  </a:lnTo>
                  <a:lnTo>
                    <a:pt x="16" y="183"/>
                  </a:lnTo>
                  <a:lnTo>
                    <a:pt x="12" y="183"/>
                  </a:lnTo>
                  <a:lnTo>
                    <a:pt x="11" y="181"/>
                  </a:lnTo>
                  <a:lnTo>
                    <a:pt x="7" y="180"/>
                  </a:lnTo>
                  <a:lnTo>
                    <a:pt x="5" y="180"/>
                  </a:lnTo>
                  <a:lnTo>
                    <a:pt x="4" y="178"/>
                  </a:lnTo>
                  <a:lnTo>
                    <a:pt x="0" y="176"/>
                  </a:lnTo>
                  <a:lnTo>
                    <a:pt x="4" y="163"/>
                  </a:lnTo>
                  <a:lnTo>
                    <a:pt x="7" y="149"/>
                  </a:lnTo>
                  <a:lnTo>
                    <a:pt x="11" y="135"/>
                  </a:lnTo>
                  <a:lnTo>
                    <a:pt x="14" y="122"/>
                  </a:lnTo>
                  <a:lnTo>
                    <a:pt x="19" y="106"/>
                  </a:lnTo>
                  <a:lnTo>
                    <a:pt x="23" y="92"/>
                  </a:lnTo>
                  <a:lnTo>
                    <a:pt x="28" y="77"/>
                  </a:lnTo>
                  <a:lnTo>
                    <a:pt x="31" y="63"/>
                  </a:lnTo>
                  <a:lnTo>
                    <a:pt x="40" y="55"/>
                  </a:lnTo>
                  <a:lnTo>
                    <a:pt x="45" y="45"/>
                  </a:lnTo>
                  <a:lnTo>
                    <a:pt x="50" y="33"/>
                  </a:lnTo>
                  <a:lnTo>
                    <a:pt x="54" y="21"/>
                  </a:lnTo>
                  <a:lnTo>
                    <a:pt x="59" y="10"/>
                  </a:lnTo>
                  <a:lnTo>
                    <a:pt x="67" y="4"/>
                  </a:lnTo>
                  <a:lnTo>
                    <a:pt x="73" y="2"/>
                  </a:lnTo>
                  <a:lnTo>
                    <a:pt x="78" y="0"/>
                  </a:lnTo>
                  <a:lnTo>
                    <a:pt x="85" y="0"/>
                  </a:lnTo>
                  <a:lnTo>
                    <a:pt x="93" y="2"/>
                  </a:lnTo>
                  <a:lnTo>
                    <a:pt x="95" y="0"/>
                  </a:lnTo>
                  <a:lnTo>
                    <a:pt x="112" y="0"/>
                  </a:lnTo>
                  <a:lnTo>
                    <a:pt x="131" y="0"/>
                  </a:lnTo>
                  <a:lnTo>
                    <a:pt x="148" y="4"/>
                  </a:lnTo>
                  <a:lnTo>
                    <a:pt x="166" y="7"/>
                  </a:lnTo>
                  <a:lnTo>
                    <a:pt x="183" y="10"/>
                  </a:lnTo>
                  <a:lnTo>
                    <a:pt x="200" y="17"/>
                  </a:lnTo>
                  <a:lnTo>
                    <a:pt x="216" y="24"/>
                  </a:lnTo>
                  <a:lnTo>
                    <a:pt x="231" y="31"/>
                  </a:lnTo>
                  <a:lnTo>
                    <a:pt x="247" y="41"/>
                  </a:lnTo>
                  <a:lnTo>
                    <a:pt x="260" y="51"/>
                  </a:lnTo>
                  <a:lnTo>
                    <a:pt x="274" y="62"/>
                  </a:lnTo>
                  <a:lnTo>
                    <a:pt x="286" y="75"/>
                  </a:lnTo>
                  <a:lnTo>
                    <a:pt x="297" y="89"/>
                  </a:lnTo>
                  <a:lnTo>
                    <a:pt x="307" y="103"/>
                  </a:lnTo>
                  <a:lnTo>
                    <a:pt x="316" y="120"/>
                  </a:lnTo>
                  <a:lnTo>
                    <a:pt x="324" y="137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673280" y="2009880"/>
              <a:ext cx="119160" cy="179280"/>
            </a:xfrm>
            <a:custGeom>
              <a:avLst/>
              <a:gdLst/>
              <a:ahLst/>
              <a:rect l="l" t="t" r="r" b="b"/>
              <a:pathLst>
                <a:path w="174" h="281">
                  <a:moveTo>
                    <a:pt x="174" y="0"/>
                  </a:moveTo>
                  <a:lnTo>
                    <a:pt x="173" y="9"/>
                  </a:lnTo>
                  <a:lnTo>
                    <a:pt x="169" y="18"/>
                  </a:lnTo>
                  <a:lnTo>
                    <a:pt x="166" y="26"/>
                  </a:lnTo>
                  <a:lnTo>
                    <a:pt x="161" y="33"/>
                  </a:lnTo>
                  <a:lnTo>
                    <a:pt x="157" y="41"/>
                  </a:lnTo>
                  <a:lnTo>
                    <a:pt x="152" y="48"/>
                  </a:lnTo>
                  <a:lnTo>
                    <a:pt x="149" y="55"/>
                  </a:lnTo>
                  <a:lnTo>
                    <a:pt x="143" y="64"/>
                  </a:lnTo>
                  <a:lnTo>
                    <a:pt x="143" y="67"/>
                  </a:lnTo>
                  <a:lnTo>
                    <a:pt x="143" y="71"/>
                  </a:lnTo>
                  <a:lnTo>
                    <a:pt x="143" y="76"/>
                  </a:lnTo>
                  <a:lnTo>
                    <a:pt x="142" y="79"/>
                  </a:lnTo>
                  <a:lnTo>
                    <a:pt x="140" y="82"/>
                  </a:lnTo>
                  <a:lnTo>
                    <a:pt x="138" y="86"/>
                  </a:lnTo>
                  <a:lnTo>
                    <a:pt x="137" y="89"/>
                  </a:lnTo>
                  <a:lnTo>
                    <a:pt x="137" y="93"/>
                  </a:lnTo>
                  <a:lnTo>
                    <a:pt x="135" y="98"/>
                  </a:lnTo>
                  <a:lnTo>
                    <a:pt x="133" y="103"/>
                  </a:lnTo>
                  <a:lnTo>
                    <a:pt x="131" y="108"/>
                  </a:lnTo>
                  <a:lnTo>
                    <a:pt x="130" y="115"/>
                  </a:lnTo>
                  <a:lnTo>
                    <a:pt x="128" y="120"/>
                  </a:lnTo>
                  <a:lnTo>
                    <a:pt x="126" y="125"/>
                  </a:lnTo>
                  <a:lnTo>
                    <a:pt x="123" y="130"/>
                  </a:lnTo>
                  <a:lnTo>
                    <a:pt x="121" y="137"/>
                  </a:lnTo>
                  <a:lnTo>
                    <a:pt x="119" y="142"/>
                  </a:lnTo>
                  <a:lnTo>
                    <a:pt x="118" y="147"/>
                  </a:lnTo>
                  <a:lnTo>
                    <a:pt x="118" y="153"/>
                  </a:lnTo>
                  <a:lnTo>
                    <a:pt x="116" y="158"/>
                  </a:lnTo>
                  <a:lnTo>
                    <a:pt x="116" y="165"/>
                  </a:lnTo>
                  <a:lnTo>
                    <a:pt x="114" y="170"/>
                  </a:lnTo>
                  <a:lnTo>
                    <a:pt x="112" y="175"/>
                  </a:lnTo>
                  <a:lnTo>
                    <a:pt x="111" y="180"/>
                  </a:lnTo>
                  <a:lnTo>
                    <a:pt x="97" y="190"/>
                  </a:lnTo>
                  <a:lnTo>
                    <a:pt x="83" y="200"/>
                  </a:lnTo>
                  <a:lnTo>
                    <a:pt x="69" y="212"/>
                  </a:lnTo>
                  <a:lnTo>
                    <a:pt x="55" y="224"/>
                  </a:lnTo>
                  <a:lnTo>
                    <a:pt x="45" y="236"/>
                  </a:lnTo>
                  <a:lnTo>
                    <a:pt x="35" y="250"/>
                  </a:lnTo>
                  <a:lnTo>
                    <a:pt x="26" y="265"/>
                  </a:lnTo>
                  <a:lnTo>
                    <a:pt x="19" y="281"/>
                  </a:lnTo>
                  <a:lnTo>
                    <a:pt x="18" y="281"/>
                  </a:lnTo>
                  <a:lnTo>
                    <a:pt x="16" y="277"/>
                  </a:lnTo>
                  <a:lnTo>
                    <a:pt x="14" y="276"/>
                  </a:lnTo>
                  <a:lnTo>
                    <a:pt x="12" y="272"/>
                  </a:lnTo>
                  <a:lnTo>
                    <a:pt x="12" y="270"/>
                  </a:lnTo>
                  <a:lnTo>
                    <a:pt x="11" y="267"/>
                  </a:lnTo>
                  <a:lnTo>
                    <a:pt x="11" y="264"/>
                  </a:lnTo>
                  <a:lnTo>
                    <a:pt x="9" y="262"/>
                  </a:lnTo>
                  <a:lnTo>
                    <a:pt x="6" y="253"/>
                  </a:lnTo>
                  <a:lnTo>
                    <a:pt x="4" y="245"/>
                  </a:lnTo>
                  <a:lnTo>
                    <a:pt x="2" y="236"/>
                  </a:lnTo>
                  <a:lnTo>
                    <a:pt x="0" y="226"/>
                  </a:lnTo>
                  <a:lnTo>
                    <a:pt x="0" y="209"/>
                  </a:lnTo>
                  <a:lnTo>
                    <a:pt x="4" y="190"/>
                  </a:lnTo>
                  <a:lnTo>
                    <a:pt x="7" y="171"/>
                  </a:lnTo>
                  <a:lnTo>
                    <a:pt x="12" y="153"/>
                  </a:lnTo>
                  <a:lnTo>
                    <a:pt x="18" y="135"/>
                  </a:lnTo>
                  <a:lnTo>
                    <a:pt x="23" y="118"/>
                  </a:lnTo>
                  <a:lnTo>
                    <a:pt x="28" y="106"/>
                  </a:lnTo>
                  <a:lnTo>
                    <a:pt x="35" y="96"/>
                  </a:lnTo>
                  <a:lnTo>
                    <a:pt x="42" y="84"/>
                  </a:lnTo>
                  <a:lnTo>
                    <a:pt x="49" y="74"/>
                  </a:lnTo>
                  <a:lnTo>
                    <a:pt x="64" y="55"/>
                  </a:lnTo>
                  <a:lnTo>
                    <a:pt x="83" y="40"/>
                  </a:lnTo>
                  <a:lnTo>
                    <a:pt x="104" y="26"/>
                  </a:lnTo>
                  <a:lnTo>
                    <a:pt x="126" y="14"/>
                  </a:lnTo>
                  <a:lnTo>
                    <a:pt x="150" y="7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824120" y="2133720"/>
              <a:ext cx="217440" cy="269640"/>
            </a:xfrm>
            <a:custGeom>
              <a:avLst/>
              <a:gdLst/>
              <a:ahLst/>
              <a:rect l="l" t="t" r="r" b="b"/>
              <a:pathLst>
                <a:path w="316" h="427">
                  <a:moveTo>
                    <a:pt x="143" y="17"/>
                  </a:moveTo>
                  <a:lnTo>
                    <a:pt x="148" y="17"/>
                  </a:lnTo>
                  <a:lnTo>
                    <a:pt x="152" y="17"/>
                  </a:lnTo>
                  <a:lnTo>
                    <a:pt x="157" y="15"/>
                  </a:lnTo>
                  <a:lnTo>
                    <a:pt x="162" y="15"/>
                  </a:lnTo>
                  <a:lnTo>
                    <a:pt x="167" y="15"/>
                  </a:lnTo>
                  <a:lnTo>
                    <a:pt x="171" y="15"/>
                  </a:lnTo>
                  <a:lnTo>
                    <a:pt x="176" y="15"/>
                  </a:lnTo>
                  <a:lnTo>
                    <a:pt x="179" y="17"/>
                  </a:lnTo>
                  <a:lnTo>
                    <a:pt x="185" y="22"/>
                  </a:lnTo>
                  <a:lnTo>
                    <a:pt x="186" y="27"/>
                  </a:lnTo>
                  <a:lnTo>
                    <a:pt x="186" y="32"/>
                  </a:lnTo>
                  <a:lnTo>
                    <a:pt x="186" y="39"/>
                  </a:lnTo>
                  <a:lnTo>
                    <a:pt x="185" y="44"/>
                  </a:lnTo>
                  <a:lnTo>
                    <a:pt x="183" y="49"/>
                  </a:lnTo>
                  <a:lnTo>
                    <a:pt x="181" y="56"/>
                  </a:lnTo>
                  <a:lnTo>
                    <a:pt x="181" y="61"/>
                  </a:lnTo>
                  <a:lnTo>
                    <a:pt x="188" y="65"/>
                  </a:lnTo>
                  <a:lnTo>
                    <a:pt x="198" y="68"/>
                  </a:lnTo>
                  <a:lnTo>
                    <a:pt x="209" y="68"/>
                  </a:lnTo>
                  <a:lnTo>
                    <a:pt x="219" y="70"/>
                  </a:lnTo>
                  <a:lnTo>
                    <a:pt x="228" y="73"/>
                  </a:lnTo>
                  <a:lnTo>
                    <a:pt x="235" y="77"/>
                  </a:lnTo>
                  <a:lnTo>
                    <a:pt x="236" y="80"/>
                  </a:lnTo>
                  <a:lnTo>
                    <a:pt x="236" y="85"/>
                  </a:lnTo>
                  <a:lnTo>
                    <a:pt x="236" y="90"/>
                  </a:lnTo>
                  <a:lnTo>
                    <a:pt x="235" y="95"/>
                  </a:lnTo>
                  <a:lnTo>
                    <a:pt x="235" y="95"/>
                  </a:lnTo>
                  <a:lnTo>
                    <a:pt x="233" y="97"/>
                  </a:lnTo>
                  <a:lnTo>
                    <a:pt x="233" y="97"/>
                  </a:lnTo>
                  <a:lnTo>
                    <a:pt x="233" y="97"/>
                  </a:lnTo>
                  <a:lnTo>
                    <a:pt x="233" y="97"/>
                  </a:lnTo>
                  <a:lnTo>
                    <a:pt x="231" y="99"/>
                  </a:lnTo>
                  <a:lnTo>
                    <a:pt x="231" y="99"/>
                  </a:lnTo>
                  <a:lnTo>
                    <a:pt x="231" y="99"/>
                  </a:lnTo>
                  <a:lnTo>
                    <a:pt x="231" y="100"/>
                  </a:lnTo>
                  <a:lnTo>
                    <a:pt x="231" y="102"/>
                  </a:lnTo>
                  <a:lnTo>
                    <a:pt x="231" y="104"/>
                  </a:lnTo>
                  <a:lnTo>
                    <a:pt x="231" y="104"/>
                  </a:lnTo>
                  <a:lnTo>
                    <a:pt x="233" y="106"/>
                  </a:lnTo>
                  <a:lnTo>
                    <a:pt x="233" y="107"/>
                  </a:lnTo>
                  <a:lnTo>
                    <a:pt x="235" y="107"/>
                  </a:lnTo>
                  <a:lnTo>
                    <a:pt x="235" y="109"/>
                  </a:lnTo>
                  <a:lnTo>
                    <a:pt x="240" y="109"/>
                  </a:lnTo>
                  <a:lnTo>
                    <a:pt x="245" y="107"/>
                  </a:lnTo>
                  <a:lnTo>
                    <a:pt x="252" y="107"/>
                  </a:lnTo>
                  <a:lnTo>
                    <a:pt x="257" y="107"/>
                  </a:lnTo>
                  <a:lnTo>
                    <a:pt x="262" y="107"/>
                  </a:lnTo>
                  <a:lnTo>
                    <a:pt x="266" y="109"/>
                  </a:lnTo>
                  <a:lnTo>
                    <a:pt x="269" y="111"/>
                  </a:lnTo>
                  <a:lnTo>
                    <a:pt x="272" y="116"/>
                  </a:lnTo>
                  <a:lnTo>
                    <a:pt x="271" y="118"/>
                  </a:lnTo>
                  <a:lnTo>
                    <a:pt x="269" y="121"/>
                  </a:lnTo>
                  <a:lnTo>
                    <a:pt x="267" y="123"/>
                  </a:lnTo>
                  <a:lnTo>
                    <a:pt x="266" y="126"/>
                  </a:lnTo>
                  <a:lnTo>
                    <a:pt x="266" y="128"/>
                  </a:lnTo>
                  <a:lnTo>
                    <a:pt x="266" y="131"/>
                  </a:lnTo>
                  <a:lnTo>
                    <a:pt x="266" y="135"/>
                  </a:lnTo>
                  <a:lnTo>
                    <a:pt x="266" y="136"/>
                  </a:lnTo>
                  <a:lnTo>
                    <a:pt x="274" y="141"/>
                  </a:lnTo>
                  <a:lnTo>
                    <a:pt x="283" y="147"/>
                  </a:lnTo>
                  <a:lnTo>
                    <a:pt x="291" y="152"/>
                  </a:lnTo>
                  <a:lnTo>
                    <a:pt x="300" y="157"/>
                  </a:lnTo>
                  <a:lnTo>
                    <a:pt x="307" y="164"/>
                  </a:lnTo>
                  <a:lnTo>
                    <a:pt x="312" y="171"/>
                  </a:lnTo>
                  <a:lnTo>
                    <a:pt x="316" y="181"/>
                  </a:lnTo>
                  <a:lnTo>
                    <a:pt x="314" y="191"/>
                  </a:lnTo>
                  <a:lnTo>
                    <a:pt x="314" y="193"/>
                  </a:lnTo>
                  <a:lnTo>
                    <a:pt x="312" y="196"/>
                  </a:lnTo>
                  <a:lnTo>
                    <a:pt x="310" y="198"/>
                  </a:lnTo>
                  <a:lnTo>
                    <a:pt x="309" y="200"/>
                  </a:lnTo>
                  <a:lnTo>
                    <a:pt x="307" y="201"/>
                  </a:lnTo>
                  <a:lnTo>
                    <a:pt x="305" y="203"/>
                  </a:lnTo>
                  <a:lnTo>
                    <a:pt x="304" y="206"/>
                  </a:lnTo>
                  <a:lnTo>
                    <a:pt x="304" y="208"/>
                  </a:lnTo>
                  <a:lnTo>
                    <a:pt x="302" y="215"/>
                  </a:lnTo>
                  <a:lnTo>
                    <a:pt x="300" y="220"/>
                  </a:lnTo>
                  <a:lnTo>
                    <a:pt x="297" y="225"/>
                  </a:lnTo>
                  <a:lnTo>
                    <a:pt x="293" y="230"/>
                  </a:lnTo>
                  <a:lnTo>
                    <a:pt x="290" y="235"/>
                  </a:lnTo>
                  <a:lnTo>
                    <a:pt x="285" y="239"/>
                  </a:lnTo>
                  <a:lnTo>
                    <a:pt x="281" y="244"/>
                  </a:lnTo>
                  <a:lnTo>
                    <a:pt x="278" y="249"/>
                  </a:lnTo>
                  <a:lnTo>
                    <a:pt x="279" y="254"/>
                  </a:lnTo>
                  <a:lnTo>
                    <a:pt x="281" y="259"/>
                  </a:lnTo>
                  <a:lnTo>
                    <a:pt x="283" y="266"/>
                  </a:lnTo>
                  <a:lnTo>
                    <a:pt x="283" y="271"/>
                  </a:lnTo>
                  <a:lnTo>
                    <a:pt x="283" y="276"/>
                  </a:lnTo>
                  <a:lnTo>
                    <a:pt x="283" y="283"/>
                  </a:lnTo>
                  <a:lnTo>
                    <a:pt x="283" y="288"/>
                  </a:lnTo>
                  <a:lnTo>
                    <a:pt x="281" y="295"/>
                  </a:lnTo>
                  <a:lnTo>
                    <a:pt x="278" y="302"/>
                  </a:lnTo>
                  <a:lnTo>
                    <a:pt x="272" y="309"/>
                  </a:lnTo>
                  <a:lnTo>
                    <a:pt x="266" y="312"/>
                  </a:lnTo>
                  <a:lnTo>
                    <a:pt x="257" y="316"/>
                  </a:lnTo>
                  <a:lnTo>
                    <a:pt x="252" y="321"/>
                  </a:lnTo>
                  <a:lnTo>
                    <a:pt x="247" y="326"/>
                  </a:lnTo>
                  <a:lnTo>
                    <a:pt x="247" y="329"/>
                  </a:lnTo>
                  <a:lnTo>
                    <a:pt x="245" y="333"/>
                  </a:lnTo>
                  <a:lnTo>
                    <a:pt x="247" y="338"/>
                  </a:lnTo>
                  <a:lnTo>
                    <a:pt x="248" y="343"/>
                  </a:lnTo>
                  <a:lnTo>
                    <a:pt x="254" y="346"/>
                  </a:lnTo>
                  <a:lnTo>
                    <a:pt x="255" y="350"/>
                  </a:lnTo>
                  <a:lnTo>
                    <a:pt x="255" y="355"/>
                  </a:lnTo>
                  <a:lnTo>
                    <a:pt x="254" y="358"/>
                  </a:lnTo>
                  <a:lnTo>
                    <a:pt x="252" y="364"/>
                  </a:lnTo>
                  <a:lnTo>
                    <a:pt x="250" y="367"/>
                  </a:lnTo>
                  <a:lnTo>
                    <a:pt x="248" y="372"/>
                  </a:lnTo>
                  <a:lnTo>
                    <a:pt x="248" y="376"/>
                  </a:lnTo>
                  <a:lnTo>
                    <a:pt x="241" y="379"/>
                  </a:lnTo>
                  <a:lnTo>
                    <a:pt x="235" y="379"/>
                  </a:lnTo>
                  <a:lnTo>
                    <a:pt x="226" y="379"/>
                  </a:lnTo>
                  <a:lnTo>
                    <a:pt x="219" y="377"/>
                  </a:lnTo>
                  <a:lnTo>
                    <a:pt x="210" y="377"/>
                  </a:lnTo>
                  <a:lnTo>
                    <a:pt x="205" y="379"/>
                  </a:lnTo>
                  <a:lnTo>
                    <a:pt x="198" y="381"/>
                  </a:lnTo>
                  <a:lnTo>
                    <a:pt x="193" y="386"/>
                  </a:lnTo>
                  <a:lnTo>
                    <a:pt x="193" y="391"/>
                  </a:lnTo>
                  <a:lnTo>
                    <a:pt x="193" y="396"/>
                  </a:lnTo>
                  <a:lnTo>
                    <a:pt x="193" y="403"/>
                  </a:lnTo>
                  <a:lnTo>
                    <a:pt x="193" y="408"/>
                  </a:lnTo>
                  <a:lnTo>
                    <a:pt x="191" y="413"/>
                  </a:lnTo>
                  <a:lnTo>
                    <a:pt x="190" y="417"/>
                  </a:lnTo>
                  <a:lnTo>
                    <a:pt x="185" y="417"/>
                  </a:lnTo>
                  <a:lnTo>
                    <a:pt x="176" y="415"/>
                  </a:lnTo>
                  <a:lnTo>
                    <a:pt x="171" y="415"/>
                  </a:lnTo>
                  <a:lnTo>
                    <a:pt x="167" y="413"/>
                  </a:lnTo>
                  <a:lnTo>
                    <a:pt x="162" y="411"/>
                  </a:lnTo>
                  <a:lnTo>
                    <a:pt x="157" y="410"/>
                  </a:lnTo>
                  <a:lnTo>
                    <a:pt x="152" y="406"/>
                  </a:lnTo>
                  <a:lnTo>
                    <a:pt x="148" y="406"/>
                  </a:lnTo>
                  <a:lnTo>
                    <a:pt x="143" y="406"/>
                  </a:lnTo>
                  <a:lnTo>
                    <a:pt x="136" y="406"/>
                  </a:lnTo>
                  <a:lnTo>
                    <a:pt x="133" y="411"/>
                  </a:lnTo>
                  <a:lnTo>
                    <a:pt x="129" y="415"/>
                  </a:lnTo>
                  <a:lnTo>
                    <a:pt x="124" y="420"/>
                  </a:lnTo>
                  <a:lnTo>
                    <a:pt x="119" y="422"/>
                  </a:lnTo>
                  <a:lnTo>
                    <a:pt x="114" y="425"/>
                  </a:lnTo>
                  <a:lnTo>
                    <a:pt x="109" y="427"/>
                  </a:lnTo>
                  <a:lnTo>
                    <a:pt x="104" y="427"/>
                  </a:lnTo>
                  <a:lnTo>
                    <a:pt x="98" y="425"/>
                  </a:lnTo>
                  <a:lnTo>
                    <a:pt x="97" y="422"/>
                  </a:lnTo>
                  <a:lnTo>
                    <a:pt x="93" y="418"/>
                  </a:lnTo>
                  <a:lnTo>
                    <a:pt x="92" y="415"/>
                  </a:lnTo>
                  <a:lnTo>
                    <a:pt x="90" y="410"/>
                  </a:lnTo>
                  <a:lnTo>
                    <a:pt x="88" y="406"/>
                  </a:lnTo>
                  <a:lnTo>
                    <a:pt x="86" y="401"/>
                  </a:lnTo>
                  <a:lnTo>
                    <a:pt x="88" y="398"/>
                  </a:lnTo>
                  <a:lnTo>
                    <a:pt x="90" y="393"/>
                  </a:lnTo>
                  <a:lnTo>
                    <a:pt x="85" y="389"/>
                  </a:lnTo>
                  <a:lnTo>
                    <a:pt x="83" y="391"/>
                  </a:lnTo>
                  <a:lnTo>
                    <a:pt x="81" y="391"/>
                  </a:lnTo>
                  <a:lnTo>
                    <a:pt x="79" y="391"/>
                  </a:lnTo>
                  <a:lnTo>
                    <a:pt x="78" y="391"/>
                  </a:lnTo>
                  <a:lnTo>
                    <a:pt x="76" y="391"/>
                  </a:lnTo>
                  <a:lnTo>
                    <a:pt x="74" y="391"/>
                  </a:lnTo>
                  <a:lnTo>
                    <a:pt x="73" y="391"/>
                  </a:lnTo>
                  <a:lnTo>
                    <a:pt x="73" y="393"/>
                  </a:lnTo>
                  <a:lnTo>
                    <a:pt x="67" y="391"/>
                  </a:lnTo>
                  <a:lnTo>
                    <a:pt x="66" y="387"/>
                  </a:lnTo>
                  <a:lnTo>
                    <a:pt x="64" y="382"/>
                  </a:lnTo>
                  <a:lnTo>
                    <a:pt x="64" y="379"/>
                  </a:lnTo>
                  <a:lnTo>
                    <a:pt x="64" y="374"/>
                  </a:lnTo>
                  <a:lnTo>
                    <a:pt x="62" y="369"/>
                  </a:lnTo>
                  <a:lnTo>
                    <a:pt x="60" y="365"/>
                  </a:lnTo>
                  <a:lnTo>
                    <a:pt x="57" y="362"/>
                  </a:lnTo>
                  <a:lnTo>
                    <a:pt x="54" y="362"/>
                  </a:lnTo>
                  <a:lnTo>
                    <a:pt x="50" y="364"/>
                  </a:lnTo>
                  <a:lnTo>
                    <a:pt x="47" y="364"/>
                  </a:lnTo>
                  <a:lnTo>
                    <a:pt x="43" y="364"/>
                  </a:lnTo>
                  <a:lnTo>
                    <a:pt x="38" y="364"/>
                  </a:lnTo>
                  <a:lnTo>
                    <a:pt x="35" y="364"/>
                  </a:lnTo>
                  <a:lnTo>
                    <a:pt x="33" y="362"/>
                  </a:lnTo>
                  <a:lnTo>
                    <a:pt x="29" y="358"/>
                  </a:lnTo>
                  <a:lnTo>
                    <a:pt x="28" y="358"/>
                  </a:lnTo>
                  <a:lnTo>
                    <a:pt x="24" y="357"/>
                  </a:lnTo>
                  <a:lnTo>
                    <a:pt x="23" y="358"/>
                  </a:lnTo>
                  <a:lnTo>
                    <a:pt x="21" y="358"/>
                  </a:lnTo>
                  <a:lnTo>
                    <a:pt x="19" y="360"/>
                  </a:lnTo>
                  <a:lnTo>
                    <a:pt x="17" y="360"/>
                  </a:lnTo>
                  <a:lnTo>
                    <a:pt x="16" y="360"/>
                  </a:lnTo>
                  <a:lnTo>
                    <a:pt x="14" y="357"/>
                  </a:lnTo>
                  <a:lnTo>
                    <a:pt x="14" y="353"/>
                  </a:lnTo>
                  <a:lnTo>
                    <a:pt x="14" y="348"/>
                  </a:lnTo>
                  <a:lnTo>
                    <a:pt x="16" y="345"/>
                  </a:lnTo>
                  <a:lnTo>
                    <a:pt x="19" y="341"/>
                  </a:lnTo>
                  <a:lnTo>
                    <a:pt x="21" y="340"/>
                  </a:lnTo>
                  <a:lnTo>
                    <a:pt x="23" y="336"/>
                  </a:lnTo>
                  <a:lnTo>
                    <a:pt x="24" y="333"/>
                  </a:lnTo>
                  <a:lnTo>
                    <a:pt x="24" y="328"/>
                  </a:lnTo>
                  <a:lnTo>
                    <a:pt x="23" y="326"/>
                  </a:lnTo>
                  <a:lnTo>
                    <a:pt x="19" y="324"/>
                  </a:lnTo>
                  <a:lnTo>
                    <a:pt x="16" y="323"/>
                  </a:lnTo>
                  <a:lnTo>
                    <a:pt x="12" y="321"/>
                  </a:lnTo>
                  <a:lnTo>
                    <a:pt x="9" y="319"/>
                  </a:lnTo>
                  <a:lnTo>
                    <a:pt x="5" y="316"/>
                  </a:lnTo>
                  <a:lnTo>
                    <a:pt x="4" y="314"/>
                  </a:lnTo>
                  <a:lnTo>
                    <a:pt x="2" y="311"/>
                  </a:lnTo>
                  <a:lnTo>
                    <a:pt x="0" y="307"/>
                  </a:lnTo>
                  <a:lnTo>
                    <a:pt x="0" y="304"/>
                  </a:lnTo>
                  <a:lnTo>
                    <a:pt x="0" y="302"/>
                  </a:lnTo>
                  <a:lnTo>
                    <a:pt x="2" y="299"/>
                  </a:lnTo>
                  <a:lnTo>
                    <a:pt x="2" y="295"/>
                  </a:lnTo>
                  <a:lnTo>
                    <a:pt x="4" y="292"/>
                  </a:lnTo>
                  <a:lnTo>
                    <a:pt x="5" y="290"/>
                  </a:lnTo>
                  <a:lnTo>
                    <a:pt x="7" y="288"/>
                  </a:lnTo>
                  <a:lnTo>
                    <a:pt x="12" y="283"/>
                  </a:lnTo>
                  <a:lnTo>
                    <a:pt x="17" y="280"/>
                  </a:lnTo>
                  <a:lnTo>
                    <a:pt x="23" y="276"/>
                  </a:lnTo>
                  <a:lnTo>
                    <a:pt x="28" y="271"/>
                  </a:lnTo>
                  <a:lnTo>
                    <a:pt x="33" y="268"/>
                  </a:lnTo>
                  <a:lnTo>
                    <a:pt x="36" y="263"/>
                  </a:lnTo>
                  <a:lnTo>
                    <a:pt x="40" y="258"/>
                  </a:lnTo>
                  <a:lnTo>
                    <a:pt x="43" y="251"/>
                  </a:lnTo>
                  <a:lnTo>
                    <a:pt x="42" y="246"/>
                  </a:lnTo>
                  <a:lnTo>
                    <a:pt x="38" y="242"/>
                  </a:lnTo>
                  <a:lnTo>
                    <a:pt x="36" y="237"/>
                  </a:lnTo>
                  <a:lnTo>
                    <a:pt x="33" y="232"/>
                  </a:lnTo>
                  <a:lnTo>
                    <a:pt x="29" y="229"/>
                  </a:lnTo>
                  <a:lnTo>
                    <a:pt x="29" y="223"/>
                  </a:lnTo>
                  <a:lnTo>
                    <a:pt x="29" y="218"/>
                  </a:lnTo>
                  <a:lnTo>
                    <a:pt x="35" y="213"/>
                  </a:lnTo>
                  <a:lnTo>
                    <a:pt x="38" y="210"/>
                  </a:lnTo>
                  <a:lnTo>
                    <a:pt x="43" y="208"/>
                  </a:lnTo>
                  <a:lnTo>
                    <a:pt x="47" y="205"/>
                  </a:lnTo>
                  <a:lnTo>
                    <a:pt x="50" y="201"/>
                  </a:lnTo>
                  <a:lnTo>
                    <a:pt x="54" y="196"/>
                  </a:lnTo>
                  <a:lnTo>
                    <a:pt x="57" y="193"/>
                  </a:lnTo>
                  <a:lnTo>
                    <a:pt x="57" y="188"/>
                  </a:lnTo>
                  <a:lnTo>
                    <a:pt x="57" y="182"/>
                  </a:lnTo>
                  <a:lnTo>
                    <a:pt x="54" y="179"/>
                  </a:lnTo>
                  <a:lnTo>
                    <a:pt x="50" y="177"/>
                  </a:lnTo>
                  <a:lnTo>
                    <a:pt x="47" y="174"/>
                  </a:lnTo>
                  <a:lnTo>
                    <a:pt x="42" y="172"/>
                  </a:lnTo>
                  <a:lnTo>
                    <a:pt x="38" y="169"/>
                  </a:lnTo>
                  <a:lnTo>
                    <a:pt x="36" y="165"/>
                  </a:lnTo>
                  <a:lnTo>
                    <a:pt x="35" y="162"/>
                  </a:lnTo>
                  <a:lnTo>
                    <a:pt x="35" y="157"/>
                  </a:lnTo>
                  <a:lnTo>
                    <a:pt x="40" y="153"/>
                  </a:lnTo>
                  <a:lnTo>
                    <a:pt x="45" y="150"/>
                  </a:lnTo>
                  <a:lnTo>
                    <a:pt x="50" y="147"/>
                  </a:lnTo>
                  <a:lnTo>
                    <a:pt x="55" y="143"/>
                  </a:lnTo>
                  <a:lnTo>
                    <a:pt x="60" y="140"/>
                  </a:lnTo>
                  <a:lnTo>
                    <a:pt x="64" y="135"/>
                  </a:lnTo>
                  <a:lnTo>
                    <a:pt x="66" y="130"/>
                  </a:lnTo>
                  <a:lnTo>
                    <a:pt x="64" y="123"/>
                  </a:lnTo>
                  <a:lnTo>
                    <a:pt x="60" y="121"/>
                  </a:lnTo>
                  <a:lnTo>
                    <a:pt x="55" y="119"/>
                  </a:lnTo>
                  <a:lnTo>
                    <a:pt x="50" y="118"/>
                  </a:lnTo>
                  <a:lnTo>
                    <a:pt x="47" y="114"/>
                  </a:lnTo>
                  <a:lnTo>
                    <a:pt x="42" y="112"/>
                  </a:lnTo>
                  <a:lnTo>
                    <a:pt x="38" y="109"/>
                  </a:lnTo>
                  <a:lnTo>
                    <a:pt x="35" y="106"/>
                  </a:lnTo>
                  <a:lnTo>
                    <a:pt x="33" y="100"/>
                  </a:lnTo>
                  <a:lnTo>
                    <a:pt x="33" y="97"/>
                  </a:lnTo>
                  <a:lnTo>
                    <a:pt x="33" y="95"/>
                  </a:lnTo>
                  <a:lnTo>
                    <a:pt x="36" y="94"/>
                  </a:lnTo>
                  <a:lnTo>
                    <a:pt x="38" y="92"/>
                  </a:lnTo>
                  <a:lnTo>
                    <a:pt x="40" y="90"/>
                  </a:lnTo>
                  <a:lnTo>
                    <a:pt x="42" y="89"/>
                  </a:lnTo>
                  <a:lnTo>
                    <a:pt x="42" y="87"/>
                  </a:lnTo>
                  <a:lnTo>
                    <a:pt x="38" y="83"/>
                  </a:lnTo>
                  <a:lnTo>
                    <a:pt x="42" y="80"/>
                  </a:lnTo>
                  <a:lnTo>
                    <a:pt x="47" y="77"/>
                  </a:lnTo>
                  <a:lnTo>
                    <a:pt x="52" y="75"/>
                  </a:lnTo>
                  <a:lnTo>
                    <a:pt x="57" y="73"/>
                  </a:lnTo>
                  <a:lnTo>
                    <a:pt x="62" y="73"/>
                  </a:lnTo>
                  <a:lnTo>
                    <a:pt x="67" y="73"/>
                  </a:lnTo>
                  <a:lnTo>
                    <a:pt x="74" y="73"/>
                  </a:lnTo>
                  <a:lnTo>
                    <a:pt x="79" y="75"/>
                  </a:lnTo>
                  <a:lnTo>
                    <a:pt x="81" y="73"/>
                  </a:lnTo>
                  <a:lnTo>
                    <a:pt x="83" y="70"/>
                  </a:lnTo>
                  <a:lnTo>
                    <a:pt x="85" y="66"/>
                  </a:lnTo>
                  <a:lnTo>
                    <a:pt x="86" y="63"/>
                  </a:lnTo>
                  <a:lnTo>
                    <a:pt x="88" y="59"/>
                  </a:lnTo>
                  <a:lnTo>
                    <a:pt x="88" y="56"/>
                  </a:lnTo>
                  <a:lnTo>
                    <a:pt x="86" y="53"/>
                  </a:lnTo>
                  <a:lnTo>
                    <a:pt x="86" y="49"/>
                  </a:lnTo>
                  <a:lnTo>
                    <a:pt x="85" y="49"/>
                  </a:lnTo>
                  <a:lnTo>
                    <a:pt x="85" y="49"/>
                  </a:lnTo>
                  <a:lnTo>
                    <a:pt x="85" y="48"/>
                  </a:lnTo>
                  <a:lnTo>
                    <a:pt x="85" y="48"/>
                  </a:lnTo>
                  <a:lnTo>
                    <a:pt x="85" y="46"/>
                  </a:lnTo>
                  <a:lnTo>
                    <a:pt x="85" y="46"/>
                  </a:lnTo>
                  <a:lnTo>
                    <a:pt x="85" y="46"/>
                  </a:lnTo>
                  <a:lnTo>
                    <a:pt x="85" y="44"/>
                  </a:lnTo>
                  <a:lnTo>
                    <a:pt x="86" y="42"/>
                  </a:lnTo>
                  <a:lnTo>
                    <a:pt x="88" y="41"/>
                  </a:lnTo>
                  <a:lnTo>
                    <a:pt x="90" y="41"/>
                  </a:lnTo>
                  <a:lnTo>
                    <a:pt x="92" y="39"/>
                  </a:lnTo>
                  <a:lnTo>
                    <a:pt x="93" y="39"/>
                  </a:lnTo>
                  <a:lnTo>
                    <a:pt x="95" y="37"/>
                  </a:lnTo>
                  <a:lnTo>
                    <a:pt x="97" y="37"/>
                  </a:lnTo>
                  <a:lnTo>
                    <a:pt x="98" y="37"/>
                  </a:lnTo>
                  <a:lnTo>
                    <a:pt x="114" y="22"/>
                  </a:lnTo>
                  <a:lnTo>
                    <a:pt x="114" y="18"/>
                  </a:lnTo>
                  <a:lnTo>
                    <a:pt x="114" y="15"/>
                  </a:lnTo>
                  <a:lnTo>
                    <a:pt x="114" y="12"/>
                  </a:lnTo>
                  <a:lnTo>
                    <a:pt x="116" y="10"/>
                  </a:lnTo>
                  <a:lnTo>
                    <a:pt x="116" y="7"/>
                  </a:lnTo>
                  <a:lnTo>
                    <a:pt x="117" y="5"/>
                  </a:lnTo>
                  <a:lnTo>
                    <a:pt x="119" y="1"/>
                  </a:lnTo>
                  <a:lnTo>
                    <a:pt x="121" y="0"/>
                  </a:lnTo>
                  <a:lnTo>
                    <a:pt x="124" y="1"/>
                  </a:lnTo>
                  <a:lnTo>
                    <a:pt x="128" y="3"/>
                  </a:lnTo>
                  <a:lnTo>
                    <a:pt x="131" y="5"/>
                  </a:lnTo>
                  <a:lnTo>
                    <a:pt x="133" y="7"/>
                  </a:lnTo>
                  <a:lnTo>
                    <a:pt x="136" y="8"/>
                  </a:lnTo>
                  <a:lnTo>
                    <a:pt x="138" y="10"/>
                  </a:lnTo>
                  <a:lnTo>
                    <a:pt x="141" y="13"/>
                  </a:lnTo>
                  <a:lnTo>
                    <a:pt x="143" y="17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719360" y="2170080"/>
              <a:ext cx="79200" cy="15840"/>
            </a:xfrm>
            <a:custGeom>
              <a:avLst/>
              <a:gdLst/>
              <a:ahLst/>
              <a:rect l="l" t="t" r="r" b="b"/>
              <a:pathLst>
                <a:path w="115" h="24">
                  <a:moveTo>
                    <a:pt x="115" y="15"/>
                  </a:moveTo>
                  <a:lnTo>
                    <a:pt x="115" y="19"/>
                  </a:lnTo>
                  <a:lnTo>
                    <a:pt x="101" y="17"/>
                  </a:lnTo>
                  <a:lnTo>
                    <a:pt x="88" y="13"/>
                  </a:lnTo>
                  <a:lnTo>
                    <a:pt x="74" y="12"/>
                  </a:lnTo>
                  <a:lnTo>
                    <a:pt x="60" y="10"/>
                  </a:lnTo>
                  <a:lnTo>
                    <a:pt x="46" y="10"/>
                  </a:lnTo>
                  <a:lnTo>
                    <a:pt x="32" y="12"/>
                  </a:lnTo>
                  <a:lnTo>
                    <a:pt x="19" y="15"/>
                  </a:lnTo>
                  <a:lnTo>
                    <a:pt x="7" y="22"/>
                  </a:lnTo>
                  <a:lnTo>
                    <a:pt x="3" y="24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3" y="5"/>
                  </a:lnTo>
                  <a:lnTo>
                    <a:pt x="10" y="3"/>
                  </a:lnTo>
                  <a:lnTo>
                    <a:pt x="15" y="1"/>
                  </a:lnTo>
                  <a:lnTo>
                    <a:pt x="22" y="1"/>
                  </a:lnTo>
                  <a:lnTo>
                    <a:pt x="27" y="3"/>
                  </a:lnTo>
                  <a:lnTo>
                    <a:pt x="34" y="3"/>
                  </a:lnTo>
                  <a:lnTo>
                    <a:pt x="39" y="3"/>
                  </a:lnTo>
                  <a:lnTo>
                    <a:pt x="45" y="0"/>
                  </a:lnTo>
                  <a:lnTo>
                    <a:pt x="55" y="0"/>
                  </a:lnTo>
                  <a:lnTo>
                    <a:pt x="64" y="1"/>
                  </a:lnTo>
                  <a:lnTo>
                    <a:pt x="72" y="1"/>
                  </a:lnTo>
                  <a:lnTo>
                    <a:pt x="81" y="3"/>
                  </a:lnTo>
                  <a:lnTo>
                    <a:pt x="91" y="5"/>
                  </a:lnTo>
                  <a:lnTo>
                    <a:pt x="100" y="8"/>
                  </a:lnTo>
                  <a:lnTo>
                    <a:pt x="107" y="12"/>
                  </a:lnTo>
                  <a:lnTo>
                    <a:pt x="115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514520" y="2181240"/>
              <a:ext cx="174600" cy="237960"/>
            </a:xfrm>
            <a:custGeom>
              <a:avLst/>
              <a:gdLst/>
              <a:ahLst/>
              <a:rect l="l" t="t" r="r" b="b"/>
              <a:pathLst>
                <a:path w="256" h="377">
                  <a:moveTo>
                    <a:pt x="108" y="32"/>
                  </a:moveTo>
                  <a:lnTo>
                    <a:pt x="108" y="36"/>
                  </a:lnTo>
                  <a:lnTo>
                    <a:pt x="108" y="39"/>
                  </a:lnTo>
                  <a:lnTo>
                    <a:pt x="110" y="43"/>
                  </a:lnTo>
                  <a:lnTo>
                    <a:pt x="112" y="44"/>
                  </a:lnTo>
                  <a:lnTo>
                    <a:pt x="113" y="48"/>
                  </a:lnTo>
                  <a:lnTo>
                    <a:pt x="115" y="51"/>
                  </a:lnTo>
                  <a:lnTo>
                    <a:pt x="118" y="53"/>
                  </a:lnTo>
                  <a:lnTo>
                    <a:pt x="118" y="56"/>
                  </a:lnTo>
                  <a:lnTo>
                    <a:pt x="124" y="72"/>
                  </a:lnTo>
                  <a:lnTo>
                    <a:pt x="127" y="87"/>
                  </a:lnTo>
                  <a:lnTo>
                    <a:pt x="129" y="101"/>
                  </a:lnTo>
                  <a:lnTo>
                    <a:pt x="129" y="116"/>
                  </a:lnTo>
                  <a:lnTo>
                    <a:pt x="129" y="130"/>
                  </a:lnTo>
                  <a:lnTo>
                    <a:pt x="129" y="145"/>
                  </a:lnTo>
                  <a:lnTo>
                    <a:pt x="129" y="160"/>
                  </a:lnTo>
                  <a:lnTo>
                    <a:pt x="132" y="176"/>
                  </a:lnTo>
                  <a:lnTo>
                    <a:pt x="134" y="186"/>
                  </a:lnTo>
                  <a:lnTo>
                    <a:pt x="137" y="196"/>
                  </a:lnTo>
                  <a:lnTo>
                    <a:pt x="143" y="207"/>
                  </a:lnTo>
                  <a:lnTo>
                    <a:pt x="148" y="215"/>
                  </a:lnTo>
                  <a:lnTo>
                    <a:pt x="162" y="232"/>
                  </a:lnTo>
                  <a:lnTo>
                    <a:pt x="179" y="248"/>
                  </a:lnTo>
                  <a:lnTo>
                    <a:pt x="198" y="261"/>
                  </a:lnTo>
                  <a:lnTo>
                    <a:pt x="217" y="275"/>
                  </a:lnTo>
                  <a:lnTo>
                    <a:pt x="236" y="287"/>
                  </a:lnTo>
                  <a:lnTo>
                    <a:pt x="255" y="299"/>
                  </a:lnTo>
                  <a:lnTo>
                    <a:pt x="256" y="299"/>
                  </a:lnTo>
                  <a:lnTo>
                    <a:pt x="255" y="302"/>
                  </a:lnTo>
                  <a:lnTo>
                    <a:pt x="251" y="304"/>
                  </a:lnTo>
                  <a:lnTo>
                    <a:pt x="248" y="307"/>
                  </a:lnTo>
                  <a:lnTo>
                    <a:pt x="246" y="311"/>
                  </a:lnTo>
                  <a:lnTo>
                    <a:pt x="243" y="312"/>
                  </a:lnTo>
                  <a:lnTo>
                    <a:pt x="241" y="316"/>
                  </a:lnTo>
                  <a:lnTo>
                    <a:pt x="241" y="319"/>
                  </a:lnTo>
                  <a:lnTo>
                    <a:pt x="241" y="324"/>
                  </a:lnTo>
                  <a:lnTo>
                    <a:pt x="239" y="326"/>
                  </a:lnTo>
                  <a:lnTo>
                    <a:pt x="239" y="331"/>
                  </a:lnTo>
                  <a:lnTo>
                    <a:pt x="239" y="335"/>
                  </a:lnTo>
                  <a:lnTo>
                    <a:pt x="237" y="338"/>
                  </a:lnTo>
                  <a:lnTo>
                    <a:pt x="237" y="340"/>
                  </a:lnTo>
                  <a:lnTo>
                    <a:pt x="236" y="343"/>
                  </a:lnTo>
                  <a:lnTo>
                    <a:pt x="232" y="345"/>
                  </a:lnTo>
                  <a:lnTo>
                    <a:pt x="229" y="348"/>
                  </a:lnTo>
                  <a:lnTo>
                    <a:pt x="196" y="348"/>
                  </a:lnTo>
                  <a:lnTo>
                    <a:pt x="177" y="369"/>
                  </a:lnTo>
                  <a:lnTo>
                    <a:pt x="172" y="367"/>
                  </a:lnTo>
                  <a:lnTo>
                    <a:pt x="167" y="365"/>
                  </a:lnTo>
                  <a:lnTo>
                    <a:pt x="163" y="362"/>
                  </a:lnTo>
                  <a:lnTo>
                    <a:pt x="158" y="359"/>
                  </a:lnTo>
                  <a:lnTo>
                    <a:pt x="155" y="357"/>
                  </a:lnTo>
                  <a:lnTo>
                    <a:pt x="149" y="355"/>
                  </a:lnTo>
                  <a:lnTo>
                    <a:pt x="144" y="353"/>
                  </a:lnTo>
                  <a:lnTo>
                    <a:pt x="139" y="353"/>
                  </a:lnTo>
                  <a:lnTo>
                    <a:pt x="134" y="357"/>
                  </a:lnTo>
                  <a:lnTo>
                    <a:pt x="131" y="360"/>
                  </a:lnTo>
                  <a:lnTo>
                    <a:pt x="127" y="364"/>
                  </a:lnTo>
                  <a:lnTo>
                    <a:pt x="124" y="369"/>
                  </a:lnTo>
                  <a:lnTo>
                    <a:pt x="120" y="372"/>
                  </a:lnTo>
                  <a:lnTo>
                    <a:pt x="117" y="376"/>
                  </a:lnTo>
                  <a:lnTo>
                    <a:pt x="113" y="377"/>
                  </a:lnTo>
                  <a:lnTo>
                    <a:pt x="106" y="377"/>
                  </a:lnTo>
                  <a:lnTo>
                    <a:pt x="108" y="376"/>
                  </a:lnTo>
                  <a:lnTo>
                    <a:pt x="105" y="372"/>
                  </a:lnTo>
                  <a:lnTo>
                    <a:pt x="101" y="367"/>
                  </a:lnTo>
                  <a:lnTo>
                    <a:pt x="98" y="360"/>
                  </a:lnTo>
                  <a:lnTo>
                    <a:pt x="96" y="355"/>
                  </a:lnTo>
                  <a:lnTo>
                    <a:pt x="93" y="350"/>
                  </a:lnTo>
                  <a:lnTo>
                    <a:pt x="89" y="345"/>
                  </a:lnTo>
                  <a:lnTo>
                    <a:pt x="84" y="343"/>
                  </a:lnTo>
                  <a:lnTo>
                    <a:pt x="77" y="343"/>
                  </a:lnTo>
                  <a:lnTo>
                    <a:pt x="79" y="340"/>
                  </a:lnTo>
                  <a:lnTo>
                    <a:pt x="79" y="338"/>
                  </a:lnTo>
                  <a:lnTo>
                    <a:pt x="77" y="335"/>
                  </a:lnTo>
                  <a:lnTo>
                    <a:pt x="75" y="333"/>
                  </a:lnTo>
                  <a:lnTo>
                    <a:pt x="74" y="331"/>
                  </a:lnTo>
                  <a:lnTo>
                    <a:pt x="72" y="330"/>
                  </a:lnTo>
                  <a:lnTo>
                    <a:pt x="70" y="328"/>
                  </a:lnTo>
                  <a:lnTo>
                    <a:pt x="67" y="328"/>
                  </a:lnTo>
                  <a:lnTo>
                    <a:pt x="62" y="328"/>
                  </a:lnTo>
                  <a:lnTo>
                    <a:pt x="56" y="330"/>
                  </a:lnTo>
                  <a:lnTo>
                    <a:pt x="51" y="330"/>
                  </a:lnTo>
                  <a:lnTo>
                    <a:pt x="46" y="330"/>
                  </a:lnTo>
                  <a:lnTo>
                    <a:pt x="41" y="328"/>
                  </a:lnTo>
                  <a:lnTo>
                    <a:pt x="36" y="328"/>
                  </a:lnTo>
                  <a:lnTo>
                    <a:pt x="31" y="326"/>
                  </a:lnTo>
                  <a:lnTo>
                    <a:pt x="27" y="324"/>
                  </a:lnTo>
                  <a:lnTo>
                    <a:pt x="24" y="321"/>
                  </a:lnTo>
                  <a:lnTo>
                    <a:pt x="22" y="318"/>
                  </a:lnTo>
                  <a:lnTo>
                    <a:pt x="20" y="314"/>
                  </a:lnTo>
                  <a:lnTo>
                    <a:pt x="20" y="311"/>
                  </a:lnTo>
                  <a:lnTo>
                    <a:pt x="18" y="306"/>
                  </a:lnTo>
                  <a:lnTo>
                    <a:pt x="20" y="302"/>
                  </a:lnTo>
                  <a:lnTo>
                    <a:pt x="20" y="299"/>
                  </a:lnTo>
                  <a:lnTo>
                    <a:pt x="22" y="295"/>
                  </a:lnTo>
                  <a:lnTo>
                    <a:pt x="25" y="290"/>
                  </a:lnTo>
                  <a:lnTo>
                    <a:pt x="29" y="285"/>
                  </a:lnTo>
                  <a:lnTo>
                    <a:pt x="32" y="280"/>
                  </a:lnTo>
                  <a:lnTo>
                    <a:pt x="37" y="275"/>
                  </a:lnTo>
                  <a:lnTo>
                    <a:pt x="41" y="271"/>
                  </a:lnTo>
                  <a:lnTo>
                    <a:pt x="44" y="266"/>
                  </a:lnTo>
                  <a:lnTo>
                    <a:pt x="48" y="261"/>
                  </a:lnTo>
                  <a:lnTo>
                    <a:pt x="50" y="254"/>
                  </a:lnTo>
                  <a:lnTo>
                    <a:pt x="44" y="253"/>
                  </a:lnTo>
                  <a:lnTo>
                    <a:pt x="39" y="251"/>
                  </a:lnTo>
                  <a:lnTo>
                    <a:pt x="32" y="249"/>
                  </a:lnTo>
                  <a:lnTo>
                    <a:pt x="27" y="248"/>
                  </a:lnTo>
                  <a:lnTo>
                    <a:pt x="22" y="248"/>
                  </a:lnTo>
                  <a:lnTo>
                    <a:pt x="15" y="246"/>
                  </a:lnTo>
                  <a:lnTo>
                    <a:pt x="10" y="244"/>
                  </a:lnTo>
                  <a:lnTo>
                    <a:pt x="5" y="241"/>
                  </a:lnTo>
                  <a:lnTo>
                    <a:pt x="3" y="239"/>
                  </a:lnTo>
                  <a:lnTo>
                    <a:pt x="1" y="236"/>
                  </a:lnTo>
                  <a:lnTo>
                    <a:pt x="1" y="234"/>
                  </a:lnTo>
                  <a:lnTo>
                    <a:pt x="0" y="230"/>
                  </a:lnTo>
                  <a:lnTo>
                    <a:pt x="0" y="229"/>
                  </a:lnTo>
                  <a:lnTo>
                    <a:pt x="0" y="225"/>
                  </a:lnTo>
                  <a:lnTo>
                    <a:pt x="1" y="222"/>
                  </a:lnTo>
                  <a:lnTo>
                    <a:pt x="1" y="220"/>
                  </a:lnTo>
                  <a:lnTo>
                    <a:pt x="1" y="217"/>
                  </a:lnTo>
                  <a:lnTo>
                    <a:pt x="3" y="215"/>
                  </a:lnTo>
                  <a:lnTo>
                    <a:pt x="5" y="213"/>
                  </a:lnTo>
                  <a:lnTo>
                    <a:pt x="6" y="212"/>
                  </a:lnTo>
                  <a:lnTo>
                    <a:pt x="8" y="208"/>
                  </a:lnTo>
                  <a:lnTo>
                    <a:pt x="10" y="208"/>
                  </a:lnTo>
                  <a:lnTo>
                    <a:pt x="12" y="207"/>
                  </a:lnTo>
                  <a:lnTo>
                    <a:pt x="13" y="205"/>
                  </a:lnTo>
                  <a:lnTo>
                    <a:pt x="20" y="203"/>
                  </a:lnTo>
                  <a:lnTo>
                    <a:pt x="27" y="201"/>
                  </a:lnTo>
                  <a:lnTo>
                    <a:pt x="32" y="198"/>
                  </a:lnTo>
                  <a:lnTo>
                    <a:pt x="39" y="193"/>
                  </a:lnTo>
                  <a:lnTo>
                    <a:pt x="44" y="189"/>
                  </a:lnTo>
                  <a:lnTo>
                    <a:pt x="48" y="183"/>
                  </a:lnTo>
                  <a:lnTo>
                    <a:pt x="51" y="178"/>
                  </a:lnTo>
                  <a:lnTo>
                    <a:pt x="53" y="171"/>
                  </a:lnTo>
                  <a:lnTo>
                    <a:pt x="48" y="166"/>
                  </a:lnTo>
                  <a:lnTo>
                    <a:pt x="43" y="162"/>
                  </a:lnTo>
                  <a:lnTo>
                    <a:pt x="36" y="160"/>
                  </a:lnTo>
                  <a:lnTo>
                    <a:pt x="29" y="159"/>
                  </a:lnTo>
                  <a:lnTo>
                    <a:pt x="22" y="159"/>
                  </a:lnTo>
                  <a:lnTo>
                    <a:pt x="15" y="157"/>
                  </a:lnTo>
                  <a:lnTo>
                    <a:pt x="8" y="155"/>
                  </a:lnTo>
                  <a:lnTo>
                    <a:pt x="3" y="152"/>
                  </a:lnTo>
                  <a:lnTo>
                    <a:pt x="1" y="148"/>
                  </a:lnTo>
                  <a:lnTo>
                    <a:pt x="1" y="147"/>
                  </a:lnTo>
                  <a:lnTo>
                    <a:pt x="1" y="143"/>
                  </a:lnTo>
                  <a:lnTo>
                    <a:pt x="1" y="142"/>
                  </a:lnTo>
                  <a:lnTo>
                    <a:pt x="3" y="138"/>
                  </a:lnTo>
                  <a:lnTo>
                    <a:pt x="5" y="137"/>
                  </a:lnTo>
                  <a:lnTo>
                    <a:pt x="6" y="135"/>
                  </a:lnTo>
                  <a:lnTo>
                    <a:pt x="8" y="131"/>
                  </a:lnTo>
                  <a:lnTo>
                    <a:pt x="12" y="130"/>
                  </a:lnTo>
                  <a:lnTo>
                    <a:pt x="13" y="128"/>
                  </a:lnTo>
                  <a:lnTo>
                    <a:pt x="17" y="126"/>
                  </a:lnTo>
                  <a:lnTo>
                    <a:pt x="20" y="125"/>
                  </a:lnTo>
                  <a:lnTo>
                    <a:pt x="24" y="123"/>
                  </a:lnTo>
                  <a:lnTo>
                    <a:pt x="25" y="121"/>
                  </a:lnTo>
                  <a:lnTo>
                    <a:pt x="27" y="118"/>
                  </a:lnTo>
                  <a:lnTo>
                    <a:pt x="27" y="114"/>
                  </a:lnTo>
                  <a:lnTo>
                    <a:pt x="25" y="111"/>
                  </a:lnTo>
                  <a:lnTo>
                    <a:pt x="22" y="107"/>
                  </a:lnTo>
                  <a:lnTo>
                    <a:pt x="18" y="106"/>
                  </a:lnTo>
                  <a:lnTo>
                    <a:pt x="15" y="102"/>
                  </a:lnTo>
                  <a:lnTo>
                    <a:pt x="13" y="101"/>
                  </a:lnTo>
                  <a:lnTo>
                    <a:pt x="10" y="97"/>
                  </a:lnTo>
                  <a:lnTo>
                    <a:pt x="8" y="94"/>
                  </a:lnTo>
                  <a:lnTo>
                    <a:pt x="6" y="90"/>
                  </a:lnTo>
                  <a:lnTo>
                    <a:pt x="6" y="87"/>
                  </a:lnTo>
                  <a:lnTo>
                    <a:pt x="6" y="82"/>
                  </a:lnTo>
                  <a:lnTo>
                    <a:pt x="8" y="78"/>
                  </a:lnTo>
                  <a:lnTo>
                    <a:pt x="10" y="75"/>
                  </a:lnTo>
                  <a:lnTo>
                    <a:pt x="12" y="72"/>
                  </a:lnTo>
                  <a:lnTo>
                    <a:pt x="13" y="68"/>
                  </a:lnTo>
                  <a:lnTo>
                    <a:pt x="17" y="65"/>
                  </a:lnTo>
                  <a:lnTo>
                    <a:pt x="20" y="61"/>
                  </a:lnTo>
                  <a:lnTo>
                    <a:pt x="29" y="60"/>
                  </a:lnTo>
                  <a:lnTo>
                    <a:pt x="39" y="60"/>
                  </a:lnTo>
                  <a:lnTo>
                    <a:pt x="50" y="60"/>
                  </a:lnTo>
                  <a:lnTo>
                    <a:pt x="60" y="60"/>
                  </a:lnTo>
                  <a:lnTo>
                    <a:pt x="68" y="60"/>
                  </a:lnTo>
                  <a:lnTo>
                    <a:pt x="75" y="56"/>
                  </a:lnTo>
                  <a:lnTo>
                    <a:pt x="79" y="53"/>
                  </a:lnTo>
                  <a:lnTo>
                    <a:pt x="81" y="49"/>
                  </a:lnTo>
                  <a:lnTo>
                    <a:pt x="81" y="44"/>
                  </a:lnTo>
                  <a:lnTo>
                    <a:pt x="82" y="37"/>
                  </a:lnTo>
                  <a:lnTo>
                    <a:pt x="79" y="36"/>
                  </a:lnTo>
                  <a:lnTo>
                    <a:pt x="75" y="32"/>
                  </a:lnTo>
                  <a:lnTo>
                    <a:pt x="74" y="31"/>
                  </a:lnTo>
                  <a:lnTo>
                    <a:pt x="72" y="27"/>
                  </a:lnTo>
                  <a:lnTo>
                    <a:pt x="70" y="24"/>
                  </a:lnTo>
                  <a:lnTo>
                    <a:pt x="70" y="20"/>
                  </a:lnTo>
                  <a:lnTo>
                    <a:pt x="70" y="17"/>
                  </a:lnTo>
                  <a:lnTo>
                    <a:pt x="72" y="14"/>
                  </a:lnTo>
                  <a:lnTo>
                    <a:pt x="74" y="10"/>
                  </a:lnTo>
                  <a:lnTo>
                    <a:pt x="75" y="8"/>
                  </a:lnTo>
                  <a:lnTo>
                    <a:pt x="77" y="7"/>
                  </a:lnTo>
                  <a:lnTo>
                    <a:pt x="81" y="5"/>
                  </a:lnTo>
                  <a:lnTo>
                    <a:pt x="82" y="3"/>
                  </a:lnTo>
                  <a:lnTo>
                    <a:pt x="86" y="2"/>
                  </a:lnTo>
                  <a:lnTo>
                    <a:pt x="89" y="2"/>
                  </a:lnTo>
                  <a:lnTo>
                    <a:pt x="91" y="0"/>
                  </a:lnTo>
                  <a:lnTo>
                    <a:pt x="94" y="3"/>
                  </a:lnTo>
                  <a:lnTo>
                    <a:pt x="98" y="8"/>
                  </a:lnTo>
                  <a:lnTo>
                    <a:pt x="100" y="12"/>
                  </a:lnTo>
                  <a:lnTo>
                    <a:pt x="101" y="15"/>
                  </a:lnTo>
                  <a:lnTo>
                    <a:pt x="103" y="20"/>
                  </a:lnTo>
                  <a:lnTo>
                    <a:pt x="105" y="24"/>
                  </a:lnTo>
                  <a:lnTo>
                    <a:pt x="106" y="29"/>
                  </a:lnTo>
                  <a:lnTo>
                    <a:pt x="108" y="32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949400" y="2193840"/>
              <a:ext cx="65160" cy="106560"/>
            </a:xfrm>
            <a:custGeom>
              <a:avLst/>
              <a:gdLst/>
              <a:ahLst/>
              <a:rect l="l" t="t" r="r" b="b"/>
              <a:pathLst>
                <a:path w="95" h="169">
                  <a:moveTo>
                    <a:pt x="27" y="11"/>
                  </a:moveTo>
                  <a:lnTo>
                    <a:pt x="27" y="16"/>
                  </a:lnTo>
                  <a:lnTo>
                    <a:pt x="27" y="21"/>
                  </a:lnTo>
                  <a:lnTo>
                    <a:pt x="26" y="26"/>
                  </a:lnTo>
                  <a:lnTo>
                    <a:pt x="26" y="29"/>
                  </a:lnTo>
                  <a:lnTo>
                    <a:pt x="24" y="35"/>
                  </a:lnTo>
                  <a:lnTo>
                    <a:pt x="26" y="38"/>
                  </a:lnTo>
                  <a:lnTo>
                    <a:pt x="27" y="41"/>
                  </a:lnTo>
                  <a:lnTo>
                    <a:pt x="31" y="45"/>
                  </a:lnTo>
                  <a:lnTo>
                    <a:pt x="38" y="46"/>
                  </a:lnTo>
                  <a:lnTo>
                    <a:pt x="43" y="46"/>
                  </a:lnTo>
                  <a:lnTo>
                    <a:pt x="50" y="46"/>
                  </a:lnTo>
                  <a:lnTo>
                    <a:pt x="57" y="46"/>
                  </a:lnTo>
                  <a:lnTo>
                    <a:pt x="64" y="48"/>
                  </a:lnTo>
                  <a:lnTo>
                    <a:pt x="69" y="50"/>
                  </a:lnTo>
                  <a:lnTo>
                    <a:pt x="74" y="53"/>
                  </a:lnTo>
                  <a:lnTo>
                    <a:pt x="77" y="58"/>
                  </a:lnTo>
                  <a:lnTo>
                    <a:pt x="77" y="64"/>
                  </a:lnTo>
                  <a:lnTo>
                    <a:pt x="76" y="67"/>
                  </a:lnTo>
                  <a:lnTo>
                    <a:pt x="72" y="72"/>
                  </a:lnTo>
                  <a:lnTo>
                    <a:pt x="69" y="76"/>
                  </a:lnTo>
                  <a:lnTo>
                    <a:pt x="65" y="79"/>
                  </a:lnTo>
                  <a:lnTo>
                    <a:pt x="64" y="82"/>
                  </a:lnTo>
                  <a:lnTo>
                    <a:pt x="67" y="86"/>
                  </a:lnTo>
                  <a:lnTo>
                    <a:pt x="74" y="87"/>
                  </a:lnTo>
                  <a:lnTo>
                    <a:pt x="76" y="89"/>
                  </a:lnTo>
                  <a:lnTo>
                    <a:pt x="79" y="91"/>
                  </a:lnTo>
                  <a:lnTo>
                    <a:pt x="83" y="93"/>
                  </a:lnTo>
                  <a:lnTo>
                    <a:pt x="84" y="94"/>
                  </a:lnTo>
                  <a:lnTo>
                    <a:pt x="88" y="94"/>
                  </a:lnTo>
                  <a:lnTo>
                    <a:pt x="91" y="96"/>
                  </a:lnTo>
                  <a:lnTo>
                    <a:pt x="93" y="99"/>
                  </a:lnTo>
                  <a:lnTo>
                    <a:pt x="95" y="103"/>
                  </a:lnTo>
                  <a:lnTo>
                    <a:pt x="91" y="111"/>
                  </a:lnTo>
                  <a:lnTo>
                    <a:pt x="86" y="118"/>
                  </a:lnTo>
                  <a:lnTo>
                    <a:pt x="77" y="125"/>
                  </a:lnTo>
                  <a:lnTo>
                    <a:pt x="71" y="132"/>
                  </a:lnTo>
                  <a:lnTo>
                    <a:pt x="65" y="139"/>
                  </a:lnTo>
                  <a:lnTo>
                    <a:pt x="62" y="146"/>
                  </a:lnTo>
                  <a:lnTo>
                    <a:pt x="62" y="149"/>
                  </a:lnTo>
                  <a:lnTo>
                    <a:pt x="62" y="154"/>
                  </a:lnTo>
                  <a:lnTo>
                    <a:pt x="65" y="158"/>
                  </a:lnTo>
                  <a:lnTo>
                    <a:pt x="69" y="163"/>
                  </a:lnTo>
                  <a:lnTo>
                    <a:pt x="69" y="164"/>
                  </a:lnTo>
                  <a:lnTo>
                    <a:pt x="69" y="166"/>
                  </a:lnTo>
                  <a:lnTo>
                    <a:pt x="69" y="166"/>
                  </a:lnTo>
                  <a:lnTo>
                    <a:pt x="69" y="168"/>
                  </a:lnTo>
                  <a:lnTo>
                    <a:pt x="67" y="168"/>
                  </a:lnTo>
                  <a:lnTo>
                    <a:pt x="67" y="169"/>
                  </a:lnTo>
                  <a:lnTo>
                    <a:pt x="65" y="169"/>
                  </a:lnTo>
                  <a:lnTo>
                    <a:pt x="65" y="169"/>
                  </a:lnTo>
                  <a:lnTo>
                    <a:pt x="60" y="169"/>
                  </a:lnTo>
                  <a:lnTo>
                    <a:pt x="58" y="166"/>
                  </a:lnTo>
                  <a:lnTo>
                    <a:pt x="57" y="164"/>
                  </a:lnTo>
                  <a:lnTo>
                    <a:pt x="57" y="161"/>
                  </a:lnTo>
                  <a:lnTo>
                    <a:pt x="58" y="158"/>
                  </a:lnTo>
                  <a:lnTo>
                    <a:pt x="58" y="152"/>
                  </a:lnTo>
                  <a:lnTo>
                    <a:pt x="57" y="149"/>
                  </a:lnTo>
                  <a:lnTo>
                    <a:pt x="55" y="146"/>
                  </a:lnTo>
                  <a:lnTo>
                    <a:pt x="55" y="144"/>
                  </a:lnTo>
                  <a:lnTo>
                    <a:pt x="55" y="140"/>
                  </a:lnTo>
                  <a:lnTo>
                    <a:pt x="55" y="137"/>
                  </a:lnTo>
                  <a:lnTo>
                    <a:pt x="55" y="135"/>
                  </a:lnTo>
                  <a:lnTo>
                    <a:pt x="57" y="132"/>
                  </a:lnTo>
                  <a:lnTo>
                    <a:pt x="57" y="130"/>
                  </a:lnTo>
                  <a:lnTo>
                    <a:pt x="60" y="128"/>
                  </a:lnTo>
                  <a:lnTo>
                    <a:pt x="62" y="128"/>
                  </a:lnTo>
                  <a:lnTo>
                    <a:pt x="65" y="127"/>
                  </a:lnTo>
                  <a:lnTo>
                    <a:pt x="69" y="125"/>
                  </a:lnTo>
                  <a:lnTo>
                    <a:pt x="72" y="123"/>
                  </a:lnTo>
                  <a:lnTo>
                    <a:pt x="74" y="120"/>
                  </a:lnTo>
                  <a:lnTo>
                    <a:pt x="77" y="118"/>
                  </a:lnTo>
                  <a:lnTo>
                    <a:pt x="79" y="115"/>
                  </a:lnTo>
                  <a:lnTo>
                    <a:pt x="83" y="111"/>
                  </a:lnTo>
                  <a:lnTo>
                    <a:pt x="84" y="110"/>
                  </a:lnTo>
                  <a:lnTo>
                    <a:pt x="84" y="105"/>
                  </a:lnTo>
                  <a:lnTo>
                    <a:pt x="83" y="101"/>
                  </a:lnTo>
                  <a:lnTo>
                    <a:pt x="81" y="98"/>
                  </a:lnTo>
                  <a:lnTo>
                    <a:pt x="76" y="96"/>
                  </a:lnTo>
                  <a:lnTo>
                    <a:pt x="72" y="94"/>
                  </a:lnTo>
                  <a:lnTo>
                    <a:pt x="67" y="93"/>
                  </a:lnTo>
                  <a:lnTo>
                    <a:pt x="62" y="91"/>
                  </a:lnTo>
                  <a:lnTo>
                    <a:pt x="58" y="89"/>
                  </a:lnTo>
                  <a:lnTo>
                    <a:pt x="57" y="84"/>
                  </a:lnTo>
                  <a:lnTo>
                    <a:pt x="57" y="81"/>
                  </a:lnTo>
                  <a:lnTo>
                    <a:pt x="58" y="77"/>
                  </a:lnTo>
                  <a:lnTo>
                    <a:pt x="60" y="74"/>
                  </a:lnTo>
                  <a:lnTo>
                    <a:pt x="64" y="70"/>
                  </a:lnTo>
                  <a:lnTo>
                    <a:pt x="67" y="67"/>
                  </a:lnTo>
                  <a:lnTo>
                    <a:pt x="69" y="64"/>
                  </a:lnTo>
                  <a:lnTo>
                    <a:pt x="69" y="58"/>
                  </a:lnTo>
                  <a:lnTo>
                    <a:pt x="62" y="55"/>
                  </a:lnTo>
                  <a:lnTo>
                    <a:pt x="52" y="52"/>
                  </a:lnTo>
                  <a:lnTo>
                    <a:pt x="41" y="50"/>
                  </a:lnTo>
                  <a:lnTo>
                    <a:pt x="31" y="48"/>
                  </a:lnTo>
                  <a:lnTo>
                    <a:pt x="26" y="48"/>
                  </a:lnTo>
                  <a:lnTo>
                    <a:pt x="22" y="46"/>
                  </a:lnTo>
                  <a:lnTo>
                    <a:pt x="19" y="45"/>
                  </a:lnTo>
                  <a:lnTo>
                    <a:pt x="17" y="41"/>
                  </a:lnTo>
                  <a:lnTo>
                    <a:pt x="15" y="38"/>
                  </a:lnTo>
                  <a:lnTo>
                    <a:pt x="15" y="33"/>
                  </a:lnTo>
                  <a:lnTo>
                    <a:pt x="17" y="28"/>
                  </a:lnTo>
                  <a:lnTo>
                    <a:pt x="21" y="21"/>
                  </a:lnTo>
                  <a:lnTo>
                    <a:pt x="21" y="19"/>
                  </a:lnTo>
                  <a:lnTo>
                    <a:pt x="21" y="17"/>
                  </a:lnTo>
                  <a:lnTo>
                    <a:pt x="21" y="14"/>
                  </a:lnTo>
                  <a:lnTo>
                    <a:pt x="19" y="12"/>
                  </a:lnTo>
                  <a:lnTo>
                    <a:pt x="17" y="11"/>
                  </a:lnTo>
                  <a:lnTo>
                    <a:pt x="17" y="9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10" y="9"/>
                  </a:lnTo>
                  <a:lnTo>
                    <a:pt x="8" y="9"/>
                  </a:lnTo>
                  <a:lnTo>
                    <a:pt x="8" y="9"/>
                  </a:lnTo>
                  <a:lnTo>
                    <a:pt x="7" y="9"/>
                  </a:lnTo>
                  <a:lnTo>
                    <a:pt x="5" y="9"/>
                  </a:lnTo>
                  <a:lnTo>
                    <a:pt x="3" y="9"/>
                  </a:lnTo>
                  <a:lnTo>
                    <a:pt x="2" y="7"/>
                  </a:lnTo>
                  <a:lnTo>
                    <a:pt x="2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4"/>
                  </a:lnTo>
                  <a:lnTo>
                    <a:pt x="2" y="4"/>
                  </a:lnTo>
                  <a:lnTo>
                    <a:pt x="3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5" y="0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4" y="4"/>
                  </a:lnTo>
                  <a:lnTo>
                    <a:pt x="17" y="4"/>
                  </a:lnTo>
                  <a:lnTo>
                    <a:pt x="21" y="4"/>
                  </a:lnTo>
                  <a:lnTo>
                    <a:pt x="24" y="5"/>
                  </a:lnTo>
                  <a:lnTo>
                    <a:pt x="26" y="9"/>
                  </a:lnTo>
                  <a:lnTo>
                    <a:pt x="2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724040" y="2205000"/>
              <a:ext cx="68400" cy="47520"/>
            </a:xfrm>
            <a:custGeom>
              <a:avLst/>
              <a:gdLst/>
              <a:ahLst/>
              <a:rect l="l" t="t" r="r" b="b"/>
              <a:pathLst>
                <a:path w="100" h="77">
                  <a:moveTo>
                    <a:pt x="38" y="9"/>
                  </a:moveTo>
                  <a:lnTo>
                    <a:pt x="40" y="6"/>
                  </a:lnTo>
                  <a:lnTo>
                    <a:pt x="43" y="4"/>
                  </a:lnTo>
                  <a:lnTo>
                    <a:pt x="47" y="4"/>
                  </a:lnTo>
                  <a:lnTo>
                    <a:pt x="49" y="6"/>
                  </a:lnTo>
                  <a:lnTo>
                    <a:pt x="52" y="7"/>
                  </a:lnTo>
                  <a:lnTo>
                    <a:pt x="56" y="9"/>
                  </a:lnTo>
                  <a:lnTo>
                    <a:pt x="61" y="11"/>
                  </a:lnTo>
                  <a:lnTo>
                    <a:pt x="64" y="9"/>
                  </a:lnTo>
                  <a:lnTo>
                    <a:pt x="69" y="12"/>
                  </a:lnTo>
                  <a:lnTo>
                    <a:pt x="74" y="16"/>
                  </a:lnTo>
                  <a:lnTo>
                    <a:pt x="78" y="18"/>
                  </a:lnTo>
                  <a:lnTo>
                    <a:pt x="83" y="21"/>
                  </a:lnTo>
                  <a:lnTo>
                    <a:pt x="88" y="24"/>
                  </a:lnTo>
                  <a:lnTo>
                    <a:pt x="92" y="28"/>
                  </a:lnTo>
                  <a:lnTo>
                    <a:pt x="97" y="31"/>
                  </a:lnTo>
                  <a:lnTo>
                    <a:pt x="100" y="36"/>
                  </a:lnTo>
                  <a:lnTo>
                    <a:pt x="100" y="41"/>
                  </a:lnTo>
                  <a:lnTo>
                    <a:pt x="92" y="50"/>
                  </a:lnTo>
                  <a:lnTo>
                    <a:pt x="83" y="57"/>
                  </a:lnTo>
                  <a:lnTo>
                    <a:pt x="73" y="64"/>
                  </a:lnTo>
                  <a:lnTo>
                    <a:pt x="64" y="70"/>
                  </a:lnTo>
                  <a:lnTo>
                    <a:pt x="52" y="74"/>
                  </a:lnTo>
                  <a:lnTo>
                    <a:pt x="42" y="77"/>
                  </a:lnTo>
                  <a:lnTo>
                    <a:pt x="28" y="77"/>
                  </a:lnTo>
                  <a:lnTo>
                    <a:pt x="16" y="74"/>
                  </a:lnTo>
                  <a:lnTo>
                    <a:pt x="12" y="74"/>
                  </a:lnTo>
                  <a:lnTo>
                    <a:pt x="11" y="74"/>
                  </a:lnTo>
                  <a:lnTo>
                    <a:pt x="9" y="72"/>
                  </a:lnTo>
                  <a:lnTo>
                    <a:pt x="7" y="72"/>
                  </a:lnTo>
                  <a:lnTo>
                    <a:pt x="6" y="70"/>
                  </a:lnTo>
                  <a:lnTo>
                    <a:pt x="4" y="70"/>
                  </a:lnTo>
                  <a:lnTo>
                    <a:pt x="2" y="69"/>
                  </a:lnTo>
                  <a:lnTo>
                    <a:pt x="0" y="67"/>
                  </a:lnTo>
                  <a:lnTo>
                    <a:pt x="0" y="64"/>
                  </a:lnTo>
                  <a:lnTo>
                    <a:pt x="0" y="59"/>
                  </a:lnTo>
                  <a:lnTo>
                    <a:pt x="2" y="53"/>
                  </a:lnTo>
                  <a:lnTo>
                    <a:pt x="2" y="48"/>
                  </a:lnTo>
                  <a:lnTo>
                    <a:pt x="4" y="43"/>
                  </a:lnTo>
                  <a:lnTo>
                    <a:pt x="6" y="38"/>
                  </a:lnTo>
                  <a:lnTo>
                    <a:pt x="7" y="35"/>
                  </a:lnTo>
                  <a:lnTo>
                    <a:pt x="9" y="29"/>
                  </a:lnTo>
                  <a:lnTo>
                    <a:pt x="7" y="28"/>
                  </a:lnTo>
                  <a:lnTo>
                    <a:pt x="6" y="26"/>
                  </a:lnTo>
                  <a:lnTo>
                    <a:pt x="6" y="24"/>
                  </a:lnTo>
                  <a:lnTo>
                    <a:pt x="6" y="23"/>
                  </a:lnTo>
                  <a:lnTo>
                    <a:pt x="6" y="21"/>
                  </a:lnTo>
                  <a:lnTo>
                    <a:pt x="6" y="19"/>
                  </a:lnTo>
                  <a:lnTo>
                    <a:pt x="6" y="18"/>
                  </a:lnTo>
                  <a:lnTo>
                    <a:pt x="6" y="16"/>
                  </a:lnTo>
                  <a:lnTo>
                    <a:pt x="7" y="16"/>
                  </a:lnTo>
                  <a:lnTo>
                    <a:pt x="9" y="18"/>
                  </a:lnTo>
                  <a:lnTo>
                    <a:pt x="11" y="18"/>
                  </a:lnTo>
                  <a:lnTo>
                    <a:pt x="12" y="19"/>
                  </a:lnTo>
                  <a:lnTo>
                    <a:pt x="12" y="21"/>
                  </a:lnTo>
                  <a:lnTo>
                    <a:pt x="14" y="21"/>
                  </a:lnTo>
                  <a:lnTo>
                    <a:pt x="16" y="19"/>
                  </a:lnTo>
                  <a:lnTo>
                    <a:pt x="18" y="18"/>
                  </a:lnTo>
                  <a:lnTo>
                    <a:pt x="16" y="18"/>
                  </a:lnTo>
                  <a:lnTo>
                    <a:pt x="16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1" y="14"/>
                  </a:lnTo>
                  <a:lnTo>
                    <a:pt x="11" y="14"/>
                  </a:lnTo>
                  <a:lnTo>
                    <a:pt x="11" y="9"/>
                  </a:lnTo>
                  <a:lnTo>
                    <a:pt x="12" y="7"/>
                  </a:lnTo>
                  <a:lnTo>
                    <a:pt x="16" y="7"/>
                  </a:lnTo>
                  <a:lnTo>
                    <a:pt x="18" y="9"/>
                  </a:lnTo>
                  <a:lnTo>
                    <a:pt x="19" y="9"/>
                  </a:lnTo>
                  <a:lnTo>
                    <a:pt x="21" y="9"/>
                  </a:lnTo>
                  <a:lnTo>
                    <a:pt x="24" y="9"/>
                  </a:lnTo>
                  <a:lnTo>
                    <a:pt x="26" y="7"/>
                  </a:lnTo>
                  <a:lnTo>
                    <a:pt x="26" y="6"/>
                  </a:lnTo>
                  <a:lnTo>
                    <a:pt x="24" y="4"/>
                  </a:lnTo>
                  <a:lnTo>
                    <a:pt x="28" y="0"/>
                  </a:lnTo>
                  <a:lnTo>
                    <a:pt x="30" y="2"/>
                  </a:lnTo>
                  <a:lnTo>
                    <a:pt x="30" y="2"/>
                  </a:lnTo>
                  <a:lnTo>
                    <a:pt x="31" y="4"/>
                  </a:lnTo>
                  <a:lnTo>
                    <a:pt x="31" y="6"/>
                  </a:lnTo>
                  <a:lnTo>
                    <a:pt x="33" y="7"/>
                  </a:lnTo>
                  <a:lnTo>
                    <a:pt x="35" y="9"/>
                  </a:lnTo>
                  <a:lnTo>
                    <a:pt x="37" y="9"/>
                  </a:lnTo>
                  <a:lnTo>
                    <a:pt x="3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739880" y="2216160"/>
              <a:ext cx="17640" cy="1440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22" y="2"/>
                  </a:moveTo>
                  <a:lnTo>
                    <a:pt x="24" y="4"/>
                  </a:lnTo>
                  <a:lnTo>
                    <a:pt x="24" y="5"/>
                  </a:lnTo>
                  <a:lnTo>
                    <a:pt x="24" y="7"/>
                  </a:lnTo>
                  <a:lnTo>
                    <a:pt x="24" y="7"/>
                  </a:lnTo>
                  <a:lnTo>
                    <a:pt x="24" y="9"/>
                  </a:lnTo>
                  <a:lnTo>
                    <a:pt x="24" y="10"/>
                  </a:lnTo>
                  <a:lnTo>
                    <a:pt x="24" y="12"/>
                  </a:lnTo>
                  <a:lnTo>
                    <a:pt x="24" y="14"/>
                  </a:lnTo>
                  <a:lnTo>
                    <a:pt x="22" y="17"/>
                  </a:lnTo>
                  <a:lnTo>
                    <a:pt x="20" y="19"/>
                  </a:lnTo>
                  <a:lnTo>
                    <a:pt x="17" y="21"/>
                  </a:lnTo>
                  <a:lnTo>
                    <a:pt x="15" y="22"/>
                  </a:lnTo>
                  <a:lnTo>
                    <a:pt x="14" y="22"/>
                  </a:lnTo>
                  <a:lnTo>
                    <a:pt x="10" y="22"/>
                  </a:lnTo>
                  <a:lnTo>
                    <a:pt x="8" y="22"/>
                  </a:lnTo>
                  <a:lnTo>
                    <a:pt x="5" y="21"/>
                  </a:lnTo>
                  <a:lnTo>
                    <a:pt x="3" y="21"/>
                  </a:lnTo>
                  <a:lnTo>
                    <a:pt x="3" y="19"/>
                  </a:lnTo>
                  <a:lnTo>
                    <a:pt x="1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5" y="7"/>
                  </a:lnTo>
                  <a:lnTo>
                    <a:pt x="7" y="5"/>
                  </a:lnTo>
                  <a:lnTo>
                    <a:pt x="10" y="4"/>
                  </a:lnTo>
                  <a:lnTo>
                    <a:pt x="12" y="2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2" y="2"/>
                  </a:lnTo>
                  <a:close/>
                </a:path>
              </a:pathLst>
            </a:custGeom>
            <a:solidFill>
              <a:srgbClr val="99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623960" y="2230560"/>
              <a:ext cx="19080" cy="14040"/>
            </a:xfrm>
            <a:custGeom>
              <a:avLst/>
              <a:gdLst/>
              <a:ahLst/>
              <a:rect l="l" t="t" r="r" b="b"/>
              <a:pathLst>
                <a:path w="27" h="24">
                  <a:moveTo>
                    <a:pt x="27" y="10"/>
                  </a:moveTo>
                  <a:lnTo>
                    <a:pt x="25" y="13"/>
                  </a:lnTo>
                  <a:lnTo>
                    <a:pt x="25" y="15"/>
                  </a:lnTo>
                  <a:lnTo>
                    <a:pt x="24" y="19"/>
                  </a:lnTo>
                  <a:lnTo>
                    <a:pt x="22" y="20"/>
                  </a:lnTo>
                  <a:lnTo>
                    <a:pt x="19" y="22"/>
                  </a:lnTo>
                  <a:lnTo>
                    <a:pt x="17" y="24"/>
                  </a:lnTo>
                  <a:lnTo>
                    <a:pt x="13" y="24"/>
                  </a:lnTo>
                  <a:lnTo>
                    <a:pt x="10" y="24"/>
                  </a:lnTo>
                  <a:lnTo>
                    <a:pt x="8" y="24"/>
                  </a:lnTo>
                  <a:lnTo>
                    <a:pt x="6" y="24"/>
                  </a:lnTo>
                  <a:lnTo>
                    <a:pt x="5" y="22"/>
                  </a:lnTo>
                  <a:lnTo>
                    <a:pt x="3" y="22"/>
                  </a:lnTo>
                  <a:lnTo>
                    <a:pt x="3" y="20"/>
                  </a:lnTo>
                  <a:lnTo>
                    <a:pt x="1" y="20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1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7" y="7"/>
                  </a:lnTo>
                  <a:lnTo>
                    <a:pt x="27" y="10"/>
                  </a:lnTo>
                  <a:close/>
                </a:path>
              </a:pathLst>
            </a:custGeom>
            <a:solidFill>
              <a:srgbClr val="996633"/>
            </a:solidFill>
            <a:ln w="9360">
              <a:solidFill>
                <a:srgbClr val="936b0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554120" y="2235240"/>
              <a:ext cx="30240" cy="55440"/>
            </a:xfrm>
            <a:custGeom>
              <a:avLst/>
              <a:gdLst/>
              <a:ahLst/>
              <a:rect l="l" t="t" r="r" b="b"/>
              <a:pathLst>
                <a:path w="45" h="89">
                  <a:moveTo>
                    <a:pt x="26" y="0"/>
                  </a:moveTo>
                  <a:lnTo>
                    <a:pt x="24" y="2"/>
                  </a:lnTo>
                  <a:lnTo>
                    <a:pt x="23" y="4"/>
                  </a:lnTo>
                  <a:lnTo>
                    <a:pt x="21" y="5"/>
                  </a:lnTo>
                  <a:lnTo>
                    <a:pt x="19" y="5"/>
                  </a:lnTo>
                  <a:lnTo>
                    <a:pt x="16" y="7"/>
                  </a:lnTo>
                  <a:lnTo>
                    <a:pt x="14" y="9"/>
                  </a:lnTo>
                  <a:lnTo>
                    <a:pt x="12" y="11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12" y="19"/>
                  </a:lnTo>
                  <a:lnTo>
                    <a:pt x="12" y="21"/>
                  </a:lnTo>
                  <a:lnTo>
                    <a:pt x="14" y="24"/>
                  </a:lnTo>
                  <a:lnTo>
                    <a:pt x="16" y="26"/>
                  </a:lnTo>
                  <a:lnTo>
                    <a:pt x="17" y="28"/>
                  </a:lnTo>
                  <a:lnTo>
                    <a:pt x="21" y="29"/>
                  </a:lnTo>
                  <a:lnTo>
                    <a:pt x="23" y="31"/>
                  </a:lnTo>
                  <a:lnTo>
                    <a:pt x="24" y="31"/>
                  </a:lnTo>
                  <a:lnTo>
                    <a:pt x="28" y="33"/>
                  </a:lnTo>
                  <a:lnTo>
                    <a:pt x="29" y="34"/>
                  </a:lnTo>
                  <a:lnTo>
                    <a:pt x="31" y="36"/>
                  </a:lnTo>
                  <a:lnTo>
                    <a:pt x="33" y="38"/>
                  </a:lnTo>
                  <a:lnTo>
                    <a:pt x="35" y="40"/>
                  </a:lnTo>
                  <a:lnTo>
                    <a:pt x="33" y="43"/>
                  </a:lnTo>
                  <a:lnTo>
                    <a:pt x="33" y="46"/>
                  </a:lnTo>
                  <a:lnTo>
                    <a:pt x="29" y="50"/>
                  </a:lnTo>
                  <a:lnTo>
                    <a:pt x="26" y="53"/>
                  </a:lnTo>
                  <a:lnTo>
                    <a:pt x="23" y="58"/>
                  </a:lnTo>
                  <a:lnTo>
                    <a:pt x="17" y="62"/>
                  </a:lnTo>
                  <a:lnTo>
                    <a:pt x="16" y="65"/>
                  </a:lnTo>
                  <a:lnTo>
                    <a:pt x="12" y="69"/>
                  </a:lnTo>
                  <a:lnTo>
                    <a:pt x="12" y="74"/>
                  </a:lnTo>
                  <a:lnTo>
                    <a:pt x="12" y="79"/>
                  </a:lnTo>
                  <a:lnTo>
                    <a:pt x="16" y="82"/>
                  </a:lnTo>
                  <a:lnTo>
                    <a:pt x="21" y="82"/>
                  </a:lnTo>
                  <a:lnTo>
                    <a:pt x="26" y="82"/>
                  </a:lnTo>
                  <a:lnTo>
                    <a:pt x="31" y="82"/>
                  </a:lnTo>
                  <a:lnTo>
                    <a:pt x="36" y="81"/>
                  </a:lnTo>
                  <a:lnTo>
                    <a:pt x="40" y="82"/>
                  </a:lnTo>
                  <a:lnTo>
                    <a:pt x="43" y="84"/>
                  </a:lnTo>
                  <a:lnTo>
                    <a:pt x="45" y="89"/>
                  </a:lnTo>
                  <a:lnTo>
                    <a:pt x="42" y="89"/>
                  </a:lnTo>
                  <a:lnTo>
                    <a:pt x="40" y="87"/>
                  </a:lnTo>
                  <a:lnTo>
                    <a:pt x="36" y="87"/>
                  </a:lnTo>
                  <a:lnTo>
                    <a:pt x="33" y="87"/>
                  </a:lnTo>
                  <a:lnTo>
                    <a:pt x="29" y="87"/>
                  </a:lnTo>
                  <a:lnTo>
                    <a:pt x="26" y="89"/>
                  </a:lnTo>
                  <a:lnTo>
                    <a:pt x="23" y="89"/>
                  </a:lnTo>
                  <a:lnTo>
                    <a:pt x="19" y="89"/>
                  </a:lnTo>
                  <a:lnTo>
                    <a:pt x="16" y="89"/>
                  </a:lnTo>
                  <a:lnTo>
                    <a:pt x="14" y="89"/>
                  </a:lnTo>
                  <a:lnTo>
                    <a:pt x="10" y="87"/>
                  </a:lnTo>
                  <a:lnTo>
                    <a:pt x="7" y="86"/>
                  </a:lnTo>
                  <a:lnTo>
                    <a:pt x="5" y="84"/>
                  </a:lnTo>
                  <a:lnTo>
                    <a:pt x="2" y="82"/>
                  </a:lnTo>
                  <a:lnTo>
                    <a:pt x="0" y="81"/>
                  </a:lnTo>
                  <a:lnTo>
                    <a:pt x="0" y="77"/>
                  </a:lnTo>
                  <a:lnTo>
                    <a:pt x="2" y="72"/>
                  </a:lnTo>
                  <a:lnTo>
                    <a:pt x="5" y="67"/>
                  </a:lnTo>
                  <a:lnTo>
                    <a:pt x="9" y="62"/>
                  </a:lnTo>
                  <a:lnTo>
                    <a:pt x="12" y="58"/>
                  </a:lnTo>
                  <a:lnTo>
                    <a:pt x="17" y="53"/>
                  </a:lnTo>
                  <a:lnTo>
                    <a:pt x="21" y="50"/>
                  </a:lnTo>
                  <a:lnTo>
                    <a:pt x="23" y="45"/>
                  </a:lnTo>
                  <a:lnTo>
                    <a:pt x="24" y="40"/>
                  </a:lnTo>
                  <a:lnTo>
                    <a:pt x="23" y="38"/>
                  </a:lnTo>
                  <a:lnTo>
                    <a:pt x="19" y="36"/>
                  </a:lnTo>
                  <a:lnTo>
                    <a:pt x="16" y="34"/>
                  </a:lnTo>
                  <a:lnTo>
                    <a:pt x="12" y="33"/>
                  </a:lnTo>
                  <a:lnTo>
                    <a:pt x="9" y="31"/>
                  </a:lnTo>
                  <a:lnTo>
                    <a:pt x="7" y="29"/>
                  </a:lnTo>
                  <a:lnTo>
                    <a:pt x="4" y="26"/>
                  </a:lnTo>
                  <a:lnTo>
                    <a:pt x="2" y="22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2" y="11"/>
                  </a:lnTo>
                  <a:lnTo>
                    <a:pt x="4" y="7"/>
                  </a:lnTo>
                  <a:lnTo>
                    <a:pt x="5" y="5"/>
                  </a:lnTo>
                  <a:lnTo>
                    <a:pt x="9" y="2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612800" y="2235240"/>
              <a:ext cx="49320" cy="20520"/>
            </a:xfrm>
            <a:custGeom>
              <a:avLst/>
              <a:gdLst/>
              <a:ahLst/>
              <a:rect l="l" t="t" r="r" b="b"/>
              <a:pathLst>
                <a:path w="71" h="36">
                  <a:moveTo>
                    <a:pt x="66" y="26"/>
                  </a:moveTo>
                  <a:lnTo>
                    <a:pt x="59" y="31"/>
                  </a:lnTo>
                  <a:lnTo>
                    <a:pt x="50" y="34"/>
                  </a:lnTo>
                  <a:lnTo>
                    <a:pt x="43" y="34"/>
                  </a:lnTo>
                  <a:lnTo>
                    <a:pt x="35" y="36"/>
                  </a:lnTo>
                  <a:lnTo>
                    <a:pt x="26" y="36"/>
                  </a:lnTo>
                  <a:lnTo>
                    <a:pt x="18" y="34"/>
                  </a:lnTo>
                  <a:lnTo>
                    <a:pt x="11" y="34"/>
                  </a:lnTo>
                  <a:lnTo>
                    <a:pt x="2" y="33"/>
                  </a:lnTo>
                  <a:lnTo>
                    <a:pt x="0" y="31"/>
                  </a:lnTo>
                  <a:lnTo>
                    <a:pt x="0" y="28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2" y="19"/>
                  </a:lnTo>
                  <a:lnTo>
                    <a:pt x="2" y="17"/>
                  </a:lnTo>
                  <a:lnTo>
                    <a:pt x="4" y="14"/>
                  </a:lnTo>
                  <a:lnTo>
                    <a:pt x="4" y="11"/>
                  </a:lnTo>
                  <a:lnTo>
                    <a:pt x="7" y="16"/>
                  </a:lnTo>
                  <a:lnTo>
                    <a:pt x="11" y="19"/>
                  </a:lnTo>
                  <a:lnTo>
                    <a:pt x="16" y="22"/>
                  </a:lnTo>
                  <a:lnTo>
                    <a:pt x="21" y="24"/>
                  </a:lnTo>
                  <a:lnTo>
                    <a:pt x="26" y="26"/>
                  </a:lnTo>
                  <a:lnTo>
                    <a:pt x="31" y="26"/>
                  </a:lnTo>
                  <a:lnTo>
                    <a:pt x="37" y="26"/>
                  </a:lnTo>
                  <a:lnTo>
                    <a:pt x="43" y="24"/>
                  </a:lnTo>
                  <a:lnTo>
                    <a:pt x="45" y="22"/>
                  </a:lnTo>
                  <a:lnTo>
                    <a:pt x="49" y="19"/>
                  </a:lnTo>
                  <a:lnTo>
                    <a:pt x="50" y="17"/>
                  </a:lnTo>
                  <a:lnTo>
                    <a:pt x="52" y="14"/>
                  </a:lnTo>
                  <a:lnTo>
                    <a:pt x="54" y="11"/>
                  </a:lnTo>
                  <a:lnTo>
                    <a:pt x="55" y="7"/>
                  </a:lnTo>
                  <a:lnTo>
                    <a:pt x="57" y="4"/>
                  </a:lnTo>
                  <a:lnTo>
                    <a:pt x="59" y="0"/>
                  </a:lnTo>
                  <a:lnTo>
                    <a:pt x="61" y="4"/>
                  </a:lnTo>
                  <a:lnTo>
                    <a:pt x="62" y="7"/>
                  </a:lnTo>
                  <a:lnTo>
                    <a:pt x="66" y="11"/>
                  </a:lnTo>
                  <a:lnTo>
                    <a:pt x="69" y="14"/>
                  </a:lnTo>
                  <a:lnTo>
                    <a:pt x="71" y="17"/>
                  </a:lnTo>
                  <a:lnTo>
                    <a:pt x="71" y="19"/>
                  </a:lnTo>
                  <a:lnTo>
                    <a:pt x="69" y="22"/>
                  </a:lnTo>
                  <a:lnTo>
                    <a:pt x="66" y="26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946160" y="2284560"/>
              <a:ext cx="20880" cy="58680"/>
            </a:xfrm>
            <a:custGeom>
              <a:avLst/>
              <a:gdLst/>
              <a:ahLst/>
              <a:rect l="l" t="t" r="r" b="b"/>
              <a:pathLst>
                <a:path w="31" h="92">
                  <a:moveTo>
                    <a:pt x="31" y="15"/>
                  </a:moveTo>
                  <a:lnTo>
                    <a:pt x="31" y="20"/>
                  </a:lnTo>
                  <a:lnTo>
                    <a:pt x="31" y="25"/>
                  </a:lnTo>
                  <a:lnTo>
                    <a:pt x="29" y="30"/>
                  </a:lnTo>
                  <a:lnTo>
                    <a:pt x="26" y="34"/>
                  </a:lnTo>
                  <a:lnTo>
                    <a:pt x="24" y="37"/>
                  </a:lnTo>
                  <a:lnTo>
                    <a:pt x="21" y="42"/>
                  </a:lnTo>
                  <a:lnTo>
                    <a:pt x="17" y="46"/>
                  </a:lnTo>
                  <a:lnTo>
                    <a:pt x="15" y="49"/>
                  </a:lnTo>
                  <a:lnTo>
                    <a:pt x="15" y="54"/>
                  </a:lnTo>
                  <a:lnTo>
                    <a:pt x="15" y="59"/>
                  </a:lnTo>
                  <a:lnTo>
                    <a:pt x="15" y="66"/>
                  </a:lnTo>
                  <a:lnTo>
                    <a:pt x="15" y="71"/>
                  </a:lnTo>
                  <a:lnTo>
                    <a:pt x="15" y="76"/>
                  </a:lnTo>
                  <a:lnTo>
                    <a:pt x="14" y="83"/>
                  </a:lnTo>
                  <a:lnTo>
                    <a:pt x="12" y="87"/>
                  </a:lnTo>
                  <a:lnTo>
                    <a:pt x="10" y="92"/>
                  </a:lnTo>
                  <a:lnTo>
                    <a:pt x="9" y="92"/>
                  </a:lnTo>
                  <a:lnTo>
                    <a:pt x="9" y="90"/>
                  </a:lnTo>
                  <a:lnTo>
                    <a:pt x="9" y="90"/>
                  </a:lnTo>
                  <a:lnTo>
                    <a:pt x="9" y="90"/>
                  </a:lnTo>
                  <a:lnTo>
                    <a:pt x="9" y="90"/>
                  </a:lnTo>
                  <a:lnTo>
                    <a:pt x="7" y="90"/>
                  </a:lnTo>
                  <a:lnTo>
                    <a:pt x="7" y="90"/>
                  </a:lnTo>
                  <a:lnTo>
                    <a:pt x="7" y="90"/>
                  </a:lnTo>
                  <a:lnTo>
                    <a:pt x="9" y="85"/>
                  </a:lnTo>
                  <a:lnTo>
                    <a:pt x="10" y="80"/>
                  </a:lnTo>
                  <a:lnTo>
                    <a:pt x="9" y="73"/>
                  </a:lnTo>
                  <a:lnTo>
                    <a:pt x="9" y="68"/>
                  </a:lnTo>
                  <a:lnTo>
                    <a:pt x="7" y="63"/>
                  </a:lnTo>
                  <a:lnTo>
                    <a:pt x="5" y="58"/>
                  </a:lnTo>
                  <a:lnTo>
                    <a:pt x="5" y="53"/>
                  </a:lnTo>
                  <a:lnTo>
                    <a:pt x="3" y="47"/>
                  </a:lnTo>
                  <a:lnTo>
                    <a:pt x="7" y="46"/>
                  </a:lnTo>
                  <a:lnTo>
                    <a:pt x="10" y="44"/>
                  </a:lnTo>
                  <a:lnTo>
                    <a:pt x="12" y="42"/>
                  </a:lnTo>
                  <a:lnTo>
                    <a:pt x="14" y="39"/>
                  </a:lnTo>
                  <a:lnTo>
                    <a:pt x="17" y="37"/>
                  </a:lnTo>
                  <a:lnTo>
                    <a:pt x="19" y="34"/>
                  </a:lnTo>
                  <a:lnTo>
                    <a:pt x="21" y="30"/>
                  </a:lnTo>
                  <a:lnTo>
                    <a:pt x="24" y="29"/>
                  </a:lnTo>
                  <a:lnTo>
                    <a:pt x="26" y="25"/>
                  </a:lnTo>
                  <a:lnTo>
                    <a:pt x="26" y="22"/>
                  </a:lnTo>
                  <a:lnTo>
                    <a:pt x="24" y="18"/>
                  </a:lnTo>
                  <a:lnTo>
                    <a:pt x="22" y="17"/>
                  </a:lnTo>
                  <a:lnTo>
                    <a:pt x="21" y="13"/>
                  </a:lnTo>
                  <a:lnTo>
                    <a:pt x="17" y="12"/>
                  </a:lnTo>
                  <a:lnTo>
                    <a:pt x="15" y="10"/>
                  </a:lnTo>
                  <a:lnTo>
                    <a:pt x="12" y="8"/>
                  </a:lnTo>
                  <a:lnTo>
                    <a:pt x="0" y="5"/>
                  </a:lnTo>
                  <a:lnTo>
                    <a:pt x="2" y="1"/>
                  </a:lnTo>
                  <a:lnTo>
                    <a:pt x="5" y="0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5" y="3"/>
                  </a:lnTo>
                  <a:lnTo>
                    <a:pt x="19" y="5"/>
                  </a:lnTo>
                  <a:lnTo>
                    <a:pt x="22" y="6"/>
                  </a:lnTo>
                  <a:lnTo>
                    <a:pt x="26" y="6"/>
                  </a:lnTo>
                  <a:lnTo>
                    <a:pt x="3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685880" y="2289240"/>
              <a:ext cx="34920" cy="6120"/>
            </a:xfrm>
            <a:custGeom>
              <a:avLst/>
              <a:gdLst/>
              <a:ahLst/>
              <a:rect l="l" t="t" r="r" b="b"/>
              <a:pathLst>
                <a:path w="50" h="11">
                  <a:moveTo>
                    <a:pt x="50" y="0"/>
                  </a:moveTo>
                  <a:lnTo>
                    <a:pt x="48" y="4"/>
                  </a:lnTo>
                  <a:lnTo>
                    <a:pt x="45" y="6"/>
                  </a:lnTo>
                  <a:lnTo>
                    <a:pt x="43" y="6"/>
                  </a:lnTo>
                  <a:lnTo>
                    <a:pt x="40" y="6"/>
                  </a:lnTo>
                  <a:lnTo>
                    <a:pt x="38" y="6"/>
                  </a:lnTo>
                  <a:lnTo>
                    <a:pt x="35" y="7"/>
                  </a:lnTo>
                  <a:lnTo>
                    <a:pt x="33" y="7"/>
                  </a:lnTo>
                  <a:lnTo>
                    <a:pt x="31" y="9"/>
                  </a:lnTo>
                  <a:lnTo>
                    <a:pt x="26" y="11"/>
                  </a:lnTo>
                  <a:lnTo>
                    <a:pt x="23" y="11"/>
                  </a:lnTo>
                  <a:lnTo>
                    <a:pt x="17" y="11"/>
                  </a:lnTo>
                  <a:lnTo>
                    <a:pt x="14" y="11"/>
                  </a:lnTo>
                  <a:lnTo>
                    <a:pt x="9" y="11"/>
                  </a:lnTo>
                  <a:lnTo>
                    <a:pt x="5" y="11"/>
                  </a:lnTo>
                  <a:lnTo>
                    <a:pt x="2" y="9"/>
                  </a:lnTo>
                  <a:lnTo>
                    <a:pt x="0" y="6"/>
                  </a:lnTo>
                  <a:lnTo>
                    <a:pt x="2" y="2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2"/>
                  </a:lnTo>
                  <a:lnTo>
                    <a:pt x="11" y="4"/>
                  </a:lnTo>
                  <a:lnTo>
                    <a:pt x="14" y="4"/>
                  </a:lnTo>
                  <a:lnTo>
                    <a:pt x="16" y="6"/>
                  </a:lnTo>
                  <a:lnTo>
                    <a:pt x="19" y="6"/>
                  </a:lnTo>
                  <a:lnTo>
                    <a:pt x="23" y="6"/>
                  </a:lnTo>
                  <a:lnTo>
                    <a:pt x="28" y="4"/>
                  </a:lnTo>
                  <a:lnTo>
                    <a:pt x="31" y="4"/>
                  </a:lnTo>
                  <a:lnTo>
                    <a:pt x="35" y="2"/>
                  </a:lnTo>
                  <a:lnTo>
                    <a:pt x="38" y="2"/>
                  </a:lnTo>
                  <a:lnTo>
                    <a:pt x="42" y="2"/>
                  </a:lnTo>
                  <a:lnTo>
                    <a:pt x="45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573200" y="2293920"/>
              <a:ext cx="46080" cy="61920"/>
            </a:xfrm>
            <a:custGeom>
              <a:avLst/>
              <a:gdLst/>
              <a:ahLst/>
              <a:rect l="l" t="t" r="r" b="b"/>
              <a:pathLst>
                <a:path w="67" h="96">
                  <a:moveTo>
                    <a:pt x="27" y="0"/>
                  </a:moveTo>
                  <a:lnTo>
                    <a:pt x="27" y="7"/>
                  </a:lnTo>
                  <a:lnTo>
                    <a:pt x="24" y="14"/>
                  </a:lnTo>
                  <a:lnTo>
                    <a:pt x="19" y="20"/>
                  </a:lnTo>
                  <a:lnTo>
                    <a:pt x="14" y="27"/>
                  </a:lnTo>
                  <a:lnTo>
                    <a:pt x="10" y="34"/>
                  </a:lnTo>
                  <a:lnTo>
                    <a:pt x="8" y="39"/>
                  </a:lnTo>
                  <a:lnTo>
                    <a:pt x="8" y="43"/>
                  </a:lnTo>
                  <a:lnTo>
                    <a:pt x="12" y="44"/>
                  </a:lnTo>
                  <a:lnTo>
                    <a:pt x="15" y="48"/>
                  </a:lnTo>
                  <a:lnTo>
                    <a:pt x="20" y="49"/>
                  </a:lnTo>
                  <a:lnTo>
                    <a:pt x="24" y="49"/>
                  </a:lnTo>
                  <a:lnTo>
                    <a:pt x="27" y="49"/>
                  </a:lnTo>
                  <a:lnTo>
                    <a:pt x="31" y="49"/>
                  </a:lnTo>
                  <a:lnTo>
                    <a:pt x="34" y="49"/>
                  </a:lnTo>
                  <a:lnTo>
                    <a:pt x="38" y="49"/>
                  </a:lnTo>
                  <a:lnTo>
                    <a:pt x="39" y="51"/>
                  </a:lnTo>
                  <a:lnTo>
                    <a:pt x="41" y="53"/>
                  </a:lnTo>
                  <a:lnTo>
                    <a:pt x="43" y="56"/>
                  </a:lnTo>
                  <a:lnTo>
                    <a:pt x="43" y="60"/>
                  </a:lnTo>
                  <a:lnTo>
                    <a:pt x="41" y="63"/>
                  </a:lnTo>
                  <a:lnTo>
                    <a:pt x="39" y="67"/>
                  </a:lnTo>
                  <a:lnTo>
                    <a:pt x="38" y="68"/>
                  </a:lnTo>
                  <a:lnTo>
                    <a:pt x="36" y="72"/>
                  </a:lnTo>
                  <a:lnTo>
                    <a:pt x="34" y="75"/>
                  </a:lnTo>
                  <a:lnTo>
                    <a:pt x="34" y="79"/>
                  </a:lnTo>
                  <a:lnTo>
                    <a:pt x="36" y="82"/>
                  </a:lnTo>
                  <a:lnTo>
                    <a:pt x="39" y="85"/>
                  </a:lnTo>
                  <a:lnTo>
                    <a:pt x="43" y="87"/>
                  </a:lnTo>
                  <a:lnTo>
                    <a:pt x="46" y="89"/>
                  </a:lnTo>
                  <a:lnTo>
                    <a:pt x="50" y="90"/>
                  </a:lnTo>
                  <a:lnTo>
                    <a:pt x="53" y="90"/>
                  </a:lnTo>
                  <a:lnTo>
                    <a:pt x="58" y="90"/>
                  </a:lnTo>
                  <a:lnTo>
                    <a:pt x="62" y="90"/>
                  </a:lnTo>
                  <a:lnTo>
                    <a:pt x="67" y="89"/>
                  </a:lnTo>
                  <a:lnTo>
                    <a:pt x="67" y="96"/>
                  </a:lnTo>
                  <a:lnTo>
                    <a:pt x="62" y="96"/>
                  </a:lnTo>
                  <a:lnTo>
                    <a:pt x="57" y="96"/>
                  </a:lnTo>
                  <a:lnTo>
                    <a:pt x="50" y="96"/>
                  </a:lnTo>
                  <a:lnTo>
                    <a:pt x="45" y="96"/>
                  </a:lnTo>
                  <a:lnTo>
                    <a:pt x="39" y="94"/>
                  </a:lnTo>
                  <a:lnTo>
                    <a:pt x="34" y="92"/>
                  </a:lnTo>
                  <a:lnTo>
                    <a:pt x="31" y="89"/>
                  </a:lnTo>
                  <a:lnTo>
                    <a:pt x="27" y="84"/>
                  </a:lnTo>
                  <a:lnTo>
                    <a:pt x="26" y="80"/>
                  </a:lnTo>
                  <a:lnTo>
                    <a:pt x="26" y="77"/>
                  </a:lnTo>
                  <a:lnTo>
                    <a:pt x="27" y="73"/>
                  </a:lnTo>
                  <a:lnTo>
                    <a:pt x="29" y="70"/>
                  </a:lnTo>
                  <a:lnTo>
                    <a:pt x="31" y="68"/>
                  </a:lnTo>
                  <a:lnTo>
                    <a:pt x="32" y="65"/>
                  </a:lnTo>
                  <a:lnTo>
                    <a:pt x="32" y="61"/>
                  </a:lnTo>
                  <a:lnTo>
                    <a:pt x="32" y="58"/>
                  </a:lnTo>
                  <a:lnTo>
                    <a:pt x="29" y="58"/>
                  </a:lnTo>
                  <a:lnTo>
                    <a:pt x="26" y="56"/>
                  </a:lnTo>
                  <a:lnTo>
                    <a:pt x="22" y="56"/>
                  </a:lnTo>
                  <a:lnTo>
                    <a:pt x="19" y="56"/>
                  </a:lnTo>
                  <a:lnTo>
                    <a:pt x="15" y="56"/>
                  </a:lnTo>
                  <a:lnTo>
                    <a:pt x="12" y="55"/>
                  </a:lnTo>
                  <a:lnTo>
                    <a:pt x="8" y="55"/>
                  </a:lnTo>
                  <a:lnTo>
                    <a:pt x="5" y="53"/>
                  </a:lnTo>
                  <a:lnTo>
                    <a:pt x="3" y="51"/>
                  </a:lnTo>
                  <a:lnTo>
                    <a:pt x="1" y="48"/>
                  </a:lnTo>
                  <a:lnTo>
                    <a:pt x="0" y="46"/>
                  </a:lnTo>
                  <a:lnTo>
                    <a:pt x="0" y="43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1" y="32"/>
                  </a:lnTo>
                  <a:lnTo>
                    <a:pt x="5" y="27"/>
                  </a:lnTo>
                  <a:lnTo>
                    <a:pt x="7" y="22"/>
                  </a:lnTo>
                  <a:lnTo>
                    <a:pt x="10" y="19"/>
                  </a:lnTo>
                  <a:lnTo>
                    <a:pt x="12" y="14"/>
                  </a:lnTo>
                  <a:lnTo>
                    <a:pt x="15" y="10"/>
                  </a:lnTo>
                  <a:lnTo>
                    <a:pt x="19" y="7"/>
                  </a:lnTo>
                  <a:lnTo>
                    <a:pt x="22" y="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668600" y="2303640"/>
              <a:ext cx="81000" cy="41040"/>
            </a:xfrm>
            <a:custGeom>
              <a:avLst/>
              <a:gdLst/>
              <a:ahLst/>
              <a:rect l="l" t="t" r="r" b="b"/>
              <a:pathLst>
                <a:path w="119" h="64">
                  <a:moveTo>
                    <a:pt x="119" y="7"/>
                  </a:moveTo>
                  <a:lnTo>
                    <a:pt x="112" y="11"/>
                  </a:lnTo>
                  <a:lnTo>
                    <a:pt x="107" y="14"/>
                  </a:lnTo>
                  <a:lnTo>
                    <a:pt x="104" y="21"/>
                  </a:lnTo>
                  <a:lnTo>
                    <a:pt x="102" y="28"/>
                  </a:lnTo>
                  <a:lnTo>
                    <a:pt x="100" y="34"/>
                  </a:lnTo>
                  <a:lnTo>
                    <a:pt x="99" y="41"/>
                  </a:lnTo>
                  <a:lnTo>
                    <a:pt x="95" y="48"/>
                  </a:lnTo>
                  <a:lnTo>
                    <a:pt x="90" y="53"/>
                  </a:lnTo>
                  <a:lnTo>
                    <a:pt x="83" y="57"/>
                  </a:lnTo>
                  <a:lnTo>
                    <a:pt x="78" y="60"/>
                  </a:lnTo>
                  <a:lnTo>
                    <a:pt x="71" y="62"/>
                  </a:lnTo>
                  <a:lnTo>
                    <a:pt x="62" y="64"/>
                  </a:lnTo>
                  <a:lnTo>
                    <a:pt x="55" y="64"/>
                  </a:lnTo>
                  <a:lnTo>
                    <a:pt x="49" y="62"/>
                  </a:lnTo>
                  <a:lnTo>
                    <a:pt x="42" y="60"/>
                  </a:lnTo>
                  <a:lnTo>
                    <a:pt x="35" y="57"/>
                  </a:lnTo>
                  <a:lnTo>
                    <a:pt x="33" y="55"/>
                  </a:lnTo>
                  <a:lnTo>
                    <a:pt x="30" y="53"/>
                  </a:lnTo>
                  <a:lnTo>
                    <a:pt x="28" y="52"/>
                  </a:lnTo>
                  <a:lnTo>
                    <a:pt x="26" y="48"/>
                  </a:lnTo>
                  <a:lnTo>
                    <a:pt x="26" y="45"/>
                  </a:lnTo>
                  <a:lnTo>
                    <a:pt x="24" y="43"/>
                  </a:lnTo>
                  <a:lnTo>
                    <a:pt x="23" y="40"/>
                  </a:lnTo>
                  <a:lnTo>
                    <a:pt x="19" y="38"/>
                  </a:lnTo>
                  <a:lnTo>
                    <a:pt x="18" y="38"/>
                  </a:lnTo>
                  <a:lnTo>
                    <a:pt x="16" y="40"/>
                  </a:lnTo>
                  <a:lnTo>
                    <a:pt x="12" y="40"/>
                  </a:lnTo>
                  <a:lnTo>
                    <a:pt x="11" y="40"/>
                  </a:lnTo>
                  <a:lnTo>
                    <a:pt x="9" y="41"/>
                  </a:lnTo>
                  <a:lnTo>
                    <a:pt x="6" y="41"/>
                  </a:lnTo>
                  <a:lnTo>
                    <a:pt x="4" y="41"/>
                  </a:lnTo>
                  <a:lnTo>
                    <a:pt x="2" y="41"/>
                  </a:lnTo>
                  <a:lnTo>
                    <a:pt x="0" y="38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2" y="33"/>
                  </a:lnTo>
                  <a:lnTo>
                    <a:pt x="6" y="31"/>
                  </a:lnTo>
                  <a:lnTo>
                    <a:pt x="7" y="29"/>
                  </a:lnTo>
                  <a:lnTo>
                    <a:pt x="11" y="29"/>
                  </a:lnTo>
                  <a:lnTo>
                    <a:pt x="12" y="28"/>
                  </a:lnTo>
                  <a:lnTo>
                    <a:pt x="21" y="29"/>
                  </a:lnTo>
                  <a:lnTo>
                    <a:pt x="28" y="31"/>
                  </a:lnTo>
                  <a:lnTo>
                    <a:pt x="37" y="33"/>
                  </a:lnTo>
                  <a:lnTo>
                    <a:pt x="45" y="34"/>
                  </a:lnTo>
                  <a:lnTo>
                    <a:pt x="52" y="34"/>
                  </a:lnTo>
                  <a:lnTo>
                    <a:pt x="59" y="33"/>
                  </a:lnTo>
                  <a:lnTo>
                    <a:pt x="66" y="31"/>
                  </a:lnTo>
                  <a:lnTo>
                    <a:pt x="74" y="24"/>
                  </a:lnTo>
                  <a:lnTo>
                    <a:pt x="78" y="21"/>
                  </a:lnTo>
                  <a:lnTo>
                    <a:pt x="83" y="16"/>
                  </a:lnTo>
                  <a:lnTo>
                    <a:pt x="90" y="11"/>
                  </a:lnTo>
                  <a:lnTo>
                    <a:pt x="95" y="7"/>
                  </a:lnTo>
                  <a:lnTo>
                    <a:pt x="100" y="4"/>
                  </a:lnTo>
                  <a:lnTo>
                    <a:pt x="107" y="0"/>
                  </a:lnTo>
                  <a:lnTo>
                    <a:pt x="112" y="0"/>
                  </a:lnTo>
                  <a:lnTo>
                    <a:pt x="119" y="2"/>
                  </a:lnTo>
                  <a:lnTo>
                    <a:pt x="119" y="7"/>
                  </a:lnTo>
                  <a:close/>
                </a:path>
              </a:pathLst>
            </a:custGeom>
            <a:solidFill>
              <a:srgbClr val="ff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768320" y="2330280"/>
              <a:ext cx="65160" cy="74880"/>
            </a:xfrm>
            <a:custGeom>
              <a:avLst/>
              <a:gdLst/>
              <a:ahLst/>
              <a:rect l="l" t="t" r="r" b="b"/>
              <a:pathLst>
                <a:path w="95" h="118">
                  <a:moveTo>
                    <a:pt x="91" y="23"/>
                  </a:moveTo>
                  <a:lnTo>
                    <a:pt x="89" y="26"/>
                  </a:lnTo>
                  <a:lnTo>
                    <a:pt x="88" y="31"/>
                  </a:lnTo>
                  <a:lnTo>
                    <a:pt x="84" y="34"/>
                  </a:lnTo>
                  <a:lnTo>
                    <a:pt x="81" y="40"/>
                  </a:lnTo>
                  <a:lnTo>
                    <a:pt x="79" y="43"/>
                  </a:lnTo>
                  <a:lnTo>
                    <a:pt x="79" y="46"/>
                  </a:lnTo>
                  <a:lnTo>
                    <a:pt x="81" y="52"/>
                  </a:lnTo>
                  <a:lnTo>
                    <a:pt x="86" y="55"/>
                  </a:lnTo>
                  <a:lnTo>
                    <a:pt x="86" y="57"/>
                  </a:lnTo>
                  <a:lnTo>
                    <a:pt x="88" y="57"/>
                  </a:lnTo>
                  <a:lnTo>
                    <a:pt x="89" y="57"/>
                  </a:lnTo>
                  <a:lnTo>
                    <a:pt x="89" y="58"/>
                  </a:lnTo>
                  <a:lnTo>
                    <a:pt x="91" y="60"/>
                  </a:lnTo>
                  <a:lnTo>
                    <a:pt x="91" y="60"/>
                  </a:lnTo>
                  <a:lnTo>
                    <a:pt x="93" y="62"/>
                  </a:lnTo>
                  <a:lnTo>
                    <a:pt x="95" y="62"/>
                  </a:lnTo>
                  <a:lnTo>
                    <a:pt x="93" y="65"/>
                  </a:lnTo>
                  <a:lnTo>
                    <a:pt x="93" y="70"/>
                  </a:lnTo>
                  <a:lnTo>
                    <a:pt x="93" y="75"/>
                  </a:lnTo>
                  <a:lnTo>
                    <a:pt x="93" y="81"/>
                  </a:lnTo>
                  <a:lnTo>
                    <a:pt x="91" y="86"/>
                  </a:lnTo>
                  <a:lnTo>
                    <a:pt x="91" y="91"/>
                  </a:lnTo>
                  <a:lnTo>
                    <a:pt x="93" y="96"/>
                  </a:lnTo>
                  <a:lnTo>
                    <a:pt x="93" y="101"/>
                  </a:lnTo>
                  <a:lnTo>
                    <a:pt x="89" y="105"/>
                  </a:lnTo>
                  <a:lnTo>
                    <a:pt x="86" y="108"/>
                  </a:lnTo>
                  <a:lnTo>
                    <a:pt x="83" y="111"/>
                  </a:lnTo>
                  <a:lnTo>
                    <a:pt x="79" y="113"/>
                  </a:lnTo>
                  <a:lnTo>
                    <a:pt x="76" y="115"/>
                  </a:lnTo>
                  <a:lnTo>
                    <a:pt x="72" y="116"/>
                  </a:lnTo>
                  <a:lnTo>
                    <a:pt x="67" y="118"/>
                  </a:lnTo>
                  <a:lnTo>
                    <a:pt x="64" y="116"/>
                  </a:lnTo>
                  <a:lnTo>
                    <a:pt x="60" y="116"/>
                  </a:lnTo>
                  <a:lnTo>
                    <a:pt x="58" y="115"/>
                  </a:lnTo>
                  <a:lnTo>
                    <a:pt x="58" y="113"/>
                  </a:lnTo>
                  <a:lnTo>
                    <a:pt x="57" y="111"/>
                  </a:lnTo>
                  <a:lnTo>
                    <a:pt x="57" y="108"/>
                  </a:lnTo>
                  <a:lnTo>
                    <a:pt x="58" y="106"/>
                  </a:lnTo>
                  <a:lnTo>
                    <a:pt x="58" y="105"/>
                  </a:lnTo>
                  <a:lnTo>
                    <a:pt x="58" y="101"/>
                  </a:lnTo>
                  <a:lnTo>
                    <a:pt x="62" y="99"/>
                  </a:lnTo>
                  <a:lnTo>
                    <a:pt x="62" y="96"/>
                  </a:lnTo>
                  <a:lnTo>
                    <a:pt x="64" y="93"/>
                  </a:lnTo>
                  <a:lnTo>
                    <a:pt x="64" y="87"/>
                  </a:lnTo>
                  <a:lnTo>
                    <a:pt x="64" y="84"/>
                  </a:lnTo>
                  <a:lnTo>
                    <a:pt x="64" y="81"/>
                  </a:lnTo>
                  <a:lnTo>
                    <a:pt x="64" y="77"/>
                  </a:lnTo>
                  <a:lnTo>
                    <a:pt x="64" y="74"/>
                  </a:lnTo>
                  <a:lnTo>
                    <a:pt x="64" y="72"/>
                  </a:lnTo>
                  <a:lnTo>
                    <a:pt x="62" y="70"/>
                  </a:lnTo>
                  <a:lnTo>
                    <a:pt x="60" y="69"/>
                  </a:lnTo>
                  <a:lnTo>
                    <a:pt x="58" y="67"/>
                  </a:lnTo>
                  <a:lnTo>
                    <a:pt x="55" y="65"/>
                  </a:lnTo>
                  <a:lnTo>
                    <a:pt x="53" y="65"/>
                  </a:lnTo>
                  <a:lnTo>
                    <a:pt x="52" y="65"/>
                  </a:lnTo>
                  <a:lnTo>
                    <a:pt x="48" y="65"/>
                  </a:lnTo>
                  <a:lnTo>
                    <a:pt x="46" y="70"/>
                  </a:lnTo>
                  <a:lnTo>
                    <a:pt x="46" y="74"/>
                  </a:lnTo>
                  <a:lnTo>
                    <a:pt x="48" y="77"/>
                  </a:lnTo>
                  <a:lnTo>
                    <a:pt x="50" y="82"/>
                  </a:lnTo>
                  <a:lnTo>
                    <a:pt x="52" y="86"/>
                  </a:lnTo>
                  <a:lnTo>
                    <a:pt x="52" y="89"/>
                  </a:lnTo>
                  <a:lnTo>
                    <a:pt x="52" y="94"/>
                  </a:lnTo>
                  <a:lnTo>
                    <a:pt x="50" y="99"/>
                  </a:lnTo>
                  <a:lnTo>
                    <a:pt x="48" y="101"/>
                  </a:lnTo>
                  <a:lnTo>
                    <a:pt x="46" y="105"/>
                  </a:lnTo>
                  <a:lnTo>
                    <a:pt x="45" y="108"/>
                  </a:lnTo>
                  <a:lnTo>
                    <a:pt x="43" y="110"/>
                  </a:lnTo>
                  <a:lnTo>
                    <a:pt x="41" y="113"/>
                  </a:lnTo>
                  <a:lnTo>
                    <a:pt x="39" y="115"/>
                  </a:lnTo>
                  <a:lnTo>
                    <a:pt x="36" y="116"/>
                  </a:lnTo>
                  <a:lnTo>
                    <a:pt x="33" y="116"/>
                  </a:lnTo>
                  <a:lnTo>
                    <a:pt x="29" y="113"/>
                  </a:lnTo>
                  <a:lnTo>
                    <a:pt x="26" y="110"/>
                  </a:lnTo>
                  <a:lnTo>
                    <a:pt x="19" y="106"/>
                  </a:lnTo>
                  <a:lnTo>
                    <a:pt x="14" y="105"/>
                  </a:lnTo>
                  <a:lnTo>
                    <a:pt x="8" y="103"/>
                  </a:lnTo>
                  <a:lnTo>
                    <a:pt x="5" y="99"/>
                  </a:lnTo>
                  <a:lnTo>
                    <a:pt x="2" y="96"/>
                  </a:lnTo>
                  <a:lnTo>
                    <a:pt x="0" y="89"/>
                  </a:lnTo>
                  <a:lnTo>
                    <a:pt x="2" y="79"/>
                  </a:lnTo>
                  <a:lnTo>
                    <a:pt x="3" y="67"/>
                  </a:lnTo>
                  <a:lnTo>
                    <a:pt x="5" y="57"/>
                  </a:lnTo>
                  <a:lnTo>
                    <a:pt x="10" y="46"/>
                  </a:lnTo>
                  <a:lnTo>
                    <a:pt x="14" y="36"/>
                  </a:lnTo>
                  <a:lnTo>
                    <a:pt x="21" y="29"/>
                  </a:lnTo>
                  <a:lnTo>
                    <a:pt x="29" y="23"/>
                  </a:lnTo>
                  <a:lnTo>
                    <a:pt x="41" y="19"/>
                  </a:lnTo>
                  <a:lnTo>
                    <a:pt x="43" y="17"/>
                  </a:lnTo>
                  <a:lnTo>
                    <a:pt x="46" y="14"/>
                  </a:lnTo>
                  <a:lnTo>
                    <a:pt x="50" y="12"/>
                  </a:lnTo>
                  <a:lnTo>
                    <a:pt x="53" y="11"/>
                  </a:lnTo>
                  <a:lnTo>
                    <a:pt x="57" y="7"/>
                  </a:lnTo>
                  <a:lnTo>
                    <a:pt x="60" y="5"/>
                  </a:lnTo>
                  <a:lnTo>
                    <a:pt x="64" y="2"/>
                  </a:lnTo>
                  <a:lnTo>
                    <a:pt x="67" y="0"/>
                  </a:lnTo>
                  <a:lnTo>
                    <a:pt x="69" y="2"/>
                  </a:lnTo>
                  <a:lnTo>
                    <a:pt x="72" y="5"/>
                  </a:lnTo>
                  <a:lnTo>
                    <a:pt x="76" y="9"/>
                  </a:lnTo>
                  <a:lnTo>
                    <a:pt x="77" y="12"/>
                  </a:lnTo>
                  <a:lnTo>
                    <a:pt x="81" y="14"/>
                  </a:lnTo>
                  <a:lnTo>
                    <a:pt x="84" y="17"/>
                  </a:lnTo>
                  <a:lnTo>
                    <a:pt x="88" y="21"/>
                  </a:lnTo>
                  <a:lnTo>
                    <a:pt x="91" y="23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649520" y="2355840"/>
              <a:ext cx="137880" cy="208080"/>
            </a:xfrm>
            <a:custGeom>
              <a:avLst/>
              <a:gdLst/>
              <a:ahLst/>
              <a:rect l="l" t="t" r="r" b="b"/>
              <a:pathLst>
                <a:path w="203" h="329">
                  <a:moveTo>
                    <a:pt x="171" y="68"/>
                  </a:moveTo>
                  <a:lnTo>
                    <a:pt x="174" y="71"/>
                  </a:lnTo>
                  <a:lnTo>
                    <a:pt x="179" y="73"/>
                  </a:lnTo>
                  <a:lnTo>
                    <a:pt x="184" y="75"/>
                  </a:lnTo>
                  <a:lnTo>
                    <a:pt x="190" y="76"/>
                  </a:lnTo>
                  <a:lnTo>
                    <a:pt x="193" y="78"/>
                  </a:lnTo>
                  <a:lnTo>
                    <a:pt x="198" y="82"/>
                  </a:lnTo>
                  <a:lnTo>
                    <a:pt x="200" y="85"/>
                  </a:lnTo>
                  <a:lnTo>
                    <a:pt x="202" y="90"/>
                  </a:lnTo>
                  <a:lnTo>
                    <a:pt x="198" y="99"/>
                  </a:lnTo>
                  <a:lnTo>
                    <a:pt x="197" y="107"/>
                  </a:lnTo>
                  <a:lnTo>
                    <a:pt x="197" y="116"/>
                  </a:lnTo>
                  <a:lnTo>
                    <a:pt x="197" y="126"/>
                  </a:lnTo>
                  <a:lnTo>
                    <a:pt x="197" y="136"/>
                  </a:lnTo>
                  <a:lnTo>
                    <a:pt x="197" y="145"/>
                  </a:lnTo>
                  <a:lnTo>
                    <a:pt x="197" y="153"/>
                  </a:lnTo>
                  <a:lnTo>
                    <a:pt x="198" y="162"/>
                  </a:lnTo>
                  <a:lnTo>
                    <a:pt x="202" y="170"/>
                  </a:lnTo>
                  <a:lnTo>
                    <a:pt x="203" y="177"/>
                  </a:lnTo>
                  <a:lnTo>
                    <a:pt x="203" y="186"/>
                  </a:lnTo>
                  <a:lnTo>
                    <a:pt x="202" y="193"/>
                  </a:lnTo>
                  <a:lnTo>
                    <a:pt x="195" y="206"/>
                  </a:lnTo>
                  <a:lnTo>
                    <a:pt x="186" y="218"/>
                  </a:lnTo>
                  <a:lnTo>
                    <a:pt x="178" y="232"/>
                  </a:lnTo>
                  <a:lnTo>
                    <a:pt x="172" y="246"/>
                  </a:lnTo>
                  <a:lnTo>
                    <a:pt x="171" y="254"/>
                  </a:lnTo>
                  <a:lnTo>
                    <a:pt x="171" y="261"/>
                  </a:lnTo>
                  <a:lnTo>
                    <a:pt x="172" y="270"/>
                  </a:lnTo>
                  <a:lnTo>
                    <a:pt x="176" y="278"/>
                  </a:lnTo>
                  <a:lnTo>
                    <a:pt x="176" y="283"/>
                  </a:lnTo>
                  <a:lnTo>
                    <a:pt x="178" y="287"/>
                  </a:lnTo>
                  <a:lnTo>
                    <a:pt x="179" y="292"/>
                  </a:lnTo>
                  <a:lnTo>
                    <a:pt x="179" y="295"/>
                  </a:lnTo>
                  <a:lnTo>
                    <a:pt x="181" y="299"/>
                  </a:lnTo>
                  <a:lnTo>
                    <a:pt x="183" y="304"/>
                  </a:lnTo>
                  <a:lnTo>
                    <a:pt x="183" y="307"/>
                  </a:lnTo>
                  <a:lnTo>
                    <a:pt x="184" y="312"/>
                  </a:lnTo>
                  <a:lnTo>
                    <a:pt x="179" y="317"/>
                  </a:lnTo>
                  <a:lnTo>
                    <a:pt x="176" y="317"/>
                  </a:lnTo>
                  <a:lnTo>
                    <a:pt x="171" y="317"/>
                  </a:lnTo>
                  <a:lnTo>
                    <a:pt x="167" y="316"/>
                  </a:lnTo>
                  <a:lnTo>
                    <a:pt x="162" y="314"/>
                  </a:lnTo>
                  <a:lnTo>
                    <a:pt x="159" y="314"/>
                  </a:lnTo>
                  <a:lnTo>
                    <a:pt x="153" y="314"/>
                  </a:lnTo>
                  <a:lnTo>
                    <a:pt x="150" y="319"/>
                  </a:lnTo>
                  <a:lnTo>
                    <a:pt x="145" y="321"/>
                  </a:lnTo>
                  <a:lnTo>
                    <a:pt x="140" y="323"/>
                  </a:lnTo>
                  <a:lnTo>
                    <a:pt x="134" y="324"/>
                  </a:lnTo>
                  <a:lnTo>
                    <a:pt x="129" y="326"/>
                  </a:lnTo>
                  <a:lnTo>
                    <a:pt x="126" y="328"/>
                  </a:lnTo>
                  <a:lnTo>
                    <a:pt x="121" y="329"/>
                  </a:lnTo>
                  <a:lnTo>
                    <a:pt x="116" y="329"/>
                  </a:lnTo>
                  <a:lnTo>
                    <a:pt x="110" y="328"/>
                  </a:lnTo>
                  <a:lnTo>
                    <a:pt x="105" y="324"/>
                  </a:lnTo>
                  <a:lnTo>
                    <a:pt x="102" y="319"/>
                  </a:lnTo>
                  <a:lnTo>
                    <a:pt x="100" y="314"/>
                  </a:lnTo>
                  <a:lnTo>
                    <a:pt x="100" y="309"/>
                  </a:lnTo>
                  <a:lnTo>
                    <a:pt x="98" y="299"/>
                  </a:lnTo>
                  <a:lnTo>
                    <a:pt x="98" y="287"/>
                  </a:lnTo>
                  <a:lnTo>
                    <a:pt x="98" y="276"/>
                  </a:lnTo>
                  <a:lnTo>
                    <a:pt x="95" y="266"/>
                  </a:lnTo>
                  <a:lnTo>
                    <a:pt x="91" y="263"/>
                  </a:lnTo>
                  <a:lnTo>
                    <a:pt x="88" y="259"/>
                  </a:lnTo>
                  <a:lnTo>
                    <a:pt x="81" y="256"/>
                  </a:lnTo>
                  <a:lnTo>
                    <a:pt x="74" y="254"/>
                  </a:lnTo>
                  <a:lnTo>
                    <a:pt x="72" y="254"/>
                  </a:lnTo>
                  <a:lnTo>
                    <a:pt x="72" y="252"/>
                  </a:lnTo>
                  <a:lnTo>
                    <a:pt x="71" y="252"/>
                  </a:lnTo>
                  <a:lnTo>
                    <a:pt x="69" y="252"/>
                  </a:lnTo>
                  <a:lnTo>
                    <a:pt x="69" y="252"/>
                  </a:lnTo>
                  <a:lnTo>
                    <a:pt x="67" y="252"/>
                  </a:lnTo>
                  <a:lnTo>
                    <a:pt x="66" y="251"/>
                  </a:lnTo>
                  <a:lnTo>
                    <a:pt x="64" y="252"/>
                  </a:lnTo>
                  <a:lnTo>
                    <a:pt x="66" y="247"/>
                  </a:lnTo>
                  <a:lnTo>
                    <a:pt x="67" y="244"/>
                  </a:lnTo>
                  <a:lnTo>
                    <a:pt x="69" y="241"/>
                  </a:lnTo>
                  <a:lnTo>
                    <a:pt x="71" y="237"/>
                  </a:lnTo>
                  <a:lnTo>
                    <a:pt x="72" y="232"/>
                  </a:lnTo>
                  <a:lnTo>
                    <a:pt x="76" y="229"/>
                  </a:lnTo>
                  <a:lnTo>
                    <a:pt x="78" y="225"/>
                  </a:lnTo>
                  <a:lnTo>
                    <a:pt x="79" y="222"/>
                  </a:lnTo>
                  <a:lnTo>
                    <a:pt x="81" y="217"/>
                  </a:lnTo>
                  <a:lnTo>
                    <a:pt x="81" y="213"/>
                  </a:lnTo>
                  <a:lnTo>
                    <a:pt x="83" y="208"/>
                  </a:lnTo>
                  <a:lnTo>
                    <a:pt x="84" y="205"/>
                  </a:lnTo>
                  <a:lnTo>
                    <a:pt x="86" y="201"/>
                  </a:lnTo>
                  <a:lnTo>
                    <a:pt x="88" y="198"/>
                  </a:lnTo>
                  <a:lnTo>
                    <a:pt x="91" y="196"/>
                  </a:lnTo>
                  <a:lnTo>
                    <a:pt x="95" y="194"/>
                  </a:lnTo>
                  <a:lnTo>
                    <a:pt x="97" y="193"/>
                  </a:lnTo>
                  <a:lnTo>
                    <a:pt x="97" y="191"/>
                  </a:lnTo>
                  <a:lnTo>
                    <a:pt x="97" y="188"/>
                  </a:lnTo>
                  <a:lnTo>
                    <a:pt x="97" y="186"/>
                  </a:lnTo>
                  <a:lnTo>
                    <a:pt x="97" y="184"/>
                  </a:lnTo>
                  <a:lnTo>
                    <a:pt x="95" y="182"/>
                  </a:lnTo>
                  <a:lnTo>
                    <a:pt x="93" y="181"/>
                  </a:lnTo>
                  <a:lnTo>
                    <a:pt x="90" y="182"/>
                  </a:lnTo>
                  <a:lnTo>
                    <a:pt x="88" y="181"/>
                  </a:lnTo>
                  <a:lnTo>
                    <a:pt x="86" y="182"/>
                  </a:lnTo>
                  <a:lnTo>
                    <a:pt x="84" y="182"/>
                  </a:lnTo>
                  <a:lnTo>
                    <a:pt x="83" y="184"/>
                  </a:lnTo>
                  <a:lnTo>
                    <a:pt x="81" y="186"/>
                  </a:lnTo>
                  <a:lnTo>
                    <a:pt x="81" y="188"/>
                  </a:lnTo>
                  <a:lnTo>
                    <a:pt x="79" y="189"/>
                  </a:lnTo>
                  <a:lnTo>
                    <a:pt x="79" y="189"/>
                  </a:lnTo>
                  <a:lnTo>
                    <a:pt x="76" y="200"/>
                  </a:lnTo>
                  <a:lnTo>
                    <a:pt x="72" y="208"/>
                  </a:lnTo>
                  <a:lnTo>
                    <a:pt x="69" y="218"/>
                  </a:lnTo>
                  <a:lnTo>
                    <a:pt x="66" y="227"/>
                  </a:lnTo>
                  <a:lnTo>
                    <a:pt x="62" y="237"/>
                  </a:lnTo>
                  <a:lnTo>
                    <a:pt x="57" y="246"/>
                  </a:lnTo>
                  <a:lnTo>
                    <a:pt x="52" y="254"/>
                  </a:lnTo>
                  <a:lnTo>
                    <a:pt x="45" y="261"/>
                  </a:lnTo>
                  <a:lnTo>
                    <a:pt x="41" y="263"/>
                  </a:lnTo>
                  <a:lnTo>
                    <a:pt x="38" y="263"/>
                  </a:lnTo>
                  <a:lnTo>
                    <a:pt x="36" y="261"/>
                  </a:lnTo>
                  <a:lnTo>
                    <a:pt x="33" y="259"/>
                  </a:lnTo>
                  <a:lnTo>
                    <a:pt x="31" y="258"/>
                  </a:lnTo>
                  <a:lnTo>
                    <a:pt x="29" y="254"/>
                  </a:lnTo>
                  <a:lnTo>
                    <a:pt x="28" y="252"/>
                  </a:lnTo>
                  <a:lnTo>
                    <a:pt x="26" y="251"/>
                  </a:lnTo>
                  <a:lnTo>
                    <a:pt x="24" y="241"/>
                  </a:lnTo>
                  <a:lnTo>
                    <a:pt x="24" y="230"/>
                  </a:lnTo>
                  <a:lnTo>
                    <a:pt x="26" y="222"/>
                  </a:lnTo>
                  <a:lnTo>
                    <a:pt x="26" y="211"/>
                  </a:lnTo>
                  <a:lnTo>
                    <a:pt x="26" y="203"/>
                  </a:lnTo>
                  <a:lnTo>
                    <a:pt x="24" y="194"/>
                  </a:lnTo>
                  <a:lnTo>
                    <a:pt x="22" y="191"/>
                  </a:lnTo>
                  <a:lnTo>
                    <a:pt x="19" y="188"/>
                  </a:lnTo>
                  <a:lnTo>
                    <a:pt x="16" y="186"/>
                  </a:lnTo>
                  <a:lnTo>
                    <a:pt x="10" y="182"/>
                  </a:lnTo>
                  <a:lnTo>
                    <a:pt x="0" y="167"/>
                  </a:lnTo>
                  <a:lnTo>
                    <a:pt x="10" y="157"/>
                  </a:lnTo>
                  <a:lnTo>
                    <a:pt x="21" y="150"/>
                  </a:lnTo>
                  <a:lnTo>
                    <a:pt x="35" y="141"/>
                  </a:lnTo>
                  <a:lnTo>
                    <a:pt x="47" y="136"/>
                  </a:lnTo>
                  <a:lnTo>
                    <a:pt x="59" y="129"/>
                  </a:lnTo>
                  <a:lnTo>
                    <a:pt x="71" y="121"/>
                  </a:lnTo>
                  <a:lnTo>
                    <a:pt x="83" y="112"/>
                  </a:lnTo>
                  <a:lnTo>
                    <a:pt x="91" y="100"/>
                  </a:lnTo>
                  <a:lnTo>
                    <a:pt x="116" y="49"/>
                  </a:lnTo>
                  <a:lnTo>
                    <a:pt x="116" y="47"/>
                  </a:lnTo>
                  <a:lnTo>
                    <a:pt x="116" y="46"/>
                  </a:lnTo>
                  <a:lnTo>
                    <a:pt x="116" y="44"/>
                  </a:lnTo>
                  <a:lnTo>
                    <a:pt x="117" y="42"/>
                  </a:lnTo>
                  <a:lnTo>
                    <a:pt x="117" y="41"/>
                  </a:lnTo>
                  <a:lnTo>
                    <a:pt x="121" y="39"/>
                  </a:lnTo>
                  <a:lnTo>
                    <a:pt x="122" y="37"/>
                  </a:lnTo>
                  <a:lnTo>
                    <a:pt x="124" y="37"/>
                  </a:lnTo>
                  <a:lnTo>
                    <a:pt x="126" y="39"/>
                  </a:lnTo>
                  <a:lnTo>
                    <a:pt x="129" y="37"/>
                  </a:lnTo>
                  <a:lnTo>
                    <a:pt x="131" y="35"/>
                  </a:lnTo>
                  <a:lnTo>
                    <a:pt x="133" y="34"/>
                  </a:lnTo>
                  <a:lnTo>
                    <a:pt x="134" y="32"/>
                  </a:lnTo>
                  <a:lnTo>
                    <a:pt x="136" y="30"/>
                  </a:lnTo>
                  <a:lnTo>
                    <a:pt x="138" y="30"/>
                  </a:lnTo>
                  <a:lnTo>
                    <a:pt x="140" y="30"/>
                  </a:lnTo>
                  <a:lnTo>
                    <a:pt x="145" y="25"/>
                  </a:lnTo>
                  <a:lnTo>
                    <a:pt x="150" y="24"/>
                  </a:lnTo>
                  <a:lnTo>
                    <a:pt x="155" y="20"/>
                  </a:lnTo>
                  <a:lnTo>
                    <a:pt x="160" y="17"/>
                  </a:lnTo>
                  <a:lnTo>
                    <a:pt x="166" y="13"/>
                  </a:lnTo>
                  <a:lnTo>
                    <a:pt x="169" y="8"/>
                  </a:lnTo>
                  <a:lnTo>
                    <a:pt x="174" y="5"/>
                  </a:lnTo>
                  <a:lnTo>
                    <a:pt x="178" y="0"/>
                  </a:lnTo>
                  <a:lnTo>
                    <a:pt x="178" y="10"/>
                  </a:lnTo>
                  <a:lnTo>
                    <a:pt x="174" y="18"/>
                  </a:lnTo>
                  <a:lnTo>
                    <a:pt x="171" y="25"/>
                  </a:lnTo>
                  <a:lnTo>
                    <a:pt x="167" y="34"/>
                  </a:lnTo>
                  <a:lnTo>
                    <a:pt x="164" y="42"/>
                  </a:lnTo>
                  <a:lnTo>
                    <a:pt x="164" y="51"/>
                  </a:lnTo>
                  <a:lnTo>
                    <a:pt x="166" y="59"/>
                  </a:lnTo>
                  <a:lnTo>
                    <a:pt x="171" y="6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824120" y="2368440"/>
              <a:ext cx="152280" cy="182520"/>
            </a:xfrm>
            <a:custGeom>
              <a:avLst/>
              <a:gdLst/>
              <a:ahLst/>
              <a:rect l="l" t="t" r="r" b="b"/>
              <a:pathLst>
                <a:path w="223" h="287">
                  <a:moveTo>
                    <a:pt x="59" y="26"/>
                  </a:moveTo>
                  <a:lnTo>
                    <a:pt x="60" y="27"/>
                  </a:lnTo>
                  <a:lnTo>
                    <a:pt x="62" y="29"/>
                  </a:lnTo>
                  <a:lnTo>
                    <a:pt x="66" y="29"/>
                  </a:lnTo>
                  <a:lnTo>
                    <a:pt x="67" y="31"/>
                  </a:lnTo>
                  <a:lnTo>
                    <a:pt x="69" y="33"/>
                  </a:lnTo>
                  <a:lnTo>
                    <a:pt x="71" y="33"/>
                  </a:lnTo>
                  <a:lnTo>
                    <a:pt x="74" y="33"/>
                  </a:lnTo>
                  <a:lnTo>
                    <a:pt x="76" y="33"/>
                  </a:lnTo>
                  <a:lnTo>
                    <a:pt x="78" y="36"/>
                  </a:lnTo>
                  <a:lnTo>
                    <a:pt x="79" y="41"/>
                  </a:lnTo>
                  <a:lnTo>
                    <a:pt x="81" y="46"/>
                  </a:lnTo>
                  <a:lnTo>
                    <a:pt x="83" y="51"/>
                  </a:lnTo>
                  <a:lnTo>
                    <a:pt x="86" y="55"/>
                  </a:lnTo>
                  <a:lnTo>
                    <a:pt x="90" y="58"/>
                  </a:lnTo>
                  <a:lnTo>
                    <a:pt x="93" y="62"/>
                  </a:lnTo>
                  <a:lnTo>
                    <a:pt x="97" y="65"/>
                  </a:lnTo>
                  <a:lnTo>
                    <a:pt x="104" y="65"/>
                  </a:lnTo>
                  <a:lnTo>
                    <a:pt x="109" y="63"/>
                  </a:lnTo>
                  <a:lnTo>
                    <a:pt x="114" y="63"/>
                  </a:lnTo>
                  <a:lnTo>
                    <a:pt x="121" y="62"/>
                  </a:lnTo>
                  <a:lnTo>
                    <a:pt x="126" y="58"/>
                  </a:lnTo>
                  <a:lnTo>
                    <a:pt x="131" y="55"/>
                  </a:lnTo>
                  <a:lnTo>
                    <a:pt x="135" y="51"/>
                  </a:lnTo>
                  <a:lnTo>
                    <a:pt x="138" y="46"/>
                  </a:lnTo>
                  <a:lnTo>
                    <a:pt x="145" y="46"/>
                  </a:lnTo>
                  <a:lnTo>
                    <a:pt x="150" y="46"/>
                  </a:lnTo>
                  <a:lnTo>
                    <a:pt x="157" y="50"/>
                  </a:lnTo>
                  <a:lnTo>
                    <a:pt x="162" y="51"/>
                  </a:lnTo>
                  <a:lnTo>
                    <a:pt x="169" y="55"/>
                  </a:lnTo>
                  <a:lnTo>
                    <a:pt x="174" y="55"/>
                  </a:lnTo>
                  <a:lnTo>
                    <a:pt x="181" y="55"/>
                  </a:lnTo>
                  <a:lnTo>
                    <a:pt x="188" y="53"/>
                  </a:lnTo>
                  <a:lnTo>
                    <a:pt x="191" y="51"/>
                  </a:lnTo>
                  <a:lnTo>
                    <a:pt x="195" y="50"/>
                  </a:lnTo>
                  <a:lnTo>
                    <a:pt x="197" y="48"/>
                  </a:lnTo>
                  <a:lnTo>
                    <a:pt x="200" y="45"/>
                  </a:lnTo>
                  <a:lnTo>
                    <a:pt x="202" y="43"/>
                  </a:lnTo>
                  <a:lnTo>
                    <a:pt x="205" y="39"/>
                  </a:lnTo>
                  <a:lnTo>
                    <a:pt x="205" y="36"/>
                  </a:lnTo>
                  <a:lnTo>
                    <a:pt x="207" y="33"/>
                  </a:lnTo>
                  <a:lnTo>
                    <a:pt x="205" y="31"/>
                  </a:lnTo>
                  <a:lnTo>
                    <a:pt x="205" y="29"/>
                  </a:lnTo>
                  <a:lnTo>
                    <a:pt x="205" y="27"/>
                  </a:lnTo>
                  <a:lnTo>
                    <a:pt x="205" y="26"/>
                  </a:lnTo>
                  <a:lnTo>
                    <a:pt x="205" y="24"/>
                  </a:lnTo>
                  <a:lnTo>
                    <a:pt x="205" y="22"/>
                  </a:lnTo>
                  <a:lnTo>
                    <a:pt x="205" y="21"/>
                  </a:lnTo>
                  <a:lnTo>
                    <a:pt x="205" y="19"/>
                  </a:lnTo>
                  <a:lnTo>
                    <a:pt x="207" y="22"/>
                  </a:lnTo>
                  <a:lnTo>
                    <a:pt x="207" y="24"/>
                  </a:lnTo>
                  <a:lnTo>
                    <a:pt x="209" y="27"/>
                  </a:lnTo>
                  <a:lnTo>
                    <a:pt x="209" y="29"/>
                  </a:lnTo>
                  <a:lnTo>
                    <a:pt x="209" y="33"/>
                  </a:lnTo>
                  <a:lnTo>
                    <a:pt x="210" y="34"/>
                  </a:lnTo>
                  <a:lnTo>
                    <a:pt x="212" y="38"/>
                  </a:lnTo>
                  <a:lnTo>
                    <a:pt x="216" y="39"/>
                  </a:lnTo>
                  <a:lnTo>
                    <a:pt x="216" y="43"/>
                  </a:lnTo>
                  <a:lnTo>
                    <a:pt x="217" y="46"/>
                  </a:lnTo>
                  <a:lnTo>
                    <a:pt x="219" y="51"/>
                  </a:lnTo>
                  <a:lnTo>
                    <a:pt x="219" y="55"/>
                  </a:lnTo>
                  <a:lnTo>
                    <a:pt x="221" y="58"/>
                  </a:lnTo>
                  <a:lnTo>
                    <a:pt x="221" y="62"/>
                  </a:lnTo>
                  <a:lnTo>
                    <a:pt x="221" y="67"/>
                  </a:lnTo>
                  <a:lnTo>
                    <a:pt x="219" y="70"/>
                  </a:lnTo>
                  <a:lnTo>
                    <a:pt x="223" y="74"/>
                  </a:lnTo>
                  <a:lnTo>
                    <a:pt x="217" y="86"/>
                  </a:lnTo>
                  <a:lnTo>
                    <a:pt x="212" y="99"/>
                  </a:lnTo>
                  <a:lnTo>
                    <a:pt x="205" y="111"/>
                  </a:lnTo>
                  <a:lnTo>
                    <a:pt x="198" y="123"/>
                  </a:lnTo>
                  <a:lnTo>
                    <a:pt x="190" y="135"/>
                  </a:lnTo>
                  <a:lnTo>
                    <a:pt x="179" y="145"/>
                  </a:lnTo>
                  <a:lnTo>
                    <a:pt x="169" y="156"/>
                  </a:lnTo>
                  <a:lnTo>
                    <a:pt x="157" y="164"/>
                  </a:lnTo>
                  <a:lnTo>
                    <a:pt x="155" y="164"/>
                  </a:lnTo>
                  <a:lnTo>
                    <a:pt x="152" y="164"/>
                  </a:lnTo>
                  <a:lnTo>
                    <a:pt x="150" y="166"/>
                  </a:lnTo>
                  <a:lnTo>
                    <a:pt x="147" y="168"/>
                  </a:lnTo>
                  <a:lnTo>
                    <a:pt x="145" y="168"/>
                  </a:lnTo>
                  <a:lnTo>
                    <a:pt x="143" y="169"/>
                  </a:lnTo>
                  <a:lnTo>
                    <a:pt x="141" y="168"/>
                  </a:lnTo>
                  <a:lnTo>
                    <a:pt x="140" y="164"/>
                  </a:lnTo>
                  <a:lnTo>
                    <a:pt x="138" y="159"/>
                  </a:lnTo>
                  <a:lnTo>
                    <a:pt x="138" y="154"/>
                  </a:lnTo>
                  <a:lnTo>
                    <a:pt x="138" y="149"/>
                  </a:lnTo>
                  <a:lnTo>
                    <a:pt x="140" y="144"/>
                  </a:lnTo>
                  <a:lnTo>
                    <a:pt x="145" y="133"/>
                  </a:lnTo>
                  <a:lnTo>
                    <a:pt x="148" y="123"/>
                  </a:lnTo>
                  <a:lnTo>
                    <a:pt x="152" y="113"/>
                  </a:lnTo>
                  <a:lnTo>
                    <a:pt x="154" y="103"/>
                  </a:lnTo>
                  <a:lnTo>
                    <a:pt x="152" y="98"/>
                  </a:lnTo>
                  <a:lnTo>
                    <a:pt x="150" y="92"/>
                  </a:lnTo>
                  <a:lnTo>
                    <a:pt x="145" y="87"/>
                  </a:lnTo>
                  <a:lnTo>
                    <a:pt x="140" y="82"/>
                  </a:lnTo>
                  <a:lnTo>
                    <a:pt x="138" y="82"/>
                  </a:lnTo>
                  <a:lnTo>
                    <a:pt x="136" y="80"/>
                  </a:lnTo>
                  <a:lnTo>
                    <a:pt x="135" y="79"/>
                  </a:lnTo>
                  <a:lnTo>
                    <a:pt x="133" y="77"/>
                  </a:lnTo>
                  <a:lnTo>
                    <a:pt x="131" y="77"/>
                  </a:lnTo>
                  <a:lnTo>
                    <a:pt x="129" y="75"/>
                  </a:lnTo>
                  <a:lnTo>
                    <a:pt x="128" y="75"/>
                  </a:lnTo>
                  <a:lnTo>
                    <a:pt x="126" y="75"/>
                  </a:lnTo>
                  <a:lnTo>
                    <a:pt x="124" y="79"/>
                  </a:lnTo>
                  <a:lnTo>
                    <a:pt x="124" y="80"/>
                  </a:lnTo>
                  <a:lnTo>
                    <a:pt x="124" y="84"/>
                  </a:lnTo>
                  <a:lnTo>
                    <a:pt x="124" y="86"/>
                  </a:lnTo>
                  <a:lnTo>
                    <a:pt x="124" y="89"/>
                  </a:lnTo>
                  <a:lnTo>
                    <a:pt x="124" y="91"/>
                  </a:lnTo>
                  <a:lnTo>
                    <a:pt x="126" y="92"/>
                  </a:lnTo>
                  <a:lnTo>
                    <a:pt x="129" y="96"/>
                  </a:lnTo>
                  <a:lnTo>
                    <a:pt x="129" y="94"/>
                  </a:lnTo>
                  <a:lnTo>
                    <a:pt x="129" y="94"/>
                  </a:lnTo>
                  <a:lnTo>
                    <a:pt x="131" y="94"/>
                  </a:lnTo>
                  <a:lnTo>
                    <a:pt x="131" y="92"/>
                  </a:lnTo>
                  <a:lnTo>
                    <a:pt x="133" y="92"/>
                  </a:lnTo>
                  <a:lnTo>
                    <a:pt x="133" y="92"/>
                  </a:lnTo>
                  <a:lnTo>
                    <a:pt x="133" y="92"/>
                  </a:lnTo>
                  <a:lnTo>
                    <a:pt x="135" y="92"/>
                  </a:lnTo>
                  <a:lnTo>
                    <a:pt x="136" y="96"/>
                  </a:lnTo>
                  <a:lnTo>
                    <a:pt x="140" y="98"/>
                  </a:lnTo>
                  <a:lnTo>
                    <a:pt x="140" y="101"/>
                  </a:lnTo>
                  <a:lnTo>
                    <a:pt x="141" y="104"/>
                  </a:lnTo>
                  <a:lnTo>
                    <a:pt x="141" y="109"/>
                  </a:lnTo>
                  <a:lnTo>
                    <a:pt x="141" y="113"/>
                  </a:lnTo>
                  <a:lnTo>
                    <a:pt x="141" y="116"/>
                  </a:lnTo>
                  <a:lnTo>
                    <a:pt x="140" y="120"/>
                  </a:lnTo>
                  <a:lnTo>
                    <a:pt x="138" y="125"/>
                  </a:lnTo>
                  <a:lnTo>
                    <a:pt x="135" y="128"/>
                  </a:lnTo>
                  <a:lnTo>
                    <a:pt x="131" y="133"/>
                  </a:lnTo>
                  <a:lnTo>
                    <a:pt x="128" y="139"/>
                  </a:lnTo>
                  <a:lnTo>
                    <a:pt x="124" y="144"/>
                  </a:lnTo>
                  <a:lnTo>
                    <a:pt x="124" y="149"/>
                  </a:lnTo>
                  <a:lnTo>
                    <a:pt x="124" y="154"/>
                  </a:lnTo>
                  <a:lnTo>
                    <a:pt x="128" y="161"/>
                  </a:lnTo>
                  <a:lnTo>
                    <a:pt x="131" y="162"/>
                  </a:lnTo>
                  <a:lnTo>
                    <a:pt x="131" y="166"/>
                  </a:lnTo>
                  <a:lnTo>
                    <a:pt x="131" y="169"/>
                  </a:lnTo>
                  <a:lnTo>
                    <a:pt x="129" y="171"/>
                  </a:lnTo>
                  <a:lnTo>
                    <a:pt x="129" y="174"/>
                  </a:lnTo>
                  <a:lnTo>
                    <a:pt x="129" y="178"/>
                  </a:lnTo>
                  <a:lnTo>
                    <a:pt x="131" y="180"/>
                  </a:lnTo>
                  <a:lnTo>
                    <a:pt x="135" y="181"/>
                  </a:lnTo>
                  <a:lnTo>
                    <a:pt x="138" y="188"/>
                  </a:lnTo>
                  <a:lnTo>
                    <a:pt x="138" y="193"/>
                  </a:lnTo>
                  <a:lnTo>
                    <a:pt x="138" y="200"/>
                  </a:lnTo>
                  <a:lnTo>
                    <a:pt x="136" y="205"/>
                  </a:lnTo>
                  <a:lnTo>
                    <a:pt x="135" y="212"/>
                  </a:lnTo>
                  <a:lnTo>
                    <a:pt x="131" y="217"/>
                  </a:lnTo>
                  <a:lnTo>
                    <a:pt x="128" y="222"/>
                  </a:lnTo>
                  <a:lnTo>
                    <a:pt x="124" y="227"/>
                  </a:lnTo>
                  <a:lnTo>
                    <a:pt x="121" y="231"/>
                  </a:lnTo>
                  <a:lnTo>
                    <a:pt x="116" y="234"/>
                  </a:lnTo>
                  <a:lnTo>
                    <a:pt x="112" y="238"/>
                  </a:lnTo>
                  <a:lnTo>
                    <a:pt x="107" y="239"/>
                  </a:lnTo>
                  <a:lnTo>
                    <a:pt x="102" y="241"/>
                  </a:lnTo>
                  <a:lnTo>
                    <a:pt x="97" y="243"/>
                  </a:lnTo>
                  <a:lnTo>
                    <a:pt x="92" y="244"/>
                  </a:lnTo>
                  <a:lnTo>
                    <a:pt x="86" y="244"/>
                  </a:lnTo>
                  <a:lnTo>
                    <a:pt x="86" y="239"/>
                  </a:lnTo>
                  <a:lnTo>
                    <a:pt x="88" y="234"/>
                  </a:lnTo>
                  <a:lnTo>
                    <a:pt x="88" y="227"/>
                  </a:lnTo>
                  <a:lnTo>
                    <a:pt x="88" y="222"/>
                  </a:lnTo>
                  <a:lnTo>
                    <a:pt x="88" y="215"/>
                  </a:lnTo>
                  <a:lnTo>
                    <a:pt x="88" y="210"/>
                  </a:lnTo>
                  <a:lnTo>
                    <a:pt x="90" y="205"/>
                  </a:lnTo>
                  <a:lnTo>
                    <a:pt x="93" y="202"/>
                  </a:lnTo>
                  <a:lnTo>
                    <a:pt x="93" y="200"/>
                  </a:lnTo>
                  <a:lnTo>
                    <a:pt x="93" y="197"/>
                  </a:lnTo>
                  <a:lnTo>
                    <a:pt x="93" y="195"/>
                  </a:lnTo>
                  <a:lnTo>
                    <a:pt x="93" y="193"/>
                  </a:lnTo>
                  <a:lnTo>
                    <a:pt x="92" y="191"/>
                  </a:lnTo>
                  <a:lnTo>
                    <a:pt x="90" y="190"/>
                  </a:lnTo>
                  <a:lnTo>
                    <a:pt x="88" y="188"/>
                  </a:lnTo>
                  <a:lnTo>
                    <a:pt x="86" y="186"/>
                  </a:lnTo>
                  <a:lnTo>
                    <a:pt x="83" y="190"/>
                  </a:lnTo>
                  <a:lnTo>
                    <a:pt x="79" y="191"/>
                  </a:lnTo>
                  <a:lnTo>
                    <a:pt x="79" y="195"/>
                  </a:lnTo>
                  <a:lnTo>
                    <a:pt x="78" y="198"/>
                  </a:lnTo>
                  <a:lnTo>
                    <a:pt x="78" y="203"/>
                  </a:lnTo>
                  <a:lnTo>
                    <a:pt x="78" y="207"/>
                  </a:lnTo>
                  <a:lnTo>
                    <a:pt x="78" y="212"/>
                  </a:lnTo>
                  <a:lnTo>
                    <a:pt x="76" y="215"/>
                  </a:lnTo>
                  <a:lnTo>
                    <a:pt x="78" y="222"/>
                  </a:lnTo>
                  <a:lnTo>
                    <a:pt x="76" y="227"/>
                  </a:lnTo>
                  <a:lnTo>
                    <a:pt x="76" y="234"/>
                  </a:lnTo>
                  <a:lnTo>
                    <a:pt x="74" y="239"/>
                  </a:lnTo>
                  <a:lnTo>
                    <a:pt x="73" y="244"/>
                  </a:lnTo>
                  <a:lnTo>
                    <a:pt x="71" y="251"/>
                  </a:lnTo>
                  <a:lnTo>
                    <a:pt x="71" y="256"/>
                  </a:lnTo>
                  <a:lnTo>
                    <a:pt x="71" y="263"/>
                  </a:lnTo>
                  <a:lnTo>
                    <a:pt x="66" y="268"/>
                  </a:lnTo>
                  <a:lnTo>
                    <a:pt x="59" y="275"/>
                  </a:lnTo>
                  <a:lnTo>
                    <a:pt x="54" y="279"/>
                  </a:lnTo>
                  <a:lnTo>
                    <a:pt x="47" y="284"/>
                  </a:lnTo>
                  <a:lnTo>
                    <a:pt x="40" y="285"/>
                  </a:lnTo>
                  <a:lnTo>
                    <a:pt x="31" y="287"/>
                  </a:lnTo>
                  <a:lnTo>
                    <a:pt x="24" y="287"/>
                  </a:lnTo>
                  <a:lnTo>
                    <a:pt x="16" y="287"/>
                  </a:lnTo>
                  <a:lnTo>
                    <a:pt x="7" y="282"/>
                  </a:lnTo>
                  <a:lnTo>
                    <a:pt x="14" y="270"/>
                  </a:lnTo>
                  <a:lnTo>
                    <a:pt x="21" y="256"/>
                  </a:lnTo>
                  <a:lnTo>
                    <a:pt x="28" y="243"/>
                  </a:lnTo>
                  <a:lnTo>
                    <a:pt x="35" y="227"/>
                  </a:lnTo>
                  <a:lnTo>
                    <a:pt x="38" y="214"/>
                  </a:lnTo>
                  <a:lnTo>
                    <a:pt x="40" y="198"/>
                  </a:lnTo>
                  <a:lnTo>
                    <a:pt x="40" y="191"/>
                  </a:lnTo>
                  <a:lnTo>
                    <a:pt x="38" y="183"/>
                  </a:lnTo>
                  <a:lnTo>
                    <a:pt x="36" y="176"/>
                  </a:lnTo>
                  <a:lnTo>
                    <a:pt x="33" y="169"/>
                  </a:lnTo>
                  <a:lnTo>
                    <a:pt x="33" y="156"/>
                  </a:lnTo>
                  <a:lnTo>
                    <a:pt x="33" y="140"/>
                  </a:lnTo>
                  <a:lnTo>
                    <a:pt x="31" y="127"/>
                  </a:lnTo>
                  <a:lnTo>
                    <a:pt x="28" y="115"/>
                  </a:lnTo>
                  <a:lnTo>
                    <a:pt x="23" y="101"/>
                  </a:lnTo>
                  <a:lnTo>
                    <a:pt x="16" y="87"/>
                  </a:lnTo>
                  <a:lnTo>
                    <a:pt x="9" y="75"/>
                  </a:lnTo>
                  <a:lnTo>
                    <a:pt x="0" y="65"/>
                  </a:lnTo>
                  <a:lnTo>
                    <a:pt x="4" y="62"/>
                  </a:lnTo>
                  <a:lnTo>
                    <a:pt x="9" y="60"/>
                  </a:lnTo>
                  <a:lnTo>
                    <a:pt x="12" y="56"/>
                  </a:lnTo>
                  <a:lnTo>
                    <a:pt x="16" y="53"/>
                  </a:lnTo>
                  <a:lnTo>
                    <a:pt x="19" y="50"/>
                  </a:lnTo>
                  <a:lnTo>
                    <a:pt x="23" y="46"/>
                  </a:lnTo>
                  <a:lnTo>
                    <a:pt x="24" y="41"/>
                  </a:lnTo>
                  <a:lnTo>
                    <a:pt x="24" y="36"/>
                  </a:lnTo>
                  <a:lnTo>
                    <a:pt x="24" y="33"/>
                  </a:lnTo>
                  <a:lnTo>
                    <a:pt x="24" y="29"/>
                  </a:lnTo>
                  <a:lnTo>
                    <a:pt x="26" y="24"/>
                  </a:lnTo>
                  <a:lnTo>
                    <a:pt x="26" y="21"/>
                  </a:lnTo>
                  <a:lnTo>
                    <a:pt x="26" y="17"/>
                  </a:lnTo>
                  <a:lnTo>
                    <a:pt x="26" y="12"/>
                  </a:lnTo>
                  <a:lnTo>
                    <a:pt x="28" y="9"/>
                  </a:lnTo>
                  <a:lnTo>
                    <a:pt x="28" y="4"/>
                  </a:lnTo>
                  <a:lnTo>
                    <a:pt x="31" y="4"/>
                  </a:lnTo>
                  <a:lnTo>
                    <a:pt x="33" y="4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42" y="2"/>
                  </a:lnTo>
                  <a:lnTo>
                    <a:pt x="43" y="0"/>
                  </a:lnTo>
                  <a:lnTo>
                    <a:pt x="47" y="0"/>
                  </a:lnTo>
                  <a:lnTo>
                    <a:pt x="48" y="0"/>
                  </a:lnTo>
                  <a:lnTo>
                    <a:pt x="59" y="2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654200" y="2409840"/>
              <a:ext cx="236520" cy="365040"/>
            </a:xfrm>
            <a:custGeom>
              <a:avLst/>
              <a:gdLst/>
              <a:ahLst/>
              <a:rect l="l" t="t" r="r" b="b"/>
              <a:pathLst>
                <a:path w="345" h="579">
                  <a:moveTo>
                    <a:pt x="240" y="29"/>
                  </a:moveTo>
                  <a:lnTo>
                    <a:pt x="241" y="48"/>
                  </a:lnTo>
                  <a:lnTo>
                    <a:pt x="241" y="67"/>
                  </a:lnTo>
                  <a:lnTo>
                    <a:pt x="240" y="84"/>
                  </a:lnTo>
                  <a:lnTo>
                    <a:pt x="238" y="101"/>
                  </a:lnTo>
                  <a:lnTo>
                    <a:pt x="236" y="116"/>
                  </a:lnTo>
                  <a:lnTo>
                    <a:pt x="233" y="133"/>
                  </a:lnTo>
                  <a:lnTo>
                    <a:pt x="229" y="149"/>
                  </a:lnTo>
                  <a:lnTo>
                    <a:pt x="226" y="166"/>
                  </a:lnTo>
                  <a:lnTo>
                    <a:pt x="224" y="171"/>
                  </a:lnTo>
                  <a:lnTo>
                    <a:pt x="222" y="178"/>
                  </a:lnTo>
                  <a:lnTo>
                    <a:pt x="222" y="183"/>
                  </a:lnTo>
                  <a:lnTo>
                    <a:pt x="222" y="188"/>
                  </a:lnTo>
                  <a:lnTo>
                    <a:pt x="222" y="195"/>
                  </a:lnTo>
                  <a:lnTo>
                    <a:pt x="222" y="200"/>
                  </a:lnTo>
                  <a:lnTo>
                    <a:pt x="224" y="207"/>
                  </a:lnTo>
                  <a:lnTo>
                    <a:pt x="226" y="212"/>
                  </a:lnTo>
                  <a:lnTo>
                    <a:pt x="226" y="214"/>
                  </a:lnTo>
                  <a:lnTo>
                    <a:pt x="227" y="217"/>
                  </a:lnTo>
                  <a:lnTo>
                    <a:pt x="227" y="220"/>
                  </a:lnTo>
                  <a:lnTo>
                    <a:pt x="229" y="222"/>
                  </a:lnTo>
                  <a:lnTo>
                    <a:pt x="229" y="226"/>
                  </a:lnTo>
                  <a:lnTo>
                    <a:pt x="231" y="227"/>
                  </a:lnTo>
                  <a:lnTo>
                    <a:pt x="233" y="231"/>
                  </a:lnTo>
                  <a:lnTo>
                    <a:pt x="234" y="231"/>
                  </a:lnTo>
                  <a:lnTo>
                    <a:pt x="243" y="231"/>
                  </a:lnTo>
                  <a:lnTo>
                    <a:pt x="252" y="231"/>
                  </a:lnTo>
                  <a:lnTo>
                    <a:pt x="262" y="232"/>
                  </a:lnTo>
                  <a:lnTo>
                    <a:pt x="271" y="232"/>
                  </a:lnTo>
                  <a:lnTo>
                    <a:pt x="279" y="232"/>
                  </a:lnTo>
                  <a:lnTo>
                    <a:pt x="288" y="231"/>
                  </a:lnTo>
                  <a:lnTo>
                    <a:pt x="296" y="229"/>
                  </a:lnTo>
                  <a:lnTo>
                    <a:pt x="305" y="224"/>
                  </a:lnTo>
                  <a:lnTo>
                    <a:pt x="307" y="226"/>
                  </a:lnTo>
                  <a:lnTo>
                    <a:pt x="308" y="231"/>
                  </a:lnTo>
                  <a:lnTo>
                    <a:pt x="310" y="234"/>
                  </a:lnTo>
                  <a:lnTo>
                    <a:pt x="310" y="239"/>
                  </a:lnTo>
                  <a:lnTo>
                    <a:pt x="312" y="243"/>
                  </a:lnTo>
                  <a:lnTo>
                    <a:pt x="312" y="248"/>
                  </a:lnTo>
                  <a:lnTo>
                    <a:pt x="315" y="251"/>
                  </a:lnTo>
                  <a:lnTo>
                    <a:pt x="319" y="255"/>
                  </a:lnTo>
                  <a:lnTo>
                    <a:pt x="322" y="265"/>
                  </a:lnTo>
                  <a:lnTo>
                    <a:pt x="326" y="277"/>
                  </a:lnTo>
                  <a:lnTo>
                    <a:pt x="327" y="289"/>
                  </a:lnTo>
                  <a:lnTo>
                    <a:pt x="331" y="299"/>
                  </a:lnTo>
                  <a:lnTo>
                    <a:pt x="334" y="311"/>
                  </a:lnTo>
                  <a:lnTo>
                    <a:pt x="338" y="323"/>
                  </a:lnTo>
                  <a:lnTo>
                    <a:pt x="341" y="333"/>
                  </a:lnTo>
                  <a:lnTo>
                    <a:pt x="345" y="345"/>
                  </a:lnTo>
                  <a:lnTo>
                    <a:pt x="340" y="347"/>
                  </a:lnTo>
                  <a:lnTo>
                    <a:pt x="334" y="349"/>
                  </a:lnTo>
                  <a:lnTo>
                    <a:pt x="331" y="350"/>
                  </a:lnTo>
                  <a:lnTo>
                    <a:pt x="329" y="354"/>
                  </a:lnTo>
                  <a:lnTo>
                    <a:pt x="327" y="359"/>
                  </a:lnTo>
                  <a:lnTo>
                    <a:pt x="324" y="362"/>
                  </a:lnTo>
                  <a:lnTo>
                    <a:pt x="322" y="366"/>
                  </a:lnTo>
                  <a:lnTo>
                    <a:pt x="319" y="369"/>
                  </a:lnTo>
                  <a:lnTo>
                    <a:pt x="315" y="374"/>
                  </a:lnTo>
                  <a:lnTo>
                    <a:pt x="314" y="378"/>
                  </a:lnTo>
                  <a:lnTo>
                    <a:pt x="310" y="383"/>
                  </a:lnTo>
                  <a:lnTo>
                    <a:pt x="307" y="386"/>
                  </a:lnTo>
                  <a:lnTo>
                    <a:pt x="303" y="390"/>
                  </a:lnTo>
                  <a:lnTo>
                    <a:pt x="302" y="393"/>
                  </a:lnTo>
                  <a:lnTo>
                    <a:pt x="298" y="396"/>
                  </a:lnTo>
                  <a:lnTo>
                    <a:pt x="295" y="400"/>
                  </a:lnTo>
                  <a:lnTo>
                    <a:pt x="286" y="403"/>
                  </a:lnTo>
                  <a:lnTo>
                    <a:pt x="277" y="405"/>
                  </a:lnTo>
                  <a:lnTo>
                    <a:pt x="267" y="408"/>
                  </a:lnTo>
                  <a:lnTo>
                    <a:pt x="258" y="410"/>
                  </a:lnTo>
                  <a:lnTo>
                    <a:pt x="250" y="415"/>
                  </a:lnTo>
                  <a:lnTo>
                    <a:pt x="243" y="419"/>
                  </a:lnTo>
                  <a:lnTo>
                    <a:pt x="234" y="424"/>
                  </a:lnTo>
                  <a:lnTo>
                    <a:pt x="227" y="431"/>
                  </a:lnTo>
                  <a:lnTo>
                    <a:pt x="224" y="454"/>
                  </a:lnTo>
                  <a:lnTo>
                    <a:pt x="212" y="472"/>
                  </a:lnTo>
                  <a:lnTo>
                    <a:pt x="203" y="489"/>
                  </a:lnTo>
                  <a:lnTo>
                    <a:pt x="193" y="506"/>
                  </a:lnTo>
                  <a:lnTo>
                    <a:pt x="183" y="523"/>
                  </a:lnTo>
                  <a:lnTo>
                    <a:pt x="172" y="540"/>
                  </a:lnTo>
                  <a:lnTo>
                    <a:pt x="160" y="555"/>
                  </a:lnTo>
                  <a:lnTo>
                    <a:pt x="152" y="562"/>
                  </a:lnTo>
                  <a:lnTo>
                    <a:pt x="145" y="567"/>
                  </a:lnTo>
                  <a:lnTo>
                    <a:pt x="134" y="574"/>
                  </a:lnTo>
                  <a:lnTo>
                    <a:pt x="126" y="579"/>
                  </a:lnTo>
                  <a:lnTo>
                    <a:pt x="122" y="567"/>
                  </a:lnTo>
                  <a:lnTo>
                    <a:pt x="119" y="557"/>
                  </a:lnTo>
                  <a:lnTo>
                    <a:pt x="112" y="547"/>
                  </a:lnTo>
                  <a:lnTo>
                    <a:pt x="105" y="538"/>
                  </a:lnTo>
                  <a:lnTo>
                    <a:pt x="96" y="531"/>
                  </a:lnTo>
                  <a:lnTo>
                    <a:pt x="86" y="525"/>
                  </a:lnTo>
                  <a:lnTo>
                    <a:pt x="76" y="519"/>
                  </a:lnTo>
                  <a:lnTo>
                    <a:pt x="65" y="516"/>
                  </a:lnTo>
                  <a:lnTo>
                    <a:pt x="60" y="516"/>
                  </a:lnTo>
                  <a:lnTo>
                    <a:pt x="55" y="516"/>
                  </a:lnTo>
                  <a:lnTo>
                    <a:pt x="50" y="516"/>
                  </a:lnTo>
                  <a:lnTo>
                    <a:pt x="45" y="516"/>
                  </a:lnTo>
                  <a:lnTo>
                    <a:pt x="41" y="516"/>
                  </a:lnTo>
                  <a:lnTo>
                    <a:pt x="36" y="516"/>
                  </a:lnTo>
                  <a:lnTo>
                    <a:pt x="31" y="516"/>
                  </a:lnTo>
                  <a:lnTo>
                    <a:pt x="26" y="518"/>
                  </a:lnTo>
                  <a:lnTo>
                    <a:pt x="29" y="499"/>
                  </a:lnTo>
                  <a:lnTo>
                    <a:pt x="29" y="480"/>
                  </a:lnTo>
                  <a:lnTo>
                    <a:pt x="28" y="463"/>
                  </a:lnTo>
                  <a:lnTo>
                    <a:pt x="24" y="446"/>
                  </a:lnTo>
                  <a:lnTo>
                    <a:pt x="21" y="429"/>
                  </a:lnTo>
                  <a:lnTo>
                    <a:pt x="15" y="412"/>
                  </a:lnTo>
                  <a:lnTo>
                    <a:pt x="10" y="395"/>
                  </a:lnTo>
                  <a:lnTo>
                    <a:pt x="3" y="378"/>
                  </a:lnTo>
                  <a:lnTo>
                    <a:pt x="5" y="376"/>
                  </a:lnTo>
                  <a:lnTo>
                    <a:pt x="5" y="376"/>
                  </a:lnTo>
                  <a:lnTo>
                    <a:pt x="5" y="374"/>
                  </a:lnTo>
                  <a:lnTo>
                    <a:pt x="5" y="372"/>
                  </a:lnTo>
                  <a:lnTo>
                    <a:pt x="3" y="371"/>
                  </a:lnTo>
                  <a:lnTo>
                    <a:pt x="3" y="369"/>
                  </a:lnTo>
                  <a:lnTo>
                    <a:pt x="2" y="369"/>
                  </a:lnTo>
                  <a:lnTo>
                    <a:pt x="0" y="367"/>
                  </a:lnTo>
                  <a:lnTo>
                    <a:pt x="2" y="361"/>
                  </a:lnTo>
                  <a:lnTo>
                    <a:pt x="3" y="354"/>
                  </a:lnTo>
                  <a:lnTo>
                    <a:pt x="5" y="345"/>
                  </a:lnTo>
                  <a:lnTo>
                    <a:pt x="7" y="338"/>
                  </a:lnTo>
                  <a:lnTo>
                    <a:pt x="9" y="330"/>
                  </a:lnTo>
                  <a:lnTo>
                    <a:pt x="10" y="323"/>
                  </a:lnTo>
                  <a:lnTo>
                    <a:pt x="12" y="314"/>
                  </a:lnTo>
                  <a:lnTo>
                    <a:pt x="12" y="308"/>
                  </a:lnTo>
                  <a:lnTo>
                    <a:pt x="15" y="296"/>
                  </a:lnTo>
                  <a:lnTo>
                    <a:pt x="19" y="282"/>
                  </a:lnTo>
                  <a:lnTo>
                    <a:pt x="22" y="270"/>
                  </a:lnTo>
                  <a:lnTo>
                    <a:pt x="24" y="256"/>
                  </a:lnTo>
                  <a:lnTo>
                    <a:pt x="28" y="243"/>
                  </a:lnTo>
                  <a:lnTo>
                    <a:pt x="31" y="231"/>
                  </a:lnTo>
                  <a:lnTo>
                    <a:pt x="36" y="217"/>
                  </a:lnTo>
                  <a:lnTo>
                    <a:pt x="41" y="205"/>
                  </a:lnTo>
                  <a:lnTo>
                    <a:pt x="43" y="202"/>
                  </a:lnTo>
                  <a:lnTo>
                    <a:pt x="45" y="197"/>
                  </a:lnTo>
                  <a:lnTo>
                    <a:pt x="46" y="191"/>
                  </a:lnTo>
                  <a:lnTo>
                    <a:pt x="48" y="186"/>
                  </a:lnTo>
                  <a:lnTo>
                    <a:pt x="50" y="183"/>
                  </a:lnTo>
                  <a:lnTo>
                    <a:pt x="53" y="179"/>
                  </a:lnTo>
                  <a:lnTo>
                    <a:pt x="59" y="179"/>
                  </a:lnTo>
                  <a:lnTo>
                    <a:pt x="65" y="181"/>
                  </a:lnTo>
                  <a:lnTo>
                    <a:pt x="67" y="183"/>
                  </a:lnTo>
                  <a:lnTo>
                    <a:pt x="71" y="185"/>
                  </a:lnTo>
                  <a:lnTo>
                    <a:pt x="72" y="186"/>
                  </a:lnTo>
                  <a:lnTo>
                    <a:pt x="76" y="188"/>
                  </a:lnTo>
                  <a:lnTo>
                    <a:pt x="77" y="191"/>
                  </a:lnTo>
                  <a:lnTo>
                    <a:pt x="81" y="193"/>
                  </a:lnTo>
                  <a:lnTo>
                    <a:pt x="83" y="197"/>
                  </a:lnTo>
                  <a:lnTo>
                    <a:pt x="83" y="198"/>
                  </a:lnTo>
                  <a:lnTo>
                    <a:pt x="83" y="205"/>
                  </a:lnTo>
                  <a:lnTo>
                    <a:pt x="81" y="210"/>
                  </a:lnTo>
                  <a:lnTo>
                    <a:pt x="81" y="215"/>
                  </a:lnTo>
                  <a:lnTo>
                    <a:pt x="81" y="222"/>
                  </a:lnTo>
                  <a:lnTo>
                    <a:pt x="81" y="229"/>
                  </a:lnTo>
                  <a:lnTo>
                    <a:pt x="83" y="234"/>
                  </a:lnTo>
                  <a:lnTo>
                    <a:pt x="84" y="239"/>
                  </a:lnTo>
                  <a:lnTo>
                    <a:pt x="88" y="244"/>
                  </a:lnTo>
                  <a:lnTo>
                    <a:pt x="91" y="246"/>
                  </a:lnTo>
                  <a:lnTo>
                    <a:pt x="93" y="249"/>
                  </a:lnTo>
                  <a:lnTo>
                    <a:pt x="96" y="251"/>
                  </a:lnTo>
                  <a:lnTo>
                    <a:pt x="98" y="253"/>
                  </a:lnTo>
                  <a:lnTo>
                    <a:pt x="102" y="255"/>
                  </a:lnTo>
                  <a:lnTo>
                    <a:pt x="103" y="256"/>
                  </a:lnTo>
                  <a:lnTo>
                    <a:pt x="107" y="256"/>
                  </a:lnTo>
                  <a:lnTo>
                    <a:pt x="110" y="255"/>
                  </a:lnTo>
                  <a:lnTo>
                    <a:pt x="117" y="253"/>
                  </a:lnTo>
                  <a:lnTo>
                    <a:pt x="126" y="251"/>
                  </a:lnTo>
                  <a:lnTo>
                    <a:pt x="133" y="248"/>
                  </a:lnTo>
                  <a:lnTo>
                    <a:pt x="140" y="246"/>
                  </a:lnTo>
                  <a:lnTo>
                    <a:pt x="148" y="243"/>
                  </a:lnTo>
                  <a:lnTo>
                    <a:pt x="155" y="241"/>
                  </a:lnTo>
                  <a:lnTo>
                    <a:pt x="164" y="241"/>
                  </a:lnTo>
                  <a:lnTo>
                    <a:pt x="172" y="241"/>
                  </a:lnTo>
                  <a:lnTo>
                    <a:pt x="177" y="239"/>
                  </a:lnTo>
                  <a:lnTo>
                    <a:pt x="181" y="236"/>
                  </a:lnTo>
                  <a:lnTo>
                    <a:pt x="184" y="232"/>
                  </a:lnTo>
                  <a:lnTo>
                    <a:pt x="186" y="229"/>
                  </a:lnTo>
                  <a:lnTo>
                    <a:pt x="188" y="224"/>
                  </a:lnTo>
                  <a:lnTo>
                    <a:pt x="190" y="219"/>
                  </a:lnTo>
                  <a:lnTo>
                    <a:pt x="191" y="215"/>
                  </a:lnTo>
                  <a:lnTo>
                    <a:pt x="193" y="210"/>
                  </a:lnTo>
                  <a:lnTo>
                    <a:pt x="191" y="210"/>
                  </a:lnTo>
                  <a:lnTo>
                    <a:pt x="191" y="210"/>
                  </a:lnTo>
                  <a:lnTo>
                    <a:pt x="191" y="208"/>
                  </a:lnTo>
                  <a:lnTo>
                    <a:pt x="191" y="208"/>
                  </a:lnTo>
                  <a:lnTo>
                    <a:pt x="191" y="208"/>
                  </a:lnTo>
                  <a:lnTo>
                    <a:pt x="191" y="207"/>
                  </a:lnTo>
                  <a:lnTo>
                    <a:pt x="191" y="207"/>
                  </a:lnTo>
                  <a:lnTo>
                    <a:pt x="191" y="207"/>
                  </a:lnTo>
                  <a:lnTo>
                    <a:pt x="195" y="202"/>
                  </a:lnTo>
                  <a:lnTo>
                    <a:pt x="193" y="202"/>
                  </a:lnTo>
                  <a:lnTo>
                    <a:pt x="193" y="200"/>
                  </a:lnTo>
                  <a:lnTo>
                    <a:pt x="193" y="198"/>
                  </a:lnTo>
                  <a:lnTo>
                    <a:pt x="193" y="197"/>
                  </a:lnTo>
                  <a:lnTo>
                    <a:pt x="193" y="193"/>
                  </a:lnTo>
                  <a:lnTo>
                    <a:pt x="195" y="191"/>
                  </a:lnTo>
                  <a:lnTo>
                    <a:pt x="195" y="190"/>
                  </a:lnTo>
                  <a:lnTo>
                    <a:pt x="195" y="188"/>
                  </a:lnTo>
                  <a:lnTo>
                    <a:pt x="202" y="178"/>
                  </a:lnTo>
                  <a:lnTo>
                    <a:pt x="208" y="167"/>
                  </a:lnTo>
                  <a:lnTo>
                    <a:pt x="212" y="157"/>
                  </a:lnTo>
                  <a:lnTo>
                    <a:pt x="215" y="145"/>
                  </a:lnTo>
                  <a:lnTo>
                    <a:pt x="215" y="133"/>
                  </a:lnTo>
                  <a:lnTo>
                    <a:pt x="215" y="123"/>
                  </a:lnTo>
                  <a:lnTo>
                    <a:pt x="214" y="111"/>
                  </a:lnTo>
                  <a:lnTo>
                    <a:pt x="210" y="99"/>
                  </a:lnTo>
                  <a:lnTo>
                    <a:pt x="210" y="94"/>
                  </a:lnTo>
                  <a:lnTo>
                    <a:pt x="208" y="89"/>
                  </a:lnTo>
                  <a:lnTo>
                    <a:pt x="210" y="84"/>
                  </a:lnTo>
                  <a:lnTo>
                    <a:pt x="210" y="79"/>
                  </a:lnTo>
                  <a:lnTo>
                    <a:pt x="208" y="72"/>
                  </a:lnTo>
                  <a:lnTo>
                    <a:pt x="208" y="67"/>
                  </a:lnTo>
                  <a:lnTo>
                    <a:pt x="205" y="63"/>
                  </a:lnTo>
                  <a:lnTo>
                    <a:pt x="200" y="58"/>
                  </a:lnTo>
                  <a:lnTo>
                    <a:pt x="198" y="53"/>
                  </a:lnTo>
                  <a:lnTo>
                    <a:pt x="198" y="48"/>
                  </a:lnTo>
                  <a:lnTo>
                    <a:pt x="198" y="41"/>
                  </a:lnTo>
                  <a:lnTo>
                    <a:pt x="198" y="36"/>
                  </a:lnTo>
                  <a:lnTo>
                    <a:pt x="200" y="31"/>
                  </a:lnTo>
                  <a:lnTo>
                    <a:pt x="202" y="26"/>
                  </a:lnTo>
                  <a:lnTo>
                    <a:pt x="203" y="19"/>
                  </a:lnTo>
                  <a:lnTo>
                    <a:pt x="203" y="14"/>
                  </a:lnTo>
                  <a:lnTo>
                    <a:pt x="207" y="12"/>
                  </a:lnTo>
                  <a:lnTo>
                    <a:pt x="210" y="10"/>
                  </a:lnTo>
                  <a:lnTo>
                    <a:pt x="212" y="7"/>
                  </a:lnTo>
                  <a:lnTo>
                    <a:pt x="215" y="3"/>
                  </a:lnTo>
                  <a:lnTo>
                    <a:pt x="217" y="2"/>
                  </a:lnTo>
                  <a:lnTo>
                    <a:pt x="221" y="0"/>
                  </a:lnTo>
                  <a:lnTo>
                    <a:pt x="224" y="0"/>
                  </a:lnTo>
                  <a:lnTo>
                    <a:pt x="229" y="2"/>
                  </a:lnTo>
                  <a:lnTo>
                    <a:pt x="231" y="5"/>
                  </a:lnTo>
                  <a:lnTo>
                    <a:pt x="234" y="9"/>
                  </a:lnTo>
                  <a:lnTo>
                    <a:pt x="236" y="12"/>
                  </a:lnTo>
                  <a:lnTo>
                    <a:pt x="236" y="15"/>
                  </a:lnTo>
                  <a:lnTo>
                    <a:pt x="238" y="19"/>
                  </a:lnTo>
                  <a:lnTo>
                    <a:pt x="238" y="22"/>
                  </a:lnTo>
                  <a:lnTo>
                    <a:pt x="240" y="26"/>
                  </a:lnTo>
                  <a:lnTo>
                    <a:pt x="24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812960" y="2425680"/>
              <a:ext cx="28440" cy="120600"/>
            </a:xfrm>
            <a:custGeom>
              <a:avLst/>
              <a:gdLst/>
              <a:ahLst/>
              <a:rect l="l" t="t" r="r" b="b"/>
              <a:pathLst>
                <a:path w="40" h="189">
                  <a:moveTo>
                    <a:pt x="40" y="107"/>
                  </a:moveTo>
                  <a:lnTo>
                    <a:pt x="40" y="119"/>
                  </a:lnTo>
                  <a:lnTo>
                    <a:pt x="38" y="130"/>
                  </a:lnTo>
                  <a:lnTo>
                    <a:pt x="35" y="140"/>
                  </a:lnTo>
                  <a:lnTo>
                    <a:pt x="31" y="150"/>
                  </a:lnTo>
                  <a:lnTo>
                    <a:pt x="26" y="160"/>
                  </a:lnTo>
                  <a:lnTo>
                    <a:pt x="19" y="171"/>
                  </a:lnTo>
                  <a:lnTo>
                    <a:pt x="12" y="181"/>
                  </a:lnTo>
                  <a:lnTo>
                    <a:pt x="6" y="189"/>
                  </a:lnTo>
                  <a:lnTo>
                    <a:pt x="4" y="182"/>
                  </a:lnTo>
                  <a:lnTo>
                    <a:pt x="2" y="174"/>
                  </a:lnTo>
                  <a:lnTo>
                    <a:pt x="0" y="165"/>
                  </a:lnTo>
                  <a:lnTo>
                    <a:pt x="0" y="157"/>
                  </a:lnTo>
                  <a:lnTo>
                    <a:pt x="2" y="141"/>
                  </a:lnTo>
                  <a:lnTo>
                    <a:pt x="6" y="124"/>
                  </a:lnTo>
                  <a:lnTo>
                    <a:pt x="9" y="107"/>
                  </a:lnTo>
                  <a:lnTo>
                    <a:pt x="14" y="90"/>
                  </a:lnTo>
                  <a:lnTo>
                    <a:pt x="16" y="73"/>
                  </a:lnTo>
                  <a:lnTo>
                    <a:pt x="18" y="54"/>
                  </a:lnTo>
                  <a:lnTo>
                    <a:pt x="18" y="49"/>
                  </a:lnTo>
                  <a:lnTo>
                    <a:pt x="18" y="42"/>
                  </a:lnTo>
                  <a:lnTo>
                    <a:pt x="18" y="34"/>
                  </a:lnTo>
                  <a:lnTo>
                    <a:pt x="18" y="27"/>
                  </a:lnTo>
                  <a:lnTo>
                    <a:pt x="18" y="20"/>
                  </a:lnTo>
                  <a:lnTo>
                    <a:pt x="18" y="12"/>
                  </a:lnTo>
                  <a:lnTo>
                    <a:pt x="16" y="5"/>
                  </a:lnTo>
                  <a:lnTo>
                    <a:pt x="16" y="0"/>
                  </a:lnTo>
                  <a:lnTo>
                    <a:pt x="21" y="5"/>
                  </a:lnTo>
                  <a:lnTo>
                    <a:pt x="24" y="10"/>
                  </a:lnTo>
                  <a:lnTo>
                    <a:pt x="28" y="17"/>
                  </a:lnTo>
                  <a:lnTo>
                    <a:pt x="30" y="24"/>
                  </a:lnTo>
                  <a:lnTo>
                    <a:pt x="33" y="37"/>
                  </a:lnTo>
                  <a:lnTo>
                    <a:pt x="33" y="51"/>
                  </a:lnTo>
                  <a:lnTo>
                    <a:pt x="33" y="65"/>
                  </a:lnTo>
                  <a:lnTo>
                    <a:pt x="33" y="78"/>
                  </a:lnTo>
                  <a:lnTo>
                    <a:pt x="37" y="94"/>
                  </a:lnTo>
                  <a:lnTo>
                    <a:pt x="40" y="10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774800" y="2484360"/>
              <a:ext cx="20520" cy="4932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5" y="77"/>
                  </a:moveTo>
                  <a:lnTo>
                    <a:pt x="1" y="67"/>
                  </a:lnTo>
                  <a:lnTo>
                    <a:pt x="0" y="56"/>
                  </a:lnTo>
                  <a:lnTo>
                    <a:pt x="1" y="48"/>
                  </a:lnTo>
                  <a:lnTo>
                    <a:pt x="5" y="38"/>
                  </a:lnTo>
                  <a:lnTo>
                    <a:pt x="8" y="27"/>
                  </a:lnTo>
                  <a:lnTo>
                    <a:pt x="14" y="17"/>
                  </a:lnTo>
                  <a:lnTo>
                    <a:pt x="20" y="8"/>
                  </a:lnTo>
                  <a:lnTo>
                    <a:pt x="26" y="0"/>
                  </a:lnTo>
                  <a:lnTo>
                    <a:pt x="29" y="10"/>
                  </a:lnTo>
                  <a:lnTo>
                    <a:pt x="29" y="20"/>
                  </a:lnTo>
                  <a:lnTo>
                    <a:pt x="27" y="29"/>
                  </a:lnTo>
                  <a:lnTo>
                    <a:pt x="24" y="39"/>
                  </a:lnTo>
                  <a:lnTo>
                    <a:pt x="19" y="49"/>
                  </a:lnTo>
                  <a:lnTo>
                    <a:pt x="15" y="58"/>
                  </a:lnTo>
                  <a:lnTo>
                    <a:pt x="10" y="68"/>
                  </a:lnTo>
                  <a:lnTo>
                    <a:pt x="5" y="7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741320" y="2579760"/>
              <a:ext cx="25560" cy="2232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8" y="12"/>
                  </a:moveTo>
                  <a:lnTo>
                    <a:pt x="38" y="13"/>
                  </a:lnTo>
                  <a:lnTo>
                    <a:pt x="37" y="17"/>
                  </a:lnTo>
                  <a:lnTo>
                    <a:pt x="37" y="20"/>
                  </a:lnTo>
                  <a:lnTo>
                    <a:pt x="35" y="23"/>
                  </a:lnTo>
                  <a:lnTo>
                    <a:pt x="35" y="25"/>
                  </a:lnTo>
                  <a:lnTo>
                    <a:pt x="33" y="29"/>
                  </a:lnTo>
                  <a:lnTo>
                    <a:pt x="32" y="30"/>
                  </a:lnTo>
                  <a:lnTo>
                    <a:pt x="28" y="34"/>
                  </a:lnTo>
                  <a:lnTo>
                    <a:pt x="26" y="35"/>
                  </a:lnTo>
                  <a:lnTo>
                    <a:pt x="25" y="35"/>
                  </a:lnTo>
                  <a:lnTo>
                    <a:pt x="21" y="37"/>
                  </a:lnTo>
                  <a:lnTo>
                    <a:pt x="19" y="37"/>
                  </a:lnTo>
                  <a:lnTo>
                    <a:pt x="16" y="37"/>
                  </a:lnTo>
                  <a:lnTo>
                    <a:pt x="14" y="35"/>
                  </a:lnTo>
                  <a:lnTo>
                    <a:pt x="13" y="35"/>
                  </a:lnTo>
                  <a:lnTo>
                    <a:pt x="11" y="34"/>
                  </a:lnTo>
                  <a:lnTo>
                    <a:pt x="7" y="32"/>
                  </a:lnTo>
                  <a:lnTo>
                    <a:pt x="6" y="30"/>
                  </a:lnTo>
                  <a:lnTo>
                    <a:pt x="6" y="29"/>
                  </a:lnTo>
                  <a:lnTo>
                    <a:pt x="4" y="27"/>
                  </a:lnTo>
                  <a:lnTo>
                    <a:pt x="4" y="25"/>
                  </a:lnTo>
                  <a:lnTo>
                    <a:pt x="4" y="23"/>
                  </a:lnTo>
                  <a:lnTo>
                    <a:pt x="2" y="22"/>
                  </a:lnTo>
                  <a:lnTo>
                    <a:pt x="0" y="20"/>
                  </a:lnTo>
                  <a:lnTo>
                    <a:pt x="2" y="18"/>
                  </a:lnTo>
                  <a:lnTo>
                    <a:pt x="4" y="17"/>
                  </a:lnTo>
                  <a:lnTo>
                    <a:pt x="4" y="15"/>
                  </a:lnTo>
                  <a:lnTo>
                    <a:pt x="6" y="13"/>
                  </a:lnTo>
                  <a:lnTo>
                    <a:pt x="6" y="12"/>
                  </a:lnTo>
                  <a:lnTo>
                    <a:pt x="6" y="10"/>
                  </a:lnTo>
                  <a:lnTo>
                    <a:pt x="6" y="8"/>
                  </a:lnTo>
                  <a:lnTo>
                    <a:pt x="6" y="6"/>
                  </a:lnTo>
                  <a:lnTo>
                    <a:pt x="9" y="3"/>
                  </a:lnTo>
                  <a:lnTo>
                    <a:pt x="14" y="1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28" y="1"/>
                  </a:lnTo>
                  <a:lnTo>
                    <a:pt x="33" y="3"/>
                  </a:lnTo>
                  <a:lnTo>
                    <a:pt x="37" y="6"/>
                  </a:lnTo>
                  <a:lnTo>
                    <a:pt x="38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749600" y="2584440"/>
              <a:ext cx="12600" cy="1116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2" y="17"/>
                  </a:moveTo>
                  <a:lnTo>
                    <a:pt x="11" y="17"/>
                  </a:lnTo>
                  <a:lnTo>
                    <a:pt x="9" y="19"/>
                  </a:lnTo>
                  <a:lnTo>
                    <a:pt x="9" y="19"/>
                  </a:lnTo>
                  <a:lnTo>
                    <a:pt x="7" y="19"/>
                  </a:lnTo>
                  <a:lnTo>
                    <a:pt x="5" y="19"/>
                  </a:lnTo>
                  <a:lnTo>
                    <a:pt x="4" y="19"/>
                  </a:lnTo>
                  <a:lnTo>
                    <a:pt x="2" y="19"/>
                  </a:lnTo>
                  <a:lnTo>
                    <a:pt x="2" y="19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2" y="9"/>
                  </a:lnTo>
                  <a:lnTo>
                    <a:pt x="2" y="7"/>
                  </a:lnTo>
                  <a:lnTo>
                    <a:pt x="4" y="5"/>
                  </a:lnTo>
                  <a:lnTo>
                    <a:pt x="4" y="4"/>
                  </a:lnTo>
                  <a:lnTo>
                    <a:pt x="7" y="0"/>
                  </a:lnTo>
                  <a:lnTo>
                    <a:pt x="9" y="0"/>
                  </a:lnTo>
                  <a:lnTo>
                    <a:pt x="12" y="2"/>
                  </a:lnTo>
                  <a:lnTo>
                    <a:pt x="14" y="5"/>
                  </a:lnTo>
                  <a:lnTo>
                    <a:pt x="16" y="9"/>
                  </a:lnTo>
                  <a:lnTo>
                    <a:pt x="16" y="12"/>
                  </a:lnTo>
                  <a:lnTo>
                    <a:pt x="14" y="14"/>
                  </a:lnTo>
                  <a:lnTo>
                    <a:pt x="12" y="1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744560" y="2624040"/>
              <a:ext cx="30240" cy="23760"/>
            </a:xfrm>
            <a:custGeom>
              <a:avLst/>
              <a:gdLst/>
              <a:ahLst/>
              <a:rect l="l" t="t" r="r" b="b"/>
              <a:pathLst>
                <a:path w="42" h="38">
                  <a:moveTo>
                    <a:pt x="42" y="12"/>
                  </a:moveTo>
                  <a:lnTo>
                    <a:pt x="40" y="17"/>
                  </a:lnTo>
                  <a:lnTo>
                    <a:pt x="40" y="21"/>
                  </a:lnTo>
                  <a:lnTo>
                    <a:pt x="38" y="24"/>
                  </a:lnTo>
                  <a:lnTo>
                    <a:pt x="35" y="26"/>
                  </a:lnTo>
                  <a:lnTo>
                    <a:pt x="33" y="29"/>
                  </a:lnTo>
                  <a:lnTo>
                    <a:pt x="30" y="31"/>
                  </a:lnTo>
                  <a:lnTo>
                    <a:pt x="28" y="34"/>
                  </a:lnTo>
                  <a:lnTo>
                    <a:pt x="25" y="36"/>
                  </a:lnTo>
                  <a:lnTo>
                    <a:pt x="21" y="38"/>
                  </a:lnTo>
                  <a:lnTo>
                    <a:pt x="18" y="38"/>
                  </a:lnTo>
                  <a:lnTo>
                    <a:pt x="14" y="36"/>
                  </a:lnTo>
                  <a:lnTo>
                    <a:pt x="11" y="34"/>
                  </a:lnTo>
                  <a:lnTo>
                    <a:pt x="7" y="33"/>
                  </a:lnTo>
                  <a:lnTo>
                    <a:pt x="6" y="31"/>
                  </a:lnTo>
                  <a:lnTo>
                    <a:pt x="2" y="28"/>
                  </a:lnTo>
                  <a:lnTo>
                    <a:pt x="2" y="24"/>
                  </a:lnTo>
                  <a:lnTo>
                    <a:pt x="2" y="21"/>
                  </a:lnTo>
                  <a:lnTo>
                    <a:pt x="0" y="17"/>
                  </a:lnTo>
                  <a:lnTo>
                    <a:pt x="2" y="16"/>
                  </a:lnTo>
                  <a:lnTo>
                    <a:pt x="2" y="12"/>
                  </a:lnTo>
                  <a:lnTo>
                    <a:pt x="2" y="9"/>
                  </a:lnTo>
                  <a:lnTo>
                    <a:pt x="4" y="7"/>
                  </a:lnTo>
                  <a:lnTo>
                    <a:pt x="6" y="5"/>
                  </a:lnTo>
                  <a:lnTo>
                    <a:pt x="9" y="4"/>
                  </a:lnTo>
                  <a:lnTo>
                    <a:pt x="12" y="5"/>
                  </a:lnTo>
                  <a:lnTo>
                    <a:pt x="16" y="5"/>
                  </a:lnTo>
                  <a:lnTo>
                    <a:pt x="19" y="4"/>
                  </a:lnTo>
                  <a:lnTo>
                    <a:pt x="21" y="2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5" y="4"/>
                  </a:lnTo>
                  <a:lnTo>
                    <a:pt x="4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754280" y="2630520"/>
              <a:ext cx="14040" cy="1260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21" y="8"/>
                  </a:moveTo>
                  <a:lnTo>
                    <a:pt x="21" y="10"/>
                  </a:lnTo>
                  <a:lnTo>
                    <a:pt x="19" y="12"/>
                  </a:lnTo>
                  <a:lnTo>
                    <a:pt x="18" y="13"/>
                  </a:lnTo>
                  <a:lnTo>
                    <a:pt x="18" y="15"/>
                  </a:lnTo>
                  <a:lnTo>
                    <a:pt x="16" y="15"/>
                  </a:lnTo>
                  <a:lnTo>
                    <a:pt x="14" y="17"/>
                  </a:lnTo>
                  <a:lnTo>
                    <a:pt x="13" y="18"/>
                  </a:lnTo>
                  <a:lnTo>
                    <a:pt x="11" y="18"/>
                  </a:lnTo>
                  <a:lnTo>
                    <a:pt x="9" y="18"/>
                  </a:lnTo>
                  <a:lnTo>
                    <a:pt x="7" y="18"/>
                  </a:lnTo>
                  <a:lnTo>
                    <a:pt x="6" y="18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0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4" y="6"/>
                  </a:lnTo>
                  <a:lnTo>
                    <a:pt x="6" y="5"/>
                  </a:lnTo>
                  <a:lnTo>
                    <a:pt x="7" y="3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8" y="3"/>
                  </a:lnTo>
                  <a:lnTo>
                    <a:pt x="18" y="3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21" y="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868400" y="2635200"/>
              <a:ext cx="34920" cy="33480"/>
            </a:xfrm>
            <a:custGeom>
              <a:avLst/>
              <a:gdLst/>
              <a:ahLst/>
              <a:rect l="l" t="t" r="r" b="b"/>
              <a:pathLst>
                <a:path w="48" h="52">
                  <a:moveTo>
                    <a:pt x="48" y="52"/>
                  </a:moveTo>
                  <a:lnTo>
                    <a:pt x="41" y="48"/>
                  </a:lnTo>
                  <a:lnTo>
                    <a:pt x="36" y="47"/>
                  </a:lnTo>
                  <a:lnTo>
                    <a:pt x="31" y="45"/>
                  </a:lnTo>
                  <a:lnTo>
                    <a:pt x="24" y="45"/>
                  </a:lnTo>
                  <a:lnTo>
                    <a:pt x="19" y="45"/>
                  </a:lnTo>
                  <a:lnTo>
                    <a:pt x="12" y="43"/>
                  </a:lnTo>
                  <a:lnTo>
                    <a:pt x="7" y="43"/>
                  </a:lnTo>
                  <a:lnTo>
                    <a:pt x="0" y="43"/>
                  </a:lnTo>
                  <a:lnTo>
                    <a:pt x="1" y="36"/>
                  </a:lnTo>
                  <a:lnTo>
                    <a:pt x="3" y="31"/>
                  </a:lnTo>
                  <a:lnTo>
                    <a:pt x="7" y="26"/>
                  </a:lnTo>
                  <a:lnTo>
                    <a:pt x="12" y="21"/>
                  </a:lnTo>
                  <a:lnTo>
                    <a:pt x="17" y="16"/>
                  </a:lnTo>
                  <a:lnTo>
                    <a:pt x="22" y="11"/>
                  </a:lnTo>
                  <a:lnTo>
                    <a:pt x="27" y="6"/>
                  </a:lnTo>
                  <a:lnTo>
                    <a:pt x="31" y="0"/>
                  </a:lnTo>
                  <a:lnTo>
                    <a:pt x="34" y="6"/>
                  </a:lnTo>
                  <a:lnTo>
                    <a:pt x="36" y="12"/>
                  </a:lnTo>
                  <a:lnTo>
                    <a:pt x="38" y="19"/>
                  </a:lnTo>
                  <a:lnTo>
                    <a:pt x="39" y="24"/>
                  </a:lnTo>
                  <a:lnTo>
                    <a:pt x="41" y="31"/>
                  </a:lnTo>
                  <a:lnTo>
                    <a:pt x="44" y="38"/>
                  </a:lnTo>
                  <a:lnTo>
                    <a:pt x="46" y="45"/>
                  </a:lnTo>
                  <a:lnTo>
                    <a:pt x="48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620720" y="2654280"/>
              <a:ext cx="46080" cy="115920"/>
            </a:xfrm>
            <a:custGeom>
              <a:avLst/>
              <a:gdLst/>
              <a:ahLst/>
              <a:rect l="l" t="t" r="r" b="b"/>
              <a:pathLst>
                <a:path w="68" h="185">
                  <a:moveTo>
                    <a:pt x="62" y="106"/>
                  </a:moveTo>
                  <a:lnTo>
                    <a:pt x="64" y="106"/>
                  </a:lnTo>
                  <a:lnTo>
                    <a:pt x="64" y="106"/>
                  </a:lnTo>
                  <a:lnTo>
                    <a:pt x="64" y="106"/>
                  </a:lnTo>
                  <a:lnTo>
                    <a:pt x="66" y="106"/>
                  </a:lnTo>
                  <a:lnTo>
                    <a:pt x="66" y="106"/>
                  </a:lnTo>
                  <a:lnTo>
                    <a:pt x="66" y="106"/>
                  </a:lnTo>
                  <a:lnTo>
                    <a:pt x="68" y="106"/>
                  </a:lnTo>
                  <a:lnTo>
                    <a:pt x="68" y="106"/>
                  </a:lnTo>
                  <a:lnTo>
                    <a:pt x="66" y="108"/>
                  </a:lnTo>
                  <a:lnTo>
                    <a:pt x="64" y="111"/>
                  </a:lnTo>
                  <a:lnTo>
                    <a:pt x="64" y="113"/>
                  </a:lnTo>
                  <a:lnTo>
                    <a:pt x="66" y="115"/>
                  </a:lnTo>
                  <a:lnTo>
                    <a:pt x="66" y="116"/>
                  </a:lnTo>
                  <a:lnTo>
                    <a:pt x="66" y="118"/>
                  </a:lnTo>
                  <a:lnTo>
                    <a:pt x="66" y="120"/>
                  </a:lnTo>
                  <a:lnTo>
                    <a:pt x="64" y="123"/>
                  </a:lnTo>
                  <a:lnTo>
                    <a:pt x="66" y="130"/>
                  </a:lnTo>
                  <a:lnTo>
                    <a:pt x="64" y="137"/>
                  </a:lnTo>
                  <a:lnTo>
                    <a:pt x="59" y="140"/>
                  </a:lnTo>
                  <a:lnTo>
                    <a:pt x="54" y="144"/>
                  </a:lnTo>
                  <a:lnTo>
                    <a:pt x="47" y="147"/>
                  </a:lnTo>
                  <a:lnTo>
                    <a:pt x="40" y="152"/>
                  </a:lnTo>
                  <a:lnTo>
                    <a:pt x="35" y="156"/>
                  </a:lnTo>
                  <a:lnTo>
                    <a:pt x="31" y="162"/>
                  </a:lnTo>
                  <a:lnTo>
                    <a:pt x="0" y="185"/>
                  </a:lnTo>
                  <a:lnTo>
                    <a:pt x="6" y="161"/>
                  </a:lnTo>
                  <a:lnTo>
                    <a:pt x="11" y="139"/>
                  </a:lnTo>
                  <a:lnTo>
                    <a:pt x="16" y="115"/>
                  </a:lnTo>
                  <a:lnTo>
                    <a:pt x="21" y="92"/>
                  </a:lnTo>
                  <a:lnTo>
                    <a:pt x="26" y="70"/>
                  </a:lnTo>
                  <a:lnTo>
                    <a:pt x="31" y="46"/>
                  </a:lnTo>
                  <a:lnTo>
                    <a:pt x="37" y="24"/>
                  </a:lnTo>
                  <a:lnTo>
                    <a:pt x="42" y="0"/>
                  </a:lnTo>
                  <a:lnTo>
                    <a:pt x="49" y="12"/>
                  </a:lnTo>
                  <a:lnTo>
                    <a:pt x="54" y="26"/>
                  </a:lnTo>
                  <a:lnTo>
                    <a:pt x="57" y="38"/>
                  </a:lnTo>
                  <a:lnTo>
                    <a:pt x="61" y="51"/>
                  </a:lnTo>
                  <a:lnTo>
                    <a:pt x="62" y="67"/>
                  </a:lnTo>
                  <a:lnTo>
                    <a:pt x="64" y="80"/>
                  </a:lnTo>
                  <a:lnTo>
                    <a:pt x="64" y="92"/>
                  </a:lnTo>
                  <a:lnTo>
                    <a:pt x="62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747800" y="2671920"/>
              <a:ext cx="23760" cy="21960"/>
            </a:xfrm>
            <a:custGeom>
              <a:avLst/>
              <a:gdLst/>
              <a:ahLst/>
              <a:rect l="l" t="t" r="r" b="b"/>
              <a:pathLst>
                <a:path w="36" h="37">
                  <a:moveTo>
                    <a:pt x="36" y="12"/>
                  </a:moveTo>
                  <a:lnTo>
                    <a:pt x="36" y="17"/>
                  </a:lnTo>
                  <a:lnTo>
                    <a:pt x="36" y="20"/>
                  </a:lnTo>
                  <a:lnTo>
                    <a:pt x="36" y="24"/>
                  </a:lnTo>
                  <a:lnTo>
                    <a:pt x="34" y="27"/>
                  </a:lnTo>
                  <a:lnTo>
                    <a:pt x="31" y="31"/>
                  </a:lnTo>
                  <a:lnTo>
                    <a:pt x="27" y="32"/>
                  </a:lnTo>
                  <a:lnTo>
                    <a:pt x="26" y="36"/>
                  </a:lnTo>
                  <a:lnTo>
                    <a:pt x="22" y="37"/>
                  </a:lnTo>
                  <a:lnTo>
                    <a:pt x="19" y="37"/>
                  </a:lnTo>
                  <a:lnTo>
                    <a:pt x="15" y="37"/>
                  </a:lnTo>
                  <a:lnTo>
                    <a:pt x="14" y="37"/>
                  </a:lnTo>
                  <a:lnTo>
                    <a:pt x="10" y="36"/>
                  </a:lnTo>
                  <a:lnTo>
                    <a:pt x="8" y="36"/>
                  </a:lnTo>
                  <a:lnTo>
                    <a:pt x="7" y="34"/>
                  </a:lnTo>
                  <a:lnTo>
                    <a:pt x="5" y="32"/>
                  </a:lnTo>
                  <a:lnTo>
                    <a:pt x="3" y="31"/>
                  </a:lnTo>
                  <a:lnTo>
                    <a:pt x="2" y="27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2" y="17"/>
                  </a:lnTo>
                  <a:lnTo>
                    <a:pt x="2" y="13"/>
                  </a:lnTo>
                  <a:lnTo>
                    <a:pt x="3" y="10"/>
                  </a:lnTo>
                  <a:lnTo>
                    <a:pt x="5" y="8"/>
                  </a:lnTo>
                  <a:lnTo>
                    <a:pt x="8" y="5"/>
                  </a:lnTo>
                  <a:lnTo>
                    <a:pt x="14" y="1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7" y="0"/>
                  </a:lnTo>
                  <a:lnTo>
                    <a:pt x="31" y="3"/>
                  </a:lnTo>
                  <a:lnTo>
                    <a:pt x="34" y="7"/>
                  </a:lnTo>
                  <a:lnTo>
                    <a:pt x="3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779480" y="2670120"/>
              <a:ext cx="135000" cy="127080"/>
            </a:xfrm>
            <a:custGeom>
              <a:avLst/>
              <a:gdLst/>
              <a:ahLst/>
              <a:rect l="l" t="t" r="r" b="b"/>
              <a:pathLst>
                <a:path w="197" h="202">
                  <a:moveTo>
                    <a:pt x="169" y="9"/>
                  </a:moveTo>
                  <a:lnTo>
                    <a:pt x="174" y="9"/>
                  </a:lnTo>
                  <a:lnTo>
                    <a:pt x="174" y="9"/>
                  </a:lnTo>
                  <a:lnTo>
                    <a:pt x="174" y="10"/>
                  </a:lnTo>
                  <a:lnTo>
                    <a:pt x="174" y="10"/>
                  </a:lnTo>
                  <a:lnTo>
                    <a:pt x="174" y="10"/>
                  </a:lnTo>
                  <a:lnTo>
                    <a:pt x="176" y="10"/>
                  </a:lnTo>
                  <a:lnTo>
                    <a:pt x="176" y="12"/>
                  </a:lnTo>
                  <a:lnTo>
                    <a:pt x="176" y="12"/>
                  </a:lnTo>
                  <a:lnTo>
                    <a:pt x="178" y="10"/>
                  </a:lnTo>
                  <a:lnTo>
                    <a:pt x="181" y="10"/>
                  </a:lnTo>
                  <a:lnTo>
                    <a:pt x="183" y="17"/>
                  </a:lnTo>
                  <a:lnTo>
                    <a:pt x="185" y="24"/>
                  </a:lnTo>
                  <a:lnTo>
                    <a:pt x="187" y="31"/>
                  </a:lnTo>
                  <a:lnTo>
                    <a:pt x="188" y="38"/>
                  </a:lnTo>
                  <a:lnTo>
                    <a:pt x="190" y="44"/>
                  </a:lnTo>
                  <a:lnTo>
                    <a:pt x="192" y="51"/>
                  </a:lnTo>
                  <a:lnTo>
                    <a:pt x="195" y="58"/>
                  </a:lnTo>
                  <a:lnTo>
                    <a:pt x="197" y="65"/>
                  </a:lnTo>
                  <a:lnTo>
                    <a:pt x="193" y="67"/>
                  </a:lnTo>
                  <a:lnTo>
                    <a:pt x="188" y="68"/>
                  </a:lnTo>
                  <a:lnTo>
                    <a:pt x="185" y="70"/>
                  </a:lnTo>
                  <a:lnTo>
                    <a:pt x="180" y="72"/>
                  </a:lnTo>
                  <a:lnTo>
                    <a:pt x="176" y="74"/>
                  </a:lnTo>
                  <a:lnTo>
                    <a:pt x="171" y="75"/>
                  </a:lnTo>
                  <a:lnTo>
                    <a:pt x="168" y="75"/>
                  </a:lnTo>
                  <a:lnTo>
                    <a:pt x="162" y="75"/>
                  </a:lnTo>
                  <a:lnTo>
                    <a:pt x="152" y="82"/>
                  </a:lnTo>
                  <a:lnTo>
                    <a:pt x="142" y="89"/>
                  </a:lnTo>
                  <a:lnTo>
                    <a:pt x="131" y="96"/>
                  </a:lnTo>
                  <a:lnTo>
                    <a:pt x="121" y="104"/>
                  </a:lnTo>
                  <a:lnTo>
                    <a:pt x="112" y="113"/>
                  </a:lnTo>
                  <a:lnTo>
                    <a:pt x="104" y="121"/>
                  </a:lnTo>
                  <a:lnTo>
                    <a:pt x="97" y="132"/>
                  </a:lnTo>
                  <a:lnTo>
                    <a:pt x="93" y="145"/>
                  </a:lnTo>
                  <a:lnTo>
                    <a:pt x="90" y="154"/>
                  </a:lnTo>
                  <a:lnTo>
                    <a:pt x="85" y="162"/>
                  </a:lnTo>
                  <a:lnTo>
                    <a:pt x="80" y="169"/>
                  </a:lnTo>
                  <a:lnTo>
                    <a:pt x="73" y="176"/>
                  </a:lnTo>
                  <a:lnTo>
                    <a:pt x="66" y="183"/>
                  </a:lnTo>
                  <a:lnTo>
                    <a:pt x="59" y="190"/>
                  </a:lnTo>
                  <a:lnTo>
                    <a:pt x="50" y="197"/>
                  </a:lnTo>
                  <a:lnTo>
                    <a:pt x="42" y="202"/>
                  </a:lnTo>
                  <a:lnTo>
                    <a:pt x="37" y="198"/>
                  </a:lnTo>
                  <a:lnTo>
                    <a:pt x="33" y="195"/>
                  </a:lnTo>
                  <a:lnTo>
                    <a:pt x="30" y="191"/>
                  </a:lnTo>
                  <a:lnTo>
                    <a:pt x="26" y="186"/>
                  </a:lnTo>
                  <a:lnTo>
                    <a:pt x="23" y="181"/>
                  </a:lnTo>
                  <a:lnTo>
                    <a:pt x="21" y="174"/>
                  </a:lnTo>
                  <a:lnTo>
                    <a:pt x="18" y="169"/>
                  </a:lnTo>
                  <a:lnTo>
                    <a:pt x="16" y="164"/>
                  </a:lnTo>
                  <a:lnTo>
                    <a:pt x="0" y="140"/>
                  </a:lnTo>
                  <a:lnTo>
                    <a:pt x="6" y="127"/>
                  </a:lnTo>
                  <a:lnTo>
                    <a:pt x="11" y="113"/>
                  </a:lnTo>
                  <a:lnTo>
                    <a:pt x="18" y="99"/>
                  </a:lnTo>
                  <a:lnTo>
                    <a:pt x="24" y="87"/>
                  </a:lnTo>
                  <a:lnTo>
                    <a:pt x="31" y="74"/>
                  </a:lnTo>
                  <a:lnTo>
                    <a:pt x="40" y="62"/>
                  </a:lnTo>
                  <a:lnTo>
                    <a:pt x="47" y="48"/>
                  </a:lnTo>
                  <a:lnTo>
                    <a:pt x="54" y="36"/>
                  </a:lnTo>
                  <a:lnTo>
                    <a:pt x="54" y="31"/>
                  </a:lnTo>
                  <a:lnTo>
                    <a:pt x="54" y="29"/>
                  </a:lnTo>
                  <a:lnTo>
                    <a:pt x="56" y="26"/>
                  </a:lnTo>
                  <a:lnTo>
                    <a:pt x="57" y="24"/>
                  </a:lnTo>
                  <a:lnTo>
                    <a:pt x="61" y="21"/>
                  </a:lnTo>
                  <a:lnTo>
                    <a:pt x="62" y="19"/>
                  </a:lnTo>
                  <a:lnTo>
                    <a:pt x="66" y="17"/>
                  </a:lnTo>
                  <a:lnTo>
                    <a:pt x="68" y="15"/>
                  </a:lnTo>
                  <a:lnTo>
                    <a:pt x="80" y="10"/>
                  </a:lnTo>
                  <a:lnTo>
                    <a:pt x="92" y="7"/>
                  </a:lnTo>
                  <a:lnTo>
                    <a:pt x="104" y="3"/>
                  </a:lnTo>
                  <a:lnTo>
                    <a:pt x="118" y="0"/>
                  </a:lnTo>
                  <a:lnTo>
                    <a:pt x="131" y="0"/>
                  </a:lnTo>
                  <a:lnTo>
                    <a:pt x="143" y="0"/>
                  </a:lnTo>
                  <a:lnTo>
                    <a:pt x="157" y="3"/>
                  </a:lnTo>
                  <a:lnTo>
                    <a:pt x="169" y="10"/>
                  </a:lnTo>
                  <a:lnTo>
                    <a:pt x="169" y="9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755720" y="2676600"/>
              <a:ext cx="11160" cy="12600"/>
            </a:xfrm>
            <a:custGeom>
              <a:avLst/>
              <a:gdLst/>
              <a:ahLst/>
              <a:rect l="l" t="t" r="r" b="b"/>
              <a:pathLst>
                <a:path w="17" h="21">
                  <a:moveTo>
                    <a:pt x="17" y="14"/>
                  </a:moveTo>
                  <a:lnTo>
                    <a:pt x="16" y="16"/>
                  </a:lnTo>
                  <a:lnTo>
                    <a:pt x="16" y="16"/>
                  </a:lnTo>
                  <a:lnTo>
                    <a:pt x="14" y="17"/>
                  </a:lnTo>
                  <a:lnTo>
                    <a:pt x="14" y="19"/>
                  </a:lnTo>
                  <a:lnTo>
                    <a:pt x="12" y="19"/>
                  </a:lnTo>
                  <a:lnTo>
                    <a:pt x="12" y="21"/>
                  </a:lnTo>
                  <a:lnTo>
                    <a:pt x="11" y="21"/>
                  </a:lnTo>
                  <a:lnTo>
                    <a:pt x="9" y="21"/>
                  </a:lnTo>
                  <a:lnTo>
                    <a:pt x="7" y="21"/>
                  </a:lnTo>
                  <a:lnTo>
                    <a:pt x="5" y="21"/>
                  </a:lnTo>
                  <a:lnTo>
                    <a:pt x="5" y="21"/>
                  </a:lnTo>
                  <a:lnTo>
                    <a:pt x="4" y="19"/>
                  </a:lnTo>
                  <a:lnTo>
                    <a:pt x="2" y="19"/>
                  </a:lnTo>
                  <a:lnTo>
                    <a:pt x="2" y="17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2" y="11"/>
                  </a:lnTo>
                  <a:lnTo>
                    <a:pt x="2" y="9"/>
                  </a:lnTo>
                  <a:lnTo>
                    <a:pt x="5" y="7"/>
                  </a:lnTo>
                  <a:lnTo>
                    <a:pt x="7" y="5"/>
                  </a:lnTo>
                  <a:lnTo>
                    <a:pt x="9" y="5"/>
                  </a:lnTo>
                  <a:lnTo>
                    <a:pt x="9" y="4"/>
                  </a:lnTo>
                  <a:lnTo>
                    <a:pt x="11" y="0"/>
                  </a:lnTo>
                  <a:lnTo>
                    <a:pt x="12" y="2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6" y="11"/>
                  </a:lnTo>
                  <a:lnTo>
                    <a:pt x="16" y="12"/>
                  </a:lnTo>
                  <a:lnTo>
                    <a:pt x="17" y="1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833480" y="2676600"/>
              <a:ext cx="33480" cy="19080"/>
            </a:xfrm>
            <a:custGeom>
              <a:avLst/>
              <a:gdLst/>
              <a:ahLst/>
              <a:rect l="l" t="t" r="r" b="b"/>
              <a:pathLst>
                <a:path w="48" h="31">
                  <a:moveTo>
                    <a:pt x="48" y="0"/>
                  </a:moveTo>
                  <a:lnTo>
                    <a:pt x="43" y="5"/>
                  </a:lnTo>
                  <a:lnTo>
                    <a:pt x="36" y="9"/>
                  </a:lnTo>
                  <a:lnTo>
                    <a:pt x="31" y="14"/>
                  </a:lnTo>
                  <a:lnTo>
                    <a:pt x="26" y="17"/>
                  </a:lnTo>
                  <a:lnTo>
                    <a:pt x="19" y="21"/>
                  </a:lnTo>
                  <a:lnTo>
                    <a:pt x="12" y="24"/>
                  </a:lnTo>
                  <a:lnTo>
                    <a:pt x="7" y="28"/>
                  </a:lnTo>
                  <a:lnTo>
                    <a:pt x="0" y="31"/>
                  </a:lnTo>
                  <a:lnTo>
                    <a:pt x="0" y="24"/>
                  </a:lnTo>
                  <a:lnTo>
                    <a:pt x="3" y="19"/>
                  </a:lnTo>
                  <a:lnTo>
                    <a:pt x="9" y="16"/>
                  </a:lnTo>
                  <a:lnTo>
                    <a:pt x="14" y="14"/>
                  </a:lnTo>
                  <a:lnTo>
                    <a:pt x="19" y="11"/>
                  </a:lnTo>
                  <a:lnTo>
                    <a:pt x="26" y="9"/>
                  </a:lnTo>
                  <a:lnTo>
                    <a:pt x="31" y="7"/>
                  </a:lnTo>
                  <a:lnTo>
                    <a:pt x="36" y="4"/>
                  </a:lnTo>
                  <a:lnTo>
                    <a:pt x="38" y="2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1" y="2"/>
                  </a:lnTo>
                  <a:lnTo>
                    <a:pt x="43" y="0"/>
                  </a:lnTo>
                  <a:lnTo>
                    <a:pt x="45" y="2"/>
                  </a:lnTo>
                  <a:lnTo>
                    <a:pt x="46" y="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838160" y="2682720"/>
              <a:ext cx="52560" cy="28800"/>
            </a:xfrm>
            <a:custGeom>
              <a:avLst/>
              <a:gdLst/>
              <a:ahLst/>
              <a:rect l="l" t="t" r="r" b="b"/>
              <a:pathLst>
                <a:path w="79" h="44">
                  <a:moveTo>
                    <a:pt x="79" y="5"/>
                  </a:moveTo>
                  <a:lnTo>
                    <a:pt x="71" y="10"/>
                  </a:lnTo>
                  <a:lnTo>
                    <a:pt x="62" y="15"/>
                  </a:lnTo>
                  <a:lnTo>
                    <a:pt x="52" y="20"/>
                  </a:lnTo>
                  <a:lnTo>
                    <a:pt x="43" y="25"/>
                  </a:lnTo>
                  <a:lnTo>
                    <a:pt x="33" y="30"/>
                  </a:lnTo>
                  <a:lnTo>
                    <a:pt x="23" y="35"/>
                  </a:lnTo>
                  <a:lnTo>
                    <a:pt x="14" y="41"/>
                  </a:lnTo>
                  <a:lnTo>
                    <a:pt x="4" y="44"/>
                  </a:lnTo>
                  <a:lnTo>
                    <a:pt x="2" y="42"/>
                  </a:lnTo>
                  <a:lnTo>
                    <a:pt x="2" y="42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2" y="35"/>
                  </a:lnTo>
                  <a:lnTo>
                    <a:pt x="2" y="35"/>
                  </a:lnTo>
                  <a:lnTo>
                    <a:pt x="10" y="32"/>
                  </a:lnTo>
                  <a:lnTo>
                    <a:pt x="19" y="29"/>
                  </a:lnTo>
                  <a:lnTo>
                    <a:pt x="26" y="25"/>
                  </a:lnTo>
                  <a:lnTo>
                    <a:pt x="35" y="22"/>
                  </a:lnTo>
                  <a:lnTo>
                    <a:pt x="41" y="17"/>
                  </a:lnTo>
                  <a:lnTo>
                    <a:pt x="50" y="13"/>
                  </a:lnTo>
                  <a:lnTo>
                    <a:pt x="57" y="10"/>
                  </a:lnTo>
                  <a:lnTo>
                    <a:pt x="66" y="6"/>
                  </a:lnTo>
                  <a:lnTo>
                    <a:pt x="67" y="3"/>
                  </a:lnTo>
                  <a:lnTo>
                    <a:pt x="69" y="1"/>
                  </a:lnTo>
                  <a:lnTo>
                    <a:pt x="71" y="1"/>
                  </a:lnTo>
                  <a:lnTo>
                    <a:pt x="73" y="0"/>
                  </a:lnTo>
                  <a:lnTo>
                    <a:pt x="76" y="0"/>
                  </a:lnTo>
                  <a:lnTo>
                    <a:pt x="78" y="1"/>
                  </a:lnTo>
                  <a:lnTo>
                    <a:pt x="79" y="1"/>
                  </a:lnTo>
                  <a:lnTo>
                    <a:pt x="7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852560" y="2701800"/>
              <a:ext cx="49320" cy="27000"/>
            </a:xfrm>
            <a:custGeom>
              <a:avLst/>
              <a:gdLst/>
              <a:ahLst/>
              <a:rect l="l" t="t" r="r" b="b"/>
              <a:pathLst>
                <a:path w="70" h="41">
                  <a:moveTo>
                    <a:pt x="70" y="0"/>
                  </a:moveTo>
                  <a:lnTo>
                    <a:pt x="68" y="5"/>
                  </a:lnTo>
                  <a:lnTo>
                    <a:pt x="67" y="7"/>
                  </a:lnTo>
                  <a:lnTo>
                    <a:pt x="65" y="9"/>
                  </a:lnTo>
                  <a:lnTo>
                    <a:pt x="62" y="9"/>
                  </a:lnTo>
                  <a:lnTo>
                    <a:pt x="58" y="9"/>
                  </a:lnTo>
                  <a:lnTo>
                    <a:pt x="55" y="9"/>
                  </a:lnTo>
                  <a:lnTo>
                    <a:pt x="53" y="11"/>
                  </a:lnTo>
                  <a:lnTo>
                    <a:pt x="50" y="12"/>
                  </a:lnTo>
                  <a:lnTo>
                    <a:pt x="5" y="41"/>
                  </a:lnTo>
                  <a:lnTo>
                    <a:pt x="3" y="40"/>
                  </a:lnTo>
                  <a:lnTo>
                    <a:pt x="1" y="40"/>
                  </a:lnTo>
                  <a:lnTo>
                    <a:pt x="1" y="40"/>
                  </a:lnTo>
                  <a:lnTo>
                    <a:pt x="0" y="38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8" y="28"/>
                  </a:lnTo>
                  <a:lnTo>
                    <a:pt x="17" y="21"/>
                  </a:lnTo>
                  <a:lnTo>
                    <a:pt x="25" y="16"/>
                  </a:lnTo>
                  <a:lnTo>
                    <a:pt x="32" y="11"/>
                  </a:lnTo>
                  <a:lnTo>
                    <a:pt x="41" y="5"/>
                  </a:lnTo>
                  <a:lnTo>
                    <a:pt x="50" y="2"/>
                  </a:lnTo>
                  <a:lnTo>
                    <a:pt x="6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838160" y="2716200"/>
              <a:ext cx="90720" cy="209520"/>
            </a:xfrm>
            <a:custGeom>
              <a:avLst/>
              <a:gdLst/>
              <a:ahLst/>
              <a:rect l="l" t="t" r="r" b="b"/>
              <a:pathLst>
                <a:path w="131" h="331">
                  <a:moveTo>
                    <a:pt x="131" y="54"/>
                  </a:moveTo>
                  <a:lnTo>
                    <a:pt x="126" y="58"/>
                  </a:lnTo>
                  <a:lnTo>
                    <a:pt x="120" y="61"/>
                  </a:lnTo>
                  <a:lnTo>
                    <a:pt x="117" y="66"/>
                  </a:lnTo>
                  <a:lnTo>
                    <a:pt x="114" y="71"/>
                  </a:lnTo>
                  <a:lnTo>
                    <a:pt x="110" y="75"/>
                  </a:lnTo>
                  <a:lnTo>
                    <a:pt x="108" y="80"/>
                  </a:lnTo>
                  <a:lnTo>
                    <a:pt x="105" y="85"/>
                  </a:lnTo>
                  <a:lnTo>
                    <a:pt x="102" y="90"/>
                  </a:lnTo>
                  <a:lnTo>
                    <a:pt x="96" y="95"/>
                  </a:lnTo>
                  <a:lnTo>
                    <a:pt x="91" y="100"/>
                  </a:lnTo>
                  <a:lnTo>
                    <a:pt x="86" y="105"/>
                  </a:lnTo>
                  <a:lnTo>
                    <a:pt x="83" y="111"/>
                  </a:lnTo>
                  <a:lnTo>
                    <a:pt x="77" y="116"/>
                  </a:lnTo>
                  <a:lnTo>
                    <a:pt x="72" y="121"/>
                  </a:lnTo>
                  <a:lnTo>
                    <a:pt x="67" y="126"/>
                  </a:lnTo>
                  <a:lnTo>
                    <a:pt x="62" y="129"/>
                  </a:lnTo>
                  <a:lnTo>
                    <a:pt x="58" y="148"/>
                  </a:lnTo>
                  <a:lnTo>
                    <a:pt x="55" y="167"/>
                  </a:lnTo>
                  <a:lnTo>
                    <a:pt x="50" y="186"/>
                  </a:lnTo>
                  <a:lnTo>
                    <a:pt x="46" y="205"/>
                  </a:lnTo>
                  <a:lnTo>
                    <a:pt x="46" y="215"/>
                  </a:lnTo>
                  <a:lnTo>
                    <a:pt x="45" y="225"/>
                  </a:lnTo>
                  <a:lnTo>
                    <a:pt x="46" y="234"/>
                  </a:lnTo>
                  <a:lnTo>
                    <a:pt x="48" y="242"/>
                  </a:lnTo>
                  <a:lnTo>
                    <a:pt x="52" y="251"/>
                  </a:lnTo>
                  <a:lnTo>
                    <a:pt x="57" y="259"/>
                  </a:lnTo>
                  <a:lnTo>
                    <a:pt x="62" y="266"/>
                  </a:lnTo>
                  <a:lnTo>
                    <a:pt x="71" y="273"/>
                  </a:lnTo>
                  <a:lnTo>
                    <a:pt x="89" y="293"/>
                  </a:lnTo>
                  <a:lnTo>
                    <a:pt x="83" y="297"/>
                  </a:lnTo>
                  <a:lnTo>
                    <a:pt x="77" y="302"/>
                  </a:lnTo>
                  <a:lnTo>
                    <a:pt x="71" y="307"/>
                  </a:lnTo>
                  <a:lnTo>
                    <a:pt x="65" y="310"/>
                  </a:lnTo>
                  <a:lnTo>
                    <a:pt x="60" y="316"/>
                  </a:lnTo>
                  <a:lnTo>
                    <a:pt x="53" y="321"/>
                  </a:lnTo>
                  <a:lnTo>
                    <a:pt x="48" y="326"/>
                  </a:lnTo>
                  <a:lnTo>
                    <a:pt x="43" y="331"/>
                  </a:lnTo>
                  <a:lnTo>
                    <a:pt x="34" y="319"/>
                  </a:lnTo>
                  <a:lnTo>
                    <a:pt x="27" y="305"/>
                  </a:lnTo>
                  <a:lnTo>
                    <a:pt x="22" y="293"/>
                  </a:lnTo>
                  <a:lnTo>
                    <a:pt x="17" y="280"/>
                  </a:lnTo>
                  <a:lnTo>
                    <a:pt x="14" y="264"/>
                  </a:lnTo>
                  <a:lnTo>
                    <a:pt x="10" y="251"/>
                  </a:lnTo>
                  <a:lnTo>
                    <a:pt x="7" y="237"/>
                  </a:lnTo>
                  <a:lnTo>
                    <a:pt x="3" y="223"/>
                  </a:lnTo>
                  <a:lnTo>
                    <a:pt x="3" y="220"/>
                  </a:lnTo>
                  <a:lnTo>
                    <a:pt x="3" y="215"/>
                  </a:lnTo>
                  <a:lnTo>
                    <a:pt x="5" y="210"/>
                  </a:lnTo>
                  <a:lnTo>
                    <a:pt x="5" y="206"/>
                  </a:lnTo>
                  <a:lnTo>
                    <a:pt x="5" y="201"/>
                  </a:lnTo>
                  <a:lnTo>
                    <a:pt x="3" y="198"/>
                  </a:lnTo>
                  <a:lnTo>
                    <a:pt x="2" y="194"/>
                  </a:lnTo>
                  <a:lnTo>
                    <a:pt x="0" y="191"/>
                  </a:lnTo>
                  <a:lnTo>
                    <a:pt x="2" y="167"/>
                  </a:lnTo>
                  <a:lnTo>
                    <a:pt x="3" y="143"/>
                  </a:lnTo>
                  <a:lnTo>
                    <a:pt x="7" y="119"/>
                  </a:lnTo>
                  <a:lnTo>
                    <a:pt x="12" y="97"/>
                  </a:lnTo>
                  <a:lnTo>
                    <a:pt x="15" y="85"/>
                  </a:lnTo>
                  <a:lnTo>
                    <a:pt x="19" y="73"/>
                  </a:lnTo>
                  <a:lnTo>
                    <a:pt x="24" y="63"/>
                  </a:lnTo>
                  <a:lnTo>
                    <a:pt x="31" y="53"/>
                  </a:lnTo>
                  <a:lnTo>
                    <a:pt x="38" y="44"/>
                  </a:lnTo>
                  <a:lnTo>
                    <a:pt x="46" y="35"/>
                  </a:lnTo>
                  <a:lnTo>
                    <a:pt x="57" y="27"/>
                  </a:lnTo>
                  <a:lnTo>
                    <a:pt x="69" y="20"/>
                  </a:lnTo>
                  <a:lnTo>
                    <a:pt x="74" y="18"/>
                  </a:lnTo>
                  <a:lnTo>
                    <a:pt x="81" y="17"/>
                  </a:lnTo>
                  <a:lnTo>
                    <a:pt x="86" y="15"/>
                  </a:lnTo>
                  <a:lnTo>
                    <a:pt x="91" y="13"/>
                  </a:lnTo>
                  <a:lnTo>
                    <a:pt x="98" y="10"/>
                  </a:lnTo>
                  <a:lnTo>
                    <a:pt x="103" y="6"/>
                  </a:lnTo>
                  <a:lnTo>
                    <a:pt x="108" y="3"/>
                  </a:lnTo>
                  <a:lnTo>
                    <a:pt x="114" y="0"/>
                  </a:lnTo>
                  <a:lnTo>
                    <a:pt x="115" y="6"/>
                  </a:lnTo>
                  <a:lnTo>
                    <a:pt x="117" y="13"/>
                  </a:lnTo>
                  <a:lnTo>
                    <a:pt x="119" y="20"/>
                  </a:lnTo>
                  <a:lnTo>
                    <a:pt x="122" y="27"/>
                  </a:lnTo>
                  <a:lnTo>
                    <a:pt x="124" y="34"/>
                  </a:lnTo>
                  <a:lnTo>
                    <a:pt x="126" y="41"/>
                  </a:lnTo>
                  <a:lnTo>
                    <a:pt x="129" y="47"/>
                  </a:lnTo>
                  <a:lnTo>
                    <a:pt x="131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349280" y="2743200"/>
              <a:ext cx="451080" cy="442800"/>
            </a:xfrm>
            <a:custGeom>
              <a:avLst/>
              <a:gdLst/>
              <a:ahLst/>
              <a:rect l="l" t="t" r="r" b="b"/>
              <a:pathLst>
                <a:path w="657" h="697">
                  <a:moveTo>
                    <a:pt x="557" y="53"/>
                  </a:moveTo>
                  <a:lnTo>
                    <a:pt x="558" y="58"/>
                  </a:lnTo>
                  <a:lnTo>
                    <a:pt x="560" y="63"/>
                  </a:lnTo>
                  <a:lnTo>
                    <a:pt x="560" y="68"/>
                  </a:lnTo>
                  <a:lnTo>
                    <a:pt x="562" y="73"/>
                  </a:lnTo>
                  <a:lnTo>
                    <a:pt x="562" y="79"/>
                  </a:lnTo>
                  <a:lnTo>
                    <a:pt x="562" y="84"/>
                  </a:lnTo>
                  <a:lnTo>
                    <a:pt x="560" y="89"/>
                  </a:lnTo>
                  <a:lnTo>
                    <a:pt x="560" y="94"/>
                  </a:lnTo>
                  <a:lnTo>
                    <a:pt x="557" y="96"/>
                  </a:lnTo>
                  <a:lnTo>
                    <a:pt x="555" y="97"/>
                  </a:lnTo>
                  <a:lnTo>
                    <a:pt x="555" y="101"/>
                  </a:lnTo>
                  <a:lnTo>
                    <a:pt x="555" y="102"/>
                  </a:lnTo>
                  <a:lnTo>
                    <a:pt x="555" y="106"/>
                  </a:lnTo>
                  <a:lnTo>
                    <a:pt x="557" y="109"/>
                  </a:lnTo>
                  <a:lnTo>
                    <a:pt x="557" y="113"/>
                  </a:lnTo>
                  <a:lnTo>
                    <a:pt x="557" y="114"/>
                  </a:lnTo>
                  <a:lnTo>
                    <a:pt x="553" y="113"/>
                  </a:lnTo>
                  <a:lnTo>
                    <a:pt x="550" y="109"/>
                  </a:lnTo>
                  <a:lnTo>
                    <a:pt x="548" y="106"/>
                  </a:lnTo>
                  <a:lnTo>
                    <a:pt x="546" y="101"/>
                  </a:lnTo>
                  <a:lnTo>
                    <a:pt x="545" y="97"/>
                  </a:lnTo>
                  <a:lnTo>
                    <a:pt x="543" y="94"/>
                  </a:lnTo>
                  <a:lnTo>
                    <a:pt x="541" y="91"/>
                  </a:lnTo>
                  <a:lnTo>
                    <a:pt x="539" y="87"/>
                  </a:lnTo>
                  <a:lnTo>
                    <a:pt x="538" y="87"/>
                  </a:lnTo>
                  <a:lnTo>
                    <a:pt x="536" y="87"/>
                  </a:lnTo>
                  <a:lnTo>
                    <a:pt x="536" y="87"/>
                  </a:lnTo>
                  <a:lnTo>
                    <a:pt x="534" y="87"/>
                  </a:lnTo>
                  <a:lnTo>
                    <a:pt x="534" y="89"/>
                  </a:lnTo>
                  <a:lnTo>
                    <a:pt x="533" y="89"/>
                  </a:lnTo>
                  <a:lnTo>
                    <a:pt x="533" y="89"/>
                  </a:lnTo>
                  <a:lnTo>
                    <a:pt x="531" y="91"/>
                  </a:lnTo>
                  <a:lnTo>
                    <a:pt x="533" y="99"/>
                  </a:lnTo>
                  <a:lnTo>
                    <a:pt x="534" y="108"/>
                  </a:lnTo>
                  <a:lnTo>
                    <a:pt x="538" y="116"/>
                  </a:lnTo>
                  <a:lnTo>
                    <a:pt x="543" y="123"/>
                  </a:lnTo>
                  <a:lnTo>
                    <a:pt x="553" y="133"/>
                  </a:lnTo>
                  <a:lnTo>
                    <a:pt x="567" y="143"/>
                  </a:lnTo>
                  <a:lnTo>
                    <a:pt x="581" y="154"/>
                  </a:lnTo>
                  <a:lnTo>
                    <a:pt x="596" y="162"/>
                  </a:lnTo>
                  <a:lnTo>
                    <a:pt x="608" y="174"/>
                  </a:lnTo>
                  <a:lnTo>
                    <a:pt x="620" y="186"/>
                  </a:lnTo>
                  <a:lnTo>
                    <a:pt x="629" y="200"/>
                  </a:lnTo>
                  <a:lnTo>
                    <a:pt x="636" y="214"/>
                  </a:lnTo>
                  <a:lnTo>
                    <a:pt x="641" y="227"/>
                  </a:lnTo>
                  <a:lnTo>
                    <a:pt x="646" y="243"/>
                  </a:lnTo>
                  <a:lnTo>
                    <a:pt x="648" y="256"/>
                  </a:lnTo>
                  <a:lnTo>
                    <a:pt x="650" y="272"/>
                  </a:lnTo>
                  <a:lnTo>
                    <a:pt x="650" y="287"/>
                  </a:lnTo>
                  <a:lnTo>
                    <a:pt x="648" y="301"/>
                  </a:lnTo>
                  <a:lnTo>
                    <a:pt x="646" y="306"/>
                  </a:lnTo>
                  <a:lnTo>
                    <a:pt x="643" y="311"/>
                  </a:lnTo>
                  <a:lnTo>
                    <a:pt x="641" y="316"/>
                  </a:lnTo>
                  <a:lnTo>
                    <a:pt x="639" y="321"/>
                  </a:lnTo>
                  <a:lnTo>
                    <a:pt x="636" y="326"/>
                  </a:lnTo>
                  <a:lnTo>
                    <a:pt x="634" y="331"/>
                  </a:lnTo>
                  <a:lnTo>
                    <a:pt x="629" y="337"/>
                  </a:lnTo>
                  <a:lnTo>
                    <a:pt x="626" y="340"/>
                  </a:lnTo>
                  <a:lnTo>
                    <a:pt x="626" y="345"/>
                  </a:lnTo>
                  <a:lnTo>
                    <a:pt x="624" y="348"/>
                  </a:lnTo>
                  <a:lnTo>
                    <a:pt x="620" y="352"/>
                  </a:lnTo>
                  <a:lnTo>
                    <a:pt x="617" y="355"/>
                  </a:lnTo>
                  <a:lnTo>
                    <a:pt x="614" y="359"/>
                  </a:lnTo>
                  <a:lnTo>
                    <a:pt x="614" y="360"/>
                  </a:lnTo>
                  <a:lnTo>
                    <a:pt x="617" y="362"/>
                  </a:lnTo>
                  <a:lnTo>
                    <a:pt x="624" y="362"/>
                  </a:lnTo>
                  <a:lnTo>
                    <a:pt x="636" y="352"/>
                  </a:lnTo>
                  <a:lnTo>
                    <a:pt x="641" y="359"/>
                  </a:lnTo>
                  <a:lnTo>
                    <a:pt x="646" y="367"/>
                  </a:lnTo>
                  <a:lnTo>
                    <a:pt x="650" y="376"/>
                  </a:lnTo>
                  <a:lnTo>
                    <a:pt x="653" y="384"/>
                  </a:lnTo>
                  <a:lnTo>
                    <a:pt x="657" y="401"/>
                  </a:lnTo>
                  <a:lnTo>
                    <a:pt x="657" y="420"/>
                  </a:lnTo>
                  <a:lnTo>
                    <a:pt x="657" y="437"/>
                  </a:lnTo>
                  <a:lnTo>
                    <a:pt x="653" y="456"/>
                  </a:lnTo>
                  <a:lnTo>
                    <a:pt x="650" y="475"/>
                  </a:lnTo>
                  <a:lnTo>
                    <a:pt x="648" y="492"/>
                  </a:lnTo>
                  <a:lnTo>
                    <a:pt x="643" y="506"/>
                  </a:lnTo>
                  <a:lnTo>
                    <a:pt x="636" y="518"/>
                  </a:lnTo>
                  <a:lnTo>
                    <a:pt x="629" y="530"/>
                  </a:lnTo>
                  <a:lnTo>
                    <a:pt x="620" y="542"/>
                  </a:lnTo>
                  <a:lnTo>
                    <a:pt x="612" y="554"/>
                  </a:lnTo>
                  <a:lnTo>
                    <a:pt x="602" y="564"/>
                  </a:lnTo>
                  <a:lnTo>
                    <a:pt x="589" y="574"/>
                  </a:lnTo>
                  <a:lnTo>
                    <a:pt x="577" y="581"/>
                  </a:lnTo>
                  <a:lnTo>
                    <a:pt x="577" y="572"/>
                  </a:lnTo>
                  <a:lnTo>
                    <a:pt x="576" y="562"/>
                  </a:lnTo>
                  <a:lnTo>
                    <a:pt x="576" y="552"/>
                  </a:lnTo>
                  <a:lnTo>
                    <a:pt x="576" y="543"/>
                  </a:lnTo>
                  <a:lnTo>
                    <a:pt x="576" y="533"/>
                  </a:lnTo>
                  <a:lnTo>
                    <a:pt x="576" y="523"/>
                  </a:lnTo>
                  <a:lnTo>
                    <a:pt x="576" y="513"/>
                  </a:lnTo>
                  <a:lnTo>
                    <a:pt x="577" y="504"/>
                  </a:lnTo>
                  <a:lnTo>
                    <a:pt x="576" y="502"/>
                  </a:lnTo>
                  <a:lnTo>
                    <a:pt x="574" y="502"/>
                  </a:lnTo>
                  <a:lnTo>
                    <a:pt x="574" y="502"/>
                  </a:lnTo>
                  <a:lnTo>
                    <a:pt x="572" y="502"/>
                  </a:lnTo>
                  <a:lnTo>
                    <a:pt x="570" y="502"/>
                  </a:lnTo>
                  <a:lnTo>
                    <a:pt x="569" y="504"/>
                  </a:lnTo>
                  <a:lnTo>
                    <a:pt x="569" y="506"/>
                  </a:lnTo>
                  <a:lnTo>
                    <a:pt x="567" y="506"/>
                  </a:lnTo>
                  <a:lnTo>
                    <a:pt x="567" y="516"/>
                  </a:lnTo>
                  <a:lnTo>
                    <a:pt x="567" y="526"/>
                  </a:lnTo>
                  <a:lnTo>
                    <a:pt x="567" y="536"/>
                  </a:lnTo>
                  <a:lnTo>
                    <a:pt x="567" y="548"/>
                  </a:lnTo>
                  <a:lnTo>
                    <a:pt x="565" y="559"/>
                  </a:lnTo>
                  <a:lnTo>
                    <a:pt x="565" y="569"/>
                  </a:lnTo>
                  <a:lnTo>
                    <a:pt x="565" y="579"/>
                  </a:lnTo>
                  <a:lnTo>
                    <a:pt x="564" y="589"/>
                  </a:lnTo>
                  <a:lnTo>
                    <a:pt x="564" y="591"/>
                  </a:lnTo>
                  <a:lnTo>
                    <a:pt x="562" y="591"/>
                  </a:lnTo>
                  <a:lnTo>
                    <a:pt x="560" y="591"/>
                  </a:lnTo>
                  <a:lnTo>
                    <a:pt x="558" y="593"/>
                  </a:lnTo>
                  <a:lnTo>
                    <a:pt x="557" y="593"/>
                  </a:lnTo>
                  <a:lnTo>
                    <a:pt x="555" y="595"/>
                  </a:lnTo>
                  <a:lnTo>
                    <a:pt x="555" y="596"/>
                  </a:lnTo>
                  <a:lnTo>
                    <a:pt x="555" y="598"/>
                  </a:lnTo>
                  <a:lnTo>
                    <a:pt x="564" y="603"/>
                  </a:lnTo>
                  <a:lnTo>
                    <a:pt x="560" y="617"/>
                  </a:lnTo>
                  <a:lnTo>
                    <a:pt x="557" y="629"/>
                  </a:lnTo>
                  <a:lnTo>
                    <a:pt x="550" y="641"/>
                  </a:lnTo>
                  <a:lnTo>
                    <a:pt x="541" y="651"/>
                  </a:lnTo>
                  <a:lnTo>
                    <a:pt x="531" y="661"/>
                  </a:lnTo>
                  <a:lnTo>
                    <a:pt x="520" y="670"/>
                  </a:lnTo>
                  <a:lnTo>
                    <a:pt x="510" y="677"/>
                  </a:lnTo>
                  <a:lnTo>
                    <a:pt x="498" y="683"/>
                  </a:lnTo>
                  <a:lnTo>
                    <a:pt x="484" y="688"/>
                  </a:lnTo>
                  <a:lnTo>
                    <a:pt x="471" y="692"/>
                  </a:lnTo>
                  <a:lnTo>
                    <a:pt x="457" y="695"/>
                  </a:lnTo>
                  <a:lnTo>
                    <a:pt x="443" y="697"/>
                  </a:lnTo>
                  <a:lnTo>
                    <a:pt x="429" y="697"/>
                  </a:lnTo>
                  <a:lnTo>
                    <a:pt x="415" y="695"/>
                  </a:lnTo>
                  <a:lnTo>
                    <a:pt x="402" y="694"/>
                  </a:lnTo>
                  <a:lnTo>
                    <a:pt x="388" y="690"/>
                  </a:lnTo>
                  <a:lnTo>
                    <a:pt x="374" y="687"/>
                  </a:lnTo>
                  <a:lnTo>
                    <a:pt x="360" y="682"/>
                  </a:lnTo>
                  <a:lnTo>
                    <a:pt x="346" y="677"/>
                  </a:lnTo>
                  <a:lnTo>
                    <a:pt x="334" y="670"/>
                  </a:lnTo>
                  <a:lnTo>
                    <a:pt x="308" y="656"/>
                  </a:lnTo>
                  <a:lnTo>
                    <a:pt x="286" y="639"/>
                  </a:lnTo>
                  <a:lnTo>
                    <a:pt x="271" y="622"/>
                  </a:lnTo>
                  <a:lnTo>
                    <a:pt x="257" y="606"/>
                  </a:lnTo>
                  <a:lnTo>
                    <a:pt x="243" y="589"/>
                  </a:lnTo>
                  <a:lnTo>
                    <a:pt x="227" y="572"/>
                  </a:lnTo>
                  <a:lnTo>
                    <a:pt x="214" y="557"/>
                  </a:lnTo>
                  <a:lnTo>
                    <a:pt x="196" y="542"/>
                  </a:lnTo>
                  <a:lnTo>
                    <a:pt x="181" y="528"/>
                  </a:lnTo>
                  <a:lnTo>
                    <a:pt x="162" y="516"/>
                  </a:lnTo>
                  <a:lnTo>
                    <a:pt x="133" y="499"/>
                  </a:lnTo>
                  <a:lnTo>
                    <a:pt x="107" y="480"/>
                  </a:lnTo>
                  <a:lnTo>
                    <a:pt x="83" y="458"/>
                  </a:lnTo>
                  <a:lnTo>
                    <a:pt x="60" y="434"/>
                  </a:lnTo>
                  <a:lnTo>
                    <a:pt x="40" y="407"/>
                  </a:lnTo>
                  <a:lnTo>
                    <a:pt x="22" y="379"/>
                  </a:lnTo>
                  <a:lnTo>
                    <a:pt x="15" y="366"/>
                  </a:lnTo>
                  <a:lnTo>
                    <a:pt x="10" y="350"/>
                  </a:lnTo>
                  <a:lnTo>
                    <a:pt x="3" y="337"/>
                  </a:lnTo>
                  <a:lnTo>
                    <a:pt x="0" y="321"/>
                  </a:lnTo>
                  <a:lnTo>
                    <a:pt x="7" y="325"/>
                  </a:lnTo>
                  <a:lnTo>
                    <a:pt x="12" y="328"/>
                  </a:lnTo>
                  <a:lnTo>
                    <a:pt x="17" y="333"/>
                  </a:lnTo>
                  <a:lnTo>
                    <a:pt x="22" y="337"/>
                  </a:lnTo>
                  <a:lnTo>
                    <a:pt x="28" y="342"/>
                  </a:lnTo>
                  <a:lnTo>
                    <a:pt x="34" y="345"/>
                  </a:lnTo>
                  <a:lnTo>
                    <a:pt x="40" y="348"/>
                  </a:lnTo>
                  <a:lnTo>
                    <a:pt x="48" y="348"/>
                  </a:lnTo>
                  <a:lnTo>
                    <a:pt x="60" y="347"/>
                  </a:lnTo>
                  <a:lnTo>
                    <a:pt x="72" y="345"/>
                  </a:lnTo>
                  <a:lnTo>
                    <a:pt x="84" y="343"/>
                  </a:lnTo>
                  <a:lnTo>
                    <a:pt x="96" y="342"/>
                  </a:lnTo>
                  <a:lnTo>
                    <a:pt x="109" y="340"/>
                  </a:lnTo>
                  <a:lnTo>
                    <a:pt x="119" y="337"/>
                  </a:lnTo>
                  <a:lnTo>
                    <a:pt x="131" y="333"/>
                  </a:lnTo>
                  <a:lnTo>
                    <a:pt x="141" y="328"/>
                  </a:lnTo>
                  <a:lnTo>
                    <a:pt x="148" y="325"/>
                  </a:lnTo>
                  <a:lnTo>
                    <a:pt x="155" y="321"/>
                  </a:lnTo>
                  <a:lnTo>
                    <a:pt x="162" y="319"/>
                  </a:lnTo>
                  <a:lnTo>
                    <a:pt x="169" y="318"/>
                  </a:lnTo>
                  <a:lnTo>
                    <a:pt x="184" y="318"/>
                  </a:lnTo>
                  <a:lnTo>
                    <a:pt x="200" y="319"/>
                  </a:lnTo>
                  <a:lnTo>
                    <a:pt x="214" y="323"/>
                  </a:lnTo>
                  <a:lnTo>
                    <a:pt x="229" y="326"/>
                  </a:lnTo>
                  <a:lnTo>
                    <a:pt x="243" y="328"/>
                  </a:lnTo>
                  <a:lnTo>
                    <a:pt x="257" y="330"/>
                  </a:lnTo>
                  <a:lnTo>
                    <a:pt x="264" y="335"/>
                  </a:lnTo>
                  <a:lnTo>
                    <a:pt x="271" y="338"/>
                  </a:lnTo>
                  <a:lnTo>
                    <a:pt x="279" y="342"/>
                  </a:lnTo>
                  <a:lnTo>
                    <a:pt x="286" y="345"/>
                  </a:lnTo>
                  <a:lnTo>
                    <a:pt x="293" y="348"/>
                  </a:lnTo>
                  <a:lnTo>
                    <a:pt x="302" y="350"/>
                  </a:lnTo>
                  <a:lnTo>
                    <a:pt x="308" y="354"/>
                  </a:lnTo>
                  <a:lnTo>
                    <a:pt x="317" y="357"/>
                  </a:lnTo>
                  <a:lnTo>
                    <a:pt x="322" y="354"/>
                  </a:lnTo>
                  <a:lnTo>
                    <a:pt x="327" y="348"/>
                  </a:lnTo>
                  <a:lnTo>
                    <a:pt x="329" y="342"/>
                  </a:lnTo>
                  <a:lnTo>
                    <a:pt x="333" y="335"/>
                  </a:lnTo>
                  <a:lnTo>
                    <a:pt x="334" y="328"/>
                  </a:lnTo>
                  <a:lnTo>
                    <a:pt x="336" y="323"/>
                  </a:lnTo>
                  <a:lnTo>
                    <a:pt x="338" y="316"/>
                  </a:lnTo>
                  <a:lnTo>
                    <a:pt x="340" y="309"/>
                  </a:lnTo>
                  <a:lnTo>
                    <a:pt x="340" y="296"/>
                  </a:lnTo>
                  <a:lnTo>
                    <a:pt x="340" y="284"/>
                  </a:lnTo>
                  <a:lnTo>
                    <a:pt x="341" y="270"/>
                  </a:lnTo>
                  <a:lnTo>
                    <a:pt x="343" y="256"/>
                  </a:lnTo>
                  <a:lnTo>
                    <a:pt x="348" y="231"/>
                  </a:lnTo>
                  <a:lnTo>
                    <a:pt x="357" y="205"/>
                  </a:lnTo>
                  <a:lnTo>
                    <a:pt x="364" y="179"/>
                  </a:lnTo>
                  <a:lnTo>
                    <a:pt x="372" y="154"/>
                  </a:lnTo>
                  <a:lnTo>
                    <a:pt x="379" y="126"/>
                  </a:lnTo>
                  <a:lnTo>
                    <a:pt x="383" y="101"/>
                  </a:lnTo>
                  <a:lnTo>
                    <a:pt x="383" y="92"/>
                  </a:lnTo>
                  <a:lnTo>
                    <a:pt x="383" y="85"/>
                  </a:lnTo>
                  <a:lnTo>
                    <a:pt x="384" y="80"/>
                  </a:lnTo>
                  <a:lnTo>
                    <a:pt x="386" y="75"/>
                  </a:lnTo>
                  <a:lnTo>
                    <a:pt x="391" y="65"/>
                  </a:lnTo>
                  <a:lnTo>
                    <a:pt x="400" y="56"/>
                  </a:lnTo>
                  <a:lnTo>
                    <a:pt x="410" y="48"/>
                  </a:lnTo>
                  <a:lnTo>
                    <a:pt x="419" y="41"/>
                  </a:lnTo>
                  <a:lnTo>
                    <a:pt x="429" y="32"/>
                  </a:lnTo>
                  <a:lnTo>
                    <a:pt x="438" y="24"/>
                  </a:lnTo>
                  <a:lnTo>
                    <a:pt x="443" y="20"/>
                  </a:lnTo>
                  <a:lnTo>
                    <a:pt x="448" y="17"/>
                  </a:lnTo>
                  <a:lnTo>
                    <a:pt x="453" y="14"/>
                  </a:lnTo>
                  <a:lnTo>
                    <a:pt x="460" y="12"/>
                  </a:lnTo>
                  <a:lnTo>
                    <a:pt x="465" y="9"/>
                  </a:lnTo>
                  <a:lnTo>
                    <a:pt x="472" y="7"/>
                  </a:lnTo>
                  <a:lnTo>
                    <a:pt x="477" y="3"/>
                  </a:lnTo>
                  <a:lnTo>
                    <a:pt x="483" y="0"/>
                  </a:lnTo>
                  <a:lnTo>
                    <a:pt x="495" y="0"/>
                  </a:lnTo>
                  <a:lnTo>
                    <a:pt x="507" y="2"/>
                  </a:lnTo>
                  <a:lnTo>
                    <a:pt x="519" y="7"/>
                  </a:lnTo>
                  <a:lnTo>
                    <a:pt x="531" y="12"/>
                  </a:lnTo>
                  <a:lnTo>
                    <a:pt x="539" y="20"/>
                  </a:lnTo>
                  <a:lnTo>
                    <a:pt x="548" y="31"/>
                  </a:lnTo>
                  <a:lnTo>
                    <a:pt x="553" y="41"/>
                  </a:lnTo>
                  <a:lnTo>
                    <a:pt x="557" y="5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876320" y="2755800"/>
              <a:ext cx="76320" cy="141480"/>
            </a:xfrm>
            <a:custGeom>
              <a:avLst/>
              <a:gdLst/>
              <a:ahLst/>
              <a:rect l="l" t="t" r="r" b="b"/>
              <a:pathLst>
                <a:path w="108" h="224">
                  <a:moveTo>
                    <a:pt x="107" y="87"/>
                  </a:moveTo>
                  <a:lnTo>
                    <a:pt x="108" y="97"/>
                  </a:lnTo>
                  <a:lnTo>
                    <a:pt x="108" y="107"/>
                  </a:lnTo>
                  <a:lnTo>
                    <a:pt x="107" y="118"/>
                  </a:lnTo>
                  <a:lnTo>
                    <a:pt x="103" y="128"/>
                  </a:lnTo>
                  <a:lnTo>
                    <a:pt x="100" y="138"/>
                  </a:lnTo>
                  <a:lnTo>
                    <a:pt x="95" y="148"/>
                  </a:lnTo>
                  <a:lnTo>
                    <a:pt x="89" y="159"/>
                  </a:lnTo>
                  <a:lnTo>
                    <a:pt x="86" y="167"/>
                  </a:lnTo>
                  <a:lnTo>
                    <a:pt x="81" y="174"/>
                  </a:lnTo>
                  <a:lnTo>
                    <a:pt x="76" y="181"/>
                  </a:lnTo>
                  <a:lnTo>
                    <a:pt x="70" y="189"/>
                  </a:lnTo>
                  <a:lnTo>
                    <a:pt x="65" y="196"/>
                  </a:lnTo>
                  <a:lnTo>
                    <a:pt x="60" y="205"/>
                  </a:lnTo>
                  <a:lnTo>
                    <a:pt x="55" y="212"/>
                  </a:lnTo>
                  <a:lnTo>
                    <a:pt x="50" y="218"/>
                  </a:lnTo>
                  <a:lnTo>
                    <a:pt x="43" y="224"/>
                  </a:lnTo>
                  <a:lnTo>
                    <a:pt x="38" y="217"/>
                  </a:lnTo>
                  <a:lnTo>
                    <a:pt x="32" y="212"/>
                  </a:lnTo>
                  <a:lnTo>
                    <a:pt x="26" y="205"/>
                  </a:lnTo>
                  <a:lnTo>
                    <a:pt x="20" y="200"/>
                  </a:lnTo>
                  <a:lnTo>
                    <a:pt x="14" y="193"/>
                  </a:lnTo>
                  <a:lnTo>
                    <a:pt x="8" y="186"/>
                  </a:lnTo>
                  <a:lnTo>
                    <a:pt x="5" y="179"/>
                  </a:lnTo>
                  <a:lnTo>
                    <a:pt x="1" y="172"/>
                  </a:lnTo>
                  <a:lnTo>
                    <a:pt x="0" y="160"/>
                  </a:lnTo>
                  <a:lnTo>
                    <a:pt x="0" y="148"/>
                  </a:lnTo>
                  <a:lnTo>
                    <a:pt x="1" y="135"/>
                  </a:lnTo>
                  <a:lnTo>
                    <a:pt x="3" y="123"/>
                  </a:lnTo>
                  <a:lnTo>
                    <a:pt x="7" y="111"/>
                  </a:lnTo>
                  <a:lnTo>
                    <a:pt x="10" y="99"/>
                  </a:lnTo>
                  <a:lnTo>
                    <a:pt x="12" y="87"/>
                  </a:lnTo>
                  <a:lnTo>
                    <a:pt x="14" y="75"/>
                  </a:lnTo>
                  <a:lnTo>
                    <a:pt x="26" y="66"/>
                  </a:lnTo>
                  <a:lnTo>
                    <a:pt x="31" y="58"/>
                  </a:lnTo>
                  <a:lnTo>
                    <a:pt x="38" y="49"/>
                  </a:lnTo>
                  <a:lnTo>
                    <a:pt x="46" y="42"/>
                  </a:lnTo>
                  <a:lnTo>
                    <a:pt x="53" y="34"/>
                  </a:lnTo>
                  <a:lnTo>
                    <a:pt x="60" y="27"/>
                  </a:lnTo>
                  <a:lnTo>
                    <a:pt x="67" y="19"/>
                  </a:lnTo>
                  <a:lnTo>
                    <a:pt x="72" y="10"/>
                  </a:lnTo>
                  <a:lnTo>
                    <a:pt x="76" y="0"/>
                  </a:lnTo>
                  <a:lnTo>
                    <a:pt x="79" y="10"/>
                  </a:lnTo>
                  <a:lnTo>
                    <a:pt x="82" y="20"/>
                  </a:lnTo>
                  <a:lnTo>
                    <a:pt x="86" y="32"/>
                  </a:lnTo>
                  <a:lnTo>
                    <a:pt x="89" y="42"/>
                  </a:lnTo>
                  <a:lnTo>
                    <a:pt x="93" y="54"/>
                  </a:lnTo>
                  <a:lnTo>
                    <a:pt x="98" y="65"/>
                  </a:lnTo>
                  <a:lnTo>
                    <a:pt x="101" y="77"/>
                  </a:lnTo>
                  <a:lnTo>
                    <a:pt x="107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738440" y="2763720"/>
              <a:ext cx="64800" cy="84240"/>
            </a:xfrm>
            <a:custGeom>
              <a:avLst/>
              <a:gdLst/>
              <a:ahLst/>
              <a:rect l="l" t="t" r="r" b="b"/>
              <a:pathLst>
                <a:path w="93" h="134">
                  <a:moveTo>
                    <a:pt x="67" y="24"/>
                  </a:moveTo>
                  <a:lnTo>
                    <a:pt x="69" y="29"/>
                  </a:lnTo>
                  <a:lnTo>
                    <a:pt x="71" y="35"/>
                  </a:lnTo>
                  <a:lnTo>
                    <a:pt x="72" y="40"/>
                  </a:lnTo>
                  <a:lnTo>
                    <a:pt x="76" y="45"/>
                  </a:lnTo>
                  <a:lnTo>
                    <a:pt x="79" y="50"/>
                  </a:lnTo>
                  <a:lnTo>
                    <a:pt x="83" y="55"/>
                  </a:lnTo>
                  <a:lnTo>
                    <a:pt x="88" y="59"/>
                  </a:lnTo>
                  <a:lnTo>
                    <a:pt x="93" y="62"/>
                  </a:lnTo>
                  <a:lnTo>
                    <a:pt x="90" y="72"/>
                  </a:lnTo>
                  <a:lnTo>
                    <a:pt x="86" y="81"/>
                  </a:lnTo>
                  <a:lnTo>
                    <a:pt x="83" y="89"/>
                  </a:lnTo>
                  <a:lnTo>
                    <a:pt x="78" y="98"/>
                  </a:lnTo>
                  <a:lnTo>
                    <a:pt x="72" y="106"/>
                  </a:lnTo>
                  <a:lnTo>
                    <a:pt x="66" y="113"/>
                  </a:lnTo>
                  <a:lnTo>
                    <a:pt x="60" y="122"/>
                  </a:lnTo>
                  <a:lnTo>
                    <a:pt x="57" y="130"/>
                  </a:lnTo>
                  <a:lnTo>
                    <a:pt x="53" y="134"/>
                  </a:lnTo>
                  <a:lnTo>
                    <a:pt x="47" y="129"/>
                  </a:lnTo>
                  <a:lnTo>
                    <a:pt x="41" y="123"/>
                  </a:lnTo>
                  <a:lnTo>
                    <a:pt x="35" y="118"/>
                  </a:lnTo>
                  <a:lnTo>
                    <a:pt x="28" y="115"/>
                  </a:lnTo>
                  <a:lnTo>
                    <a:pt x="21" y="110"/>
                  </a:lnTo>
                  <a:lnTo>
                    <a:pt x="14" y="106"/>
                  </a:lnTo>
                  <a:lnTo>
                    <a:pt x="7" y="101"/>
                  </a:lnTo>
                  <a:lnTo>
                    <a:pt x="0" y="98"/>
                  </a:lnTo>
                  <a:lnTo>
                    <a:pt x="2" y="28"/>
                  </a:lnTo>
                  <a:lnTo>
                    <a:pt x="9" y="24"/>
                  </a:lnTo>
                  <a:lnTo>
                    <a:pt x="14" y="21"/>
                  </a:lnTo>
                  <a:lnTo>
                    <a:pt x="21" y="16"/>
                  </a:lnTo>
                  <a:lnTo>
                    <a:pt x="26" y="11"/>
                  </a:lnTo>
                  <a:lnTo>
                    <a:pt x="33" y="6"/>
                  </a:lnTo>
                  <a:lnTo>
                    <a:pt x="38" y="2"/>
                  </a:lnTo>
                  <a:lnTo>
                    <a:pt x="45" y="0"/>
                  </a:lnTo>
                  <a:lnTo>
                    <a:pt x="53" y="0"/>
                  </a:lnTo>
                  <a:lnTo>
                    <a:pt x="67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782720" y="2786040"/>
              <a:ext cx="79560" cy="200160"/>
            </a:xfrm>
            <a:custGeom>
              <a:avLst/>
              <a:gdLst/>
              <a:ahLst/>
              <a:rect l="l" t="t" r="r" b="b"/>
              <a:pathLst>
                <a:path w="115" h="315">
                  <a:moveTo>
                    <a:pt x="74" y="115"/>
                  </a:moveTo>
                  <a:lnTo>
                    <a:pt x="77" y="118"/>
                  </a:lnTo>
                  <a:lnTo>
                    <a:pt x="74" y="128"/>
                  </a:lnTo>
                  <a:lnTo>
                    <a:pt x="76" y="137"/>
                  </a:lnTo>
                  <a:lnTo>
                    <a:pt x="79" y="146"/>
                  </a:lnTo>
                  <a:lnTo>
                    <a:pt x="84" y="154"/>
                  </a:lnTo>
                  <a:lnTo>
                    <a:pt x="89" y="161"/>
                  </a:lnTo>
                  <a:lnTo>
                    <a:pt x="93" y="169"/>
                  </a:lnTo>
                  <a:lnTo>
                    <a:pt x="96" y="178"/>
                  </a:lnTo>
                  <a:lnTo>
                    <a:pt x="96" y="188"/>
                  </a:lnTo>
                  <a:lnTo>
                    <a:pt x="98" y="195"/>
                  </a:lnTo>
                  <a:lnTo>
                    <a:pt x="102" y="200"/>
                  </a:lnTo>
                  <a:lnTo>
                    <a:pt x="107" y="207"/>
                  </a:lnTo>
                  <a:lnTo>
                    <a:pt x="110" y="212"/>
                  </a:lnTo>
                  <a:lnTo>
                    <a:pt x="114" y="219"/>
                  </a:lnTo>
                  <a:lnTo>
                    <a:pt x="115" y="224"/>
                  </a:lnTo>
                  <a:lnTo>
                    <a:pt x="114" y="229"/>
                  </a:lnTo>
                  <a:lnTo>
                    <a:pt x="108" y="236"/>
                  </a:lnTo>
                  <a:lnTo>
                    <a:pt x="100" y="246"/>
                  </a:lnTo>
                  <a:lnTo>
                    <a:pt x="91" y="255"/>
                  </a:lnTo>
                  <a:lnTo>
                    <a:pt x="83" y="265"/>
                  </a:lnTo>
                  <a:lnTo>
                    <a:pt x="72" y="275"/>
                  </a:lnTo>
                  <a:lnTo>
                    <a:pt x="64" y="286"/>
                  </a:lnTo>
                  <a:lnTo>
                    <a:pt x="55" y="294"/>
                  </a:lnTo>
                  <a:lnTo>
                    <a:pt x="45" y="304"/>
                  </a:lnTo>
                  <a:lnTo>
                    <a:pt x="38" y="315"/>
                  </a:lnTo>
                  <a:lnTo>
                    <a:pt x="34" y="315"/>
                  </a:lnTo>
                  <a:lnTo>
                    <a:pt x="33" y="310"/>
                  </a:lnTo>
                  <a:lnTo>
                    <a:pt x="29" y="303"/>
                  </a:lnTo>
                  <a:lnTo>
                    <a:pt x="27" y="298"/>
                  </a:lnTo>
                  <a:lnTo>
                    <a:pt x="26" y="291"/>
                  </a:lnTo>
                  <a:lnTo>
                    <a:pt x="22" y="286"/>
                  </a:lnTo>
                  <a:lnTo>
                    <a:pt x="19" y="280"/>
                  </a:lnTo>
                  <a:lnTo>
                    <a:pt x="15" y="275"/>
                  </a:lnTo>
                  <a:lnTo>
                    <a:pt x="12" y="270"/>
                  </a:lnTo>
                  <a:lnTo>
                    <a:pt x="20" y="253"/>
                  </a:lnTo>
                  <a:lnTo>
                    <a:pt x="27" y="236"/>
                  </a:lnTo>
                  <a:lnTo>
                    <a:pt x="31" y="217"/>
                  </a:lnTo>
                  <a:lnTo>
                    <a:pt x="31" y="198"/>
                  </a:lnTo>
                  <a:lnTo>
                    <a:pt x="29" y="180"/>
                  </a:lnTo>
                  <a:lnTo>
                    <a:pt x="24" y="161"/>
                  </a:lnTo>
                  <a:lnTo>
                    <a:pt x="17" y="142"/>
                  </a:lnTo>
                  <a:lnTo>
                    <a:pt x="8" y="125"/>
                  </a:lnTo>
                  <a:lnTo>
                    <a:pt x="7" y="123"/>
                  </a:lnTo>
                  <a:lnTo>
                    <a:pt x="5" y="120"/>
                  </a:lnTo>
                  <a:lnTo>
                    <a:pt x="3" y="118"/>
                  </a:lnTo>
                  <a:lnTo>
                    <a:pt x="2" y="115"/>
                  </a:lnTo>
                  <a:lnTo>
                    <a:pt x="0" y="113"/>
                  </a:lnTo>
                  <a:lnTo>
                    <a:pt x="0" y="110"/>
                  </a:lnTo>
                  <a:lnTo>
                    <a:pt x="0" y="106"/>
                  </a:lnTo>
                  <a:lnTo>
                    <a:pt x="2" y="103"/>
                  </a:lnTo>
                  <a:lnTo>
                    <a:pt x="5" y="96"/>
                  </a:lnTo>
                  <a:lnTo>
                    <a:pt x="10" y="87"/>
                  </a:lnTo>
                  <a:lnTo>
                    <a:pt x="15" y="77"/>
                  </a:lnTo>
                  <a:lnTo>
                    <a:pt x="20" y="69"/>
                  </a:lnTo>
                  <a:lnTo>
                    <a:pt x="26" y="60"/>
                  </a:lnTo>
                  <a:lnTo>
                    <a:pt x="31" y="52"/>
                  </a:lnTo>
                  <a:lnTo>
                    <a:pt x="34" y="41"/>
                  </a:lnTo>
                  <a:lnTo>
                    <a:pt x="38" y="33"/>
                  </a:lnTo>
                  <a:lnTo>
                    <a:pt x="43" y="29"/>
                  </a:lnTo>
                  <a:lnTo>
                    <a:pt x="48" y="24"/>
                  </a:lnTo>
                  <a:lnTo>
                    <a:pt x="53" y="21"/>
                  </a:lnTo>
                  <a:lnTo>
                    <a:pt x="58" y="17"/>
                  </a:lnTo>
                  <a:lnTo>
                    <a:pt x="64" y="14"/>
                  </a:lnTo>
                  <a:lnTo>
                    <a:pt x="69" y="9"/>
                  </a:lnTo>
                  <a:lnTo>
                    <a:pt x="72" y="5"/>
                  </a:lnTo>
                  <a:lnTo>
                    <a:pt x="77" y="0"/>
                  </a:lnTo>
                  <a:lnTo>
                    <a:pt x="76" y="16"/>
                  </a:lnTo>
                  <a:lnTo>
                    <a:pt x="76" y="29"/>
                  </a:lnTo>
                  <a:lnTo>
                    <a:pt x="74" y="43"/>
                  </a:lnTo>
                  <a:lnTo>
                    <a:pt x="74" y="57"/>
                  </a:lnTo>
                  <a:lnTo>
                    <a:pt x="72" y="70"/>
                  </a:lnTo>
                  <a:lnTo>
                    <a:pt x="72" y="84"/>
                  </a:lnTo>
                  <a:lnTo>
                    <a:pt x="72" y="99"/>
                  </a:lnTo>
                  <a:lnTo>
                    <a:pt x="74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809720" y="2840040"/>
              <a:ext cx="378000" cy="374760"/>
            </a:xfrm>
            <a:custGeom>
              <a:avLst/>
              <a:gdLst/>
              <a:ahLst/>
              <a:rect l="l" t="t" r="r" b="b"/>
              <a:pathLst>
                <a:path w="548" h="591">
                  <a:moveTo>
                    <a:pt x="212" y="0"/>
                  </a:moveTo>
                  <a:lnTo>
                    <a:pt x="216" y="7"/>
                  </a:lnTo>
                  <a:lnTo>
                    <a:pt x="216" y="15"/>
                  </a:lnTo>
                  <a:lnTo>
                    <a:pt x="217" y="22"/>
                  </a:lnTo>
                  <a:lnTo>
                    <a:pt x="219" y="31"/>
                  </a:lnTo>
                  <a:lnTo>
                    <a:pt x="219" y="38"/>
                  </a:lnTo>
                  <a:lnTo>
                    <a:pt x="221" y="44"/>
                  </a:lnTo>
                  <a:lnTo>
                    <a:pt x="223" y="53"/>
                  </a:lnTo>
                  <a:lnTo>
                    <a:pt x="224" y="60"/>
                  </a:lnTo>
                  <a:lnTo>
                    <a:pt x="226" y="72"/>
                  </a:lnTo>
                  <a:lnTo>
                    <a:pt x="226" y="85"/>
                  </a:lnTo>
                  <a:lnTo>
                    <a:pt x="228" y="99"/>
                  </a:lnTo>
                  <a:lnTo>
                    <a:pt x="228" y="113"/>
                  </a:lnTo>
                  <a:lnTo>
                    <a:pt x="228" y="126"/>
                  </a:lnTo>
                  <a:lnTo>
                    <a:pt x="229" y="142"/>
                  </a:lnTo>
                  <a:lnTo>
                    <a:pt x="229" y="155"/>
                  </a:lnTo>
                  <a:lnTo>
                    <a:pt x="228" y="171"/>
                  </a:lnTo>
                  <a:lnTo>
                    <a:pt x="229" y="173"/>
                  </a:lnTo>
                  <a:lnTo>
                    <a:pt x="229" y="178"/>
                  </a:lnTo>
                  <a:lnTo>
                    <a:pt x="229" y="181"/>
                  </a:lnTo>
                  <a:lnTo>
                    <a:pt x="231" y="185"/>
                  </a:lnTo>
                  <a:lnTo>
                    <a:pt x="231" y="188"/>
                  </a:lnTo>
                  <a:lnTo>
                    <a:pt x="231" y="191"/>
                  </a:lnTo>
                  <a:lnTo>
                    <a:pt x="233" y="193"/>
                  </a:lnTo>
                  <a:lnTo>
                    <a:pt x="233" y="196"/>
                  </a:lnTo>
                  <a:lnTo>
                    <a:pt x="240" y="198"/>
                  </a:lnTo>
                  <a:lnTo>
                    <a:pt x="247" y="196"/>
                  </a:lnTo>
                  <a:lnTo>
                    <a:pt x="254" y="193"/>
                  </a:lnTo>
                  <a:lnTo>
                    <a:pt x="260" y="190"/>
                  </a:lnTo>
                  <a:lnTo>
                    <a:pt x="266" y="186"/>
                  </a:lnTo>
                  <a:lnTo>
                    <a:pt x="273" y="181"/>
                  </a:lnTo>
                  <a:lnTo>
                    <a:pt x="278" y="178"/>
                  </a:lnTo>
                  <a:lnTo>
                    <a:pt x="285" y="174"/>
                  </a:lnTo>
                  <a:lnTo>
                    <a:pt x="295" y="166"/>
                  </a:lnTo>
                  <a:lnTo>
                    <a:pt x="305" y="155"/>
                  </a:lnTo>
                  <a:lnTo>
                    <a:pt x="316" y="145"/>
                  </a:lnTo>
                  <a:lnTo>
                    <a:pt x="324" y="135"/>
                  </a:lnTo>
                  <a:lnTo>
                    <a:pt x="335" y="123"/>
                  </a:lnTo>
                  <a:lnTo>
                    <a:pt x="345" y="113"/>
                  </a:lnTo>
                  <a:lnTo>
                    <a:pt x="355" y="103"/>
                  </a:lnTo>
                  <a:lnTo>
                    <a:pt x="367" y="94"/>
                  </a:lnTo>
                  <a:lnTo>
                    <a:pt x="379" y="84"/>
                  </a:lnTo>
                  <a:lnTo>
                    <a:pt x="391" y="73"/>
                  </a:lnTo>
                  <a:lnTo>
                    <a:pt x="405" y="65"/>
                  </a:lnTo>
                  <a:lnTo>
                    <a:pt x="419" y="58"/>
                  </a:lnTo>
                  <a:lnTo>
                    <a:pt x="433" y="53"/>
                  </a:lnTo>
                  <a:lnTo>
                    <a:pt x="448" y="51"/>
                  </a:lnTo>
                  <a:lnTo>
                    <a:pt x="464" y="51"/>
                  </a:lnTo>
                  <a:lnTo>
                    <a:pt x="479" y="55"/>
                  </a:lnTo>
                  <a:lnTo>
                    <a:pt x="486" y="55"/>
                  </a:lnTo>
                  <a:lnTo>
                    <a:pt x="491" y="55"/>
                  </a:lnTo>
                  <a:lnTo>
                    <a:pt x="495" y="55"/>
                  </a:lnTo>
                  <a:lnTo>
                    <a:pt x="497" y="56"/>
                  </a:lnTo>
                  <a:lnTo>
                    <a:pt x="500" y="62"/>
                  </a:lnTo>
                  <a:lnTo>
                    <a:pt x="500" y="68"/>
                  </a:lnTo>
                  <a:lnTo>
                    <a:pt x="498" y="77"/>
                  </a:lnTo>
                  <a:lnTo>
                    <a:pt x="497" y="85"/>
                  </a:lnTo>
                  <a:lnTo>
                    <a:pt x="497" y="94"/>
                  </a:lnTo>
                  <a:lnTo>
                    <a:pt x="498" y="101"/>
                  </a:lnTo>
                  <a:lnTo>
                    <a:pt x="497" y="125"/>
                  </a:lnTo>
                  <a:lnTo>
                    <a:pt x="497" y="149"/>
                  </a:lnTo>
                  <a:lnTo>
                    <a:pt x="500" y="173"/>
                  </a:lnTo>
                  <a:lnTo>
                    <a:pt x="507" y="196"/>
                  </a:lnTo>
                  <a:lnTo>
                    <a:pt x="514" y="219"/>
                  </a:lnTo>
                  <a:lnTo>
                    <a:pt x="522" y="241"/>
                  </a:lnTo>
                  <a:lnTo>
                    <a:pt x="531" y="263"/>
                  </a:lnTo>
                  <a:lnTo>
                    <a:pt x="540" y="285"/>
                  </a:lnTo>
                  <a:lnTo>
                    <a:pt x="541" y="301"/>
                  </a:lnTo>
                  <a:lnTo>
                    <a:pt x="545" y="314"/>
                  </a:lnTo>
                  <a:lnTo>
                    <a:pt x="547" y="330"/>
                  </a:lnTo>
                  <a:lnTo>
                    <a:pt x="548" y="343"/>
                  </a:lnTo>
                  <a:lnTo>
                    <a:pt x="548" y="359"/>
                  </a:lnTo>
                  <a:lnTo>
                    <a:pt x="548" y="374"/>
                  </a:lnTo>
                  <a:lnTo>
                    <a:pt x="548" y="388"/>
                  </a:lnTo>
                  <a:lnTo>
                    <a:pt x="547" y="403"/>
                  </a:lnTo>
                  <a:lnTo>
                    <a:pt x="543" y="422"/>
                  </a:lnTo>
                  <a:lnTo>
                    <a:pt x="541" y="439"/>
                  </a:lnTo>
                  <a:lnTo>
                    <a:pt x="538" y="456"/>
                  </a:lnTo>
                  <a:lnTo>
                    <a:pt x="535" y="473"/>
                  </a:lnTo>
                  <a:lnTo>
                    <a:pt x="529" y="490"/>
                  </a:lnTo>
                  <a:lnTo>
                    <a:pt x="522" y="506"/>
                  </a:lnTo>
                  <a:lnTo>
                    <a:pt x="516" y="523"/>
                  </a:lnTo>
                  <a:lnTo>
                    <a:pt x="505" y="536"/>
                  </a:lnTo>
                  <a:lnTo>
                    <a:pt x="497" y="545"/>
                  </a:lnTo>
                  <a:lnTo>
                    <a:pt x="488" y="554"/>
                  </a:lnTo>
                  <a:lnTo>
                    <a:pt x="479" y="560"/>
                  </a:lnTo>
                  <a:lnTo>
                    <a:pt x="469" y="566"/>
                  </a:lnTo>
                  <a:lnTo>
                    <a:pt x="459" y="569"/>
                  </a:lnTo>
                  <a:lnTo>
                    <a:pt x="448" y="572"/>
                  </a:lnTo>
                  <a:lnTo>
                    <a:pt x="438" y="572"/>
                  </a:lnTo>
                  <a:lnTo>
                    <a:pt x="428" y="569"/>
                  </a:lnTo>
                  <a:lnTo>
                    <a:pt x="435" y="555"/>
                  </a:lnTo>
                  <a:lnTo>
                    <a:pt x="443" y="542"/>
                  </a:lnTo>
                  <a:lnTo>
                    <a:pt x="450" y="530"/>
                  </a:lnTo>
                  <a:lnTo>
                    <a:pt x="459" y="516"/>
                  </a:lnTo>
                  <a:lnTo>
                    <a:pt x="467" y="502"/>
                  </a:lnTo>
                  <a:lnTo>
                    <a:pt x="476" y="490"/>
                  </a:lnTo>
                  <a:lnTo>
                    <a:pt x="485" y="477"/>
                  </a:lnTo>
                  <a:lnTo>
                    <a:pt x="495" y="465"/>
                  </a:lnTo>
                  <a:lnTo>
                    <a:pt x="486" y="465"/>
                  </a:lnTo>
                  <a:lnTo>
                    <a:pt x="479" y="473"/>
                  </a:lnTo>
                  <a:lnTo>
                    <a:pt x="472" y="482"/>
                  </a:lnTo>
                  <a:lnTo>
                    <a:pt x="464" y="490"/>
                  </a:lnTo>
                  <a:lnTo>
                    <a:pt x="457" y="499"/>
                  </a:lnTo>
                  <a:lnTo>
                    <a:pt x="452" y="507"/>
                  </a:lnTo>
                  <a:lnTo>
                    <a:pt x="445" y="516"/>
                  </a:lnTo>
                  <a:lnTo>
                    <a:pt x="441" y="526"/>
                  </a:lnTo>
                  <a:lnTo>
                    <a:pt x="436" y="535"/>
                  </a:lnTo>
                  <a:lnTo>
                    <a:pt x="433" y="540"/>
                  </a:lnTo>
                  <a:lnTo>
                    <a:pt x="429" y="545"/>
                  </a:lnTo>
                  <a:lnTo>
                    <a:pt x="426" y="550"/>
                  </a:lnTo>
                  <a:lnTo>
                    <a:pt x="423" y="555"/>
                  </a:lnTo>
                  <a:lnTo>
                    <a:pt x="417" y="560"/>
                  </a:lnTo>
                  <a:lnTo>
                    <a:pt x="414" y="564"/>
                  </a:lnTo>
                  <a:lnTo>
                    <a:pt x="409" y="566"/>
                  </a:lnTo>
                  <a:lnTo>
                    <a:pt x="402" y="567"/>
                  </a:lnTo>
                  <a:lnTo>
                    <a:pt x="395" y="574"/>
                  </a:lnTo>
                  <a:lnTo>
                    <a:pt x="388" y="581"/>
                  </a:lnTo>
                  <a:lnTo>
                    <a:pt x="379" y="584"/>
                  </a:lnTo>
                  <a:lnTo>
                    <a:pt x="371" y="588"/>
                  </a:lnTo>
                  <a:lnTo>
                    <a:pt x="362" y="589"/>
                  </a:lnTo>
                  <a:lnTo>
                    <a:pt x="352" y="591"/>
                  </a:lnTo>
                  <a:lnTo>
                    <a:pt x="341" y="591"/>
                  </a:lnTo>
                  <a:lnTo>
                    <a:pt x="331" y="591"/>
                  </a:lnTo>
                  <a:lnTo>
                    <a:pt x="321" y="589"/>
                  </a:lnTo>
                  <a:lnTo>
                    <a:pt x="310" y="588"/>
                  </a:lnTo>
                  <a:lnTo>
                    <a:pt x="300" y="586"/>
                  </a:lnTo>
                  <a:lnTo>
                    <a:pt x="290" y="583"/>
                  </a:lnTo>
                  <a:lnTo>
                    <a:pt x="279" y="579"/>
                  </a:lnTo>
                  <a:lnTo>
                    <a:pt x="271" y="574"/>
                  </a:lnTo>
                  <a:lnTo>
                    <a:pt x="264" y="567"/>
                  </a:lnTo>
                  <a:lnTo>
                    <a:pt x="260" y="557"/>
                  </a:lnTo>
                  <a:lnTo>
                    <a:pt x="264" y="554"/>
                  </a:lnTo>
                  <a:lnTo>
                    <a:pt x="269" y="550"/>
                  </a:lnTo>
                  <a:lnTo>
                    <a:pt x="273" y="547"/>
                  </a:lnTo>
                  <a:lnTo>
                    <a:pt x="278" y="543"/>
                  </a:lnTo>
                  <a:lnTo>
                    <a:pt x="281" y="538"/>
                  </a:lnTo>
                  <a:lnTo>
                    <a:pt x="285" y="535"/>
                  </a:lnTo>
                  <a:lnTo>
                    <a:pt x="286" y="530"/>
                  </a:lnTo>
                  <a:lnTo>
                    <a:pt x="288" y="525"/>
                  </a:lnTo>
                  <a:lnTo>
                    <a:pt x="285" y="521"/>
                  </a:lnTo>
                  <a:lnTo>
                    <a:pt x="281" y="521"/>
                  </a:lnTo>
                  <a:lnTo>
                    <a:pt x="279" y="523"/>
                  </a:lnTo>
                  <a:lnTo>
                    <a:pt x="278" y="526"/>
                  </a:lnTo>
                  <a:lnTo>
                    <a:pt x="278" y="530"/>
                  </a:lnTo>
                  <a:lnTo>
                    <a:pt x="276" y="533"/>
                  </a:lnTo>
                  <a:lnTo>
                    <a:pt x="274" y="535"/>
                  </a:lnTo>
                  <a:lnTo>
                    <a:pt x="271" y="536"/>
                  </a:lnTo>
                  <a:lnTo>
                    <a:pt x="267" y="540"/>
                  </a:lnTo>
                  <a:lnTo>
                    <a:pt x="264" y="542"/>
                  </a:lnTo>
                  <a:lnTo>
                    <a:pt x="259" y="543"/>
                  </a:lnTo>
                  <a:lnTo>
                    <a:pt x="255" y="545"/>
                  </a:lnTo>
                  <a:lnTo>
                    <a:pt x="252" y="547"/>
                  </a:lnTo>
                  <a:lnTo>
                    <a:pt x="248" y="548"/>
                  </a:lnTo>
                  <a:lnTo>
                    <a:pt x="245" y="550"/>
                  </a:lnTo>
                  <a:lnTo>
                    <a:pt x="242" y="554"/>
                  </a:lnTo>
                  <a:lnTo>
                    <a:pt x="236" y="555"/>
                  </a:lnTo>
                  <a:lnTo>
                    <a:pt x="231" y="557"/>
                  </a:lnTo>
                  <a:lnTo>
                    <a:pt x="226" y="559"/>
                  </a:lnTo>
                  <a:lnTo>
                    <a:pt x="221" y="559"/>
                  </a:lnTo>
                  <a:lnTo>
                    <a:pt x="216" y="559"/>
                  </a:lnTo>
                  <a:lnTo>
                    <a:pt x="210" y="559"/>
                  </a:lnTo>
                  <a:lnTo>
                    <a:pt x="205" y="559"/>
                  </a:lnTo>
                  <a:lnTo>
                    <a:pt x="200" y="559"/>
                  </a:lnTo>
                  <a:lnTo>
                    <a:pt x="192" y="552"/>
                  </a:lnTo>
                  <a:lnTo>
                    <a:pt x="183" y="547"/>
                  </a:lnTo>
                  <a:lnTo>
                    <a:pt x="174" y="540"/>
                  </a:lnTo>
                  <a:lnTo>
                    <a:pt x="167" y="533"/>
                  </a:lnTo>
                  <a:lnTo>
                    <a:pt x="159" y="526"/>
                  </a:lnTo>
                  <a:lnTo>
                    <a:pt x="150" y="521"/>
                  </a:lnTo>
                  <a:lnTo>
                    <a:pt x="140" y="518"/>
                  </a:lnTo>
                  <a:lnTo>
                    <a:pt x="131" y="514"/>
                  </a:lnTo>
                  <a:lnTo>
                    <a:pt x="126" y="511"/>
                  </a:lnTo>
                  <a:lnTo>
                    <a:pt x="121" y="507"/>
                  </a:lnTo>
                  <a:lnTo>
                    <a:pt x="117" y="502"/>
                  </a:lnTo>
                  <a:lnTo>
                    <a:pt x="116" y="499"/>
                  </a:lnTo>
                  <a:lnTo>
                    <a:pt x="114" y="494"/>
                  </a:lnTo>
                  <a:lnTo>
                    <a:pt x="112" y="487"/>
                  </a:lnTo>
                  <a:lnTo>
                    <a:pt x="111" y="482"/>
                  </a:lnTo>
                  <a:lnTo>
                    <a:pt x="109" y="477"/>
                  </a:lnTo>
                  <a:lnTo>
                    <a:pt x="112" y="446"/>
                  </a:lnTo>
                  <a:lnTo>
                    <a:pt x="112" y="444"/>
                  </a:lnTo>
                  <a:lnTo>
                    <a:pt x="111" y="443"/>
                  </a:lnTo>
                  <a:lnTo>
                    <a:pt x="109" y="443"/>
                  </a:lnTo>
                  <a:lnTo>
                    <a:pt x="107" y="443"/>
                  </a:lnTo>
                  <a:lnTo>
                    <a:pt x="107" y="443"/>
                  </a:lnTo>
                  <a:lnTo>
                    <a:pt x="105" y="443"/>
                  </a:lnTo>
                  <a:lnTo>
                    <a:pt x="104" y="443"/>
                  </a:lnTo>
                  <a:lnTo>
                    <a:pt x="102" y="443"/>
                  </a:lnTo>
                  <a:lnTo>
                    <a:pt x="100" y="451"/>
                  </a:lnTo>
                  <a:lnTo>
                    <a:pt x="100" y="461"/>
                  </a:lnTo>
                  <a:lnTo>
                    <a:pt x="98" y="470"/>
                  </a:lnTo>
                  <a:lnTo>
                    <a:pt x="100" y="480"/>
                  </a:lnTo>
                  <a:lnTo>
                    <a:pt x="100" y="489"/>
                  </a:lnTo>
                  <a:lnTo>
                    <a:pt x="102" y="497"/>
                  </a:lnTo>
                  <a:lnTo>
                    <a:pt x="105" y="506"/>
                  </a:lnTo>
                  <a:lnTo>
                    <a:pt x="109" y="513"/>
                  </a:lnTo>
                  <a:lnTo>
                    <a:pt x="97" y="511"/>
                  </a:lnTo>
                  <a:lnTo>
                    <a:pt x="83" y="509"/>
                  </a:lnTo>
                  <a:lnTo>
                    <a:pt x="71" y="506"/>
                  </a:lnTo>
                  <a:lnTo>
                    <a:pt x="57" y="502"/>
                  </a:lnTo>
                  <a:lnTo>
                    <a:pt x="47" y="497"/>
                  </a:lnTo>
                  <a:lnTo>
                    <a:pt x="35" y="490"/>
                  </a:lnTo>
                  <a:lnTo>
                    <a:pt x="24" y="482"/>
                  </a:lnTo>
                  <a:lnTo>
                    <a:pt x="16" y="472"/>
                  </a:lnTo>
                  <a:lnTo>
                    <a:pt x="11" y="463"/>
                  </a:lnTo>
                  <a:lnTo>
                    <a:pt x="7" y="456"/>
                  </a:lnTo>
                  <a:lnTo>
                    <a:pt x="4" y="449"/>
                  </a:lnTo>
                  <a:lnTo>
                    <a:pt x="2" y="441"/>
                  </a:lnTo>
                  <a:lnTo>
                    <a:pt x="0" y="425"/>
                  </a:lnTo>
                  <a:lnTo>
                    <a:pt x="2" y="408"/>
                  </a:lnTo>
                  <a:lnTo>
                    <a:pt x="5" y="393"/>
                  </a:lnTo>
                  <a:lnTo>
                    <a:pt x="11" y="376"/>
                  </a:lnTo>
                  <a:lnTo>
                    <a:pt x="16" y="361"/>
                  </a:lnTo>
                  <a:lnTo>
                    <a:pt x="21" y="345"/>
                  </a:lnTo>
                  <a:lnTo>
                    <a:pt x="23" y="342"/>
                  </a:lnTo>
                  <a:lnTo>
                    <a:pt x="24" y="338"/>
                  </a:lnTo>
                  <a:lnTo>
                    <a:pt x="26" y="335"/>
                  </a:lnTo>
                  <a:lnTo>
                    <a:pt x="28" y="331"/>
                  </a:lnTo>
                  <a:lnTo>
                    <a:pt x="31" y="328"/>
                  </a:lnTo>
                  <a:lnTo>
                    <a:pt x="33" y="325"/>
                  </a:lnTo>
                  <a:lnTo>
                    <a:pt x="36" y="321"/>
                  </a:lnTo>
                  <a:lnTo>
                    <a:pt x="40" y="319"/>
                  </a:lnTo>
                  <a:lnTo>
                    <a:pt x="40" y="325"/>
                  </a:lnTo>
                  <a:lnTo>
                    <a:pt x="42" y="330"/>
                  </a:lnTo>
                  <a:lnTo>
                    <a:pt x="43" y="337"/>
                  </a:lnTo>
                  <a:lnTo>
                    <a:pt x="45" y="342"/>
                  </a:lnTo>
                  <a:lnTo>
                    <a:pt x="45" y="345"/>
                  </a:lnTo>
                  <a:lnTo>
                    <a:pt x="45" y="350"/>
                  </a:lnTo>
                  <a:lnTo>
                    <a:pt x="43" y="355"/>
                  </a:lnTo>
                  <a:lnTo>
                    <a:pt x="40" y="361"/>
                  </a:lnTo>
                  <a:lnTo>
                    <a:pt x="40" y="362"/>
                  </a:lnTo>
                  <a:lnTo>
                    <a:pt x="40" y="364"/>
                  </a:lnTo>
                  <a:lnTo>
                    <a:pt x="40" y="366"/>
                  </a:lnTo>
                  <a:lnTo>
                    <a:pt x="40" y="366"/>
                  </a:lnTo>
                  <a:lnTo>
                    <a:pt x="40" y="367"/>
                  </a:lnTo>
                  <a:lnTo>
                    <a:pt x="40" y="369"/>
                  </a:lnTo>
                  <a:lnTo>
                    <a:pt x="42" y="371"/>
                  </a:lnTo>
                  <a:lnTo>
                    <a:pt x="43" y="371"/>
                  </a:lnTo>
                  <a:lnTo>
                    <a:pt x="47" y="371"/>
                  </a:lnTo>
                  <a:lnTo>
                    <a:pt x="50" y="367"/>
                  </a:lnTo>
                  <a:lnTo>
                    <a:pt x="52" y="366"/>
                  </a:lnTo>
                  <a:lnTo>
                    <a:pt x="54" y="362"/>
                  </a:lnTo>
                  <a:lnTo>
                    <a:pt x="55" y="359"/>
                  </a:lnTo>
                  <a:lnTo>
                    <a:pt x="57" y="355"/>
                  </a:lnTo>
                  <a:lnTo>
                    <a:pt x="59" y="354"/>
                  </a:lnTo>
                  <a:lnTo>
                    <a:pt x="62" y="354"/>
                  </a:lnTo>
                  <a:lnTo>
                    <a:pt x="61" y="345"/>
                  </a:lnTo>
                  <a:lnTo>
                    <a:pt x="62" y="338"/>
                  </a:lnTo>
                  <a:lnTo>
                    <a:pt x="67" y="331"/>
                  </a:lnTo>
                  <a:lnTo>
                    <a:pt x="71" y="325"/>
                  </a:lnTo>
                  <a:lnTo>
                    <a:pt x="76" y="318"/>
                  </a:lnTo>
                  <a:lnTo>
                    <a:pt x="79" y="311"/>
                  </a:lnTo>
                  <a:lnTo>
                    <a:pt x="81" y="304"/>
                  </a:lnTo>
                  <a:lnTo>
                    <a:pt x="79" y="296"/>
                  </a:lnTo>
                  <a:lnTo>
                    <a:pt x="76" y="297"/>
                  </a:lnTo>
                  <a:lnTo>
                    <a:pt x="74" y="301"/>
                  </a:lnTo>
                  <a:lnTo>
                    <a:pt x="73" y="302"/>
                  </a:lnTo>
                  <a:lnTo>
                    <a:pt x="71" y="306"/>
                  </a:lnTo>
                  <a:lnTo>
                    <a:pt x="69" y="311"/>
                  </a:lnTo>
                  <a:lnTo>
                    <a:pt x="67" y="314"/>
                  </a:lnTo>
                  <a:lnTo>
                    <a:pt x="66" y="318"/>
                  </a:lnTo>
                  <a:lnTo>
                    <a:pt x="62" y="321"/>
                  </a:lnTo>
                  <a:lnTo>
                    <a:pt x="55" y="328"/>
                  </a:lnTo>
                  <a:lnTo>
                    <a:pt x="50" y="314"/>
                  </a:lnTo>
                  <a:lnTo>
                    <a:pt x="48" y="302"/>
                  </a:lnTo>
                  <a:lnTo>
                    <a:pt x="47" y="290"/>
                  </a:lnTo>
                  <a:lnTo>
                    <a:pt x="48" y="280"/>
                  </a:lnTo>
                  <a:lnTo>
                    <a:pt x="50" y="268"/>
                  </a:lnTo>
                  <a:lnTo>
                    <a:pt x="54" y="258"/>
                  </a:lnTo>
                  <a:lnTo>
                    <a:pt x="59" y="248"/>
                  </a:lnTo>
                  <a:lnTo>
                    <a:pt x="64" y="237"/>
                  </a:lnTo>
                  <a:lnTo>
                    <a:pt x="76" y="217"/>
                  </a:lnTo>
                  <a:lnTo>
                    <a:pt x="90" y="196"/>
                  </a:lnTo>
                  <a:lnTo>
                    <a:pt x="102" y="176"/>
                  </a:lnTo>
                  <a:lnTo>
                    <a:pt x="111" y="155"/>
                  </a:lnTo>
                  <a:lnTo>
                    <a:pt x="116" y="147"/>
                  </a:lnTo>
                  <a:lnTo>
                    <a:pt x="119" y="138"/>
                  </a:lnTo>
                  <a:lnTo>
                    <a:pt x="126" y="132"/>
                  </a:lnTo>
                  <a:lnTo>
                    <a:pt x="131" y="125"/>
                  </a:lnTo>
                  <a:lnTo>
                    <a:pt x="138" y="118"/>
                  </a:lnTo>
                  <a:lnTo>
                    <a:pt x="143" y="109"/>
                  </a:lnTo>
                  <a:lnTo>
                    <a:pt x="148" y="103"/>
                  </a:lnTo>
                  <a:lnTo>
                    <a:pt x="152" y="96"/>
                  </a:lnTo>
                  <a:lnTo>
                    <a:pt x="160" y="84"/>
                  </a:lnTo>
                  <a:lnTo>
                    <a:pt x="167" y="73"/>
                  </a:lnTo>
                  <a:lnTo>
                    <a:pt x="176" y="62"/>
                  </a:lnTo>
                  <a:lnTo>
                    <a:pt x="183" y="50"/>
                  </a:lnTo>
                  <a:lnTo>
                    <a:pt x="192" y="38"/>
                  </a:lnTo>
                  <a:lnTo>
                    <a:pt x="198" y="26"/>
                  </a:lnTo>
                  <a:lnTo>
                    <a:pt x="204" y="12"/>
                  </a:lnTo>
                  <a:lnTo>
                    <a:pt x="210" y="0"/>
                  </a:lnTo>
                  <a:lnTo>
                    <a:pt x="212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930240" y="2921040"/>
              <a:ext cx="2019240" cy="2044800"/>
            </a:xfrm>
            <a:custGeom>
              <a:avLst/>
              <a:gdLst/>
              <a:ahLst/>
              <a:rect l="l" t="t" r="r" b="b"/>
              <a:pathLst>
                <a:path w="2937" h="3229">
                  <a:moveTo>
                    <a:pt x="1384" y="0"/>
                  </a:moveTo>
                  <a:lnTo>
                    <a:pt x="1379" y="9"/>
                  </a:lnTo>
                  <a:lnTo>
                    <a:pt x="1373" y="19"/>
                  </a:lnTo>
                  <a:lnTo>
                    <a:pt x="1370" y="27"/>
                  </a:lnTo>
                  <a:lnTo>
                    <a:pt x="1365" y="36"/>
                  </a:lnTo>
                  <a:lnTo>
                    <a:pt x="1361" y="46"/>
                  </a:lnTo>
                  <a:lnTo>
                    <a:pt x="1356" y="55"/>
                  </a:lnTo>
                  <a:lnTo>
                    <a:pt x="1351" y="63"/>
                  </a:lnTo>
                  <a:lnTo>
                    <a:pt x="1344" y="72"/>
                  </a:lnTo>
                  <a:lnTo>
                    <a:pt x="1342" y="77"/>
                  </a:lnTo>
                  <a:lnTo>
                    <a:pt x="1337" y="84"/>
                  </a:lnTo>
                  <a:lnTo>
                    <a:pt x="1334" y="89"/>
                  </a:lnTo>
                  <a:lnTo>
                    <a:pt x="1330" y="96"/>
                  </a:lnTo>
                  <a:lnTo>
                    <a:pt x="1327" y="101"/>
                  </a:lnTo>
                  <a:lnTo>
                    <a:pt x="1323" y="108"/>
                  </a:lnTo>
                  <a:lnTo>
                    <a:pt x="1320" y="113"/>
                  </a:lnTo>
                  <a:lnTo>
                    <a:pt x="1318" y="120"/>
                  </a:lnTo>
                  <a:lnTo>
                    <a:pt x="1315" y="123"/>
                  </a:lnTo>
                  <a:lnTo>
                    <a:pt x="1313" y="126"/>
                  </a:lnTo>
                  <a:lnTo>
                    <a:pt x="1311" y="132"/>
                  </a:lnTo>
                  <a:lnTo>
                    <a:pt x="1311" y="137"/>
                  </a:lnTo>
                  <a:lnTo>
                    <a:pt x="1311" y="140"/>
                  </a:lnTo>
                  <a:lnTo>
                    <a:pt x="1310" y="145"/>
                  </a:lnTo>
                  <a:lnTo>
                    <a:pt x="1308" y="149"/>
                  </a:lnTo>
                  <a:lnTo>
                    <a:pt x="1304" y="152"/>
                  </a:lnTo>
                  <a:lnTo>
                    <a:pt x="1306" y="159"/>
                  </a:lnTo>
                  <a:lnTo>
                    <a:pt x="1308" y="164"/>
                  </a:lnTo>
                  <a:lnTo>
                    <a:pt x="1306" y="169"/>
                  </a:lnTo>
                  <a:lnTo>
                    <a:pt x="1306" y="173"/>
                  </a:lnTo>
                  <a:lnTo>
                    <a:pt x="1303" y="181"/>
                  </a:lnTo>
                  <a:lnTo>
                    <a:pt x="1296" y="190"/>
                  </a:lnTo>
                  <a:lnTo>
                    <a:pt x="1291" y="198"/>
                  </a:lnTo>
                  <a:lnTo>
                    <a:pt x="1284" y="205"/>
                  </a:lnTo>
                  <a:lnTo>
                    <a:pt x="1279" y="214"/>
                  </a:lnTo>
                  <a:lnTo>
                    <a:pt x="1277" y="224"/>
                  </a:lnTo>
                  <a:lnTo>
                    <a:pt x="1270" y="243"/>
                  </a:lnTo>
                  <a:lnTo>
                    <a:pt x="1265" y="261"/>
                  </a:lnTo>
                  <a:lnTo>
                    <a:pt x="1261" y="280"/>
                  </a:lnTo>
                  <a:lnTo>
                    <a:pt x="1260" y="301"/>
                  </a:lnTo>
                  <a:lnTo>
                    <a:pt x="1261" y="320"/>
                  </a:lnTo>
                  <a:lnTo>
                    <a:pt x="1266" y="338"/>
                  </a:lnTo>
                  <a:lnTo>
                    <a:pt x="1270" y="347"/>
                  </a:lnTo>
                  <a:lnTo>
                    <a:pt x="1273" y="355"/>
                  </a:lnTo>
                  <a:lnTo>
                    <a:pt x="1280" y="364"/>
                  </a:lnTo>
                  <a:lnTo>
                    <a:pt x="1287" y="372"/>
                  </a:lnTo>
                  <a:lnTo>
                    <a:pt x="1296" y="378"/>
                  </a:lnTo>
                  <a:lnTo>
                    <a:pt x="1304" y="383"/>
                  </a:lnTo>
                  <a:lnTo>
                    <a:pt x="1313" y="386"/>
                  </a:lnTo>
                  <a:lnTo>
                    <a:pt x="1323" y="390"/>
                  </a:lnTo>
                  <a:lnTo>
                    <a:pt x="1332" y="393"/>
                  </a:lnTo>
                  <a:lnTo>
                    <a:pt x="1342" y="396"/>
                  </a:lnTo>
                  <a:lnTo>
                    <a:pt x="1353" y="398"/>
                  </a:lnTo>
                  <a:lnTo>
                    <a:pt x="1361" y="402"/>
                  </a:lnTo>
                  <a:lnTo>
                    <a:pt x="1363" y="407"/>
                  </a:lnTo>
                  <a:lnTo>
                    <a:pt x="1363" y="412"/>
                  </a:lnTo>
                  <a:lnTo>
                    <a:pt x="1363" y="417"/>
                  </a:lnTo>
                  <a:lnTo>
                    <a:pt x="1361" y="422"/>
                  </a:lnTo>
                  <a:lnTo>
                    <a:pt x="1361" y="429"/>
                  </a:lnTo>
                  <a:lnTo>
                    <a:pt x="1360" y="434"/>
                  </a:lnTo>
                  <a:lnTo>
                    <a:pt x="1358" y="439"/>
                  </a:lnTo>
                  <a:lnTo>
                    <a:pt x="1358" y="444"/>
                  </a:lnTo>
                  <a:lnTo>
                    <a:pt x="1354" y="451"/>
                  </a:lnTo>
                  <a:lnTo>
                    <a:pt x="1353" y="460"/>
                  </a:lnTo>
                  <a:lnTo>
                    <a:pt x="1351" y="466"/>
                  </a:lnTo>
                  <a:lnTo>
                    <a:pt x="1351" y="473"/>
                  </a:lnTo>
                  <a:lnTo>
                    <a:pt x="1349" y="480"/>
                  </a:lnTo>
                  <a:lnTo>
                    <a:pt x="1349" y="487"/>
                  </a:lnTo>
                  <a:lnTo>
                    <a:pt x="1349" y="494"/>
                  </a:lnTo>
                  <a:lnTo>
                    <a:pt x="1349" y="501"/>
                  </a:lnTo>
                  <a:lnTo>
                    <a:pt x="1346" y="507"/>
                  </a:lnTo>
                  <a:lnTo>
                    <a:pt x="1344" y="513"/>
                  </a:lnTo>
                  <a:lnTo>
                    <a:pt x="1342" y="519"/>
                  </a:lnTo>
                  <a:lnTo>
                    <a:pt x="1342" y="526"/>
                  </a:lnTo>
                  <a:lnTo>
                    <a:pt x="1341" y="533"/>
                  </a:lnTo>
                  <a:lnTo>
                    <a:pt x="1341" y="538"/>
                  </a:lnTo>
                  <a:lnTo>
                    <a:pt x="1339" y="545"/>
                  </a:lnTo>
                  <a:lnTo>
                    <a:pt x="1335" y="550"/>
                  </a:lnTo>
                  <a:lnTo>
                    <a:pt x="1335" y="567"/>
                  </a:lnTo>
                  <a:lnTo>
                    <a:pt x="1335" y="583"/>
                  </a:lnTo>
                  <a:lnTo>
                    <a:pt x="1332" y="598"/>
                  </a:lnTo>
                  <a:lnTo>
                    <a:pt x="1330" y="613"/>
                  </a:lnTo>
                  <a:lnTo>
                    <a:pt x="1329" y="629"/>
                  </a:lnTo>
                  <a:lnTo>
                    <a:pt x="1327" y="644"/>
                  </a:lnTo>
                  <a:lnTo>
                    <a:pt x="1325" y="659"/>
                  </a:lnTo>
                  <a:lnTo>
                    <a:pt x="1327" y="675"/>
                  </a:lnTo>
                  <a:lnTo>
                    <a:pt x="1322" y="683"/>
                  </a:lnTo>
                  <a:lnTo>
                    <a:pt x="1316" y="692"/>
                  </a:lnTo>
                  <a:lnTo>
                    <a:pt x="1311" y="702"/>
                  </a:lnTo>
                  <a:lnTo>
                    <a:pt x="1308" y="711"/>
                  </a:lnTo>
                  <a:lnTo>
                    <a:pt x="1304" y="719"/>
                  </a:lnTo>
                  <a:lnTo>
                    <a:pt x="1301" y="730"/>
                  </a:lnTo>
                  <a:lnTo>
                    <a:pt x="1299" y="738"/>
                  </a:lnTo>
                  <a:lnTo>
                    <a:pt x="1296" y="747"/>
                  </a:lnTo>
                  <a:lnTo>
                    <a:pt x="1294" y="752"/>
                  </a:lnTo>
                  <a:lnTo>
                    <a:pt x="1292" y="757"/>
                  </a:lnTo>
                  <a:lnTo>
                    <a:pt x="1292" y="760"/>
                  </a:lnTo>
                  <a:lnTo>
                    <a:pt x="1291" y="765"/>
                  </a:lnTo>
                  <a:lnTo>
                    <a:pt x="1289" y="771"/>
                  </a:lnTo>
                  <a:lnTo>
                    <a:pt x="1289" y="776"/>
                  </a:lnTo>
                  <a:lnTo>
                    <a:pt x="1287" y="781"/>
                  </a:lnTo>
                  <a:lnTo>
                    <a:pt x="1287" y="784"/>
                  </a:lnTo>
                  <a:lnTo>
                    <a:pt x="1285" y="794"/>
                  </a:lnTo>
                  <a:lnTo>
                    <a:pt x="1284" y="803"/>
                  </a:lnTo>
                  <a:lnTo>
                    <a:pt x="1280" y="812"/>
                  </a:lnTo>
                  <a:lnTo>
                    <a:pt x="1279" y="820"/>
                  </a:lnTo>
                  <a:lnTo>
                    <a:pt x="1277" y="829"/>
                  </a:lnTo>
                  <a:lnTo>
                    <a:pt x="1273" y="837"/>
                  </a:lnTo>
                  <a:lnTo>
                    <a:pt x="1272" y="844"/>
                  </a:lnTo>
                  <a:lnTo>
                    <a:pt x="1268" y="853"/>
                  </a:lnTo>
                  <a:lnTo>
                    <a:pt x="1260" y="858"/>
                  </a:lnTo>
                  <a:lnTo>
                    <a:pt x="1251" y="863"/>
                  </a:lnTo>
                  <a:lnTo>
                    <a:pt x="1241" y="868"/>
                  </a:lnTo>
                  <a:lnTo>
                    <a:pt x="1232" y="873"/>
                  </a:lnTo>
                  <a:lnTo>
                    <a:pt x="1223" y="880"/>
                  </a:lnTo>
                  <a:lnTo>
                    <a:pt x="1215" y="887"/>
                  </a:lnTo>
                  <a:lnTo>
                    <a:pt x="1208" y="894"/>
                  </a:lnTo>
                  <a:lnTo>
                    <a:pt x="1201" y="902"/>
                  </a:lnTo>
                  <a:lnTo>
                    <a:pt x="1191" y="906"/>
                  </a:lnTo>
                  <a:lnTo>
                    <a:pt x="1182" y="911"/>
                  </a:lnTo>
                  <a:lnTo>
                    <a:pt x="1177" y="919"/>
                  </a:lnTo>
                  <a:lnTo>
                    <a:pt x="1172" y="928"/>
                  </a:lnTo>
                  <a:lnTo>
                    <a:pt x="1170" y="938"/>
                  </a:lnTo>
                  <a:lnTo>
                    <a:pt x="1168" y="948"/>
                  </a:lnTo>
                  <a:lnTo>
                    <a:pt x="1165" y="958"/>
                  </a:lnTo>
                  <a:lnTo>
                    <a:pt x="1163" y="967"/>
                  </a:lnTo>
                  <a:lnTo>
                    <a:pt x="1165" y="999"/>
                  </a:lnTo>
                  <a:lnTo>
                    <a:pt x="1166" y="1030"/>
                  </a:lnTo>
                  <a:lnTo>
                    <a:pt x="1168" y="1061"/>
                  </a:lnTo>
                  <a:lnTo>
                    <a:pt x="1168" y="1092"/>
                  </a:lnTo>
                  <a:lnTo>
                    <a:pt x="1170" y="1122"/>
                  </a:lnTo>
                  <a:lnTo>
                    <a:pt x="1173" y="1153"/>
                  </a:lnTo>
                  <a:lnTo>
                    <a:pt x="1177" y="1184"/>
                  </a:lnTo>
                  <a:lnTo>
                    <a:pt x="1180" y="1218"/>
                  </a:lnTo>
                  <a:lnTo>
                    <a:pt x="1185" y="1228"/>
                  </a:lnTo>
                  <a:lnTo>
                    <a:pt x="1191" y="1237"/>
                  </a:lnTo>
                  <a:lnTo>
                    <a:pt x="1198" y="1244"/>
                  </a:lnTo>
                  <a:lnTo>
                    <a:pt x="1206" y="1251"/>
                  </a:lnTo>
                  <a:lnTo>
                    <a:pt x="1215" y="1257"/>
                  </a:lnTo>
                  <a:lnTo>
                    <a:pt x="1223" y="1264"/>
                  </a:lnTo>
                  <a:lnTo>
                    <a:pt x="1234" y="1269"/>
                  </a:lnTo>
                  <a:lnTo>
                    <a:pt x="1241" y="1276"/>
                  </a:lnTo>
                  <a:lnTo>
                    <a:pt x="1253" y="1281"/>
                  </a:lnTo>
                  <a:lnTo>
                    <a:pt x="1263" y="1287"/>
                  </a:lnTo>
                  <a:lnTo>
                    <a:pt x="1275" y="1292"/>
                  </a:lnTo>
                  <a:lnTo>
                    <a:pt x="1287" y="1295"/>
                  </a:lnTo>
                  <a:lnTo>
                    <a:pt x="1313" y="1300"/>
                  </a:lnTo>
                  <a:lnTo>
                    <a:pt x="1337" y="1302"/>
                  </a:lnTo>
                  <a:lnTo>
                    <a:pt x="1365" y="1304"/>
                  </a:lnTo>
                  <a:lnTo>
                    <a:pt x="1391" y="1305"/>
                  </a:lnTo>
                  <a:lnTo>
                    <a:pt x="1416" y="1307"/>
                  </a:lnTo>
                  <a:lnTo>
                    <a:pt x="1442" y="1310"/>
                  </a:lnTo>
                  <a:lnTo>
                    <a:pt x="1456" y="1309"/>
                  </a:lnTo>
                  <a:lnTo>
                    <a:pt x="1470" y="1307"/>
                  </a:lnTo>
                  <a:lnTo>
                    <a:pt x="1482" y="1305"/>
                  </a:lnTo>
                  <a:lnTo>
                    <a:pt x="1496" y="1302"/>
                  </a:lnTo>
                  <a:lnTo>
                    <a:pt x="1508" y="1300"/>
                  </a:lnTo>
                  <a:lnTo>
                    <a:pt x="1520" y="1295"/>
                  </a:lnTo>
                  <a:lnTo>
                    <a:pt x="1532" y="1292"/>
                  </a:lnTo>
                  <a:lnTo>
                    <a:pt x="1551" y="1285"/>
                  </a:lnTo>
                  <a:lnTo>
                    <a:pt x="1556" y="1285"/>
                  </a:lnTo>
                  <a:lnTo>
                    <a:pt x="1561" y="1285"/>
                  </a:lnTo>
                  <a:lnTo>
                    <a:pt x="1566" y="1285"/>
                  </a:lnTo>
                  <a:lnTo>
                    <a:pt x="1572" y="1285"/>
                  </a:lnTo>
                  <a:lnTo>
                    <a:pt x="1575" y="1283"/>
                  </a:lnTo>
                  <a:lnTo>
                    <a:pt x="1580" y="1280"/>
                  </a:lnTo>
                  <a:lnTo>
                    <a:pt x="1584" y="1276"/>
                  </a:lnTo>
                  <a:lnTo>
                    <a:pt x="1596" y="1266"/>
                  </a:lnTo>
                  <a:lnTo>
                    <a:pt x="1606" y="1254"/>
                  </a:lnTo>
                  <a:lnTo>
                    <a:pt x="1623" y="1228"/>
                  </a:lnTo>
                  <a:lnTo>
                    <a:pt x="1628" y="1215"/>
                  </a:lnTo>
                  <a:lnTo>
                    <a:pt x="1632" y="1199"/>
                  </a:lnTo>
                  <a:lnTo>
                    <a:pt x="1634" y="1184"/>
                  </a:lnTo>
                  <a:lnTo>
                    <a:pt x="1634" y="1158"/>
                  </a:lnTo>
                  <a:lnTo>
                    <a:pt x="1635" y="1148"/>
                  </a:lnTo>
                  <a:lnTo>
                    <a:pt x="1635" y="1138"/>
                  </a:lnTo>
                  <a:lnTo>
                    <a:pt x="1637" y="1126"/>
                  </a:lnTo>
                  <a:lnTo>
                    <a:pt x="1637" y="1116"/>
                  </a:lnTo>
                  <a:lnTo>
                    <a:pt x="1637" y="1093"/>
                  </a:lnTo>
                  <a:lnTo>
                    <a:pt x="1635" y="1081"/>
                  </a:lnTo>
                  <a:lnTo>
                    <a:pt x="1637" y="1080"/>
                  </a:lnTo>
                  <a:lnTo>
                    <a:pt x="1637" y="1076"/>
                  </a:lnTo>
                  <a:lnTo>
                    <a:pt x="1637" y="1075"/>
                  </a:lnTo>
                  <a:lnTo>
                    <a:pt x="1637" y="1073"/>
                  </a:lnTo>
                  <a:lnTo>
                    <a:pt x="1635" y="1068"/>
                  </a:lnTo>
                  <a:lnTo>
                    <a:pt x="1634" y="1066"/>
                  </a:lnTo>
                  <a:lnTo>
                    <a:pt x="1635" y="1044"/>
                  </a:lnTo>
                  <a:lnTo>
                    <a:pt x="1637" y="998"/>
                  </a:lnTo>
                  <a:lnTo>
                    <a:pt x="1635" y="974"/>
                  </a:lnTo>
                  <a:lnTo>
                    <a:pt x="1630" y="950"/>
                  </a:lnTo>
                  <a:lnTo>
                    <a:pt x="1625" y="929"/>
                  </a:lnTo>
                  <a:lnTo>
                    <a:pt x="1620" y="917"/>
                  </a:lnTo>
                  <a:lnTo>
                    <a:pt x="1615" y="907"/>
                  </a:lnTo>
                  <a:lnTo>
                    <a:pt x="1608" y="899"/>
                  </a:lnTo>
                  <a:lnTo>
                    <a:pt x="1601" y="888"/>
                  </a:lnTo>
                  <a:lnTo>
                    <a:pt x="1596" y="882"/>
                  </a:lnTo>
                  <a:lnTo>
                    <a:pt x="1589" y="876"/>
                  </a:lnTo>
                  <a:lnTo>
                    <a:pt x="1582" y="873"/>
                  </a:lnTo>
                  <a:lnTo>
                    <a:pt x="1575" y="870"/>
                  </a:lnTo>
                  <a:lnTo>
                    <a:pt x="1566" y="866"/>
                  </a:lnTo>
                  <a:lnTo>
                    <a:pt x="1558" y="863"/>
                  </a:lnTo>
                  <a:lnTo>
                    <a:pt x="1551" y="859"/>
                  </a:lnTo>
                  <a:lnTo>
                    <a:pt x="1546" y="856"/>
                  </a:lnTo>
                  <a:lnTo>
                    <a:pt x="1544" y="830"/>
                  </a:lnTo>
                  <a:lnTo>
                    <a:pt x="1544" y="806"/>
                  </a:lnTo>
                  <a:lnTo>
                    <a:pt x="1541" y="783"/>
                  </a:lnTo>
                  <a:lnTo>
                    <a:pt x="1537" y="759"/>
                  </a:lnTo>
                  <a:lnTo>
                    <a:pt x="1535" y="747"/>
                  </a:lnTo>
                  <a:lnTo>
                    <a:pt x="1532" y="736"/>
                  </a:lnTo>
                  <a:lnTo>
                    <a:pt x="1528" y="726"/>
                  </a:lnTo>
                  <a:lnTo>
                    <a:pt x="1523" y="716"/>
                  </a:lnTo>
                  <a:lnTo>
                    <a:pt x="1516" y="706"/>
                  </a:lnTo>
                  <a:lnTo>
                    <a:pt x="1510" y="697"/>
                  </a:lnTo>
                  <a:lnTo>
                    <a:pt x="1501" y="689"/>
                  </a:lnTo>
                  <a:lnTo>
                    <a:pt x="1492" y="680"/>
                  </a:lnTo>
                  <a:lnTo>
                    <a:pt x="1484" y="671"/>
                  </a:lnTo>
                  <a:lnTo>
                    <a:pt x="1475" y="666"/>
                  </a:lnTo>
                  <a:lnTo>
                    <a:pt x="1465" y="661"/>
                  </a:lnTo>
                  <a:lnTo>
                    <a:pt x="1454" y="654"/>
                  </a:lnTo>
                  <a:lnTo>
                    <a:pt x="1446" y="649"/>
                  </a:lnTo>
                  <a:lnTo>
                    <a:pt x="1441" y="641"/>
                  </a:lnTo>
                  <a:lnTo>
                    <a:pt x="1439" y="637"/>
                  </a:lnTo>
                  <a:lnTo>
                    <a:pt x="1439" y="630"/>
                  </a:lnTo>
                  <a:lnTo>
                    <a:pt x="1441" y="625"/>
                  </a:lnTo>
                  <a:lnTo>
                    <a:pt x="1442" y="617"/>
                  </a:lnTo>
                  <a:lnTo>
                    <a:pt x="1447" y="608"/>
                  </a:lnTo>
                  <a:lnTo>
                    <a:pt x="1451" y="598"/>
                  </a:lnTo>
                  <a:lnTo>
                    <a:pt x="1453" y="586"/>
                  </a:lnTo>
                  <a:lnTo>
                    <a:pt x="1454" y="574"/>
                  </a:lnTo>
                  <a:lnTo>
                    <a:pt x="1456" y="562"/>
                  </a:lnTo>
                  <a:lnTo>
                    <a:pt x="1458" y="550"/>
                  </a:lnTo>
                  <a:lnTo>
                    <a:pt x="1460" y="538"/>
                  </a:lnTo>
                  <a:lnTo>
                    <a:pt x="1463" y="528"/>
                  </a:lnTo>
                  <a:lnTo>
                    <a:pt x="1465" y="519"/>
                  </a:lnTo>
                  <a:lnTo>
                    <a:pt x="1466" y="513"/>
                  </a:lnTo>
                  <a:lnTo>
                    <a:pt x="1468" y="506"/>
                  </a:lnTo>
                  <a:lnTo>
                    <a:pt x="1472" y="497"/>
                  </a:lnTo>
                  <a:lnTo>
                    <a:pt x="1477" y="490"/>
                  </a:lnTo>
                  <a:lnTo>
                    <a:pt x="1480" y="484"/>
                  </a:lnTo>
                  <a:lnTo>
                    <a:pt x="1484" y="477"/>
                  </a:lnTo>
                  <a:lnTo>
                    <a:pt x="1487" y="468"/>
                  </a:lnTo>
                  <a:lnTo>
                    <a:pt x="1491" y="465"/>
                  </a:lnTo>
                  <a:lnTo>
                    <a:pt x="1494" y="460"/>
                  </a:lnTo>
                  <a:lnTo>
                    <a:pt x="1496" y="456"/>
                  </a:lnTo>
                  <a:lnTo>
                    <a:pt x="1497" y="451"/>
                  </a:lnTo>
                  <a:lnTo>
                    <a:pt x="1501" y="446"/>
                  </a:lnTo>
                  <a:lnTo>
                    <a:pt x="1504" y="443"/>
                  </a:lnTo>
                  <a:lnTo>
                    <a:pt x="1510" y="441"/>
                  </a:lnTo>
                  <a:lnTo>
                    <a:pt x="1515" y="439"/>
                  </a:lnTo>
                  <a:lnTo>
                    <a:pt x="1520" y="448"/>
                  </a:lnTo>
                  <a:lnTo>
                    <a:pt x="1527" y="453"/>
                  </a:lnTo>
                  <a:lnTo>
                    <a:pt x="1534" y="460"/>
                  </a:lnTo>
                  <a:lnTo>
                    <a:pt x="1541" y="465"/>
                  </a:lnTo>
                  <a:lnTo>
                    <a:pt x="1558" y="472"/>
                  </a:lnTo>
                  <a:lnTo>
                    <a:pt x="1575" y="477"/>
                  </a:lnTo>
                  <a:lnTo>
                    <a:pt x="1592" y="480"/>
                  </a:lnTo>
                  <a:lnTo>
                    <a:pt x="1611" y="480"/>
                  </a:lnTo>
                  <a:lnTo>
                    <a:pt x="1630" y="478"/>
                  </a:lnTo>
                  <a:lnTo>
                    <a:pt x="1647" y="475"/>
                  </a:lnTo>
                  <a:lnTo>
                    <a:pt x="1654" y="472"/>
                  </a:lnTo>
                  <a:lnTo>
                    <a:pt x="1661" y="466"/>
                  </a:lnTo>
                  <a:lnTo>
                    <a:pt x="1668" y="463"/>
                  </a:lnTo>
                  <a:lnTo>
                    <a:pt x="1675" y="460"/>
                  </a:lnTo>
                  <a:lnTo>
                    <a:pt x="1680" y="456"/>
                  </a:lnTo>
                  <a:lnTo>
                    <a:pt x="1687" y="456"/>
                  </a:lnTo>
                  <a:lnTo>
                    <a:pt x="1696" y="458"/>
                  </a:lnTo>
                  <a:lnTo>
                    <a:pt x="1703" y="461"/>
                  </a:lnTo>
                  <a:lnTo>
                    <a:pt x="1713" y="461"/>
                  </a:lnTo>
                  <a:lnTo>
                    <a:pt x="1722" y="460"/>
                  </a:lnTo>
                  <a:lnTo>
                    <a:pt x="1732" y="456"/>
                  </a:lnTo>
                  <a:lnTo>
                    <a:pt x="1740" y="453"/>
                  </a:lnTo>
                  <a:lnTo>
                    <a:pt x="1756" y="443"/>
                  </a:lnTo>
                  <a:lnTo>
                    <a:pt x="1772" y="431"/>
                  </a:lnTo>
                  <a:lnTo>
                    <a:pt x="1784" y="415"/>
                  </a:lnTo>
                  <a:lnTo>
                    <a:pt x="1794" y="400"/>
                  </a:lnTo>
                  <a:lnTo>
                    <a:pt x="1803" y="383"/>
                  </a:lnTo>
                  <a:lnTo>
                    <a:pt x="1809" y="366"/>
                  </a:lnTo>
                  <a:lnTo>
                    <a:pt x="1815" y="347"/>
                  </a:lnTo>
                  <a:lnTo>
                    <a:pt x="1820" y="326"/>
                  </a:lnTo>
                  <a:lnTo>
                    <a:pt x="1822" y="306"/>
                  </a:lnTo>
                  <a:lnTo>
                    <a:pt x="1825" y="285"/>
                  </a:lnTo>
                  <a:lnTo>
                    <a:pt x="1825" y="267"/>
                  </a:lnTo>
                  <a:lnTo>
                    <a:pt x="1827" y="246"/>
                  </a:lnTo>
                  <a:lnTo>
                    <a:pt x="1827" y="226"/>
                  </a:lnTo>
                  <a:lnTo>
                    <a:pt x="1827" y="207"/>
                  </a:lnTo>
                  <a:lnTo>
                    <a:pt x="1839" y="226"/>
                  </a:lnTo>
                  <a:lnTo>
                    <a:pt x="1849" y="244"/>
                  </a:lnTo>
                  <a:lnTo>
                    <a:pt x="1856" y="265"/>
                  </a:lnTo>
                  <a:lnTo>
                    <a:pt x="1863" y="284"/>
                  </a:lnTo>
                  <a:lnTo>
                    <a:pt x="1870" y="304"/>
                  </a:lnTo>
                  <a:lnTo>
                    <a:pt x="1875" y="325"/>
                  </a:lnTo>
                  <a:lnTo>
                    <a:pt x="1884" y="343"/>
                  </a:lnTo>
                  <a:lnTo>
                    <a:pt x="1892" y="364"/>
                  </a:lnTo>
                  <a:lnTo>
                    <a:pt x="1904" y="396"/>
                  </a:lnTo>
                  <a:lnTo>
                    <a:pt x="1915" y="431"/>
                  </a:lnTo>
                  <a:lnTo>
                    <a:pt x="1925" y="465"/>
                  </a:lnTo>
                  <a:lnTo>
                    <a:pt x="1937" y="499"/>
                  </a:lnTo>
                  <a:lnTo>
                    <a:pt x="1947" y="531"/>
                  </a:lnTo>
                  <a:lnTo>
                    <a:pt x="1959" y="566"/>
                  </a:lnTo>
                  <a:lnTo>
                    <a:pt x="1970" y="600"/>
                  </a:lnTo>
                  <a:lnTo>
                    <a:pt x="1982" y="634"/>
                  </a:lnTo>
                  <a:lnTo>
                    <a:pt x="1987" y="656"/>
                  </a:lnTo>
                  <a:lnTo>
                    <a:pt x="1994" y="678"/>
                  </a:lnTo>
                  <a:lnTo>
                    <a:pt x="2001" y="700"/>
                  </a:lnTo>
                  <a:lnTo>
                    <a:pt x="2008" y="723"/>
                  </a:lnTo>
                  <a:lnTo>
                    <a:pt x="2015" y="743"/>
                  </a:lnTo>
                  <a:lnTo>
                    <a:pt x="2021" y="765"/>
                  </a:lnTo>
                  <a:lnTo>
                    <a:pt x="2030" y="788"/>
                  </a:lnTo>
                  <a:lnTo>
                    <a:pt x="2037" y="810"/>
                  </a:lnTo>
                  <a:lnTo>
                    <a:pt x="2051" y="854"/>
                  </a:lnTo>
                  <a:lnTo>
                    <a:pt x="2065" y="900"/>
                  </a:lnTo>
                  <a:lnTo>
                    <a:pt x="2080" y="945"/>
                  </a:lnTo>
                  <a:lnTo>
                    <a:pt x="2094" y="991"/>
                  </a:lnTo>
                  <a:lnTo>
                    <a:pt x="2111" y="1035"/>
                  </a:lnTo>
                  <a:lnTo>
                    <a:pt x="2128" y="1081"/>
                  </a:lnTo>
                  <a:lnTo>
                    <a:pt x="2146" y="1124"/>
                  </a:lnTo>
                  <a:lnTo>
                    <a:pt x="2165" y="1169"/>
                  </a:lnTo>
                  <a:lnTo>
                    <a:pt x="2180" y="1213"/>
                  </a:lnTo>
                  <a:lnTo>
                    <a:pt x="2197" y="1256"/>
                  </a:lnTo>
                  <a:lnTo>
                    <a:pt x="2215" y="1300"/>
                  </a:lnTo>
                  <a:lnTo>
                    <a:pt x="2232" y="1343"/>
                  </a:lnTo>
                  <a:lnTo>
                    <a:pt x="2249" y="1386"/>
                  </a:lnTo>
                  <a:lnTo>
                    <a:pt x="2266" y="1428"/>
                  </a:lnTo>
                  <a:lnTo>
                    <a:pt x="2282" y="1473"/>
                  </a:lnTo>
                  <a:lnTo>
                    <a:pt x="2297" y="1515"/>
                  </a:lnTo>
                  <a:lnTo>
                    <a:pt x="2301" y="1521"/>
                  </a:lnTo>
                  <a:lnTo>
                    <a:pt x="2302" y="1526"/>
                  </a:lnTo>
                  <a:lnTo>
                    <a:pt x="2304" y="1531"/>
                  </a:lnTo>
                  <a:lnTo>
                    <a:pt x="2306" y="1536"/>
                  </a:lnTo>
                  <a:lnTo>
                    <a:pt x="2308" y="1541"/>
                  </a:lnTo>
                  <a:lnTo>
                    <a:pt x="2311" y="1546"/>
                  </a:lnTo>
                  <a:lnTo>
                    <a:pt x="2313" y="1551"/>
                  </a:lnTo>
                  <a:lnTo>
                    <a:pt x="2314" y="1555"/>
                  </a:lnTo>
                  <a:lnTo>
                    <a:pt x="2321" y="1574"/>
                  </a:lnTo>
                  <a:lnTo>
                    <a:pt x="2328" y="1592"/>
                  </a:lnTo>
                  <a:lnTo>
                    <a:pt x="2335" y="1611"/>
                  </a:lnTo>
                  <a:lnTo>
                    <a:pt x="2342" y="1630"/>
                  </a:lnTo>
                  <a:lnTo>
                    <a:pt x="2349" y="1647"/>
                  </a:lnTo>
                  <a:lnTo>
                    <a:pt x="2356" y="1666"/>
                  </a:lnTo>
                  <a:lnTo>
                    <a:pt x="2363" y="1685"/>
                  </a:lnTo>
                  <a:lnTo>
                    <a:pt x="2368" y="1705"/>
                  </a:lnTo>
                  <a:lnTo>
                    <a:pt x="2378" y="1729"/>
                  </a:lnTo>
                  <a:lnTo>
                    <a:pt x="2389" y="1755"/>
                  </a:lnTo>
                  <a:lnTo>
                    <a:pt x="2399" y="1780"/>
                  </a:lnTo>
                  <a:lnTo>
                    <a:pt x="2408" y="1806"/>
                  </a:lnTo>
                  <a:lnTo>
                    <a:pt x="2418" y="1832"/>
                  </a:lnTo>
                  <a:lnTo>
                    <a:pt x="2427" y="1857"/>
                  </a:lnTo>
                  <a:lnTo>
                    <a:pt x="2435" y="1883"/>
                  </a:lnTo>
                  <a:lnTo>
                    <a:pt x="2445" y="1908"/>
                  </a:lnTo>
                  <a:lnTo>
                    <a:pt x="2464" y="1953"/>
                  </a:lnTo>
                  <a:lnTo>
                    <a:pt x="2482" y="1996"/>
                  </a:lnTo>
                  <a:lnTo>
                    <a:pt x="2499" y="2040"/>
                  </a:lnTo>
                  <a:lnTo>
                    <a:pt x="2518" y="2083"/>
                  </a:lnTo>
                  <a:lnTo>
                    <a:pt x="2535" y="2127"/>
                  </a:lnTo>
                  <a:lnTo>
                    <a:pt x="2554" y="2171"/>
                  </a:lnTo>
                  <a:lnTo>
                    <a:pt x="2571" y="2214"/>
                  </a:lnTo>
                  <a:lnTo>
                    <a:pt x="2590" y="2259"/>
                  </a:lnTo>
                  <a:lnTo>
                    <a:pt x="2590" y="2260"/>
                  </a:lnTo>
                  <a:lnTo>
                    <a:pt x="2589" y="2260"/>
                  </a:lnTo>
                  <a:lnTo>
                    <a:pt x="2589" y="2262"/>
                  </a:lnTo>
                  <a:lnTo>
                    <a:pt x="2589" y="2264"/>
                  </a:lnTo>
                  <a:lnTo>
                    <a:pt x="2589" y="2264"/>
                  </a:lnTo>
                  <a:lnTo>
                    <a:pt x="2589" y="2265"/>
                  </a:lnTo>
                  <a:lnTo>
                    <a:pt x="2589" y="2267"/>
                  </a:lnTo>
                  <a:lnTo>
                    <a:pt x="2589" y="2269"/>
                  </a:lnTo>
                  <a:lnTo>
                    <a:pt x="2590" y="2271"/>
                  </a:lnTo>
                  <a:lnTo>
                    <a:pt x="2592" y="2274"/>
                  </a:lnTo>
                  <a:lnTo>
                    <a:pt x="2594" y="2277"/>
                  </a:lnTo>
                  <a:lnTo>
                    <a:pt x="2595" y="2279"/>
                  </a:lnTo>
                  <a:lnTo>
                    <a:pt x="2595" y="2283"/>
                  </a:lnTo>
                  <a:lnTo>
                    <a:pt x="2597" y="2286"/>
                  </a:lnTo>
                  <a:lnTo>
                    <a:pt x="2599" y="2288"/>
                  </a:lnTo>
                  <a:lnTo>
                    <a:pt x="2602" y="2291"/>
                  </a:lnTo>
                  <a:lnTo>
                    <a:pt x="2602" y="2298"/>
                  </a:lnTo>
                  <a:lnTo>
                    <a:pt x="2606" y="2305"/>
                  </a:lnTo>
                  <a:lnTo>
                    <a:pt x="2609" y="2310"/>
                  </a:lnTo>
                  <a:lnTo>
                    <a:pt x="2614" y="2317"/>
                  </a:lnTo>
                  <a:lnTo>
                    <a:pt x="2618" y="2324"/>
                  </a:lnTo>
                  <a:lnTo>
                    <a:pt x="2621" y="2329"/>
                  </a:lnTo>
                  <a:lnTo>
                    <a:pt x="2623" y="2337"/>
                  </a:lnTo>
                  <a:lnTo>
                    <a:pt x="2623" y="2344"/>
                  </a:lnTo>
                  <a:lnTo>
                    <a:pt x="2626" y="2346"/>
                  </a:lnTo>
                  <a:lnTo>
                    <a:pt x="2628" y="2349"/>
                  </a:lnTo>
                  <a:lnTo>
                    <a:pt x="2628" y="2353"/>
                  </a:lnTo>
                  <a:lnTo>
                    <a:pt x="2630" y="2356"/>
                  </a:lnTo>
                  <a:lnTo>
                    <a:pt x="2630" y="2359"/>
                  </a:lnTo>
                  <a:lnTo>
                    <a:pt x="2630" y="2363"/>
                  </a:lnTo>
                  <a:lnTo>
                    <a:pt x="2630" y="2366"/>
                  </a:lnTo>
                  <a:lnTo>
                    <a:pt x="2632" y="2370"/>
                  </a:lnTo>
                  <a:lnTo>
                    <a:pt x="2633" y="2373"/>
                  </a:lnTo>
                  <a:lnTo>
                    <a:pt x="2635" y="2377"/>
                  </a:lnTo>
                  <a:lnTo>
                    <a:pt x="2637" y="2380"/>
                  </a:lnTo>
                  <a:lnTo>
                    <a:pt x="2639" y="2385"/>
                  </a:lnTo>
                  <a:lnTo>
                    <a:pt x="2640" y="2388"/>
                  </a:lnTo>
                  <a:lnTo>
                    <a:pt x="2642" y="2392"/>
                  </a:lnTo>
                  <a:lnTo>
                    <a:pt x="2644" y="2395"/>
                  </a:lnTo>
                  <a:lnTo>
                    <a:pt x="2647" y="2399"/>
                  </a:lnTo>
                  <a:lnTo>
                    <a:pt x="2647" y="2406"/>
                  </a:lnTo>
                  <a:lnTo>
                    <a:pt x="2649" y="2411"/>
                  </a:lnTo>
                  <a:lnTo>
                    <a:pt x="2651" y="2416"/>
                  </a:lnTo>
                  <a:lnTo>
                    <a:pt x="2652" y="2421"/>
                  </a:lnTo>
                  <a:lnTo>
                    <a:pt x="2654" y="2426"/>
                  </a:lnTo>
                  <a:lnTo>
                    <a:pt x="2658" y="2431"/>
                  </a:lnTo>
                  <a:lnTo>
                    <a:pt x="2659" y="2436"/>
                  </a:lnTo>
                  <a:lnTo>
                    <a:pt x="2659" y="2441"/>
                  </a:lnTo>
                  <a:lnTo>
                    <a:pt x="2661" y="2443"/>
                  </a:lnTo>
                  <a:lnTo>
                    <a:pt x="2663" y="2445"/>
                  </a:lnTo>
                  <a:lnTo>
                    <a:pt x="2663" y="2447"/>
                  </a:lnTo>
                  <a:lnTo>
                    <a:pt x="2663" y="2448"/>
                  </a:lnTo>
                  <a:lnTo>
                    <a:pt x="2663" y="2450"/>
                  </a:lnTo>
                  <a:lnTo>
                    <a:pt x="2663" y="2452"/>
                  </a:lnTo>
                  <a:lnTo>
                    <a:pt x="2663" y="2455"/>
                  </a:lnTo>
                  <a:lnTo>
                    <a:pt x="2663" y="2457"/>
                  </a:lnTo>
                  <a:lnTo>
                    <a:pt x="2661" y="2459"/>
                  </a:lnTo>
                  <a:lnTo>
                    <a:pt x="2661" y="2460"/>
                  </a:lnTo>
                  <a:lnTo>
                    <a:pt x="2661" y="2464"/>
                  </a:lnTo>
                  <a:lnTo>
                    <a:pt x="2663" y="2465"/>
                  </a:lnTo>
                  <a:lnTo>
                    <a:pt x="2663" y="2469"/>
                  </a:lnTo>
                  <a:lnTo>
                    <a:pt x="2664" y="2472"/>
                  </a:lnTo>
                  <a:lnTo>
                    <a:pt x="2664" y="2474"/>
                  </a:lnTo>
                  <a:lnTo>
                    <a:pt x="2666" y="2477"/>
                  </a:lnTo>
                  <a:lnTo>
                    <a:pt x="2666" y="2479"/>
                  </a:lnTo>
                  <a:lnTo>
                    <a:pt x="2668" y="2481"/>
                  </a:lnTo>
                  <a:lnTo>
                    <a:pt x="2670" y="2484"/>
                  </a:lnTo>
                  <a:lnTo>
                    <a:pt x="2671" y="2486"/>
                  </a:lnTo>
                  <a:lnTo>
                    <a:pt x="2673" y="2489"/>
                  </a:lnTo>
                  <a:lnTo>
                    <a:pt x="2676" y="2491"/>
                  </a:lnTo>
                  <a:lnTo>
                    <a:pt x="2678" y="2493"/>
                  </a:lnTo>
                  <a:lnTo>
                    <a:pt x="2682" y="2494"/>
                  </a:lnTo>
                  <a:lnTo>
                    <a:pt x="2682" y="2500"/>
                  </a:lnTo>
                  <a:lnTo>
                    <a:pt x="2682" y="2503"/>
                  </a:lnTo>
                  <a:lnTo>
                    <a:pt x="2682" y="2508"/>
                  </a:lnTo>
                  <a:lnTo>
                    <a:pt x="2680" y="2511"/>
                  </a:lnTo>
                  <a:lnTo>
                    <a:pt x="2680" y="2517"/>
                  </a:lnTo>
                  <a:lnTo>
                    <a:pt x="2682" y="2520"/>
                  </a:lnTo>
                  <a:lnTo>
                    <a:pt x="2683" y="2523"/>
                  </a:lnTo>
                  <a:lnTo>
                    <a:pt x="2689" y="2525"/>
                  </a:lnTo>
                  <a:lnTo>
                    <a:pt x="2695" y="2525"/>
                  </a:lnTo>
                  <a:lnTo>
                    <a:pt x="2692" y="2530"/>
                  </a:lnTo>
                  <a:lnTo>
                    <a:pt x="2692" y="2535"/>
                  </a:lnTo>
                  <a:lnTo>
                    <a:pt x="2692" y="2541"/>
                  </a:lnTo>
                  <a:lnTo>
                    <a:pt x="2692" y="2544"/>
                  </a:lnTo>
                  <a:lnTo>
                    <a:pt x="2697" y="2552"/>
                  </a:lnTo>
                  <a:lnTo>
                    <a:pt x="2702" y="2559"/>
                  </a:lnTo>
                  <a:lnTo>
                    <a:pt x="2708" y="2564"/>
                  </a:lnTo>
                  <a:lnTo>
                    <a:pt x="2713" y="2573"/>
                  </a:lnTo>
                  <a:lnTo>
                    <a:pt x="2713" y="2576"/>
                  </a:lnTo>
                  <a:lnTo>
                    <a:pt x="2713" y="2582"/>
                  </a:lnTo>
                  <a:lnTo>
                    <a:pt x="2711" y="2587"/>
                  </a:lnTo>
                  <a:lnTo>
                    <a:pt x="2709" y="2592"/>
                  </a:lnTo>
                  <a:lnTo>
                    <a:pt x="2716" y="2595"/>
                  </a:lnTo>
                  <a:lnTo>
                    <a:pt x="2720" y="2600"/>
                  </a:lnTo>
                  <a:lnTo>
                    <a:pt x="2721" y="2607"/>
                  </a:lnTo>
                  <a:lnTo>
                    <a:pt x="2723" y="2614"/>
                  </a:lnTo>
                  <a:lnTo>
                    <a:pt x="2725" y="2621"/>
                  </a:lnTo>
                  <a:lnTo>
                    <a:pt x="2726" y="2626"/>
                  </a:lnTo>
                  <a:lnTo>
                    <a:pt x="2730" y="2631"/>
                  </a:lnTo>
                  <a:lnTo>
                    <a:pt x="2739" y="2634"/>
                  </a:lnTo>
                  <a:lnTo>
                    <a:pt x="2735" y="2641"/>
                  </a:lnTo>
                  <a:lnTo>
                    <a:pt x="2737" y="2648"/>
                  </a:lnTo>
                  <a:lnTo>
                    <a:pt x="2740" y="2652"/>
                  </a:lnTo>
                  <a:lnTo>
                    <a:pt x="2745" y="2657"/>
                  </a:lnTo>
                  <a:lnTo>
                    <a:pt x="2749" y="2660"/>
                  </a:lnTo>
                  <a:lnTo>
                    <a:pt x="2752" y="2665"/>
                  </a:lnTo>
                  <a:lnTo>
                    <a:pt x="2754" y="2670"/>
                  </a:lnTo>
                  <a:lnTo>
                    <a:pt x="2752" y="2677"/>
                  </a:lnTo>
                  <a:lnTo>
                    <a:pt x="2757" y="2681"/>
                  </a:lnTo>
                  <a:lnTo>
                    <a:pt x="2763" y="2686"/>
                  </a:lnTo>
                  <a:lnTo>
                    <a:pt x="2764" y="2691"/>
                  </a:lnTo>
                  <a:lnTo>
                    <a:pt x="2766" y="2696"/>
                  </a:lnTo>
                  <a:lnTo>
                    <a:pt x="2766" y="2703"/>
                  </a:lnTo>
                  <a:lnTo>
                    <a:pt x="2766" y="2710"/>
                  </a:lnTo>
                  <a:lnTo>
                    <a:pt x="2766" y="2715"/>
                  </a:lnTo>
                  <a:lnTo>
                    <a:pt x="2768" y="2722"/>
                  </a:lnTo>
                  <a:lnTo>
                    <a:pt x="2776" y="2728"/>
                  </a:lnTo>
                  <a:lnTo>
                    <a:pt x="2785" y="2737"/>
                  </a:lnTo>
                  <a:lnTo>
                    <a:pt x="2792" y="2746"/>
                  </a:lnTo>
                  <a:lnTo>
                    <a:pt x="2797" y="2754"/>
                  </a:lnTo>
                  <a:lnTo>
                    <a:pt x="2802" y="2764"/>
                  </a:lnTo>
                  <a:lnTo>
                    <a:pt x="2807" y="2773"/>
                  </a:lnTo>
                  <a:lnTo>
                    <a:pt x="2814" y="2781"/>
                  </a:lnTo>
                  <a:lnTo>
                    <a:pt x="2823" y="2790"/>
                  </a:lnTo>
                  <a:lnTo>
                    <a:pt x="2821" y="2797"/>
                  </a:lnTo>
                  <a:lnTo>
                    <a:pt x="2821" y="2802"/>
                  </a:lnTo>
                  <a:lnTo>
                    <a:pt x="2825" y="2807"/>
                  </a:lnTo>
                  <a:lnTo>
                    <a:pt x="2830" y="2810"/>
                  </a:lnTo>
                  <a:lnTo>
                    <a:pt x="2833" y="2814"/>
                  </a:lnTo>
                  <a:lnTo>
                    <a:pt x="2837" y="2819"/>
                  </a:lnTo>
                  <a:lnTo>
                    <a:pt x="2839" y="2824"/>
                  </a:lnTo>
                  <a:lnTo>
                    <a:pt x="2837" y="2831"/>
                  </a:lnTo>
                  <a:lnTo>
                    <a:pt x="2840" y="2833"/>
                  </a:lnTo>
                  <a:lnTo>
                    <a:pt x="2844" y="2834"/>
                  </a:lnTo>
                  <a:lnTo>
                    <a:pt x="2849" y="2834"/>
                  </a:lnTo>
                  <a:lnTo>
                    <a:pt x="2852" y="2836"/>
                  </a:lnTo>
                  <a:lnTo>
                    <a:pt x="2856" y="2838"/>
                  </a:lnTo>
                  <a:lnTo>
                    <a:pt x="2859" y="2840"/>
                  </a:lnTo>
                  <a:lnTo>
                    <a:pt x="2863" y="2841"/>
                  </a:lnTo>
                  <a:lnTo>
                    <a:pt x="2866" y="2846"/>
                  </a:lnTo>
                  <a:lnTo>
                    <a:pt x="2864" y="2853"/>
                  </a:lnTo>
                  <a:lnTo>
                    <a:pt x="2866" y="2858"/>
                  </a:lnTo>
                  <a:lnTo>
                    <a:pt x="2868" y="2862"/>
                  </a:lnTo>
                  <a:lnTo>
                    <a:pt x="2873" y="2867"/>
                  </a:lnTo>
                  <a:lnTo>
                    <a:pt x="2876" y="2870"/>
                  </a:lnTo>
                  <a:lnTo>
                    <a:pt x="2880" y="2875"/>
                  </a:lnTo>
                  <a:lnTo>
                    <a:pt x="2882" y="2881"/>
                  </a:lnTo>
                  <a:lnTo>
                    <a:pt x="2880" y="2887"/>
                  </a:lnTo>
                  <a:lnTo>
                    <a:pt x="2882" y="2891"/>
                  </a:lnTo>
                  <a:lnTo>
                    <a:pt x="2885" y="2894"/>
                  </a:lnTo>
                  <a:lnTo>
                    <a:pt x="2888" y="2896"/>
                  </a:lnTo>
                  <a:lnTo>
                    <a:pt x="2890" y="2899"/>
                  </a:lnTo>
                  <a:lnTo>
                    <a:pt x="2894" y="2903"/>
                  </a:lnTo>
                  <a:lnTo>
                    <a:pt x="2895" y="2908"/>
                  </a:lnTo>
                  <a:lnTo>
                    <a:pt x="2895" y="2911"/>
                  </a:lnTo>
                  <a:lnTo>
                    <a:pt x="2894" y="2916"/>
                  </a:lnTo>
                  <a:lnTo>
                    <a:pt x="2923" y="2944"/>
                  </a:lnTo>
                  <a:lnTo>
                    <a:pt x="2923" y="2949"/>
                  </a:lnTo>
                  <a:lnTo>
                    <a:pt x="2923" y="2952"/>
                  </a:lnTo>
                  <a:lnTo>
                    <a:pt x="2921" y="2957"/>
                  </a:lnTo>
                  <a:lnTo>
                    <a:pt x="2921" y="2961"/>
                  </a:lnTo>
                  <a:lnTo>
                    <a:pt x="2921" y="2964"/>
                  </a:lnTo>
                  <a:lnTo>
                    <a:pt x="2923" y="2969"/>
                  </a:lnTo>
                  <a:lnTo>
                    <a:pt x="2925" y="2973"/>
                  </a:lnTo>
                  <a:lnTo>
                    <a:pt x="2926" y="2976"/>
                  </a:lnTo>
                  <a:lnTo>
                    <a:pt x="2937" y="2976"/>
                  </a:lnTo>
                  <a:lnTo>
                    <a:pt x="2935" y="2981"/>
                  </a:lnTo>
                  <a:lnTo>
                    <a:pt x="2932" y="2985"/>
                  </a:lnTo>
                  <a:lnTo>
                    <a:pt x="2928" y="2988"/>
                  </a:lnTo>
                  <a:lnTo>
                    <a:pt x="2923" y="2988"/>
                  </a:lnTo>
                  <a:lnTo>
                    <a:pt x="2918" y="2990"/>
                  </a:lnTo>
                  <a:lnTo>
                    <a:pt x="2911" y="2990"/>
                  </a:lnTo>
                  <a:lnTo>
                    <a:pt x="2906" y="2990"/>
                  </a:lnTo>
                  <a:lnTo>
                    <a:pt x="2901" y="2992"/>
                  </a:lnTo>
                  <a:lnTo>
                    <a:pt x="2897" y="2993"/>
                  </a:lnTo>
                  <a:lnTo>
                    <a:pt x="2895" y="2995"/>
                  </a:lnTo>
                  <a:lnTo>
                    <a:pt x="2894" y="2998"/>
                  </a:lnTo>
                  <a:lnTo>
                    <a:pt x="2894" y="3002"/>
                  </a:lnTo>
                  <a:lnTo>
                    <a:pt x="2894" y="3007"/>
                  </a:lnTo>
                  <a:lnTo>
                    <a:pt x="2894" y="3010"/>
                  </a:lnTo>
                  <a:lnTo>
                    <a:pt x="2894" y="3014"/>
                  </a:lnTo>
                  <a:lnTo>
                    <a:pt x="2894" y="3017"/>
                  </a:lnTo>
                  <a:lnTo>
                    <a:pt x="2892" y="3017"/>
                  </a:lnTo>
                  <a:lnTo>
                    <a:pt x="2890" y="3017"/>
                  </a:lnTo>
                  <a:lnTo>
                    <a:pt x="2888" y="3017"/>
                  </a:lnTo>
                  <a:lnTo>
                    <a:pt x="2885" y="3019"/>
                  </a:lnTo>
                  <a:lnTo>
                    <a:pt x="2883" y="3019"/>
                  </a:lnTo>
                  <a:lnTo>
                    <a:pt x="2883" y="3021"/>
                  </a:lnTo>
                  <a:lnTo>
                    <a:pt x="2882" y="3021"/>
                  </a:lnTo>
                  <a:lnTo>
                    <a:pt x="2880" y="3022"/>
                  </a:lnTo>
                  <a:lnTo>
                    <a:pt x="2880" y="3103"/>
                  </a:lnTo>
                  <a:lnTo>
                    <a:pt x="2876" y="3101"/>
                  </a:lnTo>
                  <a:lnTo>
                    <a:pt x="2875" y="3101"/>
                  </a:lnTo>
                  <a:lnTo>
                    <a:pt x="2873" y="3103"/>
                  </a:lnTo>
                  <a:lnTo>
                    <a:pt x="2871" y="3103"/>
                  </a:lnTo>
                  <a:lnTo>
                    <a:pt x="2870" y="3104"/>
                  </a:lnTo>
                  <a:lnTo>
                    <a:pt x="2868" y="3106"/>
                  </a:lnTo>
                  <a:lnTo>
                    <a:pt x="2866" y="3108"/>
                  </a:lnTo>
                  <a:lnTo>
                    <a:pt x="2866" y="3109"/>
                  </a:lnTo>
                  <a:lnTo>
                    <a:pt x="2866" y="3116"/>
                  </a:lnTo>
                  <a:lnTo>
                    <a:pt x="2859" y="3116"/>
                  </a:lnTo>
                  <a:lnTo>
                    <a:pt x="2856" y="3118"/>
                  </a:lnTo>
                  <a:lnTo>
                    <a:pt x="2851" y="3121"/>
                  </a:lnTo>
                  <a:lnTo>
                    <a:pt x="2849" y="3125"/>
                  </a:lnTo>
                  <a:lnTo>
                    <a:pt x="2845" y="3130"/>
                  </a:lnTo>
                  <a:lnTo>
                    <a:pt x="2844" y="3135"/>
                  </a:lnTo>
                  <a:lnTo>
                    <a:pt x="2842" y="3140"/>
                  </a:lnTo>
                  <a:lnTo>
                    <a:pt x="2840" y="3144"/>
                  </a:lnTo>
                  <a:lnTo>
                    <a:pt x="2714" y="3144"/>
                  </a:lnTo>
                  <a:lnTo>
                    <a:pt x="2687" y="3138"/>
                  </a:lnTo>
                  <a:lnTo>
                    <a:pt x="2661" y="3135"/>
                  </a:lnTo>
                  <a:lnTo>
                    <a:pt x="2635" y="3132"/>
                  </a:lnTo>
                  <a:lnTo>
                    <a:pt x="2608" y="3130"/>
                  </a:lnTo>
                  <a:lnTo>
                    <a:pt x="2582" y="3127"/>
                  </a:lnTo>
                  <a:lnTo>
                    <a:pt x="2554" y="3123"/>
                  </a:lnTo>
                  <a:lnTo>
                    <a:pt x="2528" y="3120"/>
                  </a:lnTo>
                  <a:lnTo>
                    <a:pt x="2502" y="3116"/>
                  </a:lnTo>
                  <a:lnTo>
                    <a:pt x="2428" y="3118"/>
                  </a:lnTo>
                  <a:lnTo>
                    <a:pt x="2420" y="3121"/>
                  </a:lnTo>
                  <a:lnTo>
                    <a:pt x="2411" y="3125"/>
                  </a:lnTo>
                  <a:lnTo>
                    <a:pt x="2402" y="3130"/>
                  </a:lnTo>
                  <a:lnTo>
                    <a:pt x="2396" y="3135"/>
                  </a:lnTo>
                  <a:lnTo>
                    <a:pt x="2387" y="3138"/>
                  </a:lnTo>
                  <a:lnTo>
                    <a:pt x="2378" y="3142"/>
                  </a:lnTo>
                  <a:lnTo>
                    <a:pt x="2368" y="3145"/>
                  </a:lnTo>
                  <a:lnTo>
                    <a:pt x="2359" y="3147"/>
                  </a:lnTo>
                  <a:lnTo>
                    <a:pt x="2358" y="3149"/>
                  </a:lnTo>
                  <a:lnTo>
                    <a:pt x="2356" y="3149"/>
                  </a:lnTo>
                  <a:lnTo>
                    <a:pt x="2356" y="3150"/>
                  </a:lnTo>
                  <a:lnTo>
                    <a:pt x="2356" y="3152"/>
                  </a:lnTo>
                  <a:lnTo>
                    <a:pt x="2354" y="3154"/>
                  </a:lnTo>
                  <a:lnTo>
                    <a:pt x="2354" y="3156"/>
                  </a:lnTo>
                  <a:lnTo>
                    <a:pt x="2354" y="3157"/>
                  </a:lnTo>
                  <a:lnTo>
                    <a:pt x="2354" y="3157"/>
                  </a:lnTo>
                  <a:lnTo>
                    <a:pt x="2347" y="3157"/>
                  </a:lnTo>
                  <a:lnTo>
                    <a:pt x="2340" y="3157"/>
                  </a:lnTo>
                  <a:lnTo>
                    <a:pt x="2333" y="3159"/>
                  </a:lnTo>
                  <a:lnTo>
                    <a:pt x="2327" y="3161"/>
                  </a:lnTo>
                  <a:lnTo>
                    <a:pt x="2320" y="3164"/>
                  </a:lnTo>
                  <a:lnTo>
                    <a:pt x="2314" y="3168"/>
                  </a:lnTo>
                  <a:lnTo>
                    <a:pt x="2308" y="3171"/>
                  </a:lnTo>
                  <a:lnTo>
                    <a:pt x="2302" y="3173"/>
                  </a:lnTo>
                  <a:lnTo>
                    <a:pt x="2285" y="3178"/>
                  </a:lnTo>
                  <a:lnTo>
                    <a:pt x="2268" y="3181"/>
                  </a:lnTo>
                  <a:lnTo>
                    <a:pt x="2251" y="3183"/>
                  </a:lnTo>
                  <a:lnTo>
                    <a:pt x="2232" y="3185"/>
                  </a:lnTo>
                  <a:lnTo>
                    <a:pt x="2196" y="3186"/>
                  </a:lnTo>
                  <a:lnTo>
                    <a:pt x="2159" y="3188"/>
                  </a:lnTo>
                  <a:lnTo>
                    <a:pt x="2121" y="3190"/>
                  </a:lnTo>
                  <a:lnTo>
                    <a:pt x="2085" y="3193"/>
                  </a:lnTo>
                  <a:lnTo>
                    <a:pt x="2068" y="3197"/>
                  </a:lnTo>
                  <a:lnTo>
                    <a:pt x="2052" y="3202"/>
                  </a:lnTo>
                  <a:lnTo>
                    <a:pt x="2035" y="3207"/>
                  </a:lnTo>
                  <a:lnTo>
                    <a:pt x="2020" y="3214"/>
                  </a:lnTo>
                  <a:lnTo>
                    <a:pt x="2009" y="3214"/>
                  </a:lnTo>
                  <a:lnTo>
                    <a:pt x="1997" y="3214"/>
                  </a:lnTo>
                  <a:lnTo>
                    <a:pt x="1985" y="3215"/>
                  </a:lnTo>
                  <a:lnTo>
                    <a:pt x="1973" y="3215"/>
                  </a:lnTo>
                  <a:lnTo>
                    <a:pt x="1963" y="3215"/>
                  </a:lnTo>
                  <a:lnTo>
                    <a:pt x="1953" y="3212"/>
                  </a:lnTo>
                  <a:lnTo>
                    <a:pt x="1947" y="3210"/>
                  </a:lnTo>
                  <a:lnTo>
                    <a:pt x="1942" y="3207"/>
                  </a:lnTo>
                  <a:lnTo>
                    <a:pt x="1939" y="3203"/>
                  </a:lnTo>
                  <a:lnTo>
                    <a:pt x="1935" y="3198"/>
                  </a:lnTo>
                  <a:lnTo>
                    <a:pt x="1925" y="3195"/>
                  </a:lnTo>
                  <a:lnTo>
                    <a:pt x="1915" y="3190"/>
                  </a:lnTo>
                  <a:lnTo>
                    <a:pt x="1904" y="3185"/>
                  </a:lnTo>
                  <a:lnTo>
                    <a:pt x="1896" y="3179"/>
                  </a:lnTo>
                  <a:lnTo>
                    <a:pt x="1885" y="3174"/>
                  </a:lnTo>
                  <a:lnTo>
                    <a:pt x="1875" y="3171"/>
                  </a:lnTo>
                  <a:lnTo>
                    <a:pt x="1863" y="3169"/>
                  </a:lnTo>
                  <a:lnTo>
                    <a:pt x="1849" y="3173"/>
                  </a:lnTo>
                  <a:lnTo>
                    <a:pt x="1844" y="3169"/>
                  </a:lnTo>
                  <a:lnTo>
                    <a:pt x="1839" y="3166"/>
                  </a:lnTo>
                  <a:lnTo>
                    <a:pt x="1834" y="3162"/>
                  </a:lnTo>
                  <a:lnTo>
                    <a:pt x="1828" y="3159"/>
                  </a:lnTo>
                  <a:lnTo>
                    <a:pt x="1823" y="3157"/>
                  </a:lnTo>
                  <a:lnTo>
                    <a:pt x="1818" y="3152"/>
                  </a:lnTo>
                  <a:lnTo>
                    <a:pt x="1813" y="3149"/>
                  </a:lnTo>
                  <a:lnTo>
                    <a:pt x="1809" y="3144"/>
                  </a:lnTo>
                  <a:lnTo>
                    <a:pt x="1801" y="3144"/>
                  </a:lnTo>
                  <a:lnTo>
                    <a:pt x="1801" y="3140"/>
                  </a:lnTo>
                  <a:lnTo>
                    <a:pt x="1801" y="3135"/>
                  </a:lnTo>
                  <a:lnTo>
                    <a:pt x="1797" y="3132"/>
                  </a:lnTo>
                  <a:lnTo>
                    <a:pt x="1794" y="3128"/>
                  </a:lnTo>
                  <a:lnTo>
                    <a:pt x="1790" y="3125"/>
                  </a:lnTo>
                  <a:lnTo>
                    <a:pt x="1787" y="3121"/>
                  </a:lnTo>
                  <a:lnTo>
                    <a:pt x="1784" y="3118"/>
                  </a:lnTo>
                  <a:lnTo>
                    <a:pt x="1780" y="3116"/>
                  </a:lnTo>
                  <a:lnTo>
                    <a:pt x="1775" y="3116"/>
                  </a:lnTo>
                  <a:lnTo>
                    <a:pt x="1768" y="3116"/>
                  </a:lnTo>
                  <a:lnTo>
                    <a:pt x="1763" y="3116"/>
                  </a:lnTo>
                  <a:lnTo>
                    <a:pt x="1758" y="3115"/>
                  </a:lnTo>
                  <a:lnTo>
                    <a:pt x="1753" y="3113"/>
                  </a:lnTo>
                  <a:lnTo>
                    <a:pt x="1747" y="3111"/>
                  </a:lnTo>
                  <a:lnTo>
                    <a:pt x="1742" y="3108"/>
                  </a:lnTo>
                  <a:lnTo>
                    <a:pt x="1739" y="3103"/>
                  </a:lnTo>
                  <a:lnTo>
                    <a:pt x="1718" y="3103"/>
                  </a:lnTo>
                  <a:lnTo>
                    <a:pt x="1697" y="3103"/>
                  </a:lnTo>
                  <a:lnTo>
                    <a:pt x="1677" y="3103"/>
                  </a:lnTo>
                  <a:lnTo>
                    <a:pt x="1656" y="3103"/>
                  </a:lnTo>
                  <a:lnTo>
                    <a:pt x="1637" y="3103"/>
                  </a:lnTo>
                  <a:lnTo>
                    <a:pt x="1618" y="3106"/>
                  </a:lnTo>
                  <a:lnTo>
                    <a:pt x="1608" y="3109"/>
                  </a:lnTo>
                  <a:lnTo>
                    <a:pt x="1599" y="3113"/>
                  </a:lnTo>
                  <a:lnTo>
                    <a:pt x="1591" y="3116"/>
                  </a:lnTo>
                  <a:lnTo>
                    <a:pt x="1584" y="3121"/>
                  </a:lnTo>
                  <a:lnTo>
                    <a:pt x="1575" y="3123"/>
                  </a:lnTo>
                  <a:lnTo>
                    <a:pt x="1568" y="3127"/>
                  </a:lnTo>
                  <a:lnTo>
                    <a:pt x="1563" y="3132"/>
                  </a:lnTo>
                  <a:lnTo>
                    <a:pt x="1556" y="3137"/>
                  </a:lnTo>
                  <a:lnTo>
                    <a:pt x="1551" y="3144"/>
                  </a:lnTo>
                  <a:lnTo>
                    <a:pt x="1546" y="3150"/>
                  </a:lnTo>
                  <a:lnTo>
                    <a:pt x="1539" y="3156"/>
                  </a:lnTo>
                  <a:lnTo>
                    <a:pt x="1534" y="3161"/>
                  </a:lnTo>
                  <a:lnTo>
                    <a:pt x="1534" y="3162"/>
                  </a:lnTo>
                  <a:lnTo>
                    <a:pt x="1534" y="3164"/>
                  </a:lnTo>
                  <a:lnTo>
                    <a:pt x="1532" y="3164"/>
                  </a:lnTo>
                  <a:lnTo>
                    <a:pt x="1532" y="3166"/>
                  </a:lnTo>
                  <a:lnTo>
                    <a:pt x="1532" y="3168"/>
                  </a:lnTo>
                  <a:lnTo>
                    <a:pt x="1532" y="3169"/>
                  </a:lnTo>
                  <a:lnTo>
                    <a:pt x="1532" y="3171"/>
                  </a:lnTo>
                  <a:lnTo>
                    <a:pt x="1532" y="3173"/>
                  </a:lnTo>
                  <a:lnTo>
                    <a:pt x="1525" y="3173"/>
                  </a:lnTo>
                  <a:lnTo>
                    <a:pt x="1520" y="3176"/>
                  </a:lnTo>
                  <a:lnTo>
                    <a:pt x="1513" y="3179"/>
                  </a:lnTo>
                  <a:lnTo>
                    <a:pt x="1508" y="3185"/>
                  </a:lnTo>
                  <a:lnTo>
                    <a:pt x="1503" y="3190"/>
                  </a:lnTo>
                  <a:lnTo>
                    <a:pt x="1499" y="3195"/>
                  </a:lnTo>
                  <a:lnTo>
                    <a:pt x="1494" y="3200"/>
                  </a:lnTo>
                  <a:lnTo>
                    <a:pt x="1489" y="3205"/>
                  </a:lnTo>
                  <a:lnTo>
                    <a:pt x="1484" y="3207"/>
                  </a:lnTo>
                  <a:lnTo>
                    <a:pt x="1478" y="3209"/>
                  </a:lnTo>
                  <a:lnTo>
                    <a:pt x="1473" y="3212"/>
                  </a:lnTo>
                  <a:lnTo>
                    <a:pt x="1468" y="3214"/>
                  </a:lnTo>
                  <a:lnTo>
                    <a:pt x="1463" y="3217"/>
                  </a:lnTo>
                  <a:lnTo>
                    <a:pt x="1460" y="3220"/>
                  </a:lnTo>
                  <a:lnTo>
                    <a:pt x="1454" y="3224"/>
                  </a:lnTo>
                  <a:lnTo>
                    <a:pt x="1451" y="3229"/>
                  </a:lnTo>
                  <a:lnTo>
                    <a:pt x="1442" y="3229"/>
                  </a:lnTo>
                  <a:lnTo>
                    <a:pt x="1434" y="3229"/>
                  </a:lnTo>
                  <a:lnTo>
                    <a:pt x="1423" y="3229"/>
                  </a:lnTo>
                  <a:lnTo>
                    <a:pt x="1415" y="3227"/>
                  </a:lnTo>
                  <a:lnTo>
                    <a:pt x="1406" y="3226"/>
                  </a:lnTo>
                  <a:lnTo>
                    <a:pt x="1399" y="3224"/>
                  </a:lnTo>
                  <a:lnTo>
                    <a:pt x="1391" y="3220"/>
                  </a:lnTo>
                  <a:lnTo>
                    <a:pt x="1384" y="3214"/>
                  </a:lnTo>
                  <a:lnTo>
                    <a:pt x="1361" y="3212"/>
                  </a:lnTo>
                  <a:lnTo>
                    <a:pt x="1337" y="3209"/>
                  </a:lnTo>
                  <a:lnTo>
                    <a:pt x="1315" y="3207"/>
                  </a:lnTo>
                  <a:lnTo>
                    <a:pt x="1291" y="3203"/>
                  </a:lnTo>
                  <a:lnTo>
                    <a:pt x="1268" y="3200"/>
                  </a:lnTo>
                  <a:lnTo>
                    <a:pt x="1246" y="3197"/>
                  </a:lnTo>
                  <a:lnTo>
                    <a:pt x="1223" y="3190"/>
                  </a:lnTo>
                  <a:lnTo>
                    <a:pt x="1203" y="3183"/>
                  </a:lnTo>
                  <a:lnTo>
                    <a:pt x="1185" y="3178"/>
                  </a:lnTo>
                  <a:lnTo>
                    <a:pt x="1166" y="3173"/>
                  </a:lnTo>
                  <a:lnTo>
                    <a:pt x="1149" y="3168"/>
                  </a:lnTo>
                  <a:lnTo>
                    <a:pt x="1132" y="3162"/>
                  </a:lnTo>
                  <a:lnTo>
                    <a:pt x="1113" y="3159"/>
                  </a:lnTo>
                  <a:lnTo>
                    <a:pt x="1094" y="3157"/>
                  </a:lnTo>
                  <a:lnTo>
                    <a:pt x="1075" y="3156"/>
                  </a:lnTo>
                  <a:lnTo>
                    <a:pt x="1054" y="3157"/>
                  </a:lnTo>
                  <a:lnTo>
                    <a:pt x="1039" y="3173"/>
                  </a:lnTo>
                  <a:lnTo>
                    <a:pt x="1025" y="3171"/>
                  </a:lnTo>
                  <a:lnTo>
                    <a:pt x="1010" y="3171"/>
                  </a:lnTo>
                  <a:lnTo>
                    <a:pt x="994" y="3173"/>
                  </a:lnTo>
                  <a:lnTo>
                    <a:pt x="979" y="3173"/>
                  </a:lnTo>
                  <a:lnTo>
                    <a:pt x="963" y="3173"/>
                  </a:lnTo>
                  <a:lnTo>
                    <a:pt x="949" y="3171"/>
                  </a:lnTo>
                  <a:lnTo>
                    <a:pt x="942" y="3169"/>
                  </a:lnTo>
                  <a:lnTo>
                    <a:pt x="937" y="3166"/>
                  </a:lnTo>
                  <a:lnTo>
                    <a:pt x="930" y="3162"/>
                  </a:lnTo>
                  <a:lnTo>
                    <a:pt x="925" y="3157"/>
                  </a:lnTo>
                  <a:lnTo>
                    <a:pt x="903" y="3157"/>
                  </a:lnTo>
                  <a:lnTo>
                    <a:pt x="899" y="3154"/>
                  </a:lnTo>
                  <a:lnTo>
                    <a:pt x="898" y="3149"/>
                  </a:lnTo>
                  <a:lnTo>
                    <a:pt x="892" y="3147"/>
                  </a:lnTo>
                  <a:lnTo>
                    <a:pt x="889" y="3145"/>
                  </a:lnTo>
                  <a:lnTo>
                    <a:pt x="879" y="3144"/>
                  </a:lnTo>
                  <a:lnTo>
                    <a:pt x="870" y="3144"/>
                  </a:lnTo>
                  <a:lnTo>
                    <a:pt x="860" y="3144"/>
                  </a:lnTo>
                  <a:lnTo>
                    <a:pt x="853" y="3140"/>
                  </a:lnTo>
                  <a:lnTo>
                    <a:pt x="851" y="3137"/>
                  </a:lnTo>
                  <a:lnTo>
                    <a:pt x="849" y="3133"/>
                  </a:lnTo>
                  <a:lnTo>
                    <a:pt x="849" y="3127"/>
                  </a:lnTo>
                  <a:lnTo>
                    <a:pt x="849" y="3120"/>
                  </a:lnTo>
                  <a:lnTo>
                    <a:pt x="844" y="3116"/>
                  </a:lnTo>
                  <a:lnTo>
                    <a:pt x="839" y="3113"/>
                  </a:lnTo>
                  <a:lnTo>
                    <a:pt x="834" y="3111"/>
                  </a:lnTo>
                  <a:lnTo>
                    <a:pt x="829" y="3108"/>
                  </a:lnTo>
                  <a:lnTo>
                    <a:pt x="822" y="3104"/>
                  </a:lnTo>
                  <a:lnTo>
                    <a:pt x="817" y="3103"/>
                  </a:lnTo>
                  <a:lnTo>
                    <a:pt x="810" y="3101"/>
                  </a:lnTo>
                  <a:lnTo>
                    <a:pt x="803" y="3103"/>
                  </a:lnTo>
                  <a:lnTo>
                    <a:pt x="796" y="3094"/>
                  </a:lnTo>
                  <a:lnTo>
                    <a:pt x="789" y="3087"/>
                  </a:lnTo>
                  <a:lnTo>
                    <a:pt x="782" y="3082"/>
                  </a:lnTo>
                  <a:lnTo>
                    <a:pt x="773" y="3079"/>
                  </a:lnTo>
                  <a:lnTo>
                    <a:pt x="765" y="3077"/>
                  </a:lnTo>
                  <a:lnTo>
                    <a:pt x="756" y="3075"/>
                  </a:lnTo>
                  <a:lnTo>
                    <a:pt x="748" y="3074"/>
                  </a:lnTo>
                  <a:lnTo>
                    <a:pt x="739" y="3075"/>
                  </a:lnTo>
                  <a:lnTo>
                    <a:pt x="720" y="3077"/>
                  </a:lnTo>
                  <a:lnTo>
                    <a:pt x="701" y="3080"/>
                  </a:lnTo>
                  <a:lnTo>
                    <a:pt x="684" y="3084"/>
                  </a:lnTo>
                  <a:lnTo>
                    <a:pt x="667" y="3087"/>
                  </a:lnTo>
                  <a:lnTo>
                    <a:pt x="660" y="3089"/>
                  </a:lnTo>
                  <a:lnTo>
                    <a:pt x="653" y="3091"/>
                  </a:lnTo>
                  <a:lnTo>
                    <a:pt x="648" y="3094"/>
                  </a:lnTo>
                  <a:lnTo>
                    <a:pt x="641" y="3096"/>
                  </a:lnTo>
                  <a:lnTo>
                    <a:pt x="636" y="3099"/>
                  </a:lnTo>
                  <a:lnTo>
                    <a:pt x="629" y="3103"/>
                  </a:lnTo>
                  <a:lnTo>
                    <a:pt x="624" y="3104"/>
                  </a:lnTo>
                  <a:lnTo>
                    <a:pt x="615" y="3103"/>
                  </a:lnTo>
                  <a:lnTo>
                    <a:pt x="610" y="3106"/>
                  </a:lnTo>
                  <a:lnTo>
                    <a:pt x="605" y="3111"/>
                  </a:lnTo>
                  <a:lnTo>
                    <a:pt x="599" y="3116"/>
                  </a:lnTo>
                  <a:lnTo>
                    <a:pt x="594" y="3121"/>
                  </a:lnTo>
                  <a:lnTo>
                    <a:pt x="589" y="3127"/>
                  </a:lnTo>
                  <a:lnTo>
                    <a:pt x="584" y="3130"/>
                  </a:lnTo>
                  <a:lnTo>
                    <a:pt x="577" y="3132"/>
                  </a:lnTo>
                  <a:lnTo>
                    <a:pt x="570" y="3132"/>
                  </a:lnTo>
                  <a:lnTo>
                    <a:pt x="568" y="3133"/>
                  </a:lnTo>
                  <a:lnTo>
                    <a:pt x="565" y="3137"/>
                  </a:lnTo>
                  <a:lnTo>
                    <a:pt x="563" y="3138"/>
                  </a:lnTo>
                  <a:lnTo>
                    <a:pt x="560" y="3142"/>
                  </a:lnTo>
                  <a:lnTo>
                    <a:pt x="556" y="3144"/>
                  </a:lnTo>
                  <a:lnTo>
                    <a:pt x="553" y="3145"/>
                  </a:lnTo>
                  <a:lnTo>
                    <a:pt x="549" y="3145"/>
                  </a:lnTo>
                  <a:lnTo>
                    <a:pt x="546" y="3144"/>
                  </a:lnTo>
                  <a:lnTo>
                    <a:pt x="544" y="3145"/>
                  </a:lnTo>
                  <a:lnTo>
                    <a:pt x="542" y="3147"/>
                  </a:lnTo>
                  <a:lnTo>
                    <a:pt x="541" y="3149"/>
                  </a:lnTo>
                  <a:lnTo>
                    <a:pt x="541" y="3150"/>
                  </a:lnTo>
                  <a:lnTo>
                    <a:pt x="539" y="3152"/>
                  </a:lnTo>
                  <a:lnTo>
                    <a:pt x="539" y="3154"/>
                  </a:lnTo>
                  <a:lnTo>
                    <a:pt x="539" y="3156"/>
                  </a:lnTo>
                  <a:lnTo>
                    <a:pt x="539" y="3157"/>
                  </a:lnTo>
                  <a:lnTo>
                    <a:pt x="405" y="3157"/>
                  </a:lnTo>
                  <a:lnTo>
                    <a:pt x="387" y="3154"/>
                  </a:lnTo>
                  <a:lnTo>
                    <a:pt x="368" y="3149"/>
                  </a:lnTo>
                  <a:lnTo>
                    <a:pt x="351" y="3145"/>
                  </a:lnTo>
                  <a:lnTo>
                    <a:pt x="334" y="3142"/>
                  </a:lnTo>
                  <a:lnTo>
                    <a:pt x="315" y="3138"/>
                  </a:lnTo>
                  <a:lnTo>
                    <a:pt x="298" y="3135"/>
                  </a:lnTo>
                  <a:lnTo>
                    <a:pt x="280" y="3132"/>
                  </a:lnTo>
                  <a:lnTo>
                    <a:pt x="263" y="3128"/>
                  </a:lnTo>
                  <a:lnTo>
                    <a:pt x="256" y="3123"/>
                  </a:lnTo>
                  <a:lnTo>
                    <a:pt x="251" y="3116"/>
                  </a:lnTo>
                  <a:lnTo>
                    <a:pt x="244" y="3111"/>
                  </a:lnTo>
                  <a:lnTo>
                    <a:pt x="239" y="3106"/>
                  </a:lnTo>
                  <a:lnTo>
                    <a:pt x="232" y="3101"/>
                  </a:lnTo>
                  <a:lnTo>
                    <a:pt x="225" y="3096"/>
                  </a:lnTo>
                  <a:lnTo>
                    <a:pt x="218" y="3092"/>
                  </a:lnTo>
                  <a:lnTo>
                    <a:pt x="212" y="3091"/>
                  </a:lnTo>
                  <a:lnTo>
                    <a:pt x="198" y="3053"/>
                  </a:lnTo>
                  <a:lnTo>
                    <a:pt x="194" y="3048"/>
                  </a:lnTo>
                  <a:lnTo>
                    <a:pt x="189" y="3041"/>
                  </a:lnTo>
                  <a:lnTo>
                    <a:pt x="182" y="3036"/>
                  </a:lnTo>
                  <a:lnTo>
                    <a:pt x="177" y="3031"/>
                  </a:lnTo>
                  <a:lnTo>
                    <a:pt x="172" y="3026"/>
                  </a:lnTo>
                  <a:lnTo>
                    <a:pt x="167" y="3021"/>
                  </a:lnTo>
                  <a:lnTo>
                    <a:pt x="162" y="3014"/>
                  </a:lnTo>
                  <a:lnTo>
                    <a:pt x="156" y="3009"/>
                  </a:lnTo>
                  <a:lnTo>
                    <a:pt x="155" y="3000"/>
                  </a:lnTo>
                  <a:lnTo>
                    <a:pt x="151" y="2992"/>
                  </a:lnTo>
                  <a:lnTo>
                    <a:pt x="148" y="2983"/>
                  </a:lnTo>
                  <a:lnTo>
                    <a:pt x="143" y="2974"/>
                  </a:lnTo>
                  <a:lnTo>
                    <a:pt x="137" y="2968"/>
                  </a:lnTo>
                  <a:lnTo>
                    <a:pt x="132" y="2961"/>
                  </a:lnTo>
                  <a:lnTo>
                    <a:pt x="125" y="2954"/>
                  </a:lnTo>
                  <a:lnTo>
                    <a:pt x="120" y="2945"/>
                  </a:lnTo>
                  <a:lnTo>
                    <a:pt x="70" y="2896"/>
                  </a:lnTo>
                  <a:lnTo>
                    <a:pt x="70" y="2894"/>
                  </a:lnTo>
                  <a:lnTo>
                    <a:pt x="70" y="2891"/>
                  </a:lnTo>
                  <a:lnTo>
                    <a:pt x="70" y="2889"/>
                  </a:lnTo>
                  <a:lnTo>
                    <a:pt x="70" y="2887"/>
                  </a:lnTo>
                  <a:lnTo>
                    <a:pt x="68" y="2884"/>
                  </a:lnTo>
                  <a:lnTo>
                    <a:pt x="68" y="2882"/>
                  </a:lnTo>
                  <a:lnTo>
                    <a:pt x="67" y="2881"/>
                  </a:lnTo>
                  <a:lnTo>
                    <a:pt x="65" y="2879"/>
                  </a:lnTo>
                  <a:lnTo>
                    <a:pt x="65" y="2877"/>
                  </a:lnTo>
                  <a:lnTo>
                    <a:pt x="63" y="2877"/>
                  </a:lnTo>
                  <a:lnTo>
                    <a:pt x="62" y="2877"/>
                  </a:lnTo>
                  <a:lnTo>
                    <a:pt x="62" y="2877"/>
                  </a:lnTo>
                  <a:lnTo>
                    <a:pt x="60" y="2877"/>
                  </a:lnTo>
                  <a:lnTo>
                    <a:pt x="60" y="2877"/>
                  </a:lnTo>
                  <a:lnTo>
                    <a:pt x="58" y="2877"/>
                  </a:lnTo>
                  <a:lnTo>
                    <a:pt x="56" y="2877"/>
                  </a:lnTo>
                  <a:lnTo>
                    <a:pt x="58" y="2874"/>
                  </a:lnTo>
                  <a:lnTo>
                    <a:pt x="56" y="2872"/>
                  </a:lnTo>
                  <a:lnTo>
                    <a:pt x="56" y="2870"/>
                  </a:lnTo>
                  <a:lnTo>
                    <a:pt x="55" y="2869"/>
                  </a:lnTo>
                  <a:lnTo>
                    <a:pt x="53" y="2867"/>
                  </a:lnTo>
                  <a:lnTo>
                    <a:pt x="51" y="2867"/>
                  </a:lnTo>
                  <a:lnTo>
                    <a:pt x="50" y="2865"/>
                  </a:lnTo>
                  <a:lnTo>
                    <a:pt x="48" y="2863"/>
                  </a:lnTo>
                  <a:lnTo>
                    <a:pt x="0" y="2863"/>
                  </a:lnTo>
                  <a:lnTo>
                    <a:pt x="5" y="2863"/>
                  </a:lnTo>
                  <a:lnTo>
                    <a:pt x="10" y="2862"/>
                  </a:lnTo>
                  <a:lnTo>
                    <a:pt x="13" y="2860"/>
                  </a:lnTo>
                  <a:lnTo>
                    <a:pt x="17" y="2857"/>
                  </a:lnTo>
                  <a:lnTo>
                    <a:pt x="20" y="2853"/>
                  </a:lnTo>
                  <a:lnTo>
                    <a:pt x="24" y="2848"/>
                  </a:lnTo>
                  <a:lnTo>
                    <a:pt x="27" y="2845"/>
                  </a:lnTo>
                  <a:lnTo>
                    <a:pt x="29" y="2841"/>
                  </a:lnTo>
                  <a:lnTo>
                    <a:pt x="34" y="2834"/>
                  </a:lnTo>
                  <a:lnTo>
                    <a:pt x="37" y="2826"/>
                  </a:lnTo>
                  <a:lnTo>
                    <a:pt x="41" y="2817"/>
                  </a:lnTo>
                  <a:lnTo>
                    <a:pt x="43" y="2809"/>
                  </a:lnTo>
                  <a:lnTo>
                    <a:pt x="46" y="2800"/>
                  </a:lnTo>
                  <a:lnTo>
                    <a:pt x="50" y="2793"/>
                  </a:lnTo>
                  <a:lnTo>
                    <a:pt x="55" y="2785"/>
                  </a:lnTo>
                  <a:lnTo>
                    <a:pt x="62" y="2778"/>
                  </a:lnTo>
                  <a:lnTo>
                    <a:pt x="63" y="2771"/>
                  </a:lnTo>
                  <a:lnTo>
                    <a:pt x="65" y="2763"/>
                  </a:lnTo>
                  <a:lnTo>
                    <a:pt x="68" y="2756"/>
                  </a:lnTo>
                  <a:lnTo>
                    <a:pt x="72" y="2749"/>
                  </a:lnTo>
                  <a:lnTo>
                    <a:pt x="75" y="2740"/>
                  </a:lnTo>
                  <a:lnTo>
                    <a:pt x="77" y="2734"/>
                  </a:lnTo>
                  <a:lnTo>
                    <a:pt x="79" y="2725"/>
                  </a:lnTo>
                  <a:lnTo>
                    <a:pt x="79" y="2716"/>
                  </a:lnTo>
                  <a:lnTo>
                    <a:pt x="86" y="2710"/>
                  </a:lnTo>
                  <a:lnTo>
                    <a:pt x="91" y="2701"/>
                  </a:lnTo>
                  <a:lnTo>
                    <a:pt x="98" y="2694"/>
                  </a:lnTo>
                  <a:lnTo>
                    <a:pt x="103" y="2687"/>
                  </a:lnTo>
                  <a:lnTo>
                    <a:pt x="108" y="2679"/>
                  </a:lnTo>
                  <a:lnTo>
                    <a:pt x="112" y="2670"/>
                  </a:lnTo>
                  <a:lnTo>
                    <a:pt x="113" y="2662"/>
                  </a:lnTo>
                  <a:lnTo>
                    <a:pt x="113" y="2652"/>
                  </a:lnTo>
                  <a:lnTo>
                    <a:pt x="112" y="2646"/>
                  </a:lnTo>
                  <a:lnTo>
                    <a:pt x="112" y="2643"/>
                  </a:lnTo>
                  <a:lnTo>
                    <a:pt x="112" y="2638"/>
                  </a:lnTo>
                  <a:lnTo>
                    <a:pt x="112" y="2634"/>
                  </a:lnTo>
                  <a:lnTo>
                    <a:pt x="117" y="2628"/>
                  </a:lnTo>
                  <a:lnTo>
                    <a:pt x="120" y="2621"/>
                  </a:lnTo>
                  <a:lnTo>
                    <a:pt x="125" y="2614"/>
                  </a:lnTo>
                  <a:lnTo>
                    <a:pt x="129" y="2607"/>
                  </a:lnTo>
                  <a:lnTo>
                    <a:pt x="131" y="2602"/>
                  </a:lnTo>
                  <a:lnTo>
                    <a:pt x="131" y="2599"/>
                  </a:lnTo>
                  <a:lnTo>
                    <a:pt x="129" y="2593"/>
                  </a:lnTo>
                  <a:lnTo>
                    <a:pt x="127" y="2588"/>
                  </a:lnTo>
                  <a:lnTo>
                    <a:pt x="129" y="2585"/>
                  </a:lnTo>
                  <a:lnTo>
                    <a:pt x="132" y="2580"/>
                  </a:lnTo>
                  <a:lnTo>
                    <a:pt x="136" y="2575"/>
                  </a:lnTo>
                  <a:lnTo>
                    <a:pt x="137" y="2571"/>
                  </a:lnTo>
                  <a:lnTo>
                    <a:pt x="141" y="2566"/>
                  </a:lnTo>
                  <a:lnTo>
                    <a:pt x="143" y="2561"/>
                  </a:lnTo>
                  <a:lnTo>
                    <a:pt x="143" y="2556"/>
                  </a:lnTo>
                  <a:lnTo>
                    <a:pt x="141" y="2549"/>
                  </a:lnTo>
                  <a:lnTo>
                    <a:pt x="144" y="2546"/>
                  </a:lnTo>
                  <a:lnTo>
                    <a:pt x="148" y="2544"/>
                  </a:lnTo>
                  <a:lnTo>
                    <a:pt x="149" y="2541"/>
                  </a:lnTo>
                  <a:lnTo>
                    <a:pt x="153" y="2539"/>
                  </a:lnTo>
                  <a:lnTo>
                    <a:pt x="155" y="2535"/>
                  </a:lnTo>
                  <a:lnTo>
                    <a:pt x="156" y="2532"/>
                  </a:lnTo>
                  <a:lnTo>
                    <a:pt x="156" y="2529"/>
                  </a:lnTo>
                  <a:lnTo>
                    <a:pt x="156" y="2523"/>
                  </a:lnTo>
                  <a:lnTo>
                    <a:pt x="158" y="2525"/>
                  </a:lnTo>
                  <a:lnTo>
                    <a:pt x="160" y="2525"/>
                  </a:lnTo>
                  <a:lnTo>
                    <a:pt x="162" y="2523"/>
                  </a:lnTo>
                  <a:lnTo>
                    <a:pt x="163" y="2523"/>
                  </a:lnTo>
                  <a:lnTo>
                    <a:pt x="165" y="2522"/>
                  </a:lnTo>
                  <a:lnTo>
                    <a:pt x="167" y="2520"/>
                  </a:lnTo>
                  <a:lnTo>
                    <a:pt x="168" y="2518"/>
                  </a:lnTo>
                  <a:lnTo>
                    <a:pt x="170" y="2517"/>
                  </a:lnTo>
                  <a:lnTo>
                    <a:pt x="168" y="2513"/>
                  </a:lnTo>
                  <a:lnTo>
                    <a:pt x="168" y="2510"/>
                  </a:lnTo>
                  <a:lnTo>
                    <a:pt x="170" y="2508"/>
                  </a:lnTo>
                  <a:lnTo>
                    <a:pt x="172" y="2506"/>
                  </a:lnTo>
                  <a:lnTo>
                    <a:pt x="174" y="2503"/>
                  </a:lnTo>
                  <a:lnTo>
                    <a:pt x="175" y="2501"/>
                  </a:lnTo>
                  <a:lnTo>
                    <a:pt x="177" y="2498"/>
                  </a:lnTo>
                  <a:lnTo>
                    <a:pt x="175" y="2494"/>
                  </a:lnTo>
                  <a:lnTo>
                    <a:pt x="177" y="2493"/>
                  </a:lnTo>
                  <a:lnTo>
                    <a:pt x="179" y="2489"/>
                  </a:lnTo>
                  <a:lnTo>
                    <a:pt x="181" y="2488"/>
                  </a:lnTo>
                  <a:lnTo>
                    <a:pt x="182" y="2484"/>
                  </a:lnTo>
                  <a:lnTo>
                    <a:pt x="184" y="2482"/>
                  </a:lnTo>
                  <a:lnTo>
                    <a:pt x="186" y="2481"/>
                  </a:lnTo>
                  <a:lnTo>
                    <a:pt x="187" y="2477"/>
                  </a:lnTo>
                  <a:lnTo>
                    <a:pt x="189" y="2476"/>
                  </a:lnTo>
                  <a:lnTo>
                    <a:pt x="191" y="2472"/>
                  </a:lnTo>
                  <a:lnTo>
                    <a:pt x="193" y="2470"/>
                  </a:lnTo>
                  <a:lnTo>
                    <a:pt x="194" y="2467"/>
                  </a:lnTo>
                  <a:lnTo>
                    <a:pt x="196" y="2464"/>
                  </a:lnTo>
                  <a:lnTo>
                    <a:pt x="198" y="2460"/>
                  </a:lnTo>
                  <a:lnTo>
                    <a:pt x="199" y="2459"/>
                  </a:lnTo>
                  <a:lnTo>
                    <a:pt x="201" y="2455"/>
                  </a:lnTo>
                  <a:lnTo>
                    <a:pt x="205" y="2453"/>
                  </a:lnTo>
                  <a:lnTo>
                    <a:pt x="205" y="2453"/>
                  </a:lnTo>
                  <a:lnTo>
                    <a:pt x="206" y="2452"/>
                  </a:lnTo>
                  <a:lnTo>
                    <a:pt x="206" y="2452"/>
                  </a:lnTo>
                  <a:lnTo>
                    <a:pt x="206" y="2450"/>
                  </a:lnTo>
                  <a:lnTo>
                    <a:pt x="206" y="2450"/>
                  </a:lnTo>
                  <a:lnTo>
                    <a:pt x="206" y="2448"/>
                  </a:lnTo>
                  <a:lnTo>
                    <a:pt x="206" y="2448"/>
                  </a:lnTo>
                  <a:lnTo>
                    <a:pt x="206" y="2447"/>
                  </a:lnTo>
                  <a:lnTo>
                    <a:pt x="206" y="2445"/>
                  </a:lnTo>
                  <a:lnTo>
                    <a:pt x="208" y="2443"/>
                  </a:lnTo>
                  <a:lnTo>
                    <a:pt x="210" y="2440"/>
                  </a:lnTo>
                  <a:lnTo>
                    <a:pt x="212" y="2438"/>
                  </a:lnTo>
                  <a:lnTo>
                    <a:pt x="213" y="2435"/>
                  </a:lnTo>
                  <a:lnTo>
                    <a:pt x="215" y="2433"/>
                  </a:lnTo>
                  <a:lnTo>
                    <a:pt x="217" y="2429"/>
                  </a:lnTo>
                  <a:lnTo>
                    <a:pt x="217" y="2428"/>
                  </a:lnTo>
                  <a:lnTo>
                    <a:pt x="218" y="2416"/>
                  </a:lnTo>
                  <a:lnTo>
                    <a:pt x="224" y="2404"/>
                  </a:lnTo>
                  <a:lnTo>
                    <a:pt x="229" y="2395"/>
                  </a:lnTo>
                  <a:lnTo>
                    <a:pt x="236" y="2385"/>
                  </a:lnTo>
                  <a:lnTo>
                    <a:pt x="241" y="2375"/>
                  </a:lnTo>
                  <a:lnTo>
                    <a:pt x="246" y="2365"/>
                  </a:lnTo>
                  <a:lnTo>
                    <a:pt x="249" y="2354"/>
                  </a:lnTo>
                  <a:lnTo>
                    <a:pt x="249" y="2341"/>
                  </a:lnTo>
                  <a:lnTo>
                    <a:pt x="258" y="2324"/>
                  </a:lnTo>
                  <a:lnTo>
                    <a:pt x="267" y="2306"/>
                  </a:lnTo>
                  <a:lnTo>
                    <a:pt x="274" y="2289"/>
                  </a:lnTo>
                  <a:lnTo>
                    <a:pt x="279" y="2271"/>
                  </a:lnTo>
                  <a:lnTo>
                    <a:pt x="286" y="2254"/>
                  </a:lnTo>
                  <a:lnTo>
                    <a:pt x="293" y="2235"/>
                  </a:lnTo>
                  <a:lnTo>
                    <a:pt x="298" y="2218"/>
                  </a:lnTo>
                  <a:lnTo>
                    <a:pt x="305" y="2199"/>
                  </a:lnTo>
                  <a:lnTo>
                    <a:pt x="303" y="2199"/>
                  </a:lnTo>
                  <a:lnTo>
                    <a:pt x="303" y="2197"/>
                  </a:lnTo>
                  <a:lnTo>
                    <a:pt x="303" y="2195"/>
                  </a:lnTo>
                  <a:lnTo>
                    <a:pt x="303" y="2194"/>
                  </a:lnTo>
                  <a:lnTo>
                    <a:pt x="303" y="2192"/>
                  </a:lnTo>
                  <a:lnTo>
                    <a:pt x="303" y="2190"/>
                  </a:lnTo>
                  <a:lnTo>
                    <a:pt x="305" y="2189"/>
                  </a:lnTo>
                  <a:lnTo>
                    <a:pt x="303" y="2187"/>
                  </a:lnTo>
                  <a:lnTo>
                    <a:pt x="306" y="2187"/>
                  </a:lnTo>
                  <a:lnTo>
                    <a:pt x="306" y="2185"/>
                  </a:lnTo>
                  <a:lnTo>
                    <a:pt x="308" y="2183"/>
                  </a:lnTo>
                  <a:lnTo>
                    <a:pt x="308" y="2182"/>
                  </a:lnTo>
                  <a:lnTo>
                    <a:pt x="308" y="2180"/>
                  </a:lnTo>
                  <a:lnTo>
                    <a:pt x="310" y="2178"/>
                  </a:lnTo>
                  <a:lnTo>
                    <a:pt x="312" y="2178"/>
                  </a:lnTo>
                  <a:lnTo>
                    <a:pt x="315" y="2180"/>
                  </a:lnTo>
                  <a:lnTo>
                    <a:pt x="320" y="2154"/>
                  </a:lnTo>
                  <a:lnTo>
                    <a:pt x="327" y="2130"/>
                  </a:lnTo>
                  <a:lnTo>
                    <a:pt x="332" y="2105"/>
                  </a:lnTo>
                  <a:lnTo>
                    <a:pt x="339" y="2079"/>
                  </a:lnTo>
                  <a:lnTo>
                    <a:pt x="346" y="2055"/>
                  </a:lnTo>
                  <a:lnTo>
                    <a:pt x="351" y="2030"/>
                  </a:lnTo>
                  <a:lnTo>
                    <a:pt x="358" y="2006"/>
                  </a:lnTo>
                  <a:lnTo>
                    <a:pt x="365" y="1982"/>
                  </a:lnTo>
                  <a:lnTo>
                    <a:pt x="387" y="1902"/>
                  </a:lnTo>
                  <a:lnTo>
                    <a:pt x="408" y="1821"/>
                  </a:lnTo>
                  <a:lnTo>
                    <a:pt x="427" y="1741"/>
                  </a:lnTo>
                  <a:lnTo>
                    <a:pt x="446" y="1659"/>
                  </a:lnTo>
                  <a:lnTo>
                    <a:pt x="461" y="1577"/>
                  </a:lnTo>
                  <a:lnTo>
                    <a:pt x="475" y="1493"/>
                  </a:lnTo>
                  <a:lnTo>
                    <a:pt x="489" y="1411"/>
                  </a:lnTo>
                  <a:lnTo>
                    <a:pt x="499" y="1328"/>
                  </a:lnTo>
                  <a:lnTo>
                    <a:pt x="508" y="1275"/>
                  </a:lnTo>
                  <a:lnTo>
                    <a:pt x="515" y="1220"/>
                  </a:lnTo>
                  <a:lnTo>
                    <a:pt x="524" y="1165"/>
                  </a:lnTo>
                  <a:lnTo>
                    <a:pt x="530" y="1112"/>
                  </a:lnTo>
                  <a:lnTo>
                    <a:pt x="537" y="1058"/>
                  </a:lnTo>
                  <a:lnTo>
                    <a:pt x="546" y="1003"/>
                  </a:lnTo>
                  <a:lnTo>
                    <a:pt x="553" y="948"/>
                  </a:lnTo>
                  <a:lnTo>
                    <a:pt x="560" y="895"/>
                  </a:lnTo>
                  <a:lnTo>
                    <a:pt x="565" y="847"/>
                  </a:lnTo>
                  <a:lnTo>
                    <a:pt x="572" y="798"/>
                  </a:lnTo>
                  <a:lnTo>
                    <a:pt x="580" y="750"/>
                  </a:lnTo>
                  <a:lnTo>
                    <a:pt x="589" y="704"/>
                  </a:lnTo>
                  <a:lnTo>
                    <a:pt x="601" y="656"/>
                  </a:lnTo>
                  <a:lnTo>
                    <a:pt x="611" y="608"/>
                  </a:lnTo>
                  <a:lnTo>
                    <a:pt x="624" y="562"/>
                  </a:lnTo>
                  <a:lnTo>
                    <a:pt x="636" y="516"/>
                  </a:lnTo>
                  <a:lnTo>
                    <a:pt x="639" y="506"/>
                  </a:lnTo>
                  <a:lnTo>
                    <a:pt x="641" y="497"/>
                  </a:lnTo>
                  <a:lnTo>
                    <a:pt x="644" y="487"/>
                  </a:lnTo>
                  <a:lnTo>
                    <a:pt x="648" y="478"/>
                  </a:lnTo>
                  <a:lnTo>
                    <a:pt x="649" y="470"/>
                  </a:lnTo>
                  <a:lnTo>
                    <a:pt x="653" y="460"/>
                  </a:lnTo>
                  <a:lnTo>
                    <a:pt x="656" y="451"/>
                  </a:lnTo>
                  <a:lnTo>
                    <a:pt x="660" y="443"/>
                  </a:lnTo>
                  <a:lnTo>
                    <a:pt x="668" y="420"/>
                  </a:lnTo>
                  <a:lnTo>
                    <a:pt x="677" y="396"/>
                  </a:lnTo>
                  <a:lnTo>
                    <a:pt x="687" y="374"/>
                  </a:lnTo>
                  <a:lnTo>
                    <a:pt x="696" y="352"/>
                  </a:lnTo>
                  <a:lnTo>
                    <a:pt x="706" y="330"/>
                  </a:lnTo>
                  <a:lnTo>
                    <a:pt x="717" y="308"/>
                  </a:lnTo>
                  <a:lnTo>
                    <a:pt x="727" y="287"/>
                  </a:lnTo>
                  <a:lnTo>
                    <a:pt x="737" y="265"/>
                  </a:lnTo>
                  <a:lnTo>
                    <a:pt x="739" y="263"/>
                  </a:lnTo>
                  <a:lnTo>
                    <a:pt x="742" y="261"/>
                  </a:lnTo>
                  <a:lnTo>
                    <a:pt x="744" y="258"/>
                  </a:lnTo>
                  <a:lnTo>
                    <a:pt x="746" y="256"/>
                  </a:lnTo>
                  <a:lnTo>
                    <a:pt x="749" y="255"/>
                  </a:lnTo>
                  <a:lnTo>
                    <a:pt x="751" y="253"/>
                  </a:lnTo>
                  <a:lnTo>
                    <a:pt x="755" y="255"/>
                  </a:lnTo>
                  <a:lnTo>
                    <a:pt x="758" y="256"/>
                  </a:lnTo>
                  <a:lnTo>
                    <a:pt x="770" y="265"/>
                  </a:lnTo>
                  <a:lnTo>
                    <a:pt x="780" y="272"/>
                  </a:lnTo>
                  <a:lnTo>
                    <a:pt x="791" y="282"/>
                  </a:lnTo>
                  <a:lnTo>
                    <a:pt x="801" y="290"/>
                  </a:lnTo>
                  <a:lnTo>
                    <a:pt x="820" y="311"/>
                  </a:lnTo>
                  <a:lnTo>
                    <a:pt x="837" y="331"/>
                  </a:lnTo>
                  <a:lnTo>
                    <a:pt x="856" y="352"/>
                  </a:lnTo>
                  <a:lnTo>
                    <a:pt x="875" y="371"/>
                  </a:lnTo>
                  <a:lnTo>
                    <a:pt x="884" y="379"/>
                  </a:lnTo>
                  <a:lnTo>
                    <a:pt x="894" y="388"/>
                  </a:lnTo>
                  <a:lnTo>
                    <a:pt x="906" y="395"/>
                  </a:lnTo>
                  <a:lnTo>
                    <a:pt x="918" y="402"/>
                  </a:lnTo>
                  <a:lnTo>
                    <a:pt x="930" y="408"/>
                  </a:lnTo>
                  <a:lnTo>
                    <a:pt x="941" y="415"/>
                  </a:lnTo>
                  <a:lnTo>
                    <a:pt x="953" y="420"/>
                  </a:lnTo>
                  <a:lnTo>
                    <a:pt x="967" y="425"/>
                  </a:lnTo>
                  <a:lnTo>
                    <a:pt x="979" y="429"/>
                  </a:lnTo>
                  <a:lnTo>
                    <a:pt x="991" y="431"/>
                  </a:lnTo>
                  <a:lnTo>
                    <a:pt x="1004" y="432"/>
                  </a:lnTo>
                  <a:lnTo>
                    <a:pt x="1018" y="434"/>
                  </a:lnTo>
                  <a:lnTo>
                    <a:pt x="1029" y="436"/>
                  </a:lnTo>
                  <a:lnTo>
                    <a:pt x="1041" y="436"/>
                  </a:lnTo>
                  <a:lnTo>
                    <a:pt x="1051" y="434"/>
                  </a:lnTo>
                  <a:lnTo>
                    <a:pt x="1061" y="432"/>
                  </a:lnTo>
                  <a:lnTo>
                    <a:pt x="1082" y="427"/>
                  </a:lnTo>
                  <a:lnTo>
                    <a:pt x="1101" y="419"/>
                  </a:lnTo>
                  <a:lnTo>
                    <a:pt x="1118" y="407"/>
                  </a:lnTo>
                  <a:lnTo>
                    <a:pt x="1135" y="393"/>
                  </a:lnTo>
                  <a:lnTo>
                    <a:pt x="1149" y="378"/>
                  </a:lnTo>
                  <a:lnTo>
                    <a:pt x="1161" y="361"/>
                  </a:lnTo>
                  <a:lnTo>
                    <a:pt x="1165" y="354"/>
                  </a:lnTo>
                  <a:lnTo>
                    <a:pt x="1166" y="345"/>
                  </a:lnTo>
                  <a:lnTo>
                    <a:pt x="1168" y="337"/>
                  </a:lnTo>
                  <a:lnTo>
                    <a:pt x="1170" y="328"/>
                  </a:lnTo>
                  <a:lnTo>
                    <a:pt x="1173" y="321"/>
                  </a:lnTo>
                  <a:lnTo>
                    <a:pt x="1177" y="314"/>
                  </a:lnTo>
                  <a:lnTo>
                    <a:pt x="1184" y="309"/>
                  </a:lnTo>
                  <a:lnTo>
                    <a:pt x="1192" y="308"/>
                  </a:lnTo>
                  <a:lnTo>
                    <a:pt x="1203" y="299"/>
                  </a:lnTo>
                  <a:lnTo>
                    <a:pt x="1213" y="289"/>
                  </a:lnTo>
                  <a:lnTo>
                    <a:pt x="1222" y="279"/>
                  </a:lnTo>
                  <a:lnTo>
                    <a:pt x="1229" y="268"/>
                  </a:lnTo>
                  <a:lnTo>
                    <a:pt x="1235" y="256"/>
                  </a:lnTo>
                  <a:lnTo>
                    <a:pt x="1242" y="244"/>
                  </a:lnTo>
                  <a:lnTo>
                    <a:pt x="1247" y="232"/>
                  </a:lnTo>
                  <a:lnTo>
                    <a:pt x="1253" y="220"/>
                  </a:lnTo>
                  <a:lnTo>
                    <a:pt x="1260" y="195"/>
                  </a:lnTo>
                  <a:lnTo>
                    <a:pt x="1263" y="169"/>
                  </a:lnTo>
                  <a:lnTo>
                    <a:pt x="1265" y="144"/>
                  </a:lnTo>
                  <a:lnTo>
                    <a:pt x="1265" y="118"/>
                  </a:lnTo>
                  <a:lnTo>
                    <a:pt x="1270" y="116"/>
                  </a:lnTo>
                  <a:lnTo>
                    <a:pt x="1275" y="111"/>
                  </a:lnTo>
                  <a:lnTo>
                    <a:pt x="1280" y="108"/>
                  </a:lnTo>
                  <a:lnTo>
                    <a:pt x="1284" y="103"/>
                  </a:lnTo>
                  <a:lnTo>
                    <a:pt x="1289" y="97"/>
                  </a:lnTo>
                  <a:lnTo>
                    <a:pt x="1292" y="94"/>
                  </a:lnTo>
                  <a:lnTo>
                    <a:pt x="1296" y="89"/>
                  </a:lnTo>
                  <a:lnTo>
                    <a:pt x="1299" y="85"/>
                  </a:lnTo>
                  <a:lnTo>
                    <a:pt x="1306" y="79"/>
                  </a:lnTo>
                  <a:lnTo>
                    <a:pt x="1311" y="72"/>
                  </a:lnTo>
                  <a:lnTo>
                    <a:pt x="1318" y="67"/>
                  </a:lnTo>
                  <a:lnTo>
                    <a:pt x="1323" y="60"/>
                  </a:lnTo>
                  <a:lnTo>
                    <a:pt x="1330" y="53"/>
                  </a:lnTo>
                  <a:lnTo>
                    <a:pt x="1335" y="46"/>
                  </a:lnTo>
                  <a:lnTo>
                    <a:pt x="1341" y="39"/>
                  </a:lnTo>
                  <a:lnTo>
                    <a:pt x="1346" y="32"/>
                  </a:lnTo>
                  <a:lnTo>
                    <a:pt x="1351" y="27"/>
                  </a:lnTo>
                  <a:lnTo>
                    <a:pt x="1354" y="24"/>
                  </a:lnTo>
                  <a:lnTo>
                    <a:pt x="1360" y="19"/>
                  </a:lnTo>
                  <a:lnTo>
                    <a:pt x="1365" y="15"/>
                  </a:lnTo>
                  <a:lnTo>
                    <a:pt x="1370" y="12"/>
                  </a:lnTo>
                  <a:lnTo>
                    <a:pt x="1373" y="7"/>
                  </a:lnTo>
                  <a:lnTo>
                    <a:pt x="1379" y="3"/>
                  </a:lnTo>
                  <a:lnTo>
                    <a:pt x="1384" y="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873080" y="3173400"/>
              <a:ext cx="86040" cy="73080"/>
            </a:xfrm>
            <a:custGeom>
              <a:avLst/>
              <a:gdLst/>
              <a:ahLst/>
              <a:rect l="l" t="t" r="r" b="b"/>
              <a:pathLst>
                <a:path w="124" h="119">
                  <a:moveTo>
                    <a:pt x="124" y="49"/>
                  </a:moveTo>
                  <a:lnTo>
                    <a:pt x="118" y="58"/>
                  </a:lnTo>
                  <a:lnTo>
                    <a:pt x="113" y="68"/>
                  </a:lnTo>
                  <a:lnTo>
                    <a:pt x="110" y="78"/>
                  </a:lnTo>
                  <a:lnTo>
                    <a:pt x="105" y="88"/>
                  </a:lnTo>
                  <a:lnTo>
                    <a:pt x="100" y="99"/>
                  </a:lnTo>
                  <a:lnTo>
                    <a:pt x="93" y="107"/>
                  </a:lnTo>
                  <a:lnTo>
                    <a:pt x="86" y="114"/>
                  </a:lnTo>
                  <a:lnTo>
                    <a:pt x="75" y="119"/>
                  </a:lnTo>
                  <a:lnTo>
                    <a:pt x="65" y="117"/>
                  </a:lnTo>
                  <a:lnTo>
                    <a:pt x="56" y="116"/>
                  </a:lnTo>
                  <a:lnTo>
                    <a:pt x="48" y="114"/>
                  </a:lnTo>
                  <a:lnTo>
                    <a:pt x="37" y="112"/>
                  </a:lnTo>
                  <a:lnTo>
                    <a:pt x="29" y="109"/>
                  </a:lnTo>
                  <a:lnTo>
                    <a:pt x="20" y="105"/>
                  </a:lnTo>
                  <a:lnTo>
                    <a:pt x="12" y="102"/>
                  </a:lnTo>
                  <a:lnTo>
                    <a:pt x="3" y="97"/>
                  </a:lnTo>
                  <a:lnTo>
                    <a:pt x="0" y="93"/>
                  </a:lnTo>
                  <a:lnTo>
                    <a:pt x="0" y="88"/>
                  </a:lnTo>
                  <a:lnTo>
                    <a:pt x="0" y="83"/>
                  </a:lnTo>
                  <a:lnTo>
                    <a:pt x="1" y="78"/>
                  </a:lnTo>
                  <a:lnTo>
                    <a:pt x="3" y="73"/>
                  </a:lnTo>
                  <a:lnTo>
                    <a:pt x="3" y="70"/>
                  </a:lnTo>
                  <a:lnTo>
                    <a:pt x="5" y="64"/>
                  </a:lnTo>
                  <a:lnTo>
                    <a:pt x="3" y="59"/>
                  </a:lnTo>
                  <a:lnTo>
                    <a:pt x="5" y="54"/>
                  </a:lnTo>
                  <a:lnTo>
                    <a:pt x="6" y="47"/>
                  </a:lnTo>
                  <a:lnTo>
                    <a:pt x="10" y="42"/>
                  </a:lnTo>
                  <a:lnTo>
                    <a:pt x="12" y="37"/>
                  </a:lnTo>
                  <a:lnTo>
                    <a:pt x="15" y="30"/>
                  </a:lnTo>
                  <a:lnTo>
                    <a:pt x="15" y="25"/>
                  </a:lnTo>
                  <a:lnTo>
                    <a:pt x="17" y="18"/>
                  </a:lnTo>
                  <a:lnTo>
                    <a:pt x="17" y="13"/>
                  </a:lnTo>
                  <a:lnTo>
                    <a:pt x="17" y="11"/>
                  </a:lnTo>
                  <a:lnTo>
                    <a:pt x="19" y="10"/>
                  </a:lnTo>
                  <a:lnTo>
                    <a:pt x="19" y="8"/>
                  </a:lnTo>
                  <a:lnTo>
                    <a:pt x="19" y="6"/>
                  </a:lnTo>
                  <a:lnTo>
                    <a:pt x="19" y="5"/>
                  </a:lnTo>
                  <a:lnTo>
                    <a:pt x="19" y="3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27" y="0"/>
                  </a:lnTo>
                  <a:lnTo>
                    <a:pt x="34" y="1"/>
                  </a:lnTo>
                  <a:lnTo>
                    <a:pt x="41" y="3"/>
                  </a:lnTo>
                  <a:lnTo>
                    <a:pt x="48" y="6"/>
                  </a:lnTo>
                  <a:lnTo>
                    <a:pt x="60" y="13"/>
                  </a:lnTo>
                  <a:lnTo>
                    <a:pt x="72" y="22"/>
                  </a:lnTo>
                  <a:lnTo>
                    <a:pt x="84" y="32"/>
                  </a:lnTo>
                  <a:lnTo>
                    <a:pt x="96" y="41"/>
                  </a:lnTo>
                  <a:lnTo>
                    <a:pt x="101" y="44"/>
                  </a:lnTo>
                  <a:lnTo>
                    <a:pt x="108" y="46"/>
                  </a:lnTo>
                  <a:lnTo>
                    <a:pt x="117" y="47"/>
                  </a:lnTo>
                  <a:lnTo>
                    <a:pt x="124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855800" y="3241800"/>
              <a:ext cx="93600" cy="137880"/>
            </a:xfrm>
            <a:custGeom>
              <a:avLst/>
              <a:gdLst/>
              <a:ahLst/>
              <a:rect l="l" t="t" r="r" b="b"/>
              <a:pathLst>
                <a:path w="133" h="218">
                  <a:moveTo>
                    <a:pt x="114" y="17"/>
                  </a:moveTo>
                  <a:lnTo>
                    <a:pt x="112" y="27"/>
                  </a:lnTo>
                  <a:lnTo>
                    <a:pt x="112" y="39"/>
                  </a:lnTo>
                  <a:lnTo>
                    <a:pt x="111" y="49"/>
                  </a:lnTo>
                  <a:lnTo>
                    <a:pt x="111" y="61"/>
                  </a:lnTo>
                  <a:lnTo>
                    <a:pt x="107" y="71"/>
                  </a:lnTo>
                  <a:lnTo>
                    <a:pt x="106" y="82"/>
                  </a:lnTo>
                  <a:lnTo>
                    <a:pt x="102" y="90"/>
                  </a:lnTo>
                  <a:lnTo>
                    <a:pt x="97" y="100"/>
                  </a:lnTo>
                  <a:lnTo>
                    <a:pt x="93" y="107"/>
                  </a:lnTo>
                  <a:lnTo>
                    <a:pt x="93" y="114"/>
                  </a:lnTo>
                  <a:lnTo>
                    <a:pt x="93" y="121"/>
                  </a:lnTo>
                  <a:lnTo>
                    <a:pt x="93" y="126"/>
                  </a:lnTo>
                  <a:lnTo>
                    <a:pt x="97" y="138"/>
                  </a:lnTo>
                  <a:lnTo>
                    <a:pt x="100" y="150"/>
                  </a:lnTo>
                  <a:lnTo>
                    <a:pt x="107" y="162"/>
                  </a:lnTo>
                  <a:lnTo>
                    <a:pt x="112" y="172"/>
                  </a:lnTo>
                  <a:lnTo>
                    <a:pt x="118" y="184"/>
                  </a:lnTo>
                  <a:lnTo>
                    <a:pt x="121" y="196"/>
                  </a:lnTo>
                  <a:lnTo>
                    <a:pt x="123" y="198"/>
                  </a:lnTo>
                  <a:lnTo>
                    <a:pt x="125" y="201"/>
                  </a:lnTo>
                  <a:lnTo>
                    <a:pt x="126" y="203"/>
                  </a:lnTo>
                  <a:lnTo>
                    <a:pt x="128" y="206"/>
                  </a:lnTo>
                  <a:lnTo>
                    <a:pt x="130" y="210"/>
                  </a:lnTo>
                  <a:lnTo>
                    <a:pt x="131" y="211"/>
                  </a:lnTo>
                  <a:lnTo>
                    <a:pt x="131" y="215"/>
                  </a:lnTo>
                  <a:lnTo>
                    <a:pt x="133" y="218"/>
                  </a:lnTo>
                  <a:lnTo>
                    <a:pt x="130" y="217"/>
                  </a:lnTo>
                  <a:lnTo>
                    <a:pt x="126" y="215"/>
                  </a:lnTo>
                  <a:lnTo>
                    <a:pt x="123" y="213"/>
                  </a:lnTo>
                  <a:lnTo>
                    <a:pt x="119" y="211"/>
                  </a:lnTo>
                  <a:lnTo>
                    <a:pt x="116" y="208"/>
                  </a:lnTo>
                  <a:lnTo>
                    <a:pt x="112" y="206"/>
                  </a:lnTo>
                  <a:lnTo>
                    <a:pt x="109" y="205"/>
                  </a:lnTo>
                  <a:lnTo>
                    <a:pt x="106" y="205"/>
                  </a:lnTo>
                  <a:lnTo>
                    <a:pt x="100" y="198"/>
                  </a:lnTo>
                  <a:lnTo>
                    <a:pt x="93" y="191"/>
                  </a:lnTo>
                  <a:lnTo>
                    <a:pt x="88" y="184"/>
                  </a:lnTo>
                  <a:lnTo>
                    <a:pt x="83" y="177"/>
                  </a:lnTo>
                  <a:lnTo>
                    <a:pt x="80" y="169"/>
                  </a:lnTo>
                  <a:lnTo>
                    <a:pt x="76" y="160"/>
                  </a:lnTo>
                  <a:lnTo>
                    <a:pt x="73" y="152"/>
                  </a:lnTo>
                  <a:lnTo>
                    <a:pt x="73" y="143"/>
                  </a:lnTo>
                  <a:lnTo>
                    <a:pt x="71" y="141"/>
                  </a:lnTo>
                  <a:lnTo>
                    <a:pt x="71" y="141"/>
                  </a:lnTo>
                  <a:lnTo>
                    <a:pt x="69" y="140"/>
                  </a:lnTo>
                  <a:lnTo>
                    <a:pt x="68" y="140"/>
                  </a:lnTo>
                  <a:lnTo>
                    <a:pt x="68" y="138"/>
                  </a:lnTo>
                  <a:lnTo>
                    <a:pt x="66" y="138"/>
                  </a:lnTo>
                  <a:lnTo>
                    <a:pt x="64" y="138"/>
                  </a:lnTo>
                  <a:lnTo>
                    <a:pt x="62" y="138"/>
                  </a:lnTo>
                  <a:lnTo>
                    <a:pt x="57" y="145"/>
                  </a:lnTo>
                  <a:lnTo>
                    <a:pt x="61" y="153"/>
                  </a:lnTo>
                  <a:lnTo>
                    <a:pt x="62" y="160"/>
                  </a:lnTo>
                  <a:lnTo>
                    <a:pt x="66" y="167"/>
                  </a:lnTo>
                  <a:lnTo>
                    <a:pt x="69" y="174"/>
                  </a:lnTo>
                  <a:lnTo>
                    <a:pt x="73" y="181"/>
                  </a:lnTo>
                  <a:lnTo>
                    <a:pt x="76" y="189"/>
                  </a:lnTo>
                  <a:lnTo>
                    <a:pt x="80" y="196"/>
                  </a:lnTo>
                  <a:lnTo>
                    <a:pt x="85" y="201"/>
                  </a:lnTo>
                  <a:lnTo>
                    <a:pt x="81" y="203"/>
                  </a:lnTo>
                  <a:lnTo>
                    <a:pt x="78" y="203"/>
                  </a:lnTo>
                  <a:lnTo>
                    <a:pt x="76" y="201"/>
                  </a:lnTo>
                  <a:lnTo>
                    <a:pt x="75" y="199"/>
                  </a:lnTo>
                  <a:lnTo>
                    <a:pt x="73" y="198"/>
                  </a:lnTo>
                  <a:lnTo>
                    <a:pt x="71" y="196"/>
                  </a:lnTo>
                  <a:lnTo>
                    <a:pt x="68" y="194"/>
                  </a:lnTo>
                  <a:lnTo>
                    <a:pt x="66" y="194"/>
                  </a:lnTo>
                  <a:lnTo>
                    <a:pt x="61" y="191"/>
                  </a:lnTo>
                  <a:lnTo>
                    <a:pt x="57" y="184"/>
                  </a:lnTo>
                  <a:lnTo>
                    <a:pt x="54" y="179"/>
                  </a:lnTo>
                  <a:lnTo>
                    <a:pt x="52" y="174"/>
                  </a:lnTo>
                  <a:lnTo>
                    <a:pt x="50" y="167"/>
                  </a:lnTo>
                  <a:lnTo>
                    <a:pt x="47" y="160"/>
                  </a:lnTo>
                  <a:lnTo>
                    <a:pt x="45" y="155"/>
                  </a:lnTo>
                  <a:lnTo>
                    <a:pt x="44" y="148"/>
                  </a:lnTo>
                  <a:lnTo>
                    <a:pt x="42" y="148"/>
                  </a:lnTo>
                  <a:lnTo>
                    <a:pt x="40" y="146"/>
                  </a:lnTo>
                  <a:lnTo>
                    <a:pt x="38" y="145"/>
                  </a:lnTo>
                  <a:lnTo>
                    <a:pt x="37" y="143"/>
                  </a:lnTo>
                  <a:lnTo>
                    <a:pt x="35" y="143"/>
                  </a:lnTo>
                  <a:lnTo>
                    <a:pt x="33" y="143"/>
                  </a:lnTo>
                  <a:lnTo>
                    <a:pt x="31" y="145"/>
                  </a:lnTo>
                  <a:lnTo>
                    <a:pt x="31" y="146"/>
                  </a:lnTo>
                  <a:lnTo>
                    <a:pt x="33" y="155"/>
                  </a:lnTo>
                  <a:lnTo>
                    <a:pt x="35" y="162"/>
                  </a:lnTo>
                  <a:lnTo>
                    <a:pt x="37" y="169"/>
                  </a:lnTo>
                  <a:lnTo>
                    <a:pt x="40" y="176"/>
                  </a:lnTo>
                  <a:lnTo>
                    <a:pt x="44" y="181"/>
                  </a:lnTo>
                  <a:lnTo>
                    <a:pt x="45" y="187"/>
                  </a:lnTo>
                  <a:lnTo>
                    <a:pt x="50" y="194"/>
                  </a:lnTo>
                  <a:lnTo>
                    <a:pt x="54" y="201"/>
                  </a:lnTo>
                  <a:lnTo>
                    <a:pt x="54" y="206"/>
                  </a:lnTo>
                  <a:lnTo>
                    <a:pt x="45" y="205"/>
                  </a:lnTo>
                  <a:lnTo>
                    <a:pt x="38" y="199"/>
                  </a:lnTo>
                  <a:lnTo>
                    <a:pt x="33" y="194"/>
                  </a:lnTo>
                  <a:lnTo>
                    <a:pt x="28" y="189"/>
                  </a:lnTo>
                  <a:lnTo>
                    <a:pt x="23" y="182"/>
                  </a:lnTo>
                  <a:lnTo>
                    <a:pt x="19" y="176"/>
                  </a:lnTo>
                  <a:lnTo>
                    <a:pt x="14" y="169"/>
                  </a:lnTo>
                  <a:lnTo>
                    <a:pt x="9" y="162"/>
                  </a:lnTo>
                  <a:lnTo>
                    <a:pt x="0" y="164"/>
                  </a:lnTo>
                  <a:lnTo>
                    <a:pt x="2" y="143"/>
                  </a:lnTo>
                  <a:lnTo>
                    <a:pt x="4" y="121"/>
                  </a:lnTo>
                  <a:lnTo>
                    <a:pt x="6" y="100"/>
                  </a:lnTo>
                  <a:lnTo>
                    <a:pt x="7" y="82"/>
                  </a:lnTo>
                  <a:lnTo>
                    <a:pt x="11" y="61"/>
                  </a:lnTo>
                  <a:lnTo>
                    <a:pt x="12" y="41"/>
                  </a:lnTo>
                  <a:lnTo>
                    <a:pt x="18" y="20"/>
                  </a:lnTo>
                  <a:lnTo>
                    <a:pt x="23" y="0"/>
                  </a:lnTo>
                  <a:lnTo>
                    <a:pt x="33" y="3"/>
                  </a:lnTo>
                  <a:lnTo>
                    <a:pt x="45" y="8"/>
                  </a:lnTo>
                  <a:lnTo>
                    <a:pt x="56" y="12"/>
                  </a:lnTo>
                  <a:lnTo>
                    <a:pt x="68" y="15"/>
                  </a:lnTo>
                  <a:lnTo>
                    <a:pt x="78" y="18"/>
                  </a:lnTo>
                  <a:lnTo>
                    <a:pt x="90" y="20"/>
                  </a:lnTo>
                  <a:lnTo>
                    <a:pt x="102" y="20"/>
                  </a:lnTo>
                  <a:lnTo>
                    <a:pt x="114" y="17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855800" y="3352680"/>
              <a:ext cx="27000" cy="27000"/>
            </a:xfrm>
            <a:custGeom>
              <a:avLst/>
              <a:gdLst/>
              <a:ahLst/>
              <a:rect l="l" t="t" r="r" b="b"/>
              <a:pathLst>
                <a:path w="37" h="43">
                  <a:moveTo>
                    <a:pt x="23" y="29"/>
                  </a:moveTo>
                  <a:lnTo>
                    <a:pt x="25" y="31"/>
                  </a:lnTo>
                  <a:lnTo>
                    <a:pt x="26" y="32"/>
                  </a:lnTo>
                  <a:lnTo>
                    <a:pt x="28" y="32"/>
                  </a:lnTo>
                  <a:lnTo>
                    <a:pt x="30" y="34"/>
                  </a:lnTo>
                  <a:lnTo>
                    <a:pt x="31" y="36"/>
                  </a:lnTo>
                  <a:lnTo>
                    <a:pt x="33" y="37"/>
                  </a:lnTo>
                  <a:lnTo>
                    <a:pt x="35" y="37"/>
                  </a:lnTo>
                  <a:lnTo>
                    <a:pt x="37" y="39"/>
                  </a:lnTo>
                  <a:lnTo>
                    <a:pt x="37" y="41"/>
                  </a:lnTo>
                  <a:lnTo>
                    <a:pt x="35" y="43"/>
                  </a:lnTo>
                  <a:lnTo>
                    <a:pt x="33" y="43"/>
                  </a:lnTo>
                  <a:lnTo>
                    <a:pt x="33" y="41"/>
                  </a:lnTo>
                  <a:lnTo>
                    <a:pt x="31" y="41"/>
                  </a:lnTo>
                  <a:lnTo>
                    <a:pt x="30" y="39"/>
                  </a:lnTo>
                  <a:lnTo>
                    <a:pt x="28" y="39"/>
                  </a:lnTo>
                  <a:lnTo>
                    <a:pt x="26" y="39"/>
                  </a:lnTo>
                  <a:lnTo>
                    <a:pt x="25" y="37"/>
                  </a:lnTo>
                  <a:lnTo>
                    <a:pt x="23" y="34"/>
                  </a:lnTo>
                  <a:lnTo>
                    <a:pt x="21" y="32"/>
                  </a:lnTo>
                  <a:lnTo>
                    <a:pt x="18" y="31"/>
                  </a:lnTo>
                  <a:lnTo>
                    <a:pt x="14" y="31"/>
                  </a:lnTo>
                  <a:lnTo>
                    <a:pt x="12" y="29"/>
                  </a:lnTo>
                  <a:lnTo>
                    <a:pt x="9" y="27"/>
                  </a:lnTo>
                  <a:lnTo>
                    <a:pt x="7" y="25"/>
                  </a:lnTo>
                  <a:lnTo>
                    <a:pt x="6" y="22"/>
                  </a:lnTo>
                  <a:lnTo>
                    <a:pt x="4" y="19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2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6" y="3"/>
                  </a:lnTo>
                  <a:lnTo>
                    <a:pt x="9" y="7"/>
                  </a:lnTo>
                  <a:lnTo>
                    <a:pt x="11" y="10"/>
                  </a:lnTo>
                  <a:lnTo>
                    <a:pt x="14" y="13"/>
                  </a:lnTo>
                  <a:lnTo>
                    <a:pt x="16" y="17"/>
                  </a:lnTo>
                  <a:lnTo>
                    <a:pt x="19" y="20"/>
                  </a:lnTo>
                  <a:lnTo>
                    <a:pt x="21" y="25"/>
                  </a:lnTo>
                  <a:lnTo>
                    <a:pt x="23" y="29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608120" y="2000160"/>
              <a:ext cx="142920" cy="149400"/>
            </a:xfrm>
            <a:custGeom>
              <a:avLst/>
              <a:gdLst/>
              <a:ahLst/>
              <a:rect l="l" t="t" r="r" b="b"/>
              <a:pathLst>
                <a:path w="210" h="235">
                  <a:moveTo>
                    <a:pt x="132" y="11"/>
                  </a:moveTo>
                  <a:lnTo>
                    <a:pt x="120" y="10"/>
                  </a:lnTo>
                  <a:lnTo>
                    <a:pt x="108" y="11"/>
                  </a:lnTo>
                  <a:lnTo>
                    <a:pt x="98" y="13"/>
                  </a:lnTo>
                  <a:lnTo>
                    <a:pt x="88" y="17"/>
                  </a:lnTo>
                  <a:lnTo>
                    <a:pt x="79" y="22"/>
                  </a:lnTo>
                  <a:lnTo>
                    <a:pt x="69" y="27"/>
                  </a:lnTo>
                  <a:lnTo>
                    <a:pt x="60" y="34"/>
                  </a:lnTo>
                  <a:lnTo>
                    <a:pt x="51" y="41"/>
                  </a:lnTo>
                  <a:lnTo>
                    <a:pt x="55" y="41"/>
                  </a:lnTo>
                  <a:lnTo>
                    <a:pt x="58" y="39"/>
                  </a:lnTo>
                  <a:lnTo>
                    <a:pt x="63" y="39"/>
                  </a:lnTo>
                  <a:lnTo>
                    <a:pt x="67" y="37"/>
                  </a:lnTo>
                  <a:lnTo>
                    <a:pt x="72" y="35"/>
                  </a:lnTo>
                  <a:lnTo>
                    <a:pt x="77" y="34"/>
                  </a:lnTo>
                  <a:lnTo>
                    <a:pt x="81" y="32"/>
                  </a:lnTo>
                  <a:lnTo>
                    <a:pt x="84" y="32"/>
                  </a:lnTo>
                  <a:lnTo>
                    <a:pt x="82" y="34"/>
                  </a:lnTo>
                  <a:lnTo>
                    <a:pt x="81" y="35"/>
                  </a:lnTo>
                  <a:lnTo>
                    <a:pt x="81" y="39"/>
                  </a:lnTo>
                  <a:lnTo>
                    <a:pt x="79" y="41"/>
                  </a:lnTo>
                  <a:lnTo>
                    <a:pt x="77" y="42"/>
                  </a:lnTo>
                  <a:lnTo>
                    <a:pt x="76" y="44"/>
                  </a:lnTo>
                  <a:lnTo>
                    <a:pt x="74" y="46"/>
                  </a:lnTo>
                  <a:lnTo>
                    <a:pt x="72" y="46"/>
                  </a:lnTo>
                  <a:lnTo>
                    <a:pt x="74" y="47"/>
                  </a:lnTo>
                  <a:lnTo>
                    <a:pt x="76" y="47"/>
                  </a:lnTo>
                  <a:lnTo>
                    <a:pt x="77" y="49"/>
                  </a:lnTo>
                  <a:lnTo>
                    <a:pt x="79" y="49"/>
                  </a:lnTo>
                  <a:lnTo>
                    <a:pt x="81" y="51"/>
                  </a:lnTo>
                  <a:lnTo>
                    <a:pt x="81" y="52"/>
                  </a:lnTo>
                  <a:lnTo>
                    <a:pt x="82" y="54"/>
                  </a:lnTo>
                  <a:lnTo>
                    <a:pt x="84" y="56"/>
                  </a:lnTo>
                  <a:lnTo>
                    <a:pt x="77" y="59"/>
                  </a:lnTo>
                  <a:lnTo>
                    <a:pt x="72" y="63"/>
                  </a:lnTo>
                  <a:lnTo>
                    <a:pt x="63" y="66"/>
                  </a:lnTo>
                  <a:lnTo>
                    <a:pt x="57" y="70"/>
                  </a:lnTo>
                  <a:lnTo>
                    <a:pt x="51" y="75"/>
                  </a:lnTo>
                  <a:lnTo>
                    <a:pt x="45" y="80"/>
                  </a:lnTo>
                  <a:lnTo>
                    <a:pt x="41" y="85"/>
                  </a:lnTo>
                  <a:lnTo>
                    <a:pt x="39" y="92"/>
                  </a:lnTo>
                  <a:lnTo>
                    <a:pt x="57" y="92"/>
                  </a:lnTo>
                  <a:lnTo>
                    <a:pt x="36" y="112"/>
                  </a:lnTo>
                  <a:lnTo>
                    <a:pt x="41" y="116"/>
                  </a:lnTo>
                  <a:lnTo>
                    <a:pt x="46" y="117"/>
                  </a:lnTo>
                  <a:lnTo>
                    <a:pt x="53" y="119"/>
                  </a:lnTo>
                  <a:lnTo>
                    <a:pt x="58" y="119"/>
                  </a:lnTo>
                  <a:lnTo>
                    <a:pt x="65" y="121"/>
                  </a:lnTo>
                  <a:lnTo>
                    <a:pt x="70" y="121"/>
                  </a:lnTo>
                  <a:lnTo>
                    <a:pt x="79" y="121"/>
                  </a:lnTo>
                  <a:lnTo>
                    <a:pt x="88" y="121"/>
                  </a:lnTo>
                  <a:lnTo>
                    <a:pt x="79" y="126"/>
                  </a:lnTo>
                  <a:lnTo>
                    <a:pt x="72" y="131"/>
                  </a:lnTo>
                  <a:lnTo>
                    <a:pt x="65" y="134"/>
                  </a:lnTo>
                  <a:lnTo>
                    <a:pt x="58" y="138"/>
                  </a:lnTo>
                  <a:lnTo>
                    <a:pt x="53" y="143"/>
                  </a:lnTo>
                  <a:lnTo>
                    <a:pt x="48" y="148"/>
                  </a:lnTo>
                  <a:lnTo>
                    <a:pt x="43" y="155"/>
                  </a:lnTo>
                  <a:lnTo>
                    <a:pt x="39" y="162"/>
                  </a:lnTo>
                  <a:lnTo>
                    <a:pt x="45" y="169"/>
                  </a:lnTo>
                  <a:lnTo>
                    <a:pt x="38" y="174"/>
                  </a:lnTo>
                  <a:lnTo>
                    <a:pt x="31" y="181"/>
                  </a:lnTo>
                  <a:lnTo>
                    <a:pt x="24" y="189"/>
                  </a:lnTo>
                  <a:lnTo>
                    <a:pt x="17" y="198"/>
                  </a:lnTo>
                  <a:lnTo>
                    <a:pt x="12" y="208"/>
                  </a:lnTo>
                  <a:lnTo>
                    <a:pt x="7" y="217"/>
                  </a:lnTo>
                  <a:lnTo>
                    <a:pt x="3" y="225"/>
                  </a:lnTo>
                  <a:lnTo>
                    <a:pt x="0" y="234"/>
                  </a:lnTo>
                  <a:lnTo>
                    <a:pt x="7" y="235"/>
                  </a:lnTo>
                  <a:lnTo>
                    <a:pt x="13" y="234"/>
                  </a:lnTo>
                  <a:lnTo>
                    <a:pt x="19" y="232"/>
                  </a:lnTo>
                  <a:lnTo>
                    <a:pt x="24" y="228"/>
                  </a:lnTo>
                  <a:lnTo>
                    <a:pt x="34" y="222"/>
                  </a:lnTo>
                  <a:lnTo>
                    <a:pt x="43" y="213"/>
                  </a:lnTo>
                  <a:lnTo>
                    <a:pt x="53" y="203"/>
                  </a:lnTo>
                  <a:lnTo>
                    <a:pt x="62" y="194"/>
                  </a:lnTo>
                  <a:lnTo>
                    <a:pt x="69" y="191"/>
                  </a:lnTo>
                  <a:lnTo>
                    <a:pt x="74" y="189"/>
                  </a:lnTo>
                  <a:lnTo>
                    <a:pt x="81" y="187"/>
                  </a:lnTo>
                  <a:lnTo>
                    <a:pt x="88" y="186"/>
                  </a:lnTo>
                  <a:lnTo>
                    <a:pt x="98" y="187"/>
                  </a:lnTo>
                  <a:lnTo>
                    <a:pt x="110" y="189"/>
                  </a:lnTo>
                  <a:lnTo>
                    <a:pt x="120" y="191"/>
                  </a:lnTo>
                  <a:lnTo>
                    <a:pt x="132" y="194"/>
                  </a:lnTo>
                  <a:lnTo>
                    <a:pt x="143" y="196"/>
                  </a:lnTo>
                  <a:lnTo>
                    <a:pt x="155" y="199"/>
                  </a:lnTo>
                  <a:lnTo>
                    <a:pt x="167" y="201"/>
                  </a:lnTo>
                  <a:lnTo>
                    <a:pt x="177" y="201"/>
                  </a:lnTo>
                  <a:lnTo>
                    <a:pt x="174" y="196"/>
                  </a:lnTo>
                  <a:lnTo>
                    <a:pt x="169" y="191"/>
                  </a:lnTo>
                  <a:lnTo>
                    <a:pt x="163" y="187"/>
                  </a:lnTo>
                  <a:lnTo>
                    <a:pt x="158" y="182"/>
                  </a:lnTo>
                  <a:lnTo>
                    <a:pt x="153" y="179"/>
                  </a:lnTo>
                  <a:lnTo>
                    <a:pt x="148" y="174"/>
                  </a:lnTo>
                  <a:lnTo>
                    <a:pt x="144" y="170"/>
                  </a:lnTo>
                  <a:lnTo>
                    <a:pt x="141" y="165"/>
                  </a:lnTo>
                  <a:lnTo>
                    <a:pt x="169" y="162"/>
                  </a:lnTo>
                  <a:lnTo>
                    <a:pt x="157" y="153"/>
                  </a:lnTo>
                  <a:lnTo>
                    <a:pt x="144" y="145"/>
                  </a:lnTo>
                  <a:lnTo>
                    <a:pt x="148" y="145"/>
                  </a:lnTo>
                  <a:lnTo>
                    <a:pt x="153" y="143"/>
                  </a:lnTo>
                  <a:lnTo>
                    <a:pt x="157" y="143"/>
                  </a:lnTo>
                  <a:lnTo>
                    <a:pt x="162" y="141"/>
                  </a:lnTo>
                  <a:lnTo>
                    <a:pt x="167" y="141"/>
                  </a:lnTo>
                  <a:lnTo>
                    <a:pt x="172" y="140"/>
                  </a:lnTo>
                  <a:lnTo>
                    <a:pt x="177" y="140"/>
                  </a:lnTo>
                  <a:lnTo>
                    <a:pt x="181" y="140"/>
                  </a:lnTo>
                  <a:lnTo>
                    <a:pt x="177" y="131"/>
                  </a:lnTo>
                  <a:lnTo>
                    <a:pt x="174" y="126"/>
                  </a:lnTo>
                  <a:lnTo>
                    <a:pt x="170" y="123"/>
                  </a:lnTo>
                  <a:lnTo>
                    <a:pt x="165" y="119"/>
                  </a:lnTo>
                  <a:lnTo>
                    <a:pt x="160" y="116"/>
                  </a:lnTo>
                  <a:lnTo>
                    <a:pt x="155" y="114"/>
                  </a:lnTo>
                  <a:lnTo>
                    <a:pt x="150" y="111"/>
                  </a:lnTo>
                  <a:lnTo>
                    <a:pt x="144" y="105"/>
                  </a:lnTo>
                  <a:lnTo>
                    <a:pt x="146" y="105"/>
                  </a:lnTo>
                  <a:lnTo>
                    <a:pt x="150" y="105"/>
                  </a:lnTo>
                  <a:lnTo>
                    <a:pt x="153" y="105"/>
                  </a:lnTo>
                  <a:lnTo>
                    <a:pt x="157" y="104"/>
                  </a:lnTo>
                  <a:lnTo>
                    <a:pt x="160" y="104"/>
                  </a:lnTo>
                  <a:lnTo>
                    <a:pt x="163" y="104"/>
                  </a:lnTo>
                  <a:lnTo>
                    <a:pt x="165" y="104"/>
                  </a:lnTo>
                  <a:lnTo>
                    <a:pt x="169" y="104"/>
                  </a:lnTo>
                  <a:lnTo>
                    <a:pt x="165" y="95"/>
                  </a:lnTo>
                  <a:lnTo>
                    <a:pt x="165" y="90"/>
                  </a:lnTo>
                  <a:lnTo>
                    <a:pt x="165" y="87"/>
                  </a:lnTo>
                  <a:lnTo>
                    <a:pt x="169" y="83"/>
                  </a:lnTo>
                  <a:lnTo>
                    <a:pt x="172" y="83"/>
                  </a:lnTo>
                  <a:lnTo>
                    <a:pt x="179" y="82"/>
                  </a:lnTo>
                  <a:lnTo>
                    <a:pt x="186" y="82"/>
                  </a:lnTo>
                  <a:lnTo>
                    <a:pt x="196" y="82"/>
                  </a:lnTo>
                  <a:lnTo>
                    <a:pt x="193" y="80"/>
                  </a:lnTo>
                  <a:lnTo>
                    <a:pt x="191" y="76"/>
                  </a:lnTo>
                  <a:lnTo>
                    <a:pt x="186" y="71"/>
                  </a:lnTo>
                  <a:lnTo>
                    <a:pt x="182" y="68"/>
                  </a:lnTo>
                  <a:lnTo>
                    <a:pt x="177" y="63"/>
                  </a:lnTo>
                  <a:lnTo>
                    <a:pt x="174" y="59"/>
                  </a:lnTo>
                  <a:lnTo>
                    <a:pt x="170" y="56"/>
                  </a:lnTo>
                  <a:lnTo>
                    <a:pt x="169" y="52"/>
                  </a:lnTo>
                  <a:lnTo>
                    <a:pt x="172" y="49"/>
                  </a:lnTo>
                  <a:lnTo>
                    <a:pt x="174" y="44"/>
                  </a:lnTo>
                  <a:lnTo>
                    <a:pt x="176" y="42"/>
                  </a:lnTo>
                  <a:lnTo>
                    <a:pt x="177" y="39"/>
                  </a:lnTo>
                  <a:lnTo>
                    <a:pt x="179" y="37"/>
                  </a:lnTo>
                  <a:lnTo>
                    <a:pt x="182" y="35"/>
                  </a:lnTo>
                  <a:lnTo>
                    <a:pt x="186" y="35"/>
                  </a:lnTo>
                  <a:lnTo>
                    <a:pt x="193" y="34"/>
                  </a:lnTo>
                  <a:lnTo>
                    <a:pt x="191" y="34"/>
                  </a:lnTo>
                  <a:lnTo>
                    <a:pt x="191" y="34"/>
                  </a:lnTo>
                  <a:lnTo>
                    <a:pt x="191" y="32"/>
                  </a:lnTo>
                  <a:lnTo>
                    <a:pt x="194" y="32"/>
                  </a:lnTo>
                  <a:lnTo>
                    <a:pt x="198" y="30"/>
                  </a:lnTo>
                  <a:lnTo>
                    <a:pt x="201" y="29"/>
                  </a:lnTo>
                  <a:lnTo>
                    <a:pt x="205" y="27"/>
                  </a:lnTo>
                  <a:lnTo>
                    <a:pt x="208" y="25"/>
                  </a:lnTo>
                  <a:lnTo>
                    <a:pt x="207" y="25"/>
                  </a:lnTo>
                  <a:lnTo>
                    <a:pt x="207" y="23"/>
                  </a:lnTo>
                  <a:lnTo>
                    <a:pt x="205" y="22"/>
                  </a:lnTo>
                  <a:lnTo>
                    <a:pt x="205" y="20"/>
                  </a:lnTo>
                  <a:lnTo>
                    <a:pt x="203" y="18"/>
                  </a:lnTo>
                  <a:lnTo>
                    <a:pt x="203" y="17"/>
                  </a:lnTo>
                  <a:lnTo>
                    <a:pt x="201" y="15"/>
                  </a:lnTo>
                  <a:lnTo>
                    <a:pt x="201" y="13"/>
                  </a:lnTo>
                  <a:lnTo>
                    <a:pt x="201" y="13"/>
                  </a:lnTo>
                  <a:lnTo>
                    <a:pt x="203" y="11"/>
                  </a:lnTo>
                  <a:lnTo>
                    <a:pt x="205" y="10"/>
                  </a:lnTo>
                  <a:lnTo>
                    <a:pt x="207" y="8"/>
                  </a:lnTo>
                  <a:lnTo>
                    <a:pt x="208" y="6"/>
                  </a:lnTo>
                  <a:lnTo>
                    <a:pt x="208" y="5"/>
                  </a:lnTo>
                  <a:lnTo>
                    <a:pt x="210" y="3"/>
                  </a:lnTo>
                  <a:lnTo>
                    <a:pt x="210" y="1"/>
                  </a:lnTo>
                  <a:lnTo>
                    <a:pt x="198" y="0"/>
                  </a:lnTo>
                  <a:lnTo>
                    <a:pt x="186" y="0"/>
                  </a:lnTo>
                  <a:lnTo>
                    <a:pt x="174" y="0"/>
                  </a:lnTo>
                  <a:lnTo>
                    <a:pt x="163" y="0"/>
                  </a:lnTo>
                  <a:lnTo>
                    <a:pt x="155" y="1"/>
                  </a:lnTo>
                  <a:lnTo>
                    <a:pt x="146" y="3"/>
                  </a:lnTo>
                  <a:lnTo>
                    <a:pt x="139" y="6"/>
                  </a:lnTo>
                  <a:lnTo>
                    <a:pt x="132" y="11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608120" y="2000160"/>
              <a:ext cx="142920" cy="149400"/>
            </a:xfrm>
            <a:custGeom>
              <a:avLst/>
              <a:gdLst/>
              <a:ahLst/>
              <a:rect l="l" t="t" r="r" b="b"/>
              <a:pathLst>
                <a:path w="210" h="235">
                  <a:moveTo>
                    <a:pt x="132" y="11"/>
                  </a:moveTo>
                  <a:lnTo>
                    <a:pt x="120" y="10"/>
                  </a:lnTo>
                  <a:lnTo>
                    <a:pt x="108" y="11"/>
                  </a:lnTo>
                  <a:lnTo>
                    <a:pt x="98" y="13"/>
                  </a:lnTo>
                  <a:lnTo>
                    <a:pt x="88" y="17"/>
                  </a:lnTo>
                  <a:lnTo>
                    <a:pt x="79" y="22"/>
                  </a:lnTo>
                  <a:lnTo>
                    <a:pt x="69" y="27"/>
                  </a:lnTo>
                  <a:lnTo>
                    <a:pt x="60" y="34"/>
                  </a:lnTo>
                  <a:lnTo>
                    <a:pt x="51" y="41"/>
                  </a:lnTo>
                  <a:lnTo>
                    <a:pt x="55" y="41"/>
                  </a:lnTo>
                  <a:lnTo>
                    <a:pt x="58" y="39"/>
                  </a:lnTo>
                  <a:lnTo>
                    <a:pt x="63" y="39"/>
                  </a:lnTo>
                  <a:lnTo>
                    <a:pt x="67" y="37"/>
                  </a:lnTo>
                  <a:lnTo>
                    <a:pt x="72" y="35"/>
                  </a:lnTo>
                  <a:lnTo>
                    <a:pt x="77" y="34"/>
                  </a:lnTo>
                  <a:lnTo>
                    <a:pt x="81" y="32"/>
                  </a:lnTo>
                  <a:lnTo>
                    <a:pt x="84" y="32"/>
                  </a:lnTo>
                  <a:lnTo>
                    <a:pt x="82" y="34"/>
                  </a:lnTo>
                  <a:lnTo>
                    <a:pt x="81" y="35"/>
                  </a:lnTo>
                  <a:lnTo>
                    <a:pt x="81" y="39"/>
                  </a:lnTo>
                  <a:lnTo>
                    <a:pt x="79" y="41"/>
                  </a:lnTo>
                  <a:lnTo>
                    <a:pt x="77" y="42"/>
                  </a:lnTo>
                  <a:lnTo>
                    <a:pt x="76" y="44"/>
                  </a:lnTo>
                  <a:lnTo>
                    <a:pt x="74" y="46"/>
                  </a:lnTo>
                  <a:lnTo>
                    <a:pt x="72" y="46"/>
                  </a:lnTo>
                  <a:lnTo>
                    <a:pt x="74" y="47"/>
                  </a:lnTo>
                  <a:lnTo>
                    <a:pt x="76" y="47"/>
                  </a:lnTo>
                  <a:lnTo>
                    <a:pt x="77" y="49"/>
                  </a:lnTo>
                  <a:lnTo>
                    <a:pt x="79" y="49"/>
                  </a:lnTo>
                  <a:lnTo>
                    <a:pt x="81" y="51"/>
                  </a:lnTo>
                  <a:lnTo>
                    <a:pt x="81" y="52"/>
                  </a:lnTo>
                  <a:lnTo>
                    <a:pt x="82" y="54"/>
                  </a:lnTo>
                  <a:lnTo>
                    <a:pt x="84" y="56"/>
                  </a:lnTo>
                  <a:lnTo>
                    <a:pt x="77" y="59"/>
                  </a:lnTo>
                  <a:lnTo>
                    <a:pt x="72" y="63"/>
                  </a:lnTo>
                  <a:lnTo>
                    <a:pt x="63" y="66"/>
                  </a:lnTo>
                  <a:lnTo>
                    <a:pt x="57" y="70"/>
                  </a:lnTo>
                  <a:lnTo>
                    <a:pt x="51" y="75"/>
                  </a:lnTo>
                  <a:lnTo>
                    <a:pt x="45" y="80"/>
                  </a:lnTo>
                  <a:lnTo>
                    <a:pt x="41" y="85"/>
                  </a:lnTo>
                  <a:lnTo>
                    <a:pt x="39" y="92"/>
                  </a:lnTo>
                  <a:lnTo>
                    <a:pt x="57" y="92"/>
                  </a:lnTo>
                  <a:lnTo>
                    <a:pt x="36" y="112"/>
                  </a:lnTo>
                  <a:lnTo>
                    <a:pt x="41" y="116"/>
                  </a:lnTo>
                  <a:lnTo>
                    <a:pt x="46" y="117"/>
                  </a:lnTo>
                  <a:lnTo>
                    <a:pt x="53" y="119"/>
                  </a:lnTo>
                  <a:lnTo>
                    <a:pt x="58" y="119"/>
                  </a:lnTo>
                  <a:lnTo>
                    <a:pt x="65" y="121"/>
                  </a:lnTo>
                  <a:lnTo>
                    <a:pt x="70" y="121"/>
                  </a:lnTo>
                  <a:lnTo>
                    <a:pt x="79" y="121"/>
                  </a:lnTo>
                  <a:lnTo>
                    <a:pt x="88" y="121"/>
                  </a:lnTo>
                  <a:lnTo>
                    <a:pt x="79" y="126"/>
                  </a:lnTo>
                  <a:lnTo>
                    <a:pt x="72" y="131"/>
                  </a:lnTo>
                  <a:lnTo>
                    <a:pt x="65" y="134"/>
                  </a:lnTo>
                  <a:lnTo>
                    <a:pt x="58" y="138"/>
                  </a:lnTo>
                  <a:lnTo>
                    <a:pt x="53" y="143"/>
                  </a:lnTo>
                  <a:lnTo>
                    <a:pt x="48" y="148"/>
                  </a:lnTo>
                  <a:lnTo>
                    <a:pt x="43" y="155"/>
                  </a:lnTo>
                  <a:lnTo>
                    <a:pt x="39" y="162"/>
                  </a:lnTo>
                  <a:lnTo>
                    <a:pt x="45" y="169"/>
                  </a:lnTo>
                  <a:lnTo>
                    <a:pt x="38" y="174"/>
                  </a:lnTo>
                  <a:lnTo>
                    <a:pt x="31" y="181"/>
                  </a:lnTo>
                  <a:lnTo>
                    <a:pt x="24" y="189"/>
                  </a:lnTo>
                  <a:lnTo>
                    <a:pt x="17" y="198"/>
                  </a:lnTo>
                  <a:lnTo>
                    <a:pt x="12" y="208"/>
                  </a:lnTo>
                  <a:lnTo>
                    <a:pt x="7" y="217"/>
                  </a:lnTo>
                  <a:lnTo>
                    <a:pt x="3" y="225"/>
                  </a:lnTo>
                  <a:lnTo>
                    <a:pt x="0" y="234"/>
                  </a:lnTo>
                  <a:lnTo>
                    <a:pt x="7" y="235"/>
                  </a:lnTo>
                  <a:lnTo>
                    <a:pt x="13" y="234"/>
                  </a:lnTo>
                  <a:lnTo>
                    <a:pt x="19" y="232"/>
                  </a:lnTo>
                  <a:lnTo>
                    <a:pt x="24" y="228"/>
                  </a:lnTo>
                  <a:lnTo>
                    <a:pt x="34" y="222"/>
                  </a:lnTo>
                  <a:lnTo>
                    <a:pt x="43" y="213"/>
                  </a:lnTo>
                  <a:lnTo>
                    <a:pt x="53" y="203"/>
                  </a:lnTo>
                  <a:lnTo>
                    <a:pt x="62" y="194"/>
                  </a:lnTo>
                  <a:lnTo>
                    <a:pt x="69" y="191"/>
                  </a:lnTo>
                  <a:lnTo>
                    <a:pt x="74" y="189"/>
                  </a:lnTo>
                  <a:lnTo>
                    <a:pt x="81" y="187"/>
                  </a:lnTo>
                  <a:lnTo>
                    <a:pt x="88" y="186"/>
                  </a:lnTo>
                  <a:lnTo>
                    <a:pt x="98" y="187"/>
                  </a:lnTo>
                  <a:lnTo>
                    <a:pt x="110" y="189"/>
                  </a:lnTo>
                  <a:lnTo>
                    <a:pt x="120" y="191"/>
                  </a:lnTo>
                  <a:lnTo>
                    <a:pt x="132" y="194"/>
                  </a:lnTo>
                  <a:lnTo>
                    <a:pt x="143" y="196"/>
                  </a:lnTo>
                  <a:lnTo>
                    <a:pt x="155" y="199"/>
                  </a:lnTo>
                  <a:lnTo>
                    <a:pt x="167" y="201"/>
                  </a:lnTo>
                  <a:lnTo>
                    <a:pt x="177" y="201"/>
                  </a:lnTo>
                  <a:lnTo>
                    <a:pt x="174" y="196"/>
                  </a:lnTo>
                  <a:lnTo>
                    <a:pt x="169" y="191"/>
                  </a:lnTo>
                  <a:lnTo>
                    <a:pt x="163" y="187"/>
                  </a:lnTo>
                  <a:lnTo>
                    <a:pt x="158" y="182"/>
                  </a:lnTo>
                  <a:lnTo>
                    <a:pt x="153" y="179"/>
                  </a:lnTo>
                  <a:lnTo>
                    <a:pt x="148" y="174"/>
                  </a:lnTo>
                  <a:lnTo>
                    <a:pt x="144" y="170"/>
                  </a:lnTo>
                  <a:lnTo>
                    <a:pt x="141" y="165"/>
                  </a:lnTo>
                  <a:lnTo>
                    <a:pt x="169" y="162"/>
                  </a:lnTo>
                  <a:lnTo>
                    <a:pt x="157" y="153"/>
                  </a:lnTo>
                  <a:lnTo>
                    <a:pt x="144" y="145"/>
                  </a:lnTo>
                  <a:lnTo>
                    <a:pt x="148" y="145"/>
                  </a:lnTo>
                  <a:lnTo>
                    <a:pt x="153" y="143"/>
                  </a:lnTo>
                  <a:lnTo>
                    <a:pt x="157" y="143"/>
                  </a:lnTo>
                  <a:lnTo>
                    <a:pt x="162" y="141"/>
                  </a:lnTo>
                  <a:lnTo>
                    <a:pt x="167" y="141"/>
                  </a:lnTo>
                  <a:lnTo>
                    <a:pt x="172" y="140"/>
                  </a:lnTo>
                  <a:lnTo>
                    <a:pt x="177" y="140"/>
                  </a:lnTo>
                  <a:lnTo>
                    <a:pt x="181" y="140"/>
                  </a:lnTo>
                  <a:lnTo>
                    <a:pt x="177" y="131"/>
                  </a:lnTo>
                  <a:lnTo>
                    <a:pt x="174" y="126"/>
                  </a:lnTo>
                  <a:lnTo>
                    <a:pt x="170" y="123"/>
                  </a:lnTo>
                  <a:lnTo>
                    <a:pt x="165" y="119"/>
                  </a:lnTo>
                  <a:lnTo>
                    <a:pt x="160" y="116"/>
                  </a:lnTo>
                  <a:lnTo>
                    <a:pt x="155" y="114"/>
                  </a:lnTo>
                  <a:lnTo>
                    <a:pt x="150" y="111"/>
                  </a:lnTo>
                  <a:lnTo>
                    <a:pt x="144" y="105"/>
                  </a:lnTo>
                  <a:lnTo>
                    <a:pt x="146" y="105"/>
                  </a:lnTo>
                  <a:lnTo>
                    <a:pt x="150" y="105"/>
                  </a:lnTo>
                  <a:lnTo>
                    <a:pt x="153" y="105"/>
                  </a:lnTo>
                  <a:lnTo>
                    <a:pt x="157" y="104"/>
                  </a:lnTo>
                  <a:lnTo>
                    <a:pt x="160" y="104"/>
                  </a:lnTo>
                  <a:lnTo>
                    <a:pt x="163" y="104"/>
                  </a:lnTo>
                  <a:lnTo>
                    <a:pt x="165" y="104"/>
                  </a:lnTo>
                  <a:lnTo>
                    <a:pt x="169" y="104"/>
                  </a:lnTo>
                  <a:lnTo>
                    <a:pt x="165" y="95"/>
                  </a:lnTo>
                  <a:lnTo>
                    <a:pt x="165" y="90"/>
                  </a:lnTo>
                  <a:lnTo>
                    <a:pt x="165" y="87"/>
                  </a:lnTo>
                  <a:lnTo>
                    <a:pt x="169" y="83"/>
                  </a:lnTo>
                  <a:lnTo>
                    <a:pt x="172" y="83"/>
                  </a:lnTo>
                  <a:lnTo>
                    <a:pt x="179" y="82"/>
                  </a:lnTo>
                  <a:lnTo>
                    <a:pt x="186" y="82"/>
                  </a:lnTo>
                  <a:lnTo>
                    <a:pt x="196" y="82"/>
                  </a:lnTo>
                  <a:lnTo>
                    <a:pt x="193" y="80"/>
                  </a:lnTo>
                  <a:lnTo>
                    <a:pt x="191" y="76"/>
                  </a:lnTo>
                  <a:lnTo>
                    <a:pt x="186" y="71"/>
                  </a:lnTo>
                  <a:lnTo>
                    <a:pt x="182" y="68"/>
                  </a:lnTo>
                  <a:lnTo>
                    <a:pt x="177" y="63"/>
                  </a:lnTo>
                  <a:lnTo>
                    <a:pt x="174" y="59"/>
                  </a:lnTo>
                  <a:lnTo>
                    <a:pt x="170" y="56"/>
                  </a:lnTo>
                  <a:lnTo>
                    <a:pt x="169" y="52"/>
                  </a:lnTo>
                  <a:lnTo>
                    <a:pt x="172" y="49"/>
                  </a:lnTo>
                  <a:lnTo>
                    <a:pt x="174" y="44"/>
                  </a:lnTo>
                  <a:lnTo>
                    <a:pt x="176" y="42"/>
                  </a:lnTo>
                  <a:lnTo>
                    <a:pt x="177" y="39"/>
                  </a:lnTo>
                  <a:lnTo>
                    <a:pt x="179" y="37"/>
                  </a:lnTo>
                  <a:lnTo>
                    <a:pt x="182" y="35"/>
                  </a:lnTo>
                  <a:lnTo>
                    <a:pt x="186" y="35"/>
                  </a:lnTo>
                  <a:lnTo>
                    <a:pt x="193" y="34"/>
                  </a:lnTo>
                  <a:lnTo>
                    <a:pt x="191" y="34"/>
                  </a:lnTo>
                  <a:lnTo>
                    <a:pt x="191" y="34"/>
                  </a:lnTo>
                  <a:lnTo>
                    <a:pt x="191" y="32"/>
                  </a:lnTo>
                  <a:lnTo>
                    <a:pt x="194" y="32"/>
                  </a:lnTo>
                  <a:lnTo>
                    <a:pt x="198" y="30"/>
                  </a:lnTo>
                  <a:lnTo>
                    <a:pt x="201" y="29"/>
                  </a:lnTo>
                  <a:lnTo>
                    <a:pt x="205" y="27"/>
                  </a:lnTo>
                  <a:lnTo>
                    <a:pt x="208" y="25"/>
                  </a:lnTo>
                  <a:lnTo>
                    <a:pt x="207" y="25"/>
                  </a:lnTo>
                  <a:lnTo>
                    <a:pt x="207" y="23"/>
                  </a:lnTo>
                  <a:lnTo>
                    <a:pt x="205" y="22"/>
                  </a:lnTo>
                  <a:lnTo>
                    <a:pt x="205" y="20"/>
                  </a:lnTo>
                  <a:lnTo>
                    <a:pt x="203" y="18"/>
                  </a:lnTo>
                  <a:lnTo>
                    <a:pt x="203" y="17"/>
                  </a:lnTo>
                  <a:lnTo>
                    <a:pt x="201" y="15"/>
                  </a:lnTo>
                  <a:lnTo>
                    <a:pt x="201" y="13"/>
                  </a:lnTo>
                  <a:lnTo>
                    <a:pt x="201" y="13"/>
                  </a:lnTo>
                  <a:lnTo>
                    <a:pt x="203" y="11"/>
                  </a:lnTo>
                  <a:lnTo>
                    <a:pt x="205" y="10"/>
                  </a:lnTo>
                  <a:lnTo>
                    <a:pt x="207" y="8"/>
                  </a:lnTo>
                  <a:lnTo>
                    <a:pt x="208" y="6"/>
                  </a:lnTo>
                  <a:lnTo>
                    <a:pt x="208" y="5"/>
                  </a:lnTo>
                  <a:lnTo>
                    <a:pt x="210" y="3"/>
                  </a:lnTo>
                  <a:lnTo>
                    <a:pt x="210" y="1"/>
                  </a:lnTo>
                  <a:lnTo>
                    <a:pt x="198" y="0"/>
                  </a:lnTo>
                  <a:lnTo>
                    <a:pt x="186" y="0"/>
                  </a:lnTo>
                  <a:lnTo>
                    <a:pt x="174" y="0"/>
                  </a:lnTo>
                  <a:lnTo>
                    <a:pt x="163" y="0"/>
                  </a:lnTo>
                  <a:lnTo>
                    <a:pt x="155" y="1"/>
                  </a:lnTo>
                  <a:lnTo>
                    <a:pt x="146" y="3"/>
                  </a:lnTo>
                  <a:lnTo>
                    <a:pt x="139" y="6"/>
                  </a:lnTo>
                  <a:lnTo>
                    <a:pt x="13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665360" y="2000160"/>
              <a:ext cx="85680" cy="122400"/>
            </a:xfrm>
            <a:custGeom>
              <a:avLst/>
              <a:gdLst/>
              <a:ahLst/>
              <a:rect l="l" t="t" r="r" b="b"/>
              <a:pathLst>
                <a:path w="126" h="192">
                  <a:moveTo>
                    <a:pt x="86" y="192"/>
                  </a:moveTo>
                  <a:lnTo>
                    <a:pt x="78" y="190"/>
                  </a:lnTo>
                  <a:lnTo>
                    <a:pt x="71" y="190"/>
                  </a:lnTo>
                  <a:lnTo>
                    <a:pt x="62" y="188"/>
                  </a:lnTo>
                  <a:lnTo>
                    <a:pt x="54" y="186"/>
                  </a:lnTo>
                  <a:lnTo>
                    <a:pt x="45" y="186"/>
                  </a:lnTo>
                  <a:lnTo>
                    <a:pt x="36" y="185"/>
                  </a:lnTo>
                  <a:lnTo>
                    <a:pt x="29" y="185"/>
                  </a:lnTo>
                  <a:lnTo>
                    <a:pt x="21" y="185"/>
                  </a:lnTo>
                  <a:lnTo>
                    <a:pt x="17" y="185"/>
                  </a:lnTo>
                  <a:lnTo>
                    <a:pt x="16" y="183"/>
                  </a:lnTo>
                  <a:lnTo>
                    <a:pt x="12" y="183"/>
                  </a:lnTo>
                  <a:lnTo>
                    <a:pt x="11" y="181"/>
                  </a:lnTo>
                  <a:lnTo>
                    <a:pt x="7" y="180"/>
                  </a:lnTo>
                  <a:lnTo>
                    <a:pt x="5" y="180"/>
                  </a:lnTo>
                  <a:lnTo>
                    <a:pt x="4" y="178"/>
                  </a:lnTo>
                  <a:lnTo>
                    <a:pt x="0" y="176"/>
                  </a:lnTo>
                  <a:lnTo>
                    <a:pt x="4" y="163"/>
                  </a:lnTo>
                  <a:lnTo>
                    <a:pt x="7" y="149"/>
                  </a:lnTo>
                  <a:lnTo>
                    <a:pt x="11" y="135"/>
                  </a:lnTo>
                  <a:lnTo>
                    <a:pt x="14" y="122"/>
                  </a:lnTo>
                  <a:lnTo>
                    <a:pt x="19" y="106"/>
                  </a:lnTo>
                  <a:lnTo>
                    <a:pt x="23" y="92"/>
                  </a:lnTo>
                  <a:lnTo>
                    <a:pt x="28" y="77"/>
                  </a:lnTo>
                  <a:lnTo>
                    <a:pt x="31" y="63"/>
                  </a:lnTo>
                  <a:lnTo>
                    <a:pt x="40" y="55"/>
                  </a:lnTo>
                  <a:lnTo>
                    <a:pt x="45" y="45"/>
                  </a:lnTo>
                  <a:lnTo>
                    <a:pt x="50" y="33"/>
                  </a:lnTo>
                  <a:lnTo>
                    <a:pt x="54" y="21"/>
                  </a:lnTo>
                  <a:lnTo>
                    <a:pt x="59" y="10"/>
                  </a:lnTo>
                  <a:lnTo>
                    <a:pt x="67" y="4"/>
                  </a:lnTo>
                  <a:lnTo>
                    <a:pt x="73" y="2"/>
                  </a:lnTo>
                  <a:lnTo>
                    <a:pt x="78" y="0"/>
                  </a:lnTo>
                  <a:lnTo>
                    <a:pt x="85" y="0"/>
                  </a:lnTo>
                  <a:lnTo>
                    <a:pt x="93" y="2"/>
                  </a:lnTo>
                  <a:lnTo>
                    <a:pt x="95" y="0"/>
                  </a:lnTo>
                  <a:lnTo>
                    <a:pt x="98" y="0"/>
                  </a:lnTo>
                  <a:lnTo>
                    <a:pt x="102" y="0"/>
                  </a:lnTo>
                  <a:lnTo>
                    <a:pt x="105" y="0"/>
                  </a:lnTo>
                  <a:lnTo>
                    <a:pt x="110" y="0"/>
                  </a:lnTo>
                  <a:lnTo>
                    <a:pt x="114" y="0"/>
                  </a:lnTo>
                  <a:lnTo>
                    <a:pt x="117" y="0"/>
                  </a:lnTo>
                  <a:lnTo>
                    <a:pt x="121" y="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26" y="0"/>
                  </a:lnTo>
                  <a:lnTo>
                    <a:pt x="126" y="2"/>
                  </a:lnTo>
                  <a:lnTo>
                    <a:pt x="124" y="4"/>
                  </a:lnTo>
                  <a:lnTo>
                    <a:pt x="124" y="5"/>
                  </a:lnTo>
                  <a:lnTo>
                    <a:pt x="123" y="7"/>
                  </a:lnTo>
                  <a:lnTo>
                    <a:pt x="121" y="9"/>
                  </a:lnTo>
                  <a:lnTo>
                    <a:pt x="119" y="10"/>
                  </a:lnTo>
                  <a:lnTo>
                    <a:pt x="117" y="12"/>
                  </a:lnTo>
                  <a:lnTo>
                    <a:pt x="117" y="12"/>
                  </a:lnTo>
                  <a:lnTo>
                    <a:pt x="117" y="14"/>
                  </a:lnTo>
                  <a:lnTo>
                    <a:pt x="119" y="16"/>
                  </a:lnTo>
                  <a:lnTo>
                    <a:pt x="119" y="17"/>
                  </a:lnTo>
                  <a:lnTo>
                    <a:pt x="121" y="19"/>
                  </a:lnTo>
                  <a:lnTo>
                    <a:pt x="121" y="21"/>
                  </a:lnTo>
                  <a:lnTo>
                    <a:pt x="123" y="22"/>
                  </a:lnTo>
                  <a:lnTo>
                    <a:pt x="123" y="24"/>
                  </a:lnTo>
                  <a:lnTo>
                    <a:pt x="124" y="24"/>
                  </a:lnTo>
                  <a:lnTo>
                    <a:pt x="121" y="26"/>
                  </a:lnTo>
                  <a:lnTo>
                    <a:pt x="117" y="28"/>
                  </a:lnTo>
                  <a:lnTo>
                    <a:pt x="114" y="29"/>
                  </a:lnTo>
                  <a:lnTo>
                    <a:pt x="110" y="31"/>
                  </a:lnTo>
                  <a:lnTo>
                    <a:pt x="107" y="31"/>
                  </a:lnTo>
                  <a:lnTo>
                    <a:pt x="107" y="33"/>
                  </a:lnTo>
                  <a:lnTo>
                    <a:pt x="107" y="33"/>
                  </a:lnTo>
                  <a:lnTo>
                    <a:pt x="109" y="33"/>
                  </a:lnTo>
                  <a:lnTo>
                    <a:pt x="102" y="34"/>
                  </a:lnTo>
                  <a:lnTo>
                    <a:pt x="98" y="34"/>
                  </a:lnTo>
                  <a:lnTo>
                    <a:pt x="95" y="36"/>
                  </a:lnTo>
                  <a:lnTo>
                    <a:pt x="93" y="38"/>
                  </a:lnTo>
                  <a:lnTo>
                    <a:pt x="92" y="41"/>
                  </a:lnTo>
                  <a:lnTo>
                    <a:pt x="90" y="43"/>
                  </a:lnTo>
                  <a:lnTo>
                    <a:pt x="88" y="48"/>
                  </a:lnTo>
                  <a:lnTo>
                    <a:pt x="85" y="51"/>
                  </a:lnTo>
                  <a:lnTo>
                    <a:pt x="86" y="55"/>
                  </a:lnTo>
                  <a:lnTo>
                    <a:pt x="90" y="58"/>
                  </a:lnTo>
                  <a:lnTo>
                    <a:pt x="93" y="62"/>
                  </a:lnTo>
                  <a:lnTo>
                    <a:pt x="98" y="67"/>
                  </a:lnTo>
                  <a:lnTo>
                    <a:pt x="102" y="70"/>
                  </a:lnTo>
                  <a:lnTo>
                    <a:pt x="107" y="75"/>
                  </a:lnTo>
                  <a:lnTo>
                    <a:pt x="109" y="79"/>
                  </a:lnTo>
                  <a:lnTo>
                    <a:pt x="112" y="81"/>
                  </a:lnTo>
                  <a:lnTo>
                    <a:pt x="102" y="81"/>
                  </a:lnTo>
                  <a:lnTo>
                    <a:pt x="95" y="81"/>
                  </a:lnTo>
                  <a:lnTo>
                    <a:pt x="88" y="82"/>
                  </a:lnTo>
                  <a:lnTo>
                    <a:pt x="85" y="82"/>
                  </a:lnTo>
                  <a:lnTo>
                    <a:pt x="81" y="86"/>
                  </a:lnTo>
                  <a:lnTo>
                    <a:pt x="81" y="89"/>
                  </a:lnTo>
                  <a:lnTo>
                    <a:pt x="81" y="94"/>
                  </a:lnTo>
                  <a:lnTo>
                    <a:pt x="85" y="103"/>
                  </a:lnTo>
                  <a:lnTo>
                    <a:pt x="81" y="103"/>
                  </a:lnTo>
                  <a:lnTo>
                    <a:pt x="79" y="103"/>
                  </a:lnTo>
                  <a:lnTo>
                    <a:pt x="76" y="103"/>
                  </a:lnTo>
                  <a:lnTo>
                    <a:pt x="73" y="103"/>
                  </a:lnTo>
                  <a:lnTo>
                    <a:pt x="69" y="104"/>
                  </a:lnTo>
                  <a:lnTo>
                    <a:pt x="66" y="104"/>
                  </a:lnTo>
                  <a:lnTo>
                    <a:pt x="62" y="104"/>
                  </a:lnTo>
                  <a:lnTo>
                    <a:pt x="60" y="104"/>
                  </a:lnTo>
                  <a:lnTo>
                    <a:pt x="66" y="110"/>
                  </a:lnTo>
                  <a:lnTo>
                    <a:pt x="71" y="113"/>
                  </a:lnTo>
                  <a:lnTo>
                    <a:pt x="76" y="115"/>
                  </a:lnTo>
                  <a:lnTo>
                    <a:pt x="81" y="118"/>
                  </a:lnTo>
                  <a:lnTo>
                    <a:pt x="86" y="122"/>
                  </a:lnTo>
                  <a:lnTo>
                    <a:pt x="90" y="125"/>
                  </a:lnTo>
                  <a:lnTo>
                    <a:pt x="93" y="130"/>
                  </a:lnTo>
                  <a:lnTo>
                    <a:pt x="97" y="139"/>
                  </a:lnTo>
                  <a:lnTo>
                    <a:pt x="93" y="139"/>
                  </a:lnTo>
                  <a:lnTo>
                    <a:pt x="88" y="139"/>
                  </a:lnTo>
                  <a:lnTo>
                    <a:pt x="83" y="140"/>
                  </a:lnTo>
                  <a:lnTo>
                    <a:pt x="78" y="140"/>
                  </a:lnTo>
                  <a:lnTo>
                    <a:pt x="73" y="142"/>
                  </a:lnTo>
                  <a:lnTo>
                    <a:pt x="69" y="142"/>
                  </a:lnTo>
                  <a:lnTo>
                    <a:pt x="64" y="144"/>
                  </a:lnTo>
                  <a:lnTo>
                    <a:pt x="60" y="144"/>
                  </a:lnTo>
                  <a:lnTo>
                    <a:pt x="73" y="152"/>
                  </a:lnTo>
                  <a:lnTo>
                    <a:pt x="85" y="161"/>
                  </a:lnTo>
                  <a:lnTo>
                    <a:pt x="57" y="164"/>
                  </a:lnTo>
                  <a:lnTo>
                    <a:pt x="59" y="168"/>
                  </a:lnTo>
                  <a:lnTo>
                    <a:pt x="62" y="171"/>
                  </a:lnTo>
                  <a:lnTo>
                    <a:pt x="66" y="175"/>
                  </a:lnTo>
                  <a:lnTo>
                    <a:pt x="69" y="178"/>
                  </a:lnTo>
                  <a:lnTo>
                    <a:pt x="74" y="181"/>
                  </a:lnTo>
                  <a:lnTo>
                    <a:pt x="78" y="185"/>
                  </a:lnTo>
                  <a:lnTo>
                    <a:pt x="83" y="188"/>
                  </a:lnTo>
                  <a:lnTo>
                    <a:pt x="86" y="192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576440" y="2135160"/>
              <a:ext cx="27000" cy="58680"/>
            </a:xfrm>
            <a:custGeom>
              <a:avLst/>
              <a:gdLst/>
              <a:ahLst/>
              <a:rect l="l" t="t" r="r" b="b"/>
              <a:pathLst>
                <a:path w="41" h="92">
                  <a:moveTo>
                    <a:pt x="0" y="45"/>
                  </a:moveTo>
                  <a:lnTo>
                    <a:pt x="0" y="41"/>
                  </a:lnTo>
                  <a:lnTo>
                    <a:pt x="2" y="36"/>
                  </a:lnTo>
                  <a:lnTo>
                    <a:pt x="2" y="29"/>
                  </a:lnTo>
                  <a:lnTo>
                    <a:pt x="3" y="22"/>
                  </a:lnTo>
                  <a:lnTo>
                    <a:pt x="5" y="15"/>
                  </a:lnTo>
                  <a:lnTo>
                    <a:pt x="7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10" y="4"/>
                  </a:lnTo>
                  <a:lnTo>
                    <a:pt x="12" y="5"/>
                  </a:lnTo>
                  <a:lnTo>
                    <a:pt x="14" y="9"/>
                  </a:lnTo>
                  <a:lnTo>
                    <a:pt x="15" y="12"/>
                  </a:lnTo>
                  <a:lnTo>
                    <a:pt x="17" y="15"/>
                  </a:lnTo>
                  <a:lnTo>
                    <a:pt x="19" y="17"/>
                  </a:lnTo>
                  <a:lnTo>
                    <a:pt x="21" y="19"/>
                  </a:lnTo>
                  <a:lnTo>
                    <a:pt x="21" y="21"/>
                  </a:lnTo>
                  <a:lnTo>
                    <a:pt x="29" y="12"/>
                  </a:lnTo>
                  <a:lnTo>
                    <a:pt x="29" y="21"/>
                  </a:lnTo>
                  <a:lnTo>
                    <a:pt x="29" y="31"/>
                  </a:lnTo>
                  <a:lnTo>
                    <a:pt x="34" y="31"/>
                  </a:lnTo>
                  <a:lnTo>
                    <a:pt x="38" y="31"/>
                  </a:lnTo>
                  <a:lnTo>
                    <a:pt x="40" y="34"/>
                  </a:lnTo>
                  <a:lnTo>
                    <a:pt x="41" y="38"/>
                  </a:lnTo>
                  <a:lnTo>
                    <a:pt x="41" y="46"/>
                  </a:lnTo>
                  <a:lnTo>
                    <a:pt x="41" y="56"/>
                  </a:lnTo>
                  <a:lnTo>
                    <a:pt x="38" y="67"/>
                  </a:lnTo>
                  <a:lnTo>
                    <a:pt x="34" y="77"/>
                  </a:lnTo>
                  <a:lnTo>
                    <a:pt x="31" y="87"/>
                  </a:lnTo>
                  <a:lnTo>
                    <a:pt x="27" y="92"/>
                  </a:lnTo>
                  <a:lnTo>
                    <a:pt x="22" y="87"/>
                  </a:lnTo>
                  <a:lnTo>
                    <a:pt x="17" y="80"/>
                  </a:lnTo>
                  <a:lnTo>
                    <a:pt x="14" y="74"/>
                  </a:lnTo>
                  <a:lnTo>
                    <a:pt x="10" y="68"/>
                  </a:lnTo>
                  <a:lnTo>
                    <a:pt x="7" y="62"/>
                  </a:lnTo>
                  <a:lnTo>
                    <a:pt x="5" y="55"/>
                  </a:lnTo>
                  <a:lnTo>
                    <a:pt x="2" y="50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576440" y="2135160"/>
              <a:ext cx="27000" cy="58680"/>
            </a:xfrm>
            <a:custGeom>
              <a:avLst/>
              <a:gdLst/>
              <a:ahLst/>
              <a:rect l="l" t="t" r="r" b="b"/>
              <a:pathLst>
                <a:path w="41" h="92">
                  <a:moveTo>
                    <a:pt x="0" y="45"/>
                  </a:moveTo>
                  <a:lnTo>
                    <a:pt x="0" y="41"/>
                  </a:lnTo>
                  <a:lnTo>
                    <a:pt x="2" y="36"/>
                  </a:lnTo>
                  <a:lnTo>
                    <a:pt x="2" y="29"/>
                  </a:lnTo>
                  <a:lnTo>
                    <a:pt x="3" y="22"/>
                  </a:lnTo>
                  <a:lnTo>
                    <a:pt x="5" y="15"/>
                  </a:lnTo>
                  <a:lnTo>
                    <a:pt x="7" y="9"/>
                  </a:lnTo>
                  <a:lnTo>
                    <a:pt x="9" y="4"/>
                  </a:lnTo>
                  <a:lnTo>
                    <a:pt x="9" y="0"/>
                  </a:lnTo>
                  <a:lnTo>
                    <a:pt x="10" y="4"/>
                  </a:lnTo>
                  <a:lnTo>
                    <a:pt x="12" y="5"/>
                  </a:lnTo>
                  <a:lnTo>
                    <a:pt x="14" y="9"/>
                  </a:lnTo>
                  <a:lnTo>
                    <a:pt x="15" y="12"/>
                  </a:lnTo>
                  <a:lnTo>
                    <a:pt x="17" y="15"/>
                  </a:lnTo>
                  <a:lnTo>
                    <a:pt x="19" y="17"/>
                  </a:lnTo>
                  <a:lnTo>
                    <a:pt x="21" y="19"/>
                  </a:lnTo>
                  <a:lnTo>
                    <a:pt x="21" y="21"/>
                  </a:lnTo>
                  <a:lnTo>
                    <a:pt x="29" y="12"/>
                  </a:lnTo>
                  <a:lnTo>
                    <a:pt x="29" y="21"/>
                  </a:lnTo>
                  <a:lnTo>
                    <a:pt x="29" y="31"/>
                  </a:lnTo>
                  <a:lnTo>
                    <a:pt x="34" y="31"/>
                  </a:lnTo>
                  <a:lnTo>
                    <a:pt x="38" y="31"/>
                  </a:lnTo>
                  <a:lnTo>
                    <a:pt x="40" y="34"/>
                  </a:lnTo>
                  <a:lnTo>
                    <a:pt x="41" y="38"/>
                  </a:lnTo>
                  <a:lnTo>
                    <a:pt x="41" y="46"/>
                  </a:lnTo>
                  <a:lnTo>
                    <a:pt x="41" y="56"/>
                  </a:lnTo>
                  <a:lnTo>
                    <a:pt x="38" y="67"/>
                  </a:lnTo>
                  <a:lnTo>
                    <a:pt x="34" y="77"/>
                  </a:lnTo>
                  <a:lnTo>
                    <a:pt x="31" y="87"/>
                  </a:lnTo>
                  <a:lnTo>
                    <a:pt x="27" y="92"/>
                  </a:lnTo>
                  <a:lnTo>
                    <a:pt x="22" y="87"/>
                  </a:lnTo>
                  <a:lnTo>
                    <a:pt x="17" y="80"/>
                  </a:lnTo>
                  <a:lnTo>
                    <a:pt x="14" y="74"/>
                  </a:lnTo>
                  <a:lnTo>
                    <a:pt x="10" y="68"/>
                  </a:lnTo>
                  <a:lnTo>
                    <a:pt x="7" y="62"/>
                  </a:lnTo>
                  <a:lnTo>
                    <a:pt x="5" y="55"/>
                  </a:lnTo>
                  <a:lnTo>
                    <a:pt x="2" y="50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577880" y="2135160"/>
              <a:ext cx="25560" cy="50760"/>
            </a:xfrm>
            <a:custGeom>
              <a:avLst/>
              <a:gdLst/>
              <a:ahLst/>
              <a:rect l="l" t="t" r="r" b="b"/>
              <a:pathLst>
                <a:path w="38" h="79">
                  <a:moveTo>
                    <a:pt x="38" y="43"/>
                  </a:moveTo>
                  <a:lnTo>
                    <a:pt x="37" y="46"/>
                  </a:lnTo>
                  <a:lnTo>
                    <a:pt x="33" y="51"/>
                  </a:lnTo>
                  <a:lnTo>
                    <a:pt x="30" y="55"/>
                  </a:lnTo>
                  <a:lnTo>
                    <a:pt x="28" y="60"/>
                  </a:lnTo>
                  <a:lnTo>
                    <a:pt x="24" y="65"/>
                  </a:lnTo>
                  <a:lnTo>
                    <a:pt x="23" y="70"/>
                  </a:lnTo>
                  <a:lnTo>
                    <a:pt x="21" y="74"/>
                  </a:lnTo>
                  <a:lnTo>
                    <a:pt x="19" y="79"/>
                  </a:lnTo>
                  <a:lnTo>
                    <a:pt x="18" y="79"/>
                  </a:lnTo>
                  <a:lnTo>
                    <a:pt x="16" y="75"/>
                  </a:lnTo>
                  <a:lnTo>
                    <a:pt x="14" y="74"/>
                  </a:lnTo>
                  <a:lnTo>
                    <a:pt x="12" y="70"/>
                  </a:lnTo>
                  <a:lnTo>
                    <a:pt x="12" y="68"/>
                  </a:lnTo>
                  <a:lnTo>
                    <a:pt x="11" y="65"/>
                  </a:lnTo>
                  <a:lnTo>
                    <a:pt x="11" y="62"/>
                  </a:lnTo>
                  <a:lnTo>
                    <a:pt x="9" y="60"/>
                  </a:lnTo>
                  <a:lnTo>
                    <a:pt x="7" y="55"/>
                  </a:lnTo>
                  <a:lnTo>
                    <a:pt x="6" y="50"/>
                  </a:lnTo>
                  <a:lnTo>
                    <a:pt x="4" y="46"/>
                  </a:lnTo>
                  <a:lnTo>
                    <a:pt x="2" y="41"/>
                  </a:lnTo>
                  <a:lnTo>
                    <a:pt x="2" y="36"/>
                  </a:lnTo>
                  <a:lnTo>
                    <a:pt x="0" y="31"/>
                  </a:lnTo>
                  <a:lnTo>
                    <a:pt x="0" y="26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2" y="14"/>
                  </a:lnTo>
                  <a:lnTo>
                    <a:pt x="2" y="10"/>
                  </a:lnTo>
                  <a:lnTo>
                    <a:pt x="4" y="9"/>
                  </a:lnTo>
                  <a:lnTo>
                    <a:pt x="4" y="5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0"/>
                  </a:lnTo>
                  <a:lnTo>
                    <a:pt x="7" y="4"/>
                  </a:lnTo>
                  <a:lnTo>
                    <a:pt x="9" y="5"/>
                  </a:lnTo>
                  <a:lnTo>
                    <a:pt x="11" y="9"/>
                  </a:lnTo>
                  <a:lnTo>
                    <a:pt x="12" y="12"/>
                  </a:lnTo>
                  <a:lnTo>
                    <a:pt x="14" y="15"/>
                  </a:lnTo>
                  <a:lnTo>
                    <a:pt x="16" y="17"/>
                  </a:lnTo>
                  <a:lnTo>
                    <a:pt x="18" y="19"/>
                  </a:lnTo>
                  <a:lnTo>
                    <a:pt x="18" y="21"/>
                  </a:lnTo>
                  <a:lnTo>
                    <a:pt x="26" y="12"/>
                  </a:lnTo>
                  <a:lnTo>
                    <a:pt x="26" y="21"/>
                  </a:lnTo>
                  <a:lnTo>
                    <a:pt x="26" y="31"/>
                  </a:lnTo>
                  <a:lnTo>
                    <a:pt x="30" y="31"/>
                  </a:lnTo>
                  <a:lnTo>
                    <a:pt x="31" y="31"/>
                  </a:lnTo>
                  <a:lnTo>
                    <a:pt x="35" y="31"/>
                  </a:lnTo>
                  <a:lnTo>
                    <a:pt x="35" y="33"/>
                  </a:lnTo>
                  <a:lnTo>
                    <a:pt x="37" y="34"/>
                  </a:lnTo>
                  <a:lnTo>
                    <a:pt x="38" y="36"/>
                  </a:lnTo>
                  <a:lnTo>
                    <a:pt x="38" y="39"/>
                  </a:lnTo>
                  <a:lnTo>
                    <a:pt x="38" y="4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819440" y="2066760"/>
              <a:ext cx="82440" cy="115920"/>
            </a:xfrm>
            <a:custGeom>
              <a:avLst/>
              <a:gdLst/>
              <a:ahLst/>
              <a:rect l="l" t="t" r="r" b="b"/>
              <a:pathLst>
                <a:path w="120" h="183">
                  <a:moveTo>
                    <a:pt x="36" y="183"/>
                  </a:moveTo>
                  <a:lnTo>
                    <a:pt x="29" y="178"/>
                  </a:lnTo>
                  <a:lnTo>
                    <a:pt x="22" y="173"/>
                  </a:lnTo>
                  <a:lnTo>
                    <a:pt x="15" y="166"/>
                  </a:lnTo>
                  <a:lnTo>
                    <a:pt x="10" y="159"/>
                  </a:lnTo>
                  <a:lnTo>
                    <a:pt x="6" y="151"/>
                  </a:lnTo>
                  <a:lnTo>
                    <a:pt x="3" y="144"/>
                  </a:lnTo>
                  <a:lnTo>
                    <a:pt x="1" y="135"/>
                  </a:lnTo>
                  <a:lnTo>
                    <a:pt x="0" y="127"/>
                  </a:lnTo>
                  <a:lnTo>
                    <a:pt x="5" y="127"/>
                  </a:lnTo>
                  <a:lnTo>
                    <a:pt x="8" y="127"/>
                  </a:lnTo>
                  <a:lnTo>
                    <a:pt x="10" y="127"/>
                  </a:lnTo>
                  <a:lnTo>
                    <a:pt x="13" y="127"/>
                  </a:lnTo>
                  <a:lnTo>
                    <a:pt x="15" y="129"/>
                  </a:lnTo>
                  <a:lnTo>
                    <a:pt x="17" y="129"/>
                  </a:lnTo>
                  <a:lnTo>
                    <a:pt x="18" y="129"/>
                  </a:lnTo>
                  <a:lnTo>
                    <a:pt x="20" y="129"/>
                  </a:lnTo>
                  <a:lnTo>
                    <a:pt x="20" y="123"/>
                  </a:lnTo>
                  <a:lnTo>
                    <a:pt x="18" y="118"/>
                  </a:lnTo>
                  <a:lnTo>
                    <a:pt x="17" y="115"/>
                  </a:lnTo>
                  <a:lnTo>
                    <a:pt x="15" y="110"/>
                  </a:lnTo>
                  <a:lnTo>
                    <a:pt x="13" y="105"/>
                  </a:lnTo>
                  <a:lnTo>
                    <a:pt x="13" y="101"/>
                  </a:lnTo>
                  <a:lnTo>
                    <a:pt x="12" y="96"/>
                  </a:lnTo>
                  <a:lnTo>
                    <a:pt x="12" y="91"/>
                  </a:lnTo>
                  <a:lnTo>
                    <a:pt x="17" y="91"/>
                  </a:lnTo>
                  <a:lnTo>
                    <a:pt x="20" y="91"/>
                  </a:lnTo>
                  <a:lnTo>
                    <a:pt x="22" y="91"/>
                  </a:lnTo>
                  <a:lnTo>
                    <a:pt x="24" y="93"/>
                  </a:lnTo>
                  <a:lnTo>
                    <a:pt x="25" y="93"/>
                  </a:lnTo>
                  <a:lnTo>
                    <a:pt x="27" y="96"/>
                  </a:lnTo>
                  <a:lnTo>
                    <a:pt x="27" y="98"/>
                  </a:lnTo>
                  <a:lnTo>
                    <a:pt x="31" y="103"/>
                  </a:lnTo>
                  <a:lnTo>
                    <a:pt x="32" y="94"/>
                  </a:lnTo>
                  <a:lnTo>
                    <a:pt x="34" y="89"/>
                  </a:lnTo>
                  <a:lnTo>
                    <a:pt x="34" y="84"/>
                  </a:lnTo>
                  <a:lnTo>
                    <a:pt x="34" y="77"/>
                  </a:lnTo>
                  <a:lnTo>
                    <a:pt x="32" y="72"/>
                  </a:lnTo>
                  <a:lnTo>
                    <a:pt x="32" y="67"/>
                  </a:lnTo>
                  <a:lnTo>
                    <a:pt x="32" y="60"/>
                  </a:lnTo>
                  <a:lnTo>
                    <a:pt x="32" y="52"/>
                  </a:lnTo>
                  <a:lnTo>
                    <a:pt x="39" y="53"/>
                  </a:lnTo>
                  <a:lnTo>
                    <a:pt x="44" y="53"/>
                  </a:lnTo>
                  <a:lnTo>
                    <a:pt x="48" y="55"/>
                  </a:lnTo>
                  <a:lnTo>
                    <a:pt x="51" y="57"/>
                  </a:lnTo>
                  <a:lnTo>
                    <a:pt x="55" y="59"/>
                  </a:lnTo>
                  <a:lnTo>
                    <a:pt x="58" y="60"/>
                  </a:lnTo>
                  <a:lnTo>
                    <a:pt x="63" y="64"/>
                  </a:lnTo>
                  <a:lnTo>
                    <a:pt x="68" y="67"/>
                  </a:lnTo>
                  <a:lnTo>
                    <a:pt x="70" y="59"/>
                  </a:lnTo>
                  <a:lnTo>
                    <a:pt x="70" y="50"/>
                  </a:lnTo>
                  <a:lnTo>
                    <a:pt x="70" y="41"/>
                  </a:lnTo>
                  <a:lnTo>
                    <a:pt x="70" y="33"/>
                  </a:lnTo>
                  <a:lnTo>
                    <a:pt x="70" y="24"/>
                  </a:lnTo>
                  <a:lnTo>
                    <a:pt x="70" y="16"/>
                  </a:lnTo>
                  <a:lnTo>
                    <a:pt x="72" y="9"/>
                  </a:lnTo>
                  <a:lnTo>
                    <a:pt x="75" y="0"/>
                  </a:lnTo>
                  <a:lnTo>
                    <a:pt x="84" y="4"/>
                  </a:lnTo>
                  <a:lnTo>
                    <a:pt x="91" y="7"/>
                  </a:lnTo>
                  <a:lnTo>
                    <a:pt x="98" y="11"/>
                  </a:lnTo>
                  <a:lnTo>
                    <a:pt x="103" y="18"/>
                  </a:lnTo>
                  <a:lnTo>
                    <a:pt x="108" y="24"/>
                  </a:lnTo>
                  <a:lnTo>
                    <a:pt x="112" y="33"/>
                  </a:lnTo>
                  <a:lnTo>
                    <a:pt x="115" y="41"/>
                  </a:lnTo>
                  <a:lnTo>
                    <a:pt x="117" y="52"/>
                  </a:lnTo>
                  <a:lnTo>
                    <a:pt x="118" y="71"/>
                  </a:lnTo>
                  <a:lnTo>
                    <a:pt x="120" y="89"/>
                  </a:lnTo>
                  <a:lnTo>
                    <a:pt x="120" y="108"/>
                  </a:lnTo>
                  <a:lnTo>
                    <a:pt x="120" y="123"/>
                  </a:lnTo>
                  <a:lnTo>
                    <a:pt x="115" y="125"/>
                  </a:lnTo>
                  <a:lnTo>
                    <a:pt x="112" y="129"/>
                  </a:lnTo>
                  <a:lnTo>
                    <a:pt x="106" y="132"/>
                  </a:lnTo>
                  <a:lnTo>
                    <a:pt x="101" y="135"/>
                  </a:lnTo>
                  <a:lnTo>
                    <a:pt x="98" y="139"/>
                  </a:lnTo>
                  <a:lnTo>
                    <a:pt x="93" y="142"/>
                  </a:lnTo>
                  <a:lnTo>
                    <a:pt x="89" y="144"/>
                  </a:lnTo>
                  <a:lnTo>
                    <a:pt x="84" y="147"/>
                  </a:lnTo>
                  <a:lnTo>
                    <a:pt x="86" y="151"/>
                  </a:lnTo>
                  <a:lnTo>
                    <a:pt x="87" y="154"/>
                  </a:lnTo>
                  <a:lnTo>
                    <a:pt x="89" y="156"/>
                  </a:lnTo>
                  <a:lnTo>
                    <a:pt x="89" y="159"/>
                  </a:lnTo>
                  <a:lnTo>
                    <a:pt x="91" y="163"/>
                  </a:lnTo>
                  <a:lnTo>
                    <a:pt x="89" y="166"/>
                  </a:lnTo>
                  <a:lnTo>
                    <a:pt x="89" y="170"/>
                  </a:lnTo>
                  <a:lnTo>
                    <a:pt x="87" y="175"/>
                  </a:lnTo>
                  <a:lnTo>
                    <a:pt x="79" y="175"/>
                  </a:lnTo>
                  <a:lnTo>
                    <a:pt x="68" y="176"/>
                  </a:lnTo>
                  <a:lnTo>
                    <a:pt x="62" y="178"/>
                  </a:lnTo>
                  <a:lnTo>
                    <a:pt x="53" y="180"/>
                  </a:lnTo>
                  <a:lnTo>
                    <a:pt x="48" y="182"/>
                  </a:lnTo>
                  <a:lnTo>
                    <a:pt x="41" y="183"/>
                  </a:lnTo>
                  <a:lnTo>
                    <a:pt x="37" y="183"/>
                  </a:lnTo>
                  <a:lnTo>
                    <a:pt x="36" y="183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819440" y="2066760"/>
              <a:ext cx="82440" cy="115920"/>
            </a:xfrm>
            <a:custGeom>
              <a:avLst/>
              <a:gdLst/>
              <a:ahLst/>
              <a:rect l="l" t="t" r="r" b="b"/>
              <a:pathLst>
                <a:path w="120" h="183">
                  <a:moveTo>
                    <a:pt x="36" y="183"/>
                  </a:moveTo>
                  <a:lnTo>
                    <a:pt x="29" y="178"/>
                  </a:lnTo>
                  <a:lnTo>
                    <a:pt x="22" y="173"/>
                  </a:lnTo>
                  <a:lnTo>
                    <a:pt x="15" y="166"/>
                  </a:lnTo>
                  <a:lnTo>
                    <a:pt x="10" y="159"/>
                  </a:lnTo>
                  <a:lnTo>
                    <a:pt x="6" y="151"/>
                  </a:lnTo>
                  <a:lnTo>
                    <a:pt x="3" y="144"/>
                  </a:lnTo>
                  <a:lnTo>
                    <a:pt x="1" y="135"/>
                  </a:lnTo>
                  <a:lnTo>
                    <a:pt x="0" y="127"/>
                  </a:lnTo>
                  <a:lnTo>
                    <a:pt x="5" y="127"/>
                  </a:lnTo>
                  <a:lnTo>
                    <a:pt x="8" y="127"/>
                  </a:lnTo>
                  <a:lnTo>
                    <a:pt x="10" y="127"/>
                  </a:lnTo>
                  <a:lnTo>
                    <a:pt x="13" y="127"/>
                  </a:lnTo>
                  <a:lnTo>
                    <a:pt x="15" y="129"/>
                  </a:lnTo>
                  <a:lnTo>
                    <a:pt x="17" y="129"/>
                  </a:lnTo>
                  <a:lnTo>
                    <a:pt x="18" y="129"/>
                  </a:lnTo>
                  <a:lnTo>
                    <a:pt x="20" y="129"/>
                  </a:lnTo>
                  <a:lnTo>
                    <a:pt x="20" y="123"/>
                  </a:lnTo>
                  <a:lnTo>
                    <a:pt x="18" y="118"/>
                  </a:lnTo>
                  <a:lnTo>
                    <a:pt x="17" y="115"/>
                  </a:lnTo>
                  <a:lnTo>
                    <a:pt x="15" y="110"/>
                  </a:lnTo>
                  <a:lnTo>
                    <a:pt x="13" y="105"/>
                  </a:lnTo>
                  <a:lnTo>
                    <a:pt x="13" y="101"/>
                  </a:lnTo>
                  <a:lnTo>
                    <a:pt x="12" y="96"/>
                  </a:lnTo>
                  <a:lnTo>
                    <a:pt x="12" y="91"/>
                  </a:lnTo>
                  <a:lnTo>
                    <a:pt x="17" y="91"/>
                  </a:lnTo>
                  <a:lnTo>
                    <a:pt x="20" y="91"/>
                  </a:lnTo>
                  <a:lnTo>
                    <a:pt x="22" y="91"/>
                  </a:lnTo>
                  <a:lnTo>
                    <a:pt x="24" y="93"/>
                  </a:lnTo>
                  <a:lnTo>
                    <a:pt x="25" y="93"/>
                  </a:lnTo>
                  <a:lnTo>
                    <a:pt x="27" y="96"/>
                  </a:lnTo>
                  <a:lnTo>
                    <a:pt x="27" y="98"/>
                  </a:lnTo>
                  <a:lnTo>
                    <a:pt x="31" y="103"/>
                  </a:lnTo>
                  <a:lnTo>
                    <a:pt x="32" y="94"/>
                  </a:lnTo>
                  <a:lnTo>
                    <a:pt x="34" y="89"/>
                  </a:lnTo>
                  <a:lnTo>
                    <a:pt x="34" y="84"/>
                  </a:lnTo>
                  <a:lnTo>
                    <a:pt x="34" y="77"/>
                  </a:lnTo>
                  <a:lnTo>
                    <a:pt x="32" y="72"/>
                  </a:lnTo>
                  <a:lnTo>
                    <a:pt x="32" y="67"/>
                  </a:lnTo>
                  <a:lnTo>
                    <a:pt x="32" y="60"/>
                  </a:lnTo>
                  <a:lnTo>
                    <a:pt x="32" y="52"/>
                  </a:lnTo>
                  <a:lnTo>
                    <a:pt x="39" y="53"/>
                  </a:lnTo>
                  <a:lnTo>
                    <a:pt x="44" y="53"/>
                  </a:lnTo>
                  <a:lnTo>
                    <a:pt x="48" y="55"/>
                  </a:lnTo>
                  <a:lnTo>
                    <a:pt x="51" y="57"/>
                  </a:lnTo>
                  <a:lnTo>
                    <a:pt x="55" y="59"/>
                  </a:lnTo>
                  <a:lnTo>
                    <a:pt x="58" y="60"/>
                  </a:lnTo>
                  <a:lnTo>
                    <a:pt x="63" y="64"/>
                  </a:lnTo>
                  <a:lnTo>
                    <a:pt x="68" y="67"/>
                  </a:lnTo>
                  <a:lnTo>
                    <a:pt x="70" y="59"/>
                  </a:lnTo>
                  <a:lnTo>
                    <a:pt x="70" y="50"/>
                  </a:lnTo>
                  <a:lnTo>
                    <a:pt x="70" y="41"/>
                  </a:lnTo>
                  <a:lnTo>
                    <a:pt x="70" y="33"/>
                  </a:lnTo>
                  <a:lnTo>
                    <a:pt x="70" y="24"/>
                  </a:lnTo>
                  <a:lnTo>
                    <a:pt x="70" y="16"/>
                  </a:lnTo>
                  <a:lnTo>
                    <a:pt x="72" y="9"/>
                  </a:lnTo>
                  <a:lnTo>
                    <a:pt x="75" y="0"/>
                  </a:lnTo>
                  <a:lnTo>
                    <a:pt x="84" y="4"/>
                  </a:lnTo>
                  <a:lnTo>
                    <a:pt x="91" y="7"/>
                  </a:lnTo>
                  <a:lnTo>
                    <a:pt x="98" y="11"/>
                  </a:lnTo>
                  <a:lnTo>
                    <a:pt x="103" y="18"/>
                  </a:lnTo>
                  <a:lnTo>
                    <a:pt x="108" y="24"/>
                  </a:lnTo>
                  <a:lnTo>
                    <a:pt x="112" y="33"/>
                  </a:lnTo>
                  <a:lnTo>
                    <a:pt x="115" y="41"/>
                  </a:lnTo>
                  <a:lnTo>
                    <a:pt x="117" y="52"/>
                  </a:lnTo>
                  <a:lnTo>
                    <a:pt x="118" y="71"/>
                  </a:lnTo>
                  <a:lnTo>
                    <a:pt x="120" y="89"/>
                  </a:lnTo>
                  <a:lnTo>
                    <a:pt x="120" y="108"/>
                  </a:lnTo>
                  <a:lnTo>
                    <a:pt x="120" y="123"/>
                  </a:lnTo>
                  <a:lnTo>
                    <a:pt x="115" y="125"/>
                  </a:lnTo>
                  <a:lnTo>
                    <a:pt x="112" y="129"/>
                  </a:lnTo>
                  <a:lnTo>
                    <a:pt x="106" y="132"/>
                  </a:lnTo>
                  <a:lnTo>
                    <a:pt x="101" y="135"/>
                  </a:lnTo>
                  <a:lnTo>
                    <a:pt x="98" y="139"/>
                  </a:lnTo>
                  <a:lnTo>
                    <a:pt x="93" y="142"/>
                  </a:lnTo>
                  <a:lnTo>
                    <a:pt x="89" y="144"/>
                  </a:lnTo>
                  <a:lnTo>
                    <a:pt x="84" y="147"/>
                  </a:lnTo>
                  <a:lnTo>
                    <a:pt x="86" y="151"/>
                  </a:lnTo>
                  <a:lnTo>
                    <a:pt x="87" y="154"/>
                  </a:lnTo>
                  <a:lnTo>
                    <a:pt x="89" y="156"/>
                  </a:lnTo>
                  <a:lnTo>
                    <a:pt x="89" y="159"/>
                  </a:lnTo>
                  <a:lnTo>
                    <a:pt x="91" y="163"/>
                  </a:lnTo>
                  <a:lnTo>
                    <a:pt x="89" y="166"/>
                  </a:lnTo>
                  <a:lnTo>
                    <a:pt x="89" y="170"/>
                  </a:lnTo>
                  <a:lnTo>
                    <a:pt x="87" y="175"/>
                  </a:lnTo>
                  <a:lnTo>
                    <a:pt x="79" y="175"/>
                  </a:lnTo>
                  <a:lnTo>
                    <a:pt x="68" y="176"/>
                  </a:lnTo>
                  <a:lnTo>
                    <a:pt x="62" y="178"/>
                  </a:lnTo>
                  <a:lnTo>
                    <a:pt x="53" y="180"/>
                  </a:lnTo>
                  <a:lnTo>
                    <a:pt x="48" y="182"/>
                  </a:lnTo>
                  <a:lnTo>
                    <a:pt x="41" y="183"/>
                  </a:lnTo>
                  <a:lnTo>
                    <a:pt x="37" y="183"/>
                  </a:lnTo>
                  <a:lnTo>
                    <a:pt x="36" y="1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819440" y="2066760"/>
              <a:ext cx="75960" cy="114480"/>
            </a:xfrm>
            <a:custGeom>
              <a:avLst/>
              <a:gdLst/>
              <a:ahLst/>
              <a:rect l="l" t="t" r="r" b="b"/>
              <a:pathLst>
                <a:path w="112" h="180">
                  <a:moveTo>
                    <a:pt x="101" y="33"/>
                  </a:moveTo>
                  <a:lnTo>
                    <a:pt x="105" y="43"/>
                  </a:lnTo>
                  <a:lnTo>
                    <a:pt x="106" y="53"/>
                  </a:lnTo>
                  <a:lnTo>
                    <a:pt x="108" y="64"/>
                  </a:lnTo>
                  <a:lnTo>
                    <a:pt x="110" y="76"/>
                  </a:lnTo>
                  <a:lnTo>
                    <a:pt x="112" y="86"/>
                  </a:lnTo>
                  <a:lnTo>
                    <a:pt x="112" y="98"/>
                  </a:lnTo>
                  <a:lnTo>
                    <a:pt x="112" y="108"/>
                  </a:lnTo>
                  <a:lnTo>
                    <a:pt x="112" y="120"/>
                  </a:lnTo>
                  <a:lnTo>
                    <a:pt x="110" y="125"/>
                  </a:lnTo>
                  <a:lnTo>
                    <a:pt x="106" y="129"/>
                  </a:lnTo>
                  <a:lnTo>
                    <a:pt x="103" y="132"/>
                  </a:lnTo>
                  <a:lnTo>
                    <a:pt x="98" y="134"/>
                  </a:lnTo>
                  <a:lnTo>
                    <a:pt x="93" y="137"/>
                  </a:lnTo>
                  <a:lnTo>
                    <a:pt x="87" y="139"/>
                  </a:lnTo>
                  <a:lnTo>
                    <a:pt x="84" y="142"/>
                  </a:lnTo>
                  <a:lnTo>
                    <a:pt x="81" y="146"/>
                  </a:lnTo>
                  <a:lnTo>
                    <a:pt x="81" y="149"/>
                  </a:lnTo>
                  <a:lnTo>
                    <a:pt x="82" y="153"/>
                  </a:lnTo>
                  <a:lnTo>
                    <a:pt x="84" y="156"/>
                  </a:lnTo>
                  <a:lnTo>
                    <a:pt x="84" y="159"/>
                  </a:lnTo>
                  <a:lnTo>
                    <a:pt x="86" y="163"/>
                  </a:lnTo>
                  <a:lnTo>
                    <a:pt x="86" y="164"/>
                  </a:lnTo>
                  <a:lnTo>
                    <a:pt x="86" y="168"/>
                  </a:lnTo>
                  <a:lnTo>
                    <a:pt x="82" y="171"/>
                  </a:lnTo>
                  <a:lnTo>
                    <a:pt x="77" y="166"/>
                  </a:lnTo>
                  <a:lnTo>
                    <a:pt x="72" y="166"/>
                  </a:lnTo>
                  <a:lnTo>
                    <a:pt x="67" y="166"/>
                  </a:lnTo>
                  <a:lnTo>
                    <a:pt x="62" y="170"/>
                  </a:lnTo>
                  <a:lnTo>
                    <a:pt x="56" y="171"/>
                  </a:lnTo>
                  <a:lnTo>
                    <a:pt x="51" y="175"/>
                  </a:lnTo>
                  <a:lnTo>
                    <a:pt x="46" y="178"/>
                  </a:lnTo>
                  <a:lnTo>
                    <a:pt x="43" y="180"/>
                  </a:lnTo>
                  <a:lnTo>
                    <a:pt x="37" y="175"/>
                  </a:lnTo>
                  <a:lnTo>
                    <a:pt x="32" y="171"/>
                  </a:lnTo>
                  <a:lnTo>
                    <a:pt x="27" y="166"/>
                  </a:lnTo>
                  <a:lnTo>
                    <a:pt x="22" y="161"/>
                  </a:lnTo>
                  <a:lnTo>
                    <a:pt x="18" y="158"/>
                  </a:lnTo>
                  <a:lnTo>
                    <a:pt x="13" y="153"/>
                  </a:lnTo>
                  <a:lnTo>
                    <a:pt x="8" y="149"/>
                  </a:lnTo>
                  <a:lnTo>
                    <a:pt x="3" y="144"/>
                  </a:lnTo>
                  <a:lnTo>
                    <a:pt x="3" y="142"/>
                  </a:lnTo>
                  <a:lnTo>
                    <a:pt x="1" y="141"/>
                  </a:lnTo>
                  <a:lnTo>
                    <a:pt x="1" y="137"/>
                  </a:lnTo>
                  <a:lnTo>
                    <a:pt x="1" y="135"/>
                  </a:lnTo>
                  <a:lnTo>
                    <a:pt x="0" y="134"/>
                  </a:lnTo>
                  <a:lnTo>
                    <a:pt x="0" y="130"/>
                  </a:lnTo>
                  <a:lnTo>
                    <a:pt x="0" y="129"/>
                  </a:lnTo>
                  <a:lnTo>
                    <a:pt x="0" y="127"/>
                  </a:lnTo>
                  <a:lnTo>
                    <a:pt x="5" y="127"/>
                  </a:lnTo>
                  <a:lnTo>
                    <a:pt x="8" y="127"/>
                  </a:lnTo>
                  <a:lnTo>
                    <a:pt x="10" y="127"/>
                  </a:lnTo>
                  <a:lnTo>
                    <a:pt x="13" y="127"/>
                  </a:lnTo>
                  <a:lnTo>
                    <a:pt x="15" y="129"/>
                  </a:lnTo>
                  <a:lnTo>
                    <a:pt x="17" y="129"/>
                  </a:lnTo>
                  <a:lnTo>
                    <a:pt x="18" y="129"/>
                  </a:lnTo>
                  <a:lnTo>
                    <a:pt x="20" y="129"/>
                  </a:lnTo>
                  <a:lnTo>
                    <a:pt x="20" y="123"/>
                  </a:lnTo>
                  <a:lnTo>
                    <a:pt x="18" y="118"/>
                  </a:lnTo>
                  <a:lnTo>
                    <a:pt x="17" y="115"/>
                  </a:lnTo>
                  <a:lnTo>
                    <a:pt x="15" y="110"/>
                  </a:lnTo>
                  <a:lnTo>
                    <a:pt x="13" y="105"/>
                  </a:lnTo>
                  <a:lnTo>
                    <a:pt x="13" y="101"/>
                  </a:lnTo>
                  <a:lnTo>
                    <a:pt x="12" y="96"/>
                  </a:lnTo>
                  <a:lnTo>
                    <a:pt x="12" y="91"/>
                  </a:lnTo>
                  <a:lnTo>
                    <a:pt x="17" y="91"/>
                  </a:lnTo>
                  <a:lnTo>
                    <a:pt x="20" y="91"/>
                  </a:lnTo>
                  <a:lnTo>
                    <a:pt x="22" y="91"/>
                  </a:lnTo>
                  <a:lnTo>
                    <a:pt x="24" y="93"/>
                  </a:lnTo>
                  <a:lnTo>
                    <a:pt x="25" y="93"/>
                  </a:lnTo>
                  <a:lnTo>
                    <a:pt x="27" y="96"/>
                  </a:lnTo>
                  <a:lnTo>
                    <a:pt x="27" y="98"/>
                  </a:lnTo>
                  <a:lnTo>
                    <a:pt x="31" y="103"/>
                  </a:lnTo>
                  <a:lnTo>
                    <a:pt x="32" y="94"/>
                  </a:lnTo>
                  <a:lnTo>
                    <a:pt x="34" y="89"/>
                  </a:lnTo>
                  <a:lnTo>
                    <a:pt x="34" y="84"/>
                  </a:lnTo>
                  <a:lnTo>
                    <a:pt x="34" y="77"/>
                  </a:lnTo>
                  <a:lnTo>
                    <a:pt x="32" y="72"/>
                  </a:lnTo>
                  <a:lnTo>
                    <a:pt x="32" y="67"/>
                  </a:lnTo>
                  <a:lnTo>
                    <a:pt x="32" y="60"/>
                  </a:lnTo>
                  <a:lnTo>
                    <a:pt x="32" y="52"/>
                  </a:lnTo>
                  <a:lnTo>
                    <a:pt x="39" y="53"/>
                  </a:lnTo>
                  <a:lnTo>
                    <a:pt x="44" y="53"/>
                  </a:lnTo>
                  <a:lnTo>
                    <a:pt x="48" y="55"/>
                  </a:lnTo>
                  <a:lnTo>
                    <a:pt x="51" y="57"/>
                  </a:lnTo>
                  <a:lnTo>
                    <a:pt x="55" y="59"/>
                  </a:lnTo>
                  <a:lnTo>
                    <a:pt x="58" y="60"/>
                  </a:lnTo>
                  <a:lnTo>
                    <a:pt x="63" y="64"/>
                  </a:lnTo>
                  <a:lnTo>
                    <a:pt x="68" y="67"/>
                  </a:lnTo>
                  <a:lnTo>
                    <a:pt x="70" y="59"/>
                  </a:lnTo>
                  <a:lnTo>
                    <a:pt x="70" y="50"/>
                  </a:lnTo>
                  <a:lnTo>
                    <a:pt x="70" y="41"/>
                  </a:lnTo>
                  <a:lnTo>
                    <a:pt x="70" y="33"/>
                  </a:lnTo>
                  <a:lnTo>
                    <a:pt x="70" y="24"/>
                  </a:lnTo>
                  <a:lnTo>
                    <a:pt x="70" y="16"/>
                  </a:lnTo>
                  <a:lnTo>
                    <a:pt x="72" y="9"/>
                  </a:lnTo>
                  <a:lnTo>
                    <a:pt x="75" y="0"/>
                  </a:lnTo>
                  <a:lnTo>
                    <a:pt x="77" y="0"/>
                  </a:lnTo>
                  <a:lnTo>
                    <a:pt x="79" y="2"/>
                  </a:lnTo>
                  <a:lnTo>
                    <a:pt x="81" y="2"/>
                  </a:lnTo>
                  <a:lnTo>
                    <a:pt x="82" y="2"/>
                  </a:lnTo>
                  <a:lnTo>
                    <a:pt x="82" y="2"/>
                  </a:lnTo>
                  <a:lnTo>
                    <a:pt x="84" y="4"/>
                  </a:lnTo>
                  <a:lnTo>
                    <a:pt x="86" y="4"/>
                  </a:lnTo>
                  <a:lnTo>
                    <a:pt x="87" y="4"/>
                  </a:lnTo>
                  <a:lnTo>
                    <a:pt x="89" y="7"/>
                  </a:lnTo>
                  <a:lnTo>
                    <a:pt x="91" y="11"/>
                  </a:lnTo>
                  <a:lnTo>
                    <a:pt x="93" y="14"/>
                  </a:lnTo>
                  <a:lnTo>
                    <a:pt x="94" y="18"/>
                  </a:lnTo>
                  <a:lnTo>
                    <a:pt x="96" y="21"/>
                  </a:lnTo>
                  <a:lnTo>
                    <a:pt x="98" y="24"/>
                  </a:lnTo>
                  <a:lnTo>
                    <a:pt x="100" y="29"/>
                  </a:lnTo>
                  <a:lnTo>
                    <a:pt x="101" y="3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822320" y="2184480"/>
              <a:ext cx="176400" cy="216000"/>
            </a:xfrm>
            <a:custGeom>
              <a:avLst/>
              <a:gdLst/>
              <a:ahLst/>
              <a:rect l="l" t="t" r="r" b="b"/>
              <a:pathLst>
                <a:path w="256" h="343">
                  <a:moveTo>
                    <a:pt x="21" y="2"/>
                  </a:moveTo>
                  <a:lnTo>
                    <a:pt x="31" y="2"/>
                  </a:lnTo>
                  <a:lnTo>
                    <a:pt x="42" y="2"/>
                  </a:lnTo>
                  <a:lnTo>
                    <a:pt x="50" y="2"/>
                  </a:lnTo>
                  <a:lnTo>
                    <a:pt x="57" y="5"/>
                  </a:lnTo>
                  <a:lnTo>
                    <a:pt x="62" y="9"/>
                  </a:lnTo>
                  <a:lnTo>
                    <a:pt x="68" y="14"/>
                  </a:lnTo>
                  <a:lnTo>
                    <a:pt x="73" y="20"/>
                  </a:lnTo>
                  <a:lnTo>
                    <a:pt x="75" y="31"/>
                  </a:lnTo>
                  <a:lnTo>
                    <a:pt x="78" y="31"/>
                  </a:lnTo>
                  <a:lnTo>
                    <a:pt x="80" y="29"/>
                  </a:lnTo>
                  <a:lnTo>
                    <a:pt x="83" y="29"/>
                  </a:lnTo>
                  <a:lnTo>
                    <a:pt x="85" y="27"/>
                  </a:lnTo>
                  <a:lnTo>
                    <a:pt x="88" y="27"/>
                  </a:lnTo>
                  <a:lnTo>
                    <a:pt x="92" y="26"/>
                  </a:lnTo>
                  <a:lnTo>
                    <a:pt x="94" y="26"/>
                  </a:lnTo>
                  <a:lnTo>
                    <a:pt x="95" y="24"/>
                  </a:lnTo>
                  <a:lnTo>
                    <a:pt x="106" y="34"/>
                  </a:lnTo>
                  <a:lnTo>
                    <a:pt x="111" y="44"/>
                  </a:lnTo>
                  <a:lnTo>
                    <a:pt x="112" y="51"/>
                  </a:lnTo>
                  <a:lnTo>
                    <a:pt x="112" y="56"/>
                  </a:lnTo>
                  <a:lnTo>
                    <a:pt x="112" y="58"/>
                  </a:lnTo>
                  <a:lnTo>
                    <a:pt x="112" y="60"/>
                  </a:lnTo>
                  <a:lnTo>
                    <a:pt x="114" y="60"/>
                  </a:lnTo>
                  <a:lnTo>
                    <a:pt x="114" y="58"/>
                  </a:lnTo>
                  <a:lnTo>
                    <a:pt x="119" y="53"/>
                  </a:lnTo>
                  <a:lnTo>
                    <a:pt x="130" y="43"/>
                  </a:lnTo>
                  <a:lnTo>
                    <a:pt x="140" y="43"/>
                  </a:lnTo>
                  <a:lnTo>
                    <a:pt x="149" y="44"/>
                  </a:lnTo>
                  <a:lnTo>
                    <a:pt x="154" y="44"/>
                  </a:lnTo>
                  <a:lnTo>
                    <a:pt x="157" y="46"/>
                  </a:lnTo>
                  <a:lnTo>
                    <a:pt x="161" y="50"/>
                  </a:lnTo>
                  <a:lnTo>
                    <a:pt x="164" y="53"/>
                  </a:lnTo>
                  <a:lnTo>
                    <a:pt x="168" y="58"/>
                  </a:lnTo>
                  <a:lnTo>
                    <a:pt x="175" y="67"/>
                  </a:lnTo>
                  <a:lnTo>
                    <a:pt x="162" y="73"/>
                  </a:lnTo>
                  <a:lnTo>
                    <a:pt x="157" y="79"/>
                  </a:lnTo>
                  <a:lnTo>
                    <a:pt x="156" y="79"/>
                  </a:lnTo>
                  <a:lnTo>
                    <a:pt x="156" y="80"/>
                  </a:lnTo>
                  <a:lnTo>
                    <a:pt x="157" y="80"/>
                  </a:lnTo>
                  <a:lnTo>
                    <a:pt x="159" y="80"/>
                  </a:lnTo>
                  <a:lnTo>
                    <a:pt x="166" y="82"/>
                  </a:lnTo>
                  <a:lnTo>
                    <a:pt x="175" y="84"/>
                  </a:lnTo>
                  <a:lnTo>
                    <a:pt x="185" y="89"/>
                  </a:lnTo>
                  <a:lnTo>
                    <a:pt x="195" y="99"/>
                  </a:lnTo>
                  <a:lnTo>
                    <a:pt x="192" y="102"/>
                  </a:lnTo>
                  <a:lnTo>
                    <a:pt x="188" y="104"/>
                  </a:lnTo>
                  <a:lnTo>
                    <a:pt x="185" y="108"/>
                  </a:lnTo>
                  <a:lnTo>
                    <a:pt x="180" y="111"/>
                  </a:lnTo>
                  <a:lnTo>
                    <a:pt x="176" y="114"/>
                  </a:lnTo>
                  <a:lnTo>
                    <a:pt x="173" y="116"/>
                  </a:lnTo>
                  <a:lnTo>
                    <a:pt x="169" y="118"/>
                  </a:lnTo>
                  <a:lnTo>
                    <a:pt x="166" y="120"/>
                  </a:lnTo>
                  <a:lnTo>
                    <a:pt x="169" y="120"/>
                  </a:lnTo>
                  <a:lnTo>
                    <a:pt x="173" y="121"/>
                  </a:lnTo>
                  <a:lnTo>
                    <a:pt x="176" y="121"/>
                  </a:lnTo>
                  <a:lnTo>
                    <a:pt x="180" y="121"/>
                  </a:lnTo>
                  <a:lnTo>
                    <a:pt x="185" y="123"/>
                  </a:lnTo>
                  <a:lnTo>
                    <a:pt x="188" y="123"/>
                  </a:lnTo>
                  <a:lnTo>
                    <a:pt x="192" y="125"/>
                  </a:lnTo>
                  <a:lnTo>
                    <a:pt x="195" y="126"/>
                  </a:lnTo>
                  <a:lnTo>
                    <a:pt x="193" y="130"/>
                  </a:lnTo>
                  <a:lnTo>
                    <a:pt x="192" y="133"/>
                  </a:lnTo>
                  <a:lnTo>
                    <a:pt x="190" y="137"/>
                  </a:lnTo>
                  <a:lnTo>
                    <a:pt x="187" y="140"/>
                  </a:lnTo>
                  <a:lnTo>
                    <a:pt x="185" y="143"/>
                  </a:lnTo>
                  <a:lnTo>
                    <a:pt x="181" y="147"/>
                  </a:lnTo>
                  <a:lnTo>
                    <a:pt x="180" y="150"/>
                  </a:lnTo>
                  <a:lnTo>
                    <a:pt x="178" y="152"/>
                  </a:lnTo>
                  <a:lnTo>
                    <a:pt x="193" y="152"/>
                  </a:lnTo>
                  <a:lnTo>
                    <a:pt x="206" y="152"/>
                  </a:lnTo>
                  <a:lnTo>
                    <a:pt x="216" y="150"/>
                  </a:lnTo>
                  <a:lnTo>
                    <a:pt x="225" y="150"/>
                  </a:lnTo>
                  <a:lnTo>
                    <a:pt x="233" y="152"/>
                  </a:lnTo>
                  <a:lnTo>
                    <a:pt x="240" y="154"/>
                  </a:lnTo>
                  <a:lnTo>
                    <a:pt x="249" y="159"/>
                  </a:lnTo>
                  <a:lnTo>
                    <a:pt x="256" y="167"/>
                  </a:lnTo>
                  <a:lnTo>
                    <a:pt x="252" y="173"/>
                  </a:lnTo>
                  <a:lnTo>
                    <a:pt x="249" y="178"/>
                  </a:lnTo>
                  <a:lnTo>
                    <a:pt x="245" y="181"/>
                  </a:lnTo>
                  <a:lnTo>
                    <a:pt x="240" y="184"/>
                  </a:lnTo>
                  <a:lnTo>
                    <a:pt x="237" y="188"/>
                  </a:lnTo>
                  <a:lnTo>
                    <a:pt x="233" y="191"/>
                  </a:lnTo>
                  <a:lnTo>
                    <a:pt x="230" y="195"/>
                  </a:lnTo>
                  <a:lnTo>
                    <a:pt x="228" y="198"/>
                  </a:lnTo>
                  <a:lnTo>
                    <a:pt x="231" y="198"/>
                  </a:lnTo>
                  <a:lnTo>
                    <a:pt x="235" y="198"/>
                  </a:lnTo>
                  <a:lnTo>
                    <a:pt x="240" y="200"/>
                  </a:lnTo>
                  <a:lnTo>
                    <a:pt x="243" y="202"/>
                  </a:lnTo>
                  <a:lnTo>
                    <a:pt x="247" y="202"/>
                  </a:lnTo>
                  <a:lnTo>
                    <a:pt x="250" y="203"/>
                  </a:lnTo>
                  <a:lnTo>
                    <a:pt x="252" y="205"/>
                  </a:lnTo>
                  <a:lnTo>
                    <a:pt x="256" y="207"/>
                  </a:lnTo>
                  <a:lnTo>
                    <a:pt x="256" y="217"/>
                  </a:lnTo>
                  <a:lnTo>
                    <a:pt x="256" y="227"/>
                  </a:lnTo>
                  <a:lnTo>
                    <a:pt x="256" y="239"/>
                  </a:lnTo>
                  <a:lnTo>
                    <a:pt x="256" y="251"/>
                  </a:lnTo>
                  <a:lnTo>
                    <a:pt x="256" y="263"/>
                  </a:lnTo>
                  <a:lnTo>
                    <a:pt x="254" y="275"/>
                  </a:lnTo>
                  <a:lnTo>
                    <a:pt x="252" y="287"/>
                  </a:lnTo>
                  <a:lnTo>
                    <a:pt x="249" y="296"/>
                  </a:lnTo>
                  <a:lnTo>
                    <a:pt x="245" y="296"/>
                  </a:lnTo>
                  <a:lnTo>
                    <a:pt x="243" y="296"/>
                  </a:lnTo>
                  <a:lnTo>
                    <a:pt x="240" y="297"/>
                  </a:lnTo>
                  <a:lnTo>
                    <a:pt x="237" y="297"/>
                  </a:lnTo>
                  <a:lnTo>
                    <a:pt x="233" y="297"/>
                  </a:lnTo>
                  <a:lnTo>
                    <a:pt x="230" y="299"/>
                  </a:lnTo>
                  <a:lnTo>
                    <a:pt x="226" y="299"/>
                  </a:lnTo>
                  <a:lnTo>
                    <a:pt x="223" y="299"/>
                  </a:lnTo>
                  <a:lnTo>
                    <a:pt x="218" y="307"/>
                  </a:lnTo>
                  <a:lnTo>
                    <a:pt x="212" y="318"/>
                  </a:lnTo>
                  <a:lnTo>
                    <a:pt x="207" y="326"/>
                  </a:lnTo>
                  <a:lnTo>
                    <a:pt x="202" y="333"/>
                  </a:lnTo>
                  <a:lnTo>
                    <a:pt x="195" y="338"/>
                  </a:lnTo>
                  <a:lnTo>
                    <a:pt x="187" y="342"/>
                  </a:lnTo>
                  <a:lnTo>
                    <a:pt x="176" y="340"/>
                  </a:lnTo>
                  <a:lnTo>
                    <a:pt x="162" y="335"/>
                  </a:lnTo>
                  <a:lnTo>
                    <a:pt x="162" y="333"/>
                  </a:lnTo>
                  <a:lnTo>
                    <a:pt x="161" y="331"/>
                  </a:lnTo>
                  <a:lnTo>
                    <a:pt x="161" y="330"/>
                  </a:lnTo>
                  <a:lnTo>
                    <a:pt x="159" y="328"/>
                  </a:lnTo>
                  <a:lnTo>
                    <a:pt x="157" y="326"/>
                  </a:lnTo>
                  <a:lnTo>
                    <a:pt x="157" y="325"/>
                  </a:lnTo>
                  <a:lnTo>
                    <a:pt x="157" y="325"/>
                  </a:lnTo>
                  <a:lnTo>
                    <a:pt x="156" y="323"/>
                  </a:lnTo>
                  <a:lnTo>
                    <a:pt x="154" y="325"/>
                  </a:lnTo>
                  <a:lnTo>
                    <a:pt x="152" y="326"/>
                  </a:lnTo>
                  <a:lnTo>
                    <a:pt x="150" y="328"/>
                  </a:lnTo>
                  <a:lnTo>
                    <a:pt x="147" y="330"/>
                  </a:lnTo>
                  <a:lnTo>
                    <a:pt x="145" y="333"/>
                  </a:lnTo>
                  <a:lnTo>
                    <a:pt x="143" y="335"/>
                  </a:lnTo>
                  <a:lnTo>
                    <a:pt x="142" y="338"/>
                  </a:lnTo>
                  <a:lnTo>
                    <a:pt x="142" y="340"/>
                  </a:lnTo>
                  <a:lnTo>
                    <a:pt x="131" y="342"/>
                  </a:lnTo>
                  <a:lnTo>
                    <a:pt x="125" y="343"/>
                  </a:lnTo>
                  <a:lnTo>
                    <a:pt x="116" y="343"/>
                  </a:lnTo>
                  <a:lnTo>
                    <a:pt x="109" y="342"/>
                  </a:lnTo>
                  <a:lnTo>
                    <a:pt x="102" y="338"/>
                  </a:lnTo>
                  <a:lnTo>
                    <a:pt x="95" y="333"/>
                  </a:lnTo>
                  <a:lnTo>
                    <a:pt x="92" y="326"/>
                  </a:lnTo>
                  <a:lnTo>
                    <a:pt x="87" y="316"/>
                  </a:lnTo>
                  <a:lnTo>
                    <a:pt x="80" y="316"/>
                  </a:lnTo>
                  <a:lnTo>
                    <a:pt x="69" y="311"/>
                  </a:lnTo>
                  <a:lnTo>
                    <a:pt x="57" y="306"/>
                  </a:lnTo>
                  <a:lnTo>
                    <a:pt x="47" y="299"/>
                  </a:lnTo>
                  <a:lnTo>
                    <a:pt x="35" y="292"/>
                  </a:lnTo>
                  <a:lnTo>
                    <a:pt x="23" y="285"/>
                  </a:lnTo>
                  <a:lnTo>
                    <a:pt x="14" y="280"/>
                  </a:lnTo>
                  <a:lnTo>
                    <a:pt x="6" y="275"/>
                  </a:lnTo>
                  <a:lnTo>
                    <a:pt x="6" y="273"/>
                  </a:lnTo>
                  <a:lnTo>
                    <a:pt x="7" y="270"/>
                  </a:lnTo>
                  <a:lnTo>
                    <a:pt x="7" y="268"/>
                  </a:lnTo>
                  <a:lnTo>
                    <a:pt x="9" y="265"/>
                  </a:lnTo>
                  <a:lnTo>
                    <a:pt x="11" y="263"/>
                  </a:lnTo>
                  <a:lnTo>
                    <a:pt x="11" y="260"/>
                  </a:lnTo>
                  <a:lnTo>
                    <a:pt x="11" y="258"/>
                  </a:lnTo>
                  <a:lnTo>
                    <a:pt x="12" y="258"/>
                  </a:lnTo>
                  <a:lnTo>
                    <a:pt x="6" y="249"/>
                  </a:lnTo>
                  <a:lnTo>
                    <a:pt x="2" y="241"/>
                  </a:lnTo>
                  <a:lnTo>
                    <a:pt x="0" y="234"/>
                  </a:lnTo>
                  <a:lnTo>
                    <a:pt x="0" y="227"/>
                  </a:lnTo>
                  <a:lnTo>
                    <a:pt x="4" y="214"/>
                  </a:lnTo>
                  <a:lnTo>
                    <a:pt x="11" y="202"/>
                  </a:lnTo>
                  <a:lnTo>
                    <a:pt x="18" y="188"/>
                  </a:lnTo>
                  <a:lnTo>
                    <a:pt x="25" y="174"/>
                  </a:lnTo>
                  <a:lnTo>
                    <a:pt x="28" y="167"/>
                  </a:lnTo>
                  <a:lnTo>
                    <a:pt x="30" y="159"/>
                  </a:lnTo>
                  <a:lnTo>
                    <a:pt x="28" y="150"/>
                  </a:lnTo>
                  <a:lnTo>
                    <a:pt x="26" y="140"/>
                  </a:lnTo>
                  <a:lnTo>
                    <a:pt x="30" y="137"/>
                  </a:lnTo>
                  <a:lnTo>
                    <a:pt x="35" y="133"/>
                  </a:lnTo>
                  <a:lnTo>
                    <a:pt x="38" y="128"/>
                  </a:lnTo>
                  <a:lnTo>
                    <a:pt x="44" y="125"/>
                  </a:lnTo>
                  <a:lnTo>
                    <a:pt x="49" y="121"/>
                  </a:lnTo>
                  <a:lnTo>
                    <a:pt x="54" y="120"/>
                  </a:lnTo>
                  <a:lnTo>
                    <a:pt x="59" y="116"/>
                  </a:lnTo>
                  <a:lnTo>
                    <a:pt x="66" y="114"/>
                  </a:lnTo>
                  <a:lnTo>
                    <a:pt x="62" y="109"/>
                  </a:lnTo>
                  <a:lnTo>
                    <a:pt x="59" y="106"/>
                  </a:lnTo>
                  <a:lnTo>
                    <a:pt x="56" y="104"/>
                  </a:lnTo>
                  <a:lnTo>
                    <a:pt x="50" y="101"/>
                  </a:lnTo>
                  <a:lnTo>
                    <a:pt x="45" y="97"/>
                  </a:lnTo>
                  <a:lnTo>
                    <a:pt x="42" y="94"/>
                  </a:lnTo>
                  <a:lnTo>
                    <a:pt x="37" y="89"/>
                  </a:lnTo>
                  <a:lnTo>
                    <a:pt x="33" y="84"/>
                  </a:lnTo>
                  <a:lnTo>
                    <a:pt x="37" y="79"/>
                  </a:lnTo>
                  <a:lnTo>
                    <a:pt x="42" y="72"/>
                  </a:lnTo>
                  <a:lnTo>
                    <a:pt x="47" y="67"/>
                  </a:lnTo>
                  <a:lnTo>
                    <a:pt x="52" y="61"/>
                  </a:lnTo>
                  <a:lnTo>
                    <a:pt x="57" y="56"/>
                  </a:lnTo>
                  <a:lnTo>
                    <a:pt x="62" y="50"/>
                  </a:lnTo>
                  <a:lnTo>
                    <a:pt x="69" y="44"/>
                  </a:lnTo>
                  <a:lnTo>
                    <a:pt x="75" y="39"/>
                  </a:lnTo>
                  <a:lnTo>
                    <a:pt x="69" y="38"/>
                  </a:lnTo>
                  <a:lnTo>
                    <a:pt x="64" y="38"/>
                  </a:lnTo>
                  <a:lnTo>
                    <a:pt x="59" y="36"/>
                  </a:lnTo>
                  <a:lnTo>
                    <a:pt x="52" y="32"/>
                  </a:lnTo>
                  <a:lnTo>
                    <a:pt x="47" y="31"/>
                  </a:lnTo>
                  <a:lnTo>
                    <a:pt x="42" y="29"/>
                  </a:lnTo>
                  <a:lnTo>
                    <a:pt x="38" y="27"/>
                  </a:lnTo>
                  <a:lnTo>
                    <a:pt x="33" y="24"/>
                  </a:lnTo>
                  <a:lnTo>
                    <a:pt x="33" y="20"/>
                  </a:lnTo>
                  <a:lnTo>
                    <a:pt x="31" y="15"/>
                  </a:lnTo>
                  <a:lnTo>
                    <a:pt x="31" y="10"/>
                  </a:lnTo>
                  <a:lnTo>
                    <a:pt x="30" y="7"/>
                  </a:lnTo>
                  <a:lnTo>
                    <a:pt x="28" y="3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1" y="2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822320" y="2184480"/>
              <a:ext cx="176400" cy="216000"/>
            </a:xfrm>
            <a:custGeom>
              <a:avLst/>
              <a:gdLst/>
              <a:ahLst/>
              <a:rect l="l" t="t" r="r" b="b"/>
              <a:pathLst>
                <a:path w="256" h="343">
                  <a:moveTo>
                    <a:pt x="21" y="2"/>
                  </a:moveTo>
                  <a:lnTo>
                    <a:pt x="31" y="2"/>
                  </a:lnTo>
                  <a:lnTo>
                    <a:pt x="42" y="2"/>
                  </a:lnTo>
                  <a:lnTo>
                    <a:pt x="50" y="2"/>
                  </a:lnTo>
                  <a:lnTo>
                    <a:pt x="57" y="5"/>
                  </a:lnTo>
                  <a:lnTo>
                    <a:pt x="62" y="9"/>
                  </a:lnTo>
                  <a:lnTo>
                    <a:pt x="68" y="14"/>
                  </a:lnTo>
                  <a:lnTo>
                    <a:pt x="73" y="20"/>
                  </a:lnTo>
                  <a:lnTo>
                    <a:pt x="75" y="31"/>
                  </a:lnTo>
                  <a:lnTo>
                    <a:pt x="78" y="31"/>
                  </a:lnTo>
                  <a:lnTo>
                    <a:pt x="80" y="29"/>
                  </a:lnTo>
                  <a:lnTo>
                    <a:pt x="83" y="29"/>
                  </a:lnTo>
                  <a:lnTo>
                    <a:pt x="85" y="27"/>
                  </a:lnTo>
                  <a:lnTo>
                    <a:pt x="88" y="27"/>
                  </a:lnTo>
                  <a:lnTo>
                    <a:pt x="92" y="26"/>
                  </a:lnTo>
                  <a:lnTo>
                    <a:pt x="94" y="26"/>
                  </a:lnTo>
                  <a:lnTo>
                    <a:pt x="95" y="24"/>
                  </a:lnTo>
                  <a:lnTo>
                    <a:pt x="106" y="34"/>
                  </a:lnTo>
                  <a:lnTo>
                    <a:pt x="111" y="44"/>
                  </a:lnTo>
                  <a:lnTo>
                    <a:pt x="112" y="51"/>
                  </a:lnTo>
                  <a:lnTo>
                    <a:pt x="112" y="56"/>
                  </a:lnTo>
                  <a:lnTo>
                    <a:pt x="112" y="58"/>
                  </a:lnTo>
                  <a:lnTo>
                    <a:pt x="112" y="60"/>
                  </a:lnTo>
                  <a:lnTo>
                    <a:pt x="114" y="60"/>
                  </a:lnTo>
                  <a:lnTo>
                    <a:pt x="114" y="58"/>
                  </a:lnTo>
                  <a:lnTo>
                    <a:pt x="119" y="53"/>
                  </a:lnTo>
                  <a:lnTo>
                    <a:pt x="130" y="43"/>
                  </a:lnTo>
                  <a:lnTo>
                    <a:pt x="140" y="43"/>
                  </a:lnTo>
                  <a:lnTo>
                    <a:pt x="149" y="44"/>
                  </a:lnTo>
                  <a:lnTo>
                    <a:pt x="154" y="44"/>
                  </a:lnTo>
                  <a:lnTo>
                    <a:pt x="157" y="46"/>
                  </a:lnTo>
                  <a:lnTo>
                    <a:pt x="161" y="50"/>
                  </a:lnTo>
                  <a:lnTo>
                    <a:pt x="164" y="53"/>
                  </a:lnTo>
                  <a:lnTo>
                    <a:pt x="168" y="58"/>
                  </a:lnTo>
                  <a:lnTo>
                    <a:pt x="175" y="67"/>
                  </a:lnTo>
                  <a:lnTo>
                    <a:pt x="162" y="73"/>
                  </a:lnTo>
                  <a:lnTo>
                    <a:pt x="157" y="79"/>
                  </a:lnTo>
                  <a:lnTo>
                    <a:pt x="156" y="79"/>
                  </a:lnTo>
                  <a:lnTo>
                    <a:pt x="156" y="80"/>
                  </a:lnTo>
                  <a:lnTo>
                    <a:pt x="157" y="80"/>
                  </a:lnTo>
                  <a:lnTo>
                    <a:pt x="159" y="80"/>
                  </a:lnTo>
                  <a:lnTo>
                    <a:pt x="166" y="82"/>
                  </a:lnTo>
                  <a:lnTo>
                    <a:pt x="175" y="84"/>
                  </a:lnTo>
                  <a:lnTo>
                    <a:pt x="185" y="89"/>
                  </a:lnTo>
                  <a:lnTo>
                    <a:pt x="195" y="99"/>
                  </a:lnTo>
                  <a:lnTo>
                    <a:pt x="192" y="102"/>
                  </a:lnTo>
                  <a:lnTo>
                    <a:pt x="188" y="104"/>
                  </a:lnTo>
                  <a:lnTo>
                    <a:pt x="185" y="108"/>
                  </a:lnTo>
                  <a:lnTo>
                    <a:pt x="180" y="111"/>
                  </a:lnTo>
                  <a:lnTo>
                    <a:pt x="176" y="114"/>
                  </a:lnTo>
                  <a:lnTo>
                    <a:pt x="173" y="116"/>
                  </a:lnTo>
                  <a:lnTo>
                    <a:pt x="169" y="118"/>
                  </a:lnTo>
                  <a:lnTo>
                    <a:pt x="166" y="120"/>
                  </a:lnTo>
                  <a:lnTo>
                    <a:pt x="169" y="120"/>
                  </a:lnTo>
                  <a:lnTo>
                    <a:pt x="173" y="121"/>
                  </a:lnTo>
                  <a:lnTo>
                    <a:pt x="176" y="121"/>
                  </a:lnTo>
                  <a:lnTo>
                    <a:pt x="180" y="121"/>
                  </a:lnTo>
                  <a:lnTo>
                    <a:pt x="185" y="123"/>
                  </a:lnTo>
                  <a:lnTo>
                    <a:pt x="188" y="123"/>
                  </a:lnTo>
                  <a:lnTo>
                    <a:pt x="192" y="125"/>
                  </a:lnTo>
                  <a:lnTo>
                    <a:pt x="195" y="126"/>
                  </a:lnTo>
                  <a:lnTo>
                    <a:pt x="193" y="130"/>
                  </a:lnTo>
                  <a:lnTo>
                    <a:pt x="192" y="133"/>
                  </a:lnTo>
                  <a:lnTo>
                    <a:pt x="190" y="137"/>
                  </a:lnTo>
                  <a:lnTo>
                    <a:pt x="187" y="140"/>
                  </a:lnTo>
                  <a:lnTo>
                    <a:pt x="185" y="143"/>
                  </a:lnTo>
                  <a:lnTo>
                    <a:pt x="181" y="147"/>
                  </a:lnTo>
                  <a:lnTo>
                    <a:pt x="180" y="150"/>
                  </a:lnTo>
                  <a:lnTo>
                    <a:pt x="178" y="152"/>
                  </a:lnTo>
                  <a:lnTo>
                    <a:pt x="193" y="152"/>
                  </a:lnTo>
                  <a:lnTo>
                    <a:pt x="206" y="152"/>
                  </a:lnTo>
                  <a:lnTo>
                    <a:pt x="216" y="150"/>
                  </a:lnTo>
                  <a:lnTo>
                    <a:pt x="225" y="150"/>
                  </a:lnTo>
                  <a:lnTo>
                    <a:pt x="233" y="152"/>
                  </a:lnTo>
                  <a:lnTo>
                    <a:pt x="240" y="154"/>
                  </a:lnTo>
                  <a:lnTo>
                    <a:pt x="249" y="159"/>
                  </a:lnTo>
                  <a:lnTo>
                    <a:pt x="256" y="167"/>
                  </a:lnTo>
                  <a:lnTo>
                    <a:pt x="252" y="173"/>
                  </a:lnTo>
                  <a:lnTo>
                    <a:pt x="249" y="178"/>
                  </a:lnTo>
                  <a:lnTo>
                    <a:pt x="245" y="181"/>
                  </a:lnTo>
                  <a:lnTo>
                    <a:pt x="240" y="184"/>
                  </a:lnTo>
                  <a:lnTo>
                    <a:pt x="237" y="188"/>
                  </a:lnTo>
                  <a:lnTo>
                    <a:pt x="233" y="191"/>
                  </a:lnTo>
                  <a:lnTo>
                    <a:pt x="230" y="195"/>
                  </a:lnTo>
                  <a:lnTo>
                    <a:pt x="228" y="198"/>
                  </a:lnTo>
                  <a:lnTo>
                    <a:pt x="231" y="198"/>
                  </a:lnTo>
                  <a:lnTo>
                    <a:pt x="235" y="198"/>
                  </a:lnTo>
                  <a:lnTo>
                    <a:pt x="240" y="200"/>
                  </a:lnTo>
                  <a:lnTo>
                    <a:pt x="243" y="202"/>
                  </a:lnTo>
                  <a:lnTo>
                    <a:pt x="247" y="202"/>
                  </a:lnTo>
                  <a:lnTo>
                    <a:pt x="250" y="203"/>
                  </a:lnTo>
                  <a:lnTo>
                    <a:pt x="252" y="205"/>
                  </a:lnTo>
                  <a:lnTo>
                    <a:pt x="256" y="207"/>
                  </a:lnTo>
                  <a:lnTo>
                    <a:pt x="256" y="217"/>
                  </a:lnTo>
                  <a:lnTo>
                    <a:pt x="256" y="227"/>
                  </a:lnTo>
                  <a:lnTo>
                    <a:pt x="256" y="239"/>
                  </a:lnTo>
                  <a:lnTo>
                    <a:pt x="256" y="251"/>
                  </a:lnTo>
                  <a:lnTo>
                    <a:pt x="256" y="263"/>
                  </a:lnTo>
                  <a:lnTo>
                    <a:pt x="254" y="275"/>
                  </a:lnTo>
                  <a:lnTo>
                    <a:pt x="252" y="287"/>
                  </a:lnTo>
                  <a:lnTo>
                    <a:pt x="249" y="296"/>
                  </a:lnTo>
                  <a:lnTo>
                    <a:pt x="245" y="296"/>
                  </a:lnTo>
                  <a:lnTo>
                    <a:pt x="243" y="296"/>
                  </a:lnTo>
                  <a:lnTo>
                    <a:pt x="240" y="297"/>
                  </a:lnTo>
                  <a:lnTo>
                    <a:pt x="237" y="297"/>
                  </a:lnTo>
                  <a:lnTo>
                    <a:pt x="233" y="297"/>
                  </a:lnTo>
                  <a:lnTo>
                    <a:pt x="230" y="299"/>
                  </a:lnTo>
                  <a:lnTo>
                    <a:pt x="226" y="299"/>
                  </a:lnTo>
                  <a:lnTo>
                    <a:pt x="223" y="299"/>
                  </a:lnTo>
                  <a:lnTo>
                    <a:pt x="218" y="307"/>
                  </a:lnTo>
                  <a:lnTo>
                    <a:pt x="212" y="318"/>
                  </a:lnTo>
                  <a:lnTo>
                    <a:pt x="207" y="326"/>
                  </a:lnTo>
                  <a:lnTo>
                    <a:pt x="202" y="333"/>
                  </a:lnTo>
                  <a:lnTo>
                    <a:pt x="195" y="338"/>
                  </a:lnTo>
                  <a:lnTo>
                    <a:pt x="187" y="342"/>
                  </a:lnTo>
                  <a:lnTo>
                    <a:pt x="176" y="340"/>
                  </a:lnTo>
                  <a:lnTo>
                    <a:pt x="162" y="335"/>
                  </a:lnTo>
                  <a:lnTo>
                    <a:pt x="162" y="333"/>
                  </a:lnTo>
                  <a:lnTo>
                    <a:pt x="161" y="331"/>
                  </a:lnTo>
                  <a:lnTo>
                    <a:pt x="161" y="330"/>
                  </a:lnTo>
                  <a:lnTo>
                    <a:pt x="159" y="328"/>
                  </a:lnTo>
                  <a:lnTo>
                    <a:pt x="157" y="326"/>
                  </a:lnTo>
                  <a:lnTo>
                    <a:pt x="157" y="325"/>
                  </a:lnTo>
                  <a:lnTo>
                    <a:pt x="157" y="325"/>
                  </a:lnTo>
                  <a:lnTo>
                    <a:pt x="156" y="323"/>
                  </a:lnTo>
                  <a:lnTo>
                    <a:pt x="154" y="325"/>
                  </a:lnTo>
                  <a:lnTo>
                    <a:pt x="152" y="326"/>
                  </a:lnTo>
                  <a:lnTo>
                    <a:pt x="150" y="328"/>
                  </a:lnTo>
                  <a:lnTo>
                    <a:pt x="147" y="330"/>
                  </a:lnTo>
                  <a:lnTo>
                    <a:pt x="145" y="333"/>
                  </a:lnTo>
                  <a:lnTo>
                    <a:pt x="143" y="335"/>
                  </a:lnTo>
                  <a:lnTo>
                    <a:pt x="142" y="338"/>
                  </a:lnTo>
                  <a:lnTo>
                    <a:pt x="142" y="340"/>
                  </a:lnTo>
                  <a:lnTo>
                    <a:pt x="131" y="342"/>
                  </a:lnTo>
                  <a:lnTo>
                    <a:pt x="125" y="343"/>
                  </a:lnTo>
                  <a:lnTo>
                    <a:pt x="116" y="343"/>
                  </a:lnTo>
                  <a:lnTo>
                    <a:pt x="109" y="342"/>
                  </a:lnTo>
                  <a:lnTo>
                    <a:pt x="102" y="338"/>
                  </a:lnTo>
                  <a:lnTo>
                    <a:pt x="95" y="333"/>
                  </a:lnTo>
                  <a:lnTo>
                    <a:pt x="92" y="326"/>
                  </a:lnTo>
                  <a:lnTo>
                    <a:pt x="87" y="316"/>
                  </a:lnTo>
                  <a:lnTo>
                    <a:pt x="80" y="316"/>
                  </a:lnTo>
                  <a:lnTo>
                    <a:pt x="69" y="311"/>
                  </a:lnTo>
                  <a:lnTo>
                    <a:pt x="57" y="306"/>
                  </a:lnTo>
                  <a:lnTo>
                    <a:pt x="47" y="299"/>
                  </a:lnTo>
                  <a:lnTo>
                    <a:pt x="35" y="292"/>
                  </a:lnTo>
                  <a:lnTo>
                    <a:pt x="23" y="285"/>
                  </a:lnTo>
                  <a:lnTo>
                    <a:pt x="14" y="280"/>
                  </a:lnTo>
                  <a:lnTo>
                    <a:pt x="6" y="275"/>
                  </a:lnTo>
                  <a:lnTo>
                    <a:pt x="6" y="273"/>
                  </a:lnTo>
                  <a:lnTo>
                    <a:pt x="7" y="270"/>
                  </a:lnTo>
                  <a:lnTo>
                    <a:pt x="7" y="268"/>
                  </a:lnTo>
                  <a:lnTo>
                    <a:pt x="9" y="265"/>
                  </a:lnTo>
                  <a:lnTo>
                    <a:pt x="11" y="263"/>
                  </a:lnTo>
                  <a:lnTo>
                    <a:pt x="11" y="260"/>
                  </a:lnTo>
                  <a:lnTo>
                    <a:pt x="11" y="258"/>
                  </a:lnTo>
                  <a:lnTo>
                    <a:pt x="12" y="258"/>
                  </a:lnTo>
                  <a:lnTo>
                    <a:pt x="6" y="249"/>
                  </a:lnTo>
                  <a:lnTo>
                    <a:pt x="2" y="241"/>
                  </a:lnTo>
                  <a:lnTo>
                    <a:pt x="0" y="234"/>
                  </a:lnTo>
                  <a:lnTo>
                    <a:pt x="0" y="227"/>
                  </a:lnTo>
                  <a:lnTo>
                    <a:pt x="4" y="214"/>
                  </a:lnTo>
                  <a:lnTo>
                    <a:pt x="11" y="202"/>
                  </a:lnTo>
                  <a:lnTo>
                    <a:pt x="18" y="188"/>
                  </a:lnTo>
                  <a:lnTo>
                    <a:pt x="25" y="174"/>
                  </a:lnTo>
                  <a:lnTo>
                    <a:pt x="28" y="167"/>
                  </a:lnTo>
                  <a:lnTo>
                    <a:pt x="30" y="159"/>
                  </a:lnTo>
                  <a:lnTo>
                    <a:pt x="28" y="150"/>
                  </a:lnTo>
                  <a:lnTo>
                    <a:pt x="26" y="140"/>
                  </a:lnTo>
                  <a:lnTo>
                    <a:pt x="30" y="137"/>
                  </a:lnTo>
                  <a:lnTo>
                    <a:pt x="35" y="133"/>
                  </a:lnTo>
                  <a:lnTo>
                    <a:pt x="38" y="128"/>
                  </a:lnTo>
                  <a:lnTo>
                    <a:pt x="44" y="125"/>
                  </a:lnTo>
                  <a:lnTo>
                    <a:pt x="49" y="121"/>
                  </a:lnTo>
                  <a:lnTo>
                    <a:pt x="54" y="120"/>
                  </a:lnTo>
                  <a:lnTo>
                    <a:pt x="59" y="116"/>
                  </a:lnTo>
                  <a:lnTo>
                    <a:pt x="66" y="114"/>
                  </a:lnTo>
                  <a:lnTo>
                    <a:pt x="62" y="109"/>
                  </a:lnTo>
                  <a:lnTo>
                    <a:pt x="59" y="106"/>
                  </a:lnTo>
                  <a:lnTo>
                    <a:pt x="56" y="104"/>
                  </a:lnTo>
                  <a:lnTo>
                    <a:pt x="50" y="101"/>
                  </a:lnTo>
                  <a:lnTo>
                    <a:pt x="45" y="97"/>
                  </a:lnTo>
                  <a:lnTo>
                    <a:pt x="42" y="94"/>
                  </a:lnTo>
                  <a:lnTo>
                    <a:pt x="37" y="89"/>
                  </a:lnTo>
                  <a:lnTo>
                    <a:pt x="33" y="84"/>
                  </a:lnTo>
                  <a:lnTo>
                    <a:pt x="37" y="79"/>
                  </a:lnTo>
                  <a:lnTo>
                    <a:pt x="42" y="72"/>
                  </a:lnTo>
                  <a:lnTo>
                    <a:pt x="47" y="67"/>
                  </a:lnTo>
                  <a:lnTo>
                    <a:pt x="52" y="61"/>
                  </a:lnTo>
                  <a:lnTo>
                    <a:pt x="57" y="56"/>
                  </a:lnTo>
                  <a:lnTo>
                    <a:pt x="62" y="50"/>
                  </a:lnTo>
                  <a:lnTo>
                    <a:pt x="69" y="44"/>
                  </a:lnTo>
                  <a:lnTo>
                    <a:pt x="75" y="39"/>
                  </a:lnTo>
                  <a:lnTo>
                    <a:pt x="69" y="38"/>
                  </a:lnTo>
                  <a:lnTo>
                    <a:pt x="64" y="38"/>
                  </a:lnTo>
                  <a:lnTo>
                    <a:pt x="59" y="36"/>
                  </a:lnTo>
                  <a:lnTo>
                    <a:pt x="52" y="32"/>
                  </a:lnTo>
                  <a:lnTo>
                    <a:pt x="47" y="31"/>
                  </a:lnTo>
                  <a:lnTo>
                    <a:pt x="42" y="29"/>
                  </a:lnTo>
                  <a:lnTo>
                    <a:pt x="38" y="27"/>
                  </a:lnTo>
                  <a:lnTo>
                    <a:pt x="33" y="24"/>
                  </a:lnTo>
                  <a:lnTo>
                    <a:pt x="33" y="20"/>
                  </a:lnTo>
                  <a:lnTo>
                    <a:pt x="31" y="15"/>
                  </a:lnTo>
                  <a:lnTo>
                    <a:pt x="31" y="10"/>
                  </a:lnTo>
                  <a:lnTo>
                    <a:pt x="30" y="7"/>
                  </a:lnTo>
                  <a:lnTo>
                    <a:pt x="28" y="3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2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833480" y="2184480"/>
              <a:ext cx="12960" cy="119160"/>
            </a:xfrm>
            <a:custGeom>
              <a:avLst/>
              <a:gdLst/>
              <a:ahLst/>
              <a:rect l="l" t="t" r="r" b="b"/>
              <a:pathLst>
                <a:path w="17" h="190">
                  <a:moveTo>
                    <a:pt x="3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  <a:moveTo>
                    <a:pt x="10" y="162"/>
                  </a:moveTo>
                  <a:lnTo>
                    <a:pt x="12" y="164"/>
                  </a:lnTo>
                  <a:lnTo>
                    <a:pt x="13" y="166"/>
                  </a:lnTo>
                  <a:lnTo>
                    <a:pt x="15" y="169"/>
                  </a:lnTo>
                  <a:lnTo>
                    <a:pt x="17" y="171"/>
                  </a:lnTo>
                  <a:lnTo>
                    <a:pt x="17" y="174"/>
                  </a:lnTo>
                  <a:lnTo>
                    <a:pt x="15" y="176"/>
                  </a:lnTo>
                  <a:lnTo>
                    <a:pt x="13" y="179"/>
                  </a:lnTo>
                  <a:lnTo>
                    <a:pt x="12" y="183"/>
                  </a:lnTo>
                  <a:lnTo>
                    <a:pt x="10" y="183"/>
                  </a:lnTo>
                  <a:lnTo>
                    <a:pt x="8" y="184"/>
                  </a:lnTo>
                  <a:lnTo>
                    <a:pt x="7" y="184"/>
                  </a:lnTo>
                  <a:lnTo>
                    <a:pt x="7" y="186"/>
                  </a:lnTo>
                  <a:lnTo>
                    <a:pt x="5" y="186"/>
                  </a:lnTo>
                  <a:lnTo>
                    <a:pt x="3" y="188"/>
                  </a:lnTo>
                  <a:lnTo>
                    <a:pt x="1" y="188"/>
                  </a:lnTo>
                  <a:lnTo>
                    <a:pt x="0" y="190"/>
                  </a:lnTo>
                  <a:lnTo>
                    <a:pt x="1" y="186"/>
                  </a:lnTo>
                  <a:lnTo>
                    <a:pt x="3" y="183"/>
                  </a:lnTo>
                  <a:lnTo>
                    <a:pt x="5" y="179"/>
                  </a:lnTo>
                  <a:lnTo>
                    <a:pt x="7" y="176"/>
                  </a:lnTo>
                  <a:lnTo>
                    <a:pt x="8" y="173"/>
                  </a:lnTo>
                  <a:lnTo>
                    <a:pt x="10" y="169"/>
                  </a:lnTo>
                  <a:lnTo>
                    <a:pt x="10" y="166"/>
                  </a:lnTo>
                  <a:lnTo>
                    <a:pt x="10" y="162"/>
                  </a:lnTo>
                  <a:close/>
                </a:path>
              </a:pathLst>
            </a:custGeom>
            <a:solidFill>
              <a:srgbClr val="e5b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824120" y="2185920"/>
              <a:ext cx="174600" cy="214560"/>
            </a:xfrm>
            <a:custGeom>
              <a:avLst/>
              <a:gdLst/>
              <a:ahLst/>
              <a:rect l="l" t="t" r="r" b="b"/>
              <a:pathLst>
                <a:path w="254" h="341">
                  <a:moveTo>
                    <a:pt x="254" y="237"/>
                  </a:moveTo>
                  <a:lnTo>
                    <a:pt x="252" y="239"/>
                  </a:lnTo>
                  <a:lnTo>
                    <a:pt x="248" y="241"/>
                  </a:lnTo>
                  <a:lnTo>
                    <a:pt x="247" y="242"/>
                  </a:lnTo>
                  <a:lnTo>
                    <a:pt x="247" y="246"/>
                  </a:lnTo>
                  <a:lnTo>
                    <a:pt x="245" y="249"/>
                  </a:lnTo>
                  <a:lnTo>
                    <a:pt x="247" y="253"/>
                  </a:lnTo>
                  <a:lnTo>
                    <a:pt x="247" y="256"/>
                  </a:lnTo>
                  <a:lnTo>
                    <a:pt x="248" y="261"/>
                  </a:lnTo>
                  <a:lnTo>
                    <a:pt x="250" y="261"/>
                  </a:lnTo>
                  <a:lnTo>
                    <a:pt x="250" y="261"/>
                  </a:lnTo>
                  <a:lnTo>
                    <a:pt x="250" y="261"/>
                  </a:lnTo>
                  <a:lnTo>
                    <a:pt x="252" y="263"/>
                  </a:lnTo>
                  <a:lnTo>
                    <a:pt x="252" y="263"/>
                  </a:lnTo>
                  <a:lnTo>
                    <a:pt x="252" y="263"/>
                  </a:lnTo>
                  <a:lnTo>
                    <a:pt x="254" y="264"/>
                  </a:lnTo>
                  <a:lnTo>
                    <a:pt x="254" y="264"/>
                  </a:lnTo>
                  <a:lnTo>
                    <a:pt x="252" y="268"/>
                  </a:lnTo>
                  <a:lnTo>
                    <a:pt x="252" y="273"/>
                  </a:lnTo>
                  <a:lnTo>
                    <a:pt x="252" y="276"/>
                  </a:lnTo>
                  <a:lnTo>
                    <a:pt x="252" y="280"/>
                  </a:lnTo>
                  <a:lnTo>
                    <a:pt x="250" y="283"/>
                  </a:lnTo>
                  <a:lnTo>
                    <a:pt x="250" y="287"/>
                  </a:lnTo>
                  <a:lnTo>
                    <a:pt x="248" y="290"/>
                  </a:lnTo>
                  <a:lnTo>
                    <a:pt x="247" y="294"/>
                  </a:lnTo>
                  <a:lnTo>
                    <a:pt x="245" y="294"/>
                  </a:lnTo>
                  <a:lnTo>
                    <a:pt x="241" y="294"/>
                  </a:lnTo>
                  <a:lnTo>
                    <a:pt x="240" y="295"/>
                  </a:lnTo>
                  <a:lnTo>
                    <a:pt x="236" y="295"/>
                  </a:lnTo>
                  <a:lnTo>
                    <a:pt x="233" y="295"/>
                  </a:lnTo>
                  <a:lnTo>
                    <a:pt x="231" y="295"/>
                  </a:lnTo>
                  <a:lnTo>
                    <a:pt x="228" y="297"/>
                  </a:lnTo>
                  <a:lnTo>
                    <a:pt x="224" y="297"/>
                  </a:lnTo>
                  <a:lnTo>
                    <a:pt x="221" y="297"/>
                  </a:lnTo>
                  <a:lnTo>
                    <a:pt x="216" y="295"/>
                  </a:lnTo>
                  <a:lnTo>
                    <a:pt x="212" y="295"/>
                  </a:lnTo>
                  <a:lnTo>
                    <a:pt x="207" y="295"/>
                  </a:lnTo>
                  <a:lnTo>
                    <a:pt x="204" y="297"/>
                  </a:lnTo>
                  <a:lnTo>
                    <a:pt x="200" y="299"/>
                  </a:lnTo>
                  <a:lnTo>
                    <a:pt x="197" y="300"/>
                  </a:lnTo>
                  <a:lnTo>
                    <a:pt x="193" y="304"/>
                  </a:lnTo>
                  <a:lnTo>
                    <a:pt x="193" y="309"/>
                  </a:lnTo>
                  <a:lnTo>
                    <a:pt x="193" y="314"/>
                  </a:lnTo>
                  <a:lnTo>
                    <a:pt x="193" y="321"/>
                  </a:lnTo>
                  <a:lnTo>
                    <a:pt x="193" y="326"/>
                  </a:lnTo>
                  <a:lnTo>
                    <a:pt x="191" y="331"/>
                  </a:lnTo>
                  <a:lnTo>
                    <a:pt x="190" y="335"/>
                  </a:lnTo>
                  <a:lnTo>
                    <a:pt x="185" y="335"/>
                  </a:lnTo>
                  <a:lnTo>
                    <a:pt x="176" y="333"/>
                  </a:lnTo>
                  <a:lnTo>
                    <a:pt x="174" y="333"/>
                  </a:lnTo>
                  <a:lnTo>
                    <a:pt x="171" y="333"/>
                  </a:lnTo>
                  <a:lnTo>
                    <a:pt x="169" y="333"/>
                  </a:lnTo>
                  <a:lnTo>
                    <a:pt x="167" y="331"/>
                  </a:lnTo>
                  <a:lnTo>
                    <a:pt x="164" y="331"/>
                  </a:lnTo>
                  <a:lnTo>
                    <a:pt x="162" y="329"/>
                  </a:lnTo>
                  <a:lnTo>
                    <a:pt x="160" y="328"/>
                  </a:lnTo>
                  <a:lnTo>
                    <a:pt x="157" y="328"/>
                  </a:lnTo>
                  <a:lnTo>
                    <a:pt x="157" y="326"/>
                  </a:lnTo>
                  <a:lnTo>
                    <a:pt x="157" y="326"/>
                  </a:lnTo>
                  <a:lnTo>
                    <a:pt x="155" y="324"/>
                  </a:lnTo>
                  <a:lnTo>
                    <a:pt x="155" y="324"/>
                  </a:lnTo>
                  <a:lnTo>
                    <a:pt x="155" y="323"/>
                  </a:lnTo>
                  <a:lnTo>
                    <a:pt x="155" y="323"/>
                  </a:lnTo>
                  <a:lnTo>
                    <a:pt x="154" y="321"/>
                  </a:lnTo>
                  <a:lnTo>
                    <a:pt x="154" y="321"/>
                  </a:lnTo>
                  <a:lnTo>
                    <a:pt x="154" y="321"/>
                  </a:lnTo>
                  <a:lnTo>
                    <a:pt x="154" y="321"/>
                  </a:lnTo>
                  <a:lnTo>
                    <a:pt x="152" y="323"/>
                  </a:lnTo>
                  <a:lnTo>
                    <a:pt x="152" y="323"/>
                  </a:lnTo>
                  <a:lnTo>
                    <a:pt x="152" y="323"/>
                  </a:lnTo>
                  <a:lnTo>
                    <a:pt x="152" y="324"/>
                  </a:lnTo>
                  <a:lnTo>
                    <a:pt x="150" y="324"/>
                  </a:lnTo>
                  <a:lnTo>
                    <a:pt x="150" y="324"/>
                  </a:lnTo>
                  <a:lnTo>
                    <a:pt x="148" y="324"/>
                  </a:lnTo>
                  <a:lnTo>
                    <a:pt x="147" y="324"/>
                  </a:lnTo>
                  <a:lnTo>
                    <a:pt x="145" y="324"/>
                  </a:lnTo>
                  <a:lnTo>
                    <a:pt x="143" y="324"/>
                  </a:lnTo>
                  <a:lnTo>
                    <a:pt x="141" y="324"/>
                  </a:lnTo>
                  <a:lnTo>
                    <a:pt x="140" y="324"/>
                  </a:lnTo>
                  <a:lnTo>
                    <a:pt x="138" y="324"/>
                  </a:lnTo>
                  <a:lnTo>
                    <a:pt x="136" y="324"/>
                  </a:lnTo>
                  <a:lnTo>
                    <a:pt x="135" y="328"/>
                  </a:lnTo>
                  <a:lnTo>
                    <a:pt x="133" y="329"/>
                  </a:lnTo>
                  <a:lnTo>
                    <a:pt x="131" y="331"/>
                  </a:lnTo>
                  <a:lnTo>
                    <a:pt x="128" y="335"/>
                  </a:lnTo>
                  <a:lnTo>
                    <a:pt x="126" y="336"/>
                  </a:lnTo>
                  <a:lnTo>
                    <a:pt x="123" y="338"/>
                  </a:lnTo>
                  <a:lnTo>
                    <a:pt x="121" y="340"/>
                  </a:lnTo>
                  <a:lnTo>
                    <a:pt x="117" y="341"/>
                  </a:lnTo>
                  <a:lnTo>
                    <a:pt x="114" y="341"/>
                  </a:lnTo>
                  <a:lnTo>
                    <a:pt x="109" y="340"/>
                  </a:lnTo>
                  <a:lnTo>
                    <a:pt x="104" y="338"/>
                  </a:lnTo>
                  <a:lnTo>
                    <a:pt x="100" y="336"/>
                  </a:lnTo>
                  <a:lnTo>
                    <a:pt x="97" y="333"/>
                  </a:lnTo>
                  <a:lnTo>
                    <a:pt x="93" y="329"/>
                  </a:lnTo>
                  <a:lnTo>
                    <a:pt x="90" y="326"/>
                  </a:lnTo>
                  <a:lnTo>
                    <a:pt x="88" y="321"/>
                  </a:lnTo>
                  <a:lnTo>
                    <a:pt x="86" y="319"/>
                  </a:lnTo>
                  <a:lnTo>
                    <a:pt x="86" y="317"/>
                  </a:lnTo>
                  <a:lnTo>
                    <a:pt x="88" y="317"/>
                  </a:lnTo>
                  <a:lnTo>
                    <a:pt x="88" y="316"/>
                  </a:lnTo>
                  <a:lnTo>
                    <a:pt x="88" y="314"/>
                  </a:lnTo>
                  <a:lnTo>
                    <a:pt x="88" y="312"/>
                  </a:lnTo>
                  <a:lnTo>
                    <a:pt x="88" y="312"/>
                  </a:lnTo>
                  <a:lnTo>
                    <a:pt x="90" y="311"/>
                  </a:lnTo>
                  <a:lnTo>
                    <a:pt x="85" y="307"/>
                  </a:lnTo>
                  <a:lnTo>
                    <a:pt x="83" y="309"/>
                  </a:lnTo>
                  <a:lnTo>
                    <a:pt x="81" y="309"/>
                  </a:lnTo>
                  <a:lnTo>
                    <a:pt x="79" y="309"/>
                  </a:lnTo>
                  <a:lnTo>
                    <a:pt x="78" y="309"/>
                  </a:lnTo>
                  <a:lnTo>
                    <a:pt x="76" y="309"/>
                  </a:lnTo>
                  <a:lnTo>
                    <a:pt x="74" y="309"/>
                  </a:lnTo>
                  <a:lnTo>
                    <a:pt x="73" y="309"/>
                  </a:lnTo>
                  <a:lnTo>
                    <a:pt x="73" y="311"/>
                  </a:lnTo>
                  <a:lnTo>
                    <a:pt x="67" y="309"/>
                  </a:lnTo>
                  <a:lnTo>
                    <a:pt x="66" y="305"/>
                  </a:lnTo>
                  <a:lnTo>
                    <a:pt x="64" y="300"/>
                  </a:lnTo>
                  <a:lnTo>
                    <a:pt x="64" y="297"/>
                  </a:lnTo>
                  <a:lnTo>
                    <a:pt x="64" y="292"/>
                  </a:lnTo>
                  <a:lnTo>
                    <a:pt x="62" y="287"/>
                  </a:lnTo>
                  <a:lnTo>
                    <a:pt x="60" y="283"/>
                  </a:lnTo>
                  <a:lnTo>
                    <a:pt x="57" y="280"/>
                  </a:lnTo>
                  <a:lnTo>
                    <a:pt x="54" y="280"/>
                  </a:lnTo>
                  <a:lnTo>
                    <a:pt x="50" y="282"/>
                  </a:lnTo>
                  <a:lnTo>
                    <a:pt x="47" y="282"/>
                  </a:lnTo>
                  <a:lnTo>
                    <a:pt x="43" y="282"/>
                  </a:lnTo>
                  <a:lnTo>
                    <a:pt x="38" y="282"/>
                  </a:lnTo>
                  <a:lnTo>
                    <a:pt x="35" y="282"/>
                  </a:lnTo>
                  <a:lnTo>
                    <a:pt x="33" y="280"/>
                  </a:lnTo>
                  <a:lnTo>
                    <a:pt x="29" y="276"/>
                  </a:lnTo>
                  <a:lnTo>
                    <a:pt x="28" y="276"/>
                  </a:lnTo>
                  <a:lnTo>
                    <a:pt x="24" y="275"/>
                  </a:lnTo>
                  <a:lnTo>
                    <a:pt x="23" y="276"/>
                  </a:lnTo>
                  <a:lnTo>
                    <a:pt x="21" y="276"/>
                  </a:lnTo>
                  <a:lnTo>
                    <a:pt x="19" y="278"/>
                  </a:lnTo>
                  <a:lnTo>
                    <a:pt x="17" y="278"/>
                  </a:lnTo>
                  <a:lnTo>
                    <a:pt x="16" y="278"/>
                  </a:lnTo>
                  <a:lnTo>
                    <a:pt x="14" y="275"/>
                  </a:lnTo>
                  <a:lnTo>
                    <a:pt x="14" y="271"/>
                  </a:lnTo>
                  <a:lnTo>
                    <a:pt x="14" y="266"/>
                  </a:lnTo>
                  <a:lnTo>
                    <a:pt x="16" y="263"/>
                  </a:lnTo>
                  <a:lnTo>
                    <a:pt x="19" y="259"/>
                  </a:lnTo>
                  <a:lnTo>
                    <a:pt x="21" y="258"/>
                  </a:lnTo>
                  <a:lnTo>
                    <a:pt x="23" y="254"/>
                  </a:lnTo>
                  <a:lnTo>
                    <a:pt x="24" y="251"/>
                  </a:lnTo>
                  <a:lnTo>
                    <a:pt x="24" y="246"/>
                  </a:lnTo>
                  <a:lnTo>
                    <a:pt x="23" y="244"/>
                  </a:lnTo>
                  <a:lnTo>
                    <a:pt x="19" y="242"/>
                  </a:lnTo>
                  <a:lnTo>
                    <a:pt x="16" y="241"/>
                  </a:lnTo>
                  <a:lnTo>
                    <a:pt x="12" y="239"/>
                  </a:lnTo>
                  <a:lnTo>
                    <a:pt x="9" y="237"/>
                  </a:lnTo>
                  <a:lnTo>
                    <a:pt x="5" y="234"/>
                  </a:lnTo>
                  <a:lnTo>
                    <a:pt x="4" y="232"/>
                  </a:lnTo>
                  <a:lnTo>
                    <a:pt x="2" y="229"/>
                  </a:lnTo>
                  <a:lnTo>
                    <a:pt x="0" y="225"/>
                  </a:lnTo>
                  <a:lnTo>
                    <a:pt x="0" y="222"/>
                  </a:lnTo>
                  <a:lnTo>
                    <a:pt x="0" y="220"/>
                  </a:lnTo>
                  <a:lnTo>
                    <a:pt x="2" y="217"/>
                  </a:lnTo>
                  <a:lnTo>
                    <a:pt x="2" y="213"/>
                  </a:lnTo>
                  <a:lnTo>
                    <a:pt x="4" y="210"/>
                  </a:lnTo>
                  <a:lnTo>
                    <a:pt x="5" y="208"/>
                  </a:lnTo>
                  <a:lnTo>
                    <a:pt x="7" y="206"/>
                  </a:lnTo>
                  <a:lnTo>
                    <a:pt x="12" y="201"/>
                  </a:lnTo>
                  <a:lnTo>
                    <a:pt x="17" y="198"/>
                  </a:lnTo>
                  <a:lnTo>
                    <a:pt x="23" y="194"/>
                  </a:lnTo>
                  <a:lnTo>
                    <a:pt x="28" y="189"/>
                  </a:lnTo>
                  <a:lnTo>
                    <a:pt x="33" y="186"/>
                  </a:lnTo>
                  <a:lnTo>
                    <a:pt x="36" y="181"/>
                  </a:lnTo>
                  <a:lnTo>
                    <a:pt x="40" y="176"/>
                  </a:lnTo>
                  <a:lnTo>
                    <a:pt x="43" y="169"/>
                  </a:lnTo>
                  <a:lnTo>
                    <a:pt x="42" y="164"/>
                  </a:lnTo>
                  <a:lnTo>
                    <a:pt x="38" y="160"/>
                  </a:lnTo>
                  <a:lnTo>
                    <a:pt x="36" y="155"/>
                  </a:lnTo>
                  <a:lnTo>
                    <a:pt x="33" y="150"/>
                  </a:lnTo>
                  <a:lnTo>
                    <a:pt x="29" y="147"/>
                  </a:lnTo>
                  <a:lnTo>
                    <a:pt x="29" y="141"/>
                  </a:lnTo>
                  <a:lnTo>
                    <a:pt x="29" y="136"/>
                  </a:lnTo>
                  <a:lnTo>
                    <a:pt x="35" y="131"/>
                  </a:lnTo>
                  <a:lnTo>
                    <a:pt x="36" y="130"/>
                  </a:lnTo>
                  <a:lnTo>
                    <a:pt x="38" y="128"/>
                  </a:lnTo>
                  <a:lnTo>
                    <a:pt x="42" y="126"/>
                  </a:lnTo>
                  <a:lnTo>
                    <a:pt x="43" y="124"/>
                  </a:lnTo>
                  <a:lnTo>
                    <a:pt x="47" y="123"/>
                  </a:lnTo>
                  <a:lnTo>
                    <a:pt x="48" y="121"/>
                  </a:lnTo>
                  <a:lnTo>
                    <a:pt x="50" y="119"/>
                  </a:lnTo>
                  <a:lnTo>
                    <a:pt x="52" y="116"/>
                  </a:lnTo>
                  <a:lnTo>
                    <a:pt x="54" y="116"/>
                  </a:lnTo>
                  <a:lnTo>
                    <a:pt x="55" y="116"/>
                  </a:lnTo>
                  <a:lnTo>
                    <a:pt x="57" y="114"/>
                  </a:lnTo>
                  <a:lnTo>
                    <a:pt x="59" y="114"/>
                  </a:lnTo>
                  <a:lnTo>
                    <a:pt x="59" y="114"/>
                  </a:lnTo>
                  <a:lnTo>
                    <a:pt x="60" y="112"/>
                  </a:lnTo>
                  <a:lnTo>
                    <a:pt x="62" y="112"/>
                  </a:lnTo>
                  <a:lnTo>
                    <a:pt x="64" y="112"/>
                  </a:lnTo>
                  <a:lnTo>
                    <a:pt x="64" y="111"/>
                  </a:lnTo>
                  <a:lnTo>
                    <a:pt x="62" y="111"/>
                  </a:lnTo>
                  <a:lnTo>
                    <a:pt x="62" y="109"/>
                  </a:lnTo>
                  <a:lnTo>
                    <a:pt x="60" y="107"/>
                  </a:lnTo>
                  <a:lnTo>
                    <a:pt x="60" y="107"/>
                  </a:lnTo>
                  <a:lnTo>
                    <a:pt x="59" y="106"/>
                  </a:lnTo>
                  <a:lnTo>
                    <a:pt x="59" y="106"/>
                  </a:lnTo>
                  <a:lnTo>
                    <a:pt x="57" y="104"/>
                  </a:lnTo>
                  <a:lnTo>
                    <a:pt x="57" y="104"/>
                  </a:lnTo>
                  <a:lnTo>
                    <a:pt x="57" y="104"/>
                  </a:lnTo>
                  <a:lnTo>
                    <a:pt x="57" y="102"/>
                  </a:lnTo>
                  <a:lnTo>
                    <a:pt x="57" y="102"/>
                  </a:lnTo>
                  <a:lnTo>
                    <a:pt x="57" y="102"/>
                  </a:lnTo>
                  <a:lnTo>
                    <a:pt x="57" y="100"/>
                  </a:lnTo>
                  <a:lnTo>
                    <a:pt x="57" y="100"/>
                  </a:lnTo>
                  <a:lnTo>
                    <a:pt x="57" y="100"/>
                  </a:lnTo>
                  <a:lnTo>
                    <a:pt x="54" y="97"/>
                  </a:lnTo>
                  <a:lnTo>
                    <a:pt x="50" y="95"/>
                  </a:lnTo>
                  <a:lnTo>
                    <a:pt x="47" y="92"/>
                  </a:lnTo>
                  <a:lnTo>
                    <a:pt x="42" y="90"/>
                  </a:lnTo>
                  <a:lnTo>
                    <a:pt x="38" y="87"/>
                  </a:lnTo>
                  <a:lnTo>
                    <a:pt x="36" y="83"/>
                  </a:lnTo>
                  <a:lnTo>
                    <a:pt x="35" y="80"/>
                  </a:lnTo>
                  <a:lnTo>
                    <a:pt x="35" y="75"/>
                  </a:lnTo>
                  <a:lnTo>
                    <a:pt x="35" y="75"/>
                  </a:lnTo>
                  <a:lnTo>
                    <a:pt x="35" y="75"/>
                  </a:lnTo>
                  <a:lnTo>
                    <a:pt x="35" y="75"/>
                  </a:lnTo>
                  <a:lnTo>
                    <a:pt x="36" y="75"/>
                  </a:lnTo>
                  <a:lnTo>
                    <a:pt x="36" y="75"/>
                  </a:lnTo>
                  <a:lnTo>
                    <a:pt x="36" y="75"/>
                  </a:lnTo>
                  <a:lnTo>
                    <a:pt x="36" y="73"/>
                  </a:lnTo>
                  <a:lnTo>
                    <a:pt x="36" y="73"/>
                  </a:lnTo>
                  <a:lnTo>
                    <a:pt x="40" y="71"/>
                  </a:lnTo>
                  <a:lnTo>
                    <a:pt x="45" y="68"/>
                  </a:lnTo>
                  <a:lnTo>
                    <a:pt x="50" y="65"/>
                  </a:lnTo>
                  <a:lnTo>
                    <a:pt x="55" y="61"/>
                  </a:lnTo>
                  <a:lnTo>
                    <a:pt x="59" y="58"/>
                  </a:lnTo>
                  <a:lnTo>
                    <a:pt x="62" y="54"/>
                  </a:lnTo>
                  <a:lnTo>
                    <a:pt x="64" y="49"/>
                  </a:lnTo>
                  <a:lnTo>
                    <a:pt x="66" y="44"/>
                  </a:lnTo>
                  <a:lnTo>
                    <a:pt x="66" y="44"/>
                  </a:lnTo>
                  <a:lnTo>
                    <a:pt x="67" y="42"/>
                  </a:lnTo>
                  <a:lnTo>
                    <a:pt x="67" y="42"/>
                  </a:lnTo>
                  <a:lnTo>
                    <a:pt x="69" y="41"/>
                  </a:lnTo>
                  <a:lnTo>
                    <a:pt x="71" y="41"/>
                  </a:lnTo>
                  <a:lnTo>
                    <a:pt x="71" y="39"/>
                  </a:lnTo>
                  <a:lnTo>
                    <a:pt x="73" y="39"/>
                  </a:lnTo>
                  <a:lnTo>
                    <a:pt x="73" y="37"/>
                  </a:lnTo>
                  <a:lnTo>
                    <a:pt x="67" y="37"/>
                  </a:lnTo>
                  <a:lnTo>
                    <a:pt x="64" y="36"/>
                  </a:lnTo>
                  <a:lnTo>
                    <a:pt x="59" y="34"/>
                  </a:lnTo>
                  <a:lnTo>
                    <a:pt x="54" y="32"/>
                  </a:lnTo>
                  <a:lnTo>
                    <a:pt x="48" y="30"/>
                  </a:lnTo>
                  <a:lnTo>
                    <a:pt x="45" y="29"/>
                  </a:lnTo>
                  <a:lnTo>
                    <a:pt x="40" y="27"/>
                  </a:lnTo>
                  <a:lnTo>
                    <a:pt x="36" y="25"/>
                  </a:lnTo>
                  <a:lnTo>
                    <a:pt x="35" y="24"/>
                  </a:lnTo>
                  <a:lnTo>
                    <a:pt x="35" y="24"/>
                  </a:lnTo>
                  <a:lnTo>
                    <a:pt x="35" y="24"/>
                  </a:lnTo>
                  <a:lnTo>
                    <a:pt x="33" y="22"/>
                  </a:lnTo>
                  <a:lnTo>
                    <a:pt x="33" y="22"/>
                  </a:lnTo>
                  <a:lnTo>
                    <a:pt x="33" y="20"/>
                  </a:lnTo>
                  <a:lnTo>
                    <a:pt x="33" y="20"/>
                  </a:lnTo>
                  <a:lnTo>
                    <a:pt x="33" y="18"/>
                  </a:lnTo>
                  <a:lnTo>
                    <a:pt x="33" y="15"/>
                  </a:lnTo>
                  <a:lnTo>
                    <a:pt x="33" y="13"/>
                  </a:lnTo>
                  <a:lnTo>
                    <a:pt x="36" y="12"/>
                  </a:lnTo>
                  <a:lnTo>
                    <a:pt x="38" y="10"/>
                  </a:lnTo>
                  <a:lnTo>
                    <a:pt x="40" y="8"/>
                  </a:lnTo>
                  <a:lnTo>
                    <a:pt x="42" y="7"/>
                  </a:lnTo>
                  <a:lnTo>
                    <a:pt x="42" y="5"/>
                  </a:lnTo>
                  <a:lnTo>
                    <a:pt x="38" y="1"/>
                  </a:lnTo>
                  <a:lnTo>
                    <a:pt x="38" y="1"/>
                  </a:lnTo>
                  <a:lnTo>
                    <a:pt x="38" y="1"/>
                  </a:lnTo>
                  <a:lnTo>
                    <a:pt x="38" y="1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7" y="0"/>
                  </a:lnTo>
                  <a:lnTo>
                    <a:pt x="52" y="1"/>
                  </a:lnTo>
                  <a:lnTo>
                    <a:pt x="57" y="3"/>
                  </a:lnTo>
                  <a:lnTo>
                    <a:pt x="62" y="7"/>
                  </a:lnTo>
                  <a:lnTo>
                    <a:pt x="66" y="10"/>
                  </a:lnTo>
                  <a:lnTo>
                    <a:pt x="69" y="15"/>
                  </a:lnTo>
                  <a:lnTo>
                    <a:pt x="71" y="22"/>
                  </a:lnTo>
                  <a:lnTo>
                    <a:pt x="73" y="29"/>
                  </a:lnTo>
                  <a:lnTo>
                    <a:pt x="76" y="29"/>
                  </a:lnTo>
                  <a:lnTo>
                    <a:pt x="78" y="27"/>
                  </a:lnTo>
                  <a:lnTo>
                    <a:pt x="81" y="27"/>
                  </a:lnTo>
                  <a:lnTo>
                    <a:pt x="83" y="25"/>
                  </a:lnTo>
                  <a:lnTo>
                    <a:pt x="86" y="25"/>
                  </a:lnTo>
                  <a:lnTo>
                    <a:pt x="90" y="24"/>
                  </a:lnTo>
                  <a:lnTo>
                    <a:pt x="92" y="24"/>
                  </a:lnTo>
                  <a:lnTo>
                    <a:pt x="93" y="22"/>
                  </a:lnTo>
                  <a:lnTo>
                    <a:pt x="104" y="32"/>
                  </a:lnTo>
                  <a:lnTo>
                    <a:pt x="109" y="42"/>
                  </a:lnTo>
                  <a:lnTo>
                    <a:pt x="110" y="49"/>
                  </a:lnTo>
                  <a:lnTo>
                    <a:pt x="110" y="54"/>
                  </a:lnTo>
                  <a:lnTo>
                    <a:pt x="110" y="56"/>
                  </a:lnTo>
                  <a:lnTo>
                    <a:pt x="110" y="58"/>
                  </a:lnTo>
                  <a:lnTo>
                    <a:pt x="112" y="58"/>
                  </a:lnTo>
                  <a:lnTo>
                    <a:pt x="112" y="56"/>
                  </a:lnTo>
                  <a:lnTo>
                    <a:pt x="117" y="51"/>
                  </a:lnTo>
                  <a:lnTo>
                    <a:pt x="128" y="41"/>
                  </a:lnTo>
                  <a:lnTo>
                    <a:pt x="138" y="41"/>
                  </a:lnTo>
                  <a:lnTo>
                    <a:pt x="147" y="42"/>
                  </a:lnTo>
                  <a:lnTo>
                    <a:pt x="152" y="42"/>
                  </a:lnTo>
                  <a:lnTo>
                    <a:pt x="155" y="44"/>
                  </a:lnTo>
                  <a:lnTo>
                    <a:pt x="159" y="48"/>
                  </a:lnTo>
                  <a:lnTo>
                    <a:pt x="162" y="51"/>
                  </a:lnTo>
                  <a:lnTo>
                    <a:pt x="166" y="56"/>
                  </a:lnTo>
                  <a:lnTo>
                    <a:pt x="173" y="65"/>
                  </a:lnTo>
                  <a:lnTo>
                    <a:pt x="160" y="71"/>
                  </a:lnTo>
                  <a:lnTo>
                    <a:pt x="155" y="77"/>
                  </a:lnTo>
                  <a:lnTo>
                    <a:pt x="154" y="77"/>
                  </a:lnTo>
                  <a:lnTo>
                    <a:pt x="154" y="78"/>
                  </a:lnTo>
                  <a:lnTo>
                    <a:pt x="155" y="78"/>
                  </a:lnTo>
                  <a:lnTo>
                    <a:pt x="157" y="78"/>
                  </a:lnTo>
                  <a:lnTo>
                    <a:pt x="164" y="80"/>
                  </a:lnTo>
                  <a:lnTo>
                    <a:pt x="173" y="82"/>
                  </a:lnTo>
                  <a:lnTo>
                    <a:pt x="183" y="87"/>
                  </a:lnTo>
                  <a:lnTo>
                    <a:pt x="193" y="97"/>
                  </a:lnTo>
                  <a:lnTo>
                    <a:pt x="190" y="100"/>
                  </a:lnTo>
                  <a:lnTo>
                    <a:pt x="186" y="102"/>
                  </a:lnTo>
                  <a:lnTo>
                    <a:pt x="183" y="106"/>
                  </a:lnTo>
                  <a:lnTo>
                    <a:pt x="178" y="109"/>
                  </a:lnTo>
                  <a:lnTo>
                    <a:pt x="174" y="112"/>
                  </a:lnTo>
                  <a:lnTo>
                    <a:pt x="171" y="114"/>
                  </a:lnTo>
                  <a:lnTo>
                    <a:pt x="167" y="116"/>
                  </a:lnTo>
                  <a:lnTo>
                    <a:pt x="164" y="118"/>
                  </a:lnTo>
                  <a:lnTo>
                    <a:pt x="167" y="118"/>
                  </a:lnTo>
                  <a:lnTo>
                    <a:pt x="171" y="119"/>
                  </a:lnTo>
                  <a:lnTo>
                    <a:pt x="174" y="119"/>
                  </a:lnTo>
                  <a:lnTo>
                    <a:pt x="178" y="119"/>
                  </a:lnTo>
                  <a:lnTo>
                    <a:pt x="183" y="121"/>
                  </a:lnTo>
                  <a:lnTo>
                    <a:pt x="186" y="121"/>
                  </a:lnTo>
                  <a:lnTo>
                    <a:pt x="190" y="123"/>
                  </a:lnTo>
                  <a:lnTo>
                    <a:pt x="193" y="124"/>
                  </a:lnTo>
                  <a:lnTo>
                    <a:pt x="191" y="128"/>
                  </a:lnTo>
                  <a:lnTo>
                    <a:pt x="190" y="131"/>
                  </a:lnTo>
                  <a:lnTo>
                    <a:pt x="188" y="135"/>
                  </a:lnTo>
                  <a:lnTo>
                    <a:pt x="185" y="138"/>
                  </a:lnTo>
                  <a:lnTo>
                    <a:pt x="183" y="141"/>
                  </a:lnTo>
                  <a:lnTo>
                    <a:pt x="179" y="145"/>
                  </a:lnTo>
                  <a:lnTo>
                    <a:pt x="178" y="148"/>
                  </a:lnTo>
                  <a:lnTo>
                    <a:pt x="176" y="150"/>
                  </a:lnTo>
                  <a:lnTo>
                    <a:pt x="191" y="150"/>
                  </a:lnTo>
                  <a:lnTo>
                    <a:pt x="204" y="150"/>
                  </a:lnTo>
                  <a:lnTo>
                    <a:pt x="214" y="148"/>
                  </a:lnTo>
                  <a:lnTo>
                    <a:pt x="223" y="148"/>
                  </a:lnTo>
                  <a:lnTo>
                    <a:pt x="231" y="150"/>
                  </a:lnTo>
                  <a:lnTo>
                    <a:pt x="238" y="152"/>
                  </a:lnTo>
                  <a:lnTo>
                    <a:pt x="247" y="157"/>
                  </a:lnTo>
                  <a:lnTo>
                    <a:pt x="254" y="165"/>
                  </a:lnTo>
                  <a:lnTo>
                    <a:pt x="250" y="171"/>
                  </a:lnTo>
                  <a:lnTo>
                    <a:pt x="247" y="176"/>
                  </a:lnTo>
                  <a:lnTo>
                    <a:pt x="243" y="179"/>
                  </a:lnTo>
                  <a:lnTo>
                    <a:pt x="238" y="182"/>
                  </a:lnTo>
                  <a:lnTo>
                    <a:pt x="235" y="186"/>
                  </a:lnTo>
                  <a:lnTo>
                    <a:pt x="231" y="189"/>
                  </a:lnTo>
                  <a:lnTo>
                    <a:pt x="228" y="193"/>
                  </a:lnTo>
                  <a:lnTo>
                    <a:pt x="226" y="196"/>
                  </a:lnTo>
                  <a:lnTo>
                    <a:pt x="229" y="196"/>
                  </a:lnTo>
                  <a:lnTo>
                    <a:pt x="233" y="196"/>
                  </a:lnTo>
                  <a:lnTo>
                    <a:pt x="238" y="198"/>
                  </a:lnTo>
                  <a:lnTo>
                    <a:pt x="241" y="200"/>
                  </a:lnTo>
                  <a:lnTo>
                    <a:pt x="245" y="200"/>
                  </a:lnTo>
                  <a:lnTo>
                    <a:pt x="248" y="201"/>
                  </a:lnTo>
                  <a:lnTo>
                    <a:pt x="250" y="203"/>
                  </a:lnTo>
                  <a:lnTo>
                    <a:pt x="254" y="205"/>
                  </a:lnTo>
                  <a:lnTo>
                    <a:pt x="254" y="208"/>
                  </a:lnTo>
                  <a:lnTo>
                    <a:pt x="254" y="212"/>
                  </a:lnTo>
                  <a:lnTo>
                    <a:pt x="254" y="215"/>
                  </a:lnTo>
                  <a:lnTo>
                    <a:pt x="254" y="220"/>
                  </a:lnTo>
                  <a:lnTo>
                    <a:pt x="254" y="223"/>
                  </a:lnTo>
                  <a:lnTo>
                    <a:pt x="254" y="229"/>
                  </a:lnTo>
                  <a:lnTo>
                    <a:pt x="254" y="232"/>
                  </a:lnTo>
                  <a:lnTo>
                    <a:pt x="254" y="237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987560" y="2281320"/>
              <a:ext cx="7920" cy="17280"/>
            </a:xfrm>
            <a:custGeom>
              <a:avLst/>
              <a:gdLst/>
              <a:ahLst/>
              <a:rect l="l" t="t" r="r" b="b"/>
              <a:pathLst>
                <a:path w="12" h="29">
                  <a:moveTo>
                    <a:pt x="7" y="5"/>
                  </a:moveTo>
                  <a:lnTo>
                    <a:pt x="7" y="7"/>
                  </a:lnTo>
                  <a:lnTo>
                    <a:pt x="7" y="8"/>
                  </a:lnTo>
                  <a:lnTo>
                    <a:pt x="7" y="10"/>
                  </a:lnTo>
                  <a:lnTo>
                    <a:pt x="7" y="12"/>
                  </a:lnTo>
                  <a:lnTo>
                    <a:pt x="7" y="13"/>
                  </a:lnTo>
                  <a:lnTo>
                    <a:pt x="9" y="17"/>
                  </a:lnTo>
                  <a:lnTo>
                    <a:pt x="10" y="19"/>
                  </a:lnTo>
                  <a:lnTo>
                    <a:pt x="12" y="20"/>
                  </a:lnTo>
                  <a:lnTo>
                    <a:pt x="10" y="22"/>
                  </a:lnTo>
                  <a:lnTo>
                    <a:pt x="10" y="24"/>
                  </a:lnTo>
                  <a:lnTo>
                    <a:pt x="9" y="24"/>
                  </a:lnTo>
                  <a:lnTo>
                    <a:pt x="7" y="25"/>
                  </a:lnTo>
                  <a:lnTo>
                    <a:pt x="7" y="25"/>
                  </a:lnTo>
                  <a:lnTo>
                    <a:pt x="5" y="27"/>
                  </a:lnTo>
                  <a:lnTo>
                    <a:pt x="5" y="27"/>
                  </a:lnTo>
                  <a:lnTo>
                    <a:pt x="3" y="29"/>
                  </a:lnTo>
                  <a:lnTo>
                    <a:pt x="3" y="25"/>
                  </a:lnTo>
                  <a:lnTo>
                    <a:pt x="2" y="24"/>
                  </a:lnTo>
                  <a:lnTo>
                    <a:pt x="2" y="20"/>
                  </a:lnTo>
                  <a:lnTo>
                    <a:pt x="3" y="19"/>
                  </a:lnTo>
                  <a:lnTo>
                    <a:pt x="3" y="15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3" y="3"/>
                  </a:lnTo>
                  <a:lnTo>
                    <a:pt x="5" y="3"/>
                  </a:lnTo>
                  <a:lnTo>
                    <a:pt x="7" y="3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46160" y="2284560"/>
              <a:ext cx="20880" cy="58680"/>
            </a:xfrm>
            <a:custGeom>
              <a:avLst/>
              <a:gdLst/>
              <a:ahLst/>
              <a:rect l="l" t="t" r="r" b="b"/>
              <a:pathLst>
                <a:path w="31" h="92">
                  <a:moveTo>
                    <a:pt x="31" y="15"/>
                  </a:moveTo>
                  <a:lnTo>
                    <a:pt x="31" y="20"/>
                  </a:lnTo>
                  <a:lnTo>
                    <a:pt x="31" y="25"/>
                  </a:lnTo>
                  <a:lnTo>
                    <a:pt x="29" y="30"/>
                  </a:lnTo>
                  <a:lnTo>
                    <a:pt x="26" y="34"/>
                  </a:lnTo>
                  <a:lnTo>
                    <a:pt x="24" y="37"/>
                  </a:lnTo>
                  <a:lnTo>
                    <a:pt x="21" y="42"/>
                  </a:lnTo>
                  <a:lnTo>
                    <a:pt x="17" y="46"/>
                  </a:lnTo>
                  <a:lnTo>
                    <a:pt x="15" y="49"/>
                  </a:lnTo>
                  <a:lnTo>
                    <a:pt x="15" y="54"/>
                  </a:lnTo>
                  <a:lnTo>
                    <a:pt x="15" y="59"/>
                  </a:lnTo>
                  <a:lnTo>
                    <a:pt x="15" y="66"/>
                  </a:lnTo>
                  <a:lnTo>
                    <a:pt x="15" y="71"/>
                  </a:lnTo>
                  <a:lnTo>
                    <a:pt x="15" y="76"/>
                  </a:lnTo>
                  <a:lnTo>
                    <a:pt x="14" y="83"/>
                  </a:lnTo>
                  <a:lnTo>
                    <a:pt x="12" y="87"/>
                  </a:lnTo>
                  <a:lnTo>
                    <a:pt x="10" y="92"/>
                  </a:lnTo>
                  <a:lnTo>
                    <a:pt x="9" y="92"/>
                  </a:lnTo>
                  <a:lnTo>
                    <a:pt x="9" y="90"/>
                  </a:lnTo>
                  <a:lnTo>
                    <a:pt x="9" y="90"/>
                  </a:lnTo>
                  <a:lnTo>
                    <a:pt x="9" y="90"/>
                  </a:lnTo>
                  <a:lnTo>
                    <a:pt x="9" y="90"/>
                  </a:lnTo>
                  <a:lnTo>
                    <a:pt x="7" y="90"/>
                  </a:lnTo>
                  <a:lnTo>
                    <a:pt x="7" y="90"/>
                  </a:lnTo>
                  <a:lnTo>
                    <a:pt x="7" y="90"/>
                  </a:lnTo>
                  <a:lnTo>
                    <a:pt x="9" y="85"/>
                  </a:lnTo>
                  <a:lnTo>
                    <a:pt x="10" y="80"/>
                  </a:lnTo>
                  <a:lnTo>
                    <a:pt x="9" y="73"/>
                  </a:lnTo>
                  <a:lnTo>
                    <a:pt x="9" y="68"/>
                  </a:lnTo>
                  <a:lnTo>
                    <a:pt x="7" y="63"/>
                  </a:lnTo>
                  <a:lnTo>
                    <a:pt x="5" y="58"/>
                  </a:lnTo>
                  <a:lnTo>
                    <a:pt x="5" y="53"/>
                  </a:lnTo>
                  <a:lnTo>
                    <a:pt x="3" y="47"/>
                  </a:lnTo>
                  <a:lnTo>
                    <a:pt x="7" y="46"/>
                  </a:lnTo>
                  <a:lnTo>
                    <a:pt x="10" y="44"/>
                  </a:lnTo>
                  <a:lnTo>
                    <a:pt x="12" y="42"/>
                  </a:lnTo>
                  <a:lnTo>
                    <a:pt x="14" y="39"/>
                  </a:lnTo>
                  <a:lnTo>
                    <a:pt x="17" y="37"/>
                  </a:lnTo>
                  <a:lnTo>
                    <a:pt x="19" y="34"/>
                  </a:lnTo>
                  <a:lnTo>
                    <a:pt x="21" y="30"/>
                  </a:lnTo>
                  <a:lnTo>
                    <a:pt x="24" y="29"/>
                  </a:lnTo>
                  <a:lnTo>
                    <a:pt x="26" y="25"/>
                  </a:lnTo>
                  <a:lnTo>
                    <a:pt x="26" y="22"/>
                  </a:lnTo>
                  <a:lnTo>
                    <a:pt x="24" y="18"/>
                  </a:lnTo>
                  <a:lnTo>
                    <a:pt x="22" y="17"/>
                  </a:lnTo>
                  <a:lnTo>
                    <a:pt x="21" y="13"/>
                  </a:lnTo>
                  <a:lnTo>
                    <a:pt x="17" y="12"/>
                  </a:lnTo>
                  <a:lnTo>
                    <a:pt x="15" y="10"/>
                  </a:lnTo>
                  <a:lnTo>
                    <a:pt x="12" y="8"/>
                  </a:lnTo>
                  <a:lnTo>
                    <a:pt x="0" y="5"/>
                  </a:lnTo>
                  <a:lnTo>
                    <a:pt x="2" y="1"/>
                  </a:lnTo>
                  <a:lnTo>
                    <a:pt x="5" y="0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5" y="3"/>
                  </a:lnTo>
                  <a:lnTo>
                    <a:pt x="19" y="5"/>
                  </a:lnTo>
                  <a:lnTo>
                    <a:pt x="22" y="6"/>
                  </a:lnTo>
                  <a:lnTo>
                    <a:pt x="26" y="6"/>
                  </a:lnTo>
                  <a:lnTo>
                    <a:pt x="3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827360" y="2340000"/>
              <a:ext cx="4680" cy="1116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8" y="7"/>
                  </a:moveTo>
                  <a:lnTo>
                    <a:pt x="8" y="8"/>
                  </a:lnTo>
                  <a:lnTo>
                    <a:pt x="8" y="8"/>
                  </a:lnTo>
                  <a:lnTo>
                    <a:pt x="6" y="10"/>
                  </a:lnTo>
                  <a:lnTo>
                    <a:pt x="6" y="12"/>
                  </a:lnTo>
                  <a:lnTo>
                    <a:pt x="6" y="13"/>
                  </a:lnTo>
                  <a:lnTo>
                    <a:pt x="5" y="15"/>
                  </a:lnTo>
                  <a:lnTo>
                    <a:pt x="3" y="15"/>
                  </a:lnTo>
                  <a:lnTo>
                    <a:pt x="3" y="17"/>
                  </a:lnTo>
                  <a:lnTo>
                    <a:pt x="3" y="15"/>
                  </a:lnTo>
                  <a:lnTo>
                    <a:pt x="3" y="15"/>
                  </a:lnTo>
                  <a:lnTo>
                    <a:pt x="5" y="13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5" y="8"/>
                  </a:lnTo>
                  <a:lnTo>
                    <a:pt x="3" y="7"/>
                  </a:lnTo>
                  <a:lnTo>
                    <a:pt x="3" y="5"/>
                  </a:lnTo>
                  <a:lnTo>
                    <a:pt x="1" y="5"/>
                  </a:lnTo>
                  <a:lnTo>
                    <a:pt x="1" y="3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3" y="1"/>
                  </a:lnTo>
                  <a:lnTo>
                    <a:pt x="3" y="3"/>
                  </a:lnTo>
                  <a:lnTo>
                    <a:pt x="5" y="3"/>
                  </a:lnTo>
                  <a:lnTo>
                    <a:pt x="6" y="5"/>
                  </a:lnTo>
                  <a:lnTo>
                    <a:pt x="6" y="5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b2b2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847880" y="2368440"/>
              <a:ext cx="120600" cy="32040"/>
            </a:xfrm>
            <a:custGeom>
              <a:avLst/>
              <a:gdLst/>
              <a:ahLst/>
              <a:rect l="l" t="t" r="r" b="b"/>
              <a:pathLst>
                <a:path w="173" h="50">
                  <a:moveTo>
                    <a:pt x="100" y="50"/>
                  </a:moveTo>
                  <a:lnTo>
                    <a:pt x="100" y="50"/>
                  </a:lnTo>
                  <a:lnTo>
                    <a:pt x="100" y="48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02" y="46"/>
                  </a:lnTo>
                  <a:lnTo>
                    <a:pt x="102" y="46"/>
                  </a:lnTo>
                  <a:lnTo>
                    <a:pt x="102" y="46"/>
                  </a:lnTo>
                  <a:lnTo>
                    <a:pt x="104" y="46"/>
                  </a:lnTo>
                  <a:lnTo>
                    <a:pt x="104" y="46"/>
                  </a:lnTo>
                  <a:lnTo>
                    <a:pt x="104" y="46"/>
                  </a:lnTo>
                  <a:lnTo>
                    <a:pt x="104" y="46"/>
                  </a:lnTo>
                  <a:lnTo>
                    <a:pt x="104" y="46"/>
                  </a:lnTo>
                  <a:lnTo>
                    <a:pt x="104" y="46"/>
                  </a:lnTo>
                  <a:lnTo>
                    <a:pt x="104" y="46"/>
                  </a:lnTo>
                  <a:lnTo>
                    <a:pt x="104" y="46"/>
                  </a:lnTo>
                  <a:lnTo>
                    <a:pt x="104" y="46"/>
                  </a:lnTo>
                  <a:lnTo>
                    <a:pt x="104" y="46"/>
                  </a:lnTo>
                  <a:lnTo>
                    <a:pt x="104" y="46"/>
                  </a:lnTo>
                  <a:lnTo>
                    <a:pt x="104" y="48"/>
                  </a:lnTo>
                  <a:lnTo>
                    <a:pt x="104" y="48"/>
                  </a:lnTo>
                  <a:lnTo>
                    <a:pt x="104" y="48"/>
                  </a:lnTo>
                  <a:lnTo>
                    <a:pt x="104" y="48"/>
                  </a:lnTo>
                  <a:lnTo>
                    <a:pt x="104" y="48"/>
                  </a:lnTo>
                  <a:lnTo>
                    <a:pt x="102" y="48"/>
                  </a:lnTo>
                  <a:lnTo>
                    <a:pt x="102" y="48"/>
                  </a:lnTo>
                  <a:lnTo>
                    <a:pt x="102" y="50"/>
                  </a:lnTo>
                  <a:lnTo>
                    <a:pt x="102" y="50"/>
                  </a:lnTo>
                  <a:lnTo>
                    <a:pt x="102" y="50"/>
                  </a:lnTo>
                  <a:lnTo>
                    <a:pt x="100" y="50"/>
                  </a:lnTo>
                  <a:lnTo>
                    <a:pt x="100" y="50"/>
                  </a:lnTo>
                  <a:lnTo>
                    <a:pt x="100" y="50"/>
                  </a:lnTo>
                  <a:close/>
                  <a:moveTo>
                    <a:pt x="171" y="33"/>
                  </a:moveTo>
                  <a:lnTo>
                    <a:pt x="171" y="33"/>
                  </a:lnTo>
                  <a:lnTo>
                    <a:pt x="171" y="33"/>
                  </a:lnTo>
                  <a:lnTo>
                    <a:pt x="171" y="33"/>
                  </a:lnTo>
                  <a:lnTo>
                    <a:pt x="171" y="33"/>
                  </a:lnTo>
                  <a:lnTo>
                    <a:pt x="171" y="33"/>
                  </a:lnTo>
                  <a:lnTo>
                    <a:pt x="171" y="33"/>
                  </a:lnTo>
                  <a:lnTo>
                    <a:pt x="171" y="33"/>
                  </a:lnTo>
                  <a:lnTo>
                    <a:pt x="171" y="33"/>
                  </a:lnTo>
                  <a:lnTo>
                    <a:pt x="169" y="31"/>
                  </a:lnTo>
                  <a:lnTo>
                    <a:pt x="169" y="29"/>
                  </a:lnTo>
                  <a:lnTo>
                    <a:pt x="169" y="27"/>
                  </a:lnTo>
                  <a:lnTo>
                    <a:pt x="169" y="26"/>
                  </a:lnTo>
                  <a:lnTo>
                    <a:pt x="169" y="24"/>
                  </a:lnTo>
                  <a:lnTo>
                    <a:pt x="169" y="22"/>
                  </a:lnTo>
                  <a:lnTo>
                    <a:pt x="169" y="21"/>
                  </a:lnTo>
                  <a:lnTo>
                    <a:pt x="169" y="19"/>
                  </a:lnTo>
                  <a:lnTo>
                    <a:pt x="169" y="21"/>
                  </a:lnTo>
                  <a:lnTo>
                    <a:pt x="171" y="22"/>
                  </a:lnTo>
                  <a:lnTo>
                    <a:pt x="171" y="22"/>
                  </a:lnTo>
                  <a:lnTo>
                    <a:pt x="171" y="24"/>
                  </a:lnTo>
                  <a:lnTo>
                    <a:pt x="173" y="26"/>
                  </a:lnTo>
                  <a:lnTo>
                    <a:pt x="173" y="26"/>
                  </a:lnTo>
                  <a:lnTo>
                    <a:pt x="173" y="27"/>
                  </a:lnTo>
                  <a:lnTo>
                    <a:pt x="173" y="29"/>
                  </a:lnTo>
                  <a:lnTo>
                    <a:pt x="173" y="29"/>
                  </a:lnTo>
                  <a:lnTo>
                    <a:pt x="173" y="29"/>
                  </a:lnTo>
                  <a:lnTo>
                    <a:pt x="173" y="31"/>
                  </a:lnTo>
                  <a:lnTo>
                    <a:pt x="171" y="31"/>
                  </a:lnTo>
                  <a:lnTo>
                    <a:pt x="171" y="31"/>
                  </a:lnTo>
                  <a:lnTo>
                    <a:pt x="171" y="31"/>
                  </a:lnTo>
                  <a:lnTo>
                    <a:pt x="171" y="33"/>
                  </a:lnTo>
                  <a:lnTo>
                    <a:pt x="171" y="33"/>
                  </a:lnTo>
                  <a:close/>
                  <a:moveTo>
                    <a:pt x="0" y="2"/>
                  </a:moveTo>
                  <a:lnTo>
                    <a:pt x="2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9" y="14"/>
                  </a:lnTo>
                  <a:lnTo>
                    <a:pt x="16" y="12"/>
                  </a:lnTo>
                  <a:lnTo>
                    <a:pt x="14" y="10"/>
                  </a:lnTo>
                  <a:lnTo>
                    <a:pt x="12" y="9"/>
                  </a:lnTo>
                  <a:lnTo>
                    <a:pt x="9" y="9"/>
                  </a:lnTo>
                  <a:lnTo>
                    <a:pt x="7" y="7"/>
                  </a:lnTo>
                  <a:lnTo>
                    <a:pt x="6" y="5"/>
                  </a:lnTo>
                  <a:lnTo>
                    <a:pt x="2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2b2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827360" y="2232000"/>
              <a:ext cx="101520" cy="142920"/>
            </a:xfrm>
            <a:custGeom>
              <a:avLst/>
              <a:gdLst/>
              <a:ahLst/>
              <a:rect l="l" t="t" r="r" b="b"/>
              <a:pathLst>
                <a:path w="148" h="227">
                  <a:moveTo>
                    <a:pt x="31" y="9"/>
                  </a:moveTo>
                  <a:lnTo>
                    <a:pt x="39" y="5"/>
                  </a:lnTo>
                  <a:lnTo>
                    <a:pt x="46" y="4"/>
                  </a:lnTo>
                  <a:lnTo>
                    <a:pt x="51" y="2"/>
                  </a:lnTo>
                  <a:lnTo>
                    <a:pt x="55" y="0"/>
                  </a:lnTo>
                  <a:lnTo>
                    <a:pt x="60" y="0"/>
                  </a:lnTo>
                  <a:lnTo>
                    <a:pt x="63" y="2"/>
                  </a:lnTo>
                  <a:lnTo>
                    <a:pt x="70" y="5"/>
                  </a:lnTo>
                  <a:lnTo>
                    <a:pt x="77" y="9"/>
                  </a:lnTo>
                  <a:lnTo>
                    <a:pt x="77" y="12"/>
                  </a:lnTo>
                  <a:lnTo>
                    <a:pt x="77" y="16"/>
                  </a:lnTo>
                  <a:lnTo>
                    <a:pt x="77" y="17"/>
                  </a:lnTo>
                  <a:lnTo>
                    <a:pt x="75" y="21"/>
                  </a:lnTo>
                  <a:lnTo>
                    <a:pt x="75" y="24"/>
                  </a:lnTo>
                  <a:lnTo>
                    <a:pt x="74" y="27"/>
                  </a:lnTo>
                  <a:lnTo>
                    <a:pt x="74" y="31"/>
                  </a:lnTo>
                  <a:lnTo>
                    <a:pt x="72" y="33"/>
                  </a:lnTo>
                  <a:lnTo>
                    <a:pt x="77" y="33"/>
                  </a:lnTo>
                  <a:lnTo>
                    <a:pt x="81" y="34"/>
                  </a:lnTo>
                  <a:lnTo>
                    <a:pt x="86" y="34"/>
                  </a:lnTo>
                  <a:lnTo>
                    <a:pt x="91" y="36"/>
                  </a:lnTo>
                  <a:lnTo>
                    <a:pt x="96" y="38"/>
                  </a:lnTo>
                  <a:lnTo>
                    <a:pt x="101" y="38"/>
                  </a:lnTo>
                  <a:lnTo>
                    <a:pt x="106" y="39"/>
                  </a:lnTo>
                  <a:lnTo>
                    <a:pt x="112" y="39"/>
                  </a:lnTo>
                  <a:lnTo>
                    <a:pt x="112" y="50"/>
                  </a:lnTo>
                  <a:lnTo>
                    <a:pt x="112" y="58"/>
                  </a:lnTo>
                  <a:lnTo>
                    <a:pt x="112" y="65"/>
                  </a:lnTo>
                  <a:lnTo>
                    <a:pt x="110" y="70"/>
                  </a:lnTo>
                  <a:lnTo>
                    <a:pt x="108" y="75"/>
                  </a:lnTo>
                  <a:lnTo>
                    <a:pt x="105" y="80"/>
                  </a:lnTo>
                  <a:lnTo>
                    <a:pt x="98" y="87"/>
                  </a:lnTo>
                  <a:lnTo>
                    <a:pt x="89" y="92"/>
                  </a:lnTo>
                  <a:lnTo>
                    <a:pt x="98" y="92"/>
                  </a:lnTo>
                  <a:lnTo>
                    <a:pt x="105" y="94"/>
                  </a:lnTo>
                  <a:lnTo>
                    <a:pt x="113" y="94"/>
                  </a:lnTo>
                  <a:lnTo>
                    <a:pt x="120" y="96"/>
                  </a:lnTo>
                  <a:lnTo>
                    <a:pt x="127" y="98"/>
                  </a:lnTo>
                  <a:lnTo>
                    <a:pt x="134" y="101"/>
                  </a:lnTo>
                  <a:lnTo>
                    <a:pt x="141" y="104"/>
                  </a:lnTo>
                  <a:lnTo>
                    <a:pt x="148" y="108"/>
                  </a:lnTo>
                  <a:lnTo>
                    <a:pt x="144" y="116"/>
                  </a:lnTo>
                  <a:lnTo>
                    <a:pt x="141" y="125"/>
                  </a:lnTo>
                  <a:lnTo>
                    <a:pt x="137" y="130"/>
                  </a:lnTo>
                  <a:lnTo>
                    <a:pt x="134" y="135"/>
                  </a:lnTo>
                  <a:lnTo>
                    <a:pt x="127" y="139"/>
                  </a:lnTo>
                  <a:lnTo>
                    <a:pt x="120" y="140"/>
                  </a:lnTo>
                  <a:lnTo>
                    <a:pt x="110" y="142"/>
                  </a:lnTo>
                  <a:lnTo>
                    <a:pt x="100" y="144"/>
                  </a:lnTo>
                  <a:lnTo>
                    <a:pt x="106" y="144"/>
                  </a:lnTo>
                  <a:lnTo>
                    <a:pt x="113" y="145"/>
                  </a:lnTo>
                  <a:lnTo>
                    <a:pt x="119" y="149"/>
                  </a:lnTo>
                  <a:lnTo>
                    <a:pt x="124" y="152"/>
                  </a:lnTo>
                  <a:lnTo>
                    <a:pt x="127" y="156"/>
                  </a:lnTo>
                  <a:lnTo>
                    <a:pt x="131" y="161"/>
                  </a:lnTo>
                  <a:lnTo>
                    <a:pt x="132" y="168"/>
                  </a:lnTo>
                  <a:lnTo>
                    <a:pt x="132" y="173"/>
                  </a:lnTo>
                  <a:lnTo>
                    <a:pt x="125" y="176"/>
                  </a:lnTo>
                  <a:lnTo>
                    <a:pt x="120" y="178"/>
                  </a:lnTo>
                  <a:lnTo>
                    <a:pt x="113" y="178"/>
                  </a:lnTo>
                  <a:lnTo>
                    <a:pt x="106" y="180"/>
                  </a:lnTo>
                  <a:lnTo>
                    <a:pt x="101" y="181"/>
                  </a:lnTo>
                  <a:lnTo>
                    <a:pt x="96" y="181"/>
                  </a:lnTo>
                  <a:lnTo>
                    <a:pt x="91" y="181"/>
                  </a:lnTo>
                  <a:lnTo>
                    <a:pt x="88" y="183"/>
                  </a:lnTo>
                  <a:lnTo>
                    <a:pt x="89" y="185"/>
                  </a:lnTo>
                  <a:lnTo>
                    <a:pt x="91" y="186"/>
                  </a:lnTo>
                  <a:lnTo>
                    <a:pt x="93" y="190"/>
                  </a:lnTo>
                  <a:lnTo>
                    <a:pt x="93" y="193"/>
                  </a:lnTo>
                  <a:lnTo>
                    <a:pt x="91" y="200"/>
                  </a:lnTo>
                  <a:lnTo>
                    <a:pt x="88" y="209"/>
                  </a:lnTo>
                  <a:lnTo>
                    <a:pt x="82" y="215"/>
                  </a:lnTo>
                  <a:lnTo>
                    <a:pt x="75" y="221"/>
                  </a:lnTo>
                  <a:lnTo>
                    <a:pt x="69" y="226"/>
                  </a:lnTo>
                  <a:lnTo>
                    <a:pt x="63" y="227"/>
                  </a:lnTo>
                  <a:lnTo>
                    <a:pt x="63" y="224"/>
                  </a:lnTo>
                  <a:lnTo>
                    <a:pt x="63" y="215"/>
                  </a:lnTo>
                  <a:lnTo>
                    <a:pt x="56" y="212"/>
                  </a:lnTo>
                  <a:lnTo>
                    <a:pt x="46" y="212"/>
                  </a:lnTo>
                  <a:lnTo>
                    <a:pt x="38" y="212"/>
                  </a:lnTo>
                  <a:lnTo>
                    <a:pt x="29" y="214"/>
                  </a:lnTo>
                  <a:lnTo>
                    <a:pt x="22" y="212"/>
                  </a:lnTo>
                  <a:lnTo>
                    <a:pt x="17" y="209"/>
                  </a:lnTo>
                  <a:lnTo>
                    <a:pt x="13" y="205"/>
                  </a:lnTo>
                  <a:lnTo>
                    <a:pt x="10" y="197"/>
                  </a:lnTo>
                  <a:lnTo>
                    <a:pt x="8" y="185"/>
                  </a:lnTo>
                  <a:lnTo>
                    <a:pt x="10" y="185"/>
                  </a:lnTo>
                  <a:lnTo>
                    <a:pt x="10" y="185"/>
                  </a:lnTo>
                  <a:lnTo>
                    <a:pt x="10" y="183"/>
                  </a:lnTo>
                  <a:lnTo>
                    <a:pt x="12" y="181"/>
                  </a:lnTo>
                  <a:lnTo>
                    <a:pt x="13" y="180"/>
                  </a:lnTo>
                  <a:lnTo>
                    <a:pt x="13" y="180"/>
                  </a:lnTo>
                  <a:lnTo>
                    <a:pt x="15" y="178"/>
                  </a:lnTo>
                  <a:lnTo>
                    <a:pt x="15" y="176"/>
                  </a:lnTo>
                  <a:lnTo>
                    <a:pt x="8" y="173"/>
                  </a:lnTo>
                  <a:lnTo>
                    <a:pt x="3" y="168"/>
                  </a:lnTo>
                  <a:lnTo>
                    <a:pt x="1" y="164"/>
                  </a:lnTo>
                  <a:lnTo>
                    <a:pt x="0" y="159"/>
                  </a:lnTo>
                  <a:lnTo>
                    <a:pt x="0" y="152"/>
                  </a:lnTo>
                  <a:lnTo>
                    <a:pt x="0" y="145"/>
                  </a:lnTo>
                  <a:lnTo>
                    <a:pt x="0" y="139"/>
                  </a:lnTo>
                  <a:lnTo>
                    <a:pt x="0" y="132"/>
                  </a:lnTo>
                  <a:lnTo>
                    <a:pt x="3" y="130"/>
                  </a:lnTo>
                  <a:lnTo>
                    <a:pt x="5" y="128"/>
                  </a:lnTo>
                  <a:lnTo>
                    <a:pt x="8" y="127"/>
                  </a:lnTo>
                  <a:lnTo>
                    <a:pt x="12" y="123"/>
                  </a:lnTo>
                  <a:lnTo>
                    <a:pt x="15" y="120"/>
                  </a:lnTo>
                  <a:lnTo>
                    <a:pt x="20" y="118"/>
                  </a:lnTo>
                  <a:lnTo>
                    <a:pt x="24" y="115"/>
                  </a:lnTo>
                  <a:lnTo>
                    <a:pt x="27" y="113"/>
                  </a:lnTo>
                  <a:lnTo>
                    <a:pt x="27" y="109"/>
                  </a:lnTo>
                  <a:lnTo>
                    <a:pt x="25" y="104"/>
                  </a:lnTo>
                  <a:lnTo>
                    <a:pt x="24" y="99"/>
                  </a:lnTo>
                  <a:lnTo>
                    <a:pt x="22" y="94"/>
                  </a:lnTo>
                  <a:lnTo>
                    <a:pt x="20" y="89"/>
                  </a:lnTo>
                  <a:lnTo>
                    <a:pt x="19" y="84"/>
                  </a:lnTo>
                  <a:lnTo>
                    <a:pt x="19" y="79"/>
                  </a:lnTo>
                  <a:lnTo>
                    <a:pt x="19" y="75"/>
                  </a:lnTo>
                  <a:lnTo>
                    <a:pt x="24" y="68"/>
                  </a:lnTo>
                  <a:lnTo>
                    <a:pt x="29" y="63"/>
                  </a:lnTo>
                  <a:lnTo>
                    <a:pt x="34" y="60"/>
                  </a:lnTo>
                  <a:lnTo>
                    <a:pt x="39" y="55"/>
                  </a:lnTo>
                  <a:lnTo>
                    <a:pt x="44" y="53"/>
                  </a:lnTo>
                  <a:lnTo>
                    <a:pt x="50" y="50"/>
                  </a:lnTo>
                  <a:lnTo>
                    <a:pt x="58" y="48"/>
                  </a:lnTo>
                  <a:lnTo>
                    <a:pt x="67" y="45"/>
                  </a:lnTo>
                  <a:lnTo>
                    <a:pt x="60" y="43"/>
                  </a:lnTo>
                  <a:lnTo>
                    <a:pt x="53" y="39"/>
                  </a:lnTo>
                  <a:lnTo>
                    <a:pt x="48" y="34"/>
                  </a:lnTo>
                  <a:lnTo>
                    <a:pt x="41" y="31"/>
                  </a:lnTo>
                  <a:lnTo>
                    <a:pt x="36" y="26"/>
                  </a:lnTo>
                  <a:lnTo>
                    <a:pt x="32" y="21"/>
                  </a:lnTo>
                  <a:lnTo>
                    <a:pt x="31" y="16"/>
                  </a:lnTo>
                  <a:lnTo>
                    <a:pt x="31" y="9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827360" y="2232000"/>
              <a:ext cx="101520" cy="142920"/>
            </a:xfrm>
            <a:custGeom>
              <a:avLst/>
              <a:gdLst/>
              <a:ahLst/>
              <a:rect l="l" t="t" r="r" b="b"/>
              <a:pathLst>
                <a:path w="148" h="227">
                  <a:moveTo>
                    <a:pt x="31" y="9"/>
                  </a:moveTo>
                  <a:lnTo>
                    <a:pt x="39" y="5"/>
                  </a:lnTo>
                  <a:lnTo>
                    <a:pt x="46" y="4"/>
                  </a:lnTo>
                  <a:lnTo>
                    <a:pt x="51" y="2"/>
                  </a:lnTo>
                  <a:lnTo>
                    <a:pt x="55" y="0"/>
                  </a:lnTo>
                  <a:lnTo>
                    <a:pt x="60" y="0"/>
                  </a:lnTo>
                  <a:lnTo>
                    <a:pt x="63" y="2"/>
                  </a:lnTo>
                  <a:lnTo>
                    <a:pt x="70" y="5"/>
                  </a:lnTo>
                  <a:lnTo>
                    <a:pt x="77" y="9"/>
                  </a:lnTo>
                  <a:lnTo>
                    <a:pt x="77" y="12"/>
                  </a:lnTo>
                  <a:lnTo>
                    <a:pt x="77" y="16"/>
                  </a:lnTo>
                  <a:lnTo>
                    <a:pt x="77" y="17"/>
                  </a:lnTo>
                  <a:lnTo>
                    <a:pt x="75" y="21"/>
                  </a:lnTo>
                  <a:lnTo>
                    <a:pt x="75" y="24"/>
                  </a:lnTo>
                  <a:lnTo>
                    <a:pt x="74" y="27"/>
                  </a:lnTo>
                  <a:lnTo>
                    <a:pt x="74" y="31"/>
                  </a:lnTo>
                  <a:lnTo>
                    <a:pt x="72" y="33"/>
                  </a:lnTo>
                  <a:lnTo>
                    <a:pt x="77" y="33"/>
                  </a:lnTo>
                  <a:lnTo>
                    <a:pt x="81" y="34"/>
                  </a:lnTo>
                  <a:lnTo>
                    <a:pt x="86" y="34"/>
                  </a:lnTo>
                  <a:lnTo>
                    <a:pt x="91" y="36"/>
                  </a:lnTo>
                  <a:lnTo>
                    <a:pt x="96" y="38"/>
                  </a:lnTo>
                  <a:lnTo>
                    <a:pt x="101" y="38"/>
                  </a:lnTo>
                  <a:lnTo>
                    <a:pt x="106" y="39"/>
                  </a:lnTo>
                  <a:lnTo>
                    <a:pt x="112" y="39"/>
                  </a:lnTo>
                  <a:lnTo>
                    <a:pt x="112" y="50"/>
                  </a:lnTo>
                  <a:lnTo>
                    <a:pt x="112" y="58"/>
                  </a:lnTo>
                  <a:lnTo>
                    <a:pt x="112" y="65"/>
                  </a:lnTo>
                  <a:lnTo>
                    <a:pt x="110" y="70"/>
                  </a:lnTo>
                  <a:lnTo>
                    <a:pt x="108" y="75"/>
                  </a:lnTo>
                  <a:lnTo>
                    <a:pt x="105" y="80"/>
                  </a:lnTo>
                  <a:lnTo>
                    <a:pt x="98" y="87"/>
                  </a:lnTo>
                  <a:lnTo>
                    <a:pt x="89" y="92"/>
                  </a:lnTo>
                  <a:lnTo>
                    <a:pt x="98" y="92"/>
                  </a:lnTo>
                  <a:lnTo>
                    <a:pt x="105" y="94"/>
                  </a:lnTo>
                  <a:lnTo>
                    <a:pt x="113" y="94"/>
                  </a:lnTo>
                  <a:lnTo>
                    <a:pt x="120" y="96"/>
                  </a:lnTo>
                  <a:lnTo>
                    <a:pt x="127" y="98"/>
                  </a:lnTo>
                  <a:lnTo>
                    <a:pt x="134" y="101"/>
                  </a:lnTo>
                  <a:lnTo>
                    <a:pt x="141" y="104"/>
                  </a:lnTo>
                  <a:lnTo>
                    <a:pt x="148" y="108"/>
                  </a:lnTo>
                  <a:lnTo>
                    <a:pt x="144" y="116"/>
                  </a:lnTo>
                  <a:lnTo>
                    <a:pt x="141" y="125"/>
                  </a:lnTo>
                  <a:lnTo>
                    <a:pt x="137" y="130"/>
                  </a:lnTo>
                  <a:lnTo>
                    <a:pt x="134" y="135"/>
                  </a:lnTo>
                  <a:lnTo>
                    <a:pt x="127" y="139"/>
                  </a:lnTo>
                  <a:lnTo>
                    <a:pt x="120" y="140"/>
                  </a:lnTo>
                  <a:lnTo>
                    <a:pt x="110" y="142"/>
                  </a:lnTo>
                  <a:lnTo>
                    <a:pt x="100" y="144"/>
                  </a:lnTo>
                  <a:lnTo>
                    <a:pt x="106" y="144"/>
                  </a:lnTo>
                  <a:lnTo>
                    <a:pt x="113" y="145"/>
                  </a:lnTo>
                  <a:lnTo>
                    <a:pt x="119" y="149"/>
                  </a:lnTo>
                  <a:lnTo>
                    <a:pt x="124" y="152"/>
                  </a:lnTo>
                  <a:lnTo>
                    <a:pt x="127" y="156"/>
                  </a:lnTo>
                  <a:lnTo>
                    <a:pt x="131" y="161"/>
                  </a:lnTo>
                  <a:lnTo>
                    <a:pt x="132" y="168"/>
                  </a:lnTo>
                  <a:lnTo>
                    <a:pt x="132" y="173"/>
                  </a:lnTo>
                  <a:lnTo>
                    <a:pt x="125" y="176"/>
                  </a:lnTo>
                  <a:lnTo>
                    <a:pt x="120" y="178"/>
                  </a:lnTo>
                  <a:lnTo>
                    <a:pt x="113" y="178"/>
                  </a:lnTo>
                  <a:lnTo>
                    <a:pt x="106" y="180"/>
                  </a:lnTo>
                  <a:lnTo>
                    <a:pt x="101" y="181"/>
                  </a:lnTo>
                  <a:lnTo>
                    <a:pt x="96" y="181"/>
                  </a:lnTo>
                  <a:lnTo>
                    <a:pt x="91" y="181"/>
                  </a:lnTo>
                  <a:lnTo>
                    <a:pt x="88" y="183"/>
                  </a:lnTo>
                  <a:lnTo>
                    <a:pt x="89" y="185"/>
                  </a:lnTo>
                  <a:lnTo>
                    <a:pt x="91" y="186"/>
                  </a:lnTo>
                  <a:lnTo>
                    <a:pt x="93" y="190"/>
                  </a:lnTo>
                  <a:lnTo>
                    <a:pt x="93" y="193"/>
                  </a:lnTo>
                  <a:lnTo>
                    <a:pt x="91" y="200"/>
                  </a:lnTo>
                  <a:lnTo>
                    <a:pt x="88" y="209"/>
                  </a:lnTo>
                  <a:lnTo>
                    <a:pt x="82" y="215"/>
                  </a:lnTo>
                  <a:lnTo>
                    <a:pt x="75" y="221"/>
                  </a:lnTo>
                  <a:lnTo>
                    <a:pt x="69" y="226"/>
                  </a:lnTo>
                  <a:lnTo>
                    <a:pt x="63" y="227"/>
                  </a:lnTo>
                  <a:lnTo>
                    <a:pt x="63" y="224"/>
                  </a:lnTo>
                  <a:lnTo>
                    <a:pt x="63" y="215"/>
                  </a:lnTo>
                  <a:lnTo>
                    <a:pt x="56" y="212"/>
                  </a:lnTo>
                  <a:lnTo>
                    <a:pt x="46" y="212"/>
                  </a:lnTo>
                  <a:lnTo>
                    <a:pt x="38" y="212"/>
                  </a:lnTo>
                  <a:lnTo>
                    <a:pt x="29" y="214"/>
                  </a:lnTo>
                  <a:lnTo>
                    <a:pt x="22" y="212"/>
                  </a:lnTo>
                  <a:lnTo>
                    <a:pt x="17" y="209"/>
                  </a:lnTo>
                  <a:lnTo>
                    <a:pt x="13" y="205"/>
                  </a:lnTo>
                  <a:lnTo>
                    <a:pt x="10" y="197"/>
                  </a:lnTo>
                  <a:lnTo>
                    <a:pt x="8" y="185"/>
                  </a:lnTo>
                  <a:lnTo>
                    <a:pt x="10" y="185"/>
                  </a:lnTo>
                  <a:lnTo>
                    <a:pt x="10" y="185"/>
                  </a:lnTo>
                  <a:lnTo>
                    <a:pt x="10" y="183"/>
                  </a:lnTo>
                  <a:lnTo>
                    <a:pt x="12" y="181"/>
                  </a:lnTo>
                  <a:lnTo>
                    <a:pt x="13" y="180"/>
                  </a:lnTo>
                  <a:lnTo>
                    <a:pt x="13" y="180"/>
                  </a:lnTo>
                  <a:lnTo>
                    <a:pt x="15" y="178"/>
                  </a:lnTo>
                  <a:lnTo>
                    <a:pt x="15" y="176"/>
                  </a:lnTo>
                  <a:lnTo>
                    <a:pt x="8" y="173"/>
                  </a:lnTo>
                  <a:lnTo>
                    <a:pt x="3" y="168"/>
                  </a:lnTo>
                  <a:lnTo>
                    <a:pt x="1" y="164"/>
                  </a:lnTo>
                  <a:lnTo>
                    <a:pt x="0" y="159"/>
                  </a:lnTo>
                  <a:lnTo>
                    <a:pt x="0" y="152"/>
                  </a:lnTo>
                  <a:lnTo>
                    <a:pt x="0" y="145"/>
                  </a:lnTo>
                  <a:lnTo>
                    <a:pt x="0" y="139"/>
                  </a:lnTo>
                  <a:lnTo>
                    <a:pt x="0" y="132"/>
                  </a:lnTo>
                  <a:lnTo>
                    <a:pt x="3" y="130"/>
                  </a:lnTo>
                  <a:lnTo>
                    <a:pt x="5" y="128"/>
                  </a:lnTo>
                  <a:lnTo>
                    <a:pt x="8" y="127"/>
                  </a:lnTo>
                  <a:lnTo>
                    <a:pt x="12" y="123"/>
                  </a:lnTo>
                  <a:lnTo>
                    <a:pt x="15" y="120"/>
                  </a:lnTo>
                  <a:lnTo>
                    <a:pt x="20" y="118"/>
                  </a:lnTo>
                  <a:lnTo>
                    <a:pt x="24" y="115"/>
                  </a:lnTo>
                  <a:lnTo>
                    <a:pt x="27" y="113"/>
                  </a:lnTo>
                  <a:lnTo>
                    <a:pt x="27" y="109"/>
                  </a:lnTo>
                  <a:lnTo>
                    <a:pt x="25" y="104"/>
                  </a:lnTo>
                  <a:lnTo>
                    <a:pt x="24" y="99"/>
                  </a:lnTo>
                  <a:lnTo>
                    <a:pt x="22" y="94"/>
                  </a:lnTo>
                  <a:lnTo>
                    <a:pt x="20" y="89"/>
                  </a:lnTo>
                  <a:lnTo>
                    <a:pt x="19" y="84"/>
                  </a:lnTo>
                  <a:lnTo>
                    <a:pt x="19" y="79"/>
                  </a:lnTo>
                  <a:lnTo>
                    <a:pt x="19" y="75"/>
                  </a:lnTo>
                  <a:lnTo>
                    <a:pt x="24" y="68"/>
                  </a:lnTo>
                  <a:lnTo>
                    <a:pt x="29" y="63"/>
                  </a:lnTo>
                  <a:lnTo>
                    <a:pt x="34" y="60"/>
                  </a:lnTo>
                  <a:lnTo>
                    <a:pt x="39" y="55"/>
                  </a:lnTo>
                  <a:lnTo>
                    <a:pt x="44" y="53"/>
                  </a:lnTo>
                  <a:lnTo>
                    <a:pt x="50" y="50"/>
                  </a:lnTo>
                  <a:lnTo>
                    <a:pt x="58" y="48"/>
                  </a:lnTo>
                  <a:lnTo>
                    <a:pt x="67" y="45"/>
                  </a:lnTo>
                  <a:lnTo>
                    <a:pt x="60" y="43"/>
                  </a:lnTo>
                  <a:lnTo>
                    <a:pt x="53" y="39"/>
                  </a:lnTo>
                  <a:lnTo>
                    <a:pt x="48" y="34"/>
                  </a:lnTo>
                  <a:lnTo>
                    <a:pt x="41" y="31"/>
                  </a:lnTo>
                  <a:lnTo>
                    <a:pt x="36" y="26"/>
                  </a:lnTo>
                  <a:lnTo>
                    <a:pt x="32" y="21"/>
                  </a:lnTo>
                  <a:lnTo>
                    <a:pt x="31" y="16"/>
                  </a:lnTo>
                  <a:lnTo>
                    <a:pt x="3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839960" y="2284560"/>
              <a:ext cx="6480" cy="12600"/>
            </a:xfrm>
            <a:custGeom>
              <a:avLst/>
              <a:gdLst/>
              <a:ahLst/>
              <a:rect l="l" t="t" r="r" b="b"/>
              <a:pathLst>
                <a:path w="10" h="20">
                  <a:moveTo>
                    <a:pt x="0" y="0"/>
                  </a:moveTo>
                  <a:lnTo>
                    <a:pt x="3" y="2"/>
                  </a:lnTo>
                  <a:lnTo>
                    <a:pt x="5" y="3"/>
                  </a:lnTo>
                  <a:lnTo>
                    <a:pt x="6" y="7"/>
                  </a:lnTo>
                  <a:lnTo>
                    <a:pt x="8" y="8"/>
                  </a:lnTo>
                  <a:lnTo>
                    <a:pt x="10" y="12"/>
                  </a:lnTo>
                  <a:lnTo>
                    <a:pt x="10" y="15"/>
                  </a:lnTo>
                  <a:lnTo>
                    <a:pt x="8" y="17"/>
                  </a:lnTo>
                  <a:lnTo>
                    <a:pt x="6" y="20"/>
                  </a:lnTo>
                  <a:lnTo>
                    <a:pt x="6" y="19"/>
                  </a:lnTo>
                  <a:lnTo>
                    <a:pt x="5" y="15"/>
                  </a:lnTo>
                  <a:lnTo>
                    <a:pt x="5" y="14"/>
                  </a:lnTo>
                  <a:lnTo>
                    <a:pt x="3" y="10"/>
                  </a:lnTo>
                  <a:lnTo>
                    <a:pt x="3" y="7"/>
                  </a:lnTo>
                  <a:lnTo>
                    <a:pt x="1" y="5"/>
                  </a:lnTo>
                  <a:lnTo>
                    <a:pt x="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b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827360" y="2232000"/>
              <a:ext cx="101520" cy="142920"/>
            </a:xfrm>
            <a:custGeom>
              <a:avLst/>
              <a:gdLst/>
              <a:ahLst/>
              <a:rect l="l" t="t" r="r" b="b"/>
              <a:pathLst>
                <a:path w="148" h="227">
                  <a:moveTo>
                    <a:pt x="58" y="212"/>
                  </a:moveTo>
                  <a:lnTo>
                    <a:pt x="58" y="212"/>
                  </a:lnTo>
                  <a:lnTo>
                    <a:pt x="56" y="210"/>
                  </a:lnTo>
                  <a:lnTo>
                    <a:pt x="56" y="210"/>
                  </a:lnTo>
                  <a:lnTo>
                    <a:pt x="56" y="210"/>
                  </a:lnTo>
                  <a:lnTo>
                    <a:pt x="56" y="209"/>
                  </a:lnTo>
                  <a:lnTo>
                    <a:pt x="55" y="209"/>
                  </a:lnTo>
                  <a:lnTo>
                    <a:pt x="55" y="207"/>
                  </a:lnTo>
                  <a:lnTo>
                    <a:pt x="53" y="207"/>
                  </a:lnTo>
                  <a:lnTo>
                    <a:pt x="50" y="207"/>
                  </a:lnTo>
                  <a:lnTo>
                    <a:pt x="46" y="209"/>
                  </a:lnTo>
                  <a:lnTo>
                    <a:pt x="43" y="209"/>
                  </a:lnTo>
                  <a:lnTo>
                    <a:pt x="39" y="209"/>
                  </a:lnTo>
                  <a:lnTo>
                    <a:pt x="34" y="209"/>
                  </a:lnTo>
                  <a:lnTo>
                    <a:pt x="31" y="209"/>
                  </a:lnTo>
                  <a:lnTo>
                    <a:pt x="29" y="207"/>
                  </a:lnTo>
                  <a:lnTo>
                    <a:pt x="25" y="203"/>
                  </a:lnTo>
                  <a:lnTo>
                    <a:pt x="24" y="203"/>
                  </a:lnTo>
                  <a:lnTo>
                    <a:pt x="22" y="203"/>
                  </a:lnTo>
                  <a:lnTo>
                    <a:pt x="20" y="203"/>
                  </a:lnTo>
                  <a:lnTo>
                    <a:pt x="19" y="203"/>
                  </a:lnTo>
                  <a:lnTo>
                    <a:pt x="19" y="203"/>
                  </a:lnTo>
                  <a:lnTo>
                    <a:pt x="17" y="205"/>
                  </a:lnTo>
                  <a:lnTo>
                    <a:pt x="15" y="205"/>
                  </a:lnTo>
                  <a:lnTo>
                    <a:pt x="13" y="205"/>
                  </a:lnTo>
                  <a:lnTo>
                    <a:pt x="13" y="203"/>
                  </a:lnTo>
                  <a:lnTo>
                    <a:pt x="13" y="203"/>
                  </a:lnTo>
                  <a:lnTo>
                    <a:pt x="12" y="202"/>
                  </a:lnTo>
                  <a:lnTo>
                    <a:pt x="12" y="200"/>
                  </a:lnTo>
                  <a:lnTo>
                    <a:pt x="12" y="198"/>
                  </a:lnTo>
                  <a:lnTo>
                    <a:pt x="10" y="197"/>
                  </a:lnTo>
                  <a:lnTo>
                    <a:pt x="10" y="195"/>
                  </a:lnTo>
                  <a:lnTo>
                    <a:pt x="10" y="193"/>
                  </a:lnTo>
                  <a:lnTo>
                    <a:pt x="12" y="191"/>
                  </a:lnTo>
                  <a:lnTo>
                    <a:pt x="13" y="188"/>
                  </a:lnTo>
                  <a:lnTo>
                    <a:pt x="15" y="186"/>
                  </a:lnTo>
                  <a:lnTo>
                    <a:pt x="17" y="185"/>
                  </a:lnTo>
                  <a:lnTo>
                    <a:pt x="19" y="181"/>
                  </a:lnTo>
                  <a:lnTo>
                    <a:pt x="20" y="180"/>
                  </a:lnTo>
                  <a:lnTo>
                    <a:pt x="20" y="176"/>
                  </a:lnTo>
                  <a:lnTo>
                    <a:pt x="20" y="173"/>
                  </a:lnTo>
                  <a:lnTo>
                    <a:pt x="19" y="171"/>
                  </a:lnTo>
                  <a:lnTo>
                    <a:pt x="15" y="169"/>
                  </a:lnTo>
                  <a:lnTo>
                    <a:pt x="13" y="168"/>
                  </a:lnTo>
                  <a:lnTo>
                    <a:pt x="10" y="166"/>
                  </a:lnTo>
                  <a:lnTo>
                    <a:pt x="6" y="164"/>
                  </a:lnTo>
                  <a:lnTo>
                    <a:pt x="5" y="164"/>
                  </a:lnTo>
                  <a:lnTo>
                    <a:pt x="1" y="161"/>
                  </a:lnTo>
                  <a:lnTo>
                    <a:pt x="0" y="159"/>
                  </a:lnTo>
                  <a:lnTo>
                    <a:pt x="0" y="157"/>
                  </a:lnTo>
                  <a:lnTo>
                    <a:pt x="0" y="154"/>
                  </a:lnTo>
                  <a:lnTo>
                    <a:pt x="0" y="152"/>
                  </a:lnTo>
                  <a:lnTo>
                    <a:pt x="0" y="149"/>
                  </a:lnTo>
                  <a:lnTo>
                    <a:pt x="0" y="145"/>
                  </a:lnTo>
                  <a:lnTo>
                    <a:pt x="0" y="144"/>
                  </a:lnTo>
                  <a:lnTo>
                    <a:pt x="0" y="140"/>
                  </a:lnTo>
                  <a:lnTo>
                    <a:pt x="0" y="137"/>
                  </a:lnTo>
                  <a:lnTo>
                    <a:pt x="0" y="137"/>
                  </a:lnTo>
                  <a:lnTo>
                    <a:pt x="0" y="135"/>
                  </a:lnTo>
                  <a:lnTo>
                    <a:pt x="1" y="135"/>
                  </a:lnTo>
                  <a:lnTo>
                    <a:pt x="1" y="135"/>
                  </a:lnTo>
                  <a:lnTo>
                    <a:pt x="1" y="133"/>
                  </a:lnTo>
                  <a:lnTo>
                    <a:pt x="1" y="133"/>
                  </a:lnTo>
                  <a:lnTo>
                    <a:pt x="3" y="133"/>
                  </a:lnTo>
                  <a:lnTo>
                    <a:pt x="3" y="133"/>
                  </a:lnTo>
                  <a:lnTo>
                    <a:pt x="8" y="128"/>
                  </a:lnTo>
                  <a:lnTo>
                    <a:pt x="13" y="125"/>
                  </a:lnTo>
                  <a:lnTo>
                    <a:pt x="19" y="121"/>
                  </a:lnTo>
                  <a:lnTo>
                    <a:pt x="24" y="116"/>
                  </a:lnTo>
                  <a:lnTo>
                    <a:pt x="29" y="113"/>
                  </a:lnTo>
                  <a:lnTo>
                    <a:pt x="32" y="108"/>
                  </a:lnTo>
                  <a:lnTo>
                    <a:pt x="36" y="103"/>
                  </a:lnTo>
                  <a:lnTo>
                    <a:pt x="39" y="96"/>
                  </a:lnTo>
                  <a:lnTo>
                    <a:pt x="38" y="92"/>
                  </a:lnTo>
                  <a:lnTo>
                    <a:pt x="36" y="89"/>
                  </a:lnTo>
                  <a:lnTo>
                    <a:pt x="34" y="86"/>
                  </a:lnTo>
                  <a:lnTo>
                    <a:pt x="31" y="82"/>
                  </a:lnTo>
                  <a:lnTo>
                    <a:pt x="29" y="77"/>
                  </a:lnTo>
                  <a:lnTo>
                    <a:pt x="27" y="74"/>
                  </a:lnTo>
                  <a:lnTo>
                    <a:pt x="25" y="70"/>
                  </a:lnTo>
                  <a:lnTo>
                    <a:pt x="25" y="67"/>
                  </a:lnTo>
                  <a:lnTo>
                    <a:pt x="29" y="63"/>
                  </a:lnTo>
                  <a:lnTo>
                    <a:pt x="34" y="60"/>
                  </a:lnTo>
                  <a:lnTo>
                    <a:pt x="38" y="57"/>
                  </a:lnTo>
                  <a:lnTo>
                    <a:pt x="43" y="53"/>
                  </a:lnTo>
                  <a:lnTo>
                    <a:pt x="48" y="51"/>
                  </a:lnTo>
                  <a:lnTo>
                    <a:pt x="53" y="50"/>
                  </a:lnTo>
                  <a:lnTo>
                    <a:pt x="58" y="46"/>
                  </a:lnTo>
                  <a:lnTo>
                    <a:pt x="67" y="45"/>
                  </a:lnTo>
                  <a:lnTo>
                    <a:pt x="65" y="45"/>
                  </a:lnTo>
                  <a:lnTo>
                    <a:pt x="63" y="43"/>
                  </a:lnTo>
                  <a:lnTo>
                    <a:pt x="62" y="43"/>
                  </a:lnTo>
                  <a:lnTo>
                    <a:pt x="60" y="43"/>
                  </a:lnTo>
                  <a:lnTo>
                    <a:pt x="58" y="41"/>
                  </a:lnTo>
                  <a:lnTo>
                    <a:pt x="55" y="39"/>
                  </a:lnTo>
                  <a:lnTo>
                    <a:pt x="53" y="39"/>
                  </a:lnTo>
                  <a:lnTo>
                    <a:pt x="51" y="38"/>
                  </a:lnTo>
                  <a:lnTo>
                    <a:pt x="53" y="36"/>
                  </a:lnTo>
                  <a:lnTo>
                    <a:pt x="53" y="36"/>
                  </a:lnTo>
                  <a:lnTo>
                    <a:pt x="53" y="34"/>
                  </a:lnTo>
                  <a:lnTo>
                    <a:pt x="53" y="33"/>
                  </a:lnTo>
                  <a:lnTo>
                    <a:pt x="53" y="31"/>
                  </a:lnTo>
                  <a:lnTo>
                    <a:pt x="53" y="29"/>
                  </a:lnTo>
                  <a:lnTo>
                    <a:pt x="53" y="29"/>
                  </a:lnTo>
                  <a:lnTo>
                    <a:pt x="53" y="27"/>
                  </a:lnTo>
                  <a:lnTo>
                    <a:pt x="51" y="24"/>
                  </a:lnTo>
                  <a:lnTo>
                    <a:pt x="48" y="22"/>
                  </a:lnTo>
                  <a:lnTo>
                    <a:pt x="44" y="21"/>
                  </a:lnTo>
                  <a:lnTo>
                    <a:pt x="41" y="19"/>
                  </a:lnTo>
                  <a:lnTo>
                    <a:pt x="38" y="17"/>
                  </a:lnTo>
                  <a:lnTo>
                    <a:pt x="36" y="14"/>
                  </a:lnTo>
                  <a:lnTo>
                    <a:pt x="32" y="12"/>
                  </a:lnTo>
                  <a:lnTo>
                    <a:pt x="31" y="9"/>
                  </a:lnTo>
                  <a:lnTo>
                    <a:pt x="39" y="5"/>
                  </a:lnTo>
                  <a:lnTo>
                    <a:pt x="46" y="4"/>
                  </a:lnTo>
                  <a:lnTo>
                    <a:pt x="51" y="2"/>
                  </a:lnTo>
                  <a:lnTo>
                    <a:pt x="55" y="0"/>
                  </a:lnTo>
                  <a:lnTo>
                    <a:pt x="60" y="0"/>
                  </a:lnTo>
                  <a:lnTo>
                    <a:pt x="65" y="2"/>
                  </a:lnTo>
                  <a:lnTo>
                    <a:pt x="70" y="5"/>
                  </a:lnTo>
                  <a:lnTo>
                    <a:pt x="77" y="9"/>
                  </a:lnTo>
                  <a:lnTo>
                    <a:pt x="77" y="12"/>
                  </a:lnTo>
                  <a:lnTo>
                    <a:pt x="77" y="16"/>
                  </a:lnTo>
                  <a:lnTo>
                    <a:pt x="77" y="17"/>
                  </a:lnTo>
                  <a:lnTo>
                    <a:pt x="75" y="21"/>
                  </a:lnTo>
                  <a:lnTo>
                    <a:pt x="75" y="24"/>
                  </a:lnTo>
                  <a:lnTo>
                    <a:pt x="74" y="27"/>
                  </a:lnTo>
                  <a:lnTo>
                    <a:pt x="74" y="31"/>
                  </a:lnTo>
                  <a:lnTo>
                    <a:pt x="72" y="33"/>
                  </a:lnTo>
                  <a:lnTo>
                    <a:pt x="77" y="33"/>
                  </a:lnTo>
                  <a:lnTo>
                    <a:pt x="81" y="34"/>
                  </a:lnTo>
                  <a:lnTo>
                    <a:pt x="86" y="34"/>
                  </a:lnTo>
                  <a:lnTo>
                    <a:pt x="91" y="36"/>
                  </a:lnTo>
                  <a:lnTo>
                    <a:pt x="96" y="38"/>
                  </a:lnTo>
                  <a:lnTo>
                    <a:pt x="101" y="38"/>
                  </a:lnTo>
                  <a:lnTo>
                    <a:pt x="106" y="39"/>
                  </a:lnTo>
                  <a:lnTo>
                    <a:pt x="112" y="39"/>
                  </a:lnTo>
                  <a:lnTo>
                    <a:pt x="112" y="50"/>
                  </a:lnTo>
                  <a:lnTo>
                    <a:pt x="112" y="58"/>
                  </a:lnTo>
                  <a:lnTo>
                    <a:pt x="112" y="65"/>
                  </a:lnTo>
                  <a:lnTo>
                    <a:pt x="110" y="70"/>
                  </a:lnTo>
                  <a:lnTo>
                    <a:pt x="108" y="75"/>
                  </a:lnTo>
                  <a:lnTo>
                    <a:pt x="105" y="80"/>
                  </a:lnTo>
                  <a:lnTo>
                    <a:pt x="98" y="87"/>
                  </a:lnTo>
                  <a:lnTo>
                    <a:pt x="89" y="92"/>
                  </a:lnTo>
                  <a:lnTo>
                    <a:pt x="98" y="92"/>
                  </a:lnTo>
                  <a:lnTo>
                    <a:pt x="105" y="94"/>
                  </a:lnTo>
                  <a:lnTo>
                    <a:pt x="113" y="94"/>
                  </a:lnTo>
                  <a:lnTo>
                    <a:pt x="120" y="96"/>
                  </a:lnTo>
                  <a:lnTo>
                    <a:pt x="127" y="98"/>
                  </a:lnTo>
                  <a:lnTo>
                    <a:pt x="134" y="101"/>
                  </a:lnTo>
                  <a:lnTo>
                    <a:pt x="141" y="104"/>
                  </a:lnTo>
                  <a:lnTo>
                    <a:pt x="148" y="108"/>
                  </a:lnTo>
                  <a:lnTo>
                    <a:pt x="144" y="116"/>
                  </a:lnTo>
                  <a:lnTo>
                    <a:pt x="141" y="125"/>
                  </a:lnTo>
                  <a:lnTo>
                    <a:pt x="137" y="130"/>
                  </a:lnTo>
                  <a:lnTo>
                    <a:pt x="134" y="135"/>
                  </a:lnTo>
                  <a:lnTo>
                    <a:pt x="127" y="139"/>
                  </a:lnTo>
                  <a:lnTo>
                    <a:pt x="120" y="140"/>
                  </a:lnTo>
                  <a:lnTo>
                    <a:pt x="110" y="142"/>
                  </a:lnTo>
                  <a:lnTo>
                    <a:pt x="100" y="144"/>
                  </a:lnTo>
                  <a:lnTo>
                    <a:pt x="106" y="144"/>
                  </a:lnTo>
                  <a:lnTo>
                    <a:pt x="113" y="145"/>
                  </a:lnTo>
                  <a:lnTo>
                    <a:pt x="119" y="149"/>
                  </a:lnTo>
                  <a:lnTo>
                    <a:pt x="124" y="152"/>
                  </a:lnTo>
                  <a:lnTo>
                    <a:pt x="127" y="156"/>
                  </a:lnTo>
                  <a:lnTo>
                    <a:pt x="131" y="161"/>
                  </a:lnTo>
                  <a:lnTo>
                    <a:pt x="132" y="168"/>
                  </a:lnTo>
                  <a:lnTo>
                    <a:pt x="132" y="173"/>
                  </a:lnTo>
                  <a:lnTo>
                    <a:pt x="125" y="176"/>
                  </a:lnTo>
                  <a:lnTo>
                    <a:pt x="120" y="178"/>
                  </a:lnTo>
                  <a:lnTo>
                    <a:pt x="113" y="178"/>
                  </a:lnTo>
                  <a:lnTo>
                    <a:pt x="106" y="180"/>
                  </a:lnTo>
                  <a:lnTo>
                    <a:pt x="101" y="181"/>
                  </a:lnTo>
                  <a:lnTo>
                    <a:pt x="96" y="181"/>
                  </a:lnTo>
                  <a:lnTo>
                    <a:pt x="91" y="181"/>
                  </a:lnTo>
                  <a:lnTo>
                    <a:pt x="88" y="183"/>
                  </a:lnTo>
                  <a:lnTo>
                    <a:pt x="89" y="185"/>
                  </a:lnTo>
                  <a:lnTo>
                    <a:pt x="91" y="186"/>
                  </a:lnTo>
                  <a:lnTo>
                    <a:pt x="93" y="190"/>
                  </a:lnTo>
                  <a:lnTo>
                    <a:pt x="93" y="193"/>
                  </a:lnTo>
                  <a:lnTo>
                    <a:pt x="91" y="200"/>
                  </a:lnTo>
                  <a:lnTo>
                    <a:pt x="88" y="209"/>
                  </a:lnTo>
                  <a:lnTo>
                    <a:pt x="82" y="215"/>
                  </a:lnTo>
                  <a:lnTo>
                    <a:pt x="75" y="221"/>
                  </a:lnTo>
                  <a:lnTo>
                    <a:pt x="69" y="226"/>
                  </a:lnTo>
                  <a:lnTo>
                    <a:pt x="63" y="227"/>
                  </a:lnTo>
                  <a:lnTo>
                    <a:pt x="63" y="224"/>
                  </a:lnTo>
                  <a:lnTo>
                    <a:pt x="63" y="215"/>
                  </a:lnTo>
                  <a:lnTo>
                    <a:pt x="58" y="212"/>
                  </a:lnTo>
                  <a:close/>
                </a:path>
              </a:pathLst>
            </a:custGeom>
            <a:solidFill>
              <a:srgbClr val="7f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827360" y="2232000"/>
              <a:ext cx="101520" cy="142920"/>
            </a:xfrm>
            <a:custGeom>
              <a:avLst/>
              <a:gdLst/>
              <a:ahLst/>
              <a:rect l="l" t="t" r="r" b="b"/>
              <a:pathLst>
                <a:path w="148" h="227">
                  <a:moveTo>
                    <a:pt x="31" y="9"/>
                  </a:moveTo>
                  <a:lnTo>
                    <a:pt x="39" y="5"/>
                  </a:lnTo>
                  <a:lnTo>
                    <a:pt x="46" y="4"/>
                  </a:lnTo>
                  <a:lnTo>
                    <a:pt x="51" y="2"/>
                  </a:lnTo>
                  <a:lnTo>
                    <a:pt x="55" y="0"/>
                  </a:lnTo>
                  <a:lnTo>
                    <a:pt x="60" y="0"/>
                  </a:lnTo>
                  <a:lnTo>
                    <a:pt x="63" y="2"/>
                  </a:lnTo>
                  <a:lnTo>
                    <a:pt x="70" y="5"/>
                  </a:lnTo>
                  <a:lnTo>
                    <a:pt x="77" y="9"/>
                  </a:lnTo>
                  <a:lnTo>
                    <a:pt x="77" y="12"/>
                  </a:lnTo>
                  <a:lnTo>
                    <a:pt x="77" y="16"/>
                  </a:lnTo>
                  <a:lnTo>
                    <a:pt x="77" y="17"/>
                  </a:lnTo>
                  <a:lnTo>
                    <a:pt x="75" y="21"/>
                  </a:lnTo>
                  <a:lnTo>
                    <a:pt x="75" y="24"/>
                  </a:lnTo>
                  <a:lnTo>
                    <a:pt x="74" y="27"/>
                  </a:lnTo>
                  <a:lnTo>
                    <a:pt x="74" y="31"/>
                  </a:lnTo>
                  <a:lnTo>
                    <a:pt x="72" y="33"/>
                  </a:lnTo>
                  <a:lnTo>
                    <a:pt x="77" y="33"/>
                  </a:lnTo>
                  <a:lnTo>
                    <a:pt x="81" y="34"/>
                  </a:lnTo>
                  <a:lnTo>
                    <a:pt x="86" y="34"/>
                  </a:lnTo>
                  <a:lnTo>
                    <a:pt x="91" y="36"/>
                  </a:lnTo>
                  <a:lnTo>
                    <a:pt x="96" y="38"/>
                  </a:lnTo>
                  <a:lnTo>
                    <a:pt x="101" y="38"/>
                  </a:lnTo>
                  <a:lnTo>
                    <a:pt x="106" y="39"/>
                  </a:lnTo>
                  <a:lnTo>
                    <a:pt x="112" y="39"/>
                  </a:lnTo>
                  <a:lnTo>
                    <a:pt x="112" y="50"/>
                  </a:lnTo>
                  <a:lnTo>
                    <a:pt x="112" y="58"/>
                  </a:lnTo>
                  <a:lnTo>
                    <a:pt x="112" y="65"/>
                  </a:lnTo>
                  <a:lnTo>
                    <a:pt x="110" y="70"/>
                  </a:lnTo>
                  <a:lnTo>
                    <a:pt x="108" y="75"/>
                  </a:lnTo>
                  <a:lnTo>
                    <a:pt x="105" y="80"/>
                  </a:lnTo>
                  <a:lnTo>
                    <a:pt x="98" y="87"/>
                  </a:lnTo>
                  <a:lnTo>
                    <a:pt x="89" y="92"/>
                  </a:lnTo>
                  <a:lnTo>
                    <a:pt x="98" y="92"/>
                  </a:lnTo>
                  <a:lnTo>
                    <a:pt x="105" y="94"/>
                  </a:lnTo>
                  <a:lnTo>
                    <a:pt x="113" y="94"/>
                  </a:lnTo>
                  <a:lnTo>
                    <a:pt x="120" y="96"/>
                  </a:lnTo>
                  <a:lnTo>
                    <a:pt x="127" y="98"/>
                  </a:lnTo>
                  <a:lnTo>
                    <a:pt x="134" y="101"/>
                  </a:lnTo>
                  <a:lnTo>
                    <a:pt x="141" y="104"/>
                  </a:lnTo>
                  <a:lnTo>
                    <a:pt x="148" y="108"/>
                  </a:lnTo>
                  <a:lnTo>
                    <a:pt x="144" y="116"/>
                  </a:lnTo>
                  <a:lnTo>
                    <a:pt x="141" y="125"/>
                  </a:lnTo>
                  <a:lnTo>
                    <a:pt x="137" y="130"/>
                  </a:lnTo>
                  <a:lnTo>
                    <a:pt x="134" y="135"/>
                  </a:lnTo>
                  <a:lnTo>
                    <a:pt x="127" y="139"/>
                  </a:lnTo>
                  <a:lnTo>
                    <a:pt x="120" y="140"/>
                  </a:lnTo>
                  <a:lnTo>
                    <a:pt x="110" y="142"/>
                  </a:lnTo>
                  <a:lnTo>
                    <a:pt x="100" y="144"/>
                  </a:lnTo>
                  <a:lnTo>
                    <a:pt x="106" y="144"/>
                  </a:lnTo>
                  <a:lnTo>
                    <a:pt x="113" y="145"/>
                  </a:lnTo>
                  <a:lnTo>
                    <a:pt x="119" y="149"/>
                  </a:lnTo>
                  <a:lnTo>
                    <a:pt x="124" y="152"/>
                  </a:lnTo>
                  <a:lnTo>
                    <a:pt x="127" y="156"/>
                  </a:lnTo>
                  <a:lnTo>
                    <a:pt x="131" y="161"/>
                  </a:lnTo>
                  <a:lnTo>
                    <a:pt x="132" y="168"/>
                  </a:lnTo>
                  <a:lnTo>
                    <a:pt x="132" y="173"/>
                  </a:lnTo>
                  <a:lnTo>
                    <a:pt x="125" y="176"/>
                  </a:lnTo>
                  <a:lnTo>
                    <a:pt x="120" y="178"/>
                  </a:lnTo>
                  <a:lnTo>
                    <a:pt x="113" y="178"/>
                  </a:lnTo>
                  <a:lnTo>
                    <a:pt x="106" y="180"/>
                  </a:lnTo>
                  <a:lnTo>
                    <a:pt x="101" y="181"/>
                  </a:lnTo>
                  <a:lnTo>
                    <a:pt x="96" y="181"/>
                  </a:lnTo>
                  <a:lnTo>
                    <a:pt x="91" y="181"/>
                  </a:lnTo>
                  <a:lnTo>
                    <a:pt x="88" y="183"/>
                  </a:lnTo>
                  <a:lnTo>
                    <a:pt x="89" y="185"/>
                  </a:lnTo>
                  <a:lnTo>
                    <a:pt x="91" y="186"/>
                  </a:lnTo>
                  <a:lnTo>
                    <a:pt x="93" y="190"/>
                  </a:lnTo>
                  <a:lnTo>
                    <a:pt x="93" y="193"/>
                  </a:lnTo>
                  <a:lnTo>
                    <a:pt x="91" y="200"/>
                  </a:lnTo>
                  <a:lnTo>
                    <a:pt x="88" y="209"/>
                  </a:lnTo>
                  <a:lnTo>
                    <a:pt x="82" y="215"/>
                  </a:lnTo>
                  <a:lnTo>
                    <a:pt x="75" y="221"/>
                  </a:lnTo>
                  <a:lnTo>
                    <a:pt x="69" y="226"/>
                  </a:lnTo>
                  <a:lnTo>
                    <a:pt x="63" y="227"/>
                  </a:lnTo>
                  <a:lnTo>
                    <a:pt x="63" y="224"/>
                  </a:lnTo>
                  <a:lnTo>
                    <a:pt x="63" y="215"/>
                  </a:lnTo>
                  <a:lnTo>
                    <a:pt x="56" y="212"/>
                  </a:lnTo>
                  <a:lnTo>
                    <a:pt x="46" y="212"/>
                  </a:lnTo>
                  <a:lnTo>
                    <a:pt x="38" y="212"/>
                  </a:lnTo>
                  <a:lnTo>
                    <a:pt x="29" y="214"/>
                  </a:lnTo>
                  <a:lnTo>
                    <a:pt x="22" y="212"/>
                  </a:lnTo>
                  <a:lnTo>
                    <a:pt x="17" y="209"/>
                  </a:lnTo>
                  <a:lnTo>
                    <a:pt x="13" y="205"/>
                  </a:lnTo>
                  <a:lnTo>
                    <a:pt x="10" y="197"/>
                  </a:lnTo>
                  <a:lnTo>
                    <a:pt x="8" y="185"/>
                  </a:lnTo>
                  <a:lnTo>
                    <a:pt x="10" y="185"/>
                  </a:lnTo>
                  <a:lnTo>
                    <a:pt x="10" y="185"/>
                  </a:lnTo>
                  <a:lnTo>
                    <a:pt x="10" y="183"/>
                  </a:lnTo>
                  <a:lnTo>
                    <a:pt x="12" y="181"/>
                  </a:lnTo>
                  <a:lnTo>
                    <a:pt x="13" y="180"/>
                  </a:lnTo>
                  <a:lnTo>
                    <a:pt x="13" y="180"/>
                  </a:lnTo>
                  <a:lnTo>
                    <a:pt x="15" y="178"/>
                  </a:lnTo>
                  <a:lnTo>
                    <a:pt x="15" y="176"/>
                  </a:lnTo>
                  <a:lnTo>
                    <a:pt x="8" y="173"/>
                  </a:lnTo>
                  <a:lnTo>
                    <a:pt x="3" y="169"/>
                  </a:lnTo>
                  <a:lnTo>
                    <a:pt x="1" y="164"/>
                  </a:lnTo>
                  <a:lnTo>
                    <a:pt x="0" y="159"/>
                  </a:lnTo>
                  <a:lnTo>
                    <a:pt x="0" y="154"/>
                  </a:lnTo>
                  <a:lnTo>
                    <a:pt x="0" y="147"/>
                  </a:lnTo>
                  <a:lnTo>
                    <a:pt x="0" y="140"/>
                  </a:lnTo>
                  <a:lnTo>
                    <a:pt x="0" y="133"/>
                  </a:lnTo>
                  <a:lnTo>
                    <a:pt x="0" y="133"/>
                  </a:lnTo>
                  <a:lnTo>
                    <a:pt x="0" y="133"/>
                  </a:lnTo>
                  <a:lnTo>
                    <a:pt x="0" y="133"/>
                  </a:lnTo>
                  <a:lnTo>
                    <a:pt x="1" y="132"/>
                  </a:lnTo>
                  <a:lnTo>
                    <a:pt x="1" y="132"/>
                  </a:lnTo>
                  <a:lnTo>
                    <a:pt x="1" y="132"/>
                  </a:lnTo>
                  <a:lnTo>
                    <a:pt x="1" y="132"/>
                  </a:lnTo>
                  <a:lnTo>
                    <a:pt x="1" y="132"/>
                  </a:lnTo>
                  <a:lnTo>
                    <a:pt x="3" y="130"/>
                  </a:lnTo>
                  <a:lnTo>
                    <a:pt x="6" y="128"/>
                  </a:lnTo>
                  <a:lnTo>
                    <a:pt x="10" y="125"/>
                  </a:lnTo>
                  <a:lnTo>
                    <a:pt x="13" y="123"/>
                  </a:lnTo>
                  <a:lnTo>
                    <a:pt x="17" y="120"/>
                  </a:lnTo>
                  <a:lnTo>
                    <a:pt x="20" y="118"/>
                  </a:lnTo>
                  <a:lnTo>
                    <a:pt x="24" y="115"/>
                  </a:lnTo>
                  <a:lnTo>
                    <a:pt x="27" y="113"/>
                  </a:lnTo>
                  <a:lnTo>
                    <a:pt x="27" y="111"/>
                  </a:lnTo>
                  <a:lnTo>
                    <a:pt x="27" y="108"/>
                  </a:lnTo>
                  <a:lnTo>
                    <a:pt x="25" y="106"/>
                  </a:lnTo>
                  <a:lnTo>
                    <a:pt x="25" y="103"/>
                  </a:lnTo>
                  <a:lnTo>
                    <a:pt x="24" y="101"/>
                  </a:lnTo>
                  <a:lnTo>
                    <a:pt x="24" y="98"/>
                  </a:lnTo>
                  <a:lnTo>
                    <a:pt x="22" y="96"/>
                  </a:lnTo>
                  <a:lnTo>
                    <a:pt x="22" y="92"/>
                  </a:lnTo>
                  <a:lnTo>
                    <a:pt x="22" y="89"/>
                  </a:lnTo>
                  <a:lnTo>
                    <a:pt x="22" y="87"/>
                  </a:lnTo>
                  <a:lnTo>
                    <a:pt x="24" y="84"/>
                  </a:lnTo>
                  <a:lnTo>
                    <a:pt x="24" y="82"/>
                  </a:lnTo>
                  <a:lnTo>
                    <a:pt x="24" y="79"/>
                  </a:lnTo>
                  <a:lnTo>
                    <a:pt x="22" y="77"/>
                  </a:lnTo>
                  <a:lnTo>
                    <a:pt x="22" y="74"/>
                  </a:lnTo>
                  <a:lnTo>
                    <a:pt x="22" y="70"/>
                  </a:lnTo>
                  <a:lnTo>
                    <a:pt x="27" y="65"/>
                  </a:lnTo>
                  <a:lnTo>
                    <a:pt x="31" y="62"/>
                  </a:lnTo>
                  <a:lnTo>
                    <a:pt x="36" y="57"/>
                  </a:lnTo>
                  <a:lnTo>
                    <a:pt x="41" y="55"/>
                  </a:lnTo>
                  <a:lnTo>
                    <a:pt x="46" y="51"/>
                  </a:lnTo>
                  <a:lnTo>
                    <a:pt x="51" y="50"/>
                  </a:lnTo>
                  <a:lnTo>
                    <a:pt x="58" y="46"/>
                  </a:lnTo>
                  <a:lnTo>
                    <a:pt x="67" y="45"/>
                  </a:lnTo>
                  <a:lnTo>
                    <a:pt x="65" y="45"/>
                  </a:lnTo>
                  <a:lnTo>
                    <a:pt x="63" y="45"/>
                  </a:lnTo>
                  <a:lnTo>
                    <a:pt x="62" y="43"/>
                  </a:lnTo>
                  <a:lnTo>
                    <a:pt x="62" y="43"/>
                  </a:lnTo>
                  <a:lnTo>
                    <a:pt x="60" y="43"/>
                  </a:lnTo>
                  <a:lnTo>
                    <a:pt x="58" y="41"/>
                  </a:lnTo>
                  <a:lnTo>
                    <a:pt x="58" y="41"/>
                  </a:lnTo>
                  <a:lnTo>
                    <a:pt x="56" y="41"/>
                  </a:lnTo>
                  <a:lnTo>
                    <a:pt x="56" y="39"/>
                  </a:lnTo>
                  <a:lnTo>
                    <a:pt x="56" y="39"/>
                  </a:lnTo>
                  <a:lnTo>
                    <a:pt x="58" y="39"/>
                  </a:lnTo>
                  <a:lnTo>
                    <a:pt x="58" y="39"/>
                  </a:lnTo>
                  <a:lnTo>
                    <a:pt x="58" y="39"/>
                  </a:lnTo>
                  <a:lnTo>
                    <a:pt x="58" y="39"/>
                  </a:lnTo>
                  <a:lnTo>
                    <a:pt x="60" y="39"/>
                  </a:lnTo>
                  <a:lnTo>
                    <a:pt x="60" y="39"/>
                  </a:lnTo>
                  <a:lnTo>
                    <a:pt x="58" y="36"/>
                  </a:lnTo>
                  <a:lnTo>
                    <a:pt x="55" y="33"/>
                  </a:lnTo>
                  <a:lnTo>
                    <a:pt x="51" y="29"/>
                  </a:lnTo>
                  <a:lnTo>
                    <a:pt x="46" y="26"/>
                  </a:lnTo>
                  <a:lnTo>
                    <a:pt x="43" y="24"/>
                  </a:lnTo>
                  <a:lnTo>
                    <a:pt x="38" y="21"/>
                  </a:lnTo>
                  <a:lnTo>
                    <a:pt x="34" y="17"/>
                  </a:lnTo>
                  <a:lnTo>
                    <a:pt x="29" y="14"/>
                  </a:lnTo>
                  <a:lnTo>
                    <a:pt x="29" y="12"/>
                  </a:lnTo>
                  <a:lnTo>
                    <a:pt x="29" y="12"/>
                  </a:lnTo>
                  <a:lnTo>
                    <a:pt x="29" y="12"/>
                  </a:lnTo>
                  <a:lnTo>
                    <a:pt x="29" y="12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31" y="10"/>
                  </a:lnTo>
                  <a:lnTo>
                    <a:pt x="31" y="9"/>
                  </a:ln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827360" y="2232000"/>
              <a:ext cx="101520" cy="142920"/>
            </a:xfrm>
            <a:custGeom>
              <a:avLst/>
              <a:gdLst/>
              <a:ahLst/>
              <a:rect l="l" t="t" r="r" b="b"/>
              <a:pathLst>
                <a:path w="148" h="227">
                  <a:moveTo>
                    <a:pt x="31" y="9"/>
                  </a:moveTo>
                  <a:lnTo>
                    <a:pt x="39" y="5"/>
                  </a:lnTo>
                  <a:lnTo>
                    <a:pt x="46" y="4"/>
                  </a:lnTo>
                  <a:lnTo>
                    <a:pt x="51" y="2"/>
                  </a:lnTo>
                  <a:lnTo>
                    <a:pt x="55" y="0"/>
                  </a:lnTo>
                  <a:lnTo>
                    <a:pt x="60" y="0"/>
                  </a:lnTo>
                  <a:lnTo>
                    <a:pt x="63" y="2"/>
                  </a:lnTo>
                  <a:lnTo>
                    <a:pt x="70" y="5"/>
                  </a:lnTo>
                  <a:lnTo>
                    <a:pt x="77" y="9"/>
                  </a:lnTo>
                  <a:lnTo>
                    <a:pt x="77" y="12"/>
                  </a:lnTo>
                  <a:lnTo>
                    <a:pt x="77" y="16"/>
                  </a:lnTo>
                  <a:lnTo>
                    <a:pt x="77" y="17"/>
                  </a:lnTo>
                  <a:lnTo>
                    <a:pt x="75" y="21"/>
                  </a:lnTo>
                  <a:lnTo>
                    <a:pt x="75" y="24"/>
                  </a:lnTo>
                  <a:lnTo>
                    <a:pt x="74" y="27"/>
                  </a:lnTo>
                  <a:lnTo>
                    <a:pt x="74" y="31"/>
                  </a:lnTo>
                  <a:lnTo>
                    <a:pt x="72" y="33"/>
                  </a:lnTo>
                  <a:lnTo>
                    <a:pt x="77" y="33"/>
                  </a:lnTo>
                  <a:lnTo>
                    <a:pt x="81" y="34"/>
                  </a:lnTo>
                  <a:lnTo>
                    <a:pt x="86" y="34"/>
                  </a:lnTo>
                  <a:lnTo>
                    <a:pt x="91" y="36"/>
                  </a:lnTo>
                  <a:lnTo>
                    <a:pt x="96" y="38"/>
                  </a:lnTo>
                  <a:lnTo>
                    <a:pt x="101" y="38"/>
                  </a:lnTo>
                  <a:lnTo>
                    <a:pt x="106" y="39"/>
                  </a:lnTo>
                  <a:lnTo>
                    <a:pt x="112" y="39"/>
                  </a:lnTo>
                  <a:lnTo>
                    <a:pt x="112" y="50"/>
                  </a:lnTo>
                  <a:lnTo>
                    <a:pt x="112" y="58"/>
                  </a:lnTo>
                  <a:lnTo>
                    <a:pt x="112" y="65"/>
                  </a:lnTo>
                  <a:lnTo>
                    <a:pt x="110" y="70"/>
                  </a:lnTo>
                  <a:lnTo>
                    <a:pt x="108" y="75"/>
                  </a:lnTo>
                  <a:lnTo>
                    <a:pt x="105" y="80"/>
                  </a:lnTo>
                  <a:lnTo>
                    <a:pt x="98" y="87"/>
                  </a:lnTo>
                  <a:lnTo>
                    <a:pt x="89" y="92"/>
                  </a:lnTo>
                  <a:lnTo>
                    <a:pt x="98" y="92"/>
                  </a:lnTo>
                  <a:lnTo>
                    <a:pt x="105" y="94"/>
                  </a:lnTo>
                  <a:lnTo>
                    <a:pt x="113" y="94"/>
                  </a:lnTo>
                  <a:lnTo>
                    <a:pt x="120" y="96"/>
                  </a:lnTo>
                  <a:lnTo>
                    <a:pt x="127" y="98"/>
                  </a:lnTo>
                  <a:lnTo>
                    <a:pt x="134" y="101"/>
                  </a:lnTo>
                  <a:lnTo>
                    <a:pt x="141" y="104"/>
                  </a:lnTo>
                  <a:lnTo>
                    <a:pt x="148" y="108"/>
                  </a:lnTo>
                  <a:lnTo>
                    <a:pt x="144" y="116"/>
                  </a:lnTo>
                  <a:lnTo>
                    <a:pt x="141" y="125"/>
                  </a:lnTo>
                  <a:lnTo>
                    <a:pt x="137" y="130"/>
                  </a:lnTo>
                  <a:lnTo>
                    <a:pt x="134" y="135"/>
                  </a:lnTo>
                  <a:lnTo>
                    <a:pt x="127" y="139"/>
                  </a:lnTo>
                  <a:lnTo>
                    <a:pt x="120" y="140"/>
                  </a:lnTo>
                  <a:lnTo>
                    <a:pt x="110" y="142"/>
                  </a:lnTo>
                  <a:lnTo>
                    <a:pt x="100" y="144"/>
                  </a:lnTo>
                  <a:lnTo>
                    <a:pt x="106" y="144"/>
                  </a:lnTo>
                  <a:lnTo>
                    <a:pt x="113" y="145"/>
                  </a:lnTo>
                  <a:lnTo>
                    <a:pt x="119" y="149"/>
                  </a:lnTo>
                  <a:lnTo>
                    <a:pt x="124" y="152"/>
                  </a:lnTo>
                  <a:lnTo>
                    <a:pt x="127" y="156"/>
                  </a:lnTo>
                  <a:lnTo>
                    <a:pt x="131" y="161"/>
                  </a:lnTo>
                  <a:lnTo>
                    <a:pt x="132" y="168"/>
                  </a:lnTo>
                  <a:lnTo>
                    <a:pt x="132" y="173"/>
                  </a:lnTo>
                  <a:lnTo>
                    <a:pt x="125" y="176"/>
                  </a:lnTo>
                  <a:lnTo>
                    <a:pt x="120" y="178"/>
                  </a:lnTo>
                  <a:lnTo>
                    <a:pt x="113" y="178"/>
                  </a:lnTo>
                  <a:lnTo>
                    <a:pt x="106" y="180"/>
                  </a:lnTo>
                  <a:lnTo>
                    <a:pt x="101" y="181"/>
                  </a:lnTo>
                  <a:lnTo>
                    <a:pt x="96" y="181"/>
                  </a:lnTo>
                  <a:lnTo>
                    <a:pt x="91" y="181"/>
                  </a:lnTo>
                  <a:lnTo>
                    <a:pt x="88" y="183"/>
                  </a:lnTo>
                  <a:lnTo>
                    <a:pt x="89" y="185"/>
                  </a:lnTo>
                  <a:lnTo>
                    <a:pt x="91" y="186"/>
                  </a:lnTo>
                  <a:lnTo>
                    <a:pt x="93" y="190"/>
                  </a:lnTo>
                  <a:lnTo>
                    <a:pt x="93" y="193"/>
                  </a:lnTo>
                  <a:lnTo>
                    <a:pt x="91" y="200"/>
                  </a:lnTo>
                  <a:lnTo>
                    <a:pt x="88" y="209"/>
                  </a:lnTo>
                  <a:lnTo>
                    <a:pt x="82" y="215"/>
                  </a:lnTo>
                  <a:lnTo>
                    <a:pt x="75" y="221"/>
                  </a:lnTo>
                  <a:lnTo>
                    <a:pt x="69" y="226"/>
                  </a:lnTo>
                  <a:lnTo>
                    <a:pt x="63" y="227"/>
                  </a:lnTo>
                  <a:lnTo>
                    <a:pt x="63" y="224"/>
                  </a:lnTo>
                  <a:lnTo>
                    <a:pt x="63" y="215"/>
                  </a:lnTo>
                  <a:lnTo>
                    <a:pt x="56" y="212"/>
                  </a:lnTo>
                  <a:lnTo>
                    <a:pt x="46" y="212"/>
                  </a:lnTo>
                  <a:lnTo>
                    <a:pt x="38" y="212"/>
                  </a:lnTo>
                  <a:lnTo>
                    <a:pt x="29" y="214"/>
                  </a:lnTo>
                  <a:lnTo>
                    <a:pt x="22" y="212"/>
                  </a:lnTo>
                  <a:lnTo>
                    <a:pt x="17" y="209"/>
                  </a:lnTo>
                  <a:lnTo>
                    <a:pt x="13" y="205"/>
                  </a:lnTo>
                  <a:lnTo>
                    <a:pt x="10" y="197"/>
                  </a:lnTo>
                  <a:lnTo>
                    <a:pt x="8" y="185"/>
                  </a:lnTo>
                  <a:lnTo>
                    <a:pt x="10" y="185"/>
                  </a:lnTo>
                  <a:lnTo>
                    <a:pt x="10" y="185"/>
                  </a:lnTo>
                  <a:lnTo>
                    <a:pt x="10" y="183"/>
                  </a:lnTo>
                  <a:lnTo>
                    <a:pt x="12" y="181"/>
                  </a:lnTo>
                  <a:lnTo>
                    <a:pt x="13" y="180"/>
                  </a:lnTo>
                  <a:lnTo>
                    <a:pt x="13" y="180"/>
                  </a:lnTo>
                  <a:lnTo>
                    <a:pt x="15" y="178"/>
                  </a:lnTo>
                  <a:lnTo>
                    <a:pt x="15" y="176"/>
                  </a:lnTo>
                  <a:lnTo>
                    <a:pt x="8" y="173"/>
                  </a:lnTo>
                  <a:lnTo>
                    <a:pt x="3" y="169"/>
                  </a:lnTo>
                  <a:lnTo>
                    <a:pt x="1" y="164"/>
                  </a:lnTo>
                  <a:lnTo>
                    <a:pt x="0" y="159"/>
                  </a:lnTo>
                  <a:lnTo>
                    <a:pt x="0" y="154"/>
                  </a:lnTo>
                  <a:lnTo>
                    <a:pt x="0" y="147"/>
                  </a:lnTo>
                  <a:lnTo>
                    <a:pt x="0" y="140"/>
                  </a:lnTo>
                  <a:lnTo>
                    <a:pt x="0" y="133"/>
                  </a:lnTo>
                  <a:lnTo>
                    <a:pt x="0" y="133"/>
                  </a:lnTo>
                  <a:lnTo>
                    <a:pt x="0" y="133"/>
                  </a:lnTo>
                  <a:lnTo>
                    <a:pt x="0" y="133"/>
                  </a:lnTo>
                  <a:lnTo>
                    <a:pt x="1" y="132"/>
                  </a:lnTo>
                  <a:lnTo>
                    <a:pt x="1" y="132"/>
                  </a:lnTo>
                  <a:lnTo>
                    <a:pt x="1" y="132"/>
                  </a:lnTo>
                  <a:lnTo>
                    <a:pt x="1" y="132"/>
                  </a:lnTo>
                  <a:lnTo>
                    <a:pt x="1" y="132"/>
                  </a:lnTo>
                  <a:lnTo>
                    <a:pt x="3" y="130"/>
                  </a:lnTo>
                  <a:lnTo>
                    <a:pt x="6" y="128"/>
                  </a:lnTo>
                  <a:lnTo>
                    <a:pt x="10" y="125"/>
                  </a:lnTo>
                  <a:lnTo>
                    <a:pt x="13" y="123"/>
                  </a:lnTo>
                  <a:lnTo>
                    <a:pt x="17" y="120"/>
                  </a:lnTo>
                  <a:lnTo>
                    <a:pt x="20" y="118"/>
                  </a:lnTo>
                  <a:lnTo>
                    <a:pt x="24" y="115"/>
                  </a:lnTo>
                  <a:lnTo>
                    <a:pt x="27" y="113"/>
                  </a:lnTo>
                  <a:lnTo>
                    <a:pt x="27" y="111"/>
                  </a:lnTo>
                  <a:lnTo>
                    <a:pt x="27" y="108"/>
                  </a:lnTo>
                  <a:lnTo>
                    <a:pt x="25" y="106"/>
                  </a:lnTo>
                  <a:lnTo>
                    <a:pt x="25" y="103"/>
                  </a:lnTo>
                  <a:lnTo>
                    <a:pt x="24" y="101"/>
                  </a:lnTo>
                  <a:lnTo>
                    <a:pt x="24" y="98"/>
                  </a:lnTo>
                  <a:lnTo>
                    <a:pt x="22" y="96"/>
                  </a:lnTo>
                  <a:lnTo>
                    <a:pt x="22" y="92"/>
                  </a:lnTo>
                  <a:lnTo>
                    <a:pt x="22" y="89"/>
                  </a:lnTo>
                  <a:lnTo>
                    <a:pt x="22" y="87"/>
                  </a:lnTo>
                  <a:lnTo>
                    <a:pt x="24" y="84"/>
                  </a:lnTo>
                  <a:lnTo>
                    <a:pt x="24" y="82"/>
                  </a:lnTo>
                  <a:lnTo>
                    <a:pt x="24" y="79"/>
                  </a:lnTo>
                  <a:lnTo>
                    <a:pt x="22" y="77"/>
                  </a:lnTo>
                  <a:lnTo>
                    <a:pt x="22" y="74"/>
                  </a:lnTo>
                  <a:lnTo>
                    <a:pt x="22" y="70"/>
                  </a:lnTo>
                  <a:lnTo>
                    <a:pt x="27" y="65"/>
                  </a:lnTo>
                  <a:lnTo>
                    <a:pt x="31" y="62"/>
                  </a:lnTo>
                  <a:lnTo>
                    <a:pt x="36" y="57"/>
                  </a:lnTo>
                  <a:lnTo>
                    <a:pt x="41" y="55"/>
                  </a:lnTo>
                  <a:lnTo>
                    <a:pt x="46" y="51"/>
                  </a:lnTo>
                  <a:lnTo>
                    <a:pt x="51" y="50"/>
                  </a:lnTo>
                  <a:lnTo>
                    <a:pt x="58" y="46"/>
                  </a:lnTo>
                  <a:lnTo>
                    <a:pt x="67" y="45"/>
                  </a:lnTo>
                  <a:lnTo>
                    <a:pt x="65" y="45"/>
                  </a:lnTo>
                  <a:lnTo>
                    <a:pt x="63" y="45"/>
                  </a:lnTo>
                  <a:lnTo>
                    <a:pt x="62" y="43"/>
                  </a:lnTo>
                  <a:lnTo>
                    <a:pt x="62" y="43"/>
                  </a:lnTo>
                  <a:lnTo>
                    <a:pt x="60" y="43"/>
                  </a:lnTo>
                  <a:lnTo>
                    <a:pt x="58" y="41"/>
                  </a:lnTo>
                  <a:lnTo>
                    <a:pt x="58" y="41"/>
                  </a:lnTo>
                  <a:lnTo>
                    <a:pt x="56" y="41"/>
                  </a:lnTo>
                  <a:lnTo>
                    <a:pt x="56" y="39"/>
                  </a:lnTo>
                  <a:lnTo>
                    <a:pt x="56" y="39"/>
                  </a:lnTo>
                  <a:lnTo>
                    <a:pt x="58" y="39"/>
                  </a:lnTo>
                  <a:lnTo>
                    <a:pt x="58" y="39"/>
                  </a:lnTo>
                  <a:lnTo>
                    <a:pt x="58" y="39"/>
                  </a:lnTo>
                  <a:lnTo>
                    <a:pt x="58" y="39"/>
                  </a:lnTo>
                  <a:lnTo>
                    <a:pt x="60" y="39"/>
                  </a:lnTo>
                  <a:lnTo>
                    <a:pt x="60" y="39"/>
                  </a:lnTo>
                  <a:lnTo>
                    <a:pt x="58" y="36"/>
                  </a:lnTo>
                  <a:lnTo>
                    <a:pt x="55" y="33"/>
                  </a:lnTo>
                  <a:lnTo>
                    <a:pt x="51" y="29"/>
                  </a:lnTo>
                  <a:lnTo>
                    <a:pt x="46" y="26"/>
                  </a:lnTo>
                  <a:lnTo>
                    <a:pt x="43" y="24"/>
                  </a:lnTo>
                  <a:lnTo>
                    <a:pt x="38" y="21"/>
                  </a:lnTo>
                  <a:lnTo>
                    <a:pt x="34" y="17"/>
                  </a:lnTo>
                  <a:lnTo>
                    <a:pt x="29" y="14"/>
                  </a:lnTo>
                  <a:lnTo>
                    <a:pt x="29" y="12"/>
                  </a:lnTo>
                  <a:lnTo>
                    <a:pt x="29" y="12"/>
                  </a:lnTo>
                  <a:lnTo>
                    <a:pt x="29" y="12"/>
                  </a:lnTo>
                  <a:lnTo>
                    <a:pt x="29" y="12"/>
                  </a:lnTo>
                  <a:lnTo>
                    <a:pt x="29" y="10"/>
                  </a:lnTo>
                  <a:lnTo>
                    <a:pt x="29" y="10"/>
                  </a:lnTo>
                  <a:lnTo>
                    <a:pt x="31" y="10"/>
                  </a:lnTo>
                  <a:lnTo>
                    <a:pt x="31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841400" y="2286000"/>
              <a:ext cx="5040" cy="11160"/>
            </a:xfrm>
            <a:custGeom>
              <a:avLst/>
              <a:gdLst/>
              <a:ahLst/>
              <a:rect l="l" t="t" r="r" b="b"/>
              <a:pathLst>
                <a:path w="7" h="17">
                  <a:moveTo>
                    <a:pt x="0" y="0"/>
                  </a:moveTo>
                  <a:lnTo>
                    <a:pt x="2" y="2"/>
                  </a:lnTo>
                  <a:lnTo>
                    <a:pt x="3" y="4"/>
                  </a:lnTo>
                  <a:lnTo>
                    <a:pt x="5" y="5"/>
                  </a:lnTo>
                  <a:lnTo>
                    <a:pt x="5" y="9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5" y="16"/>
                  </a:lnTo>
                  <a:lnTo>
                    <a:pt x="3" y="17"/>
                  </a:lnTo>
                  <a:lnTo>
                    <a:pt x="3" y="17"/>
                  </a:lnTo>
                  <a:lnTo>
                    <a:pt x="3" y="16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827360" y="2232000"/>
              <a:ext cx="101520" cy="142920"/>
            </a:xfrm>
            <a:custGeom>
              <a:avLst/>
              <a:gdLst/>
              <a:ahLst/>
              <a:rect l="l" t="t" r="r" b="b"/>
              <a:pathLst>
                <a:path w="148" h="227">
                  <a:moveTo>
                    <a:pt x="58" y="212"/>
                  </a:moveTo>
                  <a:lnTo>
                    <a:pt x="58" y="212"/>
                  </a:lnTo>
                  <a:lnTo>
                    <a:pt x="56" y="210"/>
                  </a:lnTo>
                  <a:lnTo>
                    <a:pt x="56" y="210"/>
                  </a:lnTo>
                  <a:lnTo>
                    <a:pt x="56" y="210"/>
                  </a:lnTo>
                  <a:lnTo>
                    <a:pt x="56" y="209"/>
                  </a:lnTo>
                  <a:lnTo>
                    <a:pt x="55" y="209"/>
                  </a:lnTo>
                  <a:lnTo>
                    <a:pt x="55" y="207"/>
                  </a:lnTo>
                  <a:lnTo>
                    <a:pt x="53" y="207"/>
                  </a:lnTo>
                  <a:lnTo>
                    <a:pt x="50" y="207"/>
                  </a:lnTo>
                  <a:lnTo>
                    <a:pt x="46" y="209"/>
                  </a:lnTo>
                  <a:lnTo>
                    <a:pt x="43" y="209"/>
                  </a:lnTo>
                  <a:lnTo>
                    <a:pt x="39" y="209"/>
                  </a:lnTo>
                  <a:lnTo>
                    <a:pt x="34" y="209"/>
                  </a:lnTo>
                  <a:lnTo>
                    <a:pt x="31" y="209"/>
                  </a:lnTo>
                  <a:lnTo>
                    <a:pt x="29" y="207"/>
                  </a:lnTo>
                  <a:lnTo>
                    <a:pt x="25" y="203"/>
                  </a:lnTo>
                  <a:lnTo>
                    <a:pt x="24" y="203"/>
                  </a:lnTo>
                  <a:lnTo>
                    <a:pt x="22" y="203"/>
                  </a:lnTo>
                  <a:lnTo>
                    <a:pt x="20" y="203"/>
                  </a:lnTo>
                  <a:lnTo>
                    <a:pt x="19" y="203"/>
                  </a:lnTo>
                  <a:lnTo>
                    <a:pt x="19" y="203"/>
                  </a:lnTo>
                  <a:lnTo>
                    <a:pt x="17" y="205"/>
                  </a:lnTo>
                  <a:lnTo>
                    <a:pt x="15" y="205"/>
                  </a:lnTo>
                  <a:lnTo>
                    <a:pt x="13" y="205"/>
                  </a:lnTo>
                  <a:lnTo>
                    <a:pt x="13" y="203"/>
                  </a:lnTo>
                  <a:lnTo>
                    <a:pt x="13" y="203"/>
                  </a:lnTo>
                  <a:lnTo>
                    <a:pt x="12" y="202"/>
                  </a:lnTo>
                  <a:lnTo>
                    <a:pt x="12" y="200"/>
                  </a:lnTo>
                  <a:lnTo>
                    <a:pt x="12" y="198"/>
                  </a:lnTo>
                  <a:lnTo>
                    <a:pt x="10" y="197"/>
                  </a:lnTo>
                  <a:lnTo>
                    <a:pt x="10" y="195"/>
                  </a:lnTo>
                  <a:lnTo>
                    <a:pt x="10" y="193"/>
                  </a:lnTo>
                  <a:lnTo>
                    <a:pt x="12" y="191"/>
                  </a:lnTo>
                  <a:lnTo>
                    <a:pt x="13" y="188"/>
                  </a:lnTo>
                  <a:lnTo>
                    <a:pt x="15" y="186"/>
                  </a:lnTo>
                  <a:lnTo>
                    <a:pt x="17" y="185"/>
                  </a:lnTo>
                  <a:lnTo>
                    <a:pt x="19" y="181"/>
                  </a:lnTo>
                  <a:lnTo>
                    <a:pt x="20" y="180"/>
                  </a:lnTo>
                  <a:lnTo>
                    <a:pt x="20" y="176"/>
                  </a:lnTo>
                  <a:lnTo>
                    <a:pt x="20" y="173"/>
                  </a:lnTo>
                  <a:lnTo>
                    <a:pt x="19" y="171"/>
                  </a:lnTo>
                  <a:lnTo>
                    <a:pt x="15" y="169"/>
                  </a:lnTo>
                  <a:lnTo>
                    <a:pt x="13" y="168"/>
                  </a:lnTo>
                  <a:lnTo>
                    <a:pt x="10" y="166"/>
                  </a:lnTo>
                  <a:lnTo>
                    <a:pt x="6" y="164"/>
                  </a:lnTo>
                  <a:lnTo>
                    <a:pt x="5" y="164"/>
                  </a:lnTo>
                  <a:lnTo>
                    <a:pt x="1" y="161"/>
                  </a:lnTo>
                  <a:lnTo>
                    <a:pt x="0" y="159"/>
                  </a:lnTo>
                  <a:lnTo>
                    <a:pt x="0" y="157"/>
                  </a:lnTo>
                  <a:lnTo>
                    <a:pt x="0" y="154"/>
                  </a:lnTo>
                  <a:lnTo>
                    <a:pt x="0" y="152"/>
                  </a:lnTo>
                  <a:lnTo>
                    <a:pt x="0" y="149"/>
                  </a:lnTo>
                  <a:lnTo>
                    <a:pt x="0" y="145"/>
                  </a:lnTo>
                  <a:lnTo>
                    <a:pt x="0" y="144"/>
                  </a:lnTo>
                  <a:lnTo>
                    <a:pt x="0" y="140"/>
                  </a:lnTo>
                  <a:lnTo>
                    <a:pt x="0" y="137"/>
                  </a:lnTo>
                  <a:lnTo>
                    <a:pt x="0" y="137"/>
                  </a:lnTo>
                  <a:lnTo>
                    <a:pt x="0" y="135"/>
                  </a:lnTo>
                  <a:lnTo>
                    <a:pt x="1" y="135"/>
                  </a:lnTo>
                  <a:lnTo>
                    <a:pt x="1" y="135"/>
                  </a:lnTo>
                  <a:lnTo>
                    <a:pt x="1" y="133"/>
                  </a:lnTo>
                  <a:lnTo>
                    <a:pt x="1" y="133"/>
                  </a:lnTo>
                  <a:lnTo>
                    <a:pt x="3" y="133"/>
                  </a:lnTo>
                  <a:lnTo>
                    <a:pt x="3" y="133"/>
                  </a:lnTo>
                  <a:lnTo>
                    <a:pt x="8" y="128"/>
                  </a:lnTo>
                  <a:lnTo>
                    <a:pt x="13" y="125"/>
                  </a:lnTo>
                  <a:lnTo>
                    <a:pt x="19" y="121"/>
                  </a:lnTo>
                  <a:lnTo>
                    <a:pt x="24" y="116"/>
                  </a:lnTo>
                  <a:lnTo>
                    <a:pt x="29" y="113"/>
                  </a:lnTo>
                  <a:lnTo>
                    <a:pt x="32" y="108"/>
                  </a:lnTo>
                  <a:lnTo>
                    <a:pt x="36" y="103"/>
                  </a:lnTo>
                  <a:lnTo>
                    <a:pt x="39" y="96"/>
                  </a:lnTo>
                  <a:lnTo>
                    <a:pt x="38" y="92"/>
                  </a:lnTo>
                  <a:lnTo>
                    <a:pt x="36" y="89"/>
                  </a:lnTo>
                  <a:lnTo>
                    <a:pt x="34" y="86"/>
                  </a:lnTo>
                  <a:lnTo>
                    <a:pt x="31" y="82"/>
                  </a:lnTo>
                  <a:lnTo>
                    <a:pt x="29" y="77"/>
                  </a:lnTo>
                  <a:lnTo>
                    <a:pt x="27" y="74"/>
                  </a:lnTo>
                  <a:lnTo>
                    <a:pt x="25" y="70"/>
                  </a:lnTo>
                  <a:lnTo>
                    <a:pt x="25" y="67"/>
                  </a:lnTo>
                  <a:lnTo>
                    <a:pt x="29" y="63"/>
                  </a:lnTo>
                  <a:lnTo>
                    <a:pt x="34" y="60"/>
                  </a:lnTo>
                  <a:lnTo>
                    <a:pt x="38" y="57"/>
                  </a:lnTo>
                  <a:lnTo>
                    <a:pt x="43" y="53"/>
                  </a:lnTo>
                  <a:lnTo>
                    <a:pt x="48" y="51"/>
                  </a:lnTo>
                  <a:lnTo>
                    <a:pt x="53" y="50"/>
                  </a:lnTo>
                  <a:lnTo>
                    <a:pt x="58" y="46"/>
                  </a:lnTo>
                  <a:lnTo>
                    <a:pt x="67" y="45"/>
                  </a:lnTo>
                  <a:lnTo>
                    <a:pt x="65" y="45"/>
                  </a:lnTo>
                  <a:lnTo>
                    <a:pt x="63" y="45"/>
                  </a:lnTo>
                  <a:lnTo>
                    <a:pt x="62" y="43"/>
                  </a:lnTo>
                  <a:lnTo>
                    <a:pt x="62" y="43"/>
                  </a:lnTo>
                  <a:lnTo>
                    <a:pt x="60" y="43"/>
                  </a:lnTo>
                  <a:lnTo>
                    <a:pt x="58" y="41"/>
                  </a:lnTo>
                  <a:lnTo>
                    <a:pt x="58" y="41"/>
                  </a:lnTo>
                  <a:lnTo>
                    <a:pt x="56" y="41"/>
                  </a:lnTo>
                  <a:lnTo>
                    <a:pt x="56" y="39"/>
                  </a:lnTo>
                  <a:lnTo>
                    <a:pt x="56" y="39"/>
                  </a:lnTo>
                  <a:lnTo>
                    <a:pt x="58" y="39"/>
                  </a:lnTo>
                  <a:lnTo>
                    <a:pt x="58" y="39"/>
                  </a:lnTo>
                  <a:lnTo>
                    <a:pt x="58" y="39"/>
                  </a:lnTo>
                  <a:lnTo>
                    <a:pt x="58" y="39"/>
                  </a:lnTo>
                  <a:lnTo>
                    <a:pt x="60" y="39"/>
                  </a:lnTo>
                  <a:lnTo>
                    <a:pt x="60" y="39"/>
                  </a:lnTo>
                  <a:lnTo>
                    <a:pt x="60" y="38"/>
                  </a:lnTo>
                  <a:lnTo>
                    <a:pt x="58" y="38"/>
                  </a:lnTo>
                  <a:lnTo>
                    <a:pt x="58" y="36"/>
                  </a:lnTo>
                  <a:lnTo>
                    <a:pt x="56" y="34"/>
                  </a:lnTo>
                  <a:lnTo>
                    <a:pt x="56" y="34"/>
                  </a:lnTo>
                  <a:lnTo>
                    <a:pt x="55" y="33"/>
                  </a:lnTo>
                  <a:lnTo>
                    <a:pt x="55" y="33"/>
                  </a:lnTo>
                  <a:lnTo>
                    <a:pt x="53" y="31"/>
                  </a:lnTo>
                  <a:lnTo>
                    <a:pt x="53" y="31"/>
                  </a:lnTo>
                  <a:lnTo>
                    <a:pt x="53" y="31"/>
                  </a:lnTo>
                  <a:lnTo>
                    <a:pt x="53" y="29"/>
                  </a:lnTo>
                  <a:lnTo>
                    <a:pt x="53" y="29"/>
                  </a:lnTo>
                  <a:lnTo>
                    <a:pt x="53" y="29"/>
                  </a:lnTo>
                  <a:lnTo>
                    <a:pt x="53" y="27"/>
                  </a:lnTo>
                  <a:lnTo>
                    <a:pt x="53" y="27"/>
                  </a:lnTo>
                  <a:lnTo>
                    <a:pt x="53" y="27"/>
                  </a:lnTo>
                  <a:lnTo>
                    <a:pt x="51" y="24"/>
                  </a:lnTo>
                  <a:lnTo>
                    <a:pt x="48" y="22"/>
                  </a:lnTo>
                  <a:lnTo>
                    <a:pt x="44" y="21"/>
                  </a:lnTo>
                  <a:lnTo>
                    <a:pt x="41" y="19"/>
                  </a:lnTo>
                  <a:lnTo>
                    <a:pt x="38" y="17"/>
                  </a:lnTo>
                  <a:lnTo>
                    <a:pt x="36" y="14"/>
                  </a:lnTo>
                  <a:lnTo>
                    <a:pt x="32" y="12"/>
                  </a:lnTo>
                  <a:lnTo>
                    <a:pt x="31" y="9"/>
                  </a:lnTo>
                  <a:lnTo>
                    <a:pt x="39" y="5"/>
                  </a:lnTo>
                  <a:lnTo>
                    <a:pt x="46" y="4"/>
                  </a:lnTo>
                  <a:lnTo>
                    <a:pt x="51" y="2"/>
                  </a:lnTo>
                  <a:lnTo>
                    <a:pt x="55" y="0"/>
                  </a:lnTo>
                  <a:lnTo>
                    <a:pt x="60" y="0"/>
                  </a:lnTo>
                  <a:lnTo>
                    <a:pt x="65" y="2"/>
                  </a:lnTo>
                  <a:lnTo>
                    <a:pt x="70" y="5"/>
                  </a:lnTo>
                  <a:lnTo>
                    <a:pt x="77" y="9"/>
                  </a:lnTo>
                  <a:lnTo>
                    <a:pt x="77" y="12"/>
                  </a:lnTo>
                  <a:lnTo>
                    <a:pt x="77" y="16"/>
                  </a:lnTo>
                  <a:lnTo>
                    <a:pt x="77" y="17"/>
                  </a:lnTo>
                  <a:lnTo>
                    <a:pt x="75" y="21"/>
                  </a:lnTo>
                  <a:lnTo>
                    <a:pt x="75" y="24"/>
                  </a:lnTo>
                  <a:lnTo>
                    <a:pt x="74" y="27"/>
                  </a:lnTo>
                  <a:lnTo>
                    <a:pt x="74" y="31"/>
                  </a:lnTo>
                  <a:lnTo>
                    <a:pt x="72" y="33"/>
                  </a:lnTo>
                  <a:lnTo>
                    <a:pt x="77" y="33"/>
                  </a:lnTo>
                  <a:lnTo>
                    <a:pt x="81" y="34"/>
                  </a:lnTo>
                  <a:lnTo>
                    <a:pt x="86" y="34"/>
                  </a:lnTo>
                  <a:lnTo>
                    <a:pt x="91" y="36"/>
                  </a:lnTo>
                  <a:lnTo>
                    <a:pt x="96" y="38"/>
                  </a:lnTo>
                  <a:lnTo>
                    <a:pt x="101" y="38"/>
                  </a:lnTo>
                  <a:lnTo>
                    <a:pt x="106" y="39"/>
                  </a:lnTo>
                  <a:lnTo>
                    <a:pt x="112" y="39"/>
                  </a:lnTo>
                  <a:lnTo>
                    <a:pt x="112" y="50"/>
                  </a:lnTo>
                  <a:lnTo>
                    <a:pt x="112" y="58"/>
                  </a:lnTo>
                  <a:lnTo>
                    <a:pt x="112" y="65"/>
                  </a:lnTo>
                  <a:lnTo>
                    <a:pt x="110" y="70"/>
                  </a:lnTo>
                  <a:lnTo>
                    <a:pt x="108" y="75"/>
                  </a:lnTo>
                  <a:lnTo>
                    <a:pt x="105" y="80"/>
                  </a:lnTo>
                  <a:lnTo>
                    <a:pt x="98" y="87"/>
                  </a:lnTo>
                  <a:lnTo>
                    <a:pt x="89" y="92"/>
                  </a:lnTo>
                  <a:lnTo>
                    <a:pt x="98" y="92"/>
                  </a:lnTo>
                  <a:lnTo>
                    <a:pt x="105" y="94"/>
                  </a:lnTo>
                  <a:lnTo>
                    <a:pt x="113" y="94"/>
                  </a:lnTo>
                  <a:lnTo>
                    <a:pt x="120" y="96"/>
                  </a:lnTo>
                  <a:lnTo>
                    <a:pt x="127" y="98"/>
                  </a:lnTo>
                  <a:lnTo>
                    <a:pt x="134" y="101"/>
                  </a:lnTo>
                  <a:lnTo>
                    <a:pt x="141" y="104"/>
                  </a:lnTo>
                  <a:lnTo>
                    <a:pt x="148" y="108"/>
                  </a:lnTo>
                  <a:lnTo>
                    <a:pt x="144" y="116"/>
                  </a:lnTo>
                  <a:lnTo>
                    <a:pt x="141" y="125"/>
                  </a:lnTo>
                  <a:lnTo>
                    <a:pt x="137" y="130"/>
                  </a:lnTo>
                  <a:lnTo>
                    <a:pt x="134" y="135"/>
                  </a:lnTo>
                  <a:lnTo>
                    <a:pt x="127" y="139"/>
                  </a:lnTo>
                  <a:lnTo>
                    <a:pt x="120" y="140"/>
                  </a:lnTo>
                  <a:lnTo>
                    <a:pt x="110" y="142"/>
                  </a:lnTo>
                  <a:lnTo>
                    <a:pt x="100" y="144"/>
                  </a:lnTo>
                  <a:lnTo>
                    <a:pt x="106" y="144"/>
                  </a:lnTo>
                  <a:lnTo>
                    <a:pt x="113" y="145"/>
                  </a:lnTo>
                  <a:lnTo>
                    <a:pt x="119" y="149"/>
                  </a:lnTo>
                  <a:lnTo>
                    <a:pt x="124" y="152"/>
                  </a:lnTo>
                  <a:lnTo>
                    <a:pt x="127" y="156"/>
                  </a:lnTo>
                  <a:lnTo>
                    <a:pt x="131" y="161"/>
                  </a:lnTo>
                  <a:lnTo>
                    <a:pt x="132" y="168"/>
                  </a:lnTo>
                  <a:lnTo>
                    <a:pt x="132" y="173"/>
                  </a:lnTo>
                  <a:lnTo>
                    <a:pt x="125" y="176"/>
                  </a:lnTo>
                  <a:lnTo>
                    <a:pt x="120" y="178"/>
                  </a:lnTo>
                  <a:lnTo>
                    <a:pt x="113" y="178"/>
                  </a:lnTo>
                  <a:lnTo>
                    <a:pt x="106" y="180"/>
                  </a:lnTo>
                  <a:lnTo>
                    <a:pt x="101" y="181"/>
                  </a:lnTo>
                  <a:lnTo>
                    <a:pt x="96" y="181"/>
                  </a:lnTo>
                  <a:lnTo>
                    <a:pt x="91" y="181"/>
                  </a:lnTo>
                  <a:lnTo>
                    <a:pt x="88" y="183"/>
                  </a:lnTo>
                  <a:lnTo>
                    <a:pt x="89" y="185"/>
                  </a:lnTo>
                  <a:lnTo>
                    <a:pt x="91" y="186"/>
                  </a:lnTo>
                  <a:lnTo>
                    <a:pt x="93" y="190"/>
                  </a:lnTo>
                  <a:lnTo>
                    <a:pt x="93" y="193"/>
                  </a:lnTo>
                  <a:lnTo>
                    <a:pt x="91" y="200"/>
                  </a:lnTo>
                  <a:lnTo>
                    <a:pt x="88" y="209"/>
                  </a:lnTo>
                  <a:lnTo>
                    <a:pt x="82" y="215"/>
                  </a:lnTo>
                  <a:lnTo>
                    <a:pt x="75" y="221"/>
                  </a:lnTo>
                  <a:lnTo>
                    <a:pt x="69" y="226"/>
                  </a:lnTo>
                  <a:lnTo>
                    <a:pt x="63" y="227"/>
                  </a:lnTo>
                  <a:lnTo>
                    <a:pt x="63" y="224"/>
                  </a:lnTo>
                  <a:lnTo>
                    <a:pt x="63" y="215"/>
                  </a:lnTo>
                  <a:lnTo>
                    <a:pt x="58" y="212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549440" y="2198520"/>
              <a:ext cx="138240" cy="204840"/>
            </a:xfrm>
            <a:custGeom>
              <a:avLst/>
              <a:gdLst/>
              <a:ahLst/>
              <a:rect l="l" t="t" r="r" b="b"/>
              <a:pathLst>
                <a:path w="202" h="325">
                  <a:moveTo>
                    <a:pt x="61" y="0"/>
                  </a:moveTo>
                  <a:lnTo>
                    <a:pt x="57" y="7"/>
                  </a:lnTo>
                  <a:lnTo>
                    <a:pt x="55" y="14"/>
                  </a:lnTo>
                  <a:lnTo>
                    <a:pt x="54" y="17"/>
                  </a:lnTo>
                  <a:lnTo>
                    <a:pt x="52" y="22"/>
                  </a:lnTo>
                  <a:lnTo>
                    <a:pt x="52" y="26"/>
                  </a:lnTo>
                  <a:lnTo>
                    <a:pt x="52" y="31"/>
                  </a:lnTo>
                  <a:lnTo>
                    <a:pt x="54" y="36"/>
                  </a:lnTo>
                  <a:lnTo>
                    <a:pt x="55" y="45"/>
                  </a:lnTo>
                  <a:lnTo>
                    <a:pt x="50" y="46"/>
                  </a:lnTo>
                  <a:lnTo>
                    <a:pt x="45" y="48"/>
                  </a:lnTo>
                  <a:lnTo>
                    <a:pt x="40" y="50"/>
                  </a:lnTo>
                  <a:lnTo>
                    <a:pt x="33" y="51"/>
                  </a:lnTo>
                  <a:lnTo>
                    <a:pt x="28" y="53"/>
                  </a:lnTo>
                  <a:lnTo>
                    <a:pt x="21" y="55"/>
                  </a:lnTo>
                  <a:lnTo>
                    <a:pt x="16" y="55"/>
                  </a:lnTo>
                  <a:lnTo>
                    <a:pt x="11" y="57"/>
                  </a:lnTo>
                  <a:lnTo>
                    <a:pt x="9" y="58"/>
                  </a:lnTo>
                  <a:lnTo>
                    <a:pt x="7" y="60"/>
                  </a:lnTo>
                  <a:lnTo>
                    <a:pt x="5" y="63"/>
                  </a:lnTo>
                  <a:lnTo>
                    <a:pt x="4" y="65"/>
                  </a:lnTo>
                  <a:lnTo>
                    <a:pt x="4" y="67"/>
                  </a:lnTo>
                  <a:lnTo>
                    <a:pt x="2" y="70"/>
                  </a:lnTo>
                  <a:lnTo>
                    <a:pt x="0" y="72"/>
                  </a:lnTo>
                  <a:lnTo>
                    <a:pt x="0" y="74"/>
                  </a:lnTo>
                  <a:lnTo>
                    <a:pt x="4" y="79"/>
                  </a:lnTo>
                  <a:lnTo>
                    <a:pt x="7" y="82"/>
                  </a:lnTo>
                  <a:lnTo>
                    <a:pt x="11" y="86"/>
                  </a:lnTo>
                  <a:lnTo>
                    <a:pt x="14" y="89"/>
                  </a:lnTo>
                  <a:lnTo>
                    <a:pt x="17" y="91"/>
                  </a:lnTo>
                  <a:lnTo>
                    <a:pt x="21" y="94"/>
                  </a:lnTo>
                  <a:lnTo>
                    <a:pt x="26" y="96"/>
                  </a:lnTo>
                  <a:lnTo>
                    <a:pt x="31" y="98"/>
                  </a:lnTo>
                  <a:lnTo>
                    <a:pt x="16" y="113"/>
                  </a:lnTo>
                  <a:lnTo>
                    <a:pt x="19" y="121"/>
                  </a:lnTo>
                  <a:lnTo>
                    <a:pt x="23" y="127"/>
                  </a:lnTo>
                  <a:lnTo>
                    <a:pt x="26" y="132"/>
                  </a:lnTo>
                  <a:lnTo>
                    <a:pt x="28" y="135"/>
                  </a:lnTo>
                  <a:lnTo>
                    <a:pt x="33" y="139"/>
                  </a:lnTo>
                  <a:lnTo>
                    <a:pt x="38" y="140"/>
                  </a:lnTo>
                  <a:lnTo>
                    <a:pt x="45" y="142"/>
                  </a:lnTo>
                  <a:lnTo>
                    <a:pt x="55" y="145"/>
                  </a:lnTo>
                  <a:lnTo>
                    <a:pt x="49" y="149"/>
                  </a:lnTo>
                  <a:lnTo>
                    <a:pt x="43" y="152"/>
                  </a:lnTo>
                  <a:lnTo>
                    <a:pt x="36" y="157"/>
                  </a:lnTo>
                  <a:lnTo>
                    <a:pt x="31" y="161"/>
                  </a:lnTo>
                  <a:lnTo>
                    <a:pt x="24" y="166"/>
                  </a:lnTo>
                  <a:lnTo>
                    <a:pt x="19" y="171"/>
                  </a:lnTo>
                  <a:lnTo>
                    <a:pt x="12" y="176"/>
                  </a:lnTo>
                  <a:lnTo>
                    <a:pt x="7" y="181"/>
                  </a:lnTo>
                  <a:lnTo>
                    <a:pt x="9" y="190"/>
                  </a:lnTo>
                  <a:lnTo>
                    <a:pt x="12" y="197"/>
                  </a:lnTo>
                  <a:lnTo>
                    <a:pt x="16" y="202"/>
                  </a:lnTo>
                  <a:lnTo>
                    <a:pt x="21" y="205"/>
                  </a:lnTo>
                  <a:lnTo>
                    <a:pt x="26" y="209"/>
                  </a:lnTo>
                  <a:lnTo>
                    <a:pt x="33" y="210"/>
                  </a:lnTo>
                  <a:lnTo>
                    <a:pt x="40" y="210"/>
                  </a:lnTo>
                  <a:lnTo>
                    <a:pt x="49" y="212"/>
                  </a:lnTo>
                  <a:lnTo>
                    <a:pt x="47" y="214"/>
                  </a:lnTo>
                  <a:lnTo>
                    <a:pt x="45" y="217"/>
                  </a:lnTo>
                  <a:lnTo>
                    <a:pt x="43" y="219"/>
                  </a:lnTo>
                  <a:lnTo>
                    <a:pt x="42" y="222"/>
                  </a:lnTo>
                  <a:lnTo>
                    <a:pt x="42" y="224"/>
                  </a:lnTo>
                  <a:lnTo>
                    <a:pt x="40" y="227"/>
                  </a:lnTo>
                  <a:lnTo>
                    <a:pt x="40" y="231"/>
                  </a:lnTo>
                  <a:lnTo>
                    <a:pt x="40" y="236"/>
                  </a:lnTo>
                  <a:lnTo>
                    <a:pt x="49" y="241"/>
                  </a:lnTo>
                  <a:lnTo>
                    <a:pt x="57" y="244"/>
                  </a:lnTo>
                  <a:lnTo>
                    <a:pt x="62" y="246"/>
                  </a:lnTo>
                  <a:lnTo>
                    <a:pt x="64" y="248"/>
                  </a:lnTo>
                  <a:lnTo>
                    <a:pt x="66" y="250"/>
                  </a:lnTo>
                  <a:lnTo>
                    <a:pt x="66" y="253"/>
                  </a:lnTo>
                  <a:lnTo>
                    <a:pt x="62" y="260"/>
                  </a:lnTo>
                  <a:lnTo>
                    <a:pt x="57" y="270"/>
                  </a:lnTo>
                  <a:lnTo>
                    <a:pt x="64" y="284"/>
                  </a:lnTo>
                  <a:lnTo>
                    <a:pt x="73" y="294"/>
                  </a:lnTo>
                  <a:lnTo>
                    <a:pt x="81" y="301"/>
                  </a:lnTo>
                  <a:lnTo>
                    <a:pt x="92" y="304"/>
                  </a:lnTo>
                  <a:lnTo>
                    <a:pt x="102" y="306"/>
                  </a:lnTo>
                  <a:lnTo>
                    <a:pt x="114" y="304"/>
                  </a:lnTo>
                  <a:lnTo>
                    <a:pt x="128" y="299"/>
                  </a:lnTo>
                  <a:lnTo>
                    <a:pt x="142" y="292"/>
                  </a:lnTo>
                  <a:lnTo>
                    <a:pt x="143" y="301"/>
                  </a:lnTo>
                  <a:lnTo>
                    <a:pt x="145" y="308"/>
                  </a:lnTo>
                  <a:lnTo>
                    <a:pt x="150" y="313"/>
                  </a:lnTo>
                  <a:lnTo>
                    <a:pt x="155" y="316"/>
                  </a:lnTo>
                  <a:lnTo>
                    <a:pt x="162" y="320"/>
                  </a:lnTo>
                  <a:lnTo>
                    <a:pt x="169" y="323"/>
                  </a:lnTo>
                  <a:lnTo>
                    <a:pt x="176" y="325"/>
                  </a:lnTo>
                  <a:lnTo>
                    <a:pt x="185" y="325"/>
                  </a:lnTo>
                  <a:lnTo>
                    <a:pt x="185" y="321"/>
                  </a:lnTo>
                  <a:lnTo>
                    <a:pt x="185" y="318"/>
                  </a:lnTo>
                  <a:lnTo>
                    <a:pt x="185" y="313"/>
                  </a:lnTo>
                  <a:lnTo>
                    <a:pt x="186" y="309"/>
                  </a:lnTo>
                  <a:lnTo>
                    <a:pt x="186" y="306"/>
                  </a:lnTo>
                  <a:lnTo>
                    <a:pt x="186" y="303"/>
                  </a:lnTo>
                  <a:lnTo>
                    <a:pt x="186" y="297"/>
                  </a:lnTo>
                  <a:lnTo>
                    <a:pt x="188" y="294"/>
                  </a:lnTo>
                  <a:lnTo>
                    <a:pt x="188" y="294"/>
                  </a:lnTo>
                  <a:lnTo>
                    <a:pt x="190" y="292"/>
                  </a:lnTo>
                  <a:lnTo>
                    <a:pt x="193" y="291"/>
                  </a:lnTo>
                  <a:lnTo>
                    <a:pt x="195" y="289"/>
                  </a:lnTo>
                  <a:lnTo>
                    <a:pt x="197" y="287"/>
                  </a:lnTo>
                  <a:lnTo>
                    <a:pt x="198" y="285"/>
                  </a:lnTo>
                  <a:lnTo>
                    <a:pt x="200" y="284"/>
                  </a:lnTo>
                  <a:lnTo>
                    <a:pt x="202" y="282"/>
                  </a:lnTo>
                  <a:lnTo>
                    <a:pt x="202" y="280"/>
                  </a:lnTo>
                  <a:lnTo>
                    <a:pt x="202" y="279"/>
                  </a:lnTo>
                  <a:lnTo>
                    <a:pt x="202" y="275"/>
                  </a:lnTo>
                  <a:lnTo>
                    <a:pt x="200" y="272"/>
                  </a:lnTo>
                  <a:lnTo>
                    <a:pt x="200" y="270"/>
                  </a:lnTo>
                  <a:lnTo>
                    <a:pt x="200" y="267"/>
                  </a:lnTo>
                  <a:lnTo>
                    <a:pt x="200" y="265"/>
                  </a:lnTo>
                  <a:lnTo>
                    <a:pt x="198" y="262"/>
                  </a:lnTo>
                  <a:lnTo>
                    <a:pt x="186" y="255"/>
                  </a:lnTo>
                  <a:lnTo>
                    <a:pt x="167" y="244"/>
                  </a:lnTo>
                  <a:lnTo>
                    <a:pt x="148" y="231"/>
                  </a:lnTo>
                  <a:lnTo>
                    <a:pt x="130" y="215"/>
                  </a:lnTo>
                  <a:lnTo>
                    <a:pt x="111" y="200"/>
                  </a:lnTo>
                  <a:lnTo>
                    <a:pt x="95" y="183"/>
                  </a:lnTo>
                  <a:lnTo>
                    <a:pt x="88" y="176"/>
                  </a:lnTo>
                  <a:lnTo>
                    <a:pt x="85" y="168"/>
                  </a:lnTo>
                  <a:lnTo>
                    <a:pt x="81" y="161"/>
                  </a:lnTo>
                  <a:lnTo>
                    <a:pt x="80" y="154"/>
                  </a:lnTo>
                  <a:lnTo>
                    <a:pt x="76" y="125"/>
                  </a:lnTo>
                  <a:lnTo>
                    <a:pt x="74" y="108"/>
                  </a:lnTo>
                  <a:lnTo>
                    <a:pt x="73" y="91"/>
                  </a:lnTo>
                  <a:lnTo>
                    <a:pt x="73" y="75"/>
                  </a:lnTo>
                  <a:lnTo>
                    <a:pt x="71" y="62"/>
                  </a:lnTo>
                  <a:lnTo>
                    <a:pt x="69" y="46"/>
                  </a:lnTo>
                  <a:lnTo>
                    <a:pt x="67" y="33"/>
                  </a:lnTo>
                  <a:lnTo>
                    <a:pt x="64" y="17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49440" y="2198520"/>
              <a:ext cx="138240" cy="204840"/>
            </a:xfrm>
            <a:custGeom>
              <a:avLst/>
              <a:gdLst/>
              <a:ahLst/>
              <a:rect l="l" t="t" r="r" b="b"/>
              <a:pathLst>
                <a:path w="202" h="325">
                  <a:moveTo>
                    <a:pt x="61" y="0"/>
                  </a:moveTo>
                  <a:lnTo>
                    <a:pt x="57" y="7"/>
                  </a:lnTo>
                  <a:lnTo>
                    <a:pt x="55" y="14"/>
                  </a:lnTo>
                  <a:lnTo>
                    <a:pt x="54" y="17"/>
                  </a:lnTo>
                  <a:lnTo>
                    <a:pt x="52" y="22"/>
                  </a:lnTo>
                  <a:lnTo>
                    <a:pt x="52" y="26"/>
                  </a:lnTo>
                  <a:lnTo>
                    <a:pt x="52" y="31"/>
                  </a:lnTo>
                  <a:lnTo>
                    <a:pt x="54" y="36"/>
                  </a:lnTo>
                  <a:lnTo>
                    <a:pt x="55" y="45"/>
                  </a:lnTo>
                  <a:lnTo>
                    <a:pt x="50" y="46"/>
                  </a:lnTo>
                  <a:lnTo>
                    <a:pt x="45" y="48"/>
                  </a:lnTo>
                  <a:lnTo>
                    <a:pt x="40" y="50"/>
                  </a:lnTo>
                  <a:lnTo>
                    <a:pt x="33" y="51"/>
                  </a:lnTo>
                  <a:lnTo>
                    <a:pt x="28" y="53"/>
                  </a:lnTo>
                  <a:lnTo>
                    <a:pt x="21" y="55"/>
                  </a:lnTo>
                  <a:lnTo>
                    <a:pt x="16" y="55"/>
                  </a:lnTo>
                  <a:lnTo>
                    <a:pt x="11" y="57"/>
                  </a:lnTo>
                  <a:lnTo>
                    <a:pt x="9" y="58"/>
                  </a:lnTo>
                  <a:lnTo>
                    <a:pt x="7" y="60"/>
                  </a:lnTo>
                  <a:lnTo>
                    <a:pt x="5" y="63"/>
                  </a:lnTo>
                  <a:lnTo>
                    <a:pt x="4" y="65"/>
                  </a:lnTo>
                  <a:lnTo>
                    <a:pt x="4" y="67"/>
                  </a:lnTo>
                  <a:lnTo>
                    <a:pt x="2" y="70"/>
                  </a:lnTo>
                  <a:lnTo>
                    <a:pt x="0" y="72"/>
                  </a:lnTo>
                  <a:lnTo>
                    <a:pt x="0" y="74"/>
                  </a:lnTo>
                  <a:lnTo>
                    <a:pt x="4" y="79"/>
                  </a:lnTo>
                  <a:lnTo>
                    <a:pt x="7" y="82"/>
                  </a:lnTo>
                  <a:lnTo>
                    <a:pt x="11" y="86"/>
                  </a:lnTo>
                  <a:lnTo>
                    <a:pt x="14" y="89"/>
                  </a:lnTo>
                  <a:lnTo>
                    <a:pt x="17" y="91"/>
                  </a:lnTo>
                  <a:lnTo>
                    <a:pt x="21" y="94"/>
                  </a:lnTo>
                  <a:lnTo>
                    <a:pt x="26" y="96"/>
                  </a:lnTo>
                  <a:lnTo>
                    <a:pt x="31" y="98"/>
                  </a:lnTo>
                  <a:lnTo>
                    <a:pt x="16" y="113"/>
                  </a:lnTo>
                  <a:lnTo>
                    <a:pt x="19" y="121"/>
                  </a:lnTo>
                  <a:lnTo>
                    <a:pt x="23" y="127"/>
                  </a:lnTo>
                  <a:lnTo>
                    <a:pt x="26" y="132"/>
                  </a:lnTo>
                  <a:lnTo>
                    <a:pt x="28" y="135"/>
                  </a:lnTo>
                  <a:lnTo>
                    <a:pt x="33" y="139"/>
                  </a:lnTo>
                  <a:lnTo>
                    <a:pt x="38" y="140"/>
                  </a:lnTo>
                  <a:lnTo>
                    <a:pt x="45" y="142"/>
                  </a:lnTo>
                  <a:lnTo>
                    <a:pt x="55" y="145"/>
                  </a:lnTo>
                  <a:lnTo>
                    <a:pt x="49" y="149"/>
                  </a:lnTo>
                  <a:lnTo>
                    <a:pt x="43" y="152"/>
                  </a:lnTo>
                  <a:lnTo>
                    <a:pt x="36" y="157"/>
                  </a:lnTo>
                  <a:lnTo>
                    <a:pt x="31" y="161"/>
                  </a:lnTo>
                  <a:lnTo>
                    <a:pt x="24" y="166"/>
                  </a:lnTo>
                  <a:lnTo>
                    <a:pt x="19" y="171"/>
                  </a:lnTo>
                  <a:lnTo>
                    <a:pt x="12" y="176"/>
                  </a:lnTo>
                  <a:lnTo>
                    <a:pt x="7" y="181"/>
                  </a:lnTo>
                  <a:lnTo>
                    <a:pt x="9" y="190"/>
                  </a:lnTo>
                  <a:lnTo>
                    <a:pt x="12" y="197"/>
                  </a:lnTo>
                  <a:lnTo>
                    <a:pt x="16" y="202"/>
                  </a:lnTo>
                  <a:lnTo>
                    <a:pt x="21" y="205"/>
                  </a:lnTo>
                  <a:lnTo>
                    <a:pt x="26" y="209"/>
                  </a:lnTo>
                  <a:lnTo>
                    <a:pt x="33" y="210"/>
                  </a:lnTo>
                  <a:lnTo>
                    <a:pt x="40" y="210"/>
                  </a:lnTo>
                  <a:lnTo>
                    <a:pt x="49" y="212"/>
                  </a:lnTo>
                  <a:lnTo>
                    <a:pt x="47" y="214"/>
                  </a:lnTo>
                  <a:lnTo>
                    <a:pt x="45" y="217"/>
                  </a:lnTo>
                  <a:lnTo>
                    <a:pt x="43" y="219"/>
                  </a:lnTo>
                  <a:lnTo>
                    <a:pt x="42" y="222"/>
                  </a:lnTo>
                  <a:lnTo>
                    <a:pt x="42" y="224"/>
                  </a:lnTo>
                  <a:lnTo>
                    <a:pt x="40" y="227"/>
                  </a:lnTo>
                  <a:lnTo>
                    <a:pt x="40" y="231"/>
                  </a:lnTo>
                  <a:lnTo>
                    <a:pt x="40" y="236"/>
                  </a:lnTo>
                  <a:lnTo>
                    <a:pt x="49" y="241"/>
                  </a:lnTo>
                  <a:lnTo>
                    <a:pt x="57" y="244"/>
                  </a:lnTo>
                  <a:lnTo>
                    <a:pt x="62" y="246"/>
                  </a:lnTo>
                  <a:lnTo>
                    <a:pt x="64" y="248"/>
                  </a:lnTo>
                  <a:lnTo>
                    <a:pt x="66" y="250"/>
                  </a:lnTo>
                  <a:lnTo>
                    <a:pt x="66" y="253"/>
                  </a:lnTo>
                  <a:lnTo>
                    <a:pt x="62" y="260"/>
                  </a:lnTo>
                  <a:lnTo>
                    <a:pt x="57" y="270"/>
                  </a:lnTo>
                  <a:lnTo>
                    <a:pt x="64" y="284"/>
                  </a:lnTo>
                  <a:lnTo>
                    <a:pt x="73" y="294"/>
                  </a:lnTo>
                  <a:lnTo>
                    <a:pt x="81" y="301"/>
                  </a:lnTo>
                  <a:lnTo>
                    <a:pt x="92" y="304"/>
                  </a:lnTo>
                  <a:lnTo>
                    <a:pt x="102" y="306"/>
                  </a:lnTo>
                  <a:lnTo>
                    <a:pt x="114" y="304"/>
                  </a:lnTo>
                  <a:lnTo>
                    <a:pt x="128" y="299"/>
                  </a:lnTo>
                  <a:lnTo>
                    <a:pt x="142" y="292"/>
                  </a:lnTo>
                  <a:lnTo>
                    <a:pt x="143" y="301"/>
                  </a:lnTo>
                  <a:lnTo>
                    <a:pt x="145" y="308"/>
                  </a:lnTo>
                  <a:lnTo>
                    <a:pt x="150" y="313"/>
                  </a:lnTo>
                  <a:lnTo>
                    <a:pt x="155" y="316"/>
                  </a:lnTo>
                  <a:lnTo>
                    <a:pt x="162" y="320"/>
                  </a:lnTo>
                  <a:lnTo>
                    <a:pt x="169" y="323"/>
                  </a:lnTo>
                  <a:lnTo>
                    <a:pt x="176" y="325"/>
                  </a:lnTo>
                  <a:lnTo>
                    <a:pt x="185" y="325"/>
                  </a:lnTo>
                  <a:lnTo>
                    <a:pt x="185" y="321"/>
                  </a:lnTo>
                  <a:lnTo>
                    <a:pt x="185" y="318"/>
                  </a:lnTo>
                  <a:lnTo>
                    <a:pt x="185" y="313"/>
                  </a:lnTo>
                  <a:lnTo>
                    <a:pt x="186" y="309"/>
                  </a:lnTo>
                  <a:lnTo>
                    <a:pt x="186" y="306"/>
                  </a:lnTo>
                  <a:lnTo>
                    <a:pt x="186" y="303"/>
                  </a:lnTo>
                  <a:lnTo>
                    <a:pt x="186" y="297"/>
                  </a:lnTo>
                  <a:lnTo>
                    <a:pt x="188" y="294"/>
                  </a:lnTo>
                  <a:lnTo>
                    <a:pt x="188" y="294"/>
                  </a:lnTo>
                  <a:lnTo>
                    <a:pt x="190" y="292"/>
                  </a:lnTo>
                  <a:lnTo>
                    <a:pt x="193" y="291"/>
                  </a:lnTo>
                  <a:lnTo>
                    <a:pt x="195" y="289"/>
                  </a:lnTo>
                  <a:lnTo>
                    <a:pt x="197" y="287"/>
                  </a:lnTo>
                  <a:lnTo>
                    <a:pt x="198" y="285"/>
                  </a:lnTo>
                  <a:lnTo>
                    <a:pt x="200" y="284"/>
                  </a:lnTo>
                  <a:lnTo>
                    <a:pt x="202" y="282"/>
                  </a:lnTo>
                  <a:lnTo>
                    <a:pt x="202" y="280"/>
                  </a:lnTo>
                  <a:lnTo>
                    <a:pt x="202" y="279"/>
                  </a:lnTo>
                  <a:lnTo>
                    <a:pt x="202" y="275"/>
                  </a:lnTo>
                  <a:lnTo>
                    <a:pt x="200" y="272"/>
                  </a:lnTo>
                  <a:lnTo>
                    <a:pt x="200" y="270"/>
                  </a:lnTo>
                  <a:lnTo>
                    <a:pt x="200" y="267"/>
                  </a:lnTo>
                  <a:lnTo>
                    <a:pt x="200" y="265"/>
                  </a:lnTo>
                  <a:lnTo>
                    <a:pt x="198" y="262"/>
                  </a:lnTo>
                  <a:lnTo>
                    <a:pt x="186" y="255"/>
                  </a:lnTo>
                  <a:lnTo>
                    <a:pt x="167" y="244"/>
                  </a:lnTo>
                  <a:lnTo>
                    <a:pt x="148" y="231"/>
                  </a:lnTo>
                  <a:lnTo>
                    <a:pt x="130" y="215"/>
                  </a:lnTo>
                  <a:lnTo>
                    <a:pt x="111" y="200"/>
                  </a:lnTo>
                  <a:lnTo>
                    <a:pt x="95" y="183"/>
                  </a:lnTo>
                  <a:lnTo>
                    <a:pt x="88" y="176"/>
                  </a:lnTo>
                  <a:lnTo>
                    <a:pt x="85" y="168"/>
                  </a:lnTo>
                  <a:lnTo>
                    <a:pt x="81" y="161"/>
                  </a:lnTo>
                  <a:lnTo>
                    <a:pt x="80" y="154"/>
                  </a:lnTo>
                  <a:lnTo>
                    <a:pt x="76" y="125"/>
                  </a:lnTo>
                  <a:lnTo>
                    <a:pt x="74" y="108"/>
                  </a:lnTo>
                  <a:lnTo>
                    <a:pt x="73" y="91"/>
                  </a:lnTo>
                  <a:lnTo>
                    <a:pt x="73" y="75"/>
                  </a:lnTo>
                  <a:lnTo>
                    <a:pt x="71" y="62"/>
                  </a:lnTo>
                  <a:lnTo>
                    <a:pt x="69" y="46"/>
                  </a:lnTo>
                  <a:lnTo>
                    <a:pt x="67" y="33"/>
                  </a:lnTo>
                  <a:lnTo>
                    <a:pt x="64" y="17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49440" y="2205000"/>
              <a:ext cx="138240" cy="195480"/>
            </a:xfrm>
            <a:custGeom>
              <a:avLst/>
              <a:gdLst/>
              <a:ahLst/>
              <a:rect l="l" t="t" r="r" b="b"/>
              <a:pathLst>
                <a:path w="202" h="311">
                  <a:moveTo>
                    <a:pt x="57" y="0"/>
                  </a:moveTo>
                  <a:lnTo>
                    <a:pt x="57" y="2"/>
                  </a:lnTo>
                  <a:lnTo>
                    <a:pt x="57" y="4"/>
                  </a:lnTo>
                  <a:lnTo>
                    <a:pt x="59" y="6"/>
                  </a:lnTo>
                  <a:lnTo>
                    <a:pt x="61" y="9"/>
                  </a:lnTo>
                  <a:lnTo>
                    <a:pt x="62" y="11"/>
                  </a:lnTo>
                  <a:lnTo>
                    <a:pt x="64" y="12"/>
                  </a:lnTo>
                  <a:lnTo>
                    <a:pt x="66" y="14"/>
                  </a:lnTo>
                  <a:lnTo>
                    <a:pt x="66" y="16"/>
                  </a:lnTo>
                  <a:lnTo>
                    <a:pt x="69" y="28"/>
                  </a:lnTo>
                  <a:lnTo>
                    <a:pt x="69" y="40"/>
                  </a:lnTo>
                  <a:lnTo>
                    <a:pt x="71" y="52"/>
                  </a:lnTo>
                  <a:lnTo>
                    <a:pt x="73" y="64"/>
                  </a:lnTo>
                  <a:lnTo>
                    <a:pt x="73" y="76"/>
                  </a:lnTo>
                  <a:lnTo>
                    <a:pt x="74" y="88"/>
                  </a:lnTo>
                  <a:lnTo>
                    <a:pt x="74" y="101"/>
                  </a:lnTo>
                  <a:lnTo>
                    <a:pt x="76" y="115"/>
                  </a:lnTo>
                  <a:lnTo>
                    <a:pt x="80" y="144"/>
                  </a:lnTo>
                  <a:lnTo>
                    <a:pt x="80" y="147"/>
                  </a:lnTo>
                  <a:lnTo>
                    <a:pt x="80" y="151"/>
                  </a:lnTo>
                  <a:lnTo>
                    <a:pt x="81" y="152"/>
                  </a:lnTo>
                  <a:lnTo>
                    <a:pt x="83" y="156"/>
                  </a:lnTo>
                  <a:lnTo>
                    <a:pt x="85" y="158"/>
                  </a:lnTo>
                  <a:lnTo>
                    <a:pt x="86" y="161"/>
                  </a:lnTo>
                  <a:lnTo>
                    <a:pt x="88" y="164"/>
                  </a:lnTo>
                  <a:lnTo>
                    <a:pt x="90" y="168"/>
                  </a:lnTo>
                  <a:lnTo>
                    <a:pt x="98" y="182"/>
                  </a:lnTo>
                  <a:lnTo>
                    <a:pt x="111" y="195"/>
                  </a:lnTo>
                  <a:lnTo>
                    <a:pt x="124" y="207"/>
                  </a:lnTo>
                  <a:lnTo>
                    <a:pt x="138" y="219"/>
                  </a:lnTo>
                  <a:lnTo>
                    <a:pt x="154" y="229"/>
                  </a:lnTo>
                  <a:lnTo>
                    <a:pt x="169" y="240"/>
                  </a:lnTo>
                  <a:lnTo>
                    <a:pt x="185" y="250"/>
                  </a:lnTo>
                  <a:lnTo>
                    <a:pt x="200" y="258"/>
                  </a:lnTo>
                  <a:lnTo>
                    <a:pt x="200" y="260"/>
                  </a:lnTo>
                  <a:lnTo>
                    <a:pt x="200" y="260"/>
                  </a:lnTo>
                  <a:lnTo>
                    <a:pt x="200" y="262"/>
                  </a:lnTo>
                  <a:lnTo>
                    <a:pt x="200" y="262"/>
                  </a:lnTo>
                  <a:lnTo>
                    <a:pt x="200" y="264"/>
                  </a:lnTo>
                  <a:lnTo>
                    <a:pt x="202" y="265"/>
                  </a:lnTo>
                  <a:lnTo>
                    <a:pt x="202" y="265"/>
                  </a:lnTo>
                  <a:lnTo>
                    <a:pt x="202" y="267"/>
                  </a:lnTo>
                  <a:lnTo>
                    <a:pt x="200" y="269"/>
                  </a:lnTo>
                  <a:lnTo>
                    <a:pt x="197" y="270"/>
                  </a:lnTo>
                  <a:lnTo>
                    <a:pt x="195" y="272"/>
                  </a:lnTo>
                  <a:lnTo>
                    <a:pt x="193" y="274"/>
                  </a:lnTo>
                  <a:lnTo>
                    <a:pt x="192" y="275"/>
                  </a:lnTo>
                  <a:lnTo>
                    <a:pt x="190" y="279"/>
                  </a:lnTo>
                  <a:lnTo>
                    <a:pt x="190" y="281"/>
                  </a:lnTo>
                  <a:lnTo>
                    <a:pt x="190" y="282"/>
                  </a:lnTo>
                  <a:lnTo>
                    <a:pt x="188" y="284"/>
                  </a:lnTo>
                  <a:lnTo>
                    <a:pt x="188" y="284"/>
                  </a:lnTo>
                  <a:lnTo>
                    <a:pt x="188" y="284"/>
                  </a:lnTo>
                  <a:lnTo>
                    <a:pt x="188" y="284"/>
                  </a:lnTo>
                  <a:lnTo>
                    <a:pt x="188" y="284"/>
                  </a:lnTo>
                  <a:lnTo>
                    <a:pt x="188" y="284"/>
                  </a:lnTo>
                  <a:lnTo>
                    <a:pt x="188" y="284"/>
                  </a:lnTo>
                  <a:lnTo>
                    <a:pt x="188" y="284"/>
                  </a:lnTo>
                  <a:lnTo>
                    <a:pt x="186" y="287"/>
                  </a:lnTo>
                  <a:lnTo>
                    <a:pt x="186" y="289"/>
                  </a:lnTo>
                  <a:lnTo>
                    <a:pt x="186" y="293"/>
                  </a:lnTo>
                  <a:lnTo>
                    <a:pt x="186" y="294"/>
                  </a:lnTo>
                  <a:lnTo>
                    <a:pt x="186" y="298"/>
                  </a:lnTo>
                  <a:lnTo>
                    <a:pt x="186" y="299"/>
                  </a:lnTo>
                  <a:lnTo>
                    <a:pt x="185" y="303"/>
                  </a:lnTo>
                  <a:lnTo>
                    <a:pt x="185" y="306"/>
                  </a:lnTo>
                  <a:lnTo>
                    <a:pt x="185" y="306"/>
                  </a:lnTo>
                  <a:lnTo>
                    <a:pt x="183" y="306"/>
                  </a:lnTo>
                  <a:lnTo>
                    <a:pt x="183" y="308"/>
                  </a:lnTo>
                  <a:lnTo>
                    <a:pt x="183" y="308"/>
                  </a:lnTo>
                  <a:lnTo>
                    <a:pt x="181" y="310"/>
                  </a:lnTo>
                  <a:lnTo>
                    <a:pt x="181" y="310"/>
                  </a:lnTo>
                  <a:lnTo>
                    <a:pt x="180" y="310"/>
                  </a:lnTo>
                  <a:lnTo>
                    <a:pt x="178" y="311"/>
                  </a:lnTo>
                  <a:lnTo>
                    <a:pt x="164" y="311"/>
                  </a:lnTo>
                  <a:lnTo>
                    <a:pt x="159" y="310"/>
                  </a:lnTo>
                  <a:lnTo>
                    <a:pt x="155" y="306"/>
                  </a:lnTo>
                  <a:lnTo>
                    <a:pt x="152" y="305"/>
                  </a:lnTo>
                  <a:lnTo>
                    <a:pt x="148" y="301"/>
                  </a:lnTo>
                  <a:lnTo>
                    <a:pt x="145" y="296"/>
                  </a:lnTo>
                  <a:lnTo>
                    <a:pt x="143" y="293"/>
                  </a:lnTo>
                  <a:lnTo>
                    <a:pt x="143" y="287"/>
                  </a:lnTo>
                  <a:lnTo>
                    <a:pt x="142" y="282"/>
                  </a:lnTo>
                  <a:lnTo>
                    <a:pt x="128" y="289"/>
                  </a:lnTo>
                  <a:lnTo>
                    <a:pt x="114" y="294"/>
                  </a:lnTo>
                  <a:lnTo>
                    <a:pt x="102" y="296"/>
                  </a:lnTo>
                  <a:lnTo>
                    <a:pt x="92" y="294"/>
                  </a:lnTo>
                  <a:lnTo>
                    <a:pt x="81" y="291"/>
                  </a:lnTo>
                  <a:lnTo>
                    <a:pt x="73" y="284"/>
                  </a:lnTo>
                  <a:lnTo>
                    <a:pt x="64" y="274"/>
                  </a:lnTo>
                  <a:lnTo>
                    <a:pt x="57" y="260"/>
                  </a:lnTo>
                  <a:lnTo>
                    <a:pt x="62" y="250"/>
                  </a:lnTo>
                  <a:lnTo>
                    <a:pt x="66" y="243"/>
                  </a:lnTo>
                  <a:lnTo>
                    <a:pt x="66" y="240"/>
                  </a:lnTo>
                  <a:lnTo>
                    <a:pt x="64" y="238"/>
                  </a:lnTo>
                  <a:lnTo>
                    <a:pt x="62" y="236"/>
                  </a:lnTo>
                  <a:lnTo>
                    <a:pt x="57" y="234"/>
                  </a:lnTo>
                  <a:lnTo>
                    <a:pt x="49" y="231"/>
                  </a:lnTo>
                  <a:lnTo>
                    <a:pt x="40" y="226"/>
                  </a:lnTo>
                  <a:lnTo>
                    <a:pt x="40" y="221"/>
                  </a:lnTo>
                  <a:lnTo>
                    <a:pt x="40" y="217"/>
                  </a:lnTo>
                  <a:lnTo>
                    <a:pt x="42" y="214"/>
                  </a:lnTo>
                  <a:lnTo>
                    <a:pt x="42" y="212"/>
                  </a:lnTo>
                  <a:lnTo>
                    <a:pt x="43" y="209"/>
                  </a:lnTo>
                  <a:lnTo>
                    <a:pt x="45" y="207"/>
                  </a:lnTo>
                  <a:lnTo>
                    <a:pt x="47" y="204"/>
                  </a:lnTo>
                  <a:lnTo>
                    <a:pt x="49" y="202"/>
                  </a:lnTo>
                  <a:lnTo>
                    <a:pt x="40" y="200"/>
                  </a:lnTo>
                  <a:lnTo>
                    <a:pt x="33" y="200"/>
                  </a:lnTo>
                  <a:lnTo>
                    <a:pt x="26" y="199"/>
                  </a:lnTo>
                  <a:lnTo>
                    <a:pt x="21" y="195"/>
                  </a:lnTo>
                  <a:lnTo>
                    <a:pt x="16" y="192"/>
                  </a:lnTo>
                  <a:lnTo>
                    <a:pt x="12" y="187"/>
                  </a:lnTo>
                  <a:lnTo>
                    <a:pt x="9" y="180"/>
                  </a:lnTo>
                  <a:lnTo>
                    <a:pt x="7" y="171"/>
                  </a:lnTo>
                  <a:lnTo>
                    <a:pt x="12" y="166"/>
                  </a:lnTo>
                  <a:lnTo>
                    <a:pt x="19" y="161"/>
                  </a:lnTo>
                  <a:lnTo>
                    <a:pt x="24" y="156"/>
                  </a:lnTo>
                  <a:lnTo>
                    <a:pt x="31" y="151"/>
                  </a:lnTo>
                  <a:lnTo>
                    <a:pt x="36" y="147"/>
                  </a:lnTo>
                  <a:lnTo>
                    <a:pt x="43" y="142"/>
                  </a:lnTo>
                  <a:lnTo>
                    <a:pt x="49" y="139"/>
                  </a:lnTo>
                  <a:lnTo>
                    <a:pt x="55" y="135"/>
                  </a:lnTo>
                  <a:lnTo>
                    <a:pt x="45" y="132"/>
                  </a:lnTo>
                  <a:lnTo>
                    <a:pt x="38" y="130"/>
                  </a:lnTo>
                  <a:lnTo>
                    <a:pt x="33" y="129"/>
                  </a:lnTo>
                  <a:lnTo>
                    <a:pt x="28" y="125"/>
                  </a:lnTo>
                  <a:lnTo>
                    <a:pt x="26" y="122"/>
                  </a:lnTo>
                  <a:lnTo>
                    <a:pt x="23" y="117"/>
                  </a:lnTo>
                  <a:lnTo>
                    <a:pt x="19" y="111"/>
                  </a:lnTo>
                  <a:lnTo>
                    <a:pt x="16" y="103"/>
                  </a:lnTo>
                  <a:lnTo>
                    <a:pt x="31" y="88"/>
                  </a:lnTo>
                  <a:lnTo>
                    <a:pt x="26" y="86"/>
                  </a:lnTo>
                  <a:lnTo>
                    <a:pt x="21" y="84"/>
                  </a:lnTo>
                  <a:lnTo>
                    <a:pt x="17" y="81"/>
                  </a:lnTo>
                  <a:lnTo>
                    <a:pt x="14" y="79"/>
                  </a:lnTo>
                  <a:lnTo>
                    <a:pt x="11" y="76"/>
                  </a:lnTo>
                  <a:lnTo>
                    <a:pt x="7" y="72"/>
                  </a:lnTo>
                  <a:lnTo>
                    <a:pt x="4" y="69"/>
                  </a:lnTo>
                  <a:lnTo>
                    <a:pt x="0" y="64"/>
                  </a:lnTo>
                  <a:lnTo>
                    <a:pt x="0" y="62"/>
                  </a:lnTo>
                  <a:lnTo>
                    <a:pt x="2" y="60"/>
                  </a:lnTo>
                  <a:lnTo>
                    <a:pt x="4" y="57"/>
                  </a:lnTo>
                  <a:lnTo>
                    <a:pt x="4" y="55"/>
                  </a:lnTo>
                  <a:lnTo>
                    <a:pt x="5" y="53"/>
                  </a:lnTo>
                  <a:lnTo>
                    <a:pt x="7" y="50"/>
                  </a:lnTo>
                  <a:lnTo>
                    <a:pt x="9" y="48"/>
                  </a:lnTo>
                  <a:lnTo>
                    <a:pt x="11" y="47"/>
                  </a:lnTo>
                  <a:lnTo>
                    <a:pt x="16" y="45"/>
                  </a:lnTo>
                  <a:lnTo>
                    <a:pt x="21" y="45"/>
                  </a:lnTo>
                  <a:lnTo>
                    <a:pt x="28" y="43"/>
                  </a:lnTo>
                  <a:lnTo>
                    <a:pt x="33" y="41"/>
                  </a:lnTo>
                  <a:lnTo>
                    <a:pt x="40" y="40"/>
                  </a:lnTo>
                  <a:lnTo>
                    <a:pt x="45" y="38"/>
                  </a:lnTo>
                  <a:lnTo>
                    <a:pt x="50" y="36"/>
                  </a:lnTo>
                  <a:lnTo>
                    <a:pt x="55" y="35"/>
                  </a:lnTo>
                  <a:lnTo>
                    <a:pt x="54" y="28"/>
                  </a:lnTo>
                  <a:lnTo>
                    <a:pt x="52" y="23"/>
                  </a:lnTo>
                  <a:lnTo>
                    <a:pt x="52" y="19"/>
                  </a:lnTo>
                  <a:lnTo>
                    <a:pt x="52" y="14"/>
                  </a:lnTo>
                  <a:lnTo>
                    <a:pt x="52" y="12"/>
                  </a:lnTo>
                  <a:lnTo>
                    <a:pt x="54" y="9"/>
                  </a:lnTo>
                  <a:lnTo>
                    <a:pt x="55" y="6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554120" y="2235240"/>
              <a:ext cx="30240" cy="54000"/>
            </a:xfrm>
            <a:custGeom>
              <a:avLst/>
              <a:gdLst/>
              <a:ahLst/>
              <a:rect l="l" t="t" r="r" b="b"/>
              <a:pathLst>
                <a:path w="45" h="87">
                  <a:moveTo>
                    <a:pt x="26" y="0"/>
                  </a:moveTo>
                  <a:lnTo>
                    <a:pt x="24" y="2"/>
                  </a:lnTo>
                  <a:lnTo>
                    <a:pt x="23" y="4"/>
                  </a:lnTo>
                  <a:lnTo>
                    <a:pt x="21" y="5"/>
                  </a:lnTo>
                  <a:lnTo>
                    <a:pt x="19" y="5"/>
                  </a:lnTo>
                  <a:lnTo>
                    <a:pt x="16" y="7"/>
                  </a:lnTo>
                  <a:lnTo>
                    <a:pt x="14" y="9"/>
                  </a:lnTo>
                  <a:lnTo>
                    <a:pt x="12" y="11"/>
                  </a:lnTo>
                  <a:lnTo>
                    <a:pt x="10" y="14"/>
                  </a:lnTo>
                  <a:lnTo>
                    <a:pt x="10" y="16"/>
                  </a:lnTo>
                  <a:lnTo>
                    <a:pt x="12" y="19"/>
                  </a:lnTo>
                  <a:lnTo>
                    <a:pt x="12" y="21"/>
                  </a:lnTo>
                  <a:lnTo>
                    <a:pt x="14" y="24"/>
                  </a:lnTo>
                  <a:lnTo>
                    <a:pt x="16" y="26"/>
                  </a:lnTo>
                  <a:lnTo>
                    <a:pt x="17" y="28"/>
                  </a:lnTo>
                  <a:lnTo>
                    <a:pt x="21" y="29"/>
                  </a:lnTo>
                  <a:lnTo>
                    <a:pt x="23" y="31"/>
                  </a:lnTo>
                  <a:lnTo>
                    <a:pt x="24" y="31"/>
                  </a:lnTo>
                  <a:lnTo>
                    <a:pt x="28" y="33"/>
                  </a:lnTo>
                  <a:lnTo>
                    <a:pt x="29" y="34"/>
                  </a:lnTo>
                  <a:lnTo>
                    <a:pt x="31" y="36"/>
                  </a:lnTo>
                  <a:lnTo>
                    <a:pt x="33" y="38"/>
                  </a:lnTo>
                  <a:lnTo>
                    <a:pt x="35" y="40"/>
                  </a:lnTo>
                  <a:lnTo>
                    <a:pt x="33" y="43"/>
                  </a:lnTo>
                  <a:lnTo>
                    <a:pt x="33" y="46"/>
                  </a:lnTo>
                  <a:lnTo>
                    <a:pt x="29" y="48"/>
                  </a:lnTo>
                  <a:lnTo>
                    <a:pt x="28" y="52"/>
                  </a:lnTo>
                  <a:lnTo>
                    <a:pt x="26" y="53"/>
                  </a:lnTo>
                  <a:lnTo>
                    <a:pt x="23" y="57"/>
                  </a:lnTo>
                  <a:lnTo>
                    <a:pt x="21" y="58"/>
                  </a:lnTo>
                  <a:lnTo>
                    <a:pt x="19" y="62"/>
                  </a:lnTo>
                  <a:lnTo>
                    <a:pt x="16" y="63"/>
                  </a:lnTo>
                  <a:lnTo>
                    <a:pt x="14" y="67"/>
                  </a:lnTo>
                  <a:lnTo>
                    <a:pt x="14" y="65"/>
                  </a:lnTo>
                  <a:lnTo>
                    <a:pt x="14" y="65"/>
                  </a:lnTo>
                  <a:lnTo>
                    <a:pt x="14" y="63"/>
                  </a:lnTo>
                  <a:lnTo>
                    <a:pt x="12" y="63"/>
                  </a:lnTo>
                  <a:lnTo>
                    <a:pt x="12" y="62"/>
                  </a:lnTo>
                  <a:lnTo>
                    <a:pt x="12" y="62"/>
                  </a:lnTo>
                  <a:lnTo>
                    <a:pt x="12" y="60"/>
                  </a:lnTo>
                  <a:lnTo>
                    <a:pt x="10" y="60"/>
                  </a:lnTo>
                  <a:lnTo>
                    <a:pt x="14" y="57"/>
                  </a:lnTo>
                  <a:lnTo>
                    <a:pt x="16" y="55"/>
                  </a:lnTo>
                  <a:lnTo>
                    <a:pt x="17" y="53"/>
                  </a:lnTo>
                  <a:lnTo>
                    <a:pt x="19" y="50"/>
                  </a:lnTo>
                  <a:lnTo>
                    <a:pt x="21" y="48"/>
                  </a:lnTo>
                  <a:lnTo>
                    <a:pt x="23" y="46"/>
                  </a:lnTo>
                  <a:lnTo>
                    <a:pt x="24" y="43"/>
                  </a:lnTo>
                  <a:lnTo>
                    <a:pt x="24" y="40"/>
                  </a:lnTo>
                  <a:lnTo>
                    <a:pt x="23" y="38"/>
                  </a:lnTo>
                  <a:lnTo>
                    <a:pt x="19" y="36"/>
                  </a:lnTo>
                  <a:lnTo>
                    <a:pt x="16" y="34"/>
                  </a:lnTo>
                  <a:lnTo>
                    <a:pt x="12" y="33"/>
                  </a:lnTo>
                  <a:lnTo>
                    <a:pt x="9" y="31"/>
                  </a:lnTo>
                  <a:lnTo>
                    <a:pt x="7" y="29"/>
                  </a:lnTo>
                  <a:lnTo>
                    <a:pt x="4" y="26"/>
                  </a:lnTo>
                  <a:lnTo>
                    <a:pt x="2" y="22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2" y="11"/>
                  </a:lnTo>
                  <a:lnTo>
                    <a:pt x="4" y="7"/>
                  </a:lnTo>
                  <a:lnTo>
                    <a:pt x="5" y="5"/>
                  </a:lnTo>
                  <a:lnTo>
                    <a:pt x="9" y="2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3" y="0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6" y="0"/>
                  </a:lnTo>
                  <a:close/>
                  <a:moveTo>
                    <a:pt x="29" y="82"/>
                  </a:moveTo>
                  <a:lnTo>
                    <a:pt x="33" y="81"/>
                  </a:lnTo>
                  <a:lnTo>
                    <a:pt x="35" y="81"/>
                  </a:lnTo>
                  <a:lnTo>
                    <a:pt x="36" y="81"/>
                  </a:lnTo>
                  <a:lnTo>
                    <a:pt x="38" y="81"/>
                  </a:lnTo>
                  <a:lnTo>
                    <a:pt x="40" y="82"/>
                  </a:lnTo>
                  <a:lnTo>
                    <a:pt x="42" y="82"/>
                  </a:lnTo>
                  <a:lnTo>
                    <a:pt x="43" y="84"/>
                  </a:lnTo>
                  <a:lnTo>
                    <a:pt x="45" y="87"/>
                  </a:lnTo>
                  <a:lnTo>
                    <a:pt x="42" y="86"/>
                  </a:lnTo>
                  <a:lnTo>
                    <a:pt x="40" y="86"/>
                  </a:lnTo>
                  <a:lnTo>
                    <a:pt x="38" y="84"/>
                  </a:lnTo>
                  <a:lnTo>
                    <a:pt x="36" y="84"/>
                  </a:lnTo>
                  <a:lnTo>
                    <a:pt x="35" y="84"/>
                  </a:lnTo>
                  <a:lnTo>
                    <a:pt x="33" y="82"/>
                  </a:lnTo>
                  <a:lnTo>
                    <a:pt x="31" y="82"/>
                  </a:lnTo>
                  <a:lnTo>
                    <a:pt x="29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73200" y="2293920"/>
              <a:ext cx="46080" cy="61920"/>
            </a:xfrm>
            <a:custGeom>
              <a:avLst/>
              <a:gdLst/>
              <a:ahLst/>
              <a:rect l="l" t="t" r="r" b="b"/>
              <a:pathLst>
                <a:path w="67" h="96">
                  <a:moveTo>
                    <a:pt x="27" y="0"/>
                  </a:moveTo>
                  <a:lnTo>
                    <a:pt x="27" y="7"/>
                  </a:lnTo>
                  <a:lnTo>
                    <a:pt x="24" y="14"/>
                  </a:lnTo>
                  <a:lnTo>
                    <a:pt x="19" y="20"/>
                  </a:lnTo>
                  <a:lnTo>
                    <a:pt x="14" y="27"/>
                  </a:lnTo>
                  <a:lnTo>
                    <a:pt x="10" y="34"/>
                  </a:lnTo>
                  <a:lnTo>
                    <a:pt x="8" y="39"/>
                  </a:lnTo>
                  <a:lnTo>
                    <a:pt x="8" y="43"/>
                  </a:lnTo>
                  <a:lnTo>
                    <a:pt x="12" y="44"/>
                  </a:lnTo>
                  <a:lnTo>
                    <a:pt x="15" y="48"/>
                  </a:lnTo>
                  <a:lnTo>
                    <a:pt x="20" y="49"/>
                  </a:lnTo>
                  <a:lnTo>
                    <a:pt x="24" y="49"/>
                  </a:lnTo>
                  <a:lnTo>
                    <a:pt x="27" y="49"/>
                  </a:lnTo>
                  <a:lnTo>
                    <a:pt x="31" y="49"/>
                  </a:lnTo>
                  <a:lnTo>
                    <a:pt x="34" y="49"/>
                  </a:lnTo>
                  <a:lnTo>
                    <a:pt x="38" y="49"/>
                  </a:lnTo>
                  <a:lnTo>
                    <a:pt x="39" y="51"/>
                  </a:lnTo>
                  <a:lnTo>
                    <a:pt x="41" y="53"/>
                  </a:lnTo>
                  <a:lnTo>
                    <a:pt x="43" y="56"/>
                  </a:lnTo>
                  <a:lnTo>
                    <a:pt x="43" y="60"/>
                  </a:lnTo>
                  <a:lnTo>
                    <a:pt x="41" y="63"/>
                  </a:lnTo>
                  <a:lnTo>
                    <a:pt x="39" y="67"/>
                  </a:lnTo>
                  <a:lnTo>
                    <a:pt x="38" y="68"/>
                  </a:lnTo>
                  <a:lnTo>
                    <a:pt x="36" y="72"/>
                  </a:lnTo>
                  <a:lnTo>
                    <a:pt x="34" y="75"/>
                  </a:lnTo>
                  <a:lnTo>
                    <a:pt x="34" y="79"/>
                  </a:lnTo>
                  <a:lnTo>
                    <a:pt x="36" y="82"/>
                  </a:lnTo>
                  <a:lnTo>
                    <a:pt x="39" y="85"/>
                  </a:lnTo>
                  <a:lnTo>
                    <a:pt x="43" y="87"/>
                  </a:lnTo>
                  <a:lnTo>
                    <a:pt x="46" y="89"/>
                  </a:lnTo>
                  <a:lnTo>
                    <a:pt x="50" y="90"/>
                  </a:lnTo>
                  <a:lnTo>
                    <a:pt x="53" y="90"/>
                  </a:lnTo>
                  <a:lnTo>
                    <a:pt x="58" y="90"/>
                  </a:lnTo>
                  <a:lnTo>
                    <a:pt x="62" y="90"/>
                  </a:lnTo>
                  <a:lnTo>
                    <a:pt x="67" y="89"/>
                  </a:lnTo>
                  <a:lnTo>
                    <a:pt x="67" y="96"/>
                  </a:lnTo>
                  <a:lnTo>
                    <a:pt x="62" y="96"/>
                  </a:lnTo>
                  <a:lnTo>
                    <a:pt x="57" y="96"/>
                  </a:lnTo>
                  <a:lnTo>
                    <a:pt x="50" y="96"/>
                  </a:lnTo>
                  <a:lnTo>
                    <a:pt x="45" y="96"/>
                  </a:lnTo>
                  <a:lnTo>
                    <a:pt x="39" y="94"/>
                  </a:lnTo>
                  <a:lnTo>
                    <a:pt x="34" y="92"/>
                  </a:lnTo>
                  <a:lnTo>
                    <a:pt x="31" y="89"/>
                  </a:lnTo>
                  <a:lnTo>
                    <a:pt x="27" y="84"/>
                  </a:lnTo>
                  <a:lnTo>
                    <a:pt x="26" y="80"/>
                  </a:lnTo>
                  <a:lnTo>
                    <a:pt x="26" y="77"/>
                  </a:lnTo>
                  <a:lnTo>
                    <a:pt x="27" y="73"/>
                  </a:lnTo>
                  <a:lnTo>
                    <a:pt x="29" y="70"/>
                  </a:lnTo>
                  <a:lnTo>
                    <a:pt x="31" y="68"/>
                  </a:lnTo>
                  <a:lnTo>
                    <a:pt x="32" y="65"/>
                  </a:lnTo>
                  <a:lnTo>
                    <a:pt x="32" y="61"/>
                  </a:lnTo>
                  <a:lnTo>
                    <a:pt x="32" y="58"/>
                  </a:lnTo>
                  <a:lnTo>
                    <a:pt x="29" y="58"/>
                  </a:lnTo>
                  <a:lnTo>
                    <a:pt x="26" y="56"/>
                  </a:lnTo>
                  <a:lnTo>
                    <a:pt x="22" y="56"/>
                  </a:lnTo>
                  <a:lnTo>
                    <a:pt x="19" y="56"/>
                  </a:lnTo>
                  <a:lnTo>
                    <a:pt x="15" y="56"/>
                  </a:lnTo>
                  <a:lnTo>
                    <a:pt x="12" y="55"/>
                  </a:lnTo>
                  <a:lnTo>
                    <a:pt x="8" y="55"/>
                  </a:lnTo>
                  <a:lnTo>
                    <a:pt x="5" y="53"/>
                  </a:lnTo>
                  <a:lnTo>
                    <a:pt x="3" y="51"/>
                  </a:lnTo>
                  <a:lnTo>
                    <a:pt x="1" y="48"/>
                  </a:lnTo>
                  <a:lnTo>
                    <a:pt x="0" y="46"/>
                  </a:lnTo>
                  <a:lnTo>
                    <a:pt x="0" y="43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0" y="34"/>
                  </a:lnTo>
                  <a:lnTo>
                    <a:pt x="1" y="32"/>
                  </a:lnTo>
                  <a:lnTo>
                    <a:pt x="5" y="27"/>
                  </a:lnTo>
                  <a:lnTo>
                    <a:pt x="7" y="22"/>
                  </a:lnTo>
                  <a:lnTo>
                    <a:pt x="10" y="19"/>
                  </a:lnTo>
                  <a:lnTo>
                    <a:pt x="12" y="14"/>
                  </a:lnTo>
                  <a:lnTo>
                    <a:pt x="15" y="10"/>
                  </a:lnTo>
                  <a:lnTo>
                    <a:pt x="19" y="7"/>
                  </a:lnTo>
                  <a:lnTo>
                    <a:pt x="22" y="3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584360" y="2232000"/>
              <a:ext cx="103320" cy="136440"/>
            </a:xfrm>
            <a:custGeom>
              <a:avLst/>
              <a:gdLst/>
              <a:ahLst/>
              <a:rect l="l" t="t" r="r" b="b"/>
              <a:pathLst>
                <a:path w="150" h="217">
                  <a:moveTo>
                    <a:pt x="24" y="0"/>
                  </a:moveTo>
                  <a:lnTo>
                    <a:pt x="21" y="0"/>
                  </a:lnTo>
                  <a:lnTo>
                    <a:pt x="19" y="2"/>
                  </a:lnTo>
                  <a:lnTo>
                    <a:pt x="15" y="2"/>
                  </a:lnTo>
                  <a:lnTo>
                    <a:pt x="12" y="4"/>
                  </a:lnTo>
                  <a:lnTo>
                    <a:pt x="9" y="5"/>
                  </a:lnTo>
                  <a:lnTo>
                    <a:pt x="5" y="7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3" y="24"/>
                  </a:lnTo>
                  <a:lnTo>
                    <a:pt x="5" y="26"/>
                  </a:lnTo>
                  <a:lnTo>
                    <a:pt x="7" y="27"/>
                  </a:lnTo>
                  <a:lnTo>
                    <a:pt x="9" y="31"/>
                  </a:lnTo>
                  <a:lnTo>
                    <a:pt x="9" y="31"/>
                  </a:lnTo>
                  <a:lnTo>
                    <a:pt x="7" y="33"/>
                  </a:lnTo>
                  <a:lnTo>
                    <a:pt x="5" y="36"/>
                  </a:lnTo>
                  <a:lnTo>
                    <a:pt x="3" y="38"/>
                  </a:lnTo>
                  <a:lnTo>
                    <a:pt x="2" y="39"/>
                  </a:lnTo>
                  <a:lnTo>
                    <a:pt x="2" y="41"/>
                  </a:lnTo>
                  <a:lnTo>
                    <a:pt x="0" y="43"/>
                  </a:lnTo>
                  <a:lnTo>
                    <a:pt x="0" y="45"/>
                  </a:lnTo>
                  <a:lnTo>
                    <a:pt x="2" y="48"/>
                  </a:lnTo>
                  <a:lnTo>
                    <a:pt x="3" y="51"/>
                  </a:lnTo>
                  <a:lnTo>
                    <a:pt x="7" y="57"/>
                  </a:lnTo>
                  <a:lnTo>
                    <a:pt x="9" y="60"/>
                  </a:lnTo>
                  <a:lnTo>
                    <a:pt x="12" y="63"/>
                  </a:lnTo>
                  <a:lnTo>
                    <a:pt x="15" y="68"/>
                  </a:lnTo>
                  <a:lnTo>
                    <a:pt x="19" y="72"/>
                  </a:lnTo>
                  <a:lnTo>
                    <a:pt x="21" y="75"/>
                  </a:lnTo>
                  <a:lnTo>
                    <a:pt x="19" y="79"/>
                  </a:lnTo>
                  <a:lnTo>
                    <a:pt x="17" y="82"/>
                  </a:lnTo>
                  <a:lnTo>
                    <a:pt x="15" y="86"/>
                  </a:lnTo>
                  <a:lnTo>
                    <a:pt x="14" y="87"/>
                  </a:lnTo>
                  <a:lnTo>
                    <a:pt x="10" y="91"/>
                  </a:lnTo>
                  <a:lnTo>
                    <a:pt x="9" y="94"/>
                  </a:lnTo>
                  <a:lnTo>
                    <a:pt x="5" y="96"/>
                  </a:lnTo>
                  <a:lnTo>
                    <a:pt x="3" y="99"/>
                  </a:lnTo>
                  <a:lnTo>
                    <a:pt x="3" y="106"/>
                  </a:lnTo>
                  <a:lnTo>
                    <a:pt x="3" y="113"/>
                  </a:lnTo>
                  <a:lnTo>
                    <a:pt x="5" y="118"/>
                  </a:lnTo>
                  <a:lnTo>
                    <a:pt x="9" y="121"/>
                  </a:lnTo>
                  <a:lnTo>
                    <a:pt x="12" y="125"/>
                  </a:lnTo>
                  <a:lnTo>
                    <a:pt x="17" y="128"/>
                  </a:lnTo>
                  <a:lnTo>
                    <a:pt x="22" y="130"/>
                  </a:lnTo>
                  <a:lnTo>
                    <a:pt x="29" y="132"/>
                  </a:lnTo>
                  <a:lnTo>
                    <a:pt x="28" y="139"/>
                  </a:lnTo>
                  <a:lnTo>
                    <a:pt x="26" y="147"/>
                  </a:lnTo>
                  <a:lnTo>
                    <a:pt x="26" y="154"/>
                  </a:lnTo>
                  <a:lnTo>
                    <a:pt x="28" y="161"/>
                  </a:lnTo>
                  <a:lnTo>
                    <a:pt x="31" y="166"/>
                  </a:lnTo>
                  <a:lnTo>
                    <a:pt x="34" y="171"/>
                  </a:lnTo>
                  <a:lnTo>
                    <a:pt x="41" y="174"/>
                  </a:lnTo>
                  <a:lnTo>
                    <a:pt x="52" y="176"/>
                  </a:lnTo>
                  <a:lnTo>
                    <a:pt x="52" y="180"/>
                  </a:lnTo>
                  <a:lnTo>
                    <a:pt x="52" y="185"/>
                  </a:lnTo>
                  <a:lnTo>
                    <a:pt x="52" y="188"/>
                  </a:lnTo>
                  <a:lnTo>
                    <a:pt x="53" y="193"/>
                  </a:lnTo>
                  <a:lnTo>
                    <a:pt x="53" y="197"/>
                  </a:lnTo>
                  <a:lnTo>
                    <a:pt x="53" y="202"/>
                  </a:lnTo>
                  <a:lnTo>
                    <a:pt x="53" y="205"/>
                  </a:lnTo>
                  <a:lnTo>
                    <a:pt x="53" y="209"/>
                  </a:lnTo>
                  <a:lnTo>
                    <a:pt x="62" y="210"/>
                  </a:lnTo>
                  <a:lnTo>
                    <a:pt x="69" y="212"/>
                  </a:lnTo>
                  <a:lnTo>
                    <a:pt x="76" y="210"/>
                  </a:lnTo>
                  <a:lnTo>
                    <a:pt x="83" y="210"/>
                  </a:lnTo>
                  <a:lnTo>
                    <a:pt x="88" y="209"/>
                  </a:lnTo>
                  <a:lnTo>
                    <a:pt x="95" y="207"/>
                  </a:lnTo>
                  <a:lnTo>
                    <a:pt x="102" y="203"/>
                  </a:lnTo>
                  <a:lnTo>
                    <a:pt x="109" y="200"/>
                  </a:lnTo>
                  <a:lnTo>
                    <a:pt x="114" y="203"/>
                  </a:lnTo>
                  <a:lnTo>
                    <a:pt x="119" y="207"/>
                  </a:lnTo>
                  <a:lnTo>
                    <a:pt x="124" y="210"/>
                  </a:lnTo>
                  <a:lnTo>
                    <a:pt x="129" y="214"/>
                  </a:lnTo>
                  <a:lnTo>
                    <a:pt x="134" y="215"/>
                  </a:lnTo>
                  <a:lnTo>
                    <a:pt x="140" y="217"/>
                  </a:lnTo>
                  <a:lnTo>
                    <a:pt x="145" y="215"/>
                  </a:lnTo>
                  <a:lnTo>
                    <a:pt x="150" y="212"/>
                  </a:lnTo>
                  <a:lnTo>
                    <a:pt x="143" y="202"/>
                  </a:lnTo>
                  <a:lnTo>
                    <a:pt x="131" y="191"/>
                  </a:lnTo>
                  <a:lnTo>
                    <a:pt x="119" y="183"/>
                  </a:lnTo>
                  <a:lnTo>
                    <a:pt x="103" y="174"/>
                  </a:lnTo>
                  <a:lnTo>
                    <a:pt x="88" y="168"/>
                  </a:lnTo>
                  <a:lnTo>
                    <a:pt x="72" y="161"/>
                  </a:lnTo>
                  <a:lnTo>
                    <a:pt x="57" y="156"/>
                  </a:lnTo>
                  <a:lnTo>
                    <a:pt x="45" y="149"/>
                  </a:lnTo>
                  <a:lnTo>
                    <a:pt x="43" y="132"/>
                  </a:lnTo>
                  <a:lnTo>
                    <a:pt x="41" y="115"/>
                  </a:lnTo>
                  <a:lnTo>
                    <a:pt x="40" y="98"/>
                  </a:lnTo>
                  <a:lnTo>
                    <a:pt x="40" y="79"/>
                  </a:lnTo>
                  <a:lnTo>
                    <a:pt x="40" y="62"/>
                  </a:lnTo>
                  <a:lnTo>
                    <a:pt x="38" y="45"/>
                  </a:lnTo>
                  <a:lnTo>
                    <a:pt x="36" y="26"/>
                  </a:lnTo>
                  <a:lnTo>
                    <a:pt x="33" y="9"/>
                  </a:lnTo>
                  <a:lnTo>
                    <a:pt x="33" y="9"/>
                  </a:lnTo>
                  <a:lnTo>
                    <a:pt x="31" y="9"/>
                  </a:lnTo>
                  <a:lnTo>
                    <a:pt x="29" y="9"/>
                  </a:lnTo>
                  <a:lnTo>
                    <a:pt x="29" y="7"/>
                  </a:lnTo>
                  <a:lnTo>
                    <a:pt x="28" y="5"/>
                  </a:lnTo>
                  <a:lnTo>
                    <a:pt x="26" y="4"/>
                  </a:lnTo>
                  <a:lnTo>
                    <a:pt x="26" y="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584360" y="2232000"/>
              <a:ext cx="103320" cy="136440"/>
            </a:xfrm>
            <a:custGeom>
              <a:avLst/>
              <a:gdLst/>
              <a:ahLst/>
              <a:rect l="l" t="t" r="r" b="b"/>
              <a:pathLst>
                <a:path w="150" h="217">
                  <a:moveTo>
                    <a:pt x="24" y="0"/>
                  </a:moveTo>
                  <a:lnTo>
                    <a:pt x="21" y="0"/>
                  </a:lnTo>
                  <a:lnTo>
                    <a:pt x="19" y="2"/>
                  </a:lnTo>
                  <a:lnTo>
                    <a:pt x="15" y="2"/>
                  </a:lnTo>
                  <a:lnTo>
                    <a:pt x="12" y="4"/>
                  </a:lnTo>
                  <a:lnTo>
                    <a:pt x="9" y="5"/>
                  </a:lnTo>
                  <a:lnTo>
                    <a:pt x="5" y="7"/>
                  </a:lnTo>
                  <a:lnTo>
                    <a:pt x="2" y="9"/>
                  </a:lnTo>
                  <a:lnTo>
                    <a:pt x="0" y="9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3" y="24"/>
                  </a:lnTo>
                  <a:lnTo>
                    <a:pt x="5" y="26"/>
                  </a:lnTo>
                  <a:lnTo>
                    <a:pt x="7" y="27"/>
                  </a:lnTo>
                  <a:lnTo>
                    <a:pt x="9" y="31"/>
                  </a:lnTo>
                  <a:lnTo>
                    <a:pt x="9" y="31"/>
                  </a:lnTo>
                  <a:lnTo>
                    <a:pt x="7" y="33"/>
                  </a:lnTo>
                  <a:lnTo>
                    <a:pt x="5" y="36"/>
                  </a:lnTo>
                  <a:lnTo>
                    <a:pt x="3" y="38"/>
                  </a:lnTo>
                  <a:lnTo>
                    <a:pt x="2" y="39"/>
                  </a:lnTo>
                  <a:lnTo>
                    <a:pt x="2" y="41"/>
                  </a:lnTo>
                  <a:lnTo>
                    <a:pt x="0" y="43"/>
                  </a:lnTo>
                  <a:lnTo>
                    <a:pt x="0" y="45"/>
                  </a:lnTo>
                  <a:lnTo>
                    <a:pt x="2" y="48"/>
                  </a:lnTo>
                  <a:lnTo>
                    <a:pt x="3" y="51"/>
                  </a:lnTo>
                  <a:lnTo>
                    <a:pt x="7" y="57"/>
                  </a:lnTo>
                  <a:lnTo>
                    <a:pt x="9" y="60"/>
                  </a:lnTo>
                  <a:lnTo>
                    <a:pt x="12" y="63"/>
                  </a:lnTo>
                  <a:lnTo>
                    <a:pt x="15" y="68"/>
                  </a:lnTo>
                  <a:lnTo>
                    <a:pt x="19" y="72"/>
                  </a:lnTo>
                  <a:lnTo>
                    <a:pt x="21" y="75"/>
                  </a:lnTo>
                  <a:lnTo>
                    <a:pt x="19" y="79"/>
                  </a:lnTo>
                  <a:lnTo>
                    <a:pt x="17" y="82"/>
                  </a:lnTo>
                  <a:lnTo>
                    <a:pt x="15" y="86"/>
                  </a:lnTo>
                  <a:lnTo>
                    <a:pt x="14" y="87"/>
                  </a:lnTo>
                  <a:lnTo>
                    <a:pt x="10" y="91"/>
                  </a:lnTo>
                  <a:lnTo>
                    <a:pt x="9" y="94"/>
                  </a:lnTo>
                  <a:lnTo>
                    <a:pt x="5" y="96"/>
                  </a:lnTo>
                  <a:lnTo>
                    <a:pt x="3" y="99"/>
                  </a:lnTo>
                  <a:lnTo>
                    <a:pt x="3" y="106"/>
                  </a:lnTo>
                  <a:lnTo>
                    <a:pt x="3" y="113"/>
                  </a:lnTo>
                  <a:lnTo>
                    <a:pt x="5" y="118"/>
                  </a:lnTo>
                  <a:lnTo>
                    <a:pt x="9" y="121"/>
                  </a:lnTo>
                  <a:lnTo>
                    <a:pt x="12" y="125"/>
                  </a:lnTo>
                  <a:lnTo>
                    <a:pt x="17" y="128"/>
                  </a:lnTo>
                  <a:lnTo>
                    <a:pt x="22" y="130"/>
                  </a:lnTo>
                  <a:lnTo>
                    <a:pt x="29" y="132"/>
                  </a:lnTo>
                  <a:lnTo>
                    <a:pt x="28" y="139"/>
                  </a:lnTo>
                  <a:lnTo>
                    <a:pt x="26" y="147"/>
                  </a:lnTo>
                  <a:lnTo>
                    <a:pt x="26" y="154"/>
                  </a:lnTo>
                  <a:lnTo>
                    <a:pt x="28" y="161"/>
                  </a:lnTo>
                  <a:lnTo>
                    <a:pt x="31" y="166"/>
                  </a:lnTo>
                  <a:lnTo>
                    <a:pt x="34" y="171"/>
                  </a:lnTo>
                  <a:lnTo>
                    <a:pt x="41" y="174"/>
                  </a:lnTo>
                  <a:lnTo>
                    <a:pt x="52" y="176"/>
                  </a:lnTo>
                  <a:lnTo>
                    <a:pt x="52" y="180"/>
                  </a:lnTo>
                  <a:lnTo>
                    <a:pt x="52" y="185"/>
                  </a:lnTo>
                  <a:lnTo>
                    <a:pt x="52" y="188"/>
                  </a:lnTo>
                  <a:lnTo>
                    <a:pt x="53" y="193"/>
                  </a:lnTo>
                  <a:lnTo>
                    <a:pt x="53" y="197"/>
                  </a:lnTo>
                  <a:lnTo>
                    <a:pt x="53" y="202"/>
                  </a:lnTo>
                  <a:lnTo>
                    <a:pt x="53" y="205"/>
                  </a:lnTo>
                  <a:lnTo>
                    <a:pt x="53" y="209"/>
                  </a:lnTo>
                  <a:lnTo>
                    <a:pt x="62" y="210"/>
                  </a:lnTo>
                  <a:lnTo>
                    <a:pt x="69" y="212"/>
                  </a:lnTo>
                  <a:lnTo>
                    <a:pt x="76" y="210"/>
                  </a:lnTo>
                  <a:lnTo>
                    <a:pt x="83" y="210"/>
                  </a:lnTo>
                  <a:lnTo>
                    <a:pt x="88" y="209"/>
                  </a:lnTo>
                  <a:lnTo>
                    <a:pt x="95" y="207"/>
                  </a:lnTo>
                  <a:lnTo>
                    <a:pt x="102" y="203"/>
                  </a:lnTo>
                  <a:lnTo>
                    <a:pt x="109" y="200"/>
                  </a:lnTo>
                  <a:lnTo>
                    <a:pt x="114" y="203"/>
                  </a:lnTo>
                  <a:lnTo>
                    <a:pt x="119" y="207"/>
                  </a:lnTo>
                  <a:lnTo>
                    <a:pt x="124" y="210"/>
                  </a:lnTo>
                  <a:lnTo>
                    <a:pt x="129" y="214"/>
                  </a:lnTo>
                  <a:lnTo>
                    <a:pt x="134" y="215"/>
                  </a:lnTo>
                  <a:lnTo>
                    <a:pt x="140" y="217"/>
                  </a:lnTo>
                  <a:lnTo>
                    <a:pt x="145" y="215"/>
                  </a:lnTo>
                  <a:lnTo>
                    <a:pt x="150" y="212"/>
                  </a:lnTo>
                  <a:lnTo>
                    <a:pt x="143" y="202"/>
                  </a:lnTo>
                  <a:lnTo>
                    <a:pt x="131" y="191"/>
                  </a:lnTo>
                  <a:lnTo>
                    <a:pt x="119" y="183"/>
                  </a:lnTo>
                  <a:lnTo>
                    <a:pt x="103" y="174"/>
                  </a:lnTo>
                  <a:lnTo>
                    <a:pt x="88" y="168"/>
                  </a:lnTo>
                  <a:lnTo>
                    <a:pt x="72" y="161"/>
                  </a:lnTo>
                  <a:lnTo>
                    <a:pt x="57" y="156"/>
                  </a:lnTo>
                  <a:lnTo>
                    <a:pt x="45" y="149"/>
                  </a:lnTo>
                  <a:lnTo>
                    <a:pt x="43" y="132"/>
                  </a:lnTo>
                  <a:lnTo>
                    <a:pt x="41" y="115"/>
                  </a:lnTo>
                  <a:lnTo>
                    <a:pt x="40" y="98"/>
                  </a:lnTo>
                  <a:lnTo>
                    <a:pt x="40" y="79"/>
                  </a:lnTo>
                  <a:lnTo>
                    <a:pt x="40" y="62"/>
                  </a:lnTo>
                  <a:lnTo>
                    <a:pt x="38" y="45"/>
                  </a:lnTo>
                  <a:lnTo>
                    <a:pt x="36" y="26"/>
                  </a:lnTo>
                  <a:lnTo>
                    <a:pt x="33" y="9"/>
                  </a:lnTo>
                  <a:lnTo>
                    <a:pt x="33" y="9"/>
                  </a:lnTo>
                  <a:lnTo>
                    <a:pt x="31" y="9"/>
                  </a:lnTo>
                  <a:lnTo>
                    <a:pt x="29" y="9"/>
                  </a:lnTo>
                  <a:lnTo>
                    <a:pt x="29" y="7"/>
                  </a:lnTo>
                  <a:lnTo>
                    <a:pt x="28" y="5"/>
                  </a:lnTo>
                  <a:lnTo>
                    <a:pt x="26" y="4"/>
                  </a:lnTo>
                  <a:lnTo>
                    <a:pt x="26" y="2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609560" y="2262240"/>
              <a:ext cx="3240" cy="27000"/>
            </a:xfrm>
            <a:custGeom>
              <a:avLst/>
              <a:gdLst/>
              <a:ahLst/>
              <a:rect l="l" t="t" r="r" b="b"/>
              <a:pathLst>
                <a:path w="4" h="42">
                  <a:moveTo>
                    <a:pt x="4" y="42"/>
                  </a:moveTo>
                  <a:lnTo>
                    <a:pt x="4" y="37"/>
                  </a:lnTo>
                  <a:lnTo>
                    <a:pt x="4" y="32"/>
                  </a:lnTo>
                  <a:lnTo>
                    <a:pt x="4" y="27"/>
                  </a:lnTo>
                  <a:lnTo>
                    <a:pt x="2" y="22"/>
                  </a:lnTo>
                  <a:lnTo>
                    <a:pt x="2" y="17"/>
                  </a:lnTo>
                  <a:lnTo>
                    <a:pt x="2" y="12"/>
                  </a:lnTo>
                  <a:lnTo>
                    <a:pt x="0" y="7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5"/>
                  </a:lnTo>
                  <a:lnTo>
                    <a:pt x="4" y="12"/>
                  </a:lnTo>
                  <a:lnTo>
                    <a:pt x="4" y="17"/>
                  </a:lnTo>
                  <a:lnTo>
                    <a:pt x="4" y="22"/>
                  </a:lnTo>
                  <a:lnTo>
                    <a:pt x="4" y="27"/>
                  </a:lnTo>
                  <a:lnTo>
                    <a:pt x="4" y="32"/>
                  </a:lnTo>
                  <a:lnTo>
                    <a:pt x="4" y="37"/>
                  </a:lnTo>
                  <a:lnTo>
                    <a:pt x="4" y="42"/>
                  </a:lnTo>
                  <a:close/>
                </a:path>
              </a:pathLst>
            </a:custGeom>
            <a:solidFill>
              <a:srgbClr val="e5b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584360" y="2232000"/>
              <a:ext cx="100080" cy="135000"/>
            </a:xfrm>
            <a:custGeom>
              <a:avLst/>
              <a:gdLst/>
              <a:ahLst/>
              <a:rect l="l" t="t" r="r" b="b"/>
              <a:pathLst>
                <a:path w="146" h="215">
                  <a:moveTo>
                    <a:pt x="24" y="0"/>
                  </a:moveTo>
                  <a:lnTo>
                    <a:pt x="26" y="12"/>
                  </a:lnTo>
                  <a:lnTo>
                    <a:pt x="26" y="24"/>
                  </a:lnTo>
                  <a:lnTo>
                    <a:pt x="26" y="36"/>
                  </a:lnTo>
                  <a:lnTo>
                    <a:pt x="26" y="46"/>
                  </a:lnTo>
                  <a:lnTo>
                    <a:pt x="26" y="58"/>
                  </a:lnTo>
                  <a:lnTo>
                    <a:pt x="26" y="70"/>
                  </a:lnTo>
                  <a:lnTo>
                    <a:pt x="26" y="84"/>
                  </a:lnTo>
                  <a:lnTo>
                    <a:pt x="29" y="96"/>
                  </a:lnTo>
                  <a:lnTo>
                    <a:pt x="29" y="101"/>
                  </a:lnTo>
                  <a:lnTo>
                    <a:pt x="31" y="106"/>
                  </a:lnTo>
                  <a:lnTo>
                    <a:pt x="33" y="109"/>
                  </a:lnTo>
                  <a:lnTo>
                    <a:pt x="33" y="115"/>
                  </a:lnTo>
                  <a:lnTo>
                    <a:pt x="36" y="120"/>
                  </a:lnTo>
                  <a:lnTo>
                    <a:pt x="38" y="123"/>
                  </a:lnTo>
                  <a:lnTo>
                    <a:pt x="40" y="128"/>
                  </a:lnTo>
                  <a:lnTo>
                    <a:pt x="43" y="132"/>
                  </a:lnTo>
                  <a:lnTo>
                    <a:pt x="43" y="133"/>
                  </a:lnTo>
                  <a:lnTo>
                    <a:pt x="43" y="137"/>
                  </a:lnTo>
                  <a:lnTo>
                    <a:pt x="43" y="139"/>
                  </a:lnTo>
                  <a:lnTo>
                    <a:pt x="43" y="140"/>
                  </a:lnTo>
                  <a:lnTo>
                    <a:pt x="43" y="144"/>
                  </a:lnTo>
                  <a:lnTo>
                    <a:pt x="45" y="145"/>
                  </a:lnTo>
                  <a:lnTo>
                    <a:pt x="45" y="147"/>
                  </a:lnTo>
                  <a:lnTo>
                    <a:pt x="45" y="149"/>
                  </a:lnTo>
                  <a:lnTo>
                    <a:pt x="46" y="150"/>
                  </a:lnTo>
                  <a:lnTo>
                    <a:pt x="50" y="152"/>
                  </a:lnTo>
                  <a:lnTo>
                    <a:pt x="52" y="152"/>
                  </a:lnTo>
                  <a:lnTo>
                    <a:pt x="55" y="154"/>
                  </a:lnTo>
                  <a:lnTo>
                    <a:pt x="57" y="156"/>
                  </a:lnTo>
                  <a:lnTo>
                    <a:pt x="60" y="156"/>
                  </a:lnTo>
                  <a:lnTo>
                    <a:pt x="62" y="157"/>
                  </a:lnTo>
                  <a:lnTo>
                    <a:pt x="65" y="159"/>
                  </a:lnTo>
                  <a:lnTo>
                    <a:pt x="74" y="166"/>
                  </a:lnTo>
                  <a:lnTo>
                    <a:pt x="84" y="174"/>
                  </a:lnTo>
                  <a:lnTo>
                    <a:pt x="95" y="181"/>
                  </a:lnTo>
                  <a:lnTo>
                    <a:pt x="105" y="188"/>
                  </a:lnTo>
                  <a:lnTo>
                    <a:pt x="115" y="195"/>
                  </a:lnTo>
                  <a:lnTo>
                    <a:pt x="126" y="202"/>
                  </a:lnTo>
                  <a:lnTo>
                    <a:pt x="136" y="209"/>
                  </a:lnTo>
                  <a:lnTo>
                    <a:pt x="146" y="215"/>
                  </a:lnTo>
                  <a:lnTo>
                    <a:pt x="141" y="215"/>
                  </a:lnTo>
                  <a:lnTo>
                    <a:pt x="136" y="215"/>
                  </a:lnTo>
                  <a:lnTo>
                    <a:pt x="133" y="215"/>
                  </a:lnTo>
                  <a:lnTo>
                    <a:pt x="128" y="212"/>
                  </a:lnTo>
                  <a:lnTo>
                    <a:pt x="122" y="210"/>
                  </a:lnTo>
                  <a:lnTo>
                    <a:pt x="117" y="207"/>
                  </a:lnTo>
                  <a:lnTo>
                    <a:pt x="112" y="203"/>
                  </a:lnTo>
                  <a:lnTo>
                    <a:pt x="109" y="200"/>
                  </a:lnTo>
                  <a:lnTo>
                    <a:pt x="102" y="203"/>
                  </a:lnTo>
                  <a:lnTo>
                    <a:pt x="95" y="207"/>
                  </a:lnTo>
                  <a:lnTo>
                    <a:pt x="88" y="209"/>
                  </a:lnTo>
                  <a:lnTo>
                    <a:pt x="83" y="210"/>
                  </a:lnTo>
                  <a:lnTo>
                    <a:pt x="76" y="210"/>
                  </a:lnTo>
                  <a:lnTo>
                    <a:pt x="69" y="212"/>
                  </a:lnTo>
                  <a:lnTo>
                    <a:pt x="62" y="210"/>
                  </a:lnTo>
                  <a:lnTo>
                    <a:pt x="53" y="209"/>
                  </a:lnTo>
                  <a:lnTo>
                    <a:pt x="53" y="205"/>
                  </a:lnTo>
                  <a:lnTo>
                    <a:pt x="53" y="202"/>
                  </a:lnTo>
                  <a:lnTo>
                    <a:pt x="53" y="197"/>
                  </a:lnTo>
                  <a:lnTo>
                    <a:pt x="53" y="193"/>
                  </a:lnTo>
                  <a:lnTo>
                    <a:pt x="52" y="188"/>
                  </a:lnTo>
                  <a:lnTo>
                    <a:pt x="52" y="185"/>
                  </a:lnTo>
                  <a:lnTo>
                    <a:pt x="52" y="180"/>
                  </a:lnTo>
                  <a:lnTo>
                    <a:pt x="52" y="176"/>
                  </a:lnTo>
                  <a:lnTo>
                    <a:pt x="41" y="174"/>
                  </a:lnTo>
                  <a:lnTo>
                    <a:pt x="34" y="171"/>
                  </a:lnTo>
                  <a:lnTo>
                    <a:pt x="31" y="166"/>
                  </a:lnTo>
                  <a:lnTo>
                    <a:pt x="28" y="161"/>
                  </a:lnTo>
                  <a:lnTo>
                    <a:pt x="26" y="154"/>
                  </a:lnTo>
                  <a:lnTo>
                    <a:pt x="26" y="147"/>
                  </a:lnTo>
                  <a:lnTo>
                    <a:pt x="28" y="139"/>
                  </a:lnTo>
                  <a:lnTo>
                    <a:pt x="29" y="132"/>
                  </a:lnTo>
                  <a:lnTo>
                    <a:pt x="22" y="130"/>
                  </a:lnTo>
                  <a:lnTo>
                    <a:pt x="17" y="128"/>
                  </a:lnTo>
                  <a:lnTo>
                    <a:pt x="12" y="125"/>
                  </a:lnTo>
                  <a:lnTo>
                    <a:pt x="9" y="121"/>
                  </a:lnTo>
                  <a:lnTo>
                    <a:pt x="5" y="118"/>
                  </a:lnTo>
                  <a:lnTo>
                    <a:pt x="3" y="113"/>
                  </a:lnTo>
                  <a:lnTo>
                    <a:pt x="3" y="106"/>
                  </a:lnTo>
                  <a:lnTo>
                    <a:pt x="3" y="99"/>
                  </a:lnTo>
                  <a:lnTo>
                    <a:pt x="5" y="96"/>
                  </a:lnTo>
                  <a:lnTo>
                    <a:pt x="9" y="94"/>
                  </a:lnTo>
                  <a:lnTo>
                    <a:pt x="10" y="91"/>
                  </a:lnTo>
                  <a:lnTo>
                    <a:pt x="14" y="87"/>
                  </a:lnTo>
                  <a:lnTo>
                    <a:pt x="15" y="86"/>
                  </a:lnTo>
                  <a:lnTo>
                    <a:pt x="17" y="82"/>
                  </a:lnTo>
                  <a:lnTo>
                    <a:pt x="19" y="79"/>
                  </a:lnTo>
                  <a:lnTo>
                    <a:pt x="21" y="75"/>
                  </a:lnTo>
                  <a:lnTo>
                    <a:pt x="19" y="72"/>
                  </a:lnTo>
                  <a:lnTo>
                    <a:pt x="15" y="68"/>
                  </a:lnTo>
                  <a:lnTo>
                    <a:pt x="12" y="63"/>
                  </a:lnTo>
                  <a:lnTo>
                    <a:pt x="9" y="60"/>
                  </a:lnTo>
                  <a:lnTo>
                    <a:pt x="7" y="57"/>
                  </a:lnTo>
                  <a:lnTo>
                    <a:pt x="3" y="51"/>
                  </a:lnTo>
                  <a:lnTo>
                    <a:pt x="2" y="48"/>
                  </a:lnTo>
                  <a:lnTo>
                    <a:pt x="0" y="45"/>
                  </a:lnTo>
                  <a:lnTo>
                    <a:pt x="0" y="43"/>
                  </a:lnTo>
                  <a:lnTo>
                    <a:pt x="2" y="41"/>
                  </a:lnTo>
                  <a:lnTo>
                    <a:pt x="2" y="39"/>
                  </a:lnTo>
                  <a:lnTo>
                    <a:pt x="3" y="38"/>
                  </a:lnTo>
                  <a:lnTo>
                    <a:pt x="5" y="36"/>
                  </a:lnTo>
                  <a:lnTo>
                    <a:pt x="7" y="33"/>
                  </a:lnTo>
                  <a:lnTo>
                    <a:pt x="9" y="31"/>
                  </a:lnTo>
                  <a:lnTo>
                    <a:pt x="9" y="31"/>
                  </a:lnTo>
                  <a:lnTo>
                    <a:pt x="7" y="27"/>
                  </a:lnTo>
                  <a:lnTo>
                    <a:pt x="5" y="26"/>
                  </a:lnTo>
                  <a:lnTo>
                    <a:pt x="3" y="24"/>
                  </a:lnTo>
                  <a:lnTo>
                    <a:pt x="2" y="21"/>
                  </a:lnTo>
                  <a:lnTo>
                    <a:pt x="2" y="19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0" y="9"/>
                  </a:lnTo>
                  <a:lnTo>
                    <a:pt x="2" y="9"/>
                  </a:lnTo>
                  <a:lnTo>
                    <a:pt x="5" y="7"/>
                  </a:lnTo>
                  <a:lnTo>
                    <a:pt x="9" y="5"/>
                  </a:lnTo>
                  <a:lnTo>
                    <a:pt x="12" y="4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21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7f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587600" y="2293920"/>
              <a:ext cx="4680" cy="972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0"/>
                  </a:moveTo>
                  <a:lnTo>
                    <a:pt x="7" y="2"/>
                  </a:lnTo>
                  <a:lnTo>
                    <a:pt x="7" y="3"/>
                  </a:lnTo>
                  <a:lnTo>
                    <a:pt x="7" y="5"/>
                  </a:lnTo>
                  <a:lnTo>
                    <a:pt x="6" y="8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584360" y="2233440"/>
              <a:ext cx="101520" cy="135000"/>
            </a:xfrm>
            <a:custGeom>
              <a:avLst/>
              <a:gdLst/>
              <a:ahLst/>
              <a:rect l="l" t="t" r="r" b="b"/>
              <a:pathLst>
                <a:path w="148" h="215">
                  <a:moveTo>
                    <a:pt x="19" y="0"/>
                  </a:moveTo>
                  <a:lnTo>
                    <a:pt x="15" y="0"/>
                  </a:lnTo>
                  <a:lnTo>
                    <a:pt x="14" y="2"/>
                  </a:lnTo>
                  <a:lnTo>
                    <a:pt x="10" y="2"/>
                  </a:lnTo>
                  <a:lnTo>
                    <a:pt x="9" y="3"/>
                  </a:lnTo>
                  <a:lnTo>
                    <a:pt x="7" y="5"/>
                  </a:lnTo>
                  <a:lnTo>
                    <a:pt x="3" y="5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3" y="22"/>
                  </a:lnTo>
                  <a:lnTo>
                    <a:pt x="5" y="24"/>
                  </a:lnTo>
                  <a:lnTo>
                    <a:pt x="7" y="25"/>
                  </a:lnTo>
                  <a:lnTo>
                    <a:pt x="9" y="29"/>
                  </a:lnTo>
                  <a:lnTo>
                    <a:pt x="9" y="29"/>
                  </a:lnTo>
                  <a:lnTo>
                    <a:pt x="7" y="31"/>
                  </a:lnTo>
                  <a:lnTo>
                    <a:pt x="5" y="34"/>
                  </a:lnTo>
                  <a:lnTo>
                    <a:pt x="3" y="36"/>
                  </a:lnTo>
                  <a:lnTo>
                    <a:pt x="2" y="37"/>
                  </a:lnTo>
                  <a:lnTo>
                    <a:pt x="2" y="39"/>
                  </a:lnTo>
                  <a:lnTo>
                    <a:pt x="0" y="41"/>
                  </a:lnTo>
                  <a:lnTo>
                    <a:pt x="0" y="43"/>
                  </a:lnTo>
                  <a:lnTo>
                    <a:pt x="2" y="46"/>
                  </a:lnTo>
                  <a:lnTo>
                    <a:pt x="3" y="49"/>
                  </a:lnTo>
                  <a:lnTo>
                    <a:pt x="7" y="55"/>
                  </a:lnTo>
                  <a:lnTo>
                    <a:pt x="9" y="58"/>
                  </a:lnTo>
                  <a:lnTo>
                    <a:pt x="12" y="61"/>
                  </a:lnTo>
                  <a:lnTo>
                    <a:pt x="15" y="66"/>
                  </a:lnTo>
                  <a:lnTo>
                    <a:pt x="19" y="70"/>
                  </a:lnTo>
                  <a:lnTo>
                    <a:pt x="21" y="73"/>
                  </a:lnTo>
                  <a:lnTo>
                    <a:pt x="19" y="77"/>
                  </a:lnTo>
                  <a:lnTo>
                    <a:pt x="17" y="80"/>
                  </a:lnTo>
                  <a:lnTo>
                    <a:pt x="15" y="84"/>
                  </a:lnTo>
                  <a:lnTo>
                    <a:pt x="14" y="85"/>
                  </a:lnTo>
                  <a:lnTo>
                    <a:pt x="10" y="89"/>
                  </a:lnTo>
                  <a:lnTo>
                    <a:pt x="9" y="92"/>
                  </a:lnTo>
                  <a:lnTo>
                    <a:pt x="5" y="94"/>
                  </a:lnTo>
                  <a:lnTo>
                    <a:pt x="3" y="97"/>
                  </a:lnTo>
                  <a:lnTo>
                    <a:pt x="3" y="104"/>
                  </a:lnTo>
                  <a:lnTo>
                    <a:pt x="3" y="111"/>
                  </a:lnTo>
                  <a:lnTo>
                    <a:pt x="5" y="116"/>
                  </a:lnTo>
                  <a:lnTo>
                    <a:pt x="9" y="119"/>
                  </a:lnTo>
                  <a:lnTo>
                    <a:pt x="12" y="123"/>
                  </a:lnTo>
                  <a:lnTo>
                    <a:pt x="17" y="126"/>
                  </a:lnTo>
                  <a:lnTo>
                    <a:pt x="22" y="128"/>
                  </a:lnTo>
                  <a:lnTo>
                    <a:pt x="29" y="130"/>
                  </a:lnTo>
                  <a:lnTo>
                    <a:pt x="28" y="137"/>
                  </a:lnTo>
                  <a:lnTo>
                    <a:pt x="26" y="145"/>
                  </a:lnTo>
                  <a:lnTo>
                    <a:pt x="26" y="152"/>
                  </a:lnTo>
                  <a:lnTo>
                    <a:pt x="28" y="159"/>
                  </a:lnTo>
                  <a:lnTo>
                    <a:pt x="31" y="164"/>
                  </a:lnTo>
                  <a:lnTo>
                    <a:pt x="34" y="169"/>
                  </a:lnTo>
                  <a:lnTo>
                    <a:pt x="41" y="172"/>
                  </a:lnTo>
                  <a:lnTo>
                    <a:pt x="52" y="174"/>
                  </a:lnTo>
                  <a:lnTo>
                    <a:pt x="52" y="178"/>
                  </a:lnTo>
                  <a:lnTo>
                    <a:pt x="52" y="183"/>
                  </a:lnTo>
                  <a:lnTo>
                    <a:pt x="52" y="186"/>
                  </a:lnTo>
                  <a:lnTo>
                    <a:pt x="53" y="191"/>
                  </a:lnTo>
                  <a:lnTo>
                    <a:pt x="53" y="195"/>
                  </a:lnTo>
                  <a:lnTo>
                    <a:pt x="53" y="200"/>
                  </a:lnTo>
                  <a:lnTo>
                    <a:pt x="53" y="203"/>
                  </a:lnTo>
                  <a:lnTo>
                    <a:pt x="53" y="207"/>
                  </a:lnTo>
                  <a:lnTo>
                    <a:pt x="62" y="208"/>
                  </a:lnTo>
                  <a:lnTo>
                    <a:pt x="69" y="210"/>
                  </a:lnTo>
                  <a:lnTo>
                    <a:pt x="76" y="208"/>
                  </a:lnTo>
                  <a:lnTo>
                    <a:pt x="83" y="208"/>
                  </a:lnTo>
                  <a:lnTo>
                    <a:pt x="88" y="207"/>
                  </a:lnTo>
                  <a:lnTo>
                    <a:pt x="95" y="205"/>
                  </a:lnTo>
                  <a:lnTo>
                    <a:pt x="102" y="201"/>
                  </a:lnTo>
                  <a:lnTo>
                    <a:pt x="109" y="198"/>
                  </a:lnTo>
                  <a:lnTo>
                    <a:pt x="112" y="201"/>
                  </a:lnTo>
                  <a:lnTo>
                    <a:pt x="117" y="205"/>
                  </a:lnTo>
                  <a:lnTo>
                    <a:pt x="122" y="208"/>
                  </a:lnTo>
                  <a:lnTo>
                    <a:pt x="128" y="212"/>
                  </a:lnTo>
                  <a:lnTo>
                    <a:pt x="133" y="213"/>
                  </a:lnTo>
                  <a:lnTo>
                    <a:pt x="138" y="215"/>
                  </a:lnTo>
                  <a:lnTo>
                    <a:pt x="143" y="213"/>
                  </a:lnTo>
                  <a:lnTo>
                    <a:pt x="148" y="212"/>
                  </a:lnTo>
                  <a:lnTo>
                    <a:pt x="148" y="212"/>
                  </a:lnTo>
                  <a:lnTo>
                    <a:pt x="148" y="210"/>
                  </a:lnTo>
                  <a:lnTo>
                    <a:pt x="148" y="210"/>
                  </a:lnTo>
                  <a:lnTo>
                    <a:pt x="148" y="210"/>
                  </a:lnTo>
                  <a:lnTo>
                    <a:pt x="148" y="208"/>
                  </a:lnTo>
                  <a:lnTo>
                    <a:pt x="148" y="208"/>
                  </a:lnTo>
                  <a:lnTo>
                    <a:pt x="146" y="208"/>
                  </a:lnTo>
                  <a:lnTo>
                    <a:pt x="146" y="207"/>
                  </a:lnTo>
                  <a:lnTo>
                    <a:pt x="141" y="203"/>
                  </a:lnTo>
                  <a:lnTo>
                    <a:pt x="134" y="200"/>
                  </a:lnTo>
                  <a:lnTo>
                    <a:pt x="126" y="195"/>
                  </a:lnTo>
                  <a:lnTo>
                    <a:pt x="117" y="189"/>
                  </a:lnTo>
                  <a:lnTo>
                    <a:pt x="109" y="183"/>
                  </a:lnTo>
                  <a:lnTo>
                    <a:pt x="98" y="178"/>
                  </a:lnTo>
                  <a:lnTo>
                    <a:pt x="90" y="169"/>
                  </a:lnTo>
                  <a:lnTo>
                    <a:pt x="79" y="162"/>
                  </a:lnTo>
                  <a:lnTo>
                    <a:pt x="74" y="160"/>
                  </a:lnTo>
                  <a:lnTo>
                    <a:pt x="71" y="159"/>
                  </a:lnTo>
                  <a:lnTo>
                    <a:pt x="65" y="157"/>
                  </a:lnTo>
                  <a:lnTo>
                    <a:pt x="60" y="155"/>
                  </a:lnTo>
                  <a:lnTo>
                    <a:pt x="57" y="152"/>
                  </a:lnTo>
                  <a:lnTo>
                    <a:pt x="53" y="150"/>
                  </a:lnTo>
                  <a:lnTo>
                    <a:pt x="48" y="148"/>
                  </a:lnTo>
                  <a:lnTo>
                    <a:pt x="45" y="147"/>
                  </a:lnTo>
                  <a:lnTo>
                    <a:pt x="45" y="145"/>
                  </a:lnTo>
                  <a:lnTo>
                    <a:pt x="45" y="142"/>
                  </a:lnTo>
                  <a:lnTo>
                    <a:pt x="43" y="140"/>
                  </a:lnTo>
                  <a:lnTo>
                    <a:pt x="43" y="138"/>
                  </a:lnTo>
                  <a:lnTo>
                    <a:pt x="43" y="135"/>
                  </a:lnTo>
                  <a:lnTo>
                    <a:pt x="43" y="133"/>
                  </a:lnTo>
                  <a:lnTo>
                    <a:pt x="43" y="130"/>
                  </a:lnTo>
                  <a:lnTo>
                    <a:pt x="41" y="128"/>
                  </a:lnTo>
                  <a:lnTo>
                    <a:pt x="40" y="125"/>
                  </a:lnTo>
                  <a:lnTo>
                    <a:pt x="36" y="119"/>
                  </a:lnTo>
                  <a:lnTo>
                    <a:pt x="34" y="116"/>
                  </a:lnTo>
                  <a:lnTo>
                    <a:pt x="31" y="113"/>
                  </a:lnTo>
                  <a:lnTo>
                    <a:pt x="29" y="109"/>
                  </a:lnTo>
                  <a:lnTo>
                    <a:pt x="29" y="106"/>
                  </a:lnTo>
                  <a:lnTo>
                    <a:pt x="28" y="102"/>
                  </a:lnTo>
                  <a:lnTo>
                    <a:pt x="28" y="99"/>
                  </a:lnTo>
                  <a:lnTo>
                    <a:pt x="24" y="70"/>
                  </a:lnTo>
                  <a:lnTo>
                    <a:pt x="22" y="60"/>
                  </a:lnTo>
                  <a:lnTo>
                    <a:pt x="22" y="49"/>
                  </a:lnTo>
                  <a:lnTo>
                    <a:pt x="22" y="41"/>
                  </a:lnTo>
                  <a:lnTo>
                    <a:pt x="21" y="32"/>
                  </a:lnTo>
                  <a:lnTo>
                    <a:pt x="21" y="24"/>
                  </a:lnTo>
                  <a:lnTo>
                    <a:pt x="19" y="15"/>
                  </a:lnTo>
                  <a:lnTo>
                    <a:pt x="19" y="7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584360" y="2233440"/>
              <a:ext cx="101520" cy="135000"/>
            </a:xfrm>
            <a:custGeom>
              <a:avLst/>
              <a:gdLst/>
              <a:ahLst/>
              <a:rect l="l" t="t" r="r" b="b"/>
              <a:pathLst>
                <a:path w="148" h="215">
                  <a:moveTo>
                    <a:pt x="19" y="0"/>
                  </a:moveTo>
                  <a:lnTo>
                    <a:pt x="15" y="0"/>
                  </a:lnTo>
                  <a:lnTo>
                    <a:pt x="14" y="2"/>
                  </a:lnTo>
                  <a:lnTo>
                    <a:pt x="10" y="2"/>
                  </a:lnTo>
                  <a:lnTo>
                    <a:pt x="9" y="3"/>
                  </a:lnTo>
                  <a:lnTo>
                    <a:pt x="7" y="5"/>
                  </a:lnTo>
                  <a:lnTo>
                    <a:pt x="3" y="5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3" y="22"/>
                  </a:lnTo>
                  <a:lnTo>
                    <a:pt x="5" y="24"/>
                  </a:lnTo>
                  <a:lnTo>
                    <a:pt x="7" y="25"/>
                  </a:lnTo>
                  <a:lnTo>
                    <a:pt x="9" y="29"/>
                  </a:lnTo>
                  <a:lnTo>
                    <a:pt x="9" y="29"/>
                  </a:lnTo>
                  <a:lnTo>
                    <a:pt x="7" y="31"/>
                  </a:lnTo>
                  <a:lnTo>
                    <a:pt x="5" y="34"/>
                  </a:lnTo>
                  <a:lnTo>
                    <a:pt x="3" y="36"/>
                  </a:lnTo>
                  <a:lnTo>
                    <a:pt x="2" y="37"/>
                  </a:lnTo>
                  <a:lnTo>
                    <a:pt x="2" y="39"/>
                  </a:lnTo>
                  <a:lnTo>
                    <a:pt x="0" y="41"/>
                  </a:lnTo>
                  <a:lnTo>
                    <a:pt x="0" y="43"/>
                  </a:lnTo>
                  <a:lnTo>
                    <a:pt x="2" y="46"/>
                  </a:lnTo>
                  <a:lnTo>
                    <a:pt x="3" y="49"/>
                  </a:lnTo>
                  <a:lnTo>
                    <a:pt x="7" y="55"/>
                  </a:lnTo>
                  <a:lnTo>
                    <a:pt x="9" y="58"/>
                  </a:lnTo>
                  <a:lnTo>
                    <a:pt x="12" y="61"/>
                  </a:lnTo>
                  <a:lnTo>
                    <a:pt x="15" y="66"/>
                  </a:lnTo>
                  <a:lnTo>
                    <a:pt x="19" y="70"/>
                  </a:lnTo>
                  <a:lnTo>
                    <a:pt x="21" y="73"/>
                  </a:lnTo>
                  <a:lnTo>
                    <a:pt x="19" y="77"/>
                  </a:lnTo>
                  <a:lnTo>
                    <a:pt x="17" y="80"/>
                  </a:lnTo>
                  <a:lnTo>
                    <a:pt x="15" y="84"/>
                  </a:lnTo>
                  <a:lnTo>
                    <a:pt x="14" y="85"/>
                  </a:lnTo>
                  <a:lnTo>
                    <a:pt x="10" y="89"/>
                  </a:lnTo>
                  <a:lnTo>
                    <a:pt x="9" y="92"/>
                  </a:lnTo>
                  <a:lnTo>
                    <a:pt x="5" y="94"/>
                  </a:lnTo>
                  <a:lnTo>
                    <a:pt x="3" y="97"/>
                  </a:lnTo>
                  <a:lnTo>
                    <a:pt x="3" y="104"/>
                  </a:lnTo>
                  <a:lnTo>
                    <a:pt x="3" y="111"/>
                  </a:lnTo>
                  <a:lnTo>
                    <a:pt x="5" y="116"/>
                  </a:lnTo>
                  <a:lnTo>
                    <a:pt x="9" y="119"/>
                  </a:lnTo>
                  <a:lnTo>
                    <a:pt x="12" y="123"/>
                  </a:lnTo>
                  <a:lnTo>
                    <a:pt x="17" y="126"/>
                  </a:lnTo>
                  <a:lnTo>
                    <a:pt x="22" y="128"/>
                  </a:lnTo>
                  <a:lnTo>
                    <a:pt x="29" y="130"/>
                  </a:lnTo>
                  <a:lnTo>
                    <a:pt x="28" y="137"/>
                  </a:lnTo>
                  <a:lnTo>
                    <a:pt x="26" y="145"/>
                  </a:lnTo>
                  <a:lnTo>
                    <a:pt x="26" y="152"/>
                  </a:lnTo>
                  <a:lnTo>
                    <a:pt x="28" y="159"/>
                  </a:lnTo>
                  <a:lnTo>
                    <a:pt x="31" y="164"/>
                  </a:lnTo>
                  <a:lnTo>
                    <a:pt x="34" y="169"/>
                  </a:lnTo>
                  <a:lnTo>
                    <a:pt x="41" y="172"/>
                  </a:lnTo>
                  <a:lnTo>
                    <a:pt x="52" y="174"/>
                  </a:lnTo>
                  <a:lnTo>
                    <a:pt x="52" y="178"/>
                  </a:lnTo>
                  <a:lnTo>
                    <a:pt x="52" y="183"/>
                  </a:lnTo>
                  <a:lnTo>
                    <a:pt x="52" y="186"/>
                  </a:lnTo>
                  <a:lnTo>
                    <a:pt x="53" y="191"/>
                  </a:lnTo>
                  <a:lnTo>
                    <a:pt x="53" y="195"/>
                  </a:lnTo>
                  <a:lnTo>
                    <a:pt x="53" y="200"/>
                  </a:lnTo>
                  <a:lnTo>
                    <a:pt x="53" y="203"/>
                  </a:lnTo>
                  <a:lnTo>
                    <a:pt x="53" y="207"/>
                  </a:lnTo>
                  <a:lnTo>
                    <a:pt x="62" y="208"/>
                  </a:lnTo>
                  <a:lnTo>
                    <a:pt x="69" y="210"/>
                  </a:lnTo>
                  <a:lnTo>
                    <a:pt x="76" y="208"/>
                  </a:lnTo>
                  <a:lnTo>
                    <a:pt x="83" y="208"/>
                  </a:lnTo>
                  <a:lnTo>
                    <a:pt x="88" y="207"/>
                  </a:lnTo>
                  <a:lnTo>
                    <a:pt x="95" y="205"/>
                  </a:lnTo>
                  <a:lnTo>
                    <a:pt x="102" y="201"/>
                  </a:lnTo>
                  <a:lnTo>
                    <a:pt x="109" y="198"/>
                  </a:lnTo>
                  <a:lnTo>
                    <a:pt x="112" y="201"/>
                  </a:lnTo>
                  <a:lnTo>
                    <a:pt x="117" y="205"/>
                  </a:lnTo>
                  <a:lnTo>
                    <a:pt x="122" y="208"/>
                  </a:lnTo>
                  <a:lnTo>
                    <a:pt x="128" y="212"/>
                  </a:lnTo>
                  <a:lnTo>
                    <a:pt x="133" y="213"/>
                  </a:lnTo>
                  <a:lnTo>
                    <a:pt x="138" y="215"/>
                  </a:lnTo>
                  <a:lnTo>
                    <a:pt x="143" y="213"/>
                  </a:lnTo>
                  <a:lnTo>
                    <a:pt x="148" y="212"/>
                  </a:lnTo>
                  <a:lnTo>
                    <a:pt x="148" y="212"/>
                  </a:lnTo>
                  <a:lnTo>
                    <a:pt x="148" y="210"/>
                  </a:lnTo>
                  <a:lnTo>
                    <a:pt x="148" y="210"/>
                  </a:lnTo>
                  <a:lnTo>
                    <a:pt x="148" y="210"/>
                  </a:lnTo>
                  <a:lnTo>
                    <a:pt x="148" y="208"/>
                  </a:lnTo>
                  <a:lnTo>
                    <a:pt x="148" y="208"/>
                  </a:lnTo>
                  <a:lnTo>
                    <a:pt x="146" y="208"/>
                  </a:lnTo>
                  <a:lnTo>
                    <a:pt x="146" y="207"/>
                  </a:lnTo>
                  <a:lnTo>
                    <a:pt x="141" y="203"/>
                  </a:lnTo>
                  <a:lnTo>
                    <a:pt x="134" y="200"/>
                  </a:lnTo>
                  <a:lnTo>
                    <a:pt x="126" y="195"/>
                  </a:lnTo>
                  <a:lnTo>
                    <a:pt x="117" y="189"/>
                  </a:lnTo>
                  <a:lnTo>
                    <a:pt x="109" y="183"/>
                  </a:lnTo>
                  <a:lnTo>
                    <a:pt x="98" y="178"/>
                  </a:lnTo>
                  <a:lnTo>
                    <a:pt x="90" y="169"/>
                  </a:lnTo>
                  <a:lnTo>
                    <a:pt x="79" y="162"/>
                  </a:lnTo>
                  <a:lnTo>
                    <a:pt x="74" y="160"/>
                  </a:lnTo>
                  <a:lnTo>
                    <a:pt x="71" y="159"/>
                  </a:lnTo>
                  <a:lnTo>
                    <a:pt x="65" y="157"/>
                  </a:lnTo>
                  <a:lnTo>
                    <a:pt x="60" y="155"/>
                  </a:lnTo>
                  <a:lnTo>
                    <a:pt x="57" y="152"/>
                  </a:lnTo>
                  <a:lnTo>
                    <a:pt x="53" y="150"/>
                  </a:lnTo>
                  <a:lnTo>
                    <a:pt x="48" y="148"/>
                  </a:lnTo>
                  <a:lnTo>
                    <a:pt x="45" y="147"/>
                  </a:lnTo>
                  <a:lnTo>
                    <a:pt x="45" y="145"/>
                  </a:lnTo>
                  <a:lnTo>
                    <a:pt x="45" y="142"/>
                  </a:lnTo>
                  <a:lnTo>
                    <a:pt x="43" y="140"/>
                  </a:lnTo>
                  <a:lnTo>
                    <a:pt x="43" y="138"/>
                  </a:lnTo>
                  <a:lnTo>
                    <a:pt x="43" y="135"/>
                  </a:lnTo>
                  <a:lnTo>
                    <a:pt x="43" y="133"/>
                  </a:lnTo>
                  <a:lnTo>
                    <a:pt x="43" y="130"/>
                  </a:lnTo>
                  <a:lnTo>
                    <a:pt x="41" y="128"/>
                  </a:lnTo>
                  <a:lnTo>
                    <a:pt x="40" y="125"/>
                  </a:lnTo>
                  <a:lnTo>
                    <a:pt x="36" y="119"/>
                  </a:lnTo>
                  <a:lnTo>
                    <a:pt x="34" y="116"/>
                  </a:lnTo>
                  <a:lnTo>
                    <a:pt x="31" y="113"/>
                  </a:lnTo>
                  <a:lnTo>
                    <a:pt x="29" y="109"/>
                  </a:lnTo>
                  <a:lnTo>
                    <a:pt x="29" y="106"/>
                  </a:lnTo>
                  <a:lnTo>
                    <a:pt x="28" y="102"/>
                  </a:lnTo>
                  <a:lnTo>
                    <a:pt x="28" y="99"/>
                  </a:lnTo>
                  <a:lnTo>
                    <a:pt x="24" y="70"/>
                  </a:lnTo>
                  <a:lnTo>
                    <a:pt x="22" y="60"/>
                  </a:lnTo>
                  <a:lnTo>
                    <a:pt x="22" y="49"/>
                  </a:lnTo>
                  <a:lnTo>
                    <a:pt x="22" y="41"/>
                  </a:lnTo>
                  <a:lnTo>
                    <a:pt x="21" y="32"/>
                  </a:lnTo>
                  <a:lnTo>
                    <a:pt x="21" y="24"/>
                  </a:lnTo>
                  <a:lnTo>
                    <a:pt x="19" y="15"/>
                  </a:lnTo>
                  <a:lnTo>
                    <a:pt x="19" y="7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584360" y="2233440"/>
              <a:ext cx="100080" cy="133560"/>
            </a:xfrm>
            <a:custGeom>
              <a:avLst/>
              <a:gdLst/>
              <a:ahLst/>
              <a:rect l="l" t="t" r="r" b="b"/>
              <a:pathLst>
                <a:path w="146" h="213">
                  <a:moveTo>
                    <a:pt x="38" y="123"/>
                  </a:moveTo>
                  <a:lnTo>
                    <a:pt x="38" y="123"/>
                  </a:lnTo>
                  <a:lnTo>
                    <a:pt x="40" y="125"/>
                  </a:lnTo>
                  <a:lnTo>
                    <a:pt x="40" y="125"/>
                  </a:lnTo>
                  <a:lnTo>
                    <a:pt x="40" y="126"/>
                  </a:lnTo>
                  <a:lnTo>
                    <a:pt x="41" y="128"/>
                  </a:lnTo>
                  <a:lnTo>
                    <a:pt x="41" y="128"/>
                  </a:lnTo>
                  <a:lnTo>
                    <a:pt x="41" y="130"/>
                  </a:lnTo>
                  <a:lnTo>
                    <a:pt x="43" y="130"/>
                  </a:lnTo>
                  <a:lnTo>
                    <a:pt x="43" y="131"/>
                  </a:lnTo>
                  <a:lnTo>
                    <a:pt x="43" y="135"/>
                  </a:lnTo>
                  <a:lnTo>
                    <a:pt x="43" y="137"/>
                  </a:lnTo>
                  <a:lnTo>
                    <a:pt x="43" y="138"/>
                  </a:lnTo>
                  <a:lnTo>
                    <a:pt x="43" y="142"/>
                  </a:lnTo>
                  <a:lnTo>
                    <a:pt x="45" y="143"/>
                  </a:lnTo>
                  <a:lnTo>
                    <a:pt x="45" y="145"/>
                  </a:lnTo>
                  <a:lnTo>
                    <a:pt x="45" y="147"/>
                  </a:lnTo>
                  <a:lnTo>
                    <a:pt x="46" y="148"/>
                  </a:lnTo>
                  <a:lnTo>
                    <a:pt x="50" y="150"/>
                  </a:lnTo>
                  <a:lnTo>
                    <a:pt x="52" y="150"/>
                  </a:lnTo>
                  <a:lnTo>
                    <a:pt x="55" y="152"/>
                  </a:lnTo>
                  <a:lnTo>
                    <a:pt x="57" y="154"/>
                  </a:lnTo>
                  <a:lnTo>
                    <a:pt x="60" y="154"/>
                  </a:lnTo>
                  <a:lnTo>
                    <a:pt x="62" y="155"/>
                  </a:lnTo>
                  <a:lnTo>
                    <a:pt x="65" y="157"/>
                  </a:lnTo>
                  <a:lnTo>
                    <a:pt x="74" y="164"/>
                  </a:lnTo>
                  <a:lnTo>
                    <a:pt x="84" y="172"/>
                  </a:lnTo>
                  <a:lnTo>
                    <a:pt x="95" y="179"/>
                  </a:lnTo>
                  <a:lnTo>
                    <a:pt x="105" y="186"/>
                  </a:lnTo>
                  <a:lnTo>
                    <a:pt x="115" y="193"/>
                  </a:lnTo>
                  <a:lnTo>
                    <a:pt x="126" y="200"/>
                  </a:lnTo>
                  <a:lnTo>
                    <a:pt x="136" y="207"/>
                  </a:lnTo>
                  <a:lnTo>
                    <a:pt x="146" y="213"/>
                  </a:lnTo>
                  <a:lnTo>
                    <a:pt x="141" y="213"/>
                  </a:lnTo>
                  <a:lnTo>
                    <a:pt x="136" y="213"/>
                  </a:lnTo>
                  <a:lnTo>
                    <a:pt x="133" y="213"/>
                  </a:lnTo>
                  <a:lnTo>
                    <a:pt x="128" y="210"/>
                  </a:lnTo>
                  <a:lnTo>
                    <a:pt x="122" y="208"/>
                  </a:lnTo>
                  <a:lnTo>
                    <a:pt x="117" y="205"/>
                  </a:lnTo>
                  <a:lnTo>
                    <a:pt x="112" y="201"/>
                  </a:lnTo>
                  <a:lnTo>
                    <a:pt x="109" y="198"/>
                  </a:lnTo>
                  <a:lnTo>
                    <a:pt x="102" y="201"/>
                  </a:lnTo>
                  <a:lnTo>
                    <a:pt x="95" y="205"/>
                  </a:lnTo>
                  <a:lnTo>
                    <a:pt x="88" y="207"/>
                  </a:lnTo>
                  <a:lnTo>
                    <a:pt x="83" y="208"/>
                  </a:lnTo>
                  <a:lnTo>
                    <a:pt x="76" y="208"/>
                  </a:lnTo>
                  <a:lnTo>
                    <a:pt x="69" y="210"/>
                  </a:lnTo>
                  <a:lnTo>
                    <a:pt x="62" y="208"/>
                  </a:lnTo>
                  <a:lnTo>
                    <a:pt x="53" y="207"/>
                  </a:lnTo>
                  <a:lnTo>
                    <a:pt x="53" y="203"/>
                  </a:lnTo>
                  <a:lnTo>
                    <a:pt x="53" y="200"/>
                  </a:lnTo>
                  <a:lnTo>
                    <a:pt x="53" y="195"/>
                  </a:lnTo>
                  <a:lnTo>
                    <a:pt x="53" y="191"/>
                  </a:lnTo>
                  <a:lnTo>
                    <a:pt x="52" y="186"/>
                  </a:lnTo>
                  <a:lnTo>
                    <a:pt x="52" y="183"/>
                  </a:lnTo>
                  <a:lnTo>
                    <a:pt x="52" y="178"/>
                  </a:lnTo>
                  <a:lnTo>
                    <a:pt x="52" y="174"/>
                  </a:lnTo>
                  <a:lnTo>
                    <a:pt x="41" y="172"/>
                  </a:lnTo>
                  <a:lnTo>
                    <a:pt x="34" y="169"/>
                  </a:lnTo>
                  <a:lnTo>
                    <a:pt x="31" y="164"/>
                  </a:lnTo>
                  <a:lnTo>
                    <a:pt x="28" y="159"/>
                  </a:lnTo>
                  <a:lnTo>
                    <a:pt x="26" y="152"/>
                  </a:lnTo>
                  <a:lnTo>
                    <a:pt x="26" y="145"/>
                  </a:lnTo>
                  <a:lnTo>
                    <a:pt x="28" y="137"/>
                  </a:lnTo>
                  <a:lnTo>
                    <a:pt x="29" y="130"/>
                  </a:lnTo>
                  <a:lnTo>
                    <a:pt x="22" y="128"/>
                  </a:lnTo>
                  <a:lnTo>
                    <a:pt x="17" y="126"/>
                  </a:lnTo>
                  <a:lnTo>
                    <a:pt x="12" y="123"/>
                  </a:lnTo>
                  <a:lnTo>
                    <a:pt x="9" y="119"/>
                  </a:lnTo>
                  <a:lnTo>
                    <a:pt x="5" y="116"/>
                  </a:lnTo>
                  <a:lnTo>
                    <a:pt x="3" y="111"/>
                  </a:lnTo>
                  <a:lnTo>
                    <a:pt x="3" y="104"/>
                  </a:lnTo>
                  <a:lnTo>
                    <a:pt x="3" y="97"/>
                  </a:lnTo>
                  <a:lnTo>
                    <a:pt x="5" y="94"/>
                  </a:lnTo>
                  <a:lnTo>
                    <a:pt x="9" y="92"/>
                  </a:lnTo>
                  <a:lnTo>
                    <a:pt x="10" y="89"/>
                  </a:lnTo>
                  <a:lnTo>
                    <a:pt x="14" y="85"/>
                  </a:lnTo>
                  <a:lnTo>
                    <a:pt x="15" y="84"/>
                  </a:lnTo>
                  <a:lnTo>
                    <a:pt x="17" y="80"/>
                  </a:lnTo>
                  <a:lnTo>
                    <a:pt x="19" y="77"/>
                  </a:lnTo>
                  <a:lnTo>
                    <a:pt x="21" y="73"/>
                  </a:lnTo>
                  <a:lnTo>
                    <a:pt x="19" y="70"/>
                  </a:lnTo>
                  <a:lnTo>
                    <a:pt x="15" y="66"/>
                  </a:lnTo>
                  <a:lnTo>
                    <a:pt x="12" y="61"/>
                  </a:lnTo>
                  <a:lnTo>
                    <a:pt x="9" y="58"/>
                  </a:lnTo>
                  <a:lnTo>
                    <a:pt x="7" y="55"/>
                  </a:lnTo>
                  <a:lnTo>
                    <a:pt x="3" y="49"/>
                  </a:lnTo>
                  <a:lnTo>
                    <a:pt x="2" y="46"/>
                  </a:lnTo>
                  <a:lnTo>
                    <a:pt x="0" y="43"/>
                  </a:lnTo>
                  <a:lnTo>
                    <a:pt x="0" y="41"/>
                  </a:lnTo>
                  <a:lnTo>
                    <a:pt x="2" y="39"/>
                  </a:lnTo>
                  <a:lnTo>
                    <a:pt x="2" y="37"/>
                  </a:lnTo>
                  <a:lnTo>
                    <a:pt x="3" y="36"/>
                  </a:lnTo>
                  <a:lnTo>
                    <a:pt x="5" y="34"/>
                  </a:lnTo>
                  <a:lnTo>
                    <a:pt x="7" y="31"/>
                  </a:lnTo>
                  <a:lnTo>
                    <a:pt x="9" y="29"/>
                  </a:lnTo>
                  <a:lnTo>
                    <a:pt x="9" y="29"/>
                  </a:lnTo>
                  <a:lnTo>
                    <a:pt x="7" y="25"/>
                  </a:lnTo>
                  <a:lnTo>
                    <a:pt x="5" y="24"/>
                  </a:lnTo>
                  <a:lnTo>
                    <a:pt x="3" y="22"/>
                  </a:lnTo>
                  <a:lnTo>
                    <a:pt x="2" y="19"/>
                  </a:lnTo>
                  <a:lnTo>
                    <a:pt x="2" y="17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2" y="7"/>
                  </a:lnTo>
                  <a:lnTo>
                    <a:pt x="3" y="5"/>
                  </a:lnTo>
                  <a:lnTo>
                    <a:pt x="7" y="5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4" y="2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19" y="7"/>
                  </a:lnTo>
                  <a:lnTo>
                    <a:pt x="19" y="15"/>
                  </a:lnTo>
                  <a:lnTo>
                    <a:pt x="21" y="24"/>
                  </a:lnTo>
                  <a:lnTo>
                    <a:pt x="21" y="32"/>
                  </a:lnTo>
                  <a:lnTo>
                    <a:pt x="22" y="41"/>
                  </a:lnTo>
                  <a:lnTo>
                    <a:pt x="22" y="49"/>
                  </a:lnTo>
                  <a:lnTo>
                    <a:pt x="22" y="60"/>
                  </a:lnTo>
                  <a:lnTo>
                    <a:pt x="24" y="70"/>
                  </a:lnTo>
                  <a:lnTo>
                    <a:pt x="28" y="99"/>
                  </a:lnTo>
                  <a:lnTo>
                    <a:pt x="28" y="102"/>
                  </a:lnTo>
                  <a:lnTo>
                    <a:pt x="28" y="106"/>
                  </a:lnTo>
                  <a:lnTo>
                    <a:pt x="29" y="107"/>
                  </a:lnTo>
                  <a:lnTo>
                    <a:pt x="31" y="111"/>
                  </a:lnTo>
                  <a:lnTo>
                    <a:pt x="33" y="113"/>
                  </a:lnTo>
                  <a:lnTo>
                    <a:pt x="34" y="116"/>
                  </a:lnTo>
                  <a:lnTo>
                    <a:pt x="36" y="119"/>
                  </a:lnTo>
                  <a:lnTo>
                    <a:pt x="38" y="123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587600" y="2293920"/>
              <a:ext cx="4680" cy="972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7" y="0"/>
                  </a:moveTo>
                  <a:lnTo>
                    <a:pt x="7" y="2"/>
                  </a:lnTo>
                  <a:lnTo>
                    <a:pt x="7" y="3"/>
                  </a:lnTo>
                  <a:lnTo>
                    <a:pt x="7" y="5"/>
                  </a:lnTo>
                  <a:lnTo>
                    <a:pt x="6" y="8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2" y="15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6" y="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589040" y="2209680"/>
              <a:ext cx="73080" cy="47880"/>
            </a:xfrm>
            <a:custGeom>
              <a:avLst/>
              <a:gdLst/>
              <a:ahLst/>
              <a:rect l="l" t="t" r="r" b="b"/>
              <a:pathLst>
                <a:path w="107" h="79">
                  <a:moveTo>
                    <a:pt x="107" y="52"/>
                  </a:moveTo>
                  <a:lnTo>
                    <a:pt x="98" y="36"/>
                  </a:lnTo>
                  <a:lnTo>
                    <a:pt x="88" y="22"/>
                  </a:lnTo>
                  <a:lnTo>
                    <a:pt x="76" y="12"/>
                  </a:lnTo>
                  <a:lnTo>
                    <a:pt x="64" y="5"/>
                  </a:lnTo>
                  <a:lnTo>
                    <a:pt x="57" y="2"/>
                  </a:lnTo>
                  <a:lnTo>
                    <a:pt x="50" y="0"/>
                  </a:lnTo>
                  <a:lnTo>
                    <a:pt x="43" y="0"/>
                  </a:lnTo>
                  <a:lnTo>
                    <a:pt x="35" y="0"/>
                  </a:lnTo>
                  <a:lnTo>
                    <a:pt x="26" y="0"/>
                  </a:lnTo>
                  <a:lnTo>
                    <a:pt x="19" y="2"/>
                  </a:lnTo>
                  <a:lnTo>
                    <a:pt x="10" y="5"/>
                  </a:lnTo>
                  <a:lnTo>
                    <a:pt x="0" y="9"/>
                  </a:lnTo>
                  <a:lnTo>
                    <a:pt x="2" y="17"/>
                  </a:lnTo>
                  <a:lnTo>
                    <a:pt x="4" y="24"/>
                  </a:lnTo>
                  <a:lnTo>
                    <a:pt x="4" y="33"/>
                  </a:lnTo>
                  <a:lnTo>
                    <a:pt x="5" y="41"/>
                  </a:lnTo>
                  <a:lnTo>
                    <a:pt x="5" y="50"/>
                  </a:lnTo>
                  <a:lnTo>
                    <a:pt x="7" y="57"/>
                  </a:lnTo>
                  <a:lnTo>
                    <a:pt x="10" y="65"/>
                  </a:lnTo>
                  <a:lnTo>
                    <a:pt x="12" y="72"/>
                  </a:lnTo>
                  <a:lnTo>
                    <a:pt x="14" y="72"/>
                  </a:lnTo>
                  <a:lnTo>
                    <a:pt x="16" y="74"/>
                  </a:lnTo>
                  <a:lnTo>
                    <a:pt x="19" y="74"/>
                  </a:lnTo>
                  <a:lnTo>
                    <a:pt x="21" y="75"/>
                  </a:lnTo>
                  <a:lnTo>
                    <a:pt x="23" y="75"/>
                  </a:lnTo>
                  <a:lnTo>
                    <a:pt x="24" y="77"/>
                  </a:lnTo>
                  <a:lnTo>
                    <a:pt x="26" y="77"/>
                  </a:lnTo>
                  <a:lnTo>
                    <a:pt x="28" y="79"/>
                  </a:lnTo>
                  <a:lnTo>
                    <a:pt x="31" y="67"/>
                  </a:lnTo>
                  <a:lnTo>
                    <a:pt x="35" y="57"/>
                  </a:lnTo>
                  <a:lnTo>
                    <a:pt x="41" y="48"/>
                  </a:lnTo>
                  <a:lnTo>
                    <a:pt x="50" y="40"/>
                  </a:lnTo>
                  <a:lnTo>
                    <a:pt x="60" y="33"/>
                  </a:lnTo>
                  <a:lnTo>
                    <a:pt x="71" y="29"/>
                  </a:lnTo>
                  <a:lnTo>
                    <a:pt x="83" y="26"/>
                  </a:lnTo>
                  <a:lnTo>
                    <a:pt x="95" y="24"/>
                  </a:lnTo>
                  <a:lnTo>
                    <a:pt x="95" y="28"/>
                  </a:lnTo>
                  <a:lnTo>
                    <a:pt x="98" y="29"/>
                  </a:lnTo>
                  <a:lnTo>
                    <a:pt x="100" y="33"/>
                  </a:lnTo>
                  <a:lnTo>
                    <a:pt x="102" y="36"/>
                  </a:lnTo>
                  <a:lnTo>
                    <a:pt x="105" y="40"/>
                  </a:lnTo>
                  <a:lnTo>
                    <a:pt x="105" y="45"/>
                  </a:lnTo>
                  <a:lnTo>
                    <a:pt x="107" y="48"/>
                  </a:lnTo>
                  <a:lnTo>
                    <a:pt x="107" y="52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589040" y="2209680"/>
              <a:ext cx="73080" cy="47880"/>
            </a:xfrm>
            <a:custGeom>
              <a:avLst/>
              <a:gdLst/>
              <a:ahLst/>
              <a:rect l="l" t="t" r="r" b="b"/>
              <a:pathLst>
                <a:path w="107" h="79">
                  <a:moveTo>
                    <a:pt x="107" y="52"/>
                  </a:moveTo>
                  <a:lnTo>
                    <a:pt x="98" y="36"/>
                  </a:lnTo>
                  <a:lnTo>
                    <a:pt x="88" y="22"/>
                  </a:lnTo>
                  <a:lnTo>
                    <a:pt x="76" y="12"/>
                  </a:lnTo>
                  <a:lnTo>
                    <a:pt x="64" y="5"/>
                  </a:lnTo>
                  <a:lnTo>
                    <a:pt x="57" y="2"/>
                  </a:lnTo>
                  <a:lnTo>
                    <a:pt x="50" y="0"/>
                  </a:lnTo>
                  <a:lnTo>
                    <a:pt x="43" y="0"/>
                  </a:lnTo>
                  <a:lnTo>
                    <a:pt x="35" y="0"/>
                  </a:lnTo>
                  <a:lnTo>
                    <a:pt x="26" y="0"/>
                  </a:lnTo>
                  <a:lnTo>
                    <a:pt x="19" y="2"/>
                  </a:lnTo>
                  <a:lnTo>
                    <a:pt x="10" y="5"/>
                  </a:lnTo>
                  <a:lnTo>
                    <a:pt x="0" y="9"/>
                  </a:lnTo>
                  <a:lnTo>
                    <a:pt x="2" y="17"/>
                  </a:lnTo>
                  <a:lnTo>
                    <a:pt x="4" y="24"/>
                  </a:lnTo>
                  <a:lnTo>
                    <a:pt x="4" y="33"/>
                  </a:lnTo>
                  <a:lnTo>
                    <a:pt x="5" y="41"/>
                  </a:lnTo>
                  <a:lnTo>
                    <a:pt x="5" y="50"/>
                  </a:lnTo>
                  <a:lnTo>
                    <a:pt x="7" y="57"/>
                  </a:lnTo>
                  <a:lnTo>
                    <a:pt x="10" y="65"/>
                  </a:lnTo>
                  <a:lnTo>
                    <a:pt x="12" y="72"/>
                  </a:lnTo>
                  <a:lnTo>
                    <a:pt x="14" y="72"/>
                  </a:lnTo>
                  <a:lnTo>
                    <a:pt x="16" y="74"/>
                  </a:lnTo>
                  <a:lnTo>
                    <a:pt x="19" y="74"/>
                  </a:lnTo>
                  <a:lnTo>
                    <a:pt x="21" y="75"/>
                  </a:lnTo>
                  <a:lnTo>
                    <a:pt x="23" y="75"/>
                  </a:lnTo>
                  <a:lnTo>
                    <a:pt x="24" y="77"/>
                  </a:lnTo>
                  <a:lnTo>
                    <a:pt x="26" y="77"/>
                  </a:lnTo>
                  <a:lnTo>
                    <a:pt x="28" y="79"/>
                  </a:lnTo>
                  <a:lnTo>
                    <a:pt x="31" y="67"/>
                  </a:lnTo>
                  <a:lnTo>
                    <a:pt x="35" y="57"/>
                  </a:lnTo>
                  <a:lnTo>
                    <a:pt x="41" y="48"/>
                  </a:lnTo>
                  <a:lnTo>
                    <a:pt x="50" y="40"/>
                  </a:lnTo>
                  <a:lnTo>
                    <a:pt x="60" y="33"/>
                  </a:lnTo>
                  <a:lnTo>
                    <a:pt x="71" y="29"/>
                  </a:lnTo>
                  <a:lnTo>
                    <a:pt x="83" y="26"/>
                  </a:lnTo>
                  <a:lnTo>
                    <a:pt x="95" y="24"/>
                  </a:lnTo>
                  <a:lnTo>
                    <a:pt x="95" y="28"/>
                  </a:lnTo>
                  <a:lnTo>
                    <a:pt x="98" y="29"/>
                  </a:lnTo>
                  <a:lnTo>
                    <a:pt x="100" y="33"/>
                  </a:lnTo>
                  <a:lnTo>
                    <a:pt x="102" y="36"/>
                  </a:lnTo>
                  <a:lnTo>
                    <a:pt x="105" y="40"/>
                  </a:lnTo>
                  <a:lnTo>
                    <a:pt x="105" y="45"/>
                  </a:lnTo>
                  <a:lnTo>
                    <a:pt x="107" y="48"/>
                  </a:lnTo>
                  <a:lnTo>
                    <a:pt x="107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600200" y="2209680"/>
              <a:ext cx="55440" cy="28800"/>
            </a:xfrm>
            <a:custGeom>
              <a:avLst/>
              <a:gdLst/>
              <a:ahLst/>
              <a:rect l="l" t="t" r="r" b="b"/>
              <a:pathLst>
                <a:path w="81" h="45">
                  <a:moveTo>
                    <a:pt x="81" y="29"/>
                  </a:moveTo>
                  <a:lnTo>
                    <a:pt x="80" y="29"/>
                  </a:lnTo>
                  <a:lnTo>
                    <a:pt x="80" y="29"/>
                  </a:lnTo>
                  <a:lnTo>
                    <a:pt x="78" y="28"/>
                  </a:lnTo>
                  <a:lnTo>
                    <a:pt x="78" y="28"/>
                  </a:lnTo>
                  <a:lnTo>
                    <a:pt x="76" y="28"/>
                  </a:lnTo>
                  <a:lnTo>
                    <a:pt x="74" y="26"/>
                  </a:lnTo>
                  <a:lnTo>
                    <a:pt x="74" y="26"/>
                  </a:lnTo>
                  <a:lnTo>
                    <a:pt x="73" y="26"/>
                  </a:lnTo>
                  <a:lnTo>
                    <a:pt x="66" y="17"/>
                  </a:lnTo>
                  <a:lnTo>
                    <a:pt x="59" y="11"/>
                  </a:lnTo>
                  <a:lnTo>
                    <a:pt x="50" y="5"/>
                  </a:lnTo>
                  <a:lnTo>
                    <a:pt x="42" y="2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11" y="0"/>
                  </a:lnTo>
                  <a:lnTo>
                    <a:pt x="0" y="4"/>
                  </a:lnTo>
                  <a:lnTo>
                    <a:pt x="2" y="9"/>
                  </a:lnTo>
                  <a:lnTo>
                    <a:pt x="4" y="14"/>
                  </a:lnTo>
                  <a:lnTo>
                    <a:pt x="6" y="19"/>
                  </a:lnTo>
                  <a:lnTo>
                    <a:pt x="7" y="24"/>
                  </a:lnTo>
                  <a:lnTo>
                    <a:pt x="9" y="29"/>
                  </a:lnTo>
                  <a:lnTo>
                    <a:pt x="11" y="34"/>
                  </a:lnTo>
                  <a:lnTo>
                    <a:pt x="12" y="40"/>
                  </a:lnTo>
                  <a:lnTo>
                    <a:pt x="14" y="45"/>
                  </a:lnTo>
                  <a:lnTo>
                    <a:pt x="16" y="43"/>
                  </a:lnTo>
                  <a:lnTo>
                    <a:pt x="16" y="43"/>
                  </a:lnTo>
                  <a:lnTo>
                    <a:pt x="16" y="41"/>
                  </a:lnTo>
                  <a:lnTo>
                    <a:pt x="18" y="40"/>
                  </a:lnTo>
                  <a:lnTo>
                    <a:pt x="18" y="40"/>
                  </a:lnTo>
                  <a:lnTo>
                    <a:pt x="19" y="38"/>
                  </a:lnTo>
                  <a:lnTo>
                    <a:pt x="19" y="36"/>
                  </a:lnTo>
                  <a:lnTo>
                    <a:pt x="19" y="34"/>
                  </a:lnTo>
                  <a:lnTo>
                    <a:pt x="16" y="31"/>
                  </a:lnTo>
                  <a:lnTo>
                    <a:pt x="16" y="29"/>
                  </a:lnTo>
                  <a:lnTo>
                    <a:pt x="18" y="28"/>
                  </a:lnTo>
                  <a:lnTo>
                    <a:pt x="19" y="26"/>
                  </a:lnTo>
                  <a:lnTo>
                    <a:pt x="23" y="24"/>
                  </a:lnTo>
                  <a:lnTo>
                    <a:pt x="26" y="22"/>
                  </a:lnTo>
                  <a:lnTo>
                    <a:pt x="30" y="21"/>
                  </a:lnTo>
                  <a:lnTo>
                    <a:pt x="31" y="17"/>
                  </a:lnTo>
                  <a:lnTo>
                    <a:pt x="35" y="21"/>
                  </a:lnTo>
                  <a:lnTo>
                    <a:pt x="38" y="21"/>
                  </a:lnTo>
                  <a:lnTo>
                    <a:pt x="40" y="21"/>
                  </a:lnTo>
                  <a:lnTo>
                    <a:pt x="43" y="19"/>
                  </a:lnTo>
                  <a:lnTo>
                    <a:pt x="45" y="16"/>
                  </a:lnTo>
                  <a:lnTo>
                    <a:pt x="49" y="14"/>
                  </a:lnTo>
                  <a:lnTo>
                    <a:pt x="50" y="12"/>
                  </a:lnTo>
                  <a:lnTo>
                    <a:pt x="54" y="11"/>
                  </a:lnTo>
                  <a:lnTo>
                    <a:pt x="56" y="12"/>
                  </a:lnTo>
                  <a:lnTo>
                    <a:pt x="56" y="12"/>
                  </a:lnTo>
                  <a:lnTo>
                    <a:pt x="56" y="12"/>
                  </a:lnTo>
                  <a:lnTo>
                    <a:pt x="56" y="14"/>
                  </a:lnTo>
                  <a:lnTo>
                    <a:pt x="56" y="14"/>
                  </a:lnTo>
                  <a:lnTo>
                    <a:pt x="56" y="16"/>
                  </a:lnTo>
                  <a:lnTo>
                    <a:pt x="56" y="16"/>
                  </a:lnTo>
                  <a:lnTo>
                    <a:pt x="56" y="16"/>
                  </a:lnTo>
                  <a:lnTo>
                    <a:pt x="57" y="19"/>
                  </a:lnTo>
                  <a:lnTo>
                    <a:pt x="59" y="19"/>
                  </a:lnTo>
                  <a:lnTo>
                    <a:pt x="61" y="21"/>
                  </a:lnTo>
                  <a:lnTo>
                    <a:pt x="62" y="22"/>
                  </a:lnTo>
                  <a:lnTo>
                    <a:pt x="64" y="22"/>
                  </a:lnTo>
                  <a:lnTo>
                    <a:pt x="66" y="24"/>
                  </a:lnTo>
                  <a:lnTo>
                    <a:pt x="69" y="24"/>
                  </a:lnTo>
                  <a:lnTo>
                    <a:pt x="71" y="24"/>
                  </a:lnTo>
                  <a:lnTo>
                    <a:pt x="71" y="24"/>
                  </a:lnTo>
                  <a:lnTo>
                    <a:pt x="73" y="24"/>
                  </a:lnTo>
                  <a:lnTo>
                    <a:pt x="73" y="24"/>
                  </a:lnTo>
                  <a:lnTo>
                    <a:pt x="74" y="24"/>
                  </a:lnTo>
                  <a:lnTo>
                    <a:pt x="74" y="24"/>
                  </a:lnTo>
                  <a:lnTo>
                    <a:pt x="76" y="24"/>
                  </a:lnTo>
                  <a:lnTo>
                    <a:pt x="76" y="24"/>
                  </a:lnTo>
                  <a:lnTo>
                    <a:pt x="78" y="24"/>
                  </a:lnTo>
                  <a:lnTo>
                    <a:pt x="78" y="24"/>
                  </a:lnTo>
                  <a:lnTo>
                    <a:pt x="78" y="26"/>
                  </a:lnTo>
                  <a:lnTo>
                    <a:pt x="78" y="26"/>
                  </a:lnTo>
                  <a:lnTo>
                    <a:pt x="78" y="28"/>
                  </a:lnTo>
                  <a:lnTo>
                    <a:pt x="80" y="28"/>
                  </a:lnTo>
                  <a:lnTo>
                    <a:pt x="80" y="29"/>
                  </a:lnTo>
                  <a:lnTo>
                    <a:pt x="80" y="29"/>
                  </a:lnTo>
                  <a:lnTo>
                    <a:pt x="81" y="29"/>
                  </a:lnTo>
                  <a:close/>
                </a:path>
              </a:pathLst>
            </a:custGeom>
            <a:solidFill>
              <a:srgbClr val="e5b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589040" y="2212920"/>
              <a:ext cx="12600" cy="42840"/>
            </a:xfrm>
            <a:custGeom>
              <a:avLst/>
              <a:gdLst/>
              <a:ahLst/>
              <a:rect l="l" t="t" r="r" b="b"/>
              <a:pathLst>
                <a:path w="21" h="68">
                  <a:moveTo>
                    <a:pt x="9" y="0"/>
                  </a:moveTo>
                  <a:lnTo>
                    <a:pt x="9" y="0"/>
                  </a:lnTo>
                  <a:lnTo>
                    <a:pt x="9" y="0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14" y="14"/>
                  </a:lnTo>
                  <a:lnTo>
                    <a:pt x="16" y="22"/>
                  </a:lnTo>
                  <a:lnTo>
                    <a:pt x="19" y="29"/>
                  </a:lnTo>
                  <a:lnTo>
                    <a:pt x="19" y="38"/>
                  </a:lnTo>
                  <a:lnTo>
                    <a:pt x="21" y="45"/>
                  </a:lnTo>
                  <a:lnTo>
                    <a:pt x="21" y="53"/>
                  </a:lnTo>
                  <a:lnTo>
                    <a:pt x="21" y="60"/>
                  </a:lnTo>
                  <a:lnTo>
                    <a:pt x="21" y="68"/>
                  </a:lnTo>
                  <a:lnTo>
                    <a:pt x="19" y="68"/>
                  </a:lnTo>
                  <a:lnTo>
                    <a:pt x="19" y="67"/>
                  </a:lnTo>
                  <a:lnTo>
                    <a:pt x="17" y="67"/>
                  </a:lnTo>
                  <a:lnTo>
                    <a:pt x="16" y="67"/>
                  </a:lnTo>
                  <a:lnTo>
                    <a:pt x="16" y="65"/>
                  </a:lnTo>
                  <a:lnTo>
                    <a:pt x="14" y="65"/>
                  </a:lnTo>
                  <a:lnTo>
                    <a:pt x="14" y="65"/>
                  </a:lnTo>
                  <a:lnTo>
                    <a:pt x="12" y="65"/>
                  </a:lnTo>
                  <a:lnTo>
                    <a:pt x="10" y="58"/>
                  </a:lnTo>
                  <a:lnTo>
                    <a:pt x="7" y="50"/>
                  </a:lnTo>
                  <a:lnTo>
                    <a:pt x="5" y="43"/>
                  </a:lnTo>
                  <a:lnTo>
                    <a:pt x="5" y="34"/>
                  </a:lnTo>
                  <a:lnTo>
                    <a:pt x="4" y="26"/>
                  </a:lnTo>
                  <a:lnTo>
                    <a:pt x="4" y="17"/>
                  </a:lnTo>
                  <a:lnTo>
                    <a:pt x="2" y="10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7f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623960" y="2230560"/>
              <a:ext cx="7920" cy="2880"/>
            </a:xfrm>
            <a:custGeom>
              <a:avLst/>
              <a:gdLst/>
              <a:ahLst/>
              <a:rect l="l" t="t" r="r" b="b"/>
              <a:pathLst>
                <a:path w="10" h="5">
                  <a:moveTo>
                    <a:pt x="0" y="5"/>
                  </a:moveTo>
                  <a:lnTo>
                    <a:pt x="1" y="3"/>
                  </a:lnTo>
                  <a:lnTo>
                    <a:pt x="1" y="3"/>
                  </a:lnTo>
                  <a:lnTo>
                    <a:pt x="3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3" y="3"/>
                  </a:lnTo>
                  <a:lnTo>
                    <a:pt x="3" y="3"/>
                  </a:lnTo>
                  <a:lnTo>
                    <a:pt x="1" y="3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7f4c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589040" y="2212920"/>
              <a:ext cx="9720" cy="41400"/>
            </a:xfrm>
            <a:custGeom>
              <a:avLst/>
              <a:gdLst/>
              <a:ahLst/>
              <a:rect l="l" t="t" r="r" b="b"/>
              <a:pathLst>
                <a:path w="16" h="69">
                  <a:moveTo>
                    <a:pt x="9" y="0"/>
                  </a:moveTo>
                  <a:lnTo>
                    <a:pt x="9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2" y="12"/>
                  </a:lnTo>
                  <a:lnTo>
                    <a:pt x="4" y="19"/>
                  </a:lnTo>
                  <a:lnTo>
                    <a:pt x="4" y="28"/>
                  </a:lnTo>
                  <a:lnTo>
                    <a:pt x="5" y="36"/>
                  </a:lnTo>
                  <a:lnTo>
                    <a:pt x="5" y="45"/>
                  </a:lnTo>
                  <a:lnTo>
                    <a:pt x="7" y="52"/>
                  </a:lnTo>
                  <a:lnTo>
                    <a:pt x="10" y="60"/>
                  </a:lnTo>
                  <a:lnTo>
                    <a:pt x="12" y="67"/>
                  </a:lnTo>
                  <a:lnTo>
                    <a:pt x="14" y="67"/>
                  </a:lnTo>
                  <a:lnTo>
                    <a:pt x="14" y="67"/>
                  </a:lnTo>
                  <a:lnTo>
                    <a:pt x="14" y="67"/>
                  </a:lnTo>
                  <a:lnTo>
                    <a:pt x="14" y="67"/>
                  </a:lnTo>
                  <a:lnTo>
                    <a:pt x="14" y="67"/>
                  </a:lnTo>
                  <a:lnTo>
                    <a:pt x="16" y="67"/>
                  </a:lnTo>
                  <a:lnTo>
                    <a:pt x="16" y="67"/>
                  </a:lnTo>
                  <a:lnTo>
                    <a:pt x="16" y="69"/>
                  </a:lnTo>
                  <a:lnTo>
                    <a:pt x="16" y="60"/>
                  </a:lnTo>
                  <a:lnTo>
                    <a:pt x="16" y="52"/>
                  </a:lnTo>
                  <a:lnTo>
                    <a:pt x="14" y="43"/>
                  </a:lnTo>
                  <a:lnTo>
                    <a:pt x="14" y="35"/>
                  </a:lnTo>
                  <a:lnTo>
                    <a:pt x="12" y="26"/>
                  </a:lnTo>
                  <a:lnTo>
                    <a:pt x="12" y="17"/>
                  </a:lnTo>
                  <a:lnTo>
                    <a:pt x="10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589040" y="2212920"/>
              <a:ext cx="9720" cy="41400"/>
            </a:xfrm>
            <a:custGeom>
              <a:avLst/>
              <a:gdLst/>
              <a:ahLst/>
              <a:rect l="l" t="t" r="r" b="b"/>
              <a:pathLst>
                <a:path w="16" h="69">
                  <a:moveTo>
                    <a:pt x="9" y="0"/>
                  </a:moveTo>
                  <a:lnTo>
                    <a:pt x="9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4"/>
                  </a:lnTo>
                  <a:lnTo>
                    <a:pt x="2" y="12"/>
                  </a:lnTo>
                  <a:lnTo>
                    <a:pt x="4" y="19"/>
                  </a:lnTo>
                  <a:lnTo>
                    <a:pt x="4" y="28"/>
                  </a:lnTo>
                  <a:lnTo>
                    <a:pt x="5" y="36"/>
                  </a:lnTo>
                  <a:lnTo>
                    <a:pt x="5" y="45"/>
                  </a:lnTo>
                  <a:lnTo>
                    <a:pt x="7" y="52"/>
                  </a:lnTo>
                  <a:lnTo>
                    <a:pt x="10" y="60"/>
                  </a:lnTo>
                  <a:lnTo>
                    <a:pt x="12" y="67"/>
                  </a:lnTo>
                  <a:lnTo>
                    <a:pt x="14" y="67"/>
                  </a:lnTo>
                  <a:lnTo>
                    <a:pt x="14" y="67"/>
                  </a:lnTo>
                  <a:lnTo>
                    <a:pt x="14" y="67"/>
                  </a:lnTo>
                  <a:lnTo>
                    <a:pt x="14" y="67"/>
                  </a:lnTo>
                  <a:lnTo>
                    <a:pt x="14" y="67"/>
                  </a:lnTo>
                  <a:lnTo>
                    <a:pt x="16" y="67"/>
                  </a:lnTo>
                  <a:lnTo>
                    <a:pt x="16" y="67"/>
                  </a:lnTo>
                  <a:lnTo>
                    <a:pt x="16" y="69"/>
                  </a:lnTo>
                  <a:lnTo>
                    <a:pt x="16" y="60"/>
                  </a:lnTo>
                  <a:lnTo>
                    <a:pt x="16" y="52"/>
                  </a:lnTo>
                  <a:lnTo>
                    <a:pt x="14" y="43"/>
                  </a:lnTo>
                  <a:lnTo>
                    <a:pt x="14" y="35"/>
                  </a:lnTo>
                  <a:lnTo>
                    <a:pt x="12" y="26"/>
                  </a:lnTo>
                  <a:lnTo>
                    <a:pt x="12" y="17"/>
                  </a:lnTo>
                  <a:lnTo>
                    <a:pt x="10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589040" y="2212920"/>
              <a:ext cx="9720" cy="41400"/>
            </a:xfrm>
            <a:custGeom>
              <a:avLst/>
              <a:gdLst/>
              <a:ahLst/>
              <a:rect l="l" t="t" r="r" b="b"/>
              <a:pathLst>
                <a:path w="16" h="67">
                  <a:moveTo>
                    <a:pt x="9" y="0"/>
                  </a:move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10" y="10"/>
                  </a:lnTo>
                  <a:lnTo>
                    <a:pt x="12" y="19"/>
                  </a:lnTo>
                  <a:lnTo>
                    <a:pt x="12" y="26"/>
                  </a:lnTo>
                  <a:lnTo>
                    <a:pt x="14" y="34"/>
                  </a:lnTo>
                  <a:lnTo>
                    <a:pt x="14" y="41"/>
                  </a:lnTo>
                  <a:lnTo>
                    <a:pt x="16" y="50"/>
                  </a:lnTo>
                  <a:lnTo>
                    <a:pt x="16" y="58"/>
                  </a:lnTo>
                  <a:lnTo>
                    <a:pt x="16" y="67"/>
                  </a:lnTo>
                  <a:lnTo>
                    <a:pt x="16" y="65"/>
                  </a:lnTo>
                  <a:lnTo>
                    <a:pt x="16" y="65"/>
                  </a:lnTo>
                  <a:lnTo>
                    <a:pt x="14" y="65"/>
                  </a:lnTo>
                  <a:lnTo>
                    <a:pt x="14" y="65"/>
                  </a:lnTo>
                  <a:lnTo>
                    <a:pt x="14" y="65"/>
                  </a:lnTo>
                  <a:lnTo>
                    <a:pt x="14" y="65"/>
                  </a:lnTo>
                  <a:lnTo>
                    <a:pt x="14" y="65"/>
                  </a:lnTo>
                  <a:lnTo>
                    <a:pt x="12" y="65"/>
                  </a:lnTo>
                  <a:lnTo>
                    <a:pt x="10" y="58"/>
                  </a:lnTo>
                  <a:lnTo>
                    <a:pt x="7" y="50"/>
                  </a:lnTo>
                  <a:lnTo>
                    <a:pt x="5" y="43"/>
                  </a:lnTo>
                  <a:lnTo>
                    <a:pt x="5" y="34"/>
                  </a:lnTo>
                  <a:lnTo>
                    <a:pt x="4" y="26"/>
                  </a:lnTo>
                  <a:lnTo>
                    <a:pt x="4" y="17"/>
                  </a:lnTo>
                  <a:lnTo>
                    <a:pt x="2" y="10"/>
                  </a:lnTo>
                  <a:lnTo>
                    <a:pt x="0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592280" y="2232000"/>
              <a:ext cx="17280" cy="25560"/>
            </a:xfrm>
            <a:custGeom>
              <a:avLst/>
              <a:gdLst/>
              <a:ahLst/>
              <a:rect l="l" t="t" r="r" b="b"/>
              <a:pathLst>
                <a:path w="26" h="43">
                  <a:moveTo>
                    <a:pt x="0" y="5"/>
                  </a:moveTo>
                  <a:lnTo>
                    <a:pt x="0" y="9"/>
                  </a:lnTo>
                  <a:lnTo>
                    <a:pt x="0" y="14"/>
                  </a:lnTo>
                  <a:lnTo>
                    <a:pt x="2" y="17"/>
                  </a:lnTo>
                  <a:lnTo>
                    <a:pt x="2" y="21"/>
                  </a:lnTo>
                  <a:lnTo>
                    <a:pt x="4" y="26"/>
                  </a:lnTo>
                  <a:lnTo>
                    <a:pt x="5" y="29"/>
                  </a:lnTo>
                  <a:lnTo>
                    <a:pt x="7" y="33"/>
                  </a:lnTo>
                  <a:lnTo>
                    <a:pt x="7" y="36"/>
                  </a:lnTo>
                  <a:lnTo>
                    <a:pt x="9" y="36"/>
                  </a:lnTo>
                  <a:lnTo>
                    <a:pt x="11" y="38"/>
                  </a:lnTo>
                  <a:lnTo>
                    <a:pt x="14" y="38"/>
                  </a:lnTo>
                  <a:lnTo>
                    <a:pt x="16" y="39"/>
                  </a:lnTo>
                  <a:lnTo>
                    <a:pt x="18" y="39"/>
                  </a:lnTo>
                  <a:lnTo>
                    <a:pt x="19" y="41"/>
                  </a:lnTo>
                  <a:lnTo>
                    <a:pt x="21" y="41"/>
                  </a:lnTo>
                  <a:lnTo>
                    <a:pt x="23" y="43"/>
                  </a:lnTo>
                  <a:lnTo>
                    <a:pt x="23" y="39"/>
                  </a:lnTo>
                  <a:lnTo>
                    <a:pt x="23" y="38"/>
                  </a:lnTo>
                  <a:lnTo>
                    <a:pt x="24" y="36"/>
                  </a:lnTo>
                  <a:lnTo>
                    <a:pt x="24" y="34"/>
                  </a:lnTo>
                  <a:lnTo>
                    <a:pt x="24" y="33"/>
                  </a:lnTo>
                  <a:lnTo>
                    <a:pt x="26" y="31"/>
                  </a:lnTo>
                  <a:lnTo>
                    <a:pt x="26" y="29"/>
                  </a:lnTo>
                  <a:lnTo>
                    <a:pt x="26" y="27"/>
                  </a:lnTo>
                  <a:lnTo>
                    <a:pt x="26" y="26"/>
                  </a:lnTo>
                  <a:lnTo>
                    <a:pt x="26" y="22"/>
                  </a:lnTo>
                  <a:lnTo>
                    <a:pt x="26" y="21"/>
                  </a:lnTo>
                  <a:lnTo>
                    <a:pt x="24" y="19"/>
                  </a:lnTo>
                  <a:lnTo>
                    <a:pt x="24" y="16"/>
                  </a:lnTo>
                  <a:lnTo>
                    <a:pt x="24" y="14"/>
                  </a:lnTo>
                  <a:lnTo>
                    <a:pt x="24" y="12"/>
                  </a:lnTo>
                  <a:lnTo>
                    <a:pt x="23" y="9"/>
                  </a:lnTo>
                  <a:lnTo>
                    <a:pt x="23" y="9"/>
                  </a:lnTo>
                  <a:lnTo>
                    <a:pt x="21" y="9"/>
                  </a:lnTo>
                  <a:lnTo>
                    <a:pt x="19" y="9"/>
                  </a:lnTo>
                  <a:lnTo>
                    <a:pt x="19" y="7"/>
                  </a:lnTo>
                  <a:lnTo>
                    <a:pt x="18" y="5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dcd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592280" y="2232000"/>
              <a:ext cx="17280" cy="25560"/>
            </a:xfrm>
            <a:custGeom>
              <a:avLst/>
              <a:gdLst/>
              <a:ahLst/>
              <a:rect l="l" t="t" r="r" b="b"/>
              <a:pathLst>
                <a:path w="26" h="43">
                  <a:moveTo>
                    <a:pt x="0" y="5"/>
                  </a:moveTo>
                  <a:lnTo>
                    <a:pt x="0" y="9"/>
                  </a:lnTo>
                  <a:lnTo>
                    <a:pt x="0" y="14"/>
                  </a:lnTo>
                  <a:lnTo>
                    <a:pt x="2" y="17"/>
                  </a:lnTo>
                  <a:lnTo>
                    <a:pt x="2" y="21"/>
                  </a:lnTo>
                  <a:lnTo>
                    <a:pt x="4" y="26"/>
                  </a:lnTo>
                  <a:lnTo>
                    <a:pt x="5" y="29"/>
                  </a:lnTo>
                  <a:lnTo>
                    <a:pt x="7" y="33"/>
                  </a:lnTo>
                  <a:lnTo>
                    <a:pt x="7" y="36"/>
                  </a:lnTo>
                  <a:lnTo>
                    <a:pt x="9" y="36"/>
                  </a:lnTo>
                  <a:lnTo>
                    <a:pt x="11" y="38"/>
                  </a:lnTo>
                  <a:lnTo>
                    <a:pt x="14" y="38"/>
                  </a:lnTo>
                  <a:lnTo>
                    <a:pt x="16" y="39"/>
                  </a:lnTo>
                  <a:lnTo>
                    <a:pt x="18" y="39"/>
                  </a:lnTo>
                  <a:lnTo>
                    <a:pt x="19" y="41"/>
                  </a:lnTo>
                  <a:lnTo>
                    <a:pt x="21" y="41"/>
                  </a:lnTo>
                  <a:lnTo>
                    <a:pt x="23" y="43"/>
                  </a:lnTo>
                  <a:lnTo>
                    <a:pt x="23" y="39"/>
                  </a:lnTo>
                  <a:lnTo>
                    <a:pt x="23" y="38"/>
                  </a:lnTo>
                  <a:lnTo>
                    <a:pt x="24" y="36"/>
                  </a:lnTo>
                  <a:lnTo>
                    <a:pt x="24" y="34"/>
                  </a:lnTo>
                  <a:lnTo>
                    <a:pt x="24" y="33"/>
                  </a:lnTo>
                  <a:lnTo>
                    <a:pt x="26" y="31"/>
                  </a:lnTo>
                  <a:lnTo>
                    <a:pt x="26" y="29"/>
                  </a:lnTo>
                  <a:lnTo>
                    <a:pt x="26" y="27"/>
                  </a:lnTo>
                  <a:lnTo>
                    <a:pt x="26" y="26"/>
                  </a:lnTo>
                  <a:lnTo>
                    <a:pt x="26" y="22"/>
                  </a:lnTo>
                  <a:lnTo>
                    <a:pt x="26" y="21"/>
                  </a:lnTo>
                  <a:lnTo>
                    <a:pt x="24" y="19"/>
                  </a:lnTo>
                  <a:lnTo>
                    <a:pt x="24" y="16"/>
                  </a:lnTo>
                  <a:lnTo>
                    <a:pt x="24" y="14"/>
                  </a:lnTo>
                  <a:lnTo>
                    <a:pt x="24" y="12"/>
                  </a:lnTo>
                  <a:lnTo>
                    <a:pt x="23" y="9"/>
                  </a:lnTo>
                  <a:lnTo>
                    <a:pt x="23" y="9"/>
                  </a:lnTo>
                  <a:lnTo>
                    <a:pt x="21" y="9"/>
                  </a:lnTo>
                  <a:lnTo>
                    <a:pt x="19" y="9"/>
                  </a:lnTo>
                  <a:lnTo>
                    <a:pt x="19" y="7"/>
                  </a:lnTo>
                  <a:lnTo>
                    <a:pt x="18" y="5"/>
                  </a:lnTo>
                  <a:lnTo>
                    <a:pt x="16" y="4"/>
                  </a:lnTo>
                  <a:lnTo>
                    <a:pt x="16" y="2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592280" y="2232000"/>
              <a:ext cx="9360" cy="23760"/>
            </a:xfrm>
            <a:custGeom>
              <a:avLst/>
              <a:gdLst/>
              <a:ahLst/>
              <a:rect l="l" t="t" r="r" b="b"/>
              <a:pathLst>
                <a:path w="16" h="39">
                  <a:moveTo>
                    <a:pt x="14" y="0"/>
                  </a:moveTo>
                  <a:lnTo>
                    <a:pt x="14" y="5"/>
                  </a:lnTo>
                  <a:lnTo>
                    <a:pt x="14" y="10"/>
                  </a:lnTo>
                  <a:lnTo>
                    <a:pt x="16" y="16"/>
                  </a:lnTo>
                  <a:lnTo>
                    <a:pt x="16" y="21"/>
                  </a:lnTo>
                  <a:lnTo>
                    <a:pt x="16" y="24"/>
                  </a:lnTo>
                  <a:lnTo>
                    <a:pt x="16" y="29"/>
                  </a:lnTo>
                  <a:lnTo>
                    <a:pt x="16" y="34"/>
                  </a:lnTo>
                  <a:lnTo>
                    <a:pt x="16" y="39"/>
                  </a:lnTo>
                  <a:lnTo>
                    <a:pt x="14" y="39"/>
                  </a:lnTo>
                  <a:lnTo>
                    <a:pt x="14" y="38"/>
                  </a:lnTo>
                  <a:lnTo>
                    <a:pt x="12" y="38"/>
                  </a:lnTo>
                  <a:lnTo>
                    <a:pt x="11" y="38"/>
                  </a:lnTo>
                  <a:lnTo>
                    <a:pt x="11" y="36"/>
                  </a:lnTo>
                  <a:lnTo>
                    <a:pt x="9" y="36"/>
                  </a:lnTo>
                  <a:lnTo>
                    <a:pt x="9" y="36"/>
                  </a:lnTo>
                  <a:lnTo>
                    <a:pt x="7" y="36"/>
                  </a:lnTo>
                  <a:lnTo>
                    <a:pt x="7" y="33"/>
                  </a:lnTo>
                  <a:lnTo>
                    <a:pt x="5" y="29"/>
                  </a:lnTo>
                  <a:lnTo>
                    <a:pt x="4" y="26"/>
                  </a:lnTo>
                  <a:lnTo>
                    <a:pt x="2" y="21"/>
                  </a:lnTo>
                  <a:lnTo>
                    <a:pt x="2" y="17"/>
                  </a:lnTo>
                  <a:lnTo>
                    <a:pt x="0" y="14"/>
                  </a:lnTo>
                  <a:lnTo>
                    <a:pt x="0" y="9"/>
                  </a:lnTo>
                  <a:lnTo>
                    <a:pt x="0" y="5"/>
                  </a:lnTo>
                  <a:lnTo>
                    <a:pt x="2" y="4"/>
                  </a:lnTo>
                  <a:lnTo>
                    <a:pt x="4" y="4"/>
                  </a:lnTo>
                  <a:lnTo>
                    <a:pt x="5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592280" y="2233440"/>
              <a:ext cx="6480" cy="20880"/>
            </a:xfrm>
            <a:custGeom>
              <a:avLst/>
              <a:gdLst/>
              <a:ahLst/>
              <a:rect l="l" t="t" r="r" b="b"/>
              <a:pathLst>
                <a:path w="11" h="36">
                  <a:moveTo>
                    <a:pt x="0" y="3"/>
                  </a:moveTo>
                  <a:lnTo>
                    <a:pt x="0" y="7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2" y="19"/>
                  </a:lnTo>
                  <a:lnTo>
                    <a:pt x="4" y="24"/>
                  </a:lnTo>
                  <a:lnTo>
                    <a:pt x="5" y="27"/>
                  </a:lnTo>
                  <a:lnTo>
                    <a:pt x="7" y="31"/>
                  </a:lnTo>
                  <a:lnTo>
                    <a:pt x="7" y="34"/>
                  </a:lnTo>
                  <a:lnTo>
                    <a:pt x="9" y="34"/>
                  </a:lnTo>
                  <a:lnTo>
                    <a:pt x="9" y="34"/>
                  </a:lnTo>
                  <a:lnTo>
                    <a:pt x="9" y="34"/>
                  </a:lnTo>
                  <a:lnTo>
                    <a:pt x="9" y="34"/>
                  </a:lnTo>
                  <a:lnTo>
                    <a:pt x="9" y="34"/>
                  </a:lnTo>
                  <a:lnTo>
                    <a:pt x="11" y="34"/>
                  </a:lnTo>
                  <a:lnTo>
                    <a:pt x="11" y="34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1" y="25"/>
                  </a:lnTo>
                  <a:lnTo>
                    <a:pt x="11" y="22"/>
                  </a:lnTo>
                  <a:lnTo>
                    <a:pt x="11" y="17"/>
                  </a:lnTo>
                  <a:lnTo>
                    <a:pt x="9" y="12"/>
                  </a:lnTo>
                  <a:lnTo>
                    <a:pt x="9" y="8"/>
                  </a:lnTo>
                  <a:lnTo>
                    <a:pt x="9" y="3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b4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592280" y="2233440"/>
              <a:ext cx="6480" cy="20880"/>
            </a:xfrm>
            <a:custGeom>
              <a:avLst/>
              <a:gdLst/>
              <a:ahLst/>
              <a:rect l="l" t="t" r="r" b="b"/>
              <a:pathLst>
                <a:path w="11" h="36">
                  <a:moveTo>
                    <a:pt x="0" y="3"/>
                  </a:moveTo>
                  <a:lnTo>
                    <a:pt x="0" y="7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2" y="19"/>
                  </a:lnTo>
                  <a:lnTo>
                    <a:pt x="4" y="24"/>
                  </a:lnTo>
                  <a:lnTo>
                    <a:pt x="5" y="27"/>
                  </a:lnTo>
                  <a:lnTo>
                    <a:pt x="7" y="31"/>
                  </a:lnTo>
                  <a:lnTo>
                    <a:pt x="7" y="34"/>
                  </a:lnTo>
                  <a:lnTo>
                    <a:pt x="9" y="34"/>
                  </a:lnTo>
                  <a:lnTo>
                    <a:pt x="9" y="34"/>
                  </a:lnTo>
                  <a:lnTo>
                    <a:pt x="9" y="34"/>
                  </a:lnTo>
                  <a:lnTo>
                    <a:pt x="9" y="34"/>
                  </a:lnTo>
                  <a:lnTo>
                    <a:pt x="9" y="34"/>
                  </a:lnTo>
                  <a:lnTo>
                    <a:pt x="11" y="34"/>
                  </a:lnTo>
                  <a:lnTo>
                    <a:pt x="11" y="34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1" y="25"/>
                  </a:lnTo>
                  <a:lnTo>
                    <a:pt x="11" y="22"/>
                  </a:lnTo>
                  <a:lnTo>
                    <a:pt x="11" y="17"/>
                  </a:lnTo>
                  <a:lnTo>
                    <a:pt x="9" y="12"/>
                  </a:lnTo>
                  <a:lnTo>
                    <a:pt x="9" y="8"/>
                  </a:lnTo>
                  <a:lnTo>
                    <a:pt x="9" y="3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592280" y="2233440"/>
              <a:ext cx="6480" cy="20880"/>
            </a:xfrm>
            <a:custGeom>
              <a:avLst/>
              <a:gdLst/>
              <a:ahLst/>
              <a:rect l="l" t="t" r="r" b="b"/>
              <a:pathLst>
                <a:path w="11" h="36">
                  <a:moveTo>
                    <a:pt x="0" y="3"/>
                  </a:moveTo>
                  <a:lnTo>
                    <a:pt x="0" y="7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2" y="19"/>
                  </a:lnTo>
                  <a:lnTo>
                    <a:pt x="4" y="24"/>
                  </a:lnTo>
                  <a:lnTo>
                    <a:pt x="5" y="27"/>
                  </a:lnTo>
                  <a:lnTo>
                    <a:pt x="7" y="31"/>
                  </a:lnTo>
                  <a:lnTo>
                    <a:pt x="7" y="34"/>
                  </a:lnTo>
                  <a:lnTo>
                    <a:pt x="9" y="34"/>
                  </a:lnTo>
                  <a:lnTo>
                    <a:pt x="9" y="34"/>
                  </a:lnTo>
                  <a:lnTo>
                    <a:pt x="9" y="34"/>
                  </a:lnTo>
                  <a:lnTo>
                    <a:pt x="9" y="34"/>
                  </a:lnTo>
                  <a:lnTo>
                    <a:pt x="9" y="34"/>
                  </a:lnTo>
                  <a:lnTo>
                    <a:pt x="11" y="34"/>
                  </a:lnTo>
                  <a:lnTo>
                    <a:pt x="11" y="34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1" y="25"/>
                  </a:lnTo>
                  <a:lnTo>
                    <a:pt x="11" y="22"/>
                  </a:lnTo>
                  <a:lnTo>
                    <a:pt x="11" y="17"/>
                  </a:lnTo>
                  <a:lnTo>
                    <a:pt x="9" y="12"/>
                  </a:lnTo>
                  <a:lnTo>
                    <a:pt x="9" y="8"/>
                  </a:lnTo>
                  <a:lnTo>
                    <a:pt x="9" y="3"/>
                  </a:lnTo>
                  <a:lnTo>
                    <a:pt x="9" y="0"/>
                  </a:lnTo>
                  <a:lnTo>
                    <a:pt x="7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c1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719360" y="2197080"/>
              <a:ext cx="65160" cy="44640"/>
            </a:xfrm>
            <a:custGeom>
              <a:avLst/>
              <a:gdLst/>
              <a:ahLst/>
              <a:rect l="l" t="t" r="r" b="b"/>
              <a:pathLst>
                <a:path w="96" h="72">
                  <a:moveTo>
                    <a:pt x="7" y="72"/>
                  </a:moveTo>
                  <a:lnTo>
                    <a:pt x="3" y="63"/>
                  </a:lnTo>
                  <a:lnTo>
                    <a:pt x="1" y="56"/>
                  </a:lnTo>
                  <a:lnTo>
                    <a:pt x="0" y="48"/>
                  </a:lnTo>
                  <a:lnTo>
                    <a:pt x="0" y="41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17"/>
                  </a:lnTo>
                  <a:lnTo>
                    <a:pt x="0" y="8"/>
                  </a:lnTo>
                  <a:lnTo>
                    <a:pt x="8" y="5"/>
                  </a:lnTo>
                  <a:lnTo>
                    <a:pt x="17" y="1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38" y="0"/>
                  </a:lnTo>
                  <a:lnTo>
                    <a:pt x="45" y="1"/>
                  </a:lnTo>
                  <a:lnTo>
                    <a:pt x="51" y="5"/>
                  </a:lnTo>
                  <a:lnTo>
                    <a:pt x="58" y="7"/>
                  </a:lnTo>
                  <a:lnTo>
                    <a:pt x="69" y="15"/>
                  </a:lnTo>
                  <a:lnTo>
                    <a:pt x="79" y="25"/>
                  </a:lnTo>
                  <a:lnTo>
                    <a:pt x="88" y="37"/>
                  </a:lnTo>
                  <a:lnTo>
                    <a:pt x="96" y="51"/>
                  </a:lnTo>
                  <a:lnTo>
                    <a:pt x="91" y="48"/>
                  </a:lnTo>
                  <a:lnTo>
                    <a:pt x="84" y="42"/>
                  </a:lnTo>
                  <a:lnTo>
                    <a:pt x="76" y="37"/>
                  </a:lnTo>
                  <a:lnTo>
                    <a:pt x="69" y="34"/>
                  </a:lnTo>
                  <a:lnTo>
                    <a:pt x="60" y="31"/>
                  </a:lnTo>
                  <a:lnTo>
                    <a:pt x="51" y="29"/>
                  </a:lnTo>
                  <a:lnTo>
                    <a:pt x="43" y="27"/>
                  </a:lnTo>
                  <a:lnTo>
                    <a:pt x="34" y="29"/>
                  </a:lnTo>
                  <a:lnTo>
                    <a:pt x="31" y="36"/>
                  </a:lnTo>
                  <a:lnTo>
                    <a:pt x="27" y="41"/>
                  </a:lnTo>
                  <a:lnTo>
                    <a:pt x="24" y="46"/>
                  </a:lnTo>
                  <a:lnTo>
                    <a:pt x="20" y="51"/>
                  </a:lnTo>
                  <a:lnTo>
                    <a:pt x="17" y="56"/>
                  </a:lnTo>
                  <a:lnTo>
                    <a:pt x="14" y="61"/>
                  </a:lnTo>
                  <a:lnTo>
                    <a:pt x="10" y="66"/>
                  </a:lnTo>
                  <a:lnTo>
                    <a:pt x="7" y="72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1719360" y="2197080"/>
              <a:ext cx="65160" cy="44640"/>
            </a:xfrm>
            <a:custGeom>
              <a:avLst/>
              <a:gdLst/>
              <a:ahLst/>
              <a:rect l="l" t="t" r="r" b="b"/>
              <a:pathLst>
                <a:path w="96" h="72">
                  <a:moveTo>
                    <a:pt x="7" y="72"/>
                  </a:moveTo>
                  <a:lnTo>
                    <a:pt x="3" y="63"/>
                  </a:lnTo>
                  <a:lnTo>
                    <a:pt x="1" y="56"/>
                  </a:lnTo>
                  <a:lnTo>
                    <a:pt x="0" y="48"/>
                  </a:lnTo>
                  <a:lnTo>
                    <a:pt x="0" y="41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17"/>
                  </a:lnTo>
                  <a:lnTo>
                    <a:pt x="0" y="8"/>
                  </a:lnTo>
                  <a:lnTo>
                    <a:pt x="8" y="5"/>
                  </a:lnTo>
                  <a:lnTo>
                    <a:pt x="17" y="1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38" y="0"/>
                  </a:lnTo>
                  <a:lnTo>
                    <a:pt x="45" y="1"/>
                  </a:lnTo>
                  <a:lnTo>
                    <a:pt x="51" y="5"/>
                  </a:lnTo>
                  <a:lnTo>
                    <a:pt x="58" y="7"/>
                  </a:lnTo>
                  <a:lnTo>
                    <a:pt x="69" y="15"/>
                  </a:lnTo>
                  <a:lnTo>
                    <a:pt x="79" y="25"/>
                  </a:lnTo>
                  <a:lnTo>
                    <a:pt x="88" y="37"/>
                  </a:lnTo>
                  <a:lnTo>
                    <a:pt x="96" y="51"/>
                  </a:lnTo>
                  <a:lnTo>
                    <a:pt x="91" y="48"/>
                  </a:lnTo>
                  <a:lnTo>
                    <a:pt x="84" y="42"/>
                  </a:lnTo>
                  <a:lnTo>
                    <a:pt x="76" y="37"/>
                  </a:lnTo>
                  <a:lnTo>
                    <a:pt x="69" y="34"/>
                  </a:lnTo>
                  <a:lnTo>
                    <a:pt x="60" y="31"/>
                  </a:lnTo>
                  <a:lnTo>
                    <a:pt x="51" y="29"/>
                  </a:lnTo>
                  <a:lnTo>
                    <a:pt x="43" y="27"/>
                  </a:lnTo>
                  <a:lnTo>
                    <a:pt x="34" y="29"/>
                  </a:lnTo>
                  <a:lnTo>
                    <a:pt x="31" y="36"/>
                  </a:lnTo>
                  <a:lnTo>
                    <a:pt x="27" y="41"/>
                  </a:lnTo>
                  <a:lnTo>
                    <a:pt x="24" y="46"/>
                  </a:lnTo>
                  <a:lnTo>
                    <a:pt x="20" y="51"/>
                  </a:lnTo>
                  <a:lnTo>
                    <a:pt x="17" y="56"/>
                  </a:lnTo>
                  <a:lnTo>
                    <a:pt x="14" y="61"/>
                  </a:lnTo>
                  <a:lnTo>
                    <a:pt x="10" y="66"/>
                  </a:lnTo>
                  <a:lnTo>
                    <a:pt x="7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719360" y="2197080"/>
              <a:ext cx="65160" cy="44640"/>
            </a:xfrm>
            <a:custGeom>
              <a:avLst/>
              <a:gdLst/>
              <a:ahLst/>
              <a:rect l="l" t="t" r="r" b="b"/>
              <a:pathLst>
                <a:path w="96" h="72">
                  <a:moveTo>
                    <a:pt x="7" y="72"/>
                  </a:moveTo>
                  <a:lnTo>
                    <a:pt x="3" y="63"/>
                  </a:lnTo>
                  <a:lnTo>
                    <a:pt x="1" y="56"/>
                  </a:lnTo>
                  <a:lnTo>
                    <a:pt x="0" y="48"/>
                  </a:lnTo>
                  <a:lnTo>
                    <a:pt x="0" y="41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0" y="17"/>
                  </a:lnTo>
                  <a:lnTo>
                    <a:pt x="0" y="8"/>
                  </a:lnTo>
                  <a:lnTo>
                    <a:pt x="8" y="5"/>
                  </a:lnTo>
                  <a:lnTo>
                    <a:pt x="17" y="1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38" y="0"/>
                  </a:lnTo>
                  <a:lnTo>
                    <a:pt x="45" y="1"/>
                  </a:lnTo>
                  <a:lnTo>
                    <a:pt x="51" y="5"/>
                  </a:lnTo>
                  <a:lnTo>
                    <a:pt x="58" y="7"/>
                  </a:lnTo>
                  <a:lnTo>
                    <a:pt x="69" y="15"/>
                  </a:lnTo>
                  <a:lnTo>
                    <a:pt x="79" y="25"/>
                  </a:lnTo>
                  <a:lnTo>
                    <a:pt x="88" y="37"/>
                  </a:lnTo>
                  <a:lnTo>
                    <a:pt x="96" y="51"/>
                  </a:lnTo>
                  <a:lnTo>
                    <a:pt x="91" y="48"/>
                  </a:lnTo>
                  <a:lnTo>
                    <a:pt x="84" y="42"/>
                  </a:lnTo>
                  <a:lnTo>
                    <a:pt x="76" y="37"/>
                  </a:lnTo>
                  <a:lnTo>
                    <a:pt x="69" y="34"/>
                  </a:lnTo>
                  <a:lnTo>
                    <a:pt x="60" y="31"/>
                  </a:lnTo>
                  <a:lnTo>
                    <a:pt x="51" y="29"/>
                  </a:lnTo>
                  <a:lnTo>
                    <a:pt x="43" y="27"/>
                  </a:lnTo>
                  <a:lnTo>
                    <a:pt x="34" y="29"/>
                  </a:lnTo>
                  <a:lnTo>
                    <a:pt x="31" y="36"/>
                  </a:lnTo>
                  <a:lnTo>
                    <a:pt x="27" y="41"/>
                  </a:lnTo>
                  <a:lnTo>
                    <a:pt x="24" y="46"/>
                  </a:lnTo>
                  <a:lnTo>
                    <a:pt x="20" y="51"/>
                  </a:lnTo>
                  <a:lnTo>
                    <a:pt x="17" y="56"/>
                  </a:lnTo>
                  <a:lnTo>
                    <a:pt x="14" y="61"/>
                  </a:lnTo>
                  <a:lnTo>
                    <a:pt x="10" y="66"/>
                  </a:lnTo>
                  <a:lnTo>
                    <a:pt x="7" y="72"/>
                  </a:lnTo>
                  <a:close/>
                </a:path>
              </a:pathLst>
            </a:custGeom>
            <a:solidFill>
              <a:srgbClr val="e5b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725480" y="2205000"/>
              <a:ext cx="59040" cy="33480"/>
            </a:xfrm>
            <a:custGeom>
              <a:avLst/>
              <a:gdLst/>
              <a:ahLst/>
              <a:rect l="l" t="t" r="r" b="b"/>
              <a:pathLst>
                <a:path w="86" h="53">
                  <a:moveTo>
                    <a:pt x="36" y="9"/>
                  </a:moveTo>
                  <a:lnTo>
                    <a:pt x="38" y="6"/>
                  </a:lnTo>
                  <a:lnTo>
                    <a:pt x="41" y="4"/>
                  </a:lnTo>
                  <a:lnTo>
                    <a:pt x="45" y="4"/>
                  </a:lnTo>
                  <a:lnTo>
                    <a:pt x="47" y="6"/>
                  </a:lnTo>
                  <a:lnTo>
                    <a:pt x="50" y="7"/>
                  </a:lnTo>
                  <a:lnTo>
                    <a:pt x="54" y="9"/>
                  </a:lnTo>
                  <a:lnTo>
                    <a:pt x="59" y="11"/>
                  </a:lnTo>
                  <a:lnTo>
                    <a:pt x="62" y="9"/>
                  </a:lnTo>
                  <a:lnTo>
                    <a:pt x="62" y="11"/>
                  </a:lnTo>
                  <a:lnTo>
                    <a:pt x="64" y="11"/>
                  </a:lnTo>
                  <a:lnTo>
                    <a:pt x="66" y="11"/>
                  </a:lnTo>
                  <a:lnTo>
                    <a:pt x="66" y="12"/>
                  </a:lnTo>
                  <a:lnTo>
                    <a:pt x="67" y="12"/>
                  </a:lnTo>
                  <a:lnTo>
                    <a:pt x="69" y="14"/>
                  </a:lnTo>
                  <a:lnTo>
                    <a:pt x="69" y="14"/>
                  </a:lnTo>
                  <a:lnTo>
                    <a:pt x="71" y="14"/>
                  </a:lnTo>
                  <a:lnTo>
                    <a:pt x="72" y="18"/>
                  </a:lnTo>
                  <a:lnTo>
                    <a:pt x="76" y="19"/>
                  </a:lnTo>
                  <a:lnTo>
                    <a:pt x="78" y="23"/>
                  </a:lnTo>
                  <a:lnTo>
                    <a:pt x="79" y="26"/>
                  </a:lnTo>
                  <a:lnTo>
                    <a:pt x="81" y="28"/>
                  </a:lnTo>
                  <a:lnTo>
                    <a:pt x="83" y="31"/>
                  </a:lnTo>
                  <a:lnTo>
                    <a:pt x="85" y="35"/>
                  </a:lnTo>
                  <a:lnTo>
                    <a:pt x="86" y="38"/>
                  </a:lnTo>
                  <a:lnTo>
                    <a:pt x="81" y="35"/>
                  </a:lnTo>
                  <a:lnTo>
                    <a:pt x="74" y="29"/>
                  </a:lnTo>
                  <a:lnTo>
                    <a:pt x="66" y="24"/>
                  </a:lnTo>
                  <a:lnTo>
                    <a:pt x="59" y="21"/>
                  </a:lnTo>
                  <a:lnTo>
                    <a:pt x="50" y="18"/>
                  </a:lnTo>
                  <a:lnTo>
                    <a:pt x="41" y="16"/>
                  </a:lnTo>
                  <a:lnTo>
                    <a:pt x="33" y="14"/>
                  </a:lnTo>
                  <a:lnTo>
                    <a:pt x="24" y="16"/>
                  </a:lnTo>
                  <a:lnTo>
                    <a:pt x="21" y="21"/>
                  </a:lnTo>
                  <a:lnTo>
                    <a:pt x="19" y="26"/>
                  </a:lnTo>
                  <a:lnTo>
                    <a:pt x="16" y="31"/>
                  </a:lnTo>
                  <a:lnTo>
                    <a:pt x="12" y="35"/>
                  </a:lnTo>
                  <a:lnTo>
                    <a:pt x="9" y="40"/>
                  </a:lnTo>
                  <a:lnTo>
                    <a:pt x="7" y="45"/>
                  </a:lnTo>
                  <a:lnTo>
                    <a:pt x="4" y="48"/>
                  </a:lnTo>
                  <a:lnTo>
                    <a:pt x="0" y="53"/>
                  </a:lnTo>
                  <a:lnTo>
                    <a:pt x="0" y="50"/>
                  </a:lnTo>
                  <a:lnTo>
                    <a:pt x="0" y="47"/>
                  </a:lnTo>
                  <a:lnTo>
                    <a:pt x="2" y="45"/>
                  </a:lnTo>
                  <a:lnTo>
                    <a:pt x="2" y="41"/>
                  </a:lnTo>
                  <a:lnTo>
                    <a:pt x="4" y="38"/>
                  </a:lnTo>
                  <a:lnTo>
                    <a:pt x="5" y="35"/>
                  </a:lnTo>
                  <a:lnTo>
                    <a:pt x="5" y="33"/>
                  </a:lnTo>
                  <a:lnTo>
                    <a:pt x="7" y="29"/>
                  </a:lnTo>
                  <a:lnTo>
                    <a:pt x="5" y="28"/>
                  </a:lnTo>
                  <a:lnTo>
                    <a:pt x="4" y="26"/>
                  </a:lnTo>
                  <a:lnTo>
                    <a:pt x="4" y="24"/>
                  </a:lnTo>
                  <a:lnTo>
                    <a:pt x="4" y="23"/>
                  </a:lnTo>
                  <a:lnTo>
                    <a:pt x="4" y="21"/>
                  </a:lnTo>
                  <a:lnTo>
                    <a:pt x="4" y="19"/>
                  </a:lnTo>
                  <a:lnTo>
                    <a:pt x="4" y="18"/>
                  </a:lnTo>
                  <a:lnTo>
                    <a:pt x="4" y="16"/>
                  </a:lnTo>
                  <a:lnTo>
                    <a:pt x="5" y="16"/>
                  </a:lnTo>
                  <a:lnTo>
                    <a:pt x="7" y="18"/>
                  </a:lnTo>
                  <a:lnTo>
                    <a:pt x="9" y="18"/>
                  </a:lnTo>
                  <a:lnTo>
                    <a:pt x="10" y="19"/>
                  </a:lnTo>
                  <a:lnTo>
                    <a:pt x="10" y="21"/>
                  </a:lnTo>
                  <a:lnTo>
                    <a:pt x="12" y="21"/>
                  </a:lnTo>
                  <a:lnTo>
                    <a:pt x="14" y="19"/>
                  </a:lnTo>
                  <a:lnTo>
                    <a:pt x="16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2" y="16"/>
                  </a:lnTo>
                  <a:lnTo>
                    <a:pt x="12" y="16"/>
                  </a:lnTo>
                  <a:lnTo>
                    <a:pt x="10" y="16"/>
                  </a:lnTo>
                  <a:lnTo>
                    <a:pt x="10" y="16"/>
                  </a:lnTo>
                  <a:lnTo>
                    <a:pt x="9" y="14"/>
                  </a:lnTo>
                  <a:lnTo>
                    <a:pt x="9" y="14"/>
                  </a:lnTo>
                  <a:lnTo>
                    <a:pt x="9" y="9"/>
                  </a:lnTo>
                  <a:lnTo>
                    <a:pt x="10" y="7"/>
                  </a:lnTo>
                  <a:lnTo>
                    <a:pt x="14" y="7"/>
                  </a:lnTo>
                  <a:lnTo>
                    <a:pt x="16" y="9"/>
                  </a:lnTo>
                  <a:lnTo>
                    <a:pt x="17" y="9"/>
                  </a:lnTo>
                  <a:lnTo>
                    <a:pt x="19" y="9"/>
                  </a:lnTo>
                  <a:lnTo>
                    <a:pt x="22" y="9"/>
                  </a:lnTo>
                  <a:lnTo>
                    <a:pt x="24" y="7"/>
                  </a:lnTo>
                  <a:lnTo>
                    <a:pt x="24" y="6"/>
                  </a:lnTo>
                  <a:lnTo>
                    <a:pt x="22" y="4"/>
                  </a:lnTo>
                  <a:lnTo>
                    <a:pt x="26" y="0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29" y="4"/>
                  </a:lnTo>
                  <a:lnTo>
                    <a:pt x="29" y="6"/>
                  </a:lnTo>
                  <a:lnTo>
                    <a:pt x="31" y="7"/>
                  </a:lnTo>
                  <a:lnTo>
                    <a:pt x="33" y="9"/>
                  </a:lnTo>
                  <a:lnTo>
                    <a:pt x="35" y="9"/>
                  </a:lnTo>
                  <a:lnTo>
                    <a:pt x="3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768320" y="2219400"/>
              <a:ext cx="12960" cy="6120"/>
            </a:xfrm>
            <a:custGeom>
              <a:avLst/>
              <a:gdLst/>
              <a:ahLst/>
              <a:rect l="l" t="t" r="r" b="b"/>
              <a:pathLst>
                <a:path w="19" h="10">
                  <a:moveTo>
                    <a:pt x="0" y="0"/>
                  </a:moveTo>
                  <a:lnTo>
                    <a:pt x="2" y="1"/>
                  </a:lnTo>
                  <a:lnTo>
                    <a:pt x="5" y="1"/>
                  </a:lnTo>
                  <a:lnTo>
                    <a:pt x="7" y="3"/>
                  </a:lnTo>
                  <a:lnTo>
                    <a:pt x="10" y="5"/>
                  </a:lnTo>
                  <a:lnTo>
                    <a:pt x="12" y="6"/>
                  </a:lnTo>
                  <a:lnTo>
                    <a:pt x="14" y="6"/>
                  </a:lnTo>
                  <a:lnTo>
                    <a:pt x="16" y="8"/>
                  </a:lnTo>
                  <a:lnTo>
                    <a:pt x="19" y="10"/>
                  </a:lnTo>
                  <a:lnTo>
                    <a:pt x="16" y="10"/>
                  </a:lnTo>
                  <a:lnTo>
                    <a:pt x="14" y="8"/>
                  </a:lnTo>
                  <a:lnTo>
                    <a:pt x="12" y="6"/>
                  </a:lnTo>
                  <a:lnTo>
                    <a:pt x="10" y="5"/>
                  </a:lnTo>
                  <a:lnTo>
                    <a:pt x="7" y="3"/>
                  </a:lnTo>
                  <a:lnTo>
                    <a:pt x="5" y="3"/>
                  </a:lnTo>
                  <a:lnTo>
                    <a:pt x="2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e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760400" y="2179800"/>
              <a:ext cx="108000" cy="174600"/>
            </a:xfrm>
            <a:custGeom>
              <a:avLst/>
              <a:gdLst/>
              <a:ahLst/>
              <a:rect l="l" t="t" r="r" b="b"/>
              <a:pathLst>
                <a:path w="157" h="277">
                  <a:moveTo>
                    <a:pt x="105" y="2"/>
                  </a:moveTo>
                  <a:lnTo>
                    <a:pt x="105" y="17"/>
                  </a:lnTo>
                  <a:lnTo>
                    <a:pt x="103" y="31"/>
                  </a:lnTo>
                  <a:lnTo>
                    <a:pt x="102" y="45"/>
                  </a:lnTo>
                  <a:lnTo>
                    <a:pt x="100" y="58"/>
                  </a:lnTo>
                  <a:lnTo>
                    <a:pt x="95" y="72"/>
                  </a:lnTo>
                  <a:lnTo>
                    <a:pt x="90" y="84"/>
                  </a:lnTo>
                  <a:lnTo>
                    <a:pt x="83" y="94"/>
                  </a:lnTo>
                  <a:lnTo>
                    <a:pt x="72" y="106"/>
                  </a:lnTo>
                  <a:lnTo>
                    <a:pt x="72" y="120"/>
                  </a:lnTo>
                  <a:lnTo>
                    <a:pt x="71" y="132"/>
                  </a:lnTo>
                  <a:lnTo>
                    <a:pt x="69" y="142"/>
                  </a:lnTo>
                  <a:lnTo>
                    <a:pt x="66" y="154"/>
                  </a:lnTo>
                  <a:lnTo>
                    <a:pt x="59" y="174"/>
                  </a:lnTo>
                  <a:lnTo>
                    <a:pt x="48" y="193"/>
                  </a:lnTo>
                  <a:lnTo>
                    <a:pt x="38" y="212"/>
                  </a:lnTo>
                  <a:lnTo>
                    <a:pt x="26" y="231"/>
                  </a:lnTo>
                  <a:lnTo>
                    <a:pt x="14" y="251"/>
                  </a:lnTo>
                  <a:lnTo>
                    <a:pt x="0" y="273"/>
                  </a:lnTo>
                  <a:lnTo>
                    <a:pt x="0" y="277"/>
                  </a:lnTo>
                  <a:lnTo>
                    <a:pt x="17" y="270"/>
                  </a:lnTo>
                  <a:lnTo>
                    <a:pt x="35" y="262"/>
                  </a:lnTo>
                  <a:lnTo>
                    <a:pt x="50" y="253"/>
                  </a:lnTo>
                  <a:lnTo>
                    <a:pt x="64" y="243"/>
                  </a:lnTo>
                  <a:lnTo>
                    <a:pt x="79" y="232"/>
                  </a:lnTo>
                  <a:lnTo>
                    <a:pt x="93" y="222"/>
                  </a:lnTo>
                  <a:lnTo>
                    <a:pt x="109" y="214"/>
                  </a:lnTo>
                  <a:lnTo>
                    <a:pt x="124" y="205"/>
                  </a:lnTo>
                  <a:lnTo>
                    <a:pt x="124" y="190"/>
                  </a:lnTo>
                  <a:lnTo>
                    <a:pt x="124" y="178"/>
                  </a:lnTo>
                  <a:lnTo>
                    <a:pt x="126" y="166"/>
                  </a:lnTo>
                  <a:lnTo>
                    <a:pt x="128" y="157"/>
                  </a:lnTo>
                  <a:lnTo>
                    <a:pt x="131" y="147"/>
                  </a:lnTo>
                  <a:lnTo>
                    <a:pt x="136" y="137"/>
                  </a:lnTo>
                  <a:lnTo>
                    <a:pt x="143" y="127"/>
                  </a:lnTo>
                  <a:lnTo>
                    <a:pt x="152" y="115"/>
                  </a:lnTo>
                  <a:lnTo>
                    <a:pt x="147" y="109"/>
                  </a:lnTo>
                  <a:lnTo>
                    <a:pt x="141" y="104"/>
                  </a:lnTo>
                  <a:lnTo>
                    <a:pt x="138" y="99"/>
                  </a:lnTo>
                  <a:lnTo>
                    <a:pt x="133" y="96"/>
                  </a:lnTo>
                  <a:lnTo>
                    <a:pt x="129" y="91"/>
                  </a:lnTo>
                  <a:lnTo>
                    <a:pt x="128" y="86"/>
                  </a:lnTo>
                  <a:lnTo>
                    <a:pt x="126" y="79"/>
                  </a:lnTo>
                  <a:lnTo>
                    <a:pt x="128" y="70"/>
                  </a:lnTo>
                  <a:lnTo>
                    <a:pt x="131" y="70"/>
                  </a:lnTo>
                  <a:lnTo>
                    <a:pt x="136" y="68"/>
                  </a:lnTo>
                  <a:lnTo>
                    <a:pt x="140" y="68"/>
                  </a:lnTo>
                  <a:lnTo>
                    <a:pt x="145" y="67"/>
                  </a:lnTo>
                  <a:lnTo>
                    <a:pt x="150" y="63"/>
                  </a:lnTo>
                  <a:lnTo>
                    <a:pt x="153" y="60"/>
                  </a:lnTo>
                  <a:lnTo>
                    <a:pt x="155" y="57"/>
                  </a:lnTo>
                  <a:lnTo>
                    <a:pt x="157" y="53"/>
                  </a:lnTo>
                  <a:lnTo>
                    <a:pt x="152" y="48"/>
                  </a:lnTo>
                  <a:lnTo>
                    <a:pt x="145" y="43"/>
                  </a:lnTo>
                  <a:lnTo>
                    <a:pt x="140" y="38"/>
                  </a:lnTo>
                  <a:lnTo>
                    <a:pt x="133" y="33"/>
                  </a:lnTo>
                  <a:lnTo>
                    <a:pt x="128" y="27"/>
                  </a:lnTo>
                  <a:lnTo>
                    <a:pt x="124" y="22"/>
                  </a:lnTo>
                  <a:lnTo>
                    <a:pt x="122" y="14"/>
                  </a:lnTo>
                  <a:lnTo>
                    <a:pt x="121" y="5"/>
                  </a:lnTo>
                  <a:lnTo>
                    <a:pt x="119" y="4"/>
                  </a:lnTo>
                  <a:lnTo>
                    <a:pt x="117" y="2"/>
                  </a:lnTo>
                  <a:lnTo>
                    <a:pt x="116" y="2"/>
                  </a:lnTo>
                  <a:lnTo>
                    <a:pt x="114" y="0"/>
                  </a:lnTo>
                  <a:lnTo>
                    <a:pt x="110" y="0"/>
                  </a:lnTo>
                  <a:lnTo>
                    <a:pt x="109" y="0"/>
                  </a:lnTo>
                  <a:lnTo>
                    <a:pt x="107" y="0"/>
                  </a:lnTo>
                  <a:lnTo>
                    <a:pt x="105" y="2"/>
                  </a:lnTo>
                  <a:close/>
                </a:path>
              </a:pathLst>
            </a:cu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760400" y="2179800"/>
              <a:ext cx="108000" cy="174600"/>
            </a:xfrm>
            <a:custGeom>
              <a:avLst/>
              <a:gdLst/>
              <a:ahLst/>
              <a:rect l="l" t="t" r="r" b="b"/>
              <a:pathLst>
                <a:path w="157" h="277">
                  <a:moveTo>
                    <a:pt x="105" y="2"/>
                  </a:moveTo>
                  <a:lnTo>
                    <a:pt x="105" y="17"/>
                  </a:lnTo>
                  <a:lnTo>
                    <a:pt x="103" y="31"/>
                  </a:lnTo>
                  <a:lnTo>
                    <a:pt x="102" y="45"/>
                  </a:lnTo>
                  <a:lnTo>
                    <a:pt x="100" y="58"/>
                  </a:lnTo>
                  <a:lnTo>
                    <a:pt x="95" y="72"/>
                  </a:lnTo>
                  <a:lnTo>
                    <a:pt x="90" y="84"/>
                  </a:lnTo>
                  <a:lnTo>
                    <a:pt x="83" y="94"/>
                  </a:lnTo>
                  <a:lnTo>
                    <a:pt x="72" y="106"/>
                  </a:lnTo>
                  <a:lnTo>
                    <a:pt x="72" y="120"/>
                  </a:lnTo>
                  <a:lnTo>
                    <a:pt x="71" y="132"/>
                  </a:lnTo>
                  <a:lnTo>
                    <a:pt x="69" y="142"/>
                  </a:lnTo>
                  <a:lnTo>
                    <a:pt x="66" y="154"/>
                  </a:lnTo>
                  <a:lnTo>
                    <a:pt x="59" y="174"/>
                  </a:lnTo>
                  <a:lnTo>
                    <a:pt x="48" y="193"/>
                  </a:lnTo>
                  <a:lnTo>
                    <a:pt x="38" y="212"/>
                  </a:lnTo>
                  <a:lnTo>
                    <a:pt x="26" y="231"/>
                  </a:lnTo>
                  <a:lnTo>
                    <a:pt x="14" y="251"/>
                  </a:lnTo>
                  <a:lnTo>
                    <a:pt x="0" y="273"/>
                  </a:lnTo>
                  <a:lnTo>
                    <a:pt x="0" y="277"/>
                  </a:lnTo>
                  <a:lnTo>
                    <a:pt x="17" y="270"/>
                  </a:lnTo>
                  <a:lnTo>
                    <a:pt x="35" y="262"/>
                  </a:lnTo>
                  <a:lnTo>
                    <a:pt x="50" y="253"/>
                  </a:lnTo>
                  <a:lnTo>
                    <a:pt x="64" y="243"/>
                  </a:lnTo>
                  <a:lnTo>
                    <a:pt x="79" y="232"/>
                  </a:lnTo>
                  <a:lnTo>
                    <a:pt x="93" y="222"/>
                  </a:lnTo>
                  <a:lnTo>
                    <a:pt x="109" y="214"/>
                  </a:lnTo>
                  <a:lnTo>
                    <a:pt x="124" y="205"/>
                  </a:lnTo>
                  <a:lnTo>
                    <a:pt x="124" y="190"/>
                  </a:lnTo>
                  <a:lnTo>
                    <a:pt x="124" y="178"/>
                  </a:lnTo>
                  <a:lnTo>
                    <a:pt x="126" y="166"/>
                  </a:lnTo>
                  <a:lnTo>
                    <a:pt x="128" y="157"/>
                  </a:lnTo>
                  <a:lnTo>
                    <a:pt x="131" y="147"/>
                  </a:lnTo>
                  <a:lnTo>
                    <a:pt x="136" y="137"/>
                  </a:lnTo>
                  <a:lnTo>
                    <a:pt x="143" y="127"/>
                  </a:lnTo>
                  <a:lnTo>
                    <a:pt x="152" y="115"/>
                  </a:lnTo>
                  <a:lnTo>
                    <a:pt x="147" y="109"/>
                  </a:lnTo>
                  <a:lnTo>
                    <a:pt x="141" y="104"/>
                  </a:lnTo>
                  <a:lnTo>
                    <a:pt x="138" y="99"/>
                  </a:lnTo>
                  <a:lnTo>
                    <a:pt x="133" y="96"/>
                  </a:lnTo>
                  <a:lnTo>
                    <a:pt x="129" y="91"/>
                  </a:lnTo>
                  <a:lnTo>
                    <a:pt x="128" y="86"/>
                  </a:lnTo>
                  <a:lnTo>
                    <a:pt x="126" y="79"/>
                  </a:lnTo>
                  <a:lnTo>
                    <a:pt x="128" y="70"/>
                  </a:lnTo>
                  <a:lnTo>
                    <a:pt x="131" y="70"/>
                  </a:lnTo>
                  <a:lnTo>
                    <a:pt x="136" y="68"/>
                  </a:lnTo>
                  <a:lnTo>
                    <a:pt x="140" y="68"/>
                  </a:lnTo>
                  <a:lnTo>
                    <a:pt x="145" y="67"/>
                  </a:lnTo>
                  <a:lnTo>
                    <a:pt x="150" y="63"/>
                  </a:lnTo>
                  <a:lnTo>
                    <a:pt x="153" y="60"/>
                  </a:lnTo>
                  <a:lnTo>
                    <a:pt x="155" y="57"/>
                  </a:lnTo>
                  <a:lnTo>
                    <a:pt x="157" y="53"/>
                  </a:lnTo>
                  <a:lnTo>
                    <a:pt x="152" y="48"/>
                  </a:lnTo>
                  <a:lnTo>
                    <a:pt x="145" y="43"/>
                  </a:lnTo>
                  <a:lnTo>
                    <a:pt x="140" y="38"/>
                  </a:lnTo>
                  <a:lnTo>
                    <a:pt x="133" y="33"/>
                  </a:lnTo>
                  <a:lnTo>
                    <a:pt x="128" y="27"/>
                  </a:lnTo>
                  <a:lnTo>
                    <a:pt x="124" y="22"/>
                  </a:lnTo>
                  <a:lnTo>
                    <a:pt x="122" y="14"/>
                  </a:lnTo>
                  <a:lnTo>
                    <a:pt x="121" y="5"/>
                  </a:lnTo>
                  <a:lnTo>
                    <a:pt x="119" y="4"/>
                  </a:lnTo>
                  <a:lnTo>
                    <a:pt x="117" y="2"/>
                  </a:lnTo>
                  <a:lnTo>
                    <a:pt x="116" y="2"/>
                  </a:lnTo>
                  <a:lnTo>
                    <a:pt x="114" y="0"/>
                  </a:lnTo>
                  <a:lnTo>
                    <a:pt x="110" y="0"/>
                  </a:lnTo>
                  <a:lnTo>
                    <a:pt x="109" y="0"/>
                  </a:lnTo>
                  <a:lnTo>
                    <a:pt x="107" y="0"/>
                  </a:lnTo>
                  <a:lnTo>
                    <a:pt x="10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760400" y="2179800"/>
              <a:ext cx="103320" cy="174600"/>
            </a:xfrm>
            <a:custGeom>
              <a:avLst/>
              <a:gdLst/>
              <a:ahLst/>
              <a:rect l="l" t="t" r="r" b="b"/>
              <a:pathLst>
                <a:path w="150" h="277">
                  <a:moveTo>
                    <a:pt x="107" y="0"/>
                  </a:moveTo>
                  <a:lnTo>
                    <a:pt x="109" y="2"/>
                  </a:lnTo>
                  <a:lnTo>
                    <a:pt x="109" y="4"/>
                  </a:lnTo>
                  <a:lnTo>
                    <a:pt x="110" y="5"/>
                  </a:lnTo>
                  <a:lnTo>
                    <a:pt x="112" y="7"/>
                  </a:lnTo>
                  <a:lnTo>
                    <a:pt x="112" y="7"/>
                  </a:lnTo>
                  <a:lnTo>
                    <a:pt x="114" y="9"/>
                  </a:lnTo>
                  <a:lnTo>
                    <a:pt x="116" y="10"/>
                  </a:lnTo>
                  <a:lnTo>
                    <a:pt x="117" y="12"/>
                  </a:lnTo>
                  <a:lnTo>
                    <a:pt x="116" y="17"/>
                  </a:lnTo>
                  <a:lnTo>
                    <a:pt x="116" y="22"/>
                  </a:lnTo>
                  <a:lnTo>
                    <a:pt x="116" y="27"/>
                  </a:lnTo>
                  <a:lnTo>
                    <a:pt x="117" y="34"/>
                  </a:lnTo>
                  <a:lnTo>
                    <a:pt x="119" y="38"/>
                  </a:lnTo>
                  <a:lnTo>
                    <a:pt x="121" y="43"/>
                  </a:lnTo>
                  <a:lnTo>
                    <a:pt x="126" y="46"/>
                  </a:lnTo>
                  <a:lnTo>
                    <a:pt x="131" y="48"/>
                  </a:lnTo>
                  <a:lnTo>
                    <a:pt x="133" y="50"/>
                  </a:lnTo>
                  <a:lnTo>
                    <a:pt x="135" y="50"/>
                  </a:lnTo>
                  <a:lnTo>
                    <a:pt x="136" y="51"/>
                  </a:lnTo>
                  <a:lnTo>
                    <a:pt x="138" y="51"/>
                  </a:lnTo>
                  <a:lnTo>
                    <a:pt x="140" y="51"/>
                  </a:lnTo>
                  <a:lnTo>
                    <a:pt x="141" y="53"/>
                  </a:lnTo>
                  <a:lnTo>
                    <a:pt x="143" y="51"/>
                  </a:lnTo>
                  <a:lnTo>
                    <a:pt x="145" y="51"/>
                  </a:lnTo>
                  <a:lnTo>
                    <a:pt x="147" y="53"/>
                  </a:lnTo>
                  <a:lnTo>
                    <a:pt x="147" y="53"/>
                  </a:lnTo>
                  <a:lnTo>
                    <a:pt x="148" y="55"/>
                  </a:lnTo>
                  <a:lnTo>
                    <a:pt x="148" y="55"/>
                  </a:lnTo>
                  <a:lnTo>
                    <a:pt x="148" y="57"/>
                  </a:lnTo>
                  <a:lnTo>
                    <a:pt x="150" y="57"/>
                  </a:lnTo>
                  <a:lnTo>
                    <a:pt x="150" y="58"/>
                  </a:lnTo>
                  <a:lnTo>
                    <a:pt x="150" y="60"/>
                  </a:lnTo>
                  <a:lnTo>
                    <a:pt x="147" y="62"/>
                  </a:lnTo>
                  <a:lnTo>
                    <a:pt x="145" y="63"/>
                  </a:lnTo>
                  <a:lnTo>
                    <a:pt x="143" y="65"/>
                  </a:lnTo>
                  <a:lnTo>
                    <a:pt x="140" y="65"/>
                  </a:lnTo>
                  <a:lnTo>
                    <a:pt x="138" y="67"/>
                  </a:lnTo>
                  <a:lnTo>
                    <a:pt x="135" y="68"/>
                  </a:lnTo>
                  <a:lnTo>
                    <a:pt x="133" y="68"/>
                  </a:lnTo>
                  <a:lnTo>
                    <a:pt x="131" y="70"/>
                  </a:lnTo>
                  <a:lnTo>
                    <a:pt x="129" y="70"/>
                  </a:lnTo>
                  <a:lnTo>
                    <a:pt x="129" y="70"/>
                  </a:lnTo>
                  <a:lnTo>
                    <a:pt x="129" y="70"/>
                  </a:lnTo>
                  <a:lnTo>
                    <a:pt x="128" y="70"/>
                  </a:lnTo>
                  <a:lnTo>
                    <a:pt x="128" y="70"/>
                  </a:lnTo>
                  <a:lnTo>
                    <a:pt x="128" y="70"/>
                  </a:lnTo>
                  <a:lnTo>
                    <a:pt x="128" y="70"/>
                  </a:lnTo>
                  <a:lnTo>
                    <a:pt x="128" y="70"/>
                  </a:lnTo>
                  <a:lnTo>
                    <a:pt x="128" y="70"/>
                  </a:lnTo>
                  <a:lnTo>
                    <a:pt x="128" y="70"/>
                  </a:lnTo>
                  <a:lnTo>
                    <a:pt x="128" y="72"/>
                  </a:lnTo>
                  <a:lnTo>
                    <a:pt x="128" y="72"/>
                  </a:lnTo>
                  <a:lnTo>
                    <a:pt x="126" y="72"/>
                  </a:lnTo>
                  <a:lnTo>
                    <a:pt x="126" y="72"/>
                  </a:lnTo>
                  <a:lnTo>
                    <a:pt x="126" y="72"/>
                  </a:lnTo>
                  <a:lnTo>
                    <a:pt x="126" y="72"/>
                  </a:lnTo>
                  <a:lnTo>
                    <a:pt x="124" y="74"/>
                  </a:lnTo>
                  <a:lnTo>
                    <a:pt x="122" y="75"/>
                  </a:lnTo>
                  <a:lnTo>
                    <a:pt x="121" y="75"/>
                  </a:lnTo>
                  <a:lnTo>
                    <a:pt x="121" y="77"/>
                  </a:lnTo>
                  <a:lnTo>
                    <a:pt x="119" y="79"/>
                  </a:lnTo>
                  <a:lnTo>
                    <a:pt x="117" y="80"/>
                  </a:lnTo>
                  <a:lnTo>
                    <a:pt x="116" y="84"/>
                  </a:lnTo>
                  <a:lnTo>
                    <a:pt x="116" y="86"/>
                  </a:lnTo>
                  <a:lnTo>
                    <a:pt x="116" y="89"/>
                  </a:lnTo>
                  <a:lnTo>
                    <a:pt x="117" y="94"/>
                  </a:lnTo>
                  <a:lnTo>
                    <a:pt x="121" y="98"/>
                  </a:lnTo>
                  <a:lnTo>
                    <a:pt x="122" y="101"/>
                  </a:lnTo>
                  <a:lnTo>
                    <a:pt x="126" y="104"/>
                  </a:lnTo>
                  <a:lnTo>
                    <a:pt x="129" y="108"/>
                  </a:lnTo>
                  <a:lnTo>
                    <a:pt x="135" y="111"/>
                  </a:lnTo>
                  <a:lnTo>
                    <a:pt x="138" y="113"/>
                  </a:lnTo>
                  <a:lnTo>
                    <a:pt x="140" y="116"/>
                  </a:lnTo>
                  <a:lnTo>
                    <a:pt x="138" y="120"/>
                  </a:lnTo>
                  <a:lnTo>
                    <a:pt x="138" y="121"/>
                  </a:lnTo>
                  <a:lnTo>
                    <a:pt x="136" y="123"/>
                  </a:lnTo>
                  <a:lnTo>
                    <a:pt x="133" y="125"/>
                  </a:lnTo>
                  <a:lnTo>
                    <a:pt x="131" y="127"/>
                  </a:lnTo>
                  <a:lnTo>
                    <a:pt x="129" y="128"/>
                  </a:lnTo>
                  <a:lnTo>
                    <a:pt x="128" y="130"/>
                  </a:lnTo>
                  <a:lnTo>
                    <a:pt x="124" y="132"/>
                  </a:lnTo>
                  <a:lnTo>
                    <a:pt x="122" y="132"/>
                  </a:lnTo>
                  <a:lnTo>
                    <a:pt x="121" y="133"/>
                  </a:lnTo>
                  <a:lnTo>
                    <a:pt x="119" y="135"/>
                  </a:lnTo>
                  <a:lnTo>
                    <a:pt x="117" y="137"/>
                  </a:lnTo>
                  <a:lnTo>
                    <a:pt x="116" y="139"/>
                  </a:lnTo>
                  <a:lnTo>
                    <a:pt x="112" y="142"/>
                  </a:lnTo>
                  <a:lnTo>
                    <a:pt x="110" y="144"/>
                  </a:lnTo>
                  <a:lnTo>
                    <a:pt x="109" y="149"/>
                  </a:lnTo>
                  <a:lnTo>
                    <a:pt x="109" y="154"/>
                  </a:lnTo>
                  <a:lnTo>
                    <a:pt x="110" y="157"/>
                  </a:lnTo>
                  <a:lnTo>
                    <a:pt x="112" y="162"/>
                  </a:lnTo>
                  <a:lnTo>
                    <a:pt x="116" y="166"/>
                  </a:lnTo>
                  <a:lnTo>
                    <a:pt x="119" y="169"/>
                  </a:lnTo>
                  <a:lnTo>
                    <a:pt x="122" y="173"/>
                  </a:lnTo>
                  <a:lnTo>
                    <a:pt x="124" y="176"/>
                  </a:lnTo>
                  <a:lnTo>
                    <a:pt x="124" y="178"/>
                  </a:lnTo>
                  <a:lnTo>
                    <a:pt x="124" y="178"/>
                  </a:lnTo>
                  <a:lnTo>
                    <a:pt x="124" y="180"/>
                  </a:lnTo>
                  <a:lnTo>
                    <a:pt x="124" y="180"/>
                  </a:lnTo>
                  <a:lnTo>
                    <a:pt x="124" y="181"/>
                  </a:lnTo>
                  <a:lnTo>
                    <a:pt x="124" y="183"/>
                  </a:lnTo>
                  <a:lnTo>
                    <a:pt x="124" y="183"/>
                  </a:lnTo>
                  <a:lnTo>
                    <a:pt x="124" y="185"/>
                  </a:lnTo>
                  <a:lnTo>
                    <a:pt x="124" y="185"/>
                  </a:lnTo>
                  <a:lnTo>
                    <a:pt x="124" y="186"/>
                  </a:lnTo>
                  <a:lnTo>
                    <a:pt x="122" y="186"/>
                  </a:lnTo>
                  <a:lnTo>
                    <a:pt x="122" y="186"/>
                  </a:lnTo>
                  <a:lnTo>
                    <a:pt x="122" y="188"/>
                  </a:lnTo>
                  <a:lnTo>
                    <a:pt x="122" y="188"/>
                  </a:lnTo>
                  <a:lnTo>
                    <a:pt x="121" y="188"/>
                  </a:lnTo>
                  <a:lnTo>
                    <a:pt x="121" y="190"/>
                  </a:lnTo>
                  <a:lnTo>
                    <a:pt x="116" y="191"/>
                  </a:lnTo>
                  <a:lnTo>
                    <a:pt x="110" y="195"/>
                  </a:lnTo>
                  <a:lnTo>
                    <a:pt x="105" y="198"/>
                  </a:lnTo>
                  <a:lnTo>
                    <a:pt x="100" y="203"/>
                  </a:lnTo>
                  <a:lnTo>
                    <a:pt x="97" y="207"/>
                  </a:lnTo>
                  <a:lnTo>
                    <a:pt x="91" y="210"/>
                  </a:lnTo>
                  <a:lnTo>
                    <a:pt x="88" y="215"/>
                  </a:lnTo>
                  <a:lnTo>
                    <a:pt x="83" y="219"/>
                  </a:lnTo>
                  <a:lnTo>
                    <a:pt x="81" y="222"/>
                  </a:lnTo>
                  <a:lnTo>
                    <a:pt x="78" y="226"/>
                  </a:lnTo>
                  <a:lnTo>
                    <a:pt x="76" y="229"/>
                  </a:lnTo>
                  <a:lnTo>
                    <a:pt x="72" y="231"/>
                  </a:lnTo>
                  <a:lnTo>
                    <a:pt x="69" y="234"/>
                  </a:lnTo>
                  <a:lnTo>
                    <a:pt x="66" y="236"/>
                  </a:lnTo>
                  <a:lnTo>
                    <a:pt x="62" y="239"/>
                  </a:lnTo>
                  <a:lnTo>
                    <a:pt x="59" y="241"/>
                  </a:lnTo>
                  <a:lnTo>
                    <a:pt x="52" y="244"/>
                  </a:lnTo>
                  <a:lnTo>
                    <a:pt x="47" y="248"/>
                  </a:lnTo>
                  <a:lnTo>
                    <a:pt x="40" y="253"/>
                  </a:lnTo>
                  <a:lnTo>
                    <a:pt x="35" y="256"/>
                  </a:lnTo>
                  <a:lnTo>
                    <a:pt x="28" y="260"/>
                  </a:lnTo>
                  <a:lnTo>
                    <a:pt x="22" y="265"/>
                  </a:lnTo>
                  <a:lnTo>
                    <a:pt x="16" y="268"/>
                  </a:lnTo>
                  <a:lnTo>
                    <a:pt x="10" y="273"/>
                  </a:lnTo>
                  <a:lnTo>
                    <a:pt x="9" y="273"/>
                  </a:lnTo>
                  <a:lnTo>
                    <a:pt x="7" y="273"/>
                  </a:lnTo>
                  <a:lnTo>
                    <a:pt x="7" y="273"/>
                  </a:lnTo>
                  <a:lnTo>
                    <a:pt x="5" y="275"/>
                  </a:lnTo>
                  <a:lnTo>
                    <a:pt x="4" y="275"/>
                  </a:lnTo>
                  <a:lnTo>
                    <a:pt x="4" y="275"/>
                  </a:lnTo>
                  <a:lnTo>
                    <a:pt x="2" y="275"/>
                  </a:lnTo>
                  <a:lnTo>
                    <a:pt x="0" y="277"/>
                  </a:lnTo>
                  <a:lnTo>
                    <a:pt x="0" y="273"/>
                  </a:lnTo>
                  <a:lnTo>
                    <a:pt x="14" y="251"/>
                  </a:lnTo>
                  <a:lnTo>
                    <a:pt x="26" y="231"/>
                  </a:lnTo>
                  <a:lnTo>
                    <a:pt x="38" y="212"/>
                  </a:lnTo>
                  <a:lnTo>
                    <a:pt x="48" y="193"/>
                  </a:lnTo>
                  <a:lnTo>
                    <a:pt x="59" y="174"/>
                  </a:lnTo>
                  <a:lnTo>
                    <a:pt x="66" y="154"/>
                  </a:lnTo>
                  <a:lnTo>
                    <a:pt x="69" y="142"/>
                  </a:lnTo>
                  <a:lnTo>
                    <a:pt x="71" y="132"/>
                  </a:lnTo>
                  <a:lnTo>
                    <a:pt x="72" y="120"/>
                  </a:lnTo>
                  <a:lnTo>
                    <a:pt x="72" y="106"/>
                  </a:lnTo>
                  <a:lnTo>
                    <a:pt x="83" y="94"/>
                  </a:lnTo>
                  <a:lnTo>
                    <a:pt x="90" y="84"/>
                  </a:lnTo>
                  <a:lnTo>
                    <a:pt x="95" y="72"/>
                  </a:lnTo>
                  <a:lnTo>
                    <a:pt x="100" y="58"/>
                  </a:lnTo>
                  <a:lnTo>
                    <a:pt x="102" y="45"/>
                  </a:lnTo>
                  <a:lnTo>
                    <a:pt x="103" y="31"/>
                  </a:lnTo>
                  <a:lnTo>
                    <a:pt x="105" y="17"/>
                  </a:lnTo>
                  <a:lnTo>
                    <a:pt x="105" y="2"/>
                  </a:lnTo>
                  <a:lnTo>
                    <a:pt x="105" y="2"/>
                  </a:lnTo>
                  <a:lnTo>
                    <a:pt x="105" y="2"/>
                  </a:lnTo>
                  <a:lnTo>
                    <a:pt x="105" y="2"/>
                  </a:lnTo>
                  <a:lnTo>
                    <a:pt x="107" y="2"/>
                  </a:lnTo>
                  <a:lnTo>
                    <a:pt x="107" y="2"/>
                  </a:lnTo>
                  <a:lnTo>
                    <a:pt x="107" y="2"/>
                  </a:lnTo>
                  <a:lnTo>
                    <a:pt x="107" y="0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f2b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825560" y="2195640"/>
              <a:ext cx="39600" cy="123840"/>
            </a:xfrm>
            <a:custGeom>
              <a:avLst/>
              <a:gdLst/>
              <a:ahLst/>
              <a:rect l="l" t="t" r="r" b="b"/>
              <a:pathLst>
                <a:path w="57" h="197">
                  <a:moveTo>
                    <a:pt x="0" y="197"/>
                  </a:moveTo>
                  <a:lnTo>
                    <a:pt x="2" y="197"/>
                  </a:lnTo>
                  <a:lnTo>
                    <a:pt x="2" y="195"/>
                  </a:lnTo>
                  <a:lnTo>
                    <a:pt x="2" y="195"/>
                  </a:lnTo>
                  <a:lnTo>
                    <a:pt x="2" y="193"/>
                  </a:lnTo>
                  <a:lnTo>
                    <a:pt x="3" y="193"/>
                  </a:lnTo>
                  <a:lnTo>
                    <a:pt x="3" y="191"/>
                  </a:lnTo>
                  <a:lnTo>
                    <a:pt x="3" y="191"/>
                  </a:lnTo>
                  <a:lnTo>
                    <a:pt x="5" y="191"/>
                  </a:lnTo>
                  <a:lnTo>
                    <a:pt x="8" y="188"/>
                  </a:lnTo>
                  <a:lnTo>
                    <a:pt x="10" y="186"/>
                  </a:lnTo>
                  <a:lnTo>
                    <a:pt x="14" y="185"/>
                  </a:lnTo>
                  <a:lnTo>
                    <a:pt x="17" y="181"/>
                  </a:lnTo>
                  <a:lnTo>
                    <a:pt x="21" y="179"/>
                  </a:lnTo>
                  <a:lnTo>
                    <a:pt x="24" y="178"/>
                  </a:lnTo>
                  <a:lnTo>
                    <a:pt x="26" y="174"/>
                  </a:lnTo>
                  <a:lnTo>
                    <a:pt x="29" y="173"/>
                  </a:lnTo>
                  <a:lnTo>
                    <a:pt x="29" y="173"/>
                  </a:lnTo>
                  <a:lnTo>
                    <a:pt x="29" y="174"/>
                  </a:lnTo>
                  <a:lnTo>
                    <a:pt x="29" y="176"/>
                  </a:lnTo>
                  <a:lnTo>
                    <a:pt x="29" y="176"/>
                  </a:lnTo>
                  <a:lnTo>
                    <a:pt x="29" y="178"/>
                  </a:lnTo>
                  <a:lnTo>
                    <a:pt x="29" y="178"/>
                  </a:lnTo>
                  <a:lnTo>
                    <a:pt x="29" y="179"/>
                  </a:lnTo>
                  <a:lnTo>
                    <a:pt x="29" y="181"/>
                  </a:lnTo>
                  <a:lnTo>
                    <a:pt x="26" y="183"/>
                  </a:lnTo>
                  <a:lnTo>
                    <a:pt x="22" y="185"/>
                  </a:lnTo>
                  <a:lnTo>
                    <a:pt x="19" y="186"/>
                  </a:lnTo>
                  <a:lnTo>
                    <a:pt x="14" y="188"/>
                  </a:lnTo>
                  <a:lnTo>
                    <a:pt x="10" y="190"/>
                  </a:lnTo>
                  <a:lnTo>
                    <a:pt x="7" y="193"/>
                  </a:lnTo>
                  <a:lnTo>
                    <a:pt x="3" y="195"/>
                  </a:lnTo>
                  <a:lnTo>
                    <a:pt x="0" y="197"/>
                  </a:lnTo>
                  <a:close/>
                  <a:moveTo>
                    <a:pt x="33" y="138"/>
                  </a:moveTo>
                  <a:lnTo>
                    <a:pt x="31" y="135"/>
                  </a:lnTo>
                  <a:lnTo>
                    <a:pt x="29" y="133"/>
                  </a:lnTo>
                  <a:lnTo>
                    <a:pt x="27" y="130"/>
                  </a:lnTo>
                  <a:lnTo>
                    <a:pt x="27" y="128"/>
                  </a:lnTo>
                  <a:lnTo>
                    <a:pt x="27" y="125"/>
                  </a:lnTo>
                  <a:lnTo>
                    <a:pt x="27" y="121"/>
                  </a:lnTo>
                  <a:lnTo>
                    <a:pt x="29" y="120"/>
                  </a:lnTo>
                  <a:lnTo>
                    <a:pt x="33" y="116"/>
                  </a:lnTo>
                  <a:lnTo>
                    <a:pt x="33" y="115"/>
                  </a:lnTo>
                  <a:lnTo>
                    <a:pt x="34" y="115"/>
                  </a:lnTo>
                  <a:lnTo>
                    <a:pt x="36" y="113"/>
                  </a:lnTo>
                  <a:lnTo>
                    <a:pt x="38" y="113"/>
                  </a:lnTo>
                  <a:lnTo>
                    <a:pt x="40" y="111"/>
                  </a:lnTo>
                  <a:lnTo>
                    <a:pt x="41" y="109"/>
                  </a:lnTo>
                  <a:lnTo>
                    <a:pt x="43" y="109"/>
                  </a:lnTo>
                  <a:lnTo>
                    <a:pt x="45" y="108"/>
                  </a:lnTo>
                  <a:lnTo>
                    <a:pt x="43" y="111"/>
                  </a:lnTo>
                  <a:lnTo>
                    <a:pt x="40" y="115"/>
                  </a:lnTo>
                  <a:lnTo>
                    <a:pt x="38" y="120"/>
                  </a:lnTo>
                  <a:lnTo>
                    <a:pt x="36" y="123"/>
                  </a:lnTo>
                  <a:lnTo>
                    <a:pt x="36" y="126"/>
                  </a:lnTo>
                  <a:lnTo>
                    <a:pt x="34" y="130"/>
                  </a:lnTo>
                  <a:lnTo>
                    <a:pt x="33" y="133"/>
                  </a:lnTo>
                  <a:lnTo>
                    <a:pt x="33" y="138"/>
                  </a:lnTo>
                  <a:close/>
                  <a:moveTo>
                    <a:pt x="55" y="92"/>
                  </a:moveTo>
                  <a:lnTo>
                    <a:pt x="55" y="92"/>
                  </a:lnTo>
                  <a:lnTo>
                    <a:pt x="55" y="92"/>
                  </a:lnTo>
                  <a:lnTo>
                    <a:pt x="55" y="92"/>
                  </a:lnTo>
                  <a:lnTo>
                    <a:pt x="55" y="91"/>
                  </a:lnTo>
                  <a:lnTo>
                    <a:pt x="55" y="91"/>
                  </a:lnTo>
                  <a:lnTo>
                    <a:pt x="55" y="91"/>
                  </a:lnTo>
                  <a:lnTo>
                    <a:pt x="55" y="91"/>
                  </a:lnTo>
                  <a:lnTo>
                    <a:pt x="55" y="91"/>
                  </a:lnTo>
                  <a:lnTo>
                    <a:pt x="55" y="91"/>
                  </a:lnTo>
                  <a:lnTo>
                    <a:pt x="55" y="91"/>
                  </a:lnTo>
                  <a:lnTo>
                    <a:pt x="55" y="91"/>
                  </a:lnTo>
                  <a:lnTo>
                    <a:pt x="55" y="91"/>
                  </a:lnTo>
                  <a:lnTo>
                    <a:pt x="55" y="91"/>
                  </a:lnTo>
                  <a:lnTo>
                    <a:pt x="55" y="91"/>
                  </a:lnTo>
                  <a:lnTo>
                    <a:pt x="55" y="91"/>
                  </a:lnTo>
                  <a:lnTo>
                    <a:pt x="57" y="91"/>
                  </a:lnTo>
                  <a:lnTo>
                    <a:pt x="55" y="91"/>
                  </a:lnTo>
                  <a:lnTo>
                    <a:pt x="55" y="91"/>
                  </a:lnTo>
                  <a:lnTo>
                    <a:pt x="55" y="91"/>
                  </a:lnTo>
                  <a:lnTo>
                    <a:pt x="55" y="92"/>
                  </a:lnTo>
                  <a:lnTo>
                    <a:pt x="55" y="92"/>
                  </a:lnTo>
                  <a:lnTo>
                    <a:pt x="55" y="92"/>
                  </a:lnTo>
                  <a:lnTo>
                    <a:pt x="55" y="92"/>
                  </a:lnTo>
                  <a:lnTo>
                    <a:pt x="55" y="92"/>
                  </a:lnTo>
                  <a:close/>
                  <a:moveTo>
                    <a:pt x="45" y="77"/>
                  </a:moveTo>
                  <a:lnTo>
                    <a:pt x="41" y="75"/>
                  </a:lnTo>
                  <a:lnTo>
                    <a:pt x="40" y="74"/>
                  </a:lnTo>
                  <a:lnTo>
                    <a:pt x="38" y="72"/>
                  </a:lnTo>
                  <a:lnTo>
                    <a:pt x="36" y="70"/>
                  </a:lnTo>
                  <a:lnTo>
                    <a:pt x="34" y="68"/>
                  </a:lnTo>
                  <a:lnTo>
                    <a:pt x="33" y="67"/>
                  </a:lnTo>
                  <a:lnTo>
                    <a:pt x="33" y="63"/>
                  </a:lnTo>
                  <a:lnTo>
                    <a:pt x="33" y="62"/>
                  </a:lnTo>
                  <a:lnTo>
                    <a:pt x="34" y="63"/>
                  </a:lnTo>
                  <a:lnTo>
                    <a:pt x="34" y="65"/>
                  </a:lnTo>
                  <a:lnTo>
                    <a:pt x="36" y="68"/>
                  </a:lnTo>
                  <a:lnTo>
                    <a:pt x="38" y="70"/>
                  </a:lnTo>
                  <a:lnTo>
                    <a:pt x="40" y="72"/>
                  </a:lnTo>
                  <a:lnTo>
                    <a:pt x="41" y="74"/>
                  </a:lnTo>
                  <a:lnTo>
                    <a:pt x="43" y="75"/>
                  </a:lnTo>
                  <a:lnTo>
                    <a:pt x="45" y="77"/>
                  </a:lnTo>
                  <a:close/>
                  <a:moveTo>
                    <a:pt x="55" y="22"/>
                  </a:moveTo>
                  <a:lnTo>
                    <a:pt x="52" y="21"/>
                  </a:lnTo>
                  <a:lnTo>
                    <a:pt x="48" y="19"/>
                  </a:lnTo>
                  <a:lnTo>
                    <a:pt x="45" y="17"/>
                  </a:lnTo>
                  <a:lnTo>
                    <a:pt x="40" y="15"/>
                  </a:lnTo>
                  <a:lnTo>
                    <a:pt x="38" y="14"/>
                  </a:lnTo>
                  <a:lnTo>
                    <a:pt x="34" y="10"/>
                  </a:lnTo>
                  <a:lnTo>
                    <a:pt x="33" y="7"/>
                  </a:lnTo>
                  <a:lnTo>
                    <a:pt x="31" y="3"/>
                  </a:lnTo>
                  <a:lnTo>
                    <a:pt x="29" y="3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31" y="2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3" y="3"/>
                  </a:lnTo>
                  <a:lnTo>
                    <a:pt x="36" y="7"/>
                  </a:lnTo>
                  <a:lnTo>
                    <a:pt x="38" y="9"/>
                  </a:lnTo>
                  <a:lnTo>
                    <a:pt x="41" y="12"/>
                  </a:lnTo>
                  <a:lnTo>
                    <a:pt x="45" y="15"/>
                  </a:lnTo>
                  <a:lnTo>
                    <a:pt x="48" y="17"/>
                  </a:lnTo>
                  <a:lnTo>
                    <a:pt x="52" y="21"/>
                  </a:lnTo>
                  <a:lnTo>
                    <a:pt x="55" y="22"/>
                  </a:lnTo>
                  <a:close/>
                </a:path>
              </a:pathLst>
            </a:custGeom>
            <a:solidFill>
              <a:srgbClr val="8c5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838160" y="2179800"/>
              <a:ext cx="5040" cy="288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7" y="5"/>
                  </a:moveTo>
                  <a:lnTo>
                    <a:pt x="7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5" y="4"/>
                  </a:lnTo>
                  <a:lnTo>
                    <a:pt x="7" y="4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838160" y="2179800"/>
              <a:ext cx="5040" cy="288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7" y="5"/>
                  </a:moveTo>
                  <a:lnTo>
                    <a:pt x="7" y="4"/>
                  </a:lnTo>
                  <a:lnTo>
                    <a:pt x="5" y="4"/>
                  </a:lnTo>
                  <a:lnTo>
                    <a:pt x="5" y="4"/>
                  </a:lnTo>
                  <a:lnTo>
                    <a:pt x="3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5" y="4"/>
                  </a:lnTo>
                  <a:lnTo>
                    <a:pt x="7" y="4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824120" y="2184480"/>
              <a:ext cx="44280" cy="135000"/>
            </a:xfrm>
            <a:custGeom>
              <a:avLst/>
              <a:gdLst/>
              <a:ahLst/>
              <a:rect l="l" t="t" r="r" b="b"/>
              <a:pathLst>
                <a:path w="64" h="215">
                  <a:moveTo>
                    <a:pt x="0" y="215"/>
                  </a:moveTo>
                  <a:lnTo>
                    <a:pt x="4" y="214"/>
                  </a:lnTo>
                  <a:lnTo>
                    <a:pt x="9" y="210"/>
                  </a:lnTo>
                  <a:lnTo>
                    <a:pt x="12" y="208"/>
                  </a:lnTo>
                  <a:lnTo>
                    <a:pt x="16" y="207"/>
                  </a:lnTo>
                  <a:lnTo>
                    <a:pt x="19" y="203"/>
                  </a:lnTo>
                  <a:lnTo>
                    <a:pt x="23" y="202"/>
                  </a:lnTo>
                  <a:lnTo>
                    <a:pt x="28" y="200"/>
                  </a:lnTo>
                  <a:lnTo>
                    <a:pt x="31" y="198"/>
                  </a:lnTo>
                  <a:lnTo>
                    <a:pt x="31" y="184"/>
                  </a:lnTo>
                  <a:lnTo>
                    <a:pt x="31" y="174"/>
                  </a:lnTo>
                  <a:lnTo>
                    <a:pt x="33" y="164"/>
                  </a:lnTo>
                  <a:lnTo>
                    <a:pt x="35" y="155"/>
                  </a:lnTo>
                  <a:lnTo>
                    <a:pt x="36" y="147"/>
                  </a:lnTo>
                  <a:lnTo>
                    <a:pt x="40" y="138"/>
                  </a:lnTo>
                  <a:lnTo>
                    <a:pt x="43" y="130"/>
                  </a:lnTo>
                  <a:lnTo>
                    <a:pt x="50" y="120"/>
                  </a:lnTo>
                  <a:lnTo>
                    <a:pt x="45" y="123"/>
                  </a:lnTo>
                  <a:lnTo>
                    <a:pt x="42" y="125"/>
                  </a:lnTo>
                  <a:lnTo>
                    <a:pt x="38" y="126"/>
                  </a:lnTo>
                  <a:lnTo>
                    <a:pt x="36" y="130"/>
                  </a:lnTo>
                  <a:lnTo>
                    <a:pt x="33" y="132"/>
                  </a:lnTo>
                  <a:lnTo>
                    <a:pt x="29" y="135"/>
                  </a:lnTo>
                  <a:lnTo>
                    <a:pt x="28" y="138"/>
                  </a:lnTo>
                  <a:lnTo>
                    <a:pt x="24" y="140"/>
                  </a:lnTo>
                  <a:lnTo>
                    <a:pt x="28" y="154"/>
                  </a:lnTo>
                  <a:lnTo>
                    <a:pt x="26" y="164"/>
                  </a:lnTo>
                  <a:lnTo>
                    <a:pt x="24" y="174"/>
                  </a:lnTo>
                  <a:lnTo>
                    <a:pt x="19" y="183"/>
                  </a:lnTo>
                  <a:lnTo>
                    <a:pt x="14" y="191"/>
                  </a:lnTo>
                  <a:lnTo>
                    <a:pt x="9" y="200"/>
                  </a:lnTo>
                  <a:lnTo>
                    <a:pt x="5" y="207"/>
                  </a:lnTo>
                  <a:lnTo>
                    <a:pt x="0" y="215"/>
                  </a:lnTo>
                  <a:close/>
                  <a:moveTo>
                    <a:pt x="55" y="106"/>
                  </a:moveTo>
                  <a:lnTo>
                    <a:pt x="52" y="101"/>
                  </a:lnTo>
                  <a:lnTo>
                    <a:pt x="50" y="97"/>
                  </a:lnTo>
                  <a:lnTo>
                    <a:pt x="47" y="94"/>
                  </a:lnTo>
                  <a:lnTo>
                    <a:pt x="43" y="92"/>
                  </a:lnTo>
                  <a:lnTo>
                    <a:pt x="40" y="89"/>
                  </a:lnTo>
                  <a:lnTo>
                    <a:pt x="38" y="85"/>
                  </a:lnTo>
                  <a:lnTo>
                    <a:pt x="36" y="82"/>
                  </a:lnTo>
                  <a:lnTo>
                    <a:pt x="35" y="79"/>
                  </a:lnTo>
                  <a:lnTo>
                    <a:pt x="35" y="79"/>
                  </a:lnTo>
                  <a:lnTo>
                    <a:pt x="33" y="79"/>
                  </a:lnTo>
                  <a:lnTo>
                    <a:pt x="33" y="80"/>
                  </a:lnTo>
                  <a:lnTo>
                    <a:pt x="33" y="80"/>
                  </a:lnTo>
                  <a:lnTo>
                    <a:pt x="33" y="82"/>
                  </a:lnTo>
                  <a:lnTo>
                    <a:pt x="31" y="82"/>
                  </a:lnTo>
                  <a:lnTo>
                    <a:pt x="31" y="84"/>
                  </a:lnTo>
                  <a:lnTo>
                    <a:pt x="31" y="84"/>
                  </a:lnTo>
                  <a:lnTo>
                    <a:pt x="33" y="87"/>
                  </a:lnTo>
                  <a:lnTo>
                    <a:pt x="36" y="91"/>
                  </a:lnTo>
                  <a:lnTo>
                    <a:pt x="40" y="94"/>
                  </a:lnTo>
                  <a:lnTo>
                    <a:pt x="43" y="96"/>
                  </a:lnTo>
                  <a:lnTo>
                    <a:pt x="47" y="99"/>
                  </a:lnTo>
                  <a:lnTo>
                    <a:pt x="50" y="101"/>
                  </a:lnTo>
                  <a:lnTo>
                    <a:pt x="54" y="102"/>
                  </a:lnTo>
                  <a:lnTo>
                    <a:pt x="55" y="106"/>
                  </a:lnTo>
                  <a:close/>
                  <a:moveTo>
                    <a:pt x="52" y="60"/>
                  </a:moveTo>
                  <a:lnTo>
                    <a:pt x="54" y="58"/>
                  </a:lnTo>
                  <a:lnTo>
                    <a:pt x="55" y="58"/>
                  </a:lnTo>
                  <a:lnTo>
                    <a:pt x="57" y="56"/>
                  </a:lnTo>
                  <a:lnTo>
                    <a:pt x="59" y="55"/>
                  </a:lnTo>
                  <a:lnTo>
                    <a:pt x="60" y="53"/>
                  </a:lnTo>
                  <a:lnTo>
                    <a:pt x="62" y="51"/>
                  </a:lnTo>
                  <a:lnTo>
                    <a:pt x="62" y="50"/>
                  </a:lnTo>
                  <a:lnTo>
                    <a:pt x="64" y="48"/>
                  </a:lnTo>
                  <a:lnTo>
                    <a:pt x="62" y="50"/>
                  </a:lnTo>
                  <a:lnTo>
                    <a:pt x="60" y="51"/>
                  </a:lnTo>
                  <a:lnTo>
                    <a:pt x="59" y="53"/>
                  </a:lnTo>
                  <a:lnTo>
                    <a:pt x="57" y="55"/>
                  </a:lnTo>
                  <a:lnTo>
                    <a:pt x="55" y="55"/>
                  </a:lnTo>
                  <a:lnTo>
                    <a:pt x="54" y="56"/>
                  </a:lnTo>
                  <a:lnTo>
                    <a:pt x="52" y="58"/>
                  </a:lnTo>
                  <a:lnTo>
                    <a:pt x="52" y="60"/>
                  </a:lnTo>
                  <a:close/>
                  <a:moveTo>
                    <a:pt x="47" y="32"/>
                  </a:moveTo>
                  <a:lnTo>
                    <a:pt x="43" y="29"/>
                  </a:lnTo>
                  <a:lnTo>
                    <a:pt x="40" y="26"/>
                  </a:lnTo>
                  <a:lnTo>
                    <a:pt x="36" y="22"/>
                  </a:lnTo>
                  <a:lnTo>
                    <a:pt x="35" y="19"/>
                  </a:lnTo>
                  <a:lnTo>
                    <a:pt x="31" y="15"/>
                  </a:lnTo>
                  <a:lnTo>
                    <a:pt x="29" y="12"/>
                  </a:lnTo>
                  <a:lnTo>
                    <a:pt x="29" y="7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6" y="3"/>
                  </a:lnTo>
                  <a:lnTo>
                    <a:pt x="28" y="7"/>
                  </a:lnTo>
                  <a:lnTo>
                    <a:pt x="29" y="10"/>
                  </a:lnTo>
                  <a:lnTo>
                    <a:pt x="29" y="15"/>
                  </a:lnTo>
                  <a:lnTo>
                    <a:pt x="31" y="20"/>
                  </a:lnTo>
                  <a:lnTo>
                    <a:pt x="31" y="24"/>
                  </a:lnTo>
                  <a:lnTo>
                    <a:pt x="33" y="26"/>
                  </a:lnTo>
                  <a:lnTo>
                    <a:pt x="35" y="27"/>
                  </a:lnTo>
                  <a:lnTo>
                    <a:pt x="36" y="27"/>
                  </a:lnTo>
                  <a:lnTo>
                    <a:pt x="38" y="29"/>
                  </a:lnTo>
                  <a:lnTo>
                    <a:pt x="42" y="29"/>
                  </a:lnTo>
                  <a:lnTo>
                    <a:pt x="43" y="31"/>
                  </a:lnTo>
                  <a:lnTo>
                    <a:pt x="45" y="31"/>
                  </a:lnTo>
                  <a:lnTo>
                    <a:pt x="47" y="32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824120" y="2184480"/>
              <a:ext cx="44280" cy="135000"/>
            </a:xfrm>
            <a:custGeom>
              <a:avLst/>
              <a:gdLst/>
              <a:ahLst/>
              <a:rect l="l" t="t" r="r" b="b"/>
              <a:pathLst>
                <a:path w="64" h="215">
                  <a:moveTo>
                    <a:pt x="0" y="215"/>
                  </a:moveTo>
                  <a:lnTo>
                    <a:pt x="4" y="214"/>
                  </a:lnTo>
                  <a:lnTo>
                    <a:pt x="9" y="210"/>
                  </a:lnTo>
                  <a:lnTo>
                    <a:pt x="12" y="208"/>
                  </a:lnTo>
                  <a:lnTo>
                    <a:pt x="16" y="207"/>
                  </a:lnTo>
                  <a:lnTo>
                    <a:pt x="19" y="203"/>
                  </a:lnTo>
                  <a:lnTo>
                    <a:pt x="23" y="202"/>
                  </a:lnTo>
                  <a:lnTo>
                    <a:pt x="28" y="200"/>
                  </a:lnTo>
                  <a:lnTo>
                    <a:pt x="31" y="198"/>
                  </a:lnTo>
                  <a:lnTo>
                    <a:pt x="31" y="184"/>
                  </a:lnTo>
                  <a:lnTo>
                    <a:pt x="31" y="174"/>
                  </a:lnTo>
                  <a:lnTo>
                    <a:pt x="33" y="164"/>
                  </a:lnTo>
                  <a:lnTo>
                    <a:pt x="35" y="155"/>
                  </a:lnTo>
                  <a:lnTo>
                    <a:pt x="36" y="147"/>
                  </a:lnTo>
                  <a:lnTo>
                    <a:pt x="40" y="138"/>
                  </a:lnTo>
                  <a:lnTo>
                    <a:pt x="43" y="130"/>
                  </a:lnTo>
                  <a:lnTo>
                    <a:pt x="50" y="120"/>
                  </a:lnTo>
                  <a:lnTo>
                    <a:pt x="45" y="123"/>
                  </a:lnTo>
                  <a:lnTo>
                    <a:pt x="42" y="125"/>
                  </a:lnTo>
                  <a:lnTo>
                    <a:pt x="38" y="126"/>
                  </a:lnTo>
                  <a:lnTo>
                    <a:pt x="36" y="130"/>
                  </a:lnTo>
                  <a:lnTo>
                    <a:pt x="33" y="132"/>
                  </a:lnTo>
                  <a:lnTo>
                    <a:pt x="29" y="135"/>
                  </a:lnTo>
                  <a:lnTo>
                    <a:pt x="28" y="138"/>
                  </a:lnTo>
                  <a:lnTo>
                    <a:pt x="24" y="140"/>
                  </a:lnTo>
                  <a:lnTo>
                    <a:pt x="28" y="154"/>
                  </a:lnTo>
                  <a:lnTo>
                    <a:pt x="26" y="164"/>
                  </a:lnTo>
                  <a:lnTo>
                    <a:pt x="24" y="174"/>
                  </a:lnTo>
                  <a:lnTo>
                    <a:pt x="19" y="183"/>
                  </a:lnTo>
                  <a:lnTo>
                    <a:pt x="14" y="191"/>
                  </a:lnTo>
                  <a:lnTo>
                    <a:pt x="9" y="200"/>
                  </a:lnTo>
                  <a:lnTo>
                    <a:pt x="5" y="207"/>
                  </a:lnTo>
                  <a:lnTo>
                    <a:pt x="0" y="215"/>
                  </a:lnTo>
                  <a:close/>
                  <a:moveTo>
                    <a:pt x="55" y="106"/>
                  </a:moveTo>
                  <a:lnTo>
                    <a:pt x="52" y="101"/>
                  </a:lnTo>
                  <a:lnTo>
                    <a:pt x="50" y="97"/>
                  </a:lnTo>
                  <a:lnTo>
                    <a:pt x="47" y="94"/>
                  </a:lnTo>
                  <a:lnTo>
                    <a:pt x="43" y="92"/>
                  </a:lnTo>
                  <a:lnTo>
                    <a:pt x="40" y="89"/>
                  </a:lnTo>
                  <a:lnTo>
                    <a:pt x="38" y="85"/>
                  </a:lnTo>
                  <a:lnTo>
                    <a:pt x="36" y="82"/>
                  </a:lnTo>
                  <a:lnTo>
                    <a:pt x="35" y="79"/>
                  </a:lnTo>
                  <a:lnTo>
                    <a:pt x="35" y="79"/>
                  </a:lnTo>
                  <a:lnTo>
                    <a:pt x="33" y="79"/>
                  </a:lnTo>
                  <a:lnTo>
                    <a:pt x="33" y="80"/>
                  </a:lnTo>
                  <a:lnTo>
                    <a:pt x="33" y="80"/>
                  </a:lnTo>
                  <a:lnTo>
                    <a:pt x="33" y="82"/>
                  </a:lnTo>
                  <a:lnTo>
                    <a:pt x="31" y="82"/>
                  </a:lnTo>
                  <a:lnTo>
                    <a:pt x="31" y="84"/>
                  </a:lnTo>
                  <a:lnTo>
                    <a:pt x="31" y="84"/>
                  </a:lnTo>
                  <a:lnTo>
                    <a:pt x="33" y="87"/>
                  </a:lnTo>
                  <a:lnTo>
                    <a:pt x="36" y="91"/>
                  </a:lnTo>
                  <a:lnTo>
                    <a:pt x="40" y="94"/>
                  </a:lnTo>
                  <a:lnTo>
                    <a:pt x="43" y="96"/>
                  </a:lnTo>
                  <a:lnTo>
                    <a:pt x="47" y="99"/>
                  </a:lnTo>
                  <a:lnTo>
                    <a:pt x="50" y="101"/>
                  </a:lnTo>
                  <a:lnTo>
                    <a:pt x="54" y="102"/>
                  </a:lnTo>
                  <a:lnTo>
                    <a:pt x="55" y="106"/>
                  </a:lnTo>
                  <a:close/>
                  <a:moveTo>
                    <a:pt x="52" y="60"/>
                  </a:moveTo>
                  <a:lnTo>
                    <a:pt x="54" y="58"/>
                  </a:lnTo>
                  <a:lnTo>
                    <a:pt x="55" y="58"/>
                  </a:lnTo>
                  <a:lnTo>
                    <a:pt x="57" y="56"/>
                  </a:lnTo>
                  <a:lnTo>
                    <a:pt x="59" y="55"/>
                  </a:lnTo>
                  <a:lnTo>
                    <a:pt x="60" y="53"/>
                  </a:lnTo>
                  <a:lnTo>
                    <a:pt x="62" y="51"/>
                  </a:lnTo>
                  <a:lnTo>
                    <a:pt x="62" y="50"/>
                  </a:lnTo>
                  <a:lnTo>
                    <a:pt x="64" y="48"/>
                  </a:lnTo>
                  <a:lnTo>
                    <a:pt x="62" y="50"/>
                  </a:lnTo>
                  <a:lnTo>
                    <a:pt x="60" y="51"/>
                  </a:lnTo>
                  <a:lnTo>
                    <a:pt x="59" y="53"/>
                  </a:lnTo>
                  <a:lnTo>
                    <a:pt x="57" y="55"/>
                  </a:lnTo>
                  <a:lnTo>
                    <a:pt x="55" y="55"/>
                  </a:lnTo>
                  <a:lnTo>
                    <a:pt x="54" y="56"/>
                  </a:lnTo>
                  <a:lnTo>
                    <a:pt x="52" y="58"/>
                  </a:lnTo>
                  <a:lnTo>
                    <a:pt x="52" y="60"/>
                  </a:lnTo>
                  <a:close/>
                  <a:moveTo>
                    <a:pt x="47" y="32"/>
                  </a:moveTo>
                  <a:lnTo>
                    <a:pt x="43" y="29"/>
                  </a:lnTo>
                  <a:lnTo>
                    <a:pt x="40" y="26"/>
                  </a:lnTo>
                  <a:lnTo>
                    <a:pt x="36" y="22"/>
                  </a:lnTo>
                  <a:lnTo>
                    <a:pt x="35" y="19"/>
                  </a:lnTo>
                  <a:lnTo>
                    <a:pt x="31" y="15"/>
                  </a:lnTo>
                  <a:lnTo>
                    <a:pt x="29" y="12"/>
                  </a:lnTo>
                  <a:lnTo>
                    <a:pt x="29" y="7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3" y="2"/>
                  </a:lnTo>
                  <a:lnTo>
                    <a:pt x="21" y="2"/>
                  </a:lnTo>
                  <a:lnTo>
                    <a:pt x="21" y="2"/>
                  </a:lnTo>
                  <a:lnTo>
                    <a:pt x="19" y="2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6" y="3"/>
                  </a:lnTo>
                  <a:lnTo>
                    <a:pt x="28" y="7"/>
                  </a:lnTo>
                  <a:lnTo>
                    <a:pt x="29" y="10"/>
                  </a:lnTo>
                  <a:lnTo>
                    <a:pt x="29" y="15"/>
                  </a:lnTo>
                  <a:lnTo>
                    <a:pt x="31" y="20"/>
                  </a:lnTo>
                  <a:lnTo>
                    <a:pt x="31" y="24"/>
                  </a:lnTo>
                  <a:lnTo>
                    <a:pt x="33" y="26"/>
                  </a:lnTo>
                  <a:lnTo>
                    <a:pt x="35" y="27"/>
                  </a:lnTo>
                  <a:lnTo>
                    <a:pt x="36" y="27"/>
                  </a:lnTo>
                  <a:lnTo>
                    <a:pt x="38" y="29"/>
                  </a:lnTo>
                  <a:lnTo>
                    <a:pt x="42" y="29"/>
                  </a:lnTo>
                  <a:lnTo>
                    <a:pt x="43" y="31"/>
                  </a:lnTo>
                  <a:lnTo>
                    <a:pt x="45" y="31"/>
                  </a:lnTo>
                  <a:lnTo>
                    <a:pt x="4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833480" y="2184480"/>
              <a:ext cx="11160" cy="119160"/>
            </a:xfrm>
            <a:custGeom>
              <a:avLst/>
              <a:gdLst/>
              <a:ahLst/>
              <a:rect l="l" t="t" r="r" b="b"/>
              <a:pathLst>
                <a:path w="15" h="190">
                  <a:moveTo>
                    <a:pt x="3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  <a:moveTo>
                    <a:pt x="10" y="162"/>
                  </a:moveTo>
                  <a:lnTo>
                    <a:pt x="12" y="162"/>
                  </a:lnTo>
                  <a:lnTo>
                    <a:pt x="12" y="164"/>
                  </a:lnTo>
                  <a:lnTo>
                    <a:pt x="13" y="164"/>
                  </a:lnTo>
                  <a:lnTo>
                    <a:pt x="13" y="166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9"/>
                  </a:lnTo>
                  <a:lnTo>
                    <a:pt x="15" y="169"/>
                  </a:lnTo>
                  <a:lnTo>
                    <a:pt x="15" y="171"/>
                  </a:lnTo>
                  <a:lnTo>
                    <a:pt x="15" y="171"/>
                  </a:lnTo>
                  <a:lnTo>
                    <a:pt x="15" y="173"/>
                  </a:lnTo>
                  <a:lnTo>
                    <a:pt x="15" y="173"/>
                  </a:lnTo>
                  <a:lnTo>
                    <a:pt x="15" y="174"/>
                  </a:lnTo>
                  <a:lnTo>
                    <a:pt x="15" y="176"/>
                  </a:lnTo>
                  <a:lnTo>
                    <a:pt x="15" y="176"/>
                  </a:lnTo>
                  <a:lnTo>
                    <a:pt x="15" y="178"/>
                  </a:lnTo>
                  <a:lnTo>
                    <a:pt x="15" y="178"/>
                  </a:lnTo>
                  <a:lnTo>
                    <a:pt x="15" y="179"/>
                  </a:lnTo>
                  <a:lnTo>
                    <a:pt x="13" y="179"/>
                  </a:lnTo>
                  <a:lnTo>
                    <a:pt x="13" y="179"/>
                  </a:lnTo>
                  <a:lnTo>
                    <a:pt x="13" y="181"/>
                  </a:lnTo>
                  <a:lnTo>
                    <a:pt x="13" y="181"/>
                  </a:lnTo>
                  <a:lnTo>
                    <a:pt x="12" y="181"/>
                  </a:lnTo>
                  <a:lnTo>
                    <a:pt x="12" y="183"/>
                  </a:lnTo>
                  <a:lnTo>
                    <a:pt x="10" y="183"/>
                  </a:lnTo>
                  <a:lnTo>
                    <a:pt x="8" y="184"/>
                  </a:lnTo>
                  <a:lnTo>
                    <a:pt x="7" y="184"/>
                  </a:lnTo>
                  <a:lnTo>
                    <a:pt x="7" y="186"/>
                  </a:lnTo>
                  <a:lnTo>
                    <a:pt x="5" y="186"/>
                  </a:lnTo>
                  <a:lnTo>
                    <a:pt x="3" y="188"/>
                  </a:lnTo>
                  <a:lnTo>
                    <a:pt x="1" y="188"/>
                  </a:lnTo>
                  <a:lnTo>
                    <a:pt x="0" y="190"/>
                  </a:lnTo>
                  <a:lnTo>
                    <a:pt x="1" y="186"/>
                  </a:lnTo>
                  <a:lnTo>
                    <a:pt x="3" y="183"/>
                  </a:lnTo>
                  <a:lnTo>
                    <a:pt x="5" y="179"/>
                  </a:lnTo>
                  <a:lnTo>
                    <a:pt x="7" y="176"/>
                  </a:lnTo>
                  <a:lnTo>
                    <a:pt x="8" y="173"/>
                  </a:lnTo>
                  <a:lnTo>
                    <a:pt x="10" y="169"/>
                  </a:lnTo>
                  <a:lnTo>
                    <a:pt x="10" y="166"/>
                  </a:lnTo>
                  <a:lnTo>
                    <a:pt x="10" y="162"/>
                  </a:lnTo>
                  <a:close/>
                </a:path>
              </a:pathLst>
            </a:custGeom>
            <a:solidFill>
              <a:srgbClr val="d9a6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825560" y="2195640"/>
              <a:ext cx="30240" cy="123840"/>
            </a:xfrm>
            <a:custGeom>
              <a:avLst/>
              <a:gdLst/>
              <a:ahLst/>
              <a:rect l="l" t="t" r="r" b="b"/>
              <a:pathLst>
                <a:path w="45" h="197">
                  <a:moveTo>
                    <a:pt x="0" y="197"/>
                  </a:moveTo>
                  <a:lnTo>
                    <a:pt x="2" y="197"/>
                  </a:lnTo>
                  <a:lnTo>
                    <a:pt x="2" y="195"/>
                  </a:lnTo>
                  <a:lnTo>
                    <a:pt x="2" y="195"/>
                  </a:lnTo>
                  <a:lnTo>
                    <a:pt x="2" y="193"/>
                  </a:lnTo>
                  <a:lnTo>
                    <a:pt x="3" y="193"/>
                  </a:lnTo>
                  <a:lnTo>
                    <a:pt x="3" y="191"/>
                  </a:lnTo>
                  <a:lnTo>
                    <a:pt x="3" y="191"/>
                  </a:lnTo>
                  <a:lnTo>
                    <a:pt x="5" y="191"/>
                  </a:lnTo>
                  <a:lnTo>
                    <a:pt x="8" y="188"/>
                  </a:lnTo>
                  <a:lnTo>
                    <a:pt x="10" y="186"/>
                  </a:lnTo>
                  <a:lnTo>
                    <a:pt x="14" y="185"/>
                  </a:lnTo>
                  <a:lnTo>
                    <a:pt x="17" y="181"/>
                  </a:lnTo>
                  <a:lnTo>
                    <a:pt x="21" y="179"/>
                  </a:lnTo>
                  <a:lnTo>
                    <a:pt x="24" y="178"/>
                  </a:lnTo>
                  <a:lnTo>
                    <a:pt x="26" y="174"/>
                  </a:lnTo>
                  <a:lnTo>
                    <a:pt x="29" y="173"/>
                  </a:lnTo>
                  <a:lnTo>
                    <a:pt x="29" y="173"/>
                  </a:lnTo>
                  <a:lnTo>
                    <a:pt x="29" y="174"/>
                  </a:lnTo>
                  <a:lnTo>
                    <a:pt x="29" y="176"/>
                  </a:lnTo>
                  <a:lnTo>
                    <a:pt x="29" y="176"/>
                  </a:lnTo>
                  <a:lnTo>
                    <a:pt x="29" y="178"/>
                  </a:lnTo>
                  <a:lnTo>
                    <a:pt x="29" y="178"/>
                  </a:lnTo>
                  <a:lnTo>
                    <a:pt x="29" y="179"/>
                  </a:lnTo>
                  <a:lnTo>
                    <a:pt x="29" y="181"/>
                  </a:lnTo>
                  <a:lnTo>
                    <a:pt x="26" y="183"/>
                  </a:lnTo>
                  <a:lnTo>
                    <a:pt x="22" y="185"/>
                  </a:lnTo>
                  <a:lnTo>
                    <a:pt x="19" y="186"/>
                  </a:lnTo>
                  <a:lnTo>
                    <a:pt x="14" y="188"/>
                  </a:lnTo>
                  <a:lnTo>
                    <a:pt x="10" y="190"/>
                  </a:lnTo>
                  <a:lnTo>
                    <a:pt x="7" y="193"/>
                  </a:lnTo>
                  <a:lnTo>
                    <a:pt x="3" y="195"/>
                  </a:lnTo>
                  <a:lnTo>
                    <a:pt x="0" y="197"/>
                  </a:lnTo>
                  <a:close/>
                  <a:moveTo>
                    <a:pt x="33" y="138"/>
                  </a:moveTo>
                  <a:lnTo>
                    <a:pt x="31" y="135"/>
                  </a:lnTo>
                  <a:lnTo>
                    <a:pt x="29" y="133"/>
                  </a:lnTo>
                  <a:lnTo>
                    <a:pt x="27" y="130"/>
                  </a:lnTo>
                  <a:lnTo>
                    <a:pt x="27" y="128"/>
                  </a:lnTo>
                  <a:lnTo>
                    <a:pt x="27" y="125"/>
                  </a:lnTo>
                  <a:lnTo>
                    <a:pt x="27" y="121"/>
                  </a:lnTo>
                  <a:lnTo>
                    <a:pt x="29" y="120"/>
                  </a:lnTo>
                  <a:lnTo>
                    <a:pt x="33" y="116"/>
                  </a:lnTo>
                  <a:lnTo>
                    <a:pt x="33" y="115"/>
                  </a:lnTo>
                  <a:lnTo>
                    <a:pt x="34" y="115"/>
                  </a:lnTo>
                  <a:lnTo>
                    <a:pt x="36" y="113"/>
                  </a:lnTo>
                  <a:lnTo>
                    <a:pt x="38" y="113"/>
                  </a:lnTo>
                  <a:lnTo>
                    <a:pt x="40" y="111"/>
                  </a:lnTo>
                  <a:lnTo>
                    <a:pt x="41" y="109"/>
                  </a:lnTo>
                  <a:lnTo>
                    <a:pt x="43" y="109"/>
                  </a:lnTo>
                  <a:lnTo>
                    <a:pt x="45" y="108"/>
                  </a:lnTo>
                  <a:lnTo>
                    <a:pt x="43" y="111"/>
                  </a:lnTo>
                  <a:lnTo>
                    <a:pt x="40" y="115"/>
                  </a:lnTo>
                  <a:lnTo>
                    <a:pt x="38" y="120"/>
                  </a:lnTo>
                  <a:lnTo>
                    <a:pt x="36" y="123"/>
                  </a:lnTo>
                  <a:lnTo>
                    <a:pt x="36" y="126"/>
                  </a:lnTo>
                  <a:lnTo>
                    <a:pt x="34" y="130"/>
                  </a:lnTo>
                  <a:lnTo>
                    <a:pt x="33" y="133"/>
                  </a:lnTo>
                  <a:lnTo>
                    <a:pt x="33" y="138"/>
                  </a:lnTo>
                  <a:close/>
                  <a:moveTo>
                    <a:pt x="45" y="77"/>
                  </a:moveTo>
                  <a:lnTo>
                    <a:pt x="41" y="75"/>
                  </a:lnTo>
                  <a:lnTo>
                    <a:pt x="40" y="74"/>
                  </a:lnTo>
                  <a:lnTo>
                    <a:pt x="38" y="72"/>
                  </a:lnTo>
                  <a:lnTo>
                    <a:pt x="36" y="70"/>
                  </a:lnTo>
                  <a:lnTo>
                    <a:pt x="34" y="68"/>
                  </a:lnTo>
                  <a:lnTo>
                    <a:pt x="33" y="67"/>
                  </a:lnTo>
                  <a:lnTo>
                    <a:pt x="33" y="63"/>
                  </a:lnTo>
                  <a:lnTo>
                    <a:pt x="33" y="62"/>
                  </a:lnTo>
                  <a:lnTo>
                    <a:pt x="34" y="63"/>
                  </a:lnTo>
                  <a:lnTo>
                    <a:pt x="34" y="65"/>
                  </a:lnTo>
                  <a:lnTo>
                    <a:pt x="36" y="68"/>
                  </a:lnTo>
                  <a:lnTo>
                    <a:pt x="38" y="70"/>
                  </a:lnTo>
                  <a:lnTo>
                    <a:pt x="40" y="72"/>
                  </a:lnTo>
                  <a:lnTo>
                    <a:pt x="41" y="74"/>
                  </a:lnTo>
                  <a:lnTo>
                    <a:pt x="43" y="75"/>
                  </a:lnTo>
                  <a:lnTo>
                    <a:pt x="45" y="77"/>
                  </a:lnTo>
                  <a:close/>
                  <a:moveTo>
                    <a:pt x="34" y="10"/>
                  </a:moveTo>
                  <a:lnTo>
                    <a:pt x="33" y="9"/>
                  </a:lnTo>
                  <a:lnTo>
                    <a:pt x="33" y="9"/>
                  </a:lnTo>
                  <a:lnTo>
                    <a:pt x="33" y="9"/>
                  </a:lnTo>
                  <a:lnTo>
                    <a:pt x="31" y="7"/>
                  </a:lnTo>
                  <a:lnTo>
                    <a:pt x="31" y="7"/>
                  </a:lnTo>
                  <a:lnTo>
                    <a:pt x="31" y="5"/>
                  </a:lnTo>
                  <a:lnTo>
                    <a:pt x="31" y="5"/>
                  </a:lnTo>
                  <a:lnTo>
                    <a:pt x="31" y="3"/>
                  </a:lnTo>
                  <a:lnTo>
                    <a:pt x="29" y="3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31" y="2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3" y="2"/>
                  </a:lnTo>
                  <a:lnTo>
                    <a:pt x="34" y="3"/>
                  </a:lnTo>
                  <a:lnTo>
                    <a:pt x="34" y="5"/>
                  </a:lnTo>
                  <a:lnTo>
                    <a:pt x="38" y="9"/>
                  </a:lnTo>
                  <a:lnTo>
                    <a:pt x="40" y="10"/>
                  </a:lnTo>
                  <a:lnTo>
                    <a:pt x="41" y="12"/>
                  </a:lnTo>
                  <a:lnTo>
                    <a:pt x="43" y="14"/>
                  </a:lnTo>
                  <a:lnTo>
                    <a:pt x="45" y="15"/>
                  </a:lnTo>
                  <a:lnTo>
                    <a:pt x="43" y="14"/>
                  </a:lnTo>
                  <a:lnTo>
                    <a:pt x="41" y="14"/>
                  </a:lnTo>
                  <a:lnTo>
                    <a:pt x="41" y="14"/>
                  </a:lnTo>
                  <a:lnTo>
                    <a:pt x="40" y="12"/>
                  </a:lnTo>
                  <a:lnTo>
                    <a:pt x="38" y="12"/>
                  </a:lnTo>
                  <a:lnTo>
                    <a:pt x="36" y="12"/>
                  </a:lnTo>
                  <a:lnTo>
                    <a:pt x="34" y="10"/>
                  </a:lnTo>
                  <a:lnTo>
                    <a:pt x="34" y="10"/>
                  </a:lnTo>
                  <a:close/>
                </a:path>
              </a:pathLst>
            </a:custGeom>
            <a:solidFill>
              <a:srgbClr val="734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827360" y="2238480"/>
              <a:ext cx="37800" cy="81000"/>
            </a:xfrm>
            <a:custGeom>
              <a:avLst/>
              <a:gdLst/>
              <a:ahLst/>
              <a:rect l="l" t="t" r="r" b="b"/>
              <a:pathLst>
                <a:path w="55" h="130">
                  <a:moveTo>
                    <a:pt x="0" y="130"/>
                  </a:moveTo>
                  <a:lnTo>
                    <a:pt x="3" y="128"/>
                  </a:lnTo>
                  <a:lnTo>
                    <a:pt x="6" y="124"/>
                  </a:lnTo>
                  <a:lnTo>
                    <a:pt x="10" y="123"/>
                  </a:lnTo>
                  <a:lnTo>
                    <a:pt x="13" y="121"/>
                  </a:lnTo>
                  <a:lnTo>
                    <a:pt x="17" y="119"/>
                  </a:lnTo>
                  <a:lnTo>
                    <a:pt x="20" y="118"/>
                  </a:lnTo>
                  <a:lnTo>
                    <a:pt x="24" y="116"/>
                  </a:lnTo>
                  <a:lnTo>
                    <a:pt x="27" y="114"/>
                  </a:lnTo>
                  <a:lnTo>
                    <a:pt x="27" y="102"/>
                  </a:lnTo>
                  <a:lnTo>
                    <a:pt x="27" y="92"/>
                  </a:lnTo>
                  <a:lnTo>
                    <a:pt x="27" y="83"/>
                  </a:lnTo>
                  <a:lnTo>
                    <a:pt x="29" y="75"/>
                  </a:lnTo>
                  <a:lnTo>
                    <a:pt x="31" y="68"/>
                  </a:lnTo>
                  <a:lnTo>
                    <a:pt x="32" y="61"/>
                  </a:lnTo>
                  <a:lnTo>
                    <a:pt x="36" y="53"/>
                  </a:lnTo>
                  <a:lnTo>
                    <a:pt x="39" y="46"/>
                  </a:lnTo>
                  <a:lnTo>
                    <a:pt x="38" y="48"/>
                  </a:lnTo>
                  <a:lnTo>
                    <a:pt x="34" y="49"/>
                  </a:lnTo>
                  <a:lnTo>
                    <a:pt x="32" y="51"/>
                  </a:lnTo>
                  <a:lnTo>
                    <a:pt x="29" y="54"/>
                  </a:lnTo>
                  <a:lnTo>
                    <a:pt x="25" y="56"/>
                  </a:lnTo>
                  <a:lnTo>
                    <a:pt x="24" y="59"/>
                  </a:lnTo>
                  <a:lnTo>
                    <a:pt x="20" y="63"/>
                  </a:lnTo>
                  <a:lnTo>
                    <a:pt x="19" y="66"/>
                  </a:lnTo>
                  <a:lnTo>
                    <a:pt x="19" y="70"/>
                  </a:lnTo>
                  <a:lnTo>
                    <a:pt x="19" y="75"/>
                  </a:lnTo>
                  <a:lnTo>
                    <a:pt x="20" y="80"/>
                  </a:lnTo>
                  <a:lnTo>
                    <a:pt x="22" y="85"/>
                  </a:lnTo>
                  <a:lnTo>
                    <a:pt x="24" y="90"/>
                  </a:lnTo>
                  <a:lnTo>
                    <a:pt x="25" y="95"/>
                  </a:lnTo>
                  <a:lnTo>
                    <a:pt x="27" y="100"/>
                  </a:lnTo>
                  <a:lnTo>
                    <a:pt x="27" y="104"/>
                  </a:lnTo>
                  <a:lnTo>
                    <a:pt x="24" y="106"/>
                  </a:lnTo>
                  <a:lnTo>
                    <a:pt x="20" y="109"/>
                  </a:lnTo>
                  <a:lnTo>
                    <a:pt x="15" y="111"/>
                  </a:lnTo>
                  <a:lnTo>
                    <a:pt x="12" y="114"/>
                  </a:lnTo>
                  <a:lnTo>
                    <a:pt x="8" y="118"/>
                  </a:lnTo>
                  <a:lnTo>
                    <a:pt x="5" y="119"/>
                  </a:lnTo>
                  <a:lnTo>
                    <a:pt x="3" y="121"/>
                  </a:lnTo>
                  <a:lnTo>
                    <a:pt x="0" y="123"/>
                  </a:lnTo>
                  <a:lnTo>
                    <a:pt x="0" y="123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6"/>
                  </a:lnTo>
                  <a:lnTo>
                    <a:pt x="0" y="126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0" y="130"/>
                  </a:lnTo>
                  <a:close/>
                  <a:moveTo>
                    <a:pt x="51" y="29"/>
                  </a:moveTo>
                  <a:lnTo>
                    <a:pt x="51" y="29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3" y="27"/>
                  </a:lnTo>
                  <a:lnTo>
                    <a:pt x="53" y="25"/>
                  </a:lnTo>
                  <a:lnTo>
                    <a:pt x="53" y="25"/>
                  </a:lnTo>
                  <a:lnTo>
                    <a:pt x="53" y="25"/>
                  </a:lnTo>
                  <a:lnTo>
                    <a:pt x="55" y="24"/>
                  </a:lnTo>
                  <a:lnTo>
                    <a:pt x="51" y="20"/>
                  </a:lnTo>
                  <a:lnTo>
                    <a:pt x="48" y="17"/>
                  </a:lnTo>
                  <a:lnTo>
                    <a:pt x="44" y="13"/>
                  </a:lnTo>
                  <a:lnTo>
                    <a:pt x="43" y="10"/>
                  </a:lnTo>
                  <a:lnTo>
                    <a:pt x="39" y="8"/>
                  </a:lnTo>
                  <a:lnTo>
                    <a:pt x="38" y="5"/>
                  </a:lnTo>
                  <a:lnTo>
                    <a:pt x="34" y="1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29" y="5"/>
                  </a:lnTo>
                  <a:lnTo>
                    <a:pt x="31" y="8"/>
                  </a:lnTo>
                  <a:lnTo>
                    <a:pt x="32" y="12"/>
                  </a:lnTo>
                  <a:lnTo>
                    <a:pt x="36" y="15"/>
                  </a:lnTo>
                  <a:lnTo>
                    <a:pt x="38" y="18"/>
                  </a:lnTo>
                  <a:lnTo>
                    <a:pt x="43" y="22"/>
                  </a:lnTo>
                  <a:lnTo>
                    <a:pt x="46" y="25"/>
                  </a:lnTo>
                  <a:lnTo>
                    <a:pt x="51" y="29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827360" y="2238480"/>
              <a:ext cx="37800" cy="81000"/>
            </a:xfrm>
            <a:custGeom>
              <a:avLst/>
              <a:gdLst/>
              <a:ahLst/>
              <a:rect l="l" t="t" r="r" b="b"/>
              <a:pathLst>
                <a:path w="55" h="130">
                  <a:moveTo>
                    <a:pt x="0" y="130"/>
                  </a:moveTo>
                  <a:lnTo>
                    <a:pt x="3" y="128"/>
                  </a:lnTo>
                  <a:lnTo>
                    <a:pt x="6" y="124"/>
                  </a:lnTo>
                  <a:lnTo>
                    <a:pt x="10" y="123"/>
                  </a:lnTo>
                  <a:lnTo>
                    <a:pt x="13" y="121"/>
                  </a:lnTo>
                  <a:lnTo>
                    <a:pt x="17" y="119"/>
                  </a:lnTo>
                  <a:lnTo>
                    <a:pt x="20" y="118"/>
                  </a:lnTo>
                  <a:lnTo>
                    <a:pt x="24" y="116"/>
                  </a:lnTo>
                  <a:lnTo>
                    <a:pt x="27" y="114"/>
                  </a:lnTo>
                  <a:lnTo>
                    <a:pt x="27" y="102"/>
                  </a:lnTo>
                  <a:lnTo>
                    <a:pt x="27" y="92"/>
                  </a:lnTo>
                  <a:lnTo>
                    <a:pt x="27" y="83"/>
                  </a:lnTo>
                  <a:lnTo>
                    <a:pt x="29" y="75"/>
                  </a:lnTo>
                  <a:lnTo>
                    <a:pt x="31" y="68"/>
                  </a:lnTo>
                  <a:lnTo>
                    <a:pt x="32" y="61"/>
                  </a:lnTo>
                  <a:lnTo>
                    <a:pt x="36" y="53"/>
                  </a:lnTo>
                  <a:lnTo>
                    <a:pt x="39" y="46"/>
                  </a:lnTo>
                  <a:lnTo>
                    <a:pt x="38" y="48"/>
                  </a:lnTo>
                  <a:lnTo>
                    <a:pt x="34" y="49"/>
                  </a:lnTo>
                  <a:lnTo>
                    <a:pt x="32" y="51"/>
                  </a:lnTo>
                  <a:lnTo>
                    <a:pt x="29" y="54"/>
                  </a:lnTo>
                  <a:lnTo>
                    <a:pt x="25" y="56"/>
                  </a:lnTo>
                  <a:lnTo>
                    <a:pt x="24" y="59"/>
                  </a:lnTo>
                  <a:lnTo>
                    <a:pt x="20" y="63"/>
                  </a:lnTo>
                  <a:lnTo>
                    <a:pt x="19" y="66"/>
                  </a:lnTo>
                  <a:lnTo>
                    <a:pt x="19" y="70"/>
                  </a:lnTo>
                  <a:lnTo>
                    <a:pt x="19" y="75"/>
                  </a:lnTo>
                  <a:lnTo>
                    <a:pt x="20" y="80"/>
                  </a:lnTo>
                  <a:lnTo>
                    <a:pt x="22" y="85"/>
                  </a:lnTo>
                  <a:lnTo>
                    <a:pt x="24" y="90"/>
                  </a:lnTo>
                  <a:lnTo>
                    <a:pt x="25" y="95"/>
                  </a:lnTo>
                  <a:lnTo>
                    <a:pt x="27" y="100"/>
                  </a:lnTo>
                  <a:lnTo>
                    <a:pt x="27" y="104"/>
                  </a:lnTo>
                  <a:lnTo>
                    <a:pt x="24" y="106"/>
                  </a:lnTo>
                  <a:lnTo>
                    <a:pt x="20" y="109"/>
                  </a:lnTo>
                  <a:lnTo>
                    <a:pt x="15" y="111"/>
                  </a:lnTo>
                  <a:lnTo>
                    <a:pt x="12" y="114"/>
                  </a:lnTo>
                  <a:lnTo>
                    <a:pt x="8" y="118"/>
                  </a:lnTo>
                  <a:lnTo>
                    <a:pt x="5" y="119"/>
                  </a:lnTo>
                  <a:lnTo>
                    <a:pt x="3" y="121"/>
                  </a:lnTo>
                  <a:lnTo>
                    <a:pt x="0" y="123"/>
                  </a:lnTo>
                  <a:lnTo>
                    <a:pt x="0" y="123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6"/>
                  </a:lnTo>
                  <a:lnTo>
                    <a:pt x="0" y="126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0" y="130"/>
                  </a:lnTo>
                  <a:close/>
                  <a:moveTo>
                    <a:pt x="51" y="29"/>
                  </a:moveTo>
                  <a:lnTo>
                    <a:pt x="51" y="29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3" y="27"/>
                  </a:lnTo>
                  <a:lnTo>
                    <a:pt x="53" y="25"/>
                  </a:lnTo>
                  <a:lnTo>
                    <a:pt x="53" y="25"/>
                  </a:lnTo>
                  <a:lnTo>
                    <a:pt x="53" y="25"/>
                  </a:lnTo>
                  <a:lnTo>
                    <a:pt x="55" y="24"/>
                  </a:lnTo>
                  <a:lnTo>
                    <a:pt x="51" y="20"/>
                  </a:lnTo>
                  <a:lnTo>
                    <a:pt x="48" y="17"/>
                  </a:lnTo>
                  <a:lnTo>
                    <a:pt x="44" y="13"/>
                  </a:lnTo>
                  <a:lnTo>
                    <a:pt x="43" y="10"/>
                  </a:lnTo>
                  <a:lnTo>
                    <a:pt x="39" y="8"/>
                  </a:lnTo>
                  <a:lnTo>
                    <a:pt x="38" y="5"/>
                  </a:lnTo>
                  <a:lnTo>
                    <a:pt x="34" y="1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29" y="5"/>
                  </a:lnTo>
                  <a:lnTo>
                    <a:pt x="31" y="8"/>
                  </a:lnTo>
                  <a:lnTo>
                    <a:pt x="32" y="12"/>
                  </a:lnTo>
                  <a:lnTo>
                    <a:pt x="36" y="15"/>
                  </a:lnTo>
                  <a:lnTo>
                    <a:pt x="38" y="18"/>
                  </a:lnTo>
                  <a:lnTo>
                    <a:pt x="43" y="22"/>
                  </a:lnTo>
                  <a:lnTo>
                    <a:pt x="46" y="25"/>
                  </a:lnTo>
                  <a:lnTo>
                    <a:pt x="51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839960" y="2284560"/>
              <a:ext cx="4680" cy="12600"/>
            </a:xfrm>
            <a:custGeom>
              <a:avLst/>
              <a:gdLst/>
              <a:ahLst/>
              <a:rect l="l" t="t" r="r" b="b"/>
              <a:pathLst>
                <a:path w="8" h="20">
                  <a:moveTo>
                    <a:pt x="0" y="0"/>
                  </a:moveTo>
                  <a:lnTo>
                    <a:pt x="1" y="0"/>
                  </a:lnTo>
                  <a:lnTo>
                    <a:pt x="3" y="2"/>
                  </a:lnTo>
                  <a:lnTo>
                    <a:pt x="5" y="3"/>
                  </a:lnTo>
                  <a:lnTo>
                    <a:pt x="5" y="5"/>
                  </a:lnTo>
                  <a:lnTo>
                    <a:pt x="6" y="7"/>
                  </a:lnTo>
                  <a:lnTo>
                    <a:pt x="8" y="7"/>
                  </a:lnTo>
                  <a:lnTo>
                    <a:pt x="8" y="8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8" y="12"/>
                  </a:lnTo>
                  <a:lnTo>
                    <a:pt x="8" y="14"/>
                  </a:lnTo>
                  <a:lnTo>
                    <a:pt x="8" y="14"/>
                  </a:lnTo>
                  <a:lnTo>
                    <a:pt x="8" y="15"/>
                  </a:lnTo>
                  <a:lnTo>
                    <a:pt x="8" y="17"/>
                  </a:lnTo>
                  <a:lnTo>
                    <a:pt x="8" y="17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8" y="19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20"/>
                  </a:lnTo>
                  <a:lnTo>
                    <a:pt x="6" y="19"/>
                  </a:lnTo>
                  <a:lnTo>
                    <a:pt x="5" y="15"/>
                  </a:lnTo>
                  <a:lnTo>
                    <a:pt x="5" y="14"/>
                  </a:lnTo>
                  <a:lnTo>
                    <a:pt x="3" y="10"/>
                  </a:lnTo>
                  <a:lnTo>
                    <a:pt x="3" y="7"/>
                  </a:lnTo>
                  <a:lnTo>
                    <a:pt x="1" y="5"/>
                  </a:lnTo>
                  <a:lnTo>
                    <a:pt x="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a6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827360" y="2238480"/>
              <a:ext cx="37800" cy="81000"/>
            </a:xfrm>
            <a:custGeom>
              <a:avLst/>
              <a:gdLst/>
              <a:ahLst/>
              <a:rect l="l" t="t" r="r" b="b"/>
              <a:pathLst>
                <a:path w="55" h="130">
                  <a:moveTo>
                    <a:pt x="0" y="128"/>
                  </a:moveTo>
                  <a:lnTo>
                    <a:pt x="0" y="128"/>
                  </a:lnTo>
                  <a:lnTo>
                    <a:pt x="0" y="126"/>
                  </a:lnTo>
                  <a:lnTo>
                    <a:pt x="1" y="126"/>
                  </a:lnTo>
                  <a:lnTo>
                    <a:pt x="1" y="126"/>
                  </a:lnTo>
                  <a:lnTo>
                    <a:pt x="1" y="124"/>
                  </a:lnTo>
                  <a:lnTo>
                    <a:pt x="1" y="124"/>
                  </a:lnTo>
                  <a:lnTo>
                    <a:pt x="3" y="124"/>
                  </a:lnTo>
                  <a:lnTo>
                    <a:pt x="3" y="124"/>
                  </a:lnTo>
                  <a:lnTo>
                    <a:pt x="6" y="121"/>
                  </a:lnTo>
                  <a:lnTo>
                    <a:pt x="8" y="119"/>
                  </a:lnTo>
                  <a:lnTo>
                    <a:pt x="12" y="118"/>
                  </a:lnTo>
                  <a:lnTo>
                    <a:pt x="15" y="114"/>
                  </a:lnTo>
                  <a:lnTo>
                    <a:pt x="19" y="112"/>
                  </a:lnTo>
                  <a:lnTo>
                    <a:pt x="22" y="111"/>
                  </a:lnTo>
                  <a:lnTo>
                    <a:pt x="24" y="107"/>
                  </a:lnTo>
                  <a:lnTo>
                    <a:pt x="27" y="106"/>
                  </a:lnTo>
                  <a:lnTo>
                    <a:pt x="27" y="106"/>
                  </a:lnTo>
                  <a:lnTo>
                    <a:pt x="27" y="107"/>
                  </a:lnTo>
                  <a:lnTo>
                    <a:pt x="27" y="109"/>
                  </a:lnTo>
                  <a:lnTo>
                    <a:pt x="27" y="109"/>
                  </a:lnTo>
                  <a:lnTo>
                    <a:pt x="27" y="111"/>
                  </a:lnTo>
                  <a:lnTo>
                    <a:pt x="27" y="111"/>
                  </a:lnTo>
                  <a:lnTo>
                    <a:pt x="27" y="112"/>
                  </a:lnTo>
                  <a:lnTo>
                    <a:pt x="27" y="114"/>
                  </a:lnTo>
                  <a:lnTo>
                    <a:pt x="24" y="116"/>
                  </a:lnTo>
                  <a:lnTo>
                    <a:pt x="20" y="118"/>
                  </a:lnTo>
                  <a:lnTo>
                    <a:pt x="17" y="119"/>
                  </a:lnTo>
                  <a:lnTo>
                    <a:pt x="13" y="121"/>
                  </a:lnTo>
                  <a:lnTo>
                    <a:pt x="10" y="123"/>
                  </a:lnTo>
                  <a:lnTo>
                    <a:pt x="6" y="124"/>
                  </a:lnTo>
                  <a:lnTo>
                    <a:pt x="3" y="128"/>
                  </a:lnTo>
                  <a:lnTo>
                    <a:pt x="0" y="130"/>
                  </a:lnTo>
                  <a:lnTo>
                    <a:pt x="0" y="130"/>
                  </a:lnTo>
                  <a:lnTo>
                    <a:pt x="0" y="130"/>
                  </a:lnTo>
                  <a:lnTo>
                    <a:pt x="0" y="130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0" y="128"/>
                  </a:lnTo>
                  <a:close/>
                  <a:moveTo>
                    <a:pt x="31" y="71"/>
                  </a:moveTo>
                  <a:lnTo>
                    <a:pt x="29" y="70"/>
                  </a:lnTo>
                  <a:lnTo>
                    <a:pt x="27" y="68"/>
                  </a:lnTo>
                  <a:lnTo>
                    <a:pt x="27" y="66"/>
                  </a:lnTo>
                  <a:lnTo>
                    <a:pt x="25" y="65"/>
                  </a:lnTo>
                  <a:lnTo>
                    <a:pt x="25" y="63"/>
                  </a:lnTo>
                  <a:lnTo>
                    <a:pt x="25" y="61"/>
                  </a:lnTo>
                  <a:lnTo>
                    <a:pt x="25" y="59"/>
                  </a:lnTo>
                  <a:lnTo>
                    <a:pt x="25" y="58"/>
                  </a:lnTo>
                  <a:lnTo>
                    <a:pt x="27" y="56"/>
                  </a:lnTo>
                  <a:lnTo>
                    <a:pt x="29" y="54"/>
                  </a:lnTo>
                  <a:lnTo>
                    <a:pt x="31" y="53"/>
                  </a:lnTo>
                  <a:lnTo>
                    <a:pt x="32" y="51"/>
                  </a:lnTo>
                  <a:lnTo>
                    <a:pt x="34" y="49"/>
                  </a:lnTo>
                  <a:lnTo>
                    <a:pt x="36" y="48"/>
                  </a:lnTo>
                  <a:lnTo>
                    <a:pt x="38" y="48"/>
                  </a:lnTo>
                  <a:lnTo>
                    <a:pt x="39" y="46"/>
                  </a:lnTo>
                  <a:lnTo>
                    <a:pt x="38" y="49"/>
                  </a:lnTo>
                  <a:lnTo>
                    <a:pt x="36" y="53"/>
                  </a:lnTo>
                  <a:lnTo>
                    <a:pt x="36" y="56"/>
                  </a:lnTo>
                  <a:lnTo>
                    <a:pt x="34" y="58"/>
                  </a:lnTo>
                  <a:lnTo>
                    <a:pt x="32" y="61"/>
                  </a:lnTo>
                  <a:lnTo>
                    <a:pt x="32" y="65"/>
                  </a:lnTo>
                  <a:lnTo>
                    <a:pt x="31" y="68"/>
                  </a:lnTo>
                  <a:lnTo>
                    <a:pt x="31" y="71"/>
                  </a:lnTo>
                  <a:close/>
                  <a:moveTo>
                    <a:pt x="53" y="25"/>
                  </a:moveTo>
                  <a:lnTo>
                    <a:pt x="53" y="25"/>
                  </a:lnTo>
                  <a:lnTo>
                    <a:pt x="53" y="25"/>
                  </a:lnTo>
                  <a:lnTo>
                    <a:pt x="53" y="25"/>
                  </a:lnTo>
                  <a:lnTo>
                    <a:pt x="53" y="24"/>
                  </a:lnTo>
                  <a:lnTo>
                    <a:pt x="53" y="24"/>
                  </a:lnTo>
                  <a:lnTo>
                    <a:pt x="53" y="24"/>
                  </a:lnTo>
                  <a:lnTo>
                    <a:pt x="53" y="24"/>
                  </a:lnTo>
                  <a:lnTo>
                    <a:pt x="53" y="24"/>
                  </a:lnTo>
                  <a:lnTo>
                    <a:pt x="53" y="24"/>
                  </a:lnTo>
                  <a:lnTo>
                    <a:pt x="53" y="24"/>
                  </a:lnTo>
                  <a:lnTo>
                    <a:pt x="53" y="24"/>
                  </a:lnTo>
                  <a:lnTo>
                    <a:pt x="53" y="24"/>
                  </a:lnTo>
                  <a:lnTo>
                    <a:pt x="53" y="24"/>
                  </a:lnTo>
                  <a:lnTo>
                    <a:pt x="53" y="24"/>
                  </a:lnTo>
                  <a:lnTo>
                    <a:pt x="53" y="24"/>
                  </a:lnTo>
                  <a:lnTo>
                    <a:pt x="55" y="24"/>
                  </a:lnTo>
                  <a:lnTo>
                    <a:pt x="53" y="24"/>
                  </a:lnTo>
                  <a:lnTo>
                    <a:pt x="53" y="24"/>
                  </a:lnTo>
                  <a:lnTo>
                    <a:pt x="53" y="24"/>
                  </a:lnTo>
                  <a:lnTo>
                    <a:pt x="53" y="25"/>
                  </a:lnTo>
                  <a:lnTo>
                    <a:pt x="53" y="25"/>
                  </a:lnTo>
                  <a:lnTo>
                    <a:pt x="53" y="25"/>
                  </a:lnTo>
                  <a:lnTo>
                    <a:pt x="53" y="25"/>
                  </a:lnTo>
                  <a:lnTo>
                    <a:pt x="53" y="25"/>
                  </a:lnTo>
                  <a:close/>
                  <a:moveTo>
                    <a:pt x="43" y="10"/>
                  </a:moveTo>
                  <a:lnTo>
                    <a:pt x="41" y="10"/>
                  </a:lnTo>
                  <a:lnTo>
                    <a:pt x="39" y="8"/>
                  </a:lnTo>
                  <a:lnTo>
                    <a:pt x="38" y="7"/>
                  </a:lnTo>
                  <a:lnTo>
                    <a:pt x="36" y="7"/>
                  </a:lnTo>
                  <a:lnTo>
                    <a:pt x="34" y="5"/>
                  </a:lnTo>
                  <a:lnTo>
                    <a:pt x="32" y="3"/>
                  </a:lnTo>
                  <a:lnTo>
                    <a:pt x="32" y="1"/>
                  </a:lnTo>
                  <a:lnTo>
                    <a:pt x="31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4" y="1"/>
                  </a:lnTo>
                  <a:lnTo>
                    <a:pt x="34" y="1"/>
                  </a:lnTo>
                  <a:lnTo>
                    <a:pt x="36" y="3"/>
                  </a:lnTo>
                  <a:lnTo>
                    <a:pt x="38" y="5"/>
                  </a:lnTo>
                  <a:lnTo>
                    <a:pt x="38" y="7"/>
                  </a:lnTo>
                  <a:lnTo>
                    <a:pt x="39" y="8"/>
                  </a:lnTo>
                  <a:lnTo>
                    <a:pt x="41" y="8"/>
                  </a:lnTo>
                  <a:lnTo>
                    <a:pt x="43" y="10"/>
                  </a:lnTo>
                  <a:close/>
                </a:path>
              </a:pathLst>
            </a:custGeom>
            <a:solidFill>
              <a:srgbClr val="734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827360" y="2238480"/>
              <a:ext cx="34920" cy="81000"/>
            </a:xfrm>
            <a:custGeom>
              <a:avLst/>
              <a:gdLst/>
              <a:ahLst/>
              <a:rect l="l" t="t" r="r" b="b"/>
              <a:pathLst>
                <a:path w="51" h="130">
                  <a:moveTo>
                    <a:pt x="0" y="130"/>
                  </a:moveTo>
                  <a:lnTo>
                    <a:pt x="3" y="128"/>
                  </a:lnTo>
                  <a:lnTo>
                    <a:pt x="6" y="124"/>
                  </a:lnTo>
                  <a:lnTo>
                    <a:pt x="10" y="123"/>
                  </a:lnTo>
                  <a:lnTo>
                    <a:pt x="13" y="121"/>
                  </a:lnTo>
                  <a:lnTo>
                    <a:pt x="17" y="119"/>
                  </a:lnTo>
                  <a:lnTo>
                    <a:pt x="20" y="118"/>
                  </a:lnTo>
                  <a:lnTo>
                    <a:pt x="24" y="116"/>
                  </a:lnTo>
                  <a:lnTo>
                    <a:pt x="27" y="114"/>
                  </a:lnTo>
                  <a:lnTo>
                    <a:pt x="27" y="102"/>
                  </a:lnTo>
                  <a:lnTo>
                    <a:pt x="27" y="92"/>
                  </a:lnTo>
                  <a:lnTo>
                    <a:pt x="27" y="83"/>
                  </a:lnTo>
                  <a:lnTo>
                    <a:pt x="29" y="75"/>
                  </a:lnTo>
                  <a:lnTo>
                    <a:pt x="31" y="68"/>
                  </a:lnTo>
                  <a:lnTo>
                    <a:pt x="32" y="61"/>
                  </a:lnTo>
                  <a:lnTo>
                    <a:pt x="36" y="53"/>
                  </a:lnTo>
                  <a:lnTo>
                    <a:pt x="39" y="46"/>
                  </a:lnTo>
                  <a:lnTo>
                    <a:pt x="38" y="48"/>
                  </a:lnTo>
                  <a:lnTo>
                    <a:pt x="36" y="49"/>
                  </a:lnTo>
                  <a:lnTo>
                    <a:pt x="32" y="51"/>
                  </a:lnTo>
                  <a:lnTo>
                    <a:pt x="31" y="53"/>
                  </a:lnTo>
                  <a:lnTo>
                    <a:pt x="29" y="54"/>
                  </a:lnTo>
                  <a:lnTo>
                    <a:pt x="27" y="56"/>
                  </a:lnTo>
                  <a:lnTo>
                    <a:pt x="24" y="59"/>
                  </a:lnTo>
                  <a:lnTo>
                    <a:pt x="22" y="61"/>
                  </a:lnTo>
                  <a:lnTo>
                    <a:pt x="22" y="65"/>
                  </a:lnTo>
                  <a:lnTo>
                    <a:pt x="22" y="68"/>
                  </a:lnTo>
                  <a:lnTo>
                    <a:pt x="24" y="70"/>
                  </a:lnTo>
                  <a:lnTo>
                    <a:pt x="24" y="73"/>
                  </a:lnTo>
                  <a:lnTo>
                    <a:pt x="24" y="75"/>
                  </a:lnTo>
                  <a:lnTo>
                    <a:pt x="22" y="78"/>
                  </a:lnTo>
                  <a:lnTo>
                    <a:pt x="22" y="80"/>
                  </a:lnTo>
                  <a:lnTo>
                    <a:pt x="22" y="83"/>
                  </a:lnTo>
                  <a:lnTo>
                    <a:pt x="22" y="87"/>
                  </a:lnTo>
                  <a:lnTo>
                    <a:pt x="24" y="89"/>
                  </a:lnTo>
                  <a:lnTo>
                    <a:pt x="24" y="92"/>
                  </a:lnTo>
                  <a:lnTo>
                    <a:pt x="25" y="94"/>
                  </a:lnTo>
                  <a:lnTo>
                    <a:pt x="25" y="97"/>
                  </a:lnTo>
                  <a:lnTo>
                    <a:pt x="27" y="99"/>
                  </a:lnTo>
                  <a:lnTo>
                    <a:pt x="27" y="102"/>
                  </a:lnTo>
                  <a:lnTo>
                    <a:pt x="27" y="104"/>
                  </a:lnTo>
                  <a:lnTo>
                    <a:pt x="24" y="106"/>
                  </a:lnTo>
                  <a:lnTo>
                    <a:pt x="20" y="109"/>
                  </a:lnTo>
                  <a:lnTo>
                    <a:pt x="17" y="111"/>
                  </a:lnTo>
                  <a:lnTo>
                    <a:pt x="13" y="114"/>
                  </a:lnTo>
                  <a:lnTo>
                    <a:pt x="10" y="116"/>
                  </a:lnTo>
                  <a:lnTo>
                    <a:pt x="6" y="119"/>
                  </a:lnTo>
                  <a:lnTo>
                    <a:pt x="3" y="121"/>
                  </a:lnTo>
                  <a:lnTo>
                    <a:pt x="1" y="123"/>
                  </a:lnTo>
                  <a:lnTo>
                    <a:pt x="1" y="123"/>
                  </a:lnTo>
                  <a:lnTo>
                    <a:pt x="1" y="123"/>
                  </a:lnTo>
                  <a:lnTo>
                    <a:pt x="1" y="123"/>
                  </a:lnTo>
                  <a:lnTo>
                    <a:pt x="1" y="123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6"/>
                  </a:lnTo>
                  <a:lnTo>
                    <a:pt x="0" y="126"/>
                  </a:lnTo>
                  <a:lnTo>
                    <a:pt x="0" y="126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0" y="130"/>
                  </a:lnTo>
                  <a:lnTo>
                    <a:pt x="0" y="130"/>
                  </a:lnTo>
                  <a:close/>
                  <a:moveTo>
                    <a:pt x="51" y="22"/>
                  </a:moveTo>
                  <a:lnTo>
                    <a:pt x="50" y="18"/>
                  </a:lnTo>
                  <a:lnTo>
                    <a:pt x="46" y="15"/>
                  </a:lnTo>
                  <a:lnTo>
                    <a:pt x="44" y="12"/>
                  </a:lnTo>
                  <a:lnTo>
                    <a:pt x="41" y="10"/>
                  </a:lnTo>
                  <a:lnTo>
                    <a:pt x="39" y="7"/>
                  </a:lnTo>
                  <a:lnTo>
                    <a:pt x="38" y="5"/>
                  </a:lnTo>
                  <a:lnTo>
                    <a:pt x="34" y="1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9" y="1"/>
                  </a:lnTo>
                  <a:lnTo>
                    <a:pt x="29" y="3"/>
                  </a:lnTo>
                  <a:lnTo>
                    <a:pt x="29" y="3"/>
                  </a:lnTo>
                  <a:lnTo>
                    <a:pt x="29" y="3"/>
                  </a:lnTo>
                  <a:lnTo>
                    <a:pt x="29" y="3"/>
                  </a:lnTo>
                  <a:lnTo>
                    <a:pt x="29" y="5"/>
                  </a:lnTo>
                  <a:lnTo>
                    <a:pt x="32" y="7"/>
                  </a:lnTo>
                  <a:lnTo>
                    <a:pt x="34" y="10"/>
                  </a:lnTo>
                  <a:lnTo>
                    <a:pt x="38" y="12"/>
                  </a:lnTo>
                  <a:lnTo>
                    <a:pt x="41" y="13"/>
                  </a:lnTo>
                  <a:lnTo>
                    <a:pt x="43" y="15"/>
                  </a:lnTo>
                  <a:lnTo>
                    <a:pt x="46" y="17"/>
                  </a:lnTo>
                  <a:lnTo>
                    <a:pt x="50" y="18"/>
                  </a:lnTo>
                  <a:lnTo>
                    <a:pt x="51" y="22"/>
                  </a:lnTo>
                  <a:close/>
                </a:path>
              </a:pathLst>
            </a:custGeom>
            <a:solidFill>
              <a:srgbClr val="c1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827360" y="2238480"/>
              <a:ext cx="34920" cy="81000"/>
            </a:xfrm>
            <a:custGeom>
              <a:avLst/>
              <a:gdLst/>
              <a:ahLst/>
              <a:rect l="l" t="t" r="r" b="b"/>
              <a:pathLst>
                <a:path w="51" h="130">
                  <a:moveTo>
                    <a:pt x="0" y="130"/>
                  </a:moveTo>
                  <a:lnTo>
                    <a:pt x="3" y="128"/>
                  </a:lnTo>
                  <a:lnTo>
                    <a:pt x="6" y="124"/>
                  </a:lnTo>
                  <a:lnTo>
                    <a:pt x="10" y="123"/>
                  </a:lnTo>
                  <a:lnTo>
                    <a:pt x="13" y="121"/>
                  </a:lnTo>
                  <a:lnTo>
                    <a:pt x="17" y="119"/>
                  </a:lnTo>
                  <a:lnTo>
                    <a:pt x="20" y="118"/>
                  </a:lnTo>
                  <a:lnTo>
                    <a:pt x="24" y="116"/>
                  </a:lnTo>
                  <a:lnTo>
                    <a:pt x="27" y="114"/>
                  </a:lnTo>
                  <a:lnTo>
                    <a:pt x="27" y="102"/>
                  </a:lnTo>
                  <a:lnTo>
                    <a:pt x="27" y="92"/>
                  </a:lnTo>
                  <a:lnTo>
                    <a:pt x="27" y="83"/>
                  </a:lnTo>
                  <a:lnTo>
                    <a:pt x="29" y="75"/>
                  </a:lnTo>
                  <a:lnTo>
                    <a:pt x="31" y="68"/>
                  </a:lnTo>
                  <a:lnTo>
                    <a:pt x="32" y="61"/>
                  </a:lnTo>
                  <a:lnTo>
                    <a:pt x="36" y="53"/>
                  </a:lnTo>
                  <a:lnTo>
                    <a:pt x="39" y="46"/>
                  </a:lnTo>
                  <a:lnTo>
                    <a:pt x="38" y="48"/>
                  </a:lnTo>
                  <a:lnTo>
                    <a:pt x="36" y="49"/>
                  </a:lnTo>
                  <a:lnTo>
                    <a:pt x="32" y="51"/>
                  </a:lnTo>
                  <a:lnTo>
                    <a:pt x="31" y="53"/>
                  </a:lnTo>
                  <a:lnTo>
                    <a:pt x="29" y="54"/>
                  </a:lnTo>
                  <a:lnTo>
                    <a:pt x="27" y="56"/>
                  </a:lnTo>
                  <a:lnTo>
                    <a:pt x="24" y="59"/>
                  </a:lnTo>
                  <a:lnTo>
                    <a:pt x="22" y="61"/>
                  </a:lnTo>
                  <a:lnTo>
                    <a:pt x="22" y="65"/>
                  </a:lnTo>
                  <a:lnTo>
                    <a:pt x="22" y="68"/>
                  </a:lnTo>
                  <a:lnTo>
                    <a:pt x="24" y="70"/>
                  </a:lnTo>
                  <a:lnTo>
                    <a:pt x="24" y="73"/>
                  </a:lnTo>
                  <a:lnTo>
                    <a:pt x="24" y="75"/>
                  </a:lnTo>
                  <a:lnTo>
                    <a:pt x="22" y="78"/>
                  </a:lnTo>
                  <a:lnTo>
                    <a:pt x="22" y="80"/>
                  </a:lnTo>
                  <a:lnTo>
                    <a:pt x="22" y="83"/>
                  </a:lnTo>
                  <a:lnTo>
                    <a:pt x="22" y="87"/>
                  </a:lnTo>
                  <a:lnTo>
                    <a:pt x="24" y="89"/>
                  </a:lnTo>
                  <a:lnTo>
                    <a:pt x="24" y="92"/>
                  </a:lnTo>
                  <a:lnTo>
                    <a:pt x="25" y="94"/>
                  </a:lnTo>
                  <a:lnTo>
                    <a:pt x="25" y="97"/>
                  </a:lnTo>
                  <a:lnTo>
                    <a:pt x="27" y="99"/>
                  </a:lnTo>
                  <a:lnTo>
                    <a:pt x="27" y="102"/>
                  </a:lnTo>
                  <a:lnTo>
                    <a:pt x="27" y="104"/>
                  </a:lnTo>
                  <a:lnTo>
                    <a:pt x="24" y="106"/>
                  </a:lnTo>
                  <a:lnTo>
                    <a:pt x="20" y="109"/>
                  </a:lnTo>
                  <a:lnTo>
                    <a:pt x="17" y="111"/>
                  </a:lnTo>
                  <a:lnTo>
                    <a:pt x="13" y="114"/>
                  </a:lnTo>
                  <a:lnTo>
                    <a:pt x="10" y="116"/>
                  </a:lnTo>
                  <a:lnTo>
                    <a:pt x="6" y="119"/>
                  </a:lnTo>
                  <a:lnTo>
                    <a:pt x="3" y="121"/>
                  </a:lnTo>
                  <a:lnTo>
                    <a:pt x="1" y="123"/>
                  </a:lnTo>
                  <a:lnTo>
                    <a:pt x="1" y="123"/>
                  </a:lnTo>
                  <a:lnTo>
                    <a:pt x="1" y="123"/>
                  </a:lnTo>
                  <a:lnTo>
                    <a:pt x="1" y="123"/>
                  </a:lnTo>
                  <a:lnTo>
                    <a:pt x="1" y="123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6"/>
                  </a:lnTo>
                  <a:lnTo>
                    <a:pt x="0" y="126"/>
                  </a:lnTo>
                  <a:lnTo>
                    <a:pt x="0" y="126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0" y="130"/>
                  </a:lnTo>
                  <a:lnTo>
                    <a:pt x="0" y="130"/>
                  </a:lnTo>
                  <a:close/>
                  <a:moveTo>
                    <a:pt x="51" y="22"/>
                  </a:moveTo>
                  <a:lnTo>
                    <a:pt x="50" y="18"/>
                  </a:lnTo>
                  <a:lnTo>
                    <a:pt x="46" y="15"/>
                  </a:lnTo>
                  <a:lnTo>
                    <a:pt x="44" y="12"/>
                  </a:lnTo>
                  <a:lnTo>
                    <a:pt x="41" y="10"/>
                  </a:lnTo>
                  <a:lnTo>
                    <a:pt x="39" y="7"/>
                  </a:lnTo>
                  <a:lnTo>
                    <a:pt x="38" y="5"/>
                  </a:lnTo>
                  <a:lnTo>
                    <a:pt x="34" y="1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9" y="1"/>
                  </a:lnTo>
                  <a:lnTo>
                    <a:pt x="29" y="3"/>
                  </a:lnTo>
                  <a:lnTo>
                    <a:pt x="29" y="3"/>
                  </a:lnTo>
                  <a:lnTo>
                    <a:pt x="29" y="3"/>
                  </a:lnTo>
                  <a:lnTo>
                    <a:pt x="29" y="3"/>
                  </a:lnTo>
                  <a:lnTo>
                    <a:pt x="29" y="5"/>
                  </a:lnTo>
                  <a:lnTo>
                    <a:pt x="32" y="7"/>
                  </a:lnTo>
                  <a:lnTo>
                    <a:pt x="34" y="10"/>
                  </a:lnTo>
                  <a:lnTo>
                    <a:pt x="38" y="12"/>
                  </a:lnTo>
                  <a:lnTo>
                    <a:pt x="41" y="13"/>
                  </a:lnTo>
                  <a:lnTo>
                    <a:pt x="43" y="15"/>
                  </a:lnTo>
                  <a:lnTo>
                    <a:pt x="46" y="17"/>
                  </a:lnTo>
                  <a:lnTo>
                    <a:pt x="50" y="18"/>
                  </a:lnTo>
                  <a:lnTo>
                    <a:pt x="51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841400" y="2286000"/>
              <a:ext cx="3240" cy="11160"/>
            </a:xfrm>
            <a:custGeom>
              <a:avLst/>
              <a:gdLst/>
              <a:ahLst/>
              <a:rect l="l" t="t" r="r" b="b"/>
              <a:pathLst>
                <a:path w="5" h="17">
                  <a:moveTo>
                    <a:pt x="0" y="0"/>
                  </a:moveTo>
                  <a:lnTo>
                    <a:pt x="2" y="0"/>
                  </a:lnTo>
                  <a:lnTo>
                    <a:pt x="2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5" y="5"/>
                  </a:lnTo>
                  <a:lnTo>
                    <a:pt x="5" y="5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12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3" y="17"/>
                  </a:lnTo>
                  <a:lnTo>
                    <a:pt x="3" y="17"/>
                  </a:lnTo>
                  <a:lnTo>
                    <a:pt x="3" y="17"/>
                  </a:lnTo>
                  <a:lnTo>
                    <a:pt x="3" y="17"/>
                  </a:lnTo>
                  <a:lnTo>
                    <a:pt x="3" y="16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8c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827360" y="2238480"/>
              <a:ext cx="28440" cy="81000"/>
            </a:xfrm>
            <a:custGeom>
              <a:avLst/>
              <a:gdLst/>
              <a:ahLst/>
              <a:rect l="l" t="t" r="r" b="b"/>
              <a:pathLst>
                <a:path w="43" h="130">
                  <a:moveTo>
                    <a:pt x="0" y="128"/>
                  </a:moveTo>
                  <a:lnTo>
                    <a:pt x="0" y="128"/>
                  </a:lnTo>
                  <a:lnTo>
                    <a:pt x="0" y="126"/>
                  </a:lnTo>
                  <a:lnTo>
                    <a:pt x="1" y="126"/>
                  </a:lnTo>
                  <a:lnTo>
                    <a:pt x="1" y="126"/>
                  </a:lnTo>
                  <a:lnTo>
                    <a:pt x="1" y="124"/>
                  </a:lnTo>
                  <a:lnTo>
                    <a:pt x="1" y="124"/>
                  </a:lnTo>
                  <a:lnTo>
                    <a:pt x="3" y="124"/>
                  </a:lnTo>
                  <a:lnTo>
                    <a:pt x="3" y="124"/>
                  </a:lnTo>
                  <a:lnTo>
                    <a:pt x="6" y="121"/>
                  </a:lnTo>
                  <a:lnTo>
                    <a:pt x="8" y="119"/>
                  </a:lnTo>
                  <a:lnTo>
                    <a:pt x="12" y="118"/>
                  </a:lnTo>
                  <a:lnTo>
                    <a:pt x="15" y="114"/>
                  </a:lnTo>
                  <a:lnTo>
                    <a:pt x="19" y="112"/>
                  </a:lnTo>
                  <a:lnTo>
                    <a:pt x="22" y="111"/>
                  </a:lnTo>
                  <a:lnTo>
                    <a:pt x="24" y="107"/>
                  </a:lnTo>
                  <a:lnTo>
                    <a:pt x="27" y="106"/>
                  </a:lnTo>
                  <a:lnTo>
                    <a:pt x="27" y="106"/>
                  </a:lnTo>
                  <a:lnTo>
                    <a:pt x="27" y="107"/>
                  </a:lnTo>
                  <a:lnTo>
                    <a:pt x="27" y="109"/>
                  </a:lnTo>
                  <a:lnTo>
                    <a:pt x="27" y="109"/>
                  </a:lnTo>
                  <a:lnTo>
                    <a:pt x="27" y="111"/>
                  </a:lnTo>
                  <a:lnTo>
                    <a:pt x="27" y="111"/>
                  </a:lnTo>
                  <a:lnTo>
                    <a:pt x="27" y="112"/>
                  </a:lnTo>
                  <a:lnTo>
                    <a:pt x="27" y="114"/>
                  </a:lnTo>
                  <a:lnTo>
                    <a:pt x="24" y="116"/>
                  </a:lnTo>
                  <a:lnTo>
                    <a:pt x="20" y="118"/>
                  </a:lnTo>
                  <a:lnTo>
                    <a:pt x="17" y="119"/>
                  </a:lnTo>
                  <a:lnTo>
                    <a:pt x="13" y="121"/>
                  </a:lnTo>
                  <a:lnTo>
                    <a:pt x="10" y="123"/>
                  </a:lnTo>
                  <a:lnTo>
                    <a:pt x="6" y="124"/>
                  </a:lnTo>
                  <a:lnTo>
                    <a:pt x="3" y="128"/>
                  </a:lnTo>
                  <a:lnTo>
                    <a:pt x="0" y="130"/>
                  </a:lnTo>
                  <a:lnTo>
                    <a:pt x="0" y="130"/>
                  </a:lnTo>
                  <a:lnTo>
                    <a:pt x="0" y="130"/>
                  </a:lnTo>
                  <a:lnTo>
                    <a:pt x="0" y="130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0" y="128"/>
                  </a:lnTo>
                  <a:lnTo>
                    <a:pt x="0" y="128"/>
                  </a:lnTo>
                  <a:close/>
                  <a:moveTo>
                    <a:pt x="31" y="71"/>
                  </a:moveTo>
                  <a:lnTo>
                    <a:pt x="29" y="70"/>
                  </a:lnTo>
                  <a:lnTo>
                    <a:pt x="27" y="68"/>
                  </a:lnTo>
                  <a:lnTo>
                    <a:pt x="27" y="66"/>
                  </a:lnTo>
                  <a:lnTo>
                    <a:pt x="25" y="65"/>
                  </a:lnTo>
                  <a:lnTo>
                    <a:pt x="25" y="63"/>
                  </a:lnTo>
                  <a:lnTo>
                    <a:pt x="25" y="61"/>
                  </a:lnTo>
                  <a:lnTo>
                    <a:pt x="25" y="59"/>
                  </a:lnTo>
                  <a:lnTo>
                    <a:pt x="25" y="58"/>
                  </a:lnTo>
                  <a:lnTo>
                    <a:pt x="27" y="56"/>
                  </a:lnTo>
                  <a:lnTo>
                    <a:pt x="29" y="54"/>
                  </a:lnTo>
                  <a:lnTo>
                    <a:pt x="31" y="53"/>
                  </a:lnTo>
                  <a:lnTo>
                    <a:pt x="32" y="51"/>
                  </a:lnTo>
                  <a:lnTo>
                    <a:pt x="34" y="49"/>
                  </a:lnTo>
                  <a:lnTo>
                    <a:pt x="36" y="48"/>
                  </a:lnTo>
                  <a:lnTo>
                    <a:pt x="38" y="48"/>
                  </a:lnTo>
                  <a:lnTo>
                    <a:pt x="39" y="46"/>
                  </a:lnTo>
                  <a:lnTo>
                    <a:pt x="38" y="49"/>
                  </a:lnTo>
                  <a:lnTo>
                    <a:pt x="36" y="53"/>
                  </a:lnTo>
                  <a:lnTo>
                    <a:pt x="36" y="56"/>
                  </a:lnTo>
                  <a:lnTo>
                    <a:pt x="34" y="58"/>
                  </a:lnTo>
                  <a:lnTo>
                    <a:pt x="32" y="61"/>
                  </a:lnTo>
                  <a:lnTo>
                    <a:pt x="32" y="65"/>
                  </a:lnTo>
                  <a:lnTo>
                    <a:pt x="31" y="68"/>
                  </a:lnTo>
                  <a:lnTo>
                    <a:pt x="31" y="71"/>
                  </a:lnTo>
                  <a:close/>
                  <a:moveTo>
                    <a:pt x="43" y="10"/>
                  </a:moveTo>
                  <a:lnTo>
                    <a:pt x="41" y="10"/>
                  </a:lnTo>
                  <a:lnTo>
                    <a:pt x="39" y="8"/>
                  </a:lnTo>
                  <a:lnTo>
                    <a:pt x="38" y="7"/>
                  </a:lnTo>
                  <a:lnTo>
                    <a:pt x="36" y="7"/>
                  </a:lnTo>
                  <a:lnTo>
                    <a:pt x="34" y="5"/>
                  </a:lnTo>
                  <a:lnTo>
                    <a:pt x="32" y="3"/>
                  </a:lnTo>
                  <a:lnTo>
                    <a:pt x="32" y="1"/>
                  </a:lnTo>
                  <a:lnTo>
                    <a:pt x="31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4" y="1"/>
                  </a:lnTo>
                  <a:lnTo>
                    <a:pt x="34" y="1"/>
                  </a:lnTo>
                  <a:lnTo>
                    <a:pt x="36" y="3"/>
                  </a:lnTo>
                  <a:lnTo>
                    <a:pt x="38" y="5"/>
                  </a:lnTo>
                  <a:lnTo>
                    <a:pt x="38" y="7"/>
                  </a:lnTo>
                  <a:lnTo>
                    <a:pt x="39" y="8"/>
                  </a:lnTo>
                  <a:lnTo>
                    <a:pt x="41" y="8"/>
                  </a:lnTo>
                  <a:lnTo>
                    <a:pt x="43" y="10"/>
                  </a:lnTo>
                  <a:close/>
                </a:path>
              </a:pathLst>
            </a:custGeom>
            <a:solidFill>
              <a:srgbClr val="592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603440" y="2252520"/>
              <a:ext cx="58680" cy="92160"/>
            </a:xfrm>
            <a:custGeom>
              <a:avLst/>
              <a:gdLst/>
              <a:ahLst/>
              <a:rect l="l" t="t" r="r" b="b"/>
              <a:pathLst>
                <a:path w="84" h="145">
                  <a:moveTo>
                    <a:pt x="17" y="21"/>
                  </a:moveTo>
                  <a:lnTo>
                    <a:pt x="22" y="36"/>
                  </a:lnTo>
                  <a:lnTo>
                    <a:pt x="29" y="53"/>
                  </a:lnTo>
                  <a:lnTo>
                    <a:pt x="36" y="70"/>
                  </a:lnTo>
                  <a:lnTo>
                    <a:pt x="44" y="87"/>
                  </a:lnTo>
                  <a:lnTo>
                    <a:pt x="53" y="103"/>
                  </a:lnTo>
                  <a:lnTo>
                    <a:pt x="63" y="118"/>
                  </a:lnTo>
                  <a:lnTo>
                    <a:pt x="74" y="132"/>
                  </a:lnTo>
                  <a:lnTo>
                    <a:pt x="84" y="144"/>
                  </a:lnTo>
                  <a:lnTo>
                    <a:pt x="75" y="145"/>
                  </a:lnTo>
                  <a:lnTo>
                    <a:pt x="65" y="142"/>
                  </a:lnTo>
                  <a:lnTo>
                    <a:pt x="53" y="138"/>
                  </a:lnTo>
                  <a:lnTo>
                    <a:pt x="39" y="132"/>
                  </a:lnTo>
                  <a:lnTo>
                    <a:pt x="27" y="123"/>
                  </a:lnTo>
                  <a:lnTo>
                    <a:pt x="17" y="116"/>
                  </a:lnTo>
                  <a:lnTo>
                    <a:pt x="10" y="108"/>
                  </a:lnTo>
                  <a:lnTo>
                    <a:pt x="5" y="101"/>
                  </a:lnTo>
                  <a:lnTo>
                    <a:pt x="1" y="91"/>
                  </a:lnTo>
                  <a:lnTo>
                    <a:pt x="0" y="79"/>
                  </a:lnTo>
                  <a:lnTo>
                    <a:pt x="0" y="67"/>
                  </a:lnTo>
                  <a:lnTo>
                    <a:pt x="1" y="51"/>
                  </a:lnTo>
                  <a:lnTo>
                    <a:pt x="1" y="38"/>
                  </a:lnTo>
                  <a:lnTo>
                    <a:pt x="3" y="24"/>
                  </a:lnTo>
                  <a:lnTo>
                    <a:pt x="5" y="12"/>
                  </a:lnTo>
                  <a:lnTo>
                    <a:pt x="5" y="0"/>
                  </a:lnTo>
                  <a:lnTo>
                    <a:pt x="8" y="3"/>
                  </a:lnTo>
                  <a:lnTo>
                    <a:pt x="10" y="9"/>
                  </a:lnTo>
                  <a:lnTo>
                    <a:pt x="13" y="14"/>
                  </a:lnTo>
                  <a:lnTo>
                    <a:pt x="15" y="17"/>
                  </a:lnTo>
                  <a:lnTo>
                    <a:pt x="15" y="21"/>
                  </a:lnTo>
                  <a:lnTo>
                    <a:pt x="17" y="22"/>
                  </a:lnTo>
                  <a:lnTo>
                    <a:pt x="17" y="22"/>
                  </a:lnTo>
                  <a:lnTo>
                    <a:pt x="17" y="21"/>
                  </a:lnTo>
                  <a:close/>
                </a:path>
              </a:pathLst>
            </a:custGeom>
            <a:solidFill>
              <a:srgbClr val="f3f3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1603440" y="2252520"/>
              <a:ext cx="58680" cy="92160"/>
            </a:xfrm>
            <a:custGeom>
              <a:avLst/>
              <a:gdLst/>
              <a:ahLst/>
              <a:rect l="l" t="t" r="r" b="b"/>
              <a:pathLst>
                <a:path w="84" h="145">
                  <a:moveTo>
                    <a:pt x="17" y="21"/>
                  </a:moveTo>
                  <a:lnTo>
                    <a:pt x="22" y="36"/>
                  </a:lnTo>
                  <a:lnTo>
                    <a:pt x="29" y="53"/>
                  </a:lnTo>
                  <a:lnTo>
                    <a:pt x="36" y="70"/>
                  </a:lnTo>
                  <a:lnTo>
                    <a:pt x="44" y="87"/>
                  </a:lnTo>
                  <a:lnTo>
                    <a:pt x="53" y="103"/>
                  </a:lnTo>
                  <a:lnTo>
                    <a:pt x="63" y="118"/>
                  </a:lnTo>
                  <a:lnTo>
                    <a:pt x="74" y="132"/>
                  </a:lnTo>
                  <a:lnTo>
                    <a:pt x="84" y="144"/>
                  </a:lnTo>
                  <a:lnTo>
                    <a:pt x="75" y="145"/>
                  </a:lnTo>
                  <a:lnTo>
                    <a:pt x="65" y="142"/>
                  </a:lnTo>
                  <a:lnTo>
                    <a:pt x="53" y="138"/>
                  </a:lnTo>
                  <a:lnTo>
                    <a:pt x="39" y="132"/>
                  </a:lnTo>
                  <a:lnTo>
                    <a:pt x="27" y="123"/>
                  </a:lnTo>
                  <a:lnTo>
                    <a:pt x="17" y="116"/>
                  </a:lnTo>
                  <a:lnTo>
                    <a:pt x="10" y="108"/>
                  </a:lnTo>
                  <a:lnTo>
                    <a:pt x="5" y="101"/>
                  </a:lnTo>
                  <a:lnTo>
                    <a:pt x="1" y="91"/>
                  </a:lnTo>
                  <a:lnTo>
                    <a:pt x="0" y="79"/>
                  </a:lnTo>
                  <a:lnTo>
                    <a:pt x="0" y="67"/>
                  </a:lnTo>
                  <a:lnTo>
                    <a:pt x="1" y="51"/>
                  </a:lnTo>
                  <a:lnTo>
                    <a:pt x="1" y="38"/>
                  </a:lnTo>
                  <a:lnTo>
                    <a:pt x="3" y="24"/>
                  </a:lnTo>
                  <a:lnTo>
                    <a:pt x="5" y="12"/>
                  </a:lnTo>
                  <a:lnTo>
                    <a:pt x="5" y="0"/>
                  </a:lnTo>
                  <a:lnTo>
                    <a:pt x="8" y="3"/>
                  </a:lnTo>
                  <a:lnTo>
                    <a:pt x="10" y="9"/>
                  </a:lnTo>
                  <a:lnTo>
                    <a:pt x="13" y="14"/>
                  </a:lnTo>
                  <a:lnTo>
                    <a:pt x="15" y="17"/>
                  </a:lnTo>
                  <a:lnTo>
                    <a:pt x="15" y="21"/>
                  </a:lnTo>
                  <a:lnTo>
                    <a:pt x="17" y="22"/>
                  </a:lnTo>
                  <a:lnTo>
                    <a:pt x="17" y="22"/>
                  </a:lnTo>
                  <a:lnTo>
                    <a:pt x="1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09560" y="2262240"/>
              <a:ext cx="49320" cy="79200"/>
            </a:xfrm>
            <a:custGeom>
              <a:avLst/>
              <a:gdLst/>
              <a:ahLst/>
              <a:rect l="l" t="t" r="r" b="b"/>
              <a:pathLst>
                <a:path w="71" h="124">
                  <a:moveTo>
                    <a:pt x="71" y="124"/>
                  </a:moveTo>
                  <a:lnTo>
                    <a:pt x="64" y="119"/>
                  </a:lnTo>
                  <a:lnTo>
                    <a:pt x="57" y="116"/>
                  </a:lnTo>
                  <a:lnTo>
                    <a:pt x="50" y="111"/>
                  </a:lnTo>
                  <a:lnTo>
                    <a:pt x="43" y="106"/>
                  </a:lnTo>
                  <a:lnTo>
                    <a:pt x="36" y="100"/>
                  </a:lnTo>
                  <a:lnTo>
                    <a:pt x="31" y="95"/>
                  </a:lnTo>
                  <a:lnTo>
                    <a:pt x="24" y="89"/>
                  </a:lnTo>
                  <a:lnTo>
                    <a:pt x="19" y="83"/>
                  </a:lnTo>
                  <a:lnTo>
                    <a:pt x="19" y="78"/>
                  </a:lnTo>
                  <a:lnTo>
                    <a:pt x="17" y="75"/>
                  </a:lnTo>
                  <a:lnTo>
                    <a:pt x="14" y="71"/>
                  </a:lnTo>
                  <a:lnTo>
                    <a:pt x="12" y="70"/>
                  </a:lnTo>
                  <a:lnTo>
                    <a:pt x="10" y="66"/>
                  </a:lnTo>
                  <a:lnTo>
                    <a:pt x="9" y="63"/>
                  </a:lnTo>
                  <a:lnTo>
                    <a:pt x="7" y="59"/>
                  </a:lnTo>
                  <a:lnTo>
                    <a:pt x="9" y="56"/>
                  </a:lnTo>
                  <a:lnTo>
                    <a:pt x="5" y="49"/>
                  </a:lnTo>
                  <a:lnTo>
                    <a:pt x="4" y="42"/>
                  </a:lnTo>
                  <a:lnTo>
                    <a:pt x="4" y="36"/>
                  </a:lnTo>
                  <a:lnTo>
                    <a:pt x="4" y="29"/>
                  </a:lnTo>
                  <a:lnTo>
                    <a:pt x="2" y="22"/>
                  </a:lnTo>
                  <a:lnTo>
                    <a:pt x="2" y="15"/>
                  </a:lnTo>
                  <a:lnTo>
                    <a:pt x="2" y="8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7" y="3"/>
                  </a:lnTo>
                  <a:lnTo>
                    <a:pt x="7" y="5"/>
                  </a:lnTo>
                  <a:lnTo>
                    <a:pt x="7" y="7"/>
                  </a:lnTo>
                  <a:lnTo>
                    <a:pt x="9" y="8"/>
                  </a:lnTo>
                  <a:lnTo>
                    <a:pt x="9" y="8"/>
                  </a:lnTo>
                  <a:lnTo>
                    <a:pt x="9" y="10"/>
                  </a:lnTo>
                  <a:lnTo>
                    <a:pt x="9" y="8"/>
                  </a:lnTo>
                  <a:lnTo>
                    <a:pt x="9" y="7"/>
                  </a:lnTo>
                  <a:lnTo>
                    <a:pt x="14" y="22"/>
                  </a:lnTo>
                  <a:lnTo>
                    <a:pt x="19" y="37"/>
                  </a:lnTo>
                  <a:lnTo>
                    <a:pt x="26" y="53"/>
                  </a:lnTo>
                  <a:lnTo>
                    <a:pt x="35" y="68"/>
                  </a:lnTo>
                  <a:lnTo>
                    <a:pt x="43" y="83"/>
                  </a:lnTo>
                  <a:lnTo>
                    <a:pt x="52" y="99"/>
                  </a:lnTo>
                  <a:lnTo>
                    <a:pt x="60" y="112"/>
                  </a:lnTo>
                  <a:lnTo>
                    <a:pt x="71" y="124"/>
                  </a:lnTo>
                  <a:close/>
                </a:path>
              </a:pathLst>
            </a:custGeom>
            <a:solidFill>
              <a:srgbClr val="f2b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603440" y="2290680"/>
              <a:ext cx="41040" cy="52560"/>
            </a:xfrm>
            <a:custGeom>
              <a:avLst/>
              <a:gdLst/>
              <a:ahLst/>
              <a:rect l="l" t="t" r="r" b="b"/>
              <a:pathLst>
                <a:path w="60" h="8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3" y="14"/>
                  </a:lnTo>
                  <a:lnTo>
                    <a:pt x="8" y="26"/>
                  </a:lnTo>
                  <a:lnTo>
                    <a:pt x="13" y="38"/>
                  </a:lnTo>
                  <a:lnTo>
                    <a:pt x="20" y="48"/>
                  </a:lnTo>
                  <a:lnTo>
                    <a:pt x="29" y="56"/>
                  </a:lnTo>
                  <a:lnTo>
                    <a:pt x="39" y="67"/>
                  </a:lnTo>
                  <a:lnTo>
                    <a:pt x="50" y="75"/>
                  </a:lnTo>
                  <a:lnTo>
                    <a:pt x="60" y="84"/>
                  </a:lnTo>
                  <a:lnTo>
                    <a:pt x="51" y="79"/>
                  </a:lnTo>
                  <a:lnTo>
                    <a:pt x="43" y="75"/>
                  </a:lnTo>
                  <a:lnTo>
                    <a:pt x="34" y="70"/>
                  </a:lnTo>
                  <a:lnTo>
                    <a:pt x="25" y="63"/>
                  </a:lnTo>
                  <a:lnTo>
                    <a:pt x="18" y="58"/>
                  </a:lnTo>
                  <a:lnTo>
                    <a:pt x="12" y="53"/>
                  </a:lnTo>
                  <a:lnTo>
                    <a:pt x="8" y="48"/>
                  </a:lnTo>
                  <a:lnTo>
                    <a:pt x="5" y="43"/>
                  </a:lnTo>
                  <a:lnTo>
                    <a:pt x="3" y="39"/>
                  </a:lnTo>
                  <a:lnTo>
                    <a:pt x="1" y="34"/>
                  </a:lnTo>
                  <a:lnTo>
                    <a:pt x="1" y="29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2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c5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603440" y="2297160"/>
              <a:ext cx="52200" cy="4752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74" y="75"/>
                  </a:moveTo>
                  <a:lnTo>
                    <a:pt x="63" y="72"/>
                  </a:lnTo>
                  <a:lnTo>
                    <a:pt x="53" y="68"/>
                  </a:lnTo>
                  <a:lnTo>
                    <a:pt x="43" y="63"/>
                  </a:lnTo>
                  <a:lnTo>
                    <a:pt x="32" y="56"/>
                  </a:lnTo>
                  <a:lnTo>
                    <a:pt x="24" y="50"/>
                  </a:lnTo>
                  <a:lnTo>
                    <a:pt x="15" y="43"/>
                  </a:lnTo>
                  <a:lnTo>
                    <a:pt x="8" y="38"/>
                  </a:lnTo>
                  <a:lnTo>
                    <a:pt x="5" y="31"/>
                  </a:lnTo>
                  <a:lnTo>
                    <a:pt x="3" y="27"/>
                  </a:lnTo>
                  <a:lnTo>
                    <a:pt x="3" y="24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3"/>
                  </a:lnTo>
                  <a:lnTo>
                    <a:pt x="0" y="0"/>
                  </a:lnTo>
                  <a:lnTo>
                    <a:pt x="3" y="9"/>
                  </a:lnTo>
                  <a:lnTo>
                    <a:pt x="8" y="17"/>
                  </a:lnTo>
                  <a:lnTo>
                    <a:pt x="17" y="27"/>
                  </a:lnTo>
                  <a:lnTo>
                    <a:pt x="27" y="36"/>
                  </a:lnTo>
                  <a:lnTo>
                    <a:pt x="37" y="46"/>
                  </a:lnTo>
                  <a:lnTo>
                    <a:pt x="50" y="56"/>
                  </a:lnTo>
                  <a:lnTo>
                    <a:pt x="62" y="65"/>
                  </a:lnTo>
                  <a:lnTo>
                    <a:pt x="74" y="75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603440" y="2297160"/>
              <a:ext cx="52200" cy="4752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74" y="75"/>
                  </a:moveTo>
                  <a:lnTo>
                    <a:pt x="63" y="72"/>
                  </a:lnTo>
                  <a:lnTo>
                    <a:pt x="53" y="68"/>
                  </a:lnTo>
                  <a:lnTo>
                    <a:pt x="43" y="63"/>
                  </a:lnTo>
                  <a:lnTo>
                    <a:pt x="32" y="56"/>
                  </a:lnTo>
                  <a:lnTo>
                    <a:pt x="24" y="50"/>
                  </a:lnTo>
                  <a:lnTo>
                    <a:pt x="15" y="43"/>
                  </a:lnTo>
                  <a:lnTo>
                    <a:pt x="8" y="38"/>
                  </a:lnTo>
                  <a:lnTo>
                    <a:pt x="5" y="31"/>
                  </a:lnTo>
                  <a:lnTo>
                    <a:pt x="3" y="27"/>
                  </a:lnTo>
                  <a:lnTo>
                    <a:pt x="3" y="24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3"/>
                  </a:lnTo>
                  <a:lnTo>
                    <a:pt x="0" y="0"/>
                  </a:lnTo>
                  <a:lnTo>
                    <a:pt x="3" y="9"/>
                  </a:lnTo>
                  <a:lnTo>
                    <a:pt x="8" y="17"/>
                  </a:lnTo>
                  <a:lnTo>
                    <a:pt x="17" y="27"/>
                  </a:lnTo>
                  <a:lnTo>
                    <a:pt x="27" y="36"/>
                  </a:lnTo>
                  <a:lnTo>
                    <a:pt x="37" y="46"/>
                  </a:lnTo>
                  <a:lnTo>
                    <a:pt x="50" y="56"/>
                  </a:lnTo>
                  <a:lnTo>
                    <a:pt x="62" y="65"/>
                  </a:lnTo>
                  <a:lnTo>
                    <a:pt x="74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603440" y="2297160"/>
              <a:ext cx="41040" cy="46080"/>
            </a:xfrm>
            <a:custGeom>
              <a:avLst/>
              <a:gdLst/>
              <a:ahLst/>
              <a:rect l="l" t="t" r="r" b="b"/>
              <a:pathLst>
                <a:path w="60" h="72">
                  <a:moveTo>
                    <a:pt x="10" y="19"/>
                  </a:moveTo>
                  <a:lnTo>
                    <a:pt x="15" y="26"/>
                  </a:lnTo>
                  <a:lnTo>
                    <a:pt x="20" y="33"/>
                  </a:lnTo>
                  <a:lnTo>
                    <a:pt x="25" y="39"/>
                  </a:lnTo>
                  <a:lnTo>
                    <a:pt x="31" y="46"/>
                  </a:lnTo>
                  <a:lnTo>
                    <a:pt x="37" y="53"/>
                  </a:lnTo>
                  <a:lnTo>
                    <a:pt x="44" y="60"/>
                  </a:lnTo>
                  <a:lnTo>
                    <a:pt x="53" y="65"/>
                  </a:lnTo>
                  <a:lnTo>
                    <a:pt x="60" y="72"/>
                  </a:lnTo>
                  <a:lnTo>
                    <a:pt x="51" y="67"/>
                  </a:lnTo>
                  <a:lnTo>
                    <a:pt x="43" y="63"/>
                  </a:lnTo>
                  <a:lnTo>
                    <a:pt x="34" y="58"/>
                  </a:lnTo>
                  <a:lnTo>
                    <a:pt x="25" y="51"/>
                  </a:lnTo>
                  <a:lnTo>
                    <a:pt x="18" y="46"/>
                  </a:lnTo>
                  <a:lnTo>
                    <a:pt x="12" y="41"/>
                  </a:lnTo>
                  <a:lnTo>
                    <a:pt x="8" y="36"/>
                  </a:lnTo>
                  <a:lnTo>
                    <a:pt x="5" y="31"/>
                  </a:lnTo>
                  <a:lnTo>
                    <a:pt x="3" y="27"/>
                  </a:lnTo>
                  <a:lnTo>
                    <a:pt x="3" y="24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2"/>
                  </a:lnTo>
                  <a:lnTo>
                    <a:pt x="1" y="3"/>
                  </a:lnTo>
                  <a:lnTo>
                    <a:pt x="3" y="7"/>
                  </a:lnTo>
                  <a:lnTo>
                    <a:pt x="3" y="9"/>
                  </a:lnTo>
                  <a:lnTo>
                    <a:pt x="5" y="10"/>
                  </a:lnTo>
                  <a:lnTo>
                    <a:pt x="6" y="14"/>
                  </a:lnTo>
                  <a:lnTo>
                    <a:pt x="8" y="15"/>
                  </a:lnTo>
                  <a:lnTo>
                    <a:pt x="10" y="19"/>
                  </a:lnTo>
                  <a:close/>
                </a:path>
              </a:pathLst>
            </a:custGeom>
            <a:solidFill>
              <a:srgbClr val="734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603440" y="2252520"/>
              <a:ext cx="58680" cy="92160"/>
            </a:xfrm>
            <a:custGeom>
              <a:avLst/>
              <a:gdLst/>
              <a:ahLst/>
              <a:rect l="l" t="t" r="r" b="b"/>
              <a:pathLst>
                <a:path w="84" h="145">
                  <a:moveTo>
                    <a:pt x="82" y="144"/>
                  </a:moveTo>
                  <a:lnTo>
                    <a:pt x="82" y="144"/>
                  </a:lnTo>
                  <a:lnTo>
                    <a:pt x="82" y="144"/>
                  </a:lnTo>
                  <a:lnTo>
                    <a:pt x="82" y="144"/>
                  </a:lnTo>
                  <a:lnTo>
                    <a:pt x="82" y="144"/>
                  </a:lnTo>
                  <a:lnTo>
                    <a:pt x="82" y="144"/>
                  </a:lnTo>
                  <a:lnTo>
                    <a:pt x="84" y="144"/>
                  </a:lnTo>
                  <a:lnTo>
                    <a:pt x="84" y="144"/>
                  </a:lnTo>
                  <a:lnTo>
                    <a:pt x="84" y="144"/>
                  </a:lnTo>
                  <a:lnTo>
                    <a:pt x="75" y="145"/>
                  </a:lnTo>
                  <a:lnTo>
                    <a:pt x="65" y="142"/>
                  </a:lnTo>
                  <a:lnTo>
                    <a:pt x="53" y="138"/>
                  </a:lnTo>
                  <a:lnTo>
                    <a:pt x="39" y="132"/>
                  </a:lnTo>
                  <a:lnTo>
                    <a:pt x="27" y="123"/>
                  </a:lnTo>
                  <a:lnTo>
                    <a:pt x="17" y="116"/>
                  </a:lnTo>
                  <a:lnTo>
                    <a:pt x="10" y="108"/>
                  </a:lnTo>
                  <a:lnTo>
                    <a:pt x="5" y="101"/>
                  </a:lnTo>
                  <a:lnTo>
                    <a:pt x="1" y="91"/>
                  </a:lnTo>
                  <a:lnTo>
                    <a:pt x="0" y="79"/>
                  </a:lnTo>
                  <a:lnTo>
                    <a:pt x="0" y="67"/>
                  </a:lnTo>
                  <a:lnTo>
                    <a:pt x="1" y="51"/>
                  </a:lnTo>
                  <a:lnTo>
                    <a:pt x="1" y="38"/>
                  </a:lnTo>
                  <a:lnTo>
                    <a:pt x="3" y="24"/>
                  </a:lnTo>
                  <a:lnTo>
                    <a:pt x="5" y="12"/>
                  </a:lnTo>
                  <a:lnTo>
                    <a:pt x="5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5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2" y="9"/>
                  </a:lnTo>
                  <a:lnTo>
                    <a:pt x="12" y="22"/>
                  </a:lnTo>
                  <a:lnTo>
                    <a:pt x="12" y="34"/>
                  </a:lnTo>
                  <a:lnTo>
                    <a:pt x="12" y="48"/>
                  </a:lnTo>
                  <a:lnTo>
                    <a:pt x="13" y="62"/>
                  </a:lnTo>
                  <a:lnTo>
                    <a:pt x="13" y="75"/>
                  </a:lnTo>
                  <a:lnTo>
                    <a:pt x="13" y="87"/>
                  </a:lnTo>
                  <a:lnTo>
                    <a:pt x="15" y="101"/>
                  </a:lnTo>
                  <a:lnTo>
                    <a:pt x="17" y="113"/>
                  </a:lnTo>
                  <a:lnTo>
                    <a:pt x="24" y="116"/>
                  </a:lnTo>
                  <a:lnTo>
                    <a:pt x="31" y="120"/>
                  </a:lnTo>
                  <a:lnTo>
                    <a:pt x="39" y="123"/>
                  </a:lnTo>
                  <a:lnTo>
                    <a:pt x="48" y="126"/>
                  </a:lnTo>
                  <a:lnTo>
                    <a:pt x="56" y="130"/>
                  </a:lnTo>
                  <a:lnTo>
                    <a:pt x="65" y="135"/>
                  </a:lnTo>
                  <a:lnTo>
                    <a:pt x="74" y="138"/>
                  </a:lnTo>
                  <a:lnTo>
                    <a:pt x="82" y="144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603440" y="2252520"/>
              <a:ext cx="58680" cy="92160"/>
            </a:xfrm>
            <a:custGeom>
              <a:avLst/>
              <a:gdLst/>
              <a:ahLst/>
              <a:rect l="l" t="t" r="r" b="b"/>
              <a:pathLst>
                <a:path w="84" h="145">
                  <a:moveTo>
                    <a:pt x="82" y="144"/>
                  </a:moveTo>
                  <a:lnTo>
                    <a:pt x="82" y="144"/>
                  </a:lnTo>
                  <a:lnTo>
                    <a:pt x="82" y="144"/>
                  </a:lnTo>
                  <a:lnTo>
                    <a:pt x="82" y="144"/>
                  </a:lnTo>
                  <a:lnTo>
                    <a:pt x="82" y="144"/>
                  </a:lnTo>
                  <a:lnTo>
                    <a:pt x="82" y="144"/>
                  </a:lnTo>
                  <a:lnTo>
                    <a:pt x="84" y="144"/>
                  </a:lnTo>
                  <a:lnTo>
                    <a:pt x="84" y="144"/>
                  </a:lnTo>
                  <a:lnTo>
                    <a:pt x="84" y="144"/>
                  </a:lnTo>
                  <a:lnTo>
                    <a:pt x="75" y="145"/>
                  </a:lnTo>
                  <a:lnTo>
                    <a:pt x="65" y="142"/>
                  </a:lnTo>
                  <a:lnTo>
                    <a:pt x="53" y="138"/>
                  </a:lnTo>
                  <a:lnTo>
                    <a:pt x="39" y="132"/>
                  </a:lnTo>
                  <a:lnTo>
                    <a:pt x="27" y="123"/>
                  </a:lnTo>
                  <a:lnTo>
                    <a:pt x="17" y="116"/>
                  </a:lnTo>
                  <a:lnTo>
                    <a:pt x="10" y="108"/>
                  </a:lnTo>
                  <a:lnTo>
                    <a:pt x="5" y="101"/>
                  </a:lnTo>
                  <a:lnTo>
                    <a:pt x="1" y="91"/>
                  </a:lnTo>
                  <a:lnTo>
                    <a:pt x="0" y="79"/>
                  </a:lnTo>
                  <a:lnTo>
                    <a:pt x="0" y="67"/>
                  </a:lnTo>
                  <a:lnTo>
                    <a:pt x="1" y="51"/>
                  </a:lnTo>
                  <a:lnTo>
                    <a:pt x="1" y="38"/>
                  </a:lnTo>
                  <a:lnTo>
                    <a:pt x="3" y="24"/>
                  </a:lnTo>
                  <a:lnTo>
                    <a:pt x="5" y="12"/>
                  </a:lnTo>
                  <a:lnTo>
                    <a:pt x="5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5"/>
                  </a:lnTo>
                  <a:lnTo>
                    <a:pt x="10" y="7"/>
                  </a:lnTo>
                  <a:lnTo>
                    <a:pt x="10" y="7"/>
                  </a:lnTo>
                  <a:lnTo>
                    <a:pt x="12" y="9"/>
                  </a:lnTo>
                  <a:lnTo>
                    <a:pt x="12" y="22"/>
                  </a:lnTo>
                  <a:lnTo>
                    <a:pt x="12" y="34"/>
                  </a:lnTo>
                  <a:lnTo>
                    <a:pt x="12" y="48"/>
                  </a:lnTo>
                  <a:lnTo>
                    <a:pt x="13" y="62"/>
                  </a:lnTo>
                  <a:lnTo>
                    <a:pt x="13" y="75"/>
                  </a:lnTo>
                  <a:lnTo>
                    <a:pt x="13" y="87"/>
                  </a:lnTo>
                  <a:lnTo>
                    <a:pt x="15" y="101"/>
                  </a:lnTo>
                  <a:lnTo>
                    <a:pt x="17" y="113"/>
                  </a:lnTo>
                  <a:lnTo>
                    <a:pt x="24" y="116"/>
                  </a:lnTo>
                  <a:lnTo>
                    <a:pt x="31" y="120"/>
                  </a:lnTo>
                  <a:lnTo>
                    <a:pt x="39" y="123"/>
                  </a:lnTo>
                  <a:lnTo>
                    <a:pt x="48" y="126"/>
                  </a:lnTo>
                  <a:lnTo>
                    <a:pt x="56" y="130"/>
                  </a:lnTo>
                  <a:lnTo>
                    <a:pt x="65" y="135"/>
                  </a:lnTo>
                  <a:lnTo>
                    <a:pt x="74" y="138"/>
                  </a:lnTo>
                  <a:lnTo>
                    <a:pt x="82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609560" y="2262240"/>
              <a:ext cx="3240" cy="27000"/>
            </a:xfrm>
            <a:custGeom>
              <a:avLst/>
              <a:gdLst/>
              <a:ahLst/>
              <a:rect l="l" t="t" r="r" b="b"/>
              <a:pathLst>
                <a:path w="4" h="42">
                  <a:moveTo>
                    <a:pt x="4" y="42"/>
                  </a:moveTo>
                  <a:lnTo>
                    <a:pt x="4" y="37"/>
                  </a:lnTo>
                  <a:lnTo>
                    <a:pt x="4" y="32"/>
                  </a:lnTo>
                  <a:lnTo>
                    <a:pt x="4" y="27"/>
                  </a:lnTo>
                  <a:lnTo>
                    <a:pt x="2" y="22"/>
                  </a:lnTo>
                  <a:lnTo>
                    <a:pt x="2" y="17"/>
                  </a:lnTo>
                  <a:lnTo>
                    <a:pt x="2" y="12"/>
                  </a:lnTo>
                  <a:lnTo>
                    <a:pt x="0" y="7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5"/>
                  </a:lnTo>
                  <a:lnTo>
                    <a:pt x="4" y="12"/>
                  </a:lnTo>
                  <a:lnTo>
                    <a:pt x="4" y="17"/>
                  </a:lnTo>
                  <a:lnTo>
                    <a:pt x="4" y="22"/>
                  </a:lnTo>
                  <a:lnTo>
                    <a:pt x="4" y="27"/>
                  </a:lnTo>
                  <a:lnTo>
                    <a:pt x="4" y="32"/>
                  </a:lnTo>
                  <a:lnTo>
                    <a:pt x="4" y="37"/>
                  </a:lnTo>
                  <a:lnTo>
                    <a:pt x="4" y="42"/>
                  </a:lnTo>
                  <a:close/>
                </a:path>
              </a:pathLst>
            </a:custGeom>
            <a:solidFill>
              <a:srgbClr val="d9a6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1603440" y="2290680"/>
              <a:ext cx="41040" cy="52560"/>
            </a:xfrm>
            <a:custGeom>
              <a:avLst/>
              <a:gdLst/>
              <a:ahLst/>
              <a:rect l="l" t="t" r="r" b="b"/>
              <a:pathLst>
                <a:path w="60" h="8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7"/>
                  </a:lnTo>
                  <a:lnTo>
                    <a:pt x="3" y="12"/>
                  </a:lnTo>
                  <a:lnTo>
                    <a:pt x="5" y="15"/>
                  </a:lnTo>
                  <a:lnTo>
                    <a:pt x="5" y="21"/>
                  </a:lnTo>
                  <a:lnTo>
                    <a:pt x="8" y="26"/>
                  </a:lnTo>
                  <a:lnTo>
                    <a:pt x="10" y="29"/>
                  </a:lnTo>
                  <a:lnTo>
                    <a:pt x="12" y="34"/>
                  </a:lnTo>
                  <a:lnTo>
                    <a:pt x="15" y="38"/>
                  </a:lnTo>
                  <a:lnTo>
                    <a:pt x="15" y="39"/>
                  </a:lnTo>
                  <a:lnTo>
                    <a:pt x="15" y="43"/>
                  </a:lnTo>
                  <a:lnTo>
                    <a:pt x="15" y="45"/>
                  </a:lnTo>
                  <a:lnTo>
                    <a:pt x="15" y="46"/>
                  </a:lnTo>
                  <a:lnTo>
                    <a:pt x="15" y="50"/>
                  </a:lnTo>
                  <a:lnTo>
                    <a:pt x="17" y="51"/>
                  </a:lnTo>
                  <a:lnTo>
                    <a:pt x="17" y="53"/>
                  </a:lnTo>
                  <a:lnTo>
                    <a:pt x="17" y="55"/>
                  </a:lnTo>
                  <a:lnTo>
                    <a:pt x="18" y="56"/>
                  </a:lnTo>
                  <a:lnTo>
                    <a:pt x="22" y="58"/>
                  </a:lnTo>
                  <a:lnTo>
                    <a:pt x="24" y="58"/>
                  </a:lnTo>
                  <a:lnTo>
                    <a:pt x="27" y="60"/>
                  </a:lnTo>
                  <a:lnTo>
                    <a:pt x="29" y="62"/>
                  </a:lnTo>
                  <a:lnTo>
                    <a:pt x="32" y="62"/>
                  </a:lnTo>
                  <a:lnTo>
                    <a:pt x="34" y="63"/>
                  </a:lnTo>
                  <a:lnTo>
                    <a:pt x="37" y="65"/>
                  </a:lnTo>
                  <a:lnTo>
                    <a:pt x="39" y="67"/>
                  </a:lnTo>
                  <a:lnTo>
                    <a:pt x="43" y="68"/>
                  </a:lnTo>
                  <a:lnTo>
                    <a:pt x="44" y="72"/>
                  </a:lnTo>
                  <a:lnTo>
                    <a:pt x="48" y="74"/>
                  </a:lnTo>
                  <a:lnTo>
                    <a:pt x="51" y="77"/>
                  </a:lnTo>
                  <a:lnTo>
                    <a:pt x="53" y="79"/>
                  </a:lnTo>
                  <a:lnTo>
                    <a:pt x="56" y="80"/>
                  </a:lnTo>
                  <a:lnTo>
                    <a:pt x="60" y="84"/>
                  </a:lnTo>
                  <a:lnTo>
                    <a:pt x="51" y="79"/>
                  </a:lnTo>
                  <a:lnTo>
                    <a:pt x="43" y="75"/>
                  </a:lnTo>
                  <a:lnTo>
                    <a:pt x="34" y="70"/>
                  </a:lnTo>
                  <a:lnTo>
                    <a:pt x="25" y="63"/>
                  </a:lnTo>
                  <a:lnTo>
                    <a:pt x="18" y="58"/>
                  </a:lnTo>
                  <a:lnTo>
                    <a:pt x="12" y="53"/>
                  </a:lnTo>
                  <a:lnTo>
                    <a:pt x="8" y="48"/>
                  </a:lnTo>
                  <a:lnTo>
                    <a:pt x="5" y="43"/>
                  </a:lnTo>
                  <a:lnTo>
                    <a:pt x="3" y="39"/>
                  </a:lnTo>
                  <a:lnTo>
                    <a:pt x="1" y="34"/>
                  </a:lnTo>
                  <a:lnTo>
                    <a:pt x="1" y="29"/>
                  </a:lnTo>
                  <a:lnTo>
                    <a:pt x="0" y="24"/>
                  </a:lnTo>
                  <a:lnTo>
                    <a:pt x="0" y="19"/>
                  </a:lnTo>
                  <a:lnTo>
                    <a:pt x="0" y="12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34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608120" y="2252520"/>
              <a:ext cx="1440" cy="504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7"/>
                  </a:moveTo>
                  <a:lnTo>
                    <a:pt x="0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1608120" y="2252520"/>
              <a:ext cx="1440" cy="504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7"/>
                  </a:moveTo>
                  <a:lnTo>
                    <a:pt x="0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603440" y="2297160"/>
              <a:ext cx="52200" cy="4752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74" y="75"/>
                  </a:moveTo>
                  <a:lnTo>
                    <a:pt x="63" y="72"/>
                  </a:lnTo>
                  <a:lnTo>
                    <a:pt x="53" y="68"/>
                  </a:lnTo>
                  <a:lnTo>
                    <a:pt x="43" y="63"/>
                  </a:lnTo>
                  <a:lnTo>
                    <a:pt x="32" y="56"/>
                  </a:lnTo>
                  <a:lnTo>
                    <a:pt x="24" y="50"/>
                  </a:lnTo>
                  <a:lnTo>
                    <a:pt x="15" y="43"/>
                  </a:lnTo>
                  <a:lnTo>
                    <a:pt x="8" y="38"/>
                  </a:lnTo>
                  <a:lnTo>
                    <a:pt x="5" y="31"/>
                  </a:lnTo>
                  <a:lnTo>
                    <a:pt x="3" y="27"/>
                  </a:lnTo>
                  <a:lnTo>
                    <a:pt x="3" y="24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3"/>
                  </a:lnTo>
                  <a:lnTo>
                    <a:pt x="0" y="0"/>
                  </a:lnTo>
                  <a:lnTo>
                    <a:pt x="1" y="2"/>
                  </a:lnTo>
                  <a:lnTo>
                    <a:pt x="1" y="5"/>
                  </a:lnTo>
                  <a:lnTo>
                    <a:pt x="3" y="9"/>
                  </a:lnTo>
                  <a:lnTo>
                    <a:pt x="5" y="10"/>
                  </a:lnTo>
                  <a:lnTo>
                    <a:pt x="6" y="14"/>
                  </a:lnTo>
                  <a:lnTo>
                    <a:pt x="10" y="17"/>
                  </a:lnTo>
                  <a:lnTo>
                    <a:pt x="12" y="21"/>
                  </a:lnTo>
                  <a:lnTo>
                    <a:pt x="13" y="24"/>
                  </a:lnTo>
                  <a:lnTo>
                    <a:pt x="15" y="26"/>
                  </a:lnTo>
                  <a:lnTo>
                    <a:pt x="15" y="29"/>
                  </a:lnTo>
                  <a:lnTo>
                    <a:pt x="15" y="31"/>
                  </a:lnTo>
                  <a:lnTo>
                    <a:pt x="15" y="34"/>
                  </a:lnTo>
                  <a:lnTo>
                    <a:pt x="15" y="36"/>
                  </a:lnTo>
                  <a:lnTo>
                    <a:pt x="17" y="38"/>
                  </a:lnTo>
                  <a:lnTo>
                    <a:pt x="17" y="41"/>
                  </a:lnTo>
                  <a:lnTo>
                    <a:pt x="17" y="43"/>
                  </a:lnTo>
                  <a:lnTo>
                    <a:pt x="20" y="44"/>
                  </a:lnTo>
                  <a:lnTo>
                    <a:pt x="25" y="46"/>
                  </a:lnTo>
                  <a:lnTo>
                    <a:pt x="29" y="48"/>
                  </a:lnTo>
                  <a:lnTo>
                    <a:pt x="32" y="51"/>
                  </a:lnTo>
                  <a:lnTo>
                    <a:pt x="37" y="53"/>
                  </a:lnTo>
                  <a:lnTo>
                    <a:pt x="43" y="55"/>
                  </a:lnTo>
                  <a:lnTo>
                    <a:pt x="46" y="56"/>
                  </a:lnTo>
                  <a:lnTo>
                    <a:pt x="51" y="58"/>
                  </a:lnTo>
                  <a:lnTo>
                    <a:pt x="55" y="60"/>
                  </a:lnTo>
                  <a:lnTo>
                    <a:pt x="56" y="63"/>
                  </a:lnTo>
                  <a:lnTo>
                    <a:pt x="60" y="65"/>
                  </a:lnTo>
                  <a:lnTo>
                    <a:pt x="62" y="67"/>
                  </a:lnTo>
                  <a:lnTo>
                    <a:pt x="65" y="68"/>
                  </a:lnTo>
                  <a:lnTo>
                    <a:pt x="68" y="70"/>
                  </a:lnTo>
                  <a:lnTo>
                    <a:pt x="70" y="72"/>
                  </a:lnTo>
                  <a:lnTo>
                    <a:pt x="74" y="75"/>
                  </a:lnTo>
                  <a:close/>
                </a:path>
              </a:pathLst>
            </a:custGeom>
            <a:solidFill>
              <a:srgbClr val="c1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603440" y="2297160"/>
              <a:ext cx="52200" cy="47520"/>
            </a:xfrm>
            <a:custGeom>
              <a:avLst/>
              <a:gdLst/>
              <a:ahLst/>
              <a:rect l="l" t="t" r="r" b="b"/>
              <a:pathLst>
                <a:path w="74" h="75">
                  <a:moveTo>
                    <a:pt x="74" y="75"/>
                  </a:moveTo>
                  <a:lnTo>
                    <a:pt x="63" y="72"/>
                  </a:lnTo>
                  <a:lnTo>
                    <a:pt x="53" y="68"/>
                  </a:lnTo>
                  <a:lnTo>
                    <a:pt x="43" y="63"/>
                  </a:lnTo>
                  <a:lnTo>
                    <a:pt x="32" y="56"/>
                  </a:lnTo>
                  <a:lnTo>
                    <a:pt x="24" y="50"/>
                  </a:lnTo>
                  <a:lnTo>
                    <a:pt x="15" y="43"/>
                  </a:lnTo>
                  <a:lnTo>
                    <a:pt x="8" y="38"/>
                  </a:lnTo>
                  <a:lnTo>
                    <a:pt x="5" y="31"/>
                  </a:lnTo>
                  <a:lnTo>
                    <a:pt x="3" y="27"/>
                  </a:lnTo>
                  <a:lnTo>
                    <a:pt x="3" y="24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3"/>
                  </a:lnTo>
                  <a:lnTo>
                    <a:pt x="0" y="0"/>
                  </a:lnTo>
                  <a:lnTo>
                    <a:pt x="1" y="2"/>
                  </a:lnTo>
                  <a:lnTo>
                    <a:pt x="1" y="5"/>
                  </a:lnTo>
                  <a:lnTo>
                    <a:pt x="3" y="9"/>
                  </a:lnTo>
                  <a:lnTo>
                    <a:pt x="5" y="10"/>
                  </a:lnTo>
                  <a:lnTo>
                    <a:pt x="6" y="14"/>
                  </a:lnTo>
                  <a:lnTo>
                    <a:pt x="10" y="17"/>
                  </a:lnTo>
                  <a:lnTo>
                    <a:pt x="12" y="21"/>
                  </a:lnTo>
                  <a:lnTo>
                    <a:pt x="13" y="24"/>
                  </a:lnTo>
                  <a:lnTo>
                    <a:pt x="15" y="26"/>
                  </a:lnTo>
                  <a:lnTo>
                    <a:pt x="15" y="29"/>
                  </a:lnTo>
                  <a:lnTo>
                    <a:pt x="15" y="31"/>
                  </a:lnTo>
                  <a:lnTo>
                    <a:pt x="15" y="34"/>
                  </a:lnTo>
                  <a:lnTo>
                    <a:pt x="15" y="36"/>
                  </a:lnTo>
                  <a:lnTo>
                    <a:pt x="17" y="38"/>
                  </a:lnTo>
                  <a:lnTo>
                    <a:pt x="17" y="41"/>
                  </a:lnTo>
                  <a:lnTo>
                    <a:pt x="17" y="43"/>
                  </a:lnTo>
                  <a:lnTo>
                    <a:pt x="20" y="44"/>
                  </a:lnTo>
                  <a:lnTo>
                    <a:pt x="25" y="46"/>
                  </a:lnTo>
                  <a:lnTo>
                    <a:pt x="29" y="48"/>
                  </a:lnTo>
                  <a:lnTo>
                    <a:pt x="32" y="51"/>
                  </a:lnTo>
                  <a:lnTo>
                    <a:pt x="37" y="53"/>
                  </a:lnTo>
                  <a:lnTo>
                    <a:pt x="43" y="55"/>
                  </a:lnTo>
                  <a:lnTo>
                    <a:pt x="46" y="56"/>
                  </a:lnTo>
                  <a:lnTo>
                    <a:pt x="51" y="58"/>
                  </a:lnTo>
                  <a:lnTo>
                    <a:pt x="55" y="60"/>
                  </a:lnTo>
                  <a:lnTo>
                    <a:pt x="56" y="63"/>
                  </a:lnTo>
                  <a:lnTo>
                    <a:pt x="60" y="65"/>
                  </a:lnTo>
                  <a:lnTo>
                    <a:pt x="62" y="67"/>
                  </a:lnTo>
                  <a:lnTo>
                    <a:pt x="65" y="68"/>
                  </a:lnTo>
                  <a:lnTo>
                    <a:pt x="68" y="70"/>
                  </a:lnTo>
                  <a:lnTo>
                    <a:pt x="70" y="72"/>
                  </a:lnTo>
                  <a:lnTo>
                    <a:pt x="74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603440" y="2297160"/>
              <a:ext cx="41040" cy="46080"/>
            </a:xfrm>
            <a:custGeom>
              <a:avLst/>
              <a:gdLst/>
              <a:ahLst/>
              <a:rect l="l" t="t" r="r" b="b"/>
              <a:pathLst>
                <a:path w="60" h="72">
                  <a:moveTo>
                    <a:pt x="10" y="19"/>
                  </a:moveTo>
                  <a:lnTo>
                    <a:pt x="10" y="19"/>
                  </a:lnTo>
                  <a:lnTo>
                    <a:pt x="12" y="21"/>
                  </a:lnTo>
                  <a:lnTo>
                    <a:pt x="12" y="21"/>
                  </a:lnTo>
                  <a:lnTo>
                    <a:pt x="12" y="22"/>
                  </a:lnTo>
                  <a:lnTo>
                    <a:pt x="13" y="24"/>
                  </a:lnTo>
                  <a:lnTo>
                    <a:pt x="13" y="24"/>
                  </a:lnTo>
                  <a:lnTo>
                    <a:pt x="13" y="26"/>
                  </a:lnTo>
                  <a:lnTo>
                    <a:pt x="15" y="26"/>
                  </a:lnTo>
                  <a:lnTo>
                    <a:pt x="15" y="27"/>
                  </a:lnTo>
                  <a:lnTo>
                    <a:pt x="15" y="31"/>
                  </a:lnTo>
                  <a:lnTo>
                    <a:pt x="15" y="33"/>
                  </a:lnTo>
                  <a:lnTo>
                    <a:pt x="15" y="34"/>
                  </a:lnTo>
                  <a:lnTo>
                    <a:pt x="15" y="38"/>
                  </a:lnTo>
                  <a:lnTo>
                    <a:pt x="17" y="39"/>
                  </a:lnTo>
                  <a:lnTo>
                    <a:pt x="17" y="41"/>
                  </a:lnTo>
                  <a:lnTo>
                    <a:pt x="17" y="43"/>
                  </a:lnTo>
                  <a:lnTo>
                    <a:pt x="18" y="44"/>
                  </a:lnTo>
                  <a:lnTo>
                    <a:pt x="22" y="46"/>
                  </a:lnTo>
                  <a:lnTo>
                    <a:pt x="24" y="46"/>
                  </a:lnTo>
                  <a:lnTo>
                    <a:pt x="27" y="48"/>
                  </a:lnTo>
                  <a:lnTo>
                    <a:pt x="29" y="50"/>
                  </a:lnTo>
                  <a:lnTo>
                    <a:pt x="32" y="50"/>
                  </a:lnTo>
                  <a:lnTo>
                    <a:pt x="34" y="51"/>
                  </a:lnTo>
                  <a:lnTo>
                    <a:pt x="37" y="53"/>
                  </a:lnTo>
                  <a:lnTo>
                    <a:pt x="39" y="55"/>
                  </a:lnTo>
                  <a:lnTo>
                    <a:pt x="43" y="56"/>
                  </a:lnTo>
                  <a:lnTo>
                    <a:pt x="44" y="60"/>
                  </a:lnTo>
                  <a:lnTo>
                    <a:pt x="48" y="62"/>
                  </a:lnTo>
                  <a:lnTo>
                    <a:pt x="51" y="65"/>
                  </a:lnTo>
                  <a:lnTo>
                    <a:pt x="53" y="67"/>
                  </a:lnTo>
                  <a:lnTo>
                    <a:pt x="56" y="68"/>
                  </a:lnTo>
                  <a:lnTo>
                    <a:pt x="60" y="72"/>
                  </a:lnTo>
                  <a:lnTo>
                    <a:pt x="51" y="67"/>
                  </a:lnTo>
                  <a:lnTo>
                    <a:pt x="43" y="63"/>
                  </a:lnTo>
                  <a:lnTo>
                    <a:pt x="34" y="58"/>
                  </a:lnTo>
                  <a:lnTo>
                    <a:pt x="25" y="51"/>
                  </a:lnTo>
                  <a:lnTo>
                    <a:pt x="18" y="46"/>
                  </a:lnTo>
                  <a:lnTo>
                    <a:pt x="12" y="41"/>
                  </a:lnTo>
                  <a:lnTo>
                    <a:pt x="8" y="36"/>
                  </a:lnTo>
                  <a:lnTo>
                    <a:pt x="5" y="31"/>
                  </a:lnTo>
                  <a:lnTo>
                    <a:pt x="3" y="27"/>
                  </a:lnTo>
                  <a:lnTo>
                    <a:pt x="3" y="24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0" y="12"/>
                  </a:lnTo>
                  <a:lnTo>
                    <a:pt x="0" y="9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2"/>
                  </a:lnTo>
                  <a:lnTo>
                    <a:pt x="1" y="3"/>
                  </a:lnTo>
                  <a:lnTo>
                    <a:pt x="3" y="7"/>
                  </a:lnTo>
                  <a:lnTo>
                    <a:pt x="3" y="9"/>
                  </a:lnTo>
                  <a:lnTo>
                    <a:pt x="5" y="10"/>
                  </a:lnTo>
                  <a:lnTo>
                    <a:pt x="6" y="14"/>
                  </a:lnTo>
                  <a:lnTo>
                    <a:pt x="8" y="15"/>
                  </a:lnTo>
                  <a:lnTo>
                    <a:pt x="10" y="19"/>
                  </a:lnTo>
                  <a:close/>
                </a:path>
              </a:pathLst>
            </a:custGeom>
            <a:solidFill>
              <a:srgbClr val="592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608120" y="2252520"/>
              <a:ext cx="1440" cy="504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7"/>
                  </a:moveTo>
                  <a:lnTo>
                    <a:pt x="0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1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608120" y="2252520"/>
              <a:ext cx="1440" cy="5040"/>
            </a:xfrm>
            <a:custGeom>
              <a:avLst/>
              <a:gdLst/>
              <a:ahLst/>
              <a:rect l="l" t="t" r="r" b="b"/>
              <a:pathLst>
                <a:path w="1" h="7">
                  <a:moveTo>
                    <a:pt x="0" y="7"/>
                  </a:moveTo>
                  <a:lnTo>
                    <a:pt x="0" y="5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716120" y="2341440"/>
              <a:ext cx="90360" cy="130320"/>
            </a:xfrm>
            <a:custGeom>
              <a:avLst/>
              <a:gdLst/>
              <a:ahLst/>
              <a:rect l="l" t="t" r="r" b="b"/>
              <a:pathLst>
                <a:path w="131" h="205">
                  <a:moveTo>
                    <a:pt x="104" y="0"/>
                  </a:moveTo>
                  <a:lnTo>
                    <a:pt x="102" y="7"/>
                  </a:lnTo>
                  <a:lnTo>
                    <a:pt x="100" y="14"/>
                  </a:lnTo>
                  <a:lnTo>
                    <a:pt x="100" y="21"/>
                  </a:lnTo>
                  <a:lnTo>
                    <a:pt x="100" y="27"/>
                  </a:lnTo>
                  <a:lnTo>
                    <a:pt x="100" y="33"/>
                  </a:lnTo>
                  <a:lnTo>
                    <a:pt x="100" y="39"/>
                  </a:lnTo>
                  <a:lnTo>
                    <a:pt x="100" y="46"/>
                  </a:lnTo>
                  <a:lnTo>
                    <a:pt x="100" y="53"/>
                  </a:lnTo>
                  <a:lnTo>
                    <a:pt x="105" y="56"/>
                  </a:lnTo>
                  <a:lnTo>
                    <a:pt x="109" y="58"/>
                  </a:lnTo>
                  <a:lnTo>
                    <a:pt x="112" y="60"/>
                  </a:lnTo>
                  <a:lnTo>
                    <a:pt x="114" y="60"/>
                  </a:lnTo>
                  <a:lnTo>
                    <a:pt x="117" y="62"/>
                  </a:lnTo>
                  <a:lnTo>
                    <a:pt x="121" y="62"/>
                  </a:lnTo>
                  <a:lnTo>
                    <a:pt x="126" y="63"/>
                  </a:lnTo>
                  <a:lnTo>
                    <a:pt x="131" y="63"/>
                  </a:lnTo>
                  <a:lnTo>
                    <a:pt x="130" y="68"/>
                  </a:lnTo>
                  <a:lnTo>
                    <a:pt x="126" y="79"/>
                  </a:lnTo>
                  <a:lnTo>
                    <a:pt x="121" y="91"/>
                  </a:lnTo>
                  <a:lnTo>
                    <a:pt x="114" y="103"/>
                  </a:lnTo>
                  <a:lnTo>
                    <a:pt x="109" y="116"/>
                  </a:lnTo>
                  <a:lnTo>
                    <a:pt x="102" y="128"/>
                  </a:lnTo>
                  <a:lnTo>
                    <a:pt x="99" y="140"/>
                  </a:lnTo>
                  <a:lnTo>
                    <a:pt x="97" y="149"/>
                  </a:lnTo>
                  <a:lnTo>
                    <a:pt x="97" y="152"/>
                  </a:lnTo>
                  <a:lnTo>
                    <a:pt x="97" y="154"/>
                  </a:lnTo>
                  <a:lnTo>
                    <a:pt x="95" y="157"/>
                  </a:lnTo>
                  <a:lnTo>
                    <a:pt x="93" y="159"/>
                  </a:lnTo>
                  <a:lnTo>
                    <a:pt x="90" y="162"/>
                  </a:lnTo>
                  <a:lnTo>
                    <a:pt x="88" y="166"/>
                  </a:lnTo>
                  <a:lnTo>
                    <a:pt x="86" y="168"/>
                  </a:lnTo>
                  <a:lnTo>
                    <a:pt x="86" y="169"/>
                  </a:lnTo>
                  <a:lnTo>
                    <a:pt x="85" y="164"/>
                  </a:lnTo>
                  <a:lnTo>
                    <a:pt x="83" y="159"/>
                  </a:lnTo>
                  <a:lnTo>
                    <a:pt x="80" y="154"/>
                  </a:lnTo>
                  <a:lnTo>
                    <a:pt x="78" y="147"/>
                  </a:lnTo>
                  <a:lnTo>
                    <a:pt x="76" y="142"/>
                  </a:lnTo>
                  <a:lnTo>
                    <a:pt x="74" y="137"/>
                  </a:lnTo>
                  <a:lnTo>
                    <a:pt x="73" y="132"/>
                  </a:lnTo>
                  <a:lnTo>
                    <a:pt x="71" y="125"/>
                  </a:lnTo>
                  <a:lnTo>
                    <a:pt x="64" y="127"/>
                  </a:lnTo>
                  <a:lnTo>
                    <a:pt x="59" y="128"/>
                  </a:lnTo>
                  <a:lnTo>
                    <a:pt x="54" y="130"/>
                  </a:lnTo>
                  <a:lnTo>
                    <a:pt x="49" y="132"/>
                  </a:lnTo>
                  <a:lnTo>
                    <a:pt x="43" y="135"/>
                  </a:lnTo>
                  <a:lnTo>
                    <a:pt x="38" y="137"/>
                  </a:lnTo>
                  <a:lnTo>
                    <a:pt x="33" y="140"/>
                  </a:lnTo>
                  <a:lnTo>
                    <a:pt x="28" y="144"/>
                  </a:lnTo>
                  <a:lnTo>
                    <a:pt x="28" y="152"/>
                  </a:lnTo>
                  <a:lnTo>
                    <a:pt x="26" y="161"/>
                  </a:lnTo>
                  <a:lnTo>
                    <a:pt x="23" y="168"/>
                  </a:lnTo>
                  <a:lnTo>
                    <a:pt x="21" y="176"/>
                  </a:lnTo>
                  <a:lnTo>
                    <a:pt x="18" y="183"/>
                  </a:lnTo>
                  <a:lnTo>
                    <a:pt x="12" y="190"/>
                  </a:lnTo>
                  <a:lnTo>
                    <a:pt x="7" y="198"/>
                  </a:lnTo>
                  <a:lnTo>
                    <a:pt x="2" y="205"/>
                  </a:lnTo>
                  <a:lnTo>
                    <a:pt x="0" y="202"/>
                  </a:lnTo>
                  <a:lnTo>
                    <a:pt x="0" y="195"/>
                  </a:lnTo>
                  <a:lnTo>
                    <a:pt x="2" y="186"/>
                  </a:lnTo>
                  <a:lnTo>
                    <a:pt x="4" y="174"/>
                  </a:lnTo>
                  <a:lnTo>
                    <a:pt x="5" y="162"/>
                  </a:lnTo>
                  <a:lnTo>
                    <a:pt x="9" y="150"/>
                  </a:lnTo>
                  <a:lnTo>
                    <a:pt x="11" y="137"/>
                  </a:lnTo>
                  <a:lnTo>
                    <a:pt x="11" y="125"/>
                  </a:lnTo>
                  <a:lnTo>
                    <a:pt x="31" y="104"/>
                  </a:lnTo>
                  <a:lnTo>
                    <a:pt x="31" y="101"/>
                  </a:lnTo>
                  <a:lnTo>
                    <a:pt x="30" y="97"/>
                  </a:lnTo>
                  <a:lnTo>
                    <a:pt x="30" y="96"/>
                  </a:lnTo>
                  <a:lnTo>
                    <a:pt x="28" y="92"/>
                  </a:lnTo>
                  <a:lnTo>
                    <a:pt x="26" y="91"/>
                  </a:lnTo>
                  <a:lnTo>
                    <a:pt x="24" y="89"/>
                  </a:lnTo>
                  <a:lnTo>
                    <a:pt x="23" y="87"/>
                  </a:lnTo>
                  <a:lnTo>
                    <a:pt x="19" y="84"/>
                  </a:lnTo>
                  <a:lnTo>
                    <a:pt x="21" y="77"/>
                  </a:lnTo>
                  <a:lnTo>
                    <a:pt x="23" y="70"/>
                  </a:lnTo>
                  <a:lnTo>
                    <a:pt x="24" y="63"/>
                  </a:lnTo>
                  <a:lnTo>
                    <a:pt x="30" y="58"/>
                  </a:lnTo>
                  <a:lnTo>
                    <a:pt x="40" y="48"/>
                  </a:lnTo>
                  <a:lnTo>
                    <a:pt x="52" y="39"/>
                  </a:lnTo>
                  <a:lnTo>
                    <a:pt x="66" y="31"/>
                  </a:lnTo>
                  <a:lnTo>
                    <a:pt x="80" y="22"/>
                  </a:lnTo>
                  <a:lnTo>
                    <a:pt x="93" y="12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716120" y="2341440"/>
              <a:ext cx="90360" cy="130320"/>
            </a:xfrm>
            <a:custGeom>
              <a:avLst/>
              <a:gdLst/>
              <a:ahLst/>
              <a:rect l="l" t="t" r="r" b="b"/>
              <a:pathLst>
                <a:path w="131" h="205">
                  <a:moveTo>
                    <a:pt x="104" y="0"/>
                  </a:moveTo>
                  <a:lnTo>
                    <a:pt x="102" y="7"/>
                  </a:lnTo>
                  <a:lnTo>
                    <a:pt x="100" y="14"/>
                  </a:lnTo>
                  <a:lnTo>
                    <a:pt x="100" y="21"/>
                  </a:lnTo>
                  <a:lnTo>
                    <a:pt x="100" y="27"/>
                  </a:lnTo>
                  <a:lnTo>
                    <a:pt x="100" y="33"/>
                  </a:lnTo>
                  <a:lnTo>
                    <a:pt x="100" y="39"/>
                  </a:lnTo>
                  <a:lnTo>
                    <a:pt x="100" y="46"/>
                  </a:lnTo>
                  <a:lnTo>
                    <a:pt x="100" y="53"/>
                  </a:lnTo>
                  <a:lnTo>
                    <a:pt x="105" y="56"/>
                  </a:lnTo>
                  <a:lnTo>
                    <a:pt x="109" y="58"/>
                  </a:lnTo>
                  <a:lnTo>
                    <a:pt x="112" y="60"/>
                  </a:lnTo>
                  <a:lnTo>
                    <a:pt x="114" y="60"/>
                  </a:lnTo>
                  <a:lnTo>
                    <a:pt x="117" y="62"/>
                  </a:lnTo>
                  <a:lnTo>
                    <a:pt x="121" y="62"/>
                  </a:lnTo>
                  <a:lnTo>
                    <a:pt x="126" y="63"/>
                  </a:lnTo>
                  <a:lnTo>
                    <a:pt x="131" y="63"/>
                  </a:lnTo>
                  <a:lnTo>
                    <a:pt x="130" y="68"/>
                  </a:lnTo>
                  <a:lnTo>
                    <a:pt x="126" y="79"/>
                  </a:lnTo>
                  <a:lnTo>
                    <a:pt x="121" y="91"/>
                  </a:lnTo>
                  <a:lnTo>
                    <a:pt x="114" y="103"/>
                  </a:lnTo>
                  <a:lnTo>
                    <a:pt x="109" y="116"/>
                  </a:lnTo>
                  <a:lnTo>
                    <a:pt x="102" y="128"/>
                  </a:lnTo>
                  <a:lnTo>
                    <a:pt x="99" y="140"/>
                  </a:lnTo>
                  <a:lnTo>
                    <a:pt x="97" y="149"/>
                  </a:lnTo>
                  <a:lnTo>
                    <a:pt x="97" y="152"/>
                  </a:lnTo>
                  <a:lnTo>
                    <a:pt x="97" y="154"/>
                  </a:lnTo>
                  <a:lnTo>
                    <a:pt x="95" y="157"/>
                  </a:lnTo>
                  <a:lnTo>
                    <a:pt x="93" y="159"/>
                  </a:lnTo>
                  <a:lnTo>
                    <a:pt x="90" y="162"/>
                  </a:lnTo>
                  <a:lnTo>
                    <a:pt x="88" y="166"/>
                  </a:lnTo>
                  <a:lnTo>
                    <a:pt x="86" y="168"/>
                  </a:lnTo>
                  <a:lnTo>
                    <a:pt x="86" y="169"/>
                  </a:lnTo>
                  <a:lnTo>
                    <a:pt x="85" y="164"/>
                  </a:lnTo>
                  <a:lnTo>
                    <a:pt x="83" y="159"/>
                  </a:lnTo>
                  <a:lnTo>
                    <a:pt x="80" y="154"/>
                  </a:lnTo>
                  <a:lnTo>
                    <a:pt x="78" y="147"/>
                  </a:lnTo>
                  <a:lnTo>
                    <a:pt x="76" y="142"/>
                  </a:lnTo>
                  <a:lnTo>
                    <a:pt x="74" y="137"/>
                  </a:lnTo>
                  <a:lnTo>
                    <a:pt x="73" y="132"/>
                  </a:lnTo>
                  <a:lnTo>
                    <a:pt x="71" y="125"/>
                  </a:lnTo>
                  <a:lnTo>
                    <a:pt x="64" y="127"/>
                  </a:lnTo>
                  <a:lnTo>
                    <a:pt x="59" y="128"/>
                  </a:lnTo>
                  <a:lnTo>
                    <a:pt x="54" y="130"/>
                  </a:lnTo>
                  <a:lnTo>
                    <a:pt x="49" y="132"/>
                  </a:lnTo>
                  <a:lnTo>
                    <a:pt x="43" y="135"/>
                  </a:lnTo>
                  <a:lnTo>
                    <a:pt x="38" y="137"/>
                  </a:lnTo>
                  <a:lnTo>
                    <a:pt x="33" y="140"/>
                  </a:lnTo>
                  <a:lnTo>
                    <a:pt x="28" y="144"/>
                  </a:lnTo>
                  <a:lnTo>
                    <a:pt x="28" y="152"/>
                  </a:lnTo>
                  <a:lnTo>
                    <a:pt x="26" y="161"/>
                  </a:lnTo>
                  <a:lnTo>
                    <a:pt x="23" y="168"/>
                  </a:lnTo>
                  <a:lnTo>
                    <a:pt x="21" y="176"/>
                  </a:lnTo>
                  <a:lnTo>
                    <a:pt x="18" y="183"/>
                  </a:lnTo>
                  <a:lnTo>
                    <a:pt x="12" y="190"/>
                  </a:lnTo>
                  <a:lnTo>
                    <a:pt x="7" y="198"/>
                  </a:lnTo>
                  <a:lnTo>
                    <a:pt x="2" y="205"/>
                  </a:lnTo>
                  <a:lnTo>
                    <a:pt x="0" y="202"/>
                  </a:lnTo>
                  <a:lnTo>
                    <a:pt x="0" y="195"/>
                  </a:lnTo>
                  <a:lnTo>
                    <a:pt x="2" y="186"/>
                  </a:lnTo>
                  <a:lnTo>
                    <a:pt x="4" y="174"/>
                  </a:lnTo>
                  <a:lnTo>
                    <a:pt x="5" y="162"/>
                  </a:lnTo>
                  <a:lnTo>
                    <a:pt x="9" y="150"/>
                  </a:lnTo>
                  <a:lnTo>
                    <a:pt x="11" y="137"/>
                  </a:lnTo>
                  <a:lnTo>
                    <a:pt x="11" y="125"/>
                  </a:lnTo>
                  <a:lnTo>
                    <a:pt x="31" y="104"/>
                  </a:lnTo>
                  <a:lnTo>
                    <a:pt x="31" y="101"/>
                  </a:lnTo>
                  <a:lnTo>
                    <a:pt x="30" y="97"/>
                  </a:lnTo>
                  <a:lnTo>
                    <a:pt x="30" y="96"/>
                  </a:lnTo>
                  <a:lnTo>
                    <a:pt x="28" y="92"/>
                  </a:lnTo>
                  <a:lnTo>
                    <a:pt x="26" y="91"/>
                  </a:lnTo>
                  <a:lnTo>
                    <a:pt x="24" y="89"/>
                  </a:lnTo>
                  <a:lnTo>
                    <a:pt x="23" y="87"/>
                  </a:lnTo>
                  <a:lnTo>
                    <a:pt x="19" y="84"/>
                  </a:lnTo>
                  <a:lnTo>
                    <a:pt x="21" y="77"/>
                  </a:lnTo>
                  <a:lnTo>
                    <a:pt x="23" y="70"/>
                  </a:lnTo>
                  <a:lnTo>
                    <a:pt x="24" y="63"/>
                  </a:lnTo>
                  <a:lnTo>
                    <a:pt x="30" y="58"/>
                  </a:lnTo>
                  <a:lnTo>
                    <a:pt x="40" y="48"/>
                  </a:lnTo>
                  <a:lnTo>
                    <a:pt x="52" y="39"/>
                  </a:lnTo>
                  <a:lnTo>
                    <a:pt x="66" y="31"/>
                  </a:lnTo>
                  <a:lnTo>
                    <a:pt x="80" y="22"/>
                  </a:lnTo>
                  <a:lnTo>
                    <a:pt x="93" y="12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768320" y="2346480"/>
              <a:ext cx="36720" cy="56880"/>
            </a:xfrm>
            <a:custGeom>
              <a:avLst/>
              <a:gdLst/>
              <a:ahLst/>
              <a:rect l="l" t="t" r="r" b="b"/>
              <a:pathLst>
                <a:path w="52" h="90">
                  <a:moveTo>
                    <a:pt x="50" y="56"/>
                  </a:moveTo>
                  <a:lnTo>
                    <a:pt x="50" y="56"/>
                  </a:lnTo>
                  <a:lnTo>
                    <a:pt x="50" y="56"/>
                  </a:lnTo>
                  <a:lnTo>
                    <a:pt x="50" y="58"/>
                  </a:lnTo>
                  <a:lnTo>
                    <a:pt x="50" y="58"/>
                  </a:lnTo>
                  <a:lnTo>
                    <a:pt x="52" y="60"/>
                  </a:lnTo>
                  <a:lnTo>
                    <a:pt x="52" y="60"/>
                  </a:lnTo>
                  <a:lnTo>
                    <a:pt x="52" y="60"/>
                  </a:lnTo>
                  <a:lnTo>
                    <a:pt x="52" y="61"/>
                  </a:lnTo>
                  <a:lnTo>
                    <a:pt x="50" y="63"/>
                  </a:lnTo>
                  <a:lnTo>
                    <a:pt x="50" y="67"/>
                  </a:lnTo>
                  <a:lnTo>
                    <a:pt x="48" y="70"/>
                  </a:lnTo>
                  <a:lnTo>
                    <a:pt x="46" y="73"/>
                  </a:lnTo>
                  <a:lnTo>
                    <a:pt x="45" y="77"/>
                  </a:lnTo>
                  <a:lnTo>
                    <a:pt x="43" y="82"/>
                  </a:lnTo>
                  <a:lnTo>
                    <a:pt x="41" y="85"/>
                  </a:lnTo>
                  <a:lnTo>
                    <a:pt x="39" y="90"/>
                  </a:lnTo>
                  <a:lnTo>
                    <a:pt x="38" y="90"/>
                  </a:lnTo>
                  <a:lnTo>
                    <a:pt x="38" y="90"/>
                  </a:lnTo>
                  <a:lnTo>
                    <a:pt x="38" y="90"/>
                  </a:lnTo>
                  <a:lnTo>
                    <a:pt x="36" y="90"/>
                  </a:lnTo>
                  <a:lnTo>
                    <a:pt x="36" y="90"/>
                  </a:lnTo>
                  <a:lnTo>
                    <a:pt x="34" y="90"/>
                  </a:lnTo>
                  <a:lnTo>
                    <a:pt x="34" y="90"/>
                  </a:lnTo>
                  <a:lnTo>
                    <a:pt x="33" y="90"/>
                  </a:lnTo>
                  <a:lnTo>
                    <a:pt x="29" y="87"/>
                  </a:lnTo>
                  <a:lnTo>
                    <a:pt x="26" y="84"/>
                  </a:lnTo>
                  <a:lnTo>
                    <a:pt x="19" y="80"/>
                  </a:lnTo>
                  <a:lnTo>
                    <a:pt x="14" y="79"/>
                  </a:lnTo>
                  <a:lnTo>
                    <a:pt x="8" y="77"/>
                  </a:lnTo>
                  <a:lnTo>
                    <a:pt x="5" y="73"/>
                  </a:lnTo>
                  <a:lnTo>
                    <a:pt x="2" y="70"/>
                  </a:lnTo>
                  <a:lnTo>
                    <a:pt x="0" y="63"/>
                  </a:lnTo>
                  <a:lnTo>
                    <a:pt x="0" y="55"/>
                  </a:lnTo>
                  <a:lnTo>
                    <a:pt x="2" y="46"/>
                  </a:lnTo>
                  <a:lnTo>
                    <a:pt x="3" y="38"/>
                  </a:lnTo>
                  <a:lnTo>
                    <a:pt x="7" y="29"/>
                  </a:lnTo>
                  <a:lnTo>
                    <a:pt x="10" y="20"/>
                  </a:lnTo>
                  <a:lnTo>
                    <a:pt x="14" y="12"/>
                  </a:lnTo>
                  <a:lnTo>
                    <a:pt x="17" y="5"/>
                  </a:lnTo>
                  <a:lnTo>
                    <a:pt x="24" y="0"/>
                  </a:lnTo>
                  <a:lnTo>
                    <a:pt x="22" y="7"/>
                  </a:lnTo>
                  <a:lnTo>
                    <a:pt x="22" y="12"/>
                  </a:lnTo>
                  <a:lnTo>
                    <a:pt x="22" y="17"/>
                  </a:lnTo>
                  <a:lnTo>
                    <a:pt x="22" y="22"/>
                  </a:lnTo>
                  <a:lnTo>
                    <a:pt x="22" y="29"/>
                  </a:lnTo>
                  <a:lnTo>
                    <a:pt x="22" y="34"/>
                  </a:lnTo>
                  <a:lnTo>
                    <a:pt x="22" y="41"/>
                  </a:lnTo>
                  <a:lnTo>
                    <a:pt x="22" y="46"/>
                  </a:lnTo>
                  <a:lnTo>
                    <a:pt x="26" y="49"/>
                  </a:lnTo>
                  <a:lnTo>
                    <a:pt x="29" y="51"/>
                  </a:lnTo>
                  <a:lnTo>
                    <a:pt x="33" y="51"/>
                  </a:lnTo>
                  <a:lnTo>
                    <a:pt x="36" y="53"/>
                  </a:lnTo>
                  <a:lnTo>
                    <a:pt x="38" y="55"/>
                  </a:lnTo>
                  <a:lnTo>
                    <a:pt x="41" y="55"/>
                  </a:lnTo>
                  <a:lnTo>
                    <a:pt x="45" y="55"/>
                  </a:lnTo>
                  <a:lnTo>
                    <a:pt x="50" y="5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716120" y="2355840"/>
              <a:ext cx="71280" cy="115920"/>
            </a:xfrm>
            <a:custGeom>
              <a:avLst/>
              <a:gdLst/>
              <a:ahLst/>
              <a:rect l="l" t="t" r="r" b="b"/>
              <a:pathLst>
                <a:path w="104" h="183">
                  <a:moveTo>
                    <a:pt x="73" y="67"/>
                  </a:moveTo>
                  <a:lnTo>
                    <a:pt x="76" y="70"/>
                  </a:lnTo>
                  <a:lnTo>
                    <a:pt x="81" y="72"/>
                  </a:lnTo>
                  <a:lnTo>
                    <a:pt x="86" y="74"/>
                  </a:lnTo>
                  <a:lnTo>
                    <a:pt x="92" y="75"/>
                  </a:lnTo>
                  <a:lnTo>
                    <a:pt x="95" y="77"/>
                  </a:lnTo>
                  <a:lnTo>
                    <a:pt x="100" y="81"/>
                  </a:lnTo>
                  <a:lnTo>
                    <a:pt x="102" y="84"/>
                  </a:lnTo>
                  <a:lnTo>
                    <a:pt x="104" y="89"/>
                  </a:lnTo>
                  <a:lnTo>
                    <a:pt x="102" y="93"/>
                  </a:lnTo>
                  <a:lnTo>
                    <a:pt x="102" y="96"/>
                  </a:lnTo>
                  <a:lnTo>
                    <a:pt x="100" y="101"/>
                  </a:lnTo>
                  <a:lnTo>
                    <a:pt x="99" y="105"/>
                  </a:lnTo>
                  <a:lnTo>
                    <a:pt x="99" y="110"/>
                  </a:lnTo>
                  <a:lnTo>
                    <a:pt x="99" y="113"/>
                  </a:lnTo>
                  <a:lnTo>
                    <a:pt x="99" y="118"/>
                  </a:lnTo>
                  <a:lnTo>
                    <a:pt x="99" y="123"/>
                  </a:lnTo>
                  <a:lnTo>
                    <a:pt x="99" y="123"/>
                  </a:lnTo>
                  <a:lnTo>
                    <a:pt x="99" y="123"/>
                  </a:lnTo>
                  <a:lnTo>
                    <a:pt x="99" y="125"/>
                  </a:lnTo>
                  <a:lnTo>
                    <a:pt x="99" y="125"/>
                  </a:lnTo>
                  <a:lnTo>
                    <a:pt x="99" y="125"/>
                  </a:lnTo>
                  <a:lnTo>
                    <a:pt x="97" y="127"/>
                  </a:lnTo>
                  <a:lnTo>
                    <a:pt x="97" y="127"/>
                  </a:lnTo>
                  <a:lnTo>
                    <a:pt x="97" y="127"/>
                  </a:lnTo>
                  <a:lnTo>
                    <a:pt x="97" y="130"/>
                  </a:lnTo>
                  <a:lnTo>
                    <a:pt x="97" y="132"/>
                  </a:lnTo>
                  <a:lnTo>
                    <a:pt x="95" y="135"/>
                  </a:lnTo>
                  <a:lnTo>
                    <a:pt x="93" y="137"/>
                  </a:lnTo>
                  <a:lnTo>
                    <a:pt x="90" y="140"/>
                  </a:lnTo>
                  <a:lnTo>
                    <a:pt x="88" y="144"/>
                  </a:lnTo>
                  <a:lnTo>
                    <a:pt x="86" y="146"/>
                  </a:lnTo>
                  <a:lnTo>
                    <a:pt x="86" y="147"/>
                  </a:lnTo>
                  <a:lnTo>
                    <a:pt x="85" y="142"/>
                  </a:lnTo>
                  <a:lnTo>
                    <a:pt x="83" y="137"/>
                  </a:lnTo>
                  <a:lnTo>
                    <a:pt x="80" y="132"/>
                  </a:lnTo>
                  <a:lnTo>
                    <a:pt x="78" y="125"/>
                  </a:lnTo>
                  <a:lnTo>
                    <a:pt x="76" y="120"/>
                  </a:lnTo>
                  <a:lnTo>
                    <a:pt x="74" y="115"/>
                  </a:lnTo>
                  <a:lnTo>
                    <a:pt x="73" y="110"/>
                  </a:lnTo>
                  <a:lnTo>
                    <a:pt x="71" y="103"/>
                  </a:lnTo>
                  <a:lnTo>
                    <a:pt x="64" y="105"/>
                  </a:lnTo>
                  <a:lnTo>
                    <a:pt x="59" y="106"/>
                  </a:lnTo>
                  <a:lnTo>
                    <a:pt x="54" y="108"/>
                  </a:lnTo>
                  <a:lnTo>
                    <a:pt x="49" y="110"/>
                  </a:lnTo>
                  <a:lnTo>
                    <a:pt x="43" y="113"/>
                  </a:lnTo>
                  <a:lnTo>
                    <a:pt x="38" y="115"/>
                  </a:lnTo>
                  <a:lnTo>
                    <a:pt x="33" y="118"/>
                  </a:lnTo>
                  <a:lnTo>
                    <a:pt x="28" y="122"/>
                  </a:lnTo>
                  <a:lnTo>
                    <a:pt x="28" y="130"/>
                  </a:lnTo>
                  <a:lnTo>
                    <a:pt x="26" y="139"/>
                  </a:lnTo>
                  <a:lnTo>
                    <a:pt x="23" y="146"/>
                  </a:lnTo>
                  <a:lnTo>
                    <a:pt x="21" y="154"/>
                  </a:lnTo>
                  <a:lnTo>
                    <a:pt x="18" y="161"/>
                  </a:lnTo>
                  <a:lnTo>
                    <a:pt x="12" y="168"/>
                  </a:lnTo>
                  <a:lnTo>
                    <a:pt x="7" y="176"/>
                  </a:lnTo>
                  <a:lnTo>
                    <a:pt x="2" y="183"/>
                  </a:lnTo>
                  <a:lnTo>
                    <a:pt x="0" y="180"/>
                  </a:lnTo>
                  <a:lnTo>
                    <a:pt x="0" y="173"/>
                  </a:lnTo>
                  <a:lnTo>
                    <a:pt x="2" y="164"/>
                  </a:lnTo>
                  <a:lnTo>
                    <a:pt x="4" y="152"/>
                  </a:lnTo>
                  <a:lnTo>
                    <a:pt x="5" y="140"/>
                  </a:lnTo>
                  <a:lnTo>
                    <a:pt x="9" y="128"/>
                  </a:lnTo>
                  <a:lnTo>
                    <a:pt x="11" y="115"/>
                  </a:lnTo>
                  <a:lnTo>
                    <a:pt x="11" y="103"/>
                  </a:lnTo>
                  <a:lnTo>
                    <a:pt x="31" y="82"/>
                  </a:lnTo>
                  <a:lnTo>
                    <a:pt x="31" y="79"/>
                  </a:lnTo>
                  <a:lnTo>
                    <a:pt x="30" y="75"/>
                  </a:lnTo>
                  <a:lnTo>
                    <a:pt x="30" y="74"/>
                  </a:lnTo>
                  <a:lnTo>
                    <a:pt x="28" y="70"/>
                  </a:lnTo>
                  <a:lnTo>
                    <a:pt x="26" y="69"/>
                  </a:lnTo>
                  <a:lnTo>
                    <a:pt x="24" y="67"/>
                  </a:lnTo>
                  <a:lnTo>
                    <a:pt x="23" y="65"/>
                  </a:lnTo>
                  <a:lnTo>
                    <a:pt x="19" y="62"/>
                  </a:lnTo>
                  <a:lnTo>
                    <a:pt x="19" y="58"/>
                  </a:lnTo>
                  <a:lnTo>
                    <a:pt x="19" y="55"/>
                  </a:lnTo>
                  <a:lnTo>
                    <a:pt x="21" y="52"/>
                  </a:lnTo>
                  <a:lnTo>
                    <a:pt x="21" y="48"/>
                  </a:lnTo>
                  <a:lnTo>
                    <a:pt x="23" y="45"/>
                  </a:lnTo>
                  <a:lnTo>
                    <a:pt x="24" y="43"/>
                  </a:lnTo>
                  <a:lnTo>
                    <a:pt x="26" y="40"/>
                  </a:lnTo>
                  <a:lnTo>
                    <a:pt x="28" y="38"/>
                  </a:lnTo>
                  <a:lnTo>
                    <a:pt x="30" y="36"/>
                  </a:lnTo>
                  <a:lnTo>
                    <a:pt x="31" y="36"/>
                  </a:lnTo>
                  <a:lnTo>
                    <a:pt x="33" y="34"/>
                  </a:lnTo>
                  <a:lnTo>
                    <a:pt x="35" y="33"/>
                  </a:lnTo>
                  <a:lnTo>
                    <a:pt x="36" y="31"/>
                  </a:lnTo>
                  <a:lnTo>
                    <a:pt x="38" y="29"/>
                  </a:lnTo>
                  <a:lnTo>
                    <a:pt x="40" y="29"/>
                  </a:lnTo>
                  <a:lnTo>
                    <a:pt x="42" y="29"/>
                  </a:lnTo>
                  <a:lnTo>
                    <a:pt x="47" y="26"/>
                  </a:lnTo>
                  <a:lnTo>
                    <a:pt x="50" y="23"/>
                  </a:lnTo>
                  <a:lnTo>
                    <a:pt x="55" y="19"/>
                  </a:lnTo>
                  <a:lnTo>
                    <a:pt x="61" y="16"/>
                  </a:lnTo>
                  <a:lnTo>
                    <a:pt x="64" y="14"/>
                  </a:lnTo>
                  <a:lnTo>
                    <a:pt x="69" y="11"/>
                  </a:lnTo>
                  <a:lnTo>
                    <a:pt x="73" y="7"/>
                  </a:lnTo>
                  <a:lnTo>
                    <a:pt x="78" y="2"/>
                  </a:lnTo>
                  <a:lnTo>
                    <a:pt x="78" y="2"/>
                  </a:lnTo>
                  <a:lnTo>
                    <a:pt x="78" y="2"/>
                  </a:lnTo>
                  <a:lnTo>
                    <a:pt x="78" y="2"/>
                  </a:lnTo>
                  <a:lnTo>
                    <a:pt x="78" y="2"/>
                  </a:lnTo>
                  <a:lnTo>
                    <a:pt x="80" y="2"/>
                  </a:lnTo>
                  <a:lnTo>
                    <a:pt x="80" y="2"/>
                  </a:lnTo>
                  <a:lnTo>
                    <a:pt x="80" y="0"/>
                  </a:lnTo>
                  <a:lnTo>
                    <a:pt x="80" y="0"/>
                  </a:lnTo>
                  <a:lnTo>
                    <a:pt x="80" y="9"/>
                  </a:lnTo>
                  <a:lnTo>
                    <a:pt x="76" y="17"/>
                  </a:lnTo>
                  <a:lnTo>
                    <a:pt x="73" y="26"/>
                  </a:lnTo>
                  <a:lnTo>
                    <a:pt x="69" y="34"/>
                  </a:lnTo>
                  <a:lnTo>
                    <a:pt x="66" y="41"/>
                  </a:lnTo>
                  <a:lnTo>
                    <a:pt x="66" y="50"/>
                  </a:lnTo>
                  <a:lnTo>
                    <a:pt x="68" y="58"/>
                  </a:lnTo>
                  <a:lnTo>
                    <a:pt x="73" y="6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787400" y="234144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787400" y="2341440"/>
              <a:ext cx="1800" cy="1800"/>
            </a:xfrm>
            <a:custGeom>
              <a:avLst/>
              <a:gdLst/>
              <a:ahLst/>
              <a:rect l="l" t="t" r="r" b="b"/>
              <a:pathLst>
                <a:path w="0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819440" y="2359080"/>
              <a:ext cx="68040" cy="90360"/>
            </a:xfrm>
            <a:custGeom>
              <a:avLst/>
              <a:gdLst/>
              <a:ahLst/>
              <a:rect l="l" t="t" r="r" b="b"/>
              <a:pathLst>
                <a:path w="100" h="142">
                  <a:moveTo>
                    <a:pt x="0" y="77"/>
                  </a:moveTo>
                  <a:lnTo>
                    <a:pt x="5" y="86"/>
                  </a:lnTo>
                  <a:lnTo>
                    <a:pt x="8" y="94"/>
                  </a:lnTo>
                  <a:lnTo>
                    <a:pt x="13" y="103"/>
                  </a:lnTo>
                  <a:lnTo>
                    <a:pt x="17" y="112"/>
                  </a:lnTo>
                  <a:lnTo>
                    <a:pt x="22" y="120"/>
                  </a:lnTo>
                  <a:lnTo>
                    <a:pt x="27" y="129"/>
                  </a:lnTo>
                  <a:lnTo>
                    <a:pt x="32" y="135"/>
                  </a:lnTo>
                  <a:lnTo>
                    <a:pt x="39" y="142"/>
                  </a:lnTo>
                  <a:lnTo>
                    <a:pt x="39" y="137"/>
                  </a:lnTo>
                  <a:lnTo>
                    <a:pt x="41" y="130"/>
                  </a:lnTo>
                  <a:lnTo>
                    <a:pt x="43" y="123"/>
                  </a:lnTo>
                  <a:lnTo>
                    <a:pt x="44" y="118"/>
                  </a:lnTo>
                  <a:lnTo>
                    <a:pt x="46" y="113"/>
                  </a:lnTo>
                  <a:lnTo>
                    <a:pt x="48" y="108"/>
                  </a:lnTo>
                  <a:lnTo>
                    <a:pt x="51" y="103"/>
                  </a:lnTo>
                  <a:lnTo>
                    <a:pt x="55" y="98"/>
                  </a:lnTo>
                  <a:lnTo>
                    <a:pt x="56" y="100"/>
                  </a:lnTo>
                  <a:lnTo>
                    <a:pt x="60" y="100"/>
                  </a:lnTo>
                  <a:lnTo>
                    <a:pt x="63" y="101"/>
                  </a:lnTo>
                  <a:lnTo>
                    <a:pt x="67" y="103"/>
                  </a:lnTo>
                  <a:lnTo>
                    <a:pt x="72" y="105"/>
                  </a:lnTo>
                  <a:lnTo>
                    <a:pt x="75" y="106"/>
                  </a:lnTo>
                  <a:lnTo>
                    <a:pt x="79" y="108"/>
                  </a:lnTo>
                  <a:lnTo>
                    <a:pt x="81" y="110"/>
                  </a:lnTo>
                  <a:lnTo>
                    <a:pt x="77" y="103"/>
                  </a:lnTo>
                  <a:lnTo>
                    <a:pt x="74" y="96"/>
                  </a:lnTo>
                  <a:lnTo>
                    <a:pt x="72" y="91"/>
                  </a:lnTo>
                  <a:lnTo>
                    <a:pt x="68" y="84"/>
                  </a:lnTo>
                  <a:lnTo>
                    <a:pt x="65" y="79"/>
                  </a:lnTo>
                  <a:lnTo>
                    <a:pt x="63" y="74"/>
                  </a:lnTo>
                  <a:lnTo>
                    <a:pt x="62" y="67"/>
                  </a:lnTo>
                  <a:lnTo>
                    <a:pt x="60" y="60"/>
                  </a:lnTo>
                  <a:lnTo>
                    <a:pt x="67" y="60"/>
                  </a:lnTo>
                  <a:lnTo>
                    <a:pt x="72" y="64"/>
                  </a:lnTo>
                  <a:lnTo>
                    <a:pt x="77" y="65"/>
                  </a:lnTo>
                  <a:lnTo>
                    <a:pt x="82" y="69"/>
                  </a:lnTo>
                  <a:lnTo>
                    <a:pt x="86" y="72"/>
                  </a:lnTo>
                  <a:lnTo>
                    <a:pt x="91" y="76"/>
                  </a:lnTo>
                  <a:lnTo>
                    <a:pt x="94" y="79"/>
                  </a:lnTo>
                  <a:lnTo>
                    <a:pt x="100" y="84"/>
                  </a:lnTo>
                  <a:lnTo>
                    <a:pt x="98" y="79"/>
                  </a:lnTo>
                  <a:lnTo>
                    <a:pt x="98" y="76"/>
                  </a:lnTo>
                  <a:lnTo>
                    <a:pt x="96" y="70"/>
                  </a:lnTo>
                  <a:lnTo>
                    <a:pt x="94" y="67"/>
                  </a:lnTo>
                  <a:lnTo>
                    <a:pt x="93" y="64"/>
                  </a:lnTo>
                  <a:lnTo>
                    <a:pt x="91" y="59"/>
                  </a:lnTo>
                  <a:lnTo>
                    <a:pt x="91" y="55"/>
                  </a:lnTo>
                  <a:lnTo>
                    <a:pt x="89" y="50"/>
                  </a:lnTo>
                  <a:lnTo>
                    <a:pt x="89" y="50"/>
                  </a:lnTo>
                  <a:lnTo>
                    <a:pt x="87" y="48"/>
                  </a:lnTo>
                  <a:lnTo>
                    <a:pt x="84" y="47"/>
                  </a:lnTo>
                  <a:lnTo>
                    <a:pt x="82" y="45"/>
                  </a:lnTo>
                  <a:lnTo>
                    <a:pt x="81" y="43"/>
                  </a:lnTo>
                  <a:lnTo>
                    <a:pt x="79" y="41"/>
                  </a:lnTo>
                  <a:lnTo>
                    <a:pt x="77" y="40"/>
                  </a:lnTo>
                  <a:lnTo>
                    <a:pt x="75" y="38"/>
                  </a:lnTo>
                  <a:lnTo>
                    <a:pt x="74" y="29"/>
                  </a:lnTo>
                  <a:lnTo>
                    <a:pt x="72" y="23"/>
                  </a:lnTo>
                  <a:lnTo>
                    <a:pt x="68" y="16"/>
                  </a:lnTo>
                  <a:lnTo>
                    <a:pt x="63" y="11"/>
                  </a:lnTo>
                  <a:lnTo>
                    <a:pt x="58" y="6"/>
                  </a:lnTo>
                  <a:lnTo>
                    <a:pt x="51" y="2"/>
                  </a:lnTo>
                  <a:lnTo>
                    <a:pt x="44" y="0"/>
                  </a:lnTo>
                  <a:lnTo>
                    <a:pt x="36" y="0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819440" y="2359080"/>
              <a:ext cx="68040" cy="90360"/>
            </a:xfrm>
            <a:custGeom>
              <a:avLst/>
              <a:gdLst/>
              <a:ahLst/>
              <a:rect l="l" t="t" r="r" b="b"/>
              <a:pathLst>
                <a:path w="100" h="142">
                  <a:moveTo>
                    <a:pt x="0" y="77"/>
                  </a:moveTo>
                  <a:lnTo>
                    <a:pt x="5" y="86"/>
                  </a:lnTo>
                  <a:lnTo>
                    <a:pt x="8" y="94"/>
                  </a:lnTo>
                  <a:lnTo>
                    <a:pt x="13" y="103"/>
                  </a:lnTo>
                  <a:lnTo>
                    <a:pt x="17" y="112"/>
                  </a:lnTo>
                  <a:lnTo>
                    <a:pt x="22" y="120"/>
                  </a:lnTo>
                  <a:lnTo>
                    <a:pt x="27" y="129"/>
                  </a:lnTo>
                  <a:lnTo>
                    <a:pt x="32" y="135"/>
                  </a:lnTo>
                  <a:lnTo>
                    <a:pt x="39" y="142"/>
                  </a:lnTo>
                  <a:lnTo>
                    <a:pt x="39" y="137"/>
                  </a:lnTo>
                  <a:lnTo>
                    <a:pt x="41" y="130"/>
                  </a:lnTo>
                  <a:lnTo>
                    <a:pt x="43" y="123"/>
                  </a:lnTo>
                  <a:lnTo>
                    <a:pt x="44" y="118"/>
                  </a:lnTo>
                  <a:lnTo>
                    <a:pt x="46" y="113"/>
                  </a:lnTo>
                  <a:lnTo>
                    <a:pt x="48" y="108"/>
                  </a:lnTo>
                  <a:lnTo>
                    <a:pt x="51" y="103"/>
                  </a:lnTo>
                  <a:lnTo>
                    <a:pt x="55" y="98"/>
                  </a:lnTo>
                  <a:lnTo>
                    <a:pt x="56" y="100"/>
                  </a:lnTo>
                  <a:lnTo>
                    <a:pt x="60" y="100"/>
                  </a:lnTo>
                  <a:lnTo>
                    <a:pt x="63" y="101"/>
                  </a:lnTo>
                  <a:lnTo>
                    <a:pt x="67" y="103"/>
                  </a:lnTo>
                  <a:lnTo>
                    <a:pt x="72" y="105"/>
                  </a:lnTo>
                  <a:lnTo>
                    <a:pt x="75" y="106"/>
                  </a:lnTo>
                  <a:lnTo>
                    <a:pt x="79" y="108"/>
                  </a:lnTo>
                  <a:lnTo>
                    <a:pt x="81" y="110"/>
                  </a:lnTo>
                  <a:lnTo>
                    <a:pt x="77" y="103"/>
                  </a:lnTo>
                  <a:lnTo>
                    <a:pt x="74" y="96"/>
                  </a:lnTo>
                  <a:lnTo>
                    <a:pt x="72" y="91"/>
                  </a:lnTo>
                  <a:lnTo>
                    <a:pt x="68" y="84"/>
                  </a:lnTo>
                  <a:lnTo>
                    <a:pt x="65" y="79"/>
                  </a:lnTo>
                  <a:lnTo>
                    <a:pt x="63" y="74"/>
                  </a:lnTo>
                  <a:lnTo>
                    <a:pt x="62" y="67"/>
                  </a:lnTo>
                  <a:lnTo>
                    <a:pt x="60" y="60"/>
                  </a:lnTo>
                  <a:lnTo>
                    <a:pt x="67" y="60"/>
                  </a:lnTo>
                  <a:lnTo>
                    <a:pt x="72" y="64"/>
                  </a:lnTo>
                  <a:lnTo>
                    <a:pt x="77" y="65"/>
                  </a:lnTo>
                  <a:lnTo>
                    <a:pt x="82" y="69"/>
                  </a:lnTo>
                  <a:lnTo>
                    <a:pt x="86" y="72"/>
                  </a:lnTo>
                  <a:lnTo>
                    <a:pt x="91" y="76"/>
                  </a:lnTo>
                  <a:lnTo>
                    <a:pt x="94" y="79"/>
                  </a:lnTo>
                  <a:lnTo>
                    <a:pt x="100" y="84"/>
                  </a:lnTo>
                  <a:lnTo>
                    <a:pt x="98" y="79"/>
                  </a:lnTo>
                  <a:lnTo>
                    <a:pt x="98" y="76"/>
                  </a:lnTo>
                  <a:lnTo>
                    <a:pt x="96" y="70"/>
                  </a:lnTo>
                  <a:lnTo>
                    <a:pt x="94" y="67"/>
                  </a:lnTo>
                  <a:lnTo>
                    <a:pt x="93" y="64"/>
                  </a:lnTo>
                  <a:lnTo>
                    <a:pt x="91" y="59"/>
                  </a:lnTo>
                  <a:lnTo>
                    <a:pt x="91" y="55"/>
                  </a:lnTo>
                  <a:lnTo>
                    <a:pt x="89" y="50"/>
                  </a:lnTo>
                  <a:lnTo>
                    <a:pt x="89" y="50"/>
                  </a:lnTo>
                  <a:lnTo>
                    <a:pt x="87" y="48"/>
                  </a:lnTo>
                  <a:lnTo>
                    <a:pt x="84" y="47"/>
                  </a:lnTo>
                  <a:lnTo>
                    <a:pt x="82" y="45"/>
                  </a:lnTo>
                  <a:lnTo>
                    <a:pt x="81" y="43"/>
                  </a:lnTo>
                  <a:lnTo>
                    <a:pt x="79" y="41"/>
                  </a:lnTo>
                  <a:lnTo>
                    <a:pt x="77" y="40"/>
                  </a:lnTo>
                  <a:lnTo>
                    <a:pt x="75" y="38"/>
                  </a:lnTo>
                  <a:lnTo>
                    <a:pt x="74" y="29"/>
                  </a:lnTo>
                  <a:lnTo>
                    <a:pt x="72" y="23"/>
                  </a:lnTo>
                  <a:lnTo>
                    <a:pt x="68" y="16"/>
                  </a:lnTo>
                  <a:lnTo>
                    <a:pt x="63" y="11"/>
                  </a:lnTo>
                  <a:lnTo>
                    <a:pt x="58" y="6"/>
                  </a:lnTo>
                  <a:lnTo>
                    <a:pt x="51" y="2"/>
                  </a:lnTo>
                  <a:lnTo>
                    <a:pt x="44" y="0"/>
                  </a:lnTo>
                  <a:lnTo>
                    <a:pt x="36" y="0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843200" y="2359080"/>
              <a:ext cx="25200" cy="19080"/>
            </a:xfrm>
            <a:custGeom>
              <a:avLst/>
              <a:gdLst/>
              <a:ahLst/>
              <a:rect l="l" t="t" r="r" b="b"/>
              <a:pathLst>
                <a:path w="38" h="29">
                  <a:moveTo>
                    <a:pt x="38" y="29"/>
                  </a:moveTo>
                  <a:lnTo>
                    <a:pt x="38" y="29"/>
                  </a:lnTo>
                  <a:lnTo>
                    <a:pt x="38" y="28"/>
                  </a:lnTo>
                  <a:lnTo>
                    <a:pt x="38" y="28"/>
                  </a:lnTo>
                  <a:lnTo>
                    <a:pt x="38" y="28"/>
                  </a:lnTo>
                  <a:lnTo>
                    <a:pt x="38" y="26"/>
                  </a:lnTo>
                  <a:lnTo>
                    <a:pt x="38" y="26"/>
                  </a:lnTo>
                  <a:lnTo>
                    <a:pt x="36" y="26"/>
                  </a:lnTo>
                  <a:lnTo>
                    <a:pt x="36" y="24"/>
                  </a:lnTo>
                  <a:lnTo>
                    <a:pt x="38" y="24"/>
                  </a:lnTo>
                  <a:lnTo>
                    <a:pt x="38" y="26"/>
                  </a:lnTo>
                  <a:lnTo>
                    <a:pt x="38" y="26"/>
                  </a:lnTo>
                  <a:lnTo>
                    <a:pt x="38" y="28"/>
                  </a:lnTo>
                  <a:lnTo>
                    <a:pt x="38" y="28"/>
                  </a:lnTo>
                  <a:lnTo>
                    <a:pt x="38" y="28"/>
                  </a:lnTo>
                  <a:lnTo>
                    <a:pt x="38" y="29"/>
                  </a:lnTo>
                  <a:lnTo>
                    <a:pt x="38" y="29"/>
                  </a:lnTo>
                  <a:close/>
                  <a:moveTo>
                    <a:pt x="20" y="6"/>
                  </a:moveTo>
                  <a:lnTo>
                    <a:pt x="17" y="6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8" y="6"/>
                  </a:lnTo>
                  <a:lnTo>
                    <a:pt x="5" y="4"/>
                  </a:lnTo>
                  <a:lnTo>
                    <a:pt x="3" y="4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10" y="2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9" y="4"/>
                  </a:lnTo>
                  <a:lnTo>
                    <a:pt x="20" y="6"/>
                  </a:lnTo>
                  <a:close/>
                </a:path>
              </a:pathLst>
            </a:custGeom>
            <a:solidFill>
              <a:srgbClr val="7340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820880" y="2379600"/>
              <a:ext cx="12600" cy="23760"/>
            </a:xfrm>
            <a:custGeom>
              <a:avLst/>
              <a:gdLst/>
              <a:ahLst/>
              <a:rect l="l" t="t" r="r" b="b"/>
              <a:pathLst>
                <a:path w="19" h="39">
                  <a:moveTo>
                    <a:pt x="19" y="0"/>
                  </a:moveTo>
                  <a:lnTo>
                    <a:pt x="19" y="4"/>
                  </a:lnTo>
                  <a:lnTo>
                    <a:pt x="17" y="5"/>
                  </a:lnTo>
                  <a:lnTo>
                    <a:pt x="17" y="9"/>
                  </a:lnTo>
                  <a:lnTo>
                    <a:pt x="17" y="12"/>
                  </a:lnTo>
                  <a:lnTo>
                    <a:pt x="17" y="16"/>
                  </a:lnTo>
                  <a:lnTo>
                    <a:pt x="17" y="19"/>
                  </a:lnTo>
                  <a:lnTo>
                    <a:pt x="19" y="21"/>
                  </a:lnTo>
                  <a:lnTo>
                    <a:pt x="19" y="24"/>
                  </a:lnTo>
                  <a:lnTo>
                    <a:pt x="17" y="28"/>
                  </a:lnTo>
                  <a:lnTo>
                    <a:pt x="15" y="29"/>
                  </a:lnTo>
                  <a:lnTo>
                    <a:pt x="12" y="31"/>
                  </a:lnTo>
                  <a:lnTo>
                    <a:pt x="10" y="33"/>
                  </a:lnTo>
                  <a:lnTo>
                    <a:pt x="9" y="36"/>
                  </a:lnTo>
                  <a:lnTo>
                    <a:pt x="5" y="36"/>
                  </a:lnTo>
                  <a:lnTo>
                    <a:pt x="3" y="38"/>
                  </a:lnTo>
                  <a:lnTo>
                    <a:pt x="0" y="3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824120" y="2368440"/>
              <a:ext cx="63360" cy="81000"/>
            </a:xfrm>
            <a:custGeom>
              <a:avLst/>
              <a:gdLst/>
              <a:ahLst/>
              <a:rect l="l" t="t" r="r" b="b"/>
              <a:pathLst>
                <a:path w="92" h="127">
                  <a:moveTo>
                    <a:pt x="59" y="26"/>
                  </a:moveTo>
                  <a:lnTo>
                    <a:pt x="60" y="27"/>
                  </a:lnTo>
                  <a:lnTo>
                    <a:pt x="62" y="29"/>
                  </a:lnTo>
                  <a:lnTo>
                    <a:pt x="66" y="29"/>
                  </a:lnTo>
                  <a:lnTo>
                    <a:pt x="67" y="31"/>
                  </a:lnTo>
                  <a:lnTo>
                    <a:pt x="69" y="33"/>
                  </a:lnTo>
                  <a:lnTo>
                    <a:pt x="71" y="33"/>
                  </a:lnTo>
                  <a:lnTo>
                    <a:pt x="74" y="33"/>
                  </a:lnTo>
                  <a:lnTo>
                    <a:pt x="76" y="33"/>
                  </a:lnTo>
                  <a:lnTo>
                    <a:pt x="78" y="36"/>
                  </a:lnTo>
                  <a:lnTo>
                    <a:pt x="78" y="39"/>
                  </a:lnTo>
                  <a:lnTo>
                    <a:pt x="79" y="41"/>
                  </a:lnTo>
                  <a:lnTo>
                    <a:pt x="81" y="45"/>
                  </a:lnTo>
                  <a:lnTo>
                    <a:pt x="83" y="48"/>
                  </a:lnTo>
                  <a:lnTo>
                    <a:pt x="85" y="51"/>
                  </a:lnTo>
                  <a:lnTo>
                    <a:pt x="86" y="55"/>
                  </a:lnTo>
                  <a:lnTo>
                    <a:pt x="88" y="56"/>
                  </a:lnTo>
                  <a:lnTo>
                    <a:pt x="88" y="58"/>
                  </a:lnTo>
                  <a:lnTo>
                    <a:pt x="90" y="60"/>
                  </a:lnTo>
                  <a:lnTo>
                    <a:pt x="90" y="62"/>
                  </a:lnTo>
                  <a:lnTo>
                    <a:pt x="90" y="63"/>
                  </a:lnTo>
                  <a:lnTo>
                    <a:pt x="90" y="65"/>
                  </a:lnTo>
                  <a:lnTo>
                    <a:pt x="92" y="67"/>
                  </a:lnTo>
                  <a:lnTo>
                    <a:pt x="92" y="68"/>
                  </a:lnTo>
                  <a:lnTo>
                    <a:pt x="92" y="70"/>
                  </a:lnTo>
                  <a:lnTo>
                    <a:pt x="86" y="65"/>
                  </a:lnTo>
                  <a:lnTo>
                    <a:pt x="83" y="62"/>
                  </a:lnTo>
                  <a:lnTo>
                    <a:pt x="78" y="58"/>
                  </a:lnTo>
                  <a:lnTo>
                    <a:pt x="74" y="55"/>
                  </a:lnTo>
                  <a:lnTo>
                    <a:pt x="69" y="51"/>
                  </a:lnTo>
                  <a:lnTo>
                    <a:pt x="64" y="50"/>
                  </a:lnTo>
                  <a:lnTo>
                    <a:pt x="59" y="46"/>
                  </a:lnTo>
                  <a:lnTo>
                    <a:pt x="52" y="46"/>
                  </a:lnTo>
                  <a:lnTo>
                    <a:pt x="54" y="53"/>
                  </a:lnTo>
                  <a:lnTo>
                    <a:pt x="55" y="60"/>
                  </a:lnTo>
                  <a:lnTo>
                    <a:pt x="57" y="65"/>
                  </a:lnTo>
                  <a:lnTo>
                    <a:pt x="60" y="70"/>
                  </a:lnTo>
                  <a:lnTo>
                    <a:pt x="64" y="77"/>
                  </a:lnTo>
                  <a:lnTo>
                    <a:pt x="66" y="82"/>
                  </a:lnTo>
                  <a:lnTo>
                    <a:pt x="69" y="89"/>
                  </a:lnTo>
                  <a:lnTo>
                    <a:pt x="73" y="96"/>
                  </a:lnTo>
                  <a:lnTo>
                    <a:pt x="71" y="94"/>
                  </a:lnTo>
                  <a:lnTo>
                    <a:pt x="67" y="92"/>
                  </a:lnTo>
                  <a:lnTo>
                    <a:pt x="64" y="91"/>
                  </a:lnTo>
                  <a:lnTo>
                    <a:pt x="59" y="89"/>
                  </a:lnTo>
                  <a:lnTo>
                    <a:pt x="55" y="87"/>
                  </a:lnTo>
                  <a:lnTo>
                    <a:pt x="52" y="86"/>
                  </a:lnTo>
                  <a:lnTo>
                    <a:pt x="48" y="86"/>
                  </a:lnTo>
                  <a:lnTo>
                    <a:pt x="47" y="84"/>
                  </a:lnTo>
                  <a:lnTo>
                    <a:pt x="43" y="89"/>
                  </a:lnTo>
                  <a:lnTo>
                    <a:pt x="40" y="94"/>
                  </a:lnTo>
                  <a:lnTo>
                    <a:pt x="38" y="99"/>
                  </a:lnTo>
                  <a:lnTo>
                    <a:pt x="36" y="104"/>
                  </a:lnTo>
                  <a:lnTo>
                    <a:pt x="35" y="109"/>
                  </a:lnTo>
                  <a:lnTo>
                    <a:pt x="33" y="115"/>
                  </a:lnTo>
                  <a:lnTo>
                    <a:pt x="33" y="121"/>
                  </a:lnTo>
                  <a:lnTo>
                    <a:pt x="31" y="127"/>
                  </a:lnTo>
                  <a:lnTo>
                    <a:pt x="29" y="118"/>
                  </a:lnTo>
                  <a:lnTo>
                    <a:pt x="26" y="109"/>
                  </a:lnTo>
                  <a:lnTo>
                    <a:pt x="23" y="103"/>
                  </a:lnTo>
                  <a:lnTo>
                    <a:pt x="19" y="94"/>
                  </a:lnTo>
                  <a:lnTo>
                    <a:pt x="16" y="86"/>
                  </a:lnTo>
                  <a:lnTo>
                    <a:pt x="10" y="79"/>
                  </a:lnTo>
                  <a:lnTo>
                    <a:pt x="5" y="72"/>
                  </a:lnTo>
                  <a:lnTo>
                    <a:pt x="0" y="65"/>
                  </a:lnTo>
                  <a:lnTo>
                    <a:pt x="4" y="62"/>
                  </a:lnTo>
                  <a:lnTo>
                    <a:pt x="9" y="60"/>
                  </a:lnTo>
                  <a:lnTo>
                    <a:pt x="12" y="56"/>
                  </a:lnTo>
                  <a:lnTo>
                    <a:pt x="16" y="53"/>
                  </a:lnTo>
                  <a:lnTo>
                    <a:pt x="19" y="50"/>
                  </a:lnTo>
                  <a:lnTo>
                    <a:pt x="23" y="46"/>
                  </a:lnTo>
                  <a:lnTo>
                    <a:pt x="24" y="41"/>
                  </a:lnTo>
                  <a:lnTo>
                    <a:pt x="24" y="36"/>
                  </a:lnTo>
                  <a:lnTo>
                    <a:pt x="24" y="33"/>
                  </a:lnTo>
                  <a:lnTo>
                    <a:pt x="24" y="29"/>
                  </a:lnTo>
                  <a:lnTo>
                    <a:pt x="26" y="24"/>
                  </a:lnTo>
                  <a:lnTo>
                    <a:pt x="26" y="21"/>
                  </a:lnTo>
                  <a:lnTo>
                    <a:pt x="26" y="17"/>
                  </a:lnTo>
                  <a:lnTo>
                    <a:pt x="26" y="12"/>
                  </a:lnTo>
                  <a:lnTo>
                    <a:pt x="28" y="9"/>
                  </a:lnTo>
                  <a:lnTo>
                    <a:pt x="28" y="4"/>
                  </a:lnTo>
                  <a:lnTo>
                    <a:pt x="31" y="4"/>
                  </a:lnTo>
                  <a:lnTo>
                    <a:pt x="33" y="4"/>
                  </a:lnTo>
                  <a:lnTo>
                    <a:pt x="36" y="2"/>
                  </a:lnTo>
                  <a:lnTo>
                    <a:pt x="38" y="2"/>
                  </a:lnTo>
                  <a:lnTo>
                    <a:pt x="42" y="2"/>
                  </a:lnTo>
                  <a:lnTo>
                    <a:pt x="43" y="0"/>
                  </a:lnTo>
                  <a:lnTo>
                    <a:pt x="47" y="0"/>
                  </a:lnTo>
                  <a:lnTo>
                    <a:pt x="48" y="0"/>
                  </a:lnTo>
                  <a:lnTo>
                    <a:pt x="59" y="2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841400" y="2359080"/>
              <a:ext cx="28800" cy="20520"/>
            </a:xfrm>
            <a:custGeom>
              <a:avLst/>
              <a:gdLst/>
              <a:ahLst/>
              <a:rect l="l" t="t" r="r" b="b"/>
              <a:pathLst>
                <a:path w="43" h="33">
                  <a:moveTo>
                    <a:pt x="43" y="33"/>
                  </a:moveTo>
                  <a:lnTo>
                    <a:pt x="42" y="26"/>
                  </a:lnTo>
                  <a:lnTo>
                    <a:pt x="38" y="19"/>
                  </a:lnTo>
                  <a:lnTo>
                    <a:pt x="35" y="14"/>
                  </a:lnTo>
                  <a:lnTo>
                    <a:pt x="30" y="9"/>
                  </a:lnTo>
                  <a:lnTo>
                    <a:pt x="24" y="6"/>
                  </a:lnTo>
                  <a:lnTo>
                    <a:pt x="18" y="2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9"/>
                  </a:lnTo>
                  <a:lnTo>
                    <a:pt x="5" y="12"/>
                  </a:lnTo>
                  <a:lnTo>
                    <a:pt x="11" y="16"/>
                  </a:lnTo>
                  <a:lnTo>
                    <a:pt x="16" y="19"/>
                  </a:lnTo>
                  <a:lnTo>
                    <a:pt x="21" y="21"/>
                  </a:lnTo>
                  <a:lnTo>
                    <a:pt x="26" y="24"/>
                  </a:lnTo>
                  <a:lnTo>
                    <a:pt x="33" y="28"/>
                  </a:lnTo>
                  <a:lnTo>
                    <a:pt x="38" y="31"/>
                  </a:lnTo>
                  <a:lnTo>
                    <a:pt x="43" y="33"/>
                  </a:lnTo>
                  <a:close/>
                </a:path>
              </a:pathLst>
            </a:custGeom>
            <a:solidFill>
              <a:srgbClr val="c1c1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841400" y="2359080"/>
              <a:ext cx="28800" cy="20520"/>
            </a:xfrm>
            <a:custGeom>
              <a:avLst/>
              <a:gdLst/>
              <a:ahLst/>
              <a:rect l="l" t="t" r="r" b="b"/>
              <a:pathLst>
                <a:path w="43" h="33">
                  <a:moveTo>
                    <a:pt x="43" y="33"/>
                  </a:moveTo>
                  <a:lnTo>
                    <a:pt x="42" y="26"/>
                  </a:lnTo>
                  <a:lnTo>
                    <a:pt x="38" y="19"/>
                  </a:lnTo>
                  <a:lnTo>
                    <a:pt x="35" y="14"/>
                  </a:lnTo>
                  <a:lnTo>
                    <a:pt x="30" y="9"/>
                  </a:lnTo>
                  <a:lnTo>
                    <a:pt x="24" y="6"/>
                  </a:lnTo>
                  <a:lnTo>
                    <a:pt x="18" y="2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9"/>
                  </a:lnTo>
                  <a:lnTo>
                    <a:pt x="5" y="12"/>
                  </a:lnTo>
                  <a:lnTo>
                    <a:pt x="11" y="16"/>
                  </a:lnTo>
                  <a:lnTo>
                    <a:pt x="16" y="19"/>
                  </a:lnTo>
                  <a:lnTo>
                    <a:pt x="21" y="21"/>
                  </a:lnTo>
                  <a:lnTo>
                    <a:pt x="26" y="24"/>
                  </a:lnTo>
                  <a:lnTo>
                    <a:pt x="33" y="28"/>
                  </a:lnTo>
                  <a:lnTo>
                    <a:pt x="38" y="31"/>
                  </a:lnTo>
                  <a:lnTo>
                    <a:pt x="43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608120" y="2006640"/>
              <a:ext cx="90360" cy="142920"/>
            </a:xfrm>
            <a:custGeom>
              <a:avLst/>
              <a:gdLst/>
              <a:ahLst/>
              <a:rect l="l" t="t" r="r" b="b"/>
              <a:pathLst>
                <a:path w="132" h="224">
                  <a:moveTo>
                    <a:pt x="132" y="0"/>
                  </a:moveTo>
                  <a:lnTo>
                    <a:pt x="131" y="9"/>
                  </a:lnTo>
                  <a:lnTo>
                    <a:pt x="127" y="18"/>
                  </a:lnTo>
                  <a:lnTo>
                    <a:pt x="124" y="26"/>
                  </a:lnTo>
                  <a:lnTo>
                    <a:pt x="119" y="33"/>
                  </a:lnTo>
                  <a:lnTo>
                    <a:pt x="115" y="41"/>
                  </a:lnTo>
                  <a:lnTo>
                    <a:pt x="110" y="48"/>
                  </a:lnTo>
                  <a:lnTo>
                    <a:pt x="107" y="55"/>
                  </a:lnTo>
                  <a:lnTo>
                    <a:pt x="101" y="64"/>
                  </a:lnTo>
                  <a:lnTo>
                    <a:pt x="101" y="67"/>
                  </a:lnTo>
                  <a:lnTo>
                    <a:pt x="101" y="71"/>
                  </a:lnTo>
                  <a:lnTo>
                    <a:pt x="101" y="76"/>
                  </a:lnTo>
                  <a:lnTo>
                    <a:pt x="100" y="79"/>
                  </a:lnTo>
                  <a:lnTo>
                    <a:pt x="98" y="82"/>
                  </a:lnTo>
                  <a:lnTo>
                    <a:pt x="96" y="86"/>
                  </a:lnTo>
                  <a:lnTo>
                    <a:pt x="95" y="89"/>
                  </a:lnTo>
                  <a:lnTo>
                    <a:pt x="95" y="93"/>
                  </a:lnTo>
                  <a:lnTo>
                    <a:pt x="93" y="98"/>
                  </a:lnTo>
                  <a:lnTo>
                    <a:pt x="91" y="103"/>
                  </a:lnTo>
                  <a:lnTo>
                    <a:pt x="89" y="108"/>
                  </a:lnTo>
                  <a:lnTo>
                    <a:pt x="88" y="115"/>
                  </a:lnTo>
                  <a:lnTo>
                    <a:pt x="86" y="120"/>
                  </a:lnTo>
                  <a:lnTo>
                    <a:pt x="84" y="125"/>
                  </a:lnTo>
                  <a:lnTo>
                    <a:pt x="81" y="130"/>
                  </a:lnTo>
                  <a:lnTo>
                    <a:pt x="79" y="137"/>
                  </a:lnTo>
                  <a:lnTo>
                    <a:pt x="77" y="142"/>
                  </a:lnTo>
                  <a:lnTo>
                    <a:pt x="76" y="147"/>
                  </a:lnTo>
                  <a:lnTo>
                    <a:pt x="76" y="153"/>
                  </a:lnTo>
                  <a:lnTo>
                    <a:pt x="74" y="158"/>
                  </a:lnTo>
                  <a:lnTo>
                    <a:pt x="74" y="163"/>
                  </a:lnTo>
                  <a:lnTo>
                    <a:pt x="72" y="170"/>
                  </a:lnTo>
                  <a:lnTo>
                    <a:pt x="70" y="175"/>
                  </a:lnTo>
                  <a:lnTo>
                    <a:pt x="69" y="180"/>
                  </a:lnTo>
                  <a:lnTo>
                    <a:pt x="67" y="182"/>
                  </a:lnTo>
                  <a:lnTo>
                    <a:pt x="65" y="182"/>
                  </a:lnTo>
                  <a:lnTo>
                    <a:pt x="63" y="183"/>
                  </a:lnTo>
                  <a:lnTo>
                    <a:pt x="62" y="185"/>
                  </a:lnTo>
                  <a:lnTo>
                    <a:pt x="58" y="187"/>
                  </a:lnTo>
                  <a:lnTo>
                    <a:pt x="57" y="188"/>
                  </a:lnTo>
                  <a:lnTo>
                    <a:pt x="55" y="190"/>
                  </a:lnTo>
                  <a:lnTo>
                    <a:pt x="53" y="192"/>
                  </a:lnTo>
                  <a:lnTo>
                    <a:pt x="50" y="195"/>
                  </a:lnTo>
                  <a:lnTo>
                    <a:pt x="45" y="199"/>
                  </a:lnTo>
                  <a:lnTo>
                    <a:pt x="39" y="202"/>
                  </a:lnTo>
                  <a:lnTo>
                    <a:pt x="34" y="206"/>
                  </a:lnTo>
                  <a:lnTo>
                    <a:pt x="31" y="211"/>
                  </a:lnTo>
                  <a:lnTo>
                    <a:pt x="26" y="214"/>
                  </a:lnTo>
                  <a:lnTo>
                    <a:pt x="20" y="217"/>
                  </a:lnTo>
                  <a:lnTo>
                    <a:pt x="17" y="223"/>
                  </a:lnTo>
                  <a:lnTo>
                    <a:pt x="15" y="223"/>
                  </a:lnTo>
                  <a:lnTo>
                    <a:pt x="13" y="223"/>
                  </a:lnTo>
                  <a:lnTo>
                    <a:pt x="10" y="223"/>
                  </a:lnTo>
                  <a:lnTo>
                    <a:pt x="8" y="224"/>
                  </a:lnTo>
                  <a:lnTo>
                    <a:pt x="7" y="224"/>
                  </a:lnTo>
                  <a:lnTo>
                    <a:pt x="5" y="224"/>
                  </a:lnTo>
                  <a:lnTo>
                    <a:pt x="3" y="224"/>
                  </a:lnTo>
                  <a:lnTo>
                    <a:pt x="0" y="223"/>
                  </a:lnTo>
                  <a:lnTo>
                    <a:pt x="3" y="214"/>
                  </a:lnTo>
                  <a:lnTo>
                    <a:pt x="7" y="206"/>
                  </a:lnTo>
                  <a:lnTo>
                    <a:pt x="12" y="197"/>
                  </a:lnTo>
                  <a:lnTo>
                    <a:pt x="17" y="187"/>
                  </a:lnTo>
                  <a:lnTo>
                    <a:pt x="24" y="178"/>
                  </a:lnTo>
                  <a:lnTo>
                    <a:pt x="31" y="170"/>
                  </a:lnTo>
                  <a:lnTo>
                    <a:pt x="38" y="163"/>
                  </a:lnTo>
                  <a:lnTo>
                    <a:pt x="45" y="158"/>
                  </a:lnTo>
                  <a:lnTo>
                    <a:pt x="39" y="151"/>
                  </a:lnTo>
                  <a:lnTo>
                    <a:pt x="43" y="144"/>
                  </a:lnTo>
                  <a:lnTo>
                    <a:pt x="48" y="137"/>
                  </a:lnTo>
                  <a:lnTo>
                    <a:pt x="53" y="132"/>
                  </a:lnTo>
                  <a:lnTo>
                    <a:pt x="58" y="127"/>
                  </a:lnTo>
                  <a:lnTo>
                    <a:pt x="65" y="123"/>
                  </a:lnTo>
                  <a:lnTo>
                    <a:pt x="72" y="120"/>
                  </a:lnTo>
                  <a:lnTo>
                    <a:pt x="79" y="115"/>
                  </a:lnTo>
                  <a:lnTo>
                    <a:pt x="88" y="110"/>
                  </a:lnTo>
                  <a:lnTo>
                    <a:pt x="79" y="110"/>
                  </a:lnTo>
                  <a:lnTo>
                    <a:pt x="70" y="110"/>
                  </a:lnTo>
                  <a:lnTo>
                    <a:pt x="65" y="110"/>
                  </a:lnTo>
                  <a:lnTo>
                    <a:pt x="58" y="108"/>
                  </a:lnTo>
                  <a:lnTo>
                    <a:pt x="53" y="108"/>
                  </a:lnTo>
                  <a:lnTo>
                    <a:pt x="46" y="106"/>
                  </a:lnTo>
                  <a:lnTo>
                    <a:pt x="41" y="105"/>
                  </a:lnTo>
                  <a:lnTo>
                    <a:pt x="36" y="101"/>
                  </a:lnTo>
                  <a:lnTo>
                    <a:pt x="57" y="81"/>
                  </a:lnTo>
                  <a:lnTo>
                    <a:pt x="39" y="81"/>
                  </a:lnTo>
                  <a:lnTo>
                    <a:pt x="41" y="74"/>
                  </a:lnTo>
                  <a:lnTo>
                    <a:pt x="45" y="69"/>
                  </a:lnTo>
                  <a:lnTo>
                    <a:pt x="51" y="64"/>
                  </a:lnTo>
                  <a:lnTo>
                    <a:pt x="57" y="59"/>
                  </a:lnTo>
                  <a:lnTo>
                    <a:pt x="63" y="55"/>
                  </a:lnTo>
                  <a:lnTo>
                    <a:pt x="72" y="52"/>
                  </a:lnTo>
                  <a:lnTo>
                    <a:pt x="77" y="48"/>
                  </a:lnTo>
                  <a:lnTo>
                    <a:pt x="84" y="45"/>
                  </a:lnTo>
                  <a:lnTo>
                    <a:pt x="82" y="43"/>
                  </a:lnTo>
                  <a:lnTo>
                    <a:pt x="81" y="41"/>
                  </a:lnTo>
                  <a:lnTo>
                    <a:pt x="81" y="40"/>
                  </a:lnTo>
                  <a:lnTo>
                    <a:pt x="79" y="38"/>
                  </a:lnTo>
                  <a:lnTo>
                    <a:pt x="77" y="38"/>
                  </a:lnTo>
                  <a:lnTo>
                    <a:pt x="76" y="36"/>
                  </a:lnTo>
                  <a:lnTo>
                    <a:pt x="74" y="36"/>
                  </a:lnTo>
                  <a:lnTo>
                    <a:pt x="72" y="35"/>
                  </a:lnTo>
                  <a:lnTo>
                    <a:pt x="74" y="35"/>
                  </a:lnTo>
                  <a:lnTo>
                    <a:pt x="76" y="33"/>
                  </a:lnTo>
                  <a:lnTo>
                    <a:pt x="77" y="31"/>
                  </a:lnTo>
                  <a:lnTo>
                    <a:pt x="79" y="30"/>
                  </a:lnTo>
                  <a:lnTo>
                    <a:pt x="81" y="28"/>
                  </a:lnTo>
                  <a:lnTo>
                    <a:pt x="81" y="24"/>
                  </a:lnTo>
                  <a:lnTo>
                    <a:pt x="82" y="23"/>
                  </a:lnTo>
                  <a:lnTo>
                    <a:pt x="84" y="21"/>
                  </a:lnTo>
                  <a:lnTo>
                    <a:pt x="81" y="21"/>
                  </a:lnTo>
                  <a:lnTo>
                    <a:pt x="79" y="23"/>
                  </a:lnTo>
                  <a:lnTo>
                    <a:pt x="76" y="24"/>
                  </a:lnTo>
                  <a:lnTo>
                    <a:pt x="72" y="24"/>
                  </a:lnTo>
                  <a:lnTo>
                    <a:pt x="69" y="26"/>
                  </a:lnTo>
                  <a:lnTo>
                    <a:pt x="65" y="28"/>
                  </a:lnTo>
                  <a:lnTo>
                    <a:pt x="62" y="28"/>
                  </a:lnTo>
                  <a:lnTo>
                    <a:pt x="58" y="30"/>
                  </a:lnTo>
                  <a:lnTo>
                    <a:pt x="67" y="24"/>
                  </a:lnTo>
                  <a:lnTo>
                    <a:pt x="76" y="19"/>
                  </a:lnTo>
                  <a:lnTo>
                    <a:pt x="84" y="14"/>
                  </a:lnTo>
                  <a:lnTo>
                    <a:pt x="95" y="11"/>
                  </a:lnTo>
                  <a:lnTo>
                    <a:pt x="103" y="7"/>
                  </a:lnTo>
                  <a:lnTo>
                    <a:pt x="113" y="6"/>
                  </a:lnTo>
                  <a:lnTo>
                    <a:pt x="124" y="4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730520" y="2217600"/>
              <a:ext cx="54000" cy="30240"/>
            </a:xfrm>
            <a:custGeom>
              <a:avLst/>
              <a:gdLst/>
              <a:ahLst/>
              <a:rect l="l" t="t" r="r" b="b"/>
              <a:pathLst>
                <a:path w="77" h="46">
                  <a:moveTo>
                    <a:pt x="77" y="19"/>
                  </a:moveTo>
                  <a:lnTo>
                    <a:pt x="69" y="27"/>
                  </a:lnTo>
                  <a:lnTo>
                    <a:pt x="62" y="32"/>
                  </a:lnTo>
                  <a:lnTo>
                    <a:pt x="53" y="39"/>
                  </a:lnTo>
                  <a:lnTo>
                    <a:pt x="45" y="43"/>
                  </a:lnTo>
                  <a:lnTo>
                    <a:pt x="36" y="46"/>
                  </a:lnTo>
                  <a:lnTo>
                    <a:pt x="26" y="46"/>
                  </a:lnTo>
                  <a:lnTo>
                    <a:pt x="17" y="46"/>
                  </a:lnTo>
                  <a:lnTo>
                    <a:pt x="7" y="44"/>
                  </a:lnTo>
                  <a:lnTo>
                    <a:pt x="3" y="43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1" y="29"/>
                  </a:lnTo>
                  <a:lnTo>
                    <a:pt x="1" y="26"/>
                  </a:lnTo>
                  <a:lnTo>
                    <a:pt x="3" y="22"/>
                  </a:lnTo>
                  <a:lnTo>
                    <a:pt x="7" y="24"/>
                  </a:lnTo>
                  <a:lnTo>
                    <a:pt x="10" y="26"/>
                  </a:lnTo>
                  <a:lnTo>
                    <a:pt x="13" y="29"/>
                  </a:lnTo>
                  <a:lnTo>
                    <a:pt x="17" y="31"/>
                  </a:lnTo>
                  <a:lnTo>
                    <a:pt x="22" y="32"/>
                  </a:lnTo>
                  <a:lnTo>
                    <a:pt x="26" y="32"/>
                  </a:lnTo>
                  <a:lnTo>
                    <a:pt x="29" y="31"/>
                  </a:lnTo>
                  <a:lnTo>
                    <a:pt x="32" y="27"/>
                  </a:lnTo>
                  <a:lnTo>
                    <a:pt x="36" y="27"/>
                  </a:lnTo>
                  <a:lnTo>
                    <a:pt x="38" y="26"/>
                  </a:lnTo>
                  <a:lnTo>
                    <a:pt x="39" y="24"/>
                  </a:lnTo>
                  <a:lnTo>
                    <a:pt x="41" y="22"/>
                  </a:lnTo>
                  <a:lnTo>
                    <a:pt x="43" y="20"/>
                  </a:lnTo>
                  <a:lnTo>
                    <a:pt x="45" y="17"/>
                  </a:lnTo>
                  <a:lnTo>
                    <a:pt x="46" y="15"/>
                  </a:lnTo>
                  <a:lnTo>
                    <a:pt x="46" y="12"/>
                  </a:lnTo>
                  <a:lnTo>
                    <a:pt x="46" y="0"/>
                  </a:lnTo>
                  <a:lnTo>
                    <a:pt x="51" y="2"/>
                  </a:lnTo>
                  <a:lnTo>
                    <a:pt x="55" y="3"/>
                  </a:lnTo>
                  <a:lnTo>
                    <a:pt x="60" y="5"/>
                  </a:lnTo>
                  <a:lnTo>
                    <a:pt x="63" y="7"/>
                  </a:lnTo>
                  <a:lnTo>
                    <a:pt x="69" y="10"/>
                  </a:lnTo>
                  <a:lnTo>
                    <a:pt x="72" y="12"/>
                  </a:lnTo>
                  <a:lnTo>
                    <a:pt x="74" y="15"/>
                  </a:lnTo>
                  <a:lnTo>
                    <a:pt x="77" y="19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738520" y="4842000"/>
              <a:ext cx="177840" cy="777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rot="20937000">
              <a:off x="2844720" y="3416040"/>
              <a:ext cx="392040" cy="38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rot="5400000">
              <a:off x="1995480" y="3960720"/>
              <a:ext cx="1735200" cy="106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rot="5400000">
              <a:off x="1906560" y="3978360"/>
              <a:ext cx="1735200" cy="71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rot="21002400">
              <a:off x="3020760" y="4727160"/>
              <a:ext cx="106200" cy="615960"/>
            </a:xfrm>
            <a:custGeom>
              <a:avLst/>
              <a:gdLst>
                <a:gd name="textAreaLeft" fmla="*/ 23400 w 106200"/>
                <a:gd name="textAreaRight" fmla="*/ 82800 w 106200"/>
                <a:gd name="textAreaTop" fmla="*/ 135360 h 615960"/>
                <a:gd name="textAreaBottom" fmla="*/ 480600 h 61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rot="20596200">
              <a:off x="1527120" y="3454560"/>
              <a:ext cx="61920" cy="847440"/>
            </a:xfrm>
            <a:custGeom>
              <a:avLst/>
              <a:gdLst>
                <a:gd name="textAreaLeft" fmla="*/ 13680 w 61920"/>
                <a:gd name="textAreaRight" fmla="*/ 48240 w 61920"/>
                <a:gd name="textAreaTop" fmla="*/ 186120 h 847440"/>
                <a:gd name="textAreaBottom" fmla="*/ 661320 h 84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rot="59400">
              <a:off x="957240" y="4339800"/>
              <a:ext cx="2278080" cy="38592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>
              <a:off x="460440" y="2838600"/>
              <a:ext cx="1636560" cy="163800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66640" y="2876400"/>
              <a:ext cx="1459080" cy="150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H="1" rot="9223200">
              <a:off x="380880" y="2916360"/>
              <a:ext cx="1395360" cy="147096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79400" y="3108240"/>
              <a:ext cx="961920" cy="1155960"/>
            </a:xfrm>
            <a:prstGeom prst="line">
              <a:avLst/>
            </a:prstGeom>
            <a:ln w="95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>
              <a:off x="710640" y="3225600"/>
              <a:ext cx="1133640" cy="843480"/>
            </a:xfrm>
            <a:prstGeom prst="line">
              <a:avLst/>
            </a:prstGeom>
            <a:ln w="95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>
              <a:off x="1231560" y="2941920"/>
              <a:ext cx="107280" cy="1450080"/>
            </a:xfrm>
            <a:prstGeom prst="line">
              <a:avLst/>
            </a:prstGeom>
            <a:ln w="95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 flipV="1">
              <a:off x="591840" y="3589200"/>
              <a:ext cx="1514160" cy="193680"/>
            </a:xfrm>
            <a:prstGeom prst="line">
              <a:avLst/>
            </a:prstGeom>
            <a:ln w="9540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300320" y="2876400"/>
              <a:ext cx="71280" cy="7776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704960" y="4187880"/>
              <a:ext cx="71280" cy="11412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025720" y="3686040"/>
              <a:ext cx="36360" cy="7776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136520" y="4341960"/>
              <a:ext cx="106560" cy="7596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73200" y="4033800"/>
              <a:ext cx="71280" cy="7632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95360" y="3570120"/>
              <a:ext cx="142920" cy="7812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44480" y="3108240"/>
              <a:ext cx="106560" cy="7632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H="1">
              <a:off x="1064520" y="3416400"/>
              <a:ext cx="461880" cy="4618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1100160" y="3454560"/>
              <a:ext cx="355680" cy="38556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rot="18221400">
              <a:off x="1827000" y="3151080"/>
              <a:ext cx="77760" cy="106200"/>
            </a:xfrm>
            <a:prstGeom prst="ellipse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922320" y="4649760"/>
              <a:ext cx="2349360" cy="115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882800" y="4341960"/>
              <a:ext cx="1353960" cy="37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rot="16004400">
              <a:off x="2982240" y="4515480"/>
              <a:ext cx="539640" cy="36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 rot="16005000">
              <a:off x="793440" y="4571280"/>
              <a:ext cx="345960" cy="36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87400" y="4611600"/>
              <a:ext cx="2349360" cy="7632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rot="16200">
              <a:off x="2916360" y="4765320"/>
              <a:ext cx="106200" cy="539640"/>
            </a:xfrm>
            <a:custGeom>
              <a:avLst/>
              <a:gdLst>
                <a:gd name="textAreaLeft" fmla="*/ 23400 w 106200"/>
                <a:gd name="textAreaRight" fmla="*/ 82800 w 106200"/>
                <a:gd name="textAreaTop" fmla="*/ 118440 h 539640"/>
                <a:gd name="textAreaBottom" fmla="*/ 421200 h 5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rot="967800">
              <a:off x="1031400" y="4723920"/>
              <a:ext cx="171720" cy="628920"/>
            </a:xfrm>
            <a:custGeom>
              <a:avLst/>
              <a:gdLst>
                <a:gd name="textAreaLeft" fmla="*/ 37800 w 171720"/>
                <a:gd name="textAreaRight" fmla="*/ 133920 w 171720"/>
                <a:gd name="textAreaTop" fmla="*/ 138240 h 628920"/>
                <a:gd name="textAreaBottom" fmla="*/ 490680 h 628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rot="19953000">
              <a:off x="1476360" y="4730400"/>
              <a:ext cx="106200" cy="461880"/>
            </a:xfrm>
            <a:custGeom>
              <a:avLst/>
              <a:gdLst>
                <a:gd name="textAreaLeft" fmla="*/ 23400 w 106200"/>
                <a:gd name="textAreaRight" fmla="*/ 82800 w 106200"/>
                <a:gd name="textAreaTop" fmla="*/ 101520 h 461880"/>
                <a:gd name="textAreaBottom" fmla="*/ 360360 h 46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rot="442200">
              <a:off x="1127160" y="3607920"/>
              <a:ext cx="82440" cy="1733760"/>
            </a:xfrm>
            <a:custGeom>
              <a:avLst/>
              <a:gdLst>
                <a:gd name="textAreaLeft" fmla="*/ 18000 w 82440"/>
                <a:gd name="textAreaRight" fmla="*/ 64440 w 82440"/>
                <a:gd name="textAreaTop" fmla="*/ 381240 h 1733760"/>
                <a:gd name="textAreaBottom" fmla="*/ 1352520 h 173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rot="5200800">
              <a:off x="2793600" y="3994200"/>
              <a:ext cx="422280" cy="962280"/>
            </a:xfrm>
            <a:custGeom>
              <a:avLst/>
              <a:gdLst>
                <a:gd name="textAreaLeft" fmla="*/ 92880 w 422280"/>
                <a:gd name="textAreaRight" fmla="*/ 329400 w 422280"/>
                <a:gd name="textAreaTop" fmla="*/ 211680 h 962280"/>
                <a:gd name="textAreaBottom" fmla="*/ 750600 h 962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00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rot="21493200">
              <a:off x="2488680" y="4573440"/>
              <a:ext cx="1032120" cy="763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rot="5541600">
              <a:off x="2768040" y="3038400"/>
              <a:ext cx="115920" cy="1760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38520" y="3416400"/>
              <a:ext cx="106200" cy="115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rot="20620800">
              <a:off x="2916360" y="3340080"/>
              <a:ext cx="390240" cy="38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rot="543000">
              <a:off x="2844360" y="3493800"/>
              <a:ext cx="392040" cy="38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670040" y="2916360"/>
              <a:ext cx="1031760" cy="5382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>
              <a:off x="1741320" y="3454560"/>
              <a:ext cx="997200" cy="88740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71760" y="2019240"/>
              <a:ext cx="104760" cy="187560"/>
            </a:xfrm>
            <a:custGeom>
              <a:avLst/>
              <a:gdLst/>
              <a:ahLst/>
              <a:rect l="l" t="t" r="r" b="b"/>
              <a:pathLst>
                <a:path w="66" h="118">
                  <a:moveTo>
                    <a:pt x="54" y="0"/>
                  </a:moveTo>
                  <a:cubicBezTo>
                    <a:pt x="50" y="6"/>
                    <a:pt x="43" y="10"/>
                    <a:pt x="38" y="15"/>
                  </a:cubicBezTo>
                  <a:cubicBezTo>
                    <a:pt x="29" y="24"/>
                    <a:pt x="23" y="36"/>
                    <a:pt x="15" y="46"/>
                  </a:cubicBezTo>
                  <a:cubicBezTo>
                    <a:pt x="14" y="52"/>
                    <a:pt x="11" y="55"/>
                    <a:pt x="9" y="60"/>
                  </a:cubicBezTo>
                  <a:cubicBezTo>
                    <a:pt x="8" y="66"/>
                    <a:pt x="5" y="69"/>
                    <a:pt x="3" y="75"/>
                  </a:cubicBezTo>
                  <a:cubicBezTo>
                    <a:pt x="0" y="90"/>
                    <a:pt x="0" y="103"/>
                    <a:pt x="3" y="118"/>
                  </a:cubicBezTo>
                  <a:cubicBezTo>
                    <a:pt x="11" y="117"/>
                    <a:pt x="9" y="114"/>
                    <a:pt x="14" y="108"/>
                  </a:cubicBezTo>
                  <a:cubicBezTo>
                    <a:pt x="16" y="97"/>
                    <a:pt x="23" y="89"/>
                    <a:pt x="32" y="84"/>
                  </a:cubicBezTo>
                  <a:cubicBezTo>
                    <a:pt x="34" y="76"/>
                    <a:pt x="37" y="71"/>
                    <a:pt x="44" y="67"/>
                  </a:cubicBezTo>
                  <a:cubicBezTo>
                    <a:pt x="48" y="62"/>
                    <a:pt x="51" y="61"/>
                    <a:pt x="53" y="55"/>
                  </a:cubicBezTo>
                  <a:cubicBezTo>
                    <a:pt x="55" y="46"/>
                    <a:pt x="56" y="37"/>
                    <a:pt x="59" y="28"/>
                  </a:cubicBezTo>
                  <a:cubicBezTo>
                    <a:pt x="57" y="0"/>
                    <a:pt x="66" y="4"/>
                    <a:pt x="54" y="0"/>
                  </a:cubicBez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712880" y="2192400"/>
              <a:ext cx="87480" cy="75960"/>
            </a:xfrm>
            <a:custGeom>
              <a:avLst/>
              <a:gdLst/>
              <a:ahLst/>
              <a:rect l="l" t="t" r="r" b="b"/>
              <a:pathLst>
                <a:path w="55" h="48">
                  <a:moveTo>
                    <a:pt x="0" y="14"/>
                  </a:moveTo>
                  <a:cubicBezTo>
                    <a:pt x="2" y="30"/>
                    <a:pt x="3" y="42"/>
                    <a:pt x="21" y="45"/>
                  </a:cubicBezTo>
                  <a:cubicBezTo>
                    <a:pt x="34" y="44"/>
                    <a:pt x="44" y="48"/>
                    <a:pt x="51" y="38"/>
                  </a:cubicBezTo>
                  <a:cubicBezTo>
                    <a:pt x="52" y="33"/>
                    <a:pt x="54" y="29"/>
                    <a:pt x="55" y="24"/>
                  </a:cubicBezTo>
                  <a:cubicBezTo>
                    <a:pt x="52" y="8"/>
                    <a:pt x="44" y="4"/>
                    <a:pt x="30" y="0"/>
                  </a:cubicBezTo>
                  <a:cubicBezTo>
                    <a:pt x="21" y="3"/>
                    <a:pt x="4" y="3"/>
                    <a:pt x="0" y="14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598760" y="2205000"/>
              <a:ext cx="83880" cy="81000"/>
            </a:xfrm>
            <a:custGeom>
              <a:avLst/>
              <a:gdLst/>
              <a:ahLst/>
              <a:rect l="l" t="t" r="r" b="b"/>
              <a:pathLst>
                <a:path w="53" h="51">
                  <a:moveTo>
                    <a:pt x="15" y="3"/>
                  </a:moveTo>
                  <a:cubicBezTo>
                    <a:pt x="21" y="0"/>
                    <a:pt x="26" y="3"/>
                    <a:pt x="33" y="4"/>
                  </a:cubicBezTo>
                  <a:cubicBezTo>
                    <a:pt x="37" y="11"/>
                    <a:pt x="41" y="14"/>
                    <a:pt x="48" y="18"/>
                  </a:cubicBezTo>
                  <a:cubicBezTo>
                    <a:pt x="49" y="28"/>
                    <a:pt x="53" y="43"/>
                    <a:pt x="40" y="46"/>
                  </a:cubicBezTo>
                  <a:cubicBezTo>
                    <a:pt x="30" y="51"/>
                    <a:pt x="23" y="49"/>
                    <a:pt x="12" y="48"/>
                  </a:cubicBezTo>
                  <a:cubicBezTo>
                    <a:pt x="4" y="45"/>
                    <a:pt x="5" y="40"/>
                    <a:pt x="1" y="33"/>
                  </a:cubicBezTo>
                  <a:cubicBezTo>
                    <a:pt x="3" y="18"/>
                    <a:pt x="0" y="9"/>
                    <a:pt x="15" y="6"/>
                  </a:cubicBezTo>
                  <a:cubicBezTo>
                    <a:pt x="20" y="3"/>
                    <a:pt x="20" y="4"/>
                    <a:pt x="15" y="3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595520" y="2184480"/>
              <a:ext cx="52200" cy="2520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33" y="4"/>
                  </a:moveTo>
                  <a:cubicBezTo>
                    <a:pt x="21" y="0"/>
                    <a:pt x="13" y="4"/>
                    <a:pt x="3" y="10"/>
                  </a:cubicBezTo>
                  <a:cubicBezTo>
                    <a:pt x="0" y="15"/>
                    <a:pt x="0" y="12"/>
                    <a:pt x="0" y="16"/>
                  </a:cubicBezTo>
                  <a:lnTo>
                    <a:pt x="3" y="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660680" y="2192400"/>
              <a:ext cx="91800" cy="27000"/>
            </a:xfrm>
            <a:custGeom>
              <a:avLst/>
              <a:gdLst/>
              <a:ahLst/>
              <a:rect l="l" t="t" r="r" b="b"/>
              <a:pathLst>
                <a:path w="58" h="17">
                  <a:moveTo>
                    <a:pt x="0" y="17"/>
                  </a:moveTo>
                  <a:cubicBezTo>
                    <a:pt x="7" y="5"/>
                    <a:pt x="24" y="12"/>
                    <a:pt x="37" y="12"/>
                  </a:cubicBezTo>
                  <a:lnTo>
                    <a:pt x="5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790640" y="2192400"/>
              <a:ext cx="60480" cy="14400"/>
            </a:xfrm>
            <a:custGeom>
              <a:avLst/>
              <a:gdLst/>
              <a:ahLst/>
              <a:rect l="l" t="t" r="r" b="b"/>
              <a:pathLst>
                <a:path w="38" h="9">
                  <a:moveTo>
                    <a:pt x="0" y="6"/>
                  </a:moveTo>
                  <a:cubicBezTo>
                    <a:pt x="33" y="9"/>
                    <a:pt x="20" y="9"/>
                    <a:pt x="38" y="9"/>
                  </a:cubicBezTo>
                  <a:lnTo>
                    <a:pt x="2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609560" y="2243160"/>
              <a:ext cx="57240" cy="15840"/>
            </a:xfrm>
            <a:custGeom>
              <a:avLst/>
              <a:gdLst/>
              <a:ahLst/>
              <a:rect l="l" t="t" r="r" b="b"/>
              <a:pathLst>
                <a:path w="36" h="10">
                  <a:moveTo>
                    <a:pt x="35" y="0"/>
                  </a:moveTo>
                  <a:cubicBezTo>
                    <a:pt x="30" y="10"/>
                    <a:pt x="36" y="9"/>
                    <a:pt x="21" y="10"/>
                  </a:cubicBezTo>
                  <a:cubicBezTo>
                    <a:pt x="14" y="10"/>
                    <a:pt x="0" y="9"/>
                    <a:pt x="0" y="9"/>
                  </a:cubicBezTo>
                </a:path>
              </a:pathLst>
            </a:custGeom>
            <a:noFill/>
            <a:ln w="9360">
              <a:solidFill>
                <a:srgbClr val="cc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608120" y="2235240"/>
              <a:ext cx="61920" cy="31680"/>
            </a:xfrm>
            <a:custGeom>
              <a:avLst/>
              <a:gdLst/>
              <a:ahLst/>
              <a:rect l="l" t="t" r="r" b="b"/>
              <a:pathLst>
                <a:path w="39" h="20">
                  <a:moveTo>
                    <a:pt x="39" y="0"/>
                  </a:moveTo>
                  <a:cubicBezTo>
                    <a:pt x="36" y="14"/>
                    <a:pt x="32" y="16"/>
                    <a:pt x="19" y="20"/>
                  </a:cubicBezTo>
                  <a:cubicBezTo>
                    <a:pt x="3" y="18"/>
                    <a:pt x="9" y="19"/>
                    <a:pt x="0" y="17"/>
                  </a:cubicBez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619280" y="2219400"/>
              <a:ext cx="42840" cy="31680"/>
            </a:xfrm>
            <a:custGeom>
              <a:avLst/>
              <a:gdLst/>
              <a:ahLst/>
              <a:rect l="l" t="t" r="r" b="b"/>
              <a:pathLst>
                <a:path w="27" h="20">
                  <a:moveTo>
                    <a:pt x="0" y="12"/>
                  </a:moveTo>
                  <a:cubicBezTo>
                    <a:pt x="4" y="20"/>
                    <a:pt x="5" y="19"/>
                    <a:pt x="14" y="18"/>
                  </a:cubicBezTo>
                  <a:cubicBezTo>
                    <a:pt x="15" y="17"/>
                    <a:pt x="17" y="17"/>
                    <a:pt x="18" y="16"/>
                  </a:cubicBezTo>
                  <a:cubicBezTo>
                    <a:pt x="23" y="11"/>
                    <a:pt x="14" y="10"/>
                    <a:pt x="18" y="6"/>
                  </a:cubicBezTo>
                  <a:lnTo>
                    <a:pt x="27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752480" y="2855880"/>
              <a:ext cx="800280" cy="3083040"/>
            </a:xfrm>
            <a:custGeom>
              <a:avLst/>
              <a:gdLst/>
              <a:ahLst/>
              <a:rect l="l" t="t" r="r" b="b"/>
              <a:pathLst>
                <a:path w="1260" h="4854">
                  <a:moveTo>
                    <a:pt x="1260" y="76"/>
                  </a:moveTo>
                  <a:cubicBezTo>
                    <a:pt x="1200" y="56"/>
                    <a:pt x="1140" y="36"/>
                    <a:pt x="1080" y="16"/>
                  </a:cubicBezTo>
                  <a:cubicBezTo>
                    <a:pt x="1032" y="0"/>
                    <a:pt x="979" y="33"/>
                    <a:pt x="930" y="46"/>
                  </a:cubicBezTo>
                  <a:cubicBezTo>
                    <a:pt x="792" y="84"/>
                    <a:pt x="685" y="119"/>
                    <a:pt x="570" y="196"/>
                  </a:cubicBezTo>
                  <a:cubicBezTo>
                    <a:pt x="430" y="406"/>
                    <a:pt x="510" y="336"/>
                    <a:pt x="360" y="436"/>
                  </a:cubicBezTo>
                  <a:cubicBezTo>
                    <a:pt x="320" y="496"/>
                    <a:pt x="280" y="556"/>
                    <a:pt x="240" y="616"/>
                  </a:cubicBezTo>
                  <a:cubicBezTo>
                    <a:pt x="220" y="646"/>
                    <a:pt x="191" y="672"/>
                    <a:pt x="180" y="706"/>
                  </a:cubicBezTo>
                  <a:cubicBezTo>
                    <a:pt x="139" y="830"/>
                    <a:pt x="168" y="770"/>
                    <a:pt x="90" y="886"/>
                  </a:cubicBezTo>
                  <a:cubicBezTo>
                    <a:pt x="43" y="1076"/>
                    <a:pt x="22" y="1261"/>
                    <a:pt x="0" y="1456"/>
                  </a:cubicBezTo>
                  <a:cubicBezTo>
                    <a:pt x="21" y="1743"/>
                    <a:pt x="55" y="2012"/>
                    <a:pt x="90" y="2296"/>
                  </a:cubicBezTo>
                  <a:cubicBezTo>
                    <a:pt x="73" y="3009"/>
                    <a:pt x="47" y="3525"/>
                    <a:pt x="0" y="4186"/>
                  </a:cubicBezTo>
                  <a:cubicBezTo>
                    <a:pt x="10" y="4266"/>
                    <a:pt x="16" y="4347"/>
                    <a:pt x="30" y="4426"/>
                  </a:cubicBezTo>
                  <a:cubicBezTo>
                    <a:pt x="36" y="4457"/>
                    <a:pt x="38" y="4494"/>
                    <a:pt x="60" y="4516"/>
                  </a:cubicBezTo>
                  <a:cubicBezTo>
                    <a:pt x="82" y="4538"/>
                    <a:pt x="122" y="4531"/>
                    <a:pt x="150" y="4546"/>
                  </a:cubicBezTo>
                  <a:cubicBezTo>
                    <a:pt x="213" y="4581"/>
                    <a:pt x="330" y="4666"/>
                    <a:pt x="330" y="4666"/>
                  </a:cubicBezTo>
                  <a:cubicBezTo>
                    <a:pt x="350" y="4696"/>
                    <a:pt x="374" y="4724"/>
                    <a:pt x="390" y="4756"/>
                  </a:cubicBezTo>
                  <a:cubicBezTo>
                    <a:pt x="404" y="4784"/>
                    <a:pt x="402" y="4820"/>
                    <a:pt x="420" y="4846"/>
                  </a:cubicBezTo>
                  <a:cubicBezTo>
                    <a:pt x="426" y="4854"/>
                    <a:pt x="440" y="4846"/>
                    <a:pt x="450" y="4846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752480" y="4084560"/>
              <a:ext cx="228600" cy="457200"/>
            </a:xfrm>
            <a:prstGeom prst="diamond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80880" y="60948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80880" y="609480"/>
              <a:ext cx="9144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764400" y="4173480"/>
              <a:ext cx="1668240" cy="2265480"/>
            </a:xfrm>
            <a:custGeom>
              <a:avLst/>
              <a:gdLst/>
              <a:ahLst/>
              <a:rect l="l" t="t" r="r" b="b"/>
              <a:pathLst>
                <a:path w="1223" h="2095">
                  <a:moveTo>
                    <a:pt x="529" y="245"/>
                  </a:moveTo>
                  <a:lnTo>
                    <a:pt x="478" y="306"/>
                  </a:lnTo>
                  <a:lnTo>
                    <a:pt x="420" y="380"/>
                  </a:lnTo>
                  <a:lnTo>
                    <a:pt x="271" y="425"/>
                  </a:lnTo>
                  <a:lnTo>
                    <a:pt x="134" y="513"/>
                  </a:lnTo>
                  <a:lnTo>
                    <a:pt x="37" y="712"/>
                  </a:lnTo>
                  <a:lnTo>
                    <a:pt x="16" y="989"/>
                  </a:lnTo>
                  <a:lnTo>
                    <a:pt x="37" y="1321"/>
                  </a:lnTo>
                  <a:lnTo>
                    <a:pt x="2" y="1510"/>
                  </a:lnTo>
                  <a:lnTo>
                    <a:pt x="0" y="1654"/>
                  </a:lnTo>
                  <a:lnTo>
                    <a:pt x="37" y="1820"/>
                  </a:lnTo>
                  <a:lnTo>
                    <a:pt x="95" y="1871"/>
                  </a:lnTo>
                  <a:lnTo>
                    <a:pt x="88" y="1958"/>
                  </a:lnTo>
                  <a:lnTo>
                    <a:pt x="102" y="2049"/>
                  </a:lnTo>
                  <a:lnTo>
                    <a:pt x="109" y="2081"/>
                  </a:lnTo>
                  <a:lnTo>
                    <a:pt x="118" y="2091"/>
                  </a:lnTo>
                  <a:lnTo>
                    <a:pt x="127" y="2095"/>
                  </a:lnTo>
                  <a:lnTo>
                    <a:pt x="144" y="2093"/>
                  </a:lnTo>
                  <a:lnTo>
                    <a:pt x="162" y="2081"/>
                  </a:lnTo>
                  <a:lnTo>
                    <a:pt x="174" y="2074"/>
                  </a:lnTo>
                  <a:lnTo>
                    <a:pt x="183" y="2065"/>
                  </a:lnTo>
                  <a:lnTo>
                    <a:pt x="190" y="2056"/>
                  </a:lnTo>
                  <a:lnTo>
                    <a:pt x="199" y="2046"/>
                  </a:lnTo>
                  <a:lnTo>
                    <a:pt x="223" y="2011"/>
                  </a:lnTo>
                  <a:lnTo>
                    <a:pt x="241" y="1972"/>
                  </a:lnTo>
                  <a:lnTo>
                    <a:pt x="218" y="1857"/>
                  </a:lnTo>
                  <a:lnTo>
                    <a:pt x="225" y="1862"/>
                  </a:lnTo>
                  <a:lnTo>
                    <a:pt x="253" y="1871"/>
                  </a:lnTo>
                  <a:lnTo>
                    <a:pt x="271" y="1876"/>
                  </a:lnTo>
                  <a:lnTo>
                    <a:pt x="292" y="1883"/>
                  </a:lnTo>
                  <a:lnTo>
                    <a:pt x="316" y="1890"/>
                  </a:lnTo>
                  <a:lnTo>
                    <a:pt x="341" y="1897"/>
                  </a:lnTo>
                  <a:lnTo>
                    <a:pt x="369" y="1904"/>
                  </a:lnTo>
                  <a:lnTo>
                    <a:pt x="399" y="1911"/>
                  </a:lnTo>
                  <a:lnTo>
                    <a:pt x="432" y="1916"/>
                  </a:lnTo>
                  <a:lnTo>
                    <a:pt x="462" y="1920"/>
                  </a:lnTo>
                  <a:lnTo>
                    <a:pt x="524" y="1925"/>
                  </a:lnTo>
                  <a:lnTo>
                    <a:pt x="587" y="1923"/>
                  </a:lnTo>
                  <a:lnTo>
                    <a:pt x="652" y="1913"/>
                  </a:lnTo>
                  <a:lnTo>
                    <a:pt x="722" y="1902"/>
                  </a:lnTo>
                  <a:lnTo>
                    <a:pt x="757" y="1895"/>
                  </a:lnTo>
                  <a:lnTo>
                    <a:pt x="794" y="1885"/>
                  </a:lnTo>
                  <a:lnTo>
                    <a:pt x="829" y="1876"/>
                  </a:lnTo>
                  <a:lnTo>
                    <a:pt x="861" y="1869"/>
                  </a:lnTo>
                  <a:lnTo>
                    <a:pt x="894" y="1860"/>
                  </a:lnTo>
                  <a:lnTo>
                    <a:pt x="921" y="1853"/>
                  </a:lnTo>
                  <a:lnTo>
                    <a:pt x="949" y="1846"/>
                  </a:lnTo>
                  <a:lnTo>
                    <a:pt x="970" y="1841"/>
                  </a:lnTo>
                  <a:lnTo>
                    <a:pt x="1003" y="1832"/>
                  </a:lnTo>
                  <a:lnTo>
                    <a:pt x="1014" y="1827"/>
                  </a:lnTo>
                  <a:lnTo>
                    <a:pt x="1021" y="1937"/>
                  </a:lnTo>
                  <a:lnTo>
                    <a:pt x="1065" y="2081"/>
                  </a:lnTo>
                  <a:lnTo>
                    <a:pt x="1130" y="2081"/>
                  </a:lnTo>
                  <a:lnTo>
                    <a:pt x="1149" y="2077"/>
                  </a:lnTo>
                  <a:lnTo>
                    <a:pt x="1158" y="2063"/>
                  </a:lnTo>
                  <a:lnTo>
                    <a:pt x="1165" y="2042"/>
                  </a:lnTo>
                  <a:lnTo>
                    <a:pt x="1151" y="1918"/>
                  </a:lnTo>
                  <a:lnTo>
                    <a:pt x="1223" y="1729"/>
                  </a:lnTo>
                  <a:lnTo>
                    <a:pt x="1149" y="1197"/>
                  </a:lnTo>
                  <a:lnTo>
                    <a:pt x="1216" y="924"/>
                  </a:lnTo>
                  <a:lnTo>
                    <a:pt x="1188" y="719"/>
                  </a:lnTo>
                  <a:lnTo>
                    <a:pt x="1144" y="642"/>
                  </a:lnTo>
                  <a:lnTo>
                    <a:pt x="1061" y="558"/>
                  </a:lnTo>
                  <a:lnTo>
                    <a:pt x="785" y="387"/>
                  </a:lnTo>
                  <a:lnTo>
                    <a:pt x="722" y="268"/>
                  </a:lnTo>
                  <a:lnTo>
                    <a:pt x="671" y="238"/>
                  </a:lnTo>
                  <a:lnTo>
                    <a:pt x="659" y="187"/>
                  </a:lnTo>
                  <a:lnTo>
                    <a:pt x="706" y="112"/>
                  </a:lnTo>
                  <a:lnTo>
                    <a:pt x="659" y="7"/>
                  </a:lnTo>
                  <a:lnTo>
                    <a:pt x="583" y="0"/>
                  </a:lnTo>
                  <a:lnTo>
                    <a:pt x="522" y="42"/>
                  </a:lnTo>
                  <a:lnTo>
                    <a:pt x="499" y="84"/>
                  </a:lnTo>
                  <a:lnTo>
                    <a:pt x="494" y="131"/>
                  </a:lnTo>
                  <a:lnTo>
                    <a:pt x="536" y="166"/>
                  </a:lnTo>
                  <a:lnTo>
                    <a:pt x="587" y="187"/>
                  </a:lnTo>
                  <a:lnTo>
                    <a:pt x="592" y="231"/>
                  </a:lnTo>
                  <a:lnTo>
                    <a:pt x="529" y="245"/>
                  </a:lnTo>
                  <a:lnTo>
                    <a:pt x="529" y="24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748560" y="4603680"/>
              <a:ext cx="517320" cy="1811520"/>
            </a:xfrm>
            <a:custGeom>
              <a:avLst/>
              <a:gdLst/>
              <a:ahLst/>
              <a:rect l="l" t="t" r="r" b="b"/>
              <a:pathLst>
                <a:path w="1380" h="5467">
                  <a:moveTo>
                    <a:pt x="1358" y="15"/>
                  </a:moveTo>
                  <a:lnTo>
                    <a:pt x="1380" y="150"/>
                  </a:lnTo>
                  <a:lnTo>
                    <a:pt x="878" y="495"/>
                  </a:lnTo>
                  <a:lnTo>
                    <a:pt x="623" y="817"/>
                  </a:lnTo>
                  <a:lnTo>
                    <a:pt x="563" y="1095"/>
                  </a:lnTo>
                  <a:lnTo>
                    <a:pt x="650" y="1502"/>
                  </a:lnTo>
                  <a:lnTo>
                    <a:pt x="795" y="1746"/>
                  </a:lnTo>
                  <a:lnTo>
                    <a:pt x="870" y="2227"/>
                  </a:lnTo>
                  <a:lnTo>
                    <a:pt x="584" y="3329"/>
                  </a:lnTo>
                  <a:lnTo>
                    <a:pt x="559" y="4464"/>
                  </a:lnTo>
                  <a:lnTo>
                    <a:pt x="773" y="4695"/>
                  </a:lnTo>
                  <a:lnTo>
                    <a:pt x="1013" y="5130"/>
                  </a:lnTo>
                  <a:lnTo>
                    <a:pt x="788" y="5385"/>
                  </a:lnTo>
                  <a:lnTo>
                    <a:pt x="578" y="5422"/>
                  </a:lnTo>
                  <a:lnTo>
                    <a:pt x="315" y="5467"/>
                  </a:lnTo>
                  <a:lnTo>
                    <a:pt x="180" y="4890"/>
                  </a:lnTo>
                  <a:lnTo>
                    <a:pt x="381" y="4791"/>
                  </a:lnTo>
                  <a:lnTo>
                    <a:pt x="323" y="4745"/>
                  </a:lnTo>
                  <a:lnTo>
                    <a:pt x="261" y="4660"/>
                  </a:lnTo>
                  <a:lnTo>
                    <a:pt x="210" y="4590"/>
                  </a:lnTo>
                  <a:lnTo>
                    <a:pt x="98" y="4530"/>
                  </a:lnTo>
                  <a:lnTo>
                    <a:pt x="180" y="4260"/>
                  </a:lnTo>
                  <a:lnTo>
                    <a:pt x="127" y="4128"/>
                  </a:lnTo>
                  <a:lnTo>
                    <a:pt x="75" y="4035"/>
                  </a:lnTo>
                  <a:lnTo>
                    <a:pt x="30" y="3937"/>
                  </a:lnTo>
                  <a:lnTo>
                    <a:pt x="0" y="3727"/>
                  </a:lnTo>
                  <a:lnTo>
                    <a:pt x="38" y="3540"/>
                  </a:lnTo>
                  <a:lnTo>
                    <a:pt x="30" y="3405"/>
                  </a:lnTo>
                  <a:lnTo>
                    <a:pt x="128" y="3067"/>
                  </a:lnTo>
                  <a:lnTo>
                    <a:pt x="68" y="2790"/>
                  </a:lnTo>
                  <a:lnTo>
                    <a:pt x="90" y="2610"/>
                  </a:lnTo>
                  <a:lnTo>
                    <a:pt x="105" y="2422"/>
                  </a:lnTo>
                  <a:lnTo>
                    <a:pt x="247" y="2262"/>
                  </a:lnTo>
                  <a:lnTo>
                    <a:pt x="53" y="2220"/>
                  </a:lnTo>
                  <a:lnTo>
                    <a:pt x="23" y="1807"/>
                  </a:lnTo>
                  <a:lnTo>
                    <a:pt x="178" y="1472"/>
                  </a:lnTo>
                  <a:lnTo>
                    <a:pt x="90" y="1200"/>
                  </a:lnTo>
                  <a:lnTo>
                    <a:pt x="38" y="1027"/>
                  </a:lnTo>
                  <a:lnTo>
                    <a:pt x="135" y="810"/>
                  </a:lnTo>
                  <a:lnTo>
                    <a:pt x="180" y="720"/>
                  </a:lnTo>
                  <a:lnTo>
                    <a:pt x="203" y="652"/>
                  </a:lnTo>
                  <a:lnTo>
                    <a:pt x="255" y="555"/>
                  </a:lnTo>
                  <a:lnTo>
                    <a:pt x="360" y="390"/>
                  </a:lnTo>
                  <a:lnTo>
                    <a:pt x="398" y="307"/>
                  </a:lnTo>
                  <a:lnTo>
                    <a:pt x="435" y="345"/>
                  </a:lnTo>
                  <a:lnTo>
                    <a:pt x="495" y="285"/>
                  </a:lnTo>
                  <a:lnTo>
                    <a:pt x="578" y="232"/>
                  </a:lnTo>
                  <a:lnTo>
                    <a:pt x="668" y="120"/>
                  </a:lnTo>
                  <a:lnTo>
                    <a:pt x="728" y="157"/>
                  </a:lnTo>
                  <a:lnTo>
                    <a:pt x="810" y="112"/>
                  </a:lnTo>
                  <a:lnTo>
                    <a:pt x="803" y="142"/>
                  </a:lnTo>
                  <a:lnTo>
                    <a:pt x="840" y="75"/>
                  </a:lnTo>
                  <a:lnTo>
                    <a:pt x="968" y="52"/>
                  </a:lnTo>
                  <a:lnTo>
                    <a:pt x="1035" y="37"/>
                  </a:lnTo>
                  <a:lnTo>
                    <a:pt x="1140" y="30"/>
                  </a:lnTo>
                  <a:lnTo>
                    <a:pt x="1193" y="0"/>
                  </a:lnTo>
                  <a:lnTo>
                    <a:pt x="1350" y="7"/>
                  </a:lnTo>
                  <a:lnTo>
                    <a:pt x="1358" y="15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059600" y="4710240"/>
              <a:ext cx="515880" cy="1331640"/>
            </a:xfrm>
            <a:custGeom>
              <a:avLst/>
              <a:gdLst/>
              <a:ahLst/>
              <a:rect l="l" t="t" r="r" b="b"/>
              <a:pathLst>
                <a:path w="378" h="1232">
                  <a:moveTo>
                    <a:pt x="144" y="0"/>
                  </a:moveTo>
                  <a:lnTo>
                    <a:pt x="139" y="4"/>
                  </a:lnTo>
                  <a:lnTo>
                    <a:pt x="127" y="16"/>
                  </a:lnTo>
                  <a:lnTo>
                    <a:pt x="118" y="25"/>
                  </a:lnTo>
                  <a:lnTo>
                    <a:pt x="109" y="35"/>
                  </a:lnTo>
                  <a:lnTo>
                    <a:pt x="100" y="46"/>
                  </a:lnTo>
                  <a:lnTo>
                    <a:pt x="93" y="53"/>
                  </a:lnTo>
                  <a:lnTo>
                    <a:pt x="88" y="58"/>
                  </a:lnTo>
                  <a:lnTo>
                    <a:pt x="67" y="88"/>
                  </a:lnTo>
                  <a:lnTo>
                    <a:pt x="46" y="121"/>
                  </a:lnTo>
                  <a:lnTo>
                    <a:pt x="23" y="198"/>
                  </a:lnTo>
                  <a:lnTo>
                    <a:pt x="25" y="280"/>
                  </a:lnTo>
                  <a:lnTo>
                    <a:pt x="32" y="319"/>
                  </a:lnTo>
                  <a:lnTo>
                    <a:pt x="39" y="359"/>
                  </a:lnTo>
                  <a:lnTo>
                    <a:pt x="48" y="401"/>
                  </a:lnTo>
                  <a:lnTo>
                    <a:pt x="58" y="443"/>
                  </a:lnTo>
                  <a:lnTo>
                    <a:pt x="67" y="527"/>
                  </a:lnTo>
                  <a:lnTo>
                    <a:pt x="62" y="576"/>
                  </a:lnTo>
                  <a:lnTo>
                    <a:pt x="55" y="637"/>
                  </a:lnTo>
                  <a:lnTo>
                    <a:pt x="46" y="702"/>
                  </a:lnTo>
                  <a:lnTo>
                    <a:pt x="32" y="765"/>
                  </a:lnTo>
                  <a:lnTo>
                    <a:pt x="28" y="798"/>
                  </a:lnTo>
                  <a:lnTo>
                    <a:pt x="21" y="826"/>
                  </a:lnTo>
                  <a:lnTo>
                    <a:pt x="9" y="877"/>
                  </a:lnTo>
                  <a:lnTo>
                    <a:pt x="0" y="933"/>
                  </a:lnTo>
                  <a:lnTo>
                    <a:pt x="2" y="947"/>
                  </a:lnTo>
                  <a:lnTo>
                    <a:pt x="9" y="961"/>
                  </a:lnTo>
                  <a:lnTo>
                    <a:pt x="16" y="975"/>
                  </a:lnTo>
                  <a:lnTo>
                    <a:pt x="69" y="935"/>
                  </a:lnTo>
                  <a:lnTo>
                    <a:pt x="236" y="868"/>
                  </a:lnTo>
                  <a:lnTo>
                    <a:pt x="271" y="924"/>
                  </a:lnTo>
                  <a:lnTo>
                    <a:pt x="83" y="1008"/>
                  </a:lnTo>
                  <a:lnTo>
                    <a:pt x="23" y="1010"/>
                  </a:lnTo>
                  <a:lnTo>
                    <a:pt x="16" y="1064"/>
                  </a:lnTo>
                  <a:lnTo>
                    <a:pt x="23" y="1113"/>
                  </a:lnTo>
                  <a:lnTo>
                    <a:pt x="32" y="1136"/>
                  </a:lnTo>
                  <a:lnTo>
                    <a:pt x="48" y="1159"/>
                  </a:lnTo>
                  <a:lnTo>
                    <a:pt x="60" y="1169"/>
                  </a:lnTo>
                  <a:lnTo>
                    <a:pt x="76" y="1178"/>
                  </a:lnTo>
                  <a:lnTo>
                    <a:pt x="97" y="1187"/>
                  </a:lnTo>
                  <a:lnTo>
                    <a:pt x="120" y="1194"/>
                  </a:lnTo>
                  <a:lnTo>
                    <a:pt x="146" y="1201"/>
                  </a:lnTo>
                  <a:lnTo>
                    <a:pt x="171" y="1208"/>
                  </a:lnTo>
                  <a:lnTo>
                    <a:pt x="225" y="1218"/>
                  </a:lnTo>
                  <a:lnTo>
                    <a:pt x="278" y="1225"/>
                  </a:lnTo>
                  <a:lnTo>
                    <a:pt x="322" y="1232"/>
                  </a:lnTo>
                  <a:lnTo>
                    <a:pt x="378" y="1232"/>
                  </a:lnTo>
                  <a:lnTo>
                    <a:pt x="350" y="303"/>
                  </a:lnTo>
                  <a:lnTo>
                    <a:pt x="190" y="95"/>
                  </a:lnTo>
                  <a:lnTo>
                    <a:pt x="171" y="0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e5b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8034480" y="4648320"/>
              <a:ext cx="576000" cy="1776240"/>
            </a:xfrm>
            <a:custGeom>
              <a:avLst/>
              <a:gdLst/>
              <a:ahLst/>
              <a:rect l="l" t="t" r="r" b="b"/>
              <a:pathLst>
                <a:path w="1533" h="5361">
                  <a:moveTo>
                    <a:pt x="0" y="0"/>
                  </a:moveTo>
                  <a:lnTo>
                    <a:pt x="7" y="69"/>
                  </a:lnTo>
                  <a:lnTo>
                    <a:pt x="461" y="372"/>
                  </a:lnTo>
                  <a:lnTo>
                    <a:pt x="799" y="806"/>
                  </a:lnTo>
                  <a:lnTo>
                    <a:pt x="933" y="1256"/>
                  </a:lnTo>
                  <a:lnTo>
                    <a:pt x="824" y="1844"/>
                  </a:lnTo>
                  <a:lnTo>
                    <a:pt x="657" y="2232"/>
                  </a:lnTo>
                  <a:lnTo>
                    <a:pt x="537" y="2597"/>
                  </a:lnTo>
                  <a:lnTo>
                    <a:pt x="632" y="3175"/>
                  </a:lnTo>
                  <a:lnTo>
                    <a:pt x="908" y="3958"/>
                  </a:lnTo>
                  <a:lnTo>
                    <a:pt x="817" y="4826"/>
                  </a:lnTo>
                  <a:lnTo>
                    <a:pt x="824" y="4859"/>
                  </a:lnTo>
                  <a:lnTo>
                    <a:pt x="860" y="4911"/>
                  </a:lnTo>
                  <a:lnTo>
                    <a:pt x="1023" y="5346"/>
                  </a:lnTo>
                  <a:lnTo>
                    <a:pt x="1533" y="5361"/>
                  </a:lnTo>
                  <a:lnTo>
                    <a:pt x="1428" y="4544"/>
                  </a:lnTo>
                  <a:lnTo>
                    <a:pt x="1078" y="4712"/>
                  </a:lnTo>
                  <a:lnTo>
                    <a:pt x="1162" y="4562"/>
                  </a:lnTo>
                  <a:lnTo>
                    <a:pt x="1212" y="4379"/>
                  </a:lnTo>
                  <a:lnTo>
                    <a:pt x="1256" y="3952"/>
                  </a:lnTo>
                  <a:lnTo>
                    <a:pt x="1245" y="3723"/>
                  </a:lnTo>
                  <a:lnTo>
                    <a:pt x="1231" y="3495"/>
                  </a:lnTo>
                  <a:lnTo>
                    <a:pt x="1194" y="3283"/>
                  </a:lnTo>
                  <a:lnTo>
                    <a:pt x="1162" y="3077"/>
                  </a:lnTo>
                  <a:lnTo>
                    <a:pt x="1118" y="2734"/>
                  </a:lnTo>
                  <a:lnTo>
                    <a:pt x="1111" y="2428"/>
                  </a:lnTo>
                  <a:lnTo>
                    <a:pt x="1143" y="2124"/>
                  </a:lnTo>
                  <a:lnTo>
                    <a:pt x="1169" y="1964"/>
                  </a:lnTo>
                  <a:lnTo>
                    <a:pt x="1205" y="1798"/>
                  </a:lnTo>
                  <a:lnTo>
                    <a:pt x="1256" y="1462"/>
                  </a:lnTo>
                  <a:lnTo>
                    <a:pt x="1238" y="1158"/>
                  </a:lnTo>
                  <a:lnTo>
                    <a:pt x="1205" y="1012"/>
                  </a:lnTo>
                  <a:lnTo>
                    <a:pt x="1180" y="943"/>
                  </a:lnTo>
                  <a:lnTo>
                    <a:pt x="1143" y="868"/>
                  </a:lnTo>
                  <a:lnTo>
                    <a:pt x="1104" y="799"/>
                  </a:lnTo>
                  <a:lnTo>
                    <a:pt x="1060" y="731"/>
                  </a:lnTo>
                  <a:lnTo>
                    <a:pt x="1002" y="662"/>
                  </a:lnTo>
                  <a:lnTo>
                    <a:pt x="976" y="623"/>
                  </a:lnTo>
                  <a:lnTo>
                    <a:pt x="944" y="587"/>
                  </a:lnTo>
                  <a:lnTo>
                    <a:pt x="908" y="555"/>
                  </a:lnTo>
                  <a:lnTo>
                    <a:pt x="875" y="519"/>
                  </a:lnTo>
                  <a:lnTo>
                    <a:pt x="842" y="486"/>
                  </a:lnTo>
                  <a:lnTo>
                    <a:pt x="810" y="457"/>
                  </a:lnTo>
                  <a:lnTo>
                    <a:pt x="766" y="427"/>
                  </a:lnTo>
                  <a:lnTo>
                    <a:pt x="733" y="395"/>
                  </a:lnTo>
                  <a:lnTo>
                    <a:pt x="690" y="365"/>
                  </a:lnTo>
                  <a:lnTo>
                    <a:pt x="657" y="336"/>
                  </a:lnTo>
                  <a:lnTo>
                    <a:pt x="613" y="313"/>
                  </a:lnTo>
                  <a:lnTo>
                    <a:pt x="581" y="281"/>
                  </a:lnTo>
                  <a:lnTo>
                    <a:pt x="537" y="258"/>
                  </a:lnTo>
                  <a:lnTo>
                    <a:pt x="497" y="235"/>
                  </a:lnTo>
                  <a:lnTo>
                    <a:pt x="454" y="212"/>
                  </a:lnTo>
                  <a:lnTo>
                    <a:pt x="421" y="189"/>
                  </a:lnTo>
                  <a:lnTo>
                    <a:pt x="385" y="166"/>
                  </a:lnTo>
                  <a:lnTo>
                    <a:pt x="345" y="153"/>
                  </a:lnTo>
                  <a:lnTo>
                    <a:pt x="276" y="114"/>
                  </a:lnTo>
                  <a:lnTo>
                    <a:pt x="211" y="85"/>
                  </a:lnTo>
                  <a:lnTo>
                    <a:pt x="149" y="62"/>
                  </a:lnTo>
                  <a:lnTo>
                    <a:pt x="102" y="39"/>
                  </a:lnTo>
                  <a:lnTo>
                    <a:pt x="25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319880" y="4548240"/>
              <a:ext cx="585720" cy="1717560"/>
            </a:xfrm>
            <a:custGeom>
              <a:avLst/>
              <a:gdLst/>
              <a:ahLst/>
              <a:rect l="l" t="t" r="r" b="b"/>
              <a:pathLst>
                <a:path w="429" h="1589">
                  <a:moveTo>
                    <a:pt x="58" y="14"/>
                  </a:moveTo>
                  <a:lnTo>
                    <a:pt x="49" y="63"/>
                  </a:lnTo>
                  <a:lnTo>
                    <a:pt x="51" y="91"/>
                  </a:lnTo>
                  <a:lnTo>
                    <a:pt x="60" y="126"/>
                  </a:lnTo>
                  <a:lnTo>
                    <a:pt x="70" y="144"/>
                  </a:lnTo>
                  <a:lnTo>
                    <a:pt x="79" y="165"/>
                  </a:lnTo>
                  <a:lnTo>
                    <a:pt x="93" y="189"/>
                  </a:lnTo>
                  <a:lnTo>
                    <a:pt x="109" y="212"/>
                  </a:lnTo>
                  <a:lnTo>
                    <a:pt x="125" y="235"/>
                  </a:lnTo>
                  <a:lnTo>
                    <a:pt x="142" y="256"/>
                  </a:lnTo>
                  <a:lnTo>
                    <a:pt x="148" y="266"/>
                  </a:lnTo>
                  <a:lnTo>
                    <a:pt x="155" y="275"/>
                  </a:lnTo>
                  <a:lnTo>
                    <a:pt x="162" y="284"/>
                  </a:lnTo>
                  <a:lnTo>
                    <a:pt x="167" y="294"/>
                  </a:lnTo>
                  <a:lnTo>
                    <a:pt x="174" y="301"/>
                  </a:lnTo>
                  <a:lnTo>
                    <a:pt x="179" y="308"/>
                  </a:lnTo>
                  <a:lnTo>
                    <a:pt x="183" y="312"/>
                  </a:lnTo>
                  <a:lnTo>
                    <a:pt x="190" y="319"/>
                  </a:lnTo>
                  <a:lnTo>
                    <a:pt x="200" y="331"/>
                  </a:lnTo>
                  <a:lnTo>
                    <a:pt x="207" y="338"/>
                  </a:lnTo>
                  <a:lnTo>
                    <a:pt x="213" y="345"/>
                  </a:lnTo>
                  <a:lnTo>
                    <a:pt x="218" y="352"/>
                  </a:lnTo>
                  <a:lnTo>
                    <a:pt x="227" y="359"/>
                  </a:lnTo>
                  <a:lnTo>
                    <a:pt x="232" y="364"/>
                  </a:lnTo>
                  <a:lnTo>
                    <a:pt x="234" y="361"/>
                  </a:lnTo>
                  <a:lnTo>
                    <a:pt x="244" y="352"/>
                  </a:lnTo>
                  <a:lnTo>
                    <a:pt x="251" y="345"/>
                  </a:lnTo>
                  <a:lnTo>
                    <a:pt x="260" y="336"/>
                  </a:lnTo>
                  <a:lnTo>
                    <a:pt x="267" y="326"/>
                  </a:lnTo>
                  <a:lnTo>
                    <a:pt x="276" y="315"/>
                  </a:lnTo>
                  <a:lnTo>
                    <a:pt x="295" y="289"/>
                  </a:lnTo>
                  <a:lnTo>
                    <a:pt x="316" y="256"/>
                  </a:lnTo>
                  <a:lnTo>
                    <a:pt x="337" y="221"/>
                  </a:lnTo>
                  <a:lnTo>
                    <a:pt x="355" y="179"/>
                  </a:lnTo>
                  <a:lnTo>
                    <a:pt x="369" y="140"/>
                  </a:lnTo>
                  <a:lnTo>
                    <a:pt x="381" y="105"/>
                  </a:lnTo>
                  <a:lnTo>
                    <a:pt x="390" y="49"/>
                  </a:lnTo>
                  <a:lnTo>
                    <a:pt x="390" y="0"/>
                  </a:lnTo>
                  <a:lnTo>
                    <a:pt x="425" y="63"/>
                  </a:lnTo>
                  <a:lnTo>
                    <a:pt x="429" y="149"/>
                  </a:lnTo>
                  <a:lnTo>
                    <a:pt x="422" y="231"/>
                  </a:lnTo>
                  <a:lnTo>
                    <a:pt x="413" y="270"/>
                  </a:lnTo>
                  <a:lnTo>
                    <a:pt x="406" y="291"/>
                  </a:lnTo>
                  <a:lnTo>
                    <a:pt x="399" y="310"/>
                  </a:lnTo>
                  <a:lnTo>
                    <a:pt x="388" y="329"/>
                  </a:lnTo>
                  <a:lnTo>
                    <a:pt x="378" y="345"/>
                  </a:lnTo>
                  <a:lnTo>
                    <a:pt x="360" y="375"/>
                  </a:lnTo>
                  <a:lnTo>
                    <a:pt x="343" y="403"/>
                  </a:lnTo>
                  <a:lnTo>
                    <a:pt x="327" y="427"/>
                  </a:lnTo>
                  <a:lnTo>
                    <a:pt x="318" y="436"/>
                  </a:lnTo>
                  <a:lnTo>
                    <a:pt x="311" y="443"/>
                  </a:lnTo>
                  <a:lnTo>
                    <a:pt x="306" y="450"/>
                  </a:lnTo>
                  <a:lnTo>
                    <a:pt x="302" y="457"/>
                  </a:lnTo>
                  <a:lnTo>
                    <a:pt x="292" y="466"/>
                  </a:lnTo>
                  <a:lnTo>
                    <a:pt x="313" y="1577"/>
                  </a:lnTo>
                  <a:lnTo>
                    <a:pt x="211" y="1589"/>
                  </a:lnTo>
                  <a:lnTo>
                    <a:pt x="179" y="499"/>
                  </a:lnTo>
                  <a:lnTo>
                    <a:pt x="174" y="494"/>
                  </a:lnTo>
                  <a:lnTo>
                    <a:pt x="167" y="487"/>
                  </a:lnTo>
                  <a:lnTo>
                    <a:pt x="158" y="480"/>
                  </a:lnTo>
                  <a:lnTo>
                    <a:pt x="146" y="469"/>
                  </a:lnTo>
                  <a:lnTo>
                    <a:pt x="135" y="457"/>
                  </a:lnTo>
                  <a:lnTo>
                    <a:pt x="128" y="450"/>
                  </a:lnTo>
                  <a:lnTo>
                    <a:pt x="123" y="443"/>
                  </a:lnTo>
                  <a:lnTo>
                    <a:pt x="116" y="434"/>
                  </a:lnTo>
                  <a:lnTo>
                    <a:pt x="109" y="427"/>
                  </a:lnTo>
                  <a:lnTo>
                    <a:pt x="102" y="417"/>
                  </a:lnTo>
                  <a:lnTo>
                    <a:pt x="95" y="408"/>
                  </a:lnTo>
                  <a:lnTo>
                    <a:pt x="81" y="389"/>
                  </a:lnTo>
                  <a:lnTo>
                    <a:pt x="67" y="368"/>
                  </a:lnTo>
                  <a:lnTo>
                    <a:pt x="53" y="345"/>
                  </a:lnTo>
                  <a:lnTo>
                    <a:pt x="42" y="322"/>
                  </a:lnTo>
                  <a:lnTo>
                    <a:pt x="30" y="296"/>
                  </a:lnTo>
                  <a:lnTo>
                    <a:pt x="14" y="245"/>
                  </a:lnTo>
                  <a:lnTo>
                    <a:pt x="0" y="151"/>
                  </a:lnTo>
                  <a:lnTo>
                    <a:pt x="2" y="86"/>
                  </a:lnTo>
                  <a:lnTo>
                    <a:pt x="9" y="49"/>
                  </a:lnTo>
                  <a:lnTo>
                    <a:pt x="14" y="35"/>
                  </a:lnTo>
                  <a:lnTo>
                    <a:pt x="58" y="14"/>
                  </a:lnTo>
                  <a:lnTo>
                    <a:pt x="58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878600" y="5613480"/>
              <a:ext cx="378000" cy="196920"/>
            </a:xfrm>
            <a:custGeom>
              <a:avLst/>
              <a:gdLst/>
              <a:ahLst/>
              <a:rect l="l" t="t" r="r" b="b"/>
              <a:pathLst>
                <a:path w="277" h="182">
                  <a:moveTo>
                    <a:pt x="17" y="98"/>
                  </a:moveTo>
                  <a:lnTo>
                    <a:pt x="0" y="42"/>
                  </a:lnTo>
                  <a:lnTo>
                    <a:pt x="3" y="28"/>
                  </a:lnTo>
                  <a:lnTo>
                    <a:pt x="10" y="18"/>
                  </a:lnTo>
                  <a:lnTo>
                    <a:pt x="17" y="11"/>
                  </a:lnTo>
                  <a:lnTo>
                    <a:pt x="21" y="7"/>
                  </a:lnTo>
                  <a:lnTo>
                    <a:pt x="38" y="2"/>
                  </a:lnTo>
                  <a:lnTo>
                    <a:pt x="63" y="0"/>
                  </a:lnTo>
                  <a:lnTo>
                    <a:pt x="96" y="4"/>
                  </a:lnTo>
                  <a:lnTo>
                    <a:pt x="135" y="18"/>
                  </a:lnTo>
                  <a:lnTo>
                    <a:pt x="154" y="28"/>
                  </a:lnTo>
                  <a:lnTo>
                    <a:pt x="175" y="37"/>
                  </a:lnTo>
                  <a:lnTo>
                    <a:pt x="193" y="46"/>
                  </a:lnTo>
                  <a:lnTo>
                    <a:pt x="212" y="58"/>
                  </a:lnTo>
                  <a:lnTo>
                    <a:pt x="230" y="70"/>
                  </a:lnTo>
                  <a:lnTo>
                    <a:pt x="244" y="84"/>
                  </a:lnTo>
                  <a:lnTo>
                    <a:pt x="256" y="98"/>
                  </a:lnTo>
                  <a:lnTo>
                    <a:pt x="267" y="109"/>
                  </a:lnTo>
                  <a:lnTo>
                    <a:pt x="277" y="137"/>
                  </a:lnTo>
                  <a:lnTo>
                    <a:pt x="56" y="42"/>
                  </a:lnTo>
                  <a:lnTo>
                    <a:pt x="52" y="79"/>
                  </a:lnTo>
                  <a:lnTo>
                    <a:pt x="261" y="158"/>
                  </a:lnTo>
                  <a:lnTo>
                    <a:pt x="254" y="165"/>
                  </a:lnTo>
                  <a:lnTo>
                    <a:pt x="247" y="172"/>
                  </a:lnTo>
                  <a:lnTo>
                    <a:pt x="230" y="179"/>
                  </a:lnTo>
                  <a:lnTo>
                    <a:pt x="207" y="182"/>
                  </a:lnTo>
                  <a:lnTo>
                    <a:pt x="170" y="179"/>
                  </a:lnTo>
                  <a:lnTo>
                    <a:pt x="119" y="163"/>
                  </a:lnTo>
                  <a:lnTo>
                    <a:pt x="107" y="156"/>
                  </a:lnTo>
                  <a:lnTo>
                    <a:pt x="93" y="149"/>
                  </a:lnTo>
                  <a:lnTo>
                    <a:pt x="82" y="142"/>
                  </a:lnTo>
                  <a:lnTo>
                    <a:pt x="70" y="135"/>
                  </a:lnTo>
                  <a:lnTo>
                    <a:pt x="59" y="126"/>
                  </a:lnTo>
                  <a:lnTo>
                    <a:pt x="49" y="121"/>
                  </a:lnTo>
                  <a:lnTo>
                    <a:pt x="33" y="107"/>
                  </a:lnTo>
                  <a:lnTo>
                    <a:pt x="21" y="100"/>
                  </a:lnTo>
                  <a:lnTo>
                    <a:pt x="17" y="98"/>
                  </a:lnTo>
                  <a:lnTo>
                    <a:pt x="17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667640" y="5054760"/>
              <a:ext cx="66600" cy="58680"/>
            </a:xfrm>
            <a:custGeom>
              <a:avLst/>
              <a:gdLst/>
              <a:ahLst/>
              <a:rect l="l" t="t" r="r" b="b"/>
              <a:pathLst>
                <a:path w="49" h="46">
                  <a:moveTo>
                    <a:pt x="26" y="46"/>
                  </a:moveTo>
                  <a:lnTo>
                    <a:pt x="42" y="39"/>
                  </a:lnTo>
                  <a:lnTo>
                    <a:pt x="49" y="23"/>
                  </a:lnTo>
                  <a:lnTo>
                    <a:pt x="47" y="14"/>
                  </a:lnTo>
                  <a:lnTo>
                    <a:pt x="42" y="7"/>
                  </a:lnTo>
                  <a:lnTo>
                    <a:pt x="35" y="0"/>
                  </a:lnTo>
                  <a:lnTo>
                    <a:pt x="26" y="0"/>
                  </a:lnTo>
                  <a:lnTo>
                    <a:pt x="7" y="7"/>
                  </a:lnTo>
                  <a:lnTo>
                    <a:pt x="0" y="23"/>
                  </a:lnTo>
                  <a:lnTo>
                    <a:pt x="3" y="32"/>
                  </a:lnTo>
                  <a:lnTo>
                    <a:pt x="7" y="39"/>
                  </a:lnTo>
                  <a:lnTo>
                    <a:pt x="17" y="44"/>
                  </a:lnTo>
                  <a:lnTo>
                    <a:pt x="26" y="46"/>
                  </a:lnTo>
                  <a:lnTo>
                    <a:pt x="26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675560" y="5232240"/>
              <a:ext cx="66600" cy="59040"/>
            </a:xfrm>
            <a:custGeom>
              <a:avLst/>
              <a:gdLst/>
              <a:ahLst/>
              <a:rect l="l" t="t" r="r" b="b"/>
              <a:pathLst>
                <a:path w="47" h="49">
                  <a:moveTo>
                    <a:pt x="23" y="49"/>
                  </a:moveTo>
                  <a:lnTo>
                    <a:pt x="40" y="42"/>
                  </a:lnTo>
                  <a:lnTo>
                    <a:pt x="47" y="26"/>
                  </a:lnTo>
                  <a:lnTo>
                    <a:pt x="44" y="17"/>
                  </a:lnTo>
                  <a:lnTo>
                    <a:pt x="40" y="10"/>
                  </a:lnTo>
                  <a:lnTo>
                    <a:pt x="33" y="3"/>
                  </a:lnTo>
                  <a:lnTo>
                    <a:pt x="23" y="0"/>
                  </a:lnTo>
                  <a:lnTo>
                    <a:pt x="7" y="10"/>
                  </a:lnTo>
                  <a:lnTo>
                    <a:pt x="0" y="26"/>
                  </a:lnTo>
                  <a:lnTo>
                    <a:pt x="0" y="35"/>
                  </a:lnTo>
                  <a:lnTo>
                    <a:pt x="7" y="42"/>
                  </a:lnTo>
                  <a:lnTo>
                    <a:pt x="14" y="47"/>
                  </a:lnTo>
                  <a:lnTo>
                    <a:pt x="23" y="49"/>
                  </a:lnTo>
                  <a:lnTo>
                    <a:pt x="23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7678800" y="5408640"/>
              <a:ext cx="66600" cy="60120"/>
            </a:xfrm>
            <a:custGeom>
              <a:avLst/>
              <a:gdLst/>
              <a:ahLst/>
              <a:rect l="l" t="t" r="r" b="b"/>
              <a:pathLst>
                <a:path w="47" h="46">
                  <a:moveTo>
                    <a:pt x="24" y="46"/>
                  </a:moveTo>
                  <a:lnTo>
                    <a:pt x="42" y="39"/>
                  </a:lnTo>
                  <a:lnTo>
                    <a:pt x="47" y="23"/>
                  </a:lnTo>
                  <a:lnTo>
                    <a:pt x="47" y="14"/>
                  </a:lnTo>
                  <a:lnTo>
                    <a:pt x="42" y="7"/>
                  </a:lnTo>
                  <a:lnTo>
                    <a:pt x="33" y="0"/>
                  </a:lnTo>
                  <a:lnTo>
                    <a:pt x="24" y="0"/>
                  </a:lnTo>
                  <a:lnTo>
                    <a:pt x="7" y="7"/>
                  </a:lnTo>
                  <a:lnTo>
                    <a:pt x="0" y="23"/>
                  </a:lnTo>
                  <a:lnTo>
                    <a:pt x="3" y="32"/>
                  </a:lnTo>
                  <a:lnTo>
                    <a:pt x="7" y="39"/>
                  </a:lnTo>
                  <a:lnTo>
                    <a:pt x="14" y="44"/>
                  </a:lnTo>
                  <a:lnTo>
                    <a:pt x="24" y="46"/>
                  </a:lnTo>
                  <a:lnTo>
                    <a:pt x="24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683480" y="5586480"/>
              <a:ext cx="66600" cy="58680"/>
            </a:xfrm>
            <a:custGeom>
              <a:avLst/>
              <a:gdLst/>
              <a:ahLst/>
              <a:rect l="l" t="t" r="r" b="b"/>
              <a:pathLst>
                <a:path w="49" h="49">
                  <a:moveTo>
                    <a:pt x="25" y="49"/>
                  </a:moveTo>
                  <a:lnTo>
                    <a:pt x="42" y="42"/>
                  </a:lnTo>
                  <a:lnTo>
                    <a:pt x="49" y="26"/>
                  </a:lnTo>
                  <a:lnTo>
                    <a:pt x="46" y="17"/>
                  </a:lnTo>
                  <a:lnTo>
                    <a:pt x="42" y="10"/>
                  </a:lnTo>
                  <a:lnTo>
                    <a:pt x="32" y="3"/>
                  </a:lnTo>
                  <a:lnTo>
                    <a:pt x="25" y="0"/>
                  </a:lnTo>
                  <a:lnTo>
                    <a:pt x="7" y="10"/>
                  </a:lnTo>
                  <a:lnTo>
                    <a:pt x="0" y="26"/>
                  </a:lnTo>
                  <a:lnTo>
                    <a:pt x="2" y="35"/>
                  </a:lnTo>
                  <a:lnTo>
                    <a:pt x="7" y="42"/>
                  </a:lnTo>
                  <a:lnTo>
                    <a:pt x="16" y="47"/>
                  </a:lnTo>
                  <a:lnTo>
                    <a:pt x="25" y="49"/>
                  </a:lnTo>
                  <a:lnTo>
                    <a:pt x="25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689960" y="5764320"/>
              <a:ext cx="66600" cy="58680"/>
            </a:xfrm>
            <a:custGeom>
              <a:avLst/>
              <a:gdLst/>
              <a:ahLst/>
              <a:rect l="l" t="t" r="r" b="b"/>
              <a:pathLst>
                <a:path w="47" h="46">
                  <a:moveTo>
                    <a:pt x="24" y="46"/>
                  </a:moveTo>
                  <a:lnTo>
                    <a:pt x="40" y="39"/>
                  </a:lnTo>
                  <a:lnTo>
                    <a:pt x="47" y="23"/>
                  </a:lnTo>
                  <a:lnTo>
                    <a:pt x="45" y="14"/>
                  </a:lnTo>
                  <a:lnTo>
                    <a:pt x="40" y="7"/>
                  </a:lnTo>
                  <a:lnTo>
                    <a:pt x="33" y="0"/>
                  </a:lnTo>
                  <a:lnTo>
                    <a:pt x="24" y="0"/>
                  </a:lnTo>
                  <a:lnTo>
                    <a:pt x="7" y="7"/>
                  </a:lnTo>
                  <a:lnTo>
                    <a:pt x="0" y="23"/>
                  </a:lnTo>
                  <a:lnTo>
                    <a:pt x="3" y="32"/>
                  </a:lnTo>
                  <a:lnTo>
                    <a:pt x="7" y="39"/>
                  </a:lnTo>
                  <a:lnTo>
                    <a:pt x="14" y="44"/>
                  </a:lnTo>
                  <a:lnTo>
                    <a:pt x="24" y="46"/>
                  </a:lnTo>
                  <a:lnTo>
                    <a:pt x="24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694640" y="5940360"/>
              <a:ext cx="66600" cy="60480"/>
            </a:xfrm>
            <a:custGeom>
              <a:avLst/>
              <a:gdLst/>
              <a:ahLst/>
              <a:rect l="l" t="t" r="r" b="b"/>
              <a:pathLst>
                <a:path w="48" h="46">
                  <a:moveTo>
                    <a:pt x="23" y="46"/>
                  </a:moveTo>
                  <a:lnTo>
                    <a:pt x="42" y="39"/>
                  </a:lnTo>
                  <a:lnTo>
                    <a:pt x="48" y="23"/>
                  </a:lnTo>
                  <a:lnTo>
                    <a:pt x="46" y="14"/>
                  </a:lnTo>
                  <a:lnTo>
                    <a:pt x="42" y="7"/>
                  </a:lnTo>
                  <a:lnTo>
                    <a:pt x="32" y="0"/>
                  </a:lnTo>
                  <a:lnTo>
                    <a:pt x="23" y="0"/>
                  </a:lnTo>
                  <a:lnTo>
                    <a:pt x="7" y="7"/>
                  </a:lnTo>
                  <a:lnTo>
                    <a:pt x="0" y="23"/>
                  </a:lnTo>
                  <a:lnTo>
                    <a:pt x="2" y="32"/>
                  </a:lnTo>
                  <a:lnTo>
                    <a:pt x="7" y="39"/>
                  </a:lnTo>
                  <a:lnTo>
                    <a:pt x="14" y="44"/>
                  </a:lnTo>
                  <a:lnTo>
                    <a:pt x="23" y="46"/>
                  </a:lnTo>
                  <a:lnTo>
                    <a:pt x="23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694640" y="6093000"/>
              <a:ext cx="66600" cy="60120"/>
            </a:xfrm>
            <a:custGeom>
              <a:avLst/>
              <a:gdLst/>
              <a:ahLst/>
              <a:rect l="l" t="t" r="r" b="b"/>
              <a:pathLst>
                <a:path w="46" h="47">
                  <a:moveTo>
                    <a:pt x="23" y="47"/>
                  </a:moveTo>
                  <a:lnTo>
                    <a:pt x="39" y="40"/>
                  </a:lnTo>
                  <a:lnTo>
                    <a:pt x="46" y="24"/>
                  </a:lnTo>
                  <a:lnTo>
                    <a:pt x="44" y="14"/>
                  </a:lnTo>
                  <a:lnTo>
                    <a:pt x="39" y="7"/>
                  </a:lnTo>
                  <a:lnTo>
                    <a:pt x="32" y="0"/>
                  </a:lnTo>
                  <a:lnTo>
                    <a:pt x="23" y="0"/>
                  </a:lnTo>
                  <a:lnTo>
                    <a:pt x="7" y="7"/>
                  </a:lnTo>
                  <a:lnTo>
                    <a:pt x="0" y="24"/>
                  </a:lnTo>
                  <a:lnTo>
                    <a:pt x="2" y="33"/>
                  </a:lnTo>
                  <a:lnTo>
                    <a:pt x="7" y="40"/>
                  </a:lnTo>
                  <a:lnTo>
                    <a:pt x="14" y="45"/>
                  </a:lnTo>
                  <a:lnTo>
                    <a:pt x="23" y="47"/>
                  </a:lnTo>
                  <a:lnTo>
                    <a:pt x="23" y="4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629400" y="4567320"/>
              <a:ext cx="658800" cy="1657440"/>
            </a:xfrm>
            <a:custGeom>
              <a:avLst/>
              <a:gdLst/>
              <a:ahLst/>
              <a:rect l="l" t="t" r="r" b="b"/>
              <a:pathLst>
                <a:path w="1754" h="5002">
                  <a:moveTo>
                    <a:pt x="1754" y="0"/>
                  </a:moveTo>
                  <a:lnTo>
                    <a:pt x="1238" y="101"/>
                  </a:lnTo>
                  <a:lnTo>
                    <a:pt x="1129" y="137"/>
                  </a:lnTo>
                  <a:lnTo>
                    <a:pt x="1071" y="170"/>
                  </a:lnTo>
                  <a:lnTo>
                    <a:pt x="1020" y="193"/>
                  </a:lnTo>
                  <a:lnTo>
                    <a:pt x="962" y="228"/>
                  </a:lnTo>
                  <a:lnTo>
                    <a:pt x="901" y="261"/>
                  </a:lnTo>
                  <a:lnTo>
                    <a:pt x="843" y="297"/>
                  </a:lnTo>
                  <a:lnTo>
                    <a:pt x="817" y="320"/>
                  </a:lnTo>
                  <a:lnTo>
                    <a:pt x="792" y="343"/>
                  </a:lnTo>
                  <a:lnTo>
                    <a:pt x="759" y="365"/>
                  </a:lnTo>
                  <a:lnTo>
                    <a:pt x="734" y="388"/>
                  </a:lnTo>
                  <a:lnTo>
                    <a:pt x="708" y="411"/>
                  </a:lnTo>
                  <a:lnTo>
                    <a:pt x="675" y="444"/>
                  </a:lnTo>
                  <a:lnTo>
                    <a:pt x="650" y="467"/>
                  </a:lnTo>
                  <a:lnTo>
                    <a:pt x="625" y="496"/>
                  </a:lnTo>
                  <a:lnTo>
                    <a:pt x="599" y="525"/>
                  </a:lnTo>
                  <a:lnTo>
                    <a:pt x="574" y="558"/>
                  </a:lnTo>
                  <a:lnTo>
                    <a:pt x="472" y="685"/>
                  </a:lnTo>
                  <a:lnTo>
                    <a:pt x="429" y="754"/>
                  </a:lnTo>
                  <a:lnTo>
                    <a:pt x="389" y="839"/>
                  </a:lnTo>
                  <a:lnTo>
                    <a:pt x="345" y="914"/>
                  </a:lnTo>
                  <a:lnTo>
                    <a:pt x="305" y="998"/>
                  </a:lnTo>
                  <a:lnTo>
                    <a:pt x="269" y="1083"/>
                  </a:lnTo>
                  <a:lnTo>
                    <a:pt x="243" y="1165"/>
                  </a:lnTo>
                  <a:lnTo>
                    <a:pt x="167" y="1517"/>
                  </a:lnTo>
                  <a:lnTo>
                    <a:pt x="142" y="1866"/>
                  </a:lnTo>
                  <a:lnTo>
                    <a:pt x="142" y="2193"/>
                  </a:lnTo>
                  <a:lnTo>
                    <a:pt x="178" y="2490"/>
                  </a:lnTo>
                  <a:lnTo>
                    <a:pt x="211" y="2741"/>
                  </a:lnTo>
                  <a:lnTo>
                    <a:pt x="261" y="3048"/>
                  </a:lnTo>
                  <a:lnTo>
                    <a:pt x="254" y="3145"/>
                  </a:lnTo>
                  <a:lnTo>
                    <a:pt x="211" y="3289"/>
                  </a:lnTo>
                  <a:lnTo>
                    <a:pt x="153" y="3465"/>
                  </a:lnTo>
                  <a:lnTo>
                    <a:pt x="94" y="3671"/>
                  </a:lnTo>
                  <a:lnTo>
                    <a:pt x="33" y="3893"/>
                  </a:lnTo>
                  <a:lnTo>
                    <a:pt x="0" y="4105"/>
                  </a:lnTo>
                  <a:lnTo>
                    <a:pt x="0" y="4310"/>
                  </a:lnTo>
                  <a:lnTo>
                    <a:pt x="7" y="4408"/>
                  </a:lnTo>
                  <a:lnTo>
                    <a:pt x="33" y="4500"/>
                  </a:lnTo>
                  <a:lnTo>
                    <a:pt x="69" y="4584"/>
                  </a:lnTo>
                  <a:lnTo>
                    <a:pt x="102" y="4653"/>
                  </a:lnTo>
                  <a:lnTo>
                    <a:pt x="142" y="4715"/>
                  </a:lnTo>
                  <a:lnTo>
                    <a:pt x="178" y="4774"/>
                  </a:lnTo>
                  <a:lnTo>
                    <a:pt x="211" y="4819"/>
                  </a:lnTo>
                  <a:lnTo>
                    <a:pt x="243" y="4858"/>
                  </a:lnTo>
                  <a:lnTo>
                    <a:pt x="280" y="4888"/>
                  </a:lnTo>
                  <a:lnTo>
                    <a:pt x="312" y="4911"/>
                  </a:lnTo>
                  <a:lnTo>
                    <a:pt x="345" y="4933"/>
                  </a:lnTo>
                  <a:lnTo>
                    <a:pt x="370" y="4950"/>
                  </a:lnTo>
                  <a:lnTo>
                    <a:pt x="421" y="4966"/>
                  </a:lnTo>
                  <a:lnTo>
                    <a:pt x="465" y="4973"/>
                  </a:lnTo>
                  <a:lnTo>
                    <a:pt x="505" y="4989"/>
                  </a:lnTo>
                  <a:lnTo>
                    <a:pt x="606" y="5002"/>
                  </a:lnTo>
                  <a:lnTo>
                    <a:pt x="708" y="4973"/>
                  </a:lnTo>
                  <a:lnTo>
                    <a:pt x="741" y="4927"/>
                  </a:lnTo>
                  <a:lnTo>
                    <a:pt x="759" y="4842"/>
                  </a:lnTo>
                  <a:lnTo>
                    <a:pt x="752" y="4774"/>
                  </a:lnTo>
                  <a:lnTo>
                    <a:pt x="726" y="4751"/>
                  </a:lnTo>
                  <a:lnTo>
                    <a:pt x="708" y="4738"/>
                  </a:lnTo>
                  <a:lnTo>
                    <a:pt x="574" y="4715"/>
                  </a:lnTo>
                  <a:lnTo>
                    <a:pt x="429" y="4653"/>
                  </a:lnTo>
                  <a:lnTo>
                    <a:pt x="363" y="4568"/>
                  </a:lnTo>
                  <a:lnTo>
                    <a:pt x="320" y="4431"/>
                  </a:lnTo>
                  <a:lnTo>
                    <a:pt x="312" y="4098"/>
                  </a:lnTo>
                  <a:lnTo>
                    <a:pt x="420" y="3974"/>
                  </a:lnTo>
                  <a:lnTo>
                    <a:pt x="356" y="3778"/>
                  </a:lnTo>
                  <a:lnTo>
                    <a:pt x="389" y="3625"/>
                  </a:lnTo>
                  <a:lnTo>
                    <a:pt x="414" y="3472"/>
                  </a:lnTo>
                  <a:lnTo>
                    <a:pt x="454" y="3185"/>
                  </a:lnTo>
                  <a:lnTo>
                    <a:pt x="429" y="2757"/>
                  </a:lnTo>
                  <a:lnTo>
                    <a:pt x="403" y="2454"/>
                  </a:lnTo>
                  <a:lnTo>
                    <a:pt x="370" y="2134"/>
                  </a:lnTo>
                  <a:lnTo>
                    <a:pt x="345" y="1501"/>
                  </a:lnTo>
                  <a:lnTo>
                    <a:pt x="363" y="1233"/>
                  </a:lnTo>
                  <a:lnTo>
                    <a:pt x="389" y="1129"/>
                  </a:lnTo>
                  <a:lnTo>
                    <a:pt x="403" y="1038"/>
                  </a:lnTo>
                  <a:lnTo>
                    <a:pt x="439" y="953"/>
                  </a:lnTo>
                  <a:lnTo>
                    <a:pt x="472" y="884"/>
                  </a:lnTo>
                  <a:lnTo>
                    <a:pt x="505" y="816"/>
                  </a:lnTo>
                  <a:lnTo>
                    <a:pt x="541" y="747"/>
                  </a:lnTo>
                  <a:lnTo>
                    <a:pt x="574" y="695"/>
                  </a:lnTo>
                  <a:lnTo>
                    <a:pt x="606" y="640"/>
                  </a:lnTo>
                  <a:lnTo>
                    <a:pt x="683" y="542"/>
                  </a:lnTo>
                  <a:lnTo>
                    <a:pt x="701" y="519"/>
                  </a:lnTo>
                  <a:lnTo>
                    <a:pt x="715" y="496"/>
                  </a:lnTo>
                  <a:lnTo>
                    <a:pt x="741" y="480"/>
                  </a:lnTo>
                  <a:lnTo>
                    <a:pt x="759" y="457"/>
                  </a:lnTo>
                  <a:lnTo>
                    <a:pt x="803" y="421"/>
                  </a:lnTo>
                  <a:lnTo>
                    <a:pt x="850" y="388"/>
                  </a:lnTo>
                  <a:lnTo>
                    <a:pt x="901" y="352"/>
                  </a:lnTo>
                  <a:lnTo>
                    <a:pt x="951" y="320"/>
                  </a:lnTo>
                  <a:lnTo>
                    <a:pt x="1002" y="290"/>
                  </a:lnTo>
                  <a:lnTo>
                    <a:pt x="1064" y="261"/>
                  </a:lnTo>
                  <a:lnTo>
                    <a:pt x="1122" y="238"/>
                  </a:lnTo>
                  <a:lnTo>
                    <a:pt x="1180" y="215"/>
                  </a:lnTo>
                  <a:lnTo>
                    <a:pt x="1238" y="193"/>
                  </a:lnTo>
                  <a:lnTo>
                    <a:pt x="1300" y="176"/>
                  </a:lnTo>
                  <a:lnTo>
                    <a:pt x="1398" y="147"/>
                  </a:lnTo>
                  <a:lnTo>
                    <a:pt x="1493" y="131"/>
                  </a:lnTo>
                  <a:lnTo>
                    <a:pt x="1685" y="114"/>
                  </a:lnTo>
                  <a:lnTo>
                    <a:pt x="1754" y="0"/>
                  </a:lnTo>
                  <a:lnTo>
                    <a:pt x="1754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919920" y="4646520"/>
              <a:ext cx="326880" cy="1543320"/>
            </a:xfrm>
            <a:custGeom>
              <a:avLst/>
              <a:gdLst/>
              <a:ahLst/>
              <a:rect l="l" t="t" r="r" b="b"/>
              <a:pathLst>
                <a:path w="239" h="1426">
                  <a:moveTo>
                    <a:pt x="237" y="0"/>
                  </a:moveTo>
                  <a:lnTo>
                    <a:pt x="227" y="7"/>
                  </a:lnTo>
                  <a:lnTo>
                    <a:pt x="216" y="14"/>
                  </a:lnTo>
                  <a:lnTo>
                    <a:pt x="202" y="26"/>
                  </a:lnTo>
                  <a:lnTo>
                    <a:pt x="195" y="33"/>
                  </a:lnTo>
                  <a:lnTo>
                    <a:pt x="186" y="40"/>
                  </a:lnTo>
                  <a:lnTo>
                    <a:pt x="179" y="47"/>
                  </a:lnTo>
                  <a:lnTo>
                    <a:pt x="169" y="56"/>
                  </a:lnTo>
                  <a:lnTo>
                    <a:pt x="160" y="63"/>
                  </a:lnTo>
                  <a:lnTo>
                    <a:pt x="148" y="72"/>
                  </a:lnTo>
                  <a:lnTo>
                    <a:pt x="139" y="84"/>
                  </a:lnTo>
                  <a:lnTo>
                    <a:pt x="130" y="93"/>
                  </a:lnTo>
                  <a:lnTo>
                    <a:pt x="118" y="105"/>
                  </a:lnTo>
                  <a:lnTo>
                    <a:pt x="109" y="114"/>
                  </a:lnTo>
                  <a:lnTo>
                    <a:pt x="100" y="126"/>
                  </a:lnTo>
                  <a:lnTo>
                    <a:pt x="90" y="140"/>
                  </a:lnTo>
                  <a:lnTo>
                    <a:pt x="72" y="163"/>
                  </a:lnTo>
                  <a:lnTo>
                    <a:pt x="55" y="189"/>
                  </a:lnTo>
                  <a:lnTo>
                    <a:pt x="42" y="217"/>
                  </a:lnTo>
                  <a:lnTo>
                    <a:pt x="30" y="245"/>
                  </a:lnTo>
                  <a:lnTo>
                    <a:pt x="21" y="301"/>
                  </a:lnTo>
                  <a:lnTo>
                    <a:pt x="23" y="352"/>
                  </a:lnTo>
                  <a:lnTo>
                    <a:pt x="35" y="392"/>
                  </a:lnTo>
                  <a:lnTo>
                    <a:pt x="42" y="408"/>
                  </a:lnTo>
                  <a:lnTo>
                    <a:pt x="51" y="422"/>
                  </a:lnTo>
                  <a:lnTo>
                    <a:pt x="67" y="455"/>
                  </a:lnTo>
                  <a:lnTo>
                    <a:pt x="93" y="525"/>
                  </a:lnTo>
                  <a:lnTo>
                    <a:pt x="95" y="574"/>
                  </a:lnTo>
                  <a:lnTo>
                    <a:pt x="88" y="637"/>
                  </a:lnTo>
                  <a:lnTo>
                    <a:pt x="72" y="714"/>
                  </a:lnTo>
                  <a:lnTo>
                    <a:pt x="55" y="796"/>
                  </a:lnTo>
                  <a:lnTo>
                    <a:pt x="42" y="880"/>
                  </a:lnTo>
                  <a:lnTo>
                    <a:pt x="28" y="959"/>
                  </a:lnTo>
                  <a:lnTo>
                    <a:pt x="16" y="1036"/>
                  </a:lnTo>
                  <a:lnTo>
                    <a:pt x="4" y="1106"/>
                  </a:lnTo>
                  <a:lnTo>
                    <a:pt x="0" y="1206"/>
                  </a:lnTo>
                  <a:lnTo>
                    <a:pt x="4" y="1244"/>
                  </a:lnTo>
                  <a:lnTo>
                    <a:pt x="14" y="1281"/>
                  </a:lnTo>
                  <a:lnTo>
                    <a:pt x="18" y="1300"/>
                  </a:lnTo>
                  <a:lnTo>
                    <a:pt x="25" y="1318"/>
                  </a:lnTo>
                  <a:lnTo>
                    <a:pt x="37" y="1353"/>
                  </a:lnTo>
                  <a:lnTo>
                    <a:pt x="51" y="1381"/>
                  </a:lnTo>
                  <a:lnTo>
                    <a:pt x="60" y="1405"/>
                  </a:lnTo>
                  <a:lnTo>
                    <a:pt x="72" y="1426"/>
                  </a:lnTo>
                  <a:lnTo>
                    <a:pt x="93" y="1416"/>
                  </a:lnTo>
                  <a:lnTo>
                    <a:pt x="86" y="1363"/>
                  </a:lnTo>
                  <a:lnTo>
                    <a:pt x="76" y="1227"/>
                  </a:lnTo>
                  <a:lnTo>
                    <a:pt x="74" y="1050"/>
                  </a:lnTo>
                  <a:lnTo>
                    <a:pt x="79" y="959"/>
                  </a:lnTo>
                  <a:lnTo>
                    <a:pt x="83" y="915"/>
                  </a:lnTo>
                  <a:lnTo>
                    <a:pt x="90" y="873"/>
                  </a:lnTo>
                  <a:lnTo>
                    <a:pt x="104" y="796"/>
                  </a:lnTo>
                  <a:lnTo>
                    <a:pt x="114" y="730"/>
                  </a:lnTo>
                  <a:lnTo>
                    <a:pt x="123" y="621"/>
                  </a:lnTo>
                  <a:lnTo>
                    <a:pt x="118" y="530"/>
                  </a:lnTo>
                  <a:lnTo>
                    <a:pt x="109" y="488"/>
                  </a:lnTo>
                  <a:lnTo>
                    <a:pt x="97" y="441"/>
                  </a:lnTo>
                  <a:lnTo>
                    <a:pt x="76" y="355"/>
                  </a:lnTo>
                  <a:lnTo>
                    <a:pt x="74" y="278"/>
                  </a:lnTo>
                  <a:lnTo>
                    <a:pt x="81" y="243"/>
                  </a:lnTo>
                  <a:lnTo>
                    <a:pt x="86" y="224"/>
                  </a:lnTo>
                  <a:lnTo>
                    <a:pt x="93" y="208"/>
                  </a:lnTo>
                  <a:lnTo>
                    <a:pt x="100" y="189"/>
                  </a:lnTo>
                  <a:lnTo>
                    <a:pt x="109" y="173"/>
                  </a:lnTo>
                  <a:lnTo>
                    <a:pt x="121" y="154"/>
                  </a:lnTo>
                  <a:lnTo>
                    <a:pt x="132" y="135"/>
                  </a:lnTo>
                  <a:lnTo>
                    <a:pt x="155" y="103"/>
                  </a:lnTo>
                  <a:lnTo>
                    <a:pt x="162" y="96"/>
                  </a:lnTo>
                  <a:lnTo>
                    <a:pt x="167" y="89"/>
                  </a:lnTo>
                  <a:lnTo>
                    <a:pt x="179" y="77"/>
                  </a:lnTo>
                  <a:lnTo>
                    <a:pt x="188" y="68"/>
                  </a:lnTo>
                  <a:lnTo>
                    <a:pt x="195" y="58"/>
                  </a:lnTo>
                  <a:lnTo>
                    <a:pt x="204" y="49"/>
                  </a:lnTo>
                  <a:lnTo>
                    <a:pt x="211" y="42"/>
                  </a:lnTo>
                  <a:lnTo>
                    <a:pt x="223" y="33"/>
                  </a:lnTo>
                  <a:lnTo>
                    <a:pt x="232" y="28"/>
                  </a:lnTo>
                  <a:lnTo>
                    <a:pt x="239" y="23"/>
                  </a:lnTo>
                  <a:lnTo>
                    <a:pt x="237" y="0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821640" y="6227640"/>
              <a:ext cx="75960" cy="187560"/>
            </a:xfrm>
            <a:custGeom>
              <a:avLst/>
              <a:gdLst/>
              <a:ahLst/>
              <a:rect l="l" t="t" r="r" b="b"/>
              <a:pathLst>
                <a:path w="56" h="173">
                  <a:moveTo>
                    <a:pt x="0" y="0"/>
                  </a:moveTo>
                  <a:lnTo>
                    <a:pt x="3" y="56"/>
                  </a:lnTo>
                  <a:lnTo>
                    <a:pt x="7" y="103"/>
                  </a:lnTo>
                  <a:lnTo>
                    <a:pt x="17" y="138"/>
                  </a:lnTo>
                  <a:lnTo>
                    <a:pt x="28" y="157"/>
                  </a:lnTo>
                  <a:lnTo>
                    <a:pt x="33" y="164"/>
                  </a:lnTo>
                  <a:lnTo>
                    <a:pt x="40" y="168"/>
                  </a:lnTo>
                  <a:lnTo>
                    <a:pt x="56" y="173"/>
                  </a:lnTo>
                  <a:lnTo>
                    <a:pt x="51" y="138"/>
                  </a:lnTo>
                  <a:lnTo>
                    <a:pt x="33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919920" y="6232680"/>
              <a:ext cx="79200" cy="172800"/>
            </a:xfrm>
            <a:custGeom>
              <a:avLst/>
              <a:gdLst/>
              <a:ahLst/>
              <a:rect l="l" t="t" r="r" b="b"/>
              <a:pathLst>
                <a:path w="58" h="159">
                  <a:moveTo>
                    <a:pt x="0" y="7"/>
                  </a:moveTo>
                  <a:lnTo>
                    <a:pt x="16" y="121"/>
                  </a:lnTo>
                  <a:lnTo>
                    <a:pt x="37" y="159"/>
                  </a:lnTo>
                  <a:lnTo>
                    <a:pt x="58" y="145"/>
                  </a:lnTo>
                  <a:lnTo>
                    <a:pt x="28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996240" y="6215040"/>
              <a:ext cx="66600" cy="155520"/>
            </a:xfrm>
            <a:custGeom>
              <a:avLst/>
              <a:gdLst/>
              <a:ahLst/>
              <a:rect l="l" t="t" r="r" b="b"/>
              <a:pathLst>
                <a:path w="49" h="144">
                  <a:moveTo>
                    <a:pt x="0" y="9"/>
                  </a:moveTo>
                  <a:lnTo>
                    <a:pt x="33" y="144"/>
                  </a:lnTo>
                  <a:lnTo>
                    <a:pt x="49" y="123"/>
                  </a:lnTo>
                  <a:lnTo>
                    <a:pt x="19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048440" y="6199200"/>
              <a:ext cx="68400" cy="133200"/>
            </a:xfrm>
            <a:custGeom>
              <a:avLst/>
              <a:gdLst/>
              <a:ahLst/>
              <a:rect l="l" t="t" r="r" b="b"/>
              <a:pathLst>
                <a:path w="42" h="123">
                  <a:moveTo>
                    <a:pt x="0" y="2"/>
                  </a:moveTo>
                  <a:lnTo>
                    <a:pt x="30" y="123"/>
                  </a:lnTo>
                  <a:lnTo>
                    <a:pt x="42" y="98"/>
                  </a:lnTo>
                  <a:lnTo>
                    <a:pt x="18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951680" y="4548240"/>
              <a:ext cx="649440" cy="1706400"/>
            </a:xfrm>
            <a:custGeom>
              <a:avLst/>
              <a:gdLst/>
              <a:ahLst/>
              <a:rect l="l" t="t" r="r" b="b"/>
              <a:pathLst>
                <a:path w="1729" h="5152">
                  <a:moveTo>
                    <a:pt x="0" y="0"/>
                  </a:moveTo>
                  <a:lnTo>
                    <a:pt x="269" y="212"/>
                  </a:lnTo>
                  <a:lnTo>
                    <a:pt x="327" y="235"/>
                  </a:lnTo>
                  <a:lnTo>
                    <a:pt x="403" y="264"/>
                  </a:lnTo>
                  <a:lnTo>
                    <a:pt x="447" y="287"/>
                  </a:lnTo>
                  <a:lnTo>
                    <a:pt x="498" y="310"/>
                  </a:lnTo>
                  <a:lnTo>
                    <a:pt x="548" y="333"/>
                  </a:lnTo>
                  <a:lnTo>
                    <a:pt x="607" y="365"/>
                  </a:lnTo>
                  <a:lnTo>
                    <a:pt x="665" y="395"/>
                  </a:lnTo>
                  <a:lnTo>
                    <a:pt x="723" y="434"/>
                  </a:lnTo>
                  <a:lnTo>
                    <a:pt x="792" y="470"/>
                  </a:lnTo>
                  <a:lnTo>
                    <a:pt x="857" y="509"/>
                  </a:lnTo>
                  <a:lnTo>
                    <a:pt x="894" y="525"/>
                  </a:lnTo>
                  <a:lnTo>
                    <a:pt x="926" y="548"/>
                  </a:lnTo>
                  <a:lnTo>
                    <a:pt x="959" y="571"/>
                  </a:lnTo>
                  <a:lnTo>
                    <a:pt x="995" y="594"/>
                  </a:lnTo>
                  <a:lnTo>
                    <a:pt x="1028" y="617"/>
                  </a:lnTo>
                  <a:lnTo>
                    <a:pt x="1061" y="640"/>
                  </a:lnTo>
                  <a:lnTo>
                    <a:pt x="1093" y="662"/>
                  </a:lnTo>
                  <a:lnTo>
                    <a:pt x="1130" y="685"/>
                  </a:lnTo>
                  <a:lnTo>
                    <a:pt x="1162" y="715"/>
                  </a:lnTo>
                  <a:lnTo>
                    <a:pt x="1195" y="737"/>
                  </a:lnTo>
                  <a:lnTo>
                    <a:pt x="1231" y="760"/>
                  </a:lnTo>
                  <a:lnTo>
                    <a:pt x="1257" y="790"/>
                  </a:lnTo>
                  <a:lnTo>
                    <a:pt x="1289" y="822"/>
                  </a:lnTo>
                  <a:lnTo>
                    <a:pt x="1322" y="845"/>
                  </a:lnTo>
                  <a:lnTo>
                    <a:pt x="1355" y="874"/>
                  </a:lnTo>
                  <a:lnTo>
                    <a:pt x="1380" y="904"/>
                  </a:lnTo>
                  <a:lnTo>
                    <a:pt x="1417" y="936"/>
                  </a:lnTo>
                  <a:lnTo>
                    <a:pt x="1442" y="966"/>
                  </a:lnTo>
                  <a:lnTo>
                    <a:pt x="1467" y="995"/>
                  </a:lnTo>
                  <a:lnTo>
                    <a:pt x="1493" y="1028"/>
                  </a:lnTo>
                  <a:lnTo>
                    <a:pt x="1584" y="1155"/>
                  </a:lnTo>
                  <a:lnTo>
                    <a:pt x="1660" y="1292"/>
                  </a:lnTo>
                  <a:lnTo>
                    <a:pt x="1729" y="1582"/>
                  </a:lnTo>
                  <a:lnTo>
                    <a:pt x="1718" y="1857"/>
                  </a:lnTo>
                  <a:lnTo>
                    <a:pt x="1685" y="2091"/>
                  </a:lnTo>
                  <a:lnTo>
                    <a:pt x="1642" y="2291"/>
                  </a:lnTo>
                  <a:lnTo>
                    <a:pt x="1591" y="2467"/>
                  </a:lnTo>
                  <a:lnTo>
                    <a:pt x="1551" y="2633"/>
                  </a:lnTo>
                  <a:lnTo>
                    <a:pt x="1518" y="2800"/>
                  </a:lnTo>
                  <a:lnTo>
                    <a:pt x="1500" y="2992"/>
                  </a:lnTo>
                  <a:lnTo>
                    <a:pt x="1518" y="3211"/>
                  </a:lnTo>
                  <a:lnTo>
                    <a:pt x="1551" y="3449"/>
                  </a:lnTo>
                  <a:lnTo>
                    <a:pt x="1584" y="3684"/>
                  </a:lnTo>
                  <a:lnTo>
                    <a:pt x="1616" y="3906"/>
                  </a:lnTo>
                  <a:lnTo>
                    <a:pt x="1653" y="4118"/>
                  </a:lnTo>
                  <a:lnTo>
                    <a:pt x="1685" y="4490"/>
                  </a:lnTo>
                  <a:lnTo>
                    <a:pt x="1678" y="4650"/>
                  </a:lnTo>
                  <a:lnTo>
                    <a:pt x="1660" y="4774"/>
                  </a:lnTo>
                  <a:lnTo>
                    <a:pt x="1627" y="4878"/>
                  </a:lnTo>
                  <a:lnTo>
                    <a:pt x="1584" y="4963"/>
                  </a:lnTo>
                  <a:lnTo>
                    <a:pt x="1551" y="5025"/>
                  </a:lnTo>
                  <a:lnTo>
                    <a:pt x="1518" y="5077"/>
                  </a:lnTo>
                  <a:lnTo>
                    <a:pt x="1482" y="5116"/>
                  </a:lnTo>
                  <a:lnTo>
                    <a:pt x="1457" y="5139"/>
                  </a:lnTo>
                  <a:lnTo>
                    <a:pt x="1442" y="5152"/>
                  </a:lnTo>
                  <a:lnTo>
                    <a:pt x="1214" y="5074"/>
                  </a:lnTo>
                  <a:lnTo>
                    <a:pt x="1251" y="5021"/>
                  </a:lnTo>
                  <a:lnTo>
                    <a:pt x="1304" y="4946"/>
                  </a:lnTo>
                  <a:lnTo>
                    <a:pt x="1356" y="4856"/>
                  </a:lnTo>
                  <a:lnTo>
                    <a:pt x="1467" y="4757"/>
                  </a:lnTo>
                  <a:lnTo>
                    <a:pt x="1507" y="4604"/>
                  </a:lnTo>
                  <a:lnTo>
                    <a:pt x="1446" y="4294"/>
                  </a:lnTo>
                  <a:lnTo>
                    <a:pt x="1409" y="4084"/>
                  </a:lnTo>
                  <a:lnTo>
                    <a:pt x="1386" y="3881"/>
                  </a:lnTo>
                  <a:lnTo>
                    <a:pt x="1482" y="3609"/>
                  </a:lnTo>
                  <a:lnTo>
                    <a:pt x="1416" y="3349"/>
                  </a:lnTo>
                  <a:lnTo>
                    <a:pt x="1266" y="3116"/>
                  </a:lnTo>
                  <a:lnTo>
                    <a:pt x="1398" y="2861"/>
                  </a:lnTo>
                  <a:lnTo>
                    <a:pt x="1391" y="2649"/>
                  </a:lnTo>
                  <a:lnTo>
                    <a:pt x="1341" y="2434"/>
                  </a:lnTo>
                  <a:lnTo>
                    <a:pt x="1356" y="2276"/>
                  </a:lnTo>
                  <a:lnTo>
                    <a:pt x="1379" y="2096"/>
                  </a:lnTo>
                  <a:lnTo>
                    <a:pt x="1526" y="1788"/>
                  </a:lnTo>
                  <a:lnTo>
                    <a:pt x="1533" y="1697"/>
                  </a:lnTo>
                  <a:lnTo>
                    <a:pt x="1526" y="1612"/>
                  </a:lnTo>
                  <a:lnTo>
                    <a:pt x="1446" y="1459"/>
                  </a:lnTo>
                  <a:lnTo>
                    <a:pt x="1424" y="1391"/>
                  </a:lnTo>
                  <a:lnTo>
                    <a:pt x="1431" y="1309"/>
                  </a:lnTo>
                  <a:lnTo>
                    <a:pt x="1371" y="1219"/>
                  </a:lnTo>
                  <a:lnTo>
                    <a:pt x="1326" y="1106"/>
                  </a:lnTo>
                  <a:lnTo>
                    <a:pt x="1259" y="1016"/>
                  </a:lnTo>
                  <a:lnTo>
                    <a:pt x="1214" y="971"/>
                  </a:lnTo>
                  <a:lnTo>
                    <a:pt x="1231" y="943"/>
                  </a:lnTo>
                  <a:lnTo>
                    <a:pt x="1199" y="934"/>
                  </a:lnTo>
                  <a:lnTo>
                    <a:pt x="1195" y="897"/>
                  </a:lnTo>
                  <a:lnTo>
                    <a:pt x="1139" y="911"/>
                  </a:lnTo>
                  <a:lnTo>
                    <a:pt x="1130" y="835"/>
                  </a:lnTo>
                  <a:lnTo>
                    <a:pt x="1104" y="812"/>
                  </a:lnTo>
                  <a:lnTo>
                    <a:pt x="1053" y="777"/>
                  </a:lnTo>
                  <a:lnTo>
                    <a:pt x="1028" y="754"/>
                  </a:lnTo>
                  <a:lnTo>
                    <a:pt x="1010" y="731"/>
                  </a:lnTo>
                  <a:lnTo>
                    <a:pt x="952" y="692"/>
                  </a:lnTo>
                  <a:lnTo>
                    <a:pt x="908" y="653"/>
                  </a:lnTo>
                  <a:lnTo>
                    <a:pt x="850" y="617"/>
                  </a:lnTo>
                  <a:lnTo>
                    <a:pt x="799" y="584"/>
                  </a:lnTo>
                  <a:lnTo>
                    <a:pt x="748" y="548"/>
                  </a:lnTo>
                  <a:lnTo>
                    <a:pt x="690" y="516"/>
                  </a:lnTo>
                  <a:lnTo>
                    <a:pt x="639" y="486"/>
                  </a:lnTo>
                  <a:lnTo>
                    <a:pt x="588" y="457"/>
                  </a:lnTo>
                  <a:lnTo>
                    <a:pt x="538" y="424"/>
                  </a:lnTo>
                  <a:lnTo>
                    <a:pt x="487" y="395"/>
                  </a:lnTo>
                  <a:lnTo>
                    <a:pt x="447" y="372"/>
                  </a:lnTo>
                  <a:lnTo>
                    <a:pt x="396" y="343"/>
                  </a:lnTo>
                  <a:lnTo>
                    <a:pt x="352" y="326"/>
                  </a:lnTo>
                  <a:lnTo>
                    <a:pt x="312" y="303"/>
                  </a:lnTo>
                  <a:lnTo>
                    <a:pt x="236" y="264"/>
                  </a:lnTo>
                  <a:lnTo>
                    <a:pt x="174" y="235"/>
                  </a:lnTo>
                  <a:lnTo>
                    <a:pt x="124" y="212"/>
                  </a:lnTo>
                  <a:lnTo>
                    <a:pt x="84" y="19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8034480" y="4665600"/>
              <a:ext cx="395280" cy="1595520"/>
            </a:xfrm>
            <a:custGeom>
              <a:avLst/>
              <a:gdLst/>
              <a:ahLst/>
              <a:rect l="l" t="t" r="r" b="b"/>
              <a:pathLst>
                <a:path w="290" h="1475">
                  <a:moveTo>
                    <a:pt x="2" y="12"/>
                  </a:moveTo>
                  <a:lnTo>
                    <a:pt x="9" y="17"/>
                  </a:lnTo>
                  <a:lnTo>
                    <a:pt x="18" y="21"/>
                  </a:lnTo>
                  <a:lnTo>
                    <a:pt x="32" y="31"/>
                  </a:lnTo>
                  <a:lnTo>
                    <a:pt x="46" y="40"/>
                  </a:lnTo>
                  <a:lnTo>
                    <a:pt x="53" y="47"/>
                  </a:lnTo>
                  <a:lnTo>
                    <a:pt x="62" y="54"/>
                  </a:lnTo>
                  <a:lnTo>
                    <a:pt x="72" y="61"/>
                  </a:lnTo>
                  <a:lnTo>
                    <a:pt x="81" y="70"/>
                  </a:lnTo>
                  <a:lnTo>
                    <a:pt x="90" y="77"/>
                  </a:lnTo>
                  <a:lnTo>
                    <a:pt x="100" y="87"/>
                  </a:lnTo>
                  <a:lnTo>
                    <a:pt x="109" y="98"/>
                  </a:lnTo>
                  <a:lnTo>
                    <a:pt x="118" y="108"/>
                  </a:lnTo>
                  <a:lnTo>
                    <a:pt x="127" y="119"/>
                  </a:lnTo>
                  <a:lnTo>
                    <a:pt x="137" y="131"/>
                  </a:lnTo>
                  <a:lnTo>
                    <a:pt x="155" y="157"/>
                  </a:lnTo>
                  <a:lnTo>
                    <a:pt x="174" y="187"/>
                  </a:lnTo>
                  <a:lnTo>
                    <a:pt x="190" y="217"/>
                  </a:lnTo>
                  <a:lnTo>
                    <a:pt x="202" y="252"/>
                  </a:lnTo>
                  <a:lnTo>
                    <a:pt x="220" y="329"/>
                  </a:lnTo>
                  <a:lnTo>
                    <a:pt x="227" y="406"/>
                  </a:lnTo>
                  <a:lnTo>
                    <a:pt x="218" y="476"/>
                  </a:lnTo>
                  <a:lnTo>
                    <a:pt x="211" y="507"/>
                  </a:lnTo>
                  <a:lnTo>
                    <a:pt x="204" y="537"/>
                  </a:lnTo>
                  <a:lnTo>
                    <a:pt x="195" y="567"/>
                  </a:lnTo>
                  <a:lnTo>
                    <a:pt x="183" y="595"/>
                  </a:lnTo>
                  <a:lnTo>
                    <a:pt x="174" y="623"/>
                  </a:lnTo>
                  <a:lnTo>
                    <a:pt x="165" y="651"/>
                  </a:lnTo>
                  <a:lnTo>
                    <a:pt x="146" y="705"/>
                  </a:lnTo>
                  <a:lnTo>
                    <a:pt x="137" y="761"/>
                  </a:lnTo>
                  <a:lnTo>
                    <a:pt x="137" y="819"/>
                  </a:lnTo>
                  <a:lnTo>
                    <a:pt x="148" y="880"/>
                  </a:lnTo>
                  <a:lnTo>
                    <a:pt x="155" y="910"/>
                  </a:lnTo>
                  <a:lnTo>
                    <a:pt x="165" y="941"/>
                  </a:lnTo>
                  <a:lnTo>
                    <a:pt x="174" y="969"/>
                  </a:lnTo>
                  <a:lnTo>
                    <a:pt x="183" y="997"/>
                  </a:lnTo>
                  <a:lnTo>
                    <a:pt x="192" y="1025"/>
                  </a:lnTo>
                  <a:lnTo>
                    <a:pt x="199" y="1053"/>
                  </a:lnTo>
                  <a:lnTo>
                    <a:pt x="216" y="1109"/>
                  </a:lnTo>
                  <a:lnTo>
                    <a:pt x="225" y="1162"/>
                  </a:lnTo>
                  <a:lnTo>
                    <a:pt x="225" y="1218"/>
                  </a:lnTo>
                  <a:lnTo>
                    <a:pt x="223" y="1246"/>
                  </a:lnTo>
                  <a:lnTo>
                    <a:pt x="216" y="1274"/>
                  </a:lnTo>
                  <a:lnTo>
                    <a:pt x="195" y="1368"/>
                  </a:lnTo>
                  <a:lnTo>
                    <a:pt x="195" y="1424"/>
                  </a:lnTo>
                  <a:lnTo>
                    <a:pt x="202" y="1449"/>
                  </a:lnTo>
                  <a:lnTo>
                    <a:pt x="206" y="1456"/>
                  </a:lnTo>
                  <a:lnTo>
                    <a:pt x="225" y="1473"/>
                  </a:lnTo>
                  <a:lnTo>
                    <a:pt x="246" y="1475"/>
                  </a:lnTo>
                  <a:lnTo>
                    <a:pt x="267" y="1454"/>
                  </a:lnTo>
                  <a:lnTo>
                    <a:pt x="288" y="1398"/>
                  </a:lnTo>
                  <a:lnTo>
                    <a:pt x="290" y="1314"/>
                  </a:lnTo>
                  <a:lnTo>
                    <a:pt x="283" y="1242"/>
                  </a:lnTo>
                  <a:lnTo>
                    <a:pt x="274" y="1186"/>
                  </a:lnTo>
                  <a:lnTo>
                    <a:pt x="262" y="1139"/>
                  </a:lnTo>
                  <a:lnTo>
                    <a:pt x="255" y="1118"/>
                  </a:lnTo>
                  <a:lnTo>
                    <a:pt x="248" y="1097"/>
                  </a:lnTo>
                  <a:lnTo>
                    <a:pt x="241" y="1076"/>
                  </a:lnTo>
                  <a:lnTo>
                    <a:pt x="234" y="1055"/>
                  </a:lnTo>
                  <a:lnTo>
                    <a:pt x="225" y="1032"/>
                  </a:lnTo>
                  <a:lnTo>
                    <a:pt x="216" y="1006"/>
                  </a:lnTo>
                  <a:lnTo>
                    <a:pt x="199" y="948"/>
                  </a:lnTo>
                  <a:lnTo>
                    <a:pt x="192" y="913"/>
                  </a:lnTo>
                  <a:lnTo>
                    <a:pt x="183" y="873"/>
                  </a:lnTo>
                  <a:lnTo>
                    <a:pt x="178" y="794"/>
                  </a:lnTo>
                  <a:lnTo>
                    <a:pt x="183" y="759"/>
                  </a:lnTo>
                  <a:lnTo>
                    <a:pt x="190" y="724"/>
                  </a:lnTo>
                  <a:lnTo>
                    <a:pt x="202" y="691"/>
                  </a:lnTo>
                  <a:lnTo>
                    <a:pt x="213" y="661"/>
                  </a:lnTo>
                  <a:lnTo>
                    <a:pt x="227" y="628"/>
                  </a:lnTo>
                  <a:lnTo>
                    <a:pt x="241" y="598"/>
                  </a:lnTo>
                  <a:lnTo>
                    <a:pt x="253" y="567"/>
                  </a:lnTo>
                  <a:lnTo>
                    <a:pt x="267" y="535"/>
                  </a:lnTo>
                  <a:lnTo>
                    <a:pt x="283" y="467"/>
                  </a:lnTo>
                  <a:lnTo>
                    <a:pt x="285" y="392"/>
                  </a:lnTo>
                  <a:lnTo>
                    <a:pt x="281" y="350"/>
                  </a:lnTo>
                  <a:lnTo>
                    <a:pt x="267" y="306"/>
                  </a:lnTo>
                  <a:lnTo>
                    <a:pt x="260" y="283"/>
                  </a:lnTo>
                  <a:lnTo>
                    <a:pt x="250" y="262"/>
                  </a:lnTo>
                  <a:lnTo>
                    <a:pt x="241" y="241"/>
                  </a:lnTo>
                  <a:lnTo>
                    <a:pt x="234" y="222"/>
                  </a:lnTo>
                  <a:lnTo>
                    <a:pt x="223" y="203"/>
                  </a:lnTo>
                  <a:lnTo>
                    <a:pt x="213" y="185"/>
                  </a:lnTo>
                  <a:lnTo>
                    <a:pt x="192" y="152"/>
                  </a:lnTo>
                  <a:lnTo>
                    <a:pt x="181" y="138"/>
                  </a:lnTo>
                  <a:lnTo>
                    <a:pt x="176" y="131"/>
                  </a:lnTo>
                  <a:lnTo>
                    <a:pt x="169" y="124"/>
                  </a:lnTo>
                  <a:lnTo>
                    <a:pt x="160" y="112"/>
                  </a:lnTo>
                  <a:lnTo>
                    <a:pt x="153" y="105"/>
                  </a:lnTo>
                  <a:lnTo>
                    <a:pt x="148" y="98"/>
                  </a:lnTo>
                  <a:lnTo>
                    <a:pt x="137" y="89"/>
                  </a:lnTo>
                  <a:lnTo>
                    <a:pt x="125" y="77"/>
                  </a:lnTo>
                  <a:lnTo>
                    <a:pt x="113" y="68"/>
                  </a:lnTo>
                  <a:lnTo>
                    <a:pt x="104" y="59"/>
                  </a:lnTo>
                  <a:lnTo>
                    <a:pt x="93" y="52"/>
                  </a:lnTo>
                  <a:lnTo>
                    <a:pt x="83" y="45"/>
                  </a:lnTo>
                  <a:lnTo>
                    <a:pt x="74" y="38"/>
                  </a:lnTo>
                  <a:lnTo>
                    <a:pt x="62" y="31"/>
                  </a:lnTo>
                  <a:lnTo>
                    <a:pt x="46" y="21"/>
                  </a:lnTo>
                  <a:lnTo>
                    <a:pt x="30" y="12"/>
                  </a:lnTo>
                  <a:lnTo>
                    <a:pt x="9" y="3"/>
                  </a:lnTo>
                  <a:lnTo>
                    <a:pt x="0" y="0"/>
                  </a:lnTo>
                  <a:lnTo>
                    <a:pt x="2" y="12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8366040" y="6269040"/>
              <a:ext cx="68400" cy="155520"/>
            </a:xfrm>
            <a:custGeom>
              <a:avLst/>
              <a:gdLst/>
              <a:ahLst/>
              <a:rect l="l" t="t" r="r" b="b"/>
              <a:pathLst>
                <a:path w="44" h="144">
                  <a:moveTo>
                    <a:pt x="0" y="0"/>
                  </a:moveTo>
                  <a:lnTo>
                    <a:pt x="30" y="144"/>
                  </a:lnTo>
                  <a:lnTo>
                    <a:pt x="44" y="144"/>
                  </a:lnTo>
                  <a:lnTo>
                    <a:pt x="33" y="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540640" y="6264360"/>
              <a:ext cx="66960" cy="158760"/>
            </a:xfrm>
            <a:custGeom>
              <a:avLst/>
              <a:gdLst/>
              <a:ahLst/>
              <a:rect l="l" t="t" r="r" b="b"/>
              <a:pathLst>
                <a:path w="46" h="147">
                  <a:moveTo>
                    <a:pt x="0" y="7"/>
                  </a:moveTo>
                  <a:lnTo>
                    <a:pt x="18" y="147"/>
                  </a:lnTo>
                  <a:lnTo>
                    <a:pt x="46" y="124"/>
                  </a:lnTo>
                  <a:lnTo>
                    <a:pt x="30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078680" y="6033960"/>
              <a:ext cx="66600" cy="162000"/>
            </a:xfrm>
            <a:custGeom>
              <a:avLst/>
              <a:gdLst/>
              <a:ahLst/>
              <a:rect l="l" t="t" r="r" b="b"/>
              <a:pathLst>
                <a:path w="37" h="150">
                  <a:moveTo>
                    <a:pt x="0" y="0"/>
                  </a:moveTo>
                  <a:lnTo>
                    <a:pt x="21" y="147"/>
                  </a:lnTo>
                  <a:lnTo>
                    <a:pt x="37" y="150"/>
                  </a:lnTo>
                  <a:lnTo>
                    <a:pt x="37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176960" y="6041880"/>
              <a:ext cx="68400" cy="174600"/>
            </a:xfrm>
            <a:custGeom>
              <a:avLst/>
              <a:gdLst/>
              <a:ahLst/>
              <a:rect l="l" t="t" r="r" b="b"/>
              <a:pathLst>
                <a:path w="39" h="161">
                  <a:moveTo>
                    <a:pt x="0" y="0"/>
                  </a:moveTo>
                  <a:lnTo>
                    <a:pt x="11" y="154"/>
                  </a:lnTo>
                  <a:lnTo>
                    <a:pt x="37" y="161"/>
                  </a:lnTo>
                  <a:lnTo>
                    <a:pt x="39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283520" y="6054840"/>
              <a:ext cx="66600" cy="177840"/>
            </a:xfrm>
            <a:custGeom>
              <a:avLst/>
              <a:gdLst/>
              <a:ahLst/>
              <a:rect l="l" t="t" r="r" b="b"/>
              <a:pathLst>
                <a:path w="41" h="163">
                  <a:moveTo>
                    <a:pt x="0" y="0"/>
                  </a:moveTo>
                  <a:lnTo>
                    <a:pt x="4" y="159"/>
                  </a:lnTo>
                  <a:lnTo>
                    <a:pt x="30" y="163"/>
                  </a:lnTo>
                  <a:lnTo>
                    <a:pt x="41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396200" y="6062760"/>
              <a:ext cx="66600" cy="182520"/>
            </a:xfrm>
            <a:custGeom>
              <a:avLst/>
              <a:gdLst/>
              <a:ahLst/>
              <a:rect l="l" t="t" r="r" b="b"/>
              <a:pathLst>
                <a:path w="40" h="168">
                  <a:moveTo>
                    <a:pt x="0" y="0"/>
                  </a:moveTo>
                  <a:lnTo>
                    <a:pt x="3" y="161"/>
                  </a:lnTo>
                  <a:lnTo>
                    <a:pt x="24" y="168"/>
                  </a:lnTo>
                  <a:lnTo>
                    <a:pt x="40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494480" y="6073920"/>
              <a:ext cx="66960" cy="179280"/>
            </a:xfrm>
            <a:custGeom>
              <a:avLst/>
              <a:gdLst/>
              <a:ahLst/>
              <a:rect l="l" t="t" r="r" b="b"/>
              <a:pathLst>
                <a:path w="32" h="166">
                  <a:moveTo>
                    <a:pt x="0" y="0"/>
                  </a:moveTo>
                  <a:lnTo>
                    <a:pt x="7" y="166"/>
                  </a:lnTo>
                  <a:lnTo>
                    <a:pt x="28" y="166"/>
                  </a:lnTo>
                  <a:lnTo>
                    <a:pt x="3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7583400" y="6073920"/>
              <a:ext cx="68400" cy="183960"/>
            </a:xfrm>
            <a:custGeom>
              <a:avLst/>
              <a:gdLst/>
              <a:ahLst/>
              <a:rect l="l" t="t" r="r" b="b"/>
              <a:pathLst>
                <a:path w="40" h="171">
                  <a:moveTo>
                    <a:pt x="0" y="0"/>
                  </a:moveTo>
                  <a:lnTo>
                    <a:pt x="12" y="171"/>
                  </a:lnTo>
                  <a:lnTo>
                    <a:pt x="28" y="171"/>
                  </a:lnTo>
                  <a:lnTo>
                    <a:pt x="40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845480" y="6076800"/>
              <a:ext cx="68040" cy="155880"/>
            </a:xfrm>
            <a:custGeom>
              <a:avLst/>
              <a:gdLst/>
              <a:ahLst/>
              <a:rect l="l" t="t" r="r" b="b"/>
              <a:pathLst>
                <a:path w="37" h="144">
                  <a:moveTo>
                    <a:pt x="0" y="4"/>
                  </a:moveTo>
                  <a:lnTo>
                    <a:pt x="16" y="144"/>
                  </a:lnTo>
                  <a:lnTo>
                    <a:pt x="34" y="140"/>
                  </a:lnTo>
                  <a:lnTo>
                    <a:pt x="37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932600" y="6068880"/>
              <a:ext cx="66960" cy="147600"/>
            </a:xfrm>
            <a:custGeom>
              <a:avLst/>
              <a:gdLst/>
              <a:ahLst/>
              <a:rect l="l" t="t" r="r" b="b"/>
              <a:pathLst>
                <a:path w="39" h="137">
                  <a:moveTo>
                    <a:pt x="0" y="4"/>
                  </a:moveTo>
                  <a:lnTo>
                    <a:pt x="23" y="137"/>
                  </a:lnTo>
                  <a:lnTo>
                    <a:pt x="35" y="135"/>
                  </a:lnTo>
                  <a:lnTo>
                    <a:pt x="39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8026560" y="6054840"/>
              <a:ext cx="68040" cy="149040"/>
            </a:xfrm>
            <a:custGeom>
              <a:avLst/>
              <a:gdLst/>
              <a:ahLst/>
              <a:rect l="l" t="t" r="r" b="b"/>
              <a:pathLst>
                <a:path w="42" h="138">
                  <a:moveTo>
                    <a:pt x="0" y="7"/>
                  </a:moveTo>
                  <a:lnTo>
                    <a:pt x="19" y="138"/>
                  </a:lnTo>
                  <a:lnTo>
                    <a:pt x="37" y="131"/>
                  </a:lnTo>
                  <a:lnTo>
                    <a:pt x="42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8129520" y="6037200"/>
              <a:ext cx="66600" cy="146160"/>
            </a:xfrm>
            <a:custGeom>
              <a:avLst/>
              <a:gdLst/>
              <a:ahLst/>
              <a:rect l="l" t="t" r="r" b="b"/>
              <a:pathLst>
                <a:path w="42" h="135">
                  <a:moveTo>
                    <a:pt x="0" y="14"/>
                  </a:moveTo>
                  <a:lnTo>
                    <a:pt x="18" y="135"/>
                  </a:lnTo>
                  <a:lnTo>
                    <a:pt x="35" y="130"/>
                  </a:lnTo>
                  <a:lnTo>
                    <a:pt x="42" y="0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8226360" y="6024600"/>
              <a:ext cx="66600" cy="142920"/>
            </a:xfrm>
            <a:custGeom>
              <a:avLst/>
              <a:gdLst/>
              <a:ahLst/>
              <a:rect l="l" t="t" r="r" b="b"/>
              <a:pathLst>
                <a:path w="42" h="133">
                  <a:moveTo>
                    <a:pt x="0" y="9"/>
                  </a:moveTo>
                  <a:lnTo>
                    <a:pt x="14" y="133"/>
                  </a:lnTo>
                  <a:lnTo>
                    <a:pt x="37" y="126"/>
                  </a:lnTo>
                  <a:lnTo>
                    <a:pt x="42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8329680" y="6010200"/>
              <a:ext cx="66600" cy="139680"/>
            </a:xfrm>
            <a:custGeom>
              <a:avLst/>
              <a:gdLst/>
              <a:ahLst/>
              <a:rect l="l" t="t" r="r" b="b"/>
              <a:pathLst>
                <a:path w="32" h="129">
                  <a:moveTo>
                    <a:pt x="0" y="7"/>
                  </a:moveTo>
                  <a:lnTo>
                    <a:pt x="0" y="129"/>
                  </a:lnTo>
                  <a:lnTo>
                    <a:pt x="18" y="126"/>
                  </a:lnTo>
                  <a:lnTo>
                    <a:pt x="32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8448840" y="6273720"/>
              <a:ext cx="68040" cy="150840"/>
            </a:xfrm>
            <a:custGeom>
              <a:avLst/>
              <a:gdLst/>
              <a:ahLst/>
              <a:rect l="l" t="t" r="r" b="b"/>
              <a:pathLst>
                <a:path w="26" h="140">
                  <a:moveTo>
                    <a:pt x="0" y="7"/>
                  </a:moveTo>
                  <a:lnTo>
                    <a:pt x="12" y="140"/>
                  </a:lnTo>
                  <a:lnTo>
                    <a:pt x="26" y="140"/>
                  </a:lnTo>
                  <a:lnTo>
                    <a:pt x="21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8502480" y="6269040"/>
              <a:ext cx="68400" cy="155520"/>
            </a:xfrm>
            <a:custGeom>
              <a:avLst/>
              <a:gdLst/>
              <a:ahLst/>
              <a:rect l="l" t="t" r="r" b="b"/>
              <a:pathLst>
                <a:path w="25" h="144">
                  <a:moveTo>
                    <a:pt x="0" y="4"/>
                  </a:moveTo>
                  <a:lnTo>
                    <a:pt x="14" y="144"/>
                  </a:lnTo>
                  <a:lnTo>
                    <a:pt x="25" y="144"/>
                  </a:lnTo>
                  <a:lnTo>
                    <a:pt x="23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094520" y="5618160"/>
              <a:ext cx="374760" cy="200160"/>
            </a:xfrm>
            <a:custGeom>
              <a:avLst/>
              <a:gdLst/>
              <a:ahLst/>
              <a:rect l="l" t="t" r="r" b="b"/>
              <a:pathLst>
                <a:path w="274" h="185">
                  <a:moveTo>
                    <a:pt x="257" y="98"/>
                  </a:moveTo>
                  <a:lnTo>
                    <a:pt x="274" y="42"/>
                  </a:lnTo>
                  <a:lnTo>
                    <a:pt x="271" y="31"/>
                  </a:lnTo>
                  <a:lnTo>
                    <a:pt x="264" y="19"/>
                  </a:lnTo>
                  <a:lnTo>
                    <a:pt x="260" y="14"/>
                  </a:lnTo>
                  <a:lnTo>
                    <a:pt x="253" y="10"/>
                  </a:lnTo>
                  <a:lnTo>
                    <a:pt x="236" y="3"/>
                  </a:lnTo>
                  <a:lnTo>
                    <a:pt x="213" y="0"/>
                  </a:lnTo>
                  <a:lnTo>
                    <a:pt x="178" y="7"/>
                  </a:lnTo>
                  <a:lnTo>
                    <a:pt x="141" y="19"/>
                  </a:lnTo>
                  <a:lnTo>
                    <a:pt x="120" y="28"/>
                  </a:lnTo>
                  <a:lnTo>
                    <a:pt x="102" y="38"/>
                  </a:lnTo>
                  <a:lnTo>
                    <a:pt x="81" y="47"/>
                  </a:lnTo>
                  <a:lnTo>
                    <a:pt x="62" y="59"/>
                  </a:lnTo>
                  <a:lnTo>
                    <a:pt x="46" y="70"/>
                  </a:lnTo>
                  <a:lnTo>
                    <a:pt x="32" y="84"/>
                  </a:lnTo>
                  <a:lnTo>
                    <a:pt x="18" y="98"/>
                  </a:lnTo>
                  <a:lnTo>
                    <a:pt x="9" y="112"/>
                  </a:lnTo>
                  <a:lnTo>
                    <a:pt x="0" y="138"/>
                  </a:lnTo>
                  <a:lnTo>
                    <a:pt x="220" y="42"/>
                  </a:lnTo>
                  <a:lnTo>
                    <a:pt x="222" y="82"/>
                  </a:lnTo>
                  <a:lnTo>
                    <a:pt x="16" y="161"/>
                  </a:lnTo>
                  <a:lnTo>
                    <a:pt x="20" y="166"/>
                  </a:lnTo>
                  <a:lnTo>
                    <a:pt x="27" y="173"/>
                  </a:lnTo>
                  <a:lnTo>
                    <a:pt x="44" y="182"/>
                  </a:lnTo>
                  <a:lnTo>
                    <a:pt x="69" y="185"/>
                  </a:lnTo>
                  <a:lnTo>
                    <a:pt x="104" y="180"/>
                  </a:lnTo>
                  <a:lnTo>
                    <a:pt x="155" y="164"/>
                  </a:lnTo>
                  <a:lnTo>
                    <a:pt x="169" y="157"/>
                  </a:lnTo>
                  <a:lnTo>
                    <a:pt x="181" y="150"/>
                  </a:lnTo>
                  <a:lnTo>
                    <a:pt x="195" y="143"/>
                  </a:lnTo>
                  <a:lnTo>
                    <a:pt x="206" y="136"/>
                  </a:lnTo>
                  <a:lnTo>
                    <a:pt x="215" y="129"/>
                  </a:lnTo>
                  <a:lnTo>
                    <a:pt x="227" y="122"/>
                  </a:lnTo>
                  <a:lnTo>
                    <a:pt x="243" y="110"/>
                  </a:lnTo>
                  <a:lnTo>
                    <a:pt x="255" y="101"/>
                  </a:lnTo>
                  <a:lnTo>
                    <a:pt x="257" y="98"/>
                  </a:lnTo>
                  <a:lnTo>
                    <a:pt x="257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666880" y="2660760"/>
              <a:ext cx="800280" cy="3082680"/>
            </a:xfrm>
            <a:custGeom>
              <a:avLst/>
              <a:gdLst/>
              <a:ahLst/>
              <a:rect l="l" t="t" r="r" b="b"/>
              <a:pathLst>
                <a:path w="1260" h="4854">
                  <a:moveTo>
                    <a:pt x="1260" y="76"/>
                  </a:moveTo>
                  <a:cubicBezTo>
                    <a:pt x="1200" y="56"/>
                    <a:pt x="1140" y="36"/>
                    <a:pt x="1080" y="16"/>
                  </a:cubicBezTo>
                  <a:cubicBezTo>
                    <a:pt x="1032" y="0"/>
                    <a:pt x="979" y="33"/>
                    <a:pt x="930" y="46"/>
                  </a:cubicBezTo>
                  <a:cubicBezTo>
                    <a:pt x="792" y="84"/>
                    <a:pt x="685" y="119"/>
                    <a:pt x="570" y="196"/>
                  </a:cubicBezTo>
                  <a:cubicBezTo>
                    <a:pt x="430" y="406"/>
                    <a:pt x="510" y="336"/>
                    <a:pt x="360" y="436"/>
                  </a:cubicBezTo>
                  <a:cubicBezTo>
                    <a:pt x="320" y="496"/>
                    <a:pt x="280" y="556"/>
                    <a:pt x="240" y="616"/>
                  </a:cubicBezTo>
                  <a:cubicBezTo>
                    <a:pt x="220" y="646"/>
                    <a:pt x="191" y="672"/>
                    <a:pt x="180" y="706"/>
                  </a:cubicBezTo>
                  <a:cubicBezTo>
                    <a:pt x="139" y="830"/>
                    <a:pt x="168" y="770"/>
                    <a:pt x="90" y="886"/>
                  </a:cubicBezTo>
                  <a:cubicBezTo>
                    <a:pt x="43" y="1076"/>
                    <a:pt x="22" y="1261"/>
                    <a:pt x="0" y="1456"/>
                  </a:cubicBezTo>
                  <a:cubicBezTo>
                    <a:pt x="21" y="1743"/>
                    <a:pt x="55" y="2012"/>
                    <a:pt x="90" y="2296"/>
                  </a:cubicBezTo>
                  <a:cubicBezTo>
                    <a:pt x="73" y="3009"/>
                    <a:pt x="47" y="3525"/>
                    <a:pt x="0" y="4186"/>
                  </a:cubicBezTo>
                  <a:cubicBezTo>
                    <a:pt x="10" y="4266"/>
                    <a:pt x="16" y="4347"/>
                    <a:pt x="30" y="4426"/>
                  </a:cubicBezTo>
                  <a:cubicBezTo>
                    <a:pt x="36" y="4457"/>
                    <a:pt x="38" y="4494"/>
                    <a:pt x="60" y="4516"/>
                  </a:cubicBezTo>
                  <a:cubicBezTo>
                    <a:pt x="82" y="4538"/>
                    <a:pt x="122" y="4531"/>
                    <a:pt x="150" y="4546"/>
                  </a:cubicBezTo>
                  <a:cubicBezTo>
                    <a:pt x="213" y="4581"/>
                    <a:pt x="330" y="4666"/>
                    <a:pt x="330" y="4666"/>
                  </a:cubicBezTo>
                  <a:cubicBezTo>
                    <a:pt x="350" y="4696"/>
                    <a:pt x="374" y="4724"/>
                    <a:pt x="390" y="4756"/>
                  </a:cubicBezTo>
                  <a:cubicBezTo>
                    <a:pt x="404" y="4784"/>
                    <a:pt x="402" y="4820"/>
                    <a:pt x="420" y="4846"/>
                  </a:cubicBezTo>
                  <a:cubicBezTo>
                    <a:pt x="426" y="4854"/>
                    <a:pt x="440" y="4846"/>
                    <a:pt x="450" y="4846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8381880" y="5621400"/>
              <a:ext cx="152640" cy="228600"/>
            </a:xfrm>
            <a:prstGeom prst="diamond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58200" y="5925960"/>
              <a:ext cx="152280" cy="228600"/>
            </a:xfrm>
            <a:prstGeom prst="diamond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8381880" y="5087880"/>
              <a:ext cx="152640" cy="228600"/>
            </a:xfrm>
            <a:prstGeom prst="diamond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8305920" y="5392800"/>
              <a:ext cx="228600" cy="228600"/>
            </a:xfrm>
            <a:prstGeom prst="diamond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705720" y="5925960"/>
              <a:ext cx="152280" cy="287640"/>
            </a:xfrm>
            <a:prstGeom prst="diamond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705720" y="5621400"/>
              <a:ext cx="152280" cy="287280"/>
            </a:xfrm>
            <a:prstGeom prst="diamond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705720" y="5240160"/>
              <a:ext cx="152280" cy="249480"/>
            </a:xfrm>
            <a:prstGeom prst="diamond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705720" y="4935600"/>
              <a:ext cx="152280" cy="287280"/>
            </a:xfrm>
            <a:prstGeom prst="diamond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934320" y="4554360"/>
              <a:ext cx="1447560" cy="1752840"/>
            </a:xfrm>
            <a:custGeom>
              <a:avLst/>
              <a:gdLst/>
              <a:ahLst/>
              <a:rect l="l" t="t" r="r" b="b"/>
              <a:pathLst>
                <a:path w="3784" h="5212">
                  <a:moveTo>
                    <a:pt x="1593" y="1289"/>
                  </a:moveTo>
                  <a:cubicBezTo>
                    <a:pt x="1507" y="1159"/>
                    <a:pt x="1146" y="980"/>
                    <a:pt x="1076" y="764"/>
                  </a:cubicBezTo>
                  <a:cubicBezTo>
                    <a:pt x="1023" y="685"/>
                    <a:pt x="1083" y="187"/>
                    <a:pt x="1053" y="97"/>
                  </a:cubicBezTo>
                  <a:cubicBezTo>
                    <a:pt x="1043" y="67"/>
                    <a:pt x="973" y="89"/>
                    <a:pt x="963" y="59"/>
                  </a:cubicBezTo>
                  <a:cubicBezTo>
                    <a:pt x="953" y="29"/>
                    <a:pt x="903" y="74"/>
                    <a:pt x="903" y="74"/>
                  </a:cubicBezTo>
                  <a:cubicBezTo>
                    <a:pt x="887" y="94"/>
                    <a:pt x="845" y="135"/>
                    <a:pt x="828" y="179"/>
                  </a:cubicBezTo>
                  <a:cubicBezTo>
                    <a:pt x="811" y="223"/>
                    <a:pt x="817" y="306"/>
                    <a:pt x="798" y="337"/>
                  </a:cubicBezTo>
                  <a:cubicBezTo>
                    <a:pt x="773" y="357"/>
                    <a:pt x="738" y="345"/>
                    <a:pt x="716" y="367"/>
                  </a:cubicBezTo>
                  <a:cubicBezTo>
                    <a:pt x="694" y="389"/>
                    <a:pt x="663" y="454"/>
                    <a:pt x="633" y="464"/>
                  </a:cubicBezTo>
                  <a:cubicBezTo>
                    <a:pt x="588" y="509"/>
                    <a:pt x="628" y="506"/>
                    <a:pt x="573" y="554"/>
                  </a:cubicBezTo>
                  <a:cubicBezTo>
                    <a:pt x="519" y="601"/>
                    <a:pt x="393" y="754"/>
                    <a:pt x="333" y="794"/>
                  </a:cubicBezTo>
                  <a:cubicBezTo>
                    <a:pt x="298" y="818"/>
                    <a:pt x="333" y="854"/>
                    <a:pt x="303" y="884"/>
                  </a:cubicBezTo>
                  <a:cubicBezTo>
                    <a:pt x="283" y="944"/>
                    <a:pt x="113" y="1244"/>
                    <a:pt x="93" y="1304"/>
                  </a:cubicBezTo>
                  <a:cubicBezTo>
                    <a:pt x="83" y="1334"/>
                    <a:pt x="123" y="1064"/>
                    <a:pt x="123" y="1064"/>
                  </a:cubicBezTo>
                  <a:cubicBezTo>
                    <a:pt x="143" y="1329"/>
                    <a:pt x="271" y="1645"/>
                    <a:pt x="303" y="1904"/>
                  </a:cubicBezTo>
                  <a:cubicBezTo>
                    <a:pt x="293" y="2124"/>
                    <a:pt x="289" y="2344"/>
                    <a:pt x="273" y="2564"/>
                  </a:cubicBezTo>
                  <a:cubicBezTo>
                    <a:pt x="252" y="2853"/>
                    <a:pt x="185" y="3145"/>
                    <a:pt x="153" y="3434"/>
                  </a:cubicBezTo>
                  <a:cubicBezTo>
                    <a:pt x="166" y="3633"/>
                    <a:pt x="0" y="4030"/>
                    <a:pt x="33" y="4244"/>
                  </a:cubicBezTo>
                  <a:cubicBezTo>
                    <a:pt x="39" y="4285"/>
                    <a:pt x="85" y="4354"/>
                    <a:pt x="93" y="4394"/>
                  </a:cubicBezTo>
                  <a:cubicBezTo>
                    <a:pt x="105" y="4454"/>
                    <a:pt x="126" y="4580"/>
                    <a:pt x="153" y="4634"/>
                  </a:cubicBezTo>
                  <a:cubicBezTo>
                    <a:pt x="169" y="4666"/>
                    <a:pt x="148" y="4639"/>
                    <a:pt x="123" y="4664"/>
                  </a:cubicBezTo>
                  <a:cubicBezTo>
                    <a:pt x="94" y="4693"/>
                    <a:pt x="193" y="4854"/>
                    <a:pt x="153" y="4844"/>
                  </a:cubicBezTo>
                  <a:cubicBezTo>
                    <a:pt x="433" y="4937"/>
                    <a:pt x="502" y="5034"/>
                    <a:pt x="791" y="5092"/>
                  </a:cubicBezTo>
                  <a:cubicBezTo>
                    <a:pt x="943" y="5122"/>
                    <a:pt x="1447" y="5199"/>
                    <a:pt x="1586" y="5212"/>
                  </a:cubicBezTo>
                  <a:cubicBezTo>
                    <a:pt x="1871" y="5172"/>
                    <a:pt x="2511" y="5164"/>
                    <a:pt x="2853" y="5114"/>
                  </a:cubicBezTo>
                  <a:cubicBezTo>
                    <a:pt x="3195" y="5064"/>
                    <a:pt x="3511" y="4957"/>
                    <a:pt x="3641" y="4912"/>
                  </a:cubicBezTo>
                  <a:cubicBezTo>
                    <a:pt x="3673" y="4911"/>
                    <a:pt x="3615" y="4870"/>
                    <a:pt x="3633" y="4844"/>
                  </a:cubicBezTo>
                  <a:cubicBezTo>
                    <a:pt x="3685" y="4772"/>
                    <a:pt x="3769" y="4447"/>
                    <a:pt x="3783" y="4364"/>
                  </a:cubicBezTo>
                  <a:cubicBezTo>
                    <a:pt x="3776" y="4284"/>
                    <a:pt x="3784" y="4037"/>
                    <a:pt x="3723" y="3914"/>
                  </a:cubicBezTo>
                  <a:cubicBezTo>
                    <a:pt x="3707" y="3882"/>
                    <a:pt x="3679" y="3856"/>
                    <a:pt x="3663" y="3824"/>
                  </a:cubicBezTo>
                  <a:cubicBezTo>
                    <a:pt x="3649" y="3796"/>
                    <a:pt x="3648" y="3762"/>
                    <a:pt x="3633" y="3734"/>
                  </a:cubicBezTo>
                  <a:cubicBezTo>
                    <a:pt x="3598" y="3671"/>
                    <a:pt x="3633" y="3584"/>
                    <a:pt x="3633" y="3584"/>
                  </a:cubicBezTo>
                  <a:cubicBezTo>
                    <a:pt x="3623" y="3484"/>
                    <a:pt x="3502" y="3353"/>
                    <a:pt x="3483" y="3254"/>
                  </a:cubicBezTo>
                  <a:cubicBezTo>
                    <a:pt x="3471" y="3192"/>
                    <a:pt x="3423" y="3074"/>
                    <a:pt x="3423" y="3074"/>
                  </a:cubicBezTo>
                  <a:cubicBezTo>
                    <a:pt x="3433" y="2954"/>
                    <a:pt x="3433" y="2833"/>
                    <a:pt x="3453" y="2714"/>
                  </a:cubicBezTo>
                  <a:cubicBezTo>
                    <a:pt x="3472" y="2601"/>
                    <a:pt x="3536" y="2466"/>
                    <a:pt x="3573" y="2354"/>
                  </a:cubicBezTo>
                  <a:cubicBezTo>
                    <a:pt x="3603" y="2264"/>
                    <a:pt x="3633" y="2174"/>
                    <a:pt x="3663" y="2084"/>
                  </a:cubicBezTo>
                  <a:cubicBezTo>
                    <a:pt x="3673" y="2054"/>
                    <a:pt x="3693" y="1994"/>
                    <a:pt x="3693" y="1994"/>
                  </a:cubicBezTo>
                  <a:cubicBezTo>
                    <a:pt x="3703" y="1924"/>
                    <a:pt x="3723" y="1855"/>
                    <a:pt x="3723" y="1784"/>
                  </a:cubicBezTo>
                  <a:cubicBezTo>
                    <a:pt x="3723" y="1524"/>
                    <a:pt x="3779" y="1617"/>
                    <a:pt x="3723" y="1394"/>
                  </a:cubicBezTo>
                  <a:cubicBezTo>
                    <a:pt x="3648" y="1093"/>
                    <a:pt x="3719" y="1262"/>
                    <a:pt x="3633" y="1004"/>
                  </a:cubicBezTo>
                  <a:cubicBezTo>
                    <a:pt x="3610" y="935"/>
                    <a:pt x="3486" y="799"/>
                    <a:pt x="3453" y="734"/>
                  </a:cubicBezTo>
                  <a:cubicBezTo>
                    <a:pt x="3421" y="670"/>
                    <a:pt x="3373" y="614"/>
                    <a:pt x="3333" y="554"/>
                  </a:cubicBezTo>
                  <a:cubicBezTo>
                    <a:pt x="3293" y="494"/>
                    <a:pt x="3191" y="412"/>
                    <a:pt x="3191" y="412"/>
                  </a:cubicBezTo>
                  <a:cubicBezTo>
                    <a:pt x="3047" y="196"/>
                    <a:pt x="3266" y="477"/>
                    <a:pt x="2966" y="277"/>
                  </a:cubicBezTo>
                  <a:cubicBezTo>
                    <a:pt x="2896" y="236"/>
                    <a:pt x="2763" y="74"/>
                    <a:pt x="2703" y="37"/>
                  </a:cubicBezTo>
                  <a:cubicBezTo>
                    <a:pt x="2643" y="0"/>
                    <a:pt x="2647" y="51"/>
                    <a:pt x="2606" y="52"/>
                  </a:cubicBezTo>
                  <a:cubicBezTo>
                    <a:pt x="2576" y="62"/>
                    <a:pt x="2466" y="14"/>
                    <a:pt x="2456" y="44"/>
                  </a:cubicBezTo>
                  <a:cubicBezTo>
                    <a:pt x="2442" y="98"/>
                    <a:pt x="2507" y="214"/>
                    <a:pt x="2508" y="359"/>
                  </a:cubicBezTo>
                  <a:cubicBezTo>
                    <a:pt x="2504" y="499"/>
                    <a:pt x="2486" y="741"/>
                    <a:pt x="2433" y="884"/>
                  </a:cubicBezTo>
                  <a:cubicBezTo>
                    <a:pt x="2380" y="1027"/>
                    <a:pt x="2280" y="1109"/>
                    <a:pt x="2193" y="1214"/>
                  </a:cubicBezTo>
                  <a:cubicBezTo>
                    <a:pt x="2106" y="1319"/>
                    <a:pt x="1986" y="1395"/>
                    <a:pt x="1908" y="1514"/>
                  </a:cubicBezTo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295280" y="68904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2438280" y="3809880"/>
            <a:ext cx="2285640" cy="2070000"/>
            <a:chOff x="2438280" y="3809880"/>
            <a:chExt cx="2285640" cy="2070000"/>
          </a:xfrm>
        </p:grpSpPr>
        <p:grpSp>
          <p:nvGrpSpPr>
            <p:cNvPr id="648" name=""/>
            <p:cNvGrpSpPr/>
            <p:nvPr/>
          </p:nvGrpSpPr>
          <p:grpSpPr>
            <a:xfrm>
              <a:off x="2438280" y="3839040"/>
              <a:ext cx="2285640" cy="2040840"/>
              <a:chOff x="2438280" y="3839040"/>
              <a:chExt cx="2285640" cy="2040840"/>
            </a:xfrm>
          </p:grpSpPr>
          <p:sp>
            <p:nvSpPr>
              <p:cNvPr id="649" name=""/>
              <p:cNvSpPr/>
              <p:nvPr/>
            </p:nvSpPr>
            <p:spPr>
              <a:xfrm>
                <a:off x="2449080" y="3839040"/>
                <a:ext cx="2274840" cy="2040840"/>
              </a:xfrm>
              <a:custGeom>
                <a:avLst/>
                <a:gdLst/>
                <a:ahLst/>
                <a:rect l="l" t="t" r="r" b="b"/>
                <a:pathLst>
                  <a:path w="1823" h="1322">
                    <a:moveTo>
                      <a:pt x="1245" y="160"/>
                    </a:moveTo>
                    <a:lnTo>
                      <a:pt x="1245" y="182"/>
                    </a:lnTo>
                    <a:lnTo>
                      <a:pt x="1275" y="205"/>
                    </a:lnTo>
                    <a:lnTo>
                      <a:pt x="1305" y="227"/>
                    </a:lnTo>
                    <a:lnTo>
                      <a:pt x="1365" y="302"/>
                    </a:lnTo>
                    <a:lnTo>
                      <a:pt x="1365" y="355"/>
                    </a:lnTo>
                    <a:lnTo>
                      <a:pt x="1418" y="392"/>
                    </a:lnTo>
                    <a:lnTo>
                      <a:pt x="1418" y="445"/>
                    </a:lnTo>
                    <a:lnTo>
                      <a:pt x="1463" y="512"/>
                    </a:lnTo>
                    <a:lnTo>
                      <a:pt x="1463" y="520"/>
                    </a:lnTo>
                    <a:lnTo>
                      <a:pt x="1470" y="565"/>
                    </a:lnTo>
                    <a:lnTo>
                      <a:pt x="1493" y="550"/>
                    </a:lnTo>
                    <a:lnTo>
                      <a:pt x="1508" y="610"/>
                    </a:lnTo>
                    <a:lnTo>
                      <a:pt x="1553" y="632"/>
                    </a:lnTo>
                    <a:lnTo>
                      <a:pt x="1590" y="632"/>
                    </a:lnTo>
                    <a:lnTo>
                      <a:pt x="1598" y="655"/>
                    </a:lnTo>
                    <a:lnTo>
                      <a:pt x="1605" y="730"/>
                    </a:lnTo>
                    <a:lnTo>
                      <a:pt x="1605" y="790"/>
                    </a:lnTo>
                    <a:lnTo>
                      <a:pt x="1620" y="812"/>
                    </a:lnTo>
                    <a:lnTo>
                      <a:pt x="1635" y="850"/>
                    </a:lnTo>
                    <a:lnTo>
                      <a:pt x="1628" y="872"/>
                    </a:lnTo>
                    <a:lnTo>
                      <a:pt x="1635" y="887"/>
                    </a:lnTo>
                    <a:lnTo>
                      <a:pt x="1650" y="902"/>
                    </a:lnTo>
                    <a:lnTo>
                      <a:pt x="1658" y="925"/>
                    </a:lnTo>
                    <a:lnTo>
                      <a:pt x="1680" y="947"/>
                    </a:lnTo>
                    <a:lnTo>
                      <a:pt x="1680" y="970"/>
                    </a:lnTo>
                    <a:lnTo>
                      <a:pt x="1673" y="970"/>
                    </a:lnTo>
                    <a:lnTo>
                      <a:pt x="1665" y="970"/>
                    </a:lnTo>
                    <a:lnTo>
                      <a:pt x="1695" y="992"/>
                    </a:lnTo>
                    <a:lnTo>
                      <a:pt x="1725" y="1030"/>
                    </a:lnTo>
                    <a:lnTo>
                      <a:pt x="1733" y="1060"/>
                    </a:lnTo>
                    <a:lnTo>
                      <a:pt x="1748" y="1097"/>
                    </a:lnTo>
                    <a:lnTo>
                      <a:pt x="1778" y="1120"/>
                    </a:lnTo>
                    <a:lnTo>
                      <a:pt x="1778" y="1127"/>
                    </a:lnTo>
                    <a:lnTo>
                      <a:pt x="1793" y="1127"/>
                    </a:lnTo>
                    <a:lnTo>
                      <a:pt x="1763" y="1142"/>
                    </a:lnTo>
                    <a:lnTo>
                      <a:pt x="1785" y="1150"/>
                    </a:lnTo>
                    <a:lnTo>
                      <a:pt x="1815" y="1172"/>
                    </a:lnTo>
                    <a:lnTo>
                      <a:pt x="1808" y="1187"/>
                    </a:lnTo>
                    <a:lnTo>
                      <a:pt x="1800" y="1202"/>
                    </a:lnTo>
                    <a:lnTo>
                      <a:pt x="1815" y="1202"/>
                    </a:lnTo>
                    <a:lnTo>
                      <a:pt x="1823" y="1217"/>
                    </a:lnTo>
                    <a:lnTo>
                      <a:pt x="1785" y="1255"/>
                    </a:lnTo>
                    <a:lnTo>
                      <a:pt x="1815" y="1253"/>
                    </a:lnTo>
                    <a:lnTo>
                      <a:pt x="1755" y="1240"/>
                    </a:lnTo>
                    <a:lnTo>
                      <a:pt x="1758" y="1274"/>
                    </a:lnTo>
                    <a:lnTo>
                      <a:pt x="1710" y="1262"/>
                    </a:lnTo>
                    <a:lnTo>
                      <a:pt x="1665" y="1255"/>
                    </a:lnTo>
                    <a:lnTo>
                      <a:pt x="1598" y="1270"/>
                    </a:lnTo>
                    <a:lnTo>
                      <a:pt x="1508" y="1270"/>
                    </a:lnTo>
                    <a:lnTo>
                      <a:pt x="1425" y="1255"/>
                    </a:lnTo>
                    <a:lnTo>
                      <a:pt x="1328" y="1255"/>
                    </a:lnTo>
                    <a:lnTo>
                      <a:pt x="1215" y="1307"/>
                    </a:lnTo>
                    <a:lnTo>
                      <a:pt x="1118" y="1315"/>
                    </a:lnTo>
                    <a:lnTo>
                      <a:pt x="1020" y="1315"/>
                    </a:lnTo>
                    <a:lnTo>
                      <a:pt x="908" y="1322"/>
                    </a:lnTo>
                    <a:lnTo>
                      <a:pt x="818" y="1322"/>
                    </a:lnTo>
                    <a:lnTo>
                      <a:pt x="780" y="1315"/>
                    </a:lnTo>
                    <a:lnTo>
                      <a:pt x="698" y="1277"/>
                    </a:lnTo>
                    <a:lnTo>
                      <a:pt x="638" y="1277"/>
                    </a:lnTo>
                    <a:lnTo>
                      <a:pt x="563" y="1247"/>
                    </a:lnTo>
                    <a:lnTo>
                      <a:pt x="473" y="1285"/>
                    </a:lnTo>
                    <a:lnTo>
                      <a:pt x="420" y="1285"/>
                    </a:lnTo>
                    <a:lnTo>
                      <a:pt x="360" y="1277"/>
                    </a:lnTo>
                    <a:lnTo>
                      <a:pt x="315" y="1300"/>
                    </a:lnTo>
                    <a:lnTo>
                      <a:pt x="270" y="1300"/>
                    </a:lnTo>
                    <a:lnTo>
                      <a:pt x="225" y="1262"/>
                    </a:lnTo>
                    <a:lnTo>
                      <a:pt x="188" y="1277"/>
                    </a:lnTo>
                    <a:lnTo>
                      <a:pt x="158" y="1285"/>
                    </a:lnTo>
                    <a:lnTo>
                      <a:pt x="120" y="1277"/>
                    </a:lnTo>
                    <a:lnTo>
                      <a:pt x="90" y="1277"/>
                    </a:lnTo>
                    <a:lnTo>
                      <a:pt x="60" y="1270"/>
                    </a:lnTo>
                    <a:lnTo>
                      <a:pt x="38" y="1247"/>
                    </a:lnTo>
                    <a:lnTo>
                      <a:pt x="38" y="1135"/>
                    </a:lnTo>
                    <a:lnTo>
                      <a:pt x="15" y="1142"/>
                    </a:lnTo>
                    <a:lnTo>
                      <a:pt x="38" y="1090"/>
                    </a:lnTo>
                    <a:lnTo>
                      <a:pt x="8" y="1090"/>
                    </a:lnTo>
                    <a:lnTo>
                      <a:pt x="38" y="1037"/>
                    </a:lnTo>
                    <a:lnTo>
                      <a:pt x="38" y="1022"/>
                    </a:lnTo>
                    <a:lnTo>
                      <a:pt x="8" y="985"/>
                    </a:lnTo>
                    <a:lnTo>
                      <a:pt x="0" y="977"/>
                    </a:lnTo>
                    <a:lnTo>
                      <a:pt x="15" y="985"/>
                    </a:lnTo>
                    <a:lnTo>
                      <a:pt x="38" y="1015"/>
                    </a:lnTo>
                    <a:lnTo>
                      <a:pt x="53" y="932"/>
                    </a:lnTo>
                    <a:lnTo>
                      <a:pt x="23" y="910"/>
                    </a:lnTo>
                    <a:lnTo>
                      <a:pt x="53" y="910"/>
                    </a:lnTo>
                    <a:lnTo>
                      <a:pt x="38" y="895"/>
                    </a:lnTo>
                    <a:lnTo>
                      <a:pt x="38" y="850"/>
                    </a:lnTo>
                    <a:lnTo>
                      <a:pt x="45" y="835"/>
                    </a:lnTo>
                    <a:lnTo>
                      <a:pt x="113" y="782"/>
                    </a:lnTo>
                    <a:lnTo>
                      <a:pt x="90" y="835"/>
                    </a:lnTo>
                    <a:lnTo>
                      <a:pt x="113" y="782"/>
                    </a:lnTo>
                    <a:lnTo>
                      <a:pt x="105" y="782"/>
                    </a:lnTo>
                    <a:lnTo>
                      <a:pt x="98" y="775"/>
                    </a:lnTo>
                    <a:lnTo>
                      <a:pt x="105" y="782"/>
                    </a:lnTo>
                    <a:lnTo>
                      <a:pt x="90" y="775"/>
                    </a:lnTo>
                    <a:lnTo>
                      <a:pt x="128" y="737"/>
                    </a:lnTo>
                    <a:lnTo>
                      <a:pt x="90" y="730"/>
                    </a:lnTo>
                    <a:lnTo>
                      <a:pt x="98" y="737"/>
                    </a:lnTo>
                    <a:lnTo>
                      <a:pt x="90" y="715"/>
                    </a:lnTo>
                    <a:lnTo>
                      <a:pt x="75" y="692"/>
                    </a:lnTo>
                    <a:lnTo>
                      <a:pt x="75" y="670"/>
                    </a:lnTo>
                    <a:lnTo>
                      <a:pt x="98" y="692"/>
                    </a:lnTo>
                    <a:lnTo>
                      <a:pt x="53" y="505"/>
                    </a:lnTo>
                    <a:lnTo>
                      <a:pt x="53" y="475"/>
                    </a:lnTo>
                    <a:lnTo>
                      <a:pt x="60" y="430"/>
                    </a:lnTo>
                    <a:lnTo>
                      <a:pt x="53" y="310"/>
                    </a:lnTo>
                    <a:lnTo>
                      <a:pt x="428" y="167"/>
                    </a:lnTo>
                    <a:lnTo>
                      <a:pt x="698" y="70"/>
                    </a:lnTo>
                    <a:lnTo>
                      <a:pt x="976" y="0"/>
                    </a:lnTo>
                    <a:lnTo>
                      <a:pt x="1260" y="25"/>
                    </a:lnTo>
                    <a:lnTo>
                      <a:pt x="1238" y="47"/>
                    </a:lnTo>
                    <a:lnTo>
                      <a:pt x="1245" y="160"/>
                    </a:ln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2897280" y="4501440"/>
                <a:ext cx="837360" cy="1018800"/>
              </a:xfrm>
              <a:custGeom>
                <a:avLst/>
                <a:gdLst/>
                <a:ahLst/>
                <a:rect l="l" t="t" r="r" b="b"/>
                <a:pathLst>
                  <a:path w="613" h="603">
                    <a:moveTo>
                      <a:pt x="398" y="55"/>
                    </a:moveTo>
                    <a:lnTo>
                      <a:pt x="398" y="62"/>
                    </a:lnTo>
                    <a:lnTo>
                      <a:pt x="399" y="69"/>
                    </a:lnTo>
                    <a:lnTo>
                      <a:pt x="403" y="73"/>
                    </a:lnTo>
                    <a:lnTo>
                      <a:pt x="409" y="71"/>
                    </a:lnTo>
                    <a:lnTo>
                      <a:pt x="418" y="77"/>
                    </a:lnTo>
                    <a:lnTo>
                      <a:pt x="424" y="84"/>
                    </a:lnTo>
                    <a:lnTo>
                      <a:pt x="431" y="93"/>
                    </a:lnTo>
                    <a:lnTo>
                      <a:pt x="436" y="104"/>
                    </a:lnTo>
                    <a:lnTo>
                      <a:pt x="440" y="115"/>
                    </a:lnTo>
                    <a:lnTo>
                      <a:pt x="446" y="124"/>
                    </a:lnTo>
                    <a:lnTo>
                      <a:pt x="452" y="133"/>
                    </a:lnTo>
                    <a:lnTo>
                      <a:pt x="459" y="139"/>
                    </a:lnTo>
                    <a:lnTo>
                      <a:pt x="478" y="172"/>
                    </a:lnTo>
                    <a:lnTo>
                      <a:pt x="498" y="206"/>
                    </a:lnTo>
                    <a:lnTo>
                      <a:pt x="520" y="240"/>
                    </a:lnTo>
                    <a:lnTo>
                      <a:pt x="540" y="274"/>
                    </a:lnTo>
                    <a:lnTo>
                      <a:pt x="559" y="310"/>
                    </a:lnTo>
                    <a:lnTo>
                      <a:pt x="573" y="345"/>
                    </a:lnTo>
                    <a:lnTo>
                      <a:pt x="584" y="382"/>
                    </a:lnTo>
                    <a:lnTo>
                      <a:pt x="587" y="420"/>
                    </a:lnTo>
                    <a:lnTo>
                      <a:pt x="595" y="420"/>
                    </a:lnTo>
                    <a:lnTo>
                      <a:pt x="613" y="531"/>
                    </a:lnTo>
                    <a:lnTo>
                      <a:pt x="592" y="536"/>
                    </a:lnTo>
                    <a:lnTo>
                      <a:pt x="571" y="544"/>
                    </a:lnTo>
                    <a:lnTo>
                      <a:pt x="551" y="553"/>
                    </a:lnTo>
                    <a:lnTo>
                      <a:pt x="531" y="562"/>
                    </a:lnTo>
                    <a:lnTo>
                      <a:pt x="510" y="573"/>
                    </a:lnTo>
                    <a:lnTo>
                      <a:pt x="490" y="583"/>
                    </a:lnTo>
                    <a:lnTo>
                      <a:pt x="468" y="591"/>
                    </a:lnTo>
                    <a:lnTo>
                      <a:pt x="447" y="598"/>
                    </a:lnTo>
                    <a:lnTo>
                      <a:pt x="418" y="602"/>
                    </a:lnTo>
                    <a:lnTo>
                      <a:pt x="390" y="603"/>
                    </a:lnTo>
                    <a:lnTo>
                      <a:pt x="362" y="602"/>
                    </a:lnTo>
                    <a:lnTo>
                      <a:pt x="334" y="599"/>
                    </a:lnTo>
                    <a:lnTo>
                      <a:pt x="306" y="595"/>
                    </a:lnTo>
                    <a:lnTo>
                      <a:pt x="279" y="589"/>
                    </a:lnTo>
                    <a:lnTo>
                      <a:pt x="252" y="584"/>
                    </a:lnTo>
                    <a:lnTo>
                      <a:pt x="225" y="576"/>
                    </a:lnTo>
                    <a:lnTo>
                      <a:pt x="197" y="568"/>
                    </a:lnTo>
                    <a:lnTo>
                      <a:pt x="170" y="559"/>
                    </a:lnTo>
                    <a:lnTo>
                      <a:pt x="142" y="551"/>
                    </a:lnTo>
                    <a:lnTo>
                      <a:pt x="114" y="543"/>
                    </a:lnTo>
                    <a:lnTo>
                      <a:pt x="87" y="536"/>
                    </a:lnTo>
                    <a:lnTo>
                      <a:pt x="59" y="529"/>
                    </a:lnTo>
                    <a:lnTo>
                      <a:pt x="29" y="523"/>
                    </a:lnTo>
                    <a:lnTo>
                      <a:pt x="0" y="519"/>
                    </a:lnTo>
                    <a:lnTo>
                      <a:pt x="17" y="490"/>
                    </a:lnTo>
                    <a:lnTo>
                      <a:pt x="35" y="461"/>
                    </a:lnTo>
                    <a:lnTo>
                      <a:pt x="51" y="433"/>
                    </a:lnTo>
                    <a:lnTo>
                      <a:pt x="67" y="403"/>
                    </a:lnTo>
                    <a:lnTo>
                      <a:pt x="83" y="373"/>
                    </a:lnTo>
                    <a:lnTo>
                      <a:pt x="97" y="343"/>
                    </a:lnTo>
                    <a:lnTo>
                      <a:pt x="112" y="311"/>
                    </a:lnTo>
                    <a:lnTo>
                      <a:pt x="126" y="281"/>
                    </a:lnTo>
                    <a:lnTo>
                      <a:pt x="141" y="251"/>
                    </a:lnTo>
                    <a:lnTo>
                      <a:pt x="156" y="220"/>
                    </a:lnTo>
                    <a:lnTo>
                      <a:pt x="169" y="190"/>
                    </a:lnTo>
                    <a:lnTo>
                      <a:pt x="185" y="159"/>
                    </a:lnTo>
                    <a:lnTo>
                      <a:pt x="200" y="129"/>
                    </a:lnTo>
                    <a:lnTo>
                      <a:pt x="214" y="99"/>
                    </a:lnTo>
                    <a:lnTo>
                      <a:pt x="232" y="70"/>
                    </a:lnTo>
                    <a:lnTo>
                      <a:pt x="248" y="40"/>
                    </a:lnTo>
                    <a:lnTo>
                      <a:pt x="254" y="30"/>
                    </a:lnTo>
                    <a:lnTo>
                      <a:pt x="261" y="24"/>
                    </a:lnTo>
                    <a:lnTo>
                      <a:pt x="270" y="18"/>
                    </a:lnTo>
                    <a:lnTo>
                      <a:pt x="279" y="14"/>
                    </a:lnTo>
                    <a:lnTo>
                      <a:pt x="289" y="11"/>
                    </a:lnTo>
                    <a:lnTo>
                      <a:pt x="298" y="7"/>
                    </a:lnTo>
                    <a:lnTo>
                      <a:pt x="307" y="4"/>
                    </a:lnTo>
                    <a:lnTo>
                      <a:pt x="317" y="0"/>
                    </a:lnTo>
                    <a:lnTo>
                      <a:pt x="330" y="2"/>
                    </a:lnTo>
                    <a:lnTo>
                      <a:pt x="342" y="4"/>
                    </a:lnTo>
                    <a:lnTo>
                      <a:pt x="354" y="10"/>
                    </a:lnTo>
                    <a:lnTo>
                      <a:pt x="363" y="17"/>
                    </a:lnTo>
                    <a:lnTo>
                      <a:pt x="373" y="25"/>
                    </a:lnTo>
                    <a:lnTo>
                      <a:pt x="381" y="34"/>
                    </a:lnTo>
                    <a:lnTo>
                      <a:pt x="390" y="44"/>
                    </a:lnTo>
                    <a:lnTo>
                      <a:pt x="398" y="55"/>
                    </a:lnTo>
                    <a:close/>
                  </a:path>
                </a:pathLst>
              </a:custGeom>
              <a:solidFill>
                <a:srgbClr val="ff7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2438280" y="3839040"/>
                <a:ext cx="2261160" cy="2040840"/>
              </a:xfrm>
              <a:custGeom>
                <a:avLst/>
                <a:gdLst/>
                <a:ahLst/>
                <a:rect l="l" t="t" r="r" b="b"/>
                <a:pathLst>
                  <a:path w="1771" h="1289">
                    <a:moveTo>
                      <a:pt x="1213" y="0"/>
                    </a:moveTo>
                    <a:lnTo>
                      <a:pt x="1217" y="21"/>
                    </a:lnTo>
                    <a:lnTo>
                      <a:pt x="1216" y="41"/>
                    </a:lnTo>
                    <a:lnTo>
                      <a:pt x="1212" y="62"/>
                    </a:lnTo>
                    <a:lnTo>
                      <a:pt x="1207" y="81"/>
                    </a:lnTo>
                    <a:lnTo>
                      <a:pt x="1201" y="100"/>
                    </a:lnTo>
                    <a:lnTo>
                      <a:pt x="1197" y="119"/>
                    </a:lnTo>
                    <a:lnTo>
                      <a:pt x="1195" y="138"/>
                    </a:lnTo>
                    <a:lnTo>
                      <a:pt x="1197" y="159"/>
                    </a:lnTo>
                    <a:lnTo>
                      <a:pt x="1214" y="168"/>
                    </a:lnTo>
                    <a:lnTo>
                      <a:pt x="1233" y="176"/>
                    </a:lnTo>
                    <a:lnTo>
                      <a:pt x="1253" y="184"/>
                    </a:lnTo>
                    <a:lnTo>
                      <a:pt x="1272" y="193"/>
                    </a:lnTo>
                    <a:lnTo>
                      <a:pt x="1289" y="202"/>
                    </a:lnTo>
                    <a:lnTo>
                      <a:pt x="1304" y="216"/>
                    </a:lnTo>
                    <a:lnTo>
                      <a:pt x="1314" y="232"/>
                    </a:lnTo>
                    <a:lnTo>
                      <a:pt x="1321" y="254"/>
                    </a:lnTo>
                    <a:lnTo>
                      <a:pt x="1328" y="276"/>
                    </a:lnTo>
                    <a:lnTo>
                      <a:pt x="1336" y="298"/>
                    </a:lnTo>
                    <a:lnTo>
                      <a:pt x="1344" y="319"/>
                    </a:lnTo>
                    <a:lnTo>
                      <a:pt x="1350" y="341"/>
                    </a:lnTo>
                    <a:lnTo>
                      <a:pt x="1358" y="363"/>
                    </a:lnTo>
                    <a:lnTo>
                      <a:pt x="1363" y="386"/>
                    </a:lnTo>
                    <a:lnTo>
                      <a:pt x="1369" y="409"/>
                    </a:lnTo>
                    <a:lnTo>
                      <a:pt x="1371" y="433"/>
                    </a:lnTo>
                    <a:lnTo>
                      <a:pt x="1375" y="439"/>
                    </a:lnTo>
                    <a:lnTo>
                      <a:pt x="1381" y="444"/>
                    </a:lnTo>
                    <a:lnTo>
                      <a:pt x="1386" y="445"/>
                    </a:lnTo>
                    <a:lnTo>
                      <a:pt x="1393" y="446"/>
                    </a:lnTo>
                    <a:lnTo>
                      <a:pt x="1398" y="446"/>
                    </a:lnTo>
                    <a:lnTo>
                      <a:pt x="1405" y="446"/>
                    </a:lnTo>
                    <a:lnTo>
                      <a:pt x="1410" y="449"/>
                    </a:lnTo>
                    <a:lnTo>
                      <a:pt x="1414" y="453"/>
                    </a:lnTo>
                    <a:lnTo>
                      <a:pt x="1423" y="472"/>
                    </a:lnTo>
                    <a:lnTo>
                      <a:pt x="1435" y="490"/>
                    </a:lnTo>
                    <a:lnTo>
                      <a:pt x="1449" y="508"/>
                    </a:lnTo>
                    <a:lnTo>
                      <a:pt x="1462" y="524"/>
                    </a:lnTo>
                    <a:lnTo>
                      <a:pt x="1477" y="539"/>
                    </a:lnTo>
                    <a:lnTo>
                      <a:pt x="1491" y="555"/>
                    </a:lnTo>
                    <a:lnTo>
                      <a:pt x="1506" y="572"/>
                    </a:lnTo>
                    <a:lnTo>
                      <a:pt x="1519" y="588"/>
                    </a:lnTo>
                    <a:lnTo>
                      <a:pt x="1526" y="606"/>
                    </a:lnTo>
                    <a:lnTo>
                      <a:pt x="1534" y="622"/>
                    </a:lnTo>
                    <a:lnTo>
                      <a:pt x="1543" y="637"/>
                    </a:lnTo>
                    <a:lnTo>
                      <a:pt x="1551" y="654"/>
                    </a:lnTo>
                    <a:lnTo>
                      <a:pt x="1559" y="671"/>
                    </a:lnTo>
                    <a:lnTo>
                      <a:pt x="1564" y="689"/>
                    </a:lnTo>
                    <a:lnTo>
                      <a:pt x="1567" y="708"/>
                    </a:lnTo>
                    <a:lnTo>
                      <a:pt x="1566" y="730"/>
                    </a:lnTo>
                    <a:lnTo>
                      <a:pt x="1575" y="748"/>
                    </a:lnTo>
                    <a:lnTo>
                      <a:pt x="1582" y="767"/>
                    </a:lnTo>
                    <a:lnTo>
                      <a:pt x="1587" y="787"/>
                    </a:lnTo>
                    <a:lnTo>
                      <a:pt x="1591" y="808"/>
                    </a:lnTo>
                    <a:lnTo>
                      <a:pt x="1595" y="828"/>
                    </a:lnTo>
                    <a:lnTo>
                      <a:pt x="1600" y="849"/>
                    </a:lnTo>
                    <a:lnTo>
                      <a:pt x="1606" y="869"/>
                    </a:lnTo>
                    <a:lnTo>
                      <a:pt x="1612" y="888"/>
                    </a:lnTo>
                    <a:lnTo>
                      <a:pt x="1631" y="926"/>
                    </a:lnTo>
                    <a:lnTo>
                      <a:pt x="1652" y="964"/>
                    </a:lnTo>
                    <a:lnTo>
                      <a:pt x="1673" y="1001"/>
                    </a:lnTo>
                    <a:lnTo>
                      <a:pt x="1696" y="1038"/>
                    </a:lnTo>
                    <a:lnTo>
                      <a:pt x="1719" y="1075"/>
                    </a:lnTo>
                    <a:lnTo>
                      <a:pt x="1739" y="1112"/>
                    </a:lnTo>
                    <a:lnTo>
                      <a:pt x="1756" y="1149"/>
                    </a:lnTo>
                    <a:lnTo>
                      <a:pt x="1771" y="1185"/>
                    </a:lnTo>
                    <a:lnTo>
                      <a:pt x="1741" y="1198"/>
                    </a:lnTo>
                    <a:lnTo>
                      <a:pt x="1712" y="1209"/>
                    </a:lnTo>
                    <a:lnTo>
                      <a:pt x="1683" y="1217"/>
                    </a:lnTo>
                    <a:lnTo>
                      <a:pt x="1652" y="1222"/>
                    </a:lnTo>
                    <a:lnTo>
                      <a:pt x="1623" y="1226"/>
                    </a:lnTo>
                    <a:lnTo>
                      <a:pt x="1594" y="1229"/>
                    </a:lnTo>
                    <a:lnTo>
                      <a:pt x="1563" y="1230"/>
                    </a:lnTo>
                    <a:lnTo>
                      <a:pt x="1532" y="1230"/>
                    </a:lnTo>
                    <a:lnTo>
                      <a:pt x="1502" y="1230"/>
                    </a:lnTo>
                    <a:lnTo>
                      <a:pt x="1471" y="1229"/>
                    </a:lnTo>
                    <a:lnTo>
                      <a:pt x="1441" y="1228"/>
                    </a:lnTo>
                    <a:lnTo>
                      <a:pt x="1409" y="1228"/>
                    </a:lnTo>
                    <a:lnTo>
                      <a:pt x="1377" y="1226"/>
                    </a:lnTo>
                    <a:lnTo>
                      <a:pt x="1345" y="1226"/>
                    </a:lnTo>
                    <a:lnTo>
                      <a:pt x="1312" y="1228"/>
                    </a:lnTo>
                    <a:lnTo>
                      <a:pt x="1278" y="1229"/>
                    </a:lnTo>
                    <a:lnTo>
                      <a:pt x="1250" y="1240"/>
                    </a:lnTo>
                    <a:lnTo>
                      <a:pt x="1222" y="1248"/>
                    </a:lnTo>
                    <a:lnTo>
                      <a:pt x="1195" y="1258"/>
                    </a:lnTo>
                    <a:lnTo>
                      <a:pt x="1165" y="1264"/>
                    </a:lnTo>
                    <a:lnTo>
                      <a:pt x="1137" y="1271"/>
                    </a:lnTo>
                    <a:lnTo>
                      <a:pt x="1108" y="1277"/>
                    </a:lnTo>
                    <a:lnTo>
                      <a:pt x="1080" y="1281"/>
                    </a:lnTo>
                    <a:lnTo>
                      <a:pt x="1051" y="1285"/>
                    </a:lnTo>
                    <a:lnTo>
                      <a:pt x="1022" y="1288"/>
                    </a:lnTo>
                    <a:lnTo>
                      <a:pt x="992" y="1288"/>
                    </a:lnTo>
                    <a:lnTo>
                      <a:pt x="962" y="1289"/>
                    </a:lnTo>
                    <a:lnTo>
                      <a:pt x="932" y="1288"/>
                    </a:lnTo>
                    <a:lnTo>
                      <a:pt x="902" y="1286"/>
                    </a:lnTo>
                    <a:lnTo>
                      <a:pt x="871" y="1282"/>
                    </a:lnTo>
                    <a:lnTo>
                      <a:pt x="839" y="1278"/>
                    </a:lnTo>
                    <a:lnTo>
                      <a:pt x="809" y="1273"/>
                    </a:lnTo>
                    <a:lnTo>
                      <a:pt x="785" y="1270"/>
                    </a:lnTo>
                    <a:lnTo>
                      <a:pt x="761" y="1266"/>
                    </a:lnTo>
                    <a:lnTo>
                      <a:pt x="736" y="1260"/>
                    </a:lnTo>
                    <a:lnTo>
                      <a:pt x="712" y="1254"/>
                    </a:lnTo>
                    <a:lnTo>
                      <a:pt x="688" y="1247"/>
                    </a:lnTo>
                    <a:lnTo>
                      <a:pt x="664" y="1240"/>
                    </a:lnTo>
                    <a:lnTo>
                      <a:pt x="640" y="1233"/>
                    </a:lnTo>
                    <a:lnTo>
                      <a:pt x="616" y="1228"/>
                    </a:lnTo>
                    <a:lnTo>
                      <a:pt x="591" y="1222"/>
                    </a:lnTo>
                    <a:lnTo>
                      <a:pt x="567" y="1218"/>
                    </a:lnTo>
                    <a:lnTo>
                      <a:pt x="543" y="1217"/>
                    </a:lnTo>
                    <a:lnTo>
                      <a:pt x="519" y="1217"/>
                    </a:lnTo>
                    <a:lnTo>
                      <a:pt x="495" y="1219"/>
                    </a:lnTo>
                    <a:lnTo>
                      <a:pt x="469" y="1225"/>
                    </a:lnTo>
                    <a:lnTo>
                      <a:pt x="445" y="1233"/>
                    </a:lnTo>
                    <a:lnTo>
                      <a:pt x="422" y="1245"/>
                    </a:lnTo>
                    <a:lnTo>
                      <a:pt x="406" y="1251"/>
                    </a:lnTo>
                    <a:lnTo>
                      <a:pt x="390" y="1255"/>
                    </a:lnTo>
                    <a:lnTo>
                      <a:pt x="372" y="1258"/>
                    </a:lnTo>
                    <a:lnTo>
                      <a:pt x="356" y="1259"/>
                    </a:lnTo>
                    <a:lnTo>
                      <a:pt x="340" y="1259"/>
                    </a:lnTo>
                    <a:lnTo>
                      <a:pt x="324" y="1258"/>
                    </a:lnTo>
                    <a:lnTo>
                      <a:pt x="308" y="1255"/>
                    </a:lnTo>
                    <a:lnTo>
                      <a:pt x="291" y="1252"/>
                    </a:lnTo>
                    <a:lnTo>
                      <a:pt x="275" y="1249"/>
                    </a:lnTo>
                    <a:lnTo>
                      <a:pt x="259" y="1247"/>
                    </a:lnTo>
                    <a:lnTo>
                      <a:pt x="242" y="1244"/>
                    </a:lnTo>
                    <a:lnTo>
                      <a:pt x="226" y="1241"/>
                    </a:lnTo>
                    <a:lnTo>
                      <a:pt x="209" y="1239"/>
                    </a:lnTo>
                    <a:lnTo>
                      <a:pt x="193" y="1237"/>
                    </a:lnTo>
                    <a:lnTo>
                      <a:pt x="177" y="1237"/>
                    </a:lnTo>
                    <a:lnTo>
                      <a:pt x="159" y="1237"/>
                    </a:lnTo>
                    <a:lnTo>
                      <a:pt x="20" y="1217"/>
                    </a:lnTo>
                    <a:lnTo>
                      <a:pt x="28" y="1204"/>
                    </a:lnTo>
                    <a:lnTo>
                      <a:pt x="21" y="1202"/>
                    </a:lnTo>
                    <a:lnTo>
                      <a:pt x="14" y="1199"/>
                    </a:lnTo>
                    <a:lnTo>
                      <a:pt x="6" y="1198"/>
                    </a:lnTo>
                    <a:lnTo>
                      <a:pt x="0" y="1202"/>
                    </a:lnTo>
                    <a:lnTo>
                      <a:pt x="5" y="1127"/>
                    </a:lnTo>
                    <a:lnTo>
                      <a:pt x="10" y="1052"/>
                    </a:lnTo>
                    <a:lnTo>
                      <a:pt x="12" y="977"/>
                    </a:lnTo>
                    <a:lnTo>
                      <a:pt x="4" y="903"/>
                    </a:lnTo>
                    <a:lnTo>
                      <a:pt x="9" y="879"/>
                    </a:lnTo>
                    <a:lnTo>
                      <a:pt x="20" y="855"/>
                    </a:lnTo>
                    <a:lnTo>
                      <a:pt x="36" y="836"/>
                    </a:lnTo>
                    <a:lnTo>
                      <a:pt x="52" y="816"/>
                    </a:lnTo>
                    <a:lnTo>
                      <a:pt x="68" y="797"/>
                    </a:lnTo>
                    <a:lnTo>
                      <a:pt x="82" y="776"/>
                    </a:lnTo>
                    <a:lnTo>
                      <a:pt x="93" y="753"/>
                    </a:lnTo>
                    <a:lnTo>
                      <a:pt x="97" y="726"/>
                    </a:lnTo>
                    <a:lnTo>
                      <a:pt x="80" y="715"/>
                    </a:lnTo>
                    <a:lnTo>
                      <a:pt x="66" y="701"/>
                    </a:lnTo>
                    <a:lnTo>
                      <a:pt x="54" y="684"/>
                    </a:lnTo>
                    <a:lnTo>
                      <a:pt x="45" y="664"/>
                    </a:lnTo>
                    <a:lnTo>
                      <a:pt x="37" y="644"/>
                    </a:lnTo>
                    <a:lnTo>
                      <a:pt x="32" y="622"/>
                    </a:lnTo>
                    <a:lnTo>
                      <a:pt x="25" y="600"/>
                    </a:lnTo>
                    <a:lnTo>
                      <a:pt x="20" y="580"/>
                    </a:lnTo>
                    <a:lnTo>
                      <a:pt x="20" y="298"/>
                    </a:lnTo>
                    <a:lnTo>
                      <a:pt x="32" y="294"/>
                    </a:lnTo>
                    <a:lnTo>
                      <a:pt x="44" y="289"/>
                    </a:lnTo>
                    <a:lnTo>
                      <a:pt x="54" y="284"/>
                    </a:lnTo>
                    <a:lnTo>
                      <a:pt x="66" y="280"/>
                    </a:lnTo>
                    <a:lnTo>
                      <a:pt x="78" y="276"/>
                    </a:lnTo>
                    <a:lnTo>
                      <a:pt x="90" y="272"/>
                    </a:lnTo>
                    <a:lnTo>
                      <a:pt x="104" y="270"/>
                    </a:lnTo>
                    <a:lnTo>
                      <a:pt x="117" y="270"/>
                    </a:lnTo>
                    <a:lnTo>
                      <a:pt x="114" y="285"/>
                    </a:lnTo>
                    <a:lnTo>
                      <a:pt x="109" y="299"/>
                    </a:lnTo>
                    <a:lnTo>
                      <a:pt x="104" y="313"/>
                    </a:lnTo>
                    <a:lnTo>
                      <a:pt x="96" y="325"/>
                    </a:lnTo>
                    <a:lnTo>
                      <a:pt x="89" y="339"/>
                    </a:lnTo>
                    <a:lnTo>
                      <a:pt x="80" y="349"/>
                    </a:lnTo>
                    <a:lnTo>
                      <a:pt x="72" y="362"/>
                    </a:lnTo>
                    <a:lnTo>
                      <a:pt x="62" y="373"/>
                    </a:lnTo>
                    <a:lnTo>
                      <a:pt x="68" y="382"/>
                    </a:lnTo>
                    <a:lnTo>
                      <a:pt x="77" y="390"/>
                    </a:lnTo>
                    <a:lnTo>
                      <a:pt x="84" y="400"/>
                    </a:lnTo>
                    <a:lnTo>
                      <a:pt x="85" y="409"/>
                    </a:lnTo>
                    <a:lnTo>
                      <a:pt x="97" y="420"/>
                    </a:lnTo>
                    <a:lnTo>
                      <a:pt x="100" y="418"/>
                    </a:lnTo>
                    <a:lnTo>
                      <a:pt x="102" y="416"/>
                    </a:lnTo>
                    <a:lnTo>
                      <a:pt x="106" y="416"/>
                    </a:lnTo>
                    <a:lnTo>
                      <a:pt x="109" y="416"/>
                    </a:lnTo>
                    <a:lnTo>
                      <a:pt x="120" y="429"/>
                    </a:lnTo>
                    <a:lnTo>
                      <a:pt x="121" y="441"/>
                    </a:lnTo>
                    <a:lnTo>
                      <a:pt x="120" y="454"/>
                    </a:lnTo>
                    <a:lnTo>
                      <a:pt x="117" y="468"/>
                    </a:lnTo>
                    <a:lnTo>
                      <a:pt x="104" y="480"/>
                    </a:lnTo>
                    <a:lnTo>
                      <a:pt x="96" y="493"/>
                    </a:lnTo>
                    <a:lnTo>
                      <a:pt x="90" y="506"/>
                    </a:lnTo>
                    <a:lnTo>
                      <a:pt x="85" y="520"/>
                    </a:lnTo>
                    <a:lnTo>
                      <a:pt x="94" y="525"/>
                    </a:lnTo>
                    <a:lnTo>
                      <a:pt x="104" y="528"/>
                    </a:lnTo>
                    <a:lnTo>
                      <a:pt x="113" y="528"/>
                    </a:lnTo>
                    <a:lnTo>
                      <a:pt x="122" y="528"/>
                    </a:lnTo>
                    <a:lnTo>
                      <a:pt x="132" y="528"/>
                    </a:lnTo>
                    <a:lnTo>
                      <a:pt x="139" y="528"/>
                    </a:lnTo>
                    <a:lnTo>
                      <a:pt x="147" y="531"/>
                    </a:lnTo>
                    <a:lnTo>
                      <a:pt x="155" y="536"/>
                    </a:lnTo>
                    <a:lnTo>
                      <a:pt x="149" y="557"/>
                    </a:lnTo>
                    <a:lnTo>
                      <a:pt x="143" y="576"/>
                    </a:lnTo>
                    <a:lnTo>
                      <a:pt x="137" y="596"/>
                    </a:lnTo>
                    <a:lnTo>
                      <a:pt x="132" y="617"/>
                    </a:lnTo>
                    <a:lnTo>
                      <a:pt x="126" y="636"/>
                    </a:lnTo>
                    <a:lnTo>
                      <a:pt x="120" y="656"/>
                    </a:lnTo>
                    <a:lnTo>
                      <a:pt x="113" y="675"/>
                    </a:lnTo>
                    <a:lnTo>
                      <a:pt x="105" y="694"/>
                    </a:lnTo>
                    <a:lnTo>
                      <a:pt x="114" y="700"/>
                    </a:lnTo>
                    <a:lnTo>
                      <a:pt x="118" y="712"/>
                    </a:lnTo>
                    <a:lnTo>
                      <a:pt x="124" y="720"/>
                    </a:lnTo>
                    <a:lnTo>
                      <a:pt x="136" y="715"/>
                    </a:lnTo>
                    <a:lnTo>
                      <a:pt x="138" y="712"/>
                    </a:lnTo>
                    <a:lnTo>
                      <a:pt x="142" y="709"/>
                    </a:lnTo>
                    <a:lnTo>
                      <a:pt x="143" y="707"/>
                    </a:lnTo>
                    <a:lnTo>
                      <a:pt x="143" y="703"/>
                    </a:lnTo>
                    <a:lnTo>
                      <a:pt x="149" y="711"/>
                    </a:lnTo>
                    <a:lnTo>
                      <a:pt x="149" y="719"/>
                    </a:lnTo>
                    <a:lnTo>
                      <a:pt x="146" y="729"/>
                    </a:lnTo>
                    <a:lnTo>
                      <a:pt x="141" y="738"/>
                    </a:lnTo>
                    <a:lnTo>
                      <a:pt x="134" y="746"/>
                    </a:lnTo>
                    <a:lnTo>
                      <a:pt x="128" y="756"/>
                    </a:lnTo>
                    <a:lnTo>
                      <a:pt x="121" y="765"/>
                    </a:lnTo>
                    <a:lnTo>
                      <a:pt x="117" y="774"/>
                    </a:lnTo>
                    <a:lnTo>
                      <a:pt x="70" y="854"/>
                    </a:lnTo>
                    <a:lnTo>
                      <a:pt x="76" y="858"/>
                    </a:lnTo>
                    <a:lnTo>
                      <a:pt x="80" y="864"/>
                    </a:lnTo>
                    <a:lnTo>
                      <a:pt x="85" y="868"/>
                    </a:lnTo>
                    <a:lnTo>
                      <a:pt x="93" y="868"/>
                    </a:lnTo>
                    <a:lnTo>
                      <a:pt x="98" y="862"/>
                    </a:lnTo>
                    <a:lnTo>
                      <a:pt x="102" y="862"/>
                    </a:lnTo>
                    <a:lnTo>
                      <a:pt x="108" y="865"/>
                    </a:lnTo>
                    <a:lnTo>
                      <a:pt x="113" y="868"/>
                    </a:lnTo>
                    <a:lnTo>
                      <a:pt x="110" y="883"/>
                    </a:lnTo>
                    <a:lnTo>
                      <a:pt x="105" y="898"/>
                    </a:lnTo>
                    <a:lnTo>
                      <a:pt x="98" y="913"/>
                    </a:lnTo>
                    <a:lnTo>
                      <a:pt x="90" y="928"/>
                    </a:lnTo>
                    <a:lnTo>
                      <a:pt x="81" y="943"/>
                    </a:lnTo>
                    <a:lnTo>
                      <a:pt x="70" y="958"/>
                    </a:lnTo>
                    <a:lnTo>
                      <a:pt x="61" y="971"/>
                    </a:lnTo>
                    <a:lnTo>
                      <a:pt x="50" y="986"/>
                    </a:lnTo>
                    <a:lnTo>
                      <a:pt x="53" y="989"/>
                    </a:lnTo>
                    <a:lnTo>
                      <a:pt x="56" y="992"/>
                    </a:lnTo>
                    <a:lnTo>
                      <a:pt x="58" y="994"/>
                    </a:lnTo>
                    <a:lnTo>
                      <a:pt x="62" y="994"/>
                    </a:lnTo>
                    <a:lnTo>
                      <a:pt x="65" y="994"/>
                    </a:lnTo>
                    <a:lnTo>
                      <a:pt x="61" y="1000"/>
                    </a:lnTo>
                    <a:lnTo>
                      <a:pt x="58" y="1008"/>
                    </a:lnTo>
                    <a:lnTo>
                      <a:pt x="66" y="1015"/>
                    </a:lnTo>
                    <a:lnTo>
                      <a:pt x="77" y="1011"/>
                    </a:lnTo>
                    <a:lnTo>
                      <a:pt x="84" y="1003"/>
                    </a:lnTo>
                    <a:lnTo>
                      <a:pt x="92" y="997"/>
                    </a:lnTo>
                    <a:lnTo>
                      <a:pt x="105" y="999"/>
                    </a:lnTo>
                    <a:lnTo>
                      <a:pt x="105" y="1012"/>
                    </a:lnTo>
                    <a:lnTo>
                      <a:pt x="98" y="1024"/>
                    </a:lnTo>
                    <a:lnTo>
                      <a:pt x="90" y="1037"/>
                    </a:lnTo>
                    <a:lnTo>
                      <a:pt x="85" y="1050"/>
                    </a:lnTo>
                    <a:lnTo>
                      <a:pt x="81" y="1067"/>
                    </a:lnTo>
                    <a:lnTo>
                      <a:pt x="74" y="1082"/>
                    </a:lnTo>
                    <a:lnTo>
                      <a:pt x="69" y="1098"/>
                    </a:lnTo>
                    <a:lnTo>
                      <a:pt x="70" y="1117"/>
                    </a:lnTo>
                    <a:lnTo>
                      <a:pt x="80" y="1119"/>
                    </a:lnTo>
                    <a:lnTo>
                      <a:pt x="86" y="1113"/>
                    </a:lnTo>
                    <a:lnTo>
                      <a:pt x="94" y="1108"/>
                    </a:lnTo>
                    <a:lnTo>
                      <a:pt x="105" y="1106"/>
                    </a:lnTo>
                    <a:lnTo>
                      <a:pt x="104" y="1108"/>
                    </a:lnTo>
                    <a:lnTo>
                      <a:pt x="102" y="1109"/>
                    </a:lnTo>
                    <a:lnTo>
                      <a:pt x="101" y="1112"/>
                    </a:lnTo>
                    <a:lnTo>
                      <a:pt x="101" y="1114"/>
                    </a:lnTo>
                    <a:lnTo>
                      <a:pt x="108" y="1121"/>
                    </a:lnTo>
                    <a:lnTo>
                      <a:pt x="117" y="1120"/>
                    </a:lnTo>
                    <a:lnTo>
                      <a:pt x="124" y="1116"/>
                    </a:lnTo>
                    <a:lnTo>
                      <a:pt x="128" y="1114"/>
                    </a:lnTo>
                    <a:lnTo>
                      <a:pt x="125" y="1124"/>
                    </a:lnTo>
                    <a:lnTo>
                      <a:pt x="120" y="1132"/>
                    </a:lnTo>
                    <a:lnTo>
                      <a:pt x="113" y="1142"/>
                    </a:lnTo>
                    <a:lnTo>
                      <a:pt x="106" y="1150"/>
                    </a:lnTo>
                    <a:lnTo>
                      <a:pt x="98" y="1159"/>
                    </a:lnTo>
                    <a:lnTo>
                      <a:pt x="94" y="1169"/>
                    </a:lnTo>
                    <a:lnTo>
                      <a:pt x="92" y="1179"/>
                    </a:lnTo>
                    <a:lnTo>
                      <a:pt x="93" y="1189"/>
                    </a:lnTo>
                    <a:lnTo>
                      <a:pt x="113" y="1188"/>
                    </a:lnTo>
                    <a:lnTo>
                      <a:pt x="133" y="1188"/>
                    </a:lnTo>
                    <a:lnTo>
                      <a:pt x="151" y="1188"/>
                    </a:lnTo>
                    <a:lnTo>
                      <a:pt x="170" y="1189"/>
                    </a:lnTo>
                    <a:lnTo>
                      <a:pt x="187" y="1192"/>
                    </a:lnTo>
                    <a:lnTo>
                      <a:pt x="206" y="1195"/>
                    </a:lnTo>
                    <a:lnTo>
                      <a:pt x="223" y="1198"/>
                    </a:lnTo>
                    <a:lnTo>
                      <a:pt x="242" y="1200"/>
                    </a:lnTo>
                    <a:lnTo>
                      <a:pt x="259" y="1203"/>
                    </a:lnTo>
                    <a:lnTo>
                      <a:pt x="277" y="1207"/>
                    </a:lnTo>
                    <a:lnTo>
                      <a:pt x="295" y="1210"/>
                    </a:lnTo>
                    <a:lnTo>
                      <a:pt x="314" y="1213"/>
                    </a:lnTo>
                    <a:lnTo>
                      <a:pt x="332" y="1214"/>
                    </a:lnTo>
                    <a:lnTo>
                      <a:pt x="351" y="1215"/>
                    </a:lnTo>
                    <a:lnTo>
                      <a:pt x="371" y="1217"/>
                    </a:lnTo>
                    <a:lnTo>
                      <a:pt x="391" y="1217"/>
                    </a:lnTo>
                    <a:lnTo>
                      <a:pt x="581" y="1189"/>
                    </a:lnTo>
                    <a:lnTo>
                      <a:pt x="610" y="1198"/>
                    </a:lnTo>
                    <a:lnTo>
                      <a:pt x="641" y="1204"/>
                    </a:lnTo>
                    <a:lnTo>
                      <a:pt x="672" y="1211"/>
                    </a:lnTo>
                    <a:lnTo>
                      <a:pt x="704" y="1218"/>
                    </a:lnTo>
                    <a:lnTo>
                      <a:pt x="734" y="1224"/>
                    </a:lnTo>
                    <a:lnTo>
                      <a:pt x="766" y="1228"/>
                    </a:lnTo>
                    <a:lnTo>
                      <a:pt x="798" y="1232"/>
                    </a:lnTo>
                    <a:lnTo>
                      <a:pt x="830" y="1234"/>
                    </a:lnTo>
                    <a:lnTo>
                      <a:pt x="862" y="1237"/>
                    </a:lnTo>
                    <a:lnTo>
                      <a:pt x="894" y="1237"/>
                    </a:lnTo>
                    <a:lnTo>
                      <a:pt x="926" y="1236"/>
                    </a:lnTo>
                    <a:lnTo>
                      <a:pt x="958" y="1234"/>
                    </a:lnTo>
                    <a:lnTo>
                      <a:pt x="990" y="1230"/>
                    </a:lnTo>
                    <a:lnTo>
                      <a:pt x="1022" y="1225"/>
                    </a:lnTo>
                    <a:lnTo>
                      <a:pt x="1052" y="1218"/>
                    </a:lnTo>
                    <a:lnTo>
                      <a:pt x="1083" y="1209"/>
                    </a:lnTo>
                    <a:lnTo>
                      <a:pt x="1096" y="1203"/>
                    </a:lnTo>
                    <a:lnTo>
                      <a:pt x="1111" y="1198"/>
                    </a:lnTo>
                    <a:lnTo>
                      <a:pt x="1124" y="1194"/>
                    </a:lnTo>
                    <a:lnTo>
                      <a:pt x="1139" y="1189"/>
                    </a:lnTo>
                    <a:lnTo>
                      <a:pt x="1153" y="1187"/>
                    </a:lnTo>
                    <a:lnTo>
                      <a:pt x="1168" y="1184"/>
                    </a:lnTo>
                    <a:lnTo>
                      <a:pt x="1183" y="1181"/>
                    </a:lnTo>
                    <a:lnTo>
                      <a:pt x="1197" y="1180"/>
                    </a:lnTo>
                    <a:lnTo>
                      <a:pt x="1212" y="1179"/>
                    </a:lnTo>
                    <a:lnTo>
                      <a:pt x="1226" y="1177"/>
                    </a:lnTo>
                    <a:lnTo>
                      <a:pt x="1241" y="1177"/>
                    </a:lnTo>
                    <a:lnTo>
                      <a:pt x="1256" y="1177"/>
                    </a:lnTo>
                    <a:lnTo>
                      <a:pt x="1270" y="1177"/>
                    </a:lnTo>
                    <a:lnTo>
                      <a:pt x="1285" y="1179"/>
                    </a:lnTo>
                    <a:lnTo>
                      <a:pt x="1300" y="1180"/>
                    </a:lnTo>
                    <a:lnTo>
                      <a:pt x="1314" y="1181"/>
                    </a:lnTo>
                    <a:lnTo>
                      <a:pt x="1337" y="1180"/>
                    </a:lnTo>
                    <a:lnTo>
                      <a:pt x="1360" y="1180"/>
                    </a:lnTo>
                    <a:lnTo>
                      <a:pt x="1382" y="1180"/>
                    </a:lnTo>
                    <a:lnTo>
                      <a:pt x="1406" y="1180"/>
                    </a:lnTo>
                    <a:lnTo>
                      <a:pt x="1429" y="1180"/>
                    </a:lnTo>
                    <a:lnTo>
                      <a:pt x="1453" y="1181"/>
                    </a:lnTo>
                    <a:lnTo>
                      <a:pt x="1477" y="1181"/>
                    </a:lnTo>
                    <a:lnTo>
                      <a:pt x="1501" y="1181"/>
                    </a:lnTo>
                    <a:lnTo>
                      <a:pt x="1523" y="1181"/>
                    </a:lnTo>
                    <a:lnTo>
                      <a:pt x="1547" y="1181"/>
                    </a:lnTo>
                    <a:lnTo>
                      <a:pt x="1570" y="1181"/>
                    </a:lnTo>
                    <a:lnTo>
                      <a:pt x="1594" y="1180"/>
                    </a:lnTo>
                    <a:lnTo>
                      <a:pt x="1616" y="1177"/>
                    </a:lnTo>
                    <a:lnTo>
                      <a:pt x="1638" y="1174"/>
                    </a:lnTo>
                    <a:lnTo>
                      <a:pt x="1660" y="1170"/>
                    </a:lnTo>
                    <a:lnTo>
                      <a:pt x="1681" y="1165"/>
                    </a:lnTo>
                    <a:lnTo>
                      <a:pt x="1681" y="1155"/>
                    </a:lnTo>
                    <a:lnTo>
                      <a:pt x="1677" y="1149"/>
                    </a:lnTo>
                    <a:lnTo>
                      <a:pt x="1672" y="1144"/>
                    </a:lnTo>
                    <a:lnTo>
                      <a:pt x="1664" y="1140"/>
                    </a:lnTo>
                    <a:lnTo>
                      <a:pt x="1656" y="1139"/>
                    </a:lnTo>
                    <a:lnTo>
                      <a:pt x="1648" y="1135"/>
                    </a:lnTo>
                    <a:lnTo>
                      <a:pt x="1642" y="1131"/>
                    </a:lnTo>
                    <a:lnTo>
                      <a:pt x="1635" y="1125"/>
                    </a:lnTo>
                    <a:lnTo>
                      <a:pt x="1666" y="1110"/>
                    </a:lnTo>
                    <a:lnTo>
                      <a:pt x="1660" y="1095"/>
                    </a:lnTo>
                    <a:lnTo>
                      <a:pt x="1651" y="1087"/>
                    </a:lnTo>
                    <a:lnTo>
                      <a:pt x="1640" y="1082"/>
                    </a:lnTo>
                    <a:lnTo>
                      <a:pt x="1627" y="1078"/>
                    </a:lnTo>
                    <a:lnTo>
                      <a:pt x="1614" y="1075"/>
                    </a:lnTo>
                    <a:lnTo>
                      <a:pt x="1600" y="1072"/>
                    </a:lnTo>
                    <a:lnTo>
                      <a:pt x="1587" y="1067"/>
                    </a:lnTo>
                    <a:lnTo>
                      <a:pt x="1576" y="1059"/>
                    </a:lnTo>
                    <a:lnTo>
                      <a:pt x="1582" y="1052"/>
                    </a:lnTo>
                    <a:lnTo>
                      <a:pt x="1588" y="1046"/>
                    </a:lnTo>
                    <a:lnTo>
                      <a:pt x="1596" y="1042"/>
                    </a:lnTo>
                    <a:lnTo>
                      <a:pt x="1606" y="1038"/>
                    </a:lnTo>
                    <a:lnTo>
                      <a:pt x="1614" y="1035"/>
                    </a:lnTo>
                    <a:lnTo>
                      <a:pt x="1620" y="1030"/>
                    </a:lnTo>
                    <a:lnTo>
                      <a:pt x="1624" y="1023"/>
                    </a:lnTo>
                    <a:lnTo>
                      <a:pt x="1627" y="1015"/>
                    </a:lnTo>
                    <a:lnTo>
                      <a:pt x="1619" y="1007"/>
                    </a:lnTo>
                    <a:lnTo>
                      <a:pt x="1610" y="1001"/>
                    </a:lnTo>
                    <a:lnTo>
                      <a:pt x="1598" y="999"/>
                    </a:lnTo>
                    <a:lnTo>
                      <a:pt x="1587" y="997"/>
                    </a:lnTo>
                    <a:lnTo>
                      <a:pt x="1575" y="996"/>
                    </a:lnTo>
                    <a:lnTo>
                      <a:pt x="1566" y="992"/>
                    </a:lnTo>
                    <a:lnTo>
                      <a:pt x="1558" y="984"/>
                    </a:lnTo>
                    <a:lnTo>
                      <a:pt x="1554" y="971"/>
                    </a:lnTo>
                    <a:lnTo>
                      <a:pt x="1558" y="967"/>
                    </a:lnTo>
                    <a:lnTo>
                      <a:pt x="1562" y="966"/>
                    </a:lnTo>
                    <a:lnTo>
                      <a:pt x="1566" y="964"/>
                    </a:lnTo>
                    <a:lnTo>
                      <a:pt x="1566" y="959"/>
                    </a:lnTo>
                    <a:lnTo>
                      <a:pt x="1534" y="959"/>
                    </a:lnTo>
                    <a:lnTo>
                      <a:pt x="1539" y="956"/>
                    </a:lnTo>
                    <a:lnTo>
                      <a:pt x="1544" y="954"/>
                    </a:lnTo>
                    <a:lnTo>
                      <a:pt x="1551" y="951"/>
                    </a:lnTo>
                    <a:lnTo>
                      <a:pt x="1556" y="949"/>
                    </a:lnTo>
                    <a:lnTo>
                      <a:pt x="1562" y="947"/>
                    </a:lnTo>
                    <a:lnTo>
                      <a:pt x="1567" y="943"/>
                    </a:lnTo>
                    <a:lnTo>
                      <a:pt x="1571" y="939"/>
                    </a:lnTo>
                    <a:lnTo>
                      <a:pt x="1574" y="932"/>
                    </a:lnTo>
                    <a:lnTo>
                      <a:pt x="1572" y="921"/>
                    </a:lnTo>
                    <a:lnTo>
                      <a:pt x="1567" y="913"/>
                    </a:lnTo>
                    <a:lnTo>
                      <a:pt x="1560" y="906"/>
                    </a:lnTo>
                    <a:lnTo>
                      <a:pt x="1551" y="902"/>
                    </a:lnTo>
                    <a:lnTo>
                      <a:pt x="1543" y="896"/>
                    </a:lnTo>
                    <a:lnTo>
                      <a:pt x="1534" y="892"/>
                    </a:lnTo>
                    <a:lnTo>
                      <a:pt x="1527" y="887"/>
                    </a:lnTo>
                    <a:lnTo>
                      <a:pt x="1523" y="880"/>
                    </a:lnTo>
                    <a:lnTo>
                      <a:pt x="1518" y="883"/>
                    </a:lnTo>
                    <a:lnTo>
                      <a:pt x="1511" y="884"/>
                    </a:lnTo>
                    <a:lnTo>
                      <a:pt x="1506" y="884"/>
                    </a:lnTo>
                    <a:lnTo>
                      <a:pt x="1501" y="883"/>
                    </a:lnTo>
                    <a:lnTo>
                      <a:pt x="1494" y="881"/>
                    </a:lnTo>
                    <a:lnTo>
                      <a:pt x="1489" y="877"/>
                    </a:lnTo>
                    <a:lnTo>
                      <a:pt x="1485" y="873"/>
                    </a:lnTo>
                    <a:lnTo>
                      <a:pt x="1481" y="868"/>
                    </a:lnTo>
                    <a:lnTo>
                      <a:pt x="1481" y="868"/>
                    </a:lnTo>
                    <a:lnTo>
                      <a:pt x="1485" y="865"/>
                    </a:lnTo>
                    <a:lnTo>
                      <a:pt x="1489" y="859"/>
                    </a:lnTo>
                    <a:lnTo>
                      <a:pt x="1489" y="854"/>
                    </a:lnTo>
                    <a:lnTo>
                      <a:pt x="1469" y="850"/>
                    </a:lnTo>
                    <a:lnTo>
                      <a:pt x="1479" y="846"/>
                    </a:lnTo>
                    <a:lnTo>
                      <a:pt x="1491" y="840"/>
                    </a:lnTo>
                    <a:lnTo>
                      <a:pt x="1502" y="835"/>
                    </a:lnTo>
                    <a:lnTo>
                      <a:pt x="1513" y="829"/>
                    </a:lnTo>
                    <a:lnTo>
                      <a:pt x="1523" y="824"/>
                    </a:lnTo>
                    <a:lnTo>
                      <a:pt x="1532" y="817"/>
                    </a:lnTo>
                    <a:lnTo>
                      <a:pt x="1542" y="809"/>
                    </a:lnTo>
                    <a:lnTo>
                      <a:pt x="1550" y="802"/>
                    </a:lnTo>
                    <a:lnTo>
                      <a:pt x="1543" y="794"/>
                    </a:lnTo>
                    <a:lnTo>
                      <a:pt x="1542" y="782"/>
                    </a:lnTo>
                    <a:lnTo>
                      <a:pt x="1536" y="772"/>
                    </a:lnTo>
                    <a:lnTo>
                      <a:pt x="1523" y="774"/>
                    </a:lnTo>
                    <a:lnTo>
                      <a:pt x="1513" y="764"/>
                    </a:lnTo>
                    <a:lnTo>
                      <a:pt x="1501" y="757"/>
                    </a:lnTo>
                    <a:lnTo>
                      <a:pt x="1489" y="753"/>
                    </a:lnTo>
                    <a:lnTo>
                      <a:pt x="1475" y="750"/>
                    </a:lnTo>
                    <a:lnTo>
                      <a:pt x="1462" y="748"/>
                    </a:lnTo>
                    <a:lnTo>
                      <a:pt x="1449" y="744"/>
                    </a:lnTo>
                    <a:lnTo>
                      <a:pt x="1437" y="738"/>
                    </a:lnTo>
                    <a:lnTo>
                      <a:pt x="1426" y="730"/>
                    </a:lnTo>
                    <a:lnTo>
                      <a:pt x="1429" y="727"/>
                    </a:lnTo>
                    <a:lnTo>
                      <a:pt x="1433" y="723"/>
                    </a:lnTo>
                    <a:lnTo>
                      <a:pt x="1434" y="719"/>
                    </a:lnTo>
                    <a:lnTo>
                      <a:pt x="1430" y="715"/>
                    </a:lnTo>
                    <a:lnTo>
                      <a:pt x="1441" y="714"/>
                    </a:lnTo>
                    <a:lnTo>
                      <a:pt x="1450" y="709"/>
                    </a:lnTo>
                    <a:lnTo>
                      <a:pt x="1459" y="707"/>
                    </a:lnTo>
                    <a:lnTo>
                      <a:pt x="1469" y="701"/>
                    </a:lnTo>
                    <a:lnTo>
                      <a:pt x="1478" y="697"/>
                    </a:lnTo>
                    <a:lnTo>
                      <a:pt x="1487" y="692"/>
                    </a:lnTo>
                    <a:lnTo>
                      <a:pt x="1495" y="685"/>
                    </a:lnTo>
                    <a:lnTo>
                      <a:pt x="1503" y="679"/>
                    </a:lnTo>
                    <a:lnTo>
                      <a:pt x="1499" y="671"/>
                    </a:lnTo>
                    <a:lnTo>
                      <a:pt x="1494" y="666"/>
                    </a:lnTo>
                    <a:lnTo>
                      <a:pt x="1487" y="662"/>
                    </a:lnTo>
                    <a:lnTo>
                      <a:pt x="1481" y="659"/>
                    </a:lnTo>
                    <a:lnTo>
                      <a:pt x="1474" y="655"/>
                    </a:lnTo>
                    <a:lnTo>
                      <a:pt x="1467" y="652"/>
                    </a:lnTo>
                    <a:lnTo>
                      <a:pt x="1463" y="647"/>
                    </a:lnTo>
                    <a:lnTo>
                      <a:pt x="1461" y="639"/>
                    </a:lnTo>
                    <a:lnTo>
                      <a:pt x="1449" y="639"/>
                    </a:lnTo>
                    <a:lnTo>
                      <a:pt x="1438" y="637"/>
                    </a:lnTo>
                    <a:lnTo>
                      <a:pt x="1426" y="633"/>
                    </a:lnTo>
                    <a:lnTo>
                      <a:pt x="1415" y="628"/>
                    </a:lnTo>
                    <a:lnTo>
                      <a:pt x="1403" y="622"/>
                    </a:lnTo>
                    <a:lnTo>
                      <a:pt x="1393" y="617"/>
                    </a:lnTo>
                    <a:lnTo>
                      <a:pt x="1382" y="611"/>
                    </a:lnTo>
                    <a:lnTo>
                      <a:pt x="1371" y="607"/>
                    </a:lnTo>
                    <a:lnTo>
                      <a:pt x="1375" y="603"/>
                    </a:lnTo>
                    <a:lnTo>
                      <a:pt x="1365" y="596"/>
                    </a:lnTo>
                    <a:lnTo>
                      <a:pt x="1356" y="591"/>
                    </a:lnTo>
                    <a:lnTo>
                      <a:pt x="1346" y="585"/>
                    </a:lnTo>
                    <a:lnTo>
                      <a:pt x="1337" y="576"/>
                    </a:lnTo>
                    <a:lnTo>
                      <a:pt x="1345" y="568"/>
                    </a:lnTo>
                    <a:lnTo>
                      <a:pt x="1353" y="559"/>
                    </a:lnTo>
                    <a:lnTo>
                      <a:pt x="1362" y="554"/>
                    </a:lnTo>
                    <a:lnTo>
                      <a:pt x="1373" y="547"/>
                    </a:lnTo>
                    <a:lnTo>
                      <a:pt x="1382" y="542"/>
                    </a:lnTo>
                    <a:lnTo>
                      <a:pt x="1391" y="536"/>
                    </a:lnTo>
                    <a:lnTo>
                      <a:pt x="1399" y="528"/>
                    </a:lnTo>
                    <a:lnTo>
                      <a:pt x="1406" y="520"/>
                    </a:lnTo>
                    <a:lnTo>
                      <a:pt x="1397" y="513"/>
                    </a:lnTo>
                    <a:lnTo>
                      <a:pt x="1387" y="508"/>
                    </a:lnTo>
                    <a:lnTo>
                      <a:pt x="1377" y="502"/>
                    </a:lnTo>
                    <a:lnTo>
                      <a:pt x="1366" y="498"/>
                    </a:lnTo>
                    <a:lnTo>
                      <a:pt x="1357" y="494"/>
                    </a:lnTo>
                    <a:lnTo>
                      <a:pt x="1348" y="489"/>
                    </a:lnTo>
                    <a:lnTo>
                      <a:pt x="1340" y="482"/>
                    </a:lnTo>
                    <a:lnTo>
                      <a:pt x="1333" y="472"/>
                    </a:lnTo>
                    <a:lnTo>
                      <a:pt x="1322" y="475"/>
                    </a:lnTo>
                    <a:lnTo>
                      <a:pt x="1313" y="478"/>
                    </a:lnTo>
                    <a:lnTo>
                      <a:pt x="1305" y="476"/>
                    </a:lnTo>
                    <a:lnTo>
                      <a:pt x="1298" y="468"/>
                    </a:lnTo>
                    <a:lnTo>
                      <a:pt x="1310" y="457"/>
                    </a:lnTo>
                    <a:lnTo>
                      <a:pt x="1298" y="445"/>
                    </a:lnTo>
                    <a:lnTo>
                      <a:pt x="1293" y="449"/>
                    </a:lnTo>
                    <a:lnTo>
                      <a:pt x="1289" y="446"/>
                    </a:lnTo>
                    <a:lnTo>
                      <a:pt x="1285" y="444"/>
                    </a:lnTo>
                    <a:lnTo>
                      <a:pt x="1278" y="441"/>
                    </a:lnTo>
                    <a:lnTo>
                      <a:pt x="1285" y="434"/>
                    </a:lnTo>
                    <a:lnTo>
                      <a:pt x="1293" y="429"/>
                    </a:lnTo>
                    <a:lnTo>
                      <a:pt x="1302" y="423"/>
                    </a:lnTo>
                    <a:lnTo>
                      <a:pt x="1312" y="416"/>
                    </a:lnTo>
                    <a:lnTo>
                      <a:pt x="1320" y="409"/>
                    </a:lnTo>
                    <a:lnTo>
                      <a:pt x="1328" y="401"/>
                    </a:lnTo>
                    <a:lnTo>
                      <a:pt x="1334" y="392"/>
                    </a:lnTo>
                    <a:lnTo>
                      <a:pt x="1337" y="381"/>
                    </a:lnTo>
                    <a:lnTo>
                      <a:pt x="1321" y="367"/>
                    </a:lnTo>
                    <a:lnTo>
                      <a:pt x="1304" y="358"/>
                    </a:lnTo>
                    <a:lnTo>
                      <a:pt x="1284" y="351"/>
                    </a:lnTo>
                    <a:lnTo>
                      <a:pt x="1264" y="345"/>
                    </a:lnTo>
                    <a:lnTo>
                      <a:pt x="1244" y="337"/>
                    </a:lnTo>
                    <a:lnTo>
                      <a:pt x="1228" y="328"/>
                    </a:lnTo>
                    <a:lnTo>
                      <a:pt x="1216" y="314"/>
                    </a:lnTo>
                    <a:lnTo>
                      <a:pt x="1209" y="294"/>
                    </a:lnTo>
                    <a:lnTo>
                      <a:pt x="1214" y="289"/>
                    </a:lnTo>
                    <a:lnTo>
                      <a:pt x="1221" y="285"/>
                    </a:lnTo>
                    <a:lnTo>
                      <a:pt x="1228" y="281"/>
                    </a:lnTo>
                    <a:lnTo>
                      <a:pt x="1234" y="276"/>
                    </a:lnTo>
                    <a:lnTo>
                      <a:pt x="1240" y="272"/>
                    </a:lnTo>
                    <a:lnTo>
                      <a:pt x="1245" y="266"/>
                    </a:lnTo>
                    <a:lnTo>
                      <a:pt x="1249" y="261"/>
                    </a:lnTo>
                    <a:lnTo>
                      <a:pt x="1252" y="254"/>
                    </a:lnTo>
                    <a:lnTo>
                      <a:pt x="1245" y="247"/>
                    </a:lnTo>
                    <a:lnTo>
                      <a:pt x="1236" y="242"/>
                    </a:lnTo>
                    <a:lnTo>
                      <a:pt x="1226" y="238"/>
                    </a:lnTo>
                    <a:lnTo>
                      <a:pt x="1217" y="234"/>
                    </a:lnTo>
                    <a:lnTo>
                      <a:pt x="1207" y="231"/>
                    </a:lnTo>
                    <a:lnTo>
                      <a:pt x="1197" y="228"/>
                    </a:lnTo>
                    <a:lnTo>
                      <a:pt x="1187" y="224"/>
                    </a:lnTo>
                    <a:lnTo>
                      <a:pt x="1179" y="219"/>
                    </a:lnTo>
                    <a:lnTo>
                      <a:pt x="1185" y="209"/>
                    </a:lnTo>
                    <a:lnTo>
                      <a:pt x="1191" y="199"/>
                    </a:lnTo>
                    <a:lnTo>
                      <a:pt x="1195" y="187"/>
                    </a:lnTo>
                    <a:lnTo>
                      <a:pt x="1197" y="175"/>
                    </a:lnTo>
                    <a:lnTo>
                      <a:pt x="1189" y="168"/>
                    </a:lnTo>
                    <a:lnTo>
                      <a:pt x="1179" y="163"/>
                    </a:lnTo>
                    <a:lnTo>
                      <a:pt x="1167" y="157"/>
                    </a:lnTo>
                    <a:lnTo>
                      <a:pt x="1156" y="153"/>
                    </a:lnTo>
                    <a:lnTo>
                      <a:pt x="1147" y="148"/>
                    </a:lnTo>
                    <a:lnTo>
                      <a:pt x="1143" y="139"/>
                    </a:lnTo>
                    <a:lnTo>
                      <a:pt x="1145" y="130"/>
                    </a:lnTo>
                    <a:lnTo>
                      <a:pt x="1155" y="115"/>
                    </a:lnTo>
                    <a:lnTo>
                      <a:pt x="1159" y="111"/>
                    </a:lnTo>
                    <a:lnTo>
                      <a:pt x="1161" y="107"/>
                    </a:lnTo>
                    <a:lnTo>
                      <a:pt x="1163" y="101"/>
                    </a:lnTo>
                    <a:lnTo>
                      <a:pt x="1163" y="96"/>
                    </a:lnTo>
                    <a:lnTo>
                      <a:pt x="1152" y="86"/>
                    </a:lnTo>
                    <a:lnTo>
                      <a:pt x="1140" y="79"/>
                    </a:lnTo>
                    <a:lnTo>
                      <a:pt x="1129" y="73"/>
                    </a:lnTo>
                    <a:lnTo>
                      <a:pt x="1124" y="60"/>
                    </a:lnTo>
                    <a:lnTo>
                      <a:pt x="1136" y="58"/>
                    </a:lnTo>
                    <a:lnTo>
                      <a:pt x="1144" y="51"/>
                    </a:lnTo>
                    <a:lnTo>
                      <a:pt x="1148" y="43"/>
                    </a:lnTo>
                    <a:lnTo>
                      <a:pt x="1152" y="32"/>
                    </a:lnTo>
                    <a:lnTo>
                      <a:pt x="1155" y="22"/>
                    </a:lnTo>
                    <a:lnTo>
                      <a:pt x="1159" y="13"/>
                    </a:lnTo>
                    <a:lnTo>
                      <a:pt x="1165" y="6"/>
                    </a:lnTo>
                    <a:lnTo>
                      <a:pt x="1175" y="0"/>
                    </a:lnTo>
                    <a:lnTo>
                      <a:pt x="1213" y="0"/>
                    </a:lnTo>
                    <a:close/>
                  </a:path>
                </a:pathLst>
              </a:custGeom>
              <a:solidFill>
                <a:srgbClr val="e51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2" name=""/>
            <p:cNvSpPr/>
            <p:nvPr/>
          </p:nvSpPr>
          <p:spPr>
            <a:xfrm rot="21249000">
              <a:off x="2544840" y="4244760"/>
              <a:ext cx="351720" cy="1449360"/>
            </a:xfrm>
            <a:custGeom>
              <a:avLst/>
              <a:gdLst/>
              <a:ahLst/>
              <a:rect l="l" t="t" r="r" b="b"/>
              <a:pathLst>
                <a:path w="591" h="966">
                  <a:moveTo>
                    <a:pt x="211" y="71"/>
                  </a:moveTo>
                  <a:lnTo>
                    <a:pt x="231" y="77"/>
                  </a:lnTo>
                  <a:lnTo>
                    <a:pt x="249" y="76"/>
                  </a:lnTo>
                  <a:lnTo>
                    <a:pt x="263" y="66"/>
                  </a:lnTo>
                  <a:lnTo>
                    <a:pt x="278" y="56"/>
                  </a:lnTo>
                  <a:lnTo>
                    <a:pt x="291" y="46"/>
                  </a:lnTo>
                  <a:lnTo>
                    <a:pt x="306" y="39"/>
                  </a:lnTo>
                  <a:lnTo>
                    <a:pt x="322" y="41"/>
                  </a:lnTo>
                  <a:lnTo>
                    <a:pt x="339" y="54"/>
                  </a:lnTo>
                  <a:lnTo>
                    <a:pt x="347" y="47"/>
                  </a:lnTo>
                  <a:lnTo>
                    <a:pt x="358" y="47"/>
                  </a:lnTo>
                  <a:lnTo>
                    <a:pt x="368" y="53"/>
                  </a:lnTo>
                  <a:lnTo>
                    <a:pt x="378" y="58"/>
                  </a:lnTo>
                  <a:lnTo>
                    <a:pt x="372" y="71"/>
                  </a:lnTo>
                  <a:lnTo>
                    <a:pt x="364" y="65"/>
                  </a:lnTo>
                  <a:lnTo>
                    <a:pt x="355" y="58"/>
                  </a:lnTo>
                  <a:lnTo>
                    <a:pt x="346" y="66"/>
                  </a:lnTo>
                  <a:lnTo>
                    <a:pt x="337" y="64"/>
                  </a:lnTo>
                  <a:lnTo>
                    <a:pt x="329" y="64"/>
                  </a:lnTo>
                  <a:lnTo>
                    <a:pt x="321" y="68"/>
                  </a:lnTo>
                  <a:lnTo>
                    <a:pt x="314" y="75"/>
                  </a:lnTo>
                  <a:lnTo>
                    <a:pt x="307" y="81"/>
                  </a:lnTo>
                  <a:lnTo>
                    <a:pt x="302" y="91"/>
                  </a:lnTo>
                  <a:lnTo>
                    <a:pt x="297" y="99"/>
                  </a:lnTo>
                  <a:lnTo>
                    <a:pt x="293" y="106"/>
                  </a:lnTo>
                  <a:lnTo>
                    <a:pt x="287" y="116"/>
                  </a:lnTo>
                  <a:lnTo>
                    <a:pt x="286" y="124"/>
                  </a:lnTo>
                  <a:lnTo>
                    <a:pt x="290" y="131"/>
                  </a:lnTo>
                  <a:lnTo>
                    <a:pt x="295" y="136"/>
                  </a:lnTo>
                  <a:lnTo>
                    <a:pt x="302" y="140"/>
                  </a:lnTo>
                  <a:lnTo>
                    <a:pt x="310" y="144"/>
                  </a:lnTo>
                  <a:lnTo>
                    <a:pt x="317" y="150"/>
                  </a:lnTo>
                  <a:lnTo>
                    <a:pt x="323" y="154"/>
                  </a:lnTo>
                  <a:lnTo>
                    <a:pt x="330" y="156"/>
                  </a:lnTo>
                  <a:lnTo>
                    <a:pt x="337" y="158"/>
                  </a:lnTo>
                  <a:lnTo>
                    <a:pt x="343" y="159"/>
                  </a:lnTo>
                  <a:lnTo>
                    <a:pt x="350" y="161"/>
                  </a:lnTo>
                  <a:lnTo>
                    <a:pt x="356" y="162"/>
                  </a:lnTo>
                  <a:lnTo>
                    <a:pt x="363" y="162"/>
                  </a:lnTo>
                  <a:lnTo>
                    <a:pt x="370" y="162"/>
                  </a:lnTo>
                  <a:lnTo>
                    <a:pt x="378" y="162"/>
                  </a:lnTo>
                  <a:lnTo>
                    <a:pt x="396" y="150"/>
                  </a:lnTo>
                  <a:lnTo>
                    <a:pt x="411" y="131"/>
                  </a:lnTo>
                  <a:lnTo>
                    <a:pt x="424" y="109"/>
                  </a:lnTo>
                  <a:lnTo>
                    <a:pt x="436" y="87"/>
                  </a:lnTo>
                  <a:lnTo>
                    <a:pt x="450" y="71"/>
                  </a:lnTo>
                  <a:lnTo>
                    <a:pt x="467" y="61"/>
                  </a:lnTo>
                  <a:lnTo>
                    <a:pt x="487" y="62"/>
                  </a:lnTo>
                  <a:lnTo>
                    <a:pt x="513" y="79"/>
                  </a:lnTo>
                  <a:lnTo>
                    <a:pt x="521" y="84"/>
                  </a:lnTo>
                  <a:lnTo>
                    <a:pt x="529" y="90"/>
                  </a:lnTo>
                  <a:lnTo>
                    <a:pt x="537" y="95"/>
                  </a:lnTo>
                  <a:lnTo>
                    <a:pt x="547" y="101"/>
                  </a:lnTo>
                  <a:lnTo>
                    <a:pt x="555" y="105"/>
                  </a:lnTo>
                  <a:lnTo>
                    <a:pt x="564" y="107"/>
                  </a:lnTo>
                  <a:lnTo>
                    <a:pt x="573" y="109"/>
                  </a:lnTo>
                  <a:lnTo>
                    <a:pt x="583" y="106"/>
                  </a:lnTo>
                  <a:lnTo>
                    <a:pt x="573" y="117"/>
                  </a:lnTo>
                  <a:lnTo>
                    <a:pt x="564" y="128"/>
                  </a:lnTo>
                  <a:lnTo>
                    <a:pt x="555" y="140"/>
                  </a:lnTo>
                  <a:lnTo>
                    <a:pt x="545" y="151"/>
                  </a:lnTo>
                  <a:lnTo>
                    <a:pt x="535" y="163"/>
                  </a:lnTo>
                  <a:lnTo>
                    <a:pt x="524" y="174"/>
                  </a:lnTo>
                  <a:lnTo>
                    <a:pt x="513" y="184"/>
                  </a:lnTo>
                  <a:lnTo>
                    <a:pt x="501" y="193"/>
                  </a:lnTo>
                  <a:lnTo>
                    <a:pt x="495" y="189"/>
                  </a:lnTo>
                  <a:lnTo>
                    <a:pt x="488" y="185"/>
                  </a:lnTo>
                  <a:lnTo>
                    <a:pt x="482" y="182"/>
                  </a:lnTo>
                  <a:lnTo>
                    <a:pt x="474" y="181"/>
                  </a:lnTo>
                  <a:lnTo>
                    <a:pt x="474" y="171"/>
                  </a:lnTo>
                  <a:lnTo>
                    <a:pt x="470" y="167"/>
                  </a:lnTo>
                  <a:lnTo>
                    <a:pt x="463" y="165"/>
                  </a:lnTo>
                  <a:lnTo>
                    <a:pt x="456" y="165"/>
                  </a:lnTo>
                  <a:lnTo>
                    <a:pt x="448" y="166"/>
                  </a:lnTo>
                  <a:lnTo>
                    <a:pt x="440" y="166"/>
                  </a:lnTo>
                  <a:lnTo>
                    <a:pt x="434" y="163"/>
                  </a:lnTo>
                  <a:lnTo>
                    <a:pt x="428" y="158"/>
                  </a:lnTo>
                  <a:lnTo>
                    <a:pt x="419" y="167"/>
                  </a:lnTo>
                  <a:lnTo>
                    <a:pt x="410" y="176"/>
                  </a:lnTo>
                  <a:lnTo>
                    <a:pt x="398" y="184"/>
                  </a:lnTo>
                  <a:lnTo>
                    <a:pt x="387" y="192"/>
                  </a:lnTo>
                  <a:lnTo>
                    <a:pt x="375" y="200"/>
                  </a:lnTo>
                  <a:lnTo>
                    <a:pt x="366" y="210"/>
                  </a:lnTo>
                  <a:lnTo>
                    <a:pt x="356" y="218"/>
                  </a:lnTo>
                  <a:lnTo>
                    <a:pt x="350" y="229"/>
                  </a:lnTo>
                  <a:lnTo>
                    <a:pt x="424" y="253"/>
                  </a:lnTo>
                  <a:lnTo>
                    <a:pt x="412" y="279"/>
                  </a:lnTo>
                  <a:lnTo>
                    <a:pt x="403" y="305"/>
                  </a:lnTo>
                  <a:lnTo>
                    <a:pt x="395" y="332"/>
                  </a:lnTo>
                  <a:lnTo>
                    <a:pt x="388" y="360"/>
                  </a:lnTo>
                  <a:lnTo>
                    <a:pt x="372" y="360"/>
                  </a:lnTo>
                  <a:lnTo>
                    <a:pt x="356" y="353"/>
                  </a:lnTo>
                  <a:lnTo>
                    <a:pt x="339" y="343"/>
                  </a:lnTo>
                  <a:lnTo>
                    <a:pt x="323" y="332"/>
                  </a:lnTo>
                  <a:lnTo>
                    <a:pt x="307" y="327"/>
                  </a:lnTo>
                  <a:lnTo>
                    <a:pt x="293" y="327"/>
                  </a:lnTo>
                  <a:lnTo>
                    <a:pt x="279" y="339"/>
                  </a:lnTo>
                  <a:lnTo>
                    <a:pt x="269" y="364"/>
                  </a:lnTo>
                  <a:lnTo>
                    <a:pt x="266" y="373"/>
                  </a:lnTo>
                  <a:lnTo>
                    <a:pt x="259" y="381"/>
                  </a:lnTo>
                  <a:lnTo>
                    <a:pt x="251" y="390"/>
                  </a:lnTo>
                  <a:lnTo>
                    <a:pt x="243" y="396"/>
                  </a:lnTo>
                  <a:lnTo>
                    <a:pt x="237" y="405"/>
                  </a:lnTo>
                  <a:lnTo>
                    <a:pt x="234" y="411"/>
                  </a:lnTo>
                  <a:lnTo>
                    <a:pt x="237" y="421"/>
                  </a:lnTo>
                  <a:lnTo>
                    <a:pt x="246" y="432"/>
                  </a:lnTo>
                  <a:lnTo>
                    <a:pt x="254" y="435"/>
                  </a:lnTo>
                  <a:lnTo>
                    <a:pt x="262" y="440"/>
                  </a:lnTo>
                  <a:lnTo>
                    <a:pt x="269" y="447"/>
                  </a:lnTo>
                  <a:lnTo>
                    <a:pt x="275" y="454"/>
                  </a:lnTo>
                  <a:lnTo>
                    <a:pt x="282" y="458"/>
                  </a:lnTo>
                  <a:lnTo>
                    <a:pt x="290" y="461"/>
                  </a:lnTo>
                  <a:lnTo>
                    <a:pt x="297" y="459"/>
                  </a:lnTo>
                  <a:lnTo>
                    <a:pt x="303" y="451"/>
                  </a:lnTo>
                  <a:lnTo>
                    <a:pt x="311" y="416"/>
                  </a:lnTo>
                  <a:lnTo>
                    <a:pt x="331" y="420"/>
                  </a:lnTo>
                  <a:lnTo>
                    <a:pt x="322" y="437"/>
                  </a:lnTo>
                  <a:lnTo>
                    <a:pt x="315" y="455"/>
                  </a:lnTo>
                  <a:lnTo>
                    <a:pt x="309" y="473"/>
                  </a:lnTo>
                  <a:lnTo>
                    <a:pt x="299" y="491"/>
                  </a:lnTo>
                  <a:lnTo>
                    <a:pt x="289" y="486"/>
                  </a:lnTo>
                  <a:lnTo>
                    <a:pt x="278" y="481"/>
                  </a:lnTo>
                  <a:lnTo>
                    <a:pt x="267" y="478"/>
                  </a:lnTo>
                  <a:lnTo>
                    <a:pt x="257" y="474"/>
                  </a:lnTo>
                  <a:lnTo>
                    <a:pt x="245" y="471"/>
                  </a:lnTo>
                  <a:lnTo>
                    <a:pt x="234" y="470"/>
                  </a:lnTo>
                  <a:lnTo>
                    <a:pt x="222" y="470"/>
                  </a:lnTo>
                  <a:lnTo>
                    <a:pt x="211" y="471"/>
                  </a:lnTo>
                  <a:lnTo>
                    <a:pt x="153" y="559"/>
                  </a:lnTo>
                  <a:lnTo>
                    <a:pt x="160" y="564"/>
                  </a:lnTo>
                  <a:lnTo>
                    <a:pt x="168" y="570"/>
                  </a:lnTo>
                  <a:lnTo>
                    <a:pt x="174" y="575"/>
                  </a:lnTo>
                  <a:lnTo>
                    <a:pt x="181" y="579"/>
                  </a:lnTo>
                  <a:lnTo>
                    <a:pt x="189" y="583"/>
                  </a:lnTo>
                  <a:lnTo>
                    <a:pt x="195" y="587"/>
                  </a:lnTo>
                  <a:lnTo>
                    <a:pt x="203" y="591"/>
                  </a:lnTo>
                  <a:lnTo>
                    <a:pt x="211" y="594"/>
                  </a:lnTo>
                  <a:lnTo>
                    <a:pt x="230" y="551"/>
                  </a:lnTo>
                  <a:lnTo>
                    <a:pt x="250" y="559"/>
                  </a:lnTo>
                  <a:lnTo>
                    <a:pt x="243" y="571"/>
                  </a:lnTo>
                  <a:lnTo>
                    <a:pt x="235" y="585"/>
                  </a:lnTo>
                  <a:lnTo>
                    <a:pt x="227" y="598"/>
                  </a:lnTo>
                  <a:lnTo>
                    <a:pt x="219" y="613"/>
                  </a:lnTo>
                  <a:lnTo>
                    <a:pt x="211" y="628"/>
                  </a:lnTo>
                  <a:lnTo>
                    <a:pt x="202" y="643"/>
                  </a:lnTo>
                  <a:lnTo>
                    <a:pt x="195" y="658"/>
                  </a:lnTo>
                  <a:lnTo>
                    <a:pt x="188" y="673"/>
                  </a:lnTo>
                  <a:lnTo>
                    <a:pt x="177" y="671"/>
                  </a:lnTo>
                  <a:lnTo>
                    <a:pt x="168" y="668"/>
                  </a:lnTo>
                  <a:lnTo>
                    <a:pt x="158" y="665"/>
                  </a:lnTo>
                  <a:lnTo>
                    <a:pt x="150" y="664"/>
                  </a:lnTo>
                  <a:lnTo>
                    <a:pt x="141" y="662"/>
                  </a:lnTo>
                  <a:lnTo>
                    <a:pt x="132" y="661"/>
                  </a:lnTo>
                  <a:lnTo>
                    <a:pt x="121" y="660"/>
                  </a:lnTo>
                  <a:lnTo>
                    <a:pt x="110" y="658"/>
                  </a:lnTo>
                  <a:lnTo>
                    <a:pt x="102" y="668"/>
                  </a:lnTo>
                  <a:lnTo>
                    <a:pt x="94" y="677"/>
                  </a:lnTo>
                  <a:lnTo>
                    <a:pt x="86" y="687"/>
                  </a:lnTo>
                  <a:lnTo>
                    <a:pt x="78" y="695"/>
                  </a:lnTo>
                  <a:lnTo>
                    <a:pt x="70" y="705"/>
                  </a:lnTo>
                  <a:lnTo>
                    <a:pt x="65" y="714"/>
                  </a:lnTo>
                  <a:lnTo>
                    <a:pt x="60" y="725"/>
                  </a:lnTo>
                  <a:lnTo>
                    <a:pt x="56" y="736"/>
                  </a:lnTo>
                  <a:lnTo>
                    <a:pt x="64" y="739"/>
                  </a:lnTo>
                  <a:lnTo>
                    <a:pt x="72" y="743"/>
                  </a:lnTo>
                  <a:lnTo>
                    <a:pt x="80" y="747"/>
                  </a:lnTo>
                  <a:lnTo>
                    <a:pt x="88" y="751"/>
                  </a:lnTo>
                  <a:lnTo>
                    <a:pt x="96" y="754"/>
                  </a:lnTo>
                  <a:lnTo>
                    <a:pt x="105" y="756"/>
                  </a:lnTo>
                  <a:lnTo>
                    <a:pt x="113" y="759"/>
                  </a:lnTo>
                  <a:lnTo>
                    <a:pt x="122" y="759"/>
                  </a:lnTo>
                  <a:lnTo>
                    <a:pt x="129" y="732"/>
                  </a:lnTo>
                  <a:lnTo>
                    <a:pt x="153" y="740"/>
                  </a:lnTo>
                  <a:lnTo>
                    <a:pt x="150" y="746"/>
                  </a:lnTo>
                  <a:lnTo>
                    <a:pt x="148" y="752"/>
                  </a:lnTo>
                  <a:lnTo>
                    <a:pt x="146" y="758"/>
                  </a:lnTo>
                  <a:lnTo>
                    <a:pt x="153" y="763"/>
                  </a:lnTo>
                  <a:lnTo>
                    <a:pt x="140" y="773"/>
                  </a:lnTo>
                  <a:lnTo>
                    <a:pt x="125" y="780"/>
                  </a:lnTo>
                  <a:lnTo>
                    <a:pt x="109" y="785"/>
                  </a:lnTo>
                  <a:lnTo>
                    <a:pt x="93" y="791"/>
                  </a:lnTo>
                  <a:lnTo>
                    <a:pt x="77" y="796"/>
                  </a:lnTo>
                  <a:lnTo>
                    <a:pt x="62" y="806"/>
                  </a:lnTo>
                  <a:lnTo>
                    <a:pt x="52" y="818"/>
                  </a:lnTo>
                  <a:lnTo>
                    <a:pt x="44" y="836"/>
                  </a:lnTo>
                  <a:lnTo>
                    <a:pt x="48" y="855"/>
                  </a:lnTo>
                  <a:lnTo>
                    <a:pt x="57" y="864"/>
                  </a:lnTo>
                  <a:lnTo>
                    <a:pt x="69" y="868"/>
                  </a:lnTo>
                  <a:lnTo>
                    <a:pt x="85" y="870"/>
                  </a:lnTo>
                  <a:lnTo>
                    <a:pt x="101" y="867"/>
                  </a:lnTo>
                  <a:lnTo>
                    <a:pt x="118" y="866"/>
                  </a:lnTo>
                  <a:lnTo>
                    <a:pt x="136" y="866"/>
                  </a:lnTo>
                  <a:lnTo>
                    <a:pt x="153" y="871"/>
                  </a:lnTo>
                  <a:lnTo>
                    <a:pt x="156" y="860"/>
                  </a:lnTo>
                  <a:lnTo>
                    <a:pt x="160" y="849"/>
                  </a:lnTo>
                  <a:lnTo>
                    <a:pt x="166" y="841"/>
                  </a:lnTo>
                  <a:lnTo>
                    <a:pt x="176" y="836"/>
                  </a:lnTo>
                  <a:lnTo>
                    <a:pt x="186" y="833"/>
                  </a:lnTo>
                  <a:lnTo>
                    <a:pt x="197" y="833"/>
                  </a:lnTo>
                  <a:lnTo>
                    <a:pt x="206" y="837"/>
                  </a:lnTo>
                  <a:lnTo>
                    <a:pt x="215" y="842"/>
                  </a:lnTo>
                  <a:lnTo>
                    <a:pt x="225" y="848"/>
                  </a:lnTo>
                  <a:lnTo>
                    <a:pt x="234" y="855"/>
                  </a:lnTo>
                  <a:lnTo>
                    <a:pt x="243" y="860"/>
                  </a:lnTo>
                  <a:lnTo>
                    <a:pt x="254" y="863"/>
                  </a:lnTo>
                  <a:lnTo>
                    <a:pt x="242" y="864"/>
                  </a:lnTo>
                  <a:lnTo>
                    <a:pt x="231" y="863"/>
                  </a:lnTo>
                  <a:lnTo>
                    <a:pt x="219" y="863"/>
                  </a:lnTo>
                  <a:lnTo>
                    <a:pt x="210" y="861"/>
                  </a:lnTo>
                  <a:lnTo>
                    <a:pt x="199" y="861"/>
                  </a:lnTo>
                  <a:lnTo>
                    <a:pt x="192" y="864"/>
                  </a:lnTo>
                  <a:lnTo>
                    <a:pt x="184" y="871"/>
                  </a:lnTo>
                  <a:lnTo>
                    <a:pt x="176" y="882"/>
                  </a:lnTo>
                  <a:lnTo>
                    <a:pt x="177" y="891"/>
                  </a:lnTo>
                  <a:lnTo>
                    <a:pt x="177" y="902"/>
                  </a:lnTo>
                  <a:lnTo>
                    <a:pt x="180" y="911"/>
                  </a:lnTo>
                  <a:lnTo>
                    <a:pt x="188" y="915"/>
                  </a:lnTo>
                  <a:lnTo>
                    <a:pt x="207" y="912"/>
                  </a:lnTo>
                  <a:lnTo>
                    <a:pt x="229" y="915"/>
                  </a:lnTo>
                  <a:lnTo>
                    <a:pt x="251" y="917"/>
                  </a:lnTo>
                  <a:lnTo>
                    <a:pt x="271" y="920"/>
                  </a:lnTo>
                  <a:lnTo>
                    <a:pt x="291" y="919"/>
                  </a:lnTo>
                  <a:lnTo>
                    <a:pt x="307" y="913"/>
                  </a:lnTo>
                  <a:lnTo>
                    <a:pt x="319" y="900"/>
                  </a:lnTo>
                  <a:lnTo>
                    <a:pt x="327" y="875"/>
                  </a:lnTo>
                  <a:lnTo>
                    <a:pt x="439" y="875"/>
                  </a:lnTo>
                  <a:lnTo>
                    <a:pt x="435" y="876"/>
                  </a:lnTo>
                  <a:lnTo>
                    <a:pt x="430" y="878"/>
                  </a:lnTo>
                  <a:lnTo>
                    <a:pt x="422" y="879"/>
                  </a:lnTo>
                  <a:lnTo>
                    <a:pt x="414" y="879"/>
                  </a:lnTo>
                  <a:lnTo>
                    <a:pt x="404" y="882"/>
                  </a:lnTo>
                  <a:lnTo>
                    <a:pt x="398" y="885"/>
                  </a:lnTo>
                  <a:lnTo>
                    <a:pt x="391" y="890"/>
                  </a:lnTo>
                  <a:lnTo>
                    <a:pt x="386" y="898"/>
                  </a:lnTo>
                  <a:lnTo>
                    <a:pt x="386" y="920"/>
                  </a:lnTo>
                  <a:lnTo>
                    <a:pt x="394" y="934"/>
                  </a:lnTo>
                  <a:lnTo>
                    <a:pt x="408" y="939"/>
                  </a:lnTo>
                  <a:lnTo>
                    <a:pt x="427" y="941"/>
                  </a:lnTo>
                  <a:lnTo>
                    <a:pt x="448" y="939"/>
                  </a:lnTo>
                  <a:lnTo>
                    <a:pt x="470" y="936"/>
                  </a:lnTo>
                  <a:lnTo>
                    <a:pt x="490" y="938"/>
                  </a:lnTo>
                  <a:lnTo>
                    <a:pt x="505" y="942"/>
                  </a:lnTo>
                  <a:lnTo>
                    <a:pt x="513" y="941"/>
                  </a:lnTo>
                  <a:lnTo>
                    <a:pt x="519" y="936"/>
                  </a:lnTo>
                  <a:lnTo>
                    <a:pt x="523" y="931"/>
                  </a:lnTo>
                  <a:lnTo>
                    <a:pt x="527" y="924"/>
                  </a:lnTo>
                  <a:lnTo>
                    <a:pt x="529" y="917"/>
                  </a:lnTo>
                  <a:lnTo>
                    <a:pt x="533" y="912"/>
                  </a:lnTo>
                  <a:lnTo>
                    <a:pt x="540" y="908"/>
                  </a:lnTo>
                  <a:lnTo>
                    <a:pt x="548" y="906"/>
                  </a:lnTo>
                  <a:lnTo>
                    <a:pt x="591" y="915"/>
                  </a:lnTo>
                  <a:lnTo>
                    <a:pt x="584" y="919"/>
                  </a:lnTo>
                  <a:lnTo>
                    <a:pt x="577" y="923"/>
                  </a:lnTo>
                  <a:lnTo>
                    <a:pt x="571" y="927"/>
                  </a:lnTo>
                  <a:lnTo>
                    <a:pt x="564" y="931"/>
                  </a:lnTo>
                  <a:lnTo>
                    <a:pt x="557" y="936"/>
                  </a:lnTo>
                  <a:lnTo>
                    <a:pt x="552" y="941"/>
                  </a:lnTo>
                  <a:lnTo>
                    <a:pt x="545" y="947"/>
                  </a:lnTo>
                  <a:lnTo>
                    <a:pt x="540" y="954"/>
                  </a:lnTo>
                  <a:lnTo>
                    <a:pt x="552" y="966"/>
                  </a:lnTo>
                  <a:lnTo>
                    <a:pt x="528" y="966"/>
                  </a:lnTo>
                  <a:lnTo>
                    <a:pt x="503" y="965"/>
                  </a:lnTo>
                  <a:lnTo>
                    <a:pt x="478" y="962"/>
                  </a:lnTo>
                  <a:lnTo>
                    <a:pt x="451" y="960"/>
                  </a:lnTo>
                  <a:lnTo>
                    <a:pt x="424" y="956"/>
                  </a:lnTo>
                  <a:lnTo>
                    <a:pt x="399" y="951"/>
                  </a:lnTo>
                  <a:lnTo>
                    <a:pt x="372" y="947"/>
                  </a:lnTo>
                  <a:lnTo>
                    <a:pt x="346" y="945"/>
                  </a:lnTo>
                  <a:lnTo>
                    <a:pt x="319" y="942"/>
                  </a:lnTo>
                  <a:lnTo>
                    <a:pt x="293" y="939"/>
                  </a:lnTo>
                  <a:lnTo>
                    <a:pt x="267" y="938"/>
                  </a:lnTo>
                  <a:lnTo>
                    <a:pt x="242" y="938"/>
                  </a:lnTo>
                  <a:lnTo>
                    <a:pt x="217" y="939"/>
                  </a:lnTo>
                  <a:lnTo>
                    <a:pt x="192" y="942"/>
                  </a:lnTo>
                  <a:lnTo>
                    <a:pt x="168" y="947"/>
                  </a:lnTo>
                  <a:lnTo>
                    <a:pt x="145" y="954"/>
                  </a:lnTo>
                  <a:lnTo>
                    <a:pt x="90" y="958"/>
                  </a:lnTo>
                  <a:lnTo>
                    <a:pt x="76" y="951"/>
                  </a:lnTo>
                  <a:lnTo>
                    <a:pt x="64" y="945"/>
                  </a:lnTo>
                  <a:lnTo>
                    <a:pt x="52" y="935"/>
                  </a:lnTo>
                  <a:lnTo>
                    <a:pt x="41" y="926"/>
                  </a:lnTo>
                  <a:lnTo>
                    <a:pt x="32" y="915"/>
                  </a:lnTo>
                  <a:lnTo>
                    <a:pt x="23" y="904"/>
                  </a:lnTo>
                  <a:lnTo>
                    <a:pt x="13" y="891"/>
                  </a:lnTo>
                  <a:lnTo>
                    <a:pt x="5" y="879"/>
                  </a:lnTo>
                  <a:lnTo>
                    <a:pt x="0" y="844"/>
                  </a:lnTo>
                  <a:lnTo>
                    <a:pt x="5" y="812"/>
                  </a:lnTo>
                  <a:lnTo>
                    <a:pt x="17" y="782"/>
                  </a:lnTo>
                  <a:lnTo>
                    <a:pt x="33" y="754"/>
                  </a:lnTo>
                  <a:lnTo>
                    <a:pt x="48" y="725"/>
                  </a:lnTo>
                  <a:lnTo>
                    <a:pt x="58" y="695"/>
                  </a:lnTo>
                  <a:lnTo>
                    <a:pt x="61" y="664"/>
                  </a:lnTo>
                  <a:lnTo>
                    <a:pt x="52" y="630"/>
                  </a:lnTo>
                  <a:lnTo>
                    <a:pt x="57" y="602"/>
                  </a:lnTo>
                  <a:lnTo>
                    <a:pt x="65" y="575"/>
                  </a:lnTo>
                  <a:lnTo>
                    <a:pt x="76" y="549"/>
                  </a:lnTo>
                  <a:lnTo>
                    <a:pt x="88" y="522"/>
                  </a:lnTo>
                  <a:lnTo>
                    <a:pt x="100" y="496"/>
                  </a:lnTo>
                  <a:lnTo>
                    <a:pt x="109" y="469"/>
                  </a:lnTo>
                  <a:lnTo>
                    <a:pt x="118" y="440"/>
                  </a:lnTo>
                  <a:lnTo>
                    <a:pt x="122" y="411"/>
                  </a:lnTo>
                  <a:lnTo>
                    <a:pt x="117" y="375"/>
                  </a:lnTo>
                  <a:lnTo>
                    <a:pt x="113" y="336"/>
                  </a:lnTo>
                  <a:lnTo>
                    <a:pt x="109" y="298"/>
                  </a:lnTo>
                  <a:lnTo>
                    <a:pt x="105" y="260"/>
                  </a:lnTo>
                  <a:lnTo>
                    <a:pt x="98" y="223"/>
                  </a:lnTo>
                  <a:lnTo>
                    <a:pt x="88" y="189"/>
                  </a:lnTo>
                  <a:lnTo>
                    <a:pt x="70" y="156"/>
                  </a:lnTo>
                  <a:lnTo>
                    <a:pt x="48" y="126"/>
                  </a:lnTo>
                  <a:lnTo>
                    <a:pt x="37" y="47"/>
                  </a:lnTo>
                  <a:lnTo>
                    <a:pt x="133" y="0"/>
                  </a:lnTo>
                  <a:lnTo>
                    <a:pt x="140" y="11"/>
                  </a:lnTo>
                  <a:lnTo>
                    <a:pt x="148" y="21"/>
                  </a:lnTo>
                  <a:lnTo>
                    <a:pt x="156" y="32"/>
                  </a:lnTo>
                  <a:lnTo>
                    <a:pt x="165" y="43"/>
                  </a:lnTo>
                  <a:lnTo>
                    <a:pt x="174" y="53"/>
                  </a:lnTo>
                  <a:lnTo>
                    <a:pt x="185" y="61"/>
                  </a:lnTo>
                  <a:lnTo>
                    <a:pt x="197" y="68"/>
                  </a:lnTo>
                  <a:lnTo>
                    <a:pt x="211" y="71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3" name=""/>
            <p:cNvGrpSpPr/>
            <p:nvPr/>
          </p:nvGrpSpPr>
          <p:grpSpPr>
            <a:xfrm>
              <a:off x="2545200" y="3809880"/>
              <a:ext cx="1972800" cy="1969560"/>
              <a:chOff x="2545200" y="3809880"/>
              <a:chExt cx="1972800" cy="1969560"/>
            </a:xfrm>
          </p:grpSpPr>
          <p:sp>
            <p:nvSpPr>
              <p:cNvPr id="654" name=""/>
              <p:cNvSpPr/>
              <p:nvPr/>
            </p:nvSpPr>
            <p:spPr>
              <a:xfrm>
                <a:off x="2545200" y="4257360"/>
                <a:ext cx="1972800" cy="1424520"/>
              </a:xfrm>
              <a:custGeom>
                <a:avLst/>
                <a:gdLst/>
                <a:ahLst/>
                <a:rect l="l" t="t" r="r" b="b"/>
                <a:pathLst>
                  <a:path w="1356" h="962">
                    <a:moveTo>
                      <a:pt x="113" y="88"/>
                    </a:moveTo>
                    <a:lnTo>
                      <a:pt x="137" y="119"/>
                    </a:lnTo>
                    <a:lnTo>
                      <a:pt x="154" y="153"/>
                    </a:lnTo>
                    <a:lnTo>
                      <a:pt x="165" y="190"/>
                    </a:lnTo>
                    <a:lnTo>
                      <a:pt x="170" y="229"/>
                    </a:lnTo>
                    <a:lnTo>
                      <a:pt x="173" y="270"/>
                    </a:lnTo>
                    <a:lnTo>
                      <a:pt x="174" y="310"/>
                    </a:lnTo>
                    <a:lnTo>
                      <a:pt x="176" y="351"/>
                    </a:lnTo>
                    <a:lnTo>
                      <a:pt x="178" y="389"/>
                    </a:lnTo>
                    <a:lnTo>
                      <a:pt x="169" y="418"/>
                    </a:lnTo>
                    <a:lnTo>
                      <a:pt x="156" y="446"/>
                    </a:lnTo>
                    <a:lnTo>
                      <a:pt x="142" y="475"/>
                    </a:lnTo>
                    <a:lnTo>
                      <a:pt x="129" y="503"/>
                    </a:lnTo>
                    <a:lnTo>
                      <a:pt x="119" y="532"/>
                    </a:lnTo>
                    <a:lnTo>
                      <a:pt x="112" y="562"/>
                    </a:lnTo>
                    <a:lnTo>
                      <a:pt x="112" y="592"/>
                    </a:lnTo>
                    <a:lnTo>
                      <a:pt x="121" y="623"/>
                    </a:lnTo>
                    <a:lnTo>
                      <a:pt x="113" y="649"/>
                    </a:lnTo>
                    <a:lnTo>
                      <a:pt x="101" y="677"/>
                    </a:lnTo>
                    <a:lnTo>
                      <a:pt x="89" y="703"/>
                    </a:lnTo>
                    <a:lnTo>
                      <a:pt x="79" y="730"/>
                    </a:lnTo>
                    <a:lnTo>
                      <a:pt x="69" y="757"/>
                    </a:lnTo>
                    <a:lnTo>
                      <a:pt x="64" y="786"/>
                    </a:lnTo>
                    <a:lnTo>
                      <a:pt x="65" y="814"/>
                    </a:lnTo>
                    <a:lnTo>
                      <a:pt x="75" y="844"/>
                    </a:lnTo>
                    <a:lnTo>
                      <a:pt x="83" y="859"/>
                    </a:lnTo>
                    <a:lnTo>
                      <a:pt x="93" y="872"/>
                    </a:lnTo>
                    <a:lnTo>
                      <a:pt x="107" y="884"/>
                    </a:lnTo>
                    <a:lnTo>
                      <a:pt x="121" y="893"/>
                    </a:lnTo>
                    <a:lnTo>
                      <a:pt x="137" y="903"/>
                    </a:lnTo>
                    <a:lnTo>
                      <a:pt x="153" y="911"/>
                    </a:lnTo>
                    <a:lnTo>
                      <a:pt x="170" y="918"/>
                    </a:lnTo>
                    <a:lnTo>
                      <a:pt x="186" y="923"/>
                    </a:lnTo>
                    <a:lnTo>
                      <a:pt x="210" y="922"/>
                    </a:lnTo>
                    <a:lnTo>
                      <a:pt x="236" y="917"/>
                    </a:lnTo>
                    <a:lnTo>
                      <a:pt x="260" y="910"/>
                    </a:lnTo>
                    <a:lnTo>
                      <a:pt x="285" y="902"/>
                    </a:lnTo>
                    <a:lnTo>
                      <a:pt x="311" y="895"/>
                    </a:lnTo>
                    <a:lnTo>
                      <a:pt x="337" y="892"/>
                    </a:lnTo>
                    <a:lnTo>
                      <a:pt x="365" y="892"/>
                    </a:lnTo>
                    <a:lnTo>
                      <a:pt x="391" y="900"/>
                    </a:lnTo>
                    <a:lnTo>
                      <a:pt x="427" y="906"/>
                    </a:lnTo>
                    <a:lnTo>
                      <a:pt x="464" y="911"/>
                    </a:lnTo>
                    <a:lnTo>
                      <a:pt x="502" y="917"/>
                    </a:lnTo>
                    <a:lnTo>
                      <a:pt x="540" y="921"/>
                    </a:lnTo>
                    <a:lnTo>
                      <a:pt x="578" y="923"/>
                    </a:lnTo>
                    <a:lnTo>
                      <a:pt x="616" y="925"/>
                    </a:lnTo>
                    <a:lnTo>
                      <a:pt x="655" y="926"/>
                    </a:lnTo>
                    <a:lnTo>
                      <a:pt x="693" y="926"/>
                    </a:lnTo>
                    <a:lnTo>
                      <a:pt x="731" y="925"/>
                    </a:lnTo>
                    <a:lnTo>
                      <a:pt x="769" y="922"/>
                    </a:lnTo>
                    <a:lnTo>
                      <a:pt x="806" y="918"/>
                    </a:lnTo>
                    <a:lnTo>
                      <a:pt x="842" y="913"/>
                    </a:lnTo>
                    <a:lnTo>
                      <a:pt x="878" y="904"/>
                    </a:lnTo>
                    <a:lnTo>
                      <a:pt x="914" y="896"/>
                    </a:lnTo>
                    <a:lnTo>
                      <a:pt x="947" y="885"/>
                    </a:lnTo>
                    <a:lnTo>
                      <a:pt x="981" y="872"/>
                    </a:lnTo>
                    <a:lnTo>
                      <a:pt x="997" y="872"/>
                    </a:lnTo>
                    <a:lnTo>
                      <a:pt x="1013" y="870"/>
                    </a:lnTo>
                    <a:lnTo>
                      <a:pt x="1029" y="870"/>
                    </a:lnTo>
                    <a:lnTo>
                      <a:pt x="1044" y="869"/>
                    </a:lnTo>
                    <a:lnTo>
                      <a:pt x="1060" y="868"/>
                    </a:lnTo>
                    <a:lnTo>
                      <a:pt x="1076" y="866"/>
                    </a:lnTo>
                    <a:lnTo>
                      <a:pt x="1092" y="865"/>
                    </a:lnTo>
                    <a:lnTo>
                      <a:pt x="1108" y="863"/>
                    </a:lnTo>
                    <a:lnTo>
                      <a:pt x="1123" y="862"/>
                    </a:lnTo>
                    <a:lnTo>
                      <a:pt x="1139" y="861"/>
                    </a:lnTo>
                    <a:lnTo>
                      <a:pt x="1155" y="858"/>
                    </a:lnTo>
                    <a:lnTo>
                      <a:pt x="1170" y="855"/>
                    </a:lnTo>
                    <a:lnTo>
                      <a:pt x="1184" y="854"/>
                    </a:lnTo>
                    <a:lnTo>
                      <a:pt x="1200" y="851"/>
                    </a:lnTo>
                    <a:lnTo>
                      <a:pt x="1215" y="847"/>
                    </a:lnTo>
                    <a:lnTo>
                      <a:pt x="1229" y="844"/>
                    </a:lnTo>
                    <a:lnTo>
                      <a:pt x="1228" y="817"/>
                    </a:lnTo>
                    <a:lnTo>
                      <a:pt x="1220" y="791"/>
                    </a:lnTo>
                    <a:lnTo>
                      <a:pt x="1212" y="765"/>
                    </a:lnTo>
                    <a:lnTo>
                      <a:pt x="1209" y="737"/>
                    </a:lnTo>
                    <a:lnTo>
                      <a:pt x="1220" y="735"/>
                    </a:lnTo>
                    <a:lnTo>
                      <a:pt x="1228" y="738"/>
                    </a:lnTo>
                    <a:lnTo>
                      <a:pt x="1236" y="742"/>
                    </a:lnTo>
                    <a:lnTo>
                      <a:pt x="1243" y="749"/>
                    </a:lnTo>
                    <a:lnTo>
                      <a:pt x="1249" y="756"/>
                    </a:lnTo>
                    <a:lnTo>
                      <a:pt x="1257" y="760"/>
                    </a:lnTo>
                    <a:lnTo>
                      <a:pt x="1265" y="763"/>
                    </a:lnTo>
                    <a:lnTo>
                      <a:pt x="1276" y="761"/>
                    </a:lnTo>
                    <a:lnTo>
                      <a:pt x="1240" y="813"/>
                    </a:lnTo>
                    <a:lnTo>
                      <a:pt x="1251" y="823"/>
                    </a:lnTo>
                    <a:lnTo>
                      <a:pt x="1263" y="829"/>
                    </a:lnTo>
                    <a:lnTo>
                      <a:pt x="1276" y="833"/>
                    </a:lnTo>
                    <a:lnTo>
                      <a:pt x="1291" y="838"/>
                    </a:lnTo>
                    <a:lnTo>
                      <a:pt x="1304" y="843"/>
                    </a:lnTo>
                    <a:lnTo>
                      <a:pt x="1315" y="848"/>
                    </a:lnTo>
                    <a:lnTo>
                      <a:pt x="1324" y="858"/>
                    </a:lnTo>
                    <a:lnTo>
                      <a:pt x="1329" y="872"/>
                    </a:lnTo>
                    <a:lnTo>
                      <a:pt x="1353" y="872"/>
                    </a:lnTo>
                    <a:lnTo>
                      <a:pt x="1356" y="885"/>
                    </a:lnTo>
                    <a:lnTo>
                      <a:pt x="1353" y="895"/>
                    </a:lnTo>
                    <a:lnTo>
                      <a:pt x="1348" y="899"/>
                    </a:lnTo>
                    <a:lnTo>
                      <a:pt x="1339" y="902"/>
                    </a:lnTo>
                    <a:lnTo>
                      <a:pt x="1329" y="903"/>
                    </a:lnTo>
                    <a:lnTo>
                      <a:pt x="1319" y="904"/>
                    </a:lnTo>
                    <a:lnTo>
                      <a:pt x="1308" y="906"/>
                    </a:lnTo>
                    <a:lnTo>
                      <a:pt x="1299" y="908"/>
                    </a:lnTo>
                    <a:lnTo>
                      <a:pt x="1271" y="913"/>
                    </a:lnTo>
                    <a:lnTo>
                      <a:pt x="1243" y="914"/>
                    </a:lnTo>
                    <a:lnTo>
                      <a:pt x="1216" y="914"/>
                    </a:lnTo>
                    <a:lnTo>
                      <a:pt x="1191" y="914"/>
                    </a:lnTo>
                    <a:lnTo>
                      <a:pt x="1164" y="913"/>
                    </a:lnTo>
                    <a:lnTo>
                      <a:pt x="1140" y="910"/>
                    </a:lnTo>
                    <a:lnTo>
                      <a:pt x="1115" y="908"/>
                    </a:lnTo>
                    <a:lnTo>
                      <a:pt x="1091" y="906"/>
                    </a:lnTo>
                    <a:lnTo>
                      <a:pt x="1066" y="904"/>
                    </a:lnTo>
                    <a:lnTo>
                      <a:pt x="1042" y="903"/>
                    </a:lnTo>
                    <a:lnTo>
                      <a:pt x="1017" y="903"/>
                    </a:lnTo>
                    <a:lnTo>
                      <a:pt x="993" y="904"/>
                    </a:lnTo>
                    <a:lnTo>
                      <a:pt x="967" y="908"/>
                    </a:lnTo>
                    <a:lnTo>
                      <a:pt x="942" y="914"/>
                    </a:lnTo>
                    <a:lnTo>
                      <a:pt x="917" y="921"/>
                    </a:lnTo>
                    <a:lnTo>
                      <a:pt x="890" y="932"/>
                    </a:lnTo>
                    <a:lnTo>
                      <a:pt x="861" y="938"/>
                    </a:lnTo>
                    <a:lnTo>
                      <a:pt x="832" y="945"/>
                    </a:lnTo>
                    <a:lnTo>
                      <a:pt x="801" y="951"/>
                    </a:lnTo>
                    <a:lnTo>
                      <a:pt x="769" y="955"/>
                    </a:lnTo>
                    <a:lnTo>
                      <a:pt x="738" y="959"/>
                    </a:lnTo>
                    <a:lnTo>
                      <a:pt x="707" y="960"/>
                    </a:lnTo>
                    <a:lnTo>
                      <a:pt x="675" y="962"/>
                    </a:lnTo>
                    <a:lnTo>
                      <a:pt x="643" y="962"/>
                    </a:lnTo>
                    <a:lnTo>
                      <a:pt x="611" y="960"/>
                    </a:lnTo>
                    <a:lnTo>
                      <a:pt x="580" y="958"/>
                    </a:lnTo>
                    <a:lnTo>
                      <a:pt x="548" y="953"/>
                    </a:lnTo>
                    <a:lnTo>
                      <a:pt x="518" y="948"/>
                    </a:lnTo>
                    <a:lnTo>
                      <a:pt x="488" y="941"/>
                    </a:lnTo>
                    <a:lnTo>
                      <a:pt x="459" y="932"/>
                    </a:lnTo>
                    <a:lnTo>
                      <a:pt x="430" y="921"/>
                    </a:lnTo>
                    <a:lnTo>
                      <a:pt x="403" y="908"/>
                    </a:lnTo>
                    <a:lnTo>
                      <a:pt x="383" y="910"/>
                    </a:lnTo>
                    <a:lnTo>
                      <a:pt x="363" y="913"/>
                    </a:lnTo>
                    <a:lnTo>
                      <a:pt x="343" y="915"/>
                    </a:lnTo>
                    <a:lnTo>
                      <a:pt x="323" y="918"/>
                    </a:lnTo>
                    <a:lnTo>
                      <a:pt x="303" y="922"/>
                    </a:lnTo>
                    <a:lnTo>
                      <a:pt x="282" y="926"/>
                    </a:lnTo>
                    <a:lnTo>
                      <a:pt x="262" y="929"/>
                    </a:lnTo>
                    <a:lnTo>
                      <a:pt x="241" y="932"/>
                    </a:lnTo>
                    <a:lnTo>
                      <a:pt x="221" y="934"/>
                    </a:lnTo>
                    <a:lnTo>
                      <a:pt x="201" y="936"/>
                    </a:lnTo>
                    <a:lnTo>
                      <a:pt x="180" y="936"/>
                    </a:lnTo>
                    <a:lnTo>
                      <a:pt x="160" y="934"/>
                    </a:lnTo>
                    <a:lnTo>
                      <a:pt x="138" y="932"/>
                    </a:lnTo>
                    <a:lnTo>
                      <a:pt x="119" y="926"/>
                    </a:lnTo>
                    <a:lnTo>
                      <a:pt x="99" y="919"/>
                    </a:lnTo>
                    <a:lnTo>
                      <a:pt x="79" y="911"/>
                    </a:lnTo>
                    <a:lnTo>
                      <a:pt x="85" y="893"/>
                    </a:lnTo>
                    <a:lnTo>
                      <a:pt x="85" y="876"/>
                    </a:lnTo>
                    <a:lnTo>
                      <a:pt x="76" y="862"/>
                    </a:lnTo>
                    <a:lnTo>
                      <a:pt x="59" y="853"/>
                    </a:lnTo>
                    <a:lnTo>
                      <a:pt x="16" y="848"/>
                    </a:lnTo>
                    <a:lnTo>
                      <a:pt x="16" y="846"/>
                    </a:lnTo>
                    <a:lnTo>
                      <a:pt x="16" y="843"/>
                    </a:lnTo>
                    <a:lnTo>
                      <a:pt x="13" y="842"/>
                    </a:lnTo>
                    <a:lnTo>
                      <a:pt x="12" y="840"/>
                    </a:lnTo>
                    <a:lnTo>
                      <a:pt x="0" y="840"/>
                    </a:lnTo>
                    <a:lnTo>
                      <a:pt x="7" y="827"/>
                    </a:lnTo>
                    <a:lnTo>
                      <a:pt x="15" y="813"/>
                    </a:lnTo>
                    <a:lnTo>
                      <a:pt x="23" y="799"/>
                    </a:lnTo>
                    <a:lnTo>
                      <a:pt x="31" y="787"/>
                    </a:lnTo>
                    <a:lnTo>
                      <a:pt x="37" y="773"/>
                    </a:lnTo>
                    <a:lnTo>
                      <a:pt x="43" y="760"/>
                    </a:lnTo>
                    <a:lnTo>
                      <a:pt x="48" y="746"/>
                    </a:lnTo>
                    <a:lnTo>
                      <a:pt x="51" y="730"/>
                    </a:lnTo>
                    <a:lnTo>
                      <a:pt x="45" y="727"/>
                    </a:lnTo>
                    <a:lnTo>
                      <a:pt x="39" y="723"/>
                    </a:lnTo>
                    <a:lnTo>
                      <a:pt x="33" y="720"/>
                    </a:lnTo>
                    <a:lnTo>
                      <a:pt x="27" y="716"/>
                    </a:lnTo>
                    <a:lnTo>
                      <a:pt x="20" y="713"/>
                    </a:lnTo>
                    <a:lnTo>
                      <a:pt x="13" y="712"/>
                    </a:lnTo>
                    <a:lnTo>
                      <a:pt x="7" y="712"/>
                    </a:lnTo>
                    <a:lnTo>
                      <a:pt x="0" y="713"/>
                    </a:lnTo>
                    <a:lnTo>
                      <a:pt x="5" y="694"/>
                    </a:lnTo>
                    <a:lnTo>
                      <a:pt x="16" y="678"/>
                    </a:lnTo>
                    <a:lnTo>
                      <a:pt x="31" y="663"/>
                    </a:lnTo>
                    <a:lnTo>
                      <a:pt x="47" y="649"/>
                    </a:lnTo>
                    <a:lnTo>
                      <a:pt x="63" y="634"/>
                    </a:lnTo>
                    <a:lnTo>
                      <a:pt x="76" y="619"/>
                    </a:lnTo>
                    <a:lnTo>
                      <a:pt x="85" y="602"/>
                    </a:lnTo>
                    <a:lnTo>
                      <a:pt x="89" y="580"/>
                    </a:lnTo>
                    <a:lnTo>
                      <a:pt x="36" y="568"/>
                    </a:lnTo>
                    <a:lnTo>
                      <a:pt x="51" y="546"/>
                    </a:lnTo>
                    <a:lnTo>
                      <a:pt x="67" y="524"/>
                    </a:lnTo>
                    <a:lnTo>
                      <a:pt x="84" y="502"/>
                    </a:lnTo>
                    <a:lnTo>
                      <a:pt x="101" y="480"/>
                    </a:lnTo>
                    <a:lnTo>
                      <a:pt x="117" y="458"/>
                    </a:lnTo>
                    <a:lnTo>
                      <a:pt x="130" y="435"/>
                    </a:lnTo>
                    <a:lnTo>
                      <a:pt x="141" y="411"/>
                    </a:lnTo>
                    <a:lnTo>
                      <a:pt x="148" y="385"/>
                    </a:lnTo>
                    <a:lnTo>
                      <a:pt x="144" y="379"/>
                    </a:lnTo>
                    <a:lnTo>
                      <a:pt x="137" y="378"/>
                    </a:lnTo>
                    <a:lnTo>
                      <a:pt x="132" y="377"/>
                    </a:lnTo>
                    <a:lnTo>
                      <a:pt x="132" y="370"/>
                    </a:lnTo>
                    <a:lnTo>
                      <a:pt x="126" y="373"/>
                    </a:lnTo>
                    <a:lnTo>
                      <a:pt x="120" y="373"/>
                    </a:lnTo>
                    <a:lnTo>
                      <a:pt x="113" y="371"/>
                    </a:lnTo>
                    <a:lnTo>
                      <a:pt x="107" y="368"/>
                    </a:lnTo>
                    <a:lnTo>
                      <a:pt x="100" y="364"/>
                    </a:lnTo>
                    <a:lnTo>
                      <a:pt x="93" y="360"/>
                    </a:lnTo>
                    <a:lnTo>
                      <a:pt x="88" y="356"/>
                    </a:lnTo>
                    <a:lnTo>
                      <a:pt x="83" y="353"/>
                    </a:lnTo>
                    <a:lnTo>
                      <a:pt x="91" y="340"/>
                    </a:lnTo>
                    <a:lnTo>
                      <a:pt x="99" y="328"/>
                    </a:lnTo>
                    <a:lnTo>
                      <a:pt x="108" y="314"/>
                    </a:lnTo>
                    <a:lnTo>
                      <a:pt x="119" y="300"/>
                    </a:lnTo>
                    <a:lnTo>
                      <a:pt x="128" y="285"/>
                    </a:lnTo>
                    <a:lnTo>
                      <a:pt x="134" y="270"/>
                    </a:lnTo>
                    <a:lnTo>
                      <a:pt x="141" y="255"/>
                    </a:lnTo>
                    <a:lnTo>
                      <a:pt x="144" y="239"/>
                    </a:lnTo>
                    <a:lnTo>
                      <a:pt x="136" y="233"/>
                    </a:lnTo>
                    <a:lnTo>
                      <a:pt x="126" y="229"/>
                    </a:lnTo>
                    <a:lnTo>
                      <a:pt x="120" y="225"/>
                    </a:lnTo>
                    <a:lnTo>
                      <a:pt x="112" y="223"/>
                    </a:lnTo>
                    <a:lnTo>
                      <a:pt x="104" y="223"/>
                    </a:lnTo>
                    <a:lnTo>
                      <a:pt x="96" y="224"/>
                    </a:lnTo>
                    <a:lnTo>
                      <a:pt x="88" y="228"/>
                    </a:lnTo>
                    <a:lnTo>
                      <a:pt x="79" y="235"/>
                    </a:lnTo>
                    <a:lnTo>
                      <a:pt x="67" y="235"/>
                    </a:lnTo>
                    <a:lnTo>
                      <a:pt x="72" y="221"/>
                    </a:lnTo>
                    <a:lnTo>
                      <a:pt x="80" y="209"/>
                    </a:lnTo>
                    <a:lnTo>
                      <a:pt x="89" y="195"/>
                    </a:lnTo>
                    <a:lnTo>
                      <a:pt x="97" y="182"/>
                    </a:lnTo>
                    <a:lnTo>
                      <a:pt x="103" y="168"/>
                    </a:lnTo>
                    <a:lnTo>
                      <a:pt x="105" y="156"/>
                    </a:lnTo>
                    <a:lnTo>
                      <a:pt x="103" y="143"/>
                    </a:lnTo>
                    <a:lnTo>
                      <a:pt x="93" y="131"/>
                    </a:lnTo>
                    <a:lnTo>
                      <a:pt x="87" y="131"/>
                    </a:lnTo>
                    <a:lnTo>
                      <a:pt x="84" y="127"/>
                    </a:lnTo>
                    <a:lnTo>
                      <a:pt x="80" y="123"/>
                    </a:lnTo>
                    <a:lnTo>
                      <a:pt x="75" y="127"/>
                    </a:lnTo>
                    <a:lnTo>
                      <a:pt x="69" y="115"/>
                    </a:lnTo>
                    <a:lnTo>
                      <a:pt x="64" y="111"/>
                    </a:lnTo>
                    <a:lnTo>
                      <a:pt x="57" y="112"/>
                    </a:lnTo>
                    <a:lnTo>
                      <a:pt x="49" y="118"/>
                    </a:lnTo>
                    <a:lnTo>
                      <a:pt x="41" y="123"/>
                    </a:lnTo>
                    <a:lnTo>
                      <a:pt x="35" y="124"/>
                    </a:lnTo>
                    <a:lnTo>
                      <a:pt x="29" y="120"/>
                    </a:lnTo>
                    <a:lnTo>
                      <a:pt x="24" y="108"/>
                    </a:lnTo>
                    <a:lnTo>
                      <a:pt x="35" y="94"/>
                    </a:lnTo>
                    <a:lnTo>
                      <a:pt x="43" y="79"/>
                    </a:lnTo>
                    <a:lnTo>
                      <a:pt x="49" y="62"/>
                    </a:lnTo>
                    <a:lnTo>
                      <a:pt x="55" y="45"/>
                    </a:lnTo>
                    <a:lnTo>
                      <a:pt x="60" y="29"/>
                    </a:lnTo>
                    <a:lnTo>
                      <a:pt x="68" y="15"/>
                    </a:lnTo>
                    <a:lnTo>
                      <a:pt x="80" y="6"/>
                    </a:lnTo>
                    <a:lnTo>
                      <a:pt x="97" y="0"/>
                    </a:lnTo>
                    <a:lnTo>
                      <a:pt x="104" y="21"/>
                    </a:lnTo>
                    <a:lnTo>
                      <a:pt x="107" y="44"/>
                    </a:lnTo>
                    <a:lnTo>
                      <a:pt x="109" y="66"/>
                    </a:lnTo>
                    <a:lnTo>
                      <a:pt x="113" y="88"/>
                    </a:lnTo>
                    <a:close/>
                  </a:path>
                </a:pathLst>
              </a:custGeom>
              <a:solidFill>
                <a:srgbClr val="e5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660840" y="3809880"/>
                <a:ext cx="856800" cy="1969560"/>
              </a:xfrm>
              <a:custGeom>
                <a:avLst/>
                <a:gdLst/>
                <a:ahLst/>
                <a:rect l="l" t="t" r="r" b="b"/>
                <a:pathLst>
                  <a:path w="573" h="1027">
                    <a:moveTo>
                      <a:pt x="330" y="468"/>
                    </a:moveTo>
                    <a:lnTo>
                      <a:pt x="351" y="495"/>
                    </a:lnTo>
                    <a:lnTo>
                      <a:pt x="373" y="523"/>
                    </a:lnTo>
                    <a:lnTo>
                      <a:pt x="394" y="550"/>
                    </a:lnTo>
                    <a:lnTo>
                      <a:pt x="414" y="579"/>
                    </a:lnTo>
                    <a:lnTo>
                      <a:pt x="434" y="607"/>
                    </a:lnTo>
                    <a:lnTo>
                      <a:pt x="452" y="636"/>
                    </a:lnTo>
                    <a:lnTo>
                      <a:pt x="471" y="666"/>
                    </a:lnTo>
                    <a:lnTo>
                      <a:pt x="488" y="696"/>
                    </a:lnTo>
                    <a:lnTo>
                      <a:pt x="504" y="726"/>
                    </a:lnTo>
                    <a:lnTo>
                      <a:pt x="519" y="757"/>
                    </a:lnTo>
                    <a:lnTo>
                      <a:pt x="532" y="790"/>
                    </a:lnTo>
                    <a:lnTo>
                      <a:pt x="544" y="821"/>
                    </a:lnTo>
                    <a:lnTo>
                      <a:pt x="554" y="855"/>
                    </a:lnTo>
                    <a:lnTo>
                      <a:pt x="563" y="890"/>
                    </a:lnTo>
                    <a:lnTo>
                      <a:pt x="569" y="924"/>
                    </a:lnTo>
                    <a:lnTo>
                      <a:pt x="573" y="959"/>
                    </a:lnTo>
                    <a:lnTo>
                      <a:pt x="550" y="963"/>
                    </a:lnTo>
                    <a:lnTo>
                      <a:pt x="526" y="966"/>
                    </a:lnTo>
                    <a:lnTo>
                      <a:pt x="500" y="970"/>
                    </a:lnTo>
                    <a:lnTo>
                      <a:pt x="475" y="971"/>
                    </a:lnTo>
                    <a:lnTo>
                      <a:pt x="450" y="974"/>
                    </a:lnTo>
                    <a:lnTo>
                      <a:pt x="424" y="977"/>
                    </a:lnTo>
                    <a:lnTo>
                      <a:pt x="398" y="980"/>
                    </a:lnTo>
                    <a:lnTo>
                      <a:pt x="373" y="982"/>
                    </a:lnTo>
                    <a:lnTo>
                      <a:pt x="346" y="985"/>
                    </a:lnTo>
                    <a:lnTo>
                      <a:pt x="321" y="989"/>
                    </a:lnTo>
                    <a:lnTo>
                      <a:pt x="295" y="993"/>
                    </a:lnTo>
                    <a:lnTo>
                      <a:pt x="270" y="997"/>
                    </a:lnTo>
                    <a:lnTo>
                      <a:pt x="245" y="1003"/>
                    </a:lnTo>
                    <a:lnTo>
                      <a:pt x="220" y="1010"/>
                    </a:lnTo>
                    <a:lnTo>
                      <a:pt x="197" y="1018"/>
                    </a:lnTo>
                    <a:lnTo>
                      <a:pt x="173" y="1027"/>
                    </a:lnTo>
                    <a:lnTo>
                      <a:pt x="145" y="1027"/>
                    </a:lnTo>
                    <a:lnTo>
                      <a:pt x="137" y="984"/>
                    </a:lnTo>
                    <a:lnTo>
                      <a:pt x="173" y="971"/>
                    </a:lnTo>
                    <a:lnTo>
                      <a:pt x="176" y="985"/>
                    </a:lnTo>
                    <a:lnTo>
                      <a:pt x="186" y="995"/>
                    </a:lnTo>
                    <a:lnTo>
                      <a:pt x="198" y="1000"/>
                    </a:lnTo>
                    <a:lnTo>
                      <a:pt x="208" y="1007"/>
                    </a:lnTo>
                    <a:lnTo>
                      <a:pt x="273" y="995"/>
                    </a:lnTo>
                    <a:lnTo>
                      <a:pt x="262" y="959"/>
                    </a:lnTo>
                    <a:lnTo>
                      <a:pt x="307" y="936"/>
                    </a:lnTo>
                    <a:lnTo>
                      <a:pt x="307" y="948"/>
                    </a:lnTo>
                    <a:lnTo>
                      <a:pt x="311" y="959"/>
                    </a:lnTo>
                    <a:lnTo>
                      <a:pt x="317" y="969"/>
                    </a:lnTo>
                    <a:lnTo>
                      <a:pt x="323" y="980"/>
                    </a:lnTo>
                    <a:lnTo>
                      <a:pt x="338" y="975"/>
                    </a:lnTo>
                    <a:lnTo>
                      <a:pt x="353" y="970"/>
                    </a:lnTo>
                    <a:lnTo>
                      <a:pt x="367" y="965"/>
                    </a:lnTo>
                    <a:lnTo>
                      <a:pt x="381" y="958"/>
                    </a:lnTo>
                    <a:lnTo>
                      <a:pt x="394" y="950"/>
                    </a:lnTo>
                    <a:lnTo>
                      <a:pt x="409" y="941"/>
                    </a:lnTo>
                    <a:lnTo>
                      <a:pt x="422" y="933"/>
                    </a:lnTo>
                    <a:lnTo>
                      <a:pt x="435" y="924"/>
                    </a:lnTo>
                    <a:lnTo>
                      <a:pt x="431" y="911"/>
                    </a:lnTo>
                    <a:lnTo>
                      <a:pt x="424" y="903"/>
                    </a:lnTo>
                    <a:lnTo>
                      <a:pt x="414" y="895"/>
                    </a:lnTo>
                    <a:lnTo>
                      <a:pt x="405" y="890"/>
                    </a:lnTo>
                    <a:lnTo>
                      <a:pt x="398" y="883"/>
                    </a:lnTo>
                    <a:lnTo>
                      <a:pt x="394" y="876"/>
                    </a:lnTo>
                    <a:lnTo>
                      <a:pt x="398" y="868"/>
                    </a:lnTo>
                    <a:lnTo>
                      <a:pt x="411" y="857"/>
                    </a:lnTo>
                    <a:lnTo>
                      <a:pt x="419" y="857"/>
                    </a:lnTo>
                    <a:lnTo>
                      <a:pt x="416" y="861"/>
                    </a:lnTo>
                    <a:lnTo>
                      <a:pt x="418" y="866"/>
                    </a:lnTo>
                    <a:lnTo>
                      <a:pt x="422" y="870"/>
                    </a:lnTo>
                    <a:lnTo>
                      <a:pt x="427" y="872"/>
                    </a:lnTo>
                    <a:lnTo>
                      <a:pt x="442" y="872"/>
                    </a:lnTo>
                    <a:lnTo>
                      <a:pt x="442" y="879"/>
                    </a:lnTo>
                    <a:lnTo>
                      <a:pt x="442" y="890"/>
                    </a:lnTo>
                    <a:lnTo>
                      <a:pt x="444" y="899"/>
                    </a:lnTo>
                    <a:lnTo>
                      <a:pt x="454" y="905"/>
                    </a:lnTo>
                    <a:lnTo>
                      <a:pt x="508" y="888"/>
                    </a:lnTo>
                    <a:lnTo>
                      <a:pt x="512" y="864"/>
                    </a:lnTo>
                    <a:lnTo>
                      <a:pt x="514" y="839"/>
                    </a:lnTo>
                    <a:lnTo>
                      <a:pt x="511" y="815"/>
                    </a:lnTo>
                    <a:lnTo>
                      <a:pt x="504" y="793"/>
                    </a:lnTo>
                    <a:lnTo>
                      <a:pt x="484" y="802"/>
                    </a:lnTo>
                    <a:lnTo>
                      <a:pt x="466" y="804"/>
                    </a:lnTo>
                    <a:lnTo>
                      <a:pt x="450" y="798"/>
                    </a:lnTo>
                    <a:lnTo>
                      <a:pt x="435" y="789"/>
                    </a:lnTo>
                    <a:lnTo>
                      <a:pt x="422" y="776"/>
                    </a:lnTo>
                    <a:lnTo>
                      <a:pt x="409" y="763"/>
                    </a:lnTo>
                    <a:lnTo>
                      <a:pt x="395" y="750"/>
                    </a:lnTo>
                    <a:lnTo>
                      <a:pt x="381" y="742"/>
                    </a:lnTo>
                    <a:lnTo>
                      <a:pt x="395" y="727"/>
                    </a:lnTo>
                    <a:lnTo>
                      <a:pt x="403" y="733"/>
                    </a:lnTo>
                    <a:lnTo>
                      <a:pt x="411" y="740"/>
                    </a:lnTo>
                    <a:lnTo>
                      <a:pt x="419" y="746"/>
                    </a:lnTo>
                    <a:lnTo>
                      <a:pt x="428" y="753"/>
                    </a:lnTo>
                    <a:lnTo>
                      <a:pt x="438" y="757"/>
                    </a:lnTo>
                    <a:lnTo>
                      <a:pt x="447" y="759"/>
                    </a:lnTo>
                    <a:lnTo>
                      <a:pt x="456" y="756"/>
                    </a:lnTo>
                    <a:lnTo>
                      <a:pt x="466" y="746"/>
                    </a:lnTo>
                    <a:lnTo>
                      <a:pt x="470" y="726"/>
                    </a:lnTo>
                    <a:lnTo>
                      <a:pt x="464" y="705"/>
                    </a:lnTo>
                    <a:lnTo>
                      <a:pt x="454" y="686"/>
                    </a:lnTo>
                    <a:lnTo>
                      <a:pt x="442" y="667"/>
                    </a:lnTo>
                    <a:lnTo>
                      <a:pt x="434" y="658"/>
                    </a:lnTo>
                    <a:lnTo>
                      <a:pt x="424" y="654"/>
                    </a:lnTo>
                    <a:lnTo>
                      <a:pt x="411" y="651"/>
                    </a:lnTo>
                    <a:lnTo>
                      <a:pt x="398" y="650"/>
                    </a:lnTo>
                    <a:lnTo>
                      <a:pt x="385" y="648"/>
                    </a:lnTo>
                    <a:lnTo>
                      <a:pt x="371" y="647"/>
                    </a:lnTo>
                    <a:lnTo>
                      <a:pt x="359" y="643"/>
                    </a:lnTo>
                    <a:lnTo>
                      <a:pt x="349" y="636"/>
                    </a:lnTo>
                    <a:lnTo>
                      <a:pt x="343" y="633"/>
                    </a:lnTo>
                    <a:lnTo>
                      <a:pt x="337" y="635"/>
                    </a:lnTo>
                    <a:lnTo>
                      <a:pt x="331" y="637"/>
                    </a:lnTo>
                    <a:lnTo>
                      <a:pt x="326" y="640"/>
                    </a:lnTo>
                    <a:lnTo>
                      <a:pt x="319" y="643"/>
                    </a:lnTo>
                    <a:lnTo>
                      <a:pt x="314" y="644"/>
                    </a:lnTo>
                    <a:lnTo>
                      <a:pt x="307" y="644"/>
                    </a:lnTo>
                    <a:lnTo>
                      <a:pt x="301" y="640"/>
                    </a:lnTo>
                    <a:lnTo>
                      <a:pt x="287" y="625"/>
                    </a:lnTo>
                    <a:lnTo>
                      <a:pt x="278" y="606"/>
                    </a:lnTo>
                    <a:lnTo>
                      <a:pt x="271" y="587"/>
                    </a:lnTo>
                    <a:lnTo>
                      <a:pt x="262" y="568"/>
                    </a:lnTo>
                    <a:lnTo>
                      <a:pt x="278" y="554"/>
                    </a:lnTo>
                    <a:lnTo>
                      <a:pt x="291" y="554"/>
                    </a:lnTo>
                    <a:lnTo>
                      <a:pt x="305" y="562"/>
                    </a:lnTo>
                    <a:lnTo>
                      <a:pt x="315" y="576"/>
                    </a:lnTo>
                    <a:lnTo>
                      <a:pt x="327" y="588"/>
                    </a:lnTo>
                    <a:lnTo>
                      <a:pt x="341" y="598"/>
                    </a:lnTo>
                    <a:lnTo>
                      <a:pt x="355" y="599"/>
                    </a:lnTo>
                    <a:lnTo>
                      <a:pt x="373" y="588"/>
                    </a:lnTo>
                    <a:lnTo>
                      <a:pt x="367" y="572"/>
                    </a:lnTo>
                    <a:lnTo>
                      <a:pt x="363" y="554"/>
                    </a:lnTo>
                    <a:lnTo>
                      <a:pt x="358" y="536"/>
                    </a:lnTo>
                    <a:lnTo>
                      <a:pt x="351" y="519"/>
                    </a:lnTo>
                    <a:lnTo>
                      <a:pt x="345" y="502"/>
                    </a:lnTo>
                    <a:lnTo>
                      <a:pt x="335" y="486"/>
                    </a:lnTo>
                    <a:lnTo>
                      <a:pt x="325" y="472"/>
                    </a:lnTo>
                    <a:lnTo>
                      <a:pt x="311" y="461"/>
                    </a:lnTo>
                    <a:lnTo>
                      <a:pt x="293" y="465"/>
                    </a:lnTo>
                    <a:lnTo>
                      <a:pt x="273" y="470"/>
                    </a:lnTo>
                    <a:lnTo>
                      <a:pt x="252" y="474"/>
                    </a:lnTo>
                    <a:lnTo>
                      <a:pt x="232" y="476"/>
                    </a:lnTo>
                    <a:lnTo>
                      <a:pt x="213" y="474"/>
                    </a:lnTo>
                    <a:lnTo>
                      <a:pt x="197" y="465"/>
                    </a:lnTo>
                    <a:lnTo>
                      <a:pt x="185" y="450"/>
                    </a:lnTo>
                    <a:lnTo>
                      <a:pt x="177" y="425"/>
                    </a:lnTo>
                    <a:lnTo>
                      <a:pt x="174" y="420"/>
                    </a:lnTo>
                    <a:lnTo>
                      <a:pt x="174" y="415"/>
                    </a:lnTo>
                    <a:lnTo>
                      <a:pt x="176" y="410"/>
                    </a:lnTo>
                    <a:lnTo>
                      <a:pt x="180" y="405"/>
                    </a:lnTo>
                    <a:lnTo>
                      <a:pt x="186" y="419"/>
                    </a:lnTo>
                    <a:lnTo>
                      <a:pt x="194" y="427"/>
                    </a:lnTo>
                    <a:lnTo>
                      <a:pt x="204" y="431"/>
                    </a:lnTo>
                    <a:lnTo>
                      <a:pt x="213" y="431"/>
                    </a:lnTo>
                    <a:lnTo>
                      <a:pt x="225" y="430"/>
                    </a:lnTo>
                    <a:lnTo>
                      <a:pt x="237" y="427"/>
                    </a:lnTo>
                    <a:lnTo>
                      <a:pt x="249" y="425"/>
                    </a:lnTo>
                    <a:lnTo>
                      <a:pt x="262" y="422"/>
                    </a:lnTo>
                    <a:lnTo>
                      <a:pt x="266" y="422"/>
                    </a:lnTo>
                    <a:lnTo>
                      <a:pt x="267" y="419"/>
                    </a:lnTo>
                    <a:lnTo>
                      <a:pt x="270" y="416"/>
                    </a:lnTo>
                    <a:lnTo>
                      <a:pt x="273" y="414"/>
                    </a:lnTo>
                    <a:lnTo>
                      <a:pt x="208" y="298"/>
                    </a:lnTo>
                    <a:lnTo>
                      <a:pt x="196" y="296"/>
                    </a:lnTo>
                    <a:lnTo>
                      <a:pt x="186" y="298"/>
                    </a:lnTo>
                    <a:lnTo>
                      <a:pt x="177" y="302"/>
                    </a:lnTo>
                    <a:lnTo>
                      <a:pt x="168" y="307"/>
                    </a:lnTo>
                    <a:lnTo>
                      <a:pt x="160" y="314"/>
                    </a:lnTo>
                    <a:lnTo>
                      <a:pt x="150" y="321"/>
                    </a:lnTo>
                    <a:lnTo>
                      <a:pt x="142" y="328"/>
                    </a:lnTo>
                    <a:lnTo>
                      <a:pt x="134" y="335"/>
                    </a:lnTo>
                    <a:lnTo>
                      <a:pt x="126" y="328"/>
                    </a:lnTo>
                    <a:lnTo>
                      <a:pt x="118" y="320"/>
                    </a:lnTo>
                    <a:lnTo>
                      <a:pt x="109" y="313"/>
                    </a:lnTo>
                    <a:lnTo>
                      <a:pt x="100" y="305"/>
                    </a:lnTo>
                    <a:lnTo>
                      <a:pt x="92" y="298"/>
                    </a:lnTo>
                    <a:lnTo>
                      <a:pt x="84" y="288"/>
                    </a:lnTo>
                    <a:lnTo>
                      <a:pt x="77" y="280"/>
                    </a:lnTo>
                    <a:lnTo>
                      <a:pt x="73" y="270"/>
                    </a:lnTo>
                    <a:lnTo>
                      <a:pt x="81" y="268"/>
                    </a:lnTo>
                    <a:lnTo>
                      <a:pt x="89" y="269"/>
                    </a:lnTo>
                    <a:lnTo>
                      <a:pt x="99" y="270"/>
                    </a:lnTo>
                    <a:lnTo>
                      <a:pt x="108" y="272"/>
                    </a:lnTo>
                    <a:lnTo>
                      <a:pt x="116" y="275"/>
                    </a:lnTo>
                    <a:lnTo>
                      <a:pt x="125" y="275"/>
                    </a:lnTo>
                    <a:lnTo>
                      <a:pt x="133" y="272"/>
                    </a:lnTo>
                    <a:lnTo>
                      <a:pt x="141" y="266"/>
                    </a:lnTo>
                    <a:lnTo>
                      <a:pt x="137" y="251"/>
                    </a:lnTo>
                    <a:lnTo>
                      <a:pt x="136" y="234"/>
                    </a:lnTo>
                    <a:lnTo>
                      <a:pt x="134" y="217"/>
                    </a:lnTo>
                    <a:lnTo>
                      <a:pt x="134" y="204"/>
                    </a:lnTo>
                    <a:lnTo>
                      <a:pt x="124" y="197"/>
                    </a:lnTo>
                    <a:lnTo>
                      <a:pt x="112" y="194"/>
                    </a:lnTo>
                    <a:lnTo>
                      <a:pt x="100" y="191"/>
                    </a:lnTo>
                    <a:lnTo>
                      <a:pt x="87" y="189"/>
                    </a:lnTo>
                    <a:lnTo>
                      <a:pt x="75" y="187"/>
                    </a:lnTo>
                    <a:lnTo>
                      <a:pt x="64" y="183"/>
                    </a:lnTo>
                    <a:lnTo>
                      <a:pt x="55" y="176"/>
                    </a:lnTo>
                    <a:lnTo>
                      <a:pt x="47" y="167"/>
                    </a:lnTo>
                    <a:lnTo>
                      <a:pt x="55" y="157"/>
                    </a:lnTo>
                    <a:lnTo>
                      <a:pt x="64" y="150"/>
                    </a:lnTo>
                    <a:lnTo>
                      <a:pt x="75" y="144"/>
                    </a:lnTo>
                    <a:lnTo>
                      <a:pt x="84" y="137"/>
                    </a:lnTo>
                    <a:lnTo>
                      <a:pt x="92" y="129"/>
                    </a:lnTo>
                    <a:lnTo>
                      <a:pt x="96" y="120"/>
                    </a:lnTo>
                    <a:lnTo>
                      <a:pt x="95" y="110"/>
                    </a:lnTo>
                    <a:lnTo>
                      <a:pt x="88" y="96"/>
                    </a:lnTo>
                    <a:lnTo>
                      <a:pt x="79" y="89"/>
                    </a:lnTo>
                    <a:lnTo>
                      <a:pt x="71" y="85"/>
                    </a:lnTo>
                    <a:lnTo>
                      <a:pt x="61" y="84"/>
                    </a:lnTo>
                    <a:lnTo>
                      <a:pt x="52" y="85"/>
                    </a:lnTo>
                    <a:lnTo>
                      <a:pt x="43" y="86"/>
                    </a:lnTo>
                    <a:lnTo>
                      <a:pt x="32" y="89"/>
                    </a:lnTo>
                    <a:lnTo>
                      <a:pt x="21" y="90"/>
                    </a:lnTo>
                    <a:lnTo>
                      <a:pt x="11" y="92"/>
                    </a:lnTo>
                    <a:lnTo>
                      <a:pt x="11" y="88"/>
                    </a:lnTo>
                    <a:lnTo>
                      <a:pt x="11" y="82"/>
                    </a:lnTo>
                    <a:lnTo>
                      <a:pt x="11" y="78"/>
                    </a:lnTo>
                    <a:lnTo>
                      <a:pt x="8" y="75"/>
                    </a:lnTo>
                    <a:lnTo>
                      <a:pt x="0" y="75"/>
                    </a:lnTo>
                    <a:lnTo>
                      <a:pt x="27" y="48"/>
                    </a:lnTo>
                    <a:lnTo>
                      <a:pt x="27" y="52"/>
                    </a:lnTo>
                    <a:lnTo>
                      <a:pt x="29" y="55"/>
                    </a:lnTo>
                    <a:lnTo>
                      <a:pt x="32" y="58"/>
                    </a:lnTo>
                    <a:lnTo>
                      <a:pt x="35" y="60"/>
                    </a:lnTo>
                    <a:lnTo>
                      <a:pt x="41" y="60"/>
                    </a:lnTo>
                    <a:lnTo>
                      <a:pt x="47" y="58"/>
                    </a:lnTo>
                    <a:lnTo>
                      <a:pt x="49" y="52"/>
                    </a:lnTo>
                    <a:lnTo>
                      <a:pt x="53" y="48"/>
                    </a:lnTo>
                    <a:lnTo>
                      <a:pt x="64" y="55"/>
                    </a:lnTo>
                    <a:lnTo>
                      <a:pt x="75" y="63"/>
                    </a:lnTo>
                    <a:lnTo>
                      <a:pt x="87" y="69"/>
                    </a:lnTo>
                    <a:lnTo>
                      <a:pt x="99" y="73"/>
                    </a:lnTo>
                    <a:lnTo>
                      <a:pt x="110" y="73"/>
                    </a:lnTo>
                    <a:lnTo>
                      <a:pt x="120" y="70"/>
                    </a:lnTo>
                    <a:lnTo>
                      <a:pt x="129" y="62"/>
                    </a:lnTo>
                    <a:lnTo>
                      <a:pt x="137" y="48"/>
                    </a:lnTo>
                    <a:lnTo>
                      <a:pt x="173" y="0"/>
                    </a:lnTo>
                    <a:lnTo>
                      <a:pt x="164" y="36"/>
                    </a:lnTo>
                    <a:lnTo>
                      <a:pt x="160" y="70"/>
                    </a:lnTo>
                    <a:lnTo>
                      <a:pt x="160" y="103"/>
                    </a:lnTo>
                    <a:lnTo>
                      <a:pt x="165" y="133"/>
                    </a:lnTo>
                    <a:lnTo>
                      <a:pt x="173" y="163"/>
                    </a:lnTo>
                    <a:lnTo>
                      <a:pt x="185" y="190"/>
                    </a:lnTo>
                    <a:lnTo>
                      <a:pt x="198" y="219"/>
                    </a:lnTo>
                    <a:lnTo>
                      <a:pt x="214" y="245"/>
                    </a:lnTo>
                    <a:lnTo>
                      <a:pt x="230" y="272"/>
                    </a:lnTo>
                    <a:lnTo>
                      <a:pt x="248" y="298"/>
                    </a:lnTo>
                    <a:lnTo>
                      <a:pt x="265" y="325"/>
                    </a:lnTo>
                    <a:lnTo>
                      <a:pt x="282" y="352"/>
                    </a:lnTo>
                    <a:lnTo>
                      <a:pt x="298" y="380"/>
                    </a:lnTo>
                    <a:lnTo>
                      <a:pt x="311" y="408"/>
                    </a:lnTo>
                    <a:lnTo>
                      <a:pt x="322" y="437"/>
                    </a:lnTo>
                    <a:lnTo>
                      <a:pt x="330" y="468"/>
                    </a:ln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flipV="1">
                <a:off x="3186360" y="4735800"/>
                <a:ext cx="281880" cy="3009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flipV="1">
                <a:off x="3191760" y="5094000"/>
                <a:ext cx="281520" cy="30096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8" name=""/>
          <p:cNvGrpSpPr/>
          <p:nvPr/>
        </p:nvGrpSpPr>
        <p:grpSpPr>
          <a:xfrm>
            <a:off x="6819840" y="1447920"/>
            <a:ext cx="2324160" cy="2890440"/>
            <a:chOff x="6819840" y="1447920"/>
            <a:chExt cx="2324160" cy="2890440"/>
          </a:xfrm>
        </p:grpSpPr>
        <p:sp>
          <p:nvSpPr>
            <p:cNvPr id="659" name=""/>
            <p:cNvSpPr/>
            <p:nvPr/>
          </p:nvSpPr>
          <p:spPr>
            <a:xfrm>
              <a:off x="6819840" y="1447920"/>
              <a:ext cx="2324160" cy="2852640"/>
            </a:xfrm>
            <a:custGeom>
              <a:avLst/>
              <a:gdLst/>
              <a:ahLst/>
              <a:rect l="l" t="t" r="r" b="b"/>
              <a:pathLst>
                <a:path w="3660" h="4492">
                  <a:moveTo>
                    <a:pt x="3645" y="0"/>
                  </a:moveTo>
                  <a:lnTo>
                    <a:pt x="3660" y="555"/>
                  </a:lnTo>
                  <a:lnTo>
                    <a:pt x="3638" y="1012"/>
                  </a:lnTo>
                  <a:lnTo>
                    <a:pt x="3615" y="1500"/>
                  </a:lnTo>
                  <a:lnTo>
                    <a:pt x="3615" y="2017"/>
                  </a:lnTo>
                  <a:lnTo>
                    <a:pt x="3600" y="2437"/>
                  </a:lnTo>
                  <a:lnTo>
                    <a:pt x="3608" y="2797"/>
                  </a:lnTo>
                  <a:lnTo>
                    <a:pt x="3615" y="3172"/>
                  </a:lnTo>
                  <a:lnTo>
                    <a:pt x="3630" y="3472"/>
                  </a:lnTo>
                  <a:lnTo>
                    <a:pt x="3638" y="3787"/>
                  </a:lnTo>
                  <a:lnTo>
                    <a:pt x="3632" y="4122"/>
                  </a:lnTo>
                  <a:lnTo>
                    <a:pt x="3630" y="4492"/>
                  </a:lnTo>
                  <a:lnTo>
                    <a:pt x="3593" y="4492"/>
                  </a:lnTo>
                  <a:lnTo>
                    <a:pt x="3488" y="4477"/>
                  </a:lnTo>
                  <a:lnTo>
                    <a:pt x="3360" y="4492"/>
                  </a:lnTo>
                  <a:lnTo>
                    <a:pt x="45" y="4447"/>
                  </a:lnTo>
                  <a:lnTo>
                    <a:pt x="45" y="3682"/>
                  </a:lnTo>
                  <a:lnTo>
                    <a:pt x="30" y="3547"/>
                  </a:lnTo>
                  <a:lnTo>
                    <a:pt x="15" y="3367"/>
                  </a:lnTo>
                  <a:lnTo>
                    <a:pt x="15" y="3187"/>
                  </a:lnTo>
                  <a:lnTo>
                    <a:pt x="15" y="3052"/>
                  </a:lnTo>
                  <a:lnTo>
                    <a:pt x="0" y="2512"/>
                  </a:lnTo>
                  <a:lnTo>
                    <a:pt x="684" y="2434"/>
                  </a:lnTo>
                  <a:lnTo>
                    <a:pt x="656" y="2403"/>
                  </a:lnTo>
                  <a:lnTo>
                    <a:pt x="624" y="2372"/>
                  </a:lnTo>
                  <a:lnTo>
                    <a:pt x="601" y="2345"/>
                  </a:lnTo>
                  <a:lnTo>
                    <a:pt x="577" y="2318"/>
                  </a:lnTo>
                  <a:lnTo>
                    <a:pt x="557" y="2291"/>
                  </a:lnTo>
                  <a:lnTo>
                    <a:pt x="541" y="2260"/>
                  </a:lnTo>
                  <a:lnTo>
                    <a:pt x="533" y="2225"/>
                  </a:lnTo>
                  <a:lnTo>
                    <a:pt x="529" y="2182"/>
                  </a:lnTo>
                  <a:lnTo>
                    <a:pt x="537" y="2147"/>
                  </a:lnTo>
                  <a:lnTo>
                    <a:pt x="553" y="2116"/>
                  </a:lnTo>
                  <a:lnTo>
                    <a:pt x="581" y="2097"/>
                  </a:lnTo>
                  <a:lnTo>
                    <a:pt x="617" y="2078"/>
                  </a:lnTo>
                  <a:lnTo>
                    <a:pt x="652" y="2070"/>
                  </a:lnTo>
                  <a:lnTo>
                    <a:pt x="696" y="2062"/>
                  </a:lnTo>
                  <a:lnTo>
                    <a:pt x="739" y="2058"/>
                  </a:lnTo>
                  <a:lnTo>
                    <a:pt x="783" y="2058"/>
                  </a:lnTo>
                  <a:lnTo>
                    <a:pt x="834" y="2058"/>
                  </a:lnTo>
                  <a:lnTo>
                    <a:pt x="882" y="2058"/>
                  </a:lnTo>
                  <a:lnTo>
                    <a:pt x="925" y="2054"/>
                  </a:lnTo>
                  <a:lnTo>
                    <a:pt x="969" y="2050"/>
                  </a:lnTo>
                  <a:lnTo>
                    <a:pt x="1012" y="2050"/>
                  </a:lnTo>
                  <a:lnTo>
                    <a:pt x="1052" y="2047"/>
                  </a:lnTo>
                  <a:lnTo>
                    <a:pt x="1095" y="2043"/>
                  </a:lnTo>
                  <a:lnTo>
                    <a:pt x="1135" y="2039"/>
                  </a:lnTo>
                  <a:lnTo>
                    <a:pt x="1175" y="2035"/>
                  </a:lnTo>
                  <a:lnTo>
                    <a:pt x="1214" y="2031"/>
                  </a:lnTo>
                  <a:lnTo>
                    <a:pt x="1258" y="2027"/>
                  </a:lnTo>
                  <a:lnTo>
                    <a:pt x="1301" y="2027"/>
                  </a:lnTo>
                  <a:lnTo>
                    <a:pt x="1345" y="2023"/>
                  </a:lnTo>
                  <a:lnTo>
                    <a:pt x="1392" y="2019"/>
                  </a:lnTo>
                  <a:lnTo>
                    <a:pt x="1440" y="2019"/>
                  </a:lnTo>
                  <a:lnTo>
                    <a:pt x="1491" y="2019"/>
                  </a:lnTo>
                  <a:lnTo>
                    <a:pt x="3205" y="2019"/>
                  </a:lnTo>
                  <a:lnTo>
                    <a:pt x="3205" y="286"/>
                  </a:lnTo>
                  <a:lnTo>
                    <a:pt x="3300" y="3"/>
                  </a:lnTo>
                  <a:lnTo>
                    <a:pt x="3645" y="0"/>
                  </a:lnTo>
                  <a:close/>
                </a:path>
              </a:pathLst>
            </a:custGeom>
            <a:solidFill>
              <a:srgbClr val="8c5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0" name=""/>
            <p:cNvGrpSpPr/>
            <p:nvPr/>
          </p:nvGrpSpPr>
          <p:grpSpPr>
            <a:xfrm>
              <a:off x="7168320" y="1644120"/>
              <a:ext cx="1731240" cy="2694240"/>
              <a:chOff x="7168320" y="1644120"/>
              <a:chExt cx="1731240" cy="2694240"/>
            </a:xfrm>
          </p:grpSpPr>
          <p:sp>
            <p:nvSpPr>
              <p:cNvPr id="661" name=""/>
              <p:cNvSpPr/>
              <p:nvPr/>
            </p:nvSpPr>
            <p:spPr>
              <a:xfrm>
                <a:off x="7241040" y="3855960"/>
                <a:ext cx="316800" cy="406440"/>
              </a:xfrm>
              <a:custGeom>
                <a:avLst/>
                <a:gdLst/>
                <a:ahLst/>
                <a:rect l="l" t="t" r="r" b="b"/>
                <a:pathLst>
                  <a:path w="499" h="640">
                    <a:moveTo>
                      <a:pt x="328" y="621"/>
                    </a:moveTo>
                    <a:lnTo>
                      <a:pt x="499" y="0"/>
                    </a:lnTo>
                    <a:lnTo>
                      <a:pt x="174" y="19"/>
                    </a:lnTo>
                    <a:lnTo>
                      <a:pt x="0" y="640"/>
                    </a:lnTo>
                    <a:lnTo>
                      <a:pt x="328" y="621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7618320" y="3794400"/>
                <a:ext cx="195480" cy="468000"/>
              </a:xfrm>
              <a:custGeom>
                <a:avLst/>
                <a:gdLst/>
                <a:ahLst/>
                <a:rect l="l" t="t" r="r" b="b"/>
                <a:pathLst>
                  <a:path w="308" h="737">
                    <a:moveTo>
                      <a:pt x="213" y="0"/>
                    </a:moveTo>
                    <a:lnTo>
                      <a:pt x="0" y="737"/>
                    </a:lnTo>
                    <a:lnTo>
                      <a:pt x="99" y="737"/>
                    </a:lnTo>
                    <a:lnTo>
                      <a:pt x="308" y="19"/>
                    </a:lnTo>
                    <a:lnTo>
                      <a:pt x="213" y="0"/>
                    </a:lnTo>
                    <a:close/>
                  </a:path>
                </a:pathLst>
              </a:custGeom>
              <a:solidFill>
                <a:srgbClr val="ef9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7681320" y="3819240"/>
                <a:ext cx="192960" cy="443160"/>
              </a:xfrm>
              <a:custGeom>
                <a:avLst/>
                <a:gdLst/>
                <a:ahLst/>
                <a:rect l="l" t="t" r="r" b="b"/>
                <a:pathLst>
                  <a:path w="304" h="698">
                    <a:moveTo>
                      <a:pt x="134" y="698"/>
                    </a:moveTo>
                    <a:lnTo>
                      <a:pt x="304" y="0"/>
                    </a:lnTo>
                    <a:lnTo>
                      <a:pt x="170" y="0"/>
                    </a:lnTo>
                    <a:lnTo>
                      <a:pt x="0" y="698"/>
                    </a:lnTo>
                    <a:lnTo>
                      <a:pt x="134" y="698"/>
                    </a:lnTo>
                    <a:close/>
                  </a:path>
                </a:pathLst>
              </a:custGeom>
              <a:solidFill>
                <a:srgbClr val="e83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7972920" y="3794400"/>
                <a:ext cx="220680" cy="479880"/>
              </a:xfrm>
              <a:custGeom>
                <a:avLst/>
                <a:gdLst/>
                <a:ahLst/>
                <a:rect l="l" t="t" r="r" b="b"/>
                <a:pathLst>
                  <a:path w="348" h="756">
                    <a:moveTo>
                      <a:pt x="154" y="756"/>
                    </a:moveTo>
                    <a:lnTo>
                      <a:pt x="253" y="151"/>
                    </a:lnTo>
                    <a:lnTo>
                      <a:pt x="348" y="78"/>
                    </a:lnTo>
                    <a:lnTo>
                      <a:pt x="134" y="0"/>
                    </a:lnTo>
                    <a:lnTo>
                      <a:pt x="99" y="97"/>
                    </a:lnTo>
                    <a:lnTo>
                      <a:pt x="0" y="756"/>
                    </a:lnTo>
                    <a:lnTo>
                      <a:pt x="154" y="756"/>
                    </a:lnTo>
                    <a:close/>
                  </a:path>
                </a:pathLst>
              </a:custGeom>
              <a:solidFill>
                <a:srgbClr val="ef9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8266680" y="3806640"/>
                <a:ext cx="195480" cy="455760"/>
              </a:xfrm>
              <a:custGeom>
                <a:avLst/>
                <a:gdLst/>
                <a:ahLst/>
                <a:rect l="l" t="t" r="r" b="b"/>
                <a:pathLst>
                  <a:path w="308" h="718">
                    <a:moveTo>
                      <a:pt x="174" y="699"/>
                    </a:moveTo>
                    <a:lnTo>
                      <a:pt x="308" y="20"/>
                    </a:lnTo>
                    <a:lnTo>
                      <a:pt x="114" y="0"/>
                    </a:lnTo>
                    <a:lnTo>
                      <a:pt x="0" y="718"/>
                    </a:lnTo>
                    <a:lnTo>
                      <a:pt x="174" y="699"/>
                    </a:lnTo>
                    <a:close/>
                  </a:path>
                </a:pathLst>
              </a:custGeom>
              <a:solidFill>
                <a:srgbClr val="a5d1f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107920" y="3222720"/>
                <a:ext cx="196200" cy="502200"/>
              </a:xfrm>
              <a:custGeom>
                <a:avLst/>
                <a:gdLst/>
                <a:ahLst/>
                <a:rect l="l" t="t" r="r" b="b"/>
                <a:pathLst>
                  <a:path w="309" h="791">
                    <a:moveTo>
                      <a:pt x="155" y="756"/>
                    </a:moveTo>
                    <a:lnTo>
                      <a:pt x="309" y="74"/>
                    </a:lnTo>
                    <a:lnTo>
                      <a:pt x="115" y="0"/>
                    </a:lnTo>
                    <a:lnTo>
                      <a:pt x="115" y="151"/>
                    </a:lnTo>
                    <a:lnTo>
                      <a:pt x="0" y="791"/>
                    </a:lnTo>
                    <a:lnTo>
                      <a:pt x="155" y="756"/>
                    </a:lnTo>
                    <a:close/>
                  </a:path>
                </a:pathLst>
              </a:custGeom>
              <a:solidFill>
                <a:srgbClr val="0c7f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7230960" y="3186000"/>
                <a:ext cx="231120" cy="516600"/>
              </a:xfrm>
              <a:custGeom>
                <a:avLst/>
                <a:gdLst/>
                <a:ahLst/>
                <a:rect l="l" t="t" r="r" b="b"/>
                <a:pathLst>
                  <a:path w="364" h="814">
                    <a:moveTo>
                      <a:pt x="95" y="814"/>
                    </a:moveTo>
                    <a:lnTo>
                      <a:pt x="364" y="19"/>
                    </a:lnTo>
                    <a:lnTo>
                      <a:pt x="249" y="0"/>
                    </a:lnTo>
                    <a:lnTo>
                      <a:pt x="0" y="776"/>
                    </a:lnTo>
                    <a:lnTo>
                      <a:pt x="95" y="814"/>
                    </a:lnTo>
                    <a:close/>
                  </a:path>
                </a:pathLst>
              </a:custGeom>
              <a:solidFill>
                <a:srgbClr val="2b91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7168320" y="3174120"/>
                <a:ext cx="233280" cy="516600"/>
              </a:xfrm>
              <a:custGeom>
                <a:avLst/>
                <a:gdLst/>
                <a:ahLst/>
                <a:rect l="l" t="t" r="r" b="b"/>
                <a:pathLst>
                  <a:path w="368" h="814">
                    <a:moveTo>
                      <a:pt x="99" y="795"/>
                    </a:moveTo>
                    <a:lnTo>
                      <a:pt x="368" y="0"/>
                    </a:lnTo>
                    <a:lnTo>
                      <a:pt x="254" y="19"/>
                    </a:lnTo>
                    <a:lnTo>
                      <a:pt x="0" y="814"/>
                    </a:lnTo>
                    <a:lnTo>
                      <a:pt x="99" y="795"/>
                    </a:lnTo>
                    <a:close/>
                  </a:path>
                </a:pathLst>
              </a:custGeom>
              <a:solidFill>
                <a:srgbClr val="0072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826760" y="3186000"/>
                <a:ext cx="196200" cy="538920"/>
              </a:xfrm>
              <a:custGeom>
                <a:avLst/>
                <a:gdLst/>
                <a:ahLst/>
                <a:rect l="l" t="t" r="r" b="b"/>
                <a:pathLst>
                  <a:path w="309" h="849">
                    <a:moveTo>
                      <a:pt x="154" y="849"/>
                    </a:moveTo>
                    <a:lnTo>
                      <a:pt x="309" y="112"/>
                    </a:lnTo>
                    <a:lnTo>
                      <a:pt x="135" y="0"/>
                    </a:lnTo>
                    <a:lnTo>
                      <a:pt x="0" y="830"/>
                    </a:lnTo>
                    <a:lnTo>
                      <a:pt x="154" y="849"/>
                    </a:lnTo>
                    <a:close/>
                  </a:path>
                </a:pathLst>
              </a:custGeom>
              <a:solidFill>
                <a:srgbClr val="e83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8414640" y="3247560"/>
                <a:ext cx="145800" cy="490320"/>
              </a:xfrm>
              <a:custGeom>
                <a:avLst/>
                <a:gdLst/>
                <a:ahLst/>
                <a:rect l="l" t="t" r="r" b="b"/>
                <a:pathLst>
                  <a:path w="230" h="772">
                    <a:moveTo>
                      <a:pt x="0" y="733"/>
                    </a:moveTo>
                    <a:lnTo>
                      <a:pt x="115" y="186"/>
                    </a:lnTo>
                    <a:lnTo>
                      <a:pt x="16" y="54"/>
                    </a:lnTo>
                    <a:lnTo>
                      <a:pt x="155" y="0"/>
                    </a:lnTo>
                    <a:lnTo>
                      <a:pt x="230" y="93"/>
                    </a:lnTo>
                    <a:lnTo>
                      <a:pt x="115" y="772"/>
                    </a:lnTo>
                    <a:lnTo>
                      <a:pt x="0" y="733"/>
                    </a:lnTo>
                    <a:close/>
                  </a:path>
                </a:pathLst>
              </a:custGeom>
              <a:solidFill>
                <a:srgbClr val="68afe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8475120" y="3197880"/>
                <a:ext cx="170640" cy="539640"/>
              </a:xfrm>
              <a:custGeom>
                <a:avLst/>
                <a:gdLst/>
                <a:ahLst/>
                <a:rect l="l" t="t" r="r" b="b"/>
                <a:pathLst>
                  <a:path w="269" h="850">
                    <a:moveTo>
                      <a:pt x="95" y="830"/>
                    </a:moveTo>
                    <a:lnTo>
                      <a:pt x="269" y="59"/>
                    </a:lnTo>
                    <a:lnTo>
                      <a:pt x="174" y="0"/>
                    </a:lnTo>
                    <a:lnTo>
                      <a:pt x="115" y="132"/>
                    </a:lnTo>
                    <a:lnTo>
                      <a:pt x="0" y="850"/>
                    </a:lnTo>
                    <a:lnTo>
                      <a:pt x="95" y="830"/>
                    </a:lnTo>
                    <a:close/>
                  </a:path>
                </a:pathLst>
              </a:custGeom>
              <a:solidFill>
                <a:srgbClr val="2b91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8233560" y="1922040"/>
                <a:ext cx="633600" cy="293400"/>
              </a:xfrm>
              <a:custGeom>
                <a:avLst/>
                <a:gdLst/>
                <a:ahLst/>
                <a:rect l="l" t="t" r="r" b="b"/>
                <a:pathLst>
                  <a:path w="998" h="462">
                    <a:moveTo>
                      <a:pt x="32" y="105"/>
                    </a:moveTo>
                    <a:lnTo>
                      <a:pt x="32" y="155"/>
                    </a:lnTo>
                    <a:lnTo>
                      <a:pt x="20" y="198"/>
                    </a:lnTo>
                    <a:lnTo>
                      <a:pt x="8" y="233"/>
                    </a:lnTo>
                    <a:lnTo>
                      <a:pt x="0" y="268"/>
                    </a:lnTo>
                    <a:lnTo>
                      <a:pt x="8" y="303"/>
                    </a:lnTo>
                    <a:lnTo>
                      <a:pt x="48" y="338"/>
                    </a:lnTo>
                    <a:lnTo>
                      <a:pt x="123" y="377"/>
                    </a:lnTo>
                    <a:lnTo>
                      <a:pt x="246" y="423"/>
                    </a:lnTo>
                    <a:lnTo>
                      <a:pt x="649" y="423"/>
                    </a:lnTo>
                    <a:lnTo>
                      <a:pt x="673" y="431"/>
                    </a:lnTo>
                    <a:lnTo>
                      <a:pt x="693" y="435"/>
                    </a:lnTo>
                    <a:lnTo>
                      <a:pt x="713" y="442"/>
                    </a:lnTo>
                    <a:lnTo>
                      <a:pt x="736" y="446"/>
                    </a:lnTo>
                    <a:lnTo>
                      <a:pt x="756" y="454"/>
                    </a:lnTo>
                    <a:lnTo>
                      <a:pt x="776" y="458"/>
                    </a:lnTo>
                    <a:lnTo>
                      <a:pt x="800" y="462"/>
                    </a:lnTo>
                    <a:lnTo>
                      <a:pt x="823" y="462"/>
                    </a:lnTo>
                    <a:lnTo>
                      <a:pt x="855" y="458"/>
                    </a:lnTo>
                    <a:lnTo>
                      <a:pt x="883" y="454"/>
                    </a:lnTo>
                    <a:lnTo>
                      <a:pt x="906" y="450"/>
                    </a:lnTo>
                    <a:lnTo>
                      <a:pt x="938" y="442"/>
                    </a:lnTo>
                    <a:lnTo>
                      <a:pt x="942" y="349"/>
                    </a:lnTo>
                    <a:lnTo>
                      <a:pt x="950" y="268"/>
                    </a:lnTo>
                    <a:lnTo>
                      <a:pt x="966" y="190"/>
                    </a:lnTo>
                    <a:lnTo>
                      <a:pt x="998" y="105"/>
                    </a:lnTo>
                    <a:lnTo>
                      <a:pt x="930" y="82"/>
                    </a:lnTo>
                    <a:lnTo>
                      <a:pt x="867" y="58"/>
                    </a:lnTo>
                    <a:lnTo>
                      <a:pt x="808" y="39"/>
                    </a:lnTo>
                    <a:lnTo>
                      <a:pt x="744" y="27"/>
                    </a:lnTo>
                    <a:lnTo>
                      <a:pt x="685" y="16"/>
                    </a:lnTo>
                    <a:lnTo>
                      <a:pt x="626" y="4"/>
                    </a:lnTo>
                    <a:lnTo>
                      <a:pt x="570" y="0"/>
                    </a:lnTo>
                    <a:lnTo>
                      <a:pt x="511" y="0"/>
                    </a:lnTo>
                    <a:lnTo>
                      <a:pt x="455" y="0"/>
                    </a:lnTo>
                    <a:lnTo>
                      <a:pt x="396" y="4"/>
                    </a:lnTo>
                    <a:lnTo>
                      <a:pt x="337" y="12"/>
                    </a:lnTo>
                    <a:lnTo>
                      <a:pt x="281" y="24"/>
                    </a:lnTo>
                    <a:lnTo>
                      <a:pt x="218" y="39"/>
                    </a:lnTo>
                    <a:lnTo>
                      <a:pt x="159" y="58"/>
                    </a:lnTo>
                    <a:lnTo>
                      <a:pt x="95" y="82"/>
                    </a:lnTo>
                    <a:lnTo>
                      <a:pt x="32" y="105"/>
                    </a:lnTo>
                    <a:close/>
                  </a:path>
                </a:pathLst>
              </a:custGeom>
              <a:solidFill>
                <a:srgbClr val="b547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645760" y="2222640"/>
                <a:ext cx="213840" cy="598680"/>
              </a:xfrm>
              <a:custGeom>
                <a:avLst/>
                <a:gdLst/>
                <a:ahLst/>
                <a:rect l="l" t="t" r="r" b="b"/>
                <a:pathLst>
                  <a:path w="337" h="943">
                    <a:moveTo>
                      <a:pt x="337" y="916"/>
                    </a:moveTo>
                    <a:lnTo>
                      <a:pt x="337" y="0"/>
                    </a:lnTo>
                    <a:lnTo>
                      <a:pt x="60" y="0"/>
                    </a:lnTo>
                    <a:lnTo>
                      <a:pt x="52" y="125"/>
                    </a:lnTo>
                    <a:lnTo>
                      <a:pt x="32" y="229"/>
                    </a:lnTo>
                    <a:lnTo>
                      <a:pt x="8" y="338"/>
                    </a:lnTo>
                    <a:lnTo>
                      <a:pt x="0" y="462"/>
                    </a:lnTo>
                    <a:lnTo>
                      <a:pt x="16" y="524"/>
                    </a:lnTo>
                    <a:lnTo>
                      <a:pt x="56" y="574"/>
                    </a:lnTo>
                    <a:lnTo>
                      <a:pt x="95" y="625"/>
                    </a:lnTo>
                    <a:lnTo>
                      <a:pt x="115" y="687"/>
                    </a:lnTo>
                    <a:lnTo>
                      <a:pt x="115" y="722"/>
                    </a:lnTo>
                    <a:lnTo>
                      <a:pt x="103" y="753"/>
                    </a:lnTo>
                    <a:lnTo>
                      <a:pt x="91" y="784"/>
                    </a:lnTo>
                    <a:lnTo>
                      <a:pt x="75" y="815"/>
                    </a:lnTo>
                    <a:lnTo>
                      <a:pt x="64" y="842"/>
                    </a:lnTo>
                    <a:lnTo>
                      <a:pt x="56" y="869"/>
                    </a:lnTo>
                    <a:lnTo>
                      <a:pt x="60" y="893"/>
                    </a:lnTo>
                    <a:lnTo>
                      <a:pt x="79" y="916"/>
                    </a:lnTo>
                    <a:lnTo>
                      <a:pt x="107" y="931"/>
                    </a:lnTo>
                    <a:lnTo>
                      <a:pt x="139" y="939"/>
                    </a:lnTo>
                    <a:lnTo>
                      <a:pt x="166" y="943"/>
                    </a:lnTo>
                    <a:lnTo>
                      <a:pt x="198" y="939"/>
                    </a:lnTo>
                    <a:lnTo>
                      <a:pt x="230" y="931"/>
                    </a:lnTo>
                    <a:lnTo>
                      <a:pt x="265" y="924"/>
                    </a:lnTo>
                    <a:lnTo>
                      <a:pt x="301" y="920"/>
                    </a:lnTo>
                    <a:lnTo>
                      <a:pt x="337" y="916"/>
                    </a:lnTo>
                    <a:close/>
                  </a:path>
                </a:pathLst>
              </a:custGeom>
              <a:solidFill>
                <a:srgbClr val="d6d6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118000" y="2119680"/>
                <a:ext cx="271800" cy="669960"/>
              </a:xfrm>
              <a:custGeom>
                <a:avLst/>
                <a:gdLst/>
                <a:ahLst/>
                <a:rect l="l" t="t" r="r" b="b"/>
                <a:pathLst>
                  <a:path w="428" h="1055">
                    <a:moveTo>
                      <a:pt x="139" y="810"/>
                    </a:moveTo>
                    <a:lnTo>
                      <a:pt x="123" y="702"/>
                    </a:lnTo>
                    <a:lnTo>
                      <a:pt x="91" y="605"/>
                    </a:lnTo>
                    <a:lnTo>
                      <a:pt x="60" y="508"/>
                    </a:lnTo>
                    <a:lnTo>
                      <a:pt x="44" y="395"/>
                    </a:lnTo>
                    <a:lnTo>
                      <a:pt x="48" y="337"/>
                    </a:lnTo>
                    <a:lnTo>
                      <a:pt x="60" y="287"/>
                    </a:lnTo>
                    <a:lnTo>
                      <a:pt x="75" y="240"/>
                    </a:lnTo>
                    <a:lnTo>
                      <a:pt x="95" y="197"/>
                    </a:lnTo>
                    <a:lnTo>
                      <a:pt x="119" y="151"/>
                    </a:lnTo>
                    <a:lnTo>
                      <a:pt x="139" y="104"/>
                    </a:lnTo>
                    <a:lnTo>
                      <a:pt x="162" y="54"/>
                    </a:lnTo>
                    <a:lnTo>
                      <a:pt x="178" y="0"/>
                    </a:lnTo>
                    <a:lnTo>
                      <a:pt x="214" y="11"/>
                    </a:lnTo>
                    <a:lnTo>
                      <a:pt x="253" y="23"/>
                    </a:lnTo>
                    <a:lnTo>
                      <a:pt x="289" y="31"/>
                    </a:lnTo>
                    <a:lnTo>
                      <a:pt x="329" y="42"/>
                    </a:lnTo>
                    <a:lnTo>
                      <a:pt x="360" y="58"/>
                    </a:lnTo>
                    <a:lnTo>
                      <a:pt x="384" y="73"/>
                    </a:lnTo>
                    <a:lnTo>
                      <a:pt x="400" y="100"/>
                    </a:lnTo>
                    <a:lnTo>
                      <a:pt x="408" y="131"/>
                    </a:lnTo>
                    <a:lnTo>
                      <a:pt x="392" y="201"/>
                    </a:lnTo>
                    <a:lnTo>
                      <a:pt x="360" y="263"/>
                    </a:lnTo>
                    <a:lnTo>
                      <a:pt x="329" y="321"/>
                    </a:lnTo>
                    <a:lnTo>
                      <a:pt x="313" y="395"/>
                    </a:lnTo>
                    <a:lnTo>
                      <a:pt x="333" y="449"/>
                    </a:lnTo>
                    <a:lnTo>
                      <a:pt x="372" y="488"/>
                    </a:lnTo>
                    <a:lnTo>
                      <a:pt x="408" y="531"/>
                    </a:lnTo>
                    <a:lnTo>
                      <a:pt x="428" y="585"/>
                    </a:lnTo>
                    <a:lnTo>
                      <a:pt x="412" y="643"/>
                    </a:lnTo>
                    <a:lnTo>
                      <a:pt x="380" y="690"/>
                    </a:lnTo>
                    <a:lnTo>
                      <a:pt x="348" y="736"/>
                    </a:lnTo>
                    <a:lnTo>
                      <a:pt x="333" y="795"/>
                    </a:lnTo>
                    <a:lnTo>
                      <a:pt x="341" y="861"/>
                    </a:lnTo>
                    <a:lnTo>
                      <a:pt x="364" y="919"/>
                    </a:lnTo>
                    <a:lnTo>
                      <a:pt x="396" y="977"/>
                    </a:lnTo>
                    <a:lnTo>
                      <a:pt x="428" y="1039"/>
                    </a:lnTo>
                    <a:lnTo>
                      <a:pt x="396" y="1039"/>
                    </a:lnTo>
                    <a:lnTo>
                      <a:pt x="364" y="1043"/>
                    </a:lnTo>
                    <a:lnTo>
                      <a:pt x="341" y="1043"/>
                    </a:lnTo>
                    <a:lnTo>
                      <a:pt x="313" y="1043"/>
                    </a:lnTo>
                    <a:lnTo>
                      <a:pt x="285" y="1043"/>
                    </a:lnTo>
                    <a:lnTo>
                      <a:pt x="257" y="1043"/>
                    </a:lnTo>
                    <a:lnTo>
                      <a:pt x="226" y="1039"/>
                    </a:lnTo>
                    <a:lnTo>
                      <a:pt x="194" y="1039"/>
                    </a:lnTo>
                    <a:lnTo>
                      <a:pt x="162" y="1039"/>
                    </a:lnTo>
                    <a:lnTo>
                      <a:pt x="131" y="1043"/>
                    </a:lnTo>
                    <a:lnTo>
                      <a:pt x="95" y="1047"/>
                    </a:lnTo>
                    <a:lnTo>
                      <a:pt x="60" y="1051"/>
                    </a:lnTo>
                    <a:lnTo>
                      <a:pt x="32" y="1055"/>
                    </a:lnTo>
                    <a:lnTo>
                      <a:pt x="12" y="1051"/>
                    </a:lnTo>
                    <a:lnTo>
                      <a:pt x="0" y="1039"/>
                    </a:lnTo>
                    <a:lnTo>
                      <a:pt x="4" y="1020"/>
                    </a:lnTo>
                    <a:lnTo>
                      <a:pt x="20" y="989"/>
                    </a:lnTo>
                    <a:lnTo>
                      <a:pt x="44" y="965"/>
                    </a:lnTo>
                    <a:lnTo>
                      <a:pt x="63" y="942"/>
                    </a:lnTo>
                    <a:lnTo>
                      <a:pt x="87" y="919"/>
                    </a:lnTo>
                    <a:lnTo>
                      <a:pt x="107" y="896"/>
                    </a:lnTo>
                    <a:lnTo>
                      <a:pt x="123" y="872"/>
                    </a:lnTo>
                    <a:lnTo>
                      <a:pt x="135" y="845"/>
                    </a:lnTo>
                    <a:lnTo>
                      <a:pt x="139" y="810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7509600" y="2479320"/>
                <a:ext cx="419760" cy="334440"/>
              </a:xfrm>
              <a:custGeom>
                <a:avLst/>
                <a:gdLst/>
                <a:ahLst/>
                <a:rect l="l" t="t" r="r" b="b"/>
                <a:pathLst>
                  <a:path w="661" h="527">
                    <a:moveTo>
                      <a:pt x="357" y="527"/>
                    </a:moveTo>
                    <a:lnTo>
                      <a:pt x="293" y="523"/>
                    </a:lnTo>
                    <a:lnTo>
                      <a:pt x="230" y="516"/>
                    </a:lnTo>
                    <a:lnTo>
                      <a:pt x="171" y="504"/>
                    </a:lnTo>
                    <a:lnTo>
                      <a:pt x="115" y="485"/>
                    </a:lnTo>
                    <a:lnTo>
                      <a:pt x="68" y="458"/>
                    </a:lnTo>
                    <a:lnTo>
                      <a:pt x="32" y="423"/>
                    </a:lnTo>
                    <a:lnTo>
                      <a:pt x="8" y="376"/>
                    </a:lnTo>
                    <a:lnTo>
                      <a:pt x="0" y="322"/>
                    </a:lnTo>
                    <a:lnTo>
                      <a:pt x="8" y="256"/>
                    </a:lnTo>
                    <a:lnTo>
                      <a:pt x="28" y="194"/>
                    </a:lnTo>
                    <a:lnTo>
                      <a:pt x="64" y="139"/>
                    </a:lnTo>
                    <a:lnTo>
                      <a:pt x="107" y="89"/>
                    </a:lnTo>
                    <a:lnTo>
                      <a:pt x="159" y="54"/>
                    </a:lnTo>
                    <a:lnTo>
                      <a:pt x="222" y="23"/>
                    </a:lnTo>
                    <a:lnTo>
                      <a:pt x="285" y="8"/>
                    </a:lnTo>
                    <a:lnTo>
                      <a:pt x="357" y="0"/>
                    </a:lnTo>
                    <a:lnTo>
                      <a:pt x="404" y="4"/>
                    </a:lnTo>
                    <a:lnTo>
                      <a:pt x="448" y="19"/>
                    </a:lnTo>
                    <a:lnTo>
                      <a:pt x="487" y="43"/>
                    </a:lnTo>
                    <a:lnTo>
                      <a:pt x="519" y="74"/>
                    </a:lnTo>
                    <a:lnTo>
                      <a:pt x="547" y="112"/>
                    </a:lnTo>
                    <a:lnTo>
                      <a:pt x="566" y="155"/>
                    </a:lnTo>
                    <a:lnTo>
                      <a:pt x="582" y="198"/>
                    </a:lnTo>
                    <a:lnTo>
                      <a:pt x="594" y="244"/>
                    </a:lnTo>
                    <a:lnTo>
                      <a:pt x="614" y="291"/>
                    </a:lnTo>
                    <a:lnTo>
                      <a:pt x="642" y="333"/>
                    </a:lnTo>
                    <a:lnTo>
                      <a:pt x="661" y="376"/>
                    </a:lnTo>
                    <a:lnTo>
                      <a:pt x="653" y="415"/>
                    </a:lnTo>
                    <a:lnTo>
                      <a:pt x="626" y="446"/>
                    </a:lnTo>
                    <a:lnTo>
                      <a:pt x="594" y="473"/>
                    </a:lnTo>
                    <a:lnTo>
                      <a:pt x="562" y="492"/>
                    </a:lnTo>
                    <a:lnTo>
                      <a:pt x="523" y="508"/>
                    </a:lnTo>
                    <a:lnTo>
                      <a:pt x="487" y="516"/>
                    </a:lnTo>
                    <a:lnTo>
                      <a:pt x="444" y="523"/>
                    </a:lnTo>
                    <a:lnTo>
                      <a:pt x="400" y="527"/>
                    </a:lnTo>
                    <a:lnTo>
                      <a:pt x="357" y="527"/>
                    </a:lnTo>
                    <a:close/>
                  </a:path>
                </a:pathLst>
              </a:custGeom>
              <a:solidFill>
                <a:srgbClr val="427c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7605720" y="2097360"/>
                <a:ext cx="416880" cy="418320"/>
              </a:xfrm>
              <a:custGeom>
                <a:avLst/>
                <a:gdLst/>
                <a:ahLst/>
                <a:rect l="l" t="t" r="r" b="b"/>
                <a:pathLst>
                  <a:path w="657" h="659">
                    <a:moveTo>
                      <a:pt x="407" y="659"/>
                    </a:moveTo>
                    <a:lnTo>
                      <a:pt x="348" y="655"/>
                    </a:lnTo>
                    <a:lnTo>
                      <a:pt x="297" y="640"/>
                    </a:lnTo>
                    <a:lnTo>
                      <a:pt x="253" y="624"/>
                    </a:lnTo>
                    <a:lnTo>
                      <a:pt x="214" y="601"/>
                    </a:lnTo>
                    <a:lnTo>
                      <a:pt x="174" y="578"/>
                    </a:lnTo>
                    <a:lnTo>
                      <a:pt x="130" y="554"/>
                    </a:lnTo>
                    <a:lnTo>
                      <a:pt x="79" y="539"/>
                    </a:lnTo>
                    <a:lnTo>
                      <a:pt x="20" y="527"/>
                    </a:lnTo>
                    <a:lnTo>
                      <a:pt x="16" y="473"/>
                    </a:lnTo>
                    <a:lnTo>
                      <a:pt x="8" y="422"/>
                    </a:lnTo>
                    <a:lnTo>
                      <a:pt x="4" y="372"/>
                    </a:lnTo>
                    <a:lnTo>
                      <a:pt x="0" y="318"/>
                    </a:lnTo>
                    <a:lnTo>
                      <a:pt x="8" y="256"/>
                    </a:lnTo>
                    <a:lnTo>
                      <a:pt x="28" y="205"/>
                    </a:lnTo>
                    <a:lnTo>
                      <a:pt x="59" y="159"/>
                    </a:lnTo>
                    <a:lnTo>
                      <a:pt x="103" y="116"/>
                    </a:lnTo>
                    <a:lnTo>
                      <a:pt x="154" y="85"/>
                    </a:lnTo>
                    <a:lnTo>
                      <a:pt x="210" y="54"/>
                    </a:lnTo>
                    <a:lnTo>
                      <a:pt x="269" y="27"/>
                    </a:lnTo>
                    <a:lnTo>
                      <a:pt x="328" y="0"/>
                    </a:lnTo>
                    <a:lnTo>
                      <a:pt x="483" y="0"/>
                    </a:lnTo>
                    <a:lnTo>
                      <a:pt x="491" y="66"/>
                    </a:lnTo>
                    <a:lnTo>
                      <a:pt x="498" y="124"/>
                    </a:lnTo>
                    <a:lnTo>
                      <a:pt x="514" y="178"/>
                    </a:lnTo>
                    <a:lnTo>
                      <a:pt x="530" y="232"/>
                    </a:lnTo>
                    <a:lnTo>
                      <a:pt x="554" y="283"/>
                    </a:lnTo>
                    <a:lnTo>
                      <a:pt x="582" y="333"/>
                    </a:lnTo>
                    <a:lnTo>
                      <a:pt x="613" y="380"/>
                    </a:lnTo>
                    <a:lnTo>
                      <a:pt x="657" y="430"/>
                    </a:lnTo>
                    <a:lnTo>
                      <a:pt x="637" y="461"/>
                    </a:lnTo>
                    <a:lnTo>
                      <a:pt x="609" y="500"/>
                    </a:lnTo>
                    <a:lnTo>
                      <a:pt x="582" y="535"/>
                    </a:lnTo>
                    <a:lnTo>
                      <a:pt x="550" y="574"/>
                    </a:lnTo>
                    <a:lnTo>
                      <a:pt x="514" y="609"/>
                    </a:lnTo>
                    <a:lnTo>
                      <a:pt x="479" y="636"/>
                    </a:lnTo>
                    <a:lnTo>
                      <a:pt x="443" y="651"/>
                    </a:lnTo>
                    <a:lnTo>
                      <a:pt x="407" y="659"/>
                    </a:lnTo>
                    <a:close/>
                  </a:path>
                </a:pathLst>
              </a:custGeom>
              <a:solidFill>
                <a:srgbClr val="91a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7886880" y="2010960"/>
                <a:ext cx="331200" cy="384120"/>
              </a:xfrm>
              <a:custGeom>
                <a:avLst/>
                <a:gdLst/>
                <a:ahLst/>
                <a:rect l="l" t="t" r="r" b="b"/>
                <a:pathLst>
                  <a:path w="522" h="605">
                    <a:moveTo>
                      <a:pt x="388" y="605"/>
                    </a:moveTo>
                    <a:lnTo>
                      <a:pt x="412" y="566"/>
                    </a:lnTo>
                    <a:lnTo>
                      <a:pt x="431" y="531"/>
                    </a:lnTo>
                    <a:lnTo>
                      <a:pt x="451" y="496"/>
                    </a:lnTo>
                    <a:lnTo>
                      <a:pt x="467" y="461"/>
                    </a:lnTo>
                    <a:lnTo>
                      <a:pt x="483" y="427"/>
                    </a:lnTo>
                    <a:lnTo>
                      <a:pt x="499" y="388"/>
                    </a:lnTo>
                    <a:lnTo>
                      <a:pt x="511" y="345"/>
                    </a:lnTo>
                    <a:lnTo>
                      <a:pt x="522" y="302"/>
                    </a:lnTo>
                    <a:lnTo>
                      <a:pt x="522" y="0"/>
                    </a:lnTo>
                    <a:lnTo>
                      <a:pt x="348" y="0"/>
                    </a:lnTo>
                    <a:lnTo>
                      <a:pt x="289" y="19"/>
                    </a:lnTo>
                    <a:lnTo>
                      <a:pt x="230" y="35"/>
                    </a:lnTo>
                    <a:lnTo>
                      <a:pt x="170" y="50"/>
                    </a:lnTo>
                    <a:lnTo>
                      <a:pt x="115" y="74"/>
                    </a:lnTo>
                    <a:lnTo>
                      <a:pt x="71" y="97"/>
                    </a:lnTo>
                    <a:lnTo>
                      <a:pt x="32" y="132"/>
                    </a:lnTo>
                    <a:lnTo>
                      <a:pt x="8" y="174"/>
                    </a:lnTo>
                    <a:lnTo>
                      <a:pt x="0" y="229"/>
                    </a:lnTo>
                    <a:lnTo>
                      <a:pt x="8" y="302"/>
                    </a:lnTo>
                    <a:lnTo>
                      <a:pt x="32" y="365"/>
                    </a:lnTo>
                    <a:lnTo>
                      <a:pt x="71" y="419"/>
                    </a:lnTo>
                    <a:lnTo>
                      <a:pt x="119" y="469"/>
                    </a:lnTo>
                    <a:lnTo>
                      <a:pt x="178" y="512"/>
                    </a:lnTo>
                    <a:lnTo>
                      <a:pt x="245" y="547"/>
                    </a:lnTo>
                    <a:lnTo>
                      <a:pt x="313" y="578"/>
                    </a:lnTo>
                    <a:lnTo>
                      <a:pt x="388" y="605"/>
                    </a:lnTo>
                    <a:close/>
                  </a:path>
                </a:pathLst>
              </a:custGeom>
              <a:solidFill>
                <a:srgbClr val="a0ff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7874280" y="2395440"/>
                <a:ext cx="344160" cy="371880"/>
              </a:xfrm>
              <a:custGeom>
                <a:avLst/>
                <a:gdLst/>
                <a:ahLst/>
                <a:rect l="l" t="t" r="r" b="b"/>
                <a:pathLst>
                  <a:path w="542" h="586">
                    <a:moveTo>
                      <a:pt x="503" y="586"/>
                    </a:moveTo>
                    <a:lnTo>
                      <a:pt x="412" y="586"/>
                    </a:lnTo>
                    <a:lnTo>
                      <a:pt x="321" y="582"/>
                    </a:lnTo>
                    <a:lnTo>
                      <a:pt x="238" y="570"/>
                    </a:lnTo>
                    <a:lnTo>
                      <a:pt x="159" y="555"/>
                    </a:lnTo>
                    <a:lnTo>
                      <a:pt x="95" y="524"/>
                    </a:lnTo>
                    <a:lnTo>
                      <a:pt x="44" y="481"/>
                    </a:lnTo>
                    <a:lnTo>
                      <a:pt x="12" y="423"/>
                    </a:lnTo>
                    <a:lnTo>
                      <a:pt x="0" y="341"/>
                    </a:lnTo>
                    <a:lnTo>
                      <a:pt x="8" y="291"/>
                    </a:lnTo>
                    <a:lnTo>
                      <a:pt x="32" y="233"/>
                    </a:lnTo>
                    <a:lnTo>
                      <a:pt x="64" y="178"/>
                    </a:lnTo>
                    <a:lnTo>
                      <a:pt x="107" y="124"/>
                    </a:lnTo>
                    <a:lnTo>
                      <a:pt x="155" y="74"/>
                    </a:lnTo>
                    <a:lnTo>
                      <a:pt x="206" y="35"/>
                    </a:lnTo>
                    <a:lnTo>
                      <a:pt x="258" y="8"/>
                    </a:lnTo>
                    <a:lnTo>
                      <a:pt x="309" y="0"/>
                    </a:lnTo>
                    <a:lnTo>
                      <a:pt x="356" y="4"/>
                    </a:lnTo>
                    <a:lnTo>
                      <a:pt x="400" y="19"/>
                    </a:lnTo>
                    <a:lnTo>
                      <a:pt x="440" y="43"/>
                    </a:lnTo>
                    <a:lnTo>
                      <a:pt x="475" y="74"/>
                    </a:lnTo>
                    <a:lnTo>
                      <a:pt x="503" y="112"/>
                    </a:lnTo>
                    <a:lnTo>
                      <a:pt x="523" y="155"/>
                    </a:lnTo>
                    <a:lnTo>
                      <a:pt x="539" y="198"/>
                    </a:lnTo>
                    <a:lnTo>
                      <a:pt x="542" y="244"/>
                    </a:lnTo>
                    <a:lnTo>
                      <a:pt x="539" y="322"/>
                    </a:lnTo>
                    <a:lnTo>
                      <a:pt x="531" y="419"/>
                    </a:lnTo>
                    <a:lnTo>
                      <a:pt x="515" y="512"/>
                    </a:lnTo>
                    <a:lnTo>
                      <a:pt x="503" y="586"/>
                    </a:lnTo>
                    <a:close/>
                  </a:path>
                </a:pathLst>
              </a:custGeom>
              <a:solidFill>
                <a:srgbClr val="33e5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352000" y="2518560"/>
                <a:ext cx="392400" cy="307800"/>
              </a:xfrm>
              <a:custGeom>
                <a:avLst/>
                <a:gdLst/>
                <a:ahLst/>
                <a:rect l="l" t="t" r="r" b="b"/>
                <a:pathLst>
                  <a:path w="618" h="485">
                    <a:moveTo>
                      <a:pt x="443" y="0"/>
                    </a:moveTo>
                    <a:lnTo>
                      <a:pt x="384" y="0"/>
                    </a:lnTo>
                    <a:lnTo>
                      <a:pt x="333" y="0"/>
                    </a:lnTo>
                    <a:lnTo>
                      <a:pt x="281" y="0"/>
                    </a:lnTo>
                    <a:lnTo>
                      <a:pt x="234" y="0"/>
                    </a:lnTo>
                    <a:lnTo>
                      <a:pt x="182" y="0"/>
                    </a:lnTo>
                    <a:lnTo>
                      <a:pt x="131" y="0"/>
                    </a:lnTo>
                    <a:lnTo>
                      <a:pt x="79" y="0"/>
                    </a:lnTo>
                    <a:lnTo>
                      <a:pt x="20" y="0"/>
                    </a:lnTo>
                    <a:lnTo>
                      <a:pt x="16" y="46"/>
                    </a:lnTo>
                    <a:lnTo>
                      <a:pt x="8" y="85"/>
                    </a:lnTo>
                    <a:lnTo>
                      <a:pt x="4" y="128"/>
                    </a:lnTo>
                    <a:lnTo>
                      <a:pt x="0" y="174"/>
                    </a:lnTo>
                    <a:lnTo>
                      <a:pt x="12" y="244"/>
                    </a:lnTo>
                    <a:lnTo>
                      <a:pt x="40" y="302"/>
                    </a:lnTo>
                    <a:lnTo>
                      <a:pt x="79" y="349"/>
                    </a:lnTo>
                    <a:lnTo>
                      <a:pt x="135" y="388"/>
                    </a:lnTo>
                    <a:lnTo>
                      <a:pt x="202" y="419"/>
                    </a:lnTo>
                    <a:lnTo>
                      <a:pt x="273" y="446"/>
                    </a:lnTo>
                    <a:lnTo>
                      <a:pt x="348" y="465"/>
                    </a:lnTo>
                    <a:lnTo>
                      <a:pt x="424" y="485"/>
                    </a:lnTo>
                    <a:lnTo>
                      <a:pt x="598" y="485"/>
                    </a:lnTo>
                    <a:lnTo>
                      <a:pt x="602" y="438"/>
                    </a:lnTo>
                    <a:lnTo>
                      <a:pt x="610" y="399"/>
                    </a:lnTo>
                    <a:lnTo>
                      <a:pt x="614" y="361"/>
                    </a:lnTo>
                    <a:lnTo>
                      <a:pt x="618" y="318"/>
                    </a:lnTo>
                    <a:lnTo>
                      <a:pt x="618" y="264"/>
                    </a:lnTo>
                    <a:lnTo>
                      <a:pt x="610" y="209"/>
                    </a:lnTo>
                    <a:lnTo>
                      <a:pt x="602" y="155"/>
                    </a:lnTo>
                    <a:lnTo>
                      <a:pt x="586" y="105"/>
                    </a:lnTo>
                    <a:lnTo>
                      <a:pt x="562" y="62"/>
                    </a:lnTo>
                    <a:lnTo>
                      <a:pt x="531" y="31"/>
                    </a:lnTo>
                    <a:lnTo>
                      <a:pt x="495" y="8"/>
                    </a:lnTo>
                    <a:lnTo>
                      <a:pt x="443" y="0"/>
                    </a:lnTo>
                    <a:close/>
                  </a:path>
                </a:pathLst>
              </a:custGeom>
              <a:solidFill>
                <a:srgbClr val="ffff7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317080" y="2202840"/>
                <a:ext cx="389160" cy="251280"/>
              </a:xfrm>
              <a:custGeom>
                <a:avLst/>
                <a:gdLst/>
                <a:ahLst/>
                <a:rect l="l" t="t" r="r" b="b"/>
                <a:pathLst>
                  <a:path w="613" h="396">
                    <a:moveTo>
                      <a:pt x="558" y="396"/>
                    </a:moveTo>
                    <a:lnTo>
                      <a:pt x="578" y="350"/>
                    </a:lnTo>
                    <a:lnTo>
                      <a:pt x="593" y="307"/>
                    </a:lnTo>
                    <a:lnTo>
                      <a:pt x="609" y="260"/>
                    </a:lnTo>
                    <a:lnTo>
                      <a:pt x="613" y="210"/>
                    </a:lnTo>
                    <a:lnTo>
                      <a:pt x="613" y="159"/>
                    </a:lnTo>
                    <a:lnTo>
                      <a:pt x="605" y="113"/>
                    </a:lnTo>
                    <a:lnTo>
                      <a:pt x="601" y="70"/>
                    </a:lnTo>
                    <a:lnTo>
                      <a:pt x="597" y="20"/>
                    </a:lnTo>
                    <a:lnTo>
                      <a:pt x="570" y="20"/>
                    </a:lnTo>
                    <a:lnTo>
                      <a:pt x="542" y="16"/>
                    </a:lnTo>
                    <a:lnTo>
                      <a:pt x="514" y="12"/>
                    </a:lnTo>
                    <a:lnTo>
                      <a:pt x="491" y="8"/>
                    </a:lnTo>
                    <a:lnTo>
                      <a:pt x="467" y="8"/>
                    </a:lnTo>
                    <a:lnTo>
                      <a:pt x="439" y="4"/>
                    </a:lnTo>
                    <a:lnTo>
                      <a:pt x="411" y="0"/>
                    </a:lnTo>
                    <a:lnTo>
                      <a:pt x="384" y="0"/>
                    </a:lnTo>
                    <a:lnTo>
                      <a:pt x="316" y="0"/>
                    </a:lnTo>
                    <a:lnTo>
                      <a:pt x="253" y="8"/>
                    </a:lnTo>
                    <a:lnTo>
                      <a:pt x="186" y="16"/>
                    </a:lnTo>
                    <a:lnTo>
                      <a:pt x="126" y="31"/>
                    </a:lnTo>
                    <a:lnTo>
                      <a:pt x="75" y="59"/>
                    </a:lnTo>
                    <a:lnTo>
                      <a:pt x="35" y="90"/>
                    </a:lnTo>
                    <a:lnTo>
                      <a:pt x="8" y="136"/>
                    </a:lnTo>
                    <a:lnTo>
                      <a:pt x="0" y="190"/>
                    </a:lnTo>
                    <a:lnTo>
                      <a:pt x="16" y="268"/>
                    </a:lnTo>
                    <a:lnTo>
                      <a:pt x="55" y="322"/>
                    </a:lnTo>
                    <a:lnTo>
                      <a:pt x="115" y="357"/>
                    </a:lnTo>
                    <a:lnTo>
                      <a:pt x="190" y="381"/>
                    </a:lnTo>
                    <a:lnTo>
                      <a:pt x="277" y="392"/>
                    </a:lnTo>
                    <a:lnTo>
                      <a:pt x="372" y="396"/>
                    </a:lnTo>
                    <a:lnTo>
                      <a:pt x="467" y="396"/>
                    </a:lnTo>
                    <a:lnTo>
                      <a:pt x="558" y="396"/>
                    </a:lnTo>
                    <a:close/>
                  </a:path>
                </a:pathLst>
              </a:custGeom>
              <a:solidFill>
                <a:srgbClr val="ffef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8807040" y="1644120"/>
                <a:ext cx="92520" cy="1297800"/>
              </a:xfrm>
              <a:custGeom>
                <a:avLst/>
                <a:gdLst/>
                <a:ahLst/>
                <a:rect l="l" t="t" r="r" b="b"/>
                <a:pathLst>
                  <a:path w="146" h="2044">
                    <a:moveTo>
                      <a:pt x="138" y="39"/>
                    </a:moveTo>
                    <a:lnTo>
                      <a:pt x="142" y="531"/>
                    </a:lnTo>
                    <a:lnTo>
                      <a:pt x="130" y="1016"/>
                    </a:lnTo>
                    <a:lnTo>
                      <a:pt x="122" y="1497"/>
                    </a:lnTo>
                    <a:lnTo>
                      <a:pt x="146" y="1978"/>
                    </a:lnTo>
                    <a:lnTo>
                      <a:pt x="130" y="1990"/>
                    </a:lnTo>
                    <a:lnTo>
                      <a:pt x="134" y="2009"/>
                    </a:lnTo>
                    <a:lnTo>
                      <a:pt x="138" y="2032"/>
                    </a:lnTo>
                    <a:lnTo>
                      <a:pt x="118" y="2044"/>
                    </a:lnTo>
                    <a:lnTo>
                      <a:pt x="98" y="2044"/>
                    </a:lnTo>
                    <a:lnTo>
                      <a:pt x="71" y="2040"/>
                    </a:lnTo>
                    <a:lnTo>
                      <a:pt x="47" y="2025"/>
                    </a:lnTo>
                    <a:lnTo>
                      <a:pt x="35" y="1997"/>
                    </a:lnTo>
                    <a:lnTo>
                      <a:pt x="0" y="1513"/>
                    </a:lnTo>
                    <a:lnTo>
                      <a:pt x="7" y="1016"/>
                    </a:lnTo>
                    <a:lnTo>
                      <a:pt x="27" y="516"/>
                    </a:lnTo>
                    <a:lnTo>
                      <a:pt x="47" y="19"/>
                    </a:lnTo>
                    <a:lnTo>
                      <a:pt x="71" y="0"/>
                    </a:lnTo>
                    <a:lnTo>
                      <a:pt x="98" y="0"/>
                    </a:lnTo>
                    <a:lnTo>
                      <a:pt x="122" y="16"/>
                    </a:lnTo>
                    <a:lnTo>
                      <a:pt x="138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7462080" y="1899720"/>
                <a:ext cx="1299240" cy="918720"/>
              </a:xfrm>
              <a:custGeom>
                <a:avLst/>
                <a:gdLst/>
                <a:ahLst/>
                <a:rect l="l" t="t" r="r" b="b"/>
                <a:pathLst>
                  <a:path w="2046" h="1447">
                    <a:moveTo>
                      <a:pt x="1639" y="55"/>
                    </a:moveTo>
                    <a:lnTo>
                      <a:pt x="1607" y="55"/>
                    </a:lnTo>
                    <a:lnTo>
                      <a:pt x="1575" y="51"/>
                    </a:lnTo>
                    <a:lnTo>
                      <a:pt x="1544" y="55"/>
                    </a:lnTo>
                    <a:lnTo>
                      <a:pt x="1524" y="70"/>
                    </a:lnTo>
                    <a:lnTo>
                      <a:pt x="1524" y="101"/>
                    </a:lnTo>
                    <a:lnTo>
                      <a:pt x="1488" y="105"/>
                    </a:lnTo>
                    <a:lnTo>
                      <a:pt x="1449" y="109"/>
                    </a:lnTo>
                    <a:lnTo>
                      <a:pt x="1413" y="113"/>
                    </a:lnTo>
                    <a:lnTo>
                      <a:pt x="1377" y="121"/>
                    </a:lnTo>
                    <a:lnTo>
                      <a:pt x="1342" y="132"/>
                    </a:lnTo>
                    <a:lnTo>
                      <a:pt x="1310" y="152"/>
                    </a:lnTo>
                    <a:lnTo>
                      <a:pt x="1283" y="179"/>
                    </a:lnTo>
                    <a:lnTo>
                      <a:pt x="1259" y="218"/>
                    </a:lnTo>
                    <a:lnTo>
                      <a:pt x="1255" y="260"/>
                    </a:lnTo>
                    <a:lnTo>
                      <a:pt x="1267" y="295"/>
                    </a:lnTo>
                    <a:lnTo>
                      <a:pt x="1290" y="322"/>
                    </a:lnTo>
                    <a:lnTo>
                      <a:pt x="1322" y="342"/>
                    </a:lnTo>
                    <a:lnTo>
                      <a:pt x="1358" y="365"/>
                    </a:lnTo>
                    <a:lnTo>
                      <a:pt x="1397" y="384"/>
                    </a:lnTo>
                    <a:lnTo>
                      <a:pt x="1433" y="408"/>
                    </a:lnTo>
                    <a:lnTo>
                      <a:pt x="1461" y="435"/>
                    </a:lnTo>
                    <a:lnTo>
                      <a:pt x="1536" y="427"/>
                    </a:lnTo>
                    <a:lnTo>
                      <a:pt x="1611" y="419"/>
                    </a:lnTo>
                    <a:lnTo>
                      <a:pt x="1686" y="415"/>
                    </a:lnTo>
                    <a:lnTo>
                      <a:pt x="1761" y="415"/>
                    </a:lnTo>
                    <a:lnTo>
                      <a:pt x="1833" y="423"/>
                    </a:lnTo>
                    <a:lnTo>
                      <a:pt x="1908" y="435"/>
                    </a:lnTo>
                    <a:lnTo>
                      <a:pt x="1975" y="450"/>
                    </a:lnTo>
                    <a:lnTo>
                      <a:pt x="2046" y="477"/>
                    </a:lnTo>
                    <a:lnTo>
                      <a:pt x="2034" y="497"/>
                    </a:lnTo>
                    <a:lnTo>
                      <a:pt x="2019" y="512"/>
                    </a:lnTo>
                    <a:lnTo>
                      <a:pt x="2003" y="528"/>
                    </a:lnTo>
                    <a:lnTo>
                      <a:pt x="1999" y="555"/>
                    </a:lnTo>
                    <a:lnTo>
                      <a:pt x="1924" y="543"/>
                    </a:lnTo>
                    <a:lnTo>
                      <a:pt x="1841" y="532"/>
                    </a:lnTo>
                    <a:lnTo>
                      <a:pt x="1761" y="524"/>
                    </a:lnTo>
                    <a:lnTo>
                      <a:pt x="1682" y="528"/>
                    </a:lnTo>
                    <a:lnTo>
                      <a:pt x="1607" y="536"/>
                    </a:lnTo>
                    <a:lnTo>
                      <a:pt x="1536" y="559"/>
                    </a:lnTo>
                    <a:lnTo>
                      <a:pt x="1476" y="598"/>
                    </a:lnTo>
                    <a:lnTo>
                      <a:pt x="1425" y="652"/>
                    </a:lnTo>
                    <a:lnTo>
                      <a:pt x="1413" y="687"/>
                    </a:lnTo>
                    <a:lnTo>
                      <a:pt x="1413" y="718"/>
                    </a:lnTo>
                    <a:lnTo>
                      <a:pt x="1425" y="749"/>
                    </a:lnTo>
                    <a:lnTo>
                      <a:pt x="1449" y="776"/>
                    </a:lnTo>
                    <a:lnTo>
                      <a:pt x="1476" y="799"/>
                    </a:lnTo>
                    <a:lnTo>
                      <a:pt x="1504" y="819"/>
                    </a:lnTo>
                    <a:lnTo>
                      <a:pt x="1536" y="838"/>
                    </a:lnTo>
                    <a:lnTo>
                      <a:pt x="1563" y="854"/>
                    </a:lnTo>
                    <a:lnTo>
                      <a:pt x="1595" y="861"/>
                    </a:lnTo>
                    <a:lnTo>
                      <a:pt x="1631" y="865"/>
                    </a:lnTo>
                    <a:lnTo>
                      <a:pt x="1666" y="869"/>
                    </a:lnTo>
                    <a:lnTo>
                      <a:pt x="1702" y="869"/>
                    </a:lnTo>
                    <a:lnTo>
                      <a:pt x="1738" y="869"/>
                    </a:lnTo>
                    <a:lnTo>
                      <a:pt x="1773" y="869"/>
                    </a:lnTo>
                    <a:lnTo>
                      <a:pt x="1809" y="877"/>
                    </a:lnTo>
                    <a:lnTo>
                      <a:pt x="1841" y="885"/>
                    </a:lnTo>
                    <a:lnTo>
                      <a:pt x="1884" y="823"/>
                    </a:lnTo>
                    <a:lnTo>
                      <a:pt x="1892" y="753"/>
                    </a:lnTo>
                    <a:lnTo>
                      <a:pt x="1888" y="679"/>
                    </a:lnTo>
                    <a:lnTo>
                      <a:pt x="1888" y="605"/>
                    </a:lnTo>
                    <a:lnTo>
                      <a:pt x="1908" y="598"/>
                    </a:lnTo>
                    <a:lnTo>
                      <a:pt x="1932" y="602"/>
                    </a:lnTo>
                    <a:lnTo>
                      <a:pt x="1955" y="617"/>
                    </a:lnTo>
                    <a:lnTo>
                      <a:pt x="1979" y="625"/>
                    </a:lnTo>
                    <a:lnTo>
                      <a:pt x="1991" y="671"/>
                    </a:lnTo>
                    <a:lnTo>
                      <a:pt x="1999" y="722"/>
                    </a:lnTo>
                    <a:lnTo>
                      <a:pt x="1995" y="768"/>
                    </a:lnTo>
                    <a:lnTo>
                      <a:pt x="1987" y="819"/>
                    </a:lnTo>
                    <a:lnTo>
                      <a:pt x="1975" y="865"/>
                    </a:lnTo>
                    <a:lnTo>
                      <a:pt x="1955" y="908"/>
                    </a:lnTo>
                    <a:lnTo>
                      <a:pt x="1932" y="951"/>
                    </a:lnTo>
                    <a:lnTo>
                      <a:pt x="1908" y="989"/>
                    </a:lnTo>
                    <a:lnTo>
                      <a:pt x="1852" y="982"/>
                    </a:lnTo>
                    <a:lnTo>
                      <a:pt x="1793" y="974"/>
                    </a:lnTo>
                    <a:lnTo>
                      <a:pt x="1730" y="970"/>
                    </a:lnTo>
                    <a:lnTo>
                      <a:pt x="1670" y="966"/>
                    </a:lnTo>
                    <a:lnTo>
                      <a:pt x="1611" y="974"/>
                    </a:lnTo>
                    <a:lnTo>
                      <a:pt x="1556" y="989"/>
                    </a:lnTo>
                    <a:lnTo>
                      <a:pt x="1504" y="1013"/>
                    </a:lnTo>
                    <a:lnTo>
                      <a:pt x="1461" y="1051"/>
                    </a:lnTo>
                    <a:lnTo>
                      <a:pt x="1437" y="1079"/>
                    </a:lnTo>
                    <a:lnTo>
                      <a:pt x="1425" y="1114"/>
                    </a:lnTo>
                    <a:lnTo>
                      <a:pt x="1425" y="1148"/>
                    </a:lnTo>
                    <a:lnTo>
                      <a:pt x="1425" y="1187"/>
                    </a:lnTo>
                    <a:lnTo>
                      <a:pt x="1453" y="1203"/>
                    </a:lnTo>
                    <a:lnTo>
                      <a:pt x="1476" y="1226"/>
                    </a:lnTo>
                    <a:lnTo>
                      <a:pt x="1496" y="1249"/>
                    </a:lnTo>
                    <a:lnTo>
                      <a:pt x="1520" y="1273"/>
                    </a:lnTo>
                    <a:lnTo>
                      <a:pt x="1540" y="1292"/>
                    </a:lnTo>
                    <a:lnTo>
                      <a:pt x="1563" y="1307"/>
                    </a:lnTo>
                    <a:lnTo>
                      <a:pt x="1591" y="1319"/>
                    </a:lnTo>
                    <a:lnTo>
                      <a:pt x="1619" y="1323"/>
                    </a:lnTo>
                    <a:lnTo>
                      <a:pt x="1619" y="1358"/>
                    </a:lnTo>
                    <a:lnTo>
                      <a:pt x="1603" y="1366"/>
                    </a:lnTo>
                    <a:lnTo>
                      <a:pt x="1595" y="1377"/>
                    </a:lnTo>
                    <a:lnTo>
                      <a:pt x="1591" y="1393"/>
                    </a:lnTo>
                    <a:lnTo>
                      <a:pt x="1583" y="1404"/>
                    </a:lnTo>
                    <a:lnTo>
                      <a:pt x="1540" y="1401"/>
                    </a:lnTo>
                    <a:lnTo>
                      <a:pt x="1500" y="1389"/>
                    </a:lnTo>
                    <a:lnTo>
                      <a:pt x="1465" y="1370"/>
                    </a:lnTo>
                    <a:lnTo>
                      <a:pt x="1433" y="1342"/>
                    </a:lnTo>
                    <a:lnTo>
                      <a:pt x="1405" y="1311"/>
                    </a:lnTo>
                    <a:lnTo>
                      <a:pt x="1374" y="1280"/>
                    </a:lnTo>
                    <a:lnTo>
                      <a:pt x="1346" y="1253"/>
                    </a:lnTo>
                    <a:lnTo>
                      <a:pt x="1314" y="1222"/>
                    </a:lnTo>
                    <a:lnTo>
                      <a:pt x="1314" y="1179"/>
                    </a:lnTo>
                    <a:lnTo>
                      <a:pt x="1314" y="1137"/>
                    </a:lnTo>
                    <a:lnTo>
                      <a:pt x="1314" y="1098"/>
                    </a:lnTo>
                    <a:lnTo>
                      <a:pt x="1318" y="1055"/>
                    </a:lnTo>
                    <a:lnTo>
                      <a:pt x="1326" y="1017"/>
                    </a:lnTo>
                    <a:lnTo>
                      <a:pt x="1342" y="986"/>
                    </a:lnTo>
                    <a:lnTo>
                      <a:pt x="1374" y="955"/>
                    </a:lnTo>
                    <a:lnTo>
                      <a:pt x="1413" y="931"/>
                    </a:lnTo>
                    <a:lnTo>
                      <a:pt x="1389" y="908"/>
                    </a:lnTo>
                    <a:lnTo>
                      <a:pt x="1366" y="881"/>
                    </a:lnTo>
                    <a:lnTo>
                      <a:pt x="1346" y="850"/>
                    </a:lnTo>
                    <a:lnTo>
                      <a:pt x="1330" y="819"/>
                    </a:lnTo>
                    <a:lnTo>
                      <a:pt x="1314" y="788"/>
                    </a:lnTo>
                    <a:lnTo>
                      <a:pt x="1302" y="753"/>
                    </a:lnTo>
                    <a:lnTo>
                      <a:pt x="1294" y="714"/>
                    </a:lnTo>
                    <a:lnTo>
                      <a:pt x="1286" y="679"/>
                    </a:lnTo>
                    <a:lnTo>
                      <a:pt x="1310" y="629"/>
                    </a:lnTo>
                    <a:lnTo>
                      <a:pt x="1326" y="574"/>
                    </a:lnTo>
                    <a:lnTo>
                      <a:pt x="1350" y="524"/>
                    </a:lnTo>
                    <a:lnTo>
                      <a:pt x="1385" y="477"/>
                    </a:lnTo>
                    <a:lnTo>
                      <a:pt x="1366" y="462"/>
                    </a:lnTo>
                    <a:lnTo>
                      <a:pt x="1342" y="458"/>
                    </a:lnTo>
                    <a:lnTo>
                      <a:pt x="1318" y="454"/>
                    </a:lnTo>
                    <a:lnTo>
                      <a:pt x="1298" y="450"/>
                    </a:lnTo>
                    <a:lnTo>
                      <a:pt x="1275" y="446"/>
                    </a:lnTo>
                    <a:lnTo>
                      <a:pt x="1255" y="439"/>
                    </a:lnTo>
                    <a:lnTo>
                      <a:pt x="1235" y="427"/>
                    </a:lnTo>
                    <a:lnTo>
                      <a:pt x="1215" y="408"/>
                    </a:lnTo>
                    <a:lnTo>
                      <a:pt x="1188" y="388"/>
                    </a:lnTo>
                    <a:lnTo>
                      <a:pt x="1168" y="357"/>
                    </a:lnTo>
                    <a:lnTo>
                      <a:pt x="1152" y="322"/>
                    </a:lnTo>
                    <a:lnTo>
                      <a:pt x="1144" y="287"/>
                    </a:lnTo>
                    <a:lnTo>
                      <a:pt x="1128" y="256"/>
                    </a:lnTo>
                    <a:lnTo>
                      <a:pt x="1112" y="241"/>
                    </a:lnTo>
                    <a:lnTo>
                      <a:pt x="1085" y="245"/>
                    </a:lnTo>
                    <a:lnTo>
                      <a:pt x="1045" y="272"/>
                    </a:lnTo>
                    <a:lnTo>
                      <a:pt x="1013" y="264"/>
                    </a:lnTo>
                    <a:lnTo>
                      <a:pt x="982" y="260"/>
                    </a:lnTo>
                    <a:lnTo>
                      <a:pt x="950" y="264"/>
                    </a:lnTo>
                    <a:lnTo>
                      <a:pt x="918" y="272"/>
                    </a:lnTo>
                    <a:lnTo>
                      <a:pt x="887" y="287"/>
                    </a:lnTo>
                    <a:lnTo>
                      <a:pt x="859" y="303"/>
                    </a:lnTo>
                    <a:lnTo>
                      <a:pt x="831" y="322"/>
                    </a:lnTo>
                    <a:lnTo>
                      <a:pt x="804" y="342"/>
                    </a:lnTo>
                    <a:lnTo>
                      <a:pt x="772" y="377"/>
                    </a:lnTo>
                    <a:lnTo>
                      <a:pt x="756" y="423"/>
                    </a:lnTo>
                    <a:lnTo>
                      <a:pt x="752" y="470"/>
                    </a:lnTo>
                    <a:lnTo>
                      <a:pt x="760" y="516"/>
                    </a:lnTo>
                    <a:lnTo>
                      <a:pt x="780" y="540"/>
                    </a:lnTo>
                    <a:lnTo>
                      <a:pt x="804" y="567"/>
                    </a:lnTo>
                    <a:lnTo>
                      <a:pt x="827" y="590"/>
                    </a:lnTo>
                    <a:lnTo>
                      <a:pt x="851" y="613"/>
                    </a:lnTo>
                    <a:lnTo>
                      <a:pt x="879" y="633"/>
                    </a:lnTo>
                    <a:lnTo>
                      <a:pt x="903" y="648"/>
                    </a:lnTo>
                    <a:lnTo>
                      <a:pt x="934" y="660"/>
                    </a:lnTo>
                    <a:lnTo>
                      <a:pt x="962" y="660"/>
                    </a:lnTo>
                    <a:lnTo>
                      <a:pt x="1009" y="706"/>
                    </a:lnTo>
                    <a:lnTo>
                      <a:pt x="982" y="726"/>
                    </a:lnTo>
                    <a:lnTo>
                      <a:pt x="1013" y="741"/>
                    </a:lnTo>
                    <a:lnTo>
                      <a:pt x="1049" y="749"/>
                    </a:lnTo>
                    <a:lnTo>
                      <a:pt x="1085" y="753"/>
                    </a:lnTo>
                    <a:lnTo>
                      <a:pt x="1124" y="757"/>
                    </a:lnTo>
                    <a:lnTo>
                      <a:pt x="1160" y="761"/>
                    </a:lnTo>
                    <a:lnTo>
                      <a:pt x="1191" y="768"/>
                    </a:lnTo>
                    <a:lnTo>
                      <a:pt x="1219" y="784"/>
                    </a:lnTo>
                    <a:lnTo>
                      <a:pt x="1239" y="807"/>
                    </a:lnTo>
                    <a:lnTo>
                      <a:pt x="1231" y="838"/>
                    </a:lnTo>
                    <a:lnTo>
                      <a:pt x="1215" y="854"/>
                    </a:lnTo>
                    <a:lnTo>
                      <a:pt x="1195" y="861"/>
                    </a:lnTo>
                    <a:lnTo>
                      <a:pt x="1176" y="858"/>
                    </a:lnTo>
                    <a:lnTo>
                      <a:pt x="1152" y="854"/>
                    </a:lnTo>
                    <a:lnTo>
                      <a:pt x="1128" y="846"/>
                    </a:lnTo>
                    <a:lnTo>
                      <a:pt x="1100" y="842"/>
                    </a:lnTo>
                    <a:lnTo>
                      <a:pt x="1077" y="842"/>
                    </a:lnTo>
                    <a:lnTo>
                      <a:pt x="1053" y="850"/>
                    </a:lnTo>
                    <a:lnTo>
                      <a:pt x="1029" y="861"/>
                    </a:lnTo>
                    <a:lnTo>
                      <a:pt x="1009" y="873"/>
                    </a:lnTo>
                    <a:lnTo>
                      <a:pt x="986" y="885"/>
                    </a:lnTo>
                    <a:lnTo>
                      <a:pt x="962" y="892"/>
                    </a:lnTo>
                    <a:lnTo>
                      <a:pt x="938" y="900"/>
                    </a:lnTo>
                    <a:lnTo>
                      <a:pt x="914" y="904"/>
                    </a:lnTo>
                    <a:lnTo>
                      <a:pt x="891" y="904"/>
                    </a:lnTo>
                    <a:lnTo>
                      <a:pt x="879" y="873"/>
                    </a:lnTo>
                    <a:lnTo>
                      <a:pt x="855" y="873"/>
                    </a:lnTo>
                    <a:lnTo>
                      <a:pt x="835" y="877"/>
                    </a:lnTo>
                    <a:lnTo>
                      <a:pt x="812" y="885"/>
                    </a:lnTo>
                    <a:lnTo>
                      <a:pt x="792" y="896"/>
                    </a:lnTo>
                    <a:lnTo>
                      <a:pt x="772" y="912"/>
                    </a:lnTo>
                    <a:lnTo>
                      <a:pt x="752" y="931"/>
                    </a:lnTo>
                    <a:lnTo>
                      <a:pt x="736" y="951"/>
                    </a:lnTo>
                    <a:lnTo>
                      <a:pt x="721" y="970"/>
                    </a:lnTo>
                    <a:lnTo>
                      <a:pt x="713" y="1032"/>
                    </a:lnTo>
                    <a:lnTo>
                      <a:pt x="713" y="1106"/>
                    </a:lnTo>
                    <a:lnTo>
                      <a:pt x="732" y="1176"/>
                    </a:lnTo>
                    <a:lnTo>
                      <a:pt x="780" y="1234"/>
                    </a:lnTo>
                    <a:lnTo>
                      <a:pt x="823" y="1242"/>
                    </a:lnTo>
                    <a:lnTo>
                      <a:pt x="863" y="1257"/>
                    </a:lnTo>
                    <a:lnTo>
                      <a:pt x="903" y="1276"/>
                    </a:lnTo>
                    <a:lnTo>
                      <a:pt x="942" y="1300"/>
                    </a:lnTo>
                    <a:lnTo>
                      <a:pt x="986" y="1319"/>
                    </a:lnTo>
                    <a:lnTo>
                      <a:pt x="1029" y="1327"/>
                    </a:lnTo>
                    <a:lnTo>
                      <a:pt x="1077" y="1327"/>
                    </a:lnTo>
                    <a:lnTo>
                      <a:pt x="1128" y="1311"/>
                    </a:lnTo>
                    <a:lnTo>
                      <a:pt x="1116" y="1342"/>
                    </a:lnTo>
                    <a:lnTo>
                      <a:pt x="1100" y="1366"/>
                    </a:lnTo>
                    <a:lnTo>
                      <a:pt x="1085" y="1381"/>
                    </a:lnTo>
                    <a:lnTo>
                      <a:pt x="1065" y="1397"/>
                    </a:lnTo>
                    <a:lnTo>
                      <a:pt x="1041" y="1404"/>
                    </a:lnTo>
                    <a:lnTo>
                      <a:pt x="1017" y="1412"/>
                    </a:lnTo>
                    <a:lnTo>
                      <a:pt x="990" y="1416"/>
                    </a:lnTo>
                    <a:lnTo>
                      <a:pt x="962" y="1424"/>
                    </a:lnTo>
                    <a:lnTo>
                      <a:pt x="914" y="1401"/>
                    </a:lnTo>
                    <a:lnTo>
                      <a:pt x="863" y="1381"/>
                    </a:lnTo>
                    <a:lnTo>
                      <a:pt x="812" y="1366"/>
                    </a:lnTo>
                    <a:lnTo>
                      <a:pt x="756" y="1350"/>
                    </a:lnTo>
                    <a:lnTo>
                      <a:pt x="709" y="1331"/>
                    </a:lnTo>
                    <a:lnTo>
                      <a:pt x="665" y="1300"/>
                    </a:lnTo>
                    <a:lnTo>
                      <a:pt x="633" y="1261"/>
                    </a:lnTo>
                    <a:lnTo>
                      <a:pt x="614" y="1203"/>
                    </a:lnTo>
                    <a:lnTo>
                      <a:pt x="598" y="1114"/>
                    </a:lnTo>
                    <a:lnTo>
                      <a:pt x="594" y="1020"/>
                    </a:lnTo>
                    <a:lnTo>
                      <a:pt x="610" y="935"/>
                    </a:lnTo>
                    <a:lnTo>
                      <a:pt x="649" y="854"/>
                    </a:lnTo>
                    <a:lnTo>
                      <a:pt x="669" y="834"/>
                    </a:lnTo>
                    <a:lnTo>
                      <a:pt x="689" y="815"/>
                    </a:lnTo>
                    <a:lnTo>
                      <a:pt x="713" y="803"/>
                    </a:lnTo>
                    <a:lnTo>
                      <a:pt x="736" y="792"/>
                    </a:lnTo>
                    <a:lnTo>
                      <a:pt x="760" y="780"/>
                    </a:lnTo>
                    <a:lnTo>
                      <a:pt x="784" y="772"/>
                    </a:lnTo>
                    <a:lnTo>
                      <a:pt x="808" y="768"/>
                    </a:lnTo>
                    <a:lnTo>
                      <a:pt x="831" y="761"/>
                    </a:lnTo>
                    <a:lnTo>
                      <a:pt x="823" y="745"/>
                    </a:lnTo>
                    <a:lnTo>
                      <a:pt x="812" y="733"/>
                    </a:lnTo>
                    <a:lnTo>
                      <a:pt x="796" y="718"/>
                    </a:lnTo>
                    <a:lnTo>
                      <a:pt x="780" y="702"/>
                    </a:lnTo>
                    <a:lnTo>
                      <a:pt x="760" y="691"/>
                    </a:lnTo>
                    <a:lnTo>
                      <a:pt x="744" y="675"/>
                    </a:lnTo>
                    <a:lnTo>
                      <a:pt x="724" y="664"/>
                    </a:lnTo>
                    <a:lnTo>
                      <a:pt x="705" y="652"/>
                    </a:lnTo>
                    <a:lnTo>
                      <a:pt x="661" y="582"/>
                    </a:lnTo>
                    <a:lnTo>
                      <a:pt x="637" y="497"/>
                    </a:lnTo>
                    <a:lnTo>
                      <a:pt x="633" y="412"/>
                    </a:lnTo>
                    <a:lnTo>
                      <a:pt x="649" y="326"/>
                    </a:lnTo>
                    <a:lnTo>
                      <a:pt x="598" y="330"/>
                    </a:lnTo>
                    <a:lnTo>
                      <a:pt x="542" y="342"/>
                    </a:lnTo>
                    <a:lnTo>
                      <a:pt x="491" y="361"/>
                    </a:lnTo>
                    <a:lnTo>
                      <a:pt x="444" y="384"/>
                    </a:lnTo>
                    <a:lnTo>
                      <a:pt x="396" y="415"/>
                    </a:lnTo>
                    <a:lnTo>
                      <a:pt x="352" y="450"/>
                    </a:lnTo>
                    <a:lnTo>
                      <a:pt x="317" y="493"/>
                    </a:lnTo>
                    <a:lnTo>
                      <a:pt x="289" y="543"/>
                    </a:lnTo>
                    <a:lnTo>
                      <a:pt x="281" y="571"/>
                    </a:lnTo>
                    <a:lnTo>
                      <a:pt x="273" y="602"/>
                    </a:lnTo>
                    <a:lnTo>
                      <a:pt x="269" y="629"/>
                    </a:lnTo>
                    <a:lnTo>
                      <a:pt x="277" y="660"/>
                    </a:lnTo>
                    <a:lnTo>
                      <a:pt x="301" y="687"/>
                    </a:lnTo>
                    <a:lnTo>
                      <a:pt x="329" y="710"/>
                    </a:lnTo>
                    <a:lnTo>
                      <a:pt x="356" y="730"/>
                    </a:lnTo>
                    <a:lnTo>
                      <a:pt x="384" y="753"/>
                    </a:lnTo>
                    <a:lnTo>
                      <a:pt x="404" y="772"/>
                    </a:lnTo>
                    <a:lnTo>
                      <a:pt x="416" y="799"/>
                    </a:lnTo>
                    <a:lnTo>
                      <a:pt x="412" y="827"/>
                    </a:lnTo>
                    <a:lnTo>
                      <a:pt x="388" y="861"/>
                    </a:lnTo>
                    <a:lnTo>
                      <a:pt x="404" y="869"/>
                    </a:lnTo>
                    <a:lnTo>
                      <a:pt x="424" y="877"/>
                    </a:lnTo>
                    <a:lnTo>
                      <a:pt x="444" y="881"/>
                    </a:lnTo>
                    <a:lnTo>
                      <a:pt x="463" y="881"/>
                    </a:lnTo>
                    <a:lnTo>
                      <a:pt x="479" y="885"/>
                    </a:lnTo>
                    <a:lnTo>
                      <a:pt x="499" y="892"/>
                    </a:lnTo>
                    <a:lnTo>
                      <a:pt x="511" y="904"/>
                    </a:lnTo>
                    <a:lnTo>
                      <a:pt x="519" y="923"/>
                    </a:lnTo>
                    <a:lnTo>
                      <a:pt x="511" y="958"/>
                    </a:lnTo>
                    <a:lnTo>
                      <a:pt x="495" y="974"/>
                    </a:lnTo>
                    <a:lnTo>
                      <a:pt x="467" y="978"/>
                    </a:lnTo>
                    <a:lnTo>
                      <a:pt x="436" y="978"/>
                    </a:lnTo>
                    <a:lnTo>
                      <a:pt x="400" y="970"/>
                    </a:lnTo>
                    <a:lnTo>
                      <a:pt x="364" y="970"/>
                    </a:lnTo>
                    <a:lnTo>
                      <a:pt x="333" y="974"/>
                    </a:lnTo>
                    <a:lnTo>
                      <a:pt x="305" y="989"/>
                    </a:lnTo>
                    <a:lnTo>
                      <a:pt x="277" y="1001"/>
                    </a:lnTo>
                    <a:lnTo>
                      <a:pt x="246" y="1020"/>
                    </a:lnTo>
                    <a:lnTo>
                      <a:pt x="218" y="1040"/>
                    </a:lnTo>
                    <a:lnTo>
                      <a:pt x="190" y="1059"/>
                    </a:lnTo>
                    <a:lnTo>
                      <a:pt x="166" y="1086"/>
                    </a:lnTo>
                    <a:lnTo>
                      <a:pt x="143" y="1110"/>
                    </a:lnTo>
                    <a:lnTo>
                      <a:pt x="127" y="1141"/>
                    </a:lnTo>
                    <a:lnTo>
                      <a:pt x="111" y="1168"/>
                    </a:lnTo>
                    <a:lnTo>
                      <a:pt x="119" y="1218"/>
                    </a:lnTo>
                    <a:lnTo>
                      <a:pt x="143" y="1257"/>
                    </a:lnTo>
                    <a:lnTo>
                      <a:pt x="174" y="1288"/>
                    </a:lnTo>
                    <a:lnTo>
                      <a:pt x="214" y="1311"/>
                    </a:lnTo>
                    <a:lnTo>
                      <a:pt x="258" y="1335"/>
                    </a:lnTo>
                    <a:lnTo>
                      <a:pt x="301" y="1354"/>
                    </a:lnTo>
                    <a:lnTo>
                      <a:pt x="345" y="1377"/>
                    </a:lnTo>
                    <a:lnTo>
                      <a:pt x="380" y="1404"/>
                    </a:lnTo>
                    <a:lnTo>
                      <a:pt x="352" y="1424"/>
                    </a:lnTo>
                    <a:lnTo>
                      <a:pt x="360" y="1428"/>
                    </a:lnTo>
                    <a:lnTo>
                      <a:pt x="364" y="1435"/>
                    </a:lnTo>
                    <a:lnTo>
                      <a:pt x="364" y="1439"/>
                    </a:lnTo>
                    <a:lnTo>
                      <a:pt x="364" y="1447"/>
                    </a:lnTo>
                    <a:lnTo>
                      <a:pt x="313" y="1439"/>
                    </a:lnTo>
                    <a:lnTo>
                      <a:pt x="261" y="1432"/>
                    </a:lnTo>
                    <a:lnTo>
                      <a:pt x="210" y="1424"/>
                    </a:lnTo>
                    <a:lnTo>
                      <a:pt x="163" y="1408"/>
                    </a:lnTo>
                    <a:lnTo>
                      <a:pt x="115" y="1385"/>
                    </a:lnTo>
                    <a:lnTo>
                      <a:pt x="75" y="1358"/>
                    </a:lnTo>
                    <a:lnTo>
                      <a:pt x="40" y="1323"/>
                    </a:lnTo>
                    <a:lnTo>
                      <a:pt x="12" y="1280"/>
                    </a:lnTo>
                    <a:lnTo>
                      <a:pt x="4" y="1234"/>
                    </a:lnTo>
                    <a:lnTo>
                      <a:pt x="0" y="1191"/>
                    </a:lnTo>
                    <a:lnTo>
                      <a:pt x="4" y="1148"/>
                    </a:lnTo>
                    <a:lnTo>
                      <a:pt x="12" y="1110"/>
                    </a:lnTo>
                    <a:lnTo>
                      <a:pt x="28" y="1071"/>
                    </a:lnTo>
                    <a:lnTo>
                      <a:pt x="48" y="1032"/>
                    </a:lnTo>
                    <a:lnTo>
                      <a:pt x="75" y="997"/>
                    </a:lnTo>
                    <a:lnTo>
                      <a:pt x="111" y="962"/>
                    </a:lnTo>
                    <a:lnTo>
                      <a:pt x="139" y="939"/>
                    </a:lnTo>
                    <a:lnTo>
                      <a:pt x="174" y="920"/>
                    </a:lnTo>
                    <a:lnTo>
                      <a:pt x="206" y="904"/>
                    </a:lnTo>
                    <a:lnTo>
                      <a:pt x="242" y="892"/>
                    </a:lnTo>
                    <a:lnTo>
                      <a:pt x="273" y="881"/>
                    </a:lnTo>
                    <a:lnTo>
                      <a:pt x="309" y="873"/>
                    </a:lnTo>
                    <a:lnTo>
                      <a:pt x="341" y="865"/>
                    </a:lnTo>
                    <a:lnTo>
                      <a:pt x="368" y="854"/>
                    </a:lnTo>
                    <a:lnTo>
                      <a:pt x="349" y="846"/>
                    </a:lnTo>
                    <a:lnTo>
                      <a:pt x="329" y="838"/>
                    </a:lnTo>
                    <a:lnTo>
                      <a:pt x="305" y="830"/>
                    </a:lnTo>
                    <a:lnTo>
                      <a:pt x="281" y="819"/>
                    </a:lnTo>
                    <a:lnTo>
                      <a:pt x="261" y="811"/>
                    </a:lnTo>
                    <a:lnTo>
                      <a:pt x="238" y="795"/>
                    </a:lnTo>
                    <a:lnTo>
                      <a:pt x="222" y="780"/>
                    </a:lnTo>
                    <a:lnTo>
                      <a:pt x="206" y="761"/>
                    </a:lnTo>
                    <a:lnTo>
                      <a:pt x="174" y="710"/>
                    </a:lnTo>
                    <a:lnTo>
                      <a:pt x="159" y="648"/>
                    </a:lnTo>
                    <a:lnTo>
                      <a:pt x="159" y="586"/>
                    </a:lnTo>
                    <a:lnTo>
                      <a:pt x="166" y="524"/>
                    </a:lnTo>
                    <a:lnTo>
                      <a:pt x="186" y="466"/>
                    </a:lnTo>
                    <a:lnTo>
                      <a:pt x="218" y="415"/>
                    </a:lnTo>
                    <a:lnTo>
                      <a:pt x="258" y="373"/>
                    </a:lnTo>
                    <a:lnTo>
                      <a:pt x="301" y="334"/>
                    </a:lnTo>
                    <a:lnTo>
                      <a:pt x="352" y="299"/>
                    </a:lnTo>
                    <a:lnTo>
                      <a:pt x="408" y="272"/>
                    </a:lnTo>
                    <a:lnTo>
                      <a:pt x="463" y="245"/>
                    </a:lnTo>
                    <a:lnTo>
                      <a:pt x="519" y="225"/>
                    </a:lnTo>
                    <a:lnTo>
                      <a:pt x="546" y="225"/>
                    </a:lnTo>
                    <a:lnTo>
                      <a:pt x="570" y="225"/>
                    </a:lnTo>
                    <a:lnTo>
                      <a:pt x="594" y="225"/>
                    </a:lnTo>
                    <a:lnTo>
                      <a:pt x="618" y="225"/>
                    </a:lnTo>
                    <a:lnTo>
                      <a:pt x="637" y="225"/>
                    </a:lnTo>
                    <a:lnTo>
                      <a:pt x="661" y="229"/>
                    </a:lnTo>
                    <a:lnTo>
                      <a:pt x="681" y="233"/>
                    </a:lnTo>
                    <a:lnTo>
                      <a:pt x="705" y="245"/>
                    </a:lnTo>
                    <a:lnTo>
                      <a:pt x="752" y="218"/>
                    </a:lnTo>
                    <a:lnTo>
                      <a:pt x="800" y="194"/>
                    </a:lnTo>
                    <a:lnTo>
                      <a:pt x="855" y="175"/>
                    </a:lnTo>
                    <a:lnTo>
                      <a:pt x="907" y="163"/>
                    </a:lnTo>
                    <a:lnTo>
                      <a:pt x="962" y="156"/>
                    </a:lnTo>
                    <a:lnTo>
                      <a:pt x="1017" y="152"/>
                    </a:lnTo>
                    <a:lnTo>
                      <a:pt x="1069" y="156"/>
                    </a:lnTo>
                    <a:lnTo>
                      <a:pt x="1120" y="163"/>
                    </a:lnTo>
                    <a:lnTo>
                      <a:pt x="1120" y="171"/>
                    </a:lnTo>
                    <a:lnTo>
                      <a:pt x="1124" y="175"/>
                    </a:lnTo>
                    <a:lnTo>
                      <a:pt x="1132" y="183"/>
                    </a:lnTo>
                    <a:lnTo>
                      <a:pt x="1136" y="190"/>
                    </a:lnTo>
                    <a:lnTo>
                      <a:pt x="1152" y="163"/>
                    </a:lnTo>
                    <a:lnTo>
                      <a:pt x="1168" y="132"/>
                    </a:lnTo>
                    <a:lnTo>
                      <a:pt x="1184" y="105"/>
                    </a:lnTo>
                    <a:lnTo>
                      <a:pt x="1203" y="78"/>
                    </a:lnTo>
                    <a:lnTo>
                      <a:pt x="1223" y="55"/>
                    </a:lnTo>
                    <a:lnTo>
                      <a:pt x="1247" y="31"/>
                    </a:lnTo>
                    <a:lnTo>
                      <a:pt x="1275" y="12"/>
                    </a:lnTo>
                    <a:lnTo>
                      <a:pt x="1306" y="0"/>
                    </a:lnTo>
                    <a:lnTo>
                      <a:pt x="1350" y="0"/>
                    </a:lnTo>
                    <a:lnTo>
                      <a:pt x="1393" y="0"/>
                    </a:lnTo>
                    <a:lnTo>
                      <a:pt x="1437" y="4"/>
                    </a:lnTo>
                    <a:lnTo>
                      <a:pt x="1480" y="8"/>
                    </a:lnTo>
                    <a:lnTo>
                      <a:pt x="1520" y="16"/>
                    </a:lnTo>
                    <a:lnTo>
                      <a:pt x="1560" y="28"/>
                    </a:lnTo>
                    <a:lnTo>
                      <a:pt x="1599" y="39"/>
                    </a:lnTo>
                    <a:lnTo>
                      <a:pt x="1639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130960" y="2171160"/>
                <a:ext cx="82800" cy="159840"/>
              </a:xfrm>
              <a:custGeom>
                <a:avLst/>
                <a:gdLst/>
                <a:ahLst/>
                <a:rect l="l" t="t" r="r" b="b"/>
                <a:pathLst>
                  <a:path w="131" h="252">
                    <a:moveTo>
                      <a:pt x="131" y="62"/>
                    </a:moveTo>
                    <a:lnTo>
                      <a:pt x="119" y="113"/>
                    </a:lnTo>
                    <a:lnTo>
                      <a:pt x="103" y="159"/>
                    </a:lnTo>
                    <a:lnTo>
                      <a:pt x="83" y="206"/>
                    </a:lnTo>
                    <a:lnTo>
                      <a:pt x="55" y="252"/>
                    </a:lnTo>
                    <a:lnTo>
                      <a:pt x="16" y="244"/>
                    </a:lnTo>
                    <a:lnTo>
                      <a:pt x="0" y="206"/>
                    </a:lnTo>
                    <a:lnTo>
                      <a:pt x="4" y="151"/>
                    </a:lnTo>
                    <a:lnTo>
                      <a:pt x="12" y="97"/>
                    </a:lnTo>
                    <a:lnTo>
                      <a:pt x="20" y="70"/>
                    </a:lnTo>
                    <a:lnTo>
                      <a:pt x="16" y="35"/>
                    </a:lnTo>
                    <a:lnTo>
                      <a:pt x="24" y="8"/>
                    </a:lnTo>
                    <a:lnTo>
                      <a:pt x="55" y="0"/>
                    </a:lnTo>
                    <a:lnTo>
                      <a:pt x="83" y="8"/>
                    </a:lnTo>
                    <a:lnTo>
                      <a:pt x="107" y="19"/>
                    </a:lnTo>
                    <a:lnTo>
                      <a:pt x="123" y="35"/>
                    </a:lnTo>
                    <a:lnTo>
                      <a:pt x="131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188560" y="2543400"/>
                <a:ext cx="72720" cy="103320"/>
              </a:xfrm>
              <a:custGeom>
                <a:avLst/>
                <a:gdLst/>
                <a:ahLst/>
                <a:rect l="l" t="t" r="r" b="b"/>
                <a:pathLst>
                  <a:path w="115" h="163">
                    <a:moveTo>
                      <a:pt x="115" y="54"/>
                    </a:moveTo>
                    <a:lnTo>
                      <a:pt x="79" y="163"/>
                    </a:lnTo>
                    <a:lnTo>
                      <a:pt x="67" y="155"/>
                    </a:lnTo>
                    <a:lnTo>
                      <a:pt x="47" y="151"/>
                    </a:lnTo>
                    <a:lnTo>
                      <a:pt x="24" y="155"/>
                    </a:lnTo>
                    <a:lnTo>
                      <a:pt x="4" y="155"/>
                    </a:lnTo>
                    <a:lnTo>
                      <a:pt x="0" y="116"/>
                    </a:lnTo>
                    <a:lnTo>
                      <a:pt x="12" y="81"/>
                    </a:lnTo>
                    <a:lnTo>
                      <a:pt x="28" y="42"/>
                    </a:lnTo>
                    <a:lnTo>
                      <a:pt x="32" y="0"/>
                    </a:lnTo>
                    <a:lnTo>
                      <a:pt x="59" y="4"/>
                    </a:lnTo>
                    <a:lnTo>
                      <a:pt x="87" y="11"/>
                    </a:lnTo>
                    <a:lnTo>
                      <a:pt x="107" y="27"/>
                    </a:lnTo>
                    <a:lnTo>
                      <a:pt x="115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661240" y="2567520"/>
                <a:ext cx="95040" cy="223920"/>
              </a:xfrm>
              <a:custGeom>
                <a:avLst/>
                <a:gdLst/>
                <a:ahLst/>
                <a:rect l="l" t="t" r="r" b="b"/>
                <a:pathLst>
                  <a:path w="150" h="353">
                    <a:moveTo>
                      <a:pt x="146" y="94"/>
                    </a:moveTo>
                    <a:lnTo>
                      <a:pt x="150" y="159"/>
                    </a:lnTo>
                    <a:lnTo>
                      <a:pt x="139" y="229"/>
                    </a:lnTo>
                    <a:lnTo>
                      <a:pt x="115" y="295"/>
                    </a:lnTo>
                    <a:lnTo>
                      <a:pt x="71" y="353"/>
                    </a:lnTo>
                    <a:lnTo>
                      <a:pt x="71" y="346"/>
                    </a:lnTo>
                    <a:lnTo>
                      <a:pt x="0" y="334"/>
                    </a:lnTo>
                    <a:lnTo>
                      <a:pt x="28" y="256"/>
                    </a:lnTo>
                    <a:lnTo>
                      <a:pt x="44" y="171"/>
                    </a:lnTo>
                    <a:lnTo>
                      <a:pt x="44" y="86"/>
                    </a:lnTo>
                    <a:lnTo>
                      <a:pt x="28" y="0"/>
                    </a:lnTo>
                    <a:lnTo>
                      <a:pt x="47" y="0"/>
                    </a:lnTo>
                    <a:lnTo>
                      <a:pt x="67" y="8"/>
                    </a:lnTo>
                    <a:lnTo>
                      <a:pt x="83" y="16"/>
                    </a:lnTo>
                    <a:lnTo>
                      <a:pt x="99" y="28"/>
                    </a:lnTo>
                    <a:lnTo>
                      <a:pt x="115" y="43"/>
                    </a:lnTo>
                    <a:lnTo>
                      <a:pt x="127" y="59"/>
                    </a:lnTo>
                    <a:lnTo>
                      <a:pt x="139" y="74"/>
                    </a:lnTo>
                    <a:lnTo>
                      <a:pt x="146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246080" y="2973960"/>
                <a:ext cx="1550520" cy="96480"/>
              </a:xfrm>
              <a:custGeom>
                <a:avLst/>
                <a:gdLst/>
                <a:ahLst/>
                <a:rect l="l" t="t" r="r" b="b"/>
                <a:pathLst>
                  <a:path w="2442" h="152">
                    <a:moveTo>
                      <a:pt x="2414" y="28"/>
                    </a:moveTo>
                    <a:lnTo>
                      <a:pt x="2434" y="47"/>
                    </a:lnTo>
                    <a:lnTo>
                      <a:pt x="2442" y="78"/>
                    </a:lnTo>
                    <a:lnTo>
                      <a:pt x="2438" y="109"/>
                    </a:lnTo>
                    <a:lnTo>
                      <a:pt x="2422" y="132"/>
                    </a:lnTo>
                    <a:lnTo>
                      <a:pt x="2268" y="136"/>
                    </a:lnTo>
                    <a:lnTo>
                      <a:pt x="2117" y="144"/>
                    </a:lnTo>
                    <a:lnTo>
                      <a:pt x="1967" y="144"/>
                    </a:lnTo>
                    <a:lnTo>
                      <a:pt x="1820" y="148"/>
                    </a:lnTo>
                    <a:lnTo>
                      <a:pt x="1674" y="152"/>
                    </a:lnTo>
                    <a:lnTo>
                      <a:pt x="1528" y="152"/>
                    </a:lnTo>
                    <a:lnTo>
                      <a:pt x="1385" y="152"/>
                    </a:lnTo>
                    <a:lnTo>
                      <a:pt x="1239" y="148"/>
                    </a:lnTo>
                    <a:lnTo>
                      <a:pt x="1092" y="148"/>
                    </a:lnTo>
                    <a:lnTo>
                      <a:pt x="946" y="144"/>
                    </a:lnTo>
                    <a:lnTo>
                      <a:pt x="799" y="140"/>
                    </a:lnTo>
                    <a:lnTo>
                      <a:pt x="653" y="132"/>
                    </a:lnTo>
                    <a:lnTo>
                      <a:pt x="503" y="128"/>
                    </a:lnTo>
                    <a:lnTo>
                      <a:pt x="348" y="121"/>
                    </a:lnTo>
                    <a:lnTo>
                      <a:pt x="198" y="109"/>
                    </a:lnTo>
                    <a:lnTo>
                      <a:pt x="39" y="101"/>
                    </a:lnTo>
                    <a:lnTo>
                      <a:pt x="12" y="86"/>
                    </a:lnTo>
                    <a:lnTo>
                      <a:pt x="0" y="62"/>
                    </a:lnTo>
                    <a:lnTo>
                      <a:pt x="4" y="35"/>
                    </a:lnTo>
                    <a:lnTo>
                      <a:pt x="20" y="12"/>
                    </a:lnTo>
                    <a:lnTo>
                      <a:pt x="111" y="4"/>
                    </a:lnTo>
                    <a:lnTo>
                      <a:pt x="202" y="0"/>
                    </a:lnTo>
                    <a:lnTo>
                      <a:pt x="293" y="0"/>
                    </a:lnTo>
                    <a:lnTo>
                      <a:pt x="384" y="0"/>
                    </a:lnTo>
                    <a:lnTo>
                      <a:pt x="475" y="0"/>
                    </a:lnTo>
                    <a:lnTo>
                      <a:pt x="562" y="4"/>
                    </a:lnTo>
                    <a:lnTo>
                      <a:pt x="653" y="8"/>
                    </a:lnTo>
                    <a:lnTo>
                      <a:pt x="744" y="12"/>
                    </a:lnTo>
                    <a:lnTo>
                      <a:pt x="835" y="16"/>
                    </a:lnTo>
                    <a:lnTo>
                      <a:pt x="926" y="20"/>
                    </a:lnTo>
                    <a:lnTo>
                      <a:pt x="1013" y="24"/>
                    </a:lnTo>
                    <a:lnTo>
                      <a:pt x="1104" y="24"/>
                    </a:lnTo>
                    <a:lnTo>
                      <a:pt x="1195" y="28"/>
                    </a:lnTo>
                    <a:lnTo>
                      <a:pt x="1282" y="28"/>
                    </a:lnTo>
                    <a:lnTo>
                      <a:pt x="1373" y="28"/>
                    </a:lnTo>
                    <a:lnTo>
                      <a:pt x="1460" y="24"/>
                    </a:lnTo>
                    <a:lnTo>
                      <a:pt x="1524" y="28"/>
                    </a:lnTo>
                    <a:lnTo>
                      <a:pt x="1587" y="28"/>
                    </a:lnTo>
                    <a:lnTo>
                      <a:pt x="1650" y="28"/>
                    </a:lnTo>
                    <a:lnTo>
                      <a:pt x="1710" y="28"/>
                    </a:lnTo>
                    <a:lnTo>
                      <a:pt x="1769" y="31"/>
                    </a:lnTo>
                    <a:lnTo>
                      <a:pt x="1824" y="31"/>
                    </a:lnTo>
                    <a:lnTo>
                      <a:pt x="1884" y="31"/>
                    </a:lnTo>
                    <a:lnTo>
                      <a:pt x="1939" y="31"/>
                    </a:lnTo>
                    <a:lnTo>
                      <a:pt x="1998" y="31"/>
                    </a:lnTo>
                    <a:lnTo>
                      <a:pt x="2054" y="28"/>
                    </a:lnTo>
                    <a:lnTo>
                      <a:pt x="2113" y="28"/>
                    </a:lnTo>
                    <a:lnTo>
                      <a:pt x="2169" y="28"/>
                    </a:lnTo>
                    <a:lnTo>
                      <a:pt x="2228" y="28"/>
                    </a:lnTo>
                    <a:lnTo>
                      <a:pt x="2291" y="28"/>
                    </a:lnTo>
                    <a:lnTo>
                      <a:pt x="2351" y="28"/>
                    </a:lnTo>
                    <a:lnTo>
                      <a:pt x="2414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7293960" y="3178440"/>
                <a:ext cx="1379880" cy="1019880"/>
              </a:xfrm>
              <a:custGeom>
                <a:avLst/>
                <a:gdLst/>
                <a:ahLst/>
                <a:rect l="l" t="t" r="r" b="b"/>
                <a:pathLst>
                  <a:path w="2173" h="1606">
                    <a:moveTo>
                      <a:pt x="629" y="62"/>
                    </a:moveTo>
                    <a:lnTo>
                      <a:pt x="621" y="97"/>
                    </a:lnTo>
                    <a:lnTo>
                      <a:pt x="629" y="121"/>
                    </a:lnTo>
                    <a:lnTo>
                      <a:pt x="645" y="140"/>
                    </a:lnTo>
                    <a:lnTo>
                      <a:pt x="669" y="155"/>
                    </a:lnTo>
                    <a:lnTo>
                      <a:pt x="689" y="175"/>
                    </a:lnTo>
                    <a:lnTo>
                      <a:pt x="705" y="194"/>
                    </a:lnTo>
                    <a:lnTo>
                      <a:pt x="705" y="218"/>
                    </a:lnTo>
                    <a:lnTo>
                      <a:pt x="693" y="252"/>
                    </a:lnTo>
                    <a:lnTo>
                      <a:pt x="661" y="315"/>
                    </a:lnTo>
                    <a:lnTo>
                      <a:pt x="637" y="377"/>
                    </a:lnTo>
                    <a:lnTo>
                      <a:pt x="617" y="439"/>
                    </a:lnTo>
                    <a:lnTo>
                      <a:pt x="598" y="505"/>
                    </a:lnTo>
                    <a:lnTo>
                      <a:pt x="578" y="570"/>
                    </a:lnTo>
                    <a:lnTo>
                      <a:pt x="558" y="636"/>
                    </a:lnTo>
                    <a:lnTo>
                      <a:pt x="538" y="702"/>
                    </a:lnTo>
                    <a:lnTo>
                      <a:pt x="515" y="768"/>
                    </a:lnTo>
                    <a:lnTo>
                      <a:pt x="562" y="788"/>
                    </a:lnTo>
                    <a:lnTo>
                      <a:pt x="610" y="788"/>
                    </a:lnTo>
                    <a:lnTo>
                      <a:pt x="661" y="792"/>
                    </a:lnTo>
                    <a:lnTo>
                      <a:pt x="712" y="792"/>
                    </a:lnTo>
                    <a:lnTo>
                      <a:pt x="764" y="795"/>
                    </a:lnTo>
                    <a:lnTo>
                      <a:pt x="815" y="795"/>
                    </a:lnTo>
                    <a:lnTo>
                      <a:pt x="871" y="799"/>
                    </a:lnTo>
                    <a:lnTo>
                      <a:pt x="926" y="799"/>
                    </a:lnTo>
                    <a:lnTo>
                      <a:pt x="982" y="799"/>
                    </a:lnTo>
                    <a:lnTo>
                      <a:pt x="1037" y="803"/>
                    </a:lnTo>
                    <a:lnTo>
                      <a:pt x="1096" y="803"/>
                    </a:lnTo>
                    <a:lnTo>
                      <a:pt x="1152" y="807"/>
                    </a:lnTo>
                    <a:lnTo>
                      <a:pt x="1207" y="807"/>
                    </a:lnTo>
                    <a:lnTo>
                      <a:pt x="1263" y="811"/>
                    </a:lnTo>
                    <a:lnTo>
                      <a:pt x="1314" y="811"/>
                    </a:lnTo>
                    <a:lnTo>
                      <a:pt x="1369" y="815"/>
                    </a:lnTo>
                    <a:lnTo>
                      <a:pt x="1421" y="815"/>
                    </a:lnTo>
                    <a:lnTo>
                      <a:pt x="1429" y="788"/>
                    </a:lnTo>
                    <a:lnTo>
                      <a:pt x="1441" y="761"/>
                    </a:lnTo>
                    <a:lnTo>
                      <a:pt x="1453" y="733"/>
                    </a:lnTo>
                    <a:lnTo>
                      <a:pt x="1460" y="702"/>
                    </a:lnTo>
                    <a:lnTo>
                      <a:pt x="1468" y="570"/>
                    </a:lnTo>
                    <a:lnTo>
                      <a:pt x="1496" y="435"/>
                    </a:lnTo>
                    <a:lnTo>
                      <a:pt x="1524" y="299"/>
                    </a:lnTo>
                    <a:lnTo>
                      <a:pt x="1551" y="171"/>
                    </a:lnTo>
                    <a:lnTo>
                      <a:pt x="1524" y="175"/>
                    </a:lnTo>
                    <a:lnTo>
                      <a:pt x="1500" y="167"/>
                    </a:lnTo>
                    <a:lnTo>
                      <a:pt x="1480" y="155"/>
                    </a:lnTo>
                    <a:lnTo>
                      <a:pt x="1460" y="140"/>
                    </a:lnTo>
                    <a:lnTo>
                      <a:pt x="1445" y="128"/>
                    </a:lnTo>
                    <a:lnTo>
                      <a:pt x="1429" y="117"/>
                    </a:lnTo>
                    <a:lnTo>
                      <a:pt x="1413" y="117"/>
                    </a:lnTo>
                    <a:lnTo>
                      <a:pt x="1393" y="124"/>
                    </a:lnTo>
                    <a:lnTo>
                      <a:pt x="1433" y="206"/>
                    </a:lnTo>
                    <a:lnTo>
                      <a:pt x="1409" y="272"/>
                    </a:lnTo>
                    <a:lnTo>
                      <a:pt x="1393" y="346"/>
                    </a:lnTo>
                    <a:lnTo>
                      <a:pt x="1381" y="419"/>
                    </a:lnTo>
                    <a:lnTo>
                      <a:pt x="1369" y="497"/>
                    </a:lnTo>
                    <a:lnTo>
                      <a:pt x="1358" y="574"/>
                    </a:lnTo>
                    <a:lnTo>
                      <a:pt x="1342" y="644"/>
                    </a:lnTo>
                    <a:lnTo>
                      <a:pt x="1318" y="714"/>
                    </a:lnTo>
                    <a:lnTo>
                      <a:pt x="1282" y="776"/>
                    </a:lnTo>
                    <a:lnTo>
                      <a:pt x="1306" y="644"/>
                    </a:lnTo>
                    <a:lnTo>
                      <a:pt x="1326" y="501"/>
                    </a:lnTo>
                    <a:lnTo>
                      <a:pt x="1346" y="353"/>
                    </a:lnTo>
                    <a:lnTo>
                      <a:pt x="1373" y="218"/>
                    </a:lnTo>
                    <a:lnTo>
                      <a:pt x="1342" y="179"/>
                    </a:lnTo>
                    <a:lnTo>
                      <a:pt x="1338" y="136"/>
                    </a:lnTo>
                    <a:lnTo>
                      <a:pt x="1354" y="93"/>
                    </a:lnTo>
                    <a:lnTo>
                      <a:pt x="1373" y="51"/>
                    </a:lnTo>
                    <a:lnTo>
                      <a:pt x="1405" y="43"/>
                    </a:lnTo>
                    <a:lnTo>
                      <a:pt x="1429" y="47"/>
                    </a:lnTo>
                    <a:lnTo>
                      <a:pt x="1453" y="55"/>
                    </a:lnTo>
                    <a:lnTo>
                      <a:pt x="1472" y="70"/>
                    </a:lnTo>
                    <a:lnTo>
                      <a:pt x="1492" y="86"/>
                    </a:lnTo>
                    <a:lnTo>
                      <a:pt x="1516" y="101"/>
                    </a:lnTo>
                    <a:lnTo>
                      <a:pt x="1540" y="109"/>
                    </a:lnTo>
                    <a:lnTo>
                      <a:pt x="1571" y="109"/>
                    </a:lnTo>
                    <a:lnTo>
                      <a:pt x="1619" y="179"/>
                    </a:lnTo>
                    <a:lnTo>
                      <a:pt x="1603" y="260"/>
                    </a:lnTo>
                    <a:lnTo>
                      <a:pt x="1583" y="342"/>
                    </a:lnTo>
                    <a:lnTo>
                      <a:pt x="1563" y="423"/>
                    </a:lnTo>
                    <a:lnTo>
                      <a:pt x="1544" y="505"/>
                    </a:lnTo>
                    <a:lnTo>
                      <a:pt x="1524" y="586"/>
                    </a:lnTo>
                    <a:lnTo>
                      <a:pt x="1508" y="664"/>
                    </a:lnTo>
                    <a:lnTo>
                      <a:pt x="1492" y="745"/>
                    </a:lnTo>
                    <a:lnTo>
                      <a:pt x="1480" y="823"/>
                    </a:lnTo>
                    <a:lnTo>
                      <a:pt x="1520" y="830"/>
                    </a:lnTo>
                    <a:lnTo>
                      <a:pt x="1559" y="834"/>
                    </a:lnTo>
                    <a:lnTo>
                      <a:pt x="1603" y="838"/>
                    </a:lnTo>
                    <a:lnTo>
                      <a:pt x="1642" y="838"/>
                    </a:lnTo>
                    <a:lnTo>
                      <a:pt x="1686" y="842"/>
                    </a:lnTo>
                    <a:lnTo>
                      <a:pt x="1730" y="842"/>
                    </a:lnTo>
                    <a:lnTo>
                      <a:pt x="1773" y="842"/>
                    </a:lnTo>
                    <a:lnTo>
                      <a:pt x="1817" y="838"/>
                    </a:lnTo>
                    <a:lnTo>
                      <a:pt x="1860" y="838"/>
                    </a:lnTo>
                    <a:lnTo>
                      <a:pt x="1904" y="838"/>
                    </a:lnTo>
                    <a:lnTo>
                      <a:pt x="1947" y="838"/>
                    </a:lnTo>
                    <a:lnTo>
                      <a:pt x="1991" y="842"/>
                    </a:lnTo>
                    <a:lnTo>
                      <a:pt x="2030" y="846"/>
                    </a:lnTo>
                    <a:lnTo>
                      <a:pt x="2074" y="850"/>
                    </a:lnTo>
                    <a:lnTo>
                      <a:pt x="2113" y="858"/>
                    </a:lnTo>
                    <a:lnTo>
                      <a:pt x="2153" y="865"/>
                    </a:lnTo>
                    <a:lnTo>
                      <a:pt x="2157" y="892"/>
                    </a:lnTo>
                    <a:lnTo>
                      <a:pt x="2169" y="916"/>
                    </a:lnTo>
                    <a:lnTo>
                      <a:pt x="2173" y="939"/>
                    </a:lnTo>
                    <a:lnTo>
                      <a:pt x="2161" y="966"/>
                    </a:lnTo>
                    <a:lnTo>
                      <a:pt x="2106" y="958"/>
                    </a:lnTo>
                    <a:lnTo>
                      <a:pt x="2050" y="954"/>
                    </a:lnTo>
                    <a:lnTo>
                      <a:pt x="1999" y="954"/>
                    </a:lnTo>
                    <a:lnTo>
                      <a:pt x="1947" y="954"/>
                    </a:lnTo>
                    <a:lnTo>
                      <a:pt x="1892" y="954"/>
                    </a:lnTo>
                    <a:lnTo>
                      <a:pt x="1836" y="954"/>
                    </a:lnTo>
                    <a:lnTo>
                      <a:pt x="1777" y="951"/>
                    </a:lnTo>
                    <a:lnTo>
                      <a:pt x="1718" y="947"/>
                    </a:lnTo>
                    <a:lnTo>
                      <a:pt x="1698" y="966"/>
                    </a:lnTo>
                    <a:lnTo>
                      <a:pt x="1714" y="982"/>
                    </a:lnTo>
                    <a:lnTo>
                      <a:pt x="1734" y="986"/>
                    </a:lnTo>
                    <a:lnTo>
                      <a:pt x="1757" y="986"/>
                    </a:lnTo>
                    <a:lnTo>
                      <a:pt x="1781" y="986"/>
                    </a:lnTo>
                    <a:lnTo>
                      <a:pt x="1805" y="986"/>
                    </a:lnTo>
                    <a:lnTo>
                      <a:pt x="1828" y="989"/>
                    </a:lnTo>
                    <a:lnTo>
                      <a:pt x="1848" y="1005"/>
                    </a:lnTo>
                    <a:lnTo>
                      <a:pt x="1864" y="1028"/>
                    </a:lnTo>
                    <a:lnTo>
                      <a:pt x="1836" y="1094"/>
                    </a:lnTo>
                    <a:lnTo>
                      <a:pt x="1813" y="1164"/>
                    </a:lnTo>
                    <a:lnTo>
                      <a:pt x="1797" y="1234"/>
                    </a:lnTo>
                    <a:lnTo>
                      <a:pt x="1781" y="1307"/>
                    </a:lnTo>
                    <a:lnTo>
                      <a:pt x="1765" y="1385"/>
                    </a:lnTo>
                    <a:lnTo>
                      <a:pt x="1753" y="1459"/>
                    </a:lnTo>
                    <a:lnTo>
                      <a:pt x="1737" y="1532"/>
                    </a:lnTo>
                    <a:lnTo>
                      <a:pt x="1718" y="1606"/>
                    </a:lnTo>
                    <a:lnTo>
                      <a:pt x="1698" y="1606"/>
                    </a:lnTo>
                    <a:lnTo>
                      <a:pt x="1710" y="1490"/>
                    </a:lnTo>
                    <a:lnTo>
                      <a:pt x="1734" y="1369"/>
                    </a:lnTo>
                    <a:lnTo>
                      <a:pt x="1753" y="1249"/>
                    </a:lnTo>
                    <a:lnTo>
                      <a:pt x="1765" y="1125"/>
                    </a:lnTo>
                    <a:lnTo>
                      <a:pt x="1773" y="1110"/>
                    </a:lnTo>
                    <a:lnTo>
                      <a:pt x="1789" y="1094"/>
                    </a:lnTo>
                    <a:lnTo>
                      <a:pt x="1805" y="1079"/>
                    </a:lnTo>
                    <a:lnTo>
                      <a:pt x="1817" y="1063"/>
                    </a:lnTo>
                    <a:lnTo>
                      <a:pt x="1789" y="1036"/>
                    </a:lnTo>
                    <a:lnTo>
                      <a:pt x="1773" y="1055"/>
                    </a:lnTo>
                    <a:lnTo>
                      <a:pt x="1757" y="1063"/>
                    </a:lnTo>
                    <a:lnTo>
                      <a:pt x="1741" y="1059"/>
                    </a:lnTo>
                    <a:lnTo>
                      <a:pt x="1722" y="1051"/>
                    </a:lnTo>
                    <a:lnTo>
                      <a:pt x="1706" y="1040"/>
                    </a:lnTo>
                    <a:lnTo>
                      <a:pt x="1686" y="1028"/>
                    </a:lnTo>
                    <a:lnTo>
                      <a:pt x="1670" y="1017"/>
                    </a:lnTo>
                    <a:lnTo>
                      <a:pt x="1650" y="1017"/>
                    </a:lnTo>
                    <a:lnTo>
                      <a:pt x="1642" y="1044"/>
                    </a:lnTo>
                    <a:lnTo>
                      <a:pt x="1650" y="1071"/>
                    </a:lnTo>
                    <a:lnTo>
                      <a:pt x="1666" y="1094"/>
                    </a:lnTo>
                    <a:lnTo>
                      <a:pt x="1678" y="1117"/>
                    </a:lnTo>
                    <a:lnTo>
                      <a:pt x="1658" y="1218"/>
                    </a:lnTo>
                    <a:lnTo>
                      <a:pt x="1642" y="1319"/>
                    </a:lnTo>
                    <a:lnTo>
                      <a:pt x="1615" y="1416"/>
                    </a:lnTo>
                    <a:lnTo>
                      <a:pt x="1579" y="1509"/>
                    </a:lnTo>
                    <a:lnTo>
                      <a:pt x="1579" y="1393"/>
                    </a:lnTo>
                    <a:lnTo>
                      <a:pt x="1603" y="1273"/>
                    </a:lnTo>
                    <a:lnTo>
                      <a:pt x="1615" y="1156"/>
                    </a:lnTo>
                    <a:lnTo>
                      <a:pt x="1587" y="1044"/>
                    </a:lnTo>
                    <a:lnTo>
                      <a:pt x="1587" y="1017"/>
                    </a:lnTo>
                    <a:lnTo>
                      <a:pt x="1599" y="993"/>
                    </a:lnTo>
                    <a:lnTo>
                      <a:pt x="1615" y="974"/>
                    </a:lnTo>
                    <a:lnTo>
                      <a:pt x="1635" y="954"/>
                    </a:lnTo>
                    <a:lnTo>
                      <a:pt x="1536" y="943"/>
                    </a:lnTo>
                    <a:lnTo>
                      <a:pt x="1441" y="935"/>
                    </a:lnTo>
                    <a:lnTo>
                      <a:pt x="1338" y="927"/>
                    </a:lnTo>
                    <a:lnTo>
                      <a:pt x="1239" y="920"/>
                    </a:lnTo>
                    <a:lnTo>
                      <a:pt x="1140" y="916"/>
                    </a:lnTo>
                    <a:lnTo>
                      <a:pt x="1037" y="908"/>
                    </a:lnTo>
                    <a:lnTo>
                      <a:pt x="934" y="904"/>
                    </a:lnTo>
                    <a:lnTo>
                      <a:pt x="835" y="900"/>
                    </a:lnTo>
                    <a:lnTo>
                      <a:pt x="732" y="896"/>
                    </a:lnTo>
                    <a:lnTo>
                      <a:pt x="629" y="889"/>
                    </a:lnTo>
                    <a:lnTo>
                      <a:pt x="526" y="885"/>
                    </a:lnTo>
                    <a:lnTo>
                      <a:pt x="428" y="881"/>
                    </a:lnTo>
                    <a:lnTo>
                      <a:pt x="329" y="873"/>
                    </a:lnTo>
                    <a:lnTo>
                      <a:pt x="226" y="865"/>
                    </a:lnTo>
                    <a:lnTo>
                      <a:pt x="131" y="858"/>
                    </a:lnTo>
                    <a:lnTo>
                      <a:pt x="32" y="850"/>
                    </a:lnTo>
                    <a:lnTo>
                      <a:pt x="4" y="834"/>
                    </a:lnTo>
                    <a:lnTo>
                      <a:pt x="0" y="811"/>
                    </a:lnTo>
                    <a:lnTo>
                      <a:pt x="4" y="784"/>
                    </a:lnTo>
                    <a:lnTo>
                      <a:pt x="12" y="761"/>
                    </a:lnTo>
                    <a:lnTo>
                      <a:pt x="40" y="671"/>
                    </a:lnTo>
                    <a:lnTo>
                      <a:pt x="67" y="578"/>
                    </a:lnTo>
                    <a:lnTo>
                      <a:pt x="95" y="489"/>
                    </a:lnTo>
                    <a:lnTo>
                      <a:pt x="119" y="396"/>
                    </a:lnTo>
                    <a:lnTo>
                      <a:pt x="147" y="303"/>
                    </a:lnTo>
                    <a:lnTo>
                      <a:pt x="174" y="214"/>
                    </a:lnTo>
                    <a:lnTo>
                      <a:pt x="202" y="124"/>
                    </a:lnTo>
                    <a:lnTo>
                      <a:pt x="234" y="35"/>
                    </a:lnTo>
                    <a:lnTo>
                      <a:pt x="249" y="27"/>
                    </a:lnTo>
                    <a:lnTo>
                      <a:pt x="265" y="24"/>
                    </a:lnTo>
                    <a:lnTo>
                      <a:pt x="285" y="24"/>
                    </a:lnTo>
                    <a:lnTo>
                      <a:pt x="305" y="24"/>
                    </a:lnTo>
                    <a:lnTo>
                      <a:pt x="305" y="140"/>
                    </a:lnTo>
                    <a:lnTo>
                      <a:pt x="281" y="218"/>
                    </a:lnTo>
                    <a:lnTo>
                      <a:pt x="257" y="295"/>
                    </a:lnTo>
                    <a:lnTo>
                      <a:pt x="234" y="373"/>
                    </a:lnTo>
                    <a:lnTo>
                      <a:pt x="214" y="450"/>
                    </a:lnTo>
                    <a:lnTo>
                      <a:pt x="194" y="528"/>
                    </a:lnTo>
                    <a:lnTo>
                      <a:pt x="174" y="605"/>
                    </a:lnTo>
                    <a:lnTo>
                      <a:pt x="150" y="683"/>
                    </a:lnTo>
                    <a:lnTo>
                      <a:pt x="131" y="761"/>
                    </a:lnTo>
                    <a:lnTo>
                      <a:pt x="147" y="764"/>
                    </a:lnTo>
                    <a:lnTo>
                      <a:pt x="166" y="768"/>
                    </a:lnTo>
                    <a:lnTo>
                      <a:pt x="182" y="768"/>
                    </a:lnTo>
                    <a:lnTo>
                      <a:pt x="202" y="768"/>
                    </a:lnTo>
                    <a:lnTo>
                      <a:pt x="218" y="768"/>
                    </a:lnTo>
                    <a:lnTo>
                      <a:pt x="234" y="768"/>
                    </a:lnTo>
                    <a:lnTo>
                      <a:pt x="253" y="772"/>
                    </a:lnTo>
                    <a:lnTo>
                      <a:pt x="269" y="776"/>
                    </a:lnTo>
                    <a:lnTo>
                      <a:pt x="297" y="702"/>
                    </a:lnTo>
                    <a:lnTo>
                      <a:pt x="325" y="629"/>
                    </a:lnTo>
                    <a:lnTo>
                      <a:pt x="344" y="555"/>
                    </a:lnTo>
                    <a:lnTo>
                      <a:pt x="368" y="477"/>
                    </a:lnTo>
                    <a:lnTo>
                      <a:pt x="388" y="400"/>
                    </a:lnTo>
                    <a:lnTo>
                      <a:pt x="408" y="326"/>
                    </a:lnTo>
                    <a:lnTo>
                      <a:pt x="431" y="249"/>
                    </a:lnTo>
                    <a:lnTo>
                      <a:pt x="451" y="171"/>
                    </a:lnTo>
                    <a:lnTo>
                      <a:pt x="439" y="140"/>
                    </a:lnTo>
                    <a:lnTo>
                      <a:pt x="424" y="117"/>
                    </a:lnTo>
                    <a:lnTo>
                      <a:pt x="412" y="86"/>
                    </a:lnTo>
                    <a:lnTo>
                      <a:pt x="416" y="51"/>
                    </a:lnTo>
                    <a:lnTo>
                      <a:pt x="439" y="24"/>
                    </a:lnTo>
                    <a:lnTo>
                      <a:pt x="467" y="8"/>
                    </a:lnTo>
                    <a:lnTo>
                      <a:pt x="495" y="0"/>
                    </a:lnTo>
                    <a:lnTo>
                      <a:pt x="523" y="4"/>
                    </a:lnTo>
                    <a:lnTo>
                      <a:pt x="554" y="12"/>
                    </a:lnTo>
                    <a:lnTo>
                      <a:pt x="582" y="24"/>
                    </a:lnTo>
                    <a:lnTo>
                      <a:pt x="610" y="43"/>
                    </a:lnTo>
                    <a:lnTo>
                      <a:pt x="629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7808760" y="3175920"/>
                <a:ext cx="221400" cy="478080"/>
              </a:xfrm>
              <a:custGeom>
                <a:avLst/>
                <a:gdLst/>
                <a:ahLst/>
                <a:rect l="l" t="t" r="r" b="b"/>
                <a:pathLst>
                  <a:path w="349" h="753">
                    <a:moveTo>
                      <a:pt x="277" y="20"/>
                    </a:moveTo>
                    <a:lnTo>
                      <a:pt x="329" y="94"/>
                    </a:lnTo>
                    <a:lnTo>
                      <a:pt x="349" y="167"/>
                    </a:lnTo>
                    <a:lnTo>
                      <a:pt x="341" y="245"/>
                    </a:lnTo>
                    <a:lnTo>
                      <a:pt x="313" y="319"/>
                    </a:lnTo>
                    <a:lnTo>
                      <a:pt x="281" y="392"/>
                    </a:lnTo>
                    <a:lnTo>
                      <a:pt x="250" y="474"/>
                    </a:lnTo>
                    <a:lnTo>
                      <a:pt x="230" y="551"/>
                    </a:lnTo>
                    <a:lnTo>
                      <a:pt x="234" y="637"/>
                    </a:lnTo>
                    <a:lnTo>
                      <a:pt x="214" y="652"/>
                    </a:lnTo>
                    <a:lnTo>
                      <a:pt x="214" y="675"/>
                    </a:lnTo>
                    <a:lnTo>
                      <a:pt x="214" y="695"/>
                    </a:lnTo>
                    <a:lnTo>
                      <a:pt x="186" y="699"/>
                    </a:lnTo>
                    <a:lnTo>
                      <a:pt x="190" y="571"/>
                    </a:lnTo>
                    <a:lnTo>
                      <a:pt x="210" y="443"/>
                    </a:lnTo>
                    <a:lnTo>
                      <a:pt x="246" y="319"/>
                    </a:lnTo>
                    <a:lnTo>
                      <a:pt x="297" y="202"/>
                    </a:lnTo>
                    <a:lnTo>
                      <a:pt x="297" y="183"/>
                    </a:lnTo>
                    <a:lnTo>
                      <a:pt x="293" y="159"/>
                    </a:lnTo>
                    <a:lnTo>
                      <a:pt x="285" y="144"/>
                    </a:lnTo>
                    <a:lnTo>
                      <a:pt x="266" y="136"/>
                    </a:lnTo>
                    <a:lnTo>
                      <a:pt x="254" y="121"/>
                    </a:lnTo>
                    <a:lnTo>
                      <a:pt x="246" y="94"/>
                    </a:lnTo>
                    <a:lnTo>
                      <a:pt x="234" y="74"/>
                    </a:lnTo>
                    <a:lnTo>
                      <a:pt x="206" y="66"/>
                    </a:lnTo>
                    <a:lnTo>
                      <a:pt x="175" y="66"/>
                    </a:lnTo>
                    <a:lnTo>
                      <a:pt x="155" y="210"/>
                    </a:lnTo>
                    <a:lnTo>
                      <a:pt x="131" y="361"/>
                    </a:lnTo>
                    <a:lnTo>
                      <a:pt x="103" y="512"/>
                    </a:lnTo>
                    <a:lnTo>
                      <a:pt x="84" y="664"/>
                    </a:lnTo>
                    <a:lnTo>
                      <a:pt x="60" y="683"/>
                    </a:lnTo>
                    <a:lnTo>
                      <a:pt x="48" y="714"/>
                    </a:lnTo>
                    <a:lnTo>
                      <a:pt x="32" y="741"/>
                    </a:lnTo>
                    <a:lnTo>
                      <a:pt x="0" y="753"/>
                    </a:lnTo>
                    <a:lnTo>
                      <a:pt x="16" y="679"/>
                    </a:lnTo>
                    <a:lnTo>
                      <a:pt x="36" y="606"/>
                    </a:lnTo>
                    <a:lnTo>
                      <a:pt x="52" y="528"/>
                    </a:lnTo>
                    <a:lnTo>
                      <a:pt x="72" y="450"/>
                    </a:lnTo>
                    <a:lnTo>
                      <a:pt x="87" y="373"/>
                    </a:lnTo>
                    <a:lnTo>
                      <a:pt x="103" y="295"/>
                    </a:lnTo>
                    <a:lnTo>
                      <a:pt x="115" y="218"/>
                    </a:lnTo>
                    <a:lnTo>
                      <a:pt x="127" y="136"/>
                    </a:lnTo>
                    <a:lnTo>
                      <a:pt x="76" y="86"/>
                    </a:lnTo>
                    <a:lnTo>
                      <a:pt x="87" y="55"/>
                    </a:lnTo>
                    <a:lnTo>
                      <a:pt x="111" y="35"/>
                    </a:lnTo>
                    <a:lnTo>
                      <a:pt x="135" y="16"/>
                    </a:lnTo>
                    <a:lnTo>
                      <a:pt x="159" y="0"/>
                    </a:lnTo>
                    <a:lnTo>
                      <a:pt x="175" y="8"/>
                    </a:lnTo>
                    <a:lnTo>
                      <a:pt x="186" y="12"/>
                    </a:lnTo>
                    <a:lnTo>
                      <a:pt x="202" y="12"/>
                    </a:lnTo>
                    <a:lnTo>
                      <a:pt x="218" y="12"/>
                    </a:lnTo>
                    <a:lnTo>
                      <a:pt x="230" y="8"/>
                    </a:lnTo>
                    <a:lnTo>
                      <a:pt x="246" y="8"/>
                    </a:lnTo>
                    <a:lnTo>
                      <a:pt x="262" y="12"/>
                    </a:lnTo>
                    <a:lnTo>
                      <a:pt x="27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535600" y="3193560"/>
                <a:ext cx="125640" cy="448200"/>
              </a:xfrm>
              <a:custGeom>
                <a:avLst/>
                <a:gdLst/>
                <a:ahLst/>
                <a:rect l="l" t="t" r="r" b="b"/>
                <a:pathLst>
                  <a:path w="198" h="706">
                    <a:moveTo>
                      <a:pt x="198" y="58"/>
                    </a:moveTo>
                    <a:lnTo>
                      <a:pt x="194" y="116"/>
                    </a:lnTo>
                    <a:lnTo>
                      <a:pt x="174" y="170"/>
                    </a:lnTo>
                    <a:lnTo>
                      <a:pt x="147" y="225"/>
                    </a:lnTo>
                    <a:lnTo>
                      <a:pt x="123" y="283"/>
                    </a:lnTo>
                    <a:lnTo>
                      <a:pt x="48" y="698"/>
                    </a:lnTo>
                    <a:lnTo>
                      <a:pt x="40" y="706"/>
                    </a:lnTo>
                    <a:lnTo>
                      <a:pt x="28" y="706"/>
                    </a:lnTo>
                    <a:lnTo>
                      <a:pt x="16" y="706"/>
                    </a:lnTo>
                    <a:lnTo>
                      <a:pt x="0" y="706"/>
                    </a:lnTo>
                    <a:lnTo>
                      <a:pt x="8" y="628"/>
                    </a:lnTo>
                    <a:lnTo>
                      <a:pt x="20" y="550"/>
                    </a:lnTo>
                    <a:lnTo>
                      <a:pt x="36" y="473"/>
                    </a:lnTo>
                    <a:lnTo>
                      <a:pt x="52" y="395"/>
                    </a:lnTo>
                    <a:lnTo>
                      <a:pt x="67" y="318"/>
                    </a:lnTo>
                    <a:lnTo>
                      <a:pt x="91" y="240"/>
                    </a:lnTo>
                    <a:lnTo>
                      <a:pt x="115" y="166"/>
                    </a:lnTo>
                    <a:lnTo>
                      <a:pt x="139" y="93"/>
                    </a:lnTo>
                    <a:lnTo>
                      <a:pt x="119" y="81"/>
                    </a:lnTo>
                    <a:lnTo>
                      <a:pt x="99" y="62"/>
                    </a:lnTo>
                    <a:lnTo>
                      <a:pt x="79" y="58"/>
                    </a:lnTo>
                    <a:lnTo>
                      <a:pt x="59" y="85"/>
                    </a:lnTo>
                    <a:lnTo>
                      <a:pt x="59" y="104"/>
                    </a:lnTo>
                    <a:lnTo>
                      <a:pt x="59" y="128"/>
                    </a:lnTo>
                    <a:lnTo>
                      <a:pt x="56" y="147"/>
                    </a:lnTo>
                    <a:lnTo>
                      <a:pt x="40" y="163"/>
                    </a:lnTo>
                    <a:lnTo>
                      <a:pt x="8" y="128"/>
                    </a:lnTo>
                    <a:lnTo>
                      <a:pt x="12" y="85"/>
                    </a:lnTo>
                    <a:lnTo>
                      <a:pt x="36" y="38"/>
                    </a:lnTo>
                    <a:lnTo>
                      <a:pt x="59" y="0"/>
                    </a:lnTo>
                    <a:lnTo>
                      <a:pt x="79" y="3"/>
                    </a:lnTo>
                    <a:lnTo>
                      <a:pt x="95" y="7"/>
                    </a:lnTo>
                    <a:lnTo>
                      <a:pt x="115" y="11"/>
                    </a:lnTo>
                    <a:lnTo>
                      <a:pt x="135" y="15"/>
                    </a:lnTo>
                    <a:lnTo>
                      <a:pt x="151" y="23"/>
                    </a:lnTo>
                    <a:lnTo>
                      <a:pt x="166" y="31"/>
                    </a:lnTo>
                    <a:lnTo>
                      <a:pt x="182" y="42"/>
                    </a:lnTo>
                    <a:lnTo>
                      <a:pt x="198" y="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514640" y="3222720"/>
                <a:ext cx="178200" cy="448200"/>
              </a:xfrm>
              <a:custGeom>
                <a:avLst/>
                <a:gdLst/>
                <a:ahLst/>
                <a:rect l="l" t="t" r="r" b="b"/>
                <a:pathLst>
                  <a:path w="281" h="706">
                    <a:moveTo>
                      <a:pt x="222" y="39"/>
                    </a:moveTo>
                    <a:lnTo>
                      <a:pt x="210" y="58"/>
                    </a:lnTo>
                    <a:lnTo>
                      <a:pt x="194" y="74"/>
                    </a:lnTo>
                    <a:lnTo>
                      <a:pt x="182" y="93"/>
                    </a:lnTo>
                    <a:lnTo>
                      <a:pt x="186" y="117"/>
                    </a:lnTo>
                    <a:lnTo>
                      <a:pt x="206" y="144"/>
                    </a:lnTo>
                    <a:lnTo>
                      <a:pt x="230" y="144"/>
                    </a:lnTo>
                    <a:lnTo>
                      <a:pt x="258" y="132"/>
                    </a:lnTo>
                    <a:lnTo>
                      <a:pt x="281" y="136"/>
                    </a:lnTo>
                    <a:lnTo>
                      <a:pt x="262" y="210"/>
                    </a:lnTo>
                    <a:lnTo>
                      <a:pt x="238" y="279"/>
                    </a:lnTo>
                    <a:lnTo>
                      <a:pt x="218" y="349"/>
                    </a:lnTo>
                    <a:lnTo>
                      <a:pt x="194" y="419"/>
                    </a:lnTo>
                    <a:lnTo>
                      <a:pt x="171" y="489"/>
                    </a:lnTo>
                    <a:lnTo>
                      <a:pt x="147" y="559"/>
                    </a:lnTo>
                    <a:lnTo>
                      <a:pt x="127" y="628"/>
                    </a:lnTo>
                    <a:lnTo>
                      <a:pt x="103" y="698"/>
                    </a:lnTo>
                    <a:lnTo>
                      <a:pt x="0" y="706"/>
                    </a:lnTo>
                    <a:lnTo>
                      <a:pt x="16" y="628"/>
                    </a:lnTo>
                    <a:lnTo>
                      <a:pt x="36" y="547"/>
                    </a:lnTo>
                    <a:lnTo>
                      <a:pt x="56" y="469"/>
                    </a:lnTo>
                    <a:lnTo>
                      <a:pt x="76" y="388"/>
                    </a:lnTo>
                    <a:lnTo>
                      <a:pt x="95" y="307"/>
                    </a:lnTo>
                    <a:lnTo>
                      <a:pt x="119" y="225"/>
                    </a:lnTo>
                    <a:lnTo>
                      <a:pt x="139" y="144"/>
                    </a:lnTo>
                    <a:lnTo>
                      <a:pt x="159" y="62"/>
                    </a:lnTo>
                    <a:lnTo>
                      <a:pt x="155" y="47"/>
                    </a:lnTo>
                    <a:lnTo>
                      <a:pt x="143" y="27"/>
                    </a:lnTo>
                    <a:lnTo>
                      <a:pt x="143" y="12"/>
                    </a:lnTo>
                    <a:lnTo>
                      <a:pt x="159" y="0"/>
                    </a:lnTo>
                    <a:lnTo>
                      <a:pt x="175" y="4"/>
                    </a:lnTo>
                    <a:lnTo>
                      <a:pt x="194" y="12"/>
                    </a:lnTo>
                    <a:lnTo>
                      <a:pt x="210" y="23"/>
                    </a:lnTo>
                    <a:lnTo>
                      <a:pt x="222" y="39"/>
                    </a:lnTo>
                    <a:close/>
                  </a:path>
                </a:pathLst>
              </a:custGeom>
              <a:solidFill>
                <a:srgbClr val="ef9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8414640" y="3242520"/>
                <a:ext cx="110160" cy="448200"/>
              </a:xfrm>
              <a:custGeom>
                <a:avLst/>
                <a:gdLst/>
                <a:ahLst/>
                <a:rect l="l" t="t" r="r" b="b"/>
                <a:pathLst>
                  <a:path w="174" h="706">
                    <a:moveTo>
                      <a:pt x="174" y="31"/>
                    </a:moveTo>
                    <a:lnTo>
                      <a:pt x="158" y="47"/>
                    </a:lnTo>
                    <a:lnTo>
                      <a:pt x="139" y="54"/>
                    </a:lnTo>
                    <a:lnTo>
                      <a:pt x="115" y="62"/>
                    </a:lnTo>
                    <a:lnTo>
                      <a:pt x="91" y="66"/>
                    </a:lnTo>
                    <a:lnTo>
                      <a:pt x="71" y="74"/>
                    </a:lnTo>
                    <a:lnTo>
                      <a:pt x="60" y="86"/>
                    </a:lnTo>
                    <a:lnTo>
                      <a:pt x="63" y="105"/>
                    </a:lnTo>
                    <a:lnTo>
                      <a:pt x="83" y="132"/>
                    </a:lnTo>
                    <a:lnTo>
                      <a:pt x="115" y="179"/>
                    </a:lnTo>
                    <a:lnTo>
                      <a:pt x="127" y="225"/>
                    </a:lnTo>
                    <a:lnTo>
                      <a:pt x="127" y="276"/>
                    </a:lnTo>
                    <a:lnTo>
                      <a:pt x="119" y="322"/>
                    </a:lnTo>
                    <a:lnTo>
                      <a:pt x="107" y="373"/>
                    </a:lnTo>
                    <a:lnTo>
                      <a:pt x="91" y="423"/>
                    </a:lnTo>
                    <a:lnTo>
                      <a:pt x="79" y="473"/>
                    </a:lnTo>
                    <a:lnTo>
                      <a:pt x="71" y="524"/>
                    </a:lnTo>
                    <a:lnTo>
                      <a:pt x="60" y="566"/>
                    </a:lnTo>
                    <a:lnTo>
                      <a:pt x="52" y="621"/>
                    </a:lnTo>
                    <a:lnTo>
                      <a:pt x="40" y="671"/>
                    </a:lnTo>
                    <a:lnTo>
                      <a:pt x="8" y="706"/>
                    </a:lnTo>
                    <a:lnTo>
                      <a:pt x="8" y="629"/>
                    </a:lnTo>
                    <a:lnTo>
                      <a:pt x="24" y="547"/>
                    </a:lnTo>
                    <a:lnTo>
                      <a:pt x="48" y="466"/>
                    </a:lnTo>
                    <a:lnTo>
                      <a:pt x="67" y="384"/>
                    </a:lnTo>
                    <a:lnTo>
                      <a:pt x="79" y="303"/>
                    </a:lnTo>
                    <a:lnTo>
                      <a:pt x="79" y="225"/>
                    </a:lnTo>
                    <a:lnTo>
                      <a:pt x="56" y="151"/>
                    </a:lnTo>
                    <a:lnTo>
                      <a:pt x="0" y="86"/>
                    </a:lnTo>
                    <a:lnTo>
                      <a:pt x="8" y="62"/>
                    </a:lnTo>
                    <a:lnTo>
                      <a:pt x="28" y="39"/>
                    </a:lnTo>
                    <a:lnTo>
                      <a:pt x="52" y="20"/>
                    </a:lnTo>
                    <a:lnTo>
                      <a:pt x="79" y="4"/>
                    </a:lnTo>
                    <a:lnTo>
                      <a:pt x="107" y="0"/>
                    </a:lnTo>
                    <a:lnTo>
                      <a:pt x="135" y="0"/>
                    </a:lnTo>
                    <a:lnTo>
                      <a:pt x="158" y="8"/>
                    </a:lnTo>
                    <a:lnTo>
                      <a:pt x="174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7989840" y="3784320"/>
                <a:ext cx="206280" cy="430920"/>
              </a:xfrm>
              <a:custGeom>
                <a:avLst/>
                <a:gdLst/>
                <a:ahLst/>
                <a:rect l="l" t="t" r="r" b="b"/>
                <a:pathLst>
                  <a:path w="325" h="679">
                    <a:moveTo>
                      <a:pt x="325" y="101"/>
                    </a:moveTo>
                    <a:lnTo>
                      <a:pt x="321" y="140"/>
                    </a:lnTo>
                    <a:lnTo>
                      <a:pt x="309" y="175"/>
                    </a:lnTo>
                    <a:lnTo>
                      <a:pt x="281" y="206"/>
                    </a:lnTo>
                    <a:lnTo>
                      <a:pt x="246" y="218"/>
                    </a:lnTo>
                    <a:lnTo>
                      <a:pt x="230" y="338"/>
                    </a:lnTo>
                    <a:lnTo>
                      <a:pt x="206" y="454"/>
                    </a:lnTo>
                    <a:lnTo>
                      <a:pt x="178" y="567"/>
                    </a:lnTo>
                    <a:lnTo>
                      <a:pt x="151" y="679"/>
                    </a:lnTo>
                    <a:lnTo>
                      <a:pt x="131" y="679"/>
                    </a:lnTo>
                    <a:lnTo>
                      <a:pt x="143" y="555"/>
                    </a:lnTo>
                    <a:lnTo>
                      <a:pt x="163" y="431"/>
                    </a:lnTo>
                    <a:lnTo>
                      <a:pt x="186" y="307"/>
                    </a:lnTo>
                    <a:lnTo>
                      <a:pt x="206" y="179"/>
                    </a:lnTo>
                    <a:lnTo>
                      <a:pt x="246" y="148"/>
                    </a:lnTo>
                    <a:lnTo>
                      <a:pt x="250" y="152"/>
                    </a:lnTo>
                    <a:lnTo>
                      <a:pt x="250" y="152"/>
                    </a:lnTo>
                    <a:lnTo>
                      <a:pt x="254" y="152"/>
                    </a:lnTo>
                    <a:lnTo>
                      <a:pt x="258" y="152"/>
                    </a:lnTo>
                    <a:lnTo>
                      <a:pt x="258" y="132"/>
                    </a:lnTo>
                    <a:lnTo>
                      <a:pt x="246" y="117"/>
                    </a:lnTo>
                    <a:lnTo>
                      <a:pt x="230" y="105"/>
                    </a:lnTo>
                    <a:lnTo>
                      <a:pt x="206" y="101"/>
                    </a:lnTo>
                    <a:lnTo>
                      <a:pt x="178" y="94"/>
                    </a:lnTo>
                    <a:lnTo>
                      <a:pt x="155" y="86"/>
                    </a:lnTo>
                    <a:lnTo>
                      <a:pt x="131" y="78"/>
                    </a:lnTo>
                    <a:lnTo>
                      <a:pt x="111" y="63"/>
                    </a:lnTo>
                    <a:lnTo>
                      <a:pt x="79" y="198"/>
                    </a:lnTo>
                    <a:lnTo>
                      <a:pt x="68" y="346"/>
                    </a:lnTo>
                    <a:lnTo>
                      <a:pt x="48" y="485"/>
                    </a:lnTo>
                    <a:lnTo>
                      <a:pt x="0" y="617"/>
                    </a:lnTo>
                    <a:lnTo>
                      <a:pt x="12" y="489"/>
                    </a:lnTo>
                    <a:lnTo>
                      <a:pt x="24" y="357"/>
                    </a:lnTo>
                    <a:lnTo>
                      <a:pt x="32" y="222"/>
                    </a:lnTo>
                    <a:lnTo>
                      <a:pt x="40" y="90"/>
                    </a:lnTo>
                    <a:lnTo>
                      <a:pt x="48" y="59"/>
                    </a:lnTo>
                    <a:lnTo>
                      <a:pt x="68" y="35"/>
                    </a:lnTo>
                    <a:lnTo>
                      <a:pt x="95" y="20"/>
                    </a:lnTo>
                    <a:lnTo>
                      <a:pt x="119" y="0"/>
                    </a:lnTo>
                    <a:lnTo>
                      <a:pt x="143" y="12"/>
                    </a:lnTo>
                    <a:lnTo>
                      <a:pt x="167" y="28"/>
                    </a:lnTo>
                    <a:lnTo>
                      <a:pt x="194" y="35"/>
                    </a:lnTo>
                    <a:lnTo>
                      <a:pt x="222" y="47"/>
                    </a:lnTo>
                    <a:lnTo>
                      <a:pt x="246" y="59"/>
                    </a:lnTo>
                    <a:lnTo>
                      <a:pt x="273" y="70"/>
                    </a:lnTo>
                    <a:lnTo>
                      <a:pt x="301" y="86"/>
                    </a:lnTo>
                    <a:lnTo>
                      <a:pt x="325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7452000" y="3836520"/>
                <a:ext cx="115200" cy="361800"/>
              </a:xfrm>
              <a:custGeom>
                <a:avLst/>
                <a:gdLst/>
                <a:ahLst/>
                <a:rect l="l" t="t" r="r" b="b"/>
                <a:pathLst>
                  <a:path w="182" h="570">
                    <a:moveTo>
                      <a:pt x="182" y="66"/>
                    </a:moveTo>
                    <a:lnTo>
                      <a:pt x="171" y="116"/>
                    </a:lnTo>
                    <a:lnTo>
                      <a:pt x="159" y="167"/>
                    </a:lnTo>
                    <a:lnTo>
                      <a:pt x="143" y="217"/>
                    </a:lnTo>
                    <a:lnTo>
                      <a:pt x="123" y="268"/>
                    </a:lnTo>
                    <a:lnTo>
                      <a:pt x="107" y="322"/>
                    </a:lnTo>
                    <a:lnTo>
                      <a:pt x="91" y="372"/>
                    </a:lnTo>
                    <a:lnTo>
                      <a:pt x="76" y="427"/>
                    </a:lnTo>
                    <a:lnTo>
                      <a:pt x="64" y="481"/>
                    </a:lnTo>
                    <a:lnTo>
                      <a:pt x="28" y="570"/>
                    </a:lnTo>
                    <a:lnTo>
                      <a:pt x="0" y="524"/>
                    </a:lnTo>
                    <a:lnTo>
                      <a:pt x="12" y="473"/>
                    </a:lnTo>
                    <a:lnTo>
                      <a:pt x="20" y="423"/>
                    </a:lnTo>
                    <a:lnTo>
                      <a:pt x="32" y="372"/>
                    </a:lnTo>
                    <a:lnTo>
                      <a:pt x="44" y="322"/>
                    </a:lnTo>
                    <a:lnTo>
                      <a:pt x="56" y="271"/>
                    </a:lnTo>
                    <a:lnTo>
                      <a:pt x="76" y="225"/>
                    </a:lnTo>
                    <a:lnTo>
                      <a:pt x="99" y="178"/>
                    </a:lnTo>
                    <a:lnTo>
                      <a:pt x="127" y="136"/>
                    </a:lnTo>
                    <a:lnTo>
                      <a:pt x="127" y="112"/>
                    </a:lnTo>
                    <a:lnTo>
                      <a:pt x="127" y="93"/>
                    </a:lnTo>
                    <a:lnTo>
                      <a:pt x="119" y="74"/>
                    </a:lnTo>
                    <a:lnTo>
                      <a:pt x="99" y="66"/>
                    </a:lnTo>
                    <a:lnTo>
                      <a:pt x="20" y="66"/>
                    </a:lnTo>
                    <a:lnTo>
                      <a:pt x="24" y="35"/>
                    </a:lnTo>
                    <a:lnTo>
                      <a:pt x="44" y="15"/>
                    </a:lnTo>
                    <a:lnTo>
                      <a:pt x="72" y="8"/>
                    </a:lnTo>
                    <a:lnTo>
                      <a:pt x="99" y="0"/>
                    </a:lnTo>
                    <a:lnTo>
                      <a:pt x="127" y="8"/>
                    </a:lnTo>
                    <a:lnTo>
                      <a:pt x="155" y="19"/>
                    </a:lnTo>
                    <a:lnTo>
                      <a:pt x="175" y="39"/>
                    </a:lnTo>
                    <a:lnTo>
                      <a:pt x="182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7685640" y="3841560"/>
                <a:ext cx="115920" cy="381600"/>
              </a:xfrm>
              <a:custGeom>
                <a:avLst/>
                <a:gdLst/>
                <a:ahLst/>
                <a:rect l="l" t="t" r="r" b="b"/>
                <a:pathLst>
                  <a:path w="183" h="601">
                    <a:moveTo>
                      <a:pt x="183" y="0"/>
                    </a:moveTo>
                    <a:lnTo>
                      <a:pt x="175" y="77"/>
                    </a:lnTo>
                    <a:lnTo>
                      <a:pt x="167" y="155"/>
                    </a:lnTo>
                    <a:lnTo>
                      <a:pt x="151" y="232"/>
                    </a:lnTo>
                    <a:lnTo>
                      <a:pt x="131" y="310"/>
                    </a:lnTo>
                    <a:lnTo>
                      <a:pt x="107" y="384"/>
                    </a:lnTo>
                    <a:lnTo>
                      <a:pt x="84" y="457"/>
                    </a:lnTo>
                    <a:lnTo>
                      <a:pt x="52" y="531"/>
                    </a:lnTo>
                    <a:lnTo>
                      <a:pt x="16" y="601"/>
                    </a:lnTo>
                    <a:lnTo>
                      <a:pt x="0" y="601"/>
                    </a:lnTo>
                    <a:lnTo>
                      <a:pt x="28" y="527"/>
                    </a:lnTo>
                    <a:lnTo>
                      <a:pt x="52" y="453"/>
                    </a:lnTo>
                    <a:lnTo>
                      <a:pt x="72" y="376"/>
                    </a:lnTo>
                    <a:lnTo>
                      <a:pt x="92" y="298"/>
                    </a:lnTo>
                    <a:lnTo>
                      <a:pt x="107" y="225"/>
                    </a:lnTo>
                    <a:lnTo>
                      <a:pt x="123" y="147"/>
                    </a:lnTo>
                    <a:lnTo>
                      <a:pt x="139" y="73"/>
                    </a:lnTo>
                    <a:lnTo>
                      <a:pt x="155" y="0"/>
                    </a:lnTo>
                    <a:lnTo>
                      <a:pt x="18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7329600" y="3853440"/>
                <a:ext cx="1401840" cy="484920"/>
              </a:xfrm>
              <a:custGeom>
                <a:avLst/>
                <a:gdLst/>
                <a:ahLst/>
                <a:rect l="l" t="t" r="r" b="b"/>
                <a:pathLst>
                  <a:path w="2208" h="764">
                    <a:moveTo>
                      <a:pt x="684" y="0"/>
                    </a:moveTo>
                    <a:lnTo>
                      <a:pt x="672" y="82"/>
                    </a:lnTo>
                    <a:lnTo>
                      <a:pt x="653" y="159"/>
                    </a:lnTo>
                    <a:lnTo>
                      <a:pt x="629" y="229"/>
                    </a:lnTo>
                    <a:lnTo>
                      <a:pt x="601" y="299"/>
                    </a:lnTo>
                    <a:lnTo>
                      <a:pt x="577" y="372"/>
                    </a:lnTo>
                    <a:lnTo>
                      <a:pt x="550" y="442"/>
                    </a:lnTo>
                    <a:lnTo>
                      <a:pt x="530" y="520"/>
                    </a:lnTo>
                    <a:lnTo>
                      <a:pt x="514" y="601"/>
                    </a:lnTo>
                    <a:lnTo>
                      <a:pt x="585" y="625"/>
                    </a:lnTo>
                    <a:lnTo>
                      <a:pt x="633" y="621"/>
                    </a:lnTo>
                    <a:lnTo>
                      <a:pt x="660" y="597"/>
                    </a:lnTo>
                    <a:lnTo>
                      <a:pt x="680" y="559"/>
                    </a:lnTo>
                    <a:lnTo>
                      <a:pt x="688" y="508"/>
                    </a:lnTo>
                    <a:lnTo>
                      <a:pt x="696" y="458"/>
                    </a:lnTo>
                    <a:lnTo>
                      <a:pt x="708" y="403"/>
                    </a:lnTo>
                    <a:lnTo>
                      <a:pt x="728" y="361"/>
                    </a:lnTo>
                    <a:lnTo>
                      <a:pt x="747" y="291"/>
                    </a:lnTo>
                    <a:lnTo>
                      <a:pt x="763" y="213"/>
                    </a:lnTo>
                    <a:lnTo>
                      <a:pt x="783" y="144"/>
                    </a:lnTo>
                    <a:lnTo>
                      <a:pt x="823" y="82"/>
                    </a:lnTo>
                    <a:lnTo>
                      <a:pt x="819" y="147"/>
                    </a:lnTo>
                    <a:lnTo>
                      <a:pt x="807" y="217"/>
                    </a:lnTo>
                    <a:lnTo>
                      <a:pt x="791" y="283"/>
                    </a:lnTo>
                    <a:lnTo>
                      <a:pt x="775" y="345"/>
                    </a:lnTo>
                    <a:lnTo>
                      <a:pt x="751" y="411"/>
                    </a:lnTo>
                    <a:lnTo>
                      <a:pt x="732" y="477"/>
                    </a:lnTo>
                    <a:lnTo>
                      <a:pt x="716" y="539"/>
                    </a:lnTo>
                    <a:lnTo>
                      <a:pt x="700" y="605"/>
                    </a:lnTo>
                    <a:lnTo>
                      <a:pt x="740" y="613"/>
                    </a:lnTo>
                    <a:lnTo>
                      <a:pt x="779" y="617"/>
                    </a:lnTo>
                    <a:lnTo>
                      <a:pt x="823" y="621"/>
                    </a:lnTo>
                    <a:lnTo>
                      <a:pt x="862" y="621"/>
                    </a:lnTo>
                    <a:lnTo>
                      <a:pt x="906" y="625"/>
                    </a:lnTo>
                    <a:lnTo>
                      <a:pt x="949" y="625"/>
                    </a:lnTo>
                    <a:lnTo>
                      <a:pt x="993" y="625"/>
                    </a:lnTo>
                    <a:lnTo>
                      <a:pt x="1040" y="625"/>
                    </a:lnTo>
                    <a:lnTo>
                      <a:pt x="1084" y="625"/>
                    </a:lnTo>
                    <a:lnTo>
                      <a:pt x="1127" y="625"/>
                    </a:lnTo>
                    <a:lnTo>
                      <a:pt x="1175" y="625"/>
                    </a:lnTo>
                    <a:lnTo>
                      <a:pt x="1218" y="625"/>
                    </a:lnTo>
                    <a:lnTo>
                      <a:pt x="1266" y="625"/>
                    </a:lnTo>
                    <a:lnTo>
                      <a:pt x="1313" y="625"/>
                    </a:lnTo>
                    <a:lnTo>
                      <a:pt x="1357" y="628"/>
                    </a:lnTo>
                    <a:lnTo>
                      <a:pt x="1404" y="632"/>
                    </a:lnTo>
                    <a:lnTo>
                      <a:pt x="1448" y="640"/>
                    </a:lnTo>
                    <a:lnTo>
                      <a:pt x="1492" y="640"/>
                    </a:lnTo>
                    <a:lnTo>
                      <a:pt x="1539" y="644"/>
                    </a:lnTo>
                    <a:lnTo>
                      <a:pt x="1586" y="644"/>
                    </a:lnTo>
                    <a:lnTo>
                      <a:pt x="1638" y="644"/>
                    </a:lnTo>
                    <a:lnTo>
                      <a:pt x="1689" y="640"/>
                    </a:lnTo>
                    <a:lnTo>
                      <a:pt x="1745" y="640"/>
                    </a:lnTo>
                    <a:lnTo>
                      <a:pt x="1796" y="636"/>
                    </a:lnTo>
                    <a:lnTo>
                      <a:pt x="1852" y="636"/>
                    </a:lnTo>
                    <a:lnTo>
                      <a:pt x="1903" y="636"/>
                    </a:lnTo>
                    <a:lnTo>
                      <a:pt x="1955" y="636"/>
                    </a:lnTo>
                    <a:lnTo>
                      <a:pt x="2006" y="636"/>
                    </a:lnTo>
                    <a:lnTo>
                      <a:pt x="2057" y="644"/>
                    </a:lnTo>
                    <a:lnTo>
                      <a:pt x="2105" y="648"/>
                    </a:lnTo>
                    <a:lnTo>
                      <a:pt x="2152" y="659"/>
                    </a:lnTo>
                    <a:lnTo>
                      <a:pt x="2196" y="671"/>
                    </a:lnTo>
                    <a:lnTo>
                      <a:pt x="2204" y="690"/>
                    </a:lnTo>
                    <a:lnTo>
                      <a:pt x="2208" y="710"/>
                    </a:lnTo>
                    <a:lnTo>
                      <a:pt x="2208" y="729"/>
                    </a:lnTo>
                    <a:lnTo>
                      <a:pt x="2208" y="749"/>
                    </a:lnTo>
                    <a:lnTo>
                      <a:pt x="2073" y="756"/>
                    </a:lnTo>
                    <a:lnTo>
                      <a:pt x="1939" y="760"/>
                    </a:lnTo>
                    <a:lnTo>
                      <a:pt x="1808" y="764"/>
                    </a:lnTo>
                    <a:lnTo>
                      <a:pt x="1678" y="764"/>
                    </a:lnTo>
                    <a:lnTo>
                      <a:pt x="1547" y="760"/>
                    </a:lnTo>
                    <a:lnTo>
                      <a:pt x="1416" y="756"/>
                    </a:lnTo>
                    <a:lnTo>
                      <a:pt x="1290" y="753"/>
                    </a:lnTo>
                    <a:lnTo>
                      <a:pt x="1163" y="749"/>
                    </a:lnTo>
                    <a:lnTo>
                      <a:pt x="1032" y="745"/>
                    </a:lnTo>
                    <a:lnTo>
                      <a:pt x="906" y="737"/>
                    </a:lnTo>
                    <a:lnTo>
                      <a:pt x="775" y="733"/>
                    </a:lnTo>
                    <a:lnTo>
                      <a:pt x="645" y="729"/>
                    </a:lnTo>
                    <a:lnTo>
                      <a:pt x="514" y="721"/>
                    </a:lnTo>
                    <a:lnTo>
                      <a:pt x="383" y="721"/>
                    </a:lnTo>
                    <a:lnTo>
                      <a:pt x="249" y="718"/>
                    </a:lnTo>
                    <a:lnTo>
                      <a:pt x="114" y="718"/>
                    </a:lnTo>
                    <a:lnTo>
                      <a:pt x="83" y="725"/>
                    </a:lnTo>
                    <a:lnTo>
                      <a:pt x="51" y="725"/>
                    </a:lnTo>
                    <a:lnTo>
                      <a:pt x="23" y="714"/>
                    </a:lnTo>
                    <a:lnTo>
                      <a:pt x="0" y="690"/>
                    </a:lnTo>
                    <a:lnTo>
                      <a:pt x="3" y="652"/>
                    </a:lnTo>
                    <a:lnTo>
                      <a:pt x="23" y="628"/>
                    </a:lnTo>
                    <a:lnTo>
                      <a:pt x="47" y="613"/>
                    </a:lnTo>
                    <a:lnTo>
                      <a:pt x="79" y="609"/>
                    </a:lnTo>
                    <a:lnTo>
                      <a:pt x="114" y="605"/>
                    </a:lnTo>
                    <a:lnTo>
                      <a:pt x="150" y="609"/>
                    </a:lnTo>
                    <a:lnTo>
                      <a:pt x="186" y="605"/>
                    </a:lnTo>
                    <a:lnTo>
                      <a:pt x="213" y="601"/>
                    </a:lnTo>
                    <a:lnTo>
                      <a:pt x="241" y="597"/>
                    </a:lnTo>
                    <a:lnTo>
                      <a:pt x="273" y="597"/>
                    </a:lnTo>
                    <a:lnTo>
                      <a:pt x="300" y="601"/>
                    </a:lnTo>
                    <a:lnTo>
                      <a:pt x="328" y="601"/>
                    </a:lnTo>
                    <a:lnTo>
                      <a:pt x="360" y="605"/>
                    </a:lnTo>
                    <a:lnTo>
                      <a:pt x="387" y="609"/>
                    </a:lnTo>
                    <a:lnTo>
                      <a:pt x="419" y="609"/>
                    </a:lnTo>
                    <a:lnTo>
                      <a:pt x="451" y="605"/>
                    </a:lnTo>
                    <a:lnTo>
                      <a:pt x="478" y="531"/>
                    </a:lnTo>
                    <a:lnTo>
                      <a:pt x="506" y="454"/>
                    </a:lnTo>
                    <a:lnTo>
                      <a:pt x="534" y="380"/>
                    </a:lnTo>
                    <a:lnTo>
                      <a:pt x="558" y="303"/>
                    </a:lnTo>
                    <a:lnTo>
                      <a:pt x="585" y="229"/>
                    </a:lnTo>
                    <a:lnTo>
                      <a:pt x="613" y="151"/>
                    </a:lnTo>
                    <a:lnTo>
                      <a:pt x="637" y="78"/>
                    </a:lnTo>
                    <a:lnTo>
                      <a:pt x="664" y="0"/>
                    </a:lnTo>
                    <a:lnTo>
                      <a:pt x="68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7678800" y="2146320"/>
                <a:ext cx="137520" cy="212040"/>
              </a:xfrm>
              <a:custGeom>
                <a:avLst/>
                <a:gdLst/>
                <a:ahLst/>
                <a:rect l="l" t="t" r="r" b="b"/>
                <a:pathLst>
                  <a:path w="217" h="334">
                    <a:moveTo>
                      <a:pt x="4" y="27"/>
                    </a:moveTo>
                    <a:lnTo>
                      <a:pt x="35" y="51"/>
                    </a:lnTo>
                    <a:lnTo>
                      <a:pt x="67" y="82"/>
                    </a:lnTo>
                    <a:lnTo>
                      <a:pt x="91" y="113"/>
                    </a:lnTo>
                    <a:lnTo>
                      <a:pt x="114" y="148"/>
                    </a:lnTo>
                    <a:lnTo>
                      <a:pt x="134" y="183"/>
                    </a:lnTo>
                    <a:lnTo>
                      <a:pt x="150" y="221"/>
                    </a:lnTo>
                    <a:lnTo>
                      <a:pt x="158" y="260"/>
                    </a:lnTo>
                    <a:lnTo>
                      <a:pt x="162" y="303"/>
                    </a:lnTo>
                    <a:lnTo>
                      <a:pt x="158" y="299"/>
                    </a:lnTo>
                    <a:lnTo>
                      <a:pt x="158" y="299"/>
                    </a:lnTo>
                    <a:lnTo>
                      <a:pt x="154" y="299"/>
                    </a:lnTo>
                    <a:lnTo>
                      <a:pt x="150" y="299"/>
                    </a:lnTo>
                    <a:lnTo>
                      <a:pt x="150" y="307"/>
                    </a:lnTo>
                    <a:lnTo>
                      <a:pt x="150" y="318"/>
                    </a:lnTo>
                    <a:lnTo>
                      <a:pt x="158" y="326"/>
                    </a:lnTo>
                    <a:lnTo>
                      <a:pt x="166" y="334"/>
                    </a:lnTo>
                    <a:lnTo>
                      <a:pt x="174" y="334"/>
                    </a:lnTo>
                    <a:lnTo>
                      <a:pt x="186" y="334"/>
                    </a:lnTo>
                    <a:lnTo>
                      <a:pt x="194" y="326"/>
                    </a:lnTo>
                    <a:lnTo>
                      <a:pt x="201" y="318"/>
                    </a:lnTo>
                    <a:lnTo>
                      <a:pt x="217" y="291"/>
                    </a:lnTo>
                    <a:lnTo>
                      <a:pt x="217" y="260"/>
                    </a:lnTo>
                    <a:lnTo>
                      <a:pt x="205" y="225"/>
                    </a:lnTo>
                    <a:lnTo>
                      <a:pt x="194" y="194"/>
                    </a:lnTo>
                    <a:lnTo>
                      <a:pt x="182" y="163"/>
                    </a:lnTo>
                    <a:lnTo>
                      <a:pt x="166" y="136"/>
                    </a:lnTo>
                    <a:lnTo>
                      <a:pt x="150" y="109"/>
                    </a:lnTo>
                    <a:lnTo>
                      <a:pt x="126" y="82"/>
                    </a:lnTo>
                    <a:lnTo>
                      <a:pt x="103" y="58"/>
                    </a:lnTo>
                    <a:lnTo>
                      <a:pt x="79" y="39"/>
                    </a:lnTo>
                    <a:lnTo>
                      <a:pt x="51" y="20"/>
                    </a:lnTo>
                    <a:lnTo>
                      <a:pt x="19" y="4"/>
                    </a:lnTo>
                    <a:lnTo>
                      <a:pt x="15" y="0"/>
                    </a:lnTo>
                    <a:lnTo>
                      <a:pt x="11" y="0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0" y="24"/>
                    </a:lnTo>
                    <a:lnTo>
                      <a:pt x="4" y="27"/>
                    </a:lnTo>
                    <a:lnTo>
                      <a:pt x="4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7834320" y="2225160"/>
                <a:ext cx="57600" cy="147600"/>
              </a:xfrm>
              <a:custGeom>
                <a:avLst/>
                <a:gdLst/>
                <a:ahLst/>
                <a:rect l="l" t="t" r="r" b="b"/>
                <a:pathLst>
                  <a:path w="91" h="233">
                    <a:moveTo>
                      <a:pt x="16" y="16"/>
                    </a:moveTo>
                    <a:lnTo>
                      <a:pt x="28" y="62"/>
                    </a:lnTo>
                    <a:lnTo>
                      <a:pt x="40" y="113"/>
                    </a:lnTo>
                    <a:lnTo>
                      <a:pt x="44" y="159"/>
                    </a:lnTo>
                    <a:lnTo>
                      <a:pt x="16" y="198"/>
                    </a:lnTo>
                    <a:lnTo>
                      <a:pt x="8" y="202"/>
                    </a:lnTo>
                    <a:lnTo>
                      <a:pt x="4" y="206"/>
                    </a:lnTo>
                    <a:lnTo>
                      <a:pt x="0" y="214"/>
                    </a:lnTo>
                    <a:lnTo>
                      <a:pt x="0" y="221"/>
                    </a:lnTo>
                    <a:lnTo>
                      <a:pt x="4" y="229"/>
                    </a:lnTo>
                    <a:lnTo>
                      <a:pt x="12" y="233"/>
                    </a:lnTo>
                    <a:lnTo>
                      <a:pt x="16" y="233"/>
                    </a:lnTo>
                    <a:lnTo>
                      <a:pt x="24" y="233"/>
                    </a:lnTo>
                    <a:lnTo>
                      <a:pt x="40" y="233"/>
                    </a:lnTo>
                    <a:lnTo>
                      <a:pt x="51" y="233"/>
                    </a:lnTo>
                    <a:lnTo>
                      <a:pt x="63" y="225"/>
                    </a:lnTo>
                    <a:lnTo>
                      <a:pt x="75" y="214"/>
                    </a:lnTo>
                    <a:lnTo>
                      <a:pt x="91" y="163"/>
                    </a:lnTo>
                    <a:lnTo>
                      <a:pt x="83" y="109"/>
                    </a:lnTo>
                    <a:lnTo>
                      <a:pt x="63" y="59"/>
                    </a:lnTo>
                    <a:lnTo>
                      <a:pt x="44" y="8"/>
                    </a:lnTo>
                    <a:lnTo>
                      <a:pt x="40" y="4"/>
                    </a:lnTo>
                    <a:lnTo>
                      <a:pt x="36" y="0"/>
                    </a:lnTo>
                    <a:lnTo>
                      <a:pt x="28" y="0"/>
                    </a:lnTo>
                    <a:lnTo>
                      <a:pt x="24" y="0"/>
                    </a:lnTo>
                    <a:lnTo>
                      <a:pt x="20" y="0"/>
                    </a:lnTo>
                    <a:lnTo>
                      <a:pt x="16" y="4"/>
                    </a:lnTo>
                    <a:lnTo>
                      <a:pt x="16" y="12"/>
                    </a:lnTo>
                    <a:lnTo>
                      <a:pt x="16" y="16"/>
                    </a:lnTo>
                    <a:lnTo>
                      <a:pt x="16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7673760" y="2286720"/>
                <a:ext cx="195480" cy="91440"/>
              </a:xfrm>
              <a:custGeom>
                <a:avLst/>
                <a:gdLst/>
                <a:ahLst/>
                <a:rect l="l" t="t" r="r" b="b"/>
                <a:pathLst>
                  <a:path w="308" h="144">
                    <a:moveTo>
                      <a:pt x="4" y="24"/>
                    </a:moveTo>
                    <a:lnTo>
                      <a:pt x="27" y="55"/>
                    </a:lnTo>
                    <a:lnTo>
                      <a:pt x="59" y="82"/>
                    </a:lnTo>
                    <a:lnTo>
                      <a:pt x="91" y="105"/>
                    </a:lnTo>
                    <a:lnTo>
                      <a:pt x="126" y="124"/>
                    </a:lnTo>
                    <a:lnTo>
                      <a:pt x="166" y="136"/>
                    </a:lnTo>
                    <a:lnTo>
                      <a:pt x="205" y="144"/>
                    </a:lnTo>
                    <a:lnTo>
                      <a:pt x="245" y="144"/>
                    </a:lnTo>
                    <a:lnTo>
                      <a:pt x="289" y="136"/>
                    </a:lnTo>
                    <a:lnTo>
                      <a:pt x="297" y="136"/>
                    </a:lnTo>
                    <a:lnTo>
                      <a:pt x="304" y="132"/>
                    </a:lnTo>
                    <a:lnTo>
                      <a:pt x="308" y="124"/>
                    </a:lnTo>
                    <a:lnTo>
                      <a:pt x="308" y="117"/>
                    </a:lnTo>
                    <a:lnTo>
                      <a:pt x="304" y="109"/>
                    </a:lnTo>
                    <a:lnTo>
                      <a:pt x="300" y="101"/>
                    </a:lnTo>
                    <a:lnTo>
                      <a:pt x="293" y="97"/>
                    </a:lnTo>
                    <a:lnTo>
                      <a:pt x="285" y="97"/>
                    </a:lnTo>
                    <a:lnTo>
                      <a:pt x="249" y="97"/>
                    </a:lnTo>
                    <a:lnTo>
                      <a:pt x="213" y="97"/>
                    </a:lnTo>
                    <a:lnTo>
                      <a:pt x="178" y="90"/>
                    </a:lnTo>
                    <a:lnTo>
                      <a:pt x="142" y="82"/>
                    </a:lnTo>
                    <a:lnTo>
                      <a:pt x="111" y="66"/>
                    </a:lnTo>
                    <a:lnTo>
                      <a:pt x="79" y="51"/>
                    </a:lnTo>
                    <a:lnTo>
                      <a:pt x="47" y="31"/>
                    </a:lnTo>
                    <a:lnTo>
                      <a:pt x="23" y="4"/>
                    </a:lnTo>
                    <a:lnTo>
                      <a:pt x="19" y="0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20"/>
                    </a:lnTo>
                    <a:lnTo>
                      <a:pt x="4" y="24"/>
                    </a:lnTo>
                    <a:lnTo>
                      <a:pt x="4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7766280" y="2417400"/>
                <a:ext cx="97920" cy="36720"/>
              </a:xfrm>
              <a:custGeom>
                <a:avLst/>
                <a:gdLst/>
                <a:ahLst/>
                <a:rect l="l" t="t" r="r" b="b"/>
                <a:pathLst>
                  <a:path w="154" h="58">
                    <a:moveTo>
                      <a:pt x="8" y="31"/>
                    </a:moveTo>
                    <a:lnTo>
                      <a:pt x="24" y="39"/>
                    </a:lnTo>
                    <a:lnTo>
                      <a:pt x="36" y="46"/>
                    </a:lnTo>
                    <a:lnTo>
                      <a:pt x="52" y="54"/>
                    </a:lnTo>
                    <a:lnTo>
                      <a:pt x="67" y="58"/>
                    </a:lnTo>
                    <a:lnTo>
                      <a:pt x="83" y="58"/>
                    </a:lnTo>
                    <a:lnTo>
                      <a:pt x="103" y="58"/>
                    </a:lnTo>
                    <a:lnTo>
                      <a:pt x="119" y="58"/>
                    </a:lnTo>
                    <a:lnTo>
                      <a:pt x="135" y="54"/>
                    </a:lnTo>
                    <a:lnTo>
                      <a:pt x="147" y="50"/>
                    </a:lnTo>
                    <a:lnTo>
                      <a:pt x="151" y="43"/>
                    </a:lnTo>
                    <a:lnTo>
                      <a:pt x="154" y="31"/>
                    </a:lnTo>
                    <a:lnTo>
                      <a:pt x="154" y="19"/>
                    </a:lnTo>
                    <a:lnTo>
                      <a:pt x="151" y="12"/>
                    </a:lnTo>
                    <a:lnTo>
                      <a:pt x="143" y="4"/>
                    </a:lnTo>
                    <a:lnTo>
                      <a:pt x="135" y="0"/>
                    </a:lnTo>
                    <a:lnTo>
                      <a:pt x="123" y="0"/>
                    </a:lnTo>
                    <a:lnTo>
                      <a:pt x="95" y="8"/>
                    </a:lnTo>
                    <a:lnTo>
                      <a:pt x="71" y="12"/>
                    </a:lnTo>
                    <a:lnTo>
                      <a:pt x="44" y="12"/>
                    </a:lnTo>
                    <a:lnTo>
                      <a:pt x="16" y="8"/>
                    </a:lnTo>
                    <a:lnTo>
                      <a:pt x="12" y="8"/>
                    </a:lnTo>
                    <a:lnTo>
                      <a:pt x="4" y="8"/>
                    </a:lnTo>
                    <a:lnTo>
                      <a:pt x="0" y="12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0" y="23"/>
                    </a:lnTo>
                    <a:lnTo>
                      <a:pt x="4" y="31"/>
                    </a:lnTo>
                    <a:lnTo>
                      <a:pt x="8" y="31"/>
                    </a:lnTo>
                    <a:lnTo>
                      <a:pt x="8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992360" y="2557800"/>
                <a:ext cx="143280" cy="115560"/>
              </a:xfrm>
              <a:custGeom>
                <a:avLst/>
                <a:gdLst/>
                <a:ahLst/>
                <a:rect l="l" t="t" r="r" b="b"/>
                <a:pathLst>
                  <a:path w="226" h="182">
                    <a:moveTo>
                      <a:pt x="8" y="27"/>
                    </a:moveTo>
                    <a:lnTo>
                      <a:pt x="32" y="39"/>
                    </a:lnTo>
                    <a:lnTo>
                      <a:pt x="60" y="50"/>
                    </a:lnTo>
                    <a:lnTo>
                      <a:pt x="83" y="66"/>
                    </a:lnTo>
                    <a:lnTo>
                      <a:pt x="107" y="81"/>
                    </a:lnTo>
                    <a:lnTo>
                      <a:pt x="131" y="97"/>
                    </a:lnTo>
                    <a:lnTo>
                      <a:pt x="151" y="116"/>
                    </a:lnTo>
                    <a:lnTo>
                      <a:pt x="170" y="140"/>
                    </a:lnTo>
                    <a:lnTo>
                      <a:pt x="182" y="167"/>
                    </a:lnTo>
                    <a:lnTo>
                      <a:pt x="186" y="174"/>
                    </a:lnTo>
                    <a:lnTo>
                      <a:pt x="194" y="178"/>
                    </a:lnTo>
                    <a:lnTo>
                      <a:pt x="206" y="182"/>
                    </a:lnTo>
                    <a:lnTo>
                      <a:pt x="214" y="182"/>
                    </a:lnTo>
                    <a:lnTo>
                      <a:pt x="222" y="174"/>
                    </a:lnTo>
                    <a:lnTo>
                      <a:pt x="226" y="167"/>
                    </a:lnTo>
                    <a:lnTo>
                      <a:pt x="226" y="159"/>
                    </a:lnTo>
                    <a:lnTo>
                      <a:pt x="226" y="151"/>
                    </a:lnTo>
                    <a:lnTo>
                      <a:pt x="214" y="120"/>
                    </a:lnTo>
                    <a:lnTo>
                      <a:pt x="198" y="93"/>
                    </a:lnTo>
                    <a:lnTo>
                      <a:pt x="174" y="70"/>
                    </a:lnTo>
                    <a:lnTo>
                      <a:pt x="147" y="50"/>
                    </a:lnTo>
                    <a:lnTo>
                      <a:pt x="115" y="35"/>
                    </a:lnTo>
                    <a:lnTo>
                      <a:pt x="83" y="19"/>
                    </a:lnTo>
                    <a:lnTo>
                      <a:pt x="52" y="8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9"/>
                    </a:lnTo>
                    <a:lnTo>
                      <a:pt x="4" y="23"/>
                    </a:lnTo>
                    <a:lnTo>
                      <a:pt x="8" y="27"/>
                    </a:lnTo>
                    <a:lnTo>
                      <a:pt x="8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7931880" y="2604960"/>
                <a:ext cx="88200" cy="48600"/>
              </a:xfrm>
              <a:custGeom>
                <a:avLst/>
                <a:gdLst/>
                <a:ahLst/>
                <a:rect l="l" t="t" r="r" b="b"/>
                <a:pathLst>
                  <a:path w="139" h="77">
                    <a:moveTo>
                      <a:pt x="12" y="73"/>
                    </a:moveTo>
                    <a:lnTo>
                      <a:pt x="28" y="77"/>
                    </a:lnTo>
                    <a:lnTo>
                      <a:pt x="48" y="77"/>
                    </a:lnTo>
                    <a:lnTo>
                      <a:pt x="64" y="77"/>
                    </a:lnTo>
                    <a:lnTo>
                      <a:pt x="79" y="73"/>
                    </a:lnTo>
                    <a:lnTo>
                      <a:pt x="95" y="69"/>
                    </a:lnTo>
                    <a:lnTo>
                      <a:pt x="111" y="58"/>
                    </a:lnTo>
                    <a:lnTo>
                      <a:pt x="123" y="50"/>
                    </a:lnTo>
                    <a:lnTo>
                      <a:pt x="131" y="35"/>
                    </a:lnTo>
                    <a:lnTo>
                      <a:pt x="135" y="27"/>
                    </a:lnTo>
                    <a:lnTo>
                      <a:pt x="139" y="19"/>
                    </a:lnTo>
                    <a:lnTo>
                      <a:pt x="135" y="11"/>
                    </a:lnTo>
                    <a:lnTo>
                      <a:pt x="131" y="4"/>
                    </a:lnTo>
                    <a:lnTo>
                      <a:pt x="123" y="0"/>
                    </a:lnTo>
                    <a:lnTo>
                      <a:pt x="115" y="0"/>
                    </a:lnTo>
                    <a:lnTo>
                      <a:pt x="107" y="4"/>
                    </a:lnTo>
                    <a:lnTo>
                      <a:pt x="99" y="7"/>
                    </a:lnTo>
                    <a:lnTo>
                      <a:pt x="87" y="31"/>
                    </a:lnTo>
                    <a:lnTo>
                      <a:pt x="64" y="42"/>
                    </a:lnTo>
                    <a:lnTo>
                      <a:pt x="40" y="46"/>
                    </a:lnTo>
                    <a:lnTo>
                      <a:pt x="12" y="46"/>
                    </a:lnTo>
                    <a:lnTo>
                      <a:pt x="8" y="46"/>
                    </a:lnTo>
                    <a:lnTo>
                      <a:pt x="4" y="50"/>
                    </a:lnTo>
                    <a:lnTo>
                      <a:pt x="0" y="58"/>
                    </a:lnTo>
                    <a:lnTo>
                      <a:pt x="0" y="62"/>
                    </a:lnTo>
                    <a:lnTo>
                      <a:pt x="0" y="66"/>
                    </a:lnTo>
                    <a:lnTo>
                      <a:pt x="4" y="69"/>
                    </a:lnTo>
                    <a:lnTo>
                      <a:pt x="8" y="73"/>
                    </a:lnTo>
                    <a:lnTo>
                      <a:pt x="12" y="73"/>
                    </a:lnTo>
                    <a:lnTo>
                      <a:pt x="12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012520" y="2661480"/>
                <a:ext cx="73080" cy="48960"/>
              </a:xfrm>
              <a:custGeom>
                <a:avLst/>
                <a:gdLst/>
                <a:ahLst/>
                <a:rect l="l" t="t" r="r" b="b"/>
                <a:pathLst>
                  <a:path w="115" h="77">
                    <a:moveTo>
                      <a:pt x="16" y="77"/>
                    </a:moveTo>
                    <a:lnTo>
                      <a:pt x="43" y="77"/>
                    </a:lnTo>
                    <a:lnTo>
                      <a:pt x="67" y="66"/>
                    </a:lnTo>
                    <a:lnTo>
                      <a:pt x="91" y="54"/>
                    </a:lnTo>
                    <a:lnTo>
                      <a:pt x="107" y="35"/>
                    </a:lnTo>
                    <a:lnTo>
                      <a:pt x="111" y="27"/>
                    </a:lnTo>
                    <a:lnTo>
                      <a:pt x="115" y="19"/>
                    </a:lnTo>
                    <a:lnTo>
                      <a:pt x="111" y="11"/>
                    </a:lnTo>
                    <a:lnTo>
                      <a:pt x="107" y="4"/>
                    </a:lnTo>
                    <a:lnTo>
                      <a:pt x="99" y="0"/>
                    </a:lnTo>
                    <a:lnTo>
                      <a:pt x="95" y="0"/>
                    </a:lnTo>
                    <a:lnTo>
                      <a:pt x="87" y="4"/>
                    </a:lnTo>
                    <a:lnTo>
                      <a:pt x="79" y="8"/>
                    </a:lnTo>
                    <a:lnTo>
                      <a:pt x="67" y="23"/>
                    </a:lnTo>
                    <a:lnTo>
                      <a:pt x="51" y="35"/>
                    </a:lnTo>
                    <a:lnTo>
                      <a:pt x="36" y="46"/>
                    </a:lnTo>
                    <a:lnTo>
                      <a:pt x="12" y="50"/>
                    </a:lnTo>
                    <a:lnTo>
                      <a:pt x="8" y="54"/>
                    </a:lnTo>
                    <a:lnTo>
                      <a:pt x="4" y="58"/>
                    </a:lnTo>
                    <a:lnTo>
                      <a:pt x="0" y="66"/>
                    </a:lnTo>
                    <a:lnTo>
                      <a:pt x="0" y="70"/>
                    </a:lnTo>
                    <a:lnTo>
                      <a:pt x="4" y="74"/>
                    </a:lnTo>
                    <a:lnTo>
                      <a:pt x="8" y="77"/>
                    </a:lnTo>
                    <a:lnTo>
                      <a:pt x="12" y="77"/>
                    </a:lnTo>
                    <a:lnTo>
                      <a:pt x="16" y="77"/>
                    </a:lnTo>
                    <a:lnTo>
                      <a:pt x="16" y="7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643160" y="2567520"/>
                <a:ext cx="183240" cy="217080"/>
              </a:xfrm>
              <a:custGeom>
                <a:avLst/>
                <a:gdLst/>
                <a:ahLst/>
                <a:rect l="l" t="t" r="r" b="b"/>
                <a:pathLst>
                  <a:path w="289" h="342">
                    <a:moveTo>
                      <a:pt x="0" y="16"/>
                    </a:moveTo>
                    <a:lnTo>
                      <a:pt x="12" y="66"/>
                    </a:lnTo>
                    <a:lnTo>
                      <a:pt x="32" y="117"/>
                    </a:lnTo>
                    <a:lnTo>
                      <a:pt x="56" y="167"/>
                    </a:lnTo>
                    <a:lnTo>
                      <a:pt x="83" y="214"/>
                    </a:lnTo>
                    <a:lnTo>
                      <a:pt x="115" y="256"/>
                    </a:lnTo>
                    <a:lnTo>
                      <a:pt x="155" y="295"/>
                    </a:lnTo>
                    <a:lnTo>
                      <a:pt x="202" y="322"/>
                    </a:lnTo>
                    <a:lnTo>
                      <a:pt x="253" y="342"/>
                    </a:lnTo>
                    <a:lnTo>
                      <a:pt x="261" y="342"/>
                    </a:lnTo>
                    <a:lnTo>
                      <a:pt x="273" y="338"/>
                    </a:lnTo>
                    <a:lnTo>
                      <a:pt x="281" y="334"/>
                    </a:lnTo>
                    <a:lnTo>
                      <a:pt x="285" y="326"/>
                    </a:lnTo>
                    <a:lnTo>
                      <a:pt x="289" y="319"/>
                    </a:lnTo>
                    <a:lnTo>
                      <a:pt x="285" y="307"/>
                    </a:lnTo>
                    <a:lnTo>
                      <a:pt x="281" y="299"/>
                    </a:lnTo>
                    <a:lnTo>
                      <a:pt x="269" y="291"/>
                    </a:lnTo>
                    <a:lnTo>
                      <a:pt x="226" y="268"/>
                    </a:lnTo>
                    <a:lnTo>
                      <a:pt x="186" y="241"/>
                    </a:lnTo>
                    <a:lnTo>
                      <a:pt x="151" y="210"/>
                    </a:lnTo>
                    <a:lnTo>
                      <a:pt x="123" y="171"/>
                    </a:lnTo>
                    <a:lnTo>
                      <a:pt x="95" y="132"/>
                    </a:lnTo>
                    <a:lnTo>
                      <a:pt x="71" y="94"/>
                    </a:lnTo>
                    <a:lnTo>
                      <a:pt x="48" y="51"/>
                    </a:lnTo>
                    <a:lnTo>
                      <a:pt x="28" y="8"/>
                    </a:lnTo>
                    <a:lnTo>
                      <a:pt x="24" y="4"/>
                    </a:lnTo>
                    <a:lnTo>
                      <a:pt x="20" y="0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0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7565760" y="2644200"/>
                <a:ext cx="147600" cy="113040"/>
              </a:xfrm>
              <a:custGeom>
                <a:avLst/>
                <a:gdLst/>
                <a:ahLst/>
                <a:rect l="l" t="t" r="r" b="b"/>
                <a:pathLst>
                  <a:path w="233" h="178">
                    <a:moveTo>
                      <a:pt x="3" y="23"/>
                    </a:moveTo>
                    <a:lnTo>
                      <a:pt x="27" y="46"/>
                    </a:lnTo>
                    <a:lnTo>
                      <a:pt x="47" y="73"/>
                    </a:lnTo>
                    <a:lnTo>
                      <a:pt x="71" y="101"/>
                    </a:lnTo>
                    <a:lnTo>
                      <a:pt x="91" y="124"/>
                    </a:lnTo>
                    <a:lnTo>
                      <a:pt x="114" y="147"/>
                    </a:lnTo>
                    <a:lnTo>
                      <a:pt x="142" y="166"/>
                    </a:lnTo>
                    <a:lnTo>
                      <a:pt x="170" y="174"/>
                    </a:lnTo>
                    <a:lnTo>
                      <a:pt x="205" y="178"/>
                    </a:lnTo>
                    <a:lnTo>
                      <a:pt x="213" y="178"/>
                    </a:lnTo>
                    <a:lnTo>
                      <a:pt x="221" y="174"/>
                    </a:lnTo>
                    <a:lnTo>
                      <a:pt x="229" y="170"/>
                    </a:lnTo>
                    <a:lnTo>
                      <a:pt x="233" y="163"/>
                    </a:lnTo>
                    <a:lnTo>
                      <a:pt x="233" y="155"/>
                    </a:lnTo>
                    <a:lnTo>
                      <a:pt x="233" y="147"/>
                    </a:lnTo>
                    <a:lnTo>
                      <a:pt x="225" y="143"/>
                    </a:lnTo>
                    <a:lnTo>
                      <a:pt x="217" y="139"/>
                    </a:lnTo>
                    <a:lnTo>
                      <a:pt x="186" y="132"/>
                    </a:lnTo>
                    <a:lnTo>
                      <a:pt x="158" y="120"/>
                    </a:lnTo>
                    <a:lnTo>
                      <a:pt x="134" y="101"/>
                    </a:lnTo>
                    <a:lnTo>
                      <a:pt x="114" y="81"/>
                    </a:lnTo>
                    <a:lnTo>
                      <a:pt x="91" y="58"/>
                    </a:lnTo>
                    <a:lnTo>
                      <a:pt x="71" y="35"/>
                    </a:lnTo>
                    <a:lnTo>
                      <a:pt x="47" y="15"/>
                    </a:lnTo>
                    <a:lnTo>
                      <a:pt x="19" y="0"/>
                    </a:lnTo>
                    <a:lnTo>
                      <a:pt x="15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15"/>
                    </a:lnTo>
                    <a:lnTo>
                      <a:pt x="0" y="19"/>
                    </a:lnTo>
                    <a:lnTo>
                      <a:pt x="3" y="23"/>
                    </a:lnTo>
                    <a:lnTo>
                      <a:pt x="3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7721280" y="2547720"/>
                <a:ext cx="145440" cy="105840"/>
              </a:xfrm>
              <a:custGeom>
                <a:avLst/>
                <a:gdLst/>
                <a:ahLst/>
                <a:rect l="l" t="t" r="r" b="b"/>
                <a:pathLst>
                  <a:path w="229" h="167">
                    <a:moveTo>
                      <a:pt x="8" y="148"/>
                    </a:moveTo>
                    <a:lnTo>
                      <a:pt x="16" y="152"/>
                    </a:lnTo>
                    <a:lnTo>
                      <a:pt x="24" y="156"/>
                    </a:lnTo>
                    <a:lnTo>
                      <a:pt x="32" y="159"/>
                    </a:lnTo>
                    <a:lnTo>
                      <a:pt x="39" y="163"/>
                    </a:lnTo>
                    <a:lnTo>
                      <a:pt x="39" y="167"/>
                    </a:lnTo>
                    <a:lnTo>
                      <a:pt x="43" y="167"/>
                    </a:lnTo>
                    <a:lnTo>
                      <a:pt x="43" y="167"/>
                    </a:lnTo>
                    <a:lnTo>
                      <a:pt x="43" y="167"/>
                    </a:lnTo>
                    <a:lnTo>
                      <a:pt x="43" y="167"/>
                    </a:lnTo>
                    <a:lnTo>
                      <a:pt x="63" y="167"/>
                    </a:lnTo>
                    <a:lnTo>
                      <a:pt x="87" y="159"/>
                    </a:lnTo>
                    <a:lnTo>
                      <a:pt x="111" y="152"/>
                    </a:lnTo>
                    <a:lnTo>
                      <a:pt x="134" y="136"/>
                    </a:lnTo>
                    <a:lnTo>
                      <a:pt x="154" y="121"/>
                    </a:lnTo>
                    <a:lnTo>
                      <a:pt x="174" y="101"/>
                    </a:lnTo>
                    <a:lnTo>
                      <a:pt x="194" y="82"/>
                    </a:lnTo>
                    <a:lnTo>
                      <a:pt x="210" y="62"/>
                    </a:lnTo>
                    <a:lnTo>
                      <a:pt x="225" y="39"/>
                    </a:lnTo>
                    <a:lnTo>
                      <a:pt x="229" y="31"/>
                    </a:lnTo>
                    <a:lnTo>
                      <a:pt x="229" y="20"/>
                    </a:lnTo>
                    <a:lnTo>
                      <a:pt x="225" y="12"/>
                    </a:lnTo>
                    <a:lnTo>
                      <a:pt x="218" y="4"/>
                    </a:lnTo>
                    <a:lnTo>
                      <a:pt x="206" y="0"/>
                    </a:lnTo>
                    <a:lnTo>
                      <a:pt x="198" y="0"/>
                    </a:lnTo>
                    <a:lnTo>
                      <a:pt x="186" y="4"/>
                    </a:lnTo>
                    <a:lnTo>
                      <a:pt x="178" y="12"/>
                    </a:lnTo>
                    <a:lnTo>
                      <a:pt x="154" y="43"/>
                    </a:lnTo>
                    <a:lnTo>
                      <a:pt x="130" y="70"/>
                    </a:lnTo>
                    <a:lnTo>
                      <a:pt x="103" y="94"/>
                    </a:lnTo>
                    <a:lnTo>
                      <a:pt x="75" y="117"/>
                    </a:lnTo>
                    <a:lnTo>
                      <a:pt x="43" y="128"/>
                    </a:lnTo>
                    <a:lnTo>
                      <a:pt x="47" y="128"/>
                    </a:lnTo>
                    <a:lnTo>
                      <a:pt x="16" y="136"/>
                    </a:lnTo>
                    <a:lnTo>
                      <a:pt x="16" y="132"/>
                    </a:lnTo>
                    <a:lnTo>
                      <a:pt x="20" y="128"/>
                    </a:lnTo>
                    <a:lnTo>
                      <a:pt x="20" y="128"/>
                    </a:lnTo>
                    <a:lnTo>
                      <a:pt x="20" y="125"/>
                    </a:lnTo>
                    <a:lnTo>
                      <a:pt x="16" y="125"/>
                    </a:lnTo>
                    <a:lnTo>
                      <a:pt x="8" y="125"/>
                    </a:lnTo>
                    <a:lnTo>
                      <a:pt x="4" y="128"/>
                    </a:lnTo>
                    <a:lnTo>
                      <a:pt x="0" y="132"/>
                    </a:lnTo>
                    <a:lnTo>
                      <a:pt x="0" y="136"/>
                    </a:lnTo>
                    <a:lnTo>
                      <a:pt x="4" y="144"/>
                    </a:lnTo>
                    <a:lnTo>
                      <a:pt x="4" y="148"/>
                    </a:lnTo>
                    <a:lnTo>
                      <a:pt x="8" y="148"/>
                    </a:lnTo>
                    <a:lnTo>
                      <a:pt x="8" y="1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8319240" y="2010960"/>
                <a:ext cx="108000" cy="142560"/>
              </a:xfrm>
              <a:custGeom>
                <a:avLst/>
                <a:gdLst/>
                <a:ahLst/>
                <a:rect l="l" t="t" r="r" b="b"/>
                <a:pathLst>
                  <a:path w="170" h="225">
                    <a:moveTo>
                      <a:pt x="130" y="15"/>
                    </a:moveTo>
                    <a:lnTo>
                      <a:pt x="130" y="43"/>
                    </a:lnTo>
                    <a:lnTo>
                      <a:pt x="122" y="66"/>
                    </a:lnTo>
                    <a:lnTo>
                      <a:pt x="111" y="93"/>
                    </a:lnTo>
                    <a:lnTo>
                      <a:pt x="95" y="112"/>
                    </a:lnTo>
                    <a:lnTo>
                      <a:pt x="75" y="136"/>
                    </a:lnTo>
                    <a:lnTo>
                      <a:pt x="55" y="155"/>
                    </a:lnTo>
                    <a:lnTo>
                      <a:pt x="31" y="174"/>
                    </a:lnTo>
                    <a:lnTo>
                      <a:pt x="12" y="190"/>
                    </a:lnTo>
                    <a:lnTo>
                      <a:pt x="12" y="190"/>
                    </a:lnTo>
                    <a:lnTo>
                      <a:pt x="12" y="186"/>
                    </a:lnTo>
                    <a:lnTo>
                      <a:pt x="12" y="186"/>
                    </a:lnTo>
                    <a:lnTo>
                      <a:pt x="16" y="186"/>
                    </a:lnTo>
                    <a:lnTo>
                      <a:pt x="8" y="190"/>
                    </a:lnTo>
                    <a:lnTo>
                      <a:pt x="4" y="198"/>
                    </a:lnTo>
                    <a:lnTo>
                      <a:pt x="0" y="205"/>
                    </a:lnTo>
                    <a:lnTo>
                      <a:pt x="0" y="213"/>
                    </a:lnTo>
                    <a:lnTo>
                      <a:pt x="8" y="221"/>
                    </a:lnTo>
                    <a:lnTo>
                      <a:pt x="16" y="225"/>
                    </a:lnTo>
                    <a:lnTo>
                      <a:pt x="24" y="225"/>
                    </a:lnTo>
                    <a:lnTo>
                      <a:pt x="31" y="225"/>
                    </a:lnTo>
                    <a:lnTo>
                      <a:pt x="51" y="221"/>
                    </a:lnTo>
                    <a:lnTo>
                      <a:pt x="71" y="209"/>
                    </a:lnTo>
                    <a:lnTo>
                      <a:pt x="87" y="194"/>
                    </a:lnTo>
                    <a:lnTo>
                      <a:pt x="99" y="178"/>
                    </a:lnTo>
                    <a:lnTo>
                      <a:pt x="115" y="159"/>
                    </a:lnTo>
                    <a:lnTo>
                      <a:pt x="126" y="140"/>
                    </a:lnTo>
                    <a:lnTo>
                      <a:pt x="138" y="120"/>
                    </a:lnTo>
                    <a:lnTo>
                      <a:pt x="150" y="105"/>
                    </a:lnTo>
                    <a:lnTo>
                      <a:pt x="162" y="85"/>
                    </a:lnTo>
                    <a:lnTo>
                      <a:pt x="170" y="62"/>
                    </a:lnTo>
                    <a:lnTo>
                      <a:pt x="170" y="39"/>
                    </a:lnTo>
                    <a:lnTo>
                      <a:pt x="158" y="12"/>
                    </a:lnTo>
                    <a:lnTo>
                      <a:pt x="158" y="8"/>
                    </a:lnTo>
                    <a:lnTo>
                      <a:pt x="154" y="0"/>
                    </a:lnTo>
                    <a:lnTo>
                      <a:pt x="146" y="0"/>
                    </a:lnTo>
                    <a:lnTo>
                      <a:pt x="142" y="0"/>
                    </a:lnTo>
                    <a:lnTo>
                      <a:pt x="138" y="0"/>
                    </a:lnTo>
                    <a:lnTo>
                      <a:pt x="134" y="4"/>
                    </a:lnTo>
                    <a:lnTo>
                      <a:pt x="130" y="12"/>
                    </a:lnTo>
                    <a:lnTo>
                      <a:pt x="130" y="15"/>
                    </a:lnTo>
                    <a:lnTo>
                      <a:pt x="13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397000" y="2028240"/>
                <a:ext cx="138240" cy="147600"/>
              </a:xfrm>
              <a:custGeom>
                <a:avLst/>
                <a:gdLst/>
                <a:ahLst/>
                <a:rect l="l" t="t" r="r" b="b"/>
                <a:pathLst>
                  <a:path w="218" h="233">
                    <a:moveTo>
                      <a:pt x="190" y="23"/>
                    </a:moveTo>
                    <a:lnTo>
                      <a:pt x="186" y="12"/>
                    </a:lnTo>
                    <a:lnTo>
                      <a:pt x="183" y="47"/>
                    </a:lnTo>
                    <a:lnTo>
                      <a:pt x="186" y="39"/>
                    </a:lnTo>
                    <a:lnTo>
                      <a:pt x="179" y="50"/>
                    </a:lnTo>
                    <a:lnTo>
                      <a:pt x="159" y="70"/>
                    </a:lnTo>
                    <a:lnTo>
                      <a:pt x="143" y="93"/>
                    </a:lnTo>
                    <a:lnTo>
                      <a:pt x="123" y="113"/>
                    </a:lnTo>
                    <a:lnTo>
                      <a:pt x="103" y="132"/>
                    </a:lnTo>
                    <a:lnTo>
                      <a:pt x="84" y="147"/>
                    </a:lnTo>
                    <a:lnTo>
                      <a:pt x="60" y="163"/>
                    </a:lnTo>
                    <a:lnTo>
                      <a:pt x="36" y="178"/>
                    </a:lnTo>
                    <a:lnTo>
                      <a:pt x="12" y="190"/>
                    </a:lnTo>
                    <a:lnTo>
                      <a:pt x="4" y="194"/>
                    </a:lnTo>
                    <a:lnTo>
                      <a:pt x="0" y="202"/>
                    </a:lnTo>
                    <a:lnTo>
                      <a:pt x="0" y="213"/>
                    </a:lnTo>
                    <a:lnTo>
                      <a:pt x="0" y="221"/>
                    </a:lnTo>
                    <a:lnTo>
                      <a:pt x="4" y="229"/>
                    </a:lnTo>
                    <a:lnTo>
                      <a:pt x="12" y="233"/>
                    </a:lnTo>
                    <a:lnTo>
                      <a:pt x="20" y="233"/>
                    </a:lnTo>
                    <a:lnTo>
                      <a:pt x="28" y="233"/>
                    </a:lnTo>
                    <a:lnTo>
                      <a:pt x="56" y="225"/>
                    </a:lnTo>
                    <a:lnTo>
                      <a:pt x="84" y="210"/>
                    </a:lnTo>
                    <a:lnTo>
                      <a:pt x="107" y="190"/>
                    </a:lnTo>
                    <a:lnTo>
                      <a:pt x="131" y="171"/>
                    </a:lnTo>
                    <a:lnTo>
                      <a:pt x="151" y="147"/>
                    </a:lnTo>
                    <a:lnTo>
                      <a:pt x="171" y="124"/>
                    </a:lnTo>
                    <a:lnTo>
                      <a:pt x="186" y="101"/>
                    </a:lnTo>
                    <a:lnTo>
                      <a:pt x="206" y="78"/>
                    </a:lnTo>
                    <a:lnTo>
                      <a:pt x="214" y="58"/>
                    </a:lnTo>
                    <a:lnTo>
                      <a:pt x="218" y="54"/>
                    </a:lnTo>
                    <a:lnTo>
                      <a:pt x="218" y="54"/>
                    </a:lnTo>
                    <a:lnTo>
                      <a:pt x="218" y="50"/>
                    </a:lnTo>
                    <a:lnTo>
                      <a:pt x="218" y="47"/>
                    </a:lnTo>
                    <a:lnTo>
                      <a:pt x="218" y="27"/>
                    </a:lnTo>
                    <a:lnTo>
                      <a:pt x="218" y="27"/>
                    </a:lnTo>
                    <a:lnTo>
                      <a:pt x="218" y="27"/>
                    </a:lnTo>
                    <a:lnTo>
                      <a:pt x="218" y="27"/>
                    </a:lnTo>
                    <a:lnTo>
                      <a:pt x="218" y="27"/>
                    </a:lnTo>
                    <a:lnTo>
                      <a:pt x="214" y="23"/>
                    </a:lnTo>
                    <a:lnTo>
                      <a:pt x="214" y="19"/>
                    </a:lnTo>
                    <a:lnTo>
                      <a:pt x="214" y="16"/>
                    </a:lnTo>
                    <a:lnTo>
                      <a:pt x="214" y="12"/>
                    </a:lnTo>
                    <a:lnTo>
                      <a:pt x="214" y="8"/>
                    </a:lnTo>
                    <a:lnTo>
                      <a:pt x="210" y="4"/>
                    </a:lnTo>
                    <a:lnTo>
                      <a:pt x="206" y="0"/>
                    </a:lnTo>
                    <a:lnTo>
                      <a:pt x="202" y="0"/>
                    </a:lnTo>
                    <a:lnTo>
                      <a:pt x="198" y="0"/>
                    </a:lnTo>
                    <a:lnTo>
                      <a:pt x="190" y="4"/>
                    </a:lnTo>
                    <a:lnTo>
                      <a:pt x="186" y="8"/>
                    </a:lnTo>
                    <a:lnTo>
                      <a:pt x="186" y="12"/>
                    </a:lnTo>
                    <a:lnTo>
                      <a:pt x="19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427600" y="1958760"/>
                <a:ext cx="248760" cy="118800"/>
              </a:xfrm>
              <a:custGeom>
                <a:avLst/>
                <a:gdLst/>
                <a:ahLst/>
                <a:rect l="l" t="t" r="r" b="b"/>
                <a:pathLst>
                  <a:path w="392" h="187">
                    <a:moveTo>
                      <a:pt x="8" y="24"/>
                    </a:moveTo>
                    <a:lnTo>
                      <a:pt x="43" y="55"/>
                    </a:lnTo>
                    <a:lnTo>
                      <a:pt x="83" y="86"/>
                    </a:lnTo>
                    <a:lnTo>
                      <a:pt x="127" y="113"/>
                    </a:lnTo>
                    <a:lnTo>
                      <a:pt x="170" y="140"/>
                    </a:lnTo>
                    <a:lnTo>
                      <a:pt x="214" y="159"/>
                    </a:lnTo>
                    <a:lnTo>
                      <a:pt x="261" y="175"/>
                    </a:lnTo>
                    <a:lnTo>
                      <a:pt x="309" y="187"/>
                    </a:lnTo>
                    <a:lnTo>
                      <a:pt x="360" y="187"/>
                    </a:lnTo>
                    <a:lnTo>
                      <a:pt x="372" y="187"/>
                    </a:lnTo>
                    <a:lnTo>
                      <a:pt x="380" y="183"/>
                    </a:lnTo>
                    <a:lnTo>
                      <a:pt x="388" y="175"/>
                    </a:lnTo>
                    <a:lnTo>
                      <a:pt x="392" y="163"/>
                    </a:lnTo>
                    <a:lnTo>
                      <a:pt x="388" y="152"/>
                    </a:lnTo>
                    <a:lnTo>
                      <a:pt x="384" y="144"/>
                    </a:lnTo>
                    <a:lnTo>
                      <a:pt x="376" y="140"/>
                    </a:lnTo>
                    <a:lnTo>
                      <a:pt x="364" y="136"/>
                    </a:lnTo>
                    <a:lnTo>
                      <a:pt x="321" y="128"/>
                    </a:lnTo>
                    <a:lnTo>
                      <a:pt x="273" y="117"/>
                    </a:lnTo>
                    <a:lnTo>
                      <a:pt x="233" y="101"/>
                    </a:lnTo>
                    <a:lnTo>
                      <a:pt x="190" y="86"/>
                    </a:lnTo>
                    <a:lnTo>
                      <a:pt x="146" y="66"/>
                    </a:lnTo>
                    <a:lnTo>
                      <a:pt x="107" y="43"/>
                    </a:lnTo>
                    <a:lnTo>
                      <a:pt x="63" y="24"/>
                    </a:lnTo>
                    <a:lnTo>
                      <a:pt x="24" y="4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4" y="20"/>
                    </a:lnTo>
                    <a:lnTo>
                      <a:pt x="8" y="24"/>
                    </a:lnTo>
                    <a:lnTo>
                      <a:pt x="8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527680" y="1951920"/>
                <a:ext cx="223200" cy="87840"/>
              </a:xfrm>
              <a:custGeom>
                <a:avLst/>
                <a:gdLst/>
                <a:ahLst/>
                <a:rect l="l" t="t" r="r" b="b"/>
                <a:pathLst>
                  <a:path w="352" h="139">
                    <a:moveTo>
                      <a:pt x="8" y="23"/>
                    </a:moveTo>
                    <a:lnTo>
                      <a:pt x="44" y="46"/>
                    </a:lnTo>
                    <a:lnTo>
                      <a:pt x="79" y="70"/>
                    </a:lnTo>
                    <a:lnTo>
                      <a:pt x="115" y="89"/>
                    </a:lnTo>
                    <a:lnTo>
                      <a:pt x="155" y="105"/>
                    </a:lnTo>
                    <a:lnTo>
                      <a:pt x="194" y="116"/>
                    </a:lnTo>
                    <a:lnTo>
                      <a:pt x="238" y="128"/>
                    </a:lnTo>
                    <a:lnTo>
                      <a:pt x="277" y="136"/>
                    </a:lnTo>
                    <a:lnTo>
                      <a:pt x="321" y="139"/>
                    </a:lnTo>
                    <a:lnTo>
                      <a:pt x="329" y="139"/>
                    </a:lnTo>
                    <a:lnTo>
                      <a:pt x="341" y="136"/>
                    </a:lnTo>
                    <a:lnTo>
                      <a:pt x="349" y="132"/>
                    </a:lnTo>
                    <a:lnTo>
                      <a:pt x="352" y="124"/>
                    </a:lnTo>
                    <a:lnTo>
                      <a:pt x="352" y="112"/>
                    </a:lnTo>
                    <a:lnTo>
                      <a:pt x="352" y="101"/>
                    </a:lnTo>
                    <a:lnTo>
                      <a:pt x="345" y="93"/>
                    </a:lnTo>
                    <a:lnTo>
                      <a:pt x="337" y="89"/>
                    </a:lnTo>
                    <a:lnTo>
                      <a:pt x="297" y="81"/>
                    </a:lnTo>
                    <a:lnTo>
                      <a:pt x="254" y="74"/>
                    </a:lnTo>
                    <a:lnTo>
                      <a:pt x="214" y="66"/>
                    </a:lnTo>
                    <a:lnTo>
                      <a:pt x="174" y="58"/>
                    </a:lnTo>
                    <a:lnTo>
                      <a:pt x="135" y="46"/>
                    </a:lnTo>
                    <a:lnTo>
                      <a:pt x="95" y="35"/>
                    </a:lnTo>
                    <a:lnTo>
                      <a:pt x="56" y="19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4" y="19"/>
                    </a:lnTo>
                    <a:lnTo>
                      <a:pt x="8" y="23"/>
                    </a:lnTo>
                    <a:lnTo>
                      <a:pt x="8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570880" y="2028240"/>
                <a:ext cx="233280" cy="164880"/>
              </a:xfrm>
              <a:custGeom>
                <a:avLst/>
                <a:gdLst/>
                <a:ahLst/>
                <a:rect l="l" t="t" r="r" b="b"/>
                <a:pathLst>
                  <a:path w="368" h="260">
                    <a:moveTo>
                      <a:pt x="348" y="0"/>
                    </a:moveTo>
                    <a:lnTo>
                      <a:pt x="296" y="12"/>
                    </a:lnTo>
                    <a:lnTo>
                      <a:pt x="249" y="27"/>
                    </a:lnTo>
                    <a:lnTo>
                      <a:pt x="201" y="50"/>
                    </a:lnTo>
                    <a:lnTo>
                      <a:pt x="154" y="74"/>
                    </a:lnTo>
                    <a:lnTo>
                      <a:pt x="110" y="105"/>
                    </a:lnTo>
                    <a:lnTo>
                      <a:pt x="71" y="140"/>
                    </a:lnTo>
                    <a:lnTo>
                      <a:pt x="35" y="178"/>
                    </a:lnTo>
                    <a:lnTo>
                      <a:pt x="3" y="221"/>
                    </a:lnTo>
                    <a:lnTo>
                      <a:pt x="0" y="229"/>
                    </a:lnTo>
                    <a:lnTo>
                      <a:pt x="0" y="241"/>
                    </a:lnTo>
                    <a:lnTo>
                      <a:pt x="3" y="248"/>
                    </a:lnTo>
                    <a:lnTo>
                      <a:pt x="11" y="256"/>
                    </a:lnTo>
                    <a:lnTo>
                      <a:pt x="19" y="260"/>
                    </a:lnTo>
                    <a:lnTo>
                      <a:pt x="31" y="260"/>
                    </a:lnTo>
                    <a:lnTo>
                      <a:pt x="39" y="256"/>
                    </a:lnTo>
                    <a:lnTo>
                      <a:pt x="47" y="248"/>
                    </a:lnTo>
                    <a:lnTo>
                      <a:pt x="79" y="210"/>
                    </a:lnTo>
                    <a:lnTo>
                      <a:pt x="110" y="175"/>
                    </a:lnTo>
                    <a:lnTo>
                      <a:pt x="146" y="140"/>
                    </a:lnTo>
                    <a:lnTo>
                      <a:pt x="182" y="109"/>
                    </a:lnTo>
                    <a:lnTo>
                      <a:pt x="221" y="82"/>
                    </a:lnTo>
                    <a:lnTo>
                      <a:pt x="265" y="58"/>
                    </a:lnTo>
                    <a:lnTo>
                      <a:pt x="308" y="39"/>
                    </a:lnTo>
                    <a:lnTo>
                      <a:pt x="356" y="27"/>
                    </a:lnTo>
                    <a:lnTo>
                      <a:pt x="360" y="23"/>
                    </a:lnTo>
                    <a:lnTo>
                      <a:pt x="364" y="19"/>
                    </a:lnTo>
                    <a:lnTo>
                      <a:pt x="368" y="12"/>
                    </a:lnTo>
                    <a:lnTo>
                      <a:pt x="368" y="8"/>
                    </a:lnTo>
                    <a:lnTo>
                      <a:pt x="364" y="4"/>
                    </a:lnTo>
                    <a:lnTo>
                      <a:pt x="360" y="0"/>
                    </a:lnTo>
                    <a:lnTo>
                      <a:pt x="352" y="0"/>
                    </a:lnTo>
                    <a:lnTo>
                      <a:pt x="348" y="0"/>
                    </a:lnTo>
                    <a:lnTo>
                      <a:pt x="3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8653680" y="2097360"/>
                <a:ext cx="140760" cy="108000"/>
              </a:xfrm>
              <a:custGeom>
                <a:avLst/>
                <a:gdLst/>
                <a:ahLst/>
                <a:rect l="l" t="t" r="r" b="b"/>
                <a:pathLst>
                  <a:path w="222" h="170">
                    <a:moveTo>
                      <a:pt x="206" y="0"/>
                    </a:moveTo>
                    <a:lnTo>
                      <a:pt x="178" y="7"/>
                    </a:lnTo>
                    <a:lnTo>
                      <a:pt x="147" y="19"/>
                    </a:lnTo>
                    <a:lnTo>
                      <a:pt x="119" y="31"/>
                    </a:lnTo>
                    <a:lnTo>
                      <a:pt x="91" y="46"/>
                    </a:lnTo>
                    <a:lnTo>
                      <a:pt x="63" y="66"/>
                    </a:lnTo>
                    <a:lnTo>
                      <a:pt x="40" y="85"/>
                    </a:lnTo>
                    <a:lnTo>
                      <a:pt x="20" y="108"/>
                    </a:lnTo>
                    <a:lnTo>
                      <a:pt x="0" y="132"/>
                    </a:lnTo>
                    <a:lnTo>
                      <a:pt x="0" y="139"/>
                    </a:lnTo>
                    <a:lnTo>
                      <a:pt x="0" y="151"/>
                    </a:lnTo>
                    <a:lnTo>
                      <a:pt x="4" y="159"/>
                    </a:lnTo>
                    <a:lnTo>
                      <a:pt x="12" y="166"/>
                    </a:lnTo>
                    <a:lnTo>
                      <a:pt x="20" y="170"/>
                    </a:lnTo>
                    <a:lnTo>
                      <a:pt x="32" y="166"/>
                    </a:lnTo>
                    <a:lnTo>
                      <a:pt x="40" y="163"/>
                    </a:lnTo>
                    <a:lnTo>
                      <a:pt x="48" y="155"/>
                    </a:lnTo>
                    <a:lnTo>
                      <a:pt x="63" y="135"/>
                    </a:lnTo>
                    <a:lnTo>
                      <a:pt x="79" y="116"/>
                    </a:lnTo>
                    <a:lnTo>
                      <a:pt x="99" y="97"/>
                    </a:lnTo>
                    <a:lnTo>
                      <a:pt x="119" y="81"/>
                    </a:lnTo>
                    <a:lnTo>
                      <a:pt x="143" y="66"/>
                    </a:lnTo>
                    <a:lnTo>
                      <a:pt x="166" y="50"/>
                    </a:lnTo>
                    <a:lnTo>
                      <a:pt x="190" y="35"/>
                    </a:lnTo>
                    <a:lnTo>
                      <a:pt x="214" y="23"/>
                    </a:lnTo>
                    <a:lnTo>
                      <a:pt x="218" y="19"/>
                    </a:lnTo>
                    <a:lnTo>
                      <a:pt x="222" y="15"/>
                    </a:lnTo>
                    <a:lnTo>
                      <a:pt x="222" y="11"/>
                    </a:lnTo>
                    <a:lnTo>
                      <a:pt x="222" y="7"/>
                    </a:lnTo>
                    <a:lnTo>
                      <a:pt x="218" y="4"/>
                    </a:lnTo>
                    <a:lnTo>
                      <a:pt x="214" y="0"/>
                    </a:lnTo>
                    <a:lnTo>
                      <a:pt x="210" y="0"/>
                    </a:lnTo>
                    <a:lnTo>
                      <a:pt x="206" y="0"/>
                    </a:lnTo>
                    <a:lnTo>
                      <a:pt x="20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8419680" y="2616840"/>
                <a:ext cx="178200" cy="142560"/>
              </a:xfrm>
              <a:custGeom>
                <a:avLst/>
                <a:gdLst/>
                <a:ahLst/>
                <a:rect l="l" t="t" r="r" b="b"/>
                <a:pathLst>
                  <a:path w="281" h="225">
                    <a:moveTo>
                      <a:pt x="4" y="27"/>
                    </a:moveTo>
                    <a:lnTo>
                      <a:pt x="32" y="54"/>
                    </a:lnTo>
                    <a:lnTo>
                      <a:pt x="59" y="85"/>
                    </a:lnTo>
                    <a:lnTo>
                      <a:pt x="87" y="113"/>
                    </a:lnTo>
                    <a:lnTo>
                      <a:pt x="115" y="140"/>
                    </a:lnTo>
                    <a:lnTo>
                      <a:pt x="143" y="167"/>
                    </a:lnTo>
                    <a:lnTo>
                      <a:pt x="170" y="190"/>
                    </a:lnTo>
                    <a:lnTo>
                      <a:pt x="206" y="209"/>
                    </a:lnTo>
                    <a:lnTo>
                      <a:pt x="245" y="221"/>
                    </a:lnTo>
                    <a:lnTo>
                      <a:pt x="253" y="225"/>
                    </a:lnTo>
                    <a:lnTo>
                      <a:pt x="265" y="225"/>
                    </a:lnTo>
                    <a:lnTo>
                      <a:pt x="273" y="217"/>
                    </a:lnTo>
                    <a:lnTo>
                      <a:pt x="277" y="209"/>
                    </a:lnTo>
                    <a:lnTo>
                      <a:pt x="281" y="202"/>
                    </a:lnTo>
                    <a:lnTo>
                      <a:pt x="281" y="194"/>
                    </a:lnTo>
                    <a:lnTo>
                      <a:pt x="277" y="186"/>
                    </a:lnTo>
                    <a:lnTo>
                      <a:pt x="269" y="178"/>
                    </a:lnTo>
                    <a:lnTo>
                      <a:pt x="234" y="163"/>
                    </a:lnTo>
                    <a:lnTo>
                      <a:pt x="202" y="144"/>
                    </a:lnTo>
                    <a:lnTo>
                      <a:pt x="170" y="120"/>
                    </a:lnTo>
                    <a:lnTo>
                      <a:pt x="139" y="97"/>
                    </a:lnTo>
                    <a:lnTo>
                      <a:pt x="111" y="74"/>
                    </a:lnTo>
                    <a:lnTo>
                      <a:pt x="83" y="50"/>
                    </a:lnTo>
                    <a:lnTo>
                      <a:pt x="52" y="27"/>
                    </a:lnTo>
                    <a:lnTo>
                      <a:pt x="20" y="4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8" y="4"/>
                    </a:lnTo>
                    <a:lnTo>
                      <a:pt x="4" y="8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0" y="23"/>
                    </a:lnTo>
                    <a:lnTo>
                      <a:pt x="4" y="27"/>
                    </a:lnTo>
                    <a:lnTo>
                      <a:pt x="4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8532720" y="2616840"/>
                <a:ext cx="140760" cy="118080"/>
              </a:xfrm>
              <a:custGeom>
                <a:avLst/>
                <a:gdLst/>
                <a:ahLst/>
                <a:rect l="l" t="t" r="r" b="b"/>
                <a:pathLst>
                  <a:path w="222" h="186">
                    <a:moveTo>
                      <a:pt x="4" y="23"/>
                    </a:moveTo>
                    <a:lnTo>
                      <a:pt x="20" y="47"/>
                    </a:lnTo>
                    <a:lnTo>
                      <a:pt x="40" y="70"/>
                    </a:lnTo>
                    <a:lnTo>
                      <a:pt x="60" y="89"/>
                    </a:lnTo>
                    <a:lnTo>
                      <a:pt x="79" y="109"/>
                    </a:lnTo>
                    <a:lnTo>
                      <a:pt x="103" y="128"/>
                    </a:lnTo>
                    <a:lnTo>
                      <a:pt x="127" y="144"/>
                    </a:lnTo>
                    <a:lnTo>
                      <a:pt x="151" y="163"/>
                    </a:lnTo>
                    <a:lnTo>
                      <a:pt x="174" y="178"/>
                    </a:lnTo>
                    <a:lnTo>
                      <a:pt x="186" y="186"/>
                    </a:lnTo>
                    <a:lnTo>
                      <a:pt x="198" y="186"/>
                    </a:lnTo>
                    <a:lnTo>
                      <a:pt x="210" y="178"/>
                    </a:lnTo>
                    <a:lnTo>
                      <a:pt x="218" y="171"/>
                    </a:lnTo>
                    <a:lnTo>
                      <a:pt x="222" y="159"/>
                    </a:lnTo>
                    <a:lnTo>
                      <a:pt x="222" y="151"/>
                    </a:lnTo>
                    <a:lnTo>
                      <a:pt x="214" y="140"/>
                    </a:lnTo>
                    <a:lnTo>
                      <a:pt x="206" y="132"/>
                    </a:lnTo>
                    <a:lnTo>
                      <a:pt x="202" y="128"/>
                    </a:lnTo>
                    <a:lnTo>
                      <a:pt x="178" y="113"/>
                    </a:lnTo>
                    <a:lnTo>
                      <a:pt x="155" y="101"/>
                    </a:lnTo>
                    <a:lnTo>
                      <a:pt x="135" y="85"/>
                    </a:lnTo>
                    <a:lnTo>
                      <a:pt x="111" y="70"/>
                    </a:lnTo>
                    <a:lnTo>
                      <a:pt x="87" y="58"/>
                    </a:lnTo>
                    <a:lnTo>
                      <a:pt x="63" y="39"/>
                    </a:lnTo>
                    <a:lnTo>
                      <a:pt x="44" y="23"/>
                    </a:lnTo>
                    <a:lnTo>
                      <a:pt x="24" y="4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0" y="19"/>
                    </a:lnTo>
                    <a:lnTo>
                      <a:pt x="4" y="23"/>
                    </a:lnTo>
                    <a:lnTo>
                      <a:pt x="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593200" y="2540520"/>
                <a:ext cx="67680" cy="120600"/>
              </a:xfrm>
              <a:custGeom>
                <a:avLst/>
                <a:gdLst/>
                <a:ahLst/>
                <a:rect l="l" t="t" r="r" b="b"/>
                <a:pathLst>
                  <a:path w="107" h="190">
                    <a:moveTo>
                      <a:pt x="8" y="23"/>
                    </a:moveTo>
                    <a:lnTo>
                      <a:pt x="28" y="46"/>
                    </a:lnTo>
                    <a:lnTo>
                      <a:pt x="44" y="77"/>
                    </a:lnTo>
                    <a:lnTo>
                      <a:pt x="56" y="105"/>
                    </a:lnTo>
                    <a:lnTo>
                      <a:pt x="48" y="136"/>
                    </a:lnTo>
                    <a:lnTo>
                      <a:pt x="40" y="143"/>
                    </a:lnTo>
                    <a:lnTo>
                      <a:pt x="32" y="151"/>
                    </a:lnTo>
                    <a:lnTo>
                      <a:pt x="32" y="163"/>
                    </a:lnTo>
                    <a:lnTo>
                      <a:pt x="32" y="170"/>
                    </a:lnTo>
                    <a:lnTo>
                      <a:pt x="40" y="182"/>
                    </a:lnTo>
                    <a:lnTo>
                      <a:pt x="48" y="186"/>
                    </a:lnTo>
                    <a:lnTo>
                      <a:pt x="60" y="190"/>
                    </a:lnTo>
                    <a:lnTo>
                      <a:pt x="71" y="186"/>
                    </a:lnTo>
                    <a:lnTo>
                      <a:pt x="83" y="178"/>
                    </a:lnTo>
                    <a:lnTo>
                      <a:pt x="95" y="170"/>
                    </a:lnTo>
                    <a:lnTo>
                      <a:pt x="103" y="159"/>
                    </a:lnTo>
                    <a:lnTo>
                      <a:pt x="107" y="139"/>
                    </a:lnTo>
                    <a:lnTo>
                      <a:pt x="103" y="101"/>
                    </a:lnTo>
                    <a:lnTo>
                      <a:pt x="83" y="62"/>
                    </a:lnTo>
                    <a:lnTo>
                      <a:pt x="56" y="27"/>
                    </a:lnTo>
                    <a:lnTo>
                      <a:pt x="24" y="4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4" y="19"/>
                    </a:lnTo>
                    <a:lnTo>
                      <a:pt x="8" y="23"/>
                    </a:lnTo>
                    <a:lnTo>
                      <a:pt x="8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402040" y="2338920"/>
                <a:ext cx="135720" cy="64080"/>
              </a:xfrm>
              <a:custGeom>
                <a:avLst/>
                <a:gdLst/>
                <a:ahLst/>
                <a:rect l="l" t="t" r="r" b="b"/>
                <a:pathLst>
                  <a:path w="214" h="101">
                    <a:moveTo>
                      <a:pt x="16" y="101"/>
                    </a:moveTo>
                    <a:lnTo>
                      <a:pt x="40" y="101"/>
                    </a:lnTo>
                    <a:lnTo>
                      <a:pt x="68" y="101"/>
                    </a:lnTo>
                    <a:lnTo>
                      <a:pt x="91" y="97"/>
                    </a:lnTo>
                    <a:lnTo>
                      <a:pt x="119" y="93"/>
                    </a:lnTo>
                    <a:lnTo>
                      <a:pt x="143" y="81"/>
                    </a:lnTo>
                    <a:lnTo>
                      <a:pt x="167" y="73"/>
                    </a:lnTo>
                    <a:lnTo>
                      <a:pt x="186" y="58"/>
                    </a:lnTo>
                    <a:lnTo>
                      <a:pt x="206" y="39"/>
                    </a:lnTo>
                    <a:lnTo>
                      <a:pt x="214" y="31"/>
                    </a:lnTo>
                    <a:lnTo>
                      <a:pt x="214" y="23"/>
                    </a:lnTo>
                    <a:lnTo>
                      <a:pt x="214" y="15"/>
                    </a:lnTo>
                    <a:lnTo>
                      <a:pt x="210" y="8"/>
                    </a:lnTo>
                    <a:lnTo>
                      <a:pt x="202" y="4"/>
                    </a:lnTo>
                    <a:lnTo>
                      <a:pt x="194" y="0"/>
                    </a:lnTo>
                    <a:lnTo>
                      <a:pt x="186" y="0"/>
                    </a:lnTo>
                    <a:lnTo>
                      <a:pt x="178" y="4"/>
                    </a:lnTo>
                    <a:lnTo>
                      <a:pt x="163" y="19"/>
                    </a:lnTo>
                    <a:lnTo>
                      <a:pt x="143" y="35"/>
                    </a:lnTo>
                    <a:lnTo>
                      <a:pt x="123" y="46"/>
                    </a:lnTo>
                    <a:lnTo>
                      <a:pt x="103" y="54"/>
                    </a:lnTo>
                    <a:lnTo>
                      <a:pt x="83" y="62"/>
                    </a:lnTo>
                    <a:lnTo>
                      <a:pt x="60" y="66"/>
                    </a:lnTo>
                    <a:lnTo>
                      <a:pt x="40" y="70"/>
                    </a:lnTo>
                    <a:lnTo>
                      <a:pt x="16" y="73"/>
                    </a:lnTo>
                    <a:lnTo>
                      <a:pt x="12" y="73"/>
                    </a:lnTo>
                    <a:lnTo>
                      <a:pt x="4" y="77"/>
                    </a:lnTo>
                    <a:lnTo>
                      <a:pt x="0" y="85"/>
                    </a:lnTo>
                    <a:lnTo>
                      <a:pt x="0" y="89"/>
                    </a:lnTo>
                    <a:lnTo>
                      <a:pt x="0" y="93"/>
                    </a:lnTo>
                    <a:lnTo>
                      <a:pt x="4" y="97"/>
                    </a:lnTo>
                    <a:lnTo>
                      <a:pt x="12" y="101"/>
                    </a:lnTo>
                    <a:lnTo>
                      <a:pt x="16" y="101"/>
                    </a:lnTo>
                    <a:lnTo>
                      <a:pt x="16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503200" y="2390040"/>
                <a:ext cx="105120" cy="66600"/>
              </a:xfrm>
              <a:custGeom>
                <a:avLst/>
                <a:gdLst/>
                <a:ahLst/>
                <a:rect l="l" t="t" r="r" b="b"/>
                <a:pathLst>
                  <a:path w="166" h="105">
                    <a:moveTo>
                      <a:pt x="12" y="101"/>
                    </a:moveTo>
                    <a:lnTo>
                      <a:pt x="31" y="105"/>
                    </a:lnTo>
                    <a:lnTo>
                      <a:pt x="51" y="105"/>
                    </a:lnTo>
                    <a:lnTo>
                      <a:pt x="71" y="105"/>
                    </a:lnTo>
                    <a:lnTo>
                      <a:pt x="91" y="97"/>
                    </a:lnTo>
                    <a:lnTo>
                      <a:pt x="110" y="89"/>
                    </a:lnTo>
                    <a:lnTo>
                      <a:pt x="126" y="78"/>
                    </a:lnTo>
                    <a:lnTo>
                      <a:pt x="142" y="66"/>
                    </a:lnTo>
                    <a:lnTo>
                      <a:pt x="158" y="51"/>
                    </a:lnTo>
                    <a:lnTo>
                      <a:pt x="166" y="39"/>
                    </a:lnTo>
                    <a:lnTo>
                      <a:pt x="166" y="27"/>
                    </a:lnTo>
                    <a:lnTo>
                      <a:pt x="166" y="20"/>
                    </a:lnTo>
                    <a:lnTo>
                      <a:pt x="158" y="8"/>
                    </a:lnTo>
                    <a:lnTo>
                      <a:pt x="150" y="0"/>
                    </a:lnTo>
                    <a:lnTo>
                      <a:pt x="138" y="0"/>
                    </a:lnTo>
                    <a:lnTo>
                      <a:pt x="126" y="0"/>
                    </a:lnTo>
                    <a:lnTo>
                      <a:pt x="114" y="8"/>
                    </a:lnTo>
                    <a:lnTo>
                      <a:pt x="95" y="31"/>
                    </a:lnTo>
                    <a:lnTo>
                      <a:pt x="71" y="51"/>
                    </a:lnTo>
                    <a:lnTo>
                      <a:pt x="43" y="66"/>
                    </a:lnTo>
                    <a:lnTo>
                      <a:pt x="12" y="74"/>
                    </a:lnTo>
                    <a:lnTo>
                      <a:pt x="8" y="74"/>
                    </a:lnTo>
                    <a:lnTo>
                      <a:pt x="4" y="78"/>
                    </a:lnTo>
                    <a:lnTo>
                      <a:pt x="0" y="86"/>
                    </a:lnTo>
                    <a:lnTo>
                      <a:pt x="0" y="89"/>
                    </a:lnTo>
                    <a:lnTo>
                      <a:pt x="0" y="93"/>
                    </a:lnTo>
                    <a:lnTo>
                      <a:pt x="4" y="97"/>
                    </a:lnTo>
                    <a:lnTo>
                      <a:pt x="8" y="101"/>
                    </a:lnTo>
                    <a:lnTo>
                      <a:pt x="12" y="101"/>
                    </a:lnTo>
                    <a:lnTo>
                      <a:pt x="12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8454960" y="2291760"/>
                <a:ext cx="211320" cy="105840"/>
              </a:xfrm>
              <a:custGeom>
                <a:avLst/>
                <a:gdLst/>
                <a:ahLst/>
                <a:rect l="l" t="t" r="r" b="b"/>
                <a:pathLst>
                  <a:path w="333" h="167">
                    <a:moveTo>
                      <a:pt x="8" y="27"/>
                    </a:moveTo>
                    <a:lnTo>
                      <a:pt x="44" y="47"/>
                    </a:lnTo>
                    <a:lnTo>
                      <a:pt x="76" y="66"/>
                    </a:lnTo>
                    <a:lnTo>
                      <a:pt x="111" y="89"/>
                    </a:lnTo>
                    <a:lnTo>
                      <a:pt x="143" y="109"/>
                    </a:lnTo>
                    <a:lnTo>
                      <a:pt x="179" y="128"/>
                    </a:lnTo>
                    <a:lnTo>
                      <a:pt x="214" y="147"/>
                    </a:lnTo>
                    <a:lnTo>
                      <a:pt x="254" y="159"/>
                    </a:lnTo>
                    <a:lnTo>
                      <a:pt x="293" y="167"/>
                    </a:lnTo>
                    <a:lnTo>
                      <a:pt x="309" y="167"/>
                    </a:lnTo>
                    <a:lnTo>
                      <a:pt x="321" y="163"/>
                    </a:lnTo>
                    <a:lnTo>
                      <a:pt x="329" y="155"/>
                    </a:lnTo>
                    <a:lnTo>
                      <a:pt x="333" y="144"/>
                    </a:lnTo>
                    <a:lnTo>
                      <a:pt x="333" y="128"/>
                    </a:lnTo>
                    <a:lnTo>
                      <a:pt x="329" y="116"/>
                    </a:lnTo>
                    <a:lnTo>
                      <a:pt x="317" y="109"/>
                    </a:lnTo>
                    <a:lnTo>
                      <a:pt x="305" y="105"/>
                    </a:lnTo>
                    <a:lnTo>
                      <a:pt x="270" y="93"/>
                    </a:lnTo>
                    <a:lnTo>
                      <a:pt x="234" y="82"/>
                    </a:lnTo>
                    <a:lnTo>
                      <a:pt x="198" y="70"/>
                    </a:lnTo>
                    <a:lnTo>
                      <a:pt x="163" y="54"/>
                    </a:lnTo>
                    <a:lnTo>
                      <a:pt x="127" y="39"/>
                    </a:lnTo>
                    <a:lnTo>
                      <a:pt x="92" y="27"/>
                    </a:lnTo>
                    <a:lnTo>
                      <a:pt x="56" y="12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9"/>
                    </a:lnTo>
                    <a:lnTo>
                      <a:pt x="4" y="23"/>
                    </a:lnTo>
                    <a:lnTo>
                      <a:pt x="8" y="27"/>
                    </a:lnTo>
                    <a:lnTo>
                      <a:pt x="8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8" name=""/>
          <p:cNvGrpSpPr/>
          <p:nvPr/>
        </p:nvGrpSpPr>
        <p:grpSpPr>
          <a:xfrm>
            <a:off x="4993920" y="3747600"/>
            <a:ext cx="1262160" cy="1500840"/>
            <a:chOff x="4993920" y="3747600"/>
            <a:chExt cx="1262160" cy="1500840"/>
          </a:xfrm>
        </p:grpSpPr>
        <p:grpSp>
          <p:nvGrpSpPr>
            <p:cNvPr id="719" name=""/>
            <p:cNvGrpSpPr/>
            <p:nvPr/>
          </p:nvGrpSpPr>
          <p:grpSpPr>
            <a:xfrm>
              <a:off x="5006880" y="3747600"/>
              <a:ext cx="1249200" cy="1500840"/>
              <a:chOff x="5006880" y="3747600"/>
              <a:chExt cx="1249200" cy="1500840"/>
            </a:xfrm>
          </p:grpSpPr>
          <p:grpSp>
            <p:nvGrpSpPr>
              <p:cNvPr id="720" name=""/>
              <p:cNvGrpSpPr/>
              <p:nvPr/>
            </p:nvGrpSpPr>
            <p:grpSpPr>
              <a:xfrm>
                <a:off x="5006880" y="3747600"/>
                <a:ext cx="1237320" cy="1473480"/>
                <a:chOff x="5006880" y="3747600"/>
                <a:chExt cx="1237320" cy="1473480"/>
              </a:xfrm>
            </p:grpSpPr>
            <p:grpSp>
              <p:nvGrpSpPr>
                <p:cNvPr id="721" name=""/>
                <p:cNvGrpSpPr/>
                <p:nvPr/>
              </p:nvGrpSpPr>
              <p:grpSpPr>
                <a:xfrm>
                  <a:off x="5006880" y="3747600"/>
                  <a:ext cx="1237320" cy="1473480"/>
                  <a:chOff x="5006880" y="3747600"/>
                  <a:chExt cx="1237320" cy="1473480"/>
                </a:xfrm>
              </p:grpSpPr>
              <p:sp>
                <p:nvSpPr>
                  <p:cNvPr id="722" name=""/>
                  <p:cNvSpPr/>
                  <p:nvPr/>
                </p:nvSpPr>
                <p:spPr>
                  <a:xfrm rot="14404200">
                    <a:off x="5194080" y="4118760"/>
                    <a:ext cx="704160" cy="718200"/>
                  </a:xfrm>
                  <a:prstGeom prst="flowChartDelay">
                    <a:avLst/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ccffff"/>
                      </a:gs>
                      <a:gs pos="100000">
                        <a:srgbClr val="0000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3" name=""/>
                  <p:cNvSpPr/>
                  <p:nvPr/>
                </p:nvSpPr>
                <p:spPr>
                  <a:xfrm rot="19686000">
                    <a:off x="5127480" y="3810240"/>
                    <a:ext cx="401400" cy="572400"/>
                  </a:xfrm>
                  <a:prstGeom prst="irregularSeal1">
                    <a:avLst/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ccffff"/>
                      </a:gs>
                      <a:gs pos="100000">
                        <a:srgbClr val="0000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4" name=""/>
                  <p:cNvSpPr/>
                  <p:nvPr/>
                </p:nvSpPr>
                <p:spPr>
                  <a:xfrm rot="19686000">
                    <a:off x="5293800" y="4446360"/>
                    <a:ext cx="858240" cy="5925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ccffff"/>
                      </a:gs>
                      <a:gs pos="100000">
                        <a:srgbClr val="0000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25" name=""/>
                <p:cNvSpPr/>
                <p:nvPr/>
              </p:nvSpPr>
              <p:spPr>
                <a:xfrm rot="3553200">
                  <a:off x="5543280" y="4335840"/>
                  <a:ext cx="309600" cy="716040"/>
                </a:xfrm>
                <a:prstGeom prst="flowChartOnlineStorage">
                  <a:avLst/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ccffff"/>
                    </a:gs>
                    <a:gs pos="100000">
                      <a:srgbClr val="0000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6" name=""/>
              <p:cNvGrpSpPr/>
              <p:nvPr/>
            </p:nvGrpSpPr>
            <p:grpSpPr>
              <a:xfrm>
                <a:off x="5055480" y="3989160"/>
                <a:ext cx="1200600" cy="1259280"/>
                <a:chOff x="5055480" y="3989160"/>
                <a:chExt cx="1200600" cy="1259280"/>
              </a:xfrm>
            </p:grpSpPr>
            <p:sp>
              <p:nvSpPr>
                <p:cNvPr id="727" name=""/>
                <p:cNvSpPr/>
                <p:nvPr/>
              </p:nvSpPr>
              <p:spPr>
                <a:xfrm rot="14286000">
                  <a:off x="5242680" y="4030920"/>
                  <a:ext cx="498240" cy="718200"/>
                </a:xfrm>
                <a:prstGeom prst="flowChartDelay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 rot="19686000">
                  <a:off x="5245560" y="4456440"/>
                  <a:ext cx="923760" cy="592560"/>
                </a:xfrm>
                <a:prstGeom prst="ellipse">
                  <a:avLst/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9360">
                  <a:solidFill>
                    <a:srgbClr val="cc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 rot="19686000">
                  <a:off x="5376960" y="4569480"/>
                  <a:ext cx="716040" cy="417600"/>
                </a:xfrm>
                <a:prstGeom prst="ellipse">
                  <a:avLst/>
                </a:prstGeom>
                <a:blipFill rotWithShape="0">
                  <a:blip r:embed="rId6"/>
                  <a:srcRect/>
                  <a:tile tx="0" ty="0" sx="100000" sy="100000" algn="ctr"/>
                </a:blipFill>
                <a:ln w="936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30" name=""/>
            <p:cNvSpPr/>
            <p:nvPr/>
          </p:nvSpPr>
          <p:spPr>
            <a:xfrm rot="17578800">
              <a:off x="5125320" y="3801960"/>
              <a:ext cx="432360" cy="572400"/>
            </a:xfrm>
            <a:prstGeom prst="irregularSeal1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rot="19686000">
              <a:off x="5111640" y="3878280"/>
              <a:ext cx="357480" cy="397080"/>
            </a:xfrm>
            <a:prstGeom prst="irregularSeal1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32" name="" descr=""/>
          <p:cNvPicPr/>
          <p:nvPr/>
        </p:nvPicPr>
        <p:blipFill>
          <a:blip r:embed="rId9"/>
          <a:stretch/>
        </p:blipFill>
        <p:spPr>
          <a:xfrm>
            <a:off x="533520" y="304920"/>
            <a:ext cx="1022400" cy="1295280"/>
          </a:xfrm>
          <a:prstGeom prst="rect">
            <a:avLst/>
          </a:prstGeom>
          <a:ln w="0">
            <a:noFill/>
          </a:ln>
        </p:spPr>
      </p:pic>
      <p:pic>
        <p:nvPicPr>
          <p:cNvPr id="733" name="" descr=""/>
          <p:cNvPicPr/>
          <p:nvPr/>
        </p:nvPicPr>
        <p:blipFill>
          <a:blip r:embed="rId10">
            <a:alphaModFix amt="50000"/>
          </a:blip>
          <a:stretch/>
        </p:blipFill>
        <p:spPr>
          <a:xfrm>
            <a:off x="7848720" y="228600"/>
            <a:ext cx="927000" cy="1295280"/>
          </a:xfrm>
          <a:prstGeom prst="rect">
            <a:avLst/>
          </a:prstGeom>
          <a:ln w="0">
            <a:noFill/>
          </a:ln>
        </p:spPr>
      </p:pic>
      <p:sp>
        <p:nvSpPr>
          <p:cNvPr id="734" name=""/>
          <p:cNvSpPr/>
          <p:nvPr/>
        </p:nvSpPr>
        <p:spPr>
          <a:xfrm>
            <a:off x="4495680" y="58672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wea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5791320" y="3657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505320" y="3276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rot="21550200">
            <a:off x="4947840" y="380880"/>
            <a:ext cx="197640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 a r 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209680" y="2362320"/>
            <a:ext cx="533520" cy="533160"/>
          </a:xfrm>
          <a:prstGeom prst="flowChartSummingJunction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rot="20325600">
            <a:off x="2437920" y="2362320"/>
            <a:ext cx="533520" cy="533160"/>
          </a:xfrm>
          <a:prstGeom prst="flowChar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 rot="1823400">
            <a:off x="2819160" y="2361960"/>
            <a:ext cx="533160" cy="533160"/>
          </a:xfrm>
          <a:prstGeom prst="flowChartSummingJunction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rot="21346800">
            <a:off x="3048120" y="2361960"/>
            <a:ext cx="533160" cy="533160"/>
          </a:xfrm>
          <a:prstGeom prst="flowChar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rot="21573600">
            <a:off x="2057400" y="380880"/>
            <a:ext cx="289548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 p i n n i n 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rot="3240600">
            <a:off x="3276360" y="2361960"/>
            <a:ext cx="533160" cy="533160"/>
          </a:xfrm>
          <a:prstGeom prst="flowChartSummingJunction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 rot="602400">
            <a:off x="3580920" y="2361960"/>
            <a:ext cx="533520" cy="533160"/>
          </a:xfrm>
          <a:prstGeom prst="flowChar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 rot="4191600">
            <a:off x="3886200" y="2361960"/>
            <a:ext cx="533160" cy="533520"/>
          </a:xfrm>
          <a:prstGeom prst="flowChartSummingJunction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 rot="3834000">
            <a:off x="4190760" y="2362320"/>
            <a:ext cx="533160" cy="533160"/>
          </a:xfrm>
          <a:prstGeom prst="flowChartOr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 rot="9000">
            <a:off x="6858000" y="2209320"/>
            <a:ext cx="976320" cy="48600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 rot="51600">
            <a:off x="6324120" y="2209680"/>
            <a:ext cx="976320" cy="48600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rot="15600">
            <a:off x="5714640" y="2209680"/>
            <a:ext cx="976320" cy="48600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rot="51000">
            <a:off x="5105160" y="2209680"/>
            <a:ext cx="976320" cy="48600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rot="143400">
            <a:off x="4723920" y="2209320"/>
            <a:ext cx="976320" cy="48600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15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7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"/>
          <p:cNvSpPr/>
          <p:nvPr/>
        </p:nvSpPr>
        <p:spPr>
          <a:xfrm>
            <a:off x="4343400" y="914400"/>
            <a:ext cx="1711440" cy="1627200"/>
          </a:xfrm>
          <a:custGeom>
            <a:avLst/>
            <a:gdLst/>
            <a:ahLst/>
            <a:rect l="l" t="t" r="r" b="b"/>
            <a:pathLst>
              <a:path w="1078" h="1025">
                <a:moveTo>
                  <a:pt x="0" y="54"/>
                </a:moveTo>
                <a:cubicBezTo>
                  <a:pt x="27" y="36"/>
                  <a:pt x="71" y="0"/>
                  <a:pt x="108" y="0"/>
                </a:cubicBezTo>
                <a:cubicBezTo>
                  <a:pt x="182" y="0"/>
                  <a:pt x="210" y="52"/>
                  <a:pt x="288" y="54"/>
                </a:cubicBezTo>
                <a:cubicBezTo>
                  <a:pt x="510" y="60"/>
                  <a:pt x="732" y="66"/>
                  <a:pt x="954" y="72"/>
                </a:cubicBezTo>
                <a:cubicBezTo>
                  <a:pt x="972" y="84"/>
                  <a:pt x="994" y="91"/>
                  <a:pt x="1008" y="108"/>
                </a:cubicBezTo>
                <a:cubicBezTo>
                  <a:pt x="1078" y="196"/>
                  <a:pt x="974" y="304"/>
                  <a:pt x="918" y="360"/>
                </a:cubicBezTo>
                <a:cubicBezTo>
                  <a:pt x="906" y="396"/>
                  <a:pt x="875" y="431"/>
                  <a:pt x="882" y="468"/>
                </a:cubicBezTo>
                <a:cubicBezTo>
                  <a:pt x="906" y="589"/>
                  <a:pt x="938" y="685"/>
                  <a:pt x="1044" y="756"/>
                </a:cubicBezTo>
                <a:cubicBezTo>
                  <a:pt x="1050" y="774"/>
                  <a:pt x="1062" y="791"/>
                  <a:pt x="1062" y="810"/>
                </a:cubicBezTo>
                <a:cubicBezTo>
                  <a:pt x="1062" y="935"/>
                  <a:pt x="978" y="958"/>
                  <a:pt x="882" y="990"/>
                </a:cubicBezTo>
                <a:cubicBezTo>
                  <a:pt x="701" y="976"/>
                  <a:pt x="555" y="973"/>
                  <a:pt x="378" y="1008"/>
                </a:cubicBezTo>
                <a:cubicBezTo>
                  <a:pt x="300" y="1002"/>
                  <a:pt x="214" y="1025"/>
                  <a:pt x="144" y="990"/>
                </a:cubicBezTo>
                <a:cubicBezTo>
                  <a:pt x="117" y="976"/>
                  <a:pt x="157" y="930"/>
                  <a:pt x="162" y="900"/>
                </a:cubicBezTo>
                <a:cubicBezTo>
                  <a:pt x="194" y="689"/>
                  <a:pt x="157" y="825"/>
                  <a:pt x="216" y="648"/>
                </a:cubicBezTo>
                <a:cubicBezTo>
                  <a:pt x="223" y="627"/>
                  <a:pt x="243" y="614"/>
                  <a:pt x="252" y="594"/>
                </a:cubicBezTo>
                <a:cubicBezTo>
                  <a:pt x="267" y="559"/>
                  <a:pt x="276" y="522"/>
                  <a:pt x="288" y="486"/>
                </a:cubicBezTo>
                <a:cubicBezTo>
                  <a:pt x="294" y="468"/>
                  <a:pt x="306" y="432"/>
                  <a:pt x="306" y="432"/>
                </a:cubicBezTo>
                <a:cubicBezTo>
                  <a:pt x="268" y="318"/>
                  <a:pt x="287" y="293"/>
                  <a:pt x="198" y="234"/>
                </a:cubicBezTo>
                <a:cubicBezTo>
                  <a:pt x="186" y="216"/>
                  <a:pt x="178" y="194"/>
                  <a:pt x="162" y="180"/>
                </a:cubicBezTo>
                <a:cubicBezTo>
                  <a:pt x="129" y="152"/>
                  <a:pt x="54" y="108"/>
                  <a:pt x="54" y="108"/>
                </a:cubicBezTo>
                <a:cubicBezTo>
                  <a:pt x="32" y="43"/>
                  <a:pt x="55" y="54"/>
                  <a:pt x="0" y="54"/>
                </a:cubicBez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0066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3" name=""/>
          <p:cNvGrpSpPr/>
          <p:nvPr/>
        </p:nvGrpSpPr>
        <p:grpSpPr>
          <a:xfrm>
            <a:off x="166680" y="533520"/>
            <a:ext cx="8148600" cy="3627360"/>
            <a:chOff x="166680" y="533520"/>
            <a:chExt cx="8148600" cy="3627360"/>
          </a:xfrm>
        </p:grpSpPr>
        <p:grpSp>
          <p:nvGrpSpPr>
            <p:cNvPr id="754" name=""/>
            <p:cNvGrpSpPr/>
            <p:nvPr/>
          </p:nvGrpSpPr>
          <p:grpSpPr>
            <a:xfrm>
              <a:off x="228600" y="533520"/>
              <a:ext cx="7999920" cy="3580560"/>
              <a:chOff x="228600" y="533520"/>
              <a:chExt cx="7999920" cy="3580560"/>
            </a:xfrm>
          </p:grpSpPr>
          <p:grpSp>
            <p:nvGrpSpPr>
              <p:cNvPr id="755" name=""/>
              <p:cNvGrpSpPr/>
              <p:nvPr/>
            </p:nvGrpSpPr>
            <p:grpSpPr>
              <a:xfrm>
                <a:off x="228600" y="635760"/>
                <a:ext cx="7999920" cy="3478320"/>
                <a:chOff x="228600" y="635760"/>
                <a:chExt cx="7999920" cy="3478320"/>
              </a:xfrm>
            </p:grpSpPr>
            <p:sp>
              <p:nvSpPr>
                <p:cNvPr id="756" name=""/>
                <p:cNvSpPr/>
                <p:nvPr/>
              </p:nvSpPr>
              <p:spPr>
                <a:xfrm>
                  <a:off x="228600" y="1294200"/>
                  <a:ext cx="4024440" cy="2819880"/>
                </a:xfrm>
                <a:custGeom>
                  <a:avLst/>
                  <a:gdLst/>
                  <a:ahLst/>
                  <a:rect l="l" t="t" r="r" b="b"/>
                  <a:pathLst>
                    <a:path w="2125" h="1438">
                      <a:moveTo>
                        <a:pt x="180" y="1270"/>
                      </a:moveTo>
                      <a:cubicBezTo>
                        <a:pt x="226" y="1200"/>
                        <a:pt x="242" y="1124"/>
                        <a:pt x="288" y="1054"/>
                      </a:cubicBezTo>
                      <a:cubicBezTo>
                        <a:pt x="314" y="951"/>
                        <a:pt x="344" y="849"/>
                        <a:pt x="378" y="748"/>
                      </a:cubicBezTo>
                      <a:cubicBezTo>
                        <a:pt x="384" y="730"/>
                        <a:pt x="385" y="710"/>
                        <a:pt x="396" y="694"/>
                      </a:cubicBezTo>
                      <a:cubicBezTo>
                        <a:pt x="432" y="640"/>
                        <a:pt x="483" y="594"/>
                        <a:pt x="504" y="532"/>
                      </a:cubicBezTo>
                      <a:cubicBezTo>
                        <a:pt x="516" y="496"/>
                        <a:pt x="519" y="456"/>
                        <a:pt x="540" y="424"/>
                      </a:cubicBezTo>
                      <a:cubicBezTo>
                        <a:pt x="552" y="406"/>
                        <a:pt x="567" y="390"/>
                        <a:pt x="576" y="370"/>
                      </a:cubicBezTo>
                      <a:cubicBezTo>
                        <a:pt x="609" y="296"/>
                        <a:pt x="630" y="226"/>
                        <a:pt x="666" y="154"/>
                      </a:cubicBezTo>
                      <a:cubicBezTo>
                        <a:pt x="706" y="74"/>
                        <a:pt x="711" y="97"/>
                        <a:pt x="810" y="64"/>
                      </a:cubicBezTo>
                      <a:cubicBezTo>
                        <a:pt x="828" y="58"/>
                        <a:pt x="846" y="52"/>
                        <a:pt x="864" y="46"/>
                      </a:cubicBezTo>
                      <a:cubicBezTo>
                        <a:pt x="882" y="40"/>
                        <a:pt x="918" y="28"/>
                        <a:pt x="918" y="28"/>
                      </a:cubicBezTo>
                      <a:cubicBezTo>
                        <a:pt x="1050" y="35"/>
                        <a:pt x="1198" y="0"/>
                        <a:pt x="1314" y="64"/>
                      </a:cubicBezTo>
                      <a:cubicBezTo>
                        <a:pt x="1352" y="85"/>
                        <a:pt x="1386" y="112"/>
                        <a:pt x="1422" y="136"/>
                      </a:cubicBezTo>
                      <a:cubicBezTo>
                        <a:pt x="1440" y="148"/>
                        <a:pt x="1476" y="172"/>
                        <a:pt x="1476" y="172"/>
                      </a:cubicBezTo>
                      <a:cubicBezTo>
                        <a:pt x="1521" y="308"/>
                        <a:pt x="1455" y="146"/>
                        <a:pt x="1548" y="262"/>
                      </a:cubicBezTo>
                      <a:cubicBezTo>
                        <a:pt x="1560" y="277"/>
                        <a:pt x="1555" y="300"/>
                        <a:pt x="1566" y="316"/>
                      </a:cubicBezTo>
                      <a:cubicBezTo>
                        <a:pt x="1580" y="337"/>
                        <a:pt x="1602" y="352"/>
                        <a:pt x="1620" y="370"/>
                      </a:cubicBezTo>
                      <a:cubicBezTo>
                        <a:pt x="1665" y="506"/>
                        <a:pt x="1604" y="338"/>
                        <a:pt x="1674" y="478"/>
                      </a:cubicBezTo>
                      <a:cubicBezTo>
                        <a:pt x="1715" y="559"/>
                        <a:pt x="1664" y="509"/>
                        <a:pt x="1728" y="586"/>
                      </a:cubicBezTo>
                      <a:cubicBezTo>
                        <a:pt x="1744" y="606"/>
                        <a:pt x="1766" y="620"/>
                        <a:pt x="1782" y="640"/>
                      </a:cubicBezTo>
                      <a:cubicBezTo>
                        <a:pt x="1809" y="674"/>
                        <a:pt x="1840" y="707"/>
                        <a:pt x="1854" y="748"/>
                      </a:cubicBezTo>
                      <a:cubicBezTo>
                        <a:pt x="1860" y="766"/>
                        <a:pt x="1860" y="787"/>
                        <a:pt x="1872" y="802"/>
                      </a:cubicBezTo>
                      <a:cubicBezTo>
                        <a:pt x="1886" y="819"/>
                        <a:pt x="1908" y="826"/>
                        <a:pt x="1926" y="838"/>
                      </a:cubicBezTo>
                      <a:cubicBezTo>
                        <a:pt x="1961" y="943"/>
                        <a:pt x="1917" y="847"/>
                        <a:pt x="1998" y="928"/>
                      </a:cubicBezTo>
                      <a:cubicBezTo>
                        <a:pt x="2118" y="1048"/>
                        <a:pt x="1944" y="922"/>
                        <a:pt x="2088" y="1018"/>
                      </a:cubicBezTo>
                      <a:cubicBezTo>
                        <a:pt x="2094" y="1036"/>
                        <a:pt x="2125" y="1069"/>
                        <a:pt x="2106" y="1072"/>
                      </a:cubicBezTo>
                      <a:cubicBezTo>
                        <a:pt x="2057" y="1079"/>
                        <a:pt x="1962" y="1036"/>
                        <a:pt x="1962" y="1036"/>
                      </a:cubicBezTo>
                      <a:cubicBezTo>
                        <a:pt x="1955" y="1037"/>
                        <a:pt x="1759" y="1058"/>
                        <a:pt x="1728" y="1072"/>
                      </a:cubicBezTo>
                      <a:cubicBezTo>
                        <a:pt x="1689" y="1090"/>
                        <a:pt x="1624" y="1159"/>
                        <a:pt x="1566" y="1162"/>
                      </a:cubicBezTo>
                      <a:cubicBezTo>
                        <a:pt x="1374" y="1173"/>
                        <a:pt x="1182" y="1174"/>
                        <a:pt x="990" y="1180"/>
                      </a:cubicBezTo>
                      <a:cubicBezTo>
                        <a:pt x="986" y="1181"/>
                        <a:pt x="864" y="1201"/>
                        <a:pt x="846" y="1216"/>
                      </a:cubicBezTo>
                      <a:cubicBezTo>
                        <a:pt x="730" y="1309"/>
                        <a:pt x="892" y="1243"/>
                        <a:pt x="756" y="1288"/>
                      </a:cubicBezTo>
                      <a:cubicBezTo>
                        <a:pt x="675" y="1369"/>
                        <a:pt x="726" y="1334"/>
                        <a:pt x="594" y="1378"/>
                      </a:cubicBezTo>
                      <a:cubicBezTo>
                        <a:pt x="576" y="1384"/>
                        <a:pt x="540" y="1396"/>
                        <a:pt x="540" y="1396"/>
                      </a:cubicBezTo>
                      <a:cubicBezTo>
                        <a:pt x="287" y="1385"/>
                        <a:pt x="171" y="1438"/>
                        <a:pt x="0" y="1324"/>
                      </a:cubicBezTo>
                      <a:cubicBezTo>
                        <a:pt x="53" y="1289"/>
                        <a:pt x="48" y="1285"/>
                        <a:pt x="108" y="1270"/>
                      </a:cubicBezTo>
                      <a:cubicBezTo>
                        <a:pt x="213" y="1244"/>
                        <a:pt x="218" y="1232"/>
                        <a:pt x="180" y="127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bbbbff"/>
                    </a:gs>
                    <a:gs pos="100000">
                      <a:srgbClr val="0066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3240000" y="858960"/>
                  <a:ext cx="2352240" cy="2717640"/>
                </a:xfrm>
                <a:custGeom>
                  <a:avLst/>
                  <a:gdLst/>
                  <a:ahLst/>
                  <a:rect l="l" t="t" r="r" b="b"/>
                  <a:pathLst>
                    <a:path w="1242" h="1386">
                      <a:moveTo>
                        <a:pt x="0" y="1386"/>
                      </a:moveTo>
                      <a:cubicBezTo>
                        <a:pt x="24" y="1314"/>
                        <a:pt x="48" y="1242"/>
                        <a:pt x="72" y="1170"/>
                      </a:cubicBezTo>
                      <a:cubicBezTo>
                        <a:pt x="91" y="1112"/>
                        <a:pt x="90" y="1049"/>
                        <a:pt x="108" y="990"/>
                      </a:cubicBezTo>
                      <a:cubicBezTo>
                        <a:pt x="140" y="882"/>
                        <a:pt x="189" y="776"/>
                        <a:pt x="216" y="666"/>
                      </a:cubicBezTo>
                      <a:cubicBezTo>
                        <a:pt x="235" y="588"/>
                        <a:pt x="249" y="509"/>
                        <a:pt x="270" y="432"/>
                      </a:cubicBezTo>
                      <a:cubicBezTo>
                        <a:pt x="312" y="278"/>
                        <a:pt x="281" y="365"/>
                        <a:pt x="360" y="270"/>
                      </a:cubicBezTo>
                      <a:cubicBezTo>
                        <a:pt x="374" y="253"/>
                        <a:pt x="380" y="230"/>
                        <a:pt x="396" y="216"/>
                      </a:cubicBezTo>
                      <a:cubicBezTo>
                        <a:pt x="429" y="188"/>
                        <a:pt x="504" y="144"/>
                        <a:pt x="504" y="144"/>
                      </a:cubicBezTo>
                      <a:cubicBezTo>
                        <a:pt x="510" y="126"/>
                        <a:pt x="507" y="101"/>
                        <a:pt x="522" y="90"/>
                      </a:cubicBezTo>
                      <a:cubicBezTo>
                        <a:pt x="568" y="57"/>
                        <a:pt x="630" y="54"/>
                        <a:pt x="684" y="36"/>
                      </a:cubicBezTo>
                      <a:cubicBezTo>
                        <a:pt x="702" y="30"/>
                        <a:pt x="720" y="24"/>
                        <a:pt x="738" y="18"/>
                      </a:cubicBezTo>
                      <a:cubicBezTo>
                        <a:pt x="756" y="12"/>
                        <a:pt x="792" y="0"/>
                        <a:pt x="792" y="0"/>
                      </a:cubicBezTo>
                      <a:cubicBezTo>
                        <a:pt x="810" y="6"/>
                        <a:pt x="828" y="13"/>
                        <a:pt x="846" y="18"/>
                      </a:cubicBezTo>
                      <a:cubicBezTo>
                        <a:pt x="876" y="25"/>
                        <a:pt x="914" y="14"/>
                        <a:pt x="936" y="36"/>
                      </a:cubicBezTo>
                      <a:cubicBezTo>
                        <a:pt x="963" y="63"/>
                        <a:pt x="945" y="117"/>
                        <a:pt x="972" y="144"/>
                      </a:cubicBezTo>
                      <a:cubicBezTo>
                        <a:pt x="1048" y="220"/>
                        <a:pt x="1063" y="270"/>
                        <a:pt x="1170" y="306"/>
                      </a:cubicBezTo>
                      <a:cubicBezTo>
                        <a:pt x="1188" y="360"/>
                        <a:pt x="1206" y="414"/>
                        <a:pt x="1224" y="468"/>
                      </a:cubicBezTo>
                      <a:cubicBezTo>
                        <a:pt x="1230" y="486"/>
                        <a:pt x="1242" y="522"/>
                        <a:pt x="1242" y="522"/>
                      </a:cubicBezTo>
                      <a:cubicBezTo>
                        <a:pt x="1236" y="546"/>
                        <a:pt x="1236" y="573"/>
                        <a:pt x="1224" y="594"/>
                      </a:cubicBezTo>
                      <a:cubicBezTo>
                        <a:pt x="1211" y="616"/>
                        <a:pt x="1186" y="628"/>
                        <a:pt x="1170" y="648"/>
                      </a:cubicBezTo>
                      <a:cubicBezTo>
                        <a:pt x="1045" y="798"/>
                        <a:pt x="1238" y="598"/>
                        <a:pt x="1080" y="756"/>
                      </a:cubicBezTo>
                      <a:cubicBezTo>
                        <a:pt x="1036" y="889"/>
                        <a:pt x="1137" y="1170"/>
                        <a:pt x="990" y="1188"/>
                      </a:cubicBezTo>
                      <a:cubicBezTo>
                        <a:pt x="817" y="1210"/>
                        <a:pt x="468" y="1224"/>
                        <a:pt x="468" y="1224"/>
                      </a:cubicBezTo>
                      <a:cubicBezTo>
                        <a:pt x="432" y="1236"/>
                        <a:pt x="392" y="1239"/>
                        <a:pt x="360" y="1260"/>
                      </a:cubicBezTo>
                      <a:cubicBezTo>
                        <a:pt x="314" y="1290"/>
                        <a:pt x="305" y="1303"/>
                        <a:pt x="252" y="1314"/>
                      </a:cubicBezTo>
                      <a:cubicBezTo>
                        <a:pt x="10" y="1362"/>
                        <a:pt x="90" y="1296"/>
                        <a:pt x="0" y="1386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bbbbff"/>
                    </a:gs>
                    <a:gs pos="100000">
                      <a:srgbClr val="0066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5865120" y="635760"/>
                  <a:ext cx="2363400" cy="2241000"/>
                </a:xfrm>
                <a:custGeom>
                  <a:avLst/>
                  <a:gdLst/>
                  <a:ahLst/>
                  <a:rect l="l" t="t" r="r" b="b"/>
                  <a:pathLst>
                    <a:path w="1248" h="1143">
                      <a:moveTo>
                        <a:pt x="0" y="369"/>
                      </a:moveTo>
                      <a:cubicBezTo>
                        <a:pt x="18" y="357"/>
                        <a:pt x="43" y="351"/>
                        <a:pt x="54" y="333"/>
                      </a:cubicBezTo>
                      <a:cubicBezTo>
                        <a:pt x="74" y="301"/>
                        <a:pt x="69" y="257"/>
                        <a:pt x="90" y="225"/>
                      </a:cubicBezTo>
                      <a:cubicBezTo>
                        <a:pt x="102" y="207"/>
                        <a:pt x="116" y="190"/>
                        <a:pt x="126" y="171"/>
                      </a:cubicBezTo>
                      <a:cubicBezTo>
                        <a:pt x="134" y="154"/>
                        <a:pt x="131" y="130"/>
                        <a:pt x="144" y="117"/>
                      </a:cubicBezTo>
                      <a:cubicBezTo>
                        <a:pt x="175" y="86"/>
                        <a:pt x="211" y="59"/>
                        <a:pt x="252" y="45"/>
                      </a:cubicBezTo>
                      <a:cubicBezTo>
                        <a:pt x="288" y="33"/>
                        <a:pt x="360" y="9"/>
                        <a:pt x="360" y="9"/>
                      </a:cubicBezTo>
                      <a:cubicBezTo>
                        <a:pt x="408" y="15"/>
                        <a:pt x="464" y="0"/>
                        <a:pt x="504" y="27"/>
                      </a:cubicBezTo>
                      <a:cubicBezTo>
                        <a:pt x="529" y="44"/>
                        <a:pt x="507" y="90"/>
                        <a:pt x="522" y="117"/>
                      </a:cubicBezTo>
                      <a:cubicBezTo>
                        <a:pt x="538" y="146"/>
                        <a:pt x="602" y="162"/>
                        <a:pt x="630" y="171"/>
                      </a:cubicBezTo>
                      <a:cubicBezTo>
                        <a:pt x="725" y="314"/>
                        <a:pt x="861" y="235"/>
                        <a:pt x="1044" y="225"/>
                      </a:cubicBezTo>
                      <a:cubicBezTo>
                        <a:pt x="1161" y="264"/>
                        <a:pt x="1080" y="217"/>
                        <a:pt x="1080" y="423"/>
                      </a:cubicBezTo>
                      <a:cubicBezTo>
                        <a:pt x="1080" y="508"/>
                        <a:pt x="1105" y="559"/>
                        <a:pt x="1170" y="603"/>
                      </a:cubicBezTo>
                      <a:cubicBezTo>
                        <a:pt x="1194" y="639"/>
                        <a:pt x="1248" y="668"/>
                        <a:pt x="1242" y="711"/>
                      </a:cubicBezTo>
                      <a:cubicBezTo>
                        <a:pt x="1237" y="746"/>
                        <a:pt x="1239" y="859"/>
                        <a:pt x="1188" y="891"/>
                      </a:cubicBezTo>
                      <a:cubicBezTo>
                        <a:pt x="1074" y="962"/>
                        <a:pt x="867" y="956"/>
                        <a:pt x="756" y="963"/>
                      </a:cubicBezTo>
                      <a:cubicBezTo>
                        <a:pt x="738" y="969"/>
                        <a:pt x="715" y="968"/>
                        <a:pt x="702" y="981"/>
                      </a:cubicBezTo>
                      <a:cubicBezTo>
                        <a:pt x="689" y="994"/>
                        <a:pt x="692" y="1018"/>
                        <a:pt x="684" y="1035"/>
                      </a:cubicBezTo>
                      <a:cubicBezTo>
                        <a:pt x="674" y="1054"/>
                        <a:pt x="663" y="1074"/>
                        <a:pt x="648" y="1089"/>
                      </a:cubicBezTo>
                      <a:cubicBezTo>
                        <a:pt x="613" y="1124"/>
                        <a:pt x="584" y="1128"/>
                        <a:pt x="540" y="1143"/>
                      </a:cubicBezTo>
                      <a:cubicBezTo>
                        <a:pt x="522" y="1137"/>
                        <a:pt x="499" y="1138"/>
                        <a:pt x="486" y="1125"/>
                      </a:cubicBezTo>
                      <a:cubicBezTo>
                        <a:pt x="400" y="1039"/>
                        <a:pt x="379" y="911"/>
                        <a:pt x="342" y="801"/>
                      </a:cubicBezTo>
                      <a:cubicBezTo>
                        <a:pt x="335" y="780"/>
                        <a:pt x="316" y="766"/>
                        <a:pt x="306" y="747"/>
                      </a:cubicBezTo>
                      <a:cubicBezTo>
                        <a:pt x="298" y="730"/>
                        <a:pt x="300" y="708"/>
                        <a:pt x="288" y="693"/>
                      </a:cubicBezTo>
                      <a:cubicBezTo>
                        <a:pt x="274" y="676"/>
                        <a:pt x="252" y="669"/>
                        <a:pt x="234" y="657"/>
                      </a:cubicBezTo>
                      <a:cubicBezTo>
                        <a:pt x="150" y="531"/>
                        <a:pt x="101" y="474"/>
                        <a:pt x="54" y="333"/>
                      </a:cubicBezTo>
                      <a:cubicBezTo>
                        <a:pt x="47" y="312"/>
                        <a:pt x="18" y="357"/>
                        <a:pt x="0" y="369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bbbbff"/>
                    </a:gs>
                    <a:gs pos="100000">
                      <a:srgbClr val="0066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59" name=""/>
              <p:cNvSpPr/>
              <p:nvPr/>
            </p:nvSpPr>
            <p:spPr>
              <a:xfrm>
                <a:off x="1130040" y="1071000"/>
                <a:ext cx="2098800" cy="1382040"/>
              </a:xfrm>
              <a:custGeom>
                <a:avLst/>
                <a:gdLst/>
                <a:ahLst/>
                <a:rect l="l" t="t" r="r" b="b"/>
                <a:pathLst>
                  <a:path w="1108" h="705">
                    <a:moveTo>
                      <a:pt x="394" y="0"/>
                    </a:moveTo>
                    <a:cubicBezTo>
                      <a:pt x="372" y="131"/>
                      <a:pt x="387" y="122"/>
                      <a:pt x="268" y="162"/>
                    </a:cubicBezTo>
                    <a:cubicBezTo>
                      <a:pt x="218" y="212"/>
                      <a:pt x="113" y="303"/>
                      <a:pt x="88" y="378"/>
                    </a:cubicBezTo>
                    <a:cubicBezTo>
                      <a:pt x="82" y="396"/>
                      <a:pt x="78" y="415"/>
                      <a:pt x="70" y="432"/>
                    </a:cubicBezTo>
                    <a:cubicBezTo>
                      <a:pt x="0" y="572"/>
                      <a:pt x="61" y="404"/>
                      <a:pt x="16" y="540"/>
                    </a:cubicBezTo>
                    <a:cubicBezTo>
                      <a:pt x="24" y="598"/>
                      <a:pt x="5" y="688"/>
                      <a:pt x="88" y="702"/>
                    </a:cubicBezTo>
                    <a:cubicBezTo>
                      <a:pt x="107" y="705"/>
                      <a:pt x="124" y="690"/>
                      <a:pt x="142" y="684"/>
                    </a:cubicBezTo>
                    <a:cubicBezTo>
                      <a:pt x="198" y="600"/>
                      <a:pt x="224" y="539"/>
                      <a:pt x="304" y="486"/>
                    </a:cubicBezTo>
                    <a:cubicBezTo>
                      <a:pt x="388" y="360"/>
                      <a:pt x="340" y="402"/>
                      <a:pt x="430" y="342"/>
                    </a:cubicBezTo>
                    <a:cubicBezTo>
                      <a:pt x="464" y="392"/>
                      <a:pt x="477" y="461"/>
                      <a:pt x="520" y="504"/>
                    </a:cubicBezTo>
                    <a:cubicBezTo>
                      <a:pt x="555" y="539"/>
                      <a:pt x="584" y="543"/>
                      <a:pt x="628" y="558"/>
                    </a:cubicBezTo>
                    <a:cubicBezTo>
                      <a:pt x="711" y="434"/>
                      <a:pt x="659" y="464"/>
                      <a:pt x="754" y="432"/>
                    </a:cubicBezTo>
                    <a:cubicBezTo>
                      <a:pt x="797" y="443"/>
                      <a:pt x="849" y="447"/>
                      <a:pt x="880" y="486"/>
                    </a:cubicBezTo>
                    <a:cubicBezTo>
                      <a:pt x="892" y="501"/>
                      <a:pt x="887" y="524"/>
                      <a:pt x="898" y="540"/>
                    </a:cubicBezTo>
                    <a:cubicBezTo>
                      <a:pt x="937" y="598"/>
                      <a:pt x="949" y="593"/>
                      <a:pt x="1006" y="612"/>
                    </a:cubicBezTo>
                    <a:cubicBezTo>
                      <a:pt x="1108" y="578"/>
                      <a:pt x="1073" y="609"/>
                      <a:pt x="1042" y="432"/>
                    </a:cubicBezTo>
                    <a:cubicBezTo>
                      <a:pt x="1029" y="359"/>
                      <a:pt x="1006" y="288"/>
                      <a:pt x="988" y="216"/>
                    </a:cubicBezTo>
                    <a:cubicBezTo>
                      <a:pt x="983" y="198"/>
                      <a:pt x="983" y="175"/>
                      <a:pt x="970" y="162"/>
                    </a:cubicBezTo>
                    <a:cubicBezTo>
                      <a:pt x="957" y="149"/>
                      <a:pt x="933" y="153"/>
                      <a:pt x="916" y="144"/>
                    </a:cubicBezTo>
                    <a:cubicBezTo>
                      <a:pt x="878" y="123"/>
                      <a:pt x="844" y="96"/>
                      <a:pt x="808" y="72"/>
                    </a:cubicBezTo>
                    <a:cubicBezTo>
                      <a:pt x="773" y="49"/>
                      <a:pt x="640" y="38"/>
                      <a:pt x="628" y="36"/>
                    </a:cubicBezTo>
                    <a:cubicBezTo>
                      <a:pt x="578" y="27"/>
                      <a:pt x="548" y="15"/>
                      <a:pt x="502" y="0"/>
                    </a:cubicBezTo>
                    <a:cubicBezTo>
                      <a:pt x="404" y="20"/>
                      <a:pt x="434" y="40"/>
                      <a:pt x="39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410640" y="533520"/>
                <a:ext cx="1806840" cy="1976400"/>
              </a:xfrm>
              <a:custGeom>
                <a:avLst/>
                <a:gdLst/>
                <a:ahLst/>
                <a:rect l="l" t="t" r="r" b="b"/>
                <a:pathLst>
                  <a:path w="954" h="1008">
                    <a:moveTo>
                      <a:pt x="468" y="4"/>
                    </a:moveTo>
                    <a:cubicBezTo>
                      <a:pt x="444" y="75"/>
                      <a:pt x="423" y="106"/>
                      <a:pt x="360" y="148"/>
                    </a:cubicBezTo>
                    <a:cubicBezTo>
                      <a:pt x="348" y="166"/>
                      <a:pt x="341" y="188"/>
                      <a:pt x="324" y="202"/>
                    </a:cubicBezTo>
                    <a:cubicBezTo>
                      <a:pt x="309" y="214"/>
                      <a:pt x="283" y="207"/>
                      <a:pt x="270" y="220"/>
                    </a:cubicBezTo>
                    <a:cubicBezTo>
                      <a:pt x="257" y="233"/>
                      <a:pt x="261" y="257"/>
                      <a:pt x="252" y="274"/>
                    </a:cubicBezTo>
                    <a:cubicBezTo>
                      <a:pt x="231" y="312"/>
                      <a:pt x="204" y="346"/>
                      <a:pt x="180" y="382"/>
                    </a:cubicBezTo>
                    <a:cubicBezTo>
                      <a:pt x="154" y="421"/>
                      <a:pt x="110" y="593"/>
                      <a:pt x="90" y="652"/>
                    </a:cubicBezTo>
                    <a:cubicBezTo>
                      <a:pt x="72" y="706"/>
                      <a:pt x="54" y="760"/>
                      <a:pt x="36" y="814"/>
                    </a:cubicBezTo>
                    <a:cubicBezTo>
                      <a:pt x="30" y="832"/>
                      <a:pt x="24" y="850"/>
                      <a:pt x="18" y="868"/>
                    </a:cubicBezTo>
                    <a:cubicBezTo>
                      <a:pt x="12" y="886"/>
                      <a:pt x="0" y="922"/>
                      <a:pt x="0" y="922"/>
                    </a:cubicBezTo>
                    <a:cubicBezTo>
                      <a:pt x="57" y="1008"/>
                      <a:pt x="64" y="1001"/>
                      <a:pt x="162" y="976"/>
                    </a:cubicBezTo>
                    <a:cubicBezTo>
                      <a:pt x="189" y="895"/>
                      <a:pt x="210" y="894"/>
                      <a:pt x="288" y="868"/>
                    </a:cubicBezTo>
                    <a:cubicBezTo>
                      <a:pt x="304" y="786"/>
                      <a:pt x="314" y="739"/>
                      <a:pt x="360" y="670"/>
                    </a:cubicBezTo>
                    <a:cubicBezTo>
                      <a:pt x="378" y="676"/>
                      <a:pt x="395" y="688"/>
                      <a:pt x="414" y="688"/>
                    </a:cubicBezTo>
                    <a:cubicBezTo>
                      <a:pt x="537" y="688"/>
                      <a:pt x="501" y="514"/>
                      <a:pt x="576" y="454"/>
                    </a:cubicBezTo>
                    <a:cubicBezTo>
                      <a:pt x="591" y="442"/>
                      <a:pt x="612" y="442"/>
                      <a:pt x="630" y="436"/>
                    </a:cubicBezTo>
                    <a:cubicBezTo>
                      <a:pt x="642" y="418"/>
                      <a:pt x="645" y="389"/>
                      <a:pt x="666" y="382"/>
                    </a:cubicBezTo>
                    <a:cubicBezTo>
                      <a:pt x="705" y="369"/>
                      <a:pt x="765" y="418"/>
                      <a:pt x="792" y="436"/>
                    </a:cubicBezTo>
                    <a:cubicBezTo>
                      <a:pt x="876" y="415"/>
                      <a:pt x="906" y="400"/>
                      <a:pt x="954" y="328"/>
                    </a:cubicBezTo>
                    <a:cubicBezTo>
                      <a:pt x="927" y="219"/>
                      <a:pt x="944" y="279"/>
                      <a:pt x="900" y="148"/>
                    </a:cubicBezTo>
                    <a:cubicBezTo>
                      <a:pt x="894" y="130"/>
                      <a:pt x="863" y="138"/>
                      <a:pt x="846" y="130"/>
                    </a:cubicBezTo>
                    <a:cubicBezTo>
                      <a:pt x="827" y="120"/>
                      <a:pt x="812" y="103"/>
                      <a:pt x="792" y="94"/>
                    </a:cubicBezTo>
                    <a:cubicBezTo>
                      <a:pt x="704" y="55"/>
                      <a:pt x="693" y="64"/>
                      <a:pt x="612" y="40"/>
                    </a:cubicBezTo>
                    <a:cubicBezTo>
                      <a:pt x="479" y="0"/>
                      <a:pt x="546" y="4"/>
                      <a:pt x="468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5844600" y="576360"/>
                <a:ext cx="2097000" cy="917640"/>
              </a:xfrm>
              <a:custGeom>
                <a:avLst/>
                <a:gdLst/>
                <a:ahLst/>
                <a:rect l="l" t="t" r="r" b="b"/>
                <a:pathLst>
                  <a:path w="1107" h="468">
                    <a:moveTo>
                      <a:pt x="515" y="54"/>
                    </a:moveTo>
                    <a:cubicBezTo>
                      <a:pt x="615" y="87"/>
                      <a:pt x="718" y="123"/>
                      <a:pt x="821" y="144"/>
                    </a:cubicBezTo>
                    <a:cubicBezTo>
                      <a:pt x="857" y="151"/>
                      <a:pt x="894" y="153"/>
                      <a:pt x="929" y="162"/>
                    </a:cubicBezTo>
                    <a:cubicBezTo>
                      <a:pt x="966" y="171"/>
                      <a:pt x="1037" y="198"/>
                      <a:pt x="1037" y="198"/>
                    </a:cubicBezTo>
                    <a:cubicBezTo>
                      <a:pt x="1086" y="271"/>
                      <a:pt x="1107" y="278"/>
                      <a:pt x="1055" y="396"/>
                    </a:cubicBezTo>
                    <a:cubicBezTo>
                      <a:pt x="1047" y="413"/>
                      <a:pt x="1019" y="408"/>
                      <a:pt x="1001" y="414"/>
                    </a:cubicBezTo>
                    <a:cubicBezTo>
                      <a:pt x="929" y="408"/>
                      <a:pt x="855" y="415"/>
                      <a:pt x="785" y="396"/>
                    </a:cubicBezTo>
                    <a:cubicBezTo>
                      <a:pt x="743" y="384"/>
                      <a:pt x="713" y="348"/>
                      <a:pt x="677" y="324"/>
                    </a:cubicBezTo>
                    <a:cubicBezTo>
                      <a:pt x="659" y="312"/>
                      <a:pt x="623" y="288"/>
                      <a:pt x="623" y="288"/>
                    </a:cubicBezTo>
                    <a:cubicBezTo>
                      <a:pt x="593" y="294"/>
                      <a:pt x="558" y="289"/>
                      <a:pt x="533" y="306"/>
                    </a:cubicBezTo>
                    <a:cubicBezTo>
                      <a:pt x="517" y="317"/>
                      <a:pt x="534" y="357"/>
                      <a:pt x="515" y="360"/>
                    </a:cubicBezTo>
                    <a:cubicBezTo>
                      <a:pt x="515" y="360"/>
                      <a:pt x="380" y="315"/>
                      <a:pt x="353" y="306"/>
                    </a:cubicBezTo>
                    <a:cubicBezTo>
                      <a:pt x="335" y="300"/>
                      <a:pt x="299" y="288"/>
                      <a:pt x="299" y="288"/>
                    </a:cubicBezTo>
                    <a:cubicBezTo>
                      <a:pt x="184" y="326"/>
                      <a:pt x="298" y="271"/>
                      <a:pt x="227" y="378"/>
                    </a:cubicBezTo>
                    <a:cubicBezTo>
                      <a:pt x="215" y="396"/>
                      <a:pt x="191" y="402"/>
                      <a:pt x="173" y="414"/>
                    </a:cubicBezTo>
                    <a:cubicBezTo>
                      <a:pt x="155" y="408"/>
                      <a:pt x="137" y="389"/>
                      <a:pt x="119" y="396"/>
                    </a:cubicBezTo>
                    <a:cubicBezTo>
                      <a:pt x="99" y="404"/>
                      <a:pt x="100" y="436"/>
                      <a:pt x="83" y="450"/>
                    </a:cubicBezTo>
                    <a:cubicBezTo>
                      <a:pt x="68" y="462"/>
                      <a:pt x="47" y="462"/>
                      <a:pt x="29" y="468"/>
                    </a:cubicBezTo>
                    <a:cubicBezTo>
                      <a:pt x="23" y="450"/>
                      <a:pt x="11" y="433"/>
                      <a:pt x="11" y="414"/>
                    </a:cubicBezTo>
                    <a:cubicBezTo>
                      <a:pt x="11" y="395"/>
                      <a:pt x="25" y="379"/>
                      <a:pt x="29" y="360"/>
                    </a:cubicBezTo>
                    <a:cubicBezTo>
                      <a:pt x="77" y="142"/>
                      <a:pt x="10" y="362"/>
                      <a:pt x="83" y="144"/>
                    </a:cubicBezTo>
                    <a:cubicBezTo>
                      <a:pt x="89" y="126"/>
                      <a:pt x="83" y="96"/>
                      <a:pt x="101" y="90"/>
                    </a:cubicBezTo>
                    <a:cubicBezTo>
                      <a:pt x="298" y="24"/>
                      <a:pt x="0" y="129"/>
                      <a:pt x="209" y="36"/>
                    </a:cubicBezTo>
                    <a:cubicBezTo>
                      <a:pt x="244" y="21"/>
                      <a:pt x="317" y="0"/>
                      <a:pt x="317" y="0"/>
                    </a:cubicBezTo>
                    <a:cubicBezTo>
                      <a:pt x="335" y="6"/>
                      <a:pt x="354" y="10"/>
                      <a:pt x="371" y="18"/>
                    </a:cubicBezTo>
                    <a:cubicBezTo>
                      <a:pt x="407" y="36"/>
                      <a:pt x="434" y="72"/>
                      <a:pt x="479" y="72"/>
                    </a:cubicBezTo>
                    <a:cubicBezTo>
                      <a:pt x="492" y="72"/>
                      <a:pt x="503" y="60"/>
                      <a:pt x="515" y="54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5285880" y="841680"/>
                <a:ext cx="783720" cy="1264680"/>
              </a:xfrm>
              <a:custGeom>
                <a:avLst/>
                <a:gdLst/>
                <a:ahLst/>
                <a:rect l="l" t="t" r="r" b="b"/>
                <a:pathLst>
                  <a:path w="414" h="645">
                    <a:moveTo>
                      <a:pt x="0" y="207"/>
                    </a:moveTo>
                    <a:cubicBezTo>
                      <a:pt x="57" y="121"/>
                      <a:pt x="29" y="174"/>
                      <a:pt x="72" y="45"/>
                    </a:cubicBezTo>
                    <a:cubicBezTo>
                      <a:pt x="79" y="24"/>
                      <a:pt x="108" y="21"/>
                      <a:pt x="126" y="9"/>
                    </a:cubicBezTo>
                    <a:cubicBezTo>
                      <a:pt x="231" y="44"/>
                      <a:pt x="135" y="0"/>
                      <a:pt x="216" y="81"/>
                    </a:cubicBezTo>
                    <a:cubicBezTo>
                      <a:pt x="231" y="96"/>
                      <a:pt x="252" y="105"/>
                      <a:pt x="270" y="117"/>
                    </a:cubicBezTo>
                    <a:cubicBezTo>
                      <a:pt x="276" y="147"/>
                      <a:pt x="277" y="178"/>
                      <a:pt x="288" y="207"/>
                    </a:cubicBezTo>
                    <a:cubicBezTo>
                      <a:pt x="296" y="227"/>
                      <a:pt x="315" y="241"/>
                      <a:pt x="324" y="261"/>
                    </a:cubicBezTo>
                    <a:cubicBezTo>
                      <a:pt x="339" y="296"/>
                      <a:pt x="351" y="332"/>
                      <a:pt x="360" y="369"/>
                    </a:cubicBezTo>
                    <a:cubicBezTo>
                      <a:pt x="366" y="393"/>
                      <a:pt x="371" y="417"/>
                      <a:pt x="378" y="441"/>
                    </a:cubicBezTo>
                    <a:cubicBezTo>
                      <a:pt x="389" y="477"/>
                      <a:pt x="414" y="549"/>
                      <a:pt x="414" y="549"/>
                    </a:cubicBezTo>
                    <a:cubicBezTo>
                      <a:pt x="402" y="585"/>
                      <a:pt x="402" y="645"/>
                      <a:pt x="342" y="585"/>
                    </a:cubicBezTo>
                    <a:cubicBezTo>
                      <a:pt x="329" y="572"/>
                      <a:pt x="336" y="546"/>
                      <a:pt x="324" y="531"/>
                    </a:cubicBezTo>
                    <a:cubicBezTo>
                      <a:pt x="310" y="514"/>
                      <a:pt x="288" y="507"/>
                      <a:pt x="270" y="495"/>
                    </a:cubicBezTo>
                    <a:cubicBezTo>
                      <a:pt x="264" y="477"/>
                      <a:pt x="269" y="449"/>
                      <a:pt x="252" y="441"/>
                    </a:cubicBezTo>
                    <a:cubicBezTo>
                      <a:pt x="235" y="433"/>
                      <a:pt x="211" y="472"/>
                      <a:pt x="198" y="459"/>
                    </a:cubicBezTo>
                    <a:cubicBezTo>
                      <a:pt x="77" y="338"/>
                      <a:pt x="228" y="378"/>
                      <a:pt x="126" y="297"/>
                    </a:cubicBezTo>
                    <a:cubicBezTo>
                      <a:pt x="111" y="285"/>
                      <a:pt x="90" y="285"/>
                      <a:pt x="72" y="279"/>
                    </a:cubicBezTo>
                    <a:cubicBezTo>
                      <a:pt x="60" y="261"/>
                      <a:pt x="40" y="246"/>
                      <a:pt x="36" y="225"/>
                    </a:cubicBezTo>
                    <a:cubicBezTo>
                      <a:pt x="27" y="173"/>
                      <a:pt x="108" y="135"/>
                      <a:pt x="0" y="20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3" name=""/>
            <p:cNvSpPr/>
            <p:nvPr/>
          </p:nvSpPr>
          <p:spPr>
            <a:xfrm>
              <a:off x="4971960" y="2000160"/>
              <a:ext cx="1728720" cy="1047960"/>
            </a:xfrm>
            <a:custGeom>
              <a:avLst/>
              <a:gdLst/>
              <a:ahLst/>
              <a:rect l="l" t="t" r="r" b="b"/>
              <a:pathLst>
                <a:path w="1089" h="537">
                  <a:moveTo>
                    <a:pt x="162" y="288"/>
                  </a:moveTo>
                  <a:cubicBezTo>
                    <a:pt x="36" y="330"/>
                    <a:pt x="90" y="336"/>
                    <a:pt x="0" y="306"/>
                  </a:cubicBezTo>
                  <a:cubicBezTo>
                    <a:pt x="6" y="276"/>
                    <a:pt x="1" y="241"/>
                    <a:pt x="18" y="216"/>
                  </a:cubicBezTo>
                  <a:cubicBezTo>
                    <a:pt x="29" y="200"/>
                    <a:pt x="59" y="211"/>
                    <a:pt x="72" y="198"/>
                  </a:cubicBezTo>
                  <a:cubicBezTo>
                    <a:pt x="85" y="185"/>
                    <a:pt x="75" y="155"/>
                    <a:pt x="90" y="144"/>
                  </a:cubicBezTo>
                  <a:cubicBezTo>
                    <a:pt x="121" y="122"/>
                    <a:pt x="198" y="108"/>
                    <a:pt x="198" y="108"/>
                  </a:cubicBezTo>
                  <a:cubicBezTo>
                    <a:pt x="327" y="151"/>
                    <a:pt x="285" y="112"/>
                    <a:pt x="342" y="198"/>
                  </a:cubicBezTo>
                  <a:cubicBezTo>
                    <a:pt x="360" y="192"/>
                    <a:pt x="383" y="193"/>
                    <a:pt x="396" y="180"/>
                  </a:cubicBezTo>
                  <a:cubicBezTo>
                    <a:pt x="409" y="167"/>
                    <a:pt x="396" y="131"/>
                    <a:pt x="414" y="126"/>
                  </a:cubicBezTo>
                  <a:cubicBezTo>
                    <a:pt x="435" y="121"/>
                    <a:pt x="449" y="152"/>
                    <a:pt x="468" y="162"/>
                  </a:cubicBezTo>
                  <a:cubicBezTo>
                    <a:pt x="485" y="170"/>
                    <a:pt x="504" y="174"/>
                    <a:pt x="522" y="180"/>
                  </a:cubicBezTo>
                  <a:cubicBezTo>
                    <a:pt x="536" y="138"/>
                    <a:pt x="537" y="100"/>
                    <a:pt x="594" y="90"/>
                  </a:cubicBezTo>
                  <a:cubicBezTo>
                    <a:pt x="613" y="87"/>
                    <a:pt x="630" y="102"/>
                    <a:pt x="648" y="108"/>
                  </a:cubicBezTo>
                  <a:cubicBezTo>
                    <a:pt x="753" y="73"/>
                    <a:pt x="657" y="117"/>
                    <a:pt x="738" y="36"/>
                  </a:cubicBezTo>
                  <a:cubicBezTo>
                    <a:pt x="753" y="21"/>
                    <a:pt x="774" y="12"/>
                    <a:pt x="792" y="0"/>
                  </a:cubicBezTo>
                  <a:cubicBezTo>
                    <a:pt x="810" y="6"/>
                    <a:pt x="833" y="5"/>
                    <a:pt x="846" y="18"/>
                  </a:cubicBezTo>
                  <a:cubicBezTo>
                    <a:pt x="859" y="31"/>
                    <a:pt x="849" y="61"/>
                    <a:pt x="864" y="72"/>
                  </a:cubicBezTo>
                  <a:cubicBezTo>
                    <a:pt x="895" y="94"/>
                    <a:pt x="936" y="96"/>
                    <a:pt x="972" y="108"/>
                  </a:cubicBezTo>
                  <a:cubicBezTo>
                    <a:pt x="993" y="115"/>
                    <a:pt x="1008" y="132"/>
                    <a:pt x="1026" y="144"/>
                  </a:cubicBezTo>
                  <a:cubicBezTo>
                    <a:pt x="1034" y="155"/>
                    <a:pt x="1089" y="229"/>
                    <a:pt x="1080" y="252"/>
                  </a:cubicBezTo>
                  <a:cubicBezTo>
                    <a:pt x="1072" y="272"/>
                    <a:pt x="1047" y="283"/>
                    <a:pt x="1026" y="288"/>
                  </a:cubicBezTo>
                  <a:cubicBezTo>
                    <a:pt x="973" y="301"/>
                    <a:pt x="918" y="300"/>
                    <a:pt x="864" y="306"/>
                  </a:cubicBezTo>
                  <a:cubicBezTo>
                    <a:pt x="858" y="324"/>
                    <a:pt x="864" y="354"/>
                    <a:pt x="846" y="360"/>
                  </a:cubicBezTo>
                  <a:cubicBezTo>
                    <a:pt x="819" y="369"/>
                    <a:pt x="667" y="318"/>
                    <a:pt x="630" y="306"/>
                  </a:cubicBezTo>
                  <a:cubicBezTo>
                    <a:pt x="612" y="312"/>
                    <a:pt x="591" y="312"/>
                    <a:pt x="576" y="324"/>
                  </a:cubicBezTo>
                  <a:cubicBezTo>
                    <a:pt x="456" y="420"/>
                    <a:pt x="630" y="342"/>
                    <a:pt x="486" y="414"/>
                  </a:cubicBezTo>
                  <a:cubicBezTo>
                    <a:pt x="449" y="432"/>
                    <a:pt x="376" y="443"/>
                    <a:pt x="342" y="450"/>
                  </a:cubicBezTo>
                  <a:cubicBezTo>
                    <a:pt x="336" y="468"/>
                    <a:pt x="343" y="500"/>
                    <a:pt x="324" y="504"/>
                  </a:cubicBezTo>
                  <a:cubicBezTo>
                    <a:pt x="161" y="537"/>
                    <a:pt x="173" y="519"/>
                    <a:pt x="144" y="432"/>
                  </a:cubicBezTo>
                  <a:cubicBezTo>
                    <a:pt x="240" y="288"/>
                    <a:pt x="150" y="462"/>
                    <a:pt x="126" y="342"/>
                  </a:cubicBezTo>
                  <a:cubicBezTo>
                    <a:pt x="122" y="321"/>
                    <a:pt x="150" y="306"/>
                    <a:pt x="162" y="288"/>
                  </a:cubicBezTo>
                  <a:close/>
                </a:path>
              </a:pathLst>
            </a:custGeom>
            <a:solidFill>
              <a:srgbClr val="0066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4" name=""/>
            <p:cNvGrpSpPr/>
            <p:nvPr/>
          </p:nvGrpSpPr>
          <p:grpSpPr>
            <a:xfrm>
              <a:off x="166680" y="1943280"/>
              <a:ext cx="8148600" cy="2217600"/>
              <a:chOff x="166680" y="1943280"/>
              <a:chExt cx="8148600" cy="2217600"/>
            </a:xfrm>
          </p:grpSpPr>
          <p:sp>
            <p:nvSpPr>
              <p:cNvPr id="765" name=""/>
              <p:cNvSpPr/>
              <p:nvPr/>
            </p:nvSpPr>
            <p:spPr>
              <a:xfrm>
                <a:off x="166680" y="1943280"/>
                <a:ext cx="8148600" cy="2217600"/>
              </a:xfrm>
              <a:custGeom>
                <a:avLst/>
                <a:gdLst/>
                <a:ahLst/>
                <a:rect l="l" t="t" r="r" b="b"/>
                <a:pathLst>
                  <a:path w="5133" h="1397">
                    <a:moveTo>
                      <a:pt x="381" y="936"/>
                    </a:moveTo>
                    <a:cubicBezTo>
                      <a:pt x="621" y="896"/>
                      <a:pt x="526" y="918"/>
                      <a:pt x="669" y="882"/>
                    </a:cubicBezTo>
                    <a:cubicBezTo>
                      <a:pt x="690" y="868"/>
                      <a:pt x="745" y="824"/>
                      <a:pt x="777" y="828"/>
                    </a:cubicBezTo>
                    <a:cubicBezTo>
                      <a:pt x="815" y="832"/>
                      <a:pt x="849" y="852"/>
                      <a:pt x="885" y="864"/>
                    </a:cubicBezTo>
                    <a:cubicBezTo>
                      <a:pt x="945" y="884"/>
                      <a:pt x="1005" y="898"/>
                      <a:pt x="1065" y="918"/>
                    </a:cubicBezTo>
                    <a:cubicBezTo>
                      <a:pt x="1143" y="912"/>
                      <a:pt x="1222" y="914"/>
                      <a:pt x="1299" y="900"/>
                    </a:cubicBezTo>
                    <a:cubicBezTo>
                      <a:pt x="1320" y="896"/>
                      <a:pt x="1332" y="867"/>
                      <a:pt x="1353" y="864"/>
                    </a:cubicBezTo>
                    <a:cubicBezTo>
                      <a:pt x="1372" y="861"/>
                      <a:pt x="1527" y="916"/>
                      <a:pt x="1533" y="918"/>
                    </a:cubicBezTo>
                    <a:cubicBezTo>
                      <a:pt x="1551" y="924"/>
                      <a:pt x="1587" y="936"/>
                      <a:pt x="1587" y="936"/>
                    </a:cubicBezTo>
                    <a:cubicBezTo>
                      <a:pt x="1605" y="930"/>
                      <a:pt x="1624" y="927"/>
                      <a:pt x="1641" y="918"/>
                    </a:cubicBezTo>
                    <a:cubicBezTo>
                      <a:pt x="1679" y="897"/>
                      <a:pt x="1749" y="846"/>
                      <a:pt x="1749" y="846"/>
                    </a:cubicBezTo>
                    <a:cubicBezTo>
                      <a:pt x="1815" y="747"/>
                      <a:pt x="1749" y="831"/>
                      <a:pt x="1839" y="756"/>
                    </a:cubicBezTo>
                    <a:cubicBezTo>
                      <a:pt x="1859" y="740"/>
                      <a:pt x="1872" y="716"/>
                      <a:pt x="1893" y="702"/>
                    </a:cubicBezTo>
                    <a:cubicBezTo>
                      <a:pt x="1909" y="691"/>
                      <a:pt x="1930" y="692"/>
                      <a:pt x="1947" y="684"/>
                    </a:cubicBezTo>
                    <a:cubicBezTo>
                      <a:pt x="1966" y="674"/>
                      <a:pt x="1983" y="660"/>
                      <a:pt x="2001" y="648"/>
                    </a:cubicBezTo>
                    <a:cubicBezTo>
                      <a:pt x="2043" y="654"/>
                      <a:pt x="2086" y="656"/>
                      <a:pt x="2127" y="666"/>
                    </a:cubicBezTo>
                    <a:cubicBezTo>
                      <a:pt x="2164" y="675"/>
                      <a:pt x="2235" y="702"/>
                      <a:pt x="2235" y="702"/>
                    </a:cubicBezTo>
                    <a:cubicBezTo>
                      <a:pt x="2489" y="681"/>
                      <a:pt x="2382" y="707"/>
                      <a:pt x="2559" y="648"/>
                    </a:cubicBezTo>
                    <a:cubicBezTo>
                      <a:pt x="2580" y="641"/>
                      <a:pt x="2593" y="621"/>
                      <a:pt x="2613" y="612"/>
                    </a:cubicBezTo>
                    <a:cubicBezTo>
                      <a:pt x="2648" y="597"/>
                      <a:pt x="2721" y="576"/>
                      <a:pt x="2721" y="576"/>
                    </a:cubicBezTo>
                    <a:cubicBezTo>
                      <a:pt x="2757" y="588"/>
                      <a:pt x="2793" y="600"/>
                      <a:pt x="2829" y="612"/>
                    </a:cubicBezTo>
                    <a:cubicBezTo>
                      <a:pt x="2847" y="618"/>
                      <a:pt x="2883" y="630"/>
                      <a:pt x="2883" y="630"/>
                    </a:cubicBezTo>
                    <a:cubicBezTo>
                      <a:pt x="2997" y="602"/>
                      <a:pt x="2934" y="626"/>
                      <a:pt x="3063" y="540"/>
                    </a:cubicBezTo>
                    <a:cubicBezTo>
                      <a:pt x="3081" y="528"/>
                      <a:pt x="3099" y="516"/>
                      <a:pt x="3117" y="504"/>
                    </a:cubicBezTo>
                    <a:cubicBezTo>
                      <a:pt x="3135" y="492"/>
                      <a:pt x="3171" y="468"/>
                      <a:pt x="3171" y="468"/>
                    </a:cubicBezTo>
                    <a:cubicBezTo>
                      <a:pt x="3183" y="450"/>
                      <a:pt x="3190" y="428"/>
                      <a:pt x="3207" y="414"/>
                    </a:cubicBezTo>
                    <a:cubicBezTo>
                      <a:pt x="3222" y="402"/>
                      <a:pt x="3244" y="404"/>
                      <a:pt x="3261" y="396"/>
                    </a:cubicBezTo>
                    <a:cubicBezTo>
                      <a:pt x="3401" y="326"/>
                      <a:pt x="3233" y="387"/>
                      <a:pt x="3369" y="342"/>
                    </a:cubicBezTo>
                    <a:cubicBezTo>
                      <a:pt x="3474" y="363"/>
                      <a:pt x="3573" y="380"/>
                      <a:pt x="3675" y="414"/>
                    </a:cubicBezTo>
                    <a:cubicBezTo>
                      <a:pt x="3711" y="426"/>
                      <a:pt x="3747" y="438"/>
                      <a:pt x="3783" y="450"/>
                    </a:cubicBezTo>
                    <a:cubicBezTo>
                      <a:pt x="3801" y="456"/>
                      <a:pt x="3837" y="468"/>
                      <a:pt x="3837" y="468"/>
                    </a:cubicBezTo>
                    <a:cubicBezTo>
                      <a:pt x="3930" y="328"/>
                      <a:pt x="3895" y="401"/>
                      <a:pt x="3945" y="252"/>
                    </a:cubicBezTo>
                    <a:cubicBezTo>
                      <a:pt x="3957" y="216"/>
                      <a:pt x="3954" y="171"/>
                      <a:pt x="3981" y="144"/>
                    </a:cubicBezTo>
                    <a:cubicBezTo>
                      <a:pt x="4017" y="108"/>
                      <a:pt x="4041" y="52"/>
                      <a:pt x="4089" y="36"/>
                    </a:cubicBezTo>
                    <a:cubicBezTo>
                      <a:pt x="4125" y="24"/>
                      <a:pt x="4197" y="0"/>
                      <a:pt x="4197" y="0"/>
                    </a:cubicBezTo>
                    <a:cubicBezTo>
                      <a:pt x="4326" y="26"/>
                      <a:pt x="4447" y="76"/>
                      <a:pt x="4575" y="108"/>
                    </a:cubicBezTo>
                    <a:cubicBezTo>
                      <a:pt x="4659" y="102"/>
                      <a:pt x="4746" y="112"/>
                      <a:pt x="4827" y="90"/>
                    </a:cubicBezTo>
                    <a:cubicBezTo>
                      <a:pt x="4845" y="85"/>
                      <a:pt x="4830" y="47"/>
                      <a:pt x="4845" y="36"/>
                    </a:cubicBezTo>
                    <a:cubicBezTo>
                      <a:pt x="4876" y="14"/>
                      <a:pt x="4953" y="0"/>
                      <a:pt x="4953" y="0"/>
                    </a:cubicBezTo>
                    <a:cubicBezTo>
                      <a:pt x="4958" y="1"/>
                      <a:pt x="5067" y="27"/>
                      <a:pt x="5079" y="36"/>
                    </a:cubicBezTo>
                    <a:cubicBezTo>
                      <a:pt x="5111" y="61"/>
                      <a:pt x="5121" y="108"/>
                      <a:pt x="5133" y="144"/>
                    </a:cubicBezTo>
                    <a:cubicBezTo>
                      <a:pt x="5123" y="192"/>
                      <a:pt x="5105" y="303"/>
                      <a:pt x="5079" y="342"/>
                    </a:cubicBezTo>
                    <a:cubicBezTo>
                      <a:pt x="4991" y="474"/>
                      <a:pt x="4947" y="463"/>
                      <a:pt x="4809" y="486"/>
                    </a:cubicBezTo>
                    <a:cubicBezTo>
                      <a:pt x="4586" y="523"/>
                      <a:pt x="4897" y="488"/>
                      <a:pt x="4521" y="522"/>
                    </a:cubicBezTo>
                    <a:cubicBezTo>
                      <a:pt x="4241" y="708"/>
                      <a:pt x="4766" y="623"/>
                      <a:pt x="3891" y="594"/>
                    </a:cubicBezTo>
                    <a:cubicBezTo>
                      <a:pt x="3753" y="600"/>
                      <a:pt x="3615" y="601"/>
                      <a:pt x="3477" y="612"/>
                    </a:cubicBezTo>
                    <a:cubicBezTo>
                      <a:pt x="3458" y="613"/>
                      <a:pt x="3436" y="617"/>
                      <a:pt x="3423" y="630"/>
                    </a:cubicBezTo>
                    <a:cubicBezTo>
                      <a:pt x="3377" y="676"/>
                      <a:pt x="3369" y="756"/>
                      <a:pt x="3315" y="792"/>
                    </a:cubicBezTo>
                    <a:cubicBezTo>
                      <a:pt x="3090" y="942"/>
                      <a:pt x="2931" y="918"/>
                      <a:pt x="2649" y="936"/>
                    </a:cubicBezTo>
                    <a:cubicBezTo>
                      <a:pt x="2513" y="981"/>
                      <a:pt x="2681" y="920"/>
                      <a:pt x="2541" y="990"/>
                    </a:cubicBezTo>
                    <a:cubicBezTo>
                      <a:pt x="2392" y="1065"/>
                      <a:pt x="2588" y="941"/>
                      <a:pt x="2433" y="1044"/>
                    </a:cubicBezTo>
                    <a:cubicBezTo>
                      <a:pt x="2277" y="1028"/>
                      <a:pt x="2255" y="1013"/>
                      <a:pt x="2109" y="1044"/>
                    </a:cubicBezTo>
                    <a:cubicBezTo>
                      <a:pt x="1902" y="1088"/>
                      <a:pt x="2077" y="1058"/>
                      <a:pt x="1947" y="1116"/>
                    </a:cubicBezTo>
                    <a:cubicBezTo>
                      <a:pt x="1849" y="1159"/>
                      <a:pt x="1763" y="1173"/>
                      <a:pt x="1659" y="1188"/>
                    </a:cubicBezTo>
                    <a:cubicBezTo>
                      <a:pt x="1488" y="1245"/>
                      <a:pt x="1317" y="1248"/>
                      <a:pt x="1137" y="1260"/>
                    </a:cubicBezTo>
                    <a:cubicBezTo>
                      <a:pt x="1079" y="1279"/>
                      <a:pt x="1035" y="1320"/>
                      <a:pt x="975" y="1332"/>
                    </a:cubicBezTo>
                    <a:cubicBezTo>
                      <a:pt x="757" y="1376"/>
                      <a:pt x="363" y="1364"/>
                      <a:pt x="237" y="1368"/>
                    </a:cubicBezTo>
                    <a:cubicBezTo>
                      <a:pt x="149" y="1397"/>
                      <a:pt x="79" y="1383"/>
                      <a:pt x="3" y="1332"/>
                    </a:cubicBezTo>
                    <a:cubicBezTo>
                      <a:pt x="9" y="1230"/>
                      <a:pt x="0" y="1126"/>
                      <a:pt x="21" y="1026"/>
                    </a:cubicBezTo>
                    <a:cubicBezTo>
                      <a:pt x="25" y="1005"/>
                      <a:pt x="55" y="999"/>
                      <a:pt x="75" y="990"/>
                    </a:cubicBezTo>
                    <a:cubicBezTo>
                      <a:pt x="110" y="975"/>
                      <a:pt x="147" y="966"/>
                      <a:pt x="183" y="954"/>
                    </a:cubicBezTo>
                    <a:cubicBezTo>
                      <a:pt x="201" y="948"/>
                      <a:pt x="237" y="936"/>
                      <a:pt x="237" y="936"/>
                    </a:cubicBezTo>
                    <a:cubicBezTo>
                      <a:pt x="256" y="942"/>
                      <a:pt x="349" y="975"/>
                      <a:pt x="363" y="972"/>
                    </a:cubicBezTo>
                    <a:cubicBezTo>
                      <a:pt x="376" y="969"/>
                      <a:pt x="375" y="948"/>
                      <a:pt x="381" y="936"/>
                    </a:cubicBezTo>
                    <a:close/>
                  </a:path>
                </a:pathLst>
              </a:custGeom>
              <a:blipFill rotWithShape="0">
                <a:blip r:embed="rId1"/>
                <a:srcRect/>
                <a:tile tx="0" ty="0" sx="100000" sy="100000" algn="ctr"/>
              </a:blip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1905120" y="2743200"/>
                <a:ext cx="2262240" cy="1295280"/>
              </a:xfrm>
              <a:custGeom>
                <a:avLst/>
                <a:gdLst/>
                <a:ahLst/>
                <a:rect l="l" t="t" r="r" b="b"/>
                <a:pathLst>
                  <a:path w="1089" h="537">
                    <a:moveTo>
                      <a:pt x="162" y="288"/>
                    </a:moveTo>
                    <a:cubicBezTo>
                      <a:pt x="36" y="330"/>
                      <a:pt x="90" y="336"/>
                      <a:pt x="0" y="306"/>
                    </a:cubicBezTo>
                    <a:cubicBezTo>
                      <a:pt x="6" y="276"/>
                      <a:pt x="1" y="241"/>
                      <a:pt x="18" y="216"/>
                    </a:cubicBezTo>
                    <a:cubicBezTo>
                      <a:pt x="29" y="200"/>
                      <a:pt x="59" y="211"/>
                      <a:pt x="72" y="198"/>
                    </a:cubicBezTo>
                    <a:cubicBezTo>
                      <a:pt x="85" y="185"/>
                      <a:pt x="75" y="155"/>
                      <a:pt x="90" y="144"/>
                    </a:cubicBezTo>
                    <a:cubicBezTo>
                      <a:pt x="121" y="122"/>
                      <a:pt x="198" y="108"/>
                      <a:pt x="198" y="108"/>
                    </a:cubicBezTo>
                    <a:cubicBezTo>
                      <a:pt x="327" y="151"/>
                      <a:pt x="285" y="112"/>
                      <a:pt x="342" y="198"/>
                    </a:cubicBezTo>
                    <a:cubicBezTo>
                      <a:pt x="360" y="192"/>
                      <a:pt x="383" y="193"/>
                      <a:pt x="396" y="180"/>
                    </a:cubicBezTo>
                    <a:cubicBezTo>
                      <a:pt x="409" y="167"/>
                      <a:pt x="396" y="131"/>
                      <a:pt x="414" y="126"/>
                    </a:cubicBezTo>
                    <a:cubicBezTo>
                      <a:pt x="435" y="121"/>
                      <a:pt x="449" y="152"/>
                      <a:pt x="468" y="162"/>
                    </a:cubicBezTo>
                    <a:cubicBezTo>
                      <a:pt x="485" y="170"/>
                      <a:pt x="504" y="174"/>
                      <a:pt x="522" y="180"/>
                    </a:cubicBezTo>
                    <a:cubicBezTo>
                      <a:pt x="536" y="138"/>
                      <a:pt x="537" y="100"/>
                      <a:pt x="594" y="90"/>
                    </a:cubicBezTo>
                    <a:cubicBezTo>
                      <a:pt x="613" y="87"/>
                      <a:pt x="630" y="102"/>
                      <a:pt x="648" y="108"/>
                    </a:cubicBezTo>
                    <a:cubicBezTo>
                      <a:pt x="753" y="73"/>
                      <a:pt x="657" y="117"/>
                      <a:pt x="738" y="36"/>
                    </a:cubicBezTo>
                    <a:cubicBezTo>
                      <a:pt x="753" y="21"/>
                      <a:pt x="774" y="12"/>
                      <a:pt x="792" y="0"/>
                    </a:cubicBezTo>
                    <a:cubicBezTo>
                      <a:pt x="810" y="6"/>
                      <a:pt x="833" y="5"/>
                      <a:pt x="846" y="18"/>
                    </a:cubicBezTo>
                    <a:cubicBezTo>
                      <a:pt x="859" y="31"/>
                      <a:pt x="849" y="61"/>
                      <a:pt x="864" y="72"/>
                    </a:cubicBezTo>
                    <a:cubicBezTo>
                      <a:pt x="895" y="94"/>
                      <a:pt x="936" y="96"/>
                      <a:pt x="972" y="108"/>
                    </a:cubicBezTo>
                    <a:cubicBezTo>
                      <a:pt x="993" y="115"/>
                      <a:pt x="1008" y="132"/>
                      <a:pt x="1026" y="144"/>
                    </a:cubicBezTo>
                    <a:cubicBezTo>
                      <a:pt x="1034" y="155"/>
                      <a:pt x="1089" y="229"/>
                      <a:pt x="1080" y="252"/>
                    </a:cubicBezTo>
                    <a:cubicBezTo>
                      <a:pt x="1072" y="272"/>
                      <a:pt x="1047" y="283"/>
                      <a:pt x="1026" y="288"/>
                    </a:cubicBezTo>
                    <a:cubicBezTo>
                      <a:pt x="973" y="301"/>
                      <a:pt x="918" y="300"/>
                      <a:pt x="864" y="306"/>
                    </a:cubicBezTo>
                    <a:cubicBezTo>
                      <a:pt x="858" y="324"/>
                      <a:pt x="864" y="354"/>
                      <a:pt x="846" y="360"/>
                    </a:cubicBezTo>
                    <a:cubicBezTo>
                      <a:pt x="819" y="369"/>
                      <a:pt x="667" y="318"/>
                      <a:pt x="630" y="306"/>
                    </a:cubicBezTo>
                    <a:cubicBezTo>
                      <a:pt x="612" y="312"/>
                      <a:pt x="591" y="312"/>
                      <a:pt x="576" y="324"/>
                    </a:cubicBezTo>
                    <a:cubicBezTo>
                      <a:pt x="456" y="420"/>
                      <a:pt x="630" y="342"/>
                      <a:pt x="486" y="414"/>
                    </a:cubicBezTo>
                    <a:cubicBezTo>
                      <a:pt x="449" y="432"/>
                      <a:pt x="376" y="443"/>
                      <a:pt x="342" y="450"/>
                    </a:cubicBezTo>
                    <a:cubicBezTo>
                      <a:pt x="336" y="468"/>
                      <a:pt x="343" y="500"/>
                      <a:pt x="324" y="504"/>
                    </a:cubicBezTo>
                    <a:cubicBezTo>
                      <a:pt x="161" y="537"/>
                      <a:pt x="173" y="519"/>
                      <a:pt x="144" y="432"/>
                    </a:cubicBezTo>
                    <a:cubicBezTo>
                      <a:pt x="240" y="288"/>
                      <a:pt x="150" y="462"/>
                      <a:pt x="126" y="342"/>
                    </a:cubicBezTo>
                    <a:cubicBezTo>
                      <a:pt x="122" y="321"/>
                      <a:pt x="150" y="306"/>
                      <a:pt x="162" y="288"/>
                    </a:cubicBezTo>
                    <a:close/>
                  </a:path>
                </a:pathLst>
              </a:custGeom>
              <a:solidFill>
                <a:srgbClr val="0066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7" name=""/>
          <p:cNvGrpSpPr/>
          <p:nvPr/>
        </p:nvGrpSpPr>
        <p:grpSpPr>
          <a:xfrm>
            <a:off x="2590920" y="672840"/>
            <a:ext cx="6476400" cy="5261400"/>
            <a:chOff x="2590920" y="672840"/>
            <a:chExt cx="6476400" cy="5261400"/>
          </a:xfrm>
        </p:grpSpPr>
        <p:sp>
          <p:nvSpPr>
            <p:cNvPr id="768" name=""/>
            <p:cNvSpPr/>
            <p:nvPr/>
          </p:nvSpPr>
          <p:spPr>
            <a:xfrm>
              <a:off x="2590920" y="3733920"/>
              <a:ext cx="6359400" cy="2200320"/>
            </a:xfrm>
            <a:custGeom>
              <a:avLst/>
              <a:gdLst/>
              <a:ahLst/>
              <a:rect l="l" t="t" r="r" b="b"/>
              <a:pathLst>
                <a:path w="4006" h="1386">
                  <a:moveTo>
                    <a:pt x="504" y="198"/>
                  </a:moveTo>
                  <a:cubicBezTo>
                    <a:pt x="480" y="234"/>
                    <a:pt x="456" y="270"/>
                    <a:pt x="432" y="306"/>
                  </a:cubicBezTo>
                  <a:cubicBezTo>
                    <a:pt x="411" y="338"/>
                    <a:pt x="360" y="330"/>
                    <a:pt x="324" y="342"/>
                  </a:cubicBezTo>
                  <a:cubicBezTo>
                    <a:pt x="303" y="349"/>
                    <a:pt x="290" y="369"/>
                    <a:pt x="270" y="378"/>
                  </a:cubicBezTo>
                  <a:cubicBezTo>
                    <a:pt x="196" y="411"/>
                    <a:pt x="113" y="424"/>
                    <a:pt x="36" y="450"/>
                  </a:cubicBezTo>
                  <a:cubicBezTo>
                    <a:pt x="24" y="468"/>
                    <a:pt x="0" y="482"/>
                    <a:pt x="0" y="504"/>
                  </a:cubicBezTo>
                  <a:cubicBezTo>
                    <a:pt x="0" y="550"/>
                    <a:pt x="56" y="572"/>
                    <a:pt x="90" y="576"/>
                  </a:cubicBezTo>
                  <a:cubicBezTo>
                    <a:pt x="180" y="586"/>
                    <a:pt x="270" y="588"/>
                    <a:pt x="360" y="594"/>
                  </a:cubicBezTo>
                  <a:cubicBezTo>
                    <a:pt x="366" y="612"/>
                    <a:pt x="378" y="629"/>
                    <a:pt x="378" y="648"/>
                  </a:cubicBezTo>
                  <a:cubicBezTo>
                    <a:pt x="378" y="720"/>
                    <a:pt x="354" y="696"/>
                    <a:pt x="306" y="720"/>
                  </a:cubicBezTo>
                  <a:cubicBezTo>
                    <a:pt x="287" y="730"/>
                    <a:pt x="270" y="744"/>
                    <a:pt x="252" y="756"/>
                  </a:cubicBezTo>
                  <a:cubicBezTo>
                    <a:pt x="258" y="774"/>
                    <a:pt x="258" y="795"/>
                    <a:pt x="270" y="810"/>
                  </a:cubicBezTo>
                  <a:cubicBezTo>
                    <a:pt x="340" y="898"/>
                    <a:pt x="514" y="869"/>
                    <a:pt x="612" y="918"/>
                  </a:cubicBezTo>
                  <a:cubicBezTo>
                    <a:pt x="631" y="928"/>
                    <a:pt x="646" y="945"/>
                    <a:pt x="666" y="954"/>
                  </a:cubicBezTo>
                  <a:cubicBezTo>
                    <a:pt x="701" y="969"/>
                    <a:pt x="742" y="969"/>
                    <a:pt x="774" y="990"/>
                  </a:cubicBezTo>
                  <a:cubicBezTo>
                    <a:pt x="792" y="1002"/>
                    <a:pt x="808" y="1017"/>
                    <a:pt x="828" y="1026"/>
                  </a:cubicBezTo>
                  <a:cubicBezTo>
                    <a:pt x="941" y="1076"/>
                    <a:pt x="1070" y="1100"/>
                    <a:pt x="1188" y="1134"/>
                  </a:cubicBezTo>
                  <a:cubicBezTo>
                    <a:pt x="1326" y="1173"/>
                    <a:pt x="1154" y="1125"/>
                    <a:pt x="1296" y="1188"/>
                  </a:cubicBezTo>
                  <a:cubicBezTo>
                    <a:pt x="1362" y="1218"/>
                    <a:pt x="1483" y="1244"/>
                    <a:pt x="1548" y="1260"/>
                  </a:cubicBezTo>
                  <a:cubicBezTo>
                    <a:pt x="1598" y="1272"/>
                    <a:pt x="1620" y="1291"/>
                    <a:pt x="1674" y="1296"/>
                  </a:cubicBezTo>
                  <a:cubicBezTo>
                    <a:pt x="1776" y="1306"/>
                    <a:pt x="1878" y="1308"/>
                    <a:pt x="1980" y="1314"/>
                  </a:cubicBezTo>
                  <a:cubicBezTo>
                    <a:pt x="2143" y="1337"/>
                    <a:pt x="2305" y="1354"/>
                    <a:pt x="2466" y="1386"/>
                  </a:cubicBezTo>
                  <a:cubicBezTo>
                    <a:pt x="2640" y="1380"/>
                    <a:pt x="2814" y="1379"/>
                    <a:pt x="2988" y="1368"/>
                  </a:cubicBezTo>
                  <a:cubicBezTo>
                    <a:pt x="3032" y="1365"/>
                    <a:pt x="3072" y="1343"/>
                    <a:pt x="3114" y="1332"/>
                  </a:cubicBezTo>
                  <a:cubicBezTo>
                    <a:pt x="3214" y="1307"/>
                    <a:pt x="3318" y="1298"/>
                    <a:pt x="3420" y="1278"/>
                  </a:cubicBezTo>
                  <a:cubicBezTo>
                    <a:pt x="3533" y="1316"/>
                    <a:pt x="3606" y="1311"/>
                    <a:pt x="3726" y="1296"/>
                  </a:cubicBezTo>
                  <a:cubicBezTo>
                    <a:pt x="3771" y="1160"/>
                    <a:pt x="3710" y="1328"/>
                    <a:pt x="3780" y="1188"/>
                  </a:cubicBezTo>
                  <a:cubicBezTo>
                    <a:pt x="3795" y="1158"/>
                    <a:pt x="3807" y="1091"/>
                    <a:pt x="3816" y="1062"/>
                  </a:cubicBezTo>
                  <a:cubicBezTo>
                    <a:pt x="3832" y="1007"/>
                    <a:pt x="3852" y="954"/>
                    <a:pt x="3870" y="900"/>
                  </a:cubicBezTo>
                  <a:cubicBezTo>
                    <a:pt x="3878" y="876"/>
                    <a:pt x="3908" y="866"/>
                    <a:pt x="3924" y="846"/>
                  </a:cubicBezTo>
                  <a:cubicBezTo>
                    <a:pt x="3938" y="829"/>
                    <a:pt x="3948" y="810"/>
                    <a:pt x="3960" y="792"/>
                  </a:cubicBezTo>
                  <a:cubicBezTo>
                    <a:pt x="3990" y="641"/>
                    <a:pt x="4006" y="602"/>
                    <a:pt x="3960" y="396"/>
                  </a:cubicBezTo>
                  <a:cubicBezTo>
                    <a:pt x="3956" y="377"/>
                    <a:pt x="3923" y="386"/>
                    <a:pt x="3906" y="378"/>
                  </a:cubicBezTo>
                  <a:cubicBezTo>
                    <a:pt x="3782" y="316"/>
                    <a:pt x="3930" y="361"/>
                    <a:pt x="3780" y="324"/>
                  </a:cubicBezTo>
                  <a:cubicBezTo>
                    <a:pt x="3638" y="348"/>
                    <a:pt x="3559" y="387"/>
                    <a:pt x="3438" y="468"/>
                  </a:cubicBezTo>
                  <a:cubicBezTo>
                    <a:pt x="3427" y="475"/>
                    <a:pt x="3278" y="504"/>
                    <a:pt x="3276" y="504"/>
                  </a:cubicBezTo>
                  <a:cubicBezTo>
                    <a:pt x="3134" y="488"/>
                    <a:pt x="2958" y="480"/>
                    <a:pt x="2826" y="414"/>
                  </a:cubicBezTo>
                  <a:cubicBezTo>
                    <a:pt x="2720" y="361"/>
                    <a:pt x="2561" y="275"/>
                    <a:pt x="2448" y="252"/>
                  </a:cubicBezTo>
                  <a:cubicBezTo>
                    <a:pt x="2388" y="258"/>
                    <a:pt x="2327" y="259"/>
                    <a:pt x="2268" y="270"/>
                  </a:cubicBezTo>
                  <a:cubicBezTo>
                    <a:pt x="2231" y="277"/>
                    <a:pt x="2196" y="294"/>
                    <a:pt x="2160" y="306"/>
                  </a:cubicBezTo>
                  <a:cubicBezTo>
                    <a:pt x="2142" y="312"/>
                    <a:pt x="2106" y="324"/>
                    <a:pt x="2106" y="324"/>
                  </a:cubicBezTo>
                  <a:cubicBezTo>
                    <a:pt x="2070" y="318"/>
                    <a:pt x="2033" y="316"/>
                    <a:pt x="1998" y="306"/>
                  </a:cubicBezTo>
                  <a:cubicBezTo>
                    <a:pt x="1972" y="298"/>
                    <a:pt x="1951" y="281"/>
                    <a:pt x="1926" y="270"/>
                  </a:cubicBezTo>
                  <a:cubicBezTo>
                    <a:pt x="1909" y="263"/>
                    <a:pt x="1890" y="257"/>
                    <a:pt x="1872" y="252"/>
                  </a:cubicBezTo>
                  <a:cubicBezTo>
                    <a:pt x="1853" y="247"/>
                    <a:pt x="1769" y="229"/>
                    <a:pt x="1746" y="216"/>
                  </a:cubicBezTo>
                  <a:cubicBezTo>
                    <a:pt x="1689" y="184"/>
                    <a:pt x="1638" y="144"/>
                    <a:pt x="1584" y="108"/>
                  </a:cubicBezTo>
                  <a:cubicBezTo>
                    <a:pt x="1565" y="96"/>
                    <a:pt x="1472" y="77"/>
                    <a:pt x="1458" y="72"/>
                  </a:cubicBezTo>
                  <a:cubicBezTo>
                    <a:pt x="1433" y="63"/>
                    <a:pt x="1411" y="46"/>
                    <a:pt x="1386" y="36"/>
                  </a:cubicBezTo>
                  <a:cubicBezTo>
                    <a:pt x="1351" y="22"/>
                    <a:pt x="1278" y="0"/>
                    <a:pt x="1278" y="0"/>
                  </a:cubicBezTo>
                  <a:cubicBezTo>
                    <a:pt x="1260" y="12"/>
                    <a:pt x="1238" y="19"/>
                    <a:pt x="1224" y="36"/>
                  </a:cubicBezTo>
                  <a:cubicBezTo>
                    <a:pt x="1154" y="123"/>
                    <a:pt x="1270" y="69"/>
                    <a:pt x="1152" y="108"/>
                  </a:cubicBezTo>
                  <a:cubicBezTo>
                    <a:pt x="1110" y="171"/>
                    <a:pt x="1079" y="192"/>
                    <a:pt x="1008" y="216"/>
                  </a:cubicBezTo>
                  <a:cubicBezTo>
                    <a:pt x="883" y="203"/>
                    <a:pt x="801" y="185"/>
                    <a:pt x="684" y="162"/>
                  </a:cubicBezTo>
                  <a:cubicBezTo>
                    <a:pt x="527" y="182"/>
                    <a:pt x="583" y="158"/>
                    <a:pt x="504" y="198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"/>
            <p:cNvGrpSpPr/>
            <p:nvPr/>
          </p:nvGrpSpPr>
          <p:grpSpPr>
            <a:xfrm>
              <a:off x="2854800" y="672840"/>
              <a:ext cx="6212520" cy="4584960"/>
              <a:chOff x="2854800" y="672840"/>
              <a:chExt cx="6212520" cy="4584960"/>
            </a:xfrm>
          </p:grpSpPr>
          <p:grpSp>
            <p:nvGrpSpPr>
              <p:cNvPr id="770" name=""/>
              <p:cNvGrpSpPr/>
              <p:nvPr/>
            </p:nvGrpSpPr>
            <p:grpSpPr>
              <a:xfrm>
                <a:off x="2854800" y="672840"/>
                <a:ext cx="6212520" cy="4584960"/>
                <a:chOff x="2854800" y="672840"/>
                <a:chExt cx="6212520" cy="4584960"/>
              </a:xfrm>
            </p:grpSpPr>
            <p:grpSp>
              <p:nvGrpSpPr>
                <p:cNvPr id="771" name=""/>
                <p:cNvGrpSpPr/>
                <p:nvPr/>
              </p:nvGrpSpPr>
              <p:grpSpPr>
                <a:xfrm>
                  <a:off x="2854800" y="672840"/>
                  <a:ext cx="6212520" cy="4584960"/>
                  <a:chOff x="2854800" y="672840"/>
                  <a:chExt cx="6212520" cy="4584960"/>
                </a:xfrm>
              </p:grpSpPr>
              <p:grpSp>
                <p:nvGrpSpPr>
                  <p:cNvPr id="772" name=""/>
                  <p:cNvGrpSpPr/>
                  <p:nvPr/>
                </p:nvGrpSpPr>
                <p:grpSpPr>
                  <a:xfrm>
                    <a:off x="2854800" y="672840"/>
                    <a:ext cx="6212520" cy="4584960"/>
                    <a:chOff x="2854800" y="672840"/>
                    <a:chExt cx="6212520" cy="4584960"/>
                  </a:xfrm>
                </p:grpSpPr>
                <p:grpSp>
                  <p:nvGrpSpPr>
                    <p:cNvPr id="773" name=""/>
                    <p:cNvGrpSpPr/>
                    <p:nvPr/>
                  </p:nvGrpSpPr>
                  <p:grpSpPr>
                    <a:xfrm>
                      <a:off x="2854800" y="672840"/>
                      <a:ext cx="6212520" cy="4584960"/>
                      <a:chOff x="2854800" y="672840"/>
                      <a:chExt cx="6212520" cy="4584960"/>
                    </a:xfrm>
                  </p:grpSpPr>
                  <p:grpSp>
                    <p:nvGrpSpPr>
                      <p:cNvPr id="774" name=""/>
                      <p:cNvGrpSpPr/>
                      <p:nvPr/>
                    </p:nvGrpSpPr>
                    <p:grpSpPr>
                      <a:xfrm>
                        <a:off x="2854800" y="672840"/>
                        <a:ext cx="6212520" cy="4584960"/>
                        <a:chOff x="2854800" y="672840"/>
                        <a:chExt cx="6212520" cy="4584960"/>
                      </a:xfrm>
                    </p:grpSpPr>
                    <p:sp>
                      <p:nvSpPr>
                        <p:cNvPr id="775" name=""/>
                        <p:cNvSpPr/>
                        <p:nvPr/>
                      </p:nvSpPr>
                      <p:spPr>
                        <a:xfrm>
                          <a:off x="3662280" y="762120"/>
                          <a:ext cx="4679280" cy="4495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637" h="3296">
                              <a:moveTo>
                                <a:pt x="2756" y="0"/>
                              </a:moveTo>
                              <a:lnTo>
                                <a:pt x="2633" y="22"/>
                              </a:lnTo>
                              <a:lnTo>
                                <a:pt x="2597" y="75"/>
                              </a:lnTo>
                              <a:lnTo>
                                <a:pt x="794" y="37"/>
                              </a:lnTo>
                              <a:lnTo>
                                <a:pt x="752" y="91"/>
                              </a:lnTo>
                              <a:lnTo>
                                <a:pt x="679" y="1315"/>
                              </a:lnTo>
                              <a:lnTo>
                                <a:pt x="56" y="1767"/>
                              </a:lnTo>
                              <a:lnTo>
                                <a:pt x="86" y="1881"/>
                              </a:lnTo>
                              <a:lnTo>
                                <a:pt x="483" y="1896"/>
                              </a:lnTo>
                              <a:lnTo>
                                <a:pt x="465" y="2769"/>
                              </a:lnTo>
                              <a:lnTo>
                                <a:pt x="56" y="2655"/>
                              </a:lnTo>
                              <a:lnTo>
                                <a:pt x="0" y="2731"/>
                              </a:lnTo>
                              <a:lnTo>
                                <a:pt x="0" y="2778"/>
                              </a:lnTo>
                              <a:lnTo>
                                <a:pt x="476" y="2853"/>
                              </a:lnTo>
                              <a:lnTo>
                                <a:pt x="1967" y="3296"/>
                              </a:lnTo>
                              <a:lnTo>
                                <a:pt x="2824" y="3267"/>
                              </a:lnTo>
                              <a:lnTo>
                                <a:pt x="3557" y="2853"/>
                              </a:lnTo>
                              <a:lnTo>
                                <a:pt x="3637" y="1805"/>
                              </a:lnTo>
                              <a:lnTo>
                                <a:pt x="3245" y="1475"/>
                              </a:lnTo>
                              <a:lnTo>
                                <a:pt x="2701" y="1255"/>
                              </a:lnTo>
                              <a:lnTo>
                                <a:pt x="2756" y="0"/>
                              </a:lnTo>
                              <a:lnTo>
                                <a:pt x="2756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76" name=""/>
                        <p:cNvSpPr/>
                        <p:nvPr/>
                      </p:nvSpPr>
                      <p:spPr>
                        <a:xfrm>
                          <a:off x="7419240" y="4285080"/>
                          <a:ext cx="473400" cy="579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2" h="599">
                              <a:moveTo>
                                <a:pt x="77" y="0"/>
                              </a:moveTo>
                              <a:lnTo>
                                <a:pt x="232" y="56"/>
                              </a:lnTo>
                              <a:lnTo>
                                <a:pt x="422" y="16"/>
                              </a:lnTo>
                              <a:lnTo>
                                <a:pt x="285" y="588"/>
                              </a:lnTo>
                              <a:lnTo>
                                <a:pt x="95" y="599"/>
                              </a:lnTo>
                              <a:lnTo>
                                <a:pt x="0" y="399"/>
                              </a:lnTo>
                              <a:lnTo>
                                <a:pt x="0" y="120"/>
                              </a:lnTo>
                              <a:lnTo>
                                <a:pt x="77" y="0"/>
                              </a:lnTo>
                              <a:lnTo>
                                <a:pt x="77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e5ad8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77" name=""/>
                        <p:cNvSpPr/>
                        <p:nvPr/>
                      </p:nvSpPr>
                      <p:spPr>
                        <a:xfrm flipV="1" rot="257400">
                          <a:off x="4608720" y="761400"/>
                          <a:ext cx="2459880" cy="2140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022" h="1389">
                              <a:moveTo>
                                <a:pt x="276" y="36"/>
                              </a:moveTo>
                              <a:lnTo>
                                <a:pt x="107" y="80"/>
                              </a:lnTo>
                              <a:lnTo>
                                <a:pt x="0" y="1255"/>
                              </a:lnTo>
                              <a:lnTo>
                                <a:pt x="1951" y="1389"/>
                              </a:lnTo>
                              <a:lnTo>
                                <a:pt x="2022" y="0"/>
                              </a:lnTo>
                              <a:lnTo>
                                <a:pt x="1544" y="58"/>
                              </a:lnTo>
                              <a:lnTo>
                                <a:pt x="1472" y="390"/>
                              </a:lnTo>
                              <a:lnTo>
                                <a:pt x="1437" y="47"/>
                              </a:lnTo>
                              <a:lnTo>
                                <a:pt x="922" y="36"/>
                              </a:lnTo>
                              <a:lnTo>
                                <a:pt x="851" y="401"/>
                              </a:lnTo>
                              <a:lnTo>
                                <a:pt x="835" y="47"/>
                              </a:lnTo>
                              <a:lnTo>
                                <a:pt x="461" y="36"/>
                              </a:lnTo>
                              <a:lnTo>
                                <a:pt x="321" y="434"/>
                              </a:lnTo>
                              <a:lnTo>
                                <a:pt x="276" y="36"/>
                              </a:lnTo>
                              <a:lnTo>
                                <a:pt x="276" y="3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ebbe99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78" name=""/>
                        <p:cNvSpPr/>
                        <p:nvPr/>
                      </p:nvSpPr>
                      <p:spPr>
                        <a:xfrm>
                          <a:off x="6663960" y="2535480"/>
                          <a:ext cx="1872000" cy="2722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455" h="1996">
                              <a:moveTo>
                                <a:pt x="497" y="0"/>
                              </a:moveTo>
                              <a:lnTo>
                                <a:pt x="922" y="621"/>
                              </a:lnTo>
                              <a:lnTo>
                                <a:pt x="1455" y="676"/>
                              </a:lnTo>
                              <a:lnTo>
                                <a:pt x="1321" y="1642"/>
                              </a:lnTo>
                              <a:lnTo>
                                <a:pt x="940" y="1798"/>
                              </a:lnTo>
                              <a:lnTo>
                                <a:pt x="922" y="1353"/>
                              </a:lnTo>
                              <a:lnTo>
                                <a:pt x="833" y="1286"/>
                              </a:lnTo>
                              <a:lnTo>
                                <a:pt x="638" y="1297"/>
                              </a:lnTo>
                              <a:lnTo>
                                <a:pt x="577" y="1375"/>
                              </a:lnTo>
                              <a:lnTo>
                                <a:pt x="515" y="1475"/>
                              </a:lnTo>
                              <a:lnTo>
                                <a:pt x="515" y="1843"/>
                              </a:lnTo>
                              <a:lnTo>
                                <a:pt x="577" y="1885"/>
                              </a:lnTo>
                              <a:lnTo>
                                <a:pt x="390" y="1963"/>
                              </a:lnTo>
                              <a:lnTo>
                                <a:pt x="0" y="1996"/>
                              </a:lnTo>
                              <a:lnTo>
                                <a:pt x="408" y="1709"/>
                              </a:lnTo>
                              <a:lnTo>
                                <a:pt x="497" y="0"/>
                              </a:lnTo>
                              <a:lnTo>
                                <a:pt x="497" y="0"/>
                              </a:lnTo>
                              <a:close/>
                            </a:path>
                          </a:pathLst>
                        </a:custGeom>
                        <a:blipFill rotWithShape="0">
                          <a:blip r:embed="rId3"/>
                          <a:srcRect/>
                          <a:tile tx="0" ty="0" sx="100000" sy="100000" algn="ctr"/>
                        </a:blip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79" name=""/>
                        <p:cNvSpPr/>
                        <p:nvPr/>
                      </p:nvSpPr>
                      <p:spPr>
                        <a:xfrm rot="826200">
                          <a:off x="4354200" y="4575960"/>
                          <a:ext cx="2412360" cy="3542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684" h="777">
                              <a:moveTo>
                                <a:pt x="1613" y="532"/>
                              </a:moveTo>
                              <a:lnTo>
                                <a:pt x="1613" y="245"/>
                              </a:lnTo>
                              <a:lnTo>
                                <a:pt x="1446" y="234"/>
                              </a:lnTo>
                              <a:lnTo>
                                <a:pt x="1383" y="33"/>
                              </a:lnTo>
                              <a:lnTo>
                                <a:pt x="285" y="0"/>
                              </a:lnTo>
                              <a:lnTo>
                                <a:pt x="196" y="200"/>
                              </a:lnTo>
                              <a:lnTo>
                                <a:pt x="18" y="212"/>
                              </a:lnTo>
                              <a:lnTo>
                                <a:pt x="0" y="543"/>
                              </a:lnTo>
                              <a:lnTo>
                                <a:pt x="241" y="743"/>
                              </a:lnTo>
                              <a:lnTo>
                                <a:pt x="1455" y="777"/>
                              </a:lnTo>
                              <a:lnTo>
                                <a:pt x="1526" y="688"/>
                              </a:lnTo>
                              <a:lnTo>
                                <a:pt x="1684" y="632"/>
                              </a:lnTo>
                              <a:lnTo>
                                <a:pt x="1613" y="532"/>
                              </a:lnTo>
                              <a:lnTo>
                                <a:pt x="1613" y="532"/>
                              </a:lnTo>
                              <a:close/>
                            </a:path>
                          </a:pathLst>
                        </a:custGeom>
                        <a:blipFill rotWithShape="0">
                          <a:blip r:embed="rId4"/>
                          <a:srcRect/>
                          <a:tile tx="0" ty="0" sx="100000" sy="100000" algn="ctr"/>
                        </a:blip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80" name=""/>
                        <p:cNvSpPr/>
                        <p:nvPr/>
                      </p:nvSpPr>
                      <p:spPr>
                        <a:xfrm>
                          <a:off x="5166360" y="3993480"/>
                          <a:ext cx="517320" cy="5126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02" h="376">
                              <a:moveTo>
                                <a:pt x="0" y="0"/>
                              </a:moveTo>
                              <a:lnTo>
                                <a:pt x="17" y="242"/>
                              </a:lnTo>
                              <a:lnTo>
                                <a:pt x="348" y="376"/>
                              </a:lnTo>
                              <a:lnTo>
                                <a:pt x="402" y="253"/>
                              </a:lnTo>
                              <a:lnTo>
                                <a:pt x="0" y="0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99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81" name=""/>
                        <p:cNvSpPr/>
                        <p:nvPr/>
                      </p:nvSpPr>
                      <p:spPr>
                        <a:xfrm>
                          <a:off x="4602960" y="3695760"/>
                          <a:ext cx="318960" cy="4158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48" h="305">
                              <a:moveTo>
                                <a:pt x="18" y="0"/>
                              </a:moveTo>
                              <a:lnTo>
                                <a:pt x="0" y="282"/>
                              </a:lnTo>
                              <a:lnTo>
                                <a:pt x="248" y="305"/>
                              </a:lnTo>
                              <a:lnTo>
                                <a:pt x="248" y="133"/>
                              </a:lnTo>
                              <a:lnTo>
                                <a:pt x="18" y="0"/>
                              </a:lnTo>
                              <a:lnTo>
                                <a:pt x="18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99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82" name=""/>
                        <p:cNvSpPr/>
                        <p:nvPr/>
                      </p:nvSpPr>
                      <p:spPr>
                        <a:xfrm>
                          <a:off x="7349760" y="4047840"/>
                          <a:ext cx="604440" cy="968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70" h="710">
                              <a:moveTo>
                                <a:pt x="60" y="11"/>
                              </a:moveTo>
                              <a:lnTo>
                                <a:pt x="0" y="173"/>
                              </a:lnTo>
                              <a:lnTo>
                                <a:pt x="0" y="491"/>
                              </a:lnTo>
                              <a:lnTo>
                                <a:pt x="64" y="670"/>
                              </a:lnTo>
                              <a:lnTo>
                                <a:pt x="158" y="710"/>
                              </a:lnTo>
                              <a:lnTo>
                                <a:pt x="347" y="685"/>
                              </a:lnTo>
                              <a:lnTo>
                                <a:pt x="424" y="598"/>
                              </a:lnTo>
                              <a:lnTo>
                                <a:pt x="470" y="236"/>
                              </a:lnTo>
                              <a:lnTo>
                                <a:pt x="413" y="0"/>
                              </a:lnTo>
                              <a:lnTo>
                                <a:pt x="409" y="126"/>
                              </a:lnTo>
                              <a:lnTo>
                                <a:pt x="413" y="222"/>
                              </a:lnTo>
                              <a:lnTo>
                                <a:pt x="272" y="251"/>
                              </a:lnTo>
                              <a:lnTo>
                                <a:pt x="87" y="213"/>
                              </a:lnTo>
                              <a:lnTo>
                                <a:pt x="107" y="318"/>
                              </a:lnTo>
                              <a:lnTo>
                                <a:pt x="251" y="362"/>
                              </a:lnTo>
                              <a:lnTo>
                                <a:pt x="409" y="338"/>
                              </a:lnTo>
                              <a:lnTo>
                                <a:pt x="386" y="478"/>
                              </a:lnTo>
                              <a:lnTo>
                                <a:pt x="292" y="516"/>
                              </a:lnTo>
                              <a:lnTo>
                                <a:pt x="103" y="496"/>
                              </a:lnTo>
                              <a:lnTo>
                                <a:pt x="112" y="556"/>
                              </a:lnTo>
                              <a:lnTo>
                                <a:pt x="254" y="603"/>
                              </a:lnTo>
                              <a:lnTo>
                                <a:pt x="363" y="594"/>
                              </a:lnTo>
                              <a:lnTo>
                                <a:pt x="292" y="656"/>
                              </a:lnTo>
                              <a:lnTo>
                                <a:pt x="110" y="670"/>
                              </a:lnTo>
                              <a:lnTo>
                                <a:pt x="30" y="503"/>
                              </a:lnTo>
                              <a:lnTo>
                                <a:pt x="30" y="213"/>
                              </a:lnTo>
                              <a:lnTo>
                                <a:pt x="76" y="106"/>
                              </a:lnTo>
                              <a:lnTo>
                                <a:pt x="219" y="115"/>
                              </a:lnTo>
                              <a:lnTo>
                                <a:pt x="84" y="73"/>
                              </a:lnTo>
                              <a:lnTo>
                                <a:pt x="60" y="11"/>
                              </a:lnTo>
                              <a:lnTo>
                                <a:pt x="60" y="11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83" name=""/>
                        <p:cNvSpPr/>
                        <p:nvPr/>
                      </p:nvSpPr>
                      <p:spPr>
                        <a:xfrm>
                          <a:off x="6127560" y="3813120"/>
                          <a:ext cx="657360" cy="471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25" h="290">
                              <a:moveTo>
                                <a:pt x="210" y="0"/>
                              </a:moveTo>
                              <a:lnTo>
                                <a:pt x="252" y="243"/>
                              </a:lnTo>
                              <a:lnTo>
                                <a:pt x="325" y="290"/>
                              </a:lnTo>
                              <a:lnTo>
                                <a:pt x="0" y="263"/>
                              </a:lnTo>
                              <a:lnTo>
                                <a:pt x="181" y="227"/>
                              </a:lnTo>
                              <a:lnTo>
                                <a:pt x="210" y="0"/>
                              </a:lnTo>
                              <a:lnTo>
                                <a:pt x="21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99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84" name=""/>
                        <p:cNvSpPr/>
                        <p:nvPr/>
                      </p:nvSpPr>
                      <p:spPr>
                        <a:xfrm>
                          <a:off x="5325840" y="3813120"/>
                          <a:ext cx="217440" cy="5130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1" h="287">
                              <a:moveTo>
                                <a:pt x="131" y="60"/>
                              </a:moveTo>
                              <a:lnTo>
                                <a:pt x="49" y="0"/>
                              </a:lnTo>
                              <a:lnTo>
                                <a:pt x="8" y="53"/>
                              </a:lnTo>
                              <a:lnTo>
                                <a:pt x="0" y="180"/>
                              </a:lnTo>
                              <a:lnTo>
                                <a:pt x="49" y="287"/>
                              </a:lnTo>
                              <a:lnTo>
                                <a:pt x="131" y="218"/>
                              </a:lnTo>
                              <a:lnTo>
                                <a:pt x="53" y="223"/>
                              </a:lnTo>
                              <a:lnTo>
                                <a:pt x="37" y="142"/>
                              </a:lnTo>
                              <a:lnTo>
                                <a:pt x="53" y="45"/>
                              </a:lnTo>
                              <a:lnTo>
                                <a:pt x="105" y="87"/>
                              </a:lnTo>
                              <a:lnTo>
                                <a:pt x="131" y="60"/>
                              </a:lnTo>
                              <a:lnTo>
                                <a:pt x="131" y="6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000000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85" name=""/>
                        <p:cNvSpPr/>
                        <p:nvPr/>
                      </p:nvSpPr>
                      <p:spPr>
                        <a:xfrm rot="184800">
                          <a:off x="7919640" y="3260520"/>
                          <a:ext cx="531000" cy="1493280"/>
                        </a:xfrm>
                        <a:prstGeom prst="rect">
                          <a:avLst/>
                        </a:prstGeom>
                        <a:blipFill rotWithShape="0">
                          <a:blip r:embed="rId5"/>
                          <a:srcRect/>
                          <a:tile tx="0" ty="0" sx="100000" sy="100000" algn="ctr"/>
                        </a:blip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86" name=""/>
                        <p:cNvSpPr/>
                        <p:nvPr/>
                      </p:nvSpPr>
                      <p:spPr>
                        <a:xfrm>
                          <a:off x="7306200" y="2602080"/>
                          <a:ext cx="1761120" cy="1032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009" h="687">
                              <a:moveTo>
                                <a:pt x="0" y="0"/>
                              </a:moveTo>
                              <a:lnTo>
                                <a:pt x="1009" y="621"/>
                              </a:lnTo>
                              <a:lnTo>
                                <a:pt x="452" y="687"/>
                              </a:lnTo>
                              <a:lnTo>
                                <a:pt x="0" y="0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blipFill rotWithShape="0">
                          <a:blip r:embed="rId6"/>
                          <a:srcRect/>
                          <a:tile tx="0" ty="0" sx="100000" sy="100000" algn="ctr"/>
                        </a:blip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87" name=""/>
                        <p:cNvSpPr/>
                        <p:nvPr/>
                      </p:nvSpPr>
                      <p:spPr>
                        <a:xfrm rot="371400">
                          <a:off x="2895120" y="2773800"/>
                          <a:ext cx="5291640" cy="10393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504" h="576">
                              <a:moveTo>
                                <a:pt x="587" y="0"/>
                              </a:moveTo>
                              <a:lnTo>
                                <a:pt x="0" y="385"/>
                              </a:lnTo>
                              <a:lnTo>
                                <a:pt x="2002" y="576"/>
                              </a:lnTo>
                              <a:lnTo>
                                <a:pt x="2504" y="106"/>
                              </a:lnTo>
                              <a:lnTo>
                                <a:pt x="587" y="0"/>
                              </a:lnTo>
                              <a:lnTo>
                                <a:pt x="587" y="0"/>
                              </a:lnTo>
                              <a:close/>
                            </a:path>
                          </a:pathLst>
                        </a:custGeom>
                        <a:blipFill rotWithShape="0">
                          <a:blip r:embed="rId7"/>
                          <a:srcRect/>
                          <a:tile tx="0" ty="0" sx="100000" sy="100000" algn="ctr"/>
                        </a:blipFill>
                        <a:ln w="1908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788" name=""/>
                      <p:cNvGrpSpPr/>
                      <p:nvPr/>
                    </p:nvGrpSpPr>
                    <p:grpSpPr>
                      <a:xfrm>
                        <a:off x="5166360" y="3993120"/>
                        <a:ext cx="516960" cy="644400"/>
                        <a:chOff x="5166360" y="3993120"/>
                        <a:chExt cx="516960" cy="644400"/>
                      </a:xfrm>
                    </p:grpSpPr>
                    <p:sp>
                      <p:nvSpPr>
                        <p:cNvPr id="789" name=""/>
                        <p:cNvSpPr/>
                        <p:nvPr/>
                      </p:nvSpPr>
                      <p:spPr>
                        <a:xfrm>
                          <a:off x="5166360" y="3993120"/>
                          <a:ext cx="124560" cy="440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2" h="624">
                              <a:moveTo>
                                <a:pt x="0" y="390"/>
                              </a:moveTo>
                              <a:lnTo>
                                <a:pt x="419" y="624"/>
                              </a:lnTo>
                              <a:lnTo>
                                <a:pt x="422" y="263"/>
                              </a:lnTo>
                              <a:lnTo>
                                <a:pt x="221" y="0"/>
                              </a:lnTo>
                              <a:lnTo>
                                <a:pt x="31" y="141"/>
                              </a:lnTo>
                              <a:lnTo>
                                <a:pt x="0" y="390"/>
                              </a:lnTo>
                              <a:lnTo>
                                <a:pt x="0" y="390"/>
                              </a:lnTo>
                              <a:close/>
                            </a:path>
                          </a:pathLst>
                        </a:custGeom>
                        <a:blipFill rotWithShape="0">
                          <a:blip r:embed="rId8"/>
                          <a:srcRect/>
                          <a:tile tx="0" ty="0" sx="100000" sy="100000" algn="ctr"/>
                        </a:blip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90" name=""/>
                        <p:cNvSpPr/>
                        <p:nvPr/>
                      </p:nvSpPr>
                      <p:spPr>
                        <a:xfrm flipH="1">
                          <a:off x="5454360" y="4168800"/>
                          <a:ext cx="228960" cy="4687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22" h="624">
                              <a:moveTo>
                                <a:pt x="0" y="390"/>
                              </a:moveTo>
                              <a:lnTo>
                                <a:pt x="419" y="624"/>
                              </a:lnTo>
                              <a:lnTo>
                                <a:pt x="422" y="263"/>
                              </a:lnTo>
                              <a:lnTo>
                                <a:pt x="221" y="0"/>
                              </a:lnTo>
                              <a:lnTo>
                                <a:pt x="31" y="141"/>
                              </a:lnTo>
                              <a:lnTo>
                                <a:pt x="0" y="390"/>
                              </a:lnTo>
                              <a:lnTo>
                                <a:pt x="0" y="390"/>
                              </a:lnTo>
                              <a:close/>
                            </a:path>
                          </a:pathLst>
                        </a:custGeom>
                        <a:blipFill rotWithShape="0">
                          <a:blip r:embed="rId9"/>
                          <a:srcRect/>
                          <a:tile tx="0" ty="0" sx="100000" sy="100000" algn="ctr"/>
                        </a:blipFill>
                        <a:ln w="93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791" name=""/>
                    <p:cNvGrpSpPr/>
                    <p:nvPr/>
                  </p:nvGrpSpPr>
                  <p:grpSpPr>
                    <a:xfrm>
                      <a:off x="4721040" y="936720"/>
                      <a:ext cx="2347920" cy="1185120"/>
                      <a:chOff x="4721040" y="936720"/>
                      <a:chExt cx="2347920" cy="1185120"/>
                    </a:xfrm>
                  </p:grpSpPr>
                  <p:grpSp>
                    <p:nvGrpSpPr>
                      <p:cNvPr id="792" name=""/>
                      <p:cNvGrpSpPr/>
                      <p:nvPr/>
                    </p:nvGrpSpPr>
                    <p:grpSpPr>
                      <a:xfrm>
                        <a:off x="4721040" y="936720"/>
                        <a:ext cx="2347920" cy="1084320"/>
                        <a:chOff x="4721040" y="936720"/>
                        <a:chExt cx="2347920" cy="1084320"/>
                      </a:xfrm>
                    </p:grpSpPr>
                    <p:sp>
                      <p:nvSpPr>
                        <p:cNvPr id="793" name=""/>
                        <p:cNvSpPr/>
                        <p:nvPr/>
                      </p:nvSpPr>
                      <p:spPr>
                        <a:xfrm>
                          <a:off x="4721040" y="937440"/>
                          <a:ext cx="1716840" cy="4651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244" h="405">
                              <a:moveTo>
                                <a:pt x="0" y="405"/>
                              </a:moveTo>
                              <a:lnTo>
                                <a:pt x="7" y="167"/>
                              </a:lnTo>
                              <a:lnTo>
                                <a:pt x="159" y="152"/>
                              </a:lnTo>
                              <a:lnTo>
                                <a:pt x="239" y="0"/>
                              </a:lnTo>
                              <a:lnTo>
                                <a:pt x="1244" y="23"/>
                              </a:lnTo>
                              <a:lnTo>
                                <a:pt x="500" y="145"/>
                              </a:lnTo>
                              <a:lnTo>
                                <a:pt x="274" y="285"/>
                              </a:lnTo>
                              <a:lnTo>
                                <a:pt x="66" y="252"/>
                              </a:lnTo>
                              <a:lnTo>
                                <a:pt x="0" y="405"/>
                              </a:lnTo>
                              <a:lnTo>
                                <a:pt x="0" y="405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e3bca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794" name=""/>
                        <p:cNvGrpSpPr/>
                        <p:nvPr/>
                      </p:nvGrpSpPr>
                      <p:grpSpPr>
                        <a:xfrm>
                          <a:off x="4721040" y="936720"/>
                          <a:ext cx="2347920" cy="1084320"/>
                          <a:chOff x="4721040" y="936720"/>
                          <a:chExt cx="2347920" cy="1084320"/>
                        </a:xfrm>
                      </p:grpSpPr>
                      <p:sp>
                        <p:nvSpPr>
                          <p:cNvPr id="795" name=""/>
                          <p:cNvSpPr/>
                          <p:nvPr/>
                        </p:nvSpPr>
                        <p:spPr>
                          <a:xfrm>
                            <a:off x="4828320" y="1246680"/>
                            <a:ext cx="2240640" cy="7743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702" h="950">
                                <a:moveTo>
                                  <a:pt x="116" y="656"/>
                                </a:moveTo>
                                <a:lnTo>
                                  <a:pt x="1312" y="705"/>
                                </a:lnTo>
                                <a:lnTo>
                                  <a:pt x="1321" y="645"/>
                                </a:lnTo>
                                <a:lnTo>
                                  <a:pt x="1534" y="578"/>
                                </a:lnTo>
                                <a:lnTo>
                                  <a:pt x="1547" y="278"/>
                                </a:lnTo>
                                <a:lnTo>
                                  <a:pt x="1330" y="240"/>
                                </a:lnTo>
                                <a:lnTo>
                                  <a:pt x="1330" y="0"/>
                                </a:lnTo>
                                <a:lnTo>
                                  <a:pt x="1410" y="189"/>
                                </a:lnTo>
                                <a:lnTo>
                                  <a:pt x="1631" y="255"/>
                                </a:lnTo>
                                <a:lnTo>
                                  <a:pt x="1702" y="750"/>
                                </a:lnTo>
                                <a:lnTo>
                                  <a:pt x="1559" y="738"/>
                                </a:lnTo>
                                <a:lnTo>
                                  <a:pt x="1550" y="950"/>
                                </a:lnTo>
                                <a:lnTo>
                                  <a:pt x="187" y="872"/>
                                </a:lnTo>
                                <a:lnTo>
                                  <a:pt x="0" y="578"/>
                                </a:lnTo>
                                <a:lnTo>
                                  <a:pt x="77" y="572"/>
                                </a:lnTo>
                                <a:lnTo>
                                  <a:pt x="116" y="656"/>
                                </a:lnTo>
                                <a:lnTo>
                                  <a:pt x="116" y="656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bc8b73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796" name=""/>
                          <p:cNvSpPr/>
                          <p:nvPr/>
                        </p:nvSpPr>
                        <p:spPr>
                          <a:xfrm>
                            <a:off x="4721040" y="936720"/>
                            <a:ext cx="1657080" cy="6868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198" h="481">
                                <a:moveTo>
                                  <a:pt x="1198" y="60"/>
                                </a:moveTo>
                                <a:lnTo>
                                  <a:pt x="198" y="0"/>
                                </a:lnTo>
                                <a:lnTo>
                                  <a:pt x="185" y="98"/>
                                </a:lnTo>
                                <a:lnTo>
                                  <a:pt x="102" y="158"/>
                                </a:lnTo>
                                <a:lnTo>
                                  <a:pt x="0" y="158"/>
                                </a:lnTo>
                                <a:lnTo>
                                  <a:pt x="13" y="481"/>
                                </a:lnTo>
                                <a:lnTo>
                                  <a:pt x="43" y="227"/>
                                </a:lnTo>
                                <a:lnTo>
                                  <a:pt x="167" y="227"/>
                                </a:lnTo>
                                <a:lnTo>
                                  <a:pt x="198" y="181"/>
                                </a:lnTo>
                                <a:lnTo>
                                  <a:pt x="324" y="60"/>
                                </a:lnTo>
                                <a:lnTo>
                                  <a:pt x="1198" y="60"/>
                                </a:lnTo>
                                <a:lnTo>
                                  <a:pt x="1198" y="6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7c2900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797" name=""/>
                      <p:cNvSpPr/>
                      <p:nvPr/>
                    </p:nvSpPr>
                    <p:spPr>
                      <a:xfrm>
                        <a:off x="4802400" y="936720"/>
                        <a:ext cx="2195640" cy="1185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69" h="917">
                            <a:moveTo>
                              <a:pt x="582" y="81"/>
                            </a:moveTo>
                            <a:lnTo>
                              <a:pt x="1394" y="0"/>
                            </a:lnTo>
                            <a:lnTo>
                              <a:pt x="1506" y="67"/>
                            </a:lnTo>
                            <a:lnTo>
                              <a:pt x="1479" y="174"/>
                            </a:lnTo>
                            <a:lnTo>
                              <a:pt x="1538" y="265"/>
                            </a:lnTo>
                            <a:lnTo>
                              <a:pt x="1698" y="281"/>
                            </a:lnTo>
                            <a:lnTo>
                              <a:pt x="1769" y="421"/>
                            </a:lnTo>
                            <a:lnTo>
                              <a:pt x="1743" y="735"/>
                            </a:lnTo>
                            <a:lnTo>
                              <a:pt x="1638" y="753"/>
                            </a:lnTo>
                            <a:lnTo>
                              <a:pt x="1525" y="820"/>
                            </a:lnTo>
                            <a:lnTo>
                              <a:pt x="1511" y="917"/>
                            </a:lnTo>
                            <a:lnTo>
                              <a:pt x="158" y="835"/>
                            </a:lnTo>
                            <a:lnTo>
                              <a:pt x="139" y="753"/>
                            </a:lnTo>
                            <a:lnTo>
                              <a:pt x="0" y="621"/>
                            </a:lnTo>
                            <a:lnTo>
                              <a:pt x="125" y="661"/>
                            </a:lnTo>
                            <a:lnTo>
                              <a:pt x="231" y="753"/>
                            </a:lnTo>
                            <a:lnTo>
                              <a:pt x="1420" y="820"/>
                            </a:lnTo>
                            <a:lnTo>
                              <a:pt x="1426" y="728"/>
                            </a:lnTo>
                            <a:lnTo>
                              <a:pt x="1657" y="670"/>
                            </a:lnTo>
                            <a:lnTo>
                              <a:pt x="1657" y="323"/>
                            </a:lnTo>
                            <a:lnTo>
                              <a:pt x="1572" y="323"/>
                            </a:lnTo>
                            <a:lnTo>
                              <a:pt x="1440" y="305"/>
                            </a:lnTo>
                            <a:lnTo>
                              <a:pt x="1413" y="67"/>
                            </a:lnTo>
                            <a:lnTo>
                              <a:pt x="582" y="81"/>
                            </a:lnTo>
                            <a:lnTo>
                              <a:pt x="582" y="81"/>
                            </a:lnTo>
                            <a:close/>
                          </a:path>
                        </a:pathLst>
                      </a:custGeom>
                      <a:solidFill>
                        <a:srgbClr val="7c29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798" name=""/>
                  <p:cNvSpPr/>
                  <p:nvPr/>
                </p:nvSpPr>
                <p:spPr>
                  <a:xfrm rot="5400000">
                    <a:off x="3937680" y="3995640"/>
                    <a:ext cx="1067760" cy="91080"/>
                  </a:xfrm>
                  <a:prstGeom prst="rect">
                    <a:avLst/>
                  </a:prstGeom>
                  <a:solidFill>
                    <a:srgbClr val="8d5c4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4280" bIns="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99" name=""/>
                <p:cNvSpPr/>
                <p:nvPr/>
              </p:nvSpPr>
              <p:spPr>
                <a:xfrm rot="16192200">
                  <a:off x="3913560" y="4017240"/>
                  <a:ext cx="1114200" cy="91080"/>
                </a:xfrm>
                <a:custGeom>
                  <a:avLst/>
                  <a:gdLst/>
                  <a:ahLst/>
                  <a:rect l="l" t="t" r="r" b="b"/>
                  <a:pathLst>
                    <a:path w="448" h="154">
                      <a:moveTo>
                        <a:pt x="0" y="0"/>
                      </a:moveTo>
                      <a:lnTo>
                        <a:pt x="50" y="154"/>
                      </a:lnTo>
                      <a:lnTo>
                        <a:pt x="448" y="136"/>
                      </a:lnTo>
                      <a:lnTo>
                        <a:pt x="251" y="9"/>
                      </a:lnTo>
                      <a:lnTo>
                        <a:pt x="306" y="100"/>
                      </a:lnTo>
                      <a:lnTo>
                        <a:pt x="187" y="107"/>
                      </a:lnTo>
                      <a:lnTo>
                        <a:pt x="89" y="38"/>
                      </a:lnTo>
                      <a:lnTo>
                        <a:pt x="101" y="112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0" name=""/>
              <p:cNvGrpSpPr/>
              <p:nvPr/>
            </p:nvGrpSpPr>
            <p:grpSpPr>
              <a:xfrm>
                <a:off x="6063120" y="3784320"/>
                <a:ext cx="315360" cy="1360800"/>
                <a:chOff x="6063120" y="3784320"/>
                <a:chExt cx="315360" cy="1360800"/>
              </a:xfrm>
            </p:grpSpPr>
            <p:sp>
              <p:nvSpPr>
                <p:cNvPr id="801" name=""/>
                <p:cNvSpPr/>
                <p:nvPr/>
              </p:nvSpPr>
              <p:spPr>
                <a:xfrm flipH="1">
                  <a:off x="6063120" y="3872520"/>
                  <a:ext cx="315360" cy="1261440"/>
                </a:xfrm>
                <a:custGeom>
                  <a:avLst/>
                  <a:gdLst/>
                  <a:ahLst/>
                  <a:rect l="l" t="t" r="r" b="b"/>
                  <a:pathLst>
                    <a:path w="581" h="643">
                      <a:moveTo>
                        <a:pt x="372" y="0"/>
                      </a:moveTo>
                      <a:lnTo>
                        <a:pt x="226" y="89"/>
                      </a:lnTo>
                      <a:lnTo>
                        <a:pt x="289" y="338"/>
                      </a:lnTo>
                      <a:lnTo>
                        <a:pt x="164" y="621"/>
                      </a:lnTo>
                      <a:lnTo>
                        <a:pt x="0" y="516"/>
                      </a:lnTo>
                      <a:lnTo>
                        <a:pt x="57" y="639"/>
                      </a:lnTo>
                      <a:lnTo>
                        <a:pt x="230" y="632"/>
                      </a:lnTo>
                      <a:lnTo>
                        <a:pt x="372" y="643"/>
                      </a:lnTo>
                      <a:lnTo>
                        <a:pt x="581" y="572"/>
                      </a:lnTo>
                      <a:lnTo>
                        <a:pt x="363" y="512"/>
                      </a:lnTo>
                      <a:lnTo>
                        <a:pt x="394" y="200"/>
                      </a:lnTo>
                      <a:lnTo>
                        <a:pt x="372" y="0"/>
                      </a:lnTo>
                      <a:lnTo>
                        <a:pt x="372" y="0"/>
                      </a:lnTo>
                      <a:close/>
                    </a:path>
                  </a:pathLst>
                </a:custGeom>
                <a:solidFill>
                  <a:srgbClr val="8b675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 flipH="1">
                  <a:off x="6162480" y="3784320"/>
                  <a:ext cx="30960" cy="1360800"/>
                </a:xfrm>
                <a:custGeom>
                  <a:avLst/>
                  <a:gdLst/>
                  <a:ahLst/>
                  <a:rect l="l" t="t" r="r" b="b"/>
                  <a:pathLst>
                    <a:path w="53" h="506">
                      <a:moveTo>
                        <a:pt x="37" y="0"/>
                      </a:moveTo>
                      <a:lnTo>
                        <a:pt x="53" y="154"/>
                      </a:lnTo>
                      <a:lnTo>
                        <a:pt x="41" y="410"/>
                      </a:lnTo>
                      <a:lnTo>
                        <a:pt x="3" y="506"/>
                      </a:lnTo>
                      <a:lnTo>
                        <a:pt x="0" y="401"/>
                      </a:lnTo>
                      <a:lnTo>
                        <a:pt x="18" y="145"/>
                      </a:lnTo>
                      <a:lnTo>
                        <a:pt x="37" y="0"/>
                      </a:lnTo>
                      <a:lnTo>
                        <a:pt x="3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803" name=""/>
          <p:cNvSpPr/>
          <p:nvPr/>
        </p:nvSpPr>
        <p:spPr>
          <a:xfrm>
            <a:off x="228600" y="388620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28600" y="403848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w many people in the USA are raising llam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5" name="" descr=""/>
          <p:cNvPicPr/>
          <p:nvPr/>
        </p:nvPicPr>
        <p:blipFill>
          <a:blip r:embed="rId10"/>
          <a:stretch/>
        </p:blipFill>
        <p:spPr>
          <a:xfrm>
            <a:off x="1752480" y="4343400"/>
            <a:ext cx="662040" cy="838080"/>
          </a:xfrm>
          <a:prstGeom prst="rect">
            <a:avLst/>
          </a:prstGeom>
          <a:ln w="0">
            <a:noFill/>
          </a:ln>
        </p:spPr>
      </p:pic>
      <p:sp>
        <p:nvSpPr>
          <p:cNvPr id="806" name=""/>
          <p:cNvSpPr/>
          <p:nvPr/>
        </p:nvSpPr>
        <p:spPr>
          <a:xfrm>
            <a:off x="990720" y="51814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alpac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7" name="" descr=""/>
          <p:cNvPicPr/>
          <p:nvPr/>
        </p:nvPicPr>
        <p:blipFill>
          <a:blip r:embed="rId11">
            <a:alphaModFix amt="50000"/>
          </a:blip>
          <a:stretch/>
        </p:blipFill>
        <p:spPr>
          <a:xfrm>
            <a:off x="380880" y="4800600"/>
            <a:ext cx="600120" cy="838080"/>
          </a:xfrm>
          <a:prstGeom prst="rect">
            <a:avLst/>
          </a:prstGeom>
          <a:ln w="0">
            <a:noFill/>
          </a:ln>
        </p:spPr>
      </p:pic>
      <p:pic>
        <p:nvPicPr>
          <p:cNvPr id="808" name="" descr=""/>
          <p:cNvPicPr/>
          <p:nvPr/>
        </p:nvPicPr>
        <p:blipFill>
          <a:blip r:embed="rId12"/>
          <a:stretch/>
        </p:blipFill>
        <p:spPr>
          <a:xfrm>
            <a:off x="914400" y="3276720"/>
            <a:ext cx="401760" cy="571320"/>
          </a:xfrm>
          <a:prstGeom prst="rect">
            <a:avLst/>
          </a:prstGeom>
          <a:ln w="0">
            <a:noFill/>
          </a:ln>
        </p:spPr>
      </p:pic>
      <p:pic>
        <p:nvPicPr>
          <p:cNvPr id="809" name="" descr=""/>
          <p:cNvPicPr/>
          <p:nvPr/>
        </p:nvPicPr>
        <p:blipFill>
          <a:blip r:embed="rId13"/>
          <a:stretch/>
        </p:blipFill>
        <p:spPr>
          <a:xfrm>
            <a:off x="1676520" y="2895480"/>
            <a:ext cx="347400" cy="495360"/>
          </a:xfrm>
          <a:prstGeom prst="rect">
            <a:avLst/>
          </a:prstGeom>
          <a:ln w="0">
            <a:noFill/>
          </a:ln>
        </p:spPr>
      </p:pic>
      <p:pic>
        <p:nvPicPr>
          <p:cNvPr id="810" name="" descr=""/>
          <p:cNvPicPr/>
          <p:nvPr/>
        </p:nvPicPr>
        <p:blipFill>
          <a:blip r:embed="rId14"/>
          <a:stretch/>
        </p:blipFill>
        <p:spPr>
          <a:xfrm>
            <a:off x="1523880" y="3124080"/>
            <a:ext cx="561960" cy="800280"/>
          </a:xfrm>
          <a:prstGeom prst="rect">
            <a:avLst/>
          </a:prstGeom>
          <a:ln w="0">
            <a:noFill/>
          </a:ln>
        </p:spPr>
      </p:pic>
      <p:pic>
        <p:nvPicPr>
          <p:cNvPr id="811" name="" descr=""/>
          <p:cNvPicPr/>
          <p:nvPr/>
        </p:nvPicPr>
        <p:blipFill>
          <a:blip r:embed="rId15"/>
          <a:stretch/>
        </p:blipFill>
        <p:spPr>
          <a:xfrm>
            <a:off x="6477120" y="3886200"/>
            <a:ext cx="1571400" cy="1932120"/>
          </a:xfrm>
          <a:prstGeom prst="rect">
            <a:avLst/>
          </a:prstGeom>
          <a:ln w="0">
            <a:noFill/>
          </a:ln>
        </p:spPr>
      </p:pic>
      <p:pic>
        <p:nvPicPr>
          <p:cNvPr id="812" name="j0141063" descr=""/>
          <p:cNvPicPr/>
          <p:nvPr/>
        </p:nvPicPr>
        <p:blipFill>
          <a:blip r:embed="rId16"/>
          <a:stretch/>
        </p:blipFill>
        <p:spPr>
          <a:xfrm>
            <a:off x="7238880" y="1066680"/>
            <a:ext cx="1649520" cy="152424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380880"/>
            <a:ext cx="2643120" cy="2459160"/>
          </a:xfrm>
          <a:prstGeom prst="rect">
            <a:avLst/>
          </a:prstGeom>
          <a:ln w="0">
            <a:noFill/>
          </a:ln>
        </p:spPr>
      </p:pic>
      <p:grpSp>
        <p:nvGrpSpPr>
          <p:cNvPr id="814" name=""/>
          <p:cNvGrpSpPr/>
          <p:nvPr/>
        </p:nvGrpSpPr>
        <p:grpSpPr>
          <a:xfrm>
            <a:off x="3809880" y="1523880"/>
            <a:ext cx="4800600" cy="3048120"/>
            <a:chOff x="3809880" y="1523880"/>
            <a:chExt cx="4800600" cy="3048120"/>
          </a:xfrm>
        </p:grpSpPr>
        <p:grpSp>
          <p:nvGrpSpPr>
            <p:cNvPr id="815" name=""/>
            <p:cNvGrpSpPr/>
            <p:nvPr/>
          </p:nvGrpSpPr>
          <p:grpSpPr>
            <a:xfrm>
              <a:off x="3809880" y="1523880"/>
              <a:ext cx="4800600" cy="3048120"/>
              <a:chOff x="3809880" y="1523880"/>
              <a:chExt cx="4800600" cy="3048120"/>
            </a:xfrm>
          </p:grpSpPr>
          <p:grpSp>
            <p:nvGrpSpPr>
              <p:cNvPr id="816" name=""/>
              <p:cNvGrpSpPr/>
              <p:nvPr/>
            </p:nvGrpSpPr>
            <p:grpSpPr>
              <a:xfrm>
                <a:off x="3809880" y="1523880"/>
                <a:ext cx="4800600" cy="3048120"/>
                <a:chOff x="3809880" y="1523880"/>
                <a:chExt cx="4800600" cy="3048120"/>
              </a:xfrm>
            </p:grpSpPr>
            <p:grpSp>
              <p:nvGrpSpPr>
                <p:cNvPr id="817" name=""/>
                <p:cNvGrpSpPr/>
                <p:nvPr/>
              </p:nvGrpSpPr>
              <p:grpSpPr>
                <a:xfrm>
                  <a:off x="3809880" y="1523880"/>
                  <a:ext cx="4800600" cy="3048120"/>
                  <a:chOff x="3809880" y="1523880"/>
                  <a:chExt cx="4800600" cy="3048120"/>
                </a:xfrm>
              </p:grpSpPr>
              <p:grpSp>
                <p:nvGrpSpPr>
                  <p:cNvPr id="818" name=""/>
                  <p:cNvGrpSpPr/>
                  <p:nvPr/>
                </p:nvGrpSpPr>
                <p:grpSpPr>
                  <a:xfrm>
                    <a:off x="3809880" y="1523880"/>
                    <a:ext cx="4800600" cy="3048120"/>
                    <a:chOff x="3809880" y="1523880"/>
                    <a:chExt cx="4800600" cy="3048120"/>
                  </a:xfrm>
                </p:grpSpPr>
                <p:sp>
                  <p:nvSpPr>
                    <p:cNvPr id="819" name=""/>
                    <p:cNvSpPr/>
                    <p:nvPr/>
                  </p:nvSpPr>
                  <p:spPr>
                    <a:xfrm>
                      <a:off x="3809880" y="1523880"/>
                      <a:ext cx="4800600" cy="304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762" h="4992">
                          <a:moveTo>
                            <a:pt x="7100" y="109"/>
                          </a:moveTo>
                          <a:lnTo>
                            <a:pt x="7508" y="0"/>
                          </a:lnTo>
                          <a:lnTo>
                            <a:pt x="7520" y="35"/>
                          </a:lnTo>
                          <a:lnTo>
                            <a:pt x="7516" y="58"/>
                          </a:lnTo>
                          <a:lnTo>
                            <a:pt x="7496" y="82"/>
                          </a:lnTo>
                          <a:lnTo>
                            <a:pt x="7468" y="102"/>
                          </a:lnTo>
                          <a:lnTo>
                            <a:pt x="7433" y="121"/>
                          </a:lnTo>
                          <a:lnTo>
                            <a:pt x="7401" y="141"/>
                          </a:lnTo>
                          <a:lnTo>
                            <a:pt x="7377" y="168"/>
                          </a:lnTo>
                          <a:lnTo>
                            <a:pt x="7361" y="199"/>
                          </a:lnTo>
                          <a:lnTo>
                            <a:pt x="7353" y="211"/>
                          </a:lnTo>
                          <a:lnTo>
                            <a:pt x="7342" y="223"/>
                          </a:lnTo>
                          <a:lnTo>
                            <a:pt x="7338" y="234"/>
                          </a:lnTo>
                          <a:lnTo>
                            <a:pt x="7338" y="246"/>
                          </a:lnTo>
                          <a:lnTo>
                            <a:pt x="7365" y="242"/>
                          </a:lnTo>
                          <a:lnTo>
                            <a:pt x="7401" y="238"/>
                          </a:lnTo>
                          <a:lnTo>
                            <a:pt x="7433" y="234"/>
                          </a:lnTo>
                          <a:lnTo>
                            <a:pt x="7468" y="227"/>
                          </a:lnTo>
                          <a:lnTo>
                            <a:pt x="7504" y="223"/>
                          </a:lnTo>
                          <a:lnTo>
                            <a:pt x="7536" y="227"/>
                          </a:lnTo>
                          <a:lnTo>
                            <a:pt x="7572" y="231"/>
                          </a:lnTo>
                          <a:lnTo>
                            <a:pt x="7603" y="246"/>
                          </a:lnTo>
                          <a:lnTo>
                            <a:pt x="7595" y="277"/>
                          </a:lnTo>
                          <a:lnTo>
                            <a:pt x="7576" y="305"/>
                          </a:lnTo>
                          <a:lnTo>
                            <a:pt x="7552" y="328"/>
                          </a:lnTo>
                          <a:lnTo>
                            <a:pt x="7524" y="348"/>
                          </a:lnTo>
                          <a:lnTo>
                            <a:pt x="7492" y="367"/>
                          </a:lnTo>
                          <a:lnTo>
                            <a:pt x="7465" y="387"/>
                          </a:lnTo>
                          <a:lnTo>
                            <a:pt x="7437" y="406"/>
                          </a:lnTo>
                          <a:lnTo>
                            <a:pt x="7417" y="426"/>
                          </a:lnTo>
                          <a:lnTo>
                            <a:pt x="7441" y="434"/>
                          </a:lnTo>
                          <a:lnTo>
                            <a:pt x="7472" y="438"/>
                          </a:lnTo>
                          <a:lnTo>
                            <a:pt x="7500" y="442"/>
                          </a:lnTo>
                          <a:lnTo>
                            <a:pt x="7532" y="446"/>
                          </a:lnTo>
                          <a:lnTo>
                            <a:pt x="7564" y="453"/>
                          </a:lnTo>
                          <a:lnTo>
                            <a:pt x="7595" y="461"/>
                          </a:lnTo>
                          <a:lnTo>
                            <a:pt x="7623" y="473"/>
                          </a:lnTo>
                          <a:lnTo>
                            <a:pt x="7647" y="492"/>
                          </a:lnTo>
                          <a:lnTo>
                            <a:pt x="7631" y="512"/>
                          </a:lnTo>
                          <a:lnTo>
                            <a:pt x="7615" y="528"/>
                          </a:lnTo>
                          <a:lnTo>
                            <a:pt x="7595" y="543"/>
                          </a:lnTo>
                          <a:lnTo>
                            <a:pt x="7576" y="555"/>
                          </a:lnTo>
                          <a:lnTo>
                            <a:pt x="7552" y="567"/>
                          </a:lnTo>
                          <a:lnTo>
                            <a:pt x="7532" y="578"/>
                          </a:lnTo>
                          <a:lnTo>
                            <a:pt x="7508" y="586"/>
                          </a:lnTo>
                          <a:lnTo>
                            <a:pt x="7488" y="594"/>
                          </a:lnTo>
                          <a:lnTo>
                            <a:pt x="7508" y="610"/>
                          </a:lnTo>
                          <a:lnTo>
                            <a:pt x="7532" y="618"/>
                          </a:lnTo>
                          <a:lnTo>
                            <a:pt x="7556" y="621"/>
                          </a:lnTo>
                          <a:lnTo>
                            <a:pt x="7580" y="629"/>
                          </a:lnTo>
                          <a:lnTo>
                            <a:pt x="7580" y="657"/>
                          </a:lnTo>
                          <a:lnTo>
                            <a:pt x="7576" y="680"/>
                          </a:lnTo>
                          <a:lnTo>
                            <a:pt x="7560" y="696"/>
                          </a:lnTo>
                          <a:lnTo>
                            <a:pt x="7540" y="707"/>
                          </a:lnTo>
                          <a:lnTo>
                            <a:pt x="7516" y="719"/>
                          </a:lnTo>
                          <a:lnTo>
                            <a:pt x="7492" y="731"/>
                          </a:lnTo>
                          <a:lnTo>
                            <a:pt x="7468" y="747"/>
                          </a:lnTo>
                          <a:lnTo>
                            <a:pt x="7453" y="766"/>
                          </a:lnTo>
                          <a:lnTo>
                            <a:pt x="7480" y="774"/>
                          </a:lnTo>
                          <a:lnTo>
                            <a:pt x="7512" y="782"/>
                          </a:lnTo>
                          <a:lnTo>
                            <a:pt x="7540" y="790"/>
                          </a:lnTo>
                          <a:lnTo>
                            <a:pt x="7572" y="793"/>
                          </a:lnTo>
                          <a:lnTo>
                            <a:pt x="7599" y="797"/>
                          </a:lnTo>
                          <a:lnTo>
                            <a:pt x="7631" y="801"/>
                          </a:lnTo>
                          <a:lnTo>
                            <a:pt x="7663" y="805"/>
                          </a:lnTo>
                          <a:lnTo>
                            <a:pt x="7695" y="809"/>
                          </a:lnTo>
                          <a:lnTo>
                            <a:pt x="7691" y="844"/>
                          </a:lnTo>
                          <a:lnTo>
                            <a:pt x="7675" y="872"/>
                          </a:lnTo>
                          <a:lnTo>
                            <a:pt x="7651" y="895"/>
                          </a:lnTo>
                          <a:lnTo>
                            <a:pt x="7615" y="911"/>
                          </a:lnTo>
                          <a:lnTo>
                            <a:pt x="7580" y="926"/>
                          </a:lnTo>
                          <a:lnTo>
                            <a:pt x="7544" y="946"/>
                          </a:lnTo>
                          <a:lnTo>
                            <a:pt x="7512" y="965"/>
                          </a:lnTo>
                          <a:lnTo>
                            <a:pt x="7488" y="989"/>
                          </a:lnTo>
                          <a:lnTo>
                            <a:pt x="7512" y="993"/>
                          </a:lnTo>
                          <a:lnTo>
                            <a:pt x="7544" y="997"/>
                          </a:lnTo>
                          <a:lnTo>
                            <a:pt x="7572" y="997"/>
                          </a:lnTo>
                          <a:lnTo>
                            <a:pt x="7607" y="997"/>
                          </a:lnTo>
                          <a:lnTo>
                            <a:pt x="7639" y="1001"/>
                          </a:lnTo>
                          <a:lnTo>
                            <a:pt x="7667" y="1008"/>
                          </a:lnTo>
                          <a:lnTo>
                            <a:pt x="7695" y="1024"/>
                          </a:lnTo>
                          <a:lnTo>
                            <a:pt x="7714" y="1048"/>
                          </a:lnTo>
                          <a:lnTo>
                            <a:pt x="7695" y="1075"/>
                          </a:lnTo>
                          <a:lnTo>
                            <a:pt x="7667" y="1102"/>
                          </a:lnTo>
                          <a:lnTo>
                            <a:pt x="7635" y="1122"/>
                          </a:lnTo>
                          <a:lnTo>
                            <a:pt x="7603" y="1141"/>
                          </a:lnTo>
                          <a:lnTo>
                            <a:pt x="7564" y="1165"/>
                          </a:lnTo>
                          <a:lnTo>
                            <a:pt x="7528" y="1184"/>
                          </a:lnTo>
                          <a:lnTo>
                            <a:pt x="7496" y="1212"/>
                          </a:lnTo>
                          <a:lnTo>
                            <a:pt x="7465" y="1239"/>
                          </a:lnTo>
                          <a:lnTo>
                            <a:pt x="7488" y="1243"/>
                          </a:lnTo>
                          <a:lnTo>
                            <a:pt x="7516" y="1239"/>
                          </a:lnTo>
                          <a:lnTo>
                            <a:pt x="7544" y="1239"/>
                          </a:lnTo>
                          <a:lnTo>
                            <a:pt x="7568" y="1235"/>
                          </a:lnTo>
                          <a:lnTo>
                            <a:pt x="7595" y="1239"/>
                          </a:lnTo>
                          <a:lnTo>
                            <a:pt x="7619" y="1247"/>
                          </a:lnTo>
                          <a:lnTo>
                            <a:pt x="7639" y="1259"/>
                          </a:lnTo>
                          <a:lnTo>
                            <a:pt x="7659" y="1282"/>
                          </a:lnTo>
                          <a:lnTo>
                            <a:pt x="7651" y="1306"/>
                          </a:lnTo>
                          <a:lnTo>
                            <a:pt x="7635" y="1329"/>
                          </a:lnTo>
                          <a:lnTo>
                            <a:pt x="7615" y="1345"/>
                          </a:lnTo>
                          <a:lnTo>
                            <a:pt x="7591" y="1360"/>
                          </a:lnTo>
                          <a:lnTo>
                            <a:pt x="7568" y="1376"/>
                          </a:lnTo>
                          <a:lnTo>
                            <a:pt x="7544" y="1392"/>
                          </a:lnTo>
                          <a:lnTo>
                            <a:pt x="7524" y="1411"/>
                          </a:lnTo>
                          <a:lnTo>
                            <a:pt x="7508" y="1431"/>
                          </a:lnTo>
                          <a:lnTo>
                            <a:pt x="7762" y="1485"/>
                          </a:lnTo>
                          <a:lnTo>
                            <a:pt x="7746" y="1521"/>
                          </a:lnTo>
                          <a:lnTo>
                            <a:pt x="7722" y="1544"/>
                          </a:lnTo>
                          <a:lnTo>
                            <a:pt x="7691" y="1560"/>
                          </a:lnTo>
                          <a:lnTo>
                            <a:pt x="7655" y="1571"/>
                          </a:lnTo>
                          <a:lnTo>
                            <a:pt x="7615" y="1579"/>
                          </a:lnTo>
                          <a:lnTo>
                            <a:pt x="7580" y="1595"/>
                          </a:lnTo>
                          <a:lnTo>
                            <a:pt x="7548" y="1614"/>
                          </a:lnTo>
                          <a:lnTo>
                            <a:pt x="7520" y="1646"/>
                          </a:lnTo>
                          <a:lnTo>
                            <a:pt x="7536" y="1657"/>
                          </a:lnTo>
                          <a:lnTo>
                            <a:pt x="7560" y="1669"/>
                          </a:lnTo>
                          <a:lnTo>
                            <a:pt x="7587" y="1681"/>
                          </a:lnTo>
                          <a:lnTo>
                            <a:pt x="7615" y="1693"/>
                          </a:lnTo>
                          <a:lnTo>
                            <a:pt x="7635" y="1708"/>
                          </a:lnTo>
                          <a:lnTo>
                            <a:pt x="7651" y="1728"/>
                          </a:lnTo>
                          <a:lnTo>
                            <a:pt x="7655" y="1751"/>
                          </a:lnTo>
                          <a:lnTo>
                            <a:pt x="7647" y="1779"/>
                          </a:lnTo>
                          <a:lnTo>
                            <a:pt x="7631" y="1786"/>
                          </a:lnTo>
                          <a:lnTo>
                            <a:pt x="7611" y="1798"/>
                          </a:lnTo>
                          <a:lnTo>
                            <a:pt x="7595" y="1806"/>
                          </a:lnTo>
                          <a:lnTo>
                            <a:pt x="7580" y="1818"/>
                          </a:lnTo>
                          <a:lnTo>
                            <a:pt x="7560" y="1833"/>
                          </a:lnTo>
                          <a:lnTo>
                            <a:pt x="7544" y="1845"/>
                          </a:lnTo>
                          <a:lnTo>
                            <a:pt x="7524" y="1861"/>
                          </a:lnTo>
                          <a:lnTo>
                            <a:pt x="7508" y="1872"/>
                          </a:lnTo>
                          <a:lnTo>
                            <a:pt x="7532" y="1876"/>
                          </a:lnTo>
                          <a:lnTo>
                            <a:pt x="7556" y="1880"/>
                          </a:lnTo>
                          <a:lnTo>
                            <a:pt x="7580" y="1880"/>
                          </a:lnTo>
                          <a:lnTo>
                            <a:pt x="7607" y="1884"/>
                          </a:lnTo>
                          <a:lnTo>
                            <a:pt x="7635" y="1888"/>
                          </a:lnTo>
                          <a:lnTo>
                            <a:pt x="7659" y="1896"/>
                          </a:lnTo>
                          <a:lnTo>
                            <a:pt x="7683" y="1912"/>
                          </a:lnTo>
                          <a:lnTo>
                            <a:pt x="7703" y="1927"/>
                          </a:lnTo>
                          <a:lnTo>
                            <a:pt x="7691" y="1958"/>
                          </a:lnTo>
                          <a:lnTo>
                            <a:pt x="7671" y="1982"/>
                          </a:lnTo>
                          <a:lnTo>
                            <a:pt x="7643" y="1994"/>
                          </a:lnTo>
                          <a:lnTo>
                            <a:pt x="7607" y="2005"/>
                          </a:lnTo>
                          <a:lnTo>
                            <a:pt x="7576" y="2013"/>
                          </a:lnTo>
                          <a:lnTo>
                            <a:pt x="7540" y="2025"/>
                          </a:lnTo>
                          <a:lnTo>
                            <a:pt x="7504" y="2037"/>
                          </a:lnTo>
                          <a:lnTo>
                            <a:pt x="7476" y="2052"/>
                          </a:lnTo>
                          <a:lnTo>
                            <a:pt x="7385" y="2119"/>
                          </a:lnTo>
                          <a:lnTo>
                            <a:pt x="7425" y="2123"/>
                          </a:lnTo>
                          <a:lnTo>
                            <a:pt x="7465" y="2127"/>
                          </a:lnTo>
                          <a:lnTo>
                            <a:pt x="7504" y="2131"/>
                          </a:lnTo>
                          <a:lnTo>
                            <a:pt x="7540" y="2138"/>
                          </a:lnTo>
                          <a:lnTo>
                            <a:pt x="7580" y="2150"/>
                          </a:lnTo>
                          <a:lnTo>
                            <a:pt x="7615" y="2166"/>
                          </a:lnTo>
                          <a:lnTo>
                            <a:pt x="7643" y="2189"/>
                          </a:lnTo>
                          <a:lnTo>
                            <a:pt x="7671" y="2220"/>
                          </a:lnTo>
                          <a:lnTo>
                            <a:pt x="7476" y="2322"/>
                          </a:lnTo>
                          <a:lnTo>
                            <a:pt x="7695" y="2400"/>
                          </a:lnTo>
                          <a:lnTo>
                            <a:pt x="7679" y="2424"/>
                          </a:lnTo>
                          <a:lnTo>
                            <a:pt x="7659" y="2443"/>
                          </a:lnTo>
                          <a:lnTo>
                            <a:pt x="7635" y="2455"/>
                          </a:lnTo>
                          <a:lnTo>
                            <a:pt x="7607" y="2463"/>
                          </a:lnTo>
                          <a:lnTo>
                            <a:pt x="7584" y="2471"/>
                          </a:lnTo>
                          <a:lnTo>
                            <a:pt x="7556" y="2482"/>
                          </a:lnTo>
                          <a:lnTo>
                            <a:pt x="7532" y="2494"/>
                          </a:lnTo>
                          <a:lnTo>
                            <a:pt x="7508" y="2514"/>
                          </a:lnTo>
                          <a:lnTo>
                            <a:pt x="7528" y="2529"/>
                          </a:lnTo>
                          <a:lnTo>
                            <a:pt x="7556" y="2541"/>
                          </a:lnTo>
                          <a:lnTo>
                            <a:pt x="7584" y="2549"/>
                          </a:lnTo>
                          <a:lnTo>
                            <a:pt x="7615" y="2557"/>
                          </a:lnTo>
                          <a:lnTo>
                            <a:pt x="7643" y="2568"/>
                          </a:lnTo>
                          <a:lnTo>
                            <a:pt x="7667" y="2580"/>
                          </a:lnTo>
                          <a:lnTo>
                            <a:pt x="7687" y="2600"/>
                          </a:lnTo>
                          <a:lnTo>
                            <a:pt x="7695" y="2627"/>
                          </a:lnTo>
                          <a:lnTo>
                            <a:pt x="7675" y="2647"/>
                          </a:lnTo>
                          <a:lnTo>
                            <a:pt x="7651" y="2662"/>
                          </a:lnTo>
                          <a:lnTo>
                            <a:pt x="7623" y="2674"/>
                          </a:lnTo>
                          <a:lnTo>
                            <a:pt x="7595" y="2682"/>
                          </a:lnTo>
                          <a:lnTo>
                            <a:pt x="7572" y="2690"/>
                          </a:lnTo>
                          <a:lnTo>
                            <a:pt x="7544" y="2697"/>
                          </a:lnTo>
                          <a:lnTo>
                            <a:pt x="7524" y="2713"/>
                          </a:lnTo>
                          <a:lnTo>
                            <a:pt x="7508" y="2729"/>
                          </a:lnTo>
                          <a:lnTo>
                            <a:pt x="7536" y="2733"/>
                          </a:lnTo>
                          <a:lnTo>
                            <a:pt x="7564" y="2736"/>
                          </a:lnTo>
                          <a:lnTo>
                            <a:pt x="7587" y="2740"/>
                          </a:lnTo>
                          <a:lnTo>
                            <a:pt x="7607" y="2744"/>
                          </a:lnTo>
                          <a:lnTo>
                            <a:pt x="7631" y="2748"/>
                          </a:lnTo>
                          <a:lnTo>
                            <a:pt x="7655" y="2756"/>
                          </a:lnTo>
                          <a:lnTo>
                            <a:pt x="7679" y="2764"/>
                          </a:lnTo>
                          <a:lnTo>
                            <a:pt x="7703" y="2772"/>
                          </a:lnTo>
                          <a:lnTo>
                            <a:pt x="7683" y="2807"/>
                          </a:lnTo>
                          <a:lnTo>
                            <a:pt x="7655" y="2834"/>
                          </a:lnTo>
                          <a:lnTo>
                            <a:pt x="7619" y="2858"/>
                          </a:lnTo>
                          <a:lnTo>
                            <a:pt x="7584" y="2881"/>
                          </a:lnTo>
                          <a:lnTo>
                            <a:pt x="7544" y="2901"/>
                          </a:lnTo>
                          <a:lnTo>
                            <a:pt x="7504" y="2920"/>
                          </a:lnTo>
                          <a:lnTo>
                            <a:pt x="7465" y="2940"/>
                          </a:lnTo>
                          <a:lnTo>
                            <a:pt x="7429" y="2963"/>
                          </a:lnTo>
                          <a:lnTo>
                            <a:pt x="7421" y="2971"/>
                          </a:lnTo>
                          <a:lnTo>
                            <a:pt x="7413" y="2979"/>
                          </a:lnTo>
                          <a:lnTo>
                            <a:pt x="7405" y="2987"/>
                          </a:lnTo>
                          <a:lnTo>
                            <a:pt x="7405" y="2998"/>
                          </a:lnTo>
                          <a:lnTo>
                            <a:pt x="7449" y="2998"/>
                          </a:lnTo>
                          <a:lnTo>
                            <a:pt x="7492" y="2998"/>
                          </a:lnTo>
                          <a:lnTo>
                            <a:pt x="7536" y="2998"/>
                          </a:lnTo>
                          <a:lnTo>
                            <a:pt x="7584" y="3006"/>
                          </a:lnTo>
                          <a:lnTo>
                            <a:pt x="7623" y="3018"/>
                          </a:lnTo>
                          <a:lnTo>
                            <a:pt x="7663" y="3034"/>
                          </a:lnTo>
                          <a:lnTo>
                            <a:pt x="7699" y="3053"/>
                          </a:lnTo>
                          <a:lnTo>
                            <a:pt x="7726" y="3077"/>
                          </a:lnTo>
                          <a:lnTo>
                            <a:pt x="7699" y="3096"/>
                          </a:lnTo>
                          <a:lnTo>
                            <a:pt x="7663" y="3116"/>
                          </a:lnTo>
                          <a:lnTo>
                            <a:pt x="7627" y="3135"/>
                          </a:lnTo>
                          <a:lnTo>
                            <a:pt x="7591" y="3155"/>
                          </a:lnTo>
                          <a:lnTo>
                            <a:pt x="7556" y="3174"/>
                          </a:lnTo>
                          <a:lnTo>
                            <a:pt x="7524" y="3194"/>
                          </a:lnTo>
                          <a:lnTo>
                            <a:pt x="7492" y="3213"/>
                          </a:lnTo>
                          <a:lnTo>
                            <a:pt x="7465" y="3237"/>
                          </a:lnTo>
                          <a:lnTo>
                            <a:pt x="7500" y="3241"/>
                          </a:lnTo>
                          <a:lnTo>
                            <a:pt x="7536" y="3245"/>
                          </a:lnTo>
                          <a:lnTo>
                            <a:pt x="7568" y="3249"/>
                          </a:lnTo>
                          <a:lnTo>
                            <a:pt x="7603" y="3260"/>
                          </a:lnTo>
                          <a:lnTo>
                            <a:pt x="7635" y="3272"/>
                          </a:lnTo>
                          <a:lnTo>
                            <a:pt x="7663" y="3288"/>
                          </a:lnTo>
                          <a:lnTo>
                            <a:pt x="7683" y="3311"/>
                          </a:lnTo>
                          <a:lnTo>
                            <a:pt x="7703" y="3335"/>
                          </a:lnTo>
                          <a:lnTo>
                            <a:pt x="7679" y="3350"/>
                          </a:lnTo>
                          <a:lnTo>
                            <a:pt x="7655" y="3366"/>
                          </a:lnTo>
                          <a:lnTo>
                            <a:pt x="7627" y="3382"/>
                          </a:lnTo>
                          <a:lnTo>
                            <a:pt x="7599" y="3393"/>
                          </a:lnTo>
                          <a:lnTo>
                            <a:pt x="7568" y="3405"/>
                          </a:lnTo>
                          <a:lnTo>
                            <a:pt x="7540" y="3421"/>
                          </a:lnTo>
                          <a:lnTo>
                            <a:pt x="7512" y="3436"/>
                          </a:lnTo>
                          <a:lnTo>
                            <a:pt x="7488" y="3456"/>
                          </a:lnTo>
                          <a:lnTo>
                            <a:pt x="7465" y="3491"/>
                          </a:lnTo>
                          <a:lnTo>
                            <a:pt x="7492" y="3487"/>
                          </a:lnTo>
                          <a:lnTo>
                            <a:pt x="7524" y="3491"/>
                          </a:lnTo>
                          <a:lnTo>
                            <a:pt x="7552" y="3491"/>
                          </a:lnTo>
                          <a:lnTo>
                            <a:pt x="7584" y="3499"/>
                          </a:lnTo>
                          <a:lnTo>
                            <a:pt x="7615" y="3507"/>
                          </a:lnTo>
                          <a:lnTo>
                            <a:pt x="7639" y="3518"/>
                          </a:lnTo>
                          <a:lnTo>
                            <a:pt x="7663" y="3538"/>
                          </a:lnTo>
                          <a:lnTo>
                            <a:pt x="7683" y="3557"/>
                          </a:lnTo>
                          <a:lnTo>
                            <a:pt x="7683" y="3565"/>
                          </a:lnTo>
                          <a:lnTo>
                            <a:pt x="7683" y="3577"/>
                          </a:lnTo>
                          <a:lnTo>
                            <a:pt x="7687" y="3585"/>
                          </a:lnTo>
                          <a:lnTo>
                            <a:pt x="7695" y="3593"/>
                          </a:lnTo>
                          <a:lnTo>
                            <a:pt x="7659" y="3612"/>
                          </a:lnTo>
                          <a:lnTo>
                            <a:pt x="7619" y="3628"/>
                          </a:lnTo>
                          <a:lnTo>
                            <a:pt x="7584" y="3643"/>
                          </a:lnTo>
                          <a:lnTo>
                            <a:pt x="7544" y="3659"/>
                          </a:lnTo>
                          <a:lnTo>
                            <a:pt x="7508" y="3675"/>
                          </a:lnTo>
                          <a:lnTo>
                            <a:pt x="7472" y="3694"/>
                          </a:lnTo>
                          <a:lnTo>
                            <a:pt x="7437" y="3718"/>
                          </a:lnTo>
                          <a:lnTo>
                            <a:pt x="7405" y="3749"/>
                          </a:lnTo>
                          <a:lnTo>
                            <a:pt x="7441" y="3749"/>
                          </a:lnTo>
                          <a:lnTo>
                            <a:pt x="7480" y="3749"/>
                          </a:lnTo>
                          <a:lnTo>
                            <a:pt x="7516" y="3749"/>
                          </a:lnTo>
                          <a:lnTo>
                            <a:pt x="7548" y="3757"/>
                          </a:lnTo>
                          <a:lnTo>
                            <a:pt x="7580" y="3769"/>
                          </a:lnTo>
                          <a:lnTo>
                            <a:pt x="7611" y="3784"/>
                          </a:lnTo>
                          <a:lnTo>
                            <a:pt x="7635" y="3804"/>
                          </a:lnTo>
                          <a:lnTo>
                            <a:pt x="7659" y="3831"/>
                          </a:lnTo>
                          <a:lnTo>
                            <a:pt x="7627" y="3855"/>
                          </a:lnTo>
                          <a:lnTo>
                            <a:pt x="7595" y="3874"/>
                          </a:lnTo>
                          <a:lnTo>
                            <a:pt x="7564" y="3898"/>
                          </a:lnTo>
                          <a:lnTo>
                            <a:pt x="7532" y="3921"/>
                          </a:lnTo>
                          <a:lnTo>
                            <a:pt x="7500" y="3941"/>
                          </a:lnTo>
                          <a:lnTo>
                            <a:pt x="7468" y="3964"/>
                          </a:lnTo>
                          <a:lnTo>
                            <a:pt x="7441" y="3988"/>
                          </a:lnTo>
                          <a:lnTo>
                            <a:pt x="7417" y="4011"/>
                          </a:lnTo>
                          <a:lnTo>
                            <a:pt x="7449" y="4007"/>
                          </a:lnTo>
                          <a:lnTo>
                            <a:pt x="7484" y="4007"/>
                          </a:lnTo>
                          <a:lnTo>
                            <a:pt x="7516" y="4011"/>
                          </a:lnTo>
                          <a:lnTo>
                            <a:pt x="7552" y="4019"/>
                          </a:lnTo>
                          <a:lnTo>
                            <a:pt x="7584" y="4031"/>
                          </a:lnTo>
                          <a:lnTo>
                            <a:pt x="7615" y="4042"/>
                          </a:lnTo>
                          <a:lnTo>
                            <a:pt x="7643" y="4058"/>
                          </a:lnTo>
                          <a:lnTo>
                            <a:pt x="7671" y="4077"/>
                          </a:lnTo>
                          <a:lnTo>
                            <a:pt x="7488" y="4214"/>
                          </a:lnTo>
                          <a:lnTo>
                            <a:pt x="7512" y="4222"/>
                          </a:lnTo>
                          <a:lnTo>
                            <a:pt x="7540" y="4226"/>
                          </a:lnTo>
                          <a:lnTo>
                            <a:pt x="7568" y="4226"/>
                          </a:lnTo>
                          <a:lnTo>
                            <a:pt x="7595" y="4226"/>
                          </a:lnTo>
                          <a:lnTo>
                            <a:pt x="7623" y="4234"/>
                          </a:lnTo>
                          <a:lnTo>
                            <a:pt x="7643" y="4242"/>
                          </a:lnTo>
                          <a:lnTo>
                            <a:pt x="7655" y="4261"/>
                          </a:lnTo>
                          <a:lnTo>
                            <a:pt x="7659" y="4292"/>
                          </a:lnTo>
                          <a:lnTo>
                            <a:pt x="7623" y="4308"/>
                          </a:lnTo>
                          <a:lnTo>
                            <a:pt x="7584" y="4324"/>
                          </a:lnTo>
                          <a:lnTo>
                            <a:pt x="7544" y="4343"/>
                          </a:lnTo>
                          <a:lnTo>
                            <a:pt x="7500" y="4359"/>
                          </a:lnTo>
                          <a:lnTo>
                            <a:pt x="7461" y="4378"/>
                          </a:lnTo>
                          <a:lnTo>
                            <a:pt x="7421" y="4402"/>
                          </a:lnTo>
                          <a:lnTo>
                            <a:pt x="7385" y="4425"/>
                          </a:lnTo>
                          <a:lnTo>
                            <a:pt x="7349" y="4449"/>
                          </a:lnTo>
                          <a:lnTo>
                            <a:pt x="7377" y="4461"/>
                          </a:lnTo>
                          <a:lnTo>
                            <a:pt x="7413" y="4464"/>
                          </a:lnTo>
                          <a:lnTo>
                            <a:pt x="7453" y="4461"/>
                          </a:lnTo>
                          <a:lnTo>
                            <a:pt x="7488" y="4457"/>
                          </a:lnTo>
                          <a:lnTo>
                            <a:pt x="7524" y="4461"/>
                          </a:lnTo>
                          <a:lnTo>
                            <a:pt x="7552" y="4472"/>
                          </a:lnTo>
                          <a:lnTo>
                            <a:pt x="7568" y="4496"/>
                          </a:lnTo>
                          <a:lnTo>
                            <a:pt x="7568" y="4539"/>
                          </a:lnTo>
                          <a:lnTo>
                            <a:pt x="7536" y="4558"/>
                          </a:lnTo>
                          <a:lnTo>
                            <a:pt x="7500" y="4574"/>
                          </a:lnTo>
                          <a:lnTo>
                            <a:pt x="7465" y="4593"/>
                          </a:lnTo>
                          <a:lnTo>
                            <a:pt x="7429" y="4609"/>
                          </a:lnTo>
                          <a:lnTo>
                            <a:pt x="7393" y="4625"/>
                          </a:lnTo>
                          <a:lnTo>
                            <a:pt x="7361" y="4648"/>
                          </a:lnTo>
                          <a:lnTo>
                            <a:pt x="7330" y="4672"/>
                          </a:lnTo>
                          <a:lnTo>
                            <a:pt x="7302" y="4699"/>
                          </a:lnTo>
                          <a:lnTo>
                            <a:pt x="7322" y="4703"/>
                          </a:lnTo>
                          <a:lnTo>
                            <a:pt x="7346" y="4707"/>
                          </a:lnTo>
                          <a:lnTo>
                            <a:pt x="7373" y="4711"/>
                          </a:lnTo>
                          <a:lnTo>
                            <a:pt x="7397" y="4719"/>
                          </a:lnTo>
                          <a:lnTo>
                            <a:pt x="7413" y="4730"/>
                          </a:lnTo>
                          <a:lnTo>
                            <a:pt x="7429" y="4742"/>
                          </a:lnTo>
                          <a:lnTo>
                            <a:pt x="7433" y="4758"/>
                          </a:lnTo>
                          <a:lnTo>
                            <a:pt x="7429" y="4777"/>
                          </a:lnTo>
                          <a:lnTo>
                            <a:pt x="7381" y="4793"/>
                          </a:lnTo>
                          <a:lnTo>
                            <a:pt x="7334" y="4808"/>
                          </a:lnTo>
                          <a:lnTo>
                            <a:pt x="7282" y="4828"/>
                          </a:lnTo>
                          <a:lnTo>
                            <a:pt x="7234" y="4848"/>
                          </a:lnTo>
                          <a:lnTo>
                            <a:pt x="7191" y="4871"/>
                          </a:lnTo>
                          <a:lnTo>
                            <a:pt x="7151" y="4902"/>
                          </a:lnTo>
                          <a:lnTo>
                            <a:pt x="7119" y="4941"/>
                          </a:lnTo>
                          <a:lnTo>
                            <a:pt x="7100" y="4992"/>
                          </a:lnTo>
                          <a:lnTo>
                            <a:pt x="7016" y="4981"/>
                          </a:lnTo>
                          <a:lnTo>
                            <a:pt x="6937" y="4969"/>
                          </a:lnTo>
                          <a:lnTo>
                            <a:pt x="6854" y="4957"/>
                          </a:lnTo>
                          <a:lnTo>
                            <a:pt x="6766" y="4949"/>
                          </a:lnTo>
                          <a:lnTo>
                            <a:pt x="6683" y="4941"/>
                          </a:lnTo>
                          <a:lnTo>
                            <a:pt x="6596" y="4934"/>
                          </a:lnTo>
                          <a:lnTo>
                            <a:pt x="6509" y="4926"/>
                          </a:lnTo>
                          <a:lnTo>
                            <a:pt x="6421" y="4922"/>
                          </a:lnTo>
                          <a:lnTo>
                            <a:pt x="6334" y="4918"/>
                          </a:lnTo>
                          <a:lnTo>
                            <a:pt x="6247" y="4914"/>
                          </a:lnTo>
                          <a:lnTo>
                            <a:pt x="6156" y="4910"/>
                          </a:lnTo>
                          <a:lnTo>
                            <a:pt x="6068" y="4910"/>
                          </a:lnTo>
                          <a:lnTo>
                            <a:pt x="5977" y="4906"/>
                          </a:lnTo>
                          <a:lnTo>
                            <a:pt x="5890" y="4906"/>
                          </a:lnTo>
                          <a:lnTo>
                            <a:pt x="5799" y="4902"/>
                          </a:lnTo>
                          <a:lnTo>
                            <a:pt x="5707" y="4902"/>
                          </a:lnTo>
                          <a:lnTo>
                            <a:pt x="5620" y="4902"/>
                          </a:lnTo>
                          <a:lnTo>
                            <a:pt x="5529" y="4902"/>
                          </a:lnTo>
                          <a:lnTo>
                            <a:pt x="5438" y="4902"/>
                          </a:lnTo>
                          <a:lnTo>
                            <a:pt x="5346" y="4902"/>
                          </a:lnTo>
                          <a:lnTo>
                            <a:pt x="5259" y="4902"/>
                          </a:lnTo>
                          <a:lnTo>
                            <a:pt x="5168" y="4898"/>
                          </a:lnTo>
                          <a:lnTo>
                            <a:pt x="5081" y="4898"/>
                          </a:lnTo>
                          <a:lnTo>
                            <a:pt x="4990" y="4898"/>
                          </a:lnTo>
                          <a:lnTo>
                            <a:pt x="4902" y="4894"/>
                          </a:lnTo>
                          <a:lnTo>
                            <a:pt x="4815" y="4894"/>
                          </a:lnTo>
                          <a:lnTo>
                            <a:pt x="4728" y="4891"/>
                          </a:lnTo>
                          <a:lnTo>
                            <a:pt x="4640" y="4887"/>
                          </a:lnTo>
                          <a:lnTo>
                            <a:pt x="4553" y="4883"/>
                          </a:lnTo>
                          <a:lnTo>
                            <a:pt x="4466" y="4879"/>
                          </a:lnTo>
                          <a:lnTo>
                            <a:pt x="4383" y="4875"/>
                          </a:lnTo>
                          <a:lnTo>
                            <a:pt x="4299" y="4867"/>
                          </a:lnTo>
                          <a:lnTo>
                            <a:pt x="4184" y="4871"/>
                          </a:lnTo>
                          <a:lnTo>
                            <a:pt x="4073" y="4871"/>
                          </a:lnTo>
                          <a:lnTo>
                            <a:pt x="3962" y="4875"/>
                          </a:lnTo>
                          <a:lnTo>
                            <a:pt x="3855" y="4875"/>
                          </a:lnTo>
                          <a:lnTo>
                            <a:pt x="3748" y="4875"/>
                          </a:lnTo>
                          <a:lnTo>
                            <a:pt x="3641" y="4871"/>
                          </a:lnTo>
                          <a:lnTo>
                            <a:pt x="3534" y="4871"/>
                          </a:lnTo>
                          <a:lnTo>
                            <a:pt x="3427" y="4867"/>
                          </a:lnTo>
                          <a:lnTo>
                            <a:pt x="3324" y="4863"/>
                          </a:lnTo>
                          <a:lnTo>
                            <a:pt x="3221" y="4859"/>
                          </a:lnTo>
                          <a:lnTo>
                            <a:pt x="3117" y="4855"/>
                          </a:lnTo>
                          <a:lnTo>
                            <a:pt x="3014" y="4851"/>
                          </a:lnTo>
                          <a:lnTo>
                            <a:pt x="2911" y="4848"/>
                          </a:lnTo>
                          <a:lnTo>
                            <a:pt x="2812" y="4840"/>
                          </a:lnTo>
                          <a:lnTo>
                            <a:pt x="2709" y="4836"/>
                          </a:lnTo>
                          <a:lnTo>
                            <a:pt x="2610" y="4828"/>
                          </a:lnTo>
                          <a:lnTo>
                            <a:pt x="2507" y="4824"/>
                          </a:lnTo>
                          <a:lnTo>
                            <a:pt x="2407" y="4820"/>
                          </a:lnTo>
                          <a:lnTo>
                            <a:pt x="2308" y="4812"/>
                          </a:lnTo>
                          <a:lnTo>
                            <a:pt x="2209" y="4808"/>
                          </a:lnTo>
                          <a:lnTo>
                            <a:pt x="2106" y="4801"/>
                          </a:lnTo>
                          <a:lnTo>
                            <a:pt x="2007" y="4797"/>
                          </a:lnTo>
                          <a:lnTo>
                            <a:pt x="1908" y="4793"/>
                          </a:lnTo>
                          <a:lnTo>
                            <a:pt x="1805" y="4789"/>
                          </a:lnTo>
                          <a:lnTo>
                            <a:pt x="1705" y="4785"/>
                          </a:lnTo>
                          <a:lnTo>
                            <a:pt x="1602" y="4781"/>
                          </a:lnTo>
                          <a:lnTo>
                            <a:pt x="1503" y="4777"/>
                          </a:lnTo>
                          <a:lnTo>
                            <a:pt x="1400" y="4777"/>
                          </a:lnTo>
                          <a:lnTo>
                            <a:pt x="1297" y="4777"/>
                          </a:lnTo>
                          <a:lnTo>
                            <a:pt x="1194" y="4777"/>
                          </a:lnTo>
                          <a:lnTo>
                            <a:pt x="1091" y="4777"/>
                          </a:lnTo>
                          <a:lnTo>
                            <a:pt x="983" y="4777"/>
                          </a:lnTo>
                          <a:lnTo>
                            <a:pt x="940" y="4765"/>
                          </a:lnTo>
                          <a:lnTo>
                            <a:pt x="900" y="4765"/>
                          </a:lnTo>
                          <a:lnTo>
                            <a:pt x="861" y="4769"/>
                          </a:lnTo>
                          <a:lnTo>
                            <a:pt x="825" y="4777"/>
                          </a:lnTo>
                          <a:lnTo>
                            <a:pt x="785" y="4785"/>
                          </a:lnTo>
                          <a:lnTo>
                            <a:pt x="746" y="4793"/>
                          </a:lnTo>
                          <a:lnTo>
                            <a:pt x="706" y="4801"/>
                          </a:lnTo>
                          <a:lnTo>
                            <a:pt x="662" y="4801"/>
                          </a:lnTo>
                          <a:lnTo>
                            <a:pt x="662" y="4777"/>
                          </a:lnTo>
                          <a:lnTo>
                            <a:pt x="611" y="4765"/>
                          </a:lnTo>
                          <a:lnTo>
                            <a:pt x="559" y="4769"/>
                          </a:lnTo>
                          <a:lnTo>
                            <a:pt x="511" y="4781"/>
                          </a:lnTo>
                          <a:lnTo>
                            <a:pt x="468" y="4801"/>
                          </a:lnTo>
                          <a:lnTo>
                            <a:pt x="424" y="4824"/>
                          </a:lnTo>
                          <a:lnTo>
                            <a:pt x="381" y="4851"/>
                          </a:lnTo>
                          <a:lnTo>
                            <a:pt x="341" y="4879"/>
                          </a:lnTo>
                          <a:lnTo>
                            <a:pt x="297" y="4902"/>
                          </a:lnTo>
                          <a:lnTo>
                            <a:pt x="274" y="4891"/>
                          </a:lnTo>
                          <a:lnTo>
                            <a:pt x="270" y="4867"/>
                          </a:lnTo>
                          <a:lnTo>
                            <a:pt x="274" y="4840"/>
                          </a:lnTo>
                          <a:lnTo>
                            <a:pt x="281" y="4808"/>
                          </a:lnTo>
                          <a:lnTo>
                            <a:pt x="289" y="4789"/>
                          </a:lnTo>
                          <a:lnTo>
                            <a:pt x="285" y="4777"/>
                          </a:lnTo>
                          <a:lnTo>
                            <a:pt x="266" y="4785"/>
                          </a:lnTo>
                          <a:lnTo>
                            <a:pt x="226" y="4812"/>
                          </a:lnTo>
                          <a:lnTo>
                            <a:pt x="206" y="4785"/>
                          </a:lnTo>
                          <a:lnTo>
                            <a:pt x="210" y="4758"/>
                          </a:lnTo>
                          <a:lnTo>
                            <a:pt x="218" y="4726"/>
                          </a:lnTo>
                          <a:lnTo>
                            <a:pt x="226" y="4699"/>
                          </a:lnTo>
                          <a:lnTo>
                            <a:pt x="432" y="4507"/>
                          </a:lnTo>
                          <a:lnTo>
                            <a:pt x="385" y="4496"/>
                          </a:lnTo>
                          <a:lnTo>
                            <a:pt x="337" y="4500"/>
                          </a:lnTo>
                          <a:lnTo>
                            <a:pt x="293" y="4511"/>
                          </a:lnTo>
                          <a:lnTo>
                            <a:pt x="250" y="4527"/>
                          </a:lnTo>
                          <a:lnTo>
                            <a:pt x="206" y="4547"/>
                          </a:lnTo>
                          <a:lnTo>
                            <a:pt x="162" y="4566"/>
                          </a:lnTo>
                          <a:lnTo>
                            <a:pt x="115" y="4578"/>
                          </a:lnTo>
                          <a:lnTo>
                            <a:pt x="67" y="4586"/>
                          </a:lnTo>
                          <a:lnTo>
                            <a:pt x="87" y="4535"/>
                          </a:lnTo>
                          <a:lnTo>
                            <a:pt x="119" y="4492"/>
                          </a:lnTo>
                          <a:lnTo>
                            <a:pt x="158" y="4453"/>
                          </a:lnTo>
                          <a:lnTo>
                            <a:pt x="198" y="4414"/>
                          </a:lnTo>
                          <a:lnTo>
                            <a:pt x="246" y="4382"/>
                          </a:lnTo>
                          <a:lnTo>
                            <a:pt x="293" y="4347"/>
                          </a:lnTo>
                          <a:lnTo>
                            <a:pt x="341" y="4316"/>
                          </a:lnTo>
                          <a:lnTo>
                            <a:pt x="389" y="4281"/>
                          </a:lnTo>
                          <a:lnTo>
                            <a:pt x="377" y="4269"/>
                          </a:lnTo>
                          <a:lnTo>
                            <a:pt x="158" y="4382"/>
                          </a:lnTo>
                          <a:lnTo>
                            <a:pt x="170" y="4332"/>
                          </a:lnTo>
                          <a:lnTo>
                            <a:pt x="190" y="4285"/>
                          </a:lnTo>
                          <a:lnTo>
                            <a:pt x="214" y="4242"/>
                          </a:lnTo>
                          <a:lnTo>
                            <a:pt x="246" y="4199"/>
                          </a:lnTo>
                          <a:lnTo>
                            <a:pt x="281" y="4160"/>
                          </a:lnTo>
                          <a:lnTo>
                            <a:pt x="321" y="4120"/>
                          </a:lnTo>
                          <a:lnTo>
                            <a:pt x="365" y="4085"/>
                          </a:lnTo>
                          <a:lnTo>
                            <a:pt x="408" y="4054"/>
                          </a:lnTo>
                          <a:lnTo>
                            <a:pt x="385" y="4031"/>
                          </a:lnTo>
                          <a:lnTo>
                            <a:pt x="353" y="4019"/>
                          </a:lnTo>
                          <a:lnTo>
                            <a:pt x="317" y="4019"/>
                          </a:lnTo>
                          <a:lnTo>
                            <a:pt x="277" y="4027"/>
                          </a:lnTo>
                          <a:lnTo>
                            <a:pt x="238" y="4038"/>
                          </a:lnTo>
                          <a:lnTo>
                            <a:pt x="202" y="4050"/>
                          </a:lnTo>
                          <a:lnTo>
                            <a:pt x="166" y="4062"/>
                          </a:lnTo>
                          <a:lnTo>
                            <a:pt x="135" y="4066"/>
                          </a:lnTo>
                          <a:lnTo>
                            <a:pt x="151" y="4023"/>
                          </a:lnTo>
                          <a:lnTo>
                            <a:pt x="178" y="3984"/>
                          </a:lnTo>
                          <a:lnTo>
                            <a:pt x="206" y="3948"/>
                          </a:lnTo>
                          <a:lnTo>
                            <a:pt x="242" y="3917"/>
                          </a:lnTo>
                          <a:lnTo>
                            <a:pt x="277" y="3886"/>
                          </a:lnTo>
                          <a:lnTo>
                            <a:pt x="317" y="3855"/>
                          </a:lnTo>
                          <a:lnTo>
                            <a:pt x="353" y="3823"/>
                          </a:lnTo>
                          <a:lnTo>
                            <a:pt x="389" y="3796"/>
                          </a:lnTo>
                          <a:lnTo>
                            <a:pt x="345" y="3796"/>
                          </a:lnTo>
                          <a:lnTo>
                            <a:pt x="305" y="3804"/>
                          </a:lnTo>
                          <a:lnTo>
                            <a:pt x="266" y="3819"/>
                          </a:lnTo>
                          <a:lnTo>
                            <a:pt x="230" y="3835"/>
                          </a:lnTo>
                          <a:lnTo>
                            <a:pt x="190" y="3851"/>
                          </a:lnTo>
                          <a:lnTo>
                            <a:pt x="155" y="3866"/>
                          </a:lnTo>
                          <a:lnTo>
                            <a:pt x="111" y="3874"/>
                          </a:lnTo>
                          <a:lnTo>
                            <a:pt x="67" y="3874"/>
                          </a:lnTo>
                          <a:lnTo>
                            <a:pt x="79" y="3839"/>
                          </a:lnTo>
                          <a:lnTo>
                            <a:pt x="99" y="3808"/>
                          </a:lnTo>
                          <a:lnTo>
                            <a:pt x="123" y="3776"/>
                          </a:lnTo>
                          <a:lnTo>
                            <a:pt x="147" y="3749"/>
                          </a:lnTo>
                          <a:lnTo>
                            <a:pt x="174" y="3722"/>
                          </a:lnTo>
                          <a:lnTo>
                            <a:pt x="198" y="3698"/>
                          </a:lnTo>
                          <a:lnTo>
                            <a:pt x="226" y="3671"/>
                          </a:lnTo>
                          <a:lnTo>
                            <a:pt x="250" y="3647"/>
                          </a:lnTo>
                          <a:lnTo>
                            <a:pt x="353" y="3557"/>
                          </a:lnTo>
                          <a:lnTo>
                            <a:pt x="321" y="3546"/>
                          </a:lnTo>
                          <a:lnTo>
                            <a:pt x="289" y="3542"/>
                          </a:lnTo>
                          <a:lnTo>
                            <a:pt x="262" y="3550"/>
                          </a:lnTo>
                          <a:lnTo>
                            <a:pt x="238" y="3561"/>
                          </a:lnTo>
                          <a:lnTo>
                            <a:pt x="210" y="3577"/>
                          </a:lnTo>
                          <a:lnTo>
                            <a:pt x="182" y="3593"/>
                          </a:lnTo>
                          <a:lnTo>
                            <a:pt x="155" y="3600"/>
                          </a:lnTo>
                          <a:lnTo>
                            <a:pt x="123" y="3604"/>
                          </a:lnTo>
                          <a:lnTo>
                            <a:pt x="115" y="3573"/>
                          </a:lnTo>
                          <a:lnTo>
                            <a:pt x="115" y="3542"/>
                          </a:lnTo>
                          <a:lnTo>
                            <a:pt x="123" y="3511"/>
                          </a:lnTo>
                          <a:lnTo>
                            <a:pt x="135" y="3483"/>
                          </a:lnTo>
                          <a:lnTo>
                            <a:pt x="151" y="3456"/>
                          </a:lnTo>
                          <a:lnTo>
                            <a:pt x="170" y="3428"/>
                          </a:lnTo>
                          <a:lnTo>
                            <a:pt x="190" y="3405"/>
                          </a:lnTo>
                          <a:lnTo>
                            <a:pt x="206" y="3378"/>
                          </a:lnTo>
                          <a:lnTo>
                            <a:pt x="353" y="3268"/>
                          </a:lnTo>
                          <a:lnTo>
                            <a:pt x="329" y="3249"/>
                          </a:lnTo>
                          <a:lnTo>
                            <a:pt x="301" y="3245"/>
                          </a:lnTo>
                          <a:lnTo>
                            <a:pt x="270" y="3249"/>
                          </a:lnTo>
                          <a:lnTo>
                            <a:pt x="238" y="3256"/>
                          </a:lnTo>
                          <a:lnTo>
                            <a:pt x="202" y="3268"/>
                          </a:lnTo>
                          <a:lnTo>
                            <a:pt x="170" y="3280"/>
                          </a:lnTo>
                          <a:lnTo>
                            <a:pt x="135" y="3284"/>
                          </a:lnTo>
                          <a:lnTo>
                            <a:pt x="103" y="3280"/>
                          </a:lnTo>
                          <a:lnTo>
                            <a:pt x="107" y="3253"/>
                          </a:lnTo>
                          <a:lnTo>
                            <a:pt x="119" y="3225"/>
                          </a:lnTo>
                          <a:lnTo>
                            <a:pt x="135" y="3202"/>
                          </a:lnTo>
                          <a:lnTo>
                            <a:pt x="155" y="3182"/>
                          </a:lnTo>
                          <a:lnTo>
                            <a:pt x="174" y="3167"/>
                          </a:lnTo>
                          <a:lnTo>
                            <a:pt x="198" y="3151"/>
                          </a:lnTo>
                          <a:lnTo>
                            <a:pt x="226" y="3135"/>
                          </a:lnTo>
                          <a:lnTo>
                            <a:pt x="250" y="3124"/>
                          </a:lnTo>
                          <a:lnTo>
                            <a:pt x="277" y="3124"/>
                          </a:lnTo>
                          <a:lnTo>
                            <a:pt x="297" y="3116"/>
                          </a:lnTo>
                          <a:lnTo>
                            <a:pt x="317" y="3108"/>
                          </a:lnTo>
                          <a:lnTo>
                            <a:pt x="341" y="3100"/>
                          </a:lnTo>
                          <a:lnTo>
                            <a:pt x="345" y="3069"/>
                          </a:lnTo>
                          <a:lnTo>
                            <a:pt x="329" y="3053"/>
                          </a:lnTo>
                          <a:lnTo>
                            <a:pt x="301" y="3045"/>
                          </a:lnTo>
                          <a:lnTo>
                            <a:pt x="274" y="3045"/>
                          </a:lnTo>
                          <a:lnTo>
                            <a:pt x="103" y="3065"/>
                          </a:lnTo>
                          <a:lnTo>
                            <a:pt x="91" y="3026"/>
                          </a:lnTo>
                          <a:lnTo>
                            <a:pt x="103" y="2991"/>
                          </a:lnTo>
                          <a:lnTo>
                            <a:pt x="123" y="2959"/>
                          </a:lnTo>
                          <a:lnTo>
                            <a:pt x="147" y="2932"/>
                          </a:lnTo>
                          <a:lnTo>
                            <a:pt x="317" y="2830"/>
                          </a:lnTo>
                          <a:lnTo>
                            <a:pt x="281" y="2811"/>
                          </a:lnTo>
                          <a:lnTo>
                            <a:pt x="242" y="2803"/>
                          </a:lnTo>
                          <a:lnTo>
                            <a:pt x="202" y="2807"/>
                          </a:lnTo>
                          <a:lnTo>
                            <a:pt x="162" y="2822"/>
                          </a:lnTo>
                          <a:lnTo>
                            <a:pt x="123" y="2838"/>
                          </a:lnTo>
                          <a:lnTo>
                            <a:pt x="83" y="2858"/>
                          </a:lnTo>
                          <a:lnTo>
                            <a:pt x="39" y="2873"/>
                          </a:lnTo>
                          <a:lnTo>
                            <a:pt x="0" y="2885"/>
                          </a:lnTo>
                          <a:lnTo>
                            <a:pt x="0" y="2834"/>
                          </a:lnTo>
                          <a:lnTo>
                            <a:pt x="20" y="2787"/>
                          </a:lnTo>
                          <a:lnTo>
                            <a:pt x="51" y="2744"/>
                          </a:lnTo>
                          <a:lnTo>
                            <a:pt x="91" y="2701"/>
                          </a:lnTo>
                          <a:lnTo>
                            <a:pt x="139" y="2666"/>
                          </a:lnTo>
                          <a:lnTo>
                            <a:pt x="186" y="2631"/>
                          </a:lnTo>
                          <a:lnTo>
                            <a:pt x="238" y="2600"/>
                          </a:lnTo>
                          <a:lnTo>
                            <a:pt x="285" y="2568"/>
                          </a:lnTo>
                          <a:lnTo>
                            <a:pt x="270" y="2549"/>
                          </a:lnTo>
                          <a:lnTo>
                            <a:pt x="250" y="2537"/>
                          </a:lnTo>
                          <a:lnTo>
                            <a:pt x="226" y="2533"/>
                          </a:lnTo>
                          <a:lnTo>
                            <a:pt x="206" y="2537"/>
                          </a:lnTo>
                          <a:lnTo>
                            <a:pt x="182" y="2545"/>
                          </a:lnTo>
                          <a:lnTo>
                            <a:pt x="158" y="2553"/>
                          </a:lnTo>
                          <a:lnTo>
                            <a:pt x="135" y="2557"/>
                          </a:lnTo>
                          <a:lnTo>
                            <a:pt x="111" y="2561"/>
                          </a:lnTo>
                          <a:lnTo>
                            <a:pt x="99" y="2576"/>
                          </a:lnTo>
                          <a:lnTo>
                            <a:pt x="83" y="2588"/>
                          </a:lnTo>
                          <a:lnTo>
                            <a:pt x="63" y="2596"/>
                          </a:lnTo>
                          <a:lnTo>
                            <a:pt x="43" y="2604"/>
                          </a:lnTo>
                          <a:lnTo>
                            <a:pt x="24" y="2576"/>
                          </a:lnTo>
                          <a:lnTo>
                            <a:pt x="28" y="2549"/>
                          </a:lnTo>
                          <a:lnTo>
                            <a:pt x="36" y="2521"/>
                          </a:lnTo>
                          <a:lnTo>
                            <a:pt x="43" y="2490"/>
                          </a:lnTo>
                          <a:lnTo>
                            <a:pt x="59" y="2467"/>
                          </a:lnTo>
                          <a:lnTo>
                            <a:pt x="75" y="2447"/>
                          </a:lnTo>
                          <a:lnTo>
                            <a:pt x="99" y="2432"/>
                          </a:lnTo>
                          <a:lnTo>
                            <a:pt x="119" y="2416"/>
                          </a:lnTo>
                          <a:lnTo>
                            <a:pt x="143" y="2404"/>
                          </a:lnTo>
                          <a:lnTo>
                            <a:pt x="162" y="2392"/>
                          </a:lnTo>
                          <a:lnTo>
                            <a:pt x="186" y="2377"/>
                          </a:lnTo>
                          <a:lnTo>
                            <a:pt x="206" y="2357"/>
                          </a:lnTo>
                          <a:lnTo>
                            <a:pt x="178" y="2342"/>
                          </a:lnTo>
                          <a:lnTo>
                            <a:pt x="158" y="2353"/>
                          </a:lnTo>
                          <a:lnTo>
                            <a:pt x="135" y="2369"/>
                          </a:lnTo>
                          <a:lnTo>
                            <a:pt x="103" y="2365"/>
                          </a:lnTo>
                          <a:lnTo>
                            <a:pt x="107" y="2326"/>
                          </a:lnTo>
                          <a:lnTo>
                            <a:pt x="119" y="2291"/>
                          </a:lnTo>
                          <a:lnTo>
                            <a:pt x="139" y="2263"/>
                          </a:lnTo>
                          <a:lnTo>
                            <a:pt x="166" y="2236"/>
                          </a:lnTo>
                          <a:lnTo>
                            <a:pt x="194" y="2217"/>
                          </a:lnTo>
                          <a:lnTo>
                            <a:pt x="230" y="2197"/>
                          </a:lnTo>
                          <a:lnTo>
                            <a:pt x="262" y="2174"/>
                          </a:lnTo>
                          <a:lnTo>
                            <a:pt x="297" y="2154"/>
                          </a:lnTo>
                          <a:lnTo>
                            <a:pt x="266" y="2146"/>
                          </a:lnTo>
                          <a:lnTo>
                            <a:pt x="230" y="2146"/>
                          </a:lnTo>
                          <a:lnTo>
                            <a:pt x="198" y="2154"/>
                          </a:lnTo>
                          <a:lnTo>
                            <a:pt x="162" y="2162"/>
                          </a:lnTo>
                          <a:lnTo>
                            <a:pt x="131" y="2170"/>
                          </a:lnTo>
                          <a:lnTo>
                            <a:pt x="99" y="2177"/>
                          </a:lnTo>
                          <a:lnTo>
                            <a:pt x="71" y="2185"/>
                          </a:lnTo>
                          <a:lnTo>
                            <a:pt x="43" y="2185"/>
                          </a:lnTo>
                          <a:lnTo>
                            <a:pt x="59" y="2134"/>
                          </a:lnTo>
                          <a:lnTo>
                            <a:pt x="87" y="2091"/>
                          </a:lnTo>
                          <a:lnTo>
                            <a:pt x="123" y="2052"/>
                          </a:lnTo>
                          <a:lnTo>
                            <a:pt x="166" y="2021"/>
                          </a:lnTo>
                          <a:lnTo>
                            <a:pt x="214" y="1994"/>
                          </a:lnTo>
                          <a:lnTo>
                            <a:pt x="266" y="1966"/>
                          </a:lnTo>
                          <a:lnTo>
                            <a:pt x="317" y="1947"/>
                          </a:lnTo>
                          <a:lnTo>
                            <a:pt x="365" y="1927"/>
                          </a:lnTo>
                          <a:lnTo>
                            <a:pt x="349" y="1908"/>
                          </a:lnTo>
                          <a:lnTo>
                            <a:pt x="325" y="1896"/>
                          </a:lnTo>
                          <a:lnTo>
                            <a:pt x="297" y="1892"/>
                          </a:lnTo>
                          <a:lnTo>
                            <a:pt x="270" y="1892"/>
                          </a:lnTo>
                          <a:lnTo>
                            <a:pt x="242" y="1892"/>
                          </a:lnTo>
                          <a:lnTo>
                            <a:pt x="210" y="1896"/>
                          </a:lnTo>
                          <a:lnTo>
                            <a:pt x="182" y="1900"/>
                          </a:lnTo>
                          <a:lnTo>
                            <a:pt x="158" y="1904"/>
                          </a:lnTo>
                          <a:lnTo>
                            <a:pt x="143" y="1912"/>
                          </a:lnTo>
                          <a:lnTo>
                            <a:pt x="127" y="1919"/>
                          </a:lnTo>
                          <a:lnTo>
                            <a:pt x="111" y="1927"/>
                          </a:lnTo>
                          <a:lnTo>
                            <a:pt x="91" y="1927"/>
                          </a:lnTo>
                          <a:lnTo>
                            <a:pt x="75" y="1892"/>
                          </a:lnTo>
                          <a:lnTo>
                            <a:pt x="91" y="1853"/>
                          </a:lnTo>
                          <a:lnTo>
                            <a:pt x="115" y="1818"/>
                          </a:lnTo>
                          <a:lnTo>
                            <a:pt x="135" y="1779"/>
                          </a:lnTo>
                          <a:lnTo>
                            <a:pt x="166" y="1751"/>
                          </a:lnTo>
                          <a:lnTo>
                            <a:pt x="202" y="1728"/>
                          </a:lnTo>
                          <a:lnTo>
                            <a:pt x="238" y="1704"/>
                          </a:lnTo>
                          <a:lnTo>
                            <a:pt x="274" y="1685"/>
                          </a:lnTo>
                          <a:lnTo>
                            <a:pt x="309" y="1665"/>
                          </a:lnTo>
                          <a:lnTo>
                            <a:pt x="349" y="1642"/>
                          </a:lnTo>
                          <a:lnTo>
                            <a:pt x="385" y="1622"/>
                          </a:lnTo>
                          <a:lnTo>
                            <a:pt x="420" y="1599"/>
                          </a:lnTo>
                          <a:lnTo>
                            <a:pt x="389" y="1579"/>
                          </a:lnTo>
                          <a:lnTo>
                            <a:pt x="357" y="1571"/>
                          </a:lnTo>
                          <a:lnTo>
                            <a:pt x="325" y="1571"/>
                          </a:lnTo>
                          <a:lnTo>
                            <a:pt x="289" y="1579"/>
                          </a:lnTo>
                          <a:lnTo>
                            <a:pt x="258" y="1587"/>
                          </a:lnTo>
                          <a:lnTo>
                            <a:pt x="226" y="1595"/>
                          </a:lnTo>
                          <a:lnTo>
                            <a:pt x="194" y="1599"/>
                          </a:lnTo>
                          <a:lnTo>
                            <a:pt x="158" y="1599"/>
                          </a:lnTo>
                          <a:lnTo>
                            <a:pt x="170" y="1552"/>
                          </a:lnTo>
                          <a:lnTo>
                            <a:pt x="190" y="1513"/>
                          </a:lnTo>
                          <a:lnTo>
                            <a:pt x="214" y="1478"/>
                          </a:lnTo>
                          <a:lnTo>
                            <a:pt x="242" y="1442"/>
                          </a:lnTo>
                          <a:lnTo>
                            <a:pt x="270" y="1411"/>
                          </a:lnTo>
                          <a:lnTo>
                            <a:pt x="301" y="1380"/>
                          </a:lnTo>
                          <a:lnTo>
                            <a:pt x="333" y="1349"/>
                          </a:lnTo>
                          <a:lnTo>
                            <a:pt x="365" y="1317"/>
                          </a:lnTo>
                          <a:lnTo>
                            <a:pt x="337" y="1321"/>
                          </a:lnTo>
                          <a:lnTo>
                            <a:pt x="305" y="1325"/>
                          </a:lnTo>
                          <a:lnTo>
                            <a:pt x="277" y="1329"/>
                          </a:lnTo>
                          <a:lnTo>
                            <a:pt x="246" y="1337"/>
                          </a:lnTo>
                          <a:lnTo>
                            <a:pt x="210" y="1349"/>
                          </a:lnTo>
                          <a:lnTo>
                            <a:pt x="182" y="1364"/>
                          </a:lnTo>
                          <a:lnTo>
                            <a:pt x="151" y="1376"/>
                          </a:lnTo>
                          <a:lnTo>
                            <a:pt x="123" y="1396"/>
                          </a:lnTo>
                          <a:lnTo>
                            <a:pt x="119" y="1349"/>
                          </a:lnTo>
                          <a:lnTo>
                            <a:pt x="127" y="1306"/>
                          </a:lnTo>
                          <a:lnTo>
                            <a:pt x="147" y="1267"/>
                          </a:lnTo>
                          <a:lnTo>
                            <a:pt x="178" y="1235"/>
                          </a:lnTo>
                          <a:lnTo>
                            <a:pt x="214" y="1204"/>
                          </a:lnTo>
                          <a:lnTo>
                            <a:pt x="250" y="1177"/>
                          </a:lnTo>
                          <a:lnTo>
                            <a:pt x="293" y="1149"/>
                          </a:lnTo>
                          <a:lnTo>
                            <a:pt x="329" y="1126"/>
                          </a:lnTo>
                          <a:lnTo>
                            <a:pt x="349" y="1126"/>
                          </a:lnTo>
                          <a:lnTo>
                            <a:pt x="369" y="1122"/>
                          </a:lnTo>
                          <a:lnTo>
                            <a:pt x="385" y="1118"/>
                          </a:lnTo>
                          <a:lnTo>
                            <a:pt x="404" y="1114"/>
                          </a:lnTo>
                          <a:lnTo>
                            <a:pt x="420" y="1106"/>
                          </a:lnTo>
                          <a:lnTo>
                            <a:pt x="436" y="1098"/>
                          </a:lnTo>
                          <a:lnTo>
                            <a:pt x="452" y="1091"/>
                          </a:lnTo>
                          <a:lnTo>
                            <a:pt x="468" y="1083"/>
                          </a:lnTo>
                          <a:lnTo>
                            <a:pt x="428" y="1071"/>
                          </a:lnTo>
                          <a:lnTo>
                            <a:pt x="389" y="1067"/>
                          </a:lnTo>
                          <a:lnTo>
                            <a:pt x="349" y="1071"/>
                          </a:lnTo>
                          <a:lnTo>
                            <a:pt x="309" y="1079"/>
                          </a:lnTo>
                          <a:lnTo>
                            <a:pt x="274" y="1087"/>
                          </a:lnTo>
                          <a:lnTo>
                            <a:pt x="234" y="1098"/>
                          </a:lnTo>
                          <a:lnTo>
                            <a:pt x="194" y="1102"/>
                          </a:lnTo>
                          <a:lnTo>
                            <a:pt x="158" y="1102"/>
                          </a:lnTo>
                          <a:lnTo>
                            <a:pt x="174" y="1052"/>
                          </a:lnTo>
                          <a:lnTo>
                            <a:pt x="202" y="1012"/>
                          </a:lnTo>
                          <a:lnTo>
                            <a:pt x="238" y="985"/>
                          </a:lnTo>
                          <a:lnTo>
                            <a:pt x="281" y="962"/>
                          </a:lnTo>
                          <a:lnTo>
                            <a:pt x="325" y="942"/>
                          </a:lnTo>
                          <a:lnTo>
                            <a:pt x="369" y="922"/>
                          </a:lnTo>
                          <a:lnTo>
                            <a:pt x="416" y="903"/>
                          </a:lnTo>
                          <a:lnTo>
                            <a:pt x="456" y="879"/>
                          </a:lnTo>
                          <a:lnTo>
                            <a:pt x="412" y="852"/>
                          </a:lnTo>
                          <a:lnTo>
                            <a:pt x="373" y="844"/>
                          </a:lnTo>
                          <a:lnTo>
                            <a:pt x="333" y="844"/>
                          </a:lnTo>
                          <a:lnTo>
                            <a:pt x="297" y="860"/>
                          </a:lnTo>
                          <a:lnTo>
                            <a:pt x="258" y="876"/>
                          </a:lnTo>
                          <a:lnTo>
                            <a:pt x="218" y="895"/>
                          </a:lnTo>
                          <a:lnTo>
                            <a:pt x="178" y="911"/>
                          </a:lnTo>
                          <a:lnTo>
                            <a:pt x="135" y="922"/>
                          </a:lnTo>
                          <a:lnTo>
                            <a:pt x="131" y="887"/>
                          </a:lnTo>
                          <a:lnTo>
                            <a:pt x="143" y="852"/>
                          </a:lnTo>
                          <a:lnTo>
                            <a:pt x="166" y="817"/>
                          </a:lnTo>
                          <a:lnTo>
                            <a:pt x="194" y="786"/>
                          </a:lnTo>
                          <a:lnTo>
                            <a:pt x="218" y="762"/>
                          </a:lnTo>
                          <a:lnTo>
                            <a:pt x="246" y="739"/>
                          </a:lnTo>
                          <a:lnTo>
                            <a:pt x="277" y="719"/>
                          </a:lnTo>
                          <a:lnTo>
                            <a:pt x="313" y="700"/>
                          </a:lnTo>
                          <a:lnTo>
                            <a:pt x="345" y="680"/>
                          </a:lnTo>
                          <a:lnTo>
                            <a:pt x="381" y="661"/>
                          </a:lnTo>
                          <a:lnTo>
                            <a:pt x="408" y="641"/>
                          </a:lnTo>
                          <a:lnTo>
                            <a:pt x="432" y="618"/>
                          </a:lnTo>
                          <a:lnTo>
                            <a:pt x="400" y="606"/>
                          </a:lnTo>
                          <a:lnTo>
                            <a:pt x="373" y="602"/>
                          </a:lnTo>
                          <a:lnTo>
                            <a:pt x="345" y="610"/>
                          </a:lnTo>
                          <a:lnTo>
                            <a:pt x="317" y="621"/>
                          </a:lnTo>
                          <a:lnTo>
                            <a:pt x="289" y="633"/>
                          </a:lnTo>
                          <a:lnTo>
                            <a:pt x="262" y="641"/>
                          </a:lnTo>
                          <a:lnTo>
                            <a:pt x="234" y="645"/>
                          </a:lnTo>
                          <a:lnTo>
                            <a:pt x="206" y="641"/>
                          </a:lnTo>
                          <a:lnTo>
                            <a:pt x="210" y="602"/>
                          </a:lnTo>
                          <a:lnTo>
                            <a:pt x="222" y="571"/>
                          </a:lnTo>
                          <a:lnTo>
                            <a:pt x="242" y="543"/>
                          </a:lnTo>
                          <a:lnTo>
                            <a:pt x="270" y="520"/>
                          </a:lnTo>
                          <a:lnTo>
                            <a:pt x="293" y="500"/>
                          </a:lnTo>
                          <a:lnTo>
                            <a:pt x="325" y="481"/>
                          </a:lnTo>
                          <a:lnTo>
                            <a:pt x="353" y="457"/>
                          </a:lnTo>
                          <a:lnTo>
                            <a:pt x="377" y="438"/>
                          </a:lnTo>
                          <a:lnTo>
                            <a:pt x="194" y="438"/>
                          </a:lnTo>
                          <a:lnTo>
                            <a:pt x="214" y="403"/>
                          </a:lnTo>
                          <a:lnTo>
                            <a:pt x="238" y="371"/>
                          </a:lnTo>
                          <a:lnTo>
                            <a:pt x="266" y="344"/>
                          </a:lnTo>
                          <a:lnTo>
                            <a:pt x="297" y="320"/>
                          </a:lnTo>
                          <a:lnTo>
                            <a:pt x="329" y="297"/>
                          </a:lnTo>
                          <a:lnTo>
                            <a:pt x="361" y="277"/>
                          </a:lnTo>
                          <a:lnTo>
                            <a:pt x="396" y="254"/>
                          </a:lnTo>
                          <a:lnTo>
                            <a:pt x="432" y="234"/>
                          </a:lnTo>
                          <a:lnTo>
                            <a:pt x="404" y="223"/>
                          </a:lnTo>
                          <a:lnTo>
                            <a:pt x="381" y="223"/>
                          </a:lnTo>
                          <a:lnTo>
                            <a:pt x="357" y="227"/>
                          </a:lnTo>
                          <a:lnTo>
                            <a:pt x="333" y="234"/>
                          </a:lnTo>
                          <a:lnTo>
                            <a:pt x="305" y="242"/>
                          </a:lnTo>
                          <a:lnTo>
                            <a:pt x="281" y="250"/>
                          </a:lnTo>
                          <a:lnTo>
                            <a:pt x="254" y="258"/>
                          </a:lnTo>
                          <a:lnTo>
                            <a:pt x="226" y="258"/>
                          </a:lnTo>
                          <a:lnTo>
                            <a:pt x="214" y="223"/>
                          </a:lnTo>
                          <a:lnTo>
                            <a:pt x="218" y="191"/>
                          </a:lnTo>
                          <a:lnTo>
                            <a:pt x="234" y="172"/>
                          </a:lnTo>
                          <a:lnTo>
                            <a:pt x="262" y="152"/>
                          </a:lnTo>
                          <a:lnTo>
                            <a:pt x="289" y="137"/>
                          </a:lnTo>
                          <a:lnTo>
                            <a:pt x="321" y="125"/>
                          </a:lnTo>
                          <a:lnTo>
                            <a:pt x="345" y="109"/>
                          </a:lnTo>
                          <a:lnTo>
                            <a:pt x="365" y="90"/>
                          </a:lnTo>
                          <a:lnTo>
                            <a:pt x="416" y="78"/>
                          </a:lnTo>
                          <a:lnTo>
                            <a:pt x="468" y="66"/>
                          </a:lnTo>
                          <a:lnTo>
                            <a:pt x="519" y="58"/>
                          </a:lnTo>
                          <a:lnTo>
                            <a:pt x="571" y="51"/>
                          </a:lnTo>
                          <a:lnTo>
                            <a:pt x="623" y="47"/>
                          </a:lnTo>
                          <a:lnTo>
                            <a:pt x="674" y="39"/>
                          </a:lnTo>
                          <a:lnTo>
                            <a:pt x="730" y="35"/>
                          </a:lnTo>
                          <a:lnTo>
                            <a:pt x="781" y="35"/>
                          </a:lnTo>
                          <a:lnTo>
                            <a:pt x="833" y="31"/>
                          </a:lnTo>
                          <a:lnTo>
                            <a:pt x="884" y="31"/>
                          </a:lnTo>
                          <a:lnTo>
                            <a:pt x="936" y="31"/>
                          </a:lnTo>
                          <a:lnTo>
                            <a:pt x="987" y="31"/>
                          </a:lnTo>
                          <a:lnTo>
                            <a:pt x="1039" y="35"/>
                          </a:lnTo>
                          <a:lnTo>
                            <a:pt x="1091" y="35"/>
                          </a:lnTo>
                          <a:lnTo>
                            <a:pt x="1142" y="39"/>
                          </a:lnTo>
                          <a:lnTo>
                            <a:pt x="1190" y="43"/>
                          </a:lnTo>
                          <a:lnTo>
                            <a:pt x="1281" y="35"/>
                          </a:lnTo>
                          <a:lnTo>
                            <a:pt x="1372" y="31"/>
                          </a:lnTo>
                          <a:lnTo>
                            <a:pt x="1463" y="27"/>
                          </a:lnTo>
                          <a:lnTo>
                            <a:pt x="1559" y="23"/>
                          </a:lnTo>
                          <a:lnTo>
                            <a:pt x="1650" y="19"/>
                          </a:lnTo>
                          <a:lnTo>
                            <a:pt x="1741" y="15"/>
                          </a:lnTo>
                          <a:lnTo>
                            <a:pt x="1832" y="12"/>
                          </a:lnTo>
                          <a:lnTo>
                            <a:pt x="1924" y="12"/>
                          </a:lnTo>
                          <a:lnTo>
                            <a:pt x="2015" y="12"/>
                          </a:lnTo>
                          <a:lnTo>
                            <a:pt x="2106" y="12"/>
                          </a:lnTo>
                          <a:lnTo>
                            <a:pt x="2197" y="12"/>
                          </a:lnTo>
                          <a:lnTo>
                            <a:pt x="2288" y="12"/>
                          </a:lnTo>
                          <a:lnTo>
                            <a:pt x="2380" y="12"/>
                          </a:lnTo>
                          <a:lnTo>
                            <a:pt x="2471" y="12"/>
                          </a:lnTo>
                          <a:lnTo>
                            <a:pt x="2566" y="12"/>
                          </a:lnTo>
                          <a:lnTo>
                            <a:pt x="2657" y="12"/>
                          </a:lnTo>
                          <a:lnTo>
                            <a:pt x="2749" y="15"/>
                          </a:lnTo>
                          <a:lnTo>
                            <a:pt x="2840" y="15"/>
                          </a:lnTo>
                          <a:lnTo>
                            <a:pt x="2931" y="19"/>
                          </a:lnTo>
                          <a:lnTo>
                            <a:pt x="3022" y="19"/>
                          </a:lnTo>
                          <a:lnTo>
                            <a:pt x="3113" y="19"/>
                          </a:lnTo>
                          <a:lnTo>
                            <a:pt x="3205" y="23"/>
                          </a:lnTo>
                          <a:lnTo>
                            <a:pt x="3296" y="23"/>
                          </a:lnTo>
                          <a:lnTo>
                            <a:pt x="3387" y="23"/>
                          </a:lnTo>
                          <a:lnTo>
                            <a:pt x="3482" y="23"/>
                          </a:lnTo>
                          <a:lnTo>
                            <a:pt x="3574" y="27"/>
                          </a:lnTo>
                          <a:lnTo>
                            <a:pt x="3665" y="27"/>
                          </a:lnTo>
                          <a:lnTo>
                            <a:pt x="3756" y="23"/>
                          </a:lnTo>
                          <a:lnTo>
                            <a:pt x="3847" y="23"/>
                          </a:lnTo>
                          <a:lnTo>
                            <a:pt x="3942" y="23"/>
                          </a:lnTo>
                          <a:lnTo>
                            <a:pt x="4034" y="23"/>
                          </a:lnTo>
                          <a:lnTo>
                            <a:pt x="4125" y="19"/>
                          </a:lnTo>
                          <a:lnTo>
                            <a:pt x="4212" y="23"/>
                          </a:lnTo>
                          <a:lnTo>
                            <a:pt x="4299" y="31"/>
                          </a:lnTo>
                          <a:lnTo>
                            <a:pt x="4387" y="35"/>
                          </a:lnTo>
                          <a:lnTo>
                            <a:pt x="4478" y="39"/>
                          </a:lnTo>
                          <a:lnTo>
                            <a:pt x="4569" y="43"/>
                          </a:lnTo>
                          <a:lnTo>
                            <a:pt x="4660" y="47"/>
                          </a:lnTo>
                          <a:lnTo>
                            <a:pt x="4752" y="51"/>
                          </a:lnTo>
                          <a:lnTo>
                            <a:pt x="4843" y="55"/>
                          </a:lnTo>
                          <a:lnTo>
                            <a:pt x="4938" y="58"/>
                          </a:lnTo>
                          <a:lnTo>
                            <a:pt x="5029" y="62"/>
                          </a:lnTo>
                          <a:lnTo>
                            <a:pt x="5124" y="62"/>
                          </a:lnTo>
                          <a:lnTo>
                            <a:pt x="5220" y="66"/>
                          </a:lnTo>
                          <a:lnTo>
                            <a:pt x="5315" y="70"/>
                          </a:lnTo>
                          <a:lnTo>
                            <a:pt x="5410" y="70"/>
                          </a:lnTo>
                          <a:lnTo>
                            <a:pt x="5505" y="74"/>
                          </a:lnTo>
                          <a:lnTo>
                            <a:pt x="5600" y="74"/>
                          </a:lnTo>
                          <a:lnTo>
                            <a:pt x="5696" y="78"/>
                          </a:lnTo>
                          <a:lnTo>
                            <a:pt x="5791" y="82"/>
                          </a:lnTo>
                          <a:lnTo>
                            <a:pt x="5886" y="82"/>
                          </a:lnTo>
                          <a:lnTo>
                            <a:pt x="5981" y="86"/>
                          </a:lnTo>
                          <a:lnTo>
                            <a:pt x="6076" y="86"/>
                          </a:lnTo>
                          <a:lnTo>
                            <a:pt x="6171" y="90"/>
                          </a:lnTo>
                          <a:lnTo>
                            <a:pt x="6267" y="90"/>
                          </a:lnTo>
                          <a:lnTo>
                            <a:pt x="6362" y="94"/>
                          </a:lnTo>
                          <a:lnTo>
                            <a:pt x="6457" y="94"/>
                          </a:lnTo>
                          <a:lnTo>
                            <a:pt x="6552" y="98"/>
                          </a:lnTo>
                          <a:lnTo>
                            <a:pt x="6643" y="98"/>
                          </a:lnTo>
                          <a:lnTo>
                            <a:pt x="6735" y="102"/>
                          </a:lnTo>
                          <a:lnTo>
                            <a:pt x="6830" y="102"/>
                          </a:lnTo>
                          <a:lnTo>
                            <a:pt x="6921" y="105"/>
                          </a:lnTo>
                          <a:lnTo>
                            <a:pt x="7008" y="105"/>
                          </a:lnTo>
                          <a:lnTo>
                            <a:pt x="7100" y="109"/>
                          </a:lnTo>
                          <a:close/>
                        </a:path>
                      </a:pathLst>
                    </a:custGeom>
                    <a:solidFill>
                      <a:srgbClr val="11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0" name=""/>
                    <p:cNvSpPr/>
                    <p:nvPr/>
                  </p:nvSpPr>
                  <p:spPr>
                    <a:xfrm>
                      <a:off x="4175280" y="1547640"/>
                      <a:ext cx="4025880" cy="29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09" h="4863">
                          <a:moveTo>
                            <a:pt x="6437" y="117"/>
                          </a:moveTo>
                          <a:lnTo>
                            <a:pt x="6457" y="227"/>
                          </a:lnTo>
                          <a:lnTo>
                            <a:pt x="6461" y="344"/>
                          </a:lnTo>
                          <a:lnTo>
                            <a:pt x="6461" y="465"/>
                          </a:lnTo>
                          <a:lnTo>
                            <a:pt x="6473" y="579"/>
                          </a:lnTo>
                          <a:lnTo>
                            <a:pt x="6501" y="1024"/>
                          </a:lnTo>
                          <a:lnTo>
                            <a:pt x="6509" y="1474"/>
                          </a:lnTo>
                          <a:lnTo>
                            <a:pt x="6505" y="1923"/>
                          </a:lnTo>
                          <a:lnTo>
                            <a:pt x="6485" y="2373"/>
                          </a:lnTo>
                          <a:lnTo>
                            <a:pt x="6461" y="2823"/>
                          </a:lnTo>
                          <a:lnTo>
                            <a:pt x="6429" y="3276"/>
                          </a:lnTo>
                          <a:lnTo>
                            <a:pt x="6398" y="3726"/>
                          </a:lnTo>
                          <a:lnTo>
                            <a:pt x="6370" y="4175"/>
                          </a:lnTo>
                          <a:lnTo>
                            <a:pt x="6358" y="4863"/>
                          </a:lnTo>
                          <a:lnTo>
                            <a:pt x="6267" y="4859"/>
                          </a:lnTo>
                          <a:lnTo>
                            <a:pt x="6175" y="4852"/>
                          </a:lnTo>
                          <a:lnTo>
                            <a:pt x="6084" y="4848"/>
                          </a:lnTo>
                          <a:lnTo>
                            <a:pt x="5993" y="4844"/>
                          </a:lnTo>
                          <a:lnTo>
                            <a:pt x="5898" y="4840"/>
                          </a:lnTo>
                          <a:lnTo>
                            <a:pt x="5807" y="4836"/>
                          </a:lnTo>
                          <a:lnTo>
                            <a:pt x="5715" y="4832"/>
                          </a:lnTo>
                          <a:lnTo>
                            <a:pt x="5620" y="4828"/>
                          </a:lnTo>
                          <a:lnTo>
                            <a:pt x="5529" y="4828"/>
                          </a:lnTo>
                          <a:lnTo>
                            <a:pt x="5434" y="4824"/>
                          </a:lnTo>
                          <a:lnTo>
                            <a:pt x="5339" y="4824"/>
                          </a:lnTo>
                          <a:lnTo>
                            <a:pt x="5243" y="4820"/>
                          </a:lnTo>
                          <a:lnTo>
                            <a:pt x="5152" y="4820"/>
                          </a:lnTo>
                          <a:lnTo>
                            <a:pt x="5057" y="4816"/>
                          </a:lnTo>
                          <a:lnTo>
                            <a:pt x="4962" y="4816"/>
                          </a:lnTo>
                          <a:lnTo>
                            <a:pt x="4867" y="4812"/>
                          </a:lnTo>
                          <a:lnTo>
                            <a:pt x="4771" y="4812"/>
                          </a:lnTo>
                          <a:lnTo>
                            <a:pt x="4676" y="4812"/>
                          </a:lnTo>
                          <a:lnTo>
                            <a:pt x="4581" y="4809"/>
                          </a:lnTo>
                          <a:lnTo>
                            <a:pt x="4482" y="4809"/>
                          </a:lnTo>
                          <a:lnTo>
                            <a:pt x="4387" y="4805"/>
                          </a:lnTo>
                          <a:lnTo>
                            <a:pt x="4291" y="4805"/>
                          </a:lnTo>
                          <a:lnTo>
                            <a:pt x="4196" y="4801"/>
                          </a:lnTo>
                          <a:lnTo>
                            <a:pt x="4101" y="4801"/>
                          </a:lnTo>
                          <a:lnTo>
                            <a:pt x="4006" y="4797"/>
                          </a:lnTo>
                          <a:lnTo>
                            <a:pt x="3907" y="4797"/>
                          </a:lnTo>
                          <a:lnTo>
                            <a:pt x="3811" y="4793"/>
                          </a:lnTo>
                          <a:lnTo>
                            <a:pt x="3716" y="4789"/>
                          </a:lnTo>
                          <a:lnTo>
                            <a:pt x="3621" y="4785"/>
                          </a:lnTo>
                          <a:lnTo>
                            <a:pt x="3522" y="4781"/>
                          </a:lnTo>
                          <a:lnTo>
                            <a:pt x="3427" y="4777"/>
                          </a:lnTo>
                          <a:lnTo>
                            <a:pt x="3332" y="4773"/>
                          </a:lnTo>
                          <a:lnTo>
                            <a:pt x="3240" y="4773"/>
                          </a:lnTo>
                          <a:lnTo>
                            <a:pt x="3153" y="4777"/>
                          </a:lnTo>
                          <a:lnTo>
                            <a:pt x="3066" y="4777"/>
                          </a:lnTo>
                          <a:lnTo>
                            <a:pt x="2975" y="4777"/>
                          </a:lnTo>
                          <a:lnTo>
                            <a:pt x="2887" y="4773"/>
                          </a:lnTo>
                          <a:lnTo>
                            <a:pt x="2800" y="4773"/>
                          </a:lnTo>
                          <a:lnTo>
                            <a:pt x="2713" y="4769"/>
                          </a:lnTo>
                          <a:lnTo>
                            <a:pt x="2626" y="4769"/>
                          </a:lnTo>
                          <a:lnTo>
                            <a:pt x="2538" y="4766"/>
                          </a:lnTo>
                          <a:lnTo>
                            <a:pt x="2451" y="4762"/>
                          </a:lnTo>
                          <a:lnTo>
                            <a:pt x="2368" y="4758"/>
                          </a:lnTo>
                          <a:lnTo>
                            <a:pt x="2280" y="4754"/>
                          </a:lnTo>
                          <a:lnTo>
                            <a:pt x="2193" y="4750"/>
                          </a:lnTo>
                          <a:lnTo>
                            <a:pt x="2110" y="4746"/>
                          </a:lnTo>
                          <a:lnTo>
                            <a:pt x="2027" y="4742"/>
                          </a:lnTo>
                          <a:lnTo>
                            <a:pt x="1939" y="4738"/>
                          </a:lnTo>
                          <a:lnTo>
                            <a:pt x="1856" y="4730"/>
                          </a:lnTo>
                          <a:lnTo>
                            <a:pt x="1773" y="4726"/>
                          </a:lnTo>
                          <a:lnTo>
                            <a:pt x="1686" y="4723"/>
                          </a:lnTo>
                          <a:lnTo>
                            <a:pt x="1602" y="4719"/>
                          </a:lnTo>
                          <a:lnTo>
                            <a:pt x="1519" y="4715"/>
                          </a:lnTo>
                          <a:lnTo>
                            <a:pt x="1436" y="4711"/>
                          </a:lnTo>
                          <a:lnTo>
                            <a:pt x="1352" y="4707"/>
                          </a:lnTo>
                          <a:lnTo>
                            <a:pt x="1269" y="4707"/>
                          </a:lnTo>
                          <a:lnTo>
                            <a:pt x="1186" y="4703"/>
                          </a:lnTo>
                          <a:lnTo>
                            <a:pt x="1102" y="4703"/>
                          </a:lnTo>
                          <a:lnTo>
                            <a:pt x="1023" y="4699"/>
                          </a:lnTo>
                          <a:lnTo>
                            <a:pt x="940" y="4699"/>
                          </a:lnTo>
                          <a:lnTo>
                            <a:pt x="857" y="4699"/>
                          </a:lnTo>
                          <a:lnTo>
                            <a:pt x="773" y="4699"/>
                          </a:lnTo>
                          <a:lnTo>
                            <a:pt x="694" y="4699"/>
                          </a:lnTo>
                          <a:lnTo>
                            <a:pt x="611" y="4703"/>
                          </a:lnTo>
                          <a:lnTo>
                            <a:pt x="162" y="4683"/>
                          </a:lnTo>
                          <a:lnTo>
                            <a:pt x="127" y="4648"/>
                          </a:lnTo>
                          <a:lnTo>
                            <a:pt x="123" y="4257"/>
                          </a:lnTo>
                          <a:lnTo>
                            <a:pt x="99" y="3870"/>
                          </a:lnTo>
                          <a:lnTo>
                            <a:pt x="71" y="3483"/>
                          </a:lnTo>
                          <a:lnTo>
                            <a:pt x="39" y="3100"/>
                          </a:lnTo>
                          <a:lnTo>
                            <a:pt x="16" y="2717"/>
                          </a:lnTo>
                          <a:lnTo>
                            <a:pt x="0" y="2338"/>
                          </a:lnTo>
                          <a:lnTo>
                            <a:pt x="4" y="1959"/>
                          </a:lnTo>
                          <a:lnTo>
                            <a:pt x="36" y="1583"/>
                          </a:lnTo>
                          <a:lnTo>
                            <a:pt x="28" y="1388"/>
                          </a:lnTo>
                          <a:lnTo>
                            <a:pt x="32" y="1192"/>
                          </a:lnTo>
                          <a:lnTo>
                            <a:pt x="43" y="1005"/>
                          </a:lnTo>
                          <a:lnTo>
                            <a:pt x="63" y="813"/>
                          </a:lnTo>
                          <a:lnTo>
                            <a:pt x="87" y="629"/>
                          </a:lnTo>
                          <a:lnTo>
                            <a:pt x="111" y="442"/>
                          </a:lnTo>
                          <a:lnTo>
                            <a:pt x="139" y="258"/>
                          </a:lnTo>
                          <a:lnTo>
                            <a:pt x="162" y="70"/>
                          </a:lnTo>
                          <a:lnTo>
                            <a:pt x="234" y="63"/>
                          </a:lnTo>
                          <a:lnTo>
                            <a:pt x="309" y="59"/>
                          </a:lnTo>
                          <a:lnTo>
                            <a:pt x="385" y="55"/>
                          </a:lnTo>
                          <a:lnTo>
                            <a:pt x="464" y="51"/>
                          </a:lnTo>
                          <a:lnTo>
                            <a:pt x="543" y="47"/>
                          </a:lnTo>
                          <a:lnTo>
                            <a:pt x="623" y="47"/>
                          </a:lnTo>
                          <a:lnTo>
                            <a:pt x="702" y="43"/>
                          </a:lnTo>
                          <a:lnTo>
                            <a:pt x="781" y="43"/>
                          </a:lnTo>
                          <a:lnTo>
                            <a:pt x="864" y="39"/>
                          </a:lnTo>
                          <a:lnTo>
                            <a:pt x="944" y="39"/>
                          </a:lnTo>
                          <a:lnTo>
                            <a:pt x="1023" y="35"/>
                          </a:lnTo>
                          <a:lnTo>
                            <a:pt x="1102" y="31"/>
                          </a:lnTo>
                          <a:lnTo>
                            <a:pt x="1178" y="27"/>
                          </a:lnTo>
                          <a:lnTo>
                            <a:pt x="1257" y="19"/>
                          </a:lnTo>
                          <a:lnTo>
                            <a:pt x="1329" y="12"/>
                          </a:lnTo>
                          <a:lnTo>
                            <a:pt x="1400" y="4"/>
                          </a:lnTo>
                          <a:lnTo>
                            <a:pt x="1559" y="0"/>
                          </a:lnTo>
                          <a:lnTo>
                            <a:pt x="1717" y="0"/>
                          </a:lnTo>
                          <a:lnTo>
                            <a:pt x="1876" y="0"/>
                          </a:lnTo>
                          <a:lnTo>
                            <a:pt x="2035" y="0"/>
                          </a:lnTo>
                          <a:lnTo>
                            <a:pt x="2189" y="0"/>
                          </a:lnTo>
                          <a:lnTo>
                            <a:pt x="2348" y="0"/>
                          </a:lnTo>
                          <a:lnTo>
                            <a:pt x="2503" y="4"/>
                          </a:lnTo>
                          <a:lnTo>
                            <a:pt x="2661" y="4"/>
                          </a:lnTo>
                          <a:lnTo>
                            <a:pt x="2816" y="8"/>
                          </a:lnTo>
                          <a:lnTo>
                            <a:pt x="2971" y="12"/>
                          </a:lnTo>
                          <a:lnTo>
                            <a:pt x="3129" y="16"/>
                          </a:lnTo>
                          <a:lnTo>
                            <a:pt x="3284" y="19"/>
                          </a:lnTo>
                          <a:lnTo>
                            <a:pt x="3439" y="27"/>
                          </a:lnTo>
                          <a:lnTo>
                            <a:pt x="3593" y="31"/>
                          </a:lnTo>
                          <a:lnTo>
                            <a:pt x="3752" y="35"/>
                          </a:lnTo>
                          <a:lnTo>
                            <a:pt x="3907" y="43"/>
                          </a:lnTo>
                          <a:lnTo>
                            <a:pt x="4061" y="47"/>
                          </a:lnTo>
                          <a:lnTo>
                            <a:pt x="4220" y="55"/>
                          </a:lnTo>
                          <a:lnTo>
                            <a:pt x="4375" y="59"/>
                          </a:lnTo>
                          <a:lnTo>
                            <a:pt x="4529" y="66"/>
                          </a:lnTo>
                          <a:lnTo>
                            <a:pt x="4688" y="70"/>
                          </a:lnTo>
                          <a:lnTo>
                            <a:pt x="4843" y="74"/>
                          </a:lnTo>
                          <a:lnTo>
                            <a:pt x="5001" y="82"/>
                          </a:lnTo>
                          <a:lnTo>
                            <a:pt x="5160" y="86"/>
                          </a:lnTo>
                          <a:lnTo>
                            <a:pt x="5319" y="94"/>
                          </a:lnTo>
                          <a:lnTo>
                            <a:pt x="5477" y="98"/>
                          </a:lnTo>
                          <a:lnTo>
                            <a:pt x="5636" y="102"/>
                          </a:lnTo>
                          <a:lnTo>
                            <a:pt x="5795" y="106"/>
                          </a:lnTo>
                          <a:lnTo>
                            <a:pt x="5953" y="109"/>
                          </a:lnTo>
                          <a:lnTo>
                            <a:pt x="6116" y="113"/>
                          </a:lnTo>
                          <a:lnTo>
                            <a:pt x="6275" y="113"/>
                          </a:lnTo>
                          <a:lnTo>
                            <a:pt x="6437" y="117"/>
                          </a:lnTo>
                          <a:close/>
                        </a:path>
                      </a:pathLst>
                    </a:custGeom>
                    <a:blipFill rotWithShape="0">
                      <a:blip r:embed="rId3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1" name=""/>
                    <p:cNvSpPr/>
                    <p:nvPr/>
                  </p:nvSpPr>
                  <p:spPr>
                    <a:xfrm>
                      <a:off x="8144280" y="1578600"/>
                      <a:ext cx="387720" cy="2950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27" h="4832">
                          <a:moveTo>
                            <a:pt x="274" y="258"/>
                          </a:moveTo>
                          <a:lnTo>
                            <a:pt x="298" y="242"/>
                          </a:lnTo>
                          <a:lnTo>
                            <a:pt x="322" y="227"/>
                          </a:lnTo>
                          <a:lnTo>
                            <a:pt x="349" y="219"/>
                          </a:lnTo>
                          <a:lnTo>
                            <a:pt x="377" y="211"/>
                          </a:lnTo>
                          <a:lnTo>
                            <a:pt x="405" y="207"/>
                          </a:lnTo>
                          <a:lnTo>
                            <a:pt x="433" y="207"/>
                          </a:lnTo>
                          <a:lnTo>
                            <a:pt x="464" y="203"/>
                          </a:lnTo>
                          <a:lnTo>
                            <a:pt x="492" y="203"/>
                          </a:lnTo>
                          <a:lnTo>
                            <a:pt x="460" y="223"/>
                          </a:lnTo>
                          <a:lnTo>
                            <a:pt x="429" y="246"/>
                          </a:lnTo>
                          <a:lnTo>
                            <a:pt x="397" y="266"/>
                          </a:lnTo>
                          <a:lnTo>
                            <a:pt x="365" y="285"/>
                          </a:lnTo>
                          <a:lnTo>
                            <a:pt x="334" y="309"/>
                          </a:lnTo>
                          <a:lnTo>
                            <a:pt x="310" y="336"/>
                          </a:lnTo>
                          <a:lnTo>
                            <a:pt x="290" y="367"/>
                          </a:lnTo>
                          <a:lnTo>
                            <a:pt x="274" y="402"/>
                          </a:lnTo>
                          <a:lnTo>
                            <a:pt x="302" y="414"/>
                          </a:lnTo>
                          <a:lnTo>
                            <a:pt x="330" y="414"/>
                          </a:lnTo>
                          <a:lnTo>
                            <a:pt x="361" y="414"/>
                          </a:lnTo>
                          <a:lnTo>
                            <a:pt x="393" y="410"/>
                          </a:lnTo>
                          <a:lnTo>
                            <a:pt x="425" y="406"/>
                          </a:lnTo>
                          <a:lnTo>
                            <a:pt x="460" y="402"/>
                          </a:lnTo>
                          <a:lnTo>
                            <a:pt x="492" y="406"/>
                          </a:lnTo>
                          <a:lnTo>
                            <a:pt x="524" y="414"/>
                          </a:lnTo>
                          <a:lnTo>
                            <a:pt x="492" y="434"/>
                          </a:lnTo>
                          <a:lnTo>
                            <a:pt x="460" y="449"/>
                          </a:lnTo>
                          <a:lnTo>
                            <a:pt x="425" y="461"/>
                          </a:lnTo>
                          <a:lnTo>
                            <a:pt x="393" y="477"/>
                          </a:lnTo>
                          <a:lnTo>
                            <a:pt x="357" y="492"/>
                          </a:lnTo>
                          <a:lnTo>
                            <a:pt x="330" y="512"/>
                          </a:lnTo>
                          <a:lnTo>
                            <a:pt x="310" y="539"/>
                          </a:lnTo>
                          <a:lnTo>
                            <a:pt x="294" y="574"/>
                          </a:lnTo>
                          <a:lnTo>
                            <a:pt x="318" y="586"/>
                          </a:lnTo>
                          <a:lnTo>
                            <a:pt x="341" y="594"/>
                          </a:lnTo>
                          <a:lnTo>
                            <a:pt x="365" y="594"/>
                          </a:lnTo>
                          <a:lnTo>
                            <a:pt x="389" y="590"/>
                          </a:lnTo>
                          <a:lnTo>
                            <a:pt x="417" y="586"/>
                          </a:lnTo>
                          <a:lnTo>
                            <a:pt x="441" y="582"/>
                          </a:lnTo>
                          <a:lnTo>
                            <a:pt x="468" y="574"/>
                          </a:lnTo>
                          <a:lnTo>
                            <a:pt x="492" y="574"/>
                          </a:lnTo>
                          <a:lnTo>
                            <a:pt x="472" y="594"/>
                          </a:lnTo>
                          <a:lnTo>
                            <a:pt x="453" y="610"/>
                          </a:lnTo>
                          <a:lnTo>
                            <a:pt x="429" y="621"/>
                          </a:lnTo>
                          <a:lnTo>
                            <a:pt x="405" y="633"/>
                          </a:lnTo>
                          <a:lnTo>
                            <a:pt x="381" y="645"/>
                          </a:lnTo>
                          <a:lnTo>
                            <a:pt x="361" y="660"/>
                          </a:lnTo>
                          <a:lnTo>
                            <a:pt x="349" y="680"/>
                          </a:lnTo>
                          <a:lnTo>
                            <a:pt x="341" y="707"/>
                          </a:lnTo>
                          <a:lnTo>
                            <a:pt x="365" y="735"/>
                          </a:lnTo>
                          <a:lnTo>
                            <a:pt x="393" y="750"/>
                          </a:lnTo>
                          <a:lnTo>
                            <a:pt x="429" y="754"/>
                          </a:lnTo>
                          <a:lnTo>
                            <a:pt x="464" y="754"/>
                          </a:lnTo>
                          <a:lnTo>
                            <a:pt x="500" y="754"/>
                          </a:lnTo>
                          <a:lnTo>
                            <a:pt x="536" y="754"/>
                          </a:lnTo>
                          <a:lnTo>
                            <a:pt x="568" y="754"/>
                          </a:lnTo>
                          <a:lnTo>
                            <a:pt x="595" y="766"/>
                          </a:lnTo>
                          <a:lnTo>
                            <a:pt x="556" y="782"/>
                          </a:lnTo>
                          <a:lnTo>
                            <a:pt x="520" y="797"/>
                          </a:lnTo>
                          <a:lnTo>
                            <a:pt x="488" y="821"/>
                          </a:lnTo>
                          <a:lnTo>
                            <a:pt x="457" y="848"/>
                          </a:lnTo>
                          <a:lnTo>
                            <a:pt x="433" y="879"/>
                          </a:lnTo>
                          <a:lnTo>
                            <a:pt x="409" y="911"/>
                          </a:lnTo>
                          <a:lnTo>
                            <a:pt x="389" y="946"/>
                          </a:lnTo>
                          <a:lnTo>
                            <a:pt x="377" y="981"/>
                          </a:lnTo>
                          <a:lnTo>
                            <a:pt x="405" y="993"/>
                          </a:lnTo>
                          <a:lnTo>
                            <a:pt x="437" y="993"/>
                          </a:lnTo>
                          <a:lnTo>
                            <a:pt x="464" y="989"/>
                          </a:lnTo>
                          <a:lnTo>
                            <a:pt x="496" y="981"/>
                          </a:lnTo>
                          <a:lnTo>
                            <a:pt x="524" y="973"/>
                          </a:lnTo>
                          <a:lnTo>
                            <a:pt x="556" y="965"/>
                          </a:lnTo>
                          <a:lnTo>
                            <a:pt x="583" y="962"/>
                          </a:lnTo>
                          <a:lnTo>
                            <a:pt x="615" y="969"/>
                          </a:lnTo>
                          <a:lnTo>
                            <a:pt x="579" y="997"/>
                          </a:lnTo>
                          <a:lnTo>
                            <a:pt x="536" y="1024"/>
                          </a:lnTo>
                          <a:lnTo>
                            <a:pt x="492" y="1051"/>
                          </a:lnTo>
                          <a:lnTo>
                            <a:pt x="449" y="1079"/>
                          </a:lnTo>
                          <a:lnTo>
                            <a:pt x="409" y="1114"/>
                          </a:lnTo>
                          <a:lnTo>
                            <a:pt x="385" y="1149"/>
                          </a:lnTo>
                          <a:lnTo>
                            <a:pt x="381" y="1196"/>
                          </a:lnTo>
                          <a:lnTo>
                            <a:pt x="397" y="1251"/>
                          </a:lnTo>
                          <a:lnTo>
                            <a:pt x="417" y="1247"/>
                          </a:lnTo>
                          <a:lnTo>
                            <a:pt x="437" y="1239"/>
                          </a:lnTo>
                          <a:lnTo>
                            <a:pt x="457" y="1231"/>
                          </a:lnTo>
                          <a:lnTo>
                            <a:pt x="476" y="1223"/>
                          </a:lnTo>
                          <a:lnTo>
                            <a:pt x="496" y="1216"/>
                          </a:lnTo>
                          <a:lnTo>
                            <a:pt x="516" y="1212"/>
                          </a:lnTo>
                          <a:lnTo>
                            <a:pt x="536" y="1212"/>
                          </a:lnTo>
                          <a:lnTo>
                            <a:pt x="560" y="1216"/>
                          </a:lnTo>
                          <a:lnTo>
                            <a:pt x="528" y="1227"/>
                          </a:lnTo>
                          <a:lnTo>
                            <a:pt x="500" y="1243"/>
                          </a:lnTo>
                          <a:lnTo>
                            <a:pt x="472" y="1266"/>
                          </a:lnTo>
                          <a:lnTo>
                            <a:pt x="449" y="1290"/>
                          </a:lnTo>
                          <a:lnTo>
                            <a:pt x="429" y="1317"/>
                          </a:lnTo>
                          <a:lnTo>
                            <a:pt x="409" y="1349"/>
                          </a:lnTo>
                          <a:lnTo>
                            <a:pt x="397" y="1376"/>
                          </a:lnTo>
                          <a:lnTo>
                            <a:pt x="389" y="1407"/>
                          </a:lnTo>
                          <a:lnTo>
                            <a:pt x="421" y="1415"/>
                          </a:lnTo>
                          <a:lnTo>
                            <a:pt x="453" y="1419"/>
                          </a:lnTo>
                          <a:lnTo>
                            <a:pt x="480" y="1419"/>
                          </a:lnTo>
                          <a:lnTo>
                            <a:pt x="508" y="1415"/>
                          </a:lnTo>
                          <a:lnTo>
                            <a:pt x="532" y="1415"/>
                          </a:lnTo>
                          <a:lnTo>
                            <a:pt x="560" y="1415"/>
                          </a:lnTo>
                          <a:lnTo>
                            <a:pt x="587" y="1419"/>
                          </a:lnTo>
                          <a:lnTo>
                            <a:pt x="615" y="1431"/>
                          </a:lnTo>
                          <a:lnTo>
                            <a:pt x="587" y="1442"/>
                          </a:lnTo>
                          <a:lnTo>
                            <a:pt x="556" y="1454"/>
                          </a:lnTo>
                          <a:lnTo>
                            <a:pt x="524" y="1474"/>
                          </a:lnTo>
                          <a:lnTo>
                            <a:pt x="496" y="1489"/>
                          </a:lnTo>
                          <a:lnTo>
                            <a:pt x="472" y="1513"/>
                          </a:lnTo>
                          <a:lnTo>
                            <a:pt x="449" y="1540"/>
                          </a:lnTo>
                          <a:lnTo>
                            <a:pt x="433" y="1567"/>
                          </a:lnTo>
                          <a:lnTo>
                            <a:pt x="421" y="1599"/>
                          </a:lnTo>
                          <a:lnTo>
                            <a:pt x="437" y="1614"/>
                          </a:lnTo>
                          <a:lnTo>
                            <a:pt x="453" y="1622"/>
                          </a:lnTo>
                          <a:lnTo>
                            <a:pt x="476" y="1622"/>
                          </a:lnTo>
                          <a:lnTo>
                            <a:pt x="496" y="1622"/>
                          </a:lnTo>
                          <a:lnTo>
                            <a:pt x="516" y="1622"/>
                          </a:lnTo>
                          <a:lnTo>
                            <a:pt x="540" y="1622"/>
                          </a:lnTo>
                          <a:lnTo>
                            <a:pt x="556" y="1630"/>
                          </a:lnTo>
                          <a:lnTo>
                            <a:pt x="572" y="1646"/>
                          </a:lnTo>
                          <a:lnTo>
                            <a:pt x="544" y="1669"/>
                          </a:lnTo>
                          <a:lnTo>
                            <a:pt x="512" y="1689"/>
                          </a:lnTo>
                          <a:lnTo>
                            <a:pt x="476" y="1712"/>
                          </a:lnTo>
                          <a:lnTo>
                            <a:pt x="445" y="1736"/>
                          </a:lnTo>
                          <a:lnTo>
                            <a:pt x="413" y="1759"/>
                          </a:lnTo>
                          <a:lnTo>
                            <a:pt x="385" y="1790"/>
                          </a:lnTo>
                          <a:lnTo>
                            <a:pt x="365" y="1822"/>
                          </a:lnTo>
                          <a:lnTo>
                            <a:pt x="353" y="1861"/>
                          </a:lnTo>
                          <a:lnTo>
                            <a:pt x="373" y="1880"/>
                          </a:lnTo>
                          <a:lnTo>
                            <a:pt x="393" y="1884"/>
                          </a:lnTo>
                          <a:lnTo>
                            <a:pt x="417" y="1880"/>
                          </a:lnTo>
                          <a:lnTo>
                            <a:pt x="441" y="1872"/>
                          </a:lnTo>
                          <a:lnTo>
                            <a:pt x="464" y="1861"/>
                          </a:lnTo>
                          <a:lnTo>
                            <a:pt x="488" y="1849"/>
                          </a:lnTo>
                          <a:lnTo>
                            <a:pt x="512" y="1837"/>
                          </a:lnTo>
                          <a:lnTo>
                            <a:pt x="536" y="1837"/>
                          </a:lnTo>
                          <a:lnTo>
                            <a:pt x="615" y="1837"/>
                          </a:lnTo>
                          <a:lnTo>
                            <a:pt x="568" y="1853"/>
                          </a:lnTo>
                          <a:lnTo>
                            <a:pt x="520" y="1872"/>
                          </a:lnTo>
                          <a:lnTo>
                            <a:pt x="468" y="1896"/>
                          </a:lnTo>
                          <a:lnTo>
                            <a:pt x="421" y="1923"/>
                          </a:lnTo>
                          <a:lnTo>
                            <a:pt x="377" y="1955"/>
                          </a:lnTo>
                          <a:lnTo>
                            <a:pt x="338" y="1990"/>
                          </a:lnTo>
                          <a:lnTo>
                            <a:pt x="310" y="2033"/>
                          </a:lnTo>
                          <a:lnTo>
                            <a:pt x="294" y="2084"/>
                          </a:lnTo>
                          <a:lnTo>
                            <a:pt x="330" y="2103"/>
                          </a:lnTo>
                          <a:lnTo>
                            <a:pt x="365" y="2111"/>
                          </a:lnTo>
                          <a:lnTo>
                            <a:pt x="401" y="2103"/>
                          </a:lnTo>
                          <a:lnTo>
                            <a:pt x="437" y="2095"/>
                          </a:lnTo>
                          <a:lnTo>
                            <a:pt x="472" y="2087"/>
                          </a:lnTo>
                          <a:lnTo>
                            <a:pt x="508" y="2084"/>
                          </a:lnTo>
                          <a:lnTo>
                            <a:pt x="544" y="2091"/>
                          </a:lnTo>
                          <a:lnTo>
                            <a:pt x="583" y="2119"/>
                          </a:lnTo>
                          <a:lnTo>
                            <a:pt x="548" y="2130"/>
                          </a:lnTo>
                          <a:lnTo>
                            <a:pt x="512" y="2142"/>
                          </a:lnTo>
                          <a:lnTo>
                            <a:pt x="476" y="2158"/>
                          </a:lnTo>
                          <a:lnTo>
                            <a:pt x="441" y="2173"/>
                          </a:lnTo>
                          <a:lnTo>
                            <a:pt x="405" y="2193"/>
                          </a:lnTo>
                          <a:lnTo>
                            <a:pt x="381" y="2216"/>
                          </a:lnTo>
                          <a:lnTo>
                            <a:pt x="361" y="2244"/>
                          </a:lnTo>
                          <a:lnTo>
                            <a:pt x="353" y="2275"/>
                          </a:lnTo>
                          <a:lnTo>
                            <a:pt x="381" y="2291"/>
                          </a:lnTo>
                          <a:lnTo>
                            <a:pt x="409" y="2295"/>
                          </a:lnTo>
                          <a:lnTo>
                            <a:pt x="437" y="2299"/>
                          </a:lnTo>
                          <a:lnTo>
                            <a:pt x="464" y="2299"/>
                          </a:lnTo>
                          <a:lnTo>
                            <a:pt x="488" y="2302"/>
                          </a:lnTo>
                          <a:lnTo>
                            <a:pt x="516" y="2302"/>
                          </a:lnTo>
                          <a:lnTo>
                            <a:pt x="544" y="2310"/>
                          </a:lnTo>
                          <a:lnTo>
                            <a:pt x="572" y="2322"/>
                          </a:lnTo>
                          <a:lnTo>
                            <a:pt x="540" y="2345"/>
                          </a:lnTo>
                          <a:lnTo>
                            <a:pt x="504" y="2365"/>
                          </a:lnTo>
                          <a:lnTo>
                            <a:pt x="464" y="2381"/>
                          </a:lnTo>
                          <a:lnTo>
                            <a:pt x="425" y="2396"/>
                          </a:lnTo>
                          <a:lnTo>
                            <a:pt x="389" y="2416"/>
                          </a:lnTo>
                          <a:lnTo>
                            <a:pt x="353" y="2439"/>
                          </a:lnTo>
                          <a:lnTo>
                            <a:pt x="326" y="2471"/>
                          </a:lnTo>
                          <a:lnTo>
                            <a:pt x="306" y="2514"/>
                          </a:lnTo>
                          <a:lnTo>
                            <a:pt x="341" y="2525"/>
                          </a:lnTo>
                          <a:lnTo>
                            <a:pt x="381" y="2529"/>
                          </a:lnTo>
                          <a:lnTo>
                            <a:pt x="421" y="2521"/>
                          </a:lnTo>
                          <a:lnTo>
                            <a:pt x="460" y="2514"/>
                          </a:lnTo>
                          <a:lnTo>
                            <a:pt x="496" y="2506"/>
                          </a:lnTo>
                          <a:lnTo>
                            <a:pt x="536" y="2502"/>
                          </a:lnTo>
                          <a:lnTo>
                            <a:pt x="576" y="2506"/>
                          </a:lnTo>
                          <a:lnTo>
                            <a:pt x="615" y="2525"/>
                          </a:lnTo>
                          <a:lnTo>
                            <a:pt x="579" y="2537"/>
                          </a:lnTo>
                          <a:lnTo>
                            <a:pt x="540" y="2549"/>
                          </a:lnTo>
                          <a:lnTo>
                            <a:pt x="500" y="2564"/>
                          </a:lnTo>
                          <a:lnTo>
                            <a:pt x="464" y="2580"/>
                          </a:lnTo>
                          <a:lnTo>
                            <a:pt x="429" y="2596"/>
                          </a:lnTo>
                          <a:lnTo>
                            <a:pt x="393" y="2615"/>
                          </a:lnTo>
                          <a:lnTo>
                            <a:pt x="365" y="2643"/>
                          </a:lnTo>
                          <a:lnTo>
                            <a:pt x="341" y="2670"/>
                          </a:lnTo>
                          <a:lnTo>
                            <a:pt x="373" y="2689"/>
                          </a:lnTo>
                          <a:lnTo>
                            <a:pt x="413" y="2701"/>
                          </a:lnTo>
                          <a:lnTo>
                            <a:pt x="453" y="2705"/>
                          </a:lnTo>
                          <a:lnTo>
                            <a:pt x="496" y="2705"/>
                          </a:lnTo>
                          <a:lnTo>
                            <a:pt x="536" y="2705"/>
                          </a:lnTo>
                          <a:lnTo>
                            <a:pt x="576" y="2705"/>
                          </a:lnTo>
                          <a:lnTo>
                            <a:pt x="607" y="2701"/>
                          </a:lnTo>
                          <a:lnTo>
                            <a:pt x="627" y="2705"/>
                          </a:lnTo>
                          <a:lnTo>
                            <a:pt x="579" y="2725"/>
                          </a:lnTo>
                          <a:lnTo>
                            <a:pt x="532" y="2748"/>
                          </a:lnTo>
                          <a:lnTo>
                            <a:pt x="484" y="2772"/>
                          </a:lnTo>
                          <a:lnTo>
                            <a:pt x="441" y="2799"/>
                          </a:lnTo>
                          <a:lnTo>
                            <a:pt x="397" y="2834"/>
                          </a:lnTo>
                          <a:lnTo>
                            <a:pt x="361" y="2869"/>
                          </a:lnTo>
                          <a:lnTo>
                            <a:pt x="330" y="2908"/>
                          </a:lnTo>
                          <a:lnTo>
                            <a:pt x="306" y="2955"/>
                          </a:lnTo>
                          <a:lnTo>
                            <a:pt x="338" y="2971"/>
                          </a:lnTo>
                          <a:lnTo>
                            <a:pt x="373" y="2979"/>
                          </a:lnTo>
                          <a:lnTo>
                            <a:pt x="413" y="2979"/>
                          </a:lnTo>
                          <a:lnTo>
                            <a:pt x="457" y="2971"/>
                          </a:lnTo>
                          <a:lnTo>
                            <a:pt x="500" y="2967"/>
                          </a:lnTo>
                          <a:lnTo>
                            <a:pt x="544" y="2963"/>
                          </a:lnTo>
                          <a:lnTo>
                            <a:pt x="587" y="2967"/>
                          </a:lnTo>
                          <a:lnTo>
                            <a:pt x="627" y="2975"/>
                          </a:lnTo>
                          <a:lnTo>
                            <a:pt x="591" y="2998"/>
                          </a:lnTo>
                          <a:lnTo>
                            <a:pt x="552" y="3022"/>
                          </a:lnTo>
                          <a:lnTo>
                            <a:pt x="504" y="3045"/>
                          </a:lnTo>
                          <a:lnTo>
                            <a:pt x="460" y="3069"/>
                          </a:lnTo>
                          <a:lnTo>
                            <a:pt x="413" y="3100"/>
                          </a:lnTo>
                          <a:lnTo>
                            <a:pt x="373" y="3135"/>
                          </a:lnTo>
                          <a:lnTo>
                            <a:pt x="341" y="3174"/>
                          </a:lnTo>
                          <a:lnTo>
                            <a:pt x="318" y="3221"/>
                          </a:lnTo>
                          <a:lnTo>
                            <a:pt x="353" y="3237"/>
                          </a:lnTo>
                          <a:lnTo>
                            <a:pt x="393" y="3237"/>
                          </a:lnTo>
                          <a:lnTo>
                            <a:pt x="429" y="3229"/>
                          </a:lnTo>
                          <a:lnTo>
                            <a:pt x="468" y="3213"/>
                          </a:lnTo>
                          <a:lnTo>
                            <a:pt x="504" y="3202"/>
                          </a:lnTo>
                          <a:lnTo>
                            <a:pt x="540" y="3198"/>
                          </a:lnTo>
                          <a:lnTo>
                            <a:pt x="579" y="3206"/>
                          </a:lnTo>
                          <a:lnTo>
                            <a:pt x="615" y="3233"/>
                          </a:lnTo>
                          <a:lnTo>
                            <a:pt x="579" y="3252"/>
                          </a:lnTo>
                          <a:lnTo>
                            <a:pt x="544" y="3276"/>
                          </a:lnTo>
                          <a:lnTo>
                            <a:pt x="508" y="3295"/>
                          </a:lnTo>
                          <a:lnTo>
                            <a:pt x="472" y="3319"/>
                          </a:lnTo>
                          <a:lnTo>
                            <a:pt x="441" y="3342"/>
                          </a:lnTo>
                          <a:lnTo>
                            <a:pt x="409" y="3370"/>
                          </a:lnTo>
                          <a:lnTo>
                            <a:pt x="385" y="3401"/>
                          </a:lnTo>
                          <a:lnTo>
                            <a:pt x="365" y="3436"/>
                          </a:lnTo>
                          <a:lnTo>
                            <a:pt x="389" y="3467"/>
                          </a:lnTo>
                          <a:lnTo>
                            <a:pt x="417" y="3479"/>
                          </a:lnTo>
                          <a:lnTo>
                            <a:pt x="445" y="3479"/>
                          </a:lnTo>
                          <a:lnTo>
                            <a:pt x="480" y="3471"/>
                          </a:lnTo>
                          <a:lnTo>
                            <a:pt x="512" y="3460"/>
                          </a:lnTo>
                          <a:lnTo>
                            <a:pt x="548" y="3452"/>
                          </a:lnTo>
                          <a:lnTo>
                            <a:pt x="579" y="3452"/>
                          </a:lnTo>
                          <a:lnTo>
                            <a:pt x="615" y="3467"/>
                          </a:lnTo>
                          <a:lnTo>
                            <a:pt x="572" y="3495"/>
                          </a:lnTo>
                          <a:lnTo>
                            <a:pt x="524" y="3518"/>
                          </a:lnTo>
                          <a:lnTo>
                            <a:pt x="476" y="3542"/>
                          </a:lnTo>
                          <a:lnTo>
                            <a:pt x="429" y="3569"/>
                          </a:lnTo>
                          <a:lnTo>
                            <a:pt x="381" y="3600"/>
                          </a:lnTo>
                          <a:lnTo>
                            <a:pt x="341" y="3636"/>
                          </a:lnTo>
                          <a:lnTo>
                            <a:pt x="310" y="3679"/>
                          </a:lnTo>
                          <a:lnTo>
                            <a:pt x="286" y="3729"/>
                          </a:lnTo>
                          <a:lnTo>
                            <a:pt x="318" y="3741"/>
                          </a:lnTo>
                          <a:lnTo>
                            <a:pt x="353" y="3741"/>
                          </a:lnTo>
                          <a:lnTo>
                            <a:pt x="389" y="3737"/>
                          </a:lnTo>
                          <a:lnTo>
                            <a:pt x="425" y="3725"/>
                          </a:lnTo>
                          <a:lnTo>
                            <a:pt x="460" y="3718"/>
                          </a:lnTo>
                          <a:lnTo>
                            <a:pt x="496" y="3714"/>
                          </a:lnTo>
                          <a:lnTo>
                            <a:pt x="532" y="3714"/>
                          </a:lnTo>
                          <a:lnTo>
                            <a:pt x="572" y="3729"/>
                          </a:lnTo>
                          <a:lnTo>
                            <a:pt x="540" y="3757"/>
                          </a:lnTo>
                          <a:lnTo>
                            <a:pt x="504" y="3780"/>
                          </a:lnTo>
                          <a:lnTo>
                            <a:pt x="464" y="3808"/>
                          </a:lnTo>
                          <a:lnTo>
                            <a:pt x="429" y="3831"/>
                          </a:lnTo>
                          <a:lnTo>
                            <a:pt x="389" y="3858"/>
                          </a:lnTo>
                          <a:lnTo>
                            <a:pt x="361" y="3890"/>
                          </a:lnTo>
                          <a:lnTo>
                            <a:pt x="334" y="3925"/>
                          </a:lnTo>
                          <a:lnTo>
                            <a:pt x="318" y="3964"/>
                          </a:lnTo>
                          <a:lnTo>
                            <a:pt x="345" y="3980"/>
                          </a:lnTo>
                          <a:lnTo>
                            <a:pt x="377" y="3987"/>
                          </a:lnTo>
                          <a:lnTo>
                            <a:pt x="409" y="3987"/>
                          </a:lnTo>
                          <a:lnTo>
                            <a:pt x="441" y="3984"/>
                          </a:lnTo>
                          <a:lnTo>
                            <a:pt x="476" y="3976"/>
                          </a:lnTo>
                          <a:lnTo>
                            <a:pt x="508" y="3976"/>
                          </a:lnTo>
                          <a:lnTo>
                            <a:pt x="540" y="3976"/>
                          </a:lnTo>
                          <a:lnTo>
                            <a:pt x="572" y="3987"/>
                          </a:lnTo>
                          <a:lnTo>
                            <a:pt x="294" y="4191"/>
                          </a:lnTo>
                          <a:lnTo>
                            <a:pt x="306" y="4210"/>
                          </a:lnTo>
                          <a:lnTo>
                            <a:pt x="322" y="4222"/>
                          </a:lnTo>
                          <a:lnTo>
                            <a:pt x="338" y="4222"/>
                          </a:lnTo>
                          <a:lnTo>
                            <a:pt x="357" y="4218"/>
                          </a:lnTo>
                          <a:lnTo>
                            <a:pt x="373" y="4214"/>
                          </a:lnTo>
                          <a:lnTo>
                            <a:pt x="389" y="4202"/>
                          </a:lnTo>
                          <a:lnTo>
                            <a:pt x="405" y="4195"/>
                          </a:lnTo>
                          <a:lnTo>
                            <a:pt x="421" y="4191"/>
                          </a:lnTo>
                          <a:lnTo>
                            <a:pt x="595" y="4191"/>
                          </a:lnTo>
                          <a:lnTo>
                            <a:pt x="552" y="4202"/>
                          </a:lnTo>
                          <a:lnTo>
                            <a:pt x="504" y="4214"/>
                          </a:lnTo>
                          <a:lnTo>
                            <a:pt x="460" y="4230"/>
                          </a:lnTo>
                          <a:lnTo>
                            <a:pt x="413" y="4245"/>
                          </a:lnTo>
                          <a:lnTo>
                            <a:pt x="369" y="4269"/>
                          </a:lnTo>
                          <a:lnTo>
                            <a:pt x="326" y="4296"/>
                          </a:lnTo>
                          <a:lnTo>
                            <a:pt x="286" y="4331"/>
                          </a:lnTo>
                          <a:lnTo>
                            <a:pt x="250" y="4371"/>
                          </a:lnTo>
                          <a:lnTo>
                            <a:pt x="250" y="4394"/>
                          </a:lnTo>
                          <a:lnTo>
                            <a:pt x="254" y="4414"/>
                          </a:lnTo>
                          <a:lnTo>
                            <a:pt x="266" y="4429"/>
                          </a:lnTo>
                          <a:lnTo>
                            <a:pt x="286" y="4437"/>
                          </a:lnTo>
                          <a:lnTo>
                            <a:pt x="314" y="4433"/>
                          </a:lnTo>
                          <a:lnTo>
                            <a:pt x="338" y="4433"/>
                          </a:lnTo>
                          <a:lnTo>
                            <a:pt x="365" y="4425"/>
                          </a:lnTo>
                          <a:lnTo>
                            <a:pt x="389" y="4421"/>
                          </a:lnTo>
                          <a:lnTo>
                            <a:pt x="417" y="4417"/>
                          </a:lnTo>
                          <a:lnTo>
                            <a:pt x="445" y="4417"/>
                          </a:lnTo>
                          <a:lnTo>
                            <a:pt x="472" y="4417"/>
                          </a:lnTo>
                          <a:lnTo>
                            <a:pt x="500" y="4417"/>
                          </a:lnTo>
                          <a:lnTo>
                            <a:pt x="500" y="4429"/>
                          </a:lnTo>
                          <a:lnTo>
                            <a:pt x="457" y="4457"/>
                          </a:lnTo>
                          <a:lnTo>
                            <a:pt x="409" y="4480"/>
                          </a:lnTo>
                          <a:lnTo>
                            <a:pt x="365" y="4503"/>
                          </a:lnTo>
                          <a:lnTo>
                            <a:pt x="326" y="4531"/>
                          </a:lnTo>
                          <a:lnTo>
                            <a:pt x="282" y="4558"/>
                          </a:lnTo>
                          <a:lnTo>
                            <a:pt x="242" y="4589"/>
                          </a:lnTo>
                          <a:lnTo>
                            <a:pt x="207" y="4625"/>
                          </a:lnTo>
                          <a:lnTo>
                            <a:pt x="171" y="4664"/>
                          </a:lnTo>
                          <a:lnTo>
                            <a:pt x="195" y="4683"/>
                          </a:lnTo>
                          <a:lnTo>
                            <a:pt x="215" y="4687"/>
                          </a:lnTo>
                          <a:lnTo>
                            <a:pt x="234" y="4687"/>
                          </a:lnTo>
                          <a:lnTo>
                            <a:pt x="258" y="4679"/>
                          </a:lnTo>
                          <a:lnTo>
                            <a:pt x="278" y="4668"/>
                          </a:lnTo>
                          <a:lnTo>
                            <a:pt x="302" y="4660"/>
                          </a:lnTo>
                          <a:lnTo>
                            <a:pt x="326" y="4656"/>
                          </a:lnTo>
                          <a:lnTo>
                            <a:pt x="353" y="4664"/>
                          </a:lnTo>
                          <a:lnTo>
                            <a:pt x="318" y="4683"/>
                          </a:lnTo>
                          <a:lnTo>
                            <a:pt x="278" y="4699"/>
                          </a:lnTo>
                          <a:lnTo>
                            <a:pt x="238" y="4715"/>
                          </a:lnTo>
                          <a:lnTo>
                            <a:pt x="199" y="4730"/>
                          </a:lnTo>
                          <a:lnTo>
                            <a:pt x="159" y="4750"/>
                          </a:lnTo>
                          <a:lnTo>
                            <a:pt x="119" y="4773"/>
                          </a:lnTo>
                          <a:lnTo>
                            <a:pt x="84" y="4801"/>
                          </a:lnTo>
                          <a:lnTo>
                            <a:pt x="56" y="4832"/>
                          </a:lnTo>
                          <a:lnTo>
                            <a:pt x="8" y="4801"/>
                          </a:lnTo>
                          <a:lnTo>
                            <a:pt x="0" y="4480"/>
                          </a:lnTo>
                          <a:lnTo>
                            <a:pt x="4" y="4159"/>
                          </a:lnTo>
                          <a:lnTo>
                            <a:pt x="16" y="3839"/>
                          </a:lnTo>
                          <a:lnTo>
                            <a:pt x="36" y="3522"/>
                          </a:lnTo>
                          <a:lnTo>
                            <a:pt x="60" y="3206"/>
                          </a:lnTo>
                          <a:lnTo>
                            <a:pt x="84" y="2889"/>
                          </a:lnTo>
                          <a:lnTo>
                            <a:pt x="111" y="2576"/>
                          </a:lnTo>
                          <a:lnTo>
                            <a:pt x="135" y="2267"/>
                          </a:lnTo>
                          <a:lnTo>
                            <a:pt x="147" y="1708"/>
                          </a:lnTo>
                          <a:lnTo>
                            <a:pt x="143" y="1161"/>
                          </a:lnTo>
                          <a:lnTo>
                            <a:pt x="127" y="621"/>
                          </a:lnTo>
                          <a:lnTo>
                            <a:pt x="100" y="90"/>
                          </a:lnTo>
                          <a:lnTo>
                            <a:pt x="131" y="70"/>
                          </a:lnTo>
                          <a:lnTo>
                            <a:pt x="163" y="58"/>
                          </a:lnTo>
                          <a:lnTo>
                            <a:pt x="195" y="47"/>
                          </a:lnTo>
                          <a:lnTo>
                            <a:pt x="230" y="39"/>
                          </a:lnTo>
                          <a:lnTo>
                            <a:pt x="266" y="31"/>
                          </a:lnTo>
                          <a:lnTo>
                            <a:pt x="298" y="23"/>
                          </a:lnTo>
                          <a:lnTo>
                            <a:pt x="334" y="12"/>
                          </a:lnTo>
                          <a:lnTo>
                            <a:pt x="365" y="0"/>
                          </a:lnTo>
                          <a:lnTo>
                            <a:pt x="345" y="23"/>
                          </a:lnTo>
                          <a:lnTo>
                            <a:pt x="322" y="51"/>
                          </a:lnTo>
                          <a:lnTo>
                            <a:pt x="298" y="78"/>
                          </a:lnTo>
                          <a:lnTo>
                            <a:pt x="278" y="113"/>
                          </a:lnTo>
                          <a:lnTo>
                            <a:pt x="262" y="148"/>
                          </a:lnTo>
                          <a:lnTo>
                            <a:pt x="254" y="184"/>
                          </a:lnTo>
                          <a:lnTo>
                            <a:pt x="258" y="223"/>
                          </a:lnTo>
                          <a:lnTo>
                            <a:pt x="274" y="258"/>
                          </a:lnTo>
                          <a:close/>
                        </a:path>
                      </a:pathLst>
                    </a:cu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2" name=""/>
                    <p:cNvSpPr/>
                    <p:nvPr/>
                  </p:nvSpPr>
                  <p:spPr>
                    <a:xfrm>
                      <a:off x="3866040" y="1583640"/>
                      <a:ext cx="353160" cy="2830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71" h="4636">
                          <a:moveTo>
                            <a:pt x="559" y="82"/>
                          </a:moveTo>
                          <a:lnTo>
                            <a:pt x="543" y="308"/>
                          </a:lnTo>
                          <a:lnTo>
                            <a:pt x="524" y="539"/>
                          </a:lnTo>
                          <a:lnTo>
                            <a:pt x="500" y="774"/>
                          </a:lnTo>
                          <a:lnTo>
                            <a:pt x="468" y="1004"/>
                          </a:lnTo>
                          <a:lnTo>
                            <a:pt x="472" y="1376"/>
                          </a:lnTo>
                          <a:lnTo>
                            <a:pt x="468" y="1743"/>
                          </a:lnTo>
                          <a:lnTo>
                            <a:pt x="468" y="2103"/>
                          </a:lnTo>
                          <a:lnTo>
                            <a:pt x="468" y="2459"/>
                          </a:lnTo>
                          <a:lnTo>
                            <a:pt x="472" y="2810"/>
                          </a:lnTo>
                          <a:lnTo>
                            <a:pt x="484" y="3162"/>
                          </a:lnTo>
                          <a:lnTo>
                            <a:pt x="508" y="3514"/>
                          </a:lnTo>
                          <a:lnTo>
                            <a:pt x="547" y="3866"/>
                          </a:lnTo>
                          <a:lnTo>
                            <a:pt x="555" y="4038"/>
                          </a:lnTo>
                          <a:lnTo>
                            <a:pt x="567" y="4230"/>
                          </a:lnTo>
                          <a:lnTo>
                            <a:pt x="571" y="4425"/>
                          </a:lnTo>
                          <a:lnTo>
                            <a:pt x="559" y="4613"/>
                          </a:lnTo>
                          <a:lnTo>
                            <a:pt x="377" y="4632"/>
                          </a:lnTo>
                          <a:lnTo>
                            <a:pt x="369" y="4636"/>
                          </a:lnTo>
                          <a:lnTo>
                            <a:pt x="385" y="4632"/>
                          </a:lnTo>
                          <a:lnTo>
                            <a:pt x="401" y="4624"/>
                          </a:lnTo>
                          <a:lnTo>
                            <a:pt x="413" y="4613"/>
                          </a:lnTo>
                          <a:lnTo>
                            <a:pt x="413" y="4593"/>
                          </a:lnTo>
                          <a:lnTo>
                            <a:pt x="405" y="4574"/>
                          </a:lnTo>
                          <a:lnTo>
                            <a:pt x="393" y="4558"/>
                          </a:lnTo>
                          <a:lnTo>
                            <a:pt x="377" y="4542"/>
                          </a:lnTo>
                          <a:lnTo>
                            <a:pt x="353" y="4538"/>
                          </a:lnTo>
                          <a:lnTo>
                            <a:pt x="329" y="4542"/>
                          </a:lnTo>
                          <a:lnTo>
                            <a:pt x="309" y="4550"/>
                          </a:lnTo>
                          <a:lnTo>
                            <a:pt x="294" y="4562"/>
                          </a:lnTo>
                          <a:lnTo>
                            <a:pt x="278" y="4574"/>
                          </a:lnTo>
                          <a:lnTo>
                            <a:pt x="258" y="4585"/>
                          </a:lnTo>
                          <a:lnTo>
                            <a:pt x="238" y="4597"/>
                          </a:lnTo>
                          <a:lnTo>
                            <a:pt x="218" y="4601"/>
                          </a:lnTo>
                          <a:lnTo>
                            <a:pt x="234" y="4570"/>
                          </a:lnTo>
                          <a:lnTo>
                            <a:pt x="262" y="4538"/>
                          </a:lnTo>
                          <a:lnTo>
                            <a:pt x="298" y="4511"/>
                          </a:lnTo>
                          <a:lnTo>
                            <a:pt x="337" y="4488"/>
                          </a:lnTo>
                          <a:lnTo>
                            <a:pt x="377" y="4464"/>
                          </a:lnTo>
                          <a:lnTo>
                            <a:pt x="413" y="4437"/>
                          </a:lnTo>
                          <a:lnTo>
                            <a:pt x="444" y="4406"/>
                          </a:lnTo>
                          <a:lnTo>
                            <a:pt x="468" y="4374"/>
                          </a:lnTo>
                          <a:lnTo>
                            <a:pt x="424" y="4363"/>
                          </a:lnTo>
                          <a:lnTo>
                            <a:pt x="381" y="4355"/>
                          </a:lnTo>
                          <a:lnTo>
                            <a:pt x="333" y="4351"/>
                          </a:lnTo>
                          <a:lnTo>
                            <a:pt x="290" y="4355"/>
                          </a:lnTo>
                          <a:lnTo>
                            <a:pt x="242" y="4359"/>
                          </a:lnTo>
                          <a:lnTo>
                            <a:pt x="198" y="4370"/>
                          </a:lnTo>
                          <a:lnTo>
                            <a:pt x="155" y="4382"/>
                          </a:lnTo>
                          <a:lnTo>
                            <a:pt x="115" y="4398"/>
                          </a:lnTo>
                          <a:lnTo>
                            <a:pt x="147" y="4359"/>
                          </a:lnTo>
                          <a:lnTo>
                            <a:pt x="183" y="4327"/>
                          </a:lnTo>
                          <a:lnTo>
                            <a:pt x="218" y="4296"/>
                          </a:lnTo>
                          <a:lnTo>
                            <a:pt x="262" y="4269"/>
                          </a:lnTo>
                          <a:lnTo>
                            <a:pt x="305" y="4245"/>
                          </a:lnTo>
                          <a:lnTo>
                            <a:pt x="353" y="4218"/>
                          </a:lnTo>
                          <a:lnTo>
                            <a:pt x="397" y="4194"/>
                          </a:lnTo>
                          <a:lnTo>
                            <a:pt x="444" y="4171"/>
                          </a:lnTo>
                          <a:lnTo>
                            <a:pt x="444" y="4136"/>
                          </a:lnTo>
                          <a:lnTo>
                            <a:pt x="424" y="4120"/>
                          </a:lnTo>
                          <a:lnTo>
                            <a:pt x="389" y="4116"/>
                          </a:lnTo>
                          <a:lnTo>
                            <a:pt x="353" y="4116"/>
                          </a:lnTo>
                          <a:lnTo>
                            <a:pt x="183" y="4148"/>
                          </a:lnTo>
                          <a:lnTo>
                            <a:pt x="206" y="4116"/>
                          </a:lnTo>
                          <a:lnTo>
                            <a:pt x="234" y="4093"/>
                          </a:lnTo>
                          <a:lnTo>
                            <a:pt x="270" y="4069"/>
                          </a:lnTo>
                          <a:lnTo>
                            <a:pt x="302" y="4046"/>
                          </a:lnTo>
                          <a:lnTo>
                            <a:pt x="333" y="4022"/>
                          </a:lnTo>
                          <a:lnTo>
                            <a:pt x="361" y="3995"/>
                          </a:lnTo>
                          <a:lnTo>
                            <a:pt x="381" y="3968"/>
                          </a:lnTo>
                          <a:lnTo>
                            <a:pt x="389" y="3936"/>
                          </a:lnTo>
                          <a:lnTo>
                            <a:pt x="365" y="3917"/>
                          </a:lnTo>
                          <a:lnTo>
                            <a:pt x="341" y="3897"/>
                          </a:lnTo>
                          <a:lnTo>
                            <a:pt x="317" y="3882"/>
                          </a:lnTo>
                          <a:lnTo>
                            <a:pt x="294" y="3866"/>
                          </a:lnTo>
                          <a:lnTo>
                            <a:pt x="266" y="3858"/>
                          </a:lnTo>
                          <a:lnTo>
                            <a:pt x="238" y="3854"/>
                          </a:lnTo>
                          <a:lnTo>
                            <a:pt x="210" y="3854"/>
                          </a:lnTo>
                          <a:lnTo>
                            <a:pt x="183" y="3866"/>
                          </a:lnTo>
                          <a:lnTo>
                            <a:pt x="198" y="3850"/>
                          </a:lnTo>
                          <a:lnTo>
                            <a:pt x="222" y="3831"/>
                          </a:lnTo>
                          <a:lnTo>
                            <a:pt x="254" y="3811"/>
                          </a:lnTo>
                          <a:lnTo>
                            <a:pt x="290" y="3788"/>
                          </a:lnTo>
                          <a:lnTo>
                            <a:pt x="317" y="3760"/>
                          </a:lnTo>
                          <a:lnTo>
                            <a:pt x="341" y="3733"/>
                          </a:lnTo>
                          <a:lnTo>
                            <a:pt x="349" y="3702"/>
                          </a:lnTo>
                          <a:lnTo>
                            <a:pt x="341" y="3663"/>
                          </a:lnTo>
                          <a:lnTo>
                            <a:pt x="313" y="3647"/>
                          </a:lnTo>
                          <a:lnTo>
                            <a:pt x="286" y="3643"/>
                          </a:lnTo>
                          <a:lnTo>
                            <a:pt x="258" y="3643"/>
                          </a:lnTo>
                          <a:lnTo>
                            <a:pt x="230" y="3647"/>
                          </a:lnTo>
                          <a:lnTo>
                            <a:pt x="202" y="3655"/>
                          </a:lnTo>
                          <a:lnTo>
                            <a:pt x="171" y="3663"/>
                          </a:lnTo>
                          <a:lnTo>
                            <a:pt x="143" y="3671"/>
                          </a:lnTo>
                          <a:lnTo>
                            <a:pt x="115" y="3674"/>
                          </a:lnTo>
                          <a:lnTo>
                            <a:pt x="135" y="3639"/>
                          </a:lnTo>
                          <a:lnTo>
                            <a:pt x="167" y="3608"/>
                          </a:lnTo>
                          <a:lnTo>
                            <a:pt x="198" y="3581"/>
                          </a:lnTo>
                          <a:lnTo>
                            <a:pt x="234" y="3557"/>
                          </a:lnTo>
                          <a:lnTo>
                            <a:pt x="270" y="3530"/>
                          </a:lnTo>
                          <a:lnTo>
                            <a:pt x="302" y="3502"/>
                          </a:lnTo>
                          <a:lnTo>
                            <a:pt x="325" y="3467"/>
                          </a:lnTo>
                          <a:lnTo>
                            <a:pt x="341" y="3428"/>
                          </a:lnTo>
                          <a:lnTo>
                            <a:pt x="309" y="3413"/>
                          </a:lnTo>
                          <a:lnTo>
                            <a:pt x="278" y="3401"/>
                          </a:lnTo>
                          <a:lnTo>
                            <a:pt x="246" y="3397"/>
                          </a:lnTo>
                          <a:lnTo>
                            <a:pt x="210" y="3397"/>
                          </a:lnTo>
                          <a:lnTo>
                            <a:pt x="179" y="3401"/>
                          </a:lnTo>
                          <a:lnTo>
                            <a:pt x="147" y="3409"/>
                          </a:lnTo>
                          <a:lnTo>
                            <a:pt x="119" y="3413"/>
                          </a:lnTo>
                          <a:lnTo>
                            <a:pt x="91" y="3416"/>
                          </a:lnTo>
                          <a:lnTo>
                            <a:pt x="115" y="3373"/>
                          </a:lnTo>
                          <a:lnTo>
                            <a:pt x="143" y="3338"/>
                          </a:lnTo>
                          <a:lnTo>
                            <a:pt x="175" y="3303"/>
                          </a:lnTo>
                          <a:lnTo>
                            <a:pt x="210" y="3272"/>
                          </a:lnTo>
                          <a:lnTo>
                            <a:pt x="250" y="3244"/>
                          </a:lnTo>
                          <a:lnTo>
                            <a:pt x="290" y="3217"/>
                          </a:lnTo>
                          <a:lnTo>
                            <a:pt x="325" y="3194"/>
                          </a:lnTo>
                          <a:lnTo>
                            <a:pt x="365" y="3170"/>
                          </a:lnTo>
                          <a:lnTo>
                            <a:pt x="365" y="3139"/>
                          </a:lnTo>
                          <a:lnTo>
                            <a:pt x="341" y="3123"/>
                          </a:lnTo>
                          <a:lnTo>
                            <a:pt x="309" y="3112"/>
                          </a:lnTo>
                          <a:lnTo>
                            <a:pt x="286" y="3092"/>
                          </a:lnTo>
                          <a:lnTo>
                            <a:pt x="159" y="3092"/>
                          </a:lnTo>
                          <a:lnTo>
                            <a:pt x="175" y="3072"/>
                          </a:lnTo>
                          <a:lnTo>
                            <a:pt x="194" y="3061"/>
                          </a:lnTo>
                          <a:lnTo>
                            <a:pt x="218" y="3057"/>
                          </a:lnTo>
                          <a:lnTo>
                            <a:pt x="242" y="3057"/>
                          </a:lnTo>
                          <a:lnTo>
                            <a:pt x="266" y="3053"/>
                          </a:lnTo>
                          <a:lnTo>
                            <a:pt x="286" y="3045"/>
                          </a:lnTo>
                          <a:lnTo>
                            <a:pt x="302" y="3029"/>
                          </a:lnTo>
                          <a:lnTo>
                            <a:pt x="309" y="3002"/>
                          </a:lnTo>
                          <a:lnTo>
                            <a:pt x="309" y="2975"/>
                          </a:lnTo>
                          <a:lnTo>
                            <a:pt x="302" y="2955"/>
                          </a:lnTo>
                          <a:lnTo>
                            <a:pt x="286" y="2936"/>
                          </a:lnTo>
                          <a:lnTo>
                            <a:pt x="270" y="2916"/>
                          </a:lnTo>
                          <a:lnTo>
                            <a:pt x="246" y="2904"/>
                          </a:lnTo>
                          <a:lnTo>
                            <a:pt x="226" y="2893"/>
                          </a:lnTo>
                          <a:lnTo>
                            <a:pt x="202" y="2885"/>
                          </a:lnTo>
                          <a:lnTo>
                            <a:pt x="183" y="2877"/>
                          </a:lnTo>
                          <a:lnTo>
                            <a:pt x="79" y="2900"/>
                          </a:lnTo>
                          <a:lnTo>
                            <a:pt x="107" y="2869"/>
                          </a:lnTo>
                          <a:lnTo>
                            <a:pt x="139" y="2846"/>
                          </a:lnTo>
                          <a:lnTo>
                            <a:pt x="171" y="2826"/>
                          </a:lnTo>
                          <a:lnTo>
                            <a:pt x="206" y="2810"/>
                          </a:lnTo>
                          <a:lnTo>
                            <a:pt x="238" y="2795"/>
                          </a:lnTo>
                          <a:lnTo>
                            <a:pt x="266" y="2775"/>
                          </a:lnTo>
                          <a:lnTo>
                            <a:pt x="294" y="2748"/>
                          </a:lnTo>
                          <a:lnTo>
                            <a:pt x="309" y="2709"/>
                          </a:lnTo>
                          <a:lnTo>
                            <a:pt x="274" y="2678"/>
                          </a:lnTo>
                          <a:lnTo>
                            <a:pt x="238" y="2662"/>
                          </a:lnTo>
                          <a:lnTo>
                            <a:pt x="198" y="2650"/>
                          </a:lnTo>
                          <a:lnTo>
                            <a:pt x="159" y="2646"/>
                          </a:lnTo>
                          <a:lnTo>
                            <a:pt x="119" y="2650"/>
                          </a:lnTo>
                          <a:lnTo>
                            <a:pt x="79" y="2658"/>
                          </a:lnTo>
                          <a:lnTo>
                            <a:pt x="40" y="2670"/>
                          </a:lnTo>
                          <a:lnTo>
                            <a:pt x="0" y="2685"/>
                          </a:lnTo>
                          <a:lnTo>
                            <a:pt x="28" y="2654"/>
                          </a:lnTo>
                          <a:lnTo>
                            <a:pt x="60" y="2623"/>
                          </a:lnTo>
                          <a:lnTo>
                            <a:pt x="91" y="2599"/>
                          </a:lnTo>
                          <a:lnTo>
                            <a:pt x="131" y="2576"/>
                          </a:lnTo>
                          <a:lnTo>
                            <a:pt x="171" y="2556"/>
                          </a:lnTo>
                          <a:lnTo>
                            <a:pt x="214" y="2537"/>
                          </a:lnTo>
                          <a:lnTo>
                            <a:pt x="254" y="2513"/>
                          </a:lnTo>
                          <a:lnTo>
                            <a:pt x="298" y="2494"/>
                          </a:lnTo>
                          <a:lnTo>
                            <a:pt x="298" y="2482"/>
                          </a:lnTo>
                          <a:lnTo>
                            <a:pt x="298" y="2474"/>
                          </a:lnTo>
                          <a:lnTo>
                            <a:pt x="302" y="2466"/>
                          </a:lnTo>
                          <a:lnTo>
                            <a:pt x="309" y="2463"/>
                          </a:lnTo>
                          <a:lnTo>
                            <a:pt x="286" y="2443"/>
                          </a:lnTo>
                          <a:lnTo>
                            <a:pt x="258" y="2423"/>
                          </a:lnTo>
                          <a:lnTo>
                            <a:pt x="230" y="2412"/>
                          </a:lnTo>
                          <a:lnTo>
                            <a:pt x="202" y="2400"/>
                          </a:lnTo>
                          <a:lnTo>
                            <a:pt x="171" y="2392"/>
                          </a:lnTo>
                          <a:lnTo>
                            <a:pt x="143" y="2388"/>
                          </a:lnTo>
                          <a:lnTo>
                            <a:pt x="115" y="2384"/>
                          </a:lnTo>
                          <a:lnTo>
                            <a:pt x="91" y="2380"/>
                          </a:lnTo>
                          <a:lnTo>
                            <a:pt x="32" y="2404"/>
                          </a:lnTo>
                          <a:lnTo>
                            <a:pt x="48" y="2377"/>
                          </a:lnTo>
                          <a:lnTo>
                            <a:pt x="75" y="2357"/>
                          </a:lnTo>
                          <a:lnTo>
                            <a:pt x="107" y="2337"/>
                          </a:lnTo>
                          <a:lnTo>
                            <a:pt x="143" y="2318"/>
                          </a:lnTo>
                          <a:lnTo>
                            <a:pt x="183" y="2298"/>
                          </a:lnTo>
                          <a:lnTo>
                            <a:pt x="222" y="2275"/>
                          </a:lnTo>
                          <a:lnTo>
                            <a:pt x="254" y="2251"/>
                          </a:lnTo>
                          <a:lnTo>
                            <a:pt x="286" y="2224"/>
                          </a:lnTo>
                          <a:lnTo>
                            <a:pt x="274" y="2212"/>
                          </a:lnTo>
                          <a:lnTo>
                            <a:pt x="262" y="2197"/>
                          </a:lnTo>
                          <a:lnTo>
                            <a:pt x="246" y="2185"/>
                          </a:lnTo>
                          <a:lnTo>
                            <a:pt x="230" y="2177"/>
                          </a:lnTo>
                          <a:lnTo>
                            <a:pt x="214" y="2169"/>
                          </a:lnTo>
                          <a:lnTo>
                            <a:pt x="198" y="2165"/>
                          </a:lnTo>
                          <a:lnTo>
                            <a:pt x="179" y="2169"/>
                          </a:lnTo>
                          <a:lnTo>
                            <a:pt x="159" y="2177"/>
                          </a:lnTo>
                          <a:lnTo>
                            <a:pt x="123" y="2177"/>
                          </a:lnTo>
                          <a:lnTo>
                            <a:pt x="147" y="2158"/>
                          </a:lnTo>
                          <a:lnTo>
                            <a:pt x="171" y="2142"/>
                          </a:lnTo>
                          <a:lnTo>
                            <a:pt x="198" y="2126"/>
                          </a:lnTo>
                          <a:lnTo>
                            <a:pt x="222" y="2111"/>
                          </a:lnTo>
                          <a:lnTo>
                            <a:pt x="246" y="2091"/>
                          </a:lnTo>
                          <a:lnTo>
                            <a:pt x="266" y="2072"/>
                          </a:lnTo>
                          <a:lnTo>
                            <a:pt x="278" y="2048"/>
                          </a:lnTo>
                          <a:lnTo>
                            <a:pt x="286" y="2021"/>
                          </a:lnTo>
                          <a:lnTo>
                            <a:pt x="262" y="2013"/>
                          </a:lnTo>
                          <a:lnTo>
                            <a:pt x="234" y="2001"/>
                          </a:lnTo>
                          <a:lnTo>
                            <a:pt x="206" y="1993"/>
                          </a:lnTo>
                          <a:lnTo>
                            <a:pt x="175" y="1990"/>
                          </a:lnTo>
                          <a:lnTo>
                            <a:pt x="143" y="1986"/>
                          </a:lnTo>
                          <a:lnTo>
                            <a:pt x="111" y="1990"/>
                          </a:lnTo>
                          <a:lnTo>
                            <a:pt x="83" y="1993"/>
                          </a:lnTo>
                          <a:lnTo>
                            <a:pt x="56" y="2009"/>
                          </a:lnTo>
                          <a:lnTo>
                            <a:pt x="83" y="1982"/>
                          </a:lnTo>
                          <a:lnTo>
                            <a:pt x="119" y="1954"/>
                          </a:lnTo>
                          <a:lnTo>
                            <a:pt x="159" y="1935"/>
                          </a:lnTo>
                          <a:lnTo>
                            <a:pt x="198" y="1911"/>
                          </a:lnTo>
                          <a:lnTo>
                            <a:pt x="238" y="1892"/>
                          </a:lnTo>
                          <a:lnTo>
                            <a:pt x="278" y="1872"/>
                          </a:lnTo>
                          <a:lnTo>
                            <a:pt x="313" y="1845"/>
                          </a:lnTo>
                          <a:lnTo>
                            <a:pt x="341" y="1817"/>
                          </a:lnTo>
                          <a:lnTo>
                            <a:pt x="317" y="1790"/>
                          </a:lnTo>
                          <a:lnTo>
                            <a:pt x="286" y="1771"/>
                          </a:lnTo>
                          <a:lnTo>
                            <a:pt x="254" y="1755"/>
                          </a:lnTo>
                          <a:lnTo>
                            <a:pt x="218" y="1743"/>
                          </a:lnTo>
                          <a:lnTo>
                            <a:pt x="183" y="1739"/>
                          </a:lnTo>
                          <a:lnTo>
                            <a:pt x="143" y="1739"/>
                          </a:lnTo>
                          <a:lnTo>
                            <a:pt x="107" y="1743"/>
                          </a:lnTo>
                          <a:lnTo>
                            <a:pt x="67" y="1751"/>
                          </a:lnTo>
                          <a:lnTo>
                            <a:pt x="99" y="1712"/>
                          </a:lnTo>
                          <a:lnTo>
                            <a:pt x="135" y="1677"/>
                          </a:lnTo>
                          <a:lnTo>
                            <a:pt x="175" y="1649"/>
                          </a:lnTo>
                          <a:lnTo>
                            <a:pt x="218" y="1622"/>
                          </a:lnTo>
                          <a:lnTo>
                            <a:pt x="262" y="1599"/>
                          </a:lnTo>
                          <a:lnTo>
                            <a:pt x="305" y="1571"/>
                          </a:lnTo>
                          <a:lnTo>
                            <a:pt x="349" y="1544"/>
                          </a:lnTo>
                          <a:lnTo>
                            <a:pt x="389" y="1513"/>
                          </a:lnTo>
                          <a:lnTo>
                            <a:pt x="377" y="1485"/>
                          </a:lnTo>
                          <a:lnTo>
                            <a:pt x="357" y="1458"/>
                          </a:lnTo>
                          <a:lnTo>
                            <a:pt x="333" y="1438"/>
                          </a:lnTo>
                          <a:lnTo>
                            <a:pt x="309" y="1423"/>
                          </a:lnTo>
                          <a:lnTo>
                            <a:pt x="159" y="1423"/>
                          </a:lnTo>
                          <a:lnTo>
                            <a:pt x="365" y="1219"/>
                          </a:lnTo>
                          <a:lnTo>
                            <a:pt x="349" y="1200"/>
                          </a:lnTo>
                          <a:lnTo>
                            <a:pt x="329" y="1180"/>
                          </a:lnTo>
                          <a:lnTo>
                            <a:pt x="309" y="1169"/>
                          </a:lnTo>
                          <a:lnTo>
                            <a:pt x="286" y="1157"/>
                          </a:lnTo>
                          <a:lnTo>
                            <a:pt x="258" y="1153"/>
                          </a:lnTo>
                          <a:lnTo>
                            <a:pt x="234" y="1153"/>
                          </a:lnTo>
                          <a:lnTo>
                            <a:pt x="206" y="1157"/>
                          </a:lnTo>
                          <a:lnTo>
                            <a:pt x="183" y="1165"/>
                          </a:lnTo>
                          <a:lnTo>
                            <a:pt x="123" y="1184"/>
                          </a:lnTo>
                          <a:lnTo>
                            <a:pt x="151" y="1149"/>
                          </a:lnTo>
                          <a:lnTo>
                            <a:pt x="190" y="1122"/>
                          </a:lnTo>
                          <a:lnTo>
                            <a:pt x="238" y="1102"/>
                          </a:lnTo>
                          <a:lnTo>
                            <a:pt x="286" y="1079"/>
                          </a:lnTo>
                          <a:lnTo>
                            <a:pt x="337" y="1059"/>
                          </a:lnTo>
                          <a:lnTo>
                            <a:pt x="381" y="1036"/>
                          </a:lnTo>
                          <a:lnTo>
                            <a:pt x="417" y="1004"/>
                          </a:lnTo>
                          <a:lnTo>
                            <a:pt x="444" y="961"/>
                          </a:lnTo>
                          <a:lnTo>
                            <a:pt x="420" y="942"/>
                          </a:lnTo>
                          <a:lnTo>
                            <a:pt x="393" y="930"/>
                          </a:lnTo>
                          <a:lnTo>
                            <a:pt x="365" y="922"/>
                          </a:lnTo>
                          <a:lnTo>
                            <a:pt x="333" y="922"/>
                          </a:lnTo>
                          <a:lnTo>
                            <a:pt x="302" y="926"/>
                          </a:lnTo>
                          <a:lnTo>
                            <a:pt x="270" y="926"/>
                          </a:lnTo>
                          <a:lnTo>
                            <a:pt x="238" y="930"/>
                          </a:lnTo>
                          <a:lnTo>
                            <a:pt x="206" y="926"/>
                          </a:lnTo>
                          <a:lnTo>
                            <a:pt x="226" y="899"/>
                          </a:lnTo>
                          <a:lnTo>
                            <a:pt x="258" y="883"/>
                          </a:lnTo>
                          <a:lnTo>
                            <a:pt x="294" y="867"/>
                          </a:lnTo>
                          <a:lnTo>
                            <a:pt x="329" y="860"/>
                          </a:lnTo>
                          <a:lnTo>
                            <a:pt x="361" y="844"/>
                          </a:lnTo>
                          <a:lnTo>
                            <a:pt x="389" y="828"/>
                          </a:lnTo>
                          <a:lnTo>
                            <a:pt x="409" y="805"/>
                          </a:lnTo>
                          <a:lnTo>
                            <a:pt x="413" y="770"/>
                          </a:lnTo>
                          <a:lnTo>
                            <a:pt x="389" y="750"/>
                          </a:lnTo>
                          <a:lnTo>
                            <a:pt x="361" y="735"/>
                          </a:lnTo>
                          <a:lnTo>
                            <a:pt x="333" y="719"/>
                          </a:lnTo>
                          <a:lnTo>
                            <a:pt x="305" y="711"/>
                          </a:lnTo>
                          <a:lnTo>
                            <a:pt x="274" y="703"/>
                          </a:lnTo>
                          <a:lnTo>
                            <a:pt x="246" y="699"/>
                          </a:lnTo>
                          <a:lnTo>
                            <a:pt x="214" y="703"/>
                          </a:lnTo>
                          <a:lnTo>
                            <a:pt x="183" y="711"/>
                          </a:lnTo>
                          <a:lnTo>
                            <a:pt x="179" y="719"/>
                          </a:lnTo>
                          <a:lnTo>
                            <a:pt x="167" y="723"/>
                          </a:lnTo>
                          <a:lnTo>
                            <a:pt x="159" y="723"/>
                          </a:lnTo>
                          <a:lnTo>
                            <a:pt x="147" y="723"/>
                          </a:lnTo>
                          <a:lnTo>
                            <a:pt x="179" y="692"/>
                          </a:lnTo>
                          <a:lnTo>
                            <a:pt x="214" y="668"/>
                          </a:lnTo>
                          <a:lnTo>
                            <a:pt x="254" y="645"/>
                          </a:lnTo>
                          <a:lnTo>
                            <a:pt x="294" y="625"/>
                          </a:lnTo>
                          <a:lnTo>
                            <a:pt x="333" y="606"/>
                          </a:lnTo>
                          <a:lnTo>
                            <a:pt x="377" y="582"/>
                          </a:lnTo>
                          <a:lnTo>
                            <a:pt x="413" y="559"/>
                          </a:lnTo>
                          <a:lnTo>
                            <a:pt x="444" y="531"/>
                          </a:lnTo>
                          <a:lnTo>
                            <a:pt x="428" y="508"/>
                          </a:lnTo>
                          <a:lnTo>
                            <a:pt x="405" y="488"/>
                          </a:lnTo>
                          <a:lnTo>
                            <a:pt x="377" y="473"/>
                          </a:lnTo>
                          <a:lnTo>
                            <a:pt x="349" y="461"/>
                          </a:lnTo>
                          <a:lnTo>
                            <a:pt x="317" y="453"/>
                          </a:lnTo>
                          <a:lnTo>
                            <a:pt x="286" y="453"/>
                          </a:lnTo>
                          <a:lnTo>
                            <a:pt x="254" y="453"/>
                          </a:lnTo>
                          <a:lnTo>
                            <a:pt x="226" y="453"/>
                          </a:lnTo>
                          <a:lnTo>
                            <a:pt x="246" y="434"/>
                          </a:lnTo>
                          <a:lnTo>
                            <a:pt x="270" y="414"/>
                          </a:lnTo>
                          <a:lnTo>
                            <a:pt x="294" y="398"/>
                          </a:lnTo>
                          <a:lnTo>
                            <a:pt x="321" y="387"/>
                          </a:lnTo>
                          <a:lnTo>
                            <a:pt x="345" y="375"/>
                          </a:lnTo>
                          <a:lnTo>
                            <a:pt x="373" y="363"/>
                          </a:lnTo>
                          <a:lnTo>
                            <a:pt x="397" y="351"/>
                          </a:lnTo>
                          <a:lnTo>
                            <a:pt x="420" y="340"/>
                          </a:lnTo>
                          <a:lnTo>
                            <a:pt x="417" y="320"/>
                          </a:lnTo>
                          <a:lnTo>
                            <a:pt x="409" y="305"/>
                          </a:lnTo>
                          <a:lnTo>
                            <a:pt x="397" y="293"/>
                          </a:lnTo>
                          <a:lnTo>
                            <a:pt x="377" y="281"/>
                          </a:lnTo>
                          <a:lnTo>
                            <a:pt x="357" y="273"/>
                          </a:lnTo>
                          <a:lnTo>
                            <a:pt x="337" y="269"/>
                          </a:lnTo>
                          <a:lnTo>
                            <a:pt x="317" y="265"/>
                          </a:lnTo>
                          <a:lnTo>
                            <a:pt x="298" y="262"/>
                          </a:lnTo>
                          <a:lnTo>
                            <a:pt x="250" y="262"/>
                          </a:lnTo>
                          <a:lnTo>
                            <a:pt x="278" y="242"/>
                          </a:lnTo>
                          <a:lnTo>
                            <a:pt x="302" y="226"/>
                          </a:lnTo>
                          <a:lnTo>
                            <a:pt x="329" y="211"/>
                          </a:lnTo>
                          <a:lnTo>
                            <a:pt x="361" y="195"/>
                          </a:lnTo>
                          <a:lnTo>
                            <a:pt x="389" y="183"/>
                          </a:lnTo>
                          <a:lnTo>
                            <a:pt x="417" y="176"/>
                          </a:lnTo>
                          <a:lnTo>
                            <a:pt x="448" y="168"/>
                          </a:lnTo>
                          <a:lnTo>
                            <a:pt x="480" y="160"/>
                          </a:lnTo>
                          <a:lnTo>
                            <a:pt x="476" y="140"/>
                          </a:lnTo>
                          <a:lnTo>
                            <a:pt x="468" y="125"/>
                          </a:lnTo>
                          <a:lnTo>
                            <a:pt x="452" y="113"/>
                          </a:lnTo>
                          <a:lnTo>
                            <a:pt x="436" y="101"/>
                          </a:lnTo>
                          <a:lnTo>
                            <a:pt x="413" y="93"/>
                          </a:lnTo>
                          <a:lnTo>
                            <a:pt x="393" y="86"/>
                          </a:lnTo>
                          <a:lnTo>
                            <a:pt x="373" y="78"/>
                          </a:lnTo>
                          <a:lnTo>
                            <a:pt x="353" y="70"/>
                          </a:lnTo>
                          <a:lnTo>
                            <a:pt x="262" y="70"/>
                          </a:lnTo>
                          <a:lnTo>
                            <a:pt x="282" y="54"/>
                          </a:lnTo>
                          <a:lnTo>
                            <a:pt x="302" y="43"/>
                          </a:lnTo>
                          <a:lnTo>
                            <a:pt x="321" y="31"/>
                          </a:lnTo>
                          <a:lnTo>
                            <a:pt x="345" y="23"/>
                          </a:lnTo>
                          <a:lnTo>
                            <a:pt x="365" y="15"/>
                          </a:lnTo>
                          <a:lnTo>
                            <a:pt x="389" y="11"/>
                          </a:lnTo>
                          <a:lnTo>
                            <a:pt x="409" y="4"/>
                          </a:lnTo>
                          <a:lnTo>
                            <a:pt x="432" y="0"/>
                          </a:lnTo>
                          <a:lnTo>
                            <a:pt x="448" y="15"/>
                          </a:lnTo>
                          <a:lnTo>
                            <a:pt x="464" y="23"/>
                          </a:lnTo>
                          <a:lnTo>
                            <a:pt x="488" y="27"/>
                          </a:lnTo>
                          <a:lnTo>
                            <a:pt x="508" y="27"/>
                          </a:lnTo>
                          <a:lnTo>
                            <a:pt x="528" y="35"/>
                          </a:lnTo>
                          <a:lnTo>
                            <a:pt x="543" y="43"/>
                          </a:lnTo>
                          <a:lnTo>
                            <a:pt x="555" y="58"/>
                          </a:lnTo>
                          <a:lnTo>
                            <a:pt x="559" y="82"/>
                          </a:lnTo>
                          <a:close/>
                        </a:path>
                      </a:pathLst>
                    </a:custGeom>
                    <a:solidFill>
                      <a:srgbClr val="f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3" name=""/>
                    <p:cNvSpPr/>
                    <p:nvPr/>
                  </p:nvSpPr>
                  <p:spPr>
                    <a:xfrm>
                      <a:off x="4368600" y="1688760"/>
                      <a:ext cx="3709080" cy="126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997" h="2064">
                          <a:moveTo>
                            <a:pt x="2138" y="23"/>
                          </a:moveTo>
                          <a:lnTo>
                            <a:pt x="2261" y="27"/>
                          </a:lnTo>
                          <a:lnTo>
                            <a:pt x="2380" y="31"/>
                          </a:lnTo>
                          <a:lnTo>
                            <a:pt x="2499" y="31"/>
                          </a:lnTo>
                          <a:lnTo>
                            <a:pt x="2618" y="35"/>
                          </a:lnTo>
                          <a:lnTo>
                            <a:pt x="2733" y="39"/>
                          </a:lnTo>
                          <a:lnTo>
                            <a:pt x="2852" y="43"/>
                          </a:lnTo>
                          <a:lnTo>
                            <a:pt x="2967" y="47"/>
                          </a:lnTo>
                          <a:lnTo>
                            <a:pt x="3082" y="47"/>
                          </a:lnTo>
                          <a:lnTo>
                            <a:pt x="3197" y="50"/>
                          </a:lnTo>
                          <a:lnTo>
                            <a:pt x="3312" y="54"/>
                          </a:lnTo>
                          <a:lnTo>
                            <a:pt x="3427" y="58"/>
                          </a:lnTo>
                          <a:lnTo>
                            <a:pt x="3542" y="58"/>
                          </a:lnTo>
                          <a:lnTo>
                            <a:pt x="3657" y="62"/>
                          </a:lnTo>
                          <a:lnTo>
                            <a:pt x="3772" y="66"/>
                          </a:lnTo>
                          <a:lnTo>
                            <a:pt x="3883" y="66"/>
                          </a:lnTo>
                          <a:lnTo>
                            <a:pt x="3998" y="70"/>
                          </a:lnTo>
                          <a:lnTo>
                            <a:pt x="4113" y="74"/>
                          </a:lnTo>
                          <a:lnTo>
                            <a:pt x="4228" y="74"/>
                          </a:lnTo>
                          <a:lnTo>
                            <a:pt x="4343" y="78"/>
                          </a:lnTo>
                          <a:lnTo>
                            <a:pt x="4458" y="78"/>
                          </a:lnTo>
                          <a:lnTo>
                            <a:pt x="4573" y="82"/>
                          </a:lnTo>
                          <a:lnTo>
                            <a:pt x="4688" y="82"/>
                          </a:lnTo>
                          <a:lnTo>
                            <a:pt x="4807" y="86"/>
                          </a:lnTo>
                          <a:lnTo>
                            <a:pt x="4922" y="86"/>
                          </a:lnTo>
                          <a:lnTo>
                            <a:pt x="5041" y="90"/>
                          </a:lnTo>
                          <a:lnTo>
                            <a:pt x="5160" y="90"/>
                          </a:lnTo>
                          <a:lnTo>
                            <a:pt x="5283" y="93"/>
                          </a:lnTo>
                          <a:lnTo>
                            <a:pt x="5402" y="93"/>
                          </a:lnTo>
                          <a:lnTo>
                            <a:pt x="5525" y="97"/>
                          </a:lnTo>
                          <a:lnTo>
                            <a:pt x="5648" y="97"/>
                          </a:lnTo>
                          <a:lnTo>
                            <a:pt x="5771" y="101"/>
                          </a:lnTo>
                          <a:lnTo>
                            <a:pt x="5898" y="101"/>
                          </a:lnTo>
                          <a:lnTo>
                            <a:pt x="5938" y="140"/>
                          </a:lnTo>
                          <a:lnTo>
                            <a:pt x="5958" y="199"/>
                          </a:lnTo>
                          <a:lnTo>
                            <a:pt x="5970" y="262"/>
                          </a:lnTo>
                          <a:lnTo>
                            <a:pt x="5989" y="324"/>
                          </a:lnTo>
                          <a:lnTo>
                            <a:pt x="5958" y="418"/>
                          </a:lnTo>
                          <a:lnTo>
                            <a:pt x="5914" y="504"/>
                          </a:lnTo>
                          <a:lnTo>
                            <a:pt x="5855" y="578"/>
                          </a:lnTo>
                          <a:lnTo>
                            <a:pt x="5787" y="652"/>
                          </a:lnTo>
                          <a:lnTo>
                            <a:pt x="5712" y="719"/>
                          </a:lnTo>
                          <a:lnTo>
                            <a:pt x="5640" y="789"/>
                          </a:lnTo>
                          <a:lnTo>
                            <a:pt x="5569" y="860"/>
                          </a:lnTo>
                          <a:lnTo>
                            <a:pt x="5505" y="934"/>
                          </a:lnTo>
                          <a:lnTo>
                            <a:pt x="5561" y="938"/>
                          </a:lnTo>
                          <a:lnTo>
                            <a:pt x="5617" y="942"/>
                          </a:lnTo>
                          <a:lnTo>
                            <a:pt x="5672" y="946"/>
                          </a:lnTo>
                          <a:lnTo>
                            <a:pt x="5728" y="950"/>
                          </a:lnTo>
                          <a:lnTo>
                            <a:pt x="5783" y="957"/>
                          </a:lnTo>
                          <a:lnTo>
                            <a:pt x="5835" y="957"/>
                          </a:lnTo>
                          <a:lnTo>
                            <a:pt x="5890" y="957"/>
                          </a:lnTo>
                          <a:lnTo>
                            <a:pt x="5942" y="957"/>
                          </a:lnTo>
                          <a:lnTo>
                            <a:pt x="5981" y="985"/>
                          </a:lnTo>
                          <a:lnTo>
                            <a:pt x="5993" y="1024"/>
                          </a:lnTo>
                          <a:lnTo>
                            <a:pt x="5993" y="1071"/>
                          </a:lnTo>
                          <a:lnTo>
                            <a:pt x="5997" y="1114"/>
                          </a:lnTo>
                          <a:lnTo>
                            <a:pt x="5966" y="1137"/>
                          </a:lnTo>
                          <a:lnTo>
                            <a:pt x="5438" y="1094"/>
                          </a:lnTo>
                          <a:lnTo>
                            <a:pt x="5422" y="1219"/>
                          </a:lnTo>
                          <a:lnTo>
                            <a:pt x="5442" y="1341"/>
                          </a:lnTo>
                          <a:lnTo>
                            <a:pt x="5474" y="1466"/>
                          </a:lnTo>
                          <a:lnTo>
                            <a:pt x="5505" y="1591"/>
                          </a:lnTo>
                          <a:lnTo>
                            <a:pt x="5498" y="1606"/>
                          </a:lnTo>
                          <a:lnTo>
                            <a:pt x="5486" y="1622"/>
                          </a:lnTo>
                          <a:lnTo>
                            <a:pt x="5474" y="1638"/>
                          </a:lnTo>
                          <a:lnTo>
                            <a:pt x="5450" y="1645"/>
                          </a:lnTo>
                          <a:lnTo>
                            <a:pt x="5442" y="1638"/>
                          </a:lnTo>
                          <a:lnTo>
                            <a:pt x="5430" y="1634"/>
                          </a:lnTo>
                          <a:lnTo>
                            <a:pt x="5414" y="1634"/>
                          </a:lnTo>
                          <a:lnTo>
                            <a:pt x="5402" y="1634"/>
                          </a:lnTo>
                          <a:lnTo>
                            <a:pt x="5402" y="1673"/>
                          </a:lnTo>
                          <a:lnTo>
                            <a:pt x="5414" y="1708"/>
                          </a:lnTo>
                          <a:lnTo>
                            <a:pt x="5430" y="1747"/>
                          </a:lnTo>
                          <a:lnTo>
                            <a:pt x="5450" y="1782"/>
                          </a:lnTo>
                          <a:lnTo>
                            <a:pt x="5505" y="1771"/>
                          </a:lnTo>
                          <a:lnTo>
                            <a:pt x="5517" y="1786"/>
                          </a:lnTo>
                          <a:lnTo>
                            <a:pt x="5513" y="1806"/>
                          </a:lnTo>
                          <a:lnTo>
                            <a:pt x="5498" y="1821"/>
                          </a:lnTo>
                          <a:lnTo>
                            <a:pt x="5486" y="1837"/>
                          </a:lnTo>
                          <a:lnTo>
                            <a:pt x="5537" y="1872"/>
                          </a:lnTo>
                          <a:lnTo>
                            <a:pt x="5549" y="1935"/>
                          </a:lnTo>
                          <a:lnTo>
                            <a:pt x="5553" y="2001"/>
                          </a:lnTo>
                          <a:lnTo>
                            <a:pt x="5589" y="2064"/>
                          </a:lnTo>
                          <a:lnTo>
                            <a:pt x="5525" y="2060"/>
                          </a:lnTo>
                          <a:lnTo>
                            <a:pt x="5458" y="2064"/>
                          </a:lnTo>
                          <a:lnTo>
                            <a:pt x="5386" y="2064"/>
                          </a:lnTo>
                          <a:lnTo>
                            <a:pt x="5315" y="2064"/>
                          </a:lnTo>
                          <a:lnTo>
                            <a:pt x="5244" y="2064"/>
                          </a:lnTo>
                          <a:lnTo>
                            <a:pt x="5176" y="2060"/>
                          </a:lnTo>
                          <a:lnTo>
                            <a:pt x="5109" y="2048"/>
                          </a:lnTo>
                          <a:lnTo>
                            <a:pt x="5049" y="2029"/>
                          </a:lnTo>
                          <a:lnTo>
                            <a:pt x="5049" y="1978"/>
                          </a:lnTo>
                          <a:lnTo>
                            <a:pt x="5065" y="1927"/>
                          </a:lnTo>
                          <a:lnTo>
                            <a:pt x="5093" y="1880"/>
                          </a:lnTo>
                          <a:lnTo>
                            <a:pt x="5129" y="1833"/>
                          </a:lnTo>
                          <a:lnTo>
                            <a:pt x="5164" y="1786"/>
                          </a:lnTo>
                          <a:lnTo>
                            <a:pt x="5196" y="1739"/>
                          </a:lnTo>
                          <a:lnTo>
                            <a:pt x="5224" y="1688"/>
                          </a:lnTo>
                          <a:lnTo>
                            <a:pt x="5244" y="1634"/>
                          </a:lnTo>
                          <a:lnTo>
                            <a:pt x="5220" y="1610"/>
                          </a:lnTo>
                          <a:lnTo>
                            <a:pt x="5192" y="1610"/>
                          </a:lnTo>
                          <a:lnTo>
                            <a:pt x="5160" y="1610"/>
                          </a:lnTo>
                          <a:lnTo>
                            <a:pt x="5129" y="1614"/>
                          </a:lnTo>
                          <a:lnTo>
                            <a:pt x="5093" y="1614"/>
                          </a:lnTo>
                          <a:lnTo>
                            <a:pt x="5057" y="1614"/>
                          </a:lnTo>
                          <a:lnTo>
                            <a:pt x="5026" y="1606"/>
                          </a:lnTo>
                          <a:lnTo>
                            <a:pt x="4998" y="1599"/>
                          </a:lnTo>
                          <a:lnTo>
                            <a:pt x="4970" y="1579"/>
                          </a:lnTo>
                          <a:lnTo>
                            <a:pt x="5359" y="1094"/>
                          </a:lnTo>
                          <a:lnTo>
                            <a:pt x="5323" y="1071"/>
                          </a:lnTo>
                          <a:lnTo>
                            <a:pt x="5232" y="1067"/>
                          </a:lnTo>
                          <a:lnTo>
                            <a:pt x="5145" y="1063"/>
                          </a:lnTo>
                          <a:lnTo>
                            <a:pt x="5053" y="1059"/>
                          </a:lnTo>
                          <a:lnTo>
                            <a:pt x="4966" y="1059"/>
                          </a:lnTo>
                          <a:lnTo>
                            <a:pt x="4875" y="1059"/>
                          </a:lnTo>
                          <a:lnTo>
                            <a:pt x="4788" y="1059"/>
                          </a:lnTo>
                          <a:lnTo>
                            <a:pt x="4700" y="1059"/>
                          </a:lnTo>
                          <a:lnTo>
                            <a:pt x="4617" y="1059"/>
                          </a:lnTo>
                          <a:lnTo>
                            <a:pt x="4530" y="1059"/>
                          </a:lnTo>
                          <a:lnTo>
                            <a:pt x="4442" y="1059"/>
                          </a:lnTo>
                          <a:lnTo>
                            <a:pt x="4355" y="1059"/>
                          </a:lnTo>
                          <a:lnTo>
                            <a:pt x="4272" y="1055"/>
                          </a:lnTo>
                          <a:lnTo>
                            <a:pt x="4185" y="1055"/>
                          </a:lnTo>
                          <a:lnTo>
                            <a:pt x="4101" y="1051"/>
                          </a:lnTo>
                          <a:lnTo>
                            <a:pt x="4014" y="1043"/>
                          </a:lnTo>
                          <a:lnTo>
                            <a:pt x="3931" y="1036"/>
                          </a:lnTo>
                          <a:lnTo>
                            <a:pt x="3931" y="1063"/>
                          </a:lnTo>
                          <a:lnTo>
                            <a:pt x="3935" y="1090"/>
                          </a:lnTo>
                          <a:lnTo>
                            <a:pt x="3947" y="1122"/>
                          </a:lnTo>
                          <a:lnTo>
                            <a:pt x="3967" y="1149"/>
                          </a:lnTo>
                          <a:lnTo>
                            <a:pt x="3974" y="1149"/>
                          </a:lnTo>
                          <a:lnTo>
                            <a:pt x="3982" y="1145"/>
                          </a:lnTo>
                          <a:lnTo>
                            <a:pt x="3986" y="1141"/>
                          </a:lnTo>
                          <a:lnTo>
                            <a:pt x="3990" y="1137"/>
                          </a:lnTo>
                          <a:lnTo>
                            <a:pt x="3998" y="1169"/>
                          </a:lnTo>
                          <a:lnTo>
                            <a:pt x="3994" y="1200"/>
                          </a:lnTo>
                          <a:lnTo>
                            <a:pt x="3986" y="1231"/>
                          </a:lnTo>
                          <a:lnTo>
                            <a:pt x="4002" y="1262"/>
                          </a:lnTo>
                          <a:lnTo>
                            <a:pt x="4054" y="1298"/>
                          </a:lnTo>
                          <a:lnTo>
                            <a:pt x="4046" y="1317"/>
                          </a:lnTo>
                          <a:lnTo>
                            <a:pt x="4038" y="1337"/>
                          </a:lnTo>
                          <a:lnTo>
                            <a:pt x="4034" y="1360"/>
                          </a:lnTo>
                          <a:lnTo>
                            <a:pt x="4054" y="1376"/>
                          </a:lnTo>
                          <a:lnTo>
                            <a:pt x="4074" y="1368"/>
                          </a:lnTo>
                          <a:lnTo>
                            <a:pt x="4093" y="1356"/>
                          </a:lnTo>
                          <a:lnTo>
                            <a:pt x="4113" y="1356"/>
                          </a:lnTo>
                          <a:lnTo>
                            <a:pt x="4133" y="1364"/>
                          </a:lnTo>
                          <a:lnTo>
                            <a:pt x="4133" y="1419"/>
                          </a:lnTo>
                          <a:lnTo>
                            <a:pt x="4113" y="1407"/>
                          </a:lnTo>
                          <a:lnTo>
                            <a:pt x="4093" y="1403"/>
                          </a:lnTo>
                          <a:lnTo>
                            <a:pt x="4074" y="1407"/>
                          </a:lnTo>
                          <a:lnTo>
                            <a:pt x="4054" y="1419"/>
                          </a:lnTo>
                          <a:lnTo>
                            <a:pt x="4066" y="1458"/>
                          </a:lnTo>
                          <a:lnTo>
                            <a:pt x="4070" y="1493"/>
                          </a:lnTo>
                          <a:lnTo>
                            <a:pt x="4066" y="1528"/>
                          </a:lnTo>
                          <a:lnTo>
                            <a:pt x="4054" y="1567"/>
                          </a:lnTo>
                          <a:lnTo>
                            <a:pt x="3851" y="1567"/>
                          </a:lnTo>
                          <a:lnTo>
                            <a:pt x="3859" y="1630"/>
                          </a:lnTo>
                          <a:lnTo>
                            <a:pt x="3875" y="1692"/>
                          </a:lnTo>
                          <a:lnTo>
                            <a:pt x="3903" y="1751"/>
                          </a:lnTo>
                          <a:lnTo>
                            <a:pt x="3935" y="1814"/>
                          </a:lnTo>
                          <a:lnTo>
                            <a:pt x="3967" y="1872"/>
                          </a:lnTo>
                          <a:lnTo>
                            <a:pt x="3990" y="1935"/>
                          </a:lnTo>
                          <a:lnTo>
                            <a:pt x="4006" y="1997"/>
                          </a:lnTo>
                          <a:lnTo>
                            <a:pt x="4006" y="2064"/>
                          </a:lnTo>
                          <a:lnTo>
                            <a:pt x="3939" y="2064"/>
                          </a:lnTo>
                          <a:lnTo>
                            <a:pt x="3867" y="2064"/>
                          </a:lnTo>
                          <a:lnTo>
                            <a:pt x="3796" y="2064"/>
                          </a:lnTo>
                          <a:lnTo>
                            <a:pt x="3721" y="2064"/>
                          </a:lnTo>
                          <a:lnTo>
                            <a:pt x="3645" y="2064"/>
                          </a:lnTo>
                          <a:lnTo>
                            <a:pt x="3574" y="2060"/>
                          </a:lnTo>
                          <a:lnTo>
                            <a:pt x="3502" y="2060"/>
                          </a:lnTo>
                          <a:lnTo>
                            <a:pt x="3439" y="2052"/>
                          </a:lnTo>
                          <a:lnTo>
                            <a:pt x="3475" y="1993"/>
                          </a:lnTo>
                          <a:lnTo>
                            <a:pt x="3510" y="1931"/>
                          </a:lnTo>
                          <a:lnTo>
                            <a:pt x="3550" y="1876"/>
                          </a:lnTo>
                          <a:lnTo>
                            <a:pt x="3594" y="1818"/>
                          </a:lnTo>
                          <a:lnTo>
                            <a:pt x="3637" y="1759"/>
                          </a:lnTo>
                          <a:lnTo>
                            <a:pt x="3681" y="1700"/>
                          </a:lnTo>
                          <a:lnTo>
                            <a:pt x="3729" y="1642"/>
                          </a:lnTo>
                          <a:lnTo>
                            <a:pt x="3772" y="1579"/>
                          </a:lnTo>
                          <a:lnTo>
                            <a:pt x="3736" y="1571"/>
                          </a:lnTo>
                          <a:lnTo>
                            <a:pt x="3701" y="1567"/>
                          </a:lnTo>
                          <a:lnTo>
                            <a:pt x="3665" y="1567"/>
                          </a:lnTo>
                          <a:lnTo>
                            <a:pt x="3629" y="1563"/>
                          </a:lnTo>
                          <a:lnTo>
                            <a:pt x="3594" y="1559"/>
                          </a:lnTo>
                          <a:lnTo>
                            <a:pt x="3558" y="1552"/>
                          </a:lnTo>
                          <a:lnTo>
                            <a:pt x="3522" y="1540"/>
                          </a:lnTo>
                          <a:lnTo>
                            <a:pt x="3487" y="1520"/>
                          </a:lnTo>
                          <a:lnTo>
                            <a:pt x="3530" y="1458"/>
                          </a:lnTo>
                          <a:lnTo>
                            <a:pt x="3570" y="1399"/>
                          </a:lnTo>
                          <a:lnTo>
                            <a:pt x="3614" y="1341"/>
                          </a:lnTo>
                          <a:lnTo>
                            <a:pt x="3657" y="1282"/>
                          </a:lnTo>
                          <a:lnTo>
                            <a:pt x="3701" y="1223"/>
                          </a:lnTo>
                          <a:lnTo>
                            <a:pt x="3748" y="1165"/>
                          </a:lnTo>
                          <a:lnTo>
                            <a:pt x="3796" y="1106"/>
                          </a:lnTo>
                          <a:lnTo>
                            <a:pt x="3851" y="1047"/>
                          </a:lnTo>
                          <a:lnTo>
                            <a:pt x="3816" y="1024"/>
                          </a:lnTo>
                          <a:lnTo>
                            <a:pt x="3713" y="1020"/>
                          </a:lnTo>
                          <a:lnTo>
                            <a:pt x="3610" y="1016"/>
                          </a:lnTo>
                          <a:lnTo>
                            <a:pt x="3506" y="1012"/>
                          </a:lnTo>
                          <a:lnTo>
                            <a:pt x="3407" y="1008"/>
                          </a:lnTo>
                          <a:lnTo>
                            <a:pt x="3308" y="1008"/>
                          </a:lnTo>
                          <a:lnTo>
                            <a:pt x="3209" y="1008"/>
                          </a:lnTo>
                          <a:lnTo>
                            <a:pt x="3110" y="1008"/>
                          </a:lnTo>
                          <a:lnTo>
                            <a:pt x="3011" y="1008"/>
                          </a:lnTo>
                          <a:lnTo>
                            <a:pt x="2911" y="1012"/>
                          </a:lnTo>
                          <a:lnTo>
                            <a:pt x="2808" y="1012"/>
                          </a:lnTo>
                          <a:lnTo>
                            <a:pt x="2709" y="1016"/>
                          </a:lnTo>
                          <a:lnTo>
                            <a:pt x="2606" y="1016"/>
                          </a:lnTo>
                          <a:lnTo>
                            <a:pt x="2503" y="1020"/>
                          </a:lnTo>
                          <a:lnTo>
                            <a:pt x="2400" y="1020"/>
                          </a:lnTo>
                          <a:lnTo>
                            <a:pt x="2293" y="1024"/>
                          </a:lnTo>
                          <a:lnTo>
                            <a:pt x="2186" y="1024"/>
                          </a:lnTo>
                          <a:lnTo>
                            <a:pt x="2162" y="1059"/>
                          </a:lnTo>
                          <a:lnTo>
                            <a:pt x="2166" y="1098"/>
                          </a:lnTo>
                          <a:lnTo>
                            <a:pt x="2182" y="1137"/>
                          </a:lnTo>
                          <a:lnTo>
                            <a:pt x="2198" y="1172"/>
                          </a:lnTo>
                          <a:lnTo>
                            <a:pt x="2265" y="1215"/>
                          </a:lnTo>
                          <a:lnTo>
                            <a:pt x="2249" y="1266"/>
                          </a:lnTo>
                          <a:lnTo>
                            <a:pt x="2265" y="1325"/>
                          </a:lnTo>
                          <a:lnTo>
                            <a:pt x="2297" y="1391"/>
                          </a:lnTo>
                          <a:lnTo>
                            <a:pt x="2332" y="1454"/>
                          </a:lnTo>
                          <a:lnTo>
                            <a:pt x="2352" y="1505"/>
                          </a:lnTo>
                          <a:lnTo>
                            <a:pt x="2348" y="1544"/>
                          </a:lnTo>
                          <a:lnTo>
                            <a:pt x="2305" y="1559"/>
                          </a:lnTo>
                          <a:lnTo>
                            <a:pt x="2205" y="1544"/>
                          </a:lnTo>
                          <a:lnTo>
                            <a:pt x="2190" y="1544"/>
                          </a:lnTo>
                          <a:lnTo>
                            <a:pt x="2178" y="1548"/>
                          </a:lnTo>
                          <a:lnTo>
                            <a:pt x="2162" y="1556"/>
                          </a:lnTo>
                          <a:lnTo>
                            <a:pt x="2150" y="1567"/>
                          </a:lnTo>
                          <a:lnTo>
                            <a:pt x="2174" y="1622"/>
                          </a:lnTo>
                          <a:lnTo>
                            <a:pt x="2205" y="1673"/>
                          </a:lnTo>
                          <a:lnTo>
                            <a:pt x="2237" y="1728"/>
                          </a:lnTo>
                          <a:lnTo>
                            <a:pt x="2265" y="1778"/>
                          </a:lnTo>
                          <a:lnTo>
                            <a:pt x="2293" y="1833"/>
                          </a:lnTo>
                          <a:lnTo>
                            <a:pt x="2317" y="1888"/>
                          </a:lnTo>
                          <a:lnTo>
                            <a:pt x="2328" y="1947"/>
                          </a:lnTo>
                          <a:lnTo>
                            <a:pt x="2332" y="2005"/>
                          </a:lnTo>
                          <a:lnTo>
                            <a:pt x="2261" y="1997"/>
                          </a:lnTo>
                          <a:lnTo>
                            <a:pt x="2186" y="1990"/>
                          </a:lnTo>
                          <a:lnTo>
                            <a:pt x="2106" y="1990"/>
                          </a:lnTo>
                          <a:lnTo>
                            <a:pt x="2027" y="1986"/>
                          </a:lnTo>
                          <a:lnTo>
                            <a:pt x="1944" y="1986"/>
                          </a:lnTo>
                          <a:lnTo>
                            <a:pt x="1864" y="1982"/>
                          </a:lnTo>
                          <a:lnTo>
                            <a:pt x="1785" y="1978"/>
                          </a:lnTo>
                          <a:lnTo>
                            <a:pt x="1706" y="1974"/>
                          </a:lnTo>
                          <a:lnTo>
                            <a:pt x="1714" y="1939"/>
                          </a:lnTo>
                          <a:lnTo>
                            <a:pt x="1733" y="1907"/>
                          </a:lnTo>
                          <a:lnTo>
                            <a:pt x="1753" y="1880"/>
                          </a:lnTo>
                          <a:lnTo>
                            <a:pt x="1777" y="1849"/>
                          </a:lnTo>
                          <a:lnTo>
                            <a:pt x="1801" y="1821"/>
                          </a:lnTo>
                          <a:lnTo>
                            <a:pt x="1825" y="1794"/>
                          </a:lnTo>
                          <a:lnTo>
                            <a:pt x="1848" y="1767"/>
                          </a:lnTo>
                          <a:lnTo>
                            <a:pt x="1864" y="1735"/>
                          </a:lnTo>
                          <a:lnTo>
                            <a:pt x="2011" y="1556"/>
                          </a:lnTo>
                          <a:lnTo>
                            <a:pt x="1975" y="1540"/>
                          </a:lnTo>
                          <a:lnTo>
                            <a:pt x="1940" y="1536"/>
                          </a:lnTo>
                          <a:lnTo>
                            <a:pt x="1900" y="1532"/>
                          </a:lnTo>
                          <a:lnTo>
                            <a:pt x="1856" y="1532"/>
                          </a:lnTo>
                          <a:lnTo>
                            <a:pt x="1817" y="1532"/>
                          </a:lnTo>
                          <a:lnTo>
                            <a:pt x="1777" y="1528"/>
                          </a:lnTo>
                          <a:lnTo>
                            <a:pt x="1741" y="1513"/>
                          </a:lnTo>
                          <a:lnTo>
                            <a:pt x="1714" y="1489"/>
                          </a:lnTo>
                          <a:lnTo>
                            <a:pt x="1765" y="1434"/>
                          </a:lnTo>
                          <a:lnTo>
                            <a:pt x="1817" y="1380"/>
                          </a:lnTo>
                          <a:lnTo>
                            <a:pt x="1868" y="1325"/>
                          </a:lnTo>
                          <a:lnTo>
                            <a:pt x="1916" y="1266"/>
                          </a:lnTo>
                          <a:lnTo>
                            <a:pt x="1964" y="1212"/>
                          </a:lnTo>
                          <a:lnTo>
                            <a:pt x="2011" y="1153"/>
                          </a:lnTo>
                          <a:lnTo>
                            <a:pt x="2055" y="1094"/>
                          </a:lnTo>
                          <a:lnTo>
                            <a:pt x="2094" y="1036"/>
                          </a:lnTo>
                          <a:lnTo>
                            <a:pt x="1995" y="1032"/>
                          </a:lnTo>
                          <a:lnTo>
                            <a:pt x="1900" y="1028"/>
                          </a:lnTo>
                          <a:lnTo>
                            <a:pt x="1805" y="1024"/>
                          </a:lnTo>
                          <a:lnTo>
                            <a:pt x="1714" y="1024"/>
                          </a:lnTo>
                          <a:lnTo>
                            <a:pt x="1622" y="1024"/>
                          </a:lnTo>
                          <a:lnTo>
                            <a:pt x="1531" y="1024"/>
                          </a:lnTo>
                          <a:lnTo>
                            <a:pt x="1444" y="1024"/>
                          </a:lnTo>
                          <a:lnTo>
                            <a:pt x="1353" y="1028"/>
                          </a:lnTo>
                          <a:lnTo>
                            <a:pt x="1265" y="1028"/>
                          </a:lnTo>
                          <a:lnTo>
                            <a:pt x="1178" y="1032"/>
                          </a:lnTo>
                          <a:lnTo>
                            <a:pt x="1087" y="1036"/>
                          </a:lnTo>
                          <a:lnTo>
                            <a:pt x="1000" y="1040"/>
                          </a:lnTo>
                          <a:lnTo>
                            <a:pt x="912" y="1043"/>
                          </a:lnTo>
                          <a:lnTo>
                            <a:pt x="821" y="1047"/>
                          </a:lnTo>
                          <a:lnTo>
                            <a:pt x="730" y="1055"/>
                          </a:lnTo>
                          <a:lnTo>
                            <a:pt x="639" y="1059"/>
                          </a:lnTo>
                          <a:lnTo>
                            <a:pt x="667" y="1102"/>
                          </a:lnTo>
                          <a:lnTo>
                            <a:pt x="674" y="1157"/>
                          </a:lnTo>
                          <a:lnTo>
                            <a:pt x="694" y="1200"/>
                          </a:lnTo>
                          <a:lnTo>
                            <a:pt x="742" y="1215"/>
                          </a:lnTo>
                          <a:lnTo>
                            <a:pt x="718" y="1262"/>
                          </a:lnTo>
                          <a:lnTo>
                            <a:pt x="742" y="1278"/>
                          </a:lnTo>
                          <a:lnTo>
                            <a:pt x="754" y="1321"/>
                          </a:lnTo>
                          <a:lnTo>
                            <a:pt x="774" y="1364"/>
                          </a:lnTo>
                          <a:lnTo>
                            <a:pt x="821" y="1387"/>
                          </a:lnTo>
                          <a:lnTo>
                            <a:pt x="801" y="1411"/>
                          </a:lnTo>
                          <a:lnTo>
                            <a:pt x="813" y="1446"/>
                          </a:lnTo>
                          <a:lnTo>
                            <a:pt x="825" y="1481"/>
                          </a:lnTo>
                          <a:lnTo>
                            <a:pt x="809" y="1520"/>
                          </a:lnTo>
                          <a:lnTo>
                            <a:pt x="786" y="1513"/>
                          </a:lnTo>
                          <a:lnTo>
                            <a:pt x="762" y="1505"/>
                          </a:lnTo>
                          <a:lnTo>
                            <a:pt x="738" y="1497"/>
                          </a:lnTo>
                          <a:lnTo>
                            <a:pt x="714" y="1493"/>
                          </a:lnTo>
                          <a:lnTo>
                            <a:pt x="690" y="1489"/>
                          </a:lnTo>
                          <a:lnTo>
                            <a:pt x="663" y="1485"/>
                          </a:lnTo>
                          <a:lnTo>
                            <a:pt x="635" y="1485"/>
                          </a:lnTo>
                          <a:lnTo>
                            <a:pt x="607" y="1489"/>
                          </a:lnTo>
                          <a:lnTo>
                            <a:pt x="595" y="1513"/>
                          </a:lnTo>
                          <a:lnTo>
                            <a:pt x="607" y="1536"/>
                          </a:lnTo>
                          <a:lnTo>
                            <a:pt x="623" y="1563"/>
                          </a:lnTo>
                          <a:lnTo>
                            <a:pt x="627" y="1591"/>
                          </a:lnTo>
                          <a:lnTo>
                            <a:pt x="730" y="1591"/>
                          </a:lnTo>
                          <a:lnTo>
                            <a:pt x="722" y="1610"/>
                          </a:lnTo>
                          <a:lnTo>
                            <a:pt x="702" y="1610"/>
                          </a:lnTo>
                          <a:lnTo>
                            <a:pt x="682" y="1610"/>
                          </a:lnTo>
                          <a:lnTo>
                            <a:pt x="663" y="1622"/>
                          </a:lnTo>
                          <a:lnTo>
                            <a:pt x="667" y="1661"/>
                          </a:lnTo>
                          <a:lnTo>
                            <a:pt x="678" y="1700"/>
                          </a:lnTo>
                          <a:lnTo>
                            <a:pt x="694" y="1739"/>
                          </a:lnTo>
                          <a:lnTo>
                            <a:pt x="714" y="1775"/>
                          </a:lnTo>
                          <a:lnTo>
                            <a:pt x="738" y="1814"/>
                          </a:lnTo>
                          <a:lnTo>
                            <a:pt x="758" y="1853"/>
                          </a:lnTo>
                          <a:lnTo>
                            <a:pt x="770" y="1896"/>
                          </a:lnTo>
                          <a:lnTo>
                            <a:pt x="778" y="1939"/>
                          </a:lnTo>
                          <a:lnTo>
                            <a:pt x="710" y="1943"/>
                          </a:lnTo>
                          <a:lnTo>
                            <a:pt x="643" y="1939"/>
                          </a:lnTo>
                          <a:lnTo>
                            <a:pt x="567" y="1935"/>
                          </a:lnTo>
                          <a:lnTo>
                            <a:pt x="492" y="1931"/>
                          </a:lnTo>
                          <a:lnTo>
                            <a:pt x="417" y="1927"/>
                          </a:lnTo>
                          <a:lnTo>
                            <a:pt x="345" y="1927"/>
                          </a:lnTo>
                          <a:lnTo>
                            <a:pt x="278" y="1931"/>
                          </a:lnTo>
                          <a:lnTo>
                            <a:pt x="214" y="1939"/>
                          </a:lnTo>
                          <a:lnTo>
                            <a:pt x="183" y="1904"/>
                          </a:lnTo>
                          <a:lnTo>
                            <a:pt x="230" y="1861"/>
                          </a:lnTo>
                          <a:lnTo>
                            <a:pt x="270" y="1814"/>
                          </a:lnTo>
                          <a:lnTo>
                            <a:pt x="310" y="1763"/>
                          </a:lnTo>
                          <a:lnTo>
                            <a:pt x="345" y="1712"/>
                          </a:lnTo>
                          <a:lnTo>
                            <a:pt x="377" y="1657"/>
                          </a:lnTo>
                          <a:lnTo>
                            <a:pt x="409" y="1602"/>
                          </a:lnTo>
                          <a:lnTo>
                            <a:pt x="444" y="1552"/>
                          </a:lnTo>
                          <a:lnTo>
                            <a:pt x="480" y="1501"/>
                          </a:lnTo>
                          <a:lnTo>
                            <a:pt x="456" y="1477"/>
                          </a:lnTo>
                          <a:lnTo>
                            <a:pt x="195" y="1466"/>
                          </a:lnTo>
                          <a:lnTo>
                            <a:pt x="195" y="1419"/>
                          </a:lnTo>
                          <a:lnTo>
                            <a:pt x="559" y="1047"/>
                          </a:lnTo>
                          <a:lnTo>
                            <a:pt x="504" y="1036"/>
                          </a:lnTo>
                          <a:lnTo>
                            <a:pt x="448" y="1028"/>
                          </a:lnTo>
                          <a:lnTo>
                            <a:pt x="393" y="1024"/>
                          </a:lnTo>
                          <a:lnTo>
                            <a:pt x="337" y="1020"/>
                          </a:lnTo>
                          <a:lnTo>
                            <a:pt x="278" y="1024"/>
                          </a:lnTo>
                          <a:lnTo>
                            <a:pt x="222" y="1028"/>
                          </a:lnTo>
                          <a:lnTo>
                            <a:pt x="167" y="1036"/>
                          </a:lnTo>
                          <a:lnTo>
                            <a:pt x="111" y="1047"/>
                          </a:lnTo>
                          <a:lnTo>
                            <a:pt x="91" y="1024"/>
                          </a:lnTo>
                          <a:lnTo>
                            <a:pt x="68" y="1047"/>
                          </a:lnTo>
                          <a:lnTo>
                            <a:pt x="16" y="1008"/>
                          </a:lnTo>
                          <a:lnTo>
                            <a:pt x="4" y="954"/>
                          </a:lnTo>
                          <a:lnTo>
                            <a:pt x="12" y="891"/>
                          </a:lnTo>
                          <a:lnTo>
                            <a:pt x="0" y="821"/>
                          </a:lnTo>
                          <a:lnTo>
                            <a:pt x="68" y="836"/>
                          </a:lnTo>
                          <a:lnTo>
                            <a:pt x="135" y="840"/>
                          </a:lnTo>
                          <a:lnTo>
                            <a:pt x="202" y="844"/>
                          </a:lnTo>
                          <a:lnTo>
                            <a:pt x="270" y="844"/>
                          </a:lnTo>
                          <a:lnTo>
                            <a:pt x="337" y="844"/>
                          </a:lnTo>
                          <a:lnTo>
                            <a:pt x="409" y="844"/>
                          </a:lnTo>
                          <a:lnTo>
                            <a:pt x="484" y="848"/>
                          </a:lnTo>
                          <a:lnTo>
                            <a:pt x="559" y="856"/>
                          </a:lnTo>
                          <a:lnTo>
                            <a:pt x="540" y="805"/>
                          </a:lnTo>
                          <a:lnTo>
                            <a:pt x="512" y="754"/>
                          </a:lnTo>
                          <a:lnTo>
                            <a:pt x="480" y="703"/>
                          </a:lnTo>
                          <a:lnTo>
                            <a:pt x="440" y="656"/>
                          </a:lnTo>
                          <a:lnTo>
                            <a:pt x="401" y="609"/>
                          </a:lnTo>
                          <a:lnTo>
                            <a:pt x="361" y="566"/>
                          </a:lnTo>
                          <a:lnTo>
                            <a:pt x="317" y="523"/>
                          </a:lnTo>
                          <a:lnTo>
                            <a:pt x="274" y="484"/>
                          </a:lnTo>
                          <a:lnTo>
                            <a:pt x="250" y="484"/>
                          </a:lnTo>
                          <a:lnTo>
                            <a:pt x="226" y="484"/>
                          </a:lnTo>
                          <a:lnTo>
                            <a:pt x="210" y="473"/>
                          </a:lnTo>
                          <a:lnTo>
                            <a:pt x="206" y="449"/>
                          </a:lnTo>
                          <a:lnTo>
                            <a:pt x="226" y="426"/>
                          </a:lnTo>
                          <a:lnTo>
                            <a:pt x="202" y="394"/>
                          </a:lnTo>
                          <a:lnTo>
                            <a:pt x="187" y="363"/>
                          </a:lnTo>
                          <a:lnTo>
                            <a:pt x="171" y="328"/>
                          </a:lnTo>
                          <a:lnTo>
                            <a:pt x="159" y="297"/>
                          </a:lnTo>
                          <a:lnTo>
                            <a:pt x="147" y="262"/>
                          </a:lnTo>
                          <a:lnTo>
                            <a:pt x="131" y="230"/>
                          </a:lnTo>
                          <a:lnTo>
                            <a:pt x="107" y="203"/>
                          </a:lnTo>
                          <a:lnTo>
                            <a:pt x="79" y="179"/>
                          </a:lnTo>
                          <a:lnTo>
                            <a:pt x="79" y="164"/>
                          </a:lnTo>
                          <a:lnTo>
                            <a:pt x="79" y="144"/>
                          </a:lnTo>
                          <a:lnTo>
                            <a:pt x="76" y="129"/>
                          </a:lnTo>
                          <a:lnTo>
                            <a:pt x="56" y="121"/>
                          </a:lnTo>
                          <a:lnTo>
                            <a:pt x="20" y="121"/>
                          </a:lnTo>
                          <a:lnTo>
                            <a:pt x="16" y="105"/>
                          </a:lnTo>
                          <a:lnTo>
                            <a:pt x="28" y="97"/>
                          </a:lnTo>
                          <a:lnTo>
                            <a:pt x="40" y="97"/>
                          </a:lnTo>
                          <a:lnTo>
                            <a:pt x="56" y="90"/>
                          </a:lnTo>
                          <a:lnTo>
                            <a:pt x="79" y="90"/>
                          </a:lnTo>
                          <a:lnTo>
                            <a:pt x="79" y="0"/>
                          </a:lnTo>
                          <a:lnTo>
                            <a:pt x="210" y="4"/>
                          </a:lnTo>
                          <a:lnTo>
                            <a:pt x="341" y="7"/>
                          </a:lnTo>
                          <a:lnTo>
                            <a:pt x="468" y="7"/>
                          </a:lnTo>
                          <a:lnTo>
                            <a:pt x="595" y="7"/>
                          </a:lnTo>
                          <a:lnTo>
                            <a:pt x="718" y="11"/>
                          </a:lnTo>
                          <a:lnTo>
                            <a:pt x="845" y="11"/>
                          </a:lnTo>
                          <a:lnTo>
                            <a:pt x="968" y="11"/>
                          </a:lnTo>
                          <a:lnTo>
                            <a:pt x="1095" y="11"/>
                          </a:lnTo>
                          <a:lnTo>
                            <a:pt x="1218" y="11"/>
                          </a:lnTo>
                          <a:lnTo>
                            <a:pt x="1345" y="11"/>
                          </a:lnTo>
                          <a:lnTo>
                            <a:pt x="1472" y="11"/>
                          </a:lnTo>
                          <a:lnTo>
                            <a:pt x="1603" y="11"/>
                          </a:lnTo>
                          <a:lnTo>
                            <a:pt x="1733" y="11"/>
                          </a:lnTo>
                          <a:lnTo>
                            <a:pt x="1864" y="15"/>
                          </a:lnTo>
                          <a:lnTo>
                            <a:pt x="1999" y="19"/>
                          </a:lnTo>
                          <a:lnTo>
                            <a:pt x="2138" y="23"/>
                          </a:lnTo>
                          <a:close/>
                        </a:path>
                      </a:pathLst>
                    </a:custGeom>
                    <a:solidFill>
                      <a:srgbClr val="11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4" name=""/>
                    <p:cNvSpPr/>
                    <p:nvPr/>
                  </p:nvSpPr>
                  <p:spPr>
                    <a:xfrm>
                      <a:off x="4692960" y="1721520"/>
                      <a:ext cx="11232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2" h="90">
                          <a:moveTo>
                            <a:pt x="182" y="12"/>
                          </a:moveTo>
                          <a:lnTo>
                            <a:pt x="0" y="90"/>
                          </a:lnTo>
                          <a:lnTo>
                            <a:pt x="16" y="82"/>
                          </a:lnTo>
                          <a:lnTo>
                            <a:pt x="43" y="63"/>
                          </a:lnTo>
                          <a:lnTo>
                            <a:pt x="67" y="39"/>
                          </a:lnTo>
                          <a:lnTo>
                            <a:pt x="83" y="12"/>
                          </a:lnTo>
                          <a:lnTo>
                            <a:pt x="107" y="4"/>
                          </a:lnTo>
                          <a:lnTo>
                            <a:pt x="135" y="0"/>
                          </a:lnTo>
                          <a:lnTo>
                            <a:pt x="162" y="0"/>
                          </a:lnTo>
                          <a:lnTo>
                            <a:pt x="182" y="12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5" name=""/>
                    <p:cNvSpPr/>
                    <p:nvPr/>
                  </p:nvSpPr>
                  <p:spPr>
                    <a:xfrm>
                      <a:off x="4955040" y="1721520"/>
                      <a:ext cx="149400" cy="6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2" h="106">
                          <a:moveTo>
                            <a:pt x="242" y="0"/>
                          </a:moveTo>
                          <a:lnTo>
                            <a:pt x="210" y="8"/>
                          </a:lnTo>
                          <a:lnTo>
                            <a:pt x="183" y="20"/>
                          </a:lnTo>
                          <a:lnTo>
                            <a:pt x="155" y="43"/>
                          </a:lnTo>
                          <a:lnTo>
                            <a:pt x="127" y="63"/>
                          </a:lnTo>
                          <a:lnTo>
                            <a:pt x="103" y="82"/>
                          </a:lnTo>
                          <a:lnTo>
                            <a:pt x="72" y="98"/>
                          </a:lnTo>
                          <a:lnTo>
                            <a:pt x="40" y="106"/>
                          </a:lnTo>
                          <a:lnTo>
                            <a:pt x="0" y="102"/>
                          </a:lnTo>
                          <a:lnTo>
                            <a:pt x="32" y="82"/>
                          </a:lnTo>
                          <a:lnTo>
                            <a:pt x="60" y="67"/>
                          </a:lnTo>
                          <a:lnTo>
                            <a:pt x="87" y="55"/>
                          </a:lnTo>
                          <a:lnTo>
                            <a:pt x="115" y="43"/>
                          </a:lnTo>
                          <a:lnTo>
                            <a:pt x="143" y="36"/>
                          </a:lnTo>
                          <a:lnTo>
                            <a:pt x="175" y="24"/>
                          </a:lnTo>
                          <a:lnTo>
                            <a:pt x="206" y="12"/>
                          </a:lnTo>
                          <a:lnTo>
                            <a:pt x="242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6" name=""/>
                    <p:cNvSpPr/>
                    <p:nvPr/>
                  </p:nvSpPr>
                  <p:spPr>
                    <a:xfrm>
                      <a:off x="5068440" y="1721520"/>
                      <a:ext cx="149400" cy="6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2" h="102">
                          <a:moveTo>
                            <a:pt x="242" y="0"/>
                          </a:moveTo>
                          <a:lnTo>
                            <a:pt x="226" y="8"/>
                          </a:lnTo>
                          <a:lnTo>
                            <a:pt x="206" y="16"/>
                          </a:lnTo>
                          <a:lnTo>
                            <a:pt x="182" y="24"/>
                          </a:lnTo>
                          <a:lnTo>
                            <a:pt x="162" y="32"/>
                          </a:lnTo>
                          <a:lnTo>
                            <a:pt x="142" y="43"/>
                          </a:lnTo>
                          <a:lnTo>
                            <a:pt x="123" y="55"/>
                          </a:lnTo>
                          <a:lnTo>
                            <a:pt x="111" y="71"/>
                          </a:lnTo>
                          <a:lnTo>
                            <a:pt x="103" y="90"/>
                          </a:lnTo>
                          <a:lnTo>
                            <a:pt x="0" y="102"/>
                          </a:lnTo>
                          <a:lnTo>
                            <a:pt x="0" y="79"/>
                          </a:lnTo>
                          <a:lnTo>
                            <a:pt x="31" y="71"/>
                          </a:lnTo>
                          <a:lnTo>
                            <a:pt x="59" y="63"/>
                          </a:lnTo>
                          <a:lnTo>
                            <a:pt x="91" y="55"/>
                          </a:lnTo>
                          <a:lnTo>
                            <a:pt x="123" y="43"/>
                          </a:lnTo>
                          <a:lnTo>
                            <a:pt x="154" y="36"/>
                          </a:lnTo>
                          <a:lnTo>
                            <a:pt x="186" y="24"/>
                          </a:lnTo>
                          <a:lnTo>
                            <a:pt x="214" y="12"/>
                          </a:lnTo>
                          <a:lnTo>
                            <a:pt x="242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480" bIns="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7" name=""/>
                    <p:cNvSpPr/>
                    <p:nvPr/>
                  </p:nvSpPr>
                  <p:spPr>
                    <a:xfrm>
                      <a:off x="5180760" y="1729080"/>
                      <a:ext cx="15696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4" h="90">
                          <a:moveTo>
                            <a:pt x="254" y="0"/>
                          </a:moveTo>
                          <a:lnTo>
                            <a:pt x="234" y="8"/>
                          </a:lnTo>
                          <a:lnTo>
                            <a:pt x="214" y="8"/>
                          </a:lnTo>
                          <a:lnTo>
                            <a:pt x="194" y="12"/>
                          </a:lnTo>
                          <a:lnTo>
                            <a:pt x="175" y="16"/>
                          </a:lnTo>
                          <a:lnTo>
                            <a:pt x="155" y="20"/>
                          </a:lnTo>
                          <a:lnTo>
                            <a:pt x="135" y="27"/>
                          </a:lnTo>
                          <a:lnTo>
                            <a:pt x="119" y="39"/>
                          </a:lnTo>
                          <a:lnTo>
                            <a:pt x="103" y="55"/>
                          </a:lnTo>
                          <a:lnTo>
                            <a:pt x="111" y="59"/>
                          </a:lnTo>
                          <a:lnTo>
                            <a:pt x="115" y="70"/>
                          </a:lnTo>
                          <a:lnTo>
                            <a:pt x="115" y="78"/>
                          </a:lnTo>
                          <a:lnTo>
                            <a:pt x="115" y="90"/>
                          </a:lnTo>
                          <a:lnTo>
                            <a:pt x="0" y="78"/>
                          </a:lnTo>
                          <a:lnTo>
                            <a:pt x="32" y="63"/>
                          </a:lnTo>
                          <a:lnTo>
                            <a:pt x="67" y="47"/>
                          </a:lnTo>
                          <a:lnTo>
                            <a:pt x="99" y="35"/>
                          </a:lnTo>
                          <a:lnTo>
                            <a:pt x="127" y="27"/>
                          </a:lnTo>
                          <a:lnTo>
                            <a:pt x="159" y="20"/>
                          </a:lnTo>
                          <a:lnTo>
                            <a:pt x="190" y="12"/>
                          </a:lnTo>
                          <a:lnTo>
                            <a:pt x="222" y="8"/>
                          </a:lnTo>
                          <a:lnTo>
                            <a:pt x="254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8" name=""/>
                    <p:cNvSpPr/>
                    <p:nvPr/>
                  </p:nvSpPr>
                  <p:spPr>
                    <a:xfrm>
                      <a:off x="5281560" y="1726560"/>
                      <a:ext cx="161280" cy="64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1" h="106">
                          <a:moveTo>
                            <a:pt x="261" y="4"/>
                          </a:moveTo>
                          <a:lnTo>
                            <a:pt x="226" y="12"/>
                          </a:lnTo>
                          <a:lnTo>
                            <a:pt x="194" y="20"/>
                          </a:lnTo>
                          <a:lnTo>
                            <a:pt x="158" y="31"/>
                          </a:lnTo>
                          <a:lnTo>
                            <a:pt x="127" y="43"/>
                          </a:lnTo>
                          <a:lnTo>
                            <a:pt x="95" y="55"/>
                          </a:lnTo>
                          <a:lnTo>
                            <a:pt x="63" y="71"/>
                          </a:lnTo>
                          <a:lnTo>
                            <a:pt x="35" y="86"/>
                          </a:lnTo>
                          <a:lnTo>
                            <a:pt x="12" y="106"/>
                          </a:lnTo>
                          <a:lnTo>
                            <a:pt x="0" y="94"/>
                          </a:lnTo>
                          <a:lnTo>
                            <a:pt x="31" y="86"/>
                          </a:lnTo>
                          <a:lnTo>
                            <a:pt x="59" y="74"/>
                          </a:lnTo>
                          <a:lnTo>
                            <a:pt x="87" y="55"/>
                          </a:lnTo>
                          <a:lnTo>
                            <a:pt x="111" y="35"/>
                          </a:lnTo>
                          <a:lnTo>
                            <a:pt x="138" y="20"/>
                          </a:lnTo>
                          <a:lnTo>
                            <a:pt x="162" y="8"/>
                          </a:lnTo>
                          <a:lnTo>
                            <a:pt x="190" y="0"/>
                          </a:lnTo>
                          <a:lnTo>
                            <a:pt x="218" y="4"/>
                          </a:lnTo>
                          <a:lnTo>
                            <a:pt x="261" y="4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000" bIns="18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9" name=""/>
                    <p:cNvSpPr/>
                    <p:nvPr/>
                  </p:nvSpPr>
                  <p:spPr>
                    <a:xfrm>
                      <a:off x="4459680" y="1729080"/>
                      <a:ext cx="48600" cy="49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9" h="82">
                          <a:moveTo>
                            <a:pt x="79" y="12"/>
                          </a:moveTo>
                          <a:lnTo>
                            <a:pt x="59" y="35"/>
                          </a:lnTo>
                          <a:lnTo>
                            <a:pt x="51" y="63"/>
                          </a:lnTo>
                          <a:lnTo>
                            <a:pt x="36" y="82"/>
                          </a:lnTo>
                          <a:lnTo>
                            <a:pt x="0" y="78"/>
                          </a:lnTo>
                          <a:lnTo>
                            <a:pt x="24" y="0"/>
                          </a:lnTo>
                          <a:lnTo>
                            <a:pt x="36" y="8"/>
                          </a:lnTo>
                          <a:lnTo>
                            <a:pt x="48" y="12"/>
                          </a:lnTo>
                          <a:lnTo>
                            <a:pt x="63" y="12"/>
                          </a:lnTo>
                          <a:lnTo>
                            <a:pt x="79" y="12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80" bIns="2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0" name=""/>
                    <p:cNvSpPr/>
                    <p:nvPr/>
                  </p:nvSpPr>
                  <p:spPr>
                    <a:xfrm>
                      <a:off x="4805640" y="1729080"/>
                      <a:ext cx="8568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9" h="55">
                          <a:moveTo>
                            <a:pt x="0" y="55"/>
                          </a:moveTo>
                          <a:lnTo>
                            <a:pt x="83" y="0"/>
                          </a:lnTo>
                          <a:lnTo>
                            <a:pt x="139" y="0"/>
                          </a:lnTo>
                          <a:lnTo>
                            <a:pt x="0" y="55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1" name=""/>
                    <p:cNvSpPr/>
                    <p:nvPr/>
                  </p:nvSpPr>
                  <p:spPr>
                    <a:xfrm>
                      <a:off x="4869360" y="1726560"/>
                      <a:ext cx="115560" cy="50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7" h="82">
                          <a:moveTo>
                            <a:pt x="187" y="4"/>
                          </a:moveTo>
                          <a:lnTo>
                            <a:pt x="159" y="8"/>
                          </a:lnTo>
                          <a:lnTo>
                            <a:pt x="135" y="20"/>
                          </a:lnTo>
                          <a:lnTo>
                            <a:pt x="115" y="31"/>
                          </a:lnTo>
                          <a:lnTo>
                            <a:pt x="95" y="47"/>
                          </a:lnTo>
                          <a:lnTo>
                            <a:pt x="76" y="59"/>
                          </a:lnTo>
                          <a:lnTo>
                            <a:pt x="52" y="71"/>
                          </a:lnTo>
                          <a:lnTo>
                            <a:pt x="28" y="78"/>
                          </a:lnTo>
                          <a:lnTo>
                            <a:pt x="0" y="82"/>
                          </a:lnTo>
                          <a:lnTo>
                            <a:pt x="24" y="71"/>
                          </a:lnTo>
                          <a:lnTo>
                            <a:pt x="48" y="59"/>
                          </a:lnTo>
                          <a:lnTo>
                            <a:pt x="76" y="43"/>
                          </a:lnTo>
                          <a:lnTo>
                            <a:pt x="99" y="24"/>
                          </a:lnTo>
                          <a:lnTo>
                            <a:pt x="127" y="12"/>
                          </a:lnTo>
                          <a:lnTo>
                            <a:pt x="151" y="0"/>
                          </a:lnTo>
                          <a:lnTo>
                            <a:pt x="171" y="0"/>
                          </a:lnTo>
                          <a:lnTo>
                            <a:pt x="187" y="4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40" bIns="3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2" name=""/>
                    <p:cNvSpPr/>
                    <p:nvPr/>
                  </p:nvSpPr>
                  <p:spPr>
                    <a:xfrm>
                      <a:off x="5379480" y="1729080"/>
                      <a:ext cx="1422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0" h="90">
                          <a:moveTo>
                            <a:pt x="230" y="0"/>
                          </a:moveTo>
                          <a:lnTo>
                            <a:pt x="203" y="12"/>
                          </a:lnTo>
                          <a:lnTo>
                            <a:pt x="171" y="24"/>
                          </a:lnTo>
                          <a:lnTo>
                            <a:pt x="143" y="35"/>
                          </a:lnTo>
                          <a:lnTo>
                            <a:pt x="115" y="47"/>
                          </a:lnTo>
                          <a:lnTo>
                            <a:pt x="84" y="59"/>
                          </a:lnTo>
                          <a:lnTo>
                            <a:pt x="56" y="70"/>
                          </a:lnTo>
                          <a:lnTo>
                            <a:pt x="28" y="82"/>
                          </a:lnTo>
                          <a:lnTo>
                            <a:pt x="0" y="90"/>
                          </a:lnTo>
                          <a:lnTo>
                            <a:pt x="20" y="78"/>
                          </a:lnTo>
                          <a:lnTo>
                            <a:pt x="40" y="70"/>
                          </a:lnTo>
                          <a:lnTo>
                            <a:pt x="64" y="63"/>
                          </a:lnTo>
                          <a:lnTo>
                            <a:pt x="88" y="55"/>
                          </a:lnTo>
                          <a:lnTo>
                            <a:pt x="107" y="47"/>
                          </a:lnTo>
                          <a:lnTo>
                            <a:pt x="123" y="35"/>
                          </a:lnTo>
                          <a:lnTo>
                            <a:pt x="131" y="20"/>
                          </a:lnTo>
                          <a:lnTo>
                            <a:pt x="127" y="0"/>
                          </a:lnTo>
                          <a:lnTo>
                            <a:pt x="230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3" name=""/>
                    <p:cNvSpPr/>
                    <p:nvPr/>
                  </p:nvSpPr>
                  <p:spPr>
                    <a:xfrm>
                      <a:off x="5649840" y="1729080"/>
                      <a:ext cx="325800" cy="6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7" h="102">
                          <a:moveTo>
                            <a:pt x="527" y="24"/>
                          </a:moveTo>
                          <a:lnTo>
                            <a:pt x="309" y="102"/>
                          </a:lnTo>
                          <a:lnTo>
                            <a:pt x="333" y="86"/>
                          </a:lnTo>
                          <a:lnTo>
                            <a:pt x="365" y="74"/>
                          </a:lnTo>
                          <a:lnTo>
                            <a:pt x="392" y="63"/>
                          </a:lnTo>
                          <a:lnTo>
                            <a:pt x="400" y="35"/>
                          </a:lnTo>
                          <a:lnTo>
                            <a:pt x="361" y="31"/>
                          </a:lnTo>
                          <a:lnTo>
                            <a:pt x="325" y="39"/>
                          </a:lnTo>
                          <a:lnTo>
                            <a:pt x="285" y="51"/>
                          </a:lnTo>
                          <a:lnTo>
                            <a:pt x="249" y="67"/>
                          </a:lnTo>
                          <a:lnTo>
                            <a:pt x="214" y="82"/>
                          </a:lnTo>
                          <a:lnTo>
                            <a:pt x="174" y="94"/>
                          </a:lnTo>
                          <a:lnTo>
                            <a:pt x="134" y="102"/>
                          </a:lnTo>
                          <a:lnTo>
                            <a:pt x="91" y="102"/>
                          </a:lnTo>
                          <a:lnTo>
                            <a:pt x="107" y="86"/>
                          </a:lnTo>
                          <a:lnTo>
                            <a:pt x="127" y="78"/>
                          </a:lnTo>
                          <a:lnTo>
                            <a:pt x="150" y="70"/>
                          </a:lnTo>
                          <a:lnTo>
                            <a:pt x="174" y="67"/>
                          </a:lnTo>
                          <a:lnTo>
                            <a:pt x="198" y="59"/>
                          </a:lnTo>
                          <a:lnTo>
                            <a:pt x="214" y="51"/>
                          </a:lnTo>
                          <a:lnTo>
                            <a:pt x="222" y="35"/>
                          </a:lnTo>
                          <a:lnTo>
                            <a:pt x="218" y="12"/>
                          </a:lnTo>
                          <a:lnTo>
                            <a:pt x="35" y="55"/>
                          </a:lnTo>
                          <a:lnTo>
                            <a:pt x="39" y="47"/>
                          </a:lnTo>
                          <a:lnTo>
                            <a:pt x="51" y="43"/>
                          </a:lnTo>
                          <a:lnTo>
                            <a:pt x="55" y="35"/>
                          </a:lnTo>
                          <a:lnTo>
                            <a:pt x="55" y="24"/>
                          </a:lnTo>
                          <a:lnTo>
                            <a:pt x="0" y="0"/>
                          </a:lnTo>
                          <a:lnTo>
                            <a:pt x="67" y="0"/>
                          </a:lnTo>
                          <a:lnTo>
                            <a:pt x="134" y="0"/>
                          </a:lnTo>
                          <a:lnTo>
                            <a:pt x="198" y="0"/>
                          </a:lnTo>
                          <a:lnTo>
                            <a:pt x="265" y="4"/>
                          </a:lnTo>
                          <a:lnTo>
                            <a:pt x="329" y="12"/>
                          </a:lnTo>
                          <a:lnTo>
                            <a:pt x="396" y="16"/>
                          </a:lnTo>
                          <a:lnTo>
                            <a:pt x="460" y="20"/>
                          </a:lnTo>
                          <a:lnTo>
                            <a:pt x="527" y="24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480" bIns="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4" name=""/>
                    <p:cNvSpPr/>
                    <p:nvPr/>
                  </p:nvSpPr>
                  <p:spPr>
                    <a:xfrm>
                      <a:off x="4601880" y="1740960"/>
                      <a:ext cx="7848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7" h="47">
                          <a:moveTo>
                            <a:pt x="127" y="4"/>
                          </a:moveTo>
                          <a:lnTo>
                            <a:pt x="111" y="11"/>
                          </a:lnTo>
                          <a:lnTo>
                            <a:pt x="95" y="15"/>
                          </a:lnTo>
                          <a:lnTo>
                            <a:pt x="79" y="23"/>
                          </a:lnTo>
                          <a:lnTo>
                            <a:pt x="63" y="27"/>
                          </a:lnTo>
                          <a:lnTo>
                            <a:pt x="48" y="35"/>
                          </a:lnTo>
                          <a:lnTo>
                            <a:pt x="32" y="39"/>
                          </a:lnTo>
                          <a:lnTo>
                            <a:pt x="16" y="43"/>
                          </a:lnTo>
                          <a:lnTo>
                            <a:pt x="0" y="47"/>
                          </a:lnTo>
                          <a:lnTo>
                            <a:pt x="16" y="43"/>
                          </a:lnTo>
                          <a:lnTo>
                            <a:pt x="32" y="35"/>
                          </a:lnTo>
                          <a:lnTo>
                            <a:pt x="44" y="27"/>
                          </a:lnTo>
                          <a:lnTo>
                            <a:pt x="59" y="15"/>
                          </a:lnTo>
                          <a:lnTo>
                            <a:pt x="71" y="7"/>
                          </a:lnTo>
                          <a:lnTo>
                            <a:pt x="87" y="0"/>
                          </a:lnTo>
                          <a:lnTo>
                            <a:pt x="107" y="0"/>
                          </a:lnTo>
                          <a:lnTo>
                            <a:pt x="127" y="4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5" name=""/>
                    <p:cNvSpPr/>
                    <p:nvPr/>
                  </p:nvSpPr>
                  <p:spPr>
                    <a:xfrm>
                      <a:off x="5939280" y="1743480"/>
                      <a:ext cx="15624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3" h="78">
                          <a:moveTo>
                            <a:pt x="253" y="0"/>
                          </a:moveTo>
                          <a:lnTo>
                            <a:pt x="210" y="11"/>
                          </a:lnTo>
                          <a:lnTo>
                            <a:pt x="178" y="23"/>
                          </a:lnTo>
                          <a:lnTo>
                            <a:pt x="154" y="35"/>
                          </a:lnTo>
                          <a:lnTo>
                            <a:pt x="131" y="43"/>
                          </a:lnTo>
                          <a:lnTo>
                            <a:pt x="107" y="50"/>
                          </a:lnTo>
                          <a:lnTo>
                            <a:pt x="79" y="58"/>
                          </a:lnTo>
                          <a:lnTo>
                            <a:pt x="43" y="70"/>
                          </a:lnTo>
                          <a:lnTo>
                            <a:pt x="0" y="78"/>
                          </a:lnTo>
                          <a:lnTo>
                            <a:pt x="19" y="62"/>
                          </a:lnTo>
                          <a:lnTo>
                            <a:pt x="47" y="50"/>
                          </a:lnTo>
                          <a:lnTo>
                            <a:pt x="75" y="50"/>
                          </a:lnTo>
                          <a:lnTo>
                            <a:pt x="103" y="46"/>
                          </a:lnTo>
                          <a:lnTo>
                            <a:pt x="127" y="46"/>
                          </a:lnTo>
                          <a:lnTo>
                            <a:pt x="150" y="39"/>
                          </a:lnTo>
                          <a:lnTo>
                            <a:pt x="170" y="23"/>
                          </a:lnTo>
                          <a:lnTo>
                            <a:pt x="182" y="0"/>
                          </a:lnTo>
                          <a:lnTo>
                            <a:pt x="253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6" name=""/>
                    <p:cNvSpPr/>
                    <p:nvPr/>
                  </p:nvSpPr>
                  <p:spPr>
                    <a:xfrm>
                      <a:off x="5480280" y="1750320"/>
                      <a:ext cx="119880" cy="40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4" h="67">
                          <a:moveTo>
                            <a:pt x="194" y="0"/>
                          </a:moveTo>
                          <a:lnTo>
                            <a:pt x="170" y="8"/>
                          </a:lnTo>
                          <a:lnTo>
                            <a:pt x="143" y="12"/>
                          </a:lnTo>
                          <a:lnTo>
                            <a:pt x="119" y="20"/>
                          </a:lnTo>
                          <a:lnTo>
                            <a:pt x="95" y="28"/>
                          </a:lnTo>
                          <a:lnTo>
                            <a:pt x="71" y="35"/>
                          </a:lnTo>
                          <a:lnTo>
                            <a:pt x="48" y="43"/>
                          </a:lnTo>
                          <a:lnTo>
                            <a:pt x="24" y="55"/>
                          </a:lnTo>
                          <a:lnTo>
                            <a:pt x="0" y="67"/>
                          </a:lnTo>
                          <a:lnTo>
                            <a:pt x="20" y="51"/>
                          </a:lnTo>
                          <a:lnTo>
                            <a:pt x="40" y="39"/>
                          </a:lnTo>
                          <a:lnTo>
                            <a:pt x="63" y="28"/>
                          </a:lnTo>
                          <a:lnTo>
                            <a:pt x="87" y="20"/>
                          </a:lnTo>
                          <a:lnTo>
                            <a:pt x="111" y="12"/>
                          </a:lnTo>
                          <a:lnTo>
                            <a:pt x="139" y="8"/>
                          </a:lnTo>
                          <a:lnTo>
                            <a:pt x="167" y="4"/>
                          </a:lnTo>
                          <a:lnTo>
                            <a:pt x="194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120" bIns="-6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7" name=""/>
                    <p:cNvSpPr/>
                    <p:nvPr/>
                  </p:nvSpPr>
                  <p:spPr>
                    <a:xfrm>
                      <a:off x="6287400" y="1750320"/>
                      <a:ext cx="24480" cy="11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" h="20">
                          <a:moveTo>
                            <a:pt x="0" y="20"/>
                          </a:moveTo>
                          <a:lnTo>
                            <a:pt x="4" y="0"/>
                          </a:lnTo>
                          <a:lnTo>
                            <a:pt x="40" y="0"/>
                          </a:lnTo>
                          <a:lnTo>
                            <a:pt x="0" y="2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920" bIns="-34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8" name=""/>
                    <p:cNvSpPr/>
                    <p:nvPr/>
                  </p:nvSpPr>
                  <p:spPr>
                    <a:xfrm>
                      <a:off x="6495840" y="1757520"/>
                      <a:ext cx="1346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59">
                          <a:moveTo>
                            <a:pt x="218" y="0"/>
                          </a:moveTo>
                          <a:lnTo>
                            <a:pt x="190" y="4"/>
                          </a:lnTo>
                          <a:lnTo>
                            <a:pt x="163" y="16"/>
                          </a:lnTo>
                          <a:lnTo>
                            <a:pt x="139" y="27"/>
                          </a:lnTo>
                          <a:lnTo>
                            <a:pt x="115" y="39"/>
                          </a:lnTo>
                          <a:lnTo>
                            <a:pt x="91" y="51"/>
                          </a:lnTo>
                          <a:lnTo>
                            <a:pt x="67" y="59"/>
                          </a:lnTo>
                          <a:lnTo>
                            <a:pt x="36" y="59"/>
                          </a:lnTo>
                          <a:lnTo>
                            <a:pt x="0" y="55"/>
                          </a:lnTo>
                          <a:lnTo>
                            <a:pt x="24" y="39"/>
                          </a:lnTo>
                          <a:lnTo>
                            <a:pt x="52" y="27"/>
                          </a:lnTo>
                          <a:lnTo>
                            <a:pt x="79" y="20"/>
                          </a:lnTo>
                          <a:lnTo>
                            <a:pt x="107" y="16"/>
                          </a:lnTo>
                          <a:lnTo>
                            <a:pt x="135" y="12"/>
                          </a:lnTo>
                          <a:lnTo>
                            <a:pt x="163" y="8"/>
                          </a:lnTo>
                          <a:lnTo>
                            <a:pt x="190" y="4"/>
                          </a:lnTo>
                          <a:lnTo>
                            <a:pt x="218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9" name=""/>
                    <p:cNvSpPr/>
                    <p:nvPr/>
                  </p:nvSpPr>
                  <p:spPr>
                    <a:xfrm>
                      <a:off x="6729120" y="1757520"/>
                      <a:ext cx="43560" cy="4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1" h="8">
                          <a:moveTo>
                            <a:pt x="71" y="0"/>
                          </a:moveTo>
                          <a:lnTo>
                            <a:pt x="55" y="8"/>
                          </a:lnTo>
                          <a:lnTo>
                            <a:pt x="39" y="8"/>
                          </a:lnTo>
                          <a:lnTo>
                            <a:pt x="20" y="8"/>
                          </a:lnTo>
                          <a:lnTo>
                            <a:pt x="0" y="8"/>
                          </a:lnTo>
                          <a:lnTo>
                            <a:pt x="16" y="0"/>
                          </a:lnTo>
                          <a:lnTo>
                            <a:pt x="35" y="0"/>
                          </a:lnTo>
                          <a:lnTo>
                            <a:pt x="51" y="0"/>
                          </a:lnTo>
                          <a:lnTo>
                            <a:pt x="71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0" name=""/>
                    <p:cNvSpPr/>
                    <p:nvPr/>
                  </p:nvSpPr>
                  <p:spPr>
                    <a:xfrm>
                      <a:off x="6861600" y="1762560"/>
                      <a:ext cx="2952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" h="0">
                          <a:moveTo>
                            <a:pt x="0" y="0"/>
                          </a:moveTo>
                          <a:lnTo>
                            <a:pt x="48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1" name=""/>
                    <p:cNvSpPr/>
                    <p:nvPr/>
                  </p:nvSpPr>
                  <p:spPr>
                    <a:xfrm>
                      <a:off x="7018560" y="1762560"/>
                      <a:ext cx="97560" cy="30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8" h="51">
                          <a:moveTo>
                            <a:pt x="158" y="0"/>
                          </a:moveTo>
                          <a:lnTo>
                            <a:pt x="143" y="8"/>
                          </a:lnTo>
                          <a:lnTo>
                            <a:pt x="127" y="15"/>
                          </a:lnTo>
                          <a:lnTo>
                            <a:pt x="107" y="27"/>
                          </a:lnTo>
                          <a:lnTo>
                            <a:pt x="87" y="35"/>
                          </a:lnTo>
                          <a:lnTo>
                            <a:pt x="67" y="43"/>
                          </a:lnTo>
                          <a:lnTo>
                            <a:pt x="47" y="51"/>
                          </a:lnTo>
                          <a:lnTo>
                            <a:pt x="24" y="51"/>
                          </a:lnTo>
                          <a:lnTo>
                            <a:pt x="0" y="47"/>
                          </a:lnTo>
                          <a:lnTo>
                            <a:pt x="16" y="35"/>
                          </a:lnTo>
                          <a:lnTo>
                            <a:pt x="36" y="27"/>
                          </a:lnTo>
                          <a:lnTo>
                            <a:pt x="55" y="23"/>
                          </a:lnTo>
                          <a:lnTo>
                            <a:pt x="75" y="15"/>
                          </a:lnTo>
                          <a:lnTo>
                            <a:pt x="99" y="12"/>
                          </a:lnTo>
                          <a:lnTo>
                            <a:pt x="119" y="8"/>
                          </a:lnTo>
                          <a:lnTo>
                            <a:pt x="139" y="4"/>
                          </a:lnTo>
                          <a:lnTo>
                            <a:pt x="158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840" bIns="-15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2" name=""/>
                    <p:cNvSpPr/>
                    <p:nvPr/>
                  </p:nvSpPr>
                  <p:spPr>
                    <a:xfrm>
                      <a:off x="5585400" y="1769760"/>
                      <a:ext cx="71640" cy="2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6" h="39">
                          <a:moveTo>
                            <a:pt x="116" y="0"/>
                          </a:moveTo>
                          <a:lnTo>
                            <a:pt x="88" y="11"/>
                          </a:lnTo>
                          <a:lnTo>
                            <a:pt x="60" y="27"/>
                          </a:lnTo>
                          <a:lnTo>
                            <a:pt x="32" y="39"/>
                          </a:lnTo>
                          <a:lnTo>
                            <a:pt x="0" y="35"/>
                          </a:lnTo>
                          <a:lnTo>
                            <a:pt x="28" y="15"/>
                          </a:lnTo>
                          <a:lnTo>
                            <a:pt x="56" y="7"/>
                          </a:lnTo>
                          <a:lnTo>
                            <a:pt x="84" y="3"/>
                          </a:lnTo>
                          <a:lnTo>
                            <a:pt x="116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3" name=""/>
                    <p:cNvSpPr/>
                    <p:nvPr/>
                  </p:nvSpPr>
                  <p:spPr>
                    <a:xfrm>
                      <a:off x="6066720" y="1769760"/>
                      <a:ext cx="63360" cy="2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3" h="35">
                          <a:moveTo>
                            <a:pt x="103" y="0"/>
                          </a:moveTo>
                          <a:lnTo>
                            <a:pt x="75" y="7"/>
                          </a:lnTo>
                          <a:lnTo>
                            <a:pt x="55" y="23"/>
                          </a:lnTo>
                          <a:lnTo>
                            <a:pt x="32" y="35"/>
                          </a:lnTo>
                          <a:lnTo>
                            <a:pt x="0" y="35"/>
                          </a:lnTo>
                          <a:lnTo>
                            <a:pt x="24" y="19"/>
                          </a:lnTo>
                          <a:lnTo>
                            <a:pt x="51" y="11"/>
                          </a:lnTo>
                          <a:lnTo>
                            <a:pt x="79" y="11"/>
                          </a:lnTo>
                          <a:lnTo>
                            <a:pt x="103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4" name=""/>
                    <p:cNvSpPr/>
                    <p:nvPr/>
                  </p:nvSpPr>
                  <p:spPr>
                    <a:xfrm>
                      <a:off x="6409800" y="1769760"/>
                      <a:ext cx="44280" cy="2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2" h="35">
                          <a:moveTo>
                            <a:pt x="60" y="35"/>
                          </a:moveTo>
                          <a:lnTo>
                            <a:pt x="0" y="35"/>
                          </a:lnTo>
                          <a:lnTo>
                            <a:pt x="72" y="0"/>
                          </a:lnTo>
                          <a:lnTo>
                            <a:pt x="64" y="3"/>
                          </a:lnTo>
                          <a:lnTo>
                            <a:pt x="60" y="15"/>
                          </a:lnTo>
                          <a:lnTo>
                            <a:pt x="60" y="23"/>
                          </a:lnTo>
                          <a:lnTo>
                            <a:pt x="60" y="35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5" name=""/>
                    <p:cNvSpPr/>
                    <p:nvPr/>
                  </p:nvSpPr>
                  <p:spPr>
                    <a:xfrm>
                      <a:off x="6645600" y="1769760"/>
                      <a:ext cx="56160" cy="2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1" h="35">
                          <a:moveTo>
                            <a:pt x="91" y="0"/>
                          </a:moveTo>
                          <a:lnTo>
                            <a:pt x="67" y="3"/>
                          </a:lnTo>
                          <a:lnTo>
                            <a:pt x="48" y="23"/>
                          </a:lnTo>
                          <a:lnTo>
                            <a:pt x="24" y="35"/>
                          </a:lnTo>
                          <a:lnTo>
                            <a:pt x="0" y="35"/>
                          </a:lnTo>
                          <a:lnTo>
                            <a:pt x="20" y="19"/>
                          </a:lnTo>
                          <a:lnTo>
                            <a:pt x="44" y="11"/>
                          </a:lnTo>
                          <a:lnTo>
                            <a:pt x="67" y="7"/>
                          </a:lnTo>
                          <a:lnTo>
                            <a:pt x="91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6" name=""/>
                    <p:cNvSpPr/>
                    <p:nvPr/>
                  </p:nvSpPr>
                  <p:spPr>
                    <a:xfrm>
                      <a:off x="6792840" y="1769760"/>
                      <a:ext cx="61200" cy="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9" h="23">
                          <a:moveTo>
                            <a:pt x="0" y="23"/>
                          </a:moveTo>
                          <a:lnTo>
                            <a:pt x="48" y="0"/>
                          </a:lnTo>
                          <a:lnTo>
                            <a:pt x="99" y="0"/>
                          </a:lnTo>
                          <a:lnTo>
                            <a:pt x="0" y="23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7" name=""/>
                    <p:cNvSpPr/>
                    <p:nvPr/>
                  </p:nvSpPr>
                  <p:spPr>
                    <a:xfrm>
                      <a:off x="7548480" y="1769760"/>
                      <a:ext cx="156240" cy="4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3" h="70">
                          <a:moveTo>
                            <a:pt x="253" y="0"/>
                          </a:moveTo>
                          <a:lnTo>
                            <a:pt x="222" y="11"/>
                          </a:lnTo>
                          <a:lnTo>
                            <a:pt x="190" y="23"/>
                          </a:lnTo>
                          <a:lnTo>
                            <a:pt x="154" y="31"/>
                          </a:lnTo>
                          <a:lnTo>
                            <a:pt x="123" y="39"/>
                          </a:lnTo>
                          <a:lnTo>
                            <a:pt x="87" y="43"/>
                          </a:lnTo>
                          <a:lnTo>
                            <a:pt x="55" y="50"/>
                          </a:lnTo>
                          <a:lnTo>
                            <a:pt x="27" y="58"/>
                          </a:lnTo>
                          <a:lnTo>
                            <a:pt x="0" y="70"/>
                          </a:lnTo>
                          <a:lnTo>
                            <a:pt x="23" y="66"/>
                          </a:lnTo>
                          <a:lnTo>
                            <a:pt x="51" y="54"/>
                          </a:lnTo>
                          <a:lnTo>
                            <a:pt x="79" y="43"/>
                          </a:lnTo>
                          <a:lnTo>
                            <a:pt x="111" y="27"/>
                          </a:lnTo>
                          <a:lnTo>
                            <a:pt x="146" y="15"/>
                          </a:lnTo>
                          <a:lnTo>
                            <a:pt x="182" y="3"/>
                          </a:lnTo>
                          <a:lnTo>
                            <a:pt x="218" y="0"/>
                          </a:lnTo>
                          <a:lnTo>
                            <a:pt x="253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" bIns="-4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8" name=""/>
                    <p:cNvSpPr/>
                    <p:nvPr/>
                  </p:nvSpPr>
                  <p:spPr>
                    <a:xfrm>
                      <a:off x="7221960" y="1776600"/>
                      <a:ext cx="51120" cy="2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3" h="35">
                          <a:moveTo>
                            <a:pt x="0" y="35"/>
                          </a:moveTo>
                          <a:lnTo>
                            <a:pt x="83" y="0"/>
                          </a:lnTo>
                          <a:lnTo>
                            <a:pt x="60" y="35"/>
                          </a:lnTo>
                          <a:lnTo>
                            <a:pt x="0" y="35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9" name=""/>
                    <p:cNvSpPr/>
                    <p:nvPr/>
                  </p:nvSpPr>
                  <p:spPr>
                    <a:xfrm>
                      <a:off x="7769520" y="1776600"/>
                      <a:ext cx="218160" cy="43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3" h="71">
                          <a:moveTo>
                            <a:pt x="353" y="12"/>
                          </a:moveTo>
                          <a:lnTo>
                            <a:pt x="313" y="20"/>
                          </a:lnTo>
                          <a:lnTo>
                            <a:pt x="269" y="20"/>
                          </a:lnTo>
                          <a:lnTo>
                            <a:pt x="226" y="24"/>
                          </a:lnTo>
                          <a:lnTo>
                            <a:pt x="178" y="28"/>
                          </a:lnTo>
                          <a:lnTo>
                            <a:pt x="130" y="32"/>
                          </a:lnTo>
                          <a:lnTo>
                            <a:pt x="83" y="39"/>
                          </a:lnTo>
                          <a:lnTo>
                            <a:pt x="39" y="55"/>
                          </a:lnTo>
                          <a:lnTo>
                            <a:pt x="0" y="71"/>
                          </a:lnTo>
                          <a:lnTo>
                            <a:pt x="43" y="59"/>
                          </a:lnTo>
                          <a:lnTo>
                            <a:pt x="87" y="47"/>
                          </a:lnTo>
                          <a:lnTo>
                            <a:pt x="126" y="32"/>
                          </a:lnTo>
                          <a:lnTo>
                            <a:pt x="170" y="16"/>
                          </a:lnTo>
                          <a:lnTo>
                            <a:pt x="214" y="4"/>
                          </a:lnTo>
                          <a:lnTo>
                            <a:pt x="257" y="0"/>
                          </a:lnTo>
                          <a:lnTo>
                            <a:pt x="305" y="0"/>
                          </a:lnTo>
                          <a:lnTo>
                            <a:pt x="353" y="12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" bIns="-3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0" name=""/>
                    <p:cNvSpPr/>
                    <p:nvPr/>
                  </p:nvSpPr>
                  <p:spPr>
                    <a:xfrm>
                      <a:off x="4673160" y="1812600"/>
                      <a:ext cx="458640" cy="219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42" h="360">
                          <a:moveTo>
                            <a:pt x="262" y="12"/>
                          </a:moveTo>
                          <a:lnTo>
                            <a:pt x="321" y="12"/>
                          </a:lnTo>
                          <a:lnTo>
                            <a:pt x="377" y="8"/>
                          </a:lnTo>
                          <a:lnTo>
                            <a:pt x="436" y="4"/>
                          </a:lnTo>
                          <a:lnTo>
                            <a:pt x="496" y="0"/>
                          </a:lnTo>
                          <a:lnTo>
                            <a:pt x="555" y="0"/>
                          </a:lnTo>
                          <a:lnTo>
                            <a:pt x="615" y="0"/>
                          </a:lnTo>
                          <a:lnTo>
                            <a:pt x="678" y="4"/>
                          </a:lnTo>
                          <a:lnTo>
                            <a:pt x="742" y="12"/>
                          </a:lnTo>
                          <a:lnTo>
                            <a:pt x="702" y="27"/>
                          </a:lnTo>
                          <a:lnTo>
                            <a:pt x="666" y="47"/>
                          </a:lnTo>
                          <a:lnTo>
                            <a:pt x="631" y="70"/>
                          </a:lnTo>
                          <a:lnTo>
                            <a:pt x="599" y="98"/>
                          </a:lnTo>
                          <a:lnTo>
                            <a:pt x="571" y="125"/>
                          </a:lnTo>
                          <a:lnTo>
                            <a:pt x="539" y="152"/>
                          </a:lnTo>
                          <a:lnTo>
                            <a:pt x="504" y="180"/>
                          </a:lnTo>
                          <a:lnTo>
                            <a:pt x="468" y="203"/>
                          </a:lnTo>
                          <a:lnTo>
                            <a:pt x="456" y="227"/>
                          </a:lnTo>
                          <a:lnTo>
                            <a:pt x="436" y="250"/>
                          </a:lnTo>
                          <a:lnTo>
                            <a:pt x="416" y="274"/>
                          </a:lnTo>
                          <a:lnTo>
                            <a:pt x="393" y="293"/>
                          </a:lnTo>
                          <a:lnTo>
                            <a:pt x="369" y="313"/>
                          </a:lnTo>
                          <a:lnTo>
                            <a:pt x="341" y="332"/>
                          </a:lnTo>
                          <a:lnTo>
                            <a:pt x="313" y="348"/>
                          </a:lnTo>
                          <a:lnTo>
                            <a:pt x="286" y="360"/>
                          </a:lnTo>
                          <a:lnTo>
                            <a:pt x="282" y="344"/>
                          </a:lnTo>
                          <a:lnTo>
                            <a:pt x="274" y="336"/>
                          </a:lnTo>
                          <a:lnTo>
                            <a:pt x="266" y="328"/>
                          </a:lnTo>
                          <a:lnTo>
                            <a:pt x="250" y="324"/>
                          </a:lnTo>
                          <a:lnTo>
                            <a:pt x="234" y="324"/>
                          </a:lnTo>
                          <a:lnTo>
                            <a:pt x="218" y="324"/>
                          </a:lnTo>
                          <a:lnTo>
                            <a:pt x="206" y="328"/>
                          </a:lnTo>
                          <a:lnTo>
                            <a:pt x="194" y="336"/>
                          </a:lnTo>
                          <a:lnTo>
                            <a:pt x="171" y="313"/>
                          </a:lnTo>
                          <a:lnTo>
                            <a:pt x="214" y="270"/>
                          </a:lnTo>
                          <a:lnTo>
                            <a:pt x="198" y="254"/>
                          </a:lnTo>
                          <a:lnTo>
                            <a:pt x="178" y="246"/>
                          </a:lnTo>
                          <a:lnTo>
                            <a:pt x="155" y="246"/>
                          </a:lnTo>
                          <a:lnTo>
                            <a:pt x="135" y="246"/>
                          </a:lnTo>
                          <a:lnTo>
                            <a:pt x="115" y="246"/>
                          </a:lnTo>
                          <a:lnTo>
                            <a:pt x="103" y="238"/>
                          </a:lnTo>
                          <a:lnTo>
                            <a:pt x="99" y="219"/>
                          </a:lnTo>
                          <a:lnTo>
                            <a:pt x="103" y="191"/>
                          </a:lnTo>
                          <a:lnTo>
                            <a:pt x="67" y="172"/>
                          </a:lnTo>
                          <a:lnTo>
                            <a:pt x="48" y="133"/>
                          </a:lnTo>
                          <a:lnTo>
                            <a:pt x="32" y="94"/>
                          </a:lnTo>
                          <a:lnTo>
                            <a:pt x="0" y="66"/>
                          </a:lnTo>
                          <a:lnTo>
                            <a:pt x="20" y="43"/>
                          </a:lnTo>
                          <a:lnTo>
                            <a:pt x="12" y="31"/>
                          </a:lnTo>
                          <a:lnTo>
                            <a:pt x="32" y="16"/>
                          </a:lnTo>
                          <a:lnTo>
                            <a:pt x="67" y="4"/>
                          </a:lnTo>
                          <a:lnTo>
                            <a:pt x="99" y="0"/>
                          </a:lnTo>
                          <a:lnTo>
                            <a:pt x="123" y="12"/>
                          </a:lnTo>
                          <a:lnTo>
                            <a:pt x="143" y="4"/>
                          </a:lnTo>
                          <a:lnTo>
                            <a:pt x="163" y="0"/>
                          </a:lnTo>
                          <a:lnTo>
                            <a:pt x="178" y="0"/>
                          </a:lnTo>
                          <a:lnTo>
                            <a:pt x="194" y="0"/>
                          </a:lnTo>
                          <a:lnTo>
                            <a:pt x="210" y="0"/>
                          </a:lnTo>
                          <a:lnTo>
                            <a:pt x="226" y="4"/>
                          </a:lnTo>
                          <a:lnTo>
                            <a:pt x="246" y="8"/>
                          </a:lnTo>
                          <a:lnTo>
                            <a:pt x="262" y="12"/>
                          </a:lnTo>
                          <a:close/>
                        </a:path>
                      </a:pathLst>
                    </a:custGeom>
                    <a:blipFill rotWithShape="0">
                      <a:blip r:embed="rId4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1" name=""/>
                    <p:cNvSpPr/>
                    <p:nvPr/>
                  </p:nvSpPr>
                  <p:spPr>
                    <a:xfrm>
                      <a:off x="5394240" y="1819800"/>
                      <a:ext cx="728280" cy="252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78" h="414">
                          <a:moveTo>
                            <a:pt x="1178" y="7"/>
                          </a:moveTo>
                          <a:lnTo>
                            <a:pt x="1091" y="39"/>
                          </a:lnTo>
                          <a:lnTo>
                            <a:pt x="1015" y="82"/>
                          </a:lnTo>
                          <a:lnTo>
                            <a:pt x="948" y="133"/>
                          </a:lnTo>
                          <a:lnTo>
                            <a:pt x="881" y="191"/>
                          </a:lnTo>
                          <a:lnTo>
                            <a:pt x="817" y="250"/>
                          </a:lnTo>
                          <a:lnTo>
                            <a:pt x="750" y="305"/>
                          </a:lnTo>
                          <a:lnTo>
                            <a:pt x="670" y="351"/>
                          </a:lnTo>
                          <a:lnTo>
                            <a:pt x="583" y="383"/>
                          </a:lnTo>
                          <a:lnTo>
                            <a:pt x="571" y="398"/>
                          </a:lnTo>
                          <a:lnTo>
                            <a:pt x="551" y="410"/>
                          </a:lnTo>
                          <a:lnTo>
                            <a:pt x="528" y="414"/>
                          </a:lnTo>
                          <a:lnTo>
                            <a:pt x="504" y="402"/>
                          </a:lnTo>
                          <a:lnTo>
                            <a:pt x="512" y="398"/>
                          </a:lnTo>
                          <a:lnTo>
                            <a:pt x="516" y="391"/>
                          </a:lnTo>
                          <a:lnTo>
                            <a:pt x="516" y="379"/>
                          </a:lnTo>
                          <a:lnTo>
                            <a:pt x="516" y="371"/>
                          </a:lnTo>
                          <a:lnTo>
                            <a:pt x="496" y="359"/>
                          </a:lnTo>
                          <a:lnTo>
                            <a:pt x="476" y="363"/>
                          </a:lnTo>
                          <a:lnTo>
                            <a:pt x="456" y="367"/>
                          </a:lnTo>
                          <a:lnTo>
                            <a:pt x="436" y="359"/>
                          </a:lnTo>
                          <a:lnTo>
                            <a:pt x="413" y="301"/>
                          </a:lnTo>
                          <a:lnTo>
                            <a:pt x="361" y="269"/>
                          </a:lnTo>
                          <a:lnTo>
                            <a:pt x="309" y="234"/>
                          </a:lnTo>
                          <a:lnTo>
                            <a:pt x="258" y="199"/>
                          </a:lnTo>
                          <a:lnTo>
                            <a:pt x="202" y="160"/>
                          </a:lnTo>
                          <a:lnTo>
                            <a:pt x="151" y="121"/>
                          </a:lnTo>
                          <a:lnTo>
                            <a:pt x="99" y="82"/>
                          </a:lnTo>
                          <a:lnTo>
                            <a:pt x="48" y="43"/>
                          </a:lnTo>
                          <a:lnTo>
                            <a:pt x="0" y="0"/>
                          </a:lnTo>
                          <a:lnTo>
                            <a:pt x="71" y="4"/>
                          </a:lnTo>
                          <a:lnTo>
                            <a:pt x="143" y="4"/>
                          </a:lnTo>
                          <a:lnTo>
                            <a:pt x="214" y="7"/>
                          </a:lnTo>
                          <a:lnTo>
                            <a:pt x="286" y="7"/>
                          </a:lnTo>
                          <a:lnTo>
                            <a:pt x="357" y="7"/>
                          </a:lnTo>
                          <a:lnTo>
                            <a:pt x="428" y="7"/>
                          </a:lnTo>
                          <a:lnTo>
                            <a:pt x="500" y="7"/>
                          </a:lnTo>
                          <a:lnTo>
                            <a:pt x="575" y="7"/>
                          </a:lnTo>
                          <a:lnTo>
                            <a:pt x="647" y="7"/>
                          </a:lnTo>
                          <a:lnTo>
                            <a:pt x="722" y="7"/>
                          </a:lnTo>
                          <a:lnTo>
                            <a:pt x="793" y="7"/>
                          </a:lnTo>
                          <a:lnTo>
                            <a:pt x="869" y="7"/>
                          </a:lnTo>
                          <a:lnTo>
                            <a:pt x="944" y="7"/>
                          </a:lnTo>
                          <a:lnTo>
                            <a:pt x="1023" y="7"/>
                          </a:lnTo>
                          <a:lnTo>
                            <a:pt x="1099" y="7"/>
                          </a:lnTo>
                          <a:lnTo>
                            <a:pt x="1178" y="7"/>
                          </a:lnTo>
                          <a:close/>
                        </a:path>
                      </a:pathLst>
                    </a:custGeom>
                    <a:blipFill rotWithShape="0">
                      <a:blip r:embed="rId5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2" name=""/>
                    <p:cNvSpPr/>
                    <p:nvPr/>
                  </p:nvSpPr>
                  <p:spPr>
                    <a:xfrm>
                      <a:off x="4489560" y="1822320"/>
                      <a:ext cx="15372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9" h="175">
                          <a:moveTo>
                            <a:pt x="146" y="39"/>
                          </a:moveTo>
                          <a:lnTo>
                            <a:pt x="126" y="46"/>
                          </a:lnTo>
                          <a:lnTo>
                            <a:pt x="103" y="54"/>
                          </a:lnTo>
                          <a:lnTo>
                            <a:pt x="83" y="66"/>
                          </a:lnTo>
                          <a:lnTo>
                            <a:pt x="67" y="86"/>
                          </a:lnTo>
                          <a:lnTo>
                            <a:pt x="91" y="129"/>
                          </a:lnTo>
                          <a:lnTo>
                            <a:pt x="111" y="121"/>
                          </a:lnTo>
                          <a:lnTo>
                            <a:pt x="130" y="113"/>
                          </a:lnTo>
                          <a:lnTo>
                            <a:pt x="154" y="101"/>
                          </a:lnTo>
                          <a:lnTo>
                            <a:pt x="174" y="93"/>
                          </a:lnTo>
                          <a:lnTo>
                            <a:pt x="194" y="86"/>
                          </a:lnTo>
                          <a:lnTo>
                            <a:pt x="214" y="82"/>
                          </a:lnTo>
                          <a:lnTo>
                            <a:pt x="234" y="86"/>
                          </a:lnTo>
                          <a:lnTo>
                            <a:pt x="249" y="97"/>
                          </a:lnTo>
                          <a:lnTo>
                            <a:pt x="234" y="109"/>
                          </a:lnTo>
                          <a:lnTo>
                            <a:pt x="214" y="121"/>
                          </a:lnTo>
                          <a:lnTo>
                            <a:pt x="194" y="132"/>
                          </a:lnTo>
                          <a:lnTo>
                            <a:pt x="170" y="140"/>
                          </a:lnTo>
                          <a:lnTo>
                            <a:pt x="146" y="148"/>
                          </a:lnTo>
                          <a:lnTo>
                            <a:pt x="122" y="156"/>
                          </a:lnTo>
                          <a:lnTo>
                            <a:pt x="99" y="168"/>
                          </a:lnTo>
                          <a:lnTo>
                            <a:pt x="79" y="175"/>
                          </a:lnTo>
                          <a:lnTo>
                            <a:pt x="0" y="3"/>
                          </a:lnTo>
                          <a:lnTo>
                            <a:pt x="23" y="0"/>
                          </a:lnTo>
                          <a:lnTo>
                            <a:pt x="43" y="0"/>
                          </a:lnTo>
                          <a:lnTo>
                            <a:pt x="67" y="3"/>
                          </a:lnTo>
                          <a:lnTo>
                            <a:pt x="87" y="7"/>
                          </a:lnTo>
                          <a:lnTo>
                            <a:pt x="107" y="11"/>
                          </a:lnTo>
                          <a:lnTo>
                            <a:pt x="122" y="19"/>
                          </a:lnTo>
                          <a:lnTo>
                            <a:pt x="138" y="31"/>
                          </a:lnTo>
                          <a:lnTo>
                            <a:pt x="146" y="39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3" name=""/>
                    <p:cNvSpPr/>
                    <p:nvPr/>
                  </p:nvSpPr>
                  <p:spPr>
                    <a:xfrm>
                      <a:off x="4629240" y="1819800"/>
                      <a:ext cx="3636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9" h="0">
                          <a:moveTo>
                            <a:pt x="0" y="0"/>
                          </a:moveTo>
                          <a:lnTo>
                            <a:pt x="59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4" name=""/>
                    <p:cNvSpPr/>
                    <p:nvPr/>
                  </p:nvSpPr>
                  <p:spPr>
                    <a:xfrm>
                      <a:off x="6361200" y="1824120"/>
                      <a:ext cx="988200" cy="27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98" h="454">
                          <a:moveTo>
                            <a:pt x="1598" y="24"/>
                          </a:moveTo>
                          <a:lnTo>
                            <a:pt x="1555" y="51"/>
                          </a:lnTo>
                          <a:lnTo>
                            <a:pt x="1507" y="75"/>
                          </a:lnTo>
                          <a:lnTo>
                            <a:pt x="1463" y="102"/>
                          </a:lnTo>
                          <a:lnTo>
                            <a:pt x="1416" y="129"/>
                          </a:lnTo>
                          <a:lnTo>
                            <a:pt x="1368" y="157"/>
                          </a:lnTo>
                          <a:lnTo>
                            <a:pt x="1321" y="184"/>
                          </a:lnTo>
                          <a:lnTo>
                            <a:pt x="1273" y="212"/>
                          </a:lnTo>
                          <a:lnTo>
                            <a:pt x="1229" y="239"/>
                          </a:lnTo>
                          <a:lnTo>
                            <a:pt x="1182" y="266"/>
                          </a:lnTo>
                          <a:lnTo>
                            <a:pt x="1134" y="294"/>
                          </a:lnTo>
                          <a:lnTo>
                            <a:pt x="1087" y="321"/>
                          </a:lnTo>
                          <a:lnTo>
                            <a:pt x="1039" y="348"/>
                          </a:lnTo>
                          <a:lnTo>
                            <a:pt x="991" y="376"/>
                          </a:lnTo>
                          <a:lnTo>
                            <a:pt x="948" y="403"/>
                          </a:lnTo>
                          <a:lnTo>
                            <a:pt x="900" y="427"/>
                          </a:lnTo>
                          <a:lnTo>
                            <a:pt x="857" y="454"/>
                          </a:lnTo>
                          <a:lnTo>
                            <a:pt x="797" y="450"/>
                          </a:lnTo>
                          <a:lnTo>
                            <a:pt x="746" y="434"/>
                          </a:lnTo>
                          <a:lnTo>
                            <a:pt x="694" y="411"/>
                          </a:lnTo>
                          <a:lnTo>
                            <a:pt x="646" y="380"/>
                          </a:lnTo>
                          <a:lnTo>
                            <a:pt x="599" y="348"/>
                          </a:lnTo>
                          <a:lnTo>
                            <a:pt x="551" y="313"/>
                          </a:lnTo>
                          <a:lnTo>
                            <a:pt x="500" y="282"/>
                          </a:lnTo>
                          <a:lnTo>
                            <a:pt x="448" y="251"/>
                          </a:lnTo>
                          <a:lnTo>
                            <a:pt x="393" y="219"/>
                          </a:lnTo>
                          <a:lnTo>
                            <a:pt x="337" y="184"/>
                          </a:lnTo>
                          <a:lnTo>
                            <a:pt x="285" y="153"/>
                          </a:lnTo>
                          <a:lnTo>
                            <a:pt x="230" y="122"/>
                          </a:lnTo>
                          <a:lnTo>
                            <a:pt x="174" y="90"/>
                          </a:lnTo>
                          <a:lnTo>
                            <a:pt x="115" y="63"/>
                          </a:lnTo>
                          <a:lnTo>
                            <a:pt x="59" y="36"/>
                          </a:lnTo>
                          <a:lnTo>
                            <a:pt x="0" y="12"/>
                          </a:lnTo>
                          <a:lnTo>
                            <a:pt x="99" y="8"/>
                          </a:lnTo>
                          <a:lnTo>
                            <a:pt x="198" y="8"/>
                          </a:lnTo>
                          <a:lnTo>
                            <a:pt x="301" y="4"/>
                          </a:lnTo>
                          <a:lnTo>
                            <a:pt x="400" y="4"/>
                          </a:lnTo>
                          <a:lnTo>
                            <a:pt x="504" y="4"/>
                          </a:lnTo>
                          <a:lnTo>
                            <a:pt x="603" y="0"/>
                          </a:lnTo>
                          <a:lnTo>
                            <a:pt x="706" y="0"/>
                          </a:lnTo>
                          <a:lnTo>
                            <a:pt x="805" y="0"/>
                          </a:lnTo>
                          <a:lnTo>
                            <a:pt x="908" y="0"/>
                          </a:lnTo>
                          <a:lnTo>
                            <a:pt x="1007" y="0"/>
                          </a:lnTo>
                          <a:lnTo>
                            <a:pt x="1110" y="4"/>
                          </a:lnTo>
                          <a:lnTo>
                            <a:pt x="1210" y="4"/>
                          </a:lnTo>
                          <a:lnTo>
                            <a:pt x="1309" y="8"/>
                          </a:lnTo>
                          <a:lnTo>
                            <a:pt x="1404" y="12"/>
                          </a:lnTo>
                          <a:lnTo>
                            <a:pt x="1503" y="16"/>
                          </a:lnTo>
                          <a:lnTo>
                            <a:pt x="1598" y="24"/>
                          </a:lnTo>
                          <a:close/>
                        </a:path>
                      </a:pathLst>
                    </a:custGeom>
                    <a:blipFill rotWithShape="0">
                      <a:blip r:embed="rId6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5" name=""/>
                    <p:cNvSpPr/>
                    <p:nvPr/>
                  </p:nvSpPr>
                  <p:spPr>
                    <a:xfrm>
                      <a:off x="7953120" y="1824120"/>
                      <a:ext cx="27000" cy="1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" h="24">
                          <a:moveTo>
                            <a:pt x="0" y="24"/>
                          </a:moveTo>
                          <a:lnTo>
                            <a:pt x="44" y="0"/>
                          </a:lnTo>
                          <a:lnTo>
                            <a:pt x="44" y="24"/>
                          </a:lnTo>
                          <a:lnTo>
                            <a:pt x="0" y="24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6" name=""/>
                    <p:cNvSpPr/>
                    <p:nvPr/>
                  </p:nvSpPr>
                  <p:spPr>
                    <a:xfrm>
                      <a:off x="5188320" y="1843560"/>
                      <a:ext cx="171720" cy="7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8" h="117">
                          <a:moveTo>
                            <a:pt x="278" y="4"/>
                          </a:moveTo>
                          <a:lnTo>
                            <a:pt x="242" y="19"/>
                          </a:lnTo>
                          <a:lnTo>
                            <a:pt x="210" y="35"/>
                          </a:lnTo>
                          <a:lnTo>
                            <a:pt x="174" y="54"/>
                          </a:lnTo>
                          <a:lnTo>
                            <a:pt x="143" y="70"/>
                          </a:lnTo>
                          <a:lnTo>
                            <a:pt x="107" y="86"/>
                          </a:lnTo>
                          <a:lnTo>
                            <a:pt x="75" y="97"/>
                          </a:lnTo>
                          <a:lnTo>
                            <a:pt x="36" y="109"/>
                          </a:lnTo>
                          <a:lnTo>
                            <a:pt x="0" y="117"/>
                          </a:lnTo>
                          <a:lnTo>
                            <a:pt x="12" y="101"/>
                          </a:lnTo>
                          <a:lnTo>
                            <a:pt x="32" y="86"/>
                          </a:lnTo>
                          <a:lnTo>
                            <a:pt x="51" y="66"/>
                          </a:lnTo>
                          <a:lnTo>
                            <a:pt x="59" y="51"/>
                          </a:lnTo>
                          <a:lnTo>
                            <a:pt x="48" y="39"/>
                          </a:lnTo>
                          <a:lnTo>
                            <a:pt x="67" y="47"/>
                          </a:lnTo>
                          <a:lnTo>
                            <a:pt x="87" y="35"/>
                          </a:lnTo>
                          <a:lnTo>
                            <a:pt x="107" y="19"/>
                          </a:lnTo>
                          <a:lnTo>
                            <a:pt x="127" y="15"/>
                          </a:lnTo>
                          <a:lnTo>
                            <a:pt x="147" y="19"/>
                          </a:lnTo>
                          <a:lnTo>
                            <a:pt x="167" y="19"/>
                          </a:lnTo>
                          <a:lnTo>
                            <a:pt x="186" y="15"/>
                          </a:lnTo>
                          <a:lnTo>
                            <a:pt x="206" y="8"/>
                          </a:lnTo>
                          <a:lnTo>
                            <a:pt x="226" y="4"/>
                          </a:lnTo>
                          <a:lnTo>
                            <a:pt x="242" y="0"/>
                          </a:lnTo>
                          <a:lnTo>
                            <a:pt x="262" y="0"/>
                          </a:lnTo>
                          <a:lnTo>
                            <a:pt x="278" y="4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4480" bIns="24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7" name=""/>
                    <p:cNvSpPr/>
                    <p:nvPr/>
                  </p:nvSpPr>
                  <p:spPr>
                    <a:xfrm>
                      <a:off x="6250320" y="1848600"/>
                      <a:ext cx="75960" cy="3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62">
                          <a:moveTo>
                            <a:pt x="111" y="7"/>
                          </a:moveTo>
                          <a:lnTo>
                            <a:pt x="111" y="15"/>
                          </a:lnTo>
                          <a:lnTo>
                            <a:pt x="115" y="19"/>
                          </a:lnTo>
                          <a:lnTo>
                            <a:pt x="119" y="27"/>
                          </a:lnTo>
                          <a:lnTo>
                            <a:pt x="123" y="31"/>
                          </a:lnTo>
                          <a:lnTo>
                            <a:pt x="24" y="62"/>
                          </a:lnTo>
                          <a:lnTo>
                            <a:pt x="0" y="19"/>
                          </a:lnTo>
                          <a:lnTo>
                            <a:pt x="24" y="11"/>
                          </a:lnTo>
                          <a:lnTo>
                            <a:pt x="52" y="3"/>
                          </a:lnTo>
                          <a:lnTo>
                            <a:pt x="80" y="0"/>
                          </a:lnTo>
                          <a:lnTo>
                            <a:pt x="111" y="7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000" bIns="-9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8" name=""/>
                    <p:cNvSpPr/>
                    <p:nvPr/>
                  </p:nvSpPr>
                  <p:spPr>
                    <a:xfrm>
                      <a:off x="7435440" y="1846080"/>
                      <a:ext cx="522360" cy="233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5" h="383">
                          <a:moveTo>
                            <a:pt x="845" y="58"/>
                          </a:moveTo>
                          <a:lnTo>
                            <a:pt x="480" y="383"/>
                          </a:lnTo>
                          <a:lnTo>
                            <a:pt x="456" y="375"/>
                          </a:lnTo>
                          <a:lnTo>
                            <a:pt x="448" y="363"/>
                          </a:lnTo>
                          <a:lnTo>
                            <a:pt x="448" y="344"/>
                          </a:lnTo>
                          <a:lnTo>
                            <a:pt x="452" y="324"/>
                          </a:lnTo>
                          <a:lnTo>
                            <a:pt x="456" y="308"/>
                          </a:lnTo>
                          <a:lnTo>
                            <a:pt x="456" y="289"/>
                          </a:lnTo>
                          <a:lnTo>
                            <a:pt x="440" y="277"/>
                          </a:lnTo>
                          <a:lnTo>
                            <a:pt x="413" y="269"/>
                          </a:lnTo>
                          <a:lnTo>
                            <a:pt x="377" y="269"/>
                          </a:lnTo>
                          <a:lnTo>
                            <a:pt x="349" y="258"/>
                          </a:lnTo>
                          <a:lnTo>
                            <a:pt x="325" y="242"/>
                          </a:lnTo>
                          <a:lnTo>
                            <a:pt x="306" y="219"/>
                          </a:lnTo>
                          <a:lnTo>
                            <a:pt x="282" y="195"/>
                          </a:lnTo>
                          <a:lnTo>
                            <a:pt x="258" y="176"/>
                          </a:lnTo>
                          <a:lnTo>
                            <a:pt x="230" y="160"/>
                          </a:lnTo>
                          <a:lnTo>
                            <a:pt x="194" y="148"/>
                          </a:lnTo>
                          <a:lnTo>
                            <a:pt x="194" y="136"/>
                          </a:lnTo>
                          <a:lnTo>
                            <a:pt x="202" y="129"/>
                          </a:lnTo>
                          <a:lnTo>
                            <a:pt x="210" y="121"/>
                          </a:lnTo>
                          <a:lnTo>
                            <a:pt x="218" y="113"/>
                          </a:lnTo>
                          <a:lnTo>
                            <a:pt x="194" y="90"/>
                          </a:lnTo>
                          <a:lnTo>
                            <a:pt x="163" y="90"/>
                          </a:lnTo>
                          <a:lnTo>
                            <a:pt x="135" y="90"/>
                          </a:lnTo>
                          <a:lnTo>
                            <a:pt x="115" y="66"/>
                          </a:lnTo>
                          <a:lnTo>
                            <a:pt x="83" y="50"/>
                          </a:lnTo>
                          <a:lnTo>
                            <a:pt x="52" y="39"/>
                          </a:lnTo>
                          <a:lnTo>
                            <a:pt x="20" y="27"/>
                          </a:lnTo>
                          <a:lnTo>
                            <a:pt x="0" y="0"/>
                          </a:lnTo>
                          <a:lnTo>
                            <a:pt x="56" y="0"/>
                          </a:lnTo>
                          <a:lnTo>
                            <a:pt x="107" y="4"/>
                          </a:lnTo>
                          <a:lnTo>
                            <a:pt x="163" y="4"/>
                          </a:lnTo>
                          <a:lnTo>
                            <a:pt x="218" y="7"/>
                          </a:lnTo>
                          <a:lnTo>
                            <a:pt x="274" y="11"/>
                          </a:lnTo>
                          <a:lnTo>
                            <a:pt x="329" y="15"/>
                          </a:lnTo>
                          <a:lnTo>
                            <a:pt x="381" y="19"/>
                          </a:lnTo>
                          <a:lnTo>
                            <a:pt x="436" y="23"/>
                          </a:lnTo>
                          <a:lnTo>
                            <a:pt x="488" y="27"/>
                          </a:lnTo>
                          <a:lnTo>
                            <a:pt x="544" y="31"/>
                          </a:lnTo>
                          <a:lnTo>
                            <a:pt x="595" y="39"/>
                          </a:lnTo>
                          <a:lnTo>
                            <a:pt x="647" y="43"/>
                          </a:lnTo>
                          <a:lnTo>
                            <a:pt x="698" y="47"/>
                          </a:lnTo>
                          <a:lnTo>
                            <a:pt x="746" y="50"/>
                          </a:lnTo>
                          <a:lnTo>
                            <a:pt x="797" y="54"/>
                          </a:lnTo>
                          <a:lnTo>
                            <a:pt x="845" y="58"/>
                          </a:lnTo>
                          <a:close/>
                        </a:path>
                      </a:pathLst>
                    </a:custGeom>
                    <a:blipFill rotWithShape="0">
                      <a:blip r:embed="rId7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9" name=""/>
                    <p:cNvSpPr/>
                    <p:nvPr/>
                  </p:nvSpPr>
                  <p:spPr>
                    <a:xfrm>
                      <a:off x="6235920" y="1881360"/>
                      <a:ext cx="1396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6" h="90">
                          <a:moveTo>
                            <a:pt x="226" y="20"/>
                          </a:moveTo>
                          <a:lnTo>
                            <a:pt x="0" y="90"/>
                          </a:lnTo>
                          <a:lnTo>
                            <a:pt x="19" y="78"/>
                          </a:lnTo>
                          <a:lnTo>
                            <a:pt x="43" y="63"/>
                          </a:lnTo>
                          <a:lnTo>
                            <a:pt x="71" y="51"/>
                          </a:lnTo>
                          <a:lnTo>
                            <a:pt x="99" y="39"/>
                          </a:lnTo>
                          <a:lnTo>
                            <a:pt x="126" y="24"/>
                          </a:lnTo>
                          <a:lnTo>
                            <a:pt x="158" y="16"/>
                          </a:lnTo>
                          <a:lnTo>
                            <a:pt x="190" y="8"/>
                          </a:lnTo>
                          <a:lnTo>
                            <a:pt x="226" y="0"/>
                          </a:lnTo>
                          <a:lnTo>
                            <a:pt x="226" y="2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0" name=""/>
                    <p:cNvSpPr/>
                    <p:nvPr/>
                  </p:nvSpPr>
                  <p:spPr>
                    <a:xfrm>
                      <a:off x="7265880" y="1886400"/>
                      <a:ext cx="154440" cy="6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0" h="113">
                          <a:moveTo>
                            <a:pt x="250" y="24"/>
                          </a:moveTo>
                          <a:lnTo>
                            <a:pt x="0" y="113"/>
                          </a:lnTo>
                          <a:lnTo>
                            <a:pt x="36" y="98"/>
                          </a:lnTo>
                          <a:lnTo>
                            <a:pt x="68" y="86"/>
                          </a:lnTo>
                          <a:lnTo>
                            <a:pt x="96" y="70"/>
                          </a:lnTo>
                          <a:lnTo>
                            <a:pt x="127" y="55"/>
                          </a:lnTo>
                          <a:lnTo>
                            <a:pt x="155" y="39"/>
                          </a:lnTo>
                          <a:lnTo>
                            <a:pt x="183" y="24"/>
                          </a:lnTo>
                          <a:lnTo>
                            <a:pt x="215" y="12"/>
                          </a:lnTo>
                          <a:lnTo>
                            <a:pt x="250" y="0"/>
                          </a:lnTo>
                          <a:lnTo>
                            <a:pt x="250" y="24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960" bIns="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1" name=""/>
                    <p:cNvSpPr/>
                    <p:nvPr/>
                  </p:nvSpPr>
                  <p:spPr>
                    <a:xfrm>
                      <a:off x="5252040" y="1901160"/>
                      <a:ext cx="176760" cy="8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6" h="136">
                          <a:moveTo>
                            <a:pt x="286" y="0"/>
                          </a:moveTo>
                          <a:lnTo>
                            <a:pt x="258" y="19"/>
                          </a:lnTo>
                          <a:lnTo>
                            <a:pt x="226" y="35"/>
                          </a:lnTo>
                          <a:lnTo>
                            <a:pt x="194" y="50"/>
                          </a:lnTo>
                          <a:lnTo>
                            <a:pt x="163" y="66"/>
                          </a:lnTo>
                          <a:lnTo>
                            <a:pt x="127" y="86"/>
                          </a:lnTo>
                          <a:lnTo>
                            <a:pt x="91" y="101"/>
                          </a:lnTo>
                          <a:lnTo>
                            <a:pt x="56" y="117"/>
                          </a:lnTo>
                          <a:lnTo>
                            <a:pt x="24" y="136"/>
                          </a:lnTo>
                          <a:lnTo>
                            <a:pt x="0" y="113"/>
                          </a:lnTo>
                          <a:lnTo>
                            <a:pt x="32" y="93"/>
                          </a:lnTo>
                          <a:lnTo>
                            <a:pt x="67" y="70"/>
                          </a:lnTo>
                          <a:lnTo>
                            <a:pt x="103" y="50"/>
                          </a:lnTo>
                          <a:lnTo>
                            <a:pt x="139" y="31"/>
                          </a:lnTo>
                          <a:lnTo>
                            <a:pt x="175" y="15"/>
                          </a:lnTo>
                          <a:lnTo>
                            <a:pt x="210" y="3"/>
                          </a:lnTo>
                          <a:lnTo>
                            <a:pt x="246" y="0"/>
                          </a:lnTo>
                          <a:lnTo>
                            <a:pt x="286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0" bIns="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2" name=""/>
                    <p:cNvSpPr/>
                    <p:nvPr/>
                  </p:nvSpPr>
                  <p:spPr>
                    <a:xfrm>
                      <a:off x="5919480" y="1893600"/>
                      <a:ext cx="176040" cy="11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5" h="191">
                          <a:moveTo>
                            <a:pt x="0" y="191"/>
                          </a:moveTo>
                          <a:lnTo>
                            <a:pt x="36" y="168"/>
                          </a:lnTo>
                          <a:lnTo>
                            <a:pt x="71" y="141"/>
                          </a:lnTo>
                          <a:lnTo>
                            <a:pt x="99" y="109"/>
                          </a:lnTo>
                          <a:lnTo>
                            <a:pt x="131" y="78"/>
                          </a:lnTo>
                          <a:lnTo>
                            <a:pt x="163" y="51"/>
                          </a:lnTo>
                          <a:lnTo>
                            <a:pt x="194" y="27"/>
                          </a:lnTo>
                          <a:lnTo>
                            <a:pt x="238" y="12"/>
                          </a:lnTo>
                          <a:lnTo>
                            <a:pt x="285" y="0"/>
                          </a:lnTo>
                          <a:lnTo>
                            <a:pt x="246" y="15"/>
                          </a:lnTo>
                          <a:lnTo>
                            <a:pt x="210" y="43"/>
                          </a:lnTo>
                          <a:lnTo>
                            <a:pt x="174" y="70"/>
                          </a:lnTo>
                          <a:lnTo>
                            <a:pt x="147" y="105"/>
                          </a:lnTo>
                          <a:lnTo>
                            <a:pt x="115" y="137"/>
                          </a:lnTo>
                          <a:lnTo>
                            <a:pt x="83" y="164"/>
                          </a:lnTo>
                          <a:lnTo>
                            <a:pt x="44" y="184"/>
                          </a:lnTo>
                          <a:lnTo>
                            <a:pt x="0" y="191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3" name=""/>
                    <p:cNvSpPr/>
                    <p:nvPr/>
                  </p:nvSpPr>
                  <p:spPr>
                    <a:xfrm>
                      <a:off x="7994520" y="1901160"/>
                      <a:ext cx="49320" cy="28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0" h="46">
                          <a:moveTo>
                            <a:pt x="12" y="46"/>
                          </a:moveTo>
                          <a:lnTo>
                            <a:pt x="0" y="46"/>
                          </a:lnTo>
                          <a:lnTo>
                            <a:pt x="80" y="0"/>
                          </a:lnTo>
                          <a:lnTo>
                            <a:pt x="72" y="23"/>
                          </a:lnTo>
                          <a:lnTo>
                            <a:pt x="56" y="35"/>
                          </a:lnTo>
                          <a:lnTo>
                            <a:pt x="36" y="39"/>
                          </a:lnTo>
                          <a:lnTo>
                            <a:pt x="12" y="46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720" bIns="-18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4" name=""/>
                    <p:cNvSpPr/>
                    <p:nvPr/>
                  </p:nvSpPr>
                  <p:spPr>
                    <a:xfrm>
                      <a:off x="4564800" y="1908000"/>
                      <a:ext cx="115560" cy="6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7" h="102">
                          <a:moveTo>
                            <a:pt x="187" y="47"/>
                          </a:moveTo>
                          <a:lnTo>
                            <a:pt x="167" y="59"/>
                          </a:lnTo>
                          <a:lnTo>
                            <a:pt x="147" y="71"/>
                          </a:lnTo>
                          <a:lnTo>
                            <a:pt x="123" y="82"/>
                          </a:lnTo>
                          <a:lnTo>
                            <a:pt x="100" y="90"/>
                          </a:lnTo>
                          <a:lnTo>
                            <a:pt x="76" y="94"/>
                          </a:lnTo>
                          <a:lnTo>
                            <a:pt x="48" y="98"/>
                          </a:lnTo>
                          <a:lnTo>
                            <a:pt x="24" y="102"/>
                          </a:lnTo>
                          <a:lnTo>
                            <a:pt x="0" y="102"/>
                          </a:lnTo>
                          <a:lnTo>
                            <a:pt x="12" y="82"/>
                          </a:lnTo>
                          <a:lnTo>
                            <a:pt x="28" y="67"/>
                          </a:lnTo>
                          <a:lnTo>
                            <a:pt x="48" y="51"/>
                          </a:lnTo>
                          <a:lnTo>
                            <a:pt x="68" y="43"/>
                          </a:lnTo>
                          <a:lnTo>
                            <a:pt x="88" y="32"/>
                          </a:lnTo>
                          <a:lnTo>
                            <a:pt x="112" y="24"/>
                          </a:lnTo>
                          <a:lnTo>
                            <a:pt x="131" y="12"/>
                          </a:lnTo>
                          <a:lnTo>
                            <a:pt x="151" y="0"/>
                          </a:lnTo>
                          <a:lnTo>
                            <a:pt x="159" y="12"/>
                          </a:lnTo>
                          <a:lnTo>
                            <a:pt x="167" y="24"/>
                          </a:lnTo>
                          <a:lnTo>
                            <a:pt x="175" y="35"/>
                          </a:lnTo>
                          <a:lnTo>
                            <a:pt x="187" y="47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480" bIns="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5" name=""/>
                    <p:cNvSpPr/>
                    <p:nvPr/>
                  </p:nvSpPr>
                  <p:spPr>
                    <a:xfrm>
                      <a:off x="6287400" y="1915200"/>
                      <a:ext cx="16704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0" h="90">
                          <a:moveTo>
                            <a:pt x="270" y="12"/>
                          </a:moveTo>
                          <a:lnTo>
                            <a:pt x="238" y="20"/>
                          </a:lnTo>
                          <a:lnTo>
                            <a:pt x="202" y="27"/>
                          </a:lnTo>
                          <a:lnTo>
                            <a:pt x="166" y="39"/>
                          </a:lnTo>
                          <a:lnTo>
                            <a:pt x="131" y="51"/>
                          </a:lnTo>
                          <a:lnTo>
                            <a:pt x="99" y="66"/>
                          </a:lnTo>
                          <a:lnTo>
                            <a:pt x="63" y="74"/>
                          </a:lnTo>
                          <a:lnTo>
                            <a:pt x="32" y="86"/>
                          </a:lnTo>
                          <a:lnTo>
                            <a:pt x="0" y="90"/>
                          </a:lnTo>
                          <a:lnTo>
                            <a:pt x="28" y="74"/>
                          </a:lnTo>
                          <a:lnTo>
                            <a:pt x="55" y="55"/>
                          </a:lnTo>
                          <a:lnTo>
                            <a:pt x="87" y="39"/>
                          </a:lnTo>
                          <a:lnTo>
                            <a:pt x="123" y="27"/>
                          </a:lnTo>
                          <a:lnTo>
                            <a:pt x="155" y="16"/>
                          </a:lnTo>
                          <a:lnTo>
                            <a:pt x="190" y="4"/>
                          </a:lnTo>
                          <a:lnTo>
                            <a:pt x="226" y="0"/>
                          </a:lnTo>
                          <a:lnTo>
                            <a:pt x="258" y="0"/>
                          </a:lnTo>
                          <a:lnTo>
                            <a:pt x="270" y="12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6" name=""/>
                    <p:cNvSpPr/>
                    <p:nvPr/>
                  </p:nvSpPr>
                  <p:spPr>
                    <a:xfrm>
                      <a:off x="4955040" y="1922400"/>
                      <a:ext cx="93240" cy="9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1" h="156">
                          <a:moveTo>
                            <a:pt x="0" y="156"/>
                          </a:moveTo>
                          <a:lnTo>
                            <a:pt x="12" y="144"/>
                          </a:lnTo>
                          <a:lnTo>
                            <a:pt x="28" y="125"/>
                          </a:lnTo>
                          <a:lnTo>
                            <a:pt x="44" y="101"/>
                          </a:lnTo>
                          <a:lnTo>
                            <a:pt x="64" y="78"/>
                          </a:lnTo>
                          <a:lnTo>
                            <a:pt x="83" y="54"/>
                          </a:lnTo>
                          <a:lnTo>
                            <a:pt x="103" y="31"/>
                          </a:lnTo>
                          <a:lnTo>
                            <a:pt x="127" y="11"/>
                          </a:lnTo>
                          <a:lnTo>
                            <a:pt x="151" y="0"/>
                          </a:lnTo>
                          <a:lnTo>
                            <a:pt x="151" y="27"/>
                          </a:lnTo>
                          <a:lnTo>
                            <a:pt x="139" y="54"/>
                          </a:lnTo>
                          <a:lnTo>
                            <a:pt x="119" y="74"/>
                          </a:lnTo>
                          <a:lnTo>
                            <a:pt x="95" y="90"/>
                          </a:lnTo>
                          <a:lnTo>
                            <a:pt x="68" y="105"/>
                          </a:lnTo>
                          <a:lnTo>
                            <a:pt x="44" y="121"/>
                          </a:lnTo>
                          <a:lnTo>
                            <a:pt x="20" y="137"/>
                          </a:lnTo>
                          <a:lnTo>
                            <a:pt x="0" y="156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7" name=""/>
                    <p:cNvSpPr/>
                    <p:nvPr/>
                  </p:nvSpPr>
                  <p:spPr>
                    <a:xfrm>
                      <a:off x="7958160" y="1929240"/>
                      <a:ext cx="21960" cy="1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" h="32">
                          <a:moveTo>
                            <a:pt x="36" y="0"/>
                          </a:moveTo>
                          <a:lnTo>
                            <a:pt x="0" y="32"/>
                          </a:lnTo>
                          <a:lnTo>
                            <a:pt x="36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8" name=""/>
                    <p:cNvSpPr/>
                    <p:nvPr/>
                  </p:nvSpPr>
                  <p:spPr>
                    <a:xfrm>
                      <a:off x="5301000" y="1936440"/>
                      <a:ext cx="179280" cy="73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0" h="121">
                          <a:moveTo>
                            <a:pt x="278" y="0"/>
                          </a:moveTo>
                          <a:lnTo>
                            <a:pt x="278" y="8"/>
                          </a:lnTo>
                          <a:lnTo>
                            <a:pt x="282" y="12"/>
                          </a:lnTo>
                          <a:lnTo>
                            <a:pt x="286" y="16"/>
                          </a:lnTo>
                          <a:lnTo>
                            <a:pt x="290" y="20"/>
                          </a:lnTo>
                          <a:lnTo>
                            <a:pt x="250" y="28"/>
                          </a:lnTo>
                          <a:lnTo>
                            <a:pt x="211" y="39"/>
                          </a:lnTo>
                          <a:lnTo>
                            <a:pt x="175" y="55"/>
                          </a:lnTo>
                          <a:lnTo>
                            <a:pt x="143" y="74"/>
                          </a:lnTo>
                          <a:lnTo>
                            <a:pt x="107" y="90"/>
                          </a:lnTo>
                          <a:lnTo>
                            <a:pt x="72" y="106"/>
                          </a:lnTo>
                          <a:lnTo>
                            <a:pt x="36" y="114"/>
                          </a:lnTo>
                          <a:lnTo>
                            <a:pt x="0" y="121"/>
                          </a:lnTo>
                          <a:lnTo>
                            <a:pt x="28" y="98"/>
                          </a:lnTo>
                          <a:lnTo>
                            <a:pt x="60" y="74"/>
                          </a:lnTo>
                          <a:lnTo>
                            <a:pt x="96" y="59"/>
                          </a:lnTo>
                          <a:lnTo>
                            <a:pt x="135" y="43"/>
                          </a:lnTo>
                          <a:lnTo>
                            <a:pt x="171" y="28"/>
                          </a:lnTo>
                          <a:lnTo>
                            <a:pt x="207" y="16"/>
                          </a:lnTo>
                          <a:lnTo>
                            <a:pt x="242" y="8"/>
                          </a:lnTo>
                          <a:lnTo>
                            <a:pt x="278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000" bIns="27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9" name=""/>
                    <p:cNvSpPr/>
                    <p:nvPr/>
                  </p:nvSpPr>
                  <p:spPr>
                    <a:xfrm>
                      <a:off x="7371720" y="1936440"/>
                      <a:ext cx="63360" cy="2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3" h="43">
                          <a:moveTo>
                            <a:pt x="0" y="43"/>
                          </a:moveTo>
                          <a:lnTo>
                            <a:pt x="67" y="0"/>
                          </a:lnTo>
                          <a:lnTo>
                            <a:pt x="103" y="0"/>
                          </a:lnTo>
                          <a:lnTo>
                            <a:pt x="0" y="43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0" name=""/>
                    <p:cNvSpPr/>
                    <p:nvPr/>
                  </p:nvSpPr>
                  <p:spPr>
                    <a:xfrm>
                      <a:off x="5797080" y="1948680"/>
                      <a:ext cx="889920" cy="27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39" h="453">
                          <a:moveTo>
                            <a:pt x="1051" y="226"/>
                          </a:moveTo>
                          <a:lnTo>
                            <a:pt x="1067" y="262"/>
                          </a:lnTo>
                          <a:lnTo>
                            <a:pt x="1090" y="285"/>
                          </a:lnTo>
                          <a:lnTo>
                            <a:pt x="1122" y="297"/>
                          </a:lnTo>
                          <a:lnTo>
                            <a:pt x="1166" y="293"/>
                          </a:lnTo>
                          <a:lnTo>
                            <a:pt x="1197" y="320"/>
                          </a:lnTo>
                          <a:lnTo>
                            <a:pt x="1229" y="344"/>
                          </a:lnTo>
                          <a:lnTo>
                            <a:pt x="1265" y="363"/>
                          </a:lnTo>
                          <a:lnTo>
                            <a:pt x="1297" y="383"/>
                          </a:lnTo>
                          <a:lnTo>
                            <a:pt x="1332" y="399"/>
                          </a:lnTo>
                          <a:lnTo>
                            <a:pt x="1368" y="414"/>
                          </a:lnTo>
                          <a:lnTo>
                            <a:pt x="1404" y="434"/>
                          </a:lnTo>
                          <a:lnTo>
                            <a:pt x="1439" y="453"/>
                          </a:lnTo>
                          <a:lnTo>
                            <a:pt x="0" y="406"/>
                          </a:lnTo>
                          <a:lnTo>
                            <a:pt x="63" y="356"/>
                          </a:lnTo>
                          <a:lnTo>
                            <a:pt x="123" y="305"/>
                          </a:lnTo>
                          <a:lnTo>
                            <a:pt x="182" y="258"/>
                          </a:lnTo>
                          <a:lnTo>
                            <a:pt x="242" y="215"/>
                          </a:lnTo>
                          <a:lnTo>
                            <a:pt x="301" y="172"/>
                          </a:lnTo>
                          <a:lnTo>
                            <a:pt x="364" y="133"/>
                          </a:lnTo>
                          <a:lnTo>
                            <a:pt x="432" y="101"/>
                          </a:lnTo>
                          <a:lnTo>
                            <a:pt x="503" y="70"/>
                          </a:lnTo>
                          <a:lnTo>
                            <a:pt x="535" y="19"/>
                          </a:lnTo>
                          <a:lnTo>
                            <a:pt x="571" y="0"/>
                          </a:lnTo>
                          <a:lnTo>
                            <a:pt x="599" y="0"/>
                          </a:lnTo>
                          <a:lnTo>
                            <a:pt x="630" y="19"/>
                          </a:lnTo>
                          <a:lnTo>
                            <a:pt x="662" y="47"/>
                          </a:lnTo>
                          <a:lnTo>
                            <a:pt x="698" y="74"/>
                          </a:lnTo>
                          <a:lnTo>
                            <a:pt x="733" y="94"/>
                          </a:lnTo>
                          <a:lnTo>
                            <a:pt x="769" y="101"/>
                          </a:lnTo>
                          <a:lnTo>
                            <a:pt x="1051" y="226"/>
                          </a:lnTo>
                          <a:close/>
                        </a:path>
                      </a:pathLst>
                    </a:custGeom>
                    <a:solidFill>
                      <a:srgbClr val="ff7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1" name=""/>
                    <p:cNvSpPr/>
                    <p:nvPr/>
                  </p:nvSpPr>
                  <p:spPr>
                    <a:xfrm>
                      <a:off x="6341400" y="1944000"/>
                      <a:ext cx="154440" cy="6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0" h="109">
                          <a:moveTo>
                            <a:pt x="20" y="109"/>
                          </a:moveTo>
                          <a:lnTo>
                            <a:pt x="0" y="90"/>
                          </a:lnTo>
                          <a:lnTo>
                            <a:pt x="250" y="0"/>
                          </a:lnTo>
                          <a:lnTo>
                            <a:pt x="230" y="12"/>
                          </a:lnTo>
                          <a:lnTo>
                            <a:pt x="206" y="23"/>
                          </a:lnTo>
                          <a:lnTo>
                            <a:pt x="175" y="35"/>
                          </a:lnTo>
                          <a:lnTo>
                            <a:pt x="139" y="47"/>
                          </a:lnTo>
                          <a:lnTo>
                            <a:pt x="103" y="62"/>
                          </a:lnTo>
                          <a:lnTo>
                            <a:pt x="72" y="74"/>
                          </a:lnTo>
                          <a:lnTo>
                            <a:pt x="44" y="90"/>
                          </a:lnTo>
                          <a:lnTo>
                            <a:pt x="20" y="109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9800" bIns="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2" name=""/>
                    <p:cNvSpPr/>
                    <p:nvPr/>
                  </p:nvSpPr>
                  <p:spPr>
                    <a:xfrm>
                      <a:off x="7394040" y="1955520"/>
                      <a:ext cx="13212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4" h="90">
                          <a:moveTo>
                            <a:pt x="214" y="24"/>
                          </a:moveTo>
                          <a:lnTo>
                            <a:pt x="190" y="28"/>
                          </a:lnTo>
                          <a:lnTo>
                            <a:pt x="166" y="36"/>
                          </a:lnTo>
                          <a:lnTo>
                            <a:pt x="142" y="47"/>
                          </a:lnTo>
                          <a:lnTo>
                            <a:pt x="119" y="63"/>
                          </a:lnTo>
                          <a:lnTo>
                            <a:pt x="99" y="75"/>
                          </a:lnTo>
                          <a:lnTo>
                            <a:pt x="75" y="83"/>
                          </a:lnTo>
                          <a:lnTo>
                            <a:pt x="47" y="90"/>
                          </a:lnTo>
                          <a:lnTo>
                            <a:pt x="20" y="90"/>
                          </a:lnTo>
                          <a:lnTo>
                            <a:pt x="20" y="79"/>
                          </a:lnTo>
                          <a:lnTo>
                            <a:pt x="16" y="75"/>
                          </a:lnTo>
                          <a:lnTo>
                            <a:pt x="8" y="67"/>
                          </a:lnTo>
                          <a:lnTo>
                            <a:pt x="0" y="59"/>
                          </a:lnTo>
                          <a:lnTo>
                            <a:pt x="27" y="51"/>
                          </a:lnTo>
                          <a:lnTo>
                            <a:pt x="55" y="36"/>
                          </a:lnTo>
                          <a:lnTo>
                            <a:pt x="87" y="24"/>
                          </a:lnTo>
                          <a:lnTo>
                            <a:pt x="115" y="12"/>
                          </a:lnTo>
                          <a:lnTo>
                            <a:pt x="142" y="0"/>
                          </a:lnTo>
                          <a:lnTo>
                            <a:pt x="170" y="0"/>
                          </a:lnTo>
                          <a:lnTo>
                            <a:pt x="194" y="8"/>
                          </a:lnTo>
                          <a:lnTo>
                            <a:pt x="214" y="24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3" name=""/>
                    <p:cNvSpPr/>
                    <p:nvPr/>
                  </p:nvSpPr>
                  <p:spPr>
                    <a:xfrm>
                      <a:off x="4617000" y="1970280"/>
                      <a:ext cx="9072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7" h="90">
                          <a:moveTo>
                            <a:pt x="147" y="23"/>
                          </a:moveTo>
                          <a:lnTo>
                            <a:pt x="139" y="39"/>
                          </a:lnTo>
                          <a:lnTo>
                            <a:pt x="127" y="51"/>
                          </a:lnTo>
                          <a:lnTo>
                            <a:pt x="111" y="59"/>
                          </a:lnTo>
                          <a:lnTo>
                            <a:pt x="95" y="62"/>
                          </a:lnTo>
                          <a:lnTo>
                            <a:pt x="75" y="66"/>
                          </a:lnTo>
                          <a:lnTo>
                            <a:pt x="55" y="70"/>
                          </a:lnTo>
                          <a:lnTo>
                            <a:pt x="35" y="78"/>
                          </a:lnTo>
                          <a:lnTo>
                            <a:pt x="20" y="90"/>
                          </a:lnTo>
                          <a:lnTo>
                            <a:pt x="0" y="66"/>
                          </a:lnTo>
                          <a:lnTo>
                            <a:pt x="8" y="51"/>
                          </a:lnTo>
                          <a:lnTo>
                            <a:pt x="24" y="35"/>
                          </a:lnTo>
                          <a:lnTo>
                            <a:pt x="47" y="19"/>
                          </a:lnTo>
                          <a:lnTo>
                            <a:pt x="67" y="8"/>
                          </a:lnTo>
                          <a:lnTo>
                            <a:pt x="91" y="0"/>
                          </a:lnTo>
                          <a:lnTo>
                            <a:pt x="115" y="0"/>
                          </a:lnTo>
                          <a:lnTo>
                            <a:pt x="135" y="8"/>
                          </a:lnTo>
                          <a:lnTo>
                            <a:pt x="147" y="23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4" name=""/>
                    <p:cNvSpPr/>
                    <p:nvPr/>
                  </p:nvSpPr>
                  <p:spPr>
                    <a:xfrm>
                      <a:off x="4820400" y="1962720"/>
                      <a:ext cx="679680" cy="241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99" h="395">
                          <a:moveTo>
                            <a:pt x="666" y="59"/>
                          </a:moveTo>
                          <a:lnTo>
                            <a:pt x="714" y="110"/>
                          </a:lnTo>
                          <a:lnTo>
                            <a:pt x="762" y="153"/>
                          </a:lnTo>
                          <a:lnTo>
                            <a:pt x="817" y="192"/>
                          </a:lnTo>
                          <a:lnTo>
                            <a:pt x="873" y="227"/>
                          </a:lnTo>
                          <a:lnTo>
                            <a:pt x="932" y="258"/>
                          </a:lnTo>
                          <a:lnTo>
                            <a:pt x="988" y="293"/>
                          </a:lnTo>
                          <a:lnTo>
                            <a:pt x="1043" y="329"/>
                          </a:lnTo>
                          <a:lnTo>
                            <a:pt x="1099" y="372"/>
                          </a:lnTo>
                          <a:lnTo>
                            <a:pt x="1031" y="376"/>
                          </a:lnTo>
                          <a:lnTo>
                            <a:pt x="964" y="379"/>
                          </a:lnTo>
                          <a:lnTo>
                            <a:pt x="896" y="379"/>
                          </a:lnTo>
                          <a:lnTo>
                            <a:pt x="829" y="383"/>
                          </a:lnTo>
                          <a:lnTo>
                            <a:pt x="762" y="383"/>
                          </a:lnTo>
                          <a:lnTo>
                            <a:pt x="698" y="383"/>
                          </a:lnTo>
                          <a:lnTo>
                            <a:pt x="631" y="383"/>
                          </a:lnTo>
                          <a:lnTo>
                            <a:pt x="567" y="383"/>
                          </a:lnTo>
                          <a:lnTo>
                            <a:pt x="500" y="383"/>
                          </a:lnTo>
                          <a:lnTo>
                            <a:pt x="436" y="383"/>
                          </a:lnTo>
                          <a:lnTo>
                            <a:pt x="369" y="383"/>
                          </a:lnTo>
                          <a:lnTo>
                            <a:pt x="301" y="383"/>
                          </a:lnTo>
                          <a:lnTo>
                            <a:pt x="238" y="387"/>
                          </a:lnTo>
                          <a:lnTo>
                            <a:pt x="171" y="387"/>
                          </a:lnTo>
                          <a:lnTo>
                            <a:pt x="103" y="391"/>
                          </a:lnTo>
                          <a:lnTo>
                            <a:pt x="36" y="395"/>
                          </a:lnTo>
                          <a:lnTo>
                            <a:pt x="0" y="364"/>
                          </a:lnTo>
                          <a:lnTo>
                            <a:pt x="75" y="325"/>
                          </a:lnTo>
                          <a:lnTo>
                            <a:pt x="151" y="286"/>
                          </a:lnTo>
                          <a:lnTo>
                            <a:pt x="226" y="243"/>
                          </a:lnTo>
                          <a:lnTo>
                            <a:pt x="297" y="196"/>
                          </a:lnTo>
                          <a:lnTo>
                            <a:pt x="373" y="149"/>
                          </a:lnTo>
                          <a:lnTo>
                            <a:pt x="444" y="98"/>
                          </a:lnTo>
                          <a:lnTo>
                            <a:pt x="512" y="51"/>
                          </a:lnTo>
                          <a:lnTo>
                            <a:pt x="583" y="0"/>
                          </a:lnTo>
                          <a:lnTo>
                            <a:pt x="587" y="31"/>
                          </a:lnTo>
                          <a:lnTo>
                            <a:pt x="611" y="43"/>
                          </a:lnTo>
                          <a:lnTo>
                            <a:pt x="639" y="51"/>
                          </a:lnTo>
                          <a:lnTo>
                            <a:pt x="666" y="59"/>
                          </a:lnTo>
                          <a:close/>
                        </a:path>
                      </a:pathLst>
                    </a:custGeom>
                    <a:solidFill>
                      <a:srgbClr val="ff7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5" name=""/>
                    <p:cNvSpPr/>
                    <p:nvPr/>
                  </p:nvSpPr>
                  <p:spPr>
                    <a:xfrm>
                      <a:off x="7158240" y="1962720"/>
                      <a:ext cx="6336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3" h="47">
                          <a:moveTo>
                            <a:pt x="103" y="0"/>
                          </a:moveTo>
                          <a:lnTo>
                            <a:pt x="87" y="20"/>
                          </a:lnTo>
                          <a:lnTo>
                            <a:pt x="59" y="28"/>
                          </a:lnTo>
                          <a:lnTo>
                            <a:pt x="28" y="39"/>
                          </a:lnTo>
                          <a:lnTo>
                            <a:pt x="0" y="47"/>
                          </a:lnTo>
                          <a:lnTo>
                            <a:pt x="24" y="31"/>
                          </a:lnTo>
                          <a:lnTo>
                            <a:pt x="48" y="16"/>
                          </a:lnTo>
                          <a:lnTo>
                            <a:pt x="75" y="0"/>
                          </a:lnTo>
                          <a:lnTo>
                            <a:pt x="103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6" name=""/>
                    <p:cNvSpPr/>
                    <p:nvPr/>
                  </p:nvSpPr>
                  <p:spPr>
                    <a:xfrm>
                      <a:off x="7710120" y="1962720"/>
                      <a:ext cx="299160" cy="233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4" h="383">
                          <a:moveTo>
                            <a:pt x="0" y="383"/>
                          </a:moveTo>
                          <a:lnTo>
                            <a:pt x="28" y="360"/>
                          </a:lnTo>
                          <a:lnTo>
                            <a:pt x="64" y="340"/>
                          </a:lnTo>
                          <a:lnTo>
                            <a:pt x="100" y="329"/>
                          </a:lnTo>
                          <a:lnTo>
                            <a:pt x="139" y="317"/>
                          </a:lnTo>
                          <a:lnTo>
                            <a:pt x="171" y="301"/>
                          </a:lnTo>
                          <a:lnTo>
                            <a:pt x="199" y="286"/>
                          </a:lnTo>
                          <a:lnTo>
                            <a:pt x="215" y="266"/>
                          </a:lnTo>
                          <a:lnTo>
                            <a:pt x="218" y="239"/>
                          </a:lnTo>
                          <a:lnTo>
                            <a:pt x="258" y="211"/>
                          </a:lnTo>
                          <a:lnTo>
                            <a:pt x="294" y="184"/>
                          </a:lnTo>
                          <a:lnTo>
                            <a:pt x="330" y="153"/>
                          </a:lnTo>
                          <a:lnTo>
                            <a:pt x="361" y="121"/>
                          </a:lnTo>
                          <a:lnTo>
                            <a:pt x="393" y="90"/>
                          </a:lnTo>
                          <a:lnTo>
                            <a:pt x="421" y="59"/>
                          </a:lnTo>
                          <a:lnTo>
                            <a:pt x="453" y="31"/>
                          </a:lnTo>
                          <a:lnTo>
                            <a:pt x="484" y="0"/>
                          </a:lnTo>
                          <a:lnTo>
                            <a:pt x="433" y="59"/>
                          </a:lnTo>
                          <a:lnTo>
                            <a:pt x="381" y="117"/>
                          </a:lnTo>
                          <a:lnTo>
                            <a:pt x="330" y="180"/>
                          </a:lnTo>
                          <a:lnTo>
                            <a:pt x="278" y="239"/>
                          </a:lnTo>
                          <a:lnTo>
                            <a:pt x="218" y="289"/>
                          </a:lnTo>
                          <a:lnTo>
                            <a:pt x="155" y="333"/>
                          </a:lnTo>
                          <a:lnTo>
                            <a:pt x="84" y="368"/>
                          </a:lnTo>
                          <a:lnTo>
                            <a:pt x="0" y="383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7" name=""/>
                    <p:cNvSpPr/>
                    <p:nvPr/>
                  </p:nvSpPr>
                  <p:spPr>
                    <a:xfrm>
                      <a:off x="5352840" y="1970280"/>
                      <a:ext cx="191160" cy="9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9" h="148">
                          <a:moveTo>
                            <a:pt x="20" y="148"/>
                          </a:moveTo>
                          <a:lnTo>
                            <a:pt x="0" y="125"/>
                          </a:lnTo>
                          <a:lnTo>
                            <a:pt x="27" y="105"/>
                          </a:lnTo>
                          <a:lnTo>
                            <a:pt x="59" y="86"/>
                          </a:lnTo>
                          <a:lnTo>
                            <a:pt x="95" y="70"/>
                          </a:lnTo>
                          <a:lnTo>
                            <a:pt x="131" y="55"/>
                          </a:lnTo>
                          <a:lnTo>
                            <a:pt x="166" y="39"/>
                          </a:lnTo>
                          <a:lnTo>
                            <a:pt x="202" y="23"/>
                          </a:lnTo>
                          <a:lnTo>
                            <a:pt x="238" y="12"/>
                          </a:lnTo>
                          <a:lnTo>
                            <a:pt x="273" y="0"/>
                          </a:lnTo>
                          <a:lnTo>
                            <a:pt x="309" y="35"/>
                          </a:lnTo>
                          <a:lnTo>
                            <a:pt x="20" y="148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200" bIns="43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8" name=""/>
                    <p:cNvSpPr/>
                    <p:nvPr/>
                  </p:nvSpPr>
                  <p:spPr>
                    <a:xfrm>
                      <a:off x="6397560" y="1970280"/>
                      <a:ext cx="162000" cy="6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2" h="102">
                          <a:moveTo>
                            <a:pt x="262" y="23"/>
                          </a:moveTo>
                          <a:lnTo>
                            <a:pt x="234" y="31"/>
                          </a:lnTo>
                          <a:lnTo>
                            <a:pt x="207" y="43"/>
                          </a:lnTo>
                          <a:lnTo>
                            <a:pt x="179" y="51"/>
                          </a:lnTo>
                          <a:lnTo>
                            <a:pt x="151" y="55"/>
                          </a:lnTo>
                          <a:lnTo>
                            <a:pt x="123" y="66"/>
                          </a:lnTo>
                          <a:lnTo>
                            <a:pt x="96" y="74"/>
                          </a:lnTo>
                          <a:lnTo>
                            <a:pt x="72" y="86"/>
                          </a:lnTo>
                          <a:lnTo>
                            <a:pt x="44" y="102"/>
                          </a:lnTo>
                          <a:lnTo>
                            <a:pt x="0" y="90"/>
                          </a:lnTo>
                          <a:lnTo>
                            <a:pt x="24" y="74"/>
                          </a:lnTo>
                          <a:lnTo>
                            <a:pt x="52" y="62"/>
                          </a:lnTo>
                          <a:lnTo>
                            <a:pt x="84" y="55"/>
                          </a:lnTo>
                          <a:lnTo>
                            <a:pt x="115" y="47"/>
                          </a:lnTo>
                          <a:lnTo>
                            <a:pt x="143" y="39"/>
                          </a:lnTo>
                          <a:lnTo>
                            <a:pt x="175" y="27"/>
                          </a:lnTo>
                          <a:lnTo>
                            <a:pt x="203" y="16"/>
                          </a:lnTo>
                          <a:lnTo>
                            <a:pt x="226" y="0"/>
                          </a:lnTo>
                          <a:lnTo>
                            <a:pt x="262" y="23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120" bIns="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79" name=""/>
                    <p:cNvSpPr/>
                    <p:nvPr/>
                  </p:nvSpPr>
                  <p:spPr>
                    <a:xfrm>
                      <a:off x="6967080" y="1991520"/>
                      <a:ext cx="644760" cy="267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3" h="438">
                          <a:moveTo>
                            <a:pt x="1043" y="438"/>
                          </a:moveTo>
                          <a:lnTo>
                            <a:pt x="0" y="407"/>
                          </a:lnTo>
                          <a:lnTo>
                            <a:pt x="71" y="356"/>
                          </a:lnTo>
                          <a:lnTo>
                            <a:pt x="146" y="309"/>
                          </a:lnTo>
                          <a:lnTo>
                            <a:pt x="222" y="266"/>
                          </a:lnTo>
                          <a:lnTo>
                            <a:pt x="297" y="223"/>
                          </a:lnTo>
                          <a:lnTo>
                            <a:pt x="372" y="180"/>
                          </a:lnTo>
                          <a:lnTo>
                            <a:pt x="444" y="129"/>
                          </a:lnTo>
                          <a:lnTo>
                            <a:pt x="511" y="70"/>
                          </a:lnTo>
                          <a:lnTo>
                            <a:pt x="575" y="0"/>
                          </a:lnTo>
                          <a:lnTo>
                            <a:pt x="634" y="43"/>
                          </a:lnTo>
                          <a:lnTo>
                            <a:pt x="690" y="94"/>
                          </a:lnTo>
                          <a:lnTo>
                            <a:pt x="745" y="145"/>
                          </a:lnTo>
                          <a:lnTo>
                            <a:pt x="805" y="199"/>
                          </a:lnTo>
                          <a:lnTo>
                            <a:pt x="860" y="258"/>
                          </a:lnTo>
                          <a:lnTo>
                            <a:pt x="920" y="317"/>
                          </a:lnTo>
                          <a:lnTo>
                            <a:pt x="979" y="379"/>
                          </a:lnTo>
                          <a:lnTo>
                            <a:pt x="1043" y="438"/>
                          </a:lnTo>
                          <a:close/>
                        </a:path>
                      </a:pathLst>
                    </a:custGeom>
                    <a:solidFill>
                      <a:srgbClr val="ff7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0" name=""/>
                    <p:cNvSpPr/>
                    <p:nvPr/>
                  </p:nvSpPr>
                  <p:spPr>
                    <a:xfrm>
                      <a:off x="7450200" y="1996200"/>
                      <a:ext cx="12708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6" h="78">
                          <a:moveTo>
                            <a:pt x="206" y="12"/>
                          </a:moveTo>
                          <a:lnTo>
                            <a:pt x="182" y="23"/>
                          </a:lnTo>
                          <a:lnTo>
                            <a:pt x="155" y="39"/>
                          </a:lnTo>
                          <a:lnTo>
                            <a:pt x="127" y="51"/>
                          </a:lnTo>
                          <a:lnTo>
                            <a:pt x="99" y="62"/>
                          </a:lnTo>
                          <a:lnTo>
                            <a:pt x="71" y="70"/>
                          </a:lnTo>
                          <a:lnTo>
                            <a:pt x="48" y="78"/>
                          </a:lnTo>
                          <a:lnTo>
                            <a:pt x="24" y="78"/>
                          </a:lnTo>
                          <a:lnTo>
                            <a:pt x="0" y="70"/>
                          </a:lnTo>
                          <a:lnTo>
                            <a:pt x="24" y="62"/>
                          </a:lnTo>
                          <a:lnTo>
                            <a:pt x="48" y="51"/>
                          </a:lnTo>
                          <a:lnTo>
                            <a:pt x="75" y="35"/>
                          </a:lnTo>
                          <a:lnTo>
                            <a:pt x="99" y="19"/>
                          </a:lnTo>
                          <a:lnTo>
                            <a:pt x="127" y="8"/>
                          </a:lnTo>
                          <a:lnTo>
                            <a:pt x="155" y="0"/>
                          </a:lnTo>
                          <a:lnTo>
                            <a:pt x="178" y="0"/>
                          </a:lnTo>
                          <a:lnTo>
                            <a:pt x="206" y="12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1" name=""/>
                    <p:cNvSpPr/>
                    <p:nvPr/>
                  </p:nvSpPr>
                  <p:spPr>
                    <a:xfrm>
                      <a:off x="5416560" y="2010600"/>
                      <a:ext cx="162000" cy="7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2" h="125">
                          <a:moveTo>
                            <a:pt x="0" y="125"/>
                          </a:moveTo>
                          <a:lnTo>
                            <a:pt x="250" y="0"/>
                          </a:lnTo>
                          <a:lnTo>
                            <a:pt x="262" y="0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2" name=""/>
                    <p:cNvSpPr/>
                    <p:nvPr/>
                  </p:nvSpPr>
                  <p:spPr>
                    <a:xfrm>
                      <a:off x="6468480" y="2010600"/>
                      <a:ext cx="176760" cy="5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6" h="94">
                          <a:moveTo>
                            <a:pt x="286" y="36"/>
                          </a:moveTo>
                          <a:lnTo>
                            <a:pt x="250" y="43"/>
                          </a:lnTo>
                          <a:lnTo>
                            <a:pt x="215" y="55"/>
                          </a:lnTo>
                          <a:lnTo>
                            <a:pt x="175" y="71"/>
                          </a:lnTo>
                          <a:lnTo>
                            <a:pt x="139" y="82"/>
                          </a:lnTo>
                          <a:lnTo>
                            <a:pt x="103" y="90"/>
                          </a:lnTo>
                          <a:lnTo>
                            <a:pt x="68" y="94"/>
                          </a:lnTo>
                          <a:lnTo>
                            <a:pt x="32" y="90"/>
                          </a:lnTo>
                          <a:lnTo>
                            <a:pt x="0" y="71"/>
                          </a:lnTo>
                          <a:lnTo>
                            <a:pt x="36" y="63"/>
                          </a:lnTo>
                          <a:lnTo>
                            <a:pt x="72" y="47"/>
                          </a:lnTo>
                          <a:lnTo>
                            <a:pt x="107" y="32"/>
                          </a:lnTo>
                          <a:lnTo>
                            <a:pt x="143" y="16"/>
                          </a:lnTo>
                          <a:lnTo>
                            <a:pt x="179" y="4"/>
                          </a:lnTo>
                          <a:lnTo>
                            <a:pt x="215" y="0"/>
                          </a:lnTo>
                          <a:lnTo>
                            <a:pt x="250" y="12"/>
                          </a:lnTo>
                          <a:lnTo>
                            <a:pt x="286" y="36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440" bIns="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3" name=""/>
                    <p:cNvSpPr/>
                    <p:nvPr/>
                  </p:nvSpPr>
                  <p:spPr>
                    <a:xfrm>
                      <a:off x="4658400" y="2022480"/>
                      <a:ext cx="90720" cy="4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7" h="70">
                          <a:moveTo>
                            <a:pt x="147" y="16"/>
                          </a:moveTo>
                          <a:lnTo>
                            <a:pt x="135" y="31"/>
                          </a:lnTo>
                          <a:lnTo>
                            <a:pt x="119" y="39"/>
                          </a:lnTo>
                          <a:lnTo>
                            <a:pt x="99" y="35"/>
                          </a:lnTo>
                          <a:lnTo>
                            <a:pt x="80" y="31"/>
                          </a:lnTo>
                          <a:lnTo>
                            <a:pt x="60" y="31"/>
                          </a:lnTo>
                          <a:lnTo>
                            <a:pt x="40" y="31"/>
                          </a:lnTo>
                          <a:lnTo>
                            <a:pt x="24" y="43"/>
                          </a:lnTo>
                          <a:lnTo>
                            <a:pt x="12" y="70"/>
                          </a:lnTo>
                          <a:lnTo>
                            <a:pt x="0" y="62"/>
                          </a:lnTo>
                          <a:lnTo>
                            <a:pt x="16" y="51"/>
                          </a:lnTo>
                          <a:lnTo>
                            <a:pt x="36" y="39"/>
                          </a:lnTo>
                          <a:lnTo>
                            <a:pt x="52" y="23"/>
                          </a:lnTo>
                          <a:lnTo>
                            <a:pt x="72" y="12"/>
                          </a:lnTo>
                          <a:lnTo>
                            <a:pt x="91" y="4"/>
                          </a:lnTo>
                          <a:lnTo>
                            <a:pt x="111" y="0"/>
                          </a:lnTo>
                          <a:lnTo>
                            <a:pt x="127" y="4"/>
                          </a:lnTo>
                          <a:lnTo>
                            <a:pt x="147" y="16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" bIns="-4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4" name=""/>
                    <p:cNvSpPr/>
                    <p:nvPr/>
                  </p:nvSpPr>
                  <p:spPr>
                    <a:xfrm>
                      <a:off x="6962040" y="2032200"/>
                      <a:ext cx="139680" cy="8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6" h="136">
                          <a:moveTo>
                            <a:pt x="0" y="136"/>
                          </a:moveTo>
                          <a:lnTo>
                            <a:pt x="214" y="0"/>
                          </a:lnTo>
                          <a:lnTo>
                            <a:pt x="226" y="0"/>
                          </a:lnTo>
                          <a:lnTo>
                            <a:pt x="0" y="136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0" bIns="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5" name=""/>
                    <p:cNvSpPr/>
                    <p:nvPr/>
                  </p:nvSpPr>
                  <p:spPr>
                    <a:xfrm>
                      <a:off x="7499160" y="2032200"/>
                      <a:ext cx="12060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5" h="101">
                          <a:moveTo>
                            <a:pt x="195" y="0"/>
                          </a:moveTo>
                          <a:lnTo>
                            <a:pt x="175" y="19"/>
                          </a:lnTo>
                          <a:lnTo>
                            <a:pt x="155" y="35"/>
                          </a:lnTo>
                          <a:lnTo>
                            <a:pt x="131" y="50"/>
                          </a:lnTo>
                          <a:lnTo>
                            <a:pt x="103" y="62"/>
                          </a:lnTo>
                          <a:lnTo>
                            <a:pt x="80" y="74"/>
                          </a:lnTo>
                          <a:lnTo>
                            <a:pt x="52" y="82"/>
                          </a:lnTo>
                          <a:lnTo>
                            <a:pt x="24" y="93"/>
                          </a:lnTo>
                          <a:lnTo>
                            <a:pt x="0" y="101"/>
                          </a:lnTo>
                          <a:lnTo>
                            <a:pt x="16" y="82"/>
                          </a:lnTo>
                          <a:lnTo>
                            <a:pt x="36" y="62"/>
                          </a:lnTo>
                          <a:lnTo>
                            <a:pt x="60" y="46"/>
                          </a:lnTo>
                          <a:lnTo>
                            <a:pt x="84" y="35"/>
                          </a:lnTo>
                          <a:lnTo>
                            <a:pt x="111" y="27"/>
                          </a:lnTo>
                          <a:lnTo>
                            <a:pt x="139" y="15"/>
                          </a:lnTo>
                          <a:lnTo>
                            <a:pt x="167" y="7"/>
                          </a:lnTo>
                          <a:lnTo>
                            <a:pt x="195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6" name=""/>
                    <p:cNvSpPr/>
                    <p:nvPr/>
                  </p:nvSpPr>
                  <p:spPr>
                    <a:xfrm>
                      <a:off x="5457960" y="2051280"/>
                      <a:ext cx="176760" cy="6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6" h="105">
                          <a:moveTo>
                            <a:pt x="286" y="15"/>
                          </a:moveTo>
                          <a:lnTo>
                            <a:pt x="254" y="23"/>
                          </a:lnTo>
                          <a:lnTo>
                            <a:pt x="218" y="39"/>
                          </a:lnTo>
                          <a:lnTo>
                            <a:pt x="183" y="55"/>
                          </a:lnTo>
                          <a:lnTo>
                            <a:pt x="147" y="70"/>
                          </a:lnTo>
                          <a:lnTo>
                            <a:pt x="111" y="82"/>
                          </a:lnTo>
                          <a:lnTo>
                            <a:pt x="72" y="98"/>
                          </a:lnTo>
                          <a:lnTo>
                            <a:pt x="36" y="105"/>
                          </a:lnTo>
                          <a:lnTo>
                            <a:pt x="0" y="105"/>
                          </a:lnTo>
                          <a:lnTo>
                            <a:pt x="36" y="86"/>
                          </a:lnTo>
                          <a:lnTo>
                            <a:pt x="68" y="66"/>
                          </a:lnTo>
                          <a:lnTo>
                            <a:pt x="103" y="43"/>
                          </a:lnTo>
                          <a:lnTo>
                            <a:pt x="135" y="23"/>
                          </a:lnTo>
                          <a:lnTo>
                            <a:pt x="171" y="8"/>
                          </a:lnTo>
                          <a:lnTo>
                            <a:pt x="206" y="0"/>
                          </a:lnTo>
                          <a:lnTo>
                            <a:pt x="246" y="4"/>
                          </a:lnTo>
                          <a:lnTo>
                            <a:pt x="286" y="15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280" bIns="172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7" name=""/>
                    <p:cNvSpPr/>
                    <p:nvPr/>
                  </p:nvSpPr>
                  <p:spPr>
                    <a:xfrm>
                      <a:off x="6988680" y="2053800"/>
                      <a:ext cx="199080" cy="9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2" h="156">
                          <a:moveTo>
                            <a:pt x="0" y="156"/>
                          </a:moveTo>
                          <a:lnTo>
                            <a:pt x="36" y="137"/>
                          </a:lnTo>
                          <a:lnTo>
                            <a:pt x="76" y="117"/>
                          </a:lnTo>
                          <a:lnTo>
                            <a:pt x="115" y="94"/>
                          </a:lnTo>
                          <a:lnTo>
                            <a:pt x="155" y="70"/>
                          </a:lnTo>
                          <a:lnTo>
                            <a:pt x="195" y="51"/>
                          </a:lnTo>
                          <a:lnTo>
                            <a:pt x="238" y="31"/>
                          </a:lnTo>
                          <a:lnTo>
                            <a:pt x="278" y="15"/>
                          </a:lnTo>
                          <a:lnTo>
                            <a:pt x="322" y="0"/>
                          </a:lnTo>
                          <a:lnTo>
                            <a:pt x="294" y="23"/>
                          </a:lnTo>
                          <a:lnTo>
                            <a:pt x="258" y="47"/>
                          </a:lnTo>
                          <a:lnTo>
                            <a:pt x="222" y="74"/>
                          </a:lnTo>
                          <a:lnTo>
                            <a:pt x="183" y="101"/>
                          </a:lnTo>
                          <a:lnTo>
                            <a:pt x="139" y="129"/>
                          </a:lnTo>
                          <a:lnTo>
                            <a:pt x="95" y="144"/>
                          </a:lnTo>
                          <a:lnTo>
                            <a:pt x="48" y="156"/>
                          </a:lnTo>
                          <a:lnTo>
                            <a:pt x="0" y="156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8" name=""/>
                    <p:cNvSpPr/>
                    <p:nvPr/>
                  </p:nvSpPr>
                  <p:spPr>
                    <a:xfrm>
                      <a:off x="6552360" y="2060280"/>
                      <a:ext cx="134640" cy="40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67">
                          <a:moveTo>
                            <a:pt x="218" y="0"/>
                          </a:moveTo>
                          <a:lnTo>
                            <a:pt x="195" y="12"/>
                          </a:lnTo>
                          <a:lnTo>
                            <a:pt x="171" y="24"/>
                          </a:lnTo>
                          <a:lnTo>
                            <a:pt x="143" y="36"/>
                          </a:lnTo>
                          <a:lnTo>
                            <a:pt x="115" y="43"/>
                          </a:lnTo>
                          <a:lnTo>
                            <a:pt x="84" y="51"/>
                          </a:lnTo>
                          <a:lnTo>
                            <a:pt x="56" y="59"/>
                          </a:lnTo>
                          <a:lnTo>
                            <a:pt x="28" y="63"/>
                          </a:lnTo>
                          <a:lnTo>
                            <a:pt x="0" y="67"/>
                          </a:lnTo>
                          <a:lnTo>
                            <a:pt x="24" y="51"/>
                          </a:lnTo>
                          <a:lnTo>
                            <a:pt x="52" y="40"/>
                          </a:lnTo>
                          <a:lnTo>
                            <a:pt x="80" y="28"/>
                          </a:lnTo>
                          <a:lnTo>
                            <a:pt x="103" y="20"/>
                          </a:lnTo>
                          <a:lnTo>
                            <a:pt x="131" y="12"/>
                          </a:lnTo>
                          <a:lnTo>
                            <a:pt x="159" y="8"/>
                          </a:lnTo>
                          <a:lnTo>
                            <a:pt x="191" y="4"/>
                          </a:lnTo>
                          <a:lnTo>
                            <a:pt x="218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120" bIns="-6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89" name=""/>
                    <p:cNvSpPr/>
                    <p:nvPr/>
                  </p:nvSpPr>
                  <p:spPr>
                    <a:xfrm>
                      <a:off x="7541280" y="2065320"/>
                      <a:ext cx="119880" cy="6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4" h="102">
                          <a:moveTo>
                            <a:pt x="194" y="0"/>
                          </a:moveTo>
                          <a:lnTo>
                            <a:pt x="174" y="20"/>
                          </a:lnTo>
                          <a:lnTo>
                            <a:pt x="154" y="35"/>
                          </a:lnTo>
                          <a:lnTo>
                            <a:pt x="127" y="51"/>
                          </a:lnTo>
                          <a:lnTo>
                            <a:pt x="103" y="67"/>
                          </a:lnTo>
                          <a:lnTo>
                            <a:pt x="75" y="78"/>
                          </a:lnTo>
                          <a:lnTo>
                            <a:pt x="51" y="90"/>
                          </a:lnTo>
                          <a:lnTo>
                            <a:pt x="23" y="98"/>
                          </a:lnTo>
                          <a:lnTo>
                            <a:pt x="0" y="102"/>
                          </a:lnTo>
                          <a:lnTo>
                            <a:pt x="31" y="75"/>
                          </a:lnTo>
                          <a:lnTo>
                            <a:pt x="67" y="59"/>
                          </a:lnTo>
                          <a:lnTo>
                            <a:pt x="99" y="43"/>
                          </a:lnTo>
                          <a:lnTo>
                            <a:pt x="115" y="12"/>
                          </a:lnTo>
                          <a:lnTo>
                            <a:pt x="138" y="16"/>
                          </a:lnTo>
                          <a:lnTo>
                            <a:pt x="154" y="8"/>
                          </a:lnTo>
                          <a:lnTo>
                            <a:pt x="174" y="0"/>
                          </a:lnTo>
                          <a:lnTo>
                            <a:pt x="194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120" bIns="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0" name=""/>
                    <p:cNvSpPr/>
                    <p:nvPr/>
                  </p:nvSpPr>
                  <p:spPr>
                    <a:xfrm>
                      <a:off x="7761960" y="2080080"/>
                      <a:ext cx="41400" cy="4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70">
                          <a:moveTo>
                            <a:pt x="43" y="70"/>
                          </a:moveTo>
                          <a:lnTo>
                            <a:pt x="0" y="70"/>
                          </a:lnTo>
                          <a:lnTo>
                            <a:pt x="0" y="47"/>
                          </a:lnTo>
                          <a:lnTo>
                            <a:pt x="19" y="31"/>
                          </a:lnTo>
                          <a:lnTo>
                            <a:pt x="47" y="19"/>
                          </a:lnTo>
                          <a:lnTo>
                            <a:pt x="67" y="0"/>
                          </a:lnTo>
                          <a:lnTo>
                            <a:pt x="67" y="19"/>
                          </a:lnTo>
                          <a:lnTo>
                            <a:pt x="63" y="35"/>
                          </a:lnTo>
                          <a:lnTo>
                            <a:pt x="51" y="54"/>
                          </a:lnTo>
                          <a:lnTo>
                            <a:pt x="43" y="7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" bIns="-4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1" name=""/>
                    <p:cNvSpPr/>
                    <p:nvPr/>
                  </p:nvSpPr>
                  <p:spPr>
                    <a:xfrm>
                      <a:off x="4692960" y="2086560"/>
                      <a:ext cx="112320" cy="90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2" h="149">
                          <a:moveTo>
                            <a:pt x="59" y="59"/>
                          </a:moveTo>
                          <a:lnTo>
                            <a:pt x="162" y="24"/>
                          </a:lnTo>
                          <a:lnTo>
                            <a:pt x="150" y="24"/>
                          </a:lnTo>
                          <a:lnTo>
                            <a:pt x="143" y="28"/>
                          </a:lnTo>
                          <a:lnTo>
                            <a:pt x="135" y="40"/>
                          </a:lnTo>
                          <a:lnTo>
                            <a:pt x="127" y="47"/>
                          </a:lnTo>
                          <a:lnTo>
                            <a:pt x="127" y="75"/>
                          </a:lnTo>
                          <a:lnTo>
                            <a:pt x="146" y="94"/>
                          </a:lnTo>
                          <a:lnTo>
                            <a:pt x="170" y="106"/>
                          </a:lnTo>
                          <a:lnTo>
                            <a:pt x="182" y="102"/>
                          </a:lnTo>
                          <a:lnTo>
                            <a:pt x="158" y="118"/>
                          </a:lnTo>
                          <a:lnTo>
                            <a:pt x="139" y="133"/>
                          </a:lnTo>
                          <a:lnTo>
                            <a:pt x="111" y="149"/>
                          </a:lnTo>
                          <a:lnTo>
                            <a:pt x="83" y="149"/>
                          </a:lnTo>
                          <a:lnTo>
                            <a:pt x="0" y="24"/>
                          </a:lnTo>
                          <a:lnTo>
                            <a:pt x="35" y="0"/>
                          </a:lnTo>
                          <a:lnTo>
                            <a:pt x="35" y="16"/>
                          </a:lnTo>
                          <a:lnTo>
                            <a:pt x="39" y="32"/>
                          </a:lnTo>
                          <a:lnTo>
                            <a:pt x="47" y="47"/>
                          </a:lnTo>
                          <a:lnTo>
                            <a:pt x="59" y="59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920" bIns="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2" name=""/>
                    <p:cNvSpPr/>
                    <p:nvPr/>
                  </p:nvSpPr>
                  <p:spPr>
                    <a:xfrm>
                      <a:off x="5514120" y="2086560"/>
                      <a:ext cx="156960" cy="6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4" h="102">
                          <a:moveTo>
                            <a:pt x="254" y="0"/>
                          </a:moveTo>
                          <a:lnTo>
                            <a:pt x="227" y="24"/>
                          </a:lnTo>
                          <a:lnTo>
                            <a:pt x="199" y="43"/>
                          </a:lnTo>
                          <a:lnTo>
                            <a:pt x="163" y="55"/>
                          </a:lnTo>
                          <a:lnTo>
                            <a:pt x="131" y="67"/>
                          </a:lnTo>
                          <a:lnTo>
                            <a:pt x="96" y="75"/>
                          </a:lnTo>
                          <a:lnTo>
                            <a:pt x="60" y="86"/>
                          </a:lnTo>
                          <a:lnTo>
                            <a:pt x="28" y="94"/>
                          </a:lnTo>
                          <a:lnTo>
                            <a:pt x="0" y="102"/>
                          </a:lnTo>
                          <a:lnTo>
                            <a:pt x="32" y="90"/>
                          </a:lnTo>
                          <a:lnTo>
                            <a:pt x="64" y="75"/>
                          </a:lnTo>
                          <a:lnTo>
                            <a:pt x="92" y="59"/>
                          </a:lnTo>
                          <a:lnTo>
                            <a:pt x="123" y="43"/>
                          </a:lnTo>
                          <a:lnTo>
                            <a:pt x="155" y="28"/>
                          </a:lnTo>
                          <a:lnTo>
                            <a:pt x="187" y="12"/>
                          </a:lnTo>
                          <a:lnTo>
                            <a:pt x="219" y="4"/>
                          </a:lnTo>
                          <a:lnTo>
                            <a:pt x="254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480" bIns="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3" name=""/>
                    <p:cNvSpPr/>
                    <p:nvPr/>
                  </p:nvSpPr>
                  <p:spPr>
                    <a:xfrm>
                      <a:off x="5663880" y="2086560"/>
                      <a:ext cx="176760" cy="10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6" h="176">
                          <a:moveTo>
                            <a:pt x="286" y="24"/>
                          </a:moveTo>
                          <a:lnTo>
                            <a:pt x="258" y="47"/>
                          </a:lnTo>
                          <a:lnTo>
                            <a:pt x="230" y="75"/>
                          </a:lnTo>
                          <a:lnTo>
                            <a:pt x="203" y="102"/>
                          </a:lnTo>
                          <a:lnTo>
                            <a:pt x="171" y="130"/>
                          </a:lnTo>
                          <a:lnTo>
                            <a:pt x="135" y="153"/>
                          </a:lnTo>
                          <a:lnTo>
                            <a:pt x="96" y="169"/>
                          </a:lnTo>
                          <a:lnTo>
                            <a:pt x="52" y="176"/>
                          </a:lnTo>
                          <a:lnTo>
                            <a:pt x="0" y="169"/>
                          </a:lnTo>
                          <a:lnTo>
                            <a:pt x="28" y="157"/>
                          </a:lnTo>
                          <a:lnTo>
                            <a:pt x="60" y="145"/>
                          </a:lnTo>
                          <a:lnTo>
                            <a:pt x="88" y="133"/>
                          </a:lnTo>
                          <a:lnTo>
                            <a:pt x="119" y="122"/>
                          </a:lnTo>
                          <a:lnTo>
                            <a:pt x="147" y="110"/>
                          </a:lnTo>
                          <a:lnTo>
                            <a:pt x="175" y="94"/>
                          </a:lnTo>
                          <a:lnTo>
                            <a:pt x="203" y="79"/>
                          </a:lnTo>
                          <a:lnTo>
                            <a:pt x="226" y="59"/>
                          </a:lnTo>
                          <a:lnTo>
                            <a:pt x="215" y="51"/>
                          </a:lnTo>
                          <a:lnTo>
                            <a:pt x="195" y="47"/>
                          </a:lnTo>
                          <a:lnTo>
                            <a:pt x="179" y="47"/>
                          </a:lnTo>
                          <a:lnTo>
                            <a:pt x="159" y="47"/>
                          </a:lnTo>
                          <a:lnTo>
                            <a:pt x="163" y="43"/>
                          </a:lnTo>
                          <a:lnTo>
                            <a:pt x="171" y="32"/>
                          </a:lnTo>
                          <a:lnTo>
                            <a:pt x="191" y="20"/>
                          </a:lnTo>
                          <a:lnTo>
                            <a:pt x="211" y="12"/>
                          </a:lnTo>
                          <a:lnTo>
                            <a:pt x="230" y="4"/>
                          </a:lnTo>
                          <a:lnTo>
                            <a:pt x="250" y="0"/>
                          </a:lnTo>
                          <a:lnTo>
                            <a:pt x="270" y="8"/>
                          </a:lnTo>
                          <a:lnTo>
                            <a:pt x="286" y="24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4" name=""/>
                    <p:cNvSpPr/>
                    <p:nvPr/>
                  </p:nvSpPr>
                  <p:spPr>
                    <a:xfrm>
                      <a:off x="6601680" y="2094120"/>
                      <a:ext cx="142200" cy="40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0" h="67">
                          <a:moveTo>
                            <a:pt x="230" y="0"/>
                          </a:moveTo>
                          <a:lnTo>
                            <a:pt x="206" y="16"/>
                          </a:lnTo>
                          <a:lnTo>
                            <a:pt x="178" y="28"/>
                          </a:lnTo>
                          <a:lnTo>
                            <a:pt x="150" y="35"/>
                          </a:lnTo>
                          <a:lnTo>
                            <a:pt x="119" y="43"/>
                          </a:lnTo>
                          <a:lnTo>
                            <a:pt x="87" y="51"/>
                          </a:lnTo>
                          <a:lnTo>
                            <a:pt x="59" y="59"/>
                          </a:lnTo>
                          <a:lnTo>
                            <a:pt x="27" y="63"/>
                          </a:lnTo>
                          <a:lnTo>
                            <a:pt x="0" y="67"/>
                          </a:lnTo>
                          <a:lnTo>
                            <a:pt x="27" y="51"/>
                          </a:lnTo>
                          <a:lnTo>
                            <a:pt x="55" y="39"/>
                          </a:lnTo>
                          <a:lnTo>
                            <a:pt x="83" y="28"/>
                          </a:lnTo>
                          <a:lnTo>
                            <a:pt x="115" y="16"/>
                          </a:lnTo>
                          <a:lnTo>
                            <a:pt x="142" y="8"/>
                          </a:lnTo>
                          <a:lnTo>
                            <a:pt x="174" y="4"/>
                          </a:lnTo>
                          <a:lnTo>
                            <a:pt x="202" y="0"/>
                          </a:lnTo>
                          <a:lnTo>
                            <a:pt x="230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120" bIns="-6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5" name=""/>
                    <p:cNvSpPr/>
                    <p:nvPr/>
                  </p:nvSpPr>
                  <p:spPr>
                    <a:xfrm>
                      <a:off x="7577640" y="2108880"/>
                      <a:ext cx="11304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3" h="101">
                          <a:moveTo>
                            <a:pt x="183" y="0"/>
                          </a:moveTo>
                          <a:lnTo>
                            <a:pt x="167" y="15"/>
                          </a:lnTo>
                          <a:lnTo>
                            <a:pt x="147" y="27"/>
                          </a:lnTo>
                          <a:lnTo>
                            <a:pt x="123" y="43"/>
                          </a:lnTo>
                          <a:lnTo>
                            <a:pt x="99" y="54"/>
                          </a:lnTo>
                          <a:lnTo>
                            <a:pt x="76" y="66"/>
                          </a:lnTo>
                          <a:lnTo>
                            <a:pt x="48" y="78"/>
                          </a:lnTo>
                          <a:lnTo>
                            <a:pt x="24" y="90"/>
                          </a:lnTo>
                          <a:lnTo>
                            <a:pt x="0" y="101"/>
                          </a:lnTo>
                          <a:lnTo>
                            <a:pt x="16" y="78"/>
                          </a:lnTo>
                          <a:lnTo>
                            <a:pt x="36" y="62"/>
                          </a:lnTo>
                          <a:lnTo>
                            <a:pt x="56" y="47"/>
                          </a:lnTo>
                          <a:lnTo>
                            <a:pt x="79" y="35"/>
                          </a:lnTo>
                          <a:lnTo>
                            <a:pt x="107" y="23"/>
                          </a:lnTo>
                          <a:lnTo>
                            <a:pt x="131" y="15"/>
                          </a:lnTo>
                          <a:lnTo>
                            <a:pt x="159" y="7"/>
                          </a:lnTo>
                          <a:lnTo>
                            <a:pt x="183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6" name=""/>
                    <p:cNvSpPr/>
                    <p:nvPr/>
                  </p:nvSpPr>
                  <p:spPr>
                    <a:xfrm>
                      <a:off x="5563800" y="2127600"/>
                      <a:ext cx="149400" cy="6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2" h="102">
                          <a:moveTo>
                            <a:pt x="242" y="0"/>
                          </a:moveTo>
                          <a:lnTo>
                            <a:pt x="226" y="12"/>
                          </a:lnTo>
                          <a:lnTo>
                            <a:pt x="202" y="19"/>
                          </a:lnTo>
                          <a:lnTo>
                            <a:pt x="174" y="23"/>
                          </a:lnTo>
                          <a:lnTo>
                            <a:pt x="143" y="27"/>
                          </a:lnTo>
                          <a:lnTo>
                            <a:pt x="115" y="35"/>
                          </a:lnTo>
                          <a:lnTo>
                            <a:pt x="95" y="51"/>
                          </a:lnTo>
                          <a:lnTo>
                            <a:pt x="87" y="70"/>
                          </a:lnTo>
                          <a:lnTo>
                            <a:pt x="91" y="102"/>
                          </a:lnTo>
                          <a:lnTo>
                            <a:pt x="67" y="102"/>
                          </a:lnTo>
                          <a:lnTo>
                            <a:pt x="43" y="102"/>
                          </a:lnTo>
                          <a:lnTo>
                            <a:pt x="20" y="102"/>
                          </a:lnTo>
                          <a:lnTo>
                            <a:pt x="0" y="94"/>
                          </a:lnTo>
                          <a:lnTo>
                            <a:pt x="28" y="74"/>
                          </a:lnTo>
                          <a:lnTo>
                            <a:pt x="59" y="59"/>
                          </a:lnTo>
                          <a:lnTo>
                            <a:pt x="87" y="39"/>
                          </a:lnTo>
                          <a:lnTo>
                            <a:pt x="119" y="27"/>
                          </a:lnTo>
                          <a:lnTo>
                            <a:pt x="151" y="16"/>
                          </a:lnTo>
                          <a:lnTo>
                            <a:pt x="182" y="4"/>
                          </a:lnTo>
                          <a:lnTo>
                            <a:pt x="210" y="0"/>
                          </a:lnTo>
                          <a:lnTo>
                            <a:pt x="242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480" bIns="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7" name=""/>
                    <p:cNvSpPr/>
                    <p:nvPr/>
                  </p:nvSpPr>
                  <p:spPr>
                    <a:xfrm>
                      <a:off x="6743880" y="2127600"/>
                      <a:ext cx="28800" cy="2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" h="35">
                          <a:moveTo>
                            <a:pt x="47" y="0"/>
                          </a:moveTo>
                          <a:lnTo>
                            <a:pt x="35" y="8"/>
                          </a:lnTo>
                          <a:lnTo>
                            <a:pt x="23" y="16"/>
                          </a:lnTo>
                          <a:lnTo>
                            <a:pt x="11" y="23"/>
                          </a:lnTo>
                          <a:lnTo>
                            <a:pt x="0" y="35"/>
                          </a:lnTo>
                          <a:lnTo>
                            <a:pt x="0" y="0"/>
                          </a:lnTo>
                          <a:lnTo>
                            <a:pt x="47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8" name=""/>
                    <p:cNvSpPr/>
                    <p:nvPr/>
                  </p:nvSpPr>
                  <p:spPr>
                    <a:xfrm>
                      <a:off x="7612200" y="2149200"/>
                      <a:ext cx="925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0" h="78">
                          <a:moveTo>
                            <a:pt x="0" y="78"/>
                          </a:moveTo>
                          <a:lnTo>
                            <a:pt x="150" y="0"/>
                          </a:lnTo>
                          <a:lnTo>
                            <a:pt x="103" y="47"/>
                          </a:lnTo>
                          <a:lnTo>
                            <a:pt x="0" y="78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9" name=""/>
                    <p:cNvSpPr/>
                    <p:nvPr/>
                  </p:nvSpPr>
                  <p:spPr>
                    <a:xfrm>
                      <a:off x="6679440" y="2156400"/>
                      <a:ext cx="29520" cy="2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" h="35">
                          <a:moveTo>
                            <a:pt x="48" y="0"/>
                          </a:moveTo>
                          <a:lnTo>
                            <a:pt x="40" y="4"/>
                          </a:lnTo>
                          <a:lnTo>
                            <a:pt x="36" y="16"/>
                          </a:lnTo>
                          <a:lnTo>
                            <a:pt x="36" y="23"/>
                          </a:lnTo>
                          <a:lnTo>
                            <a:pt x="36" y="35"/>
                          </a:lnTo>
                          <a:lnTo>
                            <a:pt x="0" y="35"/>
                          </a:lnTo>
                          <a:lnTo>
                            <a:pt x="0" y="0"/>
                          </a:lnTo>
                          <a:lnTo>
                            <a:pt x="48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0" name=""/>
                    <p:cNvSpPr/>
                    <p:nvPr/>
                  </p:nvSpPr>
                  <p:spPr>
                    <a:xfrm>
                      <a:off x="6925320" y="2156400"/>
                      <a:ext cx="36720" cy="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" h="12">
                          <a:moveTo>
                            <a:pt x="0" y="12"/>
                          </a:moveTo>
                          <a:lnTo>
                            <a:pt x="12" y="0"/>
                          </a:lnTo>
                          <a:lnTo>
                            <a:pt x="60" y="0"/>
                          </a:lnTo>
                          <a:lnTo>
                            <a:pt x="0" y="12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0" bIns="-39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1" name=""/>
                    <p:cNvSpPr/>
                    <p:nvPr/>
                  </p:nvSpPr>
                  <p:spPr>
                    <a:xfrm>
                      <a:off x="6876360" y="2170440"/>
                      <a:ext cx="1422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0" h="90">
                          <a:moveTo>
                            <a:pt x="0" y="90"/>
                          </a:moveTo>
                          <a:lnTo>
                            <a:pt x="230" y="0"/>
                          </a:lnTo>
                          <a:lnTo>
                            <a:pt x="202" y="12"/>
                          </a:lnTo>
                          <a:lnTo>
                            <a:pt x="174" y="28"/>
                          </a:lnTo>
                          <a:lnTo>
                            <a:pt x="147" y="43"/>
                          </a:lnTo>
                          <a:lnTo>
                            <a:pt x="115" y="59"/>
                          </a:lnTo>
                          <a:lnTo>
                            <a:pt x="87" y="75"/>
                          </a:lnTo>
                          <a:lnTo>
                            <a:pt x="59" y="86"/>
                          </a:lnTo>
                          <a:lnTo>
                            <a:pt x="28" y="90"/>
                          </a:lnTo>
                          <a:lnTo>
                            <a:pt x="0" y="9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2" name=""/>
                    <p:cNvSpPr/>
                    <p:nvPr/>
                  </p:nvSpPr>
                  <p:spPr>
                    <a:xfrm>
                      <a:off x="6765480" y="2196720"/>
                      <a:ext cx="41760" cy="2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" h="36">
                          <a:moveTo>
                            <a:pt x="68" y="0"/>
                          </a:moveTo>
                          <a:lnTo>
                            <a:pt x="56" y="12"/>
                          </a:lnTo>
                          <a:lnTo>
                            <a:pt x="44" y="28"/>
                          </a:lnTo>
                          <a:lnTo>
                            <a:pt x="28" y="36"/>
                          </a:lnTo>
                          <a:lnTo>
                            <a:pt x="12" y="36"/>
                          </a:lnTo>
                          <a:lnTo>
                            <a:pt x="0" y="24"/>
                          </a:lnTo>
                          <a:lnTo>
                            <a:pt x="16" y="16"/>
                          </a:lnTo>
                          <a:lnTo>
                            <a:pt x="32" y="4"/>
                          </a:lnTo>
                          <a:lnTo>
                            <a:pt x="48" y="0"/>
                          </a:lnTo>
                          <a:lnTo>
                            <a:pt x="68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0" bIns="-25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3" name=""/>
                    <p:cNvSpPr/>
                    <p:nvPr/>
                  </p:nvSpPr>
                  <p:spPr>
                    <a:xfrm>
                      <a:off x="7653600" y="2218680"/>
                      <a:ext cx="108000" cy="39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5" h="66">
                          <a:moveTo>
                            <a:pt x="127" y="54"/>
                          </a:moveTo>
                          <a:lnTo>
                            <a:pt x="115" y="58"/>
                          </a:lnTo>
                          <a:lnTo>
                            <a:pt x="95" y="62"/>
                          </a:lnTo>
                          <a:lnTo>
                            <a:pt x="75" y="66"/>
                          </a:lnTo>
                          <a:lnTo>
                            <a:pt x="56" y="66"/>
                          </a:lnTo>
                          <a:lnTo>
                            <a:pt x="36" y="66"/>
                          </a:lnTo>
                          <a:lnTo>
                            <a:pt x="20" y="58"/>
                          </a:lnTo>
                          <a:lnTo>
                            <a:pt x="8" y="43"/>
                          </a:lnTo>
                          <a:lnTo>
                            <a:pt x="0" y="23"/>
                          </a:lnTo>
                          <a:lnTo>
                            <a:pt x="20" y="43"/>
                          </a:lnTo>
                          <a:lnTo>
                            <a:pt x="40" y="54"/>
                          </a:lnTo>
                          <a:lnTo>
                            <a:pt x="60" y="54"/>
                          </a:lnTo>
                          <a:lnTo>
                            <a:pt x="83" y="50"/>
                          </a:lnTo>
                          <a:lnTo>
                            <a:pt x="107" y="39"/>
                          </a:lnTo>
                          <a:lnTo>
                            <a:pt x="131" y="27"/>
                          </a:lnTo>
                          <a:lnTo>
                            <a:pt x="155" y="11"/>
                          </a:lnTo>
                          <a:lnTo>
                            <a:pt x="175" y="0"/>
                          </a:lnTo>
                          <a:lnTo>
                            <a:pt x="167" y="15"/>
                          </a:lnTo>
                          <a:lnTo>
                            <a:pt x="155" y="31"/>
                          </a:lnTo>
                          <a:lnTo>
                            <a:pt x="143" y="43"/>
                          </a:lnTo>
                          <a:lnTo>
                            <a:pt x="127" y="54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4" name=""/>
                    <p:cNvSpPr/>
                    <p:nvPr/>
                  </p:nvSpPr>
                  <p:spPr>
                    <a:xfrm>
                      <a:off x="5160960" y="2232720"/>
                      <a:ext cx="1396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26" h="90">
                          <a:moveTo>
                            <a:pt x="226" y="0"/>
                          </a:moveTo>
                          <a:lnTo>
                            <a:pt x="199" y="12"/>
                          </a:lnTo>
                          <a:lnTo>
                            <a:pt x="171" y="27"/>
                          </a:lnTo>
                          <a:lnTo>
                            <a:pt x="143" y="43"/>
                          </a:lnTo>
                          <a:lnTo>
                            <a:pt x="119" y="63"/>
                          </a:lnTo>
                          <a:lnTo>
                            <a:pt x="92" y="74"/>
                          </a:lnTo>
                          <a:lnTo>
                            <a:pt x="64" y="86"/>
                          </a:lnTo>
                          <a:lnTo>
                            <a:pt x="32" y="90"/>
                          </a:lnTo>
                          <a:lnTo>
                            <a:pt x="0" y="90"/>
                          </a:lnTo>
                          <a:lnTo>
                            <a:pt x="36" y="74"/>
                          </a:lnTo>
                          <a:lnTo>
                            <a:pt x="64" y="55"/>
                          </a:lnTo>
                          <a:lnTo>
                            <a:pt x="88" y="39"/>
                          </a:lnTo>
                          <a:lnTo>
                            <a:pt x="111" y="27"/>
                          </a:lnTo>
                          <a:lnTo>
                            <a:pt x="135" y="12"/>
                          </a:lnTo>
                          <a:lnTo>
                            <a:pt x="159" y="4"/>
                          </a:lnTo>
                          <a:lnTo>
                            <a:pt x="191" y="0"/>
                          </a:lnTo>
                          <a:lnTo>
                            <a:pt x="226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5" name=""/>
                    <p:cNvSpPr/>
                    <p:nvPr/>
                  </p:nvSpPr>
                  <p:spPr>
                    <a:xfrm>
                      <a:off x="4417560" y="2239920"/>
                      <a:ext cx="49320" cy="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0" h="15">
                          <a:moveTo>
                            <a:pt x="80" y="0"/>
                          </a:moveTo>
                          <a:lnTo>
                            <a:pt x="56" y="4"/>
                          </a:lnTo>
                          <a:lnTo>
                            <a:pt x="32" y="11"/>
                          </a:lnTo>
                          <a:lnTo>
                            <a:pt x="12" y="15"/>
                          </a:lnTo>
                          <a:lnTo>
                            <a:pt x="0" y="0"/>
                          </a:lnTo>
                          <a:lnTo>
                            <a:pt x="80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800" bIns="-37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6" name=""/>
                    <p:cNvSpPr/>
                    <p:nvPr/>
                  </p:nvSpPr>
                  <p:spPr>
                    <a:xfrm>
                      <a:off x="4489560" y="2239920"/>
                      <a:ext cx="82800" cy="3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4" h="54">
                          <a:moveTo>
                            <a:pt x="134" y="0"/>
                          </a:moveTo>
                          <a:lnTo>
                            <a:pt x="122" y="8"/>
                          </a:lnTo>
                          <a:lnTo>
                            <a:pt x="107" y="15"/>
                          </a:lnTo>
                          <a:lnTo>
                            <a:pt x="91" y="23"/>
                          </a:lnTo>
                          <a:lnTo>
                            <a:pt x="75" y="31"/>
                          </a:lnTo>
                          <a:lnTo>
                            <a:pt x="55" y="39"/>
                          </a:lnTo>
                          <a:lnTo>
                            <a:pt x="39" y="47"/>
                          </a:lnTo>
                          <a:lnTo>
                            <a:pt x="19" y="51"/>
                          </a:lnTo>
                          <a:lnTo>
                            <a:pt x="0" y="54"/>
                          </a:lnTo>
                          <a:lnTo>
                            <a:pt x="15" y="54"/>
                          </a:lnTo>
                          <a:lnTo>
                            <a:pt x="27" y="47"/>
                          </a:lnTo>
                          <a:lnTo>
                            <a:pt x="43" y="35"/>
                          </a:lnTo>
                          <a:lnTo>
                            <a:pt x="55" y="27"/>
                          </a:lnTo>
                          <a:lnTo>
                            <a:pt x="71" y="15"/>
                          </a:lnTo>
                          <a:lnTo>
                            <a:pt x="91" y="4"/>
                          </a:lnTo>
                          <a:lnTo>
                            <a:pt x="111" y="0"/>
                          </a:lnTo>
                          <a:lnTo>
                            <a:pt x="134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040" bIns="-14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7" name=""/>
                    <p:cNvSpPr/>
                    <p:nvPr/>
                  </p:nvSpPr>
                  <p:spPr>
                    <a:xfrm>
                      <a:off x="4673160" y="2239920"/>
                      <a:ext cx="9828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9" h="78">
                          <a:moveTo>
                            <a:pt x="159" y="0"/>
                          </a:moveTo>
                          <a:lnTo>
                            <a:pt x="139" y="11"/>
                          </a:lnTo>
                          <a:lnTo>
                            <a:pt x="115" y="23"/>
                          </a:lnTo>
                          <a:lnTo>
                            <a:pt x="95" y="39"/>
                          </a:lnTo>
                          <a:lnTo>
                            <a:pt x="91" y="66"/>
                          </a:lnTo>
                          <a:lnTo>
                            <a:pt x="103" y="78"/>
                          </a:lnTo>
                          <a:lnTo>
                            <a:pt x="0" y="66"/>
                          </a:lnTo>
                          <a:lnTo>
                            <a:pt x="16" y="51"/>
                          </a:lnTo>
                          <a:lnTo>
                            <a:pt x="32" y="39"/>
                          </a:lnTo>
                          <a:lnTo>
                            <a:pt x="52" y="27"/>
                          </a:lnTo>
                          <a:lnTo>
                            <a:pt x="71" y="19"/>
                          </a:lnTo>
                          <a:lnTo>
                            <a:pt x="95" y="11"/>
                          </a:lnTo>
                          <a:lnTo>
                            <a:pt x="115" y="8"/>
                          </a:lnTo>
                          <a:lnTo>
                            <a:pt x="139" y="4"/>
                          </a:lnTo>
                          <a:lnTo>
                            <a:pt x="159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8" name=""/>
                    <p:cNvSpPr/>
                    <p:nvPr/>
                  </p:nvSpPr>
                  <p:spPr>
                    <a:xfrm>
                      <a:off x="4763880" y="2237400"/>
                      <a:ext cx="142200" cy="50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0" h="82">
                          <a:moveTo>
                            <a:pt x="230" y="4"/>
                          </a:moveTo>
                          <a:lnTo>
                            <a:pt x="218" y="19"/>
                          </a:lnTo>
                          <a:lnTo>
                            <a:pt x="202" y="27"/>
                          </a:lnTo>
                          <a:lnTo>
                            <a:pt x="178" y="35"/>
                          </a:lnTo>
                          <a:lnTo>
                            <a:pt x="154" y="39"/>
                          </a:lnTo>
                          <a:lnTo>
                            <a:pt x="131" y="47"/>
                          </a:lnTo>
                          <a:lnTo>
                            <a:pt x="107" y="55"/>
                          </a:lnTo>
                          <a:lnTo>
                            <a:pt x="87" y="66"/>
                          </a:lnTo>
                          <a:lnTo>
                            <a:pt x="67" y="82"/>
                          </a:lnTo>
                          <a:lnTo>
                            <a:pt x="0" y="82"/>
                          </a:lnTo>
                          <a:lnTo>
                            <a:pt x="24" y="70"/>
                          </a:lnTo>
                          <a:lnTo>
                            <a:pt x="51" y="58"/>
                          </a:lnTo>
                          <a:lnTo>
                            <a:pt x="75" y="43"/>
                          </a:lnTo>
                          <a:lnTo>
                            <a:pt x="103" y="27"/>
                          </a:lnTo>
                          <a:lnTo>
                            <a:pt x="135" y="15"/>
                          </a:lnTo>
                          <a:lnTo>
                            <a:pt x="162" y="4"/>
                          </a:lnTo>
                          <a:lnTo>
                            <a:pt x="194" y="0"/>
                          </a:lnTo>
                          <a:lnTo>
                            <a:pt x="230" y="4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40" bIns="3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09" name=""/>
                    <p:cNvSpPr/>
                    <p:nvPr/>
                  </p:nvSpPr>
                  <p:spPr>
                    <a:xfrm>
                      <a:off x="4891680" y="2235240"/>
                      <a:ext cx="162000" cy="5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2" h="86">
                          <a:moveTo>
                            <a:pt x="262" y="8"/>
                          </a:moveTo>
                          <a:lnTo>
                            <a:pt x="230" y="19"/>
                          </a:lnTo>
                          <a:lnTo>
                            <a:pt x="198" y="31"/>
                          </a:lnTo>
                          <a:lnTo>
                            <a:pt x="163" y="43"/>
                          </a:lnTo>
                          <a:lnTo>
                            <a:pt x="131" y="59"/>
                          </a:lnTo>
                          <a:lnTo>
                            <a:pt x="99" y="70"/>
                          </a:lnTo>
                          <a:lnTo>
                            <a:pt x="67" y="82"/>
                          </a:lnTo>
                          <a:lnTo>
                            <a:pt x="32" y="86"/>
                          </a:lnTo>
                          <a:lnTo>
                            <a:pt x="0" y="86"/>
                          </a:lnTo>
                          <a:lnTo>
                            <a:pt x="36" y="78"/>
                          </a:lnTo>
                          <a:lnTo>
                            <a:pt x="63" y="62"/>
                          </a:lnTo>
                          <a:lnTo>
                            <a:pt x="95" y="47"/>
                          </a:lnTo>
                          <a:lnTo>
                            <a:pt x="123" y="27"/>
                          </a:lnTo>
                          <a:lnTo>
                            <a:pt x="155" y="12"/>
                          </a:lnTo>
                          <a:lnTo>
                            <a:pt x="186" y="0"/>
                          </a:lnTo>
                          <a:lnTo>
                            <a:pt x="222" y="0"/>
                          </a:lnTo>
                          <a:lnTo>
                            <a:pt x="262" y="8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400" bIns="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0" name=""/>
                    <p:cNvSpPr/>
                    <p:nvPr/>
                  </p:nvSpPr>
                  <p:spPr>
                    <a:xfrm>
                      <a:off x="5018760" y="2237400"/>
                      <a:ext cx="169200" cy="50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4" h="82">
                          <a:moveTo>
                            <a:pt x="0" y="82"/>
                          </a:moveTo>
                          <a:lnTo>
                            <a:pt x="36" y="70"/>
                          </a:lnTo>
                          <a:lnTo>
                            <a:pt x="68" y="58"/>
                          </a:lnTo>
                          <a:lnTo>
                            <a:pt x="99" y="43"/>
                          </a:lnTo>
                          <a:lnTo>
                            <a:pt x="131" y="27"/>
                          </a:lnTo>
                          <a:lnTo>
                            <a:pt x="163" y="15"/>
                          </a:lnTo>
                          <a:lnTo>
                            <a:pt x="199" y="4"/>
                          </a:lnTo>
                          <a:lnTo>
                            <a:pt x="234" y="0"/>
                          </a:lnTo>
                          <a:lnTo>
                            <a:pt x="274" y="4"/>
                          </a:lnTo>
                          <a:lnTo>
                            <a:pt x="0" y="82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40" bIns="3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1" name=""/>
                    <p:cNvSpPr/>
                    <p:nvPr/>
                  </p:nvSpPr>
                  <p:spPr>
                    <a:xfrm>
                      <a:off x="5274360" y="2239920"/>
                      <a:ext cx="16884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" h="78">
                          <a:moveTo>
                            <a:pt x="273" y="0"/>
                          </a:moveTo>
                          <a:lnTo>
                            <a:pt x="254" y="11"/>
                          </a:lnTo>
                          <a:lnTo>
                            <a:pt x="230" y="19"/>
                          </a:lnTo>
                          <a:lnTo>
                            <a:pt x="202" y="23"/>
                          </a:lnTo>
                          <a:lnTo>
                            <a:pt x="178" y="27"/>
                          </a:lnTo>
                          <a:lnTo>
                            <a:pt x="154" y="31"/>
                          </a:lnTo>
                          <a:lnTo>
                            <a:pt x="131" y="39"/>
                          </a:lnTo>
                          <a:lnTo>
                            <a:pt x="115" y="54"/>
                          </a:lnTo>
                          <a:lnTo>
                            <a:pt x="103" y="78"/>
                          </a:lnTo>
                          <a:lnTo>
                            <a:pt x="0" y="78"/>
                          </a:lnTo>
                          <a:lnTo>
                            <a:pt x="31" y="66"/>
                          </a:lnTo>
                          <a:lnTo>
                            <a:pt x="67" y="54"/>
                          </a:lnTo>
                          <a:lnTo>
                            <a:pt x="99" y="39"/>
                          </a:lnTo>
                          <a:lnTo>
                            <a:pt x="131" y="27"/>
                          </a:lnTo>
                          <a:lnTo>
                            <a:pt x="162" y="15"/>
                          </a:lnTo>
                          <a:lnTo>
                            <a:pt x="198" y="4"/>
                          </a:lnTo>
                          <a:lnTo>
                            <a:pt x="234" y="0"/>
                          </a:lnTo>
                          <a:lnTo>
                            <a:pt x="273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2" name=""/>
                    <p:cNvSpPr/>
                    <p:nvPr/>
                  </p:nvSpPr>
                  <p:spPr>
                    <a:xfrm>
                      <a:off x="5683680" y="2235240"/>
                      <a:ext cx="171720" cy="39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8" h="66">
                          <a:moveTo>
                            <a:pt x="278" y="8"/>
                          </a:moveTo>
                          <a:lnTo>
                            <a:pt x="246" y="19"/>
                          </a:lnTo>
                          <a:lnTo>
                            <a:pt x="210" y="35"/>
                          </a:lnTo>
                          <a:lnTo>
                            <a:pt x="175" y="43"/>
                          </a:lnTo>
                          <a:lnTo>
                            <a:pt x="139" y="55"/>
                          </a:lnTo>
                          <a:lnTo>
                            <a:pt x="103" y="62"/>
                          </a:lnTo>
                          <a:lnTo>
                            <a:pt x="72" y="66"/>
                          </a:lnTo>
                          <a:lnTo>
                            <a:pt x="36" y="66"/>
                          </a:lnTo>
                          <a:lnTo>
                            <a:pt x="0" y="62"/>
                          </a:lnTo>
                          <a:lnTo>
                            <a:pt x="36" y="59"/>
                          </a:lnTo>
                          <a:lnTo>
                            <a:pt x="72" y="47"/>
                          </a:lnTo>
                          <a:lnTo>
                            <a:pt x="103" y="35"/>
                          </a:lnTo>
                          <a:lnTo>
                            <a:pt x="135" y="23"/>
                          </a:lnTo>
                          <a:lnTo>
                            <a:pt x="167" y="12"/>
                          </a:lnTo>
                          <a:lnTo>
                            <a:pt x="202" y="4"/>
                          </a:lnTo>
                          <a:lnTo>
                            <a:pt x="238" y="0"/>
                          </a:lnTo>
                          <a:lnTo>
                            <a:pt x="278" y="8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3" name=""/>
                    <p:cNvSpPr/>
                    <p:nvPr/>
                  </p:nvSpPr>
                  <p:spPr>
                    <a:xfrm>
                      <a:off x="4617000" y="2244960"/>
                      <a:ext cx="41040" cy="2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35">
                          <a:moveTo>
                            <a:pt x="0" y="35"/>
                          </a:moveTo>
                          <a:lnTo>
                            <a:pt x="8" y="0"/>
                          </a:lnTo>
                          <a:lnTo>
                            <a:pt x="67" y="0"/>
                          </a:lnTo>
                          <a:lnTo>
                            <a:pt x="0" y="35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4" name=""/>
                    <p:cNvSpPr/>
                    <p:nvPr/>
                  </p:nvSpPr>
                  <p:spPr>
                    <a:xfrm>
                      <a:off x="5911920" y="2244960"/>
                      <a:ext cx="3456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" h="23">
                          <a:moveTo>
                            <a:pt x="0" y="23"/>
                          </a:moveTo>
                          <a:lnTo>
                            <a:pt x="56" y="0"/>
                          </a:lnTo>
                          <a:lnTo>
                            <a:pt x="20" y="23"/>
                          </a:lnTo>
                          <a:lnTo>
                            <a:pt x="0" y="23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5" name=""/>
                    <p:cNvSpPr/>
                    <p:nvPr/>
                  </p:nvSpPr>
                  <p:spPr>
                    <a:xfrm>
                      <a:off x="6017760" y="2244960"/>
                      <a:ext cx="112320" cy="28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2" h="46">
                          <a:moveTo>
                            <a:pt x="182" y="11"/>
                          </a:moveTo>
                          <a:lnTo>
                            <a:pt x="162" y="23"/>
                          </a:lnTo>
                          <a:lnTo>
                            <a:pt x="138" y="31"/>
                          </a:lnTo>
                          <a:lnTo>
                            <a:pt x="115" y="39"/>
                          </a:lnTo>
                          <a:lnTo>
                            <a:pt x="91" y="43"/>
                          </a:lnTo>
                          <a:lnTo>
                            <a:pt x="63" y="46"/>
                          </a:lnTo>
                          <a:lnTo>
                            <a:pt x="39" y="46"/>
                          </a:lnTo>
                          <a:lnTo>
                            <a:pt x="19" y="43"/>
                          </a:lnTo>
                          <a:lnTo>
                            <a:pt x="0" y="35"/>
                          </a:lnTo>
                          <a:lnTo>
                            <a:pt x="4" y="35"/>
                          </a:lnTo>
                          <a:lnTo>
                            <a:pt x="19" y="27"/>
                          </a:lnTo>
                          <a:lnTo>
                            <a:pt x="39" y="19"/>
                          </a:lnTo>
                          <a:lnTo>
                            <a:pt x="67" y="11"/>
                          </a:lnTo>
                          <a:lnTo>
                            <a:pt x="95" y="3"/>
                          </a:lnTo>
                          <a:lnTo>
                            <a:pt x="126" y="0"/>
                          </a:lnTo>
                          <a:lnTo>
                            <a:pt x="154" y="0"/>
                          </a:lnTo>
                          <a:lnTo>
                            <a:pt x="182" y="11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720" bIns="-18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6" name=""/>
                    <p:cNvSpPr/>
                    <p:nvPr/>
                  </p:nvSpPr>
                  <p:spPr>
                    <a:xfrm>
                      <a:off x="6242760" y="2251800"/>
                      <a:ext cx="83160" cy="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5" h="12">
                          <a:moveTo>
                            <a:pt x="135" y="0"/>
                          </a:moveTo>
                          <a:lnTo>
                            <a:pt x="119" y="4"/>
                          </a:lnTo>
                          <a:lnTo>
                            <a:pt x="104" y="8"/>
                          </a:lnTo>
                          <a:lnTo>
                            <a:pt x="88" y="12"/>
                          </a:lnTo>
                          <a:lnTo>
                            <a:pt x="72" y="12"/>
                          </a:lnTo>
                          <a:lnTo>
                            <a:pt x="52" y="12"/>
                          </a:lnTo>
                          <a:lnTo>
                            <a:pt x="36" y="12"/>
                          </a:lnTo>
                          <a:lnTo>
                            <a:pt x="16" y="12"/>
                          </a:lnTo>
                          <a:lnTo>
                            <a:pt x="0" y="12"/>
                          </a:lnTo>
                          <a:lnTo>
                            <a:pt x="20" y="4"/>
                          </a:lnTo>
                          <a:lnTo>
                            <a:pt x="40" y="4"/>
                          </a:lnTo>
                          <a:lnTo>
                            <a:pt x="60" y="0"/>
                          </a:lnTo>
                          <a:lnTo>
                            <a:pt x="80" y="0"/>
                          </a:lnTo>
                          <a:lnTo>
                            <a:pt x="96" y="0"/>
                          </a:lnTo>
                          <a:lnTo>
                            <a:pt x="112" y="0"/>
                          </a:lnTo>
                          <a:lnTo>
                            <a:pt x="123" y="0"/>
                          </a:lnTo>
                          <a:lnTo>
                            <a:pt x="135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0" bIns="-39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7" name=""/>
                    <p:cNvSpPr/>
                    <p:nvPr/>
                  </p:nvSpPr>
                  <p:spPr>
                    <a:xfrm>
                      <a:off x="6348600" y="2251800"/>
                      <a:ext cx="34560" cy="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" h="12">
                          <a:moveTo>
                            <a:pt x="0" y="0"/>
                          </a:moveTo>
                          <a:lnTo>
                            <a:pt x="56" y="12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0" bIns="-39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8" name=""/>
                    <p:cNvSpPr/>
                    <p:nvPr/>
                  </p:nvSpPr>
                  <p:spPr>
                    <a:xfrm>
                      <a:off x="6532560" y="2259000"/>
                      <a:ext cx="83160" cy="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5" h="12">
                          <a:moveTo>
                            <a:pt x="135" y="12"/>
                          </a:moveTo>
                          <a:lnTo>
                            <a:pt x="0" y="0"/>
                          </a:lnTo>
                          <a:lnTo>
                            <a:pt x="104" y="12"/>
                          </a:lnTo>
                          <a:lnTo>
                            <a:pt x="135" y="12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0" bIns="-39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19" name=""/>
                    <p:cNvSpPr/>
                    <p:nvPr/>
                  </p:nvSpPr>
                  <p:spPr>
                    <a:xfrm>
                      <a:off x="4557960" y="2266200"/>
                      <a:ext cx="43560" cy="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1" h="23">
                          <a:moveTo>
                            <a:pt x="71" y="0"/>
                          </a:moveTo>
                          <a:lnTo>
                            <a:pt x="63" y="8"/>
                          </a:lnTo>
                          <a:lnTo>
                            <a:pt x="59" y="15"/>
                          </a:lnTo>
                          <a:lnTo>
                            <a:pt x="51" y="23"/>
                          </a:lnTo>
                          <a:lnTo>
                            <a:pt x="35" y="23"/>
                          </a:lnTo>
                          <a:lnTo>
                            <a:pt x="0" y="23"/>
                          </a:lnTo>
                          <a:lnTo>
                            <a:pt x="15" y="15"/>
                          </a:lnTo>
                          <a:lnTo>
                            <a:pt x="35" y="4"/>
                          </a:lnTo>
                          <a:lnTo>
                            <a:pt x="51" y="0"/>
                          </a:lnTo>
                          <a:lnTo>
                            <a:pt x="71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0" name=""/>
                    <p:cNvSpPr/>
                    <p:nvPr/>
                  </p:nvSpPr>
                  <p:spPr>
                    <a:xfrm>
                      <a:off x="5571360" y="2266200"/>
                      <a:ext cx="41040" cy="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23">
                          <a:moveTo>
                            <a:pt x="67" y="23"/>
                          </a:moveTo>
                          <a:lnTo>
                            <a:pt x="0" y="23"/>
                          </a:lnTo>
                          <a:lnTo>
                            <a:pt x="16" y="15"/>
                          </a:lnTo>
                          <a:lnTo>
                            <a:pt x="35" y="4"/>
                          </a:lnTo>
                          <a:lnTo>
                            <a:pt x="51" y="0"/>
                          </a:lnTo>
                          <a:lnTo>
                            <a:pt x="67" y="0"/>
                          </a:lnTo>
                          <a:lnTo>
                            <a:pt x="67" y="23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1" name=""/>
                    <p:cNvSpPr/>
                    <p:nvPr/>
                  </p:nvSpPr>
                  <p:spPr>
                    <a:xfrm>
                      <a:off x="5855760" y="2266200"/>
                      <a:ext cx="33840" cy="6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5" h="11">
                          <a:moveTo>
                            <a:pt x="0" y="11"/>
                          </a:moveTo>
                          <a:lnTo>
                            <a:pt x="8" y="0"/>
                          </a:lnTo>
                          <a:lnTo>
                            <a:pt x="55" y="0"/>
                          </a:lnTo>
                          <a:lnTo>
                            <a:pt x="0" y="11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0320" bIns="-40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2" name=""/>
                    <p:cNvSpPr/>
                    <p:nvPr/>
                  </p:nvSpPr>
                  <p:spPr>
                    <a:xfrm>
                      <a:off x="6765480" y="2273040"/>
                      <a:ext cx="1944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0">
                          <a:moveTo>
                            <a:pt x="0" y="0"/>
                          </a:moveTo>
                          <a:lnTo>
                            <a:pt x="32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3" name=""/>
                    <p:cNvSpPr/>
                    <p:nvPr/>
                  </p:nvSpPr>
                  <p:spPr>
                    <a:xfrm>
                      <a:off x="6897960" y="2280240"/>
                      <a:ext cx="83160" cy="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5" h="12">
                          <a:moveTo>
                            <a:pt x="0" y="12"/>
                          </a:moveTo>
                          <a:lnTo>
                            <a:pt x="56" y="0"/>
                          </a:lnTo>
                          <a:lnTo>
                            <a:pt x="135" y="12"/>
                          </a:lnTo>
                          <a:lnTo>
                            <a:pt x="0" y="12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0" bIns="-39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4" name=""/>
                    <p:cNvSpPr/>
                    <p:nvPr/>
                  </p:nvSpPr>
                  <p:spPr>
                    <a:xfrm>
                      <a:off x="7109280" y="2287800"/>
                      <a:ext cx="239760" cy="7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8" h="12">
                          <a:moveTo>
                            <a:pt x="0" y="12"/>
                          </a:moveTo>
                          <a:lnTo>
                            <a:pt x="47" y="0"/>
                          </a:lnTo>
                          <a:lnTo>
                            <a:pt x="388" y="12"/>
                          </a:lnTo>
                          <a:lnTo>
                            <a:pt x="0" y="12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0" bIns="-39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5" name=""/>
                    <p:cNvSpPr/>
                    <p:nvPr/>
                  </p:nvSpPr>
                  <p:spPr>
                    <a:xfrm>
                      <a:off x="7443000" y="2295000"/>
                      <a:ext cx="48600" cy="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9" h="0">
                          <a:moveTo>
                            <a:pt x="0" y="0"/>
                          </a:moveTo>
                          <a:lnTo>
                            <a:pt x="79" y="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440" bIns="-46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6" name=""/>
                    <p:cNvSpPr/>
                    <p:nvPr/>
                  </p:nvSpPr>
                  <p:spPr>
                    <a:xfrm>
                      <a:off x="7612200" y="2295000"/>
                      <a:ext cx="56160" cy="1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1" h="19">
                          <a:moveTo>
                            <a:pt x="91" y="19"/>
                          </a:moveTo>
                          <a:lnTo>
                            <a:pt x="0" y="19"/>
                          </a:lnTo>
                          <a:lnTo>
                            <a:pt x="20" y="11"/>
                          </a:lnTo>
                          <a:lnTo>
                            <a:pt x="43" y="0"/>
                          </a:lnTo>
                          <a:lnTo>
                            <a:pt x="71" y="0"/>
                          </a:lnTo>
                          <a:lnTo>
                            <a:pt x="91" y="19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7" name=""/>
                    <p:cNvSpPr/>
                    <p:nvPr/>
                  </p:nvSpPr>
                  <p:spPr>
                    <a:xfrm>
                      <a:off x="7732080" y="2295000"/>
                      <a:ext cx="56160" cy="2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1" h="43">
                          <a:moveTo>
                            <a:pt x="91" y="43"/>
                          </a:moveTo>
                          <a:lnTo>
                            <a:pt x="71" y="35"/>
                          </a:lnTo>
                          <a:lnTo>
                            <a:pt x="48" y="31"/>
                          </a:lnTo>
                          <a:lnTo>
                            <a:pt x="24" y="31"/>
                          </a:lnTo>
                          <a:lnTo>
                            <a:pt x="0" y="31"/>
                          </a:lnTo>
                          <a:lnTo>
                            <a:pt x="36" y="0"/>
                          </a:lnTo>
                          <a:lnTo>
                            <a:pt x="91" y="43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8" name=""/>
                    <p:cNvSpPr/>
                    <p:nvPr/>
                  </p:nvSpPr>
                  <p:spPr>
                    <a:xfrm>
                      <a:off x="7810920" y="2318760"/>
                      <a:ext cx="232920" cy="2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77" h="39">
                          <a:moveTo>
                            <a:pt x="377" y="27"/>
                          </a:moveTo>
                          <a:lnTo>
                            <a:pt x="333" y="39"/>
                          </a:lnTo>
                          <a:lnTo>
                            <a:pt x="286" y="39"/>
                          </a:lnTo>
                          <a:lnTo>
                            <a:pt x="238" y="35"/>
                          </a:lnTo>
                          <a:lnTo>
                            <a:pt x="194" y="27"/>
                          </a:lnTo>
                          <a:lnTo>
                            <a:pt x="147" y="19"/>
                          </a:lnTo>
                          <a:lnTo>
                            <a:pt x="99" y="11"/>
                          </a:lnTo>
                          <a:lnTo>
                            <a:pt x="48" y="4"/>
                          </a:lnTo>
                          <a:lnTo>
                            <a:pt x="0" y="4"/>
                          </a:lnTo>
                          <a:lnTo>
                            <a:pt x="48" y="0"/>
                          </a:lnTo>
                          <a:lnTo>
                            <a:pt x="95" y="0"/>
                          </a:lnTo>
                          <a:lnTo>
                            <a:pt x="143" y="8"/>
                          </a:lnTo>
                          <a:lnTo>
                            <a:pt x="186" y="15"/>
                          </a:lnTo>
                          <a:lnTo>
                            <a:pt x="234" y="23"/>
                          </a:lnTo>
                          <a:lnTo>
                            <a:pt x="278" y="27"/>
                          </a:lnTo>
                          <a:lnTo>
                            <a:pt x="325" y="31"/>
                          </a:lnTo>
                          <a:lnTo>
                            <a:pt x="377" y="27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9" name=""/>
                    <p:cNvSpPr/>
                    <p:nvPr/>
                  </p:nvSpPr>
                  <p:spPr>
                    <a:xfrm>
                      <a:off x="5642280" y="2382840"/>
                      <a:ext cx="28800" cy="43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" h="71">
                          <a:moveTo>
                            <a:pt x="47" y="0"/>
                          </a:moveTo>
                          <a:lnTo>
                            <a:pt x="0" y="71"/>
                          </a:lnTo>
                          <a:lnTo>
                            <a:pt x="47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" bIns="-3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0" name=""/>
                    <p:cNvSpPr/>
                    <p:nvPr/>
                  </p:nvSpPr>
                  <p:spPr>
                    <a:xfrm>
                      <a:off x="6719040" y="2390400"/>
                      <a:ext cx="586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5" h="90">
                          <a:moveTo>
                            <a:pt x="16" y="90"/>
                          </a:moveTo>
                          <a:lnTo>
                            <a:pt x="0" y="66"/>
                          </a:lnTo>
                          <a:lnTo>
                            <a:pt x="0" y="43"/>
                          </a:lnTo>
                          <a:lnTo>
                            <a:pt x="16" y="23"/>
                          </a:lnTo>
                          <a:lnTo>
                            <a:pt x="40" y="12"/>
                          </a:lnTo>
                          <a:lnTo>
                            <a:pt x="75" y="23"/>
                          </a:lnTo>
                          <a:lnTo>
                            <a:pt x="87" y="0"/>
                          </a:lnTo>
                          <a:lnTo>
                            <a:pt x="95" y="35"/>
                          </a:lnTo>
                          <a:lnTo>
                            <a:pt x="71" y="51"/>
                          </a:lnTo>
                          <a:lnTo>
                            <a:pt x="36" y="66"/>
                          </a:lnTo>
                          <a:lnTo>
                            <a:pt x="16" y="9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1" name=""/>
                    <p:cNvSpPr/>
                    <p:nvPr/>
                  </p:nvSpPr>
                  <p:spPr>
                    <a:xfrm>
                      <a:off x="4643280" y="2404080"/>
                      <a:ext cx="105480" cy="47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1" h="79">
                          <a:moveTo>
                            <a:pt x="171" y="0"/>
                          </a:moveTo>
                          <a:lnTo>
                            <a:pt x="155" y="12"/>
                          </a:lnTo>
                          <a:lnTo>
                            <a:pt x="135" y="24"/>
                          </a:lnTo>
                          <a:lnTo>
                            <a:pt x="115" y="36"/>
                          </a:lnTo>
                          <a:lnTo>
                            <a:pt x="96" y="47"/>
                          </a:lnTo>
                          <a:lnTo>
                            <a:pt x="72" y="59"/>
                          </a:lnTo>
                          <a:lnTo>
                            <a:pt x="48" y="67"/>
                          </a:lnTo>
                          <a:lnTo>
                            <a:pt x="24" y="75"/>
                          </a:lnTo>
                          <a:lnTo>
                            <a:pt x="0" y="79"/>
                          </a:lnTo>
                          <a:lnTo>
                            <a:pt x="20" y="63"/>
                          </a:lnTo>
                          <a:lnTo>
                            <a:pt x="44" y="51"/>
                          </a:lnTo>
                          <a:lnTo>
                            <a:pt x="64" y="43"/>
                          </a:lnTo>
                          <a:lnTo>
                            <a:pt x="88" y="32"/>
                          </a:lnTo>
                          <a:lnTo>
                            <a:pt x="107" y="28"/>
                          </a:lnTo>
                          <a:lnTo>
                            <a:pt x="127" y="20"/>
                          </a:lnTo>
                          <a:lnTo>
                            <a:pt x="151" y="8"/>
                          </a:lnTo>
                          <a:lnTo>
                            <a:pt x="171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080" bIns="1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2" name=""/>
                    <p:cNvSpPr/>
                    <p:nvPr/>
                  </p:nvSpPr>
                  <p:spPr>
                    <a:xfrm>
                      <a:off x="5635080" y="2430720"/>
                      <a:ext cx="70920" cy="5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5" h="83">
                          <a:moveTo>
                            <a:pt x="115" y="0"/>
                          </a:moveTo>
                          <a:lnTo>
                            <a:pt x="95" y="24"/>
                          </a:lnTo>
                          <a:lnTo>
                            <a:pt x="63" y="40"/>
                          </a:lnTo>
                          <a:lnTo>
                            <a:pt x="32" y="59"/>
                          </a:lnTo>
                          <a:lnTo>
                            <a:pt x="0" y="83"/>
                          </a:lnTo>
                          <a:lnTo>
                            <a:pt x="24" y="59"/>
                          </a:lnTo>
                          <a:lnTo>
                            <a:pt x="47" y="32"/>
                          </a:lnTo>
                          <a:lnTo>
                            <a:pt x="79" y="8"/>
                          </a:lnTo>
                          <a:lnTo>
                            <a:pt x="115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" bIns="3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3" name=""/>
                    <p:cNvSpPr/>
                    <p:nvPr/>
                  </p:nvSpPr>
                  <p:spPr>
                    <a:xfrm>
                      <a:off x="4744080" y="2466720"/>
                      <a:ext cx="34560" cy="1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" h="24">
                          <a:moveTo>
                            <a:pt x="56" y="0"/>
                          </a:moveTo>
                          <a:lnTo>
                            <a:pt x="48" y="8"/>
                          </a:lnTo>
                          <a:lnTo>
                            <a:pt x="36" y="16"/>
                          </a:lnTo>
                          <a:lnTo>
                            <a:pt x="16" y="24"/>
                          </a:lnTo>
                          <a:lnTo>
                            <a:pt x="0" y="24"/>
                          </a:lnTo>
                          <a:lnTo>
                            <a:pt x="12" y="16"/>
                          </a:lnTo>
                          <a:lnTo>
                            <a:pt x="24" y="4"/>
                          </a:lnTo>
                          <a:lnTo>
                            <a:pt x="36" y="0"/>
                          </a:lnTo>
                          <a:lnTo>
                            <a:pt x="56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4" name=""/>
                    <p:cNvSpPr/>
                    <p:nvPr/>
                  </p:nvSpPr>
                  <p:spPr>
                    <a:xfrm>
                      <a:off x="4587120" y="2473920"/>
                      <a:ext cx="41760" cy="39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" h="66">
                          <a:moveTo>
                            <a:pt x="0" y="66"/>
                          </a:moveTo>
                          <a:lnTo>
                            <a:pt x="56" y="0"/>
                          </a:lnTo>
                          <a:lnTo>
                            <a:pt x="68" y="31"/>
                          </a:lnTo>
                          <a:lnTo>
                            <a:pt x="0" y="66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5" name=""/>
                    <p:cNvSpPr/>
                    <p:nvPr/>
                  </p:nvSpPr>
                  <p:spPr>
                    <a:xfrm>
                      <a:off x="5663880" y="2485440"/>
                      <a:ext cx="27000" cy="21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" h="36">
                          <a:moveTo>
                            <a:pt x="44" y="0"/>
                          </a:moveTo>
                          <a:lnTo>
                            <a:pt x="32" y="4"/>
                          </a:lnTo>
                          <a:lnTo>
                            <a:pt x="20" y="12"/>
                          </a:lnTo>
                          <a:lnTo>
                            <a:pt x="8" y="24"/>
                          </a:lnTo>
                          <a:lnTo>
                            <a:pt x="0" y="36"/>
                          </a:lnTo>
                          <a:lnTo>
                            <a:pt x="8" y="24"/>
                          </a:lnTo>
                          <a:lnTo>
                            <a:pt x="16" y="8"/>
                          </a:lnTo>
                          <a:lnTo>
                            <a:pt x="24" y="0"/>
                          </a:lnTo>
                          <a:lnTo>
                            <a:pt x="44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0" bIns="-25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6" name=""/>
                    <p:cNvSpPr/>
                    <p:nvPr/>
                  </p:nvSpPr>
                  <p:spPr>
                    <a:xfrm>
                      <a:off x="7646400" y="2485440"/>
                      <a:ext cx="44280" cy="49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2" h="82">
                          <a:moveTo>
                            <a:pt x="48" y="59"/>
                          </a:moveTo>
                          <a:lnTo>
                            <a:pt x="0" y="82"/>
                          </a:lnTo>
                          <a:lnTo>
                            <a:pt x="60" y="0"/>
                          </a:lnTo>
                          <a:lnTo>
                            <a:pt x="72" y="16"/>
                          </a:lnTo>
                          <a:lnTo>
                            <a:pt x="68" y="28"/>
                          </a:lnTo>
                          <a:lnTo>
                            <a:pt x="56" y="39"/>
                          </a:lnTo>
                          <a:lnTo>
                            <a:pt x="48" y="59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80" bIns="2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7" name=""/>
                    <p:cNvSpPr/>
                    <p:nvPr/>
                  </p:nvSpPr>
                  <p:spPr>
                    <a:xfrm>
                      <a:off x="4643280" y="2500200"/>
                      <a:ext cx="15696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4" h="90">
                          <a:moveTo>
                            <a:pt x="254" y="0"/>
                          </a:moveTo>
                          <a:lnTo>
                            <a:pt x="226" y="15"/>
                          </a:lnTo>
                          <a:lnTo>
                            <a:pt x="195" y="27"/>
                          </a:lnTo>
                          <a:lnTo>
                            <a:pt x="163" y="39"/>
                          </a:lnTo>
                          <a:lnTo>
                            <a:pt x="131" y="51"/>
                          </a:lnTo>
                          <a:lnTo>
                            <a:pt x="100" y="58"/>
                          </a:lnTo>
                          <a:lnTo>
                            <a:pt x="64" y="70"/>
                          </a:lnTo>
                          <a:lnTo>
                            <a:pt x="32" y="78"/>
                          </a:lnTo>
                          <a:lnTo>
                            <a:pt x="0" y="90"/>
                          </a:lnTo>
                          <a:lnTo>
                            <a:pt x="32" y="82"/>
                          </a:lnTo>
                          <a:lnTo>
                            <a:pt x="64" y="70"/>
                          </a:lnTo>
                          <a:lnTo>
                            <a:pt x="96" y="55"/>
                          </a:lnTo>
                          <a:lnTo>
                            <a:pt x="127" y="39"/>
                          </a:lnTo>
                          <a:lnTo>
                            <a:pt x="159" y="27"/>
                          </a:lnTo>
                          <a:lnTo>
                            <a:pt x="191" y="12"/>
                          </a:lnTo>
                          <a:lnTo>
                            <a:pt x="223" y="4"/>
                          </a:lnTo>
                          <a:lnTo>
                            <a:pt x="254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8" name=""/>
                    <p:cNvSpPr/>
                    <p:nvPr/>
                  </p:nvSpPr>
                  <p:spPr>
                    <a:xfrm>
                      <a:off x="7562880" y="2500200"/>
                      <a:ext cx="56880" cy="6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113">
                          <a:moveTo>
                            <a:pt x="92" y="0"/>
                          </a:moveTo>
                          <a:lnTo>
                            <a:pt x="0" y="113"/>
                          </a:lnTo>
                          <a:lnTo>
                            <a:pt x="92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960" bIns="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9" name=""/>
                    <p:cNvSpPr/>
                    <p:nvPr/>
                  </p:nvSpPr>
                  <p:spPr>
                    <a:xfrm>
                      <a:off x="5526720" y="2514240"/>
                      <a:ext cx="32040" cy="40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67">
                          <a:moveTo>
                            <a:pt x="48" y="0"/>
                          </a:moveTo>
                          <a:lnTo>
                            <a:pt x="52" y="28"/>
                          </a:lnTo>
                          <a:lnTo>
                            <a:pt x="40" y="39"/>
                          </a:lnTo>
                          <a:lnTo>
                            <a:pt x="20" y="51"/>
                          </a:lnTo>
                          <a:lnTo>
                            <a:pt x="4" y="67"/>
                          </a:lnTo>
                          <a:lnTo>
                            <a:pt x="0" y="51"/>
                          </a:lnTo>
                          <a:lnTo>
                            <a:pt x="16" y="32"/>
                          </a:lnTo>
                          <a:lnTo>
                            <a:pt x="32" y="16"/>
                          </a:lnTo>
                          <a:lnTo>
                            <a:pt x="48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120" bIns="-6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0" name=""/>
                    <p:cNvSpPr/>
                    <p:nvPr/>
                  </p:nvSpPr>
                  <p:spPr>
                    <a:xfrm>
                      <a:off x="5691240" y="2514240"/>
                      <a:ext cx="29520" cy="2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" h="35">
                          <a:moveTo>
                            <a:pt x="0" y="35"/>
                          </a:moveTo>
                          <a:lnTo>
                            <a:pt x="24" y="0"/>
                          </a:lnTo>
                          <a:lnTo>
                            <a:pt x="48" y="0"/>
                          </a:lnTo>
                          <a:lnTo>
                            <a:pt x="0" y="35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1" name=""/>
                    <p:cNvSpPr/>
                    <p:nvPr/>
                  </p:nvSpPr>
                  <p:spPr>
                    <a:xfrm>
                      <a:off x="6694560" y="2543040"/>
                      <a:ext cx="85680" cy="6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9" h="106">
                          <a:moveTo>
                            <a:pt x="0" y="102"/>
                          </a:moveTo>
                          <a:lnTo>
                            <a:pt x="139" y="0"/>
                          </a:lnTo>
                          <a:lnTo>
                            <a:pt x="123" y="16"/>
                          </a:lnTo>
                          <a:lnTo>
                            <a:pt x="107" y="31"/>
                          </a:lnTo>
                          <a:lnTo>
                            <a:pt x="95" y="55"/>
                          </a:lnTo>
                          <a:lnTo>
                            <a:pt x="84" y="74"/>
                          </a:lnTo>
                          <a:lnTo>
                            <a:pt x="68" y="90"/>
                          </a:lnTo>
                          <a:lnTo>
                            <a:pt x="52" y="102"/>
                          </a:lnTo>
                          <a:lnTo>
                            <a:pt x="28" y="106"/>
                          </a:lnTo>
                          <a:lnTo>
                            <a:pt x="0" y="102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7640" bIns="17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2" name=""/>
                    <p:cNvSpPr/>
                    <p:nvPr/>
                  </p:nvSpPr>
                  <p:spPr>
                    <a:xfrm>
                      <a:off x="6591600" y="2554920"/>
                      <a:ext cx="60840" cy="50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9" h="82">
                          <a:moveTo>
                            <a:pt x="99" y="35"/>
                          </a:moveTo>
                          <a:lnTo>
                            <a:pt x="79" y="54"/>
                          </a:lnTo>
                          <a:lnTo>
                            <a:pt x="55" y="62"/>
                          </a:lnTo>
                          <a:lnTo>
                            <a:pt x="31" y="74"/>
                          </a:lnTo>
                          <a:lnTo>
                            <a:pt x="8" y="82"/>
                          </a:lnTo>
                          <a:lnTo>
                            <a:pt x="0" y="62"/>
                          </a:lnTo>
                          <a:lnTo>
                            <a:pt x="0" y="39"/>
                          </a:lnTo>
                          <a:lnTo>
                            <a:pt x="12" y="15"/>
                          </a:lnTo>
                          <a:lnTo>
                            <a:pt x="27" y="0"/>
                          </a:lnTo>
                          <a:lnTo>
                            <a:pt x="87" y="47"/>
                          </a:lnTo>
                          <a:lnTo>
                            <a:pt x="99" y="35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40" bIns="3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3" name=""/>
                    <p:cNvSpPr/>
                    <p:nvPr/>
                  </p:nvSpPr>
                  <p:spPr>
                    <a:xfrm>
                      <a:off x="6815160" y="2576520"/>
                      <a:ext cx="31320" cy="28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" h="47">
                          <a:moveTo>
                            <a:pt x="0" y="47"/>
                          </a:moveTo>
                          <a:lnTo>
                            <a:pt x="51" y="0"/>
                          </a:lnTo>
                          <a:lnTo>
                            <a:pt x="51" y="47"/>
                          </a:lnTo>
                          <a:lnTo>
                            <a:pt x="0" y="47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8360" bIns="-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4" name=""/>
                    <p:cNvSpPr/>
                    <p:nvPr/>
                  </p:nvSpPr>
                  <p:spPr>
                    <a:xfrm>
                      <a:off x="5754960" y="2583720"/>
                      <a:ext cx="29520" cy="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" h="23">
                          <a:moveTo>
                            <a:pt x="48" y="23"/>
                          </a:moveTo>
                          <a:lnTo>
                            <a:pt x="0" y="23"/>
                          </a:lnTo>
                          <a:lnTo>
                            <a:pt x="36" y="0"/>
                          </a:lnTo>
                          <a:lnTo>
                            <a:pt x="36" y="7"/>
                          </a:lnTo>
                          <a:lnTo>
                            <a:pt x="40" y="11"/>
                          </a:lnTo>
                          <a:lnTo>
                            <a:pt x="44" y="19"/>
                          </a:lnTo>
                          <a:lnTo>
                            <a:pt x="48" y="23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5" name=""/>
                    <p:cNvSpPr/>
                    <p:nvPr/>
                  </p:nvSpPr>
                  <p:spPr>
                    <a:xfrm>
                      <a:off x="7675920" y="2597760"/>
                      <a:ext cx="5616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1" h="90">
                          <a:moveTo>
                            <a:pt x="91" y="90"/>
                          </a:moveTo>
                          <a:lnTo>
                            <a:pt x="67" y="86"/>
                          </a:lnTo>
                          <a:lnTo>
                            <a:pt x="43" y="82"/>
                          </a:lnTo>
                          <a:lnTo>
                            <a:pt x="20" y="78"/>
                          </a:lnTo>
                          <a:lnTo>
                            <a:pt x="0" y="67"/>
                          </a:lnTo>
                          <a:lnTo>
                            <a:pt x="67" y="0"/>
                          </a:lnTo>
                          <a:lnTo>
                            <a:pt x="75" y="20"/>
                          </a:lnTo>
                          <a:lnTo>
                            <a:pt x="87" y="39"/>
                          </a:lnTo>
                          <a:lnTo>
                            <a:pt x="91" y="63"/>
                          </a:lnTo>
                          <a:lnTo>
                            <a:pt x="91" y="9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6" name=""/>
                    <p:cNvSpPr/>
                    <p:nvPr/>
                  </p:nvSpPr>
                  <p:spPr>
                    <a:xfrm>
                      <a:off x="4673160" y="2631240"/>
                      <a:ext cx="41040" cy="39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66">
                          <a:moveTo>
                            <a:pt x="67" y="58"/>
                          </a:moveTo>
                          <a:lnTo>
                            <a:pt x="52" y="66"/>
                          </a:lnTo>
                          <a:lnTo>
                            <a:pt x="36" y="66"/>
                          </a:lnTo>
                          <a:lnTo>
                            <a:pt x="20" y="62"/>
                          </a:lnTo>
                          <a:lnTo>
                            <a:pt x="0" y="66"/>
                          </a:lnTo>
                          <a:lnTo>
                            <a:pt x="44" y="0"/>
                          </a:lnTo>
                          <a:lnTo>
                            <a:pt x="52" y="12"/>
                          </a:lnTo>
                          <a:lnTo>
                            <a:pt x="63" y="27"/>
                          </a:lnTo>
                          <a:lnTo>
                            <a:pt x="67" y="39"/>
                          </a:lnTo>
                          <a:lnTo>
                            <a:pt x="67" y="58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7" name=""/>
                    <p:cNvSpPr/>
                    <p:nvPr/>
                  </p:nvSpPr>
                  <p:spPr>
                    <a:xfrm>
                      <a:off x="5607720" y="2652840"/>
                      <a:ext cx="6336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3" h="90">
                          <a:moveTo>
                            <a:pt x="0" y="90"/>
                          </a:moveTo>
                          <a:lnTo>
                            <a:pt x="91" y="0"/>
                          </a:lnTo>
                          <a:lnTo>
                            <a:pt x="103" y="12"/>
                          </a:lnTo>
                          <a:lnTo>
                            <a:pt x="0" y="9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8" name=""/>
                    <p:cNvSpPr/>
                    <p:nvPr/>
                  </p:nvSpPr>
                  <p:spPr>
                    <a:xfrm>
                      <a:off x="5160960" y="2681640"/>
                      <a:ext cx="4176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" h="55">
                          <a:moveTo>
                            <a:pt x="68" y="8"/>
                          </a:moveTo>
                          <a:lnTo>
                            <a:pt x="68" y="55"/>
                          </a:lnTo>
                          <a:lnTo>
                            <a:pt x="0" y="8"/>
                          </a:lnTo>
                          <a:lnTo>
                            <a:pt x="24" y="16"/>
                          </a:lnTo>
                          <a:lnTo>
                            <a:pt x="36" y="8"/>
                          </a:lnTo>
                          <a:lnTo>
                            <a:pt x="48" y="0"/>
                          </a:lnTo>
                          <a:lnTo>
                            <a:pt x="68" y="8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49" name=""/>
                    <p:cNvSpPr/>
                    <p:nvPr/>
                  </p:nvSpPr>
                  <p:spPr>
                    <a:xfrm>
                      <a:off x="4650840" y="2707920"/>
                      <a:ext cx="8568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9" h="78">
                          <a:moveTo>
                            <a:pt x="0" y="78"/>
                          </a:moveTo>
                          <a:lnTo>
                            <a:pt x="115" y="0"/>
                          </a:lnTo>
                          <a:lnTo>
                            <a:pt x="139" y="0"/>
                          </a:lnTo>
                          <a:lnTo>
                            <a:pt x="0" y="78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0" name=""/>
                    <p:cNvSpPr/>
                    <p:nvPr/>
                  </p:nvSpPr>
                  <p:spPr>
                    <a:xfrm>
                      <a:off x="5627520" y="2707920"/>
                      <a:ext cx="70920" cy="39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5" h="66">
                          <a:moveTo>
                            <a:pt x="0" y="66"/>
                          </a:moveTo>
                          <a:lnTo>
                            <a:pt x="79" y="0"/>
                          </a:lnTo>
                          <a:lnTo>
                            <a:pt x="115" y="0"/>
                          </a:lnTo>
                          <a:lnTo>
                            <a:pt x="0" y="66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840" bIns="-68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1" name=""/>
                    <p:cNvSpPr/>
                    <p:nvPr/>
                  </p:nvSpPr>
                  <p:spPr>
                    <a:xfrm>
                      <a:off x="7526160" y="2707920"/>
                      <a:ext cx="149400" cy="20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2" h="336">
                          <a:moveTo>
                            <a:pt x="242" y="31"/>
                          </a:moveTo>
                          <a:lnTo>
                            <a:pt x="242" y="66"/>
                          </a:lnTo>
                          <a:lnTo>
                            <a:pt x="214" y="94"/>
                          </a:lnTo>
                          <a:lnTo>
                            <a:pt x="186" y="125"/>
                          </a:lnTo>
                          <a:lnTo>
                            <a:pt x="162" y="160"/>
                          </a:lnTo>
                          <a:lnTo>
                            <a:pt x="135" y="192"/>
                          </a:lnTo>
                          <a:lnTo>
                            <a:pt x="111" y="227"/>
                          </a:lnTo>
                          <a:lnTo>
                            <a:pt x="87" y="262"/>
                          </a:lnTo>
                          <a:lnTo>
                            <a:pt x="67" y="301"/>
                          </a:lnTo>
                          <a:lnTo>
                            <a:pt x="47" y="336"/>
                          </a:lnTo>
                          <a:lnTo>
                            <a:pt x="28" y="336"/>
                          </a:lnTo>
                          <a:lnTo>
                            <a:pt x="8" y="328"/>
                          </a:lnTo>
                          <a:lnTo>
                            <a:pt x="0" y="317"/>
                          </a:lnTo>
                          <a:lnTo>
                            <a:pt x="0" y="293"/>
                          </a:lnTo>
                          <a:lnTo>
                            <a:pt x="32" y="258"/>
                          </a:lnTo>
                          <a:lnTo>
                            <a:pt x="59" y="223"/>
                          </a:lnTo>
                          <a:lnTo>
                            <a:pt x="87" y="180"/>
                          </a:lnTo>
                          <a:lnTo>
                            <a:pt x="111" y="141"/>
                          </a:lnTo>
                          <a:lnTo>
                            <a:pt x="135" y="98"/>
                          </a:lnTo>
                          <a:lnTo>
                            <a:pt x="162" y="62"/>
                          </a:lnTo>
                          <a:lnTo>
                            <a:pt x="190" y="27"/>
                          </a:lnTo>
                          <a:lnTo>
                            <a:pt x="230" y="0"/>
                          </a:lnTo>
                          <a:lnTo>
                            <a:pt x="242" y="31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2" name=""/>
                    <p:cNvSpPr/>
                    <p:nvPr/>
                  </p:nvSpPr>
                  <p:spPr>
                    <a:xfrm>
                      <a:off x="7155720" y="2726640"/>
                      <a:ext cx="75960" cy="50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" h="82">
                          <a:moveTo>
                            <a:pt x="119" y="35"/>
                          </a:moveTo>
                          <a:lnTo>
                            <a:pt x="123" y="63"/>
                          </a:lnTo>
                          <a:lnTo>
                            <a:pt x="103" y="71"/>
                          </a:lnTo>
                          <a:lnTo>
                            <a:pt x="75" y="71"/>
                          </a:lnTo>
                          <a:lnTo>
                            <a:pt x="52" y="82"/>
                          </a:lnTo>
                          <a:lnTo>
                            <a:pt x="40" y="59"/>
                          </a:lnTo>
                          <a:lnTo>
                            <a:pt x="16" y="43"/>
                          </a:lnTo>
                          <a:lnTo>
                            <a:pt x="0" y="28"/>
                          </a:lnTo>
                          <a:lnTo>
                            <a:pt x="16" y="0"/>
                          </a:lnTo>
                          <a:lnTo>
                            <a:pt x="40" y="0"/>
                          </a:lnTo>
                          <a:lnTo>
                            <a:pt x="79" y="0"/>
                          </a:lnTo>
                          <a:lnTo>
                            <a:pt x="107" y="4"/>
                          </a:lnTo>
                          <a:lnTo>
                            <a:pt x="119" y="35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40" bIns="32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3" name=""/>
                    <p:cNvSpPr/>
                    <p:nvPr/>
                  </p:nvSpPr>
                  <p:spPr>
                    <a:xfrm>
                      <a:off x="6652800" y="2733840"/>
                      <a:ext cx="83520" cy="90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5" h="149">
                          <a:moveTo>
                            <a:pt x="135" y="12"/>
                          </a:moveTo>
                          <a:lnTo>
                            <a:pt x="127" y="35"/>
                          </a:lnTo>
                          <a:lnTo>
                            <a:pt x="111" y="55"/>
                          </a:lnTo>
                          <a:lnTo>
                            <a:pt x="95" y="70"/>
                          </a:lnTo>
                          <a:lnTo>
                            <a:pt x="75" y="86"/>
                          </a:lnTo>
                          <a:lnTo>
                            <a:pt x="55" y="98"/>
                          </a:lnTo>
                          <a:lnTo>
                            <a:pt x="36" y="109"/>
                          </a:lnTo>
                          <a:lnTo>
                            <a:pt x="16" y="129"/>
                          </a:lnTo>
                          <a:lnTo>
                            <a:pt x="0" y="149"/>
                          </a:lnTo>
                          <a:lnTo>
                            <a:pt x="12" y="125"/>
                          </a:lnTo>
                          <a:lnTo>
                            <a:pt x="24" y="106"/>
                          </a:lnTo>
                          <a:lnTo>
                            <a:pt x="40" y="86"/>
                          </a:lnTo>
                          <a:lnTo>
                            <a:pt x="55" y="70"/>
                          </a:lnTo>
                          <a:lnTo>
                            <a:pt x="71" y="55"/>
                          </a:lnTo>
                          <a:lnTo>
                            <a:pt x="91" y="35"/>
                          </a:lnTo>
                          <a:lnTo>
                            <a:pt x="107" y="19"/>
                          </a:lnTo>
                          <a:lnTo>
                            <a:pt x="123" y="0"/>
                          </a:lnTo>
                          <a:lnTo>
                            <a:pt x="135" y="12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920" bIns="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4" name=""/>
                    <p:cNvSpPr/>
                    <p:nvPr/>
                  </p:nvSpPr>
                  <p:spPr>
                    <a:xfrm>
                      <a:off x="4722120" y="2750400"/>
                      <a:ext cx="56880" cy="52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86">
                          <a:moveTo>
                            <a:pt x="92" y="43"/>
                          </a:moveTo>
                          <a:lnTo>
                            <a:pt x="24" y="86"/>
                          </a:lnTo>
                          <a:lnTo>
                            <a:pt x="32" y="71"/>
                          </a:lnTo>
                          <a:lnTo>
                            <a:pt x="52" y="47"/>
                          </a:lnTo>
                          <a:lnTo>
                            <a:pt x="56" y="24"/>
                          </a:lnTo>
                          <a:lnTo>
                            <a:pt x="24" y="8"/>
                          </a:lnTo>
                          <a:lnTo>
                            <a:pt x="0" y="8"/>
                          </a:lnTo>
                          <a:lnTo>
                            <a:pt x="24" y="0"/>
                          </a:lnTo>
                          <a:lnTo>
                            <a:pt x="48" y="0"/>
                          </a:lnTo>
                          <a:lnTo>
                            <a:pt x="68" y="16"/>
                          </a:lnTo>
                          <a:lnTo>
                            <a:pt x="92" y="43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760" bIns="5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5" name=""/>
                    <p:cNvSpPr/>
                    <p:nvPr/>
                  </p:nvSpPr>
                  <p:spPr>
                    <a:xfrm>
                      <a:off x="4673160" y="2762640"/>
                      <a:ext cx="3456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" h="23">
                          <a:moveTo>
                            <a:pt x="0" y="23"/>
                          </a:moveTo>
                          <a:lnTo>
                            <a:pt x="32" y="0"/>
                          </a:lnTo>
                          <a:lnTo>
                            <a:pt x="56" y="0"/>
                          </a:lnTo>
                          <a:lnTo>
                            <a:pt x="0" y="23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6" name=""/>
                    <p:cNvSpPr/>
                    <p:nvPr/>
                  </p:nvSpPr>
                  <p:spPr>
                    <a:xfrm>
                      <a:off x="6171840" y="2762640"/>
                      <a:ext cx="39240" cy="4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4" h="78">
                          <a:moveTo>
                            <a:pt x="12" y="78"/>
                          </a:moveTo>
                          <a:lnTo>
                            <a:pt x="0" y="78"/>
                          </a:lnTo>
                          <a:lnTo>
                            <a:pt x="0" y="51"/>
                          </a:lnTo>
                          <a:lnTo>
                            <a:pt x="20" y="31"/>
                          </a:lnTo>
                          <a:lnTo>
                            <a:pt x="40" y="16"/>
                          </a:lnTo>
                          <a:lnTo>
                            <a:pt x="60" y="0"/>
                          </a:lnTo>
                          <a:lnTo>
                            <a:pt x="64" y="19"/>
                          </a:lnTo>
                          <a:lnTo>
                            <a:pt x="48" y="35"/>
                          </a:lnTo>
                          <a:lnTo>
                            <a:pt x="28" y="55"/>
                          </a:lnTo>
                          <a:lnTo>
                            <a:pt x="12" y="78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" bIns="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7" name=""/>
                    <p:cNvSpPr/>
                    <p:nvPr/>
                  </p:nvSpPr>
                  <p:spPr>
                    <a:xfrm>
                      <a:off x="7661160" y="2784240"/>
                      <a:ext cx="4356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1" h="78">
                          <a:moveTo>
                            <a:pt x="71" y="31"/>
                          </a:moveTo>
                          <a:lnTo>
                            <a:pt x="52" y="39"/>
                          </a:lnTo>
                          <a:lnTo>
                            <a:pt x="36" y="47"/>
                          </a:lnTo>
                          <a:lnTo>
                            <a:pt x="16" y="63"/>
                          </a:lnTo>
                          <a:lnTo>
                            <a:pt x="0" y="78"/>
                          </a:lnTo>
                          <a:lnTo>
                            <a:pt x="60" y="0"/>
                          </a:lnTo>
                          <a:lnTo>
                            <a:pt x="67" y="4"/>
                          </a:lnTo>
                          <a:lnTo>
                            <a:pt x="71" y="12"/>
                          </a:lnTo>
                          <a:lnTo>
                            <a:pt x="71" y="24"/>
                          </a:lnTo>
                          <a:lnTo>
                            <a:pt x="71" y="31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8" name=""/>
                    <p:cNvSpPr/>
                    <p:nvPr/>
                  </p:nvSpPr>
                  <p:spPr>
                    <a:xfrm>
                      <a:off x="5180760" y="2788920"/>
                      <a:ext cx="37080" cy="62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" h="102">
                          <a:moveTo>
                            <a:pt x="0" y="102"/>
                          </a:moveTo>
                          <a:lnTo>
                            <a:pt x="48" y="0"/>
                          </a:lnTo>
                          <a:lnTo>
                            <a:pt x="60" y="59"/>
                          </a:lnTo>
                          <a:lnTo>
                            <a:pt x="0" y="102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480" bIns="154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9" name=""/>
                    <p:cNvSpPr/>
                    <p:nvPr/>
                  </p:nvSpPr>
                  <p:spPr>
                    <a:xfrm>
                      <a:off x="5706000" y="2788920"/>
                      <a:ext cx="41400" cy="4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70">
                          <a:moveTo>
                            <a:pt x="0" y="70"/>
                          </a:moveTo>
                          <a:lnTo>
                            <a:pt x="43" y="0"/>
                          </a:lnTo>
                          <a:lnTo>
                            <a:pt x="67" y="23"/>
                          </a:lnTo>
                          <a:lnTo>
                            <a:pt x="0" y="7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20" bIns="-4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0" name=""/>
                    <p:cNvSpPr/>
                    <p:nvPr/>
                  </p:nvSpPr>
                  <p:spPr>
                    <a:xfrm>
                      <a:off x="6716880" y="2796120"/>
                      <a:ext cx="48600" cy="3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9" h="58">
                          <a:moveTo>
                            <a:pt x="0" y="58"/>
                          </a:moveTo>
                          <a:lnTo>
                            <a:pt x="67" y="0"/>
                          </a:lnTo>
                          <a:lnTo>
                            <a:pt x="79" y="0"/>
                          </a:lnTo>
                          <a:lnTo>
                            <a:pt x="0" y="58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520" bIns="-11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1" name=""/>
                    <p:cNvSpPr/>
                    <p:nvPr/>
                  </p:nvSpPr>
                  <p:spPr>
                    <a:xfrm>
                      <a:off x="7214760" y="2817720"/>
                      <a:ext cx="2196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" h="55">
                          <a:moveTo>
                            <a:pt x="36" y="35"/>
                          </a:moveTo>
                          <a:lnTo>
                            <a:pt x="24" y="35"/>
                          </a:lnTo>
                          <a:lnTo>
                            <a:pt x="16" y="39"/>
                          </a:lnTo>
                          <a:lnTo>
                            <a:pt x="8" y="47"/>
                          </a:lnTo>
                          <a:lnTo>
                            <a:pt x="0" y="55"/>
                          </a:lnTo>
                          <a:lnTo>
                            <a:pt x="24" y="0"/>
                          </a:lnTo>
                          <a:lnTo>
                            <a:pt x="32" y="4"/>
                          </a:lnTo>
                          <a:lnTo>
                            <a:pt x="36" y="15"/>
                          </a:lnTo>
                          <a:lnTo>
                            <a:pt x="36" y="23"/>
                          </a:lnTo>
                          <a:lnTo>
                            <a:pt x="36" y="35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2" name=""/>
                    <p:cNvSpPr/>
                    <p:nvPr/>
                  </p:nvSpPr>
                  <p:spPr>
                    <a:xfrm>
                      <a:off x="5521680" y="2831760"/>
                      <a:ext cx="4176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" h="55">
                          <a:moveTo>
                            <a:pt x="0" y="55"/>
                          </a:moveTo>
                          <a:lnTo>
                            <a:pt x="68" y="0"/>
                          </a:lnTo>
                          <a:lnTo>
                            <a:pt x="36" y="55"/>
                          </a:lnTo>
                          <a:lnTo>
                            <a:pt x="0" y="55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3" name=""/>
                    <p:cNvSpPr/>
                    <p:nvPr/>
                  </p:nvSpPr>
                  <p:spPr>
                    <a:xfrm>
                      <a:off x="6770520" y="2846520"/>
                      <a:ext cx="24480" cy="2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" h="43">
                          <a:moveTo>
                            <a:pt x="36" y="0"/>
                          </a:moveTo>
                          <a:lnTo>
                            <a:pt x="40" y="15"/>
                          </a:lnTo>
                          <a:lnTo>
                            <a:pt x="32" y="27"/>
                          </a:lnTo>
                          <a:lnTo>
                            <a:pt x="16" y="35"/>
                          </a:lnTo>
                          <a:lnTo>
                            <a:pt x="4" y="43"/>
                          </a:lnTo>
                          <a:lnTo>
                            <a:pt x="0" y="35"/>
                          </a:lnTo>
                          <a:lnTo>
                            <a:pt x="12" y="19"/>
                          </a:lnTo>
                          <a:lnTo>
                            <a:pt x="28" y="8"/>
                          </a:lnTo>
                          <a:lnTo>
                            <a:pt x="36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880" bIns="-20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4" name=""/>
                    <p:cNvSpPr/>
                    <p:nvPr/>
                  </p:nvSpPr>
                  <p:spPr>
                    <a:xfrm>
                      <a:off x="5706000" y="2858040"/>
                      <a:ext cx="26640" cy="2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" h="35">
                          <a:moveTo>
                            <a:pt x="0" y="24"/>
                          </a:moveTo>
                          <a:lnTo>
                            <a:pt x="36" y="0"/>
                          </a:lnTo>
                          <a:lnTo>
                            <a:pt x="43" y="35"/>
                          </a:lnTo>
                          <a:lnTo>
                            <a:pt x="0" y="24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5" name=""/>
                    <p:cNvSpPr/>
                    <p:nvPr/>
                  </p:nvSpPr>
                  <p:spPr>
                    <a:xfrm>
                      <a:off x="6665400" y="2879280"/>
                      <a:ext cx="4356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1" h="59">
                          <a:moveTo>
                            <a:pt x="0" y="47"/>
                          </a:moveTo>
                          <a:lnTo>
                            <a:pt x="71" y="0"/>
                          </a:lnTo>
                          <a:lnTo>
                            <a:pt x="51" y="12"/>
                          </a:lnTo>
                          <a:lnTo>
                            <a:pt x="43" y="40"/>
                          </a:lnTo>
                          <a:lnTo>
                            <a:pt x="31" y="59"/>
                          </a:lnTo>
                          <a:lnTo>
                            <a:pt x="0" y="47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6" name=""/>
                    <p:cNvSpPr/>
                    <p:nvPr/>
                  </p:nvSpPr>
                  <p:spPr>
                    <a:xfrm>
                      <a:off x="7683480" y="2879280"/>
                      <a:ext cx="48600" cy="40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9" h="67">
                          <a:moveTo>
                            <a:pt x="12" y="67"/>
                          </a:moveTo>
                          <a:lnTo>
                            <a:pt x="0" y="55"/>
                          </a:lnTo>
                          <a:lnTo>
                            <a:pt x="79" y="0"/>
                          </a:lnTo>
                          <a:lnTo>
                            <a:pt x="59" y="16"/>
                          </a:lnTo>
                          <a:lnTo>
                            <a:pt x="47" y="40"/>
                          </a:lnTo>
                          <a:lnTo>
                            <a:pt x="31" y="55"/>
                          </a:lnTo>
                          <a:lnTo>
                            <a:pt x="12" y="67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120" bIns="-6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7" name=""/>
                    <p:cNvSpPr/>
                    <p:nvPr/>
                  </p:nvSpPr>
                  <p:spPr>
                    <a:xfrm>
                      <a:off x="7155720" y="2894040"/>
                      <a:ext cx="58680" cy="8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5" h="145">
                          <a:moveTo>
                            <a:pt x="4" y="145"/>
                          </a:moveTo>
                          <a:lnTo>
                            <a:pt x="0" y="121"/>
                          </a:lnTo>
                          <a:lnTo>
                            <a:pt x="0" y="102"/>
                          </a:lnTo>
                          <a:lnTo>
                            <a:pt x="8" y="82"/>
                          </a:lnTo>
                          <a:lnTo>
                            <a:pt x="24" y="59"/>
                          </a:lnTo>
                          <a:lnTo>
                            <a:pt x="40" y="43"/>
                          </a:lnTo>
                          <a:lnTo>
                            <a:pt x="59" y="27"/>
                          </a:lnTo>
                          <a:lnTo>
                            <a:pt x="79" y="12"/>
                          </a:lnTo>
                          <a:lnTo>
                            <a:pt x="95" y="0"/>
                          </a:lnTo>
                          <a:lnTo>
                            <a:pt x="4" y="145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1400" bIns="41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8" name=""/>
                    <p:cNvSpPr/>
                    <p:nvPr/>
                  </p:nvSpPr>
                  <p:spPr>
                    <a:xfrm>
                      <a:off x="5136840" y="2901240"/>
                      <a:ext cx="43560" cy="61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1" h="101">
                          <a:moveTo>
                            <a:pt x="4" y="101"/>
                          </a:moveTo>
                          <a:lnTo>
                            <a:pt x="0" y="62"/>
                          </a:lnTo>
                          <a:lnTo>
                            <a:pt x="19" y="43"/>
                          </a:lnTo>
                          <a:lnTo>
                            <a:pt x="51" y="23"/>
                          </a:lnTo>
                          <a:lnTo>
                            <a:pt x="71" y="0"/>
                          </a:lnTo>
                          <a:lnTo>
                            <a:pt x="4" y="101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4760" bIns="14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69" name=""/>
                    <p:cNvSpPr/>
                    <p:nvPr/>
                  </p:nvSpPr>
                  <p:spPr>
                    <a:xfrm>
                      <a:off x="6765480" y="2901240"/>
                      <a:ext cx="41760" cy="1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" h="31">
                          <a:moveTo>
                            <a:pt x="68" y="19"/>
                          </a:moveTo>
                          <a:lnTo>
                            <a:pt x="60" y="27"/>
                          </a:lnTo>
                          <a:lnTo>
                            <a:pt x="40" y="31"/>
                          </a:lnTo>
                          <a:lnTo>
                            <a:pt x="20" y="31"/>
                          </a:lnTo>
                          <a:lnTo>
                            <a:pt x="0" y="31"/>
                          </a:lnTo>
                          <a:lnTo>
                            <a:pt x="20" y="23"/>
                          </a:lnTo>
                          <a:lnTo>
                            <a:pt x="36" y="7"/>
                          </a:lnTo>
                          <a:lnTo>
                            <a:pt x="52" y="0"/>
                          </a:lnTo>
                          <a:lnTo>
                            <a:pt x="68" y="19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080" bIns="-28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0" name=""/>
                    <p:cNvSpPr/>
                    <p:nvPr/>
                  </p:nvSpPr>
                  <p:spPr>
                    <a:xfrm>
                      <a:off x="6223680" y="3010680"/>
                      <a:ext cx="19080" cy="19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" h="32">
                          <a:moveTo>
                            <a:pt x="31" y="24"/>
                          </a:moveTo>
                          <a:lnTo>
                            <a:pt x="27" y="32"/>
                          </a:lnTo>
                          <a:lnTo>
                            <a:pt x="16" y="32"/>
                          </a:lnTo>
                          <a:lnTo>
                            <a:pt x="8" y="32"/>
                          </a:lnTo>
                          <a:lnTo>
                            <a:pt x="0" y="32"/>
                          </a:lnTo>
                          <a:lnTo>
                            <a:pt x="20" y="0"/>
                          </a:lnTo>
                          <a:lnTo>
                            <a:pt x="24" y="4"/>
                          </a:lnTo>
                          <a:lnTo>
                            <a:pt x="31" y="8"/>
                          </a:lnTo>
                          <a:lnTo>
                            <a:pt x="31" y="16"/>
                          </a:lnTo>
                          <a:lnTo>
                            <a:pt x="31" y="24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1" name=""/>
                    <p:cNvSpPr/>
                    <p:nvPr/>
                  </p:nvSpPr>
                  <p:spPr>
                    <a:xfrm>
                      <a:off x="5136840" y="3017880"/>
                      <a:ext cx="31320" cy="40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" h="67">
                          <a:moveTo>
                            <a:pt x="4" y="67"/>
                          </a:moveTo>
                          <a:lnTo>
                            <a:pt x="0" y="51"/>
                          </a:lnTo>
                          <a:lnTo>
                            <a:pt x="12" y="31"/>
                          </a:lnTo>
                          <a:lnTo>
                            <a:pt x="31" y="16"/>
                          </a:lnTo>
                          <a:lnTo>
                            <a:pt x="51" y="0"/>
                          </a:lnTo>
                          <a:lnTo>
                            <a:pt x="43" y="16"/>
                          </a:lnTo>
                          <a:lnTo>
                            <a:pt x="35" y="31"/>
                          </a:lnTo>
                          <a:lnTo>
                            <a:pt x="23" y="51"/>
                          </a:lnTo>
                          <a:lnTo>
                            <a:pt x="4" y="67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120" bIns="-6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2" name=""/>
                    <p:cNvSpPr/>
                    <p:nvPr/>
                  </p:nvSpPr>
                  <p:spPr>
                    <a:xfrm>
                      <a:off x="7146000" y="3036960"/>
                      <a:ext cx="194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59">
                          <a:moveTo>
                            <a:pt x="0" y="59"/>
                          </a:moveTo>
                          <a:lnTo>
                            <a:pt x="0" y="36"/>
                          </a:lnTo>
                          <a:lnTo>
                            <a:pt x="4" y="20"/>
                          </a:lnTo>
                          <a:lnTo>
                            <a:pt x="16" y="8"/>
                          </a:lnTo>
                          <a:lnTo>
                            <a:pt x="32" y="0"/>
                          </a:lnTo>
                          <a:lnTo>
                            <a:pt x="28" y="16"/>
                          </a:lnTo>
                          <a:lnTo>
                            <a:pt x="16" y="32"/>
                          </a:lnTo>
                          <a:lnTo>
                            <a:pt x="8" y="43"/>
                          </a:lnTo>
                          <a:lnTo>
                            <a:pt x="0" y="59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3" name=""/>
                    <p:cNvSpPr/>
                    <p:nvPr/>
                  </p:nvSpPr>
                  <p:spPr>
                    <a:xfrm>
                      <a:off x="5132160" y="3099240"/>
                      <a:ext cx="56160" cy="90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1" h="149">
                          <a:moveTo>
                            <a:pt x="12" y="149"/>
                          </a:moveTo>
                          <a:lnTo>
                            <a:pt x="0" y="125"/>
                          </a:lnTo>
                          <a:lnTo>
                            <a:pt x="0" y="106"/>
                          </a:lnTo>
                          <a:lnTo>
                            <a:pt x="8" y="86"/>
                          </a:lnTo>
                          <a:lnTo>
                            <a:pt x="23" y="67"/>
                          </a:lnTo>
                          <a:lnTo>
                            <a:pt x="43" y="47"/>
                          </a:lnTo>
                          <a:lnTo>
                            <a:pt x="63" y="31"/>
                          </a:lnTo>
                          <a:lnTo>
                            <a:pt x="79" y="16"/>
                          </a:lnTo>
                          <a:lnTo>
                            <a:pt x="91" y="0"/>
                          </a:lnTo>
                          <a:lnTo>
                            <a:pt x="12" y="149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920" bIns="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4" name=""/>
                    <p:cNvSpPr/>
                    <p:nvPr/>
                  </p:nvSpPr>
                  <p:spPr>
                    <a:xfrm>
                      <a:off x="7202160" y="3099240"/>
                      <a:ext cx="2700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4" h="59">
                          <a:moveTo>
                            <a:pt x="44" y="47"/>
                          </a:moveTo>
                          <a:lnTo>
                            <a:pt x="0" y="59"/>
                          </a:lnTo>
                          <a:lnTo>
                            <a:pt x="32" y="0"/>
                          </a:lnTo>
                          <a:lnTo>
                            <a:pt x="40" y="8"/>
                          </a:lnTo>
                          <a:lnTo>
                            <a:pt x="44" y="20"/>
                          </a:lnTo>
                          <a:lnTo>
                            <a:pt x="44" y="35"/>
                          </a:lnTo>
                          <a:lnTo>
                            <a:pt x="44" y="47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5" name=""/>
                    <p:cNvSpPr/>
                    <p:nvPr/>
                  </p:nvSpPr>
                  <p:spPr>
                    <a:xfrm>
                      <a:off x="4374000" y="3135240"/>
                      <a:ext cx="3625560" cy="122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862" h="2001">
                          <a:moveTo>
                            <a:pt x="2487" y="43"/>
                          </a:moveTo>
                          <a:lnTo>
                            <a:pt x="2475" y="86"/>
                          </a:lnTo>
                          <a:lnTo>
                            <a:pt x="2447" y="121"/>
                          </a:lnTo>
                          <a:lnTo>
                            <a:pt x="2420" y="152"/>
                          </a:lnTo>
                          <a:lnTo>
                            <a:pt x="2396" y="191"/>
                          </a:lnTo>
                          <a:lnTo>
                            <a:pt x="2376" y="226"/>
                          </a:lnTo>
                          <a:lnTo>
                            <a:pt x="2348" y="262"/>
                          </a:lnTo>
                          <a:lnTo>
                            <a:pt x="2320" y="301"/>
                          </a:lnTo>
                          <a:lnTo>
                            <a:pt x="2293" y="336"/>
                          </a:lnTo>
                          <a:lnTo>
                            <a:pt x="2265" y="371"/>
                          </a:lnTo>
                          <a:lnTo>
                            <a:pt x="2237" y="406"/>
                          </a:lnTo>
                          <a:lnTo>
                            <a:pt x="2209" y="442"/>
                          </a:lnTo>
                          <a:lnTo>
                            <a:pt x="2190" y="473"/>
                          </a:lnTo>
                          <a:lnTo>
                            <a:pt x="2245" y="485"/>
                          </a:lnTo>
                          <a:lnTo>
                            <a:pt x="2297" y="492"/>
                          </a:lnTo>
                          <a:lnTo>
                            <a:pt x="2352" y="496"/>
                          </a:lnTo>
                          <a:lnTo>
                            <a:pt x="2408" y="492"/>
                          </a:lnTo>
                          <a:lnTo>
                            <a:pt x="2459" y="492"/>
                          </a:lnTo>
                          <a:lnTo>
                            <a:pt x="2515" y="496"/>
                          </a:lnTo>
                          <a:lnTo>
                            <a:pt x="2566" y="504"/>
                          </a:lnTo>
                          <a:lnTo>
                            <a:pt x="2622" y="516"/>
                          </a:lnTo>
                          <a:lnTo>
                            <a:pt x="2582" y="567"/>
                          </a:lnTo>
                          <a:lnTo>
                            <a:pt x="2539" y="610"/>
                          </a:lnTo>
                          <a:lnTo>
                            <a:pt x="2495" y="649"/>
                          </a:lnTo>
                          <a:lnTo>
                            <a:pt x="2447" y="688"/>
                          </a:lnTo>
                          <a:lnTo>
                            <a:pt x="2396" y="727"/>
                          </a:lnTo>
                          <a:lnTo>
                            <a:pt x="2348" y="770"/>
                          </a:lnTo>
                          <a:lnTo>
                            <a:pt x="2301" y="817"/>
                          </a:lnTo>
                          <a:lnTo>
                            <a:pt x="2257" y="875"/>
                          </a:lnTo>
                          <a:lnTo>
                            <a:pt x="2301" y="899"/>
                          </a:lnTo>
                          <a:lnTo>
                            <a:pt x="2388" y="895"/>
                          </a:lnTo>
                          <a:lnTo>
                            <a:pt x="2471" y="895"/>
                          </a:lnTo>
                          <a:lnTo>
                            <a:pt x="2558" y="895"/>
                          </a:lnTo>
                          <a:lnTo>
                            <a:pt x="2646" y="895"/>
                          </a:lnTo>
                          <a:lnTo>
                            <a:pt x="2733" y="899"/>
                          </a:lnTo>
                          <a:lnTo>
                            <a:pt x="2816" y="899"/>
                          </a:lnTo>
                          <a:lnTo>
                            <a:pt x="2903" y="903"/>
                          </a:lnTo>
                          <a:lnTo>
                            <a:pt x="2991" y="907"/>
                          </a:lnTo>
                          <a:lnTo>
                            <a:pt x="3078" y="911"/>
                          </a:lnTo>
                          <a:lnTo>
                            <a:pt x="3161" y="911"/>
                          </a:lnTo>
                          <a:lnTo>
                            <a:pt x="3249" y="915"/>
                          </a:lnTo>
                          <a:lnTo>
                            <a:pt x="3336" y="915"/>
                          </a:lnTo>
                          <a:lnTo>
                            <a:pt x="3423" y="915"/>
                          </a:lnTo>
                          <a:lnTo>
                            <a:pt x="3510" y="911"/>
                          </a:lnTo>
                          <a:lnTo>
                            <a:pt x="3598" y="907"/>
                          </a:lnTo>
                          <a:lnTo>
                            <a:pt x="3685" y="899"/>
                          </a:lnTo>
                          <a:lnTo>
                            <a:pt x="3649" y="848"/>
                          </a:lnTo>
                          <a:lnTo>
                            <a:pt x="3606" y="801"/>
                          </a:lnTo>
                          <a:lnTo>
                            <a:pt x="3558" y="754"/>
                          </a:lnTo>
                          <a:lnTo>
                            <a:pt x="3510" y="711"/>
                          </a:lnTo>
                          <a:lnTo>
                            <a:pt x="3459" y="668"/>
                          </a:lnTo>
                          <a:lnTo>
                            <a:pt x="3411" y="621"/>
                          </a:lnTo>
                          <a:lnTo>
                            <a:pt x="3368" y="574"/>
                          </a:lnTo>
                          <a:lnTo>
                            <a:pt x="3328" y="528"/>
                          </a:lnTo>
                          <a:lnTo>
                            <a:pt x="3375" y="524"/>
                          </a:lnTo>
                          <a:lnTo>
                            <a:pt x="3427" y="524"/>
                          </a:lnTo>
                          <a:lnTo>
                            <a:pt x="3479" y="531"/>
                          </a:lnTo>
                          <a:lnTo>
                            <a:pt x="3530" y="535"/>
                          </a:lnTo>
                          <a:lnTo>
                            <a:pt x="3582" y="539"/>
                          </a:lnTo>
                          <a:lnTo>
                            <a:pt x="3633" y="539"/>
                          </a:lnTo>
                          <a:lnTo>
                            <a:pt x="3681" y="528"/>
                          </a:lnTo>
                          <a:lnTo>
                            <a:pt x="3728" y="508"/>
                          </a:lnTo>
                          <a:lnTo>
                            <a:pt x="3705" y="445"/>
                          </a:lnTo>
                          <a:lnTo>
                            <a:pt x="3673" y="383"/>
                          </a:lnTo>
                          <a:lnTo>
                            <a:pt x="3637" y="324"/>
                          </a:lnTo>
                          <a:lnTo>
                            <a:pt x="3598" y="266"/>
                          </a:lnTo>
                          <a:lnTo>
                            <a:pt x="3554" y="211"/>
                          </a:lnTo>
                          <a:lnTo>
                            <a:pt x="3502" y="156"/>
                          </a:lnTo>
                          <a:lnTo>
                            <a:pt x="3451" y="109"/>
                          </a:lnTo>
                          <a:lnTo>
                            <a:pt x="3395" y="66"/>
                          </a:lnTo>
                          <a:lnTo>
                            <a:pt x="3395" y="19"/>
                          </a:lnTo>
                          <a:lnTo>
                            <a:pt x="3447" y="31"/>
                          </a:lnTo>
                          <a:lnTo>
                            <a:pt x="3494" y="43"/>
                          </a:lnTo>
                          <a:lnTo>
                            <a:pt x="3546" y="47"/>
                          </a:lnTo>
                          <a:lnTo>
                            <a:pt x="3594" y="51"/>
                          </a:lnTo>
                          <a:lnTo>
                            <a:pt x="3637" y="54"/>
                          </a:lnTo>
                          <a:lnTo>
                            <a:pt x="3685" y="54"/>
                          </a:lnTo>
                          <a:lnTo>
                            <a:pt x="3732" y="54"/>
                          </a:lnTo>
                          <a:lnTo>
                            <a:pt x="3776" y="54"/>
                          </a:lnTo>
                          <a:lnTo>
                            <a:pt x="3824" y="54"/>
                          </a:lnTo>
                          <a:lnTo>
                            <a:pt x="3867" y="51"/>
                          </a:lnTo>
                          <a:lnTo>
                            <a:pt x="3915" y="51"/>
                          </a:lnTo>
                          <a:lnTo>
                            <a:pt x="3959" y="51"/>
                          </a:lnTo>
                          <a:lnTo>
                            <a:pt x="4006" y="51"/>
                          </a:lnTo>
                          <a:lnTo>
                            <a:pt x="4054" y="54"/>
                          </a:lnTo>
                          <a:lnTo>
                            <a:pt x="4101" y="58"/>
                          </a:lnTo>
                          <a:lnTo>
                            <a:pt x="4149" y="66"/>
                          </a:lnTo>
                          <a:lnTo>
                            <a:pt x="4149" y="121"/>
                          </a:lnTo>
                          <a:lnTo>
                            <a:pt x="3820" y="508"/>
                          </a:lnTo>
                          <a:lnTo>
                            <a:pt x="3863" y="516"/>
                          </a:lnTo>
                          <a:lnTo>
                            <a:pt x="3907" y="524"/>
                          </a:lnTo>
                          <a:lnTo>
                            <a:pt x="3951" y="531"/>
                          </a:lnTo>
                          <a:lnTo>
                            <a:pt x="3994" y="531"/>
                          </a:lnTo>
                          <a:lnTo>
                            <a:pt x="4038" y="531"/>
                          </a:lnTo>
                          <a:lnTo>
                            <a:pt x="4085" y="531"/>
                          </a:lnTo>
                          <a:lnTo>
                            <a:pt x="4129" y="524"/>
                          </a:lnTo>
                          <a:lnTo>
                            <a:pt x="4173" y="516"/>
                          </a:lnTo>
                          <a:lnTo>
                            <a:pt x="4193" y="539"/>
                          </a:lnTo>
                          <a:lnTo>
                            <a:pt x="4153" y="586"/>
                          </a:lnTo>
                          <a:lnTo>
                            <a:pt x="4101" y="633"/>
                          </a:lnTo>
                          <a:lnTo>
                            <a:pt x="4050" y="676"/>
                          </a:lnTo>
                          <a:lnTo>
                            <a:pt x="3994" y="715"/>
                          </a:lnTo>
                          <a:lnTo>
                            <a:pt x="3939" y="758"/>
                          </a:lnTo>
                          <a:lnTo>
                            <a:pt x="3891" y="801"/>
                          </a:lnTo>
                          <a:lnTo>
                            <a:pt x="3843" y="848"/>
                          </a:lnTo>
                          <a:lnTo>
                            <a:pt x="3808" y="899"/>
                          </a:lnTo>
                          <a:lnTo>
                            <a:pt x="3867" y="903"/>
                          </a:lnTo>
                          <a:lnTo>
                            <a:pt x="3927" y="907"/>
                          </a:lnTo>
                          <a:lnTo>
                            <a:pt x="3990" y="911"/>
                          </a:lnTo>
                          <a:lnTo>
                            <a:pt x="4050" y="915"/>
                          </a:lnTo>
                          <a:lnTo>
                            <a:pt x="4113" y="918"/>
                          </a:lnTo>
                          <a:lnTo>
                            <a:pt x="4177" y="922"/>
                          </a:lnTo>
                          <a:lnTo>
                            <a:pt x="4240" y="922"/>
                          </a:lnTo>
                          <a:lnTo>
                            <a:pt x="4304" y="922"/>
                          </a:lnTo>
                          <a:lnTo>
                            <a:pt x="4363" y="922"/>
                          </a:lnTo>
                          <a:lnTo>
                            <a:pt x="4427" y="922"/>
                          </a:lnTo>
                          <a:lnTo>
                            <a:pt x="4490" y="918"/>
                          </a:lnTo>
                          <a:lnTo>
                            <a:pt x="4550" y="915"/>
                          </a:lnTo>
                          <a:lnTo>
                            <a:pt x="4613" y="911"/>
                          </a:lnTo>
                          <a:lnTo>
                            <a:pt x="4672" y="903"/>
                          </a:lnTo>
                          <a:lnTo>
                            <a:pt x="4732" y="895"/>
                          </a:lnTo>
                          <a:lnTo>
                            <a:pt x="4787" y="887"/>
                          </a:lnTo>
                          <a:lnTo>
                            <a:pt x="4787" y="907"/>
                          </a:lnTo>
                          <a:lnTo>
                            <a:pt x="4784" y="907"/>
                          </a:lnTo>
                          <a:lnTo>
                            <a:pt x="4780" y="907"/>
                          </a:lnTo>
                          <a:lnTo>
                            <a:pt x="4772" y="915"/>
                          </a:lnTo>
                          <a:lnTo>
                            <a:pt x="4768" y="918"/>
                          </a:lnTo>
                          <a:lnTo>
                            <a:pt x="4791" y="934"/>
                          </a:lnTo>
                          <a:lnTo>
                            <a:pt x="4815" y="934"/>
                          </a:lnTo>
                          <a:lnTo>
                            <a:pt x="4839" y="930"/>
                          </a:lnTo>
                          <a:lnTo>
                            <a:pt x="4863" y="918"/>
                          </a:lnTo>
                          <a:lnTo>
                            <a:pt x="4883" y="911"/>
                          </a:lnTo>
                          <a:lnTo>
                            <a:pt x="4903" y="911"/>
                          </a:lnTo>
                          <a:lnTo>
                            <a:pt x="4922" y="918"/>
                          </a:lnTo>
                          <a:lnTo>
                            <a:pt x="4938" y="942"/>
                          </a:lnTo>
                          <a:lnTo>
                            <a:pt x="5188" y="942"/>
                          </a:lnTo>
                          <a:lnTo>
                            <a:pt x="5176" y="911"/>
                          </a:lnTo>
                          <a:lnTo>
                            <a:pt x="5164" y="879"/>
                          </a:lnTo>
                          <a:lnTo>
                            <a:pt x="5148" y="848"/>
                          </a:lnTo>
                          <a:lnTo>
                            <a:pt x="5129" y="817"/>
                          </a:lnTo>
                          <a:lnTo>
                            <a:pt x="5105" y="789"/>
                          </a:lnTo>
                          <a:lnTo>
                            <a:pt x="5077" y="762"/>
                          </a:lnTo>
                          <a:lnTo>
                            <a:pt x="5049" y="739"/>
                          </a:lnTo>
                          <a:lnTo>
                            <a:pt x="5018" y="715"/>
                          </a:lnTo>
                          <a:lnTo>
                            <a:pt x="5006" y="727"/>
                          </a:lnTo>
                          <a:lnTo>
                            <a:pt x="4994" y="703"/>
                          </a:lnTo>
                          <a:lnTo>
                            <a:pt x="4978" y="684"/>
                          </a:lnTo>
                          <a:lnTo>
                            <a:pt x="4954" y="668"/>
                          </a:lnTo>
                          <a:lnTo>
                            <a:pt x="4934" y="653"/>
                          </a:lnTo>
                          <a:lnTo>
                            <a:pt x="4910" y="637"/>
                          </a:lnTo>
                          <a:lnTo>
                            <a:pt x="4895" y="617"/>
                          </a:lnTo>
                          <a:lnTo>
                            <a:pt x="4887" y="594"/>
                          </a:lnTo>
                          <a:lnTo>
                            <a:pt x="4891" y="563"/>
                          </a:lnTo>
                          <a:lnTo>
                            <a:pt x="4934" y="578"/>
                          </a:lnTo>
                          <a:lnTo>
                            <a:pt x="4982" y="586"/>
                          </a:lnTo>
                          <a:lnTo>
                            <a:pt x="5025" y="590"/>
                          </a:lnTo>
                          <a:lnTo>
                            <a:pt x="5073" y="590"/>
                          </a:lnTo>
                          <a:lnTo>
                            <a:pt x="5117" y="586"/>
                          </a:lnTo>
                          <a:lnTo>
                            <a:pt x="5164" y="582"/>
                          </a:lnTo>
                          <a:lnTo>
                            <a:pt x="5208" y="578"/>
                          </a:lnTo>
                          <a:lnTo>
                            <a:pt x="5248" y="574"/>
                          </a:lnTo>
                          <a:lnTo>
                            <a:pt x="5208" y="512"/>
                          </a:lnTo>
                          <a:lnTo>
                            <a:pt x="5168" y="449"/>
                          </a:lnTo>
                          <a:lnTo>
                            <a:pt x="5133" y="391"/>
                          </a:lnTo>
                          <a:lnTo>
                            <a:pt x="5093" y="328"/>
                          </a:lnTo>
                          <a:lnTo>
                            <a:pt x="5049" y="269"/>
                          </a:lnTo>
                          <a:lnTo>
                            <a:pt x="5002" y="215"/>
                          </a:lnTo>
                          <a:lnTo>
                            <a:pt x="4950" y="164"/>
                          </a:lnTo>
                          <a:lnTo>
                            <a:pt x="4891" y="113"/>
                          </a:lnTo>
                          <a:lnTo>
                            <a:pt x="4891" y="66"/>
                          </a:lnTo>
                          <a:lnTo>
                            <a:pt x="4922" y="70"/>
                          </a:lnTo>
                          <a:lnTo>
                            <a:pt x="4954" y="78"/>
                          </a:lnTo>
                          <a:lnTo>
                            <a:pt x="4994" y="82"/>
                          </a:lnTo>
                          <a:lnTo>
                            <a:pt x="5033" y="86"/>
                          </a:lnTo>
                          <a:lnTo>
                            <a:pt x="5073" y="90"/>
                          </a:lnTo>
                          <a:lnTo>
                            <a:pt x="5113" y="90"/>
                          </a:lnTo>
                          <a:lnTo>
                            <a:pt x="5148" y="86"/>
                          </a:lnTo>
                          <a:lnTo>
                            <a:pt x="5180" y="78"/>
                          </a:lnTo>
                          <a:lnTo>
                            <a:pt x="5180" y="90"/>
                          </a:lnTo>
                          <a:lnTo>
                            <a:pt x="5589" y="113"/>
                          </a:lnTo>
                          <a:lnTo>
                            <a:pt x="5557" y="164"/>
                          </a:lnTo>
                          <a:lnTo>
                            <a:pt x="5525" y="215"/>
                          </a:lnTo>
                          <a:lnTo>
                            <a:pt x="5486" y="266"/>
                          </a:lnTo>
                          <a:lnTo>
                            <a:pt x="5446" y="320"/>
                          </a:lnTo>
                          <a:lnTo>
                            <a:pt x="5410" y="375"/>
                          </a:lnTo>
                          <a:lnTo>
                            <a:pt x="5375" y="430"/>
                          </a:lnTo>
                          <a:lnTo>
                            <a:pt x="5347" y="488"/>
                          </a:lnTo>
                          <a:lnTo>
                            <a:pt x="5327" y="551"/>
                          </a:lnTo>
                          <a:lnTo>
                            <a:pt x="5371" y="555"/>
                          </a:lnTo>
                          <a:lnTo>
                            <a:pt x="5414" y="563"/>
                          </a:lnTo>
                          <a:lnTo>
                            <a:pt x="5462" y="571"/>
                          </a:lnTo>
                          <a:lnTo>
                            <a:pt x="5509" y="578"/>
                          </a:lnTo>
                          <a:lnTo>
                            <a:pt x="5561" y="582"/>
                          </a:lnTo>
                          <a:lnTo>
                            <a:pt x="5609" y="582"/>
                          </a:lnTo>
                          <a:lnTo>
                            <a:pt x="5656" y="574"/>
                          </a:lnTo>
                          <a:lnTo>
                            <a:pt x="5704" y="563"/>
                          </a:lnTo>
                          <a:lnTo>
                            <a:pt x="5728" y="610"/>
                          </a:lnTo>
                          <a:lnTo>
                            <a:pt x="5688" y="653"/>
                          </a:lnTo>
                          <a:lnTo>
                            <a:pt x="5644" y="692"/>
                          </a:lnTo>
                          <a:lnTo>
                            <a:pt x="5597" y="731"/>
                          </a:lnTo>
                          <a:lnTo>
                            <a:pt x="5553" y="770"/>
                          </a:lnTo>
                          <a:lnTo>
                            <a:pt x="5509" y="809"/>
                          </a:lnTo>
                          <a:lnTo>
                            <a:pt x="5470" y="852"/>
                          </a:lnTo>
                          <a:lnTo>
                            <a:pt x="5434" y="899"/>
                          </a:lnTo>
                          <a:lnTo>
                            <a:pt x="5406" y="954"/>
                          </a:lnTo>
                          <a:lnTo>
                            <a:pt x="5454" y="965"/>
                          </a:lnTo>
                          <a:lnTo>
                            <a:pt x="5513" y="965"/>
                          </a:lnTo>
                          <a:lnTo>
                            <a:pt x="5581" y="961"/>
                          </a:lnTo>
                          <a:lnTo>
                            <a:pt x="5652" y="958"/>
                          </a:lnTo>
                          <a:lnTo>
                            <a:pt x="5716" y="961"/>
                          </a:lnTo>
                          <a:lnTo>
                            <a:pt x="5767" y="977"/>
                          </a:lnTo>
                          <a:lnTo>
                            <a:pt x="5807" y="1020"/>
                          </a:lnTo>
                          <a:lnTo>
                            <a:pt x="5819" y="1090"/>
                          </a:lnTo>
                          <a:lnTo>
                            <a:pt x="5819" y="1110"/>
                          </a:lnTo>
                          <a:lnTo>
                            <a:pt x="5819" y="1133"/>
                          </a:lnTo>
                          <a:lnTo>
                            <a:pt x="5815" y="1153"/>
                          </a:lnTo>
                          <a:lnTo>
                            <a:pt x="5795" y="1169"/>
                          </a:lnTo>
                          <a:lnTo>
                            <a:pt x="5763" y="1157"/>
                          </a:lnTo>
                          <a:lnTo>
                            <a:pt x="5755" y="1165"/>
                          </a:lnTo>
                          <a:lnTo>
                            <a:pt x="5751" y="1176"/>
                          </a:lnTo>
                          <a:lnTo>
                            <a:pt x="5751" y="1188"/>
                          </a:lnTo>
                          <a:lnTo>
                            <a:pt x="5751" y="1200"/>
                          </a:lnTo>
                          <a:lnTo>
                            <a:pt x="5739" y="1200"/>
                          </a:lnTo>
                          <a:lnTo>
                            <a:pt x="5731" y="1208"/>
                          </a:lnTo>
                          <a:lnTo>
                            <a:pt x="5724" y="1216"/>
                          </a:lnTo>
                          <a:lnTo>
                            <a:pt x="5716" y="1223"/>
                          </a:lnTo>
                          <a:lnTo>
                            <a:pt x="5375" y="1200"/>
                          </a:lnTo>
                          <a:lnTo>
                            <a:pt x="5418" y="1266"/>
                          </a:lnTo>
                          <a:lnTo>
                            <a:pt x="5474" y="1329"/>
                          </a:lnTo>
                          <a:lnTo>
                            <a:pt x="5529" y="1388"/>
                          </a:lnTo>
                          <a:lnTo>
                            <a:pt x="5589" y="1446"/>
                          </a:lnTo>
                          <a:lnTo>
                            <a:pt x="5648" y="1505"/>
                          </a:lnTo>
                          <a:lnTo>
                            <a:pt x="5712" y="1567"/>
                          </a:lnTo>
                          <a:lnTo>
                            <a:pt x="5767" y="1630"/>
                          </a:lnTo>
                          <a:lnTo>
                            <a:pt x="5819" y="1696"/>
                          </a:lnTo>
                          <a:lnTo>
                            <a:pt x="5823" y="1720"/>
                          </a:lnTo>
                          <a:lnTo>
                            <a:pt x="5811" y="1747"/>
                          </a:lnTo>
                          <a:lnTo>
                            <a:pt x="5791" y="1771"/>
                          </a:lnTo>
                          <a:lnTo>
                            <a:pt x="5763" y="1779"/>
                          </a:lnTo>
                          <a:lnTo>
                            <a:pt x="5787" y="1786"/>
                          </a:lnTo>
                          <a:lnTo>
                            <a:pt x="5811" y="1798"/>
                          </a:lnTo>
                          <a:lnTo>
                            <a:pt x="5835" y="1814"/>
                          </a:lnTo>
                          <a:lnTo>
                            <a:pt x="5854" y="1833"/>
                          </a:lnTo>
                          <a:lnTo>
                            <a:pt x="5862" y="1919"/>
                          </a:lnTo>
                          <a:lnTo>
                            <a:pt x="5839" y="1974"/>
                          </a:lnTo>
                          <a:lnTo>
                            <a:pt x="5791" y="1997"/>
                          </a:lnTo>
                          <a:lnTo>
                            <a:pt x="5728" y="2001"/>
                          </a:lnTo>
                          <a:lnTo>
                            <a:pt x="5652" y="1997"/>
                          </a:lnTo>
                          <a:lnTo>
                            <a:pt x="5573" y="1986"/>
                          </a:lnTo>
                          <a:lnTo>
                            <a:pt x="5501" y="1978"/>
                          </a:lnTo>
                          <a:lnTo>
                            <a:pt x="5442" y="1982"/>
                          </a:lnTo>
                          <a:lnTo>
                            <a:pt x="4962" y="1958"/>
                          </a:lnTo>
                          <a:lnTo>
                            <a:pt x="2888" y="1958"/>
                          </a:lnTo>
                          <a:lnTo>
                            <a:pt x="2800" y="1958"/>
                          </a:lnTo>
                          <a:lnTo>
                            <a:pt x="2717" y="1954"/>
                          </a:lnTo>
                          <a:lnTo>
                            <a:pt x="2630" y="1954"/>
                          </a:lnTo>
                          <a:lnTo>
                            <a:pt x="2543" y="1954"/>
                          </a:lnTo>
                          <a:lnTo>
                            <a:pt x="2459" y="1954"/>
                          </a:lnTo>
                          <a:lnTo>
                            <a:pt x="2372" y="1954"/>
                          </a:lnTo>
                          <a:lnTo>
                            <a:pt x="2289" y="1954"/>
                          </a:lnTo>
                          <a:lnTo>
                            <a:pt x="2201" y="1954"/>
                          </a:lnTo>
                          <a:lnTo>
                            <a:pt x="2118" y="1954"/>
                          </a:lnTo>
                          <a:lnTo>
                            <a:pt x="2035" y="1954"/>
                          </a:lnTo>
                          <a:lnTo>
                            <a:pt x="1948" y="1958"/>
                          </a:lnTo>
                          <a:lnTo>
                            <a:pt x="1864" y="1958"/>
                          </a:lnTo>
                          <a:lnTo>
                            <a:pt x="1781" y="1958"/>
                          </a:lnTo>
                          <a:lnTo>
                            <a:pt x="1698" y="1962"/>
                          </a:lnTo>
                          <a:lnTo>
                            <a:pt x="1610" y="1962"/>
                          </a:lnTo>
                          <a:lnTo>
                            <a:pt x="1527" y="1962"/>
                          </a:lnTo>
                          <a:lnTo>
                            <a:pt x="1444" y="1962"/>
                          </a:lnTo>
                          <a:lnTo>
                            <a:pt x="1361" y="1966"/>
                          </a:lnTo>
                          <a:lnTo>
                            <a:pt x="1277" y="1966"/>
                          </a:lnTo>
                          <a:lnTo>
                            <a:pt x="1194" y="1966"/>
                          </a:lnTo>
                          <a:lnTo>
                            <a:pt x="1111" y="1966"/>
                          </a:lnTo>
                          <a:lnTo>
                            <a:pt x="1027" y="1970"/>
                          </a:lnTo>
                          <a:lnTo>
                            <a:pt x="944" y="1970"/>
                          </a:lnTo>
                          <a:lnTo>
                            <a:pt x="861" y="1970"/>
                          </a:lnTo>
                          <a:lnTo>
                            <a:pt x="778" y="1970"/>
                          </a:lnTo>
                          <a:lnTo>
                            <a:pt x="694" y="1970"/>
                          </a:lnTo>
                          <a:lnTo>
                            <a:pt x="611" y="1966"/>
                          </a:lnTo>
                          <a:lnTo>
                            <a:pt x="528" y="1966"/>
                          </a:lnTo>
                          <a:lnTo>
                            <a:pt x="444" y="1966"/>
                          </a:lnTo>
                          <a:lnTo>
                            <a:pt x="365" y="1962"/>
                          </a:lnTo>
                          <a:lnTo>
                            <a:pt x="282" y="1962"/>
                          </a:lnTo>
                          <a:lnTo>
                            <a:pt x="198" y="1958"/>
                          </a:lnTo>
                          <a:lnTo>
                            <a:pt x="175" y="1954"/>
                          </a:lnTo>
                          <a:lnTo>
                            <a:pt x="155" y="1951"/>
                          </a:lnTo>
                          <a:lnTo>
                            <a:pt x="135" y="1943"/>
                          </a:lnTo>
                          <a:lnTo>
                            <a:pt x="119" y="1935"/>
                          </a:lnTo>
                          <a:lnTo>
                            <a:pt x="99" y="1923"/>
                          </a:lnTo>
                          <a:lnTo>
                            <a:pt x="83" y="1911"/>
                          </a:lnTo>
                          <a:lnTo>
                            <a:pt x="71" y="1900"/>
                          </a:lnTo>
                          <a:lnTo>
                            <a:pt x="60" y="1888"/>
                          </a:lnTo>
                          <a:lnTo>
                            <a:pt x="71" y="1767"/>
                          </a:lnTo>
                          <a:lnTo>
                            <a:pt x="83" y="1767"/>
                          </a:lnTo>
                          <a:lnTo>
                            <a:pt x="95" y="1763"/>
                          </a:lnTo>
                          <a:lnTo>
                            <a:pt x="103" y="1751"/>
                          </a:lnTo>
                          <a:lnTo>
                            <a:pt x="115" y="1743"/>
                          </a:lnTo>
                          <a:lnTo>
                            <a:pt x="95" y="1716"/>
                          </a:lnTo>
                          <a:lnTo>
                            <a:pt x="95" y="1669"/>
                          </a:lnTo>
                          <a:lnTo>
                            <a:pt x="87" y="1630"/>
                          </a:lnTo>
                          <a:lnTo>
                            <a:pt x="48" y="1630"/>
                          </a:lnTo>
                          <a:lnTo>
                            <a:pt x="107" y="1560"/>
                          </a:lnTo>
                          <a:lnTo>
                            <a:pt x="175" y="1497"/>
                          </a:lnTo>
                          <a:lnTo>
                            <a:pt x="250" y="1438"/>
                          </a:lnTo>
                          <a:lnTo>
                            <a:pt x="325" y="1380"/>
                          </a:lnTo>
                          <a:lnTo>
                            <a:pt x="405" y="1325"/>
                          </a:lnTo>
                          <a:lnTo>
                            <a:pt x="488" y="1270"/>
                          </a:lnTo>
                          <a:lnTo>
                            <a:pt x="567" y="1208"/>
                          </a:lnTo>
                          <a:lnTo>
                            <a:pt x="643" y="1145"/>
                          </a:lnTo>
                          <a:lnTo>
                            <a:pt x="575" y="1141"/>
                          </a:lnTo>
                          <a:lnTo>
                            <a:pt x="508" y="1141"/>
                          </a:lnTo>
                          <a:lnTo>
                            <a:pt x="436" y="1145"/>
                          </a:lnTo>
                          <a:lnTo>
                            <a:pt x="369" y="1149"/>
                          </a:lnTo>
                          <a:lnTo>
                            <a:pt x="298" y="1153"/>
                          </a:lnTo>
                          <a:lnTo>
                            <a:pt x="230" y="1161"/>
                          </a:lnTo>
                          <a:lnTo>
                            <a:pt x="167" y="1161"/>
                          </a:lnTo>
                          <a:lnTo>
                            <a:pt x="103" y="1157"/>
                          </a:lnTo>
                          <a:lnTo>
                            <a:pt x="75" y="1122"/>
                          </a:lnTo>
                          <a:lnTo>
                            <a:pt x="64" y="1079"/>
                          </a:lnTo>
                          <a:lnTo>
                            <a:pt x="48" y="1047"/>
                          </a:lnTo>
                          <a:lnTo>
                            <a:pt x="0" y="1055"/>
                          </a:lnTo>
                          <a:lnTo>
                            <a:pt x="32" y="1051"/>
                          </a:lnTo>
                          <a:lnTo>
                            <a:pt x="44" y="1028"/>
                          </a:lnTo>
                          <a:lnTo>
                            <a:pt x="56" y="1001"/>
                          </a:lnTo>
                          <a:lnTo>
                            <a:pt x="71" y="977"/>
                          </a:lnTo>
                          <a:lnTo>
                            <a:pt x="60" y="965"/>
                          </a:lnTo>
                          <a:lnTo>
                            <a:pt x="115" y="938"/>
                          </a:lnTo>
                          <a:lnTo>
                            <a:pt x="179" y="926"/>
                          </a:lnTo>
                          <a:lnTo>
                            <a:pt x="250" y="918"/>
                          </a:lnTo>
                          <a:lnTo>
                            <a:pt x="321" y="918"/>
                          </a:lnTo>
                          <a:lnTo>
                            <a:pt x="397" y="918"/>
                          </a:lnTo>
                          <a:lnTo>
                            <a:pt x="472" y="918"/>
                          </a:lnTo>
                          <a:lnTo>
                            <a:pt x="540" y="915"/>
                          </a:lnTo>
                          <a:lnTo>
                            <a:pt x="607" y="899"/>
                          </a:lnTo>
                          <a:lnTo>
                            <a:pt x="575" y="848"/>
                          </a:lnTo>
                          <a:lnTo>
                            <a:pt x="540" y="801"/>
                          </a:lnTo>
                          <a:lnTo>
                            <a:pt x="500" y="754"/>
                          </a:lnTo>
                          <a:lnTo>
                            <a:pt x="456" y="711"/>
                          </a:lnTo>
                          <a:lnTo>
                            <a:pt x="413" y="668"/>
                          </a:lnTo>
                          <a:lnTo>
                            <a:pt x="365" y="629"/>
                          </a:lnTo>
                          <a:lnTo>
                            <a:pt x="313" y="590"/>
                          </a:lnTo>
                          <a:lnTo>
                            <a:pt x="266" y="551"/>
                          </a:lnTo>
                          <a:lnTo>
                            <a:pt x="226" y="555"/>
                          </a:lnTo>
                          <a:lnTo>
                            <a:pt x="206" y="539"/>
                          </a:lnTo>
                          <a:lnTo>
                            <a:pt x="194" y="512"/>
                          </a:lnTo>
                          <a:lnTo>
                            <a:pt x="187" y="485"/>
                          </a:lnTo>
                          <a:lnTo>
                            <a:pt x="238" y="477"/>
                          </a:lnTo>
                          <a:lnTo>
                            <a:pt x="290" y="473"/>
                          </a:lnTo>
                          <a:lnTo>
                            <a:pt x="345" y="473"/>
                          </a:lnTo>
                          <a:lnTo>
                            <a:pt x="405" y="473"/>
                          </a:lnTo>
                          <a:lnTo>
                            <a:pt x="460" y="473"/>
                          </a:lnTo>
                          <a:lnTo>
                            <a:pt x="516" y="469"/>
                          </a:lnTo>
                          <a:lnTo>
                            <a:pt x="567" y="465"/>
                          </a:lnTo>
                          <a:lnTo>
                            <a:pt x="619" y="449"/>
                          </a:lnTo>
                          <a:lnTo>
                            <a:pt x="607" y="434"/>
                          </a:lnTo>
                          <a:lnTo>
                            <a:pt x="591" y="430"/>
                          </a:lnTo>
                          <a:lnTo>
                            <a:pt x="571" y="426"/>
                          </a:lnTo>
                          <a:lnTo>
                            <a:pt x="555" y="426"/>
                          </a:lnTo>
                          <a:lnTo>
                            <a:pt x="543" y="426"/>
                          </a:lnTo>
                          <a:lnTo>
                            <a:pt x="540" y="418"/>
                          </a:lnTo>
                          <a:lnTo>
                            <a:pt x="543" y="406"/>
                          </a:lnTo>
                          <a:lnTo>
                            <a:pt x="563" y="383"/>
                          </a:lnTo>
                          <a:lnTo>
                            <a:pt x="298" y="101"/>
                          </a:lnTo>
                          <a:lnTo>
                            <a:pt x="282" y="101"/>
                          </a:lnTo>
                          <a:lnTo>
                            <a:pt x="266" y="101"/>
                          </a:lnTo>
                          <a:lnTo>
                            <a:pt x="246" y="97"/>
                          </a:lnTo>
                          <a:lnTo>
                            <a:pt x="230" y="90"/>
                          </a:lnTo>
                          <a:lnTo>
                            <a:pt x="230" y="66"/>
                          </a:lnTo>
                          <a:lnTo>
                            <a:pt x="246" y="54"/>
                          </a:lnTo>
                          <a:lnTo>
                            <a:pt x="270" y="47"/>
                          </a:lnTo>
                          <a:lnTo>
                            <a:pt x="290" y="43"/>
                          </a:lnTo>
                          <a:lnTo>
                            <a:pt x="341" y="47"/>
                          </a:lnTo>
                          <a:lnTo>
                            <a:pt x="393" y="51"/>
                          </a:lnTo>
                          <a:lnTo>
                            <a:pt x="444" y="54"/>
                          </a:lnTo>
                          <a:lnTo>
                            <a:pt x="496" y="62"/>
                          </a:lnTo>
                          <a:lnTo>
                            <a:pt x="547" y="66"/>
                          </a:lnTo>
                          <a:lnTo>
                            <a:pt x="599" y="62"/>
                          </a:lnTo>
                          <a:lnTo>
                            <a:pt x="651" y="58"/>
                          </a:lnTo>
                          <a:lnTo>
                            <a:pt x="698" y="43"/>
                          </a:lnTo>
                          <a:lnTo>
                            <a:pt x="734" y="47"/>
                          </a:lnTo>
                          <a:lnTo>
                            <a:pt x="766" y="51"/>
                          </a:lnTo>
                          <a:lnTo>
                            <a:pt x="793" y="54"/>
                          </a:lnTo>
                          <a:lnTo>
                            <a:pt x="817" y="54"/>
                          </a:lnTo>
                          <a:lnTo>
                            <a:pt x="845" y="54"/>
                          </a:lnTo>
                          <a:lnTo>
                            <a:pt x="869" y="54"/>
                          </a:lnTo>
                          <a:lnTo>
                            <a:pt x="896" y="54"/>
                          </a:lnTo>
                          <a:lnTo>
                            <a:pt x="928" y="54"/>
                          </a:lnTo>
                          <a:lnTo>
                            <a:pt x="920" y="101"/>
                          </a:lnTo>
                          <a:lnTo>
                            <a:pt x="904" y="148"/>
                          </a:lnTo>
                          <a:lnTo>
                            <a:pt x="873" y="191"/>
                          </a:lnTo>
                          <a:lnTo>
                            <a:pt x="841" y="230"/>
                          </a:lnTo>
                          <a:lnTo>
                            <a:pt x="809" y="273"/>
                          </a:lnTo>
                          <a:lnTo>
                            <a:pt x="778" y="316"/>
                          </a:lnTo>
                          <a:lnTo>
                            <a:pt x="758" y="363"/>
                          </a:lnTo>
                          <a:lnTo>
                            <a:pt x="746" y="414"/>
                          </a:lnTo>
                          <a:lnTo>
                            <a:pt x="781" y="430"/>
                          </a:lnTo>
                          <a:lnTo>
                            <a:pt x="821" y="442"/>
                          </a:lnTo>
                          <a:lnTo>
                            <a:pt x="865" y="453"/>
                          </a:lnTo>
                          <a:lnTo>
                            <a:pt x="908" y="457"/>
                          </a:lnTo>
                          <a:lnTo>
                            <a:pt x="956" y="461"/>
                          </a:lnTo>
                          <a:lnTo>
                            <a:pt x="1000" y="461"/>
                          </a:lnTo>
                          <a:lnTo>
                            <a:pt x="1047" y="457"/>
                          </a:lnTo>
                          <a:lnTo>
                            <a:pt x="1091" y="449"/>
                          </a:lnTo>
                          <a:lnTo>
                            <a:pt x="1111" y="473"/>
                          </a:lnTo>
                          <a:lnTo>
                            <a:pt x="1059" y="524"/>
                          </a:lnTo>
                          <a:lnTo>
                            <a:pt x="1008" y="571"/>
                          </a:lnTo>
                          <a:lnTo>
                            <a:pt x="960" y="621"/>
                          </a:lnTo>
                          <a:lnTo>
                            <a:pt x="916" y="672"/>
                          </a:lnTo>
                          <a:lnTo>
                            <a:pt x="873" y="727"/>
                          </a:lnTo>
                          <a:lnTo>
                            <a:pt x="829" y="778"/>
                          </a:lnTo>
                          <a:lnTo>
                            <a:pt x="789" y="832"/>
                          </a:lnTo>
                          <a:lnTo>
                            <a:pt x="746" y="887"/>
                          </a:lnTo>
                          <a:lnTo>
                            <a:pt x="837" y="895"/>
                          </a:lnTo>
                          <a:lnTo>
                            <a:pt x="928" y="903"/>
                          </a:lnTo>
                          <a:lnTo>
                            <a:pt x="1015" y="907"/>
                          </a:lnTo>
                          <a:lnTo>
                            <a:pt x="1107" y="907"/>
                          </a:lnTo>
                          <a:lnTo>
                            <a:pt x="1194" y="911"/>
                          </a:lnTo>
                          <a:lnTo>
                            <a:pt x="1285" y="911"/>
                          </a:lnTo>
                          <a:lnTo>
                            <a:pt x="1372" y="907"/>
                          </a:lnTo>
                          <a:lnTo>
                            <a:pt x="1464" y="907"/>
                          </a:lnTo>
                          <a:lnTo>
                            <a:pt x="1551" y="903"/>
                          </a:lnTo>
                          <a:lnTo>
                            <a:pt x="1638" y="899"/>
                          </a:lnTo>
                          <a:lnTo>
                            <a:pt x="1729" y="895"/>
                          </a:lnTo>
                          <a:lnTo>
                            <a:pt x="1817" y="891"/>
                          </a:lnTo>
                          <a:lnTo>
                            <a:pt x="1908" y="887"/>
                          </a:lnTo>
                          <a:lnTo>
                            <a:pt x="1995" y="883"/>
                          </a:lnTo>
                          <a:lnTo>
                            <a:pt x="2086" y="879"/>
                          </a:lnTo>
                          <a:lnTo>
                            <a:pt x="2178" y="875"/>
                          </a:lnTo>
                          <a:lnTo>
                            <a:pt x="2122" y="829"/>
                          </a:lnTo>
                          <a:lnTo>
                            <a:pt x="2067" y="789"/>
                          </a:lnTo>
                          <a:lnTo>
                            <a:pt x="2011" y="750"/>
                          </a:lnTo>
                          <a:lnTo>
                            <a:pt x="1956" y="711"/>
                          </a:lnTo>
                          <a:lnTo>
                            <a:pt x="1900" y="676"/>
                          </a:lnTo>
                          <a:lnTo>
                            <a:pt x="1844" y="637"/>
                          </a:lnTo>
                          <a:lnTo>
                            <a:pt x="1793" y="594"/>
                          </a:lnTo>
                          <a:lnTo>
                            <a:pt x="1741" y="551"/>
                          </a:lnTo>
                          <a:lnTo>
                            <a:pt x="1741" y="524"/>
                          </a:lnTo>
                          <a:lnTo>
                            <a:pt x="1761" y="508"/>
                          </a:lnTo>
                          <a:lnTo>
                            <a:pt x="1781" y="492"/>
                          </a:lnTo>
                          <a:lnTo>
                            <a:pt x="1789" y="473"/>
                          </a:lnTo>
                          <a:lnTo>
                            <a:pt x="1833" y="481"/>
                          </a:lnTo>
                          <a:lnTo>
                            <a:pt x="1872" y="485"/>
                          </a:lnTo>
                          <a:lnTo>
                            <a:pt x="1908" y="488"/>
                          </a:lnTo>
                          <a:lnTo>
                            <a:pt x="1944" y="488"/>
                          </a:lnTo>
                          <a:lnTo>
                            <a:pt x="1975" y="488"/>
                          </a:lnTo>
                          <a:lnTo>
                            <a:pt x="2011" y="485"/>
                          </a:lnTo>
                          <a:lnTo>
                            <a:pt x="2047" y="481"/>
                          </a:lnTo>
                          <a:lnTo>
                            <a:pt x="2086" y="473"/>
                          </a:lnTo>
                          <a:lnTo>
                            <a:pt x="1674" y="19"/>
                          </a:lnTo>
                          <a:lnTo>
                            <a:pt x="1686" y="0"/>
                          </a:lnTo>
                          <a:lnTo>
                            <a:pt x="1733" y="8"/>
                          </a:lnTo>
                          <a:lnTo>
                            <a:pt x="1781" y="11"/>
                          </a:lnTo>
                          <a:lnTo>
                            <a:pt x="1833" y="15"/>
                          </a:lnTo>
                          <a:lnTo>
                            <a:pt x="1880" y="19"/>
                          </a:lnTo>
                          <a:lnTo>
                            <a:pt x="1932" y="19"/>
                          </a:lnTo>
                          <a:lnTo>
                            <a:pt x="1983" y="23"/>
                          </a:lnTo>
                          <a:lnTo>
                            <a:pt x="2035" y="23"/>
                          </a:lnTo>
                          <a:lnTo>
                            <a:pt x="2086" y="19"/>
                          </a:lnTo>
                          <a:lnTo>
                            <a:pt x="2138" y="19"/>
                          </a:lnTo>
                          <a:lnTo>
                            <a:pt x="2190" y="19"/>
                          </a:lnTo>
                          <a:lnTo>
                            <a:pt x="2237" y="23"/>
                          </a:lnTo>
                          <a:lnTo>
                            <a:pt x="2289" y="23"/>
                          </a:lnTo>
                          <a:lnTo>
                            <a:pt x="2340" y="27"/>
                          </a:lnTo>
                          <a:lnTo>
                            <a:pt x="2392" y="31"/>
                          </a:lnTo>
                          <a:lnTo>
                            <a:pt x="2439" y="35"/>
                          </a:lnTo>
                          <a:lnTo>
                            <a:pt x="2487" y="43"/>
                          </a:lnTo>
                          <a:close/>
                        </a:path>
                      </a:pathLst>
                    </a:custGeom>
                    <a:solidFill>
                      <a:srgbClr val="11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6" name=""/>
                    <p:cNvSpPr/>
                    <p:nvPr/>
                  </p:nvSpPr>
                  <p:spPr>
                    <a:xfrm>
                      <a:off x="5612760" y="3177720"/>
                      <a:ext cx="235440" cy="224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1" h="368">
                          <a:moveTo>
                            <a:pt x="381" y="20"/>
                          </a:moveTo>
                          <a:lnTo>
                            <a:pt x="349" y="59"/>
                          </a:lnTo>
                          <a:lnTo>
                            <a:pt x="309" y="94"/>
                          </a:lnTo>
                          <a:lnTo>
                            <a:pt x="270" y="125"/>
                          </a:lnTo>
                          <a:lnTo>
                            <a:pt x="226" y="153"/>
                          </a:lnTo>
                          <a:lnTo>
                            <a:pt x="187" y="180"/>
                          </a:lnTo>
                          <a:lnTo>
                            <a:pt x="147" y="207"/>
                          </a:lnTo>
                          <a:lnTo>
                            <a:pt x="111" y="239"/>
                          </a:lnTo>
                          <a:lnTo>
                            <a:pt x="83" y="278"/>
                          </a:lnTo>
                          <a:lnTo>
                            <a:pt x="103" y="301"/>
                          </a:lnTo>
                          <a:lnTo>
                            <a:pt x="290" y="176"/>
                          </a:lnTo>
                          <a:lnTo>
                            <a:pt x="139" y="368"/>
                          </a:lnTo>
                          <a:lnTo>
                            <a:pt x="119" y="352"/>
                          </a:lnTo>
                          <a:lnTo>
                            <a:pt x="99" y="336"/>
                          </a:lnTo>
                          <a:lnTo>
                            <a:pt x="75" y="317"/>
                          </a:lnTo>
                          <a:lnTo>
                            <a:pt x="56" y="297"/>
                          </a:lnTo>
                          <a:lnTo>
                            <a:pt x="36" y="278"/>
                          </a:lnTo>
                          <a:lnTo>
                            <a:pt x="20" y="258"/>
                          </a:lnTo>
                          <a:lnTo>
                            <a:pt x="8" y="235"/>
                          </a:lnTo>
                          <a:lnTo>
                            <a:pt x="0" y="211"/>
                          </a:lnTo>
                          <a:lnTo>
                            <a:pt x="4" y="223"/>
                          </a:lnTo>
                          <a:lnTo>
                            <a:pt x="12" y="235"/>
                          </a:lnTo>
                          <a:lnTo>
                            <a:pt x="24" y="246"/>
                          </a:lnTo>
                          <a:lnTo>
                            <a:pt x="36" y="254"/>
                          </a:lnTo>
                          <a:lnTo>
                            <a:pt x="75" y="231"/>
                          </a:lnTo>
                          <a:lnTo>
                            <a:pt x="115" y="211"/>
                          </a:lnTo>
                          <a:lnTo>
                            <a:pt x="155" y="188"/>
                          </a:lnTo>
                          <a:lnTo>
                            <a:pt x="194" y="164"/>
                          </a:lnTo>
                          <a:lnTo>
                            <a:pt x="234" y="141"/>
                          </a:lnTo>
                          <a:lnTo>
                            <a:pt x="270" y="110"/>
                          </a:lnTo>
                          <a:lnTo>
                            <a:pt x="302" y="78"/>
                          </a:lnTo>
                          <a:lnTo>
                            <a:pt x="333" y="43"/>
                          </a:lnTo>
                          <a:lnTo>
                            <a:pt x="302" y="27"/>
                          </a:lnTo>
                          <a:lnTo>
                            <a:pt x="274" y="39"/>
                          </a:lnTo>
                          <a:lnTo>
                            <a:pt x="246" y="59"/>
                          </a:lnTo>
                          <a:lnTo>
                            <a:pt x="218" y="74"/>
                          </a:lnTo>
                          <a:lnTo>
                            <a:pt x="230" y="51"/>
                          </a:lnTo>
                          <a:lnTo>
                            <a:pt x="250" y="35"/>
                          </a:lnTo>
                          <a:lnTo>
                            <a:pt x="266" y="20"/>
                          </a:lnTo>
                          <a:lnTo>
                            <a:pt x="290" y="8"/>
                          </a:lnTo>
                          <a:lnTo>
                            <a:pt x="309" y="0"/>
                          </a:lnTo>
                          <a:lnTo>
                            <a:pt x="333" y="0"/>
                          </a:lnTo>
                          <a:lnTo>
                            <a:pt x="357" y="8"/>
                          </a:lnTo>
                          <a:lnTo>
                            <a:pt x="381" y="2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7" name=""/>
                    <p:cNvSpPr/>
                    <p:nvPr/>
                  </p:nvSpPr>
                  <p:spPr>
                    <a:xfrm>
                      <a:off x="5619960" y="3182760"/>
                      <a:ext cx="43560" cy="2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1" h="35">
                          <a:moveTo>
                            <a:pt x="0" y="35"/>
                          </a:moveTo>
                          <a:lnTo>
                            <a:pt x="71" y="0"/>
                          </a:lnTo>
                          <a:lnTo>
                            <a:pt x="24" y="35"/>
                          </a:lnTo>
                          <a:lnTo>
                            <a:pt x="0" y="35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8" name=""/>
                    <p:cNvSpPr/>
                    <p:nvPr/>
                  </p:nvSpPr>
                  <p:spPr>
                    <a:xfrm>
                      <a:off x="5544000" y="3189960"/>
                      <a:ext cx="34560" cy="1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6" h="31">
                          <a:moveTo>
                            <a:pt x="56" y="0"/>
                          </a:moveTo>
                          <a:lnTo>
                            <a:pt x="0" y="31"/>
                          </a:lnTo>
                          <a:lnTo>
                            <a:pt x="56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080" bIns="-28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79" name=""/>
                    <p:cNvSpPr/>
                    <p:nvPr/>
                  </p:nvSpPr>
                  <p:spPr>
                    <a:xfrm>
                      <a:off x="7202160" y="3189960"/>
                      <a:ext cx="19440" cy="2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" h="43">
                          <a:moveTo>
                            <a:pt x="0" y="43"/>
                          </a:moveTo>
                          <a:lnTo>
                            <a:pt x="32" y="0"/>
                          </a:lnTo>
                          <a:lnTo>
                            <a:pt x="32" y="31"/>
                          </a:lnTo>
                          <a:lnTo>
                            <a:pt x="0" y="43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0" name=""/>
                    <p:cNvSpPr/>
                    <p:nvPr/>
                  </p:nvSpPr>
                  <p:spPr>
                    <a:xfrm>
                      <a:off x="4617000" y="3204360"/>
                      <a:ext cx="8316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5" h="55">
                          <a:moveTo>
                            <a:pt x="55" y="55"/>
                          </a:moveTo>
                          <a:lnTo>
                            <a:pt x="0" y="0"/>
                          </a:lnTo>
                          <a:lnTo>
                            <a:pt x="135" y="0"/>
                          </a:lnTo>
                          <a:lnTo>
                            <a:pt x="55" y="55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1" name=""/>
                    <p:cNvSpPr/>
                    <p:nvPr/>
                  </p:nvSpPr>
                  <p:spPr>
                    <a:xfrm>
                      <a:off x="4749120" y="3204360"/>
                      <a:ext cx="21960" cy="1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" h="31">
                          <a:moveTo>
                            <a:pt x="36" y="0"/>
                          </a:moveTo>
                          <a:lnTo>
                            <a:pt x="0" y="31"/>
                          </a:lnTo>
                          <a:lnTo>
                            <a:pt x="36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080" bIns="-28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2" name=""/>
                    <p:cNvSpPr/>
                    <p:nvPr/>
                  </p:nvSpPr>
                  <p:spPr>
                    <a:xfrm>
                      <a:off x="4707720" y="3204360"/>
                      <a:ext cx="149040" cy="95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41" h="156">
                          <a:moveTo>
                            <a:pt x="241" y="0"/>
                          </a:moveTo>
                          <a:lnTo>
                            <a:pt x="210" y="20"/>
                          </a:lnTo>
                          <a:lnTo>
                            <a:pt x="182" y="43"/>
                          </a:lnTo>
                          <a:lnTo>
                            <a:pt x="158" y="70"/>
                          </a:lnTo>
                          <a:lnTo>
                            <a:pt x="130" y="94"/>
                          </a:lnTo>
                          <a:lnTo>
                            <a:pt x="103" y="113"/>
                          </a:lnTo>
                          <a:lnTo>
                            <a:pt x="71" y="133"/>
                          </a:lnTo>
                          <a:lnTo>
                            <a:pt x="39" y="149"/>
                          </a:lnTo>
                          <a:lnTo>
                            <a:pt x="0" y="156"/>
                          </a:lnTo>
                          <a:lnTo>
                            <a:pt x="194" y="0"/>
                          </a:lnTo>
                          <a:lnTo>
                            <a:pt x="241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3" name=""/>
                    <p:cNvSpPr/>
                    <p:nvPr/>
                  </p:nvSpPr>
                  <p:spPr>
                    <a:xfrm>
                      <a:off x="6589080" y="3204360"/>
                      <a:ext cx="68400" cy="40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1" h="67">
                          <a:moveTo>
                            <a:pt x="111" y="0"/>
                          </a:moveTo>
                          <a:lnTo>
                            <a:pt x="87" y="16"/>
                          </a:lnTo>
                          <a:lnTo>
                            <a:pt x="59" y="27"/>
                          </a:lnTo>
                          <a:lnTo>
                            <a:pt x="31" y="39"/>
                          </a:lnTo>
                          <a:lnTo>
                            <a:pt x="12" y="67"/>
                          </a:lnTo>
                          <a:lnTo>
                            <a:pt x="12" y="59"/>
                          </a:lnTo>
                          <a:lnTo>
                            <a:pt x="8" y="51"/>
                          </a:lnTo>
                          <a:lnTo>
                            <a:pt x="4" y="47"/>
                          </a:lnTo>
                          <a:lnTo>
                            <a:pt x="0" y="43"/>
                          </a:lnTo>
                          <a:lnTo>
                            <a:pt x="24" y="24"/>
                          </a:lnTo>
                          <a:lnTo>
                            <a:pt x="51" y="16"/>
                          </a:lnTo>
                          <a:lnTo>
                            <a:pt x="83" y="8"/>
                          </a:lnTo>
                          <a:lnTo>
                            <a:pt x="111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120" bIns="-6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4" name=""/>
                    <p:cNvSpPr/>
                    <p:nvPr/>
                  </p:nvSpPr>
                  <p:spPr>
                    <a:xfrm>
                      <a:off x="6638040" y="3209040"/>
                      <a:ext cx="162000" cy="97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62" h="160">
                          <a:moveTo>
                            <a:pt x="262" y="0"/>
                          </a:moveTo>
                          <a:lnTo>
                            <a:pt x="234" y="23"/>
                          </a:lnTo>
                          <a:lnTo>
                            <a:pt x="202" y="43"/>
                          </a:lnTo>
                          <a:lnTo>
                            <a:pt x="171" y="66"/>
                          </a:lnTo>
                          <a:lnTo>
                            <a:pt x="139" y="86"/>
                          </a:lnTo>
                          <a:lnTo>
                            <a:pt x="103" y="109"/>
                          </a:lnTo>
                          <a:lnTo>
                            <a:pt x="71" y="125"/>
                          </a:lnTo>
                          <a:lnTo>
                            <a:pt x="36" y="145"/>
                          </a:lnTo>
                          <a:lnTo>
                            <a:pt x="0" y="160"/>
                          </a:lnTo>
                          <a:lnTo>
                            <a:pt x="28" y="133"/>
                          </a:lnTo>
                          <a:lnTo>
                            <a:pt x="56" y="109"/>
                          </a:lnTo>
                          <a:lnTo>
                            <a:pt x="87" y="90"/>
                          </a:lnTo>
                          <a:lnTo>
                            <a:pt x="123" y="70"/>
                          </a:lnTo>
                          <a:lnTo>
                            <a:pt x="159" y="51"/>
                          </a:lnTo>
                          <a:lnTo>
                            <a:pt x="194" y="35"/>
                          </a:lnTo>
                          <a:lnTo>
                            <a:pt x="230" y="19"/>
                          </a:lnTo>
                          <a:lnTo>
                            <a:pt x="262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5" name=""/>
                    <p:cNvSpPr/>
                    <p:nvPr/>
                  </p:nvSpPr>
                  <p:spPr>
                    <a:xfrm>
                      <a:off x="6665400" y="3209040"/>
                      <a:ext cx="218160" cy="207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3" h="340">
                          <a:moveTo>
                            <a:pt x="47" y="227"/>
                          </a:moveTo>
                          <a:lnTo>
                            <a:pt x="47" y="262"/>
                          </a:lnTo>
                          <a:lnTo>
                            <a:pt x="71" y="266"/>
                          </a:lnTo>
                          <a:lnTo>
                            <a:pt x="95" y="262"/>
                          </a:lnTo>
                          <a:lnTo>
                            <a:pt x="119" y="250"/>
                          </a:lnTo>
                          <a:lnTo>
                            <a:pt x="142" y="238"/>
                          </a:lnTo>
                          <a:lnTo>
                            <a:pt x="162" y="223"/>
                          </a:lnTo>
                          <a:lnTo>
                            <a:pt x="182" y="203"/>
                          </a:lnTo>
                          <a:lnTo>
                            <a:pt x="202" y="188"/>
                          </a:lnTo>
                          <a:lnTo>
                            <a:pt x="218" y="172"/>
                          </a:lnTo>
                          <a:lnTo>
                            <a:pt x="83" y="340"/>
                          </a:lnTo>
                          <a:lnTo>
                            <a:pt x="0" y="227"/>
                          </a:lnTo>
                          <a:lnTo>
                            <a:pt x="39" y="191"/>
                          </a:lnTo>
                          <a:lnTo>
                            <a:pt x="79" y="160"/>
                          </a:lnTo>
                          <a:lnTo>
                            <a:pt x="123" y="129"/>
                          </a:lnTo>
                          <a:lnTo>
                            <a:pt x="170" y="102"/>
                          </a:lnTo>
                          <a:lnTo>
                            <a:pt x="214" y="74"/>
                          </a:lnTo>
                          <a:lnTo>
                            <a:pt x="261" y="47"/>
                          </a:lnTo>
                          <a:lnTo>
                            <a:pt x="309" y="23"/>
                          </a:lnTo>
                          <a:lnTo>
                            <a:pt x="353" y="0"/>
                          </a:lnTo>
                          <a:lnTo>
                            <a:pt x="47" y="227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6" name=""/>
                    <p:cNvSpPr/>
                    <p:nvPr/>
                  </p:nvSpPr>
                  <p:spPr>
                    <a:xfrm>
                      <a:off x="5139360" y="3216240"/>
                      <a:ext cx="21600" cy="35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5" h="58">
                          <a:moveTo>
                            <a:pt x="35" y="11"/>
                          </a:moveTo>
                          <a:lnTo>
                            <a:pt x="31" y="23"/>
                          </a:lnTo>
                          <a:lnTo>
                            <a:pt x="27" y="35"/>
                          </a:lnTo>
                          <a:lnTo>
                            <a:pt x="19" y="47"/>
                          </a:lnTo>
                          <a:lnTo>
                            <a:pt x="11" y="58"/>
                          </a:lnTo>
                          <a:lnTo>
                            <a:pt x="0" y="0"/>
                          </a:lnTo>
                          <a:lnTo>
                            <a:pt x="8" y="7"/>
                          </a:lnTo>
                          <a:lnTo>
                            <a:pt x="15" y="11"/>
                          </a:lnTo>
                          <a:lnTo>
                            <a:pt x="27" y="11"/>
                          </a:lnTo>
                          <a:lnTo>
                            <a:pt x="35" y="11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520" bIns="-11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7" name=""/>
                    <p:cNvSpPr/>
                    <p:nvPr/>
                  </p:nvSpPr>
                  <p:spPr>
                    <a:xfrm>
                      <a:off x="7491600" y="3223080"/>
                      <a:ext cx="709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5" h="59">
                          <a:moveTo>
                            <a:pt x="115" y="12"/>
                          </a:moveTo>
                          <a:lnTo>
                            <a:pt x="96" y="32"/>
                          </a:lnTo>
                          <a:lnTo>
                            <a:pt x="72" y="51"/>
                          </a:lnTo>
                          <a:lnTo>
                            <a:pt x="44" y="59"/>
                          </a:lnTo>
                          <a:lnTo>
                            <a:pt x="12" y="47"/>
                          </a:lnTo>
                          <a:lnTo>
                            <a:pt x="12" y="39"/>
                          </a:lnTo>
                          <a:lnTo>
                            <a:pt x="12" y="32"/>
                          </a:lnTo>
                          <a:lnTo>
                            <a:pt x="4" y="28"/>
                          </a:lnTo>
                          <a:lnTo>
                            <a:pt x="0" y="24"/>
                          </a:lnTo>
                          <a:lnTo>
                            <a:pt x="28" y="16"/>
                          </a:lnTo>
                          <a:lnTo>
                            <a:pt x="60" y="4"/>
                          </a:lnTo>
                          <a:lnTo>
                            <a:pt x="88" y="0"/>
                          </a:lnTo>
                          <a:lnTo>
                            <a:pt x="115" y="12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8" name=""/>
                    <p:cNvSpPr/>
                    <p:nvPr/>
                  </p:nvSpPr>
                  <p:spPr>
                    <a:xfrm>
                      <a:off x="7548480" y="3223080"/>
                      <a:ext cx="127080" cy="69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6" h="114">
                          <a:moveTo>
                            <a:pt x="206" y="0"/>
                          </a:moveTo>
                          <a:lnTo>
                            <a:pt x="178" y="16"/>
                          </a:lnTo>
                          <a:lnTo>
                            <a:pt x="150" y="36"/>
                          </a:lnTo>
                          <a:lnTo>
                            <a:pt x="119" y="51"/>
                          </a:lnTo>
                          <a:lnTo>
                            <a:pt x="91" y="71"/>
                          </a:lnTo>
                          <a:lnTo>
                            <a:pt x="63" y="86"/>
                          </a:lnTo>
                          <a:lnTo>
                            <a:pt x="39" y="98"/>
                          </a:lnTo>
                          <a:lnTo>
                            <a:pt x="15" y="110"/>
                          </a:lnTo>
                          <a:lnTo>
                            <a:pt x="0" y="114"/>
                          </a:lnTo>
                          <a:lnTo>
                            <a:pt x="27" y="94"/>
                          </a:lnTo>
                          <a:lnTo>
                            <a:pt x="51" y="75"/>
                          </a:lnTo>
                          <a:lnTo>
                            <a:pt x="71" y="55"/>
                          </a:lnTo>
                          <a:lnTo>
                            <a:pt x="95" y="36"/>
                          </a:lnTo>
                          <a:lnTo>
                            <a:pt x="119" y="20"/>
                          </a:lnTo>
                          <a:lnTo>
                            <a:pt x="142" y="4"/>
                          </a:lnTo>
                          <a:lnTo>
                            <a:pt x="170" y="0"/>
                          </a:lnTo>
                          <a:lnTo>
                            <a:pt x="206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2680" bIns="22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9" name=""/>
                    <p:cNvSpPr/>
                    <p:nvPr/>
                  </p:nvSpPr>
                  <p:spPr>
                    <a:xfrm>
                      <a:off x="7577640" y="3220560"/>
                      <a:ext cx="195840" cy="12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17" h="208">
                          <a:moveTo>
                            <a:pt x="310" y="40"/>
                          </a:moveTo>
                          <a:lnTo>
                            <a:pt x="274" y="16"/>
                          </a:lnTo>
                          <a:lnTo>
                            <a:pt x="0" y="208"/>
                          </a:lnTo>
                          <a:lnTo>
                            <a:pt x="0" y="184"/>
                          </a:lnTo>
                          <a:lnTo>
                            <a:pt x="4" y="169"/>
                          </a:lnTo>
                          <a:lnTo>
                            <a:pt x="16" y="157"/>
                          </a:lnTo>
                          <a:lnTo>
                            <a:pt x="32" y="149"/>
                          </a:lnTo>
                          <a:lnTo>
                            <a:pt x="48" y="141"/>
                          </a:lnTo>
                          <a:lnTo>
                            <a:pt x="68" y="133"/>
                          </a:lnTo>
                          <a:lnTo>
                            <a:pt x="87" y="122"/>
                          </a:lnTo>
                          <a:lnTo>
                            <a:pt x="103" y="106"/>
                          </a:lnTo>
                          <a:lnTo>
                            <a:pt x="131" y="90"/>
                          </a:lnTo>
                          <a:lnTo>
                            <a:pt x="155" y="75"/>
                          </a:lnTo>
                          <a:lnTo>
                            <a:pt x="179" y="55"/>
                          </a:lnTo>
                          <a:lnTo>
                            <a:pt x="202" y="36"/>
                          </a:lnTo>
                          <a:lnTo>
                            <a:pt x="226" y="20"/>
                          </a:lnTo>
                          <a:lnTo>
                            <a:pt x="254" y="8"/>
                          </a:lnTo>
                          <a:lnTo>
                            <a:pt x="286" y="0"/>
                          </a:lnTo>
                          <a:lnTo>
                            <a:pt x="317" y="4"/>
                          </a:lnTo>
                          <a:lnTo>
                            <a:pt x="310" y="4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0" name=""/>
                    <p:cNvSpPr/>
                    <p:nvPr/>
                  </p:nvSpPr>
                  <p:spPr>
                    <a:xfrm>
                      <a:off x="4744080" y="3230280"/>
                      <a:ext cx="132120" cy="10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4" h="168">
                          <a:moveTo>
                            <a:pt x="0" y="168"/>
                          </a:moveTo>
                          <a:lnTo>
                            <a:pt x="214" y="0"/>
                          </a:lnTo>
                          <a:lnTo>
                            <a:pt x="198" y="35"/>
                          </a:lnTo>
                          <a:lnTo>
                            <a:pt x="179" y="67"/>
                          </a:lnTo>
                          <a:lnTo>
                            <a:pt x="155" y="94"/>
                          </a:lnTo>
                          <a:lnTo>
                            <a:pt x="127" y="117"/>
                          </a:lnTo>
                          <a:lnTo>
                            <a:pt x="99" y="133"/>
                          </a:lnTo>
                          <a:lnTo>
                            <a:pt x="67" y="149"/>
                          </a:lnTo>
                          <a:lnTo>
                            <a:pt x="32" y="160"/>
                          </a:lnTo>
                          <a:lnTo>
                            <a:pt x="0" y="168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1" name=""/>
                    <p:cNvSpPr/>
                    <p:nvPr/>
                  </p:nvSpPr>
                  <p:spPr>
                    <a:xfrm>
                      <a:off x="7158240" y="3278160"/>
                      <a:ext cx="29520" cy="21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" h="35">
                          <a:moveTo>
                            <a:pt x="0" y="35"/>
                          </a:moveTo>
                          <a:lnTo>
                            <a:pt x="48" y="0"/>
                          </a:lnTo>
                          <a:lnTo>
                            <a:pt x="24" y="35"/>
                          </a:lnTo>
                          <a:lnTo>
                            <a:pt x="0" y="35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2" name=""/>
                    <p:cNvSpPr/>
                    <p:nvPr/>
                  </p:nvSpPr>
                  <p:spPr>
                    <a:xfrm>
                      <a:off x="7668360" y="3285360"/>
                      <a:ext cx="5616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1" h="78">
                          <a:moveTo>
                            <a:pt x="91" y="0"/>
                          </a:moveTo>
                          <a:lnTo>
                            <a:pt x="0" y="78"/>
                          </a:lnTo>
                          <a:lnTo>
                            <a:pt x="91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3" name=""/>
                    <p:cNvSpPr/>
                    <p:nvPr/>
                  </p:nvSpPr>
                  <p:spPr>
                    <a:xfrm>
                      <a:off x="4771440" y="3340440"/>
                      <a:ext cx="41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7" h="90">
                          <a:moveTo>
                            <a:pt x="35" y="90"/>
                          </a:moveTo>
                          <a:lnTo>
                            <a:pt x="0" y="59"/>
                          </a:lnTo>
                          <a:lnTo>
                            <a:pt x="67" y="0"/>
                          </a:lnTo>
                          <a:lnTo>
                            <a:pt x="63" y="23"/>
                          </a:lnTo>
                          <a:lnTo>
                            <a:pt x="51" y="47"/>
                          </a:lnTo>
                          <a:lnTo>
                            <a:pt x="43" y="70"/>
                          </a:lnTo>
                          <a:lnTo>
                            <a:pt x="35" y="9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4" name=""/>
                    <p:cNvSpPr/>
                    <p:nvPr/>
                  </p:nvSpPr>
                  <p:spPr>
                    <a:xfrm>
                      <a:off x="7626600" y="3368880"/>
                      <a:ext cx="49320" cy="68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0" h="113">
                          <a:moveTo>
                            <a:pt x="24" y="113"/>
                          </a:moveTo>
                          <a:lnTo>
                            <a:pt x="0" y="90"/>
                          </a:lnTo>
                          <a:lnTo>
                            <a:pt x="80" y="0"/>
                          </a:lnTo>
                          <a:lnTo>
                            <a:pt x="64" y="27"/>
                          </a:lnTo>
                          <a:lnTo>
                            <a:pt x="60" y="62"/>
                          </a:lnTo>
                          <a:lnTo>
                            <a:pt x="48" y="90"/>
                          </a:lnTo>
                          <a:lnTo>
                            <a:pt x="24" y="113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960" bIns="21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5" name=""/>
                    <p:cNvSpPr/>
                    <p:nvPr/>
                  </p:nvSpPr>
                  <p:spPr>
                    <a:xfrm>
                      <a:off x="4680720" y="3438000"/>
                      <a:ext cx="169200" cy="11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4" h="188">
                          <a:moveTo>
                            <a:pt x="8" y="188"/>
                          </a:moveTo>
                          <a:lnTo>
                            <a:pt x="0" y="176"/>
                          </a:lnTo>
                          <a:lnTo>
                            <a:pt x="24" y="149"/>
                          </a:lnTo>
                          <a:lnTo>
                            <a:pt x="55" y="125"/>
                          </a:lnTo>
                          <a:lnTo>
                            <a:pt x="87" y="110"/>
                          </a:lnTo>
                          <a:lnTo>
                            <a:pt x="123" y="90"/>
                          </a:lnTo>
                          <a:lnTo>
                            <a:pt x="159" y="75"/>
                          </a:lnTo>
                          <a:lnTo>
                            <a:pt x="190" y="55"/>
                          </a:lnTo>
                          <a:lnTo>
                            <a:pt x="218" y="32"/>
                          </a:lnTo>
                          <a:lnTo>
                            <a:pt x="238" y="0"/>
                          </a:lnTo>
                          <a:lnTo>
                            <a:pt x="274" y="0"/>
                          </a:lnTo>
                          <a:lnTo>
                            <a:pt x="8" y="188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6" name=""/>
                    <p:cNvSpPr/>
                    <p:nvPr/>
                  </p:nvSpPr>
                  <p:spPr>
                    <a:xfrm>
                      <a:off x="4648320" y="3443040"/>
                      <a:ext cx="130320" cy="7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1" h="125">
                          <a:moveTo>
                            <a:pt x="4" y="125"/>
                          </a:moveTo>
                          <a:lnTo>
                            <a:pt x="0" y="102"/>
                          </a:lnTo>
                          <a:lnTo>
                            <a:pt x="4" y="82"/>
                          </a:lnTo>
                          <a:lnTo>
                            <a:pt x="16" y="63"/>
                          </a:lnTo>
                          <a:lnTo>
                            <a:pt x="32" y="51"/>
                          </a:lnTo>
                          <a:lnTo>
                            <a:pt x="56" y="39"/>
                          </a:lnTo>
                          <a:lnTo>
                            <a:pt x="80" y="27"/>
                          </a:lnTo>
                          <a:lnTo>
                            <a:pt x="107" y="20"/>
                          </a:lnTo>
                          <a:lnTo>
                            <a:pt x="131" y="12"/>
                          </a:lnTo>
                          <a:lnTo>
                            <a:pt x="151" y="16"/>
                          </a:lnTo>
                          <a:lnTo>
                            <a:pt x="171" y="8"/>
                          </a:lnTo>
                          <a:lnTo>
                            <a:pt x="187" y="0"/>
                          </a:lnTo>
                          <a:lnTo>
                            <a:pt x="211" y="4"/>
                          </a:lnTo>
                          <a:lnTo>
                            <a:pt x="4" y="125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160" bIns="29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7" name=""/>
                    <p:cNvSpPr/>
                    <p:nvPr/>
                  </p:nvSpPr>
                  <p:spPr>
                    <a:xfrm>
                      <a:off x="4714560" y="3445560"/>
                      <a:ext cx="213120" cy="14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5" h="231">
                          <a:moveTo>
                            <a:pt x="36" y="231"/>
                          </a:moveTo>
                          <a:lnTo>
                            <a:pt x="0" y="219"/>
                          </a:lnTo>
                          <a:lnTo>
                            <a:pt x="40" y="184"/>
                          </a:lnTo>
                          <a:lnTo>
                            <a:pt x="80" y="149"/>
                          </a:lnTo>
                          <a:lnTo>
                            <a:pt x="123" y="117"/>
                          </a:lnTo>
                          <a:lnTo>
                            <a:pt x="167" y="86"/>
                          </a:lnTo>
                          <a:lnTo>
                            <a:pt x="211" y="55"/>
                          </a:lnTo>
                          <a:lnTo>
                            <a:pt x="258" y="31"/>
                          </a:lnTo>
                          <a:lnTo>
                            <a:pt x="302" y="12"/>
                          </a:lnTo>
                          <a:lnTo>
                            <a:pt x="345" y="0"/>
                          </a:lnTo>
                          <a:lnTo>
                            <a:pt x="36" y="231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8" name=""/>
                    <p:cNvSpPr/>
                    <p:nvPr/>
                  </p:nvSpPr>
                  <p:spPr>
                    <a:xfrm>
                      <a:off x="4812840" y="3450240"/>
                      <a:ext cx="176760" cy="12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86" h="211">
                          <a:moveTo>
                            <a:pt x="286" y="0"/>
                          </a:moveTo>
                          <a:lnTo>
                            <a:pt x="254" y="39"/>
                          </a:lnTo>
                          <a:lnTo>
                            <a:pt x="218" y="66"/>
                          </a:lnTo>
                          <a:lnTo>
                            <a:pt x="183" y="90"/>
                          </a:lnTo>
                          <a:lnTo>
                            <a:pt x="147" y="105"/>
                          </a:lnTo>
                          <a:lnTo>
                            <a:pt x="107" y="125"/>
                          </a:lnTo>
                          <a:lnTo>
                            <a:pt x="71" y="148"/>
                          </a:lnTo>
                          <a:lnTo>
                            <a:pt x="36" y="176"/>
                          </a:lnTo>
                          <a:lnTo>
                            <a:pt x="0" y="211"/>
                          </a:lnTo>
                          <a:lnTo>
                            <a:pt x="24" y="184"/>
                          </a:lnTo>
                          <a:lnTo>
                            <a:pt x="56" y="152"/>
                          </a:lnTo>
                          <a:lnTo>
                            <a:pt x="83" y="125"/>
                          </a:lnTo>
                          <a:lnTo>
                            <a:pt x="119" y="94"/>
                          </a:lnTo>
                          <a:lnTo>
                            <a:pt x="155" y="66"/>
                          </a:lnTo>
                          <a:lnTo>
                            <a:pt x="198" y="39"/>
                          </a:lnTo>
                          <a:lnTo>
                            <a:pt x="238" y="15"/>
                          </a:lnTo>
                          <a:lnTo>
                            <a:pt x="286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99" name=""/>
                    <p:cNvSpPr/>
                    <p:nvPr/>
                  </p:nvSpPr>
                  <p:spPr>
                    <a:xfrm>
                      <a:off x="4587120" y="3457440"/>
                      <a:ext cx="41760" cy="16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" h="27">
                          <a:moveTo>
                            <a:pt x="68" y="0"/>
                          </a:moveTo>
                          <a:lnTo>
                            <a:pt x="56" y="19"/>
                          </a:lnTo>
                          <a:lnTo>
                            <a:pt x="36" y="27"/>
                          </a:lnTo>
                          <a:lnTo>
                            <a:pt x="12" y="19"/>
                          </a:lnTo>
                          <a:lnTo>
                            <a:pt x="0" y="0"/>
                          </a:lnTo>
                          <a:lnTo>
                            <a:pt x="68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0" name=""/>
                    <p:cNvSpPr/>
                    <p:nvPr/>
                  </p:nvSpPr>
                  <p:spPr>
                    <a:xfrm>
                      <a:off x="5549040" y="3464280"/>
                      <a:ext cx="122400" cy="59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8" h="98">
                          <a:moveTo>
                            <a:pt x="198" y="0"/>
                          </a:moveTo>
                          <a:lnTo>
                            <a:pt x="175" y="8"/>
                          </a:lnTo>
                          <a:lnTo>
                            <a:pt x="151" y="24"/>
                          </a:lnTo>
                          <a:lnTo>
                            <a:pt x="127" y="47"/>
                          </a:lnTo>
                          <a:lnTo>
                            <a:pt x="103" y="71"/>
                          </a:lnTo>
                          <a:lnTo>
                            <a:pt x="79" y="86"/>
                          </a:lnTo>
                          <a:lnTo>
                            <a:pt x="52" y="98"/>
                          </a:lnTo>
                          <a:lnTo>
                            <a:pt x="28" y="94"/>
                          </a:lnTo>
                          <a:lnTo>
                            <a:pt x="0" y="71"/>
                          </a:lnTo>
                          <a:lnTo>
                            <a:pt x="20" y="47"/>
                          </a:lnTo>
                          <a:lnTo>
                            <a:pt x="40" y="32"/>
                          </a:lnTo>
                          <a:lnTo>
                            <a:pt x="63" y="24"/>
                          </a:lnTo>
                          <a:lnTo>
                            <a:pt x="87" y="16"/>
                          </a:lnTo>
                          <a:lnTo>
                            <a:pt x="115" y="12"/>
                          </a:lnTo>
                          <a:lnTo>
                            <a:pt x="139" y="12"/>
                          </a:lnTo>
                          <a:lnTo>
                            <a:pt x="163" y="12"/>
                          </a:lnTo>
                          <a:lnTo>
                            <a:pt x="186" y="12"/>
                          </a:lnTo>
                          <a:lnTo>
                            <a:pt x="198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960" bIns="12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1" name=""/>
                    <p:cNvSpPr/>
                    <p:nvPr/>
                  </p:nvSpPr>
                  <p:spPr>
                    <a:xfrm>
                      <a:off x="5683680" y="3464280"/>
                      <a:ext cx="240480" cy="169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9" h="278">
                          <a:moveTo>
                            <a:pt x="389" y="0"/>
                          </a:moveTo>
                          <a:lnTo>
                            <a:pt x="349" y="39"/>
                          </a:lnTo>
                          <a:lnTo>
                            <a:pt x="310" y="78"/>
                          </a:lnTo>
                          <a:lnTo>
                            <a:pt x="270" y="114"/>
                          </a:lnTo>
                          <a:lnTo>
                            <a:pt x="234" y="145"/>
                          </a:lnTo>
                          <a:lnTo>
                            <a:pt x="194" y="180"/>
                          </a:lnTo>
                          <a:lnTo>
                            <a:pt x="155" y="211"/>
                          </a:lnTo>
                          <a:lnTo>
                            <a:pt x="119" y="243"/>
                          </a:lnTo>
                          <a:lnTo>
                            <a:pt x="79" y="278"/>
                          </a:lnTo>
                          <a:lnTo>
                            <a:pt x="107" y="247"/>
                          </a:lnTo>
                          <a:lnTo>
                            <a:pt x="139" y="215"/>
                          </a:lnTo>
                          <a:lnTo>
                            <a:pt x="175" y="188"/>
                          </a:lnTo>
                          <a:lnTo>
                            <a:pt x="206" y="161"/>
                          </a:lnTo>
                          <a:lnTo>
                            <a:pt x="242" y="133"/>
                          </a:lnTo>
                          <a:lnTo>
                            <a:pt x="274" y="106"/>
                          </a:lnTo>
                          <a:lnTo>
                            <a:pt x="306" y="75"/>
                          </a:lnTo>
                          <a:lnTo>
                            <a:pt x="333" y="47"/>
                          </a:lnTo>
                          <a:lnTo>
                            <a:pt x="310" y="24"/>
                          </a:lnTo>
                          <a:lnTo>
                            <a:pt x="270" y="51"/>
                          </a:lnTo>
                          <a:lnTo>
                            <a:pt x="230" y="78"/>
                          </a:lnTo>
                          <a:lnTo>
                            <a:pt x="191" y="110"/>
                          </a:lnTo>
                          <a:lnTo>
                            <a:pt x="155" y="141"/>
                          </a:lnTo>
                          <a:lnTo>
                            <a:pt x="119" y="168"/>
                          </a:lnTo>
                          <a:lnTo>
                            <a:pt x="79" y="192"/>
                          </a:lnTo>
                          <a:lnTo>
                            <a:pt x="40" y="211"/>
                          </a:lnTo>
                          <a:lnTo>
                            <a:pt x="0" y="223"/>
                          </a:lnTo>
                          <a:lnTo>
                            <a:pt x="52" y="188"/>
                          </a:lnTo>
                          <a:lnTo>
                            <a:pt x="99" y="157"/>
                          </a:lnTo>
                          <a:lnTo>
                            <a:pt x="143" y="121"/>
                          </a:lnTo>
                          <a:lnTo>
                            <a:pt x="187" y="90"/>
                          </a:lnTo>
                          <a:lnTo>
                            <a:pt x="230" y="59"/>
                          </a:lnTo>
                          <a:lnTo>
                            <a:pt x="278" y="35"/>
                          </a:lnTo>
                          <a:lnTo>
                            <a:pt x="329" y="16"/>
                          </a:lnTo>
                          <a:lnTo>
                            <a:pt x="389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2" name=""/>
                    <p:cNvSpPr/>
                    <p:nvPr/>
                  </p:nvSpPr>
                  <p:spPr>
                    <a:xfrm>
                      <a:off x="5635080" y="3471480"/>
                      <a:ext cx="183600" cy="10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97" h="176">
                          <a:moveTo>
                            <a:pt x="297" y="0"/>
                          </a:moveTo>
                          <a:lnTo>
                            <a:pt x="262" y="16"/>
                          </a:lnTo>
                          <a:lnTo>
                            <a:pt x="226" y="35"/>
                          </a:lnTo>
                          <a:lnTo>
                            <a:pt x="194" y="55"/>
                          </a:lnTo>
                          <a:lnTo>
                            <a:pt x="162" y="74"/>
                          </a:lnTo>
                          <a:lnTo>
                            <a:pt x="131" y="98"/>
                          </a:lnTo>
                          <a:lnTo>
                            <a:pt x="99" y="121"/>
                          </a:lnTo>
                          <a:lnTo>
                            <a:pt x="71" y="149"/>
                          </a:lnTo>
                          <a:lnTo>
                            <a:pt x="47" y="176"/>
                          </a:lnTo>
                          <a:lnTo>
                            <a:pt x="0" y="156"/>
                          </a:lnTo>
                          <a:lnTo>
                            <a:pt x="36" y="137"/>
                          </a:lnTo>
                          <a:lnTo>
                            <a:pt x="67" y="113"/>
                          </a:lnTo>
                          <a:lnTo>
                            <a:pt x="103" y="90"/>
                          </a:lnTo>
                          <a:lnTo>
                            <a:pt x="139" y="66"/>
                          </a:lnTo>
                          <a:lnTo>
                            <a:pt x="178" y="43"/>
                          </a:lnTo>
                          <a:lnTo>
                            <a:pt x="214" y="23"/>
                          </a:lnTo>
                          <a:lnTo>
                            <a:pt x="254" y="8"/>
                          </a:lnTo>
                          <a:lnTo>
                            <a:pt x="297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3" name=""/>
                    <p:cNvSpPr/>
                    <p:nvPr/>
                  </p:nvSpPr>
                  <p:spPr>
                    <a:xfrm>
                      <a:off x="6552360" y="3485880"/>
                      <a:ext cx="127080" cy="50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6" h="83">
                          <a:moveTo>
                            <a:pt x="206" y="0"/>
                          </a:moveTo>
                          <a:lnTo>
                            <a:pt x="183" y="16"/>
                          </a:lnTo>
                          <a:lnTo>
                            <a:pt x="159" y="32"/>
                          </a:lnTo>
                          <a:lnTo>
                            <a:pt x="131" y="47"/>
                          </a:lnTo>
                          <a:lnTo>
                            <a:pt x="107" y="63"/>
                          </a:lnTo>
                          <a:lnTo>
                            <a:pt x="80" y="75"/>
                          </a:lnTo>
                          <a:lnTo>
                            <a:pt x="52" y="83"/>
                          </a:lnTo>
                          <a:lnTo>
                            <a:pt x="28" y="83"/>
                          </a:lnTo>
                          <a:lnTo>
                            <a:pt x="0" y="79"/>
                          </a:lnTo>
                          <a:lnTo>
                            <a:pt x="24" y="59"/>
                          </a:lnTo>
                          <a:lnTo>
                            <a:pt x="48" y="43"/>
                          </a:lnTo>
                          <a:lnTo>
                            <a:pt x="76" y="32"/>
                          </a:lnTo>
                          <a:lnTo>
                            <a:pt x="103" y="20"/>
                          </a:lnTo>
                          <a:lnTo>
                            <a:pt x="131" y="12"/>
                          </a:lnTo>
                          <a:lnTo>
                            <a:pt x="159" y="8"/>
                          </a:lnTo>
                          <a:lnTo>
                            <a:pt x="183" y="4"/>
                          </a:lnTo>
                          <a:lnTo>
                            <a:pt x="206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" bIns="3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4" name=""/>
                    <p:cNvSpPr/>
                    <p:nvPr/>
                  </p:nvSpPr>
                  <p:spPr>
                    <a:xfrm>
                      <a:off x="6679440" y="3485880"/>
                      <a:ext cx="64080" cy="40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67">
                          <a:moveTo>
                            <a:pt x="104" y="0"/>
                          </a:moveTo>
                          <a:lnTo>
                            <a:pt x="88" y="20"/>
                          </a:lnTo>
                          <a:lnTo>
                            <a:pt x="60" y="32"/>
                          </a:lnTo>
                          <a:lnTo>
                            <a:pt x="28" y="47"/>
                          </a:lnTo>
                          <a:lnTo>
                            <a:pt x="0" y="67"/>
                          </a:lnTo>
                          <a:lnTo>
                            <a:pt x="28" y="47"/>
                          </a:lnTo>
                          <a:lnTo>
                            <a:pt x="60" y="36"/>
                          </a:lnTo>
                          <a:lnTo>
                            <a:pt x="84" y="24"/>
                          </a:lnTo>
                          <a:lnTo>
                            <a:pt x="104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6120" bIns="-6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5" name=""/>
                    <p:cNvSpPr/>
                    <p:nvPr/>
                  </p:nvSpPr>
                  <p:spPr>
                    <a:xfrm>
                      <a:off x="6750720" y="3493080"/>
                      <a:ext cx="147240" cy="7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8" h="129">
                          <a:moveTo>
                            <a:pt x="238" y="0"/>
                          </a:moveTo>
                          <a:lnTo>
                            <a:pt x="211" y="20"/>
                          </a:lnTo>
                          <a:lnTo>
                            <a:pt x="183" y="39"/>
                          </a:lnTo>
                          <a:lnTo>
                            <a:pt x="155" y="59"/>
                          </a:lnTo>
                          <a:lnTo>
                            <a:pt x="127" y="74"/>
                          </a:lnTo>
                          <a:lnTo>
                            <a:pt x="100" y="90"/>
                          </a:lnTo>
                          <a:lnTo>
                            <a:pt x="68" y="106"/>
                          </a:lnTo>
                          <a:lnTo>
                            <a:pt x="36" y="117"/>
                          </a:lnTo>
                          <a:lnTo>
                            <a:pt x="0" y="129"/>
                          </a:lnTo>
                          <a:lnTo>
                            <a:pt x="28" y="114"/>
                          </a:lnTo>
                          <a:lnTo>
                            <a:pt x="56" y="94"/>
                          </a:lnTo>
                          <a:lnTo>
                            <a:pt x="88" y="71"/>
                          </a:lnTo>
                          <a:lnTo>
                            <a:pt x="116" y="47"/>
                          </a:lnTo>
                          <a:lnTo>
                            <a:pt x="143" y="28"/>
                          </a:lnTo>
                          <a:lnTo>
                            <a:pt x="175" y="12"/>
                          </a:lnTo>
                          <a:lnTo>
                            <a:pt x="207" y="0"/>
                          </a:lnTo>
                          <a:lnTo>
                            <a:pt x="238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1680" bIns="31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6" name=""/>
                    <p:cNvSpPr/>
                    <p:nvPr/>
                  </p:nvSpPr>
                  <p:spPr>
                    <a:xfrm>
                      <a:off x="6638040" y="3507480"/>
                      <a:ext cx="154440" cy="10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0" h="164">
                          <a:moveTo>
                            <a:pt x="250" y="0"/>
                          </a:moveTo>
                          <a:lnTo>
                            <a:pt x="222" y="15"/>
                          </a:lnTo>
                          <a:lnTo>
                            <a:pt x="194" y="35"/>
                          </a:lnTo>
                          <a:lnTo>
                            <a:pt x="163" y="54"/>
                          </a:lnTo>
                          <a:lnTo>
                            <a:pt x="131" y="78"/>
                          </a:lnTo>
                          <a:lnTo>
                            <a:pt x="103" y="97"/>
                          </a:lnTo>
                          <a:lnTo>
                            <a:pt x="71" y="121"/>
                          </a:lnTo>
                          <a:lnTo>
                            <a:pt x="40" y="144"/>
                          </a:lnTo>
                          <a:lnTo>
                            <a:pt x="12" y="164"/>
                          </a:lnTo>
                          <a:lnTo>
                            <a:pt x="4" y="156"/>
                          </a:lnTo>
                          <a:lnTo>
                            <a:pt x="0" y="148"/>
                          </a:lnTo>
                          <a:lnTo>
                            <a:pt x="0" y="136"/>
                          </a:lnTo>
                          <a:lnTo>
                            <a:pt x="0" y="129"/>
                          </a:lnTo>
                          <a:lnTo>
                            <a:pt x="32" y="113"/>
                          </a:lnTo>
                          <a:lnTo>
                            <a:pt x="64" y="93"/>
                          </a:lnTo>
                          <a:lnTo>
                            <a:pt x="91" y="78"/>
                          </a:lnTo>
                          <a:lnTo>
                            <a:pt x="123" y="58"/>
                          </a:lnTo>
                          <a:lnTo>
                            <a:pt x="155" y="43"/>
                          </a:lnTo>
                          <a:lnTo>
                            <a:pt x="186" y="27"/>
                          </a:lnTo>
                          <a:lnTo>
                            <a:pt x="218" y="11"/>
                          </a:lnTo>
                          <a:lnTo>
                            <a:pt x="250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7" name=""/>
                    <p:cNvSpPr/>
                    <p:nvPr/>
                  </p:nvSpPr>
                  <p:spPr>
                    <a:xfrm>
                      <a:off x="7555320" y="3511800"/>
                      <a:ext cx="142920" cy="8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31" h="145">
                          <a:moveTo>
                            <a:pt x="0" y="145"/>
                          </a:moveTo>
                          <a:lnTo>
                            <a:pt x="183" y="0"/>
                          </a:lnTo>
                          <a:lnTo>
                            <a:pt x="231" y="0"/>
                          </a:lnTo>
                          <a:lnTo>
                            <a:pt x="0" y="145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1760" bIns="41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8" name=""/>
                    <p:cNvSpPr/>
                    <p:nvPr/>
                  </p:nvSpPr>
                  <p:spPr>
                    <a:xfrm>
                      <a:off x="7582680" y="3519360"/>
                      <a:ext cx="186480" cy="122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2" h="200">
                          <a:moveTo>
                            <a:pt x="12" y="200"/>
                          </a:moveTo>
                          <a:lnTo>
                            <a:pt x="0" y="188"/>
                          </a:lnTo>
                          <a:lnTo>
                            <a:pt x="36" y="157"/>
                          </a:lnTo>
                          <a:lnTo>
                            <a:pt x="71" y="129"/>
                          </a:lnTo>
                          <a:lnTo>
                            <a:pt x="107" y="102"/>
                          </a:lnTo>
                          <a:lnTo>
                            <a:pt x="147" y="74"/>
                          </a:lnTo>
                          <a:lnTo>
                            <a:pt x="183" y="51"/>
                          </a:lnTo>
                          <a:lnTo>
                            <a:pt x="222" y="31"/>
                          </a:lnTo>
                          <a:lnTo>
                            <a:pt x="262" y="12"/>
                          </a:lnTo>
                          <a:lnTo>
                            <a:pt x="302" y="0"/>
                          </a:lnTo>
                          <a:lnTo>
                            <a:pt x="12" y="20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09" name=""/>
                    <p:cNvSpPr/>
                    <p:nvPr/>
                  </p:nvSpPr>
                  <p:spPr>
                    <a:xfrm>
                      <a:off x="7641360" y="3519360"/>
                      <a:ext cx="203400" cy="13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9" h="223">
                          <a:moveTo>
                            <a:pt x="0" y="223"/>
                          </a:moveTo>
                          <a:lnTo>
                            <a:pt x="0" y="200"/>
                          </a:lnTo>
                          <a:lnTo>
                            <a:pt x="40" y="176"/>
                          </a:lnTo>
                          <a:lnTo>
                            <a:pt x="80" y="149"/>
                          </a:lnTo>
                          <a:lnTo>
                            <a:pt x="119" y="121"/>
                          </a:lnTo>
                          <a:lnTo>
                            <a:pt x="159" y="94"/>
                          </a:lnTo>
                          <a:lnTo>
                            <a:pt x="199" y="67"/>
                          </a:lnTo>
                          <a:lnTo>
                            <a:pt x="242" y="39"/>
                          </a:lnTo>
                          <a:lnTo>
                            <a:pt x="286" y="20"/>
                          </a:lnTo>
                          <a:lnTo>
                            <a:pt x="329" y="0"/>
                          </a:lnTo>
                          <a:lnTo>
                            <a:pt x="0" y="223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0" name=""/>
                    <p:cNvSpPr/>
                    <p:nvPr/>
                  </p:nvSpPr>
                  <p:spPr>
                    <a:xfrm>
                      <a:off x="7526160" y="3533760"/>
                      <a:ext cx="43560" cy="2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1" h="43">
                          <a:moveTo>
                            <a:pt x="71" y="0"/>
                          </a:moveTo>
                          <a:lnTo>
                            <a:pt x="63" y="15"/>
                          </a:lnTo>
                          <a:lnTo>
                            <a:pt x="43" y="27"/>
                          </a:lnTo>
                          <a:lnTo>
                            <a:pt x="20" y="35"/>
                          </a:lnTo>
                          <a:lnTo>
                            <a:pt x="0" y="43"/>
                          </a:lnTo>
                          <a:lnTo>
                            <a:pt x="12" y="23"/>
                          </a:lnTo>
                          <a:lnTo>
                            <a:pt x="28" y="7"/>
                          </a:lnTo>
                          <a:lnTo>
                            <a:pt x="51" y="4"/>
                          </a:lnTo>
                          <a:lnTo>
                            <a:pt x="71" y="0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1" name=""/>
                    <p:cNvSpPr/>
                    <p:nvPr/>
                  </p:nvSpPr>
                  <p:spPr>
                    <a:xfrm>
                      <a:off x="4779000" y="3571560"/>
                      <a:ext cx="90000" cy="90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49">
                          <a:moveTo>
                            <a:pt x="11" y="149"/>
                          </a:moveTo>
                          <a:lnTo>
                            <a:pt x="0" y="137"/>
                          </a:lnTo>
                          <a:lnTo>
                            <a:pt x="146" y="0"/>
                          </a:lnTo>
                          <a:lnTo>
                            <a:pt x="134" y="16"/>
                          </a:lnTo>
                          <a:lnTo>
                            <a:pt x="123" y="35"/>
                          </a:lnTo>
                          <a:lnTo>
                            <a:pt x="111" y="59"/>
                          </a:lnTo>
                          <a:lnTo>
                            <a:pt x="95" y="82"/>
                          </a:lnTo>
                          <a:lnTo>
                            <a:pt x="75" y="106"/>
                          </a:lnTo>
                          <a:lnTo>
                            <a:pt x="59" y="125"/>
                          </a:lnTo>
                          <a:lnTo>
                            <a:pt x="35" y="141"/>
                          </a:lnTo>
                          <a:lnTo>
                            <a:pt x="11" y="149"/>
                          </a:lnTo>
                          <a:close/>
                        </a:path>
                      </a:pathLst>
                    </a:custGeom>
                    <a:solidFill>
                      <a:srgbClr val="f2e5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920" bIns="439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12" name=""/>
                  <p:cNvGrpSpPr/>
                  <p:nvPr/>
                </p:nvGrpSpPr>
                <p:grpSpPr>
                  <a:xfrm>
                    <a:off x="4906080" y="3834360"/>
                    <a:ext cx="2683440" cy="240840"/>
                    <a:chOff x="4906080" y="3834360"/>
                    <a:chExt cx="2683440" cy="240840"/>
                  </a:xfrm>
                </p:grpSpPr>
                <p:sp>
                  <p:nvSpPr>
                    <p:cNvPr id="1013" name=""/>
                    <p:cNvSpPr/>
                    <p:nvPr/>
                  </p:nvSpPr>
                  <p:spPr>
                    <a:xfrm>
                      <a:off x="4906080" y="3834360"/>
                      <a:ext cx="765000" cy="24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7" h="395">
                          <a:moveTo>
                            <a:pt x="1237" y="0"/>
                          </a:moveTo>
                          <a:lnTo>
                            <a:pt x="1158" y="51"/>
                          </a:lnTo>
                          <a:lnTo>
                            <a:pt x="1083" y="98"/>
                          </a:lnTo>
                          <a:lnTo>
                            <a:pt x="1011" y="149"/>
                          </a:lnTo>
                          <a:lnTo>
                            <a:pt x="936" y="200"/>
                          </a:lnTo>
                          <a:lnTo>
                            <a:pt x="864" y="250"/>
                          </a:lnTo>
                          <a:lnTo>
                            <a:pt x="789" y="301"/>
                          </a:lnTo>
                          <a:lnTo>
                            <a:pt x="710" y="348"/>
                          </a:lnTo>
                          <a:lnTo>
                            <a:pt x="630" y="395"/>
                          </a:lnTo>
                          <a:lnTo>
                            <a:pt x="583" y="391"/>
                          </a:lnTo>
                          <a:lnTo>
                            <a:pt x="543" y="376"/>
                          </a:lnTo>
                          <a:lnTo>
                            <a:pt x="511" y="352"/>
                          </a:lnTo>
                          <a:lnTo>
                            <a:pt x="484" y="325"/>
                          </a:lnTo>
                          <a:lnTo>
                            <a:pt x="452" y="297"/>
                          </a:lnTo>
                          <a:lnTo>
                            <a:pt x="420" y="274"/>
                          </a:lnTo>
                          <a:lnTo>
                            <a:pt x="381" y="258"/>
                          </a:lnTo>
                          <a:lnTo>
                            <a:pt x="333" y="258"/>
                          </a:lnTo>
                          <a:lnTo>
                            <a:pt x="289" y="235"/>
                          </a:lnTo>
                          <a:lnTo>
                            <a:pt x="246" y="207"/>
                          </a:lnTo>
                          <a:lnTo>
                            <a:pt x="202" y="176"/>
                          </a:lnTo>
                          <a:lnTo>
                            <a:pt x="158" y="145"/>
                          </a:lnTo>
                          <a:lnTo>
                            <a:pt x="119" y="114"/>
                          </a:lnTo>
                          <a:lnTo>
                            <a:pt x="75" y="78"/>
                          </a:lnTo>
                          <a:lnTo>
                            <a:pt x="39" y="43"/>
                          </a:lnTo>
                          <a:lnTo>
                            <a:pt x="0" y="12"/>
                          </a:lnTo>
                          <a:lnTo>
                            <a:pt x="71" y="8"/>
                          </a:lnTo>
                          <a:lnTo>
                            <a:pt x="147" y="4"/>
                          </a:lnTo>
                          <a:lnTo>
                            <a:pt x="222" y="4"/>
                          </a:lnTo>
                          <a:lnTo>
                            <a:pt x="297" y="4"/>
                          </a:lnTo>
                          <a:lnTo>
                            <a:pt x="377" y="0"/>
                          </a:lnTo>
                          <a:lnTo>
                            <a:pt x="452" y="0"/>
                          </a:lnTo>
                          <a:lnTo>
                            <a:pt x="531" y="0"/>
                          </a:lnTo>
                          <a:lnTo>
                            <a:pt x="611" y="0"/>
                          </a:lnTo>
                          <a:lnTo>
                            <a:pt x="690" y="0"/>
                          </a:lnTo>
                          <a:lnTo>
                            <a:pt x="769" y="0"/>
                          </a:lnTo>
                          <a:lnTo>
                            <a:pt x="849" y="0"/>
                          </a:lnTo>
                          <a:lnTo>
                            <a:pt x="928" y="0"/>
                          </a:lnTo>
                          <a:lnTo>
                            <a:pt x="1007" y="0"/>
                          </a:lnTo>
                          <a:lnTo>
                            <a:pt x="1087" y="0"/>
                          </a:lnTo>
                          <a:lnTo>
                            <a:pt x="1162" y="0"/>
                          </a:lnTo>
                          <a:lnTo>
                            <a:pt x="1237" y="0"/>
                          </a:lnTo>
                          <a:close/>
                        </a:path>
                      </a:pathLst>
                    </a:custGeom>
                    <a:solidFill>
                      <a:srgbClr val="ff7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4" name=""/>
                    <p:cNvSpPr/>
                    <p:nvPr/>
                  </p:nvSpPr>
                  <p:spPr>
                    <a:xfrm>
                      <a:off x="5791680" y="3834360"/>
                      <a:ext cx="823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32" h="372">
                          <a:moveTo>
                            <a:pt x="1332" y="24"/>
                          </a:moveTo>
                          <a:lnTo>
                            <a:pt x="1273" y="71"/>
                          </a:lnTo>
                          <a:lnTo>
                            <a:pt x="1213" y="117"/>
                          </a:lnTo>
                          <a:lnTo>
                            <a:pt x="1154" y="161"/>
                          </a:lnTo>
                          <a:lnTo>
                            <a:pt x="1094" y="204"/>
                          </a:lnTo>
                          <a:lnTo>
                            <a:pt x="1035" y="243"/>
                          </a:lnTo>
                          <a:lnTo>
                            <a:pt x="975" y="286"/>
                          </a:lnTo>
                          <a:lnTo>
                            <a:pt x="916" y="329"/>
                          </a:lnTo>
                          <a:lnTo>
                            <a:pt x="852" y="372"/>
                          </a:lnTo>
                          <a:lnTo>
                            <a:pt x="801" y="352"/>
                          </a:lnTo>
                          <a:lnTo>
                            <a:pt x="745" y="333"/>
                          </a:lnTo>
                          <a:lnTo>
                            <a:pt x="694" y="313"/>
                          </a:lnTo>
                          <a:lnTo>
                            <a:pt x="638" y="290"/>
                          </a:lnTo>
                          <a:lnTo>
                            <a:pt x="587" y="266"/>
                          </a:lnTo>
                          <a:lnTo>
                            <a:pt x="535" y="243"/>
                          </a:lnTo>
                          <a:lnTo>
                            <a:pt x="484" y="219"/>
                          </a:lnTo>
                          <a:lnTo>
                            <a:pt x="428" y="192"/>
                          </a:lnTo>
                          <a:lnTo>
                            <a:pt x="376" y="168"/>
                          </a:lnTo>
                          <a:lnTo>
                            <a:pt x="325" y="141"/>
                          </a:lnTo>
                          <a:lnTo>
                            <a:pt x="269" y="117"/>
                          </a:lnTo>
                          <a:lnTo>
                            <a:pt x="218" y="94"/>
                          </a:lnTo>
                          <a:lnTo>
                            <a:pt x="162" y="67"/>
                          </a:lnTo>
                          <a:lnTo>
                            <a:pt x="111" y="43"/>
                          </a:lnTo>
                          <a:lnTo>
                            <a:pt x="55" y="24"/>
                          </a:lnTo>
                          <a:lnTo>
                            <a:pt x="0" y="0"/>
                          </a:lnTo>
                          <a:lnTo>
                            <a:pt x="83" y="0"/>
                          </a:lnTo>
                          <a:lnTo>
                            <a:pt x="166" y="0"/>
                          </a:lnTo>
                          <a:lnTo>
                            <a:pt x="250" y="0"/>
                          </a:lnTo>
                          <a:lnTo>
                            <a:pt x="333" y="0"/>
                          </a:lnTo>
                          <a:lnTo>
                            <a:pt x="416" y="0"/>
                          </a:lnTo>
                          <a:lnTo>
                            <a:pt x="499" y="0"/>
                          </a:lnTo>
                          <a:lnTo>
                            <a:pt x="583" y="0"/>
                          </a:lnTo>
                          <a:lnTo>
                            <a:pt x="666" y="0"/>
                          </a:lnTo>
                          <a:lnTo>
                            <a:pt x="749" y="0"/>
                          </a:lnTo>
                          <a:lnTo>
                            <a:pt x="833" y="0"/>
                          </a:lnTo>
                          <a:lnTo>
                            <a:pt x="916" y="0"/>
                          </a:lnTo>
                          <a:lnTo>
                            <a:pt x="999" y="4"/>
                          </a:lnTo>
                          <a:lnTo>
                            <a:pt x="1082" y="8"/>
                          </a:lnTo>
                          <a:lnTo>
                            <a:pt x="1166" y="12"/>
                          </a:lnTo>
                          <a:lnTo>
                            <a:pt x="1249" y="16"/>
                          </a:lnTo>
                          <a:lnTo>
                            <a:pt x="1332" y="24"/>
                          </a:lnTo>
                          <a:close/>
                        </a:path>
                      </a:pathLst>
                    </a:custGeom>
                    <a:solidFill>
                      <a:srgbClr val="ff7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5" name=""/>
                    <p:cNvSpPr/>
                    <p:nvPr/>
                  </p:nvSpPr>
                  <p:spPr>
                    <a:xfrm>
                      <a:off x="6694200" y="3841560"/>
                      <a:ext cx="895320" cy="226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48" h="371">
                          <a:moveTo>
                            <a:pt x="1448" y="55"/>
                          </a:moveTo>
                          <a:lnTo>
                            <a:pt x="841" y="371"/>
                          </a:lnTo>
                          <a:lnTo>
                            <a:pt x="829" y="344"/>
                          </a:lnTo>
                          <a:lnTo>
                            <a:pt x="813" y="336"/>
                          </a:lnTo>
                          <a:lnTo>
                            <a:pt x="798" y="340"/>
                          </a:lnTo>
                          <a:lnTo>
                            <a:pt x="778" y="348"/>
                          </a:lnTo>
                          <a:lnTo>
                            <a:pt x="758" y="360"/>
                          </a:lnTo>
                          <a:lnTo>
                            <a:pt x="738" y="364"/>
                          </a:lnTo>
                          <a:lnTo>
                            <a:pt x="722" y="356"/>
                          </a:lnTo>
                          <a:lnTo>
                            <a:pt x="706" y="328"/>
                          </a:lnTo>
                          <a:lnTo>
                            <a:pt x="663" y="309"/>
                          </a:lnTo>
                          <a:lnTo>
                            <a:pt x="619" y="289"/>
                          </a:lnTo>
                          <a:lnTo>
                            <a:pt x="571" y="274"/>
                          </a:lnTo>
                          <a:lnTo>
                            <a:pt x="524" y="258"/>
                          </a:lnTo>
                          <a:lnTo>
                            <a:pt x="476" y="242"/>
                          </a:lnTo>
                          <a:lnTo>
                            <a:pt x="429" y="227"/>
                          </a:lnTo>
                          <a:lnTo>
                            <a:pt x="377" y="211"/>
                          </a:lnTo>
                          <a:lnTo>
                            <a:pt x="329" y="195"/>
                          </a:lnTo>
                          <a:lnTo>
                            <a:pt x="282" y="180"/>
                          </a:lnTo>
                          <a:lnTo>
                            <a:pt x="234" y="160"/>
                          </a:lnTo>
                          <a:lnTo>
                            <a:pt x="191" y="141"/>
                          </a:lnTo>
                          <a:lnTo>
                            <a:pt x="147" y="117"/>
                          </a:lnTo>
                          <a:lnTo>
                            <a:pt x="103" y="94"/>
                          </a:lnTo>
                          <a:lnTo>
                            <a:pt x="68" y="66"/>
                          </a:lnTo>
                          <a:lnTo>
                            <a:pt x="32" y="35"/>
                          </a:lnTo>
                          <a:lnTo>
                            <a:pt x="0" y="0"/>
                          </a:lnTo>
                          <a:lnTo>
                            <a:pt x="80" y="8"/>
                          </a:lnTo>
                          <a:lnTo>
                            <a:pt x="163" y="12"/>
                          </a:lnTo>
                          <a:lnTo>
                            <a:pt x="250" y="16"/>
                          </a:lnTo>
                          <a:lnTo>
                            <a:pt x="337" y="19"/>
                          </a:lnTo>
                          <a:lnTo>
                            <a:pt x="429" y="23"/>
                          </a:lnTo>
                          <a:lnTo>
                            <a:pt x="520" y="23"/>
                          </a:lnTo>
                          <a:lnTo>
                            <a:pt x="615" y="27"/>
                          </a:lnTo>
                          <a:lnTo>
                            <a:pt x="706" y="27"/>
                          </a:lnTo>
                          <a:lnTo>
                            <a:pt x="801" y="31"/>
                          </a:lnTo>
                          <a:lnTo>
                            <a:pt x="897" y="31"/>
                          </a:lnTo>
                          <a:lnTo>
                            <a:pt x="992" y="35"/>
                          </a:lnTo>
                          <a:lnTo>
                            <a:pt x="1087" y="35"/>
                          </a:lnTo>
                          <a:lnTo>
                            <a:pt x="1178" y="39"/>
                          </a:lnTo>
                          <a:lnTo>
                            <a:pt x="1270" y="43"/>
                          </a:lnTo>
                          <a:lnTo>
                            <a:pt x="1361" y="47"/>
                          </a:lnTo>
                          <a:lnTo>
                            <a:pt x="1448" y="55"/>
                          </a:lnTo>
                          <a:close/>
                        </a:path>
                      </a:pathLst>
                    </a:custGeom>
                    <a:solidFill>
                      <a:srgbClr val="ff7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016" name=""/>
                <p:cNvGrpSpPr/>
                <p:nvPr/>
              </p:nvGrpSpPr>
              <p:grpSpPr>
                <a:xfrm>
                  <a:off x="4552920" y="4006440"/>
                  <a:ext cx="3277440" cy="209880"/>
                  <a:chOff x="4552920" y="4006440"/>
                  <a:chExt cx="3277440" cy="209880"/>
                </a:xfrm>
              </p:grpSpPr>
              <p:sp>
                <p:nvSpPr>
                  <p:cNvPr id="1017" name=""/>
                  <p:cNvSpPr/>
                  <p:nvPr/>
                </p:nvSpPr>
                <p:spPr>
                  <a:xfrm>
                    <a:off x="5423760" y="4006440"/>
                    <a:ext cx="713520" cy="178920"/>
                  </a:xfrm>
                  <a:custGeom>
                    <a:avLst/>
                    <a:gdLst/>
                    <a:ahLst/>
                    <a:rect l="l" t="t" r="r" b="b"/>
                    <a:pathLst>
                      <a:path w="1154" h="293">
                        <a:moveTo>
                          <a:pt x="1154" y="269"/>
                        </a:moveTo>
                        <a:lnTo>
                          <a:pt x="1086" y="277"/>
                        </a:lnTo>
                        <a:lnTo>
                          <a:pt x="1019" y="285"/>
                        </a:lnTo>
                        <a:lnTo>
                          <a:pt x="948" y="289"/>
                        </a:lnTo>
                        <a:lnTo>
                          <a:pt x="876" y="293"/>
                        </a:lnTo>
                        <a:lnTo>
                          <a:pt x="805" y="293"/>
                        </a:lnTo>
                        <a:lnTo>
                          <a:pt x="730" y="293"/>
                        </a:lnTo>
                        <a:lnTo>
                          <a:pt x="654" y="293"/>
                        </a:lnTo>
                        <a:lnTo>
                          <a:pt x="579" y="289"/>
                        </a:lnTo>
                        <a:lnTo>
                          <a:pt x="503" y="289"/>
                        </a:lnTo>
                        <a:lnTo>
                          <a:pt x="428" y="285"/>
                        </a:lnTo>
                        <a:lnTo>
                          <a:pt x="353" y="281"/>
                        </a:lnTo>
                        <a:lnTo>
                          <a:pt x="277" y="281"/>
                        </a:lnTo>
                        <a:lnTo>
                          <a:pt x="206" y="277"/>
                        </a:lnTo>
                        <a:lnTo>
                          <a:pt x="135" y="277"/>
                        </a:lnTo>
                        <a:lnTo>
                          <a:pt x="67" y="277"/>
                        </a:lnTo>
                        <a:lnTo>
                          <a:pt x="0" y="281"/>
                        </a:lnTo>
                        <a:lnTo>
                          <a:pt x="71" y="242"/>
                        </a:lnTo>
                        <a:lnTo>
                          <a:pt x="139" y="203"/>
                        </a:lnTo>
                        <a:lnTo>
                          <a:pt x="210" y="164"/>
                        </a:lnTo>
                        <a:lnTo>
                          <a:pt x="281" y="125"/>
                        </a:lnTo>
                        <a:lnTo>
                          <a:pt x="349" y="90"/>
                        </a:lnTo>
                        <a:lnTo>
                          <a:pt x="424" y="58"/>
                        </a:lnTo>
                        <a:lnTo>
                          <a:pt x="495" y="27"/>
                        </a:lnTo>
                        <a:lnTo>
                          <a:pt x="571" y="0"/>
                        </a:lnTo>
                        <a:lnTo>
                          <a:pt x="642" y="39"/>
                        </a:lnTo>
                        <a:lnTo>
                          <a:pt x="714" y="74"/>
                        </a:lnTo>
                        <a:lnTo>
                          <a:pt x="785" y="109"/>
                        </a:lnTo>
                        <a:lnTo>
                          <a:pt x="860" y="140"/>
                        </a:lnTo>
                        <a:lnTo>
                          <a:pt x="936" y="168"/>
                        </a:lnTo>
                        <a:lnTo>
                          <a:pt x="1011" y="199"/>
                        </a:lnTo>
                        <a:lnTo>
                          <a:pt x="1083" y="234"/>
                        </a:lnTo>
                        <a:lnTo>
                          <a:pt x="1154" y="269"/>
                        </a:lnTo>
                        <a:close/>
                      </a:path>
                    </a:pathLst>
                  </a:custGeom>
                  <a:blipFill rotWithShape="0">
                    <a:blip r:embed="rId8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8" name=""/>
                  <p:cNvSpPr/>
                  <p:nvPr/>
                </p:nvSpPr>
                <p:spPr>
                  <a:xfrm>
                    <a:off x="4552920" y="4012920"/>
                    <a:ext cx="586080" cy="186120"/>
                  </a:xfrm>
                  <a:custGeom>
                    <a:avLst/>
                    <a:gdLst/>
                    <a:ahLst/>
                    <a:rect l="l" t="t" r="r" b="b"/>
                    <a:pathLst>
                      <a:path w="948" h="305">
                        <a:moveTo>
                          <a:pt x="741" y="137"/>
                        </a:moveTo>
                        <a:lnTo>
                          <a:pt x="769" y="157"/>
                        </a:lnTo>
                        <a:lnTo>
                          <a:pt x="793" y="172"/>
                        </a:lnTo>
                        <a:lnTo>
                          <a:pt x="821" y="192"/>
                        </a:lnTo>
                        <a:lnTo>
                          <a:pt x="848" y="208"/>
                        </a:lnTo>
                        <a:lnTo>
                          <a:pt x="876" y="227"/>
                        </a:lnTo>
                        <a:lnTo>
                          <a:pt x="900" y="243"/>
                        </a:lnTo>
                        <a:lnTo>
                          <a:pt x="924" y="262"/>
                        </a:lnTo>
                        <a:lnTo>
                          <a:pt x="948" y="282"/>
                        </a:lnTo>
                        <a:lnTo>
                          <a:pt x="888" y="286"/>
                        </a:lnTo>
                        <a:lnTo>
                          <a:pt x="829" y="286"/>
                        </a:lnTo>
                        <a:lnTo>
                          <a:pt x="769" y="290"/>
                        </a:lnTo>
                        <a:lnTo>
                          <a:pt x="706" y="294"/>
                        </a:lnTo>
                        <a:lnTo>
                          <a:pt x="646" y="294"/>
                        </a:lnTo>
                        <a:lnTo>
                          <a:pt x="583" y="298"/>
                        </a:lnTo>
                        <a:lnTo>
                          <a:pt x="523" y="298"/>
                        </a:lnTo>
                        <a:lnTo>
                          <a:pt x="464" y="301"/>
                        </a:lnTo>
                        <a:lnTo>
                          <a:pt x="400" y="301"/>
                        </a:lnTo>
                        <a:lnTo>
                          <a:pt x="341" y="305"/>
                        </a:lnTo>
                        <a:lnTo>
                          <a:pt x="281" y="305"/>
                        </a:lnTo>
                        <a:lnTo>
                          <a:pt x="222" y="305"/>
                        </a:lnTo>
                        <a:lnTo>
                          <a:pt x="166" y="305"/>
                        </a:lnTo>
                        <a:lnTo>
                          <a:pt x="107" y="305"/>
                        </a:lnTo>
                        <a:lnTo>
                          <a:pt x="55" y="305"/>
                        </a:lnTo>
                        <a:lnTo>
                          <a:pt x="0" y="305"/>
                        </a:lnTo>
                        <a:lnTo>
                          <a:pt x="55" y="266"/>
                        </a:lnTo>
                        <a:lnTo>
                          <a:pt x="111" y="231"/>
                        </a:lnTo>
                        <a:lnTo>
                          <a:pt x="162" y="192"/>
                        </a:lnTo>
                        <a:lnTo>
                          <a:pt x="218" y="153"/>
                        </a:lnTo>
                        <a:lnTo>
                          <a:pt x="269" y="114"/>
                        </a:lnTo>
                        <a:lnTo>
                          <a:pt x="321" y="75"/>
                        </a:lnTo>
                        <a:lnTo>
                          <a:pt x="376" y="36"/>
                        </a:lnTo>
                        <a:lnTo>
                          <a:pt x="432" y="0"/>
                        </a:lnTo>
                        <a:lnTo>
                          <a:pt x="480" y="8"/>
                        </a:lnTo>
                        <a:lnTo>
                          <a:pt x="519" y="28"/>
                        </a:lnTo>
                        <a:lnTo>
                          <a:pt x="555" y="47"/>
                        </a:lnTo>
                        <a:lnTo>
                          <a:pt x="587" y="75"/>
                        </a:lnTo>
                        <a:lnTo>
                          <a:pt x="618" y="98"/>
                        </a:lnTo>
                        <a:lnTo>
                          <a:pt x="654" y="118"/>
                        </a:lnTo>
                        <a:lnTo>
                          <a:pt x="694" y="133"/>
                        </a:lnTo>
                        <a:lnTo>
                          <a:pt x="741" y="137"/>
                        </a:lnTo>
                        <a:close/>
                      </a:path>
                    </a:pathLst>
                  </a:custGeom>
                  <a:blipFill rotWithShape="0">
                    <a:blip r:embed="rId9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9" name=""/>
                  <p:cNvSpPr/>
                  <p:nvPr/>
                </p:nvSpPr>
                <p:spPr>
                  <a:xfrm>
                    <a:off x="6397200" y="4027680"/>
                    <a:ext cx="628200" cy="157320"/>
                  </a:xfrm>
                  <a:custGeom>
                    <a:avLst/>
                    <a:gdLst/>
                    <a:ahLst/>
                    <a:rect l="l" t="t" r="r" b="b"/>
                    <a:pathLst>
                      <a:path w="1016" h="258">
                        <a:moveTo>
                          <a:pt x="516" y="35"/>
                        </a:moveTo>
                        <a:lnTo>
                          <a:pt x="579" y="47"/>
                        </a:lnTo>
                        <a:lnTo>
                          <a:pt x="639" y="66"/>
                        </a:lnTo>
                        <a:lnTo>
                          <a:pt x="702" y="94"/>
                        </a:lnTo>
                        <a:lnTo>
                          <a:pt x="766" y="125"/>
                        </a:lnTo>
                        <a:lnTo>
                          <a:pt x="825" y="160"/>
                        </a:lnTo>
                        <a:lnTo>
                          <a:pt x="889" y="195"/>
                        </a:lnTo>
                        <a:lnTo>
                          <a:pt x="952" y="227"/>
                        </a:lnTo>
                        <a:lnTo>
                          <a:pt x="1016" y="258"/>
                        </a:lnTo>
                        <a:lnTo>
                          <a:pt x="932" y="258"/>
                        </a:lnTo>
                        <a:lnTo>
                          <a:pt x="932" y="246"/>
                        </a:lnTo>
                        <a:lnTo>
                          <a:pt x="877" y="242"/>
                        </a:lnTo>
                        <a:lnTo>
                          <a:pt x="825" y="242"/>
                        </a:lnTo>
                        <a:lnTo>
                          <a:pt x="770" y="238"/>
                        </a:lnTo>
                        <a:lnTo>
                          <a:pt x="710" y="238"/>
                        </a:lnTo>
                        <a:lnTo>
                          <a:pt x="655" y="238"/>
                        </a:lnTo>
                        <a:lnTo>
                          <a:pt x="599" y="238"/>
                        </a:lnTo>
                        <a:lnTo>
                          <a:pt x="540" y="234"/>
                        </a:lnTo>
                        <a:lnTo>
                          <a:pt x="480" y="234"/>
                        </a:lnTo>
                        <a:lnTo>
                          <a:pt x="421" y="234"/>
                        </a:lnTo>
                        <a:lnTo>
                          <a:pt x="361" y="234"/>
                        </a:lnTo>
                        <a:lnTo>
                          <a:pt x="302" y="234"/>
                        </a:lnTo>
                        <a:lnTo>
                          <a:pt x="242" y="234"/>
                        </a:lnTo>
                        <a:lnTo>
                          <a:pt x="183" y="234"/>
                        </a:lnTo>
                        <a:lnTo>
                          <a:pt x="123" y="234"/>
                        </a:lnTo>
                        <a:lnTo>
                          <a:pt x="60" y="234"/>
                        </a:lnTo>
                        <a:lnTo>
                          <a:pt x="0" y="234"/>
                        </a:lnTo>
                        <a:lnTo>
                          <a:pt x="52" y="199"/>
                        </a:lnTo>
                        <a:lnTo>
                          <a:pt x="111" y="168"/>
                        </a:lnTo>
                        <a:lnTo>
                          <a:pt x="175" y="141"/>
                        </a:lnTo>
                        <a:lnTo>
                          <a:pt x="242" y="109"/>
                        </a:lnTo>
                        <a:lnTo>
                          <a:pt x="310" y="82"/>
                        </a:lnTo>
                        <a:lnTo>
                          <a:pt x="381" y="55"/>
                        </a:lnTo>
                        <a:lnTo>
                          <a:pt x="449" y="27"/>
                        </a:lnTo>
                        <a:lnTo>
                          <a:pt x="516" y="0"/>
                        </a:lnTo>
                        <a:lnTo>
                          <a:pt x="516" y="35"/>
                        </a:lnTo>
                        <a:close/>
                      </a:path>
                    </a:pathLst>
                  </a:custGeom>
                  <a:blipFill rotWithShape="0">
                    <a:blip r:embed="rId10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0" name=""/>
                  <p:cNvSpPr/>
                  <p:nvPr/>
                </p:nvSpPr>
                <p:spPr>
                  <a:xfrm>
                    <a:off x="7329960" y="4068000"/>
                    <a:ext cx="50040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809" h="243">
                        <a:moveTo>
                          <a:pt x="809" y="215"/>
                        </a:moveTo>
                        <a:lnTo>
                          <a:pt x="789" y="227"/>
                        </a:lnTo>
                        <a:lnTo>
                          <a:pt x="769" y="235"/>
                        </a:lnTo>
                        <a:lnTo>
                          <a:pt x="749" y="239"/>
                        </a:lnTo>
                        <a:lnTo>
                          <a:pt x="729" y="239"/>
                        </a:lnTo>
                        <a:lnTo>
                          <a:pt x="710" y="239"/>
                        </a:lnTo>
                        <a:lnTo>
                          <a:pt x="686" y="239"/>
                        </a:lnTo>
                        <a:lnTo>
                          <a:pt x="662" y="239"/>
                        </a:lnTo>
                        <a:lnTo>
                          <a:pt x="638" y="239"/>
                        </a:lnTo>
                        <a:lnTo>
                          <a:pt x="646" y="231"/>
                        </a:lnTo>
                        <a:lnTo>
                          <a:pt x="658" y="223"/>
                        </a:lnTo>
                        <a:lnTo>
                          <a:pt x="662" y="215"/>
                        </a:lnTo>
                        <a:lnTo>
                          <a:pt x="662" y="204"/>
                        </a:lnTo>
                        <a:lnTo>
                          <a:pt x="638" y="204"/>
                        </a:lnTo>
                        <a:lnTo>
                          <a:pt x="614" y="208"/>
                        </a:lnTo>
                        <a:lnTo>
                          <a:pt x="587" y="219"/>
                        </a:lnTo>
                        <a:lnTo>
                          <a:pt x="563" y="227"/>
                        </a:lnTo>
                        <a:lnTo>
                          <a:pt x="535" y="235"/>
                        </a:lnTo>
                        <a:lnTo>
                          <a:pt x="507" y="243"/>
                        </a:lnTo>
                        <a:lnTo>
                          <a:pt x="476" y="243"/>
                        </a:lnTo>
                        <a:lnTo>
                          <a:pt x="444" y="239"/>
                        </a:lnTo>
                        <a:lnTo>
                          <a:pt x="460" y="235"/>
                        </a:lnTo>
                        <a:lnTo>
                          <a:pt x="479" y="235"/>
                        </a:lnTo>
                        <a:lnTo>
                          <a:pt x="491" y="227"/>
                        </a:lnTo>
                        <a:lnTo>
                          <a:pt x="491" y="204"/>
                        </a:lnTo>
                        <a:lnTo>
                          <a:pt x="460" y="192"/>
                        </a:lnTo>
                        <a:lnTo>
                          <a:pt x="432" y="192"/>
                        </a:lnTo>
                        <a:lnTo>
                          <a:pt x="400" y="196"/>
                        </a:lnTo>
                        <a:lnTo>
                          <a:pt x="372" y="204"/>
                        </a:lnTo>
                        <a:lnTo>
                          <a:pt x="341" y="211"/>
                        </a:lnTo>
                        <a:lnTo>
                          <a:pt x="313" y="219"/>
                        </a:lnTo>
                        <a:lnTo>
                          <a:pt x="281" y="227"/>
                        </a:lnTo>
                        <a:lnTo>
                          <a:pt x="249" y="227"/>
                        </a:lnTo>
                        <a:lnTo>
                          <a:pt x="234" y="204"/>
                        </a:lnTo>
                        <a:lnTo>
                          <a:pt x="214" y="196"/>
                        </a:lnTo>
                        <a:lnTo>
                          <a:pt x="194" y="196"/>
                        </a:lnTo>
                        <a:lnTo>
                          <a:pt x="170" y="204"/>
                        </a:lnTo>
                        <a:lnTo>
                          <a:pt x="146" y="215"/>
                        </a:lnTo>
                        <a:lnTo>
                          <a:pt x="123" y="223"/>
                        </a:lnTo>
                        <a:lnTo>
                          <a:pt x="99" y="223"/>
                        </a:lnTo>
                        <a:lnTo>
                          <a:pt x="79" y="215"/>
                        </a:lnTo>
                        <a:lnTo>
                          <a:pt x="43" y="215"/>
                        </a:lnTo>
                        <a:lnTo>
                          <a:pt x="43" y="192"/>
                        </a:lnTo>
                        <a:lnTo>
                          <a:pt x="27" y="184"/>
                        </a:lnTo>
                        <a:lnTo>
                          <a:pt x="7" y="180"/>
                        </a:lnTo>
                        <a:lnTo>
                          <a:pt x="0" y="180"/>
                        </a:lnTo>
                        <a:lnTo>
                          <a:pt x="79" y="168"/>
                        </a:lnTo>
                        <a:lnTo>
                          <a:pt x="158" y="153"/>
                        </a:lnTo>
                        <a:lnTo>
                          <a:pt x="234" y="129"/>
                        </a:lnTo>
                        <a:lnTo>
                          <a:pt x="305" y="102"/>
                        </a:lnTo>
                        <a:lnTo>
                          <a:pt x="376" y="75"/>
                        </a:lnTo>
                        <a:lnTo>
                          <a:pt x="448" y="47"/>
                        </a:lnTo>
                        <a:lnTo>
                          <a:pt x="519" y="24"/>
                        </a:lnTo>
                        <a:lnTo>
                          <a:pt x="595" y="0"/>
                        </a:lnTo>
                        <a:lnTo>
                          <a:pt x="809" y="215"/>
                        </a:lnTo>
                        <a:close/>
                      </a:path>
                    </a:pathLst>
                  </a:custGeom>
                  <a:blipFill rotWithShape="0">
                    <a:blip r:embed="rId11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21" name=""/>
              <p:cNvGrpSpPr/>
              <p:nvPr/>
            </p:nvGrpSpPr>
            <p:grpSpPr>
              <a:xfrm>
                <a:off x="4759560" y="2599560"/>
                <a:ext cx="2893680" cy="795600"/>
                <a:chOff x="4759560" y="2599560"/>
                <a:chExt cx="2893680" cy="795600"/>
              </a:xfrm>
            </p:grpSpPr>
            <p:sp>
              <p:nvSpPr>
                <p:cNvPr id="1022" name=""/>
                <p:cNvSpPr/>
                <p:nvPr/>
              </p:nvSpPr>
              <p:spPr>
                <a:xfrm>
                  <a:off x="4759560" y="2599560"/>
                  <a:ext cx="889920" cy="769320"/>
                </a:xfrm>
                <a:prstGeom prst="sun">
                  <a:avLst>
                    <a:gd name="adj" fmla="val 25000"/>
                  </a:avLst>
                </a:prstGeom>
                <a:solidFill>
                  <a:srgbClr val="ffcc00"/>
                </a:solidFill>
                <a:ln w="648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3" name=""/>
                <p:cNvSpPr/>
                <p:nvPr/>
              </p:nvSpPr>
              <p:spPr>
                <a:xfrm>
                  <a:off x="5791680" y="2625840"/>
                  <a:ext cx="889920" cy="769320"/>
                </a:xfrm>
                <a:prstGeom prst="sun">
                  <a:avLst>
                    <a:gd name="adj" fmla="val 25000"/>
                  </a:avLst>
                </a:prstGeom>
                <a:solidFill>
                  <a:srgbClr val="ffcc00"/>
                </a:solidFill>
                <a:ln w="648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>
                  <a:off x="6763320" y="2625840"/>
                  <a:ext cx="889920" cy="769320"/>
                </a:xfrm>
                <a:prstGeom prst="sun">
                  <a:avLst>
                    <a:gd name="adj" fmla="val 25000"/>
                  </a:avLst>
                </a:prstGeom>
                <a:solidFill>
                  <a:srgbClr val="ffcc00"/>
                </a:solidFill>
                <a:ln w="648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25" name=""/>
            <p:cNvGrpSpPr/>
            <p:nvPr/>
          </p:nvGrpSpPr>
          <p:grpSpPr>
            <a:xfrm>
              <a:off x="5041800" y="2652840"/>
              <a:ext cx="2435400" cy="613440"/>
              <a:chOff x="5041800" y="2652840"/>
              <a:chExt cx="2435400" cy="613440"/>
            </a:xfrm>
          </p:grpSpPr>
          <p:pic>
            <p:nvPicPr>
              <p:cNvPr id="1026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6008400" y="2652840"/>
                <a:ext cx="416160" cy="584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7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061040" y="2681280"/>
                <a:ext cx="416160" cy="585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8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5041800" y="2660040"/>
                <a:ext cx="416160" cy="584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029" name="" descr="">
            <a:hlinkClick r:id="" action="ppaction://hlinkshowjump?jump=nextslide"/>
          </p:cNvPr>
          <p:cNvPicPr/>
          <p:nvPr/>
        </p:nvPicPr>
        <p:blipFill>
          <a:blip r:embed="rId15"/>
          <a:stretch/>
        </p:blipFill>
        <p:spPr>
          <a:xfrm>
            <a:off x="5791320" y="2895480"/>
            <a:ext cx="2797200" cy="3436920"/>
          </a:xfrm>
          <a:prstGeom prst="rect">
            <a:avLst/>
          </a:prstGeom>
          <a:ln w="0">
            <a:noFill/>
          </a:ln>
        </p:spPr>
      </p:pic>
      <p:sp>
        <p:nvSpPr>
          <p:cNvPr id="1030" name=""/>
          <p:cNvSpPr/>
          <p:nvPr/>
        </p:nvSpPr>
        <p:spPr>
          <a:xfrm>
            <a:off x="2971800" y="838080"/>
            <a:ext cx="5181480" cy="4597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uld you rather have an alpac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2495520" y="14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380880" y="4800600"/>
            <a:ext cx="5486400" cy="459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would you rather have a llam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762120" y="2971800"/>
            <a:ext cx="2514600" cy="11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ff"/>
                </a:solidFill>
                <a:latin typeface="Times New Roman"/>
              </a:rPr>
              <a:t>To choose an alpa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on the pictu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2514600" y="5410080"/>
            <a:ext cx="2743200" cy="11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To choose the ll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on the pictur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 rot="19596600">
            <a:off x="5334120" y="5562720"/>
            <a:ext cx="914400" cy="304560"/>
          </a:xfrm>
          <a:custGeom>
            <a:avLst/>
            <a:gdLst>
              <a:gd name="textAreaLeft" fmla="*/ 115560 w 914400"/>
              <a:gd name="textAreaRight" fmla="*/ 798840 w 914400"/>
              <a:gd name="textAreaTop" fmla="*/ 88200 h 304560"/>
              <a:gd name="textAreaBottom" fmla="*/ 216360 h 304560"/>
            </a:gdLst>
            <a:ahLst/>
            <a:rect l="textAreaLeft" t="textAreaTop" r="textAreaRight" b="textAreaBottom"/>
            <a:pathLst>
              <a:path w="21600" h="21600">
                <a:moveTo>
                  <a:pt x="0" y="6254"/>
                </a:moveTo>
                <a:lnTo>
                  <a:pt x="15110" y="6254"/>
                </a:lnTo>
                <a:lnTo>
                  <a:pt x="15110" y="0"/>
                </a:lnTo>
                <a:lnTo>
                  <a:pt x="21600" y="10800"/>
                </a:lnTo>
                <a:lnTo>
                  <a:pt x="15110" y="21600"/>
                </a:lnTo>
                <a:lnTo>
                  <a:pt x="15110" y="15346"/>
                </a:lnTo>
                <a:lnTo>
                  <a:pt x="0" y="15346"/>
                </a:lnTo>
                <a:lnTo>
                  <a:pt x="2732" y="10800"/>
                </a:lnTo>
                <a:lnTo>
                  <a:pt x="0" y="6254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 rot="13148400">
            <a:off x="2666880" y="2742840"/>
            <a:ext cx="914400" cy="304920"/>
          </a:xfrm>
          <a:custGeom>
            <a:avLst/>
            <a:gdLst>
              <a:gd name="textAreaLeft" fmla="*/ 115560 w 914400"/>
              <a:gd name="textAreaRight" fmla="*/ 798840 w 914400"/>
              <a:gd name="textAreaTop" fmla="*/ 88200 h 304920"/>
              <a:gd name="textAreaBottom" fmla="*/ 216720 h 304920"/>
            </a:gdLst>
            <a:ahLst/>
            <a:rect l="textAreaLeft" t="textAreaTop" r="textAreaRight" b="textAreaBottom"/>
            <a:pathLst>
              <a:path w="21600" h="21600">
                <a:moveTo>
                  <a:pt x="0" y="6254"/>
                </a:moveTo>
                <a:lnTo>
                  <a:pt x="15110" y="6254"/>
                </a:lnTo>
                <a:lnTo>
                  <a:pt x="15110" y="0"/>
                </a:lnTo>
                <a:lnTo>
                  <a:pt x="21600" y="10800"/>
                </a:lnTo>
                <a:lnTo>
                  <a:pt x="15110" y="21600"/>
                </a:lnTo>
                <a:lnTo>
                  <a:pt x="15110" y="15346"/>
                </a:lnTo>
                <a:lnTo>
                  <a:pt x="0" y="15346"/>
                </a:lnTo>
                <a:lnTo>
                  <a:pt x="2732" y="10800"/>
                </a:lnTo>
                <a:lnTo>
                  <a:pt x="0" y="6254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5791320" y="2895480"/>
            <a:ext cx="2797200" cy="3436920"/>
          </a:xfrm>
          <a:prstGeom prst="rect">
            <a:avLst/>
          </a:prstGeom>
          <a:ln w="0">
            <a:noFill/>
          </a:ln>
        </p:spPr>
      </p:pic>
      <p:sp>
        <p:nvSpPr>
          <p:cNvPr id="1038" name=""/>
          <p:cNvSpPr txBox="1"/>
          <p:nvPr/>
        </p:nvSpPr>
        <p:spPr>
          <a:xfrm>
            <a:off x="838080" y="457200"/>
            <a:ext cx="7210440" cy="10843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Thanks for choosing a llama!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39" name=""/>
          <p:cNvSpPr txBox="1"/>
          <p:nvPr/>
        </p:nvSpPr>
        <p:spPr>
          <a:xfrm rot="373800">
            <a:off x="533520" y="1600200"/>
            <a:ext cx="5551200" cy="1141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Some books about llamas are: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762120" y="2590920"/>
            <a:ext cx="4952880" cy="2975400"/>
          </a:xfrm>
          <a:prstGeom prst="rect">
            <a:avLst/>
          </a:prstGeom>
          <a:solidFill>
            <a:srgbClr val="ff99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The Llama's Secret: A Peruvian Legend (Legends of the World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by </a:t>
            </a:r>
            <a:r>
              <a:rPr b="0" lang="en-US" sz="1400" spc="-1" strike="noStrike">
                <a:solidFill>
                  <a:srgbClr val="3333cc"/>
                </a:solidFill>
                <a:latin typeface="Verdana"/>
                <a:ea typeface="Times New Roman"/>
              </a:rPr>
              <a:t>Argentina Palacios, Charles Reasoner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(Illustrato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How Llama Saved the Day: A Story from Peru (First-Start Legends)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at Your Brother,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by Janet Palazzo-Craig, Charles Reasoner (Illustrato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Stop Spitting Life Lessons of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a Rocky Mountain Llama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by Diane White-Crane (Illustrato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Harley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by Star Livingstone, Molly Bang (Illustrator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Llama in Pajama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 by Gisela Vo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629400" y="2362320"/>
            <a:ext cx="2209680" cy="1066680"/>
          </a:xfrm>
          <a:prstGeom prst="wedgeEllipseCallout">
            <a:avLst>
              <a:gd name="adj1" fmla="val -56032"/>
              <a:gd name="adj2" fmla="val 5356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lick on me when you are finish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6T18:10:59Z</dcterms:created>
  <dc:creator>Ann M Espersen</dc:creator>
  <dc:description/>
  <dc:language>en-US</dc:language>
  <cp:lastModifiedBy>VNichols</cp:lastModifiedBy>
  <dcterms:modified xsi:type="dcterms:W3CDTF">2002-08-01T14:30:44Z</dcterms:modified>
  <cp:revision>121</cp:revision>
  <dc:subject/>
  <dc:title>PowerPoint Presentation</dc:title>
</cp:coreProperties>
</file>