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BB29-5B2D-4D50-A7C5-ECBC57AFFB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E82-79B0-484C-ACC4-E8C31374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317-CC36-4C9E-B7A8-11251B4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0B7-064D-446D-9271-BBB37827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040-5122-4CFD-875C-C7B64F4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82D-9731-446F-AEAD-1016F581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58D-0906-42AD-90DC-8EB4323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2F6-039E-4A9F-830E-E2052668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4D6-D22B-479F-82BA-66D84A51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DC0-0298-45F9-B4C5-5149334A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C4E-B123-4D9E-8D5E-087B0FDD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1C8-CEE7-493F-A8B9-6DF0BA3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3E9-4232-4F4B-BB7E-3F03DD5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B6DD-AAA6-4500-A71A-2B43B66FDA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72960"/>
            <a:ext cx="9070920" cy="12081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FASI E GLI 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NO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03320"/>
            <a:ext cx="9070920" cy="497232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l'acquisizione di una seconda lingua l'apprendente deve percorrere un passaggio chiamato “interlingu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tale passaggio, costituito da fasi, determinanti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tivazione     gli imput      la vicinanz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lanti italof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680000"/>
            <a:ext cx="180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35320" y="4680000"/>
            <a:ext cx="2170080" cy="72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680000"/>
            <a:ext cx="1800360" cy="539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I DELL'INTERLING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A PRE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referenza per l'asco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la comunicazione non verbale per completare il   senso del disco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parole chi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frasi nomi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orfologia assente o molto semplifi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intassi molto ess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cquisizione graduale dei mezzi morfologici per esprimere la temporalit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llocazione degli eventi in successione tempor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el participio passato per esprimere il passato e l'infinito per esprimere il pres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omparsa delle prime forme di subordin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izio dello sviluppo morfolo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Utilizzo di una regola appresa anche in contesti non sempre appropria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POSTBA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rendente si avvicina sempre più alla lingua obiettiv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ordo fra soggetto e participio pass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tturazione verbale quasi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quiste in evoluzione a livello lessicale e morf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 “ IL”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al presente ( 2^- 3^ persona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ll'infinito per esprimere abitu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i avverbi per indica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nomi senza variabilità e senza accordo con il resto della f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gli artico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i primi pronomi (lui- le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molto rudimentale e si avvale di supporti comunicativi non verb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mparsa del participio passato e dell'imperfetto con funzione du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missione dell'ausili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ccordo  degli articoli : il; i – la;le, col nome sia nel genere, che nel nu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gli articoli determinativi “lo” - “gli” e degli articoli indeterminativi ( avviene più tard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I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2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tilizzo dei verbi “dovere” - “ pot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a comparsa dell'uso dei verbi “ credere” - “pensa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71520"/>
            <a:ext cx="9070920" cy="1209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RZO 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86040"/>
            <a:ext cx="9070920" cy="493704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TEMPORALITA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esenza dell'imperfetto per esprimere il pass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ime forme copulative ( era -er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so dell'imperfetto dei verbi “potere” - “vole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RF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izio dell'accordo fra aggettivi e nomi sia nel genere, che nel nu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certo l'accordo tra soggetto e aggettivo predicativo ( la tavola è largo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A MODALTA' DI ES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mpliamento dell'uso dei verbi “potere” e “dovere” ( il libro deve essere qui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28320"/>
            <a:ext cx="9069480" cy="120636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TRI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39960"/>
            <a:ext cx="9069480" cy="4935600"/>
          </a:xfrm>
          <a:prstGeom prst="rect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36000">
            <a:solidFill>
              <a:srgbClr val="ff0000"/>
            </a:solidFill>
            <a:round/>
          </a:ln>
        </p:spPr>
        <p:txBody>
          <a:bodyPr lIns="18000" rIns="18000" tIns="18000" bIns="18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uccessivamente l'apprendente, con gradualità, giunge ad una strutturazione della frase i cui elementi si concordano tra loro in modo corre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nche le coniugazioni dei verbi si perfezionano progressiv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La presentazione è una rielaborazione sulla base dei materiali di studio e di G.Favaro “ Insegnare l'italiano agli alunni stranieri”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