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8AB62-E277-4B56-9655-A0731665DF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A9DB-E6C2-4827-9F59-7FF09231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A26-1E4C-4EA2-A8AC-67BE7E7F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4AC-58D8-4F08-B664-93394287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CF0-2EE9-4DAF-8393-936BF4ED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119-D234-4DBB-BB5F-0E50A5FD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BD5-A15C-4BF2-9BA7-A0D982BA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3D5-03BA-4AE2-827B-4516B21D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FBA8-4356-47C0-82EF-14ED31AF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AF8-9205-44CA-846A-5A00D645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7E1-899D-4883-8EB1-539BCD99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891-8D2B-4927-92AD-185A8633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B44A-E5F4-40A7-996D-DBD4B394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FE0E2-A340-4047-9DB2-7FAE53D4C7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3280" y="372960"/>
            <a:ext cx="9070920" cy="120816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FASI E GLI STADI “ IL”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TALIANO L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903320"/>
            <a:ext cx="9070920" cy="497232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 l'acquisizione di una seconda lingua l'apprendente deve percorrere un passaggio chiamato “interlingu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tale passaggio, costituito da fasi, determinanti s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otivazione     gli imput      la vicinanza 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arlanti italof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4680000"/>
            <a:ext cx="1800" cy="5396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335320" y="4680000"/>
            <a:ext cx="2170080" cy="72072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4680000"/>
            <a:ext cx="1800360" cy="5396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I DELL'INTERLINGUA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A PREBA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83996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Preferenza per l'ascol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ella comunicazione non verbale per completare il   senso del discor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i parole chi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i frasi nomin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Morfologia assente o molto semplific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intassi molto essenzi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E BA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cquisizione graduale dei mezzi morfologici per esprimere la temporalità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llocazione degli eventi in successione tempora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el participio passato per esprimere il passato e l'infinito per esprimere il pres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mparsa delle prime forme di subordin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nizio dello sviluppo morfolo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i una regola appresa anche in contesti non sempre appropria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E POSTBA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'apprendente si avvicina sempre più alla lingua obiettiv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ccordo fra soggetto e participio pass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trutturazione verbale quasi comp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quiste in evoluzione a livello lessicale e morfolo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TADI “ IL”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IMO 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83996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TEMPORALITA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i verbi al presente ( 2^- 3^ persona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ll'infinito per esprimere abitualit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i avverbi per indicare il pass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RFOLOG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i nomi senza variabilità e senza accordo con il resto della fr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Omissione degli articol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mparsa dei primi pronomi (lui- lei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DALITA' DI ES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9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È molto rudimentale e si avvale di supporti comunicativi non verbal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ECONDO 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TEMPORALITA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mparsa del participio passato e dell'imperfetto con funzione dur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Omissione dell'ausili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RFOLOG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ccordo  degli articoli : il; i – la;le, col nome sia nel genere, che nel nume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so degli articoli determinativi “lo” - “gli” e degli articoli indeterminativi ( avviene più tardi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DALITA' DI ES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2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i verbi “dovere” - “ pote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ima comparsa dell'uso dei verbi “ credere” - “pensa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ERZO 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TEMPORALITA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esenza dell'imperfetto per esprimere il pass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ime forme copulative ( era -ero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so dell'imperfetto dei verbi “potere” - “vole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RFOLOG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nizio dell'accordo fra aggettivi e nomi sia nel genere, che nel num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ncerto l'accordo tra soggetto e aggettivo predicativo ( la tavola è largo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DALTA' DI ES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mpliamento dell'uso dei verbi “potere” e “dovere” ( il libro deve essere qui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28320"/>
            <a:ext cx="9069480" cy="120636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LTRI STA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2920" y="1839960"/>
            <a:ext cx="9069480" cy="4935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uccessivamente l'apprendente, con gradualità, giunge ad una strutturazione della frase i cui elementi si concordano tra loro in modo corret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nche le coniugazioni dei verbi si perfezionano progressiva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 La presentazione è una rielaborazione sulla base dei materiali di studio e di G.Favaro “ Insegnare l'italiano agli alunni stranieri” 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