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0E938-CBD8-4D42-8EF6-E08D89A8B6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5B7-BD52-45AA-B874-919C953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07D-2D5F-4E1C-AF15-398227DF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74E-8744-46B4-8498-A4297F40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E8A-4351-4435-96C0-E9D35D97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036-E8D9-48FD-965D-BCC0F972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660-56AA-4475-B26F-C61B73F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9C8-AA94-4F8A-AAA8-4EDD7441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25D-481A-4196-9BC5-77A46372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A89-B96A-480F-A96E-E10C58B4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D77-47B5-4B4E-AE23-A715DA7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336-8724-4E1C-BC04-FB9417C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211-3974-4D51-B103-B0B30858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83159-5128-4AE0-B2D4-ED50E24A69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72960"/>
            <a:ext cx="9070920" cy="12081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FASI E GLI 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03320"/>
            <a:ext cx="9070920" cy="497232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l'acquisizione di una seconda lingua l'apprendente deve percorrere un passaggio chiamato “interlingu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tale passaggio, costituito da fasi, determinant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tivazione     gli imput      la vicinanz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lanti italof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680000"/>
            <a:ext cx="180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35320" y="4680000"/>
            <a:ext cx="2170080" cy="72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680000"/>
            <a:ext cx="180036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 DELL'INTERLING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A PRE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eferenza per l'asco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la comunicazione non verbale per completare il   senso del disc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parole chi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frasi nomi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orfologia assente o molto semplifi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intassi molto ess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cquisizione graduale dei mezzi morfologici per esprimere la temporalit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llocazione degli eventi in successione tempor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 participio passato per esprimere il passato e l'infinito per esprimere il pres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arsa delle prime forme di subordin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izio dello sviluppo morf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una regola appresa anche in contesti non sempre appropri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POST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rendente si avvicina sempre più alla lingua obiettiv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 fra soggetto e participio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tturazione verbale quasi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quiste in evoluzione a livello lessicale e morf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al presente ( 2^- 3^ persona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ll'infinito per esprimere abit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i avverbi per indica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nomi senza variabilità e senza accordo con il resto della f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gli artico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i primi pronomi (lui- le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molto rudimentale e si avvale di supporti comunicativi non verb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l participio passato e dell'imperfetto con funzione du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ll'ausili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cordo  degli articoli : il; i – la;le, col nome sia nel genere, che nel nu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gli articoli determinativi “lo” - “gli” e degli articoli indeterminativi ( avviene più tard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“dovere” - “ pot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a comparsa dell'uso dei verbi “ credere” - “pensa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Z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enza dell'imperfetto per esprime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e forme copulative ( era -er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ll'imperfetto dei verbi “potere” - “vol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o dell'accordo fra aggettivi e nomi sia nel genere, che nel nu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certo l'accordo tra soggetto e aggettivo predicativo ( la tavola è larg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mpliamento dell'uso dei verbi “potere” e “dovere” ( il libro deve essere qu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1206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TRI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69480" cy="4935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uccessivamente l'apprendente, con gradualità, giunge ad una strutturazione della frase i cui elementi si concordano tra loro in modo corre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 coniugazioni dei verbi si perfezionano progressiv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La presentazione è una rielaborazione sulla base dei materiali di studio e di G.Favaro “ Insegnare l'italiano agli alunni stranieri”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