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5D7-CFB1-4432-8528-859D837F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DB7-C2E8-4C8E-B4BC-36E50FDE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6A1-9F18-4530-AB53-3FB8BBC6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2A4-2CE6-4325-AB36-1ACF11EC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A1B-3BD3-4D46-AD34-95A63F5B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222-2604-4916-8652-D6FA2857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FD3-1C16-4B68-A97F-6626DA62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881-E91E-446D-A369-9E6256A6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4D4-5A08-4235-A28F-6B15B404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2E9D-2B0E-40B3-99F5-DE7D2861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3FD-0B17-4B7B-A9AA-E0E4596E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323-9914-4556-BC3E-34DD6FD9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9BF5-B4E1-42FC-9801-045C0A916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7502" t="14998" r="16876" b="21191"/>
          <a:stretch/>
        </p:blipFill>
        <p:spPr>
          <a:xfrm>
            <a:off x="457200" y="152280"/>
            <a:ext cx="853452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19305000">
            <a:off x="2286000" y="1523880"/>
            <a:ext cx="4495680" cy="36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ODIFICA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Y/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DAPTA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21:44Z</dcterms:created>
  <dc:creator>Belen Martini</dc:creator>
  <dc:description/>
  <dc:language>en-US</dc:language>
  <cp:lastModifiedBy>Oem</cp:lastModifiedBy>
  <dcterms:modified xsi:type="dcterms:W3CDTF">2008-08-04T03:25:52Z</dcterms:modified>
  <cp:revision>1</cp:revision>
  <dc:subject/>
  <dc:title>Slide 1</dc:title>
</cp:coreProperties>
</file>