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CD8-E25B-4E00-9AD0-BB5407E3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490-3F54-4919-8915-1A8C8810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B37-DA73-4A56-8487-9E6BD399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2CA-9657-4EAF-8188-90D68DE9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E19-CFE7-48BD-BD82-FA655661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150-058A-47A3-A95F-4C97E5CB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789-1420-454B-9F93-EA8D23BC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EAE-042C-40E3-9FBA-6BDF7327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AD9-BC1E-4E32-AC57-259FD4C7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A71-BE5F-402E-A5F3-AC486500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ADF-55EE-4A25-A725-7B4CEAFB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404-EF85-4619-AD57-CE4AD7B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D870-378B-4EE2-A4C6-F8F2E53C2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7502" t="14998" r="16876" b="21191"/>
          <a:stretch/>
        </p:blipFill>
        <p:spPr>
          <a:xfrm>
            <a:off x="457200" y="152280"/>
            <a:ext cx="853452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19305000">
            <a:off x="2286000" y="1523880"/>
            <a:ext cx="4495680" cy="36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ODIFIC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Y/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DAPT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21:44Z</dcterms:created>
  <dc:creator>Belen Martini</dc:creator>
  <dc:description/>
  <dc:language>en-US</dc:language>
  <cp:lastModifiedBy>Oem</cp:lastModifiedBy>
  <dcterms:modified xsi:type="dcterms:W3CDTF">2008-08-04T03:25:52Z</dcterms:modified>
  <cp:revision>1</cp:revision>
  <dc:subject/>
  <dc:title>Slide 1</dc:title>
</cp:coreProperties>
</file>