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333-BED5-4C29-A4A5-ACD320F0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79E-9BB2-41DA-9EB8-FFA2F4B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56C-D469-4A1B-B199-E327DF0B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7BA-AC57-4373-AA93-DCC38207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6215-318D-4991-9338-4632A38D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36E6-CFED-4282-AF41-8A0D088D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4854-D8BD-4219-A389-4F8BE24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014F-8EB1-48E6-883C-745D45A8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BD5A-1BD1-4AB5-BB6A-1F3A82E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C87-0133-4582-8B8E-8B428C8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1B61-7379-48EB-BED2-DD900BD6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627-62DF-4F1A-B1F8-EF8A46EB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AF97-5F4F-40AB-8390-331CEE9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01CF-6E64-4AC1-A692-3F885D8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6743-65B1-4193-BE12-E3254328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3751-AAA9-4965-99BE-D49F36D0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5F31-C879-413B-8D05-99E53B09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FAF-5A96-4A76-845B-6E36DCFC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102-E57B-4CA4-BD08-926FF8F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719-D0DF-4FCF-932B-436A243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196-7C82-4DAF-A5E1-45FD39B0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A0F-D45E-4C34-8EFD-1B367CD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9C0-D5F6-482C-AF04-CAC587C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E3C-AC75-421B-8577-4F0532E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015-32BE-4E31-98B6-8130225CA7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0D9F-EE98-4315-BCE2-D9D6F06217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fotos 105 pte"/>
          <p:cNvPicPr/>
          <p:nvPr/>
        </p:nvPicPr>
        <p:blipFill>
          <a:blip r:embed="rId1"/>
          <a:stretch/>
        </p:blipFill>
        <p:spPr>
          <a:xfrm>
            <a:off x="1371600" y="835200"/>
            <a:ext cx="7010280" cy="52308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otos tec43 001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otos 105 pte"/>
          <p:cNvPicPr/>
          <p:nvPr/>
        </p:nvPicPr>
        <p:blipFill>
          <a:blip r:embed="rId1"/>
          <a:stretch/>
        </p:blipFill>
        <p:spPr>
          <a:xfrm>
            <a:off x="121932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fotos 105 pte"/>
          <p:cNvPicPr/>
          <p:nvPr/>
        </p:nvPicPr>
        <p:blipFill>
          <a:blip r:embed="rId1"/>
          <a:stretch/>
        </p:blipFill>
        <p:spPr>
          <a:xfrm>
            <a:off x="114300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2:45:08Z</dcterms:created>
  <dc:creator>Belen Martini</dc:creator>
  <dc:description/>
  <dc:language>en-US</dc:language>
  <cp:lastModifiedBy>Oem</cp:lastModifiedBy>
  <dcterms:modified xsi:type="dcterms:W3CDTF">2008-08-04T02:53:09Z</dcterms:modified>
  <cp:revision>1</cp:revision>
  <dc:subject/>
  <dc:title>Slide 1</dc:title>
</cp:coreProperties>
</file>