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2A5-DF20-42FA-ADBE-AD61AB0F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E63-4D95-43C5-BEDC-4B5BEF57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E9B-AE3B-4311-9849-D14DDA0B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BD1-261D-43B1-A6BE-5CF6A485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8DEF-D414-4427-AD2B-614E1939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F6A3-C1D5-4799-BAF5-65F564A6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FB96-29A1-431F-9EDA-180FAD3D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EC07-DB00-47BA-AF39-9708576E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6FE0-7F6E-449B-A75A-834809A7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64C9-083F-49EE-8AE2-62C46317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544F-D645-4CBC-8388-80E596B1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9980-C7FE-4910-81B1-F2157630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28E7-5277-4FCF-B65C-17CCF32E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8995-C819-4035-9EA5-9A8812EA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3C99-7A95-48E4-96D6-105E2911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8F5D-0070-459A-9713-0BBB3847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AB28-4212-4456-8E7F-40B4D9B2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9CB-E2AE-4BA4-922E-81F4516C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1091-8DAB-45AA-B663-A1AF9B7E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327-2B00-4C5D-90A8-F3EC8EA2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1643-E0D3-469A-9C7B-A9465048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37E-2048-4D81-9287-371B1FAB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7F3-123D-4810-81D9-40622081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9F02-CDD1-4B9A-8647-9571108C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0D53-A03E-41F8-BF65-AFFE67F0FF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A1F8-A2A0-4DCC-B747-8B47D17BED0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fotos 105 pte"/>
          <p:cNvPicPr/>
          <p:nvPr/>
        </p:nvPicPr>
        <p:blipFill>
          <a:blip r:embed="rId1"/>
          <a:stretch/>
        </p:blipFill>
        <p:spPr>
          <a:xfrm>
            <a:off x="1371600" y="835200"/>
            <a:ext cx="7010280" cy="523080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fotos tec43 001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fotos 105 pte"/>
          <p:cNvPicPr/>
          <p:nvPr/>
        </p:nvPicPr>
        <p:blipFill>
          <a:blip r:embed="rId1"/>
          <a:stretch/>
        </p:blipFill>
        <p:spPr>
          <a:xfrm>
            <a:off x="1219320" y="684360"/>
            <a:ext cx="7086600" cy="52862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fotos 105 pte"/>
          <p:cNvPicPr/>
          <p:nvPr/>
        </p:nvPicPr>
        <p:blipFill>
          <a:blip r:embed="rId1"/>
          <a:stretch/>
        </p:blipFill>
        <p:spPr>
          <a:xfrm>
            <a:off x="1143000" y="684360"/>
            <a:ext cx="7086600" cy="52862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2:45:08Z</dcterms:created>
  <dc:creator>Belen Martini</dc:creator>
  <dc:description/>
  <dc:language>en-US</dc:language>
  <cp:lastModifiedBy>Oem</cp:lastModifiedBy>
  <dcterms:modified xsi:type="dcterms:W3CDTF">2008-08-04T02:53:09Z</dcterms:modified>
  <cp:revision>1</cp:revision>
  <dc:subject/>
  <dc:title>Slide 1</dc:title>
</cp:coreProperties>
</file>