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2FE-2188-429B-979B-8F962D65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8C9-AD4A-440E-92FB-77CD872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2D1-3EB5-4DDE-8799-0EBB5384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C98-6A8C-4511-92E2-8228835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3BE-B2C3-4545-8D12-8D13101F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19E-D91C-4A01-859E-4B5225C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3781-8788-4174-A72E-EA7DB9B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D97-9B5C-4336-83FB-8C6A6A2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5792-42E6-4ED4-93FD-515A20FB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E7E4-1B7B-404F-805B-41FB42CE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3213-EDAF-4C07-881C-F84EF4E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FBB-6C4E-4A78-82CF-67DA184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41A7-E77F-4B2E-B71A-CE15549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40DF-1E2F-481C-8DC8-6FA86FD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D414-F4CE-4C1A-A0BD-6E98163C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7F27-438B-4C59-B562-BEA72D5D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BA62-3C45-4803-B9B9-1F3198D0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639-9292-4735-B63E-BE4C2C37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DF8-F4E3-4B93-BEB6-9E673F3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03F-DC7F-4431-8021-4BF25199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9A5-66E2-42EB-B6C5-3859BFD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1A6-4DE7-4E6F-9CFE-9E8C592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264-5663-4A22-B454-A666FFD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E68-B3CE-4B2E-98F4-8B3D83D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BA2E-1994-4F70-BEFB-5D7709B57E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3AC6-6C70-48A0-A72C-2AAEA8FDDC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otos 105 pte"/>
          <p:cNvPicPr/>
          <p:nvPr/>
        </p:nvPicPr>
        <p:blipFill>
          <a:blip r:embed="rId1"/>
          <a:stretch/>
        </p:blipFill>
        <p:spPr>
          <a:xfrm>
            <a:off x="1371600" y="835200"/>
            <a:ext cx="7010280" cy="52308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otos tec43 001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tos 105 pte"/>
          <p:cNvPicPr/>
          <p:nvPr/>
        </p:nvPicPr>
        <p:blipFill>
          <a:blip r:embed="rId1"/>
          <a:stretch/>
        </p:blipFill>
        <p:spPr>
          <a:xfrm>
            <a:off x="121932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otos 105 pte"/>
          <p:cNvPicPr/>
          <p:nvPr/>
        </p:nvPicPr>
        <p:blipFill>
          <a:blip r:embed="rId1"/>
          <a:stretch/>
        </p:blipFill>
        <p:spPr>
          <a:xfrm>
            <a:off x="114300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2:45:08Z</dcterms:created>
  <dc:creator>Belen Martini</dc:creator>
  <dc:description/>
  <dc:language>en-US</dc:language>
  <cp:lastModifiedBy>Oem</cp:lastModifiedBy>
  <dcterms:modified xsi:type="dcterms:W3CDTF">2008-08-04T02:53:09Z</dcterms:modified>
  <cp:revision>1</cp:revision>
  <dc:subject/>
  <dc:title>Slide 1</dc:title>
</cp:coreProperties>
</file>