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BA7-4A65-48D3-A1FD-92286D06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655-04C0-4449-80D0-8CB050BF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AF4-89F1-4E7C-A4C8-3724DBFF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C5D-9478-4D10-8943-28E179B7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383-FA0E-4713-A5BE-A221A49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F0D-6763-47EA-A96A-E7DBBB41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18D-A347-4F13-9237-08EA3C73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BCA-0B3F-4216-97D8-B55078E6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90D-2503-4A74-9E6D-CDD87747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72A-5DC5-468E-B0CE-9D373BC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6C6-7758-4FC0-B2F9-0A95131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26D-AECF-4CD0-8323-1C9B600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FBA-281E-4E93-A663-FC0B3B6155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otomaf.com/albums/Variado/NocheDeLosLibros.jpg&amp;imgrefurl=http://ordenadoresenelaula.blogspot.com/2007/12/sobre-los-libros-impresos-y-los.html&amp;h=721&amp;w=800&amp;sz=186&amp;hl=es&amp;start=11&amp;tbnid=Hw1nPR4FulndbM:&amp;tbnh=129&amp;tbnw=143&amp;prev=/images?q=libros&amp;gbv=2&amp;hl=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tbn0.google.com/images?q=tbn:Hw1nPR4FulndbM:http://www.fotomaf.com/albums/Variado/NocheDeLosLibr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657600"/>
            <a:ext cx="2962440" cy="267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www.dypre.com.mx/i/img_d16.jpg"/>
          <p:cNvPicPr/>
          <p:nvPr/>
        </p:nvPicPr>
        <p:blipFill>
          <a:blip r:embed="rId3"/>
          <a:stretch/>
        </p:blipFill>
        <p:spPr>
          <a:xfrm>
            <a:off x="3809880" y="685800"/>
            <a:ext cx="415152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581280" y="39625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S 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http://tbn0.google.com/images?q=tbn:054lByjA1-YIvM:http://www.uptc.edu.co/export/sites/default/direccion_investigaciones/imagenes/TCT_i/IMG_VINCULACION_CON_SECTOR_PRODUCTIVO.jpg"/>
          <p:cNvPicPr/>
          <p:nvPr/>
        </p:nvPicPr>
        <p:blipFill>
          <a:blip r:embed="rId1"/>
          <a:stretch/>
        </p:blipFill>
        <p:spPr>
          <a:xfrm>
            <a:off x="380880" y="372960"/>
            <a:ext cx="8534520" cy="5854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657600" y="1371600"/>
            <a:ext cx="1676520" cy="554400"/>
          </a:xfrm>
          <a:prstGeom prst="rect">
            <a:avLst/>
          </a:prstGeom>
          <a:solidFill>
            <a:srgbClr val="f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ENVEJE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DACTICAM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48320" y="4114800"/>
            <a:ext cx="2438280" cy="785520"/>
          </a:xfrm>
          <a:prstGeom prst="rect">
            <a:avLst/>
          </a:prstGeom>
          <a:solidFill>
            <a:srgbClr val="7e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057400" y="2819520"/>
            <a:ext cx="1676520" cy="1006560"/>
          </a:xfrm>
          <a:prstGeom prst="rect">
            <a:avLst/>
          </a:prstGeom>
          <a:solidFill>
            <a:srgbClr val="dda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UNCA OLVIDAR QUE SOY FORMADORA DE LOS FUTUROS CIUDAD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http://www.innovum.cl/UserFiles/P0001/Image/modelo_competencias_explora.gif"/>
          <p:cNvPicPr/>
          <p:nvPr/>
        </p:nvPicPr>
        <p:blipFill>
          <a:blip r:embed="rId1"/>
          <a:stretch/>
        </p:blipFill>
        <p:spPr>
          <a:xfrm>
            <a:off x="1600200" y="449280"/>
            <a:ext cx="6477120" cy="6151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981600" y="316224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58:53Z</dcterms:created>
  <dc:creator>Belen Martini</dc:creator>
  <dc:description/>
  <dc:language>en-US</dc:language>
  <cp:lastModifiedBy>Oem</cp:lastModifiedBy>
  <dcterms:modified xsi:type="dcterms:W3CDTF">2008-08-04T05:01:10Z</dcterms:modified>
  <cp:revision>3</cp:revision>
  <dc:subject/>
  <dc:title>Slide 1</dc:title>
</cp:coreProperties>
</file>