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52A-17F3-41BA-B619-3B242949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DE9-3ED5-4E69-9DA2-66BDF673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F51-9033-4C10-BE1D-54A140EA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CB5-A74A-492F-B759-6CD4C58F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80E-D9CB-45BA-8827-761F2CFF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29D-9CDB-493B-A93F-A64B625F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96CF-67AB-4E81-8154-754A19B2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3DE-6E87-4BAE-A465-C8CCC861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960D-5753-440B-BEFC-01003028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B0F-D3FE-44C5-B47F-254271FF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197F-3F26-405F-85EB-248BDE28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C3B-3F20-4923-B587-14DEA5AF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7A6C-96E2-43A9-9273-33FFBEF92D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4191120" y="4191120"/>
            <a:ext cx="2743200" cy="1371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T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Oval 6"/>
          <p:cNvSpPr/>
          <p:nvPr/>
        </p:nvSpPr>
        <p:spPr>
          <a:xfrm>
            <a:off x="1295280" y="838080"/>
            <a:ext cx="6858000" cy="5486400"/>
          </a:xfrm>
          <a:prstGeom prst="ellipse">
            <a:avLst/>
          </a:prstGeom>
          <a:solidFill>
            <a:srgbClr val="94050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7"/>
          <p:cNvSpPr/>
          <p:nvPr/>
        </p:nvSpPr>
        <p:spPr>
          <a:xfrm>
            <a:off x="1905120" y="1447920"/>
            <a:ext cx="5562360" cy="457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514600" y="2133720"/>
            <a:ext cx="4495680" cy="3581280"/>
          </a:xfrm>
          <a:prstGeom prst="ellipse">
            <a:avLst/>
          </a:prstGeom>
          <a:solidFill>
            <a:srgbClr val="f8f04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9"/>
          <p:cNvSpPr/>
          <p:nvPr/>
        </p:nvSpPr>
        <p:spPr>
          <a:xfrm>
            <a:off x="3048120" y="2590920"/>
            <a:ext cx="3352680" cy="2743200"/>
          </a:xfrm>
          <a:prstGeom prst="ellipse">
            <a:avLst/>
          </a:prstGeom>
          <a:solidFill>
            <a:srgbClr val="3206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0"/>
          <p:cNvSpPr/>
          <p:nvPr/>
        </p:nvSpPr>
        <p:spPr>
          <a:xfrm>
            <a:off x="3809880" y="3276720"/>
            <a:ext cx="2362320" cy="167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T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4038480" y="2819520"/>
            <a:ext cx="1371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3962520" y="2300400"/>
            <a:ext cx="175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R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4038480" y="1676520"/>
            <a:ext cx="1905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M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4038480" y="990720"/>
            <a:ext cx="1905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conaie_biodiversidad_c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3857760"/>
          </a:xfrm>
          <a:prstGeom prst="rect">
            <a:avLst/>
          </a:prstGeom>
          <a:ln w="0">
            <a:noFill/>
          </a:ln>
        </p:spPr>
      </p:pic>
      <p:sp>
        <p:nvSpPr>
          <p:cNvPr id="52" name="WordArt 7"/>
          <p:cNvSpPr txBox="1"/>
          <p:nvPr/>
        </p:nvSpPr>
        <p:spPr>
          <a:xfrm>
            <a:off x="1700280" y="457200"/>
            <a:ext cx="574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CESOS FORMA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1676520" y="5219640"/>
            <a:ext cx="574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TERRELACIONAR Y VINCULA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ENI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4" descr="http://tbn0.google.com/images?q=tbn:p80_qaQPCsQ3rM:http://avanzza4.com/sistematizar.gif"/>
          <p:cNvPicPr/>
          <p:nvPr/>
        </p:nvPicPr>
        <p:blipFill>
          <a:blip r:embed="rId1"/>
          <a:stretch/>
        </p:blipFill>
        <p:spPr>
          <a:xfrm>
            <a:off x="2209680" y="2478240"/>
            <a:ext cx="4572000" cy="407484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1700280" y="457200"/>
            <a:ext cx="5743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ARROLLAR UN PENSAMIENT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STEMIC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39:07Z</dcterms:created>
  <dc:creator>Belen Martini</dc:creator>
  <dc:description/>
  <dc:language>en-US</dc:language>
  <cp:lastModifiedBy>Oem</cp:lastModifiedBy>
  <dcterms:modified xsi:type="dcterms:W3CDTF">2008-08-04T05:00:21Z</dcterms:modified>
  <cp:revision>5</cp:revision>
  <dc:subject/>
  <dc:title>Slide 1</dc:title>
</cp:coreProperties>
</file>