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125-531B-4084-BDC4-54D20AE8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C64-71ED-4F53-B481-E5B99191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A15-8A8D-4B2E-8CCB-8618C463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7D3-CD5F-4D87-9DE7-5DFFCCB3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D78-C3E3-45DF-8373-C5344C13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D49-8FD0-46AD-B889-47DBA2B6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D10-B422-4FA7-963E-8DA3BDDE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FFC-1DA8-4216-B1CE-B37A8623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92A-7E7C-4D4E-83B8-215DB105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B06-29D4-4AD7-83F3-7DF77C72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F1A-EEEA-49C5-9435-F624E89E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E4C-2AC8-45FD-AE5E-7267E7F0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387D-FE69-4C94-8D12-7726746F36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4191120" y="4191120"/>
            <a:ext cx="2743200" cy="1371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Oval 6"/>
          <p:cNvSpPr/>
          <p:nvPr/>
        </p:nvSpPr>
        <p:spPr>
          <a:xfrm>
            <a:off x="1295280" y="838080"/>
            <a:ext cx="6858000" cy="5486400"/>
          </a:xfrm>
          <a:prstGeom prst="ellipse">
            <a:avLst/>
          </a:prstGeom>
          <a:solidFill>
            <a:srgbClr val="94050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7"/>
          <p:cNvSpPr/>
          <p:nvPr/>
        </p:nvSpPr>
        <p:spPr>
          <a:xfrm>
            <a:off x="1905120" y="1447920"/>
            <a:ext cx="5562360" cy="457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514600" y="2133720"/>
            <a:ext cx="4495680" cy="3581280"/>
          </a:xfrm>
          <a:prstGeom prst="ellipse">
            <a:avLst/>
          </a:prstGeom>
          <a:solidFill>
            <a:srgbClr val="f8f04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9"/>
          <p:cNvSpPr/>
          <p:nvPr/>
        </p:nvSpPr>
        <p:spPr>
          <a:xfrm>
            <a:off x="3048120" y="2590920"/>
            <a:ext cx="3352680" cy="2743200"/>
          </a:xfrm>
          <a:prstGeom prst="ellipse">
            <a:avLst/>
          </a:prstGeom>
          <a:solidFill>
            <a:srgbClr val="3206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0"/>
          <p:cNvSpPr/>
          <p:nvPr/>
        </p:nvSpPr>
        <p:spPr>
          <a:xfrm>
            <a:off x="3809880" y="3276720"/>
            <a:ext cx="2362320" cy="167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4038480" y="2819520"/>
            <a:ext cx="1371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3962520" y="2300400"/>
            <a:ext cx="175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R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038480" y="1676520"/>
            <a:ext cx="1905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M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4038480" y="990720"/>
            <a:ext cx="1905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conaie_biodiversidad_c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857760"/>
          </a:xfrm>
          <a:prstGeom prst="rect">
            <a:avLst/>
          </a:prstGeom>
          <a:ln w="0">
            <a:noFill/>
          </a:ln>
        </p:spPr>
      </p:pic>
      <p:sp>
        <p:nvSpPr>
          <p:cNvPr id="52" name="WordArt 7"/>
          <p:cNvSpPr txBox="1"/>
          <p:nvPr/>
        </p:nvSpPr>
        <p:spPr>
          <a:xfrm>
            <a:off x="1700280" y="457200"/>
            <a:ext cx="574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CESOS FORM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1676520" y="5219640"/>
            <a:ext cx="574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TERRELACIONAR Y VINCULA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I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4" descr="http://tbn0.google.com/images?q=tbn:p80_qaQPCsQ3rM:http://avanzza4.com/sistematizar.gif"/>
          <p:cNvPicPr/>
          <p:nvPr/>
        </p:nvPicPr>
        <p:blipFill>
          <a:blip r:embed="rId1"/>
          <a:stretch/>
        </p:blipFill>
        <p:spPr>
          <a:xfrm>
            <a:off x="2209680" y="2478240"/>
            <a:ext cx="4572000" cy="407484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1700280" y="457200"/>
            <a:ext cx="5743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ARROLLAR UN PENSAMIENT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STEMI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39:07Z</dcterms:created>
  <dc:creator>Belen Martini</dc:creator>
  <dc:description/>
  <dc:language>en-US</dc:language>
  <cp:lastModifiedBy>Oem</cp:lastModifiedBy>
  <dcterms:modified xsi:type="dcterms:W3CDTF">2008-08-04T05:00:21Z</dcterms:modified>
  <cp:revision>5</cp:revision>
  <dc:subject/>
  <dc:title>Slide 1</dc:title>
</cp:coreProperties>
</file>