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F7C-B976-4442-B02C-DAA11C6E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E3C-9B2B-49A3-96BD-AB54B4AA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2E5-7B49-4706-BE05-18B7D15B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923-778B-477F-897E-154AA7D7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6F7-46F4-481E-886E-2E952FCE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9C4-8EB5-4A9D-8858-5DDCE0DB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768-B9B3-4868-8913-795C7D7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6DB-9028-41A6-93A2-1B127B0D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E6C-221D-4178-9CF4-6C584E6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87E-CE09-4072-9DE9-839A1BA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AD5-DC1D-47F5-AC79-8266DCC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311-ED2F-4167-8B5C-42B26A1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FBF-495C-4452-BE79-F66E290FBF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4191120" y="4191120"/>
            <a:ext cx="2743200" cy="1371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6"/>
          <p:cNvSpPr/>
          <p:nvPr/>
        </p:nvSpPr>
        <p:spPr>
          <a:xfrm>
            <a:off x="1295280" y="838080"/>
            <a:ext cx="6858000" cy="5486400"/>
          </a:xfrm>
          <a:prstGeom prst="ellipse">
            <a:avLst/>
          </a:prstGeom>
          <a:solidFill>
            <a:srgbClr val="9405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1905120" y="1447920"/>
            <a:ext cx="5562360" cy="457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514600" y="2133720"/>
            <a:ext cx="4495680" cy="3581280"/>
          </a:xfrm>
          <a:prstGeom prst="ellipse">
            <a:avLst/>
          </a:prstGeom>
          <a:solidFill>
            <a:srgbClr val="f8f04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9"/>
          <p:cNvSpPr/>
          <p:nvPr/>
        </p:nvSpPr>
        <p:spPr>
          <a:xfrm>
            <a:off x="3048120" y="2590920"/>
            <a:ext cx="3352680" cy="2743200"/>
          </a:xfrm>
          <a:prstGeom prst="ellipse">
            <a:avLst/>
          </a:prstGeom>
          <a:solidFill>
            <a:srgbClr val="3206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3809880" y="3276720"/>
            <a:ext cx="236232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038480" y="2819520"/>
            <a:ext cx="1371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3962520" y="2300400"/>
            <a:ext cx="175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R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038480" y="16765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038480" y="990720"/>
            <a:ext cx="190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OSF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conaie_biodiversidad_c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85776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1700280" y="45720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5219640"/>
            <a:ext cx="574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RRELACIONAR Y VINCUL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http://tbn0.google.com/images?q=tbn:p80_qaQPCsQ3rM:http://avanzza4.com/sistematizar.gif"/>
          <p:cNvPicPr/>
          <p:nvPr/>
        </p:nvPicPr>
        <p:blipFill>
          <a:blip r:embed="rId1"/>
          <a:stretch/>
        </p:blipFill>
        <p:spPr>
          <a:xfrm>
            <a:off x="2209680" y="2478240"/>
            <a:ext cx="4572000" cy="407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700280" y="457200"/>
            <a:ext cx="574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ARROLLAR UN PENSAMIEN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STEMI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9:07Z</dcterms:created>
  <dc:creator>Belen Martini</dc:creator>
  <dc:description/>
  <dc:language>en-US</dc:language>
  <cp:lastModifiedBy>Oem</cp:lastModifiedBy>
  <dcterms:modified xsi:type="dcterms:W3CDTF">2008-08-04T05:00:21Z</dcterms:modified>
  <cp:revision>5</cp:revision>
  <dc:subject/>
  <dc:title>Slide 1</dc:title>
</cp:coreProperties>
</file>