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851-0D58-4CDA-AD3B-C12D4DED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355-D7A4-4951-8098-446FEF1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2D8-4D59-45E1-A821-B2E43B94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636-C468-404E-BCEB-3859EDBD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45FE-7815-4893-8A23-E2E93EE3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8E8-2825-440A-8D5C-8C44196E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4034-EA17-4F33-B09C-E8F21059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B014-CC93-45CB-8407-7AB8235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249C-DE99-4DC2-9BF9-0638A2A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6C41-443E-4D0B-99CF-B69B3478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3B61-18C5-4AA7-89E0-E55893DD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F18-1DF4-4077-8CC7-E5ECA42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D9D2-120A-4668-9E40-EA6C2D2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E5E-451B-445A-B90A-06C6C76B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B83-72BD-4650-836A-5647F5BB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FB1F-A3D5-478B-8965-3C0A363F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192-1A9C-4D4C-A69F-5E6DA9B6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EB43-3585-41AF-91FF-5963F29F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F4A7-C37B-4019-A6B0-A4851C6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FD7A-61AF-416E-852A-F7345E0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7C45-CCD5-40F4-855C-7021B35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2AB3-B470-444F-9DC5-8EA7A077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E08-BD83-4774-BC0F-90EC385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D109-F3A8-4F91-99F4-2783282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B35D-778F-4651-88BB-2631B01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A016-B6FF-446F-8B32-C0669FB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1346-2106-4CBE-BB22-0ED94A6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11B5-ED14-4B9F-9D49-3169CC1F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23EF-44D6-4D1A-A66B-233D9B7E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3429-F64A-49DA-BD4E-74977F5F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B4F0-205B-45F8-B7DA-996F0EC3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0B35-C7C7-43C7-A873-8B569300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091E-A0B3-48C1-857E-BE36B3A7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2D9-B8B9-464F-966B-6DE9534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52C9-B1FA-444B-AC33-AE2C6E5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7B73-11A4-4E12-99D3-411C0F15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9BF2-D81B-46BC-945C-8FC45180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B7DF-299B-4680-8447-A6C56BD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DF58-6B09-4241-9981-CB0CBF5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DD3D-F878-4BCE-9064-81012D4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3295-313B-4DB7-8DCA-79AA5ED6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B601-34BD-42D8-BC30-0A2D129E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7760-39BB-4DAA-B055-4A371BE8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10FBD-0A94-4926-85B5-880CCB38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794-FEA1-46E6-9160-C1149275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48B4-85FF-48A9-AC71-1F4845AC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10D3-E13C-4A5A-8CDF-2CA9544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8D085-F352-450A-BEEE-A7A4D28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D9F8-763E-49EF-A6F2-3F1BD81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6C69-469C-40E0-BF5D-E164CD4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504B-12B4-4306-8941-2F2BC07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D92C8-A379-4DE9-A418-E52B33B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DA6E-888F-4E07-9443-47AB274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28F3-21EA-4718-A186-4FBD7440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1CB0-CE48-442B-BF0C-4C72AFB5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E02-90DC-4686-8E92-A91CC16B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3616-055A-49D4-933C-9CC7B969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4FE9C-DD54-4842-B5CE-A25A7315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4F7B-3FB1-4A56-9A7F-E94DF9FB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A375C-6148-44EF-B7C8-80161C1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E747-CA9B-413C-AD6B-4873C583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9656-E608-46D4-B278-32CEC5D3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CB07-18C3-4B8F-94B8-CB45C067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4A9EC-8D65-4257-84D0-DD783A2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72072-1030-461C-8D19-F1CD683B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DE36B-381E-4A01-8772-E4A4A20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4B5-A7AB-427E-B9A1-C7BD845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F3D64-1CE7-4502-B2D7-709D5510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49CE0-B52C-44CD-8272-963D49EC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6A25-F51B-4838-AEF9-78E788DF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833E-32B5-43DC-9ED5-73B76179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6969-3DC5-4830-ABCE-2AAB8500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71BB-04BA-4385-A5C3-4CD3DA5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E90D-D6C4-46DD-8050-96875E3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F53C-DE07-40DA-9126-7D9E0C92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EACBC-0C54-417B-B16A-B328913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2933B-14BF-46A8-9DE6-BEFA1524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E04-B012-4E85-9A9E-0C97191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9057-02BF-4A80-A46C-BCE582E8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6687-E193-4AA5-8DDF-FBC125F0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B28D-FD1C-425D-9670-3C3EDDB9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32800-FF75-438A-9341-BE1C8789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8953A-FF6B-41D5-9BCD-FB389EA3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F11-2895-4CE1-8850-8150C8C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C74-9894-4EB0-A315-AB4A846D3A7B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D098-C0A5-4D06-8515-A2956F3DA06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EEA3-D4B2-4C21-8744-58F446DCC01B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CE2C-4754-4E76-BE9E-062A004CDB87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232D-8F23-4FF2-AA4A-BAE55159C6A7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74F-A49E-400A-81C0-69A126AA470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0A3D-758B-4D6F-B1E8-64EE4A4041FD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yell.com/images/classifications/detectives.jpg&amp;imgrefurl=http://www.yell.com/find/DoFind/cl/Detective-Agencies&amp;h=290&amp;w=400&amp;sz=70&amp;hl=es&amp;start=284&amp;tbnid=7YNEZzTOYlP-eM:&amp;tbnh=90&amp;tbnw=124&amp;prev=/images%3Fq%3Ddetective%26start%3D270%26gbv%3D2%26ndsp%3D18%26hl%3Des%26sa%3DN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.mx/imgres?imgurl=http://esferadecomunicacion.files.wordpress.com/2008/04/internet.jpg&amp;imgrefurl=http://machincuepa.com/?m=20080627&amp;jal_no_js=true&amp;poll_id=14&amp;h=300&amp;w=300&amp;sz=44&amp;hl=es&amp;start=42&amp;tbnid=6pc66IP5rVD_1M:&amp;tbnh=116&amp;tbnw=116&amp;prev=/images?q=internet&amp;start=36&amp;gbv=2&amp;ndsp=18&amp;hl=es&amp;sa=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.mx/imgres?imgurl=http://blog.pucp.edu.pe/media/1118/20080220-cantidad-calidad-blogs-estrategias.jpg&amp;imgrefurl=http://blog.pucp.edu.pe/archive/894/2008-2-20&amp;h=300&amp;w=300&amp;sz=17&amp;hl=es&amp;start=2&amp;tbnid=9SRjk4vqUV1NAM:&amp;tbnh=116&amp;tbnw=116&amp;prev=/images?q=estrategias&amp;gbv=2&amp;hl=es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.mx/imgres?imgurl=http://bp2.blogger.com/_TTRnp9XK6c4/R_lb9he1vWI/AAAAAAAABi4/H_LN2O4qN6A/s400/EstrategiasEnse&#241;anzaAprendizaje.JPG&amp;imgrefurl=http://novedades-servicios-recursoeducativo.blogspot.com/2008/04/estrategias-de-enseanza-aprendizaje.html&amp;h=400&amp;w=399&amp;sz=47&amp;hl=es&amp;start=31&amp;tbnid=QauCAHUt2yZsoM:&amp;tbnh=124&amp;tbnw=124&amp;prev=/images?q=estrategias&amp;start=18&amp;gbv=2&amp;ndsp=18&amp;hl=es&amp;sa=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.mx/imgres?imgurl=http://www.iesalhadra.org/alhadra/centrotic/videoproyector.jpeg&amp;imgrefurl=http://www.iesalhadra.org/alhadra/centrotic/centrotic.htm&amp;h=481&amp;w=503&amp;sz=31&amp;hl=es&amp;start=10&amp;tbnid=bBrBm9ncPMxJkM:&amp;tbnh=124&amp;tbnw=130&amp;prev=/images?q=videoproyector&amp;gbv=2&amp;hl=es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learnthenet.com/spanish/gifs/content.gif&amp;imgrefurl=http://www.learnthenet.com/spanish/html/43idcont.htm&amp;h=279&amp;w=293&amp;sz=22&amp;hl=es&amp;start=205&amp;tbnid=4GGCD4gyCuDhvM:&amp;tbnh=110&amp;tbnw=115&amp;prev=/images?q=identificar&amp;start=198&amp;gbv=2&amp;ndsp=18&amp;hl=es&amp;sa=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.mx/imgres?imgurl=http://www.empresasalmeria.com/imea/010.jpg&amp;imgrefurl=http://www.empresasalmeria.com/modules.php?name=5serviciosmarketing&amp;h=288&amp;w=400&amp;sz=36&amp;hl=es&amp;start=173&amp;tbnid=k_StHknZ7pKYoM:&amp;tbnh=89&amp;tbnw=124&amp;prev=/images?q=sistematizar&amp;start=162&amp;gbv=2&amp;ndsp=18&amp;hl=es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amilialzheimer.org/media/prensa/imagenes/Comunicacion%20virtual.jpg&amp;imgrefurl=http://anabast.wordpress.com/2008/03/04/las-competencias-basicas-y-las-competencias-en-comunicacion-linguistica/&amp;h=640&amp;w=640&amp;sz=42&amp;hl=es&amp;start=7&amp;tbnid=Cy41ZZQ9B06sOM:&amp;tbnh=137&amp;tbnw=137&amp;prev=/images?q=competencias&amp;gbv=2&amp;hl=es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.mx/imgres?imgurl=http://nuestraclase.blogia.com/upload/20080602202306-compe03.gif&amp;imgrefurl=http://nuestraclase.blogia.com/&amp;h=306&amp;w=362&amp;sz=8&amp;hl=es&amp;start=1&amp;tbnid=eMAL7QhGIP5alM:&amp;tbnh=102&amp;tbnw=121&amp;prev=/images?q=competencias&amp;gbv=2&amp;hl=es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991720" cy="60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0" descr="http://tbn0.google.com/images?q=tbn:7YNEZzTOYlP-eM:http://www.yell.com/images/classifications/detecti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6840" y="115920"/>
            <a:ext cx="3444840" cy="1590480"/>
          </a:xfrm>
          <a:prstGeom prst="rect">
            <a:avLst/>
          </a:prstGeom>
          <a:ln w="0">
            <a:noFill/>
          </a:ln>
        </p:spPr>
      </p:pic>
      <p:pic>
        <p:nvPicPr>
          <p:cNvPr id="370" name="3 CuadroTexto" descr=""/>
          <p:cNvPicPr/>
          <p:nvPr/>
        </p:nvPicPr>
        <p:blipFill>
          <a:blip r:embed="rId3"/>
          <a:stretch/>
        </p:blipFill>
        <p:spPr>
          <a:xfrm>
            <a:off x="3565440" y="1292400"/>
            <a:ext cx="1871640" cy="426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http://tbn0.google.com/images?q=tbn:6pc66IP5rVD_1M:http://esferadecomunicacion.files.wordpress.com/2008/04/interne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http://tbn0.google.com/images?q=tbn:9SRjk4vqUV1NAM:http://blog.pucp.edu.pe/media/1118/20080220-cantidad-calidad-blogs-estrategia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17478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http://tbn0.google.com/images?q=tbn:QauCAHUt2yZsoM:http://bp2.blogger.com/_TTRnp9XK6c4/R_lb9he1vWI/AAAAAAAABi4/H_LN2O4qN6A/s400/EstrategiasEnse%C3%B1anzaAprendizaj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2565360"/>
            <a:ext cx="3921120" cy="3921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http://tbn0.google.com/images?q=tbn:bBrBm9ncPMxJkM:http://www.iesalhadra.org/alhadra/centrotic/videoproyector.jp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3716280"/>
            <a:ext cx="19447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2050920" y="260280"/>
            <a:ext cx="5040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r y utilizar i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http://tbn0.google.com/images?q=tbn:4GGCD4gyCuDhvM:http://www.learnthenet.com/spanish/gifs/cont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765000"/>
            <a:ext cx="1790640" cy="171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http://bp0.blogger.com/_UaOsJecNW8c/SAdUMcNCQuI/AAAAAAAAAGY/LU6uq0SzWps/s320/Imagen1.png"/>
          <p:cNvPicPr/>
          <p:nvPr/>
        </p:nvPicPr>
        <p:blipFill>
          <a:blip r:embed="rId3"/>
          <a:stretch/>
        </p:blipFill>
        <p:spPr>
          <a:xfrm>
            <a:off x="2556000" y="2133720"/>
            <a:ext cx="5352840" cy="4147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5796000" y="3860640"/>
            <a:ext cx="1871640" cy="1015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84720" y="5373720"/>
            <a:ext cx="1871640" cy="86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700360" y="3921120"/>
            <a:ext cx="1871640" cy="703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18" descr="http://tbn0.google.com/images?q=tbn:k_StHknZ7pKYoM:http://www.empresasalmeria.com/imea/0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4075200"/>
            <a:ext cx="2008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http://tbn0.google.com/images?q=tbn:Cy41ZZQ9B06sOM:http://www.familialzheimer.org/media/prensa/imagenes/Comunicacion%2520virtu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26828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116000" y="260280"/>
            <a:ext cx="6696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s 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26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http://tbn0.google.com/images?q=tbn:eMAL7QhGIP5alM:http://nuestraclase.blogia.com/upload/20080602202306-compe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284640"/>
            <a:ext cx="345600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6" descr="http://tbn0.google.com/images?q=tbn:0cHwGfLzruZ8zM:http://www.elpais.com/recorte/20071019elpepspag_12/LCO340/Ies/Tierra_llora.jpg"/>
          <p:cNvPicPr/>
          <p:nvPr/>
        </p:nvPicPr>
        <p:blipFill>
          <a:blip r:embed="rId5"/>
          <a:stretch/>
        </p:blipFill>
        <p:spPr>
          <a:xfrm>
            <a:off x="5364000" y="2205000"/>
            <a:ext cx="35420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Line 11"/>
          <p:cNvSpPr/>
          <p:nvPr/>
        </p:nvSpPr>
        <p:spPr>
          <a:xfrm>
            <a:off x="3924360" y="450864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771640" y="189000"/>
            <a:ext cx="37450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nc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8" descr="http://tbn0.google.com/images?q=tbn:ftQC3Cqj2YyOJM:http://www.pc-news.com/images/fotos/fotos2006/espmitigacionriego2-fig3.jpg"/>
          <p:cNvPicPr/>
          <p:nvPr/>
        </p:nvPicPr>
        <p:blipFill>
          <a:blip r:embed="rId1"/>
          <a:stretch/>
        </p:blipFill>
        <p:spPr>
          <a:xfrm>
            <a:off x="2124000" y="1125360"/>
            <a:ext cx="5473800" cy="490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0" name="Oval 5"/>
          <p:cNvSpPr/>
          <p:nvPr/>
        </p:nvSpPr>
        <p:spPr>
          <a:xfrm>
            <a:off x="2266920" y="2349360"/>
            <a:ext cx="936720" cy="30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 rot="16818600">
            <a:off x="2706480" y="2925360"/>
            <a:ext cx="1655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empeñ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Oval 6"/>
          <p:cNvSpPr/>
          <p:nvPr/>
        </p:nvSpPr>
        <p:spPr>
          <a:xfrm rot="645600">
            <a:off x="3708360" y="1341000"/>
            <a:ext cx="2233800" cy="1008000"/>
          </a:xfrm>
          <a:prstGeom prst="ellipse">
            <a:avLst/>
          </a:prstGeom>
          <a:solidFill>
            <a:srgbClr val="23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7"/>
          <p:cNvSpPr txBox="1"/>
          <p:nvPr/>
        </p:nvSpPr>
        <p:spPr>
          <a:xfrm rot="563400">
            <a:off x="3708000" y="1916280"/>
            <a:ext cx="2521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iencias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227640" y="2709720"/>
            <a:ext cx="1224000" cy="2232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8"/>
          <p:cNvSpPr txBox="1"/>
          <p:nvPr/>
        </p:nvSpPr>
        <p:spPr>
          <a:xfrm rot="5266200">
            <a:off x="5552640" y="3681360"/>
            <a:ext cx="19461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fo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graf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6" name="AutoShape 12"/>
          <p:cNvSpPr/>
          <p:nvPr/>
        </p:nvSpPr>
        <p:spPr>
          <a:xfrm rot="11529600">
            <a:off x="2350800" y="3933360"/>
            <a:ext cx="4537080" cy="2806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3"/>
          <p:cNvSpPr txBox="1"/>
          <p:nvPr/>
        </p:nvSpPr>
        <p:spPr>
          <a:xfrm>
            <a:off x="3276720" y="5472000"/>
            <a:ext cx="302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opósitos del Pl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 Progr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4286160" y="3141720"/>
            <a:ext cx="143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50:29Z</dcterms:created>
  <dc:creator>Oem</dc:creator>
  <dc:description/>
  <dc:language>en-US</dc:language>
  <cp:lastModifiedBy>Oem</cp:lastModifiedBy>
  <dcterms:modified xsi:type="dcterms:W3CDTF">2008-08-04T05:05:58Z</dcterms:modified>
  <cp:revision>18</cp:revision>
  <dc:subject/>
  <dc:title>Diapositiva 1</dc:title>
</cp:coreProperties>
</file>