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3C8-DE5F-42C8-8905-9304A800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0CC-27D8-4F1D-9AEC-68EAA231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656-2258-414D-AB68-F40084EC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2AA-AB4C-4C90-9710-FC7D6E27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12E5-5311-402E-8E62-561F35A1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FE1C-6CAF-475F-A235-F5131BC8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95AC-DE07-410A-A690-07A7FE5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A388-6DC6-4023-999E-CF18CDD1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363C-550C-42CE-81D5-E4A96BC7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8444-1A1C-46C8-B9B8-DB9CD8B3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B666-8B75-43C0-88DB-9DBB20A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FF8-A0FB-4437-B0D5-02B97AE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3CC0-873D-4FBC-98F8-10D04F19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75A-8157-4445-8CB5-27E26F1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A197-C42D-489C-B0EA-082C268C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C675-5730-49E6-B832-4D7766B2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FB9-A9D1-42C4-9DEB-B7718FBD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09D0-C158-48A9-AEA3-DFC77C87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A3AC-0B27-4916-80A6-1D46DAC2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8354-4ADF-4A5D-A4F2-A2D50849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FBC8-3826-4541-B1A3-672AB600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3653-F3D3-4840-BC66-C4B82741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98D-45D8-4673-984E-0A61F487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973A-3C40-4324-8503-D8A9A472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5D0A-9303-4285-890E-5752D13D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2B5A-C3A1-4815-A0C4-C45759AE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449A-5657-4C58-85CE-0938990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A2BB-5128-4124-AB32-9109649B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BBCF-0E84-4C72-8EDD-CE7DCCAC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8516-57B7-4987-AC25-178C0930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2BF7-2F78-49E7-84E5-09121B40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12B0-0D8C-4F99-9328-993A4213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F8B2-31FC-47E5-B091-98B93C33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EED-F5FD-4210-A2C0-D3F98EB4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4C4C-9E11-49C1-99C6-ADDA9BEA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DB48-B36B-4C20-AFF8-984E499D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174E-FC8D-4733-8D3B-B8B6FE34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F94E-9A8D-4D34-9F63-83E73D89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F0D7-D627-499D-98FE-300BB82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75BD-B053-4169-99EB-49CA8130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EC55-1EED-4262-9A9C-D06EF93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9500-9666-4FF3-A288-B63BD213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6534-E5CF-460E-A39F-5E8858CA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70BD-34BF-466B-9166-E4E0478E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50A-B003-4147-AEDB-1E31A682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C123-653D-488F-A04F-2E1C0382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5148-6E8A-4A84-B69A-46C4080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25DC-BB1E-43D2-A84F-4195C920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87F6-90A5-4407-A9F3-9E634C06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8441-1FB1-474F-AEB9-9DC135AC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C5FE-1E62-4D21-A631-30EE6F40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627C-6AA5-4B58-B37B-5B788FE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3B98-A6E0-454B-9490-FC433B7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CC339-92B9-42A6-9573-B2E31ED4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E0F7-B056-419D-9BC3-810CE5D8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891-EEBB-45CE-9EFB-B845BD8D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352E-AE0A-41C9-860F-6BF18A38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3356-66C2-439D-B1E2-E7702A17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7D1A7-06A3-4628-8B42-198221D1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6AE9-4B2B-4229-8656-1858779E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5E81-922A-4C3E-9BC9-B01D0E25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B44CC-B2C8-475F-8EE8-5B735B99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0ADF7-D7AE-40EB-BA77-F4F0E35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DC5F2-31AE-4462-B34E-E59FD09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A82BA-E847-4E4B-AF7A-17B230E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1C31-E93B-4446-8AF3-FC5C4CEF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1A3-56C1-49C3-8689-0963B84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F3970-C8D8-46D5-BB4B-520372A7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8C1A-D5D5-40A1-A7CB-503A2F5D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2DF89-25F5-4726-AD3E-254D3A23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9C4CA-07A1-4F40-9D52-D1797E9D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B2FA-DB80-4120-AB8E-9663A6F9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7BAE3-33B7-4C9F-9603-7E72AB05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70EFE-723A-4E4F-9D8A-2CCF898D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649A2-466E-4CC5-8069-3498B5DB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1A40-4EF8-48A8-BB5C-2A07D2A2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F0871-5B2B-4847-82C6-E5B98378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FA3-C7F8-48F1-B9CB-A573D3CC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8890F-A27E-4589-9F2D-B2CA864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ADEC3-E241-4CC8-A43B-17B383F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6593B-5982-4BB7-B91A-11D76EE9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59BBE-7758-4FAA-8344-C654669A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014B-C74B-4712-9ED3-5366666D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351-EE5B-4816-B2FC-6A812A96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7D3E-D8BE-4305-AFF1-56FBCE59E8BC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E59E-B16A-468F-9A6C-C2E51B017D04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0A6F-2042-47D3-B29B-B01DF4682ECA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F8A7-164E-462D-A6E5-DC6B1A2C2E13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E0B1-61E6-4556-B2E7-4A65C02E0281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D293-A90F-4467-99A5-674E64AC4A40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BDB3-6D6A-4337-BC0B-A8BA908F2D9A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yell.com/images/classifications/detectives.jpg&amp;imgrefurl=http://www.yell.com/find/DoFind/cl/Detective-Agencies&amp;h=290&amp;w=400&amp;sz=70&amp;hl=es&amp;start=284&amp;tbnid=7YNEZzTOYlP-eM:&amp;tbnh=90&amp;tbnw=124&amp;prev=/images%3Fq%3Ddetective%26start%3D270%26gbv%3D2%26ndsp%3D18%26hl%3Des%26sa%3DN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.mx/imgres?imgurl=http://esferadecomunicacion.files.wordpress.com/2008/04/internet.jpg&amp;imgrefurl=http://machincuepa.com/?m=20080627&amp;jal_no_js=true&amp;poll_id=14&amp;h=300&amp;w=300&amp;sz=44&amp;hl=es&amp;start=42&amp;tbnid=6pc66IP5rVD_1M:&amp;tbnh=116&amp;tbnw=116&amp;prev=/images?q=internet&amp;start=36&amp;gbv=2&amp;ndsp=18&amp;hl=es&amp;sa=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.mx/imgres?imgurl=http://blog.pucp.edu.pe/media/1118/20080220-cantidad-calidad-blogs-estrategias.jpg&amp;imgrefurl=http://blog.pucp.edu.pe/archive/894/2008-2-20&amp;h=300&amp;w=300&amp;sz=17&amp;hl=es&amp;start=2&amp;tbnid=9SRjk4vqUV1NAM:&amp;tbnh=116&amp;tbnw=116&amp;prev=/images?q=estrategias&amp;gbv=2&amp;hl=es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.mx/imgres?imgurl=http://bp2.blogger.com/_TTRnp9XK6c4/R_lb9he1vWI/AAAAAAAABi4/H_LN2O4qN6A/s400/EstrategiasEnse&#241;anzaAprendizaje.JPG&amp;imgrefurl=http://novedades-servicios-recursoeducativo.blogspot.com/2008/04/estrategias-de-enseanza-aprendizaje.html&amp;h=400&amp;w=399&amp;sz=47&amp;hl=es&amp;start=31&amp;tbnid=QauCAHUt2yZsoM:&amp;tbnh=124&amp;tbnw=124&amp;prev=/images?q=estrategias&amp;start=18&amp;gbv=2&amp;ndsp=18&amp;hl=es&amp;sa=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.mx/imgres?imgurl=http://www.iesalhadra.org/alhadra/centrotic/videoproyector.jpeg&amp;imgrefurl=http://www.iesalhadra.org/alhadra/centrotic/centrotic.htm&amp;h=481&amp;w=503&amp;sz=31&amp;hl=es&amp;start=10&amp;tbnid=bBrBm9ncPMxJkM:&amp;tbnh=124&amp;tbnw=130&amp;prev=/images?q=videoproyector&amp;gbv=2&amp;hl=es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learnthenet.com/spanish/gifs/content.gif&amp;imgrefurl=http://www.learnthenet.com/spanish/html/43idcont.htm&amp;h=279&amp;w=293&amp;sz=22&amp;hl=es&amp;start=205&amp;tbnid=4GGCD4gyCuDhvM:&amp;tbnh=110&amp;tbnw=115&amp;prev=/images?q=identificar&amp;start=198&amp;gbv=2&amp;ndsp=18&amp;hl=es&amp;sa=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.mx/imgres?imgurl=http://www.empresasalmeria.com/imea/010.jpg&amp;imgrefurl=http://www.empresasalmeria.com/modules.php?name=5serviciosmarketing&amp;h=288&amp;w=400&amp;sz=36&amp;hl=es&amp;start=173&amp;tbnid=k_StHknZ7pKYoM:&amp;tbnh=89&amp;tbnw=124&amp;prev=/images?q=sistematizar&amp;start=162&amp;gbv=2&amp;ndsp=18&amp;hl=es&amp;sa=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amilialzheimer.org/media/prensa/imagenes/Comunicacion%20virtual.jpg&amp;imgrefurl=http://anabast.wordpress.com/2008/03/04/las-competencias-basicas-y-las-competencias-en-comunicacion-linguistica/&amp;h=640&amp;w=640&amp;sz=42&amp;hl=es&amp;start=7&amp;tbnid=Cy41ZZQ9B06sOM:&amp;tbnh=137&amp;tbnw=137&amp;prev=/images?q=competencias&amp;gbv=2&amp;hl=es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.mx/imgres?imgurl=http://nuestraclase.blogia.com/upload/20080602202306-compe03.gif&amp;imgrefurl=http://nuestraclase.blogia.com/&amp;h=306&amp;w=362&amp;sz=8&amp;hl=es&amp;start=1&amp;tbnid=eMAL7QhGIP5alM:&amp;tbnh=102&amp;tbnw=121&amp;prev=/images?q=competencias&amp;gbv=2&amp;hl=es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991720" cy="60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0" descr="http://tbn0.google.com/images?q=tbn:7YNEZzTOYlP-eM:http://www.yell.com/images/classifications/detectiv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6840" y="115920"/>
            <a:ext cx="3444840" cy="1590480"/>
          </a:xfrm>
          <a:prstGeom prst="rect">
            <a:avLst/>
          </a:prstGeom>
          <a:ln w="0">
            <a:noFill/>
          </a:ln>
        </p:spPr>
      </p:pic>
      <p:pic>
        <p:nvPicPr>
          <p:cNvPr id="370" name="3 CuadroTexto" descr=""/>
          <p:cNvPicPr/>
          <p:nvPr/>
        </p:nvPicPr>
        <p:blipFill>
          <a:blip r:embed="rId3"/>
          <a:stretch/>
        </p:blipFill>
        <p:spPr>
          <a:xfrm>
            <a:off x="3565440" y="1292400"/>
            <a:ext cx="1871640" cy="426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8" descr="http://tbn0.google.com/images?q=tbn:6pc66IP5rVD_1M:http://esferadecomunicacion.files.wordpress.com/2008/04/interne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http://tbn0.google.com/images?q=tbn:9SRjk4vqUV1NAM:http://blog.pucp.edu.pe/media/1118/20080220-cantidad-calidad-blogs-estrategia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17478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http://tbn0.google.com/images?q=tbn:QauCAHUt2yZsoM:http://bp2.blogger.com/_TTRnp9XK6c4/R_lb9he1vWI/AAAAAAAABi4/H_LN2O4qN6A/s400/EstrategiasEnse%C3%B1anzaAprendizaj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2565360"/>
            <a:ext cx="3921120" cy="3921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http://tbn0.google.com/images?q=tbn:bBrBm9ncPMxJkM:http://www.iesalhadra.org/alhadra/centrotic/videoproyector.jp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3716280"/>
            <a:ext cx="194472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2050920" y="260280"/>
            <a:ext cx="5040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tizar y utilizar in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http://tbn0.google.com/images?q=tbn:4GGCD4gyCuDhvM:http://www.learnthenet.com/spanish/gifs/cont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765000"/>
            <a:ext cx="1790640" cy="171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0" descr="http://bp0.blogger.com/_UaOsJecNW8c/SAdUMcNCQuI/AAAAAAAAAGY/LU6uq0SzWps/s320/Imagen1.png"/>
          <p:cNvPicPr/>
          <p:nvPr/>
        </p:nvPicPr>
        <p:blipFill>
          <a:blip r:embed="rId3"/>
          <a:stretch/>
        </p:blipFill>
        <p:spPr>
          <a:xfrm>
            <a:off x="2556000" y="2133720"/>
            <a:ext cx="5352840" cy="41479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5796000" y="3860640"/>
            <a:ext cx="1871640" cy="1015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284720" y="5373720"/>
            <a:ext cx="1871640" cy="862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2700360" y="3921120"/>
            <a:ext cx="1871640" cy="703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18" descr="http://tbn0.google.com/images?q=tbn:k_StHknZ7pKYoM:http://www.empresasalmeria.com/imea/0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1920" y="4075200"/>
            <a:ext cx="2008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http://tbn0.google.com/images?q=tbn:Cy41ZZQ9B06sOM:http://www.familialzheimer.org/media/prensa/imagenes/Comunicacion%2520virtu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26828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1116000" y="260280"/>
            <a:ext cx="6696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ncias Doc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26920" y="26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6" descr="http://tbn0.google.com/images?q=tbn:eMAL7QhGIP5alM:http://nuestraclase.blogia.com/upload/20080602202306-compe03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284640"/>
            <a:ext cx="345600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6" descr="http://tbn0.google.com/images?q=tbn:0cHwGfLzruZ8zM:http://www.elpais.com/recorte/20071019elpepspag_12/LCO340/Ies/Tierra_llora.jpg"/>
          <p:cNvPicPr/>
          <p:nvPr/>
        </p:nvPicPr>
        <p:blipFill>
          <a:blip r:embed="rId5"/>
          <a:stretch/>
        </p:blipFill>
        <p:spPr>
          <a:xfrm>
            <a:off x="5364000" y="2205000"/>
            <a:ext cx="3542040" cy="3745080"/>
          </a:xfrm>
          <a:prstGeom prst="rect">
            <a:avLst/>
          </a:prstGeom>
          <a:ln w="0">
            <a:noFill/>
          </a:ln>
        </p:spPr>
      </p:pic>
      <p:sp>
        <p:nvSpPr>
          <p:cNvPr id="387" name="Line 11"/>
          <p:cNvSpPr/>
          <p:nvPr/>
        </p:nvSpPr>
        <p:spPr>
          <a:xfrm>
            <a:off x="3924360" y="4508640"/>
            <a:ext cx="115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771640" y="189000"/>
            <a:ext cx="37450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ncul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8" descr="http://tbn0.google.com/images?q=tbn:ftQC3Cqj2YyOJM:http://www.pc-news.com/images/fotos/fotos2006/espmitigacionriego2-fig3.jpg"/>
          <p:cNvPicPr/>
          <p:nvPr/>
        </p:nvPicPr>
        <p:blipFill>
          <a:blip r:embed="rId1"/>
          <a:stretch/>
        </p:blipFill>
        <p:spPr>
          <a:xfrm>
            <a:off x="2124000" y="1125360"/>
            <a:ext cx="5473800" cy="4908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90" name="Oval 5"/>
          <p:cNvSpPr/>
          <p:nvPr/>
        </p:nvSpPr>
        <p:spPr>
          <a:xfrm>
            <a:off x="2266920" y="2349360"/>
            <a:ext cx="936720" cy="309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 rot="16818600">
            <a:off x="2706480" y="2925360"/>
            <a:ext cx="16556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empeñ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Oval 6"/>
          <p:cNvSpPr/>
          <p:nvPr/>
        </p:nvSpPr>
        <p:spPr>
          <a:xfrm rot="645600">
            <a:off x="3708360" y="1341000"/>
            <a:ext cx="2233800" cy="1008000"/>
          </a:xfrm>
          <a:prstGeom prst="ellipse">
            <a:avLst/>
          </a:prstGeom>
          <a:solidFill>
            <a:srgbClr val="23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7"/>
          <p:cNvSpPr txBox="1"/>
          <p:nvPr/>
        </p:nvSpPr>
        <p:spPr>
          <a:xfrm rot="563400">
            <a:off x="3708000" y="1916280"/>
            <a:ext cx="25210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iencias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señanz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6227640" y="2709720"/>
            <a:ext cx="1224000" cy="2232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8"/>
          <p:cNvSpPr txBox="1"/>
          <p:nvPr/>
        </p:nvSpPr>
        <p:spPr>
          <a:xfrm rot="5266200">
            <a:off x="5552640" y="3681360"/>
            <a:ext cx="19461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fo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ografí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6" name="AutoShape 12"/>
          <p:cNvSpPr/>
          <p:nvPr/>
        </p:nvSpPr>
        <p:spPr>
          <a:xfrm rot="11529600">
            <a:off x="2350800" y="3933360"/>
            <a:ext cx="4537080" cy="280692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13"/>
          <p:cNvSpPr txBox="1"/>
          <p:nvPr/>
        </p:nvSpPr>
        <p:spPr>
          <a:xfrm>
            <a:off x="3276720" y="5472000"/>
            <a:ext cx="302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ropósitos del Pl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 Progra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WordArt 14"/>
          <p:cNvSpPr txBox="1"/>
          <p:nvPr/>
        </p:nvSpPr>
        <p:spPr>
          <a:xfrm>
            <a:off x="4286160" y="3141720"/>
            <a:ext cx="143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50:29Z</dcterms:created>
  <dc:creator>Oem</dc:creator>
  <dc:description/>
  <dc:language>en-US</dc:language>
  <cp:lastModifiedBy>Oem</cp:lastModifiedBy>
  <dcterms:modified xsi:type="dcterms:W3CDTF">2008-08-04T05:05:58Z</dcterms:modified>
  <cp:revision>18</cp:revision>
  <dc:subject/>
  <dc:title>Diapositiva 1</dc:title>
</cp:coreProperties>
</file>