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E6C-A096-400E-8F05-748E65FD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716-E51C-4CDC-B17A-FD3CE470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507-9FFA-4114-BF10-F031DAC9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A89-0C3E-44CC-8804-49C4BEF6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36F8-1E6D-4485-AB15-E8D78767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ADE2-72F8-4508-A9E0-77D79988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1765-7EE4-494A-B53D-FA924A64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C4F3-E865-4C4B-B7A0-4ECC5111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A045-36A0-44E7-ACF7-26F2CF0F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5C01-2119-4F09-B874-E4291614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4E1D-094E-4F86-8E92-01BD61F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022-890A-45E0-9A78-F050992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7714-A5E5-48C1-A4AE-37C02AF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553E-B571-4A37-ACC1-B1EA66CD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1F12-9EE7-4DF2-A9FF-0F8B40DC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C3F1-BA65-4EE9-8FBD-44BA1771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E309-F550-4F91-9C57-9F485B81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490E-123C-4DB5-84F5-DBCE11B2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0FBA-179B-42C4-93D9-9010EC1E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6287-8A34-4856-9C02-A1CB0E02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D68D-2B53-4969-853D-56F331DA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828D-D3B4-4DA8-9B7C-17BD6DEA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793-5BA4-44E4-B185-DF491C9B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31F1-D125-4EBE-8E4E-3D40F98B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369D-A5CB-41CF-A000-D1C77D9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EBE6-7910-404F-A316-78D914F2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407E-A7C3-4CFF-B23E-0ADC8E3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1773-4D27-4376-BC56-C0F62237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FCAB-DA13-4963-A8E3-1441B6E2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3FC3-5E24-4917-B876-0D5419BF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DA2F-FA20-4274-8FF2-F805EE7E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DBAC-0094-4967-824B-0CFFB23E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2DEC-8E7E-441E-A00E-1FCCBD9C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89A-2ACD-43E5-82DA-9118B1BD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076D-821C-4A53-BFA0-1BF6873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AEDB4-0F15-4607-935E-18CCE0E2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3A97-98EB-4172-908A-8A499434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513F-E26C-4FDE-8162-0ED6B49B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F4C17-0793-4824-A702-0D6C74EA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EFB2-F19D-4891-AFCC-7ED250E8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E4EB-A03B-410B-9921-D1E5A13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ABE5-8B90-430E-A412-4AEFF616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F50D-1C54-46C7-98B6-A407496B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6909-70C0-4104-BE27-5DF0DC06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59E-2CC1-4743-9518-1AD20A17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3C894-E769-496A-B124-85B907A4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58D6-4DD9-4CE4-A96B-C41FCAC7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40954-5288-4F97-AD29-4810A587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EB90-CBFD-4CEE-818A-30BA04FD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E112-ACA3-42F3-B3AF-5155F8B3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65A7A-8EB5-4C0A-929E-5224062C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CF49B-8F8A-4B24-87C6-C6968218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1B44D-E996-4E1C-8ACC-A0D147E8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187ED-BD62-48D1-93DE-496E9D50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B7AA3-BEEF-4BFB-9C27-3EDDA143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83E-93CB-40FE-AAB7-182F3AD0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4A7C1-7753-4563-8DD4-7336E0E1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A127C-978E-48EB-80CA-5E922D4D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C09A6-7F87-4D05-BD1E-AF33E40B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C9483-18A2-44E3-BC37-C3717F43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62BA-D5EA-44B4-AE62-BEB6A5FA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5BEE6-EA32-4C48-A847-372BC65B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9278B-705B-4CF5-B67F-2304B158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354AF-6BC0-4A9D-8C9E-7C4D44D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BDB11-9CB7-4847-AAD9-0ADEA0D2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7F20F-4E2C-4D38-AE85-E3D484A4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C76-DA8C-41C8-877E-CC082444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5E8E6-A508-41CB-9511-F22F9101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05E8-A760-4714-828B-1D3E9863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48489-C8AB-42D9-B660-889CFEF2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6BAF6-2CDC-4334-ABD8-E67EE01D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703FD-AC67-47E2-A8D6-C529B5D7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4081F-9146-4C6A-8E7D-5107432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F8D78-9921-4AB9-8C44-71105B38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BA64C-300E-4225-8CE5-868DF5B9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65798-E6B8-4EB7-9A1B-045378FC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0CF9D-05CB-4B1E-ACCE-CEB41580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A4D-B094-4B6B-9373-08490388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35BC-7962-42B6-9493-5C8BD68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715D-C7A9-4B31-8492-8F9AD366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8182E-175D-419C-AD07-102B1358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8376A-11F7-4811-AB02-6CC43342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A9401-27DB-4178-9926-6D2EB2FD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66C-0FF8-4411-847D-70816E14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D01E-C0D3-4F96-8AD3-13604422C0A7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CAF8-F3B3-437C-A616-A188C4A8C06B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591B-7339-4058-8B38-F6C9E290EB4D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7188-DBB3-4FF7-9E05-6AB4ADC8BD68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2E4E-865D-4481-B263-B9D54A54668C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724C-AFAB-48DD-8F6B-7C0E36959EA3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BBA5-C9BE-4EFA-B47D-C01640ABC645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yell.com/images/classifications/detectives.jpg&amp;imgrefurl=http://www.yell.com/find/DoFind/cl/Detective-Agencies&amp;h=290&amp;w=400&amp;sz=70&amp;hl=es&amp;start=284&amp;tbnid=7YNEZzTOYlP-eM:&amp;tbnh=90&amp;tbnw=124&amp;prev=/images%3Fq%3Ddetective%26start%3D270%26gbv%3D2%26ndsp%3D18%26hl%3Des%26sa%3DN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images.google.com.mx/imgres?imgurl=http://esferadecomunicacion.files.wordpress.com/2008/04/internet.jpg&amp;imgrefurl=http://machincuepa.com/?m=20080627&amp;jal_no_js=true&amp;poll_id=14&amp;h=300&amp;w=300&amp;sz=44&amp;hl=es&amp;start=42&amp;tbnid=6pc66IP5rVD_1M:&amp;tbnh=116&amp;tbnw=116&amp;prev=/images?q=internet&amp;start=36&amp;gbv=2&amp;ndsp=18&amp;hl=es&amp;sa=N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.mx/imgres?imgurl=http://blog.pucp.edu.pe/media/1118/20080220-cantidad-calidad-blogs-estrategias.jpg&amp;imgrefurl=http://blog.pucp.edu.pe/archive/894/2008-2-20&amp;h=300&amp;w=300&amp;sz=17&amp;hl=es&amp;start=2&amp;tbnid=9SRjk4vqUV1NAM:&amp;tbnh=116&amp;tbnw=116&amp;prev=/images?q=estrategias&amp;gbv=2&amp;hl=es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.mx/imgres?imgurl=http://bp2.blogger.com/_TTRnp9XK6c4/R_lb9he1vWI/AAAAAAAABi4/H_LN2O4qN6A/s400/EstrategiasEnse&#241;anzaAprendizaje.JPG&amp;imgrefurl=http://novedades-servicios-recursoeducativo.blogspot.com/2008/04/estrategias-de-enseanza-aprendizaje.html&amp;h=400&amp;w=399&amp;sz=47&amp;hl=es&amp;start=31&amp;tbnid=QauCAHUt2yZsoM:&amp;tbnh=124&amp;tbnw=124&amp;prev=/images?q=estrategias&amp;start=18&amp;gbv=2&amp;ndsp=18&amp;hl=es&amp;sa=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.mx/imgres?imgurl=http://www.iesalhadra.org/alhadra/centrotic/videoproyector.jpeg&amp;imgrefurl=http://www.iesalhadra.org/alhadra/centrotic/centrotic.htm&amp;h=481&amp;w=503&amp;sz=31&amp;hl=es&amp;start=10&amp;tbnid=bBrBm9ncPMxJkM:&amp;tbnh=124&amp;tbnw=130&amp;prev=/images?q=videoproyector&amp;gbv=2&amp;hl=es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learnthenet.com/spanish/gifs/content.gif&amp;imgrefurl=http://www.learnthenet.com/spanish/html/43idcont.htm&amp;h=279&amp;w=293&amp;sz=22&amp;hl=es&amp;start=205&amp;tbnid=4GGCD4gyCuDhvM:&amp;tbnh=110&amp;tbnw=115&amp;prev=/images?q=identificar&amp;start=198&amp;gbv=2&amp;ndsp=18&amp;hl=es&amp;sa=N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.mx/imgres?imgurl=http://www.empresasalmeria.com/imea/010.jpg&amp;imgrefurl=http://www.empresasalmeria.com/modules.php?name=5serviciosmarketing&amp;h=288&amp;w=400&amp;sz=36&amp;hl=es&amp;start=173&amp;tbnid=k_StHknZ7pKYoM:&amp;tbnh=89&amp;tbnw=124&amp;prev=/images?q=sistematizar&amp;start=162&amp;gbv=2&amp;ndsp=18&amp;hl=es&amp;sa=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amilialzheimer.org/media/prensa/imagenes/Comunicacion%20virtual.jpg&amp;imgrefurl=http://anabast.wordpress.com/2008/03/04/las-competencias-basicas-y-las-competencias-en-comunicacion-linguistica/&amp;h=640&amp;w=640&amp;sz=42&amp;hl=es&amp;start=7&amp;tbnid=Cy41ZZQ9B06sOM:&amp;tbnh=137&amp;tbnw=137&amp;prev=/images?q=competencias&amp;gbv=2&amp;hl=es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.mx/imgres?imgurl=http://nuestraclase.blogia.com/upload/20080602202306-compe03.gif&amp;imgrefurl=http://nuestraclase.blogia.com/&amp;h=306&amp;w=362&amp;sz=8&amp;hl=es&amp;start=1&amp;tbnid=eMAL7QhGIP5alM:&amp;tbnh=102&amp;tbnw=121&amp;prev=/images?q=competencias&amp;gbv=2&amp;hl=es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82560" y="743040"/>
            <a:ext cx="8991720" cy="60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0" descr="http://tbn0.google.com/images?q=tbn:7YNEZzTOYlP-eM:http://www.yell.com/images/classifications/detectiv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6840" y="115920"/>
            <a:ext cx="3444840" cy="1590480"/>
          </a:xfrm>
          <a:prstGeom prst="rect">
            <a:avLst/>
          </a:prstGeom>
          <a:ln w="0">
            <a:noFill/>
          </a:ln>
        </p:spPr>
      </p:pic>
      <p:pic>
        <p:nvPicPr>
          <p:cNvPr id="370" name="3 CuadroTexto" descr=""/>
          <p:cNvPicPr/>
          <p:nvPr/>
        </p:nvPicPr>
        <p:blipFill>
          <a:blip r:embed="rId3"/>
          <a:stretch/>
        </p:blipFill>
        <p:spPr>
          <a:xfrm>
            <a:off x="3565440" y="1292400"/>
            <a:ext cx="1871640" cy="426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8" descr="http://tbn0.google.com/images?q=tbn:6pc66IP5rVD_1M:http://esferadecomunicacion.files.wordpress.com/2008/04/interne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37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http://tbn0.google.com/images?q=tbn:9SRjk4vqUV1NAM:http://blog.pucp.edu.pe/media/1118/20080220-cantidad-calidad-blogs-estrategia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17478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http://tbn0.google.com/images?q=tbn:QauCAHUt2yZsoM:http://bp2.blogger.com/_TTRnp9XK6c4/R_lb9he1vWI/AAAAAAAABi4/H_LN2O4qN6A/s400/EstrategiasEnse%C3%B1anzaAprendizaj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03640" y="2565360"/>
            <a:ext cx="3921120" cy="3921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2" descr="http://tbn0.google.com/images?q=tbn:bBrBm9ncPMxJkM:http://www.iesalhadra.org/alhadra/centrotic/videoproyector.jpe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95640" y="3716280"/>
            <a:ext cx="194472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2050920" y="260280"/>
            <a:ext cx="504036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tizar y utilizar in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http://tbn0.google.com/images?q=tbn:4GGCD4gyCuDhvM:http://www.learnthenet.com/spanish/gifs/conten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765000"/>
            <a:ext cx="1790640" cy="1713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0" descr="http://bp0.blogger.com/_UaOsJecNW8c/SAdUMcNCQuI/AAAAAAAAAGY/LU6uq0SzWps/s320/Imagen1.png"/>
          <p:cNvPicPr/>
          <p:nvPr/>
        </p:nvPicPr>
        <p:blipFill>
          <a:blip r:embed="rId3"/>
          <a:stretch/>
        </p:blipFill>
        <p:spPr>
          <a:xfrm>
            <a:off x="2556000" y="2133720"/>
            <a:ext cx="5352840" cy="41479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5796000" y="3860640"/>
            <a:ext cx="1871640" cy="1015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284720" y="5373720"/>
            <a:ext cx="1871640" cy="862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2700360" y="3921120"/>
            <a:ext cx="1871640" cy="703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18" descr="http://tbn0.google.com/images?q=tbn:k_StHknZ7pKYoM:http://www.empresasalmeria.com/imea/0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1920" y="4075200"/>
            <a:ext cx="200808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http://tbn0.google.com/images?q=tbn:Cy41ZZQ9B06sOM:http://www.familialzheimer.org/media/prensa/imagenes/Comunicacion%2520virtu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268280"/>
            <a:ext cx="1305000" cy="1305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1116000" y="260280"/>
            <a:ext cx="6696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encias Doc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26920" y="26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6" descr="http://tbn0.google.com/images?q=tbn:eMAL7QhGIP5alM:http://nuestraclase.blogia.com/upload/20080602202306-compe03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284640"/>
            <a:ext cx="3456000" cy="291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6" descr="http://tbn0.google.com/images?q=tbn:0cHwGfLzruZ8zM:http://www.elpais.com/recorte/20071019elpepspag_12/LCO340/Ies/Tierra_llora.jpg"/>
          <p:cNvPicPr/>
          <p:nvPr/>
        </p:nvPicPr>
        <p:blipFill>
          <a:blip r:embed="rId5"/>
          <a:stretch/>
        </p:blipFill>
        <p:spPr>
          <a:xfrm>
            <a:off x="5364000" y="2205000"/>
            <a:ext cx="3542040" cy="3745080"/>
          </a:xfrm>
          <a:prstGeom prst="rect">
            <a:avLst/>
          </a:prstGeom>
          <a:ln w="0">
            <a:noFill/>
          </a:ln>
        </p:spPr>
      </p:pic>
      <p:sp>
        <p:nvSpPr>
          <p:cNvPr id="387" name="Line 11"/>
          <p:cNvSpPr/>
          <p:nvPr/>
        </p:nvSpPr>
        <p:spPr>
          <a:xfrm>
            <a:off x="3924360" y="4508640"/>
            <a:ext cx="115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771640" y="189000"/>
            <a:ext cx="37450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ncul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18" descr="http://tbn0.google.com/images?q=tbn:ftQC3Cqj2YyOJM:http://www.pc-news.com/images/fotos/fotos2006/espmitigacionriego2-fig3.jpg"/>
          <p:cNvPicPr/>
          <p:nvPr/>
        </p:nvPicPr>
        <p:blipFill>
          <a:blip r:embed="rId1"/>
          <a:stretch/>
        </p:blipFill>
        <p:spPr>
          <a:xfrm>
            <a:off x="2124000" y="1125360"/>
            <a:ext cx="5473800" cy="4908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90" name="Oval 5"/>
          <p:cNvSpPr/>
          <p:nvPr/>
        </p:nvSpPr>
        <p:spPr>
          <a:xfrm>
            <a:off x="2266920" y="2349360"/>
            <a:ext cx="936720" cy="309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 rot="16818600">
            <a:off x="2706480" y="2925360"/>
            <a:ext cx="165564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empeñ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Oval 6"/>
          <p:cNvSpPr/>
          <p:nvPr/>
        </p:nvSpPr>
        <p:spPr>
          <a:xfrm rot="645600">
            <a:off x="3708360" y="1341000"/>
            <a:ext cx="2233800" cy="1008000"/>
          </a:xfrm>
          <a:prstGeom prst="ellipse">
            <a:avLst/>
          </a:prstGeom>
          <a:solidFill>
            <a:srgbClr val="23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WordArt 7"/>
          <p:cNvSpPr txBox="1"/>
          <p:nvPr/>
        </p:nvSpPr>
        <p:spPr>
          <a:xfrm rot="563400">
            <a:off x="3708000" y="1916280"/>
            <a:ext cx="25210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iencias 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señanz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6227640" y="2709720"/>
            <a:ext cx="1224000" cy="2232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WordArt 8"/>
          <p:cNvSpPr txBox="1"/>
          <p:nvPr/>
        </p:nvSpPr>
        <p:spPr>
          <a:xfrm rot="5266200">
            <a:off x="5552640" y="3681360"/>
            <a:ext cx="19461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fo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ografí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6" name="AutoShape 12"/>
          <p:cNvSpPr/>
          <p:nvPr/>
        </p:nvSpPr>
        <p:spPr>
          <a:xfrm rot="11529600">
            <a:off x="2350800" y="3933360"/>
            <a:ext cx="4537080" cy="280692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13"/>
          <p:cNvSpPr txBox="1"/>
          <p:nvPr/>
        </p:nvSpPr>
        <p:spPr>
          <a:xfrm>
            <a:off x="3276720" y="5472000"/>
            <a:ext cx="302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ropósitos del Pl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 Progra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WordArt 14"/>
          <p:cNvSpPr txBox="1"/>
          <p:nvPr/>
        </p:nvSpPr>
        <p:spPr>
          <a:xfrm>
            <a:off x="4286160" y="3141720"/>
            <a:ext cx="143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1:50:29Z</dcterms:created>
  <dc:creator>Oem</dc:creator>
  <dc:description/>
  <dc:language>en-US</dc:language>
  <cp:lastModifiedBy>Oem</cp:lastModifiedBy>
  <dcterms:modified xsi:type="dcterms:W3CDTF">2008-08-04T05:05:58Z</dcterms:modified>
  <cp:revision>18</cp:revision>
  <dc:subject/>
  <dc:title>Diapositiva 1</dc:title>
</cp:coreProperties>
</file>