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4CC-A7B1-48B8-A49D-8210EB87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582-760B-4026-87FF-FE167811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485-0087-4B22-8EEF-E0E0595E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F67-49E8-4819-AE98-459AF644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E9C9-0DAD-4DA3-B2BC-D55CB736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ADB7-7FD3-4C3E-8E10-85CCE4B0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312C-7844-4C91-98BC-25058ECC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3528-BB19-440B-B2EB-C69F722E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0CDA-18C9-4364-91EF-B44A5658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E72F-C18C-404A-89F2-EFAE8091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8BFD-8A24-405A-96B6-74F903A6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47B-F8CD-4165-8D7A-C4C32A34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2C2B-9DCD-4577-A36C-5C341B0E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88FC-DF7D-4830-B443-92D06EEC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200-BB06-465D-8F8C-48707AF8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2A3-BE52-4E09-BC70-7BB9A80A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F428-E388-4D71-9D97-BBF71513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4481-744E-45DC-9F46-BAA1E6B7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9EA5-58FA-4684-8B95-489BDE2A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A15C-DEE5-4A0B-81E8-F675DD03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07F2-AE8A-440E-A828-36584251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9EA9-37F6-44B4-84E1-896C3A48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A33-9391-4AAE-96B6-8A5ED03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9054-5068-4AB5-96B1-1ADC3BC4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3340-F7CB-460C-9BF8-E7BE8757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80AE-D4F4-4661-B933-7340213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06E0-E0A0-403D-BC7F-CBE42353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D9EA-12F4-4B31-8D77-2B35C192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0D1F-3BD6-408E-933C-0DBFC5DB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E0194-B0C9-4CB8-B564-8DCFF354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CD5D-68E1-49F3-8737-277DA19A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5594-9DB2-4A01-9852-989A0D04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59025-1F61-4DE8-8AE9-709D7C8C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520-4FBE-44AF-8610-4327CA31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974FB-1C03-443C-B42B-CDF3F311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4AB8-399E-44CF-B6FE-18BCFB33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91BD5-4D5E-4CCB-8B99-9354A5FF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CB98-6F37-4516-B960-F0D5A67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BCF8-D9D0-4760-9D0F-6D62B28F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ACCB-0629-4AE2-81DA-BEAB397A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43A75-76E7-461B-82E7-9681A99A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E8BF3-A10C-4027-A0A1-B67FA54A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9F38-2860-4773-9EE1-09502E0B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90B31-F987-47A1-AE53-C00FFF22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47F-2FD2-4A1B-9DE9-7C21BC19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288F-46FF-457E-9FC6-BE7A7ED5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9E495-7062-47F6-AF82-1AFFA3E9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EF27-A3DF-4EF9-81E1-2CB22AB2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47B58-7977-4ADA-8DAC-EA7E0B5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5CDB-DF70-43BE-BA88-90E196A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73B00-EE77-4C7C-AAF3-28AA4E96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76FB0-D631-47B4-8333-DF0F95A4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B6B72-D52F-4F64-A118-22891AA2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09B2-BD9D-4B9E-8E24-2CD2FDF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B40B0-6B00-4BF4-A355-D21D9BD2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9C5-EA9B-4362-98F2-3AB061DA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C907B-976E-4738-87F7-BDBAF456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06D29-99F5-42F4-90C3-3AA663D2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D54B3-369A-4E27-A15D-DCC38BC4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8B477-7DE7-4DFE-AD38-A3B8F3A7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9C669-4BE5-4146-A5FE-DFF58E26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41D7B-A94C-48F2-87CC-E360F819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7407-4921-4702-8A7B-B2E72E41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6140F-0A99-428F-A2D6-B88A64C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D7004-ABFA-4CC5-97D6-8DAB61B5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6AF64-3276-4A5E-AFA3-DA6A5A1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D46-90AA-43DB-985F-FF1494F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518C-EF83-4FDA-A84C-0876B9C9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2007D-7B77-4E5E-977B-31AB14A4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DED2D-1CFE-4BD3-A8F7-782C0BDB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664D9-E220-4FE0-8948-675F39ED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2C74F-6FEA-482F-BBB0-E9D5C503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2668A-3701-435E-9D4E-2C65733D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5DB70-8315-4CE7-AB11-110DAD3E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D4298-FEFD-4FCA-BC2F-52CC8709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85B75-33F9-4E19-B2BA-D345D0C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B5B30-4192-4F64-9836-9D99575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AE6-FAA5-452A-82EE-2BFC4BD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77D73-C780-4996-8082-6D1775B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F2BAB-B9BF-4491-B2AC-5B2D8DF2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B158-3D42-4777-8B22-8BBDEE18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25DB0-3DBF-44C5-965B-1880004D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23702-986C-442D-ABE0-092E548D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156B-4D17-4FFB-A266-40FCA3AC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596E9-A8FF-4287-B7BB-81EB1087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E02FF-3D2E-4B51-9F1C-80E9D9F3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7E360-1637-4B3A-BAD4-88565E42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DE888-12DD-49E4-8D8F-90803B79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12D-68B8-4BB1-8BEE-7A1D84EC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05B8C-519E-439A-BDD4-359E0CB4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73023-0AB4-4088-8A3A-B450E04D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ED902-984A-450C-85BB-ABC7252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9BE5-240E-411B-A838-ED52EDE0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FD5B3-CD3A-42D3-B21A-1433237D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41277-902D-4FA9-8AE3-FC96D912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06218-9FF0-4D32-A4D4-A09C6562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1CA9-F648-45DB-B9BC-094FAFEC46F8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49D-7891-4947-AE69-CFF8F4E0ABEA}" type="slidenum">
              <a:rPr b="0" lang="es-MX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C54-262C-42FD-AC10-DE8AD2901387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95C-86FC-4464-BA04-1BC602CF4EB2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BC0F-F0D3-4B96-94EA-243253E80269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CB07-799A-4733-A812-F903872E630E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8B2-16B7-4D5F-8287-D1459AB6ACF3}" type="slidenum"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FDAF-24AC-4348-9B25-69FB9384759F}" type="slidenum"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1 CuadroTexto"/>
          <p:cNvGrpSpPr/>
          <p:nvPr/>
        </p:nvGrpSpPr>
        <p:grpSpPr>
          <a:xfrm>
            <a:off x="2127240" y="433440"/>
            <a:ext cx="5353200" cy="627120"/>
            <a:chOff x="2127240" y="433440"/>
            <a:chExt cx="5353200" cy="627120"/>
          </a:xfrm>
        </p:grpSpPr>
        <p:pic>
          <p:nvPicPr>
            <p:cNvPr id="346" name="1 CuadroTexto" descr=""/>
            <p:cNvPicPr/>
            <p:nvPr/>
          </p:nvPicPr>
          <p:blipFill>
            <a:blip r:embed="rId1"/>
            <a:stretch/>
          </p:blipFill>
          <p:spPr>
            <a:xfrm>
              <a:off x="2127240" y="433440"/>
              <a:ext cx="5353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214720" y="57168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entury Gothic"/>
                </a:rPr>
                <a:t>PROGRAMA DE TUTORÍ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48" name="3 Conector recto"/>
          <p:cNvSpPr/>
          <p:nvPr/>
        </p:nvSpPr>
        <p:spPr>
          <a:xfrm flipH="1">
            <a:off x="3000240" y="2013120"/>
            <a:ext cx="1857600" cy="6886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9" name="4 CuadroTexto"/>
          <p:cNvGrpSpPr/>
          <p:nvPr/>
        </p:nvGrpSpPr>
        <p:grpSpPr>
          <a:xfrm>
            <a:off x="1054080" y="2682720"/>
            <a:ext cx="2994120" cy="779760"/>
            <a:chOff x="1054080" y="2682720"/>
            <a:chExt cx="2994120" cy="779760"/>
          </a:xfrm>
        </p:grpSpPr>
        <p:pic>
          <p:nvPicPr>
            <p:cNvPr id="350" name="4 CuadroTexto" descr=""/>
            <p:cNvPicPr/>
            <p:nvPr/>
          </p:nvPicPr>
          <p:blipFill>
            <a:blip r:embed="rId2"/>
            <a:stretch/>
          </p:blipFill>
          <p:spPr>
            <a:xfrm>
              <a:off x="1054080" y="2682720"/>
              <a:ext cx="299412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43000" y="2786040"/>
              <a:ext cx="2857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Detectamos a los alumnos  con irregularidades en las materias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2" name="6 Conector recto"/>
          <p:cNvSpPr/>
          <p:nvPr/>
        </p:nvSpPr>
        <p:spPr>
          <a:xfrm>
            <a:off x="4822200" y="1033560"/>
            <a:ext cx="34920" cy="609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3" name="9 CuadroTexto"/>
          <p:cNvGrpSpPr/>
          <p:nvPr/>
        </p:nvGrpSpPr>
        <p:grpSpPr>
          <a:xfrm>
            <a:off x="3273480" y="1517760"/>
            <a:ext cx="3133800" cy="523800"/>
            <a:chOff x="3273480" y="1517760"/>
            <a:chExt cx="3133800" cy="523800"/>
          </a:xfrm>
        </p:grpSpPr>
        <p:pic>
          <p:nvPicPr>
            <p:cNvPr id="354" name="9 CuadroTexto" descr=""/>
            <p:cNvPicPr/>
            <p:nvPr/>
          </p:nvPicPr>
          <p:blipFill>
            <a:blip r:embed="rId3"/>
            <a:stretch/>
          </p:blipFill>
          <p:spPr>
            <a:xfrm>
              <a:off x="3273480" y="1517760"/>
              <a:ext cx="3133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357720" y="1643040"/>
              <a:ext cx="30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entury Gothic"/>
                </a:rPr>
                <a:t>Reuniones académicas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6" name="2 Subtítulo"/>
          <p:cNvSpPr/>
          <p:nvPr/>
        </p:nvSpPr>
        <p:spPr>
          <a:xfrm>
            <a:off x="3643200" y="12859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Que consisten  en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2 Subtítulo"/>
          <p:cNvSpPr/>
          <p:nvPr/>
        </p:nvSpPr>
        <p:spPr>
          <a:xfrm>
            <a:off x="2500200" y="235728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n las qu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15 Conector recto"/>
          <p:cNvSpPr/>
          <p:nvPr/>
        </p:nvSpPr>
        <p:spPr>
          <a:xfrm>
            <a:off x="4857120" y="2013120"/>
            <a:ext cx="1785960" cy="7016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9" name="18 CuadroTexto"/>
          <p:cNvGrpSpPr/>
          <p:nvPr/>
        </p:nvGrpSpPr>
        <p:grpSpPr>
          <a:xfrm>
            <a:off x="5126040" y="2610000"/>
            <a:ext cx="2994120" cy="779400"/>
            <a:chOff x="5126040" y="2610000"/>
            <a:chExt cx="2994120" cy="779400"/>
          </a:xfrm>
        </p:grpSpPr>
        <p:pic>
          <p:nvPicPr>
            <p:cNvPr id="360" name="18 CuadroTexto" descr=""/>
            <p:cNvPicPr/>
            <p:nvPr/>
          </p:nvPicPr>
          <p:blipFill>
            <a:blip r:embed="rId4"/>
            <a:stretch/>
          </p:blipFill>
          <p:spPr>
            <a:xfrm>
              <a:off x="5126040" y="2610000"/>
              <a:ext cx="2994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214960" y="2714760"/>
              <a:ext cx="2857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Nos organizamos por áreas y los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Invitamos a participar en su regularización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62" name="24 Conector recto"/>
          <p:cNvSpPr/>
          <p:nvPr/>
        </p:nvSpPr>
        <p:spPr>
          <a:xfrm flipH="1">
            <a:off x="2569680" y="343368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25 Conector recto"/>
          <p:cNvSpPr/>
          <p:nvPr/>
        </p:nvSpPr>
        <p:spPr>
          <a:xfrm flipH="1">
            <a:off x="6928920" y="335772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26 Conector recto"/>
          <p:cNvSpPr/>
          <p:nvPr/>
        </p:nvSpPr>
        <p:spPr>
          <a:xfrm flipV="1">
            <a:off x="2571840" y="4000680"/>
            <a:ext cx="4357440" cy="712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2 Subtítulo"/>
          <p:cNvSpPr/>
          <p:nvPr/>
        </p:nvSpPr>
        <p:spPr>
          <a:xfrm>
            <a:off x="4000680" y="37861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sta se lleva a cabo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30 Conector recto"/>
          <p:cNvSpPr/>
          <p:nvPr/>
        </p:nvSpPr>
        <p:spPr>
          <a:xfrm flipH="1">
            <a:off x="4857840" y="4000680"/>
            <a:ext cx="1440" cy="285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67" name="34 CuadroTexto"/>
          <p:cNvGrpSpPr/>
          <p:nvPr/>
        </p:nvGrpSpPr>
        <p:grpSpPr>
          <a:xfrm>
            <a:off x="3413160" y="4181400"/>
            <a:ext cx="2994120" cy="598680"/>
            <a:chOff x="3413160" y="4181400"/>
            <a:chExt cx="2994120" cy="598680"/>
          </a:xfrm>
        </p:grpSpPr>
        <p:pic>
          <p:nvPicPr>
            <p:cNvPr id="368" name="34 CuadroTexto" descr=""/>
            <p:cNvPicPr/>
            <p:nvPr/>
          </p:nvPicPr>
          <p:blipFill>
            <a:blip r:embed="rId5"/>
            <a:stretch/>
          </p:blipFill>
          <p:spPr>
            <a:xfrm>
              <a:off x="3413160" y="4181400"/>
              <a:ext cx="2994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500280" y="428616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n el trayecto del semestre en actividades ex traclase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70" name="35 Conector recto"/>
          <p:cNvSpPr/>
          <p:nvPr/>
        </p:nvSpPr>
        <p:spPr>
          <a:xfrm flipH="1">
            <a:off x="4785840" y="4786200"/>
            <a:ext cx="1800" cy="2858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2 Subtítulo"/>
          <p:cNvSpPr/>
          <p:nvPr/>
        </p:nvSpPr>
        <p:spPr>
          <a:xfrm>
            <a:off x="3786120" y="485784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resultados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72" name="37 CuadroTexto"/>
          <p:cNvGrpSpPr/>
          <p:nvPr/>
        </p:nvGrpSpPr>
        <p:grpSpPr>
          <a:xfrm>
            <a:off x="3413160" y="5041800"/>
            <a:ext cx="2994120" cy="590760"/>
            <a:chOff x="3413160" y="5041800"/>
            <a:chExt cx="2994120" cy="590760"/>
          </a:xfrm>
        </p:grpSpPr>
        <p:pic>
          <p:nvPicPr>
            <p:cNvPr id="373" name="37 CuadroTexto" descr=""/>
            <p:cNvPicPr/>
            <p:nvPr/>
          </p:nvPicPr>
          <p:blipFill>
            <a:blip r:embed="rId6"/>
            <a:stretch/>
          </p:blipFill>
          <p:spPr>
            <a:xfrm>
              <a:off x="3413160" y="5041800"/>
              <a:ext cx="2994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00280" y="514368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vitamos tener un alto índice de reprobación estudiantil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9:21:35Z</dcterms:created>
  <dc:creator>PC</dc:creator>
  <dc:description/>
  <dc:language>en-US</dc:language>
  <cp:lastModifiedBy>PC</cp:lastModifiedBy>
  <dcterms:modified xsi:type="dcterms:W3CDTF">2008-07-22T19:33:54Z</dcterms:modified>
  <cp:revision>2</cp:revision>
  <dc:subject/>
  <dc:title>Diapositiva 1</dc:title>
</cp:coreProperties>
</file>