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D9F-3FC8-45B5-804A-620CD0FA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995-1F02-49E0-9D6D-ABBBBE6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686-4649-4B3B-A988-D9ACFA4C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9D8-39B7-447A-80FA-5DE77FE8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9382-219C-43A1-9D9A-31A18FCF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BB0E-F7C4-452A-AE45-E07DECD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BFAD-466A-4852-A925-3729441F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C6E1-16C7-4EE2-86C9-0A24276E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C643-9A82-4C75-9418-FA48E61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4A4-519D-4E18-8773-7AC8E1D8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B04-EC34-453D-9DCB-891E19F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1CA-580B-4BF3-96F7-6C2999CF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9D08-5E80-47EC-B327-FF23F08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88F5-C91B-4BF9-AEDE-D4E27F72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EB44-1C6E-4B00-95E6-00DA84A1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9784-370B-487A-B9CC-1A0AA582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3D7-F1A1-4A71-B7E0-CE250DA0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5B02-7DF3-455C-8D30-4EA30F10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EC36-ADD3-45BD-8574-CD65110A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01F9-80EA-41BF-A22A-25AA2A41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244D-0324-4C8E-BBD3-48961498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A238-7640-4DD6-924D-BC057E1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CF5-95FF-48F2-AC0A-86DE3DFA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9354-AADF-49A6-A07F-E3F7EF4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17D5-7272-413C-842F-E4F4E751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6AAE-5559-4C01-8A49-C98CA41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1D7B-5447-4610-8B92-99BC8C3B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03D5-13A5-4B89-BCC5-F2BC7BE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DB29-0B35-41A7-917F-BC05B9BD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BBAC-6AE8-4412-8C8F-F9CD3477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7413-E8B0-4F56-95A1-DCAFDA51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EE19-E7DD-4190-A912-76E656E1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C05B-2C33-4C20-A22B-8A1C269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2EB-1B5F-4293-BA76-8F78ADD6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F403-4571-4DBA-8B1B-58FBA838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D5C7-136C-4DB0-8D33-0FE0D7B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975F-74F1-47D3-9EF6-81C1FEF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7CA6-1C28-4361-8D85-90E448E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C29D-8B12-41D8-804A-10942A4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2CB0-E211-49D1-BD8F-FC0EC3D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559C-CA28-4A32-B750-25B9DA2A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4AFA-0977-4545-8DB2-452A2EFF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A8C2-A155-409A-9066-5C720A76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C34A-D165-419A-B8D1-13AEE29C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9E0-EEF8-4275-943A-9DD9AF9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97D3-E390-471B-9529-F562A95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C2FB7-7550-46B1-A603-85D265FF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00B9C-52C6-42A5-A65C-A2E0F01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1B34-BA25-493C-A26B-1E4CC242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F999-AB56-458F-BA69-2B5A3F9E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461C-C278-465A-B833-E5046A9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7B2EF-79AD-4614-B54E-E3025E3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594A-FDAD-4B6B-848D-7BC72D3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4981-1DC9-4165-B3E6-6816B4A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83289-F637-4390-B7E8-50389926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F14-3AD5-45D1-AA0A-388CCF9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4037-B1E9-4BD5-A20A-B467075B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95C7A-D378-45C3-8ED5-3FCB47F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773A8-1489-442D-A029-B569E24E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364D-FE4C-4677-ABF3-3AEEF77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0D30F-F5DE-4B3E-8496-F199FB2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E489-9A20-4911-A96D-A1C8E8A1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D0B3-FEFA-4BF0-80B5-596B168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2898-44E2-4857-A0BE-E50A648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4E74-9AC0-478D-A92D-A1849AB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3811-28AE-494C-A2F4-D9474CA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00F-231B-4910-A956-51E77EF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DABF3-8A31-4560-95A8-52C2052C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8156-A128-4E3B-96A1-BB171BDE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B87A7-FB32-47A7-A168-876A003D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69057-702B-430B-8BC9-C0C14DB6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EFF4-FAB9-44C2-B905-70F2F26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64240-01AA-446C-A8D7-B40E574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E859-B75D-411D-AFCC-C80E4CE0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444A-B220-4FF4-92A2-B39FA6E1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980B-2640-4B17-9718-88C59D04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5398-BAE0-45B8-B1B6-66A2F10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8EB-0F34-4D37-B863-BC9AFA8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C52C-99E9-4117-8106-93F6694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9E85-7633-48CC-AC03-702CFBB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0A44-DA4E-4CBC-B036-67F6575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699E-E694-4780-BBFA-07989BB7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015F-0BBA-401E-AE0C-C88B50DE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DE7BE-C996-4152-8053-0EA301D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9B890-BC93-46DC-BCCA-31B6636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43401-A2B8-4388-9261-14FFE99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B1E27-F5D8-4CB2-AD4E-98C23A7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AD58-B365-4D3B-8805-3598917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F35-3C63-4EDC-8AFF-53C1A6B9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30F2-C9FE-4EE7-9F30-FD33795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729A-C1E9-4DD2-A132-651157C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FF64F-99EB-4A91-A8C3-408B544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45C5-420A-4CD8-AE39-847063A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630E-13C4-48CE-ABF9-7378382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07566-8FBA-41D2-8D46-52E66FC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2AE5-6AB8-49F0-AC34-B07108E1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DFFD-7C2B-4E89-BA9D-F332ABA1E271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C699-5450-4BED-8ED1-293C1040C0F9}" type="slidenum">
              <a:rPr b="0" lang="es-MX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908A-18D2-442C-871D-F265C8284E74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0B2-42CC-4F52-85AA-2BBDE776FA2B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943A-EE3B-48FE-AE5F-98EB30E7D863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EA8C-FFF9-4CF9-BA66-1CACE3B10F93}" type="slidenum">
              <a:rPr b="0" lang="es-MX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A48D-F762-4123-9AD2-6109623DFC00}" type="slidenum">
              <a:rPr b="0" lang="es-MX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29E-9496-471C-9782-621308F64BF5}" type="slidenum">
              <a:rPr b="0" lang="es-MX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1 CuadroTexto"/>
          <p:cNvGrpSpPr/>
          <p:nvPr/>
        </p:nvGrpSpPr>
        <p:grpSpPr>
          <a:xfrm>
            <a:off x="2127240" y="433440"/>
            <a:ext cx="5353200" cy="627120"/>
            <a:chOff x="2127240" y="433440"/>
            <a:chExt cx="5353200" cy="627120"/>
          </a:xfrm>
        </p:grpSpPr>
        <p:pic>
          <p:nvPicPr>
            <p:cNvPr id="346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27240" y="433440"/>
              <a:ext cx="5353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214720" y="57168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Century Gothic"/>
                </a:rPr>
                <a:t>PROGRAMA DE TUTORÍ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48" name="3 Conector recto"/>
          <p:cNvSpPr/>
          <p:nvPr/>
        </p:nvSpPr>
        <p:spPr>
          <a:xfrm flipH="1">
            <a:off x="3000240" y="2013120"/>
            <a:ext cx="1857600" cy="6886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9" name="4 CuadroTexto"/>
          <p:cNvGrpSpPr/>
          <p:nvPr/>
        </p:nvGrpSpPr>
        <p:grpSpPr>
          <a:xfrm>
            <a:off x="1054080" y="2682720"/>
            <a:ext cx="2994120" cy="779760"/>
            <a:chOff x="1054080" y="2682720"/>
            <a:chExt cx="2994120" cy="779760"/>
          </a:xfrm>
        </p:grpSpPr>
        <p:pic>
          <p:nvPicPr>
            <p:cNvPr id="350" name="4 CuadroTexto" descr=""/>
            <p:cNvPicPr/>
            <p:nvPr/>
          </p:nvPicPr>
          <p:blipFill>
            <a:blip r:embed="rId2"/>
            <a:stretch/>
          </p:blipFill>
          <p:spPr>
            <a:xfrm>
              <a:off x="1054080" y="2682720"/>
              <a:ext cx="2994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2786040"/>
              <a:ext cx="2857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Detectamos a los alumnos  con irregularidades en las materias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2" name="6 Conector recto"/>
          <p:cNvSpPr/>
          <p:nvPr/>
        </p:nvSpPr>
        <p:spPr>
          <a:xfrm>
            <a:off x="4822200" y="1033560"/>
            <a:ext cx="34920" cy="609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3" name="9 CuadroTexto"/>
          <p:cNvGrpSpPr/>
          <p:nvPr/>
        </p:nvGrpSpPr>
        <p:grpSpPr>
          <a:xfrm>
            <a:off x="3273480" y="1517760"/>
            <a:ext cx="3133800" cy="523800"/>
            <a:chOff x="3273480" y="1517760"/>
            <a:chExt cx="3133800" cy="523800"/>
          </a:xfrm>
        </p:grpSpPr>
        <p:pic>
          <p:nvPicPr>
            <p:cNvPr id="354" name="9 CuadroTexto" descr=""/>
            <p:cNvPicPr/>
            <p:nvPr/>
          </p:nvPicPr>
          <p:blipFill>
            <a:blip r:embed="rId3"/>
            <a:stretch/>
          </p:blipFill>
          <p:spPr>
            <a:xfrm>
              <a:off x="3273480" y="1517760"/>
              <a:ext cx="313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57720" y="1643040"/>
              <a:ext cx="30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Century Gothic"/>
                </a:rPr>
                <a:t>Reuniones académicas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56" name="2 Subtítulo"/>
          <p:cNvSpPr/>
          <p:nvPr/>
        </p:nvSpPr>
        <p:spPr>
          <a:xfrm>
            <a:off x="3643200" y="12859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Que consisten  en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2 Subtítulo"/>
          <p:cNvSpPr/>
          <p:nvPr/>
        </p:nvSpPr>
        <p:spPr>
          <a:xfrm>
            <a:off x="2500200" y="235728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n las qu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15 Conector recto"/>
          <p:cNvSpPr/>
          <p:nvPr/>
        </p:nvSpPr>
        <p:spPr>
          <a:xfrm>
            <a:off x="4857120" y="2013120"/>
            <a:ext cx="1785960" cy="70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9" name="18 CuadroTexto"/>
          <p:cNvGrpSpPr/>
          <p:nvPr/>
        </p:nvGrpSpPr>
        <p:grpSpPr>
          <a:xfrm>
            <a:off x="5126040" y="2610000"/>
            <a:ext cx="2994120" cy="779400"/>
            <a:chOff x="5126040" y="2610000"/>
            <a:chExt cx="2994120" cy="779400"/>
          </a:xfrm>
        </p:grpSpPr>
        <p:pic>
          <p:nvPicPr>
            <p:cNvPr id="360" name="18 CuadroTexto" descr=""/>
            <p:cNvPicPr/>
            <p:nvPr/>
          </p:nvPicPr>
          <p:blipFill>
            <a:blip r:embed="rId4"/>
            <a:stretch/>
          </p:blipFill>
          <p:spPr>
            <a:xfrm>
              <a:off x="5126040" y="2610000"/>
              <a:ext cx="2994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214960" y="2714760"/>
              <a:ext cx="285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Nos organizamos por áreas y los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Invitamos a participar en su regularización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62" name="24 Conector recto"/>
          <p:cNvSpPr/>
          <p:nvPr/>
        </p:nvSpPr>
        <p:spPr>
          <a:xfrm flipH="1">
            <a:off x="2569680" y="343368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25 Conector recto"/>
          <p:cNvSpPr/>
          <p:nvPr/>
        </p:nvSpPr>
        <p:spPr>
          <a:xfrm flipH="1">
            <a:off x="6928920" y="3357720"/>
            <a:ext cx="1800" cy="6397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26 Conector recto"/>
          <p:cNvSpPr/>
          <p:nvPr/>
        </p:nvSpPr>
        <p:spPr>
          <a:xfrm flipV="1">
            <a:off x="2571840" y="4000680"/>
            <a:ext cx="4357440" cy="712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2 Subtítulo"/>
          <p:cNvSpPr/>
          <p:nvPr/>
        </p:nvSpPr>
        <p:spPr>
          <a:xfrm>
            <a:off x="4000680" y="378612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esta se lleva a cabo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30 Conector recto"/>
          <p:cNvSpPr/>
          <p:nvPr/>
        </p:nvSpPr>
        <p:spPr>
          <a:xfrm flipH="1">
            <a:off x="4857840" y="4000680"/>
            <a:ext cx="1440" cy="28548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67" name="34 CuadroTexto"/>
          <p:cNvGrpSpPr/>
          <p:nvPr/>
        </p:nvGrpSpPr>
        <p:grpSpPr>
          <a:xfrm>
            <a:off x="3413160" y="4181400"/>
            <a:ext cx="2994120" cy="598680"/>
            <a:chOff x="3413160" y="4181400"/>
            <a:chExt cx="2994120" cy="598680"/>
          </a:xfrm>
        </p:grpSpPr>
        <p:pic>
          <p:nvPicPr>
            <p:cNvPr id="368" name="34 CuadroTexto" descr=""/>
            <p:cNvPicPr/>
            <p:nvPr/>
          </p:nvPicPr>
          <p:blipFill>
            <a:blip r:embed="rId5"/>
            <a:stretch/>
          </p:blipFill>
          <p:spPr>
            <a:xfrm>
              <a:off x="3413160" y="4181400"/>
              <a:ext cx="2994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500280" y="428616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n el trayecto del semestre en actividades ex traclase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0" name="35 Conector recto"/>
          <p:cNvSpPr/>
          <p:nvPr/>
        </p:nvSpPr>
        <p:spPr>
          <a:xfrm flipH="1">
            <a:off x="4785840" y="4786200"/>
            <a:ext cx="1800" cy="2858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2 Subtítulo"/>
          <p:cNvSpPr/>
          <p:nvPr/>
        </p:nvSpPr>
        <p:spPr>
          <a:xfrm>
            <a:off x="3786120" y="4857840"/>
            <a:ext cx="2328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72" name="37 CuadroTexto"/>
          <p:cNvGrpSpPr/>
          <p:nvPr/>
        </p:nvGrpSpPr>
        <p:grpSpPr>
          <a:xfrm>
            <a:off x="3413160" y="5041800"/>
            <a:ext cx="2994120" cy="590760"/>
            <a:chOff x="3413160" y="5041800"/>
            <a:chExt cx="2994120" cy="590760"/>
          </a:xfrm>
        </p:grpSpPr>
        <p:pic>
          <p:nvPicPr>
            <p:cNvPr id="373" name="37 CuadroTexto" descr=""/>
            <p:cNvPicPr/>
            <p:nvPr/>
          </p:nvPicPr>
          <p:blipFill>
            <a:blip r:embed="rId6"/>
            <a:stretch/>
          </p:blipFill>
          <p:spPr>
            <a:xfrm>
              <a:off x="3413160" y="5041800"/>
              <a:ext cx="2994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00280" y="5143680"/>
              <a:ext cx="28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Century Gothic"/>
                </a:rPr>
                <a:t>Evitamos tener un alto índice de reprobación estudiantil.</a:t>
              </a: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21:35Z</dcterms:created>
  <dc:creator>PC</dc:creator>
  <dc:description/>
  <dc:language>en-US</dc:language>
  <cp:lastModifiedBy>PC</cp:lastModifiedBy>
  <dcterms:modified xsi:type="dcterms:W3CDTF">2008-07-22T19:33:54Z</dcterms:modified>
  <cp:revision>2</cp:revision>
  <dc:subject/>
  <dc:title>Diapositiva 1</dc:title>
</cp:coreProperties>
</file>