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C31-7B6C-4184-BBE4-CE3D1F65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2D2-A79B-4A2B-8687-17DB859D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DFA-F1E0-4F03-A86F-80B653F0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78E-BC48-4214-9DE5-474E8B64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7E51-E2E3-4540-BD58-4968FAC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EE73-1180-4E28-8FB1-B7032885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0F15-C5C3-43C1-BCC3-7769A20E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3D3C-F3A3-4DAD-8284-2530F9E6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2A68-FC03-4B24-8495-FF38F9B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573F-1295-42A3-B3D2-D8DBF3E0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2A40-2D95-4D1C-B2C7-0E9E42BC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24A-A155-4E97-A394-6D71AC88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46F9-C462-4488-BCE7-F8B0B17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97B5-72AC-482F-8BA5-170BC88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5497-329A-4CE1-927A-BCD93161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707A-A0CC-4760-9977-73F597EA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DC4-9783-4AEE-B9D1-9F1114F1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B746-F00D-42CA-82AC-B0F54412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5B6F-0730-4D12-8890-5DD3147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62DE-307B-42BC-A521-A3B3354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E017-8C5E-4E4F-AB2A-D7DE58EF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D525-8FE2-4F5E-A08F-29923B03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802-99AA-45C9-AE63-60099D76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3FEF-8D7A-4FF2-B19B-8CB45F3C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EAD9-E138-4065-B410-6B12A63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DB21-26F6-4C48-96FB-FA7ED2D2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8D8B-E171-464D-AB15-AF59ADD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9440-3297-45E9-98E9-117D067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F6AC-D681-4A00-84E2-19B01340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8F06-D62E-483E-9361-E953F5BA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9236-E74D-479F-8905-EC4E3AF3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FA310-7D27-483F-9077-7FDCCDEB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4956-82E5-4AE7-B971-7843B449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6D4-C2CF-4210-8B98-2981CCF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88AE3-D981-43AC-BC33-774617D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6384-6A28-4E1D-B0DA-D1B0B87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A580-1B22-4C14-AA3A-58008E2B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B3A9-F408-426C-8C21-8CFEEE0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F760-6D16-4724-A28B-2B2815F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326B-DEF1-47A2-9341-F3E331D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3E91-ACE0-4584-BC97-47F2CE85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7E85-6BC5-407B-B5C0-582C86C5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1A4A-F369-4D97-A945-8401DA5B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93A40-86AF-444E-A5BF-BE2140CC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98F-7DA0-4586-BE05-07854224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97F5-4FF5-4A54-B850-ED55A589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81C0-C58C-4199-BC8B-3138E0D5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9A916-9972-4AD8-BC5B-0191E50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C073-7B97-442B-95F5-2FF1E637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576E-10BA-492D-82A1-2F9DF08D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37CF-87C3-4C0D-969A-C600D2C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C3274-2993-40FE-AD36-A7DCA2A1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9D46-650C-4501-A805-06BBAA8F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ADC9-B372-4BC7-BF7C-F72EACE3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2ADD-6B3A-4BF8-A88B-5B69B84F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778-743C-42CA-868A-EC5D0CF3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EAC6-C79B-4758-9B97-E24F8FCF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9E158-BCBF-4B4B-B743-710E4B02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DA16-C2ED-4E19-BB96-A1FA191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541A-9FDC-4A73-B8D5-1B8E1F9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D3C2-9505-4AA0-BA91-6C43044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2BAD-CAB5-4617-9CA6-2F6353E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76CC9-E2C5-4CE8-B378-A1F17BFC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D744-7BE7-4BE0-AC4C-079A9CD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13286-6FF1-434F-B7F3-6A88BEF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27E58-5DC5-450D-A657-6466670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44A-B293-44AC-9D13-887D1CD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209D4-2BE3-4679-BE77-24DE2F46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06FCF-5803-48D0-8AD7-F0BB7884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347FA-C2BE-42FF-A042-6628120D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47B8-5686-4A5F-825A-D548AE42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5BA1-230F-449C-A947-E14E3D51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54E84-A927-4AAE-87A6-A9D2946C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EA904-E31D-4201-AE07-646146D6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EE6FC-40A3-45BE-BF95-8FC54D7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4CA25-7551-46DB-BB29-6D5278D8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129B8-33C8-4684-A355-80E657E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DAE-897D-4A6D-9A6D-A6B3041A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6326-E641-4828-A1AF-5110135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CF0AB-5905-42EA-B8E5-C16EAC8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C906-CEFB-473A-B039-6189E6B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C60E8-4078-4DC4-A9FA-4136184E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33FF-ABC1-466F-8402-0FB262CF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8D0F-95F3-4C40-B643-92E85421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9C8CC-6E27-4A41-AA5F-20D5F87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F0A15-45AC-4C37-895D-78BD0F8F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C412E-AD87-4278-9FD4-73E8F0F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63D4D-C547-445B-AEC4-C554E2AB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1D1-F957-416B-B2AD-8297E91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C9889-7C81-43B9-B2EC-F7C1CEF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678F-EAE1-469D-B596-57E1426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D23E3-F2CB-413A-9496-FA60E32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B12A2-20EF-4977-9359-E8F165A6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DEC77-3EA8-40CE-BDD5-061CCEF5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4FA4E-88DC-433E-A50B-5181AF80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E54A-6329-49E6-8EAE-00825A8F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B78A-531A-4460-86B8-9AFE89FC8360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6B29-7DE3-464B-AC9E-3F924096E3AF}" type="slidenum">
              <a:rPr b="0" lang="es-MX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522-BDEA-4A0B-8331-8941B32F5EDA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D658-48FE-4613-9511-EBC4F7F2FF04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878A-7D0A-4FFF-8C47-B68753F8A3B5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4C4C-5901-42C7-A539-BAAA23D16DFC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986D-C1BA-4DCE-A172-7D99F4717359}" type="slidenum"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9237-9398-4F7C-A04A-0E5E0597A4C6}" type="slidenum"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1 CuadroTexto"/>
          <p:cNvGrpSpPr/>
          <p:nvPr/>
        </p:nvGrpSpPr>
        <p:grpSpPr>
          <a:xfrm>
            <a:off x="2127240" y="433440"/>
            <a:ext cx="5353200" cy="627120"/>
            <a:chOff x="2127240" y="433440"/>
            <a:chExt cx="5353200" cy="627120"/>
          </a:xfrm>
        </p:grpSpPr>
        <p:pic>
          <p:nvPicPr>
            <p:cNvPr id="346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27240" y="433440"/>
              <a:ext cx="5353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214720" y="57168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entury Gothic"/>
                </a:rPr>
                <a:t>PROGRAMA DE TUTORÍ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48" name="3 Conector recto"/>
          <p:cNvSpPr/>
          <p:nvPr/>
        </p:nvSpPr>
        <p:spPr>
          <a:xfrm flipH="1">
            <a:off x="3000240" y="2013120"/>
            <a:ext cx="1857600" cy="6886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9" name="4 CuadroTexto"/>
          <p:cNvGrpSpPr/>
          <p:nvPr/>
        </p:nvGrpSpPr>
        <p:grpSpPr>
          <a:xfrm>
            <a:off x="1054080" y="2682720"/>
            <a:ext cx="2994120" cy="779760"/>
            <a:chOff x="1054080" y="2682720"/>
            <a:chExt cx="2994120" cy="779760"/>
          </a:xfrm>
        </p:grpSpPr>
        <p:pic>
          <p:nvPicPr>
            <p:cNvPr id="350" name="4 CuadroTexto" descr=""/>
            <p:cNvPicPr/>
            <p:nvPr/>
          </p:nvPicPr>
          <p:blipFill>
            <a:blip r:embed="rId2"/>
            <a:stretch/>
          </p:blipFill>
          <p:spPr>
            <a:xfrm>
              <a:off x="1054080" y="2682720"/>
              <a:ext cx="2994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43000" y="2786040"/>
              <a:ext cx="2857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Detectamos a los alumnos  con irregularidades en las materias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2" name="6 Conector recto"/>
          <p:cNvSpPr/>
          <p:nvPr/>
        </p:nvSpPr>
        <p:spPr>
          <a:xfrm>
            <a:off x="4822200" y="1033560"/>
            <a:ext cx="34920" cy="609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3" name="9 CuadroTexto"/>
          <p:cNvGrpSpPr/>
          <p:nvPr/>
        </p:nvGrpSpPr>
        <p:grpSpPr>
          <a:xfrm>
            <a:off x="3273480" y="1517760"/>
            <a:ext cx="3133800" cy="523800"/>
            <a:chOff x="3273480" y="1517760"/>
            <a:chExt cx="3133800" cy="523800"/>
          </a:xfrm>
        </p:grpSpPr>
        <p:pic>
          <p:nvPicPr>
            <p:cNvPr id="354" name="9 CuadroTexto" descr=""/>
            <p:cNvPicPr/>
            <p:nvPr/>
          </p:nvPicPr>
          <p:blipFill>
            <a:blip r:embed="rId3"/>
            <a:stretch/>
          </p:blipFill>
          <p:spPr>
            <a:xfrm>
              <a:off x="3273480" y="1517760"/>
              <a:ext cx="3133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357720" y="1643040"/>
              <a:ext cx="30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entury Gothic"/>
                </a:rPr>
                <a:t>Reuniones académicas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6" name="2 Subtítulo"/>
          <p:cNvSpPr/>
          <p:nvPr/>
        </p:nvSpPr>
        <p:spPr>
          <a:xfrm>
            <a:off x="3643200" y="12859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Que consisten  en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2 Subtítulo"/>
          <p:cNvSpPr/>
          <p:nvPr/>
        </p:nvSpPr>
        <p:spPr>
          <a:xfrm>
            <a:off x="2500200" y="235728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n las qu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15 Conector recto"/>
          <p:cNvSpPr/>
          <p:nvPr/>
        </p:nvSpPr>
        <p:spPr>
          <a:xfrm>
            <a:off x="4857120" y="2013120"/>
            <a:ext cx="1785960" cy="70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9" name="18 CuadroTexto"/>
          <p:cNvGrpSpPr/>
          <p:nvPr/>
        </p:nvGrpSpPr>
        <p:grpSpPr>
          <a:xfrm>
            <a:off x="5126040" y="2610000"/>
            <a:ext cx="2994120" cy="779400"/>
            <a:chOff x="5126040" y="2610000"/>
            <a:chExt cx="2994120" cy="779400"/>
          </a:xfrm>
        </p:grpSpPr>
        <p:pic>
          <p:nvPicPr>
            <p:cNvPr id="360" name="18 CuadroTexto" descr=""/>
            <p:cNvPicPr/>
            <p:nvPr/>
          </p:nvPicPr>
          <p:blipFill>
            <a:blip r:embed="rId4"/>
            <a:stretch/>
          </p:blipFill>
          <p:spPr>
            <a:xfrm>
              <a:off x="5126040" y="2610000"/>
              <a:ext cx="2994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214960" y="2714760"/>
              <a:ext cx="285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Nos organizamos por áreas y los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Invitamos a participar en su regularización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2" name="24 Conector recto"/>
          <p:cNvSpPr/>
          <p:nvPr/>
        </p:nvSpPr>
        <p:spPr>
          <a:xfrm flipH="1">
            <a:off x="2569680" y="343368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25 Conector recto"/>
          <p:cNvSpPr/>
          <p:nvPr/>
        </p:nvSpPr>
        <p:spPr>
          <a:xfrm flipH="1">
            <a:off x="6928920" y="335772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26 Conector recto"/>
          <p:cNvSpPr/>
          <p:nvPr/>
        </p:nvSpPr>
        <p:spPr>
          <a:xfrm flipV="1">
            <a:off x="2571840" y="4000680"/>
            <a:ext cx="4357440" cy="712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2 Subtítulo"/>
          <p:cNvSpPr/>
          <p:nvPr/>
        </p:nvSpPr>
        <p:spPr>
          <a:xfrm>
            <a:off x="4000680" y="37861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sta se lleva a cabo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30 Conector recto"/>
          <p:cNvSpPr/>
          <p:nvPr/>
        </p:nvSpPr>
        <p:spPr>
          <a:xfrm flipH="1">
            <a:off x="4857840" y="4000680"/>
            <a:ext cx="1440" cy="285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7" name="34 CuadroTexto"/>
          <p:cNvGrpSpPr/>
          <p:nvPr/>
        </p:nvGrpSpPr>
        <p:grpSpPr>
          <a:xfrm>
            <a:off x="3413160" y="4181400"/>
            <a:ext cx="2994120" cy="598680"/>
            <a:chOff x="3413160" y="4181400"/>
            <a:chExt cx="2994120" cy="598680"/>
          </a:xfrm>
        </p:grpSpPr>
        <p:pic>
          <p:nvPicPr>
            <p:cNvPr id="368" name="34 CuadroTexto" descr=""/>
            <p:cNvPicPr/>
            <p:nvPr/>
          </p:nvPicPr>
          <p:blipFill>
            <a:blip r:embed="rId5"/>
            <a:stretch/>
          </p:blipFill>
          <p:spPr>
            <a:xfrm>
              <a:off x="3413160" y="4181400"/>
              <a:ext cx="2994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500280" y="428616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n el trayecto del semestre en actividades ex traclase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0" name="35 Conector recto"/>
          <p:cNvSpPr/>
          <p:nvPr/>
        </p:nvSpPr>
        <p:spPr>
          <a:xfrm flipH="1">
            <a:off x="4785840" y="4786200"/>
            <a:ext cx="1800" cy="2858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2 Subtítulo"/>
          <p:cNvSpPr/>
          <p:nvPr/>
        </p:nvSpPr>
        <p:spPr>
          <a:xfrm>
            <a:off x="3786120" y="485784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72" name="37 CuadroTexto"/>
          <p:cNvGrpSpPr/>
          <p:nvPr/>
        </p:nvGrpSpPr>
        <p:grpSpPr>
          <a:xfrm>
            <a:off x="3413160" y="5041800"/>
            <a:ext cx="2994120" cy="590760"/>
            <a:chOff x="3413160" y="5041800"/>
            <a:chExt cx="2994120" cy="590760"/>
          </a:xfrm>
        </p:grpSpPr>
        <p:pic>
          <p:nvPicPr>
            <p:cNvPr id="373" name="37 CuadroTexto" descr=""/>
            <p:cNvPicPr/>
            <p:nvPr/>
          </p:nvPicPr>
          <p:blipFill>
            <a:blip r:embed="rId6"/>
            <a:stretch/>
          </p:blipFill>
          <p:spPr>
            <a:xfrm>
              <a:off x="3413160" y="5041800"/>
              <a:ext cx="2994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00280" y="514368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vitamos tener un alto índice de reprobación estudiantil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21:35Z</dcterms:created>
  <dc:creator>PC</dc:creator>
  <dc:description/>
  <dc:language>en-US</dc:language>
  <cp:lastModifiedBy>PC</cp:lastModifiedBy>
  <dcterms:modified xsi:type="dcterms:W3CDTF">2008-07-22T19:33:54Z</dcterms:modified>
  <cp:revision>2</cp:revision>
  <dc:subject/>
  <dc:title>Diapositiva 1</dc:title>
</cp:coreProperties>
</file>